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Times New Roman"/>
            </a:endParaRPr>
          </a:p>
        </p:txBody>
      </p:sp>
      <p:sp>
        <p:nvSpPr>
          <p:cNvPr id="174" name="PlaceHolder 1"/>
          <p:cNvSpPr>
            <a:spLocks noGrp="1"/>
          </p:cNvSpPr>
          <p:nvPr>
            <p:ph type="hdr"/>
          </p:nvPr>
        </p:nvSpPr>
        <p:spPr>
          <a:xfrm>
            <a:off x="-360" y="0"/>
            <a:ext cx="304164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75" name="PlaceHolder 2"/>
          <p:cNvSpPr>
            <a:spLocks noGrp="1"/>
          </p:cNvSpPr>
          <p:nvPr>
            <p:ph type="dt" idx="2"/>
          </p:nvPr>
        </p:nvSpPr>
        <p:spPr>
          <a:xfrm>
            <a:off x="3976200" y="0"/>
            <a:ext cx="304164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184040" y="698040"/>
            <a:ext cx="4653000" cy="348948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move the slide</a:t>
            </a:r>
            <a:endParaRPr b="1" lang="en-US" sz="3600" spc="-1" strike="noStrike">
              <a:solidFill>
                <a:srgbClr val="ffff00"/>
              </a:solidFill>
              <a:latin typeface="Arial"/>
            </a:endParaRPr>
          </a:p>
        </p:txBody>
      </p:sp>
      <p:sp>
        <p:nvSpPr>
          <p:cNvPr id="177" name="PlaceHolder 4"/>
          <p:cNvSpPr>
            <a:spLocks noGrp="1"/>
          </p:cNvSpPr>
          <p:nvPr>
            <p:ph type="body"/>
          </p:nvPr>
        </p:nvSpPr>
        <p:spPr>
          <a:xfrm>
            <a:off x="701640" y="4420800"/>
            <a:ext cx="5616720" cy="4186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8" name="PlaceHolder 5"/>
          <p:cNvSpPr>
            <a:spLocks noGrp="1"/>
          </p:cNvSpPr>
          <p:nvPr>
            <p:ph type="ftr" idx="3"/>
          </p:nvPr>
        </p:nvSpPr>
        <p:spPr>
          <a:xfrm>
            <a:off x="-360" y="8839080"/>
            <a:ext cx="304164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4"/>
          </p:nvPr>
        </p:nvSpPr>
        <p:spPr>
          <a:xfrm>
            <a:off x="3976200" y="8839080"/>
            <a:ext cx="304164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B82C43-833F-47CC-96CC-ECFE777880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25E3483-4AE6-4AD6-9337-4C9DE7F6443B}"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71" name="PlaceHolder 1"/>
          <p:cNvSpPr>
            <a:spLocks noGrp="1"/>
          </p:cNvSpPr>
          <p:nvPr>
            <p:ph type="sldImg"/>
          </p:nvPr>
        </p:nvSpPr>
        <p:spPr>
          <a:xfrm>
            <a:off x="1185840" y="700200"/>
            <a:ext cx="4648320" cy="3485880"/>
          </a:xfrm>
          <a:prstGeom prst="rect">
            <a:avLst/>
          </a:prstGeom>
          <a:ln w="0">
            <a:noFill/>
          </a:ln>
        </p:spPr>
      </p:sp>
      <p:sp>
        <p:nvSpPr>
          <p:cNvPr id="872"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5CC517B-21B5-4F84-B6CD-FF208F7ECDB6}"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74" name="PlaceHolder 1"/>
          <p:cNvSpPr>
            <a:spLocks noGrp="1"/>
          </p:cNvSpPr>
          <p:nvPr>
            <p:ph type="sldImg"/>
          </p:nvPr>
        </p:nvSpPr>
        <p:spPr>
          <a:xfrm>
            <a:off x="1185840" y="700200"/>
            <a:ext cx="4648320" cy="3485880"/>
          </a:xfrm>
          <a:prstGeom prst="rect">
            <a:avLst/>
          </a:prstGeom>
          <a:ln w="0">
            <a:noFill/>
          </a:ln>
        </p:spPr>
      </p:sp>
      <p:sp>
        <p:nvSpPr>
          <p:cNvPr id="87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36C0807-51BD-4364-9F2F-7D159CD21F9E}"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77" name="PlaceHolder 1"/>
          <p:cNvSpPr>
            <a:spLocks noGrp="1"/>
          </p:cNvSpPr>
          <p:nvPr>
            <p:ph type="sldImg"/>
          </p:nvPr>
        </p:nvSpPr>
        <p:spPr>
          <a:xfrm>
            <a:off x="1185840" y="700200"/>
            <a:ext cx="4648320" cy="3485880"/>
          </a:xfrm>
          <a:prstGeom prst="rect">
            <a:avLst/>
          </a:prstGeom>
          <a:ln w="0">
            <a:noFill/>
          </a:ln>
        </p:spPr>
      </p:sp>
      <p:sp>
        <p:nvSpPr>
          <p:cNvPr id="878"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EDFDB5B-2F96-4D70-8C62-08912AE6B2CA}"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80" name="PlaceHolder 1"/>
          <p:cNvSpPr>
            <a:spLocks noGrp="1"/>
          </p:cNvSpPr>
          <p:nvPr>
            <p:ph type="sldImg"/>
          </p:nvPr>
        </p:nvSpPr>
        <p:spPr>
          <a:xfrm>
            <a:off x="1185840" y="700200"/>
            <a:ext cx="4648320" cy="3485880"/>
          </a:xfrm>
          <a:prstGeom prst="rect">
            <a:avLst/>
          </a:prstGeom>
          <a:ln w="0">
            <a:noFill/>
          </a:ln>
        </p:spPr>
      </p:sp>
      <p:sp>
        <p:nvSpPr>
          <p:cNvPr id="88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E6673A3-0F94-4620-BB7B-C14B9DA3A324}"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83" name="PlaceHolder 1"/>
          <p:cNvSpPr>
            <a:spLocks noGrp="1"/>
          </p:cNvSpPr>
          <p:nvPr>
            <p:ph type="sldImg"/>
          </p:nvPr>
        </p:nvSpPr>
        <p:spPr>
          <a:xfrm>
            <a:off x="1185840" y="700200"/>
            <a:ext cx="4648320" cy="3485880"/>
          </a:xfrm>
          <a:prstGeom prst="rect">
            <a:avLst/>
          </a:prstGeom>
          <a:ln w="0">
            <a:noFill/>
          </a:ln>
        </p:spPr>
      </p:sp>
      <p:sp>
        <p:nvSpPr>
          <p:cNvPr id="884"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6BAB1CF-D04C-47E3-85B4-B2B590809F5D}"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86" name="PlaceHolder 1"/>
          <p:cNvSpPr>
            <a:spLocks noGrp="1"/>
          </p:cNvSpPr>
          <p:nvPr>
            <p:ph type="sldImg"/>
          </p:nvPr>
        </p:nvSpPr>
        <p:spPr>
          <a:xfrm>
            <a:off x="1185840" y="700200"/>
            <a:ext cx="4648320" cy="3485880"/>
          </a:xfrm>
          <a:prstGeom prst="rect">
            <a:avLst/>
          </a:prstGeom>
          <a:ln w="0">
            <a:noFill/>
          </a:ln>
        </p:spPr>
      </p:sp>
      <p:sp>
        <p:nvSpPr>
          <p:cNvPr id="88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3AA8426-B9F6-4DB1-BE2F-6CC5E67EA717}"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89" name="PlaceHolder 1"/>
          <p:cNvSpPr>
            <a:spLocks noGrp="1"/>
          </p:cNvSpPr>
          <p:nvPr>
            <p:ph type="sldImg"/>
          </p:nvPr>
        </p:nvSpPr>
        <p:spPr>
          <a:xfrm>
            <a:off x="1185840" y="700200"/>
            <a:ext cx="4648320" cy="3485880"/>
          </a:xfrm>
          <a:prstGeom prst="rect">
            <a:avLst/>
          </a:prstGeom>
          <a:ln w="0">
            <a:noFill/>
          </a:ln>
        </p:spPr>
      </p:sp>
      <p:sp>
        <p:nvSpPr>
          <p:cNvPr id="890"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6984BC4-7C69-42ED-8B06-B8B52B7294B8}"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92" name="PlaceHolder 1"/>
          <p:cNvSpPr>
            <a:spLocks noGrp="1"/>
          </p:cNvSpPr>
          <p:nvPr>
            <p:ph type="sldImg"/>
          </p:nvPr>
        </p:nvSpPr>
        <p:spPr>
          <a:xfrm>
            <a:off x="1185840" y="700200"/>
            <a:ext cx="4648320" cy="3485880"/>
          </a:xfrm>
          <a:prstGeom prst="rect">
            <a:avLst/>
          </a:prstGeom>
          <a:ln w="0">
            <a:noFill/>
          </a:ln>
        </p:spPr>
      </p:sp>
      <p:sp>
        <p:nvSpPr>
          <p:cNvPr id="893"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D6481B3-7279-4A60-BD85-824DD07BA410}"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95" name="PlaceHolder 1"/>
          <p:cNvSpPr>
            <a:spLocks noGrp="1"/>
          </p:cNvSpPr>
          <p:nvPr>
            <p:ph type="sldImg"/>
          </p:nvPr>
        </p:nvSpPr>
        <p:spPr>
          <a:xfrm>
            <a:off x="1185840" y="700200"/>
            <a:ext cx="4648320" cy="3485880"/>
          </a:xfrm>
          <a:prstGeom prst="rect">
            <a:avLst/>
          </a:prstGeom>
          <a:ln w="0">
            <a:noFill/>
          </a:ln>
        </p:spPr>
      </p:sp>
      <p:sp>
        <p:nvSpPr>
          <p:cNvPr id="896"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4E458B1-94D3-438E-AD9F-D339DA04A443}"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898" name="PlaceHolder 1"/>
          <p:cNvSpPr>
            <a:spLocks noGrp="1"/>
          </p:cNvSpPr>
          <p:nvPr>
            <p:ph type="sldImg"/>
          </p:nvPr>
        </p:nvSpPr>
        <p:spPr>
          <a:xfrm>
            <a:off x="1185840" y="700200"/>
            <a:ext cx="4648320" cy="3485880"/>
          </a:xfrm>
          <a:prstGeom prst="rect">
            <a:avLst/>
          </a:prstGeom>
          <a:ln w="0">
            <a:noFill/>
          </a:ln>
        </p:spPr>
      </p:sp>
      <p:sp>
        <p:nvSpPr>
          <p:cNvPr id="89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BB830DC-C861-4307-BF8F-8235BDB57C6F}"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901" name="PlaceHolder 1"/>
          <p:cNvSpPr>
            <a:spLocks noGrp="1"/>
          </p:cNvSpPr>
          <p:nvPr>
            <p:ph type="sldImg"/>
          </p:nvPr>
        </p:nvSpPr>
        <p:spPr>
          <a:xfrm>
            <a:off x="1185840" y="700200"/>
            <a:ext cx="4648320" cy="3485880"/>
          </a:xfrm>
          <a:prstGeom prst="rect">
            <a:avLst/>
          </a:prstGeom>
          <a:ln w="0">
            <a:noFill/>
          </a:ln>
        </p:spPr>
      </p:sp>
      <p:sp>
        <p:nvSpPr>
          <p:cNvPr id="902"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E78A67F-B514-40A2-901B-8794C58B9ECE}"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904" name="PlaceHolder 1"/>
          <p:cNvSpPr>
            <a:spLocks noGrp="1"/>
          </p:cNvSpPr>
          <p:nvPr>
            <p:ph type="sldImg"/>
          </p:nvPr>
        </p:nvSpPr>
        <p:spPr>
          <a:xfrm>
            <a:off x="1185840" y="700200"/>
            <a:ext cx="4648320" cy="3485880"/>
          </a:xfrm>
          <a:prstGeom prst="rect">
            <a:avLst/>
          </a:prstGeom>
          <a:ln w="0">
            <a:noFill/>
          </a:ln>
        </p:spPr>
      </p:sp>
      <p:sp>
        <p:nvSpPr>
          <p:cNvPr id="90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A56389B-4F94-4F2D-AE61-109D711472CA}"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907" name="PlaceHolder 1"/>
          <p:cNvSpPr>
            <a:spLocks noGrp="1"/>
          </p:cNvSpPr>
          <p:nvPr>
            <p:ph type="sldImg"/>
          </p:nvPr>
        </p:nvSpPr>
        <p:spPr>
          <a:xfrm>
            <a:off x="1185840" y="700200"/>
            <a:ext cx="4648320" cy="3485880"/>
          </a:xfrm>
          <a:prstGeom prst="rect">
            <a:avLst/>
          </a:prstGeom>
          <a:ln w="0">
            <a:noFill/>
          </a:ln>
        </p:spPr>
      </p:sp>
      <p:sp>
        <p:nvSpPr>
          <p:cNvPr id="908"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50C439D-B5EC-43C4-940A-F5000591FF15}"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910" name="PlaceHolder 1"/>
          <p:cNvSpPr>
            <a:spLocks noGrp="1"/>
          </p:cNvSpPr>
          <p:nvPr>
            <p:ph type="sldImg"/>
          </p:nvPr>
        </p:nvSpPr>
        <p:spPr>
          <a:xfrm>
            <a:off x="1185840" y="700200"/>
            <a:ext cx="4648320" cy="3485880"/>
          </a:xfrm>
          <a:prstGeom prst="rect">
            <a:avLst/>
          </a:prstGeom>
          <a:ln w="0">
            <a:noFill/>
          </a:ln>
        </p:spPr>
      </p:sp>
      <p:sp>
        <p:nvSpPr>
          <p:cNvPr id="91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6F41ED8-BCBC-40F4-9067-E6EA97C06C9D}"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913" name="PlaceHolder 1"/>
          <p:cNvSpPr>
            <a:spLocks noGrp="1"/>
          </p:cNvSpPr>
          <p:nvPr>
            <p:ph type="sldImg"/>
          </p:nvPr>
        </p:nvSpPr>
        <p:spPr>
          <a:xfrm>
            <a:off x="1185840" y="700200"/>
            <a:ext cx="4648320" cy="3485880"/>
          </a:xfrm>
          <a:prstGeom prst="rect">
            <a:avLst/>
          </a:prstGeom>
          <a:ln w="0">
            <a:noFill/>
          </a:ln>
        </p:spPr>
      </p:sp>
      <p:sp>
        <p:nvSpPr>
          <p:cNvPr id="914"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87280" y="698400"/>
            <a:ext cx="4648320" cy="3486240"/>
          </a:xfrm>
          <a:prstGeom prst="rect">
            <a:avLst/>
          </a:prstGeom>
          <a:ln w="0">
            <a:noFill/>
          </a:ln>
        </p:spPr>
      </p:sp>
      <p:sp>
        <p:nvSpPr>
          <p:cNvPr id="860" name="PlaceHolder 2"/>
          <p:cNvSpPr>
            <a:spLocks noGrp="1"/>
          </p:cNvSpPr>
          <p:nvPr>
            <p:ph type="body"/>
          </p:nvPr>
        </p:nvSpPr>
        <p:spPr>
          <a:xfrm>
            <a:off x="915480" y="4276800"/>
            <a:ext cx="5480280" cy="4649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4"/>
          <p:cNvSpPr/>
          <p:nvPr/>
        </p:nvSpPr>
        <p:spPr>
          <a:xfrm>
            <a:off x="1170000" y="4272120"/>
            <a:ext cx="4721040" cy="281556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37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Arial"/>
              </a:rPr>
              <a:t>HCUP data are unique and powerful.  They are the largest collection of publicly available, all-payer, census hospital data.  Currently, HCUP data originate from 40 states, which account for about 90 percent of the U.S. population.  These data also include about 90 percent of all discharges from community hospitals in the U.S.  </a:t>
            </a:r>
            <a:endParaRPr b="1" lang="en-US" sz="1000" spc="-1" strike="noStrike">
              <a:solidFill>
                <a:srgbClr val="ffffff"/>
              </a:solidFill>
              <a:latin typeface="Times New Roman"/>
            </a:endParaRPr>
          </a:p>
          <a:p>
            <a:pPr>
              <a:lnSpc>
                <a:spcPct val="100000"/>
              </a:lnSpc>
              <a:spcBef>
                <a:spcPts val="37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Arial"/>
              </a:rPr>
              <a:t>One of the most fundamental things to understand about HCUP – one of the things that distinguishes it from most other data collection efforts – is that it is a </a:t>
            </a:r>
            <a:r>
              <a:rPr b="1" lang="en-US" sz="1000" spc="-1" strike="noStrike">
                <a:solidFill>
                  <a:srgbClr val="ffffff"/>
                </a:solidFill>
                <a:latin typeface="Arial"/>
              </a:rPr>
              <a:t>partnership</a:t>
            </a:r>
            <a:r>
              <a:rPr b="0" lang="en-US" sz="1000" spc="-1" strike="noStrike">
                <a:solidFill>
                  <a:srgbClr val="ffffff"/>
                </a:solidFill>
                <a:latin typeface="Arial"/>
              </a:rPr>
              <a:t>, a </a:t>
            </a:r>
            <a:r>
              <a:rPr b="1" i="1" lang="en-US" sz="1000" spc="-1" strike="noStrike">
                <a:solidFill>
                  <a:srgbClr val="ffffff"/>
                </a:solidFill>
                <a:latin typeface="Arial"/>
              </a:rPr>
              <a:t>voluntary</a:t>
            </a:r>
            <a:r>
              <a:rPr b="0" lang="en-US" sz="1000" spc="-1" strike="noStrike">
                <a:solidFill>
                  <a:srgbClr val="ffffff"/>
                </a:solidFill>
                <a:latin typeface="Arial"/>
              </a:rPr>
              <a:t> partnership.</a:t>
            </a:r>
            <a:endParaRPr b="1" lang="en-US" sz="1000" spc="-1" strike="noStrike">
              <a:solidFill>
                <a:srgbClr val="ffffff"/>
              </a:solidFill>
              <a:latin typeface="Times New Roman"/>
            </a:endParaRPr>
          </a:p>
          <a:p>
            <a:pPr>
              <a:lnSpc>
                <a:spcPct val="100000"/>
              </a:lnSpc>
              <a:spcBef>
                <a:spcPts val="37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Arial"/>
              </a:rPr>
              <a:t>This partnership model is unique and is an incredible strength.  We (AHRQ) leverage the very substantial investments that are made by each of the statewide data organizations that contribute their data to HCUP.  </a:t>
            </a:r>
            <a:r>
              <a:rPr b="0" i="1" lang="en-US" sz="1000" spc="-1" strike="noStrike">
                <a:solidFill>
                  <a:srgbClr val="ffffff"/>
                </a:solidFill>
                <a:latin typeface="Arial"/>
              </a:rPr>
              <a:t>So for a relatively small investment</a:t>
            </a:r>
            <a:r>
              <a:rPr b="0" lang="en-US" sz="1000" spc="-1" strike="noStrike">
                <a:solidFill>
                  <a:srgbClr val="ffffff"/>
                </a:solidFill>
                <a:latin typeface="Arial"/>
              </a:rPr>
              <a:t>, we are able to work in unison to create a national data resource.</a:t>
            </a:r>
            <a:endParaRPr b="1" lang="en-US" sz="1000" spc="-1" strike="noStrike">
              <a:solidFill>
                <a:srgbClr val="ffffff"/>
              </a:solidFill>
              <a:latin typeface="Times New Roman"/>
            </a:endParaRPr>
          </a:p>
          <a:p>
            <a:pPr>
              <a:lnSpc>
                <a:spcPct val="100000"/>
              </a:lnSpc>
              <a:spcBef>
                <a:spcPts val="37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Arial"/>
              </a:rPr>
              <a:t> </a:t>
            </a:r>
            <a:endParaRPr b="1" lang="en-US" sz="1000" spc="-1" strike="noStrike">
              <a:solidFill>
                <a:srgbClr val="ffffff"/>
              </a:solidFill>
              <a:latin typeface="Times New Roman"/>
            </a:endParaRPr>
          </a:p>
          <a:p>
            <a:pPr>
              <a:lnSpc>
                <a:spcPct val="100000"/>
              </a:lnSpc>
              <a:spcBef>
                <a:spcPts val="37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1" lang="en-US" sz="1000" spc="-1" strike="noStrike">
              <a:solidFill>
                <a:srgbClr val="ffffff"/>
              </a:solidFill>
              <a:latin typeface="Times New Roman"/>
            </a:endParaRPr>
          </a:p>
          <a:p>
            <a:pPr>
              <a:lnSpc>
                <a:spcPct val="100000"/>
              </a:lnSpc>
              <a:spcBef>
                <a:spcPts val="37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1" lang="en-US" sz="1000" spc="-1" strike="noStrike">
              <a:solidFill>
                <a:srgbClr val="ffffff"/>
              </a:solidFill>
              <a:latin typeface="Times New Roman"/>
            </a:endParaRPr>
          </a:p>
          <a:p>
            <a:pPr>
              <a:lnSpc>
                <a:spcPct val="100000"/>
              </a:lnSpc>
              <a:spcBef>
                <a:spcPts val="37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ffffff"/>
                </a:solidFill>
                <a:latin typeface="Arial"/>
              </a:rPr>
              <a:t> </a:t>
            </a:r>
            <a:endParaRPr b="1" lang="en-US" sz="10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E67EBFE-444B-4C43-BD6A-E8C3D937C021}" type="slidenum">
              <a:rPr b="0" lang="en-US" sz="1100" spc="-1" strike="noStrike">
                <a:solidFill>
                  <a:srgbClr val="ffffff"/>
                </a:solidFill>
                <a:latin typeface="Arial"/>
              </a:rPr>
              <a:t>&lt;number&gt;</a:t>
            </a:fld>
            <a:endParaRPr b="1" lang="en-US" sz="1100" spc="-1" strike="noStrike">
              <a:solidFill>
                <a:srgbClr val="ffffff"/>
              </a:solidFill>
              <a:latin typeface="Times New Roman"/>
            </a:endParaRPr>
          </a:p>
        </p:txBody>
      </p:sp>
      <p:sp>
        <p:nvSpPr>
          <p:cNvPr id="863" name="PlaceHolder 1"/>
          <p:cNvSpPr>
            <a:spLocks noGrp="1"/>
          </p:cNvSpPr>
          <p:nvPr>
            <p:ph type="sldImg"/>
          </p:nvPr>
        </p:nvSpPr>
        <p:spPr>
          <a:xfrm>
            <a:off x="1184400" y="620640"/>
            <a:ext cx="4653000" cy="3489480"/>
          </a:xfrm>
          <a:prstGeom prst="rect">
            <a:avLst/>
          </a:prstGeom>
          <a:ln w="0">
            <a:noFill/>
          </a:ln>
        </p:spPr>
      </p:sp>
      <p:sp>
        <p:nvSpPr>
          <p:cNvPr id="864" name="PlaceHolder 2"/>
          <p:cNvSpPr>
            <a:spLocks noGrp="1"/>
          </p:cNvSpPr>
          <p:nvPr>
            <p:ph type="body"/>
          </p:nvPr>
        </p:nvSpPr>
        <p:spPr>
          <a:xfrm>
            <a:off x="661680" y="4420800"/>
            <a:ext cx="5613480" cy="4341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996D878-BB24-4D89-960F-1ADF41B9AE21}" type="slidenum">
              <a:rPr b="0" lang="en-US" sz="1100" spc="-1" strike="noStrike">
                <a:solidFill>
                  <a:srgbClr val="ffffff"/>
                </a:solidFill>
                <a:latin typeface="Arial"/>
              </a:rPr>
              <a:t>&lt;number&gt;</a:t>
            </a:fld>
            <a:endParaRPr b="1" lang="en-US" sz="1100" spc="-1" strike="noStrike">
              <a:solidFill>
                <a:srgbClr val="ffffff"/>
              </a:solidFill>
              <a:latin typeface="Times New Roman"/>
            </a:endParaRPr>
          </a:p>
        </p:txBody>
      </p:sp>
      <p:sp>
        <p:nvSpPr>
          <p:cNvPr id="866" name="PlaceHolder 1"/>
          <p:cNvSpPr>
            <a:spLocks noGrp="1"/>
          </p:cNvSpPr>
          <p:nvPr>
            <p:ph type="sldImg"/>
          </p:nvPr>
        </p:nvSpPr>
        <p:spPr>
          <a:xfrm>
            <a:off x="1184400" y="698400"/>
            <a:ext cx="4653000" cy="3489480"/>
          </a:xfrm>
          <a:prstGeom prst="rect">
            <a:avLst/>
          </a:prstGeom>
          <a:ln w="0">
            <a:noFill/>
          </a:ln>
        </p:spPr>
      </p:sp>
      <p:sp>
        <p:nvSpPr>
          <p:cNvPr id="867" name="PlaceHolder 2"/>
          <p:cNvSpPr>
            <a:spLocks noGrp="1"/>
          </p:cNvSpPr>
          <p:nvPr>
            <p:ph type="body"/>
          </p:nvPr>
        </p:nvSpPr>
        <p:spPr>
          <a:xfrm>
            <a:off x="232920" y="4343040"/>
            <a:ext cx="6473880" cy="480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85840" y="700200"/>
            <a:ext cx="4648320" cy="3485880"/>
          </a:xfrm>
          <a:prstGeom prst="rect">
            <a:avLst/>
          </a:prstGeom>
          <a:ln w="0">
            <a:noFill/>
          </a:ln>
        </p:spPr>
      </p:sp>
      <p:sp>
        <p:nvSpPr>
          <p:cNvPr id="869" name="PlaceHolder 2"/>
          <p:cNvSpPr>
            <a:spLocks noGrp="1"/>
          </p:cNvSpPr>
          <p:nvPr>
            <p:ph type="body"/>
          </p:nvPr>
        </p:nvSpPr>
        <p:spPr>
          <a:xfrm>
            <a:off x="936720" y="4420800"/>
            <a:ext cx="5146560" cy="4186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19BAD9-73C3-4ADD-80E0-E45C9CC219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0" name="PlaceHolder 2"/>
          <p:cNvSpPr>
            <a:spLocks noGrp="1"/>
          </p:cNvSpPr>
          <p:nvPr>
            <p:ph/>
          </p:nvPr>
        </p:nvSpPr>
        <p:spPr>
          <a:xfrm>
            <a:off x="304920" y="167652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304920" y="358704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0FB5200B-5E82-49D5-8843-7EA8B97A4C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3"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30492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1708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F1536A9D-8290-4636-A68A-62272E164B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8" name="PlaceHolder 2"/>
          <p:cNvSpPr>
            <a:spLocks noGrp="1"/>
          </p:cNvSpPr>
          <p:nvPr>
            <p:ph/>
          </p:nvPr>
        </p:nvSpPr>
        <p:spPr>
          <a:xfrm>
            <a:off x="30492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21624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12756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30492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21624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12756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FB90A6E3-38AF-4B91-AFF9-8032B268FC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2" name="PlaceHolder 2"/>
          <p:cNvSpPr>
            <a:spLocks noGrp="1"/>
          </p:cNvSpPr>
          <p:nvPr>
            <p:ph type="subTitle"/>
          </p:nvPr>
        </p:nvSpPr>
        <p:spPr>
          <a:xfrm>
            <a:off x="304920" y="1676520"/>
            <a:ext cx="8610480" cy="36576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4" name="PlaceHolder 2"/>
          <p:cNvSpPr>
            <a:spLocks noGrp="1"/>
          </p:cNvSpPr>
          <p:nvPr>
            <p:ph/>
          </p:nvPr>
        </p:nvSpPr>
        <p:spPr>
          <a:xfrm>
            <a:off x="304920" y="1676520"/>
            <a:ext cx="861048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6" name="PlaceHolder 2"/>
          <p:cNvSpPr>
            <a:spLocks noGrp="1"/>
          </p:cNvSpPr>
          <p:nvPr>
            <p:ph/>
          </p:nvPr>
        </p:nvSpPr>
        <p:spPr>
          <a:xfrm>
            <a:off x="30492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1708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99840" y="228600"/>
            <a:ext cx="716292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1"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1708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30492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 name="PlaceHolder 2"/>
          <p:cNvSpPr>
            <a:spLocks noGrp="1"/>
          </p:cNvSpPr>
          <p:nvPr>
            <p:ph type="subTitle"/>
          </p:nvPr>
        </p:nvSpPr>
        <p:spPr>
          <a:xfrm>
            <a:off x="304920" y="1676520"/>
            <a:ext cx="8610480" cy="36576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E156CC40-C26E-45BA-87D0-A93C45D9C7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5" name="PlaceHolder 2"/>
          <p:cNvSpPr>
            <a:spLocks noGrp="1"/>
          </p:cNvSpPr>
          <p:nvPr>
            <p:ph/>
          </p:nvPr>
        </p:nvSpPr>
        <p:spPr>
          <a:xfrm>
            <a:off x="30492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1708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9"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304920" y="358704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3" name="PlaceHolder 2"/>
          <p:cNvSpPr>
            <a:spLocks noGrp="1"/>
          </p:cNvSpPr>
          <p:nvPr>
            <p:ph/>
          </p:nvPr>
        </p:nvSpPr>
        <p:spPr>
          <a:xfrm>
            <a:off x="304920" y="167652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304920" y="358704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6"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30492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71708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1" name="PlaceHolder 2"/>
          <p:cNvSpPr>
            <a:spLocks noGrp="1"/>
          </p:cNvSpPr>
          <p:nvPr>
            <p:ph/>
          </p:nvPr>
        </p:nvSpPr>
        <p:spPr>
          <a:xfrm>
            <a:off x="30492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21624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12756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30492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21624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12756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5" name="PlaceHolder 2"/>
          <p:cNvSpPr>
            <a:spLocks noGrp="1"/>
          </p:cNvSpPr>
          <p:nvPr>
            <p:ph type="subTitle"/>
          </p:nvPr>
        </p:nvSpPr>
        <p:spPr>
          <a:xfrm>
            <a:off x="304920" y="1676520"/>
            <a:ext cx="8610480" cy="36576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7" name="PlaceHolder 2"/>
          <p:cNvSpPr>
            <a:spLocks noGrp="1"/>
          </p:cNvSpPr>
          <p:nvPr>
            <p:ph/>
          </p:nvPr>
        </p:nvSpPr>
        <p:spPr>
          <a:xfrm>
            <a:off x="304920" y="1676520"/>
            <a:ext cx="861048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99" name="PlaceHolder 2"/>
          <p:cNvSpPr>
            <a:spLocks noGrp="1"/>
          </p:cNvSpPr>
          <p:nvPr>
            <p:ph/>
          </p:nvPr>
        </p:nvSpPr>
        <p:spPr>
          <a:xfrm>
            <a:off x="30492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71708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 name="PlaceHolder 2"/>
          <p:cNvSpPr>
            <a:spLocks noGrp="1"/>
          </p:cNvSpPr>
          <p:nvPr>
            <p:ph/>
          </p:nvPr>
        </p:nvSpPr>
        <p:spPr>
          <a:xfrm>
            <a:off x="304920" y="1676520"/>
            <a:ext cx="861048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5BFC38D5-A7E8-4130-A86E-25CEA1E1070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599840" y="228600"/>
            <a:ext cx="716292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4"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71708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30492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08" name="PlaceHolder 2"/>
          <p:cNvSpPr>
            <a:spLocks noGrp="1"/>
          </p:cNvSpPr>
          <p:nvPr>
            <p:ph/>
          </p:nvPr>
        </p:nvSpPr>
        <p:spPr>
          <a:xfrm>
            <a:off x="30492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471708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2"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304920" y="358704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6" name="PlaceHolder 2"/>
          <p:cNvSpPr>
            <a:spLocks noGrp="1"/>
          </p:cNvSpPr>
          <p:nvPr>
            <p:ph/>
          </p:nvPr>
        </p:nvSpPr>
        <p:spPr>
          <a:xfrm>
            <a:off x="304920" y="167652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04920" y="358704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19"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30492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471708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24" name="PlaceHolder 2"/>
          <p:cNvSpPr>
            <a:spLocks noGrp="1"/>
          </p:cNvSpPr>
          <p:nvPr>
            <p:ph/>
          </p:nvPr>
        </p:nvSpPr>
        <p:spPr>
          <a:xfrm>
            <a:off x="30492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321624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612756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5"/>
          <p:cNvSpPr>
            <a:spLocks noGrp="1"/>
          </p:cNvSpPr>
          <p:nvPr>
            <p:ph/>
          </p:nvPr>
        </p:nvSpPr>
        <p:spPr>
          <a:xfrm>
            <a:off x="30492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6"/>
          <p:cNvSpPr>
            <a:spLocks noGrp="1"/>
          </p:cNvSpPr>
          <p:nvPr>
            <p:ph/>
          </p:nvPr>
        </p:nvSpPr>
        <p:spPr>
          <a:xfrm>
            <a:off x="321624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7"/>
          <p:cNvSpPr>
            <a:spLocks noGrp="1"/>
          </p:cNvSpPr>
          <p:nvPr>
            <p:ph/>
          </p:nvPr>
        </p:nvSpPr>
        <p:spPr>
          <a:xfrm>
            <a:off x="612756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38" name="PlaceHolder 2"/>
          <p:cNvSpPr>
            <a:spLocks noGrp="1"/>
          </p:cNvSpPr>
          <p:nvPr>
            <p:ph type="subTitle"/>
          </p:nvPr>
        </p:nvSpPr>
        <p:spPr>
          <a:xfrm>
            <a:off x="304920" y="1676520"/>
            <a:ext cx="8610480" cy="36576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40" name="PlaceHolder 2"/>
          <p:cNvSpPr>
            <a:spLocks noGrp="1"/>
          </p:cNvSpPr>
          <p:nvPr>
            <p:ph/>
          </p:nvPr>
        </p:nvSpPr>
        <p:spPr>
          <a:xfrm>
            <a:off x="304920" y="1676520"/>
            <a:ext cx="861048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3" name="PlaceHolder 2"/>
          <p:cNvSpPr>
            <a:spLocks noGrp="1"/>
          </p:cNvSpPr>
          <p:nvPr>
            <p:ph/>
          </p:nvPr>
        </p:nvSpPr>
        <p:spPr>
          <a:xfrm>
            <a:off x="30492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1708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1702984D-D2D2-43E1-9D69-B95367ACC89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42" name="PlaceHolder 2"/>
          <p:cNvSpPr>
            <a:spLocks noGrp="1"/>
          </p:cNvSpPr>
          <p:nvPr>
            <p:ph/>
          </p:nvPr>
        </p:nvSpPr>
        <p:spPr>
          <a:xfrm>
            <a:off x="30492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71708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599840" y="228600"/>
            <a:ext cx="716292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47"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71708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30492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51" name="PlaceHolder 2"/>
          <p:cNvSpPr>
            <a:spLocks noGrp="1"/>
          </p:cNvSpPr>
          <p:nvPr>
            <p:ph/>
          </p:nvPr>
        </p:nvSpPr>
        <p:spPr>
          <a:xfrm>
            <a:off x="30492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71708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55"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304920" y="358704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59" name="PlaceHolder 2"/>
          <p:cNvSpPr>
            <a:spLocks noGrp="1"/>
          </p:cNvSpPr>
          <p:nvPr>
            <p:ph/>
          </p:nvPr>
        </p:nvSpPr>
        <p:spPr>
          <a:xfrm>
            <a:off x="304920" y="167652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04920" y="358704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62"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30492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5"/>
          <p:cNvSpPr>
            <a:spLocks noGrp="1"/>
          </p:cNvSpPr>
          <p:nvPr>
            <p:ph/>
          </p:nvPr>
        </p:nvSpPr>
        <p:spPr>
          <a:xfrm>
            <a:off x="471708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67" name="PlaceHolder 2"/>
          <p:cNvSpPr>
            <a:spLocks noGrp="1"/>
          </p:cNvSpPr>
          <p:nvPr>
            <p:ph/>
          </p:nvPr>
        </p:nvSpPr>
        <p:spPr>
          <a:xfrm>
            <a:off x="30492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321624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4"/>
          <p:cNvSpPr>
            <a:spLocks noGrp="1"/>
          </p:cNvSpPr>
          <p:nvPr>
            <p:ph/>
          </p:nvPr>
        </p:nvSpPr>
        <p:spPr>
          <a:xfrm>
            <a:off x="6127560" y="167652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5"/>
          <p:cNvSpPr>
            <a:spLocks noGrp="1"/>
          </p:cNvSpPr>
          <p:nvPr>
            <p:ph/>
          </p:nvPr>
        </p:nvSpPr>
        <p:spPr>
          <a:xfrm>
            <a:off x="30492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6"/>
          <p:cNvSpPr>
            <a:spLocks noGrp="1"/>
          </p:cNvSpPr>
          <p:nvPr>
            <p:ph/>
          </p:nvPr>
        </p:nvSpPr>
        <p:spPr>
          <a:xfrm>
            <a:off x="321624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7"/>
          <p:cNvSpPr>
            <a:spLocks noGrp="1"/>
          </p:cNvSpPr>
          <p:nvPr>
            <p:ph/>
          </p:nvPr>
        </p:nvSpPr>
        <p:spPr>
          <a:xfrm>
            <a:off x="6127560" y="3587040"/>
            <a:ext cx="27723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 name="PlaceHolder 2"/>
          <p:cNvSpPr>
            <a:spLocks noGrp="1"/>
          </p:cNvSpPr>
          <p:nvPr>
            <p:ph type="sldNum" idx="1"/>
          </p:nvPr>
        </p:nvSpPr>
        <p:spPr/>
        <p:txBody>
          <a:bodyPr/>
          <a:p>
            <a:fld id="{ABCF45BD-AAD7-4795-A1C2-0784E1C02E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99840" y="228600"/>
            <a:ext cx="716292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D0C8ECA2-9F0C-4A88-B0C1-8F6FC14663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8"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1708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30492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5EFBE007-6A53-4AA6-A6B1-1949ABCCC0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2" name="PlaceHolder 2"/>
          <p:cNvSpPr>
            <a:spLocks noGrp="1"/>
          </p:cNvSpPr>
          <p:nvPr>
            <p:ph/>
          </p:nvPr>
        </p:nvSpPr>
        <p:spPr>
          <a:xfrm>
            <a:off x="304920" y="1676520"/>
            <a:ext cx="4201560" cy="365760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17080" y="358704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0313B12C-0892-4855-A7EE-1D7CAC702B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6" name="PlaceHolder 2"/>
          <p:cNvSpPr>
            <a:spLocks noGrp="1"/>
          </p:cNvSpPr>
          <p:nvPr>
            <p:ph/>
          </p:nvPr>
        </p:nvSpPr>
        <p:spPr>
          <a:xfrm>
            <a:off x="30492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17080" y="1676520"/>
            <a:ext cx="420156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304920" y="3587040"/>
            <a:ext cx="8610480" cy="17445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F13E8E18-F870-4E56-A6FF-195DDC960F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304920" y="1676520"/>
            <a:ext cx="8610480" cy="3657600"/>
          </a:xfrm>
          <a:prstGeom prst="rect">
            <a:avLst/>
          </a:prstGeom>
          <a:noFill/>
          <a:ln w="0">
            <a:noFill/>
          </a:ln>
        </p:spPr>
        <p:txBody>
          <a:bodyPr lIns="90360" rIns="90360" tIns="44280" bIns="44280" anchor="t">
            <a:normAutofit fontScale="89000"/>
          </a:bodyPr>
          <a:p>
            <a:pPr marL="413640" indent="-4136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8680" indent="-35280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281600" indent="-3110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6520" indent="-20340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91800" indent="-2034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91800" indent="-2034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91800" indent="-2034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4"/>
          <p:cNvGrpSpPr/>
          <p:nvPr/>
        </p:nvGrpSpPr>
        <p:grpSpPr>
          <a:xfrm>
            <a:off x="0" y="1333440"/>
            <a:ext cx="7986240" cy="19080"/>
            <a:chOff x="0" y="1333440"/>
            <a:chExt cx="7986240" cy="19080"/>
          </a:xfrm>
        </p:grpSpPr>
        <p:sp>
          <p:nvSpPr>
            <p:cNvPr id="3"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4"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graphicFrame>
        <p:nvGraphicFramePr>
          <p:cNvPr id="5" name="Object 7"/>
          <p:cNvGraphicFramePr/>
          <p:nvPr/>
        </p:nvGraphicFramePr>
        <p:xfrm>
          <a:off x="142920" y="317520"/>
          <a:ext cx="1428840" cy="671400"/>
        </p:xfrm>
        <a:graphic>
          <a:graphicData uri="http://schemas.openxmlformats.org/presentationml/2006/ole">
            <p:oleObj r:id="rId2" spid="">
              <p:embed/>
              <p:pic>
                <p:nvPicPr>
                  <p:cNvPr id="6" name="Object 7" descr=""/>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B61F3-9E63-42AC-AE41-01803E69D0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46" name="Group 4"/>
          <p:cNvGrpSpPr/>
          <p:nvPr/>
        </p:nvGrpSpPr>
        <p:grpSpPr>
          <a:xfrm>
            <a:off x="0" y="1333440"/>
            <a:ext cx="7986240" cy="19080"/>
            <a:chOff x="0" y="1333440"/>
            <a:chExt cx="7986240" cy="19080"/>
          </a:xfrm>
        </p:grpSpPr>
        <p:sp>
          <p:nvSpPr>
            <p:cNvPr id="47"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48"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graphicFrame>
        <p:nvGraphicFramePr>
          <p:cNvPr id="49" name="Object 7"/>
          <p:cNvGraphicFramePr/>
          <p:nvPr/>
        </p:nvGraphicFramePr>
        <p:xfrm>
          <a:off x="142920" y="317520"/>
          <a:ext cx="1428840" cy="671400"/>
        </p:xfrm>
        <a:graphic>
          <a:graphicData uri="http://schemas.openxmlformats.org/presentationml/2006/ole">
            <p:oleObj r:id="rId2" spid="">
              <p:embed/>
              <p:pic>
                <p:nvPicPr>
                  <p:cNvPr id="50" name="Object 7"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87" name="Group 4"/>
          <p:cNvGrpSpPr/>
          <p:nvPr/>
        </p:nvGrpSpPr>
        <p:grpSpPr>
          <a:xfrm>
            <a:off x="0" y="3867120"/>
            <a:ext cx="7986240" cy="19080"/>
            <a:chOff x="0" y="3867120"/>
            <a:chExt cx="7986240" cy="19080"/>
          </a:xfrm>
        </p:grpSpPr>
        <p:sp>
          <p:nvSpPr>
            <p:cNvPr id="88"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89"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graphicFrame>
        <p:nvGraphicFramePr>
          <p:cNvPr id="90" name="Object 7"/>
          <p:cNvGraphicFramePr/>
          <p:nvPr/>
        </p:nvGraphicFramePr>
        <p:xfrm>
          <a:off x="990720" y="380880"/>
          <a:ext cx="7162560" cy="1695600"/>
        </p:xfrm>
        <a:graphic>
          <a:graphicData uri="http://schemas.openxmlformats.org/presentationml/2006/ole">
            <p:oleObj r:id="rId2" spid="">
              <p:embed/>
              <p:pic>
                <p:nvPicPr>
                  <p:cNvPr id="91" name="Object 7" descr=""/>
                  <p:cNvPicPr/>
                  <p:nvPr/>
                </p:nvPicPr>
                <p:blipFill>
                  <a:blip r:embed="rId3"/>
                  <a:stretch/>
                </p:blipFill>
                <p:spPr>
                  <a:xfrm>
                    <a:off x="990720" y="380880"/>
                    <a:ext cx="7162560" cy="1695600"/>
                  </a:xfrm>
                  <a:prstGeom prst="rect">
                    <a:avLst/>
                  </a:prstGeom>
                  <a:ln w="0">
                    <a:noFill/>
                  </a:ln>
                </p:spPr>
              </p:pic>
            </p:oleObj>
          </a:graphicData>
        </a:graphic>
      </p:graphicFrame>
      <p:sp>
        <p:nvSpPr>
          <p:cNvPr id="92"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93" name="PlaceHolder 2"/>
          <p:cNvSpPr>
            <a:spLocks noGrp="1"/>
          </p:cNvSpPr>
          <p:nvPr>
            <p:ph type="body"/>
          </p:nvPr>
        </p:nvSpPr>
        <p:spPr>
          <a:xfrm>
            <a:off x="304920" y="1676520"/>
            <a:ext cx="8610480" cy="3657600"/>
          </a:xfrm>
          <a:prstGeom prst="rect">
            <a:avLst/>
          </a:prstGeom>
          <a:noFill/>
          <a:ln w="0">
            <a:noFill/>
          </a:ln>
        </p:spPr>
        <p:txBody>
          <a:bodyPr lIns="90360" rIns="90360" tIns="44280" bIns="44280" anchor="t">
            <a:normAutofit fontScale="89000"/>
          </a:bodyPr>
          <a:p>
            <a:pPr marL="413640" indent="-4136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8680" indent="-35280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281600" indent="-3110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6520" indent="-20340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91800" indent="-2034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91800" indent="-2034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91800" indent="-20340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130" name="Group 4"/>
          <p:cNvGrpSpPr/>
          <p:nvPr/>
        </p:nvGrpSpPr>
        <p:grpSpPr>
          <a:xfrm>
            <a:off x="0" y="3867120"/>
            <a:ext cx="7986240" cy="19080"/>
            <a:chOff x="0" y="3867120"/>
            <a:chExt cx="7986240" cy="19080"/>
          </a:xfrm>
        </p:grpSpPr>
        <p:sp>
          <p:nvSpPr>
            <p:cNvPr id="131"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132"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graphicFrame>
        <p:nvGraphicFramePr>
          <p:cNvPr id="133" name="Object 7"/>
          <p:cNvGraphicFramePr/>
          <p:nvPr/>
        </p:nvGraphicFramePr>
        <p:xfrm>
          <a:off x="990720" y="380880"/>
          <a:ext cx="7162560" cy="1695600"/>
        </p:xfrm>
        <a:graphic>
          <a:graphicData uri="http://schemas.openxmlformats.org/presentationml/2006/ole">
            <p:oleObj r:id="rId2" spid="">
              <p:embed/>
              <p:pic>
                <p:nvPicPr>
                  <p:cNvPr id="134" name="Object 7" descr=""/>
                  <p:cNvPicPr/>
                  <p:nvPr/>
                </p:nvPicPr>
                <p:blipFill>
                  <a:blip r:embed="rId3"/>
                  <a:stretch/>
                </p:blipFill>
                <p:spPr>
                  <a:xfrm>
                    <a:off x="990720" y="380880"/>
                    <a:ext cx="7162560" cy="1695600"/>
                  </a:xfrm>
                  <a:prstGeom prst="rect">
                    <a:avLst/>
                  </a:prstGeom>
                  <a:ln w="0">
                    <a:noFill/>
                  </a:ln>
                </p:spPr>
              </p:pic>
            </p:oleObj>
          </a:graphicData>
        </a:graphic>
      </p:graphicFrame>
      <p:sp>
        <p:nvSpPr>
          <p:cNvPr id="1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6"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qualitymeasures.ahrq.gov/"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qualityindicators.ahrq.gov/"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514240"/>
            <a:ext cx="8610480" cy="12193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Development of </a:t>
            </a:r>
            <a:br>
              <a:rPr sz="3600"/>
            </a:br>
            <a:r>
              <a:rPr b="1" lang="en-US" sz="3600" spc="-1" strike="noStrike">
                <a:solidFill>
                  <a:srgbClr val="ffff00"/>
                </a:solidFill>
                <a:latin typeface="Arial"/>
              </a:rPr>
              <a:t>Emergency Department </a:t>
            </a:r>
            <a:br>
              <a:rPr sz="3600"/>
            </a:br>
            <a:r>
              <a:rPr b="1" lang="en-US" sz="3600" spc="-1" strike="noStrike">
                <a:solidFill>
                  <a:srgbClr val="ffff00"/>
                </a:solidFill>
                <a:latin typeface="Arial"/>
              </a:rPr>
              <a:t>Patient Quality/Safety Indicators</a:t>
            </a:r>
            <a:endParaRPr b="1" lang="en-US" sz="3600" spc="-1" strike="noStrike">
              <a:solidFill>
                <a:srgbClr val="ffff00"/>
              </a:solidFill>
              <a:latin typeface="Arial"/>
            </a:endParaRPr>
          </a:p>
        </p:txBody>
      </p:sp>
      <p:sp>
        <p:nvSpPr>
          <p:cNvPr id="181" name="PlaceHolder 2"/>
          <p:cNvSpPr>
            <a:spLocks noGrp="1"/>
          </p:cNvSpPr>
          <p:nvPr>
            <p:ph type="subTitle"/>
          </p:nvPr>
        </p:nvSpPr>
        <p:spPr>
          <a:xfrm>
            <a:off x="152280" y="4343400"/>
            <a:ext cx="8839440" cy="2209680"/>
          </a:xfrm>
          <a:prstGeom prst="rect">
            <a:avLst/>
          </a:prstGeom>
          <a:noFill/>
          <a:ln w="0">
            <a:noFill/>
          </a:ln>
        </p:spPr>
        <p:txBody>
          <a:bodyPr lIns="90360" rIns="90360" tIns="44280" bIns="44280" anchor="t">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rick S. Romano, MD MPH</a:t>
            </a:r>
            <a:endParaRPr b="0" lang="en-US" sz="2800" spc="-1" strike="noStrike">
              <a:solidFill>
                <a:srgbClr val="ffffff"/>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UC Davis Center for Healthcare Policy and Research</a:t>
            </a:r>
            <a:endParaRPr b="0" lang="en-US" sz="2700" spc="-1" strike="noStrike">
              <a:solidFill>
                <a:srgbClr val="ffffff"/>
              </a:solidFill>
              <a:latin typeface="Arial"/>
            </a:endParaRPr>
          </a:p>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HRQ Annual Conference</a:t>
            </a:r>
            <a:endParaRPr b="0" lang="en-US" sz="2800" spc="-1" strike="noStrike">
              <a:solidFill>
                <a:srgbClr val="ffffff"/>
              </a:solidFill>
              <a:latin typeface="Arial"/>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ptember 27, 2010</a:t>
            </a: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oals and Scope</a:t>
            </a:r>
            <a:endParaRPr b="1" lang="en-US" sz="3600" spc="-1" strike="noStrike">
              <a:solidFill>
                <a:srgbClr val="ffff00"/>
              </a:solidFill>
              <a:latin typeface="Arial"/>
            </a:endParaRPr>
          </a:p>
        </p:txBody>
      </p:sp>
      <p:sp>
        <p:nvSpPr>
          <p:cNvPr id="827" name="PlaceHolder 2"/>
          <p:cNvSpPr>
            <a:spLocks noGrp="1"/>
          </p:cNvSpPr>
          <p:nvPr>
            <p:ph/>
          </p:nvPr>
        </p:nvSpPr>
        <p:spPr>
          <a:xfrm>
            <a:off x="304920" y="1447920"/>
            <a:ext cx="8610480" cy="54100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two sets of quality indicators that are applicable to the emergency department setting</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Safety Indicators (PSI)</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ion Quality Indicators (PQI)</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the stage for future incorporation into publicly available AHRQ QI software </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p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the established AHRQ QI measurement development proces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apt existing AHRQ QI to ED setting when possibl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and evaluate new candidate indicators based on established measurement concep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terature review: strategy</a:t>
            </a:r>
            <a:endParaRPr b="1" lang="en-US" sz="3600" spc="-1" strike="noStrike">
              <a:solidFill>
                <a:srgbClr val="ffff00"/>
              </a:solidFill>
              <a:latin typeface="Arial"/>
            </a:endParaRPr>
          </a:p>
        </p:txBody>
      </p:sp>
      <p:sp>
        <p:nvSpPr>
          <p:cNvPr id="829" name="PlaceHolder 2"/>
          <p:cNvSpPr>
            <a:spLocks noGrp="1"/>
          </p:cNvSpPr>
          <p:nvPr>
            <p:ph/>
          </p:nvPr>
        </p:nvSpPr>
        <p:spPr>
          <a:xfrm>
            <a:off x="304920" y="1600200"/>
            <a:ext cx="8610480" cy="5029200"/>
          </a:xfrm>
          <a:prstGeom prst="rect">
            <a:avLst/>
          </a:prstGeom>
          <a:noFill/>
          <a:ln w="0">
            <a:noFill/>
          </a:ln>
        </p:spPr>
        <p:txBody>
          <a:bodyPr lIns="90360" rIns="90360" tIns="44280" bIns="44280" anchor="t">
            <a:normAutofit/>
          </a:bodyPr>
          <a:p>
            <a:pPr marL="465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goal: </a:t>
            </a:r>
            <a:endParaRPr b="0" lang="en-US" sz="1800" spc="-1" strike="noStrike">
              <a:solidFill>
                <a:srgbClr val="ffffff"/>
              </a:solidFill>
              <a:latin typeface="Arial"/>
            </a:endParaRPr>
          </a:p>
          <a:p>
            <a:pPr marL="465120" indent="-465120">
              <a:lnSpc>
                <a:spcPct val="90000"/>
              </a:lnSpc>
              <a:spcBef>
                <a:spcPts val="337"/>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find studies that introduced or used quality of care measures to assess patient safety in hospital emergency departments. </a:t>
            </a:r>
            <a:endParaRPr b="0" lang="en-US" sz="1800" spc="-1" strike="noStrike">
              <a:solidFill>
                <a:srgbClr val="ffffff"/>
              </a:solidFill>
              <a:latin typeface="Arial"/>
            </a:endParaRPr>
          </a:p>
          <a:p>
            <a:pPr marL="465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strategy using MESH headings in PubMed:</a:t>
            </a:r>
            <a:endParaRPr b="0" lang="en-US" sz="1800" spc="-1" strike="noStrike">
              <a:solidFill>
                <a:srgbClr val="ffffff"/>
              </a:solidFill>
              <a:latin typeface="Arial"/>
            </a:endParaRPr>
          </a:p>
          <a:p>
            <a:pPr marL="465120" indent="-465120">
              <a:lnSpc>
                <a:spcPct val="90000"/>
              </a:lnSpc>
              <a:spcBef>
                <a:spcPts val="337"/>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lity Assurance, Health Care"[Mesh] OR "Quality Indicators, Health Care"[Mesh] OR "Quality of Health Care"[Mesh] OR "Health Care Quality, Access, and Evaluation"[Mesh] OR "United States Agency for Healthcare Research and Quality"[Mesh] OR "Outcome Assessment (Health Care)"[Mesh]) </a:t>
            </a:r>
            <a:endParaRPr b="0" lang="en-US" sz="1800" spc="-1" strike="noStrike">
              <a:solidFill>
                <a:srgbClr val="ffffff"/>
              </a:solidFill>
              <a:latin typeface="Arial"/>
            </a:endParaRPr>
          </a:p>
          <a:p>
            <a:pPr marL="465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ND "Emergency Service, Hospital"[Mesh] </a:t>
            </a:r>
            <a:endParaRPr b="0" lang="en-US" sz="1800" spc="-1" strike="noStrike">
              <a:solidFill>
                <a:srgbClr val="ffffff"/>
              </a:solidFill>
              <a:latin typeface="Arial"/>
            </a:endParaRPr>
          </a:p>
          <a:p>
            <a:pPr marL="465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ND ("Medical Errors"[Mesh] OR "Malpractice"[Mesh] OR "Safety"[Mesh] OR "Equipment Safety"[Mesh] OR "Safety Management"[Mesh])</a:t>
            </a:r>
            <a:endParaRPr b="0" lang="en-US" sz="1800" spc="-1" strike="noStrike">
              <a:solidFill>
                <a:srgbClr val="ffffff"/>
              </a:solidFill>
              <a:latin typeface="Arial"/>
            </a:endParaRPr>
          </a:p>
          <a:p>
            <a:pPr marL="465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ation using title and/or abstract keywords: </a:t>
            </a:r>
            <a:endParaRPr b="0" lang="en-US" sz="1800" spc="-1" strike="noStrike">
              <a:solidFill>
                <a:srgbClr val="ffffff"/>
              </a:solidFill>
              <a:latin typeface="Arial"/>
            </a:endParaRPr>
          </a:p>
          <a:p>
            <a:pPr marL="465120" indent="-465120">
              <a:lnSpc>
                <a:spcPct val="90000"/>
              </a:lnSpc>
              <a:spcBef>
                <a:spcPts val="337"/>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tient safety” OR “adverse event” OR “avoidable condition”</a:t>
            </a:r>
            <a:endParaRPr b="0" lang="en-US" sz="1800" spc="-1" strike="noStrike">
              <a:solidFill>
                <a:srgbClr val="ffffff"/>
              </a:solidFill>
              <a:latin typeface="Arial"/>
            </a:endParaRPr>
          </a:p>
          <a:p>
            <a:pPr marL="465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ND “quality”</a:t>
            </a:r>
            <a:endParaRPr b="0" lang="en-US" sz="1800" spc="-1" strike="noStrike">
              <a:solidFill>
                <a:srgbClr val="ffffff"/>
              </a:solidFill>
              <a:latin typeface="Arial"/>
            </a:endParaRPr>
          </a:p>
          <a:p>
            <a:pPr marL="46512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ND (“emergency room” OR “emergency department” </a:t>
            </a:r>
            <a:endParaRPr b="0" lang="en-US" sz="1800" spc="-1" strike="noStrike">
              <a:solidFill>
                <a:srgbClr val="ffffff"/>
              </a:solidFill>
              <a:latin typeface="Arial"/>
            </a:endParaRPr>
          </a:p>
          <a:p>
            <a:pPr marL="465120" indent="-465120">
              <a:lnSpc>
                <a:spcPct val="90000"/>
              </a:lnSpc>
              <a:spcBef>
                <a:spcPts val="337"/>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most important papers, we searched for ‘all related article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terature review: process</a:t>
            </a:r>
            <a:endParaRPr b="1" lang="en-US" sz="3600" spc="-1" strike="noStrike">
              <a:solidFill>
                <a:srgbClr val="ffff00"/>
              </a:solidFill>
              <a:latin typeface="Arial"/>
            </a:endParaRPr>
          </a:p>
        </p:txBody>
      </p:sp>
      <p:sp>
        <p:nvSpPr>
          <p:cNvPr id="831" name="PlaceHolder 2"/>
          <p:cNvSpPr>
            <a:spLocks noGrp="1"/>
          </p:cNvSpPr>
          <p:nvPr>
            <p:ph/>
          </p:nvPr>
        </p:nvSpPr>
        <p:spPr>
          <a:xfrm>
            <a:off x="304920" y="1523880"/>
            <a:ext cx="8610480" cy="5181840"/>
          </a:xfrm>
          <a:prstGeom prst="rect">
            <a:avLst/>
          </a:prstGeom>
          <a:noFill/>
          <a:ln w="0">
            <a:noFill/>
          </a:ln>
        </p:spPr>
        <p:txBody>
          <a:bodyPr lIns="90360" rIns="90360" tIns="44280" bIns="44280" anchor="t">
            <a:normAutofit/>
          </a:bodyPr>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Med:</a:t>
            </a:r>
            <a:endParaRPr b="0" lang="en-US" sz="24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50 abstracts, decreased to 687 when limited to human subjects, English language, date within 10 yrs.</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abstracts were reviewed for relevance (i.e., describing one or more measures of ED quality/safety).</a:t>
            </a:r>
            <a:endParaRPr b="0" lang="en-US" sz="20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Quality Measures Clearinghouse</a:t>
            </a:r>
            <a:endParaRPr b="0" lang="en-US" sz="24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afd00"/>
                </a:solidFill>
                <a:uFillTx/>
                <a:latin typeface="Arial"/>
                <a:hlinkClick r:id="rId1"/>
              </a:rPr>
              <a:t>http://qualitymeasures.ahrq.gov/</a:t>
            </a:r>
            <a:r>
              <a:rPr b="0" lang="en-US" sz="2000" spc="-1" strike="noStrike">
                <a:solidFill>
                  <a:srgbClr val="ffffff"/>
                </a:solidFill>
                <a:latin typeface="Arial"/>
              </a:rPr>
              <a:t> </a:t>
            </a:r>
            <a:endParaRPr b="0" lang="en-US" sz="20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tions and websites</a:t>
            </a:r>
            <a:endParaRPr b="0" lang="en-US" sz="24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Quality Forum</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deral: AHRQ and CMS/QualityNet</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 ACEP and SAEM</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A: Physician Consortium for Performance Improvement</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developers: NCQA and The Joint Commission</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itute of Medicine/National Academy of Sciences</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ada: Institute for Clinical Evaluative Sciences, Canadian Institute for Health Inform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terature review: key themes</a:t>
            </a:r>
            <a:br>
              <a:rPr sz="3600"/>
            </a:br>
            <a:r>
              <a:rPr b="1" lang="en-US" sz="2400" spc="-1" strike="noStrike">
                <a:solidFill>
                  <a:srgbClr val="ffff00"/>
                </a:solidFill>
                <a:latin typeface="Arial"/>
              </a:rPr>
              <a:t>40 journal papers, 23 documents and reports</a:t>
            </a:r>
            <a:endParaRPr b="1" lang="en-US" sz="2400" spc="-1" strike="noStrike">
              <a:solidFill>
                <a:srgbClr val="ffff00"/>
              </a:solidFill>
              <a:latin typeface="Arial"/>
            </a:endParaRPr>
          </a:p>
        </p:txBody>
      </p:sp>
      <p:sp>
        <p:nvSpPr>
          <p:cNvPr id="833" name="PlaceHolder 2"/>
          <p:cNvSpPr>
            <a:spLocks noGrp="1"/>
          </p:cNvSpPr>
          <p:nvPr>
            <p:ph/>
          </p:nvPr>
        </p:nvSpPr>
        <p:spPr>
          <a:xfrm>
            <a:off x="152280" y="1523880"/>
            <a:ext cx="8763120" cy="5105520"/>
          </a:xfrm>
          <a:prstGeom prst="rect">
            <a:avLst/>
          </a:prstGeom>
          <a:noFill/>
          <a:ln w="0">
            <a:noFill/>
          </a:ln>
        </p:spPr>
        <p:txBody>
          <a:bodyPr lIns="90360" rIns="90360" tIns="44280" bIns="44280" anchor="t">
            <a:normAutofit/>
          </a:bodyPr>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TJC Core Measures address processes of care in ED management of  pneumonia or myocardial infarction </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trauma or shock care, generally based on detailed "peer" review of medical records to assess appropriateness and timeliness of diagnostic and therapeutic interventions</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based measures, generally focused on waiting time, total LOS in the ED, ED disposition time for admitted/transferred patients  </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priate prescribing and avoidance of medication errors for common conditions such as asthma, bronchiolitis, gastroenteritis, laceration</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priate use of imaging studies, laboratory, ECG</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priate assessment of pain, oxygenation, mental status/cognition</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Left without being seen" or "left AMA" (premature discharge from ED)</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adverse consequences of crowding/boarding</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Missed diagnosis” identified by return within defined time window for a serious condition</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sits to ED within defined time window for same or related condi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eptual framework for prioritization:</a:t>
            </a:r>
            <a:br>
              <a:rPr sz="2800"/>
            </a:br>
            <a:r>
              <a:rPr b="1" lang="en-US" sz="2400" spc="-1" strike="noStrike">
                <a:solidFill>
                  <a:srgbClr val="ffff00"/>
                </a:solidFill>
                <a:latin typeface="Arial"/>
              </a:rPr>
              <a:t>American College of Emergency Physicians, 2009</a:t>
            </a:r>
            <a:endParaRPr b="1" lang="en-US" sz="2400" spc="-1" strike="noStrike">
              <a:solidFill>
                <a:srgbClr val="ffff00"/>
              </a:solidFill>
              <a:latin typeface="Arial"/>
            </a:endParaRPr>
          </a:p>
        </p:txBody>
      </p:sp>
      <p:graphicFrame>
        <p:nvGraphicFramePr>
          <p:cNvPr id="835" name=""/>
          <p:cNvGraphicFramePr/>
          <p:nvPr/>
        </p:nvGraphicFramePr>
        <p:xfrm>
          <a:off x="152280" y="1676520"/>
          <a:ext cx="8839440" cy="3895560"/>
        </p:xfrm>
        <a:graphic>
          <a:graphicData uri="http://schemas.openxmlformats.org/drawingml/2006/table">
            <a:tbl>
              <a:tblPr/>
              <a:tblGrid>
                <a:gridCol w="2819520"/>
                <a:gridCol w="6019920"/>
              </a:tblGrid>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main</a:t>
                      </a:r>
                      <a:endParaRPr b="1"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amples</a:t>
                      </a:r>
                      <a:endParaRPr b="1"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to emergency care</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to providers, access to treatment centers, financial barriers, hospital capacity</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lity and patient safety environment</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supported systems, institutional barriers</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l liability environment</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l atmosphere, insurance availability, tort reform</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 health and injury prevention</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ffic safety and drunk driving, immunization, injury control, state injury prevention efforts, health risk factors</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ster preparedness</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resources, state coordination, hospital capacity, personnel</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eptual framework for prioritization:</a:t>
            </a:r>
            <a:br>
              <a:rPr sz="2800"/>
            </a:br>
            <a:r>
              <a:rPr b="1" lang="en-US" sz="2800" spc="-1" strike="noStrike">
                <a:solidFill>
                  <a:srgbClr val="ffff00"/>
                </a:solidFill>
                <a:latin typeface="Arial"/>
              </a:rPr>
              <a:t>Institute of Medicine, 2010</a:t>
            </a:r>
            <a:endParaRPr b="1" lang="en-US" sz="2800" spc="-1" strike="noStrike">
              <a:solidFill>
                <a:srgbClr val="ffff00"/>
              </a:solidFill>
              <a:latin typeface="Arial"/>
            </a:endParaRPr>
          </a:p>
        </p:txBody>
      </p:sp>
      <p:pic>
        <p:nvPicPr>
          <p:cNvPr id="837" name="Picture 4" descr=""/>
          <p:cNvPicPr/>
          <p:nvPr/>
        </p:nvPicPr>
        <p:blipFill>
          <a:blip r:embed="rId1"/>
          <a:srcRect l="17248" t="32396" r="26247" b="13199"/>
          <a:stretch/>
        </p:blipFill>
        <p:spPr>
          <a:xfrm>
            <a:off x="228600" y="1371600"/>
            <a:ext cx="8686800" cy="5257800"/>
          </a:xfrm>
          <a:prstGeom prst="rect">
            <a:avLst/>
          </a:prstGeom>
          <a:ln w="0">
            <a:noFill/>
          </a:ln>
        </p:spPr>
      </p:pic>
      <p:sp>
        <p:nvSpPr>
          <p:cNvPr id="838" name="Oval 11"/>
          <p:cNvSpPr/>
          <p:nvPr/>
        </p:nvSpPr>
        <p:spPr>
          <a:xfrm>
            <a:off x="5791320" y="2209680"/>
            <a:ext cx="121896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eptual framework for prioritization:</a:t>
            </a:r>
            <a:br>
              <a:rPr sz="2800"/>
            </a:br>
            <a:r>
              <a:rPr b="1" lang="en-US" sz="2800" spc="-1" strike="noStrike">
                <a:solidFill>
                  <a:srgbClr val="ffff00"/>
                </a:solidFill>
                <a:latin typeface="Arial"/>
              </a:rPr>
              <a:t>Institute of Medicine, 2007</a:t>
            </a:r>
            <a:endParaRPr b="1" lang="en-US" sz="2800" spc="-1" strike="noStrike">
              <a:solidFill>
                <a:srgbClr val="ffff00"/>
              </a:solidFill>
              <a:latin typeface="Arial"/>
            </a:endParaRPr>
          </a:p>
        </p:txBody>
      </p:sp>
      <p:graphicFrame>
        <p:nvGraphicFramePr>
          <p:cNvPr id="840" name=""/>
          <p:cNvGraphicFramePr/>
          <p:nvPr/>
        </p:nvGraphicFramePr>
        <p:xfrm>
          <a:off x="152280" y="1447920"/>
          <a:ext cx="8839440" cy="5165640"/>
        </p:xfrm>
        <a:graphic>
          <a:graphicData uri="http://schemas.openxmlformats.org/drawingml/2006/table">
            <a:tbl>
              <a:tblPr/>
              <a:tblGrid>
                <a:gridCol w="1295640"/>
                <a:gridCol w="7543800"/>
              </a:tblGrid>
              <a:tr h="3682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omain</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pplication to the ED</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803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Arial"/>
                        </a:rPr>
                        <a:t>Safe</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High-risk, high-stress environment “fraught with opportunities for error”… frequent interruptions and distractions, crowding, need for rapid decision-making with incomplete information, barriers to effective communication and teamwork, difficulty obtaining timely diagnostic tests </a:t>
                      </a:r>
                      <a:endParaRPr b="1"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37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Arial"/>
                        </a:rPr>
                        <a:t>Effective</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Limited by deficiencies in pre-hospital care, unavailability of trained specialists, lack of access to patients’ prior medical records, poor primary care follow-up, inability to coordinate care across settings </a:t>
                      </a:r>
                      <a:endParaRPr b="1"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centered</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owding, long wait times, boarding of admitted patients in hallways, design emphasis on visibility and monitoring rather than privacy</a:t>
                      </a:r>
                      <a:endParaRPr b="1"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ly</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ed to provide timely care for emergent medical problems, but often overwhelmed by the demand for their services…</a:t>
                      </a:r>
                      <a:endParaRPr b="1"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37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icient</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tly asked to provide care for which it is not the most efficient setting… primary care, urgent care for minor complaints, and inpatient care to admitted patients compromises efficiency</a:t>
                      </a:r>
                      <a:endParaRPr b="1"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37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table</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TALA requires EDs to treat all patients equitably… (but) variation in resources and personnel across communities may create inequities in how patients in different EDs are treated</a:t>
                      </a:r>
                      <a:endParaRPr b="1"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eptual framework for prioritization:</a:t>
            </a:r>
            <a:br>
              <a:rPr sz="2800"/>
            </a:br>
            <a:r>
              <a:rPr b="1" lang="en-US" sz="2400" spc="-1" strike="noStrike">
                <a:solidFill>
                  <a:srgbClr val="ffff00"/>
                </a:solidFill>
                <a:latin typeface="Arial"/>
              </a:rPr>
              <a:t>ICES/Alberta Quality Matrix for Health, 2010</a:t>
            </a:r>
            <a:endParaRPr b="1" lang="en-US" sz="2400" spc="-1" strike="noStrike">
              <a:solidFill>
                <a:srgbClr val="ffff00"/>
              </a:solidFill>
              <a:latin typeface="Arial"/>
            </a:endParaRPr>
          </a:p>
        </p:txBody>
      </p:sp>
      <p:graphicFrame>
        <p:nvGraphicFramePr>
          <p:cNvPr id="842" name=""/>
          <p:cNvGraphicFramePr/>
          <p:nvPr/>
        </p:nvGraphicFramePr>
        <p:xfrm>
          <a:off x="152280" y="1676520"/>
          <a:ext cx="8839440" cy="4627440"/>
        </p:xfrm>
        <a:graphic>
          <a:graphicData uri="http://schemas.openxmlformats.org/drawingml/2006/table">
            <a:tbl>
              <a:tblPr/>
              <a:tblGrid>
                <a:gridCol w="2286000"/>
                <a:gridCol w="6553440"/>
              </a:tblGrid>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main</a:t>
                      </a:r>
                      <a:endParaRPr b="1"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amples</a:t>
                      </a:r>
                      <a:endParaRPr b="1"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ptability</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services are respectful and responsive to user needs, preferences and expectations.</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bility</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services are obtained in the most suitable setting in a reasonable time and distance.</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priateness</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services are relevant to user needs and are based on accepted or evidence-based practice.</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Arial"/>
                        </a:rPr>
                        <a:t>Effectiveness</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Arial"/>
                        </a:rPr>
                        <a:t>Health services are provided based on scientific knowledge to achieve desired outcomes.</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iciency</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s are optimally used in achieving desired outcomes.</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Arial"/>
                        </a:rPr>
                        <a:t>Safety</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Arial"/>
                        </a:rPr>
                        <a:t>Mitigate risks to avoid unintended or harmful results.</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y workplace</a:t>
                      </a:r>
                      <a:endParaRPr b="1"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sion of health services does not lead to an unhealthy work environment for health care staff.</a:t>
                      </a:r>
                      <a:endParaRPr b="1"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600200" y="228600"/>
            <a:ext cx="73152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plication of conceptual framework</a:t>
            </a:r>
            <a:endParaRPr b="1" lang="en-US" sz="3200" spc="-1" strike="noStrike">
              <a:solidFill>
                <a:srgbClr val="ffff00"/>
              </a:solidFill>
              <a:latin typeface="Arial"/>
            </a:endParaRPr>
          </a:p>
        </p:txBody>
      </p:sp>
      <p:graphicFrame>
        <p:nvGraphicFramePr>
          <p:cNvPr id="844" name=""/>
          <p:cNvGraphicFramePr/>
          <p:nvPr/>
        </p:nvGraphicFramePr>
        <p:xfrm>
          <a:off x="76320" y="1447920"/>
          <a:ext cx="8915400" cy="4892400"/>
        </p:xfrm>
        <a:graphic>
          <a:graphicData uri="http://schemas.openxmlformats.org/drawingml/2006/table">
            <a:tbl>
              <a:tblPr/>
              <a:tblGrid>
                <a:gridCol w="1143000"/>
                <a:gridCol w="2286000"/>
                <a:gridCol w="2590560"/>
                <a:gridCol w="2895840"/>
              </a:tblGrid>
              <a:tr h="3373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ucture</a:t>
                      </a:r>
                      <a:endParaRPr b="1"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a:t>
                      </a:r>
                      <a:endParaRPr b="1"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come</a:t>
                      </a:r>
                      <a:endParaRPr b="1"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685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ffective</a:t>
                      </a:r>
                      <a:endParaRPr b="1"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urse staffing and skill mix (RN/total) in ED</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ff"/>
                          </a:solidFill>
                          <a:latin typeface="Arial"/>
                        </a:rPr>
                        <a:t>Aspirin at arrival for AMI (TJC/CMS)</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centage of asthma encounters followed by revisit (or admission to hospital) within 3 days</a:t>
                      </a:r>
                      <a:endParaRPr b="1"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00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ient Centered</a:t>
                      </a:r>
                      <a:endParaRPr b="1"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of survey data in PDSA cycles to improve patient centered care in ED</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centage of patients undergoing painful procedures who have pain score documentation</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ff"/>
                          </a:solidFill>
                          <a:latin typeface="Arial"/>
                        </a:rPr>
                        <a:t>Percentage of patients leaving ED without being seen by a physician (proxy outcome, LSU Health Services)</a:t>
                      </a:r>
                      <a:endParaRPr b="1"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mely</a:t>
                      </a:r>
                      <a:endParaRPr b="1"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D triage policies to ensure timely evaluation of high-acuity patients</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ff"/>
                          </a:solidFill>
                          <a:latin typeface="Arial"/>
                        </a:rPr>
                        <a:t>Median time from ED arrival to ED departure for admitted ED patients (CMS)</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centage of orthopedic pain patients with 3-point reduction in pain score within 60 minutes</a:t>
                      </a:r>
                      <a:endParaRPr b="1"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00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fe</a:t>
                      </a:r>
                      <a:endParaRPr b="1"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uterized physician order entry with decision support tools to detect medication errors</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ff"/>
                          </a:solidFill>
                          <a:latin typeface="Arial"/>
                        </a:rPr>
                        <a:t>Confirmation of endo-tracheal tube placement (Cleveland Clinic Foundation)</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ff"/>
                          </a:solidFill>
                          <a:latin typeface="Arial"/>
                        </a:rPr>
                        <a:t>Death or disability due to air embolism from a medical device (NQF)</a:t>
                      </a:r>
                      <a:endParaRPr b="1"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00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fficient</a:t>
                      </a:r>
                      <a:endParaRPr b="1"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vailability of laboratory and radiologic support to facilitate rapid evaluation and disposition in ED</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centage of low back pain patients with appropriate diagnostic test utilization</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llars per episode of low back pain evaluated in the ED</a:t>
                      </a:r>
                      <a:endParaRPr b="1"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uitable</a:t>
                      </a:r>
                      <a:endParaRPr b="1"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vailability of adequate interpreting services in ED</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centage of non-English speaking patients for whom interpreting services are used</a:t>
                      </a:r>
                      <a:endParaRPr b="1"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rity in any other outcome according to primary language</a:t>
                      </a:r>
                      <a:endParaRPr b="1"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trix of potential indicators</a:t>
            </a:r>
            <a:br>
              <a:rPr sz="3600"/>
            </a:br>
            <a:r>
              <a:rPr b="1" lang="en-US" sz="2800" spc="-1" strike="noStrike">
                <a:solidFill>
                  <a:srgbClr val="ffff00"/>
                </a:solidFill>
                <a:latin typeface="Arial"/>
              </a:rPr>
              <a:t>Inclusion/exclusion criteria</a:t>
            </a:r>
            <a:endParaRPr b="1" lang="en-US" sz="2800" spc="-1" strike="noStrike">
              <a:solidFill>
                <a:srgbClr val="ffff00"/>
              </a:solidFill>
              <a:latin typeface="Arial"/>
            </a:endParaRPr>
          </a:p>
        </p:txBody>
      </p:sp>
      <p:sp>
        <p:nvSpPr>
          <p:cNvPr id="846" name="PlaceHolder 2"/>
          <p:cNvSpPr>
            <a:spLocks noGrp="1"/>
          </p:cNvSpPr>
          <p:nvPr>
            <p:ph/>
          </p:nvPr>
        </p:nvSpPr>
        <p:spPr>
          <a:xfrm>
            <a:off x="304920" y="1523880"/>
            <a:ext cx="8610480" cy="5105520"/>
          </a:xfrm>
          <a:prstGeom prst="rect">
            <a:avLst/>
          </a:prstGeom>
          <a:noFill/>
          <a:ln w="0">
            <a:noFill/>
          </a:ln>
        </p:spPr>
        <p:txBody>
          <a:bodyPr lIns="90360" rIns="90360" tIns="44280" bIns="44280" anchor="t">
            <a:normAutofit/>
          </a:bodyPr>
          <a:p>
            <a:pPr marL="465120" indent="-465120">
              <a:lnSpc>
                <a:spcPct val="85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ied from published source</a:t>
            </a:r>
            <a:endParaRPr b="0" lang="en-US" sz="2000" spc="-1" strike="noStrike">
              <a:solidFill>
                <a:srgbClr val="ffffff"/>
              </a:solidFill>
              <a:latin typeface="Arial"/>
            </a:endParaRPr>
          </a:p>
          <a:p>
            <a:pPr lvl="1" marL="976320" indent="-396720">
              <a:lnSpc>
                <a:spcPct val="85000"/>
              </a:lnSpc>
              <a:spcBef>
                <a:spcPts val="337"/>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erature review (40 journal articles)</a:t>
            </a:r>
            <a:endParaRPr b="0" lang="en-US" sz="1800" spc="-1" strike="noStrike">
              <a:solidFill>
                <a:srgbClr val="ffffff"/>
              </a:solidFill>
              <a:latin typeface="Arial"/>
            </a:endParaRPr>
          </a:p>
          <a:p>
            <a:pPr lvl="1" marL="976320" indent="-396720">
              <a:lnSpc>
                <a:spcPct val="85000"/>
              </a:lnSpc>
              <a:spcBef>
                <a:spcPts val="337"/>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ations and websites (if a consensus-based approach and/or modified Delphi approach was used)</a:t>
            </a:r>
            <a:endParaRPr b="0" lang="en-US" sz="1800" spc="-1" strike="noStrike">
              <a:solidFill>
                <a:srgbClr val="ffffff"/>
              </a:solidFill>
              <a:latin typeface="Arial"/>
            </a:endParaRPr>
          </a:p>
          <a:p>
            <a:pPr lvl="1" marL="976320" indent="-396720">
              <a:lnSpc>
                <a:spcPct val="85000"/>
              </a:lnSpc>
              <a:spcBef>
                <a:spcPts val="337"/>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 review by Alessandrini et al. for PECARN</a:t>
            </a:r>
            <a:endParaRPr b="0" lang="en-US" sz="1800" spc="-1" strike="noStrike">
              <a:solidFill>
                <a:srgbClr val="ffffff"/>
              </a:solidFill>
              <a:latin typeface="Arial"/>
            </a:endParaRPr>
          </a:p>
          <a:p>
            <a:pPr marL="465120" indent="-465120">
              <a:lnSpc>
                <a:spcPct val="85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 the domains of effectiveness and/or safety</a:t>
            </a:r>
            <a:endParaRPr b="0" lang="en-US" sz="2000" spc="-1" strike="noStrike">
              <a:solidFill>
                <a:srgbClr val="ffffff"/>
              </a:solidFill>
              <a:latin typeface="Arial"/>
            </a:endParaRPr>
          </a:p>
          <a:p>
            <a:pPr lvl="1" marL="976320" indent="-396720">
              <a:lnSpc>
                <a:spcPct val="85000"/>
              </a:lnSpc>
              <a:spcBef>
                <a:spcPts val="337"/>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measures of timeliness were included because the measure developer characterized them as having implications for safety in the ED </a:t>
            </a:r>
            <a:endParaRPr b="0" lang="en-US" sz="1800" spc="-1" strike="noStrike">
              <a:solidFill>
                <a:srgbClr val="ffffff"/>
              </a:solidFill>
              <a:latin typeface="Arial"/>
            </a:endParaRPr>
          </a:p>
          <a:p>
            <a:pPr marL="465120" indent="-465120">
              <a:lnSpc>
                <a:spcPct val="85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 on care provided within the ED (not pre-hospital care)</a:t>
            </a:r>
            <a:endParaRPr b="0" lang="en-US" sz="2000" spc="-1" strike="noStrike">
              <a:solidFill>
                <a:srgbClr val="ffffff"/>
              </a:solidFill>
              <a:latin typeface="Arial"/>
            </a:endParaRPr>
          </a:p>
          <a:p>
            <a:pPr marL="465120" indent="-465120">
              <a:lnSpc>
                <a:spcPct val="85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nical guidelines, standards of care, and ED decision rules were not  included unless operationalized as indicators</a:t>
            </a:r>
            <a:endParaRPr b="0" lang="en-US" sz="2000" spc="-1" strike="noStrike">
              <a:solidFill>
                <a:srgbClr val="ffffff"/>
              </a:solidFill>
              <a:latin typeface="Arial"/>
            </a:endParaRPr>
          </a:p>
          <a:p>
            <a:pPr marL="465120" indent="-465120">
              <a:lnSpc>
                <a:spcPct val="85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implemented in at least one HCUP partner state using available HCUP data </a:t>
            </a:r>
            <a:endParaRPr b="0" lang="en-US" sz="2000" spc="-1" strike="noStrike">
              <a:solidFill>
                <a:srgbClr val="ffffff"/>
              </a:solidFill>
              <a:latin typeface="Arial"/>
            </a:endParaRPr>
          </a:p>
          <a:p>
            <a:pPr marL="465120" indent="-465120">
              <a:lnSpc>
                <a:spcPct val="85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t>
            </a:r>
            <a:r>
              <a:rPr b="0" lang="en-US" sz="2000" spc="-1" strike="noStrike">
                <a:solidFill>
                  <a:srgbClr val="ffffff"/>
                </a:solidFill>
                <a:latin typeface="Arial"/>
                <a:ea typeface="Arial"/>
              </a:rPr>
              <a:t>≥2</a:t>
            </a:r>
            <a:r>
              <a:rPr b="0" lang="en-US" sz="2000" spc="-1" strike="noStrike">
                <a:solidFill>
                  <a:srgbClr val="ffffff"/>
                </a:solidFill>
                <a:latin typeface="Arial"/>
              </a:rPr>
              <a:t> indicators appeared to address the same outcome, only the more recent and/or more clearly specified indicator was retained </a:t>
            </a:r>
            <a:endParaRPr b="0" lang="en-US" sz="2000" spc="-1" strike="noStrike">
              <a:solidFill>
                <a:srgbClr val="ffffff"/>
              </a:solidFill>
              <a:latin typeface="Arial"/>
            </a:endParaRPr>
          </a:p>
          <a:p>
            <a:pPr marL="465120" indent="-465120">
              <a:lnSpc>
                <a:spcPct val="85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s that were evaluated and discarded or rejected through a consensus-based expert panel process were not includ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view</a:t>
            </a:r>
            <a:endParaRPr b="1" lang="en-US" sz="4000" spc="-1" strike="noStrike">
              <a:solidFill>
                <a:srgbClr val="ffff00"/>
              </a:solidFill>
              <a:latin typeface="Arial"/>
            </a:endParaRPr>
          </a:p>
        </p:txBody>
      </p:sp>
      <p:sp>
        <p:nvSpPr>
          <p:cNvPr id="183" name="PlaceHolder 2"/>
          <p:cNvSpPr>
            <a:spLocks noGrp="1"/>
          </p:cNvSpPr>
          <p:nvPr>
            <p:ph/>
          </p:nvPr>
        </p:nvSpPr>
        <p:spPr>
          <a:xfrm>
            <a:off x="304920" y="1676520"/>
            <a:ext cx="8610480" cy="36576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UP and the AHRQ Quality Indicator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 and scope of current project</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ture review</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tual framework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rix of potential indicator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ation and testing</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step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trix of potential indicators</a:t>
            </a:r>
            <a:br>
              <a:rPr sz="3600"/>
            </a:br>
            <a:r>
              <a:rPr b="1" lang="en-US" sz="2800" spc="-1" strike="noStrike">
                <a:solidFill>
                  <a:srgbClr val="ffff00"/>
                </a:solidFill>
                <a:latin typeface="Arial"/>
              </a:rPr>
              <a:t>Application of existing inpatient PSIs</a:t>
            </a:r>
            <a:endParaRPr b="1" lang="en-US" sz="2800" spc="-1" strike="noStrike">
              <a:solidFill>
                <a:srgbClr val="ffff00"/>
              </a:solidFill>
              <a:latin typeface="Arial"/>
            </a:endParaRPr>
          </a:p>
        </p:txBody>
      </p:sp>
      <p:sp>
        <p:nvSpPr>
          <p:cNvPr id="848" name="PlaceHolder 2"/>
          <p:cNvSpPr>
            <a:spLocks noGrp="1"/>
          </p:cNvSpPr>
          <p:nvPr>
            <p:ph/>
          </p:nvPr>
        </p:nvSpPr>
        <p:spPr>
          <a:xfrm>
            <a:off x="304920" y="1523880"/>
            <a:ext cx="8610480" cy="510552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eign body left in</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rogenic pneumothorax</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ostoperative” hip fracture</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ostoperative” hemorrhage or hematoma</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idental puncture or laceration</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usion reaction</a:t>
            </a:r>
            <a:endParaRPr b="0" lang="en-US" sz="2400" spc="-1" strike="noStrike">
              <a:solidFill>
                <a:srgbClr val="ffffff"/>
              </a:solidFill>
              <a:latin typeface="Arial"/>
            </a:endParaRPr>
          </a:p>
          <a:p>
            <a:pPr marL="465120" indent="-465120">
              <a:lnSpc>
                <a:spcPct val="90000"/>
              </a:lnSpc>
              <a:spcBef>
                <a:spcPts val="18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critical problem is timing</a:t>
            </a:r>
            <a:endParaRPr b="0" lang="en-US" sz="24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5 states (GA, MA, MN, NJ, TN) have POA in SEDD; only MA and TN also have PNUM</a:t>
            </a:r>
            <a:endParaRPr b="0" lang="en-US" sz="20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SID, POA means “present at the time the order for inpatient admission occurs” (i.e., after some period of ED treatment)</a:t>
            </a:r>
            <a:endParaRPr b="0" lang="en-US" sz="20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 diagnoses are “lost” in SID when patient admitted to same hospi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trix of potential indicators</a:t>
            </a:r>
            <a:br>
              <a:rPr sz="3600"/>
            </a:br>
            <a:r>
              <a:rPr b="1" lang="en-US" sz="2800" spc="-1" strike="noStrike">
                <a:solidFill>
                  <a:srgbClr val="ffff00"/>
                </a:solidFill>
                <a:latin typeface="Arial"/>
              </a:rPr>
              <a:t>35 new candidate indicators</a:t>
            </a:r>
            <a:endParaRPr b="1" lang="en-US" sz="2800" spc="-1" strike="noStrike">
              <a:solidFill>
                <a:srgbClr val="ffff00"/>
              </a:solidFill>
              <a:latin typeface="Arial"/>
            </a:endParaRPr>
          </a:p>
        </p:txBody>
      </p:sp>
      <p:sp>
        <p:nvSpPr>
          <p:cNvPr id="850" name="PlaceHolder 2"/>
          <p:cNvSpPr>
            <a:spLocks noGrp="1"/>
          </p:cNvSpPr>
          <p:nvPr>
            <p:ph/>
          </p:nvPr>
        </p:nvSpPr>
        <p:spPr>
          <a:xfrm>
            <a:off x="228240" y="1523880"/>
            <a:ext cx="8915400" cy="5029200"/>
          </a:xfrm>
          <a:prstGeom prst="rect">
            <a:avLst/>
          </a:prstGeom>
          <a:noFill/>
          <a:ln w="0">
            <a:noFill/>
          </a:ln>
        </p:spPr>
        <p:txBody>
          <a:bodyPr lIns="90360" rIns="90360" tIns="44280" bIns="44280" anchor="t">
            <a:normAutofit/>
          </a:bodyPr>
          <a:p>
            <a:pPr marL="465120" indent="-465120">
              <a:lnSpc>
                <a:spcPct val="85000"/>
              </a:lnSpc>
              <a:spcBef>
                <a:spcPts val="2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 range</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for children only</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for adults only</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 for both children and adults</a:t>
            </a:r>
            <a:endParaRPr b="0" lang="en-US" sz="2000" spc="-1" strike="noStrike">
              <a:solidFill>
                <a:srgbClr val="ffffff"/>
              </a:solidFill>
              <a:latin typeface="Arial"/>
            </a:endParaRPr>
          </a:p>
          <a:p>
            <a:pPr marL="465120" indent="-465120">
              <a:lnSpc>
                <a:spcPct val="85000"/>
              </a:lnSpc>
              <a:spcBef>
                <a:spcPts val="2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nabedian’s typology</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 process</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 outcome (or proxy outcome such as revisit)</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hybrid (“missed serious diagnosis”)</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patient experience or health risk behavior (“left AMA”)</a:t>
            </a:r>
            <a:endParaRPr b="0" lang="en-US" sz="2000" spc="-1" strike="noStrike">
              <a:solidFill>
                <a:srgbClr val="ffffff"/>
              </a:solidFill>
              <a:latin typeface="Arial"/>
            </a:endParaRPr>
          </a:p>
          <a:p>
            <a:pPr marL="465120" indent="-465120">
              <a:lnSpc>
                <a:spcPct val="85000"/>
              </a:lnSpc>
              <a:spcBef>
                <a:spcPts val="2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r(s)</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 Institute for Clinical Evaluative Sciences, specified in ICD-10-CA</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CEP and/or PCPI</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CMS</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other organizations</a:t>
            </a:r>
            <a:endParaRPr b="0" lang="en-US" sz="2000" spc="-1" strike="noStrike">
              <a:solidFill>
                <a:srgbClr val="ffffff"/>
              </a:solidFill>
              <a:latin typeface="Arial"/>
            </a:endParaRPr>
          </a:p>
          <a:p>
            <a:pPr lvl="1" marL="976320" indent="-396720">
              <a:lnSpc>
                <a:spcPct val="85000"/>
              </a:lnSpc>
              <a:spcBef>
                <a:spcPts val="2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researchers</a:t>
            </a:r>
            <a:endParaRPr b="0" lang="en-US" sz="2000" spc="-1" strike="noStrike">
              <a:solidFill>
                <a:srgbClr val="ffffff"/>
              </a:solidFill>
              <a:latin typeface="Arial"/>
            </a:endParaRPr>
          </a:p>
          <a:p>
            <a:pPr marL="465120" indent="-465120">
              <a:lnSpc>
                <a:spcPct val="80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dorsement - 6 endorsed by NQ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trix of potential indicators</a:t>
            </a:r>
            <a:br>
              <a:rPr sz="3600"/>
            </a:br>
            <a:r>
              <a:rPr b="1" lang="en-US" sz="2800" spc="-1" strike="noStrike">
                <a:solidFill>
                  <a:srgbClr val="ffff00"/>
                </a:solidFill>
                <a:latin typeface="Arial"/>
              </a:rPr>
              <a:t>35 new candidate indicators</a:t>
            </a:r>
            <a:endParaRPr b="1" lang="en-US" sz="2800" spc="-1" strike="noStrike">
              <a:solidFill>
                <a:srgbClr val="ffff00"/>
              </a:solidFill>
              <a:latin typeface="Arial"/>
            </a:endParaRPr>
          </a:p>
        </p:txBody>
      </p:sp>
      <p:sp>
        <p:nvSpPr>
          <p:cNvPr id="852" name="PlaceHolder 2"/>
          <p:cNvSpPr>
            <a:spLocks noGrp="1"/>
          </p:cNvSpPr>
          <p:nvPr>
            <p:ph/>
          </p:nvPr>
        </p:nvSpPr>
        <p:spPr>
          <a:xfrm>
            <a:off x="304920" y="1523880"/>
            <a:ext cx="8610480" cy="5029200"/>
          </a:xfrm>
          <a:prstGeom prst="rect">
            <a:avLst/>
          </a:prstGeom>
          <a:noFill/>
          <a:ln w="0">
            <a:noFill/>
          </a:ln>
        </p:spPr>
        <p:txBody>
          <a:bodyPr lIns="90360" rIns="90360" tIns="44280" bIns="44280" anchor="t">
            <a:normAutofit/>
          </a:bodyPr>
          <a:p>
            <a:pPr marL="465120" indent="-465120">
              <a:lnSpc>
                <a:spcPct val="85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sits - 13</a:t>
            </a:r>
            <a:endParaRPr b="0" lang="en-US" sz="2400" spc="-1" strike="noStrike">
              <a:solidFill>
                <a:srgbClr val="ffffff"/>
              </a:solidFill>
              <a:latin typeface="Arial"/>
            </a:endParaRPr>
          </a:p>
          <a:p>
            <a:pPr lvl="1" marL="976320" indent="-396720">
              <a:lnSpc>
                <a:spcPct val="85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within 24 hours (1 specified as 24 hrs or 72 hrs)</a:t>
            </a:r>
            <a:endParaRPr b="0" lang="en-US" sz="2000" spc="-1" strike="noStrike">
              <a:solidFill>
                <a:srgbClr val="ffffff"/>
              </a:solidFill>
              <a:latin typeface="Arial"/>
            </a:endParaRPr>
          </a:p>
          <a:p>
            <a:pPr lvl="1" marL="976320" indent="-396720">
              <a:lnSpc>
                <a:spcPct val="85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within 48 hours (2 specified as 48 hrs or 72 hrs)</a:t>
            </a:r>
            <a:endParaRPr b="0" lang="en-US" sz="2000" spc="-1" strike="noStrike">
              <a:solidFill>
                <a:srgbClr val="ffffff"/>
              </a:solidFill>
              <a:latin typeface="Arial"/>
            </a:endParaRPr>
          </a:p>
          <a:p>
            <a:pPr lvl="1" marL="976320" indent="-396720">
              <a:lnSpc>
                <a:spcPct val="85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within 72 hours (1 specified as 72 hrs or 1 week)</a:t>
            </a:r>
            <a:endParaRPr b="0" lang="en-US" sz="2000" spc="-1" strike="noStrike">
              <a:solidFill>
                <a:srgbClr val="ffffff"/>
              </a:solidFill>
              <a:latin typeface="Arial"/>
            </a:endParaRPr>
          </a:p>
          <a:p>
            <a:pPr marL="465120" indent="-465120">
              <a:lnSpc>
                <a:spcPct val="85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ed serious diagnoses - 7</a:t>
            </a:r>
            <a:endParaRPr b="0" lang="en-US" sz="2400" spc="-1" strike="noStrike">
              <a:solidFill>
                <a:srgbClr val="ffffff"/>
              </a:solidFill>
              <a:latin typeface="Arial"/>
            </a:endParaRPr>
          </a:p>
          <a:p>
            <a:pPr lvl="1" marL="976320" indent="-396720">
              <a:lnSpc>
                <a:spcPct val="85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unanticipated death within 7 days following ED care</a:t>
            </a:r>
            <a:endParaRPr b="0" lang="en-US" sz="2000" spc="-1" strike="noStrike">
              <a:solidFill>
                <a:srgbClr val="ffffff"/>
              </a:solidFill>
              <a:latin typeface="Arial"/>
            </a:endParaRPr>
          </a:p>
          <a:p>
            <a:pPr lvl="1" marL="976320" indent="-396720">
              <a:lnSpc>
                <a:spcPct val="85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admission for missed diagnosis (AMI/ACS, SAH, ectopic pregnancy, traumatic injury, appendicitis)</a:t>
            </a:r>
            <a:endParaRPr b="0" lang="en-US" sz="2000" spc="-1" strike="noStrike">
              <a:solidFill>
                <a:srgbClr val="ffffff"/>
              </a:solidFill>
              <a:latin typeface="Arial"/>
            </a:endParaRPr>
          </a:p>
          <a:p>
            <a:pPr marL="465120" indent="-465120">
              <a:lnSpc>
                <a:spcPct val="85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priate use of diagnostic test or imaging – 5</a:t>
            </a:r>
            <a:endParaRPr b="0" lang="en-US" sz="2400" spc="-1" strike="noStrike">
              <a:solidFill>
                <a:srgbClr val="ffffff"/>
              </a:solidFill>
              <a:latin typeface="Arial"/>
            </a:endParaRPr>
          </a:p>
          <a:p>
            <a:pPr marL="465120" indent="-465120">
              <a:lnSpc>
                <a:spcPct val="85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 complications of ED procedures – 3</a:t>
            </a:r>
            <a:endParaRPr b="0" lang="en-US" sz="2400" spc="-1" strike="noStrike">
              <a:solidFill>
                <a:srgbClr val="ffffff"/>
              </a:solidFill>
              <a:latin typeface="Arial"/>
            </a:endParaRPr>
          </a:p>
          <a:p>
            <a:pPr marL="465120" indent="-465120">
              <a:lnSpc>
                <a:spcPct val="85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within ED awaiting definitive care – 3</a:t>
            </a:r>
            <a:endParaRPr b="0" lang="en-US" sz="2400" spc="-1" strike="noStrike">
              <a:solidFill>
                <a:srgbClr val="ffffff"/>
              </a:solidFill>
              <a:latin typeface="Arial"/>
            </a:endParaRPr>
          </a:p>
          <a:p>
            <a:pPr marL="465120" indent="-465120">
              <a:lnSpc>
                <a:spcPct val="85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priate admission for inpatient care – 2</a:t>
            </a:r>
            <a:endParaRPr b="0" lang="en-US" sz="2400" spc="-1" strike="noStrike">
              <a:solidFill>
                <a:srgbClr val="ffffff"/>
              </a:solidFill>
              <a:latin typeface="Arial"/>
            </a:endParaRPr>
          </a:p>
          <a:p>
            <a:pPr marL="465120" indent="-465120">
              <a:lnSpc>
                <a:spcPct val="85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priate use of treatment or intervention – 1</a:t>
            </a:r>
            <a:endParaRPr b="0" lang="en-US" sz="2400" spc="-1" strike="noStrike">
              <a:solidFill>
                <a:srgbClr val="ffffff"/>
              </a:solidFill>
              <a:latin typeface="Arial"/>
            </a:endParaRPr>
          </a:p>
          <a:p>
            <a:pPr marL="465120" indent="-465120">
              <a:lnSpc>
                <a:spcPct val="85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ft “against medical advice” –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hallenges in specification and testing</a:t>
            </a:r>
            <a:endParaRPr b="1" lang="en-US" sz="3000" spc="-1" strike="noStrike">
              <a:solidFill>
                <a:srgbClr val="ffff00"/>
              </a:solidFill>
              <a:latin typeface="Arial"/>
            </a:endParaRPr>
          </a:p>
        </p:txBody>
      </p:sp>
      <p:sp>
        <p:nvSpPr>
          <p:cNvPr id="854" name="PlaceHolder 2"/>
          <p:cNvSpPr>
            <a:spLocks noGrp="1"/>
          </p:cNvSpPr>
          <p:nvPr>
            <p:ph/>
          </p:nvPr>
        </p:nvSpPr>
        <p:spPr>
          <a:xfrm>
            <a:off x="304920" y="1523880"/>
            <a:ext cx="8610480" cy="502920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cation of patients “at risk”</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rocedures place patients at risk for hemorrhage or accidental puncture/laceration?</a:t>
            </a:r>
            <a:endParaRPr b="0" lang="en-US" sz="24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ing </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the fall occur prior to ED arrival, in ED, or later?</a:t>
            </a:r>
            <a:endParaRPr b="0" lang="en-US" sz="24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requency with “true” frequency unknown</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able to choose “best” specification</a:t>
            </a:r>
            <a:endParaRPr b="0" lang="en-US" sz="24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utilization flag variables to identify patients who had specific procedures </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ltrasound, ECG, CT scan, transfusion</a:t>
            </a:r>
            <a:endParaRPr b="0" lang="en-US" sz="24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able to operationalize all specifications</a:t>
            </a:r>
            <a:endParaRPr b="0" lang="en-US" sz="28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lusion of “planned” (or “invited”) return visits to ED</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presenting symptoms for “missed diagno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ture steps</a:t>
            </a:r>
            <a:endParaRPr b="1" lang="en-US" sz="3600" spc="-1" strike="noStrike">
              <a:solidFill>
                <a:srgbClr val="ffff00"/>
              </a:solidFill>
              <a:latin typeface="Arial"/>
            </a:endParaRPr>
          </a:p>
        </p:txBody>
      </p:sp>
      <p:sp>
        <p:nvSpPr>
          <p:cNvPr id="856" name="PlaceHolder 2"/>
          <p:cNvSpPr>
            <a:spLocks noGrp="1"/>
          </p:cNvSpPr>
          <p:nvPr>
            <p:ph/>
          </p:nvPr>
        </p:nvSpPr>
        <p:spPr>
          <a:xfrm>
            <a:off x="304920" y="1600200"/>
            <a:ext cx="8610480" cy="502920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testing of adapted inpatient PSIs</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ize 23 candidate indicators applicable to adults to select 7-12 for full specification and testing </a:t>
            </a:r>
            <a:endParaRPr b="0" lang="en-US" sz="24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nominator inclusion/exclusion rules</a:t>
            </a:r>
            <a:endParaRPr b="0" lang="en-US" sz="2000" spc="-1" strike="noStrike">
              <a:solidFill>
                <a:srgbClr val="ffffff"/>
              </a:solidFill>
              <a:latin typeface="Arial"/>
            </a:endParaRPr>
          </a:p>
          <a:p>
            <a:pPr lvl="1" marL="976320" indent="-396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erator definition</a:t>
            </a:r>
            <a:endParaRPr b="0" lang="en-US" sz="20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 face validity based on empirical analyses of HCUP data from 9 states</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 5-7 indicators for review and feedback by an external “work group” with a diverse set of stakeholders</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l evaluation by expert panels through a modified Delphi panel process?</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ease of new module of ED P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cknowledgments</a:t>
            </a:r>
            <a:endParaRPr b="1" lang="en-US" sz="3600" spc="-1" strike="noStrike">
              <a:solidFill>
                <a:srgbClr val="ffff00"/>
              </a:solidFill>
              <a:latin typeface="Arial"/>
            </a:endParaRPr>
          </a:p>
        </p:txBody>
      </p:sp>
      <p:sp>
        <p:nvSpPr>
          <p:cNvPr id="858" name="PlaceHolder 2"/>
          <p:cNvSpPr>
            <a:spLocks noGrp="1"/>
          </p:cNvSpPr>
          <p:nvPr>
            <p:ph/>
          </p:nvPr>
        </p:nvSpPr>
        <p:spPr>
          <a:xfrm>
            <a:off x="304920" y="1523880"/>
            <a:ext cx="8610480" cy="5105520"/>
          </a:xfrm>
          <a:prstGeom prst="rect">
            <a:avLst/>
          </a:prstGeom>
          <a:noFill/>
          <a:ln w="0">
            <a:noFill/>
          </a:ln>
        </p:spPr>
        <p:txBody>
          <a:bodyPr lIns="90360" rIns="90360" tIns="44280" bIns="44280" anchor="t">
            <a:normAutofit/>
          </a:bodyPr>
          <a:p>
            <a:pPr marL="465120" indent="-465120">
              <a:lnSpc>
                <a:spcPct val="85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C Davis team</a:t>
            </a:r>
            <a:endParaRPr b="0" lang="en-US" sz="2400" spc="-1" strike="noStrike">
              <a:solidFill>
                <a:srgbClr val="ffffff"/>
              </a:solidFill>
              <a:latin typeface="Arial"/>
            </a:endParaRPr>
          </a:p>
          <a:p>
            <a:pPr lvl="1" marL="976320" indent="-396720">
              <a:lnSpc>
                <a:spcPct val="85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afsheh Sadeghi (epidemiologist)</a:t>
            </a:r>
            <a:endParaRPr b="0" lang="en-US" sz="2000" spc="-1" strike="noStrike">
              <a:solidFill>
                <a:srgbClr val="ffffff"/>
              </a:solidFill>
              <a:latin typeface="Arial"/>
            </a:endParaRPr>
          </a:p>
          <a:p>
            <a:pPr lvl="1" marL="976320" indent="-396720">
              <a:lnSpc>
                <a:spcPct val="85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vid Barnes and Aaron Bair (emergency physicians)</a:t>
            </a:r>
            <a:endParaRPr b="0" lang="en-US" sz="2000" spc="-1" strike="noStrike">
              <a:solidFill>
                <a:srgbClr val="ffffff"/>
              </a:solidFill>
              <a:latin typeface="Arial"/>
            </a:endParaRPr>
          </a:p>
          <a:p>
            <a:pPr lvl="1" marL="976320" indent="-396720">
              <a:lnSpc>
                <a:spcPct val="85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un Jiang and Daniel Tancredi (programming and analysis)</a:t>
            </a:r>
            <a:endParaRPr b="0" lang="en-US" sz="2000" spc="-1" strike="noStrike">
              <a:solidFill>
                <a:srgbClr val="ffffff"/>
              </a:solidFill>
              <a:latin typeface="Arial"/>
            </a:endParaRPr>
          </a:p>
          <a:p>
            <a:pPr marL="465120" indent="-465120">
              <a:lnSpc>
                <a:spcPct val="85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advisors</a:t>
            </a:r>
            <a:endParaRPr b="0" lang="en-US" sz="2400" spc="-1" strike="noStrike">
              <a:solidFill>
                <a:srgbClr val="ffffff"/>
              </a:solidFill>
              <a:latin typeface="Arial"/>
            </a:endParaRPr>
          </a:p>
          <a:p>
            <a:pPr lvl="1" marL="976320" indent="-396720">
              <a:lnSpc>
                <a:spcPct val="85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sse Pines (GWU), Michael Phelan (Cleveland Clinic), Emily Carrier (HSC), Evaline Alessandrini (CCHMC), Astrid Guttmann (ICES), Jeremiah Schuur (Brigham &amp; Women’s)</a:t>
            </a:r>
            <a:endParaRPr b="0" lang="en-US" sz="2000" spc="-1" strike="noStrike">
              <a:solidFill>
                <a:srgbClr val="ffffff"/>
              </a:solidFill>
              <a:latin typeface="Arial"/>
            </a:endParaRPr>
          </a:p>
          <a:p>
            <a:pPr marL="465120" indent="-465120">
              <a:lnSpc>
                <a:spcPct val="85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CDOM staff</a:t>
            </a:r>
            <a:endParaRPr b="0" lang="en-US" sz="2400" spc="-1" strike="noStrike">
              <a:solidFill>
                <a:srgbClr val="ffffff"/>
              </a:solidFill>
              <a:latin typeface="Arial"/>
            </a:endParaRPr>
          </a:p>
          <a:p>
            <a:pPr lvl="1" marL="976320" indent="-396720">
              <a:lnSpc>
                <a:spcPct val="85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mela Owens and Ryan Mutter (ED task)</a:t>
            </a:r>
            <a:endParaRPr b="0" lang="en-US" sz="2000" spc="-1" strike="noStrike">
              <a:solidFill>
                <a:srgbClr val="ffffff"/>
              </a:solidFill>
              <a:latin typeface="Arial"/>
            </a:endParaRPr>
          </a:p>
          <a:p>
            <a:pPr lvl="1" marL="976320" indent="-396720">
              <a:lnSpc>
                <a:spcPct val="85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matha Pancholi and John Bott (QI program)</a:t>
            </a:r>
            <a:endParaRPr b="0" lang="en-US" sz="2000" spc="-1" strike="noStrike">
              <a:solidFill>
                <a:srgbClr val="ffffff"/>
              </a:solidFill>
              <a:latin typeface="Arial"/>
            </a:endParaRPr>
          </a:p>
          <a:p>
            <a:pPr lvl="1" marL="976320" indent="-396720">
              <a:lnSpc>
                <a:spcPct val="85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nny Schnaier and Carol Stocks (HCUP)</a:t>
            </a:r>
            <a:endParaRPr b="0" lang="en-US" sz="2000" spc="-1" strike="noStrike">
              <a:solidFill>
                <a:srgbClr val="ffffff"/>
              </a:solidFill>
              <a:latin typeface="Arial"/>
            </a:endParaRPr>
          </a:p>
          <a:p>
            <a:pPr marL="465120" indent="-465120">
              <a:lnSpc>
                <a:spcPct val="85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UP partners</a:t>
            </a:r>
            <a:endParaRPr b="0" lang="en-US" sz="2400" spc="-1" strike="noStrike">
              <a:solidFill>
                <a:srgbClr val="ffffff"/>
              </a:solidFill>
              <a:latin typeface="Arial"/>
            </a:endParaRPr>
          </a:p>
          <a:p>
            <a:pPr lvl="1" marL="976320" indent="-396720">
              <a:lnSpc>
                <a:spcPct val="85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izona, California, Florida, Hawaii, Indiana, Nebraska, South Carolina, Tennessee, Uta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2590920" y="1295280"/>
            <a:ext cx="45720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85" name="Text Box 4"/>
          <p:cNvSpPr/>
          <p:nvPr/>
        </p:nvSpPr>
        <p:spPr>
          <a:xfrm>
            <a:off x="7391520" y="3429000"/>
            <a:ext cx="1600200" cy="2114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 states</a:t>
            </a:r>
            <a:endParaRPr b="1"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0% of all discharges</a:t>
            </a:r>
            <a:endParaRPr b="1"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 states submit ED encounters</a:t>
            </a:r>
            <a:endParaRPr b="1" lang="en-US" sz="2000" spc="-1" strike="noStrike">
              <a:solidFill>
                <a:srgbClr val="ffffff"/>
              </a:solidFill>
              <a:latin typeface="Times New Roman"/>
            </a:endParaRPr>
          </a:p>
        </p:txBody>
      </p:sp>
      <p:pic>
        <p:nvPicPr>
          <p:cNvPr id="186" name="Picture 5" descr=""/>
          <p:cNvPicPr/>
          <p:nvPr/>
        </p:nvPicPr>
        <p:blipFill>
          <a:blip r:embed="rId1"/>
          <a:srcRect l="8859" t="18764" r="10001" b="9619"/>
          <a:stretch/>
        </p:blipFill>
        <p:spPr>
          <a:xfrm>
            <a:off x="0" y="1371600"/>
            <a:ext cx="7391520" cy="5257800"/>
          </a:xfrm>
          <a:prstGeom prst="rect">
            <a:avLst/>
          </a:prstGeom>
          <a:ln w="0">
            <a:noFill/>
          </a:ln>
        </p:spPr>
      </p:pic>
      <p:sp>
        <p:nvSpPr>
          <p:cNvPr id="187" name="Rectangle 6"/>
          <p:cNvSpPr/>
          <p:nvPr/>
        </p:nvSpPr>
        <p:spPr>
          <a:xfrm rot="460200">
            <a:off x="2057400" y="2361960"/>
            <a:ext cx="763560" cy="615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188" name="Text Box 7"/>
          <p:cNvSpPr/>
          <p:nvPr/>
        </p:nvSpPr>
        <p:spPr>
          <a:xfrm>
            <a:off x="2209680" y="259092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Y</a:t>
            </a:r>
            <a:endParaRPr b="1" lang="en-US" sz="1000" spc="-1" strike="noStrike">
              <a:solidFill>
                <a:srgbClr val="ffffff"/>
              </a:solidFill>
              <a:latin typeface="Times New Roman"/>
            </a:endParaRPr>
          </a:p>
        </p:txBody>
      </p:sp>
      <p:sp>
        <p:nvSpPr>
          <p:cNvPr id="189"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HCUP Partnership: A Voluntary Federal-State-Private Collaboration</a:t>
            </a:r>
            <a:endParaRPr b="1" lang="en-US" sz="28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1"/>
          <p:cNvSpPr/>
          <p:nvPr/>
        </p:nvSpPr>
        <p:spPr>
          <a:xfrm>
            <a:off x="304920" y="6400800"/>
            <a:ext cx="574560" cy="2286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26521-FD1B-48D6-91EF-6CE3ED175C7C}"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grpSp>
        <p:nvGrpSpPr>
          <p:cNvPr id="191" name="Group 1298"/>
          <p:cNvGrpSpPr/>
          <p:nvPr/>
        </p:nvGrpSpPr>
        <p:grpSpPr>
          <a:xfrm>
            <a:off x="2666880" y="4495680"/>
            <a:ext cx="3428640" cy="1295640"/>
            <a:chOff x="2666880" y="4495680"/>
            <a:chExt cx="3428640" cy="1295640"/>
          </a:xfrm>
        </p:grpSpPr>
        <p:sp>
          <p:nvSpPr>
            <p:cNvPr id="192" name="Freeform 1299"/>
            <p:cNvSpPr/>
            <p:nvPr/>
          </p:nvSpPr>
          <p:spPr>
            <a:xfrm>
              <a:off x="5511600" y="4658760"/>
              <a:ext cx="249120" cy="308520"/>
            </a:xfrm>
            <a:custGeom>
              <a:avLst/>
              <a:gdLst>
                <a:gd name="textAreaLeft" fmla="*/ 0 w 249120"/>
                <a:gd name="textAreaRight" fmla="*/ 249480 w 249120"/>
                <a:gd name="textAreaTop" fmla="*/ 0 h 308520"/>
                <a:gd name="textAreaBottom" fmla="*/ 308880 h 308520"/>
              </a:gdLst>
              <a:ahLst/>
              <a:rect l="textAreaLeft" t="textAreaTop" r="textAreaRight" b="textAreaBottom"/>
              <a:pathLst>
                <a:path w="1383" h="2042">
                  <a:moveTo>
                    <a:pt x="1220" y="0"/>
                  </a:moveTo>
                  <a:lnTo>
                    <a:pt x="1237" y="6"/>
                  </a:lnTo>
                  <a:lnTo>
                    <a:pt x="1250" y="11"/>
                  </a:lnTo>
                  <a:lnTo>
                    <a:pt x="1260" y="18"/>
                  </a:lnTo>
                  <a:lnTo>
                    <a:pt x="1267" y="24"/>
                  </a:lnTo>
                  <a:lnTo>
                    <a:pt x="1270" y="27"/>
                  </a:lnTo>
                  <a:lnTo>
                    <a:pt x="1272" y="30"/>
                  </a:lnTo>
                  <a:lnTo>
                    <a:pt x="1272" y="34"/>
                  </a:lnTo>
                  <a:lnTo>
                    <a:pt x="1272" y="36"/>
                  </a:lnTo>
                  <a:lnTo>
                    <a:pt x="1272" y="39"/>
                  </a:lnTo>
                  <a:lnTo>
                    <a:pt x="1270" y="43"/>
                  </a:lnTo>
                  <a:lnTo>
                    <a:pt x="1267" y="46"/>
                  </a:lnTo>
                  <a:lnTo>
                    <a:pt x="1264" y="49"/>
                  </a:lnTo>
                  <a:lnTo>
                    <a:pt x="1253" y="56"/>
                  </a:lnTo>
                  <a:lnTo>
                    <a:pt x="1239" y="63"/>
                  </a:lnTo>
                  <a:lnTo>
                    <a:pt x="1220" y="70"/>
                  </a:lnTo>
                  <a:lnTo>
                    <a:pt x="1198" y="77"/>
                  </a:lnTo>
                  <a:lnTo>
                    <a:pt x="1173" y="85"/>
                  </a:lnTo>
                  <a:lnTo>
                    <a:pt x="1141" y="93"/>
                  </a:lnTo>
                  <a:lnTo>
                    <a:pt x="1106" y="101"/>
                  </a:lnTo>
                  <a:lnTo>
                    <a:pt x="1065" y="110"/>
                  </a:lnTo>
                  <a:lnTo>
                    <a:pt x="1039" y="117"/>
                  </a:lnTo>
                  <a:lnTo>
                    <a:pt x="1016" y="124"/>
                  </a:lnTo>
                  <a:lnTo>
                    <a:pt x="1007" y="128"/>
                  </a:lnTo>
                  <a:lnTo>
                    <a:pt x="997" y="133"/>
                  </a:lnTo>
                  <a:lnTo>
                    <a:pt x="989" y="138"/>
                  </a:lnTo>
                  <a:lnTo>
                    <a:pt x="982" y="142"/>
                  </a:lnTo>
                  <a:lnTo>
                    <a:pt x="976" y="148"/>
                  </a:lnTo>
                  <a:lnTo>
                    <a:pt x="970" y="154"/>
                  </a:lnTo>
                  <a:lnTo>
                    <a:pt x="965" y="159"/>
                  </a:lnTo>
                  <a:lnTo>
                    <a:pt x="961" y="164"/>
                  </a:lnTo>
                  <a:lnTo>
                    <a:pt x="954" y="176"/>
                  </a:lnTo>
                  <a:lnTo>
                    <a:pt x="951" y="188"/>
                  </a:lnTo>
                  <a:lnTo>
                    <a:pt x="948" y="199"/>
                  </a:lnTo>
                  <a:lnTo>
                    <a:pt x="948" y="211"/>
                  </a:lnTo>
                  <a:lnTo>
                    <a:pt x="949" y="223"/>
                  </a:lnTo>
                  <a:lnTo>
                    <a:pt x="953" y="235"/>
                  </a:lnTo>
                  <a:lnTo>
                    <a:pt x="956" y="245"/>
                  </a:lnTo>
                  <a:lnTo>
                    <a:pt x="962" y="254"/>
                  </a:lnTo>
                  <a:lnTo>
                    <a:pt x="967" y="264"/>
                  </a:lnTo>
                  <a:lnTo>
                    <a:pt x="973" y="271"/>
                  </a:lnTo>
                  <a:lnTo>
                    <a:pt x="977" y="278"/>
                  </a:lnTo>
                  <a:lnTo>
                    <a:pt x="981" y="285"/>
                  </a:lnTo>
                  <a:lnTo>
                    <a:pt x="982" y="292"/>
                  </a:lnTo>
                  <a:lnTo>
                    <a:pt x="982" y="298"/>
                  </a:lnTo>
                  <a:lnTo>
                    <a:pt x="981" y="305"/>
                  </a:lnTo>
                  <a:lnTo>
                    <a:pt x="979" y="312"/>
                  </a:lnTo>
                  <a:lnTo>
                    <a:pt x="974" y="319"/>
                  </a:lnTo>
                  <a:lnTo>
                    <a:pt x="969" y="326"/>
                  </a:lnTo>
                  <a:lnTo>
                    <a:pt x="958" y="341"/>
                  </a:lnTo>
                  <a:lnTo>
                    <a:pt x="944" y="355"/>
                  </a:lnTo>
                  <a:lnTo>
                    <a:pt x="927" y="369"/>
                  </a:lnTo>
                  <a:lnTo>
                    <a:pt x="910" y="384"/>
                  </a:lnTo>
                  <a:lnTo>
                    <a:pt x="893" y="398"/>
                  </a:lnTo>
                  <a:lnTo>
                    <a:pt x="877" y="412"/>
                  </a:lnTo>
                  <a:lnTo>
                    <a:pt x="863" y="427"/>
                  </a:lnTo>
                  <a:lnTo>
                    <a:pt x="851" y="441"/>
                  </a:lnTo>
                  <a:lnTo>
                    <a:pt x="847" y="448"/>
                  </a:lnTo>
                  <a:lnTo>
                    <a:pt x="843" y="455"/>
                  </a:lnTo>
                  <a:lnTo>
                    <a:pt x="841" y="462"/>
                  </a:lnTo>
                  <a:lnTo>
                    <a:pt x="840" y="470"/>
                  </a:lnTo>
                  <a:lnTo>
                    <a:pt x="840" y="477"/>
                  </a:lnTo>
                  <a:lnTo>
                    <a:pt x="842" y="484"/>
                  </a:lnTo>
                  <a:lnTo>
                    <a:pt x="844" y="491"/>
                  </a:lnTo>
                  <a:lnTo>
                    <a:pt x="849" y="499"/>
                  </a:lnTo>
                  <a:lnTo>
                    <a:pt x="870" y="503"/>
                  </a:lnTo>
                  <a:lnTo>
                    <a:pt x="889" y="508"/>
                  </a:lnTo>
                  <a:lnTo>
                    <a:pt x="904" y="513"/>
                  </a:lnTo>
                  <a:lnTo>
                    <a:pt x="918" y="518"/>
                  </a:lnTo>
                  <a:lnTo>
                    <a:pt x="930" y="524"/>
                  </a:lnTo>
                  <a:lnTo>
                    <a:pt x="940" y="530"/>
                  </a:lnTo>
                  <a:lnTo>
                    <a:pt x="948" y="537"/>
                  </a:lnTo>
                  <a:lnTo>
                    <a:pt x="954" y="544"/>
                  </a:lnTo>
                  <a:lnTo>
                    <a:pt x="958" y="551"/>
                  </a:lnTo>
                  <a:lnTo>
                    <a:pt x="961" y="559"/>
                  </a:lnTo>
                  <a:lnTo>
                    <a:pt x="961" y="567"/>
                  </a:lnTo>
                  <a:lnTo>
                    <a:pt x="960" y="577"/>
                  </a:lnTo>
                  <a:lnTo>
                    <a:pt x="958" y="586"/>
                  </a:lnTo>
                  <a:lnTo>
                    <a:pt x="954" y="597"/>
                  </a:lnTo>
                  <a:lnTo>
                    <a:pt x="948" y="608"/>
                  </a:lnTo>
                  <a:lnTo>
                    <a:pt x="941" y="619"/>
                  </a:lnTo>
                  <a:lnTo>
                    <a:pt x="963" y="618"/>
                  </a:lnTo>
                  <a:lnTo>
                    <a:pt x="982" y="619"/>
                  </a:lnTo>
                  <a:lnTo>
                    <a:pt x="999" y="621"/>
                  </a:lnTo>
                  <a:lnTo>
                    <a:pt x="1013" y="626"/>
                  </a:lnTo>
                  <a:lnTo>
                    <a:pt x="1024" y="630"/>
                  </a:lnTo>
                  <a:lnTo>
                    <a:pt x="1036" y="638"/>
                  </a:lnTo>
                  <a:lnTo>
                    <a:pt x="1045" y="645"/>
                  </a:lnTo>
                  <a:lnTo>
                    <a:pt x="1055" y="653"/>
                  </a:lnTo>
                  <a:lnTo>
                    <a:pt x="1072" y="669"/>
                  </a:lnTo>
                  <a:lnTo>
                    <a:pt x="1091" y="683"/>
                  </a:lnTo>
                  <a:lnTo>
                    <a:pt x="1101" y="689"/>
                  </a:lnTo>
                  <a:lnTo>
                    <a:pt x="1113" y="694"/>
                  </a:lnTo>
                  <a:lnTo>
                    <a:pt x="1127" y="696"/>
                  </a:lnTo>
                  <a:lnTo>
                    <a:pt x="1143" y="697"/>
                  </a:lnTo>
                  <a:lnTo>
                    <a:pt x="1160" y="697"/>
                  </a:lnTo>
                  <a:lnTo>
                    <a:pt x="1176" y="695"/>
                  </a:lnTo>
                  <a:lnTo>
                    <a:pt x="1190" y="692"/>
                  </a:lnTo>
                  <a:lnTo>
                    <a:pt x="1205" y="690"/>
                  </a:lnTo>
                  <a:lnTo>
                    <a:pt x="1231" y="682"/>
                  </a:lnTo>
                  <a:lnTo>
                    <a:pt x="1254" y="674"/>
                  </a:lnTo>
                  <a:lnTo>
                    <a:pt x="1278" y="666"/>
                  </a:lnTo>
                  <a:lnTo>
                    <a:pt x="1300" y="659"/>
                  </a:lnTo>
                  <a:lnTo>
                    <a:pt x="1310" y="655"/>
                  </a:lnTo>
                  <a:lnTo>
                    <a:pt x="1322" y="653"/>
                  </a:lnTo>
                  <a:lnTo>
                    <a:pt x="1333" y="652"/>
                  </a:lnTo>
                  <a:lnTo>
                    <a:pt x="1345" y="652"/>
                  </a:lnTo>
                  <a:lnTo>
                    <a:pt x="1354" y="652"/>
                  </a:lnTo>
                  <a:lnTo>
                    <a:pt x="1361" y="654"/>
                  </a:lnTo>
                  <a:lnTo>
                    <a:pt x="1364" y="657"/>
                  </a:lnTo>
                  <a:lnTo>
                    <a:pt x="1366" y="662"/>
                  </a:lnTo>
                  <a:lnTo>
                    <a:pt x="1368" y="669"/>
                  </a:lnTo>
                  <a:lnTo>
                    <a:pt x="1368" y="676"/>
                  </a:lnTo>
                  <a:lnTo>
                    <a:pt x="1366" y="684"/>
                  </a:lnTo>
                  <a:lnTo>
                    <a:pt x="1365" y="692"/>
                  </a:lnTo>
                  <a:lnTo>
                    <a:pt x="1362" y="711"/>
                  </a:lnTo>
                  <a:lnTo>
                    <a:pt x="1361" y="732"/>
                  </a:lnTo>
                  <a:lnTo>
                    <a:pt x="1362" y="743"/>
                  </a:lnTo>
                  <a:lnTo>
                    <a:pt x="1365" y="754"/>
                  </a:lnTo>
                  <a:lnTo>
                    <a:pt x="1370" y="765"/>
                  </a:lnTo>
                  <a:lnTo>
                    <a:pt x="1377" y="775"/>
                  </a:lnTo>
                  <a:lnTo>
                    <a:pt x="1379" y="779"/>
                  </a:lnTo>
                  <a:lnTo>
                    <a:pt x="1382" y="782"/>
                  </a:lnTo>
                  <a:lnTo>
                    <a:pt x="1382" y="786"/>
                  </a:lnTo>
                  <a:lnTo>
                    <a:pt x="1383" y="789"/>
                  </a:lnTo>
                  <a:lnTo>
                    <a:pt x="1382" y="793"/>
                  </a:lnTo>
                  <a:lnTo>
                    <a:pt x="1380" y="796"/>
                  </a:lnTo>
                  <a:lnTo>
                    <a:pt x="1378" y="800"/>
                  </a:lnTo>
                  <a:lnTo>
                    <a:pt x="1376" y="802"/>
                  </a:lnTo>
                  <a:lnTo>
                    <a:pt x="1369" y="808"/>
                  </a:lnTo>
                  <a:lnTo>
                    <a:pt x="1359" y="814"/>
                  </a:lnTo>
                  <a:lnTo>
                    <a:pt x="1348" y="819"/>
                  </a:lnTo>
                  <a:lnTo>
                    <a:pt x="1336" y="823"/>
                  </a:lnTo>
                  <a:lnTo>
                    <a:pt x="1309" y="831"/>
                  </a:lnTo>
                  <a:lnTo>
                    <a:pt x="1281" y="838"/>
                  </a:lnTo>
                  <a:lnTo>
                    <a:pt x="1257" y="844"/>
                  </a:lnTo>
                  <a:lnTo>
                    <a:pt x="1236" y="850"/>
                  </a:lnTo>
                  <a:lnTo>
                    <a:pt x="1202" y="854"/>
                  </a:lnTo>
                  <a:lnTo>
                    <a:pt x="1171" y="857"/>
                  </a:lnTo>
                  <a:lnTo>
                    <a:pt x="1142" y="862"/>
                  </a:lnTo>
                  <a:lnTo>
                    <a:pt x="1114" y="868"/>
                  </a:lnTo>
                  <a:lnTo>
                    <a:pt x="1087" y="873"/>
                  </a:lnTo>
                  <a:lnTo>
                    <a:pt x="1063" y="879"/>
                  </a:lnTo>
                  <a:lnTo>
                    <a:pt x="1038" y="886"/>
                  </a:lnTo>
                  <a:lnTo>
                    <a:pt x="1014" y="893"/>
                  </a:lnTo>
                  <a:lnTo>
                    <a:pt x="966" y="908"/>
                  </a:lnTo>
                  <a:lnTo>
                    <a:pt x="917" y="925"/>
                  </a:lnTo>
                  <a:lnTo>
                    <a:pt x="863" y="942"/>
                  </a:lnTo>
                  <a:lnTo>
                    <a:pt x="803" y="959"/>
                  </a:lnTo>
                  <a:lnTo>
                    <a:pt x="806" y="966"/>
                  </a:lnTo>
                  <a:lnTo>
                    <a:pt x="807" y="973"/>
                  </a:lnTo>
                  <a:lnTo>
                    <a:pt x="807" y="980"/>
                  </a:lnTo>
                  <a:lnTo>
                    <a:pt x="806" y="986"/>
                  </a:lnTo>
                  <a:lnTo>
                    <a:pt x="803" y="993"/>
                  </a:lnTo>
                  <a:lnTo>
                    <a:pt x="801" y="998"/>
                  </a:lnTo>
                  <a:lnTo>
                    <a:pt x="796" y="1004"/>
                  </a:lnTo>
                  <a:lnTo>
                    <a:pt x="792" y="1009"/>
                  </a:lnTo>
                  <a:lnTo>
                    <a:pt x="781" y="1019"/>
                  </a:lnTo>
                  <a:lnTo>
                    <a:pt x="767" y="1028"/>
                  </a:lnTo>
                  <a:lnTo>
                    <a:pt x="752" y="1036"/>
                  </a:lnTo>
                  <a:lnTo>
                    <a:pt x="736" y="1043"/>
                  </a:lnTo>
                  <a:lnTo>
                    <a:pt x="719" y="1049"/>
                  </a:lnTo>
                  <a:lnTo>
                    <a:pt x="703" y="1055"/>
                  </a:lnTo>
                  <a:lnTo>
                    <a:pt x="688" y="1059"/>
                  </a:lnTo>
                  <a:lnTo>
                    <a:pt x="674" y="1063"/>
                  </a:lnTo>
                  <a:lnTo>
                    <a:pt x="653" y="1067"/>
                  </a:lnTo>
                  <a:lnTo>
                    <a:pt x="645" y="1069"/>
                  </a:lnTo>
                  <a:lnTo>
                    <a:pt x="849" y="1285"/>
                  </a:lnTo>
                  <a:lnTo>
                    <a:pt x="849" y="1422"/>
                  </a:lnTo>
                  <a:lnTo>
                    <a:pt x="828" y="1419"/>
                  </a:lnTo>
                  <a:lnTo>
                    <a:pt x="807" y="1415"/>
                  </a:lnTo>
                  <a:lnTo>
                    <a:pt x="787" y="1414"/>
                  </a:lnTo>
                  <a:lnTo>
                    <a:pt x="767" y="1412"/>
                  </a:lnTo>
                  <a:lnTo>
                    <a:pt x="750" y="1412"/>
                  </a:lnTo>
                  <a:lnTo>
                    <a:pt x="731" y="1412"/>
                  </a:lnTo>
                  <a:lnTo>
                    <a:pt x="715" y="1413"/>
                  </a:lnTo>
                  <a:lnTo>
                    <a:pt x="699" y="1414"/>
                  </a:lnTo>
                  <a:lnTo>
                    <a:pt x="684" y="1417"/>
                  </a:lnTo>
                  <a:lnTo>
                    <a:pt x="671" y="1419"/>
                  </a:lnTo>
                  <a:lnTo>
                    <a:pt x="660" y="1422"/>
                  </a:lnTo>
                  <a:lnTo>
                    <a:pt x="649" y="1426"/>
                  </a:lnTo>
                  <a:lnTo>
                    <a:pt x="640" y="1431"/>
                  </a:lnTo>
                  <a:lnTo>
                    <a:pt x="632" y="1435"/>
                  </a:lnTo>
                  <a:lnTo>
                    <a:pt x="626" y="1440"/>
                  </a:lnTo>
                  <a:lnTo>
                    <a:pt x="622" y="1446"/>
                  </a:lnTo>
                  <a:lnTo>
                    <a:pt x="620" y="1452"/>
                  </a:lnTo>
                  <a:lnTo>
                    <a:pt x="620" y="1457"/>
                  </a:lnTo>
                  <a:lnTo>
                    <a:pt x="621" y="1464"/>
                  </a:lnTo>
                  <a:lnTo>
                    <a:pt x="625" y="1472"/>
                  </a:lnTo>
                  <a:lnTo>
                    <a:pt x="631" y="1479"/>
                  </a:lnTo>
                  <a:lnTo>
                    <a:pt x="639" y="1486"/>
                  </a:lnTo>
                  <a:lnTo>
                    <a:pt x="649" y="1493"/>
                  </a:lnTo>
                  <a:lnTo>
                    <a:pt x="663" y="1501"/>
                  </a:lnTo>
                  <a:lnTo>
                    <a:pt x="678" y="1508"/>
                  </a:lnTo>
                  <a:lnTo>
                    <a:pt x="696" y="1516"/>
                  </a:lnTo>
                  <a:lnTo>
                    <a:pt x="717" y="1523"/>
                  </a:lnTo>
                  <a:lnTo>
                    <a:pt x="740" y="1531"/>
                  </a:lnTo>
                  <a:lnTo>
                    <a:pt x="767" y="1538"/>
                  </a:lnTo>
                  <a:lnTo>
                    <a:pt x="796" y="1546"/>
                  </a:lnTo>
                  <a:lnTo>
                    <a:pt x="828" y="1553"/>
                  </a:lnTo>
                  <a:lnTo>
                    <a:pt x="864" y="1561"/>
                  </a:lnTo>
                  <a:lnTo>
                    <a:pt x="878" y="1564"/>
                  </a:lnTo>
                  <a:lnTo>
                    <a:pt x="890" y="1567"/>
                  </a:lnTo>
                  <a:lnTo>
                    <a:pt x="902" y="1572"/>
                  </a:lnTo>
                  <a:lnTo>
                    <a:pt x="912" y="1575"/>
                  </a:lnTo>
                  <a:lnTo>
                    <a:pt x="921" y="1580"/>
                  </a:lnTo>
                  <a:lnTo>
                    <a:pt x="928" y="1585"/>
                  </a:lnTo>
                  <a:lnTo>
                    <a:pt x="935" y="1589"/>
                  </a:lnTo>
                  <a:lnTo>
                    <a:pt x="941" y="1594"/>
                  </a:lnTo>
                  <a:lnTo>
                    <a:pt x="947" y="1599"/>
                  </a:lnTo>
                  <a:lnTo>
                    <a:pt x="951" y="1604"/>
                  </a:lnTo>
                  <a:lnTo>
                    <a:pt x="954" y="1609"/>
                  </a:lnTo>
                  <a:lnTo>
                    <a:pt x="956" y="1614"/>
                  </a:lnTo>
                  <a:lnTo>
                    <a:pt x="960" y="1625"/>
                  </a:lnTo>
                  <a:lnTo>
                    <a:pt x="961" y="1635"/>
                  </a:lnTo>
                  <a:lnTo>
                    <a:pt x="960" y="1644"/>
                  </a:lnTo>
                  <a:lnTo>
                    <a:pt x="958" y="1654"/>
                  </a:lnTo>
                  <a:lnTo>
                    <a:pt x="955" y="1663"/>
                  </a:lnTo>
                  <a:lnTo>
                    <a:pt x="952" y="1670"/>
                  </a:lnTo>
                  <a:lnTo>
                    <a:pt x="945" y="1681"/>
                  </a:lnTo>
                  <a:lnTo>
                    <a:pt x="941" y="1685"/>
                  </a:lnTo>
                  <a:lnTo>
                    <a:pt x="942" y="1695"/>
                  </a:lnTo>
                  <a:lnTo>
                    <a:pt x="945" y="1704"/>
                  </a:lnTo>
                  <a:lnTo>
                    <a:pt x="948" y="1713"/>
                  </a:lnTo>
                  <a:lnTo>
                    <a:pt x="954" y="1721"/>
                  </a:lnTo>
                  <a:lnTo>
                    <a:pt x="966" y="1738"/>
                  </a:lnTo>
                  <a:lnTo>
                    <a:pt x="981" y="1754"/>
                  </a:lnTo>
                  <a:lnTo>
                    <a:pt x="995" y="1769"/>
                  </a:lnTo>
                  <a:lnTo>
                    <a:pt x="1007" y="1786"/>
                  </a:lnTo>
                  <a:lnTo>
                    <a:pt x="1013" y="1795"/>
                  </a:lnTo>
                  <a:lnTo>
                    <a:pt x="1016" y="1803"/>
                  </a:lnTo>
                  <a:lnTo>
                    <a:pt x="1018" y="1814"/>
                  </a:lnTo>
                  <a:lnTo>
                    <a:pt x="1020" y="1823"/>
                  </a:lnTo>
                  <a:lnTo>
                    <a:pt x="1020" y="1841"/>
                  </a:lnTo>
                  <a:lnTo>
                    <a:pt x="1022" y="1856"/>
                  </a:lnTo>
                  <a:lnTo>
                    <a:pt x="1025" y="1870"/>
                  </a:lnTo>
                  <a:lnTo>
                    <a:pt x="1029" y="1884"/>
                  </a:lnTo>
                  <a:lnTo>
                    <a:pt x="1038" y="1907"/>
                  </a:lnTo>
                  <a:lnTo>
                    <a:pt x="1049" y="1931"/>
                  </a:lnTo>
                  <a:lnTo>
                    <a:pt x="1053" y="1942"/>
                  </a:lnTo>
                  <a:lnTo>
                    <a:pt x="1058" y="1954"/>
                  </a:lnTo>
                  <a:lnTo>
                    <a:pt x="1063" y="1966"/>
                  </a:lnTo>
                  <a:lnTo>
                    <a:pt x="1065" y="1978"/>
                  </a:lnTo>
                  <a:lnTo>
                    <a:pt x="1067" y="1992"/>
                  </a:lnTo>
                  <a:lnTo>
                    <a:pt x="1069" y="2008"/>
                  </a:lnTo>
                  <a:lnTo>
                    <a:pt x="1067" y="2024"/>
                  </a:lnTo>
                  <a:lnTo>
                    <a:pt x="1065" y="2042"/>
                  </a:lnTo>
                  <a:lnTo>
                    <a:pt x="1053" y="2037"/>
                  </a:lnTo>
                  <a:lnTo>
                    <a:pt x="1043" y="2031"/>
                  </a:lnTo>
                  <a:lnTo>
                    <a:pt x="1031" y="2024"/>
                  </a:lnTo>
                  <a:lnTo>
                    <a:pt x="1021" y="2016"/>
                  </a:lnTo>
                  <a:lnTo>
                    <a:pt x="1010" y="2006"/>
                  </a:lnTo>
                  <a:lnTo>
                    <a:pt x="1000" y="1997"/>
                  </a:lnTo>
                  <a:lnTo>
                    <a:pt x="989" y="1987"/>
                  </a:lnTo>
                  <a:lnTo>
                    <a:pt x="980" y="1975"/>
                  </a:lnTo>
                  <a:lnTo>
                    <a:pt x="960" y="1952"/>
                  </a:lnTo>
                  <a:lnTo>
                    <a:pt x="941" y="1927"/>
                  </a:lnTo>
                  <a:lnTo>
                    <a:pt x="924" y="1901"/>
                  </a:lnTo>
                  <a:lnTo>
                    <a:pt x="905" y="1874"/>
                  </a:lnTo>
                  <a:lnTo>
                    <a:pt x="872" y="1824"/>
                  </a:lnTo>
                  <a:lnTo>
                    <a:pt x="841" y="1780"/>
                  </a:lnTo>
                  <a:lnTo>
                    <a:pt x="824" y="1762"/>
                  </a:lnTo>
                  <a:lnTo>
                    <a:pt x="809" y="1747"/>
                  </a:lnTo>
                  <a:lnTo>
                    <a:pt x="802" y="1741"/>
                  </a:lnTo>
                  <a:lnTo>
                    <a:pt x="795" y="1737"/>
                  </a:lnTo>
                  <a:lnTo>
                    <a:pt x="787" y="1733"/>
                  </a:lnTo>
                  <a:lnTo>
                    <a:pt x="780" y="1731"/>
                  </a:lnTo>
                  <a:lnTo>
                    <a:pt x="725" y="1748"/>
                  </a:lnTo>
                  <a:lnTo>
                    <a:pt x="524" y="1575"/>
                  </a:lnTo>
                  <a:lnTo>
                    <a:pt x="507" y="1581"/>
                  </a:lnTo>
                  <a:lnTo>
                    <a:pt x="492" y="1587"/>
                  </a:lnTo>
                  <a:lnTo>
                    <a:pt x="476" y="1593"/>
                  </a:lnTo>
                  <a:lnTo>
                    <a:pt x="462" y="1600"/>
                  </a:lnTo>
                  <a:lnTo>
                    <a:pt x="450" y="1607"/>
                  </a:lnTo>
                  <a:lnTo>
                    <a:pt x="438" y="1614"/>
                  </a:lnTo>
                  <a:lnTo>
                    <a:pt x="428" y="1621"/>
                  </a:lnTo>
                  <a:lnTo>
                    <a:pt x="419" y="1627"/>
                  </a:lnTo>
                  <a:lnTo>
                    <a:pt x="411" y="1634"/>
                  </a:lnTo>
                  <a:lnTo>
                    <a:pt x="405" y="1641"/>
                  </a:lnTo>
                  <a:lnTo>
                    <a:pt x="400" y="1647"/>
                  </a:lnTo>
                  <a:lnTo>
                    <a:pt x="397" y="1653"/>
                  </a:lnTo>
                  <a:lnTo>
                    <a:pt x="395" y="1657"/>
                  </a:lnTo>
                  <a:lnTo>
                    <a:pt x="395" y="1663"/>
                  </a:lnTo>
                  <a:lnTo>
                    <a:pt x="397" y="1667"/>
                  </a:lnTo>
                  <a:lnTo>
                    <a:pt x="400" y="1670"/>
                  </a:lnTo>
                  <a:lnTo>
                    <a:pt x="438" y="1700"/>
                  </a:lnTo>
                  <a:lnTo>
                    <a:pt x="478" y="1731"/>
                  </a:lnTo>
                  <a:lnTo>
                    <a:pt x="520" y="1761"/>
                  </a:lnTo>
                  <a:lnTo>
                    <a:pt x="562" y="1790"/>
                  </a:lnTo>
                  <a:lnTo>
                    <a:pt x="604" y="1818"/>
                  </a:lnTo>
                  <a:lnTo>
                    <a:pt x="643" y="1844"/>
                  </a:lnTo>
                  <a:lnTo>
                    <a:pt x="680" y="1867"/>
                  </a:lnTo>
                  <a:lnTo>
                    <a:pt x="711" y="1886"/>
                  </a:lnTo>
                  <a:lnTo>
                    <a:pt x="0" y="1886"/>
                  </a:lnTo>
                  <a:lnTo>
                    <a:pt x="0" y="0"/>
                  </a:lnTo>
                  <a:lnTo>
                    <a:pt x="122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93" name="Freeform 1300"/>
            <p:cNvSpPr/>
            <p:nvPr/>
          </p:nvSpPr>
          <p:spPr>
            <a:xfrm>
              <a:off x="4524120" y="5484600"/>
              <a:ext cx="150840" cy="85320"/>
            </a:xfrm>
            <a:custGeom>
              <a:avLst/>
              <a:gdLst>
                <a:gd name="textAreaLeft" fmla="*/ 0 w 150840"/>
                <a:gd name="textAreaRight" fmla="*/ 151200 w 150840"/>
                <a:gd name="textAreaTop" fmla="*/ 0 h 85320"/>
                <a:gd name="textAreaBottom" fmla="*/ 85680 h 85320"/>
              </a:gdLst>
              <a:ahLst/>
              <a:rect l="textAreaLeft" t="textAreaTop" r="textAreaRight" b="textAreaBottom"/>
              <a:pathLst>
                <a:path w="841" h="565">
                  <a:moveTo>
                    <a:pt x="0" y="565"/>
                  </a:moveTo>
                  <a:lnTo>
                    <a:pt x="22" y="537"/>
                  </a:lnTo>
                  <a:lnTo>
                    <a:pt x="45" y="510"/>
                  </a:lnTo>
                  <a:lnTo>
                    <a:pt x="67" y="484"/>
                  </a:lnTo>
                  <a:lnTo>
                    <a:pt x="90" y="459"/>
                  </a:lnTo>
                  <a:lnTo>
                    <a:pt x="136" y="410"/>
                  </a:lnTo>
                  <a:lnTo>
                    <a:pt x="180" y="365"/>
                  </a:lnTo>
                  <a:lnTo>
                    <a:pt x="223" y="326"/>
                  </a:lnTo>
                  <a:lnTo>
                    <a:pt x="263" y="292"/>
                  </a:lnTo>
                  <a:lnTo>
                    <a:pt x="282" y="276"/>
                  </a:lnTo>
                  <a:lnTo>
                    <a:pt x="299" y="262"/>
                  </a:lnTo>
                  <a:lnTo>
                    <a:pt x="317" y="252"/>
                  </a:lnTo>
                  <a:lnTo>
                    <a:pt x="332" y="241"/>
                  </a:lnTo>
                  <a:lnTo>
                    <a:pt x="371" y="220"/>
                  </a:lnTo>
                  <a:lnTo>
                    <a:pt x="422" y="195"/>
                  </a:lnTo>
                  <a:lnTo>
                    <a:pt x="483" y="167"/>
                  </a:lnTo>
                  <a:lnTo>
                    <a:pt x="550" y="136"/>
                  </a:lnTo>
                  <a:lnTo>
                    <a:pt x="623" y="104"/>
                  </a:lnTo>
                  <a:lnTo>
                    <a:pt x="698" y="70"/>
                  </a:lnTo>
                  <a:lnTo>
                    <a:pt x="771" y="35"/>
                  </a:lnTo>
                  <a:lnTo>
                    <a:pt x="841" y="0"/>
                  </a:lnTo>
                  <a:lnTo>
                    <a:pt x="0" y="565"/>
                  </a:lnTo>
                  <a:close/>
                </a:path>
              </a:pathLst>
            </a:custGeom>
            <a:solidFill>
              <a:srgbClr val="93d5ed"/>
            </a:solidFill>
            <a:ln w="9360">
              <a:solidFill>
                <a:srgbClr val="ccecff"/>
              </a:solidFill>
              <a:round/>
            </a:ln>
          </p:spPr>
          <p:style>
            <a:lnRef idx="0"/>
            <a:fillRef idx="0"/>
            <a:effectRef idx="0"/>
            <a:fontRef idx="minor"/>
          </p:style>
          <p:txBody>
            <a:bodyPr lIns="90000" rIns="90000" tIns="38880" bIns="38880" anchor="t">
              <a:noAutofit/>
            </a:bodyPr>
            <a:p>
              <a:endParaRPr b="1" lang="en-US" sz="2400" spc="-1" strike="noStrike">
                <a:solidFill>
                  <a:srgbClr val="ffffff"/>
                </a:solidFill>
                <a:latin typeface="Times New Roman"/>
              </a:endParaRPr>
            </a:p>
          </p:txBody>
        </p:sp>
        <p:sp>
          <p:nvSpPr>
            <p:cNvPr id="194" name="Freeform 1301"/>
            <p:cNvSpPr/>
            <p:nvPr/>
          </p:nvSpPr>
          <p:spPr>
            <a:xfrm>
              <a:off x="4524120" y="5484600"/>
              <a:ext cx="150840" cy="85320"/>
            </a:xfrm>
            <a:custGeom>
              <a:avLst/>
              <a:gdLst>
                <a:gd name="textAreaLeft" fmla="*/ 0 w 150840"/>
                <a:gd name="textAreaRight" fmla="*/ 151200 w 150840"/>
                <a:gd name="textAreaTop" fmla="*/ 0 h 85320"/>
                <a:gd name="textAreaBottom" fmla="*/ 85680 h 85320"/>
              </a:gdLst>
              <a:ahLst/>
              <a:rect l="textAreaLeft" t="textAreaTop" r="textAreaRight" b="textAreaBottom"/>
              <a:pathLst>
                <a:path w="841" h="565">
                  <a:moveTo>
                    <a:pt x="0" y="565"/>
                  </a:moveTo>
                  <a:lnTo>
                    <a:pt x="22" y="537"/>
                  </a:lnTo>
                  <a:lnTo>
                    <a:pt x="45" y="510"/>
                  </a:lnTo>
                  <a:lnTo>
                    <a:pt x="67" y="484"/>
                  </a:lnTo>
                  <a:lnTo>
                    <a:pt x="90" y="459"/>
                  </a:lnTo>
                  <a:lnTo>
                    <a:pt x="136" y="410"/>
                  </a:lnTo>
                  <a:lnTo>
                    <a:pt x="180" y="365"/>
                  </a:lnTo>
                  <a:lnTo>
                    <a:pt x="223" y="326"/>
                  </a:lnTo>
                  <a:lnTo>
                    <a:pt x="263" y="292"/>
                  </a:lnTo>
                  <a:lnTo>
                    <a:pt x="282" y="276"/>
                  </a:lnTo>
                  <a:lnTo>
                    <a:pt x="299" y="262"/>
                  </a:lnTo>
                  <a:lnTo>
                    <a:pt x="317" y="252"/>
                  </a:lnTo>
                  <a:lnTo>
                    <a:pt x="332" y="241"/>
                  </a:lnTo>
                  <a:lnTo>
                    <a:pt x="371" y="220"/>
                  </a:lnTo>
                  <a:lnTo>
                    <a:pt x="422" y="195"/>
                  </a:lnTo>
                  <a:lnTo>
                    <a:pt x="483" y="167"/>
                  </a:lnTo>
                  <a:lnTo>
                    <a:pt x="550" y="136"/>
                  </a:lnTo>
                  <a:lnTo>
                    <a:pt x="623" y="104"/>
                  </a:lnTo>
                  <a:lnTo>
                    <a:pt x="698" y="70"/>
                  </a:lnTo>
                  <a:lnTo>
                    <a:pt x="771" y="35"/>
                  </a:lnTo>
                  <a:lnTo>
                    <a:pt x="841" y="0"/>
                  </a:lnTo>
                </a:path>
              </a:pathLst>
            </a:custGeom>
            <a:solidFill>
              <a:srgbClr val="93d5ed"/>
            </a:solidFill>
            <a:ln w="9360">
              <a:solidFill>
                <a:srgbClr val="ccecff"/>
              </a:solidFill>
              <a:round/>
            </a:ln>
          </p:spPr>
          <p:style>
            <a:lnRef idx="0"/>
            <a:fillRef idx="0"/>
            <a:effectRef idx="0"/>
            <a:fontRef idx="minor"/>
          </p:style>
          <p:txBody>
            <a:bodyPr lIns="90000" rIns="90000" tIns="38880" bIns="38880" anchor="t">
              <a:noAutofit/>
            </a:bodyPr>
            <a:p>
              <a:endParaRPr b="1" lang="en-US" sz="2400" spc="-1" strike="noStrike">
                <a:solidFill>
                  <a:srgbClr val="ffffff"/>
                </a:solidFill>
                <a:latin typeface="Times New Roman"/>
              </a:endParaRPr>
            </a:p>
          </p:txBody>
        </p:sp>
        <p:sp>
          <p:nvSpPr>
            <p:cNvPr id="195" name="Freeform 1302"/>
            <p:cNvSpPr/>
            <p:nvPr/>
          </p:nvSpPr>
          <p:spPr>
            <a:xfrm>
              <a:off x="5622840" y="5371200"/>
              <a:ext cx="108360" cy="97560"/>
            </a:xfrm>
            <a:custGeom>
              <a:avLst/>
              <a:gdLst>
                <a:gd name="textAreaLeft" fmla="*/ 0 w 108360"/>
                <a:gd name="textAreaRight" fmla="*/ 108720 w 108360"/>
                <a:gd name="textAreaTop" fmla="*/ 0 h 97560"/>
                <a:gd name="textAreaBottom" fmla="*/ 97920 h 97560"/>
              </a:gdLst>
              <a:ahLst/>
              <a:rect l="textAreaLeft" t="textAreaTop" r="textAreaRight" b="textAreaBottom"/>
              <a:pathLst>
                <a:path w="605" h="646">
                  <a:moveTo>
                    <a:pt x="0" y="0"/>
                  </a:moveTo>
                  <a:lnTo>
                    <a:pt x="277" y="0"/>
                  </a:lnTo>
                  <a:lnTo>
                    <a:pt x="274" y="9"/>
                  </a:lnTo>
                  <a:lnTo>
                    <a:pt x="273" y="20"/>
                  </a:lnTo>
                  <a:lnTo>
                    <a:pt x="273" y="31"/>
                  </a:lnTo>
                  <a:lnTo>
                    <a:pt x="274" y="43"/>
                  </a:lnTo>
                  <a:lnTo>
                    <a:pt x="277" y="56"/>
                  </a:lnTo>
                  <a:lnTo>
                    <a:pt x="279" y="71"/>
                  </a:lnTo>
                  <a:lnTo>
                    <a:pt x="284" y="86"/>
                  </a:lnTo>
                  <a:lnTo>
                    <a:pt x="288" y="102"/>
                  </a:lnTo>
                  <a:lnTo>
                    <a:pt x="300" y="137"/>
                  </a:lnTo>
                  <a:lnTo>
                    <a:pt x="316" y="174"/>
                  </a:lnTo>
                  <a:lnTo>
                    <a:pt x="335" y="214"/>
                  </a:lnTo>
                  <a:lnTo>
                    <a:pt x="356" y="256"/>
                  </a:lnTo>
                  <a:lnTo>
                    <a:pt x="381" y="300"/>
                  </a:lnTo>
                  <a:lnTo>
                    <a:pt x="408" y="347"/>
                  </a:lnTo>
                  <a:lnTo>
                    <a:pt x="436" y="395"/>
                  </a:lnTo>
                  <a:lnTo>
                    <a:pt x="467" y="444"/>
                  </a:lnTo>
                  <a:lnTo>
                    <a:pt x="500" y="493"/>
                  </a:lnTo>
                  <a:lnTo>
                    <a:pt x="534" y="543"/>
                  </a:lnTo>
                  <a:lnTo>
                    <a:pt x="569" y="594"/>
                  </a:lnTo>
                  <a:lnTo>
                    <a:pt x="605" y="646"/>
                  </a:lnTo>
                  <a:lnTo>
                    <a:pt x="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96" name="Freeform 1303"/>
            <p:cNvSpPr/>
            <p:nvPr/>
          </p:nvSpPr>
          <p:spPr>
            <a:xfrm>
              <a:off x="5622840" y="5371200"/>
              <a:ext cx="108360" cy="97560"/>
            </a:xfrm>
            <a:custGeom>
              <a:avLst/>
              <a:gdLst>
                <a:gd name="textAreaLeft" fmla="*/ 0 w 108360"/>
                <a:gd name="textAreaRight" fmla="*/ 108720 w 108360"/>
                <a:gd name="textAreaTop" fmla="*/ 0 h 97560"/>
                <a:gd name="textAreaBottom" fmla="*/ 97920 h 97560"/>
              </a:gdLst>
              <a:ahLst/>
              <a:rect l="textAreaLeft" t="textAreaTop" r="textAreaRight" b="textAreaBottom"/>
              <a:pathLst>
                <a:path w="605" h="646">
                  <a:moveTo>
                    <a:pt x="0" y="0"/>
                  </a:moveTo>
                  <a:lnTo>
                    <a:pt x="277" y="0"/>
                  </a:lnTo>
                  <a:lnTo>
                    <a:pt x="274" y="9"/>
                  </a:lnTo>
                  <a:lnTo>
                    <a:pt x="273" y="20"/>
                  </a:lnTo>
                  <a:lnTo>
                    <a:pt x="273" y="31"/>
                  </a:lnTo>
                  <a:lnTo>
                    <a:pt x="274" y="43"/>
                  </a:lnTo>
                  <a:lnTo>
                    <a:pt x="277" y="56"/>
                  </a:lnTo>
                  <a:lnTo>
                    <a:pt x="279" y="71"/>
                  </a:lnTo>
                  <a:lnTo>
                    <a:pt x="284" y="86"/>
                  </a:lnTo>
                  <a:lnTo>
                    <a:pt x="288" y="102"/>
                  </a:lnTo>
                  <a:lnTo>
                    <a:pt x="300" y="137"/>
                  </a:lnTo>
                  <a:lnTo>
                    <a:pt x="316" y="174"/>
                  </a:lnTo>
                  <a:lnTo>
                    <a:pt x="335" y="214"/>
                  </a:lnTo>
                  <a:lnTo>
                    <a:pt x="356" y="256"/>
                  </a:lnTo>
                  <a:lnTo>
                    <a:pt x="381" y="300"/>
                  </a:lnTo>
                  <a:lnTo>
                    <a:pt x="408" y="347"/>
                  </a:lnTo>
                  <a:lnTo>
                    <a:pt x="436" y="395"/>
                  </a:lnTo>
                  <a:lnTo>
                    <a:pt x="467" y="444"/>
                  </a:lnTo>
                  <a:lnTo>
                    <a:pt x="500" y="493"/>
                  </a:lnTo>
                  <a:lnTo>
                    <a:pt x="534" y="543"/>
                  </a:lnTo>
                  <a:lnTo>
                    <a:pt x="569" y="594"/>
                  </a:lnTo>
                  <a:lnTo>
                    <a:pt x="605" y="646"/>
                  </a:lnTo>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97" name="Freeform 1304"/>
            <p:cNvSpPr/>
            <p:nvPr/>
          </p:nvSpPr>
          <p:spPr>
            <a:xfrm>
              <a:off x="3206160" y="5116320"/>
              <a:ext cx="42120" cy="141120"/>
            </a:xfrm>
            <a:custGeom>
              <a:avLst/>
              <a:gdLst>
                <a:gd name="textAreaLeft" fmla="*/ 0 w 42120"/>
                <a:gd name="textAreaRight" fmla="*/ 42480 w 42120"/>
                <a:gd name="textAreaTop" fmla="*/ 0 h 141120"/>
                <a:gd name="textAreaBottom" fmla="*/ 141480 h 141120"/>
              </a:gdLst>
              <a:ahLst/>
              <a:rect l="textAreaLeft" t="textAreaTop" r="textAreaRight" b="textAreaBottom"/>
              <a:pathLst>
                <a:path w="144" h="1091">
                  <a:moveTo>
                    <a:pt x="0" y="567"/>
                  </a:moveTo>
                  <a:lnTo>
                    <a:pt x="17" y="591"/>
                  </a:lnTo>
                  <a:lnTo>
                    <a:pt x="36" y="616"/>
                  </a:lnTo>
                  <a:lnTo>
                    <a:pt x="53" y="642"/>
                  </a:lnTo>
                  <a:lnTo>
                    <a:pt x="71" y="670"/>
                  </a:lnTo>
                  <a:lnTo>
                    <a:pt x="87" y="699"/>
                  </a:lnTo>
                  <a:lnTo>
                    <a:pt x="102" y="730"/>
                  </a:lnTo>
                  <a:lnTo>
                    <a:pt x="109" y="746"/>
                  </a:lnTo>
                  <a:lnTo>
                    <a:pt x="116" y="761"/>
                  </a:lnTo>
                  <a:lnTo>
                    <a:pt x="122" y="777"/>
                  </a:lnTo>
                  <a:lnTo>
                    <a:pt x="127" y="794"/>
                  </a:lnTo>
                  <a:lnTo>
                    <a:pt x="132" y="811"/>
                  </a:lnTo>
                  <a:lnTo>
                    <a:pt x="136" y="828"/>
                  </a:lnTo>
                  <a:lnTo>
                    <a:pt x="140" y="845"/>
                  </a:lnTo>
                  <a:lnTo>
                    <a:pt x="142" y="863"/>
                  </a:lnTo>
                  <a:lnTo>
                    <a:pt x="143" y="880"/>
                  </a:lnTo>
                  <a:lnTo>
                    <a:pt x="144" y="899"/>
                  </a:lnTo>
                  <a:lnTo>
                    <a:pt x="144" y="916"/>
                  </a:lnTo>
                  <a:lnTo>
                    <a:pt x="143" y="935"/>
                  </a:lnTo>
                  <a:lnTo>
                    <a:pt x="141" y="954"/>
                  </a:lnTo>
                  <a:lnTo>
                    <a:pt x="137" y="973"/>
                  </a:lnTo>
                  <a:lnTo>
                    <a:pt x="133" y="992"/>
                  </a:lnTo>
                  <a:lnTo>
                    <a:pt x="128" y="1011"/>
                  </a:lnTo>
                  <a:lnTo>
                    <a:pt x="121" y="1031"/>
                  </a:lnTo>
                  <a:lnTo>
                    <a:pt x="113" y="1051"/>
                  </a:lnTo>
                  <a:lnTo>
                    <a:pt x="104" y="1071"/>
                  </a:lnTo>
                  <a:lnTo>
                    <a:pt x="92" y="1091"/>
                  </a:lnTo>
                  <a:lnTo>
                    <a:pt x="92" y="526"/>
                  </a:lnTo>
                  <a:lnTo>
                    <a:pt x="104" y="506"/>
                  </a:lnTo>
                  <a:lnTo>
                    <a:pt x="113" y="485"/>
                  </a:lnTo>
                  <a:lnTo>
                    <a:pt x="121" y="466"/>
                  </a:lnTo>
                  <a:lnTo>
                    <a:pt x="128" y="446"/>
                  </a:lnTo>
                  <a:lnTo>
                    <a:pt x="133" y="426"/>
                  </a:lnTo>
                  <a:lnTo>
                    <a:pt x="137" y="407"/>
                  </a:lnTo>
                  <a:lnTo>
                    <a:pt x="141" y="389"/>
                  </a:lnTo>
                  <a:lnTo>
                    <a:pt x="143" y="369"/>
                  </a:lnTo>
                  <a:lnTo>
                    <a:pt x="144" y="350"/>
                  </a:lnTo>
                  <a:lnTo>
                    <a:pt x="144" y="332"/>
                  </a:lnTo>
                  <a:lnTo>
                    <a:pt x="143" y="314"/>
                  </a:lnTo>
                  <a:lnTo>
                    <a:pt x="142" y="296"/>
                  </a:lnTo>
                  <a:lnTo>
                    <a:pt x="140" y="279"/>
                  </a:lnTo>
                  <a:lnTo>
                    <a:pt x="136" y="261"/>
                  </a:lnTo>
                  <a:lnTo>
                    <a:pt x="132" y="244"/>
                  </a:lnTo>
                  <a:lnTo>
                    <a:pt x="127" y="227"/>
                  </a:lnTo>
                  <a:lnTo>
                    <a:pt x="122" y="211"/>
                  </a:lnTo>
                  <a:lnTo>
                    <a:pt x="116" y="195"/>
                  </a:lnTo>
                  <a:lnTo>
                    <a:pt x="109" y="178"/>
                  </a:lnTo>
                  <a:lnTo>
                    <a:pt x="102" y="163"/>
                  </a:lnTo>
                  <a:lnTo>
                    <a:pt x="87" y="133"/>
                  </a:lnTo>
                  <a:lnTo>
                    <a:pt x="71" y="103"/>
                  </a:lnTo>
                  <a:lnTo>
                    <a:pt x="53" y="75"/>
                  </a:lnTo>
                  <a:lnTo>
                    <a:pt x="36" y="49"/>
                  </a:lnTo>
                  <a:lnTo>
                    <a:pt x="17" y="23"/>
                  </a:lnTo>
                  <a:lnTo>
                    <a:pt x="0" y="0"/>
                  </a:lnTo>
                  <a:lnTo>
                    <a:pt x="0" y="56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98" name="Freeform 1305"/>
            <p:cNvSpPr/>
            <p:nvPr/>
          </p:nvSpPr>
          <p:spPr>
            <a:xfrm>
              <a:off x="4484520" y="5572800"/>
              <a:ext cx="34920" cy="124560"/>
            </a:xfrm>
            <a:custGeom>
              <a:avLst/>
              <a:gdLst>
                <a:gd name="textAreaLeft" fmla="*/ 0 w 34920"/>
                <a:gd name="textAreaRight" fmla="*/ 35280 w 34920"/>
                <a:gd name="textAreaTop" fmla="*/ 0 h 124560"/>
                <a:gd name="textAreaBottom" fmla="*/ 124920 h 124560"/>
              </a:gdLst>
              <a:ahLst/>
              <a:rect l="textAreaLeft" t="textAreaTop" r="textAreaRight" b="textAreaBottom"/>
              <a:pathLst>
                <a:path w="196" h="827">
                  <a:moveTo>
                    <a:pt x="196" y="411"/>
                  </a:moveTo>
                  <a:lnTo>
                    <a:pt x="175" y="439"/>
                  </a:lnTo>
                  <a:lnTo>
                    <a:pt x="153" y="467"/>
                  </a:lnTo>
                  <a:lnTo>
                    <a:pt x="134" y="495"/>
                  </a:lnTo>
                  <a:lnTo>
                    <a:pt x="114" y="523"/>
                  </a:lnTo>
                  <a:lnTo>
                    <a:pt x="96" y="551"/>
                  </a:lnTo>
                  <a:lnTo>
                    <a:pt x="79" y="579"/>
                  </a:lnTo>
                  <a:lnTo>
                    <a:pt x="64" y="607"/>
                  </a:lnTo>
                  <a:lnTo>
                    <a:pt x="50" y="634"/>
                  </a:lnTo>
                  <a:lnTo>
                    <a:pt x="37" y="661"/>
                  </a:lnTo>
                  <a:lnTo>
                    <a:pt x="25" y="687"/>
                  </a:lnTo>
                  <a:lnTo>
                    <a:pt x="17" y="713"/>
                  </a:lnTo>
                  <a:lnTo>
                    <a:pt x="9" y="737"/>
                  </a:lnTo>
                  <a:lnTo>
                    <a:pt x="4" y="762"/>
                  </a:lnTo>
                  <a:lnTo>
                    <a:pt x="0" y="784"/>
                  </a:lnTo>
                  <a:lnTo>
                    <a:pt x="0" y="795"/>
                  </a:lnTo>
                  <a:lnTo>
                    <a:pt x="0" y="806"/>
                  </a:lnTo>
                  <a:lnTo>
                    <a:pt x="2" y="816"/>
                  </a:lnTo>
                  <a:lnTo>
                    <a:pt x="3" y="827"/>
                  </a:lnTo>
                  <a:lnTo>
                    <a:pt x="3" y="417"/>
                  </a:lnTo>
                  <a:lnTo>
                    <a:pt x="2" y="408"/>
                  </a:lnTo>
                  <a:lnTo>
                    <a:pt x="0" y="397"/>
                  </a:lnTo>
                  <a:lnTo>
                    <a:pt x="0" y="387"/>
                  </a:lnTo>
                  <a:lnTo>
                    <a:pt x="0" y="375"/>
                  </a:lnTo>
                  <a:lnTo>
                    <a:pt x="4" y="352"/>
                  </a:lnTo>
                  <a:lnTo>
                    <a:pt x="9" y="328"/>
                  </a:lnTo>
                  <a:lnTo>
                    <a:pt x="17" y="303"/>
                  </a:lnTo>
                  <a:lnTo>
                    <a:pt x="25" y="277"/>
                  </a:lnTo>
                  <a:lnTo>
                    <a:pt x="37" y="251"/>
                  </a:lnTo>
                  <a:lnTo>
                    <a:pt x="50" y="224"/>
                  </a:lnTo>
                  <a:lnTo>
                    <a:pt x="64" y="196"/>
                  </a:lnTo>
                  <a:lnTo>
                    <a:pt x="79" y="168"/>
                  </a:lnTo>
                  <a:lnTo>
                    <a:pt x="96" y="140"/>
                  </a:lnTo>
                  <a:lnTo>
                    <a:pt x="114" y="112"/>
                  </a:lnTo>
                  <a:lnTo>
                    <a:pt x="134" y="84"/>
                  </a:lnTo>
                  <a:lnTo>
                    <a:pt x="153" y="56"/>
                  </a:lnTo>
                  <a:lnTo>
                    <a:pt x="175" y="28"/>
                  </a:lnTo>
                  <a:lnTo>
                    <a:pt x="196" y="0"/>
                  </a:lnTo>
                  <a:lnTo>
                    <a:pt x="196" y="41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99" name="Freeform 1306"/>
            <p:cNvSpPr/>
            <p:nvPr/>
          </p:nvSpPr>
          <p:spPr>
            <a:xfrm>
              <a:off x="4684320" y="5419080"/>
              <a:ext cx="60840" cy="101160"/>
            </a:xfrm>
            <a:custGeom>
              <a:avLst/>
              <a:gdLst>
                <a:gd name="textAreaLeft" fmla="*/ 0 w 60840"/>
                <a:gd name="textAreaRight" fmla="*/ 61200 w 60840"/>
                <a:gd name="textAreaTop" fmla="*/ 0 h 101160"/>
                <a:gd name="textAreaBottom" fmla="*/ 101520 h 101160"/>
              </a:gdLst>
              <a:ahLst/>
              <a:rect l="textAreaLeft" t="textAreaTop" r="textAreaRight" b="textAreaBottom"/>
              <a:pathLst>
                <a:path w="340" h="668">
                  <a:moveTo>
                    <a:pt x="340" y="196"/>
                  </a:moveTo>
                  <a:lnTo>
                    <a:pt x="322" y="168"/>
                  </a:lnTo>
                  <a:lnTo>
                    <a:pt x="303" y="143"/>
                  </a:lnTo>
                  <a:lnTo>
                    <a:pt x="285" y="119"/>
                  </a:lnTo>
                  <a:lnTo>
                    <a:pt x="265" y="98"/>
                  </a:lnTo>
                  <a:lnTo>
                    <a:pt x="245" y="80"/>
                  </a:lnTo>
                  <a:lnTo>
                    <a:pt x="225" y="63"/>
                  </a:lnTo>
                  <a:lnTo>
                    <a:pt x="205" y="48"/>
                  </a:lnTo>
                  <a:lnTo>
                    <a:pt x="185" y="35"/>
                  </a:lnTo>
                  <a:lnTo>
                    <a:pt x="166" y="25"/>
                  </a:lnTo>
                  <a:lnTo>
                    <a:pt x="146" y="16"/>
                  </a:lnTo>
                  <a:lnTo>
                    <a:pt x="127" y="9"/>
                  </a:lnTo>
                  <a:lnTo>
                    <a:pt x="109" y="5"/>
                  </a:lnTo>
                  <a:lnTo>
                    <a:pt x="92" y="1"/>
                  </a:lnTo>
                  <a:lnTo>
                    <a:pt x="76" y="0"/>
                  </a:lnTo>
                  <a:lnTo>
                    <a:pt x="62" y="1"/>
                  </a:lnTo>
                  <a:lnTo>
                    <a:pt x="48" y="4"/>
                  </a:lnTo>
                  <a:lnTo>
                    <a:pt x="35" y="8"/>
                  </a:lnTo>
                  <a:lnTo>
                    <a:pt x="24" y="14"/>
                  </a:lnTo>
                  <a:lnTo>
                    <a:pt x="15" y="21"/>
                  </a:lnTo>
                  <a:lnTo>
                    <a:pt x="8" y="30"/>
                  </a:lnTo>
                  <a:lnTo>
                    <a:pt x="3" y="41"/>
                  </a:lnTo>
                  <a:lnTo>
                    <a:pt x="1" y="54"/>
                  </a:lnTo>
                  <a:lnTo>
                    <a:pt x="0" y="68"/>
                  </a:lnTo>
                  <a:lnTo>
                    <a:pt x="2" y="83"/>
                  </a:lnTo>
                  <a:lnTo>
                    <a:pt x="7" y="101"/>
                  </a:lnTo>
                  <a:lnTo>
                    <a:pt x="14" y="118"/>
                  </a:lnTo>
                  <a:lnTo>
                    <a:pt x="24" y="138"/>
                  </a:lnTo>
                  <a:lnTo>
                    <a:pt x="37" y="159"/>
                  </a:lnTo>
                  <a:lnTo>
                    <a:pt x="53" y="181"/>
                  </a:lnTo>
                  <a:lnTo>
                    <a:pt x="73" y="206"/>
                  </a:lnTo>
                  <a:lnTo>
                    <a:pt x="97" y="230"/>
                  </a:lnTo>
                  <a:lnTo>
                    <a:pt x="124" y="256"/>
                  </a:lnTo>
                  <a:lnTo>
                    <a:pt x="124" y="668"/>
                  </a:lnTo>
                  <a:lnTo>
                    <a:pt x="97" y="641"/>
                  </a:lnTo>
                  <a:lnTo>
                    <a:pt x="73" y="617"/>
                  </a:lnTo>
                  <a:lnTo>
                    <a:pt x="53" y="592"/>
                  </a:lnTo>
                  <a:lnTo>
                    <a:pt x="37" y="570"/>
                  </a:lnTo>
                  <a:lnTo>
                    <a:pt x="24" y="549"/>
                  </a:lnTo>
                  <a:lnTo>
                    <a:pt x="14" y="529"/>
                  </a:lnTo>
                  <a:lnTo>
                    <a:pt x="7" y="511"/>
                  </a:lnTo>
                  <a:lnTo>
                    <a:pt x="2" y="493"/>
                  </a:lnTo>
                  <a:lnTo>
                    <a:pt x="0" y="478"/>
                  </a:lnTo>
                  <a:lnTo>
                    <a:pt x="1" y="464"/>
                  </a:lnTo>
                  <a:lnTo>
                    <a:pt x="3" y="451"/>
                  </a:lnTo>
                  <a:lnTo>
                    <a:pt x="8" y="440"/>
                  </a:lnTo>
                  <a:lnTo>
                    <a:pt x="15" y="431"/>
                  </a:lnTo>
                  <a:lnTo>
                    <a:pt x="24" y="423"/>
                  </a:lnTo>
                  <a:lnTo>
                    <a:pt x="35" y="417"/>
                  </a:lnTo>
                  <a:lnTo>
                    <a:pt x="48" y="412"/>
                  </a:lnTo>
                  <a:lnTo>
                    <a:pt x="62" y="410"/>
                  </a:lnTo>
                  <a:lnTo>
                    <a:pt x="76" y="410"/>
                  </a:lnTo>
                  <a:lnTo>
                    <a:pt x="92" y="411"/>
                  </a:lnTo>
                  <a:lnTo>
                    <a:pt x="109" y="414"/>
                  </a:lnTo>
                  <a:lnTo>
                    <a:pt x="127" y="418"/>
                  </a:lnTo>
                  <a:lnTo>
                    <a:pt x="146" y="425"/>
                  </a:lnTo>
                  <a:lnTo>
                    <a:pt x="166" y="433"/>
                  </a:lnTo>
                  <a:lnTo>
                    <a:pt x="185" y="444"/>
                  </a:lnTo>
                  <a:lnTo>
                    <a:pt x="205" y="457"/>
                  </a:lnTo>
                  <a:lnTo>
                    <a:pt x="225" y="472"/>
                  </a:lnTo>
                  <a:lnTo>
                    <a:pt x="245" y="488"/>
                  </a:lnTo>
                  <a:lnTo>
                    <a:pt x="265" y="507"/>
                  </a:lnTo>
                  <a:lnTo>
                    <a:pt x="285" y="528"/>
                  </a:lnTo>
                  <a:lnTo>
                    <a:pt x="303" y="551"/>
                  </a:lnTo>
                  <a:lnTo>
                    <a:pt x="322" y="577"/>
                  </a:lnTo>
                  <a:lnTo>
                    <a:pt x="340" y="605"/>
                  </a:lnTo>
                  <a:lnTo>
                    <a:pt x="340" y="19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00" name="Freeform 1307"/>
            <p:cNvSpPr/>
            <p:nvPr/>
          </p:nvSpPr>
          <p:spPr>
            <a:xfrm>
              <a:off x="5094360" y="5358240"/>
              <a:ext cx="15120" cy="86760"/>
            </a:xfrm>
            <a:custGeom>
              <a:avLst/>
              <a:gdLst>
                <a:gd name="textAreaLeft" fmla="*/ 0 w 15120"/>
                <a:gd name="textAreaRight" fmla="*/ 15480 w 15120"/>
                <a:gd name="textAreaTop" fmla="*/ 0 h 86760"/>
                <a:gd name="textAreaBottom" fmla="*/ 87120 h 86760"/>
              </a:gdLst>
              <a:ahLst/>
              <a:rect l="textAreaLeft" t="textAreaTop" r="textAreaRight" b="textAreaBottom"/>
              <a:pathLst>
                <a:path w="87" h="576">
                  <a:moveTo>
                    <a:pt x="87" y="413"/>
                  </a:moveTo>
                  <a:lnTo>
                    <a:pt x="75" y="417"/>
                  </a:lnTo>
                  <a:lnTo>
                    <a:pt x="66" y="423"/>
                  </a:lnTo>
                  <a:lnTo>
                    <a:pt x="56" y="429"/>
                  </a:lnTo>
                  <a:lnTo>
                    <a:pt x="46" y="436"/>
                  </a:lnTo>
                  <a:lnTo>
                    <a:pt x="35" y="448"/>
                  </a:lnTo>
                  <a:lnTo>
                    <a:pt x="24" y="460"/>
                  </a:lnTo>
                  <a:lnTo>
                    <a:pt x="16" y="472"/>
                  </a:lnTo>
                  <a:lnTo>
                    <a:pt x="10" y="484"/>
                  </a:lnTo>
                  <a:lnTo>
                    <a:pt x="5" y="497"/>
                  </a:lnTo>
                  <a:lnTo>
                    <a:pt x="2" y="509"/>
                  </a:lnTo>
                  <a:lnTo>
                    <a:pt x="1" y="519"/>
                  </a:lnTo>
                  <a:lnTo>
                    <a:pt x="0" y="530"/>
                  </a:lnTo>
                  <a:lnTo>
                    <a:pt x="0" y="548"/>
                  </a:lnTo>
                  <a:lnTo>
                    <a:pt x="2" y="563"/>
                  </a:lnTo>
                  <a:lnTo>
                    <a:pt x="5" y="573"/>
                  </a:lnTo>
                  <a:lnTo>
                    <a:pt x="7" y="576"/>
                  </a:lnTo>
                  <a:lnTo>
                    <a:pt x="7" y="167"/>
                  </a:lnTo>
                  <a:lnTo>
                    <a:pt x="5" y="164"/>
                  </a:lnTo>
                  <a:lnTo>
                    <a:pt x="2" y="155"/>
                  </a:lnTo>
                  <a:lnTo>
                    <a:pt x="0" y="139"/>
                  </a:lnTo>
                  <a:lnTo>
                    <a:pt x="0" y="120"/>
                  </a:lnTo>
                  <a:lnTo>
                    <a:pt x="1" y="109"/>
                  </a:lnTo>
                  <a:lnTo>
                    <a:pt x="2" y="97"/>
                  </a:lnTo>
                  <a:lnTo>
                    <a:pt x="5" y="86"/>
                  </a:lnTo>
                  <a:lnTo>
                    <a:pt x="10" y="74"/>
                  </a:lnTo>
                  <a:lnTo>
                    <a:pt x="16" y="62"/>
                  </a:lnTo>
                  <a:lnTo>
                    <a:pt x="24" y="50"/>
                  </a:lnTo>
                  <a:lnTo>
                    <a:pt x="35" y="38"/>
                  </a:lnTo>
                  <a:lnTo>
                    <a:pt x="46" y="26"/>
                  </a:lnTo>
                  <a:lnTo>
                    <a:pt x="56" y="20"/>
                  </a:lnTo>
                  <a:lnTo>
                    <a:pt x="66" y="13"/>
                  </a:lnTo>
                  <a:lnTo>
                    <a:pt x="75" y="7"/>
                  </a:lnTo>
                  <a:lnTo>
                    <a:pt x="87" y="0"/>
                  </a:lnTo>
                  <a:lnTo>
                    <a:pt x="87" y="413"/>
                  </a:lnTo>
                  <a:close/>
                </a:path>
              </a:pathLst>
            </a:custGeom>
            <a:solidFill>
              <a:srgbClr val="93d5ed"/>
            </a:solidFill>
            <a:ln w="9360">
              <a:solidFill>
                <a:srgbClr val="ccecff"/>
              </a:solidFill>
              <a:round/>
            </a:ln>
          </p:spPr>
          <p:style>
            <a:lnRef idx="0"/>
            <a:fillRef idx="0"/>
            <a:effectRef idx="0"/>
            <a:fontRef idx="minor"/>
          </p:style>
          <p:txBody>
            <a:bodyPr lIns="90000" rIns="90000" tIns="40320" bIns="40320" anchor="t">
              <a:noAutofit/>
            </a:bodyPr>
            <a:p>
              <a:endParaRPr b="1" lang="en-US" sz="2400" spc="-1" strike="noStrike">
                <a:solidFill>
                  <a:srgbClr val="ffffff"/>
                </a:solidFill>
                <a:latin typeface="Times New Roman"/>
              </a:endParaRPr>
            </a:p>
          </p:txBody>
        </p:sp>
        <p:sp>
          <p:nvSpPr>
            <p:cNvPr id="201" name="Freeform 1308"/>
            <p:cNvSpPr/>
            <p:nvPr/>
          </p:nvSpPr>
          <p:spPr>
            <a:xfrm>
              <a:off x="3223080" y="5139720"/>
              <a:ext cx="8640" cy="56520"/>
            </a:xfrm>
            <a:custGeom>
              <a:avLst/>
              <a:gdLst>
                <a:gd name="textAreaLeft" fmla="*/ 0 w 8640"/>
                <a:gd name="textAreaRight" fmla="*/ 9000 w 8640"/>
                <a:gd name="textAreaTop" fmla="*/ 0 h 56520"/>
                <a:gd name="textAreaBottom" fmla="*/ 56880 h 56520"/>
              </a:gdLst>
              <a:ahLst/>
              <a:rect l="textAreaLeft" t="textAreaTop" r="textAreaRight" b="textAreaBottom"/>
              <a:pathLst>
                <a:path w="51" h="375">
                  <a:moveTo>
                    <a:pt x="0" y="375"/>
                  </a:moveTo>
                  <a:lnTo>
                    <a:pt x="0" y="0"/>
                  </a:lnTo>
                  <a:lnTo>
                    <a:pt x="12" y="21"/>
                  </a:lnTo>
                  <a:lnTo>
                    <a:pt x="22" y="44"/>
                  </a:lnTo>
                  <a:lnTo>
                    <a:pt x="30" y="66"/>
                  </a:lnTo>
                  <a:lnTo>
                    <a:pt x="38" y="89"/>
                  </a:lnTo>
                  <a:lnTo>
                    <a:pt x="43" y="113"/>
                  </a:lnTo>
                  <a:lnTo>
                    <a:pt x="48" y="136"/>
                  </a:lnTo>
                  <a:lnTo>
                    <a:pt x="50" y="160"/>
                  </a:lnTo>
                  <a:lnTo>
                    <a:pt x="51" y="185"/>
                  </a:lnTo>
                  <a:lnTo>
                    <a:pt x="50" y="209"/>
                  </a:lnTo>
                  <a:lnTo>
                    <a:pt x="48" y="234"/>
                  </a:lnTo>
                  <a:lnTo>
                    <a:pt x="44" y="259"/>
                  </a:lnTo>
                  <a:lnTo>
                    <a:pt x="38" y="282"/>
                  </a:lnTo>
                  <a:lnTo>
                    <a:pt x="31" y="306"/>
                  </a:lnTo>
                  <a:lnTo>
                    <a:pt x="23" y="330"/>
                  </a:lnTo>
                  <a:lnTo>
                    <a:pt x="13" y="353"/>
                  </a:lnTo>
                  <a:lnTo>
                    <a:pt x="0" y="375"/>
                  </a:lnTo>
                  <a:close/>
                </a:path>
              </a:pathLst>
            </a:custGeom>
            <a:solidFill>
              <a:srgbClr val="93d5ed"/>
            </a:solidFill>
            <a:ln w="9360">
              <a:solidFill>
                <a:srgbClr val="ccecff"/>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Times New Roman"/>
              </a:endParaRPr>
            </a:p>
          </p:txBody>
        </p:sp>
        <p:sp>
          <p:nvSpPr>
            <p:cNvPr id="202" name="Freeform 1309"/>
            <p:cNvSpPr/>
            <p:nvPr/>
          </p:nvSpPr>
          <p:spPr>
            <a:xfrm>
              <a:off x="3733920" y="5289480"/>
              <a:ext cx="16920" cy="89640"/>
            </a:xfrm>
            <a:custGeom>
              <a:avLst/>
              <a:gdLst>
                <a:gd name="textAreaLeft" fmla="*/ 0 w 16920"/>
                <a:gd name="textAreaRight" fmla="*/ 17280 w 16920"/>
                <a:gd name="textAreaTop" fmla="*/ 0 h 89640"/>
                <a:gd name="textAreaBottom" fmla="*/ 90000 h 89640"/>
              </a:gdLst>
              <a:ahLst/>
              <a:rect l="textAreaLeft" t="textAreaTop" r="textAreaRight" b="textAreaBottom"/>
              <a:pathLst>
                <a:path w="92" h="596">
                  <a:moveTo>
                    <a:pt x="92" y="0"/>
                  </a:moveTo>
                  <a:lnTo>
                    <a:pt x="0" y="187"/>
                  </a:lnTo>
                  <a:lnTo>
                    <a:pt x="0" y="596"/>
                  </a:lnTo>
                  <a:lnTo>
                    <a:pt x="92" y="409"/>
                  </a:lnTo>
                  <a:lnTo>
                    <a:pt x="92" y="0"/>
                  </a:lnTo>
                  <a:close/>
                </a:path>
              </a:pathLst>
            </a:custGeom>
            <a:solidFill>
              <a:srgbClr val="93d5ed"/>
            </a:solidFill>
            <a:ln w="9360">
              <a:solidFill>
                <a:srgbClr val="ccecff"/>
              </a:solidFill>
              <a:round/>
            </a:ln>
          </p:spPr>
          <p:style>
            <a:lnRef idx="0"/>
            <a:fillRef idx="0"/>
            <a:effectRef idx="0"/>
            <a:fontRef idx="minor"/>
          </p:style>
          <p:txBody>
            <a:bodyPr lIns="90000" rIns="90000" tIns="43200" bIns="43200" anchor="t">
              <a:noAutofit/>
            </a:bodyPr>
            <a:p>
              <a:endParaRPr b="1" lang="en-US" sz="2400" spc="-1" strike="noStrike">
                <a:solidFill>
                  <a:srgbClr val="ffffff"/>
                </a:solidFill>
                <a:latin typeface="Times New Roman"/>
              </a:endParaRPr>
            </a:p>
          </p:txBody>
        </p:sp>
        <p:sp>
          <p:nvSpPr>
            <p:cNvPr id="203" name="Freeform 1310"/>
            <p:cNvSpPr/>
            <p:nvPr/>
          </p:nvSpPr>
          <p:spPr>
            <a:xfrm>
              <a:off x="3934440" y="5430240"/>
              <a:ext cx="78120" cy="131400"/>
            </a:xfrm>
            <a:custGeom>
              <a:avLst/>
              <a:gdLst>
                <a:gd name="textAreaLeft" fmla="*/ 0 w 78120"/>
                <a:gd name="textAreaRight" fmla="*/ 78120 w 78120"/>
                <a:gd name="textAreaTop" fmla="*/ 0 h 131400"/>
                <a:gd name="textAreaBottom" fmla="*/ 131760 h 131400"/>
              </a:gdLst>
              <a:ahLst/>
              <a:rect l="textAreaLeft" t="textAreaTop" r="textAreaRight" b="textAreaBottom"/>
              <a:pathLst>
                <a:path w="435" h="872">
                  <a:moveTo>
                    <a:pt x="435" y="463"/>
                  </a:moveTo>
                  <a:lnTo>
                    <a:pt x="0" y="0"/>
                  </a:lnTo>
                  <a:lnTo>
                    <a:pt x="0" y="408"/>
                  </a:lnTo>
                  <a:lnTo>
                    <a:pt x="435" y="872"/>
                  </a:lnTo>
                  <a:lnTo>
                    <a:pt x="435" y="46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04" name="Freeform 1311"/>
            <p:cNvSpPr/>
            <p:nvPr/>
          </p:nvSpPr>
          <p:spPr>
            <a:xfrm>
              <a:off x="4046040" y="5434920"/>
              <a:ext cx="38520" cy="113400"/>
            </a:xfrm>
            <a:custGeom>
              <a:avLst/>
              <a:gdLst>
                <a:gd name="textAreaLeft" fmla="*/ 0 w 38520"/>
                <a:gd name="textAreaRight" fmla="*/ 38880 w 38520"/>
                <a:gd name="textAreaTop" fmla="*/ 0 h 113400"/>
                <a:gd name="textAreaBottom" fmla="*/ 113760 h 113400"/>
              </a:gdLst>
              <a:ahLst/>
              <a:rect l="textAreaLeft" t="textAreaTop" r="textAreaRight" b="textAreaBottom"/>
              <a:pathLst>
                <a:path w="216" h="749">
                  <a:moveTo>
                    <a:pt x="216" y="0"/>
                  </a:moveTo>
                  <a:lnTo>
                    <a:pt x="0" y="340"/>
                  </a:lnTo>
                  <a:lnTo>
                    <a:pt x="0" y="749"/>
                  </a:lnTo>
                  <a:lnTo>
                    <a:pt x="216" y="409"/>
                  </a:lnTo>
                  <a:lnTo>
                    <a:pt x="216"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05" name="Freeform 1312"/>
            <p:cNvSpPr/>
            <p:nvPr/>
          </p:nvSpPr>
          <p:spPr>
            <a:xfrm>
              <a:off x="4172040" y="5430960"/>
              <a:ext cx="118440" cy="214920"/>
            </a:xfrm>
            <a:custGeom>
              <a:avLst/>
              <a:gdLst>
                <a:gd name="textAreaLeft" fmla="*/ 0 w 118440"/>
                <a:gd name="textAreaRight" fmla="*/ 118800 w 118440"/>
                <a:gd name="textAreaTop" fmla="*/ 0 h 214920"/>
                <a:gd name="textAreaBottom" fmla="*/ 215280 h 214920"/>
              </a:gdLst>
              <a:ahLst/>
              <a:rect l="textAreaLeft" t="textAreaTop" r="textAreaRight" b="textAreaBottom"/>
              <a:pathLst>
                <a:path w="658" h="1423">
                  <a:moveTo>
                    <a:pt x="658" y="1423"/>
                  </a:moveTo>
                  <a:lnTo>
                    <a:pt x="618" y="1400"/>
                  </a:lnTo>
                  <a:lnTo>
                    <a:pt x="581" y="1375"/>
                  </a:lnTo>
                  <a:lnTo>
                    <a:pt x="547" y="1349"/>
                  </a:lnTo>
                  <a:lnTo>
                    <a:pt x="514" y="1324"/>
                  </a:lnTo>
                  <a:lnTo>
                    <a:pt x="485" y="1298"/>
                  </a:lnTo>
                  <a:lnTo>
                    <a:pt x="457" y="1271"/>
                  </a:lnTo>
                  <a:lnTo>
                    <a:pt x="431" y="1243"/>
                  </a:lnTo>
                  <a:lnTo>
                    <a:pt x="407" y="1215"/>
                  </a:lnTo>
                  <a:lnTo>
                    <a:pt x="385" y="1187"/>
                  </a:lnTo>
                  <a:lnTo>
                    <a:pt x="365" y="1158"/>
                  </a:lnTo>
                  <a:lnTo>
                    <a:pt x="346" y="1130"/>
                  </a:lnTo>
                  <a:lnTo>
                    <a:pt x="330" y="1101"/>
                  </a:lnTo>
                  <a:lnTo>
                    <a:pt x="313" y="1071"/>
                  </a:lnTo>
                  <a:lnTo>
                    <a:pt x="299" y="1042"/>
                  </a:lnTo>
                  <a:lnTo>
                    <a:pt x="286" y="1013"/>
                  </a:lnTo>
                  <a:lnTo>
                    <a:pt x="276" y="984"/>
                  </a:lnTo>
                  <a:lnTo>
                    <a:pt x="265" y="955"/>
                  </a:lnTo>
                  <a:lnTo>
                    <a:pt x="256" y="927"/>
                  </a:lnTo>
                  <a:lnTo>
                    <a:pt x="248" y="897"/>
                  </a:lnTo>
                  <a:lnTo>
                    <a:pt x="241" y="871"/>
                  </a:lnTo>
                  <a:lnTo>
                    <a:pt x="228" y="816"/>
                  </a:lnTo>
                  <a:lnTo>
                    <a:pt x="219" y="763"/>
                  </a:lnTo>
                  <a:lnTo>
                    <a:pt x="212" y="714"/>
                  </a:lnTo>
                  <a:lnTo>
                    <a:pt x="205" y="668"/>
                  </a:lnTo>
                  <a:lnTo>
                    <a:pt x="199" y="628"/>
                  </a:lnTo>
                  <a:lnTo>
                    <a:pt x="194" y="590"/>
                  </a:lnTo>
                  <a:lnTo>
                    <a:pt x="190" y="567"/>
                  </a:lnTo>
                  <a:lnTo>
                    <a:pt x="184" y="546"/>
                  </a:lnTo>
                  <a:lnTo>
                    <a:pt x="176" y="526"/>
                  </a:lnTo>
                  <a:lnTo>
                    <a:pt x="167" y="508"/>
                  </a:lnTo>
                  <a:lnTo>
                    <a:pt x="158" y="493"/>
                  </a:lnTo>
                  <a:lnTo>
                    <a:pt x="147" y="479"/>
                  </a:lnTo>
                  <a:lnTo>
                    <a:pt x="136" y="466"/>
                  </a:lnTo>
                  <a:lnTo>
                    <a:pt x="123" y="455"/>
                  </a:lnTo>
                  <a:lnTo>
                    <a:pt x="110" y="445"/>
                  </a:lnTo>
                  <a:lnTo>
                    <a:pt x="96" y="437"/>
                  </a:lnTo>
                  <a:lnTo>
                    <a:pt x="81" y="430"/>
                  </a:lnTo>
                  <a:lnTo>
                    <a:pt x="66" y="423"/>
                  </a:lnTo>
                  <a:lnTo>
                    <a:pt x="51" y="419"/>
                  </a:lnTo>
                  <a:lnTo>
                    <a:pt x="34" y="415"/>
                  </a:lnTo>
                  <a:lnTo>
                    <a:pt x="18" y="412"/>
                  </a:lnTo>
                  <a:lnTo>
                    <a:pt x="0" y="409"/>
                  </a:lnTo>
                  <a:lnTo>
                    <a:pt x="0" y="0"/>
                  </a:lnTo>
                  <a:lnTo>
                    <a:pt x="18" y="3"/>
                  </a:lnTo>
                  <a:lnTo>
                    <a:pt x="34" y="5"/>
                  </a:lnTo>
                  <a:lnTo>
                    <a:pt x="51" y="10"/>
                  </a:lnTo>
                  <a:lnTo>
                    <a:pt x="66" y="14"/>
                  </a:lnTo>
                  <a:lnTo>
                    <a:pt x="81" y="20"/>
                  </a:lnTo>
                  <a:lnTo>
                    <a:pt x="96" y="27"/>
                  </a:lnTo>
                  <a:lnTo>
                    <a:pt x="110" y="35"/>
                  </a:lnTo>
                  <a:lnTo>
                    <a:pt x="123" y="45"/>
                  </a:lnTo>
                  <a:lnTo>
                    <a:pt x="136" y="55"/>
                  </a:lnTo>
                  <a:lnTo>
                    <a:pt x="147" y="68"/>
                  </a:lnTo>
                  <a:lnTo>
                    <a:pt x="158" y="82"/>
                  </a:lnTo>
                  <a:lnTo>
                    <a:pt x="167" y="97"/>
                  </a:lnTo>
                  <a:lnTo>
                    <a:pt x="176" y="115"/>
                  </a:lnTo>
                  <a:lnTo>
                    <a:pt x="184" y="134"/>
                  </a:lnTo>
                  <a:lnTo>
                    <a:pt x="190" y="156"/>
                  </a:lnTo>
                  <a:lnTo>
                    <a:pt x="194" y="178"/>
                  </a:lnTo>
                  <a:lnTo>
                    <a:pt x="199" y="216"/>
                  </a:lnTo>
                  <a:lnTo>
                    <a:pt x="205" y="257"/>
                  </a:lnTo>
                  <a:lnTo>
                    <a:pt x="212" y="304"/>
                  </a:lnTo>
                  <a:lnTo>
                    <a:pt x="219" y="353"/>
                  </a:lnTo>
                  <a:lnTo>
                    <a:pt x="228" y="406"/>
                  </a:lnTo>
                  <a:lnTo>
                    <a:pt x="241" y="459"/>
                  </a:lnTo>
                  <a:lnTo>
                    <a:pt x="248" y="487"/>
                  </a:lnTo>
                  <a:lnTo>
                    <a:pt x="256" y="515"/>
                  </a:lnTo>
                  <a:lnTo>
                    <a:pt x="265" y="545"/>
                  </a:lnTo>
                  <a:lnTo>
                    <a:pt x="276" y="574"/>
                  </a:lnTo>
                  <a:lnTo>
                    <a:pt x="286" y="602"/>
                  </a:lnTo>
                  <a:lnTo>
                    <a:pt x="299" y="631"/>
                  </a:lnTo>
                  <a:lnTo>
                    <a:pt x="313" y="660"/>
                  </a:lnTo>
                  <a:lnTo>
                    <a:pt x="330" y="690"/>
                  </a:lnTo>
                  <a:lnTo>
                    <a:pt x="346" y="719"/>
                  </a:lnTo>
                  <a:lnTo>
                    <a:pt x="365" y="748"/>
                  </a:lnTo>
                  <a:lnTo>
                    <a:pt x="385" y="776"/>
                  </a:lnTo>
                  <a:lnTo>
                    <a:pt x="407" y="805"/>
                  </a:lnTo>
                  <a:lnTo>
                    <a:pt x="431" y="833"/>
                  </a:lnTo>
                  <a:lnTo>
                    <a:pt x="457" y="860"/>
                  </a:lnTo>
                  <a:lnTo>
                    <a:pt x="485" y="888"/>
                  </a:lnTo>
                  <a:lnTo>
                    <a:pt x="514" y="914"/>
                  </a:lnTo>
                  <a:lnTo>
                    <a:pt x="547" y="941"/>
                  </a:lnTo>
                  <a:lnTo>
                    <a:pt x="581" y="965"/>
                  </a:lnTo>
                  <a:lnTo>
                    <a:pt x="618" y="990"/>
                  </a:lnTo>
                  <a:lnTo>
                    <a:pt x="658" y="1013"/>
                  </a:lnTo>
                  <a:lnTo>
                    <a:pt x="658" y="142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06" name="Freeform 1313"/>
            <p:cNvSpPr/>
            <p:nvPr/>
          </p:nvSpPr>
          <p:spPr>
            <a:xfrm>
              <a:off x="4318200" y="5654520"/>
              <a:ext cx="88920" cy="136800"/>
            </a:xfrm>
            <a:custGeom>
              <a:avLst/>
              <a:gdLst>
                <a:gd name="textAreaLeft" fmla="*/ 0 w 88920"/>
                <a:gd name="textAreaRight" fmla="*/ 89280 w 88920"/>
                <a:gd name="textAreaTop" fmla="*/ 0 h 136800"/>
                <a:gd name="textAreaBottom" fmla="*/ 137160 h 136800"/>
              </a:gdLst>
              <a:ahLst/>
              <a:rect l="textAreaLeft" t="textAreaTop" r="textAreaRight" b="textAreaBottom"/>
              <a:pathLst>
                <a:path w="496" h="905">
                  <a:moveTo>
                    <a:pt x="496" y="496"/>
                  </a:moveTo>
                  <a:lnTo>
                    <a:pt x="0" y="0"/>
                  </a:lnTo>
                  <a:lnTo>
                    <a:pt x="0" y="410"/>
                  </a:lnTo>
                  <a:lnTo>
                    <a:pt x="496" y="905"/>
                  </a:lnTo>
                  <a:lnTo>
                    <a:pt x="496" y="49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07" name="Freeform 1314"/>
            <p:cNvSpPr/>
            <p:nvPr/>
          </p:nvSpPr>
          <p:spPr>
            <a:xfrm>
              <a:off x="4579200" y="5487120"/>
              <a:ext cx="91440" cy="98280"/>
            </a:xfrm>
            <a:custGeom>
              <a:avLst/>
              <a:gdLst>
                <a:gd name="textAreaLeft" fmla="*/ 0 w 91440"/>
                <a:gd name="textAreaRight" fmla="*/ 91800 w 91440"/>
                <a:gd name="textAreaTop" fmla="*/ 0 h 98280"/>
                <a:gd name="textAreaBottom" fmla="*/ 98640 h 98280"/>
              </a:gdLst>
              <a:ahLst/>
              <a:rect l="textAreaLeft" t="textAreaTop" r="textAreaRight" b="textAreaBottom"/>
              <a:pathLst>
                <a:path w="511" h="650">
                  <a:moveTo>
                    <a:pt x="511" y="409"/>
                  </a:moveTo>
                  <a:lnTo>
                    <a:pt x="441" y="443"/>
                  </a:lnTo>
                  <a:lnTo>
                    <a:pt x="367" y="478"/>
                  </a:lnTo>
                  <a:lnTo>
                    <a:pt x="292" y="511"/>
                  </a:lnTo>
                  <a:lnTo>
                    <a:pt x="220" y="544"/>
                  </a:lnTo>
                  <a:lnTo>
                    <a:pt x="152" y="576"/>
                  </a:lnTo>
                  <a:lnTo>
                    <a:pt x="91" y="604"/>
                  </a:lnTo>
                  <a:lnTo>
                    <a:pt x="40" y="628"/>
                  </a:lnTo>
                  <a:lnTo>
                    <a:pt x="0" y="650"/>
                  </a:lnTo>
                  <a:lnTo>
                    <a:pt x="0" y="242"/>
                  </a:lnTo>
                  <a:lnTo>
                    <a:pt x="40" y="219"/>
                  </a:lnTo>
                  <a:lnTo>
                    <a:pt x="91" y="195"/>
                  </a:lnTo>
                  <a:lnTo>
                    <a:pt x="152" y="166"/>
                  </a:lnTo>
                  <a:lnTo>
                    <a:pt x="220" y="135"/>
                  </a:lnTo>
                  <a:lnTo>
                    <a:pt x="292" y="103"/>
                  </a:lnTo>
                  <a:lnTo>
                    <a:pt x="367" y="69"/>
                  </a:lnTo>
                  <a:lnTo>
                    <a:pt x="441" y="34"/>
                  </a:lnTo>
                  <a:lnTo>
                    <a:pt x="511" y="0"/>
                  </a:lnTo>
                  <a:lnTo>
                    <a:pt x="511" y="4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08" name="Freeform 1315"/>
            <p:cNvSpPr/>
            <p:nvPr/>
          </p:nvSpPr>
          <p:spPr>
            <a:xfrm>
              <a:off x="4785120" y="5415840"/>
              <a:ext cx="55440" cy="65880"/>
            </a:xfrm>
            <a:custGeom>
              <a:avLst/>
              <a:gdLst>
                <a:gd name="textAreaLeft" fmla="*/ 0 w 55440"/>
                <a:gd name="textAreaRight" fmla="*/ 55800 w 55440"/>
                <a:gd name="textAreaTop" fmla="*/ 0 h 65880"/>
                <a:gd name="textAreaBottom" fmla="*/ 66240 h 65880"/>
              </a:gdLst>
              <a:ahLst/>
              <a:rect l="textAreaLeft" t="textAreaTop" r="textAreaRight" b="textAreaBottom"/>
              <a:pathLst>
                <a:path w="309" h="437">
                  <a:moveTo>
                    <a:pt x="309" y="0"/>
                  </a:moveTo>
                  <a:lnTo>
                    <a:pt x="0" y="28"/>
                  </a:lnTo>
                  <a:lnTo>
                    <a:pt x="0" y="437"/>
                  </a:lnTo>
                  <a:lnTo>
                    <a:pt x="309" y="409"/>
                  </a:lnTo>
                  <a:lnTo>
                    <a:pt x="309" y="0"/>
                  </a:lnTo>
                  <a:close/>
                </a:path>
              </a:pathLst>
            </a:custGeom>
            <a:solidFill>
              <a:srgbClr val="93d5ed"/>
            </a:solidFill>
            <a:ln w="9360">
              <a:solidFill>
                <a:srgbClr val="ccecff"/>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Times New Roman"/>
              </a:endParaRPr>
            </a:p>
          </p:txBody>
        </p:sp>
        <p:sp>
          <p:nvSpPr>
            <p:cNvPr id="209" name="Freeform 1316"/>
            <p:cNvSpPr/>
            <p:nvPr/>
          </p:nvSpPr>
          <p:spPr>
            <a:xfrm>
              <a:off x="4991040" y="5430960"/>
              <a:ext cx="49320" cy="83880"/>
            </a:xfrm>
            <a:custGeom>
              <a:avLst/>
              <a:gdLst>
                <a:gd name="textAreaLeft" fmla="*/ 0 w 49320"/>
                <a:gd name="textAreaRight" fmla="*/ 49680 w 49320"/>
                <a:gd name="textAreaTop" fmla="*/ 0 h 83880"/>
                <a:gd name="textAreaBottom" fmla="*/ 84240 h 83880"/>
              </a:gdLst>
              <a:ahLst/>
              <a:rect l="textAreaLeft" t="textAreaTop" r="textAreaRight" b="textAreaBottom"/>
              <a:pathLst>
                <a:path w="275" h="556">
                  <a:moveTo>
                    <a:pt x="275" y="556"/>
                  </a:moveTo>
                  <a:lnTo>
                    <a:pt x="264" y="544"/>
                  </a:lnTo>
                  <a:lnTo>
                    <a:pt x="251" y="534"/>
                  </a:lnTo>
                  <a:lnTo>
                    <a:pt x="238" y="523"/>
                  </a:lnTo>
                  <a:lnTo>
                    <a:pt x="223" y="512"/>
                  </a:lnTo>
                  <a:lnTo>
                    <a:pt x="208" y="503"/>
                  </a:lnTo>
                  <a:lnTo>
                    <a:pt x="193" y="494"/>
                  </a:lnTo>
                  <a:lnTo>
                    <a:pt x="175" y="484"/>
                  </a:lnTo>
                  <a:lnTo>
                    <a:pt x="159" y="475"/>
                  </a:lnTo>
                  <a:lnTo>
                    <a:pt x="121" y="458"/>
                  </a:lnTo>
                  <a:lnTo>
                    <a:pt x="83" y="441"/>
                  </a:lnTo>
                  <a:lnTo>
                    <a:pt x="42" y="426"/>
                  </a:lnTo>
                  <a:lnTo>
                    <a:pt x="0" y="412"/>
                  </a:lnTo>
                  <a:lnTo>
                    <a:pt x="0" y="0"/>
                  </a:lnTo>
                  <a:lnTo>
                    <a:pt x="42" y="14"/>
                  </a:lnTo>
                  <a:lnTo>
                    <a:pt x="83" y="30"/>
                  </a:lnTo>
                  <a:lnTo>
                    <a:pt x="121" y="46"/>
                  </a:lnTo>
                  <a:lnTo>
                    <a:pt x="159" y="64"/>
                  </a:lnTo>
                  <a:lnTo>
                    <a:pt x="175" y="73"/>
                  </a:lnTo>
                  <a:lnTo>
                    <a:pt x="193" y="84"/>
                  </a:lnTo>
                  <a:lnTo>
                    <a:pt x="208" y="93"/>
                  </a:lnTo>
                  <a:lnTo>
                    <a:pt x="223" y="104"/>
                  </a:lnTo>
                  <a:lnTo>
                    <a:pt x="238" y="114"/>
                  </a:lnTo>
                  <a:lnTo>
                    <a:pt x="251" y="125"/>
                  </a:lnTo>
                  <a:lnTo>
                    <a:pt x="264" y="135"/>
                  </a:lnTo>
                  <a:lnTo>
                    <a:pt x="275" y="147"/>
                  </a:lnTo>
                  <a:lnTo>
                    <a:pt x="275" y="556"/>
                  </a:lnTo>
                  <a:close/>
                </a:path>
              </a:pathLst>
            </a:custGeom>
            <a:solidFill>
              <a:srgbClr val="93d5ed"/>
            </a:solidFill>
            <a:ln w="9360">
              <a:solidFill>
                <a:srgbClr val="ccecff"/>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Times New Roman"/>
              </a:endParaRPr>
            </a:p>
          </p:txBody>
        </p:sp>
        <p:sp>
          <p:nvSpPr>
            <p:cNvPr id="210" name="Freeform 1317"/>
            <p:cNvSpPr/>
            <p:nvPr/>
          </p:nvSpPr>
          <p:spPr>
            <a:xfrm>
              <a:off x="5396400" y="5335920"/>
              <a:ext cx="43920" cy="90720"/>
            </a:xfrm>
            <a:custGeom>
              <a:avLst/>
              <a:gdLst>
                <a:gd name="textAreaLeft" fmla="*/ 0 w 43920"/>
                <a:gd name="textAreaRight" fmla="*/ 44280 w 43920"/>
                <a:gd name="textAreaTop" fmla="*/ 0 h 90720"/>
                <a:gd name="textAreaBottom" fmla="*/ 91080 h 90720"/>
              </a:gdLst>
              <a:ahLst/>
              <a:rect l="textAreaLeft" t="textAreaTop" r="textAreaRight" b="textAreaBottom"/>
              <a:pathLst>
                <a:path w="248" h="597">
                  <a:moveTo>
                    <a:pt x="248" y="188"/>
                  </a:moveTo>
                  <a:lnTo>
                    <a:pt x="248" y="177"/>
                  </a:lnTo>
                  <a:lnTo>
                    <a:pt x="246" y="165"/>
                  </a:lnTo>
                  <a:lnTo>
                    <a:pt x="242" y="154"/>
                  </a:lnTo>
                  <a:lnTo>
                    <a:pt x="237" y="144"/>
                  </a:lnTo>
                  <a:lnTo>
                    <a:pt x="232" y="135"/>
                  </a:lnTo>
                  <a:lnTo>
                    <a:pt x="226" y="125"/>
                  </a:lnTo>
                  <a:lnTo>
                    <a:pt x="218" y="116"/>
                  </a:lnTo>
                  <a:lnTo>
                    <a:pt x="209" y="107"/>
                  </a:lnTo>
                  <a:lnTo>
                    <a:pt x="200" y="98"/>
                  </a:lnTo>
                  <a:lnTo>
                    <a:pt x="191" y="90"/>
                  </a:lnTo>
                  <a:lnTo>
                    <a:pt x="180" y="82"/>
                  </a:lnTo>
                  <a:lnTo>
                    <a:pt x="170" y="74"/>
                  </a:lnTo>
                  <a:lnTo>
                    <a:pt x="147" y="61"/>
                  </a:lnTo>
                  <a:lnTo>
                    <a:pt x="124" y="48"/>
                  </a:lnTo>
                  <a:lnTo>
                    <a:pt x="101" y="36"/>
                  </a:lnTo>
                  <a:lnTo>
                    <a:pt x="79" y="27"/>
                  </a:lnTo>
                  <a:lnTo>
                    <a:pt x="58" y="19"/>
                  </a:lnTo>
                  <a:lnTo>
                    <a:pt x="39" y="13"/>
                  </a:lnTo>
                  <a:lnTo>
                    <a:pt x="11" y="4"/>
                  </a:lnTo>
                  <a:lnTo>
                    <a:pt x="0" y="0"/>
                  </a:lnTo>
                  <a:lnTo>
                    <a:pt x="0" y="413"/>
                  </a:lnTo>
                  <a:lnTo>
                    <a:pt x="11" y="416"/>
                  </a:lnTo>
                  <a:lnTo>
                    <a:pt x="39" y="424"/>
                  </a:lnTo>
                  <a:lnTo>
                    <a:pt x="58" y="430"/>
                  </a:lnTo>
                  <a:lnTo>
                    <a:pt x="79" y="438"/>
                  </a:lnTo>
                  <a:lnTo>
                    <a:pt x="101" y="448"/>
                  </a:lnTo>
                  <a:lnTo>
                    <a:pt x="124" y="458"/>
                  </a:lnTo>
                  <a:lnTo>
                    <a:pt x="147" y="471"/>
                  </a:lnTo>
                  <a:lnTo>
                    <a:pt x="170" y="484"/>
                  </a:lnTo>
                  <a:lnTo>
                    <a:pt x="180" y="492"/>
                  </a:lnTo>
                  <a:lnTo>
                    <a:pt x="191" y="499"/>
                  </a:lnTo>
                  <a:lnTo>
                    <a:pt x="200" y="507"/>
                  </a:lnTo>
                  <a:lnTo>
                    <a:pt x="209" y="515"/>
                  </a:lnTo>
                  <a:lnTo>
                    <a:pt x="218" y="525"/>
                  </a:lnTo>
                  <a:lnTo>
                    <a:pt x="226" y="534"/>
                  </a:lnTo>
                  <a:lnTo>
                    <a:pt x="232" y="543"/>
                  </a:lnTo>
                  <a:lnTo>
                    <a:pt x="237" y="554"/>
                  </a:lnTo>
                  <a:lnTo>
                    <a:pt x="242" y="563"/>
                  </a:lnTo>
                  <a:lnTo>
                    <a:pt x="246" y="575"/>
                  </a:lnTo>
                  <a:lnTo>
                    <a:pt x="248" y="585"/>
                  </a:lnTo>
                  <a:lnTo>
                    <a:pt x="248" y="597"/>
                  </a:lnTo>
                  <a:lnTo>
                    <a:pt x="248" y="188"/>
                  </a:lnTo>
                  <a:close/>
                </a:path>
              </a:pathLst>
            </a:custGeom>
            <a:solidFill>
              <a:srgbClr val="93d5ed"/>
            </a:solidFill>
            <a:ln w="9360">
              <a:solidFill>
                <a:srgbClr val="ccecff"/>
              </a:solidFill>
              <a:round/>
            </a:ln>
          </p:spPr>
          <p:style>
            <a:lnRef idx="0"/>
            <a:fillRef idx="0"/>
            <a:effectRef idx="0"/>
            <a:fontRef idx="minor"/>
          </p:style>
          <p:txBody>
            <a:bodyPr lIns="90000" rIns="90000" tIns="44280" bIns="44280" anchor="t">
              <a:noAutofit/>
            </a:bodyPr>
            <a:p>
              <a:endParaRPr b="1" lang="en-US" sz="2400" spc="-1" strike="noStrike">
                <a:solidFill>
                  <a:srgbClr val="ffffff"/>
                </a:solidFill>
                <a:latin typeface="Times New Roman"/>
              </a:endParaRPr>
            </a:p>
          </p:txBody>
        </p:sp>
        <p:sp>
          <p:nvSpPr>
            <p:cNvPr id="211" name="Rectangle 1318"/>
            <p:cNvSpPr/>
            <p:nvPr/>
          </p:nvSpPr>
          <p:spPr>
            <a:xfrm>
              <a:off x="5506920" y="5331960"/>
              <a:ext cx="34200" cy="61920"/>
            </a:xfrm>
            <a:prstGeom prst="rect">
              <a:avLst/>
            </a:prstGeom>
            <a:solidFill>
              <a:srgbClr val="93d5ed"/>
            </a:solidFill>
            <a:ln w="9360">
              <a:solidFill>
                <a:srgbClr val="ccecff"/>
              </a:solidFill>
              <a:miter/>
            </a:ln>
          </p:spPr>
          <p:style>
            <a:lnRef idx="0"/>
            <a:fillRef idx="0"/>
            <a:effectRef idx="0"/>
            <a:fontRef idx="minor"/>
          </p:style>
          <p:txBody>
            <a:bodyPr lIns="90000" rIns="90000" tIns="15120" bIns="1512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12" name="Rectangle 1319"/>
            <p:cNvSpPr/>
            <p:nvPr/>
          </p:nvSpPr>
          <p:spPr>
            <a:xfrm>
              <a:off x="5568120" y="5351040"/>
              <a:ext cx="16920" cy="61200"/>
            </a:xfrm>
            <a:prstGeom prst="rect">
              <a:avLst/>
            </a:prstGeom>
            <a:solidFill>
              <a:srgbClr val="93d5ed"/>
            </a:solidFill>
            <a:ln w="9360">
              <a:solidFill>
                <a:srgbClr val="ccecff"/>
              </a:solidFill>
              <a:miter/>
            </a:ln>
          </p:spPr>
          <p:style>
            <a:lnRef idx="0"/>
            <a:fillRef idx="0"/>
            <a:effectRef idx="0"/>
            <a:fontRef idx="minor"/>
          </p:style>
          <p:txBody>
            <a:bodyPr lIns="90000" rIns="90000" tIns="14400" bIns="144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13" name="Freeform 1320"/>
            <p:cNvSpPr/>
            <p:nvPr/>
          </p:nvSpPr>
          <p:spPr>
            <a:xfrm>
              <a:off x="5667840" y="5373360"/>
              <a:ext cx="59040" cy="162000"/>
            </a:xfrm>
            <a:custGeom>
              <a:avLst/>
              <a:gdLst>
                <a:gd name="textAreaLeft" fmla="*/ 0 w 59040"/>
                <a:gd name="textAreaRight" fmla="*/ 59400 w 59040"/>
                <a:gd name="textAreaTop" fmla="*/ 0 h 162000"/>
                <a:gd name="textAreaBottom" fmla="*/ 162360 h 162000"/>
              </a:gdLst>
              <a:ahLst/>
              <a:rect l="textAreaLeft" t="textAreaTop" r="textAreaRight" b="textAreaBottom"/>
              <a:pathLst>
                <a:path w="329" h="1068">
                  <a:moveTo>
                    <a:pt x="329" y="645"/>
                  </a:moveTo>
                  <a:lnTo>
                    <a:pt x="293" y="593"/>
                  </a:lnTo>
                  <a:lnTo>
                    <a:pt x="258" y="543"/>
                  </a:lnTo>
                  <a:lnTo>
                    <a:pt x="223" y="493"/>
                  </a:lnTo>
                  <a:lnTo>
                    <a:pt x="191" y="443"/>
                  </a:lnTo>
                  <a:lnTo>
                    <a:pt x="160" y="394"/>
                  </a:lnTo>
                  <a:lnTo>
                    <a:pt x="132" y="346"/>
                  </a:lnTo>
                  <a:lnTo>
                    <a:pt x="105" y="299"/>
                  </a:lnTo>
                  <a:lnTo>
                    <a:pt x="80" y="255"/>
                  </a:lnTo>
                  <a:lnTo>
                    <a:pt x="59" y="213"/>
                  </a:lnTo>
                  <a:lnTo>
                    <a:pt x="41" y="173"/>
                  </a:lnTo>
                  <a:lnTo>
                    <a:pt x="26" y="136"/>
                  </a:lnTo>
                  <a:lnTo>
                    <a:pt x="14" y="102"/>
                  </a:lnTo>
                  <a:lnTo>
                    <a:pt x="9" y="85"/>
                  </a:lnTo>
                  <a:lnTo>
                    <a:pt x="5" y="70"/>
                  </a:lnTo>
                  <a:lnTo>
                    <a:pt x="2" y="56"/>
                  </a:lnTo>
                  <a:lnTo>
                    <a:pt x="0" y="42"/>
                  </a:lnTo>
                  <a:lnTo>
                    <a:pt x="0" y="30"/>
                  </a:lnTo>
                  <a:lnTo>
                    <a:pt x="0" y="19"/>
                  </a:lnTo>
                  <a:lnTo>
                    <a:pt x="1" y="8"/>
                  </a:lnTo>
                  <a:lnTo>
                    <a:pt x="3" y="0"/>
                  </a:lnTo>
                  <a:lnTo>
                    <a:pt x="3" y="425"/>
                  </a:lnTo>
                  <a:lnTo>
                    <a:pt x="1" y="435"/>
                  </a:lnTo>
                  <a:lnTo>
                    <a:pt x="0" y="445"/>
                  </a:lnTo>
                  <a:lnTo>
                    <a:pt x="0" y="457"/>
                  </a:lnTo>
                  <a:lnTo>
                    <a:pt x="0" y="468"/>
                  </a:lnTo>
                  <a:lnTo>
                    <a:pt x="2" y="482"/>
                  </a:lnTo>
                  <a:lnTo>
                    <a:pt x="5" y="497"/>
                  </a:lnTo>
                  <a:lnTo>
                    <a:pt x="9" y="512"/>
                  </a:lnTo>
                  <a:lnTo>
                    <a:pt x="14" y="527"/>
                  </a:lnTo>
                  <a:lnTo>
                    <a:pt x="26" y="562"/>
                  </a:lnTo>
                  <a:lnTo>
                    <a:pt x="41" y="599"/>
                  </a:lnTo>
                  <a:lnTo>
                    <a:pt x="59" y="639"/>
                  </a:lnTo>
                  <a:lnTo>
                    <a:pt x="80" y="681"/>
                  </a:lnTo>
                  <a:lnTo>
                    <a:pt x="105" y="725"/>
                  </a:lnTo>
                  <a:lnTo>
                    <a:pt x="132" y="771"/>
                  </a:lnTo>
                  <a:lnTo>
                    <a:pt x="160" y="819"/>
                  </a:lnTo>
                  <a:lnTo>
                    <a:pt x="191" y="868"/>
                  </a:lnTo>
                  <a:lnTo>
                    <a:pt x="223" y="917"/>
                  </a:lnTo>
                  <a:lnTo>
                    <a:pt x="258" y="967"/>
                  </a:lnTo>
                  <a:lnTo>
                    <a:pt x="293" y="1017"/>
                  </a:lnTo>
                  <a:lnTo>
                    <a:pt x="329" y="1068"/>
                  </a:lnTo>
                  <a:lnTo>
                    <a:pt x="329" y="64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14" name="Freeform 1321"/>
            <p:cNvSpPr/>
            <p:nvPr/>
          </p:nvSpPr>
          <p:spPr>
            <a:xfrm>
              <a:off x="5866560" y="5567400"/>
              <a:ext cx="97920" cy="105840"/>
            </a:xfrm>
            <a:custGeom>
              <a:avLst/>
              <a:gdLst>
                <a:gd name="textAreaLeft" fmla="*/ 0 w 97920"/>
                <a:gd name="textAreaRight" fmla="*/ 98280 w 97920"/>
                <a:gd name="textAreaTop" fmla="*/ 0 h 105840"/>
                <a:gd name="textAreaBottom" fmla="*/ 106200 h 105840"/>
              </a:gdLst>
              <a:ahLst/>
              <a:rect l="textAreaLeft" t="textAreaTop" r="textAreaRight" b="textAreaBottom"/>
              <a:pathLst>
                <a:path w="544" h="703">
                  <a:moveTo>
                    <a:pt x="544" y="703"/>
                  </a:moveTo>
                  <a:lnTo>
                    <a:pt x="468" y="658"/>
                  </a:lnTo>
                  <a:lnTo>
                    <a:pt x="395" y="614"/>
                  </a:lnTo>
                  <a:lnTo>
                    <a:pt x="321" y="576"/>
                  </a:lnTo>
                  <a:lnTo>
                    <a:pt x="251" y="540"/>
                  </a:lnTo>
                  <a:lnTo>
                    <a:pt x="183" y="507"/>
                  </a:lnTo>
                  <a:lnTo>
                    <a:pt x="119" y="478"/>
                  </a:lnTo>
                  <a:lnTo>
                    <a:pt x="57" y="451"/>
                  </a:lnTo>
                  <a:lnTo>
                    <a:pt x="0" y="426"/>
                  </a:lnTo>
                  <a:lnTo>
                    <a:pt x="0" y="0"/>
                  </a:lnTo>
                  <a:lnTo>
                    <a:pt x="57" y="24"/>
                  </a:lnTo>
                  <a:lnTo>
                    <a:pt x="119" y="51"/>
                  </a:lnTo>
                  <a:lnTo>
                    <a:pt x="183" y="82"/>
                  </a:lnTo>
                  <a:lnTo>
                    <a:pt x="251" y="114"/>
                  </a:lnTo>
                  <a:lnTo>
                    <a:pt x="321" y="151"/>
                  </a:lnTo>
                  <a:lnTo>
                    <a:pt x="395" y="190"/>
                  </a:lnTo>
                  <a:lnTo>
                    <a:pt x="468" y="232"/>
                  </a:lnTo>
                  <a:lnTo>
                    <a:pt x="544" y="277"/>
                  </a:lnTo>
                  <a:lnTo>
                    <a:pt x="544" y="70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15" name="Rectangle 1322"/>
            <p:cNvSpPr/>
            <p:nvPr/>
          </p:nvSpPr>
          <p:spPr>
            <a:xfrm>
              <a:off x="5622840" y="5371200"/>
              <a:ext cx="50040" cy="61920"/>
            </a:xfrm>
            <a:prstGeom prst="rect">
              <a:avLst/>
            </a:prstGeom>
            <a:solidFill>
              <a:srgbClr val="93d5ed"/>
            </a:solidFill>
            <a:ln w="9360">
              <a:solidFill>
                <a:srgbClr val="ccecff"/>
              </a:solidFill>
              <a:miter/>
            </a:ln>
          </p:spPr>
          <p:style>
            <a:lnRef idx="0"/>
            <a:fillRef idx="0"/>
            <a:effectRef idx="0"/>
            <a:fontRef idx="minor"/>
          </p:style>
          <p:txBody>
            <a:bodyPr lIns="90000" rIns="90000" tIns="15120" bIns="1512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16" name="Freeform 1323"/>
            <p:cNvSpPr/>
            <p:nvPr/>
          </p:nvSpPr>
          <p:spPr>
            <a:xfrm>
              <a:off x="3165480" y="5076720"/>
              <a:ext cx="39240" cy="90720"/>
            </a:xfrm>
            <a:custGeom>
              <a:avLst/>
              <a:gdLst>
                <a:gd name="textAreaLeft" fmla="*/ 0 w 39240"/>
                <a:gd name="textAreaRight" fmla="*/ 39600 w 39240"/>
                <a:gd name="textAreaTop" fmla="*/ 0 h 90720"/>
                <a:gd name="textAreaBottom" fmla="*/ 91080 h 90720"/>
              </a:gdLst>
              <a:ahLst/>
              <a:rect l="textAreaLeft" t="textAreaTop" r="textAreaRight" b="textAreaBottom"/>
              <a:pathLst>
                <a:path w="220" h="599">
                  <a:moveTo>
                    <a:pt x="0" y="567"/>
                  </a:moveTo>
                  <a:lnTo>
                    <a:pt x="220" y="599"/>
                  </a:lnTo>
                  <a:lnTo>
                    <a:pt x="220" y="32"/>
                  </a:lnTo>
                  <a:lnTo>
                    <a:pt x="0" y="0"/>
                  </a:lnTo>
                  <a:lnTo>
                    <a:pt x="0" y="567"/>
                  </a:lnTo>
                  <a:close/>
                </a:path>
              </a:pathLst>
            </a:custGeom>
            <a:solidFill>
              <a:srgbClr val="93d5ed"/>
            </a:solidFill>
            <a:ln w="9360">
              <a:solidFill>
                <a:srgbClr val="ccecff"/>
              </a:solidFill>
              <a:round/>
            </a:ln>
          </p:spPr>
          <p:style>
            <a:lnRef idx="0"/>
            <a:fillRef idx="0"/>
            <a:effectRef idx="0"/>
            <a:fontRef idx="minor"/>
          </p:style>
          <p:txBody>
            <a:bodyPr lIns="90000" rIns="90000" tIns="44280" bIns="44280" anchor="t">
              <a:noAutofit/>
            </a:bodyPr>
            <a:p>
              <a:endParaRPr b="1" lang="en-US" sz="2400" spc="-1" strike="noStrike">
                <a:solidFill>
                  <a:srgbClr val="ffffff"/>
                </a:solidFill>
                <a:latin typeface="Times New Roman"/>
              </a:endParaRPr>
            </a:p>
          </p:txBody>
        </p:sp>
        <p:sp>
          <p:nvSpPr>
            <p:cNvPr id="217" name="Rectangle 1324"/>
            <p:cNvSpPr/>
            <p:nvPr/>
          </p:nvSpPr>
          <p:spPr>
            <a:xfrm>
              <a:off x="3226680" y="5193360"/>
              <a:ext cx="139320" cy="62640"/>
            </a:xfrm>
            <a:prstGeom prst="rect">
              <a:avLst/>
            </a:prstGeom>
            <a:solidFill>
              <a:srgbClr val="93d5ed"/>
            </a:solidFill>
            <a:ln w="9360">
              <a:solidFill>
                <a:srgbClr val="ccecff"/>
              </a:solidFill>
              <a:miter/>
            </a:ln>
          </p:spPr>
          <p:style>
            <a:lnRef idx="0"/>
            <a:fillRef idx="0"/>
            <a:effectRef idx="0"/>
            <a:fontRef idx="minor"/>
          </p:style>
          <p:txBody>
            <a:bodyPr lIns="90000" rIns="90000" tIns="15840" bIns="1584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18" name="Freeform 1325"/>
            <p:cNvSpPr/>
            <p:nvPr/>
          </p:nvSpPr>
          <p:spPr>
            <a:xfrm>
              <a:off x="5114880" y="5331960"/>
              <a:ext cx="285840" cy="86040"/>
            </a:xfrm>
            <a:custGeom>
              <a:avLst/>
              <a:gdLst>
                <a:gd name="textAreaLeft" fmla="*/ 0 w 285840"/>
                <a:gd name="textAreaRight" fmla="*/ 286200 w 285840"/>
                <a:gd name="textAreaTop" fmla="*/ 0 h 86040"/>
                <a:gd name="textAreaBottom" fmla="*/ 86400 h 86040"/>
              </a:gdLst>
              <a:ahLst/>
              <a:rect l="textAreaLeft" t="textAreaTop" r="textAreaRight" b="textAreaBottom"/>
              <a:pathLst>
                <a:path w="1590" h="570">
                  <a:moveTo>
                    <a:pt x="1590" y="14"/>
                  </a:moveTo>
                  <a:lnTo>
                    <a:pt x="1546" y="10"/>
                  </a:lnTo>
                  <a:lnTo>
                    <a:pt x="1500" y="6"/>
                  </a:lnTo>
                  <a:lnTo>
                    <a:pt x="1451" y="4"/>
                  </a:lnTo>
                  <a:lnTo>
                    <a:pt x="1399" y="1"/>
                  </a:lnTo>
                  <a:lnTo>
                    <a:pt x="1346" y="0"/>
                  </a:lnTo>
                  <a:lnTo>
                    <a:pt x="1291" y="1"/>
                  </a:lnTo>
                  <a:lnTo>
                    <a:pt x="1235" y="1"/>
                  </a:lnTo>
                  <a:lnTo>
                    <a:pt x="1176" y="4"/>
                  </a:lnTo>
                  <a:lnTo>
                    <a:pt x="1118" y="6"/>
                  </a:lnTo>
                  <a:lnTo>
                    <a:pt x="1057" y="10"/>
                  </a:lnTo>
                  <a:lnTo>
                    <a:pt x="996" y="13"/>
                  </a:lnTo>
                  <a:lnTo>
                    <a:pt x="936" y="18"/>
                  </a:lnTo>
                  <a:lnTo>
                    <a:pt x="875" y="22"/>
                  </a:lnTo>
                  <a:lnTo>
                    <a:pt x="814" y="28"/>
                  </a:lnTo>
                  <a:lnTo>
                    <a:pt x="753" y="34"/>
                  </a:lnTo>
                  <a:lnTo>
                    <a:pt x="694" y="40"/>
                  </a:lnTo>
                  <a:lnTo>
                    <a:pt x="658" y="43"/>
                  </a:lnTo>
                  <a:lnTo>
                    <a:pt x="621" y="48"/>
                  </a:lnTo>
                  <a:lnTo>
                    <a:pt x="585" y="52"/>
                  </a:lnTo>
                  <a:lnTo>
                    <a:pt x="550" y="56"/>
                  </a:lnTo>
                  <a:lnTo>
                    <a:pt x="515" y="61"/>
                  </a:lnTo>
                  <a:lnTo>
                    <a:pt x="481" y="66"/>
                  </a:lnTo>
                  <a:lnTo>
                    <a:pt x="447" y="70"/>
                  </a:lnTo>
                  <a:lnTo>
                    <a:pt x="415" y="75"/>
                  </a:lnTo>
                  <a:lnTo>
                    <a:pt x="339" y="87"/>
                  </a:lnTo>
                  <a:lnTo>
                    <a:pt x="269" y="98"/>
                  </a:lnTo>
                  <a:lnTo>
                    <a:pt x="203" y="110"/>
                  </a:lnTo>
                  <a:lnTo>
                    <a:pt x="146" y="122"/>
                  </a:lnTo>
                  <a:lnTo>
                    <a:pt x="96" y="132"/>
                  </a:lnTo>
                  <a:lnTo>
                    <a:pt x="54" y="143"/>
                  </a:lnTo>
                  <a:lnTo>
                    <a:pt x="36" y="147"/>
                  </a:lnTo>
                  <a:lnTo>
                    <a:pt x="21" y="152"/>
                  </a:lnTo>
                  <a:lnTo>
                    <a:pt x="9" y="157"/>
                  </a:lnTo>
                  <a:lnTo>
                    <a:pt x="0" y="161"/>
                  </a:lnTo>
                  <a:lnTo>
                    <a:pt x="0" y="570"/>
                  </a:lnTo>
                  <a:lnTo>
                    <a:pt x="21" y="562"/>
                  </a:lnTo>
                  <a:lnTo>
                    <a:pt x="54" y="553"/>
                  </a:lnTo>
                  <a:lnTo>
                    <a:pt x="96" y="542"/>
                  </a:lnTo>
                  <a:lnTo>
                    <a:pt x="146" y="532"/>
                  </a:lnTo>
                  <a:lnTo>
                    <a:pt x="203" y="520"/>
                  </a:lnTo>
                  <a:lnTo>
                    <a:pt x="269" y="508"/>
                  </a:lnTo>
                  <a:lnTo>
                    <a:pt x="339" y="496"/>
                  </a:lnTo>
                  <a:lnTo>
                    <a:pt x="415" y="484"/>
                  </a:lnTo>
                  <a:lnTo>
                    <a:pt x="447" y="479"/>
                  </a:lnTo>
                  <a:lnTo>
                    <a:pt x="481" y="476"/>
                  </a:lnTo>
                  <a:lnTo>
                    <a:pt x="515" y="471"/>
                  </a:lnTo>
                  <a:lnTo>
                    <a:pt x="550" y="466"/>
                  </a:lnTo>
                  <a:lnTo>
                    <a:pt x="585" y="463"/>
                  </a:lnTo>
                  <a:lnTo>
                    <a:pt x="621" y="458"/>
                  </a:lnTo>
                  <a:lnTo>
                    <a:pt x="658" y="453"/>
                  </a:lnTo>
                  <a:lnTo>
                    <a:pt x="694" y="449"/>
                  </a:lnTo>
                  <a:lnTo>
                    <a:pt x="753" y="443"/>
                  </a:lnTo>
                  <a:lnTo>
                    <a:pt x="814" y="437"/>
                  </a:lnTo>
                  <a:lnTo>
                    <a:pt x="875" y="431"/>
                  </a:lnTo>
                  <a:lnTo>
                    <a:pt x="936" y="427"/>
                  </a:lnTo>
                  <a:lnTo>
                    <a:pt x="996" y="422"/>
                  </a:lnTo>
                  <a:lnTo>
                    <a:pt x="1057" y="418"/>
                  </a:lnTo>
                  <a:lnTo>
                    <a:pt x="1118" y="415"/>
                  </a:lnTo>
                  <a:lnTo>
                    <a:pt x="1176" y="413"/>
                  </a:lnTo>
                  <a:lnTo>
                    <a:pt x="1235" y="411"/>
                  </a:lnTo>
                  <a:lnTo>
                    <a:pt x="1291" y="410"/>
                  </a:lnTo>
                  <a:lnTo>
                    <a:pt x="1346" y="410"/>
                  </a:lnTo>
                  <a:lnTo>
                    <a:pt x="1399" y="410"/>
                  </a:lnTo>
                  <a:lnTo>
                    <a:pt x="1451" y="413"/>
                  </a:lnTo>
                  <a:lnTo>
                    <a:pt x="1500" y="415"/>
                  </a:lnTo>
                  <a:lnTo>
                    <a:pt x="1546" y="418"/>
                  </a:lnTo>
                  <a:lnTo>
                    <a:pt x="1590" y="423"/>
                  </a:lnTo>
                  <a:lnTo>
                    <a:pt x="1590" y="14"/>
                  </a:lnTo>
                  <a:close/>
                </a:path>
              </a:pathLst>
            </a:custGeom>
            <a:solidFill>
              <a:srgbClr val="93d5ed"/>
            </a:solidFill>
            <a:ln w="9360">
              <a:solidFill>
                <a:srgbClr val="ccecff"/>
              </a:solidFill>
              <a:round/>
            </a:ln>
          </p:spPr>
          <p:style>
            <a:lnRef idx="0"/>
            <a:fillRef idx="0"/>
            <a:effectRef idx="0"/>
            <a:fontRef idx="minor"/>
          </p:style>
          <p:txBody>
            <a:bodyPr lIns="90000" rIns="90000" tIns="39600" bIns="39600" anchor="t">
              <a:noAutofit/>
            </a:bodyPr>
            <a:p>
              <a:endParaRPr b="1" lang="en-US" sz="2400" spc="-1" strike="noStrike">
                <a:solidFill>
                  <a:srgbClr val="ffffff"/>
                </a:solidFill>
                <a:latin typeface="Times New Roman"/>
              </a:endParaRPr>
            </a:p>
          </p:txBody>
        </p:sp>
        <p:sp>
          <p:nvSpPr>
            <p:cNvPr id="219" name="Freeform 1326"/>
            <p:cNvSpPr/>
            <p:nvPr/>
          </p:nvSpPr>
          <p:spPr>
            <a:xfrm>
              <a:off x="5682240" y="4579560"/>
              <a:ext cx="58320" cy="101160"/>
            </a:xfrm>
            <a:custGeom>
              <a:avLst/>
              <a:gdLst>
                <a:gd name="textAreaLeft" fmla="*/ 0 w 58320"/>
                <a:gd name="textAreaRight" fmla="*/ 58320 w 58320"/>
                <a:gd name="textAreaTop" fmla="*/ 0 h 101160"/>
                <a:gd name="textAreaBottom" fmla="*/ 101520 h 101160"/>
              </a:gdLst>
              <a:ahLst/>
              <a:rect l="textAreaLeft" t="textAreaTop" r="textAreaRight" b="textAreaBottom"/>
              <a:pathLst>
                <a:path w="325" h="672">
                  <a:moveTo>
                    <a:pt x="34" y="672"/>
                  </a:moveTo>
                  <a:lnTo>
                    <a:pt x="33" y="665"/>
                  </a:lnTo>
                  <a:lnTo>
                    <a:pt x="32" y="658"/>
                  </a:lnTo>
                  <a:lnTo>
                    <a:pt x="29" y="652"/>
                  </a:lnTo>
                  <a:lnTo>
                    <a:pt x="25" y="645"/>
                  </a:lnTo>
                  <a:lnTo>
                    <a:pt x="19" y="637"/>
                  </a:lnTo>
                  <a:lnTo>
                    <a:pt x="14" y="628"/>
                  </a:lnTo>
                  <a:lnTo>
                    <a:pt x="8" y="618"/>
                  </a:lnTo>
                  <a:lnTo>
                    <a:pt x="5" y="607"/>
                  </a:lnTo>
                  <a:lnTo>
                    <a:pt x="1" y="596"/>
                  </a:lnTo>
                  <a:lnTo>
                    <a:pt x="0" y="584"/>
                  </a:lnTo>
                  <a:lnTo>
                    <a:pt x="0" y="572"/>
                  </a:lnTo>
                  <a:lnTo>
                    <a:pt x="3" y="559"/>
                  </a:lnTo>
                  <a:lnTo>
                    <a:pt x="6" y="548"/>
                  </a:lnTo>
                  <a:lnTo>
                    <a:pt x="13" y="536"/>
                  </a:lnTo>
                  <a:lnTo>
                    <a:pt x="17" y="530"/>
                  </a:lnTo>
                  <a:lnTo>
                    <a:pt x="22" y="524"/>
                  </a:lnTo>
                  <a:lnTo>
                    <a:pt x="28" y="520"/>
                  </a:lnTo>
                  <a:lnTo>
                    <a:pt x="34" y="514"/>
                  </a:lnTo>
                  <a:lnTo>
                    <a:pt x="41" y="509"/>
                  </a:lnTo>
                  <a:lnTo>
                    <a:pt x="49" y="505"/>
                  </a:lnTo>
                  <a:lnTo>
                    <a:pt x="59" y="500"/>
                  </a:lnTo>
                  <a:lnTo>
                    <a:pt x="68" y="495"/>
                  </a:lnTo>
                  <a:lnTo>
                    <a:pt x="91" y="488"/>
                  </a:lnTo>
                  <a:lnTo>
                    <a:pt x="117" y="481"/>
                  </a:lnTo>
                  <a:lnTo>
                    <a:pt x="167" y="471"/>
                  </a:lnTo>
                  <a:lnTo>
                    <a:pt x="211" y="460"/>
                  </a:lnTo>
                  <a:lnTo>
                    <a:pt x="246" y="451"/>
                  </a:lnTo>
                  <a:lnTo>
                    <a:pt x="274" y="441"/>
                  </a:lnTo>
                  <a:lnTo>
                    <a:pt x="296" y="433"/>
                  </a:lnTo>
                  <a:lnTo>
                    <a:pt x="311" y="425"/>
                  </a:lnTo>
                  <a:lnTo>
                    <a:pt x="317" y="420"/>
                  </a:lnTo>
                  <a:lnTo>
                    <a:pt x="322" y="417"/>
                  </a:lnTo>
                  <a:lnTo>
                    <a:pt x="324" y="412"/>
                  </a:lnTo>
                  <a:lnTo>
                    <a:pt x="325" y="409"/>
                  </a:lnTo>
                  <a:lnTo>
                    <a:pt x="325" y="0"/>
                  </a:lnTo>
                  <a:lnTo>
                    <a:pt x="324" y="3"/>
                  </a:lnTo>
                  <a:lnTo>
                    <a:pt x="322" y="8"/>
                  </a:lnTo>
                  <a:lnTo>
                    <a:pt x="317" y="12"/>
                  </a:lnTo>
                  <a:lnTo>
                    <a:pt x="311" y="15"/>
                  </a:lnTo>
                  <a:lnTo>
                    <a:pt x="296" y="24"/>
                  </a:lnTo>
                  <a:lnTo>
                    <a:pt x="274" y="33"/>
                  </a:lnTo>
                  <a:lnTo>
                    <a:pt x="246" y="42"/>
                  </a:lnTo>
                  <a:lnTo>
                    <a:pt x="211" y="51"/>
                  </a:lnTo>
                  <a:lnTo>
                    <a:pt x="167" y="62"/>
                  </a:lnTo>
                  <a:lnTo>
                    <a:pt x="117" y="72"/>
                  </a:lnTo>
                  <a:lnTo>
                    <a:pt x="91" y="78"/>
                  </a:lnTo>
                  <a:lnTo>
                    <a:pt x="68" y="86"/>
                  </a:lnTo>
                  <a:lnTo>
                    <a:pt x="59" y="91"/>
                  </a:lnTo>
                  <a:lnTo>
                    <a:pt x="49" y="96"/>
                  </a:lnTo>
                  <a:lnTo>
                    <a:pt x="41" y="100"/>
                  </a:lnTo>
                  <a:lnTo>
                    <a:pt x="34" y="105"/>
                  </a:lnTo>
                  <a:lnTo>
                    <a:pt x="28" y="111"/>
                  </a:lnTo>
                  <a:lnTo>
                    <a:pt x="22" y="116"/>
                  </a:lnTo>
                  <a:lnTo>
                    <a:pt x="17" y="121"/>
                  </a:lnTo>
                  <a:lnTo>
                    <a:pt x="13" y="127"/>
                  </a:lnTo>
                  <a:lnTo>
                    <a:pt x="6" y="139"/>
                  </a:lnTo>
                  <a:lnTo>
                    <a:pt x="3" y="151"/>
                  </a:lnTo>
                  <a:lnTo>
                    <a:pt x="0" y="162"/>
                  </a:lnTo>
                  <a:lnTo>
                    <a:pt x="0" y="174"/>
                  </a:lnTo>
                  <a:lnTo>
                    <a:pt x="1" y="186"/>
                  </a:lnTo>
                  <a:lnTo>
                    <a:pt x="5" y="196"/>
                  </a:lnTo>
                  <a:lnTo>
                    <a:pt x="8" y="207"/>
                  </a:lnTo>
                  <a:lnTo>
                    <a:pt x="14" y="217"/>
                  </a:lnTo>
                  <a:lnTo>
                    <a:pt x="19" y="225"/>
                  </a:lnTo>
                  <a:lnTo>
                    <a:pt x="25" y="234"/>
                  </a:lnTo>
                  <a:lnTo>
                    <a:pt x="29" y="241"/>
                  </a:lnTo>
                  <a:lnTo>
                    <a:pt x="32" y="248"/>
                  </a:lnTo>
                  <a:lnTo>
                    <a:pt x="33" y="255"/>
                  </a:lnTo>
                  <a:lnTo>
                    <a:pt x="34" y="262"/>
                  </a:lnTo>
                  <a:lnTo>
                    <a:pt x="34" y="67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20" name="Freeform 1327"/>
            <p:cNvSpPr/>
            <p:nvPr/>
          </p:nvSpPr>
          <p:spPr>
            <a:xfrm>
              <a:off x="5627520" y="4704480"/>
              <a:ext cx="88920" cy="92880"/>
            </a:xfrm>
            <a:custGeom>
              <a:avLst/>
              <a:gdLst>
                <a:gd name="textAreaLeft" fmla="*/ 0 w 88920"/>
                <a:gd name="textAreaRight" fmla="*/ 89280 w 88920"/>
                <a:gd name="textAreaTop" fmla="*/ 0 h 92880"/>
                <a:gd name="textAreaBottom" fmla="*/ 93240 h 92880"/>
              </a:gdLst>
              <a:ahLst/>
              <a:rect l="textAreaLeft" t="textAreaTop" r="textAreaRight" b="textAreaBottom"/>
              <a:pathLst>
                <a:path w="495" h="613">
                  <a:moveTo>
                    <a:pt x="0" y="613"/>
                  </a:moveTo>
                  <a:lnTo>
                    <a:pt x="8" y="612"/>
                  </a:lnTo>
                  <a:lnTo>
                    <a:pt x="29" y="607"/>
                  </a:lnTo>
                  <a:lnTo>
                    <a:pt x="43" y="604"/>
                  </a:lnTo>
                  <a:lnTo>
                    <a:pt x="58" y="599"/>
                  </a:lnTo>
                  <a:lnTo>
                    <a:pt x="74" y="593"/>
                  </a:lnTo>
                  <a:lnTo>
                    <a:pt x="91" y="587"/>
                  </a:lnTo>
                  <a:lnTo>
                    <a:pt x="107" y="580"/>
                  </a:lnTo>
                  <a:lnTo>
                    <a:pt x="122" y="572"/>
                  </a:lnTo>
                  <a:lnTo>
                    <a:pt x="136" y="563"/>
                  </a:lnTo>
                  <a:lnTo>
                    <a:pt x="147" y="554"/>
                  </a:lnTo>
                  <a:lnTo>
                    <a:pt x="151" y="548"/>
                  </a:lnTo>
                  <a:lnTo>
                    <a:pt x="156" y="543"/>
                  </a:lnTo>
                  <a:lnTo>
                    <a:pt x="158" y="537"/>
                  </a:lnTo>
                  <a:lnTo>
                    <a:pt x="161" y="530"/>
                  </a:lnTo>
                  <a:lnTo>
                    <a:pt x="162" y="524"/>
                  </a:lnTo>
                  <a:lnTo>
                    <a:pt x="162" y="517"/>
                  </a:lnTo>
                  <a:lnTo>
                    <a:pt x="161" y="510"/>
                  </a:lnTo>
                  <a:lnTo>
                    <a:pt x="158" y="503"/>
                  </a:lnTo>
                  <a:lnTo>
                    <a:pt x="208" y="489"/>
                  </a:lnTo>
                  <a:lnTo>
                    <a:pt x="252" y="475"/>
                  </a:lnTo>
                  <a:lnTo>
                    <a:pt x="293" y="462"/>
                  </a:lnTo>
                  <a:lnTo>
                    <a:pt x="332" y="450"/>
                  </a:lnTo>
                  <a:lnTo>
                    <a:pt x="371" y="438"/>
                  </a:lnTo>
                  <a:lnTo>
                    <a:pt x="410" y="426"/>
                  </a:lnTo>
                  <a:lnTo>
                    <a:pt x="450" y="417"/>
                  </a:lnTo>
                  <a:lnTo>
                    <a:pt x="495" y="409"/>
                  </a:lnTo>
                  <a:lnTo>
                    <a:pt x="495" y="0"/>
                  </a:lnTo>
                  <a:lnTo>
                    <a:pt x="450" y="8"/>
                  </a:lnTo>
                  <a:lnTo>
                    <a:pt x="410" y="17"/>
                  </a:lnTo>
                  <a:lnTo>
                    <a:pt x="371" y="29"/>
                  </a:lnTo>
                  <a:lnTo>
                    <a:pt x="332" y="41"/>
                  </a:lnTo>
                  <a:lnTo>
                    <a:pt x="293" y="54"/>
                  </a:lnTo>
                  <a:lnTo>
                    <a:pt x="252" y="67"/>
                  </a:lnTo>
                  <a:lnTo>
                    <a:pt x="208" y="81"/>
                  </a:lnTo>
                  <a:lnTo>
                    <a:pt x="158" y="95"/>
                  </a:lnTo>
                  <a:lnTo>
                    <a:pt x="161" y="102"/>
                  </a:lnTo>
                  <a:lnTo>
                    <a:pt x="162" y="109"/>
                  </a:lnTo>
                  <a:lnTo>
                    <a:pt x="162" y="116"/>
                  </a:lnTo>
                  <a:lnTo>
                    <a:pt x="161" y="121"/>
                  </a:lnTo>
                  <a:lnTo>
                    <a:pt x="158" y="127"/>
                  </a:lnTo>
                  <a:lnTo>
                    <a:pt x="156" y="133"/>
                  </a:lnTo>
                  <a:lnTo>
                    <a:pt x="151" y="139"/>
                  </a:lnTo>
                  <a:lnTo>
                    <a:pt x="147" y="145"/>
                  </a:lnTo>
                  <a:lnTo>
                    <a:pt x="136" y="154"/>
                  </a:lnTo>
                  <a:lnTo>
                    <a:pt x="122" y="163"/>
                  </a:lnTo>
                  <a:lnTo>
                    <a:pt x="107" y="172"/>
                  </a:lnTo>
                  <a:lnTo>
                    <a:pt x="91" y="179"/>
                  </a:lnTo>
                  <a:lnTo>
                    <a:pt x="74" y="184"/>
                  </a:lnTo>
                  <a:lnTo>
                    <a:pt x="58" y="190"/>
                  </a:lnTo>
                  <a:lnTo>
                    <a:pt x="43" y="194"/>
                  </a:lnTo>
                  <a:lnTo>
                    <a:pt x="29" y="197"/>
                  </a:lnTo>
                  <a:lnTo>
                    <a:pt x="8" y="202"/>
                  </a:lnTo>
                  <a:lnTo>
                    <a:pt x="0" y="204"/>
                  </a:lnTo>
                  <a:lnTo>
                    <a:pt x="0" y="613"/>
                  </a:lnTo>
                  <a:close/>
                </a:path>
              </a:pathLst>
            </a:custGeom>
            <a:solidFill>
              <a:srgbClr val="93d5ed"/>
            </a:solidFill>
            <a:ln w="9360">
              <a:solidFill>
                <a:srgbClr val="ccecff"/>
              </a:solidFill>
              <a:round/>
            </a:ln>
          </p:spPr>
          <p:style>
            <a:lnRef idx="0"/>
            <a:fillRef idx="0"/>
            <a:effectRef idx="0"/>
            <a:fontRef idx="minor"/>
          </p:style>
          <p:txBody>
            <a:bodyPr lIns="90000" rIns="90000" tIns="46440" bIns="46440" anchor="t">
              <a:noAutofit/>
            </a:bodyPr>
            <a:p>
              <a:endParaRPr b="1" lang="en-US" sz="2400" spc="-1" strike="noStrike">
                <a:solidFill>
                  <a:srgbClr val="ffffff"/>
                </a:solidFill>
                <a:latin typeface="Times New Roman"/>
              </a:endParaRPr>
            </a:p>
          </p:txBody>
        </p:sp>
        <p:sp>
          <p:nvSpPr>
            <p:cNvPr id="221" name="Freeform 1328"/>
            <p:cNvSpPr/>
            <p:nvPr/>
          </p:nvSpPr>
          <p:spPr>
            <a:xfrm>
              <a:off x="3544200" y="5301000"/>
              <a:ext cx="195120" cy="76320"/>
            </a:xfrm>
            <a:custGeom>
              <a:avLst/>
              <a:gdLst>
                <a:gd name="textAreaLeft" fmla="*/ 0 w 195120"/>
                <a:gd name="textAreaRight" fmla="*/ 195480 w 195120"/>
                <a:gd name="textAreaTop" fmla="*/ 0 h 76320"/>
                <a:gd name="textAreaBottom" fmla="*/ 76680 h 76320"/>
              </a:gdLst>
              <a:ahLst/>
              <a:rect l="textAreaLeft" t="textAreaTop" r="textAreaRight" b="textAreaBottom"/>
              <a:pathLst>
                <a:path w="1083" h="505">
                  <a:moveTo>
                    <a:pt x="1083" y="92"/>
                  </a:moveTo>
                  <a:lnTo>
                    <a:pt x="660" y="55"/>
                  </a:lnTo>
                  <a:lnTo>
                    <a:pt x="0" y="0"/>
                  </a:lnTo>
                  <a:lnTo>
                    <a:pt x="0" y="409"/>
                  </a:lnTo>
                  <a:lnTo>
                    <a:pt x="660" y="467"/>
                  </a:lnTo>
                  <a:lnTo>
                    <a:pt x="1083" y="505"/>
                  </a:lnTo>
                  <a:lnTo>
                    <a:pt x="1083" y="92"/>
                  </a:lnTo>
                  <a:close/>
                </a:path>
              </a:pathLst>
            </a:custGeom>
            <a:solidFill>
              <a:srgbClr val="93d5ed"/>
            </a:solidFill>
            <a:ln w="9360">
              <a:solidFill>
                <a:srgbClr val="ccecff"/>
              </a:solidFill>
              <a:round/>
            </a:ln>
          </p:spPr>
          <p:style>
            <a:lnRef idx="0"/>
            <a:fillRef idx="0"/>
            <a:effectRef idx="0"/>
            <a:fontRef idx="minor"/>
          </p:style>
          <p:txBody>
            <a:bodyPr lIns="90000" rIns="90000" tIns="29880" bIns="29880" anchor="t">
              <a:noAutofit/>
            </a:bodyPr>
            <a:p>
              <a:endParaRPr b="1" lang="en-US" sz="2400" spc="-1" strike="noStrike">
                <a:solidFill>
                  <a:srgbClr val="ffffff"/>
                </a:solidFill>
                <a:latin typeface="Times New Roman"/>
              </a:endParaRPr>
            </a:p>
          </p:txBody>
        </p:sp>
        <p:sp>
          <p:nvSpPr>
            <p:cNvPr id="222" name="Freeform 1329"/>
            <p:cNvSpPr/>
            <p:nvPr/>
          </p:nvSpPr>
          <p:spPr>
            <a:xfrm>
              <a:off x="3755520" y="52873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548" h="438">
                  <a:moveTo>
                    <a:pt x="548" y="29"/>
                  </a:moveTo>
                  <a:lnTo>
                    <a:pt x="0" y="0"/>
                  </a:lnTo>
                  <a:lnTo>
                    <a:pt x="0" y="409"/>
                  </a:lnTo>
                  <a:lnTo>
                    <a:pt x="548" y="438"/>
                  </a:lnTo>
                  <a:lnTo>
                    <a:pt x="548" y="29"/>
                  </a:lnTo>
                  <a:close/>
                </a:path>
              </a:pathLst>
            </a:custGeom>
            <a:solidFill>
              <a:srgbClr val="93d5ed"/>
            </a:solidFill>
            <a:ln w="9360">
              <a:solidFill>
                <a:srgbClr val="ccecff"/>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Times New Roman"/>
              </a:endParaRPr>
            </a:p>
          </p:txBody>
        </p:sp>
        <p:sp>
          <p:nvSpPr>
            <p:cNvPr id="223" name="Freeform 1330"/>
            <p:cNvSpPr/>
            <p:nvPr/>
          </p:nvSpPr>
          <p:spPr>
            <a:xfrm>
              <a:off x="4016160" y="5484240"/>
              <a:ext cx="33840" cy="75600"/>
            </a:xfrm>
            <a:custGeom>
              <a:avLst/>
              <a:gdLst>
                <a:gd name="textAreaLeft" fmla="*/ 0 w 33840"/>
                <a:gd name="textAreaRight" fmla="*/ 34200 w 33840"/>
                <a:gd name="textAreaTop" fmla="*/ 0 h 75600"/>
                <a:gd name="textAreaBottom" fmla="*/ 75960 h 75600"/>
              </a:gdLst>
              <a:ahLst/>
              <a:rect l="textAreaLeft" t="textAreaTop" r="textAreaRight" b="textAreaBottom"/>
              <a:pathLst>
                <a:path w="187" h="501">
                  <a:moveTo>
                    <a:pt x="187" y="0"/>
                  </a:moveTo>
                  <a:lnTo>
                    <a:pt x="0" y="92"/>
                  </a:lnTo>
                  <a:lnTo>
                    <a:pt x="0" y="501"/>
                  </a:lnTo>
                  <a:lnTo>
                    <a:pt x="187" y="409"/>
                  </a:lnTo>
                  <a:lnTo>
                    <a:pt x="187" y="0"/>
                  </a:lnTo>
                  <a:close/>
                </a:path>
              </a:pathLst>
            </a:custGeom>
            <a:solidFill>
              <a:srgbClr val="93d5ed"/>
            </a:solidFill>
            <a:ln w="9360">
              <a:solidFill>
                <a:srgbClr val="ccecff"/>
              </a:solidFill>
              <a:round/>
            </a:ln>
          </p:spPr>
          <p:style>
            <a:lnRef idx="0"/>
            <a:fillRef idx="0"/>
            <a:effectRef idx="0"/>
            <a:fontRef idx="minor"/>
          </p:style>
          <p:txBody>
            <a:bodyPr lIns="90000" rIns="90000" tIns="29160" bIns="29160" anchor="t">
              <a:noAutofit/>
            </a:bodyPr>
            <a:p>
              <a:endParaRPr b="1" lang="en-US" sz="2400" spc="-1" strike="noStrike">
                <a:solidFill>
                  <a:srgbClr val="ffffff"/>
                </a:solidFill>
                <a:latin typeface="Times New Roman"/>
              </a:endParaRPr>
            </a:p>
          </p:txBody>
        </p:sp>
        <p:sp>
          <p:nvSpPr>
            <p:cNvPr id="224" name="Freeform 1331"/>
            <p:cNvSpPr/>
            <p:nvPr/>
          </p:nvSpPr>
          <p:spPr>
            <a:xfrm>
              <a:off x="4089240" y="5427360"/>
              <a:ext cx="87120" cy="67320"/>
            </a:xfrm>
            <a:custGeom>
              <a:avLst/>
              <a:gdLst>
                <a:gd name="textAreaLeft" fmla="*/ 0 w 87120"/>
                <a:gd name="textAreaRight" fmla="*/ 87480 w 87120"/>
                <a:gd name="textAreaTop" fmla="*/ 0 h 67320"/>
                <a:gd name="textAreaBottom" fmla="*/ 67680 h 67320"/>
              </a:gdLst>
              <a:ahLst/>
              <a:rect l="textAreaLeft" t="textAreaTop" r="textAreaRight" b="textAreaBottom"/>
              <a:pathLst>
                <a:path w="487" h="442">
                  <a:moveTo>
                    <a:pt x="487" y="415"/>
                  </a:moveTo>
                  <a:lnTo>
                    <a:pt x="457" y="411"/>
                  </a:lnTo>
                  <a:lnTo>
                    <a:pt x="426" y="410"/>
                  </a:lnTo>
                  <a:lnTo>
                    <a:pt x="398" y="409"/>
                  </a:lnTo>
                  <a:lnTo>
                    <a:pt x="372" y="409"/>
                  </a:lnTo>
                  <a:lnTo>
                    <a:pt x="320" y="411"/>
                  </a:lnTo>
                  <a:lnTo>
                    <a:pt x="262" y="415"/>
                  </a:lnTo>
                  <a:lnTo>
                    <a:pt x="200" y="420"/>
                  </a:lnTo>
                  <a:lnTo>
                    <a:pt x="139" y="426"/>
                  </a:lnTo>
                  <a:lnTo>
                    <a:pt x="85" y="431"/>
                  </a:lnTo>
                  <a:lnTo>
                    <a:pt x="41" y="436"/>
                  </a:lnTo>
                  <a:lnTo>
                    <a:pt x="11" y="440"/>
                  </a:lnTo>
                  <a:lnTo>
                    <a:pt x="0" y="442"/>
                  </a:lnTo>
                  <a:lnTo>
                    <a:pt x="0" y="32"/>
                  </a:lnTo>
                  <a:lnTo>
                    <a:pt x="11" y="31"/>
                  </a:lnTo>
                  <a:lnTo>
                    <a:pt x="41" y="27"/>
                  </a:lnTo>
                  <a:lnTo>
                    <a:pt x="85" y="23"/>
                  </a:lnTo>
                  <a:lnTo>
                    <a:pt x="139" y="17"/>
                  </a:lnTo>
                  <a:lnTo>
                    <a:pt x="200" y="11"/>
                  </a:lnTo>
                  <a:lnTo>
                    <a:pt x="262" y="6"/>
                  </a:lnTo>
                  <a:lnTo>
                    <a:pt x="320" y="2"/>
                  </a:lnTo>
                  <a:lnTo>
                    <a:pt x="372" y="0"/>
                  </a:lnTo>
                  <a:lnTo>
                    <a:pt x="398" y="0"/>
                  </a:lnTo>
                  <a:lnTo>
                    <a:pt x="426" y="2"/>
                  </a:lnTo>
                  <a:lnTo>
                    <a:pt x="457" y="3"/>
                  </a:lnTo>
                  <a:lnTo>
                    <a:pt x="487" y="6"/>
                  </a:lnTo>
                  <a:lnTo>
                    <a:pt x="487" y="415"/>
                  </a:lnTo>
                  <a:close/>
                </a:path>
              </a:pathLst>
            </a:custGeom>
            <a:solidFill>
              <a:srgbClr val="93d5ed"/>
            </a:solidFill>
            <a:ln w="9360">
              <a:solidFill>
                <a:srgbClr val="ccecff"/>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Times New Roman"/>
              </a:endParaRPr>
            </a:p>
          </p:txBody>
        </p:sp>
        <p:sp>
          <p:nvSpPr>
            <p:cNvPr id="225" name="Rectangle 1332"/>
            <p:cNvSpPr/>
            <p:nvPr/>
          </p:nvSpPr>
          <p:spPr>
            <a:xfrm>
              <a:off x="4411080" y="5726880"/>
              <a:ext cx="83520" cy="61920"/>
            </a:xfrm>
            <a:prstGeom prst="rect">
              <a:avLst/>
            </a:prstGeom>
            <a:solidFill>
              <a:srgbClr val="93d5ed"/>
            </a:solidFill>
            <a:ln w="9360">
              <a:solidFill>
                <a:srgbClr val="ccecff"/>
              </a:solidFill>
              <a:miter/>
            </a:ln>
          </p:spPr>
          <p:style>
            <a:lnRef idx="0"/>
            <a:fillRef idx="0"/>
            <a:effectRef idx="0"/>
            <a:fontRef idx="minor"/>
          </p:style>
          <p:txBody>
            <a:bodyPr lIns="90000" rIns="90000" tIns="15120" bIns="1512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26" name="Freeform 1333"/>
            <p:cNvSpPr/>
            <p:nvPr/>
          </p:nvSpPr>
          <p:spPr>
            <a:xfrm>
              <a:off x="4844160" y="5412960"/>
              <a:ext cx="150840" cy="77760"/>
            </a:xfrm>
            <a:custGeom>
              <a:avLst/>
              <a:gdLst>
                <a:gd name="textAreaLeft" fmla="*/ 0 w 150840"/>
                <a:gd name="textAreaRight" fmla="*/ 151200 w 150840"/>
                <a:gd name="textAreaTop" fmla="*/ 0 h 77760"/>
                <a:gd name="textAreaBottom" fmla="*/ 78120 h 77760"/>
              </a:gdLst>
              <a:ahLst/>
              <a:rect l="textAreaLeft" t="textAreaTop" r="textAreaRight" b="textAreaBottom"/>
              <a:pathLst>
                <a:path w="839" h="518">
                  <a:moveTo>
                    <a:pt x="839" y="518"/>
                  </a:moveTo>
                  <a:lnTo>
                    <a:pt x="780" y="500"/>
                  </a:lnTo>
                  <a:lnTo>
                    <a:pt x="719" y="484"/>
                  </a:lnTo>
                  <a:lnTo>
                    <a:pt x="657" y="470"/>
                  </a:lnTo>
                  <a:lnTo>
                    <a:pt x="594" y="457"/>
                  </a:lnTo>
                  <a:lnTo>
                    <a:pt x="531" y="446"/>
                  </a:lnTo>
                  <a:lnTo>
                    <a:pt x="468" y="436"/>
                  </a:lnTo>
                  <a:lnTo>
                    <a:pt x="406" y="429"/>
                  </a:lnTo>
                  <a:lnTo>
                    <a:pt x="347" y="422"/>
                  </a:lnTo>
                  <a:lnTo>
                    <a:pt x="290" y="416"/>
                  </a:lnTo>
                  <a:lnTo>
                    <a:pt x="235" y="412"/>
                  </a:lnTo>
                  <a:lnTo>
                    <a:pt x="183" y="410"/>
                  </a:lnTo>
                  <a:lnTo>
                    <a:pt x="135" y="409"/>
                  </a:lnTo>
                  <a:lnTo>
                    <a:pt x="93" y="409"/>
                  </a:lnTo>
                  <a:lnTo>
                    <a:pt x="56" y="410"/>
                  </a:lnTo>
                  <a:lnTo>
                    <a:pt x="24" y="412"/>
                  </a:lnTo>
                  <a:lnTo>
                    <a:pt x="0" y="416"/>
                  </a:lnTo>
                  <a:lnTo>
                    <a:pt x="0" y="7"/>
                  </a:lnTo>
                  <a:lnTo>
                    <a:pt x="24" y="4"/>
                  </a:lnTo>
                  <a:lnTo>
                    <a:pt x="56" y="1"/>
                  </a:lnTo>
                  <a:lnTo>
                    <a:pt x="93" y="0"/>
                  </a:lnTo>
                  <a:lnTo>
                    <a:pt x="135" y="0"/>
                  </a:lnTo>
                  <a:lnTo>
                    <a:pt x="183" y="1"/>
                  </a:lnTo>
                  <a:lnTo>
                    <a:pt x="235" y="4"/>
                  </a:lnTo>
                  <a:lnTo>
                    <a:pt x="290" y="7"/>
                  </a:lnTo>
                  <a:lnTo>
                    <a:pt x="347" y="13"/>
                  </a:lnTo>
                  <a:lnTo>
                    <a:pt x="406" y="19"/>
                  </a:lnTo>
                  <a:lnTo>
                    <a:pt x="468" y="27"/>
                  </a:lnTo>
                  <a:lnTo>
                    <a:pt x="531" y="37"/>
                  </a:lnTo>
                  <a:lnTo>
                    <a:pt x="594" y="48"/>
                  </a:lnTo>
                  <a:lnTo>
                    <a:pt x="657" y="61"/>
                  </a:lnTo>
                  <a:lnTo>
                    <a:pt x="719" y="75"/>
                  </a:lnTo>
                  <a:lnTo>
                    <a:pt x="780" y="91"/>
                  </a:lnTo>
                  <a:lnTo>
                    <a:pt x="839" y="109"/>
                  </a:lnTo>
                  <a:lnTo>
                    <a:pt x="839" y="518"/>
                  </a:lnTo>
                  <a:close/>
                </a:path>
              </a:pathLst>
            </a:custGeom>
            <a:solidFill>
              <a:srgbClr val="93d5ed"/>
            </a:solidFill>
            <a:ln w="9360">
              <a:solidFill>
                <a:srgbClr val="ccecff"/>
              </a:solidFill>
              <a:round/>
            </a:ln>
          </p:spPr>
          <p:style>
            <a:lnRef idx="0"/>
            <a:fillRef idx="0"/>
            <a:effectRef idx="0"/>
            <a:fontRef idx="minor"/>
          </p:style>
          <p:txBody>
            <a:bodyPr lIns="90000" rIns="90000" tIns="31320" bIns="31320" anchor="t">
              <a:noAutofit/>
            </a:bodyPr>
            <a:p>
              <a:endParaRPr b="1" lang="en-US" sz="2400" spc="-1" strike="noStrike">
                <a:solidFill>
                  <a:srgbClr val="ffffff"/>
                </a:solidFill>
                <a:latin typeface="Times New Roman"/>
              </a:endParaRPr>
            </a:p>
          </p:txBody>
        </p:sp>
        <p:sp>
          <p:nvSpPr>
            <p:cNvPr id="227" name="Freeform 1334"/>
            <p:cNvSpPr/>
            <p:nvPr/>
          </p:nvSpPr>
          <p:spPr>
            <a:xfrm>
              <a:off x="5100480" y="5429520"/>
              <a:ext cx="55440" cy="78480"/>
            </a:xfrm>
            <a:custGeom>
              <a:avLst/>
              <a:gdLst>
                <a:gd name="textAreaLeft" fmla="*/ 0 w 55440"/>
                <a:gd name="textAreaRight" fmla="*/ 55800 w 55440"/>
                <a:gd name="textAreaTop" fmla="*/ 0 h 78480"/>
                <a:gd name="textAreaBottom" fmla="*/ 78840 h 78480"/>
              </a:gdLst>
              <a:ahLst/>
              <a:rect l="textAreaLeft" t="textAreaTop" r="textAreaRight" b="textAreaBottom"/>
              <a:pathLst>
                <a:path w="308" h="519">
                  <a:moveTo>
                    <a:pt x="308" y="519"/>
                  </a:moveTo>
                  <a:lnTo>
                    <a:pt x="287" y="504"/>
                  </a:lnTo>
                  <a:lnTo>
                    <a:pt x="266" y="489"/>
                  </a:lnTo>
                  <a:lnTo>
                    <a:pt x="246" y="476"/>
                  </a:lnTo>
                  <a:lnTo>
                    <a:pt x="225" y="464"/>
                  </a:lnTo>
                  <a:lnTo>
                    <a:pt x="205" y="454"/>
                  </a:lnTo>
                  <a:lnTo>
                    <a:pt x="185" y="444"/>
                  </a:lnTo>
                  <a:lnTo>
                    <a:pt x="165" y="436"/>
                  </a:lnTo>
                  <a:lnTo>
                    <a:pt x="147" y="429"/>
                  </a:lnTo>
                  <a:lnTo>
                    <a:pt x="127" y="423"/>
                  </a:lnTo>
                  <a:lnTo>
                    <a:pt x="108" y="419"/>
                  </a:lnTo>
                  <a:lnTo>
                    <a:pt x="90" y="415"/>
                  </a:lnTo>
                  <a:lnTo>
                    <a:pt x="71" y="413"/>
                  </a:lnTo>
                  <a:lnTo>
                    <a:pt x="53" y="410"/>
                  </a:lnTo>
                  <a:lnTo>
                    <a:pt x="35" y="409"/>
                  </a:lnTo>
                  <a:lnTo>
                    <a:pt x="17" y="409"/>
                  </a:lnTo>
                  <a:lnTo>
                    <a:pt x="0" y="410"/>
                  </a:lnTo>
                  <a:lnTo>
                    <a:pt x="0" y="2"/>
                  </a:lnTo>
                  <a:lnTo>
                    <a:pt x="17" y="0"/>
                  </a:lnTo>
                  <a:lnTo>
                    <a:pt x="35" y="0"/>
                  </a:lnTo>
                  <a:lnTo>
                    <a:pt x="53" y="2"/>
                  </a:lnTo>
                  <a:lnTo>
                    <a:pt x="71" y="3"/>
                  </a:lnTo>
                  <a:lnTo>
                    <a:pt x="90" y="6"/>
                  </a:lnTo>
                  <a:lnTo>
                    <a:pt x="108" y="10"/>
                  </a:lnTo>
                  <a:lnTo>
                    <a:pt x="127" y="14"/>
                  </a:lnTo>
                  <a:lnTo>
                    <a:pt x="147" y="20"/>
                  </a:lnTo>
                  <a:lnTo>
                    <a:pt x="165" y="27"/>
                  </a:lnTo>
                  <a:lnTo>
                    <a:pt x="185" y="35"/>
                  </a:lnTo>
                  <a:lnTo>
                    <a:pt x="205" y="45"/>
                  </a:lnTo>
                  <a:lnTo>
                    <a:pt x="225" y="55"/>
                  </a:lnTo>
                  <a:lnTo>
                    <a:pt x="246" y="67"/>
                  </a:lnTo>
                  <a:lnTo>
                    <a:pt x="266" y="80"/>
                  </a:lnTo>
                  <a:lnTo>
                    <a:pt x="287" y="95"/>
                  </a:lnTo>
                  <a:lnTo>
                    <a:pt x="308" y="110"/>
                  </a:lnTo>
                  <a:lnTo>
                    <a:pt x="308" y="519"/>
                  </a:lnTo>
                  <a:close/>
                </a:path>
              </a:pathLst>
            </a:custGeom>
            <a:solidFill>
              <a:srgbClr val="93d5ed"/>
            </a:solidFill>
            <a:ln w="9360">
              <a:solidFill>
                <a:srgbClr val="ccecff"/>
              </a:solidFill>
              <a:round/>
            </a:ln>
          </p:spPr>
          <p:style>
            <a:lnRef idx="0"/>
            <a:fillRef idx="0"/>
            <a:effectRef idx="0"/>
            <a:fontRef idx="minor"/>
          </p:style>
          <p:txBody>
            <a:bodyPr lIns="90000" rIns="90000" tIns="32040" bIns="32040" anchor="t">
              <a:noAutofit/>
            </a:bodyPr>
            <a:p>
              <a:endParaRPr b="1" lang="en-US" sz="2400" spc="-1" strike="noStrike">
                <a:solidFill>
                  <a:srgbClr val="ffffff"/>
                </a:solidFill>
                <a:latin typeface="Times New Roman"/>
              </a:endParaRPr>
            </a:p>
          </p:txBody>
        </p:sp>
        <p:sp>
          <p:nvSpPr>
            <p:cNvPr id="228" name="Freeform 1335"/>
            <p:cNvSpPr/>
            <p:nvPr/>
          </p:nvSpPr>
          <p:spPr>
            <a:xfrm>
              <a:off x="5445000" y="5357520"/>
              <a:ext cx="50040" cy="74160"/>
            </a:xfrm>
            <a:custGeom>
              <a:avLst/>
              <a:gdLst>
                <a:gd name="textAreaLeft" fmla="*/ 0 w 50040"/>
                <a:gd name="textAreaRight" fmla="*/ 50400 w 50040"/>
                <a:gd name="textAreaTop" fmla="*/ 0 h 74160"/>
                <a:gd name="textAreaBottom" fmla="*/ 74520 h 74160"/>
              </a:gdLst>
              <a:ahLst/>
              <a:rect l="textAreaLeft" t="textAreaTop" r="textAreaRight" b="textAreaBottom"/>
              <a:pathLst>
                <a:path w="279" h="489">
                  <a:moveTo>
                    <a:pt x="279" y="0"/>
                  </a:moveTo>
                  <a:lnTo>
                    <a:pt x="268" y="7"/>
                  </a:lnTo>
                  <a:lnTo>
                    <a:pt x="236" y="22"/>
                  </a:lnTo>
                  <a:lnTo>
                    <a:pt x="215" y="32"/>
                  </a:lnTo>
                  <a:lnTo>
                    <a:pt x="191" y="43"/>
                  </a:lnTo>
                  <a:lnTo>
                    <a:pt x="166" y="53"/>
                  </a:lnTo>
                  <a:lnTo>
                    <a:pt x="140" y="63"/>
                  </a:lnTo>
                  <a:lnTo>
                    <a:pt x="114" y="70"/>
                  </a:lnTo>
                  <a:lnTo>
                    <a:pt x="89" y="76"/>
                  </a:lnTo>
                  <a:lnTo>
                    <a:pt x="76" y="78"/>
                  </a:lnTo>
                  <a:lnTo>
                    <a:pt x="65" y="79"/>
                  </a:lnTo>
                  <a:lnTo>
                    <a:pt x="54" y="79"/>
                  </a:lnTo>
                  <a:lnTo>
                    <a:pt x="44" y="79"/>
                  </a:lnTo>
                  <a:lnTo>
                    <a:pt x="34" y="78"/>
                  </a:lnTo>
                  <a:lnTo>
                    <a:pt x="26" y="74"/>
                  </a:lnTo>
                  <a:lnTo>
                    <a:pt x="19" y="71"/>
                  </a:lnTo>
                  <a:lnTo>
                    <a:pt x="12" y="66"/>
                  </a:lnTo>
                  <a:lnTo>
                    <a:pt x="7" y="59"/>
                  </a:lnTo>
                  <a:lnTo>
                    <a:pt x="4" y="52"/>
                  </a:lnTo>
                  <a:lnTo>
                    <a:pt x="1" y="43"/>
                  </a:lnTo>
                  <a:lnTo>
                    <a:pt x="0" y="31"/>
                  </a:lnTo>
                  <a:lnTo>
                    <a:pt x="0" y="441"/>
                  </a:lnTo>
                  <a:lnTo>
                    <a:pt x="1" y="452"/>
                  </a:lnTo>
                  <a:lnTo>
                    <a:pt x="4" y="461"/>
                  </a:lnTo>
                  <a:lnTo>
                    <a:pt x="7" y="468"/>
                  </a:lnTo>
                  <a:lnTo>
                    <a:pt x="12" y="475"/>
                  </a:lnTo>
                  <a:lnTo>
                    <a:pt x="19" y="480"/>
                  </a:lnTo>
                  <a:lnTo>
                    <a:pt x="26" y="483"/>
                  </a:lnTo>
                  <a:lnTo>
                    <a:pt x="34" y="487"/>
                  </a:lnTo>
                  <a:lnTo>
                    <a:pt x="44" y="488"/>
                  </a:lnTo>
                  <a:lnTo>
                    <a:pt x="54" y="489"/>
                  </a:lnTo>
                  <a:lnTo>
                    <a:pt x="65" y="488"/>
                  </a:lnTo>
                  <a:lnTo>
                    <a:pt x="76" y="487"/>
                  </a:lnTo>
                  <a:lnTo>
                    <a:pt x="89" y="486"/>
                  </a:lnTo>
                  <a:lnTo>
                    <a:pt x="114" y="480"/>
                  </a:lnTo>
                  <a:lnTo>
                    <a:pt x="140" y="472"/>
                  </a:lnTo>
                  <a:lnTo>
                    <a:pt x="166" y="462"/>
                  </a:lnTo>
                  <a:lnTo>
                    <a:pt x="191" y="452"/>
                  </a:lnTo>
                  <a:lnTo>
                    <a:pt x="215" y="441"/>
                  </a:lnTo>
                  <a:lnTo>
                    <a:pt x="236" y="432"/>
                  </a:lnTo>
                  <a:lnTo>
                    <a:pt x="268" y="415"/>
                  </a:lnTo>
                  <a:lnTo>
                    <a:pt x="279" y="408"/>
                  </a:lnTo>
                  <a:lnTo>
                    <a:pt x="279" y="0"/>
                  </a:lnTo>
                  <a:close/>
                </a:path>
              </a:pathLst>
            </a:custGeom>
            <a:solidFill>
              <a:srgbClr val="93d5ed"/>
            </a:solidFill>
            <a:ln w="9360">
              <a:solidFill>
                <a:srgbClr val="ccecff"/>
              </a:solidFill>
              <a:round/>
            </a:ln>
          </p:spPr>
          <p:style>
            <a:lnRef idx="0"/>
            <a:fillRef idx="0"/>
            <a:effectRef idx="0"/>
            <a:fontRef idx="minor"/>
          </p:style>
          <p:txBody>
            <a:bodyPr lIns="90000" rIns="90000" tIns="27720" bIns="27720" anchor="t">
              <a:noAutofit/>
            </a:bodyPr>
            <a:p>
              <a:endParaRPr b="1" lang="en-US" sz="2400" spc="-1" strike="noStrike">
                <a:solidFill>
                  <a:srgbClr val="ffffff"/>
                </a:solidFill>
                <a:latin typeface="Times New Roman"/>
              </a:endParaRPr>
            </a:p>
          </p:txBody>
        </p:sp>
        <p:sp>
          <p:nvSpPr>
            <p:cNvPr id="229" name="Freeform 1336"/>
            <p:cNvSpPr/>
            <p:nvPr/>
          </p:nvSpPr>
          <p:spPr>
            <a:xfrm>
              <a:off x="5544720" y="5329440"/>
              <a:ext cx="27720" cy="81000"/>
            </a:xfrm>
            <a:custGeom>
              <a:avLst/>
              <a:gdLst>
                <a:gd name="textAreaLeft" fmla="*/ 0 w 27720"/>
                <a:gd name="textAreaRight" fmla="*/ 28080 w 27720"/>
                <a:gd name="textAreaTop" fmla="*/ 0 h 81000"/>
                <a:gd name="textAreaBottom" fmla="*/ 81360 h 81000"/>
              </a:gdLst>
              <a:ahLst/>
              <a:rect l="textAreaLeft" t="textAreaTop" r="textAreaRight" b="textAreaBottom"/>
              <a:pathLst>
                <a:path w="156" h="534">
                  <a:moveTo>
                    <a:pt x="156" y="122"/>
                  </a:moveTo>
                  <a:lnTo>
                    <a:pt x="0" y="0"/>
                  </a:lnTo>
                  <a:lnTo>
                    <a:pt x="0" y="410"/>
                  </a:lnTo>
                  <a:lnTo>
                    <a:pt x="156" y="534"/>
                  </a:lnTo>
                  <a:lnTo>
                    <a:pt x="156" y="122"/>
                  </a:lnTo>
                  <a:close/>
                </a:path>
              </a:pathLst>
            </a:custGeom>
            <a:solidFill>
              <a:srgbClr val="93d5ed"/>
            </a:solidFill>
            <a:ln w="9360">
              <a:solidFill>
                <a:srgbClr val="ccecff"/>
              </a:solidFill>
              <a:round/>
            </a:ln>
          </p:spPr>
          <p:style>
            <a:lnRef idx="0"/>
            <a:fillRef idx="0"/>
            <a:effectRef idx="0"/>
            <a:fontRef idx="minor"/>
          </p:style>
          <p:txBody>
            <a:bodyPr lIns="90000" rIns="90000" tIns="34560" bIns="34560" anchor="t">
              <a:noAutofit/>
            </a:bodyPr>
            <a:p>
              <a:endParaRPr b="1" lang="en-US" sz="2400" spc="-1" strike="noStrike">
                <a:solidFill>
                  <a:srgbClr val="ffffff"/>
                </a:solidFill>
                <a:latin typeface="Times New Roman"/>
              </a:endParaRPr>
            </a:p>
          </p:txBody>
        </p:sp>
        <p:sp>
          <p:nvSpPr>
            <p:cNvPr id="230" name="Freeform 1337"/>
            <p:cNvSpPr/>
            <p:nvPr/>
          </p:nvSpPr>
          <p:spPr>
            <a:xfrm>
              <a:off x="6045480" y="5619600"/>
              <a:ext cx="50040" cy="94320"/>
            </a:xfrm>
            <a:custGeom>
              <a:avLst/>
              <a:gdLst>
                <a:gd name="textAreaLeft" fmla="*/ 0 w 50040"/>
                <a:gd name="textAreaRight" fmla="*/ 50400 w 50040"/>
                <a:gd name="textAreaTop" fmla="*/ 0 h 94320"/>
                <a:gd name="textAreaBottom" fmla="*/ 94680 h 94320"/>
              </a:gdLst>
              <a:ahLst/>
              <a:rect l="textAreaLeft" t="textAreaTop" r="textAreaRight" b="textAreaBottom"/>
              <a:pathLst>
                <a:path w="279" h="625">
                  <a:moveTo>
                    <a:pt x="279" y="0"/>
                  </a:moveTo>
                  <a:lnTo>
                    <a:pt x="0" y="216"/>
                  </a:lnTo>
                  <a:lnTo>
                    <a:pt x="0" y="625"/>
                  </a:lnTo>
                  <a:lnTo>
                    <a:pt x="279" y="409"/>
                  </a:lnTo>
                  <a:lnTo>
                    <a:pt x="279"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31" name="Freeform 1338"/>
            <p:cNvSpPr/>
            <p:nvPr/>
          </p:nvSpPr>
          <p:spPr>
            <a:xfrm>
              <a:off x="5694840" y="5046480"/>
              <a:ext cx="35640" cy="66600"/>
            </a:xfrm>
            <a:custGeom>
              <a:avLst/>
              <a:gdLst>
                <a:gd name="textAreaLeft" fmla="*/ 0 w 35640"/>
                <a:gd name="textAreaRight" fmla="*/ 36000 w 35640"/>
                <a:gd name="textAreaTop" fmla="*/ 0 h 66600"/>
                <a:gd name="textAreaBottom" fmla="*/ 66960 h 66600"/>
              </a:gdLst>
              <a:ahLst/>
              <a:rect l="textAreaLeft" t="textAreaTop" r="textAreaRight" b="textAreaBottom"/>
              <a:pathLst>
                <a:path w="200" h="440">
                  <a:moveTo>
                    <a:pt x="200" y="0"/>
                  </a:moveTo>
                  <a:lnTo>
                    <a:pt x="0" y="31"/>
                  </a:lnTo>
                  <a:lnTo>
                    <a:pt x="0" y="440"/>
                  </a:lnTo>
                  <a:lnTo>
                    <a:pt x="200" y="409"/>
                  </a:lnTo>
                  <a:lnTo>
                    <a:pt x="200" y="0"/>
                  </a:lnTo>
                  <a:close/>
                </a:path>
              </a:pathLst>
            </a:custGeom>
            <a:solidFill>
              <a:srgbClr val="93d5ed"/>
            </a:solidFill>
            <a:ln w="9360">
              <a:solidFill>
                <a:srgbClr val="ccecff"/>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Times New Roman"/>
              </a:endParaRPr>
            </a:p>
          </p:txBody>
        </p:sp>
        <p:sp>
          <p:nvSpPr>
            <p:cNvPr id="232" name="Freeform 1339"/>
            <p:cNvSpPr/>
            <p:nvPr/>
          </p:nvSpPr>
          <p:spPr>
            <a:xfrm>
              <a:off x="5495400" y="5329440"/>
              <a:ext cx="15840" cy="89280"/>
            </a:xfrm>
            <a:custGeom>
              <a:avLst/>
              <a:gdLst>
                <a:gd name="textAreaLeft" fmla="*/ 0 w 15840"/>
                <a:gd name="textAreaRight" fmla="*/ 16200 w 15840"/>
                <a:gd name="textAreaTop" fmla="*/ 0 h 89280"/>
                <a:gd name="textAreaBottom" fmla="*/ 89640 h 89280"/>
              </a:gdLst>
              <a:ahLst/>
              <a:rect l="textAreaLeft" t="textAreaTop" r="textAreaRight" b="textAreaBottom"/>
              <a:pathLst>
                <a:path w="93" h="593">
                  <a:moveTo>
                    <a:pt x="93" y="0"/>
                  </a:moveTo>
                  <a:lnTo>
                    <a:pt x="0" y="185"/>
                  </a:lnTo>
                  <a:lnTo>
                    <a:pt x="0" y="593"/>
                  </a:lnTo>
                  <a:lnTo>
                    <a:pt x="93" y="410"/>
                  </a:lnTo>
                  <a:lnTo>
                    <a:pt x="93" y="0"/>
                  </a:lnTo>
                  <a:close/>
                </a:path>
              </a:pathLst>
            </a:custGeom>
            <a:solidFill>
              <a:srgbClr val="93d5ed"/>
            </a:solidFill>
            <a:ln w="9360">
              <a:solidFill>
                <a:srgbClr val="ccecff"/>
              </a:solidFill>
              <a:round/>
            </a:ln>
          </p:spPr>
          <p:style>
            <a:lnRef idx="0"/>
            <a:fillRef idx="0"/>
            <a:effectRef idx="0"/>
            <a:fontRef idx="minor"/>
          </p:style>
          <p:txBody>
            <a:bodyPr lIns="90000" rIns="90000" tIns="42840" bIns="42840" anchor="t">
              <a:noAutofit/>
            </a:bodyPr>
            <a:p>
              <a:endParaRPr b="1" lang="en-US" sz="2400" spc="-1" strike="noStrike">
                <a:solidFill>
                  <a:srgbClr val="ffffff"/>
                </a:solidFill>
                <a:latin typeface="Times New Roman"/>
              </a:endParaRPr>
            </a:p>
          </p:txBody>
        </p:sp>
        <p:sp>
          <p:nvSpPr>
            <p:cNvPr id="233" name="Freeform 1340"/>
            <p:cNvSpPr/>
            <p:nvPr/>
          </p:nvSpPr>
          <p:spPr>
            <a:xfrm>
              <a:off x="3851640" y="5293440"/>
              <a:ext cx="89640" cy="164880"/>
            </a:xfrm>
            <a:custGeom>
              <a:avLst/>
              <a:gdLst>
                <a:gd name="textAreaLeft" fmla="*/ 0 w 89640"/>
                <a:gd name="textAreaRight" fmla="*/ 90000 w 89640"/>
                <a:gd name="textAreaTop" fmla="*/ 0 h 164880"/>
                <a:gd name="textAreaBottom" fmla="*/ 165240 h 164880"/>
              </a:gdLst>
              <a:ahLst/>
              <a:rect l="textAreaLeft" t="textAreaTop" r="textAreaRight" b="textAreaBottom"/>
              <a:pathLst>
                <a:path w="504" h="1091">
                  <a:moveTo>
                    <a:pt x="504" y="682"/>
                  </a:moveTo>
                  <a:lnTo>
                    <a:pt x="0" y="0"/>
                  </a:lnTo>
                  <a:lnTo>
                    <a:pt x="0" y="411"/>
                  </a:lnTo>
                  <a:lnTo>
                    <a:pt x="504" y="1091"/>
                  </a:lnTo>
                  <a:lnTo>
                    <a:pt x="504" y="68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34" name="Freeform 1341"/>
            <p:cNvSpPr/>
            <p:nvPr/>
          </p:nvSpPr>
          <p:spPr>
            <a:xfrm>
              <a:off x="5725440" y="4982040"/>
              <a:ext cx="61920" cy="127800"/>
            </a:xfrm>
            <a:custGeom>
              <a:avLst/>
              <a:gdLst>
                <a:gd name="textAreaLeft" fmla="*/ 0 w 61920"/>
                <a:gd name="textAreaRight" fmla="*/ 62280 w 61920"/>
                <a:gd name="textAreaTop" fmla="*/ 0 h 127800"/>
                <a:gd name="textAreaBottom" fmla="*/ 128160 h 127800"/>
              </a:gdLst>
              <a:ahLst/>
              <a:rect l="textAreaLeft" t="textAreaTop" r="textAreaRight" b="textAreaBottom"/>
              <a:pathLst>
                <a:path w="342" h="844">
                  <a:moveTo>
                    <a:pt x="342" y="0"/>
                  </a:moveTo>
                  <a:lnTo>
                    <a:pt x="327" y="1"/>
                  </a:lnTo>
                  <a:lnTo>
                    <a:pt x="313" y="5"/>
                  </a:lnTo>
                  <a:lnTo>
                    <a:pt x="300" y="8"/>
                  </a:lnTo>
                  <a:lnTo>
                    <a:pt x="286" y="12"/>
                  </a:lnTo>
                  <a:lnTo>
                    <a:pt x="261" y="21"/>
                  </a:lnTo>
                  <a:lnTo>
                    <a:pt x="237" y="32"/>
                  </a:lnTo>
                  <a:lnTo>
                    <a:pt x="214" y="45"/>
                  </a:lnTo>
                  <a:lnTo>
                    <a:pt x="192" y="60"/>
                  </a:lnTo>
                  <a:lnTo>
                    <a:pt x="172" y="74"/>
                  </a:lnTo>
                  <a:lnTo>
                    <a:pt x="152" y="90"/>
                  </a:lnTo>
                  <a:lnTo>
                    <a:pt x="116" y="122"/>
                  </a:lnTo>
                  <a:lnTo>
                    <a:pt x="84" y="153"/>
                  </a:lnTo>
                  <a:lnTo>
                    <a:pt x="70" y="167"/>
                  </a:lnTo>
                  <a:lnTo>
                    <a:pt x="56" y="180"/>
                  </a:lnTo>
                  <a:lnTo>
                    <a:pt x="43" y="192"/>
                  </a:lnTo>
                  <a:lnTo>
                    <a:pt x="30" y="201"/>
                  </a:lnTo>
                  <a:lnTo>
                    <a:pt x="26" y="206"/>
                  </a:lnTo>
                  <a:lnTo>
                    <a:pt x="21" y="212"/>
                  </a:lnTo>
                  <a:lnTo>
                    <a:pt x="16" y="218"/>
                  </a:lnTo>
                  <a:lnTo>
                    <a:pt x="13" y="225"/>
                  </a:lnTo>
                  <a:lnTo>
                    <a:pt x="7" y="240"/>
                  </a:lnTo>
                  <a:lnTo>
                    <a:pt x="4" y="257"/>
                  </a:lnTo>
                  <a:lnTo>
                    <a:pt x="1" y="276"/>
                  </a:lnTo>
                  <a:lnTo>
                    <a:pt x="0" y="295"/>
                  </a:lnTo>
                  <a:lnTo>
                    <a:pt x="0" y="315"/>
                  </a:lnTo>
                  <a:lnTo>
                    <a:pt x="1" y="334"/>
                  </a:lnTo>
                  <a:lnTo>
                    <a:pt x="5" y="372"/>
                  </a:lnTo>
                  <a:lnTo>
                    <a:pt x="11" y="402"/>
                  </a:lnTo>
                  <a:lnTo>
                    <a:pt x="15" y="424"/>
                  </a:lnTo>
                  <a:lnTo>
                    <a:pt x="16" y="432"/>
                  </a:lnTo>
                  <a:lnTo>
                    <a:pt x="16" y="844"/>
                  </a:lnTo>
                  <a:lnTo>
                    <a:pt x="15" y="835"/>
                  </a:lnTo>
                  <a:lnTo>
                    <a:pt x="11" y="814"/>
                  </a:lnTo>
                  <a:lnTo>
                    <a:pt x="5" y="782"/>
                  </a:lnTo>
                  <a:lnTo>
                    <a:pt x="1" y="744"/>
                  </a:lnTo>
                  <a:lnTo>
                    <a:pt x="0" y="725"/>
                  </a:lnTo>
                  <a:lnTo>
                    <a:pt x="0" y="705"/>
                  </a:lnTo>
                  <a:lnTo>
                    <a:pt x="1" y="685"/>
                  </a:lnTo>
                  <a:lnTo>
                    <a:pt x="4" y="666"/>
                  </a:lnTo>
                  <a:lnTo>
                    <a:pt x="7" y="650"/>
                  </a:lnTo>
                  <a:lnTo>
                    <a:pt x="13" y="633"/>
                  </a:lnTo>
                  <a:lnTo>
                    <a:pt x="16" y="628"/>
                  </a:lnTo>
                  <a:lnTo>
                    <a:pt x="21" y="621"/>
                  </a:lnTo>
                  <a:lnTo>
                    <a:pt x="26" y="616"/>
                  </a:lnTo>
                  <a:lnTo>
                    <a:pt x="30" y="611"/>
                  </a:lnTo>
                  <a:lnTo>
                    <a:pt x="43" y="601"/>
                  </a:lnTo>
                  <a:lnTo>
                    <a:pt x="56" y="589"/>
                  </a:lnTo>
                  <a:lnTo>
                    <a:pt x="70" y="576"/>
                  </a:lnTo>
                  <a:lnTo>
                    <a:pt x="84" y="562"/>
                  </a:lnTo>
                  <a:lnTo>
                    <a:pt x="116" y="531"/>
                  </a:lnTo>
                  <a:lnTo>
                    <a:pt x="152" y="499"/>
                  </a:lnTo>
                  <a:lnTo>
                    <a:pt x="172" y="484"/>
                  </a:lnTo>
                  <a:lnTo>
                    <a:pt x="192" y="469"/>
                  </a:lnTo>
                  <a:lnTo>
                    <a:pt x="214" y="455"/>
                  </a:lnTo>
                  <a:lnTo>
                    <a:pt x="237" y="442"/>
                  </a:lnTo>
                  <a:lnTo>
                    <a:pt x="261" y="430"/>
                  </a:lnTo>
                  <a:lnTo>
                    <a:pt x="286" y="421"/>
                  </a:lnTo>
                  <a:lnTo>
                    <a:pt x="300" y="417"/>
                  </a:lnTo>
                  <a:lnTo>
                    <a:pt x="313" y="414"/>
                  </a:lnTo>
                  <a:lnTo>
                    <a:pt x="327" y="411"/>
                  </a:lnTo>
                  <a:lnTo>
                    <a:pt x="342" y="409"/>
                  </a:lnTo>
                  <a:lnTo>
                    <a:pt x="342"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35" name="Freeform 1342"/>
            <p:cNvSpPr/>
            <p:nvPr/>
          </p:nvSpPr>
          <p:spPr>
            <a:xfrm>
              <a:off x="5660640" y="4620240"/>
              <a:ext cx="25200" cy="102960"/>
            </a:xfrm>
            <a:custGeom>
              <a:avLst/>
              <a:gdLst>
                <a:gd name="textAreaLeft" fmla="*/ 0 w 25200"/>
                <a:gd name="textAreaRight" fmla="*/ 25560 w 25200"/>
                <a:gd name="textAreaTop" fmla="*/ 0 h 102960"/>
                <a:gd name="textAreaBottom" fmla="*/ 103320 h 102960"/>
              </a:gdLst>
              <a:ahLst/>
              <a:rect l="textAreaLeft" t="textAreaTop" r="textAreaRight" b="textAreaBottom"/>
              <a:pathLst>
                <a:path w="142" h="678">
                  <a:moveTo>
                    <a:pt x="142" y="409"/>
                  </a:moveTo>
                  <a:lnTo>
                    <a:pt x="140" y="416"/>
                  </a:lnTo>
                  <a:lnTo>
                    <a:pt x="139" y="422"/>
                  </a:lnTo>
                  <a:lnTo>
                    <a:pt x="135" y="428"/>
                  </a:lnTo>
                  <a:lnTo>
                    <a:pt x="132" y="434"/>
                  </a:lnTo>
                  <a:lnTo>
                    <a:pt x="121" y="445"/>
                  </a:lnTo>
                  <a:lnTo>
                    <a:pt x="109" y="458"/>
                  </a:lnTo>
                  <a:lnTo>
                    <a:pt x="83" y="483"/>
                  </a:lnTo>
                  <a:lnTo>
                    <a:pt x="52" y="508"/>
                  </a:lnTo>
                  <a:lnTo>
                    <a:pt x="38" y="521"/>
                  </a:lnTo>
                  <a:lnTo>
                    <a:pt x="27" y="534"/>
                  </a:lnTo>
                  <a:lnTo>
                    <a:pt x="15" y="547"/>
                  </a:lnTo>
                  <a:lnTo>
                    <a:pt x="7" y="560"/>
                  </a:lnTo>
                  <a:lnTo>
                    <a:pt x="3" y="566"/>
                  </a:lnTo>
                  <a:lnTo>
                    <a:pt x="1" y="573"/>
                  </a:lnTo>
                  <a:lnTo>
                    <a:pt x="0" y="578"/>
                  </a:lnTo>
                  <a:lnTo>
                    <a:pt x="0" y="585"/>
                  </a:lnTo>
                  <a:lnTo>
                    <a:pt x="0" y="591"/>
                  </a:lnTo>
                  <a:lnTo>
                    <a:pt x="2" y="598"/>
                  </a:lnTo>
                  <a:lnTo>
                    <a:pt x="4" y="604"/>
                  </a:lnTo>
                  <a:lnTo>
                    <a:pt x="9" y="611"/>
                  </a:lnTo>
                  <a:lnTo>
                    <a:pt x="36" y="617"/>
                  </a:lnTo>
                  <a:lnTo>
                    <a:pt x="59" y="623"/>
                  </a:lnTo>
                  <a:lnTo>
                    <a:pt x="78" y="630"/>
                  </a:lnTo>
                  <a:lnTo>
                    <a:pt x="93" y="638"/>
                  </a:lnTo>
                  <a:lnTo>
                    <a:pt x="100" y="642"/>
                  </a:lnTo>
                  <a:lnTo>
                    <a:pt x="105" y="646"/>
                  </a:lnTo>
                  <a:lnTo>
                    <a:pt x="109" y="651"/>
                  </a:lnTo>
                  <a:lnTo>
                    <a:pt x="114" y="656"/>
                  </a:lnTo>
                  <a:lnTo>
                    <a:pt x="116" y="660"/>
                  </a:lnTo>
                  <a:lnTo>
                    <a:pt x="119" y="666"/>
                  </a:lnTo>
                  <a:lnTo>
                    <a:pt x="120" y="672"/>
                  </a:lnTo>
                  <a:lnTo>
                    <a:pt x="121" y="678"/>
                  </a:lnTo>
                  <a:lnTo>
                    <a:pt x="121" y="265"/>
                  </a:lnTo>
                  <a:lnTo>
                    <a:pt x="120" y="261"/>
                  </a:lnTo>
                  <a:lnTo>
                    <a:pt x="119" y="255"/>
                  </a:lnTo>
                  <a:lnTo>
                    <a:pt x="116" y="250"/>
                  </a:lnTo>
                  <a:lnTo>
                    <a:pt x="114" y="246"/>
                  </a:lnTo>
                  <a:lnTo>
                    <a:pt x="109" y="241"/>
                  </a:lnTo>
                  <a:lnTo>
                    <a:pt x="105" y="236"/>
                  </a:lnTo>
                  <a:lnTo>
                    <a:pt x="100" y="233"/>
                  </a:lnTo>
                  <a:lnTo>
                    <a:pt x="93" y="228"/>
                  </a:lnTo>
                  <a:lnTo>
                    <a:pt x="78" y="221"/>
                  </a:lnTo>
                  <a:lnTo>
                    <a:pt x="59" y="214"/>
                  </a:lnTo>
                  <a:lnTo>
                    <a:pt x="36" y="208"/>
                  </a:lnTo>
                  <a:lnTo>
                    <a:pt x="9" y="202"/>
                  </a:lnTo>
                  <a:lnTo>
                    <a:pt x="4" y="195"/>
                  </a:lnTo>
                  <a:lnTo>
                    <a:pt x="2" y="189"/>
                  </a:lnTo>
                  <a:lnTo>
                    <a:pt x="0" y="182"/>
                  </a:lnTo>
                  <a:lnTo>
                    <a:pt x="0" y="177"/>
                  </a:lnTo>
                  <a:lnTo>
                    <a:pt x="0" y="170"/>
                  </a:lnTo>
                  <a:lnTo>
                    <a:pt x="1" y="164"/>
                  </a:lnTo>
                  <a:lnTo>
                    <a:pt x="3" y="157"/>
                  </a:lnTo>
                  <a:lnTo>
                    <a:pt x="7" y="151"/>
                  </a:lnTo>
                  <a:lnTo>
                    <a:pt x="15" y="138"/>
                  </a:lnTo>
                  <a:lnTo>
                    <a:pt x="27" y="125"/>
                  </a:lnTo>
                  <a:lnTo>
                    <a:pt x="38" y="112"/>
                  </a:lnTo>
                  <a:lnTo>
                    <a:pt x="52" y="100"/>
                  </a:lnTo>
                  <a:lnTo>
                    <a:pt x="83" y="74"/>
                  </a:lnTo>
                  <a:lnTo>
                    <a:pt x="109" y="49"/>
                  </a:lnTo>
                  <a:lnTo>
                    <a:pt x="121" y="36"/>
                  </a:lnTo>
                  <a:lnTo>
                    <a:pt x="132" y="25"/>
                  </a:lnTo>
                  <a:lnTo>
                    <a:pt x="135" y="19"/>
                  </a:lnTo>
                  <a:lnTo>
                    <a:pt x="139" y="13"/>
                  </a:lnTo>
                  <a:lnTo>
                    <a:pt x="140" y="6"/>
                  </a:lnTo>
                  <a:lnTo>
                    <a:pt x="142" y="0"/>
                  </a:lnTo>
                  <a:lnTo>
                    <a:pt x="142" y="4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36" name="Freeform 1343"/>
            <p:cNvSpPr/>
            <p:nvPr/>
          </p:nvSpPr>
          <p:spPr>
            <a:xfrm>
              <a:off x="3347280" y="5218920"/>
              <a:ext cx="194040" cy="146160"/>
            </a:xfrm>
            <a:custGeom>
              <a:avLst/>
              <a:gdLst>
                <a:gd name="textAreaLeft" fmla="*/ 0 w 194040"/>
                <a:gd name="textAreaRight" fmla="*/ 194400 w 194040"/>
                <a:gd name="textAreaTop" fmla="*/ 0 h 146160"/>
                <a:gd name="textAreaBottom" fmla="*/ 146520 h 146160"/>
              </a:gdLst>
              <a:ahLst/>
              <a:rect l="textAreaLeft" t="textAreaTop" r="textAreaRight" b="textAreaBottom"/>
              <a:pathLst>
                <a:path w="1081" h="965">
                  <a:moveTo>
                    <a:pt x="1081" y="556"/>
                  </a:moveTo>
                  <a:lnTo>
                    <a:pt x="0" y="0"/>
                  </a:lnTo>
                  <a:lnTo>
                    <a:pt x="0" y="409"/>
                  </a:lnTo>
                  <a:lnTo>
                    <a:pt x="1081" y="965"/>
                  </a:lnTo>
                  <a:lnTo>
                    <a:pt x="1081" y="55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37" name="Freeform 1344"/>
            <p:cNvSpPr/>
            <p:nvPr/>
          </p:nvSpPr>
          <p:spPr>
            <a:xfrm>
              <a:off x="4292280" y="5583960"/>
              <a:ext cx="27720" cy="131400"/>
            </a:xfrm>
            <a:custGeom>
              <a:avLst/>
              <a:gdLst>
                <a:gd name="textAreaLeft" fmla="*/ 0 w 27720"/>
                <a:gd name="textAreaRight" fmla="*/ 28080 w 27720"/>
                <a:gd name="textAreaTop" fmla="*/ 0 h 131400"/>
                <a:gd name="textAreaBottom" fmla="*/ 131760 h 131400"/>
              </a:gdLst>
              <a:ahLst/>
              <a:rect l="textAreaLeft" t="textAreaTop" r="textAreaRight" b="textAreaBottom"/>
              <a:pathLst>
                <a:path w="157" h="872">
                  <a:moveTo>
                    <a:pt x="157" y="463"/>
                  </a:moveTo>
                  <a:lnTo>
                    <a:pt x="0" y="0"/>
                  </a:lnTo>
                  <a:lnTo>
                    <a:pt x="0" y="409"/>
                  </a:lnTo>
                  <a:lnTo>
                    <a:pt x="157" y="872"/>
                  </a:lnTo>
                  <a:lnTo>
                    <a:pt x="157" y="46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38" name="Freeform 1345"/>
            <p:cNvSpPr/>
            <p:nvPr/>
          </p:nvSpPr>
          <p:spPr>
            <a:xfrm>
              <a:off x="4521600" y="5523480"/>
              <a:ext cx="59040" cy="110520"/>
            </a:xfrm>
            <a:custGeom>
              <a:avLst/>
              <a:gdLst>
                <a:gd name="textAreaLeft" fmla="*/ 0 w 59040"/>
                <a:gd name="textAreaRight" fmla="*/ 59400 w 59040"/>
                <a:gd name="textAreaTop" fmla="*/ 0 h 110520"/>
                <a:gd name="textAreaBottom" fmla="*/ 110880 h 110520"/>
              </a:gdLst>
              <a:ahLst/>
              <a:rect l="textAreaLeft" t="textAreaTop" r="textAreaRight" b="textAreaBottom"/>
              <a:pathLst>
                <a:path w="331" h="732">
                  <a:moveTo>
                    <a:pt x="331" y="409"/>
                  </a:moveTo>
                  <a:lnTo>
                    <a:pt x="316" y="419"/>
                  </a:lnTo>
                  <a:lnTo>
                    <a:pt x="299" y="431"/>
                  </a:lnTo>
                  <a:lnTo>
                    <a:pt x="282" y="444"/>
                  </a:lnTo>
                  <a:lnTo>
                    <a:pt x="263" y="459"/>
                  </a:lnTo>
                  <a:lnTo>
                    <a:pt x="222" y="494"/>
                  </a:lnTo>
                  <a:lnTo>
                    <a:pt x="180" y="534"/>
                  </a:lnTo>
                  <a:lnTo>
                    <a:pt x="135" y="578"/>
                  </a:lnTo>
                  <a:lnTo>
                    <a:pt x="89" y="627"/>
                  </a:lnTo>
                  <a:lnTo>
                    <a:pt x="43" y="679"/>
                  </a:lnTo>
                  <a:lnTo>
                    <a:pt x="0" y="732"/>
                  </a:lnTo>
                  <a:lnTo>
                    <a:pt x="0" y="322"/>
                  </a:lnTo>
                  <a:lnTo>
                    <a:pt x="21" y="296"/>
                  </a:lnTo>
                  <a:lnTo>
                    <a:pt x="43" y="269"/>
                  </a:lnTo>
                  <a:lnTo>
                    <a:pt x="67" y="243"/>
                  </a:lnTo>
                  <a:lnTo>
                    <a:pt x="89" y="217"/>
                  </a:lnTo>
                  <a:lnTo>
                    <a:pt x="135" y="168"/>
                  </a:lnTo>
                  <a:lnTo>
                    <a:pt x="180" y="124"/>
                  </a:lnTo>
                  <a:lnTo>
                    <a:pt x="222" y="84"/>
                  </a:lnTo>
                  <a:lnTo>
                    <a:pt x="263" y="49"/>
                  </a:lnTo>
                  <a:lnTo>
                    <a:pt x="282" y="35"/>
                  </a:lnTo>
                  <a:lnTo>
                    <a:pt x="299" y="21"/>
                  </a:lnTo>
                  <a:lnTo>
                    <a:pt x="316" y="9"/>
                  </a:lnTo>
                  <a:lnTo>
                    <a:pt x="331" y="0"/>
                  </a:lnTo>
                  <a:lnTo>
                    <a:pt x="331" y="4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39" name="Freeform 1346"/>
            <p:cNvSpPr/>
            <p:nvPr/>
          </p:nvSpPr>
          <p:spPr>
            <a:xfrm>
              <a:off x="4672800" y="5457600"/>
              <a:ext cx="38520" cy="90720"/>
            </a:xfrm>
            <a:custGeom>
              <a:avLst/>
              <a:gdLst>
                <a:gd name="textAreaLeft" fmla="*/ 0 w 38520"/>
                <a:gd name="textAreaRight" fmla="*/ 38520 w 38520"/>
                <a:gd name="textAreaTop" fmla="*/ 0 h 90720"/>
                <a:gd name="textAreaBottom" fmla="*/ 91080 h 90720"/>
              </a:gdLst>
              <a:ahLst/>
              <a:rect l="textAreaLeft" t="textAreaTop" r="textAreaRight" b="textAreaBottom"/>
              <a:pathLst>
                <a:path w="214" h="601">
                  <a:moveTo>
                    <a:pt x="201" y="412"/>
                  </a:moveTo>
                  <a:lnTo>
                    <a:pt x="206" y="415"/>
                  </a:lnTo>
                  <a:lnTo>
                    <a:pt x="209" y="420"/>
                  </a:lnTo>
                  <a:lnTo>
                    <a:pt x="212" y="425"/>
                  </a:lnTo>
                  <a:lnTo>
                    <a:pt x="213" y="429"/>
                  </a:lnTo>
                  <a:lnTo>
                    <a:pt x="214" y="434"/>
                  </a:lnTo>
                  <a:lnTo>
                    <a:pt x="213" y="439"/>
                  </a:lnTo>
                  <a:lnTo>
                    <a:pt x="213" y="443"/>
                  </a:lnTo>
                  <a:lnTo>
                    <a:pt x="211" y="449"/>
                  </a:lnTo>
                  <a:lnTo>
                    <a:pt x="206" y="460"/>
                  </a:lnTo>
                  <a:lnTo>
                    <a:pt x="198" y="470"/>
                  </a:lnTo>
                  <a:lnTo>
                    <a:pt x="186" y="482"/>
                  </a:lnTo>
                  <a:lnTo>
                    <a:pt x="173" y="495"/>
                  </a:lnTo>
                  <a:lnTo>
                    <a:pt x="158" y="507"/>
                  </a:lnTo>
                  <a:lnTo>
                    <a:pt x="140" y="519"/>
                  </a:lnTo>
                  <a:lnTo>
                    <a:pt x="121" y="533"/>
                  </a:lnTo>
                  <a:lnTo>
                    <a:pt x="100" y="546"/>
                  </a:lnTo>
                  <a:lnTo>
                    <a:pt x="52" y="573"/>
                  </a:lnTo>
                  <a:lnTo>
                    <a:pt x="0" y="601"/>
                  </a:lnTo>
                  <a:lnTo>
                    <a:pt x="0" y="192"/>
                  </a:lnTo>
                  <a:lnTo>
                    <a:pt x="52" y="164"/>
                  </a:lnTo>
                  <a:lnTo>
                    <a:pt x="100" y="137"/>
                  </a:lnTo>
                  <a:lnTo>
                    <a:pt x="121" y="123"/>
                  </a:lnTo>
                  <a:lnTo>
                    <a:pt x="140" y="111"/>
                  </a:lnTo>
                  <a:lnTo>
                    <a:pt x="158" y="98"/>
                  </a:lnTo>
                  <a:lnTo>
                    <a:pt x="173" y="85"/>
                  </a:lnTo>
                  <a:lnTo>
                    <a:pt x="186" y="73"/>
                  </a:lnTo>
                  <a:lnTo>
                    <a:pt x="198" y="61"/>
                  </a:lnTo>
                  <a:lnTo>
                    <a:pt x="206" y="50"/>
                  </a:lnTo>
                  <a:lnTo>
                    <a:pt x="211" y="38"/>
                  </a:lnTo>
                  <a:lnTo>
                    <a:pt x="213" y="33"/>
                  </a:lnTo>
                  <a:lnTo>
                    <a:pt x="213" y="28"/>
                  </a:lnTo>
                  <a:lnTo>
                    <a:pt x="214" y="23"/>
                  </a:lnTo>
                  <a:lnTo>
                    <a:pt x="213" y="18"/>
                  </a:lnTo>
                  <a:lnTo>
                    <a:pt x="212" y="14"/>
                  </a:lnTo>
                  <a:lnTo>
                    <a:pt x="209" y="9"/>
                  </a:lnTo>
                  <a:lnTo>
                    <a:pt x="206" y="4"/>
                  </a:lnTo>
                  <a:lnTo>
                    <a:pt x="201" y="0"/>
                  </a:lnTo>
                  <a:lnTo>
                    <a:pt x="201" y="412"/>
                  </a:lnTo>
                  <a:close/>
                </a:path>
              </a:pathLst>
            </a:custGeom>
            <a:solidFill>
              <a:srgbClr val="93d5ed"/>
            </a:solidFill>
            <a:ln w="9360">
              <a:solidFill>
                <a:srgbClr val="ccecff"/>
              </a:solidFill>
              <a:round/>
            </a:ln>
          </p:spPr>
          <p:style>
            <a:lnRef idx="0"/>
            <a:fillRef idx="0"/>
            <a:effectRef idx="0"/>
            <a:fontRef idx="minor"/>
          </p:style>
          <p:txBody>
            <a:bodyPr lIns="90000" rIns="90000" tIns="44280" bIns="44280" anchor="t">
              <a:noAutofit/>
            </a:bodyPr>
            <a:p>
              <a:endParaRPr b="1" lang="en-US" sz="2400" spc="-1" strike="noStrike">
                <a:solidFill>
                  <a:srgbClr val="ffffff"/>
                </a:solidFill>
                <a:latin typeface="Times New Roman"/>
              </a:endParaRPr>
            </a:p>
          </p:txBody>
        </p:sp>
        <p:sp>
          <p:nvSpPr>
            <p:cNvPr id="240" name="Freeform 1347"/>
            <p:cNvSpPr/>
            <p:nvPr/>
          </p:nvSpPr>
          <p:spPr>
            <a:xfrm>
              <a:off x="4748040" y="5419800"/>
              <a:ext cx="39240" cy="90000"/>
            </a:xfrm>
            <a:custGeom>
              <a:avLst/>
              <a:gdLst>
                <a:gd name="textAreaLeft" fmla="*/ 0 w 39240"/>
                <a:gd name="textAreaRight" fmla="*/ 39600 w 39240"/>
                <a:gd name="textAreaTop" fmla="*/ 0 h 90000"/>
                <a:gd name="textAreaBottom" fmla="*/ 90000 h 90000"/>
              </a:gdLst>
              <a:ahLst/>
              <a:rect l="textAreaLeft" t="textAreaTop" r="textAreaRight" b="textAreaBottom"/>
              <a:pathLst>
                <a:path w="220" h="596">
                  <a:moveTo>
                    <a:pt x="220" y="0"/>
                  </a:moveTo>
                  <a:lnTo>
                    <a:pt x="0" y="187"/>
                  </a:lnTo>
                  <a:lnTo>
                    <a:pt x="0" y="596"/>
                  </a:lnTo>
                  <a:lnTo>
                    <a:pt x="220" y="409"/>
                  </a:lnTo>
                  <a:lnTo>
                    <a:pt x="220" y="0"/>
                  </a:lnTo>
                  <a:close/>
                </a:path>
              </a:pathLst>
            </a:custGeom>
            <a:solidFill>
              <a:srgbClr val="93d5ed"/>
            </a:solidFill>
            <a:ln w="9360">
              <a:solidFill>
                <a:srgbClr val="ccecff"/>
              </a:solidFill>
              <a:round/>
            </a:ln>
          </p:spPr>
          <p:style>
            <a:lnRef idx="0"/>
            <a:fillRef idx="0"/>
            <a:effectRef idx="0"/>
            <a:fontRef idx="minor"/>
          </p:style>
          <p:txBody>
            <a:bodyPr lIns="90000" rIns="90000" tIns="43200" bIns="43200" anchor="t">
              <a:noAutofit/>
            </a:bodyPr>
            <a:p>
              <a:endParaRPr b="1" lang="en-US" sz="2400" spc="-1" strike="noStrike">
                <a:solidFill>
                  <a:srgbClr val="ffffff"/>
                </a:solidFill>
                <a:latin typeface="Times New Roman"/>
              </a:endParaRPr>
            </a:p>
          </p:txBody>
        </p:sp>
        <p:sp>
          <p:nvSpPr>
            <p:cNvPr id="241" name="Freeform 1348"/>
            <p:cNvSpPr/>
            <p:nvPr/>
          </p:nvSpPr>
          <p:spPr>
            <a:xfrm>
              <a:off x="5042160" y="5432040"/>
              <a:ext cx="55800" cy="83160"/>
            </a:xfrm>
            <a:custGeom>
              <a:avLst/>
              <a:gdLst>
                <a:gd name="textAreaLeft" fmla="*/ 0 w 55800"/>
                <a:gd name="textAreaRight" fmla="*/ 56160 w 55800"/>
                <a:gd name="textAreaTop" fmla="*/ 0 h 83160"/>
                <a:gd name="textAreaBottom" fmla="*/ 83520 h 83160"/>
              </a:gdLst>
              <a:ahLst/>
              <a:rect l="textAreaLeft" t="textAreaTop" r="textAreaRight" b="textAreaBottom"/>
              <a:pathLst>
                <a:path w="309" h="550">
                  <a:moveTo>
                    <a:pt x="309" y="410"/>
                  </a:moveTo>
                  <a:lnTo>
                    <a:pt x="284" y="412"/>
                  </a:lnTo>
                  <a:lnTo>
                    <a:pt x="261" y="416"/>
                  </a:lnTo>
                  <a:lnTo>
                    <a:pt x="238" y="421"/>
                  </a:lnTo>
                  <a:lnTo>
                    <a:pt x="216" y="428"/>
                  </a:lnTo>
                  <a:lnTo>
                    <a:pt x="194" y="435"/>
                  </a:lnTo>
                  <a:lnTo>
                    <a:pt x="173" y="444"/>
                  </a:lnTo>
                  <a:lnTo>
                    <a:pt x="153" y="453"/>
                  </a:lnTo>
                  <a:lnTo>
                    <a:pt x="133" y="463"/>
                  </a:lnTo>
                  <a:lnTo>
                    <a:pt x="113" y="473"/>
                  </a:lnTo>
                  <a:lnTo>
                    <a:pt x="95" y="485"/>
                  </a:lnTo>
                  <a:lnTo>
                    <a:pt x="77" y="495"/>
                  </a:lnTo>
                  <a:lnTo>
                    <a:pt x="61" y="507"/>
                  </a:lnTo>
                  <a:lnTo>
                    <a:pt x="29" y="529"/>
                  </a:lnTo>
                  <a:lnTo>
                    <a:pt x="0" y="550"/>
                  </a:lnTo>
                  <a:lnTo>
                    <a:pt x="0" y="141"/>
                  </a:lnTo>
                  <a:lnTo>
                    <a:pt x="29" y="120"/>
                  </a:lnTo>
                  <a:lnTo>
                    <a:pt x="61" y="98"/>
                  </a:lnTo>
                  <a:lnTo>
                    <a:pt x="77" y="86"/>
                  </a:lnTo>
                  <a:lnTo>
                    <a:pt x="95" y="75"/>
                  </a:lnTo>
                  <a:lnTo>
                    <a:pt x="113" y="64"/>
                  </a:lnTo>
                  <a:lnTo>
                    <a:pt x="133" y="54"/>
                  </a:lnTo>
                  <a:lnTo>
                    <a:pt x="153" y="44"/>
                  </a:lnTo>
                  <a:lnTo>
                    <a:pt x="173" y="35"/>
                  </a:lnTo>
                  <a:lnTo>
                    <a:pt x="194" y="26"/>
                  </a:lnTo>
                  <a:lnTo>
                    <a:pt x="216" y="19"/>
                  </a:lnTo>
                  <a:lnTo>
                    <a:pt x="238" y="12"/>
                  </a:lnTo>
                  <a:lnTo>
                    <a:pt x="261" y="7"/>
                  </a:lnTo>
                  <a:lnTo>
                    <a:pt x="284" y="4"/>
                  </a:lnTo>
                  <a:lnTo>
                    <a:pt x="309" y="0"/>
                  </a:lnTo>
                  <a:lnTo>
                    <a:pt x="309" y="410"/>
                  </a:lnTo>
                  <a:close/>
                </a:path>
              </a:pathLst>
            </a:custGeom>
            <a:solidFill>
              <a:srgbClr val="93d5ed"/>
            </a:solidFill>
            <a:ln w="9360">
              <a:solidFill>
                <a:srgbClr val="ccecff"/>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Times New Roman"/>
              </a:endParaRPr>
            </a:p>
          </p:txBody>
        </p:sp>
        <p:sp>
          <p:nvSpPr>
            <p:cNvPr id="242" name="Freeform 1349"/>
            <p:cNvSpPr/>
            <p:nvPr/>
          </p:nvSpPr>
          <p:spPr>
            <a:xfrm>
              <a:off x="5153760" y="5429520"/>
              <a:ext cx="26640" cy="80280"/>
            </a:xfrm>
            <a:custGeom>
              <a:avLst/>
              <a:gdLst>
                <a:gd name="textAreaLeft" fmla="*/ 0 w 26640"/>
                <a:gd name="textAreaRight" fmla="*/ 27000 w 26640"/>
                <a:gd name="textAreaTop" fmla="*/ 0 h 80280"/>
                <a:gd name="textAreaBottom" fmla="*/ 80640 h 80280"/>
              </a:gdLst>
              <a:ahLst/>
              <a:rect l="textAreaLeft" t="textAreaTop" r="textAreaRight" b="textAreaBottom"/>
              <a:pathLst>
                <a:path w="149" h="533">
                  <a:moveTo>
                    <a:pt x="149" y="409"/>
                  </a:moveTo>
                  <a:lnTo>
                    <a:pt x="149" y="415"/>
                  </a:lnTo>
                  <a:lnTo>
                    <a:pt x="147" y="422"/>
                  </a:lnTo>
                  <a:lnTo>
                    <a:pt x="145" y="428"/>
                  </a:lnTo>
                  <a:lnTo>
                    <a:pt x="141" y="435"/>
                  </a:lnTo>
                  <a:lnTo>
                    <a:pt x="137" y="440"/>
                  </a:lnTo>
                  <a:lnTo>
                    <a:pt x="131" y="447"/>
                  </a:lnTo>
                  <a:lnTo>
                    <a:pt x="124" y="456"/>
                  </a:lnTo>
                  <a:lnTo>
                    <a:pt x="116" y="463"/>
                  </a:lnTo>
                  <a:lnTo>
                    <a:pt x="96" y="478"/>
                  </a:lnTo>
                  <a:lnTo>
                    <a:pt x="69" y="495"/>
                  </a:lnTo>
                  <a:lnTo>
                    <a:pt x="37" y="513"/>
                  </a:lnTo>
                  <a:lnTo>
                    <a:pt x="0" y="533"/>
                  </a:lnTo>
                  <a:lnTo>
                    <a:pt x="0" y="124"/>
                  </a:lnTo>
                  <a:lnTo>
                    <a:pt x="37" y="104"/>
                  </a:lnTo>
                  <a:lnTo>
                    <a:pt x="69" y="86"/>
                  </a:lnTo>
                  <a:lnTo>
                    <a:pt x="96" y="69"/>
                  </a:lnTo>
                  <a:lnTo>
                    <a:pt x="116" y="54"/>
                  </a:lnTo>
                  <a:lnTo>
                    <a:pt x="124" y="46"/>
                  </a:lnTo>
                  <a:lnTo>
                    <a:pt x="131" y="39"/>
                  </a:lnTo>
                  <a:lnTo>
                    <a:pt x="137" y="32"/>
                  </a:lnTo>
                  <a:lnTo>
                    <a:pt x="141" y="26"/>
                  </a:lnTo>
                  <a:lnTo>
                    <a:pt x="145" y="19"/>
                  </a:lnTo>
                  <a:lnTo>
                    <a:pt x="147" y="13"/>
                  </a:lnTo>
                  <a:lnTo>
                    <a:pt x="149" y="6"/>
                  </a:lnTo>
                  <a:lnTo>
                    <a:pt x="149" y="0"/>
                  </a:lnTo>
                  <a:lnTo>
                    <a:pt x="149" y="409"/>
                  </a:lnTo>
                  <a:close/>
                </a:path>
              </a:pathLst>
            </a:custGeom>
            <a:solidFill>
              <a:srgbClr val="93d5ed"/>
            </a:solidFill>
            <a:ln w="9360">
              <a:solidFill>
                <a:srgbClr val="ccecff"/>
              </a:solidFill>
              <a:round/>
            </a:ln>
          </p:spPr>
          <p:style>
            <a:lnRef idx="0"/>
            <a:fillRef idx="0"/>
            <a:effectRef idx="0"/>
            <a:fontRef idx="minor"/>
          </p:style>
          <p:txBody>
            <a:bodyPr lIns="90000" rIns="90000" tIns="33840" bIns="33840" anchor="t">
              <a:noAutofit/>
            </a:bodyPr>
            <a:p>
              <a:endParaRPr b="1" lang="en-US" sz="2400" spc="-1" strike="noStrike">
                <a:solidFill>
                  <a:srgbClr val="ffffff"/>
                </a:solidFill>
                <a:latin typeface="Times New Roman"/>
              </a:endParaRPr>
            </a:p>
          </p:txBody>
        </p:sp>
        <p:sp>
          <p:nvSpPr>
            <p:cNvPr id="243" name="Freeform 1350"/>
            <p:cNvSpPr/>
            <p:nvPr/>
          </p:nvSpPr>
          <p:spPr>
            <a:xfrm>
              <a:off x="5587200" y="5349960"/>
              <a:ext cx="33120" cy="84600"/>
            </a:xfrm>
            <a:custGeom>
              <a:avLst/>
              <a:gdLst>
                <a:gd name="textAreaLeft" fmla="*/ 0 w 33120"/>
                <a:gd name="textAreaRight" fmla="*/ 33480 w 33120"/>
                <a:gd name="textAreaTop" fmla="*/ 0 h 84600"/>
                <a:gd name="textAreaBottom" fmla="*/ 84960 h 84600"/>
              </a:gdLst>
              <a:ahLst/>
              <a:rect l="textAreaLeft" t="textAreaTop" r="textAreaRight" b="textAreaBottom"/>
              <a:pathLst>
                <a:path w="187" h="561">
                  <a:moveTo>
                    <a:pt x="187" y="561"/>
                  </a:moveTo>
                  <a:lnTo>
                    <a:pt x="187" y="153"/>
                  </a:lnTo>
                  <a:lnTo>
                    <a:pt x="0" y="0"/>
                  </a:lnTo>
                  <a:lnTo>
                    <a:pt x="0" y="408"/>
                  </a:lnTo>
                  <a:lnTo>
                    <a:pt x="187" y="561"/>
                  </a:lnTo>
                  <a:close/>
                </a:path>
              </a:pathLst>
            </a:custGeom>
            <a:solidFill>
              <a:srgbClr val="93d5ed"/>
            </a:solidFill>
            <a:ln w="9360">
              <a:solidFill>
                <a:srgbClr val="ccecff"/>
              </a:solidFill>
              <a:round/>
            </a:ln>
          </p:spPr>
          <p:style>
            <a:lnRef idx="0"/>
            <a:fillRef idx="0"/>
            <a:effectRef idx="0"/>
            <a:fontRef idx="minor"/>
          </p:style>
          <p:txBody>
            <a:bodyPr lIns="90000" rIns="90000" tIns="38160" bIns="38160" anchor="t">
              <a:noAutofit/>
            </a:bodyPr>
            <a:p>
              <a:endParaRPr b="1" lang="en-US" sz="2400" spc="-1" strike="noStrike">
                <a:solidFill>
                  <a:srgbClr val="ffffff"/>
                </a:solidFill>
                <a:latin typeface="Times New Roman"/>
              </a:endParaRPr>
            </a:p>
          </p:txBody>
        </p:sp>
        <p:sp>
          <p:nvSpPr>
            <p:cNvPr id="244" name="Freeform 1351"/>
            <p:cNvSpPr/>
            <p:nvPr/>
          </p:nvSpPr>
          <p:spPr>
            <a:xfrm>
              <a:off x="5729040" y="5470200"/>
              <a:ext cx="140040" cy="161280"/>
            </a:xfrm>
            <a:custGeom>
              <a:avLst/>
              <a:gdLst>
                <a:gd name="textAreaLeft" fmla="*/ 0 w 140040"/>
                <a:gd name="textAreaRight" fmla="*/ 140400 w 140040"/>
                <a:gd name="textAreaTop" fmla="*/ 0 h 161280"/>
                <a:gd name="textAreaBottom" fmla="*/ 161640 h 161280"/>
              </a:gdLst>
              <a:ahLst/>
              <a:rect l="textAreaLeft" t="textAreaTop" r="textAreaRight" b="textAreaBottom"/>
              <a:pathLst>
                <a:path w="777" h="1061">
                  <a:moveTo>
                    <a:pt x="777" y="1061"/>
                  </a:moveTo>
                  <a:lnTo>
                    <a:pt x="739" y="1046"/>
                  </a:lnTo>
                  <a:lnTo>
                    <a:pt x="704" y="1034"/>
                  </a:lnTo>
                  <a:lnTo>
                    <a:pt x="670" y="1022"/>
                  </a:lnTo>
                  <a:lnTo>
                    <a:pt x="639" y="1012"/>
                  </a:lnTo>
                  <a:lnTo>
                    <a:pt x="611" y="1004"/>
                  </a:lnTo>
                  <a:lnTo>
                    <a:pt x="584" y="997"/>
                  </a:lnTo>
                  <a:lnTo>
                    <a:pt x="559" y="991"/>
                  </a:lnTo>
                  <a:lnTo>
                    <a:pt x="538" y="986"/>
                  </a:lnTo>
                  <a:lnTo>
                    <a:pt x="529" y="984"/>
                  </a:lnTo>
                  <a:lnTo>
                    <a:pt x="519" y="980"/>
                  </a:lnTo>
                  <a:lnTo>
                    <a:pt x="508" y="976"/>
                  </a:lnTo>
                  <a:lnTo>
                    <a:pt x="496" y="969"/>
                  </a:lnTo>
                  <a:lnTo>
                    <a:pt x="484" y="962"/>
                  </a:lnTo>
                  <a:lnTo>
                    <a:pt x="471" y="952"/>
                  </a:lnTo>
                  <a:lnTo>
                    <a:pt x="457" y="943"/>
                  </a:lnTo>
                  <a:lnTo>
                    <a:pt x="443" y="931"/>
                  </a:lnTo>
                  <a:lnTo>
                    <a:pt x="412" y="906"/>
                  </a:lnTo>
                  <a:lnTo>
                    <a:pt x="380" y="876"/>
                  </a:lnTo>
                  <a:lnTo>
                    <a:pt x="346" y="843"/>
                  </a:lnTo>
                  <a:lnTo>
                    <a:pt x="310" y="805"/>
                  </a:lnTo>
                  <a:lnTo>
                    <a:pt x="273" y="765"/>
                  </a:lnTo>
                  <a:lnTo>
                    <a:pt x="235" y="722"/>
                  </a:lnTo>
                  <a:lnTo>
                    <a:pt x="196" y="677"/>
                  </a:lnTo>
                  <a:lnTo>
                    <a:pt x="156" y="629"/>
                  </a:lnTo>
                  <a:lnTo>
                    <a:pt x="117" y="580"/>
                  </a:lnTo>
                  <a:lnTo>
                    <a:pt x="77" y="528"/>
                  </a:lnTo>
                  <a:lnTo>
                    <a:pt x="38" y="477"/>
                  </a:lnTo>
                  <a:lnTo>
                    <a:pt x="0" y="424"/>
                  </a:lnTo>
                  <a:lnTo>
                    <a:pt x="0" y="0"/>
                  </a:lnTo>
                  <a:lnTo>
                    <a:pt x="38" y="53"/>
                  </a:lnTo>
                  <a:lnTo>
                    <a:pt x="77" y="104"/>
                  </a:lnTo>
                  <a:lnTo>
                    <a:pt x="117" y="155"/>
                  </a:lnTo>
                  <a:lnTo>
                    <a:pt x="156" y="204"/>
                  </a:lnTo>
                  <a:lnTo>
                    <a:pt x="196" y="251"/>
                  </a:lnTo>
                  <a:lnTo>
                    <a:pt x="235" y="297"/>
                  </a:lnTo>
                  <a:lnTo>
                    <a:pt x="273" y="339"/>
                  </a:lnTo>
                  <a:lnTo>
                    <a:pt x="310" y="380"/>
                  </a:lnTo>
                  <a:lnTo>
                    <a:pt x="346" y="417"/>
                  </a:lnTo>
                  <a:lnTo>
                    <a:pt x="380" y="451"/>
                  </a:lnTo>
                  <a:lnTo>
                    <a:pt x="412" y="480"/>
                  </a:lnTo>
                  <a:lnTo>
                    <a:pt x="443" y="506"/>
                  </a:lnTo>
                  <a:lnTo>
                    <a:pt x="457" y="518"/>
                  </a:lnTo>
                  <a:lnTo>
                    <a:pt x="471" y="528"/>
                  </a:lnTo>
                  <a:lnTo>
                    <a:pt x="484" y="536"/>
                  </a:lnTo>
                  <a:lnTo>
                    <a:pt x="496" y="545"/>
                  </a:lnTo>
                  <a:lnTo>
                    <a:pt x="508" y="552"/>
                  </a:lnTo>
                  <a:lnTo>
                    <a:pt x="519" y="556"/>
                  </a:lnTo>
                  <a:lnTo>
                    <a:pt x="529" y="560"/>
                  </a:lnTo>
                  <a:lnTo>
                    <a:pt x="538" y="562"/>
                  </a:lnTo>
                  <a:lnTo>
                    <a:pt x="559" y="567"/>
                  </a:lnTo>
                  <a:lnTo>
                    <a:pt x="584" y="572"/>
                  </a:lnTo>
                  <a:lnTo>
                    <a:pt x="611" y="579"/>
                  </a:lnTo>
                  <a:lnTo>
                    <a:pt x="639" y="587"/>
                  </a:lnTo>
                  <a:lnTo>
                    <a:pt x="670" y="596"/>
                  </a:lnTo>
                  <a:lnTo>
                    <a:pt x="704" y="608"/>
                  </a:lnTo>
                  <a:lnTo>
                    <a:pt x="739" y="621"/>
                  </a:lnTo>
                  <a:lnTo>
                    <a:pt x="777" y="635"/>
                  </a:lnTo>
                  <a:lnTo>
                    <a:pt x="777" y="106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45" name="Freeform 1352"/>
            <p:cNvSpPr/>
            <p:nvPr/>
          </p:nvSpPr>
          <p:spPr>
            <a:xfrm>
              <a:off x="5966280" y="5608800"/>
              <a:ext cx="76320" cy="109800"/>
            </a:xfrm>
            <a:custGeom>
              <a:avLst/>
              <a:gdLst>
                <a:gd name="textAreaLeft" fmla="*/ 0 w 76320"/>
                <a:gd name="textAreaRight" fmla="*/ 76320 w 76320"/>
                <a:gd name="textAreaTop" fmla="*/ 0 h 109800"/>
                <a:gd name="textAreaBottom" fmla="*/ 110160 h 109800"/>
              </a:gdLst>
              <a:ahLst/>
              <a:rect l="textAreaLeft" t="textAreaTop" r="textAreaRight" b="textAreaBottom"/>
              <a:pathLst>
                <a:path w="423" h="726">
                  <a:moveTo>
                    <a:pt x="423" y="299"/>
                  </a:moveTo>
                  <a:lnTo>
                    <a:pt x="370" y="257"/>
                  </a:lnTo>
                  <a:lnTo>
                    <a:pt x="316" y="217"/>
                  </a:lnTo>
                  <a:lnTo>
                    <a:pt x="264" y="177"/>
                  </a:lnTo>
                  <a:lnTo>
                    <a:pt x="210" y="138"/>
                  </a:lnTo>
                  <a:lnTo>
                    <a:pt x="157" y="102"/>
                  </a:lnTo>
                  <a:lnTo>
                    <a:pt x="104" y="67"/>
                  </a:lnTo>
                  <a:lnTo>
                    <a:pt x="51" y="33"/>
                  </a:lnTo>
                  <a:lnTo>
                    <a:pt x="0" y="0"/>
                  </a:lnTo>
                  <a:lnTo>
                    <a:pt x="0" y="426"/>
                  </a:lnTo>
                  <a:lnTo>
                    <a:pt x="51" y="458"/>
                  </a:lnTo>
                  <a:lnTo>
                    <a:pt x="104" y="492"/>
                  </a:lnTo>
                  <a:lnTo>
                    <a:pt x="157" y="527"/>
                  </a:lnTo>
                  <a:lnTo>
                    <a:pt x="210" y="563"/>
                  </a:lnTo>
                  <a:lnTo>
                    <a:pt x="264" y="602"/>
                  </a:lnTo>
                  <a:lnTo>
                    <a:pt x="316" y="642"/>
                  </a:lnTo>
                  <a:lnTo>
                    <a:pt x="370" y="683"/>
                  </a:lnTo>
                  <a:lnTo>
                    <a:pt x="423" y="726"/>
                  </a:lnTo>
                  <a:lnTo>
                    <a:pt x="423" y="29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46" name="Freeform 1353"/>
            <p:cNvSpPr/>
            <p:nvPr/>
          </p:nvSpPr>
          <p:spPr>
            <a:xfrm>
              <a:off x="5638320" y="5148720"/>
              <a:ext cx="21600" cy="127800"/>
            </a:xfrm>
            <a:custGeom>
              <a:avLst/>
              <a:gdLst>
                <a:gd name="textAreaLeft" fmla="*/ 0 w 21600"/>
                <a:gd name="textAreaRight" fmla="*/ 21600 w 21600"/>
                <a:gd name="textAreaTop" fmla="*/ 0 h 127800"/>
                <a:gd name="textAreaBottom" fmla="*/ 128160 h 127800"/>
              </a:gdLst>
              <a:ahLst/>
              <a:rect l="textAreaLeft" t="textAreaTop" r="textAreaRight" b="textAreaBottom"/>
              <a:pathLst>
                <a:path w="119" h="845">
                  <a:moveTo>
                    <a:pt x="119" y="0"/>
                  </a:moveTo>
                  <a:lnTo>
                    <a:pt x="101" y="13"/>
                  </a:lnTo>
                  <a:lnTo>
                    <a:pt x="85" y="25"/>
                  </a:lnTo>
                  <a:lnTo>
                    <a:pt x="71" y="38"/>
                  </a:lnTo>
                  <a:lnTo>
                    <a:pt x="58" y="50"/>
                  </a:lnTo>
                  <a:lnTo>
                    <a:pt x="48" y="62"/>
                  </a:lnTo>
                  <a:lnTo>
                    <a:pt x="37" y="74"/>
                  </a:lnTo>
                  <a:lnTo>
                    <a:pt x="29" y="85"/>
                  </a:lnTo>
                  <a:lnTo>
                    <a:pt x="22" y="97"/>
                  </a:lnTo>
                  <a:lnTo>
                    <a:pt x="16" y="109"/>
                  </a:lnTo>
                  <a:lnTo>
                    <a:pt x="10" y="120"/>
                  </a:lnTo>
                  <a:lnTo>
                    <a:pt x="7" y="131"/>
                  </a:lnTo>
                  <a:lnTo>
                    <a:pt x="4" y="143"/>
                  </a:lnTo>
                  <a:lnTo>
                    <a:pt x="2" y="153"/>
                  </a:lnTo>
                  <a:lnTo>
                    <a:pt x="1" y="162"/>
                  </a:lnTo>
                  <a:lnTo>
                    <a:pt x="0" y="173"/>
                  </a:lnTo>
                  <a:lnTo>
                    <a:pt x="1" y="182"/>
                  </a:lnTo>
                  <a:lnTo>
                    <a:pt x="1" y="196"/>
                  </a:lnTo>
                  <a:lnTo>
                    <a:pt x="3" y="210"/>
                  </a:lnTo>
                  <a:lnTo>
                    <a:pt x="7" y="222"/>
                  </a:lnTo>
                  <a:lnTo>
                    <a:pt x="9" y="234"/>
                  </a:lnTo>
                  <a:lnTo>
                    <a:pt x="17" y="254"/>
                  </a:lnTo>
                  <a:lnTo>
                    <a:pt x="27" y="278"/>
                  </a:lnTo>
                  <a:lnTo>
                    <a:pt x="37" y="305"/>
                  </a:lnTo>
                  <a:lnTo>
                    <a:pt x="48" y="333"/>
                  </a:lnTo>
                  <a:lnTo>
                    <a:pt x="57" y="361"/>
                  </a:lnTo>
                  <a:lnTo>
                    <a:pt x="65" y="388"/>
                  </a:lnTo>
                  <a:lnTo>
                    <a:pt x="69" y="401"/>
                  </a:lnTo>
                  <a:lnTo>
                    <a:pt x="71" y="412"/>
                  </a:lnTo>
                  <a:lnTo>
                    <a:pt x="72" y="423"/>
                  </a:lnTo>
                  <a:lnTo>
                    <a:pt x="72" y="432"/>
                  </a:lnTo>
                  <a:lnTo>
                    <a:pt x="72" y="845"/>
                  </a:lnTo>
                  <a:lnTo>
                    <a:pt x="72" y="834"/>
                  </a:lnTo>
                  <a:lnTo>
                    <a:pt x="71" y="824"/>
                  </a:lnTo>
                  <a:lnTo>
                    <a:pt x="69" y="812"/>
                  </a:lnTo>
                  <a:lnTo>
                    <a:pt x="65" y="799"/>
                  </a:lnTo>
                  <a:lnTo>
                    <a:pt x="57" y="771"/>
                  </a:lnTo>
                  <a:lnTo>
                    <a:pt x="48" y="742"/>
                  </a:lnTo>
                  <a:lnTo>
                    <a:pt x="37" y="714"/>
                  </a:lnTo>
                  <a:lnTo>
                    <a:pt x="27" y="687"/>
                  </a:lnTo>
                  <a:lnTo>
                    <a:pt x="17" y="662"/>
                  </a:lnTo>
                  <a:lnTo>
                    <a:pt x="9" y="643"/>
                  </a:lnTo>
                  <a:lnTo>
                    <a:pt x="7" y="631"/>
                  </a:lnTo>
                  <a:lnTo>
                    <a:pt x="3" y="619"/>
                  </a:lnTo>
                  <a:lnTo>
                    <a:pt x="1" y="605"/>
                  </a:lnTo>
                  <a:lnTo>
                    <a:pt x="1" y="591"/>
                  </a:lnTo>
                  <a:lnTo>
                    <a:pt x="0" y="582"/>
                  </a:lnTo>
                  <a:lnTo>
                    <a:pt x="1" y="571"/>
                  </a:lnTo>
                  <a:lnTo>
                    <a:pt x="2" y="562"/>
                  </a:lnTo>
                  <a:lnTo>
                    <a:pt x="4" y="551"/>
                  </a:lnTo>
                  <a:lnTo>
                    <a:pt x="7" y="541"/>
                  </a:lnTo>
                  <a:lnTo>
                    <a:pt x="10" y="529"/>
                  </a:lnTo>
                  <a:lnTo>
                    <a:pt x="16" y="518"/>
                  </a:lnTo>
                  <a:lnTo>
                    <a:pt x="22" y="507"/>
                  </a:lnTo>
                  <a:lnTo>
                    <a:pt x="29" y="495"/>
                  </a:lnTo>
                  <a:lnTo>
                    <a:pt x="37" y="483"/>
                  </a:lnTo>
                  <a:lnTo>
                    <a:pt x="48" y="471"/>
                  </a:lnTo>
                  <a:lnTo>
                    <a:pt x="58" y="459"/>
                  </a:lnTo>
                  <a:lnTo>
                    <a:pt x="71" y="446"/>
                  </a:lnTo>
                  <a:lnTo>
                    <a:pt x="85" y="435"/>
                  </a:lnTo>
                  <a:lnTo>
                    <a:pt x="101" y="422"/>
                  </a:lnTo>
                  <a:lnTo>
                    <a:pt x="119" y="409"/>
                  </a:lnTo>
                  <a:lnTo>
                    <a:pt x="119"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47" name="Freeform 1354"/>
            <p:cNvSpPr/>
            <p:nvPr/>
          </p:nvSpPr>
          <p:spPr>
            <a:xfrm>
              <a:off x="5714640" y="4695480"/>
              <a:ext cx="42840" cy="72360"/>
            </a:xfrm>
            <a:custGeom>
              <a:avLst/>
              <a:gdLst>
                <a:gd name="textAreaLeft" fmla="*/ 0 w 42840"/>
                <a:gd name="textAreaRight" fmla="*/ 43200 w 42840"/>
                <a:gd name="textAreaTop" fmla="*/ 0 h 72360"/>
                <a:gd name="textAreaBottom" fmla="*/ 72720 h 72360"/>
              </a:gdLst>
              <a:ahLst/>
              <a:rect l="textAreaLeft" t="textAreaTop" r="textAreaRight" b="textAreaBottom"/>
              <a:pathLst>
                <a:path w="242" h="481">
                  <a:moveTo>
                    <a:pt x="0" y="481"/>
                  </a:moveTo>
                  <a:lnTo>
                    <a:pt x="22" y="477"/>
                  </a:lnTo>
                  <a:lnTo>
                    <a:pt x="45" y="474"/>
                  </a:lnTo>
                  <a:lnTo>
                    <a:pt x="70" y="472"/>
                  </a:lnTo>
                  <a:lnTo>
                    <a:pt x="94" y="470"/>
                  </a:lnTo>
                  <a:lnTo>
                    <a:pt x="134" y="458"/>
                  </a:lnTo>
                  <a:lnTo>
                    <a:pt x="181" y="445"/>
                  </a:lnTo>
                  <a:lnTo>
                    <a:pt x="203" y="438"/>
                  </a:lnTo>
                  <a:lnTo>
                    <a:pt x="222" y="430"/>
                  </a:lnTo>
                  <a:lnTo>
                    <a:pt x="230" y="425"/>
                  </a:lnTo>
                  <a:lnTo>
                    <a:pt x="236" y="421"/>
                  </a:lnTo>
                  <a:lnTo>
                    <a:pt x="239" y="415"/>
                  </a:lnTo>
                  <a:lnTo>
                    <a:pt x="242" y="409"/>
                  </a:lnTo>
                  <a:lnTo>
                    <a:pt x="242" y="0"/>
                  </a:lnTo>
                  <a:lnTo>
                    <a:pt x="239" y="6"/>
                  </a:lnTo>
                  <a:lnTo>
                    <a:pt x="236" y="11"/>
                  </a:lnTo>
                  <a:lnTo>
                    <a:pt x="230" y="17"/>
                  </a:lnTo>
                  <a:lnTo>
                    <a:pt x="222" y="21"/>
                  </a:lnTo>
                  <a:lnTo>
                    <a:pt x="203" y="29"/>
                  </a:lnTo>
                  <a:lnTo>
                    <a:pt x="181" y="36"/>
                  </a:lnTo>
                  <a:lnTo>
                    <a:pt x="134" y="49"/>
                  </a:lnTo>
                  <a:lnTo>
                    <a:pt x="94" y="61"/>
                  </a:lnTo>
                  <a:lnTo>
                    <a:pt x="70" y="63"/>
                  </a:lnTo>
                  <a:lnTo>
                    <a:pt x="45" y="66"/>
                  </a:lnTo>
                  <a:lnTo>
                    <a:pt x="22" y="68"/>
                  </a:lnTo>
                  <a:lnTo>
                    <a:pt x="0" y="73"/>
                  </a:lnTo>
                  <a:lnTo>
                    <a:pt x="0" y="481"/>
                  </a:lnTo>
                  <a:close/>
                </a:path>
              </a:pathLst>
            </a:custGeom>
            <a:solidFill>
              <a:srgbClr val="93d5ed"/>
            </a:solidFill>
            <a:ln w="936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248" name="Freeform 1355"/>
            <p:cNvSpPr/>
            <p:nvPr/>
          </p:nvSpPr>
          <p:spPr>
            <a:xfrm>
              <a:off x="5580720" y="4813920"/>
              <a:ext cx="120240" cy="131760"/>
            </a:xfrm>
            <a:custGeom>
              <a:avLst/>
              <a:gdLst>
                <a:gd name="textAreaLeft" fmla="*/ 0 w 120240"/>
                <a:gd name="textAreaRight" fmla="*/ 120600 w 120240"/>
                <a:gd name="textAreaTop" fmla="*/ 0 h 131760"/>
                <a:gd name="textAreaBottom" fmla="*/ 132120 h 131760"/>
              </a:gdLst>
              <a:ahLst/>
              <a:rect l="textAreaLeft" t="textAreaTop" r="textAreaRight" b="textAreaBottom"/>
              <a:pathLst>
                <a:path w="668" h="873">
                  <a:moveTo>
                    <a:pt x="314" y="717"/>
                  </a:moveTo>
                  <a:lnTo>
                    <a:pt x="283" y="697"/>
                  </a:lnTo>
                  <a:lnTo>
                    <a:pt x="246" y="674"/>
                  </a:lnTo>
                  <a:lnTo>
                    <a:pt x="207" y="648"/>
                  </a:lnTo>
                  <a:lnTo>
                    <a:pt x="165" y="620"/>
                  </a:lnTo>
                  <a:lnTo>
                    <a:pt x="124" y="591"/>
                  </a:lnTo>
                  <a:lnTo>
                    <a:pt x="82" y="561"/>
                  </a:lnTo>
                  <a:lnTo>
                    <a:pt x="42" y="530"/>
                  </a:lnTo>
                  <a:lnTo>
                    <a:pt x="6" y="501"/>
                  </a:lnTo>
                  <a:lnTo>
                    <a:pt x="2" y="498"/>
                  </a:lnTo>
                  <a:lnTo>
                    <a:pt x="0" y="493"/>
                  </a:lnTo>
                  <a:lnTo>
                    <a:pt x="0" y="488"/>
                  </a:lnTo>
                  <a:lnTo>
                    <a:pt x="1" y="482"/>
                  </a:lnTo>
                  <a:lnTo>
                    <a:pt x="5" y="478"/>
                  </a:lnTo>
                  <a:lnTo>
                    <a:pt x="9" y="472"/>
                  </a:lnTo>
                  <a:lnTo>
                    <a:pt x="15" y="465"/>
                  </a:lnTo>
                  <a:lnTo>
                    <a:pt x="23" y="459"/>
                  </a:lnTo>
                  <a:lnTo>
                    <a:pt x="31" y="452"/>
                  </a:lnTo>
                  <a:lnTo>
                    <a:pt x="42" y="445"/>
                  </a:lnTo>
                  <a:lnTo>
                    <a:pt x="54" y="438"/>
                  </a:lnTo>
                  <a:lnTo>
                    <a:pt x="67" y="431"/>
                  </a:lnTo>
                  <a:lnTo>
                    <a:pt x="95" y="418"/>
                  </a:lnTo>
                  <a:lnTo>
                    <a:pt x="126" y="405"/>
                  </a:lnTo>
                  <a:lnTo>
                    <a:pt x="328" y="578"/>
                  </a:lnTo>
                  <a:lnTo>
                    <a:pt x="383" y="561"/>
                  </a:lnTo>
                  <a:lnTo>
                    <a:pt x="390" y="563"/>
                  </a:lnTo>
                  <a:lnTo>
                    <a:pt x="397" y="566"/>
                  </a:lnTo>
                  <a:lnTo>
                    <a:pt x="405" y="571"/>
                  </a:lnTo>
                  <a:lnTo>
                    <a:pt x="412" y="577"/>
                  </a:lnTo>
                  <a:lnTo>
                    <a:pt x="427" y="592"/>
                  </a:lnTo>
                  <a:lnTo>
                    <a:pt x="444" y="611"/>
                  </a:lnTo>
                  <a:lnTo>
                    <a:pt x="475" y="655"/>
                  </a:lnTo>
                  <a:lnTo>
                    <a:pt x="509" y="705"/>
                  </a:lnTo>
                  <a:lnTo>
                    <a:pt x="527" y="732"/>
                  </a:lnTo>
                  <a:lnTo>
                    <a:pt x="545" y="758"/>
                  </a:lnTo>
                  <a:lnTo>
                    <a:pt x="564" y="783"/>
                  </a:lnTo>
                  <a:lnTo>
                    <a:pt x="584" y="807"/>
                  </a:lnTo>
                  <a:lnTo>
                    <a:pt x="593" y="818"/>
                  </a:lnTo>
                  <a:lnTo>
                    <a:pt x="604" y="828"/>
                  </a:lnTo>
                  <a:lnTo>
                    <a:pt x="614" y="837"/>
                  </a:lnTo>
                  <a:lnTo>
                    <a:pt x="625" y="847"/>
                  </a:lnTo>
                  <a:lnTo>
                    <a:pt x="635" y="854"/>
                  </a:lnTo>
                  <a:lnTo>
                    <a:pt x="646" y="861"/>
                  </a:lnTo>
                  <a:lnTo>
                    <a:pt x="656" y="867"/>
                  </a:lnTo>
                  <a:lnTo>
                    <a:pt x="668" y="873"/>
                  </a:lnTo>
                  <a:lnTo>
                    <a:pt x="668" y="466"/>
                  </a:lnTo>
                  <a:lnTo>
                    <a:pt x="656" y="461"/>
                  </a:lnTo>
                  <a:lnTo>
                    <a:pt x="646" y="456"/>
                  </a:lnTo>
                  <a:lnTo>
                    <a:pt x="635" y="449"/>
                  </a:lnTo>
                  <a:lnTo>
                    <a:pt x="625" y="440"/>
                  </a:lnTo>
                  <a:lnTo>
                    <a:pt x="614" y="431"/>
                  </a:lnTo>
                  <a:lnTo>
                    <a:pt x="604" y="422"/>
                  </a:lnTo>
                  <a:lnTo>
                    <a:pt x="593" y="411"/>
                  </a:lnTo>
                  <a:lnTo>
                    <a:pt x="584" y="401"/>
                  </a:lnTo>
                  <a:lnTo>
                    <a:pt x="564" y="377"/>
                  </a:lnTo>
                  <a:lnTo>
                    <a:pt x="545" y="352"/>
                  </a:lnTo>
                  <a:lnTo>
                    <a:pt x="527" y="326"/>
                  </a:lnTo>
                  <a:lnTo>
                    <a:pt x="509" y="300"/>
                  </a:lnTo>
                  <a:lnTo>
                    <a:pt x="475" y="249"/>
                  </a:lnTo>
                  <a:lnTo>
                    <a:pt x="444" y="204"/>
                  </a:lnTo>
                  <a:lnTo>
                    <a:pt x="427" y="186"/>
                  </a:lnTo>
                  <a:lnTo>
                    <a:pt x="412" y="172"/>
                  </a:lnTo>
                  <a:lnTo>
                    <a:pt x="405" y="166"/>
                  </a:lnTo>
                  <a:lnTo>
                    <a:pt x="397" y="161"/>
                  </a:lnTo>
                  <a:lnTo>
                    <a:pt x="390" y="158"/>
                  </a:lnTo>
                  <a:lnTo>
                    <a:pt x="383" y="155"/>
                  </a:lnTo>
                  <a:lnTo>
                    <a:pt x="328" y="173"/>
                  </a:lnTo>
                  <a:lnTo>
                    <a:pt x="126" y="0"/>
                  </a:lnTo>
                  <a:lnTo>
                    <a:pt x="95" y="12"/>
                  </a:lnTo>
                  <a:lnTo>
                    <a:pt x="67" y="26"/>
                  </a:lnTo>
                  <a:lnTo>
                    <a:pt x="54" y="33"/>
                  </a:lnTo>
                  <a:lnTo>
                    <a:pt x="42" y="39"/>
                  </a:lnTo>
                  <a:lnTo>
                    <a:pt x="31" y="46"/>
                  </a:lnTo>
                  <a:lnTo>
                    <a:pt x="23" y="53"/>
                  </a:lnTo>
                  <a:lnTo>
                    <a:pt x="15" y="58"/>
                  </a:lnTo>
                  <a:lnTo>
                    <a:pt x="9" y="65"/>
                  </a:lnTo>
                  <a:lnTo>
                    <a:pt x="5" y="71"/>
                  </a:lnTo>
                  <a:lnTo>
                    <a:pt x="1" y="77"/>
                  </a:lnTo>
                  <a:lnTo>
                    <a:pt x="0" y="82"/>
                  </a:lnTo>
                  <a:lnTo>
                    <a:pt x="0" y="86"/>
                  </a:lnTo>
                  <a:lnTo>
                    <a:pt x="2" y="91"/>
                  </a:lnTo>
                  <a:lnTo>
                    <a:pt x="6" y="95"/>
                  </a:lnTo>
                  <a:lnTo>
                    <a:pt x="42" y="124"/>
                  </a:lnTo>
                  <a:lnTo>
                    <a:pt x="82" y="154"/>
                  </a:lnTo>
                  <a:lnTo>
                    <a:pt x="124" y="185"/>
                  </a:lnTo>
                  <a:lnTo>
                    <a:pt x="165" y="215"/>
                  </a:lnTo>
                  <a:lnTo>
                    <a:pt x="207" y="243"/>
                  </a:lnTo>
                  <a:lnTo>
                    <a:pt x="246" y="269"/>
                  </a:lnTo>
                  <a:lnTo>
                    <a:pt x="283" y="291"/>
                  </a:lnTo>
                  <a:lnTo>
                    <a:pt x="314" y="311"/>
                  </a:lnTo>
                  <a:lnTo>
                    <a:pt x="314" y="71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49" name="Freeform 1356"/>
            <p:cNvSpPr/>
            <p:nvPr/>
          </p:nvSpPr>
          <p:spPr>
            <a:xfrm>
              <a:off x="3198960" y="5082840"/>
              <a:ext cx="8640" cy="118440"/>
            </a:xfrm>
            <a:custGeom>
              <a:avLst/>
              <a:gdLst>
                <a:gd name="textAreaLeft" fmla="*/ 0 w 8640"/>
                <a:gd name="textAreaRight" fmla="*/ 9000 w 8640"/>
                <a:gd name="textAreaTop" fmla="*/ 0 h 118440"/>
                <a:gd name="textAreaBottom" fmla="*/ 118800 h 118440"/>
              </a:gdLst>
              <a:ahLst/>
              <a:rect l="textAreaLeft" t="textAreaTop" r="textAreaRight" b="textAreaBottom"/>
              <a:pathLst>
                <a:path w="50" h="784">
                  <a:moveTo>
                    <a:pt x="21" y="568"/>
                  </a:moveTo>
                  <a:lnTo>
                    <a:pt x="18" y="572"/>
                  </a:lnTo>
                  <a:lnTo>
                    <a:pt x="13" y="584"/>
                  </a:lnTo>
                  <a:lnTo>
                    <a:pt x="9" y="593"/>
                  </a:lnTo>
                  <a:lnTo>
                    <a:pt x="6" y="604"/>
                  </a:lnTo>
                  <a:lnTo>
                    <a:pt x="3" y="616"/>
                  </a:lnTo>
                  <a:lnTo>
                    <a:pt x="1" y="630"/>
                  </a:lnTo>
                  <a:lnTo>
                    <a:pt x="0" y="645"/>
                  </a:lnTo>
                  <a:lnTo>
                    <a:pt x="0" y="661"/>
                  </a:lnTo>
                  <a:lnTo>
                    <a:pt x="2" y="679"/>
                  </a:lnTo>
                  <a:lnTo>
                    <a:pt x="7" y="697"/>
                  </a:lnTo>
                  <a:lnTo>
                    <a:pt x="13" y="718"/>
                  </a:lnTo>
                  <a:lnTo>
                    <a:pt x="22" y="739"/>
                  </a:lnTo>
                  <a:lnTo>
                    <a:pt x="28" y="750"/>
                  </a:lnTo>
                  <a:lnTo>
                    <a:pt x="35" y="762"/>
                  </a:lnTo>
                  <a:lnTo>
                    <a:pt x="42" y="772"/>
                  </a:lnTo>
                  <a:lnTo>
                    <a:pt x="50" y="784"/>
                  </a:lnTo>
                  <a:lnTo>
                    <a:pt x="50" y="216"/>
                  </a:lnTo>
                  <a:lnTo>
                    <a:pt x="42" y="204"/>
                  </a:lnTo>
                  <a:lnTo>
                    <a:pt x="35" y="194"/>
                  </a:lnTo>
                  <a:lnTo>
                    <a:pt x="28" y="182"/>
                  </a:lnTo>
                  <a:lnTo>
                    <a:pt x="22" y="172"/>
                  </a:lnTo>
                  <a:lnTo>
                    <a:pt x="13" y="151"/>
                  </a:lnTo>
                  <a:lnTo>
                    <a:pt x="7" y="131"/>
                  </a:lnTo>
                  <a:lnTo>
                    <a:pt x="2" y="111"/>
                  </a:lnTo>
                  <a:lnTo>
                    <a:pt x="0" y="93"/>
                  </a:lnTo>
                  <a:lnTo>
                    <a:pt x="0" y="77"/>
                  </a:lnTo>
                  <a:lnTo>
                    <a:pt x="1" y="62"/>
                  </a:lnTo>
                  <a:lnTo>
                    <a:pt x="3" y="48"/>
                  </a:lnTo>
                  <a:lnTo>
                    <a:pt x="6" y="36"/>
                  </a:lnTo>
                  <a:lnTo>
                    <a:pt x="9" y="26"/>
                  </a:lnTo>
                  <a:lnTo>
                    <a:pt x="13" y="16"/>
                  </a:lnTo>
                  <a:lnTo>
                    <a:pt x="18" y="5"/>
                  </a:lnTo>
                  <a:lnTo>
                    <a:pt x="21" y="0"/>
                  </a:lnTo>
                  <a:lnTo>
                    <a:pt x="21" y="56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50" name="Freeform 1357"/>
            <p:cNvSpPr/>
            <p:nvPr/>
          </p:nvSpPr>
          <p:spPr>
            <a:xfrm>
              <a:off x="3151440" y="5443920"/>
              <a:ext cx="73440" cy="24120"/>
            </a:xfrm>
            <a:custGeom>
              <a:avLst/>
              <a:gdLst>
                <a:gd name="textAreaLeft" fmla="*/ 0 w 73440"/>
                <a:gd name="textAreaRight" fmla="*/ 73800 w 73440"/>
                <a:gd name="textAreaTop" fmla="*/ 0 h 24120"/>
                <a:gd name="textAreaBottom" fmla="*/ 24480 h 24120"/>
              </a:gdLst>
              <a:ahLst/>
              <a:rect l="textAreaLeft" t="textAreaTop" r="textAreaRight" b="textAreaBottom"/>
              <a:pathLst>
                <a:path w="406" h="162">
                  <a:moveTo>
                    <a:pt x="372" y="130"/>
                  </a:moveTo>
                  <a:lnTo>
                    <a:pt x="364" y="136"/>
                  </a:lnTo>
                  <a:lnTo>
                    <a:pt x="353" y="141"/>
                  </a:lnTo>
                  <a:lnTo>
                    <a:pt x="340" y="145"/>
                  </a:lnTo>
                  <a:lnTo>
                    <a:pt x="326" y="149"/>
                  </a:lnTo>
                  <a:lnTo>
                    <a:pt x="311" y="152"/>
                  </a:lnTo>
                  <a:lnTo>
                    <a:pt x="295" y="156"/>
                  </a:lnTo>
                  <a:lnTo>
                    <a:pt x="278" y="158"/>
                  </a:lnTo>
                  <a:lnTo>
                    <a:pt x="262" y="160"/>
                  </a:lnTo>
                  <a:lnTo>
                    <a:pt x="246" y="162"/>
                  </a:lnTo>
                  <a:lnTo>
                    <a:pt x="230" y="162"/>
                  </a:lnTo>
                  <a:lnTo>
                    <a:pt x="215" y="162"/>
                  </a:lnTo>
                  <a:lnTo>
                    <a:pt x="202" y="160"/>
                  </a:lnTo>
                  <a:lnTo>
                    <a:pt x="191" y="159"/>
                  </a:lnTo>
                  <a:lnTo>
                    <a:pt x="181" y="156"/>
                  </a:lnTo>
                  <a:lnTo>
                    <a:pt x="178" y="155"/>
                  </a:lnTo>
                  <a:lnTo>
                    <a:pt x="174" y="152"/>
                  </a:lnTo>
                  <a:lnTo>
                    <a:pt x="172" y="150"/>
                  </a:lnTo>
                  <a:lnTo>
                    <a:pt x="171" y="148"/>
                  </a:lnTo>
                  <a:lnTo>
                    <a:pt x="167" y="141"/>
                  </a:lnTo>
                  <a:lnTo>
                    <a:pt x="163" y="135"/>
                  </a:lnTo>
                  <a:lnTo>
                    <a:pt x="158" y="129"/>
                  </a:lnTo>
                  <a:lnTo>
                    <a:pt x="153" y="124"/>
                  </a:lnTo>
                  <a:lnTo>
                    <a:pt x="142" y="115"/>
                  </a:lnTo>
                  <a:lnTo>
                    <a:pt x="130" y="107"/>
                  </a:lnTo>
                  <a:lnTo>
                    <a:pt x="116" y="101"/>
                  </a:lnTo>
                  <a:lnTo>
                    <a:pt x="102" y="96"/>
                  </a:lnTo>
                  <a:lnTo>
                    <a:pt x="87" y="92"/>
                  </a:lnTo>
                  <a:lnTo>
                    <a:pt x="73" y="89"/>
                  </a:lnTo>
                  <a:lnTo>
                    <a:pt x="46" y="85"/>
                  </a:lnTo>
                  <a:lnTo>
                    <a:pt x="22" y="83"/>
                  </a:lnTo>
                  <a:lnTo>
                    <a:pt x="6" y="83"/>
                  </a:lnTo>
                  <a:lnTo>
                    <a:pt x="0" y="85"/>
                  </a:lnTo>
                  <a:lnTo>
                    <a:pt x="79" y="6"/>
                  </a:lnTo>
                  <a:lnTo>
                    <a:pt x="93" y="4"/>
                  </a:lnTo>
                  <a:lnTo>
                    <a:pt x="107" y="4"/>
                  </a:lnTo>
                  <a:lnTo>
                    <a:pt x="121" y="4"/>
                  </a:lnTo>
                  <a:lnTo>
                    <a:pt x="133" y="5"/>
                  </a:lnTo>
                  <a:lnTo>
                    <a:pt x="159" y="9"/>
                  </a:lnTo>
                  <a:lnTo>
                    <a:pt x="185" y="13"/>
                  </a:lnTo>
                  <a:lnTo>
                    <a:pt x="196" y="14"/>
                  </a:lnTo>
                  <a:lnTo>
                    <a:pt x="209" y="17"/>
                  </a:lnTo>
                  <a:lnTo>
                    <a:pt x="221" y="18"/>
                  </a:lnTo>
                  <a:lnTo>
                    <a:pt x="233" y="18"/>
                  </a:lnTo>
                  <a:lnTo>
                    <a:pt x="244" y="17"/>
                  </a:lnTo>
                  <a:lnTo>
                    <a:pt x="256" y="14"/>
                  </a:lnTo>
                  <a:lnTo>
                    <a:pt x="268" y="11"/>
                  </a:lnTo>
                  <a:lnTo>
                    <a:pt x="279" y="6"/>
                  </a:lnTo>
                  <a:lnTo>
                    <a:pt x="285" y="4"/>
                  </a:lnTo>
                  <a:lnTo>
                    <a:pt x="292" y="3"/>
                  </a:lnTo>
                  <a:lnTo>
                    <a:pt x="298" y="2"/>
                  </a:lnTo>
                  <a:lnTo>
                    <a:pt x="305" y="0"/>
                  </a:lnTo>
                  <a:lnTo>
                    <a:pt x="319" y="2"/>
                  </a:lnTo>
                  <a:lnTo>
                    <a:pt x="333" y="5"/>
                  </a:lnTo>
                  <a:lnTo>
                    <a:pt x="347" y="10"/>
                  </a:lnTo>
                  <a:lnTo>
                    <a:pt x="360" y="17"/>
                  </a:lnTo>
                  <a:lnTo>
                    <a:pt x="373" y="25"/>
                  </a:lnTo>
                  <a:lnTo>
                    <a:pt x="383" y="34"/>
                  </a:lnTo>
                  <a:lnTo>
                    <a:pt x="393" y="45"/>
                  </a:lnTo>
                  <a:lnTo>
                    <a:pt x="400" y="57"/>
                  </a:lnTo>
                  <a:lnTo>
                    <a:pt x="402" y="62"/>
                  </a:lnTo>
                  <a:lnTo>
                    <a:pt x="403" y="69"/>
                  </a:lnTo>
                  <a:lnTo>
                    <a:pt x="404" y="75"/>
                  </a:lnTo>
                  <a:lnTo>
                    <a:pt x="406" y="81"/>
                  </a:lnTo>
                  <a:lnTo>
                    <a:pt x="404" y="88"/>
                  </a:lnTo>
                  <a:lnTo>
                    <a:pt x="403" y="94"/>
                  </a:lnTo>
                  <a:lnTo>
                    <a:pt x="401" y="100"/>
                  </a:lnTo>
                  <a:lnTo>
                    <a:pt x="397" y="107"/>
                  </a:lnTo>
                  <a:lnTo>
                    <a:pt x="393" y="113"/>
                  </a:lnTo>
                  <a:lnTo>
                    <a:pt x="387" y="118"/>
                  </a:lnTo>
                  <a:lnTo>
                    <a:pt x="380" y="124"/>
                  </a:lnTo>
                  <a:lnTo>
                    <a:pt x="372" y="130"/>
                  </a:lnTo>
                  <a:close/>
                </a:path>
              </a:pathLst>
            </a:custGeom>
            <a:solidFill>
              <a:srgbClr val="93d5ed"/>
            </a:solidFill>
            <a:ln w="9360">
              <a:solidFill>
                <a:srgbClr val="ccecff"/>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Times New Roman"/>
              </a:endParaRPr>
            </a:p>
          </p:txBody>
        </p:sp>
        <p:sp>
          <p:nvSpPr>
            <p:cNvPr id="251" name="Freeform 1358"/>
            <p:cNvSpPr/>
            <p:nvPr/>
          </p:nvSpPr>
          <p:spPr>
            <a:xfrm>
              <a:off x="3099240" y="5334840"/>
              <a:ext cx="22320" cy="77040"/>
            </a:xfrm>
            <a:custGeom>
              <a:avLst/>
              <a:gdLst>
                <a:gd name="textAreaLeft" fmla="*/ 0 w 22320"/>
                <a:gd name="textAreaRight" fmla="*/ 22680 w 22320"/>
                <a:gd name="textAreaTop" fmla="*/ 0 h 77040"/>
                <a:gd name="textAreaBottom" fmla="*/ 77400 h 77040"/>
              </a:gdLst>
              <a:ahLst/>
              <a:rect l="textAreaLeft" t="textAreaTop" r="textAreaRight" b="textAreaBottom"/>
              <a:pathLst>
                <a:path w="126" h="509">
                  <a:moveTo>
                    <a:pt x="0" y="100"/>
                  </a:moveTo>
                  <a:lnTo>
                    <a:pt x="15" y="98"/>
                  </a:lnTo>
                  <a:lnTo>
                    <a:pt x="30" y="96"/>
                  </a:lnTo>
                  <a:lnTo>
                    <a:pt x="43" y="91"/>
                  </a:lnTo>
                  <a:lnTo>
                    <a:pt x="56" y="88"/>
                  </a:lnTo>
                  <a:lnTo>
                    <a:pt x="68" y="82"/>
                  </a:lnTo>
                  <a:lnTo>
                    <a:pt x="78" y="76"/>
                  </a:lnTo>
                  <a:lnTo>
                    <a:pt x="88" y="70"/>
                  </a:lnTo>
                  <a:lnTo>
                    <a:pt x="96" y="63"/>
                  </a:lnTo>
                  <a:lnTo>
                    <a:pt x="103" y="56"/>
                  </a:lnTo>
                  <a:lnTo>
                    <a:pt x="109" y="48"/>
                  </a:lnTo>
                  <a:lnTo>
                    <a:pt x="115" y="41"/>
                  </a:lnTo>
                  <a:lnTo>
                    <a:pt x="119" y="33"/>
                  </a:lnTo>
                  <a:lnTo>
                    <a:pt x="123" y="24"/>
                  </a:lnTo>
                  <a:lnTo>
                    <a:pt x="125" y="16"/>
                  </a:lnTo>
                  <a:lnTo>
                    <a:pt x="126" y="8"/>
                  </a:lnTo>
                  <a:lnTo>
                    <a:pt x="126" y="0"/>
                  </a:lnTo>
                  <a:lnTo>
                    <a:pt x="126" y="409"/>
                  </a:lnTo>
                  <a:lnTo>
                    <a:pt x="126" y="417"/>
                  </a:lnTo>
                  <a:lnTo>
                    <a:pt x="125" y="425"/>
                  </a:lnTo>
                  <a:lnTo>
                    <a:pt x="123" y="433"/>
                  </a:lnTo>
                  <a:lnTo>
                    <a:pt x="119" y="441"/>
                  </a:lnTo>
                  <a:lnTo>
                    <a:pt x="115" y="450"/>
                  </a:lnTo>
                  <a:lnTo>
                    <a:pt x="109" y="457"/>
                  </a:lnTo>
                  <a:lnTo>
                    <a:pt x="103" y="465"/>
                  </a:lnTo>
                  <a:lnTo>
                    <a:pt x="96" y="472"/>
                  </a:lnTo>
                  <a:lnTo>
                    <a:pt x="88" y="479"/>
                  </a:lnTo>
                  <a:lnTo>
                    <a:pt x="78" y="485"/>
                  </a:lnTo>
                  <a:lnTo>
                    <a:pt x="68" y="490"/>
                  </a:lnTo>
                  <a:lnTo>
                    <a:pt x="56" y="496"/>
                  </a:lnTo>
                  <a:lnTo>
                    <a:pt x="43" y="501"/>
                  </a:lnTo>
                  <a:lnTo>
                    <a:pt x="30" y="505"/>
                  </a:lnTo>
                  <a:lnTo>
                    <a:pt x="15" y="507"/>
                  </a:lnTo>
                  <a:lnTo>
                    <a:pt x="0" y="509"/>
                  </a:lnTo>
                  <a:lnTo>
                    <a:pt x="0" y="100"/>
                  </a:lnTo>
                  <a:close/>
                </a:path>
              </a:pathLst>
            </a:custGeom>
            <a:solidFill>
              <a:srgbClr val="93d5ed"/>
            </a:solidFill>
            <a:ln w="9360">
              <a:solidFill>
                <a:srgbClr val="ccecff"/>
              </a:solidFill>
              <a:round/>
            </a:ln>
          </p:spPr>
          <p:style>
            <a:lnRef idx="0"/>
            <a:fillRef idx="0"/>
            <a:effectRef idx="0"/>
            <a:fontRef idx="minor"/>
          </p:style>
          <p:txBody>
            <a:bodyPr lIns="90000" rIns="90000" tIns="30600" bIns="30600" anchor="t">
              <a:noAutofit/>
            </a:bodyPr>
            <a:p>
              <a:endParaRPr b="1" lang="en-US" sz="2400" spc="-1" strike="noStrike">
                <a:solidFill>
                  <a:srgbClr val="ffffff"/>
                </a:solidFill>
                <a:latin typeface="Times New Roman"/>
              </a:endParaRPr>
            </a:p>
          </p:txBody>
        </p:sp>
        <p:sp>
          <p:nvSpPr>
            <p:cNvPr id="252" name="Freeform 1359"/>
            <p:cNvSpPr/>
            <p:nvPr/>
          </p:nvSpPr>
          <p:spPr>
            <a:xfrm>
              <a:off x="3000960" y="5323680"/>
              <a:ext cx="22320" cy="62640"/>
            </a:xfrm>
            <a:custGeom>
              <a:avLst/>
              <a:gdLst>
                <a:gd name="textAreaLeft" fmla="*/ 0 w 22320"/>
                <a:gd name="textAreaRight" fmla="*/ 22680 w 22320"/>
                <a:gd name="textAreaTop" fmla="*/ 0 h 62640"/>
                <a:gd name="textAreaBottom" fmla="*/ 63000 h 62640"/>
              </a:gdLst>
              <a:ahLst/>
              <a:rect l="textAreaLeft" t="textAreaTop" r="textAreaRight" b="textAreaBottom"/>
              <a:pathLst>
                <a:path w="122" h="415">
                  <a:moveTo>
                    <a:pt x="0" y="415"/>
                  </a:moveTo>
                  <a:lnTo>
                    <a:pt x="40" y="411"/>
                  </a:lnTo>
                  <a:lnTo>
                    <a:pt x="72" y="411"/>
                  </a:lnTo>
                  <a:lnTo>
                    <a:pt x="99" y="412"/>
                  </a:lnTo>
                  <a:lnTo>
                    <a:pt x="122" y="415"/>
                  </a:lnTo>
                  <a:lnTo>
                    <a:pt x="122" y="5"/>
                  </a:lnTo>
                  <a:lnTo>
                    <a:pt x="111" y="4"/>
                  </a:lnTo>
                  <a:lnTo>
                    <a:pt x="99" y="1"/>
                  </a:lnTo>
                  <a:lnTo>
                    <a:pt x="86" y="0"/>
                  </a:lnTo>
                  <a:lnTo>
                    <a:pt x="72" y="0"/>
                  </a:lnTo>
                  <a:lnTo>
                    <a:pt x="57" y="0"/>
                  </a:lnTo>
                  <a:lnTo>
                    <a:pt x="40" y="1"/>
                  </a:lnTo>
                  <a:lnTo>
                    <a:pt x="21" y="2"/>
                  </a:lnTo>
                  <a:lnTo>
                    <a:pt x="0" y="5"/>
                  </a:lnTo>
                  <a:lnTo>
                    <a:pt x="0" y="415"/>
                  </a:lnTo>
                  <a:close/>
                </a:path>
              </a:pathLst>
            </a:custGeom>
            <a:solidFill>
              <a:srgbClr val="93d5ed"/>
            </a:solidFill>
            <a:ln w="9360">
              <a:solidFill>
                <a:srgbClr val="ccecff"/>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Times New Roman"/>
              </a:endParaRPr>
            </a:p>
          </p:txBody>
        </p:sp>
        <p:sp>
          <p:nvSpPr>
            <p:cNvPr id="253" name="Freeform 1360"/>
            <p:cNvSpPr/>
            <p:nvPr/>
          </p:nvSpPr>
          <p:spPr>
            <a:xfrm>
              <a:off x="2957040" y="5319720"/>
              <a:ext cx="19440" cy="85320"/>
            </a:xfrm>
            <a:custGeom>
              <a:avLst/>
              <a:gdLst>
                <a:gd name="textAreaLeft" fmla="*/ 0 w 19440"/>
                <a:gd name="textAreaRight" fmla="*/ 19800 w 19440"/>
                <a:gd name="textAreaTop" fmla="*/ 0 h 85320"/>
                <a:gd name="textAreaBottom" fmla="*/ 85680 h 85320"/>
              </a:gdLst>
              <a:ahLst/>
              <a:rect l="textAreaLeft" t="textAreaTop" r="textAreaRight" b="textAreaBottom"/>
              <a:pathLst>
                <a:path w="110" h="566">
                  <a:moveTo>
                    <a:pt x="0" y="566"/>
                  </a:moveTo>
                  <a:lnTo>
                    <a:pt x="110" y="409"/>
                  </a:lnTo>
                  <a:lnTo>
                    <a:pt x="110" y="0"/>
                  </a:lnTo>
                  <a:lnTo>
                    <a:pt x="0" y="156"/>
                  </a:lnTo>
                  <a:lnTo>
                    <a:pt x="0" y="566"/>
                  </a:lnTo>
                  <a:close/>
                </a:path>
              </a:pathLst>
            </a:custGeom>
            <a:solidFill>
              <a:srgbClr val="93d5ed"/>
            </a:solidFill>
            <a:ln w="9360">
              <a:solidFill>
                <a:srgbClr val="ccecff"/>
              </a:solidFill>
              <a:round/>
            </a:ln>
          </p:spPr>
          <p:style>
            <a:lnRef idx="0"/>
            <a:fillRef idx="0"/>
            <a:effectRef idx="0"/>
            <a:fontRef idx="minor"/>
          </p:style>
          <p:txBody>
            <a:bodyPr lIns="90000" rIns="90000" tIns="38880" bIns="38880" anchor="t">
              <a:noAutofit/>
            </a:bodyPr>
            <a:p>
              <a:endParaRPr b="1" lang="en-US" sz="2400" spc="-1" strike="noStrike">
                <a:solidFill>
                  <a:srgbClr val="ffffff"/>
                </a:solidFill>
                <a:latin typeface="Times New Roman"/>
              </a:endParaRPr>
            </a:p>
          </p:txBody>
        </p:sp>
        <p:sp>
          <p:nvSpPr>
            <p:cNvPr id="254" name="Freeform 1361"/>
            <p:cNvSpPr/>
            <p:nvPr/>
          </p:nvSpPr>
          <p:spPr>
            <a:xfrm>
              <a:off x="3151440" y="5371200"/>
              <a:ext cx="31320" cy="70920"/>
            </a:xfrm>
            <a:custGeom>
              <a:avLst/>
              <a:gdLst>
                <a:gd name="textAreaLeft" fmla="*/ 0 w 31320"/>
                <a:gd name="textAreaRight" fmla="*/ 31680 w 31320"/>
                <a:gd name="textAreaTop" fmla="*/ 0 h 70920"/>
                <a:gd name="textAreaBottom" fmla="*/ 71280 h 70920"/>
              </a:gdLst>
              <a:ahLst/>
              <a:rect l="textAreaLeft" t="textAreaTop" r="textAreaRight" b="textAreaBottom"/>
              <a:pathLst>
                <a:path w="171" h="473">
                  <a:moveTo>
                    <a:pt x="0" y="409"/>
                  </a:moveTo>
                  <a:lnTo>
                    <a:pt x="6" y="409"/>
                  </a:lnTo>
                  <a:lnTo>
                    <a:pt x="22" y="409"/>
                  </a:lnTo>
                  <a:lnTo>
                    <a:pt x="46" y="410"/>
                  </a:lnTo>
                  <a:lnTo>
                    <a:pt x="73" y="414"/>
                  </a:lnTo>
                  <a:lnTo>
                    <a:pt x="87" y="417"/>
                  </a:lnTo>
                  <a:lnTo>
                    <a:pt x="102" y="421"/>
                  </a:lnTo>
                  <a:lnTo>
                    <a:pt x="116" y="427"/>
                  </a:lnTo>
                  <a:lnTo>
                    <a:pt x="130" y="432"/>
                  </a:lnTo>
                  <a:lnTo>
                    <a:pt x="142" y="441"/>
                  </a:lnTo>
                  <a:lnTo>
                    <a:pt x="153" y="450"/>
                  </a:lnTo>
                  <a:lnTo>
                    <a:pt x="158" y="455"/>
                  </a:lnTo>
                  <a:lnTo>
                    <a:pt x="163" y="460"/>
                  </a:lnTo>
                  <a:lnTo>
                    <a:pt x="167" y="466"/>
                  </a:lnTo>
                  <a:lnTo>
                    <a:pt x="171" y="473"/>
                  </a:lnTo>
                  <a:lnTo>
                    <a:pt x="171" y="64"/>
                  </a:lnTo>
                  <a:lnTo>
                    <a:pt x="167" y="57"/>
                  </a:lnTo>
                  <a:lnTo>
                    <a:pt x="163" y="52"/>
                  </a:lnTo>
                  <a:lnTo>
                    <a:pt x="158" y="46"/>
                  </a:lnTo>
                  <a:lnTo>
                    <a:pt x="153" y="41"/>
                  </a:lnTo>
                  <a:lnTo>
                    <a:pt x="142" y="32"/>
                  </a:lnTo>
                  <a:lnTo>
                    <a:pt x="130" y="24"/>
                  </a:lnTo>
                  <a:lnTo>
                    <a:pt x="116" y="18"/>
                  </a:lnTo>
                  <a:lnTo>
                    <a:pt x="102" y="12"/>
                  </a:lnTo>
                  <a:lnTo>
                    <a:pt x="87" y="8"/>
                  </a:lnTo>
                  <a:lnTo>
                    <a:pt x="73" y="5"/>
                  </a:lnTo>
                  <a:lnTo>
                    <a:pt x="46" y="1"/>
                  </a:lnTo>
                  <a:lnTo>
                    <a:pt x="22" y="0"/>
                  </a:lnTo>
                  <a:lnTo>
                    <a:pt x="6" y="0"/>
                  </a:lnTo>
                  <a:lnTo>
                    <a:pt x="0" y="0"/>
                  </a:lnTo>
                  <a:lnTo>
                    <a:pt x="0" y="409"/>
                  </a:lnTo>
                  <a:close/>
                </a:path>
              </a:pathLst>
            </a:custGeom>
            <a:solidFill>
              <a:srgbClr val="93d5ed"/>
            </a:solidFill>
            <a:ln w="9360">
              <a:solidFill>
                <a:srgbClr val="ccecff"/>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Times New Roman"/>
              </a:endParaRPr>
            </a:p>
          </p:txBody>
        </p:sp>
        <p:sp>
          <p:nvSpPr>
            <p:cNvPr id="255" name="Freeform 1362"/>
            <p:cNvSpPr/>
            <p:nvPr/>
          </p:nvSpPr>
          <p:spPr>
            <a:xfrm>
              <a:off x="3075840" y="5345640"/>
              <a:ext cx="23400" cy="66960"/>
            </a:xfrm>
            <a:custGeom>
              <a:avLst/>
              <a:gdLst>
                <a:gd name="textAreaLeft" fmla="*/ 0 w 23400"/>
                <a:gd name="textAreaRight" fmla="*/ 23760 w 23400"/>
                <a:gd name="textAreaTop" fmla="*/ 0 h 66960"/>
                <a:gd name="textAreaBottom" fmla="*/ 67320 h 66960"/>
              </a:gdLst>
              <a:ahLst/>
              <a:rect l="textAreaLeft" t="textAreaTop" r="textAreaRight" b="textAreaBottom"/>
              <a:pathLst>
                <a:path w="131" h="441">
                  <a:moveTo>
                    <a:pt x="1" y="0"/>
                  </a:moveTo>
                  <a:lnTo>
                    <a:pt x="0" y="5"/>
                  </a:lnTo>
                  <a:lnTo>
                    <a:pt x="1" y="10"/>
                  </a:lnTo>
                  <a:lnTo>
                    <a:pt x="3" y="13"/>
                  </a:lnTo>
                  <a:lnTo>
                    <a:pt x="5" y="18"/>
                  </a:lnTo>
                  <a:lnTo>
                    <a:pt x="8" y="20"/>
                  </a:lnTo>
                  <a:lnTo>
                    <a:pt x="14" y="24"/>
                  </a:lnTo>
                  <a:lnTo>
                    <a:pt x="20" y="26"/>
                  </a:lnTo>
                  <a:lnTo>
                    <a:pt x="27" y="28"/>
                  </a:lnTo>
                  <a:lnTo>
                    <a:pt x="46" y="31"/>
                  </a:lnTo>
                  <a:lnTo>
                    <a:pt x="68" y="32"/>
                  </a:lnTo>
                  <a:lnTo>
                    <a:pt x="97" y="32"/>
                  </a:lnTo>
                  <a:lnTo>
                    <a:pt x="131" y="29"/>
                  </a:lnTo>
                  <a:lnTo>
                    <a:pt x="131" y="438"/>
                  </a:lnTo>
                  <a:lnTo>
                    <a:pt x="97" y="441"/>
                  </a:lnTo>
                  <a:lnTo>
                    <a:pt x="68" y="441"/>
                  </a:lnTo>
                  <a:lnTo>
                    <a:pt x="46" y="439"/>
                  </a:lnTo>
                  <a:lnTo>
                    <a:pt x="27" y="437"/>
                  </a:lnTo>
                  <a:lnTo>
                    <a:pt x="20" y="435"/>
                  </a:lnTo>
                  <a:lnTo>
                    <a:pt x="14" y="432"/>
                  </a:lnTo>
                  <a:lnTo>
                    <a:pt x="8" y="429"/>
                  </a:lnTo>
                  <a:lnTo>
                    <a:pt x="5" y="427"/>
                  </a:lnTo>
                  <a:lnTo>
                    <a:pt x="3" y="423"/>
                  </a:lnTo>
                  <a:lnTo>
                    <a:pt x="1" y="418"/>
                  </a:lnTo>
                  <a:lnTo>
                    <a:pt x="0" y="414"/>
                  </a:lnTo>
                  <a:lnTo>
                    <a:pt x="1" y="409"/>
                  </a:lnTo>
                  <a:lnTo>
                    <a:pt x="1" y="0"/>
                  </a:lnTo>
                  <a:close/>
                </a:path>
              </a:pathLst>
            </a:custGeom>
            <a:solidFill>
              <a:srgbClr val="93d5ed"/>
            </a:solidFill>
            <a:ln w="9360">
              <a:solidFill>
                <a:srgbClr val="ccecff"/>
              </a:solidFill>
              <a:round/>
            </a:ln>
          </p:spPr>
          <p:style>
            <a:lnRef idx="0"/>
            <a:fillRef idx="0"/>
            <a:effectRef idx="0"/>
            <a:fontRef idx="minor"/>
          </p:style>
          <p:txBody>
            <a:bodyPr lIns="90000" rIns="90000" tIns="20520" bIns="20520" anchor="t">
              <a:noAutofit/>
            </a:bodyPr>
            <a:p>
              <a:endParaRPr b="1" lang="en-US" sz="2400" spc="-1" strike="noStrike">
                <a:solidFill>
                  <a:srgbClr val="ffffff"/>
                </a:solidFill>
                <a:latin typeface="Times New Roman"/>
              </a:endParaRPr>
            </a:p>
          </p:txBody>
        </p:sp>
        <p:sp>
          <p:nvSpPr>
            <p:cNvPr id="256" name="Freeform 1363"/>
            <p:cNvSpPr/>
            <p:nvPr/>
          </p:nvSpPr>
          <p:spPr>
            <a:xfrm>
              <a:off x="3112560" y="5352480"/>
              <a:ext cx="50040" cy="83160"/>
            </a:xfrm>
            <a:custGeom>
              <a:avLst/>
              <a:gdLst>
                <a:gd name="textAreaLeft" fmla="*/ 0 w 50040"/>
                <a:gd name="textAreaRight" fmla="*/ 50400 w 50040"/>
                <a:gd name="textAreaTop" fmla="*/ 0 h 83160"/>
                <a:gd name="textAreaBottom" fmla="*/ 83520 h 83160"/>
              </a:gdLst>
              <a:ahLst/>
              <a:rect l="textAreaLeft" t="textAreaTop" r="textAreaRight" b="textAreaBottom"/>
              <a:pathLst>
                <a:path w="282" h="550">
                  <a:moveTo>
                    <a:pt x="282" y="0"/>
                  </a:moveTo>
                  <a:lnTo>
                    <a:pt x="281" y="7"/>
                  </a:lnTo>
                  <a:lnTo>
                    <a:pt x="280" y="15"/>
                  </a:lnTo>
                  <a:lnTo>
                    <a:pt x="277" y="22"/>
                  </a:lnTo>
                  <a:lnTo>
                    <a:pt x="273" y="30"/>
                  </a:lnTo>
                  <a:lnTo>
                    <a:pt x="268" y="39"/>
                  </a:lnTo>
                  <a:lnTo>
                    <a:pt x="263" y="46"/>
                  </a:lnTo>
                  <a:lnTo>
                    <a:pt x="257" y="53"/>
                  </a:lnTo>
                  <a:lnTo>
                    <a:pt x="250" y="58"/>
                  </a:lnTo>
                  <a:lnTo>
                    <a:pt x="243" y="64"/>
                  </a:lnTo>
                  <a:lnTo>
                    <a:pt x="237" y="69"/>
                  </a:lnTo>
                  <a:lnTo>
                    <a:pt x="230" y="72"/>
                  </a:lnTo>
                  <a:lnTo>
                    <a:pt x="224" y="75"/>
                  </a:lnTo>
                  <a:lnTo>
                    <a:pt x="218" y="75"/>
                  </a:lnTo>
                  <a:lnTo>
                    <a:pt x="214" y="74"/>
                  </a:lnTo>
                  <a:lnTo>
                    <a:pt x="210" y="71"/>
                  </a:lnTo>
                  <a:lnTo>
                    <a:pt x="207" y="65"/>
                  </a:lnTo>
                  <a:lnTo>
                    <a:pt x="205" y="62"/>
                  </a:lnTo>
                  <a:lnTo>
                    <a:pt x="203" y="60"/>
                  </a:lnTo>
                  <a:lnTo>
                    <a:pt x="202" y="58"/>
                  </a:lnTo>
                  <a:lnTo>
                    <a:pt x="198" y="58"/>
                  </a:lnTo>
                  <a:lnTo>
                    <a:pt x="193" y="60"/>
                  </a:lnTo>
                  <a:lnTo>
                    <a:pt x="186" y="65"/>
                  </a:lnTo>
                  <a:lnTo>
                    <a:pt x="167" y="82"/>
                  </a:lnTo>
                  <a:lnTo>
                    <a:pt x="143" y="103"/>
                  </a:lnTo>
                  <a:lnTo>
                    <a:pt x="132" y="113"/>
                  </a:lnTo>
                  <a:lnTo>
                    <a:pt x="118" y="123"/>
                  </a:lnTo>
                  <a:lnTo>
                    <a:pt x="104" y="131"/>
                  </a:lnTo>
                  <a:lnTo>
                    <a:pt x="89" y="138"/>
                  </a:lnTo>
                  <a:lnTo>
                    <a:pt x="80" y="139"/>
                  </a:lnTo>
                  <a:lnTo>
                    <a:pt x="72" y="140"/>
                  </a:lnTo>
                  <a:lnTo>
                    <a:pt x="65" y="141"/>
                  </a:lnTo>
                  <a:lnTo>
                    <a:pt x="57" y="140"/>
                  </a:lnTo>
                  <a:lnTo>
                    <a:pt x="48" y="139"/>
                  </a:lnTo>
                  <a:lnTo>
                    <a:pt x="40" y="136"/>
                  </a:lnTo>
                  <a:lnTo>
                    <a:pt x="31" y="132"/>
                  </a:lnTo>
                  <a:lnTo>
                    <a:pt x="23" y="126"/>
                  </a:lnTo>
                  <a:lnTo>
                    <a:pt x="17" y="123"/>
                  </a:lnTo>
                  <a:lnTo>
                    <a:pt x="11" y="118"/>
                  </a:lnTo>
                  <a:lnTo>
                    <a:pt x="8" y="113"/>
                  </a:lnTo>
                  <a:lnTo>
                    <a:pt x="4" y="109"/>
                  </a:lnTo>
                  <a:lnTo>
                    <a:pt x="2" y="105"/>
                  </a:lnTo>
                  <a:lnTo>
                    <a:pt x="1" y="100"/>
                  </a:lnTo>
                  <a:lnTo>
                    <a:pt x="0" y="96"/>
                  </a:lnTo>
                  <a:lnTo>
                    <a:pt x="0" y="92"/>
                  </a:lnTo>
                  <a:lnTo>
                    <a:pt x="0" y="501"/>
                  </a:lnTo>
                  <a:lnTo>
                    <a:pt x="0" y="506"/>
                  </a:lnTo>
                  <a:lnTo>
                    <a:pt x="1" y="510"/>
                  </a:lnTo>
                  <a:lnTo>
                    <a:pt x="2" y="515"/>
                  </a:lnTo>
                  <a:lnTo>
                    <a:pt x="4" y="520"/>
                  </a:lnTo>
                  <a:lnTo>
                    <a:pt x="8" y="523"/>
                  </a:lnTo>
                  <a:lnTo>
                    <a:pt x="11" y="528"/>
                  </a:lnTo>
                  <a:lnTo>
                    <a:pt x="17" y="532"/>
                  </a:lnTo>
                  <a:lnTo>
                    <a:pt x="23" y="535"/>
                  </a:lnTo>
                  <a:lnTo>
                    <a:pt x="31" y="541"/>
                  </a:lnTo>
                  <a:lnTo>
                    <a:pt x="40" y="544"/>
                  </a:lnTo>
                  <a:lnTo>
                    <a:pt x="48" y="548"/>
                  </a:lnTo>
                  <a:lnTo>
                    <a:pt x="57" y="549"/>
                  </a:lnTo>
                  <a:lnTo>
                    <a:pt x="65" y="550"/>
                  </a:lnTo>
                  <a:lnTo>
                    <a:pt x="72" y="549"/>
                  </a:lnTo>
                  <a:lnTo>
                    <a:pt x="80" y="548"/>
                  </a:lnTo>
                  <a:lnTo>
                    <a:pt x="89" y="547"/>
                  </a:lnTo>
                  <a:lnTo>
                    <a:pt x="104" y="541"/>
                  </a:lnTo>
                  <a:lnTo>
                    <a:pt x="118" y="532"/>
                  </a:lnTo>
                  <a:lnTo>
                    <a:pt x="132" y="522"/>
                  </a:lnTo>
                  <a:lnTo>
                    <a:pt x="143" y="512"/>
                  </a:lnTo>
                  <a:lnTo>
                    <a:pt x="167" y="491"/>
                  </a:lnTo>
                  <a:lnTo>
                    <a:pt x="186" y="474"/>
                  </a:lnTo>
                  <a:lnTo>
                    <a:pt x="193" y="468"/>
                  </a:lnTo>
                  <a:lnTo>
                    <a:pt x="198" y="467"/>
                  </a:lnTo>
                  <a:lnTo>
                    <a:pt x="202" y="467"/>
                  </a:lnTo>
                  <a:lnTo>
                    <a:pt x="203" y="468"/>
                  </a:lnTo>
                  <a:lnTo>
                    <a:pt x="205" y="471"/>
                  </a:lnTo>
                  <a:lnTo>
                    <a:pt x="207" y="475"/>
                  </a:lnTo>
                  <a:lnTo>
                    <a:pt x="210" y="480"/>
                  </a:lnTo>
                  <a:lnTo>
                    <a:pt x="214" y="484"/>
                  </a:lnTo>
                  <a:lnTo>
                    <a:pt x="218" y="485"/>
                  </a:lnTo>
                  <a:lnTo>
                    <a:pt x="224" y="485"/>
                  </a:lnTo>
                  <a:lnTo>
                    <a:pt x="230" y="482"/>
                  </a:lnTo>
                  <a:lnTo>
                    <a:pt x="237" y="479"/>
                  </a:lnTo>
                  <a:lnTo>
                    <a:pt x="243" y="474"/>
                  </a:lnTo>
                  <a:lnTo>
                    <a:pt x="250" y="468"/>
                  </a:lnTo>
                  <a:lnTo>
                    <a:pt x="257" y="463"/>
                  </a:lnTo>
                  <a:lnTo>
                    <a:pt x="263" y="456"/>
                  </a:lnTo>
                  <a:lnTo>
                    <a:pt x="268" y="447"/>
                  </a:lnTo>
                  <a:lnTo>
                    <a:pt x="273" y="439"/>
                  </a:lnTo>
                  <a:lnTo>
                    <a:pt x="277" y="432"/>
                  </a:lnTo>
                  <a:lnTo>
                    <a:pt x="280" y="424"/>
                  </a:lnTo>
                  <a:lnTo>
                    <a:pt x="281" y="416"/>
                  </a:lnTo>
                  <a:lnTo>
                    <a:pt x="282" y="409"/>
                  </a:lnTo>
                  <a:lnTo>
                    <a:pt x="282" y="0"/>
                  </a:lnTo>
                  <a:close/>
                </a:path>
              </a:pathLst>
            </a:custGeom>
            <a:solidFill>
              <a:srgbClr val="93d5ed"/>
            </a:solidFill>
            <a:ln w="9360">
              <a:solidFill>
                <a:srgbClr val="ccecff"/>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Times New Roman"/>
              </a:endParaRPr>
            </a:p>
          </p:txBody>
        </p:sp>
        <p:sp>
          <p:nvSpPr>
            <p:cNvPr id="257" name="Freeform 1364"/>
            <p:cNvSpPr/>
            <p:nvPr/>
          </p:nvSpPr>
          <p:spPr>
            <a:xfrm>
              <a:off x="3182760" y="5371920"/>
              <a:ext cx="42120" cy="73440"/>
            </a:xfrm>
            <a:custGeom>
              <a:avLst/>
              <a:gdLst>
                <a:gd name="textAreaLeft" fmla="*/ 0 w 42120"/>
                <a:gd name="textAreaRight" fmla="*/ 42480 w 42120"/>
                <a:gd name="textAreaTop" fmla="*/ 0 h 73440"/>
                <a:gd name="textAreaBottom" fmla="*/ 73800 h 73440"/>
              </a:gdLst>
              <a:ahLst/>
              <a:rect l="textAreaLeft" t="textAreaTop" r="textAreaRight" b="textAreaBottom"/>
              <a:pathLst>
                <a:path w="234" h="489">
                  <a:moveTo>
                    <a:pt x="0" y="475"/>
                  </a:moveTo>
                  <a:lnTo>
                    <a:pt x="2" y="477"/>
                  </a:lnTo>
                  <a:lnTo>
                    <a:pt x="5" y="480"/>
                  </a:lnTo>
                  <a:lnTo>
                    <a:pt x="7" y="482"/>
                  </a:lnTo>
                  <a:lnTo>
                    <a:pt x="12" y="483"/>
                  </a:lnTo>
                  <a:lnTo>
                    <a:pt x="21" y="486"/>
                  </a:lnTo>
                  <a:lnTo>
                    <a:pt x="32" y="488"/>
                  </a:lnTo>
                  <a:lnTo>
                    <a:pt x="45" y="489"/>
                  </a:lnTo>
                  <a:lnTo>
                    <a:pt x="60" y="489"/>
                  </a:lnTo>
                  <a:lnTo>
                    <a:pt x="75" y="489"/>
                  </a:lnTo>
                  <a:lnTo>
                    <a:pt x="90" y="488"/>
                  </a:lnTo>
                  <a:lnTo>
                    <a:pt x="106" y="486"/>
                  </a:lnTo>
                  <a:lnTo>
                    <a:pt x="123" y="483"/>
                  </a:lnTo>
                  <a:lnTo>
                    <a:pt x="139" y="480"/>
                  </a:lnTo>
                  <a:lnTo>
                    <a:pt x="154" y="476"/>
                  </a:lnTo>
                  <a:lnTo>
                    <a:pt x="168" y="472"/>
                  </a:lnTo>
                  <a:lnTo>
                    <a:pt x="181" y="468"/>
                  </a:lnTo>
                  <a:lnTo>
                    <a:pt x="193" y="462"/>
                  </a:lnTo>
                  <a:lnTo>
                    <a:pt x="202" y="458"/>
                  </a:lnTo>
                  <a:lnTo>
                    <a:pt x="210" y="452"/>
                  </a:lnTo>
                  <a:lnTo>
                    <a:pt x="216" y="446"/>
                  </a:lnTo>
                  <a:lnTo>
                    <a:pt x="222" y="440"/>
                  </a:lnTo>
                  <a:lnTo>
                    <a:pt x="227" y="434"/>
                  </a:lnTo>
                  <a:lnTo>
                    <a:pt x="230" y="427"/>
                  </a:lnTo>
                  <a:lnTo>
                    <a:pt x="231" y="421"/>
                  </a:lnTo>
                  <a:lnTo>
                    <a:pt x="234" y="414"/>
                  </a:lnTo>
                  <a:lnTo>
                    <a:pt x="234" y="409"/>
                  </a:lnTo>
                  <a:lnTo>
                    <a:pt x="234" y="0"/>
                  </a:lnTo>
                  <a:lnTo>
                    <a:pt x="234" y="6"/>
                  </a:lnTo>
                  <a:lnTo>
                    <a:pt x="231" y="13"/>
                  </a:lnTo>
                  <a:lnTo>
                    <a:pt x="230" y="18"/>
                  </a:lnTo>
                  <a:lnTo>
                    <a:pt x="227" y="25"/>
                  </a:lnTo>
                  <a:lnTo>
                    <a:pt x="222" y="31"/>
                  </a:lnTo>
                  <a:lnTo>
                    <a:pt x="216" y="37"/>
                  </a:lnTo>
                  <a:lnTo>
                    <a:pt x="210" y="43"/>
                  </a:lnTo>
                  <a:lnTo>
                    <a:pt x="202" y="49"/>
                  </a:lnTo>
                  <a:lnTo>
                    <a:pt x="193" y="53"/>
                  </a:lnTo>
                  <a:lnTo>
                    <a:pt x="181" y="58"/>
                  </a:lnTo>
                  <a:lnTo>
                    <a:pt x="168" y="62"/>
                  </a:lnTo>
                  <a:lnTo>
                    <a:pt x="154" y="66"/>
                  </a:lnTo>
                  <a:lnTo>
                    <a:pt x="139" y="70"/>
                  </a:lnTo>
                  <a:lnTo>
                    <a:pt x="123" y="72"/>
                  </a:lnTo>
                  <a:lnTo>
                    <a:pt x="106" y="76"/>
                  </a:lnTo>
                  <a:lnTo>
                    <a:pt x="90" y="77"/>
                  </a:lnTo>
                  <a:lnTo>
                    <a:pt x="75" y="78"/>
                  </a:lnTo>
                  <a:lnTo>
                    <a:pt x="60" y="79"/>
                  </a:lnTo>
                  <a:lnTo>
                    <a:pt x="45" y="79"/>
                  </a:lnTo>
                  <a:lnTo>
                    <a:pt x="32" y="78"/>
                  </a:lnTo>
                  <a:lnTo>
                    <a:pt x="21" y="76"/>
                  </a:lnTo>
                  <a:lnTo>
                    <a:pt x="12" y="72"/>
                  </a:lnTo>
                  <a:lnTo>
                    <a:pt x="7" y="70"/>
                  </a:lnTo>
                  <a:lnTo>
                    <a:pt x="5" y="69"/>
                  </a:lnTo>
                  <a:lnTo>
                    <a:pt x="2" y="65"/>
                  </a:lnTo>
                  <a:lnTo>
                    <a:pt x="0" y="63"/>
                  </a:lnTo>
                  <a:lnTo>
                    <a:pt x="0" y="475"/>
                  </a:lnTo>
                  <a:close/>
                </a:path>
              </a:pathLst>
            </a:custGeom>
            <a:solidFill>
              <a:srgbClr val="93d5ed"/>
            </a:solidFill>
            <a:ln w="9360">
              <a:solidFill>
                <a:srgbClr val="ccecff"/>
              </a:solidFill>
              <a:round/>
            </a:ln>
          </p:spPr>
          <p:style>
            <a:lnRef idx="0"/>
            <a:fillRef idx="0"/>
            <a:effectRef idx="0"/>
            <a:fontRef idx="minor"/>
          </p:style>
          <p:txBody>
            <a:bodyPr lIns="90000" rIns="90000" tIns="27000" bIns="27000" anchor="t">
              <a:noAutofit/>
            </a:bodyPr>
            <a:p>
              <a:endParaRPr b="1" lang="en-US" sz="2400" spc="-1" strike="noStrike">
                <a:solidFill>
                  <a:srgbClr val="ffffff"/>
                </a:solidFill>
                <a:latin typeface="Times New Roman"/>
              </a:endParaRPr>
            </a:p>
          </p:txBody>
        </p:sp>
        <p:sp>
          <p:nvSpPr>
            <p:cNvPr id="258" name="Freeform 1365"/>
            <p:cNvSpPr/>
            <p:nvPr/>
          </p:nvSpPr>
          <p:spPr>
            <a:xfrm>
              <a:off x="3137040" y="5489280"/>
              <a:ext cx="10800" cy="76320"/>
            </a:xfrm>
            <a:custGeom>
              <a:avLst/>
              <a:gdLst>
                <a:gd name="textAreaLeft" fmla="*/ 0 w 10800"/>
                <a:gd name="textAreaRight" fmla="*/ 11160 w 10800"/>
                <a:gd name="textAreaTop" fmla="*/ 0 h 76320"/>
                <a:gd name="textAreaBottom" fmla="*/ 76680 h 76320"/>
              </a:gdLst>
              <a:ahLst/>
              <a:rect l="textAreaLeft" t="textAreaTop" r="textAreaRight" b="textAreaBottom"/>
              <a:pathLst>
                <a:path w="60" h="507">
                  <a:moveTo>
                    <a:pt x="0" y="0"/>
                  </a:moveTo>
                  <a:lnTo>
                    <a:pt x="1" y="11"/>
                  </a:lnTo>
                  <a:lnTo>
                    <a:pt x="2" y="21"/>
                  </a:lnTo>
                  <a:lnTo>
                    <a:pt x="4" y="31"/>
                  </a:lnTo>
                  <a:lnTo>
                    <a:pt x="7" y="39"/>
                  </a:lnTo>
                  <a:lnTo>
                    <a:pt x="9" y="47"/>
                  </a:lnTo>
                  <a:lnTo>
                    <a:pt x="12" y="55"/>
                  </a:lnTo>
                  <a:lnTo>
                    <a:pt x="16" y="62"/>
                  </a:lnTo>
                  <a:lnTo>
                    <a:pt x="19" y="68"/>
                  </a:lnTo>
                  <a:lnTo>
                    <a:pt x="24" y="74"/>
                  </a:lnTo>
                  <a:lnTo>
                    <a:pt x="28" y="80"/>
                  </a:lnTo>
                  <a:lnTo>
                    <a:pt x="32" y="85"/>
                  </a:lnTo>
                  <a:lnTo>
                    <a:pt x="38" y="88"/>
                  </a:lnTo>
                  <a:lnTo>
                    <a:pt x="49" y="95"/>
                  </a:lnTo>
                  <a:lnTo>
                    <a:pt x="60" y="99"/>
                  </a:lnTo>
                  <a:lnTo>
                    <a:pt x="60" y="507"/>
                  </a:lnTo>
                  <a:lnTo>
                    <a:pt x="55" y="506"/>
                  </a:lnTo>
                  <a:lnTo>
                    <a:pt x="49" y="504"/>
                  </a:lnTo>
                  <a:lnTo>
                    <a:pt x="43" y="502"/>
                  </a:lnTo>
                  <a:lnTo>
                    <a:pt x="38" y="498"/>
                  </a:lnTo>
                  <a:lnTo>
                    <a:pt x="32" y="495"/>
                  </a:lnTo>
                  <a:lnTo>
                    <a:pt x="28" y="490"/>
                  </a:lnTo>
                  <a:lnTo>
                    <a:pt x="24" y="484"/>
                  </a:lnTo>
                  <a:lnTo>
                    <a:pt x="19" y="478"/>
                  </a:lnTo>
                  <a:lnTo>
                    <a:pt x="16" y="472"/>
                  </a:lnTo>
                  <a:lnTo>
                    <a:pt x="12" y="465"/>
                  </a:lnTo>
                  <a:lnTo>
                    <a:pt x="9" y="457"/>
                  </a:lnTo>
                  <a:lnTo>
                    <a:pt x="7" y="449"/>
                  </a:lnTo>
                  <a:lnTo>
                    <a:pt x="2" y="430"/>
                  </a:lnTo>
                  <a:lnTo>
                    <a:pt x="0" y="410"/>
                  </a:lnTo>
                  <a:lnTo>
                    <a:pt x="0" y="0"/>
                  </a:lnTo>
                  <a:close/>
                </a:path>
              </a:pathLst>
            </a:custGeom>
            <a:solidFill>
              <a:srgbClr val="93d5ed"/>
            </a:solidFill>
            <a:ln w="9360">
              <a:solidFill>
                <a:srgbClr val="ccecff"/>
              </a:solidFill>
              <a:round/>
            </a:ln>
          </p:spPr>
          <p:style>
            <a:lnRef idx="0"/>
            <a:fillRef idx="0"/>
            <a:effectRef idx="0"/>
            <a:fontRef idx="minor"/>
          </p:style>
          <p:txBody>
            <a:bodyPr lIns="90000" rIns="90000" tIns="29880" bIns="29880" anchor="t">
              <a:noAutofit/>
            </a:bodyPr>
            <a:p>
              <a:endParaRPr b="1" lang="en-US" sz="2400" spc="-1" strike="noStrike">
                <a:solidFill>
                  <a:srgbClr val="ffffff"/>
                </a:solidFill>
                <a:latin typeface="Times New Roman"/>
              </a:endParaRPr>
            </a:p>
          </p:txBody>
        </p:sp>
        <p:sp>
          <p:nvSpPr>
            <p:cNvPr id="259" name="Freeform 1366"/>
            <p:cNvSpPr/>
            <p:nvPr/>
          </p:nvSpPr>
          <p:spPr>
            <a:xfrm>
              <a:off x="3117960" y="5375880"/>
              <a:ext cx="41040" cy="73440"/>
            </a:xfrm>
            <a:custGeom>
              <a:avLst/>
              <a:gdLst>
                <a:gd name="textAreaLeft" fmla="*/ 0 w 41040"/>
                <a:gd name="textAreaRight" fmla="*/ 41400 w 41040"/>
                <a:gd name="textAreaTop" fmla="*/ 0 h 73440"/>
                <a:gd name="textAreaBottom" fmla="*/ 73800 h 73440"/>
              </a:gdLst>
              <a:ahLst/>
              <a:rect l="textAreaLeft" t="textAreaTop" r="textAreaRight" b="textAreaBottom"/>
              <a:pathLst>
                <a:path w="234" h="487">
                  <a:moveTo>
                    <a:pt x="230" y="0"/>
                  </a:moveTo>
                  <a:lnTo>
                    <a:pt x="231" y="2"/>
                  </a:lnTo>
                  <a:lnTo>
                    <a:pt x="232" y="4"/>
                  </a:lnTo>
                  <a:lnTo>
                    <a:pt x="234" y="6"/>
                  </a:lnTo>
                  <a:lnTo>
                    <a:pt x="234" y="9"/>
                  </a:lnTo>
                  <a:lnTo>
                    <a:pt x="232" y="14"/>
                  </a:lnTo>
                  <a:lnTo>
                    <a:pt x="228" y="20"/>
                  </a:lnTo>
                  <a:lnTo>
                    <a:pt x="222" y="26"/>
                  </a:lnTo>
                  <a:lnTo>
                    <a:pt x="215" y="33"/>
                  </a:lnTo>
                  <a:lnTo>
                    <a:pt x="206" y="39"/>
                  </a:lnTo>
                  <a:lnTo>
                    <a:pt x="194" y="46"/>
                  </a:lnTo>
                  <a:lnTo>
                    <a:pt x="181" y="52"/>
                  </a:lnTo>
                  <a:lnTo>
                    <a:pt x="167" y="58"/>
                  </a:lnTo>
                  <a:lnTo>
                    <a:pt x="152" y="63"/>
                  </a:lnTo>
                  <a:lnTo>
                    <a:pt x="136" y="68"/>
                  </a:lnTo>
                  <a:lnTo>
                    <a:pt x="119" y="73"/>
                  </a:lnTo>
                  <a:lnTo>
                    <a:pt x="100" y="75"/>
                  </a:lnTo>
                  <a:lnTo>
                    <a:pt x="82" y="77"/>
                  </a:lnTo>
                  <a:lnTo>
                    <a:pt x="63" y="79"/>
                  </a:lnTo>
                  <a:lnTo>
                    <a:pt x="36" y="77"/>
                  </a:lnTo>
                  <a:lnTo>
                    <a:pt x="19" y="74"/>
                  </a:lnTo>
                  <a:lnTo>
                    <a:pt x="12" y="73"/>
                  </a:lnTo>
                  <a:lnTo>
                    <a:pt x="6" y="70"/>
                  </a:lnTo>
                  <a:lnTo>
                    <a:pt x="2" y="68"/>
                  </a:lnTo>
                  <a:lnTo>
                    <a:pt x="0" y="67"/>
                  </a:lnTo>
                  <a:lnTo>
                    <a:pt x="0" y="476"/>
                  </a:lnTo>
                  <a:lnTo>
                    <a:pt x="2" y="478"/>
                  </a:lnTo>
                  <a:lnTo>
                    <a:pt x="6" y="480"/>
                  </a:lnTo>
                  <a:lnTo>
                    <a:pt x="12" y="483"/>
                  </a:lnTo>
                  <a:lnTo>
                    <a:pt x="19" y="484"/>
                  </a:lnTo>
                  <a:lnTo>
                    <a:pt x="36" y="486"/>
                  </a:lnTo>
                  <a:lnTo>
                    <a:pt x="63" y="487"/>
                  </a:lnTo>
                  <a:lnTo>
                    <a:pt x="82" y="486"/>
                  </a:lnTo>
                  <a:lnTo>
                    <a:pt x="100" y="484"/>
                  </a:lnTo>
                  <a:lnTo>
                    <a:pt x="119" y="482"/>
                  </a:lnTo>
                  <a:lnTo>
                    <a:pt x="136" y="477"/>
                  </a:lnTo>
                  <a:lnTo>
                    <a:pt x="152" y="472"/>
                  </a:lnTo>
                  <a:lnTo>
                    <a:pt x="167" y="466"/>
                  </a:lnTo>
                  <a:lnTo>
                    <a:pt x="181" y="461"/>
                  </a:lnTo>
                  <a:lnTo>
                    <a:pt x="194" y="455"/>
                  </a:lnTo>
                  <a:lnTo>
                    <a:pt x="206" y="448"/>
                  </a:lnTo>
                  <a:lnTo>
                    <a:pt x="215" y="442"/>
                  </a:lnTo>
                  <a:lnTo>
                    <a:pt x="222" y="435"/>
                  </a:lnTo>
                  <a:lnTo>
                    <a:pt x="228" y="429"/>
                  </a:lnTo>
                  <a:lnTo>
                    <a:pt x="232" y="423"/>
                  </a:lnTo>
                  <a:lnTo>
                    <a:pt x="234" y="417"/>
                  </a:lnTo>
                  <a:lnTo>
                    <a:pt x="234" y="415"/>
                  </a:lnTo>
                  <a:lnTo>
                    <a:pt x="232" y="413"/>
                  </a:lnTo>
                  <a:lnTo>
                    <a:pt x="231" y="412"/>
                  </a:lnTo>
                  <a:lnTo>
                    <a:pt x="230" y="409"/>
                  </a:lnTo>
                  <a:lnTo>
                    <a:pt x="230" y="0"/>
                  </a:lnTo>
                  <a:close/>
                </a:path>
              </a:pathLst>
            </a:custGeom>
            <a:solidFill>
              <a:srgbClr val="93d5ed"/>
            </a:solidFill>
            <a:ln w="9360">
              <a:solidFill>
                <a:srgbClr val="ccecff"/>
              </a:solidFill>
              <a:round/>
            </a:ln>
          </p:spPr>
          <p:style>
            <a:lnRef idx="0"/>
            <a:fillRef idx="0"/>
            <a:effectRef idx="0"/>
            <a:fontRef idx="minor"/>
          </p:style>
          <p:txBody>
            <a:bodyPr lIns="90000" rIns="90000" tIns="27000" bIns="27000" anchor="t">
              <a:noAutofit/>
            </a:bodyPr>
            <a:p>
              <a:endParaRPr b="1" lang="en-US" sz="2400" spc="-1" strike="noStrike">
                <a:solidFill>
                  <a:srgbClr val="ffffff"/>
                </a:solidFill>
                <a:latin typeface="Times New Roman"/>
              </a:endParaRPr>
            </a:p>
          </p:txBody>
        </p:sp>
        <p:sp>
          <p:nvSpPr>
            <p:cNvPr id="260" name="Freeform 1367"/>
            <p:cNvSpPr/>
            <p:nvPr/>
          </p:nvSpPr>
          <p:spPr>
            <a:xfrm>
              <a:off x="3225960" y="5433120"/>
              <a:ext cx="29520" cy="95400"/>
            </a:xfrm>
            <a:custGeom>
              <a:avLst/>
              <a:gdLst>
                <a:gd name="textAreaLeft" fmla="*/ 0 w 29520"/>
                <a:gd name="textAreaRight" fmla="*/ 29880 w 29520"/>
                <a:gd name="textAreaTop" fmla="*/ 0 h 95400"/>
                <a:gd name="textAreaBottom" fmla="*/ 95760 h 95400"/>
              </a:gdLst>
              <a:ahLst/>
              <a:rect l="textAreaLeft" t="textAreaTop" r="textAreaRight" b="textAreaBottom"/>
              <a:pathLst>
                <a:path w="167" h="631">
                  <a:moveTo>
                    <a:pt x="0" y="222"/>
                  </a:moveTo>
                  <a:lnTo>
                    <a:pt x="16" y="214"/>
                  </a:lnTo>
                  <a:lnTo>
                    <a:pt x="31" y="204"/>
                  </a:lnTo>
                  <a:lnTo>
                    <a:pt x="46" y="193"/>
                  </a:lnTo>
                  <a:lnTo>
                    <a:pt x="62" y="180"/>
                  </a:lnTo>
                  <a:lnTo>
                    <a:pt x="76" y="166"/>
                  </a:lnTo>
                  <a:lnTo>
                    <a:pt x="90" y="151"/>
                  </a:lnTo>
                  <a:lnTo>
                    <a:pt x="102" y="136"/>
                  </a:lnTo>
                  <a:lnTo>
                    <a:pt x="114" y="119"/>
                  </a:lnTo>
                  <a:lnTo>
                    <a:pt x="126" y="103"/>
                  </a:lnTo>
                  <a:lnTo>
                    <a:pt x="135" y="86"/>
                  </a:lnTo>
                  <a:lnTo>
                    <a:pt x="144" y="70"/>
                  </a:lnTo>
                  <a:lnTo>
                    <a:pt x="151" y="54"/>
                  </a:lnTo>
                  <a:lnTo>
                    <a:pt x="157" y="39"/>
                  </a:lnTo>
                  <a:lnTo>
                    <a:pt x="162" y="25"/>
                  </a:lnTo>
                  <a:lnTo>
                    <a:pt x="165" y="12"/>
                  </a:lnTo>
                  <a:lnTo>
                    <a:pt x="167" y="0"/>
                  </a:lnTo>
                  <a:lnTo>
                    <a:pt x="167" y="404"/>
                  </a:lnTo>
                  <a:lnTo>
                    <a:pt x="167" y="415"/>
                  </a:lnTo>
                  <a:lnTo>
                    <a:pt x="164" y="428"/>
                  </a:lnTo>
                  <a:lnTo>
                    <a:pt x="160" y="442"/>
                  </a:lnTo>
                  <a:lnTo>
                    <a:pt x="155" y="457"/>
                  </a:lnTo>
                  <a:lnTo>
                    <a:pt x="148" y="473"/>
                  </a:lnTo>
                  <a:lnTo>
                    <a:pt x="140" y="489"/>
                  </a:lnTo>
                  <a:lnTo>
                    <a:pt x="129" y="507"/>
                  </a:lnTo>
                  <a:lnTo>
                    <a:pt x="119" y="524"/>
                  </a:lnTo>
                  <a:lnTo>
                    <a:pt x="107" y="541"/>
                  </a:lnTo>
                  <a:lnTo>
                    <a:pt x="93" y="557"/>
                  </a:lnTo>
                  <a:lnTo>
                    <a:pt x="80" y="572"/>
                  </a:lnTo>
                  <a:lnTo>
                    <a:pt x="65" y="588"/>
                  </a:lnTo>
                  <a:lnTo>
                    <a:pt x="50" y="602"/>
                  </a:lnTo>
                  <a:lnTo>
                    <a:pt x="33" y="613"/>
                  </a:lnTo>
                  <a:lnTo>
                    <a:pt x="17" y="623"/>
                  </a:lnTo>
                  <a:lnTo>
                    <a:pt x="0" y="631"/>
                  </a:lnTo>
                  <a:lnTo>
                    <a:pt x="0" y="22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61" name="Freeform 1368"/>
            <p:cNvSpPr/>
            <p:nvPr/>
          </p:nvSpPr>
          <p:spPr>
            <a:xfrm>
              <a:off x="3148560" y="5480280"/>
              <a:ext cx="30240" cy="84600"/>
            </a:xfrm>
            <a:custGeom>
              <a:avLst/>
              <a:gdLst>
                <a:gd name="textAreaLeft" fmla="*/ 0 w 30240"/>
                <a:gd name="textAreaRight" fmla="*/ 30600 w 30240"/>
                <a:gd name="textAreaTop" fmla="*/ 0 h 84600"/>
                <a:gd name="textAreaBottom" fmla="*/ 84960 h 84600"/>
              </a:gdLst>
              <a:ahLst/>
              <a:rect l="textAreaLeft" t="textAreaTop" r="textAreaRight" b="textAreaBottom"/>
              <a:pathLst>
                <a:path w="167" h="559">
                  <a:moveTo>
                    <a:pt x="0" y="146"/>
                  </a:moveTo>
                  <a:lnTo>
                    <a:pt x="12" y="147"/>
                  </a:lnTo>
                  <a:lnTo>
                    <a:pt x="23" y="146"/>
                  </a:lnTo>
                  <a:lnTo>
                    <a:pt x="36" y="144"/>
                  </a:lnTo>
                  <a:lnTo>
                    <a:pt x="48" y="138"/>
                  </a:lnTo>
                  <a:lnTo>
                    <a:pt x="59" y="131"/>
                  </a:lnTo>
                  <a:lnTo>
                    <a:pt x="71" y="120"/>
                  </a:lnTo>
                  <a:lnTo>
                    <a:pt x="76" y="114"/>
                  </a:lnTo>
                  <a:lnTo>
                    <a:pt x="80" y="109"/>
                  </a:lnTo>
                  <a:lnTo>
                    <a:pt x="85" y="102"/>
                  </a:lnTo>
                  <a:lnTo>
                    <a:pt x="89" y="95"/>
                  </a:lnTo>
                  <a:lnTo>
                    <a:pt x="97" y="79"/>
                  </a:lnTo>
                  <a:lnTo>
                    <a:pt x="106" y="65"/>
                  </a:lnTo>
                  <a:lnTo>
                    <a:pt x="116" y="51"/>
                  </a:lnTo>
                  <a:lnTo>
                    <a:pt x="125" y="40"/>
                  </a:lnTo>
                  <a:lnTo>
                    <a:pt x="135" y="28"/>
                  </a:lnTo>
                  <a:lnTo>
                    <a:pt x="145" y="19"/>
                  </a:lnTo>
                  <a:lnTo>
                    <a:pt x="155" y="8"/>
                  </a:lnTo>
                  <a:lnTo>
                    <a:pt x="167" y="0"/>
                  </a:lnTo>
                  <a:lnTo>
                    <a:pt x="167" y="411"/>
                  </a:lnTo>
                  <a:lnTo>
                    <a:pt x="155" y="420"/>
                  </a:lnTo>
                  <a:lnTo>
                    <a:pt x="145" y="430"/>
                  </a:lnTo>
                  <a:lnTo>
                    <a:pt x="135" y="440"/>
                  </a:lnTo>
                  <a:lnTo>
                    <a:pt x="125" y="452"/>
                  </a:lnTo>
                  <a:lnTo>
                    <a:pt x="116" y="464"/>
                  </a:lnTo>
                  <a:lnTo>
                    <a:pt x="106" y="476"/>
                  </a:lnTo>
                  <a:lnTo>
                    <a:pt x="97" y="490"/>
                  </a:lnTo>
                  <a:lnTo>
                    <a:pt x="89" y="507"/>
                  </a:lnTo>
                  <a:lnTo>
                    <a:pt x="85" y="514"/>
                  </a:lnTo>
                  <a:lnTo>
                    <a:pt x="80" y="521"/>
                  </a:lnTo>
                  <a:lnTo>
                    <a:pt x="76" y="527"/>
                  </a:lnTo>
                  <a:lnTo>
                    <a:pt x="71" y="533"/>
                  </a:lnTo>
                  <a:lnTo>
                    <a:pt x="59" y="542"/>
                  </a:lnTo>
                  <a:lnTo>
                    <a:pt x="48" y="550"/>
                  </a:lnTo>
                  <a:lnTo>
                    <a:pt x="36" y="555"/>
                  </a:lnTo>
                  <a:lnTo>
                    <a:pt x="23" y="558"/>
                  </a:lnTo>
                  <a:lnTo>
                    <a:pt x="12" y="559"/>
                  </a:lnTo>
                  <a:lnTo>
                    <a:pt x="0" y="558"/>
                  </a:lnTo>
                  <a:lnTo>
                    <a:pt x="0" y="146"/>
                  </a:lnTo>
                  <a:close/>
                </a:path>
              </a:pathLst>
            </a:custGeom>
            <a:solidFill>
              <a:srgbClr val="93d5ed"/>
            </a:solidFill>
            <a:ln w="9360">
              <a:solidFill>
                <a:srgbClr val="ccecff"/>
              </a:solidFill>
              <a:round/>
            </a:ln>
          </p:spPr>
          <p:style>
            <a:lnRef idx="0"/>
            <a:fillRef idx="0"/>
            <a:effectRef idx="0"/>
            <a:fontRef idx="minor"/>
          </p:style>
          <p:txBody>
            <a:bodyPr lIns="90000" rIns="90000" tIns="38160" bIns="38160" anchor="t">
              <a:noAutofit/>
            </a:bodyPr>
            <a:p>
              <a:endParaRPr b="1" lang="en-US" sz="2400" spc="-1" strike="noStrike">
                <a:solidFill>
                  <a:srgbClr val="ffffff"/>
                </a:solidFill>
                <a:latin typeface="Times New Roman"/>
              </a:endParaRPr>
            </a:p>
          </p:txBody>
        </p:sp>
        <p:sp>
          <p:nvSpPr>
            <p:cNvPr id="262" name="Freeform 1369"/>
            <p:cNvSpPr/>
            <p:nvPr/>
          </p:nvSpPr>
          <p:spPr>
            <a:xfrm>
              <a:off x="3180960" y="5465160"/>
              <a:ext cx="47520" cy="75600"/>
            </a:xfrm>
            <a:custGeom>
              <a:avLst/>
              <a:gdLst>
                <a:gd name="textAreaLeft" fmla="*/ 0 w 47520"/>
                <a:gd name="textAreaRight" fmla="*/ 47880 w 47520"/>
                <a:gd name="textAreaTop" fmla="*/ 0 h 75600"/>
                <a:gd name="textAreaBottom" fmla="*/ 75960 h 75600"/>
              </a:gdLst>
              <a:ahLst/>
              <a:rect l="textAreaLeft" t="textAreaTop" r="textAreaRight" b="textAreaBottom"/>
              <a:pathLst>
                <a:path w="262" h="501">
                  <a:moveTo>
                    <a:pt x="0" y="90"/>
                  </a:moveTo>
                  <a:lnTo>
                    <a:pt x="15" y="79"/>
                  </a:lnTo>
                  <a:lnTo>
                    <a:pt x="31" y="69"/>
                  </a:lnTo>
                  <a:lnTo>
                    <a:pt x="48" y="61"/>
                  </a:lnTo>
                  <a:lnTo>
                    <a:pt x="64" y="54"/>
                  </a:lnTo>
                  <a:lnTo>
                    <a:pt x="82" y="48"/>
                  </a:lnTo>
                  <a:lnTo>
                    <a:pt x="98" y="43"/>
                  </a:lnTo>
                  <a:lnTo>
                    <a:pt x="114" y="39"/>
                  </a:lnTo>
                  <a:lnTo>
                    <a:pt x="132" y="34"/>
                  </a:lnTo>
                  <a:lnTo>
                    <a:pt x="166" y="27"/>
                  </a:lnTo>
                  <a:lnTo>
                    <a:pt x="199" y="20"/>
                  </a:lnTo>
                  <a:lnTo>
                    <a:pt x="215" y="17"/>
                  </a:lnTo>
                  <a:lnTo>
                    <a:pt x="231" y="12"/>
                  </a:lnTo>
                  <a:lnTo>
                    <a:pt x="246" y="7"/>
                  </a:lnTo>
                  <a:lnTo>
                    <a:pt x="262" y="0"/>
                  </a:lnTo>
                  <a:lnTo>
                    <a:pt x="262" y="410"/>
                  </a:lnTo>
                  <a:lnTo>
                    <a:pt x="242" y="417"/>
                  </a:lnTo>
                  <a:lnTo>
                    <a:pt x="222" y="425"/>
                  </a:lnTo>
                  <a:lnTo>
                    <a:pt x="203" y="431"/>
                  </a:lnTo>
                  <a:lnTo>
                    <a:pt x="185" y="437"/>
                  </a:lnTo>
                  <a:lnTo>
                    <a:pt x="148" y="446"/>
                  </a:lnTo>
                  <a:lnTo>
                    <a:pt x="113" y="456"/>
                  </a:lnTo>
                  <a:lnTo>
                    <a:pt x="82" y="465"/>
                  </a:lnTo>
                  <a:lnTo>
                    <a:pt x="51" y="475"/>
                  </a:lnTo>
                  <a:lnTo>
                    <a:pt x="37" y="480"/>
                  </a:lnTo>
                  <a:lnTo>
                    <a:pt x="24" y="486"/>
                  </a:lnTo>
                  <a:lnTo>
                    <a:pt x="12" y="493"/>
                  </a:lnTo>
                  <a:lnTo>
                    <a:pt x="0" y="501"/>
                  </a:lnTo>
                  <a:lnTo>
                    <a:pt x="0" y="90"/>
                  </a:lnTo>
                  <a:close/>
                </a:path>
              </a:pathLst>
            </a:custGeom>
            <a:solidFill>
              <a:srgbClr val="93d5ed"/>
            </a:solidFill>
            <a:ln w="9360">
              <a:solidFill>
                <a:srgbClr val="ccecff"/>
              </a:solidFill>
              <a:round/>
            </a:ln>
          </p:spPr>
          <p:style>
            <a:lnRef idx="0"/>
            <a:fillRef idx="0"/>
            <a:effectRef idx="0"/>
            <a:fontRef idx="minor"/>
          </p:style>
          <p:txBody>
            <a:bodyPr lIns="90000" rIns="90000" tIns="29160" bIns="29160" anchor="t">
              <a:noAutofit/>
            </a:bodyPr>
            <a:p>
              <a:endParaRPr b="1" lang="en-US" sz="2400" spc="-1" strike="noStrike">
                <a:solidFill>
                  <a:srgbClr val="ffffff"/>
                </a:solidFill>
                <a:latin typeface="Times New Roman"/>
              </a:endParaRPr>
            </a:p>
          </p:txBody>
        </p:sp>
        <p:sp>
          <p:nvSpPr>
            <p:cNvPr id="263" name="Freeform 1370"/>
            <p:cNvSpPr/>
            <p:nvPr/>
          </p:nvSpPr>
          <p:spPr>
            <a:xfrm>
              <a:off x="2988360" y="5322960"/>
              <a:ext cx="12600" cy="64080"/>
            </a:xfrm>
            <a:custGeom>
              <a:avLst/>
              <a:gdLst>
                <a:gd name="textAreaLeft" fmla="*/ 0 w 12600"/>
                <a:gd name="textAreaRight" fmla="*/ 12960 w 12600"/>
                <a:gd name="textAreaTop" fmla="*/ 0 h 64080"/>
                <a:gd name="textAreaBottom" fmla="*/ 64440 h 64080"/>
              </a:gdLst>
              <a:ahLst/>
              <a:rect l="textAreaLeft" t="textAreaTop" r="textAreaRight" b="textAreaBottom"/>
              <a:pathLst>
                <a:path w="71" h="423">
                  <a:moveTo>
                    <a:pt x="0" y="409"/>
                  </a:moveTo>
                  <a:lnTo>
                    <a:pt x="1" y="413"/>
                  </a:lnTo>
                  <a:lnTo>
                    <a:pt x="6" y="416"/>
                  </a:lnTo>
                  <a:lnTo>
                    <a:pt x="11" y="418"/>
                  </a:lnTo>
                  <a:lnTo>
                    <a:pt x="20" y="421"/>
                  </a:lnTo>
                  <a:lnTo>
                    <a:pt x="29" y="422"/>
                  </a:lnTo>
                  <a:lnTo>
                    <a:pt x="41" y="423"/>
                  </a:lnTo>
                  <a:lnTo>
                    <a:pt x="55" y="422"/>
                  </a:lnTo>
                  <a:lnTo>
                    <a:pt x="71" y="421"/>
                  </a:lnTo>
                  <a:lnTo>
                    <a:pt x="71" y="11"/>
                  </a:lnTo>
                  <a:lnTo>
                    <a:pt x="55" y="13"/>
                  </a:lnTo>
                  <a:lnTo>
                    <a:pt x="41" y="13"/>
                  </a:lnTo>
                  <a:lnTo>
                    <a:pt x="29" y="13"/>
                  </a:lnTo>
                  <a:lnTo>
                    <a:pt x="20" y="12"/>
                  </a:lnTo>
                  <a:lnTo>
                    <a:pt x="11" y="10"/>
                  </a:lnTo>
                  <a:lnTo>
                    <a:pt x="6" y="7"/>
                  </a:lnTo>
                  <a:lnTo>
                    <a:pt x="1" y="4"/>
                  </a:lnTo>
                  <a:lnTo>
                    <a:pt x="0" y="0"/>
                  </a:lnTo>
                  <a:lnTo>
                    <a:pt x="0" y="409"/>
                  </a:lnTo>
                  <a:close/>
                </a:path>
              </a:pathLst>
            </a:custGeom>
            <a:solidFill>
              <a:srgbClr val="93d5ed"/>
            </a:solidFill>
            <a:ln w="9360">
              <a:solidFill>
                <a:srgbClr val="ccecff"/>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Times New Roman"/>
              </a:endParaRPr>
            </a:p>
          </p:txBody>
        </p:sp>
        <p:sp>
          <p:nvSpPr>
            <p:cNvPr id="264" name="Freeform 1371"/>
            <p:cNvSpPr/>
            <p:nvPr/>
          </p:nvSpPr>
          <p:spPr>
            <a:xfrm>
              <a:off x="3023640" y="5315040"/>
              <a:ext cx="16200" cy="71640"/>
            </a:xfrm>
            <a:custGeom>
              <a:avLst/>
              <a:gdLst>
                <a:gd name="textAreaLeft" fmla="*/ 0 w 16200"/>
                <a:gd name="textAreaRight" fmla="*/ 16560 w 16200"/>
                <a:gd name="textAreaTop" fmla="*/ 0 h 71640"/>
                <a:gd name="textAreaBottom" fmla="*/ 72000 h 71640"/>
              </a:gdLst>
              <a:ahLst/>
              <a:rect l="textAreaLeft" t="textAreaTop" r="textAreaRight" b="textAreaBottom"/>
              <a:pathLst>
                <a:path w="92" h="473">
                  <a:moveTo>
                    <a:pt x="0" y="470"/>
                  </a:moveTo>
                  <a:lnTo>
                    <a:pt x="21" y="472"/>
                  </a:lnTo>
                  <a:lnTo>
                    <a:pt x="38" y="473"/>
                  </a:lnTo>
                  <a:lnTo>
                    <a:pt x="45" y="473"/>
                  </a:lnTo>
                  <a:lnTo>
                    <a:pt x="52" y="473"/>
                  </a:lnTo>
                  <a:lnTo>
                    <a:pt x="59" y="472"/>
                  </a:lnTo>
                  <a:lnTo>
                    <a:pt x="66" y="470"/>
                  </a:lnTo>
                  <a:lnTo>
                    <a:pt x="70" y="466"/>
                  </a:lnTo>
                  <a:lnTo>
                    <a:pt x="74" y="462"/>
                  </a:lnTo>
                  <a:lnTo>
                    <a:pt x="78" y="456"/>
                  </a:lnTo>
                  <a:lnTo>
                    <a:pt x="81" y="448"/>
                  </a:lnTo>
                  <a:lnTo>
                    <a:pt x="85" y="439"/>
                  </a:lnTo>
                  <a:lnTo>
                    <a:pt x="88" y="430"/>
                  </a:lnTo>
                  <a:lnTo>
                    <a:pt x="89" y="420"/>
                  </a:lnTo>
                  <a:lnTo>
                    <a:pt x="92" y="409"/>
                  </a:lnTo>
                  <a:lnTo>
                    <a:pt x="92" y="0"/>
                  </a:lnTo>
                  <a:lnTo>
                    <a:pt x="89" y="10"/>
                  </a:lnTo>
                  <a:lnTo>
                    <a:pt x="88" y="19"/>
                  </a:lnTo>
                  <a:lnTo>
                    <a:pt x="85" y="29"/>
                  </a:lnTo>
                  <a:lnTo>
                    <a:pt x="81" y="38"/>
                  </a:lnTo>
                  <a:lnTo>
                    <a:pt x="78" y="46"/>
                  </a:lnTo>
                  <a:lnTo>
                    <a:pt x="74" y="52"/>
                  </a:lnTo>
                  <a:lnTo>
                    <a:pt x="70" y="57"/>
                  </a:lnTo>
                  <a:lnTo>
                    <a:pt x="66" y="60"/>
                  </a:lnTo>
                  <a:lnTo>
                    <a:pt x="59" y="63"/>
                  </a:lnTo>
                  <a:lnTo>
                    <a:pt x="52" y="64"/>
                  </a:lnTo>
                  <a:lnTo>
                    <a:pt x="45" y="64"/>
                  </a:lnTo>
                  <a:lnTo>
                    <a:pt x="38" y="64"/>
                  </a:lnTo>
                  <a:lnTo>
                    <a:pt x="21" y="63"/>
                  </a:lnTo>
                  <a:lnTo>
                    <a:pt x="0" y="60"/>
                  </a:lnTo>
                  <a:lnTo>
                    <a:pt x="0" y="470"/>
                  </a:lnTo>
                  <a:close/>
                </a:path>
              </a:pathLst>
            </a:custGeom>
            <a:solidFill>
              <a:srgbClr val="93d5ed"/>
            </a:solidFill>
            <a:ln w="9360">
              <a:solidFill>
                <a:srgbClr val="ccecff"/>
              </a:solidFill>
              <a:round/>
            </a:ln>
          </p:spPr>
          <p:style>
            <a:lnRef idx="0"/>
            <a:fillRef idx="0"/>
            <a:effectRef idx="0"/>
            <a:fontRef idx="minor"/>
          </p:style>
          <p:txBody>
            <a:bodyPr lIns="90000" rIns="90000" tIns="25200" bIns="25200" anchor="t">
              <a:noAutofit/>
            </a:bodyPr>
            <a:p>
              <a:endParaRPr b="1" lang="en-US" sz="2400" spc="-1" strike="noStrike">
                <a:solidFill>
                  <a:srgbClr val="ffffff"/>
                </a:solidFill>
                <a:latin typeface="Times New Roman"/>
              </a:endParaRPr>
            </a:p>
          </p:txBody>
        </p:sp>
        <p:sp>
          <p:nvSpPr>
            <p:cNvPr id="265" name="Freeform 1372"/>
            <p:cNvSpPr/>
            <p:nvPr/>
          </p:nvSpPr>
          <p:spPr>
            <a:xfrm>
              <a:off x="2939040" y="5343480"/>
              <a:ext cx="17640" cy="64080"/>
            </a:xfrm>
            <a:custGeom>
              <a:avLst/>
              <a:gdLst>
                <a:gd name="textAreaLeft" fmla="*/ 0 w 17640"/>
                <a:gd name="textAreaRight" fmla="*/ 18000 w 17640"/>
                <a:gd name="textAreaTop" fmla="*/ 0 h 64080"/>
                <a:gd name="textAreaBottom" fmla="*/ 64440 h 64080"/>
              </a:gdLst>
              <a:ahLst/>
              <a:rect l="textAreaLeft" t="textAreaTop" r="textAreaRight" b="textAreaBottom"/>
              <a:pathLst>
                <a:path w="98" h="426">
                  <a:moveTo>
                    <a:pt x="0" y="410"/>
                  </a:moveTo>
                  <a:lnTo>
                    <a:pt x="1" y="412"/>
                  </a:lnTo>
                  <a:lnTo>
                    <a:pt x="1" y="415"/>
                  </a:lnTo>
                  <a:lnTo>
                    <a:pt x="3" y="418"/>
                  </a:lnTo>
                  <a:lnTo>
                    <a:pt x="5" y="420"/>
                  </a:lnTo>
                  <a:lnTo>
                    <a:pt x="10" y="424"/>
                  </a:lnTo>
                  <a:lnTo>
                    <a:pt x="15" y="425"/>
                  </a:lnTo>
                  <a:lnTo>
                    <a:pt x="24" y="426"/>
                  </a:lnTo>
                  <a:lnTo>
                    <a:pt x="32" y="426"/>
                  </a:lnTo>
                  <a:lnTo>
                    <a:pt x="40" y="425"/>
                  </a:lnTo>
                  <a:lnTo>
                    <a:pt x="49" y="424"/>
                  </a:lnTo>
                  <a:lnTo>
                    <a:pt x="83" y="414"/>
                  </a:lnTo>
                  <a:lnTo>
                    <a:pt x="98" y="410"/>
                  </a:lnTo>
                  <a:lnTo>
                    <a:pt x="98" y="0"/>
                  </a:lnTo>
                  <a:lnTo>
                    <a:pt x="83" y="5"/>
                  </a:lnTo>
                  <a:lnTo>
                    <a:pt x="49" y="14"/>
                  </a:lnTo>
                  <a:lnTo>
                    <a:pt x="40" y="15"/>
                  </a:lnTo>
                  <a:lnTo>
                    <a:pt x="32" y="15"/>
                  </a:lnTo>
                  <a:lnTo>
                    <a:pt x="24" y="16"/>
                  </a:lnTo>
                  <a:lnTo>
                    <a:pt x="15" y="15"/>
                  </a:lnTo>
                  <a:lnTo>
                    <a:pt x="10" y="12"/>
                  </a:lnTo>
                  <a:lnTo>
                    <a:pt x="5" y="10"/>
                  </a:lnTo>
                  <a:lnTo>
                    <a:pt x="3" y="8"/>
                  </a:lnTo>
                  <a:lnTo>
                    <a:pt x="1" y="5"/>
                  </a:lnTo>
                  <a:lnTo>
                    <a:pt x="1" y="3"/>
                  </a:lnTo>
                  <a:lnTo>
                    <a:pt x="0" y="0"/>
                  </a:lnTo>
                  <a:lnTo>
                    <a:pt x="0" y="410"/>
                  </a:lnTo>
                  <a:close/>
                </a:path>
              </a:pathLst>
            </a:custGeom>
            <a:solidFill>
              <a:srgbClr val="93d5ed"/>
            </a:solidFill>
            <a:ln w="9360">
              <a:solidFill>
                <a:srgbClr val="ccecff"/>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Times New Roman"/>
              </a:endParaRPr>
            </a:p>
          </p:txBody>
        </p:sp>
        <p:sp>
          <p:nvSpPr>
            <p:cNvPr id="266" name="Freeform 1373"/>
            <p:cNvSpPr/>
            <p:nvPr/>
          </p:nvSpPr>
          <p:spPr>
            <a:xfrm>
              <a:off x="3135960" y="5413680"/>
              <a:ext cx="117360" cy="89640"/>
            </a:xfrm>
            <a:custGeom>
              <a:avLst/>
              <a:gdLst>
                <a:gd name="textAreaLeft" fmla="*/ 0 w 117360"/>
                <a:gd name="textAreaRight" fmla="*/ 117720 w 117360"/>
                <a:gd name="textAreaTop" fmla="*/ 0 h 89640"/>
                <a:gd name="textAreaBottom" fmla="*/ 90000 h 89640"/>
              </a:gdLst>
              <a:ahLst/>
              <a:rect l="textAreaLeft" t="textAreaTop" r="textAreaRight" b="textAreaBottom"/>
              <a:pathLst>
                <a:path w="655" h="595">
                  <a:moveTo>
                    <a:pt x="9" y="419"/>
                  </a:moveTo>
                  <a:lnTo>
                    <a:pt x="8" y="401"/>
                  </a:lnTo>
                  <a:lnTo>
                    <a:pt x="9" y="386"/>
                  </a:lnTo>
                  <a:lnTo>
                    <a:pt x="10" y="371"/>
                  </a:lnTo>
                  <a:lnTo>
                    <a:pt x="13" y="358"/>
                  </a:lnTo>
                  <a:lnTo>
                    <a:pt x="17" y="345"/>
                  </a:lnTo>
                  <a:lnTo>
                    <a:pt x="22" y="333"/>
                  </a:lnTo>
                  <a:lnTo>
                    <a:pt x="28" y="322"/>
                  </a:lnTo>
                  <a:lnTo>
                    <a:pt x="34" y="312"/>
                  </a:lnTo>
                  <a:lnTo>
                    <a:pt x="42" y="303"/>
                  </a:lnTo>
                  <a:lnTo>
                    <a:pt x="49" y="294"/>
                  </a:lnTo>
                  <a:lnTo>
                    <a:pt x="58" y="285"/>
                  </a:lnTo>
                  <a:lnTo>
                    <a:pt x="68" y="277"/>
                  </a:lnTo>
                  <a:lnTo>
                    <a:pt x="87" y="263"/>
                  </a:lnTo>
                  <a:lnTo>
                    <a:pt x="107" y="250"/>
                  </a:lnTo>
                  <a:lnTo>
                    <a:pt x="152" y="226"/>
                  </a:lnTo>
                  <a:lnTo>
                    <a:pt x="194" y="199"/>
                  </a:lnTo>
                  <a:lnTo>
                    <a:pt x="204" y="192"/>
                  </a:lnTo>
                  <a:lnTo>
                    <a:pt x="214" y="184"/>
                  </a:lnTo>
                  <a:lnTo>
                    <a:pt x="222" y="176"/>
                  </a:lnTo>
                  <a:lnTo>
                    <a:pt x="230" y="167"/>
                  </a:lnTo>
                  <a:lnTo>
                    <a:pt x="238" y="158"/>
                  </a:lnTo>
                  <a:lnTo>
                    <a:pt x="245" y="148"/>
                  </a:lnTo>
                  <a:lnTo>
                    <a:pt x="251" y="137"/>
                  </a:lnTo>
                  <a:lnTo>
                    <a:pt x="257" y="124"/>
                  </a:lnTo>
                  <a:lnTo>
                    <a:pt x="267" y="97"/>
                  </a:lnTo>
                  <a:lnTo>
                    <a:pt x="277" y="75"/>
                  </a:lnTo>
                  <a:lnTo>
                    <a:pt x="286" y="56"/>
                  </a:lnTo>
                  <a:lnTo>
                    <a:pt x="294" y="41"/>
                  </a:lnTo>
                  <a:lnTo>
                    <a:pt x="302" y="30"/>
                  </a:lnTo>
                  <a:lnTo>
                    <a:pt x="311" y="21"/>
                  </a:lnTo>
                  <a:lnTo>
                    <a:pt x="319" y="14"/>
                  </a:lnTo>
                  <a:lnTo>
                    <a:pt x="329" y="10"/>
                  </a:lnTo>
                  <a:lnTo>
                    <a:pt x="340" y="7"/>
                  </a:lnTo>
                  <a:lnTo>
                    <a:pt x="351" y="5"/>
                  </a:lnTo>
                  <a:lnTo>
                    <a:pt x="365" y="5"/>
                  </a:lnTo>
                  <a:lnTo>
                    <a:pt x="382" y="4"/>
                  </a:lnTo>
                  <a:lnTo>
                    <a:pt x="421" y="4"/>
                  </a:lnTo>
                  <a:lnTo>
                    <a:pt x="473" y="0"/>
                  </a:lnTo>
                  <a:lnTo>
                    <a:pt x="481" y="2"/>
                  </a:lnTo>
                  <a:lnTo>
                    <a:pt x="492" y="5"/>
                  </a:lnTo>
                  <a:lnTo>
                    <a:pt x="501" y="10"/>
                  </a:lnTo>
                  <a:lnTo>
                    <a:pt x="513" y="16"/>
                  </a:lnTo>
                  <a:lnTo>
                    <a:pt x="535" y="31"/>
                  </a:lnTo>
                  <a:lnTo>
                    <a:pt x="557" y="49"/>
                  </a:lnTo>
                  <a:lnTo>
                    <a:pt x="580" y="68"/>
                  </a:lnTo>
                  <a:lnTo>
                    <a:pt x="603" y="86"/>
                  </a:lnTo>
                  <a:lnTo>
                    <a:pt x="613" y="94"/>
                  </a:lnTo>
                  <a:lnTo>
                    <a:pt x="624" y="101"/>
                  </a:lnTo>
                  <a:lnTo>
                    <a:pt x="633" y="107"/>
                  </a:lnTo>
                  <a:lnTo>
                    <a:pt x="642" y="110"/>
                  </a:lnTo>
                  <a:lnTo>
                    <a:pt x="647" y="113"/>
                  </a:lnTo>
                  <a:lnTo>
                    <a:pt x="649" y="115"/>
                  </a:lnTo>
                  <a:lnTo>
                    <a:pt x="652" y="118"/>
                  </a:lnTo>
                  <a:lnTo>
                    <a:pt x="654" y="123"/>
                  </a:lnTo>
                  <a:lnTo>
                    <a:pt x="654" y="129"/>
                  </a:lnTo>
                  <a:lnTo>
                    <a:pt x="655" y="135"/>
                  </a:lnTo>
                  <a:lnTo>
                    <a:pt x="654" y="141"/>
                  </a:lnTo>
                  <a:lnTo>
                    <a:pt x="653" y="149"/>
                  </a:lnTo>
                  <a:lnTo>
                    <a:pt x="649" y="164"/>
                  </a:lnTo>
                  <a:lnTo>
                    <a:pt x="642" y="181"/>
                  </a:lnTo>
                  <a:lnTo>
                    <a:pt x="634" y="201"/>
                  </a:lnTo>
                  <a:lnTo>
                    <a:pt x="624" y="221"/>
                  </a:lnTo>
                  <a:lnTo>
                    <a:pt x="611" y="241"/>
                  </a:lnTo>
                  <a:lnTo>
                    <a:pt x="597" y="261"/>
                  </a:lnTo>
                  <a:lnTo>
                    <a:pt x="580" y="281"/>
                  </a:lnTo>
                  <a:lnTo>
                    <a:pt x="564" y="299"/>
                  </a:lnTo>
                  <a:lnTo>
                    <a:pt x="545" y="317"/>
                  </a:lnTo>
                  <a:lnTo>
                    <a:pt x="527" y="332"/>
                  </a:lnTo>
                  <a:lnTo>
                    <a:pt x="517" y="339"/>
                  </a:lnTo>
                  <a:lnTo>
                    <a:pt x="507" y="345"/>
                  </a:lnTo>
                  <a:lnTo>
                    <a:pt x="497" y="351"/>
                  </a:lnTo>
                  <a:lnTo>
                    <a:pt x="487" y="355"/>
                  </a:lnTo>
                  <a:lnTo>
                    <a:pt x="467" y="362"/>
                  </a:lnTo>
                  <a:lnTo>
                    <a:pt x="446" y="369"/>
                  </a:lnTo>
                  <a:lnTo>
                    <a:pt x="424" y="375"/>
                  </a:lnTo>
                  <a:lnTo>
                    <a:pt x="403" y="380"/>
                  </a:lnTo>
                  <a:lnTo>
                    <a:pt x="379" y="385"/>
                  </a:lnTo>
                  <a:lnTo>
                    <a:pt x="357" y="389"/>
                  </a:lnTo>
                  <a:lnTo>
                    <a:pt x="335" y="395"/>
                  </a:lnTo>
                  <a:lnTo>
                    <a:pt x="313" y="402"/>
                  </a:lnTo>
                  <a:lnTo>
                    <a:pt x="291" y="410"/>
                  </a:lnTo>
                  <a:lnTo>
                    <a:pt x="268" y="421"/>
                  </a:lnTo>
                  <a:lnTo>
                    <a:pt x="257" y="427"/>
                  </a:lnTo>
                  <a:lnTo>
                    <a:pt x="246" y="433"/>
                  </a:lnTo>
                  <a:lnTo>
                    <a:pt x="236" y="440"/>
                  </a:lnTo>
                  <a:lnTo>
                    <a:pt x="225" y="448"/>
                  </a:lnTo>
                  <a:lnTo>
                    <a:pt x="215" y="457"/>
                  </a:lnTo>
                  <a:lnTo>
                    <a:pt x="204" y="466"/>
                  </a:lnTo>
                  <a:lnTo>
                    <a:pt x="195" y="476"/>
                  </a:lnTo>
                  <a:lnTo>
                    <a:pt x="184" y="487"/>
                  </a:lnTo>
                  <a:lnTo>
                    <a:pt x="175" y="499"/>
                  </a:lnTo>
                  <a:lnTo>
                    <a:pt x="166" y="513"/>
                  </a:lnTo>
                  <a:lnTo>
                    <a:pt x="156" y="527"/>
                  </a:lnTo>
                  <a:lnTo>
                    <a:pt x="147" y="542"/>
                  </a:lnTo>
                  <a:lnTo>
                    <a:pt x="142" y="552"/>
                  </a:lnTo>
                  <a:lnTo>
                    <a:pt x="136" y="559"/>
                  </a:lnTo>
                  <a:lnTo>
                    <a:pt x="131" y="567"/>
                  </a:lnTo>
                  <a:lnTo>
                    <a:pt x="125" y="573"/>
                  </a:lnTo>
                  <a:lnTo>
                    <a:pt x="118" y="579"/>
                  </a:lnTo>
                  <a:lnTo>
                    <a:pt x="111" y="583"/>
                  </a:lnTo>
                  <a:lnTo>
                    <a:pt x="104" y="587"/>
                  </a:lnTo>
                  <a:lnTo>
                    <a:pt x="97" y="590"/>
                  </a:lnTo>
                  <a:lnTo>
                    <a:pt x="90" y="593"/>
                  </a:lnTo>
                  <a:lnTo>
                    <a:pt x="83" y="594"/>
                  </a:lnTo>
                  <a:lnTo>
                    <a:pt x="76" y="595"/>
                  </a:lnTo>
                  <a:lnTo>
                    <a:pt x="69" y="595"/>
                  </a:lnTo>
                  <a:lnTo>
                    <a:pt x="62" y="594"/>
                  </a:lnTo>
                  <a:lnTo>
                    <a:pt x="55" y="593"/>
                  </a:lnTo>
                  <a:lnTo>
                    <a:pt x="48" y="589"/>
                  </a:lnTo>
                  <a:lnTo>
                    <a:pt x="41" y="587"/>
                  </a:lnTo>
                  <a:lnTo>
                    <a:pt x="35" y="582"/>
                  </a:lnTo>
                  <a:lnTo>
                    <a:pt x="29" y="577"/>
                  </a:lnTo>
                  <a:lnTo>
                    <a:pt x="23" y="572"/>
                  </a:lnTo>
                  <a:lnTo>
                    <a:pt x="18" y="565"/>
                  </a:lnTo>
                  <a:lnTo>
                    <a:pt x="14" y="558"/>
                  </a:lnTo>
                  <a:lnTo>
                    <a:pt x="10" y="548"/>
                  </a:lnTo>
                  <a:lnTo>
                    <a:pt x="7" y="540"/>
                  </a:lnTo>
                  <a:lnTo>
                    <a:pt x="3" y="530"/>
                  </a:lnTo>
                  <a:lnTo>
                    <a:pt x="1" y="519"/>
                  </a:lnTo>
                  <a:lnTo>
                    <a:pt x="0" y="507"/>
                  </a:lnTo>
                  <a:lnTo>
                    <a:pt x="0" y="494"/>
                  </a:lnTo>
                  <a:lnTo>
                    <a:pt x="0" y="480"/>
                  </a:lnTo>
                  <a:lnTo>
                    <a:pt x="0" y="466"/>
                  </a:lnTo>
                  <a:lnTo>
                    <a:pt x="2" y="451"/>
                  </a:lnTo>
                  <a:lnTo>
                    <a:pt x="4" y="435"/>
                  </a:lnTo>
                  <a:lnTo>
                    <a:pt x="9" y="419"/>
                  </a:lnTo>
                  <a:close/>
                </a:path>
              </a:pathLst>
            </a:custGeom>
            <a:solidFill>
              <a:srgbClr val="93d5ed"/>
            </a:solidFill>
            <a:ln w="9360">
              <a:solidFill>
                <a:srgbClr val="ccecff"/>
              </a:solidFill>
              <a:round/>
            </a:ln>
          </p:spPr>
          <p:style>
            <a:lnRef idx="0"/>
            <a:fillRef idx="0"/>
            <a:effectRef idx="0"/>
            <a:fontRef idx="minor"/>
          </p:style>
          <p:txBody>
            <a:bodyPr lIns="90000" rIns="90000" tIns="43200" bIns="43200" anchor="t">
              <a:noAutofit/>
            </a:bodyPr>
            <a:p>
              <a:endParaRPr b="1" lang="en-US" sz="2400" spc="-1" strike="noStrike">
                <a:solidFill>
                  <a:srgbClr val="ffffff"/>
                </a:solidFill>
                <a:latin typeface="Times New Roman"/>
              </a:endParaRPr>
            </a:p>
          </p:txBody>
        </p:sp>
        <p:sp>
          <p:nvSpPr>
            <p:cNvPr id="267" name="Freeform 1374"/>
            <p:cNvSpPr/>
            <p:nvPr/>
          </p:nvSpPr>
          <p:spPr>
            <a:xfrm>
              <a:off x="3135960" y="5413680"/>
              <a:ext cx="117360" cy="89640"/>
            </a:xfrm>
            <a:custGeom>
              <a:avLst/>
              <a:gdLst>
                <a:gd name="textAreaLeft" fmla="*/ 0 w 117360"/>
                <a:gd name="textAreaRight" fmla="*/ 117720 w 117360"/>
                <a:gd name="textAreaTop" fmla="*/ 0 h 89640"/>
                <a:gd name="textAreaBottom" fmla="*/ 90000 h 89640"/>
              </a:gdLst>
              <a:ahLst/>
              <a:rect l="textAreaLeft" t="textAreaTop" r="textAreaRight" b="textAreaBottom"/>
              <a:pathLst>
                <a:path w="655" h="595">
                  <a:moveTo>
                    <a:pt x="9" y="419"/>
                  </a:moveTo>
                  <a:lnTo>
                    <a:pt x="8" y="401"/>
                  </a:lnTo>
                  <a:lnTo>
                    <a:pt x="9" y="386"/>
                  </a:lnTo>
                  <a:lnTo>
                    <a:pt x="10" y="371"/>
                  </a:lnTo>
                  <a:lnTo>
                    <a:pt x="13" y="358"/>
                  </a:lnTo>
                  <a:lnTo>
                    <a:pt x="17" y="345"/>
                  </a:lnTo>
                  <a:lnTo>
                    <a:pt x="22" y="333"/>
                  </a:lnTo>
                  <a:lnTo>
                    <a:pt x="28" y="322"/>
                  </a:lnTo>
                  <a:lnTo>
                    <a:pt x="34" y="312"/>
                  </a:lnTo>
                  <a:lnTo>
                    <a:pt x="42" y="303"/>
                  </a:lnTo>
                  <a:lnTo>
                    <a:pt x="49" y="294"/>
                  </a:lnTo>
                  <a:lnTo>
                    <a:pt x="58" y="285"/>
                  </a:lnTo>
                  <a:lnTo>
                    <a:pt x="68" y="277"/>
                  </a:lnTo>
                  <a:lnTo>
                    <a:pt x="87" y="263"/>
                  </a:lnTo>
                  <a:lnTo>
                    <a:pt x="107" y="250"/>
                  </a:lnTo>
                  <a:lnTo>
                    <a:pt x="152" y="226"/>
                  </a:lnTo>
                  <a:lnTo>
                    <a:pt x="194" y="199"/>
                  </a:lnTo>
                  <a:lnTo>
                    <a:pt x="204" y="192"/>
                  </a:lnTo>
                  <a:lnTo>
                    <a:pt x="214" y="184"/>
                  </a:lnTo>
                  <a:lnTo>
                    <a:pt x="222" y="176"/>
                  </a:lnTo>
                  <a:lnTo>
                    <a:pt x="230" y="167"/>
                  </a:lnTo>
                  <a:lnTo>
                    <a:pt x="238" y="158"/>
                  </a:lnTo>
                  <a:lnTo>
                    <a:pt x="245" y="148"/>
                  </a:lnTo>
                  <a:lnTo>
                    <a:pt x="251" y="137"/>
                  </a:lnTo>
                  <a:lnTo>
                    <a:pt x="257" y="124"/>
                  </a:lnTo>
                  <a:lnTo>
                    <a:pt x="267" y="97"/>
                  </a:lnTo>
                  <a:lnTo>
                    <a:pt x="277" y="75"/>
                  </a:lnTo>
                  <a:lnTo>
                    <a:pt x="286" y="56"/>
                  </a:lnTo>
                  <a:lnTo>
                    <a:pt x="294" y="41"/>
                  </a:lnTo>
                  <a:lnTo>
                    <a:pt x="302" y="30"/>
                  </a:lnTo>
                  <a:lnTo>
                    <a:pt x="311" y="21"/>
                  </a:lnTo>
                  <a:lnTo>
                    <a:pt x="319" y="14"/>
                  </a:lnTo>
                  <a:lnTo>
                    <a:pt x="329" y="10"/>
                  </a:lnTo>
                  <a:lnTo>
                    <a:pt x="340" y="7"/>
                  </a:lnTo>
                  <a:lnTo>
                    <a:pt x="351" y="5"/>
                  </a:lnTo>
                  <a:lnTo>
                    <a:pt x="365" y="5"/>
                  </a:lnTo>
                  <a:lnTo>
                    <a:pt x="382" y="4"/>
                  </a:lnTo>
                  <a:lnTo>
                    <a:pt x="421" y="4"/>
                  </a:lnTo>
                  <a:lnTo>
                    <a:pt x="473" y="0"/>
                  </a:lnTo>
                  <a:lnTo>
                    <a:pt x="481" y="2"/>
                  </a:lnTo>
                  <a:lnTo>
                    <a:pt x="492" y="5"/>
                  </a:lnTo>
                  <a:lnTo>
                    <a:pt x="501" y="10"/>
                  </a:lnTo>
                  <a:lnTo>
                    <a:pt x="513" y="16"/>
                  </a:lnTo>
                  <a:lnTo>
                    <a:pt x="535" y="31"/>
                  </a:lnTo>
                  <a:lnTo>
                    <a:pt x="557" y="49"/>
                  </a:lnTo>
                  <a:lnTo>
                    <a:pt x="580" y="68"/>
                  </a:lnTo>
                  <a:lnTo>
                    <a:pt x="603" y="86"/>
                  </a:lnTo>
                  <a:lnTo>
                    <a:pt x="613" y="94"/>
                  </a:lnTo>
                  <a:lnTo>
                    <a:pt x="624" y="101"/>
                  </a:lnTo>
                  <a:lnTo>
                    <a:pt x="633" y="107"/>
                  </a:lnTo>
                  <a:lnTo>
                    <a:pt x="642" y="110"/>
                  </a:lnTo>
                  <a:lnTo>
                    <a:pt x="647" y="113"/>
                  </a:lnTo>
                  <a:lnTo>
                    <a:pt x="649" y="115"/>
                  </a:lnTo>
                  <a:lnTo>
                    <a:pt x="652" y="118"/>
                  </a:lnTo>
                  <a:lnTo>
                    <a:pt x="654" y="123"/>
                  </a:lnTo>
                  <a:lnTo>
                    <a:pt x="654" y="129"/>
                  </a:lnTo>
                  <a:lnTo>
                    <a:pt x="655" y="135"/>
                  </a:lnTo>
                  <a:lnTo>
                    <a:pt x="654" y="141"/>
                  </a:lnTo>
                  <a:lnTo>
                    <a:pt x="653" y="149"/>
                  </a:lnTo>
                  <a:lnTo>
                    <a:pt x="649" y="164"/>
                  </a:lnTo>
                  <a:lnTo>
                    <a:pt x="642" y="181"/>
                  </a:lnTo>
                  <a:lnTo>
                    <a:pt x="634" y="201"/>
                  </a:lnTo>
                  <a:lnTo>
                    <a:pt x="624" y="221"/>
                  </a:lnTo>
                  <a:lnTo>
                    <a:pt x="611" y="241"/>
                  </a:lnTo>
                  <a:lnTo>
                    <a:pt x="597" y="261"/>
                  </a:lnTo>
                  <a:lnTo>
                    <a:pt x="580" y="281"/>
                  </a:lnTo>
                  <a:lnTo>
                    <a:pt x="564" y="299"/>
                  </a:lnTo>
                  <a:lnTo>
                    <a:pt x="545" y="317"/>
                  </a:lnTo>
                  <a:lnTo>
                    <a:pt x="527" y="332"/>
                  </a:lnTo>
                  <a:lnTo>
                    <a:pt x="517" y="339"/>
                  </a:lnTo>
                  <a:lnTo>
                    <a:pt x="507" y="345"/>
                  </a:lnTo>
                  <a:lnTo>
                    <a:pt x="497" y="351"/>
                  </a:lnTo>
                  <a:lnTo>
                    <a:pt x="487" y="355"/>
                  </a:lnTo>
                  <a:lnTo>
                    <a:pt x="467" y="362"/>
                  </a:lnTo>
                  <a:lnTo>
                    <a:pt x="446" y="369"/>
                  </a:lnTo>
                  <a:lnTo>
                    <a:pt x="424" y="375"/>
                  </a:lnTo>
                  <a:lnTo>
                    <a:pt x="403" y="380"/>
                  </a:lnTo>
                  <a:lnTo>
                    <a:pt x="379" y="385"/>
                  </a:lnTo>
                  <a:lnTo>
                    <a:pt x="357" y="389"/>
                  </a:lnTo>
                  <a:lnTo>
                    <a:pt x="335" y="395"/>
                  </a:lnTo>
                  <a:lnTo>
                    <a:pt x="313" y="402"/>
                  </a:lnTo>
                  <a:lnTo>
                    <a:pt x="291" y="410"/>
                  </a:lnTo>
                  <a:lnTo>
                    <a:pt x="268" y="421"/>
                  </a:lnTo>
                  <a:lnTo>
                    <a:pt x="257" y="427"/>
                  </a:lnTo>
                  <a:lnTo>
                    <a:pt x="246" y="433"/>
                  </a:lnTo>
                  <a:lnTo>
                    <a:pt x="236" y="440"/>
                  </a:lnTo>
                  <a:lnTo>
                    <a:pt x="225" y="448"/>
                  </a:lnTo>
                  <a:lnTo>
                    <a:pt x="215" y="457"/>
                  </a:lnTo>
                  <a:lnTo>
                    <a:pt x="204" y="466"/>
                  </a:lnTo>
                  <a:lnTo>
                    <a:pt x="195" y="476"/>
                  </a:lnTo>
                  <a:lnTo>
                    <a:pt x="184" y="487"/>
                  </a:lnTo>
                  <a:lnTo>
                    <a:pt x="175" y="499"/>
                  </a:lnTo>
                  <a:lnTo>
                    <a:pt x="166" y="513"/>
                  </a:lnTo>
                  <a:lnTo>
                    <a:pt x="156" y="527"/>
                  </a:lnTo>
                  <a:lnTo>
                    <a:pt x="147" y="542"/>
                  </a:lnTo>
                  <a:lnTo>
                    <a:pt x="142" y="552"/>
                  </a:lnTo>
                  <a:lnTo>
                    <a:pt x="136" y="559"/>
                  </a:lnTo>
                  <a:lnTo>
                    <a:pt x="131" y="567"/>
                  </a:lnTo>
                  <a:lnTo>
                    <a:pt x="125" y="573"/>
                  </a:lnTo>
                  <a:lnTo>
                    <a:pt x="118" y="579"/>
                  </a:lnTo>
                  <a:lnTo>
                    <a:pt x="111" y="583"/>
                  </a:lnTo>
                  <a:lnTo>
                    <a:pt x="104" y="587"/>
                  </a:lnTo>
                  <a:lnTo>
                    <a:pt x="97" y="590"/>
                  </a:lnTo>
                  <a:lnTo>
                    <a:pt x="90" y="593"/>
                  </a:lnTo>
                  <a:lnTo>
                    <a:pt x="83" y="594"/>
                  </a:lnTo>
                  <a:lnTo>
                    <a:pt x="76" y="595"/>
                  </a:lnTo>
                  <a:lnTo>
                    <a:pt x="69" y="595"/>
                  </a:lnTo>
                  <a:lnTo>
                    <a:pt x="62" y="594"/>
                  </a:lnTo>
                  <a:lnTo>
                    <a:pt x="55" y="593"/>
                  </a:lnTo>
                  <a:lnTo>
                    <a:pt x="48" y="589"/>
                  </a:lnTo>
                  <a:lnTo>
                    <a:pt x="41" y="587"/>
                  </a:lnTo>
                  <a:lnTo>
                    <a:pt x="35" y="582"/>
                  </a:lnTo>
                  <a:lnTo>
                    <a:pt x="29" y="577"/>
                  </a:lnTo>
                  <a:lnTo>
                    <a:pt x="23" y="572"/>
                  </a:lnTo>
                  <a:lnTo>
                    <a:pt x="18" y="565"/>
                  </a:lnTo>
                  <a:lnTo>
                    <a:pt x="14" y="558"/>
                  </a:lnTo>
                  <a:lnTo>
                    <a:pt x="10" y="548"/>
                  </a:lnTo>
                  <a:lnTo>
                    <a:pt x="7" y="540"/>
                  </a:lnTo>
                  <a:lnTo>
                    <a:pt x="3" y="530"/>
                  </a:lnTo>
                  <a:lnTo>
                    <a:pt x="1" y="519"/>
                  </a:lnTo>
                  <a:lnTo>
                    <a:pt x="0" y="507"/>
                  </a:lnTo>
                  <a:lnTo>
                    <a:pt x="0" y="494"/>
                  </a:lnTo>
                  <a:lnTo>
                    <a:pt x="0" y="480"/>
                  </a:lnTo>
                  <a:lnTo>
                    <a:pt x="0" y="466"/>
                  </a:lnTo>
                  <a:lnTo>
                    <a:pt x="2" y="451"/>
                  </a:lnTo>
                  <a:lnTo>
                    <a:pt x="4" y="435"/>
                  </a:lnTo>
                  <a:lnTo>
                    <a:pt x="9" y="419"/>
                  </a:lnTo>
                  <a:close/>
                </a:path>
              </a:pathLst>
            </a:custGeom>
            <a:solidFill>
              <a:srgbClr val="93d5ed"/>
            </a:solidFill>
            <a:ln w="3240">
              <a:solidFill>
                <a:srgbClr val="ccecff"/>
              </a:solidFill>
              <a:round/>
            </a:ln>
          </p:spPr>
          <p:style>
            <a:lnRef idx="0"/>
            <a:fillRef idx="0"/>
            <a:effectRef idx="0"/>
            <a:fontRef idx="minor"/>
          </p:style>
          <p:txBody>
            <a:bodyPr lIns="90000" rIns="90000" tIns="43200" bIns="43200" anchor="t">
              <a:noAutofit/>
            </a:bodyPr>
            <a:p>
              <a:endParaRPr b="1" lang="en-US" sz="2400" spc="-1" strike="noStrike">
                <a:solidFill>
                  <a:srgbClr val="ffffff"/>
                </a:solidFill>
                <a:latin typeface="Times New Roman"/>
              </a:endParaRPr>
            </a:p>
          </p:txBody>
        </p:sp>
        <p:sp>
          <p:nvSpPr>
            <p:cNvPr id="268" name="Freeform 1375"/>
            <p:cNvSpPr/>
            <p:nvPr/>
          </p:nvSpPr>
          <p:spPr>
            <a:xfrm>
              <a:off x="3151440" y="5358960"/>
              <a:ext cx="73440" cy="24120"/>
            </a:xfrm>
            <a:custGeom>
              <a:avLst/>
              <a:gdLst>
                <a:gd name="textAreaLeft" fmla="*/ 0 w 73440"/>
                <a:gd name="textAreaRight" fmla="*/ 73800 w 73440"/>
                <a:gd name="textAreaTop" fmla="*/ 0 h 24120"/>
                <a:gd name="textAreaBottom" fmla="*/ 24480 h 24120"/>
              </a:gdLst>
              <a:ahLst/>
              <a:rect l="textAreaLeft" t="textAreaTop" r="textAreaRight" b="textAreaBottom"/>
              <a:pathLst>
                <a:path w="406" h="160">
                  <a:moveTo>
                    <a:pt x="372" y="127"/>
                  </a:moveTo>
                  <a:lnTo>
                    <a:pt x="364" y="132"/>
                  </a:lnTo>
                  <a:lnTo>
                    <a:pt x="353" y="137"/>
                  </a:lnTo>
                  <a:lnTo>
                    <a:pt x="340" y="142"/>
                  </a:lnTo>
                  <a:lnTo>
                    <a:pt x="326" y="146"/>
                  </a:lnTo>
                  <a:lnTo>
                    <a:pt x="311" y="150"/>
                  </a:lnTo>
                  <a:lnTo>
                    <a:pt x="295" y="153"/>
                  </a:lnTo>
                  <a:lnTo>
                    <a:pt x="278" y="156"/>
                  </a:lnTo>
                  <a:lnTo>
                    <a:pt x="262" y="158"/>
                  </a:lnTo>
                  <a:lnTo>
                    <a:pt x="246" y="160"/>
                  </a:lnTo>
                  <a:lnTo>
                    <a:pt x="230" y="160"/>
                  </a:lnTo>
                  <a:lnTo>
                    <a:pt x="215" y="160"/>
                  </a:lnTo>
                  <a:lnTo>
                    <a:pt x="202" y="158"/>
                  </a:lnTo>
                  <a:lnTo>
                    <a:pt x="191" y="156"/>
                  </a:lnTo>
                  <a:lnTo>
                    <a:pt x="181" y="154"/>
                  </a:lnTo>
                  <a:lnTo>
                    <a:pt x="178" y="151"/>
                  </a:lnTo>
                  <a:lnTo>
                    <a:pt x="174" y="149"/>
                  </a:lnTo>
                  <a:lnTo>
                    <a:pt x="172" y="147"/>
                  </a:lnTo>
                  <a:lnTo>
                    <a:pt x="171" y="144"/>
                  </a:lnTo>
                  <a:lnTo>
                    <a:pt x="167" y="137"/>
                  </a:lnTo>
                  <a:lnTo>
                    <a:pt x="163" y="132"/>
                  </a:lnTo>
                  <a:lnTo>
                    <a:pt x="158" y="126"/>
                  </a:lnTo>
                  <a:lnTo>
                    <a:pt x="153" y="121"/>
                  </a:lnTo>
                  <a:lnTo>
                    <a:pt x="142" y="112"/>
                  </a:lnTo>
                  <a:lnTo>
                    <a:pt x="130" y="104"/>
                  </a:lnTo>
                  <a:lnTo>
                    <a:pt x="116" y="98"/>
                  </a:lnTo>
                  <a:lnTo>
                    <a:pt x="102" y="92"/>
                  </a:lnTo>
                  <a:lnTo>
                    <a:pt x="87" y="88"/>
                  </a:lnTo>
                  <a:lnTo>
                    <a:pt x="73" y="85"/>
                  </a:lnTo>
                  <a:lnTo>
                    <a:pt x="46" y="81"/>
                  </a:lnTo>
                  <a:lnTo>
                    <a:pt x="22" y="80"/>
                  </a:lnTo>
                  <a:lnTo>
                    <a:pt x="6" y="80"/>
                  </a:lnTo>
                  <a:lnTo>
                    <a:pt x="0" y="80"/>
                  </a:lnTo>
                  <a:lnTo>
                    <a:pt x="79" y="5"/>
                  </a:lnTo>
                  <a:lnTo>
                    <a:pt x="93" y="3"/>
                  </a:lnTo>
                  <a:lnTo>
                    <a:pt x="107" y="2"/>
                  </a:lnTo>
                  <a:lnTo>
                    <a:pt x="121" y="2"/>
                  </a:lnTo>
                  <a:lnTo>
                    <a:pt x="133" y="2"/>
                  </a:lnTo>
                  <a:lnTo>
                    <a:pt x="159" y="5"/>
                  </a:lnTo>
                  <a:lnTo>
                    <a:pt x="185" y="10"/>
                  </a:lnTo>
                  <a:lnTo>
                    <a:pt x="209" y="14"/>
                  </a:lnTo>
                  <a:lnTo>
                    <a:pt x="233" y="15"/>
                  </a:lnTo>
                  <a:lnTo>
                    <a:pt x="244" y="15"/>
                  </a:lnTo>
                  <a:lnTo>
                    <a:pt x="256" y="14"/>
                  </a:lnTo>
                  <a:lnTo>
                    <a:pt x="268" y="10"/>
                  </a:lnTo>
                  <a:lnTo>
                    <a:pt x="279" y="5"/>
                  </a:lnTo>
                  <a:lnTo>
                    <a:pt x="285" y="3"/>
                  </a:lnTo>
                  <a:lnTo>
                    <a:pt x="292" y="1"/>
                  </a:lnTo>
                  <a:lnTo>
                    <a:pt x="298" y="0"/>
                  </a:lnTo>
                  <a:lnTo>
                    <a:pt x="305" y="0"/>
                  </a:lnTo>
                  <a:lnTo>
                    <a:pt x="319" y="0"/>
                  </a:lnTo>
                  <a:lnTo>
                    <a:pt x="333" y="3"/>
                  </a:lnTo>
                  <a:lnTo>
                    <a:pt x="347" y="8"/>
                  </a:lnTo>
                  <a:lnTo>
                    <a:pt x="360" y="14"/>
                  </a:lnTo>
                  <a:lnTo>
                    <a:pt x="373" y="22"/>
                  </a:lnTo>
                  <a:lnTo>
                    <a:pt x="383" y="31"/>
                  </a:lnTo>
                  <a:lnTo>
                    <a:pt x="393" y="42"/>
                  </a:lnTo>
                  <a:lnTo>
                    <a:pt x="400" y="53"/>
                  </a:lnTo>
                  <a:lnTo>
                    <a:pt x="402" y="59"/>
                  </a:lnTo>
                  <a:lnTo>
                    <a:pt x="403" y="65"/>
                  </a:lnTo>
                  <a:lnTo>
                    <a:pt x="404" y="72"/>
                  </a:lnTo>
                  <a:lnTo>
                    <a:pt x="406" y="78"/>
                  </a:lnTo>
                  <a:lnTo>
                    <a:pt x="404" y="84"/>
                  </a:lnTo>
                  <a:lnTo>
                    <a:pt x="403" y="91"/>
                  </a:lnTo>
                  <a:lnTo>
                    <a:pt x="401" y="97"/>
                  </a:lnTo>
                  <a:lnTo>
                    <a:pt x="397" y="102"/>
                  </a:lnTo>
                  <a:lnTo>
                    <a:pt x="393" y="109"/>
                  </a:lnTo>
                  <a:lnTo>
                    <a:pt x="387" y="115"/>
                  </a:lnTo>
                  <a:lnTo>
                    <a:pt x="380" y="121"/>
                  </a:lnTo>
                  <a:lnTo>
                    <a:pt x="372" y="127"/>
                  </a:lnTo>
                  <a:close/>
                </a:path>
              </a:pathLst>
            </a:custGeom>
            <a:solidFill>
              <a:srgbClr val="93d5ed"/>
            </a:solidFill>
            <a:ln w="9360">
              <a:solidFill>
                <a:srgbClr val="ccecff"/>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Times New Roman"/>
              </a:endParaRPr>
            </a:p>
          </p:txBody>
        </p:sp>
        <p:sp>
          <p:nvSpPr>
            <p:cNvPr id="269" name="Freeform 1376"/>
            <p:cNvSpPr/>
            <p:nvPr/>
          </p:nvSpPr>
          <p:spPr>
            <a:xfrm>
              <a:off x="3151440" y="5358960"/>
              <a:ext cx="73440" cy="24120"/>
            </a:xfrm>
            <a:custGeom>
              <a:avLst/>
              <a:gdLst>
                <a:gd name="textAreaLeft" fmla="*/ 0 w 73440"/>
                <a:gd name="textAreaRight" fmla="*/ 73800 w 73440"/>
                <a:gd name="textAreaTop" fmla="*/ 0 h 24120"/>
                <a:gd name="textAreaBottom" fmla="*/ 24480 h 24120"/>
              </a:gdLst>
              <a:ahLst/>
              <a:rect l="textAreaLeft" t="textAreaTop" r="textAreaRight" b="textAreaBottom"/>
              <a:pathLst>
                <a:path w="406" h="160">
                  <a:moveTo>
                    <a:pt x="372" y="127"/>
                  </a:moveTo>
                  <a:lnTo>
                    <a:pt x="364" y="132"/>
                  </a:lnTo>
                  <a:lnTo>
                    <a:pt x="353" y="137"/>
                  </a:lnTo>
                  <a:lnTo>
                    <a:pt x="340" y="142"/>
                  </a:lnTo>
                  <a:lnTo>
                    <a:pt x="326" y="146"/>
                  </a:lnTo>
                  <a:lnTo>
                    <a:pt x="311" y="150"/>
                  </a:lnTo>
                  <a:lnTo>
                    <a:pt x="295" y="153"/>
                  </a:lnTo>
                  <a:lnTo>
                    <a:pt x="278" y="156"/>
                  </a:lnTo>
                  <a:lnTo>
                    <a:pt x="262" y="158"/>
                  </a:lnTo>
                  <a:lnTo>
                    <a:pt x="246" y="160"/>
                  </a:lnTo>
                  <a:lnTo>
                    <a:pt x="230" y="160"/>
                  </a:lnTo>
                  <a:lnTo>
                    <a:pt x="215" y="160"/>
                  </a:lnTo>
                  <a:lnTo>
                    <a:pt x="202" y="158"/>
                  </a:lnTo>
                  <a:lnTo>
                    <a:pt x="191" y="156"/>
                  </a:lnTo>
                  <a:lnTo>
                    <a:pt x="181" y="154"/>
                  </a:lnTo>
                  <a:lnTo>
                    <a:pt x="178" y="151"/>
                  </a:lnTo>
                  <a:lnTo>
                    <a:pt x="174" y="149"/>
                  </a:lnTo>
                  <a:lnTo>
                    <a:pt x="172" y="147"/>
                  </a:lnTo>
                  <a:lnTo>
                    <a:pt x="171" y="144"/>
                  </a:lnTo>
                  <a:lnTo>
                    <a:pt x="167" y="137"/>
                  </a:lnTo>
                  <a:lnTo>
                    <a:pt x="163" y="132"/>
                  </a:lnTo>
                  <a:lnTo>
                    <a:pt x="158" y="126"/>
                  </a:lnTo>
                  <a:lnTo>
                    <a:pt x="153" y="121"/>
                  </a:lnTo>
                  <a:lnTo>
                    <a:pt x="142" y="112"/>
                  </a:lnTo>
                  <a:lnTo>
                    <a:pt x="130" y="104"/>
                  </a:lnTo>
                  <a:lnTo>
                    <a:pt x="116" y="98"/>
                  </a:lnTo>
                  <a:lnTo>
                    <a:pt x="102" y="92"/>
                  </a:lnTo>
                  <a:lnTo>
                    <a:pt x="87" y="88"/>
                  </a:lnTo>
                  <a:lnTo>
                    <a:pt x="73" y="85"/>
                  </a:lnTo>
                  <a:lnTo>
                    <a:pt x="46" y="81"/>
                  </a:lnTo>
                  <a:lnTo>
                    <a:pt x="22" y="80"/>
                  </a:lnTo>
                  <a:lnTo>
                    <a:pt x="6" y="80"/>
                  </a:lnTo>
                  <a:lnTo>
                    <a:pt x="0" y="80"/>
                  </a:lnTo>
                  <a:lnTo>
                    <a:pt x="79" y="5"/>
                  </a:lnTo>
                  <a:lnTo>
                    <a:pt x="93" y="3"/>
                  </a:lnTo>
                  <a:lnTo>
                    <a:pt x="107" y="2"/>
                  </a:lnTo>
                  <a:lnTo>
                    <a:pt x="121" y="2"/>
                  </a:lnTo>
                  <a:lnTo>
                    <a:pt x="133" y="2"/>
                  </a:lnTo>
                  <a:lnTo>
                    <a:pt x="159" y="5"/>
                  </a:lnTo>
                  <a:lnTo>
                    <a:pt x="185" y="10"/>
                  </a:lnTo>
                  <a:lnTo>
                    <a:pt x="209" y="14"/>
                  </a:lnTo>
                  <a:lnTo>
                    <a:pt x="233" y="15"/>
                  </a:lnTo>
                  <a:lnTo>
                    <a:pt x="244" y="15"/>
                  </a:lnTo>
                  <a:lnTo>
                    <a:pt x="256" y="14"/>
                  </a:lnTo>
                  <a:lnTo>
                    <a:pt x="268" y="10"/>
                  </a:lnTo>
                  <a:lnTo>
                    <a:pt x="279" y="5"/>
                  </a:lnTo>
                  <a:lnTo>
                    <a:pt x="285" y="3"/>
                  </a:lnTo>
                  <a:lnTo>
                    <a:pt x="292" y="1"/>
                  </a:lnTo>
                  <a:lnTo>
                    <a:pt x="298" y="0"/>
                  </a:lnTo>
                  <a:lnTo>
                    <a:pt x="305" y="0"/>
                  </a:lnTo>
                  <a:lnTo>
                    <a:pt x="319" y="0"/>
                  </a:lnTo>
                  <a:lnTo>
                    <a:pt x="333" y="3"/>
                  </a:lnTo>
                  <a:lnTo>
                    <a:pt x="347" y="8"/>
                  </a:lnTo>
                  <a:lnTo>
                    <a:pt x="360" y="14"/>
                  </a:lnTo>
                  <a:lnTo>
                    <a:pt x="373" y="22"/>
                  </a:lnTo>
                  <a:lnTo>
                    <a:pt x="383" y="31"/>
                  </a:lnTo>
                  <a:lnTo>
                    <a:pt x="393" y="42"/>
                  </a:lnTo>
                  <a:lnTo>
                    <a:pt x="400" y="53"/>
                  </a:lnTo>
                  <a:lnTo>
                    <a:pt x="402" y="59"/>
                  </a:lnTo>
                  <a:lnTo>
                    <a:pt x="403" y="65"/>
                  </a:lnTo>
                  <a:lnTo>
                    <a:pt x="404" y="72"/>
                  </a:lnTo>
                  <a:lnTo>
                    <a:pt x="406" y="78"/>
                  </a:lnTo>
                  <a:lnTo>
                    <a:pt x="404" y="84"/>
                  </a:lnTo>
                  <a:lnTo>
                    <a:pt x="403" y="91"/>
                  </a:lnTo>
                  <a:lnTo>
                    <a:pt x="401" y="97"/>
                  </a:lnTo>
                  <a:lnTo>
                    <a:pt x="397" y="102"/>
                  </a:lnTo>
                  <a:lnTo>
                    <a:pt x="393" y="109"/>
                  </a:lnTo>
                  <a:lnTo>
                    <a:pt x="387" y="115"/>
                  </a:lnTo>
                  <a:lnTo>
                    <a:pt x="380" y="121"/>
                  </a:lnTo>
                  <a:lnTo>
                    <a:pt x="372" y="127"/>
                  </a:lnTo>
                  <a:close/>
                </a:path>
              </a:pathLst>
            </a:custGeom>
            <a:solidFill>
              <a:srgbClr val="93d5ed"/>
            </a:solidFill>
            <a:ln w="3240">
              <a:solidFill>
                <a:srgbClr val="ccecff"/>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Times New Roman"/>
              </a:endParaRPr>
            </a:p>
          </p:txBody>
        </p:sp>
        <p:sp>
          <p:nvSpPr>
            <p:cNvPr id="270" name="Freeform 1377"/>
            <p:cNvSpPr/>
            <p:nvPr/>
          </p:nvSpPr>
          <p:spPr>
            <a:xfrm>
              <a:off x="3115440" y="5375160"/>
              <a:ext cx="42120" cy="12600"/>
            </a:xfrm>
            <a:custGeom>
              <a:avLst/>
              <a:gdLst>
                <a:gd name="textAreaLeft" fmla="*/ 0 w 42120"/>
                <a:gd name="textAreaRight" fmla="*/ 42120 w 42120"/>
                <a:gd name="textAreaTop" fmla="*/ 0 h 12600"/>
                <a:gd name="textAreaBottom" fmla="*/ 12960 h 12600"/>
              </a:gdLst>
              <a:ahLst/>
              <a:rect l="textAreaLeft" t="textAreaTop" r="textAreaRight" b="textAreaBottom"/>
              <a:pathLst>
                <a:path w="235" h="84">
                  <a:moveTo>
                    <a:pt x="170" y="6"/>
                  </a:moveTo>
                  <a:lnTo>
                    <a:pt x="124" y="17"/>
                  </a:lnTo>
                  <a:lnTo>
                    <a:pt x="81" y="30"/>
                  </a:lnTo>
                  <a:lnTo>
                    <a:pt x="62" y="37"/>
                  </a:lnTo>
                  <a:lnTo>
                    <a:pt x="45" y="43"/>
                  </a:lnTo>
                  <a:lnTo>
                    <a:pt x="30" y="50"/>
                  </a:lnTo>
                  <a:lnTo>
                    <a:pt x="18" y="56"/>
                  </a:lnTo>
                  <a:lnTo>
                    <a:pt x="9" y="62"/>
                  </a:lnTo>
                  <a:lnTo>
                    <a:pt x="3" y="66"/>
                  </a:lnTo>
                  <a:lnTo>
                    <a:pt x="1" y="70"/>
                  </a:lnTo>
                  <a:lnTo>
                    <a:pt x="0" y="72"/>
                  </a:lnTo>
                  <a:lnTo>
                    <a:pt x="1" y="73"/>
                  </a:lnTo>
                  <a:lnTo>
                    <a:pt x="3" y="76"/>
                  </a:lnTo>
                  <a:lnTo>
                    <a:pt x="10" y="79"/>
                  </a:lnTo>
                  <a:lnTo>
                    <a:pt x="23" y="82"/>
                  </a:lnTo>
                  <a:lnTo>
                    <a:pt x="40" y="84"/>
                  </a:lnTo>
                  <a:lnTo>
                    <a:pt x="63" y="84"/>
                  </a:lnTo>
                  <a:lnTo>
                    <a:pt x="89" y="83"/>
                  </a:lnTo>
                  <a:lnTo>
                    <a:pt x="114" y="79"/>
                  </a:lnTo>
                  <a:lnTo>
                    <a:pt x="137" y="75"/>
                  </a:lnTo>
                  <a:lnTo>
                    <a:pt x="158" y="68"/>
                  </a:lnTo>
                  <a:lnTo>
                    <a:pt x="178" y="59"/>
                  </a:lnTo>
                  <a:lnTo>
                    <a:pt x="195" y="51"/>
                  </a:lnTo>
                  <a:lnTo>
                    <a:pt x="209" y="42"/>
                  </a:lnTo>
                  <a:lnTo>
                    <a:pt x="221" y="34"/>
                  </a:lnTo>
                  <a:lnTo>
                    <a:pt x="229" y="24"/>
                  </a:lnTo>
                  <a:lnTo>
                    <a:pt x="235" y="17"/>
                  </a:lnTo>
                  <a:lnTo>
                    <a:pt x="235" y="14"/>
                  </a:lnTo>
                  <a:lnTo>
                    <a:pt x="235" y="10"/>
                  </a:lnTo>
                  <a:lnTo>
                    <a:pt x="234" y="7"/>
                  </a:lnTo>
                  <a:lnTo>
                    <a:pt x="233" y="5"/>
                  </a:lnTo>
                  <a:lnTo>
                    <a:pt x="229" y="3"/>
                  </a:lnTo>
                  <a:lnTo>
                    <a:pt x="225" y="1"/>
                  </a:lnTo>
                  <a:lnTo>
                    <a:pt x="219" y="1"/>
                  </a:lnTo>
                  <a:lnTo>
                    <a:pt x="212" y="0"/>
                  </a:lnTo>
                  <a:lnTo>
                    <a:pt x="193" y="2"/>
                  </a:lnTo>
                  <a:lnTo>
                    <a:pt x="170" y="6"/>
                  </a:lnTo>
                  <a:close/>
                </a:path>
              </a:pathLst>
            </a:custGeom>
            <a:solidFill>
              <a:srgbClr val="93d5ed"/>
            </a:solidFill>
            <a:ln w="9360">
              <a:solidFill>
                <a:srgbClr val="ccecff"/>
              </a:solidFill>
              <a:round/>
            </a:ln>
          </p:spPr>
          <p:style>
            <a:lnRef idx="0"/>
            <a:fillRef idx="0"/>
            <a:effectRef idx="0"/>
            <a:fontRef idx="minor"/>
          </p:style>
          <p:txBody>
            <a:bodyPr lIns="90000" rIns="90000" tIns="-33840" bIns="-33840" anchor="t">
              <a:noAutofit/>
            </a:bodyPr>
            <a:p>
              <a:endParaRPr b="1" lang="en-US" sz="2400" spc="-1" strike="noStrike">
                <a:solidFill>
                  <a:srgbClr val="ffffff"/>
                </a:solidFill>
                <a:latin typeface="Times New Roman"/>
              </a:endParaRPr>
            </a:p>
          </p:txBody>
        </p:sp>
        <p:sp>
          <p:nvSpPr>
            <p:cNvPr id="271" name="Freeform 1378"/>
            <p:cNvSpPr/>
            <p:nvPr/>
          </p:nvSpPr>
          <p:spPr>
            <a:xfrm>
              <a:off x="3115440" y="5375160"/>
              <a:ext cx="42120" cy="12600"/>
            </a:xfrm>
            <a:custGeom>
              <a:avLst/>
              <a:gdLst>
                <a:gd name="textAreaLeft" fmla="*/ 0 w 42120"/>
                <a:gd name="textAreaRight" fmla="*/ 42120 w 42120"/>
                <a:gd name="textAreaTop" fmla="*/ 0 h 12600"/>
                <a:gd name="textAreaBottom" fmla="*/ 12960 h 12600"/>
              </a:gdLst>
              <a:ahLst/>
              <a:rect l="textAreaLeft" t="textAreaTop" r="textAreaRight" b="textAreaBottom"/>
              <a:pathLst>
                <a:path w="235" h="84">
                  <a:moveTo>
                    <a:pt x="170" y="6"/>
                  </a:moveTo>
                  <a:lnTo>
                    <a:pt x="124" y="17"/>
                  </a:lnTo>
                  <a:lnTo>
                    <a:pt x="81" y="30"/>
                  </a:lnTo>
                  <a:lnTo>
                    <a:pt x="62" y="37"/>
                  </a:lnTo>
                  <a:lnTo>
                    <a:pt x="45" y="43"/>
                  </a:lnTo>
                  <a:lnTo>
                    <a:pt x="30" y="50"/>
                  </a:lnTo>
                  <a:lnTo>
                    <a:pt x="18" y="56"/>
                  </a:lnTo>
                  <a:lnTo>
                    <a:pt x="9" y="62"/>
                  </a:lnTo>
                  <a:lnTo>
                    <a:pt x="3" y="66"/>
                  </a:lnTo>
                  <a:lnTo>
                    <a:pt x="1" y="70"/>
                  </a:lnTo>
                  <a:lnTo>
                    <a:pt x="0" y="72"/>
                  </a:lnTo>
                  <a:lnTo>
                    <a:pt x="1" y="73"/>
                  </a:lnTo>
                  <a:lnTo>
                    <a:pt x="3" y="76"/>
                  </a:lnTo>
                  <a:lnTo>
                    <a:pt x="10" y="79"/>
                  </a:lnTo>
                  <a:lnTo>
                    <a:pt x="23" y="82"/>
                  </a:lnTo>
                  <a:lnTo>
                    <a:pt x="40" y="84"/>
                  </a:lnTo>
                  <a:lnTo>
                    <a:pt x="63" y="84"/>
                  </a:lnTo>
                  <a:lnTo>
                    <a:pt x="89" y="83"/>
                  </a:lnTo>
                  <a:lnTo>
                    <a:pt x="114" y="79"/>
                  </a:lnTo>
                  <a:lnTo>
                    <a:pt x="137" y="75"/>
                  </a:lnTo>
                  <a:lnTo>
                    <a:pt x="158" y="68"/>
                  </a:lnTo>
                  <a:lnTo>
                    <a:pt x="178" y="59"/>
                  </a:lnTo>
                  <a:lnTo>
                    <a:pt x="195" y="51"/>
                  </a:lnTo>
                  <a:lnTo>
                    <a:pt x="209" y="42"/>
                  </a:lnTo>
                  <a:lnTo>
                    <a:pt x="221" y="34"/>
                  </a:lnTo>
                  <a:lnTo>
                    <a:pt x="229" y="24"/>
                  </a:lnTo>
                  <a:lnTo>
                    <a:pt x="235" y="17"/>
                  </a:lnTo>
                  <a:lnTo>
                    <a:pt x="235" y="14"/>
                  </a:lnTo>
                  <a:lnTo>
                    <a:pt x="235" y="10"/>
                  </a:lnTo>
                  <a:lnTo>
                    <a:pt x="234" y="7"/>
                  </a:lnTo>
                  <a:lnTo>
                    <a:pt x="233" y="5"/>
                  </a:lnTo>
                  <a:lnTo>
                    <a:pt x="229" y="3"/>
                  </a:lnTo>
                  <a:lnTo>
                    <a:pt x="225" y="1"/>
                  </a:lnTo>
                  <a:lnTo>
                    <a:pt x="219" y="1"/>
                  </a:lnTo>
                  <a:lnTo>
                    <a:pt x="212" y="0"/>
                  </a:lnTo>
                  <a:lnTo>
                    <a:pt x="193" y="2"/>
                  </a:lnTo>
                  <a:lnTo>
                    <a:pt x="170" y="6"/>
                  </a:lnTo>
                  <a:close/>
                </a:path>
              </a:pathLst>
            </a:custGeom>
            <a:solidFill>
              <a:srgbClr val="93d5ed"/>
            </a:solidFill>
            <a:ln w="3240">
              <a:solidFill>
                <a:srgbClr val="ccecff"/>
              </a:solidFill>
              <a:round/>
            </a:ln>
          </p:spPr>
          <p:style>
            <a:lnRef idx="0"/>
            <a:fillRef idx="0"/>
            <a:effectRef idx="0"/>
            <a:fontRef idx="minor"/>
          </p:style>
          <p:txBody>
            <a:bodyPr lIns="90000" rIns="90000" tIns="-33840" bIns="-33840" anchor="t">
              <a:noAutofit/>
            </a:bodyPr>
            <a:p>
              <a:endParaRPr b="1" lang="en-US" sz="2400" spc="-1" strike="noStrike">
                <a:solidFill>
                  <a:srgbClr val="ffffff"/>
                </a:solidFill>
                <a:latin typeface="Times New Roman"/>
              </a:endParaRPr>
            </a:p>
          </p:txBody>
        </p:sp>
        <p:sp>
          <p:nvSpPr>
            <p:cNvPr id="272" name="Freeform 1379"/>
            <p:cNvSpPr/>
            <p:nvPr/>
          </p:nvSpPr>
          <p:spPr>
            <a:xfrm>
              <a:off x="3111840" y="5347800"/>
              <a:ext cx="50040" cy="25560"/>
            </a:xfrm>
            <a:custGeom>
              <a:avLst/>
              <a:gdLst>
                <a:gd name="textAreaLeft" fmla="*/ 0 w 50040"/>
                <a:gd name="textAreaRight" fmla="*/ 50400 w 50040"/>
                <a:gd name="textAreaTop" fmla="*/ 0 h 25560"/>
                <a:gd name="textAreaBottom" fmla="*/ 25920 h 25560"/>
              </a:gdLst>
              <a:ahLst/>
              <a:rect l="textAreaLeft" t="textAreaTop" r="textAreaRight" b="textAreaBottom"/>
              <a:pathLst>
                <a:path w="284" h="167">
                  <a:moveTo>
                    <a:pt x="23" y="152"/>
                  </a:moveTo>
                  <a:lnTo>
                    <a:pt x="32" y="158"/>
                  </a:lnTo>
                  <a:lnTo>
                    <a:pt x="41" y="162"/>
                  </a:lnTo>
                  <a:lnTo>
                    <a:pt x="49" y="165"/>
                  </a:lnTo>
                  <a:lnTo>
                    <a:pt x="57" y="166"/>
                  </a:lnTo>
                  <a:lnTo>
                    <a:pt x="65" y="167"/>
                  </a:lnTo>
                  <a:lnTo>
                    <a:pt x="74" y="166"/>
                  </a:lnTo>
                  <a:lnTo>
                    <a:pt x="82" y="165"/>
                  </a:lnTo>
                  <a:lnTo>
                    <a:pt x="90" y="164"/>
                  </a:lnTo>
                  <a:lnTo>
                    <a:pt x="105" y="157"/>
                  </a:lnTo>
                  <a:lnTo>
                    <a:pt x="119" y="149"/>
                  </a:lnTo>
                  <a:lnTo>
                    <a:pt x="133" y="139"/>
                  </a:lnTo>
                  <a:lnTo>
                    <a:pt x="146" y="129"/>
                  </a:lnTo>
                  <a:lnTo>
                    <a:pt x="168" y="108"/>
                  </a:lnTo>
                  <a:lnTo>
                    <a:pt x="187" y="91"/>
                  </a:lnTo>
                  <a:lnTo>
                    <a:pt x="195" y="86"/>
                  </a:lnTo>
                  <a:lnTo>
                    <a:pt x="201" y="84"/>
                  </a:lnTo>
                  <a:lnTo>
                    <a:pt x="204" y="84"/>
                  </a:lnTo>
                  <a:lnTo>
                    <a:pt x="207" y="86"/>
                  </a:lnTo>
                  <a:lnTo>
                    <a:pt x="208" y="88"/>
                  </a:lnTo>
                  <a:lnTo>
                    <a:pt x="210" y="91"/>
                  </a:lnTo>
                  <a:lnTo>
                    <a:pt x="211" y="96"/>
                  </a:lnTo>
                  <a:lnTo>
                    <a:pt x="214" y="98"/>
                  </a:lnTo>
                  <a:lnTo>
                    <a:pt x="217" y="101"/>
                  </a:lnTo>
                  <a:lnTo>
                    <a:pt x="220" y="101"/>
                  </a:lnTo>
                  <a:lnTo>
                    <a:pt x="223" y="102"/>
                  </a:lnTo>
                  <a:lnTo>
                    <a:pt x="228" y="101"/>
                  </a:lnTo>
                  <a:lnTo>
                    <a:pt x="231" y="100"/>
                  </a:lnTo>
                  <a:lnTo>
                    <a:pt x="236" y="97"/>
                  </a:lnTo>
                  <a:lnTo>
                    <a:pt x="245" y="91"/>
                  </a:lnTo>
                  <a:lnTo>
                    <a:pt x="255" y="83"/>
                  </a:lnTo>
                  <a:lnTo>
                    <a:pt x="263" y="74"/>
                  </a:lnTo>
                  <a:lnTo>
                    <a:pt x="271" y="63"/>
                  </a:lnTo>
                  <a:lnTo>
                    <a:pt x="277" y="52"/>
                  </a:lnTo>
                  <a:lnTo>
                    <a:pt x="281" y="41"/>
                  </a:lnTo>
                  <a:lnTo>
                    <a:pt x="283" y="35"/>
                  </a:lnTo>
                  <a:lnTo>
                    <a:pt x="284" y="31"/>
                  </a:lnTo>
                  <a:lnTo>
                    <a:pt x="284" y="26"/>
                  </a:lnTo>
                  <a:lnTo>
                    <a:pt x="283" y="20"/>
                  </a:lnTo>
                  <a:lnTo>
                    <a:pt x="280" y="17"/>
                  </a:lnTo>
                  <a:lnTo>
                    <a:pt x="278" y="12"/>
                  </a:lnTo>
                  <a:lnTo>
                    <a:pt x="274" y="9"/>
                  </a:lnTo>
                  <a:lnTo>
                    <a:pt x="270" y="6"/>
                  </a:lnTo>
                  <a:lnTo>
                    <a:pt x="264" y="4"/>
                  </a:lnTo>
                  <a:lnTo>
                    <a:pt x="257" y="2"/>
                  </a:lnTo>
                  <a:lnTo>
                    <a:pt x="249" y="0"/>
                  </a:lnTo>
                  <a:lnTo>
                    <a:pt x="239" y="0"/>
                  </a:lnTo>
                  <a:lnTo>
                    <a:pt x="218" y="0"/>
                  </a:lnTo>
                  <a:lnTo>
                    <a:pt x="195" y="4"/>
                  </a:lnTo>
                  <a:lnTo>
                    <a:pt x="172" y="9"/>
                  </a:lnTo>
                  <a:lnTo>
                    <a:pt x="147" y="16"/>
                  </a:lnTo>
                  <a:lnTo>
                    <a:pt x="123" y="23"/>
                  </a:lnTo>
                  <a:lnTo>
                    <a:pt x="99" y="32"/>
                  </a:lnTo>
                  <a:lnTo>
                    <a:pt x="77" y="42"/>
                  </a:lnTo>
                  <a:lnTo>
                    <a:pt x="56" y="54"/>
                  </a:lnTo>
                  <a:lnTo>
                    <a:pt x="39" y="66"/>
                  </a:lnTo>
                  <a:lnTo>
                    <a:pt x="22" y="77"/>
                  </a:lnTo>
                  <a:lnTo>
                    <a:pt x="16" y="84"/>
                  </a:lnTo>
                  <a:lnTo>
                    <a:pt x="10" y="90"/>
                  </a:lnTo>
                  <a:lnTo>
                    <a:pt x="6" y="97"/>
                  </a:lnTo>
                  <a:lnTo>
                    <a:pt x="2" y="103"/>
                  </a:lnTo>
                  <a:lnTo>
                    <a:pt x="1" y="110"/>
                  </a:lnTo>
                  <a:lnTo>
                    <a:pt x="0" y="116"/>
                  </a:lnTo>
                  <a:lnTo>
                    <a:pt x="0" y="122"/>
                  </a:lnTo>
                  <a:lnTo>
                    <a:pt x="1" y="129"/>
                  </a:lnTo>
                  <a:lnTo>
                    <a:pt x="5" y="135"/>
                  </a:lnTo>
                  <a:lnTo>
                    <a:pt x="9" y="141"/>
                  </a:lnTo>
                  <a:lnTo>
                    <a:pt x="15" y="146"/>
                  </a:lnTo>
                  <a:lnTo>
                    <a:pt x="23" y="152"/>
                  </a:lnTo>
                  <a:close/>
                </a:path>
              </a:pathLst>
            </a:custGeom>
            <a:solidFill>
              <a:srgbClr val="93d5ed"/>
            </a:solidFill>
            <a:ln w="9360">
              <a:solidFill>
                <a:srgbClr val="ccecff"/>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Times New Roman"/>
              </a:endParaRPr>
            </a:p>
          </p:txBody>
        </p:sp>
        <p:sp>
          <p:nvSpPr>
            <p:cNvPr id="273" name="Freeform 1380"/>
            <p:cNvSpPr/>
            <p:nvPr/>
          </p:nvSpPr>
          <p:spPr>
            <a:xfrm>
              <a:off x="3111840" y="5347800"/>
              <a:ext cx="50040" cy="25560"/>
            </a:xfrm>
            <a:custGeom>
              <a:avLst/>
              <a:gdLst>
                <a:gd name="textAreaLeft" fmla="*/ 0 w 50040"/>
                <a:gd name="textAreaRight" fmla="*/ 50400 w 50040"/>
                <a:gd name="textAreaTop" fmla="*/ 0 h 25560"/>
                <a:gd name="textAreaBottom" fmla="*/ 25920 h 25560"/>
              </a:gdLst>
              <a:ahLst/>
              <a:rect l="textAreaLeft" t="textAreaTop" r="textAreaRight" b="textAreaBottom"/>
              <a:pathLst>
                <a:path w="284" h="167">
                  <a:moveTo>
                    <a:pt x="23" y="152"/>
                  </a:moveTo>
                  <a:lnTo>
                    <a:pt x="32" y="158"/>
                  </a:lnTo>
                  <a:lnTo>
                    <a:pt x="41" y="162"/>
                  </a:lnTo>
                  <a:lnTo>
                    <a:pt x="49" y="165"/>
                  </a:lnTo>
                  <a:lnTo>
                    <a:pt x="57" y="166"/>
                  </a:lnTo>
                  <a:lnTo>
                    <a:pt x="65" y="167"/>
                  </a:lnTo>
                  <a:lnTo>
                    <a:pt x="74" y="166"/>
                  </a:lnTo>
                  <a:lnTo>
                    <a:pt x="82" y="165"/>
                  </a:lnTo>
                  <a:lnTo>
                    <a:pt x="90" y="164"/>
                  </a:lnTo>
                  <a:lnTo>
                    <a:pt x="105" y="157"/>
                  </a:lnTo>
                  <a:lnTo>
                    <a:pt x="119" y="149"/>
                  </a:lnTo>
                  <a:lnTo>
                    <a:pt x="133" y="139"/>
                  </a:lnTo>
                  <a:lnTo>
                    <a:pt x="146" y="129"/>
                  </a:lnTo>
                  <a:lnTo>
                    <a:pt x="168" y="108"/>
                  </a:lnTo>
                  <a:lnTo>
                    <a:pt x="187" y="91"/>
                  </a:lnTo>
                  <a:lnTo>
                    <a:pt x="195" y="86"/>
                  </a:lnTo>
                  <a:lnTo>
                    <a:pt x="201" y="84"/>
                  </a:lnTo>
                  <a:lnTo>
                    <a:pt x="204" y="84"/>
                  </a:lnTo>
                  <a:lnTo>
                    <a:pt x="207" y="86"/>
                  </a:lnTo>
                  <a:lnTo>
                    <a:pt x="208" y="88"/>
                  </a:lnTo>
                  <a:lnTo>
                    <a:pt x="210" y="91"/>
                  </a:lnTo>
                  <a:lnTo>
                    <a:pt x="211" y="96"/>
                  </a:lnTo>
                  <a:lnTo>
                    <a:pt x="214" y="98"/>
                  </a:lnTo>
                  <a:lnTo>
                    <a:pt x="217" y="101"/>
                  </a:lnTo>
                  <a:lnTo>
                    <a:pt x="220" y="101"/>
                  </a:lnTo>
                  <a:lnTo>
                    <a:pt x="223" y="102"/>
                  </a:lnTo>
                  <a:lnTo>
                    <a:pt x="228" y="101"/>
                  </a:lnTo>
                  <a:lnTo>
                    <a:pt x="231" y="100"/>
                  </a:lnTo>
                  <a:lnTo>
                    <a:pt x="236" y="97"/>
                  </a:lnTo>
                  <a:lnTo>
                    <a:pt x="245" y="91"/>
                  </a:lnTo>
                  <a:lnTo>
                    <a:pt x="255" y="83"/>
                  </a:lnTo>
                  <a:lnTo>
                    <a:pt x="263" y="74"/>
                  </a:lnTo>
                  <a:lnTo>
                    <a:pt x="271" y="63"/>
                  </a:lnTo>
                  <a:lnTo>
                    <a:pt x="277" y="52"/>
                  </a:lnTo>
                  <a:lnTo>
                    <a:pt x="281" y="41"/>
                  </a:lnTo>
                  <a:lnTo>
                    <a:pt x="283" y="35"/>
                  </a:lnTo>
                  <a:lnTo>
                    <a:pt x="284" y="31"/>
                  </a:lnTo>
                  <a:lnTo>
                    <a:pt x="284" y="26"/>
                  </a:lnTo>
                  <a:lnTo>
                    <a:pt x="283" y="20"/>
                  </a:lnTo>
                  <a:lnTo>
                    <a:pt x="280" y="17"/>
                  </a:lnTo>
                  <a:lnTo>
                    <a:pt x="278" y="12"/>
                  </a:lnTo>
                  <a:lnTo>
                    <a:pt x="274" y="9"/>
                  </a:lnTo>
                  <a:lnTo>
                    <a:pt x="270" y="6"/>
                  </a:lnTo>
                  <a:lnTo>
                    <a:pt x="264" y="4"/>
                  </a:lnTo>
                  <a:lnTo>
                    <a:pt x="257" y="2"/>
                  </a:lnTo>
                  <a:lnTo>
                    <a:pt x="249" y="0"/>
                  </a:lnTo>
                  <a:lnTo>
                    <a:pt x="239" y="0"/>
                  </a:lnTo>
                  <a:lnTo>
                    <a:pt x="218" y="0"/>
                  </a:lnTo>
                  <a:lnTo>
                    <a:pt x="195" y="4"/>
                  </a:lnTo>
                  <a:lnTo>
                    <a:pt x="172" y="9"/>
                  </a:lnTo>
                  <a:lnTo>
                    <a:pt x="147" y="16"/>
                  </a:lnTo>
                  <a:lnTo>
                    <a:pt x="123" y="23"/>
                  </a:lnTo>
                  <a:lnTo>
                    <a:pt x="99" y="32"/>
                  </a:lnTo>
                  <a:lnTo>
                    <a:pt x="77" y="42"/>
                  </a:lnTo>
                  <a:lnTo>
                    <a:pt x="56" y="54"/>
                  </a:lnTo>
                  <a:lnTo>
                    <a:pt x="39" y="66"/>
                  </a:lnTo>
                  <a:lnTo>
                    <a:pt x="22" y="77"/>
                  </a:lnTo>
                  <a:lnTo>
                    <a:pt x="16" y="84"/>
                  </a:lnTo>
                  <a:lnTo>
                    <a:pt x="10" y="90"/>
                  </a:lnTo>
                  <a:lnTo>
                    <a:pt x="6" y="97"/>
                  </a:lnTo>
                  <a:lnTo>
                    <a:pt x="2" y="103"/>
                  </a:lnTo>
                  <a:lnTo>
                    <a:pt x="1" y="110"/>
                  </a:lnTo>
                  <a:lnTo>
                    <a:pt x="0" y="116"/>
                  </a:lnTo>
                  <a:lnTo>
                    <a:pt x="0" y="122"/>
                  </a:lnTo>
                  <a:lnTo>
                    <a:pt x="1" y="129"/>
                  </a:lnTo>
                  <a:lnTo>
                    <a:pt x="5" y="135"/>
                  </a:lnTo>
                  <a:lnTo>
                    <a:pt x="9" y="141"/>
                  </a:lnTo>
                  <a:lnTo>
                    <a:pt x="15" y="146"/>
                  </a:lnTo>
                  <a:lnTo>
                    <a:pt x="23" y="152"/>
                  </a:lnTo>
                  <a:close/>
                </a:path>
              </a:pathLst>
            </a:custGeom>
            <a:solidFill>
              <a:srgbClr val="93d5ed"/>
            </a:solidFill>
            <a:ln w="3240">
              <a:solidFill>
                <a:srgbClr val="ccecff"/>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Times New Roman"/>
              </a:endParaRPr>
            </a:p>
          </p:txBody>
        </p:sp>
        <p:sp>
          <p:nvSpPr>
            <p:cNvPr id="274" name="Freeform 1381"/>
            <p:cNvSpPr/>
            <p:nvPr/>
          </p:nvSpPr>
          <p:spPr>
            <a:xfrm>
              <a:off x="3075840" y="5324400"/>
              <a:ext cx="45720" cy="26280"/>
            </a:xfrm>
            <a:custGeom>
              <a:avLst/>
              <a:gdLst>
                <a:gd name="textAreaLeft" fmla="*/ 0 w 45720"/>
                <a:gd name="textAreaRight" fmla="*/ 46080 w 45720"/>
                <a:gd name="textAreaTop" fmla="*/ 0 h 26280"/>
                <a:gd name="textAreaBottom" fmla="*/ 26640 h 26280"/>
              </a:gdLst>
              <a:ahLst/>
              <a:rect l="textAreaLeft" t="textAreaTop" r="textAreaRight" b="textAreaBottom"/>
              <a:pathLst>
                <a:path w="257" h="173">
                  <a:moveTo>
                    <a:pt x="163" y="0"/>
                  </a:moveTo>
                  <a:lnTo>
                    <a:pt x="131" y="64"/>
                  </a:lnTo>
                  <a:lnTo>
                    <a:pt x="70" y="64"/>
                  </a:lnTo>
                  <a:lnTo>
                    <a:pt x="54" y="77"/>
                  </a:lnTo>
                  <a:lnTo>
                    <a:pt x="39" y="91"/>
                  </a:lnTo>
                  <a:lnTo>
                    <a:pt x="26" y="103"/>
                  </a:lnTo>
                  <a:lnTo>
                    <a:pt x="15" y="114"/>
                  </a:lnTo>
                  <a:lnTo>
                    <a:pt x="8" y="125"/>
                  </a:lnTo>
                  <a:lnTo>
                    <a:pt x="3" y="134"/>
                  </a:lnTo>
                  <a:lnTo>
                    <a:pt x="1" y="139"/>
                  </a:lnTo>
                  <a:lnTo>
                    <a:pt x="0" y="142"/>
                  </a:lnTo>
                  <a:lnTo>
                    <a:pt x="0" y="147"/>
                  </a:lnTo>
                  <a:lnTo>
                    <a:pt x="1" y="151"/>
                  </a:lnTo>
                  <a:lnTo>
                    <a:pt x="3" y="154"/>
                  </a:lnTo>
                  <a:lnTo>
                    <a:pt x="5" y="158"/>
                  </a:lnTo>
                  <a:lnTo>
                    <a:pt x="8" y="160"/>
                  </a:lnTo>
                  <a:lnTo>
                    <a:pt x="12" y="162"/>
                  </a:lnTo>
                  <a:lnTo>
                    <a:pt x="22" y="167"/>
                  </a:lnTo>
                  <a:lnTo>
                    <a:pt x="36" y="170"/>
                  </a:lnTo>
                  <a:lnTo>
                    <a:pt x="54" y="173"/>
                  </a:lnTo>
                  <a:lnTo>
                    <a:pt x="75" y="173"/>
                  </a:lnTo>
                  <a:lnTo>
                    <a:pt x="101" y="173"/>
                  </a:lnTo>
                  <a:lnTo>
                    <a:pt x="131" y="170"/>
                  </a:lnTo>
                  <a:lnTo>
                    <a:pt x="146" y="168"/>
                  </a:lnTo>
                  <a:lnTo>
                    <a:pt x="160" y="166"/>
                  </a:lnTo>
                  <a:lnTo>
                    <a:pt x="174" y="162"/>
                  </a:lnTo>
                  <a:lnTo>
                    <a:pt x="186" y="159"/>
                  </a:lnTo>
                  <a:lnTo>
                    <a:pt x="198" y="154"/>
                  </a:lnTo>
                  <a:lnTo>
                    <a:pt x="207" y="148"/>
                  </a:lnTo>
                  <a:lnTo>
                    <a:pt x="216" y="142"/>
                  </a:lnTo>
                  <a:lnTo>
                    <a:pt x="224" y="135"/>
                  </a:lnTo>
                  <a:lnTo>
                    <a:pt x="233" y="128"/>
                  </a:lnTo>
                  <a:lnTo>
                    <a:pt x="239" y="121"/>
                  </a:lnTo>
                  <a:lnTo>
                    <a:pt x="243" y="114"/>
                  </a:lnTo>
                  <a:lnTo>
                    <a:pt x="248" y="106"/>
                  </a:lnTo>
                  <a:lnTo>
                    <a:pt x="251" y="99"/>
                  </a:lnTo>
                  <a:lnTo>
                    <a:pt x="254" y="91"/>
                  </a:lnTo>
                  <a:lnTo>
                    <a:pt x="256" y="83"/>
                  </a:lnTo>
                  <a:lnTo>
                    <a:pt x="257" y="75"/>
                  </a:lnTo>
                  <a:lnTo>
                    <a:pt x="257" y="66"/>
                  </a:lnTo>
                  <a:lnTo>
                    <a:pt x="256" y="59"/>
                  </a:lnTo>
                  <a:lnTo>
                    <a:pt x="254" y="51"/>
                  </a:lnTo>
                  <a:lnTo>
                    <a:pt x="251" y="44"/>
                  </a:lnTo>
                  <a:lnTo>
                    <a:pt x="248" y="37"/>
                  </a:lnTo>
                  <a:lnTo>
                    <a:pt x="244" y="30"/>
                  </a:lnTo>
                  <a:lnTo>
                    <a:pt x="240" y="24"/>
                  </a:lnTo>
                  <a:lnTo>
                    <a:pt x="234" y="19"/>
                  </a:lnTo>
                  <a:lnTo>
                    <a:pt x="227" y="14"/>
                  </a:lnTo>
                  <a:lnTo>
                    <a:pt x="220" y="9"/>
                  </a:lnTo>
                  <a:lnTo>
                    <a:pt x="212" y="6"/>
                  </a:lnTo>
                  <a:lnTo>
                    <a:pt x="203" y="3"/>
                  </a:lnTo>
                  <a:lnTo>
                    <a:pt x="194" y="1"/>
                  </a:lnTo>
                  <a:lnTo>
                    <a:pt x="185" y="0"/>
                  </a:lnTo>
                  <a:lnTo>
                    <a:pt x="174" y="0"/>
                  </a:lnTo>
                  <a:lnTo>
                    <a:pt x="163" y="0"/>
                  </a:lnTo>
                  <a:close/>
                </a:path>
              </a:pathLst>
            </a:custGeom>
            <a:solidFill>
              <a:srgbClr val="93d5ed"/>
            </a:solidFill>
            <a:ln w="9360">
              <a:solidFill>
                <a:srgbClr val="ccecff"/>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Times New Roman"/>
              </a:endParaRPr>
            </a:p>
          </p:txBody>
        </p:sp>
        <p:sp>
          <p:nvSpPr>
            <p:cNvPr id="275" name="Freeform 1382"/>
            <p:cNvSpPr/>
            <p:nvPr/>
          </p:nvSpPr>
          <p:spPr>
            <a:xfrm>
              <a:off x="3075840" y="5324400"/>
              <a:ext cx="45720" cy="26280"/>
            </a:xfrm>
            <a:custGeom>
              <a:avLst/>
              <a:gdLst>
                <a:gd name="textAreaLeft" fmla="*/ 0 w 45720"/>
                <a:gd name="textAreaRight" fmla="*/ 46080 w 45720"/>
                <a:gd name="textAreaTop" fmla="*/ 0 h 26280"/>
                <a:gd name="textAreaBottom" fmla="*/ 26640 h 26280"/>
              </a:gdLst>
              <a:ahLst/>
              <a:rect l="textAreaLeft" t="textAreaTop" r="textAreaRight" b="textAreaBottom"/>
              <a:pathLst>
                <a:path w="257" h="173">
                  <a:moveTo>
                    <a:pt x="163" y="0"/>
                  </a:moveTo>
                  <a:lnTo>
                    <a:pt x="131" y="64"/>
                  </a:lnTo>
                  <a:lnTo>
                    <a:pt x="70" y="64"/>
                  </a:lnTo>
                  <a:lnTo>
                    <a:pt x="54" y="77"/>
                  </a:lnTo>
                  <a:lnTo>
                    <a:pt x="39" y="91"/>
                  </a:lnTo>
                  <a:lnTo>
                    <a:pt x="26" y="103"/>
                  </a:lnTo>
                  <a:lnTo>
                    <a:pt x="15" y="114"/>
                  </a:lnTo>
                  <a:lnTo>
                    <a:pt x="8" y="125"/>
                  </a:lnTo>
                  <a:lnTo>
                    <a:pt x="3" y="134"/>
                  </a:lnTo>
                  <a:lnTo>
                    <a:pt x="1" y="139"/>
                  </a:lnTo>
                  <a:lnTo>
                    <a:pt x="0" y="142"/>
                  </a:lnTo>
                  <a:lnTo>
                    <a:pt x="0" y="147"/>
                  </a:lnTo>
                  <a:lnTo>
                    <a:pt x="1" y="151"/>
                  </a:lnTo>
                  <a:lnTo>
                    <a:pt x="3" y="154"/>
                  </a:lnTo>
                  <a:lnTo>
                    <a:pt x="5" y="158"/>
                  </a:lnTo>
                  <a:lnTo>
                    <a:pt x="8" y="160"/>
                  </a:lnTo>
                  <a:lnTo>
                    <a:pt x="12" y="162"/>
                  </a:lnTo>
                  <a:lnTo>
                    <a:pt x="22" y="167"/>
                  </a:lnTo>
                  <a:lnTo>
                    <a:pt x="36" y="170"/>
                  </a:lnTo>
                  <a:lnTo>
                    <a:pt x="54" y="173"/>
                  </a:lnTo>
                  <a:lnTo>
                    <a:pt x="75" y="173"/>
                  </a:lnTo>
                  <a:lnTo>
                    <a:pt x="101" y="173"/>
                  </a:lnTo>
                  <a:lnTo>
                    <a:pt x="131" y="170"/>
                  </a:lnTo>
                  <a:lnTo>
                    <a:pt x="146" y="168"/>
                  </a:lnTo>
                  <a:lnTo>
                    <a:pt x="160" y="166"/>
                  </a:lnTo>
                  <a:lnTo>
                    <a:pt x="174" y="162"/>
                  </a:lnTo>
                  <a:lnTo>
                    <a:pt x="186" y="159"/>
                  </a:lnTo>
                  <a:lnTo>
                    <a:pt x="198" y="154"/>
                  </a:lnTo>
                  <a:lnTo>
                    <a:pt x="207" y="148"/>
                  </a:lnTo>
                  <a:lnTo>
                    <a:pt x="216" y="142"/>
                  </a:lnTo>
                  <a:lnTo>
                    <a:pt x="224" y="135"/>
                  </a:lnTo>
                  <a:lnTo>
                    <a:pt x="233" y="128"/>
                  </a:lnTo>
                  <a:lnTo>
                    <a:pt x="239" y="121"/>
                  </a:lnTo>
                  <a:lnTo>
                    <a:pt x="243" y="114"/>
                  </a:lnTo>
                  <a:lnTo>
                    <a:pt x="248" y="106"/>
                  </a:lnTo>
                  <a:lnTo>
                    <a:pt x="251" y="99"/>
                  </a:lnTo>
                  <a:lnTo>
                    <a:pt x="254" y="91"/>
                  </a:lnTo>
                  <a:lnTo>
                    <a:pt x="256" y="83"/>
                  </a:lnTo>
                  <a:lnTo>
                    <a:pt x="257" y="75"/>
                  </a:lnTo>
                  <a:lnTo>
                    <a:pt x="257" y="66"/>
                  </a:lnTo>
                  <a:lnTo>
                    <a:pt x="256" y="59"/>
                  </a:lnTo>
                  <a:lnTo>
                    <a:pt x="254" y="51"/>
                  </a:lnTo>
                  <a:lnTo>
                    <a:pt x="251" y="44"/>
                  </a:lnTo>
                  <a:lnTo>
                    <a:pt x="248" y="37"/>
                  </a:lnTo>
                  <a:lnTo>
                    <a:pt x="244" y="30"/>
                  </a:lnTo>
                  <a:lnTo>
                    <a:pt x="240" y="24"/>
                  </a:lnTo>
                  <a:lnTo>
                    <a:pt x="234" y="19"/>
                  </a:lnTo>
                  <a:lnTo>
                    <a:pt x="227" y="14"/>
                  </a:lnTo>
                  <a:lnTo>
                    <a:pt x="220" y="9"/>
                  </a:lnTo>
                  <a:lnTo>
                    <a:pt x="212" y="6"/>
                  </a:lnTo>
                  <a:lnTo>
                    <a:pt x="203" y="3"/>
                  </a:lnTo>
                  <a:lnTo>
                    <a:pt x="194" y="1"/>
                  </a:lnTo>
                  <a:lnTo>
                    <a:pt x="185" y="0"/>
                  </a:lnTo>
                  <a:lnTo>
                    <a:pt x="174" y="0"/>
                  </a:lnTo>
                  <a:lnTo>
                    <a:pt x="163" y="0"/>
                  </a:lnTo>
                </a:path>
              </a:pathLst>
            </a:custGeom>
            <a:solidFill>
              <a:srgbClr val="93d5ed"/>
            </a:solidFill>
            <a:ln w="3240">
              <a:solidFill>
                <a:srgbClr val="ccecff"/>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Times New Roman"/>
              </a:endParaRPr>
            </a:p>
          </p:txBody>
        </p:sp>
        <p:sp>
          <p:nvSpPr>
            <p:cNvPr id="276" name="Freeform 1383"/>
            <p:cNvSpPr/>
            <p:nvPr/>
          </p:nvSpPr>
          <p:spPr>
            <a:xfrm>
              <a:off x="2988360" y="5306400"/>
              <a:ext cx="51120" cy="18720"/>
            </a:xfrm>
            <a:custGeom>
              <a:avLst/>
              <a:gdLst>
                <a:gd name="textAreaLeft" fmla="*/ 0 w 51120"/>
                <a:gd name="textAreaRight" fmla="*/ 51480 w 51120"/>
                <a:gd name="textAreaTop" fmla="*/ 0 h 18720"/>
                <a:gd name="textAreaBottom" fmla="*/ 19080 h 18720"/>
              </a:gdLst>
              <a:ahLst/>
              <a:rect l="textAreaLeft" t="textAreaTop" r="textAreaRight" b="textAreaBottom"/>
              <a:pathLst>
                <a:path w="285" h="123">
                  <a:moveTo>
                    <a:pt x="106" y="28"/>
                  </a:moveTo>
                  <a:lnTo>
                    <a:pt x="86" y="36"/>
                  </a:lnTo>
                  <a:lnTo>
                    <a:pt x="68" y="44"/>
                  </a:lnTo>
                  <a:lnTo>
                    <a:pt x="52" y="53"/>
                  </a:lnTo>
                  <a:lnTo>
                    <a:pt x="38" y="62"/>
                  </a:lnTo>
                  <a:lnTo>
                    <a:pt x="25" y="71"/>
                  </a:lnTo>
                  <a:lnTo>
                    <a:pt x="16" y="79"/>
                  </a:lnTo>
                  <a:lnTo>
                    <a:pt x="7" y="87"/>
                  </a:lnTo>
                  <a:lnTo>
                    <a:pt x="3" y="94"/>
                  </a:lnTo>
                  <a:lnTo>
                    <a:pt x="2" y="99"/>
                  </a:lnTo>
                  <a:lnTo>
                    <a:pt x="0" y="101"/>
                  </a:lnTo>
                  <a:lnTo>
                    <a:pt x="0" y="105"/>
                  </a:lnTo>
                  <a:lnTo>
                    <a:pt x="2" y="108"/>
                  </a:lnTo>
                  <a:lnTo>
                    <a:pt x="3" y="111"/>
                  </a:lnTo>
                  <a:lnTo>
                    <a:pt x="5" y="113"/>
                  </a:lnTo>
                  <a:lnTo>
                    <a:pt x="7" y="115"/>
                  </a:lnTo>
                  <a:lnTo>
                    <a:pt x="12" y="118"/>
                  </a:lnTo>
                  <a:lnTo>
                    <a:pt x="21" y="120"/>
                  </a:lnTo>
                  <a:lnTo>
                    <a:pt x="35" y="121"/>
                  </a:lnTo>
                  <a:lnTo>
                    <a:pt x="53" y="121"/>
                  </a:lnTo>
                  <a:lnTo>
                    <a:pt x="74" y="119"/>
                  </a:lnTo>
                  <a:lnTo>
                    <a:pt x="96" y="118"/>
                  </a:lnTo>
                  <a:lnTo>
                    <a:pt x="116" y="115"/>
                  </a:lnTo>
                  <a:lnTo>
                    <a:pt x="135" y="115"/>
                  </a:lnTo>
                  <a:lnTo>
                    <a:pt x="151" y="115"/>
                  </a:lnTo>
                  <a:lnTo>
                    <a:pt x="179" y="116"/>
                  </a:lnTo>
                  <a:lnTo>
                    <a:pt x="203" y="119"/>
                  </a:lnTo>
                  <a:lnTo>
                    <a:pt x="221" y="122"/>
                  </a:lnTo>
                  <a:lnTo>
                    <a:pt x="236" y="123"/>
                  </a:lnTo>
                  <a:lnTo>
                    <a:pt x="243" y="123"/>
                  </a:lnTo>
                  <a:lnTo>
                    <a:pt x="249" y="122"/>
                  </a:lnTo>
                  <a:lnTo>
                    <a:pt x="255" y="121"/>
                  </a:lnTo>
                  <a:lnTo>
                    <a:pt x="262" y="119"/>
                  </a:lnTo>
                  <a:lnTo>
                    <a:pt x="267" y="115"/>
                  </a:lnTo>
                  <a:lnTo>
                    <a:pt x="273" y="107"/>
                  </a:lnTo>
                  <a:lnTo>
                    <a:pt x="277" y="98"/>
                  </a:lnTo>
                  <a:lnTo>
                    <a:pt x="282" y="86"/>
                  </a:lnTo>
                  <a:lnTo>
                    <a:pt x="284" y="73"/>
                  </a:lnTo>
                  <a:lnTo>
                    <a:pt x="285" y="59"/>
                  </a:lnTo>
                  <a:lnTo>
                    <a:pt x="285" y="52"/>
                  </a:lnTo>
                  <a:lnTo>
                    <a:pt x="284" y="46"/>
                  </a:lnTo>
                  <a:lnTo>
                    <a:pt x="283" y="39"/>
                  </a:lnTo>
                  <a:lnTo>
                    <a:pt x="281" y="34"/>
                  </a:lnTo>
                  <a:lnTo>
                    <a:pt x="278" y="28"/>
                  </a:lnTo>
                  <a:lnTo>
                    <a:pt x="274" y="22"/>
                  </a:lnTo>
                  <a:lnTo>
                    <a:pt x="269" y="17"/>
                  </a:lnTo>
                  <a:lnTo>
                    <a:pt x="264" y="13"/>
                  </a:lnTo>
                  <a:lnTo>
                    <a:pt x="257" y="8"/>
                  </a:lnTo>
                  <a:lnTo>
                    <a:pt x="250" y="4"/>
                  </a:lnTo>
                  <a:lnTo>
                    <a:pt x="241" y="2"/>
                  </a:lnTo>
                  <a:lnTo>
                    <a:pt x="232" y="1"/>
                  </a:lnTo>
                  <a:lnTo>
                    <a:pt x="220" y="0"/>
                  </a:lnTo>
                  <a:lnTo>
                    <a:pt x="208" y="0"/>
                  </a:lnTo>
                  <a:lnTo>
                    <a:pt x="194" y="2"/>
                  </a:lnTo>
                  <a:lnTo>
                    <a:pt x="180" y="4"/>
                  </a:lnTo>
                  <a:lnTo>
                    <a:pt x="164" y="8"/>
                  </a:lnTo>
                  <a:lnTo>
                    <a:pt x="146" y="13"/>
                  </a:lnTo>
                  <a:lnTo>
                    <a:pt x="127" y="20"/>
                  </a:lnTo>
                  <a:lnTo>
                    <a:pt x="106" y="28"/>
                  </a:lnTo>
                  <a:close/>
                </a:path>
              </a:pathLst>
            </a:custGeom>
            <a:solidFill>
              <a:srgbClr val="93d5ed"/>
            </a:solidFill>
            <a:ln w="9360">
              <a:solidFill>
                <a:srgbClr val="ccecff"/>
              </a:solidFill>
              <a:round/>
            </a:ln>
          </p:spPr>
          <p:style>
            <a:lnRef idx="0"/>
            <a:fillRef idx="0"/>
            <a:effectRef idx="0"/>
            <a:fontRef idx="minor"/>
          </p:style>
          <p:txBody>
            <a:bodyPr lIns="90000" rIns="90000" tIns="-27720" bIns="-27720" anchor="t">
              <a:noAutofit/>
            </a:bodyPr>
            <a:p>
              <a:endParaRPr b="1" lang="en-US" sz="2400" spc="-1" strike="noStrike">
                <a:solidFill>
                  <a:srgbClr val="ffffff"/>
                </a:solidFill>
                <a:latin typeface="Times New Roman"/>
              </a:endParaRPr>
            </a:p>
          </p:txBody>
        </p:sp>
        <p:sp>
          <p:nvSpPr>
            <p:cNvPr id="277" name="Freeform 1384"/>
            <p:cNvSpPr/>
            <p:nvPr/>
          </p:nvSpPr>
          <p:spPr>
            <a:xfrm>
              <a:off x="2988360" y="5306400"/>
              <a:ext cx="51120" cy="18720"/>
            </a:xfrm>
            <a:custGeom>
              <a:avLst/>
              <a:gdLst>
                <a:gd name="textAreaLeft" fmla="*/ 0 w 51120"/>
                <a:gd name="textAreaRight" fmla="*/ 51480 w 51120"/>
                <a:gd name="textAreaTop" fmla="*/ 0 h 18720"/>
                <a:gd name="textAreaBottom" fmla="*/ 19080 h 18720"/>
              </a:gdLst>
              <a:ahLst/>
              <a:rect l="textAreaLeft" t="textAreaTop" r="textAreaRight" b="textAreaBottom"/>
              <a:pathLst>
                <a:path w="285" h="123">
                  <a:moveTo>
                    <a:pt x="106" y="28"/>
                  </a:moveTo>
                  <a:lnTo>
                    <a:pt x="86" y="36"/>
                  </a:lnTo>
                  <a:lnTo>
                    <a:pt x="68" y="44"/>
                  </a:lnTo>
                  <a:lnTo>
                    <a:pt x="52" y="53"/>
                  </a:lnTo>
                  <a:lnTo>
                    <a:pt x="38" y="62"/>
                  </a:lnTo>
                  <a:lnTo>
                    <a:pt x="25" y="71"/>
                  </a:lnTo>
                  <a:lnTo>
                    <a:pt x="16" y="79"/>
                  </a:lnTo>
                  <a:lnTo>
                    <a:pt x="7" y="87"/>
                  </a:lnTo>
                  <a:lnTo>
                    <a:pt x="3" y="94"/>
                  </a:lnTo>
                  <a:lnTo>
                    <a:pt x="2" y="99"/>
                  </a:lnTo>
                  <a:lnTo>
                    <a:pt x="0" y="101"/>
                  </a:lnTo>
                  <a:lnTo>
                    <a:pt x="0" y="105"/>
                  </a:lnTo>
                  <a:lnTo>
                    <a:pt x="2" y="108"/>
                  </a:lnTo>
                  <a:lnTo>
                    <a:pt x="3" y="111"/>
                  </a:lnTo>
                  <a:lnTo>
                    <a:pt x="5" y="113"/>
                  </a:lnTo>
                  <a:lnTo>
                    <a:pt x="7" y="115"/>
                  </a:lnTo>
                  <a:lnTo>
                    <a:pt x="12" y="118"/>
                  </a:lnTo>
                  <a:lnTo>
                    <a:pt x="21" y="120"/>
                  </a:lnTo>
                  <a:lnTo>
                    <a:pt x="35" y="121"/>
                  </a:lnTo>
                  <a:lnTo>
                    <a:pt x="53" y="121"/>
                  </a:lnTo>
                  <a:lnTo>
                    <a:pt x="74" y="119"/>
                  </a:lnTo>
                  <a:lnTo>
                    <a:pt x="96" y="118"/>
                  </a:lnTo>
                  <a:lnTo>
                    <a:pt x="116" y="115"/>
                  </a:lnTo>
                  <a:lnTo>
                    <a:pt x="135" y="115"/>
                  </a:lnTo>
                  <a:lnTo>
                    <a:pt x="151" y="115"/>
                  </a:lnTo>
                  <a:lnTo>
                    <a:pt x="179" y="116"/>
                  </a:lnTo>
                  <a:lnTo>
                    <a:pt x="203" y="119"/>
                  </a:lnTo>
                  <a:lnTo>
                    <a:pt x="221" y="122"/>
                  </a:lnTo>
                  <a:lnTo>
                    <a:pt x="236" y="123"/>
                  </a:lnTo>
                  <a:lnTo>
                    <a:pt x="243" y="123"/>
                  </a:lnTo>
                  <a:lnTo>
                    <a:pt x="249" y="122"/>
                  </a:lnTo>
                  <a:lnTo>
                    <a:pt x="255" y="121"/>
                  </a:lnTo>
                  <a:lnTo>
                    <a:pt x="262" y="119"/>
                  </a:lnTo>
                  <a:lnTo>
                    <a:pt x="267" y="115"/>
                  </a:lnTo>
                  <a:lnTo>
                    <a:pt x="273" y="107"/>
                  </a:lnTo>
                  <a:lnTo>
                    <a:pt x="277" y="98"/>
                  </a:lnTo>
                  <a:lnTo>
                    <a:pt x="282" y="86"/>
                  </a:lnTo>
                  <a:lnTo>
                    <a:pt x="284" y="73"/>
                  </a:lnTo>
                  <a:lnTo>
                    <a:pt x="285" y="59"/>
                  </a:lnTo>
                  <a:lnTo>
                    <a:pt x="285" y="52"/>
                  </a:lnTo>
                  <a:lnTo>
                    <a:pt x="284" y="46"/>
                  </a:lnTo>
                  <a:lnTo>
                    <a:pt x="283" y="39"/>
                  </a:lnTo>
                  <a:lnTo>
                    <a:pt x="281" y="34"/>
                  </a:lnTo>
                  <a:lnTo>
                    <a:pt x="278" y="28"/>
                  </a:lnTo>
                  <a:lnTo>
                    <a:pt x="274" y="22"/>
                  </a:lnTo>
                  <a:lnTo>
                    <a:pt x="269" y="17"/>
                  </a:lnTo>
                  <a:lnTo>
                    <a:pt x="264" y="13"/>
                  </a:lnTo>
                  <a:lnTo>
                    <a:pt x="257" y="8"/>
                  </a:lnTo>
                  <a:lnTo>
                    <a:pt x="250" y="4"/>
                  </a:lnTo>
                  <a:lnTo>
                    <a:pt x="241" y="2"/>
                  </a:lnTo>
                  <a:lnTo>
                    <a:pt x="232" y="1"/>
                  </a:lnTo>
                  <a:lnTo>
                    <a:pt x="220" y="0"/>
                  </a:lnTo>
                  <a:lnTo>
                    <a:pt x="208" y="0"/>
                  </a:lnTo>
                  <a:lnTo>
                    <a:pt x="194" y="2"/>
                  </a:lnTo>
                  <a:lnTo>
                    <a:pt x="180" y="4"/>
                  </a:lnTo>
                  <a:lnTo>
                    <a:pt x="164" y="8"/>
                  </a:lnTo>
                  <a:lnTo>
                    <a:pt x="146" y="13"/>
                  </a:lnTo>
                  <a:lnTo>
                    <a:pt x="127" y="20"/>
                  </a:lnTo>
                  <a:lnTo>
                    <a:pt x="106" y="28"/>
                  </a:lnTo>
                  <a:close/>
                </a:path>
              </a:pathLst>
            </a:custGeom>
            <a:solidFill>
              <a:srgbClr val="93d5ed"/>
            </a:solidFill>
            <a:ln w="3240">
              <a:solidFill>
                <a:srgbClr val="ccecff"/>
              </a:solidFill>
              <a:round/>
            </a:ln>
          </p:spPr>
          <p:style>
            <a:lnRef idx="0"/>
            <a:fillRef idx="0"/>
            <a:effectRef idx="0"/>
            <a:fontRef idx="minor"/>
          </p:style>
          <p:txBody>
            <a:bodyPr lIns="90000" rIns="90000" tIns="-27720" bIns="-27720" anchor="t">
              <a:noAutofit/>
            </a:bodyPr>
            <a:p>
              <a:endParaRPr b="1" lang="en-US" sz="2400" spc="-1" strike="noStrike">
                <a:solidFill>
                  <a:srgbClr val="ffffff"/>
                </a:solidFill>
                <a:latin typeface="Times New Roman"/>
              </a:endParaRPr>
            </a:p>
          </p:txBody>
        </p:sp>
        <p:sp>
          <p:nvSpPr>
            <p:cNvPr id="278" name="Freeform 1385"/>
            <p:cNvSpPr/>
            <p:nvPr/>
          </p:nvSpPr>
          <p:spPr>
            <a:xfrm>
              <a:off x="2939040" y="5312160"/>
              <a:ext cx="37440" cy="33120"/>
            </a:xfrm>
            <a:custGeom>
              <a:avLst/>
              <a:gdLst>
                <a:gd name="textAreaLeft" fmla="*/ 0 w 37440"/>
                <a:gd name="textAreaRight" fmla="*/ 37800 w 37440"/>
                <a:gd name="textAreaTop" fmla="*/ 0 h 33120"/>
                <a:gd name="textAreaBottom" fmla="*/ 33480 h 33120"/>
              </a:gdLst>
              <a:ahLst/>
              <a:rect l="textAreaLeft" t="textAreaTop" r="textAreaRight" b="textAreaBottom"/>
              <a:pathLst>
                <a:path w="207" h="221">
                  <a:moveTo>
                    <a:pt x="207" y="50"/>
                  </a:moveTo>
                  <a:lnTo>
                    <a:pt x="97" y="206"/>
                  </a:lnTo>
                  <a:lnTo>
                    <a:pt x="90" y="208"/>
                  </a:lnTo>
                  <a:lnTo>
                    <a:pt x="73" y="214"/>
                  </a:lnTo>
                  <a:lnTo>
                    <a:pt x="61" y="216"/>
                  </a:lnTo>
                  <a:lnTo>
                    <a:pt x="49" y="218"/>
                  </a:lnTo>
                  <a:lnTo>
                    <a:pt x="38" y="221"/>
                  </a:lnTo>
                  <a:lnTo>
                    <a:pt x="26" y="221"/>
                  </a:lnTo>
                  <a:lnTo>
                    <a:pt x="17" y="221"/>
                  </a:lnTo>
                  <a:lnTo>
                    <a:pt x="9" y="218"/>
                  </a:lnTo>
                  <a:lnTo>
                    <a:pt x="5" y="216"/>
                  </a:lnTo>
                  <a:lnTo>
                    <a:pt x="3" y="214"/>
                  </a:lnTo>
                  <a:lnTo>
                    <a:pt x="2" y="210"/>
                  </a:lnTo>
                  <a:lnTo>
                    <a:pt x="0" y="206"/>
                  </a:lnTo>
                  <a:lnTo>
                    <a:pt x="0" y="202"/>
                  </a:lnTo>
                  <a:lnTo>
                    <a:pt x="2" y="196"/>
                  </a:lnTo>
                  <a:lnTo>
                    <a:pt x="5" y="190"/>
                  </a:lnTo>
                  <a:lnTo>
                    <a:pt x="9" y="183"/>
                  </a:lnTo>
                  <a:lnTo>
                    <a:pt x="20" y="166"/>
                  </a:lnTo>
                  <a:lnTo>
                    <a:pt x="37" y="146"/>
                  </a:lnTo>
                  <a:lnTo>
                    <a:pt x="73" y="102"/>
                  </a:lnTo>
                  <a:lnTo>
                    <a:pt x="102" y="63"/>
                  </a:lnTo>
                  <a:lnTo>
                    <a:pt x="115" y="47"/>
                  </a:lnTo>
                  <a:lnTo>
                    <a:pt x="125" y="33"/>
                  </a:lnTo>
                  <a:lnTo>
                    <a:pt x="136" y="21"/>
                  </a:lnTo>
                  <a:lnTo>
                    <a:pt x="145" y="12"/>
                  </a:lnTo>
                  <a:lnTo>
                    <a:pt x="153" y="5"/>
                  </a:lnTo>
                  <a:lnTo>
                    <a:pt x="162" y="1"/>
                  </a:lnTo>
                  <a:lnTo>
                    <a:pt x="165" y="0"/>
                  </a:lnTo>
                  <a:lnTo>
                    <a:pt x="169" y="0"/>
                  </a:lnTo>
                  <a:lnTo>
                    <a:pt x="172" y="1"/>
                  </a:lnTo>
                  <a:lnTo>
                    <a:pt x="176" y="4"/>
                  </a:lnTo>
                  <a:lnTo>
                    <a:pt x="179" y="6"/>
                  </a:lnTo>
                  <a:lnTo>
                    <a:pt x="184" y="9"/>
                  </a:lnTo>
                  <a:lnTo>
                    <a:pt x="187" y="14"/>
                  </a:lnTo>
                  <a:lnTo>
                    <a:pt x="191" y="19"/>
                  </a:lnTo>
                  <a:lnTo>
                    <a:pt x="199" y="33"/>
                  </a:lnTo>
                  <a:lnTo>
                    <a:pt x="207" y="50"/>
                  </a:lnTo>
                  <a:close/>
                </a:path>
              </a:pathLst>
            </a:custGeom>
            <a:solidFill>
              <a:srgbClr val="93d5ed"/>
            </a:solidFill>
            <a:ln w="9360">
              <a:solidFill>
                <a:srgbClr val="ccecff"/>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Times New Roman"/>
              </a:endParaRPr>
            </a:p>
          </p:txBody>
        </p:sp>
        <p:sp>
          <p:nvSpPr>
            <p:cNvPr id="279" name="Freeform 1386"/>
            <p:cNvSpPr/>
            <p:nvPr/>
          </p:nvSpPr>
          <p:spPr>
            <a:xfrm>
              <a:off x="2939040" y="5312160"/>
              <a:ext cx="37440" cy="33120"/>
            </a:xfrm>
            <a:custGeom>
              <a:avLst/>
              <a:gdLst>
                <a:gd name="textAreaLeft" fmla="*/ 0 w 37440"/>
                <a:gd name="textAreaRight" fmla="*/ 37800 w 37440"/>
                <a:gd name="textAreaTop" fmla="*/ 0 h 33120"/>
                <a:gd name="textAreaBottom" fmla="*/ 33480 h 33120"/>
              </a:gdLst>
              <a:ahLst/>
              <a:rect l="textAreaLeft" t="textAreaTop" r="textAreaRight" b="textAreaBottom"/>
              <a:pathLst>
                <a:path w="207" h="221">
                  <a:moveTo>
                    <a:pt x="207" y="50"/>
                  </a:moveTo>
                  <a:lnTo>
                    <a:pt x="97" y="206"/>
                  </a:lnTo>
                  <a:lnTo>
                    <a:pt x="90" y="208"/>
                  </a:lnTo>
                  <a:lnTo>
                    <a:pt x="73" y="214"/>
                  </a:lnTo>
                  <a:lnTo>
                    <a:pt x="61" y="216"/>
                  </a:lnTo>
                  <a:lnTo>
                    <a:pt x="49" y="218"/>
                  </a:lnTo>
                  <a:lnTo>
                    <a:pt x="38" y="221"/>
                  </a:lnTo>
                  <a:lnTo>
                    <a:pt x="26" y="221"/>
                  </a:lnTo>
                  <a:lnTo>
                    <a:pt x="17" y="221"/>
                  </a:lnTo>
                  <a:lnTo>
                    <a:pt x="9" y="218"/>
                  </a:lnTo>
                  <a:lnTo>
                    <a:pt x="5" y="216"/>
                  </a:lnTo>
                  <a:lnTo>
                    <a:pt x="3" y="214"/>
                  </a:lnTo>
                  <a:lnTo>
                    <a:pt x="2" y="210"/>
                  </a:lnTo>
                  <a:lnTo>
                    <a:pt x="0" y="206"/>
                  </a:lnTo>
                  <a:lnTo>
                    <a:pt x="0" y="202"/>
                  </a:lnTo>
                  <a:lnTo>
                    <a:pt x="2" y="196"/>
                  </a:lnTo>
                  <a:lnTo>
                    <a:pt x="5" y="190"/>
                  </a:lnTo>
                  <a:lnTo>
                    <a:pt x="9" y="183"/>
                  </a:lnTo>
                  <a:lnTo>
                    <a:pt x="20" y="166"/>
                  </a:lnTo>
                  <a:lnTo>
                    <a:pt x="37" y="146"/>
                  </a:lnTo>
                  <a:lnTo>
                    <a:pt x="73" y="102"/>
                  </a:lnTo>
                  <a:lnTo>
                    <a:pt x="102" y="63"/>
                  </a:lnTo>
                  <a:lnTo>
                    <a:pt x="115" y="47"/>
                  </a:lnTo>
                  <a:lnTo>
                    <a:pt x="125" y="33"/>
                  </a:lnTo>
                  <a:lnTo>
                    <a:pt x="136" y="21"/>
                  </a:lnTo>
                  <a:lnTo>
                    <a:pt x="145" y="12"/>
                  </a:lnTo>
                  <a:lnTo>
                    <a:pt x="153" y="5"/>
                  </a:lnTo>
                  <a:lnTo>
                    <a:pt x="162" y="1"/>
                  </a:lnTo>
                  <a:lnTo>
                    <a:pt x="165" y="0"/>
                  </a:lnTo>
                  <a:lnTo>
                    <a:pt x="169" y="0"/>
                  </a:lnTo>
                  <a:lnTo>
                    <a:pt x="172" y="1"/>
                  </a:lnTo>
                  <a:lnTo>
                    <a:pt x="176" y="4"/>
                  </a:lnTo>
                  <a:lnTo>
                    <a:pt x="179" y="6"/>
                  </a:lnTo>
                  <a:lnTo>
                    <a:pt x="184" y="9"/>
                  </a:lnTo>
                  <a:lnTo>
                    <a:pt x="187" y="14"/>
                  </a:lnTo>
                  <a:lnTo>
                    <a:pt x="191" y="19"/>
                  </a:lnTo>
                  <a:lnTo>
                    <a:pt x="199" y="33"/>
                  </a:lnTo>
                  <a:lnTo>
                    <a:pt x="207" y="50"/>
                  </a:lnTo>
                  <a:close/>
                </a:path>
              </a:pathLst>
            </a:custGeom>
            <a:solidFill>
              <a:srgbClr val="93d5ed"/>
            </a:solidFill>
            <a:ln w="3240">
              <a:solidFill>
                <a:srgbClr val="ccecff"/>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Times New Roman"/>
              </a:endParaRPr>
            </a:p>
          </p:txBody>
        </p:sp>
        <p:sp>
          <p:nvSpPr>
            <p:cNvPr id="280" name="Freeform 1387"/>
            <p:cNvSpPr/>
            <p:nvPr/>
          </p:nvSpPr>
          <p:spPr>
            <a:xfrm>
              <a:off x="4814640" y="4612680"/>
              <a:ext cx="260280" cy="63360"/>
            </a:xfrm>
            <a:custGeom>
              <a:avLst/>
              <a:gdLst>
                <a:gd name="textAreaLeft" fmla="*/ 0 w 260280"/>
                <a:gd name="textAreaRight" fmla="*/ 260640 w 260280"/>
                <a:gd name="textAreaTop" fmla="*/ 0 h 63360"/>
                <a:gd name="textAreaBottom" fmla="*/ 63720 h 63360"/>
              </a:gdLst>
              <a:ahLst/>
              <a:rect l="textAreaLeft" t="textAreaTop" r="textAreaRight" b="textAreaBottom"/>
              <a:pathLst>
                <a:path w="1452" h="422">
                  <a:moveTo>
                    <a:pt x="0" y="206"/>
                  </a:moveTo>
                  <a:lnTo>
                    <a:pt x="24" y="230"/>
                  </a:lnTo>
                  <a:lnTo>
                    <a:pt x="50" y="250"/>
                  </a:lnTo>
                  <a:lnTo>
                    <a:pt x="75" y="268"/>
                  </a:lnTo>
                  <a:lnTo>
                    <a:pt x="98" y="282"/>
                  </a:lnTo>
                  <a:lnTo>
                    <a:pt x="122" y="295"/>
                  </a:lnTo>
                  <a:lnTo>
                    <a:pt x="147" y="306"/>
                  </a:lnTo>
                  <a:lnTo>
                    <a:pt x="171" y="315"/>
                  </a:lnTo>
                  <a:lnTo>
                    <a:pt x="195" y="321"/>
                  </a:lnTo>
                  <a:lnTo>
                    <a:pt x="218" y="327"/>
                  </a:lnTo>
                  <a:lnTo>
                    <a:pt x="243" y="330"/>
                  </a:lnTo>
                  <a:lnTo>
                    <a:pt x="266" y="332"/>
                  </a:lnTo>
                  <a:lnTo>
                    <a:pt x="289" y="334"/>
                  </a:lnTo>
                  <a:lnTo>
                    <a:pt x="336" y="332"/>
                  </a:lnTo>
                  <a:lnTo>
                    <a:pt x="383" y="330"/>
                  </a:lnTo>
                  <a:lnTo>
                    <a:pt x="411" y="329"/>
                  </a:lnTo>
                  <a:lnTo>
                    <a:pt x="438" y="329"/>
                  </a:lnTo>
                  <a:lnTo>
                    <a:pt x="464" y="330"/>
                  </a:lnTo>
                  <a:lnTo>
                    <a:pt x="489" y="331"/>
                  </a:lnTo>
                  <a:lnTo>
                    <a:pt x="514" y="334"/>
                  </a:lnTo>
                  <a:lnTo>
                    <a:pt x="537" y="336"/>
                  </a:lnTo>
                  <a:lnTo>
                    <a:pt x="559" y="341"/>
                  </a:lnTo>
                  <a:lnTo>
                    <a:pt x="581" y="345"/>
                  </a:lnTo>
                  <a:lnTo>
                    <a:pt x="601" y="351"/>
                  </a:lnTo>
                  <a:lnTo>
                    <a:pt x="620" y="357"/>
                  </a:lnTo>
                  <a:lnTo>
                    <a:pt x="638" y="365"/>
                  </a:lnTo>
                  <a:lnTo>
                    <a:pt x="653" y="374"/>
                  </a:lnTo>
                  <a:lnTo>
                    <a:pt x="667" y="384"/>
                  </a:lnTo>
                  <a:lnTo>
                    <a:pt x="678" y="396"/>
                  </a:lnTo>
                  <a:lnTo>
                    <a:pt x="684" y="401"/>
                  </a:lnTo>
                  <a:lnTo>
                    <a:pt x="689" y="408"/>
                  </a:lnTo>
                  <a:lnTo>
                    <a:pt x="694" y="415"/>
                  </a:lnTo>
                  <a:lnTo>
                    <a:pt x="697" y="422"/>
                  </a:lnTo>
                  <a:lnTo>
                    <a:pt x="708" y="405"/>
                  </a:lnTo>
                  <a:lnTo>
                    <a:pt x="718" y="390"/>
                  </a:lnTo>
                  <a:lnTo>
                    <a:pt x="730" y="374"/>
                  </a:lnTo>
                  <a:lnTo>
                    <a:pt x="744" y="360"/>
                  </a:lnTo>
                  <a:lnTo>
                    <a:pt x="758" y="348"/>
                  </a:lnTo>
                  <a:lnTo>
                    <a:pt x="774" y="337"/>
                  </a:lnTo>
                  <a:lnTo>
                    <a:pt x="782" y="332"/>
                  </a:lnTo>
                  <a:lnTo>
                    <a:pt x="791" y="328"/>
                  </a:lnTo>
                  <a:lnTo>
                    <a:pt x="800" y="324"/>
                  </a:lnTo>
                  <a:lnTo>
                    <a:pt x="809" y="322"/>
                  </a:lnTo>
                  <a:lnTo>
                    <a:pt x="871" y="304"/>
                  </a:lnTo>
                  <a:lnTo>
                    <a:pt x="939" y="287"/>
                  </a:lnTo>
                  <a:lnTo>
                    <a:pt x="1014" y="271"/>
                  </a:lnTo>
                  <a:lnTo>
                    <a:pt x="1093" y="254"/>
                  </a:lnTo>
                  <a:lnTo>
                    <a:pt x="1177" y="239"/>
                  </a:lnTo>
                  <a:lnTo>
                    <a:pt x="1265" y="223"/>
                  </a:lnTo>
                  <a:lnTo>
                    <a:pt x="1357" y="207"/>
                  </a:lnTo>
                  <a:lnTo>
                    <a:pt x="1452" y="192"/>
                  </a:lnTo>
                  <a:lnTo>
                    <a:pt x="1439" y="177"/>
                  </a:lnTo>
                  <a:lnTo>
                    <a:pt x="1407" y="146"/>
                  </a:lnTo>
                  <a:lnTo>
                    <a:pt x="1387" y="129"/>
                  </a:lnTo>
                  <a:lnTo>
                    <a:pt x="1366" y="114"/>
                  </a:lnTo>
                  <a:lnTo>
                    <a:pt x="1356" y="108"/>
                  </a:lnTo>
                  <a:lnTo>
                    <a:pt x="1347" y="103"/>
                  </a:lnTo>
                  <a:lnTo>
                    <a:pt x="1337" y="101"/>
                  </a:lnTo>
                  <a:lnTo>
                    <a:pt x="1328" y="100"/>
                  </a:lnTo>
                  <a:lnTo>
                    <a:pt x="1308" y="101"/>
                  </a:lnTo>
                  <a:lnTo>
                    <a:pt x="1284" y="106"/>
                  </a:lnTo>
                  <a:lnTo>
                    <a:pt x="1255" y="111"/>
                  </a:lnTo>
                  <a:lnTo>
                    <a:pt x="1227" y="115"/>
                  </a:lnTo>
                  <a:lnTo>
                    <a:pt x="1212" y="116"/>
                  </a:lnTo>
                  <a:lnTo>
                    <a:pt x="1198" y="115"/>
                  </a:lnTo>
                  <a:lnTo>
                    <a:pt x="1184" y="114"/>
                  </a:lnTo>
                  <a:lnTo>
                    <a:pt x="1170" y="112"/>
                  </a:lnTo>
                  <a:lnTo>
                    <a:pt x="1159" y="107"/>
                  </a:lnTo>
                  <a:lnTo>
                    <a:pt x="1146" y="101"/>
                  </a:lnTo>
                  <a:lnTo>
                    <a:pt x="1141" y="98"/>
                  </a:lnTo>
                  <a:lnTo>
                    <a:pt x="1135" y="93"/>
                  </a:lnTo>
                  <a:lnTo>
                    <a:pt x="1131" y="88"/>
                  </a:lnTo>
                  <a:lnTo>
                    <a:pt x="1126" y="82"/>
                  </a:lnTo>
                  <a:lnTo>
                    <a:pt x="1121" y="77"/>
                  </a:lnTo>
                  <a:lnTo>
                    <a:pt x="1116" y="73"/>
                  </a:lnTo>
                  <a:lnTo>
                    <a:pt x="1111" y="68"/>
                  </a:lnTo>
                  <a:lnTo>
                    <a:pt x="1104" y="66"/>
                  </a:lnTo>
                  <a:lnTo>
                    <a:pt x="1097" y="64"/>
                  </a:lnTo>
                  <a:lnTo>
                    <a:pt x="1090" y="61"/>
                  </a:lnTo>
                  <a:lnTo>
                    <a:pt x="1081" y="60"/>
                  </a:lnTo>
                  <a:lnTo>
                    <a:pt x="1073" y="59"/>
                  </a:lnTo>
                  <a:lnTo>
                    <a:pt x="1056" y="59"/>
                  </a:lnTo>
                  <a:lnTo>
                    <a:pt x="1037" y="61"/>
                  </a:lnTo>
                  <a:lnTo>
                    <a:pt x="1020" y="64"/>
                  </a:lnTo>
                  <a:lnTo>
                    <a:pt x="1001" y="68"/>
                  </a:lnTo>
                  <a:lnTo>
                    <a:pt x="967" y="78"/>
                  </a:lnTo>
                  <a:lnTo>
                    <a:pt x="938" y="88"/>
                  </a:lnTo>
                  <a:lnTo>
                    <a:pt x="918" y="96"/>
                  </a:lnTo>
                  <a:lnTo>
                    <a:pt x="910" y="100"/>
                  </a:lnTo>
                  <a:lnTo>
                    <a:pt x="910" y="106"/>
                  </a:lnTo>
                  <a:lnTo>
                    <a:pt x="907" y="121"/>
                  </a:lnTo>
                  <a:lnTo>
                    <a:pt x="905" y="130"/>
                  </a:lnTo>
                  <a:lnTo>
                    <a:pt x="902" y="141"/>
                  </a:lnTo>
                  <a:lnTo>
                    <a:pt x="897" y="153"/>
                  </a:lnTo>
                  <a:lnTo>
                    <a:pt x="891" y="163"/>
                  </a:lnTo>
                  <a:lnTo>
                    <a:pt x="883" y="174"/>
                  </a:lnTo>
                  <a:lnTo>
                    <a:pt x="872" y="183"/>
                  </a:lnTo>
                  <a:lnTo>
                    <a:pt x="867" y="188"/>
                  </a:lnTo>
                  <a:lnTo>
                    <a:pt x="860" y="191"/>
                  </a:lnTo>
                  <a:lnTo>
                    <a:pt x="852" y="195"/>
                  </a:lnTo>
                  <a:lnTo>
                    <a:pt x="844" y="197"/>
                  </a:lnTo>
                  <a:lnTo>
                    <a:pt x="836" y="199"/>
                  </a:lnTo>
                  <a:lnTo>
                    <a:pt x="827" y="200"/>
                  </a:lnTo>
                  <a:lnTo>
                    <a:pt x="816" y="202"/>
                  </a:lnTo>
                  <a:lnTo>
                    <a:pt x="806" y="202"/>
                  </a:lnTo>
                  <a:lnTo>
                    <a:pt x="794" y="200"/>
                  </a:lnTo>
                  <a:lnTo>
                    <a:pt x="782" y="198"/>
                  </a:lnTo>
                  <a:lnTo>
                    <a:pt x="768" y="196"/>
                  </a:lnTo>
                  <a:lnTo>
                    <a:pt x="754" y="192"/>
                  </a:lnTo>
                  <a:lnTo>
                    <a:pt x="742" y="184"/>
                  </a:lnTo>
                  <a:lnTo>
                    <a:pt x="728" y="177"/>
                  </a:lnTo>
                  <a:lnTo>
                    <a:pt x="715" y="172"/>
                  </a:lnTo>
                  <a:lnTo>
                    <a:pt x="699" y="168"/>
                  </a:lnTo>
                  <a:lnTo>
                    <a:pt x="685" y="164"/>
                  </a:lnTo>
                  <a:lnTo>
                    <a:pt x="671" y="162"/>
                  </a:lnTo>
                  <a:lnTo>
                    <a:pt x="657" y="161"/>
                  </a:lnTo>
                  <a:lnTo>
                    <a:pt x="643" y="160"/>
                  </a:lnTo>
                  <a:lnTo>
                    <a:pt x="589" y="161"/>
                  </a:lnTo>
                  <a:lnTo>
                    <a:pt x="542" y="164"/>
                  </a:lnTo>
                  <a:lnTo>
                    <a:pt x="531" y="164"/>
                  </a:lnTo>
                  <a:lnTo>
                    <a:pt x="522" y="164"/>
                  </a:lnTo>
                  <a:lnTo>
                    <a:pt x="514" y="163"/>
                  </a:lnTo>
                  <a:lnTo>
                    <a:pt x="507" y="162"/>
                  </a:lnTo>
                  <a:lnTo>
                    <a:pt x="500" y="160"/>
                  </a:lnTo>
                  <a:lnTo>
                    <a:pt x="495" y="156"/>
                  </a:lnTo>
                  <a:lnTo>
                    <a:pt x="492" y="153"/>
                  </a:lnTo>
                  <a:lnTo>
                    <a:pt x="488" y="148"/>
                  </a:lnTo>
                  <a:lnTo>
                    <a:pt x="487" y="141"/>
                  </a:lnTo>
                  <a:lnTo>
                    <a:pt x="488" y="134"/>
                  </a:lnTo>
                  <a:lnTo>
                    <a:pt x="489" y="125"/>
                  </a:lnTo>
                  <a:lnTo>
                    <a:pt x="493" y="114"/>
                  </a:lnTo>
                  <a:lnTo>
                    <a:pt x="499" y="101"/>
                  </a:lnTo>
                  <a:lnTo>
                    <a:pt x="504" y="87"/>
                  </a:lnTo>
                  <a:lnTo>
                    <a:pt x="514" y="72"/>
                  </a:lnTo>
                  <a:lnTo>
                    <a:pt x="524" y="53"/>
                  </a:lnTo>
                  <a:lnTo>
                    <a:pt x="523" y="50"/>
                  </a:lnTo>
                  <a:lnTo>
                    <a:pt x="518" y="42"/>
                  </a:lnTo>
                  <a:lnTo>
                    <a:pt x="511" y="31"/>
                  </a:lnTo>
                  <a:lnTo>
                    <a:pt x="501" y="18"/>
                  </a:lnTo>
                  <a:lnTo>
                    <a:pt x="494" y="14"/>
                  </a:lnTo>
                  <a:lnTo>
                    <a:pt x="487" y="8"/>
                  </a:lnTo>
                  <a:lnTo>
                    <a:pt x="480" y="4"/>
                  </a:lnTo>
                  <a:lnTo>
                    <a:pt x="471" y="2"/>
                  </a:lnTo>
                  <a:lnTo>
                    <a:pt x="461" y="0"/>
                  </a:lnTo>
                  <a:lnTo>
                    <a:pt x="452" y="1"/>
                  </a:lnTo>
                  <a:lnTo>
                    <a:pt x="441" y="3"/>
                  </a:lnTo>
                  <a:lnTo>
                    <a:pt x="430" y="8"/>
                  </a:lnTo>
                  <a:lnTo>
                    <a:pt x="417" y="15"/>
                  </a:lnTo>
                  <a:lnTo>
                    <a:pt x="400" y="24"/>
                  </a:lnTo>
                  <a:lnTo>
                    <a:pt x="383" y="36"/>
                  </a:lnTo>
                  <a:lnTo>
                    <a:pt x="363" y="50"/>
                  </a:lnTo>
                  <a:lnTo>
                    <a:pt x="315" y="82"/>
                  </a:lnTo>
                  <a:lnTo>
                    <a:pt x="261" y="116"/>
                  </a:lnTo>
                  <a:lnTo>
                    <a:pt x="232" y="134"/>
                  </a:lnTo>
                  <a:lnTo>
                    <a:pt x="201" y="150"/>
                  </a:lnTo>
                  <a:lnTo>
                    <a:pt x="169" y="164"/>
                  </a:lnTo>
                  <a:lnTo>
                    <a:pt x="136" y="178"/>
                  </a:lnTo>
                  <a:lnTo>
                    <a:pt x="120" y="184"/>
                  </a:lnTo>
                  <a:lnTo>
                    <a:pt x="103" y="189"/>
                  </a:lnTo>
                  <a:lnTo>
                    <a:pt x="86" y="195"/>
                  </a:lnTo>
                  <a:lnTo>
                    <a:pt x="69" y="198"/>
                  </a:lnTo>
                  <a:lnTo>
                    <a:pt x="52" y="202"/>
                  </a:lnTo>
                  <a:lnTo>
                    <a:pt x="35" y="204"/>
                  </a:lnTo>
                  <a:lnTo>
                    <a:pt x="17" y="205"/>
                  </a:lnTo>
                  <a:lnTo>
                    <a:pt x="0" y="206"/>
                  </a:lnTo>
                  <a:close/>
                </a:path>
              </a:pathLst>
            </a:custGeom>
            <a:solidFill>
              <a:srgbClr val="93d5ed"/>
            </a:solidFill>
            <a:ln w="9360">
              <a:solidFill>
                <a:srgbClr val="ccecff"/>
              </a:solidFill>
              <a:round/>
            </a:ln>
          </p:spPr>
          <p:style>
            <a:lnRef idx="0"/>
            <a:fillRef idx="0"/>
            <a:effectRef idx="0"/>
            <a:fontRef idx="minor"/>
          </p:style>
          <p:txBody>
            <a:bodyPr lIns="90000" rIns="90000" tIns="16920" bIns="16920" anchor="t">
              <a:noAutofit/>
            </a:bodyPr>
            <a:p>
              <a:endParaRPr b="1" lang="en-US" sz="2400" spc="-1" strike="noStrike">
                <a:solidFill>
                  <a:srgbClr val="ffffff"/>
                </a:solidFill>
                <a:latin typeface="Times New Roman"/>
              </a:endParaRPr>
            </a:p>
          </p:txBody>
        </p:sp>
        <p:sp>
          <p:nvSpPr>
            <p:cNvPr id="281" name="Freeform 1388"/>
            <p:cNvSpPr/>
            <p:nvPr/>
          </p:nvSpPr>
          <p:spPr>
            <a:xfrm>
              <a:off x="4814640" y="4612680"/>
              <a:ext cx="260280" cy="63360"/>
            </a:xfrm>
            <a:custGeom>
              <a:avLst/>
              <a:gdLst>
                <a:gd name="textAreaLeft" fmla="*/ 0 w 260280"/>
                <a:gd name="textAreaRight" fmla="*/ 260640 w 260280"/>
                <a:gd name="textAreaTop" fmla="*/ 0 h 63360"/>
                <a:gd name="textAreaBottom" fmla="*/ 63720 h 63360"/>
              </a:gdLst>
              <a:ahLst/>
              <a:rect l="textAreaLeft" t="textAreaTop" r="textAreaRight" b="textAreaBottom"/>
              <a:pathLst>
                <a:path w="1452" h="422">
                  <a:moveTo>
                    <a:pt x="0" y="206"/>
                  </a:moveTo>
                  <a:lnTo>
                    <a:pt x="24" y="230"/>
                  </a:lnTo>
                  <a:lnTo>
                    <a:pt x="50" y="250"/>
                  </a:lnTo>
                  <a:lnTo>
                    <a:pt x="75" y="268"/>
                  </a:lnTo>
                  <a:lnTo>
                    <a:pt x="98" y="282"/>
                  </a:lnTo>
                  <a:lnTo>
                    <a:pt x="122" y="295"/>
                  </a:lnTo>
                  <a:lnTo>
                    <a:pt x="147" y="306"/>
                  </a:lnTo>
                  <a:lnTo>
                    <a:pt x="171" y="315"/>
                  </a:lnTo>
                  <a:lnTo>
                    <a:pt x="195" y="321"/>
                  </a:lnTo>
                  <a:lnTo>
                    <a:pt x="218" y="327"/>
                  </a:lnTo>
                  <a:lnTo>
                    <a:pt x="243" y="330"/>
                  </a:lnTo>
                  <a:lnTo>
                    <a:pt x="266" y="332"/>
                  </a:lnTo>
                  <a:lnTo>
                    <a:pt x="289" y="334"/>
                  </a:lnTo>
                  <a:lnTo>
                    <a:pt x="336" y="332"/>
                  </a:lnTo>
                  <a:lnTo>
                    <a:pt x="383" y="330"/>
                  </a:lnTo>
                  <a:lnTo>
                    <a:pt x="411" y="329"/>
                  </a:lnTo>
                  <a:lnTo>
                    <a:pt x="438" y="329"/>
                  </a:lnTo>
                  <a:lnTo>
                    <a:pt x="464" y="330"/>
                  </a:lnTo>
                  <a:lnTo>
                    <a:pt x="489" y="331"/>
                  </a:lnTo>
                  <a:lnTo>
                    <a:pt x="514" y="334"/>
                  </a:lnTo>
                  <a:lnTo>
                    <a:pt x="537" y="336"/>
                  </a:lnTo>
                  <a:lnTo>
                    <a:pt x="559" y="341"/>
                  </a:lnTo>
                  <a:lnTo>
                    <a:pt x="581" y="345"/>
                  </a:lnTo>
                  <a:lnTo>
                    <a:pt x="601" y="351"/>
                  </a:lnTo>
                  <a:lnTo>
                    <a:pt x="620" y="357"/>
                  </a:lnTo>
                  <a:lnTo>
                    <a:pt x="638" y="365"/>
                  </a:lnTo>
                  <a:lnTo>
                    <a:pt x="653" y="374"/>
                  </a:lnTo>
                  <a:lnTo>
                    <a:pt x="667" y="384"/>
                  </a:lnTo>
                  <a:lnTo>
                    <a:pt x="678" y="396"/>
                  </a:lnTo>
                  <a:lnTo>
                    <a:pt x="684" y="401"/>
                  </a:lnTo>
                  <a:lnTo>
                    <a:pt x="689" y="408"/>
                  </a:lnTo>
                  <a:lnTo>
                    <a:pt x="694" y="415"/>
                  </a:lnTo>
                  <a:lnTo>
                    <a:pt x="697" y="422"/>
                  </a:lnTo>
                  <a:lnTo>
                    <a:pt x="708" y="405"/>
                  </a:lnTo>
                  <a:lnTo>
                    <a:pt x="718" y="390"/>
                  </a:lnTo>
                  <a:lnTo>
                    <a:pt x="730" y="374"/>
                  </a:lnTo>
                  <a:lnTo>
                    <a:pt x="744" y="360"/>
                  </a:lnTo>
                  <a:lnTo>
                    <a:pt x="758" y="348"/>
                  </a:lnTo>
                  <a:lnTo>
                    <a:pt x="774" y="337"/>
                  </a:lnTo>
                  <a:lnTo>
                    <a:pt x="782" y="332"/>
                  </a:lnTo>
                  <a:lnTo>
                    <a:pt x="791" y="328"/>
                  </a:lnTo>
                  <a:lnTo>
                    <a:pt x="800" y="324"/>
                  </a:lnTo>
                  <a:lnTo>
                    <a:pt x="809" y="322"/>
                  </a:lnTo>
                  <a:lnTo>
                    <a:pt x="871" y="304"/>
                  </a:lnTo>
                  <a:lnTo>
                    <a:pt x="939" y="287"/>
                  </a:lnTo>
                  <a:lnTo>
                    <a:pt x="1014" y="271"/>
                  </a:lnTo>
                  <a:lnTo>
                    <a:pt x="1093" y="254"/>
                  </a:lnTo>
                  <a:lnTo>
                    <a:pt x="1177" y="239"/>
                  </a:lnTo>
                  <a:lnTo>
                    <a:pt x="1265" y="223"/>
                  </a:lnTo>
                  <a:lnTo>
                    <a:pt x="1357" y="207"/>
                  </a:lnTo>
                  <a:lnTo>
                    <a:pt x="1452" y="192"/>
                  </a:lnTo>
                  <a:lnTo>
                    <a:pt x="1439" y="177"/>
                  </a:lnTo>
                  <a:lnTo>
                    <a:pt x="1407" y="146"/>
                  </a:lnTo>
                  <a:lnTo>
                    <a:pt x="1387" y="129"/>
                  </a:lnTo>
                  <a:lnTo>
                    <a:pt x="1366" y="114"/>
                  </a:lnTo>
                  <a:lnTo>
                    <a:pt x="1356" y="108"/>
                  </a:lnTo>
                  <a:lnTo>
                    <a:pt x="1347" y="103"/>
                  </a:lnTo>
                  <a:lnTo>
                    <a:pt x="1337" y="101"/>
                  </a:lnTo>
                  <a:lnTo>
                    <a:pt x="1328" y="100"/>
                  </a:lnTo>
                  <a:lnTo>
                    <a:pt x="1308" y="101"/>
                  </a:lnTo>
                  <a:lnTo>
                    <a:pt x="1284" y="106"/>
                  </a:lnTo>
                  <a:lnTo>
                    <a:pt x="1255" y="111"/>
                  </a:lnTo>
                  <a:lnTo>
                    <a:pt x="1227" y="115"/>
                  </a:lnTo>
                  <a:lnTo>
                    <a:pt x="1212" y="116"/>
                  </a:lnTo>
                  <a:lnTo>
                    <a:pt x="1198" y="115"/>
                  </a:lnTo>
                  <a:lnTo>
                    <a:pt x="1184" y="114"/>
                  </a:lnTo>
                  <a:lnTo>
                    <a:pt x="1170" y="112"/>
                  </a:lnTo>
                  <a:lnTo>
                    <a:pt x="1159" y="107"/>
                  </a:lnTo>
                  <a:lnTo>
                    <a:pt x="1146" y="101"/>
                  </a:lnTo>
                  <a:lnTo>
                    <a:pt x="1141" y="98"/>
                  </a:lnTo>
                  <a:lnTo>
                    <a:pt x="1135" y="93"/>
                  </a:lnTo>
                  <a:lnTo>
                    <a:pt x="1131" y="88"/>
                  </a:lnTo>
                  <a:lnTo>
                    <a:pt x="1126" y="82"/>
                  </a:lnTo>
                  <a:lnTo>
                    <a:pt x="1121" y="77"/>
                  </a:lnTo>
                  <a:lnTo>
                    <a:pt x="1116" y="73"/>
                  </a:lnTo>
                  <a:lnTo>
                    <a:pt x="1111" y="68"/>
                  </a:lnTo>
                  <a:lnTo>
                    <a:pt x="1104" y="66"/>
                  </a:lnTo>
                  <a:lnTo>
                    <a:pt x="1097" y="64"/>
                  </a:lnTo>
                  <a:lnTo>
                    <a:pt x="1090" y="61"/>
                  </a:lnTo>
                  <a:lnTo>
                    <a:pt x="1081" y="60"/>
                  </a:lnTo>
                  <a:lnTo>
                    <a:pt x="1073" y="59"/>
                  </a:lnTo>
                  <a:lnTo>
                    <a:pt x="1056" y="59"/>
                  </a:lnTo>
                  <a:lnTo>
                    <a:pt x="1037" y="61"/>
                  </a:lnTo>
                  <a:lnTo>
                    <a:pt x="1020" y="64"/>
                  </a:lnTo>
                  <a:lnTo>
                    <a:pt x="1001" y="68"/>
                  </a:lnTo>
                  <a:lnTo>
                    <a:pt x="967" y="78"/>
                  </a:lnTo>
                  <a:lnTo>
                    <a:pt x="938" y="88"/>
                  </a:lnTo>
                  <a:lnTo>
                    <a:pt x="918" y="96"/>
                  </a:lnTo>
                  <a:lnTo>
                    <a:pt x="910" y="100"/>
                  </a:lnTo>
                  <a:lnTo>
                    <a:pt x="910" y="106"/>
                  </a:lnTo>
                  <a:lnTo>
                    <a:pt x="907" y="121"/>
                  </a:lnTo>
                  <a:lnTo>
                    <a:pt x="905" y="130"/>
                  </a:lnTo>
                  <a:lnTo>
                    <a:pt x="902" y="141"/>
                  </a:lnTo>
                  <a:lnTo>
                    <a:pt x="897" y="153"/>
                  </a:lnTo>
                  <a:lnTo>
                    <a:pt x="891" y="163"/>
                  </a:lnTo>
                  <a:lnTo>
                    <a:pt x="883" y="174"/>
                  </a:lnTo>
                  <a:lnTo>
                    <a:pt x="872" y="183"/>
                  </a:lnTo>
                  <a:lnTo>
                    <a:pt x="867" y="188"/>
                  </a:lnTo>
                  <a:lnTo>
                    <a:pt x="860" y="191"/>
                  </a:lnTo>
                  <a:lnTo>
                    <a:pt x="852" y="195"/>
                  </a:lnTo>
                  <a:lnTo>
                    <a:pt x="844" y="197"/>
                  </a:lnTo>
                  <a:lnTo>
                    <a:pt x="836" y="199"/>
                  </a:lnTo>
                  <a:lnTo>
                    <a:pt x="827" y="200"/>
                  </a:lnTo>
                  <a:lnTo>
                    <a:pt x="816" y="202"/>
                  </a:lnTo>
                  <a:lnTo>
                    <a:pt x="806" y="202"/>
                  </a:lnTo>
                  <a:lnTo>
                    <a:pt x="794" y="200"/>
                  </a:lnTo>
                  <a:lnTo>
                    <a:pt x="782" y="198"/>
                  </a:lnTo>
                  <a:lnTo>
                    <a:pt x="768" y="196"/>
                  </a:lnTo>
                  <a:lnTo>
                    <a:pt x="754" y="192"/>
                  </a:lnTo>
                  <a:lnTo>
                    <a:pt x="742" y="184"/>
                  </a:lnTo>
                  <a:lnTo>
                    <a:pt x="728" y="177"/>
                  </a:lnTo>
                  <a:lnTo>
                    <a:pt x="715" y="172"/>
                  </a:lnTo>
                  <a:lnTo>
                    <a:pt x="699" y="168"/>
                  </a:lnTo>
                  <a:lnTo>
                    <a:pt x="685" y="164"/>
                  </a:lnTo>
                  <a:lnTo>
                    <a:pt x="671" y="162"/>
                  </a:lnTo>
                  <a:lnTo>
                    <a:pt x="657" y="161"/>
                  </a:lnTo>
                  <a:lnTo>
                    <a:pt x="643" y="160"/>
                  </a:lnTo>
                  <a:lnTo>
                    <a:pt x="589" y="161"/>
                  </a:lnTo>
                  <a:lnTo>
                    <a:pt x="542" y="164"/>
                  </a:lnTo>
                  <a:lnTo>
                    <a:pt x="531" y="164"/>
                  </a:lnTo>
                  <a:lnTo>
                    <a:pt x="522" y="164"/>
                  </a:lnTo>
                  <a:lnTo>
                    <a:pt x="514" y="163"/>
                  </a:lnTo>
                  <a:lnTo>
                    <a:pt x="507" y="162"/>
                  </a:lnTo>
                  <a:lnTo>
                    <a:pt x="500" y="160"/>
                  </a:lnTo>
                  <a:lnTo>
                    <a:pt x="495" y="156"/>
                  </a:lnTo>
                  <a:lnTo>
                    <a:pt x="492" y="153"/>
                  </a:lnTo>
                  <a:lnTo>
                    <a:pt x="488" y="148"/>
                  </a:lnTo>
                  <a:lnTo>
                    <a:pt x="487" y="141"/>
                  </a:lnTo>
                  <a:lnTo>
                    <a:pt x="488" y="134"/>
                  </a:lnTo>
                  <a:lnTo>
                    <a:pt x="489" y="125"/>
                  </a:lnTo>
                  <a:lnTo>
                    <a:pt x="493" y="114"/>
                  </a:lnTo>
                  <a:lnTo>
                    <a:pt x="499" y="101"/>
                  </a:lnTo>
                  <a:lnTo>
                    <a:pt x="504" y="87"/>
                  </a:lnTo>
                  <a:lnTo>
                    <a:pt x="514" y="72"/>
                  </a:lnTo>
                  <a:lnTo>
                    <a:pt x="524" y="53"/>
                  </a:lnTo>
                  <a:lnTo>
                    <a:pt x="523" y="50"/>
                  </a:lnTo>
                  <a:lnTo>
                    <a:pt x="518" y="42"/>
                  </a:lnTo>
                  <a:lnTo>
                    <a:pt x="511" y="31"/>
                  </a:lnTo>
                  <a:lnTo>
                    <a:pt x="501" y="18"/>
                  </a:lnTo>
                  <a:lnTo>
                    <a:pt x="494" y="14"/>
                  </a:lnTo>
                  <a:lnTo>
                    <a:pt x="487" y="8"/>
                  </a:lnTo>
                  <a:lnTo>
                    <a:pt x="480" y="4"/>
                  </a:lnTo>
                  <a:lnTo>
                    <a:pt x="471" y="2"/>
                  </a:lnTo>
                  <a:lnTo>
                    <a:pt x="461" y="0"/>
                  </a:lnTo>
                  <a:lnTo>
                    <a:pt x="452" y="1"/>
                  </a:lnTo>
                  <a:lnTo>
                    <a:pt x="441" y="3"/>
                  </a:lnTo>
                  <a:lnTo>
                    <a:pt x="430" y="8"/>
                  </a:lnTo>
                  <a:lnTo>
                    <a:pt x="417" y="15"/>
                  </a:lnTo>
                  <a:lnTo>
                    <a:pt x="400" y="24"/>
                  </a:lnTo>
                  <a:lnTo>
                    <a:pt x="383" y="36"/>
                  </a:lnTo>
                  <a:lnTo>
                    <a:pt x="363" y="50"/>
                  </a:lnTo>
                  <a:lnTo>
                    <a:pt x="315" y="82"/>
                  </a:lnTo>
                  <a:lnTo>
                    <a:pt x="261" y="116"/>
                  </a:lnTo>
                  <a:lnTo>
                    <a:pt x="232" y="134"/>
                  </a:lnTo>
                  <a:lnTo>
                    <a:pt x="201" y="150"/>
                  </a:lnTo>
                  <a:lnTo>
                    <a:pt x="169" y="164"/>
                  </a:lnTo>
                  <a:lnTo>
                    <a:pt x="136" y="178"/>
                  </a:lnTo>
                  <a:lnTo>
                    <a:pt x="120" y="184"/>
                  </a:lnTo>
                  <a:lnTo>
                    <a:pt x="103" y="189"/>
                  </a:lnTo>
                  <a:lnTo>
                    <a:pt x="86" y="195"/>
                  </a:lnTo>
                  <a:lnTo>
                    <a:pt x="69" y="198"/>
                  </a:lnTo>
                  <a:lnTo>
                    <a:pt x="52" y="202"/>
                  </a:lnTo>
                  <a:lnTo>
                    <a:pt x="35" y="204"/>
                  </a:lnTo>
                  <a:lnTo>
                    <a:pt x="17" y="205"/>
                  </a:lnTo>
                  <a:lnTo>
                    <a:pt x="0" y="206"/>
                  </a:lnTo>
                </a:path>
              </a:pathLst>
            </a:custGeom>
            <a:solidFill>
              <a:srgbClr val="93d5ed"/>
            </a:solidFill>
            <a:ln w="3240">
              <a:solidFill>
                <a:srgbClr val="ccecff"/>
              </a:solidFill>
              <a:round/>
            </a:ln>
          </p:spPr>
          <p:style>
            <a:lnRef idx="0"/>
            <a:fillRef idx="0"/>
            <a:effectRef idx="0"/>
            <a:fontRef idx="minor"/>
          </p:style>
          <p:txBody>
            <a:bodyPr lIns="90000" rIns="90000" tIns="16920" bIns="16920" anchor="t">
              <a:noAutofit/>
            </a:bodyPr>
            <a:p>
              <a:endParaRPr b="1" lang="en-US" sz="2400" spc="-1" strike="noStrike">
                <a:solidFill>
                  <a:srgbClr val="ffffff"/>
                </a:solidFill>
                <a:latin typeface="Times New Roman"/>
              </a:endParaRPr>
            </a:p>
          </p:txBody>
        </p:sp>
        <p:sp>
          <p:nvSpPr>
            <p:cNvPr id="282" name="Freeform 1389"/>
            <p:cNvSpPr/>
            <p:nvPr/>
          </p:nvSpPr>
          <p:spPr>
            <a:xfrm>
              <a:off x="3332880" y="4636080"/>
              <a:ext cx="426960" cy="149040"/>
            </a:xfrm>
            <a:custGeom>
              <a:avLst/>
              <a:gdLst>
                <a:gd name="textAreaLeft" fmla="*/ 0 w 426960"/>
                <a:gd name="textAreaRight" fmla="*/ 427320 w 426960"/>
                <a:gd name="textAreaTop" fmla="*/ 0 h 149040"/>
                <a:gd name="textAreaBottom" fmla="*/ 149400 h 149040"/>
              </a:gdLst>
              <a:ahLst/>
              <a:rect l="textAreaLeft" t="textAreaTop" r="textAreaRight" b="textAreaBottom"/>
              <a:pathLst>
                <a:path w="2375" h="987">
                  <a:moveTo>
                    <a:pt x="916" y="921"/>
                  </a:moveTo>
                  <a:lnTo>
                    <a:pt x="0" y="826"/>
                  </a:lnTo>
                  <a:lnTo>
                    <a:pt x="16" y="801"/>
                  </a:lnTo>
                  <a:lnTo>
                    <a:pt x="31" y="778"/>
                  </a:lnTo>
                  <a:lnTo>
                    <a:pt x="45" y="756"/>
                  </a:lnTo>
                  <a:lnTo>
                    <a:pt x="61" y="737"/>
                  </a:lnTo>
                  <a:lnTo>
                    <a:pt x="75" y="718"/>
                  </a:lnTo>
                  <a:lnTo>
                    <a:pt x="89" y="702"/>
                  </a:lnTo>
                  <a:lnTo>
                    <a:pt x="101" y="687"/>
                  </a:lnTo>
                  <a:lnTo>
                    <a:pt x="115" y="674"/>
                  </a:lnTo>
                  <a:lnTo>
                    <a:pt x="128" y="661"/>
                  </a:lnTo>
                  <a:lnTo>
                    <a:pt x="140" y="651"/>
                  </a:lnTo>
                  <a:lnTo>
                    <a:pt x="153" y="640"/>
                  </a:lnTo>
                  <a:lnTo>
                    <a:pt x="165" y="632"/>
                  </a:lnTo>
                  <a:lnTo>
                    <a:pt x="176" y="624"/>
                  </a:lnTo>
                  <a:lnTo>
                    <a:pt x="188" y="617"/>
                  </a:lnTo>
                  <a:lnTo>
                    <a:pt x="200" y="611"/>
                  </a:lnTo>
                  <a:lnTo>
                    <a:pt x="211" y="605"/>
                  </a:lnTo>
                  <a:lnTo>
                    <a:pt x="233" y="597"/>
                  </a:lnTo>
                  <a:lnTo>
                    <a:pt x="256" y="590"/>
                  </a:lnTo>
                  <a:lnTo>
                    <a:pt x="277" y="583"/>
                  </a:lnTo>
                  <a:lnTo>
                    <a:pt x="299" y="578"/>
                  </a:lnTo>
                  <a:lnTo>
                    <a:pt x="320" y="572"/>
                  </a:lnTo>
                  <a:lnTo>
                    <a:pt x="341" y="565"/>
                  </a:lnTo>
                  <a:lnTo>
                    <a:pt x="363" y="557"/>
                  </a:lnTo>
                  <a:lnTo>
                    <a:pt x="385" y="547"/>
                  </a:lnTo>
                  <a:lnTo>
                    <a:pt x="410" y="534"/>
                  </a:lnTo>
                  <a:lnTo>
                    <a:pt x="434" y="517"/>
                  </a:lnTo>
                  <a:lnTo>
                    <a:pt x="461" y="500"/>
                  </a:lnTo>
                  <a:lnTo>
                    <a:pt x="487" y="480"/>
                  </a:lnTo>
                  <a:lnTo>
                    <a:pt x="514" y="458"/>
                  </a:lnTo>
                  <a:lnTo>
                    <a:pt x="541" y="434"/>
                  </a:lnTo>
                  <a:lnTo>
                    <a:pt x="568" y="411"/>
                  </a:lnTo>
                  <a:lnTo>
                    <a:pt x="593" y="388"/>
                  </a:lnTo>
                  <a:lnTo>
                    <a:pt x="642" y="340"/>
                  </a:lnTo>
                  <a:lnTo>
                    <a:pt x="686" y="298"/>
                  </a:lnTo>
                  <a:lnTo>
                    <a:pt x="719" y="263"/>
                  </a:lnTo>
                  <a:lnTo>
                    <a:pt x="743" y="238"/>
                  </a:lnTo>
                  <a:lnTo>
                    <a:pt x="752" y="231"/>
                  </a:lnTo>
                  <a:lnTo>
                    <a:pt x="761" y="225"/>
                  </a:lnTo>
                  <a:lnTo>
                    <a:pt x="771" y="222"/>
                  </a:lnTo>
                  <a:lnTo>
                    <a:pt x="780" y="219"/>
                  </a:lnTo>
                  <a:lnTo>
                    <a:pt x="800" y="216"/>
                  </a:lnTo>
                  <a:lnTo>
                    <a:pt x="821" y="212"/>
                  </a:lnTo>
                  <a:lnTo>
                    <a:pt x="833" y="210"/>
                  </a:lnTo>
                  <a:lnTo>
                    <a:pt x="843" y="205"/>
                  </a:lnTo>
                  <a:lnTo>
                    <a:pt x="855" y="200"/>
                  </a:lnTo>
                  <a:lnTo>
                    <a:pt x="867" y="191"/>
                  </a:lnTo>
                  <a:lnTo>
                    <a:pt x="877" y="181"/>
                  </a:lnTo>
                  <a:lnTo>
                    <a:pt x="889" y="167"/>
                  </a:lnTo>
                  <a:lnTo>
                    <a:pt x="902" y="151"/>
                  </a:lnTo>
                  <a:lnTo>
                    <a:pt x="913" y="130"/>
                  </a:lnTo>
                  <a:lnTo>
                    <a:pt x="924" y="110"/>
                  </a:lnTo>
                  <a:lnTo>
                    <a:pt x="934" y="92"/>
                  </a:lnTo>
                  <a:lnTo>
                    <a:pt x="947" y="75"/>
                  </a:lnTo>
                  <a:lnTo>
                    <a:pt x="960" y="58"/>
                  </a:lnTo>
                  <a:lnTo>
                    <a:pt x="988" y="28"/>
                  </a:lnTo>
                  <a:lnTo>
                    <a:pt x="1016" y="0"/>
                  </a:lnTo>
                  <a:lnTo>
                    <a:pt x="1192" y="37"/>
                  </a:lnTo>
                  <a:lnTo>
                    <a:pt x="1192" y="49"/>
                  </a:lnTo>
                  <a:lnTo>
                    <a:pt x="1194" y="62"/>
                  </a:lnTo>
                  <a:lnTo>
                    <a:pt x="1195" y="72"/>
                  </a:lnTo>
                  <a:lnTo>
                    <a:pt x="1197" y="83"/>
                  </a:lnTo>
                  <a:lnTo>
                    <a:pt x="1199" y="93"/>
                  </a:lnTo>
                  <a:lnTo>
                    <a:pt x="1203" y="103"/>
                  </a:lnTo>
                  <a:lnTo>
                    <a:pt x="1206" y="112"/>
                  </a:lnTo>
                  <a:lnTo>
                    <a:pt x="1210" y="120"/>
                  </a:lnTo>
                  <a:lnTo>
                    <a:pt x="1215" y="127"/>
                  </a:lnTo>
                  <a:lnTo>
                    <a:pt x="1219" y="134"/>
                  </a:lnTo>
                  <a:lnTo>
                    <a:pt x="1224" y="141"/>
                  </a:lnTo>
                  <a:lnTo>
                    <a:pt x="1230" y="147"/>
                  </a:lnTo>
                  <a:lnTo>
                    <a:pt x="1243" y="159"/>
                  </a:lnTo>
                  <a:lnTo>
                    <a:pt x="1256" y="168"/>
                  </a:lnTo>
                  <a:lnTo>
                    <a:pt x="1270" y="176"/>
                  </a:lnTo>
                  <a:lnTo>
                    <a:pt x="1284" y="183"/>
                  </a:lnTo>
                  <a:lnTo>
                    <a:pt x="1300" y="189"/>
                  </a:lnTo>
                  <a:lnTo>
                    <a:pt x="1315" y="194"/>
                  </a:lnTo>
                  <a:lnTo>
                    <a:pt x="1347" y="201"/>
                  </a:lnTo>
                  <a:lnTo>
                    <a:pt x="1377" y="207"/>
                  </a:lnTo>
                  <a:lnTo>
                    <a:pt x="1400" y="209"/>
                  </a:lnTo>
                  <a:lnTo>
                    <a:pt x="1439" y="209"/>
                  </a:lnTo>
                  <a:lnTo>
                    <a:pt x="1492" y="209"/>
                  </a:lnTo>
                  <a:lnTo>
                    <a:pt x="1556" y="208"/>
                  </a:lnTo>
                  <a:lnTo>
                    <a:pt x="1628" y="205"/>
                  </a:lnTo>
                  <a:lnTo>
                    <a:pt x="1708" y="204"/>
                  </a:lnTo>
                  <a:lnTo>
                    <a:pt x="1792" y="203"/>
                  </a:lnTo>
                  <a:lnTo>
                    <a:pt x="1877" y="203"/>
                  </a:lnTo>
                  <a:lnTo>
                    <a:pt x="1962" y="203"/>
                  </a:lnTo>
                  <a:lnTo>
                    <a:pt x="2046" y="205"/>
                  </a:lnTo>
                  <a:lnTo>
                    <a:pt x="2086" y="208"/>
                  </a:lnTo>
                  <a:lnTo>
                    <a:pt x="2125" y="210"/>
                  </a:lnTo>
                  <a:lnTo>
                    <a:pt x="2161" y="212"/>
                  </a:lnTo>
                  <a:lnTo>
                    <a:pt x="2196" y="216"/>
                  </a:lnTo>
                  <a:lnTo>
                    <a:pt x="2227" y="221"/>
                  </a:lnTo>
                  <a:lnTo>
                    <a:pt x="2258" y="225"/>
                  </a:lnTo>
                  <a:lnTo>
                    <a:pt x="2285" y="230"/>
                  </a:lnTo>
                  <a:lnTo>
                    <a:pt x="2308" y="237"/>
                  </a:lnTo>
                  <a:lnTo>
                    <a:pt x="2328" y="244"/>
                  </a:lnTo>
                  <a:lnTo>
                    <a:pt x="2344" y="251"/>
                  </a:lnTo>
                  <a:lnTo>
                    <a:pt x="2357" y="260"/>
                  </a:lnTo>
                  <a:lnTo>
                    <a:pt x="2364" y="270"/>
                  </a:lnTo>
                  <a:lnTo>
                    <a:pt x="2370" y="280"/>
                  </a:lnTo>
                  <a:lnTo>
                    <a:pt x="2373" y="288"/>
                  </a:lnTo>
                  <a:lnTo>
                    <a:pt x="2375" y="298"/>
                  </a:lnTo>
                  <a:lnTo>
                    <a:pt x="2375" y="306"/>
                  </a:lnTo>
                  <a:lnTo>
                    <a:pt x="2373" y="313"/>
                  </a:lnTo>
                  <a:lnTo>
                    <a:pt x="2370" y="320"/>
                  </a:lnTo>
                  <a:lnTo>
                    <a:pt x="2366" y="327"/>
                  </a:lnTo>
                  <a:lnTo>
                    <a:pt x="2361" y="333"/>
                  </a:lnTo>
                  <a:lnTo>
                    <a:pt x="2355" y="339"/>
                  </a:lnTo>
                  <a:lnTo>
                    <a:pt x="2347" y="343"/>
                  </a:lnTo>
                  <a:lnTo>
                    <a:pt x="2338" y="348"/>
                  </a:lnTo>
                  <a:lnTo>
                    <a:pt x="2329" y="353"/>
                  </a:lnTo>
                  <a:lnTo>
                    <a:pt x="2308" y="362"/>
                  </a:lnTo>
                  <a:lnTo>
                    <a:pt x="2285" y="369"/>
                  </a:lnTo>
                  <a:lnTo>
                    <a:pt x="2233" y="382"/>
                  </a:lnTo>
                  <a:lnTo>
                    <a:pt x="2180" y="395"/>
                  </a:lnTo>
                  <a:lnTo>
                    <a:pt x="2153" y="401"/>
                  </a:lnTo>
                  <a:lnTo>
                    <a:pt x="2129" y="408"/>
                  </a:lnTo>
                  <a:lnTo>
                    <a:pt x="2107" y="415"/>
                  </a:lnTo>
                  <a:lnTo>
                    <a:pt x="2088" y="423"/>
                  </a:lnTo>
                  <a:lnTo>
                    <a:pt x="2059" y="438"/>
                  </a:lnTo>
                  <a:lnTo>
                    <a:pt x="2039" y="448"/>
                  </a:lnTo>
                  <a:lnTo>
                    <a:pt x="2034" y="453"/>
                  </a:lnTo>
                  <a:lnTo>
                    <a:pt x="2029" y="457"/>
                  </a:lnTo>
                  <a:lnTo>
                    <a:pt x="2027" y="461"/>
                  </a:lnTo>
                  <a:lnTo>
                    <a:pt x="2025" y="466"/>
                  </a:lnTo>
                  <a:lnTo>
                    <a:pt x="2027" y="471"/>
                  </a:lnTo>
                  <a:lnTo>
                    <a:pt x="2028" y="475"/>
                  </a:lnTo>
                  <a:lnTo>
                    <a:pt x="2031" y="481"/>
                  </a:lnTo>
                  <a:lnTo>
                    <a:pt x="2035" y="489"/>
                  </a:lnTo>
                  <a:lnTo>
                    <a:pt x="2045" y="507"/>
                  </a:lnTo>
                  <a:lnTo>
                    <a:pt x="2057" y="533"/>
                  </a:lnTo>
                  <a:lnTo>
                    <a:pt x="2062" y="547"/>
                  </a:lnTo>
                  <a:lnTo>
                    <a:pt x="2064" y="559"/>
                  </a:lnTo>
                  <a:lnTo>
                    <a:pt x="2065" y="571"/>
                  </a:lnTo>
                  <a:lnTo>
                    <a:pt x="2064" y="583"/>
                  </a:lnTo>
                  <a:lnTo>
                    <a:pt x="2060" y="593"/>
                  </a:lnTo>
                  <a:lnTo>
                    <a:pt x="2056" y="603"/>
                  </a:lnTo>
                  <a:lnTo>
                    <a:pt x="2049" y="612"/>
                  </a:lnTo>
                  <a:lnTo>
                    <a:pt x="2041" y="620"/>
                  </a:lnTo>
                  <a:lnTo>
                    <a:pt x="2031" y="628"/>
                  </a:lnTo>
                  <a:lnTo>
                    <a:pt x="2021" y="636"/>
                  </a:lnTo>
                  <a:lnTo>
                    <a:pt x="2009" y="645"/>
                  </a:lnTo>
                  <a:lnTo>
                    <a:pt x="1995" y="653"/>
                  </a:lnTo>
                  <a:lnTo>
                    <a:pt x="1966" y="668"/>
                  </a:lnTo>
                  <a:lnTo>
                    <a:pt x="1933" y="684"/>
                  </a:lnTo>
                  <a:lnTo>
                    <a:pt x="1916" y="694"/>
                  </a:lnTo>
                  <a:lnTo>
                    <a:pt x="1900" y="702"/>
                  </a:lnTo>
                  <a:lnTo>
                    <a:pt x="1888" y="711"/>
                  </a:lnTo>
                  <a:lnTo>
                    <a:pt x="1875" y="721"/>
                  </a:lnTo>
                  <a:lnTo>
                    <a:pt x="1863" y="729"/>
                  </a:lnTo>
                  <a:lnTo>
                    <a:pt x="1854" y="738"/>
                  </a:lnTo>
                  <a:lnTo>
                    <a:pt x="1845" y="747"/>
                  </a:lnTo>
                  <a:lnTo>
                    <a:pt x="1837" y="757"/>
                  </a:lnTo>
                  <a:lnTo>
                    <a:pt x="1831" y="767"/>
                  </a:lnTo>
                  <a:lnTo>
                    <a:pt x="1827" y="777"/>
                  </a:lnTo>
                  <a:lnTo>
                    <a:pt x="1823" y="787"/>
                  </a:lnTo>
                  <a:lnTo>
                    <a:pt x="1821" y="797"/>
                  </a:lnTo>
                  <a:lnTo>
                    <a:pt x="1820" y="807"/>
                  </a:lnTo>
                  <a:lnTo>
                    <a:pt x="1820" y="819"/>
                  </a:lnTo>
                  <a:lnTo>
                    <a:pt x="1821" y="829"/>
                  </a:lnTo>
                  <a:lnTo>
                    <a:pt x="1823" y="841"/>
                  </a:lnTo>
                  <a:lnTo>
                    <a:pt x="1826" y="851"/>
                  </a:lnTo>
                  <a:lnTo>
                    <a:pt x="1826" y="863"/>
                  </a:lnTo>
                  <a:lnTo>
                    <a:pt x="1823" y="874"/>
                  </a:lnTo>
                  <a:lnTo>
                    <a:pt x="1820" y="884"/>
                  </a:lnTo>
                  <a:lnTo>
                    <a:pt x="1815" y="893"/>
                  </a:lnTo>
                  <a:lnTo>
                    <a:pt x="1808" y="903"/>
                  </a:lnTo>
                  <a:lnTo>
                    <a:pt x="1801" y="912"/>
                  </a:lnTo>
                  <a:lnTo>
                    <a:pt x="1792" y="920"/>
                  </a:lnTo>
                  <a:lnTo>
                    <a:pt x="1772" y="938"/>
                  </a:lnTo>
                  <a:lnTo>
                    <a:pt x="1748" y="954"/>
                  </a:lnTo>
                  <a:lnTo>
                    <a:pt x="1725" y="971"/>
                  </a:lnTo>
                  <a:lnTo>
                    <a:pt x="1702" y="987"/>
                  </a:lnTo>
                  <a:lnTo>
                    <a:pt x="916" y="92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83" name="Freeform 1390"/>
            <p:cNvSpPr/>
            <p:nvPr/>
          </p:nvSpPr>
          <p:spPr>
            <a:xfrm>
              <a:off x="3332880" y="4636080"/>
              <a:ext cx="426960" cy="149040"/>
            </a:xfrm>
            <a:custGeom>
              <a:avLst/>
              <a:gdLst>
                <a:gd name="textAreaLeft" fmla="*/ 0 w 426960"/>
                <a:gd name="textAreaRight" fmla="*/ 427320 w 426960"/>
                <a:gd name="textAreaTop" fmla="*/ 0 h 149040"/>
                <a:gd name="textAreaBottom" fmla="*/ 149400 h 149040"/>
              </a:gdLst>
              <a:ahLst/>
              <a:rect l="textAreaLeft" t="textAreaTop" r="textAreaRight" b="textAreaBottom"/>
              <a:pathLst>
                <a:path w="2375" h="987">
                  <a:moveTo>
                    <a:pt x="916" y="921"/>
                  </a:moveTo>
                  <a:lnTo>
                    <a:pt x="0" y="826"/>
                  </a:lnTo>
                  <a:lnTo>
                    <a:pt x="16" y="801"/>
                  </a:lnTo>
                  <a:lnTo>
                    <a:pt x="31" y="778"/>
                  </a:lnTo>
                  <a:lnTo>
                    <a:pt x="45" y="756"/>
                  </a:lnTo>
                  <a:lnTo>
                    <a:pt x="61" y="737"/>
                  </a:lnTo>
                  <a:lnTo>
                    <a:pt x="75" y="718"/>
                  </a:lnTo>
                  <a:lnTo>
                    <a:pt x="89" y="702"/>
                  </a:lnTo>
                  <a:lnTo>
                    <a:pt x="101" y="687"/>
                  </a:lnTo>
                  <a:lnTo>
                    <a:pt x="115" y="674"/>
                  </a:lnTo>
                  <a:lnTo>
                    <a:pt x="128" y="661"/>
                  </a:lnTo>
                  <a:lnTo>
                    <a:pt x="140" y="651"/>
                  </a:lnTo>
                  <a:lnTo>
                    <a:pt x="153" y="640"/>
                  </a:lnTo>
                  <a:lnTo>
                    <a:pt x="165" y="632"/>
                  </a:lnTo>
                  <a:lnTo>
                    <a:pt x="176" y="624"/>
                  </a:lnTo>
                  <a:lnTo>
                    <a:pt x="188" y="617"/>
                  </a:lnTo>
                  <a:lnTo>
                    <a:pt x="200" y="611"/>
                  </a:lnTo>
                  <a:lnTo>
                    <a:pt x="211" y="605"/>
                  </a:lnTo>
                  <a:lnTo>
                    <a:pt x="233" y="597"/>
                  </a:lnTo>
                  <a:lnTo>
                    <a:pt x="256" y="590"/>
                  </a:lnTo>
                  <a:lnTo>
                    <a:pt x="277" y="583"/>
                  </a:lnTo>
                  <a:lnTo>
                    <a:pt x="299" y="578"/>
                  </a:lnTo>
                  <a:lnTo>
                    <a:pt x="320" y="572"/>
                  </a:lnTo>
                  <a:lnTo>
                    <a:pt x="341" y="565"/>
                  </a:lnTo>
                  <a:lnTo>
                    <a:pt x="363" y="557"/>
                  </a:lnTo>
                  <a:lnTo>
                    <a:pt x="385" y="547"/>
                  </a:lnTo>
                  <a:lnTo>
                    <a:pt x="410" y="534"/>
                  </a:lnTo>
                  <a:lnTo>
                    <a:pt x="434" y="517"/>
                  </a:lnTo>
                  <a:lnTo>
                    <a:pt x="461" y="500"/>
                  </a:lnTo>
                  <a:lnTo>
                    <a:pt x="487" y="480"/>
                  </a:lnTo>
                  <a:lnTo>
                    <a:pt x="514" y="458"/>
                  </a:lnTo>
                  <a:lnTo>
                    <a:pt x="541" y="434"/>
                  </a:lnTo>
                  <a:lnTo>
                    <a:pt x="568" y="411"/>
                  </a:lnTo>
                  <a:lnTo>
                    <a:pt x="593" y="388"/>
                  </a:lnTo>
                  <a:lnTo>
                    <a:pt x="642" y="340"/>
                  </a:lnTo>
                  <a:lnTo>
                    <a:pt x="686" y="298"/>
                  </a:lnTo>
                  <a:lnTo>
                    <a:pt x="719" y="263"/>
                  </a:lnTo>
                  <a:lnTo>
                    <a:pt x="743" y="238"/>
                  </a:lnTo>
                  <a:lnTo>
                    <a:pt x="752" y="231"/>
                  </a:lnTo>
                  <a:lnTo>
                    <a:pt x="761" y="225"/>
                  </a:lnTo>
                  <a:lnTo>
                    <a:pt x="771" y="222"/>
                  </a:lnTo>
                  <a:lnTo>
                    <a:pt x="780" y="219"/>
                  </a:lnTo>
                  <a:lnTo>
                    <a:pt x="800" y="216"/>
                  </a:lnTo>
                  <a:lnTo>
                    <a:pt x="821" y="212"/>
                  </a:lnTo>
                  <a:lnTo>
                    <a:pt x="833" y="210"/>
                  </a:lnTo>
                  <a:lnTo>
                    <a:pt x="843" y="205"/>
                  </a:lnTo>
                  <a:lnTo>
                    <a:pt x="855" y="200"/>
                  </a:lnTo>
                  <a:lnTo>
                    <a:pt x="867" y="191"/>
                  </a:lnTo>
                  <a:lnTo>
                    <a:pt x="877" y="181"/>
                  </a:lnTo>
                  <a:lnTo>
                    <a:pt x="889" y="167"/>
                  </a:lnTo>
                  <a:lnTo>
                    <a:pt x="902" y="151"/>
                  </a:lnTo>
                  <a:lnTo>
                    <a:pt x="913" y="130"/>
                  </a:lnTo>
                  <a:lnTo>
                    <a:pt x="924" y="110"/>
                  </a:lnTo>
                  <a:lnTo>
                    <a:pt x="934" y="92"/>
                  </a:lnTo>
                  <a:lnTo>
                    <a:pt x="947" y="75"/>
                  </a:lnTo>
                  <a:lnTo>
                    <a:pt x="960" y="58"/>
                  </a:lnTo>
                  <a:lnTo>
                    <a:pt x="988" y="28"/>
                  </a:lnTo>
                  <a:lnTo>
                    <a:pt x="1016" y="0"/>
                  </a:lnTo>
                  <a:lnTo>
                    <a:pt x="1192" y="37"/>
                  </a:lnTo>
                  <a:lnTo>
                    <a:pt x="1192" y="49"/>
                  </a:lnTo>
                  <a:lnTo>
                    <a:pt x="1194" y="62"/>
                  </a:lnTo>
                  <a:lnTo>
                    <a:pt x="1195" y="72"/>
                  </a:lnTo>
                  <a:lnTo>
                    <a:pt x="1197" y="83"/>
                  </a:lnTo>
                  <a:lnTo>
                    <a:pt x="1199" y="93"/>
                  </a:lnTo>
                  <a:lnTo>
                    <a:pt x="1203" y="103"/>
                  </a:lnTo>
                  <a:lnTo>
                    <a:pt x="1206" y="112"/>
                  </a:lnTo>
                  <a:lnTo>
                    <a:pt x="1210" y="120"/>
                  </a:lnTo>
                  <a:lnTo>
                    <a:pt x="1215" y="127"/>
                  </a:lnTo>
                  <a:lnTo>
                    <a:pt x="1219" y="134"/>
                  </a:lnTo>
                  <a:lnTo>
                    <a:pt x="1224" y="141"/>
                  </a:lnTo>
                  <a:lnTo>
                    <a:pt x="1230" y="147"/>
                  </a:lnTo>
                  <a:lnTo>
                    <a:pt x="1243" y="159"/>
                  </a:lnTo>
                  <a:lnTo>
                    <a:pt x="1256" y="168"/>
                  </a:lnTo>
                  <a:lnTo>
                    <a:pt x="1270" y="176"/>
                  </a:lnTo>
                  <a:lnTo>
                    <a:pt x="1284" y="183"/>
                  </a:lnTo>
                  <a:lnTo>
                    <a:pt x="1300" y="189"/>
                  </a:lnTo>
                  <a:lnTo>
                    <a:pt x="1315" y="194"/>
                  </a:lnTo>
                  <a:lnTo>
                    <a:pt x="1347" y="201"/>
                  </a:lnTo>
                  <a:lnTo>
                    <a:pt x="1377" y="207"/>
                  </a:lnTo>
                  <a:lnTo>
                    <a:pt x="1400" y="209"/>
                  </a:lnTo>
                  <a:lnTo>
                    <a:pt x="1439" y="209"/>
                  </a:lnTo>
                  <a:lnTo>
                    <a:pt x="1492" y="209"/>
                  </a:lnTo>
                  <a:lnTo>
                    <a:pt x="1556" y="208"/>
                  </a:lnTo>
                  <a:lnTo>
                    <a:pt x="1628" y="205"/>
                  </a:lnTo>
                  <a:lnTo>
                    <a:pt x="1708" y="204"/>
                  </a:lnTo>
                  <a:lnTo>
                    <a:pt x="1792" y="203"/>
                  </a:lnTo>
                  <a:lnTo>
                    <a:pt x="1877" y="203"/>
                  </a:lnTo>
                  <a:lnTo>
                    <a:pt x="1962" y="203"/>
                  </a:lnTo>
                  <a:lnTo>
                    <a:pt x="2046" y="205"/>
                  </a:lnTo>
                  <a:lnTo>
                    <a:pt x="2086" y="208"/>
                  </a:lnTo>
                  <a:lnTo>
                    <a:pt x="2125" y="210"/>
                  </a:lnTo>
                  <a:lnTo>
                    <a:pt x="2161" y="212"/>
                  </a:lnTo>
                  <a:lnTo>
                    <a:pt x="2196" y="216"/>
                  </a:lnTo>
                  <a:lnTo>
                    <a:pt x="2227" y="221"/>
                  </a:lnTo>
                  <a:lnTo>
                    <a:pt x="2258" y="225"/>
                  </a:lnTo>
                  <a:lnTo>
                    <a:pt x="2285" y="230"/>
                  </a:lnTo>
                  <a:lnTo>
                    <a:pt x="2308" y="237"/>
                  </a:lnTo>
                  <a:lnTo>
                    <a:pt x="2328" y="244"/>
                  </a:lnTo>
                  <a:lnTo>
                    <a:pt x="2344" y="251"/>
                  </a:lnTo>
                  <a:lnTo>
                    <a:pt x="2357" y="260"/>
                  </a:lnTo>
                  <a:lnTo>
                    <a:pt x="2364" y="270"/>
                  </a:lnTo>
                  <a:lnTo>
                    <a:pt x="2370" y="280"/>
                  </a:lnTo>
                  <a:lnTo>
                    <a:pt x="2373" y="288"/>
                  </a:lnTo>
                  <a:lnTo>
                    <a:pt x="2375" y="298"/>
                  </a:lnTo>
                  <a:lnTo>
                    <a:pt x="2375" y="306"/>
                  </a:lnTo>
                  <a:lnTo>
                    <a:pt x="2373" y="313"/>
                  </a:lnTo>
                  <a:lnTo>
                    <a:pt x="2370" y="320"/>
                  </a:lnTo>
                  <a:lnTo>
                    <a:pt x="2366" y="327"/>
                  </a:lnTo>
                  <a:lnTo>
                    <a:pt x="2361" y="333"/>
                  </a:lnTo>
                  <a:lnTo>
                    <a:pt x="2355" y="339"/>
                  </a:lnTo>
                  <a:lnTo>
                    <a:pt x="2347" y="343"/>
                  </a:lnTo>
                  <a:lnTo>
                    <a:pt x="2338" y="348"/>
                  </a:lnTo>
                  <a:lnTo>
                    <a:pt x="2329" y="353"/>
                  </a:lnTo>
                  <a:lnTo>
                    <a:pt x="2308" y="362"/>
                  </a:lnTo>
                  <a:lnTo>
                    <a:pt x="2285" y="369"/>
                  </a:lnTo>
                  <a:lnTo>
                    <a:pt x="2233" y="382"/>
                  </a:lnTo>
                  <a:lnTo>
                    <a:pt x="2180" y="395"/>
                  </a:lnTo>
                  <a:lnTo>
                    <a:pt x="2153" y="401"/>
                  </a:lnTo>
                  <a:lnTo>
                    <a:pt x="2129" y="408"/>
                  </a:lnTo>
                  <a:lnTo>
                    <a:pt x="2107" y="415"/>
                  </a:lnTo>
                  <a:lnTo>
                    <a:pt x="2088" y="423"/>
                  </a:lnTo>
                  <a:lnTo>
                    <a:pt x="2059" y="438"/>
                  </a:lnTo>
                  <a:lnTo>
                    <a:pt x="2039" y="448"/>
                  </a:lnTo>
                  <a:lnTo>
                    <a:pt x="2034" y="453"/>
                  </a:lnTo>
                  <a:lnTo>
                    <a:pt x="2029" y="457"/>
                  </a:lnTo>
                  <a:lnTo>
                    <a:pt x="2027" y="461"/>
                  </a:lnTo>
                  <a:lnTo>
                    <a:pt x="2025" y="466"/>
                  </a:lnTo>
                  <a:lnTo>
                    <a:pt x="2027" y="471"/>
                  </a:lnTo>
                  <a:lnTo>
                    <a:pt x="2028" y="475"/>
                  </a:lnTo>
                  <a:lnTo>
                    <a:pt x="2031" y="481"/>
                  </a:lnTo>
                  <a:lnTo>
                    <a:pt x="2035" y="489"/>
                  </a:lnTo>
                  <a:lnTo>
                    <a:pt x="2045" y="507"/>
                  </a:lnTo>
                  <a:lnTo>
                    <a:pt x="2057" y="533"/>
                  </a:lnTo>
                  <a:lnTo>
                    <a:pt x="2062" y="547"/>
                  </a:lnTo>
                  <a:lnTo>
                    <a:pt x="2064" y="559"/>
                  </a:lnTo>
                  <a:lnTo>
                    <a:pt x="2065" y="571"/>
                  </a:lnTo>
                  <a:lnTo>
                    <a:pt x="2064" y="583"/>
                  </a:lnTo>
                  <a:lnTo>
                    <a:pt x="2060" y="593"/>
                  </a:lnTo>
                  <a:lnTo>
                    <a:pt x="2056" y="603"/>
                  </a:lnTo>
                  <a:lnTo>
                    <a:pt x="2049" y="612"/>
                  </a:lnTo>
                  <a:lnTo>
                    <a:pt x="2041" y="620"/>
                  </a:lnTo>
                  <a:lnTo>
                    <a:pt x="2031" y="628"/>
                  </a:lnTo>
                  <a:lnTo>
                    <a:pt x="2021" y="636"/>
                  </a:lnTo>
                  <a:lnTo>
                    <a:pt x="2009" y="645"/>
                  </a:lnTo>
                  <a:lnTo>
                    <a:pt x="1995" y="653"/>
                  </a:lnTo>
                  <a:lnTo>
                    <a:pt x="1966" y="668"/>
                  </a:lnTo>
                  <a:lnTo>
                    <a:pt x="1933" y="684"/>
                  </a:lnTo>
                  <a:lnTo>
                    <a:pt x="1916" y="694"/>
                  </a:lnTo>
                  <a:lnTo>
                    <a:pt x="1900" y="702"/>
                  </a:lnTo>
                  <a:lnTo>
                    <a:pt x="1888" y="711"/>
                  </a:lnTo>
                  <a:lnTo>
                    <a:pt x="1875" y="721"/>
                  </a:lnTo>
                  <a:lnTo>
                    <a:pt x="1863" y="729"/>
                  </a:lnTo>
                  <a:lnTo>
                    <a:pt x="1854" y="738"/>
                  </a:lnTo>
                  <a:lnTo>
                    <a:pt x="1845" y="747"/>
                  </a:lnTo>
                  <a:lnTo>
                    <a:pt x="1837" y="757"/>
                  </a:lnTo>
                  <a:lnTo>
                    <a:pt x="1831" y="767"/>
                  </a:lnTo>
                  <a:lnTo>
                    <a:pt x="1827" y="777"/>
                  </a:lnTo>
                  <a:lnTo>
                    <a:pt x="1823" y="787"/>
                  </a:lnTo>
                  <a:lnTo>
                    <a:pt x="1821" y="797"/>
                  </a:lnTo>
                  <a:lnTo>
                    <a:pt x="1820" y="807"/>
                  </a:lnTo>
                  <a:lnTo>
                    <a:pt x="1820" y="819"/>
                  </a:lnTo>
                  <a:lnTo>
                    <a:pt x="1821" y="829"/>
                  </a:lnTo>
                  <a:lnTo>
                    <a:pt x="1823" y="841"/>
                  </a:lnTo>
                  <a:lnTo>
                    <a:pt x="1826" y="851"/>
                  </a:lnTo>
                  <a:lnTo>
                    <a:pt x="1826" y="863"/>
                  </a:lnTo>
                  <a:lnTo>
                    <a:pt x="1823" y="874"/>
                  </a:lnTo>
                  <a:lnTo>
                    <a:pt x="1820" y="884"/>
                  </a:lnTo>
                  <a:lnTo>
                    <a:pt x="1815" y="893"/>
                  </a:lnTo>
                  <a:lnTo>
                    <a:pt x="1808" y="903"/>
                  </a:lnTo>
                  <a:lnTo>
                    <a:pt x="1801" y="912"/>
                  </a:lnTo>
                  <a:lnTo>
                    <a:pt x="1792" y="920"/>
                  </a:lnTo>
                  <a:lnTo>
                    <a:pt x="1772" y="938"/>
                  </a:lnTo>
                  <a:lnTo>
                    <a:pt x="1748" y="954"/>
                  </a:lnTo>
                  <a:lnTo>
                    <a:pt x="1725" y="971"/>
                  </a:lnTo>
                  <a:lnTo>
                    <a:pt x="1702" y="987"/>
                  </a:lnTo>
                  <a:lnTo>
                    <a:pt x="916" y="921"/>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84" name="Freeform 1391"/>
            <p:cNvSpPr/>
            <p:nvPr/>
          </p:nvSpPr>
          <p:spPr>
            <a:xfrm>
              <a:off x="3384360" y="4775400"/>
              <a:ext cx="371880" cy="295920"/>
            </a:xfrm>
            <a:custGeom>
              <a:avLst/>
              <a:gdLst>
                <a:gd name="textAreaLeft" fmla="*/ 0 w 371880"/>
                <a:gd name="textAreaRight" fmla="*/ 372240 w 371880"/>
                <a:gd name="textAreaTop" fmla="*/ 0 h 295920"/>
                <a:gd name="textAreaBottom" fmla="*/ 296280 h 295920"/>
              </a:gdLst>
              <a:ahLst/>
              <a:rect l="textAreaLeft" t="textAreaTop" r="textAreaRight" b="textAreaBottom"/>
              <a:pathLst>
                <a:path w="2069" h="1958">
                  <a:moveTo>
                    <a:pt x="564" y="1958"/>
                  </a:moveTo>
                  <a:lnTo>
                    <a:pt x="0" y="712"/>
                  </a:lnTo>
                  <a:lnTo>
                    <a:pt x="631" y="0"/>
                  </a:lnTo>
                  <a:lnTo>
                    <a:pt x="1417" y="66"/>
                  </a:lnTo>
                  <a:lnTo>
                    <a:pt x="1517" y="82"/>
                  </a:lnTo>
                  <a:lnTo>
                    <a:pt x="1617" y="96"/>
                  </a:lnTo>
                  <a:lnTo>
                    <a:pt x="1712" y="108"/>
                  </a:lnTo>
                  <a:lnTo>
                    <a:pt x="1803" y="120"/>
                  </a:lnTo>
                  <a:lnTo>
                    <a:pt x="1886" y="129"/>
                  </a:lnTo>
                  <a:lnTo>
                    <a:pt x="1959" y="139"/>
                  </a:lnTo>
                  <a:lnTo>
                    <a:pt x="1991" y="145"/>
                  </a:lnTo>
                  <a:lnTo>
                    <a:pt x="2021" y="150"/>
                  </a:lnTo>
                  <a:lnTo>
                    <a:pt x="2046" y="156"/>
                  </a:lnTo>
                  <a:lnTo>
                    <a:pt x="2069" y="162"/>
                  </a:lnTo>
                  <a:lnTo>
                    <a:pt x="1034" y="1685"/>
                  </a:lnTo>
                  <a:lnTo>
                    <a:pt x="1011" y="1680"/>
                  </a:lnTo>
                  <a:lnTo>
                    <a:pt x="990" y="1676"/>
                  </a:lnTo>
                  <a:lnTo>
                    <a:pt x="969" y="1673"/>
                  </a:lnTo>
                  <a:lnTo>
                    <a:pt x="950" y="1672"/>
                  </a:lnTo>
                  <a:lnTo>
                    <a:pt x="931" y="1671"/>
                  </a:lnTo>
                  <a:lnTo>
                    <a:pt x="913" y="1672"/>
                  </a:lnTo>
                  <a:lnTo>
                    <a:pt x="896" y="1673"/>
                  </a:lnTo>
                  <a:lnTo>
                    <a:pt x="879" y="1677"/>
                  </a:lnTo>
                  <a:lnTo>
                    <a:pt x="863" y="1680"/>
                  </a:lnTo>
                  <a:lnTo>
                    <a:pt x="848" y="1685"/>
                  </a:lnTo>
                  <a:lnTo>
                    <a:pt x="833" y="1690"/>
                  </a:lnTo>
                  <a:lnTo>
                    <a:pt x="819" y="1697"/>
                  </a:lnTo>
                  <a:lnTo>
                    <a:pt x="805" y="1704"/>
                  </a:lnTo>
                  <a:lnTo>
                    <a:pt x="792" y="1712"/>
                  </a:lnTo>
                  <a:lnTo>
                    <a:pt x="779" y="1720"/>
                  </a:lnTo>
                  <a:lnTo>
                    <a:pt x="766" y="1730"/>
                  </a:lnTo>
                  <a:lnTo>
                    <a:pt x="753" y="1740"/>
                  </a:lnTo>
                  <a:lnTo>
                    <a:pt x="740" y="1751"/>
                  </a:lnTo>
                  <a:lnTo>
                    <a:pt x="729" y="1763"/>
                  </a:lnTo>
                  <a:lnTo>
                    <a:pt x="717" y="1775"/>
                  </a:lnTo>
                  <a:lnTo>
                    <a:pt x="693" y="1802"/>
                  </a:lnTo>
                  <a:lnTo>
                    <a:pt x="669" y="1830"/>
                  </a:lnTo>
                  <a:lnTo>
                    <a:pt x="619" y="1892"/>
                  </a:lnTo>
                  <a:lnTo>
                    <a:pt x="564" y="195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85" name="Freeform 1392"/>
            <p:cNvSpPr/>
            <p:nvPr/>
          </p:nvSpPr>
          <p:spPr>
            <a:xfrm>
              <a:off x="3384360" y="4775400"/>
              <a:ext cx="371880" cy="295920"/>
            </a:xfrm>
            <a:custGeom>
              <a:avLst/>
              <a:gdLst>
                <a:gd name="textAreaLeft" fmla="*/ 0 w 371880"/>
                <a:gd name="textAreaRight" fmla="*/ 372240 w 371880"/>
                <a:gd name="textAreaTop" fmla="*/ 0 h 295920"/>
                <a:gd name="textAreaBottom" fmla="*/ 296280 h 295920"/>
              </a:gdLst>
              <a:ahLst/>
              <a:rect l="textAreaLeft" t="textAreaTop" r="textAreaRight" b="textAreaBottom"/>
              <a:pathLst>
                <a:path w="2069" h="1958">
                  <a:moveTo>
                    <a:pt x="564" y="1958"/>
                  </a:moveTo>
                  <a:lnTo>
                    <a:pt x="0" y="712"/>
                  </a:lnTo>
                  <a:lnTo>
                    <a:pt x="631" y="0"/>
                  </a:lnTo>
                  <a:lnTo>
                    <a:pt x="1417" y="66"/>
                  </a:lnTo>
                  <a:lnTo>
                    <a:pt x="1517" y="82"/>
                  </a:lnTo>
                  <a:lnTo>
                    <a:pt x="1617" y="96"/>
                  </a:lnTo>
                  <a:lnTo>
                    <a:pt x="1712" y="108"/>
                  </a:lnTo>
                  <a:lnTo>
                    <a:pt x="1803" y="120"/>
                  </a:lnTo>
                  <a:lnTo>
                    <a:pt x="1886" y="129"/>
                  </a:lnTo>
                  <a:lnTo>
                    <a:pt x="1959" y="139"/>
                  </a:lnTo>
                  <a:lnTo>
                    <a:pt x="1991" y="145"/>
                  </a:lnTo>
                  <a:lnTo>
                    <a:pt x="2021" y="150"/>
                  </a:lnTo>
                  <a:lnTo>
                    <a:pt x="2046" y="156"/>
                  </a:lnTo>
                  <a:lnTo>
                    <a:pt x="2069" y="162"/>
                  </a:lnTo>
                  <a:lnTo>
                    <a:pt x="1034" y="1685"/>
                  </a:lnTo>
                  <a:lnTo>
                    <a:pt x="1011" y="1680"/>
                  </a:lnTo>
                  <a:lnTo>
                    <a:pt x="990" y="1676"/>
                  </a:lnTo>
                  <a:lnTo>
                    <a:pt x="969" y="1673"/>
                  </a:lnTo>
                  <a:lnTo>
                    <a:pt x="950" y="1672"/>
                  </a:lnTo>
                  <a:lnTo>
                    <a:pt x="931" y="1671"/>
                  </a:lnTo>
                  <a:lnTo>
                    <a:pt x="913" y="1672"/>
                  </a:lnTo>
                  <a:lnTo>
                    <a:pt x="896" y="1673"/>
                  </a:lnTo>
                  <a:lnTo>
                    <a:pt x="879" y="1677"/>
                  </a:lnTo>
                  <a:lnTo>
                    <a:pt x="863" y="1680"/>
                  </a:lnTo>
                  <a:lnTo>
                    <a:pt x="848" y="1685"/>
                  </a:lnTo>
                  <a:lnTo>
                    <a:pt x="833" y="1690"/>
                  </a:lnTo>
                  <a:lnTo>
                    <a:pt x="819" y="1697"/>
                  </a:lnTo>
                  <a:lnTo>
                    <a:pt x="805" y="1704"/>
                  </a:lnTo>
                  <a:lnTo>
                    <a:pt x="792" y="1712"/>
                  </a:lnTo>
                  <a:lnTo>
                    <a:pt x="779" y="1720"/>
                  </a:lnTo>
                  <a:lnTo>
                    <a:pt x="766" y="1730"/>
                  </a:lnTo>
                  <a:lnTo>
                    <a:pt x="753" y="1740"/>
                  </a:lnTo>
                  <a:lnTo>
                    <a:pt x="740" y="1751"/>
                  </a:lnTo>
                  <a:lnTo>
                    <a:pt x="729" y="1763"/>
                  </a:lnTo>
                  <a:lnTo>
                    <a:pt x="717" y="1775"/>
                  </a:lnTo>
                  <a:lnTo>
                    <a:pt x="693" y="1802"/>
                  </a:lnTo>
                  <a:lnTo>
                    <a:pt x="669" y="1830"/>
                  </a:lnTo>
                  <a:lnTo>
                    <a:pt x="619" y="1892"/>
                  </a:lnTo>
                  <a:lnTo>
                    <a:pt x="564" y="1958"/>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86" name="Freeform 1393"/>
            <p:cNvSpPr/>
            <p:nvPr/>
          </p:nvSpPr>
          <p:spPr>
            <a:xfrm>
              <a:off x="3598200" y="4799520"/>
              <a:ext cx="349560" cy="203400"/>
            </a:xfrm>
            <a:custGeom>
              <a:avLst/>
              <a:gdLst>
                <a:gd name="textAreaLeft" fmla="*/ 0 w 349560"/>
                <a:gd name="textAreaRight" fmla="*/ 349920 w 349560"/>
                <a:gd name="textAreaTop" fmla="*/ 0 h 203400"/>
                <a:gd name="textAreaBottom" fmla="*/ 203760 h 203400"/>
              </a:gdLst>
              <a:ahLst/>
              <a:rect l="textAreaLeft" t="textAreaTop" r="textAreaRight" b="textAreaBottom"/>
              <a:pathLst>
                <a:path w="1947" h="1344">
                  <a:moveTo>
                    <a:pt x="0" y="1293"/>
                  </a:moveTo>
                  <a:lnTo>
                    <a:pt x="1418" y="1344"/>
                  </a:lnTo>
                  <a:lnTo>
                    <a:pt x="1947" y="285"/>
                  </a:lnTo>
                  <a:lnTo>
                    <a:pt x="1509" y="253"/>
                  </a:lnTo>
                  <a:lnTo>
                    <a:pt x="1556" y="65"/>
                  </a:lnTo>
                  <a:lnTo>
                    <a:pt x="880" y="0"/>
                  </a:lnTo>
                  <a:lnTo>
                    <a:pt x="0" y="129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87" name="Freeform 1394"/>
            <p:cNvSpPr/>
            <p:nvPr/>
          </p:nvSpPr>
          <p:spPr>
            <a:xfrm>
              <a:off x="3598200" y="4799520"/>
              <a:ext cx="349560" cy="203400"/>
            </a:xfrm>
            <a:custGeom>
              <a:avLst/>
              <a:gdLst>
                <a:gd name="textAreaLeft" fmla="*/ 0 w 349560"/>
                <a:gd name="textAreaRight" fmla="*/ 349920 w 349560"/>
                <a:gd name="textAreaTop" fmla="*/ 0 h 203400"/>
                <a:gd name="textAreaBottom" fmla="*/ 203760 h 203400"/>
              </a:gdLst>
              <a:ahLst/>
              <a:rect l="textAreaLeft" t="textAreaTop" r="textAreaRight" b="textAreaBottom"/>
              <a:pathLst>
                <a:path w="1947" h="1344">
                  <a:moveTo>
                    <a:pt x="0" y="1293"/>
                  </a:moveTo>
                  <a:lnTo>
                    <a:pt x="1418" y="1344"/>
                  </a:lnTo>
                  <a:lnTo>
                    <a:pt x="1947" y="285"/>
                  </a:lnTo>
                  <a:lnTo>
                    <a:pt x="1509" y="253"/>
                  </a:lnTo>
                  <a:lnTo>
                    <a:pt x="1556" y="65"/>
                  </a:lnTo>
                  <a:lnTo>
                    <a:pt x="880" y="0"/>
                  </a:lnTo>
                  <a:lnTo>
                    <a:pt x="0" y="1293"/>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88" name="Freeform 1395"/>
            <p:cNvSpPr/>
            <p:nvPr/>
          </p:nvSpPr>
          <p:spPr>
            <a:xfrm>
              <a:off x="3515400" y="4577760"/>
              <a:ext cx="306360" cy="99000"/>
            </a:xfrm>
            <a:custGeom>
              <a:avLst/>
              <a:gdLst>
                <a:gd name="textAreaLeft" fmla="*/ 0 w 306360"/>
                <a:gd name="textAreaRight" fmla="*/ 306720 w 306360"/>
                <a:gd name="textAreaTop" fmla="*/ 0 h 99000"/>
                <a:gd name="textAreaBottom" fmla="*/ 99360 h 99000"/>
              </a:gdLst>
              <a:ahLst/>
              <a:rect l="textAreaLeft" t="textAreaTop" r="textAreaRight" b="textAreaBottom"/>
              <a:pathLst>
                <a:path w="1706" h="651">
                  <a:moveTo>
                    <a:pt x="1348" y="651"/>
                  </a:moveTo>
                  <a:lnTo>
                    <a:pt x="1341" y="641"/>
                  </a:lnTo>
                  <a:lnTo>
                    <a:pt x="1328" y="632"/>
                  </a:lnTo>
                  <a:lnTo>
                    <a:pt x="1312" y="625"/>
                  </a:lnTo>
                  <a:lnTo>
                    <a:pt x="1292" y="618"/>
                  </a:lnTo>
                  <a:lnTo>
                    <a:pt x="1269" y="611"/>
                  </a:lnTo>
                  <a:lnTo>
                    <a:pt x="1242" y="606"/>
                  </a:lnTo>
                  <a:lnTo>
                    <a:pt x="1211" y="602"/>
                  </a:lnTo>
                  <a:lnTo>
                    <a:pt x="1180" y="597"/>
                  </a:lnTo>
                  <a:lnTo>
                    <a:pt x="1145" y="593"/>
                  </a:lnTo>
                  <a:lnTo>
                    <a:pt x="1109" y="591"/>
                  </a:lnTo>
                  <a:lnTo>
                    <a:pt x="1070" y="589"/>
                  </a:lnTo>
                  <a:lnTo>
                    <a:pt x="1030" y="586"/>
                  </a:lnTo>
                  <a:lnTo>
                    <a:pt x="946" y="584"/>
                  </a:lnTo>
                  <a:lnTo>
                    <a:pt x="861" y="584"/>
                  </a:lnTo>
                  <a:lnTo>
                    <a:pt x="776" y="584"/>
                  </a:lnTo>
                  <a:lnTo>
                    <a:pt x="692" y="585"/>
                  </a:lnTo>
                  <a:lnTo>
                    <a:pt x="612" y="586"/>
                  </a:lnTo>
                  <a:lnTo>
                    <a:pt x="540" y="589"/>
                  </a:lnTo>
                  <a:lnTo>
                    <a:pt x="476" y="590"/>
                  </a:lnTo>
                  <a:lnTo>
                    <a:pt x="423" y="590"/>
                  </a:lnTo>
                  <a:lnTo>
                    <a:pt x="384" y="590"/>
                  </a:lnTo>
                  <a:lnTo>
                    <a:pt x="361" y="588"/>
                  </a:lnTo>
                  <a:lnTo>
                    <a:pt x="331" y="582"/>
                  </a:lnTo>
                  <a:lnTo>
                    <a:pt x="299" y="575"/>
                  </a:lnTo>
                  <a:lnTo>
                    <a:pt x="284" y="570"/>
                  </a:lnTo>
                  <a:lnTo>
                    <a:pt x="268" y="564"/>
                  </a:lnTo>
                  <a:lnTo>
                    <a:pt x="254" y="557"/>
                  </a:lnTo>
                  <a:lnTo>
                    <a:pt x="240" y="549"/>
                  </a:lnTo>
                  <a:lnTo>
                    <a:pt x="227" y="540"/>
                  </a:lnTo>
                  <a:lnTo>
                    <a:pt x="214" y="528"/>
                  </a:lnTo>
                  <a:lnTo>
                    <a:pt x="208" y="522"/>
                  </a:lnTo>
                  <a:lnTo>
                    <a:pt x="203" y="515"/>
                  </a:lnTo>
                  <a:lnTo>
                    <a:pt x="199" y="508"/>
                  </a:lnTo>
                  <a:lnTo>
                    <a:pt x="194" y="501"/>
                  </a:lnTo>
                  <a:lnTo>
                    <a:pt x="190" y="493"/>
                  </a:lnTo>
                  <a:lnTo>
                    <a:pt x="187" y="484"/>
                  </a:lnTo>
                  <a:lnTo>
                    <a:pt x="183" y="474"/>
                  </a:lnTo>
                  <a:lnTo>
                    <a:pt x="181" y="464"/>
                  </a:lnTo>
                  <a:lnTo>
                    <a:pt x="179" y="453"/>
                  </a:lnTo>
                  <a:lnTo>
                    <a:pt x="178" y="443"/>
                  </a:lnTo>
                  <a:lnTo>
                    <a:pt x="176" y="430"/>
                  </a:lnTo>
                  <a:lnTo>
                    <a:pt x="176" y="418"/>
                  </a:lnTo>
                  <a:lnTo>
                    <a:pt x="0" y="381"/>
                  </a:lnTo>
                  <a:lnTo>
                    <a:pt x="19" y="363"/>
                  </a:lnTo>
                  <a:lnTo>
                    <a:pt x="36" y="347"/>
                  </a:lnTo>
                  <a:lnTo>
                    <a:pt x="53" y="329"/>
                  </a:lnTo>
                  <a:lnTo>
                    <a:pt x="69" y="312"/>
                  </a:lnTo>
                  <a:lnTo>
                    <a:pt x="83" y="294"/>
                  </a:lnTo>
                  <a:lnTo>
                    <a:pt x="95" y="276"/>
                  </a:lnTo>
                  <a:lnTo>
                    <a:pt x="101" y="265"/>
                  </a:lnTo>
                  <a:lnTo>
                    <a:pt x="105" y="256"/>
                  </a:lnTo>
                  <a:lnTo>
                    <a:pt x="110" y="244"/>
                  </a:lnTo>
                  <a:lnTo>
                    <a:pt x="113" y="234"/>
                  </a:lnTo>
                  <a:lnTo>
                    <a:pt x="119" y="214"/>
                  </a:lnTo>
                  <a:lnTo>
                    <a:pt x="126" y="194"/>
                  </a:lnTo>
                  <a:lnTo>
                    <a:pt x="133" y="175"/>
                  </a:lnTo>
                  <a:lnTo>
                    <a:pt x="141" y="158"/>
                  </a:lnTo>
                  <a:lnTo>
                    <a:pt x="150" y="141"/>
                  </a:lnTo>
                  <a:lnTo>
                    <a:pt x="159" y="126"/>
                  </a:lnTo>
                  <a:lnTo>
                    <a:pt x="167" y="112"/>
                  </a:lnTo>
                  <a:lnTo>
                    <a:pt x="176" y="99"/>
                  </a:lnTo>
                  <a:lnTo>
                    <a:pt x="186" y="88"/>
                  </a:lnTo>
                  <a:lnTo>
                    <a:pt x="195" y="77"/>
                  </a:lnTo>
                  <a:lnTo>
                    <a:pt x="205" y="68"/>
                  </a:lnTo>
                  <a:lnTo>
                    <a:pt x="215" y="60"/>
                  </a:lnTo>
                  <a:lnTo>
                    <a:pt x="224" y="54"/>
                  </a:lnTo>
                  <a:lnTo>
                    <a:pt x="234" y="50"/>
                  </a:lnTo>
                  <a:lnTo>
                    <a:pt x="242" y="47"/>
                  </a:lnTo>
                  <a:lnTo>
                    <a:pt x="251" y="47"/>
                  </a:lnTo>
                  <a:lnTo>
                    <a:pt x="259" y="47"/>
                  </a:lnTo>
                  <a:lnTo>
                    <a:pt x="269" y="49"/>
                  </a:lnTo>
                  <a:lnTo>
                    <a:pt x="277" y="54"/>
                  </a:lnTo>
                  <a:lnTo>
                    <a:pt x="285" y="59"/>
                  </a:lnTo>
                  <a:lnTo>
                    <a:pt x="293" y="64"/>
                  </a:lnTo>
                  <a:lnTo>
                    <a:pt x="301" y="71"/>
                  </a:lnTo>
                  <a:lnTo>
                    <a:pt x="308" y="78"/>
                  </a:lnTo>
                  <a:lnTo>
                    <a:pt x="315" y="85"/>
                  </a:lnTo>
                  <a:lnTo>
                    <a:pt x="338" y="112"/>
                  </a:lnTo>
                  <a:lnTo>
                    <a:pt x="346" y="124"/>
                  </a:lnTo>
                  <a:lnTo>
                    <a:pt x="356" y="125"/>
                  </a:lnTo>
                  <a:lnTo>
                    <a:pt x="384" y="129"/>
                  </a:lnTo>
                  <a:lnTo>
                    <a:pt x="425" y="132"/>
                  </a:lnTo>
                  <a:lnTo>
                    <a:pt x="473" y="134"/>
                  </a:lnTo>
                  <a:lnTo>
                    <a:pt x="497" y="134"/>
                  </a:lnTo>
                  <a:lnTo>
                    <a:pt x="521" y="134"/>
                  </a:lnTo>
                  <a:lnTo>
                    <a:pt x="544" y="133"/>
                  </a:lnTo>
                  <a:lnTo>
                    <a:pt x="567" y="131"/>
                  </a:lnTo>
                  <a:lnTo>
                    <a:pt x="585" y="129"/>
                  </a:lnTo>
                  <a:lnTo>
                    <a:pt x="602" y="124"/>
                  </a:lnTo>
                  <a:lnTo>
                    <a:pt x="609" y="120"/>
                  </a:lnTo>
                  <a:lnTo>
                    <a:pt x="615" y="117"/>
                  </a:lnTo>
                  <a:lnTo>
                    <a:pt x="619" y="113"/>
                  </a:lnTo>
                  <a:lnTo>
                    <a:pt x="623" y="110"/>
                  </a:lnTo>
                  <a:lnTo>
                    <a:pt x="643" y="80"/>
                  </a:lnTo>
                  <a:lnTo>
                    <a:pt x="658" y="55"/>
                  </a:lnTo>
                  <a:lnTo>
                    <a:pt x="667" y="43"/>
                  </a:lnTo>
                  <a:lnTo>
                    <a:pt x="680" y="30"/>
                  </a:lnTo>
                  <a:lnTo>
                    <a:pt x="695" y="16"/>
                  </a:lnTo>
                  <a:lnTo>
                    <a:pt x="715" y="0"/>
                  </a:lnTo>
                  <a:lnTo>
                    <a:pt x="764" y="5"/>
                  </a:lnTo>
                  <a:lnTo>
                    <a:pt x="815" y="8"/>
                  </a:lnTo>
                  <a:lnTo>
                    <a:pt x="869" y="13"/>
                  </a:lnTo>
                  <a:lnTo>
                    <a:pt x="924" y="16"/>
                  </a:lnTo>
                  <a:lnTo>
                    <a:pt x="981" y="21"/>
                  </a:lnTo>
                  <a:lnTo>
                    <a:pt x="1040" y="25"/>
                  </a:lnTo>
                  <a:lnTo>
                    <a:pt x="1100" y="28"/>
                  </a:lnTo>
                  <a:lnTo>
                    <a:pt x="1161" y="33"/>
                  </a:lnTo>
                  <a:lnTo>
                    <a:pt x="1225" y="36"/>
                  </a:lnTo>
                  <a:lnTo>
                    <a:pt x="1290" y="40"/>
                  </a:lnTo>
                  <a:lnTo>
                    <a:pt x="1356" y="43"/>
                  </a:lnTo>
                  <a:lnTo>
                    <a:pt x="1423" y="46"/>
                  </a:lnTo>
                  <a:lnTo>
                    <a:pt x="1492" y="49"/>
                  </a:lnTo>
                  <a:lnTo>
                    <a:pt x="1562" y="53"/>
                  </a:lnTo>
                  <a:lnTo>
                    <a:pt x="1633" y="55"/>
                  </a:lnTo>
                  <a:lnTo>
                    <a:pt x="1706" y="57"/>
                  </a:lnTo>
                  <a:lnTo>
                    <a:pt x="1688" y="77"/>
                  </a:lnTo>
                  <a:lnTo>
                    <a:pt x="1644" y="131"/>
                  </a:lnTo>
                  <a:lnTo>
                    <a:pt x="1613" y="167"/>
                  </a:lnTo>
                  <a:lnTo>
                    <a:pt x="1581" y="208"/>
                  </a:lnTo>
                  <a:lnTo>
                    <a:pt x="1546" y="254"/>
                  </a:lnTo>
                  <a:lnTo>
                    <a:pt x="1509" y="301"/>
                  </a:lnTo>
                  <a:lnTo>
                    <a:pt x="1474" y="352"/>
                  </a:lnTo>
                  <a:lnTo>
                    <a:pt x="1442" y="402"/>
                  </a:lnTo>
                  <a:lnTo>
                    <a:pt x="1425" y="426"/>
                  </a:lnTo>
                  <a:lnTo>
                    <a:pt x="1411" y="451"/>
                  </a:lnTo>
                  <a:lnTo>
                    <a:pt x="1397" y="476"/>
                  </a:lnTo>
                  <a:lnTo>
                    <a:pt x="1384" y="499"/>
                  </a:lnTo>
                  <a:lnTo>
                    <a:pt x="1374" y="522"/>
                  </a:lnTo>
                  <a:lnTo>
                    <a:pt x="1364" y="544"/>
                  </a:lnTo>
                  <a:lnTo>
                    <a:pt x="1356" y="565"/>
                  </a:lnTo>
                  <a:lnTo>
                    <a:pt x="1350" y="585"/>
                  </a:lnTo>
                  <a:lnTo>
                    <a:pt x="1347" y="604"/>
                  </a:lnTo>
                  <a:lnTo>
                    <a:pt x="1345" y="622"/>
                  </a:lnTo>
                  <a:lnTo>
                    <a:pt x="1346" y="637"/>
                  </a:lnTo>
                  <a:lnTo>
                    <a:pt x="1348" y="65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89" name="Freeform 1396"/>
            <p:cNvSpPr/>
            <p:nvPr/>
          </p:nvSpPr>
          <p:spPr>
            <a:xfrm>
              <a:off x="3515400" y="4577760"/>
              <a:ext cx="306360" cy="99000"/>
            </a:xfrm>
            <a:custGeom>
              <a:avLst/>
              <a:gdLst>
                <a:gd name="textAreaLeft" fmla="*/ 0 w 306360"/>
                <a:gd name="textAreaRight" fmla="*/ 306720 w 306360"/>
                <a:gd name="textAreaTop" fmla="*/ 0 h 99000"/>
                <a:gd name="textAreaBottom" fmla="*/ 99360 h 99000"/>
              </a:gdLst>
              <a:ahLst/>
              <a:rect l="textAreaLeft" t="textAreaTop" r="textAreaRight" b="textAreaBottom"/>
              <a:pathLst>
                <a:path w="1706" h="651">
                  <a:moveTo>
                    <a:pt x="1348" y="651"/>
                  </a:moveTo>
                  <a:lnTo>
                    <a:pt x="1341" y="641"/>
                  </a:lnTo>
                  <a:lnTo>
                    <a:pt x="1328" y="632"/>
                  </a:lnTo>
                  <a:lnTo>
                    <a:pt x="1312" y="625"/>
                  </a:lnTo>
                  <a:lnTo>
                    <a:pt x="1292" y="618"/>
                  </a:lnTo>
                  <a:lnTo>
                    <a:pt x="1269" y="611"/>
                  </a:lnTo>
                  <a:lnTo>
                    <a:pt x="1242" y="606"/>
                  </a:lnTo>
                  <a:lnTo>
                    <a:pt x="1211" y="602"/>
                  </a:lnTo>
                  <a:lnTo>
                    <a:pt x="1180" y="597"/>
                  </a:lnTo>
                  <a:lnTo>
                    <a:pt x="1145" y="593"/>
                  </a:lnTo>
                  <a:lnTo>
                    <a:pt x="1109" y="591"/>
                  </a:lnTo>
                  <a:lnTo>
                    <a:pt x="1070" y="589"/>
                  </a:lnTo>
                  <a:lnTo>
                    <a:pt x="1030" y="586"/>
                  </a:lnTo>
                  <a:lnTo>
                    <a:pt x="946" y="584"/>
                  </a:lnTo>
                  <a:lnTo>
                    <a:pt x="861" y="584"/>
                  </a:lnTo>
                  <a:lnTo>
                    <a:pt x="776" y="584"/>
                  </a:lnTo>
                  <a:lnTo>
                    <a:pt x="692" y="585"/>
                  </a:lnTo>
                  <a:lnTo>
                    <a:pt x="612" y="586"/>
                  </a:lnTo>
                  <a:lnTo>
                    <a:pt x="540" y="589"/>
                  </a:lnTo>
                  <a:lnTo>
                    <a:pt x="476" y="590"/>
                  </a:lnTo>
                  <a:lnTo>
                    <a:pt x="423" y="590"/>
                  </a:lnTo>
                  <a:lnTo>
                    <a:pt x="384" y="590"/>
                  </a:lnTo>
                  <a:lnTo>
                    <a:pt x="361" y="588"/>
                  </a:lnTo>
                  <a:lnTo>
                    <a:pt x="331" y="582"/>
                  </a:lnTo>
                  <a:lnTo>
                    <a:pt x="299" y="575"/>
                  </a:lnTo>
                  <a:lnTo>
                    <a:pt x="284" y="570"/>
                  </a:lnTo>
                  <a:lnTo>
                    <a:pt x="268" y="564"/>
                  </a:lnTo>
                  <a:lnTo>
                    <a:pt x="254" y="557"/>
                  </a:lnTo>
                  <a:lnTo>
                    <a:pt x="240" y="549"/>
                  </a:lnTo>
                  <a:lnTo>
                    <a:pt x="227" y="540"/>
                  </a:lnTo>
                  <a:lnTo>
                    <a:pt x="214" y="528"/>
                  </a:lnTo>
                  <a:lnTo>
                    <a:pt x="208" y="522"/>
                  </a:lnTo>
                  <a:lnTo>
                    <a:pt x="203" y="515"/>
                  </a:lnTo>
                  <a:lnTo>
                    <a:pt x="199" y="508"/>
                  </a:lnTo>
                  <a:lnTo>
                    <a:pt x="194" y="501"/>
                  </a:lnTo>
                  <a:lnTo>
                    <a:pt x="190" y="493"/>
                  </a:lnTo>
                  <a:lnTo>
                    <a:pt x="187" y="484"/>
                  </a:lnTo>
                  <a:lnTo>
                    <a:pt x="183" y="474"/>
                  </a:lnTo>
                  <a:lnTo>
                    <a:pt x="181" y="464"/>
                  </a:lnTo>
                  <a:lnTo>
                    <a:pt x="179" y="453"/>
                  </a:lnTo>
                  <a:lnTo>
                    <a:pt x="178" y="443"/>
                  </a:lnTo>
                  <a:lnTo>
                    <a:pt x="176" y="430"/>
                  </a:lnTo>
                  <a:lnTo>
                    <a:pt x="176" y="418"/>
                  </a:lnTo>
                  <a:lnTo>
                    <a:pt x="0" y="381"/>
                  </a:lnTo>
                  <a:lnTo>
                    <a:pt x="19" y="363"/>
                  </a:lnTo>
                  <a:lnTo>
                    <a:pt x="36" y="347"/>
                  </a:lnTo>
                  <a:lnTo>
                    <a:pt x="53" y="329"/>
                  </a:lnTo>
                  <a:lnTo>
                    <a:pt x="69" y="312"/>
                  </a:lnTo>
                  <a:lnTo>
                    <a:pt x="83" y="294"/>
                  </a:lnTo>
                  <a:lnTo>
                    <a:pt x="95" y="276"/>
                  </a:lnTo>
                  <a:lnTo>
                    <a:pt x="101" y="265"/>
                  </a:lnTo>
                  <a:lnTo>
                    <a:pt x="105" y="256"/>
                  </a:lnTo>
                  <a:lnTo>
                    <a:pt x="110" y="244"/>
                  </a:lnTo>
                  <a:lnTo>
                    <a:pt x="113" y="234"/>
                  </a:lnTo>
                  <a:lnTo>
                    <a:pt x="119" y="214"/>
                  </a:lnTo>
                  <a:lnTo>
                    <a:pt x="126" y="194"/>
                  </a:lnTo>
                  <a:lnTo>
                    <a:pt x="133" y="175"/>
                  </a:lnTo>
                  <a:lnTo>
                    <a:pt x="141" y="158"/>
                  </a:lnTo>
                  <a:lnTo>
                    <a:pt x="150" y="141"/>
                  </a:lnTo>
                  <a:lnTo>
                    <a:pt x="159" y="126"/>
                  </a:lnTo>
                  <a:lnTo>
                    <a:pt x="167" y="112"/>
                  </a:lnTo>
                  <a:lnTo>
                    <a:pt x="176" y="99"/>
                  </a:lnTo>
                  <a:lnTo>
                    <a:pt x="186" y="88"/>
                  </a:lnTo>
                  <a:lnTo>
                    <a:pt x="195" y="77"/>
                  </a:lnTo>
                  <a:lnTo>
                    <a:pt x="205" y="68"/>
                  </a:lnTo>
                  <a:lnTo>
                    <a:pt x="215" y="60"/>
                  </a:lnTo>
                  <a:lnTo>
                    <a:pt x="224" y="54"/>
                  </a:lnTo>
                  <a:lnTo>
                    <a:pt x="234" y="50"/>
                  </a:lnTo>
                  <a:lnTo>
                    <a:pt x="242" y="47"/>
                  </a:lnTo>
                  <a:lnTo>
                    <a:pt x="251" y="47"/>
                  </a:lnTo>
                  <a:lnTo>
                    <a:pt x="259" y="47"/>
                  </a:lnTo>
                  <a:lnTo>
                    <a:pt x="269" y="49"/>
                  </a:lnTo>
                  <a:lnTo>
                    <a:pt x="277" y="54"/>
                  </a:lnTo>
                  <a:lnTo>
                    <a:pt x="285" y="59"/>
                  </a:lnTo>
                  <a:lnTo>
                    <a:pt x="293" y="64"/>
                  </a:lnTo>
                  <a:lnTo>
                    <a:pt x="301" y="71"/>
                  </a:lnTo>
                  <a:lnTo>
                    <a:pt x="308" y="78"/>
                  </a:lnTo>
                  <a:lnTo>
                    <a:pt x="315" y="85"/>
                  </a:lnTo>
                  <a:lnTo>
                    <a:pt x="338" y="112"/>
                  </a:lnTo>
                  <a:lnTo>
                    <a:pt x="346" y="124"/>
                  </a:lnTo>
                  <a:lnTo>
                    <a:pt x="356" y="125"/>
                  </a:lnTo>
                  <a:lnTo>
                    <a:pt x="384" y="129"/>
                  </a:lnTo>
                  <a:lnTo>
                    <a:pt x="425" y="132"/>
                  </a:lnTo>
                  <a:lnTo>
                    <a:pt x="473" y="134"/>
                  </a:lnTo>
                  <a:lnTo>
                    <a:pt x="497" y="134"/>
                  </a:lnTo>
                  <a:lnTo>
                    <a:pt x="521" y="134"/>
                  </a:lnTo>
                  <a:lnTo>
                    <a:pt x="544" y="133"/>
                  </a:lnTo>
                  <a:lnTo>
                    <a:pt x="567" y="131"/>
                  </a:lnTo>
                  <a:lnTo>
                    <a:pt x="585" y="129"/>
                  </a:lnTo>
                  <a:lnTo>
                    <a:pt x="602" y="124"/>
                  </a:lnTo>
                  <a:lnTo>
                    <a:pt x="609" y="120"/>
                  </a:lnTo>
                  <a:lnTo>
                    <a:pt x="615" y="117"/>
                  </a:lnTo>
                  <a:lnTo>
                    <a:pt x="619" y="113"/>
                  </a:lnTo>
                  <a:lnTo>
                    <a:pt x="623" y="110"/>
                  </a:lnTo>
                  <a:lnTo>
                    <a:pt x="643" y="80"/>
                  </a:lnTo>
                  <a:lnTo>
                    <a:pt x="658" y="55"/>
                  </a:lnTo>
                  <a:lnTo>
                    <a:pt x="667" y="43"/>
                  </a:lnTo>
                  <a:lnTo>
                    <a:pt x="680" y="30"/>
                  </a:lnTo>
                  <a:lnTo>
                    <a:pt x="695" y="16"/>
                  </a:lnTo>
                  <a:lnTo>
                    <a:pt x="715" y="0"/>
                  </a:lnTo>
                  <a:lnTo>
                    <a:pt x="764" y="5"/>
                  </a:lnTo>
                  <a:lnTo>
                    <a:pt x="815" y="8"/>
                  </a:lnTo>
                  <a:lnTo>
                    <a:pt x="869" y="13"/>
                  </a:lnTo>
                  <a:lnTo>
                    <a:pt x="924" y="16"/>
                  </a:lnTo>
                  <a:lnTo>
                    <a:pt x="981" y="21"/>
                  </a:lnTo>
                  <a:lnTo>
                    <a:pt x="1040" y="25"/>
                  </a:lnTo>
                  <a:lnTo>
                    <a:pt x="1100" y="28"/>
                  </a:lnTo>
                  <a:lnTo>
                    <a:pt x="1161" y="33"/>
                  </a:lnTo>
                  <a:lnTo>
                    <a:pt x="1225" y="36"/>
                  </a:lnTo>
                  <a:lnTo>
                    <a:pt x="1290" y="40"/>
                  </a:lnTo>
                  <a:lnTo>
                    <a:pt x="1356" y="43"/>
                  </a:lnTo>
                  <a:lnTo>
                    <a:pt x="1423" y="46"/>
                  </a:lnTo>
                  <a:lnTo>
                    <a:pt x="1492" y="49"/>
                  </a:lnTo>
                  <a:lnTo>
                    <a:pt x="1562" y="53"/>
                  </a:lnTo>
                  <a:lnTo>
                    <a:pt x="1633" y="55"/>
                  </a:lnTo>
                  <a:lnTo>
                    <a:pt x="1706" y="57"/>
                  </a:lnTo>
                  <a:lnTo>
                    <a:pt x="1688" y="77"/>
                  </a:lnTo>
                  <a:lnTo>
                    <a:pt x="1644" y="131"/>
                  </a:lnTo>
                  <a:lnTo>
                    <a:pt x="1613" y="167"/>
                  </a:lnTo>
                  <a:lnTo>
                    <a:pt x="1581" y="208"/>
                  </a:lnTo>
                  <a:lnTo>
                    <a:pt x="1546" y="254"/>
                  </a:lnTo>
                  <a:lnTo>
                    <a:pt x="1509" y="301"/>
                  </a:lnTo>
                  <a:lnTo>
                    <a:pt x="1474" y="352"/>
                  </a:lnTo>
                  <a:lnTo>
                    <a:pt x="1442" y="402"/>
                  </a:lnTo>
                  <a:lnTo>
                    <a:pt x="1425" y="426"/>
                  </a:lnTo>
                  <a:lnTo>
                    <a:pt x="1411" y="451"/>
                  </a:lnTo>
                  <a:lnTo>
                    <a:pt x="1397" y="476"/>
                  </a:lnTo>
                  <a:lnTo>
                    <a:pt x="1384" y="499"/>
                  </a:lnTo>
                  <a:lnTo>
                    <a:pt x="1374" y="522"/>
                  </a:lnTo>
                  <a:lnTo>
                    <a:pt x="1364" y="544"/>
                  </a:lnTo>
                  <a:lnTo>
                    <a:pt x="1356" y="565"/>
                  </a:lnTo>
                  <a:lnTo>
                    <a:pt x="1350" y="585"/>
                  </a:lnTo>
                  <a:lnTo>
                    <a:pt x="1347" y="604"/>
                  </a:lnTo>
                  <a:lnTo>
                    <a:pt x="1345" y="622"/>
                  </a:lnTo>
                  <a:lnTo>
                    <a:pt x="1346" y="637"/>
                  </a:lnTo>
                  <a:lnTo>
                    <a:pt x="1348" y="651"/>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0" name="Freeform 1397"/>
            <p:cNvSpPr/>
            <p:nvPr/>
          </p:nvSpPr>
          <p:spPr>
            <a:xfrm>
              <a:off x="3638520" y="4587120"/>
              <a:ext cx="300240" cy="222480"/>
            </a:xfrm>
            <a:custGeom>
              <a:avLst/>
              <a:gdLst>
                <a:gd name="textAreaLeft" fmla="*/ 0 w 300240"/>
                <a:gd name="textAreaRight" fmla="*/ 300600 w 300240"/>
                <a:gd name="textAreaTop" fmla="*/ 0 h 222480"/>
                <a:gd name="textAreaBottom" fmla="*/ 222840 h 222480"/>
              </a:gdLst>
              <a:ahLst/>
              <a:rect l="textAreaLeft" t="textAreaTop" r="textAreaRight" b="textAreaBottom"/>
              <a:pathLst>
                <a:path w="1670" h="1472">
                  <a:moveTo>
                    <a:pt x="1670" y="888"/>
                  </a:moveTo>
                  <a:lnTo>
                    <a:pt x="1328" y="1472"/>
                  </a:lnTo>
                  <a:lnTo>
                    <a:pt x="652" y="1407"/>
                  </a:lnTo>
                  <a:lnTo>
                    <a:pt x="629" y="1401"/>
                  </a:lnTo>
                  <a:lnTo>
                    <a:pt x="604" y="1395"/>
                  </a:lnTo>
                  <a:lnTo>
                    <a:pt x="574" y="1389"/>
                  </a:lnTo>
                  <a:lnTo>
                    <a:pt x="542" y="1383"/>
                  </a:lnTo>
                  <a:lnTo>
                    <a:pt x="469" y="1372"/>
                  </a:lnTo>
                  <a:lnTo>
                    <a:pt x="386" y="1361"/>
                  </a:lnTo>
                  <a:lnTo>
                    <a:pt x="295" y="1349"/>
                  </a:lnTo>
                  <a:lnTo>
                    <a:pt x="200" y="1338"/>
                  </a:lnTo>
                  <a:lnTo>
                    <a:pt x="100" y="1325"/>
                  </a:lnTo>
                  <a:lnTo>
                    <a:pt x="0" y="1311"/>
                  </a:lnTo>
                  <a:lnTo>
                    <a:pt x="23" y="1295"/>
                  </a:lnTo>
                  <a:lnTo>
                    <a:pt x="46" y="1278"/>
                  </a:lnTo>
                  <a:lnTo>
                    <a:pt x="70" y="1262"/>
                  </a:lnTo>
                  <a:lnTo>
                    <a:pt x="90" y="1244"/>
                  </a:lnTo>
                  <a:lnTo>
                    <a:pt x="99" y="1236"/>
                  </a:lnTo>
                  <a:lnTo>
                    <a:pt x="106" y="1227"/>
                  </a:lnTo>
                  <a:lnTo>
                    <a:pt x="113" y="1217"/>
                  </a:lnTo>
                  <a:lnTo>
                    <a:pt x="118" y="1208"/>
                  </a:lnTo>
                  <a:lnTo>
                    <a:pt x="121" y="1198"/>
                  </a:lnTo>
                  <a:lnTo>
                    <a:pt x="124" y="1187"/>
                  </a:lnTo>
                  <a:lnTo>
                    <a:pt x="124" y="1175"/>
                  </a:lnTo>
                  <a:lnTo>
                    <a:pt x="121" y="1165"/>
                  </a:lnTo>
                  <a:lnTo>
                    <a:pt x="119" y="1153"/>
                  </a:lnTo>
                  <a:lnTo>
                    <a:pt x="118" y="1143"/>
                  </a:lnTo>
                  <a:lnTo>
                    <a:pt x="118" y="1131"/>
                  </a:lnTo>
                  <a:lnTo>
                    <a:pt x="119" y="1121"/>
                  </a:lnTo>
                  <a:lnTo>
                    <a:pt x="121" y="1111"/>
                  </a:lnTo>
                  <a:lnTo>
                    <a:pt x="125" y="1101"/>
                  </a:lnTo>
                  <a:lnTo>
                    <a:pt x="129" y="1091"/>
                  </a:lnTo>
                  <a:lnTo>
                    <a:pt x="135" y="1081"/>
                  </a:lnTo>
                  <a:lnTo>
                    <a:pt x="143" y="1071"/>
                  </a:lnTo>
                  <a:lnTo>
                    <a:pt x="152" y="1062"/>
                  </a:lnTo>
                  <a:lnTo>
                    <a:pt x="161" y="1053"/>
                  </a:lnTo>
                  <a:lnTo>
                    <a:pt x="173" y="1045"/>
                  </a:lnTo>
                  <a:lnTo>
                    <a:pt x="186" y="1035"/>
                  </a:lnTo>
                  <a:lnTo>
                    <a:pt x="198" y="1026"/>
                  </a:lnTo>
                  <a:lnTo>
                    <a:pt x="214" y="1018"/>
                  </a:lnTo>
                  <a:lnTo>
                    <a:pt x="231" y="1008"/>
                  </a:lnTo>
                  <a:lnTo>
                    <a:pt x="264" y="992"/>
                  </a:lnTo>
                  <a:lnTo>
                    <a:pt x="293" y="977"/>
                  </a:lnTo>
                  <a:lnTo>
                    <a:pt x="307" y="969"/>
                  </a:lnTo>
                  <a:lnTo>
                    <a:pt x="319" y="960"/>
                  </a:lnTo>
                  <a:lnTo>
                    <a:pt x="329" y="952"/>
                  </a:lnTo>
                  <a:lnTo>
                    <a:pt x="339" y="944"/>
                  </a:lnTo>
                  <a:lnTo>
                    <a:pt x="347" y="936"/>
                  </a:lnTo>
                  <a:lnTo>
                    <a:pt x="354" y="927"/>
                  </a:lnTo>
                  <a:lnTo>
                    <a:pt x="358" y="917"/>
                  </a:lnTo>
                  <a:lnTo>
                    <a:pt x="362" y="907"/>
                  </a:lnTo>
                  <a:lnTo>
                    <a:pt x="363" y="895"/>
                  </a:lnTo>
                  <a:lnTo>
                    <a:pt x="362" y="883"/>
                  </a:lnTo>
                  <a:lnTo>
                    <a:pt x="360" y="871"/>
                  </a:lnTo>
                  <a:lnTo>
                    <a:pt x="355" y="857"/>
                  </a:lnTo>
                  <a:lnTo>
                    <a:pt x="343" y="831"/>
                  </a:lnTo>
                  <a:lnTo>
                    <a:pt x="333" y="813"/>
                  </a:lnTo>
                  <a:lnTo>
                    <a:pt x="329" y="805"/>
                  </a:lnTo>
                  <a:lnTo>
                    <a:pt x="326" y="799"/>
                  </a:lnTo>
                  <a:lnTo>
                    <a:pt x="325" y="795"/>
                  </a:lnTo>
                  <a:lnTo>
                    <a:pt x="323" y="790"/>
                  </a:lnTo>
                  <a:lnTo>
                    <a:pt x="325" y="785"/>
                  </a:lnTo>
                  <a:lnTo>
                    <a:pt x="327" y="781"/>
                  </a:lnTo>
                  <a:lnTo>
                    <a:pt x="332" y="777"/>
                  </a:lnTo>
                  <a:lnTo>
                    <a:pt x="337" y="772"/>
                  </a:lnTo>
                  <a:lnTo>
                    <a:pt x="357" y="762"/>
                  </a:lnTo>
                  <a:lnTo>
                    <a:pt x="386" y="747"/>
                  </a:lnTo>
                  <a:lnTo>
                    <a:pt x="405" y="739"/>
                  </a:lnTo>
                  <a:lnTo>
                    <a:pt x="427" y="732"/>
                  </a:lnTo>
                  <a:lnTo>
                    <a:pt x="451" y="725"/>
                  </a:lnTo>
                  <a:lnTo>
                    <a:pt x="478" y="719"/>
                  </a:lnTo>
                  <a:lnTo>
                    <a:pt x="531" y="706"/>
                  </a:lnTo>
                  <a:lnTo>
                    <a:pt x="583" y="693"/>
                  </a:lnTo>
                  <a:lnTo>
                    <a:pt x="606" y="686"/>
                  </a:lnTo>
                  <a:lnTo>
                    <a:pt x="627" y="677"/>
                  </a:lnTo>
                  <a:lnTo>
                    <a:pt x="636" y="672"/>
                  </a:lnTo>
                  <a:lnTo>
                    <a:pt x="645" y="667"/>
                  </a:lnTo>
                  <a:lnTo>
                    <a:pt x="653" y="663"/>
                  </a:lnTo>
                  <a:lnTo>
                    <a:pt x="659" y="657"/>
                  </a:lnTo>
                  <a:lnTo>
                    <a:pt x="664" y="651"/>
                  </a:lnTo>
                  <a:lnTo>
                    <a:pt x="668" y="644"/>
                  </a:lnTo>
                  <a:lnTo>
                    <a:pt x="671" y="637"/>
                  </a:lnTo>
                  <a:lnTo>
                    <a:pt x="673" y="630"/>
                  </a:lnTo>
                  <a:lnTo>
                    <a:pt x="673" y="622"/>
                  </a:lnTo>
                  <a:lnTo>
                    <a:pt x="671" y="612"/>
                  </a:lnTo>
                  <a:lnTo>
                    <a:pt x="668" y="604"/>
                  </a:lnTo>
                  <a:lnTo>
                    <a:pt x="662" y="594"/>
                  </a:lnTo>
                  <a:lnTo>
                    <a:pt x="660" y="580"/>
                  </a:lnTo>
                  <a:lnTo>
                    <a:pt x="659" y="565"/>
                  </a:lnTo>
                  <a:lnTo>
                    <a:pt x="661" y="547"/>
                  </a:lnTo>
                  <a:lnTo>
                    <a:pt x="664" y="528"/>
                  </a:lnTo>
                  <a:lnTo>
                    <a:pt x="670" y="508"/>
                  </a:lnTo>
                  <a:lnTo>
                    <a:pt x="678" y="487"/>
                  </a:lnTo>
                  <a:lnTo>
                    <a:pt x="688" y="465"/>
                  </a:lnTo>
                  <a:lnTo>
                    <a:pt x="698" y="442"/>
                  </a:lnTo>
                  <a:lnTo>
                    <a:pt x="711" y="419"/>
                  </a:lnTo>
                  <a:lnTo>
                    <a:pt x="725" y="394"/>
                  </a:lnTo>
                  <a:lnTo>
                    <a:pt x="739" y="369"/>
                  </a:lnTo>
                  <a:lnTo>
                    <a:pt x="756" y="345"/>
                  </a:lnTo>
                  <a:lnTo>
                    <a:pt x="788" y="295"/>
                  </a:lnTo>
                  <a:lnTo>
                    <a:pt x="823" y="244"/>
                  </a:lnTo>
                  <a:lnTo>
                    <a:pt x="860" y="197"/>
                  </a:lnTo>
                  <a:lnTo>
                    <a:pt x="895" y="151"/>
                  </a:lnTo>
                  <a:lnTo>
                    <a:pt x="927" y="110"/>
                  </a:lnTo>
                  <a:lnTo>
                    <a:pt x="958" y="74"/>
                  </a:lnTo>
                  <a:lnTo>
                    <a:pt x="1002" y="20"/>
                  </a:lnTo>
                  <a:lnTo>
                    <a:pt x="1020" y="0"/>
                  </a:lnTo>
                  <a:lnTo>
                    <a:pt x="1043" y="2"/>
                  </a:lnTo>
                  <a:lnTo>
                    <a:pt x="1065" y="3"/>
                  </a:lnTo>
                  <a:lnTo>
                    <a:pt x="1087" y="4"/>
                  </a:lnTo>
                  <a:lnTo>
                    <a:pt x="1111" y="5"/>
                  </a:lnTo>
                  <a:lnTo>
                    <a:pt x="1134" y="6"/>
                  </a:lnTo>
                  <a:lnTo>
                    <a:pt x="1157" y="7"/>
                  </a:lnTo>
                  <a:lnTo>
                    <a:pt x="1181" y="9"/>
                  </a:lnTo>
                  <a:lnTo>
                    <a:pt x="1204" y="10"/>
                  </a:lnTo>
                  <a:lnTo>
                    <a:pt x="1199" y="13"/>
                  </a:lnTo>
                  <a:lnTo>
                    <a:pt x="1189" y="25"/>
                  </a:lnTo>
                  <a:lnTo>
                    <a:pt x="1173" y="42"/>
                  </a:lnTo>
                  <a:lnTo>
                    <a:pt x="1153" y="66"/>
                  </a:lnTo>
                  <a:lnTo>
                    <a:pt x="1129" y="93"/>
                  </a:lnTo>
                  <a:lnTo>
                    <a:pt x="1107" y="124"/>
                  </a:lnTo>
                  <a:lnTo>
                    <a:pt x="1095" y="141"/>
                  </a:lnTo>
                  <a:lnTo>
                    <a:pt x="1085" y="157"/>
                  </a:lnTo>
                  <a:lnTo>
                    <a:pt x="1074" y="173"/>
                  </a:lnTo>
                  <a:lnTo>
                    <a:pt x="1066" y="191"/>
                  </a:lnTo>
                  <a:lnTo>
                    <a:pt x="1062" y="200"/>
                  </a:lnTo>
                  <a:lnTo>
                    <a:pt x="1058" y="208"/>
                  </a:lnTo>
                  <a:lnTo>
                    <a:pt x="1056" y="218"/>
                  </a:lnTo>
                  <a:lnTo>
                    <a:pt x="1052" y="228"/>
                  </a:lnTo>
                  <a:lnTo>
                    <a:pt x="1050" y="247"/>
                  </a:lnTo>
                  <a:lnTo>
                    <a:pt x="1049" y="267"/>
                  </a:lnTo>
                  <a:lnTo>
                    <a:pt x="1050" y="288"/>
                  </a:lnTo>
                  <a:lnTo>
                    <a:pt x="1053" y="309"/>
                  </a:lnTo>
                  <a:lnTo>
                    <a:pt x="1059" y="330"/>
                  </a:lnTo>
                  <a:lnTo>
                    <a:pt x="1067" y="350"/>
                  </a:lnTo>
                  <a:lnTo>
                    <a:pt x="1072" y="360"/>
                  </a:lnTo>
                  <a:lnTo>
                    <a:pt x="1078" y="369"/>
                  </a:lnTo>
                  <a:lnTo>
                    <a:pt x="1084" y="380"/>
                  </a:lnTo>
                  <a:lnTo>
                    <a:pt x="1091" y="389"/>
                  </a:lnTo>
                  <a:lnTo>
                    <a:pt x="1098" y="399"/>
                  </a:lnTo>
                  <a:lnTo>
                    <a:pt x="1106" y="408"/>
                  </a:lnTo>
                  <a:lnTo>
                    <a:pt x="1114" y="417"/>
                  </a:lnTo>
                  <a:lnTo>
                    <a:pt x="1124" y="427"/>
                  </a:lnTo>
                  <a:lnTo>
                    <a:pt x="1133" y="435"/>
                  </a:lnTo>
                  <a:lnTo>
                    <a:pt x="1143" y="443"/>
                  </a:lnTo>
                  <a:lnTo>
                    <a:pt x="1155" y="451"/>
                  </a:lnTo>
                  <a:lnTo>
                    <a:pt x="1166" y="458"/>
                  </a:lnTo>
                  <a:lnTo>
                    <a:pt x="1178" y="465"/>
                  </a:lnTo>
                  <a:lnTo>
                    <a:pt x="1191" y="472"/>
                  </a:lnTo>
                  <a:lnTo>
                    <a:pt x="1204" y="479"/>
                  </a:lnTo>
                  <a:lnTo>
                    <a:pt x="1218" y="485"/>
                  </a:lnTo>
                  <a:lnTo>
                    <a:pt x="1225" y="487"/>
                  </a:lnTo>
                  <a:lnTo>
                    <a:pt x="1230" y="492"/>
                  </a:lnTo>
                  <a:lnTo>
                    <a:pt x="1233" y="497"/>
                  </a:lnTo>
                  <a:lnTo>
                    <a:pt x="1236" y="501"/>
                  </a:lnTo>
                  <a:lnTo>
                    <a:pt x="1237" y="506"/>
                  </a:lnTo>
                  <a:lnTo>
                    <a:pt x="1236" y="512"/>
                  </a:lnTo>
                  <a:lnTo>
                    <a:pt x="1234" y="518"/>
                  </a:lnTo>
                  <a:lnTo>
                    <a:pt x="1232" y="525"/>
                  </a:lnTo>
                  <a:lnTo>
                    <a:pt x="1225" y="538"/>
                  </a:lnTo>
                  <a:lnTo>
                    <a:pt x="1215" y="553"/>
                  </a:lnTo>
                  <a:lnTo>
                    <a:pt x="1202" y="567"/>
                  </a:lnTo>
                  <a:lnTo>
                    <a:pt x="1187" y="582"/>
                  </a:lnTo>
                  <a:lnTo>
                    <a:pt x="1156" y="609"/>
                  </a:lnTo>
                  <a:lnTo>
                    <a:pt x="1127" y="632"/>
                  </a:lnTo>
                  <a:lnTo>
                    <a:pt x="1106" y="649"/>
                  </a:lnTo>
                  <a:lnTo>
                    <a:pt x="1098" y="654"/>
                  </a:lnTo>
                  <a:lnTo>
                    <a:pt x="1095" y="656"/>
                  </a:lnTo>
                  <a:lnTo>
                    <a:pt x="1092" y="659"/>
                  </a:lnTo>
                  <a:lnTo>
                    <a:pt x="1091" y="663"/>
                  </a:lnTo>
                  <a:lnTo>
                    <a:pt x="1090" y="665"/>
                  </a:lnTo>
                  <a:lnTo>
                    <a:pt x="1088" y="668"/>
                  </a:lnTo>
                  <a:lnTo>
                    <a:pt x="1088" y="673"/>
                  </a:lnTo>
                  <a:lnTo>
                    <a:pt x="1091" y="678"/>
                  </a:lnTo>
                  <a:lnTo>
                    <a:pt x="1093" y="682"/>
                  </a:lnTo>
                  <a:lnTo>
                    <a:pt x="1098" y="687"/>
                  </a:lnTo>
                  <a:lnTo>
                    <a:pt x="1105" y="692"/>
                  </a:lnTo>
                  <a:lnTo>
                    <a:pt x="1114" y="698"/>
                  </a:lnTo>
                  <a:lnTo>
                    <a:pt x="1126" y="704"/>
                  </a:lnTo>
                  <a:lnTo>
                    <a:pt x="1140" y="709"/>
                  </a:lnTo>
                  <a:lnTo>
                    <a:pt x="1157" y="715"/>
                  </a:lnTo>
                  <a:lnTo>
                    <a:pt x="1166" y="719"/>
                  </a:lnTo>
                  <a:lnTo>
                    <a:pt x="1173" y="721"/>
                  </a:lnTo>
                  <a:lnTo>
                    <a:pt x="1178" y="725"/>
                  </a:lnTo>
                  <a:lnTo>
                    <a:pt x="1184" y="728"/>
                  </a:lnTo>
                  <a:lnTo>
                    <a:pt x="1188" y="733"/>
                  </a:lnTo>
                  <a:lnTo>
                    <a:pt x="1191" y="736"/>
                  </a:lnTo>
                  <a:lnTo>
                    <a:pt x="1194" y="740"/>
                  </a:lnTo>
                  <a:lnTo>
                    <a:pt x="1196" y="744"/>
                  </a:lnTo>
                  <a:lnTo>
                    <a:pt x="1198" y="754"/>
                  </a:lnTo>
                  <a:lnTo>
                    <a:pt x="1198" y="763"/>
                  </a:lnTo>
                  <a:lnTo>
                    <a:pt x="1197" y="774"/>
                  </a:lnTo>
                  <a:lnTo>
                    <a:pt x="1195" y="784"/>
                  </a:lnTo>
                  <a:lnTo>
                    <a:pt x="1192" y="795"/>
                  </a:lnTo>
                  <a:lnTo>
                    <a:pt x="1190" y="806"/>
                  </a:lnTo>
                  <a:lnTo>
                    <a:pt x="1190" y="819"/>
                  </a:lnTo>
                  <a:lnTo>
                    <a:pt x="1190" y="831"/>
                  </a:lnTo>
                  <a:lnTo>
                    <a:pt x="1191" y="838"/>
                  </a:lnTo>
                  <a:lnTo>
                    <a:pt x="1192" y="845"/>
                  </a:lnTo>
                  <a:lnTo>
                    <a:pt x="1195" y="851"/>
                  </a:lnTo>
                  <a:lnTo>
                    <a:pt x="1198" y="858"/>
                  </a:lnTo>
                  <a:lnTo>
                    <a:pt x="1202" y="865"/>
                  </a:lnTo>
                  <a:lnTo>
                    <a:pt x="1206" y="872"/>
                  </a:lnTo>
                  <a:lnTo>
                    <a:pt x="1212" y="878"/>
                  </a:lnTo>
                  <a:lnTo>
                    <a:pt x="1218" y="885"/>
                  </a:lnTo>
                  <a:lnTo>
                    <a:pt x="1226" y="892"/>
                  </a:lnTo>
                  <a:lnTo>
                    <a:pt x="1234" y="899"/>
                  </a:lnTo>
                  <a:lnTo>
                    <a:pt x="1244" y="904"/>
                  </a:lnTo>
                  <a:lnTo>
                    <a:pt x="1254" y="909"/>
                  </a:lnTo>
                  <a:lnTo>
                    <a:pt x="1265" y="914"/>
                  </a:lnTo>
                  <a:lnTo>
                    <a:pt x="1275" y="918"/>
                  </a:lnTo>
                  <a:lnTo>
                    <a:pt x="1287" y="922"/>
                  </a:lnTo>
                  <a:lnTo>
                    <a:pt x="1300" y="924"/>
                  </a:lnTo>
                  <a:lnTo>
                    <a:pt x="1327" y="929"/>
                  </a:lnTo>
                  <a:lnTo>
                    <a:pt x="1355" y="932"/>
                  </a:lnTo>
                  <a:lnTo>
                    <a:pt x="1384" y="934"/>
                  </a:lnTo>
                  <a:lnTo>
                    <a:pt x="1416" y="932"/>
                  </a:lnTo>
                  <a:lnTo>
                    <a:pt x="1447" y="931"/>
                  </a:lnTo>
                  <a:lnTo>
                    <a:pt x="1480" y="928"/>
                  </a:lnTo>
                  <a:lnTo>
                    <a:pt x="1512" y="923"/>
                  </a:lnTo>
                  <a:lnTo>
                    <a:pt x="1545" y="917"/>
                  </a:lnTo>
                  <a:lnTo>
                    <a:pt x="1578" y="911"/>
                  </a:lnTo>
                  <a:lnTo>
                    <a:pt x="1609" y="904"/>
                  </a:lnTo>
                  <a:lnTo>
                    <a:pt x="1641" y="896"/>
                  </a:lnTo>
                  <a:lnTo>
                    <a:pt x="1670" y="88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1" name="Freeform 1398"/>
            <p:cNvSpPr/>
            <p:nvPr/>
          </p:nvSpPr>
          <p:spPr>
            <a:xfrm>
              <a:off x="3638520" y="4587120"/>
              <a:ext cx="300240" cy="222480"/>
            </a:xfrm>
            <a:custGeom>
              <a:avLst/>
              <a:gdLst>
                <a:gd name="textAreaLeft" fmla="*/ 0 w 300240"/>
                <a:gd name="textAreaRight" fmla="*/ 300600 w 300240"/>
                <a:gd name="textAreaTop" fmla="*/ 0 h 222480"/>
                <a:gd name="textAreaBottom" fmla="*/ 222840 h 222480"/>
              </a:gdLst>
              <a:ahLst/>
              <a:rect l="textAreaLeft" t="textAreaTop" r="textAreaRight" b="textAreaBottom"/>
              <a:pathLst>
                <a:path w="1670" h="1472">
                  <a:moveTo>
                    <a:pt x="1670" y="888"/>
                  </a:moveTo>
                  <a:lnTo>
                    <a:pt x="1328" y="1472"/>
                  </a:lnTo>
                  <a:lnTo>
                    <a:pt x="652" y="1407"/>
                  </a:lnTo>
                  <a:lnTo>
                    <a:pt x="629" y="1401"/>
                  </a:lnTo>
                  <a:lnTo>
                    <a:pt x="604" y="1395"/>
                  </a:lnTo>
                  <a:lnTo>
                    <a:pt x="574" y="1389"/>
                  </a:lnTo>
                  <a:lnTo>
                    <a:pt x="542" y="1383"/>
                  </a:lnTo>
                  <a:lnTo>
                    <a:pt x="469" y="1372"/>
                  </a:lnTo>
                  <a:lnTo>
                    <a:pt x="386" y="1361"/>
                  </a:lnTo>
                  <a:lnTo>
                    <a:pt x="295" y="1349"/>
                  </a:lnTo>
                  <a:lnTo>
                    <a:pt x="200" y="1338"/>
                  </a:lnTo>
                  <a:lnTo>
                    <a:pt x="100" y="1325"/>
                  </a:lnTo>
                  <a:lnTo>
                    <a:pt x="0" y="1311"/>
                  </a:lnTo>
                  <a:lnTo>
                    <a:pt x="23" y="1295"/>
                  </a:lnTo>
                  <a:lnTo>
                    <a:pt x="46" y="1278"/>
                  </a:lnTo>
                  <a:lnTo>
                    <a:pt x="70" y="1262"/>
                  </a:lnTo>
                  <a:lnTo>
                    <a:pt x="90" y="1244"/>
                  </a:lnTo>
                  <a:lnTo>
                    <a:pt x="99" y="1236"/>
                  </a:lnTo>
                  <a:lnTo>
                    <a:pt x="106" y="1227"/>
                  </a:lnTo>
                  <a:lnTo>
                    <a:pt x="113" y="1217"/>
                  </a:lnTo>
                  <a:lnTo>
                    <a:pt x="118" y="1208"/>
                  </a:lnTo>
                  <a:lnTo>
                    <a:pt x="121" y="1198"/>
                  </a:lnTo>
                  <a:lnTo>
                    <a:pt x="124" y="1187"/>
                  </a:lnTo>
                  <a:lnTo>
                    <a:pt x="124" y="1175"/>
                  </a:lnTo>
                  <a:lnTo>
                    <a:pt x="121" y="1165"/>
                  </a:lnTo>
                  <a:lnTo>
                    <a:pt x="119" y="1153"/>
                  </a:lnTo>
                  <a:lnTo>
                    <a:pt x="118" y="1143"/>
                  </a:lnTo>
                  <a:lnTo>
                    <a:pt x="118" y="1131"/>
                  </a:lnTo>
                  <a:lnTo>
                    <a:pt x="119" y="1121"/>
                  </a:lnTo>
                  <a:lnTo>
                    <a:pt x="121" y="1111"/>
                  </a:lnTo>
                  <a:lnTo>
                    <a:pt x="125" y="1101"/>
                  </a:lnTo>
                  <a:lnTo>
                    <a:pt x="129" y="1091"/>
                  </a:lnTo>
                  <a:lnTo>
                    <a:pt x="135" y="1081"/>
                  </a:lnTo>
                  <a:lnTo>
                    <a:pt x="143" y="1071"/>
                  </a:lnTo>
                  <a:lnTo>
                    <a:pt x="152" y="1062"/>
                  </a:lnTo>
                  <a:lnTo>
                    <a:pt x="161" y="1053"/>
                  </a:lnTo>
                  <a:lnTo>
                    <a:pt x="173" y="1045"/>
                  </a:lnTo>
                  <a:lnTo>
                    <a:pt x="186" y="1035"/>
                  </a:lnTo>
                  <a:lnTo>
                    <a:pt x="198" y="1026"/>
                  </a:lnTo>
                  <a:lnTo>
                    <a:pt x="214" y="1018"/>
                  </a:lnTo>
                  <a:lnTo>
                    <a:pt x="231" y="1008"/>
                  </a:lnTo>
                  <a:lnTo>
                    <a:pt x="264" y="992"/>
                  </a:lnTo>
                  <a:lnTo>
                    <a:pt x="293" y="977"/>
                  </a:lnTo>
                  <a:lnTo>
                    <a:pt x="307" y="969"/>
                  </a:lnTo>
                  <a:lnTo>
                    <a:pt x="319" y="960"/>
                  </a:lnTo>
                  <a:lnTo>
                    <a:pt x="329" y="952"/>
                  </a:lnTo>
                  <a:lnTo>
                    <a:pt x="339" y="944"/>
                  </a:lnTo>
                  <a:lnTo>
                    <a:pt x="347" y="936"/>
                  </a:lnTo>
                  <a:lnTo>
                    <a:pt x="354" y="927"/>
                  </a:lnTo>
                  <a:lnTo>
                    <a:pt x="358" y="917"/>
                  </a:lnTo>
                  <a:lnTo>
                    <a:pt x="362" y="907"/>
                  </a:lnTo>
                  <a:lnTo>
                    <a:pt x="363" y="895"/>
                  </a:lnTo>
                  <a:lnTo>
                    <a:pt x="362" y="883"/>
                  </a:lnTo>
                  <a:lnTo>
                    <a:pt x="360" y="871"/>
                  </a:lnTo>
                  <a:lnTo>
                    <a:pt x="355" y="857"/>
                  </a:lnTo>
                  <a:lnTo>
                    <a:pt x="343" y="831"/>
                  </a:lnTo>
                  <a:lnTo>
                    <a:pt x="333" y="813"/>
                  </a:lnTo>
                  <a:lnTo>
                    <a:pt x="329" y="805"/>
                  </a:lnTo>
                  <a:lnTo>
                    <a:pt x="326" y="799"/>
                  </a:lnTo>
                  <a:lnTo>
                    <a:pt x="325" y="795"/>
                  </a:lnTo>
                  <a:lnTo>
                    <a:pt x="323" y="790"/>
                  </a:lnTo>
                  <a:lnTo>
                    <a:pt x="325" y="785"/>
                  </a:lnTo>
                  <a:lnTo>
                    <a:pt x="327" y="781"/>
                  </a:lnTo>
                  <a:lnTo>
                    <a:pt x="332" y="777"/>
                  </a:lnTo>
                  <a:lnTo>
                    <a:pt x="337" y="772"/>
                  </a:lnTo>
                  <a:lnTo>
                    <a:pt x="357" y="762"/>
                  </a:lnTo>
                  <a:lnTo>
                    <a:pt x="386" y="747"/>
                  </a:lnTo>
                  <a:lnTo>
                    <a:pt x="405" y="739"/>
                  </a:lnTo>
                  <a:lnTo>
                    <a:pt x="427" y="732"/>
                  </a:lnTo>
                  <a:lnTo>
                    <a:pt x="451" y="725"/>
                  </a:lnTo>
                  <a:lnTo>
                    <a:pt x="478" y="719"/>
                  </a:lnTo>
                  <a:lnTo>
                    <a:pt x="531" y="706"/>
                  </a:lnTo>
                  <a:lnTo>
                    <a:pt x="583" y="693"/>
                  </a:lnTo>
                  <a:lnTo>
                    <a:pt x="606" y="686"/>
                  </a:lnTo>
                  <a:lnTo>
                    <a:pt x="627" y="677"/>
                  </a:lnTo>
                  <a:lnTo>
                    <a:pt x="636" y="672"/>
                  </a:lnTo>
                  <a:lnTo>
                    <a:pt x="645" y="667"/>
                  </a:lnTo>
                  <a:lnTo>
                    <a:pt x="653" y="663"/>
                  </a:lnTo>
                  <a:lnTo>
                    <a:pt x="659" y="657"/>
                  </a:lnTo>
                  <a:lnTo>
                    <a:pt x="664" y="651"/>
                  </a:lnTo>
                  <a:lnTo>
                    <a:pt x="668" y="644"/>
                  </a:lnTo>
                  <a:lnTo>
                    <a:pt x="671" y="637"/>
                  </a:lnTo>
                  <a:lnTo>
                    <a:pt x="673" y="630"/>
                  </a:lnTo>
                  <a:lnTo>
                    <a:pt x="673" y="622"/>
                  </a:lnTo>
                  <a:lnTo>
                    <a:pt x="671" y="612"/>
                  </a:lnTo>
                  <a:lnTo>
                    <a:pt x="668" y="604"/>
                  </a:lnTo>
                  <a:lnTo>
                    <a:pt x="662" y="594"/>
                  </a:lnTo>
                  <a:lnTo>
                    <a:pt x="660" y="580"/>
                  </a:lnTo>
                  <a:lnTo>
                    <a:pt x="659" y="565"/>
                  </a:lnTo>
                  <a:lnTo>
                    <a:pt x="661" y="547"/>
                  </a:lnTo>
                  <a:lnTo>
                    <a:pt x="664" y="528"/>
                  </a:lnTo>
                  <a:lnTo>
                    <a:pt x="670" y="508"/>
                  </a:lnTo>
                  <a:lnTo>
                    <a:pt x="678" y="487"/>
                  </a:lnTo>
                  <a:lnTo>
                    <a:pt x="688" y="465"/>
                  </a:lnTo>
                  <a:lnTo>
                    <a:pt x="698" y="442"/>
                  </a:lnTo>
                  <a:lnTo>
                    <a:pt x="711" y="419"/>
                  </a:lnTo>
                  <a:lnTo>
                    <a:pt x="725" y="394"/>
                  </a:lnTo>
                  <a:lnTo>
                    <a:pt x="739" y="369"/>
                  </a:lnTo>
                  <a:lnTo>
                    <a:pt x="756" y="345"/>
                  </a:lnTo>
                  <a:lnTo>
                    <a:pt x="788" y="295"/>
                  </a:lnTo>
                  <a:lnTo>
                    <a:pt x="823" y="244"/>
                  </a:lnTo>
                  <a:lnTo>
                    <a:pt x="860" y="197"/>
                  </a:lnTo>
                  <a:lnTo>
                    <a:pt x="895" y="151"/>
                  </a:lnTo>
                  <a:lnTo>
                    <a:pt x="927" y="110"/>
                  </a:lnTo>
                  <a:lnTo>
                    <a:pt x="958" y="74"/>
                  </a:lnTo>
                  <a:lnTo>
                    <a:pt x="1002" y="20"/>
                  </a:lnTo>
                  <a:lnTo>
                    <a:pt x="1020" y="0"/>
                  </a:lnTo>
                  <a:lnTo>
                    <a:pt x="1043" y="2"/>
                  </a:lnTo>
                  <a:lnTo>
                    <a:pt x="1065" y="3"/>
                  </a:lnTo>
                  <a:lnTo>
                    <a:pt x="1087" y="4"/>
                  </a:lnTo>
                  <a:lnTo>
                    <a:pt x="1111" y="5"/>
                  </a:lnTo>
                  <a:lnTo>
                    <a:pt x="1134" y="6"/>
                  </a:lnTo>
                  <a:lnTo>
                    <a:pt x="1157" y="7"/>
                  </a:lnTo>
                  <a:lnTo>
                    <a:pt x="1181" y="9"/>
                  </a:lnTo>
                  <a:lnTo>
                    <a:pt x="1204" y="10"/>
                  </a:lnTo>
                  <a:lnTo>
                    <a:pt x="1199" y="13"/>
                  </a:lnTo>
                  <a:lnTo>
                    <a:pt x="1189" y="25"/>
                  </a:lnTo>
                  <a:lnTo>
                    <a:pt x="1173" y="42"/>
                  </a:lnTo>
                  <a:lnTo>
                    <a:pt x="1153" y="66"/>
                  </a:lnTo>
                  <a:lnTo>
                    <a:pt x="1129" y="93"/>
                  </a:lnTo>
                  <a:lnTo>
                    <a:pt x="1107" y="124"/>
                  </a:lnTo>
                  <a:lnTo>
                    <a:pt x="1095" y="141"/>
                  </a:lnTo>
                  <a:lnTo>
                    <a:pt x="1085" y="157"/>
                  </a:lnTo>
                  <a:lnTo>
                    <a:pt x="1074" y="173"/>
                  </a:lnTo>
                  <a:lnTo>
                    <a:pt x="1066" y="191"/>
                  </a:lnTo>
                  <a:lnTo>
                    <a:pt x="1062" y="200"/>
                  </a:lnTo>
                  <a:lnTo>
                    <a:pt x="1058" y="208"/>
                  </a:lnTo>
                  <a:lnTo>
                    <a:pt x="1056" y="218"/>
                  </a:lnTo>
                  <a:lnTo>
                    <a:pt x="1052" y="228"/>
                  </a:lnTo>
                  <a:lnTo>
                    <a:pt x="1050" y="247"/>
                  </a:lnTo>
                  <a:lnTo>
                    <a:pt x="1049" y="267"/>
                  </a:lnTo>
                  <a:lnTo>
                    <a:pt x="1050" y="288"/>
                  </a:lnTo>
                  <a:lnTo>
                    <a:pt x="1053" y="309"/>
                  </a:lnTo>
                  <a:lnTo>
                    <a:pt x="1059" y="330"/>
                  </a:lnTo>
                  <a:lnTo>
                    <a:pt x="1067" y="350"/>
                  </a:lnTo>
                  <a:lnTo>
                    <a:pt x="1072" y="360"/>
                  </a:lnTo>
                  <a:lnTo>
                    <a:pt x="1078" y="369"/>
                  </a:lnTo>
                  <a:lnTo>
                    <a:pt x="1084" y="380"/>
                  </a:lnTo>
                  <a:lnTo>
                    <a:pt x="1091" y="389"/>
                  </a:lnTo>
                  <a:lnTo>
                    <a:pt x="1098" y="399"/>
                  </a:lnTo>
                  <a:lnTo>
                    <a:pt x="1106" y="408"/>
                  </a:lnTo>
                  <a:lnTo>
                    <a:pt x="1114" y="417"/>
                  </a:lnTo>
                  <a:lnTo>
                    <a:pt x="1124" y="427"/>
                  </a:lnTo>
                  <a:lnTo>
                    <a:pt x="1133" y="435"/>
                  </a:lnTo>
                  <a:lnTo>
                    <a:pt x="1143" y="443"/>
                  </a:lnTo>
                  <a:lnTo>
                    <a:pt x="1155" y="451"/>
                  </a:lnTo>
                  <a:lnTo>
                    <a:pt x="1166" y="458"/>
                  </a:lnTo>
                  <a:lnTo>
                    <a:pt x="1178" y="465"/>
                  </a:lnTo>
                  <a:lnTo>
                    <a:pt x="1191" y="472"/>
                  </a:lnTo>
                  <a:lnTo>
                    <a:pt x="1204" y="479"/>
                  </a:lnTo>
                  <a:lnTo>
                    <a:pt x="1218" y="485"/>
                  </a:lnTo>
                  <a:lnTo>
                    <a:pt x="1225" y="487"/>
                  </a:lnTo>
                  <a:lnTo>
                    <a:pt x="1230" y="492"/>
                  </a:lnTo>
                  <a:lnTo>
                    <a:pt x="1233" y="497"/>
                  </a:lnTo>
                  <a:lnTo>
                    <a:pt x="1236" y="501"/>
                  </a:lnTo>
                  <a:lnTo>
                    <a:pt x="1237" y="506"/>
                  </a:lnTo>
                  <a:lnTo>
                    <a:pt x="1236" y="512"/>
                  </a:lnTo>
                  <a:lnTo>
                    <a:pt x="1234" y="518"/>
                  </a:lnTo>
                  <a:lnTo>
                    <a:pt x="1232" y="525"/>
                  </a:lnTo>
                  <a:lnTo>
                    <a:pt x="1225" y="538"/>
                  </a:lnTo>
                  <a:lnTo>
                    <a:pt x="1215" y="553"/>
                  </a:lnTo>
                  <a:lnTo>
                    <a:pt x="1202" y="567"/>
                  </a:lnTo>
                  <a:lnTo>
                    <a:pt x="1187" y="582"/>
                  </a:lnTo>
                  <a:lnTo>
                    <a:pt x="1156" y="609"/>
                  </a:lnTo>
                  <a:lnTo>
                    <a:pt x="1127" y="632"/>
                  </a:lnTo>
                  <a:lnTo>
                    <a:pt x="1106" y="649"/>
                  </a:lnTo>
                  <a:lnTo>
                    <a:pt x="1098" y="654"/>
                  </a:lnTo>
                  <a:lnTo>
                    <a:pt x="1095" y="656"/>
                  </a:lnTo>
                  <a:lnTo>
                    <a:pt x="1092" y="659"/>
                  </a:lnTo>
                  <a:lnTo>
                    <a:pt x="1091" y="663"/>
                  </a:lnTo>
                  <a:lnTo>
                    <a:pt x="1090" y="665"/>
                  </a:lnTo>
                  <a:lnTo>
                    <a:pt x="1088" y="668"/>
                  </a:lnTo>
                  <a:lnTo>
                    <a:pt x="1088" y="673"/>
                  </a:lnTo>
                  <a:lnTo>
                    <a:pt x="1091" y="678"/>
                  </a:lnTo>
                  <a:lnTo>
                    <a:pt x="1093" y="682"/>
                  </a:lnTo>
                  <a:lnTo>
                    <a:pt x="1098" y="687"/>
                  </a:lnTo>
                  <a:lnTo>
                    <a:pt x="1105" y="692"/>
                  </a:lnTo>
                  <a:lnTo>
                    <a:pt x="1114" y="698"/>
                  </a:lnTo>
                  <a:lnTo>
                    <a:pt x="1126" y="704"/>
                  </a:lnTo>
                  <a:lnTo>
                    <a:pt x="1140" y="709"/>
                  </a:lnTo>
                  <a:lnTo>
                    <a:pt x="1157" y="715"/>
                  </a:lnTo>
                  <a:lnTo>
                    <a:pt x="1166" y="719"/>
                  </a:lnTo>
                  <a:lnTo>
                    <a:pt x="1173" y="721"/>
                  </a:lnTo>
                  <a:lnTo>
                    <a:pt x="1178" y="725"/>
                  </a:lnTo>
                  <a:lnTo>
                    <a:pt x="1184" y="728"/>
                  </a:lnTo>
                  <a:lnTo>
                    <a:pt x="1188" y="733"/>
                  </a:lnTo>
                  <a:lnTo>
                    <a:pt x="1191" y="736"/>
                  </a:lnTo>
                  <a:lnTo>
                    <a:pt x="1194" y="740"/>
                  </a:lnTo>
                  <a:lnTo>
                    <a:pt x="1196" y="744"/>
                  </a:lnTo>
                  <a:lnTo>
                    <a:pt x="1198" y="754"/>
                  </a:lnTo>
                  <a:lnTo>
                    <a:pt x="1198" y="763"/>
                  </a:lnTo>
                  <a:lnTo>
                    <a:pt x="1197" y="774"/>
                  </a:lnTo>
                  <a:lnTo>
                    <a:pt x="1195" y="784"/>
                  </a:lnTo>
                  <a:lnTo>
                    <a:pt x="1192" y="795"/>
                  </a:lnTo>
                  <a:lnTo>
                    <a:pt x="1190" y="806"/>
                  </a:lnTo>
                  <a:lnTo>
                    <a:pt x="1190" y="819"/>
                  </a:lnTo>
                  <a:lnTo>
                    <a:pt x="1190" y="831"/>
                  </a:lnTo>
                  <a:lnTo>
                    <a:pt x="1191" y="838"/>
                  </a:lnTo>
                  <a:lnTo>
                    <a:pt x="1192" y="845"/>
                  </a:lnTo>
                  <a:lnTo>
                    <a:pt x="1195" y="851"/>
                  </a:lnTo>
                  <a:lnTo>
                    <a:pt x="1198" y="858"/>
                  </a:lnTo>
                  <a:lnTo>
                    <a:pt x="1202" y="865"/>
                  </a:lnTo>
                  <a:lnTo>
                    <a:pt x="1206" y="872"/>
                  </a:lnTo>
                  <a:lnTo>
                    <a:pt x="1212" y="878"/>
                  </a:lnTo>
                  <a:lnTo>
                    <a:pt x="1218" y="885"/>
                  </a:lnTo>
                  <a:lnTo>
                    <a:pt x="1226" y="892"/>
                  </a:lnTo>
                  <a:lnTo>
                    <a:pt x="1234" y="899"/>
                  </a:lnTo>
                  <a:lnTo>
                    <a:pt x="1244" y="904"/>
                  </a:lnTo>
                  <a:lnTo>
                    <a:pt x="1254" y="909"/>
                  </a:lnTo>
                  <a:lnTo>
                    <a:pt x="1265" y="914"/>
                  </a:lnTo>
                  <a:lnTo>
                    <a:pt x="1275" y="918"/>
                  </a:lnTo>
                  <a:lnTo>
                    <a:pt x="1287" y="922"/>
                  </a:lnTo>
                  <a:lnTo>
                    <a:pt x="1300" y="924"/>
                  </a:lnTo>
                  <a:lnTo>
                    <a:pt x="1327" y="929"/>
                  </a:lnTo>
                  <a:lnTo>
                    <a:pt x="1355" y="932"/>
                  </a:lnTo>
                  <a:lnTo>
                    <a:pt x="1384" y="934"/>
                  </a:lnTo>
                  <a:lnTo>
                    <a:pt x="1416" y="932"/>
                  </a:lnTo>
                  <a:lnTo>
                    <a:pt x="1447" y="931"/>
                  </a:lnTo>
                  <a:lnTo>
                    <a:pt x="1480" y="928"/>
                  </a:lnTo>
                  <a:lnTo>
                    <a:pt x="1512" y="923"/>
                  </a:lnTo>
                  <a:lnTo>
                    <a:pt x="1545" y="917"/>
                  </a:lnTo>
                  <a:lnTo>
                    <a:pt x="1578" y="911"/>
                  </a:lnTo>
                  <a:lnTo>
                    <a:pt x="1609" y="904"/>
                  </a:lnTo>
                  <a:lnTo>
                    <a:pt x="1641" y="896"/>
                  </a:lnTo>
                  <a:lnTo>
                    <a:pt x="1670" y="888"/>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2" name="Freeform 1399"/>
            <p:cNvSpPr/>
            <p:nvPr/>
          </p:nvSpPr>
          <p:spPr>
            <a:xfrm>
              <a:off x="3869640" y="4716360"/>
              <a:ext cx="372960" cy="132480"/>
            </a:xfrm>
            <a:custGeom>
              <a:avLst/>
              <a:gdLst>
                <a:gd name="textAreaLeft" fmla="*/ 0 w 372960"/>
                <a:gd name="textAreaRight" fmla="*/ 373320 w 372960"/>
                <a:gd name="textAreaTop" fmla="*/ 0 h 132480"/>
                <a:gd name="textAreaBottom" fmla="*/ 132840 h 132480"/>
              </a:gdLst>
              <a:ahLst/>
              <a:rect l="textAreaLeft" t="textAreaTop" r="textAreaRight" b="textAreaBottom"/>
              <a:pathLst>
                <a:path w="2077" h="874">
                  <a:moveTo>
                    <a:pt x="438" y="837"/>
                  </a:moveTo>
                  <a:lnTo>
                    <a:pt x="0" y="805"/>
                  </a:lnTo>
                  <a:lnTo>
                    <a:pt x="47" y="617"/>
                  </a:lnTo>
                  <a:lnTo>
                    <a:pt x="389" y="33"/>
                  </a:lnTo>
                  <a:lnTo>
                    <a:pt x="407" y="32"/>
                  </a:lnTo>
                  <a:lnTo>
                    <a:pt x="457" y="31"/>
                  </a:lnTo>
                  <a:lnTo>
                    <a:pt x="535" y="28"/>
                  </a:lnTo>
                  <a:lnTo>
                    <a:pt x="637" y="26"/>
                  </a:lnTo>
                  <a:lnTo>
                    <a:pt x="758" y="23"/>
                  </a:lnTo>
                  <a:lnTo>
                    <a:pt x="893" y="19"/>
                  </a:lnTo>
                  <a:lnTo>
                    <a:pt x="1039" y="14"/>
                  </a:lnTo>
                  <a:lnTo>
                    <a:pt x="1191" y="11"/>
                  </a:lnTo>
                  <a:lnTo>
                    <a:pt x="1344" y="9"/>
                  </a:lnTo>
                  <a:lnTo>
                    <a:pt x="1493" y="5"/>
                  </a:lnTo>
                  <a:lnTo>
                    <a:pt x="1634" y="3"/>
                  </a:lnTo>
                  <a:lnTo>
                    <a:pt x="1765" y="2"/>
                  </a:lnTo>
                  <a:lnTo>
                    <a:pt x="1879" y="0"/>
                  </a:lnTo>
                  <a:lnTo>
                    <a:pt x="1972" y="2"/>
                  </a:lnTo>
                  <a:lnTo>
                    <a:pt x="2009" y="3"/>
                  </a:lnTo>
                  <a:lnTo>
                    <a:pt x="2040" y="4"/>
                  </a:lnTo>
                  <a:lnTo>
                    <a:pt x="2062" y="5"/>
                  </a:lnTo>
                  <a:lnTo>
                    <a:pt x="2077" y="7"/>
                  </a:lnTo>
                  <a:lnTo>
                    <a:pt x="1780" y="874"/>
                  </a:lnTo>
                  <a:lnTo>
                    <a:pt x="438" y="83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3" name="Freeform 1400"/>
            <p:cNvSpPr/>
            <p:nvPr/>
          </p:nvSpPr>
          <p:spPr>
            <a:xfrm>
              <a:off x="3869640" y="4716360"/>
              <a:ext cx="372960" cy="132480"/>
            </a:xfrm>
            <a:custGeom>
              <a:avLst/>
              <a:gdLst>
                <a:gd name="textAreaLeft" fmla="*/ 0 w 372960"/>
                <a:gd name="textAreaRight" fmla="*/ 373320 w 372960"/>
                <a:gd name="textAreaTop" fmla="*/ 0 h 132480"/>
                <a:gd name="textAreaBottom" fmla="*/ 132840 h 132480"/>
              </a:gdLst>
              <a:ahLst/>
              <a:rect l="textAreaLeft" t="textAreaTop" r="textAreaRight" b="textAreaBottom"/>
              <a:pathLst>
                <a:path w="2077" h="874">
                  <a:moveTo>
                    <a:pt x="438" y="837"/>
                  </a:moveTo>
                  <a:lnTo>
                    <a:pt x="0" y="805"/>
                  </a:lnTo>
                  <a:lnTo>
                    <a:pt x="47" y="617"/>
                  </a:lnTo>
                  <a:lnTo>
                    <a:pt x="389" y="33"/>
                  </a:lnTo>
                  <a:lnTo>
                    <a:pt x="407" y="32"/>
                  </a:lnTo>
                  <a:lnTo>
                    <a:pt x="457" y="31"/>
                  </a:lnTo>
                  <a:lnTo>
                    <a:pt x="535" y="28"/>
                  </a:lnTo>
                  <a:lnTo>
                    <a:pt x="637" y="26"/>
                  </a:lnTo>
                  <a:lnTo>
                    <a:pt x="758" y="23"/>
                  </a:lnTo>
                  <a:lnTo>
                    <a:pt x="893" y="19"/>
                  </a:lnTo>
                  <a:lnTo>
                    <a:pt x="1039" y="14"/>
                  </a:lnTo>
                  <a:lnTo>
                    <a:pt x="1191" y="11"/>
                  </a:lnTo>
                  <a:lnTo>
                    <a:pt x="1344" y="9"/>
                  </a:lnTo>
                  <a:lnTo>
                    <a:pt x="1493" y="5"/>
                  </a:lnTo>
                  <a:lnTo>
                    <a:pt x="1634" y="3"/>
                  </a:lnTo>
                  <a:lnTo>
                    <a:pt x="1765" y="2"/>
                  </a:lnTo>
                  <a:lnTo>
                    <a:pt x="1879" y="0"/>
                  </a:lnTo>
                  <a:lnTo>
                    <a:pt x="1972" y="2"/>
                  </a:lnTo>
                  <a:lnTo>
                    <a:pt x="2009" y="3"/>
                  </a:lnTo>
                  <a:lnTo>
                    <a:pt x="2040" y="4"/>
                  </a:lnTo>
                  <a:lnTo>
                    <a:pt x="2062" y="5"/>
                  </a:lnTo>
                  <a:lnTo>
                    <a:pt x="2077" y="7"/>
                  </a:lnTo>
                  <a:lnTo>
                    <a:pt x="1780" y="874"/>
                  </a:lnTo>
                  <a:lnTo>
                    <a:pt x="438" y="837"/>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4" name="Freeform 1401"/>
            <p:cNvSpPr/>
            <p:nvPr/>
          </p:nvSpPr>
          <p:spPr>
            <a:xfrm>
              <a:off x="3663000" y="5003280"/>
              <a:ext cx="537480" cy="311400"/>
            </a:xfrm>
            <a:custGeom>
              <a:avLst/>
              <a:gdLst>
                <a:gd name="textAreaLeft" fmla="*/ 0 w 537480"/>
                <a:gd name="textAreaRight" fmla="*/ 537840 w 537480"/>
                <a:gd name="textAreaTop" fmla="*/ 0 h 311400"/>
                <a:gd name="textAreaBottom" fmla="*/ 311760 h 311400"/>
              </a:gdLst>
              <a:ahLst/>
              <a:rect l="textAreaLeft" t="textAreaTop" r="textAreaRight" b="textAreaBottom"/>
              <a:pathLst>
                <a:path w="2989" h="2059">
                  <a:moveTo>
                    <a:pt x="2989" y="6"/>
                  </a:moveTo>
                  <a:lnTo>
                    <a:pt x="1057" y="0"/>
                  </a:lnTo>
                  <a:lnTo>
                    <a:pt x="0" y="2022"/>
                  </a:lnTo>
                  <a:lnTo>
                    <a:pt x="423" y="2059"/>
                  </a:lnTo>
                  <a:lnTo>
                    <a:pt x="515" y="1875"/>
                  </a:lnTo>
                  <a:lnTo>
                    <a:pt x="1068" y="1904"/>
                  </a:lnTo>
                  <a:lnTo>
                    <a:pt x="1071" y="1737"/>
                  </a:lnTo>
                  <a:lnTo>
                    <a:pt x="2462" y="1769"/>
                  </a:lnTo>
                  <a:lnTo>
                    <a:pt x="2989" y="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5" name="Freeform 1402"/>
            <p:cNvSpPr/>
            <p:nvPr/>
          </p:nvSpPr>
          <p:spPr>
            <a:xfrm>
              <a:off x="3663000" y="5003280"/>
              <a:ext cx="537480" cy="311400"/>
            </a:xfrm>
            <a:custGeom>
              <a:avLst/>
              <a:gdLst>
                <a:gd name="textAreaLeft" fmla="*/ 0 w 537480"/>
                <a:gd name="textAreaRight" fmla="*/ 537840 w 537480"/>
                <a:gd name="textAreaTop" fmla="*/ 0 h 311400"/>
                <a:gd name="textAreaBottom" fmla="*/ 311760 h 311400"/>
              </a:gdLst>
              <a:ahLst/>
              <a:rect l="textAreaLeft" t="textAreaTop" r="textAreaRight" b="textAreaBottom"/>
              <a:pathLst>
                <a:path w="2989" h="2059">
                  <a:moveTo>
                    <a:pt x="2989" y="6"/>
                  </a:moveTo>
                  <a:lnTo>
                    <a:pt x="1057" y="0"/>
                  </a:lnTo>
                  <a:lnTo>
                    <a:pt x="0" y="2022"/>
                  </a:lnTo>
                  <a:lnTo>
                    <a:pt x="423" y="2059"/>
                  </a:lnTo>
                  <a:lnTo>
                    <a:pt x="515" y="1875"/>
                  </a:lnTo>
                  <a:lnTo>
                    <a:pt x="1068" y="1904"/>
                  </a:lnTo>
                  <a:lnTo>
                    <a:pt x="1071" y="1737"/>
                  </a:lnTo>
                  <a:lnTo>
                    <a:pt x="2462" y="1769"/>
                  </a:lnTo>
                  <a:lnTo>
                    <a:pt x="2989" y="6"/>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6" name="Freeform 1403"/>
            <p:cNvSpPr/>
            <p:nvPr/>
          </p:nvSpPr>
          <p:spPr>
            <a:xfrm>
              <a:off x="4189680" y="4776840"/>
              <a:ext cx="424080" cy="99720"/>
            </a:xfrm>
            <a:custGeom>
              <a:avLst/>
              <a:gdLst>
                <a:gd name="textAreaLeft" fmla="*/ 0 w 424080"/>
                <a:gd name="textAreaRight" fmla="*/ 424440 w 424080"/>
                <a:gd name="textAreaTop" fmla="*/ 0 h 99720"/>
                <a:gd name="textAreaBottom" fmla="*/ 100080 h 99720"/>
              </a:gdLst>
              <a:ahLst/>
              <a:rect l="textAreaLeft" t="textAreaTop" r="textAreaRight" b="textAreaBottom"/>
              <a:pathLst>
                <a:path w="2362" h="660">
                  <a:moveTo>
                    <a:pt x="2362" y="660"/>
                  </a:moveTo>
                  <a:lnTo>
                    <a:pt x="586" y="656"/>
                  </a:lnTo>
                  <a:lnTo>
                    <a:pt x="631" y="481"/>
                  </a:lnTo>
                  <a:lnTo>
                    <a:pt x="0" y="475"/>
                  </a:lnTo>
                  <a:lnTo>
                    <a:pt x="165" y="0"/>
                  </a:lnTo>
                  <a:lnTo>
                    <a:pt x="1535" y="2"/>
                  </a:lnTo>
                  <a:lnTo>
                    <a:pt x="1548" y="9"/>
                  </a:lnTo>
                  <a:lnTo>
                    <a:pt x="1561" y="15"/>
                  </a:lnTo>
                  <a:lnTo>
                    <a:pt x="1575" y="20"/>
                  </a:lnTo>
                  <a:lnTo>
                    <a:pt x="1588" y="23"/>
                  </a:lnTo>
                  <a:lnTo>
                    <a:pt x="1602" y="25"/>
                  </a:lnTo>
                  <a:lnTo>
                    <a:pt x="1617" y="28"/>
                  </a:lnTo>
                  <a:lnTo>
                    <a:pt x="1632" y="28"/>
                  </a:lnTo>
                  <a:lnTo>
                    <a:pt x="1646" y="29"/>
                  </a:lnTo>
                  <a:lnTo>
                    <a:pt x="1678" y="28"/>
                  </a:lnTo>
                  <a:lnTo>
                    <a:pt x="1709" y="25"/>
                  </a:lnTo>
                  <a:lnTo>
                    <a:pt x="1742" y="23"/>
                  </a:lnTo>
                  <a:lnTo>
                    <a:pt x="1774" y="20"/>
                  </a:lnTo>
                  <a:lnTo>
                    <a:pt x="1806" y="16"/>
                  </a:lnTo>
                  <a:lnTo>
                    <a:pt x="1838" y="15"/>
                  </a:lnTo>
                  <a:lnTo>
                    <a:pt x="1853" y="14"/>
                  </a:lnTo>
                  <a:lnTo>
                    <a:pt x="1869" y="15"/>
                  </a:lnTo>
                  <a:lnTo>
                    <a:pt x="1885" y="16"/>
                  </a:lnTo>
                  <a:lnTo>
                    <a:pt x="1899" y="17"/>
                  </a:lnTo>
                  <a:lnTo>
                    <a:pt x="1914" y="20"/>
                  </a:lnTo>
                  <a:lnTo>
                    <a:pt x="1928" y="23"/>
                  </a:lnTo>
                  <a:lnTo>
                    <a:pt x="1942" y="28"/>
                  </a:lnTo>
                  <a:lnTo>
                    <a:pt x="1956" y="32"/>
                  </a:lnTo>
                  <a:lnTo>
                    <a:pt x="1969" y="39"/>
                  </a:lnTo>
                  <a:lnTo>
                    <a:pt x="1982" y="46"/>
                  </a:lnTo>
                  <a:lnTo>
                    <a:pt x="1993" y="56"/>
                  </a:lnTo>
                  <a:lnTo>
                    <a:pt x="2005" y="66"/>
                  </a:lnTo>
                  <a:lnTo>
                    <a:pt x="2039" y="99"/>
                  </a:lnTo>
                  <a:lnTo>
                    <a:pt x="2066" y="128"/>
                  </a:lnTo>
                  <a:lnTo>
                    <a:pt x="2088" y="153"/>
                  </a:lnTo>
                  <a:lnTo>
                    <a:pt x="2104" y="173"/>
                  </a:lnTo>
                  <a:lnTo>
                    <a:pt x="2116" y="190"/>
                  </a:lnTo>
                  <a:lnTo>
                    <a:pt x="2125" y="205"/>
                  </a:lnTo>
                  <a:lnTo>
                    <a:pt x="2130" y="217"/>
                  </a:lnTo>
                  <a:lnTo>
                    <a:pt x="2133" y="226"/>
                  </a:lnTo>
                  <a:lnTo>
                    <a:pt x="2135" y="233"/>
                  </a:lnTo>
                  <a:lnTo>
                    <a:pt x="2133" y="239"/>
                  </a:lnTo>
                  <a:lnTo>
                    <a:pt x="2132" y="244"/>
                  </a:lnTo>
                  <a:lnTo>
                    <a:pt x="2131" y="248"/>
                  </a:lnTo>
                  <a:lnTo>
                    <a:pt x="2131" y="252"/>
                  </a:lnTo>
                  <a:lnTo>
                    <a:pt x="2131" y="255"/>
                  </a:lnTo>
                  <a:lnTo>
                    <a:pt x="2133" y="260"/>
                  </a:lnTo>
                  <a:lnTo>
                    <a:pt x="2138" y="265"/>
                  </a:lnTo>
                  <a:lnTo>
                    <a:pt x="2145" y="271"/>
                  </a:lnTo>
                  <a:lnTo>
                    <a:pt x="2152" y="275"/>
                  </a:lnTo>
                  <a:lnTo>
                    <a:pt x="2160" y="280"/>
                  </a:lnTo>
                  <a:lnTo>
                    <a:pt x="2170" y="285"/>
                  </a:lnTo>
                  <a:lnTo>
                    <a:pt x="2187" y="293"/>
                  </a:lnTo>
                  <a:lnTo>
                    <a:pt x="2204" y="303"/>
                  </a:lnTo>
                  <a:lnTo>
                    <a:pt x="2211" y="308"/>
                  </a:lnTo>
                  <a:lnTo>
                    <a:pt x="2218" y="315"/>
                  </a:lnTo>
                  <a:lnTo>
                    <a:pt x="2223" y="323"/>
                  </a:lnTo>
                  <a:lnTo>
                    <a:pt x="2228" y="333"/>
                  </a:lnTo>
                  <a:lnTo>
                    <a:pt x="2230" y="344"/>
                  </a:lnTo>
                  <a:lnTo>
                    <a:pt x="2233" y="356"/>
                  </a:lnTo>
                  <a:lnTo>
                    <a:pt x="2233" y="371"/>
                  </a:lnTo>
                  <a:lnTo>
                    <a:pt x="2230" y="389"/>
                  </a:lnTo>
                  <a:lnTo>
                    <a:pt x="2226" y="421"/>
                  </a:lnTo>
                  <a:lnTo>
                    <a:pt x="2225" y="447"/>
                  </a:lnTo>
                  <a:lnTo>
                    <a:pt x="2226" y="458"/>
                  </a:lnTo>
                  <a:lnTo>
                    <a:pt x="2227" y="466"/>
                  </a:lnTo>
                  <a:lnTo>
                    <a:pt x="2228" y="473"/>
                  </a:lnTo>
                  <a:lnTo>
                    <a:pt x="2232" y="480"/>
                  </a:lnTo>
                  <a:lnTo>
                    <a:pt x="2235" y="484"/>
                  </a:lnTo>
                  <a:lnTo>
                    <a:pt x="2240" y="489"/>
                  </a:lnTo>
                  <a:lnTo>
                    <a:pt x="2244" y="494"/>
                  </a:lnTo>
                  <a:lnTo>
                    <a:pt x="2251" y="497"/>
                  </a:lnTo>
                  <a:lnTo>
                    <a:pt x="2267" y="504"/>
                  </a:lnTo>
                  <a:lnTo>
                    <a:pt x="2285" y="512"/>
                  </a:lnTo>
                  <a:lnTo>
                    <a:pt x="2290" y="540"/>
                  </a:lnTo>
                  <a:lnTo>
                    <a:pt x="2297" y="569"/>
                  </a:lnTo>
                  <a:lnTo>
                    <a:pt x="2305" y="593"/>
                  </a:lnTo>
                  <a:lnTo>
                    <a:pt x="2313" y="615"/>
                  </a:lnTo>
                  <a:lnTo>
                    <a:pt x="2319" y="625"/>
                  </a:lnTo>
                  <a:lnTo>
                    <a:pt x="2324" y="633"/>
                  </a:lnTo>
                  <a:lnTo>
                    <a:pt x="2330" y="641"/>
                  </a:lnTo>
                  <a:lnTo>
                    <a:pt x="2336" y="647"/>
                  </a:lnTo>
                  <a:lnTo>
                    <a:pt x="2341" y="653"/>
                  </a:lnTo>
                  <a:lnTo>
                    <a:pt x="2348" y="656"/>
                  </a:lnTo>
                  <a:lnTo>
                    <a:pt x="2355" y="658"/>
                  </a:lnTo>
                  <a:lnTo>
                    <a:pt x="2362" y="66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7" name="Freeform 1404"/>
            <p:cNvSpPr/>
            <p:nvPr/>
          </p:nvSpPr>
          <p:spPr>
            <a:xfrm>
              <a:off x="4189680" y="4776840"/>
              <a:ext cx="424080" cy="99720"/>
            </a:xfrm>
            <a:custGeom>
              <a:avLst/>
              <a:gdLst>
                <a:gd name="textAreaLeft" fmla="*/ 0 w 424080"/>
                <a:gd name="textAreaRight" fmla="*/ 424440 w 424080"/>
                <a:gd name="textAreaTop" fmla="*/ 0 h 99720"/>
                <a:gd name="textAreaBottom" fmla="*/ 100080 h 99720"/>
              </a:gdLst>
              <a:ahLst/>
              <a:rect l="textAreaLeft" t="textAreaTop" r="textAreaRight" b="textAreaBottom"/>
              <a:pathLst>
                <a:path w="2362" h="660">
                  <a:moveTo>
                    <a:pt x="2362" y="660"/>
                  </a:moveTo>
                  <a:lnTo>
                    <a:pt x="586" y="656"/>
                  </a:lnTo>
                  <a:lnTo>
                    <a:pt x="631" y="481"/>
                  </a:lnTo>
                  <a:lnTo>
                    <a:pt x="0" y="475"/>
                  </a:lnTo>
                  <a:lnTo>
                    <a:pt x="165" y="0"/>
                  </a:lnTo>
                  <a:lnTo>
                    <a:pt x="1535" y="2"/>
                  </a:lnTo>
                  <a:lnTo>
                    <a:pt x="1548" y="9"/>
                  </a:lnTo>
                  <a:lnTo>
                    <a:pt x="1561" y="15"/>
                  </a:lnTo>
                  <a:lnTo>
                    <a:pt x="1575" y="20"/>
                  </a:lnTo>
                  <a:lnTo>
                    <a:pt x="1588" y="23"/>
                  </a:lnTo>
                  <a:lnTo>
                    <a:pt x="1602" y="25"/>
                  </a:lnTo>
                  <a:lnTo>
                    <a:pt x="1617" y="28"/>
                  </a:lnTo>
                  <a:lnTo>
                    <a:pt x="1632" y="28"/>
                  </a:lnTo>
                  <a:lnTo>
                    <a:pt x="1646" y="29"/>
                  </a:lnTo>
                  <a:lnTo>
                    <a:pt x="1678" y="28"/>
                  </a:lnTo>
                  <a:lnTo>
                    <a:pt x="1709" y="25"/>
                  </a:lnTo>
                  <a:lnTo>
                    <a:pt x="1742" y="23"/>
                  </a:lnTo>
                  <a:lnTo>
                    <a:pt x="1774" y="20"/>
                  </a:lnTo>
                  <a:lnTo>
                    <a:pt x="1806" y="16"/>
                  </a:lnTo>
                  <a:lnTo>
                    <a:pt x="1838" y="15"/>
                  </a:lnTo>
                  <a:lnTo>
                    <a:pt x="1853" y="14"/>
                  </a:lnTo>
                  <a:lnTo>
                    <a:pt x="1869" y="15"/>
                  </a:lnTo>
                  <a:lnTo>
                    <a:pt x="1885" y="16"/>
                  </a:lnTo>
                  <a:lnTo>
                    <a:pt x="1899" y="17"/>
                  </a:lnTo>
                  <a:lnTo>
                    <a:pt x="1914" y="20"/>
                  </a:lnTo>
                  <a:lnTo>
                    <a:pt x="1928" y="23"/>
                  </a:lnTo>
                  <a:lnTo>
                    <a:pt x="1942" y="28"/>
                  </a:lnTo>
                  <a:lnTo>
                    <a:pt x="1956" y="32"/>
                  </a:lnTo>
                  <a:lnTo>
                    <a:pt x="1969" y="39"/>
                  </a:lnTo>
                  <a:lnTo>
                    <a:pt x="1982" y="46"/>
                  </a:lnTo>
                  <a:lnTo>
                    <a:pt x="1993" y="56"/>
                  </a:lnTo>
                  <a:lnTo>
                    <a:pt x="2005" y="66"/>
                  </a:lnTo>
                  <a:lnTo>
                    <a:pt x="2039" y="99"/>
                  </a:lnTo>
                  <a:lnTo>
                    <a:pt x="2066" y="128"/>
                  </a:lnTo>
                  <a:lnTo>
                    <a:pt x="2088" y="153"/>
                  </a:lnTo>
                  <a:lnTo>
                    <a:pt x="2104" y="173"/>
                  </a:lnTo>
                  <a:lnTo>
                    <a:pt x="2116" y="190"/>
                  </a:lnTo>
                  <a:lnTo>
                    <a:pt x="2125" y="205"/>
                  </a:lnTo>
                  <a:lnTo>
                    <a:pt x="2130" y="217"/>
                  </a:lnTo>
                  <a:lnTo>
                    <a:pt x="2133" y="226"/>
                  </a:lnTo>
                  <a:lnTo>
                    <a:pt x="2135" y="233"/>
                  </a:lnTo>
                  <a:lnTo>
                    <a:pt x="2133" y="239"/>
                  </a:lnTo>
                  <a:lnTo>
                    <a:pt x="2132" y="244"/>
                  </a:lnTo>
                  <a:lnTo>
                    <a:pt x="2131" y="248"/>
                  </a:lnTo>
                  <a:lnTo>
                    <a:pt x="2131" y="252"/>
                  </a:lnTo>
                  <a:lnTo>
                    <a:pt x="2131" y="255"/>
                  </a:lnTo>
                  <a:lnTo>
                    <a:pt x="2133" y="260"/>
                  </a:lnTo>
                  <a:lnTo>
                    <a:pt x="2138" y="265"/>
                  </a:lnTo>
                  <a:lnTo>
                    <a:pt x="2145" y="271"/>
                  </a:lnTo>
                  <a:lnTo>
                    <a:pt x="2152" y="275"/>
                  </a:lnTo>
                  <a:lnTo>
                    <a:pt x="2160" y="280"/>
                  </a:lnTo>
                  <a:lnTo>
                    <a:pt x="2170" y="285"/>
                  </a:lnTo>
                  <a:lnTo>
                    <a:pt x="2187" y="293"/>
                  </a:lnTo>
                  <a:lnTo>
                    <a:pt x="2204" y="303"/>
                  </a:lnTo>
                  <a:lnTo>
                    <a:pt x="2211" y="308"/>
                  </a:lnTo>
                  <a:lnTo>
                    <a:pt x="2218" y="315"/>
                  </a:lnTo>
                  <a:lnTo>
                    <a:pt x="2223" y="323"/>
                  </a:lnTo>
                  <a:lnTo>
                    <a:pt x="2228" y="333"/>
                  </a:lnTo>
                  <a:lnTo>
                    <a:pt x="2230" y="344"/>
                  </a:lnTo>
                  <a:lnTo>
                    <a:pt x="2233" y="356"/>
                  </a:lnTo>
                  <a:lnTo>
                    <a:pt x="2233" y="371"/>
                  </a:lnTo>
                  <a:lnTo>
                    <a:pt x="2230" y="389"/>
                  </a:lnTo>
                  <a:lnTo>
                    <a:pt x="2226" y="421"/>
                  </a:lnTo>
                  <a:lnTo>
                    <a:pt x="2225" y="447"/>
                  </a:lnTo>
                  <a:lnTo>
                    <a:pt x="2226" y="458"/>
                  </a:lnTo>
                  <a:lnTo>
                    <a:pt x="2227" y="466"/>
                  </a:lnTo>
                  <a:lnTo>
                    <a:pt x="2228" y="473"/>
                  </a:lnTo>
                  <a:lnTo>
                    <a:pt x="2232" y="480"/>
                  </a:lnTo>
                  <a:lnTo>
                    <a:pt x="2235" y="484"/>
                  </a:lnTo>
                  <a:lnTo>
                    <a:pt x="2240" y="489"/>
                  </a:lnTo>
                  <a:lnTo>
                    <a:pt x="2244" y="494"/>
                  </a:lnTo>
                  <a:lnTo>
                    <a:pt x="2251" y="497"/>
                  </a:lnTo>
                  <a:lnTo>
                    <a:pt x="2267" y="504"/>
                  </a:lnTo>
                  <a:lnTo>
                    <a:pt x="2285" y="512"/>
                  </a:lnTo>
                  <a:lnTo>
                    <a:pt x="2290" y="540"/>
                  </a:lnTo>
                  <a:lnTo>
                    <a:pt x="2297" y="569"/>
                  </a:lnTo>
                  <a:lnTo>
                    <a:pt x="2305" y="593"/>
                  </a:lnTo>
                  <a:lnTo>
                    <a:pt x="2313" y="615"/>
                  </a:lnTo>
                  <a:lnTo>
                    <a:pt x="2319" y="625"/>
                  </a:lnTo>
                  <a:lnTo>
                    <a:pt x="2324" y="633"/>
                  </a:lnTo>
                  <a:lnTo>
                    <a:pt x="2330" y="641"/>
                  </a:lnTo>
                  <a:lnTo>
                    <a:pt x="2336" y="647"/>
                  </a:lnTo>
                  <a:lnTo>
                    <a:pt x="2341" y="653"/>
                  </a:lnTo>
                  <a:lnTo>
                    <a:pt x="2348" y="656"/>
                  </a:lnTo>
                  <a:lnTo>
                    <a:pt x="2355" y="658"/>
                  </a:lnTo>
                  <a:lnTo>
                    <a:pt x="2362" y="66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8" name="Freeform 1405"/>
            <p:cNvSpPr/>
            <p:nvPr/>
          </p:nvSpPr>
          <p:spPr>
            <a:xfrm>
              <a:off x="4218480" y="4680360"/>
              <a:ext cx="338760" cy="106560"/>
            </a:xfrm>
            <a:custGeom>
              <a:avLst/>
              <a:gdLst>
                <a:gd name="textAreaLeft" fmla="*/ 0 w 338760"/>
                <a:gd name="textAreaRight" fmla="*/ 339120 w 338760"/>
                <a:gd name="textAreaTop" fmla="*/ 0 h 106560"/>
                <a:gd name="textAreaBottom" fmla="*/ 106920 h 106560"/>
              </a:gdLst>
              <a:ahLst/>
              <a:rect l="textAreaLeft" t="textAreaTop" r="textAreaRight" b="textAreaBottom"/>
              <a:pathLst>
                <a:path w="1886" h="703">
                  <a:moveTo>
                    <a:pt x="0" y="637"/>
                  </a:moveTo>
                  <a:lnTo>
                    <a:pt x="219" y="0"/>
                  </a:lnTo>
                  <a:lnTo>
                    <a:pt x="1886" y="6"/>
                  </a:lnTo>
                  <a:lnTo>
                    <a:pt x="1846" y="703"/>
                  </a:lnTo>
                  <a:lnTo>
                    <a:pt x="1835" y="693"/>
                  </a:lnTo>
                  <a:lnTo>
                    <a:pt x="1822" y="683"/>
                  </a:lnTo>
                  <a:lnTo>
                    <a:pt x="1809" y="676"/>
                  </a:lnTo>
                  <a:lnTo>
                    <a:pt x="1796" y="669"/>
                  </a:lnTo>
                  <a:lnTo>
                    <a:pt x="1782" y="665"/>
                  </a:lnTo>
                  <a:lnTo>
                    <a:pt x="1768" y="660"/>
                  </a:lnTo>
                  <a:lnTo>
                    <a:pt x="1753" y="657"/>
                  </a:lnTo>
                  <a:lnTo>
                    <a:pt x="1738" y="654"/>
                  </a:lnTo>
                  <a:lnTo>
                    <a:pt x="1724" y="653"/>
                  </a:lnTo>
                  <a:lnTo>
                    <a:pt x="1707" y="652"/>
                  </a:lnTo>
                  <a:lnTo>
                    <a:pt x="1692" y="651"/>
                  </a:lnTo>
                  <a:lnTo>
                    <a:pt x="1677" y="652"/>
                  </a:lnTo>
                  <a:lnTo>
                    <a:pt x="1644" y="653"/>
                  </a:lnTo>
                  <a:lnTo>
                    <a:pt x="1612" y="657"/>
                  </a:lnTo>
                  <a:lnTo>
                    <a:pt x="1580" y="660"/>
                  </a:lnTo>
                  <a:lnTo>
                    <a:pt x="1547" y="662"/>
                  </a:lnTo>
                  <a:lnTo>
                    <a:pt x="1516" y="665"/>
                  </a:lnTo>
                  <a:lnTo>
                    <a:pt x="1485" y="666"/>
                  </a:lnTo>
                  <a:lnTo>
                    <a:pt x="1470" y="665"/>
                  </a:lnTo>
                  <a:lnTo>
                    <a:pt x="1455" y="665"/>
                  </a:lnTo>
                  <a:lnTo>
                    <a:pt x="1440" y="662"/>
                  </a:lnTo>
                  <a:lnTo>
                    <a:pt x="1426" y="660"/>
                  </a:lnTo>
                  <a:lnTo>
                    <a:pt x="1413" y="657"/>
                  </a:lnTo>
                  <a:lnTo>
                    <a:pt x="1399" y="652"/>
                  </a:lnTo>
                  <a:lnTo>
                    <a:pt x="1386" y="646"/>
                  </a:lnTo>
                  <a:lnTo>
                    <a:pt x="1373" y="639"/>
                  </a:lnTo>
                  <a:lnTo>
                    <a:pt x="0" y="63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99" name="Freeform 1406"/>
            <p:cNvSpPr/>
            <p:nvPr/>
          </p:nvSpPr>
          <p:spPr>
            <a:xfrm>
              <a:off x="4218480" y="4680360"/>
              <a:ext cx="338760" cy="106560"/>
            </a:xfrm>
            <a:custGeom>
              <a:avLst/>
              <a:gdLst>
                <a:gd name="textAreaLeft" fmla="*/ 0 w 338760"/>
                <a:gd name="textAreaRight" fmla="*/ 339120 w 338760"/>
                <a:gd name="textAreaTop" fmla="*/ 0 h 106560"/>
                <a:gd name="textAreaBottom" fmla="*/ 106920 h 106560"/>
              </a:gdLst>
              <a:ahLst/>
              <a:rect l="textAreaLeft" t="textAreaTop" r="textAreaRight" b="textAreaBottom"/>
              <a:pathLst>
                <a:path w="1886" h="703">
                  <a:moveTo>
                    <a:pt x="0" y="637"/>
                  </a:moveTo>
                  <a:lnTo>
                    <a:pt x="219" y="0"/>
                  </a:lnTo>
                  <a:lnTo>
                    <a:pt x="1886" y="6"/>
                  </a:lnTo>
                  <a:lnTo>
                    <a:pt x="1846" y="703"/>
                  </a:lnTo>
                  <a:lnTo>
                    <a:pt x="1835" y="693"/>
                  </a:lnTo>
                  <a:lnTo>
                    <a:pt x="1822" y="683"/>
                  </a:lnTo>
                  <a:lnTo>
                    <a:pt x="1809" y="676"/>
                  </a:lnTo>
                  <a:lnTo>
                    <a:pt x="1796" y="669"/>
                  </a:lnTo>
                  <a:lnTo>
                    <a:pt x="1782" y="665"/>
                  </a:lnTo>
                  <a:lnTo>
                    <a:pt x="1768" y="660"/>
                  </a:lnTo>
                  <a:lnTo>
                    <a:pt x="1753" y="657"/>
                  </a:lnTo>
                  <a:lnTo>
                    <a:pt x="1738" y="654"/>
                  </a:lnTo>
                  <a:lnTo>
                    <a:pt x="1724" y="653"/>
                  </a:lnTo>
                  <a:lnTo>
                    <a:pt x="1707" y="652"/>
                  </a:lnTo>
                  <a:lnTo>
                    <a:pt x="1692" y="651"/>
                  </a:lnTo>
                  <a:lnTo>
                    <a:pt x="1677" y="652"/>
                  </a:lnTo>
                  <a:lnTo>
                    <a:pt x="1644" y="653"/>
                  </a:lnTo>
                  <a:lnTo>
                    <a:pt x="1612" y="657"/>
                  </a:lnTo>
                  <a:lnTo>
                    <a:pt x="1580" y="660"/>
                  </a:lnTo>
                  <a:lnTo>
                    <a:pt x="1547" y="662"/>
                  </a:lnTo>
                  <a:lnTo>
                    <a:pt x="1516" y="665"/>
                  </a:lnTo>
                  <a:lnTo>
                    <a:pt x="1485" y="666"/>
                  </a:lnTo>
                  <a:lnTo>
                    <a:pt x="1470" y="665"/>
                  </a:lnTo>
                  <a:lnTo>
                    <a:pt x="1455" y="665"/>
                  </a:lnTo>
                  <a:lnTo>
                    <a:pt x="1440" y="662"/>
                  </a:lnTo>
                  <a:lnTo>
                    <a:pt x="1426" y="660"/>
                  </a:lnTo>
                  <a:lnTo>
                    <a:pt x="1413" y="657"/>
                  </a:lnTo>
                  <a:lnTo>
                    <a:pt x="1399" y="652"/>
                  </a:lnTo>
                  <a:lnTo>
                    <a:pt x="1386" y="646"/>
                  </a:lnTo>
                  <a:lnTo>
                    <a:pt x="1373" y="639"/>
                  </a:lnTo>
                  <a:lnTo>
                    <a:pt x="0" y="637"/>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00" name="Freeform 1407"/>
            <p:cNvSpPr/>
            <p:nvPr/>
          </p:nvSpPr>
          <p:spPr>
            <a:xfrm>
              <a:off x="4258080" y="4593960"/>
              <a:ext cx="299160" cy="86760"/>
            </a:xfrm>
            <a:custGeom>
              <a:avLst/>
              <a:gdLst>
                <a:gd name="textAreaLeft" fmla="*/ 0 w 299160"/>
                <a:gd name="textAreaRight" fmla="*/ 299520 w 299160"/>
                <a:gd name="textAreaTop" fmla="*/ 0 h 86760"/>
                <a:gd name="textAreaBottom" fmla="*/ 87120 h 86760"/>
              </a:gdLst>
              <a:ahLst/>
              <a:rect l="textAreaLeft" t="textAreaTop" r="textAreaRight" b="textAreaBottom"/>
              <a:pathLst>
                <a:path w="1667" h="576">
                  <a:moveTo>
                    <a:pt x="1667" y="576"/>
                  </a:moveTo>
                  <a:lnTo>
                    <a:pt x="0" y="570"/>
                  </a:lnTo>
                  <a:lnTo>
                    <a:pt x="189" y="6"/>
                  </a:lnTo>
                  <a:lnTo>
                    <a:pt x="292" y="6"/>
                  </a:lnTo>
                  <a:lnTo>
                    <a:pt x="392" y="7"/>
                  </a:lnTo>
                  <a:lnTo>
                    <a:pt x="490" y="7"/>
                  </a:lnTo>
                  <a:lnTo>
                    <a:pt x="585" y="7"/>
                  </a:lnTo>
                  <a:lnTo>
                    <a:pt x="679" y="7"/>
                  </a:lnTo>
                  <a:lnTo>
                    <a:pt x="770" y="7"/>
                  </a:lnTo>
                  <a:lnTo>
                    <a:pt x="859" y="6"/>
                  </a:lnTo>
                  <a:lnTo>
                    <a:pt x="944" y="6"/>
                  </a:lnTo>
                  <a:lnTo>
                    <a:pt x="1028" y="6"/>
                  </a:lnTo>
                  <a:lnTo>
                    <a:pt x="1108" y="5"/>
                  </a:lnTo>
                  <a:lnTo>
                    <a:pt x="1185" y="5"/>
                  </a:lnTo>
                  <a:lnTo>
                    <a:pt x="1258" y="4"/>
                  </a:lnTo>
                  <a:lnTo>
                    <a:pt x="1328" y="2"/>
                  </a:lnTo>
                  <a:lnTo>
                    <a:pt x="1395" y="2"/>
                  </a:lnTo>
                  <a:lnTo>
                    <a:pt x="1458" y="1"/>
                  </a:lnTo>
                  <a:lnTo>
                    <a:pt x="1518" y="0"/>
                  </a:lnTo>
                  <a:lnTo>
                    <a:pt x="1521" y="20"/>
                  </a:lnTo>
                  <a:lnTo>
                    <a:pt x="1522" y="37"/>
                  </a:lnTo>
                  <a:lnTo>
                    <a:pt x="1521" y="53"/>
                  </a:lnTo>
                  <a:lnTo>
                    <a:pt x="1519" y="68"/>
                  </a:lnTo>
                  <a:lnTo>
                    <a:pt x="1515" y="81"/>
                  </a:lnTo>
                  <a:lnTo>
                    <a:pt x="1511" y="94"/>
                  </a:lnTo>
                  <a:lnTo>
                    <a:pt x="1506" y="104"/>
                  </a:lnTo>
                  <a:lnTo>
                    <a:pt x="1501" y="116"/>
                  </a:lnTo>
                  <a:lnTo>
                    <a:pt x="1498" y="125"/>
                  </a:lnTo>
                  <a:lnTo>
                    <a:pt x="1494" y="136"/>
                  </a:lnTo>
                  <a:lnTo>
                    <a:pt x="1492" y="146"/>
                  </a:lnTo>
                  <a:lnTo>
                    <a:pt x="1491" y="157"/>
                  </a:lnTo>
                  <a:lnTo>
                    <a:pt x="1492" y="167"/>
                  </a:lnTo>
                  <a:lnTo>
                    <a:pt x="1494" y="179"/>
                  </a:lnTo>
                  <a:lnTo>
                    <a:pt x="1500" y="190"/>
                  </a:lnTo>
                  <a:lnTo>
                    <a:pt x="1509" y="204"/>
                  </a:lnTo>
                  <a:lnTo>
                    <a:pt x="1530" y="234"/>
                  </a:lnTo>
                  <a:lnTo>
                    <a:pt x="1552" y="261"/>
                  </a:lnTo>
                  <a:lnTo>
                    <a:pt x="1573" y="287"/>
                  </a:lnTo>
                  <a:lnTo>
                    <a:pt x="1592" y="313"/>
                  </a:lnTo>
                  <a:lnTo>
                    <a:pt x="1610" y="338"/>
                  </a:lnTo>
                  <a:lnTo>
                    <a:pt x="1625" y="360"/>
                  </a:lnTo>
                  <a:lnTo>
                    <a:pt x="1631" y="370"/>
                  </a:lnTo>
                  <a:lnTo>
                    <a:pt x="1636" y="381"/>
                  </a:lnTo>
                  <a:lnTo>
                    <a:pt x="1639" y="391"/>
                  </a:lnTo>
                  <a:lnTo>
                    <a:pt x="1641" y="401"/>
                  </a:lnTo>
                  <a:lnTo>
                    <a:pt x="1645" y="421"/>
                  </a:lnTo>
                  <a:lnTo>
                    <a:pt x="1650" y="447"/>
                  </a:lnTo>
                  <a:lnTo>
                    <a:pt x="1653" y="477"/>
                  </a:lnTo>
                  <a:lnTo>
                    <a:pt x="1658" y="506"/>
                  </a:lnTo>
                  <a:lnTo>
                    <a:pt x="1661" y="533"/>
                  </a:lnTo>
                  <a:lnTo>
                    <a:pt x="1665" y="555"/>
                  </a:lnTo>
                  <a:lnTo>
                    <a:pt x="1667" y="570"/>
                  </a:lnTo>
                  <a:lnTo>
                    <a:pt x="1667" y="576"/>
                  </a:lnTo>
                  <a:close/>
                </a:path>
              </a:pathLst>
            </a:custGeom>
            <a:solidFill>
              <a:srgbClr val="93d5ed"/>
            </a:solidFill>
            <a:ln w="9360">
              <a:solidFill>
                <a:srgbClr val="ccecff"/>
              </a:solidFill>
              <a:round/>
            </a:ln>
          </p:spPr>
          <p:style>
            <a:lnRef idx="0"/>
            <a:fillRef idx="0"/>
            <a:effectRef idx="0"/>
            <a:fontRef idx="minor"/>
          </p:style>
          <p:txBody>
            <a:bodyPr lIns="90000" rIns="90000" tIns="40320" bIns="40320" anchor="t">
              <a:noAutofit/>
            </a:bodyPr>
            <a:p>
              <a:endParaRPr b="1" lang="en-US" sz="2400" spc="-1" strike="noStrike">
                <a:solidFill>
                  <a:srgbClr val="ffffff"/>
                </a:solidFill>
                <a:latin typeface="Times New Roman"/>
              </a:endParaRPr>
            </a:p>
          </p:txBody>
        </p:sp>
        <p:sp>
          <p:nvSpPr>
            <p:cNvPr id="301" name="Freeform 1408"/>
            <p:cNvSpPr/>
            <p:nvPr/>
          </p:nvSpPr>
          <p:spPr>
            <a:xfrm>
              <a:off x="4258080" y="4593960"/>
              <a:ext cx="299160" cy="86760"/>
            </a:xfrm>
            <a:custGeom>
              <a:avLst/>
              <a:gdLst>
                <a:gd name="textAreaLeft" fmla="*/ 0 w 299160"/>
                <a:gd name="textAreaRight" fmla="*/ 299520 w 299160"/>
                <a:gd name="textAreaTop" fmla="*/ 0 h 86760"/>
                <a:gd name="textAreaBottom" fmla="*/ 87120 h 86760"/>
              </a:gdLst>
              <a:ahLst/>
              <a:rect l="textAreaLeft" t="textAreaTop" r="textAreaRight" b="textAreaBottom"/>
              <a:pathLst>
                <a:path w="1667" h="576">
                  <a:moveTo>
                    <a:pt x="1667" y="576"/>
                  </a:moveTo>
                  <a:lnTo>
                    <a:pt x="0" y="570"/>
                  </a:lnTo>
                  <a:lnTo>
                    <a:pt x="189" y="6"/>
                  </a:lnTo>
                  <a:lnTo>
                    <a:pt x="292" y="6"/>
                  </a:lnTo>
                  <a:lnTo>
                    <a:pt x="392" y="7"/>
                  </a:lnTo>
                  <a:lnTo>
                    <a:pt x="490" y="7"/>
                  </a:lnTo>
                  <a:lnTo>
                    <a:pt x="585" y="7"/>
                  </a:lnTo>
                  <a:lnTo>
                    <a:pt x="679" y="7"/>
                  </a:lnTo>
                  <a:lnTo>
                    <a:pt x="770" y="7"/>
                  </a:lnTo>
                  <a:lnTo>
                    <a:pt x="859" y="6"/>
                  </a:lnTo>
                  <a:lnTo>
                    <a:pt x="944" y="6"/>
                  </a:lnTo>
                  <a:lnTo>
                    <a:pt x="1028" y="6"/>
                  </a:lnTo>
                  <a:lnTo>
                    <a:pt x="1108" y="5"/>
                  </a:lnTo>
                  <a:lnTo>
                    <a:pt x="1185" y="5"/>
                  </a:lnTo>
                  <a:lnTo>
                    <a:pt x="1258" y="4"/>
                  </a:lnTo>
                  <a:lnTo>
                    <a:pt x="1328" y="2"/>
                  </a:lnTo>
                  <a:lnTo>
                    <a:pt x="1395" y="2"/>
                  </a:lnTo>
                  <a:lnTo>
                    <a:pt x="1458" y="1"/>
                  </a:lnTo>
                  <a:lnTo>
                    <a:pt x="1518" y="0"/>
                  </a:lnTo>
                  <a:lnTo>
                    <a:pt x="1521" y="20"/>
                  </a:lnTo>
                  <a:lnTo>
                    <a:pt x="1522" y="37"/>
                  </a:lnTo>
                  <a:lnTo>
                    <a:pt x="1521" y="53"/>
                  </a:lnTo>
                  <a:lnTo>
                    <a:pt x="1519" y="68"/>
                  </a:lnTo>
                  <a:lnTo>
                    <a:pt x="1515" y="81"/>
                  </a:lnTo>
                  <a:lnTo>
                    <a:pt x="1511" y="94"/>
                  </a:lnTo>
                  <a:lnTo>
                    <a:pt x="1506" y="104"/>
                  </a:lnTo>
                  <a:lnTo>
                    <a:pt x="1501" y="116"/>
                  </a:lnTo>
                  <a:lnTo>
                    <a:pt x="1498" y="125"/>
                  </a:lnTo>
                  <a:lnTo>
                    <a:pt x="1494" y="136"/>
                  </a:lnTo>
                  <a:lnTo>
                    <a:pt x="1492" y="146"/>
                  </a:lnTo>
                  <a:lnTo>
                    <a:pt x="1491" y="157"/>
                  </a:lnTo>
                  <a:lnTo>
                    <a:pt x="1492" y="167"/>
                  </a:lnTo>
                  <a:lnTo>
                    <a:pt x="1494" y="179"/>
                  </a:lnTo>
                  <a:lnTo>
                    <a:pt x="1500" y="190"/>
                  </a:lnTo>
                  <a:lnTo>
                    <a:pt x="1509" y="204"/>
                  </a:lnTo>
                  <a:lnTo>
                    <a:pt x="1530" y="234"/>
                  </a:lnTo>
                  <a:lnTo>
                    <a:pt x="1552" y="261"/>
                  </a:lnTo>
                  <a:lnTo>
                    <a:pt x="1573" y="287"/>
                  </a:lnTo>
                  <a:lnTo>
                    <a:pt x="1592" y="313"/>
                  </a:lnTo>
                  <a:lnTo>
                    <a:pt x="1610" y="338"/>
                  </a:lnTo>
                  <a:lnTo>
                    <a:pt x="1625" y="360"/>
                  </a:lnTo>
                  <a:lnTo>
                    <a:pt x="1631" y="370"/>
                  </a:lnTo>
                  <a:lnTo>
                    <a:pt x="1636" y="381"/>
                  </a:lnTo>
                  <a:lnTo>
                    <a:pt x="1639" y="391"/>
                  </a:lnTo>
                  <a:lnTo>
                    <a:pt x="1641" y="401"/>
                  </a:lnTo>
                  <a:lnTo>
                    <a:pt x="1645" y="421"/>
                  </a:lnTo>
                  <a:lnTo>
                    <a:pt x="1650" y="447"/>
                  </a:lnTo>
                  <a:lnTo>
                    <a:pt x="1653" y="477"/>
                  </a:lnTo>
                  <a:lnTo>
                    <a:pt x="1658" y="506"/>
                  </a:lnTo>
                  <a:lnTo>
                    <a:pt x="1661" y="533"/>
                  </a:lnTo>
                  <a:lnTo>
                    <a:pt x="1665" y="555"/>
                  </a:lnTo>
                  <a:lnTo>
                    <a:pt x="1667" y="570"/>
                  </a:lnTo>
                  <a:lnTo>
                    <a:pt x="1667" y="576"/>
                  </a:lnTo>
                </a:path>
              </a:pathLst>
            </a:custGeom>
            <a:solidFill>
              <a:srgbClr val="93d5ed"/>
            </a:solidFill>
            <a:ln w="4680">
              <a:solidFill>
                <a:srgbClr val="ccecff"/>
              </a:solidFill>
              <a:round/>
            </a:ln>
          </p:spPr>
          <p:style>
            <a:lnRef idx="0"/>
            <a:fillRef idx="0"/>
            <a:effectRef idx="0"/>
            <a:fontRef idx="minor"/>
          </p:style>
          <p:txBody>
            <a:bodyPr lIns="90000" rIns="90000" tIns="40320" bIns="40320" anchor="t">
              <a:noAutofit/>
            </a:bodyPr>
            <a:p>
              <a:endParaRPr b="1" lang="en-US" sz="2400" spc="-1" strike="noStrike">
                <a:solidFill>
                  <a:srgbClr val="ffffff"/>
                </a:solidFill>
                <a:latin typeface="Times New Roman"/>
              </a:endParaRPr>
            </a:p>
          </p:txBody>
        </p:sp>
        <p:sp>
          <p:nvSpPr>
            <p:cNvPr id="302" name="Freeform 1409"/>
            <p:cNvSpPr/>
            <p:nvPr/>
          </p:nvSpPr>
          <p:spPr>
            <a:xfrm>
              <a:off x="4525920" y="4577760"/>
              <a:ext cx="321840" cy="169560"/>
            </a:xfrm>
            <a:custGeom>
              <a:avLst/>
              <a:gdLst>
                <a:gd name="textAreaLeft" fmla="*/ 0 w 321840"/>
                <a:gd name="textAreaRight" fmla="*/ 322200 w 321840"/>
                <a:gd name="textAreaTop" fmla="*/ 0 h 169560"/>
                <a:gd name="textAreaBottom" fmla="*/ 169920 h 169560"/>
              </a:gdLst>
              <a:ahLst/>
              <a:rect l="textAreaLeft" t="textAreaTop" r="textAreaRight" b="textAreaBottom"/>
              <a:pathLst>
                <a:path w="1792" h="1120">
                  <a:moveTo>
                    <a:pt x="1038" y="688"/>
                  </a:moveTo>
                  <a:lnTo>
                    <a:pt x="1052" y="695"/>
                  </a:lnTo>
                  <a:lnTo>
                    <a:pt x="1065" y="701"/>
                  </a:lnTo>
                  <a:lnTo>
                    <a:pt x="1076" y="708"/>
                  </a:lnTo>
                  <a:lnTo>
                    <a:pt x="1084" y="715"/>
                  </a:lnTo>
                  <a:lnTo>
                    <a:pt x="1091" y="722"/>
                  </a:lnTo>
                  <a:lnTo>
                    <a:pt x="1095" y="729"/>
                  </a:lnTo>
                  <a:lnTo>
                    <a:pt x="1099" y="737"/>
                  </a:lnTo>
                  <a:lnTo>
                    <a:pt x="1101" y="745"/>
                  </a:lnTo>
                  <a:lnTo>
                    <a:pt x="1106" y="778"/>
                  </a:lnTo>
                  <a:lnTo>
                    <a:pt x="1109" y="812"/>
                  </a:lnTo>
                  <a:lnTo>
                    <a:pt x="1112" y="820"/>
                  </a:lnTo>
                  <a:lnTo>
                    <a:pt x="1114" y="827"/>
                  </a:lnTo>
                  <a:lnTo>
                    <a:pt x="1116" y="833"/>
                  </a:lnTo>
                  <a:lnTo>
                    <a:pt x="1120" y="840"/>
                  </a:lnTo>
                  <a:lnTo>
                    <a:pt x="1129" y="852"/>
                  </a:lnTo>
                  <a:lnTo>
                    <a:pt x="1140" y="863"/>
                  </a:lnTo>
                  <a:lnTo>
                    <a:pt x="1154" y="875"/>
                  </a:lnTo>
                  <a:lnTo>
                    <a:pt x="1169" y="884"/>
                  </a:lnTo>
                  <a:lnTo>
                    <a:pt x="1185" y="894"/>
                  </a:lnTo>
                  <a:lnTo>
                    <a:pt x="1204" y="903"/>
                  </a:lnTo>
                  <a:lnTo>
                    <a:pt x="1223" y="911"/>
                  </a:lnTo>
                  <a:lnTo>
                    <a:pt x="1244" y="919"/>
                  </a:lnTo>
                  <a:lnTo>
                    <a:pt x="1266" y="926"/>
                  </a:lnTo>
                  <a:lnTo>
                    <a:pt x="1289" y="933"/>
                  </a:lnTo>
                  <a:lnTo>
                    <a:pt x="1337" y="947"/>
                  </a:lnTo>
                  <a:lnTo>
                    <a:pt x="1386" y="959"/>
                  </a:lnTo>
                  <a:lnTo>
                    <a:pt x="1398" y="963"/>
                  </a:lnTo>
                  <a:lnTo>
                    <a:pt x="1410" y="966"/>
                  </a:lnTo>
                  <a:lnTo>
                    <a:pt x="1420" y="971"/>
                  </a:lnTo>
                  <a:lnTo>
                    <a:pt x="1431" y="974"/>
                  </a:lnTo>
                  <a:lnTo>
                    <a:pt x="1448" y="985"/>
                  </a:lnTo>
                  <a:lnTo>
                    <a:pt x="1463" y="995"/>
                  </a:lnTo>
                  <a:lnTo>
                    <a:pt x="1477" y="1007"/>
                  </a:lnTo>
                  <a:lnTo>
                    <a:pt x="1488" y="1020"/>
                  </a:lnTo>
                  <a:lnTo>
                    <a:pt x="1497" y="1033"/>
                  </a:lnTo>
                  <a:lnTo>
                    <a:pt x="1505" y="1044"/>
                  </a:lnTo>
                  <a:lnTo>
                    <a:pt x="1511" y="1057"/>
                  </a:lnTo>
                  <a:lnTo>
                    <a:pt x="1516" y="1068"/>
                  </a:lnTo>
                  <a:lnTo>
                    <a:pt x="1519" y="1078"/>
                  </a:lnTo>
                  <a:lnTo>
                    <a:pt x="1522" y="1088"/>
                  </a:lnTo>
                  <a:lnTo>
                    <a:pt x="1524" y="1102"/>
                  </a:lnTo>
                  <a:lnTo>
                    <a:pt x="1524" y="1106"/>
                  </a:lnTo>
                  <a:lnTo>
                    <a:pt x="150" y="1120"/>
                  </a:lnTo>
                  <a:lnTo>
                    <a:pt x="176" y="680"/>
                  </a:lnTo>
                  <a:lnTo>
                    <a:pt x="176" y="674"/>
                  </a:lnTo>
                  <a:lnTo>
                    <a:pt x="174" y="659"/>
                  </a:lnTo>
                  <a:lnTo>
                    <a:pt x="170" y="637"/>
                  </a:lnTo>
                  <a:lnTo>
                    <a:pt x="167" y="610"/>
                  </a:lnTo>
                  <a:lnTo>
                    <a:pt x="162" y="581"/>
                  </a:lnTo>
                  <a:lnTo>
                    <a:pt x="159" y="551"/>
                  </a:lnTo>
                  <a:lnTo>
                    <a:pt x="154" y="525"/>
                  </a:lnTo>
                  <a:lnTo>
                    <a:pt x="150" y="505"/>
                  </a:lnTo>
                  <a:lnTo>
                    <a:pt x="148" y="495"/>
                  </a:lnTo>
                  <a:lnTo>
                    <a:pt x="145" y="485"/>
                  </a:lnTo>
                  <a:lnTo>
                    <a:pt x="140" y="474"/>
                  </a:lnTo>
                  <a:lnTo>
                    <a:pt x="134" y="464"/>
                  </a:lnTo>
                  <a:lnTo>
                    <a:pt x="119" y="442"/>
                  </a:lnTo>
                  <a:lnTo>
                    <a:pt x="101" y="417"/>
                  </a:lnTo>
                  <a:lnTo>
                    <a:pt x="82" y="391"/>
                  </a:lnTo>
                  <a:lnTo>
                    <a:pt x="61" y="365"/>
                  </a:lnTo>
                  <a:lnTo>
                    <a:pt x="39" y="338"/>
                  </a:lnTo>
                  <a:lnTo>
                    <a:pt x="18" y="308"/>
                  </a:lnTo>
                  <a:lnTo>
                    <a:pt x="9" y="294"/>
                  </a:lnTo>
                  <a:lnTo>
                    <a:pt x="3" y="283"/>
                  </a:lnTo>
                  <a:lnTo>
                    <a:pt x="1" y="271"/>
                  </a:lnTo>
                  <a:lnTo>
                    <a:pt x="0" y="261"/>
                  </a:lnTo>
                  <a:lnTo>
                    <a:pt x="1" y="250"/>
                  </a:lnTo>
                  <a:lnTo>
                    <a:pt x="3" y="240"/>
                  </a:lnTo>
                  <a:lnTo>
                    <a:pt x="7" y="229"/>
                  </a:lnTo>
                  <a:lnTo>
                    <a:pt x="10" y="220"/>
                  </a:lnTo>
                  <a:lnTo>
                    <a:pt x="15" y="208"/>
                  </a:lnTo>
                  <a:lnTo>
                    <a:pt x="20" y="198"/>
                  </a:lnTo>
                  <a:lnTo>
                    <a:pt x="24" y="185"/>
                  </a:lnTo>
                  <a:lnTo>
                    <a:pt x="28" y="172"/>
                  </a:lnTo>
                  <a:lnTo>
                    <a:pt x="30" y="157"/>
                  </a:lnTo>
                  <a:lnTo>
                    <a:pt x="31" y="141"/>
                  </a:lnTo>
                  <a:lnTo>
                    <a:pt x="30" y="124"/>
                  </a:lnTo>
                  <a:lnTo>
                    <a:pt x="27" y="104"/>
                  </a:lnTo>
                  <a:lnTo>
                    <a:pt x="90" y="103"/>
                  </a:lnTo>
                  <a:lnTo>
                    <a:pt x="147" y="102"/>
                  </a:lnTo>
                  <a:lnTo>
                    <a:pt x="200" y="101"/>
                  </a:lnTo>
                  <a:lnTo>
                    <a:pt x="245" y="99"/>
                  </a:lnTo>
                  <a:lnTo>
                    <a:pt x="285" y="98"/>
                  </a:lnTo>
                  <a:lnTo>
                    <a:pt x="319" y="96"/>
                  </a:lnTo>
                  <a:lnTo>
                    <a:pt x="346" y="95"/>
                  </a:lnTo>
                  <a:lnTo>
                    <a:pt x="367" y="92"/>
                  </a:lnTo>
                  <a:lnTo>
                    <a:pt x="375" y="80"/>
                  </a:lnTo>
                  <a:lnTo>
                    <a:pt x="384" y="68"/>
                  </a:lnTo>
                  <a:lnTo>
                    <a:pt x="392" y="57"/>
                  </a:lnTo>
                  <a:lnTo>
                    <a:pt x="400" y="49"/>
                  </a:lnTo>
                  <a:lnTo>
                    <a:pt x="409" y="42"/>
                  </a:lnTo>
                  <a:lnTo>
                    <a:pt x="416" y="36"/>
                  </a:lnTo>
                  <a:lnTo>
                    <a:pt x="424" y="30"/>
                  </a:lnTo>
                  <a:lnTo>
                    <a:pt x="430" y="27"/>
                  </a:lnTo>
                  <a:lnTo>
                    <a:pt x="441" y="21"/>
                  </a:lnTo>
                  <a:lnTo>
                    <a:pt x="451" y="19"/>
                  </a:lnTo>
                  <a:lnTo>
                    <a:pt x="456" y="18"/>
                  </a:lnTo>
                  <a:lnTo>
                    <a:pt x="459" y="18"/>
                  </a:lnTo>
                  <a:lnTo>
                    <a:pt x="583" y="0"/>
                  </a:lnTo>
                  <a:lnTo>
                    <a:pt x="706" y="124"/>
                  </a:lnTo>
                  <a:lnTo>
                    <a:pt x="757" y="120"/>
                  </a:lnTo>
                  <a:lnTo>
                    <a:pt x="803" y="118"/>
                  </a:lnTo>
                  <a:lnTo>
                    <a:pt x="845" y="118"/>
                  </a:lnTo>
                  <a:lnTo>
                    <a:pt x="882" y="119"/>
                  </a:lnTo>
                  <a:lnTo>
                    <a:pt x="912" y="120"/>
                  </a:lnTo>
                  <a:lnTo>
                    <a:pt x="935" y="122"/>
                  </a:lnTo>
                  <a:lnTo>
                    <a:pt x="949" y="124"/>
                  </a:lnTo>
                  <a:lnTo>
                    <a:pt x="954" y="124"/>
                  </a:lnTo>
                  <a:lnTo>
                    <a:pt x="1046" y="124"/>
                  </a:lnTo>
                  <a:lnTo>
                    <a:pt x="1109" y="187"/>
                  </a:lnTo>
                  <a:lnTo>
                    <a:pt x="1134" y="179"/>
                  </a:lnTo>
                  <a:lnTo>
                    <a:pt x="1157" y="173"/>
                  </a:lnTo>
                  <a:lnTo>
                    <a:pt x="1178" y="167"/>
                  </a:lnTo>
                  <a:lnTo>
                    <a:pt x="1197" y="164"/>
                  </a:lnTo>
                  <a:lnTo>
                    <a:pt x="1213" y="161"/>
                  </a:lnTo>
                  <a:lnTo>
                    <a:pt x="1229" y="160"/>
                  </a:lnTo>
                  <a:lnTo>
                    <a:pt x="1243" y="160"/>
                  </a:lnTo>
                  <a:lnTo>
                    <a:pt x="1253" y="160"/>
                  </a:lnTo>
                  <a:lnTo>
                    <a:pt x="1272" y="162"/>
                  </a:lnTo>
                  <a:lnTo>
                    <a:pt x="1285" y="166"/>
                  </a:lnTo>
                  <a:lnTo>
                    <a:pt x="1292" y="169"/>
                  </a:lnTo>
                  <a:lnTo>
                    <a:pt x="1294" y="171"/>
                  </a:lnTo>
                  <a:lnTo>
                    <a:pt x="1296" y="167"/>
                  </a:lnTo>
                  <a:lnTo>
                    <a:pt x="1302" y="159"/>
                  </a:lnTo>
                  <a:lnTo>
                    <a:pt x="1312" y="148"/>
                  </a:lnTo>
                  <a:lnTo>
                    <a:pt x="1323" y="139"/>
                  </a:lnTo>
                  <a:lnTo>
                    <a:pt x="1329" y="136"/>
                  </a:lnTo>
                  <a:lnTo>
                    <a:pt x="1337" y="132"/>
                  </a:lnTo>
                  <a:lnTo>
                    <a:pt x="1344" y="131"/>
                  </a:lnTo>
                  <a:lnTo>
                    <a:pt x="1352" y="131"/>
                  </a:lnTo>
                  <a:lnTo>
                    <a:pt x="1361" y="133"/>
                  </a:lnTo>
                  <a:lnTo>
                    <a:pt x="1369" y="138"/>
                  </a:lnTo>
                  <a:lnTo>
                    <a:pt x="1378" y="145"/>
                  </a:lnTo>
                  <a:lnTo>
                    <a:pt x="1386" y="155"/>
                  </a:lnTo>
                  <a:lnTo>
                    <a:pt x="1391" y="161"/>
                  </a:lnTo>
                  <a:lnTo>
                    <a:pt x="1397" y="166"/>
                  </a:lnTo>
                  <a:lnTo>
                    <a:pt x="1403" y="169"/>
                  </a:lnTo>
                  <a:lnTo>
                    <a:pt x="1410" y="173"/>
                  </a:lnTo>
                  <a:lnTo>
                    <a:pt x="1418" y="175"/>
                  </a:lnTo>
                  <a:lnTo>
                    <a:pt x="1426" y="176"/>
                  </a:lnTo>
                  <a:lnTo>
                    <a:pt x="1434" y="178"/>
                  </a:lnTo>
                  <a:lnTo>
                    <a:pt x="1445" y="179"/>
                  </a:lnTo>
                  <a:lnTo>
                    <a:pt x="1465" y="179"/>
                  </a:lnTo>
                  <a:lnTo>
                    <a:pt x="1488" y="178"/>
                  </a:lnTo>
                  <a:lnTo>
                    <a:pt x="1511" y="175"/>
                  </a:lnTo>
                  <a:lnTo>
                    <a:pt x="1537" y="172"/>
                  </a:lnTo>
                  <a:lnTo>
                    <a:pt x="1592" y="164"/>
                  </a:lnTo>
                  <a:lnTo>
                    <a:pt x="1648" y="157"/>
                  </a:lnTo>
                  <a:lnTo>
                    <a:pt x="1676" y="154"/>
                  </a:lnTo>
                  <a:lnTo>
                    <a:pt x="1704" y="153"/>
                  </a:lnTo>
                  <a:lnTo>
                    <a:pt x="1731" y="153"/>
                  </a:lnTo>
                  <a:lnTo>
                    <a:pt x="1758" y="155"/>
                  </a:lnTo>
                  <a:lnTo>
                    <a:pt x="1769" y="158"/>
                  </a:lnTo>
                  <a:lnTo>
                    <a:pt x="1779" y="159"/>
                  </a:lnTo>
                  <a:lnTo>
                    <a:pt x="1785" y="161"/>
                  </a:lnTo>
                  <a:lnTo>
                    <a:pt x="1789" y="164"/>
                  </a:lnTo>
                  <a:lnTo>
                    <a:pt x="1792" y="167"/>
                  </a:lnTo>
                  <a:lnTo>
                    <a:pt x="1792" y="169"/>
                  </a:lnTo>
                  <a:lnTo>
                    <a:pt x="1789" y="173"/>
                  </a:lnTo>
                  <a:lnTo>
                    <a:pt x="1785" y="176"/>
                  </a:lnTo>
                  <a:lnTo>
                    <a:pt x="1772" y="185"/>
                  </a:lnTo>
                  <a:lnTo>
                    <a:pt x="1753" y="193"/>
                  </a:lnTo>
                  <a:lnTo>
                    <a:pt x="1730" y="202"/>
                  </a:lnTo>
                  <a:lnTo>
                    <a:pt x="1703" y="212"/>
                  </a:lnTo>
                  <a:lnTo>
                    <a:pt x="1640" y="230"/>
                  </a:lnTo>
                  <a:lnTo>
                    <a:pt x="1574" y="249"/>
                  </a:lnTo>
                  <a:lnTo>
                    <a:pt x="1512" y="265"/>
                  </a:lnTo>
                  <a:lnTo>
                    <a:pt x="1463" y="279"/>
                  </a:lnTo>
                  <a:lnTo>
                    <a:pt x="1445" y="285"/>
                  </a:lnTo>
                  <a:lnTo>
                    <a:pt x="1426" y="292"/>
                  </a:lnTo>
                  <a:lnTo>
                    <a:pt x="1409" y="299"/>
                  </a:lnTo>
                  <a:lnTo>
                    <a:pt x="1393" y="307"/>
                  </a:lnTo>
                  <a:lnTo>
                    <a:pt x="1378" y="315"/>
                  </a:lnTo>
                  <a:lnTo>
                    <a:pt x="1365" y="325"/>
                  </a:lnTo>
                  <a:lnTo>
                    <a:pt x="1352" y="334"/>
                  </a:lnTo>
                  <a:lnTo>
                    <a:pt x="1342" y="344"/>
                  </a:lnTo>
                  <a:lnTo>
                    <a:pt x="1331" y="354"/>
                  </a:lnTo>
                  <a:lnTo>
                    <a:pt x="1322" y="365"/>
                  </a:lnTo>
                  <a:lnTo>
                    <a:pt x="1313" y="376"/>
                  </a:lnTo>
                  <a:lnTo>
                    <a:pt x="1306" y="387"/>
                  </a:lnTo>
                  <a:lnTo>
                    <a:pt x="1292" y="410"/>
                  </a:lnTo>
                  <a:lnTo>
                    <a:pt x="1280" y="432"/>
                  </a:lnTo>
                  <a:lnTo>
                    <a:pt x="1268" y="454"/>
                  </a:lnTo>
                  <a:lnTo>
                    <a:pt x="1255" y="478"/>
                  </a:lnTo>
                  <a:lnTo>
                    <a:pt x="1241" y="500"/>
                  </a:lnTo>
                  <a:lnTo>
                    <a:pt x="1226" y="521"/>
                  </a:lnTo>
                  <a:lnTo>
                    <a:pt x="1210" y="542"/>
                  </a:lnTo>
                  <a:lnTo>
                    <a:pt x="1194" y="563"/>
                  </a:lnTo>
                  <a:lnTo>
                    <a:pt x="1176" y="582"/>
                  </a:lnTo>
                  <a:lnTo>
                    <a:pt x="1159" y="600"/>
                  </a:lnTo>
                  <a:lnTo>
                    <a:pt x="1141" y="618"/>
                  </a:lnTo>
                  <a:lnTo>
                    <a:pt x="1123" y="633"/>
                  </a:lnTo>
                  <a:lnTo>
                    <a:pt x="1107" y="647"/>
                  </a:lnTo>
                  <a:lnTo>
                    <a:pt x="1091" y="659"/>
                  </a:lnTo>
                  <a:lnTo>
                    <a:pt x="1076" y="669"/>
                  </a:lnTo>
                  <a:lnTo>
                    <a:pt x="1062" y="679"/>
                  </a:lnTo>
                  <a:lnTo>
                    <a:pt x="1049" y="685"/>
                  </a:lnTo>
                  <a:lnTo>
                    <a:pt x="1038" y="68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03" name="Freeform 1410"/>
            <p:cNvSpPr/>
            <p:nvPr/>
          </p:nvSpPr>
          <p:spPr>
            <a:xfrm>
              <a:off x="4525920" y="4577760"/>
              <a:ext cx="321840" cy="169560"/>
            </a:xfrm>
            <a:custGeom>
              <a:avLst/>
              <a:gdLst>
                <a:gd name="textAreaLeft" fmla="*/ 0 w 321840"/>
                <a:gd name="textAreaRight" fmla="*/ 322200 w 321840"/>
                <a:gd name="textAreaTop" fmla="*/ 0 h 169560"/>
                <a:gd name="textAreaBottom" fmla="*/ 169920 h 169560"/>
              </a:gdLst>
              <a:ahLst/>
              <a:rect l="textAreaLeft" t="textAreaTop" r="textAreaRight" b="textAreaBottom"/>
              <a:pathLst>
                <a:path w="1792" h="1120">
                  <a:moveTo>
                    <a:pt x="1038" y="688"/>
                  </a:moveTo>
                  <a:lnTo>
                    <a:pt x="1052" y="695"/>
                  </a:lnTo>
                  <a:lnTo>
                    <a:pt x="1065" y="701"/>
                  </a:lnTo>
                  <a:lnTo>
                    <a:pt x="1076" y="708"/>
                  </a:lnTo>
                  <a:lnTo>
                    <a:pt x="1084" y="715"/>
                  </a:lnTo>
                  <a:lnTo>
                    <a:pt x="1091" y="722"/>
                  </a:lnTo>
                  <a:lnTo>
                    <a:pt x="1095" y="729"/>
                  </a:lnTo>
                  <a:lnTo>
                    <a:pt x="1099" y="737"/>
                  </a:lnTo>
                  <a:lnTo>
                    <a:pt x="1101" y="745"/>
                  </a:lnTo>
                  <a:lnTo>
                    <a:pt x="1106" y="778"/>
                  </a:lnTo>
                  <a:lnTo>
                    <a:pt x="1109" y="812"/>
                  </a:lnTo>
                  <a:lnTo>
                    <a:pt x="1112" y="820"/>
                  </a:lnTo>
                  <a:lnTo>
                    <a:pt x="1114" y="827"/>
                  </a:lnTo>
                  <a:lnTo>
                    <a:pt x="1116" y="833"/>
                  </a:lnTo>
                  <a:lnTo>
                    <a:pt x="1120" y="840"/>
                  </a:lnTo>
                  <a:lnTo>
                    <a:pt x="1129" y="852"/>
                  </a:lnTo>
                  <a:lnTo>
                    <a:pt x="1140" y="863"/>
                  </a:lnTo>
                  <a:lnTo>
                    <a:pt x="1154" y="875"/>
                  </a:lnTo>
                  <a:lnTo>
                    <a:pt x="1169" y="884"/>
                  </a:lnTo>
                  <a:lnTo>
                    <a:pt x="1185" y="894"/>
                  </a:lnTo>
                  <a:lnTo>
                    <a:pt x="1204" y="903"/>
                  </a:lnTo>
                  <a:lnTo>
                    <a:pt x="1223" y="911"/>
                  </a:lnTo>
                  <a:lnTo>
                    <a:pt x="1244" y="919"/>
                  </a:lnTo>
                  <a:lnTo>
                    <a:pt x="1266" y="926"/>
                  </a:lnTo>
                  <a:lnTo>
                    <a:pt x="1289" y="933"/>
                  </a:lnTo>
                  <a:lnTo>
                    <a:pt x="1337" y="947"/>
                  </a:lnTo>
                  <a:lnTo>
                    <a:pt x="1386" y="959"/>
                  </a:lnTo>
                  <a:lnTo>
                    <a:pt x="1398" y="963"/>
                  </a:lnTo>
                  <a:lnTo>
                    <a:pt x="1410" y="966"/>
                  </a:lnTo>
                  <a:lnTo>
                    <a:pt x="1420" y="971"/>
                  </a:lnTo>
                  <a:lnTo>
                    <a:pt x="1431" y="974"/>
                  </a:lnTo>
                  <a:lnTo>
                    <a:pt x="1448" y="985"/>
                  </a:lnTo>
                  <a:lnTo>
                    <a:pt x="1463" y="995"/>
                  </a:lnTo>
                  <a:lnTo>
                    <a:pt x="1477" y="1007"/>
                  </a:lnTo>
                  <a:lnTo>
                    <a:pt x="1488" y="1020"/>
                  </a:lnTo>
                  <a:lnTo>
                    <a:pt x="1497" y="1033"/>
                  </a:lnTo>
                  <a:lnTo>
                    <a:pt x="1505" y="1044"/>
                  </a:lnTo>
                  <a:lnTo>
                    <a:pt x="1511" y="1057"/>
                  </a:lnTo>
                  <a:lnTo>
                    <a:pt x="1516" y="1068"/>
                  </a:lnTo>
                  <a:lnTo>
                    <a:pt x="1519" y="1078"/>
                  </a:lnTo>
                  <a:lnTo>
                    <a:pt x="1522" y="1088"/>
                  </a:lnTo>
                  <a:lnTo>
                    <a:pt x="1524" y="1102"/>
                  </a:lnTo>
                  <a:lnTo>
                    <a:pt x="1524" y="1106"/>
                  </a:lnTo>
                  <a:lnTo>
                    <a:pt x="150" y="1120"/>
                  </a:lnTo>
                  <a:lnTo>
                    <a:pt x="176" y="680"/>
                  </a:lnTo>
                  <a:lnTo>
                    <a:pt x="176" y="674"/>
                  </a:lnTo>
                  <a:lnTo>
                    <a:pt x="174" y="659"/>
                  </a:lnTo>
                  <a:lnTo>
                    <a:pt x="170" y="637"/>
                  </a:lnTo>
                  <a:lnTo>
                    <a:pt x="167" y="610"/>
                  </a:lnTo>
                  <a:lnTo>
                    <a:pt x="162" y="581"/>
                  </a:lnTo>
                  <a:lnTo>
                    <a:pt x="159" y="551"/>
                  </a:lnTo>
                  <a:lnTo>
                    <a:pt x="154" y="525"/>
                  </a:lnTo>
                  <a:lnTo>
                    <a:pt x="150" y="505"/>
                  </a:lnTo>
                  <a:lnTo>
                    <a:pt x="148" y="495"/>
                  </a:lnTo>
                  <a:lnTo>
                    <a:pt x="145" y="485"/>
                  </a:lnTo>
                  <a:lnTo>
                    <a:pt x="140" y="474"/>
                  </a:lnTo>
                  <a:lnTo>
                    <a:pt x="134" y="464"/>
                  </a:lnTo>
                  <a:lnTo>
                    <a:pt x="119" y="442"/>
                  </a:lnTo>
                  <a:lnTo>
                    <a:pt x="101" y="417"/>
                  </a:lnTo>
                  <a:lnTo>
                    <a:pt x="82" y="391"/>
                  </a:lnTo>
                  <a:lnTo>
                    <a:pt x="61" y="365"/>
                  </a:lnTo>
                  <a:lnTo>
                    <a:pt x="39" y="338"/>
                  </a:lnTo>
                  <a:lnTo>
                    <a:pt x="18" y="308"/>
                  </a:lnTo>
                  <a:lnTo>
                    <a:pt x="9" y="294"/>
                  </a:lnTo>
                  <a:lnTo>
                    <a:pt x="3" y="283"/>
                  </a:lnTo>
                  <a:lnTo>
                    <a:pt x="1" y="271"/>
                  </a:lnTo>
                  <a:lnTo>
                    <a:pt x="0" y="261"/>
                  </a:lnTo>
                  <a:lnTo>
                    <a:pt x="1" y="250"/>
                  </a:lnTo>
                  <a:lnTo>
                    <a:pt x="3" y="240"/>
                  </a:lnTo>
                  <a:lnTo>
                    <a:pt x="7" y="229"/>
                  </a:lnTo>
                  <a:lnTo>
                    <a:pt x="10" y="220"/>
                  </a:lnTo>
                  <a:lnTo>
                    <a:pt x="15" y="208"/>
                  </a:lnTo>
                  <a:lnTo>
                    <a:pt x="20" y="198"/>
                  </a:lnTo>
                  <a:lnTo>
                    <a:pt x="24" y="185"/>
                  </a:lnTo>
                  <a:lnTo>
                    <a:pt x="28" y="172"/>
                  </a:lnTo>
                  <a:lnTo>
                    <a:pt x="30" y="157"/>
                  </a:lnTo>
                  <a:lnTo>
                    <a:pt x="31" y="141"/>
                  </a:lnTo>
                  <a:lnTo>
                    <a:pt x="30" y="124"/>
                  </a:lnTo>
                  <a:lnTo>
                    <a:pt x="27" y="104"/>
                  </a:lnTo>
                  <a:lnTo>
                    <a:pt x="90" y="103"/>
                  </a:lnTo>
                  <a:lnTo>
                    <a:pt x="147" y="102"/>
                  </a:lnTo>
                  <a:lnTo>
                    <a:pt x="200" y="101"/>
                  </a:lnTo>
                  <a:lnTo>
                    <a:pt x="245" y="99"/>
                  </a:lnTo>
                  <a:lnTo>
                    <a:pt x="285" y="98"/>
                  </a:lnTo>
                  <a:lnTo>
                    <a:pt x="319" y="96"/>
                  </a:lnTo>
                  <a:lnTo>
                    <a:pt x="346" y="95"/>
                  </a:lnTo>
                  <a:lnTo>
                    <a:pt x="367" y="92"/>
                  </a:lnTo>
                  <a:lnTo>
                    <a:pt x="375" y="80"/>
                  </a:lnTo>
                  <a:lnTo>
                    <a:pt x="384" y="68"/>
                  </a:lnTo>
                  <a:lnTo>
                    <a:pt x="392" y="57"/>
                  </a:lnTo>
                  <a:lnTo>
                    <a:pt x="400" y="49"/>
                  </a:lnTo>
                  <a:lnTo>
                    <a:pt x="409" y="42"/>
                  </a:lnTo>
                  <a:lnTo>
                    <a:pt x="416" y="36"/>
                  </a:lnTo>
                  <a:lnTo>
                    <a:pt x="424" y="30"/>
                  </a:lnTo>
                  <a:lnTo>
                    <a:pt x="430" y="27"/>
                  </a:lnTo>
                  <a:lnTo>
                    <a:pt x="441" y="21"/>
                  </a:lnTo>
                  <a:lnTo>
                    <a:pt x="451" y="19"/>
                  </a:lnTo>
                  <a:lnTo>
                    <a:pt x="456" y="18"/>
                  </a:lnTo>
                  <a:lnTo>
                    <a:pt x="459" y="18"/>
                  </a:lnTo>
                  <a:lnTo>
                    <a:pt x="583" y="0"/>
                  </a:lnTo>
                  <a:lnTo>
                    <a:pt x="706" y="124"/>
                  </a:lnTo>
                  <a:lnTo>
                    <a:pt x="757" y="120"/>
                  </a:lnTo>
                  <a:lnTo>
                    <a:pt x="803" y="118"/>
                  </a:lnTo>
                  <a:lnTo>
                    <a:pt x="845" y="118"/>
                  </a:lnTo>
                  <a:lnTo>
                    <a:pt x="882" y="119"/>
                  </a:lnTo>
                  <a:lnTo>
                    <a:pt x="912" y="120"/>
                  </a:lnTo>
                  <a:lnTo>
                    <a:pt x="935" y="122"/>
                  </a:lnTo>
                  <a:lnTo>
                    <a:pt x="949" y="124"/>
                  </a:lnTo>
                  <a:lnTo>
                    <a:pt x="954" y="124"/>
                  </a:lnTo>
                  <a:lnTo>
                    <a:pt x="1046" y="124"/>
                  </a:lnTo>
                  <a:lnTo>
                    <a:pt x="1109" y="187"/>
                  </a:lnTo>
                  <a:lnTo>
                    <a:pt x="1134" y="179"/>
                  </a:lnTo>
                  <a:lnTo>
                    <a:pt x="1157" y="173"/>
                  </a:lnTo>
                  <a:lnTo>
                    <a:pt x="1178" y="167"/>
                  </a:lnTo>
                  <a:lnTo>
                    <a:pt x="1197" y="164"/>
                  </a:lnTo>
                  <a:lnTo>
                    <a:pt x="1213" y="161"/>
                  </a:lnTo>
                  <a:lnTo>
                    <a:pt x="1229" y="160"/>
                  </a:lnTo>
                  <a:lnTo>
                    <a:pt x="1243" y="160"/>
                  </a:lnTo>
                  <a:lnTo>
                    <a:pt x="1253" y="160"/>
                  </a:lnTo>
                  <a:lnTo>
                    <a:pt x="1272" y="162"/>
                  </a:lnTo>
                  <a:lnTo>
                    <a:pt x="1285" y="166"/>
                  </a:lnTo>
                  <a:lnTo>
                    <a:pt x="1292" y="169"/>
                  </a:lnTo>
                  <a:lnTo>
                    <a:pt x="1294" y="171"/>
                  </a:lnTo>
                  <a:lnTo>
                    <a:pt x="1296" y="167"/>
                  </a:lnTo>
                  <a:lnTo>
                    <a:pt x="1302" y="159"/>
                  </a:lnTo>
                  <a:lnTo>
                    <a:pt x="1312" y="148"/>
                  </a:lnTo>
                  <a:lnTo>
                    <a:pt x="1323" y="139"/>
                  </a:lnTo>
                  <a:lnTo>
                    <a:pt x="1329" y="136"/>
                  </a:lnTo>
                  <a:lnTo>
                    <a:pt x="1337" y="132"/>
                  </a:lnTo>
                  <a:lnTo>
                    <a:pt x="1344" y="131"/>
                  </a:lnTo>
                  <a:lnTo>
                    <a:pt x="1352" y="131"/>
                  </a:lnTo>
                  <a:lnTo>
                    <a:pt x="1361" y="133"/>
                  </a:lnTo>
                  <a:lnTo>
                    <a:pt x="1369" y="138"/>
                  </a:lnTo>
                  <a:lnTo>
                    <a:pt x="1378" y="145"/>
                  </a:lnTo>
                  <a:lnTo>
                    <a:pt x="1386" y="155"/>
                  </a:lnTo>
                  <a:lnTo>
                    <a:pt x="1391" y="161"/>
                  </a:lnTo>
                  <a:lnTo>
                    <a:pt x="1397" y="166"/>
                  </a:lnTo>
                  <a:lnTo>
                    <a:pt x="1403" y="169"/>
                  </a:lnTo>
                  <a:lnTo>
                    <a:pt x="1410" y="173"/>
                  </a:lnTo>
                  <a:lnTo>
                    <a:pt x="1418" y="175"/>
                  </a:lnTo>
                  <a:lnTo>
                    <a:pt x="1426" y="176"/>
                  </a:lnTo>
                  <a:lnTo>
                    <a:pt x="1434" y="178"/>
                  </a:lnTo>
                  <a:lnTo>
                    <a:pt x="1445" y="179"/>
                  </a:lnTo>
                  <a:lnTo>
                    <a:pt x="1465" y="179"/>
                  </a:lnTo>
                  <a:lnTo>
                    <a:pt x="1488" y="178"/>
                  </a:lnTo>
                  <a:lnTo>
                    <a:pt x="1511" y="175"/>
                  </a:lnTo>
                  <a:lnTo>
                    <a:pt x="1537" y="172"/>
                  </a:lnTo>
                  <a:lnTo>
                    <a:pt x="1592" y="164"/>
                  </a:lnTo>
                  <a:lnTo>
                    <a:pt x="1648" y="157"/>
                  </a:lnTo>
                  <a:lnTo>
                    <a:pt x="1676" y="154"/>
                  </a:lnTo>
                  <a:lnTo>
                    <a:pt x="1704" y="153"/>
                  </a:lnTo>
                  <a:lnTo>
                    <a:pt x="1731" y="153"/>
                  </a:lnTo>
                  <a:lnTo>
                    <a:pt x="1758" y="155"/>
                  </a:lnTo>
                  <a:lnTo>
                    <a:pt x="1769" y="158"/>
                  </a:lnTo>
                  <a:lnTo>
                    <a:pt x="1779" y="159"/>
                  </a:lnTo>
                  <a:lnTo>
                    <a:pt x="1785" y="161"/>
                  </a:lnTo>
                  <a:lnTo>
                    <a:pt x="1789" y="164"/>
                  </a:lnTo>
                  <a:lnTo>
                    <a:pt x="1792" y="167"/>
                  </a:lnTo>
                  <a:lnTo>
                    <a:pt x="1792" y="169"/>
                  </a:lnTo>
                  <a:lnTo>
                    <a:pt x="1789" y="173"/>
                  </a:lnTo>
                  <a:lnTo>
                    <a:pt x="1785" y="176"/>
                  </a:lnTo>
                  <a:lnTo>
                    <a:pt x="1772" y="185"/>
                  </a:lnTo>
                  <a:lnTo>
                    <a:pt x="1753" y="193"/>
                  </a:lnTo>
                  <a:lnTo>
                    <a:pt x="1730" y="202"/>
                  </a:lnTo>
                  <a:lnTo>
                    <a:pt x="1703" y="212"/>
                  </a:lnTo>
                  <a:lnTo>
                    <a:pt x="1640" y="230"/>
                  </a:lnTo>
                  <a:lnTo>
                    <a:pt x="1574" y="249"/>
                  </a:lnTo>
                  <a:lnTo>
                    <a:pt x="1512" y="265"/>
                  </a:lnTo>
                  <a:lnTo>
                    <a:pt x="1463" y="279"/>
                  </a:lnTo>
                  <a:lnTo>
                    <a:pt x="1445" y="285"/>
                  </a:lnTo>
                  <a:lnTo>
                    <a:pt x="1426" y="292"/>
                  </a:lnTo>
                  <a:lnTo>
                    <a:pt x="1409" y="299"/>
                  </a:lnTo>
                  <a:lnTo>
                    <a:pt x="1393" y="307"/>
                  </a:lnTo>
                  <a:lnTo>
                    <a:pt x="1378" y="315"/>
                  </a:lnTo>
                  <a:lnTo>
                    <a:pt x="1365" y="325"/>
                  </a:lnTo>
                  <a:lnTo>
                    <a:pt x="1352" y="334"/>
                  </a:lnTo>
                  <a:lnTo>
                    <a:pt x="1342" y="344"/>
                  </a:lnTo>
                  <a:lnTo>
                    <a:pt x="1331" y="354"/>
                  </a:lnTo>
                  <a:lnTo>
                    <a:pt x="1322" y="365"/>
                  </a:lnTo>
                  <a:lnTo>
                    <a:pt x="1313" y="376"/>
                  </a:lnTo>
                  <a:lnTo>
                    <a:pt x="1306" y="387"/>
                  </a:lnTo>
                  <a:lnTo>
                    <a:pt x="1292" y="410"/>
                  </a:lnTo>
                  <a:lnTo>
                    <a:pt x="1280" y="432"/>
                  </a:lnTo>
                  <a:lnTo>
                    <a:pt x="1268" y="454"/>
                  </a:lnTo>
                  <a:lnTo>
                    <a:pt x="1255" y="478"/>
                  </a:lnTo>
                  <a:lnTo>
                    <a:pt x="1241" y="500"/>
                  </a:lnTo>
                  <a:lnTo>
                    <a:pt x="1226" y="521"/>
                  </a:lnTo>
                  <a:lnTo>
                    <a:pt x="1210" y="542"/>
                  </a:lnTo>
                  <a:lnTo>
                    <a:pt x="1194" y="563"/>
                  </a:lnTo>
                  <a:lnTo>
                    <a:pt x="1176" y="582"/>
                  </a:lnTo>
                  <a:lnTo>
                    <a:pt x="1159" y="600"/>
                  </a:lnTo>
                  <a:lnTo>
                    <a:pt x="1141" y="618"/>
                  </a:lnTo>
                  <a:lnTo>
                    <a:pt x="1123" y="633"/>
                  </a:lnTo>
                  <a:lnTo>
                    <a:pt x="1107" y="647"/>
                  </a:lnTo>
                  <a:lnTo>
                    <a:pt x="1091" y="659"/>
                  </a:lnTo>
                  <a:lnTo>
                    <a:pt x="1076" y="669"/>
                  </a:lnTo>
                  <a:lnTo>
                    <a:pt x="1062" y="679"/>
                  </a:lnTo>
                  <a:lnTo>
                    <a:pt x="1049" y="685"/>
                  </a:lnTo>
                  <a:lnTo>
                    <a:pt x="1038" y="688"/>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04" name="Freeform 1411"/>
            <p:cNvSpPr/>
            <p:nvPr/>
          </p:nvSpPr>
          <p:spPr>
            <a:xfrm>
              <a:off x="4756320" y="5198040"/>
              <a:ext cx="425880" cy="253440"/>
            </a:xfrm>
            <a:custGeom>
              <a:avLst/>
              <a:gdLst>
                <a:gd name="textAreaLeft" fmla="*/ 0 w 425880"/>
                <a:gd name="textAreaRight" fmla="*/ 426240 w 425880"/>
                <a:gd name="textAreaTop" fmla="*/ 0 h 253440"/>
                <a:gd name="textAreaBottom" fmla="*/ 253800 h 253440"/>
              </a:gdLst>
              <a:ahLst/>
              <a:rect l="textAreaLeft" t="textAreaTop" r="textAreaRight" b="textAreaBottom"/>
              <a:pathLst>
                <a:path w="2372" h="1671">
                  <a:moveTo>
                    <a:pt x="1952" y="1069"/>
                  </a:moveTo>
                  <a:lnTo>
                    <a:pt x="1939" y="1081"/>
                  </a:lnTo>
                  <a:lnTo>
                    <a:pt x="1929" y="1092"/>
                  </a:lnTo>
                  <a:lnTo>
                    <a:pt x="1920" y="1104"/>
                  </a:lnTo>
                  <a:lnTo>
                    <a:pt x="1915" y="1117"/>
                  </a:lnTo>
                  <a:lnTo>
                    <a:pt x="1910" y="1129"/>
                  </a:lnTo>
                  <a:lnTo>
                    <a:pt x="1906" y="1140"/>
                  </a:lnTo>
                  <a:lnTo>
                    <a:pt x="1905" y="1152"/>
                  </a:lnTo>
                  <a:lnTo>
                    <a:pt x="1904" y="1163"/>
                  </a:lnTo>
                  <a:lnTo>
                    <a:pt x="1905" y="1181"/>
                  </a:lnTo>
                  <a:lnTo>
                    <a:pt x="1908" y="1196"/>
                  </a:lnTo>
                  <a:lnTo>
                    <a:pt x="1911" y="1207"/>
                  </a:lnTo>
                  <a:lnTo>
                    <a:pt x="1912" y="1210"/>
                  </a:lnTo>
                  <a:lnTo>
                    <a:pt x="1915" y="1215"/>
                  </a:lnTo>
                  <a:lnTo>
                    <a:pt x="1924" y="1230"/>
                  </a:lnTo>
                  <a:lnTo>
                    <a:pt x="1940" y="1251"/>
                  </a:lnTo>
                  <a:lnTo>
                    <a:pt x="1964" y="1277"/>
                  </a:lnTo>
                  <a:lnTo>
                    <a:pt x="1978" y="1292"/>
                  </a:lnTo>
                  <a:lnTo>
                    <a:pt x="1993" y="1306"/>
                  </a:lnTo>
                  <a:lnTo>
                    <a:pt x="2012" y="1321"/>
                  </a:lnTo>
                  <a:lnTo>
                    <a:pt x="2031" y="1337"/>
                  </a:lnTo>
                  <a:lnTo>
                    <a:pt x="2054" y="1352"/>
                  </a:lnTo>
                  <a:lnTo>
                    <a:pt x="2077" y="1366"/>
                  </a:lnTo>
                  <a:lnTo>
                    <a:pt x="2103" y="1380"/>
                  </a:lnTo>
                  <a:lnTo>
                    <a:pt x="2131" y="1392"/>
                  </a:lnTo>
                  <a:lnTo>
                    <a:pt x="2193" y="1414"/>
                  </a:lnTo>
                  <a:lnTo>
                    <a:pt x="2255" y="1434"/>
                  </a:lnTo>
                  <a:lnTo>
                    <a:pt x="2284" y="1445"/>
                  </a:lnTo>
                  <a:lnTo>
                    <a:pt x="2311" y="1456"/>
                  </a:lnTo>
                  <a:lnTo>
                    <a:pt x="2322" y="1462"/>
                  </a:lnTo>
                  <a:lnTo>
                    <a:pt x="2334" y="1467"/>
                  </a:lnTo>
                  <a:lnTo>
                    <a:pt x="2343" y="1473"/>
                  </a:lnTo>
                  <a:lnTo>
                    <a:pt x="2351" y="1480"/>
                  </a:lnTo>
                  <a:lnTo>
                    <a:pt x="2360" y="1486"/>
                  </a:lnTo>
                  <a:lnTo>
                    <a:pt x="2365" y="1493"/>
                  </a:lnTo>
                  <a:lnTo>
                    <a:pt x="2369" y="1501"/>
                  </a:lnTo>
                  <a:lnTo>
                    <a:pt x="2371" y="1508"/>
                  </a:lnTo>
                  <a:lnTo>
                    <a:pt x="2372" y="1517"/>
                  </a:lnTo>
                  <a:lnTo>
                    <a:pt x="2371" y="1526"/>
                  </a:lnTo>
                  <a:lnTo>
                    <a:pt x="2368" y="1534"/>
                  </a:lnTo>
                  <a:lnTo>
                    <a:pt x="2362" y="1543"/>
                  </a:lnTo>
                  <a:lnTo>
                    <a:pt x="2354" y="1554"/>
                  </a:lnTo>
                  <a:lnTo>
                    <a:pt x="2343" y="1564"/>
                  </a:lnTo>
                  <a:lnTo>
                    <a:pt x="2330" y="1575"/>
                  </a:lnTo>
                  <a:lnTo>
                    <a:pt x="2315" y="1587"/>
                  </a:lnTo>
                  <a:lnTo>
                    <a:pt x="2297" y="1599"/>
                  </a:lnTo>
                  <a:lnTo>
                    <a:pt x="2276" y="1612"/>
                  </a:lnTo>
                  <a:lnTo>
                    <a:pt x="2251" y="1625"/>
                  </a:lnTo>
                  <a:lnTo>
                    <a:pt x="2223" y="1639"/>
                  </a:lnTo>
                  <a:lnTo>
                    <a:pt x="2197" y="1620"/>
                  </a:lnTo>
                  <a:lnTo>
                    <a:pt x="2172" y="1603"/>
                  </a:lnTo>
                  <a:lnTo>
                    <a:pt x="2147" y="1588"/>
                  </a:lnTo>
                  <a:lnTo>
                    <a:pt x="2123" y="1575"/>
                  </a:lnTo>
                  <a:lnTo>
                    <a:pt x="2098" y="1563"/>
                  </a:lnTo>
                  <a:lnTo>
                    <a:pt x="2073" y="1554"/>
                  </a:lnTo>
                  <a:lnTo>
                    <a:pt x="2050" y="1546"/>
                  </a:lnTo>
                  <a:lnTo>
                    <a:pt x="2027" y="1540"/>
                  </a:lnTo>
                  <a:lnTo>
                    <a:pt x="2005" y="1535"/>
                  </a:lnTo>
                  <a:lnTo>
                    <a:pt x="1982" y="1532"/>
                  </a:lnTo>
                  <a:lnTo>
                    <a:pt x="1960" y="1531"/>
                  </a:lnTo>
                  <a:lnTo>
                    <a:pt x="1938" y="1529"/>
                  </a:lnTo>
                  <a:lnTo>
                    <a:pt x="1917" y="1531"/>
                  </a:lnTo>
                  <a:lnTo>
                    <a:pt x="1897" y="1532"/>
                  </a:lnTo>
                  <a:lnTo>
                    <a:pt x="1876" y="1535"/>
                  </a:lnTo>
                  <a:lnTo>
                    <a:pt x="1856" y="1539"/>
                  </a:lnTo>
                  <a:lnTo>
                    <a:pt x="1837" y="1543"/>
                  </a:lnTo>
                  <a:lnTo>
                    <a:pt x="1819" y="1549"/>
                  </a:lnTo>
                  <a:lnTo>
                    <a:pt x="1800" y="1555"/>
                  </a:lnTo>
                  <a:lnTo>
                    <a:pt x="1783" y="1562"/>
                  </a:lnTo>
                  <a:lnTo>
                    <a:pt x="1765" y="1570"/>
                  </a:lnTo>
                  <a:lnTo>
                    <a:pt x="1748" y="1578"/>
                  </a:lnTo>
                  <a:lnTo>
                    <a:pt x="1731" y="1587"/>
                  </a:lnTo>
                  <a:lnTo>
                    <a:pt x="1715" y="1596"/>
                  </a:lnTo>
                  <a:lnTo>
                    <a:pt x="1684" y="1615"/>
                  </a:lnTo>
                  <a:lnTo>
                    <a:pt x="1656" y="1633"/>
                  </a:lnTo>
                  <a:lnTo>
                    <a:pt x="1631" y="1653"/>
                  </a:lnTo>
                  <a:lnTo>
                    <a:pt x="1607" y="1671"/>
                  </a:lnTo>
                  <a:lnTo>
                    <a:pt x="1585" y="1651"/>
                  </a:lnTo>
                  <a:lnTo>
                    <a:pt x="1559" y="1632"/>
                  </a:lnTo>
                  <a:lnTo>
                    <a:pt x="1533" y="1613"/>
                  </a:lnTo>
                  <a:lnTo>
                    <a:pt x="1502" y="1596"/>
                  </a:lnTo>
                  <a:lnTo>
                    <a:pt x="1471" y="1580"/>
                  </a:lnTo>
                  <a:lnTo>
                    <a:pt x="1436" y="1564"/>
                  </a:lnTo>
                  <a:lnTo>
                    <a:pt x="1399" y="1549"/>
                  </a:lnTo>
                  <a:lnTo>
                    <a:pt x="1362" y="1535"/>
                  </a:lnTo>
                  <a:lnTo>
                    <a:pt x="1324" y="1522"/>
                  </a:lnTo>
                  <a:lnTo>
                    <a:pt x="1283" y="1511"/>
                  </a:lnTo>
                  <a:lnTo>
                    <a:pt x="1241" y="1499"/>
                  </a:lnTo>
                  <a:lnTo>
                    <a:pt x="1199" y="1488"/>
                  </a:lnTo>
                  <a:lnTo>
                    <a:pt x="1156" y="1478"/>
                  </a:lnTo>
                  <a:lnTo>
                    <a:pt x="1113" y="1470"/>
                  </a:lnTo>
                  <a:lnTo>
                    <a:pt x="1069" y="1460"/>
                  </a:lnTo>
                  <a:lnTo>
                    <a:pt x="1026" y="1453"/>
                  </a:lnTo>
                  <a:lnTo>
                    <a:pt x="982" y="1446"/>
                  </a:lnTo>
                  <a:lnTo>
                    <a:pt x="939" y="1441"/>
                  </a:lnTo>
                  <a:lnTo>
                    <a:pt x="897" y="1435"/>
                  </a:lnTo>
                  <a:lnTo>
                    <a:pt x="855" y="1430"/>
                  </a:lnTo>
                  <a:lnTo>
                    <a:pt x="776" y="1423"/>
                  </a:lnTo>
                  <a:lnTo>
                    <a:pt x="701" y="1418"/>
                  </a:lnTo>
                  <a:lnTo>
                    <a:pt x="634" y="1416"/>
                  </a:lnTo>
                  <a:lnTo>
                    <a:pt x="576" y="1416"/>
                  </a:lnTo>
                  <a:lnTo>
                    <a:pt x="550" y="1417"/>
                  </a:lnTo>
                  <a:lnTo>
                    <a:pt x="528" y="1418"/>
                  </a:lnTo>
                  <a:lnTo>
                    <a:pt x="508" y="1421"/>
                  </a:lnTo>
                  <a:lnTo>
                    <a:pt x="492" y="1423"/>
                  </a:lnTo>
                  <a:lnTo>
                    <a:pt x="187" y="1452"/>
                  </a:lnTo>
                  <a:lnTo>
                    <a:pt x="167" y="758"/>
                  </a:lnTo>
                  <a:lnTo>
                    <a:pt x="147" y="736"/>
                  </a:lnTo>
                  <a:lnTo>
                    <a:pt x="129" y="713"/>
                  </a:lnTo>
                  <a:lnTo>
                    <a:pt x="119" y="701"/>
                  </a:lnTo>
                  <a:lnTo>
                    <a:pt x="111" y="688"/>
                  </a:lnTo>
                  <a:lnTo>
                    <a:pt x="103" y="674"/>
                  </a:lnTo>
                  <a:lnTo>
                    <a:pt x="95" y="660"/>
                  </a:lnTo>
                  <a:lnTo>
                    <a:pt x="86" y="645"/>
                  </a:lnTo>
                  <a:lnTo>
                    <a:pt x="79" y="629"/>
                  </a:lnTo>
                  <a:lnTo>
                    <a:pt x="72" y="612"/>
                  </a:lnTo>
                  <a:lnTo>
                    <a:pt x="65" y="595"/>
                  </a:lnTo>
                  <a:lnTo>
                    <a:pt x="54" y="559"/>
                  </a:lnTo>
                  <a:lnTo>
                    <a:pt x="42" y="518"/>
                  </a:lnTo>
                  <a:lnTo>
                    <a:pt x="33" y="473"/>
                  </a:lnTo>
                  <a:lnTo>
                    <a:pt x="23" y="426"/>
                  </a:lnTo>
                  <a:lnTo>
                    <a:pt x="16" y="372"/>
                  </a:lnTo>
                  <a:lnTo>
                    <a:pt x="11" y="315"/>
                  </a:lnTo>
                  <a:lnTo>
                    <a:pt x="6" y="253"/>
                  </a:lnTo>
                  <a:lnTo>
                    <a:pt x="2" y="186"/>
                  </a:lnTo>
                  <a:lnTo>
                    <a:pt x="0" y="114"/>
                  </a:lnTo>
                  <a:lnTo>
                    <a:pt x="0" y="35"/>
                  </a:lnTo>
                  <a:lnTo>
                    <a:pt x="1034" y="0"/>
                  </a:lnTo>
                  <a:lnTo>
                    <a:pt x="1126" y="234"/>
                  </a:lnTo>
                  <a:lnTo>
                    <a:pt x="1020" y="372"/>
                  </a:lnTo>
                  <a:lnTo>
                    <a:pt x="1034" y="698"/>
                  </a:lnTo>
                  <a:lnTo>
                    <a:pt x="1698" y="712"/>
                  </a:lnTo>
                  <a:lnTo>
                    <a:pt x="1952" y="106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05" name="Freeform 1412"/>
            <p:cNvSpPr/>
            <p:nvPr/>
          </p:nvSpPr>
          <p:spPr>
            <a:xfrm>
              <a:off x="4756320" y="5198040"/>
              <a:ext cx="425880" cy="253440"/>
            </a:xfrm>
            <a:custGeom>
              <a:avLst/>
              <a:gdLst>
                <a:gd name="textAreaLeft" fmla="*/ 0 w 425880"/>
                <a:gd name="textAreaRight" fmla="*/ 426240 w 425880"/>
                <a:gd name="textAreaTop" fmla="*/ 0 h 253440"/>
                <a:gd name="textAreaBottom" fmla="*/ 253800 h 253440"/>
              </a:gdLst>
              <a:ahLst/>
              <a:rect l="textAreaLeft" t="textAreaTop" r="textAreaRight" b="textAreaBottom"/>
              <a:pathLst>
                <a:path w="2372" h="1671">
                  <a:moveTo>
                    <a:pt x="1952" y="1069"/>
                  </a:moveTo>
                  <a:lnTo>
                    <a:pt x="1939" y="1081"/>
                  </a:lnTo>
                  <a:lnTo>
                    <a:pt x="1929" y="1092"/>
                  </a:lnTo>
                  <a:lnTo>
                    <a:pt x="1920" y="1104"/>
                  </a:lnTo>
                  <a:lnTo>
                    <a:pt x="1915" y="1117"/>
                  </a:lnTo>
                  <a:lnTo>
                    <a:pt x="1910" y="1129"/>
                  </a:lnTo>
                  <a:lnTo>
                    <a:pt x="1906" y="1140"/>
                  </a:lnTo>
                  <a:lnTo>
                    <a:pt x="1905" y="1152"/>
                  </a:lnTo>
                  <a:lnTo>
                    <a:pt x="1904" y="1163"/>
                  </a:lnTo>
                  <a:lnTo>
                    <a:pt x="1905" y="1181"/>
                  </a:lnTo>
                  <a:lnTo>
                    <a:pt x="1908" y="1196"/>
                  </a:lnTo>
                  <a:lnTo>
                    <a:pt x="1911" y="1207"/>
                  </a:lnTo>
                  <a:lnTo>
                    <a:pt x="1912" y="1210"/>
                  </a:lnTo>
                  <a:lnTo>
                    <a:pt x="1915" y="1215"/>
                  </a:lnTo>
                  <a:lnTo>
                    <a:pt x="1924" y="1230"/>
                  </a:lnTo>
                  <a:lnTo>
                    <a:pt x="1940" y="1251"/>
                  </a:lnTo>
                  <a:lnTo>
                    <a:pt x="1964" y="1277"/>
                  </a:lnTo>
                  <a:lnTo>
                    <a:pt x="1978" y="1292"/>
                  </a:lnTo>
                  <a:lnTo>
                    <a:pt x="1993" y="1306"/>
                  </a:lnTo>
                  <a:lnTo>
                    <a:pt x="2012" y="1321"/>
                  </a:lnTo>
                  <a:lnTo>
                    <a:pt x="2031" y="1337"/>
                  </a:lnTo>
                  <a:lnTo>
                    <a:pt x="2054" y="1352"/>
                  </a:lnTo>
                  <a:lnTo>
                    <a:pt x="2077" y="1366"/>
                  </a:lnTo>
                  <a:lnTo>
                    <a:pt x="2103" y="1380"/>
                  </a:lnTo>
                  <a:lnTo>
                    <a:pt x="2131" y="1392"/>
                  </a:lnTo>
                  <a:lnTo>
                    <a:pt x="2193" y="1414"/>
                  </a:lnTo>
                  <a:lnTo>
                    <a:pt x="2255" y="1434"/>
                  </a:lnTo>
                  <a:lnTo>
                    <a:pt x="2284" y="1445"/>
                  </a:lnTo>
                  <a:lnTo>
                    <a:pt x="2311" y="1456"/>
                  </a:lnTo>
                  <a:lnTo>
                    <a:pt x="2322" y="1462"/>
                  </a:lnTo>
                  <a:lnTo>
                    <a:pt x="2334" y="1467"/>
                  </a:lnTo>
                  <a:lnTo>
                    <a:pt x="2343" y="1473"/>
                  </a:lnTo>
                  <a:lnTo>
                    <a:pt x="2351" y="1480"/>
                  </a:lnTo>
                  <a:lnTo>
                    <a:pt x="2360" y="1486"/>
                  </a:lnTo>
                  <a:lnTo>
                    <a:pt x="2365" y="1493"/>
                  </a:lnTo>
                  <a:lnTo>
                    <a:pt x="2369" y="1501"/>
                  </a:lnTo>
                  <a:lnTo>
                    <a:pt x="2371" y="1508"/>
                  </a:lnTo>
                  <a:lnTo>
                    <a:pt x="2372" y="1517"/>
                  </a:lnTo>
                  <a:lnTo>
                    <a:pt x="2371" y="1526"/>
                  </a:lnTo>
                  <a:lnTo>
                    <a:pt x="2368" y="1534"/>
                  </a:lnTo>
                  <a:lnTo>
                    <a:pt x="2362" y="1543"/>
                  </a:lnTo>
                  <a:lnTo>
                    <a:pt x="2354" y="1554"/>
                  </a:lnTo>
                  <a:lnTo>
                    <a:pt x="2343" y="1564"/>
                  </a:lnTo>
                  <a:lnTo>
                    <a:pt x="2330" y="1575"/>
                  </a:lnTo>
                  <a:lnTo>
                    <a:pt x="2315" y="1587"/>
                  </a:lnTo>
                  <a:lnTo>
                    <a:pt x="2297" y="1599"/>
                  </a:lnTo>
                  <a:lnTo>
                    <a:pt x="2276" y="1612"/>
                  </a:lnTo>
                  <a:lnTo>
                    <a:pt x="2251" y="1625"/>
                  </a:lnTo>
                  <a:lnTo>
                    <a:pt x="2223" y="1639"/>
                  </a:lnTo>
                  <a:lnTo>
                    <a:pt x="2197" y="1620"/>
                  </a:lnTo>
                  <a:lnTo>
                    <a:pt x="2172" y="1603"/>
                  </a:lnTo>
                  <a:lnTo>
                    <a:pt x="2147" y="1588"/>
                  </a:lnTo>
                  <a:lnTo>
                    <a:pt x="2123" y="1575"/>
                  </a:lnTo>
                  <a:lnTo>
                    <a:pt x="2098" y="1563"/>
                  </a:lnTo>
                  <a:lnTo>
                    <a:pt x="2073" y="1554"/>
                  </a:lnTo>
                  <a:lnTo>
                    <a:pt x="2050" y="1546"/>
                  </a:lnTo>
                  <a:lnTo>
                    <a:pt x="2027" y="1540"/>
                  </a:lnTo>
                  <a:lnTo>
                    <a:pt x="2005" y="1535"/>
                  </a:lnTo>
                  <a:lnTo>
                    <a:pt x="1982" y="1532"/>
                  </a:lnTo>
                  <a:lnTo>
                    <a:pt x="1960" y="1531"/>
                  </a:lnTo>
                  <a:lnTo>
                    <a:pt x="1938" y="1529"/>
                  </a:lnTo>
                  <a:lnTo>
                    <a:pt x="1917" y="1531"/>
                  </a:lnTo>
                  <a:lnTo>
                    <a:pt x="1897" y="1532"/>
                  </a:lnTo>
                  <a:lnTo>
                    <a:pt x="1876" y="1535"/>
                  </a:lnTo>
                  <a:lnTo>
                    <a:pt x="1856" y="1539"/>
                  </a:lnTo>
                  <a:lnTo>
                    <a:pt x="1837" y="1543"/>
                  </a:lnTo>
                  <a:lnTo>
                    <a:pt x="1819" y="1549"/>
                  </a:lnTo>
                  <a:lnTo>
                    <a:pt x="1800" y="1555"/>
                  </a:lnTo>
                  <a:lnTo>
                    <a:pt x="1783" y="1562"/>
                  </a:lnTo>
                  <a:lnTo>
                    <a:pt x="1765" y="1570"/>
                  </a:lnTo>
                  <a:lnTo>
                    <a:pt x="1748" y="1578"/>
                  </a:lnTo>
                  <a:lnTo>
                    <a:pt x="1731" y="1587"/>
                  </a:lnTo>
                  <a:lnTo>
                    <a:pt x="1715" y="1596"/>
                  </a:lnTo>
                  <a:lnTo>
                    <a:pt x="1684" y="1615"/>
                  </a:lnTo>
                  <a:lnTo>
                    <a:pt x="1656" y="1633"/>
                  </a:lnTo>
                  <a:lnTo>
                    <a:pt x="1631" y="1653"/>
                  </a:lnTo>
                  <a:lnTo>
                    <a:pt x="1607" y="1671"/>
                  </a:lnTo>
                  <a:lnTo>
                    <a:pt x="1585" y="1651"/>
                  </a:lnTo>
                  <a:lnTo>
                    <a:pt x="1559" y="1632"/>
                  </a:lnTo>
                  <a:lnTo>
                    <a:pt x="1533" y="1613"/>
                  </a:lnTo>
                  <a:lnTo>
                    <a:pt x="1502" y="1596"/>
                  </a:lnTo>
                  <a:lnTo>
                    <a:pt x="1471" y="1580"/>
                  </a:lnTo>
                  <a:lnTo>
                    <a:pt x="1436" y="1564"/>
                  </a:lnTo>
                  <a:lnTo>
                    <a:pt x="1399" y="1549"/>
                  </a:lnTo>
                  <a:lnTo>
                    <a:pt x="1362" y="1535"/>
                  </a:lnTo>
                  <a:lnTo>
                    <a:pt x="1324" y="1522"/>
                  </a:lnTo>
                  <a:lnTo>
                    <a:pt x="1283" y="1511"/>
                  </a:lnTo>
                  <a:lnTo>
                    <a:pt x="1241" y="1499"/>
                  </a:lnTo>
                  <a:lnTo>
                    <a:pt x="1199" y="1488"/>
                  </a:lnTo>
                  <a:lnTo>
                    <a:pt x="1156" y="1478"/>
                  </a:lnTo>
                  <a:lnTo>
                    <a:pt x="1113" y="1470"/>
                  </a:lnTo>
                  <a:lnTo>
                    <a:pt x="1069" y="1460"/>
                  </a:lnTo>
                  <a:lnTo>
                    <a:pt x="1026" y="1453"/>
                  </a:lnTo>
                  <a:lnTo>
                    <a:pt x="982" y="1446"/>
                  </a:lnTo>
                  <a:lnTo>
                    <a:pt x="939" y="1441"/>
                  </a:lnTo>
                  <a:lnTo>
                    <a:pt x="897" y="1435"/>
                  </a:lnTo>
                  <a:lnTo>
                    <a:pt x="855" y="1430"/>
                  </a:lnTo>
                  <a:lnTo>
                    <a:pt x="776" y="1423"/>
                  </a:lnTo>
                  <a:lnTo>
                    <a:pt x="701" y="1418"/>
                  </a:lnTo>
                  <a:lnTo>
                    <a:pt x="634" y="1416"/>
                  </a:lnTo>
                  <a:lnTo>
                    <a:pt x="576" y="1416"/>
                  </a:lnTo>
                  <a:lnTo>
                    <a:pt x="550" y="1417"/>
                  </a:lnTo>
                  <a:lnTo>
                    <a:pt x="528" y="1418"/>
                  </a:lnTo>
                  <a:lnTo>
                    <a:pt x="508" y="1421"/>
                  </a:lnTo>
                  <a:lnTo>
                    <a:pt x="492" y="1423"/>
                  </a:lnTo>
                  <a:lnTo>
                    <a:pt x="187" y="1452"/>
                  </a:lnTo>
                  <a:lnTo>
                    <a:pt x="167" y="758"/>
                  </a:lnTo>
                  <a:lnTo>
                    <a:pt x="147" y="736"/>
                  </a:lnTo>
                  <a:lnTo>
                    <a:pt x="129" y="713"/>
                  </a:lnTo>
                  <a:lnTo>
                    <a:pt x="119" y="701"/>
                  </a:lnTo>
                  <a:lnTo>
                    <a:pt x="111" y="688"/>
                  </a:lnTo>
                  <a:lnTo>
                    <a:pt x="103" y="674"/>
                  </a:lnTo>
                  <a:lnTo>
                    <a:pt x="95" y="660"/>
                  </a:lnTo>
                  <a:lnTo>
                    <a:pt x="86" y="645"/>
                  </a:lnTo>
                  <a:lnTo>
                    <a:pt x="79" y="629"/>
                  </a:lnTo>
                  <a:lnTo>
                    <a:pt x="72" y="612"/>
                  </a:lnTo>
                  <a:lnTo>
                    <a:pt x="65" y="595"/>
                  </a:lnTo>
                  <a:lnTo>
                    <a:pt x="54" y="559"/>
                  </a:lnTo>
                  <a:lnTo>
                    <a:pt x="42" y="518"/>
                  </a:lnTo>
                  <a:lnTo>
                    <a:pt x="33" y="473"/>
                  </a:lnTo>
                  <a:lnTo>
                    <a:pt x="23" y="426"/>
                  </a:lnTo>
                  <a:lnTo>
                    <a:pt x="16" y="372"/>
                  </a:lnTo>
                  <a:lnTo>
                    <a:pt x="11" y="315"/>
                  </a:lnTo>
                  <a:lnTo>
                    <a:pt x="6" y="253"/>
                  </a:lnTo>
                  <a:lnTo>
                    <a:pt x="2" y="186"/>
                  </a:lnTo>
                  <a:lnTo>
                    <a:pt x="0" y="114"/>
                  </a:lnTo>
                  <a:lnTo>
                    <a:pt x="0" y="35"/>
                  </a:lnTo>
                  <a:lnTo>
                    <a:pt x="1034" y="0"/>
                  </a:lnTo>
                  <a:lnTo>
                    <a:pt x="1126" y="234"/>
                  </a:lnTo>
                  <a:lnTo>
                    <a:pt x="1020" y="372"/>
                  </a:lnTo>
                  <a:lnTo>
                    <a:pt x="1034" y="698"/>
                  </a:lnTo>
                  <a:lnTo>
                    <a:pt x="1698" y="712"/>
                  </a:lnTo>
                  <a:lnTo>
                    <a:pt x="1952" y="1069"/>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06" name="Freeform 1413"/>
            <p:cNvSpPr/>
            <p:nvPr/>
          </p:nvSpPr>
          <p:spPr>
            <a:xfrm>
              <a:off x="4932360" y="5062320"/>
              <a:ext cx="257040" cy="297360"/>
            </a:xfrm>
            <a:custGeom>
              <a:avLst/>
              <a:gdLst>
                <a:gd name="textAreaLeft" fmla="*/ 0 w 257040"/>
                <a:gd name="textAreaRight" fmla="*/ 257400 w 257040"/>
                <a:gd name="textAreaTop" fmla="*/ 0 h 297360"/>
                <a:gd name="textAreaBottom" fmla="*/ 297720 h 297360"/>
              </a:gdLst>
              <a:ahLst/>
              <a:rect l="textAreaLeft" t="textAreaTop" r="textAreaRight" b="textAreaBottom"/>
              <a:pathLst>
                <a:path w="1430" h="1967">
                  <a:moveTo>
                    <a:pt x="974" y="1967"/>
                  </a:moveTo>
                  <a:lnTo>
                    <a:pt x="720" y="1610"/>
                  </a:lnTo>
                  <a:lnTo>
                    <a:pt x="56" y="1596"/>
                  </a:lnTo>
                  <a:lnTo>
                    <a:pt x="42" y="1270"/>
                  </a:lnTo>
                  <a:lnTo>
                    <a:pt x="148" y="1132"/>
                  </a:lnTo>
                  <a:lnTo>
                    <a:pt x="56" y="898"/>
                  </a:lnTo>
                  <a:lnTo>
                    <a:pt x="46" y="874"/>
                  </a:lnTo>
                  <a:lnTo>
                    <a:pt x="37" y="849"/>
                  </a:lnTo>
                  <a:lnTo>
                    <a:pt x="30" y="825"/>
                  </a:lnTo>
                  <a:lnTo>
                    <a:pt x="23" y="800"/>
                  </a:lnTo>
                  <a:lnTo>
                    <a:pt x="17" y="776"/>
                  </a:lnTo>
                  <a:lnTo>
                    <a:pt x="13" y="751"/>
                  </a:lnTo>
                  <a:lnTo>
                    <a:pt x="8" y="727"/>
                  </a:lnTo>
                  <a:lnTo>
                    <a:pt x="6" y="702"/>
                  </a:lnTo>
                  <a:lnTo>
                    <a:pt x="3" y="679"/>
                  </a:lnTo>
                  <a:lnTo>
                    <a:pt x="1" y="654"/>
                  </a:lnTo>
                  <a:lnTo>
                    <a:pt x="0" y="631"/>
                  </a:lnTo>
                  <a:lnTo>
                    <a:pt x="0" y="609"/>
                  </a:lnTo>
                  <a:lnTo>
                    <a:pt x="1" y="563"/>
                  </a:lnTo>
                  <a:lnTo>
                    <a:pt x="4" y="520"/>
                  </a:lnTo>
                  <a:lnTo>
                    <a:pt x="9" y="479"/>
                  </a:lnTo>
                  <a:lnTo>
                    <a:pt x="16" y="440"/>
                  </a:lnTo>
                  <a:lnTo>
                    <a:pt x="24" y="404"/>
                  </a:lnTo>
                  <a:lnTo>
                    <a:pt x="32" y="373"/>
                  </a:lnTo>
                  <a:lnTo>
                    <a:pt x="42" y="344"/>
                  </a:lnTo>
                  <a:lnTo>
                    <a:pt x="51" y="318"/>
                  </a:lnTo>
                  <a:lnTo>
                    <a:pt x="60" y="297"/>
                  </a:lnTo>
                  <a:lnTo>
                    <a:pt x="70" y="279"/>
                  </a:lnTo>
                  <a:lnTo>
                    <a:pt x="79" y="264"/>
                  </a:lnTo>
                  <a:lnTo>
                    <a:pt x="90" y="244"/>
                  </a:lnTo>
                  <a:lnTo>
                    <a:pt x="101" y="222"/>
                  </a:lnTo>
                  <a:lnTo>
                    <a:pt x="114" y="196"/>
                  </a:lnTo>
                  <a:lnTo>
                    <a:pt x="126" y="169"/>
                  </a:lnTo>
                  <a:lnTo>
                    <a:pt x="139" y="139"/>
                  </a:lnTo>
                  <a:lnTo>
                    <a:pt x="150" y="108"/>
                  </a:lnTo>
                  <a:lnTo>
                    <a:pt x="162" y="75"/>
                  </a:lnTo>
                  <a:lnTo>
                    <a:pt x="871" y="0"/>
                  </a:lnTo>
                  <a:lnTo>
                    <a:pt x="872" y="11"/>
                  </a:lnTo>
                  <a:lnTo>
                    <a:pt x="877" y="42"/>
                  </a:lnTo>
                  <a:lnTo>
                    <a:pt x="885" y="91"/>
                  </a:lnTo>
                  <a:lnTo>
                    <a:pt x="896" y="155"/>
                  </a:lnTo>
                  <a:lnTo>
                    <a:pt x="907" y="233"/>
                  </a:lnTo>
                  <a:lnTo>
                    <a:pt x="923" y="319"/>
                  </a:lnTo>
                  <a:lnTo>
                    <a:pt x="940" y="412"/>
                  </a:lnTo>
                  <a:lnTo>
                    <a:pt x="959" y="512"/>
                  </a:lnTo>
                  <a:lnTo>
                    <a:pt x="979" y="612"/>
                  </a:lnTo>
                  <a:lnTo>
                    <a:pt x="1000" y="713"/>
                  </a:lnTo>
                  <a:lnTo>
                    <a:pt x="1022" y="810"/>
                  </a:lnTo>
                  <a:lnTo>
                    <a:pt x="1044" y="902"/>
                  </a:lnTo>
                  <a:lnTo>
                    <a:pt x="1056" y="945"/>
                  </a:lnTo>
                  <a:lnTo>
                    <a:pt x="1067" y="985"/>
                  </a:lnTo>
                  <a:lnTo>
                    <a:pt x="1079" y="1023"/>
                  </a:lnTo>
                  <a:lnTo>
                    <a:pt x="1092" y="1058"/>
                  </a:lnTo>
                  <a:lnTo>
                    <a:pt x="1104" y="1090"/>
                  </a:lnTo>
                  <a:lnTo>
                    <a:pt x="1115" y="1118"/>
                  </a:lnTo>
                  <a:lnTo>
                    <a:pt x="1127" y="1141"/>
                  </a:lnTo>
                  <a:lnTo>
                    <a:pt x="1139" y="1161"/>
                  </a:lnTo>
                  <a:lnTo>
                    <a:pt x="1430" y="1855"/>
                  </a:lnTo>
                  <a:lnTo>
                    <a:pt x="1354" y="1867"/>
                  </a:lnTo>
                  <a:lnTo>
                    <a:pt x="1284" y="1878"/>
                  </a:lnTo>
                  <a:lnTo>
                    <a:pt x="1218" y="1890"/>
                  </a:lnTo>
                  <a:lnTo>
                    <a:pt x="1161" y="1902"/>
                  </a:lnTo>
                  <a:lnTo>
                    <a:pt x="1111" y="1912"/>
                  </a:lnTo>
                  <a:lnTo>
                    <a:pt x="1069" y="1923"/>
                  </a:lnTo>
                  <a:lnTo>
                    <a:pt x="1051" y="1927"/>
                  </a:lnTo>
                  <a:lnTo>
                    <a:pt x="1036" y="1932"/>
                  </a:lnTo>
                  <a:lnTo>
                    <a:pt x="1024" y="1937"/>
                  </a:lnTo>
                  <a:lnTo>
                    <a:pt x="1015" y="1941"/>
                  </a:lnTo>
                  <a:lnTo>
                    <a:pt x="1003" y="1947"/>
                  </a:lnTo>
                  <a:lnTo>
                    <a:pt x="993" y="1954"/>
                  </a:lnTo>
                  <a:lnTo>
                    <a:pt x="983" y="1961"/>
                  </a:lnTo>
                  <a:lnTo>
                    <a:pt x="974" y="196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07" name="Freeform 1414"/>
            <p:cNvSpPr/>
            <p:nvPr/>
          </p:nvSpPr>
          <p:spPr>
            <a:xfrm>
              <a:off x="4932360" y="5062320"/>
              <a:ext cx="257040" cy="297360"/>
            </a:xfrm>
            <a:custGeom>
              <a:avLst/>
              <a:gdLst>
                <a:gd name="textAreaLeft" fmla="*/ 0 w 257040"/>
                <a:gd name="textAreaRight" fmla="*/ 257400 w 257040"/>
                <a:gd name="textAreaTop" fmla="*/ 0 h 297360"/>
                <a:gd name="textAreaBottom" fmla="*/ 297720 h 297360"/>
              </a:gdLst>
              <a:ahLst/>
              <a:rect l="textAreaLeft" t="textAreaTop" r="textAreaRight" b="textAreaBottom"/>
              <a:pathLst>
                <a:path w="1430" h="1967">
                  <a:moveTo>
                    <a:pt x="974" y="1967"/>
                  </a:moveTo>
                  <a:lnTo>
                    <a:pt x="720" y="1610"/>
                  </a:lnTo>
                  <a:lnTo>
                    <a:pt x="56" y="1596"/>
                  </a:lnTo>
                  <a:lnTo>
                    <a:pt x="42" y="1270"/>
                  </a:lnTo>
                  <a:lnTo>
                    <a:pt x="148" y="1132"/>
                  </a:lnTo>
                  <a:lnTo>
                    <a:pt x="56" y="898"/>
                  </a:lnTo>
                  <a:lnTo>
                    <a:pt x="46" y="874"/>
                  </a:lnTo>
                  <a:lnTo>
                    <a:pt x="37" y="849"/>
                  </a:lnTo>
                  <a:lnTo>
                    <a:pt x="30" y="825"/>
                  </a:lnTo>
                  <a:lnTo>
                    <a:pt x="23" y="800"/>
                  </a:lnTo>
                  <a:lnTo>
                    <a:pt x="17" y="776"/>
                  </a:lnTo>
                  <a:lnTo>
                    <a:pt x="13" y="751"/>
                  </a:lnTo>
                  <a:lnTo>
                    <a:pt x="8" y="727"/>
                  </a:lnTo>
                  <a:lnTo>
                    <a:pt x="6" y="702"/>
                  </a:lnTo>
                  <a:lnTo>
                    <a:pt x="3" y="679"/>
                  </a:lnTo>
                  <a:lnTo>
                    <a:pt x="1" y="654"/>
                  </a:lnTo>
                  <a:lnTo>
                    <a:pt x="0" y="631"/>
                  </a:lnTo>
                  <a:lnTo>
                    <a:pt x="0" y="609"/>
                  </a:lnTo>
                  <a:lnTo>
                    <a:pt x="1" y="563"/>
                  </a:lnTo>
                  <a:lnTo>
                    <a:pt x="4" y="520"/>
                  </a:lnTo>
                  <a:lnTo>
                    <a:pt x="9" y="479"/>
                  </a:lnTo>
                  <a:lnTo>
                    <a:pt x="16" y="440"/>
                  </a:lnTo>
                  <a:lnTo>
                    <a:pt x="24" y="404"/>
                  </a:lnTo>
                  <a:lnTo>
                    <a:pt x="32" y="373"/>
                  </a:lnTo>
                  <a:lnTo>
                    <a:pt x="42" y="344"/>
                  </a:lnTo>
                  <a:lnTo>
                    <a:pt x="51" y="318"/>
                  </a:lnTo>
                  <a:lnTo>
                    <a:pt x="60" y="297"/>
                  </a:lnTo>
                  <a:lnTo>
                    <a:pt x="70" y="279"/>
                  </a:lnTo>
                  <a:lnTo>
                    <a:pt x="79" y="264"/>
                  </a:lnTo>
                  <a:lnTo>
                    <a:pt x="90" y="244"/>
                  </a:lnTo>
                  <a:lnTo>
                    <a:pt x="101" y="222"/>
                  </a:lnTo>
                  <a:lnTo>
                    <a:pt x="114" y="196"/>
                  </a:lnTo>
                  <a:lnTo>
                    <a:pt x="126" y="169"/>
                  </a:lnTo>
                  <a:lnTo>
                    <a:pt x="139" y="139"/>
                  </a:lnTo>
                  <a:lnTo>
                    <a:pt x="150" y="108"/>
                  </a:lnTo>
                  <a:lnTo>
                    <a:pt x="162" y="75"/>
                  </a:lnTo>
                  <a:lnTo>
                    <a:pt x="871" y="0"/>
                  </a:lnTo>
                  <a:lnTo>
                    <a:pt x="872" y="11"/>
                  </a:lnTo>
                  <a:lnTo>
                    <a:pt x="877" y="42"/>
                  </a:lnTo>
                  <a:lnTo>
                    <a:pt x="885" y="91"/>
                  </a:lnTo>
                  <a:lnTo>
                    <a:pt x="896" y="155"/>
                  </a:lnTo>
                  <a:lnTo>
                    <a:pt x="907" y="233"/>
                  </a:lnTo>
                  <a:lnTo>
                    <a:pt x="923" y="319"/>
                  </a:lnTo>
                  <a:lnTo>
                    <a:pt x="940" y="412"/>
                  </a:lnTo>
                  <a:lnTo>
                    <a:pt x="959" y="512"/>
                  </a:lnTo>
                  <a:lnTo>
                    <a:pt x="979" y="612"/>
                  </a:lnTo>
                  <a:lnTo>
                    <a:pt x="1000" y="713"/>
                  </a:lnTo>
                  <a:lnTo>
                    <a:pt x="1022" y="810"/>
                  </a:lnTo>
                  <a:lnTo>
                    <a:pt x="1044" y="902"/>
                  </a:lnTo>
                  <a:lnTo>
                    <a:pt x="1056" y="945"/>
                  </a:lnTo>
                  <a:lnTo>
                    <a:pt x="1067" y="985"/>
                  </a:lnTo>
                  <a:lnTo>
                    <a:pt x="1079" y="1023"/>
                  </a:lnTo>
                  <a:lnTo>
                    <a:pt x="1092" y="1058"/>
                  </a:lnTo>
                  <a:lnTo>
                    <a:pt x="1104" y="1090"/>
                  </a:lnTo>
                  <a:lnTo>
                    <a:pt x="1115" y="1118"/>
                  </a:lnTo>
                  <a:lnTo>
                    <a:pt x="1127" y="1141"/>
                  </a:lnTo>
                  <a:lnTo>
                    <a:pt x="1139" y="1161"/>
                  </a:lnTo>
                  <a:lnTo>
                    <a:pt x="1430" y="1855"/>
                  </a:lnTo>
                  <a:lnTo>
                    <a:pt x="1354" y="1867"/>
                  </a:lnTo>
                  <a:lnTo>
                    <a:pt x="1284" y="1878"/>
                  </a:lnTo>
                  <a:lnTo>
                    <a:pt x="1218" y="1890"/>
                  </a:lnTo>
                  <a:lnTo>
                    <a:pt x="1161" y="1902"/>
                  </a:lnTo>
                  <a:lnTo>
                    <a:pt x="1111" y="1912"/>
                  </a:lnTo>
                  <a:lnTo>
                    <a:pt x="1069" y="1923"/>
                  </a:lnTo>
                  <a:lnTo>
                    <a:pt x="1051" y="1927"/>
                  </a:lnTo>
                  <a:lnTo>
                    <a:pt x="1036" y="1932"/>
                  </a:lnTo>
                  <a:lnTo>
                    <a:pt x="1024" y="1937"/>
                  </a:lnTo>
                  <a:lnTo>
                    <a:pt x="1015" y="1941"/>
                  </a:lnTo>
                  <a:lnTo>
                    <a:pt x="1003" y="1947"/>
                  </a:lnTo>
                  <a:lnTo>
                    <a:pt x="993" y="1954"/>
                  </a:lnTo>
                  <a:lnTo>
                    <a:pt x="983" y="1961"/>
                  </a:lnTo>
                  <a:lnTo>
                    <a:pt x="974" y="1967"/>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08" name="Freeform 1415"/>
            <p:cNvSpPr/>
            <p:nvPr/>
          </p:nvSpPr>
          <p:spPr>
            <a:xfrm>
              <a:off x="5088960" y="5049720"/>
              <a:ext cx="299880" cy="293400"/>
            </a:xfrm>
            <a:custGeom>
              <a:avLst/>
              <a:gdLst>
                <a:gd name="textAreaLeft" fmla="*/ 0 w 299880"/>
                <a:gd name="textAreaRight" fmla="*/ 300240 w 299880"/>
                <a:gd name="textAreaTop" fmla="*/ 0 h 293400"/>
                <a:gd name="textAreaBottom" fmla="*/ 293760 h 293400"/>
              </a:gdLst>
              <a:ahLst/>
              <a:rect l="textAreaLeft" t="textAreaTop" r="textAreaRight" b="textAreaBottom"/>
              <a:pathLst>
                <a:path w="1670" h="1941">
                  <a:moveTo>
                    <a:pt x="0" y="86"/>
                  </a:moveTo>
                  <a:lnTo>
                    <a:pt x="1" y="97"/>
                  </a:lnTo>
                  <a:lnTo>
                    <a:pt x="5" y="128"/>
                  </a:lnTo>
                  <a:lnTo>
                    <a:pt x="14" y="177"/>
                  </a:lnTo>
                  <a:lnTo>
                    <a:pt x="24" y="241"/>
                  </a:lnTo>
                  <a:lnTo>
                    <a:pt x="36" y="319"/>
                  </a:lnTo>
                  <a:lnTo>
                    <a:pt x="51" y="405"/>
                  </a:lnTo>
                  <a:lnTo>
                    <a:pt x="67" y="498"/>
                  </a:lnTo>
                  <a:lnTo>
                    <a:pt x="86" y="598"/>
                  </a:lnTo>
                  <a:lnTo>
                    <a:pt x="106" y="698"/>
                  </a:lnTo>
                  <a:lnTo>
                    <a:pt x="127" y="799"/>
                  </a:lnTo>
                  <a:lnTo>
                    <a:pt x="148" y="896"/>
                  </a:lnTo>
                  <a:lnTo>
                    <a:pt x="171" y="988"/>
                  </a:lnTo>
                  <a:lnTo>
                    <a:pt x="183" y="1031"/>
                  </a:lnTo>
                  <a:lnTo>
                    <a:pt x="195" y="1071"/>
                  </a:lnTo>
                  <a:lnTo>
                    <a:pt x="206" y="1109"/>
                  </a:lnTo>
                  <a:lnTo>
                    <a:pt x="218" y="1144"/>
                  </a:lnTo>
                  <a:lnTo>
                    <a:pt x="230" y="1176"/>
                  </a:lnTo>
                  <a:lnTo>
                    <a:pt x="241" y="1204"/>
                  </a:lnTo>
                  <a:lnTo>
                    <a:pt x="253" y="1227"/>
                  </a:lnTo>
                  <a:lnTo>
                    <a:pt x="265" y="1247"/>
                  </a:lnTo>
                  <a:lnTo>
                    <a:pt x="556" y="1941"/>
                  </a:lnTo>
                  <a:lnTo>
                    <a:pt x="588" y="1936"/>
                  </a:lnTo>
                  <a:lnTo>
                    <a:pt x="622" y="1932"/>
                  </a:lnTo>
                  <a:lnTo>
                    <a:pt x="656" y="1927"/>
                  </a:lnTo>
                  <a:lnTo>
                    <a:pt x="691" y="1922"/>
                  </a:lnTo>
                  <a:lnTo>
                    <a:pt x="726" y="1918"/>
                  </a:lnTo>
                  <a:lnTo>
                    <a:pt x="762" y="1914"/>
                  </a:lnTo>
                  <a:lnTo>
                    <a:pt x="799" y="1909"/>
                  </a:lnTo>
                  <a:lnTo>
                    <a:pt x="835" y="1906"/>
                  </a:lnTo>
                  <a:lnTo>
                    <a:pt x="837" y="1897"/>
                  </a:lnTo>
                  <a:lnTo>
                    <a:pt x="838" y="1886"/>
                  </a:lnTo>
                  <a:lnTo>
                    <a:pt x="838" y="1876"/>
                  </a:lnTo>
                  <a:lnTo>
                    <a:pt x="838" y="1865"/>
                  </a:lnTo>
                  <a:lnTo>
                    <a:pt x="837" y="1843"/>
                  </a:lnTo>
                  <a:lnTo>
                    <a:pt x="835" y="1820"/>
                  </a:lnTo>
                  <a:lnTo>
                    <a:pt x="829" y="1796"/>
                  </a:lnTo>
                  <a:lnTo>
                    <a:pt x="823" y="1772"/>
                  </a:lnTo>
                  <a:lnTo>
                    <a:pt x="815" y="1747"/>
                  </a:lnTo>
                  <a:lnTo>
                    <a:pt x="806" y="1724"/>
                  </a:lnTo>
                  <a:lnTo>
                    <a:pt x="795" y="1700"/>
                  </a:lnTo>
                  <a:lnTo>
                    <a:pt x="784" y="1679"/>
                  </a:lnTo>
                  <a:lnTo>
                    <a:pt x="773" y="1658"/>
                  </a:lnTo>
                  <a:lnTo>
                    <a:pt x="760" y="1640"/>
                  </a:lnTo>
                  <a:lnTo>
                    <a:pt x="748" y="1622"/>
                  </a:lnTo>
                  <a:lnTo>
                    <a:pt x="735" y="1608"/>
                  </a:lnTo>
                  <a:lnTo>
                    <a:pt x="723" y="1595"/>
                  </a:lnTo>
                  <a:lnTo>
                    <a:pt x="711" y="1587"/>
                  </a:lnTo>
                  <a:lnTo>
                    <a:pt x="1670" y="1495"/>
                  </a:lnTo>
                  <a:lnTo>
                    <a:pt x="1657" y="1482"/>
                  </a:lnTo>
                  <a:lnTo>
                    <a:pt x="1645" y="1469"/>
                  </a:lnTo>
                  <a:lnTo>
                    <a:pt x="1634" y="1456"/>
                  </a:lnTo>
                  <a:lnTo>
                    <a:pt x="1622" y="1442"/>
                  </a:lnTo>
                  <a:lnTo>
                    <a:pt x="1612" y="1427"/>
                  </a:lnTo>
                  <a:lnTo>
                    <a:pt x="1602" y="1411"/>
                  </a:lnTo>
                  <a:lnTo>
                    <a:pt x="1593" y="1396"/>
                  </a:lnTo>
                  <a:lnTo>
                    <a:pt x="1583" y="1379"/>
                  </a:lnTo>
                  <a:lnTo>
                    <a:pt x="1566" y="1345"/>
                  </a:lnTo>
                  <a:lnTo>
                    <a:pt x="1552" y="1311"/>
                  </a:lnTo>
                  <a:lnTo>
                    <a:pt x="1539" y="1276"/>
                  </a:lnTo>
                  <a:lnTo>
                    <a:pt x="1527" y="1242"/>
                  </a:lnTo>
                  <a:lnTo>
                    <a:pt x="1518" y="1209"/>
                  </a:lnTo>
                  <a:lnTo>
                    <a:pt x="1511" y="1177"/>
                  </a:lnTo>
                  <a:lnTo>
                    <a:pt x="1505" y="1147"/>
                  </a:lnTo>
                  <a:lnTo>
                    <a:pt x="1502" y="1120"/>
                  </a:lnTo>
                  <a:lnTo>
                    <a:pt x="1498" y="1095"/>
                  </a:lnTo>
                  <a:lnTo>
                    <a:pt x="1498" y="1075"/>
                  </a:lnTo>
                  <a:lnTo>
                    <a:pt x="1498" y="1059"/>
                  </a:lnTo>
                  <a:lnTo>
                    <a:pt x="1501" y="1049"/>
                  </a:lnTo>
                  <a:lnTo>
                    <a:pt x="1499" y="1040"/>
                  </a:lnTo>
                  <a:lnTo>
                    <a:pt x="1495" y="1029"/>
                  </a:lnTo>
                  <a:lnTo>
                    <a:pt x="1485" y="1011"/>
                  </a:lnTo>
                  <a:lnTo>
                    <a:pt x="1473" y="989"/>
                  </a:lnTo>
                  <a:lnTo>
                    <a:pt x="1436" y="933"/>
                  </a:lnTo>
                  <a:lnTo>
                    <a:pt x="1390" y="864"/>
                  </a:lnTo>
                  <a:lnTo>
                    <a:pt x="1334" y="783"/>
                  </a:lnTo>
                  <a:lnTo>
                    <a:pt x="1270" y="695"/>
                  </a:lnTo>
                  <a:lnTo>
                    <a:pt x="1203" y="601"/>
                  </a:lnTo>
                  <a:lnTo>
                    <a:pt x="1133" y="505"/>
                  </a:lnTo>
                  <a:lnTo>
                    <a:pt x="1062" y="411"/>
                  </a:lnTo>
                  <a:lnTo>
                    <a:pt x="994" y="319"/>
                  </a:lnTo>
                  <a:lnTo>
                    <a:pt x="931" y="233"/>
                  </a:lnTo>
                  <a:lnTo>
                    <a:pt x="873" y="156"/>
                  </a:lnTo>
                  <a:lnTo>
                    <a:pt x="824" y="92"/>
                  </a:lnTo>
                  <a:lnTo>
                    <a:pt x="787" y="43"/>
                  </a:lnTo>
                  <a:lnTo>
                    <a:pt x="762" y="11"/>
                  </a:lnTo>
                  <a:lnTo>
                    <a:pt x="754" y="0"/>
                  </a:lnTo>
                  <a:lnTo>
                    <a:pt x="0" y="8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09" name="Freeform 1416"/>
            <p:cNvSpPr/>
            <p:nvPr/>
          </p:nvSpPr>
          <p:spPr>
            <a:xfrm>
              <a:off x="5088960" y="5049720"/>
              <a:ext cx="299880" cy="293400"/>
            </a:xfrm>
            <a:custGeom>
              <a:avLst/>
              <a:gdLst>
                <a:gd name="textAreaLeft" fmla="*/ 0 w 299880"/>
                <a:gd name="textAreaRight" fmla="*/ 300240 w 299880"/>
                <a:gd name="textAreaTop" fmla="*/ 0 h 293400"/>
                <a:gd name="textAreaBottom" fmla="*/ 293760 h 293400"/>
              </a:gdLst>
              <a:ahLst/>
              <a:rect l="textAreaLeft" t="textAreaTop" r="textAreaRight" b="textAreaBottom"/>
              <a:pathLst>
                <a:path w="1670" h="1941">
                  <a:moveTo>
                    <a:pt x="0" y="86"/>
                  </a:moveTo>
                  <a:lnTo>
                    <a:pt x="1" y="97"/>
                  </a:lnTo>
                  <a:lnTo>
                    <a:pt x="5" y="128"/>
                  </a:lnTo>
                  <a:lnTo>
                    <a:pt x="14" y="177"/>
                  </a:lnTo>
                  <a:lnTo>
                    <a:pt x="24" y="241"/>
                  </a:lnTo>
                  <a:lnTo>
                    <a:pt x="36" y="319"/>
                  </a:lnTo>
                  <a:lnTo>
                    <a:pt x="51" y="405"/>
                  </a:lnTo>
                  <a:lnTo>
                    <a:pt x="67" y="498"/>
                  </a:lnTo>
                  <a:lnTo>
                    <a:pt x="86" y="598"/>
                  </a:lnTo>
                  <a:lnTo>
                    <a:pt x="106" y="698"/>
                  </a:lnTo>
                  <a:lnTo>
                    <a:pt x="127" y="799"/>
                  </a:lnTo>
                  <a:lnTo>
                    <a:pt x="148" y="896"/>
                  </a:lnTo>
                  <a:lnTo>
                    <a:pt x="171" y="988"/>
                  </a:lnTo>
                  <a:lnTo>
                    <a:pt x="183" y="1031"/>
                  </a:lnTo>
                  <a:lnTo>
                    <a:pt x="195" y="1071"/>
                  </a:lnTo>
                  <a:lnTo>
                    <a:pt x="206" y="1109"/>
                  </a:lnTo>
                  <a:lnTo>
                    <a:pt x="218" y="1144"/>
                  </a:lnTo>
                  <a:lnTo>
                    <a:pt x="230" y="1176"/>
                  </a:lnTo>
                  <a:lnTo>
                    <a:pt x="241" y="1204"/>
                  </a:lnTo>
                  <a:lnTo>
                    <a:pt x="253" y="1227"/>
                  </a:lnTo>
                  <a:lnTo>
                    <a:pt x="265" y="1247"/>
                  </a:lnTo>
                  <a:lnTo>
                    <a:pt x="556" y="1941"/>
                  </a:lnTo>
                  <a:lnTo>
                    <a:pt x="588" y="1936"/>
                  </a:lnTo>
                  <a:lnTo>
                    <a:pt x="622" y="1932"/>
                  </a:lnTo>
                  <a:lnTo>
                    <a:pt x="656" y="1927"/>
                  </a:lnTo>
                  <a:lnTo>
                    <a:pt x="691" y="1922"/>
                  </a:lnTo>
                  <a:lnTo>
                    <a:pt x="726" y="1918"/>
                  </a:lnTo>
                  <a:lnTo>
                    <a:pt x="762" y="1914"/>
                  </a:lnTo>
                  <a:lnTo>
                    <a:pt x="799" y="1909"/>
                  </a:lnTo>
                  <a:lnTo>
                    <a:pt x="835" y="1906"/>
                  </a:lnTo>
                  <a:lnTo>
                    <a:pt x="837" y="1897"/>
                  </a:lnTo>
                  <a:lnTo>
                    <a:pt x="838" y="1886"/>
                  </a:lnTo>
                  <a:lnTo>
                    <a:pt x="838" y="1876"/>
                  </a:lnTo>
                  <a:lnTo>
                    <a:pt x="838" y="1865"/>
                  </a:lnTo>
                  <a:lnTo>
                    <a:pt x="837" y="1843"/>
                  </a:lnTo>
                  <a:lnTo>
                    <a:pt x="835" y="1820"/>
                  </a:lnTo>
                  <a:lnTo>
                    <a:pt x="829" y="1796"/>
                  </a:lnTo>
                  <a:lnTo>
                    <a:pt x="823" y="1772"/>
                  </a:lnTo>
                  <a:lnTo>
                    <a:pt x="815" y="1747"/>
                  </a:lnTo>
                  <a:lnTo>
                    <a:pt x="806" y="1724"/>
                  </a:lnTo>
                  <a:lnTo>
                    <a:pt x="795" y="1700"/>
                  </a:lnTo>
                  <a:lnTo>
                    <a:pt x="784" y="1679"/>
                  </a:lnTo>
                  <a:lnTo>
                    <a:pt x="773" y="1658"/>
                  </a:lnTo>
                  <a:lnTo>
                    <a:pt x="760" y="1640"/>
                  </a:lnTo>
                  <a:lnTo>
                    <a:pt x="748" y="1622"/>
                  </a:lnTo>
                  <a:lnTo>
                    <a:pt x="735" y="1608"/>
                  </a:lnTo>
                  <a:lnTo>
                    <a:pt x="723" y="1595"/>
                  </a:lnTo>
                  <a:lnTo>
                    <a:pt x="711" y="1587"/>
                  </a:lnTo>
                  <a:lnTo>
                    <a:pt x="1670" y="1495"/>
                  </a:lnTo>
                  <a:lnTo>
                    <a:pt x="1657" y="1482"/>
                  </a:lnTo>
                  <a:lnTo>
                    <a:pt x="1645" y="1469"/>
                  </a:lnTo>
                  <a:lnTo>
                    <a:pt x="1634" y="1456"/>
                  </a:lnTo>
                  <a:lnTo>
                    <a:pt x="1622" y="1442"/>
                  </a:lnTo>
                  <a:lnTo>
                    <a:pt x="1612" y="1427"/>
                  </a:lnTo>
                  <a:lnTo>
                    <a:pt x="1602" y="1411"/>
                  </a:lnTo>
                  <a:lnTo>
                    <a:pt x="1593" y="1396"/>
                  </a:lnTo>
                  <a:lnTo>
                    <a:pt x="1583" y="1379"/>
                  </a:lnTo>
                  <a:lnTo>
                    <a:pt x="1566" y="1345"/>
                  </a:lnTo>
                  <a:lnTo>
                    <a:pt x="1552" y="1311"/>
                  </a:lnTo>
                  <a:lnTo>
                    <a:pt x="1539" y="1276"/>
                  </a:lnTo>
                  <a:lnTo>
                    <a:pt x="1527" y="1242"/>
                  </a:lnTo>
                  <a:lnTo>
                    <a:pt x="1518" y="1209"/>
                  </a:lnTo>
                  <a:lnTo>
                    <a:pt x="1511" y="1177"/>
                  </a:lnTo>
                  <a:lnTo>
                    <a:pt x="1505" y="1147"/>
                  </a:lnTo>
                  <a:lnTo>
                    <a:pt x="1502" y="1120"/>
                  </a:lnTo>
                  <a:lnTo>
                    <a:pt x="1498" y="1095"/>
                  </a:lnTo>
                  <a:lnTo>
                    <a:pt x="1498" y="1075"/>
                  </a:lnTo>
                  <a:lnTo>
                    <a:pt x="1498" y="1059"/>
                  </a:lnTo>
                  <a:lnTo>
                    <a:pt x="1501" y="1049"/>
                  </a:lnTo>
                  <a:lnTo>
                    <a:pt x="1499" y="1040"/>
                  </a:lnTo>
                  <a:lnTo>
                    <a:pt x="1495" y="1029"/>
                  </a:lnTo>
                  <a:lnTo>
                    <a:pt x="1485" y="1011"/>
                  </a:lnTo>
                  <a:lnTo>
                    <a:pt x="1473" y="989"/>
                  </a:lnTo>
                  <a:lnTo>
                    <a:pt x="1436" y="933"/>
                  </a:lnTo>
                  <a:lnTo>
                    <a:pt x="1390" y="864"/>
                  </a:lnTo>
                  <a:lnTo>
                    <a:pt x="1334" y="783"/>
                  </a:lnTo>
                  <a:lnTo>
                    <a:pt x="1270" y="695"/>
                  </a:lnTo>
                  <a:lnTo>
                    <a:pt x="1203" y="601"/>
                  </a:lnTo>
                  <a:lnTo>
                    <a:pt x="1133" y="505"/>
                  </a:lnTo>
                  <a:lnTo>
                    <a:pt x="1062" y="411"/>
                  </a:lnTo>
                  <a:lnTo>
                    <a:pt x="994" y="319"/>
                  </a:lnTo>
                  <a:lnTo>
                    <a:pt x="931" y="233"/>
                  </a:lnTo>
                  <a:lnTo>
                    <a:pt x="873" y="156"/>
                  </a:lnTo>
                  <a:lnTo>
                    <a:pt x="824" y="92"/>
                  </a:lnTo>
                  <a:lnTo>
                    <a:pt x="787" y="43"/>
                  </a:lnTo>
                  <a:lnTo>
                    <a:pt x="762" y="11"/>
                  </a:lnTo>
                  <a:lnTo>
                    <a:pt x="754" y="0"/>
                  </a:lnTo>
                  <a:lnTo>
                    <a:pt x="0" y="8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10" name="Freeform 1417"/>
            <p:cNvSpPr/>
            <p:nvPr/>
          </p:nvSpPr>
          <p:spPr>
            <a:xfrm>
              <a:off x="4827240" y="4772520"/>
              <a:ext cx="217440" cy="214560"/>
            </a:xfrm>
            <a:custGeom>
              <a:avLst/>
              <a:gdLst>
                <a:gd name="textAreaLeft" fmla="*/ 0 w 217440"/>
                <a:gd name="textAreaRight" fmla="*/ 217800 w 217440"/>
                <a:gd name="textAreaTop" fmla="*/ 0 h 214560"/>
                <a:gd name="textAreaBottom" fmla="*/ 214920 h 214560"/>
              </a:gdLst>
              <a:ahLst/>
              <a:rect l="textAreaLeft" t="textAreaTop" r="textAreaRight" b="textAreaBottom"/>
              <a:pathLst>
                <a:path w="1210" h="1423">
                  <a:moveTo>
                    <a:pt x="916" y="1423"/>
                  </a:moveTo>
                  <a:lnTo>
                    <a:pt x="915" y="1406"/>
                  </a:lnTo>
                  <a:lnTo>
                    <a:pt x="912" y="1392"/>
                  </a:lnTo>
                  <a:lnTo>
                    <a:pt x="910" y="1386"/>
                  </a:lnTo>
                  <a:lnTo>
                    <a:pt x="908" y="1381"/>
                  </a:lnTo>
                  <a:lnTo>
                    <a:pt x="905" y="1376"/>
                  </a:lnTo>
                  <a:lnTo>
                    <a:pt x="903" y="1373"/>
                  </a:lnTo>
                  <a:lnTo>
                    <a:pt x="896" y="1367"/>
                  </a:lnTo>
                  <a:lnTo>
                    <a:pt x="888" y="1364"/>
                  </a:lnTo>
                  <a:lnTo>
                    <a:pt x="879" y="1361"/>
                  </a:lnTo>
                  <a:lnTo>
                    <a:pt x="869" y="1360"/>
                  </a:lnTo>
                  <a:lnTo>
                    <a:pt x="847" y="1359"/>
                  </a:lnTo>
                  <a:lnTo>
                    <a:pt x="824" y="1357"/>
                  </a:lnTo>
                  <a:lnTo>
                    <a:pt x="811" y="1353"/>
                  </a:lnTo>
                  <a:lnTo>
                    <a:pt x="799" y="1348"/>
                  </a:lnTo>
                  <a:lnTo>
                    <a:pt x="793" y="1345"/>
                  </a:lnTo>
                  <a:lnTo>
                    <a:pt x="786" y="1341"/>
                  </a:lnTo>
                  <a:lnTo>
                    <a:pt x="780" y="1337"/>
                  </a:lnTo>
                  <a:lnTo>
                    <a:pt x="775" y="1331"/>
                  </a:lnTo>
                  <a:lnTo>
                    <a:pt x="775" y="1309"/>
                  </a:lnTo>
                  <a:lnTo>
                    <a:pt x="773" y="1288"/>
                  </a:lnTo>
                  <a:lnTo>
                    <a:pt x="771" y="1268"/>
                  </a:lnTo>
                  <a:lnTo>
                    <a:pt x="768" y="1249"/>
                  </a:lnTo>
                  <a:lnTo>
                    <a:pt x="763" y="1233"/>
                  </a:lnTo>
                  <a:lnTo>
                    <a:pt x="757" y="1216"/>
                  </a:lnTo>
                  <a:lnTo>
                    <a:pt x="749" y="1201"/>
                  </a:lnTo>
                  <a:lnTo>
                    <a:pt x="740" y="1187"/>
                  </a:lnTo>
                  <a:lnTo>
                    <a:pt x="728" y="1173"/>
                  </a:lnTo>
                  <a:lnTo>
                    <a:pt x="714" y="1160"/>
                  </a:lnTo>
                  <a:lnTo>
                    <a:pt x="698" y="1149"/>
                  </a:lnTo>
                  <a:lnTo>
                    <a:pt x="679" y="1138"/>
                  </a:lnTo>
                  <a:lnTo>
                    <a:pt x="658" y="1128"/>
                  </a:lnTo>
                  <a:lnTo>
                    <a:pt x="633" y="1117"/>
                  </a:lnTo>
                  <a:lnTo>
                    <a:pt x="606" y="1108"/>
                  </a:lnTo>
                  <a:lnTo>
                    <a:pt x="576" y="1098"/>
                  </a:lnTo>
                  <a:lnTo>
                    <a:pt x="546" y="1089"/>
                  </a:lnTo>
                  <a:lnTo>
                    <a:pt x="520" y="1080"/>
                  </a:lnTo>
                  <a:lnTo>
                    <a:pt x="498" y="1069"/>
                  </a:lnTo>
                  <a:lnTo>
                    <a:pt x="478" y="1059"/>
                  </a:lnTo>
                  <a:lnTo>
                    <a:pt x="462" y="1048"/>
                  </a:lnTo>
                  <a:lnTo>
                    <a:pt x="449" y="1037"/>
                  </a:lnTo>
                  <a:lnTo>
                    <a:pt x="437" y="1025"/>
                  </a:lnTo>
                  <a:lnTo>
                    <a:pt x="429" y="1012"/>
                  </a:lnTo>
                  <a:lnTo>
                    <a:pt x="423" y="1000"/>
                  </a:lnTo>
                  <a:lnTo>
                    <a:pt x="418" y="987"/>
                  </a:lnTo>
                  <a:lnTo>
                    <a:pt x="416" y="976"/>
                  </a:lnTo>
                  <a:lnTo>
                    <a:pt x="415" y="963"/>
                  </a:lnTo>
                  <a:lnTo>
                    <a:pt x="415" y="950"/>
                  </a:lnTo>
                  <a:lnTo>
                    <a:pt x="416" y="938"/>
                  </a:lnTo>
                  <a:lnTo>
                    <a:pt x="418" y="926"/>
                  </a:lnTo>
                  <a:lnTo>
                    <a:pt x="421" y="914"/>
                  </a:lnTo>
                  <a:lnTo>
                    <a:pt x="422" y="903"/>
                  </a:lnTo>
                  <a:lnTo>
                    <a:pt x="423" y="894"/>
                  </a:lnTo>
                  <a:lnTo>
                    <a:pt x="421" y="887"/>
                  </a:lnTo>
                  <a:lnTo>
                    <a:pt x="418" y="881"/>
                  </a:lnTo>
                  <a:lnTo>
                    <a:pt x="414" y="875"/>
                  </a:lnTo>
                  <a:lnTo>
                    <a:pt x="408" y="871"/>
                  </a:lnTo>
                  <a:lnTo>
                    <a:pt x="400" y="867"/>
                  </a:lnTo>
                  <a:lnTo>
                    <a:pt x="392" y="864"/>
                  </a:lnTo>
                  <a:lnTo>
                    <a:pt x="345" y="853"/>
                  </a:lnTo>
                  <a:lnTo>
                    <a:pt x="283" y="836"/>
                  </a:lnTo>
                  <a:lnTo>
                    <a:pt x="265" y="830"/>
                  </a:lnTo>
                  <a:lnTo>
                    <a:pt x="248" y="824"/>
                  </a:lnTo>
                  <a:lnTo>
                    <a:pt x="231" y="817"/>
                  </a:lnTo>
                  <a:lnTo>
                    <a:pt x="215" y="809"/>
                  </a:lnTo>
                  <a:lnTo>
                    <a:pt x="201" y="801"/>
                  </a:lnTo>
                  <a:lnTo>
                    <a:pt x="187" y="792"/>
                  </a:lnTo>
                  <a:lnTo>
                    <a:pt x="174" y="783"/>
                  </a:lnTo>
                  <a:lnTo>
                    <a:pt x="161" y="774"/>
                  </a:lnTo>
                  <a:lnTo>
                    <a:pt x="151" y="764"/>
                  </a:lnTo>
                  <a:lnTo>
                    <a:pt x="142" y="754"/>
                  </a:lnTo>
                  <a:lnTo>
                    <a:pt x="132" y="745"/>
                  </a:lnTo>
                  <a:lnTo>
                    <a:pt x="125" y="735"/>
                  </a:lnTo>
                  <a:lnTo>
                    <a:pt x="121" y="726"/>
                  </a:lnTo>
                  <a:lnTo>
                    <a:pt x="116" y="715"/>
                  </a:lnTo>
                  <a:lnTo>
                    <a:pt x="113" y="707"/>
                  </a:lnTo>
                  <a:lnTo>
                    <a:pt x="112" y="698"/>
                  </a:lnTo>
                  <a:lnTo>
                    <a:pt x="111" y="690"/>
                  </a:lnTo>
                  <a:lnTo>
                    <a:pt x="109" y="681"/>
                  </a:lnTo>
                  <a:lnTo>
                    <a:pt x="104" y="673"/>
                  </a:lnTo>
                  <a:lnTo>
                    <a:pt x="97" y="666"/>
                  </a:lnTo>
                  <a:lnTo>
                    <a:pt x="90" y="659"/>
                  </a:lnTo>
                  <a:lnTo>
                    <a:pt x="82" y="653"/>
                  </a:lnTo>
                  <a:lnTo>
                    <a:pt x="74" y="648"/>
                  </a:lnTo>
                  <a:lnTo>
                    <a:pt x="64" y="642"/>
                  </a:lnTo>
                  <a:lnTo>
                    <a:pt x="32" y="625"/>
                  </a:lnTo>
                  <a:lnTo>
                    <a:pt x="18" y="620"/>
                  </a:lnTo>
                  <a:lnTo>
                    <a:pt x="6" y="505"/>
                  </a:lnTo>
                  <a:lnTo>
                    <a:pt x="3" y="505"/>
                  </a:lnTo>
                  <a:lnTo>
                    <a:pt x="1" y="498"/>
                  </a:lnTo>
                  <a:lnTo>
                    <a:pt x="0" y="489"/>
                  </a:lnTo>
                  <a:lnTo>
                    <a:pt x="0" y="478"/>
                  </a:lnTo>
                  <a:lnTo>
                    <a:pt x="0" y="467"/>
                  </a:lnTo>
                  <a:lnTo>
                    <a:pt x="1" y="454"/>
                  </a:lnTo>
                  <a:lnTo>
                    <a:pt x="3" y="441"/>
                  </a:lnTo>
                  <a:lnTo>
                    <a:pt x="5" y="427"/>
                  </a:lnTo>
                  <a:lnTo>
                    <a:pt x="7" y="413"/>
                  </a:lnTo>
                  <a:lnTo>
                    <a:pt x="12" y="400"/>
                  </a:lnTo>
                  <a:lnTo>
                    <a:pt x="17" y="388"/>
                  </a:lnTo>
                  <a:lnTo>
                    <a:pt x="22" y="377"/>
                  </a:lnTo>
                  <a:lnTo>
                    <a:pt x="28" y="367"/>
                  </a:lnTo>
                  <a:lnTo>
                    <a:pt x="32" y="363"/>
                  </a:lnTo>
                  <a:lnTo>
                    <a:pt x="36" y="359"/>
                  </a:lnTo>
                  <a:lnTo>
                    <a:pt x="41" y="356"/>
                  </a:lnTo>
                  <a:lnTo>
                    <a:pt x="45" y="353"/>
                  </a:lnTo>
                  <a:lnTo>
                    <a:pt x="50" y="351"/>
                  </a:lnTo>
                  <a:lnTo>
                    <a:pt x="55" y="350"/>
                  </a:lnTo>
                  <a:lnTo>
                    <a:pt x="61" y="350"/>
                  </a:lnTo>
                  <a:lnTo>
                    <a:pt x="67" y="350"/>
                  </a:lnTo>
                  <a:lnTo>
                    <a:pt x="104" y="281"/>
                  </a:lnTo>
                  <a:lnTo>
                    <a:pt x="97" y="274"/>
                  </a:lnTo>
                  <a:lnTo>
                    <a:pt x="91" y="267"/>
                  </a:lnTo>
                  <a:lnTo>
                    <a:pt x="87" y="259"/>
                  </a:lnTo>
                  <a:lnTo>
                    <a:pt x="84" y="250"/>
                  </a:lnTo>
                  <a:lnTo>
                    <a:pt x="82" y="241"/>
                  </a:lnTo>
                  <a:lnTo>
                    <a:pt x="81" y="232"/>
                  </a:lnTo>
                  <a:lnTo>
                    <a:pt x="82" y="222"/>
                  </a:lnTo>
                  <a:lnTo>
                    <a:pt x="84" y="213"/>
                  </a:lnTo>
                  <a:lnTo>
                    <a:pt x="89" y="204"/>
                  </a:lnTo>
                  <a:lnTo>
                    <a:pt x="95" y="194"/>
                  </a:lnTo>
                  <a:lnTo>
                    <a:pt x="102" y="186"/>
                  </a:lnTo>
                  <a:lnTo>
                    <a:pt x="112" y="178"/>
                  </a:lnTo>
                  <a:lnTo>
                    <a:pt x="124" y="171"/>
                  </a:lnTo>
                  <a:lnTo>
                    <a:pt x="138" y="165"/>
                  </a:lnTo>
                  <a:lnTo>
                    <a:pt x="154" y="160"/>
                  </a:lnTo>
                  <a:lnTo>
                    <a:pt x="173" y="156"/>
                  </a:lnTo>
                  <a:lnTo>
                    <a:pt x="142" y="27"/>
                  </a:lnTo>
                  <a:lnTo>
                    <a:pt x="830" y="0"/>
                  </a:lnTo>
                  <a:lnTo>
                    <a:pt x="852" y="25"/>
                  </a:lnTo>
                  <a:lnTo>
                    <a:pt x="876" y="48"/>
                  </a:lnTo>
                  <a:lnTo>
                    <a:pt x="903" y="72"/>
                  </a:lnTo>
                  <a:lnTo>
                    <a:pt x="930" y="96"/>
                  </a:lnTo>
                  <a:lnTo>
                    <a:pt x="1077" y="629"/>
                  </a:lnTo>
                  <a:lnTo>
                    <a:pt x="1082" y="639"/>
                  </a:lnTo>
                  <a:lnTo>
                    <a:pt x="1088" y="650"/>
                  </a:lnTo>
                  <a:lnTo>
                    <a:pt x="1095" y="660"/>
                  </a:lnTo>
                  <a:lnTo>
                    <a:pt x="1102" y="672"/>
                  </a:lnTo>
                  <a:lnTo>
                    <a:pt x="1119" y="693"/>
                  </a:lnTo>
                  <a:lnTo>
                    <a:pt x="1137" y="715"/>
                  </a:lnTo>
                  <a:lnTo>
                    <a:pt x="1157" y="735"/>
                  </a:lnTo>
                  <a:lnTo>
                    <a:pt x="1175" y="753"/>
                  </a:lnTo>
                  <a:lnTo>
                    <a:pt x="1194" y="769"/>
                  </a:lnTo>
                  <a:lnTo>
                    <a:pt x="1210" y="782"/>
                  </a:lnTo>
                  <a:lnTo>
                    <a:pt x="1188" y="806"/>
                  </a:lnTo>
                  <a:lnTo>
                    <a:pt x="1169" y="831"/>
                  </a:lnTo>
                  <a:lnTo>
                    <a:pt x="1161" y="841"/>
                  </a:lnTo>
                  <a:lnTo>
                    <a:pt x="1154" y="853"/>
                  </a:lnTo>
                  <a:lnTo>
                    <a:pt x="1148" y="865"/>
                  </a:lnTo>
                  <a:lnTo>
                    <a:pt x="1143" y="877"/>
                  </a:lnTo>
                  <a:lnTo>
                    <a:pt x="1138" y="889"/>
                  </a:lnTo>
                  <a:lnTo>
                    <a:pt x="1134" y="902"/>
                  </a:lnTo>
                  <a:lnTo>
                    <a:pt x="1131" y="915"/>
                  </a:lnTo>
                  <a:lnTo>
                    <a:pt x="1127" y="930"/>
                  </a:lnTo>
                  <a:lnTo>
                    <a:pt x="1126" y="945"/>
                  </a:lnTo>
                  <a:lnTo>
                    <a:pt x="1124" y="963"/>
                  </a:lnTo>
                  <a:lnTo>
                    <a:pt x="1124" y="980"/>
                  </a:lnTo>
                  <a:lnTo>
                    <a:pt x="1124" y="1000"/>
                  </a:lnTo>
                  <a:lnTo>
                    <a:pt x="1124" y="1041"/>
                  </a:lnTo>
                  <a:lnTo>
                    <a:pt x="1125" y="1081"/>
                  </a:lnTo>
                  <a:lnTo>
                    <a:pt x="1127" y="1119"/>
                  </a:lnTo>
                  <a:lnTo>
                    <a:pt x="1131" y="1156"/>
                  </a:lnTo>
                  <a:lnTo>
                    <a:pt x="1133" y="1186"/>
                  </a:lnTo>
                  <a:lnTo>
                    <a:pt x="1136" y="1209"/>
                  </a:lnTo>
                  <a:lnTo>
                    <a:pt x="1137" y="1225"/>
                  </a:lnTo>
                  <a:lnTo>
                    <a:pt x="1138" y="1230"/>
                  </a:lnTo>
                  <a:lnTo>
                    <a:pt x="1123" y="1257"/>
                  </a:lnTo>
                  <a:lnTo>
                    <a:pt x="1108" y="1281"/>
                  </a:lnTo>
                  <a:lnTo>
                    <a:pt x="1094" y="1299"/>
                  </a:lnTo>
                  <a:lnTo>
                    <a:pt x="1080" y="1315"/>
                  </a:lnTo>
                  <a:lnTo>
                    <a:pt x="1067" y="1327"/>
                  </a:lnTo>
                  <a:lnTo>
                    <a:pt x="1053" y="1338"/>
                  </a:lnTo>
                  <a:lnTo>
                    <a:pt x="1040" y="1347"/>
                  </a:lnTo>
                  <a:lnTo>
                    <a:pt x="1027" y="1354"/>
                  </a:lnTo>
                  <a:lnTo>
                    <a:pt x="1001" y="1367"/>
                  </a:lnTo>
                  <a:lnTo>
                    <a:pt x="974" y="1380"/>
                  </a:lnTo>
                  <a:lnTo>
                    <a:pt x="960" y="1388"/>
                  </a:lnTo>
                  <a:lnTo>
                    <a:pt x="946" y="1397"/>
                  </a:lnTo>
                  <a:lnTo>
                    <a:pt x="931" y="1409"/>
                  </a:lnTo>
                  <a:lnTo>
                    <a:pt x="916" y="142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11" name="Freeform 1418"/>
            <p:cNvSpPr/>
            <p:nvPr/>
          </p:nvSpPr>
          <p:spPr>
            <a:xfrm>
              <a:off x="4827240" y="4772520"/>
              <a:ext cx="217440" cy="214560"/>
            </a:xfrm>
            <a:custGeom>
              <a:avLst/>
              <a:gdLst>
                <a:gd name="textAreaLeft" fmla="*/ 0 w 217440"/>
                <a:gd name="textAreaRight" fmla="*/ 217800 w 217440"/>
                <a:gd name="textAreaTop" fmla="*/ 0 h 214560"/>
                <a:gd name="textAreaBottom" fmla="*/ 214920 h 214560"/>
              </a:gdLst>
              <a:ahLst/>
              <a:rect l="textAreaLeft" t="textAreaTop" r="textAreaRight" b="textAreaBottom"/>
              <a:pathLst>
                <a:path w="1210" h="1423">
                  <a:moveTo>
                    <a:pt x="916" y="1423"/>
                  </a:moveTo>
                  <a:lnTo>
                    <a:pt x="915" y="1406"/>
                  </a:lnTo>
                  <a:lnTo>
                    <a:pt x="912" y="1392"/>
                  </a:lnTo>
                  <a:lnTo>
                    <a:pt x="910" y="1386"/>
                  </a:lnTo>
                  <a:lnTo>
                    <a:pt x="908" y="1381"/>
                  </a:lnTo>
                  <a:lnTo>
                    <a:pt x="905" y="1376"/>
                  </a:lnTo>
                  <a:lnTo>
                    <a:pt x="903" y="1373"/>
                  </a:lnTo>
                  <a:lnTo>
                    <a:pt x="896" y="1367"/>
                  </a:lnTo>
                  <a:lnTo>
                    <a:pt x="888" y="1364"/>
                  </a:lnTo>
                  <a:lnTo>
                    <a:pt x="879" y="1361"/>
                  </a:lnTo>
                  <a:lnTo>
                    <a:pt x="869" y="1360"/>
                  </a:lnTo>
                  <a:lnTo>
                    <a:pt x="847" y="1359"/>
                  </a:lnTo>
                  <a:lnTo>
                    <a:pt x="824" y="1357"/>
                  </a:lnTo>
                  <a:lnTo>
                    <a:pt x="811" y="1353"/>
                  </a:lnTo>
                  <a:lnTo>
                    <a:pt x="799" y="1348"/>
                  </a:lnTo>
                  <a:lnTo>
                    <a:pt x="793" y="1345"/>
                  </a:lnTo>
                  <a:lnTo>
                    <a:pt x="786" y="1341"/>
                  </a:lnTo>
                  <a:lnTo>
                    <a:pt x="780" y="1337"/>
                  </a:lnTo>
                  <a:lnTo>
                    <a:pt x="775" y="1331"/>
                  </a:lnTo>
                  <a:lnTo>
                    <a:pt x="775" y="1309"/>
                  </a:lnTo>
                  <a:lnTo>
                    <a:pt x="773" y="1288"/>
                  </a:lnTo>
                  <a:lnTo>
                    <a:pt x="771" y="1268"/>
                  </a:lnTo>
                  <a:lnTo>
                    <a:pt x="768" y="1249"/>
                  </a:lnTo>
                  <a:lnTo>
                    <a:pt x="763" y="1233"/>
                  </a:lnTo>
                  <a:lnTo>
                    <a:pt x="757" y="1216"/>
                  </a:lnTo>
                  <a:lnTo>
                    <a:pt x="749" y="1201"/>
                  </a:lnTo>
                  <a:lnTo>
                    <a:pt x="740" y="1187"/>
                  </a:lnTo>
                  <a:lnTo>
                    <a:pt x="728" y="1173"/>
                  </a:lnTo>
                  <a:lnTo>
                    <a:pt x="714" y="1160"/>
                  </a:lnTo>
                  <a:lnTo>
                    <a:pt x="698" y="1149"/>
                  </a:lnTo>
                  <a:lnTo>
                    <a:pt x="679" y="1138"/>
                  </a:lnTo>
                  <a:lnTo>
                    <a:pt x="658" y="1128"/>
                  </a:lnTo>
                  <a:lnTo>
                    <a:pt x="633" y="1117"/>
                  </a:lnTo>
                  <a:lnTo>
                    <a:pt x="606" y="1108"/>
                  </a:lnTo>
                  <a:lnTo>
                    <a:pt x="576" y="1098"/>
                  </a:lnTo>
                  <a:lnTo>
                    <a:pt x="546" y="1089"/>
                  </a:lnTo>
                  <a:lnTo>
                    <a:pt x="520" y="1080"/>
                  </a:lnTo>
                  <a:lnTo>
                    <a:pt x="498" y="1069"/>
                  </a:lnTo>
                  <a:lnTo>
                    <a:pt x="478" y="1059"/>
                  </a:lnTo>
                  <a:lnTo>
                    <a:pt x="462" y="1048"/>
                  </a:lnTo>
                  <a:lnTo>
                    <a:pt x="449" y="1037"/>
                  </a:lnTo>
                  <a:lnTo>
                    <a:pt x="437" y="1025"/>
                  </a:lnTo>
                  <a:lnTo>
                    <a:pt x="429" y="1012"/>
                  </a:lnTo>
                  <a:lnTo>
                    <a:pt x="423" y="1000"/>
                  </a:lnTo>
                  <a:lnTo>
                    <a:pt x="418" y="987"/>
                  </a:lnTo>
                  <a:lnTo>
                    <a:pt x="416" y="976"/>
                  </a:lnTo>
                  <a:lnTo>
                    <a:pt x="415" y="963"/>
                  </a:lnTo>
                  <a:lnTo>
                    <a:pt x="415" y="950"/>
                  </a:lnTo>
                  <a:lnTo>
                    <a:pt x="416" y="938"/>
                  </a:lnTo>
                  <a:lnTo>
                    <a:pt x="418" y="926"/>
                  </a:lnTo>
                  <a:lnTo>
                    <a:pt x="421" y="914"/>
                  </a:lnTo>
                  <a:lnTo>
                    <a:pt x="422" y="903"/>
                  </a:lnTo>
                  <a:lnTo>
                    <a:pt x="423" y="894"/>
                  </a:lnTo>
                  <a:lnTo>
                    <a:pt x="421" y="887"/>
                  </a:lnTo>
                  <a:lnTo>
                    <a:pt x="418" y="881"/>
                  </a:lnTo>
                  <a:lnTo>
                    <a:pt x="414" y="875"/>
                  </a:lnTo>
                  <a:lnTo>
                    <a:pt x="408" y="871"/>
                  </a:lnTo>
                  <a:lnTo>
                    <a:pt x="400" y="867"/>
                  </a:lnTo>
                  <a:lnTo>
                    <a:pt x="392" y="864"/>
                  </a:lnTo>
                  <a:lnTo>
                    <a:pt x="345" y="853"/>
                  </a:lnTo>
                  <a:lnTo>
                    <a:pt x="283" y="836"/>
                  </a:lnTo>
                  <a:lnTo>
                    <a:pt x="265" y="830"/>
                  </a:lnTo>
                  <a:lnTo>
                    <a:pt x="248" y="824"/>
                  </a:lnTo>
                  <a:lnTo>
                    <a:pt x="231" y="817"/>
                  </a:lnTo>
                  <a:lnTo>
                    <a:pt x="215" y="809"/>
                  </a:lnTo>
                  <a:lnTo>
                    <a:pt x="201" y="801"/>
                  </a:lnTo>
                  <a:lnTo>
                    <a:pt x="187" y="792"/>
                  </a:lnTo>
                  <a:lnTo>
                    <a:pt x="174" y="783"/>
                  </a:lnTo>
                  <a:lnTo>
                    <a:pt x="161" y="774"/>
                  </a:lnTo>
                  <a:lnTo>
                    <a:pt x="151" y="764"/>
                  </a:lnTo>
                  <a:lnTo>
                    <a:pt x="142" y="754"/>
                  </a:lnTo>
                  <a:lnTo>
                    <a:pt x="132" y="745"/>
                  </a:lnTo>
                  <a:lnTo>
                    <a:pt x="125" y="735"/>
                  </a:lnTo>
                  <a:lnTo>
                    <a:pt x="121" y="726"/>
                  </a:lnTo>
                  <a:lnTo>
                    <a:pt x="116" y="715"/>
                  </a:lnTo>
                  <a:lnTo>
                    <a:pt x="113" y="707"/>
                  </a:lnTo>
                  <a:lnTo>
                    <a:pt x="112" y="698"/>
                  </a:lnTo>
                  <a:lnTo>
                    <a:pt x="111" y="690"/>
                  </a:lnTo>
                  <a:lnTo>
                    <a:pt x="109" y="681"/>
                  </a:lnTo>
                  <a:lnTo>
                    <a:pt x="104" y="673"/>
                  </a:lnTo>
                  <a:lnTo>
                    <a:pt x="97" y="666"/>
                  </a:lnTo>
                  <a:lnTo>
                    <a:pt x="90" y="659"/>
                  </a:lnTo>
                  <a:lnTo>
                    <a:pt x="82" y="653"/>
                  </a:lnTo>
                  <a:lnTo>
                    <a:pt x="74" y="648"/>
                  </a:lnTo>
                  <a:lnTo>
                    <a:pt x="64" y="642"/>
                  </a:lnTo>
                  <a:lnTo>
                    <a:pt x="32" y="625"/>
                  </a:lnTo>
                  <a:lnTo>
                    <a:pt x="18" y="620"/>
                  </a:lnTo>
                  <a:lnTo>
                    <a:pt x="6" y="505"/>
                  </a:lnTo>
                  <a:lnTo>
                    <a:pt x="3" y="505"/>
                  </a:lnTo>
                  <a:lnTo>
                    <a:pt x="1" y="498"/>
                  </a:lnTo>
                  <a:lnTo>
                    <a:pt x="0" y="489"/>
                  </a:lnTo>
                  <a:lnTo>
                    <a:pt x="0" y="478"/>
                  </a:lnTo>
                  <a:lnTo>
                    <a:pt x="0" y="467"/>
                  </a:lnTo>
                  <a:lnTo>
                    <a:pt x="1" y="454"/>
                  </a:lnTo>
                  <a:lnTo>
                    <a:pt x="3" y="441"/>
                  </a:lnTo>
                  <a:lnTo>
                    <a:pt x="5" y="427"/>
                  </a:lnTo>
                  <a:lnTo>
                    <a:pt x="7" y="413"/>
                  </a:lnTo>
                  <a:lnTo>
                    <a:pt x="12" y="400"/>
                  </a:lnTo>
                  <a:lnTo>
                    <a:pt x="17" y="388"/>
                  </a:lnTo>
                  <a:lnTo>
                    <a:pt x="22" y="377"/>
                  </a:lnTo>
                  <a:lnTo>
                    <a:pt x="28" y="367"/>
                  </a:lnTo>
                  <a:lnTo>
                    <a:pt x="32" y="363"/>
                  </a:lnTo>
                  <a:lnTo>
                    <a:pt x="36" y="359"/>
                  </a:lnTo>
                  <a:lnTo>
                    <a:pt x="41" y="356"/>
                  </a:lnTo>
                  <a:lnTo>
                    <a:pt x="45" y="353"/>
                  </a:lnTo>
                  <a:lnTo>
                    <a:pt x="50" y="351"/>
                  </a:lnTo>
                  <a:lnTo>
                    <a:pt x="55" y="350"/>
                  </a:lnTo>
                  <a:lnTo>
                    <a:pt x="61" y="350"/>
                  </a:lnTo>
                  <a:lnTo>
                    <a:pt x="67" y="350"/>
                  </a:lnTo>
                  <a:lnTo>
                    <a:pt x="104" y="281"/>
                  </a:lnTo>
                  <a:lnTo>
                    <a:pt x="97" y="274"/>
                  </a:lnTo>
                  <a:lnTo>
                    <a:pt x="91" y="267"/>
                  </a:lnTo>
                  <a:lnTo>
                    <a:pt x="87" y="259"/>
                  </a:lnTo>
                  <a:lnTo>
                    <a:pt x="84" y="250"/>
                  </a:lnTo>
                  <a:lnTo>
                    <a:pt x="82" y="241"/>
                  </a:lnTo>
                  <a:lnTo>
                    <a:pt x="81" y="232"/>
                  </a:lnTo>
                  <a:lnTo>
                    <a:pt x="82" y="222"/>
                  </a:lnTo>
                  <a:lnTo>
                    <a:pt x="84" y="213"/>
                  </a:lnTo>
                  <a:lnTo>
                    <a:pt x="89" y="204"/>
                  </a:lnTo>
                  <a:lnTo>
                    <a:pt x="95" y="194"/>
                  </a:lnTo>
                  <a:lnTo>
                    <a:pt x="102" y="186"/>
                  </a:lnTo>
                  <a:lnTo>
                    <a:pt x="112" y="178"/>
                  </a:lnTo>
                  <a:lnTo>
                    <a:pt x="124" y="171"/>
                  </a:lnTo>
                  <a:lnTo>
                    <a:pt x="138" y="165"/>
                  </a:lnTo>
                  <a:lnTo>
                    <a:pt x="154" y="160"/>
                  </a:lnTo>
                  <a:lnTo>
                    <a:pt x="173" y="156"/>
                  </a:lnTo>
                  <a:lnTo>
                    <a:pt x="142" y="27"/>
                  </a:lnTo>
                  <a:lnTo>
                    <a:pt x="830" y="0"/>
                  </a:lnTo>
                  <a:lnTo>
                    <a:pt x="852" y="25"/>
                  </a:lnTo>
                  <a:lnTo>
                    <a:pt x="876" y="48"/>
                  </a:lnTo>
                  <a:lnTo>
                    <a:pt x="903" y="72"/>
                  </a:lnTo>
                  <a:lnTo>
                    <a:pt x="930" y="96"/>
                  </a:lnTo>
                  <a:lnTo>
                    <a:pt x="1077" y="629"/>
                  </a:lnTo>
                  <a:lnTo>
                    <a:pt x="1082" y="639"/>
                  </a:lnTo>
                  <a:lnTo>
                    <a:pt x="1088" y="650"/>
                  </a:lnTo>
                  <a:lnTo>
                    <a:pt x="1095" y="660"/>
                  </a:lnTo>
                  <a:lnTo>
                    <a:pt x="1102" y="672"/>
                  </a:lnTo>
                  <a:lnTo>
                    <a:pt x="1119" y="693"/>
                  </a:lnTo>
                  <a:lnTo>
                    <a:pt x="1137" y="715"/>
                  </a:lnTo>
                  <a:lnTo>
                    <a:pt x="1157" y="735"/>
                  </a:lnTo>
                  <a:lnTo>
                    <a:pt x="1175" y="753"/>
                  </a:lnTo>
                  <a:lnTo>
                    <a:pt x="1194" y="769"/>
                  </a:lnTo>
                  <a:lnTo>
                    <a:pt x="1210" y="782"/>
                  </a:lnTo>
                  <a:lnTo>
                    <a:pt x="1188" y="806"/>
                  </a:lnTo>
                  <a:lnTo>
                    <a:pt x="1169" y="831"/>
                  </a:lnTo>
                  <a:lnTo>
                    <a:pt x="1161" y="841"/>
                  </a:lnTo>
                  <a:lnTo>
                    <a:pt x="1154" y="853"/>
                  </a:lnTo>
                  <a:lnTo>
                    <a:pt x="1148" y="865"/>
                  </a:lnTo>
                  <a:lnTo>
                    <a:pt x="1143" y="877"/>
                  </a:lnTo>
                  <a:lnTo>
                    <a:pt x="1138" y="889"/>
                  </a:lnTo>
                  <a:lnTo>
                    <a:pt x="1134" y="902"/>
                  </a:lnTo>
                  <a:lnTo>
                    <a:pt x="1131" y="915"/>
                  </a:lnTo>
                  <a:lnTo>
                    <a:pt x="1127" y="930"/>
                  </a:lnTo>
                  <a:lnTo>
                    <a:pt x="1126" y="945"/>
                  </a:lnTo>
                  <a:lnTo>
                    <a:pt x="1124" y="963"/>
                  </a:lnTo>
                  <a:lnTo>
                    <a:pt x="1124" y="980"/>
                  </a:lnTo>
                  <a:lnTo>
                    <a:pt x="1124" y="1000"/>
                  </a:lnTo>
                  <a:lnTo>
                    <a:pt x="1124" y="1041"/>
                  </a:lnTo>
                  <a:lnTo>
                    <a:pt x="1125" y="1081"/>
                  </a:lnTo>
                  <a:lnTo>
                    <a:pt x="1127" y="1119"/>
                  </a:lnTo>
                  <a:lnTo>
                    <a:pt x="1131" y="1156"/>
                  </a:lnTo>
                  <a:lnTo>
                    <a:pt x="1133" y="1186"/>
                  </a:lnTo>
                  <a:lnTo>
                    <a:pt x="1136" y="1209"/>
                  </a:lnTo>
                  <a:lnTo>
                    <a:pt x="1137" y="1225"/>
                  </a:lnTo>
                  <a:lnTo>
                    <a:pt x="1138" y="1230"/>
                  </a:lnTo>
                  <a:lnTo>
                    <a:pt x="1123" y="1257"/>
                  </a:lnTo>
                  <a:lnTo>
                    <a:pt x="1108" y="1281"/>
                  </a:lnTo>
                  <a:lnTo>
                    <a:pt x="1094" y="1299"/>
                  </a:lnTo>
                  <a:lnTo>
                    <a:pt x="1080" y="1315"/>
                  </a:lnTo>
                  <a:lnTo>
                    <a:pt x="1067" y="1327"/>
                  </a:lnTo>
                  <a:lnTo>
                    <a:pt x="1053" y="1338"/>
                  </a:lnTo>
                  <a:lnTo>
                    <a:pt x="1040" y="1347"/>
                  </a:lnTo>
                  <a:lnTo>
                    <a:pt x="1027" y="1354"/>
                  </a:lnTo>
                  <a:lnTo>
                    <a:pt x="1001" y="1367"/>
                  </a:lnTo>
                  <a:lnTo>
                    <a:pt x="974" y="1380"/>
                  </a:lnTo>
                  <a:lnTo>
                    <a:pt x="960" y="1388"/>
                  </a:lnTo>
                  <a:lnTo>
                    <a:pt x="946" y="1397"/>
                  </a:lnTo>
                  <a:lnTo>
                    <a:pt x="931" y="1409"/>
                  </a:lnTo>
                  <a:lnTo>
                    <a:pt x="916" y="1423"/>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12" name="Freeform 1419"/>
            <p:cNvSpPr/>
            <p:nvPr/>
          </p:nvSpPr>
          <p:spPr>
            <a:xfrm>
              <a:off x="5319000" y="4782960"/>
              <a:ext cx="168120" cy="140040"/>
            </a:xfrm>
            <a:custGeom>
              <a:avLst/>
              <a:gdLst>
                <a:gd name="textAreaLeft" fmla="*/ 0 w 168120"/>
                <a:gd name="textAreaRight" fmla="*/ 168480 w 168120"/>
                <a:gd name="textAreaTop" fmla="*/ 0 h 140040"/>
                <a:gd name="textAreaBottom" fmla="*/ 140400 h 140040"/>
              </a:gdLst>
              <a:ahLst/>
              <a:rect l="textAreaLeft" t="textAreaTop" r="textAreaRight" b="textAreaBottom"/>
              <a:pathLst>
                <a:path w="932" h="925">
                  <a:moveTo>
                    <a:pt x="10" y="740"/>
                  </a:moveTo>
                  <a:lnTo>
                    <a:pt x="6" y="735"/>
                  </a:lnTo>
                  <a:lnTo>
                    <a:pt x="2" y="729"/>
                  </a:lnTo>
                  <a:lnTo>
                    <a:pt x="1" y="723"/>
                  </a:lnTo>
                  <a:lnTo>
                    <a:pt x="0" y="717"/>
                  </a:lnTo>
                  <a:lnTo>
                    <a:pt x="2" y="704"/>
                  </a:lnTo>
                  <a:lnTo>
                    <a:pt x="7" y="690"/>
                  </a:lnTo>
                  <a:lnTo>
                    <a:pt x="11" y="674"/>
                  </a:lnTo>
                  <a:lnTo>
                    <a:pt x="17" y="654"/>
                  </a:lnTo>
                  <a:lnTo>
                    <a:pt x="18" y="642"/>
                  </a:lnTo>
                  <a:lnTo>
                    <a:pt x="20" y="631"/>
                  </a:lnTo>
                  <a:lnTo>
                    <a:pt x="20" y="617"/>
                  </a:lnTo>
                  <a:lnTo>
                    <a:pt x="18" y="601"/>
                  </a:lnTo>
                  <a:lnTo>
                    <a:pt x="32" y="598"/>
                  </a:lnTo>
                  <a:lnTo>
                    <a:pt x="44" y="593"/>
                  </a:lnTo>
                  <a:lnTo>
                    <a:pt x="54" y="589"/>
                  </a:lnTo>
                  <a:lnTo>
                    <a:pt x="62" y="582"/>
                  </a:lnTo>
                  <a:lnTo>
                    <a:pt x="68" y="573"/>
                  </a:lnTo>
                  <a:lnTo>
                    <a:pt x="72" y="564"/>
                  </a:lnTo>
                  <a:lnTo>
                    <a:pt x="76" y="555"/>
                  </a:lnTo>
                  <a:lnTo>
                    <a:pt x="78" y="544"/>
                  </a:lnTo>
                  <a:lnTo>
                    <a:pt x="79" y="534"/>
                  </a:lnTo>
                  <a:lnTo>
                    <a:pt x="80" y="522"/>
                  </a:lnTo>
                  <a:lnTo>
                    <a:pt x="80" y="510"/>
                  </a:lnTo>
                  <a:lnTo>
                    <a:pt x="79" y="497"/>
                  </a:lnTo>
                  <a:lnTo>
                    <a:pt x="77" y="472"/>
                  </a:lnTo>
                  <a:lnTo>
                    <a:pt x="73" y="446"/>
                  </a:lnTo>
                  <a:lnTo>
                    <a:pt x="92" y="434"/>
                  </a:lnTo>
                  <a:lnTo>
                    <a:pt x="105" y="425"/>
                  </a:lnTo>
                  <a:lnTo>
                    <a:pt x="110" y="422"/>
                  </a:lnTo>
                  <a:lnTo>
                    <a:pt x="113" y="418"/>
                  </a:lnTo>
                  <a:lnTo>
                    <a:pt x="117" y="413"/>
                  </a:lnTo>
                  <a:lnTo>
                    <a:pt x="119" y="409"/>
                  </a:lnTo>
                  <a:lnTo>
                    <a:pt x="127" y="383"/>
                  </a:lnTo>
                  <a:lnTo>
                    <a:pt x="142" y="332"/>
                  </a:lnTo>
                  <a:lnTo>
                    <a:pt x="149" y="308"/>
                  </a:lnTo>
                  <a:lnTo>
                    <a:pt x="154" y="290"/>
                  </a:lnTo>
                  <a:lnTo>
                    <a:pt x="157" y="272"/>
                  </a:lnTo>
                  <a:lnTo>
                    <a:pt x="157" y="257"/>
                  </a:lnTo>
                  <a:lnTo>
                    <a:pt x="157" y="244"/>
                  </a:lnTo>
                  <a:lnTo>
                    <a:pt x="155" y="232"/>
                  </a:lnTo>
                  <a:lnTo>
                    <a:pt x="152" y="221"/>
                  </a:lnTo>
                  <a:lnTo>
                    <a:pt x="147" y="211"/>
                  </a:lnTo>
                  <a:lnTo>
                    <a:pt x="136" y="193"/>
                  </a:lnTo>
                  <a:lnTo>
                    <a:pt x="122" y="174"/>
                  </a:lnTo>
                  <a:lnTo>
                    <a:pt x="117" y="163"/>
                  </a:lnTo>
                  <a:lnTo>
                    <a:pt x="110" y="152"/>
                  </a:lnTo>
                  <a:lnTo>
                    <a:pt x="103" y="139"/>
                  </a:lnTo>
                  <a:lnTo>
                    <a:pt x="97" y="124"/>
                  </a:lnTo>
                  <a:lnTo>
                    <a:pt x="91" y="109"/>
                  </a:lnTo>
                  <a:lnTo>
                    <a:pt x="87" y="95"/>
                  </a:lnTo>
                  <a:lnTo>
                    <a:pt x="86" y="82"/>
                  </a:lnTo>
                  <a:lnTo>
                    <a:pt x="85" y="71"/>
                  </a:lnTo>
                  <a:lnTo>
                    <a:pt x="85" y="62"/>
                  </a:lnTo>
                  <a:lnTo>
                    <a:pt x="86" y="52"/>
                  </a:lnTo>
                  <a:lnTo>
                    <a:pt x="87" y="45"/>
                  </a:lnTo>
                  <a:lnTo>
                    <a:pt x="90" y="38"/>
                  </a:lnTo>
                  <a:lnTo>
                    <a:pt x="94" y="27"/>
                  </a:lnTo>
                  <a:lnTo>
                    <a:pt x="98" y="16"/>
                  </a:lnTo>
                  <a:lnTo>
                    <a:pt x="99" y="13"/>
                  </a:lnTo>
                  <a:lnTo>
                    <a:pt x="99" y="8"/>
                  </a:lnTo>
                  <a:lnTo>
                    <a:pt x="98" y="5"/>
                  </a:lnTo>
                  <a:lnTo>
                    <a:pt x="97" y="0"/>
                  </a:lnTo>
                  <a:lnTo>
                    <a:pt x="106" y="5"/>
                  </a:lnTo>
                  <a:lnTo>
                    <a:pt x="114" y="10"/>
                  </a:lnTo>
                  <a:lnTo>
                    <a:pt x="120" y="16"/>
                  </a:lnTo>
                  <a:lnTo>
                    <a:pt x="126" y="22"/>
                  </a:lnTo>
                  <a:lnTo>
                    <a:pt x="136" y="36"/>
                  </a:lnTo>
                  <a:lnTo>
                    <a:pt x="146" y="50"/>
                  </a:lnTo>
                  <a:lnTo>
                    <a:pt x="150" y="57"/>
                  </a:lnTo>
                  <a:lnTo>
                    <a:pt x="155" y="63"/>
                  </a:lnTo>
                  <a:lnTo>
                    <a:pt x="161" y="69"/>
                  </a:lnTo>
                  <a:lnTo>
                    <a:pt x="168" y="73"/>
                  </a:lnTo>
                  <a:lnTo>
                    <a:pt x="176" y="78"/>
                  </a:lnTo>
                  <a:lnTo>
                    <a:pt x="187" y="80"/>
                  </a:lnTo>
                  <a:lnTo>
                    <a:pt x="198" y="83"/>
                  </a:lnTo>
                  <a:lnTo>
                    <a:pt x="211" y="83"/>
                  </a:lnTo>
                  <a:lnTo>
                    <a:pt x="218" y="84"/>
                  </a:lnTo>
                  <a:lnTo>
                    <a:pt x="224" y="84"/>
                  </a:lnTo>
                  <a:lnTo>
                    <a:pt x="229" y="85"/>
                  </a:lnTo>
                  <a:lnTo>
                    <a:pt x="233" y="87"/>
                  </a:lnTo>
                  <a:lnTo>
                    <a:pt x="237" y="90"/>
                  </a:lnTo>
                  <a:lnTo>
                    <a:pt x="239" y="92"/>
                  </a:lnTo>
                  <a:lnTo>
                    <a:pt x="242" y="95"/>
                  </a:lnTo>
                  <a:lnTo>
                    <a:pt x="243" y="98"/>
                  </a:lnTo>
                  <a:lnTo>
                    <a:pt x="245" y="106"/>
                  </a:lnTo>
                  <a:lnTo>
                    <a:pt x="245" y="116"/>
                  </a:lnTo>
                  <a:lnTo>
                    <a:pt x="244" y="127"/>
                  </a:lnTo>
                  <a:lnTo>
                    <a:pt x="243" y="139"/>
                  </a:lnTo>
                  <a:lnTo>
                    <a:pt x="242" y="153"/>
                  </a:lnTo>
                  <a:lnTo>
                    <a:pt x="242" y="167"/>
                  </a:lnTo>
                  <a:lnTo>
                    <a:pt x="242" y="182"/>
                  </a:lnTo>
                  <a:lnTo>
                    <a:pt x="243" y="198"/>
                  </a:lnTo>
                  <a:lnTo>
                    <a:pt x="246" y="216"/>
                  </a:lnTo>
                  <a:lnTo>
                    <a:pt x="253" y="234"/>
                  </a:lnTo>
                  <a:lnTo>
                    <a:pt x="257" y="243"/>
                  </a:lnTo>
                  <a:lnTo>
                    <a:pt x="263" y="252"/>
                  </a:lnTo>
                  <a:lnTo>
                    <a:pt x="268" y="262"/>
                  </a:lnTo>
                  <a:lnTo>
                    <a:pt x="275" y="271"/>
                  </a:lnTo>
                  <a:lnTo>
                    <a:pt x="288" y="271"/>
                  </a:lnTo>
                  <a:lnTo>
                    <a:pt x="302" y="271"/>
                  </a:lnTo>
                  <a:lnTo>
                    <a:pt x="316" y="271"/>
                  </a:lnTo>
                  <a:lnTo>
                    <a:pt x="330" y="270"/>
                  </a:lnTo>
                  <a:lnTo>
                    <a:pt x="361" y="265"/>
                  </a:lnTo>
                  <a:lnTo>
                    <a:pt x="393" y="259"/>
                  </a:lnTo>
                  <a:lnTo>
                    <a:pt x="426" y="252"/>
                  </a:lnTo>
                  <a:lnTo>
                    <a:pt x="462" y="245"/>
                  </a:lnTo>
                  <a:lnTo>
                    <a:pt x="499" y="237"/>
                  </a:lnTo>
                  <a:lnTo>
                    <a:pt x="537" y="230"/>
                  </a:lnTo>
                  <a:lnTo>
                    <a:pt x="559" y="262"/>
                  </a:lnTo>
                  <a:lnTo>
                    <a:pt x="579" y="285"/>
                  </a:lnTo>
                  <a:lnTo>
                    <a:pt x="587" y="293"/>
                  </a:lnTo>
                  <a:lnTo>
                    <a:pt x="596" y="301"/>
                  </a:lnTo>
                  <a:lnTo>
                    <a:pt x="604" y="306"/>
                  </a:lnTo>
                  <a:lnTo>
                    <a:pt x="611" y="311"/>
                  </a:lnTo>
                  <a:lnTo>
                    <a:pt x="617" y="314"/>
                  </a:lnTo>
                  <a:lnTo>
                    <a:pt x="622" y="315"/>
                  </a:lnTo>
                  <a:lnTo>
                    <a:pt x="628" y="316"/>
                  </a:lnTo>
                  <a:lnTo>
                    <a:pt x="634" y="316"/>
                  </a:lnTo>
                  <a:lnTo>
                    <a:pt x="640" y="315"/>
                  </a:lnTo>
                  <a:lnTo>
                    <a:pt x="645" y="313"/>
                  </a:lnTo>
                  <a:lnTo>
                    <a:pt x="649" y="309"/>
                  </a:lnTo>
                  <a:lnTo>
                    <a:pt x="654" y="307"/>
                  </a:lnTo>
                  <a:lnTo>
                    <a:pt x="674" y="290"/>
                  </a:lnTo>
                  <a:lnTo>
                    <a:pt x="697" y="270"/>
                  </a:lnTo>
                  <a:lnTo>
                    <a:pt x="704" y="266"/>
                  </a:lnTo>
                  <a:lnTo>
                    <a:pt x="711" y="262"/>
                  </a:lnTo>
                  <a:lnTo>
                    <a:pt x="719" y="258"/>
                  </a:lnTo>
                  <a:lnTo>
                    <a:pt x="728" y="256"/>
                  </a:lnTo>
                  <a:lnTo>
                    <a:pt x="736" y="253"/>
                  </a:lnTo>
                  <a:lnTo>
                    <a:pt x="746" y="252"/>
                  </a:lnTo>
                  <a:lnTo>
                    <a:pt x="757" y="252"/>
                  </a:lnTo>
                  <a:lnTo>
                    <a:pt x="767" y="253"/>
                  </a:lnTo>
                  <a:lnTo>
                    <a:pt x="807" y="258"/>
                  </a:lnTo>
                  <a:lnTo>
                    <a:pt x="834" y="260"/>
                  </a:lnTo>
                  <a:lnTo>
                    <a:pt x="854" y="262"/>
                  </a:lnTo>
                  <a:lnTo>
                    <a:pt x="867" y="260"/>
                  </a:lnTo>
                  <a:lnTo>
                    <a:pt x="878" y="260"/>
                  </a:lnTo>
                  <a:lnTo>
                    <a:pt x="891" y="259"/>
                  </a:lnTo>
                  <a:lnTo>
                    <a:pt x="907" y="260"/>
                  </a:lnTo>
                  <a:lnTo>
                    <a:pt x="932" y="262"/>
                  </a:lnTo>
                  <a:lnTo>
                    <a:pt x="924" y="270"/>
                  </a:lnTo>
                  <a:lnTo>
                    <a:pt x="916" y="280"/>
                  </a:lnTo>
                  <a:lnTo>
                    <a:pt x="907" y="293"/>
                  </a:lnTo>
                  <a:lnTo>
                    <a:pt x="898" y="308"/>
                  </a:lnTo>
                  <a:lnTo>
                    <a:pt x="878" y="343"/>
                  </a:lnTo>
                  <a:lnTo>
                    <a:pt x="858" y="382"/>
                  </a:lnTo>
                  <a:lnTo>
                    <a:pt x="836" y="423"/>
                  </a:lnTo>
                  <a:lnTo>
                    <a:pt x="814" y="462"/>
                  </a:lnTo>
                  <a:lnTo>
                    <a:pt x="802" y="480"/>
                  </a:lnTo>
                  <a:lnTo>
                    <a:pt x="791" y="496"/>
                  </a:lnTo>
                  <a:lnTo>
                    <a:pt x="779" y="512"/>
                  </a:lnTo>
                  <a:lnTo>
                    <a:pt x="767" y="524"/>
                  </a:lnTo>
                  <a:lnTo>
                    <a:pt x="763" y="530"/>
                  </a:lnTo>
                  <a:lnTo>
                    <a:pt x="758" y="538"/>
                  </a:lnTo>
                  <a:lnTo>
                    <a:pt x="753" y="547"/>
                  </a:lnTo>
                  <a:lnTo>
                    <a:pt x="750" y="556"/>
                  </a:lnTo>
                  <a:lnTo>
                    <a:pt x="744" y="577"/>
                  </a:lnTo>
                  <a:lnTo>
                    <a:pt x="738" y="600"/>
                  </a:lnTo>
                  <a:lnTo>
                    <a:pt x="731" y="652"/>
                  </a:lnTo>
                  <a:lnTo>
                    <a:pt x="724" y="708"/>
                  </a:lnTo>
                  <a:lnTo>
                    <a:pt x="719" y="736"/>
                  </a:lnTo>
                  <a:lnTo>
                    <a:pt x="713" y="764"/>
                  </a:lnTo>
                  <a:lnTo>
                    <a:pt x="710" y="777"/>
                  </a:lnTo>
                  <a:lnTo>
                    <a:pt x="706" y="790"/>
                  </a:lnTo>
                  <a:lnTo>
                    <a:pt x="702" y="802"/>
                  </a:lnTo>
                  <a:lnTo>
                    <a:pt x="697" y="814"/>
                  </a:lnTo>
                  <a:lnTo>
                    <a:pt x="691" y="825"/>
                  </a:lnTo>
                  <a:lnTo>
                    <a:pt x="684" y="835"/>
                  </a:lnTo>
                  <a:lnTo>
                    <a:pt x="677" y="846"/>
                  </a:lnTo>
                  <a:lnTo>
                    <a:pt x="670" y="855"/>
                  </a:lnTo>
                  <a:lnTo>
                    <a:pt x="661" y="863"/>
                  </a:lnTo>
                  <a:lnTo>
                    <a:pt x="652" y="870"/>
                  </a:lnTo>
                  <a:lnTo>
                    <a:pt x="641" y="876"/>
                  </a:lnTo>
                  <a:lnTo>
                    <a:pt x="629" y="881"/>
                  </a:lnTo>
                  <a:lnTo>
                    <a:pt x="597" y="891"/>
                  </a:lnTo>
                  <a:lnTo>
                    <a:pt x="566" y="900"/>
                  </a:lnTo>
                  <a:lnTo>
                    <a:pt x="537" y="907"/>
                  </a:lnTo>
                  <a:lnTo>
                    <a:pt x="509" y="913"/>
                  </a:lnTo>
                  <a:lnTo>
                    <a:pt x="482" y="918"/>
                  </a:lnTo>
                  <a:lnTo>
                    <a:pt x="458" y="922"/>
                  </a:lnTo>
                  <a:lnTo>
                    <a:pt x="433" y="924"/>
                  </a:lnTo>
                  <a:lnTo>
                    <a:pt x="410" y="925"/>
                  </a:lnTo>
                  <a:lnTo>
                    <a:pt x="388" y="925"/>
                  </a:lnTo>
                  <a:lnTo>
                    <a:pt x="367" y="924"/>
                  </a:lnTo>
                  <a:lnTo>
                    <a:pt x="347" y="922"/>
                  </a:lnTo>
                  <a:lnTo>
                    <a:pt x="328" y="919"/>
                  </a:lnTo>
                  <a:lnTo>
                    <a:pt x="309" y="916"/>
                  </a:lnTo>
                  <a:lnTo>
                    <a:pt x="292" y="912"/>
                  </a:lnTo>
                  <a:lnTo>
                    <a:pt x="275" y="907"/>
                  </a:lnTo>
                  <a:lnTo>
                    <a:pt x="260" y="903"/>
                  </a:lnTo>
                  <a:lnTo>
                    <a:pt x="231" y="892"/>
                  </a:lnTo>
                  <a:lnTo>
                    <a:pt x="205" y="882"/>
                  </a:lnTo>
                  <a:lnTo>
                    <a:pt x="181" y="871"/>
                  </a:lnTo>
                  <a:lnTo>
                    <a:pt x="160" y="861"/>
                  </a:lnTo>
                  <a:lnTo>
                    <a:pt x="140" y="851"/>
                  </a:lnTo>
                  <a:lnTo>
                    <a:pt x="121" y="846"/>
                  </a:lnTo>
                  <a:lnTo>
                    <a:pt x="113" y="843"/>
                  </a:lnTo>
                  <a:lnTo>
                    <a:pt x="104" y="841"/>
                  </a:lnTo>
                  <a:lnTo>
                    <a:pt x="96" y="841"/>
                  </a:lnTo>
                  <a:lnTo>
                    <a:pt x="87" y="841"/>
                  </a:lnTo>
                  <a:lnTo>
                    <a:pt x="73" y="839"/>
                  </a:lnTo>
                  <a:lnTo>
                    <a:pt x="61" y="835"/>
                  </a:lnTo>
                  <a:lnTo>
                    <a:pt x="50" y="830"/>
                  </a:lnTo>
                  <a:lnTo>
                    <a:pt x="39" y="825"/>
                  </a:lnTo>
                  <a:lnTo>
                    <a:pt x="30" y="819"/>
                  </a:lnTo>
                  <a:lnTo>
                    <a:pt x="23" y="812"/>
                  </a:lnTo>
                  <a:lnTo>
                    <a:pt x="16" y="804"/>
                  </a:lnTo>
                  <a:lnTo>
                    <a:pt x="11" y="795"/>
                  </a:lnTo>
                  <a:lnTo>
                    <a:pt x="7" y="788"/>
                  </a:lnTo>
                  <a:lnTo>
                    <a:pt x="4" y="780"/>
                  </a:lnTo>
                  <a:lnTo>
                    <a:pt x="2" y="772"/>
                  </a:lnTo>
                  <a:lnTo>
                    <a:pt x="1" y="764"/>
                  </a:lnTo>
                  <a:lnTo>
                    <a:pt x="2" y="757"/>
                  </a:lnTo>
                  <a:lnTo>
                    <a:pt x="3" y="751"/>
                  </a:lnTo>
                  <a:lnTo>
                    <a:pt x="6" y="745"/>
                  </a:lnTo>
                  <a:lnTo>
                    <a:pt x="10" y="74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13" name="Freeform 1420"/>
            <p:cNvSpPr/>
            <p:nvPr/>
          </p:nvSpPr>
          <p:spPr>
            <a:xfrm>
              <a:off x="5319000" y="4782960"/>
              <a:ext cx="168120" cy="140040"/>
            </a:xfrm>
            <a:custGeom>
              <a:avLst/>
              <a:gdLst>
                <a:gd name="textAreaLeft" fmla="*/ 0 w 168120"/>
                <a:gd name="textAreaRight" fmla="*/ 168480 w 168120"/>
                <a:gd name="textAreaTop" fmla="*/ 0 h 140040"/>
                <a:gd name="textAreaBottom" fmla="*/ 140400 h 140040"/>
              </a:gdLst>
              <a:ahLst/>
              <a:rect l="textAreaLeft" t="textAreaTop" r="textAreaRight" b="textAreaBottom"/>
              <a:pathLst>
                <a:path w="932" h="925">
                  <a:moveTo>
                    <a:pt x="10" y="740"/>
                  </a:moveTo>
                  <a:lnTo>
                    <a:pt x="6" y="735"/>
                  </a:lnTo>
                  <a:lnTo>
                    <a:pt x="2" y="729"/>
                  </a:lnTo>
                  <a:lnTo>
                    <a:pt x="1" y="723"/>
                  </a:lnTo>
                  <a:lnTo>
                    <a:pt x="0" y="717"/>
                  </a:lnTo>
                  <a:lnTo>
                    <a:pt x="2" y="704"/>
                  </a:lnTo>
                  <a:lnTo>
                    <a:pt x="7" y="690"/>
                  </a:lnTo>
                  <a:lnTo>
                    <a:pt x="11" y="674"/>
                  </a:lnTo>
                  <a:lnTo>
                    <a:pt x="17" y="654"/>
                  </a:lnTo>
                  <a:lnTo>
                    <a:pt x="18" y="642"/>
                  </a:lnTo>
                  <a:lnTo>
                    <a:pt x="20" y="631"/>
                  </a:lnTo>
                  <a:lnTo>
                    <a:pt x="20" y="617"/>
                  </a:lnTo>
                  <a:lnTo>
                    <a:pt x="18" y="601"/>
                  </a:lnTo>
                  <a:lnTo>
                    <a:pt x="32" y="598"/>
                  </a:lnTo>
                  <a:lnTo>
                    <a:pt x="44" y="593"/>
                  </a:lnTo>
                  <a:lnTo>
                    <a:pt x="54" y="589"/>
                  </a:lnTo>
                  <a:lnTo>
                    <a:pt x="62" y="582"/>
                  </a:lnTo>
                  <a:lnTo>
                    <a:pt x="68" y="573"/>
                  </a:lnTo>
                  <a:lnTo>
                    <a:pt x="72" y="564"/>
                  </a:lnTo>
                  <a:lnTo>
                    <a:pt x="76" y="555"/>
                  </a:lnTo>
                  <a:lnTo>
                    <a:pt x="78" y="544"/>
                  </a:lnTo>
                  <a:lnTo>
                    <a:pt x="79" y="534"/>
                  </a:lnTo>
                  <a:lnTo>
                    <a:pt x="80" y="522"/>
                  </a:lnTo>
                  <a:lnTo>
                    <a:pt x="80" y="510"/>
                  </a:lnTo>
                  <a:lnTo>
                    <a:pt x="79" y="497"/>
                  </a:lnTo>
                  <a:lnTo>
                    <a:pt x="77" y="472"/>
                  </a:lnTo>
                  <a:lnTo>
                    <a:pt x="73" y="446"/>
                  </a:lnTo>
                  <a:lnTo>
                    <a:pt x="92" y="434"/>
                  </a:lnTo>
                  <a:lnTo>
                    <a:pt x="105" y="425"/>
                  </a:lnTo>
                  <a:lnTo>
                    <a:pt x="110" y="422"/>
                  </a:lnTo>
                  <a:lnTo>
                    <a:pt x="113" y="418"/>
                  </a:lnTo>
                  <a:lnTo>
                    <a:pt x="117" y="413"/>
                  </a:lnTo>
                  <a:lnTo>
                    <a:pt x="119" y="409"/>
                  </a:lnTo>
                  <a:lnTo>
                    <a:pt x="127" y="383"/>
                  </a:lnTo>
                  <a:lnTo>
                    <a:pt x="142" y="332"/>
                  </a:lnTo>
                  <a:lnTo>
                    <a:pt x="149" y="308"/>
                  </a:lnTo>
                  <a:lnTo>
                    <a:pt x="154" y="290"/>
                  </a:lnTo>
                  <a:lnTo>
                    <a:pt x="157" y="272"/>
                  </a:lnTo>
                  <a:lnTo>
                    <a:pt x="157" y="257"/>
                  </a:lnTo>
                  <a:lnTo>
                    <a:pt x="157" y="244"/>
                  </a:lnTo>
                  <a:lnTo>
                    <a:pt x="155" y="232"/>
                  </a:lnTo>
                  <a:lnTo>
                    <a:pt x="152" y="221"/>
                  </a:lnTo>
                  <a:lnTo>
                    <a:pt x="147" y="211"/>
                  </a:lnTo>
                  <a:lnTo>
                    <a:pt x="136" y="193"/>
                  </a:lnTo>
                  <a:lnTo>
                    <a:pt x="122" y="174"/>
                  </a:lnTo>
                  <a:lnTo>
                    <a:pt x="117" y="163"/>
                  </a:lnTo>
                  <a:lnTo>
                    <a:pt x="110" y="152"/>
                  </a:lnTo>
                  <a:lnTo>
                    <a:pt x="103" y="139"/>
                  </a:lnTo>
                  <a:lnTo>
                    <a:pt x="97" y="124"/>
                  </a:lnTo>
                  <a:lnTo>
                    <a:pt x="91" y="109"/>
                  </a:lnTo>
                  <a:lnTo>
                    <a:pt x="87" y="95"/>
                  </a:lnTo>
                  <a:lnTo>
                    <a:pt x="86" y="82"/>
                  </a:lnTo>
                  <a:lnTo>
                    <a:pt x="85" y="71"/>
                  </a:lnTo>
                  <a:lnTo>
                    <a:pt x="85" y="62"/>
                  </a:lnTo>
                  <a:lnTo>
                    <a:pt x="86" y="52"/>
                  </a:lnTo>
                  <a:lnTo>
                    <a:pt x="87" y="45"/>
                  </a:lnTo>
                  <a:lnTo>
                    <a:pt x="90" y="38"/>
                  </a:lnTo>
                  <a:lnTo>
                    <a:pt x="94" y="27"/>
                  </a:lnTo>
                  <a:lnTo>
                    <a:pt x="98" y="16"/>
                  </a:lnTo>
                  <a:lnTo>
                    <a:pt x="99" y="13"/>
                  </a:lnTo>
                  <a:lnTo>
                    <a:pt x="99" y="8"/>
                  </a:lnTo>
                  <a:lnTo>
                    <a:pt x="98" y="5"/>
                  </a:lnTo>
                  <a:lnTo>
                    <a:pt x="97" y="0"/>
                  </a:lnTo>
                  <a:lnTo>
                    <a:pt x="106" y="5"/>
                  </a:lnTo>
                  <a:lnTo>
                    <a:pt x="114" y="10"/>
                  </a:lnTo>
                  <a:lnTo>
                    <a:pt x="120" y="16"/>
                  </a:lnTo>
                  <a:lnTo>
                    <a:pt x="126" y="22"/>
                  </a:lnTo>
                  <a:lnTo>
                    <a:pt x="136" y="36"/>
                  </a:lnTo>
                  <a:lnTo>
                    <a:pt x="146" y="50"/>
                  </a:lnTo>
                  <a:lnTo>
                    <a:pt x="150" y="57"/>
                  </a:lnTo>
                  <a:lnTo>
                    <a:pt x="155" y="63"/>
                  </a:lnTo>
                  <a:lnTo>
                    <a:pt x="161" y="69"/>
                  </a:lnTo>
                  <a:lnTo>
                    <a:pt x="168" y="73"/>
                  </a:lnTo>
                  <a:lnTo>
                    <a:pt x="176" y="78"/>
                  </a:lnTo>
                  <a:lnTo>
                    <a:pt x="187" y="80"/>
                  </a:lnTo>
                  <a:lnTo>
                    <a:pt x="198" y="83"/>
                  </a:lnTo>
                  <a:lnTo>
                    <a:pt x="211" y="83"/>
                  </a:lnTo>
                  <a:lnTo>
                    <a:pt x="218" y="84"/>
                  </a:lnTo>
                  <a:lnTo>
                    <a:pt x="224" y="84"/>
                  </a:lnTo>
                  <a:lnTo>
                    <a:pt x="229" y="85"/>
                  </a:lnTo>
                  <a:lnTo>
                    <a:pt x="233" y="87"/>
                  </a:lnTo>
                  <a:lnTo>
                    <a:pt x="237" y="90"/>
                  </a:lnTo>
                  <a:lnTo>
                    <a:pt x="239" y="92"/>
                  </a:lnTo>
                  <a:lnTo>
                    <a:pt x="242" y="95"/>
                  </a:lnTo>
                  <a:lnTo>
                    <a:pt x="243" y="98"/>
                  </a:lnTo>
                  <a:lnTo>
                    <a:pt x="245" y="106"/>
                  </a:lnTo>
                  <a:lnTo>
                    <a:pt x="245" y="116"/>
                  </a:lnTo>
                  <a:lnTo>
                    <a:pt x="244" y="127"/>
                  </a:lnTo>
                  <a:lnTo>
                    <a:pt x="243" y="139"/>
                  </a:lnTo>
                  <a:lnTo>
                    <a:pt x="242" y="153"/>
                  </a:lnTo>
                  <a:lnTo>
                    <a:pt x="242" y="167"/>
                  </a:lnTo>
                  <a:lnTo>
                    <a:pt x="242" y="182"/>
                  </a:lnTo>
                  <a:lnTo>
                    <a:pt x="243" y="198"/>
                  </a:lnTo>
                  <a:lnTo>
                    <a:pt x="246" y="216"/>
                  </a:lnTo>
                  <a:lnTo>
                    <a:pt x="253" y="234"/>
                  </a:lnTo>
                  <a:lnTo>
                    <a:pt x="257" y="243"/>
                  </a:lnTo>
                  <a:lnTo>
                    <a:pt x="263" y="252"/>
                  </a:lnTo>
                  <a:lnTo>
                    <a:pt x="268" y="262"/>
                  </a:lnTo>
                  <a:lnTo>
                    <a:pt x="275" y="271"/>
                  </a:lnTo>
                  <a:lnTo>
                    <a:pt x="288" y="271"/>
                  </a:lnTo>
                  <a:lnTo>
                    <a:pt x="302" y="271"/>
                  </a:lnTo>
                  <a:lnTo>
                    <a:pt x="316" y="271"/>
                  </a:lnTo>
                  <a:lnTo>
                    <a:pt x="330" y="270"/>
                  </a:lnTo>
                  <a:lnTo>
                    <a:pt x="361" y="265"/>
                  </a:lnTo>
                  <a:lnTo>
                    <a:pt x="393" y="259"/>
                  </a:lnTo>
                  <a:lnTo>
                    <a:pt x="426" y="252"/>
                  </a:lnTo>
                  <a:lnTo>
                    <a:pt x="462" y="245"/>
                  </a:lnTo>
                  <a:lnTo>
                    <a:pt x="499" y="237"/>
                  </a:lnTo>
                  <a:lnTo>
                    <a:pt x="537" y="230"/>
                  </a:lnTo>
                  <a:lnTo>
                    <a:pt x="559" y="262"/>
                  </a:lnTo>
                  <a:lnTo>
                    <a:pt x="579" y="285"/>
                  </a:lnTo>
                  <a:lnTo>
                    <a:pt x="587" y="293"/>
                  </a:lnTo>
                  <a:lnTo>
                    <a:pt x="596" y="301"/>
                  </a:lnTo>
                  <a:lnTo>
                    <a:pt x="604" y="306"/>
                  </a:lnTo>
                  <a:lnTo>
                    <a:pt x="611" y="311"/>
                  </a:lnTo>
                  <a:lnTo>
                    <a:pt x="617" y="314"/>
                  </a:lnTo>
                  <a:lnTo>
                    <a:pt x="622" y="315"/>
                  </a:lnTo>
                  <a:lnTo>
                    <a:pt x="628" y="316"/>
                  </a:lnTo>
                  <a:lnTo>
                    <a:pt x="634" y="316"/>
                  </a:lnTo>
                  <a:lnTo>
                    <a:pt x="640" y="315"/>
                  </a:lnTo>
                  <a:lnTo>
                    <a:pt x="645" y="313"/>
                  </a:lnTo>
                  <a:lnTo>
                    <a:pt x="649" y="309"/>
                  </a:lnTo>
                  <a:lnTo>
                    <a:pt x="654" y="307"/>
                  </a:lnTo>
                  <a:lnTo>
                    <a:pt x="674" y="290"/>
                  </a:lnTo>
                  <a:lnTo>
                    <a:pt x="697" y="270"/>
                  </a:lnTo>
                  <a:lnTo>
                    <a:pt x="704" y="266"/>
                  </a:lnTo>
                  <a:lnTo>
                    <a:pt x="711" y="262"/>
                  </a:lnTo>
                  <a:lnTo>
                    <a:pt x="719" y="258"/>
                  </a:lnTo>
                  <a:lnTo>
                    <a:pt x="728" y="256"/>
                  </a:lnTo>
                  <a:lnTo>
                    <a:pt x="736" y="253"/>
                  </a:lnTo>
                  <a:lnTo>
                    <a:pt x="746" y="252"/>
                  </a:lnTo>
                  <a:lnTo>
                    <a:pt x="757" y="252"/>
                  </a:lnTo>
                  <a:lnTo>
                    <a:pt x="767" y="253"/>
                  </a:lnTo>
                  <a:lnTo>
                    <a:pt x="807" y="258"/>
                  </a:lnTo>
                  <a:lnTo>
                    <a:pt x="834" y="260"/>
                  </a:lnTo>
                  <a:lnTo>
                    <a:pt x="854" y="262"/>
                  </a:lnTo>
                  <a:lnTo>
                    <a:pt x="867" y="260"/>
                  </a:lnTo>
                  <a:lnTo>
                    <a:pt x="878" y="260"/>
                  </a:lnTo>
                  <a:lnTo>
                    <a:pt x="891" y="259"/>
                  </a:lnTo>
                  <a:lnTo>
                    <a:pt x="907" y="260"/>
                  </a:lnTo>
                  <a:lnTo>
                    <a:pt x="932" y="262"/>
                  </a:lnTo>
                  <a:lnTo>
                    <a:pt x="924" y="270"/>
                  </a:lnTo>
                  <a:lnTo>
                    <a:pt x="916" y="280"/>
                  </a:lnTo>
                  <a:lnTo>
                    <a:pt x="907" y="293"/>
                  </a:lnTo>
                  <a:lnTo>
                    <a:pt x="898" y="308"/>
                  </a:lnTo>
                  <a:lnTo>
                    <a:pt x="878" y="343"/>
                  </a:lnTo>
                  <a:lnTo>
                    <a:pt x="858" y="382"/>
                  </a:lnTo>
                  <a:lnTo>
                    <a:pt x="836" y="423"/>
                  </a:lnTo>
                  <a:lnTo>
                    <a:pt x="814" y="462"/>
                  </a:lnTo>
                  <a:lnTo>
                    <a:pt x="802" y="480"/>
                  </a:lnTo>
                  <a:lnTo>
                    <a:pt x="791" y="496"/>
                  </a:lnTo>
                  <a:lnTo>
                    <a:pt x="779" y="512"/>
                  </a:lnTo>
                  <a:lnTo>
                    <a:pt x="767" y="524"/>
                  </a:lnTo>
                  <a:lnTo>
                    <a:pt x="763" y="530"/>
                  </a:lnTo>
                  <a:lnTo>
                    <a:pt x="758" y="538"/>
                  </a:lnTo>
                  <a:lnTo>
                    <a:pt x="753" y="547"/>
                  </a:lnTo>
                  <a:lnTo>
                    <a:pt x="750" y="556"/>
                  </a:lnTo>
                  <a:lnTo>
                    <a:pt x="744" y="577"/>
                  </a:lnTo>
                  <a:lnTo>
                    <a:pt x="738" y="600"/>
                  </a:lnTo>
                  <a:lnTo>
                    <a:pt x="731" y="652"/>
                  </a:lnTo>
                  <a:lnTo>
                    <a:pt x="724" y="708"/>
                  </a:lnTo>
                  <a:lnTo>
                    <a:pt x="719" y="736"/>
                  </a:lnTo>
                  <a:lnTo>
                    <a:pt x="713" y="764"/>
                  </a:lnTo>
                  <a:lnTo>
                    <a:pt x="710" y="777"/>
                  </a:lnTo>
                  <a:lnTo>
                    <a:pt x="706" y="790"/>
                  </a:lnTo>
                  <a:lnTo>
                    <a:pt x="702" y="802"/>
                  </a:lnTo>
                  <a:lnTo>
                    <a:pt x="697" y="814"/>
                  </a:lnTo>
                  <a:lnTo>
                    <a:pt x="691" y="825"/>
                  </a:lnTo>
                  <a:lnTo>
                    <a:pt x="684" y="835"/>
                  </a:lnTo>
                  <a:lnTo>
                    <a:pt x="677" y="846"/>
                  </a:lnTo>
                  <a:lnTo>
                    <a:pt x="670" y="855"/>
                  </a:lnTo>
                  <a:lnTo>
                    <a:pt x="661" y="863"/>
                  </a:lnTo>
                  <a:lnTo>
                    <a:pt x="652" y="870"/>
                  </a:lnTo>
                  <a:lnTo>
                    <a:pt x="641" y="876"/>
                  </a:lnTo>
                  <a:lnTo>
                    <a:pt x="629" y="881"/>
                  </a:lnTo>
                  <a:lnTo>
                    <a:pt x="597" y="891"/>
                  </a:lnTo>
                  <a:lnTo>
                    <a:pt x="566" y="900"/>
                  </a:lnTo>
                  <a:lnTo>
                    <a:pt x="537" y="907"/>
                  </a:lnTo>
                  <a:lnTo>
                    <a:pt x="509" y="913"/>
                  </a:lnTo>
                  <a:lnTo>
                    <a:pt x="482" y="918"/>
                  </a:lnTo>
                  <a:lnTo>
                    <a:pt x="458" y="922"/>
                  </a:lnTo>
                  <a:lnTo>
                    <a:pt x="433" y="924"/>
                  </a:lnTo>
                  <a:lnTo>
                    <a:pt x="410" y="925"/>
                  </a:lnTo>
                  <a:lnTo>
                    <a:pt x="388" y="925"/>
                  </a:lnTo>
                  <a:lnTo>
                    <a:pt x="367" y="924"/>
                  </a:lnTo>
                  <a:lnTo>
                    <a:pt x="347" y="922"/>
                  </a:lnTo>
                  <a:lnTo>
                    <a:pt x="328" y="919"/>
                  </a:lnTo>
                  <a:lnTo>
                    <a:pt x="309" y="916"/>
                  </a:lnTo>
                  <a:lnTo>
                    <a:pt x="292" y="912"/>
                  </a:lnTo>
                  <a:lnTo>
                    <a:pt x="275" y="907"/>
                  </a:lnTo>
                  <a:lnTo>
                    <a:pt x="260" y="903"/>
                  </a:lnTo>
                  <a:lnTo>
                    <a:pt x="231" y="892"/>
                  </a:lnTo>
                  <a:lnTo>
                    <a:pt x="205" y="882"/>
                  </a:lnTo>
                  <a:lnTo>
                    <a:pt x="181" y="871"/>
                  </a:lnTo>
                  <a:lnTo>
                    <a:pt x="160" y="861"/>
                  </a:lnTo>
                  <a:lnTo>
                    <a:pt x="140" y="851"/>
                  </a:lnTo>
                  <a:lnTo>
                    <a:pt x="121" y="846"/>
                  </a:lnTo>
                  <a:lnTo>
                    <a:pt x="113" y="843"/>
                  </a:lnTo>
                  <a:lnTo>
                    <a:pt x="104" y="841"/>
                  </a:lnTo>
                  <a:lnTo>
                    <a:pt x="96" y="841"/>
                  </a:lnTo>
                  <a:lnTo>
                    <a:pt x="87" y="841"/>
                  </a:lnTo>
                  <a:lnTo>
                    <a:pt x="73" y="839"/>
                  </a:lnTo>
                  <a:lnTo>
                    <a:pt x="61" y="835"/>
                  </a:lnTo>
                  <a:lnTo>
                    <a:pt x="50" y="830"/>
                  </a:lnTo>
                  <a:lnTo>
                    <a:pt x="39" y="825"/>
                  </a:lnTo>
                  <a:lnTo>
                    <a:pt x="30" y="819"/>
                  </a:lnTo>
                  <a:lnTo>
                    <a:pt x="23" y="812"/>
                  </a:lnTo>
                  <a:lnTo>
                    <a:pt x="16" y="804"/>
                  </a:lnTo>
                  <a:lnTo>
                    <a:pt x="11" y="795"/>
                  </a:lnTo>
                  <a:lnTo>
                    <a:pt x="7" y="788"/>
                  </a:lnTo>
                  <a:lnTo>
                    <a:pt x="4" y="780"/>
                  </a:lnTo>
                  <a:lnTo>
                    <a:pt x="2" y="772"/>
                  </a:lnTo>
                  <a:lnTo>
                    <a:pt x="1" y="764"/>
                  </a:lnTo>
                  <a:lnTo>
                    <a:pt x="2" y="757"/>
                  </a:lnTo>
                  <a:lnTo>
                    <a:pt x="3" y="751"/>
                  </a:lnTo>
                  <a:lnTo>
                    <a:pt x="6" y="745"/>
                  </a:lnTo>
                  <a:lnTo>
                    <a:pt x="10" y="74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14" name="Freeform 1421"/>
            <p:cNvSpPr/>
            <p:nvPr/>
          </p:nvSpPr>
          <p:spPr>
            <a:xfrm>
              <a:off x="5317200" y="4720320"/>
              <a:ext cx="281880" cy="103680"/>
            </a:xfrm>
            <a:custGeom>
              <a:avLst/>
              <a:gdLst>
                <a:gd name="textAreaLeft" fmla="*/ 0 w 281880"/>
                <a:gd name="textAreaRight" fmla="*/ 282240 w 281880"/>
                <a:gd name="textAreaTop" fmla="*/ 0 h 103680"/>
                <a:gd name="textAreaBottom" fmla="*/ 104040 h 103680"/>
              </a:gdLst>
              <a:ahLst/>
              <a:rect l="textAreaLeft" t="textAreaTop" r="textAreaRight" b="textAreaBottom"/>
              <a:pathLst>
                <a:path w="1568" h="689">
                  <a:moveTo>
                    <a:pt x="548" y="648"/>
                  </a:moveTo>
                  <a:lnTo>
                    <a:pt x="508" y="655"/>
                  </a:lnTo>
                  <a:lnTo>
                    <a:pt x="471" y="663"/>
                  </a:lnTo>
                  <a:lnTo>
                    <a:pt x="435" y="670"/>
                  </a:lnTo>
                  <a:lnTo>
                    <a:pt x="402" y="677"/>
                  </a:lnTo>
                  <a:lnTo>
                    <a:pt x="371" y="683"/>
                  </a:lnTo>
                  <a:lnTo>
                    <a:pt x="340" y="688"/>
                  </a:lnTo>
                  <a:lnTo>
                    <a:pt x="326" y="689"/>
                  </a:lnTo>
                  <a:lnTo>
                    <a:pt x="312" y="689"/>
                  </a:lnTo>
                  <a:lnTo>
                    <a:pt x="299" y="689"/>
                  </a:lnTo>
                  <a:lnTo>
                    <a:pt x="286" y="689"/>
                  </a:lnTo>
                  <a:lnTo>
                    <a:pt x="279" y="680"/>
                  </a:lnTo>
                  <a:lnTo>
                    <a:pt x="274" y="670"/>
                  </a:lnTo>
                  <a:lnTo>
                    <a:pt x="268" y="661"/>
                  </a:lnTo>
                  <a:lnTo>
                    <a:pt x="264" y="652"/>
                  </a:lnTo>
                  <a:lnTo>
                    <a:pt x="257" y="634"/>
                  </a:lnTo>
                  <a:lnTo>
                    <a:pt x="254" y="616"/>
                  </a:lnTo>
                  <a:lnTo>
                    <a:pt x="253" y="600"/>
                  </a:lnTo>
                  <a:lnTo>
                    <a:pt x="253" y="585"/>
                  </a:lnTo>
                  <a:lnTo>
                    <a:pt x="253" y="571"/>
                  </a:lnTo>
                  <a:lnTo>
                    <a:pt x="254" y="557"/>
                  </a:lnTo>
                  <a:lnTo>
                    <a:pt x="255" y="545"/>
                  </a:lnTo>
                  <a:lnTo>
                    <a:pt x="256" y="534"/>
                  </a:lnTo>
                  <a:lnTo>
                    <a:pt x="256" y="524"/>
                  </a:lnTo>
                  <a:lnTo>
                    <a:pt x="254" y="516"/>
                  </a:lnTo>
                  <a:lnTo>
                    <a:pt x="253" y="513"/>
                  </a:lnTo>
                  <a:lnTo>
                    <a:pt x="250" y="510"/>
                  </a:lnTo>
                  <a:lnTo>
                    <a:pt x="248" y="508"/>
                  </a:lnTo>
                  <a:lnTo>
                    <a:pt x="244" y="505"/>
                  </a:lnTo>
                  <a:lnTo>
                    <a:pt x="240" y="503"/>
                  </a:lnTo>
                  <a:lnTo>
                    <a:pt x="235" y="502"/>
                  </a:lnTo>
                  <a:lnTo>
                    <a:pt x="229" y="502"/>
                  </a:lnTo>
                  <a:lnTo>
                    <a:pt x="222" y="501"/>
                  </a:lnTo>
                  <a:lnTo>
                    <a:pt x="209" y="501"/>
                  </a:lnTo>
                  <a:lnTo>
                    <a:pt x="198" y="498"/>
                  </a:lnTo>
                  <a:lnTo>
                    <a:pt x="187" y="496"/>
                  </a:lnTo>
                  <a:lnTo>
                    <a:pt x="179" y="491"/>
                  </a:lnTo>
                  <a:lnTo>
                    <a:pt x="172" y="487"/>
                  </a:lnTo>
                  <a:lnTo>
                    <a:pt x="166" y="481"/>
                  </a:lnTo>
                  <a:lnTo>
                    <a:pt x="161" y="475"/>
                  </a:lnTo>
                  <a:lnTo>
                    <a:pt x="157" y="468"/>
                  </a:lnTo>
                  <a:lnTo>
                    <a:pt x="147" y="454"/>
                  </a:lnTo>
                  <a:lnTo>
                    <a:pt x="137" y="440"/>
                  </a:lnTo>
                  <a:lnTo>
                    <a:pt x="131" y="434"/>
                  </a:lnTo>
                  <a:lnTo>
                    <a:pt x="125" y="428"/>
                  </a:lnTo>
                  <a:lnTo>
                    <a:pt x="117" y="423"/>
                  </a:lnTo>
                  <a:lnTo>
                    <a:pt x="108" y="418"/>
                  </a:lnTo>
                  <a:lnTo>
                    <a:pt x="90" y="391"/>
                  </a:lnTo>
                  <a:lnTo>
                    <a:pt x="77" y="369"/>
                  </a:lnTo>
                  <a:lnTo>
                    <a:pt x="68" y="349"/>
                  </a:lnTo>
                  <a:lnTo>
                    <a:pt x="60" y="331"/>
                  </a:lnTo>
                  <a:lnTo>
                    <a:pt x="55" y="317"/>
                  </a:lnTo>
                  <a:lnTo>
                    <a:pt x="52" y="303"/>
                  </a:lnTo>
                  <a:lnTo>
                    <a:pt x="50" y="291"/>
                  </a:lnTo>
                  <a:lnTo>
                    <a:pt x="48" y="279"/>
                  </a:lnTo>
                  <a:lnTo>
                    <a:pt x="47" y="266"/>
                  </a:lnTo>
                  <a:lnTo>
                    <a:pt x="46" y="253"/>
                  </a:lnTo>
                  <a:lnTo>
                    <a:pt x="43" y="239"/>
                  </a:lnTo>
                  <a:lnTo>
                    <a:pt x="40" y="223"/>
                  </a:lnTo>
                  <a:lnTo>
                    <a:pt x="34" y="204"/>
                  </a:lnTo>
                  <a:lnTo>
                    <a:pt x="26" y="182"/>
                  </a:lnTo>
                  <a:lnTo>
                    <a:pt x="15" y="156"/>
                  </a:lnTo>
                  <a:lnTo>
                    <a:pt x="0" y="127"/>
                  </a:lnTo>
                  <a:lnTo>
                    <a:pt x="18" y="114"/>
                  </a:lnTo>
                  <a:lnTo>
                    <a:pt x="33" y="100"/>
                  </a:lnTo>
                  <a:lnTo>
                    <a:pt x="49" y="87"/>
                  </a:lnTo>
                  <a:lnTo>
                    <a:pt x="65" y="72"/>
                  </a:lnTo>
                  <a:lnTo>
                    <a:pt x="73" y="139"/>
                  </a:lnTo>
                  <a:lnTo>
                    <a:pt x="83" y="138"/>
                  </a:lnTo>
                  <a:lnTo>
                    <a:pt x="111" y="134"/>
                  </a:lnTo>
                  <a:lnTo>
                    <a:pt x="154" y="129"/>
                  </a:lnTo>
                  <a:lnTo>
                    <a:pt x="212" y="122"/>
                  </a:lnTo>
                  <a:lnTo>
                    <a:pt x="281" y="114"/>
                  </a:lnTo>
                  <a:lnTo>
                    <a:pt x="357" y="105"/>
                  </a:lnTo>
                  <a:lnTo>
                    <a:pt x="439" y="96"/>
                  </a:lnTo>
                  <a:lnTo>
                    <a:pt x="526" y="85"/>
                  </a:lnTo>
                  <a:lnTo>
                    <a:pt x="612" y="74"/>
                  </a:lnTo>
                  <a:lnTo>
                    <a:pt x="699" y="64"/>
                  </a:lnTo>
                  <a:lnTo>
                    <a:pt x="779" y="53"/>
                  </a:lnTo>
                  <a:lnTo>
                    <a:pt x="855" y="44"/>
                  </a:lnTo>
                  <a:lnTo>
                    <a:pt x="922" y="35"/>
                  </a:lnTo>
                  <a:lnTo>
                    <a:pt x="977" y="27"/>
                  </a:lnTo>
                  <a:lnTo>
                    <a:pt x="1018" y="20"/>
                  </a:lnTo>
                  <a:lnTo>
                    <a:pt x="1043" y="15"/>
                  </a:lnTo>
                  <a:lnTo>
                    <a:pt x="1071" y="8"/>
                  </a:lnTo>
                  <a:lnTo>
                    <a:pt x="1094" y="4"/>
                  </a:lnTo>
                  <a:lnTo>
                    <a:pt x="1111" y="3"/>
                  </a:lnTo>
                  <a:lnTo>
                    <a:pt x="1126" y="4"/>
                  </a:lnTo>
                  <a:lnTo>
                    <a:pt x="1139" y="6"/>
                  </a:lnTo>
                  <a:lnTo>
                    <a:pt x="1152" y="6"/>
                  </a:lnTo>
                  <a:lnTo>
                    <a:pt x="1166" y="4"/>
                  </a:lnTo>
                  <a:lnTo>
                    <a:pt x="1181" y="0"/>
                  </a:lnTo>
                  <a:lnTo>
                    <a:pt x="1366" y="84"/>
                  </a:lnTo>
                  <a:lnTo>
                    <a:pt x="1358" y="92"/>
                  </a:lnTo>
                  <a:lnTo>
                    <a:pt x="1352" y="99"/>
                  </a:lnTo>
                  <a:lnTo>
                    <a:pt x="1347" y="106"/>
                  </a:lnTo>
                  <a:lnTo>
                    <a:pt x="1345" y="113"/>
                  </a:lnTo>
                  <a:lnTo>
                    <a:pt x="1344" y="120"/>
                  </a:lnTo>
                  <a:lnTo>
                    <a:pt x="1345" y="127"/>
                  </a:lnTo>
                  <a:lnTo>
                    <a:pt x="1347" y="133"/>
                  </a:lnTo>
                  <a:lnTo>
                    <a:pt x="1351" y="140"/>
                  </a:lnTo>
                  <a:lnTo>
                    <a:pt x="1355" y="146"/>
                  </a:lnTo>
                  <a:lnTo>
                    <a:pt x="1361" y="152"/>
                  </a:lnTo>
                  <a:lnTo>
                    <a:pt x="1369" y="157"/>
                  </a:lnTo>
                  <a:lnTo>
                    <a:pt x="1377" y="163"/>
                  </a:lnTo>
                  <a:lnTo>
                    <a:pt x="1396" y="175"/>
                  </a:lnTo>
                  <a:lnTo>
                    <a:pt x="1417" y="187"/>
                  </a:lnTo>
                  <a:lnTo>
                    <a:pt x="1439" y="199"/>
                  </a:lnTo>
                  <a:lnTo>
                    <a:pt x="1463" y="213"/>
                  </a:lnTo>
                  <a:lnTo>
                    <a:pt x="1486" y="227"/>
                  </a:lnTo>
                  <a:lnTo>
                    <a:pt x="1508" y="243"/>
                  </a:lnTo>
                  <a:lnTo>
                    <a:pt x="1519" y="251"/>
                  </a:lnTo>
                  <a:lnTo>
                    <a:pt x="1528" y="260"/>
                  </a:lnTo>
                  <a:lnTo>
                    <a:pt x="1538" y="270"/>
                  </a:lnTo>
                  <a:lnTo>
                    <a:pt x="1546" y="279"/>
                  </a:lnTo>
                  <a:lnTo>
                    <a:pt x="1553" y="289"/>
                  </a:lnTo>
                  <a:lnTo>
                    <a:pt x="1559" y="300"/>
                  </a:lnTo>
                  <a:lnTo>
                    <a:pt x="1564" y="310"/>
                  </a:lnTo>
                  <a:lnTo>
                    <a:pt x="1568" y="323"/>
                  </a:lnTo>
                  <a:lnTo>
                    <a:pt x="1567" y="362"/>
                  </a:lnTo>
                  <a:lnTo>
                    <a:pt x="1563" y="393"/>
                  </a:lnTo>
                  <a:lnTo>
                    <a:pt x="1560" y="416"/>
                  </a:lnTo>
                  <a:lnTo>
                    <a:pt x="1559" y="424"/>
                  </a:lnTo>
                  <a:lnTo>
                    <a:pt x="1548" y="426"/>
                  </a:lnTo>
                  <a:lnTo>
                    <a:pt x="1539" y="428"/>
                  </a:lnTo>
                  <a:lnTo>
                    <a:pt x="1529" y="432"/>
                  </a:lnTo>
                  <a:lnTo>
                    <a:pt x="1521" y="435"/>
                  </a:lnTo>
                  <a:lnTo>
                    <a:pt x="1514" y="439"/>
                  </a:lnTo>
                  <a:lnTo>
                    <a:pt x="1508" y="444"/>
                  </a:lnTo>
                  <a:lnTo>
                    <a:pt x="1502" y="449"/>
                  </a:lnTo>
                  <a:lnTo>
                    <a:pt x="1499" y="455"/>
                  </a:lnTo>
                  <a:lnTo>
                    <a:pt x="1494" y="461"/>
                  </a:lnTo>
                  <a:lnTo>
                    <a:pt x="1492" y="467"/>
                  </a:lnTo>
                  <a:lnTo>
                    <a:pt x="1490" y="474"/>
                  </a:lnTo>
                  <a:lnTo>
                    <a:pt x="1488" y="481"/>
                  </a:lnTo>
                  <a:lnTo>
                    <a:pt x="1487" y="488"/>
                  </a:lnTo>
                  <a:lnTo>
                    <a:pt x="1487" y="495"/>
                  </a:lnTo>
                  <a:lnTo>
                    <a:pt x="1488" y="502"/>
                  </a:lnTo>
                  <a:lnTo>
                    <a:pt x="1490" y="510"/>
                  </a:lnTo>
                  <a:lnTo>
                    <a:pt x="548" y="64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15" name="Freeform 1422"/>
            <p:cNvSpPr/>
            <p:nvPr/>
          </p:nvSpPr>
          <p:spPr>
            <a:xfrm>
              <a:off x="5317200" y="4720320"/>
              <a:ext cx="281880" cy="103680"/>
            </a:xfrm>
            <a:custGeom>
              <a:avLst/>
              <a:gdLst>
                <a:gd name="textAreaLeft" fmla="*/ 0 w 281880"/>
                <a:gd name="textAreaRight" fmla="*/ 282240 w 281880"/>
                <a:gd name="textAreaTop" fmla="*/ 0 h 103680"/>
                <a:gd name="textAreaBottom" fmla="*/ 104040 h 103680"/>
              </a:gdLst>
              <a:ahLst/>
              <a:rect l="textAreaLeft" t="textAreaTop" r="textAreaRight" b="textAreaBottom"/>
              <a:pathLst>
                <a:path w="1568" h="689">
                  <a:moveTo>
                    <a:pt x="548" y="648"/>
                  </a:moveTo>
                  <a:lnTo>
                    <a:pt x="508" y="655"/>
                  </a:lnTo>
                  <a:lnTo>
                    <a:pt x="471" y="663"/>
                  </a:lnTo>
                  <a:lnTo>
                    <a:pt x="435" y="670"/>
                  </a:lnTo>
                  <a:lnTo>
                    <a:pt x="402" y="677"/>
                  </a:lnTo>
                  <a:lnTo>
                    <a:pt x="371" y="683"/>
                  </a:lnTo>
                  <a:lnTo>
                    <a:pt x="340" y="688"/>
                  </a:lnTo>
                  <a:lnTo>
                    <a:pt x="326" y="689"/>
                  </a:lnTo>
                  <a:lnTo>
                    <a:pt x="312" y="689"/>
                  </a:lnTo>
                  <a:lnTo>
                    <a:pt x="299" y="689"/>
                  </a:lnTo>
                  <a:lnTo>
                    <a:pt x="286" y="689"/>
                  </a:lnTo>
                  <a:lnTo>
                    <a:pt x="279" y="680"/>
                  </a:lnTo>
                  <a:lnTo>
                    <a:pt x="274" y="670"/>
                  </a:lnTo>
                  <a:lnTo>
                    <a:pt x="268" y="661"/>
                  </a:lnTo>
                  <a:lnTo>
                    <a:pt x="264" y="652"/>
                  </a:lnTo>
                  <a:lnTo>
                    <a:pt x="257" y="634"/>
                  </a:lnTo>
                  <a:lnTo>
                    <a:pt x="254" y="616"/>
                  </a:lnTo>
                  <a:lnTo>
                    <a:pt x="253" y="600"/>
                  </a:lnTo>
                  <a:lnTo>
                    <a:pt x="253" y="585"/>
                  </a:lnTo>
                  <a:lnTo>
                    <a:pt x="253" y="571"/>
                  </a:lnTo>
                  <a:lnTo>
                    <a:pt x="254" y="557"/>
                  </a:lnTo>
                  <a:lnTo>
                    <a:pt x="255" y="545"/>
                  </a:lnTo>
                  <a:lnTo>
                    <a:pt x="256" y="534"/>
                  </a:lnTo>
                  <a:lnTo>
                    <a:pt x="256" y="524"/>
                  </a:lnTo>
                  <a:lnTo>
                    <a:pt x="254" y="516"/>
                  </a:lnTo>
                  <a:lnTo>
                    <a:pt x="253" y="513"/>
                  </a:lnTo>
                  <a:lnTo>
                    <a:pt x="250" y="510"/>
                  </a:lnTo>
                  <a:lnTo>
                    <a:pt x="248" y="508"/>
                  </a:lnTo>
                  <a:lnTo>
                    <a:pt x="244" y="505"/>
                  </a:lnTo>
                  <a:lnTo>
                    <a:pt x="240" y="503"/>
                  </a:lnTo>
                  <a:lnTo>
                    <a:pt x="235" y="502"/>
                  </a:lnTo>
                  <a:lnTo>
                    <a:pt x="229" y="502"/>
                  </a:lnTo>
                  <a:lnTo>
                    <a:pt x="222" y="501"/>
                  </a:lnTo>
                  <a:lnTo>
                    <a:pt x="209" y="501"/>
                  </a:lnTo>
                  <a:lnTo>
                    <a:pt x="198" y="498"/>
                  </a:lnTo>
                  <a:lnTo>
                    <a:pt x="187" y="496"/>
                  </a:lnTo>
                  <a:lnTo>
                    <a:pt x="179" y="491"/>
                  </a:lnTo>
                  <a:lnTo>
                    <a:pt x="172" y="487"/>
                  </a:lnTo>
                  <a:lnTo>
                    <a:pt x="166" y="481"/>
                  </a:lnTo>
                  <a:lnTo>
                    <a:pt x="161" y="475"/>
                  </a:lnTo>
                  <a:lnTo>
                    <a:pt x="157" y="468"/>
                  </a:lnTo>
                  <a:lnTo>
                    <a:pt x="147" y="454"/>
                  </a:lnTo>
                  <a:lnTo>
                    <a:pt x="137" y="440"/>
                  </a:lnTo>
                  <a:lnTo>
                    <a:pt x="131" y="434"/>
                  </a:lnTo>
                  <a:lnTo>
                    <a:pt x="125" y="428"/>
                  </a:lnTo>
                  <a:lnTo>
                    <a:pt x="117" y="423"/>
                  </a:lnTo>
                  <a:lnTo>
                    <a:pt x="108" y="418"/>
                  </a:lnTo>
                  <a:lnTo>
                    <a:pt x="90" y="391"/>
                  </a:lnTo>
                  <a:lnTo>
                    <a:pt x="77" y="369"/>
                  </a:lnTo>
                  <a:lnTo>
                    <a:pt x="68" y="349"/>
                  </a:lnTo>
                  <a:lnTo>
                    <a:pt x="60" y="331"/>
                  </a:lnTo>
                  <a:lnTo>
                    <a:pt x="55" y="317"/>
                  </a:lnTo>
                  <a:lnTo>
                    <a:pt x="52" y="303"/>
                  </a:lnTo>
                  <a:lnTo>
                    <a:pt x="50" y="291"/>
                  </a:lnTo>
                  <a:lnTo>
                    <a:pt x="48" y="279"/>
                  </a:lnTo>
                  <a:lnTo>
                    <a:pt x="47" y="266"/>
                  </a:lnTo>
                  <a:lnTo>
                    <a:pt x="46" y="253"/>
                  </a:lnTo>
                  <a:lnTo>
                    <a:pt x="43" y="239"/>
                  </a:lnTo>
                  <a:lnTo>
                    <a:pt x="40" y="223"/>
                  </a:lnTo>
                  <a:lnTo>
                    <a:pt x="34" y="204"/>
                  </a:lnTo>
                  <a:lnTo>
                    <a:pt x="26" y="182"/>
                  </a:lnTo>
                  <a:lnTo>
                    <a:pt x="15" y="156"/>
                  </a:lnTo>
                  <a:lnTo>
                    <a:pt x="0" y="127"/>
                  </a:lnTo>
                  <a:lnTo>
                    <a:pt x="18" y="114"/>
                  </a:lnTo>
                  <a:lnTo>
                    <a:pt x="33" y="100"/>
                  </a:lnTo>
                  <a:lnTo>
                    <a:pt x="49" y="87"/>
                  </a:lnTo>
                  <a:lnTo>
                    <a:pt x="65" y="72"/>
                  </a:lnTo>
                  <a:lnTo>
                    <a:pt x="73" y="139"/>
                  </a:lnTo>
                  <a:lnTo>
                    <a:pt x="83" y="138"/>
                  </a:lnTo>
                  <a:lnTo>
                    <a:pt x="111" y="134"/>
                  </a:lnTo>
                  <a:lnTo>
                    <a:pt x="154" y="129"/>
                  </a:lnTo>
                  <a:lnTo>
                    <a:pt x="212" y="122"/>
                  </a:lnTo>
                  <a:lnTo>
                    <a:pt x="281" y="114"/>
                  </a:lnTo>
                  <a:lnTo>
                    <a:pt x="357" y="105"/>
                  </a:lnTo>
                  <a:lnTo>
                    <a:pt x="439" y="96"/>
                  </a:lnTo>
                  <a:lnTo>
                    <a:pt x="526" y="85"/>
                  </a:lnTo>
                  <a:lnTo>
                    <a:pt x="612" y="74"/>
                  </a:lnTo>
                  <a:lnTo>
                    <a:pt x="699" y="64"/>
                  </a:lnTo>
                  <a:lnTo>
                    <a:pt x="779" y="53"/>
                  </a:lnTo>
                  <a:lnTo>
                    <a:pt x="855" y="44"/>
                  </a:lnTo>
                  <a:lnTo>
                    <a:pt x="922" y="35"/>
                  </a:lnTo>
                  <a:lnTo>
                    <a:pt x="977" y="27"/>
                  </a:lnTo>
                  <a:lnTo>
                    <a:pt x="1018" y="20"/>
                  </a:lnTo>
                  <a:lnTo>
                    <a:pt x="1043" y="15"/>
                  </a:lnTo>
                  <a:lnTo>
                    <a:pt x="1071" y="8"/>
                  </a:lnTo>
                  <a:lnTo>
                    <a:pt x="1094" y="4"/>
                  </a:lnTo>
                  <a:lnTo>
                    <a:pt x="1111" y="3"/>
                  </a:lnTo>
                  <a:lnTo>
                    <a:pt x="1126" y="4"/>
                  </a:lnTo>
                  <a:lnTo>
                    <a:pt x="1139" y="6"/>
                  </a:lnTo>
                  <a:lnTo>
                    <a:pt x="1152" y="6"/>
                  </a:lnTo>
                  <a:lnTo>
                    <a:pt x="1166" y="4"/>
                  </a:lnTo>
                  <a:lnTo>
                    <a:pt x="1181" y="0"/>
                  </a:lnTo>
                  <a:lnTo>
                    <a:pt x="1366" y="84"/>
                  </a:lnTo>
                  <a:lnTo>
                    <a:pt x="1358" y="92"/>
                  </a:lnTo>
                  <a:lnTo>
                    <a:pt x="1352" y="99"/>
                  </a:lnTo>
                  <a:lnTo>
                    <a:pt x="1347" y="106"/>
                  </a:lnTo>
                  <a:lnTo>
                    <a:pt x="1345" y="113"/>
                  </a:lnTo>
                  <a:lnTo>
                    <a:pt x="1344" y="120"/>
                  </a:lnTo>
                  <a:lnTo>
                    <a:pt x="1345" y="127"/>
                  </a:lnTo>
                  <a:lnTo>
                    <a:pt x="1347" y="133"/>
                  </a:lnTo>
                  <a:lnTo>
                    <a:pt x="1351" y="140"/>
                  </a:lnTo>
                  <a:lnTo>
                    <a:pt x="1355" y="146"/>
                  </a:lnTo>
                  <a:lnTo>
                    <a:pt x="1361" y="152"/>
                  </a:lnTo>
                  <a:lnTo>
                    <a:pt x="1369" y="157"/>
                  </a:lnTo>
                  <a:lnTo>
                    <a:pt x="1377" y="163"/>
                  </a:lnTo>
                  <a:lnTo>
                    <a:pt x="1396" y="175"/>
                  </a:lnTo>
                  <a:lnTo>
                    <a:pt x="1417" y="187"/>
                  </a:lnTo>
                  <a:lnTo>
                    <a:pt x="1439" y="199"/>
                  </a:lnTo>
                  <a:lnTo>
                    <a:pt x="1463" y="213"/>
                  </a:lnTo>
                  <a:lnTo>
                    <a:pt x="1486" y="227"/>
                  </a:lnTo>
                  <a:lnTo>
                    <a:pt x="1508" y="243"/>
                  </a:lnTo>
                  <a:lnTo>
                    <a:pt x="1519" y="251"/>
                  </a:lnTo>
                  <a:lnTo>
                    <a:pt x="1528" y="260"/>
                  </a:lnTo>
                  <a:lnTo>
                    <a:pt x="1538" y="270"/>
                  </a:lnTo>
                  <a:lnTo>
                    <a:pt x="1546" y="279"/>
                  </a:lnTo>
                  <a:lnTo>
                    <a:pt x="1553" y="289"/>
                  </a:lnTo>
                  <a:lnTo>
                    <a:pt x="1559" y="300"/>
                  </a:lnTo>
                  <a:lnTo>
                    <a:pt x="1564" y="310"/>
                  </a:lnTo>
                  <a:lnTo>
                    <a:pt x="1568" y="323"/>
                  </a:lnTo>
                  <a:lnTo>
                    <a:pt x="1567" y="362"/>
                  </a:lnTo>
                  <a:lnTo>
                    <a:pt x="1563" y="393"/>
                  </a:lnTo>
                  <a:lnTo>
                    <a:pt x="1560" y="416"/>
                  </a:lnTo>
                  <a:lnTo>
                    <a:pt x="1559" y="424"/>
                  </a:lnTo>
                  <a:lnTo>
                    <a:pt x="1548" y="426"/>
                  </a:lnTo>
                  <a:lnTo>
                    <a:pt x="1539" y="428"/>
                  </a:lnTo>
                  <a:lnTo>
                    <a:pt x="1529" y="432"/>
                  </a:lnTo>
                  <a:lnTo>
                    <a:pt x="1521" y="435"/>
                  </a:lnTo>
                  <a:lnTo>
                    <a:pt x="1514" y="439"/>
                  </a:lnTo>
                  <a:lnTo>
                    <a:pt x="1508" y="444"/>
                  </a:lnTo>
                  <a:lnTo>
                    <a:pt x="1502" y="449"/>
                  </a:lnTo>
                  <a:lnTo>
                    <a:pt x="1499" y="455"/>
                  </a:lnTo>
                  <a:lnTo>
                    <a:pt x="1494" y="461"/>
                  </a:lnTo>
                  <a:lnTo>
                    <a:pt x="1492" y="467"/>
                  </a:lnTo>
                  <a:lnTo>
                    <a:pt x="1490" y="474"/>
                  </a:lnTo>
                  <a:lnTo>
                    <a:pt x="1488" y="481"/>
                  </a:lnTo>
                  <a:lnTo>
                    <a:pt x="1487" y="488"/>
                  </a:lnTo>
                  <a:lnTo>
                    <a:pt x="1487" y="495"/>
                  </a:lnTo>
                  <a:lnTo>
                    <a:pt x="1488" y="502"/>
                  </a:lnTo>
                  <a:lnTo>
                    <a:pt x="1490" y="510"/>
                  </a:lnTo>
                  <a:lnTo>
                    <a:pt x="548" y="648"/>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16" name="Freeform 1423"/>
            <p:cNvSpPr/>
            <p:nvPr/>
          </p:nvSpPr>
          <p:spPr>
            <a:xfrm>
              <a:off x="5517720" y="4606560"/>
              <a:ext cx="86040" cy="72360"/>
            </a:xfrm>
            <a:custGeom>
              <a:avLst/>
              <a:gdLst>
                <a:gd name="textAreaLeft" fmla="*/ 0 w 86040"/>
                <a:gd name="textAreaRight" fmla="*/ 86400 w 86040"/>
                <a:gd name="textAreaTop" fmla="*/ 0 h 72360"/>
                <a:gd name="textAreaBottom" fmla="*/ 72720 h 72360"/>
              </a:gdLst>
              <a:ahLst/>
              <a:rect l="textAreaLeft" t="textAreaTop" r="textAreaRight" b="textAreaBottom"/>
              <a:pathLst>
                <a:path w="484" h="479">
                  <a:moveTo>
                    <a:pt x="369" y="479"/>
                  </a:moveTo>
                  <a:lnTo>
                    <a:pt x="0" y="58"/>
                  </a:lnTo>
                  <a:lnTo>
                    <a:pt x="40" y="54"/>
                  </a:lnTo>
                  <a:lnTo>
                    <a:pt x="79" y="48"/>
                  </a:lnTo>
                  <a:lnTo>
                    <a:pt x="114" y="42"/>
                  </a:lnTo>
                  <a:lnTo>
                    <a:pt x="149" y="35"/>
                  </a:lnTo>
                  <a:lnTo>
                    <a:pt x="181" y="27"/>
                  </a:lnTo>
                  <a:lnTo>
                    <a:pt x="213" y="19"/>
                  </a:lnTo>
                  <a:lnTo>
                    <a:pt x="243" y="9"/>
                  </a:lnTo>
                  <a:lnTo>
                    <a:pt x="274" y="0"/>
                  </a:lnTo>
                  <a:lnTo>
                    <a:pt x="332" y="70"/>
                  </a:lnTo>
                  <a:lnTo>
                    <a:pt x="329" y="74"/>
                  </a:lnTo>
                  <a:lnTo>
                    <a:pt x="320" y="84"/>
                  </a:lnTo>
                  <a:lnTo>
                    <a:pt x="317" y="91"/>
                  </a:lnTo>
                  <a:lnTo>
                    <a:pt x="312" y="99"/>
                  </a:lnTo>
                  <a:lnTo>
                    <a:pt x="309" y="109"/>
                  </a:lnTo>
                  <a:lnTo>
                    <a:pt x="305" y="118"/>
                  </a:lnTo>
                  <a:lnTo>
                    <a:pt x="304" y="128"/>
                  </a:lnTo>
                  <a:lnTo>
                    <a:pt x="304" y="139"/>
                  </a:lnTo>
                  <a:lnTo>
                    <a:pt x="305" y="145"/>
                  </a:lnTo>
                  <a:lnTo>
                    <a:pt x="306" y="150"/>
                  </a:lnTo>
                  <a:lnTo>
                    <a:pt x="309" y="155"/>
                  </a:lnTo>
                  <a:lnTo>
                    <a:pt x="311" y="161"/>
                  </a:lnTo>
                  <a:lnTo>
                    <a:pt x="315" y="166"/>
                  </a:lnTo>
                  <a:lnTo>
                    <a:pt x="319" y="172"/>
                  </a:lnTo>
                  <a:lnTo>
                    <a:pt x="324" y="176"/>
                  </a:lnTo>
                  <a:lnTo>
                    <a:pt x="330" y="181"/>
                  </a:lnTo>
                  <a:lnTo>
                    <a:pt x="337" y="186"/>
                  </a:lnTo>
                  <a:lnTo>
                    <a:pt x="345" y="190"/>
                  </a:lnTo>
                  <a:lnTo>
                    <a:pt x="353" y="195"/>
                  </a:lnTo>
                  <a:lnTo>
                    <a:pt x="364" y="200"/>
                  </a:lnTo>
                  <a:lnTo>
                    <a:pt x="372" y="204"/>
                  </a:lnTo>
                  <a:lnTo>
                    <a:pt x="380" y="211"/>
                  </a:lnTo>
                  <a:lnTo>
                    <a:pt x="390" y="222"/>
                  </a:lnTo>
                  <a:lnTo>
                    <a:pt x="402" y="234"/>
                  </a:lnTo>
                  <a:lnTo>
                    <a:pt x="413" y="249"/>
                  </a:lnTo>
                  <a:lnTo>
                    <a:pt x="424" y="264"/>
                  </a:lnTo>
                  <a:lnTo>
                    <a:pt x="436" y="281"/>
                  </a:lnTo>
                  <a:lnTo>
                    <a:pt x="447" y="299"/>
                  </a:lnTo>
                  <a:lnTo>
                    <a:pt x="457" y="318"/>
                  </a:lnTo>
                  <a:lnTo>
                    <a:pt x="466" y="336"/>
                  </a:lnTo>
                  <a:lnTo>
                    <a:pt x="473" y="355"/>
                  </a:lnTo>
                  <a:lnTo>
                    <a:pt x="479" y="374"/>
                  </a:lnTo>
                  <a:lnTo>
                    <a:pt x="483" y="392"/>
                  </a:lnTo>
                  <a:lnTo>
                    <a:pt x="484" y="409"/>
                  </a:lnTo>
                  <a:lnTo>
                    <a:pt x="484" y="417"/>
                  </a:lnTo>
                  <a:lnTo>
                    <a:pt x="483" y="424"/>
                  </a:lnTo>
                  <a:lnTo>
                    <a:pt x="482" y="431"/>
                  </a:lnTo>
                  <a:lnTo>
                    <a:pt x="478" y="438"/>
                  </a:lnTo>
                  <a:lnTo>
                    <a:pt x="369" y="479"/>
                  </a:lnTo>
                  <a:close/>
                </a:path>
              </a:pathLst>
            </a:custGeom>
            <a:solidFill>
              <a:srgbClr val="93d5ed"/>
            </a:solidFill>
            <a:ln w="936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317" name="Freeform 1424"/>
            <p:cNvSpPr/>
            <p:nvPr/>
          </p:nvSpPr>
          <p:spPr>
            <a:xfrm>
              <a:off x="5517720" y="4606560"/>
              <a:ext cx="86040" cy="72360"/>
            </a:xfrm>
            <a:custGeom>
              <a:avLst/>
              <a:gdLst>
                <a:gd name="textAreaLeft" fmla="*/ 0 w 86040"/>
                <a:gd name="textAreaRight" fmla="*/ 86400 w 86040"/>
                <a:gd name="textAreaTop" fmla="*/ 0 h 72360"/>
                <a:gd name="textAreaBottom" fmla="*/ 72720 h 72360"/>
              </a:gdLst>
              <a:ahLst/>
              <a:rect l="textAreaLeft" t="textAreaTop" r="textAreaRight" b="textAreaBottom"/>
              <a:pathLst>
                <a:path w="484" h="479">
                  <a:moveTo>
                    <a:pt x="369" y="479"/>
                  </a:moveTo>
                  <a:lnTo>
                    <a:pt x="0" y="58"/>
                  </a:lnTo>
                  <a:lnTo>
                    <a:pt x="40" y="54"/>
                  </a:lnTo>
                  <a:lnTo>
                    <a:pt x="79" y="48"/>
                  </a:lnTo>
                  <a:lnTo>
                    <a:pt x="114" y="42"/>
                  </a:lnTo>
                  <a:lnTo>
                    <a:pt x="149" y="35"/>
                  </a:lnTo>
                  <a:lnTo>
                    <a:pt x="181" y="27"/>
                  </a:lnTo>
                  <a:lnTo>
                    <a:pt x="213" y="19"/>
                  </a:lnTo>
                  <a:lnTo>
                    <a:pt x="243" y="9"/>
                  </a:lnTo>
                  <a:lnTo>
                    <a:pt x="274" y="0"/>
                  </a:lnTo>
                  <a:lnTo>
                    <a:pt x="332" y="70"/>
                  </a:lnTo>
                  <a:lnTo>
                    <a:pt x="329" y="74"/>
                  </a:lnTo>
                  <a:lnTo>
                    <a:pt x="320" y="84"/>
                  </a:lnTo>
                  <a:lnTo>
                    <a:pt x="317" y="91"/>
                  </a:lnTo>
                  <a:lnTo>
                    <a:pt x="312" y="99"/>
                  </a:lnTo>
                  <a:lnTo>
                    <a:pt x="309" y="109"/>
                  </a:lnTo>
                  <a:lnTo>
                    <a:pt x="305" y="118"/>
                  </a:lnTo>
                  <a:lnTo>
                    <a:pt x="304" y="128"/>
                  </a:lnTo>
                  <a:lnTo>
                    <a:pt x="304" y="139"/>
                  </a:lnTo>
                  <a:lnTo>
                    <a:pt x="305" y="145"/>
                  </a:lnTo>
                  <a:lnTo>
                    <a:pt x="306" y="150"/>
                  </a:lnTo>
                  <a:lnTo>
                    <a:pt x="309" y="155"/>
                  </a:lnTo>
                  <a:lnTo>
                    <a:pt x="311" y="161"/>
                  </a:lnTo>
                  <a:lnTo>
                    <a:pt x="315" y="166"/>
                  </a:lnTo>
                  <a:lnTo>
                    <a:pt x="319" y="172"/>
                  </a:lnTo>
                  <a:lnTo>
                    <a:pt x="324" y="176"/>
                  </a:lnTo>
                  <a:lnTo>
                    <a:pt x="330" y="181"/>
                  </a:lnTo>
                  <a:lnTo>
                    <a:pt x="337" y="186"/>
                  </a:lnTo>
                  <a:lnTo>
                    <a:pt x="345" y="190"/>
                  </a:lnTo>
                  <a:lnTo>
                    <a:pt x="353" y="195"/>
                  </a:lnTo>
                  <a:lnTo>
                    <a:pt x="364" y="200"/>
                  </a:lnTo>
                  <a:lnTo>
                    <a:pt x="372" y="204"/>
                  </a:lnTo>
                  <a:lnTo>
                    <a:pt x="380" y="211"/>
                  </a:lnTo>
                  <a:lnTo>
                    <a:pt x="390" y="222"/>
                  </a:lnTo>
                  <a:lnTo>
                    <a:pt x="402" y="234"/>
                  </a:lnTo>
                  <a:lnTo>
                    <a:pt x="413" y="249"/>
                  </a:lnTo>
                  <a:lnTo>
                    <a:pt x="424" y="264"/>
                  </a:lnTo>
                  <a:lnTo>
                    <a:pt x="436" y="281"/>
                  </a:lnTo>
                  <a:lnTo>
                    <a:pt x="447" y="299"/>
                  </a:lnTo>
                  <a:lnTo>
                    <a:pt x="457" y="318"/>
                  </a:lnTo>
                  <a:lnTo>
                    <a:pt x="466" y="336"/>
                  </a:lnTo>
                  <a:lnTo>
                    <a:pt x="473" y="355"/>
                  </a:lnTo>
                  <a:lnTo>
                    <a:pt x="479" y="374"/>
                  </a:lnTo>
                  <a:lnTo>
                    <a:pt x="483" y="392"/>
                  </a:lnTo>
                  <a:lnTo>
                    <a:pt x="484" y="409"/>
                  </a:lnTo>
                  <a:lnTo>
                    <a:pt x="484" y="417"/>
                  </a:lnTo>
                  <a:lnTo>
                    <a:pt x="483" y="424"/>
                  </a:lnTo>
                  <a:lnTo>
                    <a:pt x="482" y="431"/>
                  </a:lnTo>
                  <a:lnTo>
                    <a:pt x="478" y="438"/>
                  </a:lnTo>
                  <a:lnTo>
                    <a:pt x="369" y="479"/>
                  </a:lnTo>
                </a:path>
              </a:pathLst>
            </a:custGeom>
            <a:solidFill>
              <a:srgbClr val="93d5ed"/>
            </a:solidFill>
            <a:ln w="468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318" name="Freeform 1425"/>
            <p:cNvSpPr/>
            <p:nvPr/>
          </p:nvSpPr>
          <p:spPr>
            <a:xfrm>
              <a:off x="5566320" y="4596120"/>
              <a:ext cx="97920" cy="76320"/>
            </a:xfrm>
            <a:custGeom>
              <a:avLst/>
              <a:gdLst>
                <a:gd name="textAreaLeft" fmla="*/ 0 w 97920"/>
                <a:gd name="textAreaRight" fmla="*/ 98280 w 97920"/>
                <a:gd name="textAreaTop" fmla="*/ 0 h 76320"/>
                <a:gd name="textAreaBottom" fmla="*/ 76680 h 76320"/>
              </a:gdLst>
              <a:ahLst/>
              <a:rect l="textAreaLeft" t="textAreaTop" r="textAreaRight" b="textAreaBottom"/>
              <a:pathLst>
                <a:path w="544" h="509">
                  <a:moveTo>
                    <a:pt x="204" y="509"/>
                  </a:moveTo>
                  <a:lnTo>
                    <a:pt x="208" y="502"/>
                  </a:lnTo>
                  <a:lnTo>
                    <a:pt x="209" y="495"/>
                  </a:lnTo>
                  <a:lnTo>
                    <a:pt x="210" y="488"/>
                  </a:lnTo>
                  <a:lnTo>
                    <a:pt x="210" y="480"/>
                  </a:lnTo>
                  <a:lnTo>
                    <a:pt x="209" y="463"/>
                  </a:lnTo>
                  <a:lnTo>
                    <a:pt x="205" y="445"/>
                  </a:lnTo>
                  <a:lnTo>
                    <a:pt x="199" y="426"/>
                  </a:lnTo>
                  <a:lnTo>
                    <a:pt x="192" y="407"/>
                  </a:lnTo>
                  <a:lnTo>
                    <a:pt x="183" y="389"/>
                  </a:lnTo>
                  <a:lnTo>
                    <a:pt x="173" y="370"/>
                  </a:lnTo>
                  <a:lnTo>
                    <a:pt x="162" y="352"/>
                  </a:lnTo>
                  <a:lnTo>
                    <a:pt x="150" y="335"/>
                  </a:lnTo>
                  <a:lnTo>
                    <a:pt x="139" y="320"/>
                  </a:lnTo>
                  <a:lnTo>
                    <a:pt x="128" y="305"/>
                  </a:lnTo>
                  <a:lnTo>
                    <a:pt x="116" y="293"/>
                  </a:lnTo>
                  <a:lnTo>
                    <a:pt x="106" y="282"/>
                  </a:lnTo>
                  <a:lnTo>
                    <a:pt x="98" y="275"/>
                  </a:lnTo>
                  <a:lnTo>
                    <a:pt x="90" y="271"/>
                  </a:lnTo>
                  <a:lnTo>
                    <a:pt x="79" y="266"/>
                  </a:lnTo>
                  <a:lnTo>
                    <a:pt x="71" y="261"/>
                  </a:lnTo>
                  <a:lnTo>
                    <a:pt x="63" y="257"/>
                  </a:lnTo>
                  <a:lnTo>
                    <a:pt x="56" y="252"/>
                  </a:lnTo>
                  <a:lnTo>
                    <a:pt x="50" y="247"/>
                  </a:lnTo>
                  <a:lnTo>
                    <a:pt x="45" y="243"/>
                  </a:lnTo>
                  <a:lnTo>
                    <a:pt x="41" y="237"/>
                  </a:lnTo>
                  <a:lnTo>
                    <a:pt x="37" y="232"/>
                  </a:lnTo>
                  <a:lnTo>
                    <a:pt x="35" y="226"/>
                  </a:lnTo>
                  <a:lnTo>
                    <a:pt x="32" y="221"/>
                  </a:lnTo>
                  <a:lnTo>
                    <a:pt x="31" y="216"/>
                  </a:lnTo>
                  <a:lnTo>
                    <a:pt x="30" y="210"/>
                  </a:lnTo>
                  <a:lnTo>
                    <a:pt x="30" y="199"/>
                  </a:lnTo>
                  <a:lnTo>
                    <a:pt x="31" y="189"/>
                  </a:lnTo>
                  <a:lnTo>
                    <a:pt x="35" y="180"/>
                  </a:lnTo>
                  <a:lnTo>
                    <a:pt x="38" y="170"/>
                  </a:lnTo>
                  <a:lnTo>
                    <a:pt x="43" y="162"/>
                  </a:lnTo>
                  <a:lnTo>
                    <a:pt x="46" y="155"/>
                  </a:lnTo>
                  <a:lnTo>
                    <a:pt x="55" y="145"/>
                  </a:lnTo>
                  <a:lnTo>
                    <a:pt x="58" y="141"/>
                  </a:lnTo>
                  <a:lnTo>
                    <a:pt x="0" y="71"/>
                  </a:lnTo>
                  <a:lnTo>
                    <a:pt x="4" y="69"/>
                  </a:lnTo>
                  <a:lnTo>
                    <a:pt x="17" y="59"/>
                  </a:lnTo>
                  <a:lnTo>
                    <a:pt x="25" y="50"/>
                  </a:lnTo>
                  <a:lnTo>
                    <a:pt x="36" y="37"/>
                  </a:lnTo>
                  <a:lnTo>
                    <a:pt x="46" y="21"/>
                  </a:lnTo>
                  <a:lnTo>
                    <a:pt x="58" y="0"/>
                  </a:lnTo>
                  <a:lnTo>
                    <a:pt x="544" y="351"/>
                  </a:lnTo>
                  <a:lnTo>
                    <a:pt x="204" y="509"/>
                  </a:lnTo>
                  <a:close/>
                </a:path>
              </a:pathLst>
            </a:custGeom>
            <a:solidFill>
              <a:srgbClr val="93d5ed"/>
            </a:solidFill>
            <a:ln w="9360">
              <a:solidFill>
                <a:srgbClr val="ccecff"/>
              </a:solidFill>
              <a:round/>
            </a:ln>
          </p:spPr>
          <p:style>
            <a:lnRef idx="0"/>
            <a:fillRef idx="0"/>
            <a:effectRef idx="0"/>
            <a:fontRef idx="minor"/>
          </p:style>
          <p:txBody>
            <a:bodyPr lIns="90000" rIns="90000" tIns="29880" bIns="29880" anchor="t">
              <a:noAutofit/>
            </a:bodyPr>
            <a:p>
              <a:endParaRPr b="1" lang="en-US" sz="2400" spc="-1" strike="noStrike">
                <a:solidFill>
                  <a:srgbClr val="ffffff"/>
                </a:solidFill>
                <a:latin typeface="Times New Roman"/>
              </a:endParaRPr>
            </a:p>
          </p:txBody>
        </p:sp>
        <p:sp>
          <p:nvSpPr>
            <p:cNvPr id="319" name="Freeform 1426"/>
            <p:cNvSpPr/>
            <p:nvPr/>
          </p:nvSpPr>
          <p:spPr>
            <a:xfrm>
              <a:off x="5566320" y="4596120"/>
              <a:ext cx="97920" cy="76320"/>
            </a:xfrm>
            <a:custGeom>
              <a:avLst/>
              <a:gdLst>
                <a:gd name="textAreaLeft" fmla="*/ 0 w 97920"/>
                <a:gd name="textAreaRight" fmla="*/ 98280 w 97920"/>
                <a:gd name="textAreaTop" fmla="*/ 0 h 76320"/>
                <a:gd name="textAreaBottom" fmla="*/ 76680 h 76320"/>
              </a:gdLst>
              <a:ahLst/>
              <a:rect l="textAreaLeft" t="textAreaTop" r="textAreaRight" b="textAreaBottom"/>
              <a:pathLst>
                <a:path w="544" h="509">
                  <a:moveTo>
                    <a:pt x="204" y="509"/>
                  </a:moveTo>
                  <a:lnTo>
                    <a:pt x="208" y="502"/>
                  </a:lnTo>
                  <a:lnTo>
                    <a:pt x="209" y="495"/>
                  </a:lnTo>
                  <a:lnTo>
                    <a:pt x="210" y="488"/>
                  </a:lnTo>
                  <a:lnTo>
                    <a:pt x="210" y="480"/>
                  </a:lnTo>
                  <a:lnTo>
                    <a:pt x="209" y="463"/>
                  </a:lnTo>
                  <a:lnTo>
                    <a:pt x="205" y="445"/>
                  </a:lnTo>
                  <a:lnTo>
                    <a:pt x="199" y="426"/>
                  </a:lnTo>
                  <a:lnTo>
                    <a:pt x="192" y="407"/>
                  </a:lnTo>
                  <a:lnTo>
                    <a:pt x="183" y="389"/>
                  </a:lnTo>
                  <a:lnTo>
                    <a:pt x="173" y="370"/>
                  </a:lnTo>
                  <a:lnTo>
                    <a:pt x="162" y="352"/>
                  </a:lnTo>
                  <a:lnTo>
                    <a:pt x="150" y="335"/>
                  </a:lnTo>
                  <a:lnTo>
                    <a:pt x="139" y="320"/>
                  </a:lnTo>
                  <a:lnTo>
                    <a:pt x="128" y="305"/>
                  </a:lnTo>
                  <a:lnTo>
                    <a:pt x="116" y="293"/>
                  </a:lnTo>
                  <a:lnTo>
                    <a:pt x="106" y="282"/>
                  </a:lnTo>
                  <a:lnTo>
                    <a:pt x="98" y="275"/>
                  </a:lnTo>
                  <a:lnTo>
                    <a:pt x="90" y="271"/>
                  </a:lnTo>
                  <a:lnTo>
                    <a:pt x="79" y="266"/>
                  </a:lnTo>
                  <a:lnTo>
                    <a:pt x="71" y="261"/>
                  </a:lnTo>
                  <a:lnTo>
                    <a:pt x="63" y="257"/>
                  </a:lnTo>
                  <a:lnTo>
                    <a:pt x="56" y="252"/>
                  </a:lnTo>
                  <a:lnTo>
                    <a:pt x="50" y="247"/>
                  </a:lnTo>
                  <a:lnTo>
                    <a:pt x="45" y="243"/>
                  </a:lnTo>
                  <a:lnTo>
                    <a:pt x="41" y="237"/>
                  </a:lnTo>
                  <a:lnTo>
                    <a:pt x="37" y="232"/>
                  </a:lnTo>
                  <a:lnTo>
                    <a:pt x="35" y="226"/>
                  </a:lnTo>
                  <a:lnTo>
                    <a:pt x="32" y="221"/>
                  </a:lnTo>
                  <a:lnTo>
                    <a:pt x="31" y="216"/>
                  </a:lnTo>
                  <a:lnTo>
                    <a:pt x="30" y="210"/>
                  </a:lnTo>
                  <a:lnTo>
                    <a:pt x="30" y="199"/>
                  </a:lnTo>
                  <a:lnTo>
                    <a:pt x="31" y="189"/>
                  </a:lnTo>
                  <a:lnTo>
                    <a:pt x="35" y="180"/>
                  </a:lnTo>
                  <a:lnTo>
                    <a:pt x="38" y="170"/>
                  </a:lnTo>
                  <a:lnTo>
                    <a:pt x="43" y="162"/>
                  </a:lnTo>
                  <a:lnTo>
                    <a:pt x="46" y="155"/>
                  </a:lnTo>
                  <a:lnTo>
                    <a:pt x="55" y="145"/>
                  </a:lnTo>
                  <a:lnTo>
                    <a:pt x="58" y="141"/>
                  </a:lnTo>
                  <a:lnTo>
                    <a:pt x="0" y="71"/>
                  </a:lnTo>
                  <a:lnTo>
                    <a:pt x="4" y="69"/>
                  </a:lnTo>
                  <a:lnTo>
                    <a:pt x="17" y="59"/>
                  </a:lnTo>
                  <a:lnTo>
                    <a:pt x="25" y="50"/>
                  </a:lnTo>
                  <a:lnTo>
                    <a:pt x="36" y="37"/>
                  </a:lnTo>
                  <a:lnTo>
                    <a:pt x="46" y="21"/>
                  </a:lnTo>
                  <a:lnTo>
                    <a:pt x="58" y="0"/>
                  </a:lnTo>
                  <a:lnTo>
                    <a:pt x="544" y="351"/>
                  </a:lnTo>
                  <a:lnTo>
                    <a:pt x="204" y="509"/>
                  </a:lnTo>
                </a:path>
              </a:pathLst>
            </a:custGeom>
            <a:solidFill>
              <a:srgbClr val="93d5ed"/>
            </a:solidFill>
            <a:ln w="4680">
              <a:solidFill>
                <a:srgbClr val="ccecff"/>
              </a:solidFill>
              <a:round/>
            </a:ln>
          </p:spPr>
          <p:style>
            <a:lnRef idx="0"/>
            <a:fillRef idx="0"/>
            <a:effectRef idx="0"/>
            <a:fontRef idx="minor"/>
          </p:style>
          <p:txBody>
            <a:bodyPr lIns="90000" rIns="90000" tIns="29880" bIns="29880" anchor="t">
              <a:noAutofit/>
            </a:bodyPr>
            <a:p>
              <a:endParaRPr b="1" lang="en-US" sz="2400" spc="-1" strike="noStrike">
                <a:solidFill>
                  <a:srgbClr val="ffffff"/>
                </a:solidFill>
                <a:latin typeface="Times New Roman"/>
              </a:endParaRPr>
            </a:p>
          </p:txBody>
        </p:sp>
        <p:sp>
          <p:nvSpPr>
            <p:cNvPr id="320" name="Freeform 1427"/>
            <p:cNvSpPr/>
            <p:nvPr/>
          </p:nvSpPr>
          <p:spPr>
            <a:xfrm>
              <a:off x="5558040" y="4525200"/>
              <a:ext cx="182520" cy="123840"/>
            </a:xfrm>
            <a:custGeom>
              <a:avLst/>
              <a:gdLst>
                <a:gd name="textAreaLeft" fmla="*/ 0 w 182520"/>
                <a:gd name="textAreaRight" fmla="*/ 182880 w 182520"/>
                <a:gd name="textAreaTop" fmla="*/ 0 h 123840"/>
                <a:gd name="textAreaBottom" fmla="*/ 124200 h 123840"/>
              </a:gdLst>
              <a:ahLst/>
              <a:rect l="textAreaLeft" t="textAreaTop" r="textAreaRight" b="textAreaBottom"/>
              <a:pathLst>
                <a:path w="1016" h="821">
                  <a:moveTo>
                    <a:pt x="593" y="821"/>
                  </a:moveTo>
                  <a:lnTo>
                    <a:pt x="107" y="470"/>
                  </a:lnTo>
                  <a:lnTo>
                    <a:pt x="112" y="458"/>
                  </a:lnTo>
                  <a:lnTo>
                    <a:pt x="114" y="449"/>
                  </a:lnTo>
                  <a:lnTo>
                    <a:pt x="115" y="438"/>
                  </a:lnTo>
                  <a:lnTo>
                    <a:pt x="114" y="430"/>
                  </a:lnTo>
                  <a:lnTo>
                    <a:pt x="112" y="421"/>
                  </a:lnTo>
                  <a:lnTo>
                    <a:pt x="108" y="413"/>
                  </a:lnTo>
                  <a:lnTo>
                    <a:pt x="104" y="404"/>
                  </a:lnTo>
                  <a:lnTo>
                    <a:pt x="98" y="395"/>
                  </a:lnTo>
                  <a:lnTo>
                    <a:pt x="85" y="377"/>
                  </a:lnTo>
                  <a:lnTo>
                    <a:pt x="72" y="358"/>
                  </a:lnTo>
                  <a:lnTo>
                    <a:pt x="66" y="347"/>
                  </a:lnTo>
                  <a:lnTo>
                    <a:pt x="60" y="335"/>
                  </a:lnTo>
                  <a:lnTo>
                    <a:pt x="56" y="323"/>
                  </a:lnTo>
                  <a:lnTo>
                    <a:pt x="52" y="309"/>
                  </a:lnTo>
                  <a:lnTo>
                    <a:pt x="50" y="295"/>
                  </a:lnTo>
                  <a:lnTo>
                    <a:pt x="49" y="283"/>
                  </a:lnTo>
                  <a:lnTo>
                    <a:pt x="49" y="272"/>
                  </a:lnTo>
                  <a:lnTo>
                    <a:pt x="50" y="264"/>
                  </a:lnTo>
                  <a:lnTo>
                    <a:pt x="51" y="256"/>
                  </a:lnTo>
                  <a:lnTo>
                    <a:pt x="53" y="249"/>
                  </a:lnTo>
                  <a:lnTo>
                    <a:pt x="56" y="243"/>
                  </a:lnTo>
                  <a:lnTo>
                    <a:pt x="58" y="237"/>
                  </a:lnTo>
                  <a:lnTo>
                    <a:pt x="64" y="227"/>
                  </a:lnTo>
                  <a:lnTo>
                    <a:pt x="70" y="214"/>
                  </a:lnTo>
                  <a:lnTo>
                    <a:pt x="72" y="206"/>
                  </a:lnTo>
                  <a:lnTo>
                    <a:pt x="73" y="198"/>
                  </a:lnTo>
                  <a:lnTo>
                    <a:pt x="74" y="187"/>
                  </a:lnTo>
                  <a:lnTo>
                    <a:pt x="76" y="175"/>
                  </a:lnTo>
                  <a:lnTo>
                    <a:pt x="74" y="171"/>
                  </a:lnTo>
                  <a:lnTo>
                    <a:pt x="72" y="165"/>
                  </a:lnTo>
                  <a:lnTo>
                    <a:pt x="70" y="158"/>
                  </a:lnTo>
                  <a:lnTo>
                    <a:pt x="65" y="152"/>
                  </a:lnTo>
                  <a:lnTo>
                    <a:pt x="56" y="137"/>
                  </a:lnTo>
                  <a:lnTo>
                    <a:pt x="43" y="120"/>
                  </a:lnTo>
                  <a:lnTo>
                    <a:pt x="30" y="102"/>
                  </a:lnTo>
                  <a:lnTo>
                    <a:pt x="18" y="81"/>
                  </a:lnTo>
                  <a:lnTo>
                    <a:pt x="12" y="69"/>
                  </a:lnTo>
                  <a:lnTo>
                    <a:pt x="8" y="56"/>
                  </a:lnTo>
                  <a:lnTo>
                    <a:pt x="3" y="43"/>
                  </a:lnTo>
                  <a:lnTo>
                    <a:pt x="0" y="28"/>
                  </a:lnTo>
                  <a:lnTo>
                    <a:pt x="42" y="34"/>
                  </a:lnTo>
                  <a:lnTo>
                    <a:pt x="78" y="38"/>
                  </a:lnTo>
                  <a:lnTo>
                    <a:pt x="111" y="40"/>
                  </a:lnTo>
                  <a:lnTo>
                    <a:pt x="141" y="42"/>
                  </a:lnTo>
                  <a:lnTo>
                    <a:pt x="168" y="42"/>
                  </a:lnTo>
                  <a:lnTo>
                    <a:pt x="192" y="41"/>
                  </a:lnTo>
                  <a:lnTo>
                    <a:pt x="215" y="40"/>
                  </a:lnTo>
                  <a:lnTo>
                    <a:pt x="234" y="38"/>
                  </a:lnTo>
                  <a:lnTo>
                    <a:pt x="253" y="34"/>
                  </a:lnTo>
                  <a:lnTo>
                    <a:pt x="271" y="31"/>
                  </a:lnTo>
                  <a:lnTo>
                    <a:pt x="288" y="26"/>
                  </a:lnTo>
                  <a:lnTo>
                    <a:pt x="304" y="21"/>
                  </a:lnTo>
                  <a:lnTo>
                    <a:pt x="340" y="11"/>
                  </a:lnTo>
                  <a:lnTo>
                    <a:pt x="377" y="0"/>
                  </a:lnTo>
                  <a:lnTo>
                    <a:pt x="386" y="8"/>
                  </a:lnTo>
                  <a:lnTo>
                    <a:pt x="410" y="33"/>
                  </a:lnTo>
                  <a:lnTo>
                    <a:pt x="446" y="67"/>
                  </a:lnTo>
                  <a:lnTo>
                    <a:pt x="488" y="109"/>
                  </a:lnTo>
                  <a:lnTo>
                    <a:pt x="535" y="152"/>
                  </a:lnTo>
                  <a:lnTo>
                    <a:pt x="580" y="195"/>
                  </a:lnTo>
                  <a:lnTo>
                    <a:pt x="622" y="234"/>
                  </a:lnTo>
                  <a:lnTo>
                    <a:pt x="657" y="262"/>
                  </a:lnTo>
                  <a:lnTo>
                    <a:pt x="677" y="272"/>
                  </a:lnTo>
                  <a:lnTo>
                    <a:pt x="697" y="281"/>
                  </a:lnTo>
                  <a:lnTo>
                    <a:pt x="717" y="288"/>
                  </a:lnTo>
                  <a:lnTo>
                    <a:pt x="737" y="293"/>
                  </a:lnTo>
                  <a:lnTo>
                    <a:pt x="757" y="297"/>
                  </a:lnTo>
                  <a:lnTo>
                    <a:pt x="776" y="300"/>
                  </a:lnTo>
                  <a:lnTo>
                    <a:pt x="796" y="303"/>
                  </a:lnTo>
                  <a:lnTo>
                    <a:pt x="816" y="304"/>
                  </a:lnTo>
                  <a:lnTo>
                    <a:pt x="855" y="306"/>
                  </a:lnTo>
                  <a:lnTo>
                    <a:pt x="893" y="310"/>
                  </a:lnTo>
                  <a:lnTo>
                    <a:pt x="912" y="312"/>
                  </a:lnTo>
                  <a:lnTo>
                    <a:pt x="929" y="314"/>
                  </a:lnTo>
                  <a:lnTo>
                    <a:pt x="948" y="318"/>
                  </a:lnTo>
                  <a:lnTo>
                    <a:pt x="964" y="323"/>
                  </a:lnTo>
                  <a:lnTo>
                    <a:pt x="981" y="328"/>
                  </a:lnTo>
                  <a:lnTo>
                    <a:pt x="994" y="334"/>
                  </a:lnTo>
                  <a:lnTo>
                    <a:pt x="1004" y="340"/>
                  </a:lnTo>
                  <a:lnTo>
                    <a:pt x="1011" y="347"/>
                  </a:lnTo>
                  <a:lnTo>
                    <a:pt x="1014" y="349"/>
                  </a:lnTo>
                  <a:lnTo>
                    <a:pt x="1016" y="353"/>
                  </a:lnTo>
                  <a:lnTo>
                    <a:pt x="1016" y="355"/>
                  </a:lnTo>
                  <a:lnTo>
                    <a:pt x="1016" y="359"/>
                  </a:lnTo>
                  <a:lnTo>
                    <a:pt x="1016" y="362"/>
                  </a:lnTo>
                  <a:lnTo>
                    <a:pt x="1014" y="366"/>
                  </a:lnTo>
                  <a:lnTo>
                    <a:pt x="1011" y="368"/>
                  </a:lnTo>
                  <a:lnTo>
                    <a:pt x="1008" y="372"/>
                  </a:lnTo>
                  <a:lnTo>
                    <a:pt x="997" y="379"/>
                  </a:lnTo>
                  <a:lnTo>
                    <a:pt x="983" y="386"/>
                  </a:lnTo>
                  <a:lnTo>
                    <a:pt x="964" y="393"/>
                  </a:lnTo>
                  <a:lnTo>
                    <a:pt x="942" y="400"/>
                  </a:lnTo>
                  <a:lnTo>
                    <a:pt x="917" y="408"/>
                  </a:lnTo>
                  <a:lnTo>
                    <a:pt x="885" y="415"/>
                  </a:lnTo>
                  <a:lnTo>
                    <a:pt x="850" y="423"/>
                  </a:lnTo>
                  <a:lnTo>
                    <a:pt x="809" y="432"/>
                  </a:lnTo>
                  <a:lnTo>
                    <a:pt x="783" y="438"/>
                  </a:lnTo>
                  <a:lnTo>
                    <a:pt x="760" y="446"/>
                  </a:lnTo>
                  <a:lnTo>
                    <a:pt x="751" y="451"/>
                  </a:lnTo>
                  <a:lnTo>
                    <a:pt x="741" y="456"/>
                  </a:lnTo>
                  <a:lnTo>
                    <a:pt x="733" y="460"/>
                  </a:lnTo>
                  <a:lnTo>
                    <a:pt x="726" y="465"/>
                  </a:lnTo>
                  <a:lnTo>
                    <a:pt x="720" y="471"/>
                  </a:lnTo>
                  <a:lnTo>
                    <a:pt x="714" y="476"/>
                  </a:lnTo>
                  <a:lnTo>
                    <a:pt x="709" y="481"/>
                  </a:lnTo>
                  <a:lnTo>
                    <a:pt x="705" y="487"/>
                  </a:lnTo>
                  <a:lnTo>
                    <a:pt x="698" y="499"/>
                  </a:lnTo>
                  <a:lnTo>
                    <a:pt x="695" y="511"/>
                  </a:lnTo>
                  <a:lnTo>
                    <a:pt x="692" y="522"/>
                  </a:lnTo>
                  <a:lnTo>
                    <a:pt x="692" y="534"/>
                  </a:lnTo>
                  <a:lnTo>
                    <a:pt x="693" y="546"/>
                  </a:lnTo>
                  <a:lnTo>
                    <a:pt x="697" y="556"/>
                  </a:lnTo>
                  <a:lnTo>
                    <a:pt x="700" y="567"/>
                  </a:lnTo>
                  <a:lnTo>
                    <a:pt x="706" y="577"/>
                  </a:lnTo>
                  <a:lnTo>
                    <a:pt x="711" y="585"/>
                  </a:lnTo>
                  <a:lnTo>
                    <a:pt x="717" y="594"/>
                  </a:lnTo>
                  <a:lnTo>
                    <a:pt x="721" y="601"/>
                  </a:lnTo>
                  <a:lnTo>
                    <a:pt x="725" y="606"/>
                  </a:lnTo>
                  <a:lnTo>
                    <a:pt x="726" y="613"/>
                  </a:lnTo>
                  <a:lnTo>
                    <a:pt x="726" y="620"/>
                  </a:lnTo>
                  <a:lnTo>
                    <a:pt x="725" y="627"/>
                  </a:lnTo>
                  <a:lnTo>
                    <a:pt x="723" y="634"/>
                  </a:lnTo>
                  <a:lnTo>
                    <a:pt x="718" y="641"/>
                  </a:lnTo>
                  <a:lnTo>
                    <a:pt x="713" y="648"/>
                  </a:lnTo>
                  <a:lnTo>
                    <a:pt x="702" y="662"/>
                  </a:lnTo>
                  <a:lnTo>
                    <a:pt x="688" y="678"/>
                  </a:lnTo>
                  <a:lnTo>
                    <a:pt x="671" y="692"/>
                  </a:lnTo>
                  <a:lnTo>
                    <a:pt x="654" y="706"/>
                  </a:lnTo>
                  <a:lnTo>
                    <a:pt x="637" y="721"/>
                  </a:lnTo>
                  <a:lnTo>
                    <a:pt x="621" y="735"/>
                  </a:lnTo>
                  <a:lnTo>
                    <a:pt x="607" y="749"/>
                  </a:lnTo>
                  <a:lnTo>
                    <a:pt x="595" y="764"/>
                  </a:lnTo>
                  <a:lnTo>
                    <a:pt x="591" y="771"/>
                  </a:lnTo>
                  <a:lnTo>
                    <a:pt x="587" y="778"/>
                  </a:lnTo>
                  <a:lnTo>
                    <a:pt x="585" y="785"/>
                  </a:lnTo>
                  <a:lnTo>
                    <a:pt x="584" y="792"/>
                  </a:lnTo>
                  <a:lnTo>
                    <a:pt x="584" y="799"/>
                  </a:lnTo>
                  <a:lnTo>
                    <a:pt x="586" y="806"/>
                  </a:lnTo>
                  <a:lnTo>
                    <a:pt x="588" y="814"/>
                  </a:lnTo>
                  <a:lnTo>
                    <a:pt x="593" y="82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21" name="Freeform 1428"/>
            <p:cNvSpPr/>
            <p:nvPr/>
          </p:nvSpPr>
          <p:spPr>
            <a:xfrm>
              <a:off x="5558040" y="4525200"/>
              <a:ext cx="182520" cy="123840"/>
            </a:xfrm>
            <a:custGeom>
              <a:avLst/>
              <a:gdLst>
                <a:gd name="textAreaLeft" fmla="*/ 0 w 182520"/>
                <a:gd name="textAreaRight" fmla="*/ 182880 w 182520"/>
                <a:gd name="textAreaTop" fmla="*/ 0 h 123840"/>
                <a:gd name="textAreaBottom" fmla="*/ 124200 h 123840"/>
              </a:gdLst>
              <a:ahLst/>
              <a:rect l="textAreaLeft" t="textAreaTop" r="textAreaRight" b="textAreaBottom"/>
              <a:pathLst>
                <a:path w="1016" h="821">
                  <a:moveTo>
                    <a:pt x="593" y="821"/>
                  </a:moveTo>
                  <a:lnTo>
                    <a:pt x="107" y="470"/>
                  </a:lnTo>
                  <a:lnTo>
                    <a:pt x="112" y="458"/>
                  </a:lnTo>
                  <a:lnTo>
                    <a:pt x="114" y="449"/>
                  </a:lnTo>
                  <a:lnTo>
                    <a:pt x="115" y="438"/>
                  </a:lnTo>
                  <a:lnTo>
                    <a:pt x="114" y="430"/>
                  </a:lnTo>
                  <a:lnTo>
                    <a:pt x="112" y="421"/>
                  </a:lnTo>
                  <a:lnTo>
                    <a:pt x="108" y="413"/>
                  </a:lnTo>
                  <a:lnTo>
                    <a:pt x="104" y="404"/>
                  </a:lnTo>
                  <a:lnTo>
                    <a:pt x="98" y="395"/>
                  </a:lnTo>
                  <a:lnTo>
                    <a:pt x="85" y="377"/>
                  </a:lnTo>
                  <a:lnTo>
                    <a:pt x="72" y="358"/>
                  </a:lnTo>
                  <a:lnTo>
                    <a:pt x="66" y="347"/>
                  </a:lnTo>
                  <a:lnTo>
                    <a:pt x="60" y="335"/>
                  </a:lnTo>
                  <a:lnTo>
                    <a:pt x="56" y="323"/>
                  </a:lnTo>
                  <a:lnTo>
                    <a:pt x="52" y="309"/>
                  </a:lnTo>
                  <a:lnTo>
                    <a:pt x="50" y="295"/>
                  </a:lnTo>
                  <a:lnTo>
                    <a:pt x="49" y="283"/>
                  </a:lnTo>
                  <a:lnTo>
                    <a:pt x="49" y="272"/>
                  </a:lnTo>
                  <a:lnTo>
                    <a:pt x="50" y="264"/>
                  </a:lnTo>
                  <a:lnTo>
                    <a:pt x="51" y="256"/>
                  </a:lnTo>
                  <a:lnTo>
                    <a:pt x="53" y="249"/>
                  </a:lnTo>
                  <a:lnTo>
                    <a:pt x="56" y="243"/>
                  </a:lnTo>
                  <a:lnTo>
                    <a:pt x="58" y="237"/>
                  </a:lnTo>
                  <a:lnTo>
                    <a:pt x="64" y="227"/>
                  </a:lnTo>
                  <a:lnTo>
                    <a:pt x="70" y="214"/>
                  </a:lnTo>
                  <a:lnTo>
                    <a:pt x="72" y="206"/>
                  </a:lnTo>
                  <a:lnTo>
                    <a:pt x="73" y="198"/>
                  </a:lnTo>
                  <a:lnTo>
                    <a:pt x="74" y="187"/>
                  </a:lnTo>
                  <a:lnTo>
                    <a:pt x="76" y="175"/>
                  </a:lnTo>
                  <a:lnTo>
                    <a:pt x="74" y="171"/>
                  </a:lnTo>
                  <a:lnTo>
                    <a:pt x="72" y="165"/>
                  </a:lnTo>
                  <a:lnTo>
                    <a:pt x="70" y="158"/>
                  </a:lnTo>
                  <a:lnTo>
                    <a:pt x="65" y="152"/>
                  </a:lnTo>
                  <a:lnTo>
                    <a:pt x="56" y="137"/>
                  </a:lnTo>
                  <a:lnTo>
                    <a:pt x="43" y="120"/>
                  </a:lnTo>
                  <a:lnTo>
                    <a:pt x="30" y="102"/>
                  </a:lnTo>
                  <a:lnTo>
                    <a:pt x="18" y="81"/>
                  </a:lnTo>
                  <a:lnTo>
                    <a:pt x="12" y="69"/>
                  </a:lnTo>
                  <a:lnTo>
                    <a:pt x="8" y="56"/>
                  </a:lnTo>
                  <a:lnTo>
                    <a:pt x="3" y="43"/>
                  </a:lnTo>
                  <a:lnTo>
                    <a:pt x="0" y="28"/>
                  </a:lnTo>
                  <a:lnTo>
                    <a:pt x="42" y="34"/>
                  </a:lnTo>
                  <a:lnTo>
                    <a:pt x="78" y="38"/>
                  </a:lnTo>
                  <a:lnTo>
                    <a:pt x="111" y="40"/>
                  </a:lnTo>
                  <a:lnTo>
                    <a:pt x="141" y="42"/>
                  </a:lnTo>
                  <a:lnTo>
                    <a:pt x="168" y="42"/>
                  </a:lnTo>
                  <a:lnTo>
                    <a:pt x="192" y="41"/>
                  </a:lnTo>
                  <a:lnTo>
                    <a:pt x="215" y="40"/>
                  </a:lnTo>
                  <a:lnTo>
                    <a:pt x="234" y="38"/>
                  </a:lnTo>
                  <a:lnTo>
                    <a:pt x="253" y="34"/>
                  </a:lnTo>
                  <a:lnTo>
                    <a:pt x="271" y="31"/>
                  </a:lnTo>
                  <a:lnTo>
                    <a:pt x="288" y="26"/>
                  </a:lnTo>
                  <a:lnTo>
                    <a:pt x="304" y="21"/>
                  </a:lnTo>
                  <a:lnTo>
                    <a:pt x="340" y="11"/>
                  </a:lnTo>
                  <a:lnTo>
                    <a:pt x="377" y="0"/>
                  </a:lnTo>
                  <a:lnTo>
                    <a:pt x="386" y="8"/>
                  </a:lnTo>
                  <a:lnTo>
                    <a:pt x="410" y="33"/>
                  </a:lnTo>
                  <a:lnTo>
                    <a:pt x="446" y="67"/>
                  </a:lnTo>
                  <a:lnTo>
                    <a:pt x="488" y="109"/>
                  </a:lnTo>
                  <a:lnTo>
                    <a:pt x="535" y="152"/>
                  </a:lnTo>
                  <a:lnTo>
                    <a:pt x="580" y="195"/>
                  </a:lnTo>
                  <a:lnTo>
                    <a:pt x="622" y="234"/>
                  </a:lnTo>
                  <a:lnTo>
                    <a:pt x="657" y="262"/>
                  </a:lnTo>
                  <a:lnTo>
                    <a:pt x="677" y="272"/>
                  </a:lnTo>
                  <a:lnTo>
                    <a:pt x="697" y="281"/>
                  </a:lnTo>
                  <a:lnTo>
                    <a:pt x="717" y="288"/>
                  </a:lnTo>
                  <a:lnTo>
                    <a:pt x="737" y="293"/>
                  </a:lnTo>
                  <a:lnTo>
                    <a:pt x="757" y="297"/>
                  </a:lnTo>
                  <a:lnTo>
                    <a:pt x="776" y="300"/>
                  </a:lnTo>
                  <a:lnTo>
                    <a:pt x="796" y="303"/>
                  </a:lnTo>
                  <a:lnTo>
                    <a:pt x="816" y="304"/>
                  </a:lnTo>
                  <a:lnTo>
                    <a:pt x="855" y="306"/>
                  </a:lnTo>
                  <a:lnTo>
                    <a:pt x="893" y="310"/>
                  </a:lnTo>
                  <a:lnTo>
                    <a:pt x="912" y="312"/>
                  </a:lnTo>
                  <a:lnTo>
                    <a:pt x="929" y="314"/>
                  </a:lnTo>
                  <a:lnTo>
                    <a:pt x="948" y="318"/>
                  </a:lnTo>
                  <a:lnTo>
                    <a:pt x="964" y="323"/>
                  </a:lnTo>
                  <a:lnTo>
                    <a:pt x="981" y="328"/>
                  </a:lnTo>
                  <a:lnTo>
                    <a:pt x="994" y="334"/>
                  </a:lnTo>
                  <a:lnTo>
                    <a:pt x="1004" y="340"/>
                  </a:lnTo>
                  <a:lnTo>
                    <a:pt x="1011" y="347"/>
                  </a:lnTo>
                  <a:lnTo>
                    <a:pt x="1014" y="349"/>
                  </a:lnTo>
                  <a:lnTo>
                    <a:pt x="1016" y="353"/>
                  </a:lnTo>
                  <a:lnTo>
                    <a:pt x="1016" y="355"/>
                  </a:lnTo>
                  <a:lnTo>
                    <a:pt x="1016" y="359"/>
                  </a:lnTo>
                  <a:lnTo>
                    <a:pt x="1016" y="362"/>
                  </a:lnTo>
                  <a:lnTo>
                    <a:pt x="1014" y="366"/>
                  </a:lnTo>
                  <a:lnTo>
                    <a:pt x="1011" y="368"/>
                  </a:lnTo>
                  <a:lnTo>
                    <a:pt x="1008" y="372"/>
                  </a:lnTo>
                  <a:lnTo>
                    <a:pt x="997" y="379"/>
                  </a:lnTo>
                  <a:lnTo>
                    <a:pt x="983" y="386"/>
                  </a:lnTo>
                  <a:lnTo>
                    <a:pt x="964" y="393"/>
                  </a:lnTo>
                  <a:lnTo>
                    <a:pt x="942" y="400"/>
                  </a:lnTo>
                  <a:lnTo>
                    <a:pt x="917" y="408"/>
                  </a:lnTo>
                  <a:lnTo>
                    <a:pt x="885" y="415"/>
                  </a:lnTo>
                  <a:lnTo>
                    <a:pt x="850" y="423"/>
                  </a:lnTo>
                  <a:lnTo>
                    <a:pt x="809" y="432"/>
                  </a:lnTo>
                  <a:lnTo>
                    <a:pt x="783" y="438"/>
                  </a:lnTo>
                  <a:lnTo>
                    <a:pt x="760" y="446"/>
                  </a:lnTo>
                  <a:lnTo>
                    <a:pt x="751" y="451"/>
                  </a:lnTo>
                  <a:lnTo>
                    <a:pt x="741" y="456"/>
                  </a:lnTo>
                  <a:lnTo>
                    <a:pt x="733" y="460"/>
                  </a:lnTo>
                  <a:lnTo>
                    <a:pt x="726" y="465"/>
                  </a:lnTo>
                  <a:lnTo>
                    <a:pt x="720" y="471"/>
                  </a:lnTo>
                  <a:lnTo>
                    <a:pt x="714" y="476"/>
                  </a:lnTo>
                  <a:lnTo>
                    <a:pt x="709" y="481"/>
                  </a:lnTo>
                  <a:lnTo>
                    <a:pt x="705" y="487"/>
                  </a:lnTo>
                  <a:lnTo>
                    <a:pt x="698" y="499"/>
                  </a:lnTo>
                  <a:lnTo>
                    <a:pt x="695" y="511"/>
                  </a:lnTo>
                  <a:lnTo>
                    <a:pt x="692" y="522"/>
                  </a:lnTo>
                  <a:lnTo>
                    <a:pt x="692" y="534"/>
                  </a:lnTo>
                  <a:lnTo>
                    <a:pt x="693" y="546"/>
                  </a:lnTo>
                  <a:lnTo>
                    <a:pt x="697" y="556"/>
                  </a:lnTo>
                  <a:lnTo>
                    <a:pt x="700" y="567"/>
                  </a:lnTo>
                  <a:lnTo>
                    <a:pt x="706" y="577"/>
                  </a:lnTo>
                  <a:lnTo>
                    <a:pt x="711" y="585"/>
                  </a:lnTo>
                  <a:lnTo>
                    <a:pt x="717" y="594"/>
                  </a:lnTo>
                  <a:lnTo>
                    <a:pt x="721" y="601"/>
                  </a:lnTo>
                  <a:lnTo>
                    <a:pt x="725" y="606"/>
                  </a:lnTo>
                  <a:lnTo>
                    <a:pt x="726" y="613"/>
                  </a:lnTo>
                  <a:lnTo>
                    <a:pt x="726" y="620"/>
                  </a:lnTo>
                  <a:lnTo>
                    <a:pt x="725" y="627"/>
                  </a:lnTo>
                  <a:lnTo>
                    <a:pt x="723" y="634"/>
                  </a:lnTo>
                  <a:lnTo>
                    <a:pt x="718" y="641"/>
                  </a:lnTo>
                  <a:lnTo>
                    <a:pt x="713" y="648"/>
                  </a:lnTo>
                  <a:lnTo>
                    <a:pt x="702" y="662"/>
                  </a:lnTo>
                  <a:lnTo>
                    <a:pt x="688" y="678"/>
                  </a:lnTo>
                  <a:lnTo>
                    <a:pt x="671" y="692"/>
                  </a:lnTo>
                  <a:lnTo>
                    <a:pt x="654" y="706"/>
                  </a:lnTo>
                  <a:lnTo>
                    <a:pt x="637" y="721"/>
                  </a:lnTo>
                  <a:lnTo>
                    <a:pt x="621" y="735"/>
                  </a:lnTo>
                  <a:lnTo>
                    <a:pt x="607" y="749"/>
                  </a:lnTo>
                  <a:lnTo>
                    <a:pt x="595" y="764"/>
                  </a:lnTo>
                  <a:lnTo>
                    <a:pt x="591" y="771"/>
                  </a:lnTo>
                  <a:lnTo>
                    <a:pt x="587" y="778"/>
                  </a:lnTo>
                  <a:lnTo>
                    <a:pt x="585" y="785"/>
                  </a:lnTo>
                  <a:lnTo>
                    <a:pt x="584" y="792"/>
                  </a:lnTo>
                  <a:lnTo>
                    <a:pt x="584" y="799"/>
                  </a:lnTo>
                  <a:lnTo>
                    <a:pt x="586" y="806"/>
                  </a:lnTo>
                  <a:lnTo>
                    <a:pt x="588" y="814"/>
                  </a:lnTo>
                  <a:lnTo>
                    <a:pt x="593" y="821"/>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22" name="Freeform 1429"/>
            <p:cNvSpPr/>
            <p:nvPr/>
          </p:nvSpPr>
          <p:spPr>
            <a:xfrm>
              <a:off x="5411880" y="5014800"/>
              <a:ext cx="285840" cy="159480"/>
            </a:xfrm>
            <a:custGeom>
              <a:avLst/>
              <a:gdLst>
                <a:gd name="textAreaLeft" fmla="*/ 0 w 285840"/>
                <a:gd name="textAreaRight" fmla="*/ 286200 w 285840"/>
                <a:gd name="textAreaTop" fmla="*/ 0 h 159480"/>
                <a:gd name="textAreaBottom" fmla="*/ 159840 h 159480"/>
              </a:gdLst>
              <a:ahLst/>
              <a:rect l="textAreaLeft" t="textAreaTop" r="textAreaRight" b="textAreaBottom"/>
              <a:pathLst>
                <a:path w="1588" h="1055">
                  <a:moveTo>
                    <a:pt x="1576" y="239"/>
                  </a:moveTo>
                  <a:lnTo>
                    <a:pt x="1580" y="281"/>
                  </a:lnTo>
                  <a:lnTo>
                    <a:pt x="1585" y="322"/>
                  </a:lnTo>
                  <a:lnTo>
                    <a:pt x="1587" y="361"/>
                  </a:lnTo>
                  <a:lnTo>
                    <a:pt x="1588" y="397"/>
                  </a:lnTo>
                  <a:lnTo>
                    <a:pt x="1588" y="432"/>
                  </a:lnTo>
                  <a:lnTo>
                    <a:pt x="1588" y="465"/>
                  </a:lnTo>
                  <a:lnTo>
                    <a:pt x="1586" y="496"/>
                  </a:lnTo>
                  <a:lnTo>
                    <a:pt x="1583" y="527"/>
                  </a:lnTo>
                  <a:lnTo>
                    <a:pt x="1579" y="555"/>
                  </a:lnTo>
                  <a:lnTo>
                    <a:pt x="1574" y="580"/>
                  </a:lnTo>
                  <a:lnTo>
                    <a:pt x="1570" y="606"/>
                  </a:lnTo>
                  <a:lnTo>
                    <a:pt x="1563" y="629"/>
                  </a:lnTo>
                  <a:lnTo>
                    <a:pt x="1557" y="652"/>
                  </a:lnTo>
                  <a:lnTo>
                    <a:pt x="1549" y="672"/>
                  </a:lnTo>
                  <a:lnTo>
                    <a:pt x="1542" y="691"/>
                  </a:lnTo>
                  <a:lnTo>
                    <a:pt x="1533" y="709"/>
                  </a:lnTo>
                  <a:lnTo>
                    <a:pt x="1524" y="726"/>
                  </a:lnTo>
                  <a:lnTo>
                    <a:pt x="1515" y="743"/>
                  </a:lnTo>
                  <a:lnTo>
                    <a:pt x="1505" y="757"/>
                  </a:lnTo>
                  <a:lnTo>
                    <a:pt x="1496" y="771"/>
                  </a:lnTo>
                  <a:lnTo>
                    <a:pt x="1477" y="795"/>
                  </a:lnTo>
                  <a:lnTo>
                    <a:pt x="1458" y="816"/>
                  </a:lnTo>
                  <a:lnTo>
                    <a:pt x="1439" y="834"/>
                  </a:lnTo>
                  <a:lnTo>
                    <a:pt x="1421" y="849"/>
                  </a:lnTo>
                  <a:lnTo>
                    <a:pt x="1405" y="862"/>
                  </a:lnTo>
                  <a:lnTo>
                    <a:pt x="1391" y="872"/>
                  </a:lnTo>
                  <a:lnTo>
                    <a:pt x="1373" y="885"/>
                  </a:lnTo>
                  <a:lnTo>
                    <a:pt x="1357" y="898"/>
                  </a:lnTo>
                  <a:lnTo>
                    <a:pt x="1342" y="910"/>
                  </a:lnTo>
                  <a:lnTo>
                    <a:pt x="1330" y="923"/>
                  </a:lnTo>
                  <a:lnTo>
                    <a:pt x="1319" y="934"/>
                  </a:lnTo>
                  <a:lnTo>
                    <a:pt x="1309" y="946"/>
                  </a:lnTo>
                  <a:lnTo>
                    <a:pt x="1300" y="959"/>
                  </a:lnTo>
                  <a:lnTo>
                    <a:pt x="1293" y="971"/>
                  </a:lnTo>
                  <a:lnTo>
                    <a:pt x="1287" y="981"/>
                  </a:lnTo>
                  <a:lnTo>
                    <a:pt x="1282" y="993"/>
                  </a:lnTo>
                  <a:lnTo>
                    <a:pt x="1279" y="1004"/>
                  </a:lnTo>
                  <a:lnTo>
                    <a:pt x="1277" y="1015"/>
                  </a:lnTo>
                  <a:lnTo>
                    <a:pt x="1274" y="1025"/>
                  </a:lnTo>
                  <a:lnTo>
                    <a:pt x="1273" y="1035"/>
                  </a:lnTo>
                  <a:lnTo>
                    <a:pt x="1273" y="1045"/>
                  </a:lnTo>
                  <a:lnTo>
                    <a:pt x="1273" y="1055"/>
                  </a:lnTo>
                  <a:lnTo>
                    <a:pt x="1260" y="1035"/>
                  </a:lnTo>
                  <a:lnTo>
                    <a:pt x="1246" y="1016"/>
                  </a:lnTo>
                  <a:lnTo>
                    <a:pt x="1230" y="1000"/>
                  </a:lnTo>
                  <a:lnTo>
                    <a:pt x="1212" y="985"/>
                  </a:lnTo>
                  <a:lnTo>
                    <a:pt x="1194" y="971"/>
                  </a:lnTo>
                  <a:lnTo>
                    <a:pt x="1173" y="958"/>
                  </a:lnTo>
                  <a:lnTo>
                    <a:pt x="1152" y="945"/>
                  </a:lnTo>
                  <a:lnTo>
                    <a:pt x="1130" y="934"/>
                  </a:lnTo>
                  <a:lnTo>
                    <a:pt x="1107" y="925"/>
                  </a:lnTo>
                  <a:lnTo>
                    <a:pt x="1084" y="916"/>
                  </a:lnTo>
                  <a:lnTo>
                    <a:pt x="1060" y="907"/>
                  </a:lnTo>
                  <a:lnTo>
                    <a:pt x="1037" y="899"/>
                  </a:lnTo>
                  <a:lnTo>
                    <a:pt x="989" y="885"/>
                  </a:lnTo>
                  <a:lnTo>
                    <a:pt x="941" y="872"/>
                  </a:lnTo>
                  <a:lnTo>
                    <a:pt x="920" y="867"/>
                  </a:lnTo>
                  <a:lnTo>
                    <a:pt x="903" y="858"/>
                  </a:lnTo>
                  <a:lnTo>
                    <a:pt x="886" y="850"/>
                  </a:lnTo>
                  <a:lnTo>
                    <a:pt x="875" y="841"/>
                  </a:lnTo>
                  <a:lnTo>
                    <a:pt x="863" y="830"/>
                  </a:lnTo>
                  <a:lnTo>
                    <a:pt x="855" y="820"/>
                  </a:lnTo>
                  <a:lnTo>
                    <a:pt x="848" y="807"/>
                  </a:lnTo>
                  <a:lnTo>
                    <a:pt x="841" y="794"/>
                  </a:lnTo>
                  <a:lnTo>
                    <a:pt x="830" y="767"/>
                  </a:lnTo>
                  <a:lnTo>
                    <a:pt x="820" y="737"/>
                  </a:lnTo>
                  <a:lnTo>
                    <a:pt x="814" y="722"/>
                  </a:lnTo>
                  <a:lnTo>
                    <a:pt x="806" y="705"/>
                  </a:lnTo>
                  <a:lnTo>
                    <a:pt x="798" y="688"/>
                  </a:lnTo>
                  <a:lnTo>
                    <a:pt x="786" y="672"/>
                  </a:lnTo>
                  <a:lnTo>
                    <a:pt x="753" y="659"/>
                  </a:lnTo>
                  <a:lnTo>
                    <a:pt x="722" y="646"/>
                  </a:lnTo>
                  <a:lnTo>
                    <a:pt x="692" y="632"/>
                  </a:lnTo>
                  <a:lnTo>
                    <a:pt x="666" y="617"/>
                  </a:lnTo>
                  <a:lnTo>
                    <a:pt x="640" y="601"/>
                  </a:lnTo>
                  <a:lnTo>
                    <a:pt x="618" y="586"/>
                  </a:lnTo>
                  <a:lnTo>
                    <a:pt x="597" y="571"/>
                  </a:lnTo>
                  <a:lnTo>
                    <a:pt x="579" y="556"/>
                  </a:lnTo>
                  <a:lnTo>
                    <a:pt x="549" y="529"/>
                  </a:lnTo>
                  <a:lnTo>
                    <a:pt x="527" y="507"/>
                  </a:lnTo>
                  <a:lnTo>
                    <a:pt x="514" y="493"/>
                  </a:lnTo>
                  <a:lnTo>
                    <a:pt x="510" y="487"/>
                  </a:lnTo>
                  <a:lnTo>
                    <a:pt x="354" y="441"/>
                  </a:lnTo>
                  <a:lnTo>
                    <a:pt x="0" y="112"/>
                  </a:lnTo>
                  <a:lnTo>
                    <a:pt x="15" y="47"/>
                  </a:lnTo>
                  <a:lnTo>
                    <a:pt x="548" y="0"/>
                  </a:lnTo>
                  <a:lnTo>
                    <a:pt x="579" y="55"/>
                  </a:lnTo>
                  <a:lnTo>
                    <a:pt x="927" y="23"/>
                  </a:lnTo>
                  <a:lnTo>
                    <a:pt x="1576" y="23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23" name="Freeform 1430"/>
            <p:cNvSpPr/>
            <p:nvPr/>
          </p:nvSpPr>
          <p:spPr>
            <a:xfrm>
              <a:off x="5411880" y="5014800"/>
              <a:ext cx="285840" cy="159480"/>
            </a:xfrm>
            <a:custGeom>
              <a:avLst/>
              <a:gdLst>
                <a:gd name="textAreaLeft" fmla="*/ 0 w 285840"/>
                <a:gd name="textAreaRight" fmla="*/ 286200 w 285840"/>
                <a:gd name="textAreaTop" fmla="*/ 0 h 159480"/>
                <a:gd name="textAreaBottom" fmla="*/ 159840 h 159480"/>
              </a:gdLst>
              <a:ahLst/>
              <a:rect l="textAreaLeft" t="textAreaTop" r="textAreaRight" b="textAreaBottom"/>
              <a:pathLst>
                <a:path w="1588" h="1055">
                  <a:moveTo>
                    <a:pt x="1576" y="239"/>
                  </a:moveTo>
                  <a:lnTo>
                    <a:pt x="1580" y="281"/>
                  </a:lnTo>
                  <a:lnTo>
                    <a:pt x="1585" y="322"/>
                  </a:lnTo>
                  <a:lnTo>
                    <a:pt x="1587" y="361"/>
                  </a:lnTo>
                  <a:lnTo>
                    <a:pt x="1588" y="397"/>
                  </a:lnTo>
                  <a:lnTo>
                    <a:pt x="1588" y="432"/>
                  </a:lnTo>
                  <a:lnTo>
                    <a:pt x="1588" y="465"/>
                  </a:lnTo>
                  <a:lnTo>
                    <a:pt x="1586" y="496"/>
                  </a:lnTo>
                  <a:lnTo>
                    <a:pt x="1583" y="527"/>
                  </a:lnTo>
                  <a:lnTo>
                    <a:pt x="1579" y="555"/>
                  </a:lnTo>
                  <a:lnTo>
                    <a:pt x="1574" y="580"/>
                  </a:lnTo>
                  <a:lnTo>
                    <a:pt x="1570" y="606"/>
                  </a:lnTo>
                  <a:lnTo>
                    <a:pt x="1563" y="629"/>
                  </a:lnTo>
                  <a:lnTo>
                    <a:pt x="1557" y="652"/>
                  </a:lnTo>
                  <a:lnTo>
                    <a:pt x="1549" y="672"/>
                  </a:lnTo>
                  <a:lnTo>
                    <a:pt x="1542" y="691"/>
                  </a:lnTo>
                  <a:lnTo>
                    <a:pt x="1533" y="709"/>
                  </a:lnTo>
                  <a:lnTo>
                    <a:pt x="1524" y="726"/>
                  </a:lnTo>
                  <a:lnTo>
                    <a:pt x="1515" y="743"/>
                  </a:lnTo>
                  <a:lnTo>
                    <a:pt x="1505" y="757"/>
                  </a:lnTo>
                  <a:lnTo>
                    <a:pt x="1496" y="771"/>
                  </a:lnTo>
                  <a:lnTo>
                    <a:pt x="1477" y="795"/>
                  </a:lnTo>
                  <a:lnTo>
                    <a:pt x="1458" y="816"/>
                  </a:lnTo>
                  <a:lnTo>
                    <a:pt x="1439" y="834"/>
                  </a:lnTo>
                  <a:lnTo>
                    <a:pt x="1421" y="849"/>
                  </a:lnTo>
                  <a:lnTo>
                    <a:pt x="1405" y="862"/>
                  </a:lnTo>
                  <a:lnTo>
                    <a:pt x="1391" y="872"/>
                  </a:lnTo>
                  <a:lnTo>
                    <a:pt x="1373" y="885"/>
                  </a:lnTo>
                  <a:lnTo>
                    <a:pt x="1357" y="898"/>
                  </a:lnTo>
                  <a:lnTo>
                    <a:pt x="1342" y="910"/>
                  </a:lnTo>
                  <a:lnTo>
                    <a:pt x="1330" y="923"/>
                  </a:lnTo>
                  <a:lnTo>
                    <a:pt x="1319" y="934"/>
                  </a:lnTo>
                  <a:lnTo>
                    <a:pt x="1309" y="946"/>
                  </a:lnTo>
                  <a:lnTo>
                    <a:pt x="1300" y="959"/>
                  </a:lnTo>
                  <a:lnTo>
                    <a:pt x="1293" y="971"/>
                  </a:lnTo>
                  <a:lnTo>
                    <a:pt x="1287" y="981"/>
                  </a:lnTo>
                  <a:lnTo>
                    <a:pt x="1282" y="993"/>
                  </a:lnTo>
                  <a:lnTo>
                    <a:pt x="1279" y="1004"/>
                  </a:lnTo>
                  <a:lnTo>
                    <a:pt x="1277" y="1015"/>
                  </a:lnTo>
                  <a:lnTo>
                    <a:pt x="1274" y="1025"/>
                  </a:lnTo>
                  <a:lnTo>
                    <a:pt x="1273" y="1035"/>
                  </a:lnTo>
                  <a:lnTo>
                    <a:pt x="1273" y="1045"/>
                  </a:lnTo>
                  <a:lnTo>
                    <a:pt x="1273" y="1055"/>
                  </a:lnTo>
                  <a:lnTo>
                    <a:pt x="1260" y="1035"/>
                  </a:lnTo>
                  <a:lnTo>
                    <a:pt x="1246" y="1016"/>
                  </a:lnTo>
                  <a:lnTo>
                    <a:pt x="1230" y="1000"/>
                  </a:lnTo>
                  <a:lnTo>
                    <a:pt x="1212" y="985"/>
                  </a:lnTo>
                  <a:lnTo>
                    <a:pt x="1194" y="971"/>
                  </a:lnTo>
                  <a:lnTo>
                    <a:pt x="1173" y="958"/>
                  </a:lnTo>
                  <a:lnTo>
                    <a:pt x="1152" y="945"/>
                  </a:lnTo>
                  <a:lnTo>
                    <a:pt x="1130" y="934"/>
                  </a:lnTo>
                  <a:lnTo>
                    <a:pt x="1107" y="925"/>
                  </a:lnTo>
                  <a:lnTo>
                    <a:pt x="1084" y="916"/>
                  </a:lnTo>
                  <a:lnTo>
                    <a:pt x="1060" y="907"/>
                  </a:lnTo>
                  <a:lnTo>
                    <a:pt x="1037" y="899"/>
                  </a:lnTo>
                  <a:lnTo>
                    <a:pt x="989" y="885"/>
                  </a:lnTo>
                  <a:lnTo>
                    <a:pt x="941" y="872"/>
                  </a:lnTo>
                  <a:lnTo>
                    <a:pt x="920" y="867"/>
                  </a:lnTo>
                  <a:lnTo>
                    <a:pt x="903" y="858"/>
                  </a:lnTo>
                  <a:lnTo>
                    <a:pt x="886" y="850"/>
                  </a:lnTo>
                  <a:lnTo>
                    <a:pt x="875" y="841"/>
                  </a:lnTo>
                  <a:lnTo>
                    <a:pt x="863" y="830"/>
                  </a:lnTo>
                  <a:lnTo>
                    <a:pt x="855" y="820"/>
                  </a:lnTo>
                  <a:lnTo>
                    <a:pt x="848" y="807"/>
                  </a:lnTo>
                  <a:lnTo>
                    <a:pt x="841" y="794"/>
                  </a:lnTo>
                  <a:lnTo>
                    <a:pt x="830" y="767"/>
                  </a:lnTo>
                  <a:lnTo>
                    <a:pt x="820" y="737"/>
                  </a:lnTo>
                  <a:lnTo>
                    <a:pt x="814" y="722"/>
                  </a:lnTo>
                  <a:lnTo>
                    <a:pt x="806" y="705"/>
                  </a:lnTo>
                  <a:lnTo>
                    <a:pt x="798" y="688"/>
                  </a:lnTo>
                  <a:lnTo>
                    <a:pt x="786" y="672"/>
                  </a:lnTo>
                  <a:lnTo>
                    <a:pt x="753" y="659"/>
                  </a:lnTo>
                  <a:lnTo>
                    <a:pt x="722" y="646"/>
                  </a:lnTo>
                  <a:lnTo>
                    <a:pt x="692" y="632"/>
                  </a:lnTo>
                  <a:lnTo>
                    <a:pt x="666" y="617"/>
                  </a:lnTo>
                  <a:lnTo>
                    <a:pt x="640" y="601"/>
                  </a:lnTo>
                  <a:lnTo>
                    <a:pt x="618" y="586"/>
                  </a:lnTo>
                  <a:lnTo>
                    <a:pt x="597" y="571"/>
                  </a:lnTo>
                  <a:lnTo>
                    <a:pt x="579" y="556"/>
                  </a:lnTo>
                  <a:lnTo>
                    <a:pt x="549" y="529"/>
                  </a:lnTo>
                  <a:lnTo>
                    <a:pt x="527" y="507"/>
                  </a:lnTo>
                  <a:lnTo>
                    <a:pt x="514" y="493"/>
                  </a:lnTo>
                  <a:lnTo>
                    <a:pt x="510" y="487"/>
                  </a:lnTo>
                  <a:lnTo>
                    <a:pt x="354" y="441"/>
                  </a:lnTo>
                  <a:lnTo>
                    <a:pt x="0" y="112"/>
                  </a:lnTo>
                  <a:lnTo>
                    <a:pt x="15" y="47"/>
                  </a:lnTo>
                  <a:lnTo>
                    <a:pt x="548" y="0"/>
                  </a:lnTo>
                  <a:lnTo>
                    <a:pt x="579" y="55"/>
                  </a:lnTo>
                  <a:lnTo>
                    <a:pt x="927" y="23"/>
                  </a:lnTo>
                  <a:lnTo>
                    <a:pt x="1576" y="239"/>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24" name="Freeform 1431"/>
            <p:cNvSpPr/>
            <p:nvPr/>
          </p:nvSpPr>
          <p:spPr>
            <a:xfrm>
              <a:off x="5314680" y="4917240"/>
              <a:ext cx="479160" cy="133560"/>
            </a:xfrm>
            <a:custGeom>
              <a:avLst/>
              <a:gdLst>
                <a:gd name="textAreaLeft" fmla="*/ 0 w 479160"/>
                <a:gd name="textAreaRight" fmla="*/ 479520 w 479160"/>
                <a:gd name="textAreaTop" fmla="*/ 0 h 133560"/>
                <a:gd name="textAreaBottom" fmla="*/ 133920 h 133560"/>
              </a:gdLst>
              <a:ahLst/>
              <a:rect l="textAreaLeft" t="textAreaTop" r="textAreaRight" b="textAreaBottom"/>
              <a:pathLst>
                <a:path w="2666" h="882">
                  <a:moveTo>
                    <a:pt x="541" y="755"/>
                  </a:moveTo>
                  <a:lnTo>
                    <a:pt x="556" y="690"/>
                  </a:lnTo>
                  <a:lnTo>
                    <a:pt x="1089" y="643"/>
                  </a:lnTo>
                  <a:lnTo>
                    <a:pt x="1120" y="698"/>
                  </a:lnTo>
                  <a:lnTo>
                    <a:pt x="1468" y="666"/>
                  </a:lnTo>
                  <a:lnTo>
                    <a:pt x="2117" y="882"/>
                  </a:lnTo>
                  <a:lnTo>
                    <a:pt x="2317" y="851"/>
                  </a:lnTo>
                  <a:lnTo>
                    <a:pt x="2316" y="843"/>
                  </a:lnTo>
                  <a:lnTo>
                    <a:pt x="2312" y="822"/>
                  </a:lnTo>
                  <a:lnTo>
                    <a:pt x="2307" y="790"/>
                  </a:lnTo>
                  <a:lnTo>
                    <a:pt x="2302" y="753"/>
                  </a:lnTo>
                  <a:lnTo>
                    <a:pt x="2301" y="733"/>
                  </a:lnTo>
                  <a:lnTo>
                    <a:pt x="2301" y="713"/>
                  </a:lnTo>
                  <a:lnTo>
                    <a:pt x="2302" y="694"/>
                  </a:lnTo>
                  <a:lnTo>
                    <a:pt x="2305" y="676"/>
                  </a:lnTo>
                  <a:lnTo>
                    <a:pt x="2308" y="658"/>
                  </a:lnTo>
                  <a:lnTo>
                    <a:pt x="2314" y="643"/>
                  </a:lnTo>
                  <a:lnTo>
                    <a:pt x="2319" y="637"/>
                  </a:lnTo>
                  <a:lnTo>
                    <a:pt x="2322" y="630"/>
                  </a:lnTo>
                  <a:lnTo>
                    <a:pt x="2327" y="625"/>
                  </a:lnTo>
                  <a:lnTo>
                    <a:pt x="2333" y="621"/>
                  </a:lnTo>
                  <a:lnTo>
                    <a:pt x="2344" y="610"/>
                  </a:lnTo>
                  <a:lnTo>
                    <a:pt x="2357" y="599"/>
                  </a:lnTo>
                  <a:lnTo>
                    <a:pt x="2371" y="586"/>
                  </a:lnTo>
                  <a:lnTo>
                    <a:pt x="2386" y="572"/>
                  </a:lnTo>
                  <a:lnTo>
                    <a:pt x="2418" y="540"/>
                  </a:lnTo>
                  <a:lnTo>
                    <a:pt x="2453" y="507"/>
                  </a:lnTo>
                  <a:lnTo>
                    <a:pt x="2473" y="492"/>
                  </a:lnTo>
                  <a:lnTo>
                    <a:pt x="2494" y="477"/>
                  </a:lnTo>
                  <a:lnTo>
                    <a:pt x="2515" y="463"/>
                  </a:lnTo>
                  <a:lnTo>
                    <a:pt x="2538" y="450"/>
                  </a:lnTo>
                  <a:lnTo>
                    <a:pt x="2550" y="444"/>
                  </a:lnTo>
                  <a:lnTo>
                    <a:pt x="2563" y="438"/>
                  </a:lnTo>
                  <a:lnTo>
                    <a:pt x="2576" y="434"/>
                  </a:lnTo>
                  <a:lnTo>
                    <a:pt x="2588" y="429"/>
                  </a:lnTo>
                  <a:lnTo>
                    <a:pt x="2601" y="426"/>
                  </a:lnTo>
                  <a:lnTo>
                    <a:pt x="2615" y="422"/>
                  </a:lnTo>
                  <a:lnTo>
                    <a:pt x="2629" y="420"/>
                  </a:lnTo>
                  <a:lnTo>
                    <a:pt x="2643" y="419"/>
                  </a:lnTo>
                  <a:lnTo>
                    <a:pt x="2645" y="403"/>
                  </a:lnTo>
                  <a:lnTo>
                    <a:pt x="2646" y="387"/>
                  </a:lnTo>
                  <a:lnTo>
                    <a:pt x="2648" y="370"/>
                  </a:lnTo>
                  <a:lnTo>
                    <a:pt x="2652" y="351"/>
                  </a:lnTo>
                  <a:lnTo>
                    <a:pt x="2659" y="314"/>
                  </a:lnTo>
                  <a:lnTo>
                    <a:pt x="2664" y="276"/>
                  </a:lnTo>
                  <a:lnTo>
                    <a:pt x="2666" y="257"/>
                  </a:lnTo>
                  <a:lnTo>
                    <a:pt x="2666" y="239"/>
                  </a:lnTo>
                  <a:lnTo>
                    <a:pt x="2664" y="222"/>
                  </a:lnTo>
                  <a:lnTo>
                    <a:pt x="2662" y="206"/>
                  </a:lnTo>
                  <a:lnTo>
                    <a:pt x="2660" y="198"/>
                  </a:lnTo>
                  <a:lnTo>
                    <a:pt x="2656" y="191"/>
                  </a:lnTo>
                  <a:lnTo>
                    <a:pt x="2653" y="184"/>
                  </a:lnTo>
                  <a:lnTo>
                    <a:pt x="2649" y="178"/>
                  </a:lnTo>
                  <a:lnTo>
                    <a:pt x="2645" y="172"/>
                  </a:lnTo>
                  <a:lnTo>
                    <a:pt x="2639" y="166"/>
                  </a:lnTo>
                  <a:lnTo>
                    <a:pt x="2633" y="160"/>
                  </a:lnTo>
                  <a:lnTo>
                    <a:pt x="2626" y="157"/>
                  </a:lnTo>
                  <a:lnTo>
                    <a:pt x="2597" y="141"/>
                  </a:lnTo>
                  <a:lnTo>
                    <a:pt x="2569" y="128"/>
                  </a:lnTo>
                  <a:lnTo>
                    <a:pt x="2539" y="116"/>
                  </a:lnTo>
                  <a:lnTo>
                    <a:pt x="2511" y="102"/>
                  </a:lnTo>
                  <a:lnTo>
                    <a:pt x="2496" y="95"/>
                  </a:lnTo>
                  <a:lnTo>
                    <a:pt x="2482" y="86"/>
                  </a:lnTo>
                  <a:lnTo>
                    <a:pt x="2468" y="76"/>
                  </a:lnTo>
                  <a:lnTo>
                    <a:pt x="2454" y="65"/>
                  </a:lnTo>
                  <a:lnTo>
                    <a:pt x="2439" y="52"/>
                  </a:lnTo>
                  <a:lnTo>
                    <a:pt x="2425" y="37"/>
                  </a:lnTo>
                  <a:lnTo>
                    <a:pt x="2411" y="20"/>
                  </a:lnTo>
                  <a:lnTo>
                    <a:pt x="2396" y="0"/>
                  </a:lnTo>
                  <a:lnTo>
                    <a:pt x="625" y="240"/>
                  </a:lnTo>
                  <a:lnTo>
                    <a:pt x="618" y="246"/>
                  </a:lnTo>
                  <a:lnTo>
                    <a:pt x="613" y="252"/>
                  </a:lnTo>
                  <a:lnTo>
                    <a:pt x="611" y="260"/>
                  </a:lnTo>
                  <a:lnTo>
                    <a:pt x="607" y="269"/>
                  </a:lnTo>
                  <a:lnTo>
                    <a:pt x="605" y="290"/>
                  </a:lnTo>
                  <a:lnTo>
                    <a:pt x="603" y="311"/>
                  </a:lnTo>
                  <a:lnTo>
                    <a:pt x="600" y="323"/>
                  </a:lnTo>
                  <a:lnTo>
                    <a:pt x="598" y="333"/>
                  </a:lnTo>
                  <a:lnTo>
                    <a:pt x="593" y="343"/>
                  </a:lnTo>
                  <a:lnTo>
                    <a:pt x="589" y="351"/>
                  </a:lnTo>
                  <a:lnTo>
                    <a:pt x="582" y="359"/>
                  </a:lnTo>
                  <a:lnTo>
                    <a:pt x="573" y="365"/>
                  </a:lnTo>
                  <a:lnTo>
                    <a:pt x="569" y="367"/>
                  </a:lnTo>
                  <a:lnTo>
                    <a:pt x="563" y="370"/>
                  </a:lnTo>
                  <a:lnTo>
                    <a:pt x="557" y="372"/>
                  </a:lnTo>
                  <a:lnTo>
                    <a:pt x="550" y="372"/>
                  </a:lnTo>
                  <a:lnTo>
                    <a:pt x="538" y="374"/>
                  </a:lnTo>
                  <a:lnTo>
                    <a:pt x="528" y="377"/>
                  </a:lnTo>
                  <a:lnTo>
                    <a:pt x="517" y="380"/>
                  </a:lnTo>
                  <a:lnTo>
                    <a:pt x="507" y="385"/>
                  </a:lnTo>
                  <a:lnTo>
                    <a:pt x="498" y="389"/>
                  </a:lnTo>
                  <a:lnTo>
                    <a:pt x="488" y="395"/>
                  </a:lnTo>
                  <a:lnTo>
                    <a:pt x="480" y="401"/>
                  </a:lnTo>
                  <a:lnTo>
                    <a:pt x="472" y="408"/>
                  </a:lnTo>
                  <a:lnTo>
                    <a:pt x="455" y="423"/>
                  </a:lnTo>
                  <a:lnTo>
                    <a:pt x="440" y="438"/>
                  </a:lnTo>
                  <a:lnTo>
                    <a:pt x="424" y="456"/>
                  </a:lnTo>
                  <a:lnTo>
                    <a:pt x="409" y="474"/>
                  </a:lnTo>
                  <a:lnTo>
                    <a:pt x="394" y="491"/>
                  </a:lnTo>
                  <a:lnTo>
                    <a:pt x="377" y="507"/>
                  </a:lnTo>
                  <a:lnTo>
                    <a:pt x="360" y="524"/>
                  </a:lnTo>
                  <a:lnTo>
                    <a:pt x="341" y="539"/>
                  </a:lnTo>
                  <a:lnTo>
                    <a:pt x="332" y="545"/>
                  </a:lnTo>
                  <a:lnTo>
                    <a:pt x="321" y="552"/>
                  </a:lnTo>
                  <a:lnTo>
                    <a:pt x="311" y="556"/>
                  </a:lnTo>
                  <a:lnTo>
                    <a:pt x="299" y="562"/>
                  </a:lnTo>
                  <a:lnTo>
                    <a:pt x="287" y="566"/>
                  </a:lnTo>
                  <a:lnTo>
                    <a:pt x="274" y="569"/>
                  </a:lnTo>
                  <a:lnTo>
                    <a:pt x="262" y="573"/>
                  </a:lnTo>
                  <a:lnTo>
                    <a:pt x="248" y="574"/>
                  </a:lnTo>
                  <a:lnTo>
                    <a:pt x="236" y="575"/>
                  </a:lnTo>
                  <a:lnTo>
                    <a:pt x="224" y="577"/>
                  </a:lnTo>
                  <a:lnTo>
                    <a:pt x="213" y="580"/>
                  </a:lnTo>
                  <a:lnTo>
                    <a:pt x="201" y="583"/>
                  </a:lnTo>
                  <a:lnTo>
                    <a:pt x="177" y="592"/>
                  </a:lnTo>
                  <a:lnTo>
                    <a:pt x="154" y="601"/>
                  </a:lnTo>
                  <a:lnTo>
                    <a:pt x="132" y="613"/>
                  </a:lnTo>
                  <a:lnTo>
                    <a:pt x="111" y="625"/>
                  </a:lnTo>
                  <a:lnTo>
                    <a:pt x="91" y="639"/>
                  </a:lnTo>
                  <a:lnTo>
                    <a:pt x="72" y="653"/>
                  </a:lnTo>
                  <a:lnTo>
                    <a:pt x="56" y="669"/>
                  </a:lnTo>
                  <a:lnTo>
                    <a:pt x="41" y="683"/>
                  </a:lnTo>
                  <a:lnTo>
                    <a:pt x="28" y="697"/>
                  </a:lnTo>
                  <a:lnTo>
                    <a:pt x="19" y="709"/>
                  </a:lnTo>
                  <a:lnTo>
                    <a:pt x="12" y="720"/>
                  </a:lnTo>
                  <a:lnTo>
                    <a:pt x="7" y="731"/>
                  </a:lnTo>
                  <a:lnTo>
                    <a:pt x="6" y="735"/>
                  </a:lnTo>
                  <a:lnTo>
                    <a:pt x="6" y="739"/>
                  </a:lnTo>
                  <a:lnTo>
                    <a:pt x="7" y="741"/>
                  </a:lnTo>
                  <a:lnTo>
                    <a:pt x="8" y="745"/>
                  </a:lnTo>
                  <a:lnTo>
                    <a:pt x="12" y="748"/>
                  </a:lnTo>
                  <a:lnTo>
                    <a:pt x="15" y="754"/>
                  </a:lnTo>
                  <a:lnTo>
                    <a:pt x="17" y="759"/>
                  </a:lnTo>
                  <a:lnTo>
                    <a:pt x="19" y="763"/>
                  </a:lnTo>
                  <a:lnTo>
                    <a:pt x="20" y="775"/>
                  </a:lnTo>
                  <a:lnTo>
                    <a:pt x="17" y="785"/>
                  </a:lnTo>
                  <a:lnTo>
                    <a:pt x="15" y="795"/>
                  </a:lnTo>
                  <a:lnTo>
                    <a:pt x="10" y="803"/>
                  </a:lnTo>
                  <a:lnTo>
                    <a:pt x="5" y="810"/>
                  </a:lnTo>
                  <a:lnTo>
                    <a:pt x="0" y="813"/>
                  </a:lnTo>
                  <a:lnTo>
                    <a:pt x="541" y="75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25" name="Freeform 1432"/>
            <p:cNvSpPr/>
            <p:nvPr/>
          </p:nvSpPr>
          <p:spPr>
            <a:xfrm>
              <a:off x="5314680" y="4917240"/>
              <a:ext cx="479160" cy="133560"/>
            </a:xfrm>
            <a:custGeom>
              <a:avLst/>
              <a:gdLst>
                <a:gd name="textAreaLeft" fmla="*/ 0 w 479160"/>
                <a:gd name="textAreaRight" fmla="*/ 479520 w 479160"/>
                <a:gd name="textAreaTop" fmla="*/ 0 h 133560"/>
                <a:gd name="textAreaBottom" fmla="*/ 133920 h 133560"/>
              </a:gdLst>
              <a:ahLst/>
              <a:rect l="textAreaLeft" t="textAreaTop" r="textAreaRight" b="textAreaBottom"/>
              <a:pathLst>
                <a:path w="2666" h="882">
                  <a:moveTo>
                    <a:pt x="541" y="755"/>
                  </a:moveTo>
                  <a:lnTo>
                    <a:pt x="556" y="690"/>
                  </a:lnTo>
                  <a:lnTo>
                    <a:pt x="1089" y="643"/>
                  </a:lnTo>
                  <a:lnTo>
                    <a:pt x="1120" y="698"/>
                  </a:lnTo>
                  <a:lnTo>
                    <a:pt x="1468" y="666"/>
                  </a:lnTo>
                  <a:lnTo>
                    <a:pt x="2117" y="882"/>
                  </a:lnTo>
                  <a:lnTo>
                    <a:pt x="2317" y="851"/>
                  </a:lnTo>
                  <a:lnTo>
                    <a:pt x="2316" y="843"/>
                  </a:lnTo>
                  <a:lnTo>
                    <a:pt x="2312" y="822"/>
                  </a:lnTo>
                  <a:lnTo>
                    <a:pt x="2307" y="790"/>
                  </a:lnTo>
                  <a:lnTo>
                    <a:pt x="2302" y="753"/>
                  </a:lnTo>
                  <a:lnTo>
                    <a:pt x="2301" y="733"/>
                  </a:lnTo>
                  <a:lnTo>
                    <a:pt x="2301" y="713"/>
                  </a:lnTo>
                  <a:lnTo>
                    <a:pt x="2302" y="694"/>
                  </a:lnTo>
                  <a:lnTo>
                    <a:pt x="2305" y="676"/>
                  </a:lnTo>
                  <a:lnTo>
                    <a:pt x="2308" y="658"/>
                  </a:lnTo>
                  <a:lnTo>
                    <a:pt x="2314" y="643"/>
                  </a:lnTo>
                  <a:lnTo>
                    <a:pt x="2319" y="637"/>
                  </a:lnTo>
                  <a:lnTo>
                    <a:pt x="2322" y="630"/>
                  </a:lnTo>
                  <a:lnTo>
                    <a:pt x="2327" y="625"/>
                  </a:lnTo>
                  <a:lnTo>
                    <a:pt x="2333" y="621"/>
                  </a:lnTo>
                  <a:lnTo>
                    <a:pt x="2344" y="610"/>
                  </a:lnTo>
                  <a:lnTo>
                    <a:pt x="2357" y="599"/>
                  </a:lnTo>
                  <a:lnTo>
                    <a:pt x="2371" y="586"/>
                  </a:lnTo>
                  <a:lnTo>
                    <a:pt x="2386" y="572"/>
                  </a:lnTo>
                  <a:lnTo>
                    <a:pt x="2418" y="540"/>
                  </a:lnTo>
                  <a:lnTo>
                    <a:pt x="2453" y="507"/>
                  </a:lnTo>
                  <a:lnTo>
                    <a:pt x="2473" y="492"/>
                  </a:lnTo>
                  <a:lnTo>
                    <a:pt x="2494" y="477"/>
                  </a:lnTo>
                  <a:lnTo>
                    <a:pt x="2515" y="463"/>
                  </a:lnTo>
                  <a:lnTo>
                    <a:pt x="2538" y="450"/>
                  </a:lnTo>
                  <a:lnTo>
                    <a:pt x="2550" y="444"/>
                  </a:lnTo>
                  <a:lnTo>
                    <a:pt x="2563" y="438"/>
                  </a:lnTo>
                  <a:lnTo>
                    <a:pt x="2576" y="434"/>
                  </a:lnTo>
                  <a:lnTo>
                    <a:pt x="2588" y="429"/>
                  </a:lnTo>
                  <a:lnTo>
                    <a:pt x="2601" y="426"/>
                  </a:lnTo>
                  <a:lnTo>
                    <a:pt x="2615" y="422"/>
                  </a:lnTo>
                  <a:lnTo>
                    <a:pt x="2629" y="420"/>
                  </a:lnTo>
                  <a:lnTo>
                    <a:pt x="2643" y="419"/>
                  </a:lnTo>
                  <a:lnTo>
                    <a:pt x="2645" y="403"/>
                  </a:lnTo>
                  <a:lnTo>
                    <a:pt x="2646" y="387"/>
                  </a:lnTo>
                  <a:lnTo>
                    <a:pt x="2648" y="370"/>
                  </a:lnTo>
                  <a:lnTo>
                    <a:pt x="2652" y="351"/>
                  </a:lnTo>
                  <a:lnTo>
                    <a:pt x="2659" y="314"/>
                  </a:lnTo>
                  <a:lnTo>
                    <a:pt x="2664" y="276"/>
                  </a:lnTo>
                  <a:lnTo>
                    <a:pt x="2666" y="257"/>
                  </a:lnTo>
                  <a:lnTo>
                    <a:pt x="2666" y="239"/>
                  </a:lnTo>
                  <a:lnTo>
                    <a:pt x="2664" y="222"/>
                  </a:lnTo>
                  <a:lnTo>
                    <a:pt x="2662" y="206"/>
                  </a:lnTo>
                  <a:lnTo>
                    <a:pt x="2660" y="198"/>
                  </a:lnTo>
                  <a:lnTo>
                    <a:pt x="2656" y="191"/>
                  </a:lnTo>
                  <a:lnTo>
                    <a:pt x="2653" y="184"/>
                  </a:lnTo>
                  <a:lnTo>
                    <a:pt x="2649" y="178"/>
                  </a:lnTo>
                  <a:lnTo>
                    <a:pt x="2645" y="172"/>
                  </a:lnTo>
                  <a:lnTo>
                    <a:pt x="2639" y="166"/>
                  </a:lnTo>
                  <a:lnTo>
                    <a:pt x="2633" y="160"/>
                  </a:lnTo>
                  <a:lnTo>
                    <a:pt x="2626" y="157"/>
                  </a:lnTo>
                  <a:lnTo>
                    <a:pt x="2597" y="141"/>
                  </a:lnTo>
                  <a:lnTo>
                    <a:pt x="2569" y="128"/>
                  </a:lnTo>
                  <a:lnTo>
                    <a:pt x="2539" y="116"/>
                  </a:lnTo>
                  <a:lnTo>
                    <a:pt x="2511" y="102"/>
                  </a:lnTo>
                  <a:lnTo>
                    <a:pt x="2496" y="95"/>
                  </a:lnTo>
                  <a:lnTo>
                    <a:pt x="2482" y="86"/>
                  </a:lnTo>
                  <a:lnTo>
                    <a:pt x="2468" y="76"/>
                  </a:lnTo>
                  <a:lnTo>
                    <a:pt x="2454" y="65"/>
                  </a:lnTo>
                  <a:lnTo>
                    <a:pt x="2439" y="52"/>
                  </a:lnTo>
                  <a:lnTo>
                    <a:pt x="2425" y="37"/>
                  </a:lnTo>
                  <a:lnTo>
                    <a:pt x="2411" y="20"/>
                  </a:lnTo>
                  <a:lnTo>
                    <a:pt x="2396" y="0"/>
                  </a:lnTo>
                  <a:lnTo>
                    <a:pt x="625" y="240"/>
                  </a:lnTo>
                  <a:lnTo>
                    <a:pt x="618" y="246"/>
                  </a:lnTo>
                  <a:lnTo>
                    <a:pt x="613" y="252"/>
                  </a:lnTo>
                  <a:lnTo>
                    <a:pt x="611" y="260"/>
                  </a:lnTo>
                  <a:lnTo>
                    <a:pt x="607" y="269"/>
                  </a:lnTo>
                  <a:lnTo>
                    <a:pt x="605" y="290"/>
                  </a:lnTo>
                  <a:lnTo>
                    <a:pt x="603" y="311"/>
                  </a:lnTo>
                  <a:lnTo>
                    <a:pt x="600" y="323"/>
                  </a:lnTo>
                  <a:lnTo>
                    <a:pt x="598" y="333"/>
                  </a:lnTo>
                  <a:lnTo>
                    <a:pt x="593" y="343"/>
                  </a:lnTo>
                  <a:lnTo>
                    <a:pt x="589" y="351"/>
                  </a:lnTo>
                  <a:lnTo>
                    <a:pt x="582" y="359"/>
                  </a:lnTo>
                  <a:lnTo>
                    <a:pt x="573" y="365"/>
                  </a:lnTo>
                  <a:lnTo>
                    <a:pt x="569" y="367"/>
                  </a:lnTo>
                  <a:lnTo>
                    <a:pt x="563" y="370"/>
                  </a:lnTo>
                  <a:lnTo>
                    <a:pt x="557" y="372"/>
                  </a:lnTo>
                  <a:lnTo>
                    <a:pt x="550" y="372"/>
                  </a:lnTo>
                  <a:lnTo>
                    <a:pt x="538" y="374"/>
                  </a:lnTo>
                  <a:lnTo>
                    <a:pt x="528" y="377"/>
                  </a:lnTo>
                  <a:lnTo>
                    <a:pt x="517" y="380"/>
                  </a:lnTo>
                  <a:lnTo>
                    <a:pt x="507" y="385"/>
                  </a:lnTo>
                  <a:lnTo>
                    <a:pt x="498" y="389"/>
                  </a:lnTo>
                  <a:lnTo>
                    <a:pt x="488" y="395"/>
                  </a:lnTo>
                  <a:lnTo>
                    <a:pt x="480" y="401"/>
                  </a:lnTo>
                  <a:lnTo>
                    <a:pt x="472" y="408"/>
                  </a:lnTo>
                  <a:lnTo>
                    <a:pt x="455" y="423"/>
                  </a:lnTo>
                  <a:lnTo>
                    <a:pt x="440" y="438"/>
                  </a:lnTo>
                  <a:lnTo>
                    <a:pt x="424" y="456"/>
                  </a:lnTo>
                  <a:lnTo>
                    <a:pt x="409" y="474"/>
                  </a:lnTo>
                  <a:lnTo>
                    <a:pt x="394" y="491"/>
                  </a:lnTo>
                  <a:lnTo>
                    <a:pt x="377" y="507"/>
                  </a:lnTo>
                  <a:lnTo>
                    <a:pt x="360" y="524"/>
                  </a:lnTo>
                  <a:lnTo>
                    <a:pt x="341" y="539"/>
                  </a:lnTo>
                  <a:lnTo>
                    <a:pt x="332" y="545"/>
                  </a:lnTo>
                  <a:lnTo>
                    <a:pt x="321" y="552"/>
                  </a:lnTo>
                  <a:lnTo>
                    <a:pt x="311" y="556"/>
                  </a:lnTo>
                  <a:lnTo>
                    <a:pt x="299" y="562"/>
                  </a:lnTo>
                  <a:lnTo>
                    <a:pt x="287" y="566"/>
                  </a:lnTo>
                  <a:lnTo>
                    <a:pt x="274" y="569"/>
                  </a:lnTo>
                  <a:lnTo>
                    <a:pt x="262" y="573"/>
                  </a:lnTo>
                  <a:lnTo>
                    <a:pt x="248" y="574"/>
                  </a:lnTo>
                  <a:lnTo>
                    <a:pt x="236" y="575"/>
                  </a:lnTo>
                  <a:lnTo>
                    <a:pt x="224" y="577"/>
                  </a:lnTo>
                  <a:lnTo>
                    <a:pt x="213" y="580"/>
                  </a:lnTo>
                  <a:lnTo>
                    <a:pt x="201" y="583"/>
                  </a:lnTo>
                  <a:lnTo>
                    <a:pt x="177" y="592"/>
                  </a:lnTo>
                  <a:lnTo>
                    <a:pt x="154" y="601"/>
                  </a:lnTo>
                  <a:lnTo>
                    <a:pt x="132" y="613"/>
                  </a:lnTo>
                  <a:lnTo>
                    <a:pt x="111" y="625"/>
                  </a:lnTo>
                  <a:lnTo>
                    <a:pt x="91" y="639"/>
                  </a:lnTo>
                  <a:lnTo>
                    <a:pt x="72" y="653"/>
                  </a:lnTo>
                  <a:lnTo>
                    <a:pt x="56" y="669"/>
                  </a:lnTo>
                  <a:lnTo>
                    <a:pt x="41" y="683"/>
                  </a:lnTo>
                  <a:lnTo>
                    <a:pt x="28" y="697"/>
                  </a:lnTo>
                  <a:lnTo>
                    <a:pt x="19" y="709"/>
                  </a:lnTo>
                  <a:lnTo>
                    <a:pt x="12" y="720"/>
                  </a:lnTo>
                  <a:lnTo>
                    <a:pt x="7" y="731"/>
                  </a:lnTo>
                  <a:lnTo>
                    <a:pt x="6" y="735"/>
                  </a:lnTo>
                  <a:lnTo>
                    <a:pt x="6" y="739"/>
                  </a:lnTo>
                  <a:lnTo>
                    <a:pt x="7" y="741"/>
                  </a:lnTo>
                  <a:lnTo>
                    <a:pt x="8" y="745"/>
                  </a:lnTo>
                  <a:lnTo>
                    <a:pt x="12" y="748"/>
                  </a:lnTo>
                  <a:lnTo>
                    <a:pt x="15" y="754"/>
                  </a:lnTo>
                  <a:lnTo>
                    <a:pt x="17" y="759"/>
                  </a:lnTo>
                  <a:lnTo>
                    <a:pt x="19" y="763"/>
                  </a:lnTo>
                  <a:lnTo>
                    <a:pt x="20" y="775"/>
                  </a:lnTo>
                  <a:lnTo>
                    <a:pt x="17" y="785"/>
                  </a:lnTo>
                  <a:lnTo>
                    <a:pt x="15" y="795"/>
                  </a:lnTo>
                  <a:lnTo>
                    <a:pt x="10" y="803"/>
                  </a:lnTo>
                  <a:lnTo>
                    <a:pt x="5" y="810"/>
                  </a:lnTo>
                  <a:lnTo>
                    <a:pt x="0" y="813"/>
                  </a:lnTo>
                  <a:lnTo>
                    <a:pt x="541" y="755"/>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26" name="Freeform 1433"/>
            <p:cNvSpPr/>
            <p:nvPr/>
          </p:nvSpPr>
          <p:spPr>
            <a:xfrm>
              <a:off x="4961160" y="4953600"/>
              <a:ext cx="465840" cy="120240"/>
            </a:xfrm>
            <a:custGeom>
              <a:avLst/>
              <a:gdLst>
                <a:gd name="textAreaLeft" fmla="*/ 0 w 465840"/>
                <a:gd name="textAreaRight" fmla="*/ 466200 w 465840"/>
                <a:gd name="textAreaTop" fmla="*/ 0 h 120240"/>
                <a:gd name="textAreaBottom" fmla="*/ 120600 h 120240"/>
              </a:gdLst>
              <a:ahLst/>
              <a:rect l="textAreaLeft" t="textAreaTop" r="textAreaRight" b="textAreaBottom"/>
              <a:pathLst>
                <a:path w="2590" h="792">
                  <a:moveTo>
                    <a:pt x="2590" y="0"/>
                  </a:moveTo>
                  <a:lnTo>
                    <a:pt x="613" y="265"/>
                  </a:lnTo>
                  <a:lnTo>
                    <a:pt x="596" y="311"/>
                  </a:lnTo>
                  <a:lnTo>
                    <a:pt x="78" y="366"/>
                  </a:lnTo>
                  <a:lnTo>
                    <a:pt x="76" y="377"/>
                  </a:lnTo>
                  <a:lnTo>
                    <a:pt x="75" y="388"/>
                  </a:lnTo>
                  <a:lnTo>
                    <a:pt x="74" y="398"/>
                  </a:lnTo>
                  <a:lnTo>
                    <a:pt x="74" y="408"/>
                  </a:lnTo>
                  <a:lnTo>
                    <a:pt x="74" y="426"/>
                  </a:lnTo>
                  <a:lnTo>
                    <a:pt x="74" y="443"/>
                  </a:lnTo>
                  <a:lnTo>
                    <a:pt x="73" y="452"/>
                  </a:lnTo>
                  <a:lnTo>
                    <a:pt x="70" y="460"/>
                  </a:lnTo>
                  <a:lnTo>
                    <a:pt x="68" y="469"/>
                  </a:lnTo>
                  <a:lnTo>
                    <a:pt x="63" y="478"/>
                  </a:lnTo>
                  <a:lnTo>
                    <a:pt x="59" y="487"/>
                  </a:lnTo>
                  <a:lnTo>
                    <a:pt x="52" y="498"/>
                  </a:lnTo>
                  <a:lnTo>
                    <a:pt x="42" y="508"/>
                  </a:lnTo>
                  <a:lnTo>
                    <a:pt x="32" y="519"/>
                  </a:lnTo>
                  <a:lnTo>
                    <a:pt x="35" y="535"/>
                  </a:lnTo>
                  <a:lnTo>
                    <a:pt x="36" y="551"/>
                  </a:lnTo>
                  <a:lnTo>
                    <a:pt x="37" y="568"/>
                  </a:lnTo>
                  <a:lnTo>
                    <a:pt x="39" y="585"/>
                  </a:lnTo>
                  <a:lnTo>
                    <a:pt x="37" y="603"/>
                  </a:lnTo>
                  <a:lnTo>
                    <a:pt x="37" y="619"/>
                  </a:lnTo>
                  <a:lnTo>
                    <a:pt x="35" y="637"/>
                  </a:lnTo>
                  <a:lnTo>
                    <a:pt x="33" y="654"/>
                  </a:lnTo>
                  <a:lnTo>
                    <a:pt x="27" y="689"/>
                  </a:lnTo>
                  <a:lnTo>
                    <a:pt x="20" y="724"/>
                  </a:lnTo>
                  <a:lnTo>
                    <a:pt x="11" y="758"/>
                  </a:lnTo>
                  <a:lnTo>
                    <a:pt x="0" y="792"/>
                  </a:lnTo>
                  <a:lnTo>
                    <a:pt x="709" y="717"/>
                  </a:lnTo>
                  <a:lnTo>
                    <a:pt x="712" y="717"/>
                  </a:lnTo>
                  <a:lnTo>
                    <a:pt x="1466" y="631"/>
                  </a:lnTo>
                  <a:lnTo>
                    <a:pt x="1967" y="576"/>
                  </a:lnTo>
                  <a:lnTo>
                    <a:pt x="1972" y="563"/>
                  </a:lnTo>
                  <a:lnTo>
                    <a:pt x="1981" y="545"/>
                  </a:lnTo>
                  <a:lnTo>
                    <a:pt x="1982" y="541"/>
                  </a:lnTo>
                  <a:lnTo>
                    <a:pt x="1984" y="536"/>
                  </a:lnTo>
                  <a:lnTo>
                    <a:pt x="1985" y="530"/>
                  </a:lnTo>
                  <a:lnTo>
                    <a:pt x="1985" y="526"/>
                  </a:lnTo>
                  <a:lnTo>
                    <a:pt x="1984" y="520"/>
                  </a:lnTo>
                  <a:lnTo>
                    <a:pt x="1981" y="515"/>
                  </a:lnTo>
                  <a:lnTo>
                    <a:pt x="1978" y="509"/>
                  </a:lnTo>
                  <a:lnTo>
                    <a:pt x="1973" y="505"/>
                  </a:lnTo>
                  <a:lnTo>
                    <a:pt x="1972" y="501"/>
                  </a:lnTo>
                  <a:lnTo>
                    <a:pt x="1971" y="499"/>
                  </a:lnTo>
                  <a:lnTo>
                    <a:pt x="1971" y="495"/>
                  </a:lnTo>
                  <a:lnTo>
                    <a:pt x="1972" y="491"/>
                  </a:lnTo>
                  <a:lnTo>
                    <a:pt x="1977" y="480"/>
                  </a:lnTo>
                  <a:lnTo>
                    <a:pt x="1984" y="469"/>
                  </a:lnTo>
                  <a:lnTo>
                    <a:pt x="1993" y="457"/>
                  </a:lnTo>
                  <a:lnTo>
                    <a:pt x="2006" y="443"/>
                  </a:lnTo>
                  <a:lnTo>
                    <a:pt x="2021" y="429"/>
                  </a:lnTo>
                  <a:lnTo>
                    <a:pt x="2037" y="413"/>
                  </a:lnTo>
                  <a:lnTo>
                    <a:pt x="2056" y="399"/>
                  </a:lnTo>
                  <a:lnTo>
                    <a:pt x="2076" y="385"/>
                  </a:lnTo>
                  <a:lnTo>
                    <a:pt x="2097" y="373"/>
                  </a:lnTo>
                  <a:lnTo>
                    <a:pt x="2119" y="361"/>
                  </a:lnTo>
                  <a:lnTo>
                    <a:pt x="2142" y="352"/>
                  </a:lnTo>
                  <a:lnTo>
                    <a:pt x="2166" y="343"/>
                  </a:lnTo>
                  <a:lnTo>
                    <a:pt x="2178" y="340"/>
                  </a:lnTo>
                  <a:lnTo>
                    <a:pt x="2189" y="337"/>
                  </a:lnTo>
                  <a:lnTo>
                    <a:pt x="2201" y="335"/>
                  </a:lnTo>
                  <a:lnTo>
                    <a:pt x="2213" y="334"/>
                  </a:lnTo>
                  <a:lnTo>
                    <a:pt x="2227" y="333"/>
                  </a:lnTo>
                  <a:lnTo>
                    <a:pt x="2239" y="329"/>
                  </a:lnTo>
                  <a:lnTo>
                    <a:pt x="2252" y="326"/>
                  </a:lnTo>
                  <a:lnTo>
                    <a:pt x="2264" y="322"/>
                  </a:lnTo>
                  <a:lnTo>
                    <a:pt x="2276" y="316"/>
                  </a:lnTo>
                  <a:lnTo>
                    <a:pt x="2286" y="312"/>
                  </a:lnTo>
                  <a:lnTo>
                    <a:pt x="2297" y="305"/>
                  </a:lnTo>
                  <a:lnTo>
                    <a:pt x="2306" y="299"/>
                  </a:lnTo>
                  <a:lnTo>
                    <a:pt x="2325" y="284"/>
                  </a:lnTo>
                  <a:lnTo>
                    <a:pt x="2342" y="267"/>
                  </a:lnTo>
                  <a:lnTo>
                    <a:pt x="2359" y="251"/>
                  </a:lnTo>
                  <a:lnTo>
                    <a:pt x="2374" y="234"/>
                  </a:lnTo>
                  <a:lnTo>
                    <a:pt x="2389" y="216"/>
                  </a:lnTo>
                  <a:lnTo>
                    <a:pt x="2405" y="198"/>
                  </a:lnTo>
                  <a:lnTo>
                    <a:pt x="2420" y="183"/>
                  </a:lnTo>
                  <a:lnTo>
                    <a:pt x="2437" y="168"/>
                  </a:lnTo>
                  <a:lnTo>
                    <a:pt x="2445" y="161"/>
                  </a:lnTo>
                  <a:lnTo>
                    <a:pt x="2453" y="155"/>
                  </a:lnTo>
                  <a:lnTo>
                    <a:pt x="2463" y="149"/>
                  </a:lnTo>
                  <a:lnTo>
                    <a:pt x="2472" y="145"/>
                  </a:lnTo>
                  <a:lnTo>
                    <a:pt x="2482" y="140"/>
                  </a:lnTo>
                  <a:lnTo>
                    <a:pt x="2493" y="137"/>
                  </a:lnTo>
                  <a:lnTo>
                    <a:pt x="2503" y="134"/>
                  </a:lnTo>
                  <a:lnTo>
                    <a:pt x="2515" y="132"/>
                  </a:lnTo>
                  <a:lnTo>
                    <a:pt x="2522" y="132"/>
                  </a:lnTo>
                  <a:lnTo>
                    <a:pt x="2528" y="130"/>
                  </a:lnTo>
                  <a:lnTo>
                    <a:pt x="2534" y="127"/>
                  </a:lnTo>
                  <a:lnTo>
                    <a:pt x="2538" y="125"/>
                  </a:lnTo>
                  <a:lnTo>
                    <a:pt x="2547" y="119"/>
                  </a:lnTo>
                  <a:lnTo>
                    <a:pt x="2554" y="111"/>
                  </a:lnTo>
                  <a:lnTo>
                    <a:pt x="2558" y="103"/>
                  </a:lnTo>
                  <a:lnTo>
                    <a:pt x="2563" y="93"/>
                  </a:lnTo>
                  <a:lnTo>
                    <a:pt x="2565" y="83"/>
                  </a:lnTo>
                  <a:lnTo>
                    <a:pt x="2568" y="71"/>
                  </a:lnTo>
                  <a:lnTo>
                    <a:pt x="2570" y="50"/>
                  </a:lnTo>
                  <a:lnTo>
                    <a:pt x="2572" y="29"/>
                  </a:lnTo>
                  <a:lnTo>
                    <a:pt x="2576" y="20"/>
                  </a:lnTo>
                  <a:lnTo>
                    <a:pt x="2578" y="12"/>
                  </a:lnTo>
                  <a:lnTo>
                    <a:pt x="2583" y="6"/>
                  </a:lnTo>
                  <a:lnTo>
                    <a:pt x="259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27" name="Freeform 1434"/>
            <p:cNvSpPr/>
            <p:nvPr/>
          </p:nvSpPr>
          <p:spPr>
            <a:xfrm>
              <a:off x="4961160" y="4953600"/>
              <a:ext cx="465840" cy="120240"/>
            </a:xfrm>
            <a:custGeom>
              <a:avLst/>
              <a:gdLst>
                <a:gd name="textAreaLeft" fmla="*/ 0 w 465840"/>
                <a:gd name="textAreaRight" fmla="*/ 466200 w 465840"/>
                <a:gd name="textAreaTop" fmla="*/ 0 h 120240"/>
                <a:gd name="textAreaBottom" fmla="*/ 120600 h 120240"/>
              </a:gdLst>
              <a:ahLst/>
              <a:rect l="textAreaLeft" t="textAreaTop" r="textAreaRight" b="textAreaBottom"/>
              <a:pathLst>
                <a:path w="2590" h="792">
                  <a:moveTo>
                    <a:pt x="2590" y="0"/>
                  </a:moveTo>
                  <a:lnTo>
                    <a:pt x="613" y="265"/>
                  </a:lnTo>
                  <a:lnTo>
                    <a:pt x="596" y="311"/>
                  </a:lnTo>
                  <a:lnTo>
                    <a:pt x="78" y="366"/>
                  </a:lnTo>
                  <a:lnTo>
                    <a:pt x="76" y="377"/>
                  </a:lnTo>
                  <a:lnTo>
                    <a:pt x="75" y="388"/>
                  </a:lnTo>
                  <a:lnTo>
                    <a:pt x="74" y="398"/>
                  </a:lnTo>
                  <a:lnTo>
                    <a:pt x="74" y="408"/>
                  </a:lnTo>
                  <a:lnTo>
                    <a:pt x="74" y="426"/>
                  </a:lnTo>
                  <a:lnTo>
                    <a:pt x="74" y="443"/>
                  </a:lnTo>
                  <a:lnTo>
                    <a:pt x="73" y="452"/>
                  </a:lnTo>
                  <a:lnTo>
                    <a:pt x="70" y="460"/>
                  </a:lnTo>
                  <a:lnTo>
                    <a:pt x="68" y="469"/>
                  </a:lnTo>
                  <a:lnTo>
                    <a:pt x="63" y="478"/>
                  </a:lnTo>
                  <a:lnTo>
                    <a:pt x="59" y="487"/>
                  </a:lnTo>
                  <a:lnTo>
                    <a:pt x="52" y="498"/>
                  </a:lnTo>
                  <a:lnTo>
                    <a:pt x="42" y="508"/>
                  </a:lnTo>
                  <a:lnTo>
                    <a:pt x="32" y="519"/>
                  </a:lnTo>
                  <a:lnTo>
                    <a:pt x="35" y="535"/>
                  </a:lnTo>
                  <a:lnTo>
                    <a:pt x="36" y="551"/>
                  </a:lnTo>
                  <a:lnTo>
                    <a:pt x="37" y="568"/>
                  </a:lnTo>
                  <a:lnTo>
                    <a:pt x="39" y="585"/>
                  </a:lnTo>
                  <a:lnTo>
                    <a:pt x="37" y="603"/>
                  </a:lnTo>
                  <a:lnTo>
                    <a:pt x="37" y="619"/>
                  </a:lnTo>
                  <a:lnTo>
                    <a:pt x="35" y="637"/>
                  </a:lnTo>
                  <a:lnTo>
                    <a:pt x="33" y="654"/>
                  </a:lnTo>
                  <a:lnTo>
                    <a:pt x="27" y="689"/>
                  </a:lnTo>
                  <a:lnTo>
                    <a:pt x="20" y="724"/>
                  </a:lnTo>
                  <a:lnTo>
                    <a:pt x="11" y="758"/>
                  </a:lnTo>
                  <a:lnTo>
                    <a:pt x="0" y="792"/>
                  </a:lnTo>
                  <a:lnTo>
                    <a:pt x="709" y="717"/>
                  </a:lnTo>
                  <a:lnTo>
                    <a:pt x="712" y="717"/>
                  </a:lnTo>
                  <a:lnTo>
                    <a:pt x="1466" y="631"/>
                  </a:lnTo>
                  <a:lnTo>
                    <a:pt x="1967" y="576"/>
                  </a:lnTo>
                  <a:lnTo>
                    <a:pt x="1972" y="563"/>
                  </a:lnTo>
                  <a:lnTo>
                    <a:pt x="1981" y="545"/>
                  </a:lnTo>
                  <a:lnTo>
                    <a:pt x="1982" y="541"/>
                  </a:lnTo>
                  <a:lnTo>
                    <a:pt x="1984" y="536"/>
                  </a:lnTo>
                  <a:lnTo>
                    <a:pt x="1985" y="530"/>
                  </a:lnTo>
                  <a:lnTo>
                    <a:pt x="1985" y="526"/>
                  </a:lnTo>
                  <a:lnTo>
                    <a:pt x="1984" y="520"/>
                  </a:lnTo>
                  <a:lnTo>
                    <a:pt x="1981" y="515"/>
                  </a:lnTo>
                  <a:lnTo>
                    <a:pt x="1978" y="509"/>
                  </a:lnTo>
                  <a:lnTo>
                    <a:pt x="1973" y="505"/>
                  </a:lnTo>
                  <a:lnTo>
                    <a:pt x="1972" y="501"/>
                  </a:lnTo>
                  <a:lnTo>
                    <a:pt x="1971" y="499"/>
                  </a:lnTo>
                  <a:lnTo>
                    <a:pt x="1971" y="495"/>
                  </a:lnTo>
                  <a:lnTo>
                    <a:pt x="1972" y="491"/>
                  </a:lnTo>
                  <a:lnTo>
                    <a:pt x="1977" y="480"/>
                  </a:lnTo>
                  <a:lnTo>
                    <a:pt x="1984" y="469"/>
                  </a:lnTo>
                  <a:lnTo>
                    <a:pt x="1993" y="457"/>
                  </a:lnTo>
                  <a:lnTo>
                    <a:pt x="2006" y="443"/>
                  </a:lnTo>
                  <a:lnTo>
                    <a:pt x="2021" y="429"/>
                  </a:lnTo>
                  <a:lnTo>
                    <a:pt x="2037" y="413"/>
                  </a:lnTo>
                  <a:lnTo>
                    <a:pt x="2056" y="399"/>
                  </a:lnTo>
                  <a:lnTo>
                    <a:pt x="2076" y="385"/>
                  </a:lnTo>
                  <a:lnTo>
                    <a:pt x="2097" y="373"/>
                  </a:lnTo>
                  <a:lnTo>
                    <a:pt x="2119" y="361"/>
                  </a:lnTo>
                  <a:lnTo>
                    <a:pt x="2142" y="352"/>
                  </a:lnTo>
                  <a:lnTo>
                    <a:pt x="2166" y="343"/>
                  </a:lnTo>
                  <a:lnTo>
                    <a:pt x="2178" y="340"/>
                  </a:lnTo>
                  <a:lnTo>
                    <a:pt x="2189" y="337"/>
                  </a:lnTo>
                  <a:lnTo>
                    <a:pt x="2201" y="335"/>
                  </a:lnTo>
                  <a:lnTo>
                    <a:pt x="2213" y="334"/>
                  </a:lnTo>
                  <a:lnTo>
                    <a:pt x="2227" y="333"/>
                  </a:lnTo>
                  <a:lnTo>
                    <a:pt x="2239" y="329"/>
                  </a:lnTo>
                  <a:lnTo>
                    <a:pt x="2252" y="326"/>
                  </a:lnTo>
                  <a:lnTo>
                    <a:pt x="2264" y="322"/>
                  </a:lnTo>
                  <a:lnTo>
                    <a:pt x="2276" y="316"/>
                  </a:lnTo>
                  <a:lnTo>
                    <a:pt x="2286" y="312"/>
                  </a:lnTo>
                  <a:lnTo>
                    <a:pt x="2297" y="305"/>
                  </a:lnTo>
                  <a:lnTo>
                    <a:pt x="2306" y="299"/>
                  </a:lnTo>
                  <a:lnTo>
                    <a:pt x="2325" y="284"/>
                  </a:lnTo>
                  <a:lnTo>
                    <a:pt x="2342" y="267"/>
                  </a:lnTo>
                  <a:lnTo>
                    <a:pt x="2359" y="251"/>
                  </a:lnTo>
                  <a:lnTo>
                    <a:pt x="2374" y="234"/>
                  </a:lnTo>
                  <a:lnTo>
                    <a:pt x="2389" y="216"/>
                  </a:lnTo>
                  <a:lnTo>
                    <a:pt x="2405" y="198"/>
                  </a:lnTo>
                  <a:lnTo>
                    <a:pt x="2420" y="183"/>
                  </a:lnTo>
                  <a:lnTo>
                    <a:pt x="2437" y="168"/>
                  </a:lnTo>
                  <a:lnTo>
                    <a:pt x="2445" y="161"/>
                  </a:lnTo>
                  <a:lnTo>
                    <a:pt x="2453" y="155"/>
                  </a:lnTo>
                  <a:lnTo>
                    <a:pt x="2463" y="149"/>
                  </a:lnTo>
                  <a:lnTo>
                    <a:pt x="2472" y="145"/>
                  </a:lnTo>
                  <a:lnTo>
                    <a:pt x="2482" y="140"/>
                  </a:lnTo>
                  <a:lnTo>
                    <a:pt x="2493" y="137"/>
                  </a:lnTo>
                  <a:lnTo>
                    <a:pt x="2503" y="134"/>
                  </a:lnTo>
                  <a:lnTo>
                    <a:pt x="2515" y="132"/>
                  </a:lnTo>
                  <a:lnTo>
                    <a:pt x="2522" y="132"/>
                  </a:lnTo>
                  <a:lnTo>
                    <a:pt x="2528" y="130"/>
                  </a:lnTo>
                  <a:lnTo>
                    <a:pt x="2534" y="127"/>
                  </a:lnTo>
                  <a:lnTo>
                    <a:pt x="2538" y="125"/>
                  </a:lnTo>
                  <a:lnTo>
                    <a:pt x="2547" y="119"/>
                  </a:lnTo>
                  <a:lnTo>
                    <a:pt x="2554" y="111"/>
                  </a:lnTo>
                  <a:lnTo>
                    <a:pt x="2558" y="103"/>
                  </a:lnTo>
                  <a:lnTo>
                    <a:pt x="2563" y="93"/>
                  </a:lnTo>
                  <a:lnTo>
                    <a:pt x="2565" y="83"/>
                  </a:lnTo>
                  <a:lnTo>
                    <a:pt x="2568" y="71"/>
                  </a:lnTo>
                  <a:lnTo>
                    <a:pt x="2570" y="50"/>
                  </a:lnTo>
                  <a:lnTo>
                    <a:pt x="2572" y="29"/>
                  </a:lnTo>
                  <a:lnTo>
                    <a:pt x="2576" y="20"/>
                  </a:lnTo>
                  <a:lnTo>
                    <a:pt x="2578" y="12"/>
                  </a:lnTo>
                  <a:lnTo>
                    <a:pt x="2583" y="6"/>
                  </a:lnTo>
                  <a:lnTo>
                    <a:pt x="2590" y="0"/>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28" name="Freeform 1435"/>
            <p:cNvSpPr/>
            <p:nvPr/>
          </p:nvSpPr>
          <p:spPr>
            <a:xfrm>
              <a:off x="4975560" y="4874040"/>
              <a:ext cx="383760" cy="135360"/>
            </a:xfrm>
            <a:custGeom>
              <a:avLst/>
              <a:gdLst>
                <a:gd name="textAreaLeft" fmla="*/ 0 w 383760"/>
                <a:gd name="textAreaRight" fmla="*/ 384120 w 383760"/>
                <a:gd name="textAreaTop" fmla="*/ 0 h 135360"/>
                <a:gd name="textAreaBottom" fmla="*/ 135720 h 135360"/>
              </a:gdLst>
              <a:ahLst/>
              <a:rect l="textAreaLeft" t="textAreaTop" r="textAreaRight" b="textAreaBottom"/>
              <a:pathLst>
                <a:path w="2135" h="893">
                  <a:moveTo>
                    <a:pt x="1872" y="611"/>
                  </a:moveTo>
                  <a:lnTo>
                    <a:pt x="535" y="792"/>
                  </a:lnTo>
                  <a:lnTo>
                    <a:pt x="518" y="838"/>
                  </a:lnTo>
                  <a:lnTo>
                    <a:pt x="0" y="893"/>
                  </a:lnTo>
                  <a:lnTo>
                    <a:pt x="7" y="870"/>
                  </a:lnTo>
                  <a:lnTo>
                    <a:pt x="16" y="849"/>
                  </a:lnTo>
                  <a:lnTo>
                    <a:pt x="25" y="829"/>
                  </a:lnTo>
                  <a:lnTo>
                    <a:pt x="37" y="812"/>
                  </a:lnTo>
                  <a:lnTo>
                    <a:pt x="49" y="794"/>
                  </a:lnTo>
                  <a:lnTo>
                    <a:pt x="63" y="778"/>
                  </a:lnTo>
                  <a:lnTo>
                    <a:pt x="79" y="764"/>
                  </a:lnTo>
                  <a:lnTo>
                    <a:pt x="95" y="751"/>
                  </a:lnTo>
                  <a:lnTo>
                    <a:pt x="110" y="737"/>
                  </a:lnTo>
                  <a:lnTo>
                    <a:pt x="125" y="725"/>
                  </a:lnTo>
                  <a:lnTo>
                    <a:pt x="139" y="716"/>
                  </a:lnTo>
                  <a:lnTo>
                    <a:pt x="153" y="708"/>
                  </a:lnTo>
                  <a:lnTo>
                    <a:pt x="180" y="695"/>
                  </a:lnTo>
                  <a:lnTo>
                    <a:pt x="206" y="682"/>
                  </a:lnTo>
                  <a:lnTo>
                    <a:pt x="219" y="675"/>
                  </a:lnTo>
                  <a:lnTo>
                    <a:pt x="232" y="666"/>
                  </a:lnTo>
                  <a:lnTo>
                    <a:pt x="246" y="655"/>
                  </a:lnTo>
                  <a:lnTo>
                    <a:pt x="259" y="643"/>
                  </a:lnTo>
                  <a:lnTo>
                    <a:pt x="273" y="627"/>
                  </a:lnTo>
                  <a:lnTo>
                    <a:pt x="287" y="609"/>
                  </a:lnTo>
                  <a:lnTo>
                    <a:pt x="302" y="585"/>
                  </a:lnTo>
                  <a:lnTo>
                    <a:pt x="317" y="558"/>
                  </a:lnTo>
                  <a:lnTo>
                    <a:pt x="326" y="539"/>
                  </a:lnTo>
                  <a:lnTo>
                    <a:pt x="331" y="527"/>
                  </a:lnTo>
                  <a:lnTo>
                    <a:pt x="336" y="520"/>
                  </a:lnTo>
                  <a:lnTo>
                    <a:pt x="344" y="509"/>
                  </a:lnTo>
                  <a:lnTo>
                    <a:pt x="359" y="495"/>
                  </a:lnTo>
                  <a:lnTo>
                    <a:pt x="380" y="476"/>
                  </a:lnTo>
                  <a:lnTo>
                    <a:pt x="391" y="466"/>
                  </a:lnTo>
                  <a:lnTo>
                    <a:pt x="402" y="458"/>
                  </a:lnTo>
                  <a:lnTo>
                    <a:pt x="415" y="451"/>
                  </a:lnTo>
                  <a:lnTo>
                    <a:pt x="430" y="444"/>
                  </a:lnTo>
                  <a:lnTo>
                    <a:pt x="444" y="438"/>
                  </a:lnTo>
                  <a:lnTo>
                    <a:pt x="461" y="432"/>
                  </a:lnTo>
                  <a:lnTo>
                    <a:pt x="478" y="428"/>
                  </a:lnTo>
                  <a:lnTo>
                    <a:pt x="496" y="423"/>
                  </a:lnTo>
                  <a:lnTo>
                    <a:pt x="575" y="407"/>
                  </a:lnTo>
                  <a:lnTo>
                    <a:pt x="663" y="391"/>
                  </a:lnTo>
                  <a:lnTo>
                    <a:pt x="708" y="382"/>
                  </a:lnTo>
                  <a:lnTo>
                    <a:pt x="755" y="370"/>
                  </a:lnTo>
                  <a:lnTo>
                    <a:pt x="778" y="363"/>
                  </a:lnTo>
                  <a:lnTo>
                    <a:pt x="802" y="356"/>
                  </a:lnTo>
                  <a:lnTo>
                    <a:pt x="825" y="348"/>
                  </a:lnTo>
                  <a:lnTo>
                    <a:pt x="848" y="340"/>
                  </a:lnTo>
                  <a:lnTo>
                    <a:pt x="872" y="330"/>
                  </a:lnTo>
                  <a:lnTo>
                    <a:pt x="894" y="319"/>
                  </a:lnTo>
                  <a:lnTo>
                    <a:pt x="916" y="306"/>
                  </a:lnTo>
                  <a:lnTo>
                    <a:pt x="938" y="293"/>
                  </a:lnTo>
                  <a:lnTo>
                    <a:pt x="961" y="279"/>
                  </a:lnTo>
                  <a:lnTo>
                    <a:pt x="982" y="263"/>
                  </a:lnTo>
                  <a:lnTo>
                    <a:pt x="1003" y="247"/>
                  </a:lnTo>
                  <a:lnTo>
                    <a:pt x="1022" y="228"/>
                  </a:lnTo>
                  <a:lnTo>
                    <a:pt x="1041" y="208"/>
                  </a:lnTo>
                  <a:lnTo>
                    <a:pt x="1054" y="191"/>
                  </a:lnTo>
                  <a:lnTo>
                    <a:pt x="1059" y="182"/>
                  </a:lnTo>
                  <a:lnTo>
                    <a:pt x="1062" y="175"/>
                  </a:lnTo>
                  <a:lnTo>
                    <a:pt x="1066" y="168"/>
                  </a:lnTo>
                  <a:lnTo>
                    <a:pt x="1068" y="161"/>
                  </a:lnTo>
                  <a:lnTo>
                    <a:pt x="1070" y="150"/>
                  </a:lnTo>
                  <a:lnTo>
                    <a:pt x="1070" y="139"/>
                  </a:lnTo>
                  <a:lnTo>
                    <a:pt x="1068" y="130"/>
                  </a:lnTo>
                  <a:lnTo>
                    <a:pt x="1067" y="120"/>
                  </a:lnTo>
                  <a:lnTo>
                    <a:pt x="1065" y="112"/>
                  </a:lnTo>
                  <a:lnTo>
                    <a:pt x="1062" y="104"/>
                  </a:lnTo>
                  <a:lnTo>
                    <a:pt x="1062" y="96"/>
                  </a:lnTo>
                  <a:lnTo>
                    <a:pt x="1063" y="87"/>
                  </a:lnTo>
                  <a:lnTo>
                    <a:pt x="1066" y="82"/>
                  </a:lnTo>
                  <a:lnTo>
                    <a:pt x="1068" y="77"/>
                  </a:lnTo>
                  <a:lnTo>
                    <a:pt x="1072" y="71"/>
                  </a:lnTo>
                  <a:lnTo>
                    <a:pt x="1076" y="66"/>
                  </a:lnTo>
                  <a:lnTo>
                    <a:pt x="1089" y="54"/>
                  </a:lnTo>
                  <a:lnTo>
                    <a:pt x="1105" y="40"/>
                  </a:lnTo>
                  <a:lnTo>
                    <a:pt x="1109" y="36"/>
                  </a:lnTo>
                  <a:lnTo>
                    <a:pt x="1112" y="34"/>
                  </a:lnTo>
                  <a:lnTo>
                    <a:pt x="1116" y="32"/>
                  </a:lnTo>
                  <a:lnTo>
                    <a:pt x="1121" y="30"/>
                  </a:lnTo>
                  <a:lnTo>
                    <a:pt x="1131" y="28"/>
                  </a:lnTo>
                  <a:lnTo>
                    <a:pt x="1142" y="28"/>
                  </a:lnTo>
                  <a:lnTo>
                    <a:pt x="1153" y="27"/>
                  </a:lnTo>
                  <a:lnTo>
                    <a:pt x="1164" y="25"/>
                  </a:lnTo>
                  <a:lnTo>
                    <a:pt x="1170" y="22"/>
                  </a:lnTo>
                  <a:lnTo>
                    <a:pt x="1174" y="20"/>
                  </a:lnTo>
                  <a:lnTo>
                    <a:pt x="1179" y="16"/>
                  </a:lnTo>
                  <a:lnTo>
                    <a:pt x="1184" y="12"/>
                  </a:lnTo>
                  <a:lnTo>
                    <a:pt x="1186" y="8"/>
                  </a:lnTo>
                  <a:lnTo>
                    <a:pt x="1190" y="6"/>
                  </a:lnTo>
                  <a:lnTo>
                    <a:pt x="1193" y="5"/>
                  </a:lnTo>
                  <a:lnTo>
                    <a:pt x="1197" y="2"/>
                  </a:lnTo>
                  <a:lnTo>
                    <a:pt x="1206" y="1"/>
                  </a:lnTo>
                  <a:lnTo>
                    <a:pt x="1216" y="0"/>
                  </a:lnTo>
                  <a:lnTo>
                    <a:pt x="1229" y="0"/>
                  </a:lnTo>
                  <a:lnTo>
                    <a:pt x="1242" y="1"/>
                  </a:lnTo>
                  <a:lnTo>
                    <a:pt x="1255" y="4"/>
                  </a:lnTo>
                  <a:lnTo>
                    <a:pt x="1269" y="6"/>
                  </a:lnTo>
                  <a:lnTo>
                    <a:pt x="1296" y="11"/>
                  </a:lnTo>
                  <a:lnTo>
                    <a:pt x="1320" y="15"/>
                  </a:lnTo>
                  <a:lnTo>
                    <a:pt x="1331" y="18"/>
                  </a:lnTo>
                  <a:lnTo>
                    <a:pt x="1340" y="18"/>
                  </a:lnTo>
                  <a:lnTo>
                    <a:pt x="1348" y="19"/>
                  </a:lnTo>
                  <a:lnTo>
                    <a:pt x="1353" y="18"/>
                  </a:lnTo>
                  <a:lnTo>
                    <a:pt x="1358" y="16"/>
                  </a:lnTo>
                  <a:lnTo>
                    <a:pt x="1364" y="18"/>
                  </a:lnTo>
                  <a:lnTo>
                    <a:pt x="1369" y="20"/>
                  </a:lnTo>
                  <a:lnTo>
                    <a:pt x="1376" y="23"/>
                  </a:lnTo>
                  <a:lnTo>
                    <a:pt x="1390" y="30"/>
                  </a:lnTo>
                  <a:lnTo>
                    <a:pt x="1404" y="40"/>
                  </a:lnTo>
                  <a:lnTo>
                    <a:pt x="1420" y="48"/>
                  </a:lnTo>
                  <a:lnTo>
                    <a:pt x="1435" y="53"/>
                  </a:lnTo>
                  <a:lnTo>
                    <a:pt x="1442" y="54"/>
                  </a:lnTo>
                  <a:lnTo>
                    <a:pt x="1449" y="54"/>
                  </a:lnTo>
                  <a:lnTo>
                    <a:pt x="1455" y="53"/>
                  </a:lnTo>
                  <a:lnTo>
                    <a:pt x="1461" y="49"/>
                  </a:lnTo>
                  <a:lnTo>
                    <a:pt x="1466" y="44"/>
                  </a:lnTo>
                  <a:lnTo>
                    <a:pt x="1473" y="41"/>
                  </a:lnTo>
                  <a:lnTo>
                    <a:pt x="1482" y="37"/>
                  </a:lnTo>
                  <a:lnTo>
                    <a:pt x="1490" y="34"/>
                  </a:lnTo>
                  <a:lnTo>
                    <a:pt x="1508" y="29"/>
                  </a:lnTo>
                  <a:lnTo>
                    <a:pt x="1529" y="25"/>
                  </a:lnTo>
                  <a:lnTo>
                    <a:pt x="1552" y="21"/>
                  </a:lnTo>
                  <a:lnTo>
                    <a:pt x="1576" y="19"/>
                  </a:lnTo>
                  <a:lnTo>
                    <a:pt x="1603" y="18"/>
                  </a:lnTo>
                  <a:lnTo>
                    <a:pt x="1630" y="18"/>
                  </a:lnTo>
                  <a:lnTo>
                    <a:pt x="1653" y="18"/>
                  </a:lnTo>
                  <a:lnTo>
                    <a:pt x="1673" y="19"/>
                  </a:lnTo>
                  <a:lnTo>
                    <a:pt x="1689" y="23"/>
                  </a:lnTo>
                  <a:lnTo>
                    <a:pt x="1704" y="29"/>
                  </a:lnTo>
                  <a:lnTo>
                    <a:pt x="1716" y="36"/>
                  </a:lnTo>
                  <a:lnTo>
                    <a:pt x="1729" y="44"/>
                  </a:lnTo>
                  <a:lnTo>
                    <a:pt x="1741" y="53"/>
                  </a:lnTo>
                  <a:lnTo>
                    <a:pt x="1753" y="63"/>
                  </a:lnTo>
                  <a:lnTo>
                    <a:pt x="1764" y="74"/>
                  </a:lnTo>
                  <a:lnTo>
                    <a:pt x="1778" y="84"/>
                  </a:lnTo>
                  <a:lnTo>
                    <a:pt x="1795" y="95"/>
                  </a:lnTo>
                  <a:lnTo>
                    <a:pt x="1813" y="105"/>
                  </a:lnTo>
                  <a:lnTo>
                    <a:pt x="1834" y="116"/>
                  </a:lnTo>
                  <a:lnTo>
                    <a:pt x="1860" y="125"/>
                  </a:lnTo>
                  <a:lnTo>
                    <a:pt x="1889" y="133"/>
                  </a:lnTo>
                  <a:lnTo>
                    <a:pt x="1924" y="141"/>
                  </a:lnTo>
                  <a:lnTo>
                    <a:pt x="1920" y="146"/>
                  </a:lnTo>
                  <a:lnTo>
                    <a:pt x="1917" y="152"/>
                  </a:lnTo>
                  <a:lnTo>
                    <a:pt x="1916" y="158"/>
                  </a:lnTo>
                  <a:lnTo>
                    <a:pt x="1915" y="165"/>
                  </a:lnTo>
                  <a:lnTo>
                    <a:pt x="1916" y="173"/>
                  </a:lnTo>
                  <a:lnTo>
                    <a:pt x="1918" y="181"/>
                  </a:lnTo>
                  <a:lnTo>
                    <a:pt x="1921" y="189"/>
                  </a:lnTo>
                  <a:lnTo>
                    <a:pt x="1925" y="196"/>
                  </a:lnTo>
                  <a:lnTo>
                    <a:pt x="1930" y="205"/>
                  </a:lnTo>
                  <a:lnTo>
                    <a:pt x="1937" y="213"/>
                  </a:lnTo>
                  <a:lnTo>
                    <a:pt x="1944" y="220"/>
                  </a:lnTo>
                  <a:lnTo>
                    <a:pt x="1953" y="226"/>
                  </a:lnTo>
                  <a:lnTo>
                    <a:pt x="1964" y="231"/>
                  </a:lnTo>
                  <a:lnTo>
                    <a:pt x="1975" y="236"/>
                  </a:lnTo>
                  <a:lnTo>
                    <a:pt x="1987" y="240"/>
                  </a:lnTo>
                  <a:lnTo>
                    <a:pt x="2001" y="242"/>
                  </a:lnTo>
                  <a:lnTo>
                    <a:pt x="2015" y="242"/>
                  </a:lnTo>
                  <a:lnTo>
                    <a:pt x="2029" y="244"/>
                  </a:lnTo>
                  <a:lnTo>
                    <a:pt x="2043" y="249"/>
                  </a:lnTo>
                  <a:lnTo>
                    <a:pt x="2060" y="256"/>
                  </a:lnTo>
                  <a:lnTo>
                    <a:pt x="2094" y="272"/>
                  </a:lnTo>
                  <a:lnTo>
                    <a:pt x="2135" y="291"/>
                  </a:lnTo>
                  <a:lnTo>
                    <a:pt x="2124" y="297"/>
                  </a:lnTo>
                  <a:lnTo>
                    <a:pt x="2114" y="301"/>
                  </a:lnTo>
                  <a:lnTo>
                    <a:pt x="2103" y="305"/>
                  </a:lnTo>
                  <a:lnTo>
                    <a:pt x="2094" y="306"/>
                  </a:lnTo>
                  <a:lnTo>
                    <a:pt x="2076" y="308"/>
                  </a:lnTo>
                  <a:lnTo>
                    <a:pt x="2061" y="310"/>
                  </a:lnTo>
                  <a:lnTo>
                    <a:pt x="2055" y="311"/>
                  </a:lnTo>
                  <a:lnTo>
                    <a:pt x="2050" y="313"/>
                  </a:lnTo>
                  <a:lnTo>
                    <a:pt x="2047" y="317"/>
                  </a:lnTo>
                  <a:lnTo>
                    <a:pt x="2045" y="320"/>
                  </a:lnTo>
                  <a:lnTo>
                    <a:pt x="2045" y="326"/>
                  </a:lnTo>
                  <a:lnTo>
                    <a:pt x="2047" y="334"/>
                  </a:lnTo>
                  <a:lnTo>
                    <a:pt x="2050" y="345"/>
                  </a:lnTo>
                  <a:lnTo>
                    <a:pt x="2056" y="358"/>
                  </a:lnTo>
                  <a:lnTo>
                    <a:pt x="2060" y="365"/>
                  </a:lnTo>
                  <a:lnTo>
                    <a:pt x="2061" y="373"/>
                  </a:lnTo>
                  <a:lnTo>
                    <a:pt x="2062" y="381"/>
                  </a:lnTo>
                  <a:lnTo>
                    <a:pt x="2063" y="389"/>
                  </a:lnTo>
                  <a:lnTo>
                    <a:pt x="2062" y="398"/>
                  </a:lnTo>
                  <a:lnTo>
                    <a:pt x="2061" y="408"/>
                  </a:lnTo>
                  <a:lnTo>
                    <a:pt x="2059" y="417"/>
                  </a:lnTo>
                  <a:lnTo>
                    <a:pt x="2056" y="426"/>
                  </a:lnTo>
                  <a:lnTo>
                    <a:pt x="2049" y="445"/>
                  </a:lnTo>
                  <a:lnTo>
                    <a:pt x="2039" y="465"/>
                  </a:lnTo>
                  <a:lnTo>
                    <a:pt x="2027" y="485"/>
                  </a:lnTo>
                  <a:lnTo>
                    <a:pt x="2013" y="505"/>
                  </a:lnTo>
                  <a:lnTo>
                    <a:pt x="1998" y="523"/>
                  </a:lnTo>
                  <a:lnTo>
                    <a:pt x="1980" y="541"/>
                  </a:lnTo>
                  <a:lnTo>
                    <a:pt x="1963" y="557"/>
                  </a:lnTo>
                  <a:lnTo>
                    <a:pt x="1945" y="572"/>
                  </a:lnTo>
                  <a:lnTo>
                    <a:pt x="1927" y="585"/>
                  </a:lnTo>
                  <a:lnTo>
                    <a:pt x="1908" y="596"/>
                  </a:lnTo>
                  <a:lnTo>
                    <a:pt x="1889" y="605"/>
                  </a:lnTo>
                  <a:lnTo>
                    <a:pt x="1872" y="61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29" name="Freeform 1436"/>
            <p:cNvSpPr/>
            <p:nvPr/>
          </p:nvSpPr>
          <p:spPr>
            <a:xfrm>
              <a:off x="4975560" y="4874040"/>
              <a:ext cx="383760" cy="135360"/>
            </a:xfrm>
            <a:custGeom>
              <a:avLst/>
              <a:gdLst>
                <a:gd name="textAreaLeft" fmla="*/ 0 w 383760"/>
                <a:gd name="textAreaRight" fmla="*/ 384120 w 383760"/>
                <a:gd name="textAreaTop" fmla="*/ 0 h 135360"/>
                <a:gd name="textAreaBottom" fmla="*/ 135720 h 135360"/>
              </a:gdLst>
              <a:ahLst/>
              <a:rect l="textAreaLeft" t="textAreaTop" r="textAreaRight" b="textAreaBottom"/>
              <a:pathLst>
                <a:path w="2135" h="893">
                  <a:moveTo>
                    <a:pt x="1872" y="611"/>
                  </a:moveTo>
                  <a:lnTo>
                    <a:pt x="535" y="792"/>
                  </a:lnTo>
                  <a:lnTo>
                    <a:pt x="518" y="838"/>
                  </a:lnTo>
                  <a:lnTo>
                    <a:pt x="0" y="893"/>
                  </a:lnTo>
                  <a:lnTo>
                    <a:pt x="7" y="870"/>
                  </a:lnTo>
                  <a:lnTo>
                    <a:pt x="16" y="849"/>
                  </a:lnTo>
                  <a:lnTo>
                    <a:pt x="25" y="829"/>
                  </a:lnTo>
                  <a:lnTo>
                    <a:pt x="37" y="812"/>
                  </a:lnTo>
                  <a:lnTo>
                    <a:pt x="49" y="794"/>
                  </a:lnTo>
                  <a:lnTo>
                    <a:pt x="63" y="778"/>
                  </a:lnTo>
                  <a:lnTo>
                    <a:pt x="79" y="764"/>
                  </a:lnTo>
                  <a:lnTo>
                    <a:pt x="95" y="751"/>
                  </a:lnTo>
                  <a:lnTo>
                    <a:pt x="110" y="737"/>
                  </a:lnTo>
                  <a:lnTo>
                    <a:pt x="125" y="725"/>
                  </a:lnTo>
                  <a:lnTo>
                    <a:pt x="139" y="716"/>
                  </a:lnTo>
                  <a:lnTo>
                    <a:pt x="153" y="708"/>
                  </a:lnTo>
                  <a:lnTo>
                    <a:pt x="180" y="695"/>
                  </a:lnTo>
                  <a:lnTo>
                    <a:pt x="206" y="682"/>
                  </a:lnTo>
                  <a:lnTo>
                    <a:pt x="219" y="675"/>
                  </a:lnTo>
                  <a:lnTo>
                    <a:pt x="232" y="666"/>
                  </a:lnTo>
                  <a:lnTo>
                    <a:pt x="246" y="655"/>
                  </a:lnTo>
                  <a:lnTo>
                    <a:pt x="259" y="643"/>
                  </a:lnTo>
                  <a:lnTo>
                    <a:pt x="273" y="627"/>
                  </a:lnTo>
                  <a:lnTo>
                    <a:pt x="287" y="609"/>
                  </a:lnTo>
                  <a:lnTo>
                    <a:pt x="302" y="585"/>
                  </a:lnTo>
                  <a:lnTo>
                    <a:pt x="317" y="558"/>
                  </a:lnTo>
                  <a:lnTo>
                    <a:pt x="326" y="539"/>
                  </a:lnTo>
                  <a:lnTo>
                    <a:pt x="331" y="527"/>
                  </a:lnTo>
                  <a:lnTo>
                    <a:pt x="336" y="520"/>
                  </a:lnTo>
                  <a:lnTo>
                    <a:pt x="344" y="509"/>
                  </a:lnTo>
                  <a:lnTo>
                    <a:pt x="359" y="495"/>
                  </a:lnTo>
                  <a:lnTo>
                    <a:pt x="380" y="476"/>
                  </a:lnTo>
                  <a:lnTo>
                    <a:pt x="391" y="466"/>
                  </a:lnTo>
                  <a:lnTo>
                    <a:pt x="402" y="458"/>
                  </a:lnTo>
                  <a:lnTo>
                    <a:pt x="415" y="451"/>
                  </a:lnTo>
                  <a:lnTo>
                    <a:pt x="430" y="444"/>
                  </a:lnTo>
                  <a:lnTo>
                    <a:pt x="444" y="438"/>
                  </a:lnTo>
                  <a:lnTo>
                    <a:pt x="461" y="432"/>
                  </a:lnTo>
                  <a:lnTo>
                    <a:pt x="478" y="428"/>
                  </a:lnTo>
                  <a:lnTo>
                    <a:pt x="496" y="423"/>
                  </a:lnTo>
                  <a:lnTo>
                    <a:pt x="575" y="407"/>
                  </a:lnTo>
                  <a:lnTo>
                    <a:pt x="663" y="391"/>
                  </a:lnTo>
                  <a:lnTo>
                    <a:pt x="708" y="382"/>
                  </a:lnTo>
                  <a:lnTo>
                    <a:pt x="755" y="370"/>
                  </a:lnTo>
                  <a:lnTo>
                    <a:pt x="778" y="363"/>
                  </a:lnTo>
                  <a:lnTo>
                    <a:pt x="802" y="356"/>
                  </a:lnTo>
                  <a:lnTo>
                    <a:pt x="825" y="348"/>
                  </a:lnTo>
                  <a:lnTo>
                    <a:pt x="848" y="340"/>
                  </a:lnTo>
                  <a:lnTo>
                    <a:pt x="872" y="330"/>
                  </a:lnTo>
                  <a:lnTo>
                    <a:pt x="894" y="319"/>
                  </a:lnTo>
                  <a:lnTo>
                    <a:pt x="916" y="306"/>
                  </a:lnTo>
                  <a:lnTo>
                    <a:pt x="938" y="293"/>
                  </a:lnTo>
                  <a:lnTo>
                    <a:pt x="961" y="279"/>
                  </a:lnTo>
                  <a:lnTo>
                    <a:pt x="982" y="263"/>
                  </a:lnTo>
                  <a:lnTo>
                    <a:pt x="1003" y="247"/>
                  </a:lnTo>
                  <a:lnTo>
                    <a:pt x="1022" y="228"/>
                  </a:lnTo>
                  <a:lnTo>
                    <a:pt x="1041" y="208"/>
                  </a:lnTo>
                  <a:lnTo>
                    <a:pt x="1054" y="191"/>
                  </a:lnTo>
                  <a:lnTo>
                    <a:pt x="1059" y="182"/>
                  </a:lnTo>
                  <a:lnTo>
                    <a:pt x="1062" y="175"/>
                  </a:lnTo>
                  <a:lnTo>
                    <a:pt x="1066" y="168"/>
                  </a:lnTo>
                  <a:lnTo>
                    <a:pt x="1068" y="161"/>
                  </a:lnTo>
                  <a:lnTo>
                    <a:pt x="1070" y="150"/>
                  </a:lnTo>
                  <a:lnTo>
                    <a:pt x="1070" y="139"/>
                  </a:lnTo>
                  <a:lnTo>
                    <a:pt x="1068" y="130"/>
                  </a:lnTo>
                  <a:lnTo>
                    <a:pt x="1067" y="120"/>
                  </a:lnTo>
                  <a:lnTo>
                    <a:pt x="1065" y="112"/>
                  </a:lnTo>
                  <a:lnTo>
                    <a:pt x="1062" y="104"/>
                  </a:lnTo>
                  <a:lnTo>
                    <a:pt x="1062" y="96"/>
                  </a:lnTo>
                  <a:lnTo>
                    <a:pt x="1063" y="87"/>
                  </a:lnTo>
                  <a:lnTo>
                    <a:pt x="1066" y="82"/>
                  </a:lnTo>
                  <a:lnTo>
                    <a:pt x="1068" y="77"/>
                  </a:lnTo>
                  <a:lnTo>
                    <a:pt x="1072" y="71"/>
                  </a:lnTo>
                  <a:lnTo>
                    <a:pt x="1076" y="66"/>
                  </a:lnTo>
                  <a:lnTo>
                    <a:pt x="1089" y="54"/>
                  </a:lnTo>
                  <a:lnTo>
                    <a:pt x="1105" y="40"/>
                  </a:lnTo>
                  <a:lnTo>
                    <a:pt x="1109" y="36"/>
                  </a:lnTo>
                  <a:lnTo>
                    <a:pt x="1112" y="34"/>
                  </a:lnTo>
                  <a:lnTo>
                    <a:pt x="1116" y="32"/>
                  </a:lnTo>
                  <a:lnTo>
                    <a:pt x="1121" y="30"/>
                  </a:lnTo>
                  <a:lnTo>
                    <a:pt x="1131" y="28"/>
                  </a:lnTo>
                  <a:lnTo>
                    <a:pt x="1142" y="28"/>
                  </a:lnTo>
                  <a:lnTo>
                    <a:pt x="1153" y="27"/>
                  </a:lnTo>
                  <a:lnTo>
                    <a:pt x="1164" y="25"/>
                  </a:lnTo>
                  <a:lnTo>
                    <a:pt x="1170" y="22"/>
                  </a:lnTo>
                  <a:lnTo>
                    <a:pt x="1174" y="20"/>
                  </a:lnTo>
                  <a:lnTo>
                    <a:pt x="1179" y="16"/>
                  </a:lnTo>
                  <a:lnTo>
                    <a:pt x="1184" y="12"/>
                  </a:lnTo>
                  <a:lnTo>
                    <a:pt x="1186" y="8"/>
                  </a:lnTo>
                  <a:lnTo>
                    <a:pt x="1190" y="6"/>
                  </a:lnTo>
                  <a:lnTo>
                    <a:pt x="1193" y="5"/>
                  </a:lnTo>
                  <a:lnTo>
                    <a:pt x="1197" y="2"/>
                  </a:lnTo>
                  <a:lnTo>
                    <a:pt x="1206" y="1"/>
                  </a:lnTo>
                  <a:lnTo>
                    <a:pt x="1216" y="0"/>
                  </a:lnTo>
                  <a:lnTo>
                    <a:pt x="1229" y="0"/>
                  </a:lnTo>
                  <a:lnTo>
                    <a:pt x="1242" y="1"/>
                  </a:lnTo>
                  <a:lnTo>
                    <a:pt x="1255" y="4"/>
                  </a:lnTo>
                  <a:lnTo>
                    <a:pt x="1269" y="6"/>
                  </a:lnTo>
                  <a:lnTo>
                    <a:pt x="1296" y="11"/>
                  </a:lnTo>
                  <a:lnTo>
                    <a:pt x="1320" y="15"/>
                  </a:lnTo>
                  <a:lnTo>
                    <a:pt x="1331" y="18"/>
                  </a:lnTo>
                  <a:lnTo>
                    <a:pt x="1340" y="18"/>
                  </a:lnTo>
                  <a:lnTo>
                    <a:pt x="1348" y="19"/>
                  </a:lnTo>
                  <a:lnTo>
                    <a:pt x="1353" y="18"/>
                  </a:lnTo>
                  <a:lnTo>
                    <a:pt x="1358" y="16"/>
                  </a:lnTo>
                  <a:lnTo>
                    <a:pt x="1364" y="18"/>
                  </a:lnTo>
                  <a:lnTo>
                    <a:pt x="1369" y="20"/>
                  </a:lnTo>
                  <a:lnTo>
                    <a:pt x="1376" y="23"/>
                  </a:lnTo>
                  <a:lnTo>
                    <a:pt x="1390" y="30"/>
                  </a:lnTo>
                  <a:lnTo>
                    <a:pt x="1404" y="40"/>
                  </a:lnTo>
                  <a:lnTo>
                    <a:pt x="1420" y="48"/>
                  </a:lnTo>
                  <a:lnTo>
                    <a:pt x="1435" y="53"/>
                  </a:lnTo>
                  <a:lnTo>
                    <a:pt x="1442" y="54"/>
                  </a:lnTo>
                  <a:lnTo>
                    <a:pt x="1449" y="54"/>
                  </a:lnTo>
                  <a:lnTo>
                    <a:pt x="1455" y="53"/>
                  </a:lnTo>
                  <a:lnTo>
                    <a:pt x="1461" y="49"/>
                  </a:lnTo>
                  <a:lnTo>
                    <a:pt x="1466" y="44"/>
                  </a:lnTo>
                  <a:lnTo>
                    <a:pt x="1473" y="41"/>
                  </a:lnTo>
                  <a:lnTo>
                    <a:pt x="1482" y="37"/>
                  </a:lnTo>
                  <a:lnTo>
                    <a:pt x="1490" y="34"/>
                  </a:lnTo>
                  <a:lnTo>
                    <a:pt x="1508" y="29"/>
                  </a:lnTo>
                  <a:lnTo>
                    <a:pt x="1529" y="25"/>
                  </a:lnTo>
                  <a:lnTo>
                    <a:pt x="1552" y="21"/>
                  </a:lnTo>
                  <a:lnTo>
                    <a:pt x="1576" y="19"/>
                  </a:lnTo>
                  <a:lnTo>
                    <a:pt x="1603" y="18"/>
                  </a:lnTo>
                  <a:lnTo>
                    <a:pt x="1630" y="18"/>
                  </a:lnTo>
                  <a:lnTo>
                    <a:pt x="1653" y="18"/>
                  </a:lnTo>
                  <a:lnTo>
                    <a:pt x="1673" y="19"/>
                  </a:lnTo>
                  <a:lnTo>
                    <a:pt x="1689" y="23"/>
                  </a:lnTo>
                  <a:lnTo>
                    <a:pt x="1704" y="29"/>
                  </a:lnTo>
                  <a:lnTo>
                    <a:pt x="1716" y="36"/>
                  </a:lnTo>
                  <a:lnTo>
                    <a:pt x="1729" y="44"/>
                  </a:lnTo>
                  <a:lnTo>
                    <a:pt x="1741" y="53"/>
                  </a:lnTo>
                  <a:lnTo>
                    <a:pt x="1753" y="63"/>
                  </a:lnTo>
                  <a:lnTo>
                    <a:pt x="1764" y="74"/>
                  </a:lnTo>
                  <a:lnTo>
                    <a:pt x="1778" y="84"/>
                  </a:lnTo>
                  <a:lnTo>
                    <a:pt x="1795" y="95"/>
                  </a:lnTo>
                  <a:lnTo>
                    <a:pt x="1813" y="105"/>
                  </a:lnTo>
                  <a:lnTo>
                    <a:pt x="1834" y="116"/>
                  </a:lnTo>
                  <a:lnTo>
                    <a:pt x="1860" y="125"/>
                  </a:lnTo>
                  <a:lnTo>
                    <a:pt x="1889" y="133"/>
                  </a:lnTo>
                  <a:lnTo>
                    <a:pt x="1924" y="141"/>
                  </a:lnTo>
                  <a:lnTo>
                    <a:pt x="1920" y="146"/>
                  </a:lnTo>
                  <a:lnTo>
                    <a:pt x="1917" y="152"/>
                  </a:lnTo>
                  <a:lnTo>
                    <a:pt x="1916" y="158"/>
                  </a:lnTo>
                  <a:lnTo>
                    <a:pt x="1915" y="165"/>
                  </a:lnTo>
                  <a:lnTo>
                    <a:pt x="1916" y="173"/>
                  </a:lnTo>
                  <a:lnTo>
                    <a:pt x="1918" y="181"/>
                  </a:lnTo>
                  <a:lnTo>
                    <a:pt x="1921" y="189"/>
                  </a:lnTo>
                  <a:lnTo>
                    <a:pt x="1925" y="196"/>
                  </a:lnTo>
                  <a:lnTo>
                    <a:pt x="1930" y="205"/>
                  </a:lnTo>
                  <a:lnTo>
                    <a:pt x="1937" y="213"/>
                  </a:lnTo>
                  <a:lnTo>
                    <a:pt x="1944" y="220"/>
                  </a:lnTo>
                  <a:lnTo>
                    <a:pt x="1953" y="226"/>
                  </a:lnTo>
                  <a:lnTo>
                    <a:pt x="1964" y="231"/>
                  </a:lnTo>
                  <a:lnTo>
                    <a:pt x="1975" y="236"/>
                  </a:lnTo>
                  <a:lnTo>
                    <a:pt x="1987" y="240"/>
                  </a:lnTo>
                  <a:lnTo>
                    <a:pt x="2001" y="242"/>
                  </a:lnTo>
                  <a:lnTo>
                    <a:pt x="2015" y="242"/>
                  </a:lnTo>
                  <a:lnTo>
                    <a:pt x="2029" y="244"/>
                  </a:lnTo>
                  <a:lnTo>
                    <a:pt x="2043" y="249"/>
                  </a:lnTo>
                  <a:lnTo>
                    <a:pt x="2060" y="256"/>
                  </a:lnTo>
                  <a:lnTo>
                    <a:pt x="2094" y="272"/>
                  </a:lnTo>
                  <a:lnTo>
                    <a:pt x="2135" y="291"/>
                  </a:lnTo>
                  <a:lnTo>
                    <a:pt x="2124" y="297"/>
                  </a:lnTo>
                  <a:lnTo>
                    <a:pt x="2114" y="301"/>
                  </a:lnTo>
                  <a:lnTo>
                    <a:pt x="2103" y="305"/>
                  </a:lnTo>
                  <a:lnTo>
                    <a:pt x="2094" y="306"/>
                  </a:lnTo>
                  <a:lnTo>
                    <a:pt x="2076" y="308"/>
                  </a:lnTo>
                  <a:lnTo>
                    <a:pt x="2061" y="310"/>
                  </a:lnTo>
                  <a:lnTo>
                    <a:pt x="2055" y="311"/>
                  </a:lnTo>
                  <a:lnTo>
                    <a:pt x="2050" y="313"/>
                  </a:lnTo>
                  <a:lnTo>
                    <a:pt x="2047" y="317"/>
                  </a:lnTo>
                  <a:lnTo>
                    <a:pt x="2045" y="320"/>
                  </a:lnTo>
                  <a:lnTo>
                    <a:pt x="2045" y="326"/>
                  </a:lnTo>
                  <a:lnTo>
                    <a:pt x="2047" y="334"/>
                  </a:lnTo>
                  <a:lnTo>
                    <a:pt x="2050" y="345"/>
                  </a:lnTo>
                  <a:lnTo>
                    <a:pt x="2056" y="358"/>
                  </a:lnTo>
                  <a:lnTo>
                    <a:pt x="2060" y="365"/>
                  </a:lnTo>
                  <a:lnTo>
                    <a:pt x="2061" y="373"/>
                  </a:lnTo>
                  <a:lnTo>
                    <a:pt x="2062" y="381"/>
                  </a:lnTo>
                  <a:lnTo>
                    <a:pt x="2063" y="389"/>
                  </a:lnTo>
                  <a:lnTo>
                    <a:pt x="2062" y="398"/>
                  </a:lnTo>
                  <a:lnTo>
                    <a:pt x="2061" y="408"/>
                  </a:lnTo>
                  <a:lnTo>
                    <a:pt x="2059" y="417"/>
                  </a:lnTo>
                  <a:lnTo>
                    <a:pt x="2056" y="426"/>
                  </a:lnTo>
                  <a:lnTo>
                    <a:pt x="2049" y="445"/>
                  </a:lnTo>
                  <a:lnTo>
                    <a:pt x="2039" y="465"/>
                  </a:lnTo>
                  <a:lnTo>
                    <a:pt x="2027" y="485"/>
                  </a:lnTo>
                  <a:lnTo>
                    <a:pt x="2013" y="505"/>
                  </a:lnTo>
                  <a:lnTo>
                    <a:pt x="1998" y="523"/>
                  </a:lnTo>
                  <a:lnTo>
                    <a:pt x="1980" y="541"/>
                  </a:lnTo>
                  <a:lnTo>
                    <a:pt x="1963" y="557"/>
                  </a:lnTo>
                  <a:lnTo>
                    <a:pt x="1945" y="572"/>
                  </a:lnTo>
                  <a:lnTo>
                    <a:pt x="1927" y="585"/>
                  </a:lnTo>
                  <a:lnTo>
                    <a:pt x="1908" y="596"/>
                  </a:lnTo>
                  <a:lnTo>
                    <a:pt x="1889" y="605"/>
                  </a:lnTo>
                  <a:lnTo>
                    <a:pt x="1872" y="611"/>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30" name="Freeform 1437"/>
            <p:cNvSpPr/>
            <p:nvPr/>
          </p:nvSpPr>
          <p:spPr>
            <a:xfrm>
              <a:off x="5311800" y="4821480"/>
              <a:ext cx="433440" cy="144360"/>
            </a:xfrm>
            <a:custGeom>
              <a:avLst/>
              <a:gdLst>
                <a:gd name="textAreaLeft" fmla="*/ 0 w 433440"/>
                <a:gd name="textAreaRight" fmla="*/ 433800 w 433440"/>
                <a:gd name="textAreaTop" fmla="*/ 0 h 144360"/>
                <a:gd name="textAreaBottom" fmla="*/ 144720 h 144360"/>
              </a:gdLst>
              <a:ahLst/>
              <a:rect l="textAreaLeft" t="textAreaTop" r="textAreaRight" b="textAreaBottom"/>
              <a:pathLst>
                <a:path w="2411" h="954">
                  <a:moveTo>
                    <a:pt x="1823" y="245"/>
                  </a:moveTo>
                  <a:lnTo>
                    <a:pt x="1840" y="252"/>
                  </a:lnTo>
                  <a:lnTo>
                    <a:pt x="1855" y="260"/>
                  </a:lnTo>
                  <a:lnTo>
                    <a:pt x="1870" y="268"/>
                  </a:lnTo>
                  <a:lnTo>
                    <a:pt x="1883" y="277"/>
                  </a:lnTo>
                  <a:lnTo>
                    <a:pt x="1896" y="286"/>
                  </a:lnTo>
                  <a:lnTo>
                    <a:pt x="1907" y="296"/>
                  </a:lnTo>
                  <a:lnTo>
                    <a:pt x="1919" y="307"/>
                  </a:lnTo>
                  <a:lnTo>
                    <a:pt x="1929" y="319"/>
                  </a:lnTo>
                  <a:lnTo>
                    <a:pt x="1952" y="344"/>
                  </a:lnTo>
                  <a:lnTo>
                    <a:pt x="1974" y="375"/>
                  </a:lnTo>
                  <a:lnTo>
                    <a:pt x="1997" y="409"/>
                  </a:lnTo>
                  <a:lnTo>
                    <a:pt x="2025" y="447"/>
                  </a:lnTo>
                  <a:lnTo>
                    <a:pt x="2049" y="447"/>
                  </a:lnTo>
                  <a:lnTo>
                    <a:pt x="2073" y="451"/>
                  </a:lnTo>
                  <a:lnTo>
                    <a:pt x="2099" y="454"/>
                  </a:lnTo>
                  <a:lnTo>
                    <a:pt x="2126" y="460"/>
                  </a:lnTo>
                  <a:lnTo>
                    <a:pt x="2153" y="468"/>
                  </a:lnTo>
                  <a:lnTo>
                    <a:pt x="2179" y="476"/>
                  </a:lnTo>
                  <a:lnTo>
                    <a:pt x="2207" y="487"/>
                  </a:lnTo>
                  <a:lnTo>
                    <a:pt x="2234" y="498"/>
                  </a:lnTo>
                  <a:lnTo>
                    <a:pt x="2260" y="511"/>
                  </a:lnTo>
                  <a:lnTo>
                    <a:pt x="2287" y="525"/>
                  </a:lnTo>
                  <a:lnTo>
                    <a:pt x="2311" y="541"/>
                  </a:lnTo>
                  <a:lnTo>
                    <a:pt x="2335" y="557"/>
                  </a:lnTo>
                  <a:lnTo>
                    <a:pt x="2357" y="574"/>
                  </a:lnTo>
                  <a:lnTo>
                    <a:pt x="2377" y="592"/>
                  </a:lnTo>
                  <a:lnTo>
                    <a:pt x="2394" y="612"/>
                  </a:lnTo>
                  <a:lnTo>
                    <a:pt x="2411" y="630"/>
                  </a:lnTo>
                  <a:lnTo>
                    <a:pt x="640" y="870"/>
                  </a:lnTo>
                  <a:lnTo>
                    <a:pt x="0" y="954"/>
                  </a:lnTo>
                  <a:lnTo>
                    <a:pt x="17" y="948"/>
                  </a:lnTo>
                  <a:lnTo>
                    <a:pt x="36" y="939"/>
                  </a:lnTo>
                  <a:lnTo>
                    <a:pt x="55" y="928"/>
                  </a:lnTo>
                  <a:lnTo>
                    <a:pt x="73" y="915"/>
                  </a:lnTo>
                  <a:lnTo>
                    <a:pt x="91" y="900"/>
                  </a:lnTo>
                  <a:lnTo>
                    <a:pt x="108" y="884"/>
                  </a:lnTo>
                  <a:lnTo>
                    <a:pt x="126" y="866"/>
                  </a:lnTo>
                  <a:lnTo>
                    <a:pt x="141" y="848"/>
                  </a:lnTo>
                  <a:lnTo>
                    <a:pt x="155" y="828"/>
                  </a:lnTo>
                  <a:lnTo>
                    <a:pt x="167" y="808"/>
                  </a:lnTo>
                  <a:lnTo>
                    <a:pt x="177" y="788"/>
                  </a:lnTo>
                  <a:lnTo>
                    <a:pt x="184" y="769"/>
                  </a:lnTo>
                  <a:lnTo>
                    <a:pt x="187" y="760"/>
                  </a:lnTo>
                  <a:lnTo>
                    <a:pt x="189" y="751"/>
                  </a:lnTo>
                  <a:lnTo>
                    <a:pt x="190" y="741"/>
                  </a:lnTo>
                  <a:lnTo>
                    <a:pt x="191" y="732"/>
                  </a:lnTo>
                  <a:lnTo>
                    <a:pt x="190" y="724"/>
                  </a:lnTo>
                  <a:lnTo>
                    <a:pt x="189" y="716"/>
                  </a:lnTo>
                  <a:lnTo>
                    <a:pt x="188" y="708"/>
                  </a:lnTo>
                  <a:lnTo>
                    <a:pt x="184" y="701"/>
                  </a:lnTo>
                  <a:lnTo>
                    <a:pt x="178" y="688"/>
                  </a:lnTo>
                  <a:lnTo>
                    <a:pt x="175" y="677"/>
                  </a:lnTo>
                  <a:lnTo>
                    <a:pt x="173" y="669"/>
                  </a:lnTo>
                  <a:lnTo>
                    <a:pt x="173" y="663"/>
                  </a:lnTo>
                  <a:lnTo>
                    <a:pt x="175" y="660"/>
                  </a:lnTo>
                  <a:lnTo>
                    <a:pt x="178" y="656"/>
                  </a:lnTo>
                  <a:lnTo>
                    <a:pt x="183" y="654"/>
                  </a:lnTo>
                  <a:lnTo>
                    <a:pt x="189" y="653"/>
                  </a:lnTo>
                  <a:lnTo>
                    <a:pt x="204" y="651"/>
                  </a:lnTo>
                  <a:lnTo>
                    <a:pt x="222" y="649"/>
                  </a:lnTo>
                  <a:lnTo>
                    <a:pt x="231" y="648"/>
                  </a:lnTo>
                  <a:lnTo>
                    <a:pt x="242" y="644"/>
                  </a:lnTo>
                  <a:lnTo>
                    <a:pt x="252" y="640"/>
                  </a:lnTo>
                  <a:lnTo>
                    <a:pt x="263" y="634"/>
                  </a:lnTo>
                  <a:lnTo>
                    <a:pt x="278" y="640"/>
                  </a:lnTo>
                  <a:lnTo>
                    <a:pt x="294" y="647"/>
                  </a:lnTo>
                  <a:lnTo>
                    <a:pt x="313" y="651"/>
                  </a:lnTo>
                  <a:lnTo>
                    <a:pt x="331" y="657"/>
                  </a:lnTo>
                  <a:lnTo>
                    <a:pt x="351" y="662"/>
                  </a:lnTo>
                  <a:lnTo>
                    <a:pt x="374" y="666"/>
                  </a:lnTo>
                  <a:lnTo>
                    <a:pt x="396" y="668"/>
                  </a:lnTo>
                  <a:lnTo>
                    <a:pt x="420" y="669"/>
                  </a:lnTo>
                  <a:lnTo>
                    <a:pt x="446" y="670"/>
                  </a:lnTo>
                  <a:lnTo>
                    <a:pt x="473" y="669"/>
                  </a:lnTo>
                  <a:lnTo>
                    <a:pt x="502" y="666"/>
                  </a:lnTo>
                  <a:lnTo>
                    <a:pt x="532" y="662"/>
                  </a:lnTo>
                  <a:lnTo>
                    <a:pt x="564" y="656"/>
                  </a:lnTo>
                  <a:lnTo>
                    <a:pt x="598" y="648"/>
                  </a:lnTo>
                  <a:lnTo>
                    <a:pt x="634" y="637"/>
                  </a:lnTo>
                  <a:lnTo>
                    <a:pt x="671" y="625"/>
                  </a:lnTo>
                  <a:lnTo>
                    <a:pt x="683" y="620"/>
                  </a:lnTo>
                  <a:lnTo>
                    <a:pt x="694" y="614"/>
                  </a:lnTo>
                  <a:lnTo>
                    <a:pt x="703" y="607"/>
                  </a:lnTo>
                  <a:lnTo>
                    <a:pt x="712" y="599"/>
                  </a:lnTo>
                  <a:lnTo>
                    <a:pt x="719" y="590"/>
                  </a:lnTo>
                  <a:lnTo>
                    <a:pt x="726" y="579"/>
                  </a:lnTo>
                  <a:lnTo>
                    <a:pt x="733" y="569"/>
                  </a:lnTo>
                  <a:lnTo>
                    <a:pt x="739" y="558"/>
                  </a:lnTo>
                  <a:lnTo>
                    <a:pt x="744" y="546"/>
                  </a:lnTo>
                  <a:lnTo>
                    <a:pt x="748" y="534"/>
                  </a:lnTo>
                  <a:lnTo>
                    <a:pt x="752" y="521"/>
                  </a:lnTo>
                  <a:lnTo>
                    <a:pt x="755" y="508"/>
                  </a:lnTo>
                  <a:lnTo>
                    <a:pt x="761" y="480"/>
                  </a:lnTo>
                  <a:lnTo>
                    <a:pt x="766" y="452"/>
                  </a:lnTo>
                  <a:lnTo>
                    <a:pt x="773" y="396"/>
                  </a:lnTo>
                  <a:lnTo>
                    <a:pt x="780" y="344"/>
                  </a:lnTo>
                  <a:lnTo>
                    <a:pt x="786" y="321"/>
                  </a:lnTo>
                  <a:lnTo>
                    <a:pt x="792" y="300"/>
                  </a:lnTo>
                  <a:lnTo>
                    <a:pt x="795" y="291"/>
                  </a:lnTo>
                  <a:lnTo>
                    <a:pt x="800" y="282"/>
                  </a:lnTo>
                  <a:lnTo>
                    <a:pt x="805" y="274"/>
                  </a:lnTo>
                  <a:lnTo>
                    <a:pt x="809" y="268"/>
                  </a:lnTo>
                  <a:lnTo>
                    <a:pt x="821" y="256"/>
                  </a:lnTo>
                  <a:lnTo>
                    <a:pt x="833" y="240"/>
                  </a:lnTo>
                  <a:lnTo>
                    <a:pt x="844" y="224"/>
                  </a:lnTo>
                  <a:lnTo>
                    <a:pt x="856" y="206"/>
                  </a:lnTo>
                  <a:lnTo>
                    <a:pt x="878" y="167"/>
                  </a:lnTo>
                  <a:lnTo>
                    <a:pt x="900" y="126"/>
                  </a:lnTo>
                  <a:lnTo>
                    <a:pt x="920" y="87"/>
                  </a:lnTo>
                  <a:lnTo>
                    <a:pt x="940" y="52"/>
                  </a:lnTo>
                  <a:lnTo>
                    <a:pt x="949" y="37"/>
                  </a:lnTo>
                  <a:lnTo>
                    <a:pt x="958" y="24"/>
                  </a:lnTo>
                  <a:lnTo>
                    <a:pt x="966" y="14"/>
                  </a:lnTo>
                  <a:lnTo>
                    <a:pt x="974" y="6"/>
                  </a:lnTo>
                  <a:lnTo>
                    <a:pt x="1019" y="1"/>
                  </a:lnTo>
                  <a:lnTo>
                    <a:pt x="1060" y="0"/>
                  </a:lnTo>
                  <a:lnTo>
                    <a:pt x="1097" y="0"/>
                  </a:lnTo>
                  <a:lnTo>
                    <a:pt x="1128" y="1"/>
                  </a:lnTo>
                  <a:lnTo>
                    <a:pt x="1156" y="4"/>
                  </a:lnTo>
                  <a:lnTo>
                    <a:pt x="1180" y="8"/>
                  </a:lnTo>
                  <a:lnTo>
                    <a:pt x="1201" y="14"/>
                  </a:lnTo>
                  <a:lnTo>
                    <a:pt x="1218" y="20"/>
                  </a:lnTo>
                  <a:lnTo>
                    <a:pt x="1247" y="31"/>
                  </a:lnTo>
                  <a:lnTo>
                    <a:pt x="1271" y="41"/>
                  </a:lnTo>
                  <a:lnTo>
                    <a:pt x="1281" y="44"/>
                  </a:lnTo>
                  <a:lnTo>
                    <a:pt x="1292" y="45"/>
                  </a:lnTo>
                  <a:lnTo>
                    <a:pt x="1302" y="45"/>
                  </a:lnTo>
                  <a:lnTo>
                    <a:pt x="1314" y="43"/>
                  </a:lnTo>
                  <a:lnTo>
                    <a:pt x="1323" y="44"/>
                  </a:lnTo>
                  <a:lnTo>
                    <a:pt x="1330" y="45"/>
                  </a:lnTo>
                  <a:lnTo>
                    <a:pt x="1337" y="48"/>
                  </a:lnTo>
                  <a:lnTo>
                    <a:pt x="1342" y="51"/>
                  </a:lnTo>
                  <a:lnTo>
                    <a:pt x="1347" y="55"/>
                  </a:lnTo>
                  <a:lnTo>
                    <a:pt x="1350" y="59"/>
                  </a:lnTo>
                  <a:lnTo>
                    <a:pt x="1354" y="65"/>
                  </a:lnTo>
                  <a:lnTo>
                    <a:pt x="1356" y="71"/>
                  </a:lnTo>
                  <a:lnTo>
                    <a:pt x="1363" y="83"/>
                  </a:lnTo>
                  <a:lnTo>
                    <a:pt x="1372" y="95"/>
                  </a:lnTo>
                  <a:lnTo>
                    <a:pt x="1378" y="102"/>
                  </a:lnTo>
                  <a:lnTo>
                    <a:pt x="1385" y="108"/>
                  </a:lnTo>
                  <a:lnTo>
                    <a:pt x="1394" y="115"/>
                  </a:lnTo>
                  <a:lnTo>
                    <a:pt x="1406" y="121"/>
                  </a:lnTo>
                  <a:lnTo>
                    <a:pt x="1412" y="135"/>
                  </a:lnTo>
                  <a:lnTo>
                    <a:pt x="1419" y="148"/>
                  </a:lnTo>
                  <a:lnTo>
                    <a:pt x="1427" y="159"/>
                  </a:lnTo>
                  <a:lnTo>
                    <a:pt x="1435" y="169"/>
                  </a:lnTo>
                  <a:lnTo>
                    <a:pt x="1442" y="177"/>
                  </a:lnTo>
                  <a:lnTo>
                    <a:pt x="1452" y="185"/>
                  </a:lnTo>
                  <a:lnTo>
                    <a:pt x="1460" y="192"/>
                  </a:lnTo>
                  <a:lnTo>
                    <a:pt x="1469" y="198"/>
                  </a:lnTo>
                  <a:lnTo>
                    <a:pt x="1477" y="203"/>
                  </a:lnTo>
                  <a:lnTo>
                    <a:pt x="1487" y="208"/>
                  </a:lnTo>
                  <a:lnTo>
                    <a:pt x="1496" y="211"/>
                  </a:lnTo>
                  <a:lnTo>
                    <a:pt x="1505" y="213"/>
                  </a:lnTo>
                  <a:lnTo>
                    <a:pt x="1524" y="218"/>
                  </a:lnTo>
                  <a:lnTo>
                    <a:pt x="1543" y="219"/>
                  </a:lnTo>
                  <a:lnTo>
                    <a:pt x="1577" y="220"/>
                  </a:lnTo>
                  <a:lnTo>
                    <a:pt x="1607" y="220"/>
                  </a:lnTo>
                  <a:lnTo>
                    <a:pt x="1620" y="222"/>
                  </a:lnTo>
                  <a:lnTo>
                    <a:pt x="1630" y="225"/>
                  </a:lnTo>
                  <a:lnTo>
                    <a:pt x="1635" y="226"/>
                  </a:lnTo>
                  <a:lnTo>
                    <a:pt x="1639" y="229"/>
                  </a:lnTo>
                  <a:lnTo>
                    <a:pt x="1642" y="232"/>
                  </a:lnTo>
                  <a:lnTo>
                    <a:pt x="1644" y="237"/>
                  </a:lnTo>
                  <a:lnTo>
                    <a:pt x="1823" y="24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31" name="Freeform 1438"/>
            <p:cNvSpPr/>
            <p:nvPr/>
          </p:nvSpPr>
          <p:spPr>
            <a:xfrm>
              <a:off x="5311800" y="4821480"/>
              <a:ext cx="433440" cy="144360"/>
            </a:xfrm>
            <a:custGeom>
              <a:avLst/>
              <a:gdLst>
                <a:gd name="textAreaLeft" fmla="*/ 0 w 433440"/>
                <a:gd name="textAreaRight" fmla="*/ 433800 w 433440"/>
                <a:gd name="textAreaTop" fmla="*/ 0 h 144360"/>
                <a:gd name="textAreaBottom" fmla="*/ 144720 h 144360"/>
              </a:gdLst>
              <a:ahLst/>
              <a:rect l="textAreaLeft" t="textAreaTop" r="textAreaRight" b="textAreaBottom"/>
              <a:pathLst>
                <a:path w="2411" h="954">
                  <a:moveTo>
                    <a:pt x="1823" y="245"/>
                  </a:moveTo>
                  <a:lnTo>
                    <a:pt x="1840" y="252"/>
                  </a:lnTo>
                  <a:lnTo>
                    <a:pt x="1855" y="260"/>
                  </a:lnTo>
                  <a:lnTo>
                    <a:pt x="1870" y="268"/>
                  </a:lnTo>
                  <a:lnTo>
                    <a:pt x="1883" y="277"/>
                  </a:lnTo>
                  <a:lnTo>
                    <a:pt x="1896" y="286"/>
                  </a:lnTo>
                  <a:lnTo>
                    <a:pt x="1907" y="296"/>
                  </a:lnTo>
                  <a:lnTo>
                    <a:pt x="1919" y="307"/>
                  </a:lnTo>
                  <a:lnTo>
                    <a:pt x="1929" y="319"/>
                  </a:lnTo>
                  <a:lnTo>
                    <a:pt x="1952" y="344"/>
                  </a:lnTo>
                  <a:lnTo>
                    <a:pt x="1974" y="375"/>
                  </a:lnTo>
                  <a:lnTo>
                    <a:pt x="1997" y="409"/>
                  </a:lnTo>
                  <a:lnTo>
                    <a:pt x="2025" y="447"/>
                  </a:lnTo>
                  <a:lnTo>
                    <a:pt x="2049" y="447"/>
                  </a:lnTo>
                  <a:lnTo>
                    <a:pt x="2073" y="451"/>
                  </a:lnTo>
                  <a:lnTo>
                    <a:pt x="2099" y="454"/>
                  </a:lnTo>
                  <a:lnTo>
                    <a:pt x="2126" y="460"/>
                  </a:lnTo>
                  <a:lnTo>
                    <a:pt x="2153" y="468"/>
                  </a:lnTo>
                  <a:lnTo>
                    <a:pt x="2179" y="476"/>
                  </a:lnTo>
                  <a:lnTo>
                    <a:pt x="2207" y="487"/>
                  </a:lnTo>
                  <a:lnTo>
                    <a:pt x="2234" y="498"/>
                  </a:lnTo>
                  <a:lnTo>
                    <a:pt x="2260" y="511"/>
                  </a:lnTo>
                  <a:lnTo>
                    <a:pt x="2287" y="525"/>
                  </a:lnTo>
                  <a:lnTo>
                    <a:pt x="2311" y="541"/>
                  </a:lnTo>
                  <a:lnTo>
                    <a:pt x="2335" y="557"/>
                  </a:lnTo>
                  <a:lnTo>
                    <a:pt x="2357" y="574"/>
                  </a:lnTo>
                  <a:lnTo>
                    <a:pt x="2377" y="592"/>
                  </a:lnTo>
                  <a:lnTo>
                    <a:pt x="2394" y="612"/>
                  </a:lnTo>
                  <a:lnTo>
                    <a:pt x="2411" y="630"/>
                  </a:lnTo>
                  <a:lnTo>
                    <a:pt x="640" y="870"/>
                  </a:lnTo>
                  <a:lnTo>
                    <a:pt x="0" y="954"/>
                  </a:lnTo>
                  <a:lnTo>
                    <a:pt x="17" y="948"/>
                  </a:lnTo>
                  <a:lnTo>
                    <a:pt x="36" y="939"/>
                  </a:lnTo>
                  <a:lnTo>
                    <a:pt x="55" y="928"/>
                  </a:lnTo>
                  <a:lnTo>
                    <a:pt x="73" y="915"/>
                  </a:lnTo>
                  <a:lnTo>
                    <a:pt x="91" y="900"/>
                  </a:lnTo>
                  <a:lnTo>
                    <a:pt x="108" y="884"/>
                  </a:lnTo>
                  <a:lnTo>
                    <a:pt x="126" y="866"/>
                  </a:lnTo>
                  <a:lnTo>
                    <a:pt x="141" y="848"/>
                  </a:lnTo>
                  <a:lnTo>
                    <a:pt x="155" y="828"/>
                  </a:lnTo>
                  <a:lnTo>
                    <a:pt x="167" y="808"/>
                  </a:lnTo>
                  <a:lnTo>
                    <a:pt x="177" y="788"/>
                  </a:lnTo>
                  <a:lnTo>
                    <a:pt x="184" y="769"/>
                  </a:lnTo>
                  <a:lnTo>
                    <a:pt x="187" y="760"/>
                  </a:lnTo>
                  <a:lnTo>
                    <a:pt x="189" y="751"/>
                  </a:lnTo>
                  <a:lnTo>
                    <a:pt x="190" y="741"/>
                  </a:lnTo>
                  <a:lnTo>
                    <a:pt x="191" y="732"/>
                  </a:lnTo>
                  <a:lnTo>
                    <a:pt x="190" y="724"/>
                  </a:lnTo>
                  <a:lnTo>
                    <a:pt x="189" y="716"/>
                  </a:lnTo>
                  <a:lnTo>
                    <a:pt x="188" y="708"/>
                  </a:lnTo>
                  <a:lnTo>
                    <a:pt x="184" y="701"/>
                  </a:lnTo>
                  <a:lnTo>
                    <a:pt x="178" y="688"/>
                  </a:lnTo>
                  <a:lnTo>
                    <a:pt x="175" y="677"/>
                  </a:lnTo>
                  <a:lnTo>
                    <a:pt x="173" y="669"/>
                  </a:lnTo>
                  <a:lnTo>
                    <a:pt x="173" y="663"/>
                  </a:lnTo>
                  <a:lnTo>
                    <a:pt x="175" y="660"/>
                  </a:lnTo>
                  <a:lnTo>
                    <a:pt x="178" y="656"/>
                  </a:lnTo>
                  <a:lnTo>
                    <a:pt x="183" y="654"/>
                  </a:lnTo>
                  <a:lnTo>
                    <a:pt x="189" y="653"/>
                  </a:lnTo>
                  <a:lnTo>
                    <a:pt x="204" y="651"/>
                  </a:lnTo>
                  <a:lnTo>
                    <a:pt x="222" y="649"/>
                  </a:lnTo>
                  <a:lnTo>
                    <a:pt x="231" y="648"/>
                  </a:lnTo>
                  <a:lnTo>
                    <a:pt x="242" y="644"/>
                  </a:lnTo>
                  <a:lnTo>
                    <a:pt x="252" y="640"/>
                  </a:lnTo>
                  <a:lnTo>
                    <a:pt x="263" y="634"/>
                  </a:lnTo>
                  <a:lnTo>
                    <a:pt x="278" y="640"/>
                  </a:lnTo>
                  <a:lnTo>
                    <a:pt x="294" y="647"/>
                  </a:lnTo>
                  <a:lnTo>
                    <a:pt x="313" y="651"/>
                  </a:lnTo>
                  <a:lnTo>
                    <a:pt x="331" y="657"/>
                  </a:lnTo>
                  <a:lnTo>
                    <a:pt x="351" y="662"/>
                  </a:lnTo>
                  <a:lnTo>
                    <a:pt x="374" y="666"/>
                  </a:lnTo>
                  <a:lnTo>
                    <a:pt x="396" y="668"/>
                  </a:lnTo>
                  <a:lnTo>
                    <a:pt x="420" y="669"/>
                  </a:lnTo>
                  <a:lnTo>
                    <a:pt x="446" y="670"/>
                  </a:lnTo>
                  <a:lnTo>
                    <a:pt x="473" y="669"/>
                  </a:lnTo>
                  <a:lnTo>
                    <a:pt x="502" y="666"/>
                  </a:lnTo>
                  <a:lnTo>
                    <a:pt x="532" y="662"/>
                  </a:lnTo>
                  <a:lnTo>
                    <a:pt x="564" y="656"/>
                  </a:lnTo>
                  <a:lnTo>
                    <a:pt x="598" y="648"/>
                  </a:lnTo>
                  <a:lnTo>
                    <a:pt x="634" y="637"/>
                  </a:lnTo>
                  <a:lnTo>
                    <a:pt x="671" y="625"/>
                  </a:lnTo>
                  <a:lnTo>
                    <a:pt x="683" y="620"/>
                  </a:lnTo>
                  <a:lnTo>
                    <a:pt x="694" y="614"/>
                  </a:lnTo>
                  <a:lnTo>
                    <a:pt x="703" y="607"/>
                  </a:lnTo>
                  <a:lnTo>
                    <a:pt x="712" y="599"/>
                  </a:lnTo>
                  <a:lnTo>
                    <a:pt x="719" y="590"/>
                  </a:lnTo>
                  <a:lnTo>
                    <a:pt x="726" y="579"/>
                  </a:lnTo>
                  <a:lnTo>
                    <a:pt x="733" y="569"/>
                  </a:lnTo>
                  <a:lnTo>
                    <a:pt x="739" y="558"/>
                  </a:lnTo>
                  <a:lnTo>
                    <a:pt x="744" y="546"/>
                  </a:lnTo>
                  <a:lnTo>
                    <a:pt x="748" y="534"/>
                  </a:lnTo>
                  <a:lnTo>
                    <a:pt x="752" y="521"/>
                  </a:lnTo>
                  <a:lnTo>
                    <a:pt x="755" y="508"/>
                  </a:lnTo>
                  <a:lnTo>
                    <a:pt x="761" y="480"/>
                  </a:lnTo>
                  <a:lnTo>
                    <a:pt x="766" y="452"/>
                  </a:lnTo>
                  <a:lnTo>
                    <a:pt x="773" y="396"/>
                  </a:lnTo>
                  <a:lnTo>
                    <a:pt x="780" y="344"/>
                  </a:lnTo>
                  <a:lnTo>
                    <a:pt x="786" y="321"/>
                  </a:lnTo>
                  <a:lnTo>
                    <a:pt x="792" y="300"/>
                  </a:lnTo>
                  <a:lnTo>
                    <a:pt x="795" y="291"/>
                  </a:lnTo>
                  <a:lnTo>
                    <a:pt x="800" y="282"/>
                  </a:lnTo>
                  <a:lnTo>
                    <a:pt x="805" y="274"/>
                  </a:lnTo>
                  <a:lnTo>
                    <a:pt x="809" y="268"/>
                  </a:lnTo>
                  <a:lnTo>
                    <a:pt x="821" y="256"/>
                  </a:lnTo>
                  <a:lnTo>
                    <a:pt x="833" y="240"/>
                  </a:lnTo>
                  <a:lnTo>
                    <a:pt x="844" y="224"/>
                  </a:lnTo>
                  <a:lnTo>
                    <a:pt x="856" y="206"/>
                  </a:lnTo>
                  <a:lnTo>
                    <a:pt x="878" y="167"/>
                  </a:lnTo>
                  <a:lnTo>
                    <a:pt x="900" y="126"/>
                  </a:lnTo>
                  <a:lnTo>
                    <a:pt x="920" y="87"/>
                  </a:lnTo>
                  <a:lnTo>
                    <a:pt x="940" y="52"/>
                  </a:lnTo>
                  <a:lnTo>
                    <a:pt x="949" y="37"/>
                  </a:lnTo>
                  <a:lnTo>
                    <a:pt x="958" y="24"/>
                  </a:lnTo>
                  <a:lnTo>
                    <a:pt x="966" y="14"/>
                  </a:lnTo>
                  <a:lnTo>
                    <a:pt x="974" y="6"/>
                  </a:lnTo>
                  <a:lnTo>
                    <a:pt x="1019" y="1"/>
                  </a:lnTo>
                  <a:lnTo>
                    <a:pt x="1060" y="0"/>
                  </a:lnTo>
                  <a:lnTo>
                    <a:pt x="1097" y="0"/>
                  </a:lnTo>
                  <a:lnTo>
                    <a:pt x="1128" y="1"/>
                  </a:lnTo>
                  <a:lnTo>
                    <a:pt x="1156" y="4"/>
                  </a:lnTo>
                  <a:lnTo>
                    <a:pt x="1180" y="8"/>
                  </a:lnTo>
                  <a:lnTo>
                    <a:pt x="1201" y="14"/>
                  </a:lnTo>
                  <a:lnTo>
                    <a:pt x="1218" y="20"/>
                  </a:lnTo>
                  <a:lnTo>
                    <a:pt x="1247" y="31"/>
                  </a:lnTo>
                  <a:lnTo>
                    <a:pt x="1271" y="41"/>
                  </a:lnTo>
                  <a:lnTo>
                    <a:pt x="1281" y="44"/>
                  </a:lnTo>
                  <a:lnTo>
                    <a:pt x="1292" y="45"/>
                  </a:lnTo>
                  <a:lnTo>
                    <a:pt x="1302" y="45"/>
                  </a:lnTo>
                  <a:lnTo>
                    <a:pt x="1314" y="43"/>
                  </a:lnTo>
                  <a:lnTo>
                    <a:pt x="1323" y="44"/>
                  </a:lnTo>
                  <a:lnTo>
                    <a:pt x="1330" y="45"/>
                  </a:lnTo>
                  <a:lnTo>
                    <a:pt x="1337" y="48"/>
                  </a:lnTo>
                  <a:lnTo>
                    <a:pt x="1342" y="51"/>
                  </a:lnTo>
                  <a:lnTo>
                    <a:pt x="1347" y="55"/>
                  </a:lnTo>
                  <a:lnTo>
                    <a:pt x="1350" y="59"/>
                  </a:lnTo>
                  <a:lnTo>
                    <a:pt x="1354" y="65"/>
                  </a:lnTo>
                  <a:lnTo>
                    <a:pt x="1356" y="71"/>
                  </a:lnTo>
                  <a:lnTo>
                    <a:pt x="1363" y="83"/>
                  </a:lnTo>
                  <a:lnTo>
                    <a:pt x="1372" y="95"/>
                  </a:lnTo>
                  <a:lnTo>
                    <a:pt x="1378" y="102"/>
                  </a:lnTo>
                  <a:lnTo>
                    <a:pt x="1385" y="108"/>
                  </a:lnTo>
                  <a:lnTo>
                    <a:pt x="1394" y="115"/>
                  </a:lnTo>
                  <a:lnTo>
                    <a:pt x="1406" y="121"/>
                  </a:lnTo>
                  <a:lnTo>
                    <a:pt x="1412" y="135"/>
                  </a:lnTo>
                  <a:lnTo>
                    <a:pt x="1419" y="148"/>
                  </a:lnTo>
                  <a:lnTo>
                    <a:pt x="1427" y="159"/>
                  </a:lnTo>
                  <a:lnTo>
                    <a:pt x="1435" y="169"/>
                  </a:lnTo>
                  <a:lnTo>
                    <a:pt x="1442" y="177"/>
                  </a:lnTo>
                  <a:lnTo>
                    <a:pt x="1452" y="185"/>
                  </a:lnTo>
                  <a:lnTo>
                    <a:pt x="1460" y="192"/>
                  </a:lnTo>
                  <a:lnTo>
                    <a:pt x="1469" y="198"/>
                  </a:lnTo>
                  <a:lnTo>
                    <a:pt x="1477" y="203"/>
                  </a:lnTo>
                  <a:lnTo>
                    <a:pt x="1487" y="208"/>
                  </a:lnTo>
                  <a:lnTo>
                    <a:pt x="1496" y="211"/>
                  </a:lnTo>
                  <a:lnTo>
                    <a:pt x="1505" y="213"/>
                  </a:lnTo>
                  <a:lnTo>
                    <a:pt x="1524" y="218"/>
                  </a:lnTo>
                  <a:lnTo>
                    <a:pt x="1543" y="219"/>
                  </a:lnTo>
                  <a:lnTo>
                    <a:pt x="1577" y="220"/>
                  </a:lnTo>
                  <a:lnTo>
                    <a:pt x="1607" y="220"/>
                  </a:lnTo>
                  <a:lnTo>
                    <a:pt x="1620" y="222"/>
                  </a:lnTo>
                  <a:lnTo>
                    <a:pt x="1630" y="225"/>
                  </a:lnTo>
                  <a:lnTo>
                    <a:pt x="1635" y="226"/>
                  </a:lnTo>
                  <a:lnTo>
                    <a:pt x="1639" y="229"/>
                  </a:lnTo>
                  <a:lnTo>
                    <a:pt x="1642" y="232"/>
                  </a:lnTo>
                  <a:lnTo>
                    <a:pt x="1644" y="237"/>
                  </a:lnTo>
                  <a:lnTo>
                    <a:pt x="1823" y="245"/>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32" name="Freeform 1439"/>
            <p:cNvSpPr/>
            <p:nvPr/>
          </p:nvSpPr>
          <p:spPr>
            <a:xfrm>
              <a:off x="4679640" y="5021640"/>
              <a:ext cx="287640" cy="181440"/>
            </a:xfrm>
            <a:custGeom>
              <a:avLst/>
              <a:gdLst>
                <a:gd name="textAreaLeft" fmla="*/ 0 w 287640"/>
                <a:gd name="textAreaRight" fmla="*/ 288000 w 287640"/>
                <a:gd name="textAreaTop" fmla="*/ 0 h 181440"/>
                <a:gd name="textAreaBottom" fmla="*/ 181800 h 181440"/>
              </a:gdLst>
              <a:ahLst/>
              <a:rect l="textAreaLeft" t="textAreaTop" r="textAreaRight" b="textAreaBottom"/>
              <a:pathLst>
                <a:path w="1601" h="1200">
                  <a:moveTo>
                    <a:pt x="424" y="1200"/>
                  </a:moveTo>
                  <a:lnTo>
                    <a:pt x="415" y="1192"/>
                  </a:lnTo>
                  <a:lnTo>
                    <a:pt x="404" y="1184"/>
                  </a:lnTo>
                  <a:lnTo>
                    <a:pt x="391" y="1176"/>
                  </a:lnTo>
                  <a:lnTo>
                    <a:pt x="377" y="1167"/>
                  </a:lnTo>
                  <a:lnTo>
                    <a:pt x="345" y="1147"/>
                  </a:lnTo>
                  <a:lnTo>
                    <a:pt x="306" y="1126"/>
                  </a:lnTo>
                  <a:lnTo>
                    <a:pt x="263" y="1103"/>
                  </a:lnTo>
                  <a:lnTo>
                    <a:pt x="216" y="1081"/>
                  </a:lnTo>
                  <a:lnTo>
                    <a:pt x="166" y="1059"/>
                  </a:lnTo>
                  <a:lnTo>
                    <a:pt x="112" y="1036"/>
                  </a:lnTo>
                  <a:lnTo>
                    <a:pt x="106" y="308"/>
                  </a:lnTo>
                  <a:lnTo>
                    <a:pt x="0" y="55"/>
                  </a:lnTo>
                  <a:lnTo>
                    <a:pt x="1466" y="0"/>
                  </a:lnTo>
                  <a:lnTo>
                    <a:pt x="1458" y="83"/>
                  </a:lnTo>
                  <a:lnTo>
                    <a:pt x="1596" y="69"/>
                  </a:lnTo>
                  <a:lnTo>
                    <a:pt x="1598" y="85"/>
                  </a:lnTo>
                  <a:lnTo>
                    <a:pt x="1600" y="101"/>
                  </a:lnTo>
                  <a:lnTo>
                    <a:pt x="1601" y="118"/>
                  </a:lnTo>
                  <a:lnTo>
                    <a:pt x="1601" y="135"/>
                  </a:lnTo>
                  <a:lnTo>
                    <a:pt x="1600" y="169"/>
                  </a:lnTo>
                  <a:lnTo>
                    <a:pt x="1597" y="204"/>
                  </a:lnTo>
                  <a:lnTo>
                    <a:pt x="1591" y="239"/>
                  </a:lnTo>
                  <a:lnTo>
                    <a:pt x="1584" y="274"/>
                  </a:lnTo>
                  <a:lnTo>
                    <a:pt x="1575" y="309"/>
                  </a:lnTo>
                  <a:lnTo>
                    <a:pt x="1564" y="343"/>
                  </a:lnTo>
                  <a:lnTo>
                    <a:pt x="1552" y="376"/>
                  </a:lnTo>
                  <a:lnTo>
                    <a:pt x="1541" y="407"/>
                  </a:lnTo>
                  <a:lnTo>
                    <a:pt x="1529" y="436"/>
                  </a:lnTo>
                  <a:lnTo>
                    <a:pt x="1516" y="465"/>
                  </a:lnTo>
                  <a:lnTo>
                    <a:pt x="1505" y="489"/>
                  </a:lnTo>
                  <a:lnTo>
                    <a:pt x="1493" y="511"/>
                  </a:lnTo>
                  <a:lnTo>
                    <a:pt x="1482" y="531"/>
                  </a:lnTo>
                  <a:lnTo>
                    <a:pt x="1472" y="546"/>
                  </a:lnTo>
                  <a:lnTo>
                    <a:pt x="1462" y="564"/>
                  </a:lnTo>
                  <a:lnTo>
                    <a:pt x="1453" y="585"/>
                  </a:lnTo>
                  <a:lnTo>
                    <a:pt x="1444" y="611"/>
                  </a:lnTo>
                  <a:lnTo>
                    <a:pt x="1434" y="640"/>
                  </a:lnTo>
                  <a:lnTo>
                    <a:pt x="1426" y="671"/>
                  </a:lnTo>
                  <a:lnTo>
                    <a:pt x="1418" y="707"/>
                  </a:lnTo>
                  <a:lnTo>
                    <a:pt x="1411" y="746"/>
                  </a:lnTo>
                  <a:lnTo>
                    <a:pt x="1406" y="787"/>
                  </a:lnTo>
                  <a:lnTo>
                    <a:pt x="1403" y="830"/>
                  </a:lnTo>
                  <a:lnTo>
                    <a:pt x="1402" y="876"/>
                  </a:lnTo>
                  <a:lnTo>
                    <a:pt x="1402" y="898"/>
                  </a:lnTo>
                  <a:lnTo>
                    <a:pt x="1403" y="921"/>
                  </a:lnTo>
                  <a:lnTo>
                    <a:pt x="1405" y="946"/>
                  </a:lnTo>
                  <a:lnTo>
                    <a:pt x="1408" y="969"/>
                  </a:lnTo>
                  <a:lnTo>
                    <a:pt x="1410" y="994"/>
                  </a:lnTo>
                  <a:lnTo>
                    <a:pt x="1415" y="1018"/>
                  </a:lnTo>
                  <a:lnTo>
                    <a:pt x="1419" y="1043"/>
                  </a:lnTo>
                  <a:lnTo>
                    <a:pt x="1425" y="1067"/>
                  </a:lnTo>
                  <a:lnTo>
                    <a:pt x="1432" y="1092"/>
                  </a:lnTo>
                  <a:lnTo>
                    <a:pt x="1439" y="1116"/>
                  </a:lnTo>
                  <a:lnTo>
                    <a:pt x="1448" y="1141"/>
                  </a:lnTo>
                  <a:lnTo>
                    <a:pt x="1458" y="1165"/>
                  </a:lnTo>
                  <a:lnTo>
                    <a:pt x="424" y="120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33" name="Freeform 1440"/>
            <p:cNvSpPr/>
            <p:nvPr/>
          </p:nvSpPr>
          <p:spPr>
            <a:xfrm>
              <a:off x="4679640" y="5021640"/>
              <a:ext cx="287640" cy="181440"/>
            </a:xfrm>
            <a:custGeom>
              <a:avLst/>
              <a:gdLst>
                <a:gd name="textAreaLeft" fmla="*/ 0 w 287640"/>
                <a:gd name="textAreaRight" fmla="*/ 288000 w 287640"/>
                <a:gd name="textAreaTop" fmla="*/ 0 h 181440"/>
                <a:gd name="textAreaBottom" fmla="*/ 181800 h 181440"/>
              </a:gdLst>
              <a:ahLst/>
              <a:rect l="textAreaLeft" t="textAreaTop" r="textAreaRight" b="textAreaBottom"/>
              <a:pathLst>
                <a:path w="1601" h="1200">
                  <a:moveTo>
                    <a:pt x="424" y="1200"/>
                  </a:moveTo>
                  <a:lnTo>
                    <a:pt x="415" y="1192"/>
                  </a:lnTo>
                  <a:lnTo>
                    <a:pt x="404" y="1184"/>
                  </a:lnTo>
                  <a:lnTo>
                    <a:pt x="391" y="1176"/>
                  </a:lnTo>
                  <a:lnTo>
                    <a:pt x="377" y="1167"/>
                  </a:lnTo>
                  <a:lnTo>
                    <a:pt x="345" y="1147"/>
                  </a:lnTo>
                  <a:lnTo>
                    <a:pt x="306" y="1126"/>
                  </a:lnTo>
                  <a:lnTo>
                    <a:pt x="263" y="1103"/>
                  </a:lnTo>
                  <a:lnTo>
                    <a:pt x="216" y="1081"/>
                  </a:lnTo>
                  <a:lnTo>
                    <a:pt x="166" y="1059"/>
                  </a:lnTo>
                  <a:lnTo>
                    <a:pt x="112" y="1036"/>
                  </a:lnTo>
                  <a:lnTo>
                    <a:pt x="106" y="308"/>
                  </a:lnTo>
                  <a:lnTo>
                    <a:pt x="0" y="55"/>
                  </a:lnTo>
                  <a:lnTo>
                    <a:pt x="1466" y="0"/>
                  </a:lnTo>
                  <a:lnTo>
                    <a:pt x="1458" y="83"/>
                  </a:lnTo>
                  <a:lnTo>
                    <a:pt x="1596" y="69"/>
                  </a:lnTo>
                  <a:lnTo>
                    <a:pt x="1598" y="85"/>
                  </a:lnTo>
                  <a:lnTo>
                    <a:pt x="1600" y="101"/>
                  </a:lnTo>
                  <a:lnTo>
                    <a:pt x="1601" y="118"/>
                  </a:lnTo>
                  <a:lnTo>
                    <a:pt x="1601" y="135"/>
                  </a:lnTo>
                  <a:lnTo>
                    <a:pt x="1600" y="169"/>
                  </a:lnTo>
                  <a:lnTo>
                    <a:pt x="1597" y="204"/>
                  </a:lnTo>
                  <a:lnTo>
                    <a:pt x="1591" y="239"/>
                  </a:lnTo>
                  <a:lnTo>
                    <a:pt x="1584" y="274"/>
                  </a:lnTo>
                  <a:lnTo>
                    <a:pt x="1575" y="309"/>
                  </a:lnTo>
                  <a:lnTo>
                    <a:pt x="1564" y="343"/>
                  </a:lnTo>
                  <a:lnTo>
                    <a:pt x="1552" y="376"/>
                  </a:lnTo>
                  <a:lnTo>
                    <a:pt x="1541" y="407"/>
                  </a:lnTo>
                  <a:lnTo>
                    <a:pt x="1529" y="436"/>
                  </a:lnTo>
                  <a:lnTo>
                    <a:pt x="1516" y="465"/>
                  </a:lnTo>
                  <a:lnTo>
                    <a:pt x="1505" y="489"/>
                  </a:lnTo>
                  <a:lnTo>
                    <a:pt x="1493" y="511"/>
                  </a:lnTo>
                  <a:lnTo>
                    <a:pt x="1482" y="531"/>
                  </a:lnTo>
                  <a:lnTo>
                    <a:pt x="1472" y="546"/>
                  </a:lnTo>
                  <a:lnTo>
                    <a:pt x="1462" y="564"/>
                  </a:lnTo>
                  <a:lnTo>
                    <a:pt x="1453" y="585"/>
                  </a:lnTo>
                  <a:lnTo>
                    <a:pt x="1444" y="611"/>
                  </a:lnTo>
                  <a:lnTo>
                    <a:pt x="1434" y="640"/>
                  </a:lnTo>
                  <a:lnTo>
                    <a:pt x="1426" y="671"/>
                  </a:lnTo>
                  <a:lnTo>
                    <a:pt x="1418" y="707"/>
                  </a:lnTo>
                  <a:lnTo>
                    <a:pt x="1411" y="746"/>
                  </a:lnTo>
                  <a:lnTo>
                    <a:pt x="1406" y="787"/>
                  </a:lnTo>
                  <a:lnTo>
                    <a:pt x="1403" y="830"/>
                  </a:lnTo>
                  <a:lnTo>
                    <a:pt x="1402" y="876"/>
                  </a:lnTo>
                  <a:lnTo>
                    <a:pt x="1402" y="898"/>
                  </a:lnTo>
                  <a:lnTo>
                    <a:pt x="1403" y="921"/>
                  </a:lnTo>
                  <a:lnTo>
                    <a:pt x="1405" y="946"/>
                  </a:lnTo>
                  <a:lnTo>
                    <a:pt x="1408" y="969"/>
                  </a:lnTo>
                  <a:lnTo>
                    <a:pt x="1410" y="994"/>
                  </a:lnTo>
                  <a:lnTo>
                    <a:pt x="1415" y="1018"/>
                  </a:lnTo>
                  <a:lnTo>
                    <a:pt x="1419" y="1043"/>
                  </a:lnTo>
                  <a:lnTo>
                    <a:pt x="1425" y="1067"/>
                  </a:lnTo>
                  <a:lnTo>
                    <a:pt x="1432" y="1092"/>
                  </a:lnTo>
                  <a:lnTo>
                    <a:pt x="1439" y="1116"/>
                  </a:lnTo>
                  <a:lnTo>
                    <a:pt x="1448" y="1141"/>
                  </a:lnTo>
                  <a:lnTo>
                    <a:pt x="1458" y="1165"/>
                  </a:lnTo>
                  <a:lnTo>
                    <a:pt x="424" y="120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34" name="Freeform 1441"/>
            <p:cNvSpPr/>
            <p:nvPr/>
          </p:nvSpPr>
          <p:spPr>
            <a:xfrm>
              <a:off x="5651640" y="4828680"/>
              <a:ext cx="51840" cy="53640"/>
            </a:xfrm>
            <a:custGeom>
              <a:avLst/>
              <a:gdLst>
                <a:gd name="textAreaLeft" fmla="*/ 0 w 51840"/>
                <a:gd name="textAreaRight" fmla="*/ 52200 w 51840"/>
                <a:gd name="textAreaTop" fmla="*/ 0 h 53640"/>
                <a:gd name="textAreaBottom" fmla="*/ 54000 h 53640"/>
              </a:gdLst>
              <a:ahLst/>
              <a:rect l="textAreaLeft" t="textAreaTop" r="textAreaRight" b="textAreaBottom"/>
              <a:pathLst>
                <a:path w="289" h="357">
                  <a:moveTo>
                    <a:pt x="285" y="357"/>
                  </a:moveTo>
                  <a:lnTo>
                    <a:pt x="273" y="353"/>
                  </a:lnTo>
                  <a:lnTo>
                    <a:pt x="263" y="347"/>
                  </a:lnTo>
                  <a:lnTo>
                    <a:pt x="251" y="340"/>
                  </a:lnTo>
                  <a:lnTo>
                    <a:pt x="241" y="332"/>
                  </a:lnTo>
                  <a:lnTo>
                    <a:pt x="230" y="322"/>
                  </a:lnTo>
                  <a:lnTo>
                    <a:pt x="220" y="313"/>
                  </a:lnTo>
                  <a:lnTo>
                    <a:pt x="209" y="302"/>
                  </a:lnTo>
                  <a:lnTo>
                    <a:pt x="200" y="292"/>
                  </a:lnTo>
                  <a:lnTo>
                    <a:pt x="180" y="269"/>
                  </a:lnTo>
                  <a:lnTo>
                    <a:pt x="161" y="243"/>
                  </a:lnTo>
                  <a:lnTo>
                    <a:pt x="144" y="217"/>
                  </a:lnTo>
                  <a:lnTo>
                    <a:pt x="125" y="191"/>
                  </a:lnTo>
                  <a:lnTo>
                    <a:pt x="92" y="140"/>
                  </a:lnTo>
                  <a:lnTo>
                    <a:pt x="61" y="96"/>
                  </a:lnTo>
                  <a:lnTo>
                    <a:pt x="44" y="78"/>
                  </a:lnTo>
                  <a:lnTo>
                    <a:pt x="29" y="63"/>
                  </a:lnTo>
                  <a:lnTo>
                    <a:pt x="22" y="57"/>
                  </a:lnTo>
                  <a:lnTo>
                    <a:pt x="15" y="52"/>
                  </a:lnTo>
                  <a:lnTo>
                    <a:pt x="7" y="49"/>
                  </a:lnTo>
                  <a:lnTo>
                    <a:pt x="0" y="47"/>
                  </a:lnTo>
                  <a:lnTo>
                    <a:pt x="161" y="0"/>
                  </a:lnTo>
                  <a:lnTo>
                    <a:pt x="162" y="10"/>
                  </a:lnTo>
                  <a:lnTo>
                    <a:pt x="165" y="20"/>
                  </a:lnTo>
                  <a:lnTo>
                    <a:pt x="168" y="29"/>
                  </a:lnTo>
                  <a:lnTo>
                    <a:pt x="174" y="37"/>
                  </a:lnTo>
                  <a:lnTo>
                    <a:pt x="186" y="55"/>
                  </a:lnTo>
                  <a:lnTo>
                    <a:pt x="201" y="71"/>
                  </a:lnTo>
                  <a:lnTo>
                    <a:pt x="215" y="88"/>
                  </a:lnTo>
                  <a:lnTo>
                    <a:pt x="227" y="104"/>
                  </a:lnTo>
                  <a:lnTo>
                    <a:pt x="233" y="113"/>
                  </a:lnTo>
                  <a:lnTo>
                    <a:pt x="236" y="123"/>
                  </a:lnTo>
                  <a:lnTo>
                    <a:pt x="238" y="132"/>
                  </a:lnTo>
                  <a:lnTo>
                    <a:pt x="240" y="141"/>
                  </a:lnTo>
                  <a:lnTo>
                    <a:pt x="240" y="158"/>
                  </a:lnTo>
                  <a:lnTo>
                    <a:pt x="242" y="173"/>
                  </a:lnTo>
                  <a:lnTo>
                    <a:pt x="245" y="187"/>
                  </a:lnTo>
                  <a:lnTo>
                    <a:pt x="249" y="200"/>
                  </a:lnTo>
                  <a:lnTo>
                    <a:pt x="258" y="224"/>
                  </a:lnTo>
                  <a:lnTo>
                    <a:pt x="269" y="246"/>
                  </a:lnTo>
                  <a:lnTo>
                    <a:pt x="273" y="258"/>
                  </a:lnTo>
                  <a:lnTo>
                    <a:pt x="278" y="270"/>
                  </a:lnTo>
                  <a:lnTo>
                    <a:pt x="283" y="281"/>
                  </a:lnTo>
                  <a:lnTo>
                    <a:pt x="285" y="294"/>
                  </a:lnTo>
                  <a:lnTo>
                    <a:pt x="287" y="308"/>
                  </a:lnTo>
                  <a:lnTo>
                    <a:pt x="289" y="323"/>
                  </a:lnTo>
                  <a:lnTo>
                    <a:pt x="287" y="340"/>
                  </a:lnTo>
                  <a:lnTo>
                    <a:pt x="285" y="357"/>
                  </a:lnTo>
                  <a:close/>
                </a:path>
              </a:pathLst>
            </a:custGeom>
            <a:solidFill>
              <a:srgbClr val="93d5ed"/>
            </a:solidFill>
            <a:ln w="9360">
              <a:solidFill>
                <a:srgbClr val="ccecff"/>
              </a:solidFill>
              <a:round/>
            </a:ln>
          </p:spPr>
          <p:style>
            <a:lnRef idx="0"/>
            <a:fillRef idx="0"/>
            <a:effectRef idx="0"/>
            <a:fontRef idx="minor"/>
          </p:style>
          <p:txBody>
            <a:bodyPr lIns="90000" rIns="90000" tIns="7200" bIns="7200" anchor="t">
              <a:noAutofit/>
            </a:bodyPr>
            <a:p>
              <a:endParaRPr b="1" lang="en-US" sz="2400" spc="-1" strike="noStrike">
                <a:solidFill>
                  <a:srgbClr val="ffffff"/>
                </a:solidFill>
                <a:latin typeface="Times New Roman"/>
              </a:endParaRPr>
            </a:p>
          </p:txBody>
        </p:sp>
        <p:sp>
          <p:nvSpPr>
            <p:cNvPr id="335" name="Freeform 1442"/>
            <p:cNvSpPr/>
            <p:nvPr/>
          </p:nvSpPr>
          <p:spPr>
            <a:xfrm>
              <a:off x="5651640" y="4828680"/>
              <a:ext cx="51840" cy="53640"/>
            </a:xfrm>
            <a:custGeom>
              <a:avLst/>
              <a:gdLst>
                <a:gd name="textAreaLeft" fmla="*/ 0 w 51840"/>
                <a:gd name="textAreaRight" fmla="*/ 52200 w 51840"/>
                <a:gd name="textAreaTop" fmla="*/ 0 h 53640"/>
                <a:gd name="textAreaBottom" fmla="*/ 54000 h 53640"/>
              </a:gdLst>
              <a:ahLst/>
              <a:rect l="textAreaLeft" t="textAreaTop" r="textAreaRight" b="textAreaBottom"/>
              <a:pathLst>
                <a:path w="289" h="357">
                  <a:moveTo>
                    <a:pt x="285" y="357"/>
                  </a:moveTo>
                  <a:lnTo>
                    <a:pt x="273" y="353"/>
                  </a:lnTo>
                  <a:lnTo>
                    <a:pt x="263" y="347"/>
                  </a:lnTo>
                  <a:lnTo>
                    <a:pt x="251" y="340"/>
                  </a:lnTo>
                  <a:lnTo>
                    <a:pt x="241" y="332"/>
                  </a:lnTo>
                  <a:lnTo>
                    <a:pt x="230" y="322"/>
                  </a:lnTo>
                  <a:lnTo>
                    <a:pt x="220" y="313"/>
                  </a:lnTo>
                  <a:lnTo>
                    <a:pt x="209" y="302"/>
                  </a:lnTo>
                  <a:lnTo>
                    <a:pt x="200" y="292"/>
                  </a:lnTo>
                  <a:lnTo>
                    <a:pt x="180" y="269"/>
                  </a:lnTo>
                  <a:lnTo>
                    <a:pt x="161" y="243"/>
                  </a:lnTo>
                  <a:lnTo>
                    <a:pt x="144" y="217"/>
                  </a:lnTo>
                  <a:lnTo>
                    <a:pt x="125" y="191"/>
                  </a:lnTo>
                  <a:lnTo>
                    <a:pt x="92" y="140"/>
                  </a:lnTo>
                  <a:lnTo>
                    <a:pt x="61" y="96"/>
                  </a:lnTo>
                  <a:lnTo>
                    <a:pt x="44" y="78"/>
                  </a:lnTo>
                  <a:lnTo>
                    <a:pt x="29" y="63"/>
                  </a:lnTo>
                  <a:lnTo>
                    <a:pt x="22" y="57"/>
                  </a:lnTo>
                  <a:lnTo>
                    <a:pt x="15" y="52"/>
                  </a:lnTo>
                  <a:lnTo>
                    <a:pt x="7" y="49"/>
                  </a:lnTo>
                  <a:lnTo>
                    <a:pt x="0" y="47"/>
                  </a:lnTo>
                  <a:lnTo>
                    <a:pt x="161" y="0"/>
                  </a:lnTo>
                  <a:lnTo>
                    <a:pt x="162" y="10"/>
                  </a:lnTo>
                  <a:lnTo>
                    <a:pt x="165" y="20"/>
                  </a:lnTo>
                  <a:lnTo>
                    <a:pt x="168" y="29"/>
                  </a:lnTo>
                  <a:lnTo>
                    <a:pt x="174" y="37"/>
                  </a:lnTo>
                  <a:lnTo>
                    <a:pt x="186" y="55"/>
                  </a:lnTo>
                  <a:lnTo>
                    <a:pt x="201" y="71"/>
                  </a:lnTo>
                  <a:lnTo>
                    <a:pt x="215" y="88"/>
                  </a:lnTo>
                  <a:lnTo>
                    <a:pt x="227" y="104"/>
                  </a:lnTo>
                  <a:lnTo>
                    <a:pt x="233" y="113"/>
                  </a:lnTo>
                  <a:lnTo>
                    <a:pt x="236" y="123"/>
                  </a:lnTo>
                  <a:lnTo>
                    <a:pt x="238" y="132"/>
                  </a:lnTo>
                  <a:lnTo>
                    <a:pt x="240" y="141"/>
                  </a:lnTo>
                  <a:lnTo>
                    <a:pt x="240" y="158"/>
                  </a:lnTo>
                  <a:lnTo>
                    <a:pt x="242" y="173"/>
                  </a:lnTo>
                  <a:lnTo>
                    <a:pt x="245" y="187"/>
                  </a:lnTo>
                  <a:lnTo>
                    <a:pt x="249" y="200"/>
                  </a:lnTo>
                  <a:lnTo>
                    <a:pt x="258" y="224"/>
                  </a:lnTo>
                  <a:lnTo>
                    <a:pt x="269" y="246"/>
                  </a:lnTo>
                  <a:lnTo>
                    <a:pt x="273" y="258"/>
                  </a:lnTo>
                  <a:lnTo>
                    <a:pt x="278" y="270"/>
                  </a:lnTo>
                  <a:lnTo>
                    <a:pt x="283" y="281"/>
                  </a:lnTo>
                  <a:lnTo>
                    <a:pt x="285" y="294"/>
                  </a:lnTo>
                  <a:lnTo>
                    <a:pt x="287" y="308"/>
                  </a:lnTo>
                  <a:lnTo>
                    <a:pt x="289" y="323"/>
                  </a:lnTo>
                  <a:lnTo>
                    <a:pt x="287" y="340"/>
                  </a:lnTo>
                  <a:lnTo>
                    <a:pt x="285" y="357"/>
                  </a:lnTo>
                </a:path>
              </a:pathLst>
            </a:custGeom>
            <a:solidFill>
              <a:srgbClr val="93d5ed"/>
            </a:solidFill>
            <a:ln w="4680">
              <a:solidFill>
                <a:srgbClr val="ccecff"/>
              </a:solidFill>
              <a:round/>
            </a:ln>
          </p:spPr>
          <p:style>
            <a:lnRef idx="0"/>
            <a:fillRef idx="0"/>
            <a:effectRef idx="0"/>
            <a:fontRef idx="minor"/>
          </p:style>
          <p:txBody>
            <a:bodyPr lIns="90000" rIns="90000" tIns="7200" bIns="7200" anchor="t">
              <a:noAutofit/>
            </a:bodyPr>
            <a:p>
              <a:endParaRPr b="1" lang="en-US" sz="2400" spc="-1" strike="noStrike">
                <a:solidFill>
                  <a:srgbClr val="ffffff"/>
                </a:solidFill>
                <a:latin typeface="Times New Roman"/>
              </a:endParaRPr>
            </a:p>
          </p:txBody>
        </p:sp>
        <p:sp>
          <p:nvSpPr>
            <p:cNvPr id="336" name="Freeform 1443"/>
            <p:cNvSpPr/>
            <p:nvPr/>
          </p:nvSpPr>
          <p:spPr>
            <a:xfrm>
              <a:off x="4550400" y="4745880"/>
              <a:ext cx="308160" cy="108000"/>
            </a:xfrm>
            <a:custGeom>
              <a:avLst/>
              <a:gdLst>
                <a:gd name="textAreaLeft" fmla="*/ 0 w 308160"/>
                <a:gd name="textAreaRight" fmla="*/ 308520 w 308160"/>
                <a:gd name="textAreaTop" fmla="*/ 0 h 108000"/>
                <a:gd name="textAreaBottom" fmla="*/ 108360 h 108000"/>
              </a:gdLst>
              <a:ahLst/>
              <a:rect l="textAreaLeft" t="textAreaTop" r="textAreaRight" b="textAreaBottom"/>
              <a:pathLst>
                <a:path w="1714" h="717">
                  <a:moveTo>
                    <a:pt x="1388" y="0"/>
                  </a:moveTo>
                  <a:lnTo>
                    <a:pt x="1399" y="19"/>
                  </a:lnTo>
                  <a:lnTo>
                    <a:pt x="1410" y="38"/>
                  </a:lnTo>
                  <a:lnTo>
                    <a:pt x="1424" y="56"/>
                  </a:lnTo>
                  <a:lnTo>
                    <a:pt x="1440" y="75"/>
                  </a:lnTo>
                  <a:lnTo>
                    <a:pt x="1457" y="93"/>
                  </a:lnTo>
                  <a:lnTo>
                    <a:pt x="1475" y="109"/>
                  </a:lnTo>
                  <a:lnTo>
                    <a:pt x="1494" y="125"/>
                  </a:lnTo>
                  <a:lnTo>
                    <a:pt x="1514" y="140"/>
                  </a:lnTo>
                  <a:lnTo>
                    <a:pt x="1535" y="153"/>
                  </a:lnTo>
                  <a:lnTo>
                    <a:pt x="1558" y="166"/>
                  </a:lnTo>
                  <a:lnTo>
                    <a:pt x="1579" y="177"/>
                  </a:lnTo>
                  <a:lnTo>
                    <a:pt x="1601" y="186"/>
                  </a:lnTo>
                  <a:lnTo>
                    <a:pt x="1622" y="193"/>
                  </a:lnTo>
                  <a:lnTo>
                    <a:pt x="1643" y="198"/>
                  </a:lnTo>
                  <a:lnTo>
                    <a:pt x="1663" y="201"/>
                  </a:lnTo>
                  <a:lnTo>
                    <a:pt x="1683" y="202"/>
                  </a:lnTo>
                  <a:lnTo>
                    <a:pt x="1714" y="331"/>
                  </a:lnTo>
                  <a:lnTo>
                    <a:pt x="1695" y="335"/>
                  </a:lnTo>
                  <a:lnTo>
                    <a:pt x="1679" y="340"/>
                  </a:lnTo>
                  <a:lnTo>
                    <a:pt x="1665" y="346"/>
                  </a:lnTo>
                  <a:lnTo>
                    <a:pt x="1653" y="353"/>
                  </a:lnTo>
                  <a:lnTo>
                    <a:pt x="1643" y="361"/>
                  </a:lnTo>
                  <a:lnTo>
                    <a:pt x="1636" y="369"/>
                  </a:lnTo>
                  <a:lnTo>
                    <a:pt x="1630" y="379"/>
                  </a:lnTo>
                  <a:lnTo>
                    <a:pt x="1625" y="388"/>
                  </a:lnTo>
                  <a:lnTo>
                    <a:pt x="1623" y="397"/>
                  </a:lnTo>
                  <a:lnTo>
                    <a:pt x="1622" y="407"/>
                  </a:lnTo>
                  <a:lnTo>
                    <a:pt x="1623" y="416"/>
                  </a:lnTo>
                  <a:lnTo>
                    <a:pt x="1625" y="425"/>
                  </a:lnTo>
                  <a:lnTo>
                    <a:pt x="1628" y="434"/>
                  </a:lnTo>
                  <a:lnTo>
                    <a:pt x="1632" y="442"/>
                  </a:lnTo>
                  <a:lnTo>
                    <a:pt x="1638" y="449"/>
                  </a:lnTo>
                  <a:lnTo>
                    <a:pt x="1645" y="456"/>
                  </a:lnTo>
                  <a:lnTo>
                    <a:pt x="1608" y="525"/>
                  </a:lnTo>
                  <a:lnTo>
                    <a:pt x="1602" y="525"/>
                  </a:lnTo>
                  <a:lnTo>
                    <a:pt x="1596" y="525"/>
                  </a:lnTo>
                  <a:lnTo>
                    <a:pt x="1591" y="526"/>
                  </a:lnTo>
                  <a:lnTo>
                    <a:pt x="1586" y="528"/>
                  </a:lnTo>
                  <a:lnTo>
                    <a:pt x="1582" y="531"/>
                  </a:lnTo>
                  <a:lnTo>
                    <a:pt x="1577" y="534"/>
                  </a:lnTo>
                  <a:lnTo>
                    <a:pt x="1573" y="538"/>
                  </a:lnTo>
                  <a:lnTo>
                    <a:pt x="1569" y="542"/>
                  </a:lnTo>
                  <a:lnTo>
                    <a:pt x="1563" y="552"/>
                  </a:lnTo>
                  <a:lnTo>
                    <a:pt x="1558" y="563"/>
                  </a:lnTo>
                  <a:lnTo>
                    <a:pt x="1553" y="575"/>
                  </a:lnTo>
                  <a:lnTo>
                    <a:pt x="1548" y="588"/>
                  </a:lnTo>
                  <a:lnTo>
                    <a:pt x="1546" y="602"/>
                  </a:lnTo>
                  <a:lnTo>
                    <a:pt x="1544" y="616"/>
                  </a:lnTo>
                  <a:lnTo>
                    <a:pt x="1542" y="629"/>
                  </a:lnTo>
                  <a:lnTo>
                    <a:pt x="1541" y="642"/>
                  </a:lnTo>
                  <a:lnTo>
                    <a:pt x="1541" y="653"/>
                  </a:lnTo>
                  <a:lnTo>
                    <a:pt x="1541" y="664"/>
                  </a:lnTo>
                  <a:lnTo>
                    <a:pt x="1542" y="673"/>
                  </a:lnTo>
                  <a:lnTo>
                    <a:pt x="1544" y="680"/>
                  </a:lnTo>
                  <a:lnTo>
                    <a:pt x="277" y="717"/>
                  </a:lnTo>
                  <a:lnTo>
                    <a:pt x="259" y="709"/>
                  </a:lnTo>
                  <a:lnTo>
                    <a:pt x="243" y="702"/>
                  </a:lnTo>
                  <a:lnTo>
                    <a:pt x="236" y="699"/>
                  </a:lnTo>
                  <a:lnTo>
                    <a:pt x="232" y="694"/>
                  </a:lnTo>
                  <a:lnTo>
                    <a:pt x="227" y="689"/>
                  </a:lnTo>
                  <a:lnTo>
                    <a:pt x="224" y="685"/>
                  </a:lnTo>
                  <a:lnTo>
                    <a:pt x="220" y="678"/>
                  </a:lnTo>
                  <a:lnTo>
                    <a:pt x="219" y="671"/>
                  </a:lnTo>
                  <a:lnTo>
                    <a:pt x="218" y="663"/>
                  </a:lnTo>
                  <a:lnTo>
                    <a:pt x="217" y="652"/>
                  </a:lnTo>
                  <a:lnTo>
                    <a:pt x="218" y="626"/>
                  </a:lnTo>
                  <a:lnTo>
                    <a:pt x="222" y="594"/>
                  </a:lnTo>
                  <a:lnTo>
                    <a:pt x="225" y="576"/>
                  </a:lnTo>
                  <a:lnTo>
                    <a:pt x="225" y="561"/>
                  </a:lnTo>
                  <a:lnTo>
                    <a:pt x="222" y="549"/>
                  </a:lnTo>
                  <a:lnTo>
                    <a:pt x="220" y="538"/>
                  </a:lnTo>
                  <a:lnTo>
                    <a:pt x="215" y="528"/>
                  </a:lnTo>
                  <a:lnTo>
                    <a:pt x="210" y="520"/>
                  </a:lnTo>
                  <a:lnTo>
                    <a:pt x="203" y="513"/>
                  </a:lnTo>
                  <a:lnTo>
                    <a:pt x="196" y="508"/>
                  </a:lnTo>
                  <a:lnTo>
                    <a:pt x="179" y="498"/>
                  </a:lnTo>
                  <a:lnTo>
                    <a:pt x="162" y="490"/>
                  </a:lnTo>
                  <a:lnTo>
                    <a:pt x="152" y="485"/>
                  </a:lnTo>
                  <a:lnTo>
                    <a:pt x="144" y="480"/>
                  </a:lnTo>
                  <a:lnTo>
                    <a:pt x="137" y="476"/>
                  </a:lnTo>
                  <a:lnTo>
                    <a:pt x="130" y="470"/>
                  </a:lnTo>
                  <a:lnTo>
                    <a:pt x="125" y="465"/>
                  </a:lnTo>
                  <a:lnTo>
                    <a:pt x="123" y="460"/>
                  </a:lnTo>
                  <a:lnTo>
                    <a:pt x="123" y="457"/>
                  </a:lnTo>
                  <a:lnTo>
                    <a:pt x="123" y="453"/>
                  </a:lnTo>
                  <a:lnTo>
                    <a:pt x="124" y="449"/>
                  </a:lnTo>
                  <a:lnTo>
                    <a:pt x="125" y="444"/>
                  </a:lnTo>
                  <a:lnTo>
                    <a:pt x="127" y="438"/>
                  </a:lnTo>
                  <a:lnTo>
                    <a:pt x="125" y="431"/>
                  </a:lnTo>
                  <a:lnTo>
                    <a:pt x="123" y="422"/>
                  </a:lnTo>
                  <a:lnTo>
                    <a:pt x="117" y="410"/>
                  </a:lnTo>
                  <a:lnTo>
                    <a:pt x="109" y="395"/>
                  </a:lnTo>
                  <a:lnTo>
                    <a:pt x="97" y="378"/>
                  </a:lnTo>
                  <a:lnTo>
                    <a:pt x="81" y="358"/>
                  </a:lnTo>
                  <a:lnTo>
                    <a:pt x="60" y="333"/>
                  </a:lnTo>
                  <a:lnTo>
                    <a:pt x="33" y="304"/>
                  </a:lnTo>
                  <a:lnTo>
                    <a:pt x="0" y="271"/>
                  </a:lnTo>
                  <a:lnTo>
                    <a:pt x="14" y="14"/>
                  </a:lnTo>
                  <a:lnTo>
                    <a:pt x="1388"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37" name="Freeform 1444"/>
            <p:cNvSpPr/>
            <p:nvPr/>
          </p:nvSpPr>
          <p:spPr>
            <a:xfrm>
              <a:off x="4550400" y="4745880"/>
              <a:ext cx="308160" cy="108000"/>
            </a:xfrm>
            <a:custGeom>
              <a:avLst/>
              <a:gdLst>
                <a:gd name="textAreaLeft" fmla="*/ 0 w 308160"/>
                <a:gd name="textAreaRight" fmla="*/ 308520 w 308160"/>
                <a:gd name="textAreaTop" fmla="*/ 0 h 108000"/>
                <a:gd name="textAreaBottom" fmla="*/ 108360 h 108000"/>
              </a:gdLst>
              <a:ahLst/>
              <a:rect l="textAreaLeft" t="textAreaTop" r="textAreaRight" b="textAreaBottom"/>
              <a:pathLst>
                <a:path w="1714" h="717">
                  <a:moveTo>
                    <a:pt x="1388" y="0"/>
                  </a:moveTo>
                  <a:lnTo>
                    <a:pt x="1399" y="19"/>
                  </a:lnTo>
                  <a:lnTo>
                    <a:pt x="1410" y="38"/>
                  </a:lnTo>
                  <a:lnTo>
                    <a:pt x="1424" y="56"/>
                  </a:lnTo>
                  <a:lnTo>
                    <a:pt x="1440" y="75"/>
                  </a:lnTo>
                  <a:lnTo>
                    <a:pt x="1457" y="93"/>
                  </a:lnTo>
                  <a:lnTo>
                    <a:pt x="1475" y="109"/>
                  </a:lnTo>
                  <a:lnTo>
                    <a:pt x="1494" y="125"/>
                  </a:lnTo>
                  <a:lnTo>
                    <a:pt x="1514" y="140"/>
                  </a:lnTo>
                  <a:lnTo>
                    <a:pt x="1535" y="153"/>
                  </a:lnTo>
                  <a:lnTo>
                    <a:pt x="1558" y="166"/>
                  </a:lnTo>
                  <a:lnTo>
                    <a:pt x="1579" y="177"/>
                  </a:lnTo>
                  <a:lnTo>
                    <a:pt x="1601" y="186"/>
                  </a:lnTo>
                  <a:lnTo>
                    <a:pt x="1622" y="193"/>
                  </a:lnTo>
                  <a:lnTo>
                    <a:pt x="1643" y="198"/>
                  </a:lnTo>
                  <a:lnTo>
                    <a:pt x="1663" y="201"/>
                  </a:lnTo>
                  <a:lnTo>
                    <a:pt x="1683" y="202"/>
                  </a:lnTo>
                  <a:lnTo>
                    <a:pt x="1714" y="331"/>
                  </a:lnTo>
                  <a:lnTo>
                    <a:pt x="1695" y="335"/>
                  </a:lnTo>
                  <a:lnTo>
                    <a:pt x="1679" y="340"/>
                  </a:lnTo>
                  <a:lnTo>
                    <a:pt x="1665" y="346"/>
                  </a:lnTo>
                  <a:lnTo>
                    <a:pt x="1653" y="353"/>
                  </a:lnTo>
                  <a:lnTo>
                    <a:pt x="1643" y="361"/>
                  </a:lnTo>
                  <a:lnTo>
                    <a:pt x="1636" y="369"/>
                  </a:lnTo>
                  <a:lnTo>
                    <a:pt x="1630" y="379"/>
                  </a:lnTo>
                  <a:lnTo>
                    <a:pt x="1625" y="388"/>
                  </a:lnTo>
                  <a:lnTo>
                    <a:pt x="1623" y="397"/>
                  </a:lnTo>
                  <a:lnTo>
                    <a:pt x="1622" y="407"/>
                  </a:lnTo>
                  <a:lnTo>
                    <a:pt x="1623" y="416"/>
                  </a:lnTo>
                  <a:lnTo>
                    <a:pt x="1625" y="425"/>
                  </a:lnTo>
                  <a:lnTo>
                    <a:pt x="1628" y="434"/>
                  </a:lnTo>
                  <a:lnTo>
                    <a:pt x="1632" y="442"/>
                  </a:lnTo>
                  <a:lnTo>
                    <a:pt x="1638" y="449"/>
                  </a:lnTo>
                  <a:lnTo>
                    <a:pt x="1645" y="456"/>
                  </a:lnTo>
                  <a:lnTo>
                    <a:pt x="1608" y="525"/>
                  </a:lnTo>
                  <a:lnTo>
                    <a:pt x="1602" y="525"/>
                  </a:lnTo>
                  <a:lnTo>
                    <a:pt x="1596" y="525"/>
                  </a:lnTo>
                  <a:lnTo>
                    <a:pt x="1591" y="526"/>
                  </a:lnTo>
                  <a:lnTo>
                    <a:pt x="1586" y="528"/>
                  </a:lnTo>
                  <a:lnTo>
                    <a:pt x="1582" y="531"/>
                  </a:lnTo>
                  <a:lnTo>
                    <a:pt x="1577" y="534"/>
                  </a:lnTo>
                  <a:lnTo>
                    <a:pt x="1573" y="538"/>
                  </a:lnTo>
                  <a:lnTo>
                    <a:pt x="1569" y="542"/>
                  </a:lnTo>
                  <a:lnTo>
                    <a:pt x="1563" y="552"/>
                  </a:lnTo>
                  <a:lnTo>
                    <a:pt x="1558" y="563"/>
                  </a:lnTo>
                  <a:lnTo>
                    <a:pt x="1553" y="575"/>
                  </a:lnTo>
                  <a:lnTo>
                    <a:pt x="1548" y="588"/>
                  </a:lnTo>
                  <a:lnTo>
                    <a:pt x="1546" y="602"/>
                  </a:lnTo>
                  <a:lnTo>
                    <a:pt x="1544" y="616"/>
                  </a:lnTo>
                  <a:lnTo>
                    <a:pt x="1542" y="629"/>
                  </a:lnTo>
                  <a:lnTo>
                    <a:pt x="1541" y="642"/>
                  </a:lnTo>
                  <a:lnTo>
                    <a:pt x="1541" y="653"/>
                  </a:lnTo>
                  <a:lnTo>
                    <a:pt x="1541" y="664"/>
                  </a:lnTo>
                  <a:lnTo>
                    <a:pt x="1542" y="673"/>
                  </a:lnTo>
                  <a:lnTo>
                    <a:pt x="1544" y="680"/>
                  </a:lnTo>
                  <a:lnTo>
                    <a:pt x="277" y="717"/>
                  </a:lnTo>
                  <a:lnTo>
                    <a:pt x="259" y="709"/>
                  </a:lnTo>
                  <a:lnTo>
                    <a:pt x="243" y="702"/>
                  </a:lnTo>
                  <a:lnTo>
                    <a:pt x="236" y="699"/>
                  </a:lnTo>
                  <a:lnTo>
                    <a:pt x="232" y="694"/>
                  </a:lnTo>
                  <a:lnTo>
                    <a:pt x="227" y="689"/>
                  </a:lnTo>
                  <a:lnTo>
                    <a:pt x="224" y="685"/>
                  </a:lnTo>
                  <a:lnTo>
                    <a:pt x="220" y="678"/>
                  </a:lnTo>
                  <a:lnTo>
                    <a:pt x="219" y="671"/>
                  </a:lnTo>
                  <a:lnTo>
                    <a:pt x="218" y="663"/>
                  </a:lnTo>
                  <a:lnTo>
                    <a:pt x="217" y="652"/>
                  </a:lnTo>
                  <a:lnTo>
                    <a:pt x="218" y="626"/>
                  </a:lnTo>
                  <a:lnTo>
                    <a:pt x="222" y="594"/>
                  </a:lnTo>
                  <a:lnTo>
                    <a:pt x="225" y="576"/>
                  </a:lnTo>
                  <a:lnTo>
                    <a:pt x="225" y="561"/>
                  </a:lnTo>
                  <a:lnTo>
                    <a:pt x="222" y="549"/>
                  </a:lnTo>
                  <a:lnTo>
                    <a:pt x="220" y="538"/>
                  </a:lnTo>
                  <a:lnTo>
                    <a:pt x="215" y="528"/>
                  </a:lnTo>
                  <a:lnTo>
                    <a:pt x="210" y="520"/>
                  </a:lnTo>
                  <a:lnTo>
                    <a:pt x="203" y="513"/>
                  </a:lnTo>
                  <a:lnTo>
                    <a:pt x="196" y="508"/>
                  </a:lnTo>
                  <a:lnTo>
                    <a:pt x="179" y="498"/>
                  </a:lnTo>
                  <a:lnTo>
                    <a:pt x="162" y="490"/>
                  </a:lnTo>
                  <a:lnTo>
                    <a:pt x="152" y="485"/>
                  </a:lnTo>
                  <a:lnTo>
                    <a:pt x="144" y="480"/>
                  </a:lnTo>
                  <a:lnTo>
                    <a:pt x="137" y="476"/>
                  </a:lnTo>
                  <a:lnTo>
                    <a:pt x="130" y="470"/>
                  </a:lnTo>
                  <a:lnTo>
                    <a:pt x="125" y="465"/>
                  </a:lnTo>
                  <a:lnTo>
                    <a:pt x="123" y="460"/>
                  </a:lnTo>
                  <a:lnTo>
                    <a:pt x="123" y="457"/>
                  </a:lnTo>
                  <a:lnTo>
                    <a:pt x="123" y="453"/>
                  </a:lnTo>
                  <a:lnTo>
                    <a:pt x="124" y="449"/>
                  </a:lnTo>
                  <a:lnTo>
                    <a:pt x="125" y="444"/>
                  </a:lnTo>
                  <a:lnTo>
                    <a:pt x="127" y="438"/>
                  </a:lnTo>
                  <a:lnTo>
                    <a:pt x="125" y="431"/>
                  </a:lnTo>
                  <a:lnTo>
                    <a:pt x="123" y="422"/>
                  </a:lnTo>
                  <a:lnTo>
                    <a:pt x="117" y="410"/>
                  </a:lnTo>
                  <a:lnTo>
                    <a:pt x="109" y="395"/>
                  </a:lnTo>
                  <a:lnTo>
                    <a:pt x="97" y="378"/>
                  </a:lnTo>
                  <a:lnTo>
                    <a:pt x="81" y="358"/>
                  </a:lnTo>
                  <a:lnTo>
                    <a:pt x="60" y="333"/>
                  </a:lnTo>
                  <a:lnTo>
                    <a:pt x="33" y="304"/>
                  </a:lnTo>
                  <a:lnTo>
                    <a:pt x="0" y="271"/>
                  </a:lnTo>
                  <a:lnTo>
                    <a:pt x="14" y="14"/>
                  </a:lnTo>
                  <a:lnTo>
                    <a:pt x="1388" y="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38" name="Freeform 1445"/>
            <p:cNvSpPr/>
            <p:nvPr/>
          </p:nvSpPr>
          <p:spPr>
            <a:xfrm>
              <a:off x="3154680" y="4761360"/>
              <a:ext cx="342360" cy="439560"/>
            </a:xfrm>
            <a:custGeom>
              <a:avLst/>
              <a:gdLst>
                <a:gd name="textAreaLeft" fmla="*/ 0 w 342360"/>
                <a:gd name="textAreaRight" fmla="*/ 342720 w 342360"/>
                <a:gd name="textAreaTop" fmla="*/ 0 h 439560"/>
                <a:gd name="textAreaBottom" fmla="*/ 439920 h 439560"/>
              </a:gdLst>
              <a:ahLst/>
              <a:rect l="textAreaLeft" t="textAreaTop" r="textAreaRight" b="textAreaBottom"/>
              <a:pathLst>
                <a:path w="1904" h="2906">
                  <a:moveTo>
                    <a:pt x="1147" y="2906"/>
                  </a:moveTo>
                  <a:lnTo>
                    <a:pt x="1175" y="2857"/>
                  </a:lnTo>
                  <a:lnTo>
                    <a:pt x="400" y="2857"/>
                  </a:lnTo>
                  <a:lnTo>
                    <a:pt x="411" y="2837"/>
                  </a:lnTo>
                  <a:lnTo>
                    <a:pt x="421" y="2817"/>
                  </a:lnTo>
                  <a:lnTo>
                    <a:pt x="428" y="2797"/>
                  </a:lnTo>
                  <a:lnTo>
                    <a:pt x="435" y="2777"/>
                  </a:lnTo>
                  <a:lnTo>
                    <a:pt x="441" y="2759"/>
                  </a:lnTo>
                  <a:lnTo>
                    <a:pt x="446" y="2739"/>
                  </a:lnTo>
                  <a:lnTo>
                    <a:pt x="449" y="2720"/>
                  </a:lnTo>
                  <a:lnTo>
                    <a:pt x="452" y="2701"/>
                  </a:lnTo>
                  <a:lnTo>
                    <a:pt x="453" y="2683"/>
                  </a:lnTo>
                  <a:lnTo>
                    <a:pt x="453" y="2665"/>
                  </a:lnTo>
                  <a:lnTo>
                    <a:pt x="452" y="2647"/>
                  </a:lnTo>
                  <a:lnTo>
                    <a:pt x="449" y="2629"/>
                  </a:lnTo>
                  <a:lnTo>
                    <a:pt x="447" y="2612"/>
                  </a:lnTo>
                  <a:lnTo>
                    <a:pt x="443" y="2594"/>
                  </a:lnTo>
                  <a:lnTo>
                    <a:pt x="440" y="2578"/>
                  </a:lnTo>
                  <a:lnTo>
                    <a:pt x="435" y="2560"/>
                  </a:lnTo>
                  <a:lnTo>
                    <a:pt x="429" y="2544"/>
                  </a:lnTo>
                  <a:lnTo>
                    <a:pt x="424" y="2527"/>
                  </a:lnTo>
                  <a:lnTo>
                    <a:pt x="418" y="2512"/>
                  </a:lnTo>
                  <a:lnTo>
                    <a:pt x="411" y="2496"/>
                  </a:lnTo>
                  <a:lnTo>
                    <a:pt x="396" y="2466"/>
                  </a:lnTo>
                  <a:lnTo>
                    <a:pt x="379" y="2436"/>
                  </a:lnTo>
                  <a:lnTo>
                    <a:pt x="362" y="2408"/>
                  </a:lnTo>
                  <a:lnTo>
                    <a:pt x="344" y="2383"/>
                  </a:lnTo>
                  <a:lnTo>
                    <a:pt x="325" y="2357"/>
                  </a:lnTo>
                  <a:lnTo>
                    <a:pt x="308" y="2332"/>
                  </a:lnTo>
                  <a:lnTo>
                    <a:pt x="300" y="2322"/>
                  </a:lnTo>
                  <a:lnTo>
                    <a:pt x="293" y="2310"/>
                  </a:lnTo>
                  <a:lnTo>
                    <a:pt x="286" y="2298"/>
                  </a:lnTo>
                  <a:lnTo>
                    <a:pt x="280" y="2288"/>
                  </a:lnTo>
                  <a:lnTo>
                    <a:pt x="272" y="2267"/>
                  </a:lnTo>
                  <a:lnTo>
                    <a:pt x="265" y="2247"/>
                  </a:lnTo>
                  <a:lnTo>
                    <a:pt x="260" y="2228"/>
                  </a:lnTo>
                  <a:lnTo>
                    <a:pt x="259" y="2210"/>
                  </a:lnTo>
                  <a:lnTo>
                    <a:pt x="258" y="2193"/>
                  </a:lnTo>
                  <a:lnTo>
                    <a:pt x="259" y="2178"/>
                  </a:lnTo>
                  <a:lnTo>
                    <a:pt x="261" y="2164"/>
                  </a:lnTo>
                  <a:lnTo>
                    <a:pt x="265" y="2152"/>
                  </a:lnTo>
                  <a:lnTo>
                    <a:pt x="267" y="2142"/>
                  </a:lnTo>
                  <a:lnTo>
                    <a:pt x="271" y="2133"/>
                  </a:lnTo>
                  <a:lnTo>
                    <a:pt x="276" y="2121"/>
                  </a:lnTo>
                  <a:lnTo>
                    <a:pt x="280" y="2117"/>
                  </a:lnTo>
                  <a:lnTo>
                    <a:pt x="60" y="2085"/>
                  </a:lnTo>
                  <a:lnTo>
                    <a:pt x="63" y="2077"/>
                  </a:lnTo>
                  <a:lnTo>
                    <a:pt x="65" y="2068"/>
                  </a:lnTo>
                  <a:lnTo>
                    <a:pt x="66" y="2060"/>
                  </a:lnTo>
                  <a:lnTo>
                    <a:pt x="67" y="2052"/>
                  </a:lnTo>
                  <a:lnTo>
                    <a:pt x="66" y="2037"/>
                  </a:lnTo>
                  <a:lnTo>
                    <a:pt x="64" y="2022"/>
                  </a:lnTo>
                  <a:lnTo>
                    <a:pt x="60" y="2009"/>
                  </a:lnTo>
                  <a:lnTo>
                    <a:pt x="56" y="1996"/>
                  </a:lnTo>
                  <a:lnTo>
                    <a:pt x="49" y="1983"/>
                  </a:lnTo>
                  <a:lnTo>
                    <a:pt x="42" y="1973"/>
                  </a:lnTo>
                  <a:lnTo>
                    <a:pt x="28" y="1955"/>
                  </a:lnTo>
                  <a:lnTo>
                    <a:pt x="14" y="1941"/>
                  </a:lnTo>
                  <a:lnTo>
                    <a:pt x="4" y="1933"/>
                  </a:lnTo>
                  <a:lnTo>
                    <a:pt x="0" y="1929"/>
                  </a:lnTo>
                  <a:lnTo>
                    <a:pt x="184" y="1713"/>
                  </a:lnTo>
                  <a:lnTo>
                    <a:pt x="184" y="1705"/>
                  </a:lnTo>
                  <a:lnTo>
                    <a:pt x="183" y="1697"/>
                  </a:lnTo>
                  <a:lnTo>
                    <a:pt x="181" y="1689"/>
                  </a:lnTo>
                  <a:lnTo>
                    <a:pt x="178" y="1681"/>
                  </a:lnTo>
                  <a:lnTo>
                    <a:pt x="170" y="1664"/>
                  </a:lnTo>
                  <a:lnTo>
                    <a:pt x="161" y="1649"/>
                  </a:lnTo>
                  <a:lnTo>
                    <a:pt x="137" y="1619"/>
                  </a:lnTo>
                  <a:lnTo>
                    <a:pt x="112" y="1587"/>
                  </a:lnTo>
                  <a:lnTo>
                    <a:pt x="99" y="1571"/>
                  </a:lnTo>
                  <a:lnTo>
                    <a:pt x="87" y="1554"/>
                  </a:lnTo>
                  <a:lnTo>
                    <a:pt x="77" y="1538"/>
                  </a:lnTo>
                  <a:lnTo>
                    <a:pt x="67" y="1519"/>
                  </a:lnTo>
                  <a:lnTo>
                    <a:pt x="64" y="1510"/>
                  </a:lnTo>
                  <a:lnTo>
                    <a:pt x="61" y="1501"/>
                  </a:lnTo>
                  <a:lnTo>
                    <a:pt x="59" y="1491"/>
                  </a:lnTo>
                  <a:lnTo>
                    <a:pt x="58" y="1481"/>
                  </a:lnTo>
                  <a:lnTo>
                    <a:pt x="57" y="1470"/>
                  </a:lnTo>
                  <a:lnTo>
                    <a:pt x="57" y="1460"/>
                  </a:lnTo>
                  <a:lnTo>
                    <a:pt x="58" y="1448"/>
                  </a:lnTo>
                  <a:lnTo>
                    <a:pt x="60" y="1438"/>
                  </a:lnTo>
                  <a:lnTo>
                    <a:pt x="67" y="1414"/>
                  </a:lnTo>
                  <a:lnTo>
                    <a:pt x="77" y="1391"/>
                  </a:lnTo>
                  <a:lnTo>
                    <a:pt x="86" y="1369"/>
                  </a:lnTo>
                  <a:lnTo>
                    <a:pt x="98" y="1347"/>
                  </a:lnTo>
                  <a:lnTo>
                    <a:pt x="111" y="1324"/>
                  </a:lnTo>
                  <a:lnTo>
                    <a:pt x="123" y="1304"/>
                  </a:lnTo>
                  <a:lnTo>
                    <a:pt x="137" y="1285"/>
                  </a:lnTo>
                  <a:lnTo>
                    <a:pt x="150" y="1267"/>
                  </a:lnTo>
                  <a:lnTo>
                    <a:pt x="175" y="1236"/>
                  </a:lnTo>
                  <a:lnTo>
                    <a:pt x="196" y="1211"/>
                  </a:lnTo>
                  <a:lnTo>
                    <a:pt x="211" y="1195"/>
                  </a:lnTo>
                  <a:lnTo>
                    <a:pt x="216" y="1190"/>
                  </a:lnTo>
                  <a:lnTo>
                    <a:pt x="224" y="1197"/>
                  </a:lnTo>
                  <a:lnTo>
                    <a:pt x="232" y="1203"/>
                  </a:lnTo>
                  <a:lnTo>
                    <a:pt x="239" y="1208"/>
                  </a:lnTo>
                  <a:lnTo>
                    <a:pt x="245" y="1209"/>
                  </a:lnTo>
                  <a:lnTo>
                    <a:pt x="251" y="1210"/>
                  </a:lnTo>
                  <a:lnTo>
                    <a:pt x="257" y="1210"/>
                  </a:lnTo>
                  <a:lnTo>
                    <a:pt x="261" y="1208"/>
                  </a:lnTo>
                  <a:lnTo>
                    <a:pt x="265" y="1204"/>
                  </a:lnTo>
                  <a:lnTo>
                    <a:pt x="268" y="1199"/>
                  </a:lnTo>
                  <a:lnTo>
                    <a:pt x="272" y="1195"/>
                  </a:lnTo>
                  <a:lnTo>
                    <a:pt x="274" y="1188"/>
                  </a:lnTo>
                  <a:lnTo>
                    <a:pt x="276" y="1181"/>
                  </a:lnTo>
                  <a:lnTo>
                    <a:pt x="280" y="1164"/>
                  </a:lnTo>
                  <a:lnTo>
                    <a:pt x="282" y="1147"/>
                  </a:lnTo>
                  <a:lnTo>
                    <a:pt x="283" y="1127"/>
                  </a:lnTo>
                  <a:lnTo>
                    <a:pt x="283" y="1107"/>
                  </a:lnTo>
                  <a:lnTo>
                    <a:pt x="283" y="1088"/>
                  </a:lnTo>
                  <a:lnTo>
                    <a:pt x="282" y="1071"/>
                  </a:lnTo>
                  <a:lnTo>
                    <a:pt x="280" y="1044"/>
                  </a:lnTo>
                  <a:lnTo>
                    <a:pt x="280" y="1033"/>
                  </a:lnTo>
                  <a:lnTo>
                    <a:pt x="296" y="1025"/>
                  </a:lnTo>
                  <a:lnTo>
                    <a:pt x="311" y="1016"/>
                  </a:lnTo>
                  <a:lnTo>
                    <a:pt x="325" y="1007"/>
                  </a:lnTo>
                  <a:lnTo>
                    <a:pt x="337" y="996"/>
                  </a:lnTo>
                  <a:lnTo>
                    <a:pt x="349" y="987"/>
                  </a:lnTo>
                  <a:lnTo>
                    <a:pt x="358" y="976"/>
                  </a:lnTo>
                  <a:lnTo>
                    <a:pt x="368" y="966"/>
                  </a:lnTo>
                  <a:lnTo>
                    <a:pt x="376" y="954"/>
                  </a:lnTo>
                  <a:lnTo>
                    <a:pt x="383" y="944"/>
                  </a:lnTo>
                  <a:lnTo>
                    <a:pt x="389" y="932"/>
                  </a:lnTo>
                  <a:lnTo>
                    <a:pt x="393" y="920"/>
                  </a:lnTo>
                  <a:lnTo>
                    <a:pt x="397" y="908"/>
                  </a:lnTo>
                  <a:lnTo>
                    <a:pt x="400" y="897"/>
                  </a:lnTo>
                  <a:lnTo>
                    <a:pt x="403" y="885"/>
                  </a:lnTo>
                  <a:lnTo>
                    <a:pt x="405" y="872"/>
                  </a:lnTo>
                  <a:lnTo>
                    <a:pt x="405" y="861"/>
                  </a:lnTo>
                  <a:lnTo>
                    <a:pt x="406" y="835"/>
                  </a:lnTo>
                  <a:lnTo>
                    <a:pt x="404" y="810"/>
                  </a:lnTo>
                  <a:lnTo>
                    <a:pt x="400" y="785"/>
                  </a:lnTo>
                  <a:lnTo>
                    <a:pt x="396" y="760"/>
                  </a:lnTo>
                  <a:lnTo>
                    <a:pt x="384" y="710"/>
                  </a:lnTo>
                  <a:lnTo>
                    <a:pt x="371" y="662"/>
                  </a:lnTo>
                  <a:lnTo>
                    <a:pt x="587" y="418"/>
                  </a:lnTo>
                  <a:lnTo>
                    <a:pt x="588" y="403"/>
                  </a:lnTo>
                  <a:lnTo>
                    <a:pt x="592" y="388"/>
                  </a:lnTo>
                  <a:lnTo>
                    <a:pt x="598" y="371"/>
                  </a:lnTo>
                  <a:lnTo>
                    <a:pt x="605" y="355"/>
                  </a:lnTo>
                  <a:lnTo>
                    <a:pt x="614" y="338"/>
                  </a:lnTo>
                  <a:lnTo>
                    <a:pt x="625" y="321"/>
                  </a:lnTo>
                  <a:lnTo>
                    <a:pt x="636" y="305"/>
                  </a:lnTo>
                  <a:lnTo>
                    <a:pt x="650" y="287"/>
                  </a:lnTo>
                  <a:lnTo>
                    <a:pt x="664" y="270"/>
                  </a:lnTo>
                  <a:lnTo>
                    <a:pt x="681" y="252"/>
                  </a:lnTo>
                  <a:lnTo>
                    <a:pt x="697" y="234"/>
                  </a:lnTo>
                  <a:lnTo>
                    <a:pt x="714" y="217"/>
                  </a:lnTo>
                  <a:lnTo>
                    <a:pt x="751" y="183"/>
                  </a:lnTo>
                  <a:lnTo>
                    <a:pt x="788" y="150"/>
                  </a:lnTo>
                  <a:lnTo>
                    <a:pt x="825" y="120"/>
                  </a:lnTo>
                  <a:lnTo>
                    <a:pt x="862" y="91"/>
                  </a:lnTo>
                  <a:lnTo>
                    <a:pt x="896" y="65"/>
                  </a:lnTo>
                  <a:lnTo>
                    <a:pt x="926" y="43"/>
                  </a:lnTo>
                  <a:lnTo>
                    <a:pt x="970" y="11"/>
                  </a:lnTo>
                  <a:lnTo>
                    <a:pt x="988" y="0"/>
                  </a:lnTo>
                  <a:lnTo>
                    <a:pt x="1904" y="95"/>
                  </a:lnTo>
                  <a:lnTo>
                    <a:pt x="1273" y="807"/>
                  </a:lnTo>
                  <a:lnTo>
                    <a:pt x="1837" y="2053"/>
                  </a:lnTo>
                  <a:lnTo>
                    <a:pt x="1824" y="2071"/>
                  </a:lnTo>
                  <a:lnTo>
                    <a:pt x="1814" y="2087"/>
                  </a:lnTo>
                  <a:lnTo>
                    <a:pt x="1805" y="2103"/>
                  </a:lnTo>
                  <a:lnTo>
                    <a:pt x="1798" y="2117"/>
                  </a:lnTo>
                  <a:lnTo>
                    <a:pt x="1794" y="2131"/>
                  </a:lnTo>
                  <a:lnTo>
                    <a:pt x="1790" y="2144"/>
                  </a:lnTo>
                  <a:lnTo>
                    <a:pt x="1788" y="2156"/>
                  </a:lnTo>
                  <a:lnTo>
                    <a:pt x="1787" y="2166"/>
                  </a:lnTo>
                  <a:lnTo>
                    <a:pt x="1787" y="2185"/>
                  </a:lnTo>
                  <a:lnTo>
                    <a:pt x="1788" y="2198"/>
                  </a:lnTo>
                  <a:lnTo>
                    <a:pt x="1790" y="2206"/>
                  </a:lnTo>
                  <a:lnTo>
                    <a:pt x="1791" y="2209"/>
                  </a:lnTo>
                  <a:lnTo>
                    <a:pt x="1809" y="2301"/>
                  </a:lnTo>
                  <a:lnTo>
                    <a:pt x="1787" y="2315"/>
                  </a:lnTo>
                  <a:lnTo>
                    <a:pt x="1763" y="2330"/>
                  </a:lnTo>
                  <a:lnTo>
                    <a:pt x="1738" y="2348"/>
                  </a:lnTo>
                  <a:lnTo>
                    <a:pt x="1712" y="2367"/>
                  </a:lnTo>
                  <a:lnTo>
                    <a:pt x="1685" y="2388"/>
                  </a:lnTo>
                  <a:lnTo>
                    <a:pt x="1658" y="2409"/>
                  </a:lnTo>
                  <a:lnTo>
                    <a:pt x="1633" y="2432"/>
                  </a:lnTo>
                  <a:lnTo>
                    <a:pt x="1607" y="2455"/>
                  </a:lnTo>
                  <a:lnTo>
                    <a:pt x="1582" y="2477"/>
                  </a:lnTo>
                  <a:lnTo>
                    <a:pt x="1561" y="2498"/>
                  </a:lnTo>
                  <a:lnTo>
                    <a:pt x="1542" y="2519"/>
                  </a:lnTo>
                  <a:lnTo>
                    <a:pt x="1525" y="2539"/>
                  </a:lnTo>
                  <a:lnTo>
                    <a:pt x="1511" y="2557"/>
                  </a:lnTo>
                  <a:lnTo>
                    <a:pt x="1503" y="2572"/>
                  </a:lnTo>
                  <a:lnTo>
                    <a:pt x="1499" y="2579"/>
                  </a:lnTo>
                  <a:lnTo>
                    <a:pt x="1497" y="2585"/>
                  </a:lnTo>
                  <a:lnTo>
                    <a:pt x="1497" y="2590"/>
                  </a:lnTo>
                  <a:lnTo>
                    <a:pt x="1497" y="2595"/>
                  </a:lnTo>
                  <a:lnTo>
                    <a:pt x="1475" y="2605"/>
                  </a:lnTo>
                  <a:lnTo>
                    <a:pt x="1454" y="2615"/>
                  </a:lnTo>
                  <a:lnTo>
                    <a:pt x="1433" y="2627"/>
                  </a:lnTo>
                  <a:lnTo>
                    <a:pt x="1414" y="2638"/>
                  </a:lnTo>
                  <a:lnTo>
                    <a:pt x="1397" y="2651"/>
                  </a:lnTo>
                  <a:lnTo>
                    <a:pt x="1380" y="2664"/>
                  </a:lnTo>
                  <a:lnTo>
                    <a:pt x="1365" y="2677"/>
                  </a:lnTo>
                  <a:lnTo>
                    <a:pt x="1352" y="2690"/>
                  </a:lnTo>
                  <a:lnTo>
                    <a:pt x="1329" y="2713"/>
                  </a:lnTo>
                  <a:lnTo>
                    <a:pt x="1313" y="2733"/>
                  </a:lnTo>
                  <a:lnTo>
                    <a:pt x="1302" y="2746"/>
                  </a:lnTo>
                  <a:lnTo>
                    <a:pt x="1299" y="2751"/>
                  </a:lnTo>
                  <a:lnTo>
                    <a:pt x="1328" y="2829"/>
                  </a:lnTo>
                  <a:lnTo>
                    <a:pt x="1313" y="2840"/>
                  </a:lnTo>
                  <a:lnTo>
                    <a:pt x="1297" y="2851"/>
                  </a:lnTo>
                  <a:lnTo>
                    <a:pt x="1282" y="2860"/>
                  </a:lnTo>
                  <a:lnTo>
                    <a:pt x="1268" y="2868"/>
                  </a:lnTo>
                  <a:lnTo>
                    <a:pt x="1254" y="2876"/>
                  </a:lnTo>
                  <a:lnTo>
                    <a:pt x="1241" y="2881"/>
                  </a:lnTo>
                  <a:lnTo>
                    <a:pt x="1228" y="2887"/>
                  </a:lnTo>
                  <a:lnTo>
                    <a:pt x="1217" y="2891"/>
                  </a:lnTo>
                  <a:lnTo>
                    <a:pt x="1195" y="2897"/>
                  </a:lnTo>
                  <a:lnTo>
                    <a:pt x="1175" y="2901"/>
                  </a:lnTo>
                  <a:lnTo>
                    <a:pt x="1158" y="2904"/>
                  </a:lnTo>
                  <a:lnTo>
                    <a:pt x="1147" y="29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39" name="Freeform 1446"/>
            <p:cNvSpPr/>
            <p:nvPr/>
          </p:nvSpPr>
          <p:spPr>
            <a:xfrm>
              <a:off x="3154680" y="4761360"/>
              <a:ext cx="342360" cy="439560"/>
            </a:xfrm>
            <a:custGeom>
              <a:avLst/>
              <a:gdLst>
                <a:gd name="textAreaLeft" fmla="*/ 0 w 342360"/>
                <a:gd name="textAreaRight" fmla="*/ 342720 w 342360"/>
                <a:gd name="textAreaTop" fmla="*/ 0 h 439560"/>
                <a:gd name="textAreaBottom" fmla="*/ 439920 h 439560"/>
              </a:gdLst>
              <a:ahLst/>
              <a:rect l="textAreaLeft" t="textAreaTop" r="textAreaRight" b="textAreaBottom"/>
              <a:pathLst>
                <a:path w="1904" h="2906">
                  <a:moveTo>
                    <a:pt x="1147" y="2906"/>
                  </a:moveTo>
                  <a:lnTo>
                    <a:pt x="1175" y="2857"/>
                  </a:lnTo>
                  <a:lnTo>
                    <a:pt x="400" y="2857"/>
                  </a:lnTo>
                  <a:lnTo>
                    <a:pt x="411" y="2837"/>
                  </a:lnTo>
                  <a:lnTo>
                    <a:pt x="421" y="2817"/>
                  </a:lnTo>
                  <a:lnTo>
                    <a:pt x="428" y="2797"/>
                  </a:lnTo>
                  <a:lnTo>
                    <a:pt x="435" y="2777"/>
                  </a:lnTo>
                  <a:lnTo>
                    <a:pt x="441" y="2759"/>
                  </a:lnTo>
                  <a:lnTo>
                    <a:pt x="446" y="2739"/>
                  </a:lnTo>
                  <a:lnTo>
                    <a:pt x="449" y="2720"/>
                  </a:lnTo>
                  <a:lnTo>
                    <a:pt x="452" y="2701"/>
                  </a:lnTo>
                  <a:lnTo>
                    <a:pt x="453" y="2683"/>
                  </a:lnTo>
                  <a:lnTo>
                    <a:pt x="453" y="2665"/>
                  </a:lnTo>
                  <a:lnTo>
                    <a:pt x="452" y="2647"/>
                  </a:lnTo>
                  <a:lnTo>
                    <a:pt x="449" y="2629"/>
                  </a:lnTo>
                  <a:lnTo>
                    <a:pt x="447" y="2612"/>
                  </a:lnTo>
                  <a:lnTo>
                    <a:pt x="443" y="2594"/>
                  </a:lnTo>
                  <a:lnTo>
                    <a:pt x="440" y="2578"/>
                  </a:lnTo>
                  <a:lnTo>
                    <a:pt x="435" y="2560"/>
                  </a:lnTo>
                  <a:lnTo>
                    <a:pt x="429" y="2544"/>
                  </a:lnTo>
                  <a:lnTo>
                    <a:pt x="424" y="2527"/>
                  </a:lnTo>
                  <a:lnTo>
                    <a:pt x="418" y="2512"/>
                  </a:lnTo>
                  <a:lnTo>
                    <a:pt x="411" y="2496"/>
                  </a:lnTo>
                  <a:lnTo>
                    <a:pt x="396" y="2466"/>
                  </a:lnTo>
                  <a:lnTo>
                    <a:pt x="379" y="2436"/>
                  </a:lnTo>
                  <a:lnTo>
                    <a:pt x="362" y="2408"/>
                  </a:lnTo>
                  <a:lnTo>
                    <a:pt x="344" y="2383"/>
                  </a:lnTo>
                  <a:lnTo>
                    <a:pt x="325" y="2357"/>
                  </a:lnTo>
                  <a:lnTo>
                    <a:pt x="308" y="2332"/>
                  </a:lnTo>
                  <a:lnTo>
                    <a:pt x="300" y="2322"/>
                  </a:lnTo>
                  <a:lnTo>
                    <a:pt x="293" y="2310"/>
                  </a:lnTo>
                  <a:lnTo>
                    <a:pt x="286" y="2298"/>
                  </a:lnTo>
                  <a:lnTo>
                    <a:pt x="280" y="2288"/>
                  </a:lnTo>
                  <a:lnTo>
                    <a:pt x="272" y="2267"/>
                  </a:lnTo>
                  <a:lnTo>
                    <a:pt x="265" y="2247"/>
                  </a:lnTo>
                  <a:lnTo>
                    <a:pt x="260" y="2228"/>
                  </a:lnTo>
                  <a:lnTo>
                    <a:pt x="259" y="2210"/>
                  </a:lnTo>
                  <a:lnTo>
                    <a:pt x="258" y="2193"/>
                  </a:lnTo>
                  <a:lnTo>
                    <a:pt x="259" y="2178"/>
                  </a:lnTo>
                  <a:lnTo>
                    <a:pt x="261" y="2164"/>
                  </a:lnTo>
                  <a:lnTo>
                    <a:pt x="265" y="2152"/>
                  </a:lnTo>
                  <a:lnTo>
                    <a:pt x="267" y="2142"/>
                  </a:lnTo>
                  <a:lnTo>
                    <a:pt x="271" y="2133"/>
                  </a:lnTo>
                  <a:lnTo>
                    <a:pt x="276" y="2121"/>
                  </a:lnTo>
                  <a:lnTo>
                    <a:pt x="280" y="2117"/>
                  </a:lnTo>
                  <a:lnTo>
                    <a:pt x="60" y="2085"/>
                  </a:lnTo>
                  <a:lnTo>
                    <a:pt x="63" y="2077"/>
                  </a:lnTo>
                  <a:lnTo>
                    <a:pt x="65" y="2068"/>
                  </a:lnTo>
                  <a:lnTo>
                    <a:pt x="66" y="2060"/>
                  </a:lnTo>
                  <a:lnTo>
                    <a:pt x="67" y="2052"/>
                  </a:lnTo>
                  <a:lnTo>
                    <a:pt x="66" y="2037"/>
                  </a:lnTo>
                  <a:lnTo>
                    <a:pt x="64" y="2022"/>
                  </a:lnTo>
                  <a:lnTo>
                    <a:pt x="60" y="2009"/>
                  </a:lnTo>
                  <a:lnTo>
                    <a:pt x="56" y="1996"/>
                  </a:lnTo>
                  <a:lnTo>
                    <a:pt x="49" y="1983"/>
                  </a:lnTo>
                  <a:lnTo>
                    <a:pt x="42" y="1973"/>
                  </a:lnTo>
                  <a:lnTo>
                    <a:pt x="28" y="1955"/>
                  </a:lnTo>
                  <a:lnTo>
                    <a:pt x="14" y="1941"/>
                  </a:lnTo>
                  <a:lnTo>
                    <a:pt x="4" y="1933"/>
                  </a:lnTo>
                  <a:lnTo>
                    <a:pt x="0" y="1929"/>
                  </a:lnTo>
                  <a:lnTo>
                    <a:pt x="184" y="1713"/>
                  </a:lnTo>
                  <a:lnTo>
                    <a:pt x="184" y="1705"/>
                  </a:lnTo>
                  <a:lnTo>
                    <a:pt x="183" y="1697"/>
                  </a:lnTo>
                  <a:lnTo>
                    <a:pt x="181" y="1689"/>
                  </a:lnTo>
                  <a:lnTo>
                    <a:pt x="178" y="1681"/>
                  </a:lnTo>
                  <a:lnTo>
                    <a:pt x="170" y="1664"/>
                  </a:lnTo>
                  <a:lnTo>
                    <a:pt x="161" y="1649"/>
                  </a:lnTo>
                  <a:lnTo>
                    <a:pt x="137" y="1619"/>
                  </a:lnTo>
                  <a:lnTo>
                    <a:pt x="112" y="1587"/>
                  </a:lnTo>
                  <a:lnTo>
                    <a:pt x="99" y="1571"/>
                  </a:lnTo>
                  <a:lnTo>
                    <a:pt x="87" y="1554"/>
                  </a:lnTo>
                  <a:lnTo>
                    <a:pt x="77" y="1538"/>
                  </a:lnTo>
                  <a:lnTo>
                    <a:pt x="67" y="1519"/>
                  </a:lnTo>
                  <a:lnTo>
                    <a:pt x="64" y="1510"/>
                  </a:lnTo>
                  <a:lnTo>
                    <a:pt x="61" y="1501"/>
                  </a:lnTo>
                  <a:lnTo>
                    <a:pt x="59" y="1491"/>
                  </a:lnTo>
                  <a:lnTo>
                    <a:pt x="58" y="1481"/>
                  </a:lnTo>
                  <a:lnTo>
                    <a:pt x="57" y="1470"/>
                  </a:lnTo>
                  <a:lnTo>
                    <a:pt x="57" y="1460"/>
                  </a:lnTo>
                  <a:lnTo>
                    <a:pt x="58" y="1448"/>
                  </a:lnTo>
                  <a:lnTo>
                    <a:pt x="60" y="1438"/>
                  </a:lnTo>
                  <a:lnTo>
                    <a:pt x="67" y="1414"/>
                  </a:lnTo>
                  <a:lnTo>
                    <a:pt x="77" y="1391"/>
                  </a:lnTo>
                  <a:lnTo>
                    <a:pt x="86" y="1369"/>
                  </a:lnTo>
                  <a:lnTo>
                    <a:pt x="98" y="1347"/>
                  </a:lnTo>
                  <a:lnTo>
                    <a:pt x="111" y="1324"/>
                  </a:lnTo>
                  <a:lnTo>
                    <a:pt x="123" y="1304"/>
                  </a:lnTo>
                  <a:lnTo>
                    <a:pt x="137" y="1285"/>
                  </a:lnTo>
                  <a:lnTo>
                    <a:pt x="150" y="1267"/>
                  </a:lnTo>
                  <a:lnTo>
                    <a:pt x="175" y="1236"/>
                  </a:lnTo>
                  <a:lnTo>
                    <a:pt x="196" y="1211"/>
                  </a:lnTo>
                  <a:lnTo>
                    <a:pt x="211" y="1195"/>
                  </a:lnTo>
                  <a:lnTo>
                    <a:pt x="216" y="1190"/>
                  </a:lnTo>
                  <a:lnTo>
                    <a:pt x="224" y="1197"/>
                  </a:lnTo>
                  <a:lnTo>
                    <a:pt x="232" y="1203"/>
                  </a:lnTo>
                  <a:lnTo>
                    <a:pt x="239" y="1208"/>
                  </a:lnTo>
                  <a:lnTo>
                    <a:pt x="245" y="1209"/>
                  </a:lnTo>
                  <a:lnTo>
                    <a:pt x="251" y="1210"/>
                  </a:lnTo>
                  <a:lnTo>
                    <a:pt x="257" y="1210"/>
                  </a:lnTo>
                  <a:lnTo>
                    <a:pt x="261" y="1208"/>
                  </a:lnTo>
                  <a:lnTo>
                    <a:pt x="265" y="1204"/>
                  </a:lnTo>
                  <a:lnTo>
                    <a:pt x="268" y="1199"/>
                  </a:lnTo>
                  <a:lnTo>
                    <a:pt x="272" y="1195"/>
                  </a:lnTo>
                  <a:lnTo>
                    <a:pt x="274" y="1188"/>
                  </a:lnTo>
                  <a:lnTo>
                    <a:pt x="276" y="1181"/>
                  </a:lnTo>
                  <a:lnTo>
                    <a:pt x="280" y="1164"/>
                  </a:lnTo>
                  <a:lnTo>
                    <a:pt x="282" y="1147"/>
                  </a:lnTo>
                  <a:lnTo>
                    <a:pt x="283" y="1127"/>
                  </a:lnTo>
                  <a:lnTo>
                    <a:pt x="283" y="1107"/>
                  </a:lnTo>
                  <a:lnTo>
                    <a:pt x="283" y="1088"/>
                  </a:lnTo>
                  <a:lnTo>
                    <a:pt x="282" y="1071"/>
                  </a:lnTo>
                  <a:lnTo>
                    <a:pt x="280" y="1044"/>
                  </a:lnTo>
                  <a:lnTo>
                    <a:pt x="280" y="1033"/>
                  </a:lnTo>
                  <a:lnTo>
                    <a:pt x="296" y="1025"/>
                  </a:lnTo>
                  <a:lnTo>
                    <a:pt x="311" y="1016"/>
                  </a:lnTo>
                  <a:lnTo>
                    <a:pt x="325" y="1007"/>
                  </a:lnTo>
                  <a:lnTo>
                    <a:pt x="337" y="996"/>
                  </a:lnTo>
                  <a:lnTo>
                    <a:pt x="349" y="987"/>
                  </a:lnTo>
                  <a:lnTo>
                    <a:pt x="358" y="976"/>
                  </a:lnTo>
                  <a:lnTo>
                    <a:pt x="368" y="966"/>
                  </a:lnTo>
                  <a:lnTo>
                    <a:pt x="376" y="954"/>
                  </a:lnTo>
                  <a:lnTo>
                    <a:pt x="383" y="944"/>
                  </a:lnTo>
                  <a:lnTo>
                    <a:pt x="389" y="932"/>
                  </a:lnTo>
                  <a:lnTo>
                    <a:pt x="393" y="920"/>
                  </a:lnTo>
                  <a:lnTo>
                    <a:pt x="397" y="908"/>
                  </a:lnTo>
                  <a:lnTo>
                    <a:pt x="400" y="897"/>
                  </a:lnTo>
                  <a:lnTo>
                    <a:pt x="403" y="885"/>
                  </a:lnTo>
                  <a:lnTo>
                    <a:pt x="405" y="872"/>
                  </a:lnTo>
                  <a:lnTo>
                    <a:pt x="405" y="861"/>
                  </a:lnTo>
                  <a:lnTo>
                    <a:pt x="406" y="835"/>
                  </a:lnTo>
                  <a:lnTo>
                    <a:pt x="404" y="810"/>
                  </a:lnTo>
                  <a:lnTo>
                    <a:pt x="400" y="785"/>
                  </a:lnTo>
                  <a:lnTo>
                    <a:pt x="396" y="760"/>
                  </a:lnTo>
                  <a:lnTo>
                    <a:pt x="384" y="710"/>
                  </a:lnTo>
                  <a:lnTo>
                    <a:pt x="371" y="662"/>
                  </a:lnTo>
                  <a:lnTo>
                    <a:pt x="587" y="418"/>
                  </a:lnTo>
                  <a:lnTo>
                    <a:pt x="588" y="403"/>
                  </a:lnTo>
                  <a:lnTo>
                    <a:pt x="592" y="388"/>
                  </a:lnTo>
                  <a:lnTo>
                    <a:pt x="598" y="371"/>
                  </a:lnTo>
                  <a:lnTo>
                    <a:pt x="605" y="355"/>
                  </a:lnTo>
                  <a:lnTo>
                    <a:pt x="614" y="338"/>
                  </a:lnTo>
                  <a:lnTo>
                    <a:pt x="625" y="321"/>
                  </a:lnTo>
                  <a:lnTo>
                    <a:pt x="636" y="305"/>
                  </a:lnTo>
                  <a:lnTo>
                    <a:pt x="650" y="287"/>
                  </a:lnTo>
                  <a:lnTo>
                    <a:pt x="664" y="270"/>
                  </a:lnTo>
                  <a:lnTo>
                    <a:pt x="681" y="252"/>
                  </a:lnTo>
                  <a:lnTo>
                    <a:pt x="697" y="234"/>
                  </a:lnTo>
                  <a:lnTo>
                    <a:pt x="714" y="217"/>
                  </a:lnTo>
                  <a:lnTo>
                    <a:pt x="751" y="183"/>
                  </a:lnTo>
                  <a:lnTo>
                    <a:pt x="788" y="150"/>
                  </a:lnTo>
                  <a:lnTo>
                    <a:pt x="825" y="120"/>
                  </a:lnTo>
                  <a:lnTo>
                    <a:pt x="862" y="91"/>
                  </a:lnTo>
                  <a:lnTo>
                    <a:pt x="896" y="65"/>
                  </a:lnTo>
                  <a:lnTo>
                    <a:pt x="926" y="43"/>
                  </a:lnTo>
                  <a:lnTo>
                    <a:pt x="970" y="11"/>
                  </a:lnTo>
                  <a:lnTo>
                    <a:pt x="988" y="0"/>
                  </a:lnTo>
                  <a:lnTo>
                    <a:pt x="1904" y="95"/>
                  </a:lnTo>
                  <a:lnTo>
                    <a:pt x="1273" y="807"/>
                  </a:lnTo>
                  <a:lnTo>
                    <a:pt x="1837" y="2053"/>
                  </a:lnTo>
                  <a:lnTo>
                    <a:pt x="1824" y="2071"/>
                  </a:lnTo>
                  <a:lnTo>
                    <a:pt x="1814" y="2087"/>
                  </a:lnTo>
                  <a:lnTo>
                    <a:pt x="1805" y="2103"/>
                  </a:lnTo>
                  <a:lnTo>
                    <a:pt x="1798" y="2117"/>
                  </a:lnTo>
                  <a:lnTo>
                    <a:pt x="1794" y="2131"/>
                  </a:lnTo>
                  <a:lnTo>
                    <a:pt x="1790" y="2144"/>
                  </a:lnTo>
                  <a:lnTo>
                    <a:pt x="1788" y="2156"/>
                  </a:lnTo>
                  <a:lnTo>
                    <a:pt x="1787" y="2166"/>
                  </a:lnTo>
                  <a:lnTo>
                    <a:pt x="1787" y="2185"/>
                  </a:lnTo>
                  <a:lnTo>
                    <a:pt x="1788" y="2198"/>
                  </a:lnTo>
                  <a:lnTo>
                    <a:pt x="1790" y="2206"/>
                  </a:lnTo>
                  <a:lnTo>
                    <a:pt x="1791" y="2209"/>
                  </a:lnTo>
                  <a:lnTo>
                    <a:pt x="1809" y="2301"/>
                  </a:lnTo>
                  <a:lnTo>
                    <a:pt x="1787" y="2315"/>
                  </a:lnTo>
                  <a:lnTo>
                    <a:pt x="1763" y="2330"/>
                  </a:lnTo>
                  <a:lnTo>
                    <a:pt x="1738" y="2348"/>
                  </a:lnTo>
                  <a:lnTo>
                    <a:pt x="1712" y="2367"/>
                  </a:lnTo>
                  <a:lnTo>
                    <a:pt x="1685" y="2388"/>
                  </a:lnTo>
                  <a:lnTo>
                    <a:pt x="1658" y="2409"/>
                  </a:lnTo>
                  <a:lnTo>
                    <a:pt x="1633" y="2432"/>
                  </a:lnTo>
                  <a:lnTo>
                    <a:pt x="1607" y="2455"/>
                  </a:lnTo>
                  <a:lnTo>
                    <a:pt x="1582" y="2477"/>
                  </a:lnTo>
                  <a:lnTo>
                    <a:pt x="1561" y="2498"/>
                  </a:lnTo>
                  <a:lnTo>
                    <a:pt x="1542" y="2519"/>
                  </a:lnTo>
                  <a:lnTo>
                    <a:pt x="1525" y="2539"/>
                  </a:lnTo>
                  <a:lnTo>
                    <a:pt x="1511" y="2557"/>
                  </a:lnTo>
                  <a:lnTo>
                    <a:pt x="1503" y="2572"/>
                  </a:lnTo>
                  <a:lnTo>
                    <a:pt x="1499" y="2579"/>
                  </a:lnTo>
                  <a:lnTo>
                    <a:pt x="1497" y="2585"/>
                  </a:lnTo>
                  <a:lnTo>
                    <a:pt x="1497" y="2590"/>
                  </a:lnTo>
                  <a:lnTo>
                    <a:pt x="1497" y="2595"/>
                  </a:lnTo>
                  <a:lnTo>
                    <a:pt x="1475" y="2605"/>
                  </a:lnTo>
                  <a:lnTo>
                    <a:pt x="1454" y="2615"/>
                  </a:lnTo>
                  <a:lnTo>
                    <a:pt x="1433" y="2627"/>
                  </a:lnTo>
                  <a:lnTo>
                    <a:pt x="1414" y="2638"/>
                  </a:lnTo>
                  <a:lnTo>
                    <a:pt x="1397" y="2651"/>
                  </a:lnTo>
                  <a:lnTo>
                    <a:pt x="1380" y="2664"/>
                  </a:lnTo>
                  <a:lnTo>
                    <a:pt x="1365" y="2677"/>
                  </a:lnTo>
                  <a:lnTo>
                    <a:pt x="1352" y="2690"/>
                  </a:lnTo>
                  <a:lnTo>
                    <a:pt x="1329" y="2713"/>
                  </a:lnTo>
                  <a:lnTo>
                    <a:pt x="1313" y="2733"/>
                  </a:lnTo>
                  <a:lnTo>
                    <a:pt x="1302" y="2746"/>
                  </a:lnTo>
                  <a:lnTo>
                    <a:pt x="1299" y="2751"/>
                  </a:lnTo>
                  <a:lnTo>
                    <a:pt x="1328" y="2829"/>
                  </a:lnTo>
                  <a:lnTo>
                    <a:pt x="1313" y="2840"/>
                  </a:lnTo>
                  <a:lnTo>
                    <a:pt x="1297" y="2851"/>
                  </a:lnTo>
                  <a:lnTo>
                    <a:pt x="1282" y="2860"/>
                  </a:lnTo>
                  <a:lnTo>
                    <a:pt x="1268" y="2868"/>
                  </a:lnTo>
                  <a:lnTo>
                    <a:pt x="1254" y="2876"/>
                  </a:lnTo>
                  <a:lnTo>
                    <a:pt x="1241" y="2881"/>
                  </a:lnTo>
                  <a:lnTo>
                    <a:pt x="1228" y="2887"/>
                  </a:lnTo>
                  <a:lnTo>
                    <a:pt x="1217" y="2891"/>
                  </a:lnTo>
                  <a:lnTo>
                    <a:pt x="1195" y="2897"/>
                  </a:lnTo>
                  <a:lnTo>
                    <a:pt x="1175" y="2901"/>
                  </a:lnTo>
                  <a:lnTo>
                    <a:pt x="1158" y="2904"/>
                  </a:lnTo>
                  <a:lnTo>
                    <a:pt x="1147" y="290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0" name="Freeform 1447"/>
            <p:cNvSpPr/>
            <p:nvPr/>
          </p:nvSpPr>
          <p:spPr>
            <a:xfrm>
              <a:off x="3349800" y="4995720"/>
              <a:ext cx="502560" cy="313200"/>
            </a:xfrm>
            <a:custGeom>
              <a:avLst/>
              <a:gdLst>
                <a:gd name="textAreaLeft" fmla="*/ 0 w 502560"/>
                <a:gd name="textAreaRight" fmla="*/ 502920 w 502560"/>
                <a:gd name="textAreaTop" fmla="*/ 0 h 313200"/>
                <a:gd name="textAreaBottom" fmla="*/ 313560 h 313200"/>
              </a:gdLst>
              <a:ahLst/>
              <a:rect l="textAreaLeft" t="textAreaTop" r="textAreaRight" b="textAreaBottom"/>
              <a:pathLst>
                <a:path w="2798" h="2073">
                  <a:moveTo>
                    <a:pt x="1741" y="2073"/>
                  </a:moveTo>
                  <a:lnTo>
                    <a:pt x="1081" y="2018"/>
                  </a:lnTo>
                  <a:lnTo>
                    <a:pt x="0" y="1462"/>
                  </a:lnTo>
                  <a:lnTo>
                    <a:pt x="65" y="1356"/>
                  </a:lnTo>
                  <a:lnTo>
                    <a:pt x="76" y="1354"/>
                  </a:lnTo>
                  <a:lnTo>
                    <a:pt x="93" y="1351"/>
                  </a:lnTo>
                  <a:lnTo>
                    <a:pt x="113" y="1347"/>
                  </a:lnTo>
                  <a:lnTo>
                    <a:pt x="135" y="1341"/>
                  </a:lnTo>
                  <a:lnTo>
                    <a:pt x="146" y="1337"/>
                  </a:lnTo>
                  <a:lnTo>
                    <a:pt x="159" y="1331"/>
                  </a:lnTo>
                  <a:lnTo>
                    <a:pt x="172" y="1326"/>
                  </a:lnTo>
                  <a:lnTo>
                    <a:pt x="186" y="1318"/>
                  </a:lnTo>
                  <a:lnTo>
                    <a:pt x="200" y="1310"/>
                  </a:lnTo>
                  <a:lnTo>
                    <a:pt x="215" y="1301"/>
                  </a:lnTo>
                  <a:lnTo>
                    <a:pt x="231" y="1290"/>
                  </a:lnTo>
                  <a:lnTo>
                    <a:pt x="246" y="1279"/>
                  </a:lnTo>
                  <a:lnTo>
                    <a:pt x="217" y="1201"/>
                  </a:lnTo>
                  <a:lnTo>
                    <a:pt x="220" y="1196"/>
                  </a:lnTo>
                  <a:lnTo>
                    <a:pt x="231" y="1183"/>
                  </a:lnTo>
                  <a:lnTo>
                    <a:pt x="247" y="1163"/>
                  </a:lnTo>
                  <a:lnTo>
                    <a:pt x="270" y="1140"/>
                  </a:lnTo>
                  <a:lnTo>
                    <a:pt x="283" y="1127"/>
                  </a:lnTo>
                  <a:lnTo>
                    <a:pt x="298" y="1114"/>
                  </a:lnTo>
                  <a:lnTo>
                    <a:pt x="315" y="1101"/>
                  </a:lnTo>
                  <a:lnTo>
                    <a:pt x="332" y="1088"/>
                  </a:lnTo>
                  <a:lnTo>
                    <a:pt x="351" y="1077"/>
                  </a:lnTo>
                  <a:lnTo>
                    <a:pt x="372" y="1065"/>
                  </a:lnTo>
                  <a:lnTo>
                    <a:pt x="393" y="1055"/>
                  </a:lnTo>
                  <a:lnTo>
                    <a:pt x="415" y="1045"/>
                  </a:lnTo>
                  <a:lnTo>
                    <a:pt x="415" y="1040"/>
                  </a:lnTo>
                  <a:lnTo>
                    <a:pt x="415" y="1035"/>
                  </a:lnTo>
                  <a:lnTo>
                    <a:pt x="417" y="1029"/>
                  </a:lnTo>
                  <a:lnTo>
                    <a:pt x="421" y="1022"/>
                  </a:lnTo>
                  <a:lnTo>
                    <a:pt x="429" y="1007"/>
                  </a:lnTo>
                  <a:lnTo>
                    <a:pt x="443" y="989"/>
                  </a:lnTo>
                  <a:lnTo>
                    <a:pt x="460" y="969"/>
                  </a:lnTo>
                  <a:lnTo>
                    <a:pt x="479" y="948"/>
                  </a:lnTo>
                  <a:lnTo>
                    <a:pt x="500" y="927"/>
                  </a:lnTo>
                  <a:lnTo>
                    <a:pt x="525" y="905"/>
                  </a:lnTo>
                  <a:lnTo>
                    <a:pt x="551" y="882"/>
                  </a:lnTo>
                  <a:lnTo>
                    <a:pt x="576" y="859"/>
                  </a:lnTo>
                  <a:lnTo>
                    <a:pt x="603" y="838"/>
                  </a:lnTo>
                  <a:lnTo>
                    <a:pt x="630" y="817"/>
                  </a:lnTo>
                  <a:lnTo>
                    <a:pt x="656" y="798"/>
                  </a:lnTo>
                  <a:lnTo>
                    <a:pt x="681" y="780"/>
                  </a:lnTo>
                  <a:lnTo>
                    <a:pt x="705" y="765"/>
                  </a:lnTo>
                  <a:lnTo>
                    <a:pt x="727" y="751"/>
                  </a:lnTo>
                  <a:lnTo>
                    <a:pt x="709" y="659"/>
                  </a:lnTo>
                  <a:lnTo>
                    <a:pt x="708" y="656"/>
                  </a:lnTo>
                  <a:lnTo>
                    <a:pt x="706" y="648"/>
                  </a:lnTo>
                  <a:lnTo>
                    <a:pt x="705" y="635"/>
                  </a:lnTo>
                  <a:lnTo>
                    <a:pt x="705" y="616"/>
                  </a:lnTo>
                  <a:lnTo>
                    <a:pt x="706" y="606"/>
                  </a:lnTo>
                  <a:lnTo>
                    <a:pt x="708" y="594"/>
                  </a:lnTo>
                  <a:lnTo>
                    <a:pt x="712" y="581"/>
                  </a:lnTo>
                  <a:lnTo>
                    <a:pt x="716" y="567"/>
                  </a:lnTo>
                  <a:lnTo>
                    <a:pt x="723" y="553"/>
                  </a:lnTo>
                  <a:lnTo>
                    <a:pt x="732" y="537"/>
                  </a:lnTo>
                  <a:lnTo>
                    <a:pt x="742" y="521"/>
                  </a:lnTo>
                  <a:lnTo>
                    <a:pt x="755" y="503"/>
                  </a:lnTo>
                  <a:lnTo>
                    <a:pt x="810" y="437"/>
                  </a:lnTo>
                  <a:lnTo>
                    <a:pt x="860" y="375"/>
                  </a:lnTo>
                  <a:lnTo>
                    <a:pt x="884" y="347"/>
                  </a:lnTo>
                  <a:lnTo>
                    <a:pt x="908" y="320"/>
                  </a:lnTo>
                  <a:lnTo>
                    <a:pt x="920" y="308"/>
                  </a:lnTo>
                  <a:lnTo>
                    <a:pt x="931" y="296"/>
                  </a:lnTo>
                  <a:lnTo>
                    <a:pt x="944" y="285"/>
                  </a:lnTo>
                  <a:lnTo>
                    <a:pt x="957" y="275"/>
                  </a:lnTo>
                  <a:lnTo>
                    <a:pt x="970" y="265"/>
                  </a:lnTo>
                  <a:lnTo>
                    <a:pt x="983" y="257"/>
                  </a:lnTo>
                  <a:lnTo>
                    <a:pt x="996" y="249"/>
                  </a:lnTo>
                  <a:lnTo>
                    <a:pt x="1010" y="242"/>
                  </a:lnTo>
                  <a:lnTo>
                    <a:pt x="1024" y="235"/>
                  </a:lnTo>
                  <a:lnTo>
                    <a:pt x="1039" y="230"/>
                  </a:lnTo>
                  <a:lnTo>
                    <a:pt x="1054" y="225"/>
                  </a:lnTo>
                  <a:lnTo>
                    <a:pt x="1070" y="222"/>
                  </a:lnTo>
                  <a:lnTo>
                    <a:pt x="1087" y="218"/>
                  </a:lnTo>
                  <a:lnTo>
                    <a:pt x="1104" y="217"/>
                  </a:lnTo>
                  <a:lnTo>
                    <a:pt x="1122" y="216"/>
                  </a:lnTo>
                  <a:lnTo>
                    <a:pt x="1141" y="217"/>
                  </a:lnTo>
                  <a:lnTo>
                    <a:pt x="1160" y="218"/>
                  </a:lnTo>
                  <a:lnTo>
                    <a:pt x="1181" y="221"/>
                  </a:lnTo>
                  <a:lnTo>
                    <a:pt x="1202" y="225"/>
                  </a:lnTo>
                  <a:lnTo>
                    <a:pt x="1225" y="230"/>
                  </a:lnTo>
                  <a:lnTo>
                    <a:pt x="1380" y="0"/>
                  </a:lnTo>
                  <a:lnTo>
                    <a:pt x="2798" y="51"/>
                  </a:lnTo>
                  <a:lnTo>
                    <a:pt x="1741" y="207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1" name="Freeform 1448"/>
            <p:cNvSpPr/>
            <p:nvPr/>
          </p:nvSpPr>
          <p:spPr>
            <a:xfrm>
              <a:off x="3349800" y="4995720"/>
              <a:ext cx="502560" cy="313200"/>
            </a:xfrm>
            <a:custGeom>
              <a:avLst/>
              <a:gdLst>
                <a:gd name="textAreaLeft" fmla="*/ 0 w 502560"/>
                <a:gd name="textAreaRight" fmla="*/ 502920 w 502560"/>
                <a:gd name="textAreaTop" fmla="*/ 0 h 313200"/>
                <a:gd name="textAreaBottom" fmla="*/ 313560 h 313200"/>
              </a:gdLst>
              <a:ahLst/>
              <a:rect l="textAreaLeft" t="textAreaTop" r="textAreaRight" b="textAreaBottom"/>
              <a:pathLst>
                <a:path w="2798" h="2073">
                  <a:moveTo>
                    <a:pt x="1741" y="2073"/>
                  </a:moveTo>
                  <a:lnTo>
                    <a:pt x="1081" y="2018"/>
                  </a:lnTo>
                  <a:lnTo>
                    <a:pt x="0" y="1462"/>
                  </a:lnTo>
                  <a:lnTo>
                    <a:pt x="65" y="1356"/>
                  </a:lnTo>
                  <a:lnTo>
                    <a:pt x="76" y="1354"/>
                  </a:lnTo>
                  <a:lnTo>
                    <a:pt x="93" y="1351"/>
                  </a:lnTo>
                  <a:lnTo>
                    <a:pt x="113" y="1347"/>
                  </a:lnTo>
                  <a:lnTo>
                    <a:pt x="135" y="1341"/>
                  </a:lnTo>
                  <a:lnTo>
                    <a:pt x="146" y="1337"/>
                  </a:lnTo>
                  <a:lnTo>
                    <a:pt x="159" y="1331"/>
                  </a:lnTo>
                  <a:lnTo>
                    <a:pt x="172" y="1326"/>
                  </a:lnTo>
                  <a:lnTo>
                    <a:pt x="186" y="1318"/>
                  </a:lnTo>
                  <a:lnTo>
                    <a:pt x="200" y="1310"/>
                  </a:lnTo>
                  <a:lnTo>
                    <a:pt x="215" y="1301"/>
                  </a:lnTo>
                  <a:lnTo>
                    <a:pt x="231" y="1290"/>
                  </a:lnTo>
                  <a:lnTo>
                    <a:pt x="246" y="1279"/>
                  </a:lnTo>
                  <a:lnTo>
                    <a:pt x="217" y="1201"/>
                  </a:lnTo>
                  <a:lnTo>
                    <a:pt x="220" y="1196"/>
                  </a:lnTo>
                  <a:lnTo>
                    <a:pt x="231" y="1183"/>
                  </a:lnTo>
                  <a:lnTo>
                    <a:pt x="247" y="1163"/>
                  </a:lnTo>
                  <a:lnTo>
                    <a:pt x="270" y="1140"/>
                  </a:lnTo>
                  <a:lnTo>
                    <a:pt x="283" y="1127"/>
                  </a:lnTo>
                  <a:lnTo>
                    <a:pt x="298" y="1114"/>
                  </a:lnTo>
                  <a:lnTo>
                    <a:pt x="315" y="1101"/>
                  </a:lnTo>
                  <a:lnTo>
                    <a:pt x="332" y="1088"/>
                  </a:lnTo>
                  <a:lnTo>
                    <a:pt x="351" y="1077"/>
                  </a:lnTo>
                  <a:lnTo>
                    <a:pt x="372" y="1065"/>
                  </a:lnTo>
                  <a:lnTo>
                    <a:pt x="393" y="1055"/>
                  </a:lnTo>
                  <a:lnTo>
                    <a:pt x="415" y="1045"/>
                  </a:lnTo>
                  <a:lnTo>
                    <a:pt x="415" y="1040"/>
                  </a:lnTo>
                  <a:lnTo>
                    <a:pt x="415" y="1035"/>
                  </a:lnTo>
                  <a:lnTo>
                    <a:pt x="417" y="1029"/>
                  </a:lnTo>
                  <a:lnTo>
                    <a:pt x="421" y="1022"/>
                  </a:lnTo>
                  <a:lnTo>
                    <a:pt x="429" y="1007"/>
                  </a:lnTo>
                  <a:lnTo>
                    <a:pt x="443" y="989"/>
                  </a:lnTo>
                  <a:lnTo>
                    <a:pt x="460" y="969"/>
                  </a:lnTo>
                  <a:lnTo>
                    <a:pt x="479" y="948"/>
                  </a:lnTo>
                  <a:lnTo>
                    <a:pt x="500" y="927"/>
                  </a:lnTo>
                  <a:lnTo>
                    <a:pt x="525" y="905"/>
                  </a:lnTo>
                  <a:lnTo>
                    <a:pt x="551" y="882"/>
                  </a:lnTo>
                  <a:lnTo>
                    <a:pt x="576" y="859"/>
                  </a:lnTo>
                  <a:lnTo>
                    <a:pt x="603" y="838"/>
                  </a:lnTo>
                  <a:lnTo>
                    <a:pt x="630" y="817"/>
                  </a:lnTo>
                  <a:lnTo>
                    <a:pt x="656" y="798"/>
                  </a:lnTo>
                  <a:lnTo>
                    <a:pt x="681" y="780"/>
                  </a:lnTo>
                  <a:lnTo>
                    <a:pt x="705" y="765"/>
                  </a:lnTo>
                  <a:lnTo>
                    <a:pt x="727" y="751"/>
                  </a:lnTo>
                  <a:lnTo>
                    <a:pt x="709" y="659"/>
                  </a:lnTo>
                  <a:lnTo>
                    <a:pt x="708" y="656"/>
                  </a:lnTo>
                  <a:lnTo>
                    <a:pt x="706" y="648"/>
                  </a:lnTo>
                  <a:lnTo>
                    <a:pt x="705" y="635"/>
                  </a:lnTo>
                  <a:lnTo>
                    <a:pt x="705" y="616"/>
                  </a:lnTo>
                  <a:lnTo>
                    <a:pt x="706" y="606"/>
                  </a:lnTo>
                  <a:lnTo>
                    <a:pt x="708" y="594"/>
                  </a:lnTo>
                  <a:lnTo>
                    <a:pt x="712" y="581"/>
                  </a:lnTo>
                  <a:lnTo>
                    <a:pt x="716" y="567"/>
                  </a:lnTo>
                  <a:lnTo>
                    <a:pt x="723" y="553"/>
                  </a:lnTo>
                  <a:lnTo>
                    <a:pt x="732" y="537"/>
                  </a:lnTo>
                  <a:lnTo>
                    <a:pt x="742" y="521"/>
                  </a:lnTo>
                  <a:lnTo>
                    <a:pt x="755" y="503"/>
                  </a:lnTo>
                  <a:lnTo>
                    <a:pt x="810" y="437"/>
                  </a:lnTo>
                  <a:lnTo>
                    <a:pt x="860" y="375"/>
                  </a:lnTo>
                  <a:lnTo>
                    <a:pt x="884" y="347"/>
                  </a:lnTo>
                  <a:lnTo>
                    <a:pt x="908" y="320"/>
                  </a:lnTo>
                  <a:lnTo>
                    <a:pt x="920" y="308"/>
                  </a:lnTo>
                  <a:lnTo>
                    <a:pt x="931" y="296"/>
                  </a:lnTo>
                  <a:lnTo>
                    <a:pt x="944" y="285"/>
                  </a:lnTo>
                  <a:lnTo>
                    <a:pt x="957" y="275"/>
                  </a:lnTo>
                  <a:lnTo>
                    <a:pt x="970" y="265"/>
                  </a:lnTo>
                  <a:lnTo>
                    <a:pt x="983" y="257"/>
                  </a:lnTo>
                  <a:lnTo>
                    <a:pt x="996" y="249"/>
                  </a:lnTo>
                  <a:lnTo>
                    <a:pt x="1010" y="242"/>
                  </a:lnTo>
                  <a:lnTo>
                    <a:pt x="1024" y="235"/>
                  </a:lnTo>
                  <a:lnTo>
                    <a:pt x="1039" y="230"/>
                  </a:lnTo>
                  <a:lnTo>
                    <a:pt x="1054" y="225"/>
                  </a:lnTo>
                  <a:lnTo>
                    <a:pt x="1070" y="222"/>
                  </a:lnTo>
                  <a:lnTo>
                    <a:pt x="1087" y="218"/>
                  </a:lnTo>
                  <a:lnTo>
                    <a:pt x="1104" y="217"/>
                  </a:lnTo>
                  <a:lnTo>
                    <a:pt x="1122" y="216"/>
                  </a:lnTo>
                  <a:lnTo>
                    <a:pt x="1141" y="217"/>
                  </a:lnTo>
                  <a:lnTo>
                    <a:pt x="1160" y="218"/>
                  </a:lnTo>
                  <a:lnTo>
                    <a:pt x="1181" y="221"/>
                  </a:lnTo>
                  <a:lnTo>
                    <a:pt x="1202" y="225"/>
                  </a:lnTo>
                  <a:lnTo>
                    <a:pt x="1225" y="230"/>
                  </a:lnTo>
                  <a:lnTo>
                    <a:pt x="1380" y="0"/>
                  </a:lnTo>
                  <a:lnTo>
                    <a:pt x="2798" y="51"/>
                  </a:lnTo>
                  <a:lnTo>
                    <a:pt x="1741" y="2073"/>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2" name="Freeform 1449"/>
            <p:cNvSpPr/>
            <p:nvPr/>
          </p:nvSpPr>
          <p:spPr>
            <a:xfrm>
              <a:off x="3827520" y="4588560"/>
              <a:ext cx="464760" cy="139320"/>
            </a:xfrm>
            <a:custGeom>
              <a:avLst/>
              <a:gdLst>
                <a:gd name="textAreaLeft" fmla="*/ 0 w 464760"/>
                <a:gd name="textAreaRight" fmla="*/ 465120 w 464760"/>
                <a:gd name="textAreaTop" fmla="*/ 0 h 139320"/>
                <a:gd name="textAreaBottom" fmla="*/ 139680 h 139320"/>
              </a:gdLst>
              <a:ahLst/>
              <a:rect l="textAreaLeft" t="textAreaTop" r="textAreaRight" b="textAreaBottom"/>
              <a:pathLst>
                <a:path w="2582" h="922">
                  <a:moveTo>
                    <a:pt x="2582" y="43"/>
                  </a:moveTo>
                  <a:lnTo>
                    <a:pt x="2309" y="852"/>
                  </a:lnTo>
                  <a:lnTo>
                    <a:pt x="2294" y="850"/>
                  </a:lnTo>
                  <a:lnTo>
                    <a:pt x="2272" y="849"/>
                  </a:lnTo>
                  <a:lnTo>
                    <a:pt x="2241" y="848"/>
                  </a:lnTo>
                  <a:lnTo>
                    <a:pt x="2204" y="847"/>
                  </a:lnTo>
                  <a:lnTo>
                    <a:pt x="2111" y="845"/>
                  </a:lnTo>
                  <a:lnTo>
                    <a:pt x="1997" y="845"/>
                  </a:lnTo>
                  <a:lnTo>
                    <a:pt x="1866" y="848"/>
                  </a:lnTo>
                  <a:lnTo>
                    <a:pt x="1725" y="849"/>
                  </a:lnTo>
                  <a:lnTo>
                    <a:pt x="1576" y="852"/>
                  </a:lnTo>
                  <a:lnTo>
                    <a:pt x="1423" y="855"/>
                  </a:lnTo>
                  <a:lnTo>
                    <a:pt x="1271" y="858"/>
                  </a:lnTo>
                  <a:lnTo>
                    <a:pt x="1125" y="862"/>
                  </a:lnTo>
                  <a:lnTo>
                    <a:pt x="990" y="865"/>
                  </a:lnTo>
                  <a:lnTo>
                    <a:pt x="869" y="869"/>
                  </a:lnTo>
                  <a:lnTo>
                    <a:pt x="767" y="871"/>
                  </a:lnTo>
                  <a:lnTo>
                    <a:pt x="689" y="873"/>
                  </a:lnTo>
                  <a:lnTo>
                    <a:pt x="639" y="875"/>
                  </a:lnTo>
                  <a:lnTo>
                    <a:pt x="621" y="875"/>
                  </a:lnTo>
                  <a:lnTo>
                    <a:pt x="592" y="884"/>
                  </a:lnTo>
                  <a:lnTo>
                    <a:pt x="562" y="891"/>
                  </a:lnTo>
                  <a:lnTo>
                    <a:pt x="530" y="899"/>
                  </a:lnTo>
                  <a:lnTo>
                    <a:pt x="497" y="905"/>
                  </a:lnTo>
                  <a:lnTo>
                    <a:pt x="465" y="911"/>
                  </a:lnTo>
                  <a:lnTo>
                    <a:pt x="432" y="915"/>
                  </a:lnTo>
                  <a:lnTo>
                    <a:pt x="399" y="919"/>
                  </a:lnTo>
                  <a:lnTo>
                    <a:pt x="368" y="921"/>
                  </a:lnTo>
                  <a:lnTo>
                    <a:pt x="336" y="922"/>
                  </a:lnTo>
                  <a:lnTo>
                    <a:pt x="307" y="921"/>
                  </a:lnTo>
                  <a:lnTo>
                    <a:pt x="278" y="919"/>
                  </a:lnTo>
                  <a:lnTo>
                    <a:pt x="251" y="914"/>
                  </a:lnTo>
                  <a:lnTo>
                    <a:pt x="239" y="912"/>
                  </a:lnTo>
                  <a:lnTo>
                    <a:pt x="226" y="908"/>
                  </a:lnTo>
                  <a:lnTo>
                    <a:pt x="216" y="904"/>
                  </a:lnTo>
                  <a:lnTo>
                    <a:pt x="205" y="899"/>
                  </a:lnTo>
                  <a:lnTo>
                    <a:pt x="195" y="894"/>
                  </a:lnTo>
                  <a:lnTo>
                    <a:pt x="185" y="889"/>
                  </a:lnTo>
                  <a:lnTo>
                    <a:pt x="177" y="882"/>
                  </a:lnTo>
                  <a:lnTo>
                    <a:pt x="169" y="875"/>
                  </a:lnTo>
                  <a:lnTo>
                    <a:pt x="163" y="868"/>
                  </a:lnTo>
                  <a:lnTo>
                    <a:pt x="157" y="862"/>
                  </a:lnTo>
                  <a:lnTo>
                    <a:pt x="153" y="855"/>
                  </a:lnTo>
                  <a:lnTo>
                    <a:pt x="149" y="848"/>
                  </a:lnTo>
                  <a:lnTo>
                    <a:pt x="146" y="841"/>
                  </a:lnTo>
                  <a:lnTo>
                    <a:pt x="143" y="835"/>
                  </a:lnTo>
                  <a:lnTo>
                    <a:pt x="142" y="828"/>
                  </a:lnTo>
                  <a:lnTo>
                    <a:pt x="141" y="821"/>
                  </a:lnTo>
                  <a:lnTo>
                    <a:pt x="141" y="809"/>
                  </a:lnTo>
                  <a:lnTo>
                    <a:pt x="141" y="796"/>
                  </a:lnTo>
                  <a:lnTo>
                    <a:pt x="143" y="785"/>
                  </a:lnTo>
                  <a:lnTo>
                    <a:pt x="146" y="774"/>
                  </a:lnTo>
                  <a:lnTo>
                    <a:pt x="148" y="764"/>
                  </a:lnTo>
                  <a:lnTo>
                    <a:pt x="149" y="753"/>
                  </a:lnTo>
                  <a:lnTo>
                    <a:pt x="149" y="744"/>
                  </a:lnTo>
                  <a:lnTo>
                    <a:pt x="147" y="734"/>
                  </a:lnTo>
                  <a:lnTo>
                    <a:pt x="145" y="730"/>
                  </a:lnTo>
                  <a:lnTo>
                    <a:pt x="142" y="726"/>
                  </a:lnTo>
                  <a:lnTo>
                    <a:pt x="139" y="723"/>
                  </a:lnTo>
                  <a:lnTo>
                    <a:pt x="135" y="718"/>
                  </a:lnTo>
                  <a:lnTo>
                    <a:pt x="129" y="715"/>
                  </a:lnTo>
                  <a:lnTo>
                    <a:pt x="124" y="711"/>
                  </a:lnTo>
                  <a:lnTo>
                    <a:pt x="117" y="709"/>
                  </a:lnTo>
                  <a:lnTo>
                    <a:pt x="108" y="705"/>
                  </a:lnTo>
                  <a:lnTo>
                    <a:pt x="91" y="699"/>
                  </a:lnTo>
                  <a:lnTo>
                    <a:pt x="77" y="694"/>
                  </a:lnTo>
                  <a:lnTo>
                    <a:pt x="65" y="688"/>
                  </a:lnTo>
                  <a:lnTo>
                    <a:pt x="56" y="682"/>
                  </a:lnTo>
                  <a:lnTo>
                    <a:pt x="49" y="677"/>
                  </a:lnTo>
                  <a:lnTo>
                    <a:pt x="44" y="672"/>
                  </a:lnTo>
                  <a:lnTo>
                    <a:pt x="42" y="668"/>
                  </a:lnTo>
                  <a:lnTo>
                    <a:pt x="39" y="663"/>
                  </a:lnTo>
                  <a:lnTo>
                    <a:pt x="39" y="658"/>
                  </a:lnTo>
                  <a:lnTo>
                    <a:pt x="41" y="655"/>
                  </a:lnTo>
                  <a:lnTo>
                    <a:pt x="42" y="653"/>
                  </a:lnTo>
                  <a:lnTo>
                    <a:pt x="43" y="649"/>
                  </a:lnTo>
                  <a:lnTo>
                    <a:pt x="46" y="646"/>
                  </a:lnTo>
                  <a:lnTo>
                    <a:pt x="49" y="644"/>
                  </a:lnTo>
                  <a:lnTo>
                    <a:pt x="57" y="639"/>
                  </a:lnTo>
                  <a:lnTo>
                    <a:pt x="78" y="622"/>
                  </a:lnTo>
                  <a:lnTo>
                    <a:pt x="107" y="599"/>
                  </a:lnTo>
                  <a:lnTo>
                    <a:pt x="138" y="572"/>
                  </a:lnTo>
                  <a:lnTo>
                    <a:pt x="153" y="557"/>
                  </a:lnTo>
                  <a:lnTo>
                    <a:pt x="166" y="543"/>
                  </a:lnTo>
                  <a:lnTo>
                    <a:pt x="176" y="528"/>
                  </a:lnTo>
                  <a:lnTo>
                    <a:pt x="183" y="515"/>
                  </a:lnTo>
                  <a:lnTo>
                    <a:pt x="185" y="508"/>
                  </a:lnTo>
                  <a:lnTo>
                    <a:pt x="187" y="502"/>
                  </a:lnTo>
                  <a:lnTo>
                    <a:pt x="188" y="496"/>
                  </a:lnTo>
                  <a:lnTo>
                    <a:pt x="187" y="491"/>
                  </a:lnTo>
                  <a:lnTo>
                    <a:pt x="184" y="487"/>
                  </a:lnTo>
                  <a:lnTo>
                    <a:pt x="181" y="482"/>
                  </a:lnTo>
                  <a:lnTo>
                    <a:pt x="176" y="477"/>
                  </a:lnTo>
                  <a:lnTo>
                    <a:pt x="169" y="475"/>
                  </a:lnTo>
                  <a:lnTo>
                    <a:pt x="155" y="469"/>
                  </a:lnTo>
                  <a:lnTo>
                    <a:pt x="142" y="462"/>
                  </a:lnTo>
                  <a:lnTo>
                    <a:pt x="129" y="455"/>
                  </a:lnTo>
                  <a:lnTo>
                    <a:pt x="117" y="448"/>
                  </a:lnTo>
                  <a:lnTo>
                    <a:pt x="106" y="441"/>
                  </a:lnTo>
                  <a:lnTo>
                    <a:pt x="94" y="433"/>
                  </a:lnTo>
                  <a:lnTo>
                    <a:pt x="84" y="425"/>
                  </a:lnTo>
                  <a:lnTo>
                    <a:pt x="75" y="417"/>
                  </a:lnTo>
                  <a:lnTo>
                    <a:pt x="65" y="407"/>
                  </a:lnTo>
                  <a:lnTo>
                    <a:pt x="57" y="398"/>
                  </a:lnTo>
                  <a:lnTo>
                    <a:pt x="49" y="389"/>
                  </a:lnTo>
                  <a:lnTo>
                    <a:pt x="42" y="379"/>
                  </a:lnTo>
                  <a:lnTo>
                    <a:pt x="35" y="370"/>
                  </a:lnTo>
                  <a:lnTo>
                    <a:pt x="29" y="359"/>
                  </a:lnTo>
                  <a:lnTo>
                    <a:pt x="23" y="350"/>
                  </a:lnTo>
                  <a:lnTo>
                    <a:pt x="18" y="340"/>
                  </a:lnTo>
                  <a:lnTo>
                    <a:pt x="10" y="320"/>
                  </a:lnTo>
                  <a:lnTo>
                    <a:pt x="4" y="299"/>
                  </a:lnTo>
                  <a:lnTo>
                    <a:pt x="1" y="278"/>
                  </a:lnTo>
                  <a:lnTo>
                    <a:pt x="0" y="257"/>
                  </a:lnTo>
                  <a:lnTo>
                    <a:pt x="1" y="237"/>
                  </a:lnTo>
                  <a:lnTo>
                    <a:pt x="3" y="218"/>
                  </a:lnTo>
                  <a:lnTo>
                    <a:pt x="7" y="208"/>
                  </a:lnTo>
                  <a:lnTo>
                    <a:pt x="9" y="198"/>
                  </a:lnTo>
                  <a:lnTo>
                    <a:pt x="13" y="190"/>
                  </a:lnTo>
                  <a:lnTo>
                    <a:pt x="17" y="181"/>
                  </a:lnTo>
                  <a:lnTo>
                    <a:pt x="25" y="163"/>
                  </a:lnTo>
                  <a:lnTo>
                    <a:pt x="36" y="147"/>
                  </a:lnTo>
                  <a:lnTo>
                    <a:pt x="46" y="131"/>
                  </a:lnTo>
                  <a:lnTo>
                    <a:pt x="58" y="114"/>
                  </a:lnTo>
                  <a:lnTo>
                    <a:pt x="80" y="83"/>
                  </a:lnTo>
                  <a:lnTo>
                    <a:pt x="104" y="56"/>
                  </a:lnTo>
                  <a:lnTo>
                    <a:pt x="124" y="32"/>
                  </a:lnTo>
                  <a:lnTo>
                    <a:pt x="140" y="15"/>
                  </a:lnTo>
                  <a:lnTo>
                    <a:pt x="150" y="3"/>
                  </a:lnTo>
                  <a:lnTo>
                    <a:pt x="155" y="0"/>
                  </a:lnTo>
                  <a:lnTo>
                    <a:pt x="300" y="4"/>
                  </a:lnTo>
                  <a:lnTo>
                    <a:pt x="447" y="9"/>
                  </a:lnTo>
                  <a:lnTo>
                    <a:pt x="597" y="13"/>
                  </a:lnTo>
                  <a:lnTo>
                    <a:pt x="749" y="17"/>
                  </a:lnTo>
                  <a:lnTo>
                    <a:pt x="903" y="21"/>
                  </a:lnTo>
                  <a:lnTo>
                    <a:pt x="1057" y="24"/>
                  </a:lnTo>
                  <a:lnTo>
                    <a:pt x="1213" y="27"/>
                  </a:lnTo>
                  <a:lnTo>
                    <a:pt x="1369" y="30"/>
                  </a:lnTo>
                  <a:lnTo>
                    <a:pt x="1525" y="32"/>
                  </a:lnTo>
                  <a:lnTo>
                    <a:pt x="1681" y="35"/>
                  </a:lnTo>
                  <a:lnTo>
                    <a:pt x="1835" y="37"/>
                  </a:lnTo>
                  <a:lnTo>
                    <a:pt x="1989" y="38"/>
                  </a:lnTo>
                  <a:lnTo>
                    <a:pt x="2141" y="39"/>
                  </a:lnTo>
                  <a:lnTo>
                    <a:pt x="2290" y="41"/>
                  </a:lnTo>
                  <a:lnTo>
                    <a:pt x="2439" y="42"/>
                  </a:lnTo>
                  <a:lnTo>
                    <a:pt x="2582" y="4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3" name="Freeform 1450"/>
            <p:cNvSpPr/>
            <p:nvPr/>
          </p:nvSpPr>
          <p:spPr>
            <a:xfrm>
              <a:off x="3827520" y="4588560"/>
              <a:ext cx="464760" cy="139320"/>
            </a:xfrm>
            <a:custGeom>
              <a:avLst/>
              <a:gdLst>
                <a:gd name="textAreaLeft" fmla="*/ 0 w 464760"/>
                <a:gd name="textAreaRight" fmla="*/ 465120 w 464760"/>
                <a:gd name="textAreaTop" fmla="*/ 0 h 139320"/>
                <a:gd name="textAreaBottom" fmla="*/ 139680 h 139320"/>
              </a:gdLst>
              <a:ahLst/>
              <a:rect l="textAreaLeft" t="textAreaTop" r="textAreaRight" b="textAreaBottom"/>
              <a:pathLst>
                <a:path w="2582" h="922">
                  <a:moveTo>
                    <a:pt x="2582" y="43"/>
                  </a:moveTo>
                  <a:lnTo>
                    <a:pt x="2309" y="852"/>
                  </a:lnTo>
                  <a:lnTo>
                    <a:pt x="2294" y="850"/>
                  </a:lnTo>
                  <a:lnTo>
                    <a:pt x="2272" y="849"/>
                  </a:lnTo>
                  <a:lnTo>
                    <a:pt x="2241" y="848"/>
                  </a:lnTo>
                  <a:lnTo>
                    <a:pt x="2204" y="847"/>
                  </a:lnTo>
                  <a:lnTo>
                    <a:pt x="2111" y="845"/>
                  </a:lnTo>
                  <a:lnTo>
                    <a:pt x="1997" y="845"/>
                  </a:lnTo>
                  <a:lnTo>
                    <a:pt x="1866" y="848"/>
                  </a:lnTo>
                  <a:lnTo>
                    <a:pt x="1725" y="849"/>
                  </a:lnTo>
                  <a:lnTo>
                    <a:pt x="1576" y="852"/>
                  </a:lnTo>
                  <a:lnTo>
                    <a:pt x="1423" y="855"/>
                  </a:lnTo>
                  <a:lnTo>
                    <a:pt x="1271" y="858"/>
                  </a:lnTo>
                  <a:lnTo>
                    <a:pt x="1125" y="862"/>
                  </a:lnTo>
                  <a:lnTo>
                    <a:pt x="990" y="865"/>
                  </a:lnTo>
                  <a:lnTo>
                    <a:pt x="869" y="869"/>
                  </a:lnTo>
                  <a:lnTo>
                    <a:pt x="767" y="871"/>
                  </a:lnTo>
                  <a:lnTo>
                    <a:pt x="689" y="873"/>
                  </a:lnTo>
                  <a:lnTo>
                    <a:pt x="639" y="875"/>
                  </a:lnTo>
                  <a:lnTo>
                    <a:pt x="621" y="875"/>
                  </a:lnTo>
                  <a:lnTo>
                    <a:pt x="592" y="884"/>
                  </a:lnTo>
                  <a:lnTo>
                    <a:pt x="562" y="891"/>
                  </a:lnTo>
                  <a:lnTo>
                    <a:pt x="530" y="899"/>
                  </a:lnTo>
                  <a:lnTo>
                    <a:pt x="497" y="905"/>
                  </a:lnTo>
                  <a:lnTo>
                    <a:pt x="465" y="911"/>
                  </a:lnTo>
                  <a:lnTo>
                    <a:pt x="432" y="915"/>
                  </a:lnTo>
                  <a:lnTo>
                    <a:pt x="399" y="919"/>
                  </a:lnTo>
                  <a:lnTo>
                    <a:pt x="368" y="921"/>
                  </a:lnTo>
                  <a:lnTo>
                    <a:pt x="336" y="922"/>
                  </a:lnTo>
                  <a:lnTo>
                    <a:pt x="307" y="921"/>
                  </a:lnTo>
                  <a:lnTo>
                    <a:pt x="278" y="919"/>
                  </a:lnTo>
                  <a:lnTo>
                    <a:pt x="251" y="914"/>
                  </a:lnTo>
                  <a:lnTo>
                    <a:pt x="239" y="912"/>
                  </a:lnTo>
                  <a:lnTo>
                    <a:pt x="226" y="908"/>
                  </a:lnTo>
                  <a:lnTo>
                    <a:pt x="216" y="904"/>
                  </a:lnTo>
                  <a:lnTo>
                    <a:pt x="205" y="899"/>
                  </a:lnTo>
                  <a:lnTo>
                    <a:pt x="195" y="894"/>
                  </a:lnTo>
                  <a:lnTo>
                    <a:pt x="185" y="889"/>
                  </a:lnTo>
                  <a:lnTo>
                    <a:pt x="177" y="882"/>
                  </a:lnTo>
                  <a:lnTo>
                    <a:pt x="169" y="875"/>
                  </a:lnTo>
                  <a:lnTo>
                    <a:pt x="163" y="868"/>
                  </a:lnTo>
                  <a:lnTo>
                    <a:pt x="157" y="862"/>
                  </a:lnTo>
                  <a:lnTo>
                    <a:pt x="153" y="855"/>
                  </a:lnTo>
                  <a:lnTo>
                    <a:pt x="149" y="848"/>
                  </a:lnTo>
                  <a:lnTo>
                    <a:pt x="146" y="841"/>
                  </a:lnTo>
                  <a:lnTo>
                    <a:pt x="143" y="835"/>
                  </a:lnTo>
                  <a:lnTo>
                    <a:pt x="142" y="828"/>
                  </a:lnTo>
                  <a:lnTo>
                    <a:pt x="141" y="821"/>
                  </a:lnTo>
                  <a:lnTo>
                    <a:pt x="141" y="809"/>
                  </a:lnTo>
                  <a:lnTo>
                    <a:pt x="141" y="796"/>
                  </a:lnTo>
                  <a:lnTo>
                    <a:pt x="143" y="785"/>
                  </a:lnTo>
                  <a:lnTo>
                    <a:pt x="146" y="774"/>
                  </a:lnTo>
                  <a:lnTo>
                    <a:pt x="148" y="764"/>
                  </a:lnTo>
                  <a:lnTo>
                    <a:pt x="149" y="753"/>
                  </a:lnTo>
                  <a:lnTo>
                    <a:pt x="149" y="744"/>
                  </a:lnTo>
                  <a:lnTo>
                    <a:pt x="147" y="734"/>
                  </a:lnTo>
                  <a:lnTo>
                    <a:pt x="145" y="730"/>
                  </a:lnTo>
                  <a:lnTo>
                    <a:pt x="142" y="726"/>
                  </a:lnTo>
                  <a:lnTo>
                    <a:pt x="139" y="723"/>
                  </a:lnTo>
                  <a:lnTo>
                    <a:pt x="135" y="718"/>
                  </a:lnTo>
                  <a:lnTo>
                    <a:pt x="129" y="715"/>
                  </a:lnTo>
                  <a:lnTo>
                    <a:pt x="124" y="711"/>
                  </a:lnTo>
                  <a:lnTo>
                    <a:pt x="117" y="709"/>
                  </a:lnTo>
                  <a:lnTo>
                    <a:pt x="108" y="705"/>
                  </a:lnTo>
                  <a:lnTo>
                    <a:pt x="91" y="699"/>
                  </a:lnTo>
                  <a:lnTo>
                    <a:pt x="77" y="694"/>
                  </a:lnTo>
                  <a:lnTo>
                    <a:pt x="65" y="688"/>
                  </a:lnTo>
                  <a:lnTo>
                    <a:pt x="56" y="682"/>
                  </a:lnTo>
                  <a:lnTo>
                    <a:pt x="49" y="677"/>
                  </a:lnTo>
                  <a:lnTo>
                    <a:pt x="44" y="672"/>
                  </a:lnTo>
                  <a:lnTo>
                    <a:pt x="42" y="668"/>
                  </a:lnTo>
                  <a:lnTo>
                    <a:pt x="39" y="663"/>
                  </a:lnTo>
                  <a:lnTo>
                    <a:pt x="39" y="658"/>
                  </a:lnTo>
                  <a:lnTo>
                    <a:pt x="41" y="655"/>
                  </a:lnTo>
                  <a:lnTo>
                    <a:pt x="42" y="653"/>
                  </a:lnTo>
                  <a:lnTo>
                    <a:pt x="43" y="649"/>
                  </a:lnTo>
                  <a:lnTo>
                    <a:pt x="46" y="646"/>
                  </a:lnTo>
                  <a:lnTo>
                    <a:pt x="49" y="644"/>
                  </a:lnTo>
                  <a:lnTo>
                    <a:pt x="57" y="639"/>
                  </a:lnTo>
                  <a:lnTo>
                    <a:pt x="78" y="622"/>
                  </a:lnTo>
                  <a:lnTo>
                    <a:pt x="107" y="599"/>
                  </a:lnTo>
                  <a:lnTo>
                    <a:pt x="138" y="572"/>
                  </a:lnTo>
                  <a:lnTo>
                    <a:pt x="153" y="557"/>
                  </a:lnTo>
                  <a:lnTo>
                    <a:pt x="166" y="543"/>
                  </a:lnTo>
                  <a:lnTo>
                    <a:pt x="176" y="528"/>
                  </a:lnTo>
                  <a:lnTo>
                    <a:pt x="183" y="515"/>
                  </a:lnTo>
                  <a:lnTo>
                    <a:pt x="185" y="508"/>
                  </a:lnTo>
                  <a:lnTo>
                    <a:pt x="187" y="502"/>
                  </a:lnTo>
                  <a:lnTo>
                    <a:pt x="188" y="496"/>
                  </a:lnTo>
                  <a:lnTo>
                    <a:pt x="187" y="491"/>
                  </a:lnTo>
                  <a:lnTo>
                    <a:pt x="184" y="487"/>
                  </a:lnTo>
                  <a:lnTo>
                    <a:pt x="181" y="482"/>
                  </a:lnTo>
                  <a:lnTo>
                    <a:pt x="176" y="477"/>
                  </a:lnTo>
                  <a:lnTo>
                    <a:pt x="169" y="475"/>
                  </a:lnTo>
                  <a:lnTo>
                    <a:pt x="155" y="469"/>
                  </a:lnTo>
                  <a:lnTo>
                    <a:pt x="142" y="462"/>
                  </a:lnTo>
                  <a:lnTo>
                    <a:pt x="129" y="455"/>
                  </a:lnTo>
                  <a:lnTo>
                    <a:pt x="117" y="448"/>
                  </a:lnTo>
                  <a:lnTo>
                    <a:pt x="106" y="441"/>
                  </a:lnTo>
                  <a:lnTo>
                    <a:pt x="94" y="433"/>
                  </a:lnTo>
                  <a:lnTo>
                    <a:pt x="84" y="425"/>
                  </a:lnTo>
                  <a:lnTo>
                    <a:pt x="75" y="417"/>
                  </a:lnTo>
                  <a:lnTo>
                    <a:pt x="65" y="407"/>
                  </a:lnTo>
                  <a:lnTo>
                    <a:pt x="57" y="398"/>
                  </a:lnTo>
                  <a:lnTo>
                    <a:pt x="49" y="389"/>
                  </a:lnTo>
                  <a:lnTo>
                    <a:pt x="42" y="379"/>
                  </a:lnTo>
                  <a:lnTo>
                    <a:pt x="35" y="370"/>
                  </a:lnTo>
                  <a:lnTo>
                    <a:pt x="29" y="359"/>
                  </a:lnTo>
                  <a:lnTo>
                    <a:pt x="23" y="350"/>
                  </a:lnTo>
                  <a:lnTo>
                    <a:pt x="18" y="340"/>
                  </a:lnTo>
                  <a:lnTo>
                    <a:pt x="10" y="320"/>
                  </a:lnTo>
                  <a:lnTo>
                    <a:pt x="4" y="299"/>
                  </a:lnTo>
                  <a:lnTo>
                    <a:pt x="1" y="278"/>
                  </a:lnTo>
                  <a:lnTo>
                    <a:pt x="0" y="257"/>
                  </a:lnTo>
                  <a:lnTo>
                    <a:pt x="1" y="237"/>
                  </a:lnTo>
                  <a:lnTo>
                    <a:pt x="3" y="218"/>
                  </a:lnTo>
                  <a:lnTo>
                    <a:pt x="7" y="208"/>
                  </a:lnTo>
                  <a:lnTo>
                    <a:pt x="9" y="198"/>
                  </a:lnTo>
                  <a:lnTo>
                    <a:pt x="13" y="190"/>
                  </a:lnTo>
                  <a:lnTo>
                    <a:pt x="17" y="181"/>
                  </a:lnTo>
                  <a:lnTo>
                    <a:pt x="25" y="163"/>
                  </a:lnTo>
                  <a:lnTo>
                    <a:pt x="36" y="147"/>
                  </a:lnTo>
                  <a:lnTo>
                    <a:pt x="46" y="131"/>
                  </a:lnTo>
                  <a:lnTo>
                    <a:pt x="58" y="114"/>
                  </a:lnTo>
                  <a:lnTo>
                    <a:pt x="80" y="83"/>
                  </a:lnTo>
                  <a:lnTo>
                    <a:pt x="104" y="56"/>
                  </a:lnTo>
                  <a:lnTo>
                    <a:pt x="124" y="32"/>
                  </a:lnTo>
                  <a:lnTo>
                    <a:pt x="140" y="15"/>
                  </a:lnTo>
                  <a:lnTo>
                    <a:pt x="150" y="3"/>
                  </a:lnTo>
                  <a:lnTo>
                    <a:pt x="155" y="0"/>
                  </a:lnTo>
                  <a:lnTo>
                    <a:pt x="300" y="4"/>
                  </a:lnTo>
                  <a:lnTo>
                    <a:pt x="447" y="9"/>
                  </a:lnTo>
                  <a:lnTo>
                    <a:pt x="597" y="13"/>
                  </a:lnTo>
                  <a:lnTo>
                    <a:pt x="749" y="17"/>
                  </a:lnTo>
                  <a:lnTo>
                    <a:pt x="903" y="21"/>
                  </a:lnTo>
                  <a:lnTo>
                    <a:pt x="1057" y="24"/>
                  </a:lnTo>
                  <a:lnTo>
                    <a:pt x="1213" y="27"/>
                  </a:lnTo>
                  <a:lnTo>
                    <a:pt x="1369" y="30"/>
                  </a:lnTo>
                  <a:lnTo>
                    <a:pt x="1525" y="32"/>
                  </a:lnTo>
                  <a:lnTo>
                    <a:pt x="1681" y="35"/>
                  </a:lnTo>
                  <a:lnTo>
                    <a:pt x="1835" y="37"/>
                  </a:lnTo>
                  <a:lnTo>
                    <a:pt x="1989" y="38"/>
                  </a:lnTo>
                  <a:lnTo>
                    <a:pt x="2141" y="39"/>
                  </a:lnTo>
                  <a:lnTo>
                    <a:pt x="2290" y="41"/>
                  </a:lnTo>
                  <a:lnTo>
                    <a:pt x="2439" y="42"/>
                  </a:lnTo>
                  <a:lnTo>
                    <a:pt x="2582" y="43"/>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4" name="Freeform 1451"/>
            <p:cNvSpPr/>
            <p:nvPr/>
          </p:nvSpPr>
          <p:spPr>
            <a:xfrm>
              <a:off x="3852720" y="4843080"/>
              <a:ext cx="450360" cy="160200"/>
            </a:xfrm>
            <a:custGeom>
              <a:avLst/>
              <a:gdLst>
                <a:gd name="textAreaLeft" fmla="*/ 0 w 450360"/>
                <a:gd name="textAreaRight" fmla="*/ 450720 w 450360"/>
                <a:gd name="textAreaTop" fmla="*/ 0 h 160200"/>
                <a:gd name="textAreaBottom" fmla="*/ 160560 h 160200"/>
              </a:gdLst>
              <a:ahLst/>
              <a:rect l="textAreaLeft" t="textAreaTop" r="textAreaRight" b="textAreaBottom"/>
              <a:pathLst>
                <a:path w="2502" h="1059">
                  <a:moveTo>
                    <a:pt x="0" y="1059"/>
                  </a:moveTo>
                  <a:lnTo>
                    <a:pt x="529" y="0"/>
                  </a:lnTo>
                  <a:lnTo>
                    <a:pt x="1871" y="37"/>
                  </a:lnTo>
                  <a:lnTo>
                    <a:pt x="2502" y="43"/>
                  </a:lnTo>
                  <a:lnTo>
                    <a:pt x="2235" y="1057"/>
                  </a:lnTo>
                  <a:lnTo>
                    <a:pt x="0" y="105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5" name="Freeform 1452"/>
            <p:cNvSpPr/>
            <p:nvPr/>
          </p:nvSpPr>
          <p:spPr>
            <a:xfrm>
              <a:off x="3852720" y="4843080"/>
              <a:ext cx="450360" cy="160200"/>
            </a:xfrm>
            <a:custGeom>
              <a:avLst/>
              <a:gdLst>
                <a:gd name="textAreaLeft" fmla="*/ 0 w 450360"/>
                <a:gd name="textAreaRight" fmla="*/ 450720 w 450360"/>
                <a:gd name="textAreaTop" fmla="*/ 0 h 160200"/>
                <a:gd name="textAreaBottom" fmla="*/ 160560 h 160200"/>
              </a:gdLst>
              <a:ahLst/>
              <a:rect l="textAreaLeft" t="textAreaTop" r="textAreaRight" b="textAreaBottom"/>
              <a:pathLst>
                <a:path w="2502" h="1059">
                  <a:moveTo>
                    <a:pt x="0" y="1059"/>
                  </a:moveTo>
                  <a:lnTo>
                    <a:pt x="529" y="0"/>
                  </a:lnTo>
                  <a:lnTo>
                    <a:pt x="1871" y="37"/>
                  </a:lnTo>
                  <a:lnTo>
                    <a:pt x="2502" y="43"/>
                  </a:lnTo>
                  <a:lnTo>
                    <a:pt x="2235" y="1057"/>
                  </a:lnTo>
                  <a:lnTo>
                    <a:pt x="0" y="1059"/>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6" name="Freeform 1453"/>
            <p:cNvSpPr/>
            <p:nvPr/>
          </p:nvSpPr>
          <p:spPr>
            <a:xfrm>
              <a:off x="3854520" y="5038920"/>
              <a:ext cx="934920" cy="687960"/>
            </a:xfrm>
            <a:custGeom>
              <a:avLst/>
              <a:gdLst>
                <a:gd name="textAreaLeft" fmla="*/ 0 w 934920"/>
                <a:gd name="textAreaRight" fmla="*/ 935280 w 934920"/>
                <a:gd name="textAreaTop" fmla="*/ 0 h 687960"/>
                <a:gd name="textAreaBottom" fmla="*/ 688320 h 687960"/>
              </a:gdLst>
              <a:ahLst/>
              <a:rect l="textAreaLeft" t="textAreaTop" r="textAreaRight" b="textAreaBottom"/>
              <a:pathLst>
                <a:path w="5200" h="4545">
                  <a:moveTo>
                    <a:pt x="5200" y="2503"/>
                  </a:moveTo>
                  <a:lnTo>
                    <a:pt x="5184" y="1809"/>
                  </a:lnTo>
                  <a:lnTo>
                    <a:pt x="5164" y="1787"/>
                  </a:lnTo>
                  <a:lnTo>
                    <a:pt x="5146" y="1764"/>
                  </a:lnTo>
                  <a:lnTo>
                    <a:pt x="5136" y="1752"/>
                  </a:lnTo>
                  <a:lnTo>
                    <a:pt x="5128" y="1739"/>
                  </a:lnTo>
                  <a:lnTo>
                    <a:pt x="5120" y="1725"/>
                  </a:lnTo>
                  <a:lnTo>
                    <a:pt x="5112" y="1711"/>
                  </a:lnTo>
                  <a:lnTo>
                    <a:pt x="5103" y="1696"/>
                  </a:lnTo>
                  <a:lnTo>
                    <a:pt x="5096" y="1680"/>
                  </a:lnTo>
                  <a:lnTo>
                    <a:pt x="5089" y="1663"/>
                  </a:lnTo>
                  <a:lnTo>
                    <a:pt x="5082" y="1646"/>
                  </a:lnTo>
                  <a:lnTo>
                    <a:pt x="5071" y="1610"/>
                  </a:lnTo>
                  <a:lnTo>
                    <a:pt x="5059" y="1569"/>
                  </a:lnTo>
                  <a:lnTo>
                    <a:pt x="5050" y="1524"/>
                  </a:lnTo>
                  <a:lnTo>
                    <a:pt x="5040" y="1477"/>
                  </a:lnTo>
                  <a:lnTo>
                    <a:pt x="5033" y="1423"/>
                  </a:lnTo>
                  <a:lnTo>
                    <a:pt x="5028" y="1366"/>
                  </a:lnTo>
                  <a:lnTo>
                    <a:pt x="5023" y="1304"/>
                  </a:lnTo>
                  <a:lnTo>
                    <a:pt x="5019" y="1237"/>
                  </a:lnTo>
                  <a:lnTo>
                    <a:pt x="5017" y="1165"/>
                  </a:lnTo>
                  <a:lnTo>
                    <a:pt x="5017" y="1086"/>
                  </a:lnTo>
                  <a:lnTo>
                    <a:pt x="5004" y="1076"/>
                  </a:lnTo>
                  <a:lnTo>
                    <a:pt x="4988" y="1064"/>
                  </a:lnTo>
                  <a:lnTo>
                    <a:pt x="4969" y="1053"/>
                  </a:lnTo>
                  <a:lnTo>
                    <a:pt x="4947" y="1039"/>
                  </a:lnTo>
                  <a:lnTo>
                    <a:pt x="4922" y="1026"/>
                  </a:lnTo>
                  <a:lnTo>
                    <a:pt x="4896" y="1010"/>
                  </a:lnTo>
                  <a:lnTo>
                    <a:pt x="4866" y="996"/>
                  </a:lnTo>
                  <a:lnTo>
                    <a:pt x="4836" y="981"/>
                  </a:lnTo>
                  <a:lnTo>
                    <a:pt x="4769" y="951"/>
                  </a:lnTo>
                  <a:lnTo>
                    <a:pt x="4698" y="921"/>
                  </a:lnTo>
                  <a:lnTo>
                    <a:pt x="4623" y="891"/>
                  </a:lnTo>
                  <a:lnTo>
                    <a:pt x="4547" y="864"/>
                  </a:lnTo>
                  <a:lnTo>
                    <a:pt x="4509" y="852"/>
                  </a:lnTo>
                  <a:lnTo>
                    <a:pt x="4472" y="840"/>
                  </a:lnTo>
                  <a:lnTo>
                    <a:pt x="4434" y="828"/>
                  </a:lnTo>
                  <a:lnTo>
                    <a:pt x="4398" y="819"/>
                  </a:lnTo>
                  <a:lnTo>
                    <a:pt x="4363" y="810"/>
                  </a:lnTo>
                  <a:lnTo>
                    <a:pt x="4329" y="803"/>
                  </a:lnTo>
                  <a:lnTo>
                    <a:pt x="4296" y="797"/>
                  </a:lnTo>
                  <a:lnTo>
                    <a:pt x="4265" y="792"/>
                  </a:lnTo>
                  <a:lnTo>
                    <a:pt x="4236" y="789"/>
                  </a:lnTo>
                  <a:lnTo>
                    <a:pt x="4209" y="787"/>
                  </a:lnTo>
                  <a:lnTo>
                    <a:pt x="4184" y="787"/>
                  </a:lnTo>
                  <a:lnTo>
                    <a:pt x="4162" y="791"/>
                  </a:lnTo>
                  <a:lnTo>
                    <a:pt x="4142" y="794"/>
                  </a:lnTo>
                  <a:lnTo>
                    <a:pt x="4126" y="801"/>
                  </a:lnTo>
                  <a:lnTo>
                    <a:pt x="4113" y="810"/>
                  </a:lnTo>
                  <a:lnTo>
                    <a:pt x="4104" y="821"/>
                  </a:lnTo>
                  <a:lnTo>
                    <a:pt x="4080" y="856"/>
                  </a:lnTo>
                  <a:lnTo>
                    <a:pt x="4059" y="884"/>
                  </a:lnTo>
                  <a:lnTo>
                    <a:pt x="4049" y="896"/>
                  </a:lnTo>
                  <a:lnTo>
                    <a:pt x="4039" y="907"/>
                  </a:lnTo>
                  <a:lnTo>
                    <a:pt x="4031" y="916"/>
                  </a:lnTo>
                  <a:lnTo>
                    <a:pt x="4022" y="923"/>
                  </a:lnTo>
                  <a:lnTo>
                    <a:pt x="4014" y="930"/>
                  </a:lnTo>
                  <a:lnTo>
                    <a:pt x="4007" y="935"/>
                  </a:lnTo>
                  <a:lnTo>
                    <a:pt x="4000" y="939"/>
                  </a:lnTo>
                  <a:lnTo>
                    <a:pt x="3993" y="942"/>
                  </a:lnTo>
                  <a:lnTo>
                    <a:pt x="3986" y="944"/>
                  </a:lnTo>
                  <a:lnTo>
                    <a:pt x="3980" y="945"/>
                  </a:lnTo>
                  <a:lnTo>
                    <a:pt x="3974" y="945"/>
                  </a:lnTo>
                  <a:lnTo>
                    <a:pt x="3968" y="944"/>
                  </a:lnTo>
                  <a:lnTo>
                    <a:pt x="3963" y="943"/>
                  </a:lnTo>
                  <a:lnTo>
                    <a:pt x="3959" y="940"/>
                  </a:lnTo>
                  <a:lnTo>
                    <a:pt x="3954" y="937"/>
                  </a:lnTo>
                  <a:lnTo>
                    <a:pt x="3949" y="933"/>
                  </a:lnTo>
                  <a:lnTo>
                    <a:pt x="3942" y="925"/>
                  </a:lnTo>
                  <a:lnTo>
                    <a:pt x="3937" y="915"/>
                  </a:lnTo>
                  <a:lnTo>
                    <a:pt x="3931" y="903"/>
                  </a:lnTo>
                  <a:lnTo>
                    <a:pt x="3926" y="891"/>
                  </a:lnTo>
                  <a:lnTo>
                    <a:pt x="3922" y="880"/>
                  </a:lnTo>
                  <a:lnTo>
                    <a:pt x="3919" y="868"/>
                  </a:lnTo>
                  <a:lnTo>
                    <a:pt x="3917" y="862"/>
                  </a:lnTo>
                  <a:lnTo>
                    <a:pt x="3913" y="857"/>
                  </a:lnTo>
                  <a:lnTo>
                    <a:pt x="3907" y="854"/>
                  </a:lnTo>
                  <a:lnTo>
                    <a:pt x="3900" y="850"/>
                  </a:lnTo>
                  <a:lnTo>
                    <a:pt x="3893" y="848"/>
                  </a:lnTo>
                  <a:lnTo>
                    <a:pt x="3884" y="847"/>
                  </a:lnTo>
                  <a:lnTo>
                    <a:pt x="3873" y="846"/>
                  </a:lnTo>
                  <a:lnTo>
                    <a:pt x="3862" y="845"/>
                  </a:lnTo>
                  <a:lnTo>
                    <a:pt x="3837" y="845"/>
                  </a:lnTo>
                  <a:lnTo>
                    <a:pt x="3808" y="847"/>
                  </a:lnTo>
                  <a:lnTo>
                    <a:pt x="3778" y="850"/>
                  </a:lnTo>
                  <a:lnTo>
                    <a:pt x="3746" y="854"/>
                  </a:lnTo>
                  <a:lnTo>
                    <a:pt x="3680" y="863"/>
                  </a:lnTo>
                  <a:lnTo>
                    <a:pt x="3615" y="870"/>
                  </a:lnTo>
                  <a:lnTo>
                    <a:pt x="3586" y="873"/>
                  </a:lnTo>
                  <a:lnTo>
                    <a:pt x="3559" y="873"/>
                  </a:lnTo>
                  <a:lnTo>
                    <a:pt x="3546" y="873"/>
                  </a:lnTo>
                  <a:lnTo>
                    <a:pt x="3536" y="871"/>
                  </a:lnTo>
                  <a:lnTo>
                    <a:pt x="3525" y="870"/>
                  </a:lnTo>
                  <a:lnTo>
                    <a:pt x="3516" y="868"/>
                  </a:lnTo>
                  <a:lnTo>
                    <a:pt x="3500" y="861"/>
                  </a:lnTo>
                  <a:lnTo>
                    <a:pt x="3483" y="853"/>
                  </a:lnTo>
                  <a:lnTo>
                    <a:pt x="3467" y="845"/>
                  </a:lnTo>
                  <a:lnTo>
                    <a:pt x="3453" y="835"/>
                  </a:lnTo>
                  <a:lnTo>
                    <a:pt x="3439" y="825"/>
                  </a:lnTo>
                  <a:lnTo>
                    <a:pt x="3426" y="814"/>
                  </a:lnTo>
                  <a:lnTo>
                    <a:pt x="3414" y="804"/>
                  </a:lnTo>
                  <a:lnTo>
                    <a:pt x="3404" y="793"/>
                  </a:lnTo>
                  <a:lnTo>
                    <a:pt x="3372" y="758"/>
                  </a:lnTo>
                  <a:lnTo>
                    <a:pt x="3361" y="743"/>
                  </a:lnTo>
                  <a:lnTo>
                    <a:pt x="3356" y="748"/>
                  </a:lnTo>
                  <a:lnTo>
                    <a:pt x="3344" y="759"/>
                  </a:lnTo>
                  <a:lnTo>
                    <a:pt x="3335" y="766"/>
                  </a:lnTo>
                  <a:lnTo>
                    <a:pt x="3324" y="775"/>
                  </a:lnTo>
                  <a:lnTo>
                    <a:pt x="3313" y="783"/>
                  </a:lnTo>
                  <a:lnTo>
                    <a:pt x="3299" y="791"/>
                  </a:lnTo>
                  <a:lnTo>
                    <a:pt x="3284" y="799"/>
                  </a:lnTo>
                  <a:lnTo>
                    <a:pt x="3267" y="805"/>
                  </a:lnTo>
                  <a:lnTo>
                    <a:pt x="3250" y="811"/>
                  </a:lnTo>
                  <a:lnTo>
                    <a:pt x="3231" y="814"/>
                  </a:lnTo>
                  <a:lnTo>
                    <a:pt x="3220" y="815"/>
                  </a:lnTo>
                  <a:lnTo>
                    <a:pt x="3210" y="815"/>
                  </a:lnTo>
                  <a:lnTo>
                    <a:pt x="3201" y="815"/>
                  </a:lnTo>
                  <a:lnTo>
                    <a:pt x="3189" y="814"/>
                  </a:lnTo>
                  <a:lnTo>
                    <a:pt x="3178" y="813"/>
                  </a:lnTo>
                  <a:lnTo>
                    <a:pt x="3168" y="811"/>
                  </a:lnTo>
                  <a:lnTo>
                    <a:pt x="3156" y="808"/>
                  </a:lnTo>
                  <a:lnTo>
                    <a:pt x="3145" y="804"/>
                  </a:lnTo>
                  <a:lnTo>
                    <a:pt x="3122" y="794"/>
                  </a:lnTo>
                  <a:lnTo>
                    <a:pt x="3100" y="784"/>
                  </a:lnTo>
                  <a:lnTo>
                    <a:pt x="3079" y="771"/>
                  </a:lnTo>
                  <a:lnTo>
                    <a:pt x="3058" y="758"/>
                  </a:lnTo>
                  <a:lnTo>
                    <a:pt x="3016" y="730"/>
                  </a:lnTo>
                  <a:lnTo>
                    <a:pt x="2972" y="702"/>
                  </a:lnTo>
                  <a:lnTo>
                    <a:pt x="2947" y="688"/>
                  </a:lnTo>
                  <a:lnTo>
                    <a:pt x="2923" y="675"/>
                  </a:lnTo>
                  <a:lnTo>
                    <a:pt x="2896" y="665"/>
                  </a:lnTo>
                  <a:lnTo>
                    <a:pt x="2867" y="654"/>
                  </a:lnTo>
                  <a:lnTo>
                    <a:pt x="2851" y="650"/>
                  </a:lnTo>
                  <a:lnTo>
                    <a:pt x="2836" y="646"/>
                  </a:lnTo>
                  <a:lnTo>
                    <a:pt x="2820" y="643"/>
                  </a:lnTo>
                  <a:lnTo>
                    <a:pt x="2802" y="639"/>
                  </a:lnTo>
                  <a:lnTo>
                    <a:pt x="2785" y="637"/>
                  </a:lnTo>
                  <a:lnTo>
                    <a:pt x="2766" y="636"/>
                  </a:lnTo>
                  <a:lnTo>
                    <a:pt x="2747" y="634"/>
                  </a:lnTo>
                  <a:lnTo>
                    <a:pt x="2726" y="634"/>
                  </a:lnTo>
                  <a:lnTo>
                    <a:pt x="2759" y="47"/>
                  </a:lnTo>
                  <a:lnTo>
                    <a:pt x="1857" y="0"/>
                  </a:lnTo>
                  <a:lnTo>
                    <a:pt x="1399" y="1533"/>
                  </a:lnTo>
                  <a:lnTo>
                    <a:pt x="8" y="1501"/>
                  </a:lnTo>
                  <a:lnTo>
                    <a:pt x="0" y="1668"/>
                  </a:lnTo>
                  <a:lnTo>
                    <a:pt x="503" y="2350"/>
                  </a:lnTo>
                  <a:lnTo>
                    <a:pt x="472" y="2566"/>
                  </a:lnTo>
                  <a:lnTo>
                    <a:pt x="904" y="3030"/>
                  </a:lnTo>
                  <a:lnTo>
                    <a:pt x="1091" y="2938"/>
                  </a:lnTo>
                  <a:lnTo>
                    <a:pt x="1307" y="2598"/>
                  </a:lnTo>
                  <a:lnTo>
                    <a:pt x="1318" y="2597"/>
                  </a:lnTo>
                  <a:lnTo>
                    <a:pt x="1348" y="2593"/>
                  </a:lnTo>
                  <a:lnTo>
                    <a:pt x="1392" y="2589"/>
                  </a:lnTo>
                  <a:lnTo>
                    <a:pt x="1446" y="2583"/>
                  </a:lnTo>
                  <a:lnTo>
                    <a:pt x="1507" y="2577"/>
                  </a:lnTo>
                  <a:lnTo>
                    <a:pt x="1569" y="2572"/>
                  </a:lnTo>
                  <a:lnTo>
                    <a:pt x="1627" y="2568"/>
                  </a:lnTo>
                  <a:lnTo>
                    <a:pt x="1679" y="2566"/>
                  </a:lnTo>
                  <a:lnTo>
                    <a:pt x="1725" y="2568"/>
                  </a:lnTo>
                  <a:lnTo>
                    <a:pt x="1773" y="2570"/>
                  </a:lnTo>
                  <a:lnTo>
                    <a:pt x="1798" y="2572"/>
                  </a:lnTo>
                  <a:lnTo>
                    <a:pt x="1821" y="2577"/>
                  </a:lnTo>
                  <a:lnTo>
                    <a:pt x="1844" y="2582"/>
                  </a:lnTo>
                  <a:lnTo>
                    <a:pt x="1867" y="2590"/>
                  </a:lnTo>
                  <a:lnTo>
                    <a:pt x="1877" y="2594"/>
                  </a:lnTo>
                  <a:lnTo>
                    <a:pt x="1888" y="2599"/>
                  </a:lnTo>
                  <a:lnTo>
                    <a:pt x="1897" y="2605"/>
                  </a:lnTo>
                  <a:lnTo>
                    <a:pt x="1907" y="2612"/>
                  </a:lnTo>
                  <a:lnTo>
                    <a:pt x="1917" y="2619"/>
                  </a:lnTo>
                  <a:lnTo>
                    <a:pt x="1925" y="2627"/>
                  </a:lnTo>
                  <a:lnTo>
                    <a:pt x="1934" y="2635"/>
                  </a:lnTo>
                  <a:lnTo>
                    <a:pt x="1943" y="2645"/>
                  </a:lnTo>
                  <a:lnTo>
                    <a:pt x="1950" y="2655"/>
                  </a:lnTo>
                  <a:lnTo>
                    <a:pt x="1957" y="2666"/>
                  </a:lnTo>
                  <a:lnTo>
                    <a:pt x="1964" y="2677"/>
                  </a:lnTo>
                  <a:lnTo>
                    <a:pt x="1969" y="2690"/>
                  </a:lnTo>
                  <a:lnTo>
                    <a:pt x="1974" y="2704"/>
                  </a:lnTo>
                  <a:lnTo>
                    <a:pt x="1980" y="2718"/>
                  </a:lnTo>
                  <a:lnTo>
                    <a:pt x="1983" y="2735"/>
                  </a:lnTo>
                  <a:lnTo>
                    <a:pt x="1987" y="2751"/>
                  </a:lnTo>
                  <a:lnTo>
                    <a:pt x="1993" y="2788"/>
                  </a:lnTo>
                  <a:lnTo>
                    <a:pt x="1997" y="2830"/>
                  </a:lnTo>
                  <a:lnTo>
                    <a:pt x="2004" y="2876"/>
                  </a:lnTo>
                  <a:lnTo>
                    <a:pt x="2011" y="2926"/>
                  </a:lnTo>
                  <a:lnTo>
                    <a:pt x="2021" y="2977"/>
                  </a:lnTo>
                  <a:lnTo>
                    <a:pt x="2034" y="3032"/>
                  </a:lnTo>
                  <a:lnTo>
                    <a:pt x="2041" y="3060"/>
                  </a:lnTo>
                  <a:lnTo>
                    <a:pt x="2049" y="3088"/>
                  </a:lnTo>
                  <a:lnTo>
                    <a:pt x="2058" y="3116"/>
                  </a:lnTo>
                  <a:lnTo>
                    <a:pt x="2069" y="3146"/>
                  </a:lnTo>
                  <a:lnTo>
                    <a:pt x="2080" y="3175"/>
                  </a:lnTo>
                  <a:lnTo>
                    <a:pt x="2092" y="3204"/>
                  </a:lnTo>
                  <a:lnTo>
                    <a:pt x="2107" y="3233"/>
                  </a:lnTo>
                  <a:lnTo>
                    <a:pt x="2122" y="3263"/>
                  </a:lnTo>
                  <a:lnTo>
                    <a:pt x="2139" y="3292"/>
                  </a:lnTo>
                  <a:lnTo>
                    <a:pt x="2157" y="3321"/>
                  </a:lnTo>
                  <a:lnTo>
                    <a:pt x="2178" y="3349"/>
                  </a:lnTo>
                  <a:lnTo>
                    <a:pt x="2201" y="3377"/>
                  </a:lnTo>
                  <a:lnTo>
                    <a:pt x="2224" y="3405"/>
                  </a:lnTo>
                  <a:lnTo>
                    <a:pt x="2250" y="3433"/>
                  </a:lnTo>
                  <a:lnTo>
                    <a:pt x="2278" y="3460"/>
                  </a:lnTo>
                  <a:lnTo>
                    <a:pt x="2308" y="3487"/>
                  </a:lnTo>
                  <a:lnTo>
                    <a:pt x="2340" y="3512"/>
                  </a:lnTo>
                  <a:lnTo>
                    <a:pt x="2375" y="3538"/>
                  </a:lnTo>
                  <a:lnTo>
                    <a:pt x="2411" y="3563"/>
                  </a:lnTo>
                  <a:lnTo>
                    <a:pt x="2451" y="3586"/>
                  </a:lnTo>
                  <a:lnTo>
                    <a:pt x="2606" y="4050"/>
                  </a:lnTo>
                  <a:lnTo>
                    <a:pt x="3099" y="4545"/>
                  </a:lnTo>
                  <a:lnTo>
                    <a:pt x="3563" y="4545"/>
                  </a:lnTo>
                  <a:lnTo>
                    <a:pt x="3562" y="4528"/>
                  </a:lnTo>
                  <a:lnTo>
                    <a:pt x="3562" y="4478"/>
                  </a:lnTo>
                  <a:lnTo>
                    <a:pt x="3560" y="4406"/>
                  </a:lnTo>
                  <a:lnTo>
                    <a:pt x="3558" y="4316"/>
                  </a:lnTo>
                  <a:lnTo>
                    <a:pt x="3555" y="4217"/>
                  </a:lnTo>
                  <a:lnTo>
                    <a:pt x="3549" y="4114"/>
                  </a:lnTo>
                  <a:lnTo>
                    <a:pt x="3545" y="4064"/>
                  </a:lnTo>
                  <a:lnTo>
                    <a:pt x="3541" y="4015"/>
                  </a:lnTo>
                  <a:lnTo>
                    <a:pt x="3536" y="3969"/>
                  </a:lnTo>
                  <a:lnTo>
                    <a:pt x="3530" y="3926"/>
                  </a:lnTo>
                  <a:lnTo>
                    <a:pt x="3529" y="3905"/>
                  </a:lnTo>
                  <a:lnTo>
                    <a:pt x="3530" y="3883"/>
                  </a:lnTo>
                  <a:lnTo>
                    <a:pt x="3534" y="3861"/>
                  </a:lnTo>
                  <a:lnTo>
                    <a:pt x="3538" y="3836"/>
                  </a:lnTo>
                  <a:lnTo>
                    <a:pt x="3546" y="3811"/>
                  </a:lnTo>
                  <a:lnTo>
                    <a:pt x="3555" y="3786"/>
                  </a:lnTo>
                  <a:lnTo>
                    <a:pt x="3566" y="3759"/>
                  </a:lnTo>
                  <a:lnTo>
                    <a:pt x="3579" y="3732"/>
                  </a:lnTo>
                  <a:lnTo>
                    <a:pt x="3593" y="3705"/>
                  </a:lnTo>
                  <a:lnTo>
                    <a:pt x="3608" y="3677"/>
                  </a:lnTo>
                  <a:lnTo>
                    <a:pt x="3626" y="3649"/>
                  </a:lnTo>
                  <a:lnTo>
                    <a:pt x="3643" y="3621"/>
                  </a:lnTo>
                  <a:lnTo>
                    <a:pt x="3663" y="3593"/>
                  </a:lnTo>
                  <a:lnTo>
                    <a:pt x="3683" y="3565"/>
                  </a:lnTo>
                  <a:lnTo>
                    <a:pt x="3703" y="3537"/>
                  </a:lnTo>
                  <a:lnTo>
                    <a:pt x="3725" y="3509"/>
                  </a:lnTo>
                  <a:lnTo>
                    <a:pt x="3747" y="3482"/>
                  </a:lnTo>
                  <a:lnTo>
                    <a:pt x="3769" y="3455"/>
                  </a:lnTo>
                  <a:lnTo>
                    <a:pt x="3792" y="3430"/>
                  </a:lnTo>
                  <a:lnTo>
                    <a:pt x="3815" y="3404"/>
                  </a:lnTo>
                  <a:lnTo>
                    <a:pt x="3861" y="3355"/>
                  </a:lnTo>
                  <a:lnTo>
                    <a:pt x="3905" y="3310"/>
                  </a:lnTo>
                  <a:lnTo>
                    <a:pt x="3948" y="3270"/>
                  </a:lnTo>
                  <a:lnTo>
                    <a:pt x="3989" y="3236"/>
                  </a:lnTo>
                  <a:lnTo>
                    <a:pt x="4008" y="3220"/>
                  </a:lnTo>
                  <a:lnTo>
                    <a:pt x="4025" y="3206"/>
                  </a:lnTo>
                  <a:lnTo>
                    <a:pt x="4043" y="3196"/>
                  </a:lnTo>
                  <a:lnTo>
                    <a:pt x="4058" y="3185"/>
                  </a:lnTo>
                  <a:lnTo>
                    <a:pt x="4092" y="3167"/>
                  </a:lnTo>
                  <a:lnTo>
                    <a:pt x="4137" y="3145"/>
                  </a:lnTo>
                  <a:lnTo>
                    <a:pt x="4190" y="3119"/>
                  </a:lnTo>
                  <a:lnTo>
                    <a:pt x="4250" y="3092"/>
                  </a:lnTo>
                  <a:lnTo>
                    <a:pt x="4313" y="3063"/>
                  </a:lnTo>
                  <a:lnTo>
                    <a:pt x="4379" y="3034"/>
                  </a:lnTo>
                  <a:lnTo>
                    <a:pt x="4446" y="3002"/>
                  </a:lnTo>
                  <a:lnTo>
                    <a:pt x="4511" y="2970"/>
                  </a:lnTo>
                  <a:lnTo>
                    <a:pt x="4574" y="2939"/>
                  </a:lnTo>
                  <a:lnTo>
                    <a:pt x="4632" y="2907"/>
                  </a:lnTo>
                  <a:lnTo>
                    <a:pt x="4658" y="2892"/>
                  </a:lnTo>
                  <a:lnTo>
                    <a:pt x="4683" y="2877"/>
                  </a:lnTo>
                  <a:lnTo>
                    <a:pt x="4705" y="2863"/>
                  </a:lnTo>
                  <a:lnTo>
                    <a:pt x="4725" y="2848"/>
                  </a:lnTo>
                  <a:lnTo>
                    <a:pt x="4741" y="2834"/>
                  </a:lnTo>
                  <a:lnTo>
                    <a:pt x="4757" y="2821"/>
                  </a:lnTo>
                  <a:lnTo>
                    <a:pt x="4767" y="2807"/>
                  </a:lnTo>
                  <a:lnTo>
                    <a:pt x="4775" y="2795"/>
                  </a:lnTo>
                  <a:lnTo>
                    <a:pt x="4780" y="2782"/>
                  </a:lnTo>
                  <a:lnTo>
                    <a:pt x="4780" y="2772"/>
                  </a:lnTo>
                  <a:lnTo>
                    <a:pt x="4776" y="2761"/>
                  </a:lnTo>
                  <a:lnTo>
                    <a:pt x="4769" y="2751"/>
                  </a:lnTo>
                  <a:lnTo>
                    <a:pt x="4741" y="2725"/>
                  </a:lnTo>
                  <a:lnTo>
                    <a:pt x="4718" y="2699"/>
                  </a:lnTo>
                  <a:lnTo>
                    <a:pt x="4698" y="2676"/>
                  </a:lnTo>
                  <a:lnTo>
                    <a:pt x="4682" y="2654"/>
                  </a:lnTo>
                  <a:lnTo>
                    <a:pt x="4669" y="2633"/>
                  </a:lnTo>
                  <a:lnTo>
                    <a:pt x="4658" y="2613"/>
                  </a:lnTo>
                  <a:lnTo>
                    <a:pt x="4651" y="2594"/>
                  </a:lnTo>
                  <a:lnTo>
                    <a:pt x="4647" y="2578"/>
                  </a:lnTo>
                  <a:lnTo>
                    <a:pt x="4644" y="2562"/>
                  </a:lnTo>
                  <a:lnTo>
                    <a:pt x="4644" y="2548"/>
                  </a:lnTo>
                  <a:lnTo>
                    <a:pt x="4648" y="2536"/>
                  </a:lnTo>
                  <a:lnTo>
                    <a:pt x="4653" y="2524"/>
                  </a:lnTo>
                  <a:lnTo>
                    <a:pt x="4660" y="2515"/>
                  </a:lnTo>
                  <a:lnTo>
                    <a:pt x="4669" y="2508"/>
                  </a:lnTo>
                  <a:lnTo>
                    <a:pt x="4679" y="2501"/>
                  </a:lnTo>
                  <a:lnTo>
                    <a:pt x="4691" y="2497"/>
                  </a:lnTo>
                  <a:lnTo>
                    <a:pt x="4705" y="2495"/>
                  </a:lnTo>
                  <a:lnTo>
                    <a:pt x="4720" y="2494"/>
                  </a:lnTo>
                  <a:lnTo>
                    <a:pt x="4736" y="2495"/>
                  </a:lnTo>
                  <a:lnTo>
                    <a:pt x="4753" y="2497"/>
                  </a:lnTo>
                  <a:lnTo>
                    <a:pt x="4771" y="2502"/>
                  </a:lnTo>
                  <a:lnTo>
                    <a:pt x="4789" y="2509"/>
                  </a:lnTo>
                  <a:lnTo>
                    <a:pt x="4809" y="2518"/>
                  </a:lnTo>
                  <a:lnTo>
                    <a:pt x="4829" y="2529"/>
                  </a:lnTo>
                  <a:lnTo>
                    <a:pt x="4849" y="2542"/>
                  </a:lnTo>
                  <a:lnTo>
                    <a:pt x="4869" y="2556"/>
                  </a:lnTo>
                  <a:lnTo>
                    <a:pt x="4890" y="2573"/>
                  </a:lnTo>
                  <a:lnTo>
                    <a:pt x="4910" y="2592"/>
                  </a:lnTo>
                  <a:lnTo>
                    <a:pt x="4929" y="2613"/>
                  </a:lnTo>
                  <a:lnTo>
                    <a:pt x="4948" y="2636"/>
                  </a:lnTo>
                  <a:lnTo>
                    <a:pt x="4967" y="2662"/>
                  </a:lnTo>
                  <a:lnTo>
                    <a:pt x="4985" y="2690"/>
                  </a:lnTo>
                  <a:lnTo>
                    <a:pt x="5200" y="250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7" name="Freeform 1454"/>
            <p:cNvSpPr/>
            <p:nvPr/>
          </p:nvSpPr>
          <p:spPr>
            <a:xfrm>
              <a:off x="3854520" y="5038920"/>
              <a:ext cx="934920" cy="687960"/>
            </a:xfrm>
            <a:custGeom>
              <a:avLst/>
              <a:gdLst>
                <a:gd name="textAreaLeft" fmla="*/ 0 w 934920"/>
                <a:gd name="textAreaRight" fmla="*/ 935280 w 934920"/>
                <a:gd name="textAreaTop" fmla="*/ 0 h 687960"/>
                <a:gd name="textAreaBottom" fmla="*/ 688320 h 687960"/>
              </a:gdLst>
              <a:ahLst/>
              <a:rect l="textAreaLeft" t="textAreaTop" r="textAreaRight" b="textAreaBottom"/>
              <a:pathLst>
                <a:path w="5200" h="4545">
                  <a:moveTo>
                    <a:pt x="5200" y="2503"/>
                  </a:moveTo>
                  <a:lnTo>
                    <a:pt x="5184" y="1809"/>
                  </a:lnTo>
                  <a:lnTo>
                    <a:pt x="5164" y="1787"/>
                  </a:lnTo>
                  <a:lnTo>
                    <a:pt x="5146" y="1764"/>
                  </a:lnTo>
                  <a:lnTo>
                    <a:pt x="5136" y="1752"/>
                  </a:lnTo>
                  <a:lnTo>
                    <a:pt x="5128" y="1739"/>
                  </a:lnTo>
                  <a:lnTo>
                    <a:pt x="5120" y="1725"/>
                  </a:lnTo>
                  <a:lnTo>
                    <a:pt x="5112" y="1711"/>
                  </a:lnTo>
                  <a:lnTo>
                    <a:pt x="5103" y="1696"/>
                  </a:lnTo>
                  <a:lnTo>
                    <a:pt x="5096" y="1680"/>
                  </a:lnTo>
                  <a:lnTo>
                    <a:pt x="5089" y="1663"/>
                  </a:lnTo>
                  <a:lnTo>
                    <a:pt x="5082" y="1646"/>
                  </a:lnTo>
                  <a:lnTo>
                    <a:pt x="5071" y="1610"/>
                  </a:lnTo>
                  <a:lnTo>
                    <a:pt x="5059" y="1569"/>
                  </a:lnTo>
                  <a:lnTo>
                    <a:pt x="5050" y="1524"/>
                  </a:lnTo>
                  <a:lnTo>
                    <a:pt x="5040" y="1477"/>
                  </a:lnTo>
                  <a:lnTo>
                    <a:pt x="5033" y="1423"/>
                  </a:lnTo>
                  <a:lnTo>
                    <a:pt x="5028" y="1366"/>
                  </a:lnTo>
                  <a:lnTo>
                    <a:pt x="5023" y="1304"/>
                  </a:lnTo>
                  <a:lnTo>
                    <a:pt x="5019" y="1237"/>
                  </a:lnTo>
                  <a:lnTo>
                    <a:pt x="5017" y="1165"/>
                  </a:lnTo>
                  <a:lnTo>
                    <a:pt x="5017" y="1086"/>
                  </a:lnTo>
                  <a:lnTo>
                    <a:pt x="5004" y="1076"/>
                  </a:lnTo>
                  <a:lnTo>
                    <a:pt x="4988" y="1064"/>
                  </a:lnTo>
                  <a:lnTo>
                    <a:pt x="4969" y="1053"/>
                  </a:lnTo>
                  <a:lnTo>
                    <a:pt x="4947" y="1039"/>
                  </a:lnTo>
                  <a:lnTo>
                    <a:pt x="4922" y="1026"/>
                  </a:lnTo>
                  <a:lnTo>
                    <a:pt x="4896" y="1010"/>
                  </a:lnTo>
                  <a:lnTo>
                    <a:pt x="4866" y="996"/>
                  </a:lnTo>
                  <a:lnTo>
                    <a:pt x="4836" y="981"/>
                  </a:lnTo>
                  <a:lnTo>
                    <a:pt x="4769" y="951"/>
                  </a:lnTo>
                  <a:lnTo>
                    <a:pt x="4698" y="921"/>
                  </a:lnTo>
                  <a:lnTo>
                    <a:pt x="4623" y="891"/>
                  </a:lnTo>
                  <a:lnTo>
                    <a:pt x="4547" y="864"/>
                  </a:lnTo>
                  <a:lnTo>
                    <a:pt x="4509" y="852"/>
                  </a:lnTo>
                  <a:lnTo>
                    <a:pt x="4472" y="840"/>
                  </a:lnTo>
                  <a:lnTo>
                    <a:pt x="4434" y="828"/>
                  </a:lnTo>
                  <a:lnTo>
                    <a:pt x="4398" y="819"/>
                  </a:lnTo>
                  <a:lnTo>
                    <a:pt x="4363" y="810"/>
                  </a:lnTo>
                  <a:lnTo>
                    <a:pt x="4329" y="803"/>
                  </a:lnTo>
                  <a:lnTo>
                    <a:pt x="4296" y="797"/>
                  </a:lnTo>
                  <a:lnTo>
                    <a:pt x="4265" y="792"/>
                  </a:lnTo>
                  <a:lnTo>
                    <a:pt x="4236" y="789"/>
                  </a:lnTo>
                  <a:lnTo>
                    <a:pt x="4209" y="787"/>
                  </a:lnTo>
                  <a:lnTo>
                    <a:pt x="4184" y="787"/>
                  </a:lnTo>
                  <a:lnTo>
                    <a:pt x="4162" y="791"/>
                  </a:lnTo>
                  <a:lnTo>
                    <a:pt x="4142" y="794"/>
                  </a:lnTo>
                  <a:lnTo>
                    <a:pt x="4126" y="801"/>
                  </a:lnTo>
                  <a:lnTo>
                    <a:pt x="4113" y="810"/>
                  </a:lnTo>
                  <a:lnTo>
                    <a:pt x="4104" y="821"/>
                  </a:lnTo>
                  <a:lnTo>
                    <a:pt x="4080" y="856"/>
                  </a:lnTo>
                  <a:lnTo>
                    <a:pt x="4059" y="884"/>
                  </a:lnTo>
                  <a:lnTo>
                    <a:pt x="4049" y="896"/>
                  </a:lnTo>
                  <a:lnTo>
                    <a:pt x="4039" y="907"/>
                  </a:lnTo>
                  <a:lnTo>
                    <a:pt x="4031" y="916"/>
                  </a:lnTo>
                  <a:lnTo>
                    <a:pt x="4022" y="923"/>
                  </a:lnTo>
                  <a:lnTo>
                    <a:pt x="4014" y="930"/>
                  </a:lnTo>
                  <a:lnTo>
                    <a:pt x="4007" y="935"/>
                  </a:lnTo>
                  <a:lnTo>
                    <a:pt x="4000" y="939"/>
                  </a:lnTo>
                  <a:lnTo>
                    <a:pt x="3993" y="942"/>
                  </a:lnTo>
                  <a:lnTo>
                    <a:pt x="3986" y="944"/>
                  </a:lnTo>
                  <a:lnTo>
                    <a:pt x="3980" y="945"/>
                  </a:lnTo>
                  <a:lnTo>
                    <a:pt x="3974" y="945"/>
                  </a:lnTo>
                  <a:lnTo>
                    <a:pt x="3968" y="944"/>
                  </a:lnTo>
                  <a:lnTo>
                    <a:pt x="3963" y="943"/>
                  </a:lnTo>
                  <a:lnTo>
                    <a:pt x="3959" y="940"/>
                  </a:lnTo>
                  <a:lnTo>
                    <a:pt x="3954" y="937"/>
                  </a:lnTo>
                  <a:lnTo>
                    <a:pt x="3949" y="933"/>
                  </a:lnTo>
                  <a:lnTo>
                    <a:pt x="3942" y="925"/>
                  </a:lnTo>
                  <a:lnTo>
                    <a:pt x="3937" y="915"/>
                  </a:lnTo>
                  <a:lnTo>
                    <a:pt x="3931" y="903"/>
                  </a:lnTo>
                  <a:lnTo>
                    <a:pt x="3926" y="891"/>
                  </a:lnTo>
                  <a:lnTo>
                    <a:pt x="3922" y="880"/>
                  </a:lnTo>
                  <a:lnTo>
                    <a:pt x="3919" y="868"/>
                  </a:lnTo>
                  <a:lnTo>
                    <a:pt x="3917" y="862"/>
                  </a:lnTo>
                  <a:lnTo>
                    <a:pt x="3913" y="857"/>
                  </a:lnTo>
                  <a:lnTo>
                    <a:pt x="3907" y="854"/>
                  </a:lnTo>
                  <a:lnTo>
                    <a:pt x="3900" y="850"/>
                  </a:lnTo>
                  <a:lnTo>
                    <a:pt x="3893" y="848"/>
                  </a:lnTo>
                  <a:lnTo>
                    <a:pt x="3884" y="847"/>
                  </a:lnTo>
                  <a:lnTo>
                    <a:pt x="3873" y="846"/>
                  </a:lnTo>
                  <a:lnTo>
                    <a:pt x="3862" y="845"/>
                  </a:lnTo>
                  <a:lnTo>
                    <a:pt x="3837" y="845"/>
                  </a:lnTo>
                  <a:lnTo>
                    <a:pt x="3808" y="847"/>
                  </a:lnTo>
                  <a:lnTo>
                    <a:pt x="3778" y="850"/>
                  </a:lnTo>
                  <a:lnTo>
                    <a:pt x="3746" y="854"/>
                  </a:lnTo>
                  <a:lnTo>
                    <a:pt x="3680" y="863"/>
                  </a:lnTo>
                  <a:lnTo>
                    <a:pt x="3615" y="870"/>
                  </a:lnTo>
                  <a:lnTo>
                    <a:pt x="3586" y="873"/>
                  </a:lnTo>
                  <a:lnTo>
                    <a:pt x="3559" y="873"/>
                  </a:lnTo>
                  <a:lnTo>
                    <a:pt x="3546" y="873"/>
                  </a:lnTo>
                  <a:lnTo>
                    <a:pt x="3536" y="871"/>
                  </a:lnTo>
                  <a:lnTo>
                    <a:pt x="3525" y="870"/>
                  </a:lnTo>
                  <a:lnTo>
                    <a:pt x="3516" y="868"/>
                  </a:lnTo>
                  <a:lnTo>
                    <a:pt x="3500" y="861"/>
                  </a:lnTo>
                  <a:lnTo>
                    <a:pt x="3483" y="853"/>
                  </a:lnTo>
                  <a:lnTo>
                    <a:pt x="3467" y="845"/>
                  </a:lnTo>
                  <a:lnTo>
                    <a:pt x="3453" y="835"/>
                  </a:lnTo>
                  <a:lnTo>
                    <a:pt x="3439" y="825"/>
                  </a:lnTo>
                  <a:lnTo>
                    <a:pt x="3426" y="814"/>
                  </a:lnTo>
                  <a:lnTo>
                    <a:pt x="3414" y="804"/>
                  </a:lnTo>
                  <a:lnTo>
                    <a:pt x="3404" y="793"/>
                  </a:lnTo>
                  <a:lnTo>
                    <a:pt x="3372" y="758"/>
                  </a:lnTo>
                  <a:lnTo>
                    <a:pt x="3361" y="743"/>
                  </a:lnTo>
                  <a:lnTo>
                    <a:pt x="3356" y="748"/>
                  </a:lnTo>
                  <a:lnTo>
                    <a:pt x="3344" y="759"/>
                  </a:lnTo>
                  <a:lnTo>
                    <a:pt x="3335" y="766"/>
                  </a:lnTo>
                  <a:lnTo>
                    <a:pt x="3324" y="775"/>
                  </a:lnTo>
                  <a:lnTo>
                    <a:pt x="3313" y="783"/>
                  </a:lnTo>
                  <a:lnTo>
                    <a:pt x="3299" y="791"/>
                  </a:lnTo>
                  <a:lnTo>
                    <a:pt x="3284" y="799"/>
                  </a:lnTo>
                  <a:lnTo>
                    <a:pt x="3267" y="805"/>
                  </a:lnTo>
                  <a:lnTo>
                    <a:pt x="3250" y="811"/>
                  </a:lnTo>
                  <a:lnTo>
                    <a:pt x="3231" y="814"/>
                  </a:lnTo>
                  <a:lnTo>
                    <a:pt x="3220" y="815"/>
                  </a:lnTo>
                  <a:lnTo>
                    <a:pt x="3210" y="815"/>
                  </a:lnTo>
                  <a:lnTo>
                    <a:pt x="3201" y="815"/>
                  </a:lnTo>
                  <a:lnTo>
                    <a:pt x="3189" y="814"/>
                  </a:lnTo>
                  <a:lnTo>
                    <a:pt x="3178" y="813"/>
                  </a:lnTo>
                  <a:lnTo>
                    <a:pt x="3168" y="811"/>
                  </a:lnTo>
                  <a:lnTo>
                    <a:pt x="3156" y="808"/>
                  </a:lnTo>
                  <a:lnTo>
                    <a:pt x="3145" y="804"/>
                  </a:lnTo>
                  <a:lnTo>
                    <a:pt x="3122" y="794"/>
                  </a:lnTo>
                  <a:lnTo>
                    <a:pt x="3100" y="784"/>
                  </a:lnTo>
                  <a:lnTo>
                    <a:pt x="3079" y="771"/>
                  </a:lnTo>
                  <a:lnTo>
                    <a:pt x="3058" y="758"/>
                  </a:lnTo>
                  <a:lnTo>
                    <a:pt x="3016" y="730"/>
                  </a:lnTo>
                  <a:lnTo>
                    <a:pt x="2972" y="702"/>
                  </a:lnTo>
                  <a:lnTo>
                    <a:pt x="2947" y="688"/>
                  </a:lnTo>
                  <a:lnTo>
                    <a:pt x="2923" y="675"/>
                  </a:lnTo>
                  <a:lnTo>
                    <a:pt x="2896" y="665"/>
                  </a:lnTo>
                  <a:lnTo>
                    <a:pt x="2867" y="654"/>
                  </a:lnTo>
                  <a:lnTo>
                    <a:pt x="2851" y="650"/>
                  </a:lnTo>
                  <a:lnTo>
                    <a:pt x="2836" y="646"/>
                  </a:lnTo>
                  <a:lnTo>
                    <a:pt x="2820" y="643"/>
                  </a:lnTo>
                  <a:lnTo>
                    <a:pt x="2802" y="639"/>
                  </a:lnTo>
                  <a:lnTo>
                    <a:pt x="2785" y="637"/>
                  </a:lnTo>
                  <a:lnTo>
                    <a:pt x="2766" y="636"/>
                  </a:lnTo>
                  <a:lnTo>
                    <a:pt x="2747" y="634"/>
                  </a:lnTo>
                  <a:lnTo>
                    <a:pt x="2726" y="634"/>
                  </a:lnTo>
                  <a:lnTo>
                    <a:pt x="2759" y="47"/>
                  </a:lnTo>
                  <a:lnTo>
                    <a:pt x="1857" y="0"/>
                  </a:lnTo>
                  <a:lnTo>
                    <a:pt x="1399" y="1533"/>
                  </a:lnTo>
                  <a:lnTo>
                    <a:pt x="8" y="1501"/>
                  </a:lnTo>
                  <a:lnTo>
                    <a:pt x="0" y="1668"/>
                  </a:lnTo>
                  <a:lnTo>
                    <a:pt x="503" y="2350"/>
                  </a:lnTo>
                  <a:lnTo>
                    <a:pt x="472" y="2566"/>
                  </a:lnTo>
                  <a:lnTo>
                    <a:pt x="904" y="3030"/>
                  </a:lnTo>
                  <a:lnTo>
                    <a:pt x="1091" y="2938"/>
                  </a:lnTo>
                  <a:lnTo>
                    <a:pt x="1307" y="2598"/>
                  </a:lnTo>
                  <a:lnTo>
                    <a:pt x="1318" y="2597"/>
                  </a:lnTo>
                  <a:lnTo>
                    <a:pt x="1348" y="2593"/>
                  </a:lnTo>
                  <a:lnTo>
                    <a:pt x="1392" y="2589"/>
                  </a:lnTo>
                  <a:lnTo>
                    <a:pt x="1446" y="2583"/>
                  </a:lnTo>
                  <a:lnTo>
                    <a:pt x="1507" y="2577"/>
                  </a:lnTo>
                  <a:lnTo>
                    <a:pt x="1569" y="2572"/>
                  </a:lnTo>
                  <a:lnTo>
                    <a:pt x="1627" y="2568"/>
                  </a:lnTo>
                  <a:lnTo>
                    <a:pt x="1679" y="2566"/>
                  </a:lnTo>
                  <a:lnTo>
                    <a:pt x="1725" y="2568"/>
                  </a:lnTo>
                  <a:lnTo>
                    <a:pt x="1773" y="2570"/>
                  </a:lnTo>
                  <a:lnTo>
                    <a:pt x="1798" y="2572"/>
                  </a:lnTo>
                  <a:lnTo>
                    <a:pt x="1821" y="2577"/>
                  </a:lnTo>
                  <a:lnTo>
                    <a:pt x="1844" y="2582"/>
                  </a:lnTo>
                  <a:lnTo>
                    <a:pt x="1867" y="2590"/>
                  </a:lnTo>
                  <a:lnTo>
                    <a:pt x="1877" y="2594"/>
                  </a:lnTo>
                  <a:lnTo>
                    <a:pt x="1888" y="2599"/>
                  </a:lnTo>
                  <a:lnTo>
                    <a:pt x="1897" y="2605"/>
                  </a:lnTo>
                  <a:lnTo>
                    <a:pt x="1907" y="2612"/>
                  </a:lnTo>
                  <a:lnTo>
                    <a:pt x="1917" y="2619"/>
                  </a:lnTo>
                  <a:lnTo>
                    <a:pt x="1925" y="2627"/>
                  </a:lnTo>
                  <a:lnTo>
                    <a:pt x="1934" y="2635"/>
                  </a:lnTo>
                  <a:lnTo>
                    <a:pt x="1943" y="2645"/>
                  </a:lnTo>
                  <a:lnTo>
                    <a:pt x="1950" y="2655"/>
                  </a:lnTo>
                  <a:lnTo>
                    <a:pt x="1957" y="2666"/>
                  </a:lnTo>
                  <a:lnTo>
                    <a:pt x="1964" y="2677"/>
                  </a:lnTo>
                  <a:lnTo>
                    <a:pt x="1969" y="2690"/>
                  </a:lnTo>
                  <a:lnTo>
                    <a:pt x="1974" y="2704"/>
                  </a:lnTo>
                  <a:lnTo>
                    <a:pt x="1980" y="2718"/>
                  </a:lnTo>
                  <a:lnTo>
                    <a:pt x="1983" y="2735"/>
                  </a:lnTo>
                  <a:lnTo>
                    <a:pt x="1987" y="2751"/>
                  </a:lnTo>
                  <a:lnTo>
                    <a:pt x="1993" y="2788"/>
                  </a:lnTo>
                  <a:lnTo>
                    <a:pt x="1997" y="2830"/>
                  </a:lnTo>
                  <a:lnTo>
                    <a:pt x="2004" y="2876"/>
                  </a:lnTo>
                  <a:lnTo>
                    <a:pt x="2011" y="2926"/>
                  </a:lnTo>
                  <a:lnTo>
                    <a:pt x="2021" y="2977"/>
                  </a:lnTo>
                  <a:lnTo>
                    <a:pt x="2034" y="3032"/>
                  </a:lnTo>
                  <a:lnTo>
                    <a:pt x="2041" y="3060"/>
                  </a:lnTo>
                  <a:lnTo>
                    <a:pt x="2049" y="3088"/>
                  </a:lnTo>
                  <a:lnTo>
                    <a:pt x="2058" y="3116"/>
                  </a:lnTo>
                  <a:lnTo>
                    <a:pt x="2069" y="3146"/>
                  </a:lnTo>
                  <a:lnTo>
                    <a:pt x="2080" y="3175"/>
                  </a:lnTo>
                  <a:lnTo>
                    <a:pt x="2092" y="3204"/>
                  </a:lnTo>
                  <a:lnTo>
                    <a:pt x="2107" y="3233"/>
                  </a:lnTo>
                  <a:lnTo>
                    <a:pt x="2122" y="3263"/>
                  </a:lnTo>
                  <a:lnTo>
                    <a:pt x="2139" y="3292"/>
                  </a:lnTo>
                  <a:lnTo>
                    <a:pt x="2157" y="3321"/>
                  </a:lnTo>
                  <a:lnTo>
                    <a:pt x="2178" y="3349"/>
                  </a:lnTo>
                  <a:lnTo>
                    <a:pt x="2201" y="3377"/>
                  </a:lnTo>
                  <a:lnTo>
                    <a:pt x="2224" y="3405"/>
                  </a:lnTo>
                  <a:lnTo>
                    <a:pt x="2250" y="3433"/>
                  </a:lnTo>
                  <a:lnTo>
                    <a:pt x="2278" y="3460"/>
                  </a:lnTo>
                  <a:lnTo>
                    <a:pt x="2308" y="3487"/>
                  </a:lnTo>
                  <a:lnTo>
                    <a:pt x="2340" y="3512"/>
                  </a:lnTo>
                  <a:lnTo>
                    <a:pt x="2375" y="3538"/>
                  </a:lnTo>
                  <a:lnTo>
                    <a:pt x="2411" y="3563"/>
                  </a:lnTo>
                  <a:lnTo>
                    <a:pt x="2451" y="3586"/>
                  </a:lnTo>
                  <a:lnTo>
                    <a:pt x="2606" y="4050"/>
                  </a:lnTo>
                  <a:lnTo>
                    <a:pt x="3099" y="4545"/>
                  </a:lnTo>
                  <a:lnTo>
                    <a:pt x="3563" y="4545"/>
                  </a:lnTo>
                  <a:lnTo>
                    <a:pt x="3562" y="4528"/>
                  </a:lnTo>
                  <a:lnTo>
                    <a:pt x="3562" y="4478"/>
                  </a:lnTo>
                  <a:lnTo>
                    <a:pt x="3560" y="4406"/>
                  </a:lnTo>
                  <a:lnTo>
                    <a:pt x="3558" y="4316"/>
                  </a:lnTo>
                  <a:lnTo>
                    <a:pt x="3555" y="4217"/>
                  </a:lnTo>
                  <a:lnTo>
                    <a:pt x="3549" y="4114"/>
                  </a:lnTo>
                  <a:lnTo>
                    <a:pt x="3545" y="4064"/>
                  </a:lnTo>
                  <a:lnTo>
                    <a:pt x="3541" y="4015"/>
                  </a:lnTo>
                  <a:lnTo>
                    <a:pt x="3536" y="3969"/>
                  </a:lnTo>
                  <a:lnTo>
                    <a:pt x="3530" y="3926"/>
                  </a:lnTo>
                  <a:lnTo>
                    <a:pt x="3529" y="3905"/>
                  </a:lnTo>
                  <a:lnTo>
                    <a:pt x="3530" y="3883"/>
                  </a:lnTo>
                  <a:lnTo>
                    <a:pt x="3534" y="3861"/>
                  </a:lnTo>
                  <a:lnTo>
                    <a:pt x="3538" y="3836"/>
                  </a:lnTo>
                  <a:lnTo>
                    <a:pt x="3546" y="3811"/>
                  </a:lnTo>
                  <a:lnTo>
                    <a:pt x="3555" y="3786"/>
                  </a:lnTo>
                  <a:lnTo>
                    <a:pt x="3566" y="3759"/>
                  </a:lnTo>
                  <a:lnTo>
                    <a:pt x="3579" y="3732"/>
                  </a:lnTo>
                  <a:lnTo>
                    <a:pt x="3593" y="3705"/>
                  </a:lnTo>
                  <a:lnTo>
                    <a:pt x="3608" y="3677"/>
                  </a:lnTo>
                  <a:lnTo>
                    <a:pt x="3626" y="3649"/>
                  </a:lnTo>
                  <a:lnTo>
                    <a:pt x="3643" y="3621"/>
                  </a:lnTo>
                  <a:lnTo>
                    <a:pt x="3663" y="3593"/>
                  </a:lnTo>
                  <a:lnTo>
                    <a:pt x="3683" y="3565"/>
                  </a:lnTo>
                  <a:lnTo>
                    <a:pt x="3703" y="3537"/>
                  </a:lnTo>
                  <a:lnTo>
                    <a:pt x="3725" y="3509"/>
                  </a:lnTo>
                  <a:lnTo>
                    <a:pt x="3747" y="3482"/>
                  </a:lnTo>
                  <a:lnTo>
                    <a:pt x="3769" y="3455"/>
                  </a:lnTo>
                  <a:lnTo>
                    <a:pt x="3792" y="3430"/>
                  </a:lnTo>
                  <a:lnTo>
                    <a:pt x="3815" y="3404"/>
                  </a:lnTo>
                  <a:lnTo>
                    <a:pt x="3861" y="3355"/>
                  </a:lnTo>
                  <a:lnTo>
                    <a:pt x="3905" y="3310"/>
                  </a:lnTo>
                  <a:lnTo>
                    <a:pt x="3948" y="3270"/>
                  </a:lnTo>
                  <a:lnTo>
                    <a:pt x="3989" y="3236"/>
                  </a:lnTo>
                  <a:lnTo>
                    <a:pt x="4008" y="3220"/>
                  </a:lnTo>
                  <a:lnTo>
                    <a:pt x="4025" y="3206"/>
                  </a:lnTo>
                  <a:lnTo>
                    <a:pt x="4043" y="3196"/>
                  </a:lnTo>
                  <a:lnTo>
                    <a:pt x="4058" y="3185"/>
                  </a:lnTo>
                  <a:lnTo>
                    <a:pt x="4092" y="3167"/>
                  </a:lnTo>
                  <a:lnTo>
                    <a:pt x="4137" y="3145"/>
                  </a:lnTo>
                  <a:lnTo>
                    <a:pt x="4190" y="3119"/>
                  </a:lnTo>
                  <a:lnTo>
                    <a:pt x="4250" y="3092"/>
                  </a:lnTo>
                  <a:lnTo>
                    <a:pt x="4313" y="3063"/>
                  </a:lnTo>
                  <a:lnTo>
                    <a:pt x="4379" y="3034"/>
                  </a:lnTo>
                  <a:lnTo>
                    <a:pt x="4446" y="3002"/>
                  </a:lnTo>
                  <a:lnTo>
                    <a:pt x="4511" y="2970"/>
                  </a:lnTo>
                  <a:lnTo>
                    <a:pt x="4574" y="2939"/>
                  </a:lnTo>
                  <a:lnTo>
                    <a:pt x="4632" y="2907"/>
                  </a:lnTo>
                  <a:lnTo>
                    <a:pt x="4658" y="2892"/>
                  </a:lnTo>
                  <a:lnTo>
                    <a:pt x="4683" y="2877"/>
                  </a:lnTo>
                  <a:lnTo>
                    <a:pt x="4705" y="2863"/>
                  </a:lnTo>
                  <a:lnTo>
                    <a:pt x="4725" y="2848"/>
                  </a:lnTo>
                  <a:lnTo>
                    <a:pt x="4741" y="2834"/>
                  </a:lnTo>
                  <a:lnTo>
                    <a:pt x="4757" y="2821"/>
                  </a:lnTo>
                  <a:lnTo>
                    <a:pt x="4767" y="2807"/>
                  </a:lnTo>
                  <a:lnTo>
                    <a:pt x="4775" y="2795"/>
                  </a:lnTo>
                  <a:lnTo>
                    <a:pt x="4780" y="2782"/>
                  </a:lnTo>
                  <a:lnTo>
                    <a:pt x="4780" y="2772"/>
                  </a:lnTo>
                  <a:lnTo>
                    <a:pt x="4776" y="2761"/>
                  </a:lnTo>
                  <a:lnTo>
                    <a:pt x="4769" y="2751"/>
                  </a:lnTo>
                  <a:lnTo>
                    <a:pt x="4741" y="2725"/>
                  </a:lnTo>
                  <a:lnTo>
                    <a:pt x="4718" y="2699"/>
                  </a:lnTo>
                  <a:lnTo>
                    <a:pt x="4698" y="2676"/>
                  </a:lnTo>
                  <a:lnTo>
                    <a:pt x="4682" y="2654"/>
                  </a:lnTo>
                  <a:lnTo>
                    <a:pt x="4669" y="2633"/>
                  </a:lnTo>
                  <a:lnTo>
                    <a:pt x="4658" y="2613"/>
                  </a:lnTo>
                  <a:lnTo>
                    <a:pt x="4651" y="2594"/>
                  </a:lnTo>
                  <a:lnTo>
                    <a:pt x="4647" y="2578"/>
                  </a:lnTo>
                  <a:lnTo>
                    <a:pt x="4644" y="2562"/>
                  </a:lnTo>
                  <a:lnTo>
                    <a:pt x="4644" y="2548"/>
                  </a:lnTo>
                  <a:lnTo>
                    <a:pt x="4648" y="2536"/>
                  </a:lnTo>
                  <a:lnTo>
                    <a:pt x="4653" y="2524"/>
                  </a:lnTo>
                  <a:lnTo>
                    <a:pt x="4660" y="2515"/>
                  </a:lnTo>
                  <a:lnTo>
                    <a:pt x="4669" y="2508"/>
                  </a:lnTo>
                  <a:lnTo>
                    <a:pt x="4679" y="2501"/>
                  </a:lnTo>
                  <a:lnTo>
                    <a:pt x="4691" y="2497"/>
                  </a:lnTo>
                  <a:lnTo>
                    <a:pt x="4705" y="2495"/>
                  </a:lnTo>
                  <a:lnTo>
                    <a:pt x="4720" y="2494"/>
                  </a:lnTo>
                  <a:lnTo>
                    <a:pt x="4736" y="2495"/>
                  </a:lnTo>
                  <a:lnTo>
                    <a:pt x="4753" y="2497"/>
                  </a:lnTo>
                  <a:lnTo>
                    <a:pt x="4771" y="2502"/>
                  </a:lnTo>
                  <a:lnTo>
                    <a:pt x="4789" y="2509"/>
                  </a:lnTo>
                  <a:lnTo>
                    <a:pt x="4809" y="2518"/>
                  </a:lnTo>
                  <a:lnTo>
                    <a:pt x="4829" y="2529"/>
                  </a:lnTo>
                  <a:lnTo>
                    <a:pt x="4849" y="2542"/>
                  </a:lnTo>
                  <a:lnTo>
                    <a:pt x="4869" y="2556"/>
                  </a:lnTo>
                  <a:lnTo>
                    <a:pt x="4890" y="2573"/>
                  </a:lnTo>
                  <a:lnTo>
                    <a:pt x="4910" y="2592"/>
                  </a:lnTo>
                  <a:lnTo>
                    <a:pt x="4929" y="2613"/>
                  </a:lnTo>
                  <a:lnTo>
                    <a:pt x="4948" y="2636"/>
                  </a:lnTo>
                  <a:lnTo>
                    <a:pt x="4967" y="2662"/>
                  </a:lnTo>
                  <a:lnTo>
                    <a:pt x="4985" y="2690"/>
                  </a:lnTo>
                  <a:lnTo>
                    <a:pt x="5200" y="2503"/>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8" name="Freeform 1455"/>
            <p:cNvSpPr/>
            <p:nvPr/>
          </p:nvSpPr>
          <p:spPr>
            <a:xfrm>
              <a:off x="4187880" y="5004000"/>
              <a:ext cx="512280" cy="177480"/>
            </a:xfrm>
            <a:custGeom>
              <a:avLst/>
              <a:gdLst>
                <a:gd name="textAreaLeft" fmla="*/ 0 w 512280"/>
                <a:gd name="textAreaRight" fmla="*/ 512640 w 512280"/>
                <a:gd name="textAreaTop" fmla="*/ 0 h 177480"/>
                <a:gd name="textAreaBottom" fmla="*/ 177840 h 177480"/>
              </a:gdLst>
              <a:ahLst/>
              <a:rect l="textAreaLeft" t="textAreaTop" r="textAreaRight" b="textAreaBottom"/>
              <a:pathLst>
                <a:path w="2848" h="1175">
                  <a:moveTo>
                    <a:pt x="2848" y="1152"/>
                  </a:moveTo>
                  <a:lnTo>
                    <a:pt x="2805" y="1135"/>
                  </a:lnTo>
                  <a:lnTo>
                    <a:pt x="2759" y="1118"/>
                  </a:lnTo>
                  <a:lnTo>
                    <a:pt x="2713" y="1101"/>
                  </a:lnTo>
                  <a:lnTo>
                    <a:pt x="2665" y="1085"/>
                  </a:lnTo>
                  <a:lnTo>
                    <a:pt x="2618" y="1070"/>
                  </a:lnTo>
                  <a:lnTo>
                    <a:pt x="2571" y="1056"/>
                  </a:lnTo>
                  <a:lnTo>
                    <a:pt x="2526" y="1044"/>
                  </a:lnTo>
                  <a:lnTo>
                    <a:pt x="2481" y="1034"/>
                  </a:lnTo>
                  <a:lnTo>
                    <a:pt x="2439" y="1026"/>
                  </a:lnTo>
                  <a:lnTo>
                    <a:pt x="2401" y="1020"/>
                  </a:lnTo>
                  <a:lnTo>
                    <a:pt x="2382" y="1017"/>
                  </a:lnTo>
                  <a:lnTo>
                    <a:pt x="2365" y="1016"/>
                  </a:lnTo>
                  <a:lnTo>
                    <a:pt x="2347" y="1016"/>
                  </a:lnTo>
                  <a:lnTo>
                    <a:pt x="2332" y="1016"/>
                  </a:lnTo>
                  <a:lnTo>
                    <a:pt x="2317" y="1017"/>
                  </a:lnTo>
                  <a:lnTo>
                    <a:pt x="2303" y="1020"/>
                  </a:lnTo>
                  <a:lnTo>
                    <a:pt x="2290" y="1022"/>
                  </a:lnTo>
                  <a:lnTo>
                    <a:pt x="2279" y="1027"/>
                  </a:lnTo>
                  <a:lnTo>
                    <a:pt x="2269" y="1031"/>
                  </a:lnTo>
                  <a:lnTo>
                    <a:pt x="2259" y="1037"/>
                  </a:lnTo>
                  <a:lnTo>
                    <a:pt x="2252" y="1043"/>
                  </a:lnTo>
                  <a:lnTo>
                    <a:pt x="2247" y="1051"/>
                  </a:lnTo>
                  <a:lnTo>
                    <a:pt x="2223" y="1086"/>
                  </a:lnTo>
                  <a:lnTo>
                    <a:pt x="2202" y="1114"/>
                  </a:lnTo>
                  <a:lnTo>
                    <a:pt x="2192" y="1126"/>
                  </a:lnTo>
                  <a:lnTo>
                    <a:pt x="2182" y="1137"/>
                  </a:lnTo>
                  <a:lnTo>
                    <a:pt x="2174" y="1146"/>
                  </a:lnTo>
                  <a:lnTo>
                    <a:pt x="2165" y="1153"/>
                  </a:lnTo>
                  <a:lnTo>
                    <a:pt x="2157" y="1160"/>
                  </a:lnTo>
                  <a:lnTo>
                    <a:pt x="2150" y="1165"/>
                  </a:lnTo>
                  <a:lnTo>
                    <a:pt x="2143" y="1169"/>
                  </a:lnTo>
                  <a:lnTo>
                    <a:pt x="2136" y="1172"/>
                  </a:lnTo>
                  <a:lnTo>
                    <a:pt x="2129" y="1174"/>
                  </a:lnTo>
                  <a:lnTo>
                    <a:pt x="2123" y="1175"/>
                  </a:lnTo>
                  <a:lnTo>
                    <a:pt x="2117" y="1175"/>
                  </a:lnTo>
                  <a:lnTo>
                    <a:pt x="2111" y="1174"/>
                  </a:lnTo>
                  <a:lnTo>
                    <a:pt x="2106" y="1173"/>
                  </a:lnTo>
                  <a:lnTo>
                    <a:pt x="2102" y="1170"/>
                  </a:lnTo>
                  <a:lnTo>
                    <a:pt x="2097" y="1167"/>
                  </a:lnTo>
                  <a:lnTo>
                    <a:pt x="2092" y="1163"/>
                  </a:lnTo>
                  <a:lnTo>
                    <a:pt x="2085" y="1155"/>
                  </a:lnTo>
                  <a:lnTo>
                    <a:pt x="2080" y="1145"/>
                  </a:lnTo>
                  <a:lnTo>
                    <a:pt x="2074" y="1133"/>
                  </a:lnTo>
                  <a:lnTo>
                    <a:pt x="2069" y="1121"/>
                  </a:lnTo>
                  <a:lnTo>
                    <a:pt x="2065" y="1110"/>
                  </a:lnTo>
                  <a:lnTo>
                    <a:pt x="2062" y="1098"/>
                  </a:lnTo>
                  <a:lnTo>
                    <a:pt x="2060" y="1092"/>
                  </a:lnTo>
                  <a:lnTo>
                    <a:pt x="2056" y="1087"/>
                  </a:lnTo>
                  <a:lnTo>
                    <a:pt x="2050" y="1084"/>
                  </a:lnTo>
                  <a:lnTo>
                    <a:pt x="2043" y="1080"/>
                  </a:lnTo>
                  <a:lnTo>
                    <a:pt x="2036" y="1078"/>
                  </a:lnTo>
                  <a:lnTo>
                    <a:pt x="2027" y="1077"/>
                  </a:lnTo>
                  <a:lnTo>
                    <a:pt x="2016" y="1076"/>
                  </a:lnTo>
                  <a:lnTo>
                    <a:pt x="2005" y="1075"/>
                  </a:lnTo>
                  <a:lnTo>
                    <a:pt x="1980" y="1075"/>
                  </a:lnTo>
                  <a:lnTo>
                    <a:pt x="1951" y="1077"/>
                  </a:lnTo>
                  <a:lnTo>
                    <a:pt x="1921" y="1080"/>
                  </a:lnTo>
                  <a:lnTo>
                    <a:pt x="1889" y="1084"/>
                  </a:lnTo>
                  <a:lnTo>
                    <a:pt x="1823" y="1093"/>
                  </a:lnTo>
                  <a:lnTo>
                    <a:pt x="1758" y="1100"/>
                  </a:lnTo>
                  <a:lnTo>
                    <a:pt x="1729" y="1103"/>
                  </a:lnTo>
                  <a:lnTo>
                    <a:pt x="1702" y="1103"/>
                  </a:lnTo>
                  <a:lnTo>
                    <a:pt x="1689" y="1103"/>
                  </a:lnTo>
                  <a:lnTo>
                    <a:pt x="1679" y="1101"/>
                  </a:lnTo>
                  <a:lnTo>
                    <a:pt x="1668" y="1100"/>
                  </a:lnTo>
                  <a:lnTo>
                    <a:pt x="1659" y="1098"/>
                  </a:lnTo>
                  <a:lnTo>
                    <a:pt x="1643" y="1091"/>
                  </a:lnTo>
                  <a:lnTo>
                    <a:pt x="1626" y="1083"/>
                  </a:lnTo>
                  <a:lnTo>
                    <a:pt x="1610" y="1075"/>
                  </a:lnTo>
                  <a:lnTo>
                    <a:pt x="1596" y="1065"/>
                  </a:lnTo>
                  <a:lnTo>
                    <a:pt x="1582" y="1055"/>
                  </a:lnTo>
                  <a:lnTo>
                    <a:pt x="1569" y="1044"/>
                  </a:lnTo>
                  <a:lnTo>
                    <a:pt x="1557" y="1034"/>
                  </a:lnTo>
                  <a:lnTo>
                    <a:pt x="1547" y="1023"/>
                  </a:lnTo>
                  <a:lnTo>
                    <a:pt x="1515" y="988"/>
                  </a:lnTo>
                  <a:lnTo>
                    <a:pt x="1504" y="973"/>
                  </a:lnTo>
                  <a:lnTo>
                    <a:pt x="1499" y="978"/>
                  </a:lnTo>
                  <a:lnTo>
                    <a:pt x="1487" y="989"/>
                  </a:lnTo>
                  <a:lnTo>
                    <a:pt x="1478" y="996"/>
                  </a:lnTo>
                  <a:lnTo>
                    <a:pt x="1467" y="1005"/>
                  </a:lnTo>
                  <a:lnTo>
                    <a:pt x="1456" y="1013"/>
                  </a:lnTo>
                  <a:lnTo>
                    <a:pt x="1442" y="1021"/>
                  </a:lnTo>
                  <a:lnTo>
                    <a:pt x="1427" y="1029"/>
                  </a:lnTo>
                  <a:lnTo>
                    <a:pt x="1410" y="1035"/>
                  </a:lnTo>
                  <a:lnTo>
                    <a:pt x="1393" y="1041"/>
                  </a:lnTo>
                  <a:lnTo>
                    <a:pt x="1374" y="1044"/>
                  </a:lnTo>
                  <a:lnTo>
                    <a:pt x="1363" y="1045"/>
                  </a:lnTo>
                  <a:lnTo>
                    <a:pt x="1353" y="1045"/>
                  </a:lnTo>
                  <a:lnTo>
                    <a:pt x="1344" y="1045"/>
                  </a:lnTo>
                  <a:lnTo>
                    <a:pt x="1332" y="1044"/>
                  </a:lnTo>
                  <a:lnTo>
                    <a:pt x="1321" y="1043"/>
                  </a:lnTo>
                  <a:lnTo>
                    <a:pt x="1311" y="1041"/>
                  </a:lnTo>
                  <a:lnTo>
                    <a:pt x="1299" y="1038"/>
                  </a:lnTo>
                  <a:lnTo>
                    <a:pt x="1288" y="1034"/>
                  </a:lnTo>
                  <a:lnTo>
                    <a:pt x="1265" y="1024"/>
                  </a:lnTo>
                  <a:lnTo>
                    <a:pt x="1243" y="1014"/>
                  </a:lnTo>
                  <a:lnTo>
                    <a:pt x="1222" y="1001"/>
                  </a:lnTo>
                  <a:lnTo>
                    <a:pt x="1201" y="988"/>
                  </a:lnTo>
                  <a:lnTo>
                    <a:pt x="1159" y="960"/>
                  </a:lnTo>
                  <a:lnTo>
                    <a:pt x="1115" y="932"/>
                  </a:lnTo>
                  <a:lnTo>
                    <a:pt x="1090" y="918"/>
                  </a:lnTo>
                  <a:lnTo>
                    <a:pt x="1066" y="905"/>
                  </a:lnTo>
                  <a:lnTo>
                    <a:pt x="1039" y="895"/>
                  </a:lnTo>
                  <a:lnTo>
                    <a:pt x="1010" y="884"/>
                  </a:lnTo>
                  <a:lnTo>
                    <a:pt x="994" y="880"/>
                  </a:lnTo>
                  <a:lnTo>
                    <a:pt x="979" y="876"/>
                  </a:lnTo>
                  <a:lnTo>
                    <a:pt x="963" y="873"/>
                  </a:lnTo>
                  <a:lnTo>
                    <a:pt x="945" y="869"/>
                  </a:lnTo>
                  <a:lnTo>
                    <a:pt x="928" y="867"/>
                  </a:lnTo>
                  <a:lnTo>
                    <a:pt x="909" y="866"/>
                  </a:lnTo>
                  <a:lnTo>
                    <a:pt x="890" y="864"/>
                  </a:lnTo>
                  <a:lnTo>
                    <a:pt x="869" y="864"/>
                  </a:lnTo>
                  <a:lnTo>
                    <a:pt x="902" y="277"/>
                  </a:lnTo>
                  <a:lnTo>
                    <a:pt x="0" y="230"/>
                  </a:lnTo>
                  <a:lnTo>
                    <a:pt x="69" y="0"/>
                  </a:lnTo>
                  <a:lnTo>
                    <a:pt x="2665" y="0"/>
                  </a:lnTo>
                  <a:lnTo>
                    <a:pt x="2842" y="424"/>
                  </a:lnTo>
                  <a:lnTo>
                    <a:pt x="2848" y="115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49" name="Freeform 1456"/>
            <p:cNvSpPr/>
            <p:nvPr/>
          </p:nvSpPr>
          <p:spPr>
            <a:xfrm>
              <a:off x="4187880" y="5004000"/>
              <a:ext cx="512280" cy="177480"/>
            </a:xfrm>
            <a:custGeom>
              <a:avLst/>
              <a:gdLst>
                <a:gd name="textAreaLeft" fmla="*/ 0 w 512280"/>
                <a:gd name="textAreaRight" fmla="*/ 512640 w 512280"/>
                <a:gd name="textAreaTop" fmla="*/ 0 h 177480"/>
                <a:gd name="textAreaBottom" fmla="*/ 177840 h 177480"/>
              </a:gdLst>
              <a:ahLst/>
              <a:rect l="textAreaLeft" t="textAreaTop" r="textAreaRight" b="textAreaBottom"/>
              <a:pathLst>
                <a:path w="2848" h="1175">
                  <a:moveTo>
                    <a:pt x="2848" y="1152"/>
                  </a:moveTo>
                  <a:lnTo>
                    <a:pt x="2805" y="1135"/>
                  </a:lnTo>
                  <a:lnTo>
                    <a:pt x="2759" y="1118"/>
                  </a:lnTo>
                  <a:lnTo>
                    <a:pt x="2713" y="1101"/>
                  </a:lnTo>
                  <a:lnTo>
                    <a:pt x="2665" y="1085"/>
                  </a:lnTo>
                  <a:lnTo>
                    <a:pt x="2618" y="1070"/>
                  </a:lnTo>
                  <a:lnTo>
                    <a:pt x="2571" y="1056"/>
                  </a:lnTo>
                  <a:lnTo>
                    <a:pt x="2526" y="1044"/>
                  </a:lnTo>
                  <a:lnTo>
                    <a:pt x="2481" y="1034"/>
                  </a:lnTo>
                  <a:lnTo>
                    <a:pt x="2439" y="1026"/>
                  </a:lnTo>
                  <a:lnTo>
                    <a:pt x="2401" y="1020"/>
                  </a:lnTo>
                  <a:lnTo>
                    <a:pt x="2382" y="1017"/>
                  </a:lnTo>
                  <a:lnTo>
                    <a:pt x="2365" y="1016"/>
                  </a:lnTo>
                  <a:lnTo>
                    <a:pt x="2347" y="1016"/>
                  </a:lnTo>
                  <a:lnTo>
                    <a:pt x="2332" y="1016"/>
                  </a:lnTo>
                  <a:lnTo>
                    <a:pt x="2317" y="1017"/>
                  </a:lnTo>
                  <a:lnTo>
                    <a:pt x="2303" y="1020"/>
                  </a:lnTo>
                  <a:lnTo>
                    <a:pt x="2290" y="1022"/>
                  </a:lnTo>
                  <a:lnTo>
                    <a:pt x="2279" y="1027"/>
                  </a:lnTo>
                  <a:lnTo>
                    <a:pt x="2269" y="1031"/>
                  </a:lnTo>
                  <a:lnTo>
                    <a:pt x="2259" y="1037"/>
                  </a:lnTo>
                  <a:lnTo>
                    <a:pt x="2252" y="1043"/>
                  </a:lnTo>
                  <a:lnTo>
                    <a:pt x="2247" y="1051"/>
                  </a:lnTo>
                  <a:lnTo>
                    <a:pt x="2223" y="1086"/>
                  </a:lnTo>
                  <a:lnTo>
                    <a:pt x="2202" y="1114"/>
                  </a:lnTo>
                  <a:lnTo>
                    <a:pt x="2192" y="1126"/>
                  </a:lnTo>
                  <a:lnTo>
                    <a:pt x="2182" y="1137"/>
                  </a:lnTo>
                  <a:lnTo>
                    <a:pt x="2174" y="1146"/>
                  </a:lnTo>
                  <a:lnTo>
                    <a:pt x="2165" y="1153"/>
                  </a:lnTo>
                  <a:lnTo>
                    <a:pt x="2157" y="1160"/>
                  </a:lnTo>
                  <a:lnTo>
                    <a:pt x="2150" y="1165"/>
                  </a:lnTo>
                  <a:lnTo>
                    <a:pt x="2143" y="1169"/>
                  </a:lnTo>
                  <a:lnTo>
                    <a:pt x="2136" y="1172"/>
                  </a:lnTo>
                  <a:lnTo>
                    <a:pt x="2129" y="1174"/>
                  </a:lnTo>
                  <a:lnTo>
                    <a:pt x="2123" y="1175"/>
                  </a:lnTo>
                  <a:lnTo>
                    <a:pt x="2117" y="1175"/>
                  </a:lnTo>
                  <a:lnTo>
                    <a:pt x="2111" y="1174"/>
                  </a:lnTo>
                  <a:lnTo>
                    <a:pt x="2106" y="1173"/>
                  </a:lnTo>
                  <a:lnTo>
                    <a:pt x="2102" y="1170"/>
                  </a:lnTo>
                  <a:lnTo>
                    <a:pt x="2097" y="1167"/>
                  </a:lnTo>
                  <a:lnTo>
                    <a:pt x="2092" y="1163"/>
                  </a:lnTo>
                  <a:lnTo>
                    <a:pt x="2085" y="1155"/>
                  </a:lnTo>
                  <a:lnTo>
                    <a:pt x="2080" y="1145"/>
                  </a:lnTo>
                  <a:lnTo>
                    <a:pt x="2074" y="1133"/>
                  </a:lnTo>
                  <a:lnTo>
                    <a:pt x="2069" y="1121"/>
                  </a:lnTo>
                  <a:lnTo>
                    <a:pt x="2065" y="1110"/>
                  </a:lnTo>
                  <a:lnTo>
                    <a:pt x="2062" y="1098"/>
                  </a:lnTo>
                  <a:lnTo>
                    <a:pt x="2060" y="1092"/>
                  </a:lnTo>
                  <a:lnTo>
                    <a:pt x="2056" y="1087"/>
                  </a:lnTo>
                  <a:lnTo>
                    <a:pt x="2050" y="1084"/>
                  </a:lnTo>
                  <a:lnTo>
                    <a:pt x="2043" y="1080"/>
                  </a:lnTo>
                  <a:lnTo>
                    <a:pt x="2036" y="1078"/>
                  </a:lnTo>
                  <a:lnTo>
                    <a:pt x="2027" y="1077"/>
                  </a:lnTo>
                  <a:lnTo>
                    <a:pt x="2016" y="1076"/>
                  </a:lnTo>
                  <a:lnTo>
                    <a:pt x="2005" y="1075"/>
                  </a:lnTo>
                  <a:lnTo>
                    <a:pt x="1980" y="1075"/>
                  </a:lnTo>
                  <a:lnTo>
                    <a:pt x="1951" y="1077"/>
                  </a:lnTo>
                  <a:lnTo>
                    <a:pt x="1921" y="1080"/>
                  </a:lnTo>
                  <a:lnTo>
                    <a:pt x="1889" y="1084"/>
                  </a:lnTo>
                  <a:lnTo>
                    <a:pt x="1823" y="1093"/>
                  </a:lnTo>
                  <a:lnTo>
                    <a:pt x="1758" y="1100"/>
                  </a:lnTo>
                  <a:lnTo>
                    <a:pt x="1729" y="1103"/>
                  </a:lnTo>
                  <a:lnTo>
                    <a:pt x="1702" y="1103"/>
                  </a:lnTo>
                  <a:lnTo>
                    <a:pt x="1689" y="1103"/>
                  </a:lnTo>
                  <a:lnTo>
                    <a:pt x="1679" y="1101"/>
                  </a:lnTo>
                  <a:lnTo>
                    <a:pt x="1668" y="1100"/>
                  </a:lnTo>
                  <a:lnTo>
                    <a:pt x="1659" y="1098"/>
                  </a:lnTo>
                  <a:lnTo>
                    <a:pt x="1643" y="1091"/>
                  </a:lnTo>
                  <a:lnTo>
                    <a:pt x="1626" y="1083"/>
                  </a:lnTo>
                  <a:lnTo>
                    <a:pt x="1610" y="1075"/>
                  </a:lnTo>
                  <a:lnTo>
                    <a:pt x="1596" y="1065"/>
                  </a:lnTo>
                  <a:lnTo>
                    <a:pt x="1582" y="1055"/>
                  </a:lnTo>
                  <a:lnTo>
                    <a:pt x="1569" y="1044"/>
                  </a:lnTo>
                  <a:lnTo>
                    <a:pt x="1557" y="1034"/>
                  </a:lnTo>
                  <a:lnTo>
                    <a:pt x="1547" y="1023"/>
                  </a:lnTo>
                  <a:lnTo>
                    <a:pt x="1515" y="988"/>
                  </a:lnTo>
                  <a:lnTo>
                    <a:pt x="1504" y="973"/>
                  </a:lnTo>
                  <a:lnTo>
                    <a:pt x="1499" y="978"/>
                  </a:lnTo>
                  <a:lnTo>
                    <a:pt x="1487" y="989"/>
                  </a:lnTo>
                  <a:lnTo>
                    <a:pt x="1478" y="996"/>
                  </a:lnTo>
                  <a:lnTo>
                    <a:pt x="1467" y="1005"/>
                  </a:lnTo>
                  <a:lnTo>
                    <a:pt x="1456" y="1013"/>
                  </a:lnTo>
                  <a:lnTo>
                    <a:pt x="1442" y="1021"/>
                  </a:lnTo>
                  <a:lnTo>
                    <a:pt x="1427" y="1029"/>
                  </a:lnTo>
                  <a:lnTo>
                    <a:pt x="1410" y="1035"/>
                  </a:lnTo>
                  <a:lnTo>
                    <a:pt x="1393" y="1041"/>
                  </a:lnTo>
                  <a:lnTo>
                    <a:pt x="1374" y="1044"/>
                  </a:lnTo>
                  <a:lnTo>
                    <a:pt x="1363" y="1045"/>
                  </a:lnTo>
                  <a:lnTo>
                    <a:pt x="1353" y="1045"/>
                  </a:lnTo>
                  <a:lnTo>
                    <a:pt x="1344" y="1045"/>
                  </a:lnTo>
                  <a:lnTo>
                    <a:pt x="1332" y="1044"/>
                  </a:lnTo>
                  <a:lnTo>
                    <a:pt x="1321" y="1043"/>
                  </a:lnTo>
                  <a:lnTo>
                    <a:pt x="1311" y="1041"/>
                  </a:lnTo>
                  <a:lnTo>
                    <a:pt x="1299" y="1038"/>
                  </a:lnTo>
                  <a:lnTo>
                    <a:pt x="1288" y="1034"/>
                  </a:lnTo>
                  <a:lnTo>
                    <a:pt x="1265" y="1024"/>
                  </a:lnTo>
                  <a:lnTo>
                    <a:pt x="1243" y="1014"/>
                  </a:lnTo>
                  <a:lnTo>
                    <a:pt x="1222" y="1001"/>
                  </a:lnTo>
                  <a:lnTo>
                    <a:pt x="1201" y="988"/>
                  </a:lnTo>
                  <a:lnTo>
                    <a:pt x="1159" y="960"/>
                  </a:lnTo>
                  <a:lnTo>
                    <a:pt x="1115" y="932"/>
                  </a:lnTo>
                  <a:lnTo>
                    <a:pt x="1090" y="918"/>
                  </a:lnTo>
                  <a:lnTo>
                    <a:pt x="1066" y="905"/>
                  </a:lnTo>
                  <a:lnTo>
                    <a:pt x="1039" y="895"/>
                  </a:lnTo>
                  <a:lnTo>
                    <a:pt x="1010" y="884"/>
                  </a:lnTo>
                  <a:lnTo>
                    <a:pt x="994" y="880"/>
                  </a:lnTo>
                  <a:lnTo>
                    <a:pt x="979" y="876"/>
                  </a:lnTo>
                  <a:lnTo>
                    <a:pt x="963" y="873"/>
                  </a:lnTo>
                  <a:lnTo>
                    <a:pt x="945" y="869"/>
                  </a:lnTo>
                  <a:lnTo>
                    <a:pt x="928" y="867"/>
                  </a:lnTo>
                  <a:lnTo>
                    <a:pt x="909" y="866"/>
                  </a:lnTo>
                  <a:lnTo>
                    <a:pt x="890" y="864"/>
                  </a:lnTo>
                  <a:lnTo>
                    <a:pt x="869" y="864"/>
                  </a:lnTo>
                  <a:lnTo>
                    <a:pt x="902" y="277"/>
                  </a:lnTo>
                  <a:lnTo>
                    <a:pt x="0" y="230"/>
                  </a:lnTo>
                  <a:lnTo>
                    <a:pt x="69" y="0"/>
                  </a:lnTo>
                  <a:lnTo>
                    <a:pt x="2665" y="0"/>
                  </a:lnTo>
                  <a:lnTo>
                    <a:pt x="2842" y="424"/>
                  </a:lnTo>
                  <a:lnTo>
                    <a:pt x="2848" y="1152"/>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0" name="Freeform 1457"/>
            <p:cNvSpPr/>
            <p:nvPr/>
          </p:nvSpPr>
          <p:spPr>
            <a:xfrm>
              <a:off x="4254480" y="4876200"/>
              <a:ext cx="412560" cy="127800"/>
            </a:xfrm>
            <a:custGeom>
              <a:avLst/>
              <a:gdLst>
                <a:gd name="textAreaLeft" fmla="*/ 0 w 412560"/>
                <a:gd name="textAreaRight" fmla="*/ 412920 w 412560"/>
                <a:gd name="textAreaTop" fmla="*/ 0 h 127800"/>
                <a:gd name="textAreaBottom" fmla="*/ 128160 h 127800"/>
              </a:gdLst>
              <a:ahLst/>
              <a:rect l="textAreaLeft" t="textAreaTop" r="textAreaRight" b="textAreaBottom"/>
              <a:pathLst>
                <a:path w="2293" h="847">
                  <a:moveTo>
                    <a:pt x="2293" y="224"/>
                  </a:moveTo>
                  <a:lnTo>
                    <a:pt x="2289" y="847"/>
                  </a:lnTo>
                  <a:lnTo>
                    <a:pt x="0" y="845"/>
                  </a:lnTo>
                  <a:lnTo>
                    <a:pt x="222" y="0"/>
                  </a:lnTo>
                  <a:lnTo>
                    <a:pt x="1998" y="4"/>
                  </a:lnTo>
                  <a:lnTo>
                    <a:pt x="2007" y="21"/>
                  </a:lnTo>
                  <a:lnTo>
                    <a:pt x="2014" y="36"/>
                  </a:lnTo>
                  <a:lnTo>
                    <a:pt x="2021" y="47"/>
                  </a:lnTo>
                  <a:lnTo>
                    <a:pt x="2028" y="54"/>
                  </a:lnTo>
                  <a:lnTo>
                    <a:pt x="2031" y="57"/>
                  </a:lnTo>
                  <a:lnTo>
                    <a:pt x="2036" y="59"/>
                  </a:lnTo>
                  <a:lnTo>
                    <a:pt x="2039" y="60"/>
                  </a:lnTo>
                  <a:lnTo>
                    <a:pt x="2044" y="61"/>
                  </a:lnTo>
                  <a:lnTo>
                    <a:pt x="2054" y="61"/>
                  </a:lnTo>
                  <a:lnTo>
                    <a:pt x="2067" y="57"/>
                  </a:lnTo>
                  <a:lnTo>
                    <a:pt x="2095" y="54"/>
                  </a:lnTo>
                  <a:lnTo>
                    <a:pt x="2122" y="50"/>
                  </a:lnTo>
                  <a:lnTo>
                    <a:pt x="2134" y="50"/>
                  </a:lnTo>
                  <a:lnTo>
                    <a:pt x="2144" y="52"/>
                  </a:lnTo>
                  <a:lnTo>
                    <a:pt x="2154" y="53"/>
                  </a:lnTo>
                  <a:lnTo>
                    <a:pt x="2163" y="55"/>
                  </a:lnTo>
                  <a:lnTo>
                    <a:pt x="2170" y="59"/>
                  </a:lnTo>
                  <a:lnTo>
                    <a:pt x="2177" y="63"/>
                  </a:lnTo>
                  <a:lnTo>
                    <a:pt x="2182" y="69"/>
                  </a:lnTo>
                  <a:lnTo>
                    <a:pt x="2185" y="76"/>
                  </a:lnTo>
                  <a:lnTo>
                    <a:pt x="2188" y="85"/>
                  </a:lnTo>
                  <a:lnTo>
                    <a:pt x="2188" y="96"/>
                  </a:lnTo>
                  <a:lnTo>
                    <a:pt x="2186" y="108"/>
                  </a:lnTo>
                  <a:lnTo>
                    <a:pt x="2183" y="122"/>
                  </a:lnTo>
                  <a:lnTo>
                    <a:pt x="2182" y="125"/>
                  </a:lnTo>
                  <a:lnTo>
                    <a:pt x="2182" y="130"/>
                  </a:lnTo>
                  <a:lnTo>
                    <a:pt x="2183" y="133"/>
                  </a:lnTo>
                  <a:lnTo>
                    <a:pt x="2184" y="137"/>
                  </a:lnTo>
                  <a:lnTo>
                    <a:pt x="2189" y="145"/>
                  </a:lnTo>
                  <a:lnTo>
                    <a:pt x="2196" y="151"/>
                  </a:lnTo>
                  <a:lnTo>
                    <a:pt x="2205" y="158"/>
                  </a:lnTo>
                  <a:lnTo>
                    <a:pt x="2214" y="164"/>
                  </a:lnTo>
                  <a:lnTo>
                    <a:pt x="2226" y="170"/>
                  </a:lnTo>
                  <a:lnTo>
                    <a:pt x="2238" y="175"/>
                  </a:lnTo>
                  <a:lnTo>
                    <a:pt x="2260" y="187"/>
                  </a:lnTo>
                  <a:lnTo>
                    <a:pt x="2279" y="199"/>
                  </a:lnTo>
                  <a:lnTo>
                    <a:pt x="2286" y="205"/>
                  </a:lnTo>
                  <a:lnTo>
                    <a:pt x="2292" y="210"/>
                  </a:lnTo>
                  <a:lnTo>
                    <a:pt x="2293" y="214"/>
                  </a:lnTo>
                  <a:lnTo>
                    <a:pt x="2293" y="217"/>
                  </a:lnTo>
                  <a:lnTo>
                    <a:pt x="2293" y="221"/>
                  </a:lnTo>
                  <a:lnTo>
                    <a:pt x="2293" y="224"/>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1" name="Freeform 1458"/>
            <p:cNvSpPr/>
            <p:nvPr/>
          </p:nvSpPr>
          <p:spPr>
            <a:xfrm>
              <a:off x="4254480" y="4876200"/>
              <a:ext cx="412560" cy="127800"/>
            </a:xfrm>
            <a:custGeom>
              <a:avLst/>
              <a:gdLst>
                <a:gd name="textAreaLeft" fmla="*/ 0 w 412560"/>
                <a:gd name="textAreaRight" fmla="*/ 412920 w 412560"/>
                <a:gd name="textAreaTop" fmla="*/ 0 h 127800"/>
                <a:gd name="textAreaBottom" fmla="*/ 128160 h 127800"/>
              </a:gdLst>
              <a:ahLst/>
              <a:rect l="textAreaLeft" t="textAreaTop" r="textAreaRight" b="textAreaBottom"/>
              <a:pathLst>
                <a:path w="2293" h="847">
                  <a:moveTo>
                    <a:pt x="2293" y="224"/>
                  </a:moveTo>
                  <a:lnTo>
                    <a:pt x="2289" y="847"/>
                  </a:lnTo>
                  <a:lnTo>
                    <a:pt x="0" y="845"/>
                  </a:lnTo>
                  <a:lnTo>
                    <a:pt x="222" y="0"/>
                  </a:lnTo>
                  <a:lnTo>
                    <a:pt x="1998" y="4"/>
                  </a:lnTo>
                  <a:lnTo>
                    <a:pt x="2007" y="21"/>
                  </a:lnTo>
                  <a:lnTo>
                    <a:pt x="2014" y="36"/>
                  </a:lnTo>
                  <a:lnTo>
                    <a:pt x="2021" y="47"/>
                  </a:lnTo>
                  <a:lnTo>
                    <a:pt x="2028" y="54"/>
                  </a:lnTo>
                  <a:lnTo>
                    <a:pt x="2031" y="57"/>
                  </a:lnTo>
                  <a:lnTo>
                    <a:pt x="2036" y="59"/>
                  </a:lnTo>
                  <a:lnTo>
                    <a:pt x="2039" y="60"/>
                  </a:lnTo>
                  <a:lnTo>
                    <a:pt x="2044" y="61"/>
                  </a:lnTo>
                  <a:lnTo>
                    <a:pt x="2054" y="61"/>
                  </a:lnTo>
                  <a:lnTo>
                    <a:pt x="2067" y="57"/>
                  </a:lnTo>
                  <a:lnTo>
                    <a:pt x="2095" y="54"/>
                  </a:lnTo>
                  <a:lnTo>
                    <a:pt x="2122" y="50"/>
                  </a:lnTo>
                  <a:lnTo>
                    <a:pt x="2134" y="50"/>
                  </a:lnTo>
                  <a:lnTo>
                    <a:pt x="2144" y="52"/>
                  </a:lnTo>
                  <a:lnTo>
                    <a:pt x="2154" y="53"/>
                  </a:lnTo>
                  <a:lnTo>
                    <a:pt x="2163" y="55"/>
                  </a:lnTo>
                  <a:lnTo>
                    <a:pt x="2170" y="59"/>
                  </a:lnTo>
                  <a:lnTo>
                    <a:pt x="2177" y="63"/>
                  </a:lnTo>
                  <a:lnTo>
                    <a:pt x="2182" y="69"/>
                  </a:lnTo>
                  <a:lnTo>
                    <a:pt x="2185" y="76"/>
                  </a:lnTo>
                  <a:lnTo>
                    <a:pt x="2188" y="85"/>
                  </a:lnTo>
                  <a:lnTo>
                    <a:pt x="2188" y="96"/>
                  </a:lnTo>
                  <a:lnTo>
                    <a:pt x="2186" y="108"/>
                  </a:lnTo>
                  <a:lnTo>
                    <a:pt x="2183" y="122"/>
                  </a:lnTo>
                  <a:lnTo>
                    <a:pt x="2182" y="125"/>
                  </a:lnTo>
                  <a:lnTo>
                    <a:pt x="2182" y="130"/>
                  </a:lnTo>
                  <a:lnTo>
                    <a:pt x="2183" y="133"/>
                  </a:lnTo>
                  <a:lnTo>
                    <a:pt x="2184" y="137"/>
                  </a:lnTo>
                  <a:lnTo>
                    <a:pt x="2189" y="145"/>
                  </a:lnTo>
                  <a:lnTo>
                    <a:pt x="2196" y="151"/>
                  </a:lnTo>
                  <a:lnTo>
                    <a:pt x="2205" y="158"/>
                  </a:lnTo>
                  <a:lnTo>
                    <a:pt x="2214" y="164"/>
                  </a:lnTo>
                  <a:lnTo>
                    <a:pt x="2226" y="170"/>
                  </a:lnTo>
                  <a:lnTo>
                    <a:pt x="2238" y="175"/>
                  </a:lnTo>
                  <a:lnTo>
                    <a:pt x="2260" y="187"/>
                  </a:lnTo>
                  <a:lnTo>
                    <a:pt x="2279" y="199"/>
                  </a:lnTo>
                  <a:lnTo>
                    <a:pt x="2286" y="205"/>
                  </a:lnTo>
                  <a:lnTo>
                    <a:pt x="2292" y="210"/>
                  </a:lnTo>
                  <a:lnTo>
                    <a:pt x="2293" y="214"/>
                  </a:lnTo>
                  <a:lnTo>
                    <a:pt x="2293" y="217"/>
                  </a:lnTo>
                  <a:lnTo>
                    <a:pt x="2293" y="221"/>
                  </a:lnTo>
                  <a:lnTo>
                    <a:pt x="2293" y="224"/>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2" name="Freeform 1459"/>
            <p:cNvSpPr/>
            <p:nvPr/>
          </p:nvSpPr>
          <p:spPr>
            <a:xfrm>
              <a:off x="4713120" y="4643640"/>
              <a:ext cx="263160" cy="132480"/>
            </a:xfrm>
            <a:custGeom>
              <a:avLst/>
              <a:gdLst>
                <a:gd name="textAreaLeft" fmla="*/ 0 w 263160"/>
                <a:gd name="textAreaRight" fmla="*/ 263520 w 263160"/>
                <a:gd name="textAreaTop" fmla="*/ 0 h 132480"/>
                <a:gd name="textAreaBottom" fmla="*/ 132840 h 132480"/>
              </a:gdLst>
              <a:ahLst/>
              <a:rect l="textAreaLeft" t="textAreaTop" r="textAreaRight" b="textAreaBottom"/>
              <a:pathLst>
                <a:path w="1469" h="876">
                  <a:moveTo>
                    <a:pt x="781" y="876"/>
                  </a:moveTo>
                  <a:lnTo>
                    <a:pt x="761" y="875"/>
                  </a:lnTo>
                  <a:lnTo>
                    <a:pt x="741" y="872"/>
                  </a:lnTo>
                  <a:lnTo>
                    <a:pt x="720" y="867"/>
                  </a:lnTo>
                  <a:lnTo>
                    <a:pt x="699" y="860"/>
                  </a:lnTo>
                  <a:lnTo>
                    <a:pt x="677" y="851"/>
                  </a:lnTo>
                  <a:lnTo>
                    <a:pt x="656" y="840"/>
                  </a:lnTo>
                  <a:lnTo>
                    <a:pt x="633" y="827"/>
                  </a:lnTo>
                  <a:lnTo>
                    <a:pt x="612" y="814"/>
                  </a:lnTo>
                  <a:lnTo>
                    <a:pt x="592" y="799"/>
                  </a:lnTo>
                  <a:lnTo>
                    <a:pt x="573" y="783"/>
                  </a:lnTo>
                  <a:lnTo>
                    <a:pt x="555" y="767"/>
                  </a:lnTo>
                  <a:lnTo>
                    <a:pt x="538" y="749"/>
                  </a:lnTo>
                  <a:lnTo>
                    <a:pt x="522" y="730"/>
                  </a:lnTo>
                  <a:lnTo>
                    <a:pt x="508" y="712"/>
                  </a:lnTo>
                  <a:lnTo>
                    <a:pt x="497" y="693"/>
                  </a:lnTo>
                  <a:lnTo>
                    <a:pt x="486" y="674"/>
                  </a:lnTo>
                  <a:lnTo>
                    <a:pt x="486" y="670"/>
                  </a:lnTo>
                  <a:lnTo>
                    <a:pt x="484" y="656"/>
                  </a:lnTo>
                  <a:lnTo>
                    <a:pt x="481" y="646"/>
                  </a:lnTo>
                  <a:lnTo>
                    <a:pt x="478" y="636"/>
                  </a:lnTo>
                  <a:lnTo>
                    <a:pt x="473" y="625"/>
                  </a:lnTo>
                  <a:lnTo>
                    <a:pt x="467" y="612"/>
                  </a:lnTo>
                  <a:lnTo>
                    <a:pt x="459" y="601"/>
                  </a:lnTo>
                  <a:lnTo>
                    <a:pt x="450" y="588"/>
                  </a:lnTo>
                  <a:lnTo>
                    <a:pt x="439" y="575"/>
                  </a:lnTo>
                  <a:lnTo>
                    <a:pt x="425" y="563"/>
                  </a:lnTo>
                  <a:lnTo>
                    <a:pt x="410" y="553"/>
                  </a:lnTo>
                  <a:lnTo>
                    <a:pt x="393" y="542"/>
                  </a:lnTo>
                  <a:lnTo>
                    <a:pt x="382" y="539"/>
                  </a:lnTo>
                  <a:lnTo>
                    <a:pt x="372" y="534"/>
                  </a:lnTo>
                  <a:lnTo>
                    <a:pt x="360" y="531"/>
                  </a:lnTo>
                  <a:lnTo>
                    <a:pt x="348" y="527"/>
                  </a:lnTo>
                  <a:lnTo>
                    <a:pt x="299" y="515"/>
                  </a:lnTo>
                  <a:lnTo>
                    <a:pt x="251" y="501"/>
                  </a:lnTo>
                  <a:lnTo>
                    <a:pt x="228" y="494"/>
                  </a:lnTo>
                  <a:lnTo>
                    <a:pt x="206" y="487"/>
                  </a:lnTo>
                  <a:lnTo>
                    <a:pt x="185" y="479"/>
                  </a:lnTo>
                  <a:lnTo>
                    <a:pt x="166" y="471"/>
                  </a:lnTo>
                  <a:lnTo>
                    <a:pt x="147" y="462"/>
                  </a:lnTo>
                  <a:lnTo>
                    <a:pt x="131" y="452"/>
                  </a:lnTo>
                  <a:lnTo>
                    <a:pt x="116" y="443"/>
                  </a:lnTo>
                  <a:lnTo>
                    <a:pt x="102" y="431"/>
                  </a:lnTo>
                  <a:lnTo>
                    <a:pt x="91" y="420"/>
                  </a:lnTo>
                  <a:lnTo>
                    <a:pt x="82" y="408"/>
                  </a:lnTo>
                  <a:lnTo>
                    <a:pt x="78" y="401"/>
                  </a:lnTo>
                  <a:lnTo>
                    <a:pt x="76" y="395"/>
                  </a:lnTo>
                  <a:lnTo>
                    <a:pt x="74" y="388"/>
                  </a:lnTo>
                  <a:lnTo>
                    <a:pt x="71" y="380"/>
                  </a:lnTo>
                  <a:lnTo>
                    <a:pt x="68" y="346"/>
                  </a:lnTo>
                  <a:lnTo>
                    <a:pt x="63" y="313"/>
                  </a:lnTo>
                  <a:lnTo>
                    <a:pt x="61" y="305"/>
                  </a:lnTo>
                  <a:lnTo>
                    <a:pt x="57" y="297"/>
                  </a:lnTo>
                  <a:lnTo>
                    <a:pt x="53" y="290"/>
                  </a:lnTo>
                  <a:lnTo>
                    <a:pt x="46" y="283"/>
                  </a:lnTo>
                  <a:lnTo>
                    <a:pt x="38" y="276"/>
                  </a:lnTo>
                  <a:lnTo>
                    <a:pt x="27" y="269"/>
                  </a:lnTo>
                  <a:lnTo>
                    <a:pt x="14" y="263"/>
                  </a:lnTo>
                  <a:lnTo>
                    <a:pt x="0" y="256"/>
                  </a:lnTo>
                  <a:lnTo>
                    <a:pt x="11" y="253"/>
                  </a:lnTo>
                  <a:lnTo>
                    <a:pt x="24" y="247"/>
                  </a:lnTo>
                  <a:lnTo>
                    <a:pt x="38" y="237"/>
                  </a:lnTo>
                  <a:lnTo>
                    <a:pt x="53" y="227"/>
                  </a:lnTo>
                  <a:lnTo>
                    <a:pt x="69" y="215"/>
                  </a:lnTo>
                  <a:lnTo>
                    <a:pt x="87" y="201"/>
                  </a:lnTo>
                  <a:lnTo>
                    <a:pt x="104" y="186"/>
                  </a:lnTo>
                  <a:lnTo>
                    <a:pt x="122" y="168"/>
                  </a:lnTo>
                  <a:lnTo>
                    <a:pt x="140" y="150"/>
                  </a:lnTo>
                  <a:lnTo>
                    <a:pt x="158" y="131"/>
                  </a:lnTo>
                  <a:lnTo>
                    <a:pt x="174" y="110"/>
                  </a:lnTo>
                  <a:lnTo>
                    <a:pt x="191" y="89"/>
                  </a:lnTo>
                  <a:lnTo>
                    <a:pt x="206" y="68"/>
                  </a:lnTo>
                  <a:lnTo>
                    <a:pt x="221" y="46"/>
                  </a:lnTo>
                  <a:lnTo>
                    <a:pt x="234" y="22"/>
                  </a:lnTo>
                  <a:lnTo>
                    <a:pt x="244" y="0"/>
                  </a:lnTo>
                  <a:lnTo>
                    <a:pt x="564" y="0"/>
                  </a:lnTo>
                  <a:lnTo>
                    <a:pt x="589" y="24"/>
                  </a:lnTo>
                  <a:lnTo>
                    <a:pt x="613" y="44"/>
                  </a:lnTo>
                  <a:lnTo>
                    <a:pt x="638" y="62"/>
                  </a:lnTo>
                  <a:lnTo>
                    <a:pt x="663" y="76"/>
                  </a:lnTo>
                  <a:lnTo>
                    <a:pt x="687" y="89"/>
                  </a:lnTo>
                  <a:lnTo>
                    <a:pt x="712" y="100"/>
                  </a:lnTo>
                  <a:lnTo>
                    <a:pt x="736" y="109"/>
                  </a:lnTo>
                  <a:lnTo>
                    <a:pt x="761" y="115"/>
                  </a:lnTo>
                  <a:lnTo>
                    <a:pt x="784" y="121"/>
                  </a:lnTo>
                  <a:lnTo>
                    <a:pt x="809" y="124"/>
                  </a:lnTo>
                  <a:lnTo>
                    <a:pt x="832" y="126"/>
                  </a:lnTo>
                  <a:lnTo>
                    <a:pt x="856" y="128"/>
                  </a:lnTo>
                  <a:lnTo>
                    <a:pt x="903" y="126"/>
                  </a:lnTo>
                  <a:lnTo>
                    <a:pt x="950" y="124"/>
                  </a:lnTo>
                  <a:lnTo>
                    <a:pt x="978" y="123"/>
                  </a:lnTo>
                  <a:lnTo>
                    <a:pt x="1005" y="123"/>
                  </a:lnTo>
                  <a:lnTo>
                    <a:pt x="1031" y="124"/>
                  </a:lnTo>
                  <a:lnTo>
                    <a:pt x="1056" y="125"/>
                  </a:lnTo>
                  <a:lnTo>
                    <a:pt x="1081" y="128"/>
                  </a:lnTo>
                  <a:lnTo>
                    <a:pt x="1104" y="130"/>
                  </a:lnTo>
                  <a:lnTo>
                    <a:pt x="1126" y="135"/>
                  </a:lnTo>
                  <a:lnTo>
                    <a:pt x="1148" y="139"/>
                  </a:lnTo>
                  <a:lnTo>
                    <a:pt x="1168" y="145"/>
                  </a:lnTo>
                  <a:lnTo>
                    <a:pt x="1187" y="151"/>
                  </a:lnTo>
                  <a:lnTo>
                    <a:pt x="1205" y="159"/>
                  </a:lnTo>
                  <a:lnTo>
                    <a:pt x="1220" y="168"/>
                  </a:lnTo>
                  <a:lnTo>
                    <a:pt x="1234" y="178"/>
                  </a:lnTo>
                  <a:lnTo>
                    <a:pt x="1245" y="190"/>
                  </a:lnTo>
                  <a:lnTo>
                    <a:pt x="1251" y="195"/>
                  </a:lnTo>
                  <a:lnTo>
                    <a:pt x="1256" y="202"/>
                  </a:lnTo>
                  <a:lnTo>
                    <a:pt x="1261" y="209"/>
                  </a:lnTo>
                  <a:lnTo>
                    <a:pt x="1264" y="216"/>
                  </a:lnTo>
                  <a:lnTo>
                    <a:pt x="1256" y="234"/>
                  </a:lnTo>
                  <a:lnTo>
                    <a:pt x="1248" y="253"/>
                  </a:lnTo>
                  <a:lnTo>
                    <a:pt x="1242" y="270"/>
                  </a:lnTo>
                  <a:lnTo>
                    <a:pt x="1235" y="289"/>
                  </a:lnTo>
                  <a:lnTo>
                    <a:pt x="1224" y="325"/>
                  </a:lnTo>
                  <a:lnTo>
                    <a:pt x="1215" y="358"/>
                  </a:lnTo>
                  <a:lnTo>
                    <a:pt x="1254" y="327"/>
                  </a:lnTo>
                  <a:lnTo>
                    <a:pt x="1287" y="298"/>
                  </a:lnTo>
                  <a:lnTo>
                    <a:pt x="1318" y="270"/>
                  </a:lnTo>
                  <a:lnTo>
                    <a:pt x="1346" y="246"/>
                  </a:lnTo>
                  <a:lnTo>
                    <a:pt x="1359" y="234"/>
                  </a:lnTo>
                  <a:lnTo>
                    <a:pt x="1370" y="225"/>
                  </a:lnTo>
                  <a:lnTo>
                    <a:pt x="1382" y="216"/>
                  </a:lnTo>
                  <a:lnTo>
                    <a:pt x="1393" y="209"/>
                  </a:lnTo>
                  <a:lnTo>
                    <a:pt x="1403" y="205"/>
                  </a:lnTo>
                  <a:lnTo>
                    <a:pt x="1412" y="201"/>
                  </a:lnTo>
                  <a:lnTo>
                    <a:pt x="1422" y="200"/>
                  </a:lnTo>
                  <a:lnTo>
                    <a:pt x="1431" y="202"/>
                  </a:lnTo>
                  <a:lnTo>
                    <a:pt x="1411" y="235"/>
                  </a:lnTo>
                  <a:lnTo>
                    <a:pt x="1394" y="271"/>
                  </a:lnTo>
                  <a:lnTo>
                    <a:pt x="1384" y="289"/>
                  </a:lnTo>
                  <a:lnTo>
                    <a:pt x="1377" y="307"/>
                  </a:lnTo>
                  <a:lnTo>
                    <a:pt x="1370" y="326"/>
                  </a:lnTo>
                  <a:lnTo>
                    <a:pt x="1363" y="346"/>
                  </a:lnTo>
                  <a:lnTo>
                    <a:pt x="1358" y="365"/>
                  </a:lnTo>
                  <a:lnTo>
                    <a:pt x="1352" y="385"/>
                  </a:lnTo>
                  <a:lnTo>
                    <a:pt x="1347" y="404"/>
                  </a:lnTo>
                  <a:lnTo>
                    <a:pt x="1344" y="424"/>
                  </a:lnTo>
                  <a:lnTo>
                    <a:pt x="1340" y="445"/>
                  </a:lnTo>
                  <a:lnTo>
                    <a:pt x="1338" y="466"/>
                  </a:lnTo>
                  <a:lnTo>
                    <a:pt x="1337" y="486"/>
                  </a:lnTo>
                  <a:lnTo>
                    <a:pt x="1335" y="507"/>
                  </a:lnTo>
                  <a:lnTo>
                    <a:pt x="1335" y="528"/>
                  </a:lnTo>
                  <a:lnTo>
                    <a:pt x="1337" y="549"/>
                  </a:lnTo>
                  <a:lnTo>
                    <a:pt x="1339" y="571"/>
                  </a:lnTo>
                  <a:lnTo>
                    <a:pt x="1341" y="592"/>
                  </a:lnTo>
                  <a:lnTo>
                    <a:pt x="1346" y="614"/>
                  </a:lnTo>
                  <a:lnTo>
                    <a:pt x="1351" y="636"/>
                  </a:lnTo>
                  <a:lnTo>
                    <a:pt x="1358" y="657"/>
                  </a:lnTo>
                  <a:lnTo>
                    <a:pt x="1365" y="679"/>
                  </a:lnTo>
                  <a:lnTo>
                    <a:pt x="1373" y="700"/>
                  </a:lnTo>
                  <a:lnTo>
                    <a:pt x="1383" y="722"/>
                  </a:lnTo>
                  <a:lnTo>
                    <a:pt x="1394" y="743"/>
                  </a:lnTo>
                  <a:lnTo>
                    <a:pt x="1407" y="764"/>
                  </a:lnTo>
                  <a:lnTo>
                    <a:pt x="1419" y="786"/>
                  </a:lnTo>
                  <a:lnTo>
                    <a:pt x="1435" y="807"/>
                  </a:lnTo>
                  <a:lnTo>
                    <a:pt x="1451" y="828"/>
                  </a:lnTo>
                  <a:lnTo>
                    <a:pt x="1469" y="849"/>
                  </a:lnTo>
                  <a:lnTo>
                    <a:pt x="781" y="87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3" name="Freeform 1460"/>
            <p:cNvSpPr/>
            <p:nvPr/>
          </p:nvSpPr>
          <p:spPr>
            <a:xfrm>
              <a:off x="4713120" y="4643640"/>
              <a:ext cx="263160" cy="132480"/>
            </a:xfrm>
            <a:custGeom>
              <a:avLst/>
              <a:gdLst>
                <a:gd name="textAreaLeft" fmla="*/ 0 w 263160"/>
                <a:gd name="textAreaRight" fmla="*/ 263520 w 263160"/>
                <a:gd name="textAreaTop" fmla="*/ 0 h 132480"/>
                <a:gd name="textAreaBottom" fmla="*/ 132840 h 132480"/>
              </a:gdLst>
              <a:ahLst/>
              <a:rect l="textAreaLeft" t="textAreaTop" r="textAreaRight" b="textAreaBottom"/>
              <a:pathLst>
                <a:path w="1469" h="876">
                  <a:moveTo>
                    <a:pt x="781" y="876"/>
                  </a:moveTo>
                  <a:lnTo>
                    <a:pt x="761" y="875"/>
                  </a:lnTo>
                  <a:lnTo>
                    <a:pt x="741" y="872"/>
                  </a:lnTo>
                  <a:lnTo>
                    <a:pt x="720" y="867"/>
                  </a:lnTo>
                  <a:lnTo>
                    <a:pt x="699" y="860"/>
                  </a:lnTo>
                  <a:lnTo>
                    <a:pt x="677" y="851"/>
                  </a:lnTo>
                  <a:lnTo>
                    <a:pt x="656" y="840"/>
                  </a:lnTo>
                  <a:lnTo>
                    <a:pt x="633" y="827"/>
                  </a:lnTo>
                  <a:lnTo>
                    <a:pt x="612" y="814"/>
                  </a:lnTo>
                  <a:lnTo>
                    <a:pt x="592" y="799"/>
                  </a:lnTo>
                  <a:lnTo>
                    <a:pt x="573" y="783"/>
                  </a:lnTo>
                  <a:lnTo>
                    <a:pt x="555" y="767"/>
                  </a:lnTo>
                  <a:lnTo>
                    <a:pt x="538" y="749"/>
                  </a:lnTo>
                  <a:lnTo>
                    <a:pt x="522" y="730"/>
                  </a:lnTo>
                  <a:lnTo>
                    <a:pt x="508" y="712"/>
                  </a:lnTo>
                  <a:lnTo>
                    <a:pt x="497" y="693"/>
                  </a:lnTo>
                  <a:lnTo>
                    <a:pt x="486" y="674"/>
                  </a:lnTo>
                  <a:lnTo>
                    <a:pt x="486" y="670"/>
                  </a:lnTo>
                  <a:lnTo>
                    <a:pt x="484" y="656"/>
                  </a:lnTo>
                  <a:lnTo>
                    <a:pt x="481" y="646"/>
                  </a:lnTo>
                  <a:lnTo>
                    <a:pt x="478" y="636"/>
                  </a:lnTo>
                  <a:lnTo>
                    <a:pt x="473" y="625"/>
                  </a:lnTo>
                  <a:lnTo>
                    <a:pt x="467" y="612"/>
                  </a:lnTo>
                  <a:lnTo>
                    <a:pt x="459" y="601"/>
                  </a:lnTo>
                  <a:lnTo>
                    <a:pt x="450" y="588"/>
                  </a:lnTo>
                  <a:lnTo>
                    <a:pt x="439" y="575"/>
                  </a:lnTo>
                  <a:lnTo>
                    <a:pt x="425" y="563"/>
                  </a:lnTo>
                  <a:lnTo>
                    <a:pt x="410" y="553"/>
                  </a:lnTo>
                  <a:lnTo>
                    <a:pt x="393" y="542"/>
                  </a:lnTo>
                  <a:lnTo>
                    <a:pt x="382" y="539"/>
                  </a:lnTo>
                  <a:lnTo>
                    <a:pt x="372" y="534"/>
                  </a:lnTo>
                  <a:lnTo>
                    <a:pt x="360" y="531"/>
                  </a:lnTo>
                  <a:lnTo>
                    <a:pt x="348" y="527"/>
                  </a:lnTo>
                  <a:lnTo>
                    <a:pt x="299" y="515"/>
                  </a:lnTo>
                  <a:lnTo>
                    <a:pt x="251" y="501"/>
                  </a:lnTo>
                  <a:lnTo>
                    <a:pt x="228" y="494"/>
                  </a:lnTo>
                  <a:lnTo>
                    <a:pt x="206" y="487"/>
                  </a:lnTo>
                  <a:lnTo>
                    <a:pt x="185" y="479"/>
                  </a:lnTo>
                  <a:lnTo>
                    <a:pt x="166" y="471"/>
                  </a:lnTo>
                  <a:lnTo>
                    <a:pt x="147" y="462"/>
                  </a:lnTo>
                  <a:lnTo>
                    <a:pt x="131" y="452"/>
                  </a:lnTo>
                  <a:lnTo>
                    <a:pt x="116" y="443"/>
                  </a:lnTo>
                  <a:lnTo>
                    <a:pt x="102" y="431"/>
                  </a:lnTo>
                  <a:lnTo>
                    <a:pt x="91" y="420"/>
                  </a:lnTo>
                  <a:lnTo>
                    <a:pt x="82" y="408"/>
                  </a:lnTo>
                  <a:lnTo>
                    <a:pt x="78" y="401"/>
                  </a:lnTo>
                  <a:lnTo>
                    <a:pt x="76" y="395"/>
                  </a:lnTo>
                  <a:lnTo>
                    <a:pt x="74" y="388"/>
                  </a:lnTo>
                  <a:lnTo>
                    <a:pt x="71" y="380"/>
                  </a:lnTo>
                  <a:lnTo>
                    <a:pt x="68" y="346"/>
                  </a:lnTo>
                  <a:lnTo>
                    <a:pt x="63" y="313"/>
                  </a:lnTo>
                  <a:lnTo>
                    <a:pt x="61" y="305"/>
                  </a:lnTo>
                  <a:lnTo>
                    <a:pt x="57" y="297"/>
                  </a:lnTo>
                  <a:lnTo>
                    <a:pt x="53" y="290"/>
                  </a:lnTo>
                  <a:lnTo>
                    <a:pt x="46" y="283"/>
                  </a:lnTo>
                  <a:lnTo>
                    <a:pt x="38" y="276"/>
                  </a:lnTo>
                  <a:lnTo>
                    <a:pt x="27" y="269"/>
                  </a:lnTo>
                  <a:lnTo>
                    <a:pt x="14" y="263"/>
                  </a:lnTo>
                  <a:lnTo>
                    <a:pt x="0" y="256"/>
                  </a:lnTo>
                  <a:lnTo>
                    <a:pt x="11" y="253"/>
                  </a:lnTo>
                  <a:lnTo>
                    <a:pt x="24" y="247"/>
                  </a:lnTo>
                  <a:lnTo>
                    <a:pt x="38" y="237"/>
                  </a:lnTo>
                  <a:lnTo>
                    <a:pt x="53" y="227"/>
                  </a:lnTo>
                  <a:lnTo>
                    <a:pt x="69" y="215"/>
                  </a:lnTo>
                  <a:lnTo>
                    <a:pt x="87" y="201"/>
                  </a:lnTo>
                  <a:lnTo>
                    <a:pt x="104" y="186"/>
                  </a:lnTo>
                  <a:lnTo>
                    <a:pt x="122" y="168"/>
                  </a:lnTo>
                  <a:lnTo>
                    <a:pt x="140" y="150"/>
                  </a:lnTo>
                  <a:lnTo>
                    <a:pt x="158" y="131"/>
                  </a:lnTo>
                  <a:lnTo>
                    <a:pt x="174" y="110"/>
                  </a:lnTo>
                  <a:lnTo>
                    <a:pt x="191" y="89"/>
                  </a:lnTo>
                  <a:lnTo>
                    <a:pt x="206" y="68"/>
                  </a:lnTo>
                  <a:lnTo>
                    <a:pt x="221" y="46"/>
                  </a:lnTo>
                  <a:lnTo>
                    <a:pt x="234" y="22"/>
                  </a:lnTo>
                  <a:lnTo>
                    <a:pt x="244" y="0"/>
                  </a:lnTo>
                  <a:lnTo>
                    <a:pt x="564" y="0"/>
                  </a:lnTo>
                  <a:lnTo>
                    <a:pt x="589" y="24"/>
                  </a:lnTo>
                  <a:lnTo>
                    <a:pt x="613" y="44"/>
                  </a:lnTo>
                  <a:lnTo>
                    <a:pt x="638" y="62"/>
                  </a:lnTo>
                  <a:lnTo>
                    <a:pt x="663" y="76"/>
                  </a:lnTo>
                  <a:lnTo>
                    <a:pt x="687" y="89"/>
                  </a:lnTo>
                  <a:lnTo>
                    <a:pt x="712" y="100"/>
                  </a:lnTo>
                  <a:lnTo>
                    <a:pt x="736" y="109"/>
                  </a:lnTo>
                  <a:lnTo>
                    <a:pt x="761" y="115"/>
                  </a:lnTo>
                  <a:lnTo>
                    <a:pt x="784" y="121"/>
                  </a:lnTo>
                  <a:lnTo>
                    <a:pt x="809" y="124"/>
                  </a:lnTo>
                  <a:lnTo>
                    <a:pt x="832" y="126"/>
                  </a:lnTo>
                  <a:lnTo>
                    <a:pt x="856" y="128"/>
                  </a:lnTo>
                  <a:lnTo>
                    <a:pt x="903" y="126"/>
                  </a:lnTo>
                  <a:lnTo>
                    <a:pt x="950" y="124"/>
                  </a:lnTo>
                  <a:lnTo>
                    <a:pt x="978" y="123"/>
                  </a:lnTo>
                  <a:lnTo>
                    <a:pt x="1005" y="123"/>
                  </a:lnTo>
                  <a:lnTo>
                    <a:pt x="1031" y="124"/>
                  </a:lnTo>
                  <a:lnTo>
                    <a:pt x="1056" y="125"/>
                  </a:lnTo>
                  <a:lnTo>
                    <a:pt x="1081" y="128"/>
                  </a:lnTo>
                  <a:lnTo>
                    <a:pt x="1104" y="130"/>
                  </a:lnTo>
                  <a:lnTo>
                    <a:pt x="1126" y="135"/>
                  </a:lnTo>
                  <a:lnTo>
                    <a:pt x="1148" y="139"/>
                  </a:lnTo>
                  <a:lnTo>
                    <a:pt x="1168" y="145"/>
                  </a:lnTo>
                  <a:lnTo>
                    <a:pt x="1187" y="151"/>
                  </a:lnTo>
                  <a:lnTo>
                    <a:pt x="1205" y="159"/>
                  </a:lnTo>
                  <a:lnTo>
                    <a:pt x="1220" y="168"/>
                  </a:lnTo>
                  <a:lnTo>
                    <a:pt x="1234" y="178"/>
                  </a:lnTo>
                  <a:lnTo>
                    <a:pt x="1245" y="190"/>
                  </a:lnTo>
                  <a:lnTo>
                    <a:pt x="1251" y="195"/>
                  </a:lnTo>
                  <a:lnTo>
                    <a:pt x="1256" y="202"/>
                  </a:lnTo>
                  <a:lnTo>
                    <a:pt x="1261" y="209"/>
                  </a:lnTo>
                  <a:lnTo>
                    <a:pt x="1264" y="216"/>
                  </a:lnTo>
                  <a:lnTo>
                    <a:pt x="1256" y="234"/>
                  </a:lnTo>
                  <a:lnTo>
                    <a:pt x="1248" y="253"/>
                  </a:lnTo>
                  <a:lnTo>
                    <a:pt x="1242" y="270"/>
                  </a:lnTo>
                  <a:lnTo>
                    <a:pt x="1235" y="289"/>
                  </a:lnTo>
                  <a:lnTo>
                    <a:pt x="1224" y="325"/>
                  </a:lnTo>
                  <a:lnTo>
                    <a:pt x="1215" y="358"/>
                  </a:lnTo>
                  <a:lnTo>
                    <a:pt x="1254" y="327"/>
                  </a:lnTo>
                  <a:lnTo>
                    <a:pt x="1287" y="298"/>
                  </a:lnTo>
                  <a:lnTo>
                    <a:pt x="1318" y="270"/>
                  </a:lnTo>
                  <a:lnTo>
                    <a:pt x="1346" y="246"/>
                  </a:lnTo>
                  <a:lnTo>
                    <a:pt x="1359" y="234"/>
                  </a:lnTo>
                  <a:lnTo>
                    <a:pt x="1370" y="225"/>
                  </a:lnTo>
                  <a:lnTo>
                    <a:pt x="1382" y="216"/>
                  </a:lnTo>
                  <a:lnTo>
                    <a:pt x="1393" y="209"/>
                  </a:lnTo>
                  <a:lnTo>
                    <a:pt x="1403" y="205"/>
                  </a:lnTo>
                  <a:lnTo>
                    <a:pt x="1412" y="201"/>
                  </a:lnTo>
                  <a:lnTo>
                    <a:pt x="1422" y="200"/>
                  </a:lnTo>
                  <a:lnTo>
                    <a:pt x="1431" y="202"/>
                  </a:lnTo>
                  <a:lnTo>
                    <a:pt x="1411" y="235"/>
                  </a:lnTo>
                  <a:lnTo>
                    <a:pt x="1394" y="271"/>
                  </a:lnTo>
                  <a:lnTo>
                    <a:pt x="1384" y="289"/>
                  </a:lnTo>
                  <a:lnTo>
                    <a:pt x="1377" y="307"/>
                  </a:lnTo>
                  <a:lnTo>
                    <a:pt x="1370" y="326"/>
                  </a:lnTo>
                  <a:lnTo>
                    <a:pt x="1363" y="346"/>
                  </a:lnTo>
                  <a:lnTo>
                    <a:pt x="1358" y="365"/>
                  </a:lnTo>
                  <a:lnTo>
                    <a:pt x="1352" y="385"/>
                  </a:lnTo>
                  <a:lnTo>
                    <a:pt x="1347" y="404"/>
                  </a:lnTo>
                  <a:lnTo>
                    <a:pt x="1344" y="424"/>
                  </a:lnTo>
                  <a:lnTo>
                    <a:pt x="1340" y="445"/>
                  </a:lnTo>
                  <a:lnTo>
                    <a:pt x="1338" y="466"/>
                  </a:lnTo>
                  <a:lnTo>
                    <a:pt x="1337" y="486"/>
                  </a:lnTo>
                  <a:lnTo>
                    <a:pt x="1335" y="507"/>
                  </a:lnTo>
                  <a:lnTo>
                    <a:pt x="1335" y="528"/>
                  </a:lnTo>
                  <a:lnTo>
                    <a:pt x="1337" y="549"/>
                  </a:lnTo>
                  <a:lnTo>
                    <a:pt x="1339" y="571"/>
                  </a:lnTo>
                  <a:lnTo>
                    <a:pt x="1341" y="592"/>
                  </a:lnTo>
                  <a:lnTo>
                    <a:pt x="1346" y="614"/>
                  </a:lnTo>
                  <a:lnTo>
                    <a:pt x="1351" y="636"/>
                  </a:lnTo>
                  <a:lnTo>
                    <a:pt x="1358" y="657"/>
                  </a:lnTo>
                  <a:lnTo>
                    <a:pt x="1365" y="679"/>
                  </a:lnTo>
                  <a:lnTo>
                    <a:pt x="1373" y="700"/>
                  </a:lnTo>
                  <a:lnTo>
                    <a:pt x="1383" y="722"/>
                  </a:lnTo>
                  <a:lnTo>
                    <a:pt x="1394" y="743"/>
                  </a:lnTo>
                  <a:lnTo>
                    <a:pt x="1407" y="764"/>
                  </a:lnTo>
                  <a:lnTo>
                    <a:pt x="1419" y="786"/>
                  </a:lnTo>
                  <a:lnTo>
                    <a:pt x="1435" y="807"/>
                  </a:lnTo>
                  <a:lnTo>
                    <a:pt x="1451" y="828"/>
                  </a:lnTo>
                  <a:lnTo>
                    <a:pt x="1469" y="849"/>
                  </a:lnTo>
                  <a:lnTo>
                    <a:pt x="781" y="87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4" name="Freeform 1461"/>
            <p:cNvSpPr/>
            <p:nvPr/>
          </p:nvSpPr>
          <p:spPr>
            <a:xfrm>
              <a:off x="4600800" y="4848840"/>
              <a:ext cx="392040" cy="185040"/>
            </a:xfrm>
            <a:custGeom>
              <a:avLst/>
              <a:gdLst>
                <a:gd name="textAreaLeft" fmla="*/ 0 w 392040"/>
                <a:gd name="textAreaRight" fmla="*/ 392400 w 392040"/>
                <a:gd name="textAreaTop" fmla="*/ 0 h 185040"/>
                <a:gd name="textAreaBottom" fmla="*/ 185400 h 185040"/>
              </a:gdLst>
              <a:ahLst/>
              <a:rect l="textAreaLeft" t="textAreaTop" r="textAreaRight" b="textAreaBottom"/>
              <a:pathLst>
                <a:path w="2180" h="1227">
                  <a:moveTo>
                    <a:pt x="1270" y="0"/>
                  </a:moveTo>
                  <a:lnTo>
                    <a:pt x="0" y="37"/>
                  </a:lnTo>
                  <a:lnTo>
                    <a:pt x="5" y="65"/>
                  </a:lnTo>
                  <a:lnTo>
                    <a:pt x="12" y="94"/>
                  </a:lnTo>
                  <a:lnTo>
                    <a:pt x="20" y="118"/>
                  </a:lnTo>
                  <a:lnTo>
                    <a:pt x="28" y="140"/>
                  </a:lnTo>
                  <a:lnTo>
                    <a:pt x="34" y="150"/>
                  </a:lnTo>
                  <a:lnTo>
                    <a:pt x="39" y="158"/>
                  </a:lnTo>
                  <a:lnTo>
                    <a:pt x="45" y="166"/>
                  </a:lnTo>
                  <a:lnTo>
                    <a:pt x="51" y="172"/>
                  </a:lnTo>
                  <a:lnTo>
                    <a:pt x="56" y="178"/>
                  </a:lnTo>
                  <a:lnTo>
                    <a:pt x="63" y="181"/>
                  </a:lnTo>
                  <a:lnTo>
                    <a:pt x="70" y="183"/>
                  </a:lnTo>
                  <a:lnTo>
                    <a:pt x="77" y="185"/>
                  </a:lnTo>
                  <a:lnTo>
                    <a:pt x="86" y="202"/>
                  </a:lnTo>
                  <a:lnTo>
                    <a:pt x="93" y="217"/>
                  </a:lnTo>
                  <a:lnTo>
                    <a:pt x="100" y="228"/>
                  </a:lnTo>
                  <a:lnTo>
                    <a:pt x="107" y="235"/>
                  </a:lnTo>
                  <a:lnTo>
                    <a:pt x="110" y="238"/>
                  </a:lnTo>
                  <a:lnTo>
                    <a:pt x="115" y="240"/>
                  </a:lnTo>
                  <a:lnTo>
                    <a:pt x="118" y="241"/>
                  </a:lnTo>
                  <a:lnTo>
                    <a:pt x="123" y="242"/>
                  </a:lnTo>
                  <a:lnTo>
                    <a:pt x="133" y="242"/>
                  </a:lnTo>
                  <a:lnTo>
                    <a:pt x="146" y="238"/>
                  </a:lnTo>
                  <a:lnTo>
                    <a:pt x="174" y="235"/>
                  </a:lnTo>
                  <a:lnTo>
                    <a:pt x="201" y="231"/>
                  </a:lnTo>
                  <a:lnTo>
                    <a:pt x="213" y="231"/>
                  </a:lnTo>
                  <a:lnTo>
                    <a:pt x="223" y="233"/>
                  </a:lnTo>
                  <a:lnTo>
                    <a:pt x="233" y="234"/>
                  </a:lnTo>
                  <a:lnTo>
                    <a:pt x="242" y="236"/>
                  </a:lnTo>
                  <a:lnTo>
                    <a:pt x="249" y="240"/>
                  </a:lnTo>
                  <a:lnTo>
                    <a:pt x="256" y="244"/>
                  </a:lnTo>
                  <a:lnTo>
                    <a:pt x="261" y="250"/>
                  </a:lnTo>
                  <a:lnTo>
                    <a:pt x="264" y="257"/>
                  </a:lnTo>
                  <a:lnTo>
                    <a:pt x="267" y="266"/>
                  </a:lnTo>
                  <a:lnTo>
                    <a:pt x="267" y="277"/>
                  </a:lnTo>
                  <a:lnTo>
                    <a:pt x="265" y="289"/>
                  </a:lnTo>
                  <a:lnTo>
                    <a:pt x="262" y="303"/>
                  </a:lnTo>
                  <a:lnTo>
                    <a:pt x="261" y="306"/>
                  </a:lnTo>
                  <a:lnTo>
                    <a:pt x="261" y="311"/>
                  </a:lnTo>
                  <a:lnTo>
                    <a:pt x="262" y="314"/>
                  </a:lnTo>
                  <a:lnTo>
                    <a:pt x="263" y="318"/>
                  </a:lnTo>
                  <a:lnTo>
                    <a:pt x="268" y="326"/>
                  </a:lnTo>
                  <a:lnTo>
                    <a:pt x="275" y="332"/>
                  </a:lnTo>
                  <a:lnTo>
                    <a:pt x="284" y="339"/>
                  </a:lnTo>
                  <a:lnTo>
                    <a:pt x="293" y="345"/>
                  </a:lnTo>
                  <a:lnTo>
                    <a:pt x="305" y="351"/>
                  </a:lnTo>
                  <a:lnTo>
                    <a:pt x="317" y="356"/>
                  </a:lnTo>
                  <a:lnTo>
                    <a:pt x="339" y="368"/>
                  </a:lnTo>
                  <a:lnTo>
                    <a:pt x="358" y="380"/>
                  </a:lnTo>
                  <a:lnTo>
                    <a:pt x="365" y="386"/>
                  </a:lnTo>
                  <a:lnTo>
                    <a:pt x="371" y="391"/>
                  </a:lnTo>
                  <a:lnTo>
                    <a:pt x="372" y="395"/>
                  </a:lnTo>
                  <a:lnTo>
                    <a:pt x="372" y="398"/>
                  </a:lnTo>
                  <a:lnTo>
                    <a:pt x="372" y="402"/>
                  </a:lnTo>
                  <a:lnTo>
                    <a:pt x="372" y="405"/>
                  </a:lnTo>
                  <a:lnTo>
                    <a:pt x="368" y="1028"/>
                  </a:lnTo>
                  <a:lnTo>
                    <a:pt x="443" y="1199"/>
                  </a:lnTo>
                  <a:lnTo>
                    <a:pt x="1909" y="1144"/>
                  </a:lnTo>
                  <a:lnTo>
                    <a:pt x="1901" y="1227"/>
                  </a:lnTo>
                  <a:lnTo>
                    <a:pt x="2039" y="1213"/>
                  </a:lnTo>
                  <a:lnTo>
                    <a:pt x="2049" y="1202"/>
                  </a:lnTo>
                  <a:lnTo>
                    <a:pt x="2059" y="1192"/>
                  </a:lnTo>
                  <a:lnTo>
                    <a:pt x="2066" y="1181"/>
                  </a:lnTo>
                  <a:lnTo>
                    <a:pt x="2070" y="1172"/>
                  </a:lnTo>
                  <a:lnTo>
                    <a:pt x="2075" y="1163"/>
                  </a:lnTo>
                  <a:lnTo>
                    <a:pt x="2077" y="1154"/>
                  </a:lnTo>
                  <a:lnTo>
                    <a:pt x="2080" y="1146"/>
                  </a:lnTo>
                  <a:lnTo>
                    <a:pt x="2081" y="1137"/>
                  </a:lnTo>
                  <a:lnTo>
                    <a:pt x="2081" y="1120"/>
                  </a:lnTo>
                  <a:lnTo>
                    <a:pt x="2081" y="1102"/>
                  </a:lnTo>
                  <a:lnTo>
                    <a:pt x="2081" y="1092"/>
                  </a:lnTo>
                  <a:lnTo>
                    <a:pt x="2082" y="1082"/>
                  </a:lnTo>
                  <a:lnTo>
                    <a:pt x="2083" y="1071"/>
                  </a:lnTo>
                  <a:lnTo>
                    <a:pt x="2085" y="1060"/>
                  </a:lnTo>
                  <a:lnTo>
                    <a:pt x="2092" y="1037"/>
                  </a:lnTo>
                  <a:lnTo>
                    <a:pt x="2101" y="1016"/>
                  </a:lnTo>
                  <a:lnTo>
                    <a:pt x="2110" y="996"/>
                  </a:lnTo>
                  <a:lnTo>
                    <a:pt x="2122" y="979"/>
                  </a:lnTo>
                  <a:lnTo>
                    <a:pt x="2134" y="961"/>
                  </a:lnTo>
                  <a:lnTo>
                    <a:pt x="2148" y="945"/>
                  </a:lnTo>
                  <a:lnTo>
                    <a:pt x="2164" y="931"/>
                  </a:lnTo>
                  <a:lnTo>
                    <a:pt x="2180" y="918"/>
                  </a:lnTo>
                  <a:lnTo>
                    <a:pt x="2179" y="901"/>
                  </a:lnTo>
                  <a:lnTo>
                    <a:pt x="2176" y="887"/>
                  </a:lnTo>
                  <a:lnTo>
                    <a:pt x="2174" y="881"/>
                  </a:lnTo>
                  <a:lnTo>
                    <a:pt x="2172" y="876"/>
                  </a:lnTo>
                  <a:lnTo>
                    <a:pt x="2169" y="871"/>
                  </a:lnTo>
                  <a:lnTo>
                    <a:pt x="2167" y="868"/>
                  </a:lnTo>
                  <a:lnTo>
                    <a:pt x="2160" y="862"/>
                  </a:lnTo>
                  <a:lnTo>
                    <a:pt x="2152" y="859"/>
                  </a:lnTo>
                  <a:lnTo>
                    <a:pt x="2143" y="856"/>
                  </a:lnTo>
                  <a:lnTo>
                    <a:pt x="2133" y="855"/>
                  </a:lnTo>
                  <a:lnTo>
                    <a:pt x="2111" y="854"/>
                  </a:lnTo>
                  <a:lnTo>
                    <a:pt x="2088" y="852"/>
                  </a:lnTo>
                  <a:lnTo>
                    <a:pt x="2075" y="848"/>
                  </a:lnTo>
                  <a:lnTo>
                    <a:pt x="2063" y="843"/>
                  </a:lnTo>
                  <a:lnTo>
                    <a:pt x="2057" y="840"/>
                  </a:lnTo>
                  <a:lnTo>
                    <a:pt x="2050" y="836"/>
                  </a:lnTo>
                  <a:lnTo>
                    <a:pt x="2044" y="832"/>
                  </a:lnTo>
                  <a:lnTo>
                    <a:pt x="2039" y="826"/>
                  </a:lnTo>
                  <a:lnTo>
                    <a:pt x="2039" y="804"/>
                  </a:lnTo>
                  <a:lnTo>
                    <a:pt x="2037" y="783"/>
                  </a:lnTo>
                  <a:lnTo>
                    <a:pt x="2035" y="763"/>
                  </a:lnTo>
                  <a:lnTo>
                    <a:pt x="2032" y="744"/>
                  </a:lnTo>
                  <a:lnTo>
                    <a:pt x="2027" y="728"/>
                  </a:lnTo>
                  <a:lnTo>
                    <a:pt x="2021" y="711"/>
                  </a:lnTo>
                  <a:lnTo>
                    <a:pt x="2013" y="696"/>
                  </a:lnTo>
                  <a:lnTo>
                    <a:pt x="2004" y="682"/>
                  </a:lnTo>
                  <a:lnTo>
                    <a:pt x="1992" y="668"/>
                  </a:lnTo>
                  <a:lnTo>
                    <a:pt x="1978" y="655"/>
                  </a:lnTo>
                  <a:lnTo>
                    <a:pt x="1962" y="644"/>
                  </a:lnTo>
                  <a:lnTo>
                    <a:pt x="1943" y="633"/>
                  </a:lnTo>
                  <a:lnTo>
                    <a:pt x="1922" y="623"/>
                  </a:lnTo>
                  <a:lnTo>
                    <a:pt x="1897" y="612"/>
                  </a:lnTo>
                  <a:lnTo>
                    <a:pt x="1870" y="603"/>
                  </a:lnTo>
                  <a:lnTo>
                    <a:pt x="1840" y="593"/>
                  </a:lnTo>
                  <a:lnTo>
                    <a:pt x="1810" y="584"/>
                  </a:lnTo>
                  <a:lnTo>
                    <a:pt x="1784" y="575"/>
                  </a:lnTo>
                  <a:lnTo>
                    <a:pt x="1762" y="564"/>
                  </a:lnTo>
                  <a:lnTo>
                    <a:pt x="1742" y="554"/>
                  </a:lnTo>
                  <a:lnTo>
                    <a:pt x="1726" y="543"/>
                  </a:lnTo>
                  <a:lnTo>
                    <a:pt x="1713" y="532"/>
                  </a:lnTo>
                  <a:lnTo>
                    <a:pt x="1701" y="520"/>
                  </a:lnTo>
                  <a:lnTo>
                    <a:pt x="1693" y="507"/>
                  </a:lnTo>
                  <a:lnTo>
                    <a:pt x="1687" y="495"/>
                  </a:lnTo>
                  <a:lnTo>
                    <a:pt x="1682" y="482"/>
                  </a:lnTo>
                  <a:lnTo>
                    <a:pt x="1680" y="471"/>
                  </a:lnTo>
                  <a:lnTo>
                    <a:pt x="1679" y="458"/>
                  </a:lnTo>
                  <a:lnTo>
                    <a:pt x="1679" y="445"/>
                  </a:lnTo>
                  <a:lnTo>
                    <a:pt x="1680" y="433"/>
                  </a:lnTo>
                  <a:lnTo>
                    <a:pt x="1682" y="421"/>
                  </a:lnTo>
                  <a:lnTo>
                    <a:pt x="1685" y="409"/>
                  </a:lnTo>
                  <a:lnTo>
                    <a:pt x="1686" y="398"/>
                  </a:lnTo>
                  <a:lnTo>
                    <a:pt x="1687" y="389"/>
                  </a:lnTo>
                  <a:lnTo>
                    <a:pt x="1685" y="382"/>
                  </a:lnTo>
                  <a:lnTo>
                    <a:pt x="1682" y="376"/>
                  </a:lnTo>
                  <a:lnTo>
                    <a:pt x="1678" y="370"/>
                  </a:lnTo>
                  <a:lnTo>
                    <a:pt x="1672" y="366"/>
                  </a:lnTo>
                  <a:lnTo>
                    <a:pt x="1664" y="362"/>
                  </a:lnTo>
                  <a:lnTo>
                    <a:pt x="1656" y="359"/>
                  </a:lnTo>
                  <a:lnTo>
                    <a:pt x="1609" y="348"/>
                  </a:lnTo>
                  <a:lnTo>
                    <a:pt x="1547" y="331"/>
                  </a:lnTo>
                  <a:lnTo>
                    <a:pt x="1529" y="325"/>
                  </a:lnTo>
                  <a:lnTo>
                    <a:pt x="1512" y="319"/>
                  </a:lnTo>
                  <a:lnTo>
                    <a:pt x="1495" y="312"/>
                  </a:lnTo>
                  <a:lnTo>
                    <a:pt x="1479" y="304"/>
                  </a:lnTo>
                  <a:lnTo>
                    <a:pt x="1465" y="296"/>
                  </a:lnTo>
                  <a:lnTo>
                    <a:pt x="1451" y="287"/>
                  </a:lnTo>
                  <a:lnTo>
                    <a:pt x="1438" y="278"/>
                  </a:lnTo>
                  <a:lnTo>
                    <a:pt x="1425" y="269"/>
                  </a:lnTo>
                  <a:lnTo>
                    <a:pt x="1415" y="259"/>
                  </a:lnTo>
                  <a:lnTo>
                    <a:pt x="1406" y="249"/>
                  </a:lnTo>
                  <a:lnTo>
                    <a:pt x="1396" y="240"/>
                  </a:lnTo>
                  <a:lnTo>
                    <a:pt x="1389" y="230"/>
                  </a:lnTo>
                  <a:lnTo>
                    <a:pt x="1385" y="221"/>
                  </a:lnTo>
                  <a:lnTo>
                    <a:pt x="1380" y="210"/>
                  </a:lnTo>
                  <a:lnTo>
                    <a:pt x="1377" y="202"/>
                  </a:lnTo>
                  <a:lnTo>
                    <a:pt x="1376" y="193"/>
                  </a:lnTo>
                  <a:lnTo>
                    <a:pt x="1375" y="185"/>
                  </a:lnTo>
                  <a:lnTo>
                    <a:pt x="1373" y="176"/>
                  </a:lnTo>
                  <a:lnTo>
                    <a:pt x="1368" y="168"/>
                  </a:lnTo>
                  <a:lnTo>
                    <a:pt x="1361" y="161"/>
                  </a:lnTo>
                  <a:lnTo>
                    <a:pt x="1354" y="154"/>
                  </a:lnTo>
                  <a:lnTo>
                    <a:pt x="1346" y="148"/>
                  </a:lnTo>
                  <a:lnTo>
                    <a:pt x="1338" y="143"/>
                  </a:lnTo>
                  <a:lnTo>
                    <a:pt x="1328" y="137"/>
                  </a:lnTo>
                  <a:lnTo>
                    <a:pt x="1296" y="120"/>
                  </a:lnTo>
                  <a:lnTo>
                    <a:pt x="1282" y="115"/>
                  </a:lnTo>
                  <a:lnTo>
                    <a:pt x="127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5" name="Freeform 1462"/>
            <p:cNvSpPr/>
            <p:nvPr/>
          </p:nvSpPr>
          <p:spPr>
            <a:xfrm>
              <a:off x="4600800" y="4848840"/>
              <a:ext cx="392040" cy="185040"/>
            </a:xfrm>
            <a:custGeom>
              <a:avLst/>
              <a:gdLst>
                <a:gd name="textAreaLeft" fmla="*/ 0 w 392040"/>
                <a:gd name="textAreaRight" fmla="*/ 392400 w 392040"/>
                <a:gd name="textAreaTop" fmla="*/ 0 h 185040"/>
                <a:gd name="textAreaBottom" fmla="*/ 185400 h 185040"/>
              </a:gdLst>
              <a:ahLst/>
              <a:rect l="textAreaLeft" t="textAreaTop" r="textAreaRight" b="textAreaBottom"/>
              <a:pathLst>
                <a:path w="2180" h="1227">
                  <a:moveTo>
                    <a:pt x="1270" y="0"/>
                  </a:moveTo>
                  <a:lnTo>
                    <a:pt x="0" y="37"/>
                  </a:lnTo>
                  <a:lnTo>
                    <a:pt x="5" y="65"/>
                  </a:lnTo>
                  <a:lnTo>
                    <a:pt x="12" y="94"/>
                  </a:lnTo>
                  <a:lnTo>
                    <a:pt x="20" y="118"/>
                  </a:lnTo>
                  <a:lnTo>
                    <a:pt x="28" y="140"/>
                  </a:lnTo>
                  <a:lnTo>
                    <a:pt x="34" y="150"/>
                  </a:lnTo>
                  <a:lnTo>
                    <a:pt x="39" y="158"/>
                  </a:lnTo>
                  <a:lnTo>
                    <a:pt x="45" y="166"/>
                  </a:lnTo>
                  <a:lnTo>
                    <a:pt x="51" y="172"/>
                  </a:lnTo>
                  <a:lnTo>
                    <a:pt x="56" y="178"/>
                  </a:lnTo>
                  <a:lnTo>
                    <a:pt x="63" y="181"/>
                  </a:lnTo>
                  <a:lnTo>
                    <a:pt x="70" y="183"/>
                  </a:lnTo>
                  <a:lnTo>
                    <a:pt x="77" y="185"/>
                  </a:lnTo>
                  <a:lnTo>
                    <a:pt x="86" y="202"/>
                  </a:lnTo>
                  <a:lnTo>
                    <a:pt x="93" y="217"/>
                  </a:lnTo>
                  <a:lnTo>
                    <a:pt x="100" y="228"/>
                  </a:lnTo>
                  <a:lnTo>
                    <a:pt x="107" y="235"/>
                  </a:lnTo>
                  <a:lnTo>
                    <a:pt x="110" y="238"/>
                  </a:lnTo>
                  <a:lnTo>
                    <a:pt x="115" y="240"/>
                  </a:lnTo>
                  <a:lnTo>
                    <a:pt x="118" y="241"/>
                  </a:lnTo>
                  <a:lnTo>
                    <a:pt x="123" y="242"/>
                  </a:lnTo>
                  <a:lnTo>
                    <a:pt x="133" y="242"/>
                  </a:lnTo>
                  <a:lnTo>
                    <a:pt x="146" y="238"/>
                  </a:lnTo>
                  <a:lnTo>
                    <a:pt x="174" y="235"/>
                  </a:lnTo>
                  <a:lnTo>
                    <a:pt x="201" y="231"/>
                  </a:lnTo>
                  <a:lnTo>
                    <a:pt x="213" y="231"/>
                  </a:lnTo>
                  <a:lnTo>
                    <a:pt x="223" y="233"/>
                  </a:lnTo>
                  <a:lnTo>
                    <a:pt x="233" y="234"/>
                  </a:lnTo>
                  <a:lnTo>
                    <a:pt x="242" y="236"/>
                  </a:lnTo>
                  <a:lnTo>
                    <a:pt x="249" y="240"/>
                  </a:lnTo>
                  <a:lnTo>
                    <a:pt x="256" y="244"/>
                  </a:lnTo>
                  <a:lnTo>
                    <a:pt x="261" y="250"/>
                  </a:lnTo>
                  <a:lnTo>
                    <a:pt x="264" y="257"/>
                  </a:lnTo>
                  <a:lnTo>
                    <a:pt x="267" y="266"/>
                  </a:lnTo>
                  <a:lnTo>
                    <a:pt x="267" y="277"/>
                  </a:lnTo>
                  <a:lnTo>
                    <a:pt x="265" y="289"/>
                  </a:lnTo>
                  <a:lnTo>
                    <a:pt x="262" y="303"/>
                  </a:lnTo>
                  <a:lnTo>
                    <a:pt x="261" y="306"/>
                  </a:lnTo>
                  <a:lnTo>
                    <a:pt x="261" y="311"/>
                  </a:lnTo>
                  <a:lnTo>
                    <a:pt x="262" y="314"/>
                  </a:lnTo>
                  <a:lnTo>
                    <a:pt x="263" y="318"/>
                  </a:lnTo>
                  <a:lnTo>
                    <a:pt x="268" y="326"/>
                  </a:lnTo>
                  <a:lnTo>
                    <a:pt x="275" y="332"/>
                  </a:lnTo>
                  <a:lnTo>
                    <a:pt x="284" y="339"/>
                  </a:lnTo>
                  <a:lnTo>
                    <a:pt x="293" y="345"/>
                  </a:lnTo>
                  <a:lnTo>
                    <a:pt x="305" y="351"/>
                  </a:lnTo>
                  <a:lnTo>
                    <a:pt x="317" y="356"/>
                  </a:lnTo>
                  <a:lnTo>
                    <a:pt x="339" y="368"/>
                  </a:lnTo>
                  <a:lnTo>
                    <a:pt x="358" y="380"/>
                  </a:lnTo>
                  <a:lnTo>
                    <a:pt x="365" y="386"/>
                  </a:lnTo>
                  <a:lnTo>
                    <a:pt x="371" y="391"/>
                  </a:lnTo>
                  <a:lnTo>
                    <a:pt x="372" y="395"/>
                  </a:lnTo>
                  <a:lnTo>
                    <a:pt x="372" y="398"/>
                  </a:lnTo>
                  <a:lnTo>
                    <a:pt x="372" y="402"/>
                  </a:lnTo>
                  <a:lnTo>
                    <a:pt x="372" y="405"/>
                  </a:lnTo>
                  <a:lnTo>
                    <a:pt x="368" y="1028"/>
                  </a:lnTo>
                  <a:lnTo>
                    <a:pt x="443" y="1199"/>
                  </a:lnTo>
                  <a:lnTo>
                    <a:pt x="1909" y="1144"/>
                  </a:lnTo>
                  <a:lnTo>
                    <a:pt x="1901" y="1227"/>
                  </a:lnTo>
                  <a:lnTo>
                    <a:pt x="2039" y="1213"/>
                  </a:lnTo>
                  <a:lnTo>
                    <a:pt x="2049" y="1202"/>
                  </a:lnTo>
                  <a:lnTo>
                    <a:pt x="2059" y="1192"/>
                  </a:lnTo>
                  <a:lnTo>
                    <a:pt x="2066" y="1181"/>
                  </a:lnTo>
                  <a:lnTo>
                    <a:pt x="2070" y="1172"/>
                  </a:lnTo>
                  <a:lnTo>
                    <a:pt x="2075" y="1163"/>
                  </a:lnTo>
                  <a:lnTo>
                    <a:pt x="2077" y="1154"/>
                  </a:lnTo>
                  <a:lnTo>
                    <a:pt x="2080" y="1146"/>
                  </a:lnTo>
                  <a:lnTo>
                    <a:pt x="2081" y="1137"/>
                  </a:lnTo>
                  <a:lnTo>
                    <a:pt x="2081" y="1120"/>
                  </a:lnTo>
                  <a:lnTo>
                    <a:pt x="2081" y="1102"/>
                  </a:lnTo>
                  <a:lnTo>
                    <a:pt x="2081" y="1092"/>
                  </a:lnTo>
                  <a:lnTo>
                    <a:pt x="2082" y="1082"/>
                  </a:lnTo>
                  <a:lnTo>
                    <a:pt x="2083" y="1071"/>
                  </a:lnTo>
                  <a:lnTo>
                    <a:pt x="2085" y="1060"/>
                  </a:lnTo>
                  <a:lnTo>
                    <a:pt x="2092" y="1037"/>
                  </a:lnTo>
                  <a:lnTo>
                    <a:pt x="2101" y="1016"/>
                  </a:lnTo>
                  <a:lnTo>
                    <a:pt x="2110" y="996"/>
                  </a:lnTo>
                  <a:lnTo>
                    <a:pt x="2122" y="979"/>
                  </a:lnTo>
                  <a:lnTo>
                    <a:pt x="2134" y="961"/>
                  </a:lnTo>
                  <a:lnTo>
                    <a:pt x="2148" y="945"/>
                  </a:lnTo>
                  <a:lnTo>
                    <a:pt x="2164" y="931"/>
                  </a:lnTo>
                  <a:lnTo>
                    <a:pt x="2180" y="918"/>
                  </a:lnTo>
                  <a:lnTo>
                    <a:pt x="2179" y="901"/>
                  </a:lnTo>
                  <a:lnTo>
                    <a:pt x="2176" y="887"/>
                  </a:lnTo>
                  <a:lnTo>
                    <a:pt x="2174" y="881"/>
                  </a:lnTo>
                  <a:lnTo>
                    <a:pt x="2172" y="876"/>
                  </a:lnTo>
                  <a:lnTo>
                    <a:pt x="2169" y="871"/>
                  </a:lnTo>
                  <a:lnTo>
                    <a:pt x="2167" y="868"/>
                  </a:lnTo>
                  <a:lnTo>
                    <a:pt x="2160" y="862"/>
                  </a:lnTo>
                  <a:lnTo>
                    <a:pt x="2152" y="859"/>
                  </a:lnTo>
                  <a:lnTo>
                    <a:pt x="2143" y="856"/>
                  </a:lnTo>
                  <a:lnTo>
                    <a:pt x="2133" y="855"/>
                  </a:lnTo>
                  <a:lnTo>
                    <a:pt x="2111" y="854"/>
                  </a:lnTo>
                  <a:lnTo>
                    <a:pt x="2088" y="852"/>
                  </a:lnTo>
                  <a:lnTo>
                    <a:pt x="2075" y="848"/>
                  </a:lnTo>
                  <a:lnTo>
                    <a:pt x="2063" y="843"/>
                  </a:lnTo>
                  <a:lnTo>
                    <a:pt x="2057" y="840"/>
                  </a:lnTo>
                  <a:lnTo>
                    <a:pt x="2050" y="836"/>
                  </a:lnTo>
                  <a:lnTo>
                    <a:pt x="2044" y="832"/>
                  </a:lnTo>
                  <a:lnTo>
                    <a:pt x="2039" y="826"/>
                  </a:lnTo>
                  <a:lnTo>
                    <a:pt x="2039" y="804"/>
                  </a:lnTo>
                  <a:lnTo>
                    <a:pt x="2037" y="783"/>
                  </a:lnTo>
                  <a:lnTo>
                    <a:pt x="2035" y="763"/>
                  </a:lnTo>
                  <a:lnTo>
                    <a:pt x="2032" y="744"/>
                  </a:lnTo>
                  <a:lnTo>
                    <a:pt x="2027" y="728"/>
                  </a:lnTo>
                  <a:lnTo>
                    <a:pt x="2021" y="711"/>
                  </a:lnTo>
                  <a:lnTo>
                    <a:pt x="2013" y="696"/>
                  </a:lnTo>
                  <a:lnTo>
                    <a:pt x="2004" y="682"/>
                  </a:lnTo>
                  <a:lnTo>
                    <a:pt x="1992" y="668"/>
                  </a:lnTo>
                  <a:lnTo>
                    <a:pt x="1978" y="655"/>
                  </a:lnTo>
                  <a:lnTo>
                    <a:pt x="1962" y="644"/>
                  </a:lnTo>
                  <a:lnTo>
                    <a:pt x="1943" y="633"/>
                  </a:lnTo>
                  <a:lnTo>
                    <a:pt x="1922" y="623"/>
                  </a:lnTo>
                  <a:lnTo>
                    <a:pt x="1897" y="612"/>
                  </a:lnTo>
                  <a:lnTo>
                    <a:pt x="1870" y="603"/>
                  </a:lnTo>
                  <a:lnTo>
                    <a:pt x="1840" y="593"/>
                  </a:lnTo>
                  <a:lnTo>
                    <a:pt x="1810" y="584"/>
                  </a:lnTo>
                  <a:lnTo>
                    <a:pt x="1784" y="575"/>
                  </a:lnTo>
                  <a:lnTo>
                    <a:pt x="1762" y="564"/>
                  </a:lnTo>
                  <a:lnTo>
                    <a:pt x="1742" y="554"/>
                  </a:lnTo>
                  <a:lnTo>
                    <a:pt x="1726" y="543"/>
                  </a:lnTo>
                  <a:lnTo>
                    <a:pt x="1713" y="532"/>
                  </a:lnTo>
                  <a:lnTo>
                    <a:pt x="1701" y="520"/>
                  </a:lnTo>
                  <a:lnTo>
                    <a:pt x="1693" y="507"/>
                  </a:lnTo>
                  <a:lnTo>
                    <a:pt x="1687" y="495"/>
                  </a:lnTo>
                  <a:lnTo>
                    <a:pt x="1682" y="482"/>
                  </a:lnTo>
                  <a:lnTo>
                    <a:pt x="1680" y="471"/>
                  </a:lnTo>
                  <a:lnTo>
                    <a:pt x="1679" y="458"/>
                  </a:lnTo>
                  <a:lnTo>
                    <a:pt x="1679" y="445"/>
                  </a:lnTo>
                  <a:lnTo>
                    <a:pt x="1680" y="433"/>
                  </a:lnTo>
                  <a:lnTo>
                    <a:pt x="1682" y="421"/>
                  </a:lnTo>
                  <a:lnTo>
                    <a:pt x="1685" y="409"/>
                  </a:lnTo>
                  <a:lnTo>
                    <a:pt x="1686" y="398"/>
                  </a:lnTo>
                  <a:lnTo>
                    <a:pt x="1687" y="389"/>
                  </a:lnTo>
                  <a:lnTo>
                    <a:pt x="1685" y="382"/>
                  </a:lnTo>
                  <a:lnTo>
                    <a:pt x="1682" y="376"/>
                  </a:lnTo>
                  <a:lnTo>
                    <a:pt x="1678" y="370"/>
                  </a:lnTo>
                  <a:lnTo>
                    <a:pt x="1672" y="366"/>
                  </a:lnTo>
                  <a:lnTo>
                    <a:pt x="1664" y="362"/>
                  </a:lnTo>
                  <a:lnTo>
                    <a:pt x="1656" y="359"/>
                  </a:lnTo>
                  <a:lnTo>
                    <a:pt x="1609" y="348"/>
                  </a:lnTo>
                  <a:lnTo>
                    <a:pt x="1547" y="331"/>
                  </a:lnTo>
                  <a:lnTo>
                    <a:pt x="1529" y="325"/>
                  </a:lnTo>
                  <a:lnTo>
                    <a:pt x="1512" y="319"/>
                  </a:lnTo>
                  <a:lnTo>
                    <a:pt x="1495" y="312"/>
                  </a:lnTo>
                  <a:lnTo>
                    <a:pt x="1479" y="304"/>
                  </a:lnTo>
                  <a:lnTo>
                    <a:pt x="1465" y="296"/>
                  </a:lnTo>
                  <a:lnTo>
                    <a:pt x="1451" y="287"/>
                  </a:lnTo>
                  <a:lnTo>
                    <a:pt x="1438" y="278"/>
                  </a:lnTo>
                  <a:lnTo>
                    <a:pt x="1425" y="269"/>
                  </a:lnTo>
                  <a:lnTo>
                    <a:pt x="1415" y="259"/>
                  </a:lnTo>
                  <a:lnTo>
                    <a:pt x="1406" y="249"/>
                  </a:lnTo>
                  <a:lnTo>
                    <a:pt x="1396" y="240"/>
                  </a:lnTo>
                  <a:lnTo>
                    <a:pt x="1389" y="230"/>
                  </a:lnTo>
                  <a:lnTo>
                    <a:pt x="1385" y="221"/>
                  </a:lnTo>
                  <a:lnTo>
                    <a:pt x="1380" y="210"/>
                  </a:lnTo>
                  <a:lnTo>
                    <a:pt x="1377" y="202"/>
                  </a:lnTo>
                  <a:lnTo>
                    <a:pt x="1376" y="193"/>
                  </a:lnTo>
                  <a:lnTo>
                    <a:pt x="1375" y="185"/>
                  </a:lnTo>
                  <a:lnTo>
                    <a:pt x="1373" y="176"/>
                  </a:lnTo>
                  <a:lnTo>
                    <a:pt x="1368" y="168"/>
                  </a:lnTo>
                  <a:lnTo>
                    <a:pt x="1361" y="161"/>
                  </a:lnTo>
                  <a:lnTo>
                    <a:pt x="1354" y="154"/>
                  </a:lnTo>
                  <a:lnTo>
                    <a:pt x="1346" y="148"/>
                  </a:lnTo>
                  <a:lnTo>
                    <a:pt x="1338" y="143"/>
                  </a:lnTo>
                  <a:lnTo>
                    <a:pt x="1328" y="137"/>
                  </a:lnTo>
                  <a:lnTo>
                    <a:pt x="1296" y="120"/>
                  </a:lnTo>
                  <a:lnTo>
                    <a:pt x="1282" y="115"/>
                  </a:lnTo>
                  <a:lnTo>
                    <a:pt x="1270" y="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6" name="Freeform 1463"/>
            <p:cNvSpPr/>
            <p:nvPr/>
          </p:nvSpPr>
          <p:spPr>
            <a:xfrm>
              <a:off x="5224680" y="5031360"/>
              <a:ext cx="455040" cy="261720"/>
            </a:xfrm>
            <a:custGeom>
              <a:avLst/>
              <a:gdLst>
                <a:gd name="textAreaLeft" fmla="*/ 0 w 455040"/>
                <a:gd name="textAreaRight" fmla="*/ 455400 w 455040"/>
                <a:gd name="textAreaTop" fmla="*/ 0 h 261720"/>
                <a:gd name="textAreaBottom" fmla="*/ 262080 h 261720"/>
              </a:gdLst>
              <a:ahLst/>
              <a:rect l="textAreaLeft" t="textAreaTop" r="textAreaRight" b="textAreaBottom"/>
              <a:pathLst>
                <a:path w="2529" h="1729">
                  <a:moveTo>
                    <a:pt x="1040" y="0"/>
                  </a:moveTo>
                  <a:lnTo>
                    <a:pt x="0" y="116"/>
                  </a:lnTo>
                  <a:lnTo>
                    <a:pt x="8" y="127"/>
                  </a:lnTo>
                  <a:lnTo>
                    <a:pt x="33" y="159"/>
                  </a:lnTo>
                  <a:lnTo>
                    <a:pt x="70" y="208"/>
                  </a:lnTo>
                  <a:lnTo>
                    <a:pt x="119" y="272"/>
                  </a:lnTo>
                  <a:lnTo>
                    <a:pt x="177" y="349"/>
                  </a:lnTo>
                  <a:lnTo>
                    <a:pt x="240" y="435"/>
                  </a:lnTo>
                  <a:lnTo>
                    <a:pt x="308" y="527"/>
                  </a:lnTo>
                  <a:lnTo>
                    <a:pt x="379" y="621"/>
                  </a:lnTo>
                  <a:lnTo>
                    <a:pt x="449" y="717"/>
                  </a:lnTo>
                  <a:lnTo>
                    <a:pt x="516" y="811"/>
                  </a:lnTo>
                  <a:lnTo>
                    <a:pt x="580" y="899"/>
                  </a:lnTo>
                  <a:lnTo>
                    <a:pt x="636" y="980"/>
                  </a:lnTo>
                  <a:lnTo>
                    <a:pt x="682" y="1049"/>
                  </a:lnTo>
                  <a:lnTo>
                    <a:pt x="719" y="1105"/>
                  </a:lnTo>
                  <a:lnTo>
                    <a:pt x="731" y="1127"/>
                  </a:lnTo>
                  <a:lnTo>
                    <a:pt x="741" y="1145"/>
                  </a:lnTo>
                  <a:lnTo>
                    <a:pt x="745" y="1156"/>
                  </a:lnTo>
                  <a:lnTo>
                    <a:pt x="747" y="1165"/>
                  </a:lnTo>
                  <a:lnTo>
                    <a:pt x="744" y="1175"/>
                  </a:lnTo>
                  <a:lnTo>
                    <a:pt x="744" y="1191"/>
                  </a:lnTo>
                  <a:lnTo>
                    <a:pt x="744" y="1211"/>
                  </a:lnTo>
                  <a:lnTo>
                    <a:pt x="748" y="1236"/>
                  </a:lnTo>
                  <a:lnTo>
                    <a:pt x="751" y="1263"/>
                  </a:lnTo>
                  <a:lnTo>
                    <a:pt x="757" y="1293"/>
                  </a:lnTo>
                  <a:lnTo>
                    <a:pt x="764" y="1325"/>
                  </a:lnTo>
                  <a:lnTo>
                    <a:pt x="773" y="1358"/>
                  </a:lnTo>
                  <a:lnTo>
                    <a:pt x="785" y="1392"/>
                  </a:lnTo>
                  <a:lnTo>
                    <a:pt x="798" y="1427"/>
                  </a:lnTo>
                  <a:lnTo>
                    <a:pt x="812" y="1461"/>
                  </a:lnTo>
                  <a:lnTo>
                    <a:pt x="829" y="1495"/>
                  </a:lnTo>
                  <a:lnTo>
                    <a:pt x="839" y="1512"/>
                  </a:lnTo>
                  <a:lnTo>
                    <a:pt x="848" y="1527"/>
                  </a:lnTo>
                  <a:lnTo>
                    <a:pt x="858" y="1543"/>
                  </a:lnTo>
                  <a:lnTo>
                    <a:pt x="868" y="1558"/>
                  </a:lnTo>
                  <a:lnTo>
                    <a:pt x="880" y="1572"/>
                  </a:lnTo>
                  <a:lnTo>
                    <a:pt x="891" y="1585"/>
                  </a:lnTo>
                  <a:lnTo>
                    <a:pt x="903" y="1598"/>
                  </a:lnTo>
                  <a:lnTo>
                    <a:pt x="916" y="1611"/>
                  </a:lnTo>
                  <a:lnTo>
                    <a:pt x="938" y="1628"/>
                  </a:lnTo>
                  <a:lnTo>
                    <a:pt x="958" y="1644"/>
                  </a:lnTo>
                  <a:lnTo>
                    <a:pt x="978" y="1658"/>
                  </a:lnTo>
                  <a:lnTo>
                    <a:pt x="997" y="1670"/>
                  </a:lnTo>
                  <a:lnTo>
                    <a:pt x="1015" y="1682"/>
                  </a:lnTo>
                  <a:lnTo>
                    <a:pt x="1033" y="1693"/>
                  </a:lnTo>
                  <a:lnTo>
                    <a:pt x="1050" y="1701"/>
                  </a:lnTo>
                  <a:lnTo>
                    <a:pt x="1068" y="1708"/>
                  </a:lnTo>
                  <a:lnTo>
                    <a:pt x="1085" y="1715"/>
                  </a:lnTo>
                  <a:lnTo>
                    <a:pt x="1103" y="1719"/>
                  </a:lnTo>
                  <a:lnTo>
                    <a:pt x="1120" y="1723"/>
                  </a:lnTo>
                  <a:lnTo>
                    <a:pt x="1139" y="1726"/>
                  </a:lnTo>
                  <a:lnTo>
                    <a:pt x="1159" y="1728"/>
                  </a:lnTo>
                  <a:lnTo>
                    <a:pt x="1179" y="1729"/>
                  </a:lnTo>
                  <a:lnTo>
                    <a:pt x="1200" y="1729"/>
                  </a:lnTo>
                  <a:lnTo>
                    <a:pt x="1222" y="1728"/>
                  </a:lnTo>
                  <a:lnTo>
                    <a:pt x="1272" y="1722"/>
                  </a:lnTo>
                  <a:lnTo>
                    <a:pt x="1328" y="1714"/>
                  </a:lnTo>
                  <a:lnTo>
                    <a:pt x="1393" y="1703"/>
                  </a:lnTo>
                  <a:lnTo>
                    <a:pt x="1467" y="1690"/>
                  </a:lnTo>
                  <a:lnTo>
                    <a:pt x="1553" y="1675"/>
                  </a:lnTo>
                  <a:lnTo>
                    <a:pt x="1651" y="1658"/>
                  </a:lnTo>
                  <a:lnTo>
                    <a:pt x="1763" y="1639"/>
                  </a:lnTo>
                  <a:lnTo>
                    <a:pt x="1890" y="1619"/>
                  </a:lnTo>
                  <a:lnTo>
                    <a:pt x="1960" y="1608"/>
                  </a:lnTo>
                  <a:lnTo>
                    <a:pt x="2019" y="1599"/>
                  </a:lnTo>
                  <a:lnTo>
                    <a:pt x="2068" y="1592"/>
                  </a:lnTo>
                  <a:lnTo>
                    <a:pt x="2109" y="1586"/>
                  </a:lnTo>
                  <a:lnTo>
                    <a:pt x="2142" y="1582"/>
                  </a:lnTo>
                  <a:lnTo>
                    <a:pt x="2169" y="1578"/>
                  </a:lnTo>
                  <a:lnTo>
                    <a:pt x="2194" y="1576"/>
                  </a:lnTo>
                  <a:lnTo>
                    <a:pt x="2215" y="1573"/>
                  </a:lnTo>
                  <a:lnTo>
                    <a:pt x="2220" y="1572"/>
                  </a:lnTo>
                  <a:lnTo>
                    <a:pt x="2224" y="1570"/>
                  </a:lnTo>
                  <a:lnTo>
                    <a:pt x="2229" y="1568"/>
                  </a:lnTo>
                  <a:lnTo>
                    <a:pt x="2232" y="1565"/>
                  </a:lnTo>
                  <a:lnTo>
                    <a:pt x="2239" y="1558"/>
                  </a:lnTo>
                  <a:lnTo>
                    <a:pt x="2245" y="1549"/>
                  </a:lnTo>
                  <a:lnTo>
                    <a:pt x="2257" y="1529"/>
                  </a:lnTo>
                  <a:lnTo>
                    <a:pt x="2265" y="1509"/>
                  </a:lnTo>
                  <a:lnTo>
                    <a:pt x="2270" y="1499"/>
                  </a:lnTo>
                  <a:lnTo>
                    <a:pt x="2274" y="1490"/>
                  </a:lnTo>
                  <a:lnTo>
                    <a:pt x="2278" y="1482"/>
                  </a:lnTo>
                  <a:lnTo>
                    <a:pt x="2283" y="1478"/>
                  </a:lnTo>
                  <a:lnTo>
                    <a:pt x="2286" y="1475"/>
                  </a:lnTo>
                  <a:lnTo>
                    <a:pt x="2288" y="1474"/>
                  </a:lnTo>
                  <a:lnTo>
                    <a:pt x="2291" y="1473"/>
                  </a:lnTo>
                  <a:lnTo>
                    <a:pt x="2294" y="1473"/>
                  </a:lnTo>
                  <a:lnTo>
                    <a:pt x="2297" y="1474"/>
                  </a:lnTo>
                  <a:lnTo>
                    <a:pt x="2300" y="1475"/>
                  </a:lnTo>
                  <a:lnTo>
                    <a:pt x="2304" y="1478"/>
                  </a:lnTo>
                  <a:lnTo>
                    <a:pt x="2307" y="1481"/>
                  </a:lnTo>
                  <a:lnTo>
                    <a:pt x="2317" y="1488"/>
                  </a:lnTo>
                  <a:lnTo>
                    <a:pt x="2327" y="1495"/>
                  </a:lnTo>
                  <a:lnTo>
                    <a:pt x="2338" y="1500"/>
                  </a:lnTo>
                  <a:lnTo>
                    <a:pt x="2349" y="1502"/>
                  </a:lnTo>
                  <a:lnTo>
                    <a:pt x="2362" y="1505"/>
                  </a:lnTo>
                  <a:lnTo>
                    <a:pt x="2376" y="1506"/>
                  </a:lnTo>
                  <a:lnTo>
                    <a:pt x="2390" y="1507"/>
                  </a:lnTo>
                  <a:lnTo>
                    <a:pt x="2404" y="1507"/>
                  </a:lnTo>
                  <a:lnTo>
                    <a:pt x="2434" y="1505"/>
                  </a:lnTo>
                  <a:lnTo>
                    <a:pt x="2466" y="1503"/>
                  </a:lnTo>
                  <a:lnTo>
                    <a:pt x="2481" y="1502"/>
                  </a:lnTo>
                  <a:lnTo>
                    <a:pt x="2498" y="1502"/>
                  </a:lnTo>
                  <a:lnTo>
                    <a:pt x="2513" y="1503"/>
                  </a:lnTo>
                  <a:lnTo>
                    <a:pt x="2529" y="1505"/>
                  </a:lnTo>
                  <a:lnTo>
                    <a:pt x="2522" y="1496"/>
                  </a:lnTo>
                  <a:lnTo>
                    <a:pt x="2516" y="1489"/>
                  </a:lnTo>
                  <a:lnTo>
                    <a:pt x="2510" y="1481"/>
                  </a:lnTo>
                  <a:lnTo>
                    <a:pt x="2505" y="1473"/>
                  </a:lnTo>
                  <a:lnTo>
                    <a:pt x="2496" y="1457"/>
                  </a:lnTo>
                  <a:lnTo>
                    <a:pt x="2489" y="1440"/>
                  </a:lnTo>
                  <a:lnTo>
                    <a:pt x="2485" y="1424"/>
                  </a:lnTo>
                  <a:lnTo>
                    <a:pt x="2480" y="1406"/>
                  </a:lnTo>
                  <a:lnTo>
                    <a:pt x="2478" y="1390"/>
                  </a:lnTo>
                  <a:lnTo>
                    <a:pt x="2477" y="1374"/>
                  </a:lnTo>
                  <a:lnTo>
                    <a:pt x="2474" y="1342"/>
                  </a:lnTo>
                  <a:lnTo>
                    <a:pt x="2472" y="1313"/>
                  </a:lnTo>
                  <a:lnTo>
                    <a:pt x="2471" y="1300"/>
                  </a:lnTo>
                  <a:lnTo>
                    <a:pt x="2468" y="1290"/>
                  </a:lnTo>
                  <a:lnTo>
                    <a:pt x="2465" y="1279"/>
                  </a:lnTo>
                  <a:lnTo>
                    <a:pt x="2460" y="1271"/>
                  </a:lnTo>
                  <a:lnTo>
                    <a:pt x="2454" y="1263"/>
                  </a:lnTo>
                  <a:lnTo>
                    <a:pt x="2449" y="1256"/>
                  </a:lnTo>
                  <a:lnTo>
                    <a:pt x="2443" y="1250"/>
                  </a:lnTo>
                  <a:lnTo>
                    <a:pt x="2436" y="1245"/>
                  </a:lnTo>
                  <a:lnTo>
                    <a:pt x="2424" y="1238"/>
                  </a:lnTo>
                  <a:lnTo>
                    <a:pt x="2411" y="1232"/>
                  </a:lnTo>
                  <a:lnTo>
                    <a:pt x="2406" y="1229"/>
                  </a:lnTo>
                  <a:lnTo>
                    <a:pt x="2401" y="1225"/>
                  </a:lnTo>
                  <a:lnTo>
                    <a:pt x="2397" y="1222"/>
                  </a:lnTo>
                  <a:lnTo>
                    <a:pt x="2392" y="1218"/>
                  </a:lnTo>
                  <a:lnTo>
                    <a:pt x="2389" y="1214"/>
                  </a:lnTo>
                  <a:lnTo>
                    <a:pt x="2387" y="1208"/>
                  </a:lnTo>
                  <a:lnTo>
                    <a:pt x="2385" y="1201"/>
                  </a:lnTo>
                  <a:lnTo>
                    <a:pt x="2385" y="1193"/>
                  </a:lnTo>
                  <a:lnTo>
                    <a:pt x="2384" y="1183"/>
                  </a:lnTo>
                  <a:lnTo>
                    <a:pt x="2383" y="1173"/>
                  </a:lnTo>
                  <a:lnTo>
                    <a:pt x="2381" y="1161"/>
                  </a:lnTo>
                  <a:lnTo>
                    <a:pt x="2377" y="1149"/>
                  </a:lnTo>
                  <a:lnTo>
                    <a:pt x="2369" y="1121"/>
                  </a:lnTo>
                  <a:lnTo>
                    <a:pt x="2360" y="1093"/>
                  </a:lnTo>
                  <a:lnTo>
                    <a:pt x="2349" y="1064"/>
                  </a:lnTo>
                  <a:lnTo>
                    <a:pt x="2339" y="1037"/>
                  </a:lnTo>
                  <a:lnTo>
                    <a:pt x="2329" y="1012"/>
                  </a:lnTo>
                  <a:lnTo>
                    <a:pt x="2321" y="992"/>
                  </a:lnTo>
                  <a:lnTo>
                    <a:pt x="2319" y="981"/>
                  </a:lnTo>
                  <a:lnTo>
                    <a:pt x="2317" y="970"/>
                  </a:lnTo>
                  <a:lnTo>
                    <a:pt x="2314" y="957"/>
                  </a:lnTo>
                  <a:lnTo>
                    <a:pt x="2313" y="943"/>
                  </a:lnTo>
                  <a:lnTo>
                    <a:pt x="2300" y="923"/>
                  </a:lnTo>
                  <a:lnTo>
                    <a:pt x="2286" y="904"/>
                  </a:lnTo>
                  <a:lnTo>
                    <a:pt x="2270" y="888"/>
                  </a:lnTo>
                  <a:lnTo>
                    <a:pt x="2252" y="873"/>
                  </a:lnTo>
                  <a:lnTo>
                    <a:pt x="2234" y="859"/>
                  </a:lnTo>
                  <a:lnTo>
                    <a:pt x="2213" y="846"/>
                  </a:lnTo>
                  <a:lnTo>
                    <a:pt x="2192" y="833"/>
                  </a:lnTo>
                  <a:lnTo>
                    <a:pt x="2170" y="822"/>
                  </a:lnTo>
                  <a:lnTo>
                    <a:pt x="2147" y="813"/>
                  </a:lnTo>
                  <a:lnTo>
                    <a:pt x="2124" y="804"/>
                  </a:lnTo>
                  <a:lnTo>
                    <a:pt x="2100" y="795"/>
                  </a:lnTo>
                  <a:lnTo>
                    <a:pt x="2077" y="787"/>
                  </a:lnTo>
                  <a:lnTo>
                    <a:pt x="2029" y="773"/>
                  </a:lnTo>
                  <a:lnTo>
                    <a:pt x="1981" y="760"/>
                  </a:lnTo>
                  <a:lnTo>
                    <a:pt x="1960" y="755"/>
                  </a:lnTo>
                  <a:lnTo>
                    <a:pt x="1943" y="746"/>
                  </a:lnTo>
                  <a:lnTo>
                    <a:pt x="1926" y="738"/>
                  </a:lnTo>
                  <a:lnTo>
                    <a:pt x="1915" y="729"/>
                  </a:lnTo>
                  <a:lnTo>
                    <a:pt x="1903" y="718"/>
                  </a:lnTo>
                  <a:lnTo>
                    <a:pt x="1895" y="708"/>
                  </a:lnTo>
                  <a:lnTo>
                    <a:pt x="1888" y="695"/>
                  </a:lnTo>
                  <a:lnTo>
                    <a:pt x="1881" y="682"/>
                  </a:lnTo>
                  <a:lnTo>
                    <a:pt x="1870" y="655"/>
                  </a:lnTo>
                  <a:lnTo>
                    <a:pt x="1860" y="625"/>
                  </a:lnTo>
                  <a:lnTo>
                    <a:pt x="1854" y="610"/>
                  </a:lnTo>
                  <a:lnTo>
                    <a:pt x="1846" y="593"/>
                  </a:lnTo>
                  <a:lnTo>
                    <a:pt x="1838" y="576"/>
                  </a:lnTo>
                  <a:lnTo>
                    <a:pt x="1826" y="560"/>
                  </a:lnTo>
                  <a:lnTo>
                    <a:pt x="1793" y="547"/>
                  </a:lnTo>
                  <a:lnTo>
                    <a:pt x="1762" y="534"/>
                  </a:lnTo>
                  <a:lnTo>
                    <a:pt x="1732" y="520"/>
                  </a:lnTo>
                  <a:lnTo>
                    <a:pt x="1706" y="505"/>
                  </a:lnTo>
                  <a:lnTo>
                    <a:pt x="1680" y="489"/>
                  </a:lnTo>
                  <a:lnTo>
                    <a:pt x="1658" y="474"/>
                  </a:lnTo>
                  <a:lnTo>
                    <a:pt x="1637" y="459"/>
                  </a:lnTo>
                  <a:lnTo>
                    <a:pt x="1619" y="444"/>
                  </a:lnTo>
                  <a:lnTo>
                    <a:pt x="1589" y="417"/>
                  </a:lnTo>
                  <a:lnTo>
                    <a:pt x="1567" y="395"/>
                  </a:lnTo>
                  <a:lnTo>
                    <a:pt x="1554" y="381"/>
                  </a:lnTo>
                  <a:lnTo>
                    <a:pt x="1550" y="375"/>
                  </a:lnTo>
                  <a:lnTo>
                    <a:pt x="1394" y="329"/>
                  </a:lnTo>
                  <a:lnTo>
                    <a:pt x="104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7" name="Freeform 1464"/>
            <p:cNvSpPr/>
            <p:nvPr/>
          </p:nvSpPr>
          <p:spPr>
            <a:xfrm>
              <a:off x="5224680" y="5031360"/>
              <a:ext cx="455040" cy="261720"/>
            </a:xfrm>
            <a:custGeom>
              <a:avLst/>
              <a:gdLst>
                <a:gd name="textAreaLeft" fmla="*/ 0 w 455040"/>
                <a:gd name="textAreaRight" fmla="*/ 455400 w 455040"/>
                <a:gd name="textAreaTop" fmla="*/ 0 h 261720"/>
                <a:gd name="textAreaBottom" fmla="*/ 262080 h 261720"/>
              </a:gdLst>
              <a:ahLst/>
              <a:rect l="textAreaLeft" t="textAreaTop" r="textAreaRight" b="textAreaBottom"/>
              <a:pathLst>
                <a:path w="2529" h="1729">
                  <a:moveTo>
                    <a:pt x="1040" y="0"/>
                  </a:moveTo>
                  <a:lnTo>
                    <a:pt x="0" y="116"/>
                  </a:lnTo>
                  <a:lnTo>
                    <a:pt x="8" y="127"/>
                  </a:lnTo>
                  <a:lnTo>
                    <a:pt x="33" y="159"/>
                  </a:lnTo>
                  <a:lnTo>
                    <a:pt x="70" y="208"/>
                  </a:lnTo>
                  <a:lnTo>
                    <a:pt x="119" y="272"/>
                  </a:lnTo>
                  <a:lnTo>
                    <a:pt x="177" y="349"/>
                  </a:lnTo>
                  <a:lnTo>
                    <a:pt x="240" y="435"/>
                  </a:lnTo>
                  <a:lnTo>
                    <a:pt x="308" y="527"/>
                  </a:lnTo>
                  <a:lnTo>
                    <a:pt x="379" y="621"/>
                  </a:lnTo>
                  <a:lnTo>
                    <a:pt x="449" y="717"/>
                  </a:lnTo>
                  <a:lnTo>
                    <a:pt x="516" y="811"/>
                  </a:lnTo>
                  <a:lnTo>
                    <a:pt x="580" y="899"/>
                  </a:lnTo>
                  <a:lnTo>
                    <a:pt x="636" y="980"/>
                  </a:lnTo>
                  <a:lnTo>
                    <a:pt x="682" y="1049"/>
                  </a:lnTo>
                  <a:lnTo>
                    <a:pt x="719" y="1105"/>
                  </a:lnTo>
                  <a:lnTo>
                    <a:pt x="731" y="1127"/>
                  </a:lnTo>
                  <a:lnTo>
                    <a:pt x="741" y="1145"/>
                  </a:lnTo>
                  <a:lnTo>
                    <a:pt x="745" y="1156"/>
                  </a:lnTo>
                  <a:lnTo>
                    <a:pt x="747" y="1165"/>
                  </a:lnTo>
                  <a:lnTo>
                    <a:pt x="744" y="1175"/>
                  </a:lnTo>
                  <a:lnTo>
                    <a:pt x="744" y="1191"/>
                  </a:lnTo>
                  <a:lnTo>
                    <a:pt x="744" y="1211"/>
                  </a:lnTo>
                  <a:lnTo>
                    <a:pt x="748" y="1236"/>
                  </a:lnTo>
                  <a:lnTo>
                    <a:pt x="751" y="1263"/>
                  </a:lnTo>
                  <a:lnTo>
                    <a:pt x="757" y="1293"/>
                  </a:lnTo>
                  <a:lnTo>
                    <a:pt x="764" y="1325"/>
                  </a:lnTo>
                  <a:lnTo>
                    <a:pt x="773" y="1358"/>
                  </a:lnTo>
                  <a:lnTo>
                    <a:pt x="785" y="1392"/>
                  </a:lnTo>
                  <a:lnTo>
                    <a:pt x="798" y="1427"/>
                  </a:lnTo>
                  <a:lnTo>
                    <a:pt x="812" y="1461"/>
                  </a:lnTo>
                  <a:lnTo>
                    <a:pt x="829" y="1495"/>
                  </a:lnTo>
                  <a:lnTo>
                    <a:pt x="839" y="1512"/>
                  </a:lnTo>
                  <a:lnTo>
                    <a:pt x="848" y="1527"/>
                  </a:lnTo>
                  <a:lnTo>
                    <a:pt x="858" y="1543"/>
                  </a:lnTo>
                  <a:lnTo>
                    <a:pt x="868" y="1558"/>
                  </a:lnTo>
                  <a:lnTo>
                    <a:pt x="880" y="1572"/>
                  </a:lnTo>
                  <a:lnTo>
                    <a:pt x="891" y="1585"/>
                  </a:lnTo>
                  <a:lnTo>
                    <a:pt x="903" y="1598"/>
                  </a:lnTo>
                  <a:lnTo>
                    <a:pt x="916" y="1611"/>
                  </a:lnTo>
                  <a:lnTo>
                    <a:pt x="938" y="1628"/>
                  </a:lnTo>
                  <a:lnTo>
                    <a:pt x="958" y="1644"/>
                  </a:lnTo>
                  <a:lnTo>
                    <a:pt x="978" y="1658"/>
                  </a:lnTo>
                  <a:lnTo>
                    <a:pt x="997" y="1670"/>
                  </a:lnTo>
                  <a:lnTo>
                    <a:pt x="1015" y="1682"/>
                  </a:lnTo>
                  <a:lnTo>
                    <a:pt x="1033" y="1693"/>
                  </a:lnTo>
                  <a:lnTo>
                    <a:pt x="1050" y="1701"/>
                  </a:lnTo>
                  <a:lnTo>
                    <a:pt x="1068" y="1708"/>
                  </a:lnTo>
                  <a:lnTo>
                    <a:pt x="1085" y="1715"/>
                  </a:lnTo>
                  <a:lnTo>
                    <a:pt x="1103" y="1719"/>
                  </a:lnTo>
                  <a:lnTo>
                    <a:pt x="1120" y="1723"/>
                  </a:lnTo>
                  <a:lnTo>
                    <a:pt x="1139" y="1726"/>
                  </a:lnTo>
                  <a:lnTo>
                    <a:pt x="1159" y="1728"/>
                  </a:lnTo>
                  <a:lnTo>
                    <a:pt x="1179" y="1729"/>
                  </a:lnTo>
                  <a:lnTo>
                    <a:pt x="1200" y="1729"/>
                  </a:lnTo>
                  <a:lnTo>
                    <a:pt x="1222" y="1728"/>
                  </a:lnTo>
                  <a:lnTo>
                    <a:pt x="1272" y="1722"/>
                  </a:lnTo>
                  <a:lnTo>
                    <a:pt x="1328" y="1714"/>
                  </a:lnTo>
                  <a:lnTo>
                    <a:pt x="1393" y="1703"/>
                  </a:lnTo>
                  <a:lnTo>
                    <a:pt x="1467" y="1690"/>
                  </a:lnTo>
                  <a:lnTo>
                    <a:pt x="1553" y="1675"/>
                  </a:lnTo>
                  <a:lnTo>
                    <a:pt x="1651" y="1658"/>
                  </a:lnTo>
                  <a:lnTo>
                    <a:pt x="1763" y="1639"/>
                  </a:lnTo>
                  <a:lnTo>
                    <a:pt x="1890" y="1619"/>
                  </a:lnTo>
                  <a:lnTo>
                    <a:pt x="1960" y="1608"/>
                  </a:lnTo>
                  <a:lnTo>
                    <a:pt x="2019" y="1599"/>
                  </a:lnTo>
                  <a:lnTo>
                    <a:pt x="2068" y="1592"/>
                  </a:lnTo>
                  <a:lnTo>
                    <a:pt x="2109" y="1586"/>
                  </a:lnTo>
                  <a:lnTo>
                    <a:pt x="2142" y="1582"/>
                  </a:lnTo>
                  <a:lnTo>
                    <a:pt x="2169" y="1578"/>
                  </a:lnTo>
                  <a:lnTo>
                    <a:pt x="2194" y="1576"/>
                  </a:lnTo>
                  <a:lnTo>
                    <a:pt x="2215" y="1573"/>
                  </a:lnTo>
                  <a:lnTo>
                    <a:pt x="2220" y="1572"/>
                  </a:lnTo>
                  <a:lnTo>
                    <a:pt x="2224" y="1570"/>
                  </a:lnTo>
                  <a:lnTo>
                    <a:pt x="2229" y="1568"/>
                  </a:lnTo>
                  <a:lnTo>
                    <a:pt x="2232" y="1565"/>
                  </a:lnTo>
                  <a:lnTo>
                    <a:pt x="2239" y="1558"/>
                  </a:lnTo>
                  <a:lnTo>
                    <a:pt x="2245" y="1549"/>
                  </a:lnTo>
                  <a:lnTo>
                    <a:pt x="2257" y="1529"/>
                  </a:lnTo>
                  <a:lnTo>
                    <a:pt x="2265" y="1509"/>
                  </a:lnTo>
                  <a:lnTo>
                    <a:pt x="2270" y="1499"/>
                  </a:lnTo>
                  <a:lnTo>
                    <a:pt x="2274" y="1490"/>
                  </a:lnTo>
                  <a:lnTo>
                    <a:pt x="2278" y="1482"/>
                  </a:lnTo>
                  <a:lnTo>
                    <a:pt x="2283" y="1478"/>
                  </a:lnTo>
                  <a:lnTo>
                    <a:pt x="2286" y="1475"/>
                  </a:lnTo>
                  <a:lnTo>
                    <a:pt x="2288" y="1474"/>
                  </a:lnTo>
                  <a:lnTo>
                    <a:pt x="2291" y="1473"/>
                  </a:lnTo>
                  <a:lnTo>
                    <a:pt x="2294" y="1473"/>
                  </a:lnTo>
                  <a:lnTo>
                    <a:pt x="2297" y="1474"/>
                  </a:lnTo>
                  <a:lnTo>
                    <a:pt x="2300" y="1475"/>
                  </a:lnTo>
                  <a:lnTo>
                    <a:pt x="2304" y="1478"/>
                  </a:lnTo>
                  <a:lnTo>
                    <a:pt x="2307" y="1481"/>
                  </a:lnTo>
                  <a:lnTo>
                    <a:pt x="2317" y="1488"/>
                  </a:lnTo>
                  <a:lnTo>
                    <a:pt x="2327" y="1495"/>
                  </a:lnTo>
                  <a:lnTo>
                    <a:pt x="2338" y="1500"/>
                  </a:lnTo>
                  <a:lnTo>
                    <a:pt x="2349" y="1502"/>
                  </a:lnTo>
                  <a:lnTo>
                    <a:pt x="2362" y="1505"/>
                  </a:lnTo>
                  <a:lnTo>
                    <a:pt x="2376" y="1506"/>
                  </a:lnTo>
                  <a:lnTo>
                    <a:pt x="2390" y="1507"/>
                  </a:lnTo>
                  <a:lnTo>
                    <a:pt x="2404" y="1507"/>
                  </a:lnTo>
                  <a:lnTo>
                    <a:pt x="2434" y="1505"/>
                  </a:lnTo>
                  <a:lnTo>
                    <a:pt x="2466" y="1503"/>
                  </a:lnTo>
                  <a:lnTo>
                    <a:pt x="2481" y="1502"/>
                  </a:lnTo>
                  <a:lnTo>
                    <a:pt x="2498" y="1502"/>
                  </a:lnTo>
                  <a:lnTo>
                    <a:pt x="2513" y="1503"/>
                  </a:lnTo>
                  <a:lnTo>
                    <a:pt x="2529" y="1505"/>
                  </a:lnTo>
                  <a:lnTo>
                    <a:pt x="2522" y="1496"/>
                  </a:lnTo>
                  <a:lnTo>
                    <a:pt x="2516" y="1489"/>
                  </a:lnTo>
                  <a:lnTo>
                    <a:pt x="2510" y="1481"/>
                  </a:lnTo>
                  <a:lnTo>
                    <a:pt x="2505" y="1473"/>
                  </a:lnTo>
                  <a:lnTo>
                    <a:pt x="2496" y="1457"/>
                  </a:lnTo>
                  <a:lnTo>
                    <a:pt x="2489" y="1440"/>
                  </a:lnTo>
                  <a:lnTo>
                    <a:pt x="2485" y="1424"/>
                  </a:lnTo>
                  <a:lnTo>
                    <a:pt x="2480" y="1406"/>
                  </a:lnTo>
                  <a:lnTo>
                    <a:pt x="2478" y="1390"/>
                  </a:lnTo>
                  <a:lnTo>
                    <a:pt x="2477" y="1374"/>
                  </a:lnTo>
                  <a:lnTo>
                    <a:pt x="2474" y="1342"/>
                  </a:lnTo>
                  <a:lnTo>
                    <a:pt x="2472" y="1313"/>
                  </a:lnTo>
                  <a:lnTo>
                    <a:pt x="2471" y="1300"/>
                  </a:lnTo>
                  <a:lnTo>
                    <a:pt x="2468" y="1290"/>
                  </a:lnTo>
                  <a:lnTo>
                    <a:pt x="2465" y="1279"/>
                  </a:lnTo>
                  <a:lnTo>
                    <a:pt x="2460" y="1271"/>
                  </a:lnTo>
                  <a:lnTo>
                    <a:pt x="2454" y="1263"/>
                  </a:lnTo>
                  <a:lnTo>
                    <a:pt x="2449" y="1256"/>
                  </a:lnTo>
                  <a:lnTo>
                    <a:pt x="2443" y="1250"/>
                  </a:lnTo>
                  <a:lnTo>
                    <a:pt x="2436" y="1245"/>
                  </a:lnTo>
                  <a:lnTo>
                    <a:pt x="2424" y="1238"/>
                  </a:lnTo>
                  <a:lnTo>
                    <a:pt x="2411" y="1232"/>
                  </a:lnTo>
                  <a:lnTo>
                    <a:pt x="2406" y="1229"/>
                  </a:lnTo>
                  <a:lnTo>
                    <a:pt x="2401" y="1225"/>
                  </a:lnTo>
                  <a:lnTo>
                    <a:pt x="2397" y="1222"/>
                  </a:lnTo>
                  <a:lnTo>
                    <a:pt x="2392" y="1218"/>
                  </a:lnTo>
                  <a:lnTo>
                    <a:pt x="2389" y="1214"/>
                  </a:lnTo>
                  <a:lnTo>
                    <a:pt x="2387" y="1208"/>
                  </a:lnTo>
                  <a:lnTo>
                    <a:pt x="2385" y="1201"/>
                  </a:lnTo>
                  <a:lnTo>
                    <a:pt x="2385" y="1193"/>
                  </a:lnTo>
                  <a:lnTo>
                    <a:pt x="2384" y="1183"/>
                  </a:lnTo>
                  <a:lnTo>
                    <a:pt x="2383" y="1173"/>
                  </a:lnTo>
                  <a:lnTo>
                    <a:pt x="2381" y="1161"/>
                  </a:lnTo>
                  <a:lnTo>
                    <a:pt x="2377" y="1149"/>
                  </a:lnTo>
                  <a:lnTo>
                    <a:pt x="2369" y="1121"/>
                  </a:lnTo>
                  <a:lnTo>
                    <a:pt x="2360" y="1093"/>
                  </a:lnTo>
                  <a:lnTo>
                    <a:pt x="2349" y="1064"/>
                  </a:lnTo>
                  <a:lnTo>
                    <a:pt x="2339" y="1037"/>
                  </a:lnTo>
                  <a:lnTo>
                    <a:pt x="2329" y="1012"/>
                  </a:lnTo>
                  <a:lnTo>
                    <a:pt x="2321" y="992"/>
                  </a:lnTo>
                  <a:lnTo>
                    <a:pt x="2319" y="981"/>
                  </a:lnTo>
                  <a:lnTo>
                    <a:pt x="2317" y="970"/>
                  </a:lnTo>
                  <a:lnTo>
                    <a:pt x="2314" y="957"/>
                  </a:lnTo>
                  <a:lnTo>
                    <a:pt x="2313" y="943"/>
                  </a:lnTo>
                  <a:lnTo>
                    <a:pt x="2300" y="923"/>
                  </a:lnTo>
                  <a:lnTo>
                    <a:pt x="2286" y="904"/>
                  </a:lnTo>
                  <a:lnTo>
                    <a:pt x="2270" y="888"/>
                  </a:lnTo>
                  <a:lnTo>
                    <a:pt x="2252" y="873"/>
                  </a:lnTo>
                  <a:lnTo>
                    <a:pt x="2234" y="859"/>
                  </a:lnTo>
                  <a:lnTo>
                    <a:pt x="2213" y="846"/>
                  </a:lnTo>
                  <a:lnTo>
                    <a:pt x="2192" y="833"/>
                  </a:lnTo>
                  <a:lnTo>
                    <a:pt x="2170" y="822"/>
                  </a:lnTo>
                  <a:lnTo>
                    <a:pt x="2147" y="813"/>
                  </a:lnTo>
                  <a:lnTo>
                    <a:pt x="2124" y="804"/>
                  </a:lnTo>
                  <a:lnTo>
                    <a:pt x="2100" y="795"/>
                  </a:lnTo>
                  <a:lnTo>
                    <a:pt x="2077" y="787"/>
                  </a:lnTo>
                  <a:lnTo>
                    <a:pt x="2029" y="773"/>
                  </a:lnTo>
                  <a:lnTo>
                    <a:pt x="1981" y="760"/>
                  </a:lnTo>
                  <a:lnTo>
                    <a:pt x="1960" y="755"/>
                  </a:lnTo>
                  <a:lnTo>
                    <a:pt x="1943" y="746"/>
                  </a:lnTo>
                  <a:lnTo>
                    <a:pt x="1926" y="738"/>
                  </a:lnTo>
                  <a:lnTo>
                    <a:pt x="1915" y="729"/>
                  </a:lnTo>
                  <a:lnTo>
                    <a:pt x="1903" y="718"/>
                  </a:lnTo>
                  <a:lnTo>
                    <a:pt x="1895" y="708"/>
                  </a:lnTo>
                  <a:lnTo>
                    <a:pt x="1888" y="695"/>
                  </a:lnTo>
                  <a:lnTo>
                    <a:pt x="1881" y="682"/>
                  </a:lnTo>
                  <a:lnTo>
                    <a:pt x="1870" y="655"/>
                  </a:lnTo>
                  <a:lnTo>
                    <a:pt x="1860" y="625"/>
                  </a:lnTo>
                  <a:lnTo>
                    <a:pt x="1854" y="610"/>
                  </a:lnTo>
                  <a:lnTo>
                    <a:pt x="1846" y="593"/>
                  </a:lnTo>
                  <a:lnTo>
                    <a:pt x="1838" y="576"/>
                  </a:lnTo>
                  <a:lnTo>
                    <a:pt x="1826" y="560"/>
                  </a:lnTo>
                  <a:lnTo>
                    <a:pt x="1793" y="547"/>
                  </a:lnTo>
                  <a:lnTo>
                    <a:pt x="1762" y="534"/>
                  </a:lnTo>
                  <a:lnTo>
                    <a:pt x="1732" y="520"/>
                  </a:lnTo>
                  <a:lnTo>
                    <a:pt x="1706" y="505"/>
                  </a:lnTo>
                  <a:lnTo>
                    <a:pt x="1680" y="489"/>
                  </a:lnTo>
                  <a:lnTo>
                    <a:pt x="1658" y="474"/>
                  </a:lnTo>
                  <a:lnTo>
                    <a:pt x="1637" y="459"/>
                  </a:lnTo>
                  <a:lnTo>
                    <a:pt x="1619" y="444"/>
                  </a:lnTo>
                  <a:lnTo>
                    <a:pt x="1589" y="417"/>
                  </a:lnTo>
                  <a:lnTo>
                    <a:pt x="1567" y="395"/>
                  </a:lnTo>
                  <a:lnTo>
                    <a:pt x="1554" y="381"/>
                  </a:lnTo>
                  <a:lnTo>
                    <a:pt x="1550" y="375"/>
                  </a:lnTo>
                  <a:lnTo>
                    <a:pt x="1394" y="329"/>
                  </a:lnTo>
                  <a:lnTo>
                    <a:pt x="1040" y="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8" name="Freeform 1465"/>
            <p:cNvSpPr/>
            <p:nvPr/>
          </p:nvSpPr>
          <p:spPr>
            <a:xfrm>
              <a:off x="5217480" y="5254560"/>
              <a:ext cx="878040" cy="397080"/>
            </a:xfrm>
            <a:custGeom>
              <a:avLst/>
              <a:gdLst>
                <a:gd name="textAreaLeft" fmla="*/ 0 w 878040"/>
                <a:gd name="textAreaRight" fmla="*/ 878400 w 878040"/>
                <a:gd name="textAreaTop" fmla="*/ 0 h 397080"/>
                <a:gd name="textAreaBottom" fmla="*/ 397440 h 397080"/>
              </a:gdLst>
              <a:ahLst/>
              <a:rect l="textAreaLeft" t="textAreaTop" r="textAreaRight" b="textAreaBottom"/>
              <a:pathLst>
                <a:path w="4885" h="2626">
                  <a:moveTo>
                    <a:pt x="2572" y="32"/>
                  </a:moveTo>
                  <a:lnTo>
                    <a:pt x="2556" y="30"/>
                  </a:lnTo>
                  <a:lnTo>
                    <a:pt x="2541" y="29"/>
                  </a:lnTo>
                  <a:lnTo>
                    <a:pt x="2524" y="29"/>
                  </a:lnTo>
                  <a:lnTo>
                    <a:pt x="2509" y="30"/>
                  </a:lnTo>
                  <a:lnTo>
                    <a:pt x="2477" y="32"/>
                  </a:lnTo>
                  <a:lnTo>
                    <a:pt x="2447" y="34"/>
                  </a:lnTo>
                  <a:lnTo>
                    <a:pt x="2433" y="34"/>
                  </a:lnTo>
                  <a:lnTo>
                    <a:pt x="2419" y="33"/>
                  </a:lnTo>
                  <a:lnTo>
                    <a:pt x="2405" y="32"/>
                  </a:lnTo>
                  <a:lnTo>
                    <a:pt x="2392" y="29"/>
                  </a:lnTo>
                  <a:lnTo>
                    <a:pt x="2381" y="27"/>
                  </a:lnTo>
                  <a:lnTo>
                    <a:pt x="2370" y="22"/>
                  </a:lnTo>
                  <a:lnTo>
                    <a:pt x="2360" y="15"/>
                  </a:lnTo>
                  <a:lnTo>
                    <a:pt x="2350" y="8"/>
                  </a:lnTo>
                  <a:lnTo>
                    <a:pt x="2347" y="5"/>
                  </a:lnTo>
                  <a:lnTo>
                    <a:pt x="2343" y="2"/>
                  </a:lnTo>
                  <a:lnTo>
                    <a:pt x="2340" y="1"/>
                  </a:lnTo>
                  <a:lnTo>
                    <a:pt x="2337" y="0"/>
                  </a:lnTo>
                  <a:lnTo>
                    <a:pt x="2334" y="0"/>
                  </a:lnTo>
                  <a:lnTo>
                    <a:pt x="2331" y="1"/>
                  </a:lnTo>
                  <a:lnTo>
                    <a:pt x="2329" y="2"/>
                  </a:lnTo>
                  <a:lnTo>
                    <a:pt x="2326" y="5"/>
                  </a:lnTo>
                  <a:lnTo>
                    <a:pt x="2321" y="9"/>
                  </a:lnTo>
                  <a:lnTo>
                    <a:pt x="2317" y="17"/>
                  </a:lnTo>
                  <a:lnTo>
                    <a:pt x="2313" y="26"/>
                  </a:lnTo>
                  <a:lnTo>
                    <a:pt x="2308" y="36"/>
                  </a:lnTo>
                  <a:lnTo>
                    <a:pt x="2300" y="56"/>
                  </a:lnTo>
                  <a:lnTo>
                    <a:pt x="2288" y="76"/>
                  </a:lnTo>
                  <a:lnTo>
                    <a:pt x="2282" y="85"/>
                  </a:lnTo>
                  <a:lnTo>
                    <a:pt x="2275" y="92"/>
                  </a:lnTo>
                  <a:lnTo>
                    <a:pt x="2272" y="95"/>
                  </a:lnTo>
                  <a:lnTo>
                    <a:pt x="2267" y="97"/>
                  </a:lnTo>
                  <a:lnTo>
                    <a:pt x="2263" y="99"/>
                  </a:lnTo>
                  <a:lnTo>
                    <a:pt x="2258" y="100"/>
                  </a:lnTo>
                  <a:lnTo>
                    <a:pt x="2237" y="103"/>
                  </a:lnTo>
                  <a:lnTo>
                    <a:pt x="2212" y="105"/>
                  </a:lnTo>
                  <a:lnTo>
                    <a:pt x="2185" y="109"/>
                  </a:lnTo>
                  <a:lnTo>
                    <a:pt x="2152" y="113"/>
                  </a:lnTo>
                  <a:lnTo>
                    <a:pt x="2111" y="119"/>
                  </a:lnTo>
                  <a:lnTo>
                    <a:pt x="2062" y="126"/>
                  </a:lnTo>
                  <a:lnTo>
                    <a:pt x="2003" y="135"/>
                  </a:lnTo>
                  <a:lnTo>
                    <a:pt x="1933" y="146"/>
                  </a:lnTo>
                  <a:lnTo>
                    <a:pt x="1806" y="166"/>
                  </a:lnTo>
                  <a:lnTo>
                    <a:pt x="1694" y="185"/>
                  </a:lnTo>
                  <a:lnTo>
                    <a:pt x="1596" y="202"/>
                  </a:lnTo>
                  <a:lnTo>
                    <a:pt x="1510" y="217"/>
                  </a:lnTo>
                  <a:lnTo>
                    <a:pt x="1436" y="230"/>
                  </a:lnTo>
                  <a:lnTo>
                    <a:pt x="1371" y="241"/>
                  </a:lnTo>
                  <a:lnTo>
                    <a:pt x="1315" y="249"/>
                  </a:lnTo>
                  <a:lnTo>
                    <a:pt x="1265" y="255"/>
                  </a:lnTo>
                  <a:lnTo>
                    <a:pt x="1243" y="256"/>
                  </a:lnTo>
                  <a:lnTo>
                    <a:pt x="1222" y="256"/>
                  </a:lnTo>
                  <a:lnTo>
                    <a:pt x="1202" y="255"/>
                  </a:lnTo>
                  <a:lnTo>
                    <a:pt x="1182" y="253"/>
                  </a:lnTo>
                  <a:lnTo>
                    <a:pt x="1163" y="250"/>
                  </a:lnTo>
                  <a:lnTo>
                    <a:pt x="1146" y="246"/>
                  </a:lnTo>
                  <a:lnTo>
                    <a:pt x="1128" y="242"/>
                  </a:lnTo>
                  <a:lnTo>
                    <a:pt x="1111" y="235"/>
                  </a:lnTo>
                  <a:lnTo>
                    <a:pt x="1093" y="228"/>
                  </a:lnTo>
                  <a:lnTo>
                    <a:pt x="1076" y="220"/>
                  </a:lnTo>
                  <a:lnTo>
                    <a:pt x="1058" y="209"/>
                  </a:lnTo>
                  <a:lnTo>
                    <a:pt x="1040" y="197"/>
                  </a:lnTo>
                  <a:lnTo>
                    <a:pt x="1021" y="185"/>
                  </a:lnTo>
                  <a:lnTo>
                    <a:pt x="1001" y="171"/>
                  </a:lnTo>
                  <a:lnTo>
                    <a:pt x="981" y="155"/>
                  </a:lnTo>
                  <a:lnTo>
                    <a:pt x="959" y="138"/>
                  </a:lnTo>
                  <a:lnTo>
                    <a:pt x="0" y="230"/>
                  </a:lnTo>
                  <a:lnTo>
                    <a:pt x="12" y="238"/>
                  </a:lnTo>
                  <a:lnTo>
                    <a:pt x="24" y="251"/>
                  </a:lnTo>
                  <a:lnTo>
                    <a:pt x="37" y="265"/>
                  </a:lnTo>
                  <a:lnTo>
                    <a:pt x="49" y="283"/>
                  </a:lnTo>
                  <a:lnTo>
                    <a:pt x="62" y="301"/>
                  </a:lnTo>
                  <a:lnTo>
                    <a:pt x="73" y="322"/>
                  </a:lnTo>
                  <a:lnTo>
                    <a:pt x="84" y="343"/>
                  </a:lnTo>
                  <a:lnTo>
                    <a:pt x="95" y="367"/>
                  </a:lnTo>
                  <a:lnTo>
                    <a:pt x="104" y="390"/>
                  </a:lnTo>
                  <a:lnTo>
                    <a:pt x="112" y="415"/>
                  </a:lnTo>
                  <a:lnTo>
                    <a:pt x="118" y="439"/>
                  </a:lnTo>
                  <a:lnTo>
                    <a:pt x="124" y="463"/>
                  </a:lnTo>
                  <a:lnTo>
                    <a:pt x="126" y="486"/>
                  </a:lnTo>
                  <a:lnTo>
                    <a:pt x="127" y="508"/>
                  </a:lnTo>
                  <a:lnTo>
                    <a:pt x="127" y="519"/>
                  </a:lnTo>
                  <a:lnTo>
                    <a:pt x="127" y="529"/>
                  </a:lnTo>
                  <a:lnTo>
                    <a:pt x="126" y="540"/>
                  </a:lnTo>
                  <a:lnTo>
                    <a:pt x="124" y="549"/>
                  </a:lnTo>
                  <a:lnTo>
                    <a:pt x="183" y="543"/>
                  </a:lnTo>
                  <a:lnTo>
                    <a:pt x="244" y="537"/>
                  </a:lnTo>
                  <a:lnTo>
                    <a:pt x="305" y="531"/>
                  </a:lnTo>
                  <a:lnTo>
                    <a:pt x="366" y="527"/>
                  </a:lnTo>
                  <a:lnTo>
                    <a:pt x="426" y="522"/>
                  </a:lnTo>
                  <a:lnTo>
                    <a:pt x="487" y="519"/>
                  </a:lnTo>
                  <a:lnTo>
                    <a:pt x="548" y="515"/>
                  </a:lnTo>
                  <a:lnTo>
                    <a:pt x="606" y="513"/>
                  </a:lnTo>
                  <a:lnTo>
                    <a:pt x="665" y="510"/>
                  </a:lnTo>
                  <a:lnTo>
                    <a:pt x="721" y="510"/>
                  </a:lnTo>
                  <a:lnTo>
                    <a:pt x="776" y="509"/>
                  </a:lnTo>
                  <a:lnTo>
                    <a:pt x="829" y="510"/>
                  </a:lnTo>
                  <a:lnTo>
                    <a:pt x="881" y="513"/>
                  </a:lnTo>
                  <a:lnTo>
                    <a:pt x="930" y="515"/>
                  </a:lnTo>
                  <a:lnTo>
                    <a:pt x="976" y="519"/>
                  </a:lnTo>
                  <a:lnTo>
                    <a:pt x="1020" y="523"/>
                  </a:lnTo>
                  <a:lnTo>
                    <a:pt x="1030" y="527"/>
                  </a:lnTo>
                  <a:lnTo>
                    <a:pt x="1058" y="535"/>
                  </a:lnTo>
                  <a:lnTo>
                    <a:pt x="1077" y="542"/>
                  </a:lnTo>
                  <a:lnTo>
                    <a:pt x="1098" y="550"/>
                  </a:lnTo>
                  <a:lnTo>
                    <a:pt x="1120" y="559"/>
                  </a:lnTo>
                  <a:lnTo>
                    <a:pt x="1143" y="571"/>
                  </a:lnTo>
                  <a:lnTo>
                    <a:pt x="1167" y="583"/>
                  </a:lnTo>
                  <a:lnTo>
                    <a:pt x="1189" y="597"/>
                  </a:lnTo>
                  <a:lnTo>
                    <a:pt x="1200" y="605"/>
                  </a:lnTo>
                  <a:lnTo>
                    <a:pt x="1210" y="612"/>
                  </a:lnTo>
                  <a:lnTo>
                    <a:pt x="1219" y="620"/>
                  </a:lnTo>
                  <a:lnTo>
                    <a:pt x="1229" y="630"/>
                  </a:lnTo>
                  <a:lnTo>
                    <a:pt x="1237" y="638"/>
                  </a:lnTo>
                  <a:lnTo>
                    <a:pt x="1244" y="647"/>
                  </a:lnTo>
                  <a:lnTo>
                    <a:pt x="1251" y="658"/>
                  </a:lnTo>
                  <a:lnTo>
                    <a:pt x="1257" y="667"/>
                  </a:lnTo>
                  <a:lnTo>
                    <a:pt x="1261" y="677"/>
                  </a:lnTo>
                  <a:lnTo>
                    <a:pt x="1265" y="688"/>
                  </a:lnTo>
                  <a:lnTo>
                    <a:pt x="1266" y="700"/>
                  </a:lnTo>
                  <a:lnTo>
                    <a:pt x="1267" y="710"/>
                  </a:lnTo>
                  <a:lnTo>
                    <a:pt x="1268" y="722"/>
                  </a:lnTo>
                  <a:lnTo>
                    <a:pt x="1271" y="731"/>
                  </a:lnTo>
                  <a:lnTo>
                    <a:pt x="1274" y="738"/>
                  </a:lnTo>
                  <a:lnTo>
                    <a:pt x="1279" y="745"/>
                  </a:lnTo>
                  <a:lnTo>
                    <a:pt x="1286" y="750"/>
                  </a:lnTo>
                  <a:lnTo>
                    <a:pt x="1293" y="753"/>
                  </a:lnTo>
                  <a:lnTo>
                    <a:pt x="1301" y="757"/>
                  </a:lnTo>
                  <a:lnTo>
                    <a:pt x="1311" y="758"/>
                  </a:lnTo>
                  <a:lnTo>
                    <a:pt x="1321" y="758"/>
                  </a:lnTo>
                  <a:lnTo>
                    <a:pt x="1332" y="758"/>
                  </a:lnTo>
                  <a:lnTo>
                    <a:pt x="1343" y="757"/>
                  </a:lnTo>
                  <a:lnTo>
                    <a:pt x="1356" y="755"/>
                  </a:lnTo>
                  <a:lnTo>
                    <a:pt x="1381" y="749"/>
                  </a:lnTo>
                  <a:lnTo>
                    <a:pt x="1407" y="742"/>
                  </a:lnTo>
                  <a:lnTo>
                    <a:pt x="1433" y="732"/>
                  </a:lnTo>
                  <a:lnTo>
                    <a:pt x="1458" y="722"/>
                  </a:lnTo>
                  <a:lnTo>
                    <a:pt x="1482" y="711"/>
                  </a:lnTo>
                  <a:lnTo>
                    <a:pt x="1503" y="701"/>
                  </a:lnTo>
                  <a:lnTo>
                    <a:pt x="1535" y="686"/>
                  </a:lnTo>
                  <a:lnTo>
                    <a:pt x="1546" y="679"/>
                  </a:lnTo>
                  <a:lnTo>
                    <a:pt x="1639" y="494"/>
                  </a:lnTo>
                  <a:lnTo>
                    <a:pt x="1823" y="494"/>
                  </a:lnTo>
                  <a:lnTo>
                    <a:pt x="1979" y="616"/>
                  </a:lnTo>
                  <a:lnTo>
                    <a:pt x="2071" y="616"/>
                  </a:lnTo>
                  <a:lnTo>
                    <a:pt x="2258" y="771"/>
                  </a:lnTo>
                  <a:lnTo>
                    <a:pt x="2535" y="771"/>
                  </a:lnTo>
                  <a:lnTo>
                    <a:pt x="2531" y="791"/>
                  </a:lnTo>
                  <a:lnTo>
                    <a:pt x="2532" y="815"/>
                  </a:lnTo>
                  <a:lnTo>
                    <a:pt x="2537" y="843"/>
                  </a:lnTo>
                  <a:lnTo>
                    <a:pt x="2546" y="875"/>
                  </a:lnTo>
                  <a:lnTo>
                    <a:pt x="2559" y="910"/>
                  </a:lnTo>
                  <a:lnTo>
                    <a:pt x="2576" y="948"/>
                  </a:lnTo>
                  <a:lnTo>
                    <a:pt x="2595" y="989"/>
                  </a:lnTo>
                  <a:lnTo>
                    <a:pt x="2618" y="1033"/>
                  </a:lnTo>
                  <a:lnTo>
                    <a:pt x="2643" y="1079"/>
                  </a:lnTo>
                  <a:lnTo>
                    <a:pt x="2671" y="1126"/>
                  </a:lnTo>
                  <a:lnTo>
                    <a:pt x="2701" y="1175"/>
                  </a:lnTo>
                  <a:lnTo>
                    <a:pt x="2733" y="1225"/>
                  </a:lnTo>
                  <a:lnTo>
                    <a:pt x="2766" y="1277"/>
                  </a:lnTo>
                  <a:lnTo>
                    <a:pt x="2801" y="1328"/>
                  </a:lnTo>
                  <a:lnTo>
                    <a:pt x="2838" y="1381"/>
                  </a:lnTo>
                  <a:lnTo>
                    <a:pt x="2875" y="1432"/>
                  </a:lnTo>
                  <a:lnTo>
                    <a:pt x="2913" y="1483"/>
                  </a:lnTo>
                  <a:lnTo>
                    <a:pt x="2952" y="1534"/>
                  </a:lnTo>
                  <a:lnTo>
                    <a:pt x="2990" y="1583"/>
                  </a:lnTo>
                  <a:lnTo>
                    <a:pt x="3029" y="1631"/>
                  </a:lnTo>
                  <a:lnTo>
                    <a:pt x="3067" y="1677"/>
                  </a:lnTo>
                  <a:lnTo>
                    <a:pt x="3105" y="1721"/>
                  </a:lnTo>
                  <a:lnTo>
                    <a:pt x="3142" y="1763"/>
                  </a:lnTo>
                  <a:lnTo>
                    <a:pt x="3178" y="1802"/>
                  </a:lnTo>
                  <a:lnTo>
                    <a:pt x="3213" y="1837"/>
                  </a:lnTo>
                  <a:lnTo>
                    <a:pt x="3247" y="1870"/>
                  </a:lnTo>
                  <a:lnTo>
                    <a:pt x="3279" y="1899"/>
                  </a:lnTo>
                  <a:lnTo>
                    <a:pt x="3308" y="1925"/>
                  </a:lnTo>
                  <a:lnTo>
                    <a:pt x="3335" y="1945"/>
                  </a:lnTo>
                  <a:lnTo>
                    <a:pt x="3361" y="1961"/>
                  </a:lnTo>
                  <a:lnTo>
                    <a:pt x="3383" y="1972"/>
                  </a:lnTo>
                  <a:lnTo>
                    <a:pt x="3401" y="1978"/>
                  </a:lnTo>
                  <a:lnTo>
                    <a:pt x="3420" y="1981"/>
                  </a:lnTo>
                  <a:lnTo>
                    <a:pt x="3440" y="1986"/>
                  </a:lnTo>
                  <a:lnTo>
                    <a:pt x="3462" y="1990"/>
                  </a:lnTo>
                  <a:lnTo>
                    <a:pt x="3486" y="1997"/>
                  </a:lnTo>
                  <a:lnTo>
                    <a:pt x="3538" y="2014"/>
                  </a:lnTo>
                  <a:lnTo>
                    <a:pt x="3598" y="2035"/>
                  </a:lnTo>
                  <a:lnTo>
                    <a:pt x="3663" y="2059"/>
                  </a:lnTo>
                  <a:lnTo>
                    <a:pt x="3733" y="2090"/>
                  </a:lnTo>
                  <a:lnTo>
                    <a:pt x="3808" y="2124"/>
                  </a:lnTo>
                  <a:lnTo>
                    <a:pt x="3886" y="2162"/>
                  </a:lnTo>
                  <a:lnTo>
                    <a:pt x="3928" y="2182"/>
                  </a:lnTo>
                  <a:lnTo>
                    <a:pt x="3969" y="2204"/>
                  </a:lnTo>
                  <a:lnTo>
                    <a:pt x="4012" y="2227"/>
                  </a:lnTo>
                  <a:lnTo>
                    <a:pt x="4056" y="2251"/>
                  </a:lnTo>
                  <a:lnTo>
                    <a:pt x="4099" y="2277"/>
                  </a:lnTo>
                  <a:lnTo>
                    <a:pt x="4143" y="2302"/>
                  </a:lnTo>
                  <a:lnTo>
                    <a:pt x="4189" y="2330"/>
                  </a:lnTo>
                  <a:lnTo>
                    <a:pt x="4234" y="2358"/>
                  </a:lnTo>
                  <a:lnTo>
                    <a:pt x="4280" y="2389"/>
                  </a:lnTo>
                  <a:lnTo>
                    <a:pt x="4327" y="2419"/>
                  </a:lnTo>
                  <a:lnTo>
                    <a:pt x="4372" y="2451"/>
                  </a:lnTo>
                  <a:lnTo>
                    <a:pt x="4419" y="2483"/>
                  </a:lnTo>
                  <a:lnTo>
                    <a:pt x="4466" y="2517"/>
                  </a:lnTo>
                  <a:lnTo>
                    <a:pt x="4512" y="2552"/>
                  </a:lnTo>
                  <a:lnTo>
                    <a:pt x="4559" y="2588"/>
                  </a:lnTo>
                  <a:lnTo>
                    <a:pt x="4606" y="2626"/>
                  </a:lnTo>
                  <a:lnTo>
                    <a:pt x="4885" y="2410"/>
                  </a:lnTo>
                  <a:lnTo>
                    <a:pt x="4884" y="2390"/>
                  </a:lnTo>
                  <a:lnTo>
                    <a:pt x="4883" y="2369"/>
                  </a:lnTo>
                  <a:lnTo>
                    <a:pt x="4879" y="2349"/>
                  </a:lnTo>
                  <a:lnTo>
                    <a:pt x="4876" y="2328"/>
                  </a:lnTo>
                  <a:lnTo>
                    <a:pt x="4871" y="2307"/>
                  </a:lnTo>
                  <a:lnTo>
                    <a:pt x="4865" y="2287"/>
                  </a:lnTo>
                  <a:lnTo>
                    <a:pt x="4858" y="2266"/>
                  </a:lnTo>
                  <a:lnTo>
                    <a:pt x="4851" y="2246"/>
                  </a:lnTo>
                  <a:lnTo>
                    <a:pt x="4835" y="2206"/>
                  </a:lnTo>
                  <a:lnTo>
                    <a:pt x="4816" y="2168"/>
                  </a:lnTo>
                  <a:lnTo>
                    <a:pt x="4797" y="2132"/>
                  </a:lnTo>
                  <a:lnTo>
                    <a:pt x="4776" y="2097"/>
                  </a:lnTo>
                  <a:lnTo>
                    <a:pt x="4756" y="2065"/>
                  </a:lnTo>
                  <a:lnTo>
                    <a:pt x="4737" y="2036"/>
                  </a:lnTo>
                  <a:lnTo>
                    <a:pt x="4719" y="2010"/>
                  </a:lnTo>
                  <a:lnTo>
                    <a:pt x="4703" y="1988"/>
                  </a:lnTo>
                  <a:lnTo>
                    <a:pt x="4678" y="1958"/>
                  </a:lnTo>
                  <a:lnTo>
                    <a:pt x="4669" y="1946"/>
                  </a:lnTo>
                  <a:lnTo>
                    <a:pt x="4657" y="1924"/>
                  </a:lnTo>
                  <a:lnTo>
                    <a:pt x="4641" y="1898"/>
                  </a:lnTo>
                  <a:lnTo>
                    <a:pt x="4621" y="1869"/>
                  </a:lnTo>
                  <a:lnTo>
                    <a:pt x="4595" y="1836"/>
                  </a:lnTo>
                  <a:lnTo>
                    <a:pt x="4567" y="1800"/>
                  </a:lnTo>
                  <a:lnTo>
                    <a:pt x="4535" y="1763"/>
                  </a:lnTo>
                  <a:lnTo>
                    <a:pt x="4498" y="1722"/>
                  </a:lnTo>
                  <a:lnTo>
                    <a:pt x="4460" y="1678"/>
                  </a:lnTo>
                  <a:lnTo>
                    <a:pt x="4419" y="1634"/>
                  </a:lnTo>
                  <a:lnTo>
                    <a:pt x="4375" y="1587"/>
                  </a:lnTo>
                  <a:lnTo>
                    <a:pt x="4328" y="1538"/>
                  </a:lnTo>
                  <a:lnTo>
                    <a:pt x="4280" y="1489"/>
                  </a:lnTo>
                  <a:lnTo>
                    <a:pt x="4178" y="1389"/>
                  </a:lnTo>
                  <a:lnTo>
                    <a:pt x="4073" y="1286"/>
                  </a:lnTo>
                  <a:lnTo>
                    <a:pt x="3965" y="1183"/>
                  </a:lnTo>
                  <a:lnTo>
                    <a:pt x="3857" y="1084"/>
                  </a:lnTo>
                  <a:lnTo>
                    <a:pt x="3752" y="988"/>
                  </a:lnTo>
                  <a:lnTo>
                    <a:pt x="3650" y="899"/>
                  </a:lnTo>
                  <a:lnTo>
                    <a:pt x="3557" y="818"/>
                  </a:lnTo>
                  <a:lnTo>
                    <a:pt x="3472" y="748"/>
                  </a:lnTo>
                  <a:lnTo>
                    <a:pt x="3433" y="717"/>
                  </a:lnTo>
                  <a:lnTo>
                    <a:pt x="3398" y="690"/>
                  </a:lnTo>
                  <a:lnTo>
                    <a:pt x="3366" y="667"/>
                  </a:lnTo>
                  <a:lnTo>
                    <a:pt x="3338" y="647"/>
                  </a:lnTo>
                  <a:lnTo>
                    <a:pt x="3285" y="611"/>
                  </a:lnTo>
                  <a:lnTo>
                    <a:pt x="3231" y="571"/>
                  </a:lnTo>
                  <a:lnTo>
                    <a:pt x="3175" y="528"/>
                  </a:lnTo>
                  <a:lnTo>
                    <a:pt x="3119" y="484"/>
                  </a:lnTo>
                  <a:lnTo>
                    <a:pt x="3062" y="438"/>
                  </a:lnTo>
                  <a:lnTo>
                    <a:pt x="3007" y="391"/>
                  </a:lnTo>
                  <a:lnTo>
                    <a:pt x="2952" y="346"/>
                  </a:lnTo>
                  <a:lnTo>
                    <a:pt x="2900" y="300"/>
                  </a:lnTo>
                  <a:lnTo>
                    <a:pt x="2803" y="217"/>
                  </a:lnTo>
                  <a:lnTo>
                    <a:pt x="2722" y="146"/>
                  </a:lnTo>
                  <a:lnTo>
                    <a:pt x="2689" y="118"/>
                  </a:lnTo>
                  <a:lnTo>
                    <a:pt x="2661" y="95"/>
                  </a:lnTo>
                  <a:lnTo>
                    <a:pt x="2639" y="78"/>
                  </a:lnTo>
                  <a:lnTo>
                    <a:pt x="2624" y="69"/>
                  </a:lnTo>
                  <a:lnTo>
                    <a:pt x="2609" y="60"/>
                  </a:lnTo>
                  <a:lnTo>
                    <a:pt x="2595" y="50"/>
                  </a:lnTo>
                  <a:lnTo>
                    <a:pt x="2584" y="41"/>
                  </a:lnTo>
                  <a:lnTo>
                    <a:pt x="2572" y="3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59" name="Freeform 1466"/>
            <p:cNvSpPr/>
            <p:nvPr/>
          </p:nvSpPr>
          <p:spPr>
            <a:xfrm>
              <a:off x="5217480" y="5254560"/>
              <a:ext cx="878040" cy="397080"/>
            </a:xfrm>
            <a:custGeom>
              <a:avLst/>
              <a:gdLst>
                <a:gd name="textAreaLeft" fmla="*/ 0 w 878040"/>
                <a:gd name="textAreaRight" fmla="*/ 878400 w 878040"/>
                <a:gd name="textAreaTop" fmla="*/ 0 h 397080"/>
                <a:gd name="textAreaBottom" fmla="*/ 397440 h 397080"/>
              </a:gdLst>
              <a:ahLst/>
              <a:rect l="textAreaLeft" t="textAreaTop" r="textAreaRight" b="textAreaBottom"/>
              <a:pathLst>
                <a:path w="4885" h="2626">
                  <a:moveTo>
                    <a:pt x="2572" y="32"/>
                  </a:moveTo>
                  <a:lnTo>
                    <a:pt x="2556" y="30"/>
                  </a:lnTo>
                  <a:lnTo>
                    <a:pt x="2541" y="29"/>
                  </a:lnTo>
                  <a:lnTo>
                    <a:pt x="2524" y="29"/>
                  </a:lnTo>
                  <a:lnTo>
                    <a:pt x="2509" y="30"/>
                  </a:lnTo>
                  <a:lnTo>
                    <a:pt x="2477" y="32"/>
                  </a:lnTo>
                  <a:lnTo>
                    <a:pt x="2447" y="34"/>
                  </a:lnTo>
                  <a:lnTo>
                    <a:pt x="2433" y="34"/>
                  </a:lnTo>
                  <a:lnTo>
                    <a:pt x="2419" y="33"/>
                  </a:lnTo>
                  <a:lnTo>
                    <a:pt x="2405" y="32"/>
                  </a:lnTo>
                  <a:lnTo>
                    <a:pt x="2392" y="29"/>
                  </a:lnTo>
                  <a:lnTo>
                    <a:pt x="2381" y="27"/>
                  </a:lnTo>
                  <a:lnTo>
                    <a:pt x="2370" y="22"/>
                  </a:lnTo>
                  <a:lnTo>
                    <a:pt x="2360" y="15"/>
                  </a:lnTo>
                  <a:lnTo>
                    <a:pt x="2350" y="8"/>
                  </a:lnTo>
                  <a:lnTo>
                    <a:pt x="2347" y="5"/>
                  </a:lnTo>
                  <a:lnTo>
                    <a:pt x="2343" y="2"/>
                  </a:lnTo>
                  <a:lnTo>
                    <a:pt x="2340" y="1"/>
                  </a:lnTo>
                  <a:lnTo>
                    <a:pt x="2337" y="0"/>
                  </a:lnTo>
                  <a:lnTo>
                    <a:pt x="2334" y="0"/>
                  </a:lnTo>
                  <a:lnTo>
                    <a:pt x="2331" y="1"/>
                  </a:lnTo>
                  <a:lnTo>
                    <a:pt x="2329" y="2"/>
                  </a:lnTo>
                  <a:lnTo>
                    <a:pt x="2326" y="5"/>
                  </a:lnTo>
                  <a:lnTo>
                    <a:pt x="2321" y="9"/>
                  </a:lnTo>
                  <a:lnTo>
                    <a:pt x="2317" y="17"/>
                  </a:lnTo>
                  <a:lnTo>
                    <a:pt x="2313" y="26"/>
                  </a:lnTo>
                  <a:lnTo>
                    <a:pt x="2308" y="36"/>
                  </a:lnTo>
                  <a:lnTo>
                    <a:pt x="2300" y="56"/>
                  </a:lnTo>
                  <a:lnTo>
                    <a:pt x="2288" y="76"/>
                  </a:lnTo>
                  <a:lnTo>
                    <a:pt x="2282" y="85"/>
                  </a:lnTo>
                  <a:lnTo>
                    <a:pt x="2275" y="92"/>
                  </a:lnTo>
                  <a:lnTo>
                    <a:pt x="2272" y="95"/>
                  </a:lnTo>
                  <a:lnTo>
                    <a:pt x="2267" y="97"/>
                  </a:lnTo>
                  <a:lnTo>
                    <a:pt x="2263" y="99"/>
                  </a:lnTo>
                  <a:lnTo>
                    <a:pt x="2258" y="100"/>
                  </a:lnTo>
                  <a:lnTo>
                    <a:pt x="2237" y="103"/>
                  </a:lnTo>
                  <a:lnTo>
                    <a:pt x="2212" y="105"/>
                  </a:lnTo>
                  <a:lnTo>
                    <a:pt x="2185" y="109"/>
                  </a:lnTo>
                  <a:lnTo>
                    <a:pt x="2152" y="113"/>
                  </a:lnTo>
                  <a:lnTo>
                    <a:pt x="2111" y="119"/>
                  </a:lnTo>
                  <a:lnTo>
                    <a:pt x="2062" y="126"/>
                  </a:lnTo>
                  <a:lnTo>
                    <a:pt x="2003" y="135"/>
                  </a:lnTo>
                  <a:lnTo>
                    <a:pt x="1933" y="146"/>
                  </a:lnTo>
                  <a:lnTo>
                    <a:pt x="1806" y="166"/>
                  </a:lnTo>
                  <a:lnTo>
                    <a:pt x="1694" y="185"/>
                  </a:lnTo>
                  <a:lnTo>
                    <a:pt x="1596" y="202"/>
                  </a:lnTo>
                  <a:lnTo>
                    <a:pt x="1510" y="217"/>
                  </a:lnTo>
                  <a:lnTo>
                    <a:pt x="1436" y="230"/>
                  </a:lnTo>
                  <a:lnTo>
                    <a:pt x="1371" y="241"/>
                  </a:lnTo>
                  <a:lnTo>
                    <a:pt x="1315" y="249"/>
                  </a:lnTo>
                  <a:lnTo>
                    <a:pt x="1265" y="255"/>
                  </a:lnTo>
                  <a:lnTo>
                    <a:pt x="1243" y="256"/>
                  </a:lnTo>
                  <a:lnTo>
                    <a:pt x="1222" y="256"/>
                  </a:lnTo>
                  <a:lnTo>
                    <a:pt x="1202" y="255"/>
                  </a:lnTo>
                  <a:lnTo>
                    <a:pt x="1182" y="253"/>
                  </a:lnTo>
                  <a:lnTo>
                    <a:pt x="1163" y="250"/>
                  </a:lnTo>
                  <a:lnTo>
                    <a:pt x="1146" y="246"/>
                  </a:lnTo>
                  <a:lnTo>
                    <a:pt x="1128" y="242"/>
                  </a:lnTo>
                  <a:lnTo>
                    <a:pt x="1111" y="235"/>
                  </a:lnTo>
                  <a:lnTo>
                    <a:pt x="1093" y="228"/>
                  </a:lnTo>
                  <a:lnTo>
                    <a:pt x="1076" y="220"/>
                  </a:lnTo>
                  <a:lnTo>
                    <a:pt x="1058" y="209"/>
                  </a:lnTo>
                  <a:lnTo>
                    <a:pt x="1040" y="197"/>
                  </a:lnTo>
                  <a:lnTo>
                    <a:pt x="1021" y="185"/>
                  </a:lnTo>
                  <a:lnTo>
                    <a:pt x="1001" y="171"/>
                  </a:lnTo>
                  <a:lnTo>
                    <a:pt x="981" y="155"/>
                  </a:lnTo>
                  <a:lnTo>
                    <a:pt x="959" y="138"/>
                  </a:lnTo>
                  <a:lnTo>
                    <a:pt x="0" y="230"/>
                  </a:lnTo>
                  <a:lnTo>
                    <a:pt x="12" y="238"/>
                  </a:lnTo>
                  <a:lnTo>
                    <a:pt x="24" y="251"/>
                  </a:lnTo>
                  <a:lnTo>
                    <a:pt x="37" y="265"/>
                  </a:lnTo>
                  <a:lnTo>
                    <a:pt x="49" y="283"/>
                  </a:lnTo>
                  <a:lnTo>
                    <a:pt x="62" y="301"/>
                  </a:lnTo>
                  <a:lnTo>
                    <a:pt x="73" y="322"/>
                  </a:lnTo>
                  <a:lnTo>
                    <a:pt x="84" y="343"/>
                  </a:lnTo>
                  <a:lnTo>
                    <a:pt x="95" y="367"/>
                  </a:lnTo>
                  <a:lnTo>
                    <a:pt x="104" y="390"/>
                  </a:lnTo>
                  <a:lnTo>
                    <a:pt x="112" y="415"/>
                  </a:lnTo>
                  <a:lnTo>
                    <a:pt x="118" y="439"/>
                  </a:lnTo>
                  <a:lnTo>
                    <a:pt x="124" y="463"/>
                  </a:lnTo>
                  <a:lnTo>
                    <a:pt x="126" y="486"/>
                  </a:lnTo>
                  <a:lnTo>
                    <a:pt x="127" y="508"/>
                  </a:lnTo>
                  <a:lnTo>
                    <a:pt x="127" y="519"/>
                  </a:lnTo>
                  <a:lnTo>
                    <a:pt x="127" y="529"/>
                  </a:lnTo>
                  <a:lnTo>
                    <a:pt x="126" y="540"/>
                  </a:lnTo>
                  <a:lnTo>
                    <a:pt x="124" y="549"/>
                  </a:lnTo>
                  <a:lnTo>
                    <a:pt x="183" y="543"/>
                  </a:lnTo>
                  <a:lnTo>
                    <a:pt x="244" y="537"/>
                  </a:lnTo>
                  <a:lnTo>
                    <a:pt x="305" y="531"/>
                  </a:lnTo>
                  <a:lnTo>
                    <a:pt x="366" y="527"/>
                  </a:lnTo>
                  <a:lnTo>
                    <a:pt x="426" y="522"/>
                  </a:lnTo>
                  <a:lnTo>
                    <a:pt x="487" y="519"/>
                  </a:lnTo>
                  <a:lnTo>
                    <a:pt x="548" y="515"/>
                  </a:lnTo>
                  <a:lnTo>
                    <a:pt x="606" y="513"/>
                  </a:lnTo>
                  <a:lnTo>
                    <a:pt x="665" y="510"/>
                  </a:lnTo>
                  <a:lnTo>
                    <a:pt x="721" y="510"/>
                  </a:lnTo>
                  <a:lnTo>
                    <a:pt x="776" y="509"/>
                  </a:lnTo>
                  <a:lnTo>
                    <a:pt x="829" y="510"/>
                  </a:lnTo>
                  <a:lnTo>
                    <a:pt x="881" y="513"/>
                  </a:lnTo>
                  <a:lnTo>
                    <a:pt x="930" y="515"/>
                  </a:lnTo>
                  <a:lnTo>
                    <a:pt x="976" y="519"/>
                  </a:lnTo>
                  <a:lnTo>
                    <a:pt x="1020" y="523"/>
                  </a:lnTo>
                  <a:lnTo>
                    <a:pt x="1030" y="527"/>
                  </a:lnTo>
                  <a:lnTo>
                    <a:pt x="1058" y="535"/>
                  </a:lnTo>
                  <a:lnTo>
                    <a:pt x="1077" y="542"/>
                  </a:lnTo>
                  <a:lnTo>
                    <a:pt x="1098" y="550"/>
                  </a:lnTo>
                  <a:lnTo>
                    <a:pt x="1120" y="559"/>
                  </a:lnTo>
                  <a:lnTo>
                    <a:pt x="1143" y="571"/>
                  </a:lnTo>
                  <a:lnTo>
                    <a:pt x="1167" y="583"/>
                  </a:lnTo>
                  <a:lnTo>
                    <a:pt x="1189" y="597"/>
                  </a:lnTo>
                  <a:lnTo>
                    <a:pt x="1200" y="605"/>
                  </a:lnTo>
                  <a:lnTo>
                    <a:pt x="1210" y="612"/>
                  </a:lnTo>
                  <a:lnTo>
                    <a:pt x="1219" y="620"/>
                  </a:lnTo>
                  <a:lnTo>
                    <a:pt x="1229" y="630"/>
                  </a:lnTo>
                  <a:lnTo>
                    <a:pt x="1237" y="638"/>
                  </a:lnTo>
                  <a:lnTo>
                    <a:pt x="1244" y="647"/>
                  </a:lnTo>
                  <a:lnTo>
                    <a:pt x="1251" y="658"/>
                  </a:lnTo>
                  <a:lnTo>
                    <a:pt x="1257" y="667"/>
                  </a:lnTo>
                  <a:lnTo>
                    <a:pt x="1261" y="677"/>
                  </a:lnTo>
                  <a:lnTo>
                    <a:pt x="1265" y="688"/>
                  </a:lnTo>
                  <a:lnTo>
                    <a:pt x="1266" y="700"/>
                  </a:lnTo>
                  <a:lnTo>
                    <a:pt x="1267" y="710"/>
                  </a:lnTo>
                  <a:lnTo>
                    <a:pt x="1268" y="722"/>
                  </a:lnTo>
                  <a:lnTo>
                    <a:pt x="1271" y="731"/>
                  </a:lnTo>
                  <a:lnTo>
                    <a:pt x="1274" y="738"/>
                  </a:lnTo>
                  <a:lnTo>
                    <a:pt x="1279" y="745"/>
                  </a:lnTo>
                  <a:lnTo>
                    <a:pt x="1286" y="750"/>
                  </a:lnTo>
                  <a:lnTo>
                    <a:pt x="1293" y="753"/>
                  </a:lnTo>
                  <a:lnTo>
                    <a:pt x="1301" y="757"/>
                  </a:lnTo>
                  <a:lnTo>
                    <a:pt x="1311" y="758"/>
                  </a:lnTo>
                  <a:lnTo>
                    <a:pt x="1321" y="758"/>
                  </a:lnTo>
                  <a:lnTo>
                    <a:pt x="1332" y="758"/>
                  </a:lnTo>
                  <a:lnTo>
                    <a:pt x="1343" y="757"/>
                  </a:lnTo>
                  <a:lnTo>
                    <a:pt x="1356" y="755"/>
                  </a:lnTo>
                  <a:lnTo>
                    <a:pt x="1381" y="749"/>
                  </a:lnTo>
                  <a:lnTo>
                    <a:pt x="1407" y="742"/>
                  </a:lnTo>
                  <a:lnTo>
                    <a:pt x="1433" y="732"/>
                  </a:lnTo>
                  <a:lnTo>
                    <a:pt x="1458" y="722"/>
                  </a:lnTo>
                  <a:lnTo>
                    <a:pt x="1482" y="711"/>
                  </a:lnTo>
                  <a:lnTo>
                    <a:pt x="1503" y="701"/>
                  </a:lnTo>
                  <a:lnTo>
                    <a:pt x="1535" y="686"/>
                  </a:lnTo>
                  <a:lnTo>
                    <a:pt x="1546" y="679"/>
                  </a:lnTo>
                  <a:lnTo>
                    <a:pt x="1639" y="494"/>
                  </a:lnTo>
                  <a:lnTo>
                    <a:pt x="1823" y="494"/>
                  </a:lnTo>
                  <a:lnTo>
                    <a:pt x="1979" y="616"/>
                  </a:lnTo>
                  <a:lnTo>
                    <a:pt x="2071" y="616"/>
                  </a:lnTo>
                  <a:lnTo>
                    <a:pt x="2258" y="771"/>
                  </a:lnTo>
                  <a:lnTo>
                    <a:pt x="2535" y="771"/>
                  </a:lnTo>
                  <a:lnTo>
                    <a:pt x="2531" y="791"/>
                  </a:lnTo>
                  <a:lnTo>
                    <a:pt x="2532" y="815"/>
                  </a:lnTo>
                  <a:lnTo>
                    <a:pt x="2537" y="843"/>
                  </a:lnTo>
                  <a:lnTo>
                    <a:pt x="2546" y="875"/>
                  </a:lnTo>
                  <a:lnTo>
                    <a:pt x="2559" y="910"/>
                  </a:lnTo>
                  <a:lnTo>
                    <a:pt x="2576" y="948"/>
                  </a:lnTo>
                  <a:lnTo>
                    <a:pt x="2595" y="989"/>
                  </a:lnTo>
                  <a:lnTo>
                    <a:pt x="2618" y="1033"/>
                  </a:lnTo>
                  <a:lnTo>
                    <a:pt x="2643" y="1079"/>
                  </a:lnTo>
                  <a:lnTo>
                    <a:pt x="2671" y="1126"/>
                  </a:lnTo>
                  <a:lnTo>
                    <a:pt x="2701" y="1175"/>
                  </a:lnTo>
                  <a:lnTo>
                    <a:pt x="2733" y="1225"/>
                  </a:lnTo>
                  <a:lnTo>
                    <a:pt x="2766" y="1277"/>
                  </a:lnTo>
                  <a:lnTo>
                    <a:pt x="2801" y="1328"/>
                  </a:lnTo>
                  <a:lnTo>
                    <a:pt x="2838" y="1381"/>
                  </a:lnTo>
                  <a:lnTo>
                    <a:pt x="2875" y="1432"/>
                  </a:lnTo>
                  <a:lnTo>
                    <a:pt x="2913" y="1483"/>
                  </a:lnTo>
                  <a:lnTo>
                    <a:pt x="2952" y="1534"/>
                  </a:lnTo>
                  <a:lnTo>
                    <a:pt x="2990" y="1583"/>
                  </a:lnTo>
                  <a:lnTo>
                    <a:pt x="3029" y="1631"/>
                  </a:lnTo>
                  <a:lnTo>
                    <a:pt x="3067" y="1677"/>
                  </a:lnTo>
                  <a:lnTo>
                    <a:pt x="3105" y="1721"/>
                  </a:lnTo>
                  <a:lnTo>
                    <a:pt x="3142" y="1763"/>
                  </a:lnTo>
                  <a:lnTo>
                    <a:pt x="3178" y="1802"/>
                  </a:lnTo>
                  <a:lnTo>
                    <a:pt x="3213" y="1837"/>
                  </a:lnTo>
                  <a:lnTo>
                    <a:pt x="3247" y="1870"/>
                  </a:lnTo>
                  <a:lnTo>
                    <a:pt x="3279" y="1899"/>
                  </a:lnTo>
                  <a:lnTo>
                    <a:pt x="3308" y="1925"/>
                  </a:lnTo>
                  <a:lnTo>
                    <a:pt x="3335" y="1945"/>
                  </a:lnTo>
                  <a:lnTo>
                    <a:pt x="3361" y="1961"/>
                  </a:lnTo>
                  <a:lnTo>
                    <a:pt x="3383" y="1972"/>
                  </a:lnTo>
                  <a:lnTo>
                    <a:pt x="3401" y="1978"/>
                  </a:lnTo>
                  <a:lnTo>
                    <a:pt x="3420" y="1981"/>
                  </a:lnTo>
                  <a:lnTo>
                    <a:pt x="3440" y="1986"/>
                  </a:lnTo>
                  <a:lnTo>
                    <a:pt x="3462" y="1990"/>
                  </a:lnTo>
                  <a:lnTo>
                    <a:pt x="3486" y="1997"/>
                  </a:lnTo>
                  <a:lnTo>
                    <a:pt x="3538" y="2014"/>
                  </a:lnTo>
                  <a:lnTo>
                    <a:pt x="3598" y="2035"/>
                  </a:lnTo>
                  <a:lnTo>
                    <a:pt x="3663" y="2059"/>
                  </a:lnTo>
                  <a:lnTo>
                    <a:pt x="3733" y="2090"/>
                  </a:lnTo>
                  <a:lnTo>
                    <a:pt x="3808" y="2124"/>
                  </a:lnTo>
                  <a:lnTo>
                    <a:pt x="3886" y="2162"/>
                  </a:lnTo>
                  <a:lnTo>
                    <a:pt x="3928" y="2182"/>
                  </a:lnTo>
                  <a:lnTo>
                    <a:pt x="3969" y="2204"/>
                  </a:lnTo>
                  <a:lnTo>
                    <a:pt x="4012" y="2227"/>
                  </a:lnTo>
                  <a:lnTo>
                    <a:pt x="4056" y="2251"/>
                  </a:lnTo>
                  <a:lnTo>
                    <a:pt x="4099" y="2277"/>
                  </a:lnTo>
                  <a:lnTo>
                    <a:pt x="4143" y="2302"/>
                  </a:lnTo>
                  <a:lnTo>
                    <a:pt x="4189" y="2330"/>
                  </a:lnTo>
                  <a:lnTo>
                    <a:pt x="4234" y="2358"/>
                  </a:lnTo>
                  <a:lnTo>
                    <a:pt x="4280" y="2389"/>
                  </a:lnTo>
                  <a:lnTo>
                    <a:pt x="4327" y="2419"/>
                  </a:lnTo>
                  <a:lnTo>
                    <a:pt x="4372" y="2451"/>
                  </a:lnTo>
                  <a:lnTo>
                    <a:pt x="4419" y="2483"/>
                  </a:lnTo>
                  <a:lnTo>
                    <a:pt x="4466" y="2517"/>
                  </a:lnTo>
                  <a:lnTo>
                    <a:pt x="4512" y="2552"/>
                  </a:lnTo>
                  <a:lnTo>
                    <a:pt x="4559" y="2588"/>
                  </a:lnTo>
                  <a:lnTo>
                    <a:pt x="4606" y="2626"/>
                  </a:lnTo>
                  <a:lnTo>
                    <a:pt x="4885" y="2410"/>
                  </a:lnTo>
                  <a:lnTo>
                    <a:pt x="4884" y="2390"/>
                  </a:lnTo>
                  <a:lnTo>
                    <a:pt x="4883" y="2369"/>
                  </a:lnTo>
                  <a:lnTo>
                    <a:pt x="4879" y="2349"/>
                  </a:lnTo>
                  <a:lnTo>
                    <a:pt x="4876" y="2328"/>
                  </a:lnTo>
                  <a:lnTo>
                    <a:pt x="4871" y="2307"/>
                  </a:lnTo>
                  <a:lnTo>
                    <a:pt x="4865" y="2287"/>
                  </a:lnTo>
                  <a:lnTo>
                    <a:pt x="4858" y="2266"/>
                  </a:lnTo>
                  <a:lnTo>
                    <a:pt x="4851" y="2246"/>
                  </a:lnTo>
                  <a:lnTo>
                    <a:pt x="4835" y="2206"/>
                  </a:lnTo>
                  <a:lnTo>
                    <a:pt x="4816" y="2168"/>
                  </a:lnTo>
                  <a:lnTo>
                    <a:pt x="4797" y="2132"/>
                  </a:lnTo>
                  <a:lnTo>
                    <a:pt x="4776" y="2097"/>
                  </a:lnTo>
                  <a:lnTo>
                    <a:pt x="4756" y="2065"/>
                  </a:lnTo>
                  <a:lnTo>
                    <a:pt x="4737" y="2036"/>
                  </a:lnTo>
                  <a:lnTo>
                    <a:pt x="4719" y="2010"/>
                  </a:lnTo>
                  <a:lnTo>
                    <a:pt x="4703" y="1988"/>
                  </a:lnTo>
                  <a:lnTo>
                    <a:pt x="4678" y="1958"/>
                  </a:lnTo>
                  <a:lnTo>
                    <a:pt x="4669" y="1946"/>
                  </a:lnTo>
                  <a:lnTo>
                    <a:pt x="4657" y="1924"/>
                  </a:lnTo>
                  <a:lnTo>
                    <a:pt x="4641" y="1898"/>
                  </a:lnTo>
                  <a:lnTo>
                    <a:pt x="4621" y="1869"/>
                  </a:lnTo>
                  <a:lnTo>
                    <a:pt x="4595" y="1836"/>
                  </a:lnTo>
                  <a:lnTo>
                    <a:pt x="4567" y="1800"/>
                  </a:lnTo>
                  <a:lnTo>
                    <a:pt x="4535" y="1763"/>
                  </a:lnTo>
                  <a:lnTo>
                    <a:pt x="4498" y="1722"/>
                  </a:lnTo>
                  <a:lnTo>
                    <a:pt x="4460" y="1678"/>
                  </a:lnTo>
                  <a:lnTo>
                    <a:pt x="4419" y="1634"/>
                  </a:lnTo>
                  <a:lnTo>
                    <a:pt x="4375" y="1587"/>
                  </a:lnTo>
                  <a:lnTo>
                    <a:pt x="4328" y="1538"/>
                  </a:lnTo>
                  <a:lnTo>
                    <a:pt x="4280" y="1489"/>
                  </a:lnTo>
                  <a:lnTo>
                    <a:pt x="4178" y="1389"/>
                  </a:lnTo>
                  <a:lnTo>
                    <a:pt x="4073" y="1286"/>
                  </a:lnTo>
                  <a:lnTo>
                    <a:pt x="3965" y="1183"/>
                  </a:lnTo>
                  <a:lnTo>
                    <a:pt x="3857" y="1084"/>
                  </a:lnTo>
                  <a:lnTo>
                    <a:pt x="3752" y="988"/>
                  </a:lnTo>
                  <a:lnTo>
                    <a:pt x="3650" y="899"/>
                  </a:lnTo>
                  <a:lnTo>
                    <a:pt x="3557" y="818"/>
                  </a:lnTo>
                  <a:lnTo>
                    <a:pt x="3472" y="748"/>
                  </a:lnTo>
                  <a:lnTo>
                    <a:pt x="3433" y="717"/>
                  </a:lnTo>
                  <a:lnTo>
                    <a:pt x="3398" y="690"/>
                  </a:lnTo>
                  <a:lnTo>
                    <a:pt x="3366" y="667"/>
                  </a:lnTo>
                  <a:lnTo>
                    <a:pt x="3338" y="647"/>
                  </a:lnTo>
                  <a:lnTo>
                    <a:pt x="3285" y="611"/>
                  </a:lnTo>
                  <a:lnTo>
                    <a:pt x="3231" y="571"/>
                  </a:lnTo>
                  <a:lnTo>
                    <a:pt x="3175" y="528"/>
                  </a:lnTo>
                  <a:lnTo>
                    <a:pt x="3119" y="484"/>
                  </a:lnTo>
                  <a:lnTo>
                    <a:pt x="3062" y="438"/>
                  </a:lnTo>
                  <a:lnTo>
                    <a:pt x="3007" y="391"/>
                  </a:lnTo>
                  <a:lnTo>
                    <a:pt x="2952" y="346"/>
                  </a:lnTo>
                  <a:lnTo>
                    <a:pt x="2900" y="300"/>
                  </a:lnTo>
                  <a:lnTo>
                    <a:pt x="2803" y="217"/>
                  </a:lnTo>
                  <a:lnTo>
                    <a:pt x="2722" y="146"/>
                  </a:lnTo>
                  <a:lnTo>
                    <a:pt x="2689" y="118"/>
                  </a:lnTo>
                  <a:lnTo>
                    <a:pt x="2661" y="95"/>
                  </a:lnTo>
                  <a:lnTo>
                    <a:pt x="2639" y="78"/>
                  </a:lnTo>
                  <a:lnTo>
                    <a:pt x="2624" y="69"/>
                  </a:lnTo>
                  <a:lnTo>
                    <a:pt x="2609" y="60"/>
                  </a:lnTo>
                  <a:lnTo>
                    <a:pt x="2595" y="50"/>
                  </a:lnTo>
                  <a:lnTo>
                    <a:pt x="2584" y="41"/>
                  </a:lnTo>
                  <a:lnTo>
                    <a:pt x="2572" y="32"/>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0" name="Freeform 1467"/>
            <p:cNvSpPr/>
            <p:nvPr/>
          </p:nvSpPr>
          <p:spPr>
            <a:xfrm>
              <a:off x="5000040" y="4653000"/>
              <a:ext cx="222840" cy="123840"/>
            </a:xfrm>
            <a:custGeom>
              <a:avLst/>
              <a:gdLst>
                <a:gd name="textAreaLeft" fmla="*/ 0 w 222840"/>
                <a:gd name="textAreaRight" fmla="*/ 223200 w 222840"/>
                <a:gd name="textAreaTop" fmla="*/ 0 h 123840"/>
                <a:gd name="textAreaBottom" fmla="*/ 124200 h 123840"/>
              </a:gdLst>
              <a:ahLst/>
              <a:rect l="textAreaLeft" t="textAreaTop" r="textAreaRight" b="textAreaBottom"/>
              <a:pathLst>
                <a:path w="1238" h="822">
                  <a:moveTo>
                    <a:pt x="1124" y="762"/>
                  </a:moveTo>
                  <a:lnTo>
                    <a:pt x="1238" y="776"/>
                  </a:lnTo>
                  <a:lnTo>
                    <a:pt x="1238" y="762"/>
                  </a:lnTo>
                  <a:lnTo>
                    <a:pt x="1237" y="747"/>
                  </a:lnTo>
                  <a:lnTo>
                    <a:pt x="1236" y="732"/>
                  </a:lnTo>
                  <a:lnTo>
                    <a:pt x="1234" y="717"/>
                  </a:lnTo>
                  <a:lnTo>
                    <a:pt x="1230" y="703"/>
                  </a:lnTo>
                  <a:lnTo>
                    <a:pt x="1227" y="688"/>
                  </a:lnTo>
                  <a:lnTo>
                    <a:pt x="1222" y="672"/>
                  </a:lnTo>
                  <a:lnTo>
                    <a:pt x="1217" y="657"/>
                  </a:lnTo>
                  <a:lnTo>
                    <a:pt x="1212" y="641"/>
                  </a:lnTo>
                  <a:lnTo>
                    <a:pt x="1205" y="626"/>
                  </a:lnTo>
                  <a:lnTo>
                    <a:pt x="1198" y="611"/>
                  </a:lnTo>
                  <a:lnTo>
                    <a:pt x="1189" y="594"/>
                  </a:lnTo>
                  <a:lnTo>
                    <a:pt x="1181" y="579"/>
                  </a:lnTo>
                  <a:lnTo>
                    <a:pt x="1171" y="563"/>
                  </a:lnTo>
                  <a:lnTo>
                    <a:pt x="1160" y="546"/>
                  </a:lnTo>
                  <a:lnTo>
                    <a:pt x="1150" y="531"/>
                  </a:lnTo>
                  <a:lnTo>
                    <a:pt x="1124" y="497"/>
                  </a:lnTo>
                  <a:lnTo>
                    <a:pt x="1096" y="465"/>
                  </a:lnTo>
                  <a:lnTo>
                    <a:pt x="1064" y="431"/>
                  </a:lnTo>
                  <a:lnTo>
                    <a:pt x="1029" y="396"/>
                  </a:lnTo>
                  <a:lnTo>
                    <a:pt x="991" y="361"/>
                  </a:lnTo>
                  <a:lnTo>
                    <a:pt x="949" y="326"/>
                  </a:lnTo>
                  <a:lnTo>
                    <a:pt x="903" y="289"/>
                  </a:lnTo>
                  <a:lnTo>
                    <a:pt x="853" y="252"/>
                  </a:lnTo>
                  <a:lnTo>
                    <a:pt x="844" y="267"/>
                  </a:lnTo>
                  <a:lnTo>
                    <a:pt x="835" y="281"/>
                  </a:lnTo>
                  <a:lnTo>
                    <a:pt x="827" y="294"/>
                  </a:lnTo>
                  <a:lnTo>
                    <a:pt x="819" y="305"/>
                  </a:lnTo>
                  <a:lnTo>
                    <a:pt x="811" y="314"/>
                  </a:lnTo>
                  <a:lnTo>
                    <a:pt x="803" y="322"/>
                  </a:lnTo>
                  <a:lnTo>
                    <a:pt x="796" y="329"/>
                  </a:lnTo>
                  <a:lnTo>
                    <a:pt x="789" y="335"/>
                  </a:lnTo>
                  <a:lnTo>
                    <a:pt x="782" y="340"/>
                  </a:lnTo>
                  <a:lnTo>
                    <a:pt x="775" y="342"/>
                  </a:lnTo>
                  <a:lnTo>
                    <a:pt x="768" y="344"/>
                  </a:lnTo>
                  <a:lnTo>
                    <a:pt x="762" y="344"/>
                  </a:lnTo>
                  <a:lnTo>
                    <a:pt x="756" y="344"/>
                  </a:lnTo>
                  <a:lnTo>
                    <a:pt x="750" y="342"/>
                  </a:lnTo>
                  <a:lnTo>
                    <a:pt x="745" y="340"/>
                  </a:lnTo>
                  <a:lnTo>
                    <a:pt x="741" y="335"/>
                  </a:lnTo>
                  <a:lnTo>
                    <a:pt x="736" y="330"/>
                  </a:lnTo>
                  <a:lnTo>
                    <a:pt x="733" y="323"/>
                  </a:lnTo>
                  <a:lnTo>
                    <a:pt x="729" y="316"/>
                  </a:lnTo>
                  <a:lnTo>
                    <a:pt x="727" y="307"/>
                  </a:lnTo>
                  <a:lnTo>
                    <a:pt x="724" y="298"/>
                  </a:lnTo>
                  <a:lnTo>
                    <a:pt x="723" y="287"/>
                  </a:lnTo>
                  <a:lnTo>
                    <a:pt x="722" y="275"/>
                  </a:lnTo>
                  <a:lnTo>
                    <a:pt x="722" y="263"/>
                  </a:lnTo>
                  <a:lnTo>
                    <a:pt x="722" y="250"/>
                  </a:lnTo>
                  <a:lnTo>
                    <a:pt x="723" y="234"/>
                  </a:lnTo>
                  <a:lnTo>
                    <a:pt x="724" y="219"/>
                  </a:lnTo>
                  <a:lnTo>
                    <a:pt x="727" y="203"/>
                  </a:lnTo>
                  <a:lnTo>
                    <a:pt x="734" y="168"/>
                  </a:lnTo>
                  <a:lnTo>
                    <a:pt x="743" y="128"/>
                  </a:lnTo>
                  <a:lnTo>
                    <a:pt x="744" y="126"/>
                  </a:lnTo>
                  <a:lnTo>
                    <a:pt x="745" y="119"/>
                  </a:lnTo>
                  <a:lnTo>
                    <a:pt x="745" y="115"/>
                  </a:lnTo>
                  <a:lnTo>
                    <a:pt x="743" y="111"/>
                  </a:lnTo>
                  <a:lnTo>
                    <a:pt x="741" y="106"/>
                  </a:lnTo>
                  <a:lnTo>
                    <a:pt x="736" y="102"/>
                  </a:lnTo>
                  <a:lnTo>
                    <a:pt x="729" y="99"/>
                  </a:lnTo>
                  <a:lnTo>
                    <a:pt x="720" y="97"/>
                  </a:lnTo>
                  <a:lnTo>
                    <a:pt x="708" y="94"/>
                  </a:lnTo>
                  <a:lnTo>
                    <a:pt x="692" y="94"/>
                  </a:lnTo>
                  <a:lnTo>
                    <a:pt x="673" y="95"/>
                  </a:lnTo>
                  <a:lnTo>
                    <a:pt x="650" y="99"/>
                  </a:lnTo>
                  <a:lnTo>
                    <a:pt x="623" y="104"/>
                  </a:lnTo>
                  <a:lnTo>
                    <a:pt x="590" y="111"/>
                  </a:lnTo>
                  <a:lnTo>
                    <a:pt x="594" y="108"/>
                  </a:lnTo>
                  <a:lnTo>
                    <a:pt x="598" y="101"/>
                  </a:lnTo>
                  <a:lnTo>
                    <a:pt x="605" y="91"/>
                  </a:lnTo>
                  <a:lnTo>
                    <a:pt x="611" y="79"/>
                  </a:lnTo>
                  <a:lnTo>
                    <a:pt x="612" y="73"/>
                  </a:lnTo>
                  <a:lnTo>
                    <a:pt x="613" y="66"/>
                  </a:lnTo>
                  <a:lnTo>
                    <a:pt x="612" y="60"/>
                  </a:lnTo>
                  <a:lnTo>
                    <a:pt x="609" y="55"/>
                  </a:lnTo>
                  <a:lnTo>
                    <a:pt x="604" y="49"/>
                  </a:lnTo>
                  <a:lnTo>
                    <a:pt x="596" y="44"/>
                  </a:lnTo>
                  <a:lnTo>
                    <a:pt x="587" y="39"/>
                  </a:lnTo>
                  <a:lnTo>
                    <a:pt x="574" y="36"/>
                  </a:lnTo>
                  <a:lnTo>
                    <a:pt x="546" y="29"/>
                  </a:lnTo>
                  <a:lnTo>
                    <a:pt x="519" y="20"/>
                  </a:lnTo>
                  <a:lnTo>
                    <a:pt x="492" y="11"/>
                  </a:lnTo>
                  <a:lnTo>
                    <a:pt x="463" y="4"/>
                  </a:lnTo>
                  <a:lnTo>
                    <a:pt x="448" y="1"/>
                  </a:lnTo>
                  <a:lnTo>
                    <a:pt x="431" y="0"/>
                  </a:lnTo>
                  <a:lnTo>
                    <a:pt x="413" y="0"/>
                  </a:lnTo>
                  <a:lnTo>
                    <a:pt x="394" y="0"/>
                  </a:lnTo>
                  <a:lnTo>
                    <a:pt x="373" y="2"/>
                  </a:lnTo>
                  <a:lnTo>
                    <a:pt x="349" y="6"/>
                  </a:lnTo>
                  <a:lnTo>
                    <a:pt x="324" y="11"/>
                  </a:lnTo>
                  <a:lnTo>
                    <a:pt x="297" y="20"/>
                  </a:lnTo>
                  <a:lnTo>
                    <a:pt x="311" y="111"/>
                  </a:lnTo>
                  <a:lnTo>
                    <a:pt x="305" y="108"/>
                  </a:lnTo>
                  <a:lnTo>
                    <a:pt x="288" y="102"/>
                  </a:lnTo>
                  <a:lnTo>
                    <a:pt x="260" y="93"/>
                  </a:lnTo>
                  <a:lnTo>
                    <a:pt x="219" y="83"/>
                  </a:lnTo>
                  <a:lnTo>
                    <a:pt x="220" y="86"/>
                  </a:lnTo>
                  <a:lnTo>
                    <a:pt x="220" y="95"/>
                  </a:lnTo>
                  <a:lnTo>
                    <a:pt x="221" y="108"/>
                  </a:lnTo>
                  <a:lnTo>
                    <a:pt x="219" y="125"/>
                  </a:lnTo>
                  <a:lnTo>
                    <a:pt x="216" y="134"/>
                  </a:lnTo>
                  <a:lnTo>
                    <a:pt x="214" y="142"/>
                  </a:lnTo>
                  <a:lnTo>
                    <a:pt x="210" y="152"/>
                  </a:lnTo>
                  <a:lnTo>
                    <a:pt x="206" y="160"/>
                  </a:lnTo>
                  <a:lnTo>
                    <a:pt x="200" y="168"/>
                  </a:lnTo>
                  <a:lnTo>
                    <a:pt x="192" y="176"/>
                  </a:lnTo>
                  <a:lnTo>
                    <a:pt x="184" y="183"/>
                  </a:lnTo>
                  <a:lnTo>
                    <a:pt x="173" y="189"/>
                  </a:lnTo>
                  <a:lnTo>
                    <a:pt x="154" y="184"/>
                  </a:lnTo>
                  <a:lnTo>
                    <a:pt x="136" y="182"/>
                  </a:lnTo>
                  <a:lnTo>
                    <a:pt x="119" y="182"/>
                  </a:lnTo>
                  <a:lnTo>
                    <a:pt x="104" y="182"/>
                  </a:lnTo>
                  <a:lnTo>
                    <a:pt x="90" y="184"/>
                  </a:lnTo>
                  <a:lnTo>
                    <a:pt x="76" y="189"/>
                  </a:lnTo>
                  <a:lnTo>
                    <a:pt x="64" y="194"/>
                  </a:lnTo>
                  <a:lnTo>
                    <a:pt x="54" y="201"/>
                  </a:lnTo>
                  <a:lnTo>
                    <a:pt x="45" y="208"/>
                  </a:lnTo>
                  <a:lnTo>
                    <a:pt x="35" y="216"/>
                  </a:lnTo>
                  <a:lnTo>
                    <a:pt x="27" y="226"/>
                  </a:lnTo>
                  <a:lnTo>
                    <a:pt x="21" y="236"/>
                  </a:lnTo>
                  <a:lnTo>
                    <a:pt x="15" y="247"/>
                  </a:lnTo>
                  <a:lnTo>
                    <a:pt x="11" y="259"/>
                  </a:lnTo>
                  <a:lnTo>
                    <a:pt x="7" y="272"/>
                  </a:lnTo>
                  <a:lnTo>
                    <a:pt x="4" y="285"/>
                  </a:lnTo>
                  <a:lnTo>
                    <a:pt x="1" y="299"/>
                  </a:lnTo>
                  <a:lnTo>
                    <a:pt x="0" y="312"/>
                  </a:lnTo>
                  <a:lnTo>
                    <a:pt x="0" y="326"/>
                  </a:lnTo>
                  <a:lnTo>
                    <a:pt x="1" y="340"/>
                  </a:lnTo>
                  <a:lnTo>
                    <a:pt x="3" y="355"/>
                  </a:lnTo>
                  <a:lnTo>
                    <a:pt x="5" y="369"/>
                  </a:lnTo>
                  <a:lnTo>
                    <a:pt x="7" y="383"/>
                  </a:lnTo>
                  <a:lnTo>
                    <a:pt x="11" y="397"/>
                  </a:lnTo>
                  <a:lnTo>
                    <a:pt x="15" y="410"/>
                  </a:lnTo>
                  <a:lnTo>
                    <a:pt x="20" y="423"/>
                  </a:lnTo>
                  <a:lnTo>
                    <a:pt x="26" y="435"/>
                  </a:lnTo>
                  <a:lnTo>
                    <a:pt x="33" y="448"/>
                  </a:lnTo>
                  <a:lnTo>
                    <a:pt x="39" y="459"/>
                  </a:lnTo>
                  <a:lnTo>
                    <a:pt x="47" y="469"/>
                  </a:lnTo>
                  <a:lnTo>
                    <a:pt x="55" y="480"/>
                  </a:lnTo>
                  <a:lnTo>
                    <a:pt x="63" y="488"/>
                  </a:lnTo>
                  <a:lnTo>
                    <a:pt x="90" y="515"/>
                  </a:lnTo>
                  <a:lnTo>
                    <a:pt x="114" y="541"/>
                  </a:lnTo>
                  <a:lnTo>
                    <a:pt x="135" y="565"/>
                  </a:lnTo>
                  <a:lnTo>
                    <a:pt x="153" y="588"/>
                  </a:lnTo>
                  <a:lnTo>
                    <a:pt x="170" y="612"/>
                  </a:lnTo>
                  <a:lnTo>
                    <a:pt x="184" y="633"/>
                  </a:lnTo>
                  <a:lnTo>
                    <a:pt x="195" y="655"/>
                  </a:lnTo>
                  <a:lnTo>
                    <a:pt x="205" y="675"/>
                  </a:lnTo>
                  <a:lnTo>
                    <a:pt x="210" y="695"/>
                  </a:lnTo>
                  <a:lnTo>
                    <a:pt x="215" y="715"/>
                  </a:lnTo>
                  <a:lnTo>
                    <a:pt x="216" y="724"/>
                  </a:lnTo>
                  <a:lnTo>
                    <a:pt x="216" y="733"/>
                  </a:lnTo>
                  <a:lnTo>
                    <a:pt x="216" y="743"/>
                  </a:lnTo>
                  <a:lnTo>
                    <a:pt x="215" y="752"/>
                  </a:lnTo>
                  <a:lnTo>
                    <a:pt x="214" y="761"/>
                  </a:lnTo>
                  <a:lnTo>
                    <a:pt x="212" y="769"/>
                  </a:lnTo>
                  <a:lnTo>
                    <a:pt x="209" y="779"/>
                  </a:lnTo>
                  <a:lnTo>
                    <a:pt x="206" y="788"/>
                  </a:lnTo>
                  <a:lnTo>
                    <a:pt x="198" y="806"/>
                  </a:lnTo>
                  <a:lnTo>
                    <a:pt x="187" y="822"/>
                  </a:lnTo>
                  <a:lnTo>
                    <a:pt x="714" y="800"/>
                  </a:lnTo>
                  <a:lnTo>
                    <a:pt x="1124" y="76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1" name="Freeform 1468"/>
            <p:cNvSpPr/>
            <p:nvPr/>
          </p:nvSpPr>
          <p:spPr>
            <a:xfrm>
              <a:off x="5000040" y="4653000"/>
              <a:ext cx="222840" cy="123840"/>
            </a:xfrm>
            <a:custGeom>
              <a:avLst/>
              <a:gdLst>
                <a:gd name="textAreaLeft" fmla="*/ 0 w 222840"/>
                <a:gd name="textAreaRight" fmla="*/ 223200 w 222840"/>
                <a:gd name="textAreaTop" fmla="*/ 0 h 123840"/>
                <a:gd name="textAreaBottom" fmla="*/ 124200 h 123840"/>
              </a:gdLst>
              <a:ahLst/>
              <a:rect l="textAreaLeft" t="textAreaTop" r="textAreaRight" b="textAreaBottom"/>
              <a:pathLst>
                <a:path w="1238" h="822">
                  <a:moveTo>
                    <a:pt x="1124" y="762"/>
                  </a:moveTo>
                  <a:lnTo>
                    <a:pt x="1238" y="776"/>
                  </a:lnTo>
                  <a:lnTo>
                    <a:pt x="1238" y="762"/>
                  </a:lnTo>
                  <a:lnTo>
                    <a:pt x="1237" y="747"/>
                  </a:lnTo>
                  <a:lnTo>
                    <a:pt x="1236" y="732"/>
                  </a:lnTo>
                  <a:lnTo>
                    <a:pt x="1234" y="717"/>
                  </a:lnTo>
                  <a:lnTo>
                    <a:pt x="1230" y="703"/>
                  </a:lnTo>
                  <a:lnTo>
                    <a:pt x="1227" y="688"/>
                  </a:lnTo>
                  <a:lnTo>
                    <a:pt x="1222" y="672"/>
                  </a:lnTo>
                  <a:lnTo>
                    <a:pt x="1217" y="657"/>
                  </a:lnTo>
                  <a:lnTo>
                    <a:pt x="1212" y="641"/>
                  </a:lnTo>
                  <a:lnTo>
                    <a:pt x="1205" y="626"/>
                  </a:lnTo>
                  <a:lnTo>
                    <a:pt x="1198" y="611"/>
                  </a:lnTo>
                  <a:lnTo>
                    <a:pt x="1189" y="594"/>
                  </a:lnTo>
                  <a:lnTo>
                    <a:pt x="1181" y="579"/>
                  </a:lnTo>
                  <a:lnTo>
                    <a:pt x="1171" y="563"/>
                  </a:lnTo>
                  <a:lnTo>
                    <a:pt x="1160" y="546"/>
                  </a:lnTo>
                  <a:lnTo>
                    <a:pt x="1150" y="531"/>
                  </a:lnTo>
                  <a:lnTo>
                    <a:pt x="1124" y="497"/>
                  </a:lnTo>
                  <a:lnTo>
                    <a:pt x="1096" y="465"/>
                  </a:lnTo>
                  <a:lnTo>
                    <a:pt x="1064" y="431"/>
                  </a:lnTo>
                  <a:lnTo>
                    <a:pt x="1029" y="396"/>
                  </a:lnTo>
                  <a:lnTo>
                    <a:pt x="991" y="361"/>
                  </a:lnTo>
                  <a:lnTo>
                    <a:pt x="949" y="326"/>
                  </a:lnTo>
                  <a:lnTo>
                    <a:pt x="903" y="289"/>
                  </a:lnTo>
                  <a:lnTo>
                    <a:pt x="853" y="252"/>
                  </a:lnTo>
                  <a:lnTo>
                    <a:pt x="844" y="267"/>
                  </a:lnTo>
                  <a:lnTo>
                    <a:pt x="835" y="281"/>
                  </a:lnTo>
                  <a:lnTo>
                    <a:pt x="827" y="294"/>
                  </a:lnTo>
                  <a:lnTo>
                    <a:pt x="819" y="305"/>
                  </a:lnTo>
                  <a:lnTo>
                    <a:pt x="811" y="314"/>
                  </a:lnTo>
                  <a:lnTo>
                    <a:pt x="803" y="322"/>
                  </a:lnTo>
                  <a:lnTo>
                    <a:pt x="796" y="329"/>
                  </a:lnTo>
                  <a:lnTo>
                    <a:pt x="789" y="335"/>
                  </a:lnTo>
                  <a:lnTo>
                    <a:pt x="782" y="340"/>
                  </a:lnTo>
                  <a:lnTo>
                    <a:pt x="775" y="342"/>
                  </a:lnTo>
                  <a:lnTo>
                    <a:pt x="768" y="344"/>
                  </a:lnTo>
                  <a:lnTo>
                    <a:pt x="762" y="344"/>
                  </a:lnTo>
                  <a:lnTo>
                    <a:pt x="756" y="344"/>
                  </a:lnTo>
                  <a:lnTo>
                    <a:pt x="750" y="342"/>
                  </a:lnTo>
                  <a:lnTo>
                    <a:pt x="745" y="340"/>
                  </a:lnTo>
                  <a:lnTo>
                    <a:pt x="741" y="335"/>
                  </a:lnTo>
                  <a:lnTo>
                    <a:pt x="736" y="330"/>
                  </a:lnTo>
                  <a:lnTo>
                    <a:pt x="733" y="323"/>
                  </a:lnTo>
                  <a:lnTo>
                    <a:pt x="729" y="316"/>
                  </a:lnTo>
                  <a:lnTo>
                    <a:pt x="727" y="307"/>
                  </a:lnTo>
                  <a:lnTo>
                    <a:pt x="724" y="298"/>
                  </a:lnTo>
                  <a:lnTo>
                    <a:pt x="723" y="287"/>
                  </a:lnTo>
                  <a:lnTo>
                    <a:pt x="722" y="275"/>
                  </a:lnTo>
                  <a:lnTo>
                    <a:pt x="722" y="263"/>
                  </a:lnTo>
                  <a:lnTo>
                    <a:pt x="722" y="250"/>
                  </a:lnTo>
                  <a:lnTo>
                    <a:pt x="723" y="234"/>
                  </a:lnTo>
                  <a:lnTo>
                    <a:pt x="724" y="219"/>
                  </a:lnTo>
                  <a:lnTo>
                    <a:pt x="727" y="203"/>
                  </a:lnTo>
                  <a:lnTo>
                    <a:pt x="734" y="168"/>
                  </a:lnTo>
                  <a:lnTo>
                    <a:pt x="743" y="128"/>
                  </a:lnTo>
                  <a:lnTo>
                    <a:pt x="744" y="126"/>
                  </a:lnTo>
                  <a:lnTo>
                    <a:pt x="745" y="119"/>
                  </a:lnTo>
                  <a:lnTo>
                    <a:pt x="745" y="115"/>
                  </a:lnTo>
                  <a:lnTo>
                    <a:pt x="743" y="111"/>
                  </a:lnTo>
                  <a:lnTo>
                    <a:pt x="741" y="106"/>
                  </a:lnTo>
                  <a:lnTo>
                    <a:pt x="736" y="102"/>
                  </a:lnTo>
                  <a:lnTo>
                    <a:pt x="729" y="99"/>
                  </a:lnTo>
                  <a:lnTo>
                    <a:pt x="720" y="97"/>
                  </a:lnTo>
                  <a:lnTo>
                    <a:pt x="708" y="94"/>
                  </a:lnTo>
                  <a:lnTo>
                    <a:pt x="692" y="94"/>
                  </a:lnTo>
                  <a:lnTo>
                    <a:pt x="673" y="95"/>
                  </a:lnTo>
                  <a:lnTo>
                    <a:pt x="650" y="99"/>
                  </a:lnTo>
                  <a:lnTo>
                    <a:pt x="623" y="104"/>
                  </a:lnTo>
                  <a:lnTo>
                    <a:pt x="590" y="111"/>
                  </a:lnTo>
                  <a:lnTo>
                    <a:pt x="594" y="108"/>
                  </a:lnTo>
                  <a:lnTo>
                    <a:pt x="598" y="101"/>
                  </a:lnTo>
                  <a:lnTo>
                    <a:pt x="605" y="91"/>
                  </a:lnTo>
                  <a:lnTo>
                    <a:pt x="611" y="79"/>
                  </a:lnTo>
                  <a:lnTo>
                    <a:pt x="612" y="73"/>
                  </a:lnTo>
                  <a:lnTo>
                    <a:pt x="613" y="66"/>
                  </a:lnTo>
                  <a:lnTo>
                    <a:pt x="612" y="60"/>
                  </a:lnTo>
                  <a:lnTo>
                    <a:pt x="609" y="55"/>
                  </a:lnTo>
                  <a:lnTo>
                    <a:pt x="604" y="49"/>
                  </a:lnTo>
                  <a:lnTo>
                    <a:pt x="596" y="44"/>
                  </a:lnTo>
                  <a:lnTo>
                    <a:pt x="587" y="39"/>
                  </a:lnTo>
                  <a:lnTo>
                    <a:pt x="574" y="36"/>
                  </a:lnTo>
                  <a:lnTo>
                    <a:pt x="546" y="29"/>
                  </a:lnTo>
                  <a:lnTo>
                    <a:pt x="519" y="20"/>
                  </a:lnTo>
                  <a:lnTo>
                    <a:pt x="492" y="11"/>
                  </a:lnTo>
                  <a:lnTo>
                    <a:pt x="463" y="4"/>
                  </a:lnTo>
                  <a:lnTo>
                    <a:pt x="448" y="1"/>
                  </a:lnTo>
                  <a:lnTo>
                    <a:pt x="431" y="0"/>
                  </a:lnTo>
                  <a:lnTo>
                    <a:pt x="413" y="0"/>
                  </a:lnTo>
                  <a:lnTo>
                    <a:pt x="394" y="0"/>
                  </a:lnTo>
                  <a:lnTo>
                    <a:pt x="373" y="2"/>
                  </a:lnTo>
                  <a:lnTo>
                    <a:pt x="349" y="6"/>
                  </a:lnTo>
                  <a:lnTo>
                    <a:pt x="324" y="11"/>
                  </a:lnTo>
                  <a:lnTo>
                    <a:pt x="297" y="20"/>
                  </a:lnTo>
                  <a:lnTo>
                    <a:pt x="311" y="111"/>
                  </a:lnTo>
                  <a:lnTo>
                    <a:pt x="305" y="108"/>
                  </a:lnTo>
                  <a:lnTo>
                    <a:pt x="288" y="102"/>
                  </a:lnTo>
                  <a:lnTo>
                    <a:pt x="260" y="93"/>
                  </a:lnTo>
                  <a:lnTo>
                    <a:pt x="219" y="83"/>
                  </a:lnTo>
                  <a:lnTo>
                    <a:pt x="220" y="86"/>
                  </a:lnTo>
                  <a:lnTo>
                    <a:pt x="220" y="95"/>
                  </a:lnTo>
                  <a:lnTo>
                    <a:pt x="221" y="108"/>
                  </a:lnTo>
                  <a:lnTo>
                    <a:pt x="219" y="125"/>
                  </a:lnTo>
                  <a:lnTo>
                    <a:pt x="216" y="134"/>
                  </a:lnTo>
                  <a:lnTo>
                    <a:pt x="214" y="142"/>
                  </a:lnTo>
                  <a:lnTo>
                    <a:pt x="210" y="152"/>
                  </a:lnTo>
                  <a:lnTo>
                    <a:pt x="206" y="160"/>
                  </a:lnTo>
                  <a:lnTo>
                    <a:pt x="200" y="168"/>
                  </a:lnTo>
                  <a:lnTo>
                    <a:pt x="192" y="176"/>
                  </a:lnTo>
                  <a:lnTo>
                    <a:pt x="184" y="183"/>
                  </a:lnTo>
                  <a:lnTo>
                    <a:pt x="173" y="189"/>
                  </a:lnTo>
                  <a:lnTo>
                    <a:pt x="154" y="184"/>
                  </a:lnTo>
                  <a:lnTo>
                    <a:pt x="136" y="182"/>
                  </a:lnTo>
                  <a:lnTo>
                    <a:pt x="119" y="182"/>
                  </a:lnTo>
                  <a:lnTo>
                    <a:pt x="104" y="182"/>
                  </a:lnTo>
                  <a:lnTo>
                    <a:pt x="90" y="184"/>
                  </a:lnTo>
                  <a:lnTo>
                    <a:pt x="76" y="189"/>
                  </a:lnTo>
                  <a:lnTo>
                    <a:pt x="64" y="194"/>
                  </a:lnTo>
                  <a:lnTo>
                    <a:pt x="54" y="201"/>
                  </a:lnTo>
                  <a:lnTo>
                    <a:pt x="45" y="208"/>
                  </a:lnTo>
                  <a:lnTo>
                    <a:pt x="35" y="216"/>
                  </a:lnTo>
                  <a:lnTo>
                    <a:pt x="27" y="226"/>
                  </a:lnTo>
                  <a:lnTo>
                    <a:pt x="21" y="236"/>
                  </a:lnTo>
                  <a:lnTo>
                    <a:pt x="15" y="247"/>
                  </a:lnTo>
                  <a:lnTo>
                    <a:pt x="11" y="259"/>
                  </a:lnTo>
                  <a:lnTo>
                    <a:pt x="7" y="272"/>
                  </a:lnTo>
                  <a:lnTo>
                    <a:pt x="4" y="285"/>
                  </a:lnTo>
                  <a:lnTo>
                    <a:pt x="1" y="299"/>
                  </a:lnTo>
                  <a:lnTo>
                    <a:pt x="0" y="312"/>
                  </a:lnTo>
                  <a:lnTo>
                    <a:pt x="0" y="326"/>
                  </a:lnTo>
                  <a:lnTo>
                    <a:pt x="1" y="340"/>
                  </a:lnTo>
                  <a:lnTo>
                    <a:pt x="3" y="355"/>
                  </a:lnTo>
                  <a:lnTo>
                    <a:pt x="5" y="369"/>
                  </a:lnTo>
                  <a:lnTo>
                    <a:pt x="7" y="383"/>
                  </a:lnTo>
                  <a:lnTo>
                    <a:pt x="11" y="397"/>
                  </a:lnTo>
                  <a:lnTo>
                    <a:pt x="15" y="410"/>
                  </a:lnTo>
                  <a:lnTo>
                    <a:pt x="20" y="423"/>
                  </a:lnTo>
                  <a:lnTo>
                    <a:pt x="26" y="435"/>
                  </a:lnTo>
                  <a:lnTo>
                    <a:pt x="33" y="448"/>
                  </a:lnTo>
                  <a:lnTo>
                    <a:pt x="39" y="459"/>
                  </a:lnTo>
                  <a:lnTo>
                    <a:pt x="47" y="469"/>
                  </a:lnTo>
                  <a:lnTo>
                    <a:pt x="55" y="480"/>
                  </a:lnTo>
                  <a:lnTo>
                    <a:pt x="63" y="488"/>
                  </a:lnTo>
                  <a:lnTo>
                    <a:pt x="90" y="515"/>
                  </a:lnTo>
                  <a:lnTo>
                    <a:pt x="114" y="541"/>
                  </a:lnTo>
                  <a:lnTo>
                    <a:pt x="135" y="565"/>
                  </a:lnTo>
                  <a:lnTo>
                    <a:pt x="153" y="588"/>
                  </a:lnTo>
                  <a:lnTo>
                    <a:pt x="170" y="612"/>
                  </a:lnTo>
                  <a:lnTo>
                    <a:pt x="184" y="633"/>
                  </a:lnTo>
                  <a:lnTo>
                    <a:pt x="195" y="655"/>
                  </a:lnTo>
                  <a:lnTo>
                    <a:pt x="205" y="675"/>
                  </a:lnTo>
                  <a:lnTo>
                    <a:pt x="210" y="695"/>
                  </a:lnTo>
                  <a:lnTo>
                    <a:pt x="215" y="715"/>
                  </a:lnTo>
                  <a:lnTo>
                    <a:pt x="216" y="724"/>
                  </a:lnTo>
                  <a:lnTo>
                    <a:pt x="216" y="733"/>
                  </a:lnTo>
                  <a:lnTo>
                    <a:pt x="216" y="743"/>
                  </a:lnTo>
                  <a:lnTo>
                    <a:pt x="215" y="752"/>
                  </a:lnTo>
                  <a:lnTo>
                    <a:pt x="214" y="761"/>
                  </a:lnTo>
                  <a:lnTo>
                    <a:pt x="212" y="769"/>
                  </a:lnTo>
                  <a:lnTo>
                    <a:pt x="209" y="779"/>
                  </a:lnTo>
                  <a:lnTo>
                    <a:pt x="206" y="788"/>
                  </a:lnTo>
                  <a:lnTo>
                    <a:pt x="198" y="806"/>
                  </a:lnTo>
                  <a:lnTo>
                    <a:pt x="187" y="822"/>
                  </a:lnTo>
                  <a:lnTo>
                    <a:pt x="714" y="800"/>
                  </a:lnTo>
                  <a:lnTo>
                    <a:pt x="1124" y="762"/>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2" name="Freeform 1469"/>
            <p:cNvSpPr/>
            <p:nvPr/>
          </p:nvSpPr>
          <p:spPr>
            <a:xfrm>
              <a:off x="4994640" y="4773960"/>
              <a:ext cx="179280" cy="184320"/>
            </a:xfrm>
            <a:custGeom>
              <a:avLst/>
              <a:gdLst>
                <a:gd name="textAreaLeft" fmla="*/ 0 w 179280"/>
                <a:gd name="textAreaRight" fmla="*/ 179640 w 179280"/>
                <a:gd name="textAreaTop" fmla="*/ 0 h 184320"/>
                <a:gd name="textAreaBottom" fmla="*/ 184680 h 184320"/>
              </a:gdLst>
              <a:ahLst/>
              <a:rect l="textAreaLeft" t="textAreaTop" r="textAreaRight" b="textAreaBottom"/>
              <a:pathLst>
                <a:path w="996" h="1220">
                  <a:moveTo>
                    <a:pt x="208" y="1220"/>
                  </a:moveTo>
                  <a:lnTo>
                    <a:pt x="207" y="1215"/>
                  </a:lnTo>
                  <a:lnTo>
                    <a:pt x="206" y="1199"/>
                  </a:lnTo>
                  <a:lnTo>
                    <a:pt x="203" y="1176"/>
                  </a:lnTo>
                  <a:lnTo>
                    <a:pt x="201" y="1146"/>
                  </a:lnTo>
                  <a:lnTo>
                    <a:pt x="197" y="1109"/>
                  </a:lnTo>
                  <a:lnTo>
                    <a:pt x="195" y="1071"/>
                  </a:lnTo>
                  <a:lnTo>
                    <a:pt x="194" y="1031"/>
                  </a:lnTo>
                  <a:lnTo>
                    <a:pt x="194" y="990"/>
                  </a:lnTo>
                  <a:lnTo>
                    <a:pt x="194" y="970"/>
                  </a:lnTo>
                  <a:lnTo>
                    <a:pt x="194" y="953"/>
                  </a:lnTo>
                  <a:lnTo>
                    <a:pt x="196" y="935"/>
                  </a:lnTo>
                  <a:lnTo>
                    <a:pt x="197" y="920"/>
                  </a:lnTo>
                  <a:lnTo>
                    <a:pt x="201" y="905"/>
                  </a:lnTo>
                  <a:lnTo>
                    <a:pt x="204" y="892"/>
                  </a:lnTo>
                  <a:lnTo>
                    <a:pt x="208" y="879"/>
                  </a:lnTo>
                  <a:lnTo>
                    <a:pt x="213" y="867"/>
                  </a:lnTo>
                  <a:lnTo>
                    <a:pt x="218" y="855"/>
                  </a:lnTo>
                  <a:lnTo>
                    <a:pt x="224" y="843"/>
                  </a:lnTo>
                  <a:lnTo>
                    <a:pt x="231" y="831"/>
                  </a:lnTo>
                  <a:lnTo>
                    <a:pt x="239" y="821"/>
                  </a:lnTo>
                  <a:lnTo>
                    <a:pt x="258" y="796"/>
                  </a:lnTo>
                  <a:lnTo>
                    <a:pt x="280" y="772"/>
                  </a:lnTo>
                  <a:lnTo>
                    <a:pt x="264" y="759"/>
                  </a:lnTo>
                  <a:lnTo>
                    <a:pt x="245" y="743"/>
                  </a:lnTo>
                  <a:lnTo>
                    <a:pt x="227" y="725"/>
                  </a:lnTo>
                  <a:lnTo>
                    <a:pt x="207" y="705"/>
                  </a:lnTo>
                  <a:lnTo>
                    <a:pt x="189" y="683"/>
                  </a:lnTo>
                  <a:lnTo>
                    <a:pt x="172" y="662"/>
                  </a:lnTo>
                  <a:lnTo>
                    <a:pt x="165" y="650"/>
                  </a:lnTo>
                  <a:lnTo>
                    <a:pt x="158" y="640"/>
                  </a:lnTo>
                  <a:lnTo>
                    <a:pt x="152" y="629"/>
                  </a:lnTo>
                  <a:lnTo>
                    <a:pt x="147" y="619"/>
                  </a:lnTo>
                  <a:lnTo>
                    <a:pt x="0" y="86"/>
                  </a:lnTo>
                  <a:lnTo>
                    <a:pt x="12" y="89"/>
                  </a:lnTo>
                  <a:lnTo>
                    <a:pt x="23" y="90"/>
                  </a:lnTo>
                  <a:lnTo>
                    <a:pt x="34" y="91"/>
                  </a:lnTo>
                  <a:lnTo>
                    <a:pt x="44" y="91"/>
                  </a:lnTo>
                  <a:lnTo>
                    <a:pt x="65" y="91"/>
                  </a:lnTo>
                  <a:lnTo>
                    <a:pt x="84" y="89"/>
                  </a:lnTo>
                  <a:lnTo>
                    <a:pt x="103" y="84"/>
                  </a:lnTo>
                  <a:lnTo>
                    <a:pt x="119" y="78"/>
                  </a:lnTo>
                  <a:lnTo>
                    <a:pt x="136" y="72"/>
                  </a:lnTo>
                  <a:lnTo>
                    <a:pt x="150" y="65"/>
                  </a:lnTo>
                  <a:lnTo>
                    <a:pt x="174" y="50"/>
                  </a:lnTo>
                  <a:lnTo>
                    <a:pt x="194" y="36"/>
                  </a:lnTo>
                  <a:lnTo>
                    <a:pt x="208" y="27"/>
                  </a:lnTo>
                  <a:lnTo>
                    <a:pt x="216" y="22"/>
                  </a:lnTo>
                  <a:lnTo>
                    <a:pt x="743" y="0"/>
                  </a:lnTo>
                  <a:lnTo>
                    <a:pt x="996" y="702"/>
                  </a:lnTo>
                  <a:lnTo>
                    <a:pt x="980" y="716"/>
                  </a:lnTo>
                  <a:lnTo>
                    <a:pt x="967" y="728"/>
                  </a:lnTo>
                  <a:lnTo>
                    <a:pt x="963" y="733"/>
                  </a:lnTo>
                  <a:lnTo>
                    <a:pt x="959" y="739"/>
                  </a:lnTo>
                  <a:lnTo>
                    <a:pt x="957" y="744"/>
                  </a:lnTo>
                  <a:lnTo>
                    <a:pt x="954" y="749"/>
                  </a:lnTo>
                  <a:lnTo>
                    <a:pt x="953" y="758"/>
                  </a:lnTo>
                  <a:lnTo>
                    <a:pt x="953" y="766"/>
                  </a:lnTo>
                  <a:lnTo>
                    <a:pt x="956" y="774"/>
                  </a:lnTo>
                  <a:lnTo>
                    <a:pt x="958" y="782"/>
                  </a:lnTo>
                  <a:lnTo>
                    <a:pt x="959" y="792"/>
                  </a:lnTo>
                  <a:lnTo>
                    <a:pt x="961" y="801"/>
                  </a:lnTo>
                  <a:lnTo>
                    <a:pt x="961" y="812"/>
                  </a:lnTo>
                  <a:lnTo>
                    <a:pt x="959" y="823"/>
                  </a:lnTo>
                  <a:lnTo>
                    <a:pt x="957" y="830"/>
                  </a:lnTo>
                  <a:lnTo>
                    <a:pt x="953" y="837"/>
                  </a:lnTo>
                  <a:lnTo>
                    <a:pt x="950" y="844"/>
                  </a:lnTo>
                  <a:lnTo>
                    <a:pt x="945" y="853"/>
                  </a:lnTo>
                  <a:lnTo>
                    <a:pt x="932" y="870"/>
                  </a:lnTo>
                  <a:lnTo>
                    <a:pt x="913" y="890"/>
                  </a:lnTo>
                  <a:lnTo>
                    <a:pt x="894" y="909"/>
                  </a:lnTo>
                  <a:lnTo>
                    <a:pt x="873" y="925"/>
                  </a:lnTo>
                  <a:lnTo>
                    <a:pt x="852" y="941"/>
                  </a:lnTo>
                  <a:lnTo>
                    <a:pt x="829" y="955"/>
                  </a:lnTo>
                  <a:lnTo>
                    <a:pt x="807" y="968"/>
                  </a:lnTo>
                  <a:lnTo>
                    <a:pt x="785" y="981"/>
                  </a:lnTo>
                  <a:lnTo>
                    <a:pt x="763" y="992"/>
                  </a:lnTo>
                  <a:lnTo>
                    <a:pt x="739" y="1002"/>
                  </a:lnTo>
                  <a:lnTo>
                    <a:pt x="716" y="1010"/>
                  </a:lnTo>
                  <a:lnTo>
                    <a:pt x="693" y="1018"/>
                  </a:lnTo>
                  <a:lnTo>
                    <a:pt x="669" y="1025"/>
                  </a:lnTo>
                  <a:lnTo>
                    <a:pt x="646" y="1032"/>
                  </a:lnTo>
                  <a:lnTo>
                    <a:pt x="599" y="1044"/>
                  </a:lnTo>
                  <a:lnTo>
                    <a:pt x="554" y="1053"/>
                  </a:lnTo>
                  <a:lnTo>
                    <a:pt x="466" y="1069"/>
                  </a:lnTo>
                  <a:lnTo>
                    <a:pt x="387" y="1085"/>
                  </a:lnTo>
                  <a:lnTo>
                    <a:pt x="369" y="1090"/>
                  </a:lnTo>
                  <a:lnTo>
                    <a:pt x="352" y="1094"/>
                  </a:lnTo>
                  <a:lnTo>
                    <a:pt x="335" y="1100"/>
                  </a:lnTo>
                  <a:lnTo>
                    <a:pt x="321" y="1106"/>
                  </a:lnTo>
                  <a:lnTo>
                    <a:pt x="306" y="1113"/>
                  </a:lnTo>
                  <a:lnTo>
                    <a:pt x="293" y="1120"/>
                  </a:lnTo>
                  <a:lnTo>
                    <a:pt x="282" y="1128"/>
                  </a:lnTo>
                  <a:lnTo>
                    <a:pt x="271" y="1138"/>
                  </a:lnTo>
                  <a:lnTo>
                    <a:pt x="250" y="1157"/>
                  </a:lnTo>
                  <a:lnTo>
                    <a:pt x="235" y="1171"/>
                  </a:lnTo>
                  <a:lnTo>
                    <a:pt x="227" y="1182"/>
                  </a:lnTo>
                  <a:lnTo>
                    <a:pt x="222" y="1189"/>
                  </a:lnTo>
                  <a:lnTo>
                    <a:pt x="217" y="1201"/>
                  </a:lnTo>
                  <a:lnTo>
                    <a:pt x="208" y="122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3" name="Freeform 1470"/>
            <p:cNvSpPr/>
            <p:nvPr/>
          </p:nvSpPr>
          <p:spPr>
            <a:xfrm>
              <a:off x="4994640" y="4773960"/>
              <a:ext cx="179280" cy="184320"/>
            </a:xfrm>
            <a:custGeom>
              <a:avLst/>
              <a:gdLst>
                <a:gd name="textAreaLeft" fmla="*/ 0 w 179280"/>
                <a:gd name="textAreaRight" fmla="*/ 179640 w 179280"/>
                <a:gd name="textAreaTop" fmla="*/ 0 h 184320"/>
                <a:gd name="textAreaBottom" fmla="*/ 184680 h 184320"/>
              </a:gdLst>
              <a:ahLst/>
              <a:rect l="textAreaLeft" t="textAreaTop" r="textAreaRight" b="textAreaBottom"/>
              <a:pathLst>
                <a:path w="996" h="1220">
                  <a:moveTo>
                    <a:pt x="208" y="1220"/>
                  </a:moveTo>
                  <a:lnTo>
                    <a:pt x="207" y="1215"/>
                  </a:lnTo>
                  <a:lnTo>
                    <a:pt x="206" y="1199"/>
                  </a:lnTo>
                  <a:lnTo>
                    <a:pt x="203" y="1176"/>
                  </a:lnTo>
                  <a:lnTo>
                    <a:pt x="201" y="1146"/>
                  </a:lnTo>
                  <a:lnTo>
                    <a:pt x="197" y="1109"/>
                  </a:lnTo>
                  <a:lnTo>
                    <a:pt x="195" y="1071"/>
                  </a:lnTo>
                  <a:lnTo>
                    <a:pt x="194" y="1031"/>
                  </a:lnTo>
                  <a:lnTo>
                    <a:pt x="194" y="990"/>
                  </a:lnTo>
                  <a:lnTo>
                    <a:pt x="194" y="970"/>
                  </a:lnTo>
                  <a:lnTo>
                    <a:pt x="194" y="953"/>
                  </a:lnTo>
                  <a:lnTo>
                    <a:pt x="196" y="935"/>
                  </a:lnTo>
                  <a:lnTo>
                    <a:pt x="197" y="920"/>
                  </a:lnTo>
                  <a:lnTo>
                    <a:pt x="201" y="905"/>
                  </a:lnTo>
                  <a:lnTo>
                    <a:pt x="204" y="892"/>
                  </a:lnTo>
                  <a:lnTo>
                    <a:pt x="208" y="879"/>
                  </a:lnTo>
                  <a:lnTo>
                    <a:pt x="213" y="867"/>
                  </a:lnTo>
                  <a:lnTo>
                    <a:pt x="218" y="855"/>
                  </a:lnTo>
                  <a:lnTo>
                    <a:pt x="224" y="843"/>
                  </a:lnTo>
                  <a:lnTo>
                    <a:pt x="231" y="831"/>
                  </a:lnTo>
                  <a:lnTo>
                    <a:pt x="239" y="821"/>
                  </a:lnTo>
                  <a:lnTo>
                    <a:pt x="258" y="796"/>
                  </a:lnTo>
                  <a:lnTo>
                    <a:pt x="280" y="772"/>
                  </a:lnTo>
                  <a:lnTo>
                    <a:pt x="264" y="759"/>
                  </a:lnTo>
                  <a:lnTo>
                    <a:pt x="245" y="743"/>
                  </a:lnTo>
                  <a:lnTo>
                    <a:pt x="227" y="725"/>
                  </a:lnTo>
                  <a:lnTo>
                    <a:pt x="207" y="705"/>
                  </a:lnTo>
                  <a:lnTo>
                    <a:pt x="189" y="683"/>
                  </a:lnTo>
                  <a:lnTo>
                    <a:pt x="172" y="662"/>
                  </a:lnTo>
                  <a:lnTo>
                    <a:pt x="165" y="650"/>
                  </a:lnTo>
                  <a:lnTo>
                    <a:pt x="158" y="640"/>
                  </a:lnTo>
                  <a:lnTo>
                    <a:pt x="152" y="629"/>
                  </a:lnTo>
                  <a:lnTo>
                    <a:pt x="147" y="619"/>
                  </a:lnTo>
                  <a:lnTo>
                    <a:pt x="0" y="86"/>
                  </a:lnTo>
                  <a:lnTo>
                    <a:pt x="12" y="89"/>
                  </a:lnTo>
                  <a:lnTo>
                    <a:pt x="23" y="90"/>
                  </a:lnTo>
                  <a:lnTo>
                    <a:pt x="34" y="91"/>
                  </a:lnTo>
                  <a:lnTo>
                    <a:pt x="44" y="91"/>
                  </a:lnTo>
                  <a:lnTo>
                    <a:pt x="65" y="91"/>
                  </a:lnTo>
                  <a:lnTo>
                    <a:pt x="84" y="89"/>
                  </a:lnTo>
                  <a:lnTo>
                    <a:pt x="103" y="84"/>
                  </a:lnTo>
                  <a:lnTo>
                    <a:pt x="119" y="78"/>
                  </a:lnTo>
                  <a:lnTo>
                    <a:pt x="136" y="72"/>
                  </a:lnTo>
                  <a:lnTo>
                    <a:pt x="150" y="65"/>
                  </a:lnTo>
                  <a:lnTo>
                    <a:pt x="174" y="50"/>
                  </a:lnTo>
                  <a:lnTo>
                    <a:pt x="194" y="36"/>
                  </a:lnTo>
                  <a:lnTo>
                    <a:pt x="208" y="27"/>
                  </a:lnTo>
                  <a:lnTo>
                    <a:pt x="216" y="22"/>
                  </a:lnTo>
                  <a:lnTo>
                    <a:pt x="743" y="0"/>
                  </a:lnTo>
                  <a:lnTo>
                    <a:pt x="996" y="702"/>
                  </a:lnTo>
                  <a:lnTo>
                    <a:pt x="980" y="716"/>
                  </a:lnTo>
                  <a:lnTo>
                    <a:pt x="967" y="728"/>
                  </a:lnTo>
                  <a:lnTo>
                    <a:pt x="963" y="733"/>
                  </a:lnTo>
                  <a:lnTo>
                    <a:pt x="959" y="739"/>
                  </a:lnTo>
                  <a:lnTo>
                    <a:pt x="957" y="744"/>
                  </a:lnTo>
                  <a:lnTo>
                    <a:pt x="954" y="749"/>
                  </a:lnTo>
                  <a:lnTo>
                    <a:pt x="953" y="758"/>
                  </a:lnTo>
                  <a:lnTo>
                    <a:pt x="953" y="766"/>
                  </a:lnTo>
                  <a:lnTo>
                    <a:pt x="956" y="774"/>
                  </a:lnTo>
                  <a:lnTo>
                    <a:pt x="958" y="782"/>
                  </a:lnTo>
                  <a:lnTo>
                    <a:pt x="959" y="792"/>
                  </a:lnTo>
                  <a:lnTo>
                    <a:pt x="961" y="801"/>
                  </a:lnTo>
                  <a:lnTo>
                    <a:pt x="961" y="812"/>
                  </a:lnTo>
                  <a:lnTo>
                    <a:pt x="959" y="823"/>
                  </a:lnTo>
                  <a:lnTo>
                    <a:pt x="957" y="830"/>
                  </a:lnTo>
                  <a:lnTo>
                    <a:pt x="953" y="837"/>
                  </a:lnTo>
                  <a:lnTo>
                    <a:pt x="950" y="844"/>
                  </a:lnTo>
                  <a:lnTo>
                    <a:pt x="945" y="853"/>
                  </a:lnTo>
                  <a:lnTo>
                    <a:pt x="932" y="870"/>
                  </a:lnTo>
                  <a:lnTo>
                    <a:pt x="913" y="890"/>
                  </a:lnTo>
                  <a:lnTo>
                    <a:pt x="894" y="909"/>
                  </a:lnTo>
                  <a:lnTo>
                    <a:pt x="873" y="925"/>
                  </a:lnTo>
                  <a:lnTo>
                    <a:pt x="852" y="941"/>
                  </a:lnTo>
                  <a:lnTo>
                    <a:pt x="829" y="955"/>
                  </a:lnTo>
                  <a:lnTo>
                    <a:pt x="807" y="968"/>
                  </a:lnTo>
                  <a:lnTo>
                    <a:pt x="785" y="981"/>
                  </a:lnTo>
                  <a:lnTo>
                    <a:pt x="763" y="992"/>
                  </a:lnTo>
                  <a:lnTo>
                    <a:pt x="739" y="1002"/>
                  </a:lnTo>
                  <a:lnTo>
                    <a:pt x="716" y="1010"/>
                  </a:lnTo>
                  <a:lnTo>
                    <a:pt x="693" y="1018"/>
                  </a:lnTo>
                  <a:lnTo>
                    <a:pt x="669" y="1025"/>
                  </a:lnTo>
                  <a:lnTo>
                    <a:pt x="646" y="1032"/>
                  </a:lnTo>
                  <a:lnTo>
                    <a:pt x="599" y="1044"/>
                  </a:lnTo>
                  <a:lnTo>
                    <a:pt x="554" y="1053"/>
                  </a:lnTo>
                  <a:lnTo>
                    <a:pt x="466" y="1069"/>
                  </a:lnTo>
                  <a:lnTo>
                    <a:pt x="387" y="1085"/>
                  </a:lnTo>
                  <a:lnTo>
                    <a:pt x="369" y="1090"/>
                  </a:lnTo>
                  <a:lnTo>
                    <a:pt x="352" y="1094"/>
                  </a:lnTo>
                  <a:lnTo>
                    <a:pt x="335" y="1100"/>
                  </a:lnTo>
                  <a:lnTo>
                    <a:pt x="321" y="1106"/>
                  </a:lnTo>
                  <a:lnTo>
                    <a:pt x="306" y="1113"/>
                  </a:lnTo>
                  <a:lnTo>
                    <a:pt x="293" y="1120"/>
                  </a:lnTo>
                  <a:lnTo>
                    <a:pt x="282" y="1128"/>
                  </a:lnTo>
                  <a:lnTo>
                    <a:pt x="271" y="1138"/>
                  </a:lnTo>
                  <a:lnTo>
                    <a:pt x="250" y="1157"/>
                  </a:lnTo>
                  <a:lnTo>
                    <a:pt x="235" y="1171"/>
                  </a:lnTo>
                  <a:lnTo>
                    <a:pt x="227" y="1182"/>
                  </a:lnTo>
                  <a:lnTo>
                    <a:pt x="222" y="1189"/>
                  </a:lnTo>
                  <a:lnTo>
                    <a:pt x="217" y="1201"/>
                  </a:lnTo>
                  <a:lnTo>
                    <a:pt x="208" y="1220"/>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4" name="Freeform 1471"/>
            <p:cNvSpPr/>
            <p:nvPr/>
          </p:nvSpPr>
          <p:spPr>
            <a:xfrm>
              <a:off x="5128560" y="4739400"/>
              <a:ext cx="219240" cy="155520"/>
            </a:xfrm>
            <a:custGeom>
              <a:avLst/>
              <a:gdLst>
                <a:gd name="textAreaLeft" fmla="*/ 0 w 219240"/>
                <a:gd name="textAreaRight" fmla="*/ 219600 w 219240"/>
                <a:gd name="textAreaTop" fmla="*/ 0 h 155520"/>
                <a:gd name="textAreaBottom" fmla="*/ 155880 h 155520"/>
              </a:gdLst>
              <a:ahLst/>
              <a:rect l="textAreaLeft" t="textAreaTop" r="textAreaRight" b="textAreaBottom"/>
              <a:pathLst>
                <a:path w="1219" h="1031">
                  <a:moveTo>
                    <a:pt x="253" y="930"/>
                  </a:moveTo>
                  <a:lnTo>
                    <a:pt x="0" y="228"/>
                  </a:lnTo>
                  <a:lnTo>
                    <a:pt x="410" y="190"/>
                  </a:lnTo>
                  <a:lnTo>
                    <a:pt x="524" y="204"/>
                  </a:lnTo>
                  <a:lnTo>
                    <a:pt x="568" y="199"/>
                  </a:lnTo>
                  <a:lnTo>
                    <a:pt x="609" y="190"/>
                  </a:lnTo>
                  <a:lnTo>
                    <a:pt x="648" y="182"/>
                  </a:lnTo>
                  <a:lnTo>
                    <a:pt x="687" y="173"/>
                  </a:lnTo>
                  <a:lnTo>
                    <a:pt x="723" y="164"/>
                  </a:lnTo>
                  <a:lnTo>
                    <a:pt x="759" y="152"/>
                  </a:lnTo>
                  <a:lnTo>
                    <a:pt x="794" y="140"/>
                  </a:lnTo>
                  <a:lnTo>
                    <a:pt x="827" y="129"/>
                  </a:lnTo>
                  <a:lnTo>
                    <a:pt x="860" y="115"/>
                  </a:lnTo>
                  <a:lnTo>
                    <a:pt x="890" y="100"/>
                  </a:lnTo>
                  <a:lnTo>
                    <a:pt x="919" y="85"/>
                  </a:lnTo>
                  <a:lnTo>
                    <a:pt x="948" y="70"/>
                  </a:lnTo>
                  <a:lnTo>
                    <a:pt x="975" y="54"/>
                  </a:lnTo>
                  <a:lnTo>
                    <a:pt x="1002" y="36"/>
                  </a:lnTo>
                  <a:lnTo>
                    <a:pt x="1028" y="19"/>
                  </a:lnTo>
                  <a:lnTo>
                    <a:pt x="1051" y="0"/>
                  </a:lnTo>
                  <a:lnTo>
                    <a:pt x="1066" y="29"/>
                  </a:lnTo>
                  <a:lnTo>
                    <a:pt x="1077" y="55"/>
                  </a:lnTo>
                  <a:lnTo>
                    <a:pt x="1085" y="77"/>
                  </a:lnTo>
                  <a:lnTo>
                    <a:pt x="1091" y="96"/>
                  </a:lnTo>
                  <a:lnTo>
                    <a:pt x="1094" y="112"/>
                  </a:lnTo>
                  <a:lnTo>
                    <a:pt x="1097" y="126"/>
                  </a:lnTo>
                  <a:lnTo>
                    <a:pt x="1098" y="139"/>
                  </a:lnTo>
                  <a:lnTo>
                    <a:pt x="1099" y="152"/>
                  </a:lnTo>
                  <a:lnTo>
                    <a:pt x="1101" y="164"/>
                  </a:lnTo>
                  <a:lnTo>
                    <a:pt x="1103" y="176"/>
                  </a:lnTo>
                  <a:lnTo>
                    <a:pt x="1106" y="190"/>
                  </a:lnTo>
                  <a:lnTo>
                    <a:pt x="1111" y="204"/>
                  </a:lnTo>
                  <a:lnTo>
                    <a:pt x="1119" y="222"/>
                  </a:lnTo>
                  <a:lnTo>
                    <a:pt x="1128" y="242"/>
                  </a:lnTo>
                  <a:lnTo>
                    <a:pt x="1141" y="264"/>
                  </a:lnTo>
                  <a:lnTo>
                    <a:pt x="1159" y="291"/>
                  </a:lnTo>
                  <a:lnTo>
                    <a:pt x="1160" y="296"/>
                  </a:lnTo>
                  <a:lnTo>
                    <a:pt x="1161" y="299"/>
                  </a:lnTo>
                  <a:lnTo>
                    <a:pt x="1161" y="304"/>
                  </a:lnTo>
                  <a:lnTo>
                    <a:pt x="1160" y="307"/>
                  </a:lnTo>
                  <a:lnTo>
                    <a:pt x="1156" y="318"/>
                  </a:lnTo>
                  <a:lnTo>
                    <a:pt x="1152" y="329"/>
                  </a:lnTo>
                  <a:lnTo>
                    <a:pt x="1149" y="336"/>
                  </a:lnTo>
                  <a:lnTo>
                    <a:pt x="1148" y="343"/>
                  </a:lnTo>
                  <a:lnTo>
                    <a:pt x="1147" y="353"/>
                  </a:lnTo>
                  <a:lnTo>
                    <a:pt x="1147" y="362"/>
                  </a:lnTo>
                  <a:lnTo>
                    <a:pt x="1148" y="373"/>
                  </a:lnTo>
                  <a:lnTo>
                    <a:pt x="1149" y="386"/>
                  </a:lnTo>
                  <a:lnTo>
                    <a:pt x="1153" y="400"/>
                  </a:lnTo>
                  <a:lnTo>
                    <a:pt x="1159" y="415"/>
                  </a:lnTo>
                  <a:lnTo>
                    <a:pt x="1165" y="430"/>
                  </a:lnTo>
                  <a:lnTo>
                    <a:pt x="1172" y="443"/>
                  </a:lnTo>
                  <a:lnTo>
                    <a:pt x="1179" y="454"/>
                  </a:lnTo>
                  <a:lnTo>
                    <a:pt x="1184" y="465"/>
                  </a:lnTo>
                  <a:lnTo>
                    <a:pt x="1198" y="484"/>
                  </a:lnTo>
                  <a:lnTo>
                    <a:pt x="1209" y="502"/>
                  </a:lnTo>
                  <a:lnTo>
                    <a:pt x="1214" y="512"/>
                  </a:lnTo>
                  <a:lnTo>
                    <a:pt x="1217" y="523"/>
                  </a:lnTo>
                  <a:lnTo>
                    <a:pt x="1219" y="535"/>
                  </a:lnTo>
                  <a:lnTo>
                    <a:pt x="1219" y="548"/>
                  </a:lnTo>
                  <a:lnTo>
                    <a:pt x="1219" y="563"/>
                  </a:lnTo>
                  <a:lnTo>
                    <a:pt x="1216" y="581"/>
                  </a:lnTo>
                  <a:lnTo>
                    <a:pt x="1211" y="599"/>
                  </a:lnTo>
                  <a:lnTo>
                    <a:pt x="1204" y="623"/>
                  </a:lnTo>
                  <a:lnTo>
                    <a:pt x="1189" y="674"/>
                  </a:lnTo>
                  <a:lnTo>
                    <a:pt x="1181" y="700"/>
                  </a:lnTo>
                  <a:lnTo>
                    <a:pt x="1179" y="704"/>
                  </a:lnTo>
                  <a:lnTo>
                    <a:pt x="1175" y="709"/>
                  </a:lnTo>
                  <a:lnTo>
                    <a:pt x="1172" y="713"/>
                  </a:lnTo>
                  <a:lnTo>
                    <a:pt x="1167" y="716"/>
                  </a:lnTo>
                  <a:lnTo>
                    <a:pt x="1154" y="725"/>
                  </a:lnTo>
                  <a:lnTo>
                    <a:pt x="1135" y="737"/>
                  </a:lnTo>
                  <a:lnTo>
                    <a:pt x="1139" y="763"/>
                  </a:lnTo>
                  <a:lnTo>
                    <a:pt x="1141" y="788"/>
                  </a:lnTo>
                  <a:lnTo>
                    <a:pt x="1142" y="801"/>
                  </a:lnTo>
                  <a:lnTo>
                    <a:pt x="1142" y="813"/>
                  </a:lnTo>
                  <a:lnTo>
                    <a:pt x="1141" y="825"/>
                  </a:lnTo>
                  <a:lnTo>
                    <a:pt x="1140" y="835"/>
                  </a:lnTo>
                  <a:lnTo>
                    <a:pt x="1138" y="846"/>
                  </a:lnTo>
                  <a:lnTo>
                    <a:pt x="1134" y="855"/>
                  </a:lnTo>
                  <a:lnTo>
                    <a:pt x="1130" y="864"/>
                  </a:lnTo>
                  <a:lnTo>
                    <a:pt x="1124" y="873"/>
                  </a:lnTo>
                  <a:lnTo>
                    <a:pt x="1116" y="880"/>
                  </a:lnTo>
                  <a:lnTo>
                    <a:pt x="1106" y="884"/>
                  </a:lnTo>
                  <a:lnTo>
                    <a:pt x="1094" y="889"/>
                  </a:lnTo>
                  <a:lnTo>
                    <a:pt x="1080" y="892"/>
                  </a:lnTo>
                  <a:lnTo>
                    <a:pt x="1082" y="908"/>
                  </a:lnTo>
                  <a:lnTo>
                    <a:pt x="1082" y="922"/>
                  </a:lnTo>
                  <a:lnTo>
                    <a:pt x="1080" y="933"/>
                  </a:lnTo>
                  <a:lnTo>
                    <a:pt x="1079" y="945"/>
                  </a:lnTo>
                  <a:lnTo>
                    <a:pt x="1073" y="965"/>
                  </a:lnTo>
                  <a:lnTo>
                    <a:pt x="1069" y="981"/>
                  </a:lnTo>
                  <a:lnTo>
                    <a:pt x="1064" y="995"/>
                  </a:lnTo>
                  <a:lnTo>
                    <a:pt x="1062" y="1008"/>
                  </a:lnTo>
                  <a:lnTo>
                    <a:pt x="1063" y="1014"/>
                  </a:lnTo>
                  <a:lnTo>
                    <a:pt x="1064" y="1020"/>
                  </a:lnTo>
                  <a:lnTo>
                    <a:pt x="1068" y="1026"/>
                  </a:lnTo>
                  <a:lnTo>
                    <a:pt x="1072" y="1031"/>
                  </a:lnTo>
                  <a:lnTo>
                    <a:pt x="1037" y="1023"/>
                  </a:lnTo>
                  <a:lnTo>
                    <a:pt x="1008" y="1015"/>
                  </a:lnTo>
                  <a:lnTo>
                    <a:pt x="982" y="1006"/>
                  </a:lnTo>
                  <a:lnTo>
                    <a:pt x="961" y="995"/>
                  </a:lnTo>
                  <a:lnTo>
                    <a:pt x="943" y="985"/>
                  </a:lnTo>
                  <a:lnTo>
                    <a:pt x="926" y="974"/>
                  </a:lnTo>
                  <a:lnTo>
                    <a:pt x="912" y="964"/>
                  </a:lnTo>
                  <a:lnTo>
                    <a:pt x="901" y="953"/>
                  </a:lnTo>
                  <a:lnTo>
                    <a:pt x="889" y="943"/>
                  </a:lnTo>
                  <a:lnTo>
                    <a:pt x="877" y="934"/>
                  </a:lnTo>
                  <a:lnTo>
                    <a:pt x="864" y="926"/>
                  </a:lnTo>
                  <a:lnTo>
                    <a:pt x="852" y="919"/>
                  </a:lnTo>
                  <a:lnTo>
                    <a:pt x="837" y="913"/>
                  </a:lnTo>
                  <a:lnTo>
                    <a:pt x="821" y="909"/>
                  </a:lnTo>
                  <a:lnTo>
                    <a:pt x="801" y="908"/>
                  </a:lnTo>
                  <a:lnTo>
                    <a:pt x="778" y="908"/>
                  </a:lnTo>
                  <a:lnTo>
                    <a:pt x="751" y="908"/>
                  </a:lnTo>
                  <a:lnTo>
                    <a:pt x="724" y="909"/>
                  </a:lnTo>
                  <a:lnTo>
                    <a:pt x="700" y="911"/>
                  </a:lnTo>
                  <a:lnTo>
                    <a:pt x="677" y="915"/>
                  </a:lnTo>
                  <a:lnTo>
                    <a:pt x="656" y="919"/>
                  </a:lnTo>
                  <a:lnTo>
                    <a:pt x="638" y="924"/>
                  </a:lnTo>
                  <a:lnTo>
                    <a:pt x="630" y="927"/>
                  </a:lnTo>
                  <a:lnTo>
                    <a:pt x="621" y="931"/>
                  </a:lnTo>
                  <a:lnTo>
                    <a:pt x="614" y="934"/>
                  </a:lnTo>
                  <a:lnTo>
                    <a:pt x="609" y="939"/>
                  </a:lnTo>
                  <a:lnTo>
                    <a:pt x="603" y="943"/>
                  </a:lnTo>
                  <a:lnTo>
                    <a:pt x="597" y="944"/>
                  </a:lnTo>
                  <a:lnTo>
                    <a:pt x="590" y="944"/>
                  </a:lnTo>
                  <a:lnTo>
                    <a:pt x="583" y="943"/>
                  </a:lnTo>
                  <a:lnTo>
                    <a:pt x="568" y="938"/>
                  </a:lnTo>
                  <a:lnTo>
                    <a:pt x="552" y="930"/>
                  </a:lnTo>
                  <a:lnTo>
                    <a:pt x="538" y="920"/>
                  </a:lnTo>
                  <a:lnTo>
                    <a:pt x="524" y="913"/>
                  </a:lnTo>
                  <a:lnTo>
                    <a:pt x="517" y="910"/>
                  </a:lnTo>
                  <a:lnTo>
                    <a:pt x="512" y="908"/>
                  </a:lnTo>
                  <a:lnTo>
                    <a:pt x="506" y="906"/>
                  </a:lnTo>
                  <a:lnTo>
                    <a:pt x="501" y="908"/>
                  </a:lnTo>
                  <a:lnTo>
                    <a:pt x="496" y="909"/>
                  </a:lnTo>
                  <a:lnTo>
                    <a:pt x="488" y="908"/>
                  </a:lnTo>
                  <a:lnTo>
                    <a:pt x="479" y="908"/>
                  </a:lnTo>
                  <a:lnTo>
                    <a:pt x="468" y="905"/>
                  </a:lnTo>
                  <a:lnTo>
                    <a:pt x="444" y="901"/>
                  </a:lnTo>
                  <a:lnTo>
                    <a:pt x="417" y="896"/>
                  </a:lnTo>
                  <a:lnTo>
                    <a:pt x="403" y="894"/>
                  </a:lnTo>
                  <a:lnTo>
                    <a:pt x="390" y="891"/>
                  </a:lnTo>
                  <a:lnTo>
                    <a:pt x="377" y="890"/>
                  </a:lnTo>
                  <a:lnTo>
                    <a:pt x="364" y="890"/>
                  </a:lnTo>
                  <a:lnTo>
                    <a:pt x="354" y="891"/>
                  </a:lnTo>
                  <a:lnTo>
                    <a:pt x="345" y="892"/>
                  </a:lnTo>
                  <a:lnTo>
                    <a:pt x="341" y="895"/>
                  </a:lnTo>
                  <a:lnTo>
                    <a:pt x="338" y="896"/>
                  </a:lnTo>
                  <a:lnTo>
                    <a:pt x="334" y="898"/>
                  </a:lnTo>
                  <a:lnTo>
                    <a:pt x="332" y="902"/>
                  </a:lnTo>
                  <a:lnTo>
                    <a:pt x="327" y="906"/>
                  </a:lnTo>
                  <a:lnTo>
                    <a:pt x="322" y="910"/>
                  </a:lnTo>
                  <a:lnTo>
                    <a:pt x="318" y="912"/>
                  </a:lnTo>
                  <a:lnTo>
                    <a:pt x="312" y="915"/>
                  </a:lnTo>
                  <a:lnTo>
                    <a:pt x="301" y="917"/>
                  </a:lnTo>
                  <a:lnTo>
                    <a:pt x="290" y="918"/>
                  </a:lnTo>
                  <a:lnTo>
                    <a:pt x="279" y="918"/>
                  </a:lnTo>
                  <a:lnTo>
                    <a:pt x="269" y="920"/>
                  </a:lnTo>
                  <a:lnTo>
                    <a:pt x="264" y="922"/>
                  </a:lnTo>
                  <a:lnTo>
                    <a:pt x="260" y="924"/>
                  </a:lnTo>
                  <a:lnTo>
                    <a:pt x="257" y="926"/>
                  </a:lnTo>
                  <a:lnTo>
                    <a:pt x="253" y="93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5" name="Freeform 1472"/>
            <p:cNvSpPr/>
            <p:nvPr/>
          </p:nvSpPr>
          <p:spPr>
            <a:xfrm>
              <a:off x="5128560" y="4739400"/>
              <a:ext cx="219240" cy="155520"/>
            </a:xfrm>
            <a:custGeom>
              <a:avLst/>
              <a:gdLst>
                <a:gd name="textAreaLeft" fmla="*/ 0 w 219240"/>
                <a:gd name="textAreaRight" fmla="*/ 219600 w 219240"/>
                <a:gd name="textAreaTop" fmla="*/ 0 h 155520"/>
                <a:gd name="textAreaBottom" fmla="*/ 155880 h 155520"/>
              </a:gdLst>
              <a:ahLst/>
              <a:rect l="textAreaLeft" t="textAreaTop" r="textAreaRight" b="textAreaBottom"/>
              <a:pathLst>
                <a:path w="1219" h="1031">
                  <a:moveTo>
                    <a:pt x="253" y="930"/>
                  </a:moveTo>
                  <a:lnTo>
                    <a:pt x="0" y="228"/>
                  </a:lnTo>
                  <a:lnTo>
                    <a:pt x="410" y="190"/>
                  </a:lnTo>
                  <a:lnTo>
                    <a:pt x="524" y="204"/>
                  </a:lnTo>
                  <a:lnTo>
                    <a:pt x="568" y="199"/>
                  </a:lnTo>
                  <a:lnTo>
                    <a:pt x="609" y="190"/>
                  </a:lnTo>
                  <a:lnTo>
                    <a:pt x="648" y="182"/>
                  </a:lnTo>
                  <a:lnTo>
                    <a:pt x="687" y="173"/>
                  </a:lnTo>
                  <a:lnTo>
                    <a:pt x="723" y="164"/>
                  </a:lnTo>
                  <a:lnTo>
                    <a:pt x="759" y="152"/>
                  </a:lnTo>
                  <a:lnTo>
                    <a:pt x="794" y="140"/>
                  </a:lnTo>
                  <a:lnTo>
                    <a:pt x="827" y="129"/>
                  </a:lnTo>
                  <a:lnTo>
                    <a:pt x="860" y="115"/>
                  </a:lnTo>
                  <a:lnTo>
                    <a:pt x="890" y="100"/>
                  </a:lnTo>
                  <a:lnTo>
                    <a:pt x="919" y="85"/>
                  </a:lnTo>
                  <a:lnTo>
                    <a:pt x="948" y="70"/>
                  </a:lnTo>
                  <a:lnTo>
                    <a:pt x="975" y="54"/>
                  </a:lnTo>
                  <a:lnTo>
                    <a:pt x="1002" y="36"/>
                  </a:lnTo>
                  <a:lnTo>
                    <a:pt x="1028" y="19"/>
                  </a:lnTo>
                  <a:lnTo>
                    <a:pt x="1051" y="0"/>
                  </a:lnTo>
                  <a:lnTo>
                    <a:pt x="1066" y="29"/>
                  </a:lnTo>
                  <a:lnTo>
                    <a:pt x="1077" y="55"/>
                  </a:lnTo>
                  <a:lnTo>
                    <a:pt x="1085" y="77"/>
                  </a:lnTo>
                  <a:lnTo>
                    <a:pt x="1091" y="96"/>
                  </a:lnTo>
                  <a:lnTo>
                    <a:pt x="1094" y="112"/>
                  </a:lnTo>
                  <a:lnTo>
                    <a:pt x="1097" y="126"/>
                  </a:lnTo>
                  <a:lnTo>
                    <a:pt x="1098" y="139"/>
                  </a:lnTo>
                  <a:lnTo>
                    <a:pt x="1099" y="152"/>
                  </a:lnTo>
                  <a:lnTo>
                    <a:pt x="1101" y="164"/>
                  </a:lnTo>
                  <a:lnTo>
                    <a:pt x="1103" y="176"/>
                  </a:lnTo>
                  <a:lnTo>
                    <a:pt x="1106" y="190"/>
                  </a:lnTo>
                  <a:lnTo>
                    <a:pt x="1111" y="204"/>
                  </a:lnTo>
                  <a:lnTo>
                    <a:pt x="1119" y="222"/>
                  </a:lnTo>
                  <a:lnTo>
                    <a:pt x="1128" y="242"/>
                  </a:lnTo>
                  <a:lnTo>
                    <a:pt x="1141" y="264"/>
                  </a:lnTo>
                  <a:lnTo>
                    <a:pt x="1159" y="291"/>
                  </a:lnTo>
                  <a:lnTo>
                    <a:pt x="1160" y="296"/>
                  </a:lnTo>
                  <a:lnTo>
                    <a:pt x="1161" y="299"/>
                  </a:lnTo>
                  <a:lnTo>
                    <a:pt x="1161" y="304"/>
                  </a:lnTo>
                  <a:lnTo>
                    <a:pt x="1160" y="307"/>
                  </a:lnTo>
                  <a:lnTo>
                    <a:pt x="1156" y="318"/>
                  </a:lnTo>
                  <a:lnTo>
                    <a:pt x="1152" y="329"/>
                  </a:lnTo>
                  <a:lnTo>
                    <a:pt x="1149" y="336"/>
                  </a:lnTo>
                  <a:lnTo>
                    <a:pt x="1148" y="343"/>
                  </a:lnTo>
                  <a:lnTo>
                    <a:pt x="1147" y="353"/>
                  </a:lnTo>
                  <a:lnTo>
                    <a:pt x="1147" y="362"/>
                  </a:lnTo>
                  <a:lnTo>
                    <a:pt x="1148" y="373"/>
                  </a:lnTo>
                  <a:lnTo>
                    <a:pt x="1149" y="386"/>
                  </a:lnTo>
                  <a:lnTo>
                    <a:pt x="1153" y="400"/>
                  </a:lnTo>
                  <a:lnTo>
                    <a:pt x="1159" y="415"/>
                  </a:lnTo>
                  <a:lnTo>
                    <a:pt x="1165" y="430"/>
                  </a:lnTo>
                  <a:lnTo>
                    <a:pt x="1172" y="443"/>
                  </a:lnTo>
                  <a:lnTo>
                    <a:pt x="1179" y="454"/>
                  </a:lnTo>
                  <a:lnTo>
                    <a:pt x="1184" y="465"/>
                  </a:lnTo>
                  <a:lnTo>
                    <a:pt x="1198" y="484"/>
                  </a:lnTo>
                  <a:lnTo>
                    <a:pt x="1209" y="502"/>
                  </a:lnTo>
                  <a:lnTo>
                    <a:pt x="1214" y="512"/>
                  </a:lnTo>
                  <a:lnTo>
                    <a:pt x="1217" y="523"/>
                  </a:lnTo>
                  <a:lnTo>
                    <a:pt x="1219" y="535"/>
                  </a:lnTo>
                  <a:lnTo>
                    <a:pt x="1219" y="548"/>
                  </a:lnTo>
                  <a:lnTo>
                    <a:pt x="1219" y="563"/>
                  </a:lnTo>
                  <a:lnTo>
                    <a:pt x="1216" y="581"/>
                  </a:lnTo>
                  <a:lnTo>
                    <a:pt x="1211" y="599"/>
                  </a:lnTo>
                  <a:lnTo>
                    <a:pt x="1204" y="623"/>
                  </a:lnTo>
                  <a:lnTo>
                    <a:pt x="1189" y="674"/>
                  </a:lnTo>
                  <a:lnTo>
                    <a:pt x="1181" y="700"/>
                  </a:lnTo>
                  <a:lnTo>
                    <a:pt x="1179" y="704"/>
                  </a:lnTo>
                  <a:lnTo>
                    <a:pt x="1175" y="709"/>
                  </a:lnTo>
                  <a:lnTo>
                    <a:pt x="1172" y="713"/>
                  </a:lnTo>
                  <a:lnTo>
                    <a:pt x="1167" y="716"/>
                  </a:lnTo>
                  <a:lnTo>
                    <a:pt x="1154" y="725"/>
                  </a:lnTo>
                  <a:lnTo>
                    <a:pt x="1135" y="737"/>
                  </a:lnTo>
                  <a:lnTo>
                    <a:pt x="1139" y="763"/>
                  </a:lnTo>
                  <a:lnTo>
                    <a:pt x="1141" y="788"/>
                  </a:lnTo>
                  <a:lnTo>
                    <a:pt x="1142" y="801"/>
                  </a:lnTo>
                  <a:lnTo>
                    <a:pt x="1142" y="813"/>
                  </a:lnTo>
                  <a:lnTo>
                    <a:pt x="1141" y="825"/>
                  </a:lnTo>
                  <a:lnTo>
                    <a:pt x="1140" y="835"/>
                  </a:lnTo>
                  <a:lnTo>
                    <a:pt x="1138" y="846"/>
                  </a:lnTo>
                  <a:lnTo>
                    <a:pt x="1134" y="855"/>
                  </a:lnTo>
                  <a:lnTo>
                    <a:pt x="1130" y="864"/>
                  </a:lnTo>
                  <a:lnTo>
                    <a:pt x="1124" y="873"/>
                  </a:lnTo>
                  <a:lnTo>
                    <a:pt x="1116" y="880"/>
                  </a:lnTo>
                  <a:lnTo>
                    <a:pt x="1106" y="884"/>
                  </a:lnTo>
                  <a:lnTo>
                    <a:pt x="1094" y="889"/>
                  </a:lnTo>
                  <a:lnTo>
                    <a:pt x="1080" y="892"/>
                  </a:lnTo>
                  <a:lnTo>
                    <a:pt x="1082" y="908"/>
                  </a:lnTo>
                  <a:lnTo>
                    <a:pt x="1082" y="922"/>
                  </a:lnTo>
                  <a:lnTo>
                    <a:pt x="1080" y="933"/>
                  </a:lnTo>
                  <a:lnTo>
                    <a:pt x="1079" y="945"/>
                  </a:lnTo>
                  <a:lnTo>
                    <a:pt x="1073" y="965"/>
                  </a:lnTo>
                  <a:lnTo>
                    <a:pt x="1069" y="981"/>
                  </a:lnTo>
                  <a:lnTo>
                    <a:pt x="1064" y="995"/>
                  </a:lnTo>
                  <a:lnTo>
                    <a:pt x="1062" y="1008"/>
                  </a:lnTo>
                  <a:lnTo>
                    <a:pt x="1063" y="1014"/>
                  </a:lnTo>
                  <a:lnTo>
                    <a:pt x="1064" y="1020"/>
                  </a:lnTo>
                  <a:lnTo>
                    <a:pt x="1068" y="1026"/>
                  </a:lnTo>
                  <a:lnTo>
                    <a:pt x="1072" y="1031"/>
                  </a:lnTo>
                  <a:lnTo>
                    <a:pt x="1037" y="1023"/>
                  </a:lnTo>
                  <a:lnTo>
                    <a:pt x="1008" y="1015"/>
                  </a:lnTo>
                  <a:lnTo>
                    <a:pt x="982" y="1006"/>
                  </a:lnTo>
                  <a:lnTo>
                    <a:pt x="961" y="995"/>
                  </a:lnTo>
                  <a:lnTo>
                    <a:pt x="943" y="985"/>
                  </a:lnTo>
                  <a:lnTo>
                    <a:pt x="926" y="974"/>
                  </a:lnTo>
                  <a:lnTo>
                    <a:pt x="912" y="964"/>
                  </a:lnTo>
                  <a:lnTo>
                    <a:pt x="901" y="953"/>
                  </a:lnTo>
                  <a:lnTo>
                    <a:pt x="889" y="943"/>
                  </a:lnTo>
                  <a:lnTo>
                    <a:pt x="877" y="934"/>
                  </a:lnTo>
                  <a:lnTo>
                    <a:pt x="864" y="926"/>
                  </a:lnTo>
                  <a:lnTo>
                    <a:pt x="852" y="919"/>
                  </a:lnTo>
                  <a:lnTo>
                    <a:pt x="837" y="913"/>
                  </a:lnTo>
                  <a:lnTo>
                    <a:pt x="821" y="909"/>
                  </a:lnTo>
                  <a:lnTo>
                    <a:pt x="801" y="908"/>
                  </a:lnTo>
                  <a:lnTo>
                    <a:pt x="778" y="908"/>
                  </a:lnTo>
                  <a:lnTo>
                    <a:pt x="751" y="908"/>
                  </a:lnTo>
                  <a:lnTo>
                    <a:pt x="724" y="909"/>
                  </a:lnTo>
                  <a:lnTo>
                    <a:pt x="700" y="911"/>
                  </a:lnTo>
                  <a:lnTo>
                    <a:pt x="677" y="915"/>
                  </a:lnTo>
                  <a:lnTo>
                    <a:pt x="656" y="919"/>
                  </a:lnTo>
                  <a:lnTo>
                    <a:pt x="638" y="924"/>
                  </a:lnTo>
                  <a:lnTo>
                    <a:pt x="630" y="927"/>
                  </a:lnTo>
                  <a:lnTo>
                    <a:pt x="621" y="931"/>
                  </a:lnTo>
                  <a:lnTo>
                    <a:pt x="614" y="934"/>
                  </a:lnTo>
                  <a:lnTo>
                    <a:pt x="609" y="939"/>
                  </a:lnTo>
                  <a:lnTo>
                    <a:pt x="603" y="943"/>
                  </a:lnTo>
                  <a:lnTo>
                    <a:pt x="597" y="944"/>
                  </a:lnTo>
                  <a:lnTo>
                    <a:pt x="590" y="944"/>
                  </a:lnTo>
                  <a:lnTo>
                    <a:pt x="583" y="943"/>
                  </a:lnTo>
                  <a:lnTo>
                    <a:pt x="568" y="938"/>
                  </a:lnTo>
                  <a:lnTo>
                    <a:pt x="552" y="930"/>
                  </a:lnTo>
                  <a:lnTo>
                    <a:pt x="538" y="920"/>
                  </a:lnTo>
                  <a:lnTo>
                    <a:pt x="524" y="913"/>
                  </a:lnTo>
                  <a:lnTo>
                    <a:pt x="517" y="910"/>
                  </a:lnTo>
                  <a:lnTo>
                    <a:pt x="512" y="908"/>
                  </a:lnTo>
                  <a:lnTo>
                    <a:pt x="506" y="906"/>
                  </a:lnTo>
                  <a:lnTo>
                    <a:pt x="501" y="908"/>
                  </a:lnTo>
                  <a:lnTo>
                    <a:pt x="496" y="909"/>
                  </a:lnTo>
                  <a:lnTo>
                    <a:pt x="488" y="908"/>
                  </a:lnTo>
                  <a:lnTo>
                    <a:pt x="479" y="908"/>
                  </a:lnTo>
                  <a:lnTo>
                    <a:pt x="468" y="905"/>
                  </a:lnTo>
                  <a:lnTo>
                    <a:pt x="444" y="901"/>
                  </a:lnTo>
                  <a:lnTo>
                    <a:pt x="417" y="896"/>
                  </a:lnTo>
                  <a:lnTo>
                    <a:pt x="403" y="894"/>
                  </a:lnTo>
                  <a:lnTo>
                    <a:pt x="390" y="891"/>
                  </a:lnTo>
                  <a:lnTo>
                    <a:pt x="377" y="890"/>
                  </a:lnTo>
                  <a:lnTo>
                    <a:pt x="364" y="890"/>
                  </a:lnTo>
                  <a:lnTo>
                    <a:pt x="354" y="891"/>
                  </a:lnTo>
                  <a:lnTo>
                    <a:pt x="345" y="892"/>
                  </a:lnTo>
                  <a:lnTo>
                    <a:pt x="341" y="895"/>
                  </a:lnTo>
                  <a:lnTo>
                    <a:pt x="338" y="896"/>
                  </a:lnTo>
                  <a:lnTo>
                    <a:pt x="334" y="898"/>
                  </a:lnTo>
                  <a:lnTo>
                    <a:pt x="332" y="902"/>
                  </a:lnTo>
                  <a:lnTo>
                    <a:pt x="327" y="906"/>
                  </a:lnTo>
                  <a:lnTo>
                    <a:pt x="322" y="910"/>
                  </a:lnTo>
                  <a:lnTo>
                    <a:pt x="318" y="912"/>
                  </a:lnTo>
                  <a:lnTo>
                    <a:pt x="312" y="915"/>
                  </a:lnTo>
                  <a:lnTo>
                    <a:pt x="301" y="917"/>
                  </a:lnTo>
                  <a:lnTo>
                    <a:pt x="290" y="918"/>
                  </a:lnTo>
                  <a:lnTo>
                    <a:pt x="279" y="918"/>
                  </a:lnTo>
                  <a:lnTo>
                    <a:pt x="269" y="920"/>
                  </a:lnTo>
                  <a:lnTo>
                    <a:pt x="264" y="922"/>
                  </a:lnTo>
                  <a:lnTo>
                    <a:pt x="260" y="924"/>
                  </a:lnTo>
                  <a:lnTo>
                    <a:pt x="257" y="926"/>
                  </a:lnTo>
                  <a:lnTo>
                    <a:pt x="253" y="93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6" name="Freeform 1473"/>
            <p:cNvSpPr/>
            <p:nvPr/>
          </p:nvSpPr>
          <p:spPr>
            <a:xfrm>
              <a:off x="5329080" y="4614840"/>
              <a:ext cx="298440" cy="125640"/>
            </a:xfrm>
            <a:custGeom>
              <a:avLst/>
              <a:gdLst>
                <a:gd name="textAreaLeft" fmla="*/ 0 w 298440"/>
                <a:gd name="textAreaRight" fmla="*/ 298800 w 298440"/>
                <a:gd name="textAreaTop" fmla="*/ 0 h 125640"/>
                <a:gd name="textAreaBottom" fmla="*/ 126000 h 125640"/>
              </a:gdLst>
              <a:ahLst/>
              <a:rect l="textAreaLeft" t="textAreaTop" r="textAreaRight" b="textAreaBottom"/>
              <a:pathLst>
                <a:path w="1661" h="830">
                  <a:moveTo>
                    <a:pt x="1301" y="775"/>
                  </a:moveTo>
                  <a:lnTo>
                    <a:pt x="1116" y="691"/>
                  </a:lnTo>
                  <a:lnTo>
                    <a:pt x="1101" y="695"/>
                  </a:lnTo>
                  <a:lnTo>
                    <a:pt x="1087" y="697"/>
                  </a:lnTo>
                  <a:lnTo>
                    <a:pt x="1074" y="697"/>
                  </a:lnTo>
                  <a:lnTo>
                    <a:pt x="1061" y="695"/>
                  </a:lnTo>
                  <a:lnTo>
                    <a:pt x="1046" y="694"/>
                  </a:lnTo>
                  <a:lnTo>
                    <a:pt x="1029" y="695"/>
                  </a:lnTo>
                  <a:lnTo>
                    <a:pt x="1006" y="699"/>
                  </a:lnTo>
                  <a:lnTo>
                    <a:pt x="978" y="706"/>
                  </a:lnTo>
                  <a:lnTo>
                    <a:pt x="953" y="711"/>
                  </a:lnTo>
                  <a:lnTo>
                    <a:pt x="912" y="718"/>
                  </a:lnTo>
                  <a:lnTo>
                    <a:pt x="857" y="726"/>
                  </a:lnTo>
                  <a:lnTo>
                    <a:pt x="790" y="735"/>
                  </a:lnTo>
                  <a:lnTo>
                    <a:pt x="714" y="744"/>
                  </a:lnTo>
                  <a:lnTo>
                    <a:pt x="634" y="755"/>
                  </a:lnTo>
                  <a:lnTo>
                    <a:pt x="547" y="765"/>
                  </a:lnTo>
                  <a:lnTo>
                    <a:pt x="461" y="776"/>
                  </a:lnTo>
                  <a:lnTo>
                    <a:pt x="374" y="787"/>
                  </a:lnTo>
                  <a:lnTo>
                    <a:pt x="292" y="796"/>
                  </a:lnTo>
                  <a:lnTo>
                    <a:pt x="216" y="805"/>
                  </a:lnTo>
                  <a:lnTo>
                    <a:pt x="147" y="813"/>
                  </a:lnTo>
                  <a:lnTo>
                    <a:pt x="89" y="820"/>
                  </a:lnTo>
                  <a:lnTo>
                    <a:pt x="46" y="825"/>
                  </a:lnTo>
                  <a:lnTo>
                    <a:pt x="18" y="829"/>
                  </a:lnTo>
                  <a:lnTo>
                    <a:pt x="8" y="830"/>
                  </a:lnTo>
                  <a:lnTo>
                    <a:pt x="0" y="763"/>
                  </a:lnTo>
                  <a:lnTo>
                    <a:pt x="18" y="743"/>
                  </a:lnTo>
                  <a:lnTo>
                    <a:pt x="38" y="725"/>
                  </a:lnTo>
                  <a:lnTo>
                    <a:pt x="57" y="704"/>
                  </a:lnTo>
                  <a:lnTo>
                    <a:pt x="74" y="683"/>
                  </a:lnTo>
                  <a:lnTo>
                    <a:pt x="74" y="498"/>
                  </a:lnTo>
                  <a:lnTo>
                    <a:pt x="141" y="498"/>
                  </a:lnTo>
                  <a:lnTo>
                    <a:pt x="202" y="496"/>
                  </a:lnTo>
                  <a:lnTo>
                    <a:pt x="231" y="494"/>
                  </a:lnTo>
                  <a:lnTo>
                    <a:pt x="258" y="492"/>
                  </a:lnTo>
                  <a:lnTo>
                    <a:pt x="283" y="490"/>
                  </a:lnTo>
                  <a:lnTo>
                    <a:pt x="309" y="486"/>
                  </a:lnTo>
                  <a:lnTo>
                    <a:pt x="332" y="483"/>
                  </a:lnTo>
                  <a:lnTo>
                    <a:pt x="355" y="478"/>
                  </a:lnTo>
                  <a:lnTo>
                    <a:pt x="376" y="473"/>
                  </a:lnTo>
                  <a:lnTo>
                    <a:pt x="395" y="469"/>
                  </a:lnTo>
                  <a:lnTo>
                    <a:pt x="414" y="462"/>
                  </a:lnTo>
                  <a:lnTo>
                    <a:pt x="432" y="455"/>
                  </a:lnTo>
                  <a:lnTo>
                    <a:pt x="448" y="447"/>
                  </a:lnTo>
                  <a:lnTo>
                    <a:pt x="463" y="438"/>
                  </a:lnTo>
                  <a:lnTo>
                    <a:pt x="477" y="429"/>
                  </a:lnTo>
                  <a:lnTo>
                    <a:pt x="490" y="419"/>
                  </a:lnTo>
                  <a:lnTo>
                    <a:pt x="502" y="407"/>
                  </a:lnTo>
                  <a:lnTo>
                    <a:pt x="512" y="395"/>
                  </a:lnTo>
                  <a:lnTo>
                    <a:pt x="522" y="382"/>
                  </a:lnTo>
                  <a:lnTo>
                    <a:pt x="530" y="367"/>
                  </a:lnTo>
                  <a:lnTo>
                    <a:pt x="537" y="352"/>
                  </a:lnTo>
                  <a:lnTo>
                    <a:pt x="543" y="336"/>
                  </a:lnTo>
                  <a:lnTo>
                    <a:pt x="547" y="318"/>
                  </a:lnTo>
                  <a:lnTo>
                    <a:pt x="551" y="299"/>
                  </a:lnTo>
                  <a:lnTo>
                    <a:pt x="554" y="278"/>
                  </a:lnTo>
                  <a:lnTo>
                    <a:pt x="556" y="257"/>
                  </a:lnTo>
                  <a:lnTo>
                    <a:pt x="557" y="235"/>
                  </a:lnTo>
                  <a:lnTo>
                    <a:pt x="556" y="211"/>
                  </a:lnTo>
                  <a:lnTo>
                    <a:pt x="554" y="185"/>
                  </a:lnTo>
                  <a:lnTo>
                    <a:pt x="552" y="158"/>
                  </a:lnTo>
                  <a:lnTo>
                    <a:pt x="690" y="17"/>
                  </a:lnTo>
                  <a:lnTo>
                    <a:pt x="699" y="17"/>
                  </a:lnTo>
                  <a:lnTo>
                    <a:pt x="723" y="17"/>
                  </a:lnTo>
                  <a:lnTo>
                    <a:pt x="759" y="17"/>
                  </a:lnTo>
                  <a:lnTo>
                    <a:pt x="806" y="16"/>
                  </a:lnTo>
                  <a:lnTo>
                    <a:pt x="859" y="13"/>
                  </a:lnTo>
                  <a:lnTo>
                    <a:pt x="920" y="10"/>
                  </a:lnTo>
                  <a:lnTo>
                    <a:pt x="983" y="6"/>
                  </a:lnTo>
                  <a:lnTo>
                    <a:pt x="1047" y="0"/>
                  </a:lnTo>
                  <a:lnTo>
                    <a:pt x="1416" y="421"/>
                  </a:lnTo>
                  <a:lnTo>
                    <a:pt x="1416" y="521"/>
                  </a:lnTo>
                  <a:lnTo>
                    <a:pt x="1471" y="545"/>
                  </a:lnTo>
                  <a:lnTo>
                    <a:pt x="1661" y="792"/>
                  </a:lnTo>
                  <a:lnTo>
                    <a:pt x="1651" y="796"/>
                  </a:lnTo>
                  <a:lnTo>
                    <a:pt x="1641" y="801"/>
                  </a:lnTo>
                  <a:lnTo>
                    <a:pt x="1627" y="805"/>
                  </a:lnTo>
                  <a:lnTo>
                    <a:pt x="1613" y="809"/>
                  </a:lnTo>
                  <a:lnTo>
                    <a:pt x="1596" y="812"/>
                  </a:lnTo>
                  <a:lnTo>
                    <a:pt x="1578" y="815"/>
                  </a:lnTo>
                  <a:lnTo>
                    <a:pt x="1558" y="817"/>
                  </a:lnTo>
                  <a:lnTo>
                    <a:pt x="1536" y="818"/>
                  </a:lnTo>
                  <a:lnTo>
                    <a:pt x="1512" y="818"/>
                  </a:lnTo>
                  <a:lnTo>
                    <a:pt x="1488" y="817"/>
                  </a:lnTo>
                  <a:lnTo>
                    <a:pt x="1461" y="815"/>
                  </a:lnTo>
                  <a:lnTo>
                    <a:pt x="1432" y="810"/>
                  </a:lnTo>
                  <a:lnTo>
                    <a:pt x="1402" y="804"/>
                  </a:lnTo>
                  <a:lnTo>
                    <a:pt x="1370" y="796"/>
                  </a:lnTo>
                  <a:lnTo>
                    <a:pt x="1336" y="787"/>
                  </a:lnTo>
                  <a:lnTo>
                    <a:pt x="1301" y="77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7" name="Freeform 1474"/>
            <p:cNvSpPr/>
            <p:nvPr/>
          </p:nvSpPr>
          <p:spPr>
            <a:xfrm>
              <a:off x="5329080" y="4614840"/>
              <a:ext cx="298440" cy="125640"/>
            </a:xfrm>
            <a:custGeom>
              <a:avLst/>
              <a:gdLst>
                <a:gd name="textAreaLeft" fmla="*/ 0 w 298440"/>
                <a:gd name="textAreaRight" fmla="*/ 298800 w 298440"/>
                <a:gd name="textAreaTop" fmla="*/ 0 h 125640"/>
                <a:gd name="textAreaBottom" fmla="*/ 126000 h 125640"/>
              </a:gdLst>
              <a:ahLst/>
              <a:rect l="textAreaLeft" t="textAreaTop" r="textAreaRight" b="textAreaBottom"/>
              <a:pathLst>
                <a:path w="1661" h="830">
                  <a:moveTo>
                    <a:pt x="1301" y="775"/>
                  </a:moveTo>
                  <a:lnTo>
                    <a:pt x="1116" y="691"/>
                  </a:lnTo>
                  <a:lnTo>
                    <a:pt x="1101" y="695"/>
                  </a:lnTo>
                  <a:lnTo>
                    <a:pt x="1087" y="697"/>
                  </a:lnTo>
                  <a:lnTo>
                    <a:pt x="1074" y="697"/>
                  </a:lnTo>
                  <a:lnTo>
                    <a:pt x="1061" y="695"/>
                  </a:lnTo>
                  <a:lnTo>
                    <a:pt x="1046" y="694"/>
                  </a:lnTo>
                  <a:lnTo>
                    <a:pt x="1029" y="695"/>
                  </a:lnTo>
                  <a:lnTo>
                    <a:pt x="1006" y="699"/>
                  </a:lnTo>
                  <a:lnTo>
                    <a:pt x="978" y="706"/>
                  </a:lnTo>
                  <a:lnTo>
                    <a:pt x="953" y="711"/>
                  </a:lnTo>
                  <a:lnTo>
                    <a:pt x="912" y="718"/>
                  </a:lnTo>
                  <a:lnTo>
                    <a:pt x="857" y="726"/>
                  </a:lnTo>
                  <a:lnTo>
                    <a:pt x="790" y="735"/>
                  </a:lnTo>
                  <a:lnTo>
                    <a:pt x="714" y="744"/>
                  </a:lnTo>
                  <a:lnTo>
                    <a:pt x="634" y="755"/>
                  </a:lnTo>
                  <a:lnTo>
                    <a:pt x="547" y="765"/>
                  </a:lnTo>
                  <a:lnTo>
                    <a:pt x="461" y="776"/>
                  </a:lnTo>
                  <a:lnTo>
                    <a:pt x="374" y="787"/>
                  </a:lnTo>
                  <a:lnTo>
                    <a:pt x="292" y="796"/>
                  </a:lnTo>
                  <a:lnTo>
                    <a:pt x="216" y="805"/>
                  </a:lnTo>
                  <a:lnTo>
                    <a:pt x="147" y="813"/>
                  </a:lnTo>
                  <a:lnTo>
                    <a:pt x="89" y="820"/>
                  </a:lnTo>
                  <a:lnTo>
                    <a:pt x="46" y="825"/>
                  </a:lnTo>
                  <a:lnTo>
                    <a:pt x="18" y="829"/>
                  </a:lnTo>
                  <a:lnTo>
                    <a:pt x="8" y="830"/>
                  </a:lnTo>
                  <a:lnTo>
                    <a:pt x="0" y="763"/>
                  </a:lnTo>
                  <a:lnTo>
                    <a:pt x="18" y="743"/>
                  </a:lnTo>
                  <a:lnTo>
                    <a:pt x="38" y="725"/>
                  </a:lnTo>
                  <a:lnTo>
                    <a:pt x="57" y="704"/>
                  </a:lnTo>
                  <a:lnTo>
                    <a:pt x="74" y="683"/>
                  </a:lnTo>
                  <a:lnTo>
                    <a:pt x="74" y="498"/>
                  </a:lnTo>
                  <a:lnTo>
                    <a:pt x="141" y="498"/>
                  </a:lnTo>
                  <a:lnTo>
                    <a:pt x="202" y="496"/>
                  </a:lnTo>
                  <a:lnTo>
                    <a:pt x="231" y="494"/>
                  </a:lnTo>
                  <a:lnTo>
                    <a:pt x="258" y="492"/>
                  </a:lnTo>
                  <a:lnTo>
                    <a:pt x="283" y="490"/>
                  </a:lnTo>
                  <a:lnTo>
                    <a:pt x="309" y="486"/>
                  </a:lnTo>
                  <a:lnTo>
                    <a:pt x="332" y="483"/>
                  </a:lnTo>
                  <a:lnTo>
                    <a:pt x="355" y="478"/>
                  </a:lnTo>
                  <a:lnTo>
                    <a:pt x="376" y="473"/>
                  </a:lnTo>
                  <a:lnTo>
                    <a:pt x="395" y="469"/>
                  </a:lnTo>
                  <a:lnTo>
                    <a:pt x="414" y="462"/>
                  </a:lnTo>
                  <a:lnTo>
                    <a:pt x="432" y="455"/>
                  </a:lnTo>
                  <a:lnTo>
                    <a:pt x="448" y="447"/>
                  </a:lnTo>
                  <a:lnTo>
                    <a:pt x="463" y="438"/>
                  </a:lnTo>
                  <a:lnTo>
                    <a:pt x="477" y="429"/>
                  </a:lnTo>
                  <a:lnTo>
                    <a:pt x="490" y="419"/>
                  </a:lnTo>
                  <a:lnTo>
                    <a:pt x="502" y="407"/>
                  </a:lnTo>
                  <a:lnTo>
                    <a:pt x="512" y="395"/>
                  </a:lnTo>
                  <a:lnTo>
                    <a:pt x="522" y="382"/>
                  </a:lnTo>
                  <a:lnTo>
                    <a:pt x="530" y="367"/>
                  </a:lnTo>
                  <a:lnTo>
                    <a:pt x="537" y="352"/>
                  </a:lnTo>
                  <a:lnTo>
                    <a:pt x="543" y="336"/>
                  </a:lnTo>
                  <a:lnTo>
                    <a:pt x="547" y="318"/>
                  </a:lnTo>
                  <a:lnTo>
                    <a:pt x="551" y="299"/>
                  </a:lnTo>
                  <a:lnTo>
                    <a:pt x="554" y="278"/>
                  </a:lnTo>
                  <a:lnTo>
                    <a:pt x="556" y="257"/>
                  </a:lnTo>
                  <a:lnTo>
                    <a:pt x="557" y="235"/>
                  </a:lnTo>
                  <a:lnTo>
                    <a:pt x="556" y="211"/>
                  </a:lnTo>
                  <a:lnTo>
                    <a:pt x="554" y="185"/>
                  </a:lnTo>
                  <a:lnTo>
                    <a:pt x="552" y="158"/>
                  </a:lnTo>
                  <a:lnTo>
                    <a:pt x="690" y="17"/>
                  </a:lnTo>
                  <a:lnTo>
                    <a:pt x="699" y="17"/>
                  </a:lnTo>
                  <a:lnTo>
                    <a:pt x="723" y="17"/>
                  </a:lnTo>
                  <a:lnTo>
                    <a:pt x="759" y="17"/>
                  </a:lnTo>
                  <a:lnTo>
                    <a:pt x="806" y="16"/>
                  </a:lnTo>
                  <a:lnTo>
                    <a:pt x="859" y="13"/>
                  </a:lnTo>
                  <a:lnTo>
                    <a:pt x="920" y="10"/>
                  </a:lnTo>
                  <a:lnTo>
                    <a:pt x="983" y="6"/>
                  </a:lnTo>
                  <a:lnTo>
                    <a:pt x="1047" y="0"/>
                  </a:lnTo>
                  <a:lnTo>
                    <a:pt x="1416" y="421"/>
                  </a:lnTo>
                  <a:lnTo>
                    <a:pt x="1416" y="521"/>
                  </a:lnTo>
                  <a:lnTo>
                    <a:pt x="1471" y="545"/>
                  </a:lnTo>
                  <a:lnTo>
                    <a:pt x="1661" y="792"/>
                  </a:lnTo>
                  <a:lnTo>
                    <a:pt x="1651" y="796"/>
                  </a:lnTo>
                  <a:lnTo>
                    <a:pt x="1641" y="801"/>
                  </a:lnTo>
                  <a:lnTo>
                    <a:pt x="1627" y="805"/>
                  </a:lnTo>
                  <a:lnTo>
                    <a:pt x="1613" y="809"/>
                  </a:lnTo>
                  <a:lnTo>
                    <a:pt x="1596" y="812"/>
                  </a:lnTo>
                  <a:lnTo>
                    <a:pt x="1578" y="815"/>
                  </a:lnTo>
                  <a:lnTo>
                    <a:pt x="1558" y="817"/>
                  </a:lnTo>
                  <a:lnTo>
                    <a:pt x="1536" y="818"/>
                  </a:lnTo>
                  <a:lnTo>
                    <a:pt x="1512" y="818"/>
                  </a:lnTo>
                  <a:lnTo>
                    <a:pt x="1488" y="817"/>
                  </a:lnTo>
                  <a:lnTo>
                    <a:pt x="1461" y="815"/>
                  </a:lnTo>
                  <a:lnTo>
                    <a:pt x="1432" y="810"/>
                  </a:lnTo>
                  <a:lnTo>
                    <a:pt x="1402" y="804"/>
                  </a:lnTo>
                  <a:lnTo>
                    <a:pt x="1370" y="796"/>
                  </a:lnTo>
                  <a:lnTo>
                    <a:pt x="1336" y="787"/>
                  </a:lnTo>
                  <a:lnTo>
                    <a:pt x="1301" y="775"/>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8" name="Freeform 1475"/>
            <p:cNvSpPr/>
            <p:nvPr/>
          </p:nvSpPr>
          <p:spPr>
            <a:xfrm>
              <a:off x="5559120" y="4732560"/>
              <a:ext cx="125640" cy="105840"/>
            </a:xfrm>
            <a:custGeom>
              <a:avLst/>
              <a:gdLst>
                <a:gd name="textAreaLeft" fmla="*/ 0 w 125640"/>
                <a:gd name="textAreaRight" fmla="*/ 126000 w 125640"/>
                <a:gd name="textAreaTop" fmla="*/ 0 h 105840"/>
                <a:gd name="textAreaBottom" fmla="*/ 106200 h 105840"/>
              </a:gdLst>
              <a:ahLst/>
              <a:rect l="textAreaLeft" t="textAreaTop" r="textAreaRight" b="textAreaBottom"/>
              <a:pathLst>
                <a:path w="698" h="697">
                  <a:moveTo>
                    <a:pt x="146" y="426"/>
                  </a:moveTo>
                  <a:lnTo>
                    <a:pt x="144" y="418"/>
                  </a:lnTo>
                  <a:lnTo>
                    <a:pt x="143" y="411"/>
                  </a:lnTo>
                  <a:lnTo>
                    <a:pt x="143" y="404"/>
                  </a:lnTo>
                  <a:lnTo>
                    <a:pt x="144" y="397"/>
                  </a:lnTo>
                  <a:lnTo>
                    <a:pt x="146" y="390"/>
                  </a:lnTo>
                  <a:lnTo>
                    <a:pt x="148" y="383"/>
                  </a:lnTo>
                  <a:lnTo>
                    <a:pt x="150" y="377"/>
                  </a:lnTo>
                  <a:lnTo>
                    <a:pt x="155" y="371"/>
                  </a:lnTo>
                  <a:lnTo>
                    <a:pt x="158" y="365"/>
                  </a:lnTo>
                  <a:lnTo>
                    <a:pt x="164" y="360"/>
                  </a:lnTo>
                  <a:lnTo>
                    <a:pt x="170" y="355"/>
                  </a:lnTo>
                  <a:lnTo>
                    <a:pt x="177" y="351"/>
                  </a:lnTo>
                  <a:lnTo>
                    <a:pt x="185" y="348"/>
                  </a:lnTo>
                  <a:lnTo>
                    <a:pt x="195" y="344"/>
                  </a:lnTo>
                  <a:lnTo>
                    <a:pt x="204" y="342"/>
                  </a:lnTo>
                  <a:lnTo>
                    <a:pt x="215" y="340"/>
                  </a:lnTo>
                  <a:lnTo>
                    <a:pt x="216" y="332"/>
                  </a:lnTo>
                  <a:lnTo>
                    <a:pt x="219" y="309"/>
                  </a:lnTo>
                  <a:lnTo>
                    <a:pt x="223" y="278"/>
                  </a:lnTo>
                  <a:lnTo>
                    <a:pt x="224" y="239"/>
                  </a:lnTo>
                  <a:lnTo>
                    <a:pt x="220" y="226"/>
                  </a:lnTo>
                  <a:lnTo>
                    <a:pt x="215" y="216"/>
                  </a:lnTo>
                  <a:lnTo>
                    <a:pt x="209" y="205"/>
                  </a:lnTo>
                  <a:lnTo>
                    <a:pt x="202" y="195"/>
                  </a:lnTo>
                  <a:lnTo>
                    <a:pt x="194" y="186"/>
                  </a:lnTo>
                  <a:lnTo>
                    <a:pt x="184" y="176"/>
                  </a:lnTo>
                  <a:lnTo>
                    <a:pt x="175" y="167"/>
                  </a:lnTo>
                  <a:lnTo>
                    <a:pt x="164" y="159"/>
                  </a:lnTo>
                  <a:lnTo>
                    <a:pt x="142" y="143"/>
                  </a:lnTo>
                  <a:lnTo>
                    <a:pt x="119" y="129"/>
                  </a:lnTo>
                  <a:lnTo>
                    <a:pt x="95" y="115"/>
                  </a:lnTo>
                  <a:lnTo>
                    <a:pt x="73" y="103"/>
                  </a:lnTo>
                  <a:lnTo>
                    <a:pt x="52" y="91"/>
                  </a:lnTo>
                  <a:lnTo>
                    <a:pt x="33" y="79"/>
                  </a:lnTo>
                  <a:lnTo>
                    <a:pt x="25" y="73"/>
                  </a:lnTo>
                  <a:lnTo>
                    <a:pt x="17" y="68"/>
                  </a:lnTo>
                  <a:lnTo>
                    <a:pt x="11" y="62"/>
                  </a:lnTo>
                  <a:lnTo>
                    <a:pt x="7" y="56"/>
                  </a:lnTo>
                  <a:lnTo>
                    <a:pt x="3" y="49"/>
                  </a:lnTo>
                  <a:lnTo>
                    <a:pt x="1" y="43"/>
                  </a:lnTo>
                  <a:lnTo>
                    <a:pt x="0" y="36"/>
                  </a:lnTo>
                  <a:lnTo>
                    <a:pt x="1" y="29"/>
                  </a:lnTo>
                  <a:lnTo>
                    <a:pt x="3" y="22"/>
                  </a:lnTo>
                  <a:lnTo>
                    <a:pt x="8" y="15"/>
                  </a:lnTo>
                  <a:lnTo>
                    <a:pt x="14" y="8"/>
                  </a:lnTo>
                  <a:lnTo>
                    <a:pt x="22" y="0"/>
                  </a:lnTo>
                  <a:lnTo>
                    <a:pt x="57" y="12"/>
                  </a:lnTo>
                  <a:lnTo>
                    <a:pt x="91" y="21"/>
                  </a:lnTo>
                  <a:lnTo>
                    <a:pt x="123" y="29"/>
                  </a:lnTo>
                  <a:lnTo>
                    <a:pt x="153" y="35"/>
                  </a:lnTo>
                  <a:lnTo>
                    <a:pt x="182" y="40"/>
                  </a:lnTo>
                  <a:lnTo>
                    <a:pt x="209" y="42"/>
                  </a:lnTo>
                  <a:lnTo>
                    <a:pt x="233" y="43"/>
                  </a:lnTo>
                  <a:lnTo>
                    <a:pt x="257" y="43"/>
                  </a:lnTo>
                  <a:lnTo>
                    <a:pt x="279" y="42"/>
                  </a:lnTo>
                  <a:lnTo>
                    <a:pt x="299" y="40"/>
                  </a:lnTo>
                  <a:lnTo>
                    <a:pt x="317" y="37"/>
                  </a:lnTo>
                  <a:lnTo>
                    <a:pt x="334" y="34"/>
                  </a:lnTo>
                  <a:lnTo>
                    <a:pt x="348" y="30"/>
                  </a:lnTo>
                  <a:lnTo>
                    <a:pt x="362" y="26"/>
                  </a:lnTo>
                  <a:lnTo>
                    <a:pt x="372" y="21"/>
                  </a:lnTo>
                  <a:lnTo>
                    <a:pt x="382" y="17"/>
                  </a:lnTo>
                  <a:lnTo>
                    <a:pt x="586" y="233"/>
                  </a:lnTo>
                  <a:lnTo>
                    <a:pt x="586" y="371"/>
                  </a:lnTo>
                  <a:lnTo>
                    <a:pt x="565" y="368"/>
                  </a:lnTo>
                  <a:lnTo>
                    <a:pt x="544" y="364"/>
                  </a:lnTo>
                  <a:lnTo>
                    <a:pt x="524" y="362"/>
                  </a:lnTo>
                  <a:lnTo>
                    <a:pt x="504" y="361"/>
                  </a:lnTo>
                  <a:lnTo>
                    <a:pt x="487" y="361"/>
                  </a:lnTo>
                  <a:lnTo>
                    <a:pt x="468" y="361"/>
                  </a:lnTo>
                  <a:lnTo>
                    <a:pt x="452" y="361"/>
                  </a:lnTo>
                  <a:lnTo>
                    <a:pt x="436" y="363"/>
                  </a:lnTo>
                  <a:lnTo>
                    <a:pt x="421" y="364"/>
                  </a:lnTo>
                  <a:lnTo>
                    <a:pt x="408" y="368"/>
                  </a:lnTo>
                  <a:lnTo>
                    <a:pt x="397" y="370"/>
                  </a:lnTo>
                  <a:lnTo>
                    <a:pt x="386" y="375"/>
                  </a:lnTo>
                  <a:lnTo>
                    <a:pt x="377" y="378"/>
                  </a:lnTo>
                  <a:lnTo>
                    <a:pt x="369" y="383"/>
                  </a:lnTo>
                  <a:lnTo>
                    <a:pt x="363" y="389"/>
                  </a:lnTo>
                  <a:lnTo>
                    <a:pt x="359" y="393"/>
                  </a:lnTo>
                  <a:lnTo>
                    <a:pt x="357" y="400"/>
                  </a:lnTo>
                  <a:lnTo>
                    <a:pt x="357" y="406"/>
                  </a:lnTo>
                  <a:lnTo>
                    <a:pt x="358" y="412"/>
                  </a:lnTo>
                  <a:lnTo>
                    <a:pt x="362" y="419"/>
                  </a:lnTo>
                  <a:lnTo>
                    <a:pt x="368" y="426"/>
                  </a:lnTo>
                  <a:lnTo>
                    <a:pt x="376" y="434"/>
                  </a:lnTo>
                  <a:lnTo>
                    <a:pt x="386" y="441"/>
                  </a:lnTo>
                  <a:lnTo>
                    <a:pt x="400" y="448"/>
                  </a:lnTo>
                  <a:lnTo>
                    <a:pt x="415" y="457"/>
                  </a:lnTo>
                  <a:lnTo>
                    <a:pt x="433" y="464"/>
                  </a:lnTo>
                  <a:lnTo>
                    <a:pt x="454" y="472"/>
                  </a:lnTo>
                  <a:lnTo>
                    <a:pt x="477" y="480"/>
                  </a:lnTo>
                  <a:lnTo>
                    <a:pt x="504" y="487"/>
                  </a:lnTo>
                  <a:lnTo>
                    <a:pt x="533" y="495"/>
                  </a:lnTo>
                  <a:lnTo>
                    <a:pt x="565" y="502"/>
                  </a:lnTo>
                  <a:lnTo>
                    <a:pt x="601" y="509"/>
                  </a:lnTo>
                  <a:lnTo>
                    <a:pt x="615" y="513"/>
                  </a:lnTo>
                  <a:lnTo>
                    <a:pt x="627" y="516"/>
                  </a:lnTo>
                  <a:lnTo>
                    <a:pt x="639" y="520"/>
                  </a:lnTo>
                  <a:lnTo>
                    <a:pt x="649" y="524"/>
                  </a:lnTo>
                  <a:lnTo>
                    <a:pt x="658" y="528"/>
                  </a:lnTo>
                  <a:lnTo>
                    <a:pt x="665" y="532"/>
                  </a:lnTo>
                  <a:lnTo>
                    <a:pt x="672" y="537"/>
                  </a:lnTo>
                  <a:lnTo>
                    <a:pt x="678" y="542"/>
                  </a:lnTo>
                  <a:lnTo>
                    <a:pt x="684" y="548"/>
                  </a:lnTo>
                  <a:lnTo>
                    <a:pt x="688" y="552"/>
                  </a:lnTo>
                  <a:lnTo>
                    <a:pt x="691" y="557"/>
                  </a:lnTo>
                  <a:lnTo>
                    <a:pt x="693" y="563"/>
                  </a:lnTo>
                  <a:lnTo>
                    <a:pt x="697" y="573"/>
                  </a:lnTo>
                  <a:lnTo>
                    <a:pt x="698" y="584"/>
                  </a:lnTo>
                  <a:lnTo>
                    <a:pt x="697" y="593"/>
                  </a:lnTo>
                  <a:lnTo>
                    <a:pt x="695" y="603"/>
                  </a:lnTo>
                  <a:lnTo>
                    <a:pt x="692" y="611"/>
                  </a:lnTo>
                  <a:lnTo>
                    <a:pt x="689" y="619"/>
                  </a:lnTo>
                  <a:lnTo>
                    <a:pt x="682" y="629"/>
                  </a:lnTo>
                  <a:lnTo>
                    <a:pt x="678" y="633"/>
                  </a:lnTo>
                  <a:lnTo>
                    <a:pt x="462" y="697"/>
                  </a:lnTo>
                  <a:lnTo>
                    <a:pt x="146" y="42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69" name="Freeform 1476"/>
            <p:cNvSpPr/>
            <p:nvPr/>
          </p:nvSpPr>
          <p:spPr>
            <a:xfrm>
              <a:off x="5559120" y="4732560"/>
              <a:ext cx="125640" cy="105840"/>
            </a:xfrm>
            <a:custGeom>
              <a:avLst/>
              <a:gdLst>
                <a:gd name="textAreaLeft" fmla="*/ 0 w 125640"/>
                <a:gd name="textAreaRight" fmla="*/ 126000 w 125640"/>
                <a:gd name="textAreaTop" fmla="*/ 0 h 105840"/>
                <a:gd name="textAreaBottom" fmla="*/ 106200 h 105840"/>
              </a:gdLst>
              <a:ahLst/>
              <a:rect l="textAreaLeft" t="textAreaTop" r="textAreaRight" b="textAreaBottom"/>
              <a:pathLst>
                <a:path w="698" h="697">
                  <a:moveTo>
                    <a:pt x="146" y="426"/>
                  </a:moveTo>
                  <a:lnTo>
                    <a:pt x="144" y="418"/>
                  </a:lnTo>
                  <a:lnTo>
                    <a:pt x="143" y="411"/>
                  </a:lnTo>
                  <a:lnTo>
                    <a:pt x="143" y="404"/>
                  </a:lnTo>
                  <a:lnTo>
                    <a:pt x="144" y="397"/>
                  </a:lnTo>
                  <a:lnTo>
                    <a:pt x="146" y="390"/>
                  </a:lnTo>
                  <a:lnTo>
                    <a:pt x="148" y="383"/>
                  </a:lnTo>
                  <a:lnTo>
                    <a:pt x="150" y="377"/>
                  </a:lnTo>
                  <a:lnTo>
                    <a:pt x="155" y="371"/>
                  </a:lnTo>
                  <a:lnTo>
                    <a:pt x="158" y="365"/>
                  </a:lnTo>
                  <a:lnTo>
                    <a:pt x="164" y="360"/>
                  </a:lnTo>
                  <a:lnTo>
                    <a:pt x="170" y="355"/>
                  </a:lnTo>
                  <a:lnTo>
                    <a:pt x="177" y="351"/>
                  </a:lnTo>
                  <a:lnTo>
                    <a:pt x="185" y="348"/>
                  </a:lnTo>
                  <a:lnTo>
                    <a:pt x="195" y="344"/>
                  </a:lnTo>
                  <a:lnTo>
                    <a:pt x="204" y="342"/>
                  </a:lnTo>
                  <a:lnTo>
                    <a:pt x="215" y="340"/>
                  </a:lnTo>
                  <a:lnTo>
                    <a:pt x="216" y="332"/>
                  </a:lnTo>
                  <a:lnTo>
                    <a:pt x="219" y="309"/>
                  </a:lnTo>
                  <a:lnTo>
                    <a:pt x="223" y="278"/>
                  </a:lnTo>
                  <a:lnTo>
                    <a:pt x="224" y="239"/>
                  </a:lnTo>
                  <a:lnTo>
                    <a:pt x="220" y="226"/>
                  </a:lnTo>
                  <a:lnTo>
                    <a:pt x="215" y="216"/>
                  </a:lnTo>
                  <a:lnTo>
                    <a:pt x="209" y="205"/>
                  </a:lnTo>
                  <a:lnTo>
                    <a:pt x="202" y="195"/>
                  </a:lnTo>
                  <a:lnTo>
                    <a:pt x="194" y="186"/>
                  </a:lnTo>
                  <a:lnTo>
                    <a:pt x="184" y="176"/>
                  </a:lnTo>
                  <a:lnTo>
                    <a:pt x="175" y="167"/>
                  </a:lnTo>
                  <a:lnTo>
                    <a:pt x="164" y="159"/>
                  </a:lnTo>
                  <a:lnTo>
                    <a:pt x="142" y="143"/>
                  </a:lnTo>
                  <a:lnTo>
                    <a:pt x="119" y="129"/>
                  </a:lnTo>
                  <a:lnTo>
                    <a:pt x="95" y="115"/>
                  </a:lnTo>
                  <a:lnTo>
                    <a:pt x="73" y="103"/>
                  </a:lnTo>
                  <a:lnTo>
                    <a:pt x="52" y="91"/>
                  </a:lnTo>
                  <a:lnTo>
                    <a:pt x="33" y="79"/>
                  </a:lnTo>
                  <a:lnTo>
                    <a:pt x="25" y="73"/>
                  </a:lnTo>
                  <a:lnTo>
                    <a:pt x="17" y="68"/>
                  </a:lnTo>
                  <a:lnTo>
                    <a:pt x="11" y="62"/>
                  </a:lnTo>
                  <a:lnTo>
                    <a:pt x="7" y="56"/>
                  </a:lnTo>
                  <a:lnTo>
                    <a:pt x="3" y="49"/>
                  </a:lnTo>
                  <a:lnTo>
                    <a:pt x="1" y="43"/>
                  </a:lnTo>
                  <a:lnTo>
                    <a:pt x="0" y="36"/>
                  </a:lnTo>
                  <a:lnTo>
                    <a:pt x="1" y="29"/>
                  </a:lnTo>
                  <a:lnTo>
                    <a:pt x="3" y="22"/>
                  </a:lnTo>
                  <a:lnTo>
                    <a:pt x="8" y="15"/>
                  </a:lnTo>
                  <a:lnTo>
                    <a:pt x="14" y="8"/>
                  </a:lnTo>
                  <a:lnTo>
                    <a:pt x="22" y="0"/>
                  </a:lnTo>
                  <a:lnTo>
                    <a:pt x="57" y="12"/>
                  </a:lnTo>
                  <a:lnTo>
                    <a:pt x="91" y="21"/>
                  </a:lnTo>
                  <a:lnTo>
                    <a:pt x="123" y="29"/>
                  </a:lnTo>
                  <a:lnTo>
                    <a:pt x="153" y="35"/>
                  </a:lnTo>
                  <a:lnTo>
                    <a:pt x="182" y="40"/>
                  </a:lnTo>
                  <a:lnTo>
                    <a:pt x="209" y="42"/>
                  </a:lnTo>
                  <a:lnTo>
                    <a:pt x="233" y="43"/>
                  </a:lnTo>
                  <a:lnTo>
                    <a:pt x="257" y="43"/>
                  </a:lnTo>
                  <a:lnTo>
                    <a:pt x="279" y="42"/>
                  </a:lnTo>
                  <a:lnTo>
                    <a:pt x="299" y="40"/>
                  </a:lnTo>
                  <a:lnTo>
                    <a:pt x="317" y="37"/>
                  </a:lnTo>
                  <a:lnTo>
                    <a:pt x="334" y="34"/>
                  </a:lnTo>
                  <a:lnTo>
                    <a:pt x="348" y="30"/>
                  </a:lnTo>
                  <a:lnTo>
                    <a:pt x="362" y="26"/>
                  </a:lnTo>
                  <a:lnTo>
                    <a:pt x="372" y="21"/>
                  </a:lnTo>
                  <a:lnTo>
                    <a:pt x="382" y="17"/>
                  </a:lnTo>
                  <a:lnTo>
                    <a:pt x="586" y="233"/>
                  </a:lnTo>
                  <a:lnTo>
                    <a:pt x="586" y="371"/>
                  </a:lnTo>
                  <a:lnTo>
                    <a:pt x="565" y="368"/>
                  </a:lnTo>
                  <a:lnTo>
                    <a:pt x="544" y="364"/>
                  </a:lnTo>
                  <a:lnTo>
                    <a:pt x="524" y="362"/>
                  </a:lnTo>
                  <a:lnTo>
                    <a:pt x="504" y="361"/>
                  </a:lnTo>
                  <a:lnTo>
                    <a:pt x="487" y="361"/>
                  </a:lnTo>
                  <a:lnTo>
                    <a:pt x="468" y="361"/>
                  </a:lnTo>
                  <a:lnTo>
                    <a:pt x="452" y="361"/>
                  </a:lnTo>
                  <a:lnTo>
                    <a:pt x="436" y="363"/>
                  </a:lnTo>
                  <a:lnTo>
                    <a:pt x="421" y="364"/>
                  </a:lnTo>
                  <a:lnTo>
                    <a:pt x="408" y="368"/>
                  </a:lnTo>
                  <a:lnTo>
                    <a:pt x="397" y="370"/>
                  </a:lnTo>
                  <a:lnTo>
                    <a:pt x="386" y="375"/>
                  </a:lnTo>
                  <a:lnTo>
                    <a:pt x="377" y="378"/>
                  </a:lnTo>
                  <a:lnTo>
                    <a:pt x="369" y="383"/>
                  </a:lnTo>
                  <a:lnTo>
                    <a:pt x="363" y="389"/>
                  </a:lnTo>
                  <a:lnTo>
                    <a:pt x="359" y="393"/>
                  </a:lnTo>
                  <a:lnTo>
                    <a:pt x="357" y="400"/>
                  </a:lnTo>
                  <a:lnTo>
                    <a:pt x="357" y="406"/>
                  </a:lnTo>
                  <a:lnTo>
                    <a:pt x="358" y="412"/>
                  </a:lnTo>
                  <a:lnTo>
                    <a:pt x="362" y="419"/>
                  </a:lnTo>
                  <a:lnTo>
                    <a:pt x="368" y="426"/>
                  </a:lnTo>
                  <a:lnTo>
                    <a:pt x="376" y="434"/>
                  </a:lnTo>
                  <a:lnTo>
                    <a:pt x="386" y="441"/>
                  </a:lnTo>
                  <a:lnTo>
                    <a:pt x="400" y="448"/>
                  </a:lnTo>
                  <a:lnTo>
                    <a:pt x="415" y="457"/>
                  </a:lnTo>
                  <a:lnTo>
                    <a:pt x="433" y="464"/>
                  </a:lnTo>
                  <a:lnTo>
                    <a:pt x="454" y="472"/>
                  </a:lnTo>
                  <a:lnTo>
                    <a:pt x="477" y="480"/>
                  </a:lnTo>
                  <a:lnTo>
                    <a:pt x="504" y="487"/>
                  </a:lnTo>
                  <a:lnTo>
                    <a:pt x="533" y="495"/>
                  </a:lnTo>
                  <a:lnTo>
                    <a:pt x="565" y="502"/>
                  </a:lnTo>
                  <a:lnTo>
                    <a:pt x="601" y="509"/>
                  </a:lnTo>
                  <a:lnTo>
                    <a:pt x="615" y="513"/>
                  </a:lnTo>
                  <a:lnTo>
                    <a:pt x="627" y="516"/>
                  </a:lnTo>
                  <a:lnTo>
                    <a:pt x="639" y="520"/>
                  </a:lnTo>
                  <a:lnTo>
                    <a:pt x="649" y="524"/>
                  </a:lnTo>
                  <a:lnTo>
                    <a:pt x="658" y="528"/>
                  </a:lnTo>
                  <a:lnTo>
                    <a:pt x="665" y="532"/>
                  </a:lnTo>
                  <a:lnTo>
                    <a:pt x="672" y="537"/>
                  </a:lnTo>
                  <a:lnTo>
                    <a:pt x="678" y="542"/>
                  </a:lnTo>
                  <a:lnTo>
                    <a:pt x="684" y="548"/>
                  </a:lnTo>
                  <a:lnTo>
                    <a:pt x="688" y="552"/>
                  </a:lnTo>
                  <a:lnTo>
                    <a:pt x="691" y="557"/>
                  </a:lnTo>
                  <a:lnTo>
                    <a:pt x="693" y="563"/>
                  </a:lnTo>
                  <a:lnTo>
                    <a:pt x="697" y="573"/>
                  </a:lnTo>
                  <a:lnTo>
                    <a:pt x="698" y="584"/>
                  </a:lnTo>
                  <a:lnTo>
                    <a:pt x="697" y="593"/>
                  </a:lnTo>
                  <a:lnTo>
                    <a:pt x="695" y="603"/>
                  </a:lnTo>
                  <a:lnTo>
                    <a:pt x="692" y="611"/>
                  </a:lnTo>
                  <a:lnTo>
                    <a:pt x="689" y="619"/>
                  </a:lnTo>
                  <a:lnTo>
                    <a:pt x="682" y="629"/>
                  </a:lnTo>
                  <a:lnTo>
                    <a:pt x="678" y="633"/>
                  </a:lnTo>
                  <a:lnTo>
                    <a:pt x="462" y="697"/>
                  </a:lnTo>
                  <a:lnTo>
                    <a:pt x="146" y="42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70" name="Freeform 1477"/>
            <p:cNvSpPr/>
            <p:nvPr/>
          </p:nvSpPr>
          <p:spPr>
            <a:xfrm>
              <a:off x="5583600" y="4649040"/>
              <a:ext cx="177120" cy="53640"/>
            </a:xfrm>
            <a:custGeom>
              <a:avLst/>
              <a:gdLst>
                <a:gd name="textAreaLeft" fmla="*/ 0 w 177120"/>
                <a:gd name="textAreaRight" fmla="*/ 177480 w 177120"/>
                <a:gd name="textAreaTop" fmla="*/ 0 h 53640"/>
                <a:gd name="textAreaBottom" fmla="*/ 54000 h 53640"/>
              </a:gdLst>
              <a:ahLst/>
              <a:rect l="textAreaLeft" t="textAreaTop" r="textAreaRight" b="textAreaBottom"/>
              <a:pathLst>
                <a:path w="983" h="354">
                  <a:moveTo>
                    <a:pt x="55" y="323"/>
                  </a:moveTo>
                  <a:lnTo>
                    <a:pt x="596" y="268"/>
                  </a:lnTo>
                  <a:lnTo>
                    <a:pt x="609" y="271"/>
                  </a:lnTo>
                  <a:lnTo>
                    <a:pt x="644" y="281"/>
                  </a:lnTo>
                  <a:lnTo>
                    <a:pt x="666" y="285"/>
                  </a:lnTo>
                  <a:lnTo>
                    <a:pt x="691" y="291"/>
                  </a:lnTo>
                  <a:lnTo>
                    <a:pt x="718" y="296"/>
                  </a:lnTo>
                  <a:lnTo>
                    <a:pt x="743" y="299"/>
                  </a:lnTo>
                  <a:lnTo>
                    <a:pt x="752" y="301"/>
                  </a:lnTo>
                  <a:lnTo>
                    <a:pt x="761" y="303"/>
                  </a:lnTo>
                  <a:lnTo>
                    <a:pt x="769" y="306"/>
                  </a:lnTo>
                  <a:lnTo>
                    <a:pt x="777" y="310"/>
                  </a:lnTo>
                  <a:lnTo>
                    <a:pt x="792" y="319"/>
                  </a:lnTo>
                  <a:lnTo>
                    <a:pt x="806" y="329"/>
                  </a:lnTo>
                  <a:lnTo>
                    <a:pt x="827" y="346"/>
                  </a:lnTo>
                  <a:lnTo>
                    <a:pt x="836" y="354"/>
                  </a:lnTo>
                  <a:lnTo>
                    <a:pt x="857" y="347"/>
                  </a:lnTo>
                  <a:lnTo>
                    <a:pt x="881" y="340"/>
                  </a:lnTo>
                  <a:lnTo>
                    <a:pt x="909" y="333"/>
                  </a:lnTo>
                  <a:lnTo>
                    <a:pt x="936" y="325"/>
                  </a:lnTo>
                  <a:lnTo>
                    <a:pt x="948" y="320"/>
                  </a:lnTo>
                  <a:lnTo>
                    <a:pt x="959" y="316"/>
                  </a:lnTo>
                  <a:lnTo>
                    <a:pt x="969" y="310"/>
                  </a:lnTo>
                  <a:lnTo>
                    <a:pt x="976" y="304"/>
                  </a:lnTo>
                  <a:lnTo>
                    <a:pt x="978" y="302"/>
                  </a:lnTo>
                  <a:lnTo>
                    <a:pt x="980" y="298"/>
                  </a:lnTo>
                  <a:lnTo>
                    <a:pt x="982" y="295"/>
                  </a:lnTo>
                  <a:lnTo>
                    <a:pt x="983" y="291"/>
                  </a:lnTo>
                  <a:lnTo>
                    <a:pt x="982" y="288"/>
                  </a:lnTo>
                  <a:lnTo>
                    <a:pt x="982" y="284"/>
                  </a:lnTo>
                  <a:lnTo>
                    <a:pt x="979" y="281"/>
                  </a:lnTo>
                  <a:lnTo>
                    <a:pt x="977" y="276"/>
                  </a:lnTo>
                  <a:lnTo>
                    <a:pt x="970" y="265"/>
                  </a:lnTo>
                  <a:lnTo>
                    <a:pt x="965" y="255"/>
                  </a:lnTo>
                  <a:lnTo>
                    <a:pt x="962" y="244"/>
                  </a:lnTo>
                  <a:lnTo>
                    <a:pt x="961" y="234"/>
                  </a:lnTo>
                  <a:lnTo>
                    <a:pt x="962" y="213"/>
                  </a:lnTo>
                  <a:lnTo>
                    <a:pt x="965" y="194"/>
                  </a:lnTo>
                  <a:lnTo>
                    <a:pt x="966" y="185"/>
                  </a:lnTo>
                  <a:lnTo>
                    <a:pt x="968" y="177"/>
                  </a:lnTo>
                  <a:lnTo>
                    <a:pt x="968" y="170"/>
                  </a:lnTo>
                  <a:lnTo>
                    <a:pt x="966" y="164"/>
                  </a:lnTo>
                  <a:lnTo>
                    <a:pt x="964" y="159"/>
                  </a:lnTo>
                  <a:lnTo>
                    <a:pt x="961" y="156"/>
                  </a:lnTo>
                  <a:lnTo>
                    <a:pt x="954" y="153"/>
                  </a:lnTo>
                  <a:lnTo>
                    <a:pt x="945" y="152"/>
                  </a:lnTo>
                  <a:lnTo>
                    <a:pt x="933" y="153"/>
                  </a:lnTo>
                  <a:lnTo>
                    <a:pt x="922" y="155"/>
                  </a:lnTo>
                  <a:lnTo>
                    <a:pt x="910" y="157"/>
                  </a:lnTo>
                  <a:lnTo>
                    <a:pt x="900" y="159"/>
                  </a:lnTo>
                  <a:lnTo>
                    <a:pt x="878" y="167"/>
                  </a:lnTo>
                  <a:lnTo>
                    <a:pt x="854" y="176"/>
                  </a:lnTo>
                  <a:lnTo>
                    <a:pt x="831" y="184"/>
                  </a:lnTo>
                  <a:lnTo>
                    <a:pt x="805" y="192"/>
                  </a:lnTo>
                  <a:lnTo>
                    <a:pt x="790" y="194"/>
                  </a:lnTo>
                  <a:lnTo>
                    <a:pt x="776" y="197"/>
                  </a:lnTo>
                  <a:lnTo>
                    <a:pt x="760" y="198"/>
                  </a:lnTo>
                  <a:lnTo>
                    <a:pt x="743" y="199"/>
                  </a:lnTo>
                  <a:lnTo>
                    <a:pt x="727" y="198"/>
                  </a:lnTo>
                  <a:lnTo>
                    <a:pt x="713" y="194"/>
                  </a:lnTo>
                  <a:lnTo>
                    <a:pt x="701" y="190"/>
                  </a:lnTo>
                  <a:lnTo>
                    <a:pt x="691" y="185"/>
                  </a:lnTo>
                  <a:lnTo>
                    <a:pt x="672" y="170"/>
                  </a:lnTo>
                  <a:lnTo>
                    <a:pt x="655" y="155"/>
                  </a:lnTo>
                  <a:lnTo>
                    <a:pt x="645" y="146"/>
                  </a:lnTo>
                  <a:lnTo>
                    <a:pt x="636" y="139"/>
                  </a:lnTo>
                  <a:lnTo>
                    <a:pt x="624" y="132"/>
                  </a:lnTo>
                  <a:lnTo>
                    <a:pt x="613" y="126"/>
                  </a:lnTo>
                  <a:lnTo>
                    <a:pt x="599" y="123"/>
                  </a:lnTo>
                  <a:lnTo>
                    <a:pt x="582" y="119"/>
                  </a:lnTo>
                  <a:lnTo>
                    <a:pt x="563" y="119"/>
                  </a:lnTo>
                  <a:lnTo>
                    <a:pt x="541" y="121"/>
                  </a:lnTo>
                  <a:lnTo>
                    <a:pt x="548" y="110"/>
                  </a:lnTo>
                  <a:lnTo>
                    <a:pt x="554" y="100"/>
                  </a:lnTo>
                  <a:lnTo>
                    <a:pt x="558" y="89"/>
                  </a:lnTo>
                  <a:lnTo>
                    <a:pt x="560" y="80"/>
                  </a:lnTo>
                  <a:lnTo>
                    <a:pt x="561" y="72"/>
                  </a:lnTo>
                  <a:lnTo>
                    <a:pt x="561" y="62"/>
                  </a:lnTo>
                  <a:lnTo>
                    <a:pt x="558" y="55"/>
                  </a:lnTo>
                  <a:lnTo>
                    <a:pt x="554" y="47"/>
                  </a:lnTo>
                  <a:lnTo>
                    <a:pt x="548" y="40"/>
                  </a:lnTo>
                  <a:lnTo>
                    <a:pt x="540" y="33"/>
                  </a:lnTo>
                  <a:lnTo>
                    <a:pt x="530" y="27"/>
                  </a:lnTo>
                  <a:lnTo>
                    <a:pt x="518" y="21"/>
                  </a:lnTo>
                  <a:lnTo>
                    <a:pt x="504" y="16"/>
                  </a:lnTo>
                  <a:lnTo>
                    <a:pt x="489" y="10"/>
                  </a:lnTo>
                  <a:lnTo>
                    <a:pt x="470" y="5"/>
                  </a:lnTo>
                  <a:lnTo>
                    <a:pt x="449" y="0"/>
                  </a:lnTo>
                  <a:lnTo>
                    <a:pt x="109" y="158"/>
                  </a:lnTo>
                  <a:lnTo>
                    <a:pt x="0" y="199"/>
                  </a:lnTo>
                  <a:lnTo>
                    <a:pt x="0" y="299"/>
                  </a:lnTo>
                  <a:lnTo>
                    <a:pt x="55" y="323"/>
                  </a:lnTo>
                  <a:close/>
                </a:path>
              </a:pathLst>
            </a:custGeom>
            <a:solidFill>
              <a:srgbClr val="93d5ed"/>
            </a:solidFill>
            <a:ln w="9360">
              <a:solidFill>
                <a:srgbClr val="ccecff"/>
              </a:solidFill>
              <a:round/>
            </a:ln>
          </p:spPr>
          <p:style>
            <a:lnRef idx="0"/>
            <a:fillRef idx="0"/>
            <a:effectRef idx="0"/>
            <a:fontRef idx="minor"/>
          </p:style>
          <p:txBody>
            <a:bodyPr lIns="90000" rIns="90000" tIns="7200" bIns="7200" anchor="t">
              <a:noAutofit/>
            </a:bodyPr>
            <a:p>
              <a:endParaRPr b="1" lang="en-US" sz="2400" spc="-1" strike="noStrike">
                <a:solidFill>
                  <a:srgbClr val="ffffff"/>
                </a:solidFill>
                <a:latin typeface="Times New Roman"/>
              </a:endParaRPr>
            </a:p>
          </p:txBody>
        </p:sp>
        <p:sp>
          <p:nvSpPr>
            <p:cNvPr id="371" name="Freeform 1478"/>
            <p:cNvSpPr/>
            <p:nvPr/>
          </p:nvSpPr>
          <p:spPr>
            <a:xfrm>
              <a:off x="5583600" y="4649040"/>
              <a:ext cx="177120" cy="53640"/>
            </a:xfrm>
            <a:custGeom>
              <a:avLst/>
              <a:gdLst>
                <a:gd name="textAreaLeft" fmla="*/ 0 w 177120"/>
                <a:gd name="textAreaRight" fmla="*/ 177480 w 177120"/>
                <a:gd name="textAreaTop" fmla="*/ 0 h 53640"/>
                <a:gd name="textAreaBottom" fmla="*/ 54000 h 53640"/>
              </a:gdLst>
              <a:ahLst/>
              <a:rect l="textAreaLeft" t="textAreaTop" r="textAreaRight" b="textAreaBottom"/>
              <a:pathLst>
                <a:path w="983" h="354">
                  <a:moveTo>
                    <a:pt x="55" y="323"/>
                  </a:moveTo>
                  <a:lnTo>
                    <a:pt x="596" y="268"/>
                  </a:lnTo>
                  <a:lnTo>
                    <a:pt x="609" y="271"/>
                  </a:lnTo>
                  <a:lnTo>
                    <a:pt x="644" y="281"/>
                  </a:lnTo>
                  <a:lnTo>
                    <a:pt x="666" y="285"/>
                  </a:lnTo>
                  <a:lnTo>
                    <a:pt x="691" y="291"/>
                  </a:lnTo>
                  <a:lnTo>
                    <a:pt x="718" y="296"/>
                  </a:lnTo>
                  <a:lnTo>
                    <a:pt x="743" y="299"/>
                  </a:lnTo>
                  <a:lnTo>
                    <a:pt x="752" y="301"/>
                  </a:lnTo>
                  <a:lnTo>
                    <a:pt x="761" y="303"/>
                  </a:lnTo>
                  <a:lnTo>
                    <a:pt x="769" y="306"/>
                  </a:lnTo>
                  <a:lnTo>
                    <a:pt x="777" y="310"/>
                  </a:lnTo>
                  <a:lnTo>
                    <a:pt x="792" y="319"/>
                  </a:lnTo>
                  <a:lnTo>
                    <a:pt x="806" y="329"/>
                  </a:lnTo>
                  <a:lnTo>
                    <a:pt x="827" y="346"/>
                  </a:lnTo>
                  <a:lnTo>
                    <a:pt x="836" y="354"/>
                  </a:lnTo>
                  <a:lnTo>
                    <a:pt x="857" y="347"/>
                  </a:lnTo>
                  <a:lnTo>
                    <a:pt x="881" y="340"/>
                  </a:lnTo>
                  <a:lnTo>
                    <a:pt x="909" y="333"/>
                  </a:lnTo>
                  <a:lnTo>
                    <a:pt x="936" y="325"/>
                  </a:lnTo>
                  <a:lnTo>
                    <a:pt x="948" y="320"/>
                  </a:lnTo>
                  <a:lnTo>
                    <a:pt x="959" y="316"/>
                  </a:lnTo>
                  <a:lnTo>
                    <a:pt x="969" y="310"/>
                  </a:lnTo>
                  <a:lnTo>
                    <a:pt x="976" y="304"/>
                  </a:lnTo>
                  <a:lnTo>
                    <a:pt x="978" y="302"/>
                  </a:lnTo>
                  <a:lnTo>
                    <a:pt x="980" y="298"/>
                  </a:lnTo>
                  <a:lnTo>
                    <a:pt x="982" y="295"/>
                  </a:lnTo>
                  <a:lnTo>
                    <a:pt x="983" y="291"/>
                  </a:lnTo>
                  <a:lnTo>
                    <a:pt x="982" y="288"/>
                  </a:lnTo>
                  <a:lnTo>
                    <a:pt x="982" y="284"/>
                  </a:lnTo>
                  <a:lnTo>
                    <a:pt x="979" y="281"/>
                  </a:lnTo>
                  <a:lnTo>
                    <a:pt x="977" y="276"/>
                  </a:lnTo>
                  <a:lnTo>
                    <a:pt x="970" y="265"/>
                  </a:lnTo>
                  <a:lnTo>
                    <a:pt x="965" y="255"/>
                  </a:lnTo>
                  <a:lnTo>
                    <a:pt x="962" y="244"/>
                  </a:lnTo>
                  <a:lnTo>
                    <a:pt x="961" y="234"/>
                  </a:lnTo>
                  <a:lnTo>
                    <a:pt x="962" y="213"/>
                  </a:lnTo>
                  <a:lnTo>
                    <a:pt x="965" y="194"/>
                  </a:lnTo>
                  <a:lnTo>
                    <a:pt x="966" y="185"/>
                  </a:lnTo>
                  <a:lnTo>
                    <a:pt x="968" y="177"/>
                  </a:lnTo>
                  <a:lnTo>
                    <a:pt x="968" y="170"/>
                  </a:lnTo>
                  <a:lnTo>
                    <a:pt x="966" y="164"/>
                  </a:lnTo>
                  <a:lnTo>
                    <a:pt x="964" y="159"/>
                  </a:lnTo>
                  <a:lnTo>
                    <a:pt x="961" y="156"/>
                  </a:lnTo>
                  <a:lnTo>
                    <a:pt x="954" y="153"/>
                  </a:lnTo>
                  <a:lnTo>
                    <a:pt x="945" y="152"/>
                  </a:lnTo>
                  <a:lnTo>
                    <a:pt x="933" y="153"/>
                  </a:lnTo>
                  <a:lnTo>
                    <a:pt x="922" y="155"/>
                  </a:lnTo>
                  <a:lnTo>
                    <a:pt x="910" y="157"/>
                  </a:lnTo>
                  <a:lnTo>
                    <a:pt x="900" y="159"/>
                  </a:lnTo>
                  <a:lnTo>
                    <a:pt x="878" y="167"/>
                  </a:lnTo>
                  <a:lnTo>
                    <a:pt x="854" y="176"/>
                  </a:lnTo>
                  <a:lnTo>
                    <a:pt x="831" y="184"/>
                  </a:lnTo>
                  <a:lnTo>
                    <a:pt x="805" y="192"/>
                  </a:lnTo>
                  <a:lnTo>
                    <a:pt x="790" y="194"/>
                  </a:lnTo>
                  <a:lnTo>
                    <a:pt x="776" y="197"/>
                  </a:lnTo>
                  <a:lnTo>
                    <a:pt x="760" y="198"/>
                  </a:lnTo>
                  <a:lnTo>
                    <a:pt x="743" y="199"/>
                  </a:lnTo>
                  <a:lnTo>
                    <a:pt x="727" y="198"/>
                  </a:lnTo>
                  <a:lnTo>
                    <a:pt x="713" y="194"/>
                  </a:lnTo>
                  <a:lnTo>
                    <a:pt x="701" y="190"/>
                  </a:lnTo>
                  <a:lnTo>
                    <a:pt x="691" y="185"/>
                  </a:lnTo>
                  <a:lnTo>
                    <a:pt x="672" y="170"/>
                  </a:lnTo>
                  <a:lnTo>
                    <a:pt x="655" y="155"/>
                  </a:lnTo>
                  <a:lnTo>
                    <a:pt x="645" y="146"/>
                  </a:lnTo>
                  <a:lnTo>
                    <a:pt x="636" y="139"/>
                  </a:lnTo>
                  <a:lnTo>
                    <a:pt x="624" y="132"/>
                  </a:lnTo>
                  <a:lnTo>
                    <a:pt x="613" y="126"/>
                  </a:lnTo>
                  <a:lnTo>
                    <a:pt x="599" y="123"/>
                  </a:lnTo>
                  <a:lnTo>
                    <a:pt x="582" y="119"/>
                  </a:lnTo>
                  <a:lnTo>
                    <a:pt x="563" y="119"/>
                  </a:lnTo>
                  <a:lnTo>
                    <a:pt x="541" y="121"/>
                  </a:lnTo>
                  <a:lnTo>
                    <a:pt x="548" y="110"/>
                  </a:lnTo>
                  <a:lnTo>
                    <a:pt x="554" y="100"/>
                  </a:lnTo>
                  <a:lnTo>
                    <a:pt x="558" y="89"/>
                  </a:lnTo>
                  <a:lnTo>
                    <a:pt x="560" y="80"/>
                  </a:lnTo>
                  <a:lnTo>
                    <a:pt x="561" y="72"/>
                  </a:lnTo>
                  <a:lnTo>
                    <a:pt x="561" y="62"/>
                  </a:lnTo>
                  <a:lnTo>
                    <a:pt x="558" y="55"/>
                  </a:lnTo>
                  <a:lnTo>
                    <a:pt x="554" y="47"/>
                  </a:lnTo>
                  <a:lnTo>
                    <a:pt x="548" y="40"/>
                  </a:lnTo>
                  <a:lnTo>
                    <a:pt x="540" y="33"/>
                  </a:lnTo>
                  <a:lnTo>
                    <a:pt x="530" y="27"/>
                  </a:lnTo>
                  <a:lnTo>
                    <a:pt x="518" y="21"/>
                  </a:lnTo>
                  <a:lnTo>
                    <a:pt x="504" y="16"/>
                  </a:lnTo>
                  <a:lnTo>
                    <a:pt x="489" y="10"/>
                  </a:lnTo>
                  <a:lnTo>
                    <a:pt x="470" y="5"/>
                  </a:lnTo>
                  <a:lnTo>
                    <a:pt x="449" y="0"/>
                  </a:lnTo>
                  <a:lnTo>
                    <a:pt x="109" y="158"/>
                  </a:lnTo>
                  <a:lnTo>
                    <a:pt x="0" y="199"/>
                  </a:lnTo>
                  <a:lnTo>
                    <a:pt x="0" y="299"/>
                  </a:lnTo>
                  <a:lnTo>
                    <a:pt x="55" y="323"/>
                  </a:lnTo>
                </a:path>
              </a:pathLst>
            </a:custGeom>
            <a:solidFill>
              <a:srgbClr val="93d5ed"/>
            </a:solidFill>
            <a:ln w="4680">
              <a:solidFill>
                <a:srgbClr val="ccecff"/>
              </a:solidFill>
              <a:round/>
            </a:ln>
          </p:spPr>
          <p:style>
            <a:lnRef idx="0"/>
            <a:fillRef idx="0"/>
            <a:effectRef idx="0"/>
            <a:fontRef idx="minor"/>
          </p:style>
          <p:txBody>
            <a:bodyPr lIns="90000" rIns="90000" tIns="7200" bIns="7200" anchor="t">
              <a:noAutofit/>
            </a:bodyPr>
            <a:p>
              <a:endParaRPr b="1" lang="en-US" sz="2400" spc="-1" strike="noStrike">
                <a:solidFill>
                  <a:srgbClr val="ffffff"/>
                </a:solidFill>
                <a:latin typeface="Times New Roman"/>
              </a:endParaRPr>
            </a:p>
          </p:txBody>
        </p:sp>
        <p:sp>
          <p:nvSpPr>
            <p:cNvPr id="372" name="Freeform 1479"/>
            <p:cNvSpPr/>
            <p:nvPr/>
          </p:nvSpPr>
          <p:spPr>
            <a:xfrm>
              <a:off x="5416200" y="4797360"/>
              <a:ext cx="223560" cy="61200"/>
            </a:xfrm>
            <a:custGeom>
              <a:avLst/>
              <a:gdLst>
                <a:gd name="textAreaLeft" fmla="*/ 0 w 223560"/>
                <a:gd name="textAreaRight" fmla="*/ 223920 w 223560"/>
                <a:gd name="textAreaTop" fmla="*/ 0 h 61200"/>
                <a:gd name="textAreaBottom" fmla="*/ 61560 h 61200"/>
              </a:gdLst>
              <a:ahLst/>
              <a:rect l="textAreaLeft" t="textAreaTop" r="textAreaRight" b="textAreaBottom"/>
              <a:pathLst>
                <a:path w="1244" h="409">
                  <a:moveTo>
                    <a:pt x="933" y="193"/>
                  </a:moveTo>
                  <a:lnTo>
                    <a:pt x="971" y="223"/>
                  </a:lnTo>
                  <a:lnTo>
                    <a:pt x="1011" y="254"/>
                  </a:lnTo>
                  <a:lnTo>
                    <a:pt x="1053" y="283"/>
                  </a:lnTo>
                  <a:lnTo>
                    <a:pt x="1095" y="313"/>
                  </a:lnTo>
                  <a:lnTo>
                    <a:pt x="1137" y="341"/>
                  </a:lnTo>
                  <a:lnTo>
                    <a:pt x="1176" y="367"/>
                  </a:lnTo>
                  <a:lnTo>
                    <a:pt x="1213" y="389"/>
                  </a:lnTo>
                  <a:lnTo>
                    <a:pt x="1244" y="409"/>
                  </a:lnTo>
                  <a:lnTo>
                    <a:pt x="1065" y="401"/>
                  </a:lnTo>
                  <a:lnTo>
                    <a:pt x="1063" y="396"/>
                  </a:lnTo>
                  <a:lnTo>
                    <a:pt x="1060" y="393"/>
                  </a:lnTo>
                  <a:lnTo>
                    <a:pt x="1056" y="390"/>
                  </a:lnTo>
                  <a:lnTo>
                    <a:pt x="1051" y="389"/>
                  </a:lnTo>
                  <a:lnTo>
                    <a:pt x="1041" y="386"/>
                  </a:lnTo>
                  <a:lnTo>
                    <a:pt x="1028" y="384"/>
                  </a:lnTo>
                  <a:lnTo>
                    <a:pt x="998" y="384"/>
                  </a:lnTo>
                  <a:lnTo>
                    <a:pt x="964" y="383"/>
                  </a:lnTo>
                  <a:lnTo>
                    <a:pt x="945" y="382"/>
                  </a:lnTo>
                  <a:lnTo>
                    <a:pt x="926" y="377"/>
                  </a:lnTo>
                  <a:lnTo>
                    <a:pt x="917" y="375"/>
                  </a:lnTo>
                  <a:lnTo>
                    <a:pt x="908" y="372"/>
                  </a:lnTo>
                  <a:lnTo>
                    <a:pt x="898" y="367"/>
                  </a:lnTo>
                  <a:lnTo>
                    <a:pt x="890" y="362"/>
                  </a:lnTo>
                  <a:lnTo>
                    <a:pt x="881" y="356"/>
                  </a:lnTo>
                  <a:lnTo>
                    <a:pt x="873" y="349"/>
                  </a:lnTo>
                  <a:lnTo>
                    <a:pt x="863" y="341"/>
                  </a:lnTo>
                  <a:lnTo>
                    <a:pt x="856" y="333"/>
                  </a:lnTo>
                  <a:lnTo>
                    <a:pt x="848" y="323"/>
                  </a:lnTo>
                  <a:lnTo>
                    <a:pt x="840" y="312"/>
                  </a:lnTo>
                  <a:lnTo>
                    <a:pt x="833" y="299"/>
                  </a:lnTo>
                  <a:lnTo>
                    <a:pt x="827" y="285"/>
                  </a:lnTo>
                  <a:lnTo>
                    <a:pt x="815" y="279"/>
                  </a:lnTo>
                  <a:lnTo>
                    <a:pt x="806" y="272"/>
                  </a:lnTo>
                  <a:lnTo>
                    <a:pt x="799" y="266"/>
                  </a:lnTo>
                  <a:lnTo>
                    <a:pt x="793" y="259"/>
                  </a:lnTo>
                  <a:lnTo>
                    <a:pt x="784" y="247"/>
                  </a:lnTo>
                  <a:lnTo>
                    <a:pt x="777" y="235"/>
                  </a:lnTo>
                  <a:lnTo>
                    <a:pt x="775" y="229"/>
                  </a:lnTo>
                  <a:lnTo>
                    <a:pt x="771" y="223"/>
                  </a:lnTo>
                  <a:lnTo>
                    <a:pt x="768" y="219"/>
                  </a:lnTo>
                  <a:lnTo>
                    <a:pt x="763" y="215"/>
                  </a:lnTo>
                  <a:lnTo>
                    <a:pt x="758" y="212"/>
                  </a:lnTo>
                  <a:lnTo>
                    <a:pt x="751" y="209"/>
                  </a:lnTo>
                  <a:lnTo>
                    <a:pt x="744" y="208"/>
                  </a:lnTo>
                  <a:lnTo>
                    <a:pt x="735" y="207"/>
                  </a:lnTo>
                  <a:lnTo>
                    <a:pt x="723" y="209"/>
                  </a:lnTo>
                  <a:lnTo>
                    <a:pt x="713" y="209"/>
                  </a:lnTo>
                  <a:lnTo>
                    <a:pt x="702" y="208"/>
                  </a:lnTo>
                  <a:lnTo>
                    <a:pt x="692" y="205"/>
                  </a:lnTo>
                  <a:lnTo>
                    <a:pt x="668" y="195"/>
                  </a:lnTo>
                  <a:lnTo>
                    <a:pt x="639" y="184"/>
                  </a:lnTo>
                  <a:lnTo>
                    <a:pt x="622" y="178"/>
                  </a:lnTo>
                  <a:lnTo>
                    <a:pt x="601" y="172"/>
                  </a:lnTo>
                  <a:lnTo>
                    <a:pt x="577" y="168"/>
                  </a:lnTo>
                  <a:lnTo>
                    <a:pt x="549" y="165"/>
                  </a:lnTo>
                  <a:lnTo>
                    <a:pt x="518" y="164"/>
                  </a:lnTo>
                  <a:lnTo>
                    <a:pt x="481" y="164"/>
                  </a:lnTo>
                  <a:lnTo>
                    <a:pt x="440" y="165"/>
                  </a:lnTo>
                  <a:lnTo>
                    <a:pt x="395" y="170"/>
                  </a:lnTo>
                  <a:lnTo>
                    <a:pt x="370" y="168"/>
                  </a:lnTo>
                  <a:lnTo>
                    <a:pt x="354" y="167"/>
                  </a:lnTo>
                  <a:lnTo>
                    <a:pt x="341" y="168"/>
                  </a:lnTo>
                  <a:lnTo>
                    <a:pt x="330" y="168"/>
                  </a:lnTo>
                  <a:lnTo>
                    <a:pt x="317" y="170"/>
                  </a:lnTo>
                  <a:lnTo>
                    <a:pt x="297" y="168"/>
                  </a:lnTo>
                  <a:lnTo>
                    <a:pt x="270" y="166"/>
                  </a:lnTo>
                  <a:lnTo>
                    <a:pt x="230" y="161"/>
                  </a:lnTo>
                  <a:lnTo>
                    <a:pt x="220" y="160"/>
                  </a:lnTo>
                  <a:lnTo>
                    <a:pt x="209" y="160"/>
                  </a:lnTo>
                  <a:lnTo>
                    <a:pt x="199" y="161"/>
                  </a:lnTo>
                  <a:lnTo>
                    <a:pt x="191" y="164"/>
                  </a:lnTo>
                  <a:lnTo>
                    <a:pt x="182" y="166"/>
                  </a:lnTo>
                  <a:lnTo>
                    <a:pt x="174" y="170"/>
                  </a:lnTo>
                  <a:lnTo>
                    <a:pt x="167" y="174"/>
                  </a:lnTo>
                  <a:lnTo>
                    <a:pt x="160" y="178"/>
                  </a:lnTo>
                  <a:lnTo>
                    <a:pt x="137" y="198"/>
                  </a:lnTo>
                  <a:lnTo>
                    <a:pt x="117" y="215"/>
                  </a:lnTo>
                  <a:lnTo>
                    <a:pt x="112" y="217"/>
                  </a:lnTo>
                  <a:lnTo>
                    <a:pt x="108" y="221"/>
                  </a:lnTo>
                  <a:lnTo>
                    <a:pt x="103" y="223"/>
                  </a:lnTo>
                  <a:lnTo>
                    <a:pt x="97" y="224"/>
                  </a:lnTo>
                  <a:lnTo>
                    <a:pt x="91" y="224"/>
                  </a:lnTo>
                  <a:lnTo>
                    <a:pt x="85" y="223"/>
                  </a:lnTo>
                  <a:lnTo>
                    <a:pt x="80" y="222"/>
                  </a:lnTo>
                  <a:lnTo>
                    <a:pt x="74" y="219"/>
                  </a:lnTo>
                  <a:lnTo>
                    <a:pt x="67" y="214"/>
                  </a:lnTo>
                  <a:lnTo>
                    <a:pt x="59" y="209"/>
                  </a:lnTo>
                  <a:lnTo>
                    <a:pt x="50" y="201"/>
                  </a:lnTo>
                  <a:lnTo>
                    <a:pt x="42" y="193"/>
                  </a:lnTo>
                  <a:lnTo>
                    <a:pt x="22" y="170"/>
                  </a:lnTo>
                  <a:lnTo>
                    <a:pt x="0" y="138"/>
                  </a:lnTo>
                  <a:lnTo>
                    <a:pt x="942" y="0"/>
                  </a:lnTo>
                  <a:lnTo>
                    <a:pt x="1057" y="98"/>
                  </a:lnTo>
                  <a:lnTo>
                    <a:pt x="1025" y="110"/>
                  </a:lnTo>
                  <a:lnTo>
                    <a:pt x="995" y="124"/>
                  </a:lnTo>
                  <a:lnTo>
                    <a:pt x="983" y="131"/>
                  </a:lnTo>
                  <a:lnTo>
                    <a:pt x="971" y="138"/>
                  </a:lnTo>
                  <a:lnTo>
                    <a:pt x="961" y="144"/>
                  </a:lnTo>
                  <a:lnTo>
                    <a:pt x="952" y="151"/>
                  </a:lnTo>
                  <a:lnTo>
                    <a:pt x="944" y="158"/>
                  </a:lnTo>
                  <a:lnTo>
                    <a:pt x="938" y="164"/>
                  </a:lnTo>
                  <a:lnTo>
                    <a:pt x="933" y="170"/>
                  </a:lnTo>
                  <a:lnTo>
                    <a:pt x="930" y="175"/>
                  </a:lnTo>
                  <a:lnTo>
                    <a:pt x="928" y="180"/>
                  </a:lnTo>
                  <a:lnTo>
                    <a:pt x="928" y="185"/>
                  </a:lnTo>
                  <a:lnTo>
                    <a:pt x="930" y="189"/>
                  </a:lnTo>
                  <a:lnTo>
                    <a:pt x="933" y="193"/>
                  </a:lnTo>
                  <a:close/>
                </a:path>
              </a:pathLst>
            </a:custGeom>
            <a:solidFill>
              <a:srgbClr val="93d5ed"/>
            </a:solidFill>
            <a:ln w="9360">
              <a:solidFill>
                <a:srgbClr val="ccecff"/>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Times New Roman"/>
              </a:endParaRPr>
            </a:p>
          </p:txBody>
        </p:sp>
        <p:sp>
          <p:nvSpPr>
            <p:cNvPr id="373" name="Freeform 1480"/>
            <p:cNvSpPr/>
            <p:nvPr/>
          </p:nvSpPr>
          <p:spPr>
            <a:xfrm>
              <a:off x="5416200" y="4797360"/>
              <a:ext cx="223560" cy="61200"/>
            </a:xfrm>
            <a:custGeom>
              <a:avLst/>
              <a:gdLst>
                <a:gd name="textAreaLeft" fmla="*/ 0 w 223560"/>
                <a:gd name="textAreaRight" fmla="*/ 223920 w 223560"/>
                <a:gd name="textAreaTop" fmla="*/ 0 h 61200"/>
                <a:gd name="textAreaBottom" fmla="*/ 61560 h 61200"/>
              </a:gdLst>
              <a:ahLst/>
              <a:rect l="textAreaLeft" t="textAreaTop" r="textAreaRight" b="textAreaBottom"/>
              <a:pathLst>
                <a:path w="1244" h="409">
                  <a:moveTo>
                    <a:pt x="933" y="193"/>
                  </a:moveTo>
                  <a:lnTo>
                    <a:pt x="971" y="223"/>
                  </a:lnTo>
                  <a:lnTo>
                    <a:pt x="1011" y="254"/>
                  </a:lnTo>
                  <a:lnTo>
                    <a:pt x="1053" y="283"/>
                  </a:lnTo>
                  <a:lnTo>
                    <a:pt x="1095" y="313"/>
                  </a:lnTo>
                  <a:lnTo>
                    <a:pt x="1137" y="341"/>
                  </a:lnTo>
                  <a:lnTo>
                    <a:pt x="1176" y="367"/>
                  </a:lnTo>
                  <a:lnTo>
                    <a:pt x="1213" y="389"/>
                  </a:lnTo>
                  <a:lnTo>
                    <a:pt x="1244" y="409"/>
                  </a:lnTo>
                  <a:lnTo>
                    <a:pt x="1065" y="401"/>
                  </a:lnTo>
                  <a:lnTo>
                    <a:pt x="1063" y="396"/>
                  </a:lnTo>
                  <a:lnTo>
                    <a:pt x="1060" y="393"/>
                  </a:lnTo>
                  <a:lnTo>
                    <a:pt x="1056" y="390"/>
                  </a:lnTo>
                  <a:lnTo>
                    <a:pt x="1051" y="389"/>
                  </a:lnTo>
                  <a:lnTo>
                    <a:pt x="1041" y="386"/>
                  </a:lnTo>
                  <a:lnTo>
                    <a:pt x="1028" y="384"/>
                  </a:lnTo>
                  <a:lnTo>
                    <a:pt x="998" y="384"/>
                  </a:lnTo>
                  <a:lnTo>
                    <a:pt x="964" y="383"/>
                  </a:lnTo>
                  <a:lnTo>
                    <a:pt x="945" y="382"/>
                  </a:lnTo>
                  <a:lnTo>
                    <a:pt x="926" y="377"/>
                  </a:lnTo>
                  <a:lnTo>
                    <a:pt x="917" y="375"/>
                  </a:lnTo>
                  <a:lnTo>
                    <a:pt x="908" y="372"/>
                  </a:lnTo>
                  <a:lnTo>
                    <a:pt x="898" y="367"/>
                  </a:lnTo>
                  <a:lnTo>
                    <a:pt x="890" y="362"/>
                  </a:lnTo>
                  <a:lnTo>
                    <a:pt x="881" y="356"/>
                  </a:lnTo>
                  <a:lnTo>
                    <a:pt x="873" y="349"/>
                  </a:lnTo>
                  <a:lnTo>
                    <a:pt x="863" y="341"/>
                  </a:lnTo>
                  <a:lnTo>
                    <a:pt x="856" y="333"/>
                  </a:lnTo>
                  <a:lnTo>
                    <a:pt x="848" y="323"/>
                  </a:lnTo>
                  <a:lnTo>
                    <a:pt x="840" y="312"/>
                  </a:lnTo>
                  <a:lnTo>
                    <a:pt x="833" y="299"/>
                  </a:lnTo>
                  <a:lnTo>
                    <a:pt x="827" y="285"/>
                  </a:lnTo>
                  <a:lnTo>
                    <a:pt x="815" y="279"/>
                  </a:lnTo>
                  <a:lnTo>
                    <a:pt x="806" y="272"/>
                  </a:lnTo>
                  <a:lnTo>
                    <a:pt x="799" y="266"/>
                  </a:lnTo>
                  <a:lnTo>
                    <a:pt x="793" y="259"/>
                  </a:lnTo>
                  <a:lnTo>
                    <a:pt x="784" y="247"/>
                  </a:lnTo>
                  <a:lnTo>
                    <a:pt x="777" y="235"/>
                  </a:lnTo>
                  <a:lnTo>
                    <a:pt x="775" y="229"/>
                  </a:lnTo>
                  <a:lnTo>
                    <a:pt x="771" y="223"/>
                  </a:lnTo>
                  <a:lnTo>
                    <a:pt x="768" y="219"/>
                  </a:lnTo>
                  <a:lnTo>
                    <a:pt x="763" y="215"/>
                  </a:lnTo>
                  <a:lnTo>
                    <a:pt x="758" y="212"/>
                  </a:lnTo>
                  <a:lnTo>
                    <a:pt x="751" y="209"/>
                  </a:lnTo>
                  <a:lnTo>
                    <a:pt x="744" y="208"/>
                  </a:lnTo>
                  <a:lnTo>
                    <a:pt x="735" y="207"/>
                  </a:lnTo>
                  <a:lnTo>
                    <a:pt x="723" y="209"/>
                  </a:lnTo>
                  <a:lnTo>
                    <a:pt x="713" y="209"/>
                  </a:lnTo>
                  <a:lnTo>
                    <a:pt x="702" y="208"/>
                  </a:lnTo>
                  <a:lnTo>
                    <a:pt x="692" y="205"/>
                  </a:lnTo>
                  <a:lnTo>
                    <a:pt x="668" y="195"/>
                  </a:lnTo>
                  <a:lnTo>
                    <a:pt x="639" y="184"/>
                  </a:lnTo>
                  <a:lnTo>
                    <a:pt x="622" y="178"/>
                  </a:lnTo>
                  <a:lnTo>
                    <a:pt x="601" y="172"/>
                  </a:lnTo>
                  <a:lnTo>
                    <a:pt x="577" y="168"/>
                  </a:lnTo>
                  <a:lnTo>
                    <a:pt x="549" y="165"/>
                  </a:lnTo>
                  <a:lnTo>
                    <a:pt x="518" y="164"/>
                  </a:lnTo>
                  <a:lnTo>
                    <a:pt x="481" y="164"/>
                  </a:lnTo>
                  <a:lnTo>
                    <a:pt x="440" y="165"/>
                  </a:lnTo>
                  <a:lnTo>
                    <a:pt x="395" y="170"/>
                  </a:lnTo>
                  <a:lnTo>
                    <a:pt x="370" y="168"/>
                  </a:lnTo>
                  <a:lnTo>
                    <a:pt x="354" y="167"/>
                  </a:lnTo>
                  <a:lnTo>
                    <a:pt x="341" y="168"/>
                  </a:lnTo>
                  <a:lnTo>
                    <a:pt x="330" y="168"/>
                  </a:lnTo>
                  <a:lnTo>
                    <a:pt x="317" y="170"/>
                  </a:lnTo>
                  <a:lnTo>
                    <a:pt x="297" y="168"/>
                  </a:lnTo>
                  <a:lnTo>
                    <a:pt x="270" y="166"/>
                  </a:lnTo>
                  <a:lnTo>
                    <a:pt x="230" y="161"/>
                  </a:lnTo>
                  <a:lnTo>
                    <a:pt x="220" y="160"/>
                  </a:lnTo>
                  <a:lnTo>
                    <a:pt x="209" y="160"/>
                  </a:lnTo>
                  <a:lnTo>
                    <a:pt x="199" y="161"/>
                  </a:lnTo>
                  <a:lnTo>
                    <a:pt x="191" y="164"/>
                  </a:lnTo>
                  <a:lnTo>
                    <a:pt x="182" y="166"/>
                  </a:lnTo>
                  <a:lnTo>
                    <a:pt x="174" y="170"/>
                  </a:lnTo>
                  <a:lnTo>
                    <a:pt x="167" y="174"/>
                  </a:lnTo>
                  <a:lnTo>
                    <a:pt x="160" y="178"/>
                  </a:lnTo>
                  <a:lnTo>
                    <a:pt x="137" y="198"/>
                  </a:lnTo>
                  <a:lnTo>
                    <a:pt x="117" y="215"/>
                  </a:lnTo>
                  <a:lnTo>
                    <a:pt x="112" y="217"/>
                  </a:lnTo>
                  <a:lnTo>
                    <a:pt x="108" y="221"/>
                  </a:lnTo>
                  <a:lnTo>
                    <a:pt x="103" y="223"/>
                  </a:lnTo>
                  <a:lnTo>
                    <a:pt x="97" y="224"/>
                  </a:lnTo>
                  <a:lnTo>
                    <a:pt x="91" y="224"/>
                  </a:lnTo>
                  <a:lnTo>
                    <a:pt x="85" y="223"/>
                  </a:lnTo>
                  <a:lnTo>
                    <a:pt x="80" y="222"/>
                  </a:lnTo>
                  <a:lnTo>
                    <a:pt x="74" y="219"/>
                  </a:lnTo>
                  <a:lnTo>
                    <a:pt x="67" y="214"/>
                  </a:lnTo>
                  <a:lnTo>
                    <a:pt x="59" y="209"/>
                  </a:lnTo>
                  <a:lnTo>
                    <a:pt x="50" y="201"/>
                  </a:lnTo>
                  <a:lnTo>
                    <a:pt x="42" y="193"/>
                  </a:lnTo>
                  <a:lnTo>
                    <a:pt x="22" y="170"/>
                  </a:lnTo>
                  <a:lnTo>
                    <a:pt x="0" y="138"/>
                  </a:lnTo>
                  <a:lnTo>
                    <a:pt x="942" y="0"/>
                  </a:lnTo>
                  <a:lnTo>
                    <a:pt x="1057" y="98"/>
                  </a:lnTo>
                  <a:lnTo>
                    <a:pt x="1025" y="110"/>
                  </a:lnTo>
                  <a:lnTo>
                    <a:pt x="995" y="124"/>
                  </a:lnTo>
                  <a:lnTo>
                    <a:pt x="983" y="131"/>
                  </a:lnTo>
                  <a:lnTo>
                    <a:pt x="971" y="138"/>
                  </a:lnTo>
                  <a:lnTo>
                    <a:pt x="961" y="144"/>
                  </a:lnTo>
                  <a:lnTo>
                    <a:pt x="952" y="151"/>
                  </a:lnTo>
                  <a:lnTo>
                    <a:pt x="944" y="158"/>
                  </a:lnTo>
                  <a:lnTo>
                    <a:pt x="938" y="164"/>
                  </a:lnTo>
                  <a:lnTo>
                    <a:pt x="933" y="170"/>
                  </a:lnTo>
                  <a:lnTo>
                    <a:pt x="930" y="175"/>
                  </a:lnTo>
                  <a:lnTo>
                    <a:pt x="928" y="180"/>
                  </a:lnTo>
                  <a:lnTo>
                    <a:pt x="928" y="185"/>
                  </a:lnTo>
                  <a:lnTo>
                    <a:pt x="930" y="189"/>
                  </a:lnTo>
                  <a:lnTo>
                    <a:pt x="933" y="193"/>
                  </a:lnTo>
                  <a:close/>
                </a:path>
              </a:pathLst>
            </a:custGeom>
            <a:solidFill>
              <a:srgbClr val="93d5ed"/>
            </a:solidFill>
            <a:ln w="4680">
              <a:solidFill>
                <a:srgbClr val="ccecff"/>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Times New Roman"/>
              </a:endParaRPr>
            </a:p>
          </p:txBody>
        </p:sp>
        <p:sp>
          <p:nvSpPr>
            <p:cNvPr id="374" name="Freeform 1481"/>
            <p:cNvSpPr/>
            <p:nvPr/>
          </p:nvSpPr>
          <p:spPr>
            <a:xfrm>
              <a:off x="5593320" y="4690800"/>
              <a:ext cx="103320" cy="44640"/>
            </a:xfrm>
            <a:custGeom>
              <a:avLst/>
              <a:gdLst>
                <a:gd name="textAreaLeft" fmla="*/ 0 w 103320"/>
                <a:gd name="textAreaRight" fmla="*/ 103680 w 103320"/>
                <a:gd name="textAreaTop" fmla="*/ 0 h 44640"/>
                <a:gd name="textAreaBottom" fmla="*/ 44640 h 44640"/>
              </a:gdLst>
              <a:ahLst/>
              <a:rect l="textAreaLeft" t="textAreaTop" r="textAreaRight" b="textAreaBottom"/>
              <a:pathLst>
                <a:path w="573" h="294">
                  <a:moveTo>
                    <a:pt x="573" y="116"/>
                  </a:moveTo>
                  <a:lnTo>
                    <a:pt x="547" y="124"/>
                  </a:lnTo>
                  <a:lnTo>
                    <a:pt x="521" y="132"/>
                  </a:lnTo>
                  <a:lnTo>
                    <a:pt x="496" y="140"/>
                  </a:lnTo>
                  <a:lnTo>
                    <a:pt x="470" y="150"/>
                  </a:lnTo>
                  <a:lnTo>
                    <a:pt x="442" y="159"/>
                  </a:lnTo>
                  <a:lnTo>
                    <a:pt x="413" y="168"/>
                  </a:lnTo>
                  <a:lnTo>
                    <a:pt x="381" y="178"/>
                  </a:lnTo>
                  <a:lnTo>
                    <a:pt x="348" y="188"/>
                  </a:lnTo>
                  <a:lnTo>
                    <a:pt x="351" y="194"/>
                  </a:lnTo>
                  <a:lnTo>
                    <a:pt x="352" y="201"/>
                  </a:lnTo>
                  <a:lnTo>
                    <a:pt x="352" y="208"/>
                  </a:lnTo>
                  <a:lnTo>
                    <a:pt x="351" y="214"/>
                  </a:lnTo>
                  <a:lnTo>
                    <a:pt x="348" y="220"/>
                  </a:lnTo>
                  <a:lnTo>
                    <a:pt x="346" y="225"/>
                  </a:lnTo>
                  <a:lnTo>
                    <a:pt x="341" y="230"/>
                  </a:lnTo>
                  <a:lnTo>
                    <a:pt x="337" y="236"/>
                  </a:lnTo>
                  <a:lnTo>
                    <a:pt x="326" y="245"/>
                  </a:lnTo>
                  <a:lnTo>
                    <a:pt x="312" y="255"/>
                  </a:lnTo>
                  <a:lnTo>
                    <a:pt x="297" y="262"/>
                  </a:lnTo>
                  <a:lnTo>
                    <a:pt x="281" y="269"/>
                  </a:lnTo>
                  <a:lnTo>
                    <a:pt x="248" y="280"/>
                  </a:lnTo>
                  <a:lnTo>
                    <a:pt x="219" y="289"/>
                  </a:lnTo>
                  <a:lnTo>
                    <a:pt x="198" y="292"/>
                  </a:lnTo>
                  <a:lnTo>
                    <a:pt x="190" y="294"/>
                  </a:lnTo>
                  <a:lnTo>
                    <a:pt x="0" y="47"/>
                  </a:lnTo>
                  <a:lnTo>
                    <a:pt x="478" y="0"/>
                  </a:lnTo>
                  <a:lnTo>
                    <a:pt x="573" y="116"/>
                  </a:lnTo>
                  <a:close/>
                </a:path>
              </a:pathLst>
            </a:custGeom>
            <a:solidFill>
              <a:srgbClr val="93d5ed"/>
            </a:solidFill>
            <a:ln w="9360">
              <a:solidFill>
                <a:srgbClr val="ccecff"/>
              </a:solidFill>
              <a:round/>
            </a:ln>
          </p:spPr>
          <p:style>
            <a:lnRef idx="0"/>
            <a:fillRef idx="0"/>
            <a:effectRef idx="0"/>
            <a:fontRef idx="minor"/>
          </p:style>
          <p:txBody>
            <a:bodyPr lIns="90000" rIns="90000" tIns="-2160" bIns="-2160" anchor="t">
              <a:noAutofit/>
            </a:bodyPr>
            <a:p>
              <a:endParaRPr b="1" lang="en-US" sz="2400" spc="-1" strike="noStrike">
                <a:solidFill>
                  <a:srgbClr val="ffffff"/>
                </a:solidFill>
                <a:latin typeface="Times New Roman"/>
              </a:endParaRPr>
            </a:p>
          </p:txBody>
        </p:sp>
        <p:sp>
          <p:nvSpPr>
            <p:cNvPr id="375" name="Freeform 1482"/>
            <p:cNvSpPr/>
            <p:nvPr/>
          </p:nvSpPr>
          <p:spPr>
            <a:xfrm>
              <a:off x="5593320" y="4690800"/>
              <a:ext cx="103320" cy="44640"/>
            </a:xfrm>
            <a:custGeom>
              <a:avLst/>
              <a:gdLst>
                <a:gd name="textAreaLeft" fmla="*/ 0 w 103320"/>
                <a:gd name="textAreaRight" fmla="*/ 103680 w 103320"/>
                <a:gd name="textAreaTop" fmla="*/ 0 h 44640"/>
                <a:gd name="textAreaBottom" fmla="*/ 44640 h 44640"/>
              </a:gdLst>
              <a:ahLst/>
              <a:rect l="textAreaLeft" t="textAreaTop" r="textAreaRight" b="textAreaBottom"/>
              <a:pathLst>
                <a:path w="573" h="294">
                  <a:moveTo>
                    <a:pt x="573" y="116"/>
                  </a:moveTo>
                  <a:lnTo>
                    <a:pt x="547" y="124"/>
                  </a:lnTo>
                  <a:lnTo>
                    <a:pt x="521" y="132"/>
                  </a:lnTo>
                  <a:lnTo>
                    <a:pt x="496" y="140"/>
                  </a:lnTo>
                  <a:lnTo>
                    <a:pt x="470" y="150"/>
                  </a:lnTo>
                  <a:lnTo>
                    <a:pt x="442" y="159"/>
                  </a:lnTo>
                  <a:lnTo>
                    <a:pt x="413" y="168"/>
                  </a:lnTo>
                  <a:lnTo>
                    <a:pt x="381" y="178"/>
                  </a:lnTo>
                  <a:lnTo>
                    <a:pt x="348" y="188"/>
                  </a:lnTo>
                  <a:lnTo>
                    <a:pt x="351" y="194"/>
                  </a:lnTo>
                  <a:lnTo>
                    <a:pt x="352" y="201"/>
                  </a:lnTo>
                  <a:lnTo>
                    <a:pt x="352" y="208"/>
                  </a:lnTo>
                  <a:lnTo>
                    <a:pt x="351" y="214"/>
                  </a:lnTo>
                  <a:lnTo>
                    <a:pt x="348" y="220"/>
                  </a:lnTo>
                  <a:lnTo>
                    <a:pt x="346" y="225"/>
                  </a:lnTo>
                  <a:lnTo>
                    <a:pt x="341" y="230"/>
                  </a:lnTo>
                  <a:lnTo>
                    <a:pt x="337" y="236"/>
                  </a:lnTo>
                  <a:lnTo>
                    <a:pt x="326" y="245"/>
                  </a:lnTo>
                  <a:lnTo>
                    <a:pt x="312" y="255"/>
                  </a:lnTo>
                  <a:lnTo>
                    <a:pt x="297" y="262"/>
                  </a:lnTo>
                  <a:lnTo>
                    <a:pt x="281" y="269"/>
                  </a:lnTo>
                  <a:lnTo>
                    <a:pt x="248" y="280"/>
                  </a:lnTo>
                  <a:lnTo>
                    <a:pt x="219" y="289"/>
                  </a:lnTo>
                  <a:lnTo>
                    <a:pt x="198" y="292"/>
                  </a:lnTo>
                  <a:lnTo>
                    <a:pt x="190" y="294"/>
                  </a:lnTo>
                  <a:lnTo>
                    <a:pt x="0" y="47"/>
                  </a:lnTo>
                  <a:lnTo>
                    <a:pt x="478" y="0"/>
                  </a:lnTo>
                  <a:lnTo>
                    <a:pt x="573" y="116"/>
                  </a:lnTo>
                </a:path>
              </a:pathLst>
            </a:custGeom>
            <a:solidFill>
              <a:srgbClr val="93d5ed"/>
            </a:solidFill>
            <a:ln w="4680">
              <a:solidFill>
                <a:srgbClr val="ccecff"/>
              </a:solidFill>
              <a:round/>
            </a:ln>
          </p:spPr>
          <p:style>
            <a:lnRef idx="0"/>
            <a:fillRef idx="0"/>
            <a:effectRef idx="0"/>
            <a:fontRef idx="minor"/>
          </p:style>
          <p:txBody>
            <a:bodyPr lIns="90000" rIns="90000" tIns="-2160" bIns="-2160" anchor="t">
              <a:noAutofit/>
            </a:bodyPr>
            <a:p>
              <a:endParaRPr b="1" lang="en-US" sz="2400" spc="-1" strike="noStrike">
                <a:solidFill>
                  <a:srgbClr val="ffffff"/>
                </a:solidFill>
                <a:latin typeface="Times New Roman"/>
              </a:endParaRPr>
            </a:p>
          </p:txBody>
        </p:sp>
        <p:sp>
          <p:nvSpPr>
            <p:cNvPr id="376" name="Freeform 1483"/>
            <p:cNvSpPr/>
            <p:nvPr/>
          </p:nvSpPr>
          <p:spPr>
            <a:xfrm>
              <a:off x="5679720" y="4689360"/>
              <a:ext cx="54720" cy="18720"/>
            </a:xfrm>
            <a:custGeom>
              <a:avLst/>
              <a:gdLst>
                <a:gd name="textAreaLeft" fmla="*/ 0 w 54720"/>
                <a:gd name="textAreaRight" fmla="*/ 55080 w 54720"/>
                <a:gd name="textAreaTop" fmla="*/ 0 h 18720"/>
                <a:gd name="textAreaBottom" fmla="*/ 19080 h 18720"/>
              </a:gdLst>
              <a:ahLst/>
              <a:rect l="textAreaLeft" t="textAreaTop" r="textAreaRight" b="textAreaBottom"/>
              <a:pathLst>
                <a:path w="303" h="124">
                  <a:moveTo>
                    <a:pt x="95" y="124"/>
                  </a:moveTo>
                  <a:lnTo>
                    <a:pt x="118" y="117"/>
                  </a:lnTo>
                  <a:lnTo>
                    <a:pt x="141" y="111"/>
                  </a:lnTo>
                  <a:lnTo>
                    <a:pt x="165" y="106"/>
                  </a:lnTo>
                  <a:lnTo>
                    <a:pt x="191" y="100"/>
                  </a:lnTo>
                  <a:lnTo>
                    <a:pt x="216" y="96"/>
                  </a:lnTo>
                  <a:lnTo>
                    <a:pt x="243" y="92"/>
                  </a:lnTo>
                  <a:lnTo>
                    <a:pt x="272" y="89"/>
                  </a:lnTo>
                  <a:lnTo>
                    <a:pt x="303" y="86"/>
                  </a:lnTo>
                  <a:lnTo>
                    <a:pt x="294" y="78"/>
                  </a:lnTo>
                  <a:lnTo>
                    <a:pt x="273" y="61"/>
                  </a:lnTo>
                  <a:lnTo>
                    <a:pt x="259" y="51"/>
                  </a:lnTo>
                  <a:lnTo>
                    <a:pt x="244" y="42"/>
                  </a:lnTo>
                  <a:lnTo>
                    <a:pt x="236" y="38"/>
                  </a:lnTo>
                  <a:lnTo>
                    <a:pt x="228" y="35"/>
                  </a:lnTo>
                  <a:lnTo>
                    <a:pt x="219" y="33"/>
                  </a:lnTo>
                  <a:lnTo>
                    <a:pt x="210" y="31"/>
                  </a:lnTo>
                  <a:lnTo>
                    <a:pt x="185" y="28"/>
                  </a:lnTo>
                  <a:lnTo>
                    <a:pt x="158" y="24"/>
                  </a:lnTo>
                  <a:lnTo>
                    <a:pt x="133" y="19"/>
                  </a:lnTo>
                  <a:lnTo>
                    <a:pt x="111" y="14"/>
                  </a:lnTo>
                  <a:lnTo>
                    <a:pt x="76" y="3"/>
                  </a:lnTo>
                  <a:lnTo>
                    <a:pt x="63" y="0"/>
                  </a:lnTo>
                  <a:lnTo>
                    <a:pt x="0" y="8"/>
                  </a:lnTo>
                  <a:lnTo>
                    <a:pt x="95" y="124"/>
                  </a:lnTo>
                  <a:close/>
                </a:path>
              </a:pathLst>
            </a:custGeom>
            <a:solidFill>
              <a:srgbClr val="93d5ed"/>
            </a:solidFill>
            <a:ln w="9360">
              <a:solidFill>
                <a:srgbClr val="ccecff"/>
              </a:solidFill>
              <a:round/>
            </a:ln>
          </p:spPr>
          <p:style>
            <a:lnRef idx="0"/>
            <a:fillRef idx="0"/>
            <a:effectRef idx="0"/>
            <a:fontRef idx="minor"/>
          </p:style>
          <p:txBody>
            <a:bodyPr lIns="90000" rIns="90000" tIns="-27720" bIns="-27720" anchor="t">
              <a:noAutofit/>
            </a:bodyPr>
            <a:p>
              <a:endParaRPr b="1" lang="en-US" sz="2400" spc="-1" strike="noStrike">
                <a:solidFill>
                  <a:srgbClr val="ffffff"/>
                </a:solidFill>
                <a:latin typeface="Times New Roman"/>
              </a:endParaRPr>
            </a:p>
          </p:txBody>
        </p:sp>
        <p:sp>
          <p:nvSpPr>
            <p:cNvPr id="377" name="Freeform 1484"/>
            <p:cNvSpPr/>
            <p:nvPr/>
          </p:nvSpPr>
          <p:spPr>
            <a:xfrm>
              <a:off x="5679720" y="4689360"/>
              <a:ext cx="54720" cy="18720"/>
            </a:xfrm>
            <a:custGeom>
              <a:avLst/>
              <a:gdLst>
                <a:gd name="textAreaLeft" fmla="*/ 0 w 54720"/>
                <a:gd name="textAreaRight" fmla="*/ 55080 w 54720"/>
                <a:gd name="textAreaTop" fmla="*/ 0 h 18720"/>
                <a:gd name="textAreaBottom" fmla="*/ 19080 h 18720"/>
              </a:gdLst>
              <a:ahLst/>
              <a:rect l="textAreaLeft" t="textAreaTop" r="textAreaRight" b="textAreaBottom"/>
              <a:pathLst>
                <a:path w="303" h="124">
                  <a:moveTo>
                    <a:pt x="95" y="124"/>
                  </a:moveTo>
                  <a:lnTo>
                    <a:pt x="118" y="117"/>
                  </a:lnTo>
                  <a:lnTo>
                    <a:pt x="141" y="111"/>
                  </a:lnTo>
                  <a:lnTo>
                    <a:pt x="165" y="106"/>
                  </a:lnTo>
                  <a:lnTo>
                    <a:pt x="191" y="100"/>
                  </a:lnTo>
                  <a:lnTo>
                    <a:pt x="216" y="96"/>
                  </a:lnTo>
                  <a:lnTo>
                    <a:pt x="243" y="92"/>
                  </a:lnTo>
                  <a:lnTo>
                    <a:pt x="272" y="89"/>
                  </a:lnTo>
                  <a:lnTo>
                    <a:pt x="303" y="86"/>
                  </a:lnTo>
                  <a:lnTo>
                    <a:pt x="294" y="78"/>
                  </a:lnTo>
                  <a:lnTo>
                    <a:pt x="273" y="61"/>
                  </a:lnTo>
                  <a:lnTo>
                    <a:pt x="259" y="51"/>
                  </a:lnTo>
                  <a:lnTo>
                    <a:pt x="244" y="42"/>
                  </a:lnTo>
                  <a:lnTo>
                    <a:pt x="236" y="38"/>
                  </a:lnTo>
                  <a:lnTo>
                    <a:pt x="228" y="35"/>
                  </a:lnTo>
                  <a:lnTo>
                    <a:pt x="219" y="33"/>
                  </a:lnTo>
                  <a:lnTo>
                    <a:pt x="210" y="31"/>
                  </a:lnTo>
                  <a:lnTo>
                    <a:pt x="185" y="28"/>
                  </a:lnTo>
                  <a:lnTo>
                    <a:pt x="158" y="24"/>
                  </a:lnTo>
                  <a:lnTo>
                    <a:pt x="133" y="19"/>
                  </a:lnTo>
                  <a:lnTo>
                    <a:pt x="111" y="14"/>
                  </a:lnTo>
                  <a:lnTo>
                    <a:pt x="76" y="3"/>
                  </a:lnTo>
                  <a:lnTo>
                    <a:pt x="63" y="0"/>
                  </a:lnTo>
                  <a:lnTo>
                    <a:pt x="0" y="8"/>
                  </a:lnTo>
                  <a:lnTo>
                    <a:pt x="95" y="124"/>
                  </a:lnTo>
                </a:path>
              </a:pathLst>
            </a:custGeom>
            <a:solidFill>
              <a:srgbClr val="93d5ed"/>
            </a:solidFill>
            <a:ln w="4680">
              <a:solidFill>
                <a:srgbClr val="ccecff"/>
              </a:solidFill>
              <a:round/>
            </a:ln>
          </p:spPr>
          <p:style>
            <a:lnRef idx="0"/>
            <a:fillRef idx="0"/>
            <a:effectRef idx="0"/>
            <a:fontRef idx="minor"/>
          </p:style>
          <p:txBody>
            <a:bodyPr lIns="90000" rIns="90000" tIns="-27720" bIns="-27720" anchor="t">
              <a:noAutofit/>
            </a:bodyPr>
            <a:p>
              <a:endParaRPr b="1" lang="en-US" sz="2400" spc="-1" strike="noStrike">
                <a:solidFill>
                  <a:srgbClr val="ffffff"/>
                </a:solidFill>
                <a:latin typeface="Times New Roman"/>
              </a:endParaRPr>
            </a:p>
          </p:txBody>
        </p:sp>
        <p:grpSp>
          <p:nvGrpSpPr>
            <p:cNvPr id="378" name="Group 1485"/>
            <p:cNvGrpSpPr/>
            <p:nvPr/>
          </p:nvGrpSpPr>
          <p:grpSpPr>
            <a:xfrm>
              <a:off x="2939040" y="5306400"/>
              <a:ext cx="313920" cy="196920"/>
              <a:chOff x="2939040" y="5306400"/>
              <a:chExt cx="313920" cy="196920"/>
            </a:xfrm>
          </p:grpSpPr>
          <p:sp>
            <p:nvSpPr>
              <p:cNvPr id="379" name="Freeform 1486"/>
              <p:cNvSpPr/>
              <p:nvPr/>
            </p:nvSpPr>
            <p:spPr>
              <a:xfrm>
                <a:off x="3151080" y="5443920"/>
                <a:ext cx="73440" cy="24120"/>
              </a:xfrm>
              <a:custGeom>
                <a:avLst/>
                <a:gdLst>
                  <a:gd name="textAreaLeft" fmla="*/ 0 w 73440"/>
                  <a:gd name="textAreaRight" fmla="*/ 73800 w 73440"/>
                  <a:gd name="textAreaTop" fmla="*/ 0 h 24120"/>
                  <a:gd name="textAreaBottom" fmla="*/ 24480 h 24120"/>
                </a:gdLst>
                <a:ahLst/>
                <a:rect l="textAreaLeft" t="textAreaTop" r="textAreaRight" b="textAreaBottom"/>
                <a:pathLst>
                  <a:path w="406" h="162">
                    <a:moveTo>
                      <a:pt x="372" y="130"/>
                    </a:moveTo>
                    <a:lnTo>
                      <a:pt x="364" y="136"/>
                    </a:lnTo>
                    <a:lnTo>
                      <a:pt x="353" y="141"/>
                    </a:lnTo>
                    <a:lnTo>
                      <a:pt x="340" y="145"/>
                    </a:lnTo>
                    <a:lnTo>
                      <a:pt x="326" y="149"/>
                    </a:lnTo>
                    <a:lnTo>
                      <a:pt x="311" y="152"/>
                    </a:lnTo>
                    <a:lnTo>
                      <a:pt x="295" y="156"/>
                    </a:lnTo>
                    <a:lnTo>
                      <a:pt x="278" y="158"/>
                    </a:lnTo>
                    <a:lnTo>
                      <a:pt x="262" y="160"/>
                    </a:lnTo>
                    <a:lnTo>
                      <a:pt x="246" y="162"/>
                    </a:lnTo>
                    <a:lnTo>
                      <a:pt x="230" y="162"/>
                    </a:lnTo>
                    <a:lnTo>
                      <a:pt x="215" y="162"/>
                    </a:lnTo>
                    <a:lnTo>
                      <a:pt x="202" y="160"/>
                    </a:lnTo>
                    <a:lnTo>
                      <a:pt x="191" y="159"/>
                    </a:lnTo>
                    <a:lnTo>
                      <a:pt x="181" y="156"/>
                    </a:lnTo>
                    <a:lnTo>
                      <a:pt x="178" y="155"/>
                    </a:lnTo>
                    <a:lnTo>
                      <a:pt x="174" y="152"/>
                    </a:lnTo>
                    <a:lnTo>
                      <a:pt x="172" y="150"/>
                    </a:lnTo>
                    <a:lnTo>
                      <a:pt x="171" y="148"/>
                    </a:lnTo>
                    <a:lnTo>
                      <a:pt x="167" y="141"/>
                    </a:lnTo>
                    <a:lnTo>
                      <a:pt x="163" y="135"/>
                    </a:lnTo>
                    <a:lnTo>
                      <a:pt x="158" y="129"/>
                    </a:lnTo>
                    <a:lnTo>
                      <a:pt x="153" y="124"/>
                    </a:lnTo>
                    <a:lnTo>
                      <a:pt x="142" y="115"/>
                    </a:lnTo>
                    <a:lnTo>
                      <a:pt x="130" y="107"/>
                    </a:lnTo>
                    <a:lnTo>
                      <a:pt x="116" y="101"/>
                    </a:lnTo>
                    <a:lnTo>
                      <a:pt x="102" y="96"/>
                    </a:lnTo>
                    <a:lnTo>
                      <a:pt x="87" y="92"/>
                    </a:lnTo>
                    <a:lnTo>
                      <a:pt x="73" y="89"/>
                    </a:lnTo>
                    <a:lnTo>
                      <a:pt x="46" y="85"/>
                    </a:lnTo>
                    <a:lnTo>
                      <a:pt x="22" y="83"/>
                    </a:lnTo>
                    <a:lnTo>
                      <a:pt x="6" y="83"/>
                    </a:lnTo>
                    <a:lnTo>
                      <a:pt x="0" y="85"/>
                    </a:lnTo>
                    <a:lnTo>
                      <a:pt x="79" y="6"/>
                    </a:lnTo>
                    <a:lnTo>
                      <a:pt x="93" y="4"/>
                    </a:lnTo>
                    <a:lnTo>
                      <a:pt x="107" y="4"/>
                    </a:lnTo>
                    <a:lnTo>
                      <a:pt x="121" y="4"/>
                    </a:lnTo>
                    <a:lnTo>
                      <a:pt x="133" y="5"/>
                    </a:lnTo>
                    <a:lnTo>
                      <a:pt x="159" y="9"/>
                    </a:lnTo>
                    <a:lnTo>
                      <a:pt x="185" y="13"/>
                    </a:lnTo>
                    <a:lnTo>
                      <a:pt x="196" y="14"/>
                    </a:lnTo>
                    <a:lnTo>
                      <a:pt x="209" y="17"/>
                    </a:lnTo>
                    <a:lnTo>
                      <a:pt x="221" y="18"/>
                    </a:lnTo>
                    <a:lnTo>
                      <a:pt x="233" y="18"/>
                    </a:lnTo>
                    <a:lnTo>
                      <a:pt x="244" y="17"/>
                    </a:lnTo>
                    <a:lnTo>
                      <a:pt x="256" y="14"/>
                    </a:lnTo>
                    <a:lnTo>
                      <a:pt x="268" y="11"/>
                    </a:lnTo>
                    <a:lnTo>
                      <a:pt x="279" y="6"/>
                    </a:lnTo>
                    <a:lnTo>
                      <a:pt x="285" y="4"/>
                    </a:lnTo>
                    <a:lnTo>
                      <a:pt x="292" y="3"/>
                    </a:lnTo>
                    <a:lnTo>
                      <a:pt x="298" y="2"/>
                    </a:lnTo>
                    <a:lnTo>
                      <a:pt x="305" y="0"/>
                    </a:lnTo>
                    <a:lnTo>
                      <a:pt x="319" y="2"/>
                    </a:lnTo>
                    <a:lnTo>
                      <a:pt x="333" y="5"/>
                    </a:lnTo>
                    <a:lnTo>
                      <a:pt x="347" y="10"/>
                    </a:lnTo>
                    <a:lnTo>
                      <a:pt x="360" y="17"/>
                    </a:lnTo>
                    <a:lnTo>
                      <a:pt x="373" y="25"/>
                    </a:lnTo>
                    <a:lnTo>
                      <a:pt x="383" y="34"/>
                    </a:lnTo>
                    <a:lnTo>
                      <a:pt x="393" y="45"/>
                    </a:lnTo>
                    <a:lnTo>
                      <a:pt x="400" y="57"/>
                    </a:lnTo>
                    <a:lnTo>
                      <a:pt x="402" y="62"/>
                    </a:lnTo>
                    <a:lnTo>
                      <a:pt x="403" y="69"/>
                    </a:lnTo>
                    <a:lnTo>
                      <a:pt x="404" y="75"/>
                    </a:lnTo>
                    <a:lnTo>
                      <a:pt x="406" y="81"/>
                    </a:lnTo>
                    <a:lnTo>
                      <a:pt x="404" y="88"/>
                    </a:lnTo>
                    <a:lnTo>
                      <a:pt x="403" y="94"/>
                    </a:lnTo>
                    <a:lnTo>
                      <a:pt x="401" y="100"/>
                    </a:lnTo>
                    <a:lnTo>
                      <a:pt x="397" y="107"/>
                    </a:lnTo>
                    <a:lnTo>
                      <a:pt x="393" y="113"/>
                    </a:lnTo>
                    <a:lnTo>
                      <a:pt x="387" y="118"/>
                    </a:lnTo>
                    <a:lnTo>
                      <a:pt x="380" y="124"/>
                    </a:lnTo>
                    <a:lnTo>
                      <a:pt x="372" y="130"/>
                    </a:lnTo>
                    <a:close/>
                  </a:path>
                </a:pathLst>
              </a:custGeom>
              <a:solidFill>
                <a:srgbClr val="93d5ed"/>
              </a:solidFill>
              <a:ln w="9360">
                <a:solidFill>
                  <a:srgbClr val="ccecff"/>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Times New Roman"/>
                </a:endParaRPr>
              </a:p>
            </p:txBody>
          </p:sp>
          <p:sp>
            <p:nvSpPr>
              <p:cNvPr id="380" name="Freeform 1487"/>
              <p:cNvSpPr/>
              <p:nvPr/>
            </p:nvSpPr>
            <p:spPr>
              <a:xfrm>
                <a:off x="3135600" y="5413680"/>
                <a:ext cx="117360" cy="89640"/>
              </a:xfrm>
              <a:custGeom>
                <a:avLst/>
                <a:gdLst>
                  <a:gd name="textAreaLeft" fmla="*/ 0 w 117360"/>
                  <a:gd name="textAreaRight" fmla="*/ 117720 w 117360"/>
                  <a:gd name="textAreaTop" fmla="*/ 0 h 89640"/>
                  <a:gd name="textAreaBottom" fmla="*/ 90000 h 89640"/>
                </a:gdLst>
                <a:ahLst/>
                <a:rect l="textAreaLeft" t="textAreaTop" r="textAreaRight" b="textAreaBottom"/>
                <a:pathLst>
                  <a:path w="655" h="595">
                    <a:moveTo>
                      <a:pt x="9" y="419"/>
                    </a:moveTo>
                    <a:lnTo>
                      <a:pt x="8" y="401"/>
                    </a:lnTo>
                    <a:lnTo>
                      <a:pt x="9" y="386"/>
                    </a:lnTo>
                    <a:lnTo>
                      <a:pt x="10" y="371"/>
                    </a:lnTo>
                    <a:lnTo>
                      <a:pt x="13" y="358"/>
                    </a:lnTo>
                    <a:lnTo>
                      <a:pt x="17" y="345"/>
                    </a:lnTo>
                    <a:lnTo>
                      <a:pt x="22" y="333"/>
                    </a:lnTo>
                    <a:lnTo>
                      <a:pt x="28" y="322"/>
                    </a:lnTo>
                    <a:lnTo>
                      <a:pt x="34" y="312"/>
                    </a:lnTo>
                    <a:lnTo>
                      <a:pt x="42" y="303"/>
                    </a:lnTo>
                    <a:lnTo>
                      <a:pt x="49" y="294"/>
                    </a:lnTo>
                    <a:lnTo>
                      <a:pt x="58" y="285"/>
                    </a:lnTo>
                    <a:lnTo>
                      <a:pt x="68" y="277"/>
                    </a:lnTo>
                    <a:lnTo>
                      <a:pt x="87" y="263"/>
                    </a:lnTo>
                    <a:lnTo>
                      <a:pt x="107" y="250"/>
                    </a:lnTo>
                    <a:lnTo>
                      <a:pt x="152" y="226"/>
                    </a:lnTo>
                    <a:lnTo>
                      <a:pt x="194" y="199"/>
                    </a:lnTo>
                    <a:lnTo>
                      <a:pt x="204" y="192"/>
                    </a:lnTo>
                    <a:lnTo>
                      <a:pt x="214" y="184"/>
                    </a:lnTo>
                    <a:lnTo>
                      <a:pt x="222" y="176"/>
                    </a:lnTo>
                    <a:lnTo>
                      <a:pt x="230" y="167"/>
                    </a:lnTo>
                    <a:lnTo>
                      <a:pt x="238" y="158"/>
                    </a:lnTo>
                    <a:lnTo>
                      <a:pt x="245" y="148"/>
                    </a:lnTo>
                    <a:lnTo>
                      <a:pt x="251" y="137"/>
                    </a:lnTo>
                    <a:lnTo>
                      <a:pt x="257" y="124"/>
                    </a:lnTo>
                    <a:lnTo>
                      <a:pt x="267" y="97"/>
                    </a:lnTo>
                    <a:lnTo>
                      <a:pt x="277" y="75"/>
                    </a:lnTo>
                    <a:lnTo>
                      <a:pt x="286" y="56"/>
                    </a:lnTo>
                    <a:lnTo>
                      <a:pt x="294" y="41"/>
                    </a:lnTo>
                    <a:lnTo>
                      <a:pt x="302" y="30"/>
                    </a:lnTo>
                    <a:lnTo>
                      <a:pt x="311" y="21"/>
                    </a:lnTo>
                    <a:lnTo>
                      <a:pt x="319" y="14"/>
                    </a:lnTo>
                    <a:lnTo>
                      <a:pt x="329" y="10"/>
                    </a:lnTo>
                    <a:lnTo>
                      <a:pt x="340" y="7"/>
                    </a:lnTo>
                    <a:lnTo>
                      <a:pt x="351" y="5"/>
                    </a:lnTo>
                    <a:lnTo>
                      <a:pt x="365" y="5"/>
                    </a:lnTo>
                    <a:lnTo>
                      <a:pt x="382" y="4"/>
                    </a:lnTo>
                    <a:lnTo>
                      <a:pt x="421" y="4"/>
                    </a:lnTo>
                    <a:lnTo>
                      <a:pt x="473" y="0"/>
                    </a:lnTo>
                    <a:lnTo>
                      <a:pt x="481" y="2"/>
                    </a:lnTo>
                    <a:lnTo>
                      <a:pt x="492" y="5"/>
                    </a:lnTo>
                    <a:lnTo>
                      <a:pt x="501" y="10"/>
                    </a:lnTo>
                    <a:lnTo>
                      <a:pt x="513" y="16"/>
                    </a:lnTo>
                    <a:lnTo>
                      <a:pt x="535" y="31"/>
                    </a:lnTo>
                    <a:lnTo>
                      <a:pt x="557" y="49"/>
                    </a:lnTo>
                    <a:lnTo>
                      <a:pt x="580" y="68"/>
                    </a:lnTo>
                    <a:lnTo>
                      <a:pt x="603" y="86"/>
                    </a:lnTo>
                    <a:lnTo>
                      <a:pt x="613" y="94"/>
                    </a:lnTo>
                    <a:lnTo>
                      <a:pt x="624" y="101"/>
                    </a:lnTo>
                    <a:lnTo>
                      <a:pt x="633" y="107"/>
                    </a:lnTo>
                    <a:lnTo>
                      <a:pt x="642" y="110"/>
                    </a:lnTo>
                    <a:lnTo>
                      <a:pt x="647" y="113"/>
                    </a:lnTo>
                    <a:lnTo>
                      <a:pt x="649" y="115"/>
                    </a:lnTo>
                    <a:lnTo>
                      <a:pt x="652" y="118"/>
                    </a:lnTo>
                    <a:lnTo>
                      <a:pt x="654" y="123"/>
                    </a:lnTo>
                    <a:lnTo>
                      <a:pt x="654" y="129"/>
                    </a:lnTo>
                    <a:lnTo>
                      <a:pt x="655" y="135"/>
                    </a:lnTo>
                    <a:lnTo>
                      <a:pt x="654" y="141"/>
                    </a:lnTo>
                    <a:lnTo>
                      <a:pt x="653" y="149"/>
                    </a:lnTo>
                    <a:lnTo>
                      <a:pt x="649" y="164"/>
                    </a:lnTo>
                    <a:lnTo>
                      <a:pt x="642" y="181"/>
                    </a:lnTo>
                    <a:lnTo>
                      <a:pt x="634" y="201"/>
                    </a:lnTo>
                    <a:lnTo>
                      <a:pt x="624" y="221"/>
                    </a:lnTo>
                    <a:lnTo>
                      <a:pt x="611" y="241"/>
                    </a:lnTo>
                    <a:lnTo>
                      <a:pt x="597" y="261"/>
                    </a:lnTo>
                    <a:lnTo>
                      <a:pt x="580" y="281"/>
                    </a:lnTo>
                    <a:lnTo>
                      <a:pt x="564" y="299"/>
                    </a:lnTo>
                    <a:lnTo>
                      <a:pt x="545" y="317"/>
                    </a:lnTo>
                    <a:lnTo>
                      <a:pt x="527" y="332"/>
                    </a:lnTo>
                    <a:lnTo>
                      <a:pt x="517" y="339"/>
                    </a:lnTo>
                    <a:lnTo>
                      <a:pt x="507" y="345"/>
                    </a:lnTo>
                    <a:lnTo>
                      <a:pt x="497" y="351"/>
                    </a:lnTo>
                    <a:lnTo>
                      <a:pt x="487" y="355"/>
                    </a:lnTo>
                    <a:lnTo>
                      <a:pt x="467" y="362"/>
                    </a:lnTo>
                    <a:lnTo>
                      <a:pt x="446" y="369"/>
                    </a:lnTo>
                    <a:lnTo>
                      <a:pt x="424" y="375"/>
                    </a:lnTo>
                    <a:lnTo>
                      <a:pt x="403" y="380"/>
                    </a:lnTo>
                    <a:lnTo>
                      <a:pt x="379" y="385"/>
                    </a:lnTo>
                    <a:lnTo>
                      <a:pt x="357" y="389"/>
                    </a:lnTo>
                    <a:lnTo>
                      <a:pt x="335" y="395"/>
                    </a:lnTo>
                    <a:lnTo>
                      <a:pt x="313" y="402"/>
                    </a:lnTo>
                    <a:lnTo>
                      <a:pt x="291" y="410"/>
                    </a:lnTo>
                    <a:lnTo>
                      <a:pt x="268" y="421"/>
                    </a:lnTo>
                    <a:lnTo>
                      <a:pt x="257" y="427"/>
                    </a:lnTo>
                    <a:lnTo>
                      <a:pt x="246" y="433"/>
                    </a:lnTo>
                    <a:lnTo>
                      <a:pt x="236" y="440"/>
                    </a:lnTo>
                    <a:lnTo>
                      <a:pt x="225" y="448"/>
                    </a:lnTo>
                    <a:lnTo>
                      <a:pt x="215" y="457"/>
                    </a:lnTo>
                    <a:lnTo>
                      <a:pt x="204" y="466"/>
                    </a:lnTo>
                    <a:lnTo>
                      <a:pt x="195" y="476"/>
                    </a:lnTo>
                    <a:lnTo>
                      <a:pt x="184" y="487"/>
                    </a:lnTo>
                    <a:lnTo>
                      <a:pt x="175" y="499"/>
                    </a:lnTo>
                    <a:lnTo>
                      <a:pt x="166" y="513"/>
                    </a:lnTo>
                    <a:lnTo>
                      <a:pt x="156" y="527"/>
                    </a:lnTo>
                    <a:lnTo>
                      <a:pt x="147" y="542"/>
                    </a:lnTo>
                    <a:lnTo>
                      <a:pt x="142" y="552"/>
                    </a:lnTo>
                    <a:lnTo>
                      <a:pt x="136" y="559"/>
                    </a:lnTo>
                    <a:lnTo>
                      <a:pt x="131" y="567"/>
                    </a:lnTo>
                    <a:lnTo>
                      <a:pt x="125" y="573"/>
                    </a:lnTo>
                    <a:lnTo>
                      <a:pt x="118" y="579"/>
                    </a:lnTo>
                    <a:lnTo>
                      <a:pt x="111" y="583"/>
                    </a:lnTo>
                    <a:lnTo>
                      <a:pt x="104" y="587"/>
                    </a:lnTo>
                    <a:lnTo>
                      <a:pt x="97" y="590"/>
                    </a:lnTo>
                    <a:lnTo>
                      <a:pt x="90" y="593"/>
                    </a:lnTo>
                    <a:lnTo>
                      <a:pt x="83" y="594"/>
                    </a:lnTo>
                    <a:lnTo>
                      <a:pt x="76" y="595"/>
                    </a:lnTo>
                    <a:lnTo>
                      <a:pt x="69" y="595"/>
                    </a:lnTo>
                    <a:lnTo>
                      <a:pt x="62" y="594"/>
                    </a:lnTo>
                    <a:lnTo>
                      <a:pt x="55" y="593"/>
                    </a:lnTo>
                    <a:lnTo>
                      <a:pt x="48" y="589"/>
                    </a:lnTo>
                    <a:lnTo>
                      <a:pt x="41" y="587"/>
                    </a:lnTo>
                    <a:lnTo>
                      <a:pt x="35" y="582"/>
                    </a:lnTo>
                    <a:lnTo>
                      <a:pt x="29" y="577"/>
                    </a:lnTo>
                    <a:lnTo>
                      <a:pt x="23" y="572"/>
                    </a:lnTo>
                    <a:lnTo>
                      <a:pt x="18" y="565"/>
                    </a:lnTo>
                    <a:lnTo>
                      <a:pt x="14" y="558"/>
                    </a:lnTo>
                    <a:lnTo>
                      <a:pt x="10" y="548"/>
                    </a:lnTo>
                    <a:lnTo>
                      <a:pt x="7" y="540"/>
                    </a:lnTo>
                    <a:lnTo>
                      <a:pt x="3" y="530"/>
                    </a:lnTo>
                    <a:lnTo>
                      <a:pt x="1" y="519"/>
                    </a:lnTo>
                    <a:lnTo>
                      <a:pt x="0" y="507"/>
                    </a:lnTo>
                    <a:lnTo>
                      <a:pt x="0" y="494"/>
                    </a:lnTo>
                    <a:lnTo>
                      <a:pt x="0" y="480"/>
                    </a:lnTo>
                    <a:lnTo>
                      <a:pt x="0" y="466"/>
                    </a:lnTo>
                    <a:lnTo>
                      <a:pt x="2" y="451"/>
                    </a:lnTo>
                    <a:lnTo>
                      <a:pt x="4" y="435"/>
                    </a:lnTo>
                    <a:lnTo>
                      <a:pt x="9" y="419"/>
                    </a:lnTo>
                    <a:close/>
                  </a:path>
                </a:pathLst>
              </a:custGeom>
              <a:solidFill>
                <a:srgbClr val="93d5ed"/>
              </a:solidFill>
              <a:ln w="9360">
                <a:solidFill>
                  <a:srgbClr val="ccecff"/>
                </a:solidFill>
                <a:round/>
              </a:ln>
            </p:spPr>
            <p:style>
              <a:lnRef idx="0"/>
              <a:fillRef idx="0"/>
              <a:effectRef idx="0"/>
              <a:fontRef idx="minor"/>
            </p:style>
            <p:txBody>
              <a:bodyPr lIns="90000" rIns="90000" tIns="43200" bIns="43200" anchor="t">
                <a:noAutofit/>
              </a:bodyPr>
              <a:p>
                <a:endParaRPr b="1" lang="en-US" sz="2400" spc="-1" strike="noStrike">
                  <a:solidFill>
                    <a:srgbClr val="ffffff"/>
                  </a:solidFill>
                  <a:latin typeface="Times New Roman"/>
                </a:endParaRPr>
              </a:p>
            </p:txBody>
          </p:sp>
          <p:sp>
            <p:nvSpPr>
              <p:cNvPr id="381" name="Freeform 1488"/>
              <p:cNvSpPr/>
              <p:nvPr/>
            </p:nvSpPr>
            <p:spPr>
              <a:xfrm>
                <a:off x="3135600" y="5413680"/>
                <a:ext cx="117360" cy="89640"/>
              </a:xfrm>
              <a:custGeom>
                <a:avLst/>
                <a:gdLst>
                  <a:gd name="textAreaLeft" fmla="*/ 0 w 117360"/>
                  <a:gd name="textAreaRight" fmla="*/ 117720 w 117360"/>
                  <a:gd name="textAreaTop" fmla="*/ 0 h 89640"/>
                  <a:gd name="textAreaBottom" fmla="*/ 90000 h 89640"/>
                </a:gdLst>
                <a:ahLst/>
                <a:rect l="textAreaLeft" t="textAreaTop" r="textAreaRight" b="textAreaBottom"/>
                <a:pathLst>
                  <a:path w="655" h="595">
                    <a:moveTo>
                      <a:pt x="9" y="419"/>
                    </a:moveTo>
                    <a:lnTo>
                      <a:pt x="8" y="401"/>
                    </a:lnTo>
                    <a:lnTo>
                      <a:pt x="9" y="386"/>
                    </a:lnTo>
                    <a:lnTo>
                      <a:pt x="10" y="371"/>
                    </a:lnTo>
                    <a:lnTo>
                      <a:pt x="13" y="358"/>
                    </a:lnTo>
                    <a:lnTo>
                      <a:pt x="17" y="345"/>
                    </a:lnTo>
                    <a:lnTo>
                      <a:pt x="22" y="333"/>
                    </a:lnTo>
                    <a:lnTo>
                      <a:pt x="28" y="322"/>
                    </a:lnTo>
                    <a:lnTo>
                      <a:pt x="34" y="312"/>
                    </a:lnTo>
                    <a:lnTo>
                      <a:pt x="42" y="303"/>
                    </a:lnTo>
                    <a:lnTo>
                      <a:pt x="49" y="294"/>
                    </a:lnTo>
                    <a:lnTo>
                      <a:pt x="58" y="285"/>
                    </a:lnTo>
                    <a:lnTo>
                      <a:pt x="68" y="277"/>
                    </a:lnTo>
                    <a:lnTo>
                      <a:pt x="87" y="263"/>
                    </a:lnTo>
                    <a:lnTo>
                      <a:pt x="107" y="250"/>
                    </a:lnTo>
                    <a:lnTo>
                      <a:pt x="152" y="226"/>
                    </a:lnTo>
                    <a:lnTo>
                      <a:pt x="194" y="199"/>
                    </a:lnTo>
                    <a:lnTo>
                      <a:pt x="204" y="192"/>
                    </a:lnTo>
                    <a:lnTo>
                      <a:pt x="214" y="184"/>
                    </a:lnTo>
                    <a:lnTo>
                      <a:pt x="222" y="176"/>
                    </a:lnTo>
                    <a:lnTo>
                      <a:pt x="230" y="167"/>
                    </a:lnTo>
                    <a:lnTo>
                      <a:pt x="238" y="158"/>
                    </a:lnTo>
                    <a:lnTo>
                      <a:pt x="245" y="148"/>
                    </a:lnTo>
                    <a:lnTo>
                      <a:pt x="251" y="137"/>
                    </a:lnTo>
                    <a:lnTo>
                      <a:pt x="257" y="124"/>
                    </a:lnTo>
                    <a:lnTo>
                      <a:pt x="267" y="97"/>
                    </a:lnTo>
                    <a:lnTo>
                      <a:pt x="277" y="75"/>
                    </a:lnTo>
                    <a:lnTo>
                      <a:pt x="286" y="56"/>
                    </a:lnTo>
                    <a:lnTo>
                      <a:pt x="294" y="41"/>
                    </a:lnTo>
                    <a:lnTo>
                      <a:pt x="302" y="30"/>
                    </a:lnTo>
                    <a:lnTo>
                      <a:pt x="311" y="21"/>
                    </a:lnTo>
                    <a:lnTo>
                      <a:pt x="319" y="14"/>
                    </a:lnTo>
                    <a:lnTo>
                      <a:pt x="329" y="10"/>
                    </a:lnTo>
                    <a:lnTo>
                      <a:pt x="340" y="7"/>
                    </a:lnTo>
                    <a:lnTo>
                      <a:pt x="351" y="5"/>
                    </a:lnTo>
                    <a:lnTo>
                      <a:pt x="365" y="5"/>
                    </a:lnTo>
                    <a:lnTo>
                      <a:pt x="382" y="4"/>
                    </a:lnTo>
                    <a:lnTo>
                      <a:pt x="421" y="4"/>
                    </a:lnTo>
                    <a:lnTo>
                      <a:pt x="473" y="0"/>
                    </a:lnTo>
                    <a:lnTo>
                      <a:pt x="481" y="2"/>
                    </a:lnTo>
                    <a:lnTo>
                      <a:pt x="492" y="5"/>
                    </a:lnTo>
                    <a:lnTo>
                      <a:pt x="501" y="10"/>
                    </a:lnTo>
                    <a:lnTo>
                      <a:pt x="513" y="16"/>
                    </a:lnTo>
                    <a:lnTo>
                      <a:pt x="535" y="31"/>
                    </a:lnTo>
                    <a:lnTo>
                      <a:pt x="557" y="49"/>
                    </a:lnTo>
                    <a:lnTo>
                      <a:pt x="580" y="68"/>
                    </a:lnTo>
                    <a:lnTo>
                      <a:pt x="603" y="86"/>
                    </a:lnTo>
                    <a:lnTo>
                      <a:pt x="613" y="94"/>
                    </a:lnTo>
                    <a:lnTo>
                      <a:pt x="624" y="101"/>
                    </a:lnTo>
                    <a:lnTo>
                      <a:pt x="633" y="107"/>
                    </a:lnTo>
                    <a:lnTo>
                      <a:pt x="642" y="110"/>
                    </a:lnTo>
                    <a:lnTo>
                      <a:pt x="647" y="113"/>
                    </a:lnTo>
                    <a:lnTo>
                      <a:pt x="649" y="115"/>
                    </a:lnTo>
                    <a:lnTo>
                      <a:pt x="652" y="118"/>
                    </a:lnTo>
                    <a:lnTo>
                      <a:pt x="654" y="123"/>
                    </a:lnTo>
                    <a:lnTo>
                      <a:pt x="654" y="129"/>
                    </a:lnTo>
                    <a:lnTo>
                      <a:pt x="655" y="135"/>
                    </a:lnTo>
                    <a:lnTo>
                      <a:pt x="654" y="141"/>
                    </a:lnTo>
                    <a:lnTo>
                      <a:pt x="653" y="149"/>
                    </a:lnTo>
                    <a:lnTo>
                      <a:pt x="649" y="164"/>
                    </a:lnTo>
                    <a:lnTo>
                      <a:pt x="642" y="181"/>
                    </a:lnTo>
                    <a:lnTo>
                      <a:pt x="634" y="201"/>
                    </a:lnTo>
                    <a:lnTo>
                      <a:pt x="624" y="221"/>
                    </a:lnTo>
                    <a:lnTo>
                      <a:pt x="611" y="241"/>
                    </a:lnTo>
                    <a:lnTo>
                      <a:pt x="597" y="261"/>
                    </a:lnTo>
                    <a:lnTo>
                      <a:pt x="580" y="281"/>
                    </a:lnTo>
                    <a:lnTo>
                      <a:pt x="564" y="299"/>
                    </a:lnTo>
                    <a:lnTo>
                      <a:pt x="545" y="317"/>
                    </a:lnTo>
                    <a:lnTo>
                      <a:pt x="527" y="332"/>
                    </a:lnTo>
                    <a:lnTo>
                      <a:pt x="517" y="339"/>
                    </a:lnTo>
                    <a:lnTo>
                      <a:pt x="507" y="345"/>
                    </a:lnTo>
                    <a:lnTo>
                      <a:pt x="497" y="351"/>
                    </a:lnTo>
                    <a:lnTo>
                      <a:pt x="487" y="355"/>
                    </a:lnTo>
                    <a:lnTo>
                      <a:pt x="467" y="362"/>
                    </a:lnTo>
                    <a:lnTo>
                      <a:pt x="446" y="369"/>
                    </a:lnTo>
                    <a:lnTo>
                      <a:pt x="424" y="375"/>
                    </a:lnTo>
                    <a:lnTo>
                      <a:pt x="403" y="380"/>
                    </a:lnTo>
                    <a:lnTo>
                      <a:pt x="379" y="385"/>
                    </a:lnTo>
                    <a:lnTo>
                      <a:pt x="357" y="389"/>
                    </a:lnTo>
                    <a:lnTo>
                      <a:pt x="335" y="395"/>
                    </a:lnTo>
                    <a:lnTo>
                      <a:pt x="313" y="402"/>
                    </a:lnTo>
                    <a:lnTo>
                      <a:pt x="291" y="410"/>
                    </a:lnTo>
                    <a:lnTo>
                      <a:pt x="268" y="421"/>
                    </a:lnTo>
                    <a:lnTo>
                      <a:pt x="257" y="427"/>
                    </a:lnTo>
                    <a:lnTo>
                      <a:pt x="246" y="433"/>
                    </a:lnTo>
                    <a:lnTo>
                      <a:pt x="236" y="440"/>
                    </a:lnTo>
                    <a:lnTo>
                      <a:pt x="225" y="448"/>
                    </a:lnTo>
                    <a:lnTo>
                      <a:pt x="215" y="457"/>
                    </a:lnTo>
                    <a:lnTo>
                      <a:pt x="204" y="466"/>
                    </a:lnTo>
                    <a:lnTo>
                      <a:pt x="195" y="476"/>
                    </a:lnTo>
                    <a:lnTo>
                      <a:pt x="184" y="487"/>
                    </a:lnTo>
                    <a:lnTo>
                      <a:pt x="175" y="499"/>
                    </a:lnTo>
                    <a:lnTo>
                      <a:pt x="166" y="513"/>
                    </a:lnTo>
                    <a:lnTo>
                      <a:pt x="156" y="527"/>
                    </a:lnTo>
                    <a:lnTo>
                      <a:pt x="147" y="542"/>
                    </a:lnTo>
                    <a:lnTo>
                      <a:pt x="142" y="552"/>
                    </a:lnTo>
                    <a:lnTo>
                      <a:pt x="136" y="559"/>
                    </a:lnTo>
                    <a:lnTo>
                      <a:pt x="131" y="567"/>
                    </a:lnTo>
                    <a:lnTo>
                      <a:pt x="125" y="573"/>
                    </a:lnTo>
                    <a:lnTo>
                      <a:pt x="118" y="579"/>
                    </a:lnTo>
                    <a:lnTo>
                      <a:pt x="111" y="583"/>
                    </a:lnTo>
                    <a:lnTo>
                      <a:pt x="104" y="587"/>
                    </a:lnTo>
                    <a:lnTo>
                      <a:pt x="97" y="590"/>
                    </a:lnTo>
                    <a:lnTo>
                      <a:pt x="90" y="593"/>
                    </a:lnTo>
                    <a:lnTo>
                      <a:pt x="83" y="594"/>
                    </a:lnTo>
                    <a:lnTo>
                      <a:pt x="76" y="595"/>
                    </a:lnTo>
                    <a:lnTo>
                      <a:pt x="69" y="595"/>
                    </a:lnTo>
                    <a:lnTo>
                      <a:pt x="62" y="594"/>
                    </a:lnTo>
                    <a:lnTo>
                      <a:pt x="55" y="593"/>
                    </a:lnTo>
                    <a:lnTo>
                      <a:pt x="48" y="589"/>
                    </a:lnTo>
                    <a:lnTo>
                      <a:pt x="41" y="587"/>
                    </a:lnTo>
                    <a:lnTo>
                      <a:pt x="35" y="582"/>
                    </a:lnTo>
                    <a:lnTo>
                      <a:pt x="29" y="577"/>
                    </a:lnTo>
                    <a:lnTo>
                      <a:pt x="23" y="572"/>
                    </a:lnTo>
                    <a:lnTo>
                      <a:pt x="18" y="565"/>
                    </a:lnTo>
                    <a:lnTo>
                      <a:pt x="14" y="558"/>
                    </a:lnTo>
                    <a:lnTo>
                      <a:pt x="10" y="548"/>
                    </a:lnTo>
                    <a:lnTo>
                      <a:pt x="7" y="540"/>
                    </a:lnTo>
                    <a:lnTo>
                      <a:pt x="3" y="530"/>
                    </a:lnTo>
                    <a:lnTo>
                      <a:pt x="1" y="519"/>
                    </a:lnTo>
                    <a:lnTo>
                      <a:pt x="0" y="507"/>
                    </a:lnTo>
                    <a:lnTo>
                      <a:pt x="0" y="494"/>
                    </a:lnTo>
                    <a:lnTo>
                      <a:pt x="0" y="480"/>
                    </a:lnTo>
                    <a:lnTo>
                      <a:pt x="0" y="466"/>
                    </a:lnTo>
                    <a:lnTo>
                      <a:pt x="2" y="451"/>
                    </a:lnTo>
                    <a:lnTo>
                      <a:pt x="4" y="435"/>
                    </a:lnTo>
                    <a:lnTo>
                      <a:pt x="9" y="419"/>
                    </a:lnTo>
                    <a:close/>
                  </a:path>
                </a:pathLst>
              </a:custGeom>
              <a:solidFill>
                <a:srgbClr val="93d5ed"/>
              </a:solidFill>
              <a:ln w="9360">
                <a:solidFill>
                  <a:srgbClr val="ccecff"/>
                </a:solidFill>
                <a:round/>
              </a:ln>
            </p:spPr>
            <p:style>
              <a:lnRef idx="0"/>
              <a:fillRef idx="0"/>
              <a:effectRef idx="0"/>
              <a:fontRef idx="minor"/>
            </p:style>
            <p:txBody>
              <a:bodyPr lIns="90000" rIns="90000" tIns="43200" bIns="43200" anchor="t">
                <a:noAutofit/>
              </a:bodyPr>
              <a:p>
                <a:endParaRPr b="1" lang="en-US" sz="2400" spc="-1" strike="noStrike">
                  <a:solidFill>
                    <a:srgbClr val="ffffff"/>
                  </a:solidFill>
                  <a:latin typeface="Times New Roman"/>
                </a:endParaRPr>
              </a:p>
            </p:txBody>
          </p:sp>
          <p:sp>
            <p:nvSpPr>
              <p:cNvPr id="382" name="Freeform 1489"/>
              <p:cNvSpPr/>
              <p:nvPr/>
            </p:nvSpPr>
            <p:spPr>
              <a:xfrm>
                <a:off x="3151080" y="5358960"/>
                <a:ext cx="73440" cy="24120"/>
              </a:xfrm>
              <a:custGeom>
                <a:avLst/>
                <a:gdLst>
                  <a:gd name="textAreaLeft" fmla="*/ 0 w 73440"/>
                  <a:gd name="textAreaRight" fmla="*/ 73800 w 73440"/>
                  <a:gd name="textAreaTop" fmla="*/ 0 h 24120"/>
                  <a:gd name="textAreaBottom" fmla="*/ 24480 h 24120"/>
                </a:gdLst>
                <a:ahLst/>
                <a:rect l="textAreaLeft" t="textAreaTop" r="textAreaRight" b="textAreaBottom"/>
                <a:pathLst>
                  <a:path w="406" h="160">
                    <a:moveTo>
                      <a:pt x="372" y="127"/>
                    </a:moveTo>
                    <a:lnTo>
                      <a:pt x="364" y="132"/>
                    </a:lnTo>
                    <a:lnTo>
                      <a:pt x="353" y="137"/>
                    </a:lnTo>
                    <a:lnTo>
                      <a:pt x="340" y="142"/>
                    </a:lnTo>
                    <a:lnTo>
                      <a:pt x="326" y="146"/>
                    </a:lnTo>
                    <a:lnTo>
                      <a:pt x="311" y="150"/>
                    </a:lnTo>
                    <a:lnTo>
                      <a:pt x="295" y="153"/>
                    </a:lnTo>
                    <a:lnTo>
                      <a:pt x="278" y="156"/>
                    </a:lnTo>
                    <a:lnTo>
                      <a:pt x="262" y="158"/>
                    </a:lnTo>
                    <a:lnTo>
                      <a:pt x="246" y="160"/>
                    </a:lnTo>
                    <a:lnTo>
                      <a:pt x="230" y="160"/>
                    </a:lnTo>
                    <a:lnTo>
                      <a:pt x="215" y="160"/>
                    </a:lnTo>
                    <a:lnTo>
                      <a:pt x="202" y="158"/>
                    </a:lnTo>
                    <a:lnTo>
                      <a:pt x="191" y="156"/>
                    </a:lnTo>
                    <a:lnTo>
                      <a:pt x="181" y="154"/>
                    </a:lnTo>
                    <a:lnTo>
                      <a:pt x="178" y="151"/>
                    </a:lnTo>
                    <a:lnTo>
                      <a:pt x="174" y="149"/>
                    </a:lnTo>
                    <a:lnTo>
                      <a:pt x="172" y="147"/>
                    </a:lnTo>
                    <a:lnTo>
                      <a:pt x="171" y="144"/>
                    </a:lnTo>
                    <a:lnTo>
                      <a:pt x="167" y="137"/>
                    </a:lnTo>
                    <a:lnTo>
                      <a:pt x="163" y="132"/>
                    </a:lnTo>
                    <a:lnTo>
                      <a:pt x="158" y="126"/>
                    </a:lnTo>
                    <a:lnTo>
                      <a:pt x="153" y="121"/>
                    </a:lnTo>
                    <a:lnTo>
                      <a:pt x="142" y="112"/>
                    </a:lnTo>
                    <a:lnTo>
                      <a:pt x="130" y="104"/>
                    </a:lnTo>
                    <a:lnTo>
                      <a:pt x="116" y="98"/>
                    </a:lnTo>
                    <a:lnTo>
                      <a:pt x="102" y="92"/>
                    </a:lnTo>
                    <a:lnTo>
                      <a:pt x="87" y="88"/>
                    </a:lnTo>
                    <a:lnTo>
                      <a:pt x="73" y="85"/>
                    </a:lnTo>
                    <a:lnTo>
                      <a:pt x="46" y="81"/>
                    </a:lnTo>
                    <a:lnTo>
                      <a:pt x="22" y="80"/>
                    </a:lnTo>
                    <a:lnTo>
                      <a:pt x="6" y="80"/>
                    </a:lnTo>
                    <a:lnTo>
                      <a:pt x="0" y="80"/>
                    </a:lnTo>
                    <a:lnTo>
                      <a:pt x="79" y="5"/>
                    </a:lnTo>
                    <a:lnTo>
                      <a:pt x="93" y="3"/>
                    </a:lnTo>
                    <a:lnTo>
                      <a:pt x="107" y="2"/>
                    </a:lnTo>
                    <a:lnTo>
                      <a:pt x="121" y="2"/>
                    </a:lnTo>
                    <a:lnTo>
                      <a:pt x="133" y="2"/>
                    </a:lnTo>
                    <a:lnTo>
                      <a:pt x="159" y="5"/>
                    </a:lnTo>
                    <a:lnTo>
                      <a:pt x="185" y="10"/>
                    </a:lnTo>
                    <a:lnTo>
                      <a:pt x="209" y="14"/>
                    </a:lnTo>
                    <a:lnTo>
                      <a:pt x="233" y="15"/>
                    </a:lnTo>
                    <a:lnTo>
                      <a:pt x="244" y="15"/>
                    </a:lnTo>
                    <a:lnTo>
                      <a:pt x="256" y="14"/>
                    </a:lnTo>
                    <a:lnTo>
                      <a:pt x="268" y="10"/>
                    </a:lnTo>
                    <a:lnTo>
                      <a:pt x="279" y="5"/>
                    </a:lnTo>
                    <a:lnTo>
                      <a:pt x="285" y="3"/>
                    </a:lnTo>
                    <a:lnTo>
                      <a:pt x="292" y="1"/>
                    </a:lnTo>
                    <a:lnTo>
                      <a:pt x="298" y="0"/>
                    </a:lnTo>
                    <a:lnTo>
                      <a:pt x="305" y="0"/>
                    </a:lnTo>
                    <a:lnTo>
                      <a:pt x="319" y="0"/>
                    </a:lnTo>
                    <a:lnTo>
                      <a:pt x="333" y="3"/>
                    </a:lnTo>
                    <a:lnTo>
                      <a:pt x="347" y="8"/>
                    </a:lnTo>
                    <a:lnTo>
                      <a:pt x="360" y="14"/>
                    </a:lnTo>
                    <a:lnTo>
                      <a:pt x="373" y="22"/>
                    </a:lnTo>
                    <a:lnTo>
                      <a:pt x="383" y="31"/>
                    </a:lnTo>
                    <a:lnTo>
                      <a:pt x="393" y="42"/>
                    </a:lnTo>
                    <a:lnTo>
                      <a:pt x="400" y="53"/>
                    </a:lnTo>
                    <a:lnTo>
                      <a:pt x="402" y="59"/>
                    </a:lnTo>
                    <a:lnTo>
                      <a:pt x="403" y="65"/>
                    </a:lnTo>
                    <a:lnTo>
                      <a:pt x="404" y="72"/>
                    </a:lnTo>
                    <a:lnTo>
                      <a:pt x="406" y="78"/>
                    </a:lnTo>
                    <a:lnTo>
                      <a:pt x="404" y="84"/>
                    </a:lnTo>
                    <a:lnTo>
                      <a:pt x="403" y="91"/>
                    </a:lnTo>
                    <a:lnTo>
                      <a:pt x="401" y="97"/>
                    </a:lnTo>
                    <a:lnTo>
                      <a:pt x="397" y="102"/>
                    </a:lnTo>
                    <a:lnTo>
                      <a:pt x="393" y="109"/>
                    </a:lnTo>
                    <a:lnTo>
                      <a:pt x="387" y="115"/>
                    </a:lnTo>
                    <a:lnTo>
                      <a:pt x="380" y="121"/>
                    </a:lnTo>
                    <a:lnTo>
                      <a:pt x="372" y="127"/>
                    </a:lnTo>
                    <a:close/>
                  </a:path>
                </a:pathLst>
              </a:custGeom>
              <a:solidFill>
                <a:srgbClr val="93d5ed"/>
              </a:solidFill>
              <a:ln w="9360">
                <a:solidFill>
                  <a:srgbClr val="ccecff"/>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Times New Roman"/>
                </a:endParaRPr>
              </a:p>
            </p:txBody>
          </p:sp>
          <p:sp>
            <p:nvSpPr>
              <p:cNvPr id="383" name="Freeform 1490"/>
              <p:cNvSpPr/>
              <p:nvPr/>
            </p:nvSpPr>
            <p:spPr>
              <a:xfrm>
                <a:off x="3151080" y="5358960"/>
                <a:ext cx="73440" cy="24120"/>
              </a:xfrm>
              <a:custGeom>
                <a:avLst/>
                <a:gdLst>
                  <a:gd name="textAreaLeft" fmla="*/ 0 w 73440"/>
                  <a:gd name="textAreaRight" fmla="*/ 73800 w 73440"/>
                  <a:gd name="textAreaTop" fmla="*/ 0 h 24120"/>
                  <a:gd name="textAreaBottom" fmla="*/ 24480 h 24120"/>
                </a:gdLst>
                <a:ahLst/>
                <a:rect l="textAreaLeft" t="textAreaTop" r="textAreaRight" b="textAreaBottom"/>
                <a:pathLst>
                  <a:path w="406" h="160">
                    <a:moveTo>
                      <a:pt x="372" y="127"/>
                    </a:moveTo>
                    <a:lnTo>
                      <a:pt x="364" y="132"/>
                    </a:lnTo>
                    <a:lnTo>
                      <a:pt x="353" y="137"/>
                    </a:lnTo>
                    <a:lnTo>
                      <a:pt x="340" y="142"/>
                    </a:lnTo>
                    <a:lnTo>
                      <a:pt x="326" y="146"/>
                    </a:lnTo>
                    <a:lnTo>
                      <a:pt x="311" y="150"/>
                    </a:lnTo>
                    <a:lnTo>
                      <a:pt x="295" y="153"/>
                    </a:lnTo>
                    <a:lnTo>
                      <a:pt x="278" y="156"/>
                    </a:lnTo>
                    <a:lnTo>
                      <a:pt x="262" y="158"/>
                    </a:lnTo>
                    <a:lnTo>
                      <a:pt x="246" y="160"/>
                    </a:lnTo>
                    <a:lnTo>
                      <a:pt x="230" y="160"/>
                    </a:lnTo>
                    <a:lnTo>
                      <a:pt x="215" y="160"/>
                    </a:lnTo>
                    <a:lnTo>
                      <a:pt x="202" y="158"/>
                    </a:lnTo>
                    <a:lnTo>
                      <a:pt x="191" y="156"/>
                    </a:lnTo>
                    <a:lnTo>
                      <a:pt x="181" y="154"/>
                    </a:lnTo>
                    <a:lnTo>
                      <a:pt x="178" y="151"/>
                    </a:lnTo>
                    <a:lnTo>
                      <a:pt x="174" y="149"/>
                    </a:lnTo>
                    <a:lnTo>
                      <a:pt x="172" y="147"/>
                    </a:lnTo>
                    <a:lnTo>
                      <a:pt x="171" y="144"/>
                    </a:lnTo>
                    <a:lnTo>
                      <a:pt x="167" y="137"/>
                    </a:lnTo>
                    <a:lnTo>
                      <a:pt x="163" y="132"/>
                    </a:lnTo>
                    <a:lnTo>
                      <a:pt x="158" y="126"/>
                    </a:lnTo>
                    <a:lnTo>
                      <a:pt x="153" y="121"/>
                    </a:lnTo>
                    <a:lnTo>
                      <a:pt x="142" y="112"/>
                    </a:lnTo>
                    <a:lnTo>
                      <a:pt x="130" y="104"/>
                    </a:lnTo>
                    <a:lnTo>
                      <a:pt x="116" y="98"/>
                    </a:lnTo>
                    <a:lnTo>
                      <a:pt x="102" y="92"/>
                    </a:lnTo>
                    <a:lnTo>
                      <a:pt x="87" y="88"/>
                    </a:lnTo>
                    <a:lnTo>
                      <a:pt x="73" y="85"/>
                    </a:lnTo>
                    <a:lnTo>
                      <a:pt x="46" y="81"/>
                    </a:lnTo>
                    <a:lnTo>
                      <a:pt x="22" y="80"/>
                    </a:lnTo>
                    <a:lnTo>
                      <a:pt x="6" y="80"/>
                    </a:lnTo>
                    <a:lnTo>
                      <a:pt x="0" y="80"/>
                    </a:lnTo>
                    <a:lnTo>
                      <a:pt x="79" y="5"/>
                    </a:lnTo>
                    <a:lnTo>
                      <a:pt x="93" y="3"/>
                    </a:lnTo>
                    <a:lnTo>
                      <a:pt x="107" y="2"/>
                    </a:lnTo>
                    <a:lnTo>
                      <a:pt x="121" y="2"/>
                    </a:lnTo>
                    <a:lnTo>
                      <a:pt x="133" y="2"/>
                    </a:lnTo>
                    <a:lnTo>
                      <a:pt x="159" y="5"/>
                    </a:lnTo>
                    <a:lnTo>
                      <a:pt x="185" y="10"/>
                    </a:lnTo>
                    <a:lnTo>
                      <a:pt x="209" y="14"/>
                    </a:lnTo>
                    <a:lnTo>
                      <a:pt x="233" y="15"/>
                    </a:lnTo>
                    <a:lnTo>
                      <a:pt x="244" y="15"/>
                    </a:lnTo>
                    <a:lnTo>
                      <a:pt x="256" y="14"/>
                    </a:lnTo>
                    <a:lnTo>
                      <a:pt x="268" y="10"/>
                    </a:lnTo>
                    <a:lnTo>
                      <a:pt x="279" y="5"/>
                    </a:lnTo>
                    <a:lnTo>
                      <a:pt x="285" y="3"/>
                    </a:lnTo>
                    <a:lnTo>
                      <a:pt x="292" y="1"/>
                    </a:lnTo>
                    <a:lnTo>
                      <a:pt x="298" y="0"/>
                    </a:lnTo>
                    <a:lnTo>
                      <a:pt x="305" y="0"/>
                    </a:lnTo>
                    <a:lnTo>
                      <a:pt x="319" y="0"/>
                    </a:lnTo>
                    <a:lnTo>
                      <a:pt x="333" y="3"/>
                    </a:lnTo>
                    <a:lnTo>
                      <a:pt x="347" y="8"/>
                    </a:lnTo>
                    <a:lnTo>
                      <a:pt x="360" y="14"/>
                    </a:lnTo>
                    <a:lnTo>
                      <a:pt x="373" y="22"/>
                    </a:lnTo>
                    <a:lnTo>
                      <a:pt x="383" y="31"/>
                    </a:lnTo>
                    <a:lnTo>
                      <a:pt x="393" y="42"/>
                    </a:lnTo>
                    <a:lnTo>
                      <a:pt x="400" y="53"/>
                    </a:lnTo>
                    <a:lnTo>
                      <a:pt x="402" y="59"/>
                    </a:lnTo>
                    <a:lnTo>
                      <a:pt x="403" y="65"/>
                    </a:lnTo>
                    <a:lnTo>
                      <a:pt x="404" y="72"/>
                    </a:lnTo>
                    <a:lnTo>
                      <a:pt x="406" y="78"/>
                    </a:lnTo>
                    <a:lnTo>
                      <a:pt x="404" y="84"/>
                    </a:lnTo>
                    <a:lnTo>
                      <a:pt x="403" y="91"/>
                    </a:lnTo>
                    <a:lnTo>
                      <a:pt x="401" y="97"/>
                    </a:lnTo>
                    <a:lnTo>
                      <a:pt x="397" y="102"/>
                    </a:lnTo>
                    <a:lnTo>
                      <a:pt x="393" y="109"/>
                    </a:lnTo>
                    <a:lnTo>
                      <a:pt x="387" y="115"/>
                    </a:lnTo>
                    <a:lnTo>
                      <a:pt x="380" y="121"/>
                    </a:lnTo>
                    <a:lnTo>
                      <a:pt x="372" y="127"/>
                    </a:lnTo>
                    <a:close/>
                  </a:path>
                </a:pathLst>
              </a:custGeom>
              <a:solidFill>
                <a:srgbClr val="93d5ed"/>
              </a:solidFill>
              <a:ln w="9360">
                <a:solidFill>
                  <a:srgbClr val="ccecff"/>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Times New Roman"/>
                </a:endParaRPr>
              </a:p>
            </p:txBody>
          </p:sp>
          <p:sp>
            <p:nvSpPr>
              <p:cNvPr id="384" name="Freeform 1491"/>
              <p:cNvSpPr/>
              <p:nvPr/>
            </p:nvSpPr>
            <p:spPr>
              <a:xfrm>
                <a:off x="3115080" y="5375160"/>
                <a:ext cx="42120" cy="12600"/>
              </a:xfrm>
              <a:custGeom>
                <a:avLst/>
                <a:gdLst>
                  <a:gd name="textAreaLeft" fmla="*/ 0 w 42120"/>
                  <a:gd name="textAreaRight" fmla="*/ 42120 w 42120"/>
                  <a:gd name="textAreaTop" fmla="*/ 0 h 12600"/>
                  <a:gd name="textAreaBottom" fmla="*/ 12960 h 12600"/>
                </a:gdLst>
                <a:ahLst/>
                <a:rect l="textAreaLeft" t="textAreaTop" r="textAreaRight" b="textAreaBottom"/>
                <a:pathLst>
                  <a:path w="235" h="84">
                    <a:moveTo>
                      <a:pt x="170" y="6"/>
                    </a:moveTo>
                    <a:lnTo>
                      <a:pt x="124" y="17"/>
                    </a:lnTo>
                    <a:lnTo>
                      <a:pt x="81" y="30"/>
                    </a:lnTo>
                    <a:lnTo>
                      <a:pt x="62" y="37"/>
                    </a:lnTo>
                    <a:lnTo>
                      <a:pt x="45" y="43"/>
                    </a:lnTo>
                    <a:lnTo>
                      <a:pt x="30" y="50"/>
                    </a:lnTo>
                    <a:lnTo>
                      <a:pt x="18" y="56"/>
                    </a:lnTo>
                    <a:lnTo>
                      <a:pt x="9" y="62"/>
                    </a:lnTo>
                    <a:lnTo>
                      <a:pt x="3" y="66"/>
                    </a:lnTo>
                    <a:lnTo>
                      <a:pt x="1" y="70"/>
                    </a:lnTo>
                    <a:lnTo>
                      <a:pt x="0" y="72"/>
                    </a:lnTo>
                    <a:lnTo>
                      <a:pt x="1" y="73"/>
                    </a:lnTo>
                    <a:lnTo>
                      <a:pt x="3" y="76"/>
                    </a:lnTo>
                    <a:lnTo>
                      <a:pt x="10" y="79"/>
                    </a:lnTo>
                    <a:lnTo>
                      <a:pt x="23" y="82"/>
                    </a:lnTo>
                    <a:lnTo>
                      <a:pt x="40" y="84"/>
                    </a:lnTo>
                    <a:lnTo>
                      <a:pt x="63" y="84"/>
                    </a:lnTo>
                    <a:lnTo>
                      <a:pt x="89" y="83"/>
                    </a:lnTo>
                    <a:lnTo>
                      <a:pt x="114" y="79"/>
                    </a:lnTo>
                    <a:lnTo>
                      <a:pt x="137" y="75"/>
                    </a:lnTo>
                    <a:lnTo>
                      <a:pt x="158" y="68"/>
                    </a:lnTo>
                    <a:lnTo>
                      <a:pt x="178" y="59"/>
                    </a:lnTo>
                    <a:lnTo>
                      <a:pt x="195" y="51"/>
                    </a:lnTo>
                    <a:lnTo>
                      <a:pt x="209" y="42"/>
                    </a:lnTo>
                    <a:lnTo>
                      <a:pt x="221" y="34"/>
                    </a:lnTo>
                    <a:lnTo>
                      <a:pt x="229" y="24"/>
                    </a:lnTo>
                    <a:lnTo>
                      <a:pt x="235" y="17"/>
                    </a:lnTo>
                    <a:lnTo>
                      <a:pt x="235" y="14"/>
                    </a:lnTo>
                    <a:lnTo>
                      <a:pt x="235" y="10"/>
                    </a:lnTo>
                    <a:lnTo>
                      <a:pt x="234" y="7"/>
                    </a:lnTo>
                    <a:lnTo>
                      <a:pt x="233" y="5"/>
                    </a:lnTo>
                    <a:lnTo>
                      <a:pt x="229" y="3"/>
                    </a:lnTo>
                    <a:lnTo>
                      <a:pt x="225" y="1"/>
                    </a:lnTo>
                    <a:lnTo>
                      <a:pt x="219" y="1"/>
                    </a:lnTo>
                    <a:lnTo>
                      <a:pt x="212" y="0"/>
                    </a:lnTo>
                    <a:lnTo>
                      <a:pt x="193" y="2"/>
                    </a:lnTo>
                    <a:lnTo>
                      <a:pt x="170" y="6"/>
                    </a:lnTo>
                    <a:close/>
                  </a:path>
                </a:pathLst>
              </a:custGeom>
              <a:solidFill>
                <a:srgbClr val="93d5ed"/>
              </a:solidFill>
              <a:ln w="9360">
                <a:solidFill>
                  <a:srgbClr val="ccecff"/>
                </a:solidFill>
                <a:round/>
              </a:ln>
            </p:spPr>
            <p:style>
              <a:lnRef idx="0"/>
              <a:fillRef idx="0"/>
              <a:effectRef idx="0"/>
              <a:fontRef idx="minor"/>
            </p:style>
            <p:txBody>
              <a:bodyPr lIns="90000" rIns="90000" tIns="-33840" bIns="-33840" anchor="t">
                <a:noAutofit/>
              </a:bodyPr>
              <a:p>
                <a:endParaRPr b="1" lang="en-US" sz="2400" spc="-1" strike="noStrike">
                  <a:solidFill>
                    <a:srgbClr val="ffffff"/>
                  </a:solidFill>
                  <a:latin typeface="Times New Roman"/>
                </a:endParaRPr>
              </a:p>
            </p:txBody>
          </p:sp>
          <p:sp>
            <p:nvSpPr>
              <p:cNvPr id="385" name="Freeform 1492"/>
              <p:cNvSpPr/>
              <p:nvPr/>
            </p:nvSpPr>
            <p:spPr>
              <a:xfrm>
                <a:off x="3115080" y="5375160"/>
                <a:ext cx="42120" cy="12600"/>
              </a:xfrm>
              <a:custGeom>
                <a:avLst/>
                <a:gdLst>
                  <a:gd name="textAreaLeft" fmla="*/ 0 w 42120"/>
                  <a:gd name="textAreaRight" fmla="*/ 42120 w 42120"/>
                  <a:gd name="textAreaTop" fmla="*/ 0 h 12600"/>
                  <a:gd name="textAreaBottom" fmla="*/ 12960 h 12600"/>
                </a:gdLst>
                <a:ahLst/>
                <a:rect l="textAreaLeft" t="textAreaTop" r="textAreaRight" b="textAreaBottom"/>
                <a:pathLst>
                  <a:path w="235" h="84">
                    <a:moveTo>
                      <a:pt x="170" y="6"/>
                    </a:moveTo>
                    <a:lnTo>
                      <a:pt x="124" y="17"/>
                    </a:lnTo>
                    <a:lnTo>
                      <a:pt x="81" y="30"/>
                    </a:lnTo>
                    <a:lnTo>
                      <a:pt x="62" y="37"/>
                    </a:lnTo>
                    <a:lnTo>
                      <a:pt x="45" y="43"/>
                    </a:lnTo>
                    <a:lnTo>
                      <a:pt x="30" y="50"/>
                    </a:lnTo>
                    <a:lnTo>
                      <a:pt x="18" y="56"/>
                    </a:lnTo>
                    <a:lnTo>
                      <a:pt x="9" y="62"/>
                    </a:lnTo>
                    <a:lnTo>
                      <a:pt x="3" y="66"/>
                    </a:lnTo>
                    <a:lnTo>
                      <a:pt x="1" y="70"/>
                    </a:lnTo>
                    <a:lnTo>
                      <a:pt x="0" y="72"/>
                    </a:lnTo>
                    <a:lnTo>
                      <a:pt x="1" y="73"/>
                    </a:lnTo>
                    <a:lnTo>
                      <a:pt x="3" y="76"/>
                    </a:lnTo>
                    <a:lnTo>
                      <a:pt x="10" y="79"/>
                    </a:lnTo>
                    <a:lnTo>
                      <a:pt x="23" y="82"/>
                    </a:lnTo>
                    <a:lnTo>
                      <a:pt x="40" y="84"/>
                    </a:lnTo>
                    <a:lnTo>
                      <a:pt x="63" y="84"/>
                    </a:lnTo>
                    <a:lnTo>
                      <a:pt x="89" y="83"/>
                    </a:lnTo>
                    <a:lnTo>
                      <a:pt x="114" y="79"/>
                    </a:lnTo>
                    <a:lnTo>
                      <a:pt x="137" y="75"/>
                    </a:lnTo>
                    <a:lnTo>
                      <a:pt x="158" y="68"/>
                    </a:lnTo>
                    <a:lnTo>
                      <a:pt x="178" y="59"/>
                    </a:lnTo>
                    <a:lnTo>
                      <a:pt x="195" y="51"/>
                    </a:lnTo>
                    <a:lnTo>
                      <a:pt x="209" y="42"/>
                    </a:lnTo>
                    <a:lnTo>
                      <a:pt x="221" y="34"/>
                    </a:lnTo>
                    <a:lnTo>
                      <a:pt x="229" y="24"/>
                    </a:lnTo>
                    <a:lnTo>
                      <a:pt x="235" y="17"/>
                    </a:lnTo>
                    <a:lnTo>
                      <a:pt x="235" y="14"/>
                    </a:lnTo>
                    <a:lnTo>
                      <a:pt x="235" y="10"/>
                    </a:lnTo>
                    <a:lnTo>
                      <a:pt x="234" y="7"/>
                    </a:lnTo>
                    <a:lnTo>
                      <a:pt x="233" y="5"/>
                    </a:lnTo>
                    <a:lnTo>
                      <a:pt x="229" y="3"/>
                    </a:lnTo>
                    <a:lnTo>
                      <a:pt x="225" y="1"/>
                    </a:lnTo>
                    <a:lnTo>
                      <a:pt x="219" y="1"/>
                    </a:lnTo>
                    <a:lnTo>
                      <a:pt x="212" y="0"/>
                    </a:lnTo>
                    <a:lnTo>
                      <a:pt x="193" y="2"/>
                    </a:lnTo>
                    <a:lnTo>
                      <a:pt x="170" y="6"/>
                    </a:lnTo>
                    <a:close/>
                  </a:path>
                </a:pathLst>
              </a:custGeom>
              <a:solidFill>
                <a:srgbClr val="93d5ed"/>
              </a:solidFill>
              <a:ln w="9360">
                <a:solidFill>
                  <a:srgbClr val="ccecff"/>
                </a:solidFill>
                <a:round/>
              </a:ln>
            </p:spPr>
            <p:style>
              <a:lnRef idx="0"/>
              <a:fillRef idx="0"/>
              <a:effectRef idx="0"/>
              <a:fontRef idx="minor"/>
            </p:style>
            <p:txBody>
              <a:bodyPr lIns="90000" rIns="90000" tIns="-33840" bIns="-33840" anchor="t">
                <a:noAutofit/>
              </a:bodyPr>
              <a:p>
                <a:endParaRPr b="1" lang="en-US" sz="2400" spc="-1" strike="noStrike">
                  <a:solidFill>
                    <a:srgbClr val="ffffff"/>
                  </a:solidFill>
                  <a:latin typeface="Times New Roman"/>
                </a:endParaRPr>
              </a:p>
            </p:txBody>
          </p:sp>
          <p:sp>
            <p:nvSpPr>
              <p:cNvPr id="386" name="Freeform 1493"/>
              <p:cNvSpPr/>
              <p:nvPr/>
            </p:nvSpPr>
            <p:spPr>
              <a:xfrm>
                <a:off x="3111480" y="5347800"/>
                <a:ext cx="50040" cy="25560"/>
              </a:xfrm>
              <a:custGeom>
                <a:avLst/>
                <a:gdLst>
                  <a:gd name="textAreaLeft" fmla="*/ 0 w 50040"/>
                  <a:gd name="textAreaRight" fmla="*/ 50400 w 50040"/>
                  <a:gd name="textAreaTop" fmla="*/ 0 h 25560"/>
                  <a:gd name="textAreaBottom" fmla="*/ 25920 h 25560"/>
                </a:gdLst>
                <a:ahLst/>
                <a:rect l="textAreaLeft" t="textAreaTop" r="textAreaRight" b="textAreaBottom"/>
                <a:pathLst>
                  <a:path w="284" h="167">
                    <a:moveTo>
                      <a:pt x="23" y="152"/>
                    </a:moveTo>
                    <a:lnTo>
                      <a:pt x="32" y="158"/>
                    </a:lnTo>
                    <a:lnTo>
                      <a:pt x="41" y="162"/>
                    </a:lnTo>
                    <a:lnTo>
                      <a:pt x="49" y="165"/>
                    </a:lnTo>
                    <a:lnTo>
                      <a:pt x="57" y="166"/>
                    </a:lnTo>
                    <a:lnTo>
                      <a:pt x="65" y="167"/>
                    </a:lnTo>
                    <a:lnTo>
                      <a:pt x="74" y="166"/>
                    </a:lnTo>
                    <a:lnTo>
                      <a:pt x="82" y="165"/>
                    </a:lnTo>
                    <a:lnTo>
                      <a:pt x="90" y="164"/>
                    </a:lnTo>
                    <a:lnTo>
                      <a:pt x="105" y="157"/>
                    </a:lnTo>
                    <a:lnTo>
                      <a:pt x="119" y="149"/>
                    </a:lnTo>
                    <a:lnTo>
                      <a:pt x="133" y="139"/>
                    </a:lnTo>
                    <a:lnTo>
                      <a:pt x="146" y="129"/>
                    </a:lnTo>
                    <a:lnTo>
                      <a:pt x="168" y="108"/>
                    </a:lnTo>
                    <a:lnTo>
                      <a:pt x="187" y="91"/>
                    </a:lnTo>
                    <a:lnTo>
                      <a:pt x="195" y="86"/>
                    </a:lnTo>
                    <a:lnTo>
                      <a:pt x="201" y="84"/>
                    </a:lnTo>
                    <a:lnTo>
                      <a:pt x="204" y="84"/>
                    </a:lnTo>
                    <a:lnTo>
                      <a:pt x="207" y="86"/>
                    </a:lnTo>
                    <a:lnTo>
                      <a:pt x="208" y="88"/>
                    </a:lnTo>
                    <a:lnTo>
                      <a:pt x="210" y="91"/>
                    </a:lnTo>
                    <a:lnTo>
                      <a:pt x="211" y="96"/>
                    </a:lnTo>
                    <a:lnTo>
                      <a:pt x="214" y="98"/>
                    </a:lnTo>
                    <a:lnTo>
                      <a:pt x="217" y="101"/>
                    </a:lnTo>
                    <a:lnTo>
                      <a:pt x="220" y="101"/>
                    </a:lnTo>
                    <a:lnTo>
                      <a:pt x="223" y="102"/>
                    </a:lnTo>
                    <a:lnTo>
                      <a:pt x="228" y="101"/>
                    </a:lnTo>
                    <a:lnTo>
                      <a:pt x="231" y="100"/>
                    </a:lnTo>
                    <a:lnTo>
                      <a:pt x="236" y="97"/>
                    </a:lnTo>
                    <a:lnTo>
                      <a:pt x="245" y="91"/>
                    </a:lnTo>
                    <a:lnTo>
                      <a:pt x="255" y="83"/>
                    </a:lnTo>
                    <a:lnTo>
                      <a:pt x="263" y="74"/>
                    </a:lnTo>
                    <a:lnTo>
                      <a:pt x="271" y="63"/>
                    </a:lnTo>
                    <a:lnTo>
                      <a:pt x="277" y="52"/>
                    </a:lnTo>
                    <a:lnTo>
                      <a:pt x="281" y="41"/>
                    </a:lnTo>
                    <a:lnTo>
                      <a:pt x="283" y="35"/>
                    </a:lnTo>
                    <a:lnTo>
                      <a:pt x="284" y="31"/>
                    </a:lnTo>
                    <a:lnTo>
                      <a:pt x="284" y="26"/>
                    </a:lnTo>
                    <a:lnTo>
                      <a:pt x="283" y="20"/>
                    </a:lnTo>
                    <a:lnTo>
                      <a:pt x="280" y="17"/>
                    </a:lnTo>
                    <a:lnTo>
                      <a:pt x="278" y="12"/>
                    </a:lnTo>
                    <a:lnTo>
                      <a:pt x="274" y="9"/>
                    </a:lnTo>
                    <a:lnTo>
                      <a:pt x="270" y="6"/>
                    </a:lnTo>
                    <a:lnTo>
                      <a:pt x="264" y="4"/>
                    </a:lnTo>
                    <a:lnTo>
                      <a:pt x="257" y="2"/>
                    </a:lnTo>
                    <a:lnTo>
                      <a:pt x="249" y="0"/>
                    </a:lnTo>
                    <a:lnTo>
                      <a:pt x="239" y="0"/>
                    </a:lnTo>
                    <a:lnTo>
                      <a:pt x="218" y="0"/>
                    </a:lnTo>
                    <a:lnTo>
                      <a:pt x="195" y="4"/>
                    </a:lnTo>
                    <a:lnTo>
                      <a:pt x="172" y="9"/>
                    </a:lnTo>
                    <a:lnTo>
                      <a:pt x="147" y="16"/>
                    </a:lnTo>
                    <a:lnTo>
                      <a:pt x="123" y="23"/>
                    </a:lnTo>
                    <a:lnTo>
                      <a:pt x="99" y="32"/>
                    </a:lnTo>
                    <a:lnTo>
                      <a:pt x="77" y="42"/>
                    </a:lnTo>
                    <a:lnTo>
                      <a:pt x="56" y="54"/>
                    </a:lnTo>
                    <a:lnTo>
                      <a:pt x="39" y="66"/>
                    </a:lnTo>
                    <a:lnTo>
                      <a:pt x="22" y="77"/>
                    </a:lnTo>
                    <a:lnTo>
                      <a:pt x="16" y="84"/>
                    </a:lnTo>
                    <a:lnTo>
                      <a:pt x="10" y="90"/>
                    </a:lnTo>
                    <a:lnTo>
                      <a:pt x="6" y="97"/>
                    </a:lnTo>
                    <a:lnTo>
                      <a:pt x="2" y="103"/>
                    </a:lnTo>
                    <a:lnTo>
                      <a:pt x="1" y="110"/>
                    </a:lnTo>
                    <a:lnTo>
                      <a:pt x="0" y="116"/>
                    </a:lnTo>
                    <a:lnTo>
                      <a:pt x="0" y="122"/>
                    </a:lnTo>
                    <a:lnTo>
                      <a:pt x="1" y="129"/>
                    </a:lnTo>
                    <a:lnTo>
                      <a:pt x="5" y="135"/>
                    </a:lnTo>
                    <a:lnTo>
                      <a:pt x="9" y="141"/>
                    </a:lnTo>
                    <a:lnTo>
                      <a:pt x="15" y="146"/>
                    </a:lnTo>
                    <a:lnTo>
                      <a:pt x="23" y="152"/>
                    </a:lnTo>
                    <a:close/>
                  </a:path>
                </a:pathLst>
              </a:custGeom>
              <a:solidFill>
                <a:srgbClr val="93d5ed"/>
              </a:solidFill>
              <a:ln w="9360">
                <a:solidFill>
                  <a:srgbClr val="ccecff"/>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Times New Roman"/>
                </a:endParaRPr>
              </a:p>
            </p:txBody>
          </p:sp>
          <p:sp>
            <p:nvSpPr>
              <p:cNvPr id="387" name="Freeform 1494"/>
              <p:cNvSpPr/>
              <p:nvPr/>
            </p:nvSpPr>
            <p:spPr>
              <a:xfrm>
                <a:off x="3111480" y="5347800"/>
                <a:ext cx="50040" cy="25560"/>
              </a:xfrm>
              <a:custGeom>
                <a:avLst/>
                <a:gdLst>
                  <a:gd name="textAreaLeft" fmla="*/ 0 w 50040"/>
                  <a:gd name="textAreaRight" fmla="*/ 50400 w 50040"/>
                  <a:gd name="textAreaTop" fmla="*/ 0 h 25560"/>
                  <a:gd name="textAreaBottom" fmla="*/ 25920 h 25560"/>
                </a:gdLst>
                <a:ahLst/>
                <a:rect l="textAreaLeft" t="textAreaTop" r="textAreaRight" b="textAreaBottom"/>
                <a:pathLst>
                  <a:path w="284" h="167">
                    <a:moveTo>
                      <a:pt x="23" y="152"/>
                    </a:moveTo>
                    <a:lnTo>
                      <a:pt x="32" y="158"/>
                    </a:lnTo>
                    <a:lnTo>
                      <a:pt x="41" y="162"/>
                    </a:lnTo>
                    <a:lnTo>
                      <a:pt x="49" y="165"/>
                    </a:lnTo>
                    <a:lnTo>
                      <a:pt x="57" y="166"/>
                    </a:lnTo>
                    <a:lnTo>
                      <a:pt x="65" y="167"/>
                    </a:lnTo>
                    <a:lnTo>
                      <a:pt x="74" y="166"/>
                    </a:lnTo>
                    <a:lnTo>
                      <a:pt x="82" y="165"/>
                    </a:lnTo>
                    <a:lnTo>
                      <a:pt x="90" y="164"/>
                    </a:lnTo>
                    <a:lnTo>
                      <a:pt x="105" y="157"/>
                    </a:lnTo>
                    <a:lnTo>
                      <a:pt x="119" y="149"/>
                    </a:lnTo>
                    <a:lnTo>
                      <a:pt x="133" y="139"/>
                    </a:lnTo>
                    <a:lnTo>
                      <a:pt x="146" y="129"/>
                    </a:lnTo>
                    <a:lnTo>
                      <a:pt x="168" y="108"/>
                    </a:lnTo>
                    <a:lnTo>
                      <a:pt x="187" y="91"/>
                    </a:lnTo>
                    <a:lnTo>
                      <a:pt x="195" y="86"/>
                    </a:lnTo>
                    <a:lnTo>
                      <a:pt x="201" y="84"/>
                    </a:lnTo>
                    <a:lnTo>
                      <a:pt x="204" y="84"/>
                    </a:lnTo>
                    <a:lnTo>
                      <a:pt x="207" y="86"/>
                    </a:lnTo>
                    <a:lnTo>
                      <a:pt x="208" y="88"/>
                    </a:lnTo>
                    <a:lnTo>
                      <a:pt x="210" y="91"/>
                    </a:lnTo>
                    <a:lnTo>
                      <a:pt x="211" y="96"/>
                    </a:lnTo>
                    <a:lnTo>
                      <a:pt x="214" y="98"/>
                    </a:lnTo>
                    <a:lnTo>
                      <a:pt x="217" y="101"/>
                    </a:lnTo>
                    <a:lnTo>
                      <a:pt x="220" y="101"/>
                    </a:lnTo>
                    <a:lnTo>
                      <a:pt x="223" y="102"/>
                    </a:lnTo>
                    <a:lnTo>
                      <a:pt x="228" y="101"/>
                    </a:lnTo>
                    <a:lnTo>
                      <a:pt x="231" y="100"/>
                    </a:lnTo>
                    <a:lnTo>
                      <a:pt x="236" y="97"/>
                    </a:lnTo>
                    <a:lnTo>
                      <a:pt x="245" y="91"/>
                    </a:lnTo>
                    <a:lnTo>
                      <a:pt x="255" y="83"/>
                    </a:lnTo>
                    <a:lnTo>
                      <a:pt x="263" y="74"/>
                    </a:lnTo>
                    <a:lnTo>
                      <a:pt x="271" y="63"/>
                    </a:lnTo>
                    <a:lnTo>
                      <a:pt x="277" y="52"/>
                    </a:lnTo>
                    <a:lnTo>
                      <a:pt x="281" y="41"/>
                    </a:lnTo>
                    <a:lnTo>
                      <a:pt x="283" y="35"/>
                    </a:lnTo>
                    <a:lnTo>
                      <a:pt x="284" y="31"/>
                    </a:lnTo>
                    <a:lnTo>
                      <a:pt x="284" y="26"/>
                    </a:lnTo>
                    <a:lnTo>
                      <a:pt x="283" y="20"/>
                    </a:lnTo>
                    <a:lnTo>
                      <a:pt x="280" y="17"/>
                    </a:lnTo>
                    <a:lnTo>
                      <a:pt x="278" y="12"/>
                    </a:lnTo>
                    <a:lnTo>
                      <a:pt x="274" y="9"/>
                    </a:lnTo>
                    <a:lnTo>
                      <a:pt x="270" y="6"/>
                    </a:lnTo>
                    <a:lnTo>
                      <a:pt x="264" y="4"/>
                    </a:lnTo>
                    <a:lnTo>
                      <a:pt x="257" y="2"/>
                    </a:lnTo>
                    <a:lnTo>
                      <a:pt x="249" y="0"/>
                    </a:lnTo>
                    <a:lnTo>
                      <a:pt x="239" y="0"/>
                    </a:lnTo>
                    <a:lnTo>
                      <a:pt x="218" y="0"/>
                    </a:lnTo>
                    <a:lnTo>
                      <a:pt x="195" y="4"/>
                    </a:lnTo>
                    <a:lnTo>
                      <a:pt x="172" y="9"/>
                    </a:lnTo>
                    <a:lnTo>
                      <a:pt x="147" y="16"/>
                    </a:lnTo>
                    <a:lnTo>
                      <a:pt x="123" y="23"/>
                    </a:lnTo>
                    <a:lnTo>
                      <a:pt x="99" y="32"/>
                    </a:lnTo>
                    <a:lnTo>
                      <a:pt x="77" y="42"/>
                    </a:lnTo>
                    <a:lnTo>
                      <a:pt x="56" y="54"/>
                    </a:lnTo>
                    <a:lnTo>
                      <a:pt x="39" y="66"/>
                    </a:lnTo>
                    <a:lnTo>
                      <a:pt x="22" y="77"/>
                    </a:lnTo>
                    <a:lnTo>
                      <a:pt x="16" y="84"/>
                    </a:lnTo>
                    <a:lnTo>
                      <a:pt x="10" y="90"/>
                    </a:lnTo>
                    <a:lnTo>
                      <a:pt x="6" y="97"/>
                    </a:lnTo>
                    <a:lnTo>
                      <a:pt x="2" y="103"/>
                    </a:lnTo>
                    <a:lnTo>
                      <a:pt x="1" y="110"/>
                    </a:lnTo>
                    <a:lnTo>
                      <a:pt x="0" y="116"/>
                    </a:lnTo>
                    <a:lnTo>
                      <a:pt x="0" y="122"/>
                    </a:lnTo>
                    <a:lnTo>
                      <a:pt x="1" y="129"/>
                    </a:lnTo>
                    <a:lnTo>
                      <a:pt x="5" y="135"/>
                    </a:lnTo>
                    <a:lnTo>
                      <a:pt x="9" y="141"/>
                    </a:lnTo>
                    <a:lnTo>
                      <a:pt x="15" y="146"/>
                    </a:lnTo>
                    <a:lnTo>
                      <a:pt x="23" y="152"/>
                    </a:lnTo>
                    <a:close/>
                  </a:path>
                </a:pathLst>
              </a:custGeom>
              <a:solidFill>
                <a:srgbClr val="93d5ed"/>
              </a:solidFill>
              <a:ln w="9360">
                <a:solidFill>
                  <a:srgbClr val="ccecff"/>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Times New Roman"/>
                </a:endParaRPr>
              </a:p>
            </p:txBody>
          </p:sp>
          <p:sp>
            <p:nvSpPr>
              <p:cNvPr id="388" name="Freeform 1495"/>
              <p:cNvSpPr/>
              <p:nvPr/>
            </p:nvSpPr>
            <p:spPr>
              <a:xfrm>
                <a:off x="3075480" y="5324400"/>
                <a:ext cx="45720" cy="26280"/>
              </a:xfrm>
              <a:custGeom>
                <a:avLst/>
                <a:gdLst>
                  <a:gd name="textAreaLeft" fmla="*/ 0 w 45720"/>
                  <a:gd name="textAreaRight" fmla="*/ 46080 w 45720"/>
                  <a:gd name="textAreaTop" fmla="*/ 0 h 26280"/>
                  <a:gd name="textAreaBottom" fmla="*/ 26640 h 26280"/>
                </a:gdLst>
                <a:ahLst/>
                <a:rect l="textAreaLeft" t="textAreaTop" r="textAreaRight" b="textAreaBottom"/>
                <a:pathLst>
                  <a:path w="257" h="173">
                    <a:moveTo>
                      <a:pt x="163" y="0"/>
                    </a:moveTo>
                    <a:lnTo>
                      <a:pt x="131" y="64"/>
                    </a:lnTo>
                    <a:lnTo>
                      <a:pt x="70" y="64"/>
                    </a:lnTo>
                    <a:lnTo>
                      <a:pt x="54" y="77"/>
                    </a:lnTo>
                    <a:lnTo>
                      <a:pt x="39" y="91"/>
                    </a:lnTo>
                    <a:lnTo>
                      <a:pt x="26" y="103"/>
                    </a:lnTo>
                    <a:lnTo>
                      <a:pt x="15" y="114"/>
                    </a:lnTo>
                    <a:lnTo>
                      <a:pt x="8" y="125"/>
                    </a:lnTo>
                    <a:lnTo>
                      <a:pt x="3" y="134"/>
                    </a:lnTo>
                    <a:lnTo>
                      <a:pt x="1" y="139"/>
                    </a:lnTo>
                    <a:lnTo>
                      <a:pt x="0" y="142"/>
                    </a:lnTo>
                    <a:lnTo>
                      <a:pt x="0" y="147"/>
                    </a:lnTo>
                    <a:lnTo>
                      <a:pt x="1" y="151"/>
                    </a:lnTo>
                    <a:lnTo>
                      <a:pt x="3" y="154"/>
                    </a:lnTo>
                    <a:lnTo>
                      <a:pt x="5" y="158"/>
                    </a:lnTo>
                    <a:lnTo>
                      <a:pt x="8" y="160"/>
                    </a:lnTo>
                    <a:lnTo>
                      <a:pt x="12" y="162"/>
                    </a:lnTo>
                    <a:lnTo>
                      <a:pt x="22" y="167"/>
                    </a:lnTo>
                    <a:lnTo>
                      <a:pt x="36" y="170"/>
                    </a:lnTo>
                    <a:lnTo>
                      <a:pt x="54" y="173"/>
                    </a:lnTo>
                    <a:lnTo>
                      <a:pt x="75" y="173"/>
                    </a:lnTo>
                    <a:lnTo>
                      <a:pt x="101" y="173"/>
                    </a:lnTo>
                    <a:lnTo>
                      <a:pt x="131" y="170"/>
                    </a:lnTo>
                    <a:lnTo>
                      <a:pt x="146" y="168"/>
                    </a:lnTo>
                    <a:lnTo>
                      <a:pt x="160" y="166"/>
                    </a:lnTo>
                    <a:lnTo>
                      <a:pt x="174" y="162"/>
                    </a:lnTo>
                    <a:lnTo>
                      <a:pt x="186" y="159"/>
                    </a:lnTo>
                    <a:lnTo>
                      <a:pt x="198" y="154"/>
                    </a:lnTo>
                    <a:lnTo>
                      <a:pt x="207" y="148"/>
                    </a:lnTo>
                    <a:lnTo>
                      <a:pt x="216" y="142"/>
                    </a:lnTo>
                    <a:lnTo>
                      <a:pt x="224" y="135"/>
                    </a:lnTo>
                    <a:lnTo>
                      <a:pt x="233" y="128"/>
                    </a:lnTo>
                    <a:lnTo>
                      <a:pt x="239" y="121"/>
                    </a:lnTo>
                    <a:lnTo>
                      <a:pt x="243" y="114"/>
                    </a:lnTo>
                    <a:lnTo>
                      <a:pt x="248" y="106"/>
                    </a:lnTo>
                    <a:lnTo>
                      <a:pt x="251" y="99"/>
                    </a:lnTo>
                    <a:lnTo>
                      <a:pt x="254" y="91"/>
                    </a:lnTo>
                    <a:lnTo>
                      <a:pt x="256" y="83"/>
                    </a:lnTo>
                    <a:lnTo>
                      <a:pt x="257" y="75"/>
                    </a:lnTo>
                    <a:lnTo>
                      <a:pt x="257" y="66"/>
                    </a:lnTo>
                    <a:lnTo>
                      <a:pt x="256" y="59"/>
                    </a:lnTo>
                    <a:lnTo>
                      <a:pt x="254" y="51"/>
                    </a:lnTo>
                    <a:lnTo>
                      <a:pt x="251" y="44"/>
                    </a:lnTo>
                    <a:lnTo>
                      <a:pt x="248" y="37"/>
                    </a:lnTo>
                    <a:lnTo>
                      <a:pt x="244" y="30"/>
                    </a:lnTo>
                    <a:lnTo>
                      <a:pt x="240" y="24"/>
                    </a:lnTo>
                    <a:lnTo>
                      <a:pt x="234" y="19"/>
                    </a:lnTo>
                    <a:lnTo>
                      <a:pt x="227" y="14"/>
                    </a:lnTo>
                    <a:lnTo>
                      <a:pt x="220" y="9"/>
                    </a:lnTo>
                    <a:lnTo>
                      <a:pt x="212" y="6"/>
                    </a:lnTo>
                    <a:lnTo>
                      <a:pt x="203" y="3"/>
                    </a:lnTo>
                    <a:lnTo>
                      <a:pt x="194" y="1"/>
                    </a:lnTo>
                    <a:lnTo>
                      <a:pt x="185" y="0"/>
                    </a:lnTo>
                    <a:lnTo>
                      <a:pt x="174" y="0"/>
                    </a:lnTo>
                    <a:lnTo>
                      <a:pt x="163" y="0"/>
                    </a:lnTo>
                    <a:close/>
                  </a:path>
                </a:pathLst>
              </a:custGeom>
              <a:solidFill>
                <a:srgbClr val="93d5ed"/>
              </a:solidFill>
              <a:ln w="9360">
                <a:solidFill>
                  <a:srgbClr val="ccecff"/>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Times New Roman"/>
                </a:endParaRPr>
              </a:p>
            </p:txBody>
          </p:sp>
          <p:sp>
            <p:nvSpPr>
              <p:cNvPr id="389" name="Freeform 1496"/>
              <p:cNvSpPr/>
              <p:nvPr/>
            </p:nvSpPr>
            <p:spPr>
              <a:xfrm>
                <a:off x="3075480" y="5324400"/>
                <a:ext cx="45720" cy="26280"/>
              </a:xfrm>
              <a:custGeom>
                <a:avLst/>
                <a:gdLst>
                  <a:gd name="textAreaLeft" fmla="*/ 0 w 45720"/>
                  <a:gd name="textAreaRight" fmla="*/ 46080 w 45720"/>
                  <a:gd name="textAreaTop" fmla="*/ 0 h 26280"/>
                  <a:gd name="textAreaBottom" fmla="*/ 26640 h 26280"/>
                </a:gdLst>
                <a:ahLst/>
                <a:rect l="textAreaLeft" t="textAreaTop" r="textAreaRight" b="textAreaBottom"/>
                <a:pathLst>
                  <a:path w="257" h="173">
                    <a:moveTo>
                      <a:pt x="163" y="0"/>
                    </a:moveTo>
                    <a:lnTo>
                      <a:pt x="131" y="64"/>
                    </a:lnTo>
                    <a:lnTo>
                      <a:pt x="70" y="64"/>
                    </a:lnTo>
                    <a:lnTo>
                      <a:pt x="54" y="77"/>
                    </a:lnTo>
                    <a:lnTo>
                      <a:pt x="39" y="91"/>
                    </a:lnTo>
                    <a:lnTo>
                      <a:pt x="26" y="103"/>
                    </a:lnTo>
                    <a:lnTo>
                      <a:pt x="15" y="114"/>
                    </a:lnTo>
                    <a:lnTo>
                      <a:pt x="8" y="125"/>
                    </a:lnTo>
                    <a:lnTo>
                      <a:pt x="3" y="134"/>
                    </a:lnTo>
                    <a:lnTo>
                      <a:pt x="1" y="139"/>
                    </a:lnTo>
                    <a:lnTo>
                      <a:pt x="0" y="142"/>
                    </a:lnTo>
                    <a:lnTo>
                      <a:pt x="0" y="147"/>
                    </a:lnTo>
                    <a:lnTo>
                      <a:pt x="1" y="151"/>
                    </a:lnTo>
                    <a:lnTo>
                      <a:pt x="3" y="154"/>
                    </a:lnTo>
                    <a:lnTo>
                      <a:pt x="5" y="158"/>
                    </a:lnTo>
                    <a:lnTo>
                      <a:pt x="8" y="160"/>
                    </a:lnTo>
                    <a:lnTo>
                      <a:pt x="12" y="162"/>
                    </a:lnTo>
                    <a:lnTo>
                      <a:pt x="22" y="167"/>
                    </a:lnTo>
                    <a:lnTo>
                      <a:pt x="36" y="170"/>
                    </a:lnTo>
                    <a:lnTo>
                      <a:pt x="54" y="173"/>
                    </a:lnTo>
                    <a:lnTo>
                      <a:pt x="75" y="173"/>
                    </a:lnTo>
                    <a:lnTo>
                      <a:pt x="101" y="173"/>
                    </a:lnTo>
                    <a:lnTo>
                      <a:pt x="131" y="170"/>
                    </a:lnTo>
                    <a:lnTo>
                      <a:pt x="146" y="168"/>
                    </a:lnTo>
                    <a:lnTo>
                      <a:pt x="160" y="166"/>
                    </a:lnTo>
                    <a:lnTo>
                      <a:pt x="174" y="162"/>
                    </a:lnTo>
                    <a:lnTo>
                      <a:pt x="186" y="159"/>
                    </a:lnTo>
                    <a:lnTo>
                      <a:pt x="198" y="154"/>
                    </a:lnTo>
                    <a:lnTo>
                      <a:pt x="207" y="148"/>
                    </a:lnTo>
                    <a:lnTo>
                      <a:pt x="216" y="142"/>
                    </a:lnTo>
                    <a:lnTo>
                      <a:pt x="224" y="135"/>
                    </a:lnTo>
                    <a:lnTo>
                      <a:pt x="233" y="128"/>
                    </a:lnTo>
                    <a:lnTo>
                      <a:pt x="239" y="121"/>
                    </a:lnTo>
                    <a:lnTo>
                      <a:pt x="243" y="114"/>
                    </a:lnTo>
                    <a:lnTo>
                      <a:pt x="248" y="106"/>
                    </a:lnTo>
                    <a:lnTo>
                      <a:pt x="251" y="99"/>
                    </a:lnTo>
                    <a:lnTo>
                      <a:pt x="254" y="91"/>
                    </a:lnTo>
                    <a:lnTo>
                      <a:pt x="256" y="83"/>
                    </a:lnTo>
                    <a:lnTo>
                      <a:pt x="257" y="75"/>
                    </a:lnTo>
                    <a:lnTo>
                      <a:pt x="257" y="66"/>
                    </a:lnTo>
                    <a:lnTo>
                      <a:pt x="256" y="59"/>
                    </a:lnTo>
                    <a:lnTo>
                      <a:pt x="254" y="51"/>
                    </a:lnTo>
                    <a:lnTo>
                      <a:pt x="251" y="44"/>
                    </a:lnTo>
                    <a:lnTo>
                      <a:pt x="248" y="37"/>
                    </a:lnTo>
                    <a:lnTo>
                      <a:pt x="244" y="30"/>
                    </a:lnTo>
                    <a:lnTo>
                      <a:pt x="240" y="24"/>
                    </a:lnTo>
                    <a:lnTo>
                      <a:pt x="234" y="19"/>
                    </a:lnTo>
                    <a:lnTo>
                      <a:pt x="227" y="14"/>
                    </a:lnTo>
                    <a:lnTo>
                      <a:pt x="220" y="9"/>
                    </a:lnTo>
                    <a:lnTo>
                      <a:pt x="212" y="6"/>
                    </a:lnTo>
                    <a:lnTo>
                      <a:pt x="203" y="3"/>
                    </a:lnTo>
                    <a:lnTo>
                      <a:pt x="194" y="1"/>
                    </a:lnTo>
                    <a:lnTo>
                      <a:pt x="185" y="0"/>
                    </a:lnTo>
                    <a:lnTo>
                      <a:pt x="174" y="0"/>
                    </a:lnTo>
                    <a:lnTo>
                      <a:pt x="163" y="0"/>
                    </a:lnTo>
                  </a:path>
                </a:pathLst>
              </a:custGeom>
              <a:solidFill>
                <a:srgbClr val="93d5ed"/>
              </a:solidFill>
              <a:ln w="9360">
                <a:solidFill>
                  <a:srgbClr val="ccecff"/>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Times New Roman"/>
                </a:endParaRPr>
              </a:p>
            </p:txBody>
          </p:sp>
          <p:sp>
            <p:nvSpPr>
              <p:cNvPr id="390" name="Freeform 1497"/>
              <p:cNvSpPr/>
              <p:nvPr/>
            </p:nvSpPr>
            <p:spPr>
              <a:xfrm>
                <a:off x="2988000" y="5306400"/>
                <a:ext cx="51120" cy="18720"/>
              </a:xfrm>
              <a:custGeom>
                <a:avLst/>
                <a:gdLst>
                  <a:gd name="textAreaLeft" fmla="*/ 0 w 51120"/>
                  <a:gd name="textAreaRight" fmla="*/ 51480 w 51120"/>
                  <a:gd name="textAreaTop" fmla="*/ 0 h 18720"/>
                  <a:gd name="textAreaBottom" fmla="*/ 19080 h 18720"/>
                </a:gdLst>
                <a:ahLst/>
                <a:rect l="textAreaLeft" t="textAreaTop" r="textAreaRight" b="textAreaBottom"/>
                <a:pathLst>
                  <a:path w="285" h="123">
                    <a:moveTo>
                      <a:pt x="106" y="28"/>
                    </a:moveTo>
                    <a:lnTo>
                      <a:pt x="86" y="36"/>
                    </a:lnTo>
                    <a:lnTo>
                      <a:pt x="68" y="44"/>
                    </a:lnTo>
                    <a:lnTo>
                      <a:pt x="52" y="53"/>
                    </a:lnTo>
                    <a:lnTo>
                      <a:pt x="38" y="62"/>
                    </a:lnTo>
                    <a:lnTo>
                      <a:pt x="25" y="71"/>
                    </a:lnTo>
                    <a:lnTo>
                      <a:pt x="16" y="79"/>
                    </a:lnTo>
                    <a:lnTo>
                      <a:pt x="7" y="87"/>
                    </a:lnTo>
                    <a:lnTo>
                      <a:pt x="3" y="94"/>
                    </a:lnTo>
                    <a:lnTo>
                      <a:pt x="2" y="99"/>
                    </a:lnTo>
                    <a:lnTo>
                      <a:pt x="0" y="101"/>
                    </a:lnTo>
                    <a:lnTo>
                      <a:pt x="0" y="105"/>
                    </a:lnTo>
                    <a:lnTo>
                      <a:pt x="2" y="108"/>
                    </a:lnTo>
                    <a:lnTo>
                      <a:pt x="3" y="111"/>
                    </a:lnTo>
                    <a:lnTo>
                      <a:pt x="5" y="113"/>
                    </a:lnTo>
                    <a:lnTo>
                      <a:pt x="7" y="115"/>
                    </a:lnTo>
                    <a:lnTo>
                      <a:pt x="12" y="118"/>
                    </a:lnTo>
                    <a:lnTo>
                      <a:pt x="21" y="120"/>
                    </a:lnTo>
                    <a:lnTo>
                      <a:pt x="35" y="121"/>
                    </a:lnTo>
                    <a:lnTo>
                      <a:pt x="53" y="121"/>
                    </a:lnTo>
                    <a:lnTo>
                      <a:pt x="74" y="119"/>
                    </a:lnTo>
                    <a:lnTo>
                      <a:pt x="96" y="118"/>
                    </a:lnTo>
                    <a:lnTo>
                      <a:pt x="116" y="115"/>
                    </a:lnTo>
                    <a:lnTo>
                      <a:pt x="135" y="115"/>
                    </a:lnTo>
                    <a:lnTo>
                      <a:pt x="151" y="115"/>
                    </a:lnTo>
                    <a:lnTo>
                      <a:pt x="179" y="116"/>
                    </a:lnTo>
                    <a:lnTo>
                      <a:pt x="203" y="119"/>
                    </a:lnTo>
                    <a:lnTo>
                      <a:pt x="221" y="122"/>
                    </a:lnTo>
                    <a:lnTo>
                      <a:pt x="236" y="123"/>
                    </a:lnTo>
                    <a:lnTo>
                      <a:pt x="243" y="123"/>
                    </a:lnTo>
                    <a:lnTo>
                      <a:pt x="249" y="122"/>
                    </a:lnTo>
                    <a:lnTo>
                      <a:pt x="255" y="121"/>
                    </a:lnTo>
                    <a:lnTo>
                      <a:pt x="262" y="119"/>
                    </a:lnTo>
                    <a:lnTo>
                      <a:pt x="267" y="115"/>
                    </a:lnTo>
                    <a:lnTo>
                      <a:pt x="273" y="107"/>
                    </a:lnTo>
                    <a:lnTo>
                      <a:pt x="277" y="98"/>
                    </a:lnTo>
                    <a:lnTo>
                      <a:pt x="282" y="86"/>
                    </a:lnTo>
                    <a:lnTo>
                      <a:pt x="284" y="73"/>
                    </a:lnTo>
                    <a:lnTo>
                      <a:pt x="285" y="59"/>
                    </a:lnTo>
                    <a:lnTo>
                      <a:pt x="285" y="52"/>
                    </a:lnTo>
                    <a:lnTo>
                      <a:pt x="284" y="46"/>
                    </a:lnTo>
                    <a:lnTo>
                      <a:pt x="283" y="39"/>
                    </a:lnTo>
                    <a:lnTo>
                      <a:pt x="281" y="34"/>
                    </a:lnTo>
                    <a:lnTo>
                      <a:pt x="278" y="28"/>
                    </a:lnTo>
                    <a:lnTo>
                      <a:pt x="274" y="22"/>
                    </a:lnTo>
                    <a:lnTo>
                      <a:pt x="269" y="17"/>
                    </a:lnTo>
                    <a:lnTo>
                      <a:pt x="264" y="13"/>
                    </a:lnTo>
                    <a:lnTo>
                      <a:pt x="257" y="8"/>
                    </a:lnTo>
                    <a:lnTo>
                      <a:pt x="250" y="4"/>
                    </a:lnTo>
                    <a:lnTo>
                      <a:pt x="241" y="2"/>
                    </a:lnTo>
                    <a:lnTo>
                      <a:pt x="232" y="1"/>
                    </a:lnTo>
                    <a:lnTo>
                      <a:pt x="220" y="0"/>
                    </a:lnTo>
                    <a:lnTo>
                      <a:pt x="208" y="0"/>
                    </a:lnTo>
                    <a:lnTo>
                      <a:pt x="194" y="2"/>
                    </a:lnTo>
                    <a:lnTo>
                      <a:pt x="180" y="4"/>
                    </a:lnTo>
                    <a:lnTo>
                      <a:pt x="164" y="8"/>
                    </a:lnTo>
                    <a:lnTo>
                      <a:pt x="146" y="13"/>
                    </a:lnTo>
                    <a:lnTo>
                      <a:pt x="127" y="20"/>
                    </a:lnTo>
                    <a:lnTo>
                      <a:pt x="106" y="28"/>
                    </a:lnTo>
                    <a:close/>
                  </a:path>
                </a:pathLst>
              </a:custGeom>
              <a:solidFill>
                <a:srgbClr val="93d5ed"/>
              </a:solidFill>
              <a:ln w="9360">
                <a:solidFill>
                  <a:srgbClr val="ccecff"/>
                </a:solidFill>
                <a:round/>
              </a:ln>
            </p:spPr>
            <p:style>
              <a:lnRef idx="0"/>
              <a:fillRef idx="0"/>
              <a:effectRef idx="0"/>
              <a:fontRef idx="minor"/>
            </p:style>
            <p:txBody>
              <a:bodyPr lIns="90000" rIns="90000" tIns="-27720" bIns="-27720" anchor="t">
                <a:noAutofit/>
              </a:bodyPr>
              <a:p>
                <a:endParaRPr b="1" lang="en-US" sz="2400" spc="-1" strike="noStrike">
                  <a:solidFill>
                    <a:srgbClr val="ffffff"/>
                  </a:solidFill>
                  <a:latin typeface="Times New Roman"/>
                </a:endParaRPr>
              </a:p>
            </p:txBody>
          </p:sp>
          <p:sp>
            <p:nvSpPr>
              <p:cNvPr id="391" name="Freeform 1498"/>
              <p:cNvSpPr/>
              <p:nvPr/>
            </p:nvSpPr>
            <p:spPr>
              <a:xfrm>
                <a:off x="2988000" y="5306400"/>
                <a:ext cx="51120" cy="18720"/>
              </a:xfrm>
              <a:custGeom>
                <a:avLst/>
                <a:gdLst>
                  <a:gd name="textAreaLeft" fmla="*/ 0 w 51120"/>
                  <a:gd name="textAreaRight" fmla="*/ 51480 w 51120"/>
                  <a:gd name="textAreaTop" fmla="*/ 0 h 18720"/>
                  <a:gd name="textAreaBottom" fmla="*/ 19080 h 18720"/>
                </a:gdLst>
                <a:ahLst/>
                <a:rect l="textAreaLeft" t="textAreaTop" r="textAreaRight" b="textAreaBottom"/>
                <a:pathLst>
                  <a:path w="285" h="123">
                    <a:moveTo>
                      <a:pt x="106" y="28"/>
                    </a:moveTo>
                    <a:lnTo>
                      <a:pt x="86" y="36"/>
                    </a:lnTo>
                    <a:lnTo>
                      <a:pt x="68" y="44"/>
                    </a:lnTo>
                    <a:lnTo>
                      <a:pt x="52" y="53"/>
                    </a:lnTo>
                    <a:lnTo>
                      <a:pt x="38" y="62"/>
                    </a:lnTo>
                    <a:lnTo>
                      <a:pt x="25" y="71"/>
                    </a:lnTo>
                    <a:lnTo>
                      <a:pt x="16" y="79"/>
                    </a:lnTo>
                    <a:lnTo>
                      <a:pt x="7" y="87"/>
                    </a:lnTo>
                    <a:lnTo>
                      <a:pt x="3" y="94"/>
                    </a:lnTo>
                    <a:lnTo>
                      <a:pt x="2" y="99"/>
                    </a:lnTo>
                    <a:lnTo>
                      <a:pt x="0" y="101"/>
                    </a:lnTo>
                    <a:lnTo>
                      <a:pt x="0" y="105"/>
                    </a:lnTo>
                    <a:lnTo>
                      <a:pt x="2" y="108"/>
                    </a:lnTo>
                    <a:lnTo>
                      <a:pt x="3" y="111"/>
                    </a:lnTo>
                    <a:lnTo>
                      <a:pt x="5" y="113"/>
                    </a:lnTo>
                    <a:lnTo>
                      <a:pt x="7" y="115"/>
                    </a:lnTo>
                    <a:lnTo>
                      <a:pt x="12" y="118"/>
                    </a:lnTo>
                    <a:lnTo>
                      <a:pt x="21" y="120"/>
                    </a:lnTo>
                    <a:lnTo>
                      <a:pt x="35" y="121"/>
                    </a:lnTo>
                    <a:lnTo>
                      <a:pt x="53" y="121"/>
                    </a:lnTo>
                    <a:lnTo>
                      <a:pt x="74" y="119"/>
                    </a:lnTo>
                    <a:lnTo>
                      <a:pt x="96" y="118"/>
                    </a:lnTo>
                    <a:lnTo>
                      <a:pt x="116" y="115"/>
                    </a:lnTo>
                    <a:lnTo>
                      <a:pt x="135" y="115"/>
                    </a:lnTo>
                    <a:lnTo>
                      <a:pt x="151" y="115"/>
                    </a:lnTo>
                    <a:lnTo>
                      <a:pt x="179" y="116"/>
                    </a:lnTo>
                    <a:lnTo>
                      <a:pt x="203" y="119"/>
                    </a:lnTo>
                    <a:lnTo>
                      <a:pt x="221" y="122"/>
                    </a:lnTo>
                    <a:lnTo>
                      <a:pt x="236" y="123"/>
                    </a:lnTo>
                    <a:lnTo>
                      <a:pt x="243" y="123"/>
                    </a:lnTo>
                    <a:lnTo>
                      <a:pt x="249" y="122"/>
                    </a:lnTo>
                    <a:lnTo>
                      <a:pt x="255" y="121"/>
                    </a:lnTo>
                    <a:lnTo>
                      <a:pt x="262" y="119"/>
                    </a:lnTo>
                    <a:lnTo>
                      <a:pt x="267" y="115"/>
                    </a:lnTo>
                    <a:lnTo>
                      <a:pt x="273" y="107"/>
                    </a:lnTo>
                    <a:lnTo>
                      <a:pt x="277" y="98"/>
                    </a:lnTo>
                    <a:lnTo>
                      <a:pt x="282" y="86"/>
                    </a:lnTo>
                    <a:lnTo>
                      <a:pt x="284" y="73"/>
                    </a:lnTo>
                    <a:lnTo>
                      <a:pt x="285" y="59"/>
                    </a:lnTo>
                    <a:lnTo>
                      <a:pt x="285" y="52"/>
                    </a:lnTo>
                    <a:lnTo>
                      <a:pt x="284" y="46"/>
                    </a:lnTo>
                    <a:lnTo>
                      <a:pt x="283" y="39"/>
                    </a:lnTo>
                    <a:lnTo>
                      <a:pt x="281" y="34"/>
                    </a:lnTo>
                    <a:lnTo>
                      <a:pt x="278" y="28"/>
                    </a:lnTo>
                    <a:lnTo>
                      <a:pt x="274" y="22"/>
                    </a:lnTo>
                    <a:lnTo>
                      <a:pt x="269" y="17"/>
                    </a:lnTo>
                    <a:lnTo>
                      <a:pt x="264" y="13"/>
                    </a:lnTo>
                    <a:lnTo>
                      <a:pt x="257" y="8"/>
                    </a:lnTo>
                    <a:lnTo>
                      <a:pt x="250" y="4"/>
                    </a:lnTo>
                    <a:lnTo>
                      <a:pt x="241" y="2"/>
                    </a:lnTo>
                    <a:lnTo>
                      <a:pt x="232" y="1"/>
                    </a:lnTo>
                    <a:lnTo>
                      <a:pt x="220" y="0"/>
                    </a:lnTo>
                    <a:lnTo>
                      <a:pt x="208" y="0"/>
                    </a:lnTo>
                    <a:lnTo>
                      <a:pt x="194" y="2"/>
                    </a:lnTo>
                    <a:lnTo>
                      <a:pt x="180" y="4"/>
                    </a:lnTo>
                    <a:lnTo>
                      <a:pt x="164" y="8"/>
                    </a:lnTo>
                    <a:lnTo>
                      <a:pt x="146" y="13"/>
                    </a:lnTo>
                    <a:lnTo>
                      <a:pt x="127" y="20"/>
                    </a:lnTo>
                    <a:lnTo>
                      <a:pt x="106" y="28"/>
                    </a:lnTo>
                    <a:close/>
                  </a:path>
                </a:pathLst>
              </a:custGeom>
              <a:solidFill>
                <a:srgbClr val="93d5ed"/>
              </a:solidFill>
              <a:ln w="9360">
                <a:solidFill>
                  <a:srgbClr val="ccecff"/>
                </a:solidFill>
                <a:round/>
              </a:ln>
            </p:spPr>
            <p:style>
              <a:lnRef idx="0"/>
              <a:fillRef idx="0"/>
              <a:effectRef idx="0"/>
              <a:fontRef idx="minor"/>
            </p:style>
            <p:txBody>
              <a:bodyPr lIns="90000" rIns="90000" tIns="-27720" bIns="-27720" anchor="t">
                <a:noAutofit/>
              </a:bodyPr>
              <a:p>
                <a:endParaRPr b="1" lang="en-US" sz="2400" spc="-1" strike="noStrike">
                  <a:solidFill>
                    <a:srgbClr val="ffffff"/>
                  </a:solidFill>
                  <a:latin typeface="Times New Roman"/>
                </a:endParaRPr>
              </a:p>
            </p:txBody>
          </p:sp>
          <p:sp>
            <p:nvSpPr>
              <p:cNvPr id="392" name="Freeform 1499"/>
              <p:cNvSpPr/>
              <p:nvPr/>
            </p:nvSpPr>
            <p:spPr>
              <a:xfrm>
                <a:off x="2939040" y="5312160"/>
                <a:ext cx="37440" cy="33120"/>
              </a:xfrm>
              <a:custGeom>
                <a:avLst/>
                <a:gdLst>
                  <a:gd name="textAreaLeft" fmla="*/ 0 w 37440"/>
                  <a:gd name="textAreaRight" fmla="*/ 37800 w 37440"/>
                  <a:gd name="textAreaTop" fmla="*/ 0 h 33120"/>
                  <a:gd name="textAreaBottom" fmla="*/ 33480 h 33120"/>
                </a:gdLst>
                <a:ahLst/>
                <a:rect l="textAreaLeft" t="textAreaTop" r="textAreaRight" b="textAreaBottom"/>
                <a:pathLst>
                  <a:path w="207" h="221">
                    <a:moveTo>
                      <a:pt x="207" y="50"/>
                    </a:moveTo>
                    <a:lnTo>
                      <a:pt x="97" y="206"/>
                    </a:lnTo>
                    <a:lnTo>
                      <a:pt x="90" y="208"/>
                    </a:lnTo>
                    <a:lnTo>
                      <a:pt x="73" y="214"/>
                    </a:lnTo>
                    <a:lnTo>
                      <a:pt x="61" y="216"/>
                    </a:lnTo>
                    <a:lnTo>
                      <a:pt x="49" y="218"/>
                    </a:lnTo>
                    <a:lnTo>
                      <a:pt x="38" y="221"/>
                    </a:lnTo>
                    <a:lnTo>
                      <a:pt x="26" y="221"/>
                    </a:lnTo>
                    <a:lnTo>
                      <a:pt x="17" y="221"/>
                    </a:lnTo>
                    <a:lnTo>
                      <a:pt x="9" y="218"/>
                    </a:lnTo>
                    <a:lnTo>
                      <a:pt x="5" y="216"/>
                    </a:lnTo>
                    <a:lnTo>
                      <a:pt x="3" y="214"/>
                    </a:lnTo>
                    <a:lnTo>
                      <a:pt x="2" y="210"/>
                    </a:lnTo>
                    <a:lnTo>
                      <a:pt x="0" y="206"/>
                    </a:lnTo>
                    <a:lnTo>
                      <a:pt x="0" y="202"/>
                    </a:lnTo>
                    <a:lnTo>
                      <a:pt x="2" y="196"/>
                    </a:lnTo>
                    <a:lnTo>
                      <a:pt x="5" y="190"/>
                    </a:lnTo>
                    <a:lnTo>
                      <a:pt x="9" y="183"/>
                    </a:lnTo>
                    <a:lnTo>
                      <a:pt x="20" y="166"/>
                    </a:lnTo>
                    <a:lnTo>
                      <a:pt x="37" y="146"/>
                    </a:lnTo>
                    <a:lnTo>
                      <a:pt x="73" y="102"/>
                    </a:lnTo>
                    <a:lnTo>
                      <a:pt x="102" y="63"/>
                    </a:lnTo>
                    <a:lnTo>
                      <a:pt x="115" y="47"/>
                    </a:lnTo>
                    <a:lnTo>
                      <a:pt x="125" y="33"/>
                    </a:lnTo>
                    <a:lnTo>
                      <a:pt x="136" y="21"/>
                    </a:lnTo>
                    <a:lnTo>
                      <a:pt x="145" y="12"/>
                    </a:lnTo>
                    <a:lnTo>
                      <a:pt x="153" y="5"/>
                    </a:lnTo>
                    <a:lnTo>
                      <a:pt x="162" y="1"/>
                    </a:lnTo>
                    <a:lnTo>
                      <a:pt x="165" y="0"/>
                    </a:lnTo>
                    <a:lnTo>
                      <a:pt x="169" y="0"/>
                    </a:lnTo>
                    <a:lnTo>
                      <a:pt x="172" y="1"/>
                    </a:lnTo>
                    <a:lnTo>
                      <a:pt x="176" y="4"/>
                    </a:lnTo>
                    <a:lnTo>
                      <a:pt x="179" y="6"/>
                    </a:lnTo>
                    <a:lnTo>
                      <a:pt x="184" y="9"/>
                    </a:lnTo>
                    <a:lnTo>
                      <a:pt x="187" y="14"/>
                    </a:lnTo>
                    <a:lnTo>
                      <a:pt x="191" y="19"/>
                    </a:lnTo>
                    <a:lnTo>
                      <a:pt x="199" y="33"/>
                    </a:lnTo>
                    <a:lnTo>
                      <a:pt x="207" y="50"/>
                    </a:lnTo>
                    <a:close/>
                  </a:path>
                </a:pathLst>
              </a:custGeom>
              <a:solidFill>
                <a:srgbClr val="93d5ed"/>
              </a:solidFill>
              <a:ln w="9360">
                <a:solidFill>
                  <a:srgbClr val="ccecff"/>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Times New Roman"/>
                </a:endParaRPr>
              </a:p>
            </p:txBody>
          </p:sp>
          <p:sp>
            <p:nvSpPr>
              <p:cNvPr id="393" name="Freeform 1500"/>
              <p:cNvSpPr/>
              <p:nvPr/>
            </p:nvSpPr>
            <p:spPr>
              <a:xfrm>
                <a:off x="2939040" y="5312160"/>
                <a:ext cx="37440" cy="33120"/>
              </a:xfrm>
              <a:custGeom>
                <a:avLst/>
                <a:gdLst>
                  <a:gd name="textAreaLeft" fmla="*/ 0 w 37440"/>
                  <a:gd name="textAreaRight" fmla="*/ 37800 w 37440"/>
                  <a:gd name="textAreaTop" fmla="*/ 0 h 33120"/>
                  <a:gd name="textAreaBottom" fmla="*/ 33480 h 33120"/>
                </a:gdLst>
                <a:ahLst/>
                <a:rect l="textAreaLeft" t="textAreaTop" r="textAreaRight" b="textAreaBottom"/>
                <a:pathLst>
                  <a:path w="207" h="221">
                    <a:moveTo>
                      <a:pt x="207" y="50"/>
                    </a:moveTo>
                    <a:lnTo>
                      <a:pt x="97" y="206"/>
                    </a:lnTo>
                    <a:lnTo>
                      <a:pt x="90" y="208"/>
                    </a:lnTo>
                    <a:lnTo>
                      <a:pt x="73" y="214"/>
                    </a:lnTo>
                    <a:lnTo>
                      <a:pt x="61" y="216"/>
                    </a:lnTo>
                    <a:lnTo>
                      <a:pt x="49" y="218"/>
                    </a:lnTo>
                    <a:lnTo>
                      <a:pt x="38" y="221"/>
                    </a:lnTo>
                    <a:lnTo>
                      <a:pt x="26" y="221"/>
                    </a:lnTo>
                    <a:lnTo>
                      <a:pt x="17" y="221"/>
                    </a:lnTo>
                    <a:lnTo>
                      <a:pt x="9" y="218"/>
                    </a:lnTo>
                    <a:lnTo>
                      <a:pt x="5" y="216"/>
                    </a:lnTo>
                    <a:lnTo>
                      <a:pt x="3" y="214"/>
                    </a:lnTo>
                    <a:lnTo>
                      <a:pt x="2" y="210"/>
                    </a:lnTo>
                    <a:lnTo>
                      <a:pt x="0" y="206"/>
                    </a:lnTo>
                    <a:lnTo>
                      <a:pt x="0" y="202"/>
                    </a:lnTo>
                    <a:lnTo>
                      <a:pt x="2" y="196"/>
                    </a:lnTo>
                    <a:lnTo>
                      <a:pt x="5" y="190"/>
                    </a:lnTo>
                    <a:lnTo>
                      <a:pt x="9" y="183"/>
                    </a:lnTo>
                    <a:lnTo>
                      <a:pt x="20" y="166"/>
                    </a:lnTo>
                    <a:lnTo>
                      <a:pt x="37" y="146"/>
                    </a:lnTo>
                    <a:lnTo>
                      <a:pt x="73" y="102"/>
                    </a:lnTo>
                    <a:lnTo>
                      <a:pt x="102" y="63"/>
                    </a:lnTo>
                    <a:lnTo>
                      <a:pt x="115" y="47"/>
                    </a:lnTo>
                    <a:lnTo>
                      <a:pt x="125" y="33"/>
                    </a:lnTo>
                    <a:lnTo>
                      <a:pt x="136" y="21"/>
                    </a:lnTo>
                    <a:lnTo>
                      <a:pt x="145" y="12"/>
                    </a:lnTo>
                    <a:lnTo>
                      <a:pt x="153" y="5"/>
                    </a:lnTo>
                    <a:lnTo>
                      <a:pt x="162" y="1"/>
                    </a:lnTo>
                    <a:lnTo>
                      <a:pt x="165" y="0"/>
                    </a:lnTo>
                    <a:lnTo>
                      <a:pt x="169" y="0"/>
                    </a:lnTo>
                    <a:lnTo>
                      <a:pt x="172" y="1"/>
                    </a:lnTo>
                    <a:lnTo>
                      <a:pt x="176" y="4"/>
                    </a:lnTo>
                    <a:lnTo>
                      <a:pt x="179" y="6"/>
                    </a:lnTo>
                    <a:lnTo>
                      <a:pt x="184" y="9"/>
                    </a:lnTo>
                    <a:lnTo>
                      <a:pt x="187" y="14"/>
                    </a:lnTo>
                    <a:lnTo>
                      <a:pt x="191" y="19"/>
                    </a:lnTo>
                    <a:lnTo>
                      <a:pt x="199" y="33"/>
                    </a:lnTo>
                    <a:lnTo>
                      <a:pt x="207" y="50"/>
                    </a:lnTo>
                    <a:close/>
                  </a:path>
                </a:pathLst>
              </a:custGeom>
              <a:solidFill>
                <a:srgbClr val="93d5ed"/>
              </a:solidFill>
              <a:ln w="9360">
                <a:solidFill>
                  <a:srgbClr val="ccecff"/>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Times New Roman"/>
                </a:endParaRPr>
              </a:p>
            </p:txBody>
          </p:sp>
        </p:grpSp>
        <p:sp>
          <p:nvSpPr>
            <p:cNvPr id="394" name="Freeform 1501"/>
            <p:cNvSpPr/>
            <p:nvPr/>
          </p:nvSpPr>
          <p:spPr>
            <a:xfrm>
              <a:off x="4814640" y="4612680"/>
              <a:ext cx="260280" cy="63360"/>
            </a:xfrm>
            <a:custGeom>
              <a:avLst/>
              <a:gdLst>
                <a:gd name="textAreaLeft" fmla="*/ 0 w 260280"/>
                <a:gd name="textAreaRight" fmla="*/ 260640 w 260280"/>
                <a:gd name="textAreaTop" fmla="*/ 0 h 63360"/>
                <a:gd name="textAreaBottom" fmla="*/ 63720 h 63360"/>
              </a:gdLst>
              <a:ahLst/>
              <a:rect l="textAreaLeft" t="textAreaTop" r="textAreaRight" b="textAreaBottom"/>
              <a:pathLst>
                <a:path w="1452" h="422">
                  <a:moveTo>
                    <a:pt x="0" y="206"/>
                  </a:moveTo>
                  <a:lnTo>
                    <a:pt x="24" y="230"/>
                  </a:lnTo>
                  <a:lnTo>
                    <a:pt x="50" y="250"/>
                  </a:lnTo>
                  <a:lnTo>
                    <a:pt x="75" y="268"/>
                  </a:lnTo>
                  <a:lnTo>
                    <a:pt x="98" y="282"/>
                  </a:lnTo>
                  <a:lnTo>
                    <a:pt x="122" y="295"/>
                  </a:lnTo>
                  <a:lnTo>
                    <a:pt x="147" y="306"/>
                  </a:lnTo>
                  <a:lnTo>
                    <a:pt x="171" y="315"/>
                  </a:lnTo>
                  <a:lnTo>
                    <a:pt x="195" y="321"/>
                  </a:lnTo>
                  <a:lnTo>
                    <a:pt x="218" y="327"/>
                  </a:lnTo>
                  <a:lnTo>
                    <a:pt x="243" y="330"/>
                  </a:lnTo>
                  <a:lnTo>
                    <a:pt x="266" y="332"/>
                  </a:lnTo>
                  <a:lnTo>
                    <a:pt x="289" y="334"/>
                  </a:lnTo>
                  <a:lnTo>
                    <a:pt x="336" y="332"/>
                  </a:lnTo>
                  <a:lnTo>
                    <a:pt x="383" y="330"/>
                  </a:lnTo>
                  <a:lnTo>
                    <a:pt x="411" y="329"/>
                  </a:lnTo>
                  <a:lnTo>
                    <a:pt x="438" y="329"/>
                  </a:lnTo>
                  <a:lnTo>
                    <a:pt x="464" y="330"/>
                  </a:lnTo>
                  <a:lnTo>
                    <a:pt x="489" y="331"/>
                  </a:lnTo>
                  <a:lnTo>
                    <a:pt x="514" y="334"/>
                  </a:lnTo>
                  <a:lnTo>
                    <a:pt x="537" y="336"/>
                  </a:lnTo>
                  <a:lnTo>
                    <a:pt x="559" y="341"/>
                  </a:lnTo>
                  <a:lnTo>
                    <a:pt x="581" y="345"/>
                  </a:lnTo>
                  <a:lnTo>
                    <a:pt x="601" y="351"/>
                  </a:lnTo>
                  <a:lnTo>
                    <a:pt x="620" y="357"/>
                  </a:lnTo>
                  <a:lnTo>
                    <a:pt x="638" y="365"/>
                  </a:lnTo>
                  <a:lnTo>
                    <a:pt x="653" y="374"/>
                  </a:lnTo>
                  <a:lnTo>
                    <a:pt x="667" y="384"/>
                  </a:lnTo>
                  <a:lnTo>
                    <a:pt x="678" y="396"/>
                  </a:lnTo>
                  <a:lnTo>
                    <a:pt x="684" y="401"/>
                  </a:lnTo>
                  <a:lnTo>
                    <a:pt x="689" y="408"/>
                  </a:lnTo>
                  <a:lnTo>
                    <a:pt x="694" y="415"/>
                  </a:lnTo>
                  <a:lnTo>
                    <a:pt x="697" y="422"/>
                  </a:lnTo>
                  <a:lnTo>
                    <a:pt x="708" y="405"/>
                  </a:lnTo>
                  <a:lnTo>
                    <a:pt x="718" y="390"/>
                  </a:lnTo>
                  <a:lnTo>
                    <a:pt x="730" y="374"/>
                  </a:lnTo>
                  <a:lnTo>
                    <a:pt x="744" y="360"/>
                  </a:lnTo>
                  <a:lnTo>
                    <a:pt x="758" y="348"/>
                  </a:lnTo>
                  <a:lnTo>
                    <a:pt x="774" y="337"/>
                  </a:lnTo>
                  <a:lnTo>
                    <a:pt x="782" y="332"/>
                  </a:lnTo>
                  <a:lnTo>
                    <a:pt x="791" y="328"/>
                  </a:lnTo>
                  <a:lnTo>
                    <a:pt x="800" y="324"/>
                  </a:lnTo>
                  <a:lnTo>
                    <a:pt x="809" y="322"/>
                  </a:lnTo>
                  <a:lnTo>
                    <a:pt x="871" y="304"/>
                  </a:lnTo>
                  <a:lnTo>
                    <a:pt x="939" y="287"/>
                  </a:lnTo>
                  <a:lnTo>
                    <a:pt x="1014" y="271"/>
                  </a:lnTo>
                  <a:lnTo>
                    <a:pt x="1093" y="254"/>
                  </a:lnTo>
                  <a:lnTo>
                    <a:pt x="1177" y="239"/>
                  </a:lnTo>
                  <a:lnTo>
                    <a:pt x="1265" y="223"/>
                  </a:lnTo>
                  <a:lnTo>
                    <a:pt x="1357" y="207"/>
                  </a:lnTo>
                  <a:lnTo>
                    <a:pt x="1452" y="192"/>
                  </a:lnTo>
                  <a:lnTo>
                    <a:pt x="1439" y="177"/>
                  </a:lnTo>
                  <a:lnTo>
                    <a:pt x="1407" y="146"/>
                  </a:lnTo>
                  <a:lnTo>
                    <a:pt x="1387" y="129"/>
                  </a:lnTo>
                  <a:lnTo>
                    <a:pt x="1366" y="114"/>
                  </a:lnTo>
                  <a:lnTo>
                    <a:pt x="1356" y="108"/>
                  </a:lnTo>
                  <a:lnTo>
                    <a:pt x="1347" y="103"/>
                  </a:lnTo>
                  <a:lnTo>
                    <a:pt x="1337" y="101"/>
                  </a:lnTo>
                  <a:lnTo>
                    <a:pt x="1328" y="100"/>
                  </a:lnTo>
                  <a:lnTo>
                    <a:pt x="1308" y="101"/>
                  </a:lnTo>
                  <a:lnTo>
                    <a:pt x="1284" y="106"/>
                  </a:lnTo>
                  <a:lnTo>
                    <a:pt x="1255" y="111"/>
                  </a:lnTo>
                  <a:lnTo>
                    <a:pt x="1227" y="115"/>
                  </a:lnTo>
                  <a:lnTo>
                    <a:pt x="1212" y="116"/>
                  </a:lnTo>
                  <a:lnTo>
                    <a:pt x="1198" y="115"/>
                  </a:lnTo>
                  <a:lnTo>
                    <a:pt x="1184" y="114"/>
                  </a:lnTo>
                  <a:lnTo>
                    <a:pt x="1170" y="112"/>
                  </a:lnTo>
                  <a:lnTo>
                    <a:pt x="1159" y="107"/>
                  </a:lnTo>
                  <a:lnTo>
                    <a:pt x="1146" y="101"/>
                  </a:lnTo>
                  <a:lnTo>
                    <a:pt x="1141" y="98"/>
                  </a:lnTo>
                  <a:lnTo>
                    <a:pt x="1135" y="93"/>
                  </a:lnTo>
                  <a:lnTo>
                    <a:pt x="1131" y="88"/>
                  </a:lnTo>
                  <a:lnTo>
                    <a:pt x="1126" y="82"/>
                  </a:lnTo>
                  <a:lnTo>
                    <a:pt x="1121" y="77"/>
                  </a:lnTo>
                  <a:lnTo>
                    <a:pt x="1116" y="73"/>
                  </a:lnTo>
                  <a:lnTo>
                    <a:pt x="1111" y="68"/>
                  </a:lnTo>
                  <a:lnTo>
                    <a:pt x="1104" y="66"/>
                  </a:lnTo>
                  <a:lnTo>
                    <a:pt x="1097" y="64"/>
                  </a:lnTo>
                  <a:lnTo>
                    <a:pt x="1090" y="61"/>
                  </a:lnTo>
                  <a:lnTo>
                    <a:pt x="1081" y="60"/>
                  </a:lnTo>
                  <a:lnTo>
                    <a:pt x="1073" y="59"/>
                  </a:lnTo>
                  <a:lnTo>
                    <a:pt x="1056" y="59"/>
                  </a:lnTo>
                  <a:lnTo>
                    <a:pt x="1037" y="61"/>
                  </a:lnTo>
                  <a:lnTo>
                    <a:pt x="1020" y="64"/>
                  </a:lnTo>
                  <a:lnTo>
                    <a:pt x="1001" y="68"/>
                  </a:lnTo>
                  <a:lnTo>
                    <a:pt x="967" y="78"/>
                  </a:lnTo>
                  <a:lnTo>
                    <a:pt x="938" y="88"/>
                  </a:lnTo>
                  <a:lnTo>
                    <a:pt x="918" y="96"/>
                  </a:lnTo>
                  <a:lnTo>
                    <a:pt x="910" y="100"/>
                  </a:lnTo>
                  <a:lnTo>
                    <a:pt x="910" y="106"/>
                  </a:lnTo>
                  <a:lnTo>
                    <a:pt x="907" y="121"/>
                  </a:lnTo>
                  <a:lnTo>
                    <a:pt x="905" y="130"/>
                  </a:lnTo>
                  <a:lnTo>
                    <a:pt x="902" y="141"/>
                  </a:lnTo>
                  <a:lnTo>
                    <a:pt x="897" y="153"/>
                  </a:lnTo>
                  <a:lnTo>
                    <a:pt x="891" y="163"/>
                  </a:lnTo>
                  <a:lnTo>
                    <a:pt x="883" y="174"/>
                  </a:lnTo>
                  <a:lnTo>
                    <a:pt x="872" y="183"/>
                  </a:lnTo>
                  <a:lnTo>
                    <a:pt x="867" y="188"/>
                  </a:lnTo>
                  <a:lnTo>
                    <a:pt x="860" y="191"/>
                  </a:lnTo>
                  <a:lnTo>
                    <a:pt x="852" y="195"/>
                  </a:lnTo>
                  <a:lnTo>
                    <a:pt x="844" y="197"/>
                  </a:lnTo>
                  <a:lnTo>
                    <a:pt x="836" y="199"/>
                  </a:lnTo>
                  <a:lnTo>
                    <a:pt x="827" y="200"/>
                  </a:lnTo>
                  <a:lnTo>
                    <a:pt x="816" y="202"/>
                  </a:lnTo>
                  <a:lnTo>
                    <a:pt x="806" y="202"/>
                  </a:lnTo>
                  <a:lnTo>
                    <a:pt x="794" y="200"/>
                  </a:lnTo>
                  <a:lnTo>
                    <a:pt x="782" y="198"/>
                  </a:lnTo>
                  <a:lnTo>
                    <a:pt x="768" y="196"/>
                  </a:lnTo>
                  <a:lnTo>
                    <a:pt x="754" y="192"/>
                  </a:lnTo>
                  <a:lnTo>
                    <a:pt x="742" y="184"/>
                  </a:lnTo>
                  <a:lnTo>
                    <a:pt x="728" y="177"/>
                  </a:lnTo>
                  <a:lnTo>
                    <a:pt x="715" y="172"/>
                  </a:lnTo>
                  <a:lnTo>
                    <a:pt x="699" y="168"/>
                  </a:lnTo>
                  <a:lnTo>
                    <a:pt x="685" y="164"/>
                  </a:lnTo>
                  <a:lnTo>
                    <a:pt x="671" y="162"/>
                  </a:lnTo>
                  <a:lnTo>
                    <a:pt x="657" y="161"/>
                  </a:lnTo>
                  <a:lnTo>
                    <a:pt x="643" y="160"/>
                  </a:lnTo>
                  <a:lnTo>
                    <a:pt x="589" y="161"/>
                  </a:lnTo>
                  <a:lnTo>
                    <a:pt x="542" y="164"/>
                  </a:lnTo>
                  <a:lnTo>
                    <a:pt x="531" y="164"/>
                  </a:lnTo>
                  <a:lnTo>
                    <a:pt x="522" y="164"/>
                  </a:lnTo>
                  <a:lnTo>
                    <a:pt x="514" y="163"/>
                  </a:lnTo>
                  <a:lnTo>
                    <a:pt x="507" y="162"/>
                  </a:lnTo>
                  <a:lnTo>
                    <a:pt x="500" y="160"/>
                  </a:lnTo>
                  <a:lnTo>
                    <a:pt x="495" y="156"/>
                  </a:lnTo>
                  <a:lnTo>
                    <a:pt x="492" y="153"/>
                  </a:lnTo>
                  <a:lnTo>
                    <a:pt x="488" y="148"/>
                  </a:lnTo>
                  <a:lnTo>
                    <a:pt x="487" y="141"/>
                  </a:lnTo>
                  <a:lnTo>
                    <a:pt x="488" y="134"/>
                  </a:lnTo>
                  <a:lnTo>
                    <a:pt x="489" y="125"/>
                  </a:lnTo>
                  <a:lnTo>
                    <a:pt x="493" y="114"/>
                  </a:lnTo>
                  <a:lnTo>
                    <a:pt x="499" y="101"/>
                  </a:lnTo>
                  <a:lnTo>
                    <a:pt x="504" y="87"/>
                  </a:lnTo>
                  <a:lnTo>
                    <a:pt x="514" y="72"/>
                  </a:lnTo>
                  <a:lnTo>
                    <a:pt x="524" y="53"/>
                  </a:lnTo>
                  <a:lnTo>
                    <a:pt x="523" y="50"/>
                  </a:lnTo>
                  <a:lnTo>
                    <a:pt x="518" y="42"/>
                  </a:lnTo>
                  <a:lnTo>
                    <a:pt x="511" y="31"/>
                  </a:lnTo>
                  <a:lnTo>
                    <a:pt x="501" y="18"/>
                  </a:lnTo>
                  <a:lnTo>
                    <a:pt x="494" y="14"/>
                  </a:lnTo>
                  <a:lnTo>
                    <a:pt x="487" y="8"/>
                  </a:lnTo>
                  <a:lnTo>
                    <a:pt x="480" y="4"/>
                  </a:lnTo>
                  <a:lnTo>
                    <a:pt x="471" y="2"/>
                  </a:lnTo>
                  <a:lnTo>
                    <a:pt x="461" y="0"/>
                  </a:lnTo>
                  <a:lnTo>
                    <a:pt x="452" y="1"/>
                  </a:lnTo>
                  <a:lnTo>
                    <a:pt x="441" y="3"/>
                  </a:lnTo>
                  <a:lnTo>
                    <a:pt x="430" y="8"/>
                  </a:lnTo>
                  <a:lnTo>
                    <a:pt x="417" y="15"/>
                  </a:lnTo>
                  <a:lnTo>
                    <a:pt x="400" y="24"/>
                  </a:lnTo>
                  <a:lnTo>
                    <a:pt x="383" y="36"/>
                  </a:lnTo>
                  <a:lnTo>
                    <a:pt x="363" y="50"/>
                  </a:lnTo>
                  <a:lnTo>
                    <a:pt x="315" y="82"/>
                  </a:lnTo>
                  <a:lnTo>
                    <a:pt x="261" y="116"/>
                  </a:lnTo>
                  <a:lnTo>
                    <a:pt x="232" y="134"/>
                  </a:lnTo>
                  <a:lnTo>
                    <a:pt x="201" y="150"/>
                  </a:lnTo>
                  <a:lnTo>
                    <a:pt x="169" y="164"/>
                  </a:lnTo>
                  <a:lnTo>
                    <a:pt x="136" y="178"/>
                  </a:lnTo>
                  <a:lnTo>
                    <a:pt x="120" y="184"/>
                  </a:lnTo>
                  <a:lnTo>
                    <a:pt x="103" y="189"/>
                  </a:lnTo>
                  <a:lnTo>
                    <a:pt x="86" y="195"/>
                  </a:lnTo>
                  <a:lnTo>
                    <a:pt x="69" y="198"/>
                  </a:lnTo>
                  <a:lnTo>
                    <a:pt x="52" y="202"/>
                  </a:lnTo>
                  <a:lnTo>
                    <a:pt x="35" y="204"/>
                  </a:lnTo>
                  <a:lnTo>
                    <a:pt x="17" y="205"/>
                  </a:lnTo>
                  <a:lnTo>
                    <a:pt x="0" y="206"/>
                  </a:lnTo>
                  <a:close/>
                </a:path>
              </a:pathLst>
            </a:custGeom>
            <a:solidFill>
              <a:srgbClr val="93d5ed"/>
            </a:solidFill>
            <a:ln w="9360">
              <a:solidFill>
                <a:srgbClr val="ccecff"/>
              </a:solidFill>
              <a:round/>
            </a:ln>
          </p:spPr>
          <p:style>
            <a:lnRef idx="0"/>
            <a:fillRef idx="0"/>
            <a:effectRef idx="0"/>
            <a:fontRef idx="minor"/>
          </p:style>
          <p:txBody>
            <a:bodyPr lIns="90000" rIns="90000" tIns="16920" bIns="16920" anchor="t">
              <a:noAutofit/>
            </a:bodyPr>
            <a:p>
              <a:endParaRPr b="1" lang="en-US" sz="2400" spc="-1" strike="noStrike">
                <a:solidFill>
                  <a:srgbClr val="ffffff"/>
                </a:solidFill>
                <a:latin typeface="Times New Roman"/>
              </a:endParaRPr>
            </a:p>
          </p:txBody>
        </p:sp>
        <p:sp>
          <p:nvSpPr>
            <p:cNvPr id="395" name="Freeform 1502"/>
            <p:cNvSpPr/>
            <p:nvPr/>
          </p:nvSpPr>
          <p:spPr>
            <a:xfrm>
              <a:off x="3332880" y="4636080"/>
              <a:ext cx="426960" cy="149040"/>
            </a:xfrm>
            <a:custGeom>
              <a:avLst/>
              <a:gdLst>
                <a:gd name="textAreaLeft" fmla="*/ 0 w 426960"/>
                <a:gd name="textAreaRight" fmla="*/ 427320 w 426960"/>
                <a:gd name="textAreaTop" fmla="*/ 0 h 149040"/>
                <a:gd name="textAreaBottom" fmla="*/ 149400 h 149040"/>
              </a:gdLst>
              <a:ahLst/>
              <a:rect l="textAreaLeft" t="textAreaTop" r="textAreaRight" b="textAreaBottom"/>
              <a:pathLst>
                <a:path w="2375" h="987">
                  <a:moveTo>
                    <a:pt x="916" y="921"/>
                  </a:moveTo>
                  <a:lnTo>
                    <a:pt x="0" y="826"/>
                  </a:lnTo>
                  <a:lnTo>
                    <a:pt x="16" y="801"/>
                  </a:lnTo>
                  <a:lnTo>
                    <a:pt x="31" y="778"/>
                  </a:lnTo>
                  <a:lnTo>
                    <a:pt x="45" y="756"/>
                  </a:lnTo>
                  <a:lnTo>
                    <a:pt x="61" y="737"/>
                  </a:lnTo>
                  <a:lnTo>
                    <a:pt x="75" y="718"/>
                  </a:lnTo>
                  <a:lnTo>
                    <a:pt x="89" y="702"/>
                  </a:lnTo>
                  <a:lnTo>
                    <a:pt x="101" y="687"/>
                  </a:lnTo>
                  <a:lnTo>
                    <a:pt x="115" y="674"/>
                  </a:lnTo>
                  <a:lnTo>
                    <a:pt x="128" y="661"/>
                  </a:lnTo>
                  <a:lnTo>
                    <a:pt x="140" y="651"/>
                  </a:lnTo>
                  <a:lnTo>
                    <a:pt x="153" y="640"/>
                  </a:lnTo>
                  <a:lnTo>
                    <a:pt x="165" y="632"/>
                  </a:lnTo>
                  <a:lnTo>
                    <a:pt x="176" y="624"/>
                  </a:lnTo>
                  <a:lnTo>
                    <a:pt x="188" y="617"/>
                  </a:lnTo>
                  <a:lnTo>
                    <a:pt x="200" y="611"/>
                  </a:lnTo>
                  <a:lnTo>
                    <a:pt x="211" y="605"/>
                  </a:lnTo>
                  <a:lnTo>
                    <a:pt x="233" y="597"/>
                  </a:lnTo>
                  <a:lnTo>
                    <a:pt x="256" y="590"/>
                  </a:lnTo>
                  <a:lnTo>
                    <a:pt x="277" y="583"/>
                  </a:lnTo>
                  <a:lnTo>
                    <a:pt x="299" y="578"/>
                  </a:lnTo>
                  <a:lnTo>
                    <a:pt x="320" y="572"/>
                  </a:lnTo>
                  <a:lnTo>
                    <a:pt x="341" y="565"/>
                  </a:lnTo>
                  <a:lnTo>
                    <a:pt x="363" y="557"/>
                  </a:lnTo>
                  <a:lnTo>
                    <a:pt x="385" y="547"/>
                  </a:lnTo>
                  <a:lnTo>
                    <a:pt x="410" y="534"/>
                  </a:lnTo>
                  <a:lnTo>
                    <a:pt x="434" y="517"/>
                  </a:lnTo>
                  <a:lnTo>
                    <a:pt x="461" y="500"/>
                  </a:lnTo>
                  <a:lnTo>
                    <a:pt x="487" y="480"/>
                  </a:lnTo>
                  <a:lnTo>
                    <a:pt x="514" y="458"/>
                  </a:lnTo>
                  <a:lnTo>
                    <a:pt x="541" y="434"/>
                  </a:lnTo>
                  <a:lnTo>
                    <a:pt x="568" y="411"/>
                  </a:lnTo>
                  <a:lnTo>
                    <a:pt x="593" y="388"/>
                  </a:lnTo>
                  <a:lnTo>
                    <a:pt x="642" y="340"/>
                  </a:lnTo>
                  <a:lnTo>
                    <a:pt x="686" y="298"/>
                  </a:lnTo>
                  <a:lnTo>
                    <a:pt x="719" y="263"/>
                  </a:lnTo>
                  <a:lnTo>
                    <a:pt x="743" y="238"/>
                  </a:lnTo>
                  <a:lnTo>
                    <a:pt x="752" y="231"/>
                  </a:lnTo>
                  <a:lnTo>
                    <a:pt x="761" y="225"/>
                  </a:lnTo>
                  <a:lnTo>
                    <a:pt x="771" y="222"/>
                  </a:lnTo>
                  <a:lnTo>
                    <a:pt x="780" y="219"/>
                  </a:lnTo>
                  <a:lnTo>
                    <a:pt x="800" y="216"/>
                  </a:lnTo>
                  <a:lnTo>
                    <a:pt x="821" y="212"/>
                  </a:lnTo>
                  <a:lnTo>
                    <a:pt x="833" y="210"/>
                  </a:lnTo>
                  <a:lnTo>
                    <a:pt x="843" y="205"/>
                  </a:lnTo>
                  <a:lnTo>
                    <a:pt x="855" y="200"/>
                  </a:lnTo>
                  <a:lnTo>
                    <a:pt x="867" y="191"/>
                  </a:lnTo>
                  <a:lnTo>
                    <a:pt x="877" y="181"/>
                  </a:lnTo>
                  <a:lnTo>
                    <a:pt x="889" y="167"/>
                  </a:lnTo>
                  <a:lnTo>
                    <a:pt x="902" y="151"/>
                  </a:lnTo>
                  <a:lnTo>
                    <a:pt x="913" y="130"/>
                  </a:lnTo>
                  <a:lnTo>
                    <a:pt x="924" y="110"/>
                  </a:lnTo>
                  <a:lnTo>
                    <a:pt x="934" y="92"/>
                  </a:lnTo>
                  <a:lnTo>
                    <a:pt x="947" y="75"/>
                  </a:lnTo>
                  <a:lnTo>
                    <a:pt x="960" y="58"/>
                  </a:lnTo>
                  <a:lnTo>
                    <a:pt x="988" y="28"/>
                  </a:lnTo>
                  <a:lnTo>
                    <a:pt x="1016" y="0"/>
                  </a:lnTo>
                  <a:lnTo>
                    <a:pt x="1192" y="37"/>
                  </a:lnTo>
                  <a:lnTo>
                    <a:pt x="1192" y="49"/>
                  </a:lnTo>
                  <a:lnTo>
                    <a:pt x="1194" y="62"/>
                  </a:lnTo>
                  <a:lnTo>
                    <a:pt x="1195" y="72"/>
                  </a:lnTo>
                  <a:lnTo>
                    <a:pt x="1197" y="83"/>
                  </a:lnTo>
                  <a:lnTo>
                    <a:pt x="1199" y="93"/>
                  </a:lnTo>
                  <a:lnTo>
                    <a:pt x="1203" y="103"/>
                  </a:lnTo>
                  <a:lnTo>
                    <a:pt x="1206" y="112"/>
                  </a:lnTo>
                  <a:lnTo>
                    <a:pt x="1210" y="120"/>
                  </a:lnTo>
                  <a:lnTo>
                    <a:pt x="1215" y="127"/>
                  </a:lnTo>
                  <a:lnTo>
                    <a:pt x="1219" y="134"/>
                  </a:lnTo>
                  <a:lnTo>
                    <a:pt x="1224" y="141"/>
                  </a:lnTo>
                  <a:lnTo>
                    <a:pt x="1230" y="147"/>
                  </a:lnTo>
                  <a:lnTo>
                    <a:pt x="1243" y="159"/>
                  </a:lnTo>
                  <a:lnTo>
                    <a:pt x="1256" y="168"/>
                  </a:lnTo>
                  <a:lnTo>
                    <a:pt x="1270" y="176"/>
                  </a:lnTo>
                  <a:lnTo>
                    <a:pt x="1284" y="183"/>
                  </a:lnTo>
                  <a:lnTo>
                    <a:pt x="1300" y="189"/>
                  </a:lnTo>
                  <a:lnTo>
                    <a:pt x="1315" y="194"/>
                  </a:lnTo>
                  <a:lnTo>
                    <a:pt x="1347" y="201"/>
                  </a:lnTo>
                  <a:lnTo>
                    <a:pt x="1377" y="207"/>
                  </a:lnTo>
                  <a:lnTo>
                    <a:pt x="1400" y="209"/>
                  </a:lnTo>
                  <a:lnTo>
                    <a:pt x="1439" y="209"/>
                  </a:lnTo>
                  <a:lnTo>
                    <a:pt x="1492" y="209"/>
                  </a:lnTo>
                  <a:lnTo>
                    <a:pt x="1556" y="208"/>
                  </a:lnTo>
                  <a:lnTo>
                    <a:pt x="1628" y="205"/>
                  </a:lnTo>
                  <a:lnTo>
                    <a:pt x="1708" y="204"/>
                  </a:lnTo>
                  <a:lnTo>
                    <a:pt x="1792" y="203"/>
                  </a:lnTo>
                  <a:lnTo>
                    <a:pt x="1877" y="203"/>
                  </a:lnTo>
                  <a:lnTo>
                    <a:pt x="1962" y="203"/>
                  </a:lnTo>
                  <a:lnTo>
                    <a:pt x="2046" y="205"/>
                  </a:lnTo>
                  <a:lnTo>
                    <a:pt x="2086" y="208"/>
                  </a:lnTo>
                  <a:lnTo>
                    <a:pt x="2125" y="210"/>
                  </a:lnTo>
                  <a:lnTo>
                    <a:pt x="2161" y="212"/>
                  </a:lnTo>
                  <a:lnTo>
                    <a:pt x="2196" y="216"/>
                  </a:lnTo>
                  <a:lnTo>
                    <a:pt x="2227" y="221"/>
                  </a:lnTo>
                  <a:lnTo>
                    <a:pt x="2258" y="225"/>
                  </a:lnTo>
                  <a:lnTo>
                    <a:pt x="2285" y="230"/>
                  </a:lnTo>
                  <a:lnTo>
                    <a:pt x="2308" y="237"/>
                  </a:lnTo>
                  <a:lnTo>
                    <a:pt x="2328" y="244"/>
                  </a:lnTo>
                  <a:lnTo>
                    <a:pt x="2344" y="251"/>
                  </a:lnTo>
                  <a:lnTo>
                    <a:pt x="2357" y="260"/>
                  </a:lnTo>
                  <a:lnTo>
                    <a:pt x="2364" y="270"/>
                  </a:lnTo>
                  <a:lnTo>
                    <a:pt x="2370" y="280"/>
                  </a:lnTo>
                  <a:lnTo>
                    <a:pt x="2373" y="288"/>
                  </a:lnTo>
                  <a:lnTo>
                    <a:pt x="2375" y="298"/>
                  </a:lnTo>
                  <a:lnTo>
                    <a:pt x="2375" y="306"/>
                  </a:lnTo>
                  <a:lnTo>
                    <a:pt x="2373" y="313"/>
                  </a:lnTo>
                  <a:lnTo>
                    <a:pt x="2370" y="320"/>
                  </a:lnTo>
                  <a:lnTo>
                    <a:pt x="2366" y="327"/>
                  </a:lnTo>
                  <a:lnTo>
                    <a:pt x="2361" y="333"/>
                  </a:lnTo>
                  <a:lnTo>
                    <a:pt x="2355" y="339"/>
                  </a:lnTo>
                  <a:lnTo>
                    <a:pt x="2347" y="343"/>
                  </a:lnTo>
                  <a:lnTo>
                    <a:pt x="2338" y="348"/>
                  </a:lnTo>
                  <a:lnTo>
                    <a:pt x="2329" y="353"/>
                  </a:lnTo>
                  <a:lnTo>
                    <a:pt x="2308" y="362"/>
                  </a:lnTo>
                  <a:lnTo>
                    <a:pt x="2285" y="369"/>
                  </a:lnTo>
                  <a:lnTo>
                    <a:pt x="2233" y="382"/>
                  </a:lnTo>
                  <a:lnTo>
                    <a:pt x="2180" y="395"/>
                  </a:lnTo>
                  <a:lnTo>
                    <a:pt x="2153" y="401"/>
                  </a:lnTo>
                  <a:lnTo>
                    <a:pt x="2129" y="408"/>
                  </a:lnTo>
                  <a:lnTo>
                    <a:pt x="2107" y="415"/>
                  </a:lnTo>
                  <a:lnTo>
                    <a:pt x="2088" y="423"/>
                  </a:lnTo>
                  <a:lnTo>
                    <a:pt x="2059" y="438"/>
                  </a:lnTo>
                  <a:lnTo>
                    <a:pt x="2039" y="448"/>
                  </a:lnTo>
                  <a:lnTo>
                    <a:pt x="2034" y="453"/>
                  </a:lnTo>
                  <a:lnTo>
                    <a:pt x="2029" y="457"/>
                  </a:lnTo>
                  <a:lnTo>
                    <a:pt x="2027" y="461"/>
                  </a:lnTo>
                  <a:lnTo>
                    <a:pt x="2025" y="466"/>
                  </a:lnTo>
                  <a:lnTo>
                    <a:pt x="2027" y="471"/>
                  </a:lnTo>
                  <a:lnTo>
                    <a:pt x="2028" y="475"/>
                  </a:lnTo>
                  <a:lnTo>
                    <a:pt x="2031" y="481"/>
                  </a:lnTo>
                  <a:lnTo>
                    <a:pt x="2035" y="489"/>
                  </a:lnTo>
                  <a:lnTo>
                    <a:pt x="2045" y="507"/>
                  </a:lnTo>
                  <a:lnTo>
                    <a:pt x="2057" y="533"/>
                  </a:lnTo>
                  <a:lnTo>
                    <a:pt x="2062" y="547"/>
                  </a:lnTo>
                  <a:lnTo>
                    <a:pt x="2064" y="559"/>
                  </a:lnTo>
                  <a:lnTo>
                    <a:pt x="2065" y="571"/>
                  </a:lnTo>
                  <a:lnTo>
                    <a:pt x="2064" y="583"/>
                  </a:lnTo>
                  <a:lnTo>
                    <a:pt x="2060" y="593"/>
                  </a:lnTo>
                  <a:lnTo>
                    <a:pt x="2056" y="603"/>
                  </a:lnTo>
                  <a:lnTo>
                    <a:pt x="2049" y="612"/>
                  </a:lnTo>
                  <a:lnTo>
                    <a:pt x="2041" y="620"/>
                  </a:lnTo>
                  <a:lnTo>
                    <a:pt x="2031" y="628"/>
                  </a:lnTo>
                  <a:lnTo>
                    <a:pt x="2021" y="636"/>
                  </a:lnTo>
                  <a:lnTo>
                    <a:pt x="2009" y="645"/>
                  </a:lnTo>
                  <a:lnTo>
                    <a:pt x="1995" y="653"/>
                  </a:lnTo>
                  <a:lnTo>
                    <a:pt x="1966" y="668"/>
                  </a:lnTo>
                  <a:lnTo>
                    <a:pt x="1933" y="684"/>
                  </a:lnTo>
                  <a:lnTo>
                    <a:pt x="1916" y="694"/>
                  </a:lnTo>
                  <a:lnTo>
                    <a:pt x="1900" y="702"/>
                  </a:lnTo>
                  <a:lnTo>
                    <a:pt x="1888" y="711"/>
                  </a:lnTo>
                  <a:lnTo>
                    <a:pt x="1875" y="721"/>
                  </a:lnTo>
                  <a:lnTo>
                    <a:pt x="1863" y="729"/>
                  </a:lnTo>
                  <a:lnTo>
                    <a:pt x="1854" y="738"/>
                  </a:lnTo>
                  <a:lnTo>
                    <a:pt x="1845" y="747"/>
                  </a:lnTo>
                  <a:lnTo>
                    <a:pt x="1837" y="757"/>
                  </a:lnTo>
                  <a:lnTo>
                    <a:pt x="1831" y="767"/>
                  </a:lnTo>
                  <a:lnTo>
                    <a:pt x="1827" y="777"/>
                  </a:lnTo>
                  <a:lnTo>
                    <a:pt x="1823" y="787"/>
                  </a:lnTo>
                  <a:lnTo>
                    <a:pt x="1821" y="797"/>
                  </a:lnTo>
                  <a:lnTo>
                    <a:pt x="1820" y="807"/>
                  </a:lnTo>
                  <a:lnTo>
                    <a:pt x="1820" y="819"/>
                  </a:lnTo>
                  <a:lnTo>
                    <a:pt x="1821" y="829"/>
                  </a:lnTo>
                  <a:lnTo>
                    <a:pt x="1823" y="841"/>
                  </a:lnTo>
                  <a:lnTo>
                    <a:pt x="1826" y="851"/>
                  </a:lnTo>
                  <a:lnTo>
                    <a:pt x="1826" y="863"/>
                  </a:lnTo>
                  <a:lnTo>
                    <a:pt x="1823" y="874"/>
                  </a:lnTo>
                  <a:lnTo>
                    <a:pt x="1820" y="884"/>
                  </a:lnTo>
                  <a:lnTo>
                    <a:pt x="1815" y="893"/>
                  </a:lnTo>
                  <a:lnTo>
                    <a:pt x="1808" y="903"/>
                  </a:lnTo>
                  <a:lnTo>
                    <a:pt x="1801" y="912"/>
                  </a:lnTo>
                  <a:lnTo>
                    <a:pt x="1792" y="920"/>
                  </a:lnTo>
                  <a:lnTo>
                    <a:pt x="1772" y="938"/>
                  </a:lnTo>
                  <a:lnTo>
                    <a:pt x="1748" y="954"/>
                  </a:lnTo>
                  <a:lnTo>
                    <a:pt x="1725" y="971"/>
                  </a:lnTo>
                  <a:lnTo>
                    <a:pt x="1702" y="987"/>
                  </a:lnTo>
                  <a:lnTo>
                    <a:pt x="916" y="92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96" name="Freeform 1503"/>
            <p:cNvSpPr/>
            <p:nvPr/>
          </p:nvSpPr>
          <p:spPr>
            <a:xfrm>
              <a:off x="3598200" y="4799520"/>
              <a:ext cx="349560" cy="203400"/>
            </a:xfrm>
            <a:custGeom>
              <a:avLst/>
              <a:gdLst>
                <a:gd name="textAreaLeft" fmla="*/ 0 w 349560"/>
                <a:gd name="textAreaRight" fmla="*/ 349920 w 349560"/>
                <a:gd name="textAreaTop" fmla="*/ 0 h 203400"/>
                <a:gd name="textAreaBottom" fmla="*/ 203760 h 203400"/>
              </a:gdLst>
              <a:ahLst/>
              <a:rect l="textAreaLeft" t="textAreaTop" r="textAreaRight" b="textAreaBottom"/>
              <a:pathLst>
                <a:path w="1947" h="1344">
                  <a:moveTo>
                    <a:pt x="0" y="1293"/>
                  </a:moveTo>
                  <a:lnTo>
                    <a:pt x="1418" y="1344"/>
                  </a:lnTo>
                  <a:lnTo>
                    <a:pt x="1947" y="285"/>
                  </a:lnTo>
                  <a:lnTo>
                    <a:pt x="1509" y="253"/>
                  </a:lnTo>
                  <a:lnTo>
                    <a:pt x="1556" y="65"/>
                  </a:lnTo>
                  <a:lnTo>
                    <a:pt x="880" y="0"/>
                  </a:lnTo>
                  <a:lnTo>
                    <a:pt x="0" y="129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97" name="Freeform 1504"/>
            <p:cNvSpPr/>
            <p:nvPr/>
          </p:nvSpPr>
          <p:spPr>
            <a:xfrm>
              <a:off x="3515400" y="4577760"/>
              <a:ext cx="306360" cy="99000"/>
            </a:xfrm>
            <a:custGeom>
              <a:avLst/>
              <a:gdLst>
                <a:gd name="textAreaLeft" fmla="*/ 0 w 306360"/>
                <a:gd name="textAreaRight" fmla="*/ 306720 w 306360"/>
                <a:gd name="textAreaTop" fmla="*/ 0 h 99000"/>
                <a:gd name="textAreaBottom" fmla="*/ 99360 h 99000"/>
              </a:gdLst>
              <a:ahLst/>
              <a:rect l="textAreaLeft" t="textAreaTop" r="textAreaRight" b="textAreaBottom"/>
              <a:pathLst>
                <a:path w="1706" h="651">
                  <a:moveTo>
                    <a:pt x="1348" y="651"/>
                  </a:moveTo>
                  <a:lnTo>
                    <a:pt x="1341" y="641"/>
                  </a:lnTo>
                  <a:lnTo>
                    <a:pt x="1328" y="632"/>
                  </a:lnTo>
                  <a:lnTo>
                    <a:pt x="1312" y="625"/>
                  </a:lnTo>
                  <a:lnTo>
                    <a:pt x="1292" y="618"/>
                  </a:lnTo>
                  <a:lnTo>
                    <a:pt x="1269" y="611"/>
                  </a:lnTo>
                  <a:lnTo>
                    <a:pt x="1242" y="606"/>
                  </a:lnTo>
                  <a:lnTo>
                    <a:pt x="1211" y="602"/>
                  </a:lnTo>
                  <a:lnTo>
                    <a:pt x="1180" y="597"/>
                  </a:lnTo>
                  <a:lnTo>
                    <a:pt x="1145" y="593"/>
                  </a:lnTo>
                  <a:lnTo>
                    <a:pt x="1109" y="591"/>
                  </a:lnTo>
                  <a:lnTo>
                    <a:pt x="1070" y="589"/>
                  </a:lnTo>
                  <a:lnTo>
                    <a:pt x="1030" y="586"/>
                  </a:lnTo>
                  <a:lnTo>
                    <a:pt x="946" y="584"/>
                  </a:lnTo>
                  <a:lnTo>
                    <a:pt x="861" y="584"/>
                  </a:lnTo>
                  <a:lnTo>
                    <a:pt x="776" y="584"/>
                  </a:lnTo>
                  <a:lnTo>
                    <a:pt x="692" y="585"/>
                  </a:lnTo>
                  <a:lnTo>
                    <a:pt x="612" y="586"/>
                  </a:lnTo>
                  <a:lnTo>
                    <a:pt x="540" y="589"/>
                  </a:lnTo>
                  <a:lnTo>
                    <a:pt x="476" y="590"/>
                  </a:lnTo>
                  <a:lnTo>
                    <a:pt x="423" y="590"/>
                  </a:lnTo>
                  <a:lnTo>
                    <a:pt x="384" y="590"/>
                  </a:lnTo>
                  <a:lnTo>
                    <a:pt x="361" y="588"/>
                  </a:lnTo>
                  <a:lnTo>
                    <a:pt x="331" y="582"/>
                  </a:lnTo>
                  <a:lnTo>
                    <a:pt x="299" y="575"/>
                  </a:lnTo>
                  <a:lnTo>
                    <a:pt x="284" y="570"/>
                  </a:lnTo>
                  <a:lnTo>
                    <a:pt x="268" y="564"/>
                  </a:lnTo>
                  <a:lnTo>
                    <a:pt x="254" y="557"/>
                  </a:lnTo>
                  <a:lnTo>
                    <a:pt x="240" y="549"/>
                  </a:lnTo>
                  <a:lnTo>
                    <a:pt x="227" y="540"/>
                  </a:lnTo>
                  <a:lnTo>
                    <a:pt x="214" y="528"/>
                  </a:lnTo>
                  <a:lnTo>
                    <a:pt x="208" y="522"/>
                  </a:lnTo>
                  <a:lnTo>
                    <a:pt x="203" y="515"/>
                  </a:lnTo>
                  <a:lnTo>
                    <a:pt x="199" y="508"/>
                  </a:lnTo>
                  <a:lnTo>
                    <a:pt x="194" y="501"/>
                  </a:lnTo>
                  <a:lnTo>
                    <a:pt x="190" y="493"/>
                  </a:lnTo>
                  <a:lnTo>
                    <a:pt x="187" y="484"/>
                  </a:lnTo>
                  <a:lnTo>
                    <a:pt x="183" y="474"/>
                  </a:lnTo>
                  <a:lnTo>
                    <a:pt x="181" y="464"/>
                  </a:lnTo>
                  <a:lnTo>
                    <a:pt x="179" y="453"/>
                  </a:lnTo>
                  <a:lnTo>
                    <a:pt x="178" y="443"/>
                  </a:lnTo>
                  <a:lnTo>
                    <a:pt x="176" y="430"/>
                  </a:lnTo>
                  <a:lnTo>
                    <a:pt x="176" y="418"/>
                  </a:lnTo>
                  <a:lnTo>
                    <a:pt x="0" y="381"/>
                  </a:lnTo>
                  <a:lnTo>
                    <a:pt x="19" y="363"/>
                  </a:lnTo>
                  <a:lnTo>
                    <a:pt x="36" y="347"/>
                  </a:lnTo>
                  <a:lnTo>
                    <a:pt x="53" y="329"/>
                  </a:lnTo>
                  <a:lnTo>
                    <a:pt x="69" y="312"/>
                  </a:lnTo>
                  <a:lnTo>
                    <a:pt x="83" y="294"/>
                  </a:lnTo>
                  <a:lnTo>
                    <a:pt x="95" y="276"/>
                  </a:lnTo>
                  <a:lnTo>
                    <a:pt x="101" y="265"/>
                  </a:lnTo>
                  <a:lnTo>
                    <a:pt x="105" y="256"/>
                  </a:lnTo>
                  <a:lnTo>
                    <a:pt x="110" y="244"/>
                  </a:lnTo>
                  <a:lnTo>
                    <a:pt x="113" y="234"/>
                  </a:lnTo>
                  <a:lnTo>
                    <a:pt x="119" y="214"/>
                  </a:lnTo>
                  <a:lnTo>
                    <a:pt x="126" y="194"/>
                  </a:lnTo>
                  <a:lnTo>
                    <a:pt x="133" y="175"/>
                  </a:lnTo>
                  <a:lnTo>
                    <a:pt x="141" y="158"/>
                  </a:lnTo>
                  <a:lnTo>
                    <a:pt x="150" y="141"/>
                  </a:lnTo>
                  <a:lnTo>
                    <a:pt x="159" y="126"/>
                  </a:lnTo>
                  <a:lnTo>
                    <a:pt x="167" y="112"/>
                  </a:lnTo>
                  <a:lnTo>
                    <a:pt x="176" y="99"/>
                  </a:lnTo>
                  <a:lnTo>
                    <a:pt x="186" y="88"/>
                  </a:lnTo>
                  <a:lnTo>
                    <a:pt x="195" y="77"/>
                  </a:lnTo>
                  <a:lnTo>
                    <a:pt x="205" y="68"/>
                  </a:lnTo>
                  <a:lnTo>
                    <a:pt x="215" y="60"/>
                  </a:lnTo>
                  <a:lnTo>
                    <a:pt x="224" y="54"/>
                  </a:lnTo>
                  <a:lnTo>
                    <a:pt x="234" y="50"/>
                  </a:lnTo>
                  <a:lnTo>
                    <a:pt x="242" y="47"/>
                  </a:lnTo>
                  <a:lnTo>
                    <a:pt x="251" y="47"/>
                  </a:lnTo>
                  <a:lnTo>
                    <a:pt x="259" y="47"/>
                  </a:lnTo>
                  <a:lnTo>
                    <a:pt x="269" y="49"/>
                  </a:lnTo>
                  <a:lnTo>
                    <a:pt x="277" y="54"/>
                  </a:lnTo>
                  <a:lnTo>
                    <a:pt x="285" y="59"/>
                  </a:lnTo>
                  <a:lnTo>
                    <a:pt x="293" y="64"/>
                  </a:lnTo>
                  <a:lnTo>
                    <a:pt x="301" y="71"/>
                  </a:lnTo>
                  <a:lnTo>
                    <a:pt x="308" y="78"/>
                  </a:lnTo>
                  <a:lnTo>
                    <a:pt x="315" y="85"/>
                  </a:lnTo>
                  <a:lnTo>
                    <a:pt x="338" y="112"/>
                  </a:lnTo>
                  <a:lnTo>
                    <a:pt x="346" y="124"/>
                  </a:lnTo>
                  <a:lnTo>
                    <a:pt x="356" y="125"/>
                  </a:lnTo>
                  <a:lnTo>
                    <a:pt x="384" y="129"/>
                  </a:lnTo>
                  <a:lnTo>
                    <a:pt x="425" y="132"/>
                  </a:lnTo>
                  <a:lnTo>
                    <a:pt x="473" y="134"/>
                  </a:lnTo>
                  <a:lnTo>
                    <a:pt x="497" y="134"/>
                  </a:lnTo>
                  <a:lnTo>
                    <a:pt x="521" y="134"/>
                  </a:lnTo>
                  <a:lnTo>
                    <a:pt x="544" y="133"/>
                  </a:lnTo>
                  <a:lnTo>
                    <a:pt x="567" y="131"/>
                  </a:lnTo>
                  <a:lnTo>
                    <a:pt x="585" y="129"/>
                  </a:lnTo>
                  <a:lnTo>
                    <a:pt x="602" y="124"/>
                  </a:lnTo>
                  <a:lnTo>
                    <a:pt x="609" y="120"/>
                  </a:lnTo>
                  <a:lnTo>
                    <a:pt x="615" y="117"/>
                  </a:lnTo>
                  <a:lnTo>
                    <a:pt x="619" y="113"/>
                  </a:lnTo>
                  <a:lnTo>
                    <a:pt x="623" y="110"/>
                  </a:lnTo>
                  <a:lnTo>
                    <a:pt x="643" y="80"/>
                  </a:lnTo>
                  <a:lnTo>
                    <a:pt x="658" y="55"/>
                  </a:lnTo>
                  <a:lnTo>
                    <a:pt x="667" y="43"/>
                  </a:lnTo>
                  <a:lnTo>
                    <a:pt x="680" y="30"/>
                  </a:lnTo>
                  <a:lnTo>
                    <a:pt x="695" y="16"/>
                  </a:lnTo>
                  <a:lnTo>
                    <a:pt x="715" y="0"/>
                  </a:lnTo>
                  <a:lnTo>
                    <a:pt x="764" y="5"/>
                  </a:lnTo>
                  <a:lnTo>
                    <a:pt x="815" y="8"/>
                  </a:lnTo>
                  <a:lnTo>
                    <a:pt x="869" y="13"/>
                  </a:lnTo>
                  <a:lnTo>
                    <a:pt x="924" y="16"/>
                  </a:lnTo>
                  <a:lnTo>
                    <a:pt x="981" y="21"/>
                  </a:lnTo>
                  <a:lnTo>
                    <a:pt x="1040" y="25"/>
                  </a:lnTo>
                  <a:lnTo>
                    <a:pt x="1100" y="28"/>
                  </a:lnTo>
                  <a:lnTo>
                    <a:pt x="1161" y="33"/>
                  </a:lnTo>
                  <a:lnTo>
                    <a:pt x="1225" y="36"/>
                  </a:lnTo>
                  <a:lnTo>
                    <a:pt x="1290" y="40"/>
                  </a:lnTo>
                  <a:lnTo>
                    <a:pt x="1356" y="43"/>
                  </a:lnTo>
                  <a:lnTo>
                    <a:pt x="1423" y="46"/>
                  </a:lnTo>
                  <a:lnTo>
                    <a:pt x="1492" y="49"/>
                  </a:lnTo>
                  <a:lnTo>
                    <a:pt x="1562" y="53"/>
                  </a:lnTo>
                  <a:lnTo>
                    <a:pt x="1633" y="55"/>
                  </a:lnTo>
                  <a:lnTo>
                    <a:pt x="1706" y="57"/>
                  </a:lnTo>
                  <a:lnTo>
                    <a:pt x="1688" y="77"/>
                  </a:lnTo>
                  <a:lnTo>
                    <a:pt x="1644" y="131"/>
                  </a:lnTo>
                  <a:lnTo>
                    <a:pt x="1613" y="167"/>
                  </a:lnTo>
                  <a:lnTo>
                    <a:pt x="1581" y="208"/>
                  </a:lnTo>
                  <a:lnTo>
                    <a:pt x="1546" y="254"/>
                  </a:lnTo>
                  <a:lnTo>
                    <a:pt x="1509" y="301"/>
                  </a:lnTo>
                  <a:lnTo>
                    <a:pt x="1474" y="352"/>
                  </a:lnTo>
                  <a:lnTo>
                    <a:pt x="1442" y="402"/>
                  </a:lnTo>
                  <a:lnTo>
                    <a:pt x="1425" y="426"/>
                  </a:lnTo>
                  <a:lnTo>
                    <a:pt x="1411" y="451"/>
                  </a:lnTo>
                  <a:lnTo>
                    <a:pt x="1397" y="476"/>
                  </a:lnTo>
                  <a:lnTo>
                    <a:pt x="1384" y="499"/>
                  </a:lnTo>
                  <a:lnTo>
                    <a:pt x="1374" y="522"/>
                  </a:lnTo>
                  <a:lnTo>
                    <a:pt x="1364" y="544"/>
                  </a:lnTo>
                  <a:lnTo>
                    <a:pt x="1356" y="565"/>
                  </a:lnTo>
                  <a:lnTo>
                    <a:pt x="1350" y="585"/>
                  </a:lnTo>
                  <a:lnTo>
                    <a:pt x="1347" y="604"/>
                  </a:lnTo>
                  <a:lnTo>
                    <a:pt x="1345" y="622"/>
                  </a:lnTo>
                  <a:lnTo>
                    <a:pt x="1346" y="637"/>
                  </a:lnTo>
                  <a:lnTo>
                    <a:pt x="1348" y="65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98" name="Freeform 1505"/>
            <p:cNvSpPr/>
            <p:nvPr/>
          </p:nvSpPr>
          <p:spPr>
            <a:xfrm>
              <a:off x="4525920" y="4577760"/>
              <a:ext cx="321840" cy="169560"/>
            </a:xfrm>
            <a:custGeom>
              <a:avLst/>
              <a:gdLst>
                <a:gd name="textAreaLeft" fmla="*/ 0 w 321840"/>
                <a:gd name="textAreaRight" fmla="*/ 322200 w 321840"/>
                <a:gd name="textAreaTop" fmla="*/ 0 h 169560"/>
                <a:gd name="textAreaBottom" fmla="*/ 169920 h 169560"/>
              </a:gdLst>
              <a:ahLst/>
              <a:rect l="textAreaLeft" t="textAreaTop" r="textAreaRight" b="textAreaBottom"/>
              <a:pathLst>
                <a:path w="1792" h="1120">
                  <a:moveTo>
                    <a:pt x="1038" y="688"/>
                  </a:moveTo>
                  <a:lnTo>
                    <a:pt x="1052" y="695"/>
                  </a:lnTo>
                  <a:lnTo>
                    <a:pt x="1065" y="701"/>
                  </a:lnTo>
                  <a:lnTo>
                    <a:pt x="1076" y="708"/>
                  </a:lnTo>
                  <a:lnTo>
                    <a:pt x="1084" y="715"/>
                  </a:lnTo>
                  <a:lnTo>
                    <a:pt x="1091" y="722"/>
                  </a:lnTo>
                  <a:lnTo>
                    <a:pt x="1095" y="729"/>
                  </a:lnTo>
                  <a:lnTo>
                    <a:pt x="1099" y="737"/>
                  </a:lnTo>
                  <a:lnTo>
                    <a:pt x="1101" y="745"/>
                  </a:lnTo>
                  <a:lnTo>
                    <a:pt x="1106" y="778"/>
                  </a:lnTo>
                  <a:lnTo>
                    <a:pt x="1109" y="812"/>
                  </a:lnTo>
                  <a:lnTo>
                    <a:pt x="1112" y="820"/>
                  </a:lnTo>
                  <a:lnTo>
                    <a:pt x="1114" y="827"/>
                  </a:lnTo>
                  <a:lnTo>
                    <a:pt x="1116" y="833"/>
                  </a:lnTo>
                  <a:lnTo>
                    <a:pt x="1120" y="840"/>
                  </a:lnTo>
                  <a:lnTo>
                    <a:pt x="1129" y="852"/>
                  </a:lnTo>
                  <a:lnTo>
                    <a:pt x="1140" y="863"/>
                  </a:lnTo>
                  <a:lnTo>
                    <a:pt x="1154" y="875"/>
                  </a:lnTo>
                  <a:lnTo>
                    <a:pt x="1169" y="884"/>
                  </a:lnTo>
                  <a:lnTo>
                    <a:pt x="1185" y="894"/>
                  </a:lnTo>
                  <a:lnTo>
                    <a:pt x="1204" y="903"/>
                  </a:lnTo>
                  <a:lnTo>
                    <a:pt x="1223" y="911"/>
                  </a:lnTo>
                  <a:lnTo>
                    <a:pt x="1244" y="919"/>
                  </a:lnTo>
                  <a:lnTo>
                    <a:pt x="1266" y="926"/>
                  </a:lnTo>
                  <a:lnTo>
                    <a:pt x="1289" y="933"/>
                  </a:lnTo>
                  <a:lnTo>
                    <a:pt x="1337" y="947"/>
                  </a:lnTo>
                  <a:lnTo>
                    <a:pt x="1386" y="959"/>
                  </a:lnTo>
                  <a:lnTo>
                    <a:pt x="1398" y="963"/>
                  </a:lnTo>
                  <a:lnTo>
                    <a:pt x="1410" y="966"/>
                  </a:lnTo>
                  <a:lnTo>
                    <a:pt x="1420" y="971"/>
                  </a:lnTo>
                  <a:lnTo>
                    <a:pt x="1431" y="974"/>
                  </a:lnTo>
                  <a:lnTo>
                    <a:pt x="1448" y="985"/>
                  </a:lnTo>
                  <a:lnTo>
                    <a:pt x="1463" y="995"/>
                  </a:lnTo>
                  <a:lnTo>
                    <a:pt x="1477" y="1007"/>
                  </a:lnTo>
                  <a:lnTo>
                    <a:pt x="1488" y="1020"/>
                  </a:lnTo>
                  <a:lnTo>
                    <a:pt x="1497" y="1033"/>
                  </a:lnTo>
                  <a:lnTo>
                    <a:pt x="1505" y="1044"/>
                  </a:lnTo>
                  <a:lnTo>
                    <a:pt x="1511" y="1057"/>
                  </a:lnTo>
                  <a:lnTo>
                    <a:pt x="1516" y="1068"/>
                  </a:lnTo>
                  <a:lnTo>
                    <a:pt x="1519" y="1078"/>
                  </a:lnTo>
                  <a:lnTo>
                    <a:pt x="1522" y="1088"/>
                  </a:lnTo>
                  <a:lnTo>
                    <a:pt x="1524" y="1102"/>
                  </a:lnTo>
                  <a:lnTo>
                    <a:pt x="1524" y="1106"/>
                  </a:lnTo>
                  <a:lnTo>
                    <a:pt x="150" y="1120"/>
                  </a:lnTo>
                  <a:lnTo>
                    <a:pt x="176" y="680"/>
                  </a:lnTo>
                  <a:lnTo>
                    <a:pt x="176" y="674"/>
                  </a:lnTo>
                  <a:lnTo>
                    <a:pt x="174" y="659"/>
                  </a:lnTo>
                  <a:lnTo>
                    <a:pt x="170" y="637"/>
                  </a:lnTo>
                  <a:lnTo>
                    <a:pt x="167" y="610"/>
                  </a:lnTo>
                  <a:lnTo>
                    <a:pt x="162" y="581"/>
                  </a:lnTo>
                  <a:lnTo>
                    <a:pt x="159" y="551"/>
                  </a:lnTo>
                  <a:lnTo>
                    <a:pt x="154" y="525"/>
                  </a:lnTo>
                  <a:lnTo>
                    <a:pt x="150" y="505"/>
                  </a:lnTo>
                  <a:lnTo>
                    <a:pt x="148" y="495"/>
                  </a:lnTo>
                  <a:lnTo>
                    <a:pt x="145" y="485"/>
                  </a:lnTo>
                  <a:lnTo>
                    <a:pt x="140" y="474"/>
                  </a:lnTo>
                  <a:lnTo>
                    <a:pt x="134" y="464"/>
                  </a:lnTo>
                  <a:lnTo>
                    <a:pt x="119" y="442"/>
                  </a:lnTo>
                  <a:lnTo>
                    <a:pt x="101" y="417"/>
                  </a:lnTo>
                  <a:lnTo>
                    <a:pt x="82" y="391"/>
                  </a:lnTo>
                  <a:lnTo>
                    <a:pt x="61" y="365"/>
                  </a:lnTo>
                  <a:lnTo>
                    <a:pt x="39" y="338"/>
                  </a:lnTo>
                  <a:lnTo>
                    <a:pt x="18" y="308"/>
                  </a:lnTo>
                  <a:lnTo>
                    <a:pt x="9" y="294"/>
                  </a:lnTo>
                  <a:lnTo>
                    <a:pt x="3" y="283"/>
                  </a:lnTo>
                  <a:lnTo>
                    <a:pt x="1" y="271"/>
                  </a:lnTo>
                  <a:lnTo>
                    <a:pt x="0" y="261"/>
                  </a:lnTo>
                  <a:lnTo>
                    <a:pt x="1" y="250"/>
                  </a:lnTo>
                  <a:lnTo>
                    <a:pt x="3" y="240"/>
                  </a:lnTo>
                  <a:lnTo>
                    <a:pt x="7" y="229"/>
                  </a:lnTo>
                  <a:lnTo>
                    <a:pt x="10" y="220"/>
                  </a:lnTo>
                  <a:lnTo>
                    <a:pt x="15" y="208"/>
                  </a:lnTo>
                  <a:lnTo>
                    <a:pt x="20" y="198"/>
                  </a:lnTo>
                  <a:lnTo>
                    <a:pt x="24" y="185"/>
                  </a:lnTo>
                  <a:lnTo>
                    <a:pt x="28" y="172"/>
                  </a:lnTo>
                  <a:lnTo>
                    <a:pt x="30" y="157"/>
                  </a:lnTo>
                  <a:lnTo>
                    <a:pt x="31" y="141"/>
                  </a:lnTo>
                  <a:lnTo>
                    <a:pt x="30" y="124"/>
                  </a:lnTo>
                  <a:lnTo>
                    <a:pt x="27" y="104"/>
                  </a:lnTo>
                  <a:lnTo>
                    <a:pt x="90" y="103"/>
                  </a:lnTo>
                  <a:lnTo>
                    <a:pt x="147" y="102"/>
                  </a:lnTo>
                  <a:lnTo>
                    <a:pt x="200" y="101"/>
                  </a:lnTo>
                  <a:lnTo>
                    <a:pt x="245" y="99"/>
                  </a:lnTo>
                  <a:lnTo>
                    <a:pt x="285" y="98"/>
                  </a:lnTo>
                  <a:lnTo>
                    <a:pt x="319" y="96"/>
                  </a:lnTo>
                  <a:lnTo>
                    <a:pt x="346" y="95"/>
                  </a:lnTo>
                  <a:lnTo>
                    <a:pt x="367" y="92"/>
                  </a:lnTo>
                  <a:lnTo>
                    <a:pt x="375" y="80"/>
                  </a:lnTo>
                  <a:lnTo>
                    <a:pt x="384" y="68"/>
                  </a:lnTo>
                  <a:lnTo>
                    <a:pt x="392" y="57"/>
                  </a:lnTo>
                  <a:lnTo>
                    <a:pt x="400" y="49"/>
                  </a:lnTo>
                  <a:lnTo>
                    <a:pt x="409" y="42"/>
                  </a:lnTo>
                  <a:lnTo>
                    <a:pt x="416" y="36"/>
                  </a:lnTo>
                  <a:lnTo>
                    <a:pt x="424" y="30"/>
                  </a:lnTo>
                  <a:lnTo>
                    <a:pt x="430" y="27"/>
                  </a:lnTo>
                  <a:lnTo>
                    <a:pt x="441" y="21"/>
                  </a:lnTo>
                  <a:lnTo>
                    <a:pt x="451" y="19"/>
                  </a:lnTo>
                  <a:lnTo>
                    <a:pt x="456" y="18"/>
                  </a:lnTo>
                  <a:lnTo>
                    <a:pt x="459" y="18"/>
                  </a:lnTo>
                  <a:lnTo>
                    <a:pt x="583" y="0"/>
                  </a:lnTo>
                  <a:lnTo>
                    <a:pt x="706" y="124"/>
                  </a:lnTo>
                  <a:lnTo>
                    <a:pt x="757" y="120"/>
                  </a:lnTo>
                  <a:lnTo>
                    <a:pt x="803" y="118"/>
                  </a:lnTo>
                  <a:lnTo>
                    <a:pt x="845" y="118"/>
                  </a:lnTo>
                  <a:lnTo>
                    <a:pt x="882" y="119"/>
                  </a:lnTo>
                  <a:lnTo>
                    <a:pt x="912" y="120"/>
                  </a:lnTo>
                  <a:lnTo>
                    <a:pt x="935" y="122"/>
                  </a:lnTo>
                  <a:lnTo>
                    <a:pt x="949" y="124"/>
                  </a:lnTo>
                  <a:lnTo>
                    <a:pt x="954" y="124"/>
                  </a:lnTo>
                  <a:lnTo>
                    <a:pt x="1046" y="124"/>
                  </a:lnTo>
                  <a:lnTo>
                    <a:pt x="1109" y="187"/>
                  </a:lnTo>
                  <a:lnTo>
                    <a:pt x="1134" y="179"/>
                  </a:lnTo>
                  <a:lnTo>
                    <a:pt x="1157" y="173"/>
                  </a:lnTo>
                  <a:lnTo>
                    <a:pt x="1178" y="167"/>
                  </a:lnTo>
                  <a:lnTo>
                    <a:pt x="1197" y="164"/>
                  </a:lnTo>
                  <a:lnTo>
                    <a:pt x="1213" y="161"/>
                  </a:lnTo>
                  <a:lnTo>
                    <a:pt x="1229" y="160"/>
                  </a:lnTo>
                  <a:lnTo>
                    <a:pt x="1243" y="160"/>
                  </a:lnTo>
                  <a:lnTo>
                    <a:pt x="1253" y="160"/>
                  </a:lnTo>
                  <a:lnTo>
                    <a:pt x="1272" y="162"/>
                  </a:lnTo>
                  <a:lnTo>
                    <a:pt x="1285" y="166"/>
                  </a:lnTo>
                  <a:lnTo>
                    <a:pt x="1292" y="169"/>
                  </a:lnTo>
                  <a:lnTo>
                    <a:pt x="1294" y="171"/>
                  </a:lnTo>
                  <a:lnTo>
                    <a:pt x="1296" y="167"/>
                  </a:lnTo>
                  <a:lnTo>
                    <a:pt x="1302" y="159"/>
                  </a:lnTo>
                  <a:lnTo>
                    <a:pt x="1312" y="148"/>
                  </a:lnTo>
                  <a:lnTo>
                    <a:pt x="1323" y="139"/>
                  </a:lnTo>
                  <a:lnTo>
                    <a:pt x="1329" y="136"/>
                  </a:lnTo>
                  <a:lnTo>
                    <a:pt x="1337" y="132"/>
                  </a:lnTo>
                  <a:lnTo>
                    <a:pt x="1344" y="131"/>
                  </a:lnTo>
                  <a:lnTo>
                    <a:pt x="1352" y="131"/>
                  </a:lnTo>
                  <a:lnTo>
                    <a:pt x="1361" y="133"/>
                  </a:lnTo>
                  <a:lnTo>
                    <a:pt x="1369" y="138"/>
                  </a:lnTo>
                  <a:lnTo>
                    <a:pt x="1378" y="145"/>
                  </a:lnTo>
                  <a:lnTo>
                    <a:pt x="1386" y="155"/>
                  </a:lnTo>
                  <a:lnTo>
                    <a:pt x="1391" y="161"/>
                  </a:lnTo>
                  <a:lnTo>
                    <a:pt x="1397" y="166"/>
                  </a:lnTo>
                  <a:lnTo>
                    <a:pt x="1403" y="169"/>
                  </a:lnTo>
                  <a:lnTo>
                    <a:pt x="1410" y="173"/>
                  </a:lnTo>
                  <a:lnTo>
                    <a:pt x="1418" y="175"/>
                  </a:lnTo>
                  <a:lnTo>
                    <a:pt x="1426" y="176"/>
                  </a:lnTo>
                  <a:lnTo>
                    <a:pt x="1434" y="178"/>
                  </a:lnTo>
                  <a:lnTo>
                    <a:pt x="1445" y="179"/>
                  </a:lnTo>
                  <a:lnTo>
                    <a:pt x="1465" y="179"/>
                  </a:lnTo>
                  <a:lnTo>
                    <a:pt x="1488" y="178"/>
                  </a:lnTo>
                  <a:lnTo>
                    <a:pt x="1511" y="175"/>
                  </a:lnTo>
                  <a:lnTo>
                    <a:pt x="1537" y="172"/>
                  </a:lnTo>
                  <a:lnTo>
                    <a:pt x="1592" y="164"/>
                  </a:lnTo>
                  <a:lnTo>
                    <a:pt x="1648" y="157"/>
                  </a:lnTo>
                  <a:lnTo>
                    <a:pt x="1676" y="154"/>
                  </a:lnTo>
                  <a:lnTo>
                    <a:pt x="1704" y="153"/>
                  </a:lnTo>
                  <a:lnTo>
                    <a:pt x="1731" y="153"/>
                  </a:lnTo>
                  <a:lnTo>
                    <a:pt x="1758" y="155"/>
                  </a:lnTo>
                  <a:lnTo>
                    <a:pt x="1769" y="158"/>
                  </a:lnTo>
                  <a:lnTo>
                    <a:pt x="1779" y="159"/>
                  </a:lnTo>
                  <a:lnTo>
                    <a:pt x="1785" y="161"/>
                  </a:lnTo>
                  <a:lnTo>
                    <a:pt x="1789" y="164"/>
                  </a:lnTo>
                  <a:lnTo>
                    <a:pt x="1792" y="167"/>
                  </a:lnTo>
                  <a:lnTo>
                    <a:pt x="1792" y="169"/>
                  </a:lnTo>
                  <a:lnTo>
                    <a:pt x="1789" y="173"/>
                  </a:lnTo>
                  <a:lnTo>
                    <a:pt x="1785" y="176"/>
                  </a:lnTo>
                  <a:lnTo>
                    <a:pt x="1772" y="185"/>
                  </a:lnTo>
                  <a:lnTo>
                    <a:pt x="1753" y="193"/>
                  </a:lnTo>
                  <a:lnTo>
                    <a:pt x="1730" y="202"/>
                  </a:lnTo>
                  <a:lnTo>
                    <a:pt x="1703" y="212"/>
                  </a:lnTo>
                  <a:lnTo>
                    <a:pt x="1640" y="230"/>
                  </a:lnTo>
                  <a:lnTo>
                    <a:pt x="1574" y="249"/>
                  </a:lnTo>
                  <a:lnTo>
                    <a:pt x="1512" y="265"/>
                  </a:lnTo>
                  <a:lnTo>
                    <a:pt x="1463" y="279"/>
                  </a:lnTo>
                  <a:lnTo>
                    <a:pt x="1445" y="285"/>
                  </a:lnTo>
                  <a:lnTo>
                    <a:pt x="1426" y="292"/>
                  </a:lnTo>
                  <a:lnTo>
                    <a:pt x="1409" y="299"/>
                  </a:lnTo>
                  <a:lnTo>
                    <a:pt x="1393" y="307"/>
                  </a:lnTo>
                  <a:lnTo>
                    <a:pt x="1378" y="315"/>
                  </a:lnTo>
                  <a:lnTo>
                    <a:pt x="1365" y="325"/>
                  </a:lnTo>
                  <a:lnTo>
                    <a:pt x="1352" y="334"/>
                  </a:lnTo>
                  <a:lnTo>
                    <a:pt x="1342" y="344"/>
                  </a:lnTo>
                  <a:lnTo>
                    <a:pt x="1331" y="354"/>
                  </a:lnTo>
                  <a:lnTo>
                    <a:pt x="1322" y="365"/>
                  </a:lnTo>
                  <a:lnTo>
                    <a:pt x="1313" y="376"/>
                  </a:lnTo>
                  <a:lnTo>
                    <a:pt x="1306" y="387"/>
                  </a:lnTo>
                  <a:lnTo>
                    <a:pt x="1292" y="410"/>
                  </a:lnTo>
                  <a:lnTo>
                    <a:pt x="1280" y="432"/>
                  </a:lnTo>
                  <a:lnTo>
                    <a:pt x="1268" y="454"/>
                  </a:lnTo>
                  <a:lnTo>
                    <a:pt x="1255" y="478"/>
                  </a:lnTo>
                  <a:lnTo>
                    <a:pt x="1241" y="500"/>
                  </a:lnTo>
                  <a:lnTo>
                    <a:pt x="1226" y="521"/>
                  </a:lnTo>
                  <a:lnTo>
                    <a:pt x="1210" y="542"/>
                  </a:lnTo>
                  <a:lnTo>
                    <a:pt x="1194" y="563"/>
                  </a:lnTo>
                  <a:lnTo>
                    <a:pt x="1176" y="582"/>
                  </a:lnTo>
                  <a:lnTo>
                    <a:pt x="1159" y="600"/>
                  </a:lnTo>
                  <a:lnTo>
                    <a:pt x="1141" y="618"/>
                  </a:lnTo>
                  <a:lnTo>
                    <a:pt x="1123" y="633"/>
                  </a:lnTo>
                  <a:lnTo>
                    <a:pt x="1107" y="647"/>
                  </a:lnTo>
                  <a:lnTo>
                    <a:pt x="1091" y="659"/>
                  </a:lnTo>
                  <a:lnTo>
                    <a:pt x="1076" y="669"/>
                  </a:lnTo>
                  <a:lnTo>
                    <a:pt x="1062" y="679"/>
                  </a:lnTo>
                  <a:lnTo>
                    <a:pt x="1049" y="685"/>
                  </a:lnTo>
                  <a:lnTo>
                    <a:pt x="1038" y="68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399" name="Freeform 1506"/>
            <p:cNvSpPr/>
            <p:nvPr/>
          </p:nvSpPr>
          <p:spPr>
            <a:xfrm>
              <a:off x="4827240" y="4772520"/>
              <a:ext cx="217440" cy="214560"/>
            </a:xfrm>
            <a:custGeom>
              <a:avLst/>
              <a:gdLst>
                <a:gd name="textAreaLeft" fmla="*/ 0 w 217440"/>
                <a:gd name="textAreaRight" fmla="*/ 217800 w 217440"/>
                <a:gd name="textAreaTop" fmla="*/ 0 h 214560"/>
                <a:gd name="textAreaBottom" fmla="*/ 214920 h 214560"/>
              </a:gdLst>
              <a:ahLst/>
              <a:rect l="textAreaLeft" t="textAreaTop" r="textAreaRight" b="textAreaBottom"/>
              <a:pathLst>
                <a:path w="1210" h="1423">
                  <a:moveTo>
                    <a:pt x="916" y="1423"/>
                  </a:moveTo>
                  <a:lnTo>
                    <a:pt x="915" y="1406"/>
                  </a:lnTo>
                  <a:lnTo>
                    <a:pt x="912" y="1392"/>
                  </a:lnTo>
                  <a:lnTo>
                    <a:pt x="910" y="1386"/>
                  </a:lnTo>
                  <a:lnTo>
                    <a:pt x="908" y="1381"/>
                  </a:lnTo>
                  <a:lnTo>
                    <a:pt x="905" y="1376"/>
                  </a:lnTo>
                  <a:lnTo>
                    <a:pt x="903" y="1373"/>
                  </a:lnTo>
                  <a:lnTo>
                    <a:pt x="896" y="1367"/>
                  </a:lnTo>
                  <a:lnTo>
                    <a:pt x="888" y="1364"/>
                  </a:lnTo>
                  <a:lnTo>
                    <a:pt x="879" y="1361"/>
                  </a:lnTo>
                  <a:lnTo>
                    <a:pt x="869" y="1360"/>
                  </a:lnTo>
                  <a:lnTo>
                    <a:pt x="847" y="1359"/>
                  </a:lnTo>
                  <a:lnTo>
                    <a:pt x="824" y="1357"/>
                  </a:lnTo>
                  <a:lnTo>
                    <a:pt x="811" y="1353"/>
                  </a:lnTo>
                  <a:lnTo>
                    <a:pt x="799" y="1348"/>
                  </a:lnTo>
                  <a:lnTo>
                    <a:pt x="793" y="1345"/>
                  </a:lnTo>
                  <a:lnTo>
                    <a:pt x="786" y="1341"/>
                  </a:lnTo>
                  <a:lnTo>
                    <a:pt x="780" y="1337"/>
                  </a:lnTo>
                  <a:lnTo>
                    <a:pt x="775" y="1331"/>
                  </a:lnTo>
                  <a:lnTo>
                    <a:pt x="775" y="1309"/>
                  </a:lnTo>
                  <a:lnTo>
                    <a:pt x="773" y="1288"/>
                  </a:lnTo>
                  <a:lnTo>
                    <a:pt x="771" y="1268"/>
                  </a:lnTo>
                  <a:lnTo>
                    <a:pt x="768" y="1249"/>
                  </a:lnTo>
                  <a:lnTo>
                    <a:pt x="763" y="1233"/>
                  </a:lnTo>
                  <a:lnTo>
                    <a:pt x="757" y="1216"/>
                  </a:lnTo>
                  <a:lnTo>
                    <a:pt x="749" y="1201"/>
                  </a:lnTo>
                  <a:lnTo>
                    <a:pt x="740" y="1187"/>
                  </a:lnTo>
                  <a:lnTo>
                    <a:pt x="728" y="1173"/>
                  </a:lnTo>
                  <a:lnTo>
                    <a:pt x="714" y="1160"/>
                  </a:lnTo>
                  <a:lnTo>
                    <a:pt x="698" y="1149"/>
                  </a:lnTo>
                  <a:lnTo>
                    <a:pt x="679" y="1138"/>
                  </a:lnTo>
                  <a:lnTo>
                    <a:pt x="658" y="1128"/>
                  </a:lnTo>
                  <a:lnTo>
                    <a:pt x="633" y="1117"/>
                  </a:lnTo>
                  <a:lnTo>
                    <a:pt x="606" y="1108"/>
                  </a:lnTo>
                  <a:lnTo>
                    <a:pt x="576" y="1098"/>
                  </a:lnTo>
                  <a:lnTo>
                    <a:pt x="546" y="1089"/>
                  </a:lnTo>
                  <a:lnTo>
                    <a:pt x="520" y="1080"/>
                  </a:lnTo>
                  <a:lnTo>
                    <a:pt x="498" y="1069"/>
                  </a:lnTo>
                  <a:lnTo>
                    <a:pt x="478" y="1059"/>
                  </a:lnTo>
                  <a:lnTo>
                    <a:pt x="462" y="1048"/>
                  </a:lnTo>
                  <a:lnTo>
                    <a:pt x="449" y="1037"/>
                  </a:lnTo>
                  <a:lnTo>
                    <a:pt x="437" y="1025"/>
                  </a:lnTo>
                  <a:lnTo>
                    <a:pt x="429" y="1012"/>
                  </a:lnTo>
                  <a:lnTo>
                    <a:pt x="423" y="1000"/>
                  </a:lnTo>
                  <a:lnTo>
                    <a:pt x="418" y="987"/>
                  </a:lnTo>
                  <a:lnTo>
                    <a:pt x="416" y="976"/>
                  </a:lnTo>
                  <a:lnTo>
                    <a:pt x="415" y="963"/>
                  </a:lnTo>
                  <a:lnTo>
                    <a:pt x="415" y="950"/>
                  </a:lnTo>
                  <a:lnTo>
                    <a:pt x="416" y="938"/>
                  </a:lnTo>
                  <a:lnTo>
                    <a:pt x="418" y="926"/>
                  </a:lnTo>
                  <a:lnTo>
                    <a:pt x="421" y="914"/>
                  </a:lnTo>
                  <a:lnTo>
                    <a:pt x="422" y="903"/>
                  </a:lnTo>
                  <a:lnTo>
                    <a:pt x="423" y="894"/>
                  </a:lnTo>
                  <a:lnTo>
                    <a:pt x="421" y="887"/>
                  </a:lnTo>
                  <a:lnTo>
                    <a:pt x="418" y="881"/>
                  </a:lnTo>
                  <a:lnTo>
                    <a:pt x="414" y="875"/>
                  </a:lnTo>
                  <a:lnTo>
                    <a:pt x="408" y="871"/>
                  </a:lnTo>
                  <a:lnTo>
                    <a:pt x="400" y="867"/>
                  </a:lnTo>
                  <a:lnTo>
                    <a:pt x="392" y="864"/>
                  </a:lnTo>
                  <a:lnTo>
                    <a:pt x="345" y="853"/>
                  </a:lnTo>
                  <a:lnTo>
                    <a:pt x="283" y="836"/>
                  </a:lnTo>
                  <a:lnTo>
                    <a:pt x="265" y="830"/>
                  </a:lnTo>
                  <a:lnTo>
                    <a:pt x="248" y="824"/>
                  </a:lnTo>
                  <a:lnTo>
                    <a:pt x="231" y="817"/>
                  </a:lnTo>
                  <a:lnTo>
                    <a:pt x="215" y="809"/>
                  </a:lnTo>
                  <a:lnTo>
                    <a:pt x="201" y="801"/>
                  </a:lnTo>
                  <a:lnTo>
                    <a:pt x="187" y="792"/>
                  </a:lnTo>
                  <a:lnTo>
                    <a:pt x="174" y="783"/>
                  </a:lnTo>
                  <a:lnTo>
                    <a:pt x="161" y="774"/>
                  </a:lnTo>
                  <a:lnTo>
                    <a:pt x="151" y="764"/>
                  </a:lnTo>
                  <a:lnTo>
                    <a:pt x="142" y="754"/>
                  </a:lnTo>
                  <a:lnTo>
                    <a:pt x="132" y="745"/>
                  </a:lnTo>
                  <a:lnTo>
                    <a:pt x="125" y="735"/>
                  </a:lnTo>
                  <a:lnTo>
                    <a:pt x="121" y="726"/>
                  </a:lnTo>
                  <a:lnTo>
                    <a:pt x="116" y="715"/>
                  </a:lnTo>
                  <a:lnTo>
                    <a:pt x="113" y="707"/>
                  </a:lnTo>
                  <a:lnTo>
                    <a:pt x="112" y="698"/>
                  </a:lnTo>
                  <a:lnTo>
                    <a:pt x="111" y="690"/>
                  </a:lnTo>
                  <a:lnTo>
                    <a:pt x="109" y="681"/>
                  </a:lnTo>
                  <a:lnTo>
                    <a:pt x="104" y="673"/>
                  </a:lnTo>
                  <a:lnTo>
                    <a:pt x="97" y="666"/>
                  </a:lnTo>
                  <a:lnTo>
                    <a:pt x="90" y="659"/>
                  </a:lnTo>
                  <a:lnTo>
                    <a:pt x="82" y="653"/>
                  </a:lnTo>
                  <a:lnTo>
                    <a:pt x="74" y="648"/>
                  </a:lnTo>
                  <a:lnTo>
                    <a:pt x="64" y="642"/>
                  </a:lnTo>
                  <a:lnTo>
                    <a:pt x="32" y="625"/>
                  </a:lnTo>
                  <a:lnTo>
                    <a:pt x="18" y="620"/>
                  </a:lnTo>
                  <a:lnTo>
                    <a:pt x="6" y="505"/>
                  </a:lnTo>
                  <a:lnTo>
                    <a:pt x="3" y="505"/>
                  </a:lnTo>
                  <a:lnTo>
                    <a:pt x="1" y="498"/>
                  </a:lnTo>
                  <a:lnTo>
                    <a:pt x="0" y="489"/>
                  </a:lnTo>
                  <a:lnTo>
                    <a:pt x="0" y="478"/>
                  </a:lnTo>
                  <a:lnTo>
                    <a:pt x="0" y="467"/>
                  </a:lnTo>
                  <a:lnTo>
                    <a:pt x="1" y="454"/>
                  </a:lnTo>
                  <a:lnTo>
                    <a:pt x="3" y="441"/>
                  </a:lnTo>
                  <a:lnTo>
                    <a:pt x="5" y="427"/>
                  </a:lnTo>
                  <a:lnTo>
                    <a:pt x="7" y="413"/>
                  </a:lnTo>
                  <a:lnTo>
                    <a:pt x="12" y="400"/>
                  </a:lnTo>
                  <a:lnTo>
                    <a:pt x="17" y="388"/>
                  </a:lnTo>
                  <a:lnTo>
                    <a:pt x="22" y="377"/>
                  </a:lnTo>
                  <a:lnTo>
                    <a:pt x="28" y="367"/>
                  </a:lnTo>
                  <a:lnTo>
                    <a:pt x="32" y="363"/>
                  </a:lnTo>
                  <a:lnTo>
                    <a:pt x="36" y="359"/>
                  </a:lnTo>
                  <a:lnTo>
                    <a:pt x="41" y="356"/>
                  </a:lnTo>
                  <a:lnTo>
                    <a:pt x="45" y="353"/>
                  </a:lnTo>
                  <a:lnTo>
                    <a:pt x="50" y="351"/>
                  </a:lnTo>
                  <a:lnTo>
                    <a:pt x="55" y="350"/>
                  </a:lnTo>
                  <a:lnTo>
                    <a:pt x="61" y="350"/>
                  </a:lnTo>
                  <a:lnTo>
                    <a:pt x="67" y="350"/>
                  </a:lnTo>
                  <a:lnTo>
                    <a:pt x="104" y="281"/>
                  </a:lnTo>
                  <a:lnTo>
                    <a:pt x="97" y="274"/>
                  </a:lnTo>
                  <a:lnTo>
                    <a:pt x="91" y="267"/>
                  </a:lnTo>
                  <a:lnTo>
                    <a:pt x="87" y="259"/>
                  </a:lnTo>
                  <a:lnTo>
                    <a:pt x="84" y="250"/>
                  </a:lnTo>
                  <a:lnTo>
                    <a:pt x="82" y="241"/>
                  </a:lnTo>
                  <a:lnTo>
                    <a:pt x="81" y="232"/>
                  </a:lnTo>
                  <a:lnTo>
                    <a:pt x="82" y="222"/>
                  </a:lnTo>
                  <a:lnTo>
                    <a:pt x="84" y="213"/>
                  </a:lnTo>
                  <a:lnTo>
                    <a:pt x="89" y="204"/>
                  </a:lnTo>
                  <a:lnTo>
                    <a:pt x="95" y="194"/>
                  </a:lnTo>
                  <a:lnTo>
                    <a:pt x="102" y="186"/>
                  </a:lnTo>
                  <a:lnTo>
                    <a:pt x="112" y="178"/>
                  </a:lnTo>
                  <a:lnTo>
                    <a:pt x="124" y="171"/>
                  </a:lnTo>
                  <a:lnTo>
                    <a:pt x="138" y="165"/>
                  </a:lnTo>
                  <a:lnTo>
                    <a:pt x="154" y="160"/>
                  </a:lnTo>
                  <a:lnTo>
                    <a:pt x="173" y="156"/>
                  </a:lnTo>
                  <a:lnTo>
                    <a:pt x="142" y="27"/>
                  </a:lnTo>
                  <a:lnTo>
                    <a:pt x="830" y="0"/>
                  </a:lnTo>
                  <a:lnTo>
                    <a:pt x="852" y="25"/>
                  </a:lnTo>
                  <a:lnTo>
                    <a:pt x="876" y="48"/>
                  </a:lnTo>
                  <a:lnTo>
                    <a:pt x="903" y="72"/>
                  </a:lnTo>
                  <a:lnTo>
                    <a:pt x="930" y="96"/>
                  </a:lnTo>
                  <a:lnTo>
                    <a:pt x="1077" y="629"/>
                  </a:lnTo>
                  <a:lnTo>
                    <a:pt x="1082" y="639"/>
                  </a:lnTo>
                  <a:lnTo>
                    <a:pt x="1088" y="650"/>
                  </a:lnTo>
                  <a:lnTo>
                    <a:pt x="1095" y="660"/>
                  </a:lnTo>
                  <a:lnTo>
                    <a:pt x="1102" y="672"/>
                  </a:lnTo>
                  <a:lnTo>
                    <a:pt x="1119" y="693"/>
                  </a:lnTo>
                  <a:lnTo>
                    <a:pt x="1137" y="715"/>
                  </a:lnTo>
                  <a:lnTo>
                    <a:pt x="1157" y="735"/>
                  </a:lnTo>
                  <a:lnTo>
                    <a:pt x="1175" y="753"/>
                  </a:lnTo>
                  <a:lnTo>
                    <a:pt x="1194" y="769"/>
                  </a:lnTo>
                  <a:lnTo>
                    <a:pt x="1210" y="782"/>
                  </a:lnTo>
                  <a:lnTo>
                    <a:pt x="1188" y="806"/>
                  </a:lnTo>
                  <a:lnTo>
                    <a:pt x="1169" y="831"/>
                  </a:lnTo>
                  <a:lnTo>
                    <a:pt x="1161" y="841"/>
                  </a:lnTo>
                  <a:lnTo>
                    <a:pt x="1154" y="853"/>
                  </a:lnTo>
                  <a:lnTo>
                    <a:pt x="1148" y="865"/>
                  </a:lnTo>
                  <a:lnTo>
                    <a:pt x="1143" y="877"/>
                  </a:lnTo>
                  <a:lnTo>
                    <a:pt x="1138" y="889"/>
                  </a:lnTo>
                  <a:lnTo>
                    <a:pt x="1134" y="902"/>
                  </a:lnTo>
                  <a:lnTo>
                    <a:pt x="1131" y="915"/>
                  </a:lnTo>
                  <a:lnTo>
                    <a:pt x="1127" y="930"/>
                  </a:lnTo>
                  <a:lnTo>
                    <a:pt x="1126" y="945"/>
                  </a:lnTo>
                  <a:lnTo>
                    <a:pt x="1124" y="963"/>
                  </a:lnTo>
                  <a:lnTo>
                    <a:pt x="1124" y="980"/>
                  </a:lnTo>
                  <a:lnTo>
                    <a:pt x="1124" y="1000"/>
                  </a:lnTo>
                  <a:lnTo>
                    <a:pt x="1124" y="1041"/>
                  </a:lnTo>
                  <a:lnTo>
                    <a:pt x="1125" y="1081"/>
                  </a:lnTo>
                  <a:lnTo>
                    <a:pt x="1127" y="1119"/>
                  </a:lnTo>
                  <a:lnTo>
                    <a:pt x="1131" y="1156"/>
                  </a:lnTo>
                  <a:lnTo>
                    <a:pt x="1133" y="1186"/>
                  </a:lnTo>
                  <a:lnTo>
                    <a:pt x="1136" y="1209"/>
                  </a:lnTo>
                  <a:lnTo>
                    <a:pt x="1137" y="1225"/>
                  </a:lnTo>
                  <a:lnTo>
                    <a:pt x="1138" y="1230"/>
                  </a:lnTo>
                  <a:lnTo>
                    <a:pt x="1123" y="1257"/>
                  </a:lnTo>
                  <a:lnTo>
                    <a:pt x="1108" y="1281"/>
                  </a:lnTo>
                  <a:lnTo>
                    <a:pt x="1094" y="1299"/>
                  </a:lnTo>
                  <a:lnTo>
                    <a:pt x="1080" y="1315"/>
                  </a:lnTo>
                  <a:lnTo>
                    <a:pt x="1067" y="1327"/>
                  </a:lnTo>
                  <a:lnTo>
                    <a:pt x="1053" y="1338"/>
                  </a:lnTo>
                  <a:lnTo>
                    <a:pt x="1040" y="1347"/>
                  </a:lnTo>
                  <a:lnTo>
                    <a:pt x="1027" y="1354"/>
                  </a:lnTo>
                  <a:lnTo>
                    <a:pt x="1001" y="1367"/>
                  </a:lnTo>
                  <a:lnTo>
                    <a:pt x="974" y="1380"/>
                  </a:lnTo>
                  <a:lnTo>
                    <a:pt x="960" y="1388"/>
                  </a:lnTo>
                  <a:lnTo>
                    <a:pt x="946" y="1397"/>
                  </a:lnTo>
                  <a:lnTo>
                    <a:pt x="931" y="1409"/>
                  </a:lnTo>
                  <a:lnTo>
                    <a:pt x="916" y="142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00" name="Freeform 1507"/>
            <p:cNvSpPr/>
            <p:nvPr/>
          </p:nvSpPr>
          <p:spPr>
            <a:xfrm>
              <a:off x="5319000" y="4782960"/>
              <a:ext cx="168120" cy="140040"/>
            </a:xfrm>
            <a:custGeom>
              <a:avLst/>
              <a:gdLst>
                <a:gd name="textAreaLeft" fmla="*/ 0 w 168120"/>
                <a:gd name="textAreaRight" fmla="*/ 168480 w 168120"/>
                <a:gd name="textAreaTop" fmla="*/ 0 h 140040"/>
                <a:gd name="textAreaBottom" fmla="*/ 140400 h 140040"/>
              </a:gdLst>
              <a:ahLst/>
              <a:rect l="textAreaLeft" t="textAreaTop" r="textAreaRight" b="textAreaBottom"/>
              <a:pathLst>
                <a:path w="932" h="925">
                  <a:moveTo>
                    <a:pt x="10" y="740"/>
                  </a:moveTo>
                  <a:lnTo>
                    <a:pt x="6" y="735"/>
                  </a:lnTo>
                  <a:lnTo>
                    <a:pt x="2" y="729"/>
                  </a:lnTo>
                  <a:lnTo>
                    <a:pt x="1" y="723"/>
                  </a:lnTo>
                  <a:lnTo>
                    <a:pt x="0" y="717"/>
                  </a:lnTo>
                  <a:lnTo>
                    <a:pt x="2" y="704"/>
                  </a:lnTo>
                  <a:lnTo>
                    <a:pt x="7" y="690"/>
                  </a:lnTo>
                  <a:lnTo>
                    <a:pt x="11" y="674"/>
                  </a:lnTo>
                  <a:lnTo>
                    <a:pt x="17" y="654"/>
                  </a:lnTo>
                  <a:lnTo>
                    <a:pt x="18" y="642"/>
                  </a:lnTo>
                  <a:lnTo>
                    <a:pt x="20" y="631"/>
                  </a:lnTo>
                  <a:lnTo>
                    <a:pt x="20" y="617"/>
                  </a:lnTo>
                  <a:lnTo>
                    <a:pt x="18" y="601"/>
                  </a:lnTo>
                  <a:lnTo>
                    <a:pt x="32" y="598"/>
                  </a:lnTo>
                  <a:lnTo>
                    <a:pt x="44" y="593"/>
                  </a:lnTo>
                  <a:lnTo>
                    <a:pt x="54" y="589"/>
                  </a:lnTo>
                  <a:lnTo>
                    <a:pt x="62" y="582"/>
                  </a:lnTo>
                  <a:lnTo>
                    <a:pt x="68" y="573"/>
                  </a:lnTo>
                  <a:lnTo>
                    <a:pt x="72" y="564"/>
                  </a:lnTo>
                  <a:lnTo>
                    <a:pt x="76" y="555"/>
                  </a:lnTo>
                  <a:lnTo>
                    <a:pt x="78" y="544"/>
                  </a:lnTo>
                  <a:lnTo>
                    <a:pt x="79" y="534"/>
                  </a:lnTo>
                  <a:lnTo>
                    <a:pt x="80" y="522"/>
                  </a:lnTo>
                  <a:lnTo>
                    <a:pt x="80" y="510"/>
                  </a:lnTo>
                  <a:lnTo>
                    <a:pt x="79" y="497"/>
                  </a:lnTo>
                  <a:lnTo>
                    <a:pt x="77" y="472"/>
                  </a:lnTo>
                  <a:lnTo>
                    <a:pt x="73" y="446"/>
                  </a:lnTo>
                  <a:lnTo>
                    <a:pt x="92" y="434"/>
                  </a:lnTo>
                  <a:lnTo>
                    <a:pt x="105" y="425"/>
                  </a:lnTo>
                  <a:lnTo>
                    <a:pt x="110" y="422"/>
                  </a:lnTo>
                  <a:lnTo>
                    <a:pt x="113" y="418"/>
                  </a:lnTo>
                  <a:lnTo>
                    <a:pt x="117" y="413"/>
                  </a:lnTo>
                  <a:lnTo>
                    <a:pt x="119" y="409"/>
                  </a:lnTo>
                  <a:lnTo>
                    <a:pt x="127" y="383"/>
                  </a:lnTo>
                  <a:lnTo>
                    <a:pt x="142" y="332"/>
                  </a:lnTo>
                  <a:lnTo>
                    <a:pt x="149" y="308"/>
                  </a:lnTo>
                  <a:lnTo>
                    <a:pt x="154" y="290"/>
                  </a:lnTo>
                  <a:lnTo>
                    <a:pt x="157" y="272"/>
                  </a:lnTo>
                  <a:lnTo>
                    <a:pt x="157" y="257"/>
                  </a:lnTo>
                  <a:lnTo>
                    <a:pt x="157" y="244"/>
                  </a:lnTo>
                  <a:lnTo>
                    <a:pt x="155" y="232"/>
                  </a:lnTo>
                  <a:lnTo>
                    <a:pt x="152" y="221"/>
                  </a:lnTo>
                  <a:lnTo>
                    <a:pt x="147" y="211"/>
                  </a:lnTo>
                  <a:lnTo>
                    <a:pt x="136" y="193"/>
                  </a:lnTo>
                  <a:lnTo>
                    <a:pt x="122" y="174"/>
                  </a:lnTo>
                  <a:lnTo>
                    <a:pt x="117" y="163"/>
                  </a:lnTo>
                  <a:lnTo>
                    <a:pt x="110" y="152"/>
                  </a:lnTo>
                  <a:lnTo>
                    <a:pt x="103" y="139"/>
                  </a:lnTo>
                  <a:lnTo>
                    <a:pt x="97" y="124"/>
                  </a:lnTo>
                  <a:lnTo>
                    <a:pt x="91" y="109"/>
                  </a:lnTo>
                  <a:lnTo>
                    <a:pt x="87" y="95"/>
                  </a:lnTo>
                  <a:lnTo>
                    <a:pt x="86" y="82"/>
                  </a:lnTo>
                  <a:lnTo>
                    <a:pt x="85" y="71"/>
                  </a:lnTo>
                  <a:lnTo>
                    <a:pt x="85" y="62"/>
                  </a:lnTo>
                  <a:lnTo>
                    <a:pt x="86" y="52"/>
                  </a:lnTo>
                  <a:lnTo>
                    <a:pt x="87" y="45"/>
                  </a:lnTo>
                  <a:lnTo>
                    <a:pt x="90" y="38"/>
                  </a:lnTo>
                  <a:lnTo>
                    <a:pt x="94" y="27"/>
                  </a:lnTo>
                  <a:lnTo>
                    <a:pt x="98" y="16"/>
                  </a:lnTo>
                  <a:lnTo>
                    <a:pt x="99" y="13"/>
                  </a:lnTo>
                  <a:lnTo>
                    <a:pt x="99" y="8"/>
                  </a:lnTo>
                  <a:lnTo>
                    <a:pt x="98" y="5"/>
                  </a:lnTo>
                  <a:lnTo>
                    <a:pt x="97" y="0"/>
                  </a:lnTo>
                  <a:lnTo>
                    <a:pt x="106" y="5"/>
                  </a:lnTo>
                  <a:lnTo>
                    <a:pt x="114" y="10"/>
                  </a:lnTo>
                  <a:lnTo>
                    <a:pt x="120" y="16"/>
                  </a:lnTo>
                  <a:lnTo>
                    <a:pt x="126" y="22"/>
                  </a:lnTo>
                  <a:lnTo>
                    <a:pt x="136" y="36"/>
                  </a:lnTo>
                  <a:lnTo>
                    <a:pt x="146" y="50"/>
                  </a:lnTo>
                  <a:lnTo>
                    <a:pt x="150" y="57"/>
                  </a:lnTo>
                  <a:lnTo>
                    <a:pt x="155" y="63"/>
                  </a:lnTo>
                  <a:lnTo>
                    <a:pt x="161" y="69"/>
                  </a:lnTo>
                  <a:lnTo>
                    <a:pt x="168" y="73"/>
                  </a:lnTo>
                  <a:lnTo>
                    <a:pt x="176" y="78"/>
                  </a:lnTo>
                  <a:lnTo>
                    <a:pt x="187" y="80"/>
                  </a:lnTo>
                  <a:lnTo>
                    <a:pt x="198" y="83"/>
                  </a:lnTo>
                  <a:lnTo>
                    <a:pt x="211" y="83"/>
                  </a:lnTo>
                  <a:lnTo>
                    <a:pt x="218" y="84"/>
                  </a:lnTo>
                  <a:lnTo>
                    <a:pt x="224" y="84"/>
                  </a:lnTo>
                  <a:lnTo>
                    <a:pt x="229" y="85"/>
                  </a:lnTo>
                  <a:lnTo>
                    <a:pt x="233" y="87"/>
                  </a:lnTo>
                  <a:lnTo>
                    <a:pt x="237" y="90"/>
                  </a:lnTo>
                  <a:lnTo>
                    <a:pt x="239" y="92"/>
                  </a:lnTo>
                  <a:lnTo>
                    <a:pt x="242" y="95"/>
                  </a:lnTo>
                  <a:lnTo>
                    <a:pt x="243" y="98"/>
                  </a:lnTo>
                  <a:lnTo>
                    <a:pt x="245" y="106"/>
                  </a:lnTo>
                  <a:lnTo>
                    <a:pt x="245" y="116"/>
                  </a:lnTo>
                  <a:lnTo>
                    <a:pt x="244" y="127"/>
                  </a:lnTo>
                  <a:lnTo>
                    <a:pt x="243" y="139"/>
                  </a:lnTo>
                  <a:lnTo>
                    <a:pt x="242" y="153"/>
                  </a:lnTo>
                  <a:lnTo>
                    <a:pt x="242" y="167"/>
                  </a:lnTo>
                  <a:lnTo>
                    <a:pt x="242" y="182"/>
                  </a:lnTo>
                  <a:lnTo>
                    <a:pt x="243" y="198"/>
                  </a:lnTo>
                  <a:lnTo>
                    <a:pt x="246" y="216"/>
                  </a:lnTo>
                  <a:lnTo>
                    <a:pt x="253" y="234"/>
                  </a:lnTo>
                  <a:lnTo>
                    <a:pt x="257" y="243"/>
                  </a:lnTo>
                  <a:lnTo>
                    <a:pt x="263" y="252"/>
                  </a:lnTo>
                  <a:lnTo>
                    <a:pt x="268" y="262"/>
                  </a:lnTo>
                  <a:lnTo>
                    <a:pt x="275" y="271"/>
                  </a:lnTo>
                  <a:lnTo>
                    <a:pt x="288" y="271"/>
                  </a:lnTo>
                  <a:lnTo>
                    <a:pt x="302" y="271"/>
                  </a:lnTo>
                  <a:lnTo>
                    <a:pt x="316" y="271"/>
                  </a:lnTo>
                  <a:lnTo>
                    <a:pt x="330" y="270"/>
                  </a:lnTo>
                  <a:lnTo>
                    <a:pt x="361" y="265"/>
                  </a:lnTo>
                  <a:lnTo>
                    <a:pt x="393" y="259"/>
                  </a:lnTo>
                  <a:lnTo>
                    <a:pt x="426" y="252"/>
                  </a:lnTo>
                  <a:lnTo>
                    <a:pt x="462" y="245"/>
                  </a:lnTo>
                  <a:lnTo>
                    <a:pt x="499" y="237"/>
                  </a:lnTo>
                  <a:lnTo>
                    <a:pt x="537" y="230"/>
                  </a:lnTo>
                  <a:lnTo>
                    <a:pt x="559" y="262"/>
                  </a:lnTo>
                  <a:lnTo>
                    <a:pt x="579" y="285"/>
                  </a:lnTo>
                  <a:lnTo>
                    <a:pt x="587" y="293"/>
                  </a:lnTo>
                  <a:lnTo>
                    <a:pt x="596" y="301"/>
                  </a:lnTo>
                  <a:lnTo>
                    <a:pt x="604" y="306"/>
                  </a:lnTo>
                  <a:lnTo>
                    <a:pt x="611" y="311"/>
                  </a:lnTo>
                  <a:lnTo>
                    <a:pt x="617" y="314"/>
                  </a:lnTo>
                  <a:lnTo>
                    <a:pt x="622" y="315"/>
                  </a:lnTo>
                  <a:lnTo>
                    <a:pt x="628" y="316"/>
                  </a:lnTo>
                  <a:lnTo>
                    <a:pt x="634" y="316"/>
                  </a:lnTo>
                  <a:lnTo>
                    <a:pt x="640" y="315"/>
                  </a:lnTo>
                  <a:lnTo>
                    <a:pt x="645" y="313"/>
                  </a:lnTo>
                  <a:lnTo>
                    <a:pt x="649" y="309"/>
                  </a:lnTo>
                  <a:lnTo>
                    <a:pt x="654" y="307"/>
                  </a:lnTo>
                  <a:lnTo>
                    <a:pt x="674" y="290"/>
                  </a:lnTo>
                  <a:lnTo>
                    <a:pt x="697" y="270"/>
                  </a:lnTo>
                  <a:lnTo>
                    <a:pt x="704" y="266"/>
                  </a:lnTo>
                  <a:lnTo>
                    <a:pt x="711" y="262"/>
                  </a:lnTo>
                  <a:lnTo>
                    <a:pt x="719" y="258"/>
                  </a:lnTo>
                  <a:lnTo>
                    <a:pt x="728" y="256"/>
                  </a:lnTo>
                  <a:lnTo>
                    <a:pt x="736" y="253"/>
                  </a:lnTo>
                  <a:lnTo>
                    <a:pt x="746" y="252"/>
                  </a:lnTo>
                  <a:lnTo>
                    <a:pt x="757" y="252"/>
                  </a:lnTo>
                  <a:lnTo>
                    <a:pt x="767" y="253"/>
                  </a:lnTo>
                  <a:lnTo>
                    <a:pt x="807" y="258"/>
                  </a:lnTo>
                  <a:lnTo>
                    <a:pt x="834" y="260"/>
                  </a:lnTo>
                  <a:lnTo>
                    <a:pt x="854" y="262"/>
                  </a:lnTo>
                  <a:lnTo>
                    <a:pt x="867" y="260"/>
                  </a:lnTo>
                  <a:lnTo>
                    <a:pt x="878" y="260"/>
                  </a:lnTo>
                  <a:lnTo>
                    <a:pt x="891" y="259"/>
                  </a:lnTo>
                  <a:lnTo>
                    <a:pt x="907" y="260"/>
                  </a:lnTo>
                  <a:lnTo>
                    <a:pt x="932" y="262"/>
                  </a:lnTo>
                  <a:lnTo>
                    <a:pt x="924" y="270"/>
                  </a:lnTo>
                  <a:lnTo>
                    <a:pt x="916" y="280"/>
                  </a:lnTo>
                  <a:lnTo>
                    <a:pt x="907" y="293"/>
                  </a:lnTo>
                  <a:lnTo>
                    <a:pt x="898" y="308"/>
                  </a:lnTo>
                  <a:lnTo>
                    <a:pt x="878" y="343"/>
                  </a:lnTo>
                  <a:lnTo>
                    <a:pt x="858" y="382"/>
                  </a:lnTo>
                  <a:lnTo>
                    <a:pt x="836" y="423"/>
                  </a:lnTo>
                  <a:lnTo>
                    <a:pt x="814" y="462"/>
                  </a:lnTo>
                  <a:lnTo>
                    <a:pt x="802" y="480"/>
                  </a:lnTo>
                  <a:lnTo>
                    <a:pt x="791" y="496"/>
                  </a:lnTo>
                  <a:lnTo>
                    <a:pt x="779" y="512"/>
                  </a:lnTo>
                  <a:lnTo>
                    <a:pt x="767" y="524"/>
                  </a:lnTo>
                  <a:lnTo>
                    <a:pt x="763" y="530"/>
                  </a:lnTo>
                  <a:lnTo>
                    <a:pt x="758" y="538"/>
                  </a:lnTo>
                  <a:lnTo>
                    <a:pt x="753" y="547"/>
                  </a:lnTo>
                  <a:lnTo>
                    <a:pt x="750" y="556"/>
                  </a:lnTo>
                  <a:lnTo>
                    <a:pt x="744" y="577"/>
                  </a:lnTo>
                  <a:lnTo>
                    <a:pt x="738" y="600"/>
                  </a:lnTo>
                  <a:lnTo>
                    <a:pt x="731" y="652"/>
                  </a:lnTo>
                  <a:lnTo>
                    <a:pt x="724" y="708"/>
                  </a:lnTo>
                  <a:lnTo>
                    <a:pt x="719" y="736"/>
                  </a:lnTo>
                  <a:lnTo>
                    <a:pt x="713" y="764"/>
                  </a:lnTo>
                  <a:lnTo>
                    <a:pt x="710" y="777"/>
                  </a:lnTo>
                  <a:lnTo>
                    <a:pt x="706" y="790"/>
                  </a:lnTo>
                  <a:lnTo>
                    <a:pt x="702" y="802"/>
                  </a:lnTo>
                  <a:lnTo>
                    <a:pt x="697" y="814"/>
                  </a:lnTo>
                  <a:lnTo>
                    <a:pt x="691" y="825"/>
                  </a:lnTo>
                  <a:lnTo>
                    <a:pt x="684" y="835"/>
                  </a:lnTo>
                  <a:lnTo>
                    <a:pt x="677" y="846"/>
                  </a:lnTo>
                  <a:lnTo>
                    <a:pt x="670" y="855"/>
                  </a:lnTo>
                  <a:lnTo>
                    <a:pt x="661" y="863"/>
                  </a:lnTo>
                  <a:lnTo>
                    <a:pt x="652" y="870"/>
                  </a:lnTo>
                  <a:lnTo>
                    <a:pt x="641" y="876"/>
                  </a:lnTo>
                  <a:lnTo>
                    <a:pt x="629" y="881"/>
                  </a:lnTo>
                  <a:lnTo>
                    <a:pt x="597" y="891"/>
                  </a:lnTo>
                  <a:lnTo>
                    <a:pt x="566" y="900"/>
                  </a:lnTo>
                  <a:lnTo>
                    <a:pt x="537" y="907"/>
                  </a:lnTo>
                  <a:lnTo>
                    <a:pt x="509" y="913"/>
                  </a:lnTo>
                  <a:lnTo>
                    <a:pt x="482" y="918"/>
                  </a:lnTo>
                  <a:lnTo>
                    <a:pt x="458" y="922"/>
                  </a:lnTo>
                  <a:lnTo>
                    <a:pt x="433" y="924"/>
                  </a:lnTo>
                  <a:lnTo>
                    <a:pt x="410" y="925"/>
                  </a:lnTo>
                  <a:lnTo>
                    <a:pt x="388" y="925"/>
                  </a:lnTo>
                  <a:lnTo>
                    <a:pt x="367" y="924"/>
                  </a:lnTo>
                  <a:lnTo>
                    <a:pt x="347" y="922"/>
                  </a:lnTo>
                  <a:lnTo>
                    <a:pt x="328" y="919"/>
                  </a:lnTo>
                  <a:lnTo>
                    <a:pt x="309" y="916"/>
                  </a:lnTo>
                  <a:lnTo>
                    <a:pt x="292" y="912"/>
                  </a:lnTo>
                  <a:lnTo>
                    <a:pt x="275" y="907"/>
                  </a:lnTo>
                  <a:lnTo>
                    <a:pt x="260" y="903"/>
                  </a:lnTo>
                  <a:lnTo>
                    <a:pt x="231" y="892"/>
                  </a:lnTo>
                  <a:lnTo>
                    <a:pt x="205" y="882"/>
                  </a:lnTo>
                  <a:lnTo>
                    <a:pt x="181" y="871"/>
                  </a:lnTo>
                  <a:lnTo>
                    <a:pt x="160" y="861"/>
                  </a:lnTo>
                  <a:lnTo>
                    <a:pt x="140" y="851"/>
                  </a:lnTo>
                  <a:lnTo>
                    <a:pt x="121" y="846"/>
                  </a:lnTo>
                  <a:lnTo>
                    <a:pt x="113" y="843"/>
                  </a:lnTo>
                  <a:lnTo>
                    <a:pt x="104" y="841"/>
                  </a:lnTo>
                  <a:lnTo>
                    <a:pt x="96" y="841"/>
                  </a:lnTo>
                  <a:lnTo>
                    <a:pt x="87" y="841"/>
                  </a:lnTo>
                  <a:lnTo>
                    <a:pt x="73" y="839"/>
                  </a:lnTo>
                  <a:lnTo>
                    <a:pt x="61" y="835"/>
                  </a:lnTo>
                  <a:lnTo>
                    <a:pt x="50" y="830"/>
                  </a:lnTo>
                  <a:lnTo>
                    <a:pt x="39" y="825"/>
                  </a:lnTo>
                  <a:lnTo>
                    <a:pt x="30" y="819"/>
                  </a:lnTo>
                  <a:lnTo>
                    <a:pt x="23" y="812"/>
                  </a:lnTo>
                  <a:lnTo>
                    <a:pt x="16" y="804"/>
                  </a:lnTo>
                  <a:lnTo>
                    <a:pt x="11" y="795"/>
                  </a:lnTo>
                  <a:lnTo>
                    <a:pt x="7" y="788"/>
                  </a:lnTo>
                  <a:lnTo>
                    <a:pt x="4" y="780"/>
                  </a:lnTo>
                  <a:lnTo>
                    <a:pt x="2" y="772"/>
                  </a:lnTo>
                  <a:lnTo>
                    <a:pt x="1" y="764"/>
                  </a:lnTo>
                  <a:lnTo>
                    <a:pt x="2" y="757"/>
                  </a:lnTo>
                  <a:lnTo>
                    <a:pt x="3" y="751"/>
                  </a:lnTo>
                  <a:lnTo>
                    <a:pt x="6" y="745"/>
                  </a:lnTo>
                  <a:lnTo>
                    <a:pt x="10" y="74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01" name="Freeform 1508"/>
            <p:cNvSpPr/>
            <p:nvPr/>
          </p:nvSpPr>
          <p:spPr>
            <a:xfrm>
              <a:off x="5317200" y="4720320"/>
              <a:ext cx="281880" cy="103680"/>
            </a:xfrm>
            <a:custGeom>
              <a:avLst/>
              <a:gdLst>
                <a:gd name="textAreaLeft" fmla="*/ 0 w 281880"/>
                <a:gd name="textAreaRight" fmla="*/ 282240 w 281880"/>
                <a:gd name="textAreaTop" fmla="*/ 0 h 103680"/>
                <a:gd name="textAreaBottom" fmla="*/ 104040 h 103680"/>
              </a:gdLst>
              <a:ahLst/>
              <a:rect l="textAreaLeft" t="textAreaTop" r="textAreaRight" b="textAreaBottom"/>
              <a:pathLst>
                <a:path w="1568" h="689">
                  <a:moveTo>
                    <a:pt x="548" y="648"/>
                  </a:moveTo>
                  <a:lnTo>
                    <a:pt x="508" y="655"/>
                  </a:lnTo>
                  <a:lnTo>
                    <a:pt x="471" y="663"/>
                  </a:lnTo>
                  <a:lnTo>
                    <a:pt x="435" y="670"/>
                  </a:lnTo>
                  <a:lnTo>
                    <a:pt x="402" y="677"/>
                  </a:lnTo>
                  <a:lnTo>
                    <a:pt x="371" y="683"/>
                  </a:lnTo>
                  <a:lnTo>
                    <a:pt x="340" y="688"/>
                  </a:lnTo>
                  <a:lnTo>
                    <a:pt x="326" y="689"/>
                  </a:lnTo>
                  <a:lnTo>
                    <a:pt x="312" y="689"/>
                  </a:lnTo>
                  <a:lnTo>
                    <a:pt x="299" y="689"/>
                  </a:lnTo>
                  <a:lnTo>
                    <a:pt x="286" y="689"/>
                  </a:lnTo>
                  <a:lnTo>
                    <a:pt x="279" y="680"/>
                  </a:lnTo>
                  <a:lnTo>
                    <a:pt x="274" y="670"/>
                  </a:lnTo>
                  <a:lnTo>
                    <a:pt x="268" y="661"/>
                  </a:lnTo>
                  <a:lnTo>
                    <a:pt x="264" y="652"/>
                  </a:lnTo>
                  <a:lnTo>
                    <a:pt x="257" y="634"/>
                  </a:lnTo>
                  <a:lnTo>
                    <a:pt x="254" y="616"/>
                  </a:lnTo>
                  <a:lnTo>
                    <a:pt x="253" y="600"/>
                  </a:lnTo>
                  <a:lnTo>
                    <a:pt x="253" y="585"/>
                  </a:lnTo>
                  <a:lnTo>
                    <a:pt x="253" y="571"/>
                  </a:lnTo>
                  <a:lnTo>
                    <a:pt x="254" y="557"/>
                  </a:lnTo>
                  <a:lnTo>
                    <a:pt x="255" y="545"/>
                  </a:lnTo>
                  <a:lnTo>
                    <a:pt x="256" y="534"/>
                  </a:lnTo>
                  <a:lnTo>
                    <a:pt x="256" y="524"/>
                  </a:lnTo>
                  <a:lnTo>
                    <a:pt x="254" y="516"/>
                  </a:lnTo>
                  <a:lnTo>
                    <a:pt x="253" y="513"/>
                  </a:lnTo>
                  <a:lnTo>
                    <a:pt x="250" y="510"/>
                  </a:lnTo>
                  <a:lnTo>
                    <a:pt x="248" y="508"/>
                  </a:lnTo>
                  <a:lnTo>
                    <a:pt x="244" y="505"/>
                  </a:lnTo>
                  <a:lnTo>
                    <a:pt x="240" y="503"/>
                  </a:lnTo>
                  <a:lnTo>
                    <a:pt x="235" y="502"/>
                  </a:lnTo>
                  <a:lnTo>
                    <a:pt x="229" y="502"/>
                  </a:lnTo>
                  <a:lnTo>
                    <a:pt x="222" y="501"/>
                  </a:lnTo>
                  <a:lnTo>
                    <a:pt x="209" y="501"/>
                  </a:lnTo>
                  <a:lnTo>
                    <a:pt x="198" y="498"/>
                  </a:lnTo>
                  <a:lnTo>
                    <a:pt x="187" y="496"/>
                  </a:lnTo>
                  <a:lnTo>
                    <a:pt x="179" y="491"/>
                  </a:lnTo>
                  <a:lnTo>
                    <a:pt x="172" y="487"/>
                  </a:lnTo>
                  <a:lnTo>
                    <a:pt x="166" y="481"/>
                  </a:lnTo>
                  <a:lnTo>
                    <a:pt x="161" y="475"/>
                  </a:lnTo>
                  <a:lnTo>
                    <a:pt x="157" y="468"/>
                  </a:lnTo>
                  <a:lnTo>
                    <a:pt x="147" y="454"/>
                  </a:lnTo>
                  <a:lnTo>
                    <a:pt x="137" y="440"/>
                  </a:lnTo>
                  <a:lnTo>
                    <a:pt x="131" y="434"/>
                  </a:lnTo>
                  <a:lnTo>
                    <a:pt x="125" y="428"/>
                  </a:lnTo>
                  <a:lnTo>
                    <a:pt x="117" y="423"/>
                  </a:lnTo>
                  <a:lnTo>
                    <a:pt x="108" y="418"/>
                  </a:lnTo>
                  <a:lnTo>
                    <a:pt x="90" y="391"/>
                  </a:lnTo>
                  <a:lnTo>
                    <a:pt x="77" y="369"/>
                  </a:lnTo>
                  <a:lnTo>
                    <a:pt x="68" y="349"/>
                  </a:lnTo>
                  <a:lnTo>
                    <a:pt x="60" y="331"/>
                  </a:lnTo>
                  <a:lnTo>
                    <a:pt x="55" y="317"/>
                  </a:lnTo>
                  <a:lnTo>
                    <a:pt x="52" y="303"/>
                  </a:lnTo>
                  <a:lnTo>
                    <a:pt x="50" y="291"/>
                  </a:lnTo>
                  <a:lnTo>
                    <a:pt x="48" y="279"/>
                  </a:lnTo>
                  <a:lnTo>
                    <a:pt x="47" y="266"/>
                  </a:lnTo>
                  <a:lnTo>
                    <a:pt x="46" y="253"/>
                  </a:lnTo>
                  <a:lnTo>
                    <a:pt x="43" y="239"/>
                  </a:lnTo>
                  <a:lnTo>
                    <a:pt x="40" y="223"/>
                  </a:lnTo>
                  <a:lnTo>
                    <a:pt x="34" y="204"/>
                  </a:lnTo>
                  <a:lnTo>
                    <a:pt x="26" y="182"/>
                  </a:lnTo>
                  <a:lnTo>
                    <a:pt x="15" y="156"/>
                  </a:lnTo>
                  <a:lnTo>
                    <a:pt x="0" y="127"/>
                  </a:lnTo>
                  <a:lnTo>
                    <a:pt x="18" y="114"/>
                  </a:lnTo>
                  <a:lnTo>
                    <a:pt x="33" y="100"/>
                  </a:lnTo>
                  <a:lnTo>
                    <a:pt x="49" y="87"/>
                  </a:lnTo>
                  <a:lnTo>
                    <a:pt x="65" y="72"/>
                  </a:lnTo>
                  <a:lnTo>
                    <a:pt x="73" y="139"/>
                  </a:lnTo>
                  <a:lnTo>
                    <a:pt x="83" y="138"/>
                  </a:lnTo>
                  <a:lnTo>
                    <a:pt x="111" y="134"/>
                  </a:lnTo>
                  <a:lnTo>
                    <a:pt x="154" y="129"/>
                  </a:lnTo>
                  <a:lnTo>
                    <a:pt x="212" y="122"/>
                  </a:lnTo>
                  <a:lnTo>
                    <a:pt x="281" y="114"/>
                  </a:lnTo>
                  <a:lnTo>
                    <a:pt x="357" y="105"/>
                  </a:lnTo>
                  <a:lnTo>
                    <a:pt x="439" y="96"/>
                  </a:lnTo>
                  <a:lnTo>
                    <a:pt x="526" y="85"/>
                  </a:lnTo>
                  <a:lnTo>
                    <a:pt x="612" y="74"/>
                  </a:lnTo>
                  <a:lnTo>
                    <a:pt x="699" y="64"/>
                  </a:lnTo>
                  <a:lnTo>
                    <a:pt x="779" y="53"/>
                  </a:lnTo>
                  <a:lnTo>
                    <a:pt x="855" y="44"/>
                  </a:lnTo>
                  <a:lnTo>
                    <a:pt x="922" y="35"/>
                  </a:lnTo>
                  <a:lnTo>
                    <a:pt x="977" y="27"/>
                  </a:lnTo>
                  <a:lnTo>
                    <a:pt x="1018" y="20"/>
                  </a:lnTo>
                  <a:lnTo>
                    <a:pt x="1043" y="15"/>
                  </a:lnTo>
                  <a:lnTo>
                    <a:pt x="1071" y="8"/>
                  </a:lnTo>
                  <a:lnTo>
                    <a:pt x="1094" y="4"/>
                  </a:lnTo>
                  <a:lnTo>
                    <a:pt x="1111" y="3"/>
                  </a:lnTo>
                  <a:lnTo>
                    <a:pt x="1126" y="4"/>
                  </a:lnTo>
                  <a:lnTo>
                    <a:pt x="1139" y="6"/>
                  </a:lnTo>
                  <a:lnTo>
                    <a:pt x="1152" y="6"/>
                  </a:lnTo>
                  <a:lnTo>
                    <a:pt x="1166" y="4"/>
                  </a:lnTo>
                  <a:lnTo>
                    <a:pt x="1181" y="0"/>
                  </a:lnTo>
                  <a:lnTo>
                    <a:pt x="1366" y="84"/>
                  </a:lnTo>
                  <a:lnTo>
                    <a:pt x="1358" y="92"/>
                  </a:lnTo>
                  <a:lnTo>
                    <a:pt x="1352" y="99"/>
                  </a:lnTo>
                  <a:lnTo>
                    <a:pt x="1347" y="106"/>
                  </a:lnTo>
                  <a:lnTo>
                    <a:pt x="1345" y="113"/>
                  </a:lnTo>
                  <a:lnTo>
                    <a:pt x="1344" y="120"/>
                  </a:lnTo>
                  <a:lnTo>
                    <a:pt x="1345" y="127"/>
                  </a:lnTo>
                  <a:lnTo>
                    <a:pt x="1347" y="133"/>
                  </a:lnTo>
                  <a:lnTo>
                    <a:pt x="1351" y="140"/>
                  </a:lnTo>
                  <a:lnTo>
                    <a:pt x="1355" y="146"/>
                  </a:lnTo>
                  <a:lnTo>
                    <a:pt x="1361" y="152"/>
                  </a:lnTo>
                  <a:lnTo>
                    <a:pt x="1369" y="157"/>
                  </a:lnTo>
                  <a:lnTo>
                    <a:pt x="1377" y="163"/>
                  </a:lnTo>
                  <a:lnTo>
                    <a:pt x="1396" y="175"/>
                  </a:lnTo>
                  <a:lnTo>
                    <a:pt x="1417" y="187"/>
                  </a:lnTo>
                  <a:lnTo>
                    <a:pt x="1439" y="199"/>
                  </a:lnTo>
                  <a:lnTo>
                    <a:pt x="1463" y="213"/>
                  </a:lnTo>
                  <a:lnTo>
                    <a:pt x="1486" y="227"/>
                  </a:lnTo>
                  <a:lnTo>
                    <a:pt x="1508" y="243"/>
                  </a:lnTo>
                  <a:lnTo>
                    <a:pt x="1519" y="251"/>
                  </a:lnTo>
                  <a:lnTo>
                    <a:pt x="1528" y="260"/>
                  </a:lnTo>
                  <a:lnTo>
                    <a:pt x="1538" y="270"/>
                  </a:lnTo>
                  <a:lnTo>
                    <a:pt x="1546" y="279"/>
                  </a:lnTo>
                  <a:lnTo>
                    <a:pt x="1553" y="289"/>
                  </a:lnTo>
                  <a:lnTo>
                    <a:pt x="1559" y="300"/>
                  </a:lnTo>
                  <a:lnTo>
                    <a:pt x="1564" y="310"/>
                  </a:lnTo>
                  <a:lnTo>
                    <a:pt x="1568" y="323"/>
                  </a:lnTo>
                  <a:lnTo>
                    <a:pt x="1567" y="362"/>
                  </a:lnTo>
                  <a:lnTo>
                    <a:pt x="1563" y="393"/>
                  </a:lnTo>
                  <a:lnTo>
                    <a:pt x="1560" y="416"/>
                  </a:lnTo>
                  <a:lnTo>
                    <a:pt x="1559" y="424"/>
                  </a:lnTo>
                  <a:lnTo>
                    <a:pt x="1548" y="426"/>
                  </a:lnTo>
                  <a:lnTo>
                    <a:pt x="1539" y="428"/>
                  </a:lnTo>
                  <a:lnTo>
                    <a:pt x="1529" y="432"/>
                  </a:lnTo>
                  <a:lnTo>
                    <a:pt x="1521" y="435"/>
                  </a:lnTo>
                  <a:lnTo>
                    <a:pt x="1514" y="439"/>
                  </a:lnTo>
                  <a:lnTo>
                    <a:pt x="1508" y="444"/>
                  </a:lnTo>
                  <a:lnTo>
                    <a:pt x="1502" y="449"/>
                  </a:lnTo>
                  <a:lnTo>
                    <a:pt x="1499" y="455"/>
                  </a:lnTo>
                  <a:lnTo>
                    <a:pt x="1494" y="461"/>
                  </a:lnTo>
                  <a:lnTo>
                    <a:pt x="1492" y="467"/>
                  </a:lnTo>
                  <a:lnTo>
                    <a:pt x="1490" y="474"/>
                  </a:lnTo>
                  <a:lnTo>
                    <a:pt x="1488" y="481"/>
                  </a:lnTo>
                  <a:lnTo>
                    <a:pt x="1487" y="488"/>
                  </a:lnTo>
                  <a:lnTo>
                    <a:pt x="1487" y="495"/>
                  </a:lnTo>
                  <a:lnTo>
                    <a:pt x="1488" y="502"/>
                  </a:lnTo>
                  <a:lnTo>
                    <a:pt x="1490" y="510"/>
                  </a:lnTo>
                  <a:lnTo>
                    <a:pt x="548" y="64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02" name="Freeform 1509"/>
            <p:cNvSpPr/>
            <p:nvPr/>
          </p:nvSpPr>
          <p:spPr>
            <a:xfrm>
              <a:off x="5558040" y="4525200"/>
              <a:ext cx="182520" cy="123840"/>
            </a:xfrm>
            <a:custGeom>
              <a:avLst/>
              <a:gdLst>
                <a:gd name="textAreaLeft" fmla="*/ 0 w 182520"/>
                <a:gd name="textAreaRight" fmla="*/ 182880 w 182520"/>
                <a:gd name="textAreaTop" fmla="*/ 0 h 123840"/>
                <a:gd name="textAreaBottom" fmla="*/ 124200 h 123840"/>
              </a:gdLst>
              <a:ahLst/>
              <a:rect l="textAreaLeft" t="textAreaTop" r="textAreaRight" b="textAreaBottom"/>
              <a:pathLst>
                <a:path w="1016" h="821">
                  <a:moveTo>
                    <a:pt x="593" y="821"/>
                  </a:moveTo>
                  <a:lnTo>
                    <a:pt x="107" y="470"/>
                  </a:lnTo>
                  <a:lnTo>
                    <a:pt x="112" y="458"/>
                  </a:lnTo>
                  <a:lnTo>
                    <a:pt x="114" y="449"/>
                  </a:lnTo>
                  <a:lnTo>
                    <a:pt x="115" y="438"/>
                  </a:lnTo>
                  <a:lnTo>
                    <a:pt x="114" y="430"/>
                  </a:lnTo>
                  <a:lnTo>
                    <a:pt x="112" y="421"/>
                  </a:lnTo>
                  <a:lnTo>
                    <a:pt x="108" y="413"/>
                  </a:lnTo>
                  <a:lnTo>
                    <a:pt x="104" y="404"/>
                  </a:lnTo>
                  <a:lnTo>
                    <a:pt x="98" y="395"/>
                  </a:lnTo>
                  <a:lnTo>
                    <a:pt x="85" y="377"/>
                  </a:lnTo>
                  <a:lnTo>
                    <a:pt x="72" y="358"/>
                  </a:lnTo>
                  <a:lnTo>
                    <a:pt x="66" y="347"/>
                  </a:lnTo>
                  <a:lnTo>
                    <a:pt x="60" y="335"/>
                  </a:lnTo>
                  <a:lnTo>
                    <a:pt x="56" y="323"/>
                  </a:lnTo>
                  <a:lnTo>
                    <a:pt x="52" y="309"/>
                  </a:lnTo>
                  <a:lnTo>
                    <a:pt x="50" y="295"/>
                  </a:lnTo>
                  <a:lnTo>
                    <a:pt x="49" y="283"/>
                  </a:lnTo>
                  <a:lnTo>
                    <a:pt x="49" y="272"/>
                  </a:lnTo>
                  <a:lnTo>
                    <a:pt x="50" y="264"/>
                  </a:lnTo>
                  <a:lnTo>
                    <a:pt x="51" y="256"/>
                  </a:lnTo>
                  <a:lnTo>
                    <a:pt x="53" y="249"/>
                  </a:lnTo>
                  <a:lnTo>
                    <a:pt x="56" y="243"/>
                  </a:lnTo>
                  <a:lnTo>
                    <a:pt x="58" y="237"/>
                  </a:lnTo>
                  <a:lnTo>
                    <a:pt x="64" y="227"/>
                  </a:lnTo>
                  <a:lnTo>
                    <a:pt x="70" y="214"/>
                  </a:lnTo>
                  <a:lnTo>
                    <a:pt x="72" y="206"/>
                  </a:lnTo>
                  <a:lnTo>
                    <a:pt x="73" y="198"/>
                  </a:lnTo>
                  <a:lnTo>
                    <a:pt x="74" y="187"/>
                  </a:lnTo>
                  <a:lnTo>
                    <a:pt x="76" y="175"/>
                  </a:lnTo>
                  <a:lnTo>
                    <a:pt x="74" y="171"/>
                  </a:lnTo>
                  <a:lnTo>
                    <a:pt x="72" y="165"/>
                  </a:lnTo>
                  <a:lnTo>
                    <a:pt x="70" y="158"/>
                  </a:lnTo>
                  <a:lnTo>
                    <a:pt x="65" y="152"/>
                  </a:lnTo>
                  <a:lnTo>
                    <a:pt x="56" y="137"/>
                  </a:lnTo>
                  <a:lnTo>
                    <a:pt x="43" y="120"/>
                  </a:lnTo>
                  <a:lnTo>
                    <a:pt x="30" y="102"/>
                  </a:lnTo>
                  <a:lnTo>
                    <a:pt x="18" y="81"/>
                  </a:lnTo>
                  <a:lnTo>
                    <a:pt x="12" y="69"/>
                  </a:lnTo>
                  <a:lnTo>
                    <a:pt x="8" y="56"/>
                  </a:lnTo>
                  <a:lnTo>
                    <a:pt x="3" y="43"/>
                  </a:lnTo>
                  <a:lnTo>
                    <a:pt x="0" y="28"/>
                  </a:lnTo>
                  <a:lnTo>
                    <a:pt x="42" y="34"/>
                  </a:lnTo>
                  <a:lnTo>
                    <a:pt x="78" y="38"/>
                  </a:lnTo>
                  <a:lnTo>
                    <a:pt x="111" y="40"/>
                  </a:lnTo>
                  <a:lnTo>
                    <a:pt x="141" y="42"/>
                  </a:lnTo>
                  <a:lnTo>
                    <a:pt x="168" y="42"/>
                  </a:lnTo>
                  <a:lnTo>
                    <a:pt x="192" y="41"/>
                  </a:lnTo>
                  <a:lnTo>
                    <a:pt x="215" y="40"/>
                  </a:lnTo>
                  <a:lnTo>
                    <a:pt x="234" y="38"/>
                  </a:lnTo>
                  <a:lnTo>
                    <a:pt x="253" y="34"/>
                  </a:lnTo>
                  <a:lnTo>
                    <a:pt x="271" y="31"/>
                  </a:lnTo>
                  <a:lnTo>
                    <a:pt x="288" y="26"/>
                  </a:lnTo>
                  <a:lnTo>
                    <a:pt x="304" y="21"/>
                  </a:lnTo>
                  <a:lnTo>
                    <a:pt x="340" y="11"/>
                  </a:lnTo>
                  <a:lnTo>
                    <a:pt x="377" y="0"/>
                  </a:lnTo>
                  <a:lnTo>
                    <a:pt x="386" y="8"/>
                  </a:lnTo>
                  <a:lnTo>
                    <a:pt x="410" y="33"/>
                  </a:lnTo>
                  <a:lnTo>
                    <a:pt x="446" y="67"/>
                  </a:lnTo>
                  <a:lnTo>
                    <a:pt x="488" y="109"/>
                  </a:lnTo>
                  <a:lnTo>
                    <a:pt x="535" y="152"/>
                  </a:lnTo>
                  <a:lnTo>
                    <a:pt x="580" y="195"/>
                  </a:lnTo>
                  <a:lnTo>
                    <a:pt x="622" y="234"/>
                  </a:lnTo>
                  <a:lnTo>
                    <a:pt x="657" y="262"/>
                  </a:lnTo>
                  <a:lnTo>
                    <a:pt x="677" y="272"/>
                  </a:lnTo>
                  <a:lnTo>
                    <a:pt x="697" y="281"/>
                  </a:lnTo>
                  <a:lnTo>
                    <a:pt x="717" y="288"/>
                  </a:lnTo>
                  <a:lnTo>
                    <a:pt x="737" y="293"/>
                  </a:lnTo>
                  <a:lnTo>
                    <a:pt x="757" y="297"/>
                  </a:lnTo>
                  <a:lnTo>
                    <a:pt x="776" y="300"/>
                  </a:lnTo>
                  <a:lnTo>
                    <a:pt x="796" y="303"/>
                  </a:lnTo>
                  <a:lnTo>
                    <a:pt x="816" y="304"/>
                  </a:lnTo>
                  <a:lnTo>
                    <a:pt x="855" y="306"/>
                  </a:lnTo>
                  <a:lnTo>
                    <a:pt x="893" y="310"/>
                  </a:lnTo>
                  <a:lnTo>
                    <a:pt x="912" y="312"/>
                  </a:lnTo>
                  <a:lnTo>
                    <a:pt x="929" y="314"/>
                  </a:lnTo>
                  <a:lnTo>
                    <a:pt x="948" y="318"/>
                  </a:lnTo>
                  <a:lnTo>
                    <a:pt x="964" y="323"/>
                  </a:lnTo>
                  <a:lnTo>
                    <a:pt x="981" y="328"/>
                  </a:lnTo>
                  <a:lnTo>
                    <a:pt x="994" y="334"/>
                  </a:lnTo>
                  <a:lnTo>
                    <a:pt x="1004" y="340"/>
                  </a:lnTo>
                  <a:lnTo>
                    <a:pt x="1011" y="347"/>
                  </a:lnTo>
                  <a:lnTo>
                    <a:pt x="1014" y="349"/>
                  </a:lnTo>
                  <a:lnTo>
                    <a:pt x="1016" y="353"/>
                  </a:lnTo>
                  <a:lnTo>
                    <a:pt x="1016" y="355"/>
                  </a:lnTo>
                  <a:lnTo>
                    <a:pt x="1016" y="359"/>
                  </a:lnTo>
                  <a:lnTo>
                    <a:pt x="1016" y="362"/>
                  </a:lnTo>
                  <a:lnTo>
                    <a:pt x="1014" y="366"/>
                  </a:lnTo>
                  <a:lnTo>
                    <a:pt x="1011" y="368"/>
                  </a:lnTo>
                  <a:lnTo>
                    <a:pt x="1008" y="372"/>
                  </a:lnTo>
                  <a:lnTo>
                    <a:pt x="997" y="379"/>
                  </a:lnTo>
                  <a:lnTo>
                    <a:pt x="983" y="386"/>
                  </a:lnTo>
                  <a:lnTo>
                    <a:pt x="964" y="393"/>
                  </a:lnTo>
                  <a:lnTo>
                    <a:pt x="942" y="400"/>
                  </a:lnTo>
                  <a:lnTo>
                    <a:pt x="917" y="408"/>
                  </a:lnTo>
                  <a:lnTo>
                    <a:pt x="885" y="415"/>
                  </a:lnTo>
                  <a:lnTo>
                    <a:pt x="850" y="423"/>
                  </a:lnTo>
                  <a:lnTo>
                    <a:pt x="809" y="432"/>
                  </a:lnTo>
                  <a:lnTo>
                    <a:pt x="783" y="438"/>
                  </a:lnTo>
                  <a:lnTo>
                    <a:pt x="760" y="446"/>
                  </a:lnTo>
                  <a:lnTo>
                    <a:pt x="751" y="451"/>
                  </a:lnTo>
                  <a:lnTo>
                    <a:pt x="741" y="456"/>
                  </a:lnTo>
                  <a:lnTo>
                    <a:pt x="733" y="460"/>
                  </a:lnTo>
                  <a:lnTo>
                    <a:pt x="726" y="465"/>
                  </a:lnTo>
                  <a:lnTo>
                    <a:pt x="720" y="471"/>
                  </a:lnTo>
                  <a:lnTo>
                    <a:pt x="714" y="476"/>
                  </a:lnTo>
                  <a:lnTo>
                    <a:pt x="709" y="481"/>
                  </a:lnTo>
                  <a:lnTo>
                    <a:pt x="705" y="487"/>
                  </a:lnTo>
                  <a:lnTo>
                    <a:pt x="698" y="499"/>
                  </a:lnTo>
                  <a:lnTo>
                    <a:pt x="695" y="511"/>
                  </a:lnTo>
                  <a:lnTo>
                    <a:pt x="692" y="522"/>
                  </a:lnTo>
                  <a:lnTo>
                    <a:pt x="692" y="534"/>
                  </a:lnTo>
                  <a:lnTo>
                    <a:pt x="693" y="546"/>
                  </a:lnTo>
                  <a:lnTo>
                    <a:pt x="697" y="556"/>
                  </a:lnTo>
                  <a:lnTo>
                    <a:pt x="700" y="567"/>
                  </a:lnTo>
                  <a:lnTo>
                    <a:pt x="706" y="577"/>
                  </a:lnTo>
                  <a:lnTo>
                    <a:pt x="711" y="585"/>
                  </a:lnTo>
                  <a:lnTo>
                    <a:pt x="717" y="594"/>
                  </a:lnTo>
                  <a:lnTo>
                    <a:pt x="721" y="601"/>
                  </a:lnTo>
                  <a:lnTo>
                    <a:pt x="725" y="606"/>
                  </a:lnTo>
                  <a:lnTo>
                    <a:pt x="726" y="613"/>
                  </a:lnTo>
                  <a:lnTo>
                    <a:pt x="726" y="620"/>
                  </a:lnTo>
                  <a:lnTo>
                    <a:pt x="725" y="627"/>
                  </a:lnTo>
                  <a:lnTo>
                    <a:pt x="723" y="634"/>
                  </a:lnTo>
                  <a:lnTo>
                    <a:pt x="718" y="641"/>
                  </a:lnTo>
                  <a:lnTo>
                    <a:pt x="713" y="648"/>
                  </a:lnTo>
                  <a:lnTo>
                    <a:pt x="702" y="662"/>
                  </a:lnTo>
                  <a:lnTo>
                    <a:pt x="688" y="678"/>
                  </a:lnTo>
                  <a:lnTo>
                    <a:pt x="671" y="692"/>
                  </a:lnTo>
                  <a:lnTo>
                    <a:pt x="654" y="706"/>
                  </a:lnTo>
                  <a:lnTo>
                    <a:pt x="637" y="721"/>
                  </a:lnTo>
                  <a:lnTo>
                    <a:pt x="621" y="735"/>
                  </a:lnTo>
                  <a:lnTo>
                    <a:pt x="607" y="749"/>
                  </a:lnTo>
                  <a:lnTo>
                    <a:pt x="595" y="764"/>
                  </a:lnTo>
                  <a:lnTo>
                    <a:pt x="591" y="771"/>
                  </a:lnTo>
                  <a:lnTo>
                    <a:pt x="587" y="778"/>
                  </a:lnTo>
                  <a:lnTo>
                    <a:pt x="585" y="785"/>
                  </a:lnTo>
                  <a:lnTo>
                    <a:pt x="584" y="792"/>
                  </a:lnTo>
                  <a:lnTo>
                    <a:pt x="584" y="799"/>
                  </a:lnTo>
                  <a:lnTo>
                    <a:pt x="586" y="806"/>
                  </a:lnTo>
                  <a:lnTo>
                    <a:pt x="588" y="814"/>
                  </a:lnTo>
                  <a:lnTo>
                    <a:pt x="593" y="82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03" name="Freeform 1510"/>
            <p:cNvSpPr/>
            <p:nvPr/>
          </p:nvSpPr>
          <p:spPr>
            <a:xfrm>
              <a:off x="5411880" y="5014800"/>
              <a:ext cx="285840" cy="159480"/>
            </a:xfrm>
            <a:custGeom>
              <a:avLst/>
              <a:gdLst>
                <a:gd name="textAreaLeft" fmla="*/ 0 w 285840"/>
                <a:gd name="textAreaRight" fmla="*/ 286200 w 285840"/>
                <a:gd name="textAreaTop" fmla="*/ 0 h 159480"/>
                <a:gd name="textAreaBottom" fmla="*/ 159840 h 159480"/>
              </a:gdLst>
              <a:ahLst/>
              <a:rect l="textAreaLeft" t="textAreaTop" r="textAreaRight" b="textAreaBottom"/>
              <a:pathLst>
                <a:path w="1588" h="1055">
                  <a:moveTo>
                    <a:pt x="1576" y="239"/>
                  </a:moveTo>
                  <a:lnTo>
                    <a:pt x="1580" y="281"/>
                  </a:lnTo>
                  <a:lnTo>
                    <a:pt x="1585" y="322"/>
                  </a:lnTo>
                  <a:lnTo>
                    <a:pt x="1587" y="361"/>
                  </a:lnTo>
                  <a:lnTo>
                    <a:pt x="1588" y="397"/>
                  </a:lnTo>
                  <a:lnTo>
                    <a:pt x="1588" y="432"/>
                  </a:lnTo>
                  <a:lnTo>
                    <a:pt x="1588" y="465"/>
                  </a:lnTo>
                  <a:lnTo>
                    <a:pt x="1586" y="496"/>
                  </a:lnTo>
                  <a:lnTo>
                    <a:pt x="1583" y="527"/>
                  </a:lnTo>
                  <a:lnTo>
                    <a:pt x="1579" y="555"/>
                  </a:lnTo>
                  <a:lnTo>
                    <a:pt x="1574" y="580"/>
                  </a:lnTo>
                  <a:lnTo>
                    <a:pt x="1570" y="606"/>
                  </a:lnTo>
                  <a:lnTo>
                    <a:pt x="1563" y="629"/>
                  </a:lnTo>
                  <a:lnTo>
                    <a:pt x="1557" y="652"/>
                  </a:lnTo>
                  <a:lnTo>
                    <a:pt x="1549" y="672"/>
                  </a:lnTo>
                  <a:lnTo>
                    <a:pt x="1542" y="691"/>
                  </a:lnTo>
                  <a:lnTo>
                    <a:pt x="1533" y="709"/>
                  </a:lnTo>
                  <a:lnTo>
                    <a:pt x="1524" y="726"/>
                  </a:lnTo>
                  <a:lnTo>
                    <a:pt x="1515" y="743"/>
                  </a:lnTo>
                  <a:lnTo>
                    <a:pt x="1505" y="757"/>
                  </a:lnTo>
                  <a:lnTo>
                    <a:pt x="1496" y="771"/>
                  </a:lnTo>
                  <a:lnTo>
                    <a:pt x="1477" y="795"/>
                  </a:lnTo>
                  <a:lnTo>
                    <a:pt x="1458" y="816"/>
                  </a:lnTo>
                  <a:lnTo>
                    <a:pt x="1439" y="834"/>
                  </a:lnTo>
                  <a:lnTo>
                    <a:pt x="1421" y="849"/>
                  </a:lnTo>
                  <a:lnTo>
                    <a:pt x="1405" y="862"/>
                  </a:lnTo>
                  <a:lnTo>
                    <a:pt x="1391" y="872"/>
                  </a:lnTo>
                  <a:lnTo>
                    <a:pt x="1373" y="885"/>
                  </a:lnTo>
                  <a:lnTo>
                    <a:pt x="1357" y="898"/>
                  </a:lnTo>
                  <a:lnTo>
                    <a:pt x="1342" y="910"/>
                  </a:lnTo>
                  <a:lnTo>
                    <a:pt x="1330" y="923"/>
                  </a:lnTo>
                  <a:lnTo>
                    <a:pt x="1319" y="934"/>
                  </a:lnTo>
                  <a:lnTo>
                    <a:pt x="1309" y="946"/>
                  </a:lnTo>
                  <a:lnTo>
                    <a:pt x="1300" y="959"/>
                  </a:lnTo>
                  <a:lnTo>
                    <a:pt x="1293" y="971"/>
                  </a:lnTo>
                  <a:lnTo>
                    <a:pt x="1287" y="981"/>
                  </a:lnTo>
                  <a:lnTo>
                    <a:pt x="1282" y="993"/>
                  </a:lnTo>
                  <a:lnTo>
                    <a:pt x="1279" y="1004"/>
                  </a:lnTo>
                  <a:lnTo>
                    <a:pt x="1277" y="1015"/>
                  </a:lnTo>
                  <a:lnTo>
                    <a:pt x="1274" y="1025"/>
                  </a:lnTo>
                  <a:lnTo>
                    <a:pt x="1273" y="1035"/>
                  </a:lnTo>
                  <a:lnTo>
                    <a:pt x="1273" y="1045"/>
                  </a:lnTo>
                  <a:lnTo>
                    <a:pt x="1273" y="1055"/>
                  </a:lnTo>
                  <a:lnTo>
                    <a:pt x="1260" y="1035"/>
                  </a:lnTo>
                  <a:lnTo>
                    <a:pt x="1246" y="1016"/>
                  </a:lnTo>
                  <a:lnTo>
                    <a:pt x="1230" y="1000"/>
                  </a:lnTo>
                  <a:lnTo>
                    <a:pt x="1212" y="985"/>
                  </a:lnTo>
                  <a:lnTo>
                    <a:pt x="1194" y="971"/>
                  </a:lnTo>
                  <a:lnTo>
                    <a:pt x="1173" y="958"/>
                  </a:lnTo>
                  <a:lnTo>
                    <a:pt x="1152" y="945"/>
                  </a:lnTo>
                  <a:lnTo>
                    <a:pt x="1130" y="934"/>
                  </a:lnTo>
                  <a:lnTo>
                    <a:pt x="1107" y="925"/>
                  </a:lnTo>
                  <a:lnTo>
                    <a:pt x="1084" y="916"/>
                  </a:lnTo>
                  <a:lnTo>
                    <a:pt x="1060" y="907"/>
                  </a:lnTo>
                  <a:lnTo>
                    <a:pt x="1037" y="899"/>
                  </a:lnTo>
                  <a:lnTo>
                    <a:pt x="989" y="885"/>
                  </a:lnTo>
                  <a:lnTo>
                    <a:pt x="941" y="872"/>
                  </a:lnTo>
                  <a:lnTo>
                    <a:pt x="920" y="867"/>
                  </a:lnTo>
                  <a:lnTo>
                    <a:pt x="903" y="858"/>
                  </a:lnTo>
                  <a:lnTo>
                    <a:pt x="886" y="850"/>
                  </a:lnTo>
                  <a:lnTo>
                    <a:pt x="875" y="841"/>
                  </a:lnTo>
                  <a:lnTo>
                    <a:pt x="863" y="830"/>
                  </a:lnTo>
                  <a:lnTo>
                    <a:pt x="855" y="820"/>
                  </a:lnTo>
                  <a:lnTo>
                    <a:pt x="848" y="807"/>
                  </a:lnTo>
                  <a:lnTo>
                    <a:pt x="841" y="794"/>
                  </a:lnTo>
                  <a:lnTo>
                    <a:pt x="830" y="767"/>
                  </a:lnTo>
                  <a:lnTo>
                    <a:pt x="820" y="737"/>
                  </a:lnTo>
                  <a:lnTo>
                    <a:pt x="814" y="722"/>
                  </a:lnTo>
                  <a:lnTo>
                    <a:pt x="806" y="705"/>
                  </a:lnTo>
                  <a:lnTo>
                    <a:pt x="798" y="688"/>
                  </a:lnTo>
                  <a:lnTo>
                    <a:pt x="786" y="672"/>
                  </a:lnTo>
                  <a:lnTo>
                    <a:pt x="753" y="659"/>
                  </a:lnTo>
                  <a:lnTo>
                    <a:pt x="722" y="646"/>
                  </a:lnTo>
                  <a:lnTo>
                    <a:pt x="692" y="632"/>
                  </a:lnTo>
                  <a:lnTo>
                    <a:pt x="666" y="617"/>
                  </a:lnTo>
                  <a:lnTo>
                    <a:pt x="640" y="601"/>
                  </a:lnTo>
                  <a:lnTo>
                    <a:pt x="618" y="586"/>
                  </a:lnTo>
                  <a:lnTo>
                    <a:pt x="597" y="571"/>
                  </a:lnTo>
                  <a:lnTo>
                    <a:pt x="579" y="556"/>
                  </a:lnTo>
                  <a:lnTo>
                    <a:pt x="549" y="529"/>
                  </a:lnTo>
                  <a:lnTo>
                    <a:pt x="527" y="507"/>
                  </a:lnTo>
                  <a:lnTo>
                    <a:pt x="514" y="493"/>
                  </a:lnTo>
                  <a:lnTo>
                    <a:pt x="510" y="487"/>
                  </a:lnTo>
                  <a:lnTo>
                    <a:pt x="354" y="441"/>
                  </a:lnTo>
                  <a:lnTo>
                    <a:pt x="0" y="112"/>
                  </a:lnTo>
                  <a:lnTo>
                    <a:pt x="15" y="47"/>
                  </a:lnTo>
                  <a:lnTo>
                    <a:pt x="548" y="0"/>
                  </a:lnTo>
                  <a:lnTo>
                    <a:pt x="579" y="55"/>
                  </a:lnTo>
                  <a:lnTo>
                    <a:pt x="927" y="23"/>
                  </a:lnTo>
                  <a:lnTo>
                    <a:pt x="1576" y="23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04" name="Freeform 1511"/>
            <p:cNvSpPr/>
            <p:nvPr/>
          </p:nvSpPr>
          <p:spPr>
            <a:xfrm>
              <a:off x="5314680" y="4917240"/>
              <a:ext cx="479160" cy="133560"/>
            </a:xfrm>
            <a:custGeom>
              <a:avLst/>
              <a:gdLst>
                <a:gd name="textAreaLeft" fmla="*/ 0 w 479160"/>
                <a:gd name="textAreaRight" fmla="*/ 479520 w 479160"/>
                <a:gd name="textAreaTop" fmla="*/ 0 h 133560"/>
                <a:gd name="textAreaBottom" fmla="*/ 133920 h 133560"/>
              </a:gdLst>
              <a:ahLst/>
              <a:rect l="textAreaLeft" t="textAreaTop" r="textAreaRight" b="textAreaBottom"/>
              <a:pathLst>
                <a:path w="2666" h="882">
                  <a:moveTo>
                    <a:pt x="541" y="755"/>
                  </a:moveTo>
                  <a:lnTo>
                    <a:pt x="556" y="690"/>
                  </a:lnTo>
                  <a:lnTo>
                    <a:pt x="1089" y="643"/>
                  </a:lnTo>
                  <a:lnTo>
                    <a:pt x="1120" y="698"/>
                  </a:lnTo>
                  <a:lnTo>
                    <a:pt x="1468" y="666"/>
                  </a:lnTo>
                  <a:lnTo>
                    <a:pt x="2117" y="882"/>
                  </a:lnTo>
                  <a:lnTo>
                    <a:pt x="2317" y="851"/>
                  </a:lnTo>
                  <a:lnTo>
                    <a:pt x="2316" y="843"/>
                  </a:lnTo>
                  <a:lnTo>
                    <a:pt x="2312" y="822"/>
                  </a:lnTo>
                  <a:lnTo>
                    <a:pt x="2307" y="790"/>
                  </a:lnTo>
                  <a:lnTo>
                    <a:pt x="2302" y="753"/>
                  </a:lnTo>
                  <a:lnTo>
                    <a:pt x="2301" y="733"/>
                  </a:lnTo>
                  <a:lnTo>
                    <a:pt x="2301" y="713"/>
                  </a:lnTo>
                  <a:lnTo>
                    <a:pt x="2302" y="694"/>
                  </a:lnTo>
                  <a:lnTo>
                    <a:pt x="2305" y="676"/>
                  </a:lnTo>
                  <a:lnTo>
                    <a:pt x="2308" y="658"/>
                  </a:lnTo>
                  <a:lnTo>
                    <a:pt x="2314" y="643"/>
                  </a:lnTo>
                  <a:lnTo>
                    <a:pt x="2319" y="637"/>
                  </a:lnTo>
                  <a:lnTo>
                    <a:pt x="2322" y="630"/>
                  </a:lnTo>
                  <a:lnTo>
                    <a:pt x="2327" y="625"/>
                  </a:lnTo>
                  <a:lnTo>
                    <a:pt x="2333" y="621"/>
                  </a:lnTo>
                  <a:lnTo>
                    <a:pt x="2344" y="610"/>
                  </a:lnTo>
                  <a:lnTo>
                    <a:pt x="2357" y="599"/>
                  </a:lnTo>
                  <a:lnTo>
                    <a:pt x="2371" y="586"/>
                  </a:lnTo>
                  <a:lnTo>
                    <a:pt x="2386" y="572"/>
                  </a:lnTo>
                  <a:lnTo>
                    <a:pt x="2418" y="540"/>
                  </a:lnTo>
                  <a:lnTo>
                    <a:pt x="2453" y="507"/>
                  </a:lnTo>
                  <a:lnTo>
                    <a:pt x="2473" y="492"/>
                  </a:lnTo>
                  <a:lnTo>
                    <a:pt x="2494" y="477"/>
                  </a:lnTo>
                  <a:lnTo>
                    <a:pt x="2515" y="463"/>
                  </a:lnTo>
                  <a:lnTo>
                    <a:pt x="2538" y="450"/>
                  </a:lnTo>
                  <a:lnTo>
                    <a:pt x="2550" y="444"/>
                  </a:lnTo>
                  <a:lnTo>
                    <a:pt x="2563" y="438"/>
                  </a:lnTo>
                  <a:lnTo>
                    <a:pt x="2576" y="434"/>
                  </a:lnTo>
                  <a:lnTo>
                    <a:pt x="2588" y="429"/>
                  </a:lnTo>
                  <a:lnTo>
                    <a:pt x="2601" y="426"/>
                  </a:lnTo>
                  <a:lnTo>
                    <a:pt x="2615" y="422"/>
                  </a:lnTo>
                  <a:lnTo>
                    <a:pt x="2629" y="420"/>
                  </a:lnTo>
                  <a:lnTo>
                    <a:pt x="2643" y="419"/>
                  </a:lnTo>
                  <a:lnTo>
                    <a:pt x="2645" y="403"/>
                  </a:lnTo>
                  <a:lnTo>
                    <a:pt x="2646" y="387"/>
                  </a:lnTo>
                  <a:lnTo>
                    <a:pt x="2648" y="370"/>
                  </a:lnTo>
                  <a:lnTo>
                    <a:pt x="2652" y="351"/>
                  </a:lnTo>
                  <a:lnTo>
                    <a:pt x="2659" y="314"/>
                  </a:lnTo>
                  <a:lnTo>
                    <a:pt x="2664" y="276"/>
                  </a:lnTo>
                  <a:lnTo>
                    <a:pt x="2666" y="257"/>
                  </a:lnTo>
                  <a:lnTo>
                    <a:pt x="2666" y="239"/>
                  </a:lnTo>
                  <a:lnTo>
                    <a:pt x="2664" y="222"/>
                  </a:lnTo>
                  <a:lnTo>
                    <a:pt x="2662" y="206"/>
                  </a:lnTo>
                  <a:lnTo>
                    <a:pt x="2660" y="198"/>
                  </a:lnTo>
                  <a:lnTo>
                    <a:pt x="2656" y="191"/>
                  </a:lnTo>
                  <a:lnTo>
                    <a:pt x="2653" y="184"/>
                  </a:lnTo>
                  <a:lnTo>
                    <a:pt x="2649" y="178"/>
                  </a:lnTo>
                  <a:lnTo>
                    <a:pt x="2645" y="172"/>
                  </a:lnTo>
                  <a:lnTo>
                    <a:pt x="2639" y="166"/>
                  </a:lnTo>
                  <a:lnTo>
                    <a:pt x="2633" y="160"/>
                  </a:lnTo>
                  <a:lnTo>
                    <a:pt x="2626" y="157"/>
                  </a:lnTo>
                  <a:lnTo>
                    <a:pt x="2597" y="141"/>
                  </a:lnTo>
                  <a:lnTo>
                    <a:pt x="2569" y="128"/>
                  </a:lnTo>
                  <a:lnTo>
                    <a:pt x="2539" y="116"/>
                  </a:lnTo>
                  <a:lnTo>
                    <a:pt x="2511" y="102"/>
                  </a:lnTo>
                  <a:lnTo>
                    <a:pt x="2496" y="95"/>
                  </a:lnTo>
                  <a:lnTo>
                    <a:pt x="2482" y="86"/>
                  </a:lnTo>
                  <a:lnTo>
                    <a:pt x="2468" y="76"/>
                  </a:lnTo>
                  <a:lnTo>
                    <a:pt x="2454" y="65"/>
                  </a:lnTo>
                  <a:lnTo>
                    <a:pt x="2439" y="52"/>
                  </a:lnTo>
                  <a:lnTo>
                    <a:pt x="2425" y="37"/>
                  </a:lnTo>
                  <a:lnTo>
                    <a:pt x="2411" y="20"/>
                  </a:lnTo>
                  <a:lnTo>
                    <a:pt x="2396" y="0"/>
                  </a:lnTo>
                  <a:lnTo>
                    <a:pt x="625" y="240"/>
                  </a:lnTo>
                  <a:lnTo>
                    <a:pt x="618" y="246"/>
                  </a:lnTo>
                  <a:lnTo>
                    <a:pt x="613" y="252"/>
                  </a:lnTo>
                  <a:lnTo>
                    <a:pt x="611" y="260"/>
                  </a:lnTo>
                  <a:lnTo>
                    <a:pt x="607" y="269"/>
                  </a:lnTo>
                  <a:lnTo>
                    <a:pt x="605" y="290"/>
                  </a:lnTo>
                  <a:lnTo>
                    <a:pt x="603" y="311"/>
                  </a:lnTo>
                  <a:lnTo>
                    <a:pt x="600" y="323"/>
                  </a:lnTo>
                  <a:lnTo>
                    <a:pt x="598" y="333"/>
                  </a:lnTo>
                  <a:lnTo>
                    <a:pt x="593" y="343"/>
                  </a:lnTo>
                  <a:lnTo>
                    <a:pt x="589" y="351"/>
                  </a:lnTo>
                  <a:lnTo>
                    <a:pt x="582" y="359"/>
                  </a:lnTo>
                  <a:lnTo>
                    <a:pt x="573" y="365"/>
                  </a:lnTo>
                  <a:lnTo>
                    <a:pt x="569" y="367"/>
                  </a:lnTo>
                  <a:lnTo>
                    <a:pt x="563" y="370"/>
                  </a:lnTo>
                  <a:lnTo>
                    <a:pt x="557" y="372"/>
                  </a:lnTo>
                  <a:lnTo>
                    <a:pt x="550" y="372"/>
                  </a:lnTo>
                  <a:lnTo>
                    <a:pt x="538" y="374"/>
                  </a:lnTo>
                  <a:lnTo>
                    <a:pt x="528" y="377"/>
                  </a:lnTo>
                  <a:lnTo>
                    <a:pt x="517" y="380"/>
                  </a:lnTo>
                  <a:lnTo>
                    <a:pt x="507" y="385"/>
                  </a:lnTo>
                  <a:lnTo>
                    <a:pt x="498" y="389"/>
                  </a:lnTo>
                  <a:lnTo>
                    <a:pt x="488" y="395"/>
                  </a:lnTo>
                  <a:lnTo>
                    <a:pt x="480" y="401"/>
                  </a:lnTo>
                  <a:lnTo>
                    <a:pt x="472" y="408"/>
                  </a:lnTo>
                  <a:lnTo>
                    <a:pt x="455" y="423"/>
                  </a:lnTo>
                  <a:lnTo>
                    <a:pt x="440" y="438"/>
                  </a:lnTo>
                  <a:lnTo>
                    <a:pt x="424" y="456"/>
                  </a:lnTo>
                  <a:lnTo>
                    <a:pt x="409" y="474"/>
                  </a:lnTo>
                  <a:lnTo>
                    <a:pt x="394" y="491"/>
                  </a:lnTo>
                  <a:lnTo>
                    <a:pt x="377" y="507"/>
                  </a:lnTo>
                  <a:lnTo>
                    <a:pt x="360" y="524"/>
                  </a:lnTo>
                  <a:lnTo>
                    <a:pt x="341" y="539"/>
                  </a:lnTo>
                  <a:lnTo>
                    <a:pt x="332" y="545"/>
                  </a:lnTo>
                  <a:lnTo>
                    <a:pt x="321" y="552"/>
                  </a:lnTo>
                  <a:lnTo>
                    <a:pt x="311" y="556"/>
                  </a:lnTo>
                  <a:lnTo>
                    <a:pt x="299" y="562"/>
                  </a:lnTo>
                  <a:lnTo>
                    <a:pt x="287" y="566"/>
                  </a:lnTo>
                  <a:lnTo>
                    <a:pt x="274" y="569"/>
                  </a:lnTo>
                  <a:lnTo>
                    <a:pt x="262" y="573"/>
                  </a:lnTo>
                  <a:lnTo>
                    <a:pt x="248" y="574"/>
                  </a:lnTo>
                  <a:lnTo>
                    <a:pt x="236" y="575"/>
                  </a:lnTo>
                  <a:lnTo>
                    <a:pt x="224" y="577"/>
                  </a:lnTo>
                  <a:lnTo>
                    <a:pt x="213" y="580"/>
                  </a:lnTo>
                  <a:lnTo>
                    <a:pt x="201" y="583"/>
                  </a:lnTo>
                  <a:lnTo>
                    <a:pt x="177" y="592"/>
                  </a:lnTo>
                  <a:lnTo>
                    <a:pt x="154" y="601"/>
                  </a:lnTo>
                  <a:lnTo>
                    <a:pt x="132" y="613"/>
                  </a:lnTo>
                  <a:lnTo>
                    <a:pt x="111" y="625"/>
                  </a:lnTo>
                  <a:lnTo>
                    <a:pt x="91" y="639"/>
                  </a:lnTo>
                  <a:lnTo>
                    <a:pt x="72" y="653"/>
                  </a:lnTo>
                  <a:lnTo>
                    <a:pt x="56" y="669"/>
                  </a:lnTo>
                  <a:lnTo>
                    <a:pt x="41" y="683"/>
                  </a:lnTo>
                  <a:lnTo>
                    <a:pt x="28" y="697"/>
                  </a:lnTo>
                  <a:lnTo>
                    <a:pt x="19" y="709"/>
                  </a:lnTo>
                  <a:lnTo>
                    <a:pt x="12" y="720"/>
                  </a:lnTo>
                  <a:lnTo>
                    <a:pt x="7" y="731"/>
                  </a:lnTo>
                  <a:lnTo>
                    <a:pt x="6" y="735"/>
                  </a:lnTo>
                  <a:lnTo>
                    <a:pt x="6" y="739"/>
                  </a:lnTo>
                  <a:lnTo>
                    <a:pt x="7" y="741"/>
                  </a:lnTo>
                  <a:lnTo>
                    <a:pt x="8" y="745"/>
                  </a:lnTo>
                  <a:lnTo>
                    <a:pt x="12" y="748"/>
                  </a:lnTo>
                  <a:lnTo>
                    <a:pt x="15" y="754"/>
                  </a:lnTo>
                  <a:lnTo>
                    <a:pt x="17" y="759"/>
                  </a:lnTo>
                  <a:lnTo>
                    <a:pt x="19" y="763"/>
                  </a:lnTo>
                  <a:lnTo>
                    <a:pt x="20" y="775"/>
                  </a:lnTo>
                  <a:lnTo>
                    <a:pt x="17" y="785"/>
                  </a:lnTo>
                  <a:lnTo>
                    <a:pt x="15" y="795"/>
                  </a:lnTo>
                  <a:lnTo>
                    <a:pt x="10" y="803"/>
                  </a:lnTo>
                  <a:lnTo>
                    <a:pt x="5" y="810"/>
                  </a:lnTo>
                  <a:lnTo>
                    <a:pt x="0" y="813"/>
                  </a:lnTo>
                  <a:lnTo>
                    <a:pt x="541" y="75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05" name="Freeform 1512"/>
            <p:cNvSpPr/>
            <p:nvPr/>
          </p:nvSpPr>
          <p:spPr>
            <a:xfrm>
              <a:off x="4961160" y="4953600"/>
              <a:ext cx="465840" cy="120240"/>
            </a:xfrm>
            <a:custGeom>
              <a:avLst/>
              <a:gdLst>
                <a:gd name="textAreaLeft" fmla="*/ 0 w 465840"/>
                <a:gd name="textAreaRight" fmla="*/ 466200 w 465840"/>
                <a:gd name="textAreaTop" fmla="*/ 0 h 120240"/>
                <a:gd name="textAreaBottom" fmla="*/ 120600 h 120240"/>
              </a:gdLst>
              <a:ahLst/>
              <a:rect l="textAreaLeft" t="textAreaTop" r="textAreaRight" b="textAreaBottom"/>
              <a:pathLst>
                <a:path w="2590" h="792">
                  <a:moveTo>
                    <a:pt x="2590" y="0"/>
                  </a:moveTo>
                  <a:lnTo>
                    <a:pt x="613" y="265"/>
                  </a:lnTo>
                  <a:lnTo>
                    <a:pt x="596" y="311"/>
                  </a:lnTo>
                  <a:lnTo>
                    <a:pt x="78" y="366"/>
                  </a:lnTo>
                  <a:lnTo>
                    <a:pt x="76" y="377"/>
                  </a:lnTo>
                  <a:lnTo>
                    <a:pt x="75" y="388"/>
                  </a:lnTo>
                  <a:lnTo>
                    <a:pt x="74" y="398"/>
                  </a:lnTo>
                  <a:lnTo>
                    <a:pt x="74" y="408"/>
                  </a:lnTo>
                  <a:lnTo>
                    <a:pt x="74" y="426"/>
                  </a:lnTo>
                  <a:lnTo>
                    <a:pt x="74" y="443"/>
                  </a:lnTo>
                  <a:lnTo>
                    <a:pt x="73" y="452"/>
                  </a:lnTo>
                  <a:lnTo>
                    <a:pt x="70" y="460"/>
                  </a:lnTo>
                  <a:lnTo>
                    <a:pt x="68" y="469"/>
                  </a:lnTo>
                  <a:lnTo>
                    <a:pt x="63" y="478"/>
                  </a:lnTo>
                  <a:lnTo>
                    <a:pt x="59" y="487"/>
                  </a:lnTo>
                  <a:lnTo>
                    <a:pt x="52" y="498"/>
                  </a:lnTo>
                  <a:lnTo>
                    <a:pt x="42" y="508"/>
                  </a:lnTo>
                  <a:lnTo>
                    <a:pt x="32" y="519"/>
                  </a:lnTo>
                  <a:lnTo>
                    <a:pt x="35" y="535"/>
                  </a:lnTo>
                  <a:lnTo>
                    <a:pt x="36" y="551"/>
                  </a:lnTo>
                  <a:lnTo>
                    <a:pt x="37" y="568"/>
                  </a:lnTo>
                  <a:lnTo>
                    <a:pt x="39" y="585"/>
                  </a:lnTo>
                  <a:lnTo>
                    <a:pt x="37" y="603"/>
                  </a:lnTo>
                  <a:lnTo>
                    <a:pt x="37" y="619"/>
                  </a:lnTo>
                  <a:lnTo>
                    <a:pt x="35" y="637"/>
                  </a:lnTo>
                  <a:lnTo>
                    <a:pt x="33" y="654"/>
                  </a:lnTo>
                  <a:lnTo>
                    <a:pt x="27" y="689"/>
                  </a:lnTo>
                  <a:lnTo>
                    <a:pt x="20" y="724"/>
                  </a:lnTo>
                  <a:lnTo>
                    <a:pt x="11" y="758"/>
                  </a:lnTo>
                  <a:lnTo>
                    <a:pt x="0" y="792"/>
                  </a:lnTo>
                  <a:lnTo>
                    <a:pt x="709" y="717"/>
                  </a:lnTo>
                  <a:lnTo>
                    <a:pt x="712" y="717"/>
                  </a:lnTo>
                  <a:lnTo>
                    <a:pt x="1466" y="631"/>
                  </a:lnTo>
                  <a:lnTo>
                    <a:pt x="1967" y="576"/>
                  </a:lnTo>
                  <a:lnTo>
                    <a:pt x="1972" y="563"/>
                  </a:lnTo>
                  <a:lnTo>
                    <a:pt x="1981" y="545"/>
                  </a:lnTo>
                  <a:lnTo>
                    <a:pt x="1982" y="541"/>
                  </a:lnTo>
                  <a:lnTo>
                    <a:pt x="1984" y="536"/>
                  </a:lnTo>
                  <a:lnTo>
                    <a:pt x="1985" y="530"/>
                  </a:lnTo>
                  <a:lnTo>
                    <a:pt x="1985" y="526"/>
                  </a:lnTo>
                  <a:lnTo>
                    <a:pt x="1984" y="520"/>
                  </a:lnTo>
                  <a:lnTo>
                    <a:pt x="1981" y="515"/>
                  </a:lnTo>
                  <a:lnTo>
                    <a:pt x="1978" y="509"/>
                  </a:lnTo>
                  <a:lnTo>
                    <a:pt x="1973" y="505"/>
                  </a:lnTo>
                  <a:lnTo>
                    <a:pt x="1972" y="501"/>
                  </a:lnTo>
                  <a:lnTo>
                    <a:pt x="1971" y="499"/>
                  </a:lnTo>
                  <a:lnTo>
                    <a:pt x="1971" y="495"/>
                  </a:lnTo>
                  <a:lnTo>
                    <a:pt x="1972" y="491"/>
                  </a:lnTo>
                  <a:lnTo>
                    <a:pt x="1977" y="480"/>
                  </a:lnTo>
                  <a:lnTo>
                    <a:pt x="1984" y="469"/>
                  </a:lnTo>
                  <a:lnTo>
                    <a:pt x="1993" y="457"/>
                  </a:lnTo>
                  <a:lnTo>
                    <a:pt x="2006" y="443"/>
                  </a:lnTo>
                  <a:lnTo>
                    <a:pt x="2021" y="429"/>
                  </a:lnTo>
                  <a:lnTo>
                    <a:pt x="2037" y="413"/>
                  </a:lnTo>
                  <a:lnTo>
                    <a:pt x="2056" y="399"/>
                  </a:lnTo>
                  <a:lnTo>
                    <a:pt x="2076" y="385"/>
                  </a:lnTo>
                  <a:lnTo>
                    <a:pt x="2097" y="373"/>
                  </a:lnTo>
                  <a:lnTo>
                    <a:pt x="2119" y="361"/>
                  </a:lnTo>
                  <a:lnTo>
                    <a:pt x="2142" y="352"/>
                  </a:lnTo>
                  <a:lnTo>
                    <a:pt x="2166" y="343"/>
                  </a:lnTo>
                  <a:lnTo>
                    <a:pt x="2178" y="340"/>
                  </a:lnTo>
                  <a:lnTo>
                    <a:pt x="2189" y="337"/>
                  </a:lnTo>
                  <a:lnTo>
                    <a:pt x="2201" y="335"/>
                  </a:lnTo>
                  <a:lnTo>
                    <a:pt x="2213" y="334"/>
                  </a:lnTo>
                  <a:lnTo>
                    <a:pt x="2227" y="333"/>
                  </a:lnTo>
                  <a:lnTo>
                    <a:pt x="2239" y="329"/>
                  </a:lnTo>
                  <a:lnTo>
                    <a:pt x="2252" y="326"/>
                  </a:lnTo>
                  <a:lnTo>
                    <a:pt x="2264" y="322"/>
                  </a:lnTo>
                  <a:lnTo>
                    <a:pt x="2276" y="316"/>
                  </a:lnTo>
                  <a:lnTo>
                    <a:pt x="2286" y="312"/>
                  </a:lnTo>
                  <a:lnTo>
                    <a:pt x="2297" y="305"/>
                  </a:lnTo>
                  <a:lnTo>
                    <a:pt x="2306" y="299"/>
                  </a:lnTo>
                  <a:lnTo>
                    <a:pt x="2325" y="284"/>
                  </a:lnTo>
                  <a:lnTo>
                    <a:pt x="2342" y="267"/>
                  </a:lnTo>
                  <a:lnTo>
                    <a:pt x="2359" y="251"/>
                  </a:lnTo>
                  <a:lnTo>
                    <a:pt x="2374" y="234"/>
                  </a:lnTo>
                  <a:lnTo>
                    <a:pt x="2389" y="216"/>
                  </a:lnTo>
                  <a:lnTo>
                    <a:pt x="2405" y="198"/>
                  </a:lnTo>
                  <a:lnTo>
                    <a:pt x="2420" y="183"/>
                  </a:lnTo>
                  <a:lnTo>
                    <a:pt x="2437" y="168"/>
                  </a:lnTo>
                  <a:lnTo>
                    <a:pt x="2445" y="161"/>
                  </a:lnTo>
                  <a:lnTo>
                    <a:pt x="2453" y="155"/>
                  </a:lnTo>
                  <a:lnTo>
                    <a:pt x="2463" y="149"/>
                  </a:lnTo>
                  <a:lnTo>
                    <a:pt x="2472" y="145"/>
                  </a:lnTo>
                  <a:lnTo>
                    <a:pt x="2482" y="140"/>
                  </a:lnTo>
                  <a:lnTo>
                    <a:pt x="2493" y="137"/>
                  </a:lnTo>
                  <a:lnTo>
                    <a:pt x="2503" y="134"/>
                  </a:lnTo>
                  <a:lnTo>
                    <a:pt x="2515" y="132"/>
                  </a:lnTo>
                  <a:lnTo>
                    <a:pt x="2522" y="132"/>
                  </a:lnTo>
                  <a:lnTo>
                    <a:pt x="2528" y="130"/>
                  </a:lnTo>
                  <a:lnTo>
                    <a:pt x="2534" y="127"/>
                  </a:lnTo>
                  <a:lnTo>
                    <a:pt x="2538" y="125"/>
                  </a:lnTo>
                  <a:lnTo>
                    <a:pt x="2547" y="119"/>
                  </a:lnTo>
                  <a:lnTo>
                    <a:pt x="2554" y="111"/>
                  </a:lnTo>
                  <a:lnTo>
                    <a:pt x="2558" y="103"/>
                  </a:lnTo>
                  <a:lnTo>
                    <a:pt x="2563" y="93"/>
                  </a:lnTo>
                  <a:lnTo>
                    <a:pt x="2565" y="83"/>
                  </a:lnTo>
                  <a:lnTo>
                    <a:pt x="2568" y="71"/>
                  </a:lnTo>
                  <a:lnTo>
                    <a:pt x="2570" y="50"/>
                  </a:lnTo>
                  <a:lnTo>
                    <a:pt x="2572" y="29"/>
                  </a:lnTo>
                  <a:lnTo>
                    <a:pt x="2576" y="20"/>
                  </a:lnTo>
                  <a:lnTo>
                    <a:pt x="2578" y="12"/>
                  </a:lnTo>
                  <a:lnTo>
                    <a:pt x="2583" y="6"/>
                  </a:lnTo>
                  <a:lnTo>
                    <a:pt x="259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06" name="Freeform 1513"/>
            <p:cNvSpPr/>
            <p:nvPr/>
          </p:nvSpPr>
          <p:spPr>
            <a:xfrm>
              <a:off x="4975560" y="4874040"/>
              <a:ext cx="383760" cy="135360"/>
            </a:xfrm>
            <a:custGeom>
              <a:avLst/>
              <a:gdLst>
                <a:gd name="textAreaLeft" fmla="*/ 0 w 383760"/>
                <a:gd name="textAreaRight" fmla="*/ 384120 w 383760"/>
                <a:gd name="textAreaTop" fmla="*/ 0 h 135360"/>
                <a:gd name="textAreaBottom" fmla="*/ 135720 h 135360"/>
              </a:gdLst>
              <a:ahLst/>
              <a:rect l="textAreaLeft" t="textAreaTop" r="textAreaRight" b="textAreaBottom"/>
              <a:pathLst>
                <a:path w="2135" h="893">
                  <a:moveTo>
                    <a:pt x="1872" y="611"/>
                  </a:moveTo>
                  <a:lnTo>
                    <a:pt x="535" y="792"/>
                  </a:lnTo>
                  <a:lnTo>
                    <a:pt x="518" y="838"/>
                  </a:lnTo>
                  <a:lnTo>
                    <a:pt x="0" y="893"/>
                  </a:lnTo>
                  <a:lnTo>
                    <a:pt x="7" y="870"/>
                  </a:lnTo>
                  <a:lnTo>
                    <a:pt x="16" y="849"/>
                  </a:lnTo>
                  <a:lnTo>
                    <a:pt x="25" y="829"/>
                  </a:lnTo>
                  <a:lnTo>
                    <a:pt x="37" y="812"/>
                  </a:lnTo>
                  <a:lnTo>
                    <a:pt x="49" y="794"/>
                  </a:lnTo>
                  <a:lnTo>
                    <a:pt x="63" y="778"/>
                  </a:lnTo>
                  <a:lnTo>
                    <a:pt x="79" y="764"/>
                  </a:lnTo>
                  <a:lnTo>
                    <a:pt x="95" y="751"/>
                  </a:lnTo>
                  <a:lnTo>
                    <a:pt x="110" y="737"/>
                  </a:lnTo>
                  <a:lnTo>
                    <a:pt x="125" y="725"/>
                  </a:lnTo>
                  <a:lnTo>
                    <a:pt x="139" y="716"/>
                  </a:lnTo>
                  <a:lnTo>
                    <a:pt x="153" y="708"/>
                  </a:lnTo>
                  <a:lnTo>
                    <a:pt x="180" y="695"/>
                  </a:lnTo>
                  <a:lnTo>
                    <a:pt x="206" y="682"/>
                  </a:lnTo>
                  <a:lnTo>
                    <a:pt x="219" y="675"/>
                  </a:lnTo>
                  <a:lnTo>
                    <a:pt x="232" y="666"/>
                  </a:lnTo>
                  <a:lnTo>
                    <a:pt x="246" y="655"/>
                  </a:lnTo>
                  <a:lnTo>
                    <a:pt x="259" y="643"/>
                  </a:lnTo>
                  <a:lnTo>
                    <a:pt x="273" y="627"/>
                  </a:lnTo>
                  <a:lnTo>
                    <a:pt x="287" y="609"/>
                  </a:lnTo>
                  <a:lnTo>
                    <a:pt x="302" y="585"/>
                  </a:lnTo>
                  <a:lnTo>
                    <a:pt x="317" y="558"/>
                  </a:lnTo>
                  <a:lnTo>
                    <a:pt x="326" y="539"/>
                  </a:lnTo>
                  <a:lnTo>
                    <a:pt x="331" y="527"/>
                  </a:lnTo>
                  <a:lnTo>
                    <a:pt x="336" y="520"/>
                  </a:lnTo>
                  <a:lnTo>
                    <a:pt x="344" y="509"/>
                  </a:lnTo>
                  <a:lnTo>
                    <a:pt x="359" y="495"/>
                  </a:lnTo>
                  <a:lnTo>
                    <a:pt x="380" y="476"/>
                  </a:lnTo>
                  <a:lnTo>
                    <a:pt x="391" y="466"/>
                  </a:lnTo>
                  <a:lnTo>
                    <a:pt x="402" y="458"/>
                  </a:lnTo>
                  <a:lnTo>
                    <a:pt x="415" y="451"/>
                  </a:lnTo>
                  <a:lnTo>
                    <a:pt x="430" y="444"/>
                  </a:lnTo>
                  <a:lnTo>
                    <a:pt x="444" y="438"/>
                  </a:lnTo>
                  <a:lnTo>
                    <a:pt x="461" y="432"/>
                  </a:lnTo>
                  <a:lnTo>
                    <a:pt x="478" y="428"/>
                  </a:lnTo>
                  <a:lnTo>
                    <a:pt x="496" y="423"/>
                  </a:lnTo>
                  <a:lnTo>
                    <a:pt x="575" y="407"/>
                  </a:lnTo>
                  <a:lnTo>
                    <a:pt x="663" y="391"/>
                  </a:lnTo>
                  <a:lnTo>
                    <a:pt x="708" y="382"/>
                  </a:lnTo>
                  <a:lnTo>
                    <a:pt x="755" y="370"/>
                  </a:lnTo>
                  <a:lnTo>
                    <a:pt x="778" y="363"/>
                  </a:lnTo>
                  <a:lnTo>
                    <a:pt x="802" y="356"/>
                  </a:lnTo>
                  <a:lnTo>
                    <a:pt x="825" y="348"/>
                  </a:lnTo>
                  <a:lnTo>
                    <a:pt x="848" y="340"/>
                  </a:lnTo>
                  <a:lnTo>
                    <a:pt x="872" y="330"/>
                  </a:lnTo>
                  <a:lnTo>
                    <a:pt x="894" y="319"/>
                  </a:lnTo>
                  <a:lnTo>
                    <a:pt x="916" y="306"/>
                  </a:lnTo>
                  <a:lnTo>
                    <a:pt x="938" y="293"/>
                  </a:lnTo>
                  <a:lnTo>
                    <a:pt x="961" y="279"/>
                  </a:lnTo>
                  <a:lnTo>
                    <a:pt x="982" y="263"/>
                  </a:lnTo>
                  <a:lnTo>
                    <a:pt x="1003" y="247"/>
                  </a:lnTo>
                  <a:lnTo>
                    <a:pt x="1022" y="228"/>
                  </a:lnTo>
                  <a:lnTo>
                    <a:pt x="1041" y="208"/>
                  </a:lnTo>
                  <a:lnTo>
                    <a:pt x="1054" y="191"/>
                  </a:lnTo>
                  <a:lnTo>
                    <a:pt x="1059" y="182"/>
                  </a:lnTo>
                  <a:lnTo>
                    <a:pt x="1062" y="175"/>
                  </a:lnTo>
                  <a:lnTo>
                    <a:pt x="1066" y="168"/>
                  </a:lnTo>
                  <a:lnTo>
                    <a:pt x="1068" y="161"/>
                  </a:lnTo>
                  <a:lnTo>
                    <a:pt x="1070" y="150"/>
                  </a:lnTo>
                  <a:lnTo>
                    <a:pt x="1070" y="139"/>
                  </a:lnTo>
                  <a:lnTo>
                    <a:pt x="1068" y="130"/>
                  </a:lnTo>
                  <a:lnTo>
                    <a:pt x="1067" y="120"/>
                  </a:lnTo>
                  <a:lnTo>
                    <a:pt x="1065" y="112"/>
                  </a:lnTo>
                  <a:lnTo>
                    <a:pt x="1062" y="104"/>
                  </a:lnTo>
                  <a:lnTo>
                    <a:pt x="1062" y="96"/>
                  </a:lnTo>
                  <a:lnTo>
                    <a:pt x="1063" y="87"/>
                  </a:lnTo>
                  <a:lnTo>
                    <a:pt x="1066" y="82"/>
                  </a:lnTo>
                  <a:lnTo>
                    <a:pt x="1068" y="77"/>
                  </a:lnTo>
                  <a:lnTo>
                    <a:pt x="1072" y="71"/>
                  </a:lnTo>
                  <a:lnTo>
                    <a:pt x="1076" y="66"/>
                  </a:lnTo>
                  <a:lnTo>
                    <a:pt x="1089" y="54"/>
                  </a:lnTo>
                  <a:lnTo>
                    <a:pt x="1105" y="40"/>
                  </a:lnTo>
                  <a:lnTo>
                    <a:pt x="1109" y="36"/>
                  </a:lnTo>
                  <a:lnTo>
                    <a:pt x="1112" y="34"/>
                  </a:lnTo>
                  <a:lnTo>
                    <a:pt x="1116" y="32"/>
                  </a:lnTo>
                  <a:lnTo>
                    <a:pt x="1121" y="30"/>
                  </a:lnTo>
                  <a:lnTo>
                    <a:pt x="1131" y="28"/>
                  </a:lnTo>
                  <a:lnTo>
                    <a:pt x="1142" y="28"/>
                  </a:lnTo>
                  <a:lnTo>
                    <a:pt x="1153" y="27"/>
                  </a:lnTo>
                  <a:lnTo>
                    <a:pt x="1164" y="25"/>
                  </a:lnTo>
                  <a:lnTo>
                    <a:pt x="1170" y="22"/>
                  </a:lnTo>
                  <a:lnTo>
                    <a:pt x="1174" y="20"/>
                  </a:lnTo>
                  <a:lnTo>
                    <a:pt x="1179" y="16"/>
                  </a:lnTo>
                  <a:lnTo>
                    <a:pt x="1184" y="12"/>
                  </a:lnTo>
                  <a:lnTo>
                    <a:pt x="1186" y="8"/>
                  </a:lnTo>
                  <a:lnTo>
                    <a:pt x="1190" y="6"/>
                  </a:lnTo>
                  <a:lnTo>
                    <a:pt x="1193" y="5"/>
                  </a:lnTo>
                  <a:lnTo>
                    <a:pt x="1197" y="2"/>
                  </a:lnTo>
                  <a:lnTo>
                    <a:pt x="1206" y="1"/>
                  </a:lnTo>
                  <a:lnTo>
                    <a:pt x="1216" y="0"/>
                  </a:lnTo>
                  <a:lnTo>
                    <a:pt x="1229" y="0"/>
                  </a:lnTo>
                  <a:lnTo>
                    <a:pt x="1242" y="1"/>
                  </a:lnTo>
                  <a:lnTo>
                    <a:pt x="1255" y="4"/>
                  </a:lnTo>
                  <a:lnTo>
                    <a:pt x="1269" y="6"/>
                  </a:lnTo>
                  <a:lnTo>
                    <a:pt x="1296" y="11"/>
                  </a:lnTo>
                  <a:lnTo>
                    <a:pt x="1320" y="15"/>
                  </a:lnTo>
                  <a:lnTo>
                    <a:pt x="1331" y="18"/>
                  </a:lnTo>
                  <a:lnTo>
                    <a:pt x="1340" y="18"/>
                  </a:lnTo>
                  <a:lnTo>
                    <a:pt x="1348" y="19"/>
                  </a:lnTo>
                  <a:lnTo>
                    <a:pt x="1353" y="18"/>
                  </a:lnTo>
                  <a:lnTo>
                    <a:pt x="1358" y="16"/>
                  </a:lnTo>
                  <a:lnTo>
                    <a:pt x="1364" y="18"/>
                  </a:lnTo>
                  <a:lnTo>
                    <a:pt x="1369" y="20"/>
                  </a:lnTo>
                  <a:lnTo>
                    <a:pt x="1376" y="23"/>
                  </a:lnTo>
                  <a:lnTo>
                    <a:pt x="1390" y="30"/>
                  </a:lnTo>
                  <a:lnTo>
                    <a:pt x="1404" y="40"/>
                  </a:lnTo>
                  <a:lnTo>
                    <a:pt x="1420" y="48"/>
                  </a:lnTo>
                  <a:lnTo>
                    <a:pt x="1435" y="53"/>
                  </a:lnTo>
                  <a:lnTo>
                    <a:pt x="1442" y="54"/>
                  </a:lnTo>
                  <a:lnTo>
                    <a:pt x="1449" y="54"/>
                  </a:lnTo>
                  <a:lnTo>
                    <a:pt x="1455" y="53"/>
                  </a:lnTo>
                  <a:lnTo>
                    <a:pt x="1461" y="49"/>
                  </a:lnTo>
                  <a:lnTo>
                    <a:pt x="1466" y="44"/>
                  </a:lnTo>
                  <a:lnTo>
                    <a:pt x="1473" y="41"/>
                  </a:lnTo>
                  <a:lnTo>
                    <a:pt x="1482" y="37"/>
                  </a:lnTo>
                  <a:lnTo>
                    <a:pt x="1490" y="34"/>
                  </a:lnTo>
                  <a:lnTo>
                    <a:pt x="1508" y="29"/>
                  </a:lnTo>
                  <a:lnTo>
                    <a:pt x="1529" y="25"/>
                  </a:lnTo>
                  <a:lnTo>
                    <a:pt x="1552" y="21"/>
                  </a:lnTo>
                  <a:lnTo>
                    <a:pt x="1576" y="19"/>
                  </a:lnTo>
                  <a:lnTo>
                    <a:pt x="1603" y="18"/>
                  </a:lnTo>
                  <a:lnTo>
                    <a:pt x="1630" y="18"/>
                  </a:lnTo>
                  <a:lnTo>
                    <a:pt x="1653" y="18"/>
                  </a:lnTo>
                  <a:lnTo>
                    <a:pt x="1673" y="19"/>
                  </a:lnTo>
                  <a:lnTo>
                    <a:pt x="1689" y="23"/>
                  </a:lnTo>
                  <a:lnTo>
                    <a:pt x="1704" y="29"/>
                  </a:lnTo>
                  <a:lnTo>
                    <a:pt x="1716" y="36"/>
                  </a:lnTo>
                  <a:lnTo>
                    <a:pt x="1729" y="44"/>
                  </a:lnTo>
                  <a:lnTo>
                    <a:pt x="1741" y="53"/>
                  </a:lnTo>
                  <a:lnTo>
                    <a:pt x="1753" y="63"/>
                  </a:lnTo>
                  <a:lnTo>
                    <a:pt x="1764" y="74"/>
                  </a:lnTo>
                  <a:lnTo>
                    <a:pt x="1778" y="84"/>
                  </a:lnTo>
                  <a:lnTo>
                    <a:pt x="1795" y="95"/>
                  </a:lnTo>
                  <a:lnTo>
                    <a:pt x="1813" y="105"/>
                  </a:lnTo>
                  <a:lnTo>
                    <a:pt x="1834" y="116"/>
                  </a:lnTo>
                  <a:lnTo>
                    <a:pt x="1860" y="125"/>
                  </a:lnTo>
                  <a:lnTo>
                    <a:pt x="1889" y="133"/>
                  </a:lnTo>
                  <a:lnTo>
                    <a:pt x="1924" y="141"/>
                  </a:lnTo>
                  <a:lnTo>
                    <a:pt x="1920" y="146"/>
                  </a:lnTo>
                  <a:lnTo>
                    <a:pt x="1917" y="152"/>
                  </a:lnTo>
                  <a:lnTo>
                    <a:pt x="1916" y="158"/>
                  </a:lnTo>
                  <a:lnTo>
                    <a:pt x="1915" y="165"/>
                  </a:lnTo>
                  <a:lnTo>
                    <a:pt x="1916" y="173"/>
                  </a:lnTo>
                  <a:lnTo>
                    <a:pt x="1918" y="181"/>
                  </a:lnTo>
                  <a:lnTo>
                    <a:pt x="1921" y="189"/>
                  </a:lnTo>
                  <a:lnTo>
                    <a:pt x="1925" y="196"/>
                  </a:lnTo>
                  <a:lnTo>
                    <a:pt x="1930" y="205"/>
                  </a:lnTo>
                  <a:lnTo>
                    <a:pt x="1937" y="213"/>
                  </a:lnTo>
                  <a:lnTo>
                    <a:pt x="1944" y="220"/>
                  </a:lnTo>
                  <a:lnTo>
                    <a:pt x="1953" y="226"/>
                  </a:lnTo>
                  <a:lnTo>
                    <a:pt x="1964" y="231"/>
                  </a:lnTo>
                  <a:lnTo>
                    <a:pt x="1975" y="236"/>
                  </a:lnTo>
                  <a:lnTo>
                    <a:pt x="1987" y="240"/>
                  </a:lnTo>
                  <a:lnTo>
                    <a:pt x="2001" y="242"/>
                  </a:lnTo>
                  <a:lnTo>
                    <a:pt x="2015" y="242"/>
                  </a:lnTo>
                  <a:lnTo>
                    <a:pt x="2029" y="244"/>
                  </a:lnTo>
                  <a:lnTo>
                    <a:pt x="2043" y="249"/>
                  </a:lnTo>
                  <a:lnTo>
                    <a:pt x="2060" y="256"/>
                  </a:lnTo>
                  <a:lnTo>
                    <a:pt x="2094" y="272"/>
                  </a:lnTo>
                  <a:lnTo>
                    <a:pt x="2135" y="291"/>
                  </a:lnTo>
                  <a:lnTo>
                    <a:pt x="2124" y="297"/>
                  </a:lnTo>
                  <a:lnTo>
                    <a:pt x="2114" y="301"/>
                  </a:lnTo>
                  <a:lnTo>
                    <a:pt x="2103" y="305"/>
                  </a:lnTo>
                  <a:lnTo>
                    <a:pt x="2094" y="306"/>
                  </a:lnTo>
                  <a:lnTo>
                    <a:pt x="2076" y="308"/>
                  </a:lnTo>
                  <a:lnTo>
                    <a:pt x="2061" y="310"/>
                  </a:lnTo>
                  <a:lnTo>
                    <a:pt x="2055" y="311"/>
                  </a:lnTo>
                  <a:lnTo>
                    <a:pt x="2050" y="313"/>
                  </a:lnTo>
                  <a:lnTo>
                    <a:pt x="2047" y="317"/>
                  </a:lnTo>
                  <a:lnTo>
                    <a:pt x="2045" y="320"/>
                  </a:lnTo>
                  <a:lnTo>
                    <a:pt x="2045" y="326"/>
                  </a:lnTo>
                  <a:lnTo>
                    <a:pt x="2047" y="334"/>
                  </a:lnTo>
                  <a:lnTo>
                    <a:pt x="2050" y="345"/>
                  </a:lnTo>
                  <a:lnTo>
                    <a:pt x="2056" y="358"/>
                  </a:lnTo>
                  <a:lnTo>
                    <a:pt x="2060" y="365"/>
                  </a:lnTo>
                  <a:lnTo>
                    <a:pt x="2061" y="373"/>
                  </a:lnTo>
                  <a:lnTo>
                    <a:pt x="2062" y="381"/>
                  </a:lnTo>
                  <a:lnTo>
                    <a:pt x="2063" y="389"/>
                  </a:lnTo>
                  <a:lnTo>
                    <a:pt x="2062" y="398"/>
                  </a:lnTo>
                  <a:lnTo>
                    <a:pt x="2061" y="408"/>
                  </a:lnTo>
                  <a:lnTo>
                    <a:pt x="2059" y="417"/>
                  </a:lnTo>
                  <a:lnTo>
                    <a:pt x="2056" y="426"/>
                  </a:lnTo>
                  <a:lnTo>
                    <a:pt x="2049" y="445"/>
                  </a:lnTo>
                  <a:lnTo>
                    <a:pt x="2039" y="465"/>
                  </a:lnTo>
                  <a:lnTo>
                    <a:pt x="2027" y="485"/>
                  </a:lnTo>
                  <a:lnTo>
                    <a:pt x="2013" y="505"/>
                  </a:lnTo>
                  <a:lnTo>
                    <a:pt x="1998" y="523"/>
                  </a:lnTo>
                  <a:lnTo>
                    <a:pt x="1980" y="541"/>
                  </a:lnTo>
                  <a:lnTo>
                    <a:pt x="1963" y="557"/>
                  </a:lnTo>
                  <a:lnTo>
                    <a:pt x="1945" y="572"/>
                  </a:lnTo>
                  <a:lnTo>
                    <a:pt x="1927" y="585"/>
                  </a:lnTo>
                  <a:lnTo>
                    <a:pt x="1908" y="596"/>
                  </a:lnTo>
                  <a:lnTo>
                    <a:pt x="1889" y="605"/>
                  </a:lnTo>
                  <a:lnTo>
                    <a:pt x="1872" y="61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07" name="Freeform 1514"/>
            <p:cNvSpPr/>
            <p:nvPr/>
          </p:nvSpPr>
          <p:spPr>
            <a:xfrm>
              <a:off x="5311800" y="4821480"/>
              <a:ext cx="433440" cy="144360"/>
            </a:xfrm>
            <a:custGeom>
              <a:avLst/>
              <a:gdLst>
                <a:gd name="textAreaLeft" fmla="*/ 0 w 433440"/>
                <a:gd name="textAreaRight" fmla="*/ 433800 w 433440"/>
                <a:gd name="textAreaTop" fmla="*/ 0 h 144360"/>
                <a:gd name="textAreaBottom" fmla="*/ 144720 h 144360"/>
              </a:gdLst>
              <a:ahLst/>
              <a:rect l="textAreaLeft" t="textAreaTop" r="textAreaRight" b="textAreaBottom"/>
              <a:pathLst>
                <a:path w="2411" h="954">
                  <a:moveTo>
                    <a:pt x="1823" y="245"/>
                  </a:moveTo>
                  <a:lnTo>
                    <a:pt x="1840" y="252"/>
                  </a:lnTo>
                  <a:lnTo>
                    <a:pt x="1855" y="260"/>
                  </a:lnTo>
                  <a:lnTo>
                    <a:pt x="1870" y="268"/>
                  </a:lnTo>
                  <a:lnTo>
                    <a:pt x="1883" y="277"/>
                  </a:lnTo>
                  <a:lnTo>
                    <a:pt x="1896" y="286"/>
                  </a:lnTo>
                  <a:lnTo>
                    <a:pt x="1907" y="296"/>
                  </a:lnTo>
                  <a:lnTo>
                    <a:pt x="1919" y="307"/>
                  </a:lnTo>
                  <a:lnTo>
                    <a:pt x="1929" y="319"/>
                  </a:lnTo>
                  <a:lnTo>
                    <a:pt x="1952" y="344"/>
                  </a:lnTo>
                  <a:lnTo>
                    <a:pt x="1974" y="375"/>
                  </a:lnTo>
                  <a:lnTo>
                    <a:pt x="1997" y="409"/>
                  </a:lnTo>
                  <a:lnTo>
                    <a:pt x="2025" y="447"/>
                  </a:lnTo>
                  <a:lnTo>
                    <a:pt x="2049" y="447"/>
                  </a:lnTo>
                  <a:lnTo>
                    <a:pt x="2073" y="451"/>
                  </a:lnTo>
                  <a:lnTo>
                    <a:pt x="2099" y="454"/>
                  </a:lnTo>
                  <a:lnTo>
                    <a:pt x="2126" y="460"/>
                  </a:lnTo>
                  <a:lnTo>
                    <a:pt x="2153" y="468"/>
                  </a:lnTo>
                  <a:lnTo>
                    <a:pt x="2179" y="476"/>
                  </a:lnTo>
                  <a:lnTo>
                    <a:pt x="2207" y="487"/>
                  </a:lnTo>
                  <a:lnTo>
                    <a:pt x="2234" y="498"/>
                  </a:lnTo>
                  <a:lnTo>
                    <a:pt x="2260" y="511"/>
                  </a:lnTo>
                  <a:lnTo>
                    <a:pt x="2287" y="525"/>
                  </a:lnTo>
                  <a:lnTo>
                    <a:pt x="2311" y="541"/>
                  </a:lnTo>
                  <a:lnTo>
                    <a:pt x="2335" y="557"/>
                  </a:lnTo>
                  <a:lnTo>
                    <a:pt x="2357" y="574"/>
                  </a:lnTo>
                  <a:lnTo>
                    <a:pt x="2377" y="592"/>
                  </a:lnTo>
                  <a:lnTo>
                    <a:pt x="2394" y="612"/>
                  </a:lnTo>
                  <a:lnTo>
                    <a:pt x="2411" y="630"/>
                  </a:lnTo>
                  <a:lnTo>
                    <a:pt x="640" y="870"/>
                  </a:lnTo>
                  <a:lnTo>
                    <a:pt x="0" y="954"/>
                  </a:lnTo>
                  <a:lnTo>
                    <a:pt x="17" y="948"/>
                  </a:lnTo>
                  <a:lnTo>
                    <a:pt x="36" y="939"/>
                  </a:lnTo>
                  <a:lnTo>
                    <a:pt x="55" y="928"/>
                  </a:lnTo>
                  <a:lnTo>
                    <a:pt x="73" y="915"/>
                  </a:lnTo>
                  <a:lnTo>
                    <a:pt x="91" y="900"/>
                  </a:lnTo>
                  <a:lnTo>
                    <a:pt x="108" y="884"/>
                  </a:lnTo>
                  <a:lnTo>
                    <a:pt x="126" y="866"/>
                  </a:lnTo>
                  <a:lnTo>
                    <a:pt x="141" y="848"/>
                  </a:lnTo>
                  <a:lnTo>
                    <a:pt x="155" y="828"/>
                  </a:lnTo>
                  <a:lnTo>
                    <a:pt x="167" y="808"/>
                  </a:lnTo>
                  <a:lnTo>
                    <a:pt x="177" y="788"/>
                  </a:lnTo>
                  <a:lnTo>
                    <a:pt x="184" y="769"/>
                  </a:lnTo>
                  <a:lnTo>
                    <a:pt x="187" y="760"/>
                  </a:lnTo>
                  <a:lnTo>
                    <a:pt x="189" y="751"/>
                  </a:lnTo>
                  <a:lnTo>
                    <a:pt x="190" y="741"/>
                  </a:lnTo>
                  <a:lnTo>
                    <a:pt x="191" y="732"/>
                  </a:lnTo>
                  <a:lnTo>
                    <a:pt x="190" y="724"/>
                  </a:lnTo>
                  <a:lnTo>
                    <a:pt x="189" y="716"/>
                  </a:lnTo>
                  <a:lnTo>
                    <a:pt x="188" y="708"/>
                  </a:lnTo>
                  <a:lnTo>
                    <a:pt x="184" y="701"/>
                  </a:lnTo>
                  <a:lnTo>
                    <a:pt x="178" y="688"/>
                  </a:lnTo>
                  <a:lnTo>
                    <a:pt x="175" y="677"/>
                  </a:lnTo>
                  <a:lnTo>
                    <a:pt x="173" y="669"/>
                  </a:lnTo>
                  <a:lnTo>
                    <a:pt x="173" y="663"/>
                  </a:lnTo>
                  <a:lnTo>
                    <a:pt x="175" y="660"/>
                  </a:lnTo>
                  <a:lnTo>
                    <a:pt x="178" y="656"/>
                  </a:lnTo>
                  <a:lnTo>
                    <a:pt x="183" y="654"/>
                  </a:lnTo>
                  <a:lnTo>
                    <a:pt x="189" y="653"/>
                  </a:lnTo>
                  <a:lnTo>
                    <a:pt x="204" y="651"/>
                  </a:lnTo>
                  <a:lnTo>
                    <a:pt x="222" y="649"/>
                  </a:lnTo>
                  <a:lnTo>
                    <a:pt x="231" y="648"/>
                  </a:lnTo>
                  <a:lnTo>
                    <a:pt x="242" y="644"/>
                  </a:lnTo>
                  <a:lnTo>
                    <a:pt x="252" y="640"/>
                  </a:lnTo>
                  <a:lnTo>
                    <a:pt x="263" y="634"/>
                  </a:lnTo>
                  <a:lnTo>
                    <a:pt x="278" y="640"/>
                  </a:lnTo>
                  <a:lnTo>
                    <a:pt x="294" y="647"/>
                  </a:lnTo>
                  <a:lnTo>
                    <a:pt x="313" y="651"/>
                  </a:lnTo>
                  <a:lnTo>
                    <a:pt x="331" y="657"/>
                  </a:lnTo>
                  <a:lnTo>
                    <a:pt x="351" y="662"/>
                  </a:lnTo>
                  <a:lnTo>
                    <a:pt x="374" y="666"/>
                  </a:lnTo>
                  <a:lnTo>
                    <a:pt x="396" y="668"/>
                  </a:lnTo>
                  <a:lnTo>
                    <a:pt x="420" y="669"/>
                  </a:lnTo>
                  <a:lnTo>
                    <a:pt x="446" y="670"/>
                  </a:lnTo>
                  <a:lnTo>
                    <a:pt x="473" y="669"/>
                  </a:lnTo>
                  <a:lnTo>
                    <a:pt x="502" y="666"/>
                  </a:lnTo>
                  <a:lnTo>
                    <a:pt x="532" y="662"/>
                  </a:lnTo>
                  <a:lnTo>
                    <a:pt x="564" y="656"/>
                  </a:lnTo>
                  <a:lnTo>
                    <a:pt x="598" y="648"/>
                  </a:lnTo>
                  <a:lnTo>
                    <a:pt x="634" y="637"/>
                  </a:lnTo>
                  <a:lnTo>
                    <a:pt x="671" y="625"/>
                  </a:lnTo>
                  <a:lnTo>
                    <a:pt x="683" y="620"/>
                  </a:lnTo>
                  <a:lnTo>
                    <a:pt x="694" y="614"/>
                  </a:lnTo>
                  <a:lnTo>
                    <a:pt x="703" y="607"/>
                  </a:lnTo>
                  <a:lnTo>
                    <a:pt x="712" y="599"/>
                  </a:lnTo>
                  <a:lnTo>
                    <a:pt x="719" y="590"/>
                  </a:lnTo>
                  <a:lnTo>
                    <a:pt x="726" y="579"/>
                  </a:lnTo>
                  <a:lnTo>
                    <a:pt x="733" y="569"/>
                  </a:lnTo>
                  <a:lnTo>
                    <a:pt x="739" y="558"/>
                  </a:lnTo>
                  <a:lnTo>
                    <a:pt x="744" y="546"/>
                  </a:lnTo>
                  <a:lnTo>
                    <a:pt x="748" y="534"/>
                  </a:lnTo>
                  <a:lnTo>
                    <a:pt x="752" y="521"/>
                  </a:lnTo>
                  <a:lnTo>
                    <a:pt x="755" y="508"/>
                  </a:lnTo>
                  <a:lnTo>
                    <a:pt x="761" y="480"/>
                  </a:lnTo>
                  <a:lnTo>
                    <a:pt x="766" y="452"/>
                  </a:lnTo>
                  <a:lnTo>
                    <a:pt x="773" y="396"/>
                  </a:lnTo>
                  <a:lnTo>
                    <a:pt x="780" y="344"/>
                  </a:lnTo>
                  <a:lnTo>
                    <a:pt x="786" y="321"/>
                  </a:lnTo>
                  <a:lnTo>
                    <a:pt x="792" y="300"/>
                  </a:lnTo>
                  <a:lnTo>
                    <a:pt x="795" y="291"/>
                  </a:lnTo>
                  <a:lnTo>
                    <a:pt x="800" y="282"/>
                  </a:lnTo>
                  <a:lnTo>
                    <a:pt x="805" y="274"/>
                  </a:lnTo>
                  <a:lnTo>
                    <a:pt x="809" y="268"/>
                  </a:lnTo>
                  <a:lnTo>
                    <a:pt x="821" y="256"/>
                  </a:lnTo>
                  <a:lnTo>
                    <a:pt x="833" y="240"/>
                  </a:lnTo>
                  <a:lnTo>
                    <a:pt x="844" y="224"/>
                  </a:lnTo>
                  <a:lnTo>
                    <a:pt x="856" y="206"/>
                  </a:lnTo>
                  <a:lnTo>
                    <a:pt x="878" y="167"/>
                  </a:lnTo>
                  <a:lnTo>
                    <a:pt x="900" y="126"/>
                  </a:lnTo>
                  <a:lnTo>
                    <a:pt x="920" y="87"/>
                  </a:lnTo>
                  <a:lnTo>
                    <a:pt x="940" y="52"/>
                  </a:lnTo>
                  <a:lnTo>
                    <a:pt x="949" y="37"/>
                  </a:lnTo>
                  <a:lnTo>
                    <a:pt x="958" y="24"/>
                  </a:lnTo>
                  <a:lnTo>
                    <a:pt x="966" y="14"/>
                  </a:lnTo>
                  <a:lnTo>
                    <a:pt x="974" y="6"/>
                  </a:lnTo>
                  <a:lnTo>
                    <a:pt x="1019" y="1"/>
                  </a:lnTo>
                  <a:lnTo>
                    <a:pt x="1060" y="0"/>
                  </a:lnTo>
                  <a:lnTo>
                    <a:pt x="1097" y="0"/>
                  </a:lnTo>
                  <a:lnTo>
                    <a:pt x="1128" y="1"/>
                  </a:lnTo>
                  <a:lnTo>
                    <a:pt x="1156" y="4"/>
                  </a:lnTo>
                  <a:lnTo>
                    <a:pt x="1180" y="8"/>
                  </a:lnTo>
                  <a:lnTo>
                    <a:pt x="1201" y="14"/>
                  </a:lnTo>
                  <a:lnTo>
                    <a:pt x="1218" y="20"/>
                  </a:lnTo>
                  <a:lnTo>
                    <a:pt x="1247" y="31"/>
                  </a:lnTo>
                  <a:lnTo>
                    <a:pt x="1271" y="41"/>
                  </a:lnTo>
                  <a:lnTo>
                    <a:pt x="1281" y="44"/>
                  </a:lnTo>
                  <a:lnTo>
                    <a:pt x="1292" y="45"/>
                  </a:lnTo>
                  <a:lnTo>
                    <a:pt x="1302" y="45"/>
                  </a:lnTo>
                  <a:lnTo>
                    <a:pt x="1314" y="43"/>
                  </a:lnTo>
                  <a:lnTo>
                    <a:pt x="1323" y="44"/>
                  </a:lnTo>
                  <a:lnTo>
                    <a:pt x="1330" y="45"/>
                  </a:lnTo>
                  <a:lnTo>
                    <a:pt x="1337" y="48"/>
                  </a:lnTo>
                  <a:lnTo>
                    <a:pt x="1342" y="51"/>
                  </a:lnTo>
                  <a:lnTo>
                    <a:pt x="1347" y="55"/>
                  </a:lnTo>
                  <a:lnTo>
                    <a:pt x="1350" y="59"/>
                  </a:lnTo>
                  <a:lnTo>
                    <a:pt x="1354" y="65"/>
                  </a:lnTo>
                  <a:lnTo>
                    <a:pt x="1356" y="71"/>
                  </a:lnTo>
                  <a:lnTo>
                    <a:pt x="1363" y="83"/>
                  </a:lnTo>
                  <a:lnTo>
                    <a:pt x="1372" y="95"/>
                  </a:lnTo>
                  <a:lnTo>
                    <a:pt x="1378" y="102"/>
                  </a:lnTo>
                  <a:lnTo>
                    <a:pt x="1385" y="108"/>
                  </a:lnTo>
                  <a:lnTo>
                    <a:pt x="1394" y="115"/>
                  </a:lnTo>
                  <a:lnTo>
                    <a:pt x="1406" y="121"/>
                  </a:lnTo>
                  <a:lnTo>
                    <a:pt x="1412" y="135"/>
                  </a:lnTo>
                  <a:lnTo>
                    <a:pt x="1419" y="148"/>
                  </a:lnTo>
                  <a:lnTo>
                    <a:pt x="1427" y="159"/>
                  </a:lnTo>
                  <a:lnTo>
                    <a:pt x="1435" y="169"/>
                  </a:lnTo>
                  <a:lnTo>
                    <a:pt x="1442" y="177"/>
                  </a:lnTo>
                  <a:lnTo>
                    <a:pt x="1452" y="185"/>
                  </a:lnTo>
                  <a:lnTo>
                    <a:pt x="1460" y="192"/>
                  </a:lnTo>
                  <a:lnTo>
                    <a:pt x="1469" y="198"/>
                  </a:lnTo>
                  <a:lnTo>
                    <a:pt x="1477" y="203"/>
                  </a:lnTo>
                  <a:lnTo>
                    <a:pt x="1487" y="208"/>
                  </a:lnTo>
                  <a:lnTo>
                    <a:pt x="1496" y="211"/>
                  </a:lnTo>
                  <a:lnTo>
                    <a:pt x="1505" y="213"/>
                  </a:lnTo>
                  <a:lnTo>
                    <a:pt x="1524" y="218"/>
                  </a:lnTo>
                  <a:lnTo>
                    <a:pt x="1543" y="219"/>
                  </a:lnTo>
                  <a:lnTo>
                    <a:pt x="1577" y="220"/>
                  </a:lnTo>
                  <a:lnTo>
                    <a:pt x="1607" y="220"/>
                  </a:lnTo>
                  <a:lnTo>
                    <a:pt x="1620" y="222"/>
                  </a:lnTo>
                  <a:lnTo>
                    <a:pt x="1630" y="225"/>
                  </a:lnTo>
                  <a:lnTo>
                    <a:pt x="1635" y="226"/>
                  </a:lnTo>
                  <a:lnTo>
                    <a:pt x="1639" y="229"/>
                  </a:lnTo>
                  <a:lnTo>
                    <a:pt x="1642" y="232"/>
                  </a:lnTo>
                  <a:lnTo>
                    <a:pt x="1644" y="237"/>
                  </a:lnTo>
                  <a:lnTo>
                    <a:pt x="1823" y="24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08" name="Freeform 1515"/>
            <p:cNvSpPr/>
            <p:nvPr/>
          </p:nvSpPr>
          <p:spPr>
            <a:xfrm>
              <a:off x="5651640" y="4828680"/>
              <a:ext cx="51840" cy="53640"/>
            </a:xfrm>
            <a:custGeom>
              <a:avLst/>
              <a:gdLst>
                <a:gd name="textAreaLeft" fmla="*/ 0 w 51840"/>
                <a:gd name="textAreaRight" fmla="*/ 52200 w 51840"/>
                <a:gd name="textAreaTop" fmla="*/ 0 h 53640"/>
                <a:gd name="textAreaBottom" fmla="*/ 54000 h 53640"/>
              </a:gdLst>
              <a:ahLst/>
              <a:rect l="textAreaLeft" t="textAreaTop" r="textAreaRight" b="textAreaBottom"/>
              <a:pathLst>
                <a:path w="289" h="357">
                  <a:moveTo>
                    <a:pt x="285" y="357"/>
                  </a:moveTo>
                  <a:lnTo>
                    <a:pt x="273" y="353"/>
                  </a:lnTo>
                  <a:lnTo>
                    <a:pt x="263" y="347"/>
                  </a:lnTo>
                  <a:lnTo>
                    <a:pt x="251" y="340"/>
                  </a:lnTo>
                  <a:lnTo>
                    <a:pt x="241" y="332"/>
                  </a:lnTo>
                  <a:lnTo>
                    <a:pt x="230" y="322"/>
                  </a:lnTo>
                  <a:lnTo>
                    <a:pt x="220" y="313"/>
                  </a:lnTo>
                  <a:lnTo>
                    <a:pt x="209" y="302"/>
                  </a:lnTo>
                  <a:lnTo>
                    <a:pt x="200" y="292"/>
                  </a:lnTo>
                  <a:lnTo>
                    <a:pt x="180" y="269"/>
                  </a:lnTo>
                  <a:lnTo>
                    <a:pt x="161" y="243"/>
                  </a:lnTo>
                  <a:lnTo>
                    <a:pt x="144" y="217"/>
                  </a:lnTo>
                  <a:lnTo>
                    <a:pt x="125" y="191"/>
                  </a:lnTo>
                  <a:lnTo>
                    <a:pt x="92" y="140"/>
                  </a:lnTo>
                  <a:lnTo>
                    <a:pt x="61" y="96"/>
                  </a:lnTo>
                  <a:lnTo>
                    <a:pt x="44" y="78"/>
                  </a:lnTo>
                  <a:lnTo>
                    <a:pt x="29" y="63"/>
                  </a:lnTo>
                  <a:lnTo>
                    <a:pt x="22" y="57"/>
                  </a:lnTo>
                  <a:lnTo>
                    <a:pt x="15" y="52"/>
                  </a:lnTo>
                  <a:lnTo>
                    <a:pt x="7" y="49"/>
                  </a:lnTo>
                  <a:lnTo>
                    <a:pt x="0" y="47"/>
                  </a:lnTo>
                  <a:lnTo>
                    <a:pt x="161" y="0"/>
                  </a:lnTo>
                  <a:lnTo>
                    <a:pt x="162" y="10"/>
                  </a:lnTo>
                  <a:lnTo>
                    <a:pt x="165" y="20"/>
                  </a:lnTo>
                  <a:lnTo>
                    <a:pt x="168" y="29"/>
                  </a:lnTo>
                  <a:lnTo>
                    <a:pt x="174" y="37"/>
                  </a:lnTo>
                  <a:lnTo>
                    <a:pt x="186" y="55"/>
                  </a:lnTo>
                  <a:lnTo>
                    <a:pt x="201" y="71"/>
                  </a:lnTo>
                  <a:lnTo>
                    <a:pt x="215" y="88"/>
                  </a:lnTo>
                  <a:lnTo>
                    <a:pt x="227" y="104"/>
                  </a:lnTo>
                  <a:lnTo>
                    <a:pt x="233" y="113"/>
                  </a:lnTo>
                  <a:lnTo>
                    <a:pt x="236" y="123"/>
                  </a:lnTo>
                  <a:lnTo>
                    <a:pt x="238" y="132"/>
                  </a:lnTo>
                  <a:lnTo>
                    <a:pt x="240" y="141"/>
                  </a:lnTo>
                  <a:lnTo>
                    <a:pt x="240" y="158"/>
                  </a:lnTo>
                  <a:lnTo>
                    <a:pt x="242" y="173"/>
                  </a:lnTo>
                  <a:lnTo>
                    <a:pt x="245" y="187"/>
                  </a:lnTo>
                  <a:lnTo>
                    <a:pt x="249" y="200"/>
                  </a:lnTo>
                  <a:lnTo>
                    <a:pt x="258" y="224"/>
                  </a:lnTo>
                  <a:lnTo>
                    <a:pt x="269" y="246"/>
                  </a:lnTo>
                  <a:lnTo>
                    <a:pt x="273" y="258"/>
                  </a:lnTo>
                  <a:lnTo>
                    <a:pt x="278" y="270"/>
                  </a:lnTo>
                  <a:lnTo>
                    <a:pt x="283" y="281"/>
                  </a:lnTo>
                  <a:lnTo>
                    <a:pt x="285" y="294"/>
                  </a:lnTo>
                  <a:lnTo>
                    <a:pt x="287" y="308"/>
                  </a:lnTo>
                  <a:lnTo>
                    <a:pt x="289" y="323"/>
                  </a:lnTo>
                  <a:lnTo>
                    <a:pt x="287" y="340"/>
                  </a:lnTo>
                  <a:lnTo>
                    <a:pt x="285" y="357"/>
                  </a:lnTo>
                  <a:close/>
                </a:path>
              </a:pathLst>
            </a:custGeom>
            <a:solidFill>
              <a:srgbClr val="93d5ed"/>
            </a:solidFill>
            <a:ln w="9360">
              <a:solidFill>
                <a:srgbClr val="ccecff"/>
              </a:solidFill>
              <a:round/>
            </a:ln>
          </p:spPr>
          <p:style>
            <a:lnRef idx="0"/>
            <a:fillRef idx="0"/>
            <a:effectRef idx="0"/>
            <a:fontRef idx="minor"/>
          </p:style>
          <p:txBody>
            <a:bodyPr lIns="90000" rIns="90000" tIns="7200" bIns="7200" anchor="t">
              <a:noAutofit/>
            </a:bodyPr>
            <a:p>
              <a:endParaRPr b="1" lang="en-US" sz="2400" spc="-1" strike="noStrike">
                <a:solidFill>
                  <a:srgbClr val="ffffff"/>
                </a:solidFill>
                <a:latin typeface="Times New Roman"/>
              </a:endParaRPr>
            </a:p>
          </p:txBody>
        </p:sp>
        <p:sp>
          <p:nvSpPr>
            <p:cNvPr id="409" name="Freeform 1516"/>
            <p:cNvSpPr/>
            <p:nvPr/>
          </p:nvSpPr>
          <p:spPr>
            <a:xfrm>
              <a:off x="4550400" y="4745880"/>
              <a:ext cx="308160" cy="108000"/>
            </a:xfrm>
            <a:custGeom>
              <a:avLst/>
              <a:gdLst>
                <a:gd name="textAreaLeft" fmla="*/ 0 w 308160"/>
                <a:gd name="textAreaRight" fmla="*/ 308520 w 308160"/>
                <a:gd name="textAreaTop" fmla="*/ 0 h 108000"/>
                <a:gd name="textAreaBottom" fmla="*/ 108360 h 108000"/>
              </a:gdLst>
              <a:ahLst/>
              <a:rect l="textAreaLeft" t="textAreaTop" r="textAreaRight" b="textAreaBottom"/>
              <a:pathLst>
                <a:path w="1714" h="717">
                  <a:moveTo>
                    <a:pt x="1388" y="0"/>
                  </a:moveTo>
                  <a:lnTo>
                    <a:pt x="1399" y="19"/>
                  </a:lnTo>
                  <a:lnTo>
                    <a:pt x="1410" y="38"/>
                  </a:lnTo>
                  <a:lnTo>
                    <a:pt x="1424" y="56"/>
                  </a:lnTo>
                  <a:lnTo>
                    <a:pt x="1440" y="75"/>
                  </a:lnTo>
                  <a:lnTo>
                    <a:pt x="1457" y="93"/>
                  </a:lnTo>
                  <a:lnTo>
                    <a:pt x="1475" y="109"/>
                  </a:lnTo>
                  <a:lnTo>
                    <a:pt x="1494" y="125"/>
                  </a:lnTo>
                  <a:lnTo>
                    <a:pt x="1514" y="140"/>
                  </a:lnTo>
                  <a:lnTo>
                    <a:pt x="1535" y="153"/>
                  </a:lnTo>
                  <a:lnTo>
                    <a:pt x="1558" y="166"/>
                  </a:lnTo>
                  <a:lnTo>
                    <a:pt x="1579" y="177"/>
                  </a:lnTo>
                  <a:lnTo>
                    <a:pt x="1601" y="186"/>
                  </a:lnTo>
                  <a:lnTo>
                    <a:pt x="1622" y="193"/>
                  </a:lnTo>
                  <a:lnTo>
                    <a:pt x="1643" y="198"/>
                  </a:lnTo>
                  <a:lnTo>
                    <a:pt x="1663" y="201"/>
                  </a:lnTo>
                  <a:lnTo>
                    <a:pt x="1683" y="202"/>
                  </a:lnTo>
                  <a:lnTo>
                    <a:pt x="1714" y="331"/>
                  </a:lnTo>
                  <a:lnTo>
                    <a:pt x="1695" y="335"/>
                  </a:lnTo>
                  <a:lnTo>
                    <a:pt x="1679" y="340"/>
                  </a:lnTo>
                  <a:lnTo>
                    <a:pt x="1665" y="346"/>
                  </a:lnTo>
                  <a:lnTo>
                    <a:pt x="1653" y="353"/>
                  </a:lnTo>
                  <a:lnTo>
                    <a:pt x="1643" y="361"/>
                  </a:lnTo>
                  <a:lnTo>
                    <a:pt x="1636" y="369"/>
                  </a:lnTo>
                  <a:lnTo>
                    <a:pt x="1630" y="379"/>
                  </a:lnTo>
                  <a:lnTo>
                    <a:pt x="1625" y="388"/>
                  </a:lnTo>
                  <a:lnTo>
                    <a:pt x="1623" y="397"/>
                  </a:lnTo>
                  <a:lnTo>
                    <a:pt x="1622" y="407"/>
                  </a:lnTo>
                  <a:lnTo>
                    <a:pt x="1623" y="416"/>
                  </a:lnTo>
                  <a:lnTo>
                    <a:pt x="1625" y="425"/>
                  </a:lnTo>
                  <a:lnTo>
                    <a:pt x="1628" y="434"/>
                  </a:lnTo>
                  <a:lnTo>
                    <a:pt x="1632" y="442"/>
                  </a:lnTo>
                  <a:lnTo>
                    <a:pt x="1638" y="449"/>
                  </a:lnTo>
                  <a:lnTo>
                    <a:pt x="1645" y="456"/>
                  </a:lnTo>
                  <a:lnTo>
                    <a:pt x="1608" y="525"/>
                  </a:lnTo>
                  <a:lnTo>
                    <a:pt x="1602" y="525"/>
                  </a:lnTo>
                  <a:lnTo>
                    <a:pt x="1596" y="525"/>
                  </a:lnTo>
                  <a:lnTo>
                    <a:pt x="1591" y="526"/>
                  </a:lnTo>
                  <a:lnTo>
                    <a:pt x="1586" y="528"/>
                  </a:lnTo>
                  <a:lnTo>
                    <a:pt x="1582" y="531"/>
                  </a:lnTo>
                  <a:lnTo>
                    <a:pt x="1577" y="534"/>
                  </a:lnTo>
                  <a:lnTo>
                    <a:pt x="1573" y="538"/>
                  </a:lnTo>
                  <a:lnTo>
                    <a:pt x="1569" y="542"/>
                  </a:lnTo>
                  <a:lnTo>
                    <a:pt x="1563" y="552"/>
                  </a:lnTo>
                  <a:lnTo>
                    <a:pt x="1558" y="563"/>
                  </a:lnTo>
                  <a:lnTo>
                    <a:pt x="1553" y="575"/>
                  </a:lnTo>
                  <a:lnTo>
                    <a:pt x="1548" y="588"/>
                  </a:lnTo>
                  <a:lnTo>
                    <a:pt x="1546" y="602"/>
                  </a:lnTo>
                  <a:lnTo>
                    <a:pt x="1544" y="616"/>
                  </a:lnTo>
                  <a:lnTo>
                    <a:pt x="1542" y="629"/>
                  </a:lnTo>
                  <a:lnTo>
                    <a:pt x="1541" y="642"/>
                  </a:lnTo>
                  <a:lnTo>
                    <a:pt x="1541" y="653"/>
                  </a:lnTo>
                  <a:lnTo>
                    <a:pt x="1541" y="664"/>
                  </a:lnTo>
                  <a:lnTo>
                    <a:pt x="1542" y="673"/>
                  </a:lnTo>
                  <a:lnTo>
                    <a:pt x="1544" y="680"/>
                  </a:lnTo>
                  <a:lnTo>
                    <a:pt x="277" y="717"/>
                  </a:lnTo>
                  <a:lnTo>
                    <a:pt x="259" y="709"/>
                  </a:lnTo>
                  <a:lnTo>
                    <a:pt x="243" y="702"/>
                  </a:lnTo>
                  <a:lnTo>
                    <a:pt x="236" y="699"/>
                  </a:lnTo>
                  <a:lnTo>
                    <a:pt x="232" y="694"/>
                  </a:lnTo>
                  <a:lnTo>
                    <a:pt x="227" y="689"/>
                  </a:lnTo>
                  <a:lnTo>
                    <a:pt x="224" y="685"/>
                  </a:lnTo>
                  <a:lnTo>
                    <a:pt x="220" y="678"/>
                  </a:lnTo>
                  <a:lnTo>
                    <a:pt x="219" y="671"/>
                  </a:lnTo>
                  <a:lnTo>
                    <a:pt x="218" y="663"/>
                  </a:lnTo>
                  <a:lnTo>
                    <a:pt x="217" y="652"/>
                  </a:lnTo>
                  <a:lnTo>
                    <a:pt x="218" y="626"/>
                  </a:lnTo>
                  <a:lnTo>
                    <a:pt x="222" y="594"/>
                  </a:lnTo>
                  <a:lnTo>
                    <a:pt x="225" y="576"/>
                  </a:lnTo>
                  <a:lnTo>
                    <a:pt x="225" y="561"/>
                  </a:lnTo>
                  <a:lnTo>
                    <a:pt x="222" y="549"/>
                  </a:lnTo>
                  <a:lnTo>
                    <a:pt x="220" y="538"/>
                  </a:lnTo>
                  <a:lnTo>
                    <a:pt x="215" y="528"/>
                  </a:lnTo>
                  <a:lnTo>
                    <a:pt x="210" y="520"/>
                  </a:lnTo>
                  <a:lnTo>
                    <a:pt x="203" y="513"/>
                  </a:lnTo>
                  <a:lnTo>
                    <a:pt x="196" y="508"/>
                  </a:lnTo>
                  <a:lnTo>
                    <a:pt x="179" y="498"/>
                  </a:lnTo>
                  <a:lnTo>
                    <a:pt x="162" y="490"/>
                  </a:lnTo>
                  <a:lnTo>
                    <a:pt x="152" y="485"/>
                  </a:lnTo>
                  <a:lnTo>
                    <a:pt x="144" y="480"/>
                  </a:lnTo>
                  <a:lnTo>
                    <a:pt x="137" y="476"/>
                  </a:lnTo>
                  <a:lnTo>
                    <a:pt x="130" y="470"/>
                  </a:lnTo>
                  <a:lnTo>
                    <a:pt x="125" y="465"/>
                  </a:lnTo>
                  <a:lnTo>
                    <a:pt x="123" y="460"/>
                  </a:lnTo>
                  <a:lnTo>
                    <a:pt x="123" y="457"/>
                  </a:lnTo>
                  <a:lnTo>
                    <a:pt x="123" y="453"/>
                  </a:lnTo>
                  <a:lnTo>
                    <a:pt x="124" y="449"/>
                  </a:lnTo>
                  <a:lnTo>
                    <a:pt x="125" y="444"/>
                  </a:lnTo>
                  <a:lnTo>
                    <a:pt x="127" y="438"/>
                  </a:lnTo>
                  <a:lnTo>
                    <a:pt x="125" y="431"/>
                  </a:lnTo>
                  <a:lnTo>
                    <a:pt x="123" y="422"/>
                  </a:lnTo>
                  <a:lnTo>
                    <a:pt x="117" y="410"/>
                  </a:lnTo>
                  <a:lnTo>
                    <a:pt x="109" y="395"/>
                  </a:lnTo>
                  <a:lnTo>
                    <a:pt x="97" y="378"/>
                  </a:lnTo>
                  <a:lnTo>
                    <a:pt x="81" y="358"/>
                  </a:lnTo>
                  <a:lnTo>
                    <a:pt x="60" y="333"/>
                  </a:lnTo>
                  <a:lnTo>
                    <a:pt x="33" y="304"/>
                  </a:lnTo>
                  <a:lnTo>
                    <a:pt x="0" y="271"/>
                  </a:lnTo>
                  <a:lnTo>
                    <a:pt x="14" y="14"/>
                  </a:lnTo>
                  <a:lnTo>
                    <a:pt x="1388"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0" name="Freeform 1517"/>
            <p:cNvSpPr/>
            <p:nvPr/>
          </p:nvSpPr>
          <p:spPr>
            <a:xfrm>
              <a:off x="3154680" y="4761360"/>
              <a:ext cx="342360" cy="439560"/>
            </a:xfrm>
            <a:custGeom>
              <a:avLst/>
              <a:gdLst>
                <a:gd name="textAreaLeft" fmla="*/ 0 w 342360"/>
                <a:gd name="textAreaRight" fmla="*/ 342720 w 342360"/>
                <a:gd name="textAreaTop" fmla="*/ 0 h 439560"/>
                <a:gd name="textAreaBottom" fmla="*/ 439920 h 439560"/>
              </a:gdLst>
              <a:ahLst/>
              <a:rect l="textAreaLeft" t="textAreaTop" r="textAreaRight" b="textAreaBottom"/>
              <a:pathLst>
                <a:path w="1904" h="2906">
                  <a:moveTo>
                    <a:pt x="1147" y="2906"/>
                  </a:moveTo>
                  <a:lnTo>
                    <a:pt x="1175" y="2857"/>
                  </a:lnTo>
                  <a:lnTo>
                    <a:pt x="400" y="2857"/>
                  </a:lnTo>
                  <a:lnTo>
                    <a:pt x="411" y="2837"/>
                  </a:lnTo>
                  <a:lnTo>
                    <a:pt x="421" y="2817"/>
                  </a:lnTo>
                  <a:lnTo>
                    <a:pt x="428" y="2797"/>
                  </a:lnTo>
                  <a:lnTo>
                    <a:pt x="435" y="2777"/>
                  </a:lnTo>
                  <a:lnTo>
                    <a:pt x="441" y="2759"/>
                  </a:lnTo>
                  <a:lnTo>
                    <a:pt x="446" y="2739"/>
                  </a:lnTo>
                  <a:lnTo>
                    <a:pt x="449" y="2720"/>
                  </a:lnTo>
                  <a:lnTo>
                    <a:pt x="452" y="2701"/>
                  </a:lnTo>
                  <a:lnTo>
                    <a:pt x="453" y="2683"/>
                  </a:lnTo>
                  <a:lnTo>
                    <a:pt x="453" y="2665"/>
                  </a:lnTo>
                  <a:lnTo>
                    <a:pt x="452" y="2647"/>
                  </a:lnTo>
                  <a:lnTo>
                    <a:pt x="449" y="2629"/>
                  </a:lnTo>
                  <a:lnTo>
                    <a:pt x="447" y="2612"/>
                  </a:lnTo>
                  <a:lnTo>
                    <a:pt x="443" y="2594"/>
                  </a:lnTo>
                  <a:lnTo>
                    <a:pt x="440" y="2578"/>
                  </a:lnTo>
                  <a:lnTo>
                    <a:pt x="435" y="2560"/>
                  </a:lnTo>
                  <a:lnTo>
                    <a:pt x="429" y="2544"/>
                  </a:lnTo>
                  <a:lnTo>
                    <a:pt x="424" y="2527"/>
                  </a:lnTo>
                  <a:lnTo>
                    <a:pt x="418" y="2512"/>
                  </a:lnTo>
                  <a:lnTo>
                    <a:pt x="411" y="2496"/>
                  </a:lnTo>
                  <a:lnTo>
                    <a:pt x="396" y="2466"/>
                  </a:lnTo>
                  <a:lnTo>
                    <a:pt x="379" y="2436"/>
                  </a:lnTo>
                  <a:lnTo>
                    <a:pt x="362" y="2408"/>
                  </a:lnTo>
                  <a:lnTo>
                    <a:pt x="344" y="2383"/>
                  </a:lnTo>
                  <a:lnTo>
                    <a:pt x="325" y="2357"/>
                  </a:lnTo>
                  <a:lnTo>
                    <a:pt x="308" y="2332"/>
                  </a:lnTo>
                  <a:lnTo>
                    <a:pt x="300" y="2322"/>
                  </a:lnTo>
                  <a:lnTo>
                    <a:pt x="293" y="2310"/>
                  </a:lnTo>
                  <a:lnTo>
                    <a:pt x="286" y="2298"/>
                  </a:lnTo>
                  <a:lnTo>
                    <a:pt x="280" y="2288"/>
                  </a:lnTo>
                  <a:lnTo>
                    <a:pt x="272" y="2267"/>
                  </a:lnTo>
                  <a:lnTo>
                    <a:pt x="265" y="2247"/>
                  </a:lnTo>
                  <a:lnTo>
                    <a:pt x="260" y="2228"/>
                  </a:lnTo>
                  <a:lnTo>
                    <a:pt x="259" y="2210"/>
                  </a:lnTo>
                  <a:lnTo>
                    <a:pt x="258" y="2193"/>
                  </a:lnTo>
                  <a:lnTo>
                    <a:pt x="259" y="2178"/>
                  </a:lnTo>
                  <a:lnTo>
                    <a:pt x="261" y="2164"/>
                  </a:lnTo>
                  <a:lnTo>
                    <a:pt x="265" y="2152"/>
                  </a:lnTo>
                  <a:lnTo>
                    <a:pt x="267" y="2142"/>
                  </a:lnTo>
                  <a:lnTo>
                    <a:pt x="271" y="2133"/>
                  </a:lnTo>
                  <a:lnTo>
                    <a:pt x="276" y="2121"/>
                  </a:lnTo>
                  <a:lnTo>
                    <a:pt x="280" y="2117"/>
                  </a:lnTo>
                  <a:lnTo>
                    <a:pt x="60" y="2085"/>
                  </a:lnTo>
                  <a:lnTo>
                    <a:pt x="63" y="2077"/>
                  </a:lnTo>
                  <a:lnTo>
                    <a:pt x="65" y="2068"/>
                  </a:lnTo>
                  <a:lnTo>
                    <a:pt x="66" y="2060"/>
                  </a:lnTo>
                  <a:lnTo>
                    <a:pt x="67" y="2052"/>
                  </a:lnTo>
                  <a:lnTo>
                    <a:pt x="66" y="2037"/>
                  </a:lnTo>
                  <a:lnTo>
                    <a:pt x="64" y="2022"/>
                  </a:lnTo>
                  <a:lnTo>
                    <a:pt x="60" y="2009"/>
                  </a:lnTo>
                  <a:lnTo>
                    <a:pt x="56" y="1996"/>
                  </a:lnTo>
                  <a:lnTo>
                    <a:pt x="49" y="1983"/>
                  </a:lnTo>
                  <a:lnTo>
                    <a:pt x="42" y="1973"/>
                  </a:lnTo>
                  <a:lnTo>
                    <a:pt x="28" y="1955"/>
                  </a:lnTo>
                  <a:lnTo>
                    <a:pt x="14" y="1941"/>
                  </a:lnTo>
                  <a:lnTo>
                    <a:pt x="4" y="1933"/>
                  </a:lnTo>
                  <a:lnTo>
                    <a:pt x="0" y="1929"/>
                  </a:lnTo>
                  <a:lnTo>
                    <a:pt x="184" y="1713"/>
                  </a:lnTo>
                  <a:lnTo>
                    <a:pt x="184" y="1705"/>
                  </a:lnTo>
                  <a:lnTo>
                    <a:pt x="183" y="1697"/>
                  </a:lnTo>
                  <a:lnTo>
                    <a:pt x="181" y="1689"/>
                  </a:lnTo>
                  <a:lnTo>
                    <a:pt x="178" y="1681"/>
                  </a:lnTo>
                  <a:lnTo>
                    <a:pt x="170" y="1664"/>
                  </a:lnTo>
                  <a:lnTo>
                    <a:pt x="161" y="1649"/>
                  </a:lnTo>
                  <a:lnTo>
                    <a:pt x="137" y="1619"/>
                  </a:lnTo>
                  <a:lnTo>
                    <a:pt x="112" y="1587"/>
                  </a:lnTo>
                  <a:lnTo>
                    <a:pt x="99" y="1571"/>
                  </a:lnTo>
                  <a:lnTo>
                    <a:pt x="87" y="1554"/>
                  </a:lnTo>
                  <a:lnTo>
                    <a:pt x="77" y="1538"/>
                  </a:lnTo>
                  <a:lnTo>
                    <a:pt x="67" y="1519"/>
                  </a:lnTo>
                  <a:lnTo>
                    <a:pt x="64" y="1510"/>
                  </a:lnTo>
                  <a:lnTo>
                    <a:pt x="61" y="1501"/>
                  </a:lnTo>
                  <a:lnTo>
                    <a:pt x="59" y="1491"/>
                  </a:lnTo>
                  <a:lnTo>
                    <a:pt x="58" y="1481"/>
                  </a:lnTo>
                  <a:lnTo>
                    <a:pt x="57" y="1470"/>
                  </a:lnTo>
                  <a:lnTo>
                    <a:pt x="57" y="1460"/>
                  </a:lnTo>
                  <a:lnTo>
                    <a:pt x="58" y="1448"/>
                  </a:lnTo>
                  <a:lnTo>
                    <a:pt x="60" y="1438"/>
                  </a:lnTo>
                  <a:lnTo>
                    <a:pt x="67" y="1414"/>
                  </a:lnTo>
                  <a:lnTo>
                    <a:pt x="77" y="1391"/>
                  </a:lnTo>
                  <a:lnTo>
                    <a:pt x="86" y="1369"/>
                  </a:lnTo>
                  <a:lnTo>
                    <a:pt x="98" y="1347"/>
                  </a:lnTo>
                  <a:lnTo>
                    <a:pt x="111" y="1324"/>
                  </a:lnTo>
                  <a:lnTo>
                    <a:pt x="123" y="1304"/>
                  </a:lnTo>
                  <a:lnTo>
                    <a:pt x="137" y="1285"/>
                  </a:lnTo>
                  <a:lnTo>
                    <a:pt x="150" y="1267"/>
                  </a:lnTo>
                  <a:lnTo>
                    <a:pt x="175" y="1236"/>
                  </a:lnTo>
                  <a:lnTo>
                    <a:pt x="196" y="1211"/>
                  </a:lnTo>
                  <a:lnTo>
                    <a:pt x="211" y="1195"/>
                  </a:lnTo>
                  <a:lnTo>
                    <a:pt x="216" y="1190"/>
                  </a:lnTo>
                  <a:lnTo>
                    <a:pt x="224" y="1197"/>
                  </a:lnTo>
                  <a:lnTo>
                    <a:pt x="232" y="1203"/>
                  </a:lnTo>
                  <a:lnTo>
                    <a:pt x="239" y="1208"/>
                  </a:lnTo>
                  <a:lnTo>
                    <a:pt x="245" y="1209"/>
                  </a:lnTo>
                  <a:lnTo>
                    <a:pt x="251" y="1210"/>
                  </a:lnTo>
                  <a:lnTo>
                    <a:pt x="257" y="1210"/>
                  </a:lnTo>
                  <a:lnTo>
                    <a:pt x="261" y="1208"/>
                  </a:lnTo>
                  <a:lnTo>
                    <a:pt x="265" y="1204"/>
                  </a:lnTo>
                  <a:lnTo>
                    <a:pt x="268" y="1199"/>
                  </a:lnTo>
                  <a:lnTo>
                    <a:pt x="272" y="1195"/>
                  </a:lnTo>
                  <a:lnTo>
                    <a:pt x="274" y="1188"/>
                  </a:lnTo>
                  <a:lnTo>
                    <a:pt x="276" y="1181"/>
                  </a:lnTo>
                  <a:lnTo>
                    <a:pt x="280" y="1164"/>
                  </a:lnTo>
                  <a:lnTo>
                    <a:pt x="282" y="1147"/>
                  </a:lnTo>
                  <a:lnTo>
                    <a:pt x="283" y="1127"/>
                  </a:lnTo>
                  <a:lnTo>
                    <a:pt x="283" y="1107"/>
                  </a:lnTo>
                  <a:lnTo>
                    <a:pt x="283" y="1088"/>
                  </a:lnTo>
                  <a:lnTo>
                    <a:pt x="282" y="1071"/>
                  </a:lnTo>
                  <a:lnTo>
                    <a:pt x="280" y="1044"/>
                  </a:lnTo>
                  <a:lnTo>
                    <a:pt x="280" y="1033"/>
                  </a:lnTo>
                  <a:lnTo>
                    <a:pt x="296" y="1025"/>
                  </a:lnTo>
                  <a:lnTo>
                    <a:pt x="311" y="1016"/>
                  </a:lnTo>
                  <a:lnTo>
                    <a:pt x="325" y="1007"/>
                  </a:lnTo>
                  <a:lnTo>
                    <a:pt x="337" y="996"/>
                  </a:lnTo>
                  <a:lnTo>
                    <a:pt x="349" y="987"/>
                  </a:lnTo>
                  <a:lnTo>
                    <a:pt x="358" y="976"/>
                  </a:lnTo>
                  <a:lnTo>
                    <a:pt x="368" y="966"/>
                  </a:lnTo>
                  <a:lnTo>
                    <a:pt x="376" y="954"/>
                  </a:lnTo>
                  <a:lnTo>
                    <a:pt x="383" y="944"/>
                  </a:lnTo>
                  <a:lnTo>
                    <a:pt x="389" y="932"/>
                  </a:lnTo>
                  <a:lnTo>
                    <a:pt x="393" y="920"/>
                  </a:lnTo>
                  <a:lnTo>
                    <a:pt x="397" y="908"/>
                  </a:lnTo>
                  <a:lnTo>
                    <a:pt x="400" y="897"/>
                  </a:lnTo>
                  <a:lnTo>
                    <a:pt x="403" y="885"/>
                  </a:lnTo>
                  <a:lnTo>
                    <a:pt x="405" y="872"/>
                  </a:lnTo>
                  <a:lnTo>
                    <a:pt x="405" y="861"/>
                  </a:lnTo>
                  <a:lnTo>
                    <a:pt x="406" y="835"/>
                  </a:lnTo>
                  <a:lnTo>
                    <a:pt x="404" y="810"/>
                  </a:lnTo>
                  <a:lnTo>
                    <a:pt x="400" y="785"/>
                  </a:lnTo>
                  <a:lnTo>
                    <a:pt x="396" y="760"/>
                  </a:lnTo>
                  <a:lnTo>
                    <a:pt x="384" y="710"/>
                  </a:lnTo>
                  <a:lnTo>
                    <a:pt x="371" y="662"/>
                  </a:lnTo>
                  <a:lnTo>
                    <a:pt x="587" y="418"/>
                  </a:lnTo>
                  <a:lnTo>
                    <a:pt x="588" y="403"/>
                  </a:lnTo>
                  <a:lnTo>
                    <a:pt x="592" y="388"/>
                  </a:lnTo>
                  <a:lnTo>
                    <a:pt x="598" y="371"/>
                  </a:lnTo>
                  <a:lnTo>
                    <a:pt x="605" y="355"/>
                  </a:lnTo>
                  <a:lnTo>
                    <a:pt x="614" y="338"/>
                  </a:lnTo>
                  <a:lnTo>
                    <a:pt x="625" y="321"/>
                  </a:lnTo>
                  <a:lnTo>
                    <a:pt x="636" y="305"/>
                  </a:lnTo>
                  <a:lnTo>
                    <a:pt x="650" y="287"/>
                  </a:lnTo>
                  <a:lnTo>
                    <a:pt x="664" y="270"/>
                  </a:lnTo>
                  <a:lnTo>
                    <a:pt x="681" y="252"/>
                  </a:lnTo>
                  <a:lnTo>
                    <a:pt x="697" y="234"/>
                  </a:lnTo>
                  <a:lnTo>
                    <a:pt x="714" y="217"/>
                  </a:lnTo>
                  <a:lnTo>
                    <a:pt x="751" y="183"/>
                  </a:lnTo>
                  <a:lnTo>
                    <a:pt x="788" y="150"/>
                  </a:lnTo>
                  <a:lnTo>
                    <a:pt x="825" y="120"/>
                  </a:lnTo>
                  <a:lnTo>
                    <a:pt x="862" y="91"/>
                  </a:lnTo>
                  <a:lnTo>
                    <a:pt x="896" y="65"/>
                  </a:lnTo>
                  <a:lnTo>
                    <a:pt x="926" y="43"/>
                  </a:lnTo>
                  <a:lnTo>
                    <a:pt x="970" y="11"/>
                  </a:lnTo>
                  <a:lnTo>
                    <a:pt x="988" y="0"/>
                  </a:lnTo>
                  <a:lnTo>
                    <a:pt x="1904" y="95"/>
                  </a:lnTo>
                  <a:lnTo>
                    <a:pt x="1273" y="807"/>
                  </a:lnTo>
                  <a:lnTo>
                    <a:pt x="1837" y="2053"/>
                  </a:lnTo>
                  <a:lnTo>
                    <a:pt x="1824" y="2071"/>
                  </a:lnTo>
                  <a:lnTo>
                    <a:pt x="1814" y="2087"/>
                  </a:lnTo>
                  <a:lnTo>
                    <a:pt x="1805" y="2103"/>
                  </a:lnTo>
                  <a:lnTo>
                    <a:pt x="1798" y="2117"/>
                  </a:lnTo>
                  <a:lnTo>
                    <a:pt x="1794" y="2131"/>
                  </a:lnTo>
                  <a:lnTo>
                    <a:pt x="1790" y="2144"/>
                  </a:lnTo>
                  <a:lnTo>
                    <a:pt x="1788" y="2156"/>
                  </a:lnTo>
                  <a:lnTo>
                    <a:pt x="1787" y="2166"/>
                  </a:lnTo>
                  <a:lnTo>
                    <a:pt x="1787" y="2185"/>
                  </a:lnTo>
                  <a:lnTo>
                    <a:pt x="1788" y="2198"/>
                  </a:lnTo>
                  <a:lnTo>
                    <a:pt x="1790" y="2206"/>
                  </a:lnTo>
                  <a:lnTo>
                    <a:pt x="1791" y="2209"/>
                  </a:lnTo>
                  <a:lnTo>
                    <a:pt x="1809" y="2301"/>
                  </a:lnTo>
                  <a:lnTo>
                    <a:pt x="1787" y="2315"/>
                  </a:lnTo>
                  <a:lnTo>
                    <a:pt x="1763" y="2330"/>
                  </a:lnTo>
                  <a:lnTo>
                    <a:pt x="1738" y="2348"/>
                  </a:lnTo>
                  <a:lnTo>
                    <a:pt x="1712" y="2367"/>
                  </a:lnTo>
                  <a:lnTo>
                    <a:pt x="1685" y="2388"/>
                  </a:lnTo>
                  <a:lnTo>
                    <a:pt x="1658" y="2409"/>
                  </a:lnTo>
                  <a:lnTo>
                    <a:pt x="1633" y="2432"/>
                  </a:lnTo>
                  <a:lnTo>
                    <a:pt x="1607" y="2455"/>
                  </a:lnTo>
                  <a:lnTo>
                    <a:pt x="1582" y="2477"/>
                  </a:lnTo>
                  <a:lnTo>
                    <a:pt x="1561" y="2498"/>
                  </a:lnTo>
                  <a:lnTo>
                    <a:pt x="1542" y="2519"/>
                  </a:lnTo>
                  <a:lnTo>
                    <a:pt x="1525" y="2539"/>
                  </a:lnTo>
                  <a:lnTo>
                    <a:pt x="1511" y="2557"/>
                  </a:lnTo>
                  <a:lnTo>
                    <a:pt x="1503" y="2572"/>
                  </a:lnTo>
                  <a:lnTo>
                    <a:pt x="1499" y="2579"/>
                  </a:lnTo>
                  <a:lnTo>
                    <a:pt x="1497" y="2585"/>
                  </a:lnTo>
                  <a:lnTo>
                    <a:pt x="1497" y="2590"/>
                  </a:lnTo>
                  <a:lnTo>
                    <a:pt x="1497" y="2595"/>
                  </a:lnTo>
                  <a:lnTo>
                    <a:pt x="1475" y="2605"/>
                  </a:lnTo>
                  <a:lnTo>
                    <a:pt x="1454" y="2615"/>
                  </a:lnTo>
                  <a:lnTo>
                    <a:pt x="1433" y="2627"/>
                  </a:lnTo>
                  <a:lnTo>
                    <a:pt x="1414" y="2638"/>
                  </a:lnTo>
                  <a:lnTo>
                    <a:pt x="1397" y="2651"/>
                  </a:lnTo>
                  <a:lnTo>
                    <a:pt x="1380" y="2664"/>
                  </a:lnTo>
                  <a:lnTo>
                    <a:pt x="1365" y="2677"/>
                  </a:lnTo>
                  <a:lnTo>
                    <a:pt x="1352" y="2690"/>
                  </a:lnTo>
                  <a:lnTo>
                    <a:pt x="1329" y="2713"/>
                  </a:lnTo>
                  <a:lnTo>
                    <a:pt x="1313" y="2733"/>
                  </a:lnTo>
                  <a:lnTo>
                    <a:pt x="1302" y="2746"/>
                  </a:lnTo>
                  <a:lnTo>
                    <a:pt x="1299" y="2751"/>
                  </a:lnTo>
                  <a:lnTo>
                    <a:pt x="1328" y="2829"/>
                  </a:lnTo>
                  <a:lnTo>
                    <a:pt x="1313" y="2840"/>
                  </a:lnTo>
                  <a:lnTo>
                    <a:pt x="1297" y="2851"/>
                  </a:lnTo>
                  <a:lnTo>
                    <a:pt x="1282" y="2860"/>
                  </a:lnTo>
                  <a:lnTo>
                    <a:pt x="1268" y="2868"/>
                  </a:lnTo>
                  <a:lnTo>
                    <a:pt x="1254" y="2876"/>
                  </a:lnTo>
                  <a:lnTo>
                    <a:pt x="1241" y="2881"/>
                  </a:lnTo>
                  <a:lnTo>
                    <a:pt x="1228" y="2887"/>
                  </a:lnTo>
                  <a:lnTo>
                    <a:pt x="1217" y="2891"/>
                  </a:lnTo>
                  <a:lnTo>
                    <a:pt x="1195" y="2897"/>
                  </a:lnTo>
                  <a:lnTo>
                    <a:pt x="1175" y="2901"/>
                  </a:lnTo>
                  <a:lnTo>
                    <a:pt x="1158" y="2904"/>
                  </a:lnTo>
                  <a:lnTo>
                    <a:pt x="1147" y="29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1" name="Freeform 1518"/>
            <p:cNvSpPr/>
            <p:nvPr/>
          </p:nvSpPr>
          <p:spPr>
            <a:xfrm>
              <a:off x="3349800" y="4995720"/>
              <a:ext cx="502560" cy="313200"/>
            </a:xfrm>
            <a:custGeom>
              <a:avLst/>
              <a:gdLst>
                <a:gd name="textAreaLeft" fmla="*/ 0 w 502560"/>
                <a:gd name="textAreaRight" fmla="*/ 502920 w 502560"/>
                <a:gd name="textAreaTop" fmla="*/ 0 h 313200"/>
                <a:gd name="textAreaBottom" fmla="*/ 313560 h 313200"/>
              </a:gdLst>
              <a:ahLst/>
              <a:rect l="textAreaLeft" t="textAreaTop" r="textAreaRight" b="textAreaBottom"/>
              <a:pathLst>
                <a:path w="2798" h="2073">
                  <a:moveTo>
                    <a:pt x="1741" y="2073"/>
                  </a:moveTo>
                  <a:lnTo>
                    <a:pt x="1081" y="2018"/>
                  </a:lnTo>
                  <a:lnTo>
                    <a:pt x="0" y="1462"/>
                  </a:lnTo>
                  <a:lnTo>
                    <a:pt x="65" y="1356"/>
                  </a:lnTo>
                  <a:lnTo>
                    <a:pt x="76" y="1354"/>
                  </a:lnTo>
                  <a:lnTo>
                    <a:pt x="93" y="1351"/>
                  </a:lnTo>
                  <a:lnTo>
                    <a:pt x="113" y="1347"/>
                  </a:lnTo>
                  <a:lnTo>
                    <a:pt x="135" y="1341"/>
                  </a:lnTo>
                  <a:lnTo>
                    <a:pt x="146" y="1337"/>
                  </a:lnTo>
                  <a:lnTo>
                    <a:pt x="159" y="1331"/>
                  </a:lnTo>
                  <a:lnTo>
                    <a:pt x="172" y="1326"/>
                  </a:lnTo>
                  <a:lnTo>
                    <a:pt x="186" y="1318"/>
                  </a:lnTo>
                  <a:lnTo>
                    <a:pt x="200" y="1310"/>
                  </a:lnTo>
                  <a:lnTo>
                    <a:pt x="215" y="1301"/>
                  </a:lnTo>
                  <a:lnTo>
                    <a:pt x="231" y="1290"/>
                  </a:lnTo>
                  <a:lnTo>
                    <a:pt x="246" y="1279"/>
                  </a:lnTo>
                  <a:lnTo>
                    <a:pt x="217" y="1201"/>
                  </a:lnTo>
                  <a:lnTo>
                    <a:pt x="220" y="1196"/>
                  </a:lnTo>
                  <a:lnTo>
                    <a:pt x="231" y="1183"/>
                  </a:lnTo>
                  <a:lnTo>
                    <a:pt x="247" y="1163"/>
                  </a:lnTo>
                  <a:lnTo>
                    <a:pt x="270" y="1140"/>
                  </a:lnTo>
                  <a:lnTo>
                    <a:pt x="283" y="1127"/>
                  </a:lnTo>
                  <a:lnTo>
                    <a:pt x="298" y="1114"/>
                  </a:lnTo>
                  <a:lnTo>
                    <a:pt x="315" y="1101"/>
                  </a:lnTo>
                  <a:lnTo>
                    <a:pt x="332" y="1088"/>
                  </a:lnTo>
                  <a:lnTo>
                    <a:pt x="351" y="1077"/>
                  </a:lnTo>
                  <a:lnTo>
                    <a:pt x="372" y="1065"/>
                  </a:lnTo>
                  <a:lnTo>
                    <a:pt x="393" y="1055"/>
                  </a:lnTo>
                  <a:lnTo>
                    <a:pt x="415" y="1045"/>
                  </a:lnTo>
                  <a:lnTo>
                    <a:pt x="415" y="1040"/>
                  </a:lnTo>
                  <a:lnTo>
                    <a:pt x="415" y="1035"/>
                  </a:lnTo>
                  <a:lnTo>
                    <a:pt x="417" y="1029"/>
                  </a:lnTo>
                  <a:lnTo>
                    <a:pt x="421" y="1022"/>
                  </a:lnTo>
                  <a:lnTo>
                    <a:pt x="429" y="1007"/>
                  </a:lnTo>
                  <a:lnTo>
                    <a:pt x="443" y="989"/>
                  </a:lnTo>
                  <a:lnTo>
                    <a:pt x="460" y="969"/>
                  </a:lnTo>
                  <a:lnTo>
                    <a:pt x="479" y="948"/>
                  </a:lnTo>
                  <a:lnTo>
                    <a:pt x="500" y="927"/>
                  </a:lnTo>
                  <a:lnTo>
                    <a:pt x="525" y="905"/>
                  </a:lnTo>
                  <a:lnTo>
                    <a:pt x="551" y="882"/>
                  </a:lnTo>
                  <a:lnTo>
                    <a:pt x="576" y="859"/>
                  </a:lnTo>
                  <a:lnTo>
                    <a:pt x="603" y="838"/>
                  </a:lnTo>
                  <a:lnTo>
                    <a:pt x="630" y="817"/>
                  </a:lnTo>
                  <a:lnTo>
                    <a:pt x="656" y="798"/>
                  </a:lnTo>
                  <a:lnTo>
                    <a:pt x="681" y="780"/>
                  </a:lnTo>
                  <a:lnTo>
                    <a:pt x="705" y="765"/>
                  </a:lnTo>
                  <a:lnTo>
                    <a:pt x="727" y="751"/>
                  </a:lnTo>
                  <a:lnTo>
                    <a:pt x="709" y="659"/>
                  </a:lnTo>
                  <a:lnTo>
                    <a:pt x="708" y="656"/>
                  </a:lnTo>
                  <a:lnTo>
                    <a:pt x="706" y="648"/>
                  </a:lnTo>
                  <a:lnTo>
                    <a:pt x="705" y="635"/>
                  </a:lnTo>
                  <a:lnTo>
                    <a:pt x="705" y="616"/>
                  </a:lnTo>
                  <a:lnTo>
                    <a:pt x="706" y="606"/>
                  </a:lnTo>
                  <a:lnTo>
                    <a:pt x="708" y="594"/>
                  </a:lnTo>
                  <a:lnTo>
                    <a:pt x="712" y="581"/>
                  </a:lnTo>
                  <a:lnTo>
                    <a:pt x="716" y="567"/>
                  </a:lnTo>
                  <a:lnTo>
                    <a:pt x="723" y="553"/>
                  </a:lnTo>
                  <a:lnTo>
                    <a:pt x="732" y="537"/>
                  </a:lnTo>
                  <a:lnTo>
                    <a:pt x="742" y="521"/>
                  </a:lnTo>
                  <a:lnTo>
                    <a:pt x="755" y="503"/>
                  </a:lnTo>
                  <a:lnTo>
                    <a:pt x="810" y="437"/>
                  </a:lnTo>
                  <a:lnTo>
                    <a:pt x="860" y="375"/>
                  </a:lnTo>
                  <a:lnTo>
                    <a:pt x="884" y="347"/>
                  </a:lnTo>
                  <a:lnTo>
                    <a:pt x="908" y="320"/>
                  </a:lnTo>
                  <a:lnTo>
                    <a:pt x="920" y="308"/>
                  </a:lnTo>
                  <a:lnTo>
                    <a:pt x="931" y="296"/>
                  </a:lnTo>
                  <a:lnTo>
                    <a:pt x="944" y="285"/>
                  </a:lnTo>
                  <a:lnTo>
                    <a:pt x="957" y="275"/>
                  </a:lnTo>
                  <a:lnTo>
                    <a:pt x="970" y="265"/>
                  </a:lnTo>
                  <a:lnTo>
                    <a:pt x="983" y="257"/>
                  </a:lnTo>
                  <a:lnTo>
                    <a:pt x="996" y="249"/>
                  </a:lnTo>
                  <a:lnTo>
                    <a:pt x="1010" y="242"/>
                  </a:lnTo>
                  <a:lnTo>
                    <a:pt x="1024" y="235"/>
                  </a:lnTo>
                  <a:lnTo>
                    <a:pt x="1039" y="230"/>
                  </a:lnTo>
                  <a:lnTo>
                    <a:pt x="1054" y="225"/>
                  </a:lnTo>
                  <a:lnTo>
                    <a:pt x="1070" y="222"/>
                  </a:lnTo>
                  <a:lnTo>
                    <a:pt x="1087" y="218"/>
                  </a:lnTo>
                  <a:lnTo>
                    <a:pt x="1104" y="217"/>
                  </a:lnTo>
                  <a:lnTo>
                    <a:pt x="1122" y="216"/>
                  </a:lnTo>
                  <a:lnTo>
                    <a:pt x="1141" y="217"/>
                  </a:lnTo>
                  <a:lnTo>
                    <a:pt x="1160" y="218"/>
                  </a:lnTo>
                  <a:lnTo>
                    <a:pt x="1181" y="221"/>
                  </a:lnTo>
                  <a:lnTo>
                    <a:pt x="1202" y="225"/>
                  </a:lnTo>
                  <a:lnTo>
                    <a:pt x="1225" y="230"/>
                  </a:lnTo>
                  <a:lnTo>
                    <a:pt x="1380" y="0"/>
                  </a:lnTo>
                  <a:lnTo>
                    <a:pt x="2798" y="51"/>
                  </a:lnTo>
                  <a:lnTo>
                    <a:pt x="1741" y="207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2" name="Freeform 1519"/>
            <p:cNvSpPr/>
            <p:nvPr/>
          </p:nvSpPr>
          <p:spPr>
            <a:xfrm>
              <a:off x="3852720" y="4843080"/>
              <a:ext cx="450360" cy="160200"/>
            </a:xfrm>
            <a:custGeom>
              <a:avLst/>
              <a:gdLst>
                <a:gd name="textAreaLeft" fmla="*/ 0 w 450360"/>
                <a:gd name="textAreaRight" fmla="*/ 450720 w 450360"/>
                <a:gd name="textAreaTop" fmla="*/ 0 h 160200"/>
                <a:gd name="textAreaBottom" fmla="*/ 160560 h 160200"/>
              </a:gdLst>
              <a:ahLst/>
              <a:rect l="textAreaLeft" t="textAreaTop" r="textAreaRight" b="textAreaBottom"/>
              <a:pathLst>
                <a:path w="2502" h="1059">
                  <a:moveTo>
                    <a:pt x="0" y="1059"/>
                  </a:moveTo>
                  <a:lnTo>
                    <a:pt x="529" y="0"/>
                  </a:lnTo>
                  <a:lnTo>
                    <a:pt x="1871" y="37"/>
                  </a:lnTo>
                  <a:lnTo>
                    <a:pt x="2502" y="43"/>
                  </a:lnTo>
                  <a:lnTo>
                    <a:pt x="2235" y="1057"/>
                  </a:lnTo>
                  <a:lnTo>
                    <a:pt x="0" y="105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3" name="Freeform 1520"/>
            <p:cNvSpPr/>
            <p:nvPr/>
          </p:nvSpPr>
          <p:spPr>
            <a:xfrm>
              <a:off x="3854520" y="5038920"/>
              <a:ext cx="934920" cy="687960"/>
            </a:xfrm>
            <a:custGeom>
              <a:avLst/>
              <a:gdLst>
                <a:gd name="textAreaLeft" fmla="*/ 0 w 934920"/>
                <a:gd name="textAreaRight" fmla="*/ 935280 w 934920"/>
                <a:gd name="textAreaTop" fmla="*/ 0 h 687960"/>
                <a:gd name="textAreaBottom" fmla="*/ 688320 h 687960"/>
              </a:gdLst>
              <a:ahLst/>
              <a:rect l="textAreaLeft" t="textAreaTop" r="textAreaRight" b="textAreaBottom"/>
              <a:pathLst>
                <a:path w="5200" h="4545">
                  <a:moveTo>
                    <a:pt x="5200" y="2503"/>
                  </a:moveTo>
                  <a:lnTo>
                    <a:pt x="5184" y="1809"/>
                  </a:lnTo>
                  <a:lnTo>
                    <a:pt x="5164" y="1787"/>
                  </a:lnTo>
                  <a:lnTo>
                    <a:pt x="5146" y="1764"/>
                  </a:lnTo>
                  <a:lnTo>
                    <a:pt x="5136" y="1752"/>
                  </a:lnTo>
                  <a:lnTo>
                    <a:pt x="5128" y="1739"/>
                  </a:lnTo>
                  <a:lnTo>
                    <a:pt x="5120" y="1725"/>
                  </a:lnTo>
                  <a:lnTo>
                    <a:pt x="5112" y="1711"/>
                  </a:lnTo>
                  <a:lnTo>
                    <a:pt x="5103" y="1696"/>
                  </a:lnTo>
                  <a:lnTo>
                    <a:pt x="5096" y="1680"/>
                  </a:lnTo>
                  <a:lnTo>
                    <a:pt x="5089" y="1663"/>
                  </a:lnTo>
                  <a:lnTo>
                    <a:pt x="5082" y="1646"/>
                  </a:lnTo>
                  <a:lnTo>
                    <a:pt x="5071" y="1610"/>
                  </a:lnTo>
                  <a:lnTo>
                    <a:pt x="5059" y="1569"/>
                  </a:lnTo>
                  <a:lnTo>
                    <a:pt x="5050" y="1524"/>
                  </a:lnTo>
                  <a:lnTo>
                    <a:pt x="5040" y="1477"/>
                  </a:lnTo>
                  <a:lnTo>
                    <a:pt x="5033" y="1423"/>
                  </a:lnTo>
                  <a:lnTo>
                    <a:pt x="5028" y="1366"/>
                  </a:lnTo>
                  <a:lnTo>
                    <a:pt x="5023" y="1304"/>
                  </a:lnTo>
                  <a:lnTo>
                    <a:pt x="5019" y="1237"/>
                  </a:lnTo>
                  <a:lnTo>
                    <a:pt x="5017" y="1165"/>
                  </a:lnTo>
                  <a:lnTo>
                    <a:pt x="5017" y="1086"/>
                  </a:lnTo>
                  <a:lnTo>
                    <a:pt x="5004" y="1076"/>
                  </a:lnTo>
                  <a:lnTo>
                    <a:pt x="4988" y="1064"/>
                  </a:lnTo>
                  <a:lnTo>
                    <a:pt x="4969" y="1053"/>
                  </a:lnTo>
                  <a:lnTo>
                    <a:pt x="4947" y="1039"/>
                  </a:lnTo>
                  <a:lnTo>
                    <a:pt x="4922" y="1026"/>
                  </a:lnTo>
                  <a:lnTo>
                    <a:pt x="4896" y="1010"/>
                  </a:lnTo>
                  <a:lnTo>
                    <a:pt x="4866" y="996"/>
                  </a:lnTo>
                  <a:lnTo>
                    <a:pt x="4836" y="981"/>
                  </a:lnTo>
                  <a:lnTo>
                    <a:pt x="4769" y="951"/>
                  </a:lnTo>
                  <a:lnTo>
                    <a:pt x="4698" y="921"/>
                  </a:lnTo>
                  <a:lnTo>
                    <a:pt x="4623" y="891"/>
                  </a:lnTo>
                  <a:lnTo>
                    <a:pt x="4547" y="864"/>
                  </a:lnTo>
                  <a:lnTo>
                    <a:pt x="4509" y="852"/>
                  </a:lnTo>
                  <a:lnTo>
                    <a:pt x="4472" y="840"/>
                  </a:lnTo>
                  <a:lnTo>
                    <a:pt x="4434" y="828"/>
                  </a:lnTo>
                  <a:lnTo>
                    <a:pt x="4398" y="819"/>
                  </a:lnTo>
                  <a:lnTo>
                    <a:pt x="4363" y="810"/>
                  </a:lnTo>
                  <a:lnTo>
                    <a:pt x="4329" y="803"/>
                  </a:lnTo>
                  <a:lnTo>
                    <a:pt x="4296" y="797"/>
                  </a:lnTo>
                  <a:lnTo>
                    <a:pt x="4265" y="792"/>
                  </a:lnTo>
                  <a:lnTo>
                    <a:pt x="4236" y="789"/>
                  </a:lnTo>
                  <a:lnTo>
                    <a:pt x="4209" y="787"/>
                  </a:lnTo>
                  <a:lnTo>
                    <a:pt x="4184" y="787"/>
                  </a:lnTo>
                  <a:lnTo>
                    <a:pt x="4162" y="791"/>
                  </a:lnTo>
                  <a:lnTo>
                    <a:pt x="4142" y="794"/>
                  </a:lnTo>
                  <a:lnTo>
                    <a:pt x="4126" y="801"/>
                  </a:lnTo>
                  <a:lnTo>
                    <a:pt x="4113" y="810"/>
                  </a:lnTo>
                  <a:lnTo>
                    <a:pt x="4104" y="821"/>
                  </a:lnTo>
                  <a:lnTo>
                    <a:pt x="4080" y="856"/>
                  </a:lnTo>
                  <a:lnTo>
                    <a:pt x="4059" y="884"/>
                  </a:lnTo>
                  <a:lnTo>
                    <a:pt x="4049" y="896"/>
                  </a:lnTo>
                  <a:lnTo>
                    <a:pt x="4039" y="907"/>
                  </a:lnTo>
                  <a:lnTo>
                    <a:pt x="4031" y="916"/>
                  </a:lnTo>
                  <a:lnTo>
                    <a:pt x="4022" y="923"/>
                  </a:lnTo>
                  <a:lnTo>
                    <a:pt x="4014" y="930"/>
                  </a:lnTo>
                  <a:lnTo>
                    <a:pt x="4007" y="935"/>
                  </a:lnTo>
                  <a:lnTo>
                    <a:pt x="4000" y="939"/>
                  </a:lnTo>
                  <a:lnTo>
                    <a:pt x="3993" y="942"/>
                  </a:lnTo>
                  <a:lnTo>
                    <a:pt x="3986" y="944"/>
                  </a:lnTo>
                  <a:lnTo>
                    <a:pt x="3980" y="945"/>
                  </a:lnTo>
                  <a:lnTo>
                    <a:pt x="3974" y="945"/>
                  </a:lnTo>
                  <a:lnTo>
                    <a:pt x="3968" y="944"/>
                  </a:lnTo>
                  <a:lnTo>
                    <a:pt x="3963" y="943"/>
                  </a:lnTo>
                  <a:lnTo>
                    <a:pt x="3959" y="940"/>
                  </a:lnTo>
                  <a:lnTo>
                    <a:pt x="3954" y="937"/>
                  </a:lnTo>
                  <a:lnTo>
                    <a:pt x="3949" y="933"/>
                  </a:lnTo>
                  <a:lnTo>
                    <a:pt x="3942" y="925"/>
                  </a:lnTo>
                  <a:lnTo>
                    <a:pt x="3937" y="915"/>
                  </a:lnTo>
                  <a:lnTo>
                    <a:pt x="3931" y="903"/>
                  </a:lnTo>
                  <a:lnTo>
                    <a:pt x="3926" y="891"/>
                  </a:lnTo>
                  <a:lnTo>
                    <a:pt x="3922" y="880"/>
                  </a:lnTo>
                  <a:lnTo>
                    <a:pt x="3919" y="868"/>
                  </a:lnTo>
                  <a:lnTo>
                    <a:pt x="3917" y="862"/>
                  </a:lnTo>
                  <a:lnTo>
                    <a:pt x="3913" y="857"/>
                  </a:lnTo>
                  <a:lnTo>
                    <a:pt x="3907" y="854"/>
                  </a:lnTo>
                  <a:lnTo>
                    <a:pt x="3900" y="850"/>
                  </a:lnTo>
                  <a:lnTo>
                    <a:pt x="3893" y="848"/>
                  </a:lnTo>
                  <a:lnTo>
                    <a:pt x="3884" y="847"/>
                  </a:lnTo>
                  <a:lnTo>
                    <a:pt x="3873" y="846"/>
                  </a:lnTo>
                  <a:lnTo>
                    <a:pt x="3862" y="845"/>
                  </a:lnTo>
                  <a:lnTo>
                    <a:pt x="3837" y="845"/>
                  </a:lnTo>
                  <a:lnTo>
                    <a:pt x="3808" y="847"/>
                  </a:lnTo>
                  <a:lnTo>
                    <a:pt x="3778" y="850"/>
                  </a:lnTo>
                  <a:lnTo>
                    <a:pt x="3746" y="854"/>
                  </a:lnTo>
                  <a:lnTo>
                    <a:pt x="3680" y="863"/>
                  </a:lnTo>
                  <a:lnTo>
                    <a:pt x="3615" y="870"/>
                  </a:lnTo>
                  <a:lnTo>
                    <a:pt x="3586" y="873"/>
                  </a:lnTo>
                  <a:lnTo>
                    <a:pt x="3559" y="873"/>
                  </a:lnTo>
                  <a:lnTo>
                    <a:pt x="3546" y="873"/>
                  </a:lnTo>
                  <a:lnTo>
                    <a:pt x="3536" y="871"/>
                  </a:lnTo>
                  <a:lnTo>
                    <a:pt x="3525" y="870"/>
                  </a:lnTo>
                  <a:lnTo>
                    <a:pt x="3516" y="868"/>
                  </a:lnTo>
                  <a:lnTo>
                    <a:pt x="3500" y="861"/>
                  </a:lnTo>
                  <a:lnTo>
                    <a:pt x="3483" y="853"/>
                  </a:lnTo>
                  <a:lnTo>
                    <a:pt x="3467" y="845"/>
                  </a:lnTo>
                  <a:lnTo>
                    <a:pt x="3453" y="835"/>
                  </a:lnTo>
                  <a:lnTo>
                    <a:pt x="3439" y="825"/>
                  </a:lnTo>
                  <a:lnTo>
                    <a:pt x="3426" y="814"/>
                  </a:lnTo>
                  <a:lnTo>
                    <a:pt x="3414" y="804"/>
                  </a:lnTo>
                  <a:lnTo>
                    <a:pt x="3404" y="793"/>
                  </a:lnTo>
                  <a:lnTo>
                    <a:pt x="3372" y="758"/>
                  </a:lnTo>
                  <a:lnTo>
                    <a:pt x="3361" y="743"/>
                  </a:lnTo>
                  <a:lnTo>
                    <a:pt x="3356" y="748"/>
                  </a:lnTo>
                  <a:lnTo>
                    <a:pt x="3344" y="759"/>
                  </a:lnTo>
                  <a:lnTo>
                    <a:pt x="3335" y="766"/>
                  </a:lnTo>
                  <a:lnTo>
                    <a:pt x="3324" y="775"/>
                  </a:lnTo>
                  <a:lnTo>
                    <a:pt x="3313" y="783"/>
                  </a:lnTo>
                  <a:lnTo>
                    <a:pt x="3299" y="791"/>
                  </a:lnTo>
                  <a:lnTo>
                    <a:pt x="3284" y="799"/>
                  </a:lnTo>
                  <a:lnTo>
                    <a:pt x="3267" y="805"/>
                  </a:lnTo>
                  <a:lnTo>
                    <a:pt x="3250" y="811"/>
                  </a:lnTo>
                  <a:lnTo>
                    <a:pt x="3231" y="814"/>
                  </a:lnTo>
                  <a:lnTo>
                    <a:pt x="3220" y="815"/>
                  </a:lnTo>
                  <a:lnTo>
                    <a:pt x="3210" y="815"/>
                  </a:lnTo>
                  <a:lnTo>
                    <a:pt x="3201" y="815"/>
                  </a:lnTo>
                  <a:lnTo>
                    <a:pt x="3189" y="814"/>
                  </a:lnTo>
                  <a:lnTo>
                    <a:pt x="3178" y="813"/>
                  </a:lnTo>
                  <a:lnTo>
                    <a:pt x="3168" y="811"/>
                  </a:lnTo>
                  <a:lnTo>
                    <a:pt x="3156" y="808"/>
                  </a:lnTo>
                  <a:lnTo>
                    <a:pt x="3145" y="804"/>
                  </a:lnTo>
                  <a:lnTo>
                    <a:pt x="3122" y="794"/>
                  </a:lnTo>
                  <a:lnTo>
                    <a:pt x="3100" y="784"/>
                  </a:lnTo>
                  <a:lnTo>
                    <a:pt x="3079" y="771"/>
                  </a:lnTo>
                  <a:lnTo>
                    <a:pt x="3058" y="758"/>
                  </a:lnTo>
                  <a:lnTo>
                    <a:pt x="3016" y="730"/>
                  </a:lnTo>
                  <a:lnTo>
                    <a:pt x="2972" y="702"/>
                  </a:lnTo>
                  <a:lnTo>
                    <a:pt x="2947" y="688"/>
                  </a:lnTo>
                  <a:lnTo>
                    <a:pt x="2923" y="675"/>
                  </a:lnTo>
                  <a:lnTo>
                    <a:pt x="2896" y="665"/>
                  </a:lnTo>
                  <a:lnTo>
                    <a:pt x="2867" y="654"/>
                  </a:lnTo>
                  <a:lnTo>
                    <a:pt x="2851" y="650"/>
                  </a:lnTo>
                  <a:lnTo>
                    <a:pt x="2836" y="646"/>
                  </a:lnTo>
                  <a:lnTo>
                    <a:pt x="2820" y="643"/>
                  </a:lnTo>
                  <a:lnTo>
                    <a:pt x="2802" y="639"/>
                  </a:lnTo>
                  <a:lnTo>
                    <a:pt x="2785" y="637"/>
                  </a:lnTo>
                  <a:lnTo>
                    <a:pt x="2766" y="636"/>
                  </a:lnTo>
                  <a:lnTo>
                    <a:pt x="2747" y="634"/>
                  </a:lnTo>
                  <a:lnTo>
                    <a:pt x="2726" y="634"/>
                  </a:lnTo>
                  <a:lnTo>
                    <a:pt x="2759" y="47"/>
                  </a:lnTo>
                  <a:lnTo>
                    <a:pt x="1857" y="0"/>
                  </a:lnTo>
                  <a:lnTo>
                    <a:pt x="1399" y="1533"/>
                  </a:lnTo>
                  <a:lnTo>
                    <a:pt x="8" y="1501"/>
                  </a:lnTo>
                  <a:lnTo>
                    <a:pt x="0" y="1668"/>
                  </a:lnTo>
                  <a:lnTo>
                    <a:pt x="503" y="2350"/>
                  </a:lnTo>
                  <a:lnTo>
                    <a:pt x="472" y="2566"/>
                  </a:lnTo>
                  <a:lnTo>
                    <a:pt x="904" y="3030"/>
                  </a:lnTo>
                  <a:lnTo>
                    <a:pt x="1091" y="2938"/>
                  </a:lnTo>
                  <a:lnTo>
                    <a:pt x="1307" y="2598"/>
                  </a:lnTo>
                  <a:lnTo>
                    <a:pt x="1318" y="2597"/>
                  </a:lnTo>
                  <a:lnTo>
                    <a:pt x="1348" y="2593"/>
                  </a:lnTo>
                  <a:lnTo>
                    <a:pt x="1392" y="2589"/>
                  </a:lnTo>
                  <a:lnTo>
                    <a:pt x="1446" y="2583"/>
                  </a:lnTo>
                  <a:lnTo>
                    <a:pt x="1507" y="2577"/>
                  </a:lnTo>
                  <a:lnTo>
                    <a:pt x="1569" y="2572"/>
                  </a:lnTo>
                  <a:lnTo>
                    <a:pt x="1627" y="2568"/>
                  </a:lnTo>
                  <a:lnTo>
                    <a:pt x="1679" y="2566"/>
                  </a:lnTo>
                  <a:lnTo>
                    <a:pt x="1725" y="2568"/>
                  </a:lnTo>
                  <a:lnTo>
                    <a:pt x="1773" y="2570"/>
                  </a:lnTo>
                  <a:lnTo>
                    <a:pt x="1798" y="2572"/>
                  </a:lnTo>
                  <a:lnTo>
                    <a:pt x="1821" y="2577"/>
                  </a:lnTo>
                  <a:lnTo>
                    <a:pt x="1844" y="2582"/>
                  </a:lnTo>
                  <a:lnTo>
                    <a:pt x="1867" y="2590"/>
                  </a:lnTo>
                  <a:lnTo>
                    <a:pt x="1877" y="2594"/>
                  </a:lnTo>
                  <a:lnTo>
                    <a:pt x="1888" y="2599"/>
                  </a:lnTo>
                  <a:lnTo>
                    <a:pt x="1897" y="2605"/>
                  </a:lnTo>
                  <a:lnTo>
                    <a:pt x="1907" y="2612"/>
                  </a:lnTo>
                  <a:lnTo>
                    <a:pt x="1917" y="2619"/>
                  </a:lnTo>
                  <a:lnTo>
                    <a:pt x="1925" y="2627"/>
                  </a:lnTo>
                  <a:lnTo>
                    <a:pt x="1934" y="2635"/>
                  </a:lnTo>
                  <a:lnTo>
                    <a:pt x="1943" y="2645"/>
                  </a:lnTo>
                  <a:lnTo>
                    <a:pt x="1950" y="2655"/>
                  </a:lnTo>
                  <a:lnTo>
                    <a:pt x="1957" y="2666"/>
                  </a:lnTo>
                  <a:lnTo>
                    <a:pt x="1964" y="2677"/>
                  </a:lnTo>
                  <a:lnTo>
                    <a:pt x="1969" y="2690"/>
                  </a:lnTo>
                  <a:lnTo>
                    <a:pt x="1974" y="2704"/>
                  </a:lnTo>
                  <a:lnTo>
                    <a:pt x="1980" y="2718"/>
                  </a:lnTo>
                  <a:lnTo>
                    <a:pt x="1983" y="2735"/>
                  </a:lnTo>
                  <a:lnTo>
                    <a:pt x="1987" y="2751"/>
                  </a:lnTo>
                  <a:lnTo>
                    <a:pt x="1993" y="2788"/>
                  </a:lnTo>
                  <a:lnTo>
                    <a:pt x="1997" y="2830"/>
                  </a:lnTo>
                  <a:lnTo>
                    <a:pt x="2004" y="2876"/>
                  </a:lnTo>
                  <a:lnTo>
                    <a:pt x="2011" y="2926"/>
                  </a:lnTo>
                  <a:lnTo>
                    <a:pt x="2021" y="2977"/>
                  </a:lnTo>
                  <a:lnTo>
                    <a:pt x="2034" y="3032"/>
                  </a:lnTo>
                  <a:lnTo>
                    <a:pt x="2041" y="3060"/>
                  </a:lnTo>
                  <a:lnTo>
                    <a:pt x="2049" y="3088"/>
                  </a:lnTo>
                  <a:lnTo>
                    <a:pt x="2058" y="3116"/>
                  </a:lnTo>
                  <a:lnTo>
                    <a:pt x="2069" y="3146"/>
                  </a:lnTo>
                  <a:lnTo>
                    <a:pt x="2080" y="3175"/>
                  </a:lnTo>
                  <a:lnTo>
                    <a:pt x="2092" y="3204"/>
                  </a:lnTo>
                  <a:lnTo>
                    <a:pt x="2107" y="3233"/>
                  </a:lnTo>
                  <a:lnTo>
                    <a:pt x="2122" y="3263"/>
                  </a:lnTo>
                  <a:lnTo>
                    <a:pt x="2139" y="3292"/>
                  </a:lnTo>
                  <a:lnTo>
                    <a:pt x="2157" y="3321"/>
                  </a:lnTo>
                  <a:lnTo>
                    <a:pt x="2178" y="3349"/>
                  </a:lnTo>
                  <a:lnTo>
                    <a:pt x="2201" y="3377"/>
                  </a:lnTo>
                  <a:lnTo>
                    <a:pt x="2224" y="3405"/>
                  </a:lnTo>
                  <a:lnTo>
                    <a:pt x="2250" y="3433"/>
                  </a:lnTo>
                  <a:lnTo>
                    <a:pt x="2278" y="3460"/>
                  </a:lnTo>
                  <a:lnTo>
                    <a:pt x="2308" y="3487"/>
                  </a:lnTo>
                  <a:lnTo>
                    <a:pt x="2340" y="3512"/>
                  </a:lnTo>
                  <a:lnTo>
                    <a:pt x="2375" y="3538"/>
                  </a:lnTo>
                  <a:lnTo>
                    <a:pt x="2411" y="3563"/>
                  </a:lnTo>
                  <a:lnTo>
                    <a:pt x="2451" y="3586"/>
                  </a:lnTo>
                  <a:lnTo>
                    <a:pt x="2606" y="4050"/>
                  </a:lnTo>
                  <a:lnTo>
                    <a:pt x="3099" y="4545"/>
                  </a:lnTo>
                  <a:lnTo>
                    <a:pt x="3563" y="4545"/>
                  </a:lnTo>
                  <a:lnTo>
                    <a:pt x="3562" y="4528"/>
                  </a:lnTo>
                  <a:lnTo>
                    <a:pt x="3562" y="4478"/>
                  </a:lnTo>
                  <a:lnTo>
                    <a:pt x="3560" y="4406"/>
                  </a:lnTo>
                  <a:lnTo>
                    <a:pt x="3558" y="4316"/>
                  </a:lnTo>
                  <a:lnTo>
                    <a:pt x="3555" y="4217"/>
                  </a:lnTo>
                  <a:lnTo>
                    <a:pt x="3549" y="4114"/>
                  </a:lnTo>
                  <a:lnTo>
                    <a:pt x="3545" y="4064"/>
                  </a:lnTo>
                  <a:lnTo>
                    <a:pt x="3541" y="4015"/>
                  </a:lnTo>
                  <a:lnTo>
                    <a:pt x="3536" y="3969"/>
                  </a:lnTo>
                  <a:lnTo>
                    <a:pt x="3530" y="3926"/>
                  </a:lnTo>
                  <a:lnTo>
                    <a:pt x="3529" y="3905"/>
                  </a:lnTo>
                  <a:lnTo>
                    <a:pt x="3530" y="3883"/>
                  </a:lnTo>
                  <a:lnTo>
                    <a:pt x="3534" y="3861"/>
                  </a:lnTo>
                  <a:lnTo>
                    <a:pt x="3538" y="3836"/>
                  </a:lnTo>
                  <a:lnTo>
                    <a:pt x="3546" y="3811"/>
                  </a:lnTo>
                  <a:lnTo>
                    <a:pt x="3555" y="3786"/>
                  </a:lnTo>
                  <a:lnTo>
                    <a:pt x="3566" y="3759"/>
                  </a:lnTo>
                  <a:lnTo>
                    <a:pt x="3579" y="3732"/>
                  </a:lnTo>
                  <a:lnTo>
                    <a:pt x="3593" y="3705"/>
                  </a:lnTo>
                  <a:lnTo>
                    <a:pt x="3608" y="3677"/>
                  </a:lnTo>
                  <a:lnTo>
                    <a:pt x="3626" y="3649"/>
                  </a:lnTo>
                  <a:lnTo>
                    <a:pt x="3643" y="3621"/>
                  </a:lnTo>
                  <a:lnTo>
                    <a:pt x="3663" y="3593"/>
                  </a:lnTo>
                  <a:lnTo>
                    <a:pt x="3683" y="3565"/>
                  </a:lnTo>
                  <a:lnTo>
                    <a:pt x="3703" y="3537"/>
                  </a:lnTo>
                  <a:lnTo>
                    <a:pt x="3725" y="3509"/>
                  </a:lnTo>
                  <a:lnTo>
                    <a:pt x="3747" y="3482"/>
                  </a:lnTo>
                  <a:lnTo>
                    <a:pt x="3769" y="3455"/>
                  </a:lnTo>
                  <a:lnTo>
                    <a:pt x="3792" y="3430"/>
                  </a:lnTo>
                  <a:lnTo>
                    <a:pt x="3815" y="3404"/>
                  </a:lnTo>
                  <a:lnTo>
                    <a:pt x="3861" y="3355"/>
                  </a:lnTo>
                  <a:lnTo>
                    <a:pt x="3905" y="3310"/>
                  </a:lnTo>
                  <a:lnTo>
                    <a:pt x="3948" y="3270"/>
                  </a:lnTo>
                  <a:lnTo>
                    <a:pt x="3989" y="3236"/>
                  </a:lnTo>
                  <a:lnTo>
                    <a:pt x="4008" y="3220"/>
                  </a:lnTo>
                  <a:lnTo>
                    <a:pt x="4025" y="3206"/>
                  </a:lnTo>
                  <a:lnTo>
                    <a:pt x="4043" y="3196"/>
                  </a:lnTo>
                  <a:lnTo>
                    <a:pt x="4058" y="3185"/>
                  </a:lnTo>
                  <a:lnTo>
                    <a:pt x="4092" y="3167"/>
                  </a:lnTo>
                  <a:lnTo>
                    <a:pt x="4137" y="3145"/>
                  </a:lnTo>
                  <a:lnTo>
                    <a:pt x="4190" y="3119"/>
                  </a:lnTo>
                  <a:lnTo>
                    <a:pt x="4250" y="3092"/>
                  </a:lnTo>
                  <a:lnTo>
                    <a:pt x="4313" y="3063"/>
                  </a:lnTo>
                  <a:lnTo>
                    <a:pt x="4379" y="3034"/>
                  </a:lnTo>
                  <a:lnTo>
                    <a:pt x="4446" y="3002"/>
                  </a:lnTo>
                  <a:lnTo>
                    <a:pt x="4511" y="2970"/>
                  </a:lnTo>
                  <a:lnTo>
                    <a:pt x="4574" y="2939"/>
                  </a:lnTo>
                  <a:lnTo>
                    <a:pt x="4632" y="2907"/>
                  </a:lnTo>
                  <a:lnTo>
                    <a:pt x="4658" y="2892"/>
                  </a:lnTo>
                  <a:lnTo>
                    <a:pt x="4683" y="2877"/>
                  </a:lnTo>
                  <a:lnTo>
                    <a:pt x="4705" y="2863"/>
                  </a:lnTo>
                  <a:lnTo>
                    <a:pt x="4725" y="2848"/>
                  </a:lnTo>
                  <a:lnTo>
                    <a:pt x="4741" y="2834"/>
                  </a:lnTo>
                  <a:lnTo>
                    <a:pt x="4757" y="2821"/>
                  </a:lnTo>
                  <a:lnTo>
                    <a:pt x="4767" y="2807"/>
                  </a:lnTo>
                  <a:lnTo>
                    <a:pt x="4775" y="2795"/>
                  </a:lnTo>
                  <a:lnTo>
                    <a:pt x="4780" y="2782"/>
                  </a:lnTo>
                  <a:lnTo>
                    <a:pt x="4780" y="2772"/>
                  </a:lnTo>
                  <a:lnTo>
                    <a:pt x="4776" y="2761"/>
                  </a:lnTo>
                  <a:lnTo>
                    <a:pt x="4769" y="2751"/>
                  </a:lnTo>
                  <a:lnTo>
                    <a:pt x="4741" y="2725"/>
                  </a:lnTo>
                  <a:lnTo>
                    <a:pt x="4718" y="2699"/>
                  </a:lnTo>
                  <a:lnTo>
                    <a:pt x="4698" y="2676"/>
                  </a:lnTo>
                  <a:lnTo>
                    <a:pt x="4682" y="2654"/>
                  </a:lnTo>
                  <a:lnTo>
                    <a:pt x="4669" y="2633"/>
                  </a:lnTo>
                  <a:lnTo>
                    <a:pt x="4658" y="2613"/>
                  </a:lnTo>
                  <a:lnTo>
                    <a:pt x="4651" y="2594"/>
                  </a:lnTo>
                  <a:lnTo>
                    <a:pt x="4647" y="2578"/>
                  </a:lnTo>
                  <a:lnTo>
                    <a:pt x="4644" y="2562"/>
                  </a:lnTo>
                  <a:lnTo>
                    <a:pt x="4644" y="2548"/>
                  </a:lnTo>
                  <a:lnTo>
                    <a:pt x="4648" y="2536"/>
                  </a:lnTo>
                  <a:lnTo>
                    <a:pt x="4653" y="2524"/>
                  </a:lnTo>
                  <a:lnTo>
                    <a:pt x="4660" y="2515"/>
                  </a:lnTo>
                  <a:lnTo>
                    <a:pt x="4669" y="2508"/>
                  </a:lnTo>
                  <a:lnTo>
                    <a:pt x="4679" y="2501"/>
                  </a:lnTo>
                  <a:lnTo>
                    <a:pt x="4691" y="2497"/>
                  </a:lnTo>
                  <a:lnTo>
                    <a:pt x="4705" y="2495"/>
                  </a:lnTo>
                  <a:lnTo>
                    <a:pt x="4720" y="2494"/>
                  </a:lnTo>
                  <a:lnTo>
                    <a:pt x="4736" y="2495"/>
                  </a:lnTo>
                  <a:lnTo>
                    <a:pt x="4753" y="2497"/>
                  </a:lnTo>
                  <a:lnTo>
                    <a:pt x="4771" y="2502"/>
                  </a:lnTo>
                  <a:lnTo>
                    <a:pt x="4789" y="2509"/>
                  </a:lnTo>
                  <a:lnTo>
                    <a:pt x="4809" y="2518"/>
                  </a:lnTo>
                  <a:lnTo>
                    <a:pt x="4829" y="2529"/>
                  </a:lnTo>
                  <a:lnTo>
                    <a:pt x="4849" y="2542"/>
                  </a:lnTo>
                  <a:lnTo>
                    <a:pt x="4869" y="2556"/>
                  </a:lnTo>
                  <a:lnTo>
                    <a:pt x="4890" y="2573"/>
                  </a:lnTo>
                  <a:lnTo>
                    <a:pt x="4910" y="2592"/>
                  </a:lnTo>
                  <a:lnTo>
                    <a:pt x="4929" y="2613"/>
                  </a:lnTo>
                  <a:lnTo>
                    <a:pt x="4948" y="2636"/>
                  </a:lnTo>
                  <a:lnTo>
                    <a:pt x="4967" y="2662"/>
                  </a:lnTo>
                  <a:lnTo>
                    <a:pt x="4985" y="2690"/>
                  </a:lnTo>
                  <a:lnTo>
                    <a:pt x="5200" y="250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4" name="Freeform 1521"/>
            <p:cNvSpPr/>
            <p:nvPr/>
          </p:nvSpPr>
          <p:spPr>
            <a:xfrm>
              <a:off x="4254480" y="4876200"/>
              <a:ext cx="412560" cy="127800"/>
            </a:xfrm>
            <a:custGeom>
              <a:avLst/>
              <a:gdLst>
                <a:gd name="textAreaLeft" fmla="*/ 0 w 412560"/>
                <a:gd name="textAreaRight" fmla="*/ 412920 w 412560"/>
                <a:gd name="textAreaTop" fmla="*/ 0 h 127800"/>
                <a:gd name="textAreaBottom" fmla="*/ 128160 h 127800"/>
              </a:gdLst>
              <a:ahLst/>
              <a:rect l="textAreaLeft" t="textAreaTop" r="textAreaRight" b="textAreaBottom"/>
              <a:pathLst>
                <a:path w="2293" h="847">
                  <a:moveTo>
                    <a:pt x="2293" y="224"/>
                  </a:moveTo>
                  <a:lnTo>
                    <a:pt x="2289" y="847"/>
                  </a:lnTo>
                  <a:lnTo>
                    <a:pt x="0" y="845"/>
                  </a:lnTo>
                  <a:lnTo>
                    <a:pt x="222" y="0"/>
                  </a:lnTo>
                  <a:lnTo>
                    <a:pt x="1998" y="4"/>
                  </a:lnTo>
                  <a:lnTo>
                    <a:pt x="2007" y="21"/>
                  </a:lnTo>
                  <a:lnTo>
                    <a:pt x="2014" y="36"/>
                  </a:lnTo>
                  <a:lnTo>
                    <a:pt x="2021" y="47"/>
                  </a:lnTo>
                  <a:lnTo>
                    <a:pt x="2028" y="54"/>
                  </a:lnTo>
                  <a:lnTo>
                    <a:pt x="2031" y="57"/>
                  </a:lnTo>
                  <a:lnTo>
                    <a:pt x="2036" y="59"/>
                  </a:lnTo>
                  <a:lnTo>
                    <a:pt x="2039" y="60"/>
                  </a:lnTo>
                  <a:lnTo>
                    <a:pt x="2044" y="61"/>
                  </a:lnTo>
                  <a:lnTo>
                    <a:pt x="2054" y="61"/>
                  </a:lnTo>
                  <a:lnTo>
                    <a:pt x="2067" y="57"/>
                  </a:lnTo>
                  <a:lnTo>
                    <a:pt x="2095" y="54"/>
                  </a:lnTo>
                  <a:lnTo>
                    <a:pt x="2122" y="50"/>
                  </a:lnTo>
                  <a:lnTo>
                    <a:pt x="2134" y="50"/>
                  </a:lnTo>
                  <a:lnTo>
                    <a:pt x="2144" y="52"/>
                  </a:lnTo>
                  <a:lnTo>
                    <a:pt x="2154" y="53"/>
                  </a:lnTo>
                  <a:lnTo>
                    <a:pt x="2163" y="55"/>
                  </a:lnTo>
                  <a:lnTo>
                    <a:pt x="2170" y="59"/>
                  </a:lnTo>
                  <a:lnTo>
                    <a:pt x="2177" y="63"/>
                  </a:lnTo>
                  <a:lnTo>
                    <a:pt x="2182" y="69"/>
                  </a:lnTo>
                  <a:lnTo>
                    <a:pt x="2185" y="76"/>
                  </a:lnTo>
                  <a:lnTo>
                    <a:pt x="2188" y="85"/>
                  </a:lnTo>
                  <a:lnTo>
                    <a:pt x="2188" y="96"/>
                  </a:lnTo>
                  <a:lnTo>
                    <a:pt x="2186" y="108"/>
                  </a:lnTo>
                  <a:lnTo>
                    <a:pt x="2183" y="122"/>
                  </a:lnTo>
                  <a:lnTo>
                    <a:pt x="2182" y="125"/>
                  </a:lnTo>
                  <a:lnTo>
                    <a:pt x="2182" y="130"/>
                  </a:lnTo>
                  <a:lnTo>
                    <a:pt x="2183" y="133"/>
                  </a:lnTo>
                  <a:lnTo>
                    <a:pt x="2184" y="137"/>
                  </a:lnTo>
                  <a:lnTo>
                    <a:pt x="2189" y="145"/>
                  </a:lnTo>
                  <a:lnTo>
                    <a:pt x="2196" y="151"/>
                  </a:lnTo>
                  <a:lnTo>
                    <a:pt x="2205" y="158"/>
                  </a:lnTo>
                  <a:lnTo>
                    <a:pt x="2214" y="164"/>
                  </a:lnTo>
                  <a:lnTo>
                    <a:pt x="2226" y="170"/>
                  </a:lnTo>
                  <a:lnTo>
                    <a:pt x="2238" y="175"/>
                  </a:lnTo>
                  <a:lnTo>
                    <a:pt x="2260" y="187"/>
                  </a:lnTo>
                  <a:lnTo>
                    <a:pt x="2279" y="199"/>
                  </a:lnTo>
                  <a:lnTo>
                    <a:pt x="2286" y="205"/>
                  </a:lnTo>
                  <a:lnTo>
                    <a:pt x="2292" y="210"/>
                  </a:lnTo>
                  <a:lnTo>
                    <a:pt x="2293" y="214"/>
                  </a:lnTo>
                  <a:lnTo>
                    <a:pt x="2293" y="217"/>
                  </a:lnTo>
                  <a:lnTo>
                    <a:pt x="2293" y="221"/>
                  </a:lnTo>
                  <a:lnTo>
                    <a:pt x="2293" y="224"/>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5" name="Freeform 1522"/>
            <p:cNvSpPr/>
            <p:nvPr/>
          </p:nvSpPr>
          <p:spPr>
            <a:xfrm>
              <a:off x="4713120" y="4643640"/>
              <a:ext cx="263160" cy="132480"/>
            </a:xfrm>
            <a:custGeom>
              <a:avLst/>
              <a:gdLst>
                <a:gd name="textAreaLeft" fmla="*/ 0 w 263160"/>
                <a:gd name="textAreaRight" fmla="*/ 263520 w 263160"/>
                <a:gd name="textAreaTop" fmla="*/ 0 h 132480"/>
                <a:gd name="textAreaBottom" fmla="*/ 132840 h 132480"/>
              </a:gdLst>
              <a:ahLst/>
              <a:rect l="textAreaLeft" t="textAreaTop" r="textAreaRight" b="textAreaBottom"/>
              <a:pathLst>
                <a:path w="1469" h="876">
                  <a:moveTo>
                    <a:pt x="781" y="876"/>
                  </a:moveTo>
                  <a:lnTo>
                    <a:pt x="761" y="875"/>
                  </a:lnTo>
                  <a:lnTo>
                    <a:pt x="741" y="872"/>
                  </a:lnTo>
                  <a:lnTo>
                    <a:pt x="720" y="867"/>
                  </a:lnTo>
                  <a:lnTo>
                    <a:pt x="699" y="860"/>
                  </a:lnTo>
                  <a:lnTo>
                    <a:pt x="677" y="851"/>
                  </a:lnTo>
                  <a:lnTo>
                    <a:pt x="656" y="840"/>
                  </a:lnTo>
                  <a:lnTo>
                    <a:pt x="633" y="827"/>
                  </a:lnTo>
                  <a:lnTo>
                    <a:pt x="612" y="814"/>
                  </a:lnTo>
                  <a:lnTo>
                    <a:pt x="592" y="799"/>
                  </a:lnTo>
                  <a:lnTo>
                    <a:pt x="573" y="783"/>
                  </a:lnTo>
                  <a:lnTo>
                    <a:pt x="555" y="767"/>
                  </a:lnTo>
                  <a:lnTo>
                    <a:pt x="538" y="749"/>
                  </a:lnTo>
                  <a:lnTo>
                    <a:pt x="522" y="730"/>
                  </a:lnTo>
                  <a:lnTo>
                    <a:pt x="508" y="712"/>
                  </a:lnTo>
                  <a:lnTo>
                    <a:pt x="497" y="693"/>
                  </a:lnTo>
                  <a:lnTo>
                    <a:pt x="486" y="674"/>
                  </a:lnTo>
                  <a:lnTo>
                    <a:pt x="486" y="670"/>
                  </a:lnTo>
                  <a:lnTo>
                    <a:pt x="484" y="656"/>
                  </a:lnTo>
                  <a:lnTo>
                    <a:pt x="481" y="646"/>
                  </a:lnTo>
                  <a:lnTo>
                    <a:pt x="478" y="636"/>
                  </a:lnTo>
                  <a:lnTo>
                    <a:pt x="473" y="625"/>
                  </a:lnTo>
                  <a:lnTo>
                    <a:pt x="467" y="612"/>
                  </a:lnTo>
                  <a:lnTo>
                    <a:pt x="459" y="601"/>
                  </a:lnTo>
                  <a:lnTo>
                    <a:pt x="450" y="588"/>
                  </a:lnTo>
                  <a:lnTo>
                    <a:pt x="439" y="575"/>
                  </a:lnTo>
                  <a:lnTo>
                    <a:pt x="425" y="563"/>
                  </a:lnTo>
                  <a:lnTo>
                    <a:pt x="410" y="553"/>
                  </a:lnTo>
                  <a:lnTo>
                    <a:pt x="393" y="542"/>
                  </a:lnTo>
                  <a:lnTo>
                    <a:pt x="382" y="539"/>
                  </a:lnTo>
                  <a:lnTo>
                    <a:pt x="372" y="534"/>
                  </a:lnTo>
                  <a:lnTo>
                    <a:pt x="360" y="531"/>
                  </a:lnTo>
                  <a:lnTo>
                    <a:pt x="348" y="527"/>
                  </a:lnTo>
                  <a:lnTo>
                    <a:pt x="299" y="515"/>
                  </a:lnTo>
                  <a:lnTo>
                    <a:pt x="251" y="501"/>
                  </a:lnTo>
                  <a:lnTo>
                    <a:pt x="228" y="494"/>
                  </a:lnTo>
                  <a:lnTo>
                    <a:pt x="206" y="487"/>
                  </a:lnTo>
                  <a:lnTo>
                    <a:pt x="185" y="479"/>
                  </a:lnTo>
                  <a:lnTo>
                    <a:pt x="166" y="471"/>
                  </a:lnTo>
                  <a:lnTo>
                    <a:pt x="147" y="462"/>
                  </a:lnTo>
                  <a:lnTo>
                    <a:pt x="131" y="452"/>
                  </a:lnTo>
                  <a:lnTo>
                    <a:pt x="116" y="443"/>
                  </a:lnTo>
                  <a:lnTo>
                    <a:pt x="102" y="431"/>
                  </a:lnTo>
                  <a:lnTo>
                    <a:pt x="91" y="420"/>
                  </a:lnTo>
                  <a:lnTo>
                    <a:pt x="82" y="408"/>
                  </a:lnTo>
                  <a:lnTo>
                    <a:pt x="78" y="401"/>
                  </a:lnTo>
                  <a:lnTo>
                    <a:pt x="76" y="395"/>
                  </a:lnTo>
                  <a:lnTo>
                    <a:pt x="74" y="388"/>
                  </a:lnTo>
                  <a:lnTo>
                    <a:pt x="71" y="380"/>
                  </a:lnTo>
                  <a:lnTo>
                    <a:pt x="68" y="346"/>
                  </a:lnTo>
                  <a:lnTo>
                    <a:pt x="63" y="313"/>
                  </a:lnTo>
                  <a:lnTo>
                    <a:pt x="61" y="305"/>
                  </a:lnTo>
                  <a:lnTo>
                    <a:pt x="57" y="297"/>
                  </a:lnTo>
                  <a:lnTo>
                    <a:pt x="53" y="290"/>
                  </a:lnTo>
                  <a:lnTo>
                    <a:pt x="46" y="283"/>
                  </a:lnTo>
                  <a:lnTo>
                    <a:pt x="38" y="276"/>
                  </a:lnTo>
                  <a:lnTo>
                    <a:pt x="27" y="269"/>
                  </a:lnTo>
                  <a:lnTo>
                    <a:pt x="14" y="263"/>
                  </a:lnTo>
                  <a:lnTo>
                    <a:pt x="0" y="256"/>
                  </a:lnTo>
                  <a:lnTo>
                    <a:pt x="11" y="253"/>
                  </a:lnTo>
                  <a:lnTo>
                    <a:pt x="24" y="247"/>
                  </a:lnTo>
                  <a:lnTo>
                    <a:pt x="38" y="237"/>
                  </a:lnTo>
                  <a:lnTo>
                    <a:pt x="53" y="227"/>
                  </a:lnTo>
                  <a:lnTo>
                    <a:pt x="69" y="215"/>
                  </a:lnTo>
                  <a:lnTo>
                    <a:pt x="87" y="201"/>
                  </a:lnTo>
                  <a:lnTo>
                    <a:pt x="104" y="186"/>
                  </a:lnTo>
                  <a:lnTo>
                    <a:pt x="122" y="168"/>
                  </a:lnTo>
                  <a:lnTo>
                    <a:pt x="140" y="150"/>
                  </a:lnTo>
                  <a:lnTo>
                    <a:pt x="158" y="131"/>
                  </a:lnTo>
                  <a:lnTo>
                    <a:pt x="174" y="110"/>
                  </a:lnTo>
                  <a:lnTo>
                    <a:pt x="191" y="89"/>
                  </a:lnTo>
                  <a:lnTo>
                    <a:pt x="206" y="68"/>
                  </a:lnTo>
                  <a:lnTo>
                    <a:pt x="221" y="46"/>
                  </a:lnTo>
                  <a:lnTo>
                    <a:pt x="234" y="22"/>
                  </a:lnTo>
                  <a:lnTo>
                    <a:pt x="244" y="0"/>
                  </a:lnTo>
                  <a:lnTo>
                    <a:pt x="564" y="0"/>
                  </a:lnTo>
                  <a:lnTo>
                    <a:pt x="589" y="24"/>
                  </a:lnTo>
                  <a:lnTo>
                    <a:pt x="613" y="44"/>
                  </a:lnTo>
                  <a:lnTo>
                    <a:pt x="638" y="62"/>
                  </a:lnTo>
                  <a:lnTo>
                    <a:pt x="663" y="76"/>
                  </a:lnTo>
                  <a:lnTo>
                    <a:pt x="687" y="89"/>
                  </a:lnTo>
                  <a:lnTo>
                    <a:pt x="712" y="100"/>
                  </a:lnTo>
                  <a:lnTo>
                    <a:pt x="736" y="109"/>
                  </a:lnTo>
                  <a:lnTo>
                    <a:pt x="761" y="115"/>
                  </a:lnTo>
                  <a:lnTo>
                    <a:pt x="784" y="121"/>
                  </a:lnTo>
                  <a:lnTo>
                    <a:pt x="809" y="124"/>
                  </a:lnTo>
                  <a:lnTo>
                    <a:pt x="832" y="126"/>
                  </a:lnTo>
                  <a:lnTo>
                    <a:pt x="856" y="128"/>
                  </a:lnTo>
                  <a:lnTo>
                    <a:pt x="903" y="126"/>
                  </a:lnTo>
                  <a:lnTo>
                    <a:pt x="950" y="124"/>
                  </a:lnTo>
                  <a:lnTo>
                    <a:pt x="978" y="123"/>
                  </a:lnTo>
                  <a:lnTo>
                    <a:pt x="1005" y="123"/>
                  </a:lnTo>
                  <a:lnTo>
                    <a:pt x="1031" y="124"/>
                  </a:lnTo>
                  <a:lnTo>
                    <a:pt x="1056" y="125"/>
                  </a:lnTo>
                  <a:lnTo>
                    <a:pt x="1081" y="128"/>
                  </a:lnTo>
                  <a:lnTo>
                    <a:pt x="1104" y="130"/>
                  </a:lnTo>
                  <a:lnTo>
                    <a:pt x="1126" y="135"/>
                  </a:lnTo>
                  <a:lnTo>
                    <a:pt x="1148" y="139"/>
                  </a:lnTo>
                  <a:lnTo>
                    <a:pt x="1168" y="145"/>
                  </a:lnTo>
                  <a:lnTo>
                    <a:pt x="1187" y="151"/>
                  </a:lnTo>
                  <a:lnTo>
                    <a:pt x="1205" y="159"/>
                  </a:lnTo>
                  <a:lnTo>
                    <a:pt x="1220" y="168"/>
                  </a:lnTo>
                  <a:lnTo>
                    <a:pt x="1234" y="178"/>
                  </a:lnTo>
                  <a:lnTo>
                    <a:pt x="1245" y="190"/>
                  </a:lnTo>
                  <a:lnTo>
                    <a:pt x="1251" y="195"/>
                  </a:lnTo>
                  <a:lnTo>
                    <a:pt x="1256" y="202"/>
                  </a:lnTo>
                  <a:lnTo>
                    <a:pt x="1261" y="209"/>
                  </a:lnTo>
                  <a:lnTo>
                    <a:pt x="1264" y="216"/>
                  </a:lnTo>
                  <a:lnTo>
                    <a:pt x="1256" y="234"/>
                  </a:lnTo>
                  <a:lnTo>
                    <a:pt x="1248" y="253"/>
                  </a:lnTo>
                  <a:lnTo>
                    <a:pt x="1242" y="270"/>
                  </a:lnTo>
                  <a:lnTo>
                    <a:pt x="1235" y="289"/>
                  </a:lnTo>
                  <a:lnTo>
                    <a:pt x="1224" y="325"/>
                  </a:lnTo>
                  <a:lnTo>
                    <a:pt x="1215" y="358"/>
                  </a:lnTo>
                  <a:lnTo>
                    <a:pt x="1254" y="327"/>
                  </a:lnTo>
                  <a:lnTo>
                    <a:pt x="1287" y="298"/>
                  </a:lnTo>
                  <a:lnTo>
                    <a:pt x="1318" y="270"/>
                  </a:lnTo>
                  <a:lnTo>
                    <a:pt x="1346" y="246"/>
                  </a:lnTo>
                  <a:lnTo>
                    <a:pt x="1359" y="234"/>
                  </a:lnTo>
                  <a:lnTo>
                    <a:pt x="1370" y="225"/>
                  </a:lnTo>
                  <a:lnTo>
                    <a:pt x="1382" y="216"/>
                  </a:lnTo>
                  <a:lnTo>
                    <a:pt x="1393" y="209"/>
                  </a:lnTo>
                  <a:lnTo>
                    <a:pt x="1403" y="205"/>
                  </a:lnTo>
                  <a:lnTo>
                    <a:pt x="1412" y="201"/>
                  </a:lnTo>
                  <a:lnTo>
                    <a:pt x="1422" y="200"/>
                  </a:lnTo>
                  <a:lnTo>
                    <a:pt x="1431" y="202"/>
                  </a:lnTo>
                  <a:lnTo>
                    <a:pt x="1411" y="235"/>
                  </a:lnTo>
                  <a:lnTo>
                    <a:pt x="1394" y="271"/>
                  </a:lnTo>
                  <a:lnTo>
                    <a:pt x="1384" y="289"/>
                  </a:lnTo>
                  <a:lnTo>
                    <a:pt x="1377" y="307"/>
                  </a:lnTo>
                  <a:lnTo>
                    <a:pt x="1370" y="326"/>
                  </a:lnTo>
                  <a:lnTo>
                    <a:pt x="1363" y="346"/>
                  </a:lnTo>
                  <a:lnTo>
                    <a:pt x="1358" y="365"/>
                  </a:lnTo>
                  <a:lnTo>
                    <a:pt x="1352" y="385"/>
                  </a:lnTo>
                  <a:lnTo>
                    <a:pt x="1347" y="404"/>
                  </a:lnTo>
                  <a:lnTo>
                    <a:pt x="1344" y="424"/>
                  </a:lnTo>
                  <a:lnTo>
                    <a:pt x="1340" y="445"/>
                  </a:lnTo>
                  <a:lnTo>
                    <a:pt x="1338" y="466"/>
                  </a:lnTo>
                  <a:lnTo>
                    <a:pt x="1337" y="486"/>
                  </a:lnTo>
                  <a:lnTo>
                    <a:pt x="1335" y="507"/>
                  </a:lnTo>
                  <a:lnTo>
                    <a:pt x="1335" y="528"/>
                  </a:lnTo>
                  <a:lnTo>
                    <a:pt x="1337" y="549"/>
                  </a:lnTo>
                  <a:lnTo>
                    <a:pt x="1339" y="571"/>
                  </a:lnTo>
                  <a:lnTo>
                    <a:pt x="1341" y="592"/>
                  </a:lnTo>
                  <a:lnTo>
                    <a:pt x="1346" y="614"/>
                  </a:lnTo>
                  <a:lnTo>
                    <a:pt x="1351" y="636"/>
                  </a:lnTo>
                  <a:lnTo>
                    <a:pt x="1358" y="657"/>
                  </a:lnTo>
                  <a:lnTo>
                    <a:pt x="1365" y="679"/>
                  </a:lnTo>
                  <a:lnTo>
                    <a:pt x="1373" y="700"/>
                  </a:lnTo>
                  <a:lnTo>
                    <a:pt x="1383" y="722"/>
                  </a:lnTo>
                  <a:lnTo>
                    <a:pt x="1394" y="743"/>
                  </a:lnTo>
                  <a:lnTo>
                    <a:pt x="1407" y="764"/>
                  </a:lnTo>
                  <a:lnTo>
                    <a:pt x="1419" y="786"/>
                  </a:lnTo>
                  <a:lnTo>
                    <a:pt x="1435" y="807"/>
                  </a:lnTo>
                  <a:lnTo>
                    <a:pt x="1451" y="828"/>
                  </a:lnTo>
                  <a:lnTo>
                    <a:pt x="1469" y="849"/>
                  </a:lnTo>
                  <a:lnTo>
                    <a:pt x="781" y="87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6" name="Freeform 1523"/>
            <p:cNvSpPr/>
            <p:nvPr/>
          </p:nvSpPr>
          <p:spPr>
            <a:xfrm>
              <a:off x="4600800" y="4848840"/>
              <a:ext cx="392040" cy="185040"/>
            </a:xfrm>
            <a:custGeom>
              <a:avLst/>
              <a:gdLst>
                <a:gd name="textAreaLeft" fmla="*/ 0 w 392040"/>
                <a:gd name="textAreaRight" fmla="*/ 392400 w 392040"/>
                <a:gd name="textAreaTop" fmla="*/ 0 h 185040"/>
                <a:gd name="textAreaBottom" fmla="*/ 185400 h 185040"/>
              </a:gdLst>
              <a:ahLst/>
              <a:rect l="textAreaLeft" t="textAreaTop" r="textAreaRight" b="textAreaBottom"/>
              <a:pathLst>
                <a:path w="2180" h="1227">
                  <a:moveTo>
                    <a:pt x="1270" y="0"/>
                  </a:moveTo>
                  <a:lnTo>
                    <a:pt x="0" y="37"/>
                  </a:lnTo>
                  <a:lnTo>
                    <a:pt x="5" y="65"/>
                  </a:lnTo>
                  <a:lnTo>
                    <a:pt x="12" y="94"/>
                  </a:lnTo>
                  <a:lnTo>
                    <a:pt x="20" y="118"/>
                  </a:lnTo>
                  <a:lnTo>
                    <a:pt x="28" y="140"/>
                  </a:lnTo>
                  <a:lnTo>
                    <a:pt x="34" y="150"/>
                  </a:lnTo>
                  <a:lnTo>
                    <a:pt x="39" y="158"/>
                  </a:lnTo>
                  <a:lnTo>
                    <a:pt x="45" y="166"/>
                  </a:lnTo>
                  <a:lnTo>
                    <a:pt x="51" y="172"/>
                  </a:lnTo>
                  <a:lnTo>
                    <a:pt x="56" y="178"/>
                  </a:lnTo>
                  <a:lnTo>
                    <a:pt x="63" y="181"/>
                  </a:lnTo>
                  <a:lnTo>
                    <a:pt x="70" y="183"/>
                  </a:lnTo>
                  <a:lnTo>
                    <a:pt x="77" y="185"/>
                  </a:lnTo>
                  <a:lnTo>
                    <a:pt x="86" y="202"/>
                  </a:lnTo>
                  <a:lnTo>
                    <a:pt x="93" y="217"/>
                  </a:lnTo>
                  <a:lnTo>
                    <a:pt x="100" y="228"/>
                  </a:lnTo>
                  <a:lnTo>
                    <a:pt x="107" y="235"/>
                  </a:lnTo>
                  <a:lnTo>
                    <a:pt x="110" y="238"/>
                  </a:lnTo>
                  <a:lnTo>
                    <a:pt x="115" y="240"/>
                  </a:lnTo>
                  <a:lnTo>
                    <a:pt x="118" y="241"/>
                  </a:lnTo>
                  <a:lnTo>
                    <a:pt x="123" y="242"/>
                  </a:lnTo>
                  <a:lnTo>
                    <a:pt x="133" y="242"/>
                  </a:lnTo>
                  <a:lnTo>
                    <a:pt x="146" y="238"/>
                  </a:lnTo>
                  <a:lnTo>
                    <a:pt x="174" y="235"/>
                  </a:lnTo>
                  <a:lnTo>
                    <a:pt x="201" y="231"/>
                  </a:lnTo>
                  <a:lnTo>
                    <a:pt x="213" y="231"/>
                  </a:lnTo>
                  <a:lnTo>
                    <a:pt x="223" y="233"/>
                  </a:lnTo>
                  <a:lnTo>
                    <a:pt x="233" y="234"/>
                  </a:lnTo>
                  <a:lnTo>
                    <a:pt x="242" y="236"/>
                  </a:lnTo>
                  <a:lnTo>
                    <a:pt x="249" y="240"/>
                  </a:lnTo>
                  <a:lnTo>
                    <a:pt x="256" y="244"/>
                  </a:lnTo>
                  <a:lnTo>
                    <a:pt x="261" y="250"/>
                  </a:lnTo>
                  <a:lnTo>
                    <a:pt x="264" y="257"/>
                  </a:lnTo>
                  <a:lnTo>
                    <a:pt x="267" y="266"/>
                  </a:lnTo>
                  <a:lnTo>
                    <a:pt x="267" y="277"/>
                  </a:lnTo>
                  <a:lnTo>
                    <a:pt x="265" y="289"/>
                  </a:lnTo>
                  <a:lnTo>
                    <a:pt x="262" y="303"/>
                  </a:lnTo>
                  <a:lnTo>
                    <a:pt x="261" y="306"/>
                  </a:lnTo>
                  <a:lnTo>
                    <a:pt x="261" y="311"/>
                  </a:lnTo>
                  <a:lnTo>
                    <a:pt x="262" y="314"/>
                  </a:lnTo>
                  <a:lnTo>
                    <a:pt x="263" y="318"/>
                  </a:lnTo>
                  <a:lnTo>
                    <a:pt x="268" y="326"/>
                  </a:lnTo>
                  <a:lnTo>
                    <a:pt x="275" y="332"/>
                  </a:lnTo>
                  <a:lnTo>
                    <a:pt x="284" y="339"/>
                  </a:lnTo>
                  <a:lnTo>
                    <a:pt x="293" y="345"/>
                  </a:lnTo>
                  <a:lnTo>
                    <a:pt x="305" y="351"/>
                  </a:lnTo>
                  <a:lnTo>
                    <a:pt x="317" y="356"/>
                  </a:lnTo>
                  <a:lnTo>
                    <a:pt x="339" y="368"/>
                  </a:lnTo>
                  <a:lnTo>
                    <a:pt x="358" y="380"/>
                  </a:lnTo>
                  <a:lnTo>
                    <a:pt x="365" y="386"/>
                  </a:lnTo>
                  <a:lnTo>
                    <a:pt x="371" y="391"/>
                  </a:lnTo>
                  <a:lnTo>
                    <a:pt x="372" y="395"/>
                  </a:lnTo>
                  <a:lnTo>
                    <a:pt x="372" y="398"/>
                  </a:lnTo>
                  <a:lnTo>
                    <a:pt x="372" y="402"/>
                  </a:lnTo>
                  <a:lnTo>
                    <a:pt x="372" y="405"/>
                  </a:lnTo>
                  <a:lnTo>
                    <a:pt x="368" y="1028"/>
                  </a:lnTo>
                  <a:lnTo>
                    <a:pt x="443" y="1199"/>
                  </a:lnTo>
                  <a:lnTo>
                    <a:pt x="1909" y="1144"/>
                  </a:lnTo>
                  <a:lnTo>
                    <a:pt x="1901" y="1227"/>
                  </a:lnTo>
                  <a:lnTo>
                    <a:pt x="2039" y="1213"/>
                  </a:lnTo>
                  <a:lnTo>
                    <a:pt x="2049" y="1202"/>
                  </a:lnTo>
                  <a:lnTo>
                    <a:pt x="2059" y="1192"/>
                  </a:lnTo>
                  <a:lnTo>
                    <a:pt x="2066" y="1181"/>
                  </a:lnTo>
                  <a:lnTo>
                    <a:pt x="2070" y="1172"/>
                  </a:lnTo>
                  <a:lnTo>
                    <a:pt x="2075" y="1163"/>
                  </a:lnTo>
                  <a:lnTo>
                    <a:pt x="2077" y="1154"/>
                  </a:lnTo>
                  <a:lnTo>
                    <a:pt x="2080" y="1146"/>
                  </a:lnTo>
                  <a:lnTo>
                    <a:pt x="2081" y="1137"/>
                  </a:lnTo>
                  <a:lnTo>
                    <a:pt x="2081" y="1120"/>
                  </a:lnTo>
                  <a:lnTo>
                    <a:pt x="2081" y="1102"/>
                  </a:lnTo>
                  <a:lnTo>
                    <a:pt x="2081" y="1092"/>
                  </a:lnTo>
                  <a:lnTo>
                    <a:pt x="2082" y="1082"/>
                  </a:lnTo>
                  <a:lnTo>
                    <a:pt x="2083" y="1071"/>
                  </a:lnTo>
                  <a:lnTo>
                    <a:pt x="2085" y="1060"/>
                  </a:lnTo>
                  <a:lnTo>
                    <a:pt x="2092" y="1037"/>
                  </a:lnTo>
                  <a:lnTo>
                    <a:pt x="2101" y="1016"/>
                  </a:lnTo>
                  <a:lnTo>
                    <a:pt x="2110" y="996"/>
                  </a:lnTo>
                  <a:lnTo>
                    <a:pt x="2122" y="979"/>
                  </a:lnTo>
                  <a:lnTo>
                    <a:pt x="2134" y="961"/>
                  </a:lnTo>
                  <a:lnTo>
                    <a:pt x="2148" y="945"/>
                  </a:lnTo>
                  <a:lnTo>
                    <a:pt x="2164" y="931"/>
                  </a:lnTo>
                  <a:lnTo>
                    <a:pt x="2180" y="918"/>
                  </a:lnTo>
                  <a:lnTo>
                    <a:pt x="2179" y="901"/>
                  </a:lnTo>
                  <a:lnTo>
                    <a:pt x="2176" y="887"/>
                  </a:lnTo>
                  <a:lnTo>
                    <a:pt x="2174" y="881"/>
                  </a:lnTo>
                  <a:lnTo>
                    <a:pt x="2172" y="876"/>
                  </a:lnTo>
                  <a:lnTo>
                    <a:pt x="2169" y="871"/>
                  </a:lnTo>
                  <a:lnTo>
                    <a:pt x="2167" y="868"/>
                  </a:lnTo>
                  <a:lnTo>
                    <a:pt x="2160" y="862"/>
                  </a:lnTo>
                  <a:lnTo>
                    <a:pt x="2152" y="859"/>
                  </a:lnTo>
                  <a:lnTo>
                    <a:pt x="2143" y="856"/>
                  </a:lnTo>
                  <a:lnTo>
                    <a:pt x="2133" y="855"/>
                  </a:lnTo>
                  <a:lnTo>
                    <a:pt x="2111" y="854"/>
                  </a:lnTo>
                  <a:lnTo>
                    <a:pt x="2088" y="852"/>
                  </a:lnTo>
                  <a:lnTo>
                    <a:pt x="2075" y="848"/>
                  </a:lnTo>
                  <a:lnTo>
                    <a:pt x="2063" y="843"/>
                  </a:lnTo>
                  <a:lnTo>
                    <a:pt x="2057" y="840"/>
                  </a:lnTo>
                  <a:lnTo>
                    <a:pt x="2050" y="836"/>
                  </a:lnTo>
                  <a:lnTo>
                    <a:pt x="2044" y="832"/>
                  </a:lnTo>
                  <a:lnTo>
                    <a:pt x="2039" y="826"/>
                  </a:lnTo>
                  <a:lnTo>
                    <a:pt x="2039" y="804"/>
                  </a:lnTo>
                  <a:lnTo>
                    <a:pt x="2037" y="783"/>
                  </a:lnTo>
                  <a:lnTo>
                    <a:pt x="2035" y="763"/>
                  </a:lnTo>
                  <a:lnTo>
                    <a:pt x="2032" y="744"/>
                  </a:lnTo>
                  <a:lnTo>
                    <a:pt x="2027" y="728"/>
                  </a:lnTo>
                  <a:lnTo>
                    <a:pt x="2021" y="711"/>
                  </a:lnTo>
                  <a:lnTo>
                    <a:pt x="2013" y="696"/>
                  </a:lnTo>
                  <a:lnTo>
                    <a:pt x="2004" y="682"/>
                  </a:lnTo>
                  <a:lnTo>
                    <a:pt x="1992" y="668"/>
                  </a:lnTo>
                  <a:lnTo>
                    <a:pt x="1978" y="655"/>
                  </a:lnTo>
                  <a:lnTo>
                    <a:pt x="1962" y="644"/>
                  </a:lnTo>
                  <a:lnTo>
                    <a:pt x="1943" y="633"/>
                  </a:lnTo>
                  <a:lnTo>
                    <a:pt x="1922" y="623"/>
                  </a:lnTo>
                  <a:lnTo>
                    <a:pt x="1897" y="612"/>
                  </a:lnTo>
                  <a:lnTo>
                    <a:pt x="1870" y="603"/>
                  </a:lnTo>
                  <a:lnTo>
                    <a:pt x="1840" y="593"/>
                  </a:lnTo>
                  <a:lnTo>
                    <a:pt x="1810" y="584"/>
                  </a:lnTo>
                  <a:lnTo>
                    <a:pt x="1784" y="575"/>
                  </a:lnTo>
                  <a:lnTo>
                    <a:pt x="1762" y="564"/>
                  </a:lnTo>
                  <a:lnTo>
                    <a:pt x="1742" y="554"/>
                  </a:lnTo>
                  <a:lnTo>
                    <a:pt x="1726" y="543"/>
                  </a:lnTo>
                  <a:lnTo>
                    <a:pt x="1713" y="532"/>
                  </a:lnTo>
                  <a:lnTo>
                    <a:pt x="1701" y="520"/>
                  </a:lnTo>
                  <a:lnTo>
                    <a:pt x="1693" y="507"/>
                  </a:lnTo>
                  <a:lnTo>
                    <a:pt x="1687" y="495"/>
                  </a:lnTo>
                  <a:lnTo>
                    <a:pt x="1682" y="482"/>
                  </a:lnTo>
                  <a:lnTo>
                    <a:pt x="1680" y="471"/>
                  </a:lnTo>
                  <a:lnTo>
                    <a:pt x="1679" y="458"/>
                  </a:lnTo>
                  <a:lnTo>
                    <a:pt x="1679" y="445"/>
                  </a:lnTo>
                  <a:lnTo>
                    <a:pt x="1680" y="433"/>
                  </a:lnTo>
                  <a:lnTo>
                    <a:pt x="1682" y="421"/>
                  </a:lnTo>
                  <a:lnTo>
                    <a:pt x="1685" y="409"/>
                  </a:lnTo>
                  <a:lnTo>
                    <a:pt x="1686" y="398"/>
                  </a:lnTo>
                  <a:lnTo>
                    <a:pt x="1687" y="389"/>
                  </a:lnTo>
                  <a:lnTo>
                    <a:pt x="1685" y="382"/>
                  </a:lnTo>
                  <a:lnTo>
                    <a:pt x="1682" y="376"/>
                  </a:lnTo>
                  <a:lnTo>
                    <a:pt x="1678" y="370"/>
                  </a:lnTo>
                  <a:lnTo>
                    <a:pt x="1672" y="366"/>
                  </a:lnTo>
                  <a:lnTo>
                    <a:pt x="1664" y="362"/>
                  </a:lnTo>
                  <a:lnTo>
                    <a:pt x="1656" y="359"/>
                  </a:lnTo>
                  <a:lnTo>
                    <a:pt x="1609" y="348"/>
                  </a:lnTo>
                  <a:lnTo>
                    <a:pt x="1547" y="331"/>
                  </a:lnTo>
                  <a:lnTo>
                    <a:pt x="1529" y="325"/>
                  </a:lnTo>
                  <a:lnTo>
                    <a:pt x="1512" y="319"/>
                  </a:lnTo>
                  <a:lnTo>
                    <a:pt x="1495" y="312"/>
                  </a:lnTo>
                  <a:lnTo>
                    <a:pt x="1479" y="304"/>
                  </a:lnTo>
                  <a:lnTo>
                    <a:pt x="1465" y="296"/>
                  </a:lnTo>
                  <a:lnTo>
                    <a:pt x="1451" y="287"/>
                  </a:lnTo>
                  <a:lnTo>
                    <a:pt x="1438" y="278"/>
                  </a:lnTo>
                  <a:lnTo>
                    <a:pt x="1425" y="269"/>
                  </a:lnTo>
                  <a:lnTo>
                    <a:pt x="1415" y="259"/>
                  </a:lnTo>
                  <a:lnTo>
                    <a:pt x="1406" y="249"/>
                  </a:lnTo>
                  <a:lnTo>
                    <a:pt x="1396" y="240"/>
                  </a:lnTo>
                  <a:lnTo>
                    <a:pt x="1389" y="230"/>
                  </a:lnTo>
                  <a:lnTo>
                    <a:pt x="1385" y="221"/>
                  </a:lnTo>
                  <a:lnTo>
                    <a:pt x="1380" y="210"/>
                  </a:lnTo>
                  <a:lnTo>
                    <a:pt x="1377" y="202"/>
                  </a:lnTo>
                  <a:lnTo>
                    <a:pt x="1376" y="193"/>
                  </a:lnTo>
                  <a:lnTo>
                    <a:pt x="1375" y="185"/>
                  </a:lnTo>
                  <a:lnTo>
                    <a:pt x="1373" y="176"/>
                  </a:lnTo>
                  <a:lnTo>
                    <a:pt x="1368" y="168"/>
                  </a:lnTo>
                  <a:lnTo>
                    <a:pt x="1361" y="161"/>
                  </a:lnTo>
                  <a:lnTo>
                    <a:pt x="1354" y="154"/>
                  </a:lnTo>
                  <a:lnTo>
                    <a:pt x="1346" y="148"/>
                  </a:lnTo>
                  <a:lnTo>
                    <a:pt x="1338" y="143"/>
                  </a:lnTo>
                  <a:lnTo>
                    <a:pt x="1328" y="137"/>
                  </a:lnTo>
                  <a:lnTo>
                    <a:pt x="1296" y="120"/>
                  </a:lnTo>
                  <a:lnTo>
                    <a:pt x="1282" y="115"/>
                  </a:lnTo>
                  <a:lnTo>
                    <a:pt x="127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7" name="Freeform 1524"/>
            <p:cNvSpPr/>
            <p:nvPr/>
          </p:nvSpPr>
          <p:spPr>
            <a:xfrm>
              <a:off x="5224680" y="5031360"/>
              <a:ext cx="455040" cy="261720"/>
            </a:xfrm>
            <a:custGeom>
              <a:avLst/>
              <a:gdLst>
                <a:gd name="textAreaLeft" fmla="*/ 0 w 455040"/>
                <a:gd name="textAreaRight" fmla="*/ 455400 w 455040"/>
                <a:gd name="textAreaTop" fmla="*/ 0 h 261720"/>
                <a:gd name="textAreaBottom" fmla="*/ 262080 h 261720"/>
              </a:gdLst>
              <a:ahLst/>
              <a:rect l="textAreaLeft" t="textAreaTop" r="textAreaRight" b="textAreaBottom"/>
              <a:pathLst>
                <a:path w="2529" h="1729">
                  <a:moveTo>
                    <a:pt x="1040" y="0"/>
                  </a:moveTo>
                  <a:lnTo>
                    <a:pt x="0" y="116"/>
                  </a:lnTo>
                  <a:lnTo>
                    <a:pt x="8" y="127"/>
                  </a:lnTo>
                  <a:lnTo>
                    <a:pt x="33" y="159"/>
                  </a:lnTo>
                  <a:lnTo>
                    <a:pt x="70" y="208"/>
                  </a:lnTo>
                  <a:lnTo>
                    <a:pt x="119" y="272"/>
                  </a:lnTo>
                  <a:lnTo>
                    <a:pt x="177" y="349"/>
                  </a:lnTo>
                  <a:lnTo>
                    <a:pt x="240" y="435"/>
                  </a:lnTo>
                  <a:lnTo>
                    <a:pt x="308" y="527"/>
                  </a:lnTo>
                  <a:lnTo>
                    <a:pt x="379" y="621"/>
                  </a:lnTo>
                  <a:lnTo>
                    <a:pt x="449" y="717"/>
                  </a:lnTo>
                  <a:lnTo>
                    <a:pt x="516" y="811"/>
                  </a:lnTo>
                  <a:lnTo>
                    <a:pt x="580" y="899"/>
                  </a:lnTo>
                  <a:lnTo>
                    <a:pt x="636" y="980"/>
                  </a:lnTo>
                  <a:lnTo>
                    <a:pt x="682" y="1049"/>
                  </a:lnTo>
                  <a:lnTo>
                    <a:pt x="719" y="1105"/>
                  </a:lnTo>
                  <a:lnTo>
                    <a:pt x="731" y="1127"/>
                  </a:lnTo>
                  <a:lnTo>
                    <a:pt x="741" y="1145"/>
                  </a:lnTo>
                  <a:lnTo>
                    <a:pt x="745" y="1156"/>
                  </a:lnTo>
                  <a:lnTo>
                    <a:pt x="747" y="1165"/>
                  </a:lnTo>
                  <a:lnTo>
                    <a:pt x="744" y="1175"/>
                  </a:lnTo>
                  <a:lnTo>
                    <a:pt x="744" y="1191"/>
                  </a:lnTo>
                  <a:lnTo>
                    <a:pt x="744" y="1211"/>
                  </a:lnTo>
                  <a:lnTo>
                    <a:pt x="748" y="1236"/>
                  </a:lnTo>
                  <a:lnTo>
                    <a:pt x="751" y="1263"/>
                  </a:lnTo>
                  <a:lnTo>
                    <a:pt x="757" y="1293"/>
                  </a:lnTo>
                  <a:lnTo>
                    <a:pt x="764" y="1325"/>
                  </a:lnTo>
                  <a:lnTo>
                    <a:pt x="773" y="1358"/>
                  </a:lnTo>
                  <a:lnTo>
                    <a:pt x="785" y="1392"/>
                  </a:lnTo>
                  <a:lnTo>
                    <a:pt x="798" y="1427"/>
                  </a:lnTo>
                  <a:lnTo>
                    <a:pt x="812" y="1461"/>
                  </a:lnTo>
                  <a:lnTo>
                    <a:pt x="829" y="1495"/>
                  </a:lnTo>
                  <a:lnTo>
                    <a:pt x="839" y="1512"/>
                  </a:lnTo>
                  <a:lnTo>
                    <a:pt x="848" y="1527"/>
                  </a:lnTo>
                  <a:lnTo>
                    <a:pt x="858" y="1543"/>
                  </a:lnTo>
                  <a:lnTo>
                    <a:pt x="868" y="1558"/>
                  </a:lnTo>
                  <a:lnTo>
                    <a:pt x="880" y="1572"/>
                  </a:lnTo>
                  <a:lnTo>
                    <a:pt x="891" y="1585"/>
                  </a:lnTo>
                  <a:lnTo>
                    <a:pt x="903" y="1598"/>
                  </a:lnTo>
                  <a:lnTo>
                    <a:pt x="916" y="1611"/>
                  </a:lnTo>
                  <a:lnTo>
                    <a:pt x="938" y="1628"/>
                  </a:lnTo>
                  <a:lnTo>
                    <a:pt x="958" y="1644"/>
                  </a:lnTo>
                  <a:lnTo>
                    <a:pt x="978" y="1658"/>
                  </a:lnTo>
                  <a:lnTo>
                    <a:pt x="997" y="1670"/>
                  </a:lnTo>
                  <a:lnTo>
                    <a:pt x="1015" y="1682"/>
                  </a:lnTo>
                  <a:lnTo>
                    <a:pt x="1033" y="1693"/>
                  </a:lnTo>
                  <a:lnTo>
                    <a:pt x="1050" y="1701"/>
                  </a:lnTo>
                  <a:lnTo>
                    <a:pt x="1068" y="1708"/>
                  </a:lnTo>
                  <a:lnTo>
                    <a:pt x="1085" y="1715"/>
                  </a:lnTo>
                  <a:lnTo>
                    <a:pt x="1103" y="1719"/>
                  </a:lnTo>
                  <a:lnTo>
                    <a:pt x="1120" y="1723"/>
                  </a:lnTo>
                  <a:lnTo>
                    <a:pt x="1139" y="1726"/>
                  </a:lnTo>
                  <a:lnTo>
                    <a:pt x="1159" y="1728"/>
                  </a:lnTo>
                  <a:lnTo>
                    <a:pt x="1179" y="1729"/>
                  </a:lnTo>
                  <a:lnTo>
                    <a:pt x="1200" y="1729"/>
                  </a:lnTo>
                  <a:lnTo>
                    <a:pt x="1222" y="1728"/>
                  </a:lnTo>
                  <a:lnTo>
                    <a:pt x="1272" y="1722"/>
                  </a:lnTo>
                  <a:lnTo>
                    <a:pt x="1328" y="1714"/>
                  </a:lnTo>
                  <a:lnTo>
                    <a:pt x="1393" y="1703"/>
                  </a:lnTo>
                  <a:lnTo>
                    <a:pt x="1467" y="1690"/>
                  </a:lnTo>
                  <a:lnTo>
                    <a:pt x="1553" y="1675"/>
                  </a:lnTo>
                  <a:lnTo>
                    <a:pt x="1651" y="1658"/>
                  </a:lnTo>
                  <a:lnTo>
                    <a:pt x="1763" y="1639"/>
                  </a:lnTo>
                  <a:lnTo>
                    <a:pt x="1890" y="1619"/>
                  </a:lnTo>
                  <a:lnTo>
                    <a:pt x="1960" y="1608"/>
                  </a:lnTo>
                  <a:lnTo>
                    <a:pt x="2019" y="1599"/>
                  </a:lnTo>
                  <a:lnTo>
                    <a:pt x="2068" y="1592"/>
                  </a:lnTo>
                  <a:lnTo>
                    <a:pt x="2109" y="1586"/>
                  </a:lnTo>
                  <a:lnTo>
                    <a:pt x="2142" y="1582"/>
                  </a:lnTo>
                  <a:lnTo>
                    <a:pt x="2169" y="1578"/>
                  </a:lnTo>
                  <a:lnTo>
                    <a:pt x="2194" y="1576"/>
                  </a:lnTo>
                  <a:lnTo>
                    <a:pt x="2215" y="1573"/>
                  </a:lnTo>
                  <a:lnTo>
                    <a:pt x="2220" y="1572"/>
                  </a:lnTo>
                  <a:lnTo>
                    <a:pt x="2224" y="1570"/>
                  </a:lnTo>
                  <a:lnTo>
                    <a:pt x="2229" y="1568"/>
                  </a:lnTo>
                  <a:lnTo>
                    <a:pt x="2232" y="1565"/>
                  </a:lnTo>
                  <a:lnTo>
                    <a:pt x="2239" y="1558"/>
                  </a:lnTo>
                  <a:lnTo>
                    <a:pt x="2245" y="1549"/>
                  </a:lnTo>
                  <a:lnTo>
                    <a:pt x="2257" y="1529"/>
                  </a:lnTo>
                  <a:lnTo>
                    <a:pt x="2265" y="1509"/>
                  </a:lnTo>
                  <a:lnTo>
                    <a:pt x="2270" y="1499"/>
                  </a:lnTo>
                  <a:lnTo>
                    <a:pt x="2274" y="1490"/>
                  </a:lnTo>
                  <a:lnTo>
                    <a:pt x="2278" y="1482"/>
                  </a:lnTo>
                  <a:lnTo>
                    <a:pt x="2283" y="1478"/>
                  </a:lnTo>
                  <a:lnTo>
                    <a:pt x="2286" y="1475"/>
                  </a:lnTo>
                  <a:lnTo>
                    <a:pt x="2288" y="1474"/>
                  </a:lnTo>
                  <a:lnTo>
                    <a:pt x="2291" y="1473"/>
                  </a:lnTo>
                  <a:lnTo>
                    <a:pt x="2294" y="1473"/>
                  </a:lnTo>
                  <a:lnTo>
                    <a:pt x="2297" y="1474"/>
                  </a:lnTo>
                  <a:lnTo>
                    <a:pt x="2300" y="1475"/>
                  </a:lnTo>
                  <a:lnTo>
                    <a:pt x="2304" y="1478"/>
                  </a:lnTo>
                  <a:lnTo>
                    <a:pt x="2307" y="1481"/>
                  </a:lnTo>
                  <a:lnTo>
                    <a:pt x="2317" y="1488"/>
                  </a:lnTo>
                  <a:lnTo>
                    <a:pt x="2327" y="1495"/>
                  </a:lnTo>
                  <a:lnTo>
                    <a:pt x="2338" y="1500"/>
                  </a:lnTo>
                  <a:lnTo>
                    <a:pt x="2349" y="1502"/>
                  </a:lnTo>
                  <a:lnTo>
                    <a:pt x="2362" y="1505"/>
                  </a:lnTo>
                  <a:lnTo>
                    <a:pt x="2376" y="1506"/>
                  </a:lnTo>
                  <a:lnTo>
                    <a:pt x="2390" y="1507"/>
                  </a:lnTo>
                  <a:lnTo>
                    <a:pt x="2404" y="1507"/>
                  </a:lnTo>
                  <a:lnTo>
                    <a:pt x="2434" y="1505"/>
                  </a:lnTo>
                  <a:lnTo>
                    <a:pt x="2466" y="1503"/>
                  </a:lnTo>
                  <a:lnTo>
                    <a:pt x="2481" y="1502"/>
                  </a:lnTo>
                  <a:lnTo>
                    <a:pt x="2498" y="1502"/>
                  </a:lnTo>
                  <a:lnTo>
                    <a:pt x="2513" y="1503"/>
                  </a:lnTo>
                  <a:lnTo>
                    <a:pt x="2529" y="1505"/>
                  </a:lnTo>
                  <a:lnTo>
                    <a:pt x="2522" y="1496"/>
                  </a:lnTo>
                  <a:lnTo>
                    <a:pt x="2516" y="1489"/>
                  </a:lnTo>
                  <a:lnTo>
                    <a:pt x="2510" y="1481"/>
                  </a:lnTo>
                  <a:lnTo>
                    <a:pt x="2505" y="1473"/>
                  </a:lnTo>
                  <a:lnTo>
                    <a:pt x="2496" y="1457"/>
                  </a:lnTo>
                  <a:lnTo>
                    <a:pt x="2489" y="1440"/>
                  </a:lnTo>
                  <a:lnTo>
                    <a:pt x="2485" y="1424"/>
                  </a:lnTo>
                  <a:lnTo>
                    <a:pt x="2480" y="1406"/>
                  </a:lnTo>
                  <a:lnTo>
                    <a:pt x="2478" y="1390"/>
                  </a:lnTo>
                  <a:lnTo>
                    <a:pt x="2477" y="1374"/>
                  </a:lnTo>
                  <a:lnTo>
                    <a:pt x="2474" y="1342"/>
                  </a:lnTo>
                  <a:lnTo>
                    <a:pt x="2472" y="1313"/>
                  </a:lnTo>
                  <a:lnTo>
                    <a:pt x="2471" y="1300"/>
                  </a:lnTo>
                  <a:lnTo>
                    <a:pt x="2468" y="1290"/>
                  </a:lnTo>
                  <a:lnTo>
                    <a:pt x="2465" y="1279"/>
                  </a:lnTo>
                  <a:lnTo>
                    <a:pt x="2460" y="1271"/>
                  </a:lnTo>
                  <a:lnTo>
                    <a:pt x="2454" y="1263"/>
                  </a:lnTo>
                  <a:lnTo>
                    <a:pt x="2449" y="1256"/>
                  </a:lnTo>
                  <a:lnTo>
                    <a:pt x="2443" y="1250"/>
                  </a:lnTo>
                  <a:lnTo>
                    <a:pt x="2436" y="1245"/>
                  </a:lnTo>
                  <a:lnTo>
                    <a:pt x="2424" y="1238"/>
                  </a:lnTo>
                  <a:lnTo>
                    <a:pt x="2411" y="1232"/>
                  </a:lnTo>
                  <a:lnTo>
                    <a:pt x="2406" y="1229"/>
                  </a:lnTo>
                  <a:lnTo>
                    <a:pt x="2401" y="1225"/>
                  </a:lnTo>
                  <a:lnTo>
                    <a:pt x="2397" y="1222"/>
                  </a:lnTo>
                  <a:lnTo>
                    <a:pt x="2392" y="1218"/>
                  </a:lnTo>
                  <a:lnTo>
                    <a:pt x="2389" y="1214"/>
                  </a:lnTo>
                  <a:lnTo>
                    <a:pt x="2387" y="1208"/>
                  </a:lnTo>
                  <a:lnTo>
                    <a:pt x="2385" y="1201"/>
                  </a:lnTo>
                  <a:lnTo>
                    <a:pt x="2385" y="1193"/>
                  </a:lnTo>
                  <a:lnTo>
                    <a:pt x="2384" y="1183"/>
                  </a:lnTo>
                  <a:lnTo>
                    <a:pt x="2383" y="1173"/>
                  </a:lnTo>
                  <a:lnTo>
                    <a:pt x="2381" y="1161"/>
                  </a:lnTo>
                  <a:lnTo>
                    <a:pt x="2377" y="1149"/>
                  </a:lnTo>
                  <a:lnTo>
                    <a:pt x="2369" y="1121"/>
                  </a:lnTo>
                  <a:lnTo>
                    <a:pt x="2360" y="1093"/>
                  </a:lnTo>
                  <a:lnTo>
                    <a:pt x="2349" y="1064"/>
                  </a:lnTo>
                  <a:lnTo>
                    <a:pt x="2339" y="1037"/>
                  </a:lnTo>
                  <a:lnTo>
                    <a:pt x="2329" y="1012"/>
                  </a:lnTo>
                  <a:lnTo>
                    <a:pt x="2321" y="992"/>
                  </a:lnTo>
                  <a:lnTo>
                    <a:pt x="2319" y="981"/>
                  </a:lnTo>
                  <a:lnTo>
                    <a:pt x="2317" y="970"/>
                  </a:lnTo>
                  <a:lnTo>
                    <a:pt x="2314" y="957"/>
                  </a:lnTo>
                  <a:lnTo>
                    <a:pt x="2313" y="943"/>
                  </a:lnTo>
                  <a:lnTo>
                    <a:pt x="2300" y="923"/>
                  </a:lnTo>
                  <a:lnTo>
                    <a:pt x="2286" y="904"/>
                  </a:lnTo>
                  <a:lnTo>
                    <a:pt x="2270" y="888"/>
                  </a:lnTo>
                  <a:lnTo>
                    <a:pt x="2252" y="873"/>
                  </a:lnTo>
                  <a:lnTo>
                    <a:pt x="2234" y="859"/>
                  </a:lnTo>
                  <a:lnTo>
                    <a:pt x="2213" y="846"/>
                  </a:lnTo>
                  <a:lnTo>
                    <a:pt x="2192" y="833"/>
                  </a:lnTo>
                  <a:lnTo>
                    <a:pt x="2170" y="822"/>
                  </a:lnTo>
                  <a:lnTo>
                    <a:pt x="2147" y="813"/>
                  </a:lnTo>
                  <a:lnTo>
                    <a:pt x="2124" y="804"/>
                  </a:lnTo>
                  <a:lnTo>
                    <a:pt x="2100" y="795"/>
                  </a:lnTo>
                  <a:lnTo>
                    <a:pt x="2077" y="787"/>
                  </a:lnTo>
                  <a:lnTo>
                    <a:pt x="2029" y="773"/>
                  </a:lnTo>
                  <a:lnTo>
                    <a:pt x="1981" y="760"/>
                  </a:lnTo>
                  <a:lnTo>
                    <a:pt x="1960" y="755"/>
                  </a:lnTo>
                  <a:lnTo>
                    <a:pt x="1943" y="746"/>
                  </a:lnTo>
                  <a:lnTo>
                    <a:pt x="1926" y="738"/>
                  </a:lnTo>
                  <a:lnTo>
                    <a:pt x="1915" y="729"/>
                  </a:lnTo>
                  <a:lnTo>
                    <a:pt x="1903" y="718"/>
                  </a:lnTo>
                  <a:lnTo>
                    <a:pt x="1895" y="708"/>
                  </a:lnTo>
                  <a:lnTo>
                    <a:pt x="1888" y="695"/>
                  </a:lnTo>
                  <a:lnTo>
                    <a:pt x="1881" y="682"/>
                  </a:lnTo>
                  <a:lnTo>
                    <a:pt x="1870" y="655"/>
                  </a:lnTo>
                  <a:lnTo>
                    <a:pt x="1860" y="625"/>
                  </a:lnTo>
                  <a:lnTo>
                    <a:pt x="1854" y="610"/>
                  </a:lnTo>
                  <a:lnTo>
                    <a:pt x="1846" y="593"/>
                  </a:lnTo>
                  <a:lnTo>
                    <a:pt x="1838" y="576"/>
                  </a:lnTo>
                  <a:lnTo>
                    <a:pt x="1826" y="560"/>
                  </a:lnTo>
                  <a:lnTo>
                    <a:pt x="1793" y="547"/>
                  </a:lnTo>
                  <a:lnTo>
                    <a:pt x="1762" y="534"/>
                  </a:lnTo>
                  <a:lnTo>
                    <a:pt x="1732" y="520"/>
                  </a:lnTo>
                  <a:lnTo>
                    <a:pt x="1706" y="505"/>
                  </a:lnTo>
                  <a:lnTo>
                    <a:pt x="1680" y="489"/>
                  </a:lnTo>
                  <a:lnTo>
                    <a:pt x="1658" y="474"/>
                  </a:lnTo>
                  <a:lnTo>
                    <a:pt x="1637" y="459"/>
                  </a:lnTo>
                  <a:lnTo>
                    <a:pt x="1619" y="444"/>
                  </a:lnTo>
                  <a:lnTo>
                    <a:pt x="1589" y="417"/>
                  </a:lnTo>
                  <a:lnTo>
                    <a:pt x="1567" y="395"/>
                  </a:lnTo>
                  <a:lnTo>
                    <a:pt x="1554" y="381"/>
                  </a:lnTo>
                  <a:lnTo>
                    <a:pt x="1550" y="375"/>
                  </a:lnTo>
                  <a:lnTo>
                    <a:pt x="1394" y="329"/>
                  </a:lnTo>
                  <a:lnTo>
                    <a:pt x="104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8" name="Freeform 1525"/>
            <p:cNvSpPr/>
            <p:nvPr/>
          </p:nvSpPr>
          <p:spPr>
            <a:xfrm>
              <a:off x="5217480" y="5254560"/>
              <a:ext cx="878040" cy="397080"/>
            </a:xfrm>
            <a:custGeom>
              <a:avLst/>
              <a:gdLst>
                <a:gd name="textAreaLeft" fmla="*/ 0 w 878040"/>
                <a:gd name="textAreaRight" fmla="*/ 878400 w 878040"/>
                <a:gd name="textAreaTop" fmla="*/ 0 h 397080"/>
                <a:gd name="textAreaBottom" fmla="*/ 397440 h 397080"/>
              </a:gdLst>
              <a:ahLst/>
              <a:rect l="textAreaLeft" t="textAreaTop" r="textAreaRight" b="textAreaBottom"/>
              <a:pathLst>
                <a:path w="4885" h="2626">
                  <a:moveTo>
                    <a:pt x="2572" y="32"/>
                  </a:moveTo>
                  <a:lnTo>
                    <a:pt x="2556" y="30"/>
                  </a:lnTo>
                  <a:lnTo>
                    <a:pt x="2541" y="29"/>
                  </a:lnTo>
                  <a:lnTo>
                    <a:pt x="2524" y="29"/>
                  </a:lnTo>
                  <a:lnTo>
                    <a:pt x="2509" y="30"/>
                  </a:lnTo>
                  <a:lnTo>
                    <a:pt x="2477" y="32"/>
                  </a:lnTo>
                  <a:lnTo>
                    <a:pt x="2447" y="34"/>
                  </a:lnTo>
                  <a:lnTo>
                    <a:pt x="2433" y="34"/>
                  </a:lnTo>
                  <a:lnTo>
                    <a:pt x="2419" y="33"/>
                  </a:lnTo>
                  <a:lnTo>
                    <a:pt x="2405" y="32"/>
                  </a:lnTo>
                  <a:lnTo>
                    <a:pt x="2392" y="29"/>
                  </a:lnTo>
                  <a:lnTo>
                    <a:pt x="2381" y="27"/>
                  </a:lnTo>
                  <a:lnTo>
                    <a:pt x="2370" y="22"/>
                  </a:lnTo>
                  <a:lnTo>
                    <a:pt x="2360" y="15"/>
                  </a:lnTo>
                  <a:lnTo>
                    <a:pt x="2350" y="8"/>
                  </a:lnTo>
                  <a:lnTo>
                    <a:pt x="2347" y="5"/>
                  </a:lnTo>
                  <a:lnTo>
                    <a:pt x="2343" y="2"/>
                  </a:lnTo>
                  <a:lnTo>
                    <a:pt x="2340" y="1"/>
                  </a:lnTo>
                  <a:lnTo>
                    <a:pt x="2337" y="0"/>
                  </a:lnTo>
                  <a:lnTo>
                    <a:pt x="2334" y="0"/>
                  </a:lnTo>
                  <a:lnTo>
                    <a:pt x="2331" y="1"/>
                  </a:lnTo>
                  <a:lnTo>
                    <a:pt x="2329" y="2"/>
                  </a:lnTo>
                  <a:lnTo>
                    <a:pt x="2326" y="5"/>
                  </a:lnTo>
                  <a:lnTo>
                    <a:pt x="2321" y="9"/>
                  </a:lnTo>
                  <a:lnTo>
                    <a:pt x="2317" y="17"/>
                  </a:lnTo>
                  <a:lnTo>
                    <a:pt x="2313" y="26"/>
                  </a:lnTo>
                  <a:lnTo>
                    <a:pt x="2308" y="36"/>
                  </a:lnTo>
                  <a:lnTo>
                    <a:pt x="2300" y="56"/>
                  </a:lnTo>
                  <a:lnTo>
                    <a:pt x="2288" y="76"/>
                  </a:lnTo>
                  <a:lnTo>
                    <a:pt x="2282" y="85"/>
                  </a:lnTo>
                  <a:lnTo>
                    <a:pt x="2275" y="92"/>
                  </a:lnTo>
                  <a:lnTo>
                    <a:pt x="2272" y="95"/>
                  </a:lnTo>
                  <a:lnTo>
                    <a:pt x="2267" y="97"/>
                  </a:lnTo>
                  <a:lnTo>
                    <a:pt x="2263" y="99"/>
                  </a:lnTo>
                  <a:lnTo>
                    <a:pt x="2258" y="100"/>
                  </a:lnTo>
                  <a:lnTo>
                    <a:pt x="2237" y="103"/>
                  </a:lnTo>
                  <a:lnTo>
                    <a:pt x="2212" y="105"/>
                  </a:lnTo>
                  <a:lnTo>
                    <a:pt x="2185" y="109"/>
                  </a:lnTo>
                  <a:lnTo>
                    <a:pt x="2152" y="113"/>
                  </a:lnTo>
                  <a:lnTo>
                    <a:pt x="2111" y="119"/>
                  </a:lnTo>
                  <a:lnTo>
                    <a:pt x="2062" y="126"/>
                  </a:lnTo>
                  <a:lnTo>
                    <a:pt x="2003" y="135"/>
                  </a:lnTo>
                  <a:lnTo>
                    <a:pt x="1933" y="146"/>
                  </a:lnTo>
                  <a:lnTo>
                    <a:pt x="1806" y="166"/>
                  </a:lnTo>
                  <a:lnTo>
                    <a:pt x="1694" y="185"/>
                  </a:lnTo>
                  <a:lnTo>
                    <a:pt x="1596" y="202"/>
                  </a:lnTo>
                  <a:lnTo>
                    <a:pt x="1510" y="217"/>
                  </a:lnTo>
                  <a:lnTo>
                    <a:pt x="1436" y="230"/>
                  </a:lnTo>
                  <a:lnTo>
                    <a:pt x="1371" y="241"/>
                  </a:lnTo>
                  <a:lnTo>
                    <a:pt x="1315" y="249"/>
                  </a:lnTo>
                  <a:lnTo>
                    <a:pt x="1265" y="255"/>
                  </a:lnTo>
                  <a:lnTo>
                    <a:pt x="1243" y="256"/>
                  </a:lnTo>
                  <a:lnTo>
                    <a:pt x="1222" y="256"/>
                  </a:lnTo>
                  <a:lnTo>
                    <a:pt x="1202" y="255"/>
                  </a:lnTo>
                  <a:lnTo>
                    <a:pt x="1182" y="253"/>
                  </a:lnTo>
                  <a:lnTo>
                    <a:pt x="1163" y="250"/>
                  </a:lnTo>
                  <a:lnTo>
                    <a:pt x="1146" y="246"/>
                  </a:lnTo>
                  <a:lnTo>
                    <a:pt x="1128" y="242"/>
                  </a:lnTo>
                  <a:lnTo>
                    <a:pt x="1111" y="235"/>
                  </a:lnTo>
                  <a:lnTo>
                    <a:pt x="1093" y="228"/>
                  </a:lnTo>
                  <a:lnTo>
                    <a:pt x="1076" y="220"/>
                  </a:lnTo>
                  <a:lnTo>
                    <a:pt x="1058" y="209"/>
                  </a:lnTo>
                  <a:lnTo>
                    <a:pt x="1040" y="197"/>
                  </a:lnTo>
                  <a:lnTo>
                    <a:pt x="1021" y="185"/>
                  </a:lnTo>
                  <a:lnTo>
                    <a:pt x="1001" y="171"/>
                  </a:lnTo>
                  <a:lnTo>
                    <a:pt x="981" y="155"/>
                  </a:lnTo>
                  <a:lnTo>
                    <a:pt x="959" y="138"/>
                  </a:lnTo>
                  <a:lnTo>
                    <a:pt x="0" y="230"/>
                  </a:lnTo>
                  <a:lnTo>
                    <a:pt x="12" y="238"/>
                  </a:lnTo>
                  <a:lnTo>
                    <a:pt x="24" y="251"/>
                  </a:lnTo>
                  <a:lnTo>
                    <a:pt x="37" y="265"/>
                  </a:lnTo>
                  <a:lnTo>
                    <a:pt x="49" y="283"/>
                  </a:lnTo>
                  <a:lnTo>
                    <a:pt x="62" y="301"/>
                  </a:lnTo>
                  <a:lnTo>
                    <a:pt x="73" y="322"/>
                  </a:lnTo>
                  <a:lnTo>
                    <a:pt x="84" y="343"/>
                  </a:lnTo>
                  <a:lnTo>
                    <a:pt x="95" y="367"/>
                  </a:lnTo>
                  <a:lnTo>
                    <a:pt x="104" y="390"/>
                  </a:lnTo>
                  <a:lnTo>
                    <a:pt x="112" y="415"/>
                  </a:lnTo>
                  <a:lnTo>
                    <a:pt x="118" y="439"/>
                  </a:lnTo>
                  <a:lnTo>
                    <a:pt x="124" y="463"/>
                  </a:lnTo>
                  <a:lnTo>
                    <a:pt x="126" y="486"/>
                  </a:lnTo>
                  <a:lnTo>
                    <a:pt x="127" y="508"/>
                  </a:lnTo>
                  <a:lnTo>
                    <a:pt x="127" y="519"/>
                  </a:lnTo>
                  <a:lnTo>
                    <a:pt x="127" y="529"/>
                  </a:lnTo>
                  <a:lnTo>
                    <a:pt x="126" y="540"/>
                  </a:lnTo>
                  <a:lnTo>
                    <a:pt x="124" y="549"/>
                  </a:lnTo>
                  <a:lnTo>
                    <a:pt x="183" y="543"/>
                  </a:lnTo>
                  <a:lnTo>
                    <a:pt x="244" y="537"/>
                  </a:lnTo>
                  <a:lnTo>
                    <a:pt x="305" y="531"/>
                  </a:lnTo>
                  <a:lnTo>
                    <a:pt x="366" y="527"/>
                  </a:lnTo>
                  <a:lnTo>
                    <a:pt x="426" y="522"/>
                  </a:lnTo>
                  <a:lnTo>
                    <a:pt x="487" y="519"/>
                  </a:lnTo>
                  <a:lnTo>
                    <a:pt x="548" y="515"/>
                  </a:lnTo>
                  <a:lnTo>
                    <a:pt x="606" y="513"/>
                  </a:lnTo>
                  <a:lnTo>
                    <a:pt x="665" y="510"/>
                  </a:lnTo>
                  <a:lnTo>
                    <a:pt x="721" y="510"/>
                  </a:lnTo>
                  <a:lnTo>
                    <a:pt x="776" y="509"/>
                  </a:lnTo>
                  <a:lnTo>
                    <a:pt x="829" y="510"/>
                  </a:lnTo>
                  <a:lnTo>
                    <a:pt x="881" y="513"/>
                  </a:lnTo>
                  <a:lnTo>
                    <a:pt x="930" y="515"/>
                  </a:lnTo>
                  <a:lnTo>
                    <a:pt x="976" y="519"/>
                  </a:lnTo>
                  <a:lnTo>
                    <a:pt x="1020" y="523"/>
                  </a:lnTo>
                  <a:lnTo>
                    <a:pt x="1030" y="527"/>
                  </a:lnTo>
                  <a:lnTo>
                    <a:pt x="1058" y="535"/>
                  </a:lnTo>
                  <a:lnTo>
                    <a:pt x="1077" y="542"/>
                  </a:lnTo>
                  <a:lnTo>
                    <a:pt x="1098" y="550"/>
                  </a:lnTo>
                  <a:lnTo>
                    <a:pt x="1120" y="559"/>
                  </a:lnTo>
                  <a:lnTo>
                    <a:pt x="1143" y="571"/>
                  </a:lnTo>
                  <a:lnTo>
                    <a:pt x="1167" y="583"/>
                  </a:lnTo>
                  <a:lnTo>
                    <a:pt x="1189" y="597"/>
                  </a:lnTo>
                  <a:lnTo>
                    <a:pt x="1200" y="605"/>
                  </a:lnTo>
                  <a:lnTo>
                    <a:pt x="1210" y="612"/>
                  </a:lnTo>
                  <a:lnTo>
                    <a:pt x="1219" y="620"/>
                  </a:lnTo>
                  <a:lnTo>
                    <a:pt x="1229" y="630"/>
                  </a:lnTo>
                  <a:lnTo>
                    <a:pt x="1237" y="638"/>
                  </a:lnTo>
                  <a:lnTo>
                    <a:pt x="1244" y="647"/>
                  </a:lnTo>
                  <a:lnTo>
                    <a:pt x="1251" y="658"/>
                  </a:lnTo>
                  <a:lnTo>
                    <a:pt x="1257" y="667"/>
                  </a:lnTo>
                  <a:lnTo>
                    <a:pt x="1261" y="677"/>
                  </a:lnTo>
                  <a:lnTo>
                    <a:pt x="1265" y="688"/>
                  </a:lnTo>
                  <a:lnTo>
                    <a:pt x="1266" y="700"/>
                  </a:lnTo>
                  <a:lnTo>
                    <a:pt x="1267" y="710"/>
                  </a:lnTo>
                  <a:lnTo>
                    <a:pt x="1268" y="722"/>
                  </a:lnTo>
                  <a:lnTo>
                    <a:pt x="1271" y="731"/>
                  </a:lnTo>
                  <a:lnTo>
                    <a:pt x="1274" y="738"/>
                  </a:lnTo>
                  <a:lnTo>
                    <a:pt x="1279" y="745"/>
                  </a:lnTo>
                  <a:lnTo>
                    <a:pt x="1286" y="750"/>
                  </a:lnTo>
                  <a:lnTo>
                    <a:pt x="1293" y="753"/>
                  </a:lnTo>
                  <a:lnTo>
                    <a:pt x="1301" y="757"/>
                  </a:lnTo>
                  <a:lnTo>
                    <a:pt x="1311" y="758"/>
                  </a:lnTo>
                  <a:lnTo>
                    <a:pt x="1321" y="758"/>
                  </a:lnTo>
                  <a:lnTo>
                    <a:pt x="1332" y="758"/>
                  </a:lnTo>
                  <a:lnTo>
                    <a:pt x="1343" y="757"/>
                  </a:lnTo>
                  <a:lnTo>
                    <a:pt x="1356" y="755"/>
                  </a:lnTo>
                  <a:lnTo>
                    <a:pt x="1381" y="749"/>
                  </a:lnTo>
                  <a:lnTo>
                    <a:pt x="1407" y="742"/>
                  </a:lnTo>
                  <a:lnTo>
                    <a:pt x="1433" y="732"/>
                  </a:lnTo>
                  <a:lnTo>
                    <a:pt x="1458" y="722"/>
                  </a:lnTo>
                  <a:lnTo>
                    <a:pt x="1482" y="711"/>
                  </a:lnTo>
                  <a:lnTo>
                    <a:pt x="1503" y="701"/>
                  </a:lnTo>
                  <a:lnTo>
                    <a:pt x="1535" y="686"/>
                  </a:lnTo>
                  <a:lnTo>
                    <a:pt x="1546" y="679"/>
                  </a:lnTo>
                  <a:lnTo>
                    <a:pt x="1639" y="494"/>
                  </a:lnTo>
                  <a:lnTo>
                    <a:pt x="1823" y="494"/>
                  </a:lnTo>
                  <a:lnTo>
                    <a:pt x="1979" y="616"/>
                  </a:lnTo>
                  <a:lnTo>
                    <a:pt x="2071" y="616"/>
                  </a:lnTo>
                  <a:lnTo>
                    <a:pt x="2258" y="771"/>
                  </a:lnTo>
                  <a:lnTo>
                    <a:pt x="2535" y="771"/>
                  </a:lnTo>
                  <a:lnTo>
                    <a:pt x="2531" y="791"/>
                  </a:lnTo>
                  <a:lnTo>
                    <a:pt x="2532" y="815"/>
                  </a:lnTo>
                  <a:lnTo>
                    <a:pt x="2537" y="843"/>
                  </a:lnTo>
                  <a:lnTo>
                    <a:pt x="2546" y="875"/>
                  </a:lnTo>
                  <a:lnTo>
                    <a:pt x="2559" y="910"/>
                  </a:lnTo>
                  <a:lnTo>
                    <a:pt x="2576" y="948"/>
                  </a:lnTo>
                  <a:lnTo>
                    <a:pt x="2595" y="989"/>
                  </a:lnTo>
                  <a:lnTo>
                    <a:pt x="2618" y="1033"/>
                  </a:lnTo>
                  <a:lnTo>
                    <a:pt x="2643" y="1079"/>
                  </a:lnTo>
                  <a:lnTo>
                    <a:pt x="2671" y="1126"/>
                  </a:lnTo>
                  <a:lnTo>
                    <a:pt x="2701" y="1175"/>
                  </a:lnTo>
                  <a:lnTo>
                    <a:pt x="2733" y="1225"/>
                  </a:lnTo>
                  <a:lnTo>
                    <a:pt x="2766" y="1277"/>
                  </a:lnTo>
                  <a:lnTo>
                    <a:pt x="2801" y="1328"/>
                  </a:lnTo>
                  <a:lnTo>
                    <a:pt x="2838" y="1381"/>
                  </a:lnTo>
                  <a:lnTo>
                    <a:pt x="2875" y="1432"/>
                  </a:lnTo>
                  <a:lnTo>
                    <a:pt x="2913" y="1483"/>
                  </a:lnTo>
                  <a:lnTo>
                    <a:pt x="2952" y="1534"/>
                  </a:lnTo>
                  <a:lnTo>
                    <a:pt x="2990" y="1583"/>
                  </a:lnTo>
                  <a:lnTo>
                    <a:pt x="3029" y="1631"/>
                  </a:lnTo>
                  <a:lnTo>
                    <a:pt x="3067" y="1677"/>
                  </a:lnTo>
                  <a:lnTo>
                    <a:pt x="3105" y="1721"/>
                  </a:lnTo>
                  <a:lnTo>
                    <a:pt x="3142" y="1763"/>
                  </a:lnTo>
                  <a:lnTo>
                    <a:pt x="3178" y="1802"/>
                  </a:lnTo>
                  <a:lnTo>
                    <a:pt x="3213" y="1837"/>
                  </a:lnTo>
                  <a:lnTo>
                    <a:pt x="3247" y="1870"/>
                  </a:lnTo>
                  <a:lnTo>
                    <a:pt x="3279" y="1899"/>
                  </a:lnTo>
                  <a:lnTo>
                    <a:pt x="3308" y="1925"/>
                  </a:lnTo>
                  <a:lnTo>
                    <a:pt x="3335" y="1945"/>
                  </a:lnTo>
                  <a:lnTo>
                    <a:pt x="3361" y="1961"/>
                  </a:lnTo>
                  <a:lnTo>
                    <a:pt x="3383" y="1972"/>
                  </a:lnTo>
                  <a:lnTo>
                    <a:pt x="3401" y="1978"/>
                  </a:lnTo>
                  <a:lnTo>
                    <a:pt x="3420" y="1981"/>
                  </a:lnTo>
                  <a:lnTo>
                    <a:pt x="3440" y="1986"/>
                  </a:lnTo>
                  <a:lnTo>
                    <a:pt x="3462" y="1990"/>
                  </a:lnTo>
                  <a:lnTo>
                    <a:pt x="3486" y="1997"/>
                  </a:lnTo>
                  <a:lnTo>
                    <a:pt x="3538" y="2014"/>
                  </a:lnTo>
                  <a:lnTo>
                    <a:pt x="3598" y="2035"/>
                  </a:lnTo>
                  <a:lnTo>
                    <a:pt x="3663" y="2059"/>
                  </a:lnTo>
                  <a:lnTo>
                    <a:pt x="3733" y="2090"/>
                  </a:lnTo>
                  <a:lnTo>
                    <a:pt x="3808" y="2124"/>
                  </a:lnTo>
                  <a:lnTo>
                    <a:pt x="3886" y="2162"/>
                  </a:lnTo>
                  <a:lnTo>
                    <a:pt x="3928" y="2182"/>
                  </a:lnTo>
                  <a:lnTo>
                    <a:pt x="3969" y="2204"/>
                  </a:lnTo>
                  <a:lnTo>
                    <a:pt x="4012" y="2227"/>
                  </a:lnTo>
                  <a:lnTo>
                    <a:pt x="4056" y="2251"/>
                  </a:lnTo>
                  <a:lnTo>
                    <a:pt x="4099" y="2277"/>
                  </a:lnTo>
                  <a:lnTo>
                    <a:pt x="4143" y="2302"/>
                  </a:lnTo>
                  <a:lnTo>
                    <a:pt x="4189" y="2330"/>
                  </a:lnTo>
                  <a:lnTo>
                    <a:pt x="4234" y="2358"/>
                  </a:lnTo>
                  <a:lnTo>
                    <a:pt x="4280" y="2389"/>
                  </a:lnTo>
                  <a:lnTo>
                    <a:pt x="4327" y="2419"/>
                  </a:lnTo>
                  <a:lnTo>
                    <a:pt x="4372" y="2451"/>
                  </a:lnTo>
                  <a:lnTo>
                    <a:pt x="4419" y="2483"/>
                  </a:lnTo>
                  <a:lnTo>
                    <a:pt x="4466" y="2517"/>
                  </a:lnTo>
                  <a:lnTo>
                    <a:pt x="4512" y="2552"/>
                  </a:lnTo>
                  <a:lnTo>
                    <a:pt x="4559" y="2588"/>
                  </a:lnTo>
                  <a:lnTo>
                    <a:pt x="4606" y="2626"/>
                  </a:lnTo>
                  <a:lnTo>
                    <a:pt x="4885" y="2410"/>
                  </a:lnTo>
                  <a:lnTo>
                    <a:pt x="4884" y="2390"/>
                  </a:lnTo>
                  <a:lnTo>
                    <a:pt x="4883" y="2369"/>
                  </a:lnTo>
                  <a:lnTo>
                    <a:pt x="4879" y="2349"/>
                  </a:lnTo>
                  <a:lnTo>
                    <a:pt x="4876" y="2328"/>
                  </a:lnTo>
                  <a:lnTo>
                    <a:pt x="4871" y="2307"/>
                  </a:lnTo>
                  <a:lnTo>
                    <a:pt x="4865" y="2287"/>
                  </a:lnTo>
                  <a:lnTo>
                    <a:pt x="4858" y="2266"/>
                  </a:lnTo>
                  <a:lnTo>
                    <a:pt x="4851" y="2246"/>
                  </a:lnTo>
                  <a:lnTo>
                    <a:pt x="4835" y="2206"/>
                  </a:lnTo>
                  <a:lnTo>
                    <a:pt x="4816" y="2168"/>
                  </a:lnTo>
                  <a:lnTo>
                    <a:pt x="4797" y="2132"/>
                  </a:lnTo>
                  <a:lnTo>
                    <a:pt x="4776" y="2097"/>
                  </a:lnTo>
                  <a:lnTo>
                    <a:pt x="4756" y="2065"/>
                  </a:lnTo>
                  <a:lnTo>
                    <a:pt x="4737" y="2036"/>
                  </a:lnTo>
                  <a:lnTo>
                    <a:pt x="4719" y="2010"/>
                  </a:lnTo>
                  <a:lnTo>
                    <a:pt x="4703" y="1988"/>
                  </a:lnTo>
                  <a:lnTo>
                    <a:pt x="4678" y="1958"/>
                  </a:lnTo>
                  <a:lnTo>
                    <a:pt x="4669" y="1946"/>
                  </a:lnTo>
                  <a:lnTo>
                    <a:pt x="4657" y="1924"/>
                  </a:lnTo>
                  <a:lnTo>
                    <a:pt x="4641" y="1898"/>
                  </a:lnTo>
                  <a:lnTo>
                    <a:pt x="4621" y="1869"/>
                  </a:lnTo>
                  <a:lnTo>
                    <a:pt x="4595" y="1836"/>
                  </a:lnTo>
                  <a:lnTo>
                    <a:pt x="4567" y="1800"/>
                  </a:lnTo>
                  <a:lnTo>
                    <a:pt x="4535" y="1763"/>
                  </a:lnTo>
                  <a:lnTo>
                    <a:pt x="4498" y="1722"/>
                  </a:lnTo>
                  <a:lnTo>
                    <a:pt x="4460" y="1678"/>
                  </a:lnTo>
                  <a:lnTo>
                    <a:pt x="4419" y="1634"/>
                  </a:lnTo>
                  <a:lnTo>
                    <a:pt x="4375" y="1587"/>
                  </a:lnTo>
                  <a:lnTo>
                    <a:pt x="4328" y="1538"/>
                  </a:lnTo>
                  <a:lnTo>
                    <a:pt x="4280" y="1489"/>
                  </a:lnTo>
                  <a:lnTo>
                    <a:pt x="4178" y="1389"/>
                  </a:lnTo>
                  <a:lnTo>
                    <a:pt x="4073" y="1286"/>
                  </a:lnTo>
                  <a:lnTo>
                    <a:pt x="3965" y="1183"/>
                  </a:lnTo>
                  <a:lnTo>
                    <a:pt x="3857" y="1084"/>
                  </a:lnTo>
                  <a:lnTo>
                    <a:pt x="3752" y="988"/>
                  </a:lnTo>
                  <a:lnTo>
                    <a:pt x="3650" y="899"/>
                  </a:lnTo>
                  <a:lnTo>
                    <a:pt x="3557" y="818"/>
                  </a:lnTo>
                  <a:lnTo>
                    <a:pt x="3472" y="748"/>
                  </a:lnTo>
                  <a:lnTo>
                    <a:pt x="3433" y="717"/>
                  </a:lnTo>
                  <a:lnTo>
                    <a:pt x="3398" y="690"/>
                  </a:lnTo>
                  <a:lnTo>
                    <a:pt x="3366" y="667"/>
                  </a:lnTo>
                  <a:lnTo>
                    <a:pt x="3338" y="647"/>
                  </a:lnTo>
                  <a:lnTo>
                    <a:pt x="3285" y="611"/>
                  </a:lnTo>
                  <a:lnTo>
                    <a:pt x="3231" y="571"/>
                  </a:lnTo>
                  <a:lnTo>
                    <a:pt x="3175" y="528"/>
                  </a:lnTo>
                  <a:lnTo>
                    <a:pt x="3119" y="484"/>
                  </a:lnTo>
                  <a:lnTo>
                    <a:pt x="3062" y="438"/>
                  </a:lnTo>
                  <a:lnTo>
                    <a:pt x="3007" y="391"/>
                  </a:lnTo>
                  <a:lnTo>
                    <a:pt x="2952" y="346"/>
                  </a:lnTo>
                  <a:lnTo>
                    <a:pt x="2900" y="300"/>
                  </a:lnTo>
                  <a:lnTo>
                    <a:pt x="2803" y="217"/>
                  </a:lnTo>
                  <a:lnTo>
                    <a:pt x="2722" y="146"/>
                  </a:lnTo>
                  <a:lnTo>
                    <a:pt x="2689" y="118"/>
                  </a:lnTo>
                  <a:lnTo>
                    <a:pt x="2661" y="95"/>
                  </a:lnTo>
                  <a:lnTo>
                    <a:pt x="2639" y="78"/>
                  </a:lnTo>
                  <a:lnTo>
                    <a:pt x="2624" y="69"/>
                  </a:lnTo>
                  <a:lnTo>
                    <a:pt x="2609" y="60"/>
                  </a:lnTo>
                  <a:lnTo>
                    <a:pt x="2595" y="50"/>
                  </a:lnTo>
                  <a:lnTo>
                    <a:pt x="2584" y="41"/>
                  </a:lnTo>
                  <a:lnTo>
                    <a:pt x="2572" y="3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19" name="Freeform 1526"/>
            <p:cNvSpPr/>
            <p:nvPr/>
          </p:nvSpPr>
          <p:spPr>
            <a:xfrm>
              <a:off x="5000040" y="4653000"/>
              <a:ext cx="222840" cy="123840"/>
            </a:xfrm>
            <a:custGeom>
              <a:avLst/>
              <a:gdLst>
                <a:gd name="textAreaLeft" fmla="*/ 0 w 222840"/>
                <a:gd name="textAreaRight" fmla="*/ 223200 w 222840"/>
                <a:gd name="textAreaTop" fmla="*/ 0 h 123840"/>
                <a:gd name="textAreaBottom" fmla="*/ 124200 h 123840"/>
              </a:gdLst>
              <a:ahLst/>
              <a:rect l="textAreaLeft" t="textAreaTop" r="textAreaRight" b="textAreaBottom"/>
              <a:pathLst>
                <a:path w="1238" h="822">
                  <a:moveTo>
                    <a:pt x="1124" y="762"/>
                  </a:moveTo>
                  <a:lnTo>
                    <a:pt x="1238" y="776"/>
                  </a:lnTo>
                  <a:lnTo>
                    <a:pt x="1238" y="762"/>
                  </a:lnTo>
                  <a:lnTo>
                    <a:pt x="1237" y="747"/>
                  </a:lnTo>
                  <a:lnTo>
                    <a:pt x="1236" y="732"/>
                  </a:lnTo>
                  <a:lnTo>
                    <a:pt x="1234" y="717"/>
                  </a:lnTo>
                  <a:lnTo>
                    <a:pt x="1230" y="703"/>
                  </a:lnTo>
                  <a:lnTo>
                    <a:pt x="1227" y="688"/>
                  </a:lnTo>
                  <a:lnTo>
                    <a:pt x="1222" y="672"/>
                  </a:lnTo>
                  <a:lnTo>
                    <a:pt x="1217" y="657"/>
                  </a:lnTo>
                  <a:lnTo>
                    <a:pt x="1212" y="641"/>
                  </a:lnTo>
                  <a:lnTo>
                    <a:pt x="1205" y="626"/>
                  </a:lnTo>
                  <a:lnTo>
                    <a:pt x="1198" y="611"/>
                  </a:lnTo>
                  <a:lnTo>
                    <a:pt x="1189" y="594"/>
                  </a:lnTo>
                  <a:lnTo>
                    <a:pt x="1181" y="579"/>
                  </a:lnTo>
                  <a:lnTo>
                    <a:pt x="1171" y="563"/>
                  </a:lnTo>
                  <a:lnTo>
                    <a:pt x="1160" y="546"/>
                  </a:lnTo>
                  <a:lnTo>
                    <a:pt x="1150" y="531"/>
                  </a:lnTo>
                  <a:lnTo>
                    <a:pt x="1124" y="497"/>
                  </a:lnTo>
                  <a:lnTo>
                    <a:pt x="1096" y="465"/>
                  </a:lnTo>
                  <a:lnTo>
                    <a:pt x="1064" y="431"/>
                  </a:lnTo>
                  <a:lnTo>
                    <a:pt x="1029" y="396"/>
                  </a:lnTo>
                  <a:lnTo>
                    <a:pt x="991" y="361"/>
                  </a:lnTo>
                  <a:lnTo>
                    <a:pt x="949" y="326"/>
                  </a:lnTo>
                  <a:lnTo>
                    <a:pt x="903" y="289"/>
                  </a:lnTo>
                  <a:lnTo>
                    <a:pt x="853" y="252"/>
                  </a:lnTo>
                  <a:lnTo>
                    <a:pt x="844" y="267"/>
                  </a:lnTo>
                  <a:lnTo>
                    <a:pt x="835" y="281"/>
                  </a:lnTo>
                  <a:lnTo>
                    <a:pt x="827" y="294"/>
                  </a:lnTo>
                  <a:lnTo>
                    <a:pt x="819" y="305"/>
                  </a:lnTo>
                  <a:lnTo>
                    <a:pt x="811" y="314"/>
                  </a:lnTo>
                  <a:lnTo>
                    <a:pt x="803" y="322"/>
                  </a:lnTo>
                  <a:lnTo>
                    <a:pt x="796" y="329"/>
                  </a:lnTo>
                  <a:lnTo>
                    <a:pt x="789" y="335"/>
                  </a:lnTo>
                  <a:lnTo>
                    <a:pt x="782" y="340"/>
                  </a:lnTo>
                  <a:lnTo>
                    <a:pt x="775" y="342"/>
                  </a:lnTo>
                  <a:lnTo>
                    <a:pt x="768" y="344"/>
                  </a:lnTo>
                  <a:lnTo>
                    <a:pt x="762" y="344"/>
                  </a:lnTo>
                  <a:lnTo>
                    <a:pt x="756" y="344"/>
                  </a:lnTo>
                  <a:lnTo>
                    <a:pt x="750" y="342"/>
                  </a:lnTo>
                  <a:lnTo>
                    <a:pt x="745" y="340"/>
                  </a:lnTo>
                  <a:lnTo>
                    <a:pt x="741" y="335"/>
                  </a:lnTo>
                  <a:lnTo>
                    <a:pt x="736" y="330"/>
                  </a:lnTo>
                  <a:lnTo>
                    <a:pt x="733" y="323"/>
                  </a:lnTo>
                  <a:lnTo>
                    <a:pt x="729" y="316"/>
                  </a:lnTo>
                  <a:lnTo>
                    <a:pt x="727" y="307"/>
                  </a:lnTo>
                  <a:lnTo>
                    <a:pt x="724" y="298"/>
                  </a:lnTo>
                  <a:lnTo>
                    <a:pt x="723" y="287"/>
                  </a:lnTo>
                  <a:lnTo>
                    <a:pt x="722" y="275"/>
                  </a:lnTo>
                  <a:lnTo>
                    <a:pt x="722" y="263"/>
                  </a:lnTo>
                  <a:lnTo>
                    <a:pt x="722" y="250"/>
                  </a:lnTo>
                  <a:lnTo>
                    <a:pt x="723" y="234"/>
                  </a:lnTo>
                  <a:lnTo>
                    <a:pt x="724" y="219"/>
                  </a:lnTo>
                  <a:lnTo>
                    <a:pt x="727" y="203"/>
                  </a:lnTo>
                  <a:lnTo>
                    <a:pt x="734" y="168"/>
                  </a:lnTo>
                  <a:lnTo>
                    <a:pt x="743" y="128"/>
                  </a:lnTo>
                  <a:lnTo>
                    <a:pt x="744" y="126"/>
                  </a:lnTo>
                  <a:lnTo>
                    <a:pt x="745" y="119"/>
                  </a:lnTo>
                  <a:lnTo>
                    <a:pt x="745" y="115"/>
                  </a:lnTo>
                  <a:lnTo>
                    <a:pt x="743" y="111"/>
                  </a:lnTo>
                  <a:lnTo>
                    <a:pt x="741" y="106"/>
                  </a:lnTo>
                  <a:lnTo>
                    <a:pt x="736" y="102"/>
                  </a:lnTo>
                  <a:lnTo>
                    <a:pt x="729" y="99"/>
                  </a:lnTo>
                  <a:lnTo>
                    <a:pt x="720" y="97"/>
                  </a:lnTo>
                  <a:lnTo>
                    <a:pt x="708" y="94"/>
                  </a:lnTo>
                  <a:lnTo>
                    <a:pt x="692" y="94"/>
                  </a:lnTo>
                  <a:lnTo>
                    <a:pt x="673" y="95"/>
                  </a:lnTo>
                  <a:lnTo>
                    <a:pt x="650" y="99"/>
                  </a:lnTo>
                  <a:lnTo>
                    <a:pt x="623" y="104"/>
                  </a:lnTo>
                  <a:lnTo>
                    <a:pt x="590" y="111"/>
                  </a:lnTo>
                  <a:lnTo>
                    <a:pt x="594" y="108"/>
                  </a:lnTo>
                  <a:lnTo>
                    <a:pt x="598" y="101"/>
                  </a:lnTo>
                  <a:lnTo>
                    <a:pt x="605" y="91"/>
                  </a:lnTo>
                  <a:lnTo>
                    <a:pt x="611" y="79"/>
                  </a:lnTo>
                  <a:lnTo>
                    <a:pt x="612" y="73"/>
                  </a:lnTo>
                  <a:lnTo>
                    <a:pt x="613" y="66"/>
                  </a:lnTo>
                  <a:lnTo>
                    <a:pt x="612" y="60"/>
                  </a:lnTo>
                  <a:lnTo>
                    <a:pt x="609" y="55"/>
                  </a:lnTo>
                  <a:lnTo>
                    <a:pt x="604" y="49"/>
                  </a:lnTo>
                  <a:lnTo>
                    <a:pt x="596" y="44"/>
                  </a:lnTo>
                  <a:lnTo>
                    <a:pt x="587" y="39"/>
                  </a:lnTo>
                  <a:lnTo>
                    <a:pt x="574" y="36"/>
                  </a:lnTo>
                  <a:lnTo>
                    <a:pt x="546" y="29"/>
                  </a:lnTo>
                  <a:lnTo>
                    <a:pt x="519" y="20"/>
                  </a:lnTo>
                  <a:lnTo>
                    <a:pt x="492" y="11"/>
                  </a:lnTo>
                  <a:lnTo>
                    <a:pt x="463" y="4"/>
                  </a:lnTo>
                  <a:lnTo>
                    <a:pt x="448" y="1"/>
                  </a:lnTo>
                  <a:lnTo>
                    <a:pt x="431" y="0"/>
                  </a:lnTo>
                  <a:lnTo>
                    <a:pt x="413" y="0"/>
                  </a:lnTo>
                  <a:lnTo>
                    <a:pt x="394" y="0"/>
                  </a:lnTo>
                  <a:lnTo>
                    <a:pt x="373" y="2"/>
                  </a:lnTo>
                  <a:lnTo>
                    <a:pt x="349" y="6"/>
                  </a:lnTo>
                  <a:lnTo>
                    <a:pt x="324" y="11"/>
                  </a:lnTo>
                  <a:lnTo>
                    <a:pt x="297" y="20"/>
                  </a:lnTo>
                  <a:lnTo>
                    <a:pt x="311" y="111"/>
                  </a:lnTo>
                  <a:lnTo>
                    <a:pt x="305" y="108"/>
                  </a:lnTo>
                  <a:lnTo>
                    <a:pt x="288" y="102"/>
                  </a:lnTo>
                  <a:lnTo>
                    <a:pt x="260" y="93"/>
                  </a:lnTo>
                  <a:lnTo>
                    <a:pt x="219" y="83"/>
                  </a:lnTo>
                  <a:lnTo>
                    <a:pt x="220" y="86"/>
                  </a:lnTo>
                  <a:lnTo>
                    <a:pt x="220" y="95"/>
                  </a:lnTo>
                  <a:lnTo>
                    <a:pt x="221" y="108"/>
                  </a:lnTo>
                  <a:lnTo>
                    <a:pt x="219" y="125"/>
                  </a:lnTo>
                  <a:lnTo>
                    <a:pt x="216" y="134"/>
                  </a:lnTo>
                  <a:lnTo>
                    <a:pt x="214" y="142"/>
                  </a:lnTo>
                  <a:lnTo>
                    <a:pt x="210" y="152"/>
                  </a:lnTo>
                  <a:lnTo>
                    <a:pt x="206" y="160"/>
                  </a:lnTo>
                  <a:lnTo>
                    <a:pt x="200" y="168"/>
                  </a:lnTo>
                  <a:lnTo>
                    <a:pt x="192" y="176"/>
                  </a:lnTo>
                  <a:lnTo>
                    <a:pt x="184" y="183"/>
                  </a:lnTo>
                  <a:lnTo>
                    <a:pt x="173" y="189"/>
                  </a:lnTo>
                  <a:lnTo>
                    <a:pt x="154" y="184"/>
                  </a:lnTo>
                  <a:lnTo>
                    <a:pt x="136" y="182"/>
                  </a:lnTo>
                  <a:lnTo>
                    <a:pt x="119" y="182"/>
                  </a:lnTo>
                  <a:lnTo>
                    <a:pt x="104" y="182"/>
                  </a:lnTo>
                  <a:lnTo>
                    <a:pt x="90" y="184"/>
                  </a:lnTo>
                  <a:lnTo>
                    <a:pt x="76" y="189"/>
                  </a:lnTo>
                  <a:lnTo>
                    <a:pt x="64" y="194"/>
                  </a:lnTo>
                  <a:lnTo>
                    <a:pt x="54" y="201"/>
                  </a:lnTo>
                  <a:lnTo>
                    <a:pt x="45" y="208"/>
                  </a:lnTo>
                  <a:lnTo>
                    <a:pt x="35" y="216"/>
                  </a:lnTo>
                  <a:lnTo>
                    <a:pt x="27" y="226"/>
                  </a:lnTo>
                  <a:lnTo>
                    <a:pt x="21" y="236"/>
                  </a:lnTo>
                  <a:lnTo>
                    <a:pt x="15" y="247"/>
                  </a:lnTo>
                  <a:lnTo>
                    <a:pt x="11" y="259"/>
                  </a:lnTo>
                  <a:lnTo>
                    <a:pt x="7" y="272"/>
                  </a:lnTo>
                  <a:lnTo>
                    <a:pt x="4" y="285"/>
                  </a:lnTo>
                  <a:lnTo>
                    <a:pt x="1" y="299"/>
                  </a:lnTo>
                  <a:lnTo>
                    <a:pt x="0" y="312"/>
                  </a:lnTo>
                  <a:lnTo>
                    <a:pt x="0" y="326"/>
                  </a:lnTo>
                  <a:lnTo>
                    <a:pt x="1" y="340"/>
                  </a:lnTo>
                  <a:lnTo>
                    <a:pt x="3" y="355"/>
                  </a:lnTo>
                  <a:lnTo>
                    <a:pt x="5" y="369"/>
                  </a:lnTo>
                  <a:lnTo>
                    <a:pt x="7" y="383"/>
                  </a:lnTo>
                  <a:lnTo>
                    <a:pt x="11" y="397"/>
                  </a:lnTo>
                  <a:lnTo>
                    <a:pt x="15" y="410"/>
                  </a:lnTo>
                  <a:lnTo>
                    <a:pt x="20" y="423"/>
                  </a:lnTo>
                  <a:lnTo>
                    <a:pt x="26" y="435"/>
                  </a:lnTo>
                  <a:lnTo>
                    <a:pt x="33" y="448"/>
                  </a:lnTo>
                  <a:lnTo>
                    <a:pt x="39" y="459"/>
                  </a:lnTo>
                  <a:lnTo>
                    <a:pt x="47" y="469"/>
                  </a:lnTo>
                  <a:lnTo>
                    <a:pt x="55" y="480"/>
                  </a:lnTo>
                  <a:lnTo>
                    <a:pt x="63" y="488"/>
                  </a:lnTo>
                  <a:lnTo>
                    <a:pt x="90" y="515"/>
                  </a:lnTo>
                  <a:lnTo>
                    <a:pt x="114" y="541"/>
                  </a:lnTo>
                  <a:lnTo>
                    <a:pt x="135" y="565"/>
                  </a:lnTo>
                  <a:lnTo>
                    <a:pt x="153" y="588"/>
                  </a:lnTo>
                  <a:lnTo>
                    <a:pt x="170" y="612"/>
                  </a:lnTo>
                  <a:lnTo>
                    <a:pt x="184" y="633"/>
                  </a:lnTo>
                  <a:lnTo>
                    <a:pt x="195" y="655"/>
                  </a:lnTo>
                  <a:lnTo>
                    <a:pt x="205" y="675"/>
                  </a:lnTo>
                  <a:lnTo>
                    <a:pt x="210" y="695"/>
                  </a:lnTo>
                  <a:lnTo>
                    <a:pt x="215" y="715"/>
                  </a:lnTo>
                  <a:lnTo>
                    <a:pt x="216" y="724"/>
                  </a:lnTo>
                  <a:lnTo>
                    <a:pt x="216" y="733"/>
                  </a:lnTo>
                  <a:lnTo>
                    <a:pt x="216" y="743"/>
                  </a:lnTo>
                  <a:lnTo>
                    <a:pt x="215" y="752"/>
                  </a:lnTo>
                  <a:lnTo>
                    <a:pt x="214" y="761"/>
                  </a:lnTo>
                  <a:lnTo>
                    <a:pt x="212" y="769"/>
                  </a:lnTo>
                  <a:lnTo>
                    <a:pt x="209" y="779"/>
                  </a:lnTo>
                  <a:lnTo>
                    <a:pt x="206" y="788"/>
                  </a:lnTo>
                  <a:lnTo>
                    <a:pt x="198" y="806"/>
                  </a:lnTo>
                  <a:lnTo>
                    <a:pt x="187" y="822"/>
                  </a:lnTo>
                  <a:lnTo>
                    <a:pt x="714" y="800"/>
                  </a:lnTo>
                  <a:lnTo>
                    <a:pt x="1124" y="762"/>
                  </a:lnTo>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20" name="Freeform 1527"/>
            <p:cNvSpPr/>
            <p:nvPr/>
          </p:nvSpPr>
          <p:spPr>
            <a:xfrm>
              <a:off x="5329080" y="4614840"/>
              <a:ext cx="298440" cy="125640"/>
            </a:xfrm>
            <a:custGeom>
              <a:avLst/>
              <a:gdLst>
                <a:gd name="textAreaLeft" fmla="*/ 0 w 298440"/>
                <a:gd name="textAreaRight" fmla="*/ 298800 w 298440"/>
                <a:gd name="textAreaTop" fmla="*/ 0 h 125640"/>
                <a:gd name="textAreaBottom" fmla="*/ 126000 h 125640"/>
              </a:gdLst>
              <a:ahLst/>
              <a:rect l="textAreaLeft" t="textAreaTop" r="textAreaRight" b="textAreaBottom"/>
              <a:pathLst>
                <a:path w="1661" h="830">
                  <a:moveTo>
                    <a:pt x="1301" y="775"/>
                  </a:moveTo>
                  <a:lnTo>
                    <a:pt x="1116" y="691"/>
                  </a:lnTo>
                  <a:lnTo>
                    <a:pt x="1101" y="695"/>
                  </a:lnTo>
                  <a:lnTo>
                    <a:pt x="1087" y="697"/>
                  </a:lnTo>
                  <a:lnTo>
                    <a:pt x="1074" y="697"/>
                  </a:lnTo>
                  <a:lnTo>
                    <a:pt x="1061" y="695"/>
                  </a:lnTo>
                  <a:lnTo>
                    <a:pt x="1046" y="694"/>
                  </a:lnTo>
                  <a:lnTo>
                    <a:pt x="1029" y="695"/>
                  </a:lnTo>
                  <a:lnTo>
                    <a:pt x="1006" y="699"/>
                  </a:lnTo>
                  <a:lnTo>
                    <a:pt x="978" y="706"/>
                  </a:lnTo>
                  <a:lnTo>
                    <a:pt x="953" y="711"/>
                  </a:lnTo>
                  <a:lnTo>
                    <a:pt x="912" y="718"/>
                  </a:lnTo>
                  <a:lnTo>
                    <a:pt x="857" y="726"/>
                  </a:lnTo>
                  <a:lnTo>
                    <a:pt x="790" y="735"/>
                  </a:lnTo>
                  <a:lnTo>
                    <a:pt x="714" y="744"/>
                  </a:lnTo>
                  <a:lnTo>
                    <a:pt x="634" y="755"/>
                  </a:lnTo>
                  <a:lnTo>
                    <a:pt x="547" y="765"/>
                  </a:lnTo>
                  <a:lnTo>
                    <a:pt x="461" y="776"/>
                  </a:lnTo>
                  <a:lnTo>
                    <a:pt x="374" y="787"/>
                  </a:lnTo>
                  <a:lnTo>
                    <a:pt x="292" y="796"/>
                  </a:lnTo>
                  <a:lnTo>
                    <a:pt x="216" y="805"/>
                  </a:lnTo>
                  <a:lnTo>
                    <a:pt x="147" y="813"/>
                  </a:lnTo>
                  <a:lnTo>
                    <a:pt x="89" y="820"/>
                  </a:lnTo>
                  <a:lnTo>
                    <a:pt x="46" y="825"/>
                  </a:lnTo>
                  <a:lnTo>
                    <a:pt x="18" y="829"/>
                  </a:lnTo>
                  <a:lnTo>
                    <a:pt x="8" y="830"/>
                  </a:lnTo>
                  <a:lnTo>
                    <a:pt x="0" y="763"/>
                  </a:lnTo>
                  <a:lnTo>
                    <a:pt x="18" y="743"/>
                  </a:lnTo>
                  <a:lnTo>
                    <a:pt x="38" y="725"/>
                  </a:lnTo>
                  <a:lnTo>
                    <a:pt x="57" y="704"/>
                  </a:lnTo>
                  <a:lnTo>
                    <a:pt x="74" y="683"/>
                  </a:lnTo>
                  <a:lnTo>
                    <a:pt x="74" y="498"/>
                  </a:lnTo>
                  <a:lnTo>
                    <a:pt x="141" y="498"/>
                  </a:lnTo>
                  <a:lnTo>
                    <a:pt x="202" y="496"/>
                  </a:lnTo>
                  <a:lnTo>
                    <a:pt x="231" y="494"/>
                  </a:lnTo>
                  <a:lnTo>
                    <a:pt x="258" y="492"/>
                  </a:lnTo>
                  <a:lnTo>
                    <a:pt x="283" y="490"/>
                  </a:lnTo>
                  <a:lnTo>
                    <a:pt x="309" y="486"/>
                  </a:lnTo>
                  <a:lnTo>
                    <a:pt x="332" y="483"/>
                  </a:lnTo>
                  <a:lnTo>
                    <a:pt x="355" y="478"/>
                  </a:lnTo>
                  <a:lnTo>
                    <a:pt x="376" y="473"/>
                  </a:lnTo>
                  <a:lnTo>
                    <a:pt x="395" y="469"/>
                  </a:lnTo>
                  <a:lnTo>
                    <a:pt x="414" y="462"/>
                  </a:lnTo>
                  <a:lnTo>
                    <a:pt x="432" y="455"/>
                  </a:lnTo>
                  <a:lnTo>
                    <a:pt x="448" y="447"/>
                  </a:lnTo>
                  <a:lnTo>
                    <a:pt x="463" y="438"/>
                  </a:lnTo>
                  <a:lnTo>
                    <a:pt x="477" y="429"/>
                  </a:lnTo>
                  <a:lnTo>
                    <a:pt x="490" y="419"/>
                  </a:lnTo>
                  <a:lnTo>
                    <a:pt x="502" y="407"/>
                  </a:lnTo>
                  <a:lnTo>
                    <a:pt x="512" y="395"/>
                  </a:lnTo>
                  <a:lnTo>
                    <a:pt x="522" y="382"/>
                  </a:lnTo>
                  <a:lnTo>
                    <a:pt x="530" y="367"/>
                  </a:lnTo>
                  <a:lnTo>
                    <a:pt x="537" y="352"/>
                  </a:lnTo>
                  <a:lnTo>
                    <a:pt x="543" y="336"/>
                  </a:lnTo>
                  <a:lnTo>
                    <a:pt x="547" y="318"/>
                  </a:lnTo>
                  <a:lnTo>
                    <a:pt x="551" y="299"/>
                  </a:lnTo>
                  <a:lnTo>
                    <a:pt x="554" y="278"/>
                  </a:lnTo>
                  <a:lnTo>
                    <a:pt x="556" y="257"/>
                  </a:lnTo>
                  <a:lnTo>
                    <a:pt x="557" y="235"/>
                  </a:lnTo>
                  <a:lnTo>
                    <a:pt x="556" y="211"/>
                  </a:lnTo>
                  <a:lnTo>
                    <a:pt x="554" y="185"/>
                  </a:lnTo>
                  <a:lnTo>
                    <a:pt x="552" y="158"/>
                  </a:lnTo>
                  <a:lnTo>
                    <a:pt x="690" y="17"/>
                  </a:lnTo>
                  <a:lnTo>
                    <a:pt x="699" y="17"/>
                  </a:lnTo>
                  <a:lnTo>
                    <a:pt x="723" y="17"/>
                  </a:lnTo>
                  <a:lnTo>
                    <a:pt x="759" y="17"/>
                  </a:lnTo>
                  <a:lnTo>
                    <a:pt x="806" y="16"/>
                  </a:lnTo>
                  <a:lnTo>
                    <a:pt x="859" y="13"/>
                  </a:lnTo>
                  <a:lnTo>
                    <a:pt x="920" y="10"/>
                  </a:lnTo>
                  <a:lnTo>
                    <a:pt x="983" y="6"/>
                  </a:lnTo>
                  <a:lnTo>
                    <a:pt x="1047" y="0"/>
                  </a:lnTo>
                  <a:lnTo>
                    <a:pt x="1416" y="421"/>
                  </a:lnTo>
                  <a:lnTo>
                    <a:pt x="1416" y="521"/>
                  </a:lnTo>
                  <a:lnTo>
                    <a:pt x="1471" y="545"/>
                  </a:lnTo>
                  <a:lnTo>
                    <a:pt x="1661" y="792"/>
                  </a:lnTo>
                  <a:lnTo>
                    <a:pt x="1651" y="796"/>
                  </a:lnTo>
                  <a:lnTo>
                    <a:pt x="1641" y="801"/>
                  </a:lnTo>
                  <a:lnTo>
                    <a:pt x="1627" y="805"/>
                  </a:lnTo>
                  <a:lnTo>
                    <a:pt x="1613" y="809"/>
                  </a:lnTo>
                  <a:lnTo>
                    <a:pt x="1596" y="812"/>
                  </a:lnTo>
                  <a:lnTo>
                    <a:pt x="1578" y="815"/>
                  </a:lnTo>
                  <a:lnTo>
                    <a:pt x="1558" y="817"/>
                  </a:lnTo>
                  <a:lnTo>
                    <a:pt x="1536" y="818"/>
                  </a:lnTo>
                  <a:lnTo>
                    <a:pt x="1512" y="818"/>
                  </a:lnTo>
                  <a:lnTo>
                    <a:pt x="1488" y="817"/>
                  </a:lnTo>
                  <a:lnTo>
                    <a:pt x="1461" y="815"/>
                  </a:lnTo>
                  <a:lnTo>
                    <a:pt x="1432" y="810"/>
                  </a:lnTo>
                  <a:lnTo>
                    <a:pt x="1402" y="804"/>
                  </a:lnTo>
                  <a:lnTo>
                    <a:pt x="1370" y="796"/>
                  </a:lnTo>
                  <a:lnTo>
                    <a:pt x="1336" y="787"/>
                  </a:lnTo>
                  <a:lnTo>
                    <a:pt x="1301" y="77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21" name="Freeform 1528"/>
            <p:cNvSpPr/>
            <p:nvPr/>
          </p:nvSpPr>
          <p:spPr>
            <a:xfrm>
              <a:off x="5559120" y="4732560"/>
              <a:ext cx="125640" cy="105840"/>
            </a:xfrm>
            <a:custGeom>
              <a:avLst/>
              <a:gdLst>
                <a:gd name="textAreaLeft" fmla="*/ 0 w 125640"/>
                <a:gd name="textAreaRight" fmla="*/ 126000 w 125640"/>
                <a:gd name="textAreaTop" fmla="*/ 0 h 105840"/>
                <a:gd name="textAreaBottom" fmla="*/ 106200 h 105840"/>
              </a:gdLst>
              <a:ahLst/>
              <a:rect l="textAreaLeft" t="textAreaTop" r="textAreaRight" b="textAreaBottom"/>
              <a:pathLst>
                <a:path w="698" h="697">
                  <a:moveTo>
                    <a:pt x="146" y="426"/>
                  </a:moveTo>
                  <a:lnTo>
                    <a:pt x="144" y="418"/>
                  </a:lnTo>
                  <a:lnTo>
                    <a:pt x="143" y="411"/>
                  </a:lnTo>
                  <a:lnTo>
                    <a:pt x="143" y="404"/>
                  </a:lnTo>
                  <a:lnTo>
                    <a:pt x="144" y="397"/>
                  </a:lnTo>
                  <a:lnTo>
                    <a:pt x="146" y="390"/>
                  </a:lnTo>
                  <a:lnTo>
                    <a:pt x="148" y="383"/>
                  </a:lnTo>
                  <a:lnTo>
                    <a:pt x="150" y="377"/>
                  </a:lnTo>
                  <a:lnTo>
                    <a:pt x="155" y="371"/>
                  </a:lnTo>
                  <a:lnTo>
                    <a:pt x="158" y="365"/>
                  </a:lnTo>
                  <a:lnTo>
                    <a:pt x="164" y="360"/>
                  </a:lnTo>
                  <a:lnTo>
                    <a:pt x="170" y="355"/>
                  </a:lnTo>
                  <a:lnTo>
                    <a:pt x="177" y="351"/>
                  </a:lnTo>
                  <a:lnTo>
                    <a:pt x="185" y="348"/>
                  </a:lnTo>
                  <a:lnTo>
                    <a:pt x="195" y="344"/>
                  </a:lnTo>
                  <a:lnTo>
                    <a:pt x="204" y="342"/>
                  </a:lnTo>
                  <a:lnTo>
                    <a:pt x="215" y="340"/>
                  </a:lnTo>
                  <a:lnTo>
                    <a:pt x="216" y="332"/>
                  </a:lnTo>
                  <a:lnTo>
                    <a:pt x="219" y="309"/>
                  </a:lnTo>
                  <a:lnTo>
                    <a:pt x="223" y="278"/>
                  </a:lnTo>
                  <a:lnTo>
                    <a:pt x="224" y="239"/>
                  </a:lnTo>
                  <a:lnTo>
                    <a:pt x="220" y="226"/>
                  </a:lnTo>
                  <a:lnTo>
                    <a:pt x="215" y="216"/>
                  </a:lnTo>
                  <a:lnTo>
                    <a:pt x="209" y="205"/>
                  </a:lnTo>
                  <a:lnTo>
                    <a:pt x="202" y="195"/>
                  </a:lnTo>
                  <a:lnTo>
                    <a:pt x="194" y="186"/>
                  </a:lnTo>
                  <a:lnTo>
                    <a:pt x="184" y="176"/>
                  </a:lnTo>
                  <a:lnTo>
                    <a:pt x="175" y="167"/>
                  </a:lnTo>
                  <a:lnTo>
                    <a:pt x="164" y="159"/>
                  </a:lnTo>
                  <a:lnTo>
                    <a:pt x="142" y="143"/>
                  </a:lnTo>
                  <a:lnTo>
                    <a:pt x="119" y="129"/>
                  </a:lnTo>
                  <a:lnTo>
                    <a:pt x="95" y="115"/>
                  </a:lnTo>
                  <a:lnTo>
                    <a:pt x="73" y="103"/>
                  </a:lnTo>
                  <a:lnTo>
                    <a:pt x="52" y="91"/>
                  </a:lnTo>
                  <a:lnTo>
                    <a:pt x="33" y="79"/>
                  </a:lnTo>
                  <a:lnTo>
                    <a:pt x="25" y="73"/>
                  </a:lnTo>
                  <a:lnTo>
                    <a:pt x="17" y="68"/>
                  </a:lnTo>
                  <a:lnTo>
                    <a:pt x="11" y="62"/>
                  </a:lnTo>
                  <a:lnTo>
                    <a:pt x="7" y="56"/>
                  </a:lnTo>
                  <a:lnTo>
                    <a:pt x="3" y="49"/>
                  </a:lnTo>
                  <a:lnTo>
                    <a:pt x="1" y="43"/>
                  </a:lnTo>
                  <a:lnTo>
                    <a:pt x="0" y="36"/>
                  </a:lnTo>
                  <a:lnTo>
                    <a:pt x="1" y="29"/>
                  </a:lnTo>
                  <a:lnTo>
                    <a:pt x="3" y="22"/>
                  </a:lnTo>
                  <a:lnTo>
                    <a:pt x="8" y="15"/>
                  </a:lnTo>
                  <a:lnTo>
                    <a:pt x="14" y="8"/>
                  </a:lnTo>
                  <a:lnTo>
                    <a:pt x="22" y="0"/>
                  </a:lnTo>
                  <a:lnTo>
                    <a:pt x="57" y="12"/>
                  </a:lnTo>
                  <a:lnTo>
                    <a:pt x="91" y="21"/>
                  </a:lnTo>
                  <a:lnTo>
                    <a:pt x="123" y="29"/>
                  </a:lnTo>
                  <a:lnTo>
                    <a:pt x="153" y="35"/>
                  </a:lnTo>
                  <a:lnTo>
                    <a:pt x="182" y="40"/>
                  </a:lnTo>
                  <a:lnTo>
                    <a:pt x="209" y="42"/>
                  </a:lnTo>
                  <a:lnTo>
                    <a:pt x="233" y="43"/>
                  </a:lnTo>
                  <a:lnTo>
                    <a:pt x="257" y="43"/>
                  </a:lnTo>
                  <a:lnTo>
                    <a:pt x="279" y="42"/>
                  </a:lnTo>
                  <a:lnTo>
                    <a:pt x="299" y="40"/>
                  </a:lnTo>
                  <a:lnTo>
                    <a:pt x="317" y="37"/>
                  </a:lnTo>
                  <a:lnTo>
                    <a:pt x="334" y="34"/>
                  </a:lnTo>
                  <a:lnTo>
                    <a:pt x="348" y="30"/>
                  </a:lnTo>
                  <a:lnTo>
                    <a:pt x="362" y="26"/>
                  </a:lnTo>
                  <a:lnTo>
                    <a:pt x="372" y="21"/>
                  </a:lnTo>
                  <a:lnTo>
                    <a:pt x="382" y="17"/>
                  </a:lnTo>
                  <a:lnTo>
                    <a:pt x="586" y="233"/>
                  </a:lnTo>
                  <a:lnTo>
                    <a:pt x="586" y="371"/>
                  </a:lnTo>
                  <a:lnTo>
                    <a:pt x="565" y="368"/>
                  </a:lnTo>
                  <a:lnTo>
                    <a:pt x="544" y="364"/>
                  </a:lnTo>
                  <a:lnTo>
                    <a:pt x="524" y="362"/>
                  </a:lnTo>
                  <a:lnTo>
                    <a:pt x="504" y="361"/>
                  </a:lnTo>
                  <a:lnTo>
                    <a:pt x="487" y="361"/>
                  </a:lnTo>
                  <a:lnTo>
                    <a:pt x="468" y="361"/>
                  </a:lnTo>
                  <a:lnTo>
                    <a:pt x="452" y="361"/>
                  </a:lnTo>
                  <a:lnTo>
                    <a:pt x="436" y="363"/>
                  </a:lnTo>
                  <a:lnTo>
                    <a:pt x="421" y="364"/>
                  </a:lnTo>
                  <a:lnTo>
                    <a:pt x="408" y="368"/>
                  </a:lnTo>
                  <a:lnTo>
                    <a:pt x="397" y="370"/>
                  </a:lnTo>
                  <a:lnTo>
                    <a:pt x="386" y="375"/>
                  </a:lnTo>
                  <a:lnTo>
                    <a:pt x="377" y="378"/>
                  </a:lnTo>
                  <a:lnTo>
                    <a:pt x="369" y="383"/>
                  </a:lnTo>
                  <a:lnTo>
                    <a:pt x="363" y="389"/>
                  </a:lnTo>
                  <a:lnTo>
                    <a:pt x="359" y="393"/>
                  </a:lnTo>
                  <a:lnTo>
                    <a:pt x="357" y="400"/>
                  </a:lnTo>
                  <a:lnTo>
                    <a:pt x="357" y="406"/>
                  </a:lnTo>
                  <a:lnTo>
                    <a:pt x="358" y="412"/>
                  </a:lnTo>
                  <a:lnTo>
                    <a:pt x="362" y="419"/>
                  </a:lnTo>
                  <a:lnTo>
                    <a:pt x="368" y="426"/>
                  </a:lnTo>
                  <a:lnTo>
                    <a:pt x="376" y="434"/>
                  </a:lnTo>
                  <a:lnTo>
                    <a:pt x="386" y="441"/>
                  </a:lnTo>
                  <a:lnTo>
                    <a:pt x="400" y="448"/>
                  </a:lnTo>
                  <a:lnTo>
                    <a:pt x="415" y="457"/>
                  </a:lnTo>
                  <a:lnTo>
                    <a:pt x="433" y="464"/>
                  </a:lnTo>
                  <a:lnTo>
                    <a:pt x="454" y="472"/>
                  </a:lnTo>
                  <a:lnTo>
                    <a:pt x="477" y="480"/>
                  </a:lnTo>
                  <a:lnTo>
                    <a:pt x="504" y="487"/>
                  </a:lnTo>
                  <a:lnTo>
                    <a:pt x="533" y="495"/>
                  </a:lnTo>
                  <a:lnTo>
                    <a:pt x="565" y="502"/>
                  </a:lnTo>
                  <a:lnTo>
                    <a:pt x="601" y="509"/>
                  </a:lnTo>
                  <a:lnTo>
                    <a:pt x="615" y="513"/>
                  </a:lnTo>
                  <a:lnTo>
                    <a:pt x="627" y="516"/>
                  </a:lnTo>
                  <a:lnTo>
                    <a:pt x="639" y="520"/>
                  </a:lnTo>
                  <a:lnTo>
                    <a:pt x="649" y="524"/>
                  </a:lnTo>
                  <a:lnTo>
                    <a:pt x="658" y="528"/>
                  </a:lnTo>
                  <a:lnTo>
                    <a:pt x="665" y="532"/>
                  </a:lnTo>
                  <a:lnTo>
                    <a:pt x="672" y="537"/>
                  </a:lnTo>
                  <a:lnTo>
                    <a:pt x="678" y="542"/>
                  </a:lnTo>
                  <a:lnTo>
                    <a:pt x="684" y="548"/>
                  </a:lnTo>
                  <a:lnTo>
                    <a:pt x="688" y="552"/>
                  </a:lnTo>
                  <a:lnTo>
                    <a:pt x="691" y="557"/>
                  </a:lnTo>
                  <a:lnTo>
                    <a:pt x="693" y="563"/>
                  </a:lnTo>
                  <a:lnTo>
                    <a:pt x="697" y="573"/>
                  </a:lnTo>
                  <a:lnTo>
                    <a:pt x="698" y="584"/>
                  </a:lnTo>
                  <a:lnTo>
                    <a:pt x="697" y="593"/>
                  </a:lnTo>
                  <a:lnTo>
                    <a:pt x="695" y="603"/>
                  </a:lnTo>
                  <a:lnTo>
                    <a:pt x="692" y="611"/>
                  </a:lnTo>
                  <a:lnTo>
                    <a:pt x="689" y="619"/>
                  </a:lnTo>
                  <a:lnTo>
                    <a:pt x="682" y="629"/>
                  </a:lnTo>
                  <a:lnTo>
                    <a:pt x="678" y="633"/>
                  </a:lnTo>
                  <a:lnTo>
                    <a:pt x="462" y="697"/>
                  </a:lnTo>
                  <a:lnTo>
                    <a:pt x="146" y="42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22" name="Freeform 1529"/>
            <p:cNvSpPr/>
            <p:nvPr/>
          </p:nvSpPr>
          <p:spPr>
            <a:xfrm>
              <a:off x="5583600" y="4649040"/>
              <a:ext cx="177120" cy="53640"/>
            </a:xfrm>
            <a:custGeom>
              <a:avLst/>
              <a:gdLst>
                <a:gd name="textAreaLeft" fmla="*/ 0 w 177120"/>
                <a:gd name="textAreaRight" fmla="*/ 177480 w 177120"/>
                <a:gd name="textAreaTop" fmla="*/ 0 h 53640"/>
                <a:gd name="textAreaBottom" fmla="*/ 54000 h 53640"/>
              </a:gdLst>
              <a:ahLst/>
              <a:rect l="textAreaLeft" t="textAreaTop" r="textAreaRight" b="textAreaBottom"/>
              <a:pathLst>
                <a:path w="983" h="354">
                  <a:moveTo>
                    <a:pt x="55" y="323"/>
                  </a:moveTo>
                  <a:lnTo>
                    <a:pt x="596" y="268"/>
                  </a:lnTo>
                  <a:lnTo>
                    <a:pt x="609" y="271"/>
                  </a:lnTo>
                  <a:lnTo>
                    <a:pt x="644" y="281"/>
                  </a:lnTo>
                  <a:lnTo>
                    <a:pt x="666" y="285"/>
                  </a:lnTo>
                  <a:lnTo>
                    <a:pt x="691" y="291"/>
                  </a:lnTo>
                  <a:lnTo>
                    <a:pt x="718" y="296"/>
                  </a:lnTo>
                  <a:lnTo>
                    <a:pt x="743" y="299"/>
                  </a:lnTo>
                  <a:lnTo>
                    <a:pt x="752" y="301"/>
                  </a:lnTo>
                  <a:lnTo>
                    <a:pt x="761" y="303"/>
                  </a:lnTo>
                  <a:lnTo>
                    <a:pt x="769" y="306"/>
                  </a:lnTo>
                  <a:lnTo>
                    <a:pt x="777" y="310"/>
                  </a:lnTo>
                  <a:lnTo>
                    <a:pt x="792" y="319"/>
                  </a:lnTo>
                  <a:lnTo>
                    <a:pt x="806" y="329"/>
                  </a:lnTo>
                  <a:lnTo>
                    <a:pt x="827" y="346"/>
                  </a:lnTo>
                  <a:lnTo>
                    <a:pt x="836" y="354"/>
                  </a:lnTo>
                  <a:lnTo>
                    <a:pt x="857" y="347"/>
                  </a:lnTo>
                  <a:lnTo>
                    <a:pt x="881" y="340"/>
                  </a:lnTo>
                  <a:lnTo>
                    <a:pt x="909" y="333"/>
                  </a:lnTo>
                  <a:lnTo>
                    <a:pt x="936" y="325"/>
                  </a:lnTo>
                  <a:lnTo>
                    <a:pt x="948" y="320"/>
                  </a:lnTo>
                  <a:lnTo>
                    <a:pt x="959" y="316"/>
                  </a:lnTo>
                  <a:lnTo>
                    <a:pt x="969" y="310"/>
                  </a:lnTo>
                  <a:lnTo>
                    <a:pt x="976" y="304"/>
                  </a:lnTo>
                  <a:lnTo>
                    <a:pt x="978" y="302"/>
                  </a:lnTo>
                  <a:lnTo>
                    <a:pt x="980" y="298"/>
                  </a:lnTo>
                  <a:lnTo>
                    <a:pt x="982" y="295"/>
                  </a:lnTo>
                  <a:lnTo>
                    <a:pt x="983" y="291"/>
                  </a:lnTo>
                  <a:lnTo>
                    <a:pt x="982" y="288"/>
                  </a:lnTo>
                  <a:lnTo>
                    <a:pt x="982" y="284"/>
                  </a:lnTo>
                  <a:lnTo>
                    <a:pt x="979" y="281"/>
                  </a:lnTo>
                  <a:lnTo>
                    <a:pt x="977" y="276"/>
                  </a:lnTo>
                  <a:lnTo>
                    <a:pt x="970" y="265"/>
                  </a:lnTo>
                  <a:lnTo>
                    <a:pt x="965" y="255"/>
                  </a:lnTo>
                  <a:lnTo>
                    <a:pt x="962" y="244"/>
                  </a:lnTo>
                  <a:lnTo>
                    <a:pt x="961" y="234"/>
                  </a:lnTo>
                  <a:lnTo>
                    <a:pt x="962" y="213"/>
                  </a:lnTo>
                  <a:lnTo>
                    <a:pt x="965" y="194"/>
                  </a:lnTo>
                  <a:lnTo>
                    <a:pt x="966" y="185"/>
                  </a:lnTo>
                  <a:lnTo>
                    <a:pt x="968" y="177"/>
                  </a:lnTo>
                  <a:lnTo>
                    <a:pt x="968" y="170"/>
                  </a:lnTo>
                  <a:lnTo>
                    <a:pt x="966" y="164"/>
                  </a:lnTo>
                  <a:lnTo>
                    <a:pt x="964" y="159"/>
                  </a:lnTo>
                  <a:lnTo>
                    <a:pt x="961" y="156"/>
                  </a:lnTo>
                  <a:lnTo>
                    <a:pt x="954" y="153"/>
                  </a:lnTo>
                  <a:lnTo>
                    <a:pt x="945" y="152"/>
                  </a:lnTo>
                  <a:lnTo>
                    <a:pt x="933" y="153"/>
                  </a:lnTo>
                  <a:lnTo>
                    <a:pt x="922" y="155"/>
                  </a:lnTo>
                  <a:lnTo>
                    <a:pt x="910" y="157"/>
                  </a:lnTo>
                  <a:lnTo>
                    <a:pt x="900" y="159"/>
                  </a:lnTo>
                  <a:lnTo>
                    <a:pt x="878" y="167"/>
                  </a:lnTo>
                  <a:lnTo>
                    <a:pt x="854" y="176"/>
                  </a:lnTo>
                  <a:lnTo>
                    <a:pt x="831" y="184"/>
                  </a:lnTo>
                  <a:lnTo>
                    <a:pt x="805" y="192"/>
                  </a:lnTo>
                  <a:lnTo>
                    <a:pt x="790" y="194"/>
                  </a:lnTo>
                  <a:lnTo>
                    <a:pt x="776" y="197"/>
                  </a:lnTo>
                  <a:lnTo>
                    <a:pt x="760" y="198"/>
                  </a:lnTo>
                  <a:lnTo>
                    <a:pt x="743" y="199"/>
                  </a:lnTo>
                  <a:lnTo>
                    <a:pt x="727" y="198"/>
                  </a:lnTo>
                  <a:lnTo>
                    <a:pt x="713" y="194"/>
                  </a:lnTo>
                  <a:lnTo>
                    <a:pt x="701" y="190"/>
                  </a:lnTo>
                  <a:lnTo>
                    <a:pt x="691" y="185"/>
                  </a:lnTo>
                  <a:lnTo>
                    <a:pt x="672" y="170"/>
                  </a:lnTo>
                  <a:lnTo>
                    <a:pt x="655" y="155"/>
                  </a:lnTo>
                  <a:lnTo>
                    <a:pt x="645" y="146"/>
                  </a:lnTo>
                  <a:lnTo>
                    <a:pt x="636" y="139"/>
                  </a:lnTo>
                  <a:lnTo>
                    <a:pt x="624" y="132"/>
                  </a:lnTo>
                  <a:lnTo>
                    <a:pt x="613" y="126"/>
                  </a:lnTo>
                  <a:lnTo>
                    <a:pt x="599" y="123"/>
                  </a:lnTo>
                  <a:lnTo>
                    <a:pt x="582" y="119"/>
                  </a:lnTo>
                  <a:lnTo>
                    <a:pt x="563" y="119"/>
                  </a:lnTo>
                  <a:lnTo>
                    <a:pt x="541" y="121"/>
                  </a:lnTo>
                  <a:lnTo>
                    <a:pt x="548" y="110"/>
                  </a:lnTo>
                  <a:lnTo>
                    <a:pt x="554" y="100"/>
                  </a:lnTo>
                  <a:lnTo>
                    <a:pt x="558" y="89"/>
                  </a:lnTo>
                  <a:lnTo>
                    <a:pt x="560" y="80"/>
                  </a:lnTo>
                  <a:lnTo>
                    <a:pt x="561" y="72"/>
                  </a:lnTo>
                  <a:lnTo>
                    <a:pt x="561" y="62"/>
                  </a:lnTo>
                  <a:lnTo>
                    <a:pt x="558" y="55"/>
                  </a:lnTo>
                  <a:lnTo>
                    <a:pt x="554" y="47"/>
                  </a:lnTo>
                  <a:lnTo>
                    <a:pt x="548" y="40"/>
                  </a:lnTo>
                  <a:lnTo>
                    <a:pt x="540" y="33"/>
                  </a:lnTo>
                  <a:lnTo>
                    <a:pt x="530" y="27"/>
                  </a:lnTo>
                  <a:lnTo>
                    <a:pt x="518" y="21"/>
                  </a:lnTo>
                  <a:lnTo>
                    <a:pt x="504" y="16"/>
                  </a:lnTo>
                  <a:lnTo>
                    <a:pt x="489" y="10"/>
                  </a:lnTo>
                  <a:lnTo>
                    <a:pt x="470" y="5"/>
                  </a:lnTo>
                  <a:lnTo>
                    <a:pt x="449" y="0"/>
                  </a:lnTo>
                  <a:lnTo>
                    <a:pt x="109" y="158"/>
                  </a:lnTo>
                  <a:lnTo>
                    <a:pt x="0" y="199"/>
                  </a:lnTo>
                  <a:lnTo>
                    <a:pt x="0" y="299"/>
                  </a:lnTo>
                  <a:lnTo>
                    <a:pt x="55" y="323"/>
                  </a:lnTo>
                  <a:close/>
                </a:path>
              </a:pathLst>
            </a:custGeom>
            <a:solidFill>
              <a:srgbClr val="93d5ed"/>
            </a:solidFill>
            <a:ln w="9360">
              <a:solidFill>
                <a:srgbClr val="ccecff"/>
              </a:solidFill>
              <a:round/>
            </a:ln>
          </p:spPr>
          <p:style>
            <a:lnRef idx="0"/>
            <a:fillRef idx="0"/>
            <a:effectRef idx="0"/>
            <a:fontRef idx="minor"/>
          </p:style>
          <p:txBody>
            <a:bodyPr lIns="90000" rIns="90000" tIns="7200" bIns="7200" anchor="t">
              <a:noAutofit/>
            </a:bodyPr>
            <a:p>
              <a:endParaRPr b="1" lang="en-US" sz="2400" spc="-1" strike="noStrike">
                <a:solidFill>
                  <a:srgbClr val="ffffff"/>
                </a:solidFill>
                <a:latin typeface="Times New Roman"/>
              </a:endParaRPr>
            </a:p>
          </p:txBody>
        </p:sp>
        <p:sp>
          <p:nvSpPr>
            <p:cNvPr id="423" name="Freeform 1530"/>
            <p:cNvSpPr/>
            <p:nvPr/>
          </p:nvSpPr>
          <p:spPr>
            <a:xfrm>
              <a:off x="5416200" y="4797360"/>
              <a:ext cx="223560" cy="61200"/>
            </a:xfrm>
            <a:custGeom>
              <a:avLst/>
              <a:gdLst>
                <a:gd name="textAreaLeft" fmla="*/ 0 w 223560"/>
                <a:gd name="textAreaRight" fmla="*/ 223920 w 223560"/>
                <a:gd name="textAreaTop" fmla="*/ 0 h 61200"/>
                <a:gd name="textAreaBottom" fmla="*/ 61560 h 61200"/>
              </a:gdLst>
              <a:ahLst/>
              <a:rect l="textAreaLeft" t="textAreaTop" r="textAreaRight" b="textAreaBottom"/>
              <a:pathLst>
                <a:path w="1244" h="409">
                  <a:moveTo>
                    <a:pt x="933" y="193"/>
                  </a:moveTo>
                  <a:lnTo>
                    <a:pt x="971" y="223"/>
                  </a:lnTo>
                  <a:lnTo>
                    <a:pt x="1011" y="254"/>
                  </a:lnTo>
                  <a:lnTo>
                    <a:pt x="1053" y="283"/>
                  </a:lnTo>
                  <a:lnTo>
                    <a:pt x="1095" y="313"/>
                  </a:lnTo>
                  <a:lnTo>
                    <a:pt x="1137" y="341"/>
                  </a:lnTo>
                  <a:lnTo>
                    <a:pt x="1176" y="367"/>
                  </a:lnTo>
                  <a:lnTo>
                    <a:pt x="1213" y="389"/>
                  </a:lnTo>
                  <a:lnTo>
                    <a:pt x="1244" y="409"/>
                  </a:lnTo>
                  <a:lnTo>
                    <a:pt x="1065" y="401"/>
                  </a:lnTo>
                  <a:lnTo>
                    <a:pt x="1063" y="396"/>
                  </a:lnTo>
                  <a:lnTo>
                    <a:pt x="1060" y="393"/>
                  </a:lnTo>
                  <a:lnTo>
                    <a:pt x="1056" y="390"/>
                  </a:lnTo>
                  <a:lnTo>
                    <a:pt x="1051" y="389"/>
                  </a:lnTo>
                  <a:lnTo>
                    <a:pt x="1041" y="386"/>
                  </a:lnTo>
                  <a:lnTo>
                    <a:pt x="1028" y="384"/>
                  </a:lnTo>
                  <a:lnTo>
                    <a:pt x="998" y="384"/>
                  </a:lnTo>
                  <a:lnTo>
                    <a:pt x="964" y="383"/>
                  </a:lnTo>
                  <a:lnTo>
                    <a:pt x="945" y="382"/>
                  </a:lnTo>
                  <a:lnTo>
                    <a:pt x="926" y="377"/>
                  </a:lnTo>
                  <a:lnTo>
                    <a:pt x="917" y="375"/>
                  </a:lnTo>
                  <a:lnTo>
                    <a:pt x="908" y="372"/>
                  </a:lnTo>
                  <a:lnTo>
                    <a:pt x="898" y="367"/>
                  </a:lnTo>
                  <a:lnTo>
                    <a:pt x="890" y="362"/>
                  </a:lnTo>
                  <a:lnTo>
                    <a:pt x="881" y="356"/>
                  </a:lnTo>
                  <a:lnTo>
                    <a:pt x="873" y="349"/>
                  </a:lnTo>
                  <a:lnTo>
                    <a:pt x="863" y="341"/>
                  </a:lnTo>
                  <a:lnTo>
                    <a:pt x="856" y="333"/>
                  </a:lnTo>
                  <a:lnTo>
                    <a:pt x="848" y="323"/>
                  </a:lnTo>
                  <a:lnTo>
                    <a:pt x="840" y="312"/>
                  </a:lnTo>
                  <a:lnTo>
                    <a:pt x="833" y="299"/>
                  </a:lnTo>
                  <a:lnTo>
                    <a:pt x="827" y="285"/>
                  </a:lnTo>
                  <a:lnTo>
                    <a:pt x="815" y="279"/>
                  </a:lnTo>
                  <a:lnTo>
                    <a:pt x="806" y="272"/>
                  </a:lnTo>
                  <a:lnTo>
                    <a:pt x="799" y="266"/>
                  </a:lnTo>
                  <a:lnTo>
                    <a:pt x="793" y="259"/>
                  </a:lnTo>
                  <a:lnTo>
                    <a:pt x="784" y="247"/>
                  </a:lnTo>
                  <a:lnTo>
                    <a:pt x="777" y="235"/>
                  </a:lnTo>
                  <a:lnTo>
                    <a:pt x="775" y="229"/>
                  </a:lnTo>
                  <a:lnTo>
                    <a:pt x="771" y="223"/>
                  </a:lnTo>
                  <a:lnTo>
                    <a:pt x="768" y="219"/>
                  </a:lnTo>
                  <a:lnTo>
                    <a:pt x="763" y="215"/>
                  </a:lnTo>
                  <a:lnTo>
                    <a:pt x="758" y="212"/>
                  </a:lnTo>
                  <a:lnTo>
                    <a:pt x="751" y="209"/>
                  </a:lnTo>
                  <a:lnTo>
                    <a:pt x="744" y="208"/>
                  </a:lnTo>
                  <a:lnTo>
                    <a:pt x="735" y="207"/>
                  </a:lnTo>
                  <a:lnTo>
                    <a:pt x="723" y="209"/>
                  </a:lnTo>
                  <a:lnTo>
                    <a:pt x="713" y="209"/>
                  </a:lnTo>
                  <a:lnTo>
                    <a:pt x="702" y="208"/>
                  </a:lnTo>
                  <a:lnTo>
                    <a:pt x="692" y="205"/>
                  </a:lnTo>
                  <a:lnTo>
                    <a:pt x="668" y="195"/>
                  </a:lnTo>
                  <a:lnTo>
                    <a:pt x="639" y="184"/>
                  </a:lnTo>
                  <a:lnTo>
                    <a:pt x="622" y="178"/>
                  </a:lnTo>
                  <a:lnTo>
                    <a:pt x="601" y="172"/>
                  </a:lnTo>
                  <a:lnTo>
                    <a:pt x="577" y="168"/>
                  </a:lnTo>
                  <a:lnTo>
                    <a:pt x="549" y="165"/>
                  </a:lnTo>
                  <a:lnTo>
                    <a:pt x="518" y="164"/>
                  </a:lnTo>
                  <a:lnTo>
                    <a:pt x="481" y="164"/>
                  </a:lnTo>
                  <a:lnTo>
                    <a:pt x="440" y="165"/>
                  </a:lnTo>
                  <a:lnTo>
                    <a:pt x="395" y="170"/>
                  </a:lnTo>
                  <a:lnTo>
                    <a:pt x="370" y="168"/>
                  </a:lnTo>
                  <a:lnTo>
                    <a:pt x="354" y="167"/>
                  </a:lnTo>
                  <a:lnTo>
                    <a:pt x="341" y="168"/>
                  </a:lnTo>
                  <a:lnTo>
                    <a:pt x="330" y="168"/>
                  </a:lnTo>
                  <a:lnTo>
                    <a:pt x="317" y="170"/>
                  </a:lnTo>
                  <a:lnTo>
                    <a:pt x="297" y="168"/>
                  </a:lnTo>
                  <a:lnTo>
                    <a:pt x="270" y="166"/>
                  </a:lnTo>
                  <a:lnTo>
                    <a:pt x="230" y="161"/>
                  </a:lnTo>
                  <a:lnTo>
                    <a:pt x="220" y="160"/>
                  </a:lnTo>
                  <a:lnTo>
                    <a:pt x="209" y="160"/>
                  </a:lnTo>
                  <a:lnTo>
                    <a:pt x="199" y="161"/>
                  </a:lnTo>
                  <a:lnTo>
                    <a:pt x="191" y="164"/>
                  </a:lnTo>
                  <a:lnTo>
                    <a:pt x="182" y="166"/>
                  </a:lnTo>
                  <a:lnTo>
                    <a:pt x="174" y="170"/>
                  </a:lnTo>
                  <a:lnTo>
                    <a:pt x="167" y="174"/>
                  </a:lnTo>
                  <a:lnTo>
                    <a:pt x="160" y="178"/>
                  </a:lnTo>
                  <a:lnTo>
                    <a:pt x="137" y="198"/>
                  </a:lnTo>
                  <a:lnTo>
                    <a:pt x="117" y="215"/>
                  </a:lnTo>
                  <a:lnTo>
                    <a:pt x="112" y="217"/>
                  </a:lnTo>
                  <a:lnTo>
                    <a:pt x="108" y="221"/>
                  </a:lnTo>
                  <a:lnTo>
                    <a:pt x="103" y="223"/>
                  </a:lnTo>
                  <a:lnTo>
                    <a:pt x="97" y="224"/>
                  </a:lnTo>
                  <a:lnTo>
                    <a:pt x="91" y="224"/>
                  </a:lnTo>
                  <a:lnTo>
                    <a:pt x="85" y="223"/>
                  </a:lnTo>
                  <a:lnTo>
                    <a:pt x="80" y="222"/>
                  </a:lnTo>
                  <a:lnTo>
                    <a:pt x="74" y="219"/>
                  </a:lnTo>
                  <a:lnTo>
                    <a:pt x="67" y="214"/>
                  </a:lnTo>
                  <a:lnTo>
                    <a:pt x="59" y="209"/>
                  </a:lnTo>
                  <a:lnTo>
                    <a:pt x="50" y="201"/>
                  </a:lnTo>
                  <a:lnTo>
                    <a:pt x="42" y="193"/>
                  </a:lnTo>
                  <a:lnTo>
                    <a:pt x="22" y="170"/>
                  </a:lnTo>
                  <a:lnTo>
                    <a:pt x="0" y="138"/>
                  </a:lnTo>
                  <a:lnTo>
                    <a:pt x="942" y="0"/>
                  </a:lnTo>
                  <a:lnTo>
                    <a:pt x="1057" y="98"/>
                  </a:lnTo>
                  <a:lnTo>
                    <a:pt x="1025" y="110"/>
                  </a:lnTo>
                  <a:lnTo>
                    <a:pt x="995" y="124"/>
                  </a:lnTo>
                  <a:lnTo>
                    <a:pt x="983" y="131"/>
                  </a:lnTo>
                  <a:lnTo>
                    <a:pt x="971" y="138"/>
                  </a:lnTo>
                  <a:lnTo>
                    <a:pt x="961" y="144"/>
                  </a:lnTo>
                  <a:lnTo>
                    <a:pt x="952" y="151"/>
                  </a:lnTo>
                  <a:lnTo>
                    <a:pt x="944" y="158"/>
                  </a:lnTo>
                  <a:lnTo>
                    <a:pt x="938" y="164"/>
                  </a:lnTo>
                  <a:lnTo>
                    <a:pt x="933" y="170"/>
                  </a:lnTo>
                  <a:lnTo>
                    <a:pt x="930" y="175"/>
                  </a:lnTo>
                  <a:lnTo>
                    <a:pt x="928" y="180"/>
                  </a:lnTo>
                  <a:lnTo>
                    <a:pt x="928" y="185"/>
                  </a:lnTo>
                  <a:lnTo>
                    <a:pt x="930" y="189"/>
                  </a:lnTo>
                  <a:lnTo>
                    <a:pt x="933" y="193"/>
                  </a:lnTo>
                  <a:close/>
                </a:path>
              </a:pathLst>
            </a:custGeom>
            <a:solidFill>
              <a:srgbClr val="93d5ed"/>
            </a:solidFill>
            <a:ln w="9360">
              <a:solidFill>
                <a:srgbClr val="ccecff"/>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Times New Roman"/>
              </a:endParaRPr>
            </a:p>
          </p:txBody>
        </p:sp>
        <p:sp>
          <p:nvSpPr>
            <p:cNvPr id="424" name="Freeform 1531"/>
            <p:cNvSpPr/>
            <p:nvPr/>
          </p:nvSpPr>
          <p:spPr>
            <a:xfrm>
              <a:off x="5593320" y="4690800"/>
              <a:ext cx="103320" cy="44640"/>
            </a:xfrm>
            <a:custGeom>
              <a:avLst/>
              <a:gdLst>
                <a:gd name="textAreaLeft" fmla="*/ 0 w 103320"/>
                <a:gd name="textAreaRight" fmla="*/ 103680 w 103320"/>
                <a:gd name="textAreaTop" fmla="*/ 0 h 44640"/>
                <a:gd name="textAreaBottom" fmla="*/ 44640 h 44640"/>
              </a:gdLst>
              <a:ahLst/>
              <a:rect l="textAreaLeft" t="textAreaTop" r="textAreaRight" b="textAreaBottom"/>
              <a:pathLst>
                <a:path w="573" h="294">
                  <a:moveTo>
                    <a:pt x="573" y="116"/>
                  </a:moveTo>
                  <a:lnTo>
                    <a:pt x="547" y="124"/>
                  </a:lnTo>
                  <a:lnTo>
                    <a:pt x="521" y="132"/>
                  </a:lnTo>
                  <a:lnTo>
                    <a:pt x="496" y="140"/>
                  </a:lnTo>
                  <a:lnTo>
                    <a:pt x="470" y="150"/>
                  </a:lnTo>
                  <a:lnTo>
                    <a:pt x="442" y="159"/>
                  </a:lnTo>
                  <a:lnTo>
                    <a:pt x="413" y="168"/>
                  </a:lnTo>
                  <a:lnTo>
                    <a:pt x="381" y="178"/>
                  </a:lnTo>
                  <a:lnTo>
                    <a:pt x="348" y="188"/>
                  </a:lnTo>
                  <a:lnTo>
                    <a:pt x="351" y="194"/>
                  </a:lnTo>
                  <a:lnTo>
                    <a:pt x="352" y="201"/>
                  </a:lnTo>
                  <a:lnTo>
                    <a:pt x="352" y="208"/>
                  </a:lnTo>
                  <a:lnTo>
                    <a:pt x="351" y="214"/>
                  </a:lnTo>
                  <a:lnTo>
                    <a:pt x="348" y="220"/>
                  </a:lnTo>
                  <a:lnTo>
                    <a:pt x="346" y="225"/>
                  </a:lnTo>
                  <a:lnTo>
                    <a:pt x="341" y="230"/>
                  </a:lnTo>
                  <a:lnTo>
                    <a:pt x="337" y="236"/>
                  </a:lnTo>
                  <a:lnTo>
                    <a:pt x="326" y="245"/>
                  </a:lnTo>
                  <a:lnTo>
                    <a:pt x="312" y="255"/>
                  </a:lnTo>
                  <a:lnTo>
                    <a:pt x="297" y="262"/>
                  </a:lnTo>
                  <a:lnTo>
                    <a:pt x="281" y="269"/>
                  </a:lnTo>
                  <a:lnTo>
                    <a:pt x="248" y="280"/>
                  </a:lnTo>
                  <a:lnTo>
                    <a:pt x="219" y="289"/>
                  </a:lnTo>
                  <a:lnTo>
                    <a:pt x="198" y="292"/>
                  </a:lnTo>
                  <a:lnTo>
                    <a:pt x="190" y="294"/>
                  </a:lnTo>
                  <a:lnTo>
                    <a:pt x="0" y="47"/>
                  </a:lnTo>
                  <a:lnTo>
                    <a:pt x="478" y="0"/>
                  </a:lnTo>
                  <a:lnTo>
                    <a:pt x="573" y="116"/>
                  </a:lnTo>
                  <a:close/>
                </a:path>
              </a:pathLst>
            </a:custGeom>
            <a:solidFill>
              <a:srgbClr val="93d5ed"/>
            </a:solidFill>
            <a:ln w="9360">
              <a:solidFill>
                <a:srgbClr val="ccecff"/>
              </a:solidFill>
              <a:round/>
            </a:ln>
          </p:spPr>
          <p:style>
            <a:lnRef idx="0"/>
            <a:fillRef idx="0"/>
            <a:effectRef idx="0"/>
            <a:fontRef idx="minor"/>
          </p:style>
          <p:txBody>
            <a:bodyPr lIns="90000" rIns="90000" tIns="-2160" bIns="-2160" anchor="t">
              <a:noAutofit/>
            </a:bodyPr>
            <a:p>
              <a:endParaRPr b="1" lang="en-US" sz="2400" spc="-1" strike="noStrike">
                <a:solidFill>
                  <a:srgbClr val="ffffff"/>
                </a:solidFill>
                <a:latin typeface="Times New Roman"/>
              </a:endParaRPr>
            </a:p>
          </p:txBody>
        </p:sp>
        <p:sp>
          <p:nvSpPr>
            <p:cNvPr id="425" name="Freeform 1532"/>
            <p:cNvSpPr/>
            <p:nvPr/>
          </p:nvSpPr>
          <p:spPr>
            <a:xfrm>
              <a:off x="2709000" y="4553640"/>
              <a:ext cx="473760" cy="339840"/>
            </a:xfrm>
            <a:custGeom>
              <a:avLst/>
              <a:gdLst>
                <a:gd name="textAreaLeft" fmla="*/ 0 w 473760"/>
                <a:gd name="textAreaRight" fmla="*/ 474120 w 473760"/>
                <a:gd name="textAreaTop" fmla="*/ 0 h 339840"/>
                <a:gd name="textAreaBottom" fmla="*/ 340200 h 339840"/>
              </a:gdLst>
              <a:ahLst/>
              <a:rect l="textAreaLeft" t="textAreaTop" r="textAreaRight" b="textAreaBottom"/>
              <a:pathLst>
                <a:path w="14755" h="12586">
                  <a:moveTo>
                    <a:pt x="10804" y="9205"/>
                  </a:moveTo>
                  <a:lnTo>
                    <a:pt x="10829" y="9193"/>
                  </a:lnTo>
                  <a:lnTo>
                    <a:pt x="10894" y="9163"/>
                  </a:lnTo>
                  <a:lnTo>
                    <a:pt x="10939" y="9144"/>
                  </a:lnTo>
                  <a:lnTo>
                    <a:pt x="10988" y="9123"/>
                  </a:lnTo>
                  <a:lnTo>
                    <a:pt x="11014" y="9113"/>
                  </a:lnTo>
                  <a:lnTo>
                    <a:pt x="11041" y="9104"/>
                  </a:lnTo>
                  <a:lnTo>
                    <a:pt x="11069" y="9095"/>
                  </a:lnTo>
                  <a:lnTo>
                    <a:pt x="11097" y="9087"/>
                  </a:lnTo>
                  <a:lnTo>
                    <a:pt x="11125" y="9079"/>
                  </a:lnTo>
                  <a:lnTo>
                    <a:pt x="11153" y="9072"/>
                  </a:lnTo>
                  <a:lnTo>
                    <a:pt x="11181" y="9067"/>
                  </a:lnTo>
                  <a:lnTo>
                    <a:pt x="11210" y="9063"/>
                  </a:lnTo>
                  <a:lnTo>
                    <a:pt x="11237" y="9060"/>
                  </a:lnTo>
                  <a:lnTo>
                    <a:pt x="11263" y="9058"/>
                  </a:lnTo>
                  <a:lnTo>
                    <a:pt x="11288" y="9059"/>
                  </a:lnTo>
                  <a:lnTo>
                    <a:pt x="11312" y="9061"/>
                  </a:lnTo>
                  <a:lnTo>
                    <a:pt x="11336" y="9065"/>
                  </a:lnTo>
                  <a:lnTo>
                    <a:pt x="11357" y="9072"/>
                  </a:lnTo>
                  <a:lnTo>
                    <a:pt x="11376" y="9081"/>
                  </a:lnTo>
                  <a:lnTo>
                    <a:pt x="11394" y="9092"/>
                  </a:lnTo>
                  <a:lnTo>
                    <a:pt x="11409" y="9106"/>
                  </a:lnTo>
                  <a:lnTo>
                    <a:pt x="11422" y="9123"/>
                  </a:lnTo>
                  <a:lnTo>
                    <a:pt x="11433" y="9144"/>
                  </a:lnTo>
                  <a:lnTo>
                    <a:pt x="11442" y="9167"/>
                  </a:lnTo>
                  <a:lnTo>
                    <a:pt x="11451" y="9193"/>
                  </a:lnTo>
                  <a:lnTo>
                    <a:pt x="11465" y="9223"/>
                  </a:lnTo>
                  <a:lnTo>
                    <a:pt x="11484" y="9257"/>
                  </a:lnTo>
                  <a:lnTo>
                    <a:pt x="11506" y="9292"/>
                  </a:lnTo>
                  <a:lnTo>
                    <a:pt x="11532" y="9330"/>
                  </a:lnTo>
                  <a:lnTo>
                    <a:pt x="11561" y="9371"/>
                  </a:lnTo>
                  <a:lnTo>
                    <a:pt x="11594" y="9414"/>
                  </a:lnTo>
                  <a:lnTo>
                    <a:pt x="11629" y="9458"/>
                  </a:lnTo>
                  <a:lnTo>
                    <a:pt x="11666" y="9505"/>
                  </a:lnTo>
                  <a:lnTo>
                    <a:pt x="11706" y="9552"/>
                  </a:lnTo>
                  <a:lnTo>
                    <a:pt x="11746" y="9600"/>
                  </a:lnTo>
                  <a:lnTo>
                    <a:pt x="11788" y="9649"/>
                  </a:lnTo>
                  <a:lnTo>
                    <a:pt x="11876" y="9747"/>
                  </a:lnTo>
                  <a:lnTo>
                    <a:pt x="11966" y="9843"/>
                  </a:lnTo>
                  <a:lnTo>
                    <a:pt x="12053" y="9938"/>
                  </a:lnTo>
                  <a:lnTo>
                    <a:pt x="12138" y="10027"/>
                  </a:lnTo>
                  <a:lnTo>
                    <a:pt x="12217" y="10108"/>
                  </a:lnTo>
                  <a:lnTo>
                    <a:pt x="12287" y="10179"/>
                  </a:lnTo>
                  <a:lnTo>
                    <a:pt x="12346" y="10239"/>
                  </a:lnTo>
                  <a:lnTo>
                    <a:pt x="12391" y="10284"/>
                  </a:lnTo>
                  <a:lnTo>
                    <a:pt x="12420" y="10312"/>
                  </a:lnTo>
                  <a:lnTo>
                    <a:pt x="12430" y="10322"/>
                  </a:lnTo>
                  <a:lnTo>
                    <a:pt x="13175" y="9774"/>
                  </a:lnTo>
                  <a:lnTo>
                    <a:pt x="14066" y="11645"/>
                  </a:lnTo>
                  <a:lnTo>
                    <a:pt x="14076" y="11683"/>
                  </a:lnTo>
                  <a:lnTo>
                    <a:pt x="14083" y="11716"/>
                  </a:lnTo>
                  <a:lnTo>
                    <a:pt x="14085" y="11732"/>
                  </a:lnTo>
                  <a:lnTo>
                    <a:pt x="14088" y="11747"/>
                  </a:lnTo>
                  <a:lnTo>
                    <a:pt x="14089" y="11761"/>
                  </a:lnTo>
                  <a:lnTo>
                    <a:pt x="14089" y="11776"/>
                  </a:lnTo>
                  <a:lnTo>
                    <a:pt x="14089" y="11790"/>
                  </a:lnTo>
                  <a:lnTo>
                    <a:pt x="14088" y="11803"/>
                  </a:lnTo>
                  <a:lnTo>
                    <a:pt x="14087" y="11816"/>
                  </a:lnTo>
                  <a:lnTo>
                    <a:pt x="14084" y="11829"/>
                  </a:lnTo>
                  <a:lnTo>
                    <a:pt x="14081" y="11841"/>
                  </a:lnTo>
                  <a:lnTo>
                    <a:pt x="14078" y="11853"/>
                  </a:lnTo>
                  <a:lnTo>
                    <a:pt x="14074" y="11866"/>
                  </a:lnTo>
                  <a:lnTo>
                    <a:pt x="14070" y="11878"/>
                  </a:lnTo>
                  <a:lnTo>
                    <a:pt x="14059" y="11904"/>
                  </a:lnTo>
                  <a:lnTo>
                    <a:pt x="14046" y="11929"/>
                  </a:lnTo>
                  <a:lnTo>
                    <a:pt x="14030" y="11956"/>
                  </a:lnTo>
                  <a:lnTo>
                    <a:pt x="14013" y="11984"/>
                  </a:lnTo>
                  <a:lnTo>
                    <a:pt x="13971" y="12049"/>
                  </a:lnTo>
                  <a:lnTo>
                    <a:pt x="13919" y="12125"/>
                  </a:lnTo>
                  <a:lnTo>
                    <a:pt x="13906" y="12148"/>
                  </a:lnTo>
                  <a:lnTo>
                    <a:pt x="13895" y="12170"/>
                  </a:lnTo>
                  <a:lnTo>
                    <a:pt x="13887" y="12192"/>
                  </a:lnTo>
                  <a:lnTo>
                    <a:pt x="13881" y="12213"/>
                  </a:lnTo>
                  <a:lnTo>
                    <a:pt x="13878" y="12234"/>
                  </a:lnTo>
                  <a:lnTo>
                    <a:pt x="13876" y="12256"/>
                  </a:lnTo>
                  <a:lnTo>
                    <a:pt x="13876" y="12277"/>
                  </a:lnTo>
                  <a:lnTo>
                    <a:pt x="13878" y="12297"/>
                  </a:lnTo>
                  <a:lnTo>
                    <a:pt x="13881" y="12317"/>
                  </a:lnTo>
                  <a:lnTo>
                    <a:pt x="13886" y="12337"/>
                  </a:lnTo>
                  <a:lnTo>
                    <a:pt x="13893" y="12356"/>
                  </a:lnTo>
                  <a:lnTo>
                    <a:pt x="13900" y="12375"/>
                  </a:lnTo>
                  <a:lnTo>
                    <a:pt x="13909" y="12394"/>
                  </a:lnTo>
                  <a:lnTo>
                    <a:pt x="13918" y="12411"/>
                  </a:lnTo>
                  <a:lnTo>
                    <a:pt x="13928" y="12428"/>
                  </a:lnTo>
                  <a:lnTo>
                    <a:pt x="13939" y="12444"/>
                  </a:lnTo>
                  <a:lnTo>
                    <a:pt x="13950" y="12460"/>
                  </a:lnTo>
                  <a:lnTo>
                    <a:pt x="13962" y="12475"/>
                  </a:lnTo>
                  <a:lnTo>
                    <a:pt x="13974" y="12490"/>
                  </a:lnTo>
                  <a:lnTo>
                    <a:pt x="13986" y="12503"/>
                  </a:lnTo>
                  <a:lnTo>
                    <a:pt x="14008" y="12527"/>
                  </a:lnTo>
                  <a:lnTo>
                    <a:pt x="14030" y="12548"/>
                  </a:lnTo>
                  <a:lnTo>
                    <a:pt x="14063" y="12576"/>
                  </a:lnTo>
                  <a:lnTo>
                    <a:pt x="14076" y="12586"/>
                  </a:lnTo>
                  <a:lnTo>
                    <a:pt x="14084" y="12577"/>
                  </a:lnTo>
                  <a:lnTo>
                    <a:pt x="14108" y="12552"/>
                  </a:lnTo>
                  <a:lnTo>
                    <a:pt x="14143" y="12513"/>
                  </a:lnTo>
                  <a:lnTo>
                    <a:pt x="14188" y="12461"/>
                  </a:lnTo>
                  <a:lnTo>
                    <a:pt x="14243" y="12399"/>
                  </a:lnTo>
                  <a:lnTo>
                    <a:pt x="14303" y="12329"/>
                  </a:lnTo>
                  <a:lnTo>
                    <a:pt x="14367" y="12253"/>
                  </a:lnTo>
                  <a:lnTo>
                    <a:pt x="14432" y="12173"/>
                  </a:lnTo>
                  <a:lnTo>
                    <a:pt x="14466" y="12132"/>
                  </a:lnTo>
                  <a:lnTo>
                    <a:pt x="14498" y="12090"/>
                  </a:lnTo>
                  <a:lnTo>
                    <a:pt x="14529" y="12049"/>
                  </a:lnTo>
                  <a:lnTo>
                    <a:pt x="14560" y="12007"/>
                  </a:lnTo>
                  <a:lnTo>
                    <a:pt x="14589" y="11967"/>
                  </a:lnTo>
                  <a:lnTo>
                    <a:pt x="14617" y="11927"/>
                  </a:lnTo>
                  <a:lnTo>
                    <a:pt x="14643" y="11888"/>
                  </a:lnTo>
                  <a:lnTo>
                    <a:pt x="14667" y="11850"/>
                  </a:lnTo>
                  <a:lnTo>
                    <a:pt x="14689" y="11815"/>
                  </a:lnTo>
                  <a:lnTo>
                    <a:pt x="14707" y="11781"/>
                  </a:lnTo>
                  <a:lnTo>
                    <a:pt x="14725" y="11748"/>
                  </a:lnTo>
                  <a:lnTo>
                    <a:pt x="14737" y="11718"/>
                  </a:lnTo>
                  <a:lnTo>
                    <a:pt x="14747" y="11691"/>
                  </a:lnTo>
                  <a:lnTo>
                    <a:pt x="14753" y="11666"/>
                  </a:lnTo>
                  <a:lnTo>
                    <a:pt x="14755" y="11644"/>
                  </a:lnTo>
                  <a:lnTo>
                    <a:pt x="14752" y="11626"/>
                  </a:lnTo>
                  <a:lnTo>
                    <a:pt x="14735" y="11614"/>
                  </a:lnTo>
                  <a:lnTo>
                    <a:pt x="14689" y="11581"/>
                  </a:lnTo>
                  <a:lnTo>
                    <a:pt x="14658" y="11556"/>
                  </a:lnTo>
                  <a:lnTo>
                    <a:pt x="14624" y="11525"/>
                  </a:lnTo>
                  <a:lnTo>
                    <a:pt x="14605" y="11508"/>
                  </a:lnTo>
                  <a:lnTo>
                    <a:pt x="14585" y="11489"/>
                  </a:lnTo>
                  <a:lnTo>
                    <a:pt x="14565" y="11470"/>
                  </a:lnTo>
                  <a:lnTo>
                    <a:pt x="14545" y="11449"/>
                  </a:lnTo>
                  <a:lnTo>
                    <a:pt x="14525" y="11426"/>
                  </a:lnTo>
                  <a:lnTo>
                    <a:pt x="14504" y="11402"/>
                  </a:lnTo>
                  <a:lnTo>
                    <a:pt x="14484" y="11377"/>
                  </a:lnTo>
                  <a:lnTo>
                    <a:pt x="14462" y="11351"/>
                  </a:lnTo>
                  <a:lnTo>
                    <a:pt x="14442" y="11324"/>
                  </a:lnTo>
                  <a:lnTo>
                    <a:pt x="14422" y="11295"/>
                  </a:lnTo>
                  <a:lnTo>
                    <a:pt x="14403" y="11264"/>
                  </a:lnTo>
                  <a:lnTo>
                    <a:pt x="14384" y="11233"/>
                  </a:lnTo>
                  <a:lnTo>
                    <a:pt x="14366" y="11201"/>
                  </a:lnTo>
                  <a:lnTo>
                    <a:pt x="14350" y="11167"/>
                  </a:lnTo>
                  <a:lnTo>
                    <a:pt x="14332" y="11132"/>
                  </a:lnTo>
                  <a:lnTo>
                    <a:pt x="14318" y="11096"/>
                  </a:lnTo>
                  <a:lnTo>
                    <a:pt x="14304" y="11059"/>
                  </a:lnTo>
                  <a:lnTo>
                    <a:pt x="14292" y="11020"/>
                  </a:lnTo>
                  <a:lnTo>
                    <a:pt x="14281" y="10981"/>
                  </a:lnTo>
                  <a:lnTo>
                    <a:pt x="14272" y="10940"/>
                  </a:lnTo>
                  <a:lnTo>
                    <a:pt x="14265" y="10923"/>
                  </a:lnTo>
                  <a:lnTo>
                    <a:pt x="14243" y="10875"/>
                  </a:lnTo>
                  <a:lnTo>
                    <a:pt x="14207" y="10800"/>
                  </a:lnTo>
                  <a:lnTo>
                    <a:pt x="14161" y="10704"/>
                  </a:lnTo>
                  <a:lnTo>
                    <a:pt x="14106" y="10588"/>
                  </a:lnTo>
                  <a:lnTo>
                    <a:pt x="14041" y="10458"/>
                  </a:lnTo>
                  <a:lnTo>
                    <a:pt x="13970" y="10317"/>
                  </a:lnTo>
                  <a:lnTo>
                    <a:pt x="13893" y="10171"/>
                  </a:lnTo>
                  <a:lnTo>
                    <a:pt x="13853" y="10097"/>
                  </a:lnTo>
                  <a:lnTo>
                    <a:pt x="13811" y="10023"/>
                  </a:lnTo>
                  <a:lnTo>
                    <a:pt x="13770" y="9949"/>
                  </a:lnTo>
                  <a:lnTo>
                    <a:pt x="13729" y="9877"/>
                  </a:lnTo>
                  <a:lnTo>
                    <a:pt x="13686" y="9806"/>
                  </a:lnTo>
                  <a:lnTo>
                    <a:pt x="13645" y="9738"/>
                  </a:lnTo>
                  <a:lnTo>
                    <a:pt x="13603" y="9672"/>
                  </a:lnTo>
                  <a:lnTo>
                    <a:pt x="13561" y="9608"/>
                  </a:lnTo>
                  <a:lnTo>
                    <a:pt x="13520" y="9550"/>
                  </a:lnTo>
                  <a:lnTo>
                    <a:pt x="13480" y="9496"/>
                  </a:lnTo>
                  <a:lnTo>
                    <a:pt x="13440" y="9445"/>
                  </a:lnTo>
                  <a:lnTo>
                    <a:pt x="13402" y="9400"/>
                  </a:lnTo>
                  <a:lnTo>
                    <a:pt x="13365" y="9361"/>
                  </a:lnTo>
                  <a:lnTo>
                    <a:pt x="13329" y="9328"/>
                  </a:lnTo>
                  <a:lnTo>
                    <a:pt x="13295" y="9303"/>
                  </a:lnTo>
                  <a:lnTo>
                    <a:pt x="13263" y="9284"/>
                  </a:lnTo>
                  <a:lnTo>
                    <a:pt x="13257" y="9287"/>
                  </a:lnTo>
                  <a:lnTo>
                    <a:pt x="13240" y="9296"/>
                  </a:lnTo>
                  <a:lnTo>
                    <a:pt x="13213" y="9308"/>
                  </a:lnTo>
                  <a:lnTo>
                    <a:pt x="13176" y="9325"/>
                  </a:lnTo>
                  <a:lnTo>
                    <a:pt x="13132" y="9345"/>
                  </a:lnTo>
                  <a:lnTo>
                    <a:pt x="13081" y="9367"/>
                  </a:lnTo>
                  <a:lnTo>
                    <a:pt x="13023" y="9392"/>
                  </a:lnTo>
                  <a:lnTo>
                    <a:pt x="12961" y="9416"/>
                  </a:lnTo>
                  <a:lnTo>
                    <a:pt x="12894" y="9441"/>
                  </a:lnTo>
                  <a:lnTo>
                    <a:pt x="12824" y="9465"/>
                  </a:lnTo>
                  <a:lnTo>
                    <a:pt x="12789" y="9476"/>
                  </a:lnTo>
                  <a:lnTo>
                    <a:pt x="12753" y="9487"/>
                  </a:lnTo>
                  <a:lnTo>
                    <a:pt x="12717" y="9498"/>
                  </a:lnTo>
                  <a:lnTo>
                    <a:pt x="12680" y="9508"/>
                  </a:lnTo>
                  <a:lnTo>
                    <a:pt x="12644" y="9516"/>
                  </a:lnTo>
                  <a:lnTo>
                    <a:pt x="12608" y="9524"/>
                  </a:lnTo>
                  <a:lnTo>
                    <a:pt x="12572" y="9531"/>
                  </a:lnTo>
                  <a:lnTo>
                    <a:pt x="12536" y="9537"/>
                  </a:lnTo>
                  <a:lnTo>
                    <a:pt x="12502" y="9542"/>
                  </a:lnTo>
                  <a:lnTo>
                    <a:pt x="12468" y="9546"/>
                  </a:lnTo>
                  <a:lnTo>
                    <a:pt x="12433" y="9548"/>
                  </a:lnTo>
                  <a:lnTo>
                    <a:pt x="12401" y="9549"/>
                  </a:lnTo>
                  <a:lnTo>
                    <a:pt x="12391" y="9540"/>
                  </a:lnTo>
                  <a:lnTo>
                    <a:pt x="12361" y="9514"/>
                  </a:lnTo>
                  <a:lnTo>
                    <a:pt x="12313" y="9472"/>
                  </a:lnTo>
                  <a:lnTo>
                    <a:pt x="12252" y="9419"/>
                  </a:lnTo>
                  <a:lnTo>
                    <a:pt x="12177" y="9355"/>
                  </a:lnTo>
                  <a:lnTo>
                    <a:pt x="12092" y="9284"/>
                  </a:lnTo>
                  <a:lnTo>
                    <a:pt x="11999" y="9205"/>
                  </a:lnTo>
                  <a:lnTo>
                    <a:pt x="11899" y="9123"/>
                  </a:lnTo>
                  <a:lnTo>
                    <a:pt x="11795" y="9040"/>
                  </a:lnTo>
                  <a:lnTo>
                    <a:pt x="11690" y="8957"/>
                  </a:lnTo>
                  <a:lnTo>
                    <a:pt x="11638" y="8916"/>
                  </a:lnTo>
                  <a:lnTo>
                    <a:pt x="11586" y="8876"/>
                  </a:lnTo>
                  <a:lnTo>
                    <a:pt x="11534" y="8837"/>
                  </a:lnTo>
                  <a:lnTo>
                    <a:pt x="11484" y="8801"/>
                  </a:lnTo>
                  <a:lnTo>
                    <a:pt x="11434" y="8764"/>
                  </a:lnTo>
                  <a:lnTo>
                    <a:pt x="11387" y="8731"/>
                  </a:lnTo>
                  <a:lnTo>
                    <a:pt x="11341" y="8700"/>
                  </a:lnTo>
                  <a:lnTo>
                    <a:pt x="11296" y="8672"/>
                  </a:lnTo>
                  <a:lnTo>
                    <a:pt x="11255" y="8645"/>
                  </a:lnTo>
                  <a:lnTo>
                    <a:pt x="11216" y="8623"/>
                  </a:lnTo>
                  <a:lnTo>
                    <a:pt x="11180" y="8604"/>
                  </a:lnTo>
                  <a:lnTo>
                    <a:pt x="11147" y="8588"/>
                  </a:lnTo>
                  <a:lnTo>
                    <a:pt x="10736" y="8509"/>
                  </a:lnTo>
                  <a:lnTo>
                    <a:pt x="13782" y="1660"/>
                  </a:lnTo>
                  <a:lnTo>
                    <a:pt x="13780" y="1656"/>
                  </a:lnTo>
                  <a:lnTo>
                    <a:pt x="13771" y="1646"/>
                  </a:lnTo>
                  <a:lnTo>
                    <a:pt x="13757" y="1632"/>
                  </a:lnTo>
                  <a:lnTo>
                    <a:pt x="13737" y="1613"/>
                  </a:lnTo>
                  <a:lnTo>
                    <a:pt x="13725" y="1603"/>
                  </a:lnTo>
                  <a:lnTo>
                    <a:pt x="13710" y="1591"/>
                  </a:lnTo>
                  <a:lnTo>
                    <a:pt x="13694" y="1580"/>
                  </a:lnTo>
                  <a:lnTo>
                    <a:pt x="13676" y="1568"/>
                  </a:lnTo>
                  <a:lnTo>
                    <a:pt x="13657" y="1557"/>
                  </a:lnTo>
                  <a:lnTo>
                    <a:pt x="13636" y="1545"/>
                  </a:lnTo>
                  <a:lnTo>
                    <a:pt x="13613" y="1534"/>
                  </a:lnTo>
                  <a:lnTo>
                    <a:pt x="13588" y="1524"/>
                  </a:lnTo>
                  <a:lnTo>
                    <a:pt x="13560" y="1514"/>
                  </a:lnTo>
                  <a:lnTo>
                    <a:pt x="13532" y="1505"/>
                  </a:lnTo>
                  <a:lnTo>
                    <a:pt x="13501" y="1497"/>
                  </a:lnTo>
                  <a:lnTo>
                    <a:pt x="13468" y="1489"/>
                  </a:lnTo>
                  <a:lnTo>
                    <a:pt x="13433" y="1483"/>
                  </a:lnTo>
                  <a:lnTo>
                    <a:pt x="13396" y="1478"/>
                  </a:lnTo>
                  <a:lnTo>
                    <a:pt x="13357" y="1475"/>
                  </a:lnTo>
                  <a:lnTo>
                    <a:pt x="13315" y="1473"/>
                  </a:lnTo>
                  <a:lnTo>
                    <a:pt x="13272" y="1474"/>
                  </a:lnTo>
                  <a:lnTo>
                    <a:pt x="13226" y="1476"/>
                  </a:lnTo>
                  <a:lnTo>
                    <a:pt x="13177" y="1482"/>
                  </a:lnTo>
                  <a:lnTo>
                    <a:pt x="13127" y="1489"/>
                  </a:lnTo>
                  <a:lnTo>
                    <a:pt x="13074" y="1498"/>
                  </a:lnTo>
                  <a:lnTo>
                    <a:pt x="13019" y="1510"/>
                  </a:lnTo>
                  <a:lnTo>
                    <a:pt x="12961" y="1525"/>
                  </a:lnTo>
                  <a:lnTo>
                    <a:pt x="12901" y="1542"/>
                  </a:lnTo>
                  <a:lnTo>
                    <a:pt x="12894" y="1542"/>
                  </a:lnTo>
                  <a:lnTo>
                    <a:pt x="12873" y="1542"/>
                  </a:lnTo>
                  <a:lnTo>
                    <a:pt x="12841" y="1541"/>
                  </a:lnTo>
                  <a:lnTo>
                    <a:pt x="12798" y="1538"/>
                  </a:lnTo>
                  <a:lnTo>
                    <a:pt x="12747" y="1535"/>
                  </a:lnTo>
                  <a:lnTo>
                    <a:pt x="12688" y="1530"/>
                  </a:lnTo>
                  <a:lnTo>
                    <a:pt x="12624" y="1523"/>
                  </a:lnTo>
                  <a:lnTo>
                    <a:pt x="12554" y="1513"/>
                  </a:lnTo>
                  <a:lnTo>
                    <a:pt x="12518" y="1507"/>
                  </a:lnTo>
                  <a:lnTo>
                    <a:pt x="12482" y="1501"/>
                  </a:lnTo>
                  <a:lnTo>
                    <a:pt x="12444" y="1493"/>
                  </a:lnTo>
                  <a:lnTo>
                    <a:pt x="12407" y="1485"/>
                  </a:lnTo>
                  <a:lnTo>
                    <a:pt x="12370" y="1475"/>
                  </a:lnTo>
                  <a:lnTo>
                    <a:pt x="12334" y="1465"/>
                  </a:lnTo>
                  <a:lnTo>
                    <a:pt x="12296" y="1455"/>
                  </a:lnTo>
                  <a:lnTo>
                    <a:pt x="12260" y="1443"/>
                  </a:lnTo>
                  <a:lnTo>
                    <a:pt x="12225" y="1430"/>
                  </a:lnTo>
                  <a:lnTo>
                    <a:pt x="12189" y="1416"/>
                  </a:lnTo>
                  <a:lnTo>
                    <a:pt x="12156" y="1401"/>
                  </a:lnTo>
                  <a:lnTo>
                    <a:pt x="12124" y="1385"/>
                  </a:lnTo>
                  <a:lnTo>
                    <a:pt x="12093" y="1368"/>
                  </a:lnTo>
                  <a:lnTo>
                    <a:pt x="12062" y="1348"/>
                  </a:lnTo>
                  <a:lnTo>
                    <a:pt x="12035" y="1328"/>
                  </a:lnTo>
                  <a:lnTo>
                    <a:pt x="12009" y="1307"/>
                  </a:lnTo>
                  <a:lnTo>
                    <a:pt x="11983" y="1306"/>
                  </a:lnTo>
                  <a:lnTo>
                    <a:pt x="11911" y="1301"/>
                  </a:lnTo>
                  <a:lnTo>
                    <a:pt x="11864" y="1297"/>
                  </a:lnTo>
                  <a:lnTo>
                    <a:pt x="11810" y="1291"/>
                  </a:lnTo>
                  <a:lnTo>
                    <a:pt x="11782" y="1287"/>
                  </a:lnTo>
                  <a:lnTo>
                    <a:pt x="11753" y="1282"/>
                  </a:lnTo>
                  <a:lnTo>
                    <a:pt x="11724" y="1277"/>
                  </a:lnTo>
                  <a:lnTo>
                    <a:pt x="11695" y="1270"/>
                  </a:lnTo>
                  <a:lnTo>
                    <a:pt x="11665" y="1264"/>
                  </a:lnTo>
                  <a:lnTo>
                    <a:pt x="11636" y="1256"/>
                  </a:lnTo>
                  <a:lnTo>
                    <a:pt x="11607" y="1248"/>
                  </a:lnTo>
                  <a:lnTo>
                    <a:pt x="11579" y="1238"/>
                  </a:lnTo>
                  <a:lnTo>
                    <a:pt x="11550" y="1228"/>
                  </a:lnTo>
                  <a:lnTo>
                    <a:pt x="11524" y="1216"/>
                  </a:lnTo>
                  <a:lnTo>
                    <a:pt x="11500" y="1204"/>
                  </a:lnTo>
                  <a:lnTo>
                    <a:pt x="11476" y="1191"/>
                  </a:lnTo>
                  <a:lnTo>
                    <a:pt x="11455" y="1177"/>
                  </a:lnTo>
                  <a:lnTo>
                    <a:pt x="11434" y="1162"/>
                  </a:lnTo>
                  <a:lnTo>
                    <a:pt x="11417" y="1145"/>
                  </a:lnTo>
                  <a:lnTo>
                    <a:pt x="11403" y="1127"/>
                  </a:lnTo>
                  <a:lnTo>
                    <a:pt x="11390" y="1107"/>
                  </a:lnTo>
                  <a:lnTo>
                    <a:pt x="11381" y="1087"/>
                  </a:lnTo>
                  <a:lnTo>
                    <a:pt x="11375" y="1066"/>
                  </a:lnTo>
                  <a:lnTo>
                    <a:pt x="11373" y="1043"/>
                  </a:lnTo>
                  <a:lnTo>
                    <a:pt x="11362" y="1036"/>
                  </a:lnTo>
                  <a:lnTo>
                    <a:pt x="11331" y="1019"/>
                  </a:lnTo>
                  <a:lnTo>
                    <a:pt x="11308" y="1008"/>
                  </a:lnTo>
                  <a:lnTo>
                    <a:pt x="11282" y="994"/>
                  </a:lnTo>
                  <a:lnTo>
                    <a:pt x="11253" y="981"/>
                  </a:lnTo>
                  <a:lnTo>
                    <a:pt x="11221" y="966"/>
                  </a:lnTo>
                  <a:lnTo>
                    <a:pt x="11185" y="952"/>
                  </a:lnTo>
                  <a:lnTo>
                    <a:pt x="11148" y="937"/>
                  </a:lnTo>
                  <a:lnTo>
                    <a:pt x="11108" y="923"/>
                  </a:lnTo>
                  <a:lnTo>
                    <a:pt x="11067" y="910"/>
                  </a:lnTo>
                  <a:lnTo>
                    <a:pt x="11024" y="899"/>
                  </a:lnTo>
                  <a:lnTo>
                    <a:pt x="10981" y="889"/>
                  </a:lnTo>
                  <a:lnTo>
                    <a:pt x="10959" y="885"/>
                  </a:lnTo>
                  <a:lnTo>
                    <a:pt x="10937" y="881"/>
                  </a:lnTo>
                  <a:lnTo>
                    <a:pt x="10914" y="878"/>
                  </a:lnTo>
                  <a:lnTo>
                    <a:pt x="10892" y="875"/>
                  </a:lnTo>
                  <a:lnTo>
                    <a:pt x="10875" y="865"/>
                  </a:lnTo>
                  <a:lnTo>
                    <a:pt x="10830" y="839"/>
                  </a:lnTo>
                  <a:lnTo>
                    <a:pt x="10798" y="823"/>
                  </a:lnTo>
                  <a:lnTo>
                    <a:pt x="10762" y="805"/>
                  </a:lnTo>
                  <a:lnTo>
                    <a:pt x="10724" y="786"/>
                  </a:lnTo>
                  <a:lnTo>
                    <a:pt x="10681" y="768"/>
                  </a:lnTo>
                  <a:lnTo>
                    <a:pt x="10660" y="759"/>
                  </a:lnTo>
                  <a:lnTo>
                    <a:pt x="10639" y="751"/>
                  </a:lnTo>
                  <a:lnTo>
                    <a:pt x="10618" y="744"/>
                  </a:lnTo>
                  <a:lnTo>
                    <a:pt x="10596" y="737"/>
                  </a:lnTo>
                  <a:lnTo>
                    <a:pt x="10575" y="731"/>
                  </a:lnTo>
                  <a:lnTo>
                    <a:pt x="10553" y="726"/>
                  </a:lnTo>
                  <a:lnTo>
                    <a:pt x="10532" y="722"/>
                  </a:lnTo>
                  <a:lnTo>
                    <a:pt x="10512" y="719"/>
                  </a:lnTo>
                  <a:lnTo>
                    <a:pt x="10493" y="717"/>
                  </a:lnTo>
                  <a:lnTo>
                    <a:pt x="10474" y="716"/>
                  </a:lnTo>
                  <a:lnTo>
                    <a:pt x="10456" y="717"/>
                  </a:lnTo>
                  <a:lnTo>
                    <a:pt x="10439" y="720"/>
                  </a:lnTo>
                  <a:lnTo>
                    <a:pt x="10422" y="724"/>
                  </a:lnTo>
                  <a:lnTo>
                    <a:pt x="10408" y="730"/>
                  </a:lnTo>
                  <a:lnTo>
                    <a:pt x="10395" y="738"/>
                  </a:lnTo>
                  <a:lnTo>
                    <a:pt x="10383" y="748"/>
                  </a:lnTo>
                  <a:lnTo>
                    <a:pt x="10373" y="759"/>
                  </a:lnTo>
                  <a:lnTo>
                    <a:pt x="10364" y="773"/>
                  </a:lnTo>
                  <a:lnTo>
                    <a:pt x="10356" y="786"/>
                  </a:lnTo>
                  <a:lnTo>
                    <a:pt x="10350" y="799"/>
                  </a:lnTo>
                  <a:lnTo>
                    <a:pt x="10344" y="813"/>
                  </a:lnTo>
                  <a:lnTo>
                    <a:pt x="10339" y="828"/>
                  </a:lnTo>
                  <a:lnTo>
                    <a:pt x="10335" y="843"/>
                  </a:lnTo>
                  <a:lnTo>
                    <a:pt x="10332" y="858"/>
                  </a:lnTo>
                  <a:lnTo>
                    <a:pt x="10327" y="890"/>
                  </a:lnTo>
                  <a:lnTo>
                    <a:pt x="10324" y="921"/>
                  </a:lnTo>
                  <a:lnTo>
                    <a:pt x="10321" y="952"/>
                  </a:lnTo>
                  <a:lnTo>
                    <a:pt x="10317" y="981"/>
                  </a:lnTo>
                  <a:lnTo>
                    <a:pt x="10315" y="995"/>
                  </a:lnTo>
                  <a:lnTo>
                    <a:pt x="10313" y="1009"/>
                  </a:lnTo>
                  <a:lnTo>
                    <a:pt x="10310" y="1022"/>
                  </a:lnTo>
                  <a:lnTo>
                    <a:pt x="10307" y="1033"/>
                  </a:lnTo>
                  <a:lnTo>
                    <a:pt x="10301" y="1044"/>
                  </a:lnTo>
                  <a:lnTo>
                    <a:pt x="10297" y="1054"/>
                  </a:lnTo>
                  <a:lnTo>
                    <a:pt x="10291" y="1063"/>
                  </a:lnTo>
                  <a:lnTo>
                    <a:pt x="10284" y="1071"/>
                  </a:lnTo>
                  <a:lnTo>
                    <a:pt x="10275" y="1077"/>
                  </a:lnTo>
                  <a:lnTo>
                    <a:pt x="10266" y="1083"/>
                  </a:lnTo>
                  <a:lnTo>
                    <a:pt x="10255" y="1086"/>
                  </a:lnTo>
                  <a:lnTo>
                    <a:pt x="10243" y="1089"/>
                  </a:lnTo>
                  <a:lnTo>
                    <a:pt x="10230" y="1090"/>
                  </a:lnTo>
                  <a:lnTo>
                    <a:pt x="10214" y="1089"/>
                  </a:lnTo>
                  <a:lnTo>
                    <a:pt x="10197" y="1086"/>
                  </a:lnTo>
                  <a:lnTo>
                    <a:pt x="10177" y="1081"/>
                  </a:lnTo>
                  <a:lnTo>
                    <a:pt x="10157" y="1075"/>
                  </a:lnTo>
                  <a:lnTo>
                    <a:pt x="10137" y="1067"/>
                  </a:lnTo>
                  <a:lnTo>
                    <a:pt x="10119" y="1059"/>
                  </a:lnTo>
                  <a:lnTo>
                    <a:pt x="10101" y="1050"/>
                  </a:lnTo>
                  <a:lnTo>
                    <a:pt x="10085" y="1040"/>
                  </a:lnTo>
                  <a:lnTo>
                    <a:pt x="10069" y="1029"/>
                  </a:lnTo>
                  <a:lnTo>
                    <a:pt x="10053" y="1018"/>
                  </a:lnTo>
                  <a:lnTo>
                    <a:pt x="10038" y="1006"/>
                  </a:lnTo>
                  <a:lnTo>
                    <a:pt x="10024" y="993"/>
                  </a:lnTo>
                  <a:lnTo>
                    <a:pt x="10011" y="981"/>
                  </a:lnTo>
                  <a:lnTo>
                    <a:pt x="9998" y="967"/>
                  </a:lnTo>
                  <a:lnTo>
                    <a:pt x="9985" y="954"/>
                  </a:lnTo>
                  <a:lnTo>
                    <a:pt x="9960" y="925"/>
                  </a:lnTo>
                  <a:lnTo>
                    <a:pt x="9935" y="896"/>
                  </a:lnTo>
                  <a:lnTo>
                    <a:pt x="9910" y="864"/>
                  </a:lnTo>
                  <a:lnTo>
                    <a:pt x="9884" y="833"/>
                  </a:lnTo>
                  <a:lnTo>
                    <a:pt x="9857" y="802"/>
                  </a:lnTo>
                  <a:lnTo>
                    <a:pt x="9828" y="771"/>
                  </a:lnTo>
                  <a:lnTo>
                    <a:pt x="9812" y="754"/>
                  </a:lnTo>
                  <a:lnTo>
                    <a:pt x="9795" y="739"/>
                  </a:lnTo>
                  <a:lnTo>
                    <a:pt x="9778" y="723"/>
                  </a:lnTo>
                  <a:lnTo>
                    <a:pt x="9760" y="708"/>
                  </a:lnTo>
                  <a:lnTo>
                    <a:pt x="9741" y="694"/>
                  </a:lnTo>
                  <a:lnTo>
                    <a:pt x="9721" y="679"/>
                  </a:lnTo>
                  <a:lnTo>
                    <a:pt x="9700" y="665"/>
                  </a:lnTo>
                  <a:lnTo>
                    <a:pt x="9678" y="651"/>
                  </a:lnTo>
                  <a:lnTo>
                    <a:pt x="9627" y="621"/>
                  </a:lnTo>
                  <a:lnTo>
                    <a:pt x="9568" y="588"/>
                  </a:lnTo>
                  <a:lnTo>
                    <a:pt x="9502" y="554"/>
                  </a:lnTo>
                  <a:lnTo>
                    <a:pt x="9431" y="516"/>
                  </a:lnTo>
                  <a:lnTo>
                    <a:pt x="9356" y="478"/>
                  </a:lnTo>
                  <a:lnTo>
                    <a:pt x="9279" y="440"/>
                  </a:lnTo>
                  <a:lnTo>
                    <a:pt x="9202" y="403"/>
                  </a:lnTo>
                  <a:lnTo>
                    <a:pt x="9125" y="365"/>
                  </a:lnTo>
                  <a:lnTo>
                    <a:pt x="9053" y="330"/>
                  </a:lnTo>
                  <a:lnTo>
                    <a:pt x="8984" y="297"/>
                  </a:lnTo>
                  <a:lnTo>
                    <a:pt x="8922" y="267"/>
                  </a:lnTo>
                  <a:lnTo>
                    <a:pt x="8866" y="241"/>
                  </a:lnTo>
                  <a:lnTo>
                    <a:pt x="8821" y="220"/>
                  </a:lnTo>
                  <a:lnTo>
                    <a:pt x="8786" y="204"/>
                  </a:lnTo>
                  <a:lnTo>
                    <a:pt x="8764" y="194"/>
                  </a:lnTo>
                  <a:lnTo>
                    <a:pt x="8757" y="190"/>
                  </a:lnTo>
                  <a:lnTo>
                    <a:pt x="8751" y="186"/>
                  </a:lnTo>
                  <a:lnTo>
                    <a:pt x="8735" y="176"/>
                  </a:lnTo>
                  <a:lnTo>
                    <a:pt x="8708" y="159"/>
                  </a:lnTo>
                  <a:lnTo>
                    <a:pt x="8670" y="140"/>
                  </a:lnTo>
                  <a:lnTo>
                    <a:pt x="8646" y="129"/>
                  </a:lnTo>
                  <a:lnTo>
                    <a:pt x="8620" y="117"/>
                  </a:lnTo>
                  <a:lnTo>
                    <a:pt x="8591" y="106"/>
                  </a:lnTo>
                  <a:lnTo>
                    <a:pt x="8560" y="94"/>
                  </a:lnTo>
                  <a:lnTo>
                    <a:pt x="8525" y="82"/>
                  </a:lnTo>
                  <a:lnTo>
                    <a:pt x="8489" y="70"/>
                  </a:lnTo>
                  <a:lnTo>
                    <a:pt x="8449" y="59"/>
                  </a:lnTo>
                  <a:lnTo>
                    <a:pt x="8406" y="48"/>
                  </a:lnTo>
                  <a:lnTo>
                    <a:pt x="8362" y="37"/>
                  </a:lnTo>
                  <a:lnTo>
                    <a:pt x="8315" y="28"/>
                  </a:lnTo>
                  <a:lnTo>
                    <a:pt x="8264" y="20"/>
                  </a:lnTo>
                  <a:lnTo>
                    <a:pt x="8211" y="13"/>
                  </a:lnTo>
                  <a:lnTo>
                    <a:pt x="8155" y="7"/>
                  </a:lnTo>
                  <a:lnTo>
                    <a:pt x="8097" y="3"/>
                  </a:lnTo>
                  <a:lnTo>
                    <a:pt x="8035" y="0"/>
                  </a:lnTo>
                  <a:lnTo>
                    <a:pt x="7972" y="0"/>
                  </a:lnTo>
                  <a:lnTo>
                    <a:pt x="7905" y="1"/>
                  </a:lnTo>
                  <a:lnTo>
                    <a:pt x="7836" y="5"/>
                  </a:lnTo>
                  <a:lnTo>
                    <a:pt x="7764" y="10"/>
                  </a:lnTo>
                  <a:lnTo>
                    <a:pt x="7690" y="19"/>
                  </a:lnTo>
                  <a:lnTo>
                    <a:pt x="7613" y="30"/>
                  </a:lnTo>
                  <a:lnTo>
                    <a:pt x="7533" y="45"/>
                  </a:lnTo>
                  <a:lnTo>
                    <a:pt x="7451" y="62"/>
                  </a:lnTo>
                  <a:lnTo>
                    <a:pt x="7366" y="82"/>
                  </a:lnTo>
                  <a:lnTo>
                    <a:pt x="7284" y="103"/>
                  </a:lnTo>
                  <a:lnTo>
                    <a:pt x="7207" y="121"/>
                  </a:lnTo>
                  <a:lnTo>
                    <a:pt x="7136" y="138"/>
                  </a:lnTo>
                  <a:lnTo>
                    <a:pt x="7071" y="152"/>
                  </a:lnTo>
                  <a:lnTo>
                    <a:pt x="7010" y="166"/>
                  </a:lnTo>
                  <a:lnTo>
                    <a:pt x="6954" y="176"/>
                  </a:lnTo>
                  <a:lnTo>
                    <a:pt x="6902" y="185"/>
                  </a:lnTo>
                  <a:lnTo>
                    <a:pt x="6856" y="193"/>
                  </a:lnTo>
                  <a:lnTo>
                    <a:pt x="6813" y="198"/>
                  </a:lnTo>
                  <a:lnTo>
                    <a:pt x="6773" y="203"/>
                  </a:lnTo>
                  <a:lnTo>
                    <a:pt x="6737" y="206"/>
                  </a:lnTo>
                  <a:lnTo>
                    <a:pt x="6704" y="208"/>
                  </a:lnTo>
                  <a:lnTo>
                    <a:pt x="6674" y="209"/>
                  </a:lnTo>
                  <a:lnTo>
                    <a:pt x="6645" y="209"/>
                  </a:lnTo>
                  <a:lnTo>
                    <a:pt x="6620" y="209"/>
                  </a:lnTo>
                  <a:lnTo>
                    <a:pt x="6597" y="207"/>
                  </a:lnTo>
                  <a:lnTo>
                    <a:pt x="6575" y="205"/>
                  </a:lnTo>
                  <a:lnTo>
                    <a:pt x="6555" y="202"/>
                  </a:lnTo>
                  <a:lnTo>
                    <a:pt x="6536" y="199"/>
                  </a:lnTo>
                  <a:lnTo>
                    <a:pt x="6517" y="196"/>
                  </a:lnTo>
                  <a:lnTo>
                    <a:pt x="6483" y="189"/>
                  </a:lnTo>
                  <a:lnTo>
                    <a:pt x="6449" y="182"/>
                  </a:lnTo>
                  <a:lnTo>
                    <a:pt x="6431" y="178"/>
                  </a:lnTo>
                  <a:lnTo>
                    <a:pt x="6413" y="175"/>
                  </a:lnTo>
                  <a:lnTo>
                    <a:pt x="6392" y="173"/>
                  </a:lnTo>
                  <a:lnTo>
                    <a:pt x="6371" y="171"/>
                  </a:lnTo>
                  <a:lnTo>
                    <a:pt x="6349" y="170"/>
                  </a:lnTo>
                  <a:lnTo>
                    <a:pt x="6325" y="169"/>
                  </a:lnTo>
                  <a:lnTo>
                    <a:pt x="6298" y="169"/>
                  </a:lnTo>
                  <a:lnTo>
                    <a:pt x="6268" y="171"/>
                  </a:lnTo>
                  <a:lnTo>
                    <a:pt x="6209" y="175"/>
                  </a:lnTo>
                  <a:lnTo>
                    <a:pt x="6147" y="182"/>
                  </a:lnTo>
                  <a:lnTo>
                    <a:pt x="6084" y="190"/>
                  </a:lnTo>
                  <a:lnTo>
                    <a:pt x="6019" y="200"/>
                  </a:lnTo>
                  <a:lnTo>
                    <a:pt x="5987" y="206"/>
                  </a:lnTo>
                  <a:lnTo>
                    <a:pt x="5955" y="213"/>
                  </a:lnTo>
                  <a:lnTo>
                    <a:pt x="5923" y="219"/>
                  </a:lnTo>
                  <a:lnTo>
                    <a:pt x="5890" y="227"/>
                  </a:lnTo>
                  <a:lnTo>
                    <a:pt x="5858" y="235"/>
                  </a:lnTo>
                  <a:lnTo>
                    <a:pt x="5827" y="243"/>
                  </a:lnTo>
                  <a:lnTo>
                    <a:pt x="5796" y="252"/>
                  </a:lnTo>
                  <a:lnTo>
                    <a:pt x="5764" y="262"/>
                  </a:lnTo>
                  <a:lnTo>
                    <a:pt x="5734" y="272"/>
                  </a:lnTo>
                  <a:lnTo>
                    <a:pt x="5704" y="284"/>
                  </a:lnTo>
                  <a:lnTo>
                    <a:pt x="5675" y="295"/>
                  </a:lnTo>
                  <a:lnTo>
                    <a:pt x="5646" y="306"/>
                  </a:lnTo>
                  <a:lnTo>
                    <a:pt x="5617" y="319"/>
                  </a:lnTo>
                  <a:lnTo>
                    <a:pt x="5590" y="331"/>
                  </a:lnTo>
                  <a:lnTo>
                    <a:pt x="5564" y="345"/>
                  </a:lnTo>
                  <a:lnTo>
                    <a:pt x="5539" y="359"/>
                  </a:lnTo>
                  <a:lnTo>
                    <a:pt x="5514" y="373"/>
                  </a:lnTo>
                  <a:lnTo>
                    <a:pt x="5491" y="389"/>
                  </a:lnTo>
                  <a:lnTo>
                    <a:pt x="5469" y="405"/>
                  </a:lnTo>
                  <a:lnTo>
                    <a:pt x="5448" y="422"/>
                  </a:lnTo>
                  <a:lnTo>
                    <a:pt x="5428" y="439"/>
                  </a:lnTo>
                  <a:lnTo>
                    <a:pt x="5410" y="456"/>
                  </a:lnTo>
                  <a:lnTo>
                    <a:pt x="5393" y="475"/>
                  </a:lnTo>
                  <a:lnTo>
                    <a:pt x="5377" y="493"/>
                  </a:lnTo>
                  <a:lnTo>
                    <a:pt x="5361" y="514"/>
                  </a:lnTo>
                  <a:lnTo>
                    <a:pt x="5340" y="539"/>
                  </a:lnTo>
                  <a:lnTo>
                    <a:pt x="5315" y="567"/>
                  </a:lnTo>
                  <a:lnTo>
                    <a:pt x="5285" y="597"/>
                  </a:lnTo>
                  <a:lnTo>
                    <a:pt x="5251" y="629"/>
                  </a:lnTo>
                  <a:lnTo>
                    <a:pt x="5214" y="665"/>
                  </a:lnTo>
                  <a:lnTo>
                    <a:pt x="5173" y="702"/>
                  </a:lnTo>
                  <a:lnTo>
                    <a:pt x="5129" y="740"/>
                  </a:lnTo>
                  <a:lnTo>
                    <a:pt x="5082" y="781"/>
                  </a:lnTo>
                  <a:lnTo>
                    <a:pt x="5032" y="823"/>
                  </a:lnTo>
                  <a:lnTo>
                    <a:pt x="4979" y="865"/>
                  </a:lnTo>
                  <a:lnTo>
                    <a:pt x="4925" y="908"/>
                  </a:lnTo>
                  <a:lnTo>
                    <a:pt x="4868" y="952"/>
                  </a:lnTo>
                  <a:lnTo>
                    <a:pt x="4810" y="995"/>
                  </a:lnTo>
                  <a:lnTo>
                    <a:pt x="4750" y="1039"/>
                  </a:lnTo>
                  <a:lnTo>
                    <a:pt x="4689" y="1081"/>
                  </a:lnTo>
                  <a:lnTo>
                    <a:pt x="4627" y="1124"/>
                  </a:lnTo>
                  <a:lnTo>
                    <a:pt x="4565" y="1165"/>
                  </a:lnTo>
                  <a:lnTo>
                    <a:pt x="4501" y="1205"/>
                  </a:lnTo>
                  <a:lnTo>
                    <a:pt x="4438" y="1245"/>
                  </a:lnTo>
                  <a:lnTo>
                    <a:pt x="4374" y="1281"/>
                  </a:lnTo>
                  <a:lnTo>
                    <a:pt x="4312" y="1316"/>
                  </a:lnTo>
                  <a:lnTo>
                    <a:pt x="4249" y="1348"/>
                  </a:lnTo>
                  <a:lnTo>
                    <a:pt x="4187" y="1379"/>
                  </a:lnTo>
                  <a:lnTo>
                    <a:pt x="4126" y="1406"/>
                  </a:lnTo>
                  <a:lnTo>
                    <a:pt x="4067" y="1429"/>
                  </a:lnTo>
                  <a:lnTo>
                    <a:pt x="4010" y="1450"/>
                  </a:lnTo>
                  <a:lnTo>
                    <a:pt x="3953" y="1467"/>
                  </a:lnTo>
                  <a:lnTo>
                    <a:pt x="3899" y="1481"/>
                  </a:lnTo>
                  <a:lnTo>
                    <a:pt x="3847" y="1490"/>
                  </a:lnTo>
                  <a:lnTo>
                    <a:pt x="3798" y="1494"/>
                  </a:lnTo>
                  <a:lnTo>
                    <a:pt x="3751" y="1494"/>
                  </a:lnTo>
                  <a:lnTo>
                    <a:pt x="3706" y="1490"/>
                  </a:lnTo>
                  <a:lnTo>
                    <a:pt x="3660" y="1488"/>
                  </a:lnTo>
                  <a:lnTo>
                    <a:pt x="3612" y="1486"/>
                  </a:lnTo>
                  <a:lnTo>
                    <a:pt x="3564" y="1485"/>
                  </a:lnTo>
                  <a:lnTo>
                    <a:pt x="3516" y="1484"/>
                  </a:lnTo>
                  <a:lnTo>
                    <a:pt x="3466" y="1485"/>
                  </a:lnTo>
                  <a:lnTo>
                    <a:pt x="3417" y="1486"/>
                  </a:lnTo>
                  <a:lnTo>
                    <a:pt x="3367" y="1488"/>
                  </a:lnTo>
                  <a:lnTo>
                    <a:pt x="3318" y="1491"/>
                  </a:lnTo>
                  <a:lnTo>
                    <a:pt x="3269" y="1494"/>
                  </a:lnTo>
                  <a:lnTo>
                    <a:pt x="3219" y="1499"/>
                  </a:lnTo>
                  <a:lnTo>
                    <a:pt x="3171" y="1504"/>
                  </a:lnTo>
                  <a:lnTo>
                    <a:pt x="3122" y="1510"/>
                  </a:lnTo>
                  <a:lnTo>
                    <a:pt x="3075" y="1518"/>
                  </a:lnTo>
                  <a:lnTo>
                    <a:pt x="3029" y="1526"/>
                  </a:lnTo>
                  <a:lnTo>
                    <a:pt x="2982" y="1535"/>
                  </a:lnTo>
                  <a:lnTo>
                    <a:pt x="2937" y="1545"/>
                  </a:lnTo>
                  <a:lnTo>
                    <a:pt x="2894" y="1556"/>
                  </a:lnTo>
                  <a:lnTo>
                    <a:pt x="2851" y="1568"/>
                  </a:lnTo>
                  <a:lnTo>
                    <a:pt x="2810" y="1581"/>
                  </a:lnTo>
                  <a:lnTo>
                    <a:pt x="2771" y="1595"/>
                  </a:lnTo>
                  <a:lnTo>
                    <a:pt x="2733" y="1611"/>
                  </a:lnTo>
                  <a:lnTo>
                    <a:pt x="2697" y="1628"/>
                  </a:lnTo>
                  <a:lnTo>
                    <a:pt x="2663" y="1645"/>
                  </a:lnTo>
                  <a:lnTo>
                    <a:pt x="2632" y="1663"/>
                  </a:lnTo>
                  <a:lnTo>
                    <a:pt x="2601" y="1683"/>
                  </a:lnTo>
                  <a:lnTo>
                    <a:pt x="2574" y="1704"/>
                  </a:lnTo>
                  <a:lnTo>
                    <a:pt x="2550" y="1727"/>
                  </a:lnTo>
                  <a:lnTo>
                    <a:pt x="2528" y="1750"/>
                  </a:lnTo>
                  <a:lnTo>
                    <a:pt x="2508" y="1774"/>
                  </a:lnTo>
                  <a:lnTo>
                    <a:pt x="2491" y="1799"/>
                  </a:lnTo>
                  <a:lnTo>
                    <a:pt x="2478" y="1826"/>
                  </a:lnTo>
                  <a:lnTo>
                    <a:pt x="2467" y="1854"/>
                  </a:lnTo>
                  <a:lnTo>
                    <a:pt x="2458" y="1879"/>
                  </a:lnTo>
                  <a:lnTo>
                    <a:pt x="2451" y="1903"/>
                  </a:lnTo>
                  <a:lnTo>
                    <a:pt x="2446" y="1926"/>
                  </a:lnTo>
                  <a:lnTo>
                    <a:pt x="2443" y="1949"/>
                  </a:lnTo>
                  <a:lnTo>
                    <a:pt x="2442" y="1971"/>
                  </a:lnTo>
                  <a:lnTo>
                    <a:pt x="2442" y="1992"/>
                  </a:lnTo>
                  <a:lnTo>
                    <a:pt x="2445" y="2011"/>
                  </a:lnTo>
                  <a:lnTo>
                    <a:pt x="2449" y="2031"/>
                  </a:lnTo>
                  <a:lnTo>
                    <a:pt x="2454" y="2050"/>
                  </a:lnTo>
                  <a:lnTo>
                    <a:pt x="2461" y="2068"/>
                  </a:lnTo>
                  <a:lnTo>
                    <a:pt x="2470" y="2087"/>
                  </a:lnTo>
                  <a:lnTo>
                    <a:pt x="2480" y="2105"/>
                  </a:lnTo>
                  <a:lnTo>
                    <a:pt x="2492" y="2123"/>
                  </a:lnTo>
                  <a:lnTo>
                    <a:pt x="2506" y="2141"/>
                  </a:lnTo>
                  <a:lnTo>
                    <a:pt x="2521" y="2159"/>
                  </a:lnTo>
                  <a:lnTo>
                    <a:pt x="2537" y="2178"/>
                  </a:lnTo>
                  <a:lnTo>
                    <a:pt x="2554" y="2197"/>
                  </a:lnTo>
                  <a:lnTo>
                    <a:pt x="2573" y="2217"/>
                  </a:lnTo>
                  <a:lnTo>
                    <a:pt x="2592" y="2236"/>
                  </a:lnTo>
                  <a:lnTo>
                    <a:pt x="2636" y="2277"/>
                  </a:lnTo>
                  <a:lnTo>
                    <a:pt x="2683" y="2323"/>
                  </a:lnTo>
                  <a:lnTo>
                    <a:pt x="2734" y="2372"/>
                  </a:lnTo>
                  <a:lnTo>
                    <a:pt x="2790" y="2425"/>
                  </a:lnTo>
                  <a:lnTo>
                    <a:pt x="2818" y="2455"/>
                  </a:lnTo>
                  <a:lnTo>
                    <a:pt x="2847" y="2485"/>
                  </a:lnTo>
                  <a:lnTo>
                    <a:pt x="2878" y="2517"/>
                  </a:lnTo>
                  <a:lnTo>
                    <a:pt x="2909" y="2551"/>
                  </a:lnTo>
                  <a:lnTo>
                    <a:pt x="2976" y="2626"/>
                  </a:lnTo>
                  <a:lnTo>
                    <a:pt x="3050" y="2711"/>
                  </a:lnTo>
                  <a:lnTo>
                    <a:pt x="3089" y="2756"/>
                  </a:lnTo>
                  <a:lnTo>
                    <a:pt x="3130" y="2803"/>
                  </a:lnTo>
                  <a:lnTo>
                    <a:pt x="3170" y="2851"/>
                  </a:lnTo>
                  <a:lnTo>
                    <a:pt x="3211" y="2900"/>
                  </a:lnTo>
                  <a:lnTo>
                    <a:pt x="3252" y="2951"/>
                  </a:lnTo>
                  <a:lnTo>
                    <a:pt x="3292" y="3003"/>
                  </a:lnTo>
                  <a:lnTo>
                    <a:pt x="3332" y="3055"/>
                  </a:lnTo>
                  <a:lnTo>
                    <a:pt x="3370" y="3108"/>
                  </a:lnTo>
                  <a:lnTo>
                    <a:pt x="3409" y="3162"/>
                  </a:lnTo>
                  <a:lnTo>
                    <a:pt x="3444" y="3215"/>
                  </a:lnTo>
                  <a:lnTo>
                    <a:pt x="3478" y="3267"/>
                  </a:lnTo>
                  <a:lnTo>
                    <a:pt x="3511" y="3321"/>
                  </a:lnTo>
                  <a:lnTo>
                    <a:pt x="3539" y="3373"/>
                  </a:lnTo>
                  <a:lnTo>
                    <a:pt x="3566" y="3426"/>
                  </a:lnTo>
                  <a:lnTo>
                    <a:pt x="3589" y="3476"/>
                  </a:lnTo>
                  <a:lnTo>
                    <a:pt x="3608" y="3527"/>
                  </a:lnTo>
                  <a:lnTo>
                    <a:pt x="3624" y="3575"/>
                  </a:lnTo>
                  <a:lnTo>
                    <a:pt x="3636" y="3622"/>
                  </a:lnTo>
                  <a:lnTo>
                    <a:pt x="3644" y="3668"/>
                  </a:lnTo>
                  <a:lnTo>
                    <a:pt x="3646" y="3712"/>
                  </a:lnTo>
                  <a:lnTo>
                    <a:pt x="3644" y="3754"/>
                  </a:lnTo>
                  <a:lnTo>
                    <a:pt x="3636" y="3793"/>
                  </a:lnTo>
                  <a:lnTo>
                    <a:pt x="3621" y="3830"/>
                  </a:lnTo>
                  <a:lnTo>
                    <a:pt x="3602" y="3864"/>
                  </a:lnTo>
                  <a:lnTo>
                    <a:pt x="3576" y="3897"/>
                  </a:lnTo>
                  <a:lnTo>
                    <a:pt x="3544" y="3925"/>
                  </a:lnTo>
                  <a:lnTo>
                    <a:pt x="3505" y="3950"/>
                  </a:lnTo>
                  <a:lnTo>
                    <a:pt x="3457" y="3972"/>
                  </a:lnTo>
                  <a:lnTo>
                    <a:pt x="3410" y="3992"/>
                  </a:lnTo>
                  <a:lnTo>
                    <a:pt x="3364" y="4007"/>
                  </a:lnTo>
                  <a:lnTo>
                    <a:pt x="3321" y="4018"/>
                  </a:lnTo>
                  <a:lnTo>
                    <a:pt x="3282" y="4027"/>
                  </a:lnTo>
                  <a:lnTo>
                    <a:pt x="3243" y="4033"/>
                  </a:lnTo>
                  <a:lnTo>
                    <a:pt x="3209" y="4037"/>
                  </a:lnTo>
                  <a:lnTo>
                    <a:pt x="3176" y="4037"/>
                  </a:lnTo>
                  <a:lnTo>
                    <a:pt x="3145" y="4036"/>
                  </a:lnTo>
                  <a:lnTo>
                    <a:pt x="3115" y="4032"/>
                  </a:lnTo>
                  <a:lnTo>
                    <a:pt x="3088" y="4026"/>
                  </a:lnTo>
                  <a:lnTo>
                    <a:pt x="3062" y="4019"/>
                  </a:lnTo>
                  <a:lnTo>
                    <a:pt x="3038" y="4009"/>
                  </a:lnTo>
                  <a:lnTo>
                    <a:pt x="3015" y="3998"/>
                  </a:lnTo>
                  <a:lnTo>
                    <a:pt x="2992" y="3985"/>
                  </a:lnTo>
                  <a:lnTo>
                    <a:pt x="2971" y="3971"/>
                  </a:lnTo>
                  <a:lnTo>
                    <a:pt x="2952" y="3956"/>
                  </a:lnTo>
                  <a:lnTo>
                    <a:pt x="2933" y="3941"/>
                  </a:lnTo>
                  <a:lnTo>
                    <a:pt x="2914" y="3924"/>
                  </a:lnTo>
                  <a:lnTo>
                    <a:pt x="2896" y="3907"/>
                  </a:lnTo>
                  <a:lnTo>
                    <a:pt x="2879" y="3890"/>
                  </a:lnTo>
                  <a:lnTo>
                    <a:pt x="2843" y="3853"/>
                  </a:lnTo>
                  <a:lnTo>
                    <a:pt x="2809" y="3817"/>
                  </a:lnTo>
                  <a:lnTo>
                    <a:pt x="2791" y="3799"/>
                  </a:lnTo>
                  <a:lnTo>
                    <a:pt x="2773" y="3782"/>
                  </a:lnTo>
                  <a:lnTo>
                    <a:pt x="2754" y="3766"/>
                  </a:lnTo>
                  <a:lnTo>
                    <a:pt x="2733" y="3749"/>
                  </a:lnTo>
                  <a:lnTo>
                    <a:pt x="2713" y="3735"/>
                  </a:lnTo>
                  <a:lnTo>
                    <a:pt x="2691" y="3721"/>
                  </a:lnTo>
                  <a:lnTo>
                    <a:pt x="2669" y="3709"/>
                  </a:lnTo>
                  <a:lnTo>
                    <a:pt x="2645" y="3698"/>
                  </a:lnTo>
                  <a:lnTo>
                    <a:pt x="2618" y="3689"/>
                  </a:lnTo>
                  <a:lnTo>
                    <a:pt x="2589" y="3680"/>
                  </a:lnTo>
                  <a:lnTo>
                    <a:pt x="2559" y="3673"/>
                  </a:lnTo>
                  <a:lnTo>
                    <a:pt x="2526" y="3666"/>
                  </a:lnTo>
                  <a:lnTo>
                    <a:pt x="2490" y="3661"/>
                  </a:lnTo>
                  <a:lnTo>
                    <a:pt x="2453" y="3657"/>
                  </a:lnTo>
                  <a:lnTo>
                    <a:pt x="2414" y="3653"/>
                  </a:lnTo>
                  <a:lnTo>
                    <a:pt x="2374" y="3651"/>
                  </a:lnTo>
                  <a:lnTo>
                    <a:pt x="2330" y="3650"/>
                  </a:lnTo>
                  <a:lnTo>
                    <a:pt x="2287" y="3650"/>
                  </a:lnTo>
                  <a:lnTo>
                    <a:pt x="2241" y="3651"/>
                  </a:lnTo>
                  <a:lnTo>
                    <a:pt x="2195" y="3653"/>
                  </a:lnTo>
                  <a:lnTo>
                    <a:pt x="2148" y="3656"/>
                  </a:lnTo>
                  <a:lnTo>
                    <a:pt x="2100" y="3661"/>
                  </a:lnTo>
                  <a:lnTo>
                    <a:pt x="2051" y="3666"/>
                  </a:lnTo>
                  <a:lnTo>
                    <a:pt x="2002" y="3673"/>
                  </a:lnTo>
                  <a:lnTo>
                    <a:pt x="1951" y="3680"/>
                  </a:lnTo>
                  <a:lnTo>
                    <a:pt x="1901" y="3689"/>
                  </a:lnTo>
                  <a:lnTo>
                    <a:pt x="1850" y="3699"/>
                  </a:lnTo>
                  <a:lnTo>
                    <a:pt x="1800" y="3710"/>
                  </a:lnTo>
                  <a:lnTo>
                    <a:pt x="1750" y="3722"/>
                  </a:lnTo>
                  <a:lnTo>
                    <a:pt x="1698" y="3735"/>
                  </a:lnTo>
                  <a:lnTo>
                    <a:pt x="1649" y="3750"/>
                  </a:lnTo>
                  <a:lnTo>
                    <a:pt x="1599" y="3766"/>
                  </a:lnTo>
                  <a:lnTo>
                    <a:pt x="1550" y="3783"/>
                  </a:lnTo>
                  <a:lnTo>
                    <a:pt x="1502" y="3801"/>
                  </a:lnTo>
                  <a:lnTo>
                    <a:pt x="1454" y="3820"/>
                  </a:lnTo>
                  <a:lnTo>
                    <a:pt x="1407" y="3840"/>
                  </a:lnTo>
                  <a:lnTo>
                    <a:pt x="1362" y="3861"/>
                  </a:lnTo>
                  <a:lnTo>
                    <a:pt x="1318" y="3885"/>
                  </a:lnTo>
                  <a:lnTo>
                    <a:pt x="1275" y="3908"/>
                  </a:lnTo>
                  <a:lnTo>
                    <a:pt x="1233" y="3933"/>
                  </a:lnTo>
                  <a:lnTo>
                    <a:pt x="1154" y="3982"/>
                  </a:lnTo>
                  <a:lnTo>
                    <a:pt x="1077" y="4032"/>
                  </a:lnTo>
                  <a:lnTo>
                    <a:pt x="1040" y="4056"/>
                  </a:lnTo>
                  <a:lnTo>
                    <a:pt x="1005" y="4079"/>
                  </a:lnTo>
                  <a:lnTo>
                    <a:pt x="969" y="4103"/>
                  </a:lnTo>
                  <a:lnTo>
                    <a:pt x="936" y="4128"/>
                  </a:lnTo>
                  <a:lnTo>
                    <a:pt x="905" y="4152"/>
                  </a:lnTo>
                  <a:lnTo>
                    <a:pt x="875" y="4175"/>
                  </a:lnTo>
                  <a:lnTo>
                    <a:pt x="845" y="4199"/>
                  </a:lnTo>
                  <a:lnTo>
                    <a:pt x="819" y="4223"/>
                  </a:lnTo>
                  <a:lnTo>
                    <a:pt x="795" y="4248"/>
                  </a:lnTo>
                  <a:lnTo>
                    <a:pt x="772" y="4271"/>
                  </a:lnTo>
                  <a:lnTo>
                    <a:pt x="752" y="4295"/>
                  </a:lnTo>
                  <a:lnTo>
                    <a:pt x="735" y="4319"/>
                  </a:lnTo>
                  <a:lnTo>
                    <a:pt x="719" y="4343"/>
                  </a:lnTo>
                  <a:lnTo>
                    <a:pt x="706" y="4368"/>
                  </a:lnTo>
                  <a:lnTo>
                    <a:pt x="696" y="4392"/>
                  </a:lnTo>
                  <a:lnTo>
                    <a:pt x="690" y="4417"/>
                  </a:lnTo>
                  <a:lnTo>
                    <a:pt x="686" y="4441"/>
                  </a:lnTo>
                  <a:lnTo>
                    <a:pt x="685" y="4466"/>
                  </a:lnTo>
                  <a:lnTo>
                    <a:pt x="688" y="4491"/>
                  </a:lnTo>
                  <a:lnTo>
                    <a:pt x="694" y="4516"/>
                  </a:lnTo>
                  <a:lnTo>
                    <a:pt x="703" y="4542"/>
                  </a:lnTo>
                  <a:lnTo>
                    <a:pt x="716" y="4567"/>
                  </a:lnTo>
                  <a:lnTo>
                    <a:pt x="734" y="4594"/>
                  </a:lnTo>
                  <a:lnTo>
                    <a:pt x="755" y="4620"/>
                  </a:lnTo>
                  <a:lnTo>
                    <a:pt x="780" y="4646"/>
                  </a:lnTo>
                  <a:lnTo>
                    <a:pt x="809" y="4672"/>
                  </a:lnTo>
                  <a:lnTo>
                    <a:pt x="843" y="4699"/>
                  </a:lnTo>
                  <a:lnTo>
                    <a:pt x="882" y="4727"/>
                  </a:lnTo>
                  <a:lnTo>
                    <a:pt x="922" y="4755"/>
                  </a:lnTo>
                  <a:lnTo>
                    <a:pt x="963" y="4782"/>
                  </a:lnTo>
                  <a:lnTo>
                    <a:pt x="1006" y="4808"/>
                  </a:lnTo>
                  <a:lnTo>
                    <a:pt x="1049" y="4835"/>
                  </a:lnTo>
                  <a:lnTo>
                    <a:pt x="1093" y="4861"/>
                  </a:lnTo>
                  <a:lnTo>
                    <a:pt x="1138" y="4886"/>
                  </a:lnTo>
                  <a:lnTo>
                    <a:pt x="1183" y="4911"/>
                  </a:lnTo>
                  <a:lnTo>
                    <a:pt x="1229" y="4935"/>
                  </a:lnTo>
                  <a:lnTo>
                    <a:pt x="1277" y="4959"/>
                  </a:lnTo>
                  <a:lnTo>
                    <a:pt x="1324" y="4981"/>
                  </a:lnTo>
                  <a:lnTo>
                    <a:pt x="1373" y="5003"/>
                  </a:lnTo>
                  <a:lnTo>
                    <a:pt x="1422" y="5024"/>
                  </a:lnTo>
                  <a:lnTo>
                    <a:pt x="1472" y="5043"/>
                  </a:lnTo>
                  <a:lnTo>
                    <a:pt x="1523" y="5062"/>
                  </a:lnTo>
                  <a:lnTo>
                    <a:pt x="1574" y="5081"/>
                  </a:lnTo>
                  <a:lnTo>
                    <a:pt x="1627" y="5097"/>
                  </a:lnTo>
                  <a:lnTo>
                    <a:pt x="1680" y="5113"/>
                  </a:lnTo>
                  <a:lnTo>
                    <a:pt x="1733" y="5127"/>
                  </a:lnTo>
                  <a:lnTo>
                    <a:pt x="1788" y="5139"/>
                  </a:lnTo>
                  <a:lnTo>
                    <a:pt x="1842" y="5151"/>
                  </a:lnTo>
                  <a:lnTo>
                    <a:pt x="1899" y="5161"/>
                  </a:lnTo>
                  <a:lnTo>
                    <a:pt x="1955" y="5169"/>
                  </a:lnTo>
                  <a:lnTo>
                    <a:pt x="2012" y="5176"/>
                  </a:lnTo>
                  <a:lnTo>
                    <a:pt x="2070" y="5181"/>
                  </a:lnTo>
                  <a:lnTo>
                    <a:pt x="2129" y="5185"/>
                  </a:lnTo>
                  <a:lnTo>
                    <a:pt x="2188" y="5187"/>
                  </a:lnTo>
                  <a:lnTo>
                    <a:pt x="2248" y="5187"/>
                  </a:lnTo>
                  <a:lnTo>
                    <a:pt x="2308" y="5185"/>
                  </a:lnTo>
                  <a:lnTo>
                    <a:pt x="2369" y="5181"/>
                  </a:lnTo>
                  <a:lnTo>
                    <a:pt x="2431" y="5176"/>
                  </a:lnTo>
                  <a:lnTo>
                    <a:pt x="2493" y="5168"/>
                  </a:lnTo>
                  <a:lnTo>
                    <a:pt x="2556" y="5158"/>
                  </a:lnTo>
                  <a:lnTo>
                    <a:pt x="2567" y="5155"/>
                  </a:lnTo>
                  <a:lnTo>
                    <a:pt x="2596" y="5147"/>
                  </a:lnTo>
                  <a:lnTo>
                    <a:pt x="2643" y="5134"/>
                  </a:lnTo>
                  <a:lnTo>
                    <a:pt x="2702" y="5118"/>
                  </a:lnTo>
                  <a:lnTo>
                    <a:pt x="2774" y="5100"/>
                  </a:lnTo>
                  <a:lnTo>
                    <a:pt x="2853" y="5081"/>
                  </a:lnTo>
                  <a:lnTo>
                    <a:pt x="2939" y="5061"/>
                  </a:lnTo>
                  <a:lnTo>
                    <a:pt x="3028" y="5043"/>
                  </a:lnTo>
                  <a:lnTo>
                    <a:pt x="3072" y="5034"/>
                  </a:lnTo>
                  <a:lnTo>
                    <a:pt x="3117" y="5027"/>
                  </a:lnTo>
                  <a:lnTo>
                    <a:pt x="3161" y="5020"/>
                  </a:lnTo>
                  <a:lnTo>
                    <a:pt x="3204" y="5014"/>
                  </a:lnTo>
                  <a:lnTo>
                    <a:pt x="3246" y="5009"/>
                  </a:lnTo>
                  <a:lnTo>
                    <a:pt x="3287" y="5005"/>
                  </a:lnTo>
                  <a:lnTo>
                    <a:pt x="3325" y="5002"/>
                  </a:lnTo>
                  <a:lnTo>
                    <a:pt x="3362" y="5001"/>
                  </a:lnTo>
                  <a:lnTo>
                    <a:pt x="3396" y="5002"/>
                  </a:lnTo>
                  <a:lnTo>
                    <a:pt x="3427" y="5004"/>
                  </a:lnTo>
                  <a:lnTo>
                    <a:pt x="3455" y="5008"/>
                  </a:lnTo>
                  <a:lnTo>
                    <a:pt x="3479" y="5014"/>
                  </a:lnTo>
                  <a:lnTo>
                    <a:pt x="3500" y="5022"/>
                  </a:lnTo>
                  <a:lnTo>
                    <a:pt x="3517" y="5032"/>
                  </a:lnTo>
                  <a:lnTo>
                    <a:pt x="3529" y="5045"/>
                  </a:lnTo>
                  <a:lnTo>
                    <a:pt x="3536" y="5060"/>
                  </a:lnTo>
                  <a:lnTo>
                    <a:pt x="3539" y="5077"/>
                  </a:lnTo>
                  <a:lnTo>
                    <a:pt x="3541" y="5091"/>
                  </a:lnTo>
                  <a:lnTo>
                    <a:pt x="3540" y="5105"/>
                  </a:lnTo>
                  <a:lnTo>
                    <a:pt x="3537" y="5118"/>
                  </a:lnTo>
                  <a:lnTo>
                    <a:pt x="3532" y="5129"/>
                  </a:lnTo>
                  <a:lnTo>
                    <a:pt x="3526" y="5140"/>
                  </a:lnTo>
                  <a:lnTo>
                    <a:pt x="3518" y="5151"/>
                  </a:lnTo>
                  <a:lnTo>
                    <a:pt x="3509" y="5160"/>
                  </a:lnTo>
                  <a:lnTo>
                    <a:pt x="3497" y="5169"/>
                  </a:lnTo>
                  <a:lnTo>
                    <a:pt x="3486" y="5178"/>
                  </a:lnTo>
                  <a:lnTo>
                    <a:pt x="3474" y="5186"/>
                  </a:lnTo>
                  <a:lnTo>
                    <a:pt x="3461" y="5194"/>
                  </a:lnTo>
                  <a:lnTo>
                    <a:pt x="3433" y="5208"/>
                  </a:lnTo>
                  <a:lnTo>
                    <a:pt x="3404" y="5222"/>
                  </a:lnTo>
                  <a:lnTo>
                    <a:pt x="3374" y="5236"/>
                  </a:lnTo>
                  <a:lnTo>
                    <a:pt x="3346" y="5250"/>
                  </a:lnTo>
                  <a:lnTo>
                    <a:pt x="3333" y="5258"/>
                  </a:lnTo>
                  <a:lnTo>
                    <a:pt x="3321" y="5266"/>
                  </a:lnTo>
                  <a:lnTo>
                    <a:pt x="3309" y="5274"/>
                  </a:lnTo>
                  <a:lnTo>
                    <a:pt x="3299" y="5283"/>
                  </a:lnTo>
                  <a:lnTo>
                    <a:pt x="3290" y="5293"/>
                  </a:lnTo>
                  <a:lnTo>
                    <a:pt x="3282" y="5303"/>
                  </a:lnTo>
                  <a:lnTo>
                    <a:pt x="3276" y="5315"/>
                  </a:lnTo>
                  <a:lnTo>
                    <a:pt x="3271" y="5327"/>
                  </a:lnTo>
                  <a:lnTo>
                    <a:pt x="3268" y="5339"/>
                  </a:lnTo>
                  <a:lnTo>
                    <a:pt x="3267" y="5353"/>
                  </a:lnTo>
                  <a:lnTo>
                    <a:pt x="3268" y="5368"/>
                  </a:lnTo>
                  <a:lnTo>
                    <a:pt x="3272" y="5384"/>
                  </a:lnTo>
                  <a:lnTo>
                    <a:pt x="3276" y="5400"/>
                  </a:lnTo>
                  <a:lnTo>
                    <a:pt x="3281" y="5416"/>
                  </a:lnTo>
                  <a:lnTo>
                    <a:pt x="3288" y="5433"/>
                  </a:lnTo>
                  <a:lnTo>
                    <a:pt x="3295" y="5449"/>
                  </a:lnTo>
                  <a:lnTo>
                    <a:pt x="3310" y="5480"/>
                  </a:lnTo>
                  <a:lnTo>
                    <a:pt x="3327" y="5511"/>
                  </a:lnTo>
                  <a:lnTo>
                    <a:pt x="3343" y="5541"/>
                  </a:lnTo>
                  <a:lnTo>
                    <a:pt x="3358" y="5572"/>
                  </a:lnTo>
                  <a:lnTo>
                    <a:pt x="3364" y="5586"/>
                  </a:lnTo>
                  <a:lnTo>
                    <a:pt x="3370" y="5601"/>
                  </a:lnTo>
                  <a:lnTo>
                    <a:pt x="3374" y="5615"/>
                  </a:lnTo>
                  <a:lnTo>
                    <a:pt x="3378" y="5630"/>
                  </a:lnTo>
                  <a:lnTo>
                    <a:pt x="3380" y="5644"/>
                  </a:lnTo>
                  <a:lnTo>
                    <a:pt x="3380" y="5658"/>
                  </a:lnTo>
                  <a:lnTo>
                    <a:pt x="3379" y="5673"/>
                  </a:lnTo>
                  <a:lnTo>
                    <a:pt x="3374" y="5687"/>
                  </a:lnTo>
                  <a:lnTo>
                    <a:pt x="3369" y="5702"/>
                  </a:lnTo>
                  <a:lnTo>
                    <a:pt x="3361" y="5715"/>
                  </a:lnTo>
                  <a:lnTo>
                    <a:pt x="3351" y="5729"/>
                  </a:lnTo>
                  <a:lnTo>
                    <a:pt x="3339" y="5743"/>
                  </a:lnTo>
                  <a:lnTo>
                    <a:pt x="3323" y="5757"/>
                  </a:lnTo>
                  <a:lnTo>
                    <a:pt x="3305" y="5771"/>
                  </a:lnTo>
                  <a:lnTo>
                    <a:pt x="3284" y="5785"/>
                  </a:lnTo>
                  <a:lnTo>
                    <a:pt x="3259" y="5799"/>
                  </a:lnTo>
                  <a:lnTo>
                    <a:pt x="3230" y="5813"/>
                  </a:lnTo>
                  <a:lnTo>
                    <a:pt x="3199" y="5827"/>
                  </a:lnTo>
                  <a:lnTo>
                    <a:pt x="3164" y="5840"/>
                  </a:lnTo>
                  <a:lnTo>
                    <a:pt x="3125" y="5854"/>
                  </a:lnTo>
                  <a:lnTo>
                    <a:pt x="3081" y="5867"/>
                  </a:lnTo>
                  <a:lnTo>
                    <a:pt x="3036" y="5879"/>
                  </a:lnTo>
                  <a:lnTo>
                    <a:pt x="2987" y="5890"/>
                  </a:lnTo>
                  <a:lnTo>
                    <a:pt x="2938" y="5902"/>
                  </a:lnTo>
                  <a:lnTo>
                    <a:pt x="2831" y="5925"/>
                  </a:lnTo>
                  <a:lnTo>
                    <a:pt x="2719" y="5947"/>
                  </a:lnTo>
                  <a:lnTo>
                    <a:pt x="2603" y="5970"/>
                  </a:lnTo>
                  <a:lnTo>
                    <a:pt x="2485" y="5994"/>
                  </a:lnTo>
                  <a:lnTo>
                    <a:pt x="2427" y="6006"/>
                  </a:lnTo>
                  <a:lnTo>
                    <a:pt x="2369" y="6019"/>
                  </a:lnTo>
                  <a:lnTo>
                    <a:pt x="2311" y="6034"/>
                  </a:lnTo>
                  <a:lnTo>
                    <a:pt x="2254" y="6048"/>
                  </a:lnTo>
                  <a:lnTo>
                    <a:pt x="2198" y="6063"/>
                  </a:lnTo>
                  <a:lnTo>
                    <a:pt x="2144" y="6079"/>
                  </a:lnTo>
                  <a:lnTo>
                    <a:pt x="2091" y="6095"/>
                  </a:lnTo>
                  <a:lnTo>
                    <a:pt x="2041" y="6113"/>
                  </a:lnTo>
                  <a:lnTo>
                    <a:pt x="1993" y="6132"/>
                  </a:lnTo>
                  <a:lnTo>
                    <a:pt x="1947" y="6153"/>
                  </a:lnTo>
                  <a:lnTo>
                    <a:pt x="1904" y="6174"/>
                  </a:lnTo>
                  <a:lnTo>
                    <a:pt x="1865" y="6196"/>
                  </a:lnTo>
                  <a:lnTo>
                    <a:pt x="1827" y="6220"/>
                  </a:lnTo>
                  <a:lnTo>
                    <a:pt x="1794" y="6245"/>
                  </a:lnTo>
                  <a:lnTo>
                    <a:pt x="1765" y="6272"/>
                  </a:lnTo>
                  <a:lnTo>
                    <a:pt x="1740" y="6301"/>
                  </a:lnTo>
                  <a:lnTo>
                    <a:pt x="1718" y="6331"/>
                  </a:lnTo>
                  <a:lnTo>
                    <a:pt x="1702" y="6362"/>
                  </a:lnTo>
                  <a:lnTo>
                    <a:pt x="1691" y="6397"/>
                  </a:lnTo>
                  <a:lnTo>
                    <a:pt x="1684" y="6432"/>
                  </a:lnTo>
                  <a:lnTo>
                    <a:pt x="1686" y="6432"/>
                  </a:lnTo>
                  <a:lnTo>
                    <a:pt x="1691" y="6432"/>
                  </a:lnTo>
                  <a:lnTo>
                    <a:pt x="1697" y="6431"/>
                  </a:lnTo>
                  <a:lnTo>
                    <a:pt x="1702" y="6431"/>
                  </a:lnTo>
                  <a:lnTo>
                    <a:pt x="1703" y="6432"/>
                  </a:lnTo>
                  <a:lnTo>
                    <a:pt x="1704" y="6433"/>
                  </a:lnTo>
                  <a:lnTo>
                    <a:pt x="1703" y="6434"/>
                  </a:lnTo>
                  <a:lnTo>
                    <a:pt x="1701" y="6435"/>
                  </a:lnTo>
                  <a:lnTo>
                    <a:pt x="1693" y="6440"/>
                  </a:lnTo>
                  <a:lnTo>
                    <a:pt x="1676" y="6447"/>
                  </a:lnTo>
                  <a:lnTo>
                    <a:pt x="1649" y="6457"/>
                  </a:lnTo>
                  <a:lnTo>
                    <a:pt x="1610" y="6469"/>
                  </a:lnTo>
                  <a:lnTo>
                    <a:pt x="1558" y="6486"/>
                  </a:lnTo>
                  <a:lnTo>
                    <a:pt x="1491" y="6507"/>
                  </a:lnTo>
                  <a:lnTo>
                    <a:pt x="1405" y="6532"/>
                  </a:lnTo>
                  <a:lnTo>
                    <a:pt x="1301" y="6562"/>
                  </a:lnTo>
                  <a:lnTo>
                    <a:pt x="1176" y="6597"/>
                  </a:lnTo>
                  <a:lnTo>
                    <a:pt x="1028" y="6638"/>
                  </a:lnTo>
                  <a:lnTo>
                    <a:pt x="875" y="6681"/>
                  </a:lnTo>
                  <a:lnTo>
                    <a:pt x="735" y="6721"/>
                  </a:lnTo>
                  <a:lnTo>
                    <a:pt x="669" y="6740"/>
                  </a:lnTo>
                  <a:lnTo>
                    <a:pt x="607" y="6760"/>
                  </a:lnTo>
                  <a:lnTo>
                    <a:pt x="548" y="6778"/>
                  </a:lnTo>
                  <a:lnTo>
                    <a:pt x="493" y="6796"/>
                  </a:lnTo>
                  <a:lnTo>
                    <a:pt x="440" y="6814"/>
                  </a:lnTo>
                  <a:lnTo>
                    <a:pt x="391" y="6831"/>
                  </a:lnTo>
                  <a:lnTo>
                    <a:pt x="345" y="6849"/>
                  </a:lnTo>
                  <a:lnTo>
                    <a:pt x="303" y="6867"/>
                  </a:lnTo>
                  <a:lnTo>
                    <a:pt x="265" y="6885"/>
                  </a:lnTo>
                  <a:lnTo>
                    <a:pt x="229" y="6902"/>
                  </a:lnTo>
                  <a:lnTo>
                    <a:pt x="196" y="6920"/>
                  </a:lnTo>
                  <a:lnTo>
                    <a:pt x="167" y="6938"/>
                  </a:lnTo>
                  <a:lnTo>
                    <a:pt x="142" y="6956"/>
                  </a:lnTo>
                  <a:lnTo>
                    <a:pt x="120" y="6975"/>
                  </a:lnTo>
                  <a:lnTo>
                    <a:pt x="101" y="6994"/>
                  </a:lnTo>
                  <a:lnTo>
                    <a:pt x="85" y="7014"/>
                  </a:lnTo>
                  <a:lnTo>
                    <a:pt x="73" y="7034"/>
                  </a:lnTo>
                  <a:lnTo>
                    <a:pt x="64" y="7054"/>
                  </a:lnTo>
                  <a:lnTo>
                    <a:pt x="59" y="7075"/>
                  </a:lnTo>
                  <a:lnTo>
                    <a:pt x="57" y="7096"/>
                  </a:lnTo>
                  <a:lnTo>
                    <a:pt x="58" y="7120"/>
                  </a:lnTo>
                  <a:lnTo>
                    <a:pt x="63" y="7143"/>
                  </a:lnTo>
                  <a:lnTo>
                    <a:pt x="72" y="7167"/>
                  </a:lnTo>
                  <a:lnTo>
                    <a:pt x="83" y="7192"/>
                  </a:lnTo>
                  <a:lnTo>
                    <a:pt x="99" y="7218"/>
                  </a:lnTo>
                  <a:lnTo>
                    <a:pt x="118" y="7247"/>
                  </a:lnTo>
                  <a:lnTo>
                    <a:pt x="140" y="7275"/>
                  </a:lnTo>
                  <a:lnTo>
                    <a:pt x="166" y="7304"/>
                  </a:lnTo>
                  <a:lnTo>
                    <a:pt x="177" y="7311"/>
                  </a:lnTo>
                  <a:lnTo>
                    <a:pt x="208" y="7328"/>
                  </a:lnTo>
                  <a:lnTo>
                    <a:pt x="259" y="7355"/>
                  </a:lnTo>
                  <a:lnTo>
                    <a:pt x="324" y="7387"/>
                  </a:lnTo>
                  <a:lnTo>
                    <a:pt x="362" y="7404"/>
                  </a:lnTo>
                  <a:lnTo>
                    <a:pt x="403" y="7421"/>
                  </a:lnTo>
                  <a:lnTo>
                    <a:pt x="446" y="7439"/>
                  </a:lnTo>
                  <a:lnTo>
                    <a:pt x="493" y="7457"/>
                  </a:lnTo>
                  <a:lnTo>
                    <a:pt x="541" y="7475"/>
                  </a:lnTo>
                  <a:lnTo>
                    <a:pt x="590" y="7491"/>
                  </a:lnTo>
                  <a:lnTo>
                    <a:pt x="642" y="7506"/>
                  </a:lnTo>
                  <a:lnTo>
                    <a:pt x="695" y="7520"/>
                  </a:lnTo>
                  <a:lnTo>
                    <a:pt x="690" y="7525"/>
                  </a:lnTo>
                  <a:lnTo>
                    <a:pt x="677" y="7539"/>
                  </a:lnTo>
                  <a:lnTo>
                    <a:pt x="657" y="7562"/>
                  </a:lnTo>
                  <a:lnTo>
                    <a:pt x="633" y="7594"/>
                  </a:lnTo>
                  <a:lnTo>
                    <a:pt x="620" y="7612"/>
                  </a:lnTo>
                  <a:lnTo>
                    <a:pt x="606" y="7631"/>
                  </a:lnTo>
                  <a:lnTo>
                    <a:pt x="592" y="7652"/>
                  </a:lnTo>
                  <a:lnTo>
                    <a:pt x="578" y="7675"/>
                  </a:lnTo>
                  <a:lnTo>
                    <a:pt x="565" y="7699"/>
                  </a:lnTo>
                  <a:lnTo>
                    <a:pt x="552" y="7724"/>
                  </a:lnTo>
                  <a:lnTo>
                    <a:pt x="540" y="7750"/>
                  </a:lnTo>
                  <a:lnTo>
                    <a:pt x="529" y="7777"/>
                  </a:lnTo>
                  <a:lnTo>
                    <a:pt x="519" y="7805"/>
                  </a:lnTo>
                  <a:lnTo>
                    <a:pt x="510" y="7834"/>
                  </a:lnTo>
                  <a:lnTo>
                    <a:pt x="504" y="7864"/>
                  </a:lnTo>
                  <a:lnTo>
                    <a:pt x="499" y="7893"/>
                  </a:lnTo>
                  <a:lnTo>
                    <a:pt x="497" y="7923"/>
                  </a:lnTo>
                  <a:lnTo>
                    <a:pt x="497" y="7955"/>
                  </a:lnTo>
                  <a:lnTo>
                    <a:pt x="500" y="7985"/>
                  </a:lnTo>
                  <a:lnTo>
                    <a:pt x="505" y="8016"/>
                  </a:lnTo>
                  <a:lnTo>
                    <a:pt x="514" y="8047"/>
                  </a:lnTo>
                  <a:lnTo>
                    <a:pt x="526" y="8078"/>
                  </a:lnTo>
                  <a:lnTo>
                    <a:pt x="542" y="8109"/>
                  </a:lnTo>
                  <a:lnTo>
                    <a:pt x="562" y="8139"/>
                  </a:lnTo>
                  <a:lnTo>
                    <a:pt x="586" y="8169"/>
                  </a:lnTo>
                  <a:lnTo>
                    <a:pt x="615" y="8199"/>
                  </a:lnTo>
                  <a:lnTo>
                    <a:pt x="648" y="8227"/>
                  </a:lnTo>
                  <a:lnTo>
                    <a:pt x="685" y="8255"/>
                  </a:lnTo>
                  <a:lnTo>
                    <a:pt x="706" y="8257"/>
                  </a:lnTo>
                  <a:lnTo>
                    <a:pt x="763" y="8261"/>
                  </a:lnTo>
                  <a:lnTo>
                    <a:pt x="847" y="8268"/>
                  </a:lnTo>
                  <a:lnTo>
                    <a:pt x="948" y="8275"/>
                  </a:lnTo>
                  <a:lnTo>
                    <a:pt x="1059" y="8284"/>
                  </a:lnTo>
                  <a:lnTo>
                    <a:pt x="1169" y="8292"/>
                  </a:lnTo>
                  <a:lnTo>
                    <a:pt x="1270" y="8300"/>
                  </a:lnTo>
                  <a:lnTo>
                    <a:pt x="1351" y="8304"/>
                  </a:lnTo>
                  <a:lnTo>
                    <a:pt x="1356" y="8317"/>
                  </a:lnTo>
                  <a:lnTo>
                    <a:pt x="1370" y="8352"/>
                  </a:lnTo>
                  <a:lnTo>
                    <a:pt x="1377" y="8376"/>
                  </a:lnTo>
                  <a:lnTo>
                    <a:pt x="1385" y="8406"/>
                  </a:lnTo>
                  <a:lnTo>
                    <a:pt x="1393" y="8441"/>
                  </a:lnTo>
                  <a:lnTo>
                    <a:pt x="1399" y="8478"/>
                  </a:lnTo>
                  <a:lnTo>
                    <a:pt x="1402" y="8498"/>
                  </a:lnTo>
                  <a:lnTo>
                    <a:pt x="1404" y="8519"/>
                  </a:lnTo>
                  <a:lnTo>
                    <a:pt x="1406" y="8541"/>
                  </a:lnTo>
                  <a:lnTo>
                    <a:pt x="1407" y="8564"/>
                  </a:lnTo>
                  <a:lnTo>
                    <a:pt x="1408" y="8587"/>
                  </a:lnTo>
                  <a:lnTo>
                    <a:pt x="1408" y="8610"/>
                  </a:lnTo>
                  <a:lnTo>
                    <a:pt x="1407" y="8634"/>
                  </a:lnTo>
                  <a:lnTo>
                    <a:pt x="1405" y="8660"/>
                  </a:lnTo>
                  <a:lnTo>
                    <a:pt x="1402" y="8685"/>
                  </a:lnTo>
                  <a:lnTo>
                    <a:pt x="1399" y="8711"/>
                  </a:lnTo>
                  <a:lnTo>
                    <a:pt x="1394" y="8737"/>
                  </a:lnTo>
                  <a:lnTo>
                    <a:pt x="1388" y="8763"/>
                  </a:lnTo>
                  <a:lnTo>
                    <a:pt x="1381" y="8791"/>
                  </a:lnTo>
                  <a:lnTo>
                    <a:pt x="1373" y="8818"/>
                  </a:lnTo>
                  <a:lnTo>
                    <a:pt x="1363" y="8845"/>
                  </a:lnTo>
                  <a:lnTo>
                    <a:pt x="1351" y="8872"/>
                  </a:lnTo>
                  <a:lnTo>
                    <a:pt x="1353" y="8875"/>
                  </a:lnTo>
                  <a:lnTo>
                    <a:pt x="1358" y="8881"/>
                  </a:lnTo>
                  <a:lnTo>
                    <a:pt x="1368" y="8891"/>
                  </a:lnTo>
                  <a:lnTo>
                    <a:pt x="1381" y="8904"/>
                  </a:lnTo>
                  <a:lnTo>
                    <a:pt x="1390" y="8910"/>
                  </a:lnTo>
                  <a:lnTo>
                    <a:pt x="1399" y="8917"/>
                  </a:lnTo>
                  <a:lnTo>
                    <a:pt x="1409" y="8923"/>
                  </a:lnTo>
                  <a:lnTo>
                    <a:pt x="1421" y="8929"/>
                  </a:lnTo>
                  <a:lnTo>
                    <a:pt x="1433" y="8936"/>
                  </a:lnTo>
                  <a:lnTo>
                    <a:pt x="1447" y="8941"/>
                  </a:lnTo>
                  <a:lnTo>
                    <a:pt x="1462" y="8946"/>
                  </a:lnTo>
                  <a:lnTo>
                    <a:pt x="1478" y="8951"/>
                  </a:lnTo>
                  <a:lnTo>
                    <a:pt x="1497" y="8955"/>
                  </a:lnTo>
                  <a:lnTo>
                    <a:pt x="1515" y="8957"/>
                  </a:lnTo>
                  <a:lnTo>
                    <a:pt x="1536" y="8959"/>
                  </a:lnTo>
                  <a:lnTo>
                    <a:pt x="1557" y="8959"/>
                  </a:lnTo>
                  <a:lnTo>
                    <a:pt x="1580" y="8959"/>
                  </a:lnTo>
                  <a:lnTo>
                    <a:pt x="1604" y="8956"/>
                  </a:lnTo>
                  <a:lnTo>
                    <a:pt x="1630" y="8953"/>
                  </a:lnTo>
                  <a:lnTo>
                    <a:pt x="1657" y="8947"/>
                  </a:lnTo>
                  <a:lnTo>
                    <a:pt x="1686" y="8939"/>
                  </a:lnTo>
                  <a:lnTo>
                    <a:pt x="1716" y="8930"/>
                  </a:lnTo>
                  <a:lnTo>
                    <a:pt x="1748" y="8919"/>
                  </a:lnTo>
                  <a:lnTo>
                    <a:pt x="1781" y="8905"/>
                  </a:lnTo>
                  <a:lnTo>
                    <a:pt x="1815" y="8888"/>
                  </a:lnTo>
                  <a:lnTo>
                    <a:pt x="1851" y="8869"/>
                  </a:lnTo>
                  <a:lnTo>
                    <a:pt x="1890" y="8848"/>
                  </a:lnTo>
                  <a:lnTo>
                    <a:pt x="1929" y="8823"/>
                  </a:lnTo>
                  <a:lnTo>
                    <a:pt x="1943" y="8821"/>
                  </a:lnTo>
                  <a:lnTo>
                    <a:pt x="1979" y="8818"/>
                  </a:lnTo>
                  <a:lnTo>
                    <a:pt x="2004" y="8818"/>
                  </a:lnTo>
                  <a:lnTo>
                    <a:pt x="2029" y="8818"/>
                  </a:lnTo>
                  <a:lnTo>
                    <a:pt x="2042" y="8819"/>
                  </a:lnTo>
                  <a:lnTo>
                    <a:pt x="2056" y="8821"/>
                  </a:lnTo>
                  <a:lnTo>
                    <a:pt x="2069" y="8823"/>
                  </a:lnTo>
                  <a:lnTo>
                    <a:pt x="2082" y="8826"/>
                  </a:lnTo>
                  <a:lnTo>
                    <a:pt x="2095" y="8830"/>
                  </a:lnTo>
                  <a:lnTo>
                    <a:pt x="2107" y="8834"/>
                  </a:lnTo>
                  <a:lnTo>
                    <a:pt x="2120" y="8839"/>
                  </a:lnTo>
                  <a:lnTo>
                    <a:pt x="2131" y="8845"/>
                  </a:lnTo>
                  <a:lnTo>
                    <a:pt x="2141" y="8853"/>
                  </a:lnTo>
                  <a:lnTo>
                    <a:pt x="2150" y="8861"/>
                  </a:lnTo>
                  <a:lnTo>
                    <a:pt x="2158" y="8870"/>
                  </a:lnTo>
                  <a:lnTo>
                    <a:pt x="2165" y="8881"/>
                  </a:lnTo>
                  <a:lnTo>
                    <a:pt x="2170" y="8893"/>
                  </a:lnTo>
                  <a:lnTo>
                    <a:pt x="2174" y="8907"/>
                  </a:lnTo>
                  <a:lnTo>
                    <a:pt x="2176" y="8922"/>
                  </a:lnTo>
                  <a:lnTo>
                    <a:pt x="2176" y="8938"/>
                  </a:lnTo>
                  <a:lnTo>
                    <a:pt x="2174" y="8956"/>
                  </a:lnTo>
                  <a:lnTo>
                    <a:pt x="2170" y="8975"/>
                  </a:lnTo>
                  <a:lnTo>
                    <a:pt x="2164" y="8996"/>
                  </a:lnTo>
                  <a:lnTo>
                    <a:pt x="2155" y="9020"/>
                  </a:lnTo>
                  <a:lnTo>
                    <a:pt x="2155" y="9025"/>
                  </a:lnTo>
                  <a:lnTo>
                    <a:pt x="2156" y="9038"/>
                  </a:lnTo>
                  <a:lnTo>
                    <a:pt x="2157" y="9047"/>
                  </a:lnTo>
                  <a:lnTo>
                    <a:pt x="2158" y="9057"/>
                  </a:lnTo>
                  <a:lnTo>
                    <a:pt x="2161" y="9069"/>
                  </a:lnTo>
                  <a:lnTo>
                    <a:pt x="2164" y="9082"/>
                  </a:lnTo>
                  <a:lnTo>
                    <a:pt x="2168" y="9096"/>
                  </a:lnTo>
                  <a:lnTo>
                    <a:pt x="2174" y="9110"/>
                  </a:lnTo>
                  <a:lnTo>
                    <a:pt x="2180" y="9125"/>
                  </a:lnTo>
                  <a:lnTo>
                    <a:pt x="2188" y="9141"/>
                  </a:lnTo>
                  <a:lnTo>
                    <a:pt x="2198" y="9156"/>
                  </a:lnTo>
                  <a:lnTo>
                    <a:pt x="2209" y="9170"/>
                  </a:lnTo>
                  <a:lnTo>
                    <a:pt x="2221" y="9185"/>
                  </a:lnTo>
                  <a:lnTo>
                    <a:pt x="2236" y="9198"/>
                  </a:lnTo>
                  <a:lnTo>
                    <a:pt x="2254" y="9211"/>
                  </a:lnTo>
                  <a:lnTo>
                    <a:pt x="2273" y="9223"/>
                  </a:lnTo>
                  <a:lnTo>
                    <a:pt x="2294" y="9233"/>
                  </a:lnTo>
                  <a:lnTo>
                    <a:pt x="2318" y="9242"/>
                  </a:lnTo>
                  <a:lnTo>
                    <a:pt x="2344" y="9249"/>
                  </a:lnTo>
                  <a:lnTo>
                    <a:pt x="2374" y="9255"/>
                  </a:lnTo>
                  <a:lnTo>
                    <a:pt x="2405" y="9259"/>
                  </a:lnTo>
                  <a:lnTo>
                    <a:pt x="2440" y="9260"/>
                  </a:lnTo>
                  <a:lnTo>
                    <a:pt x="2477" y="9258"/>
                  </a:lnTo>
                  <a:lnTo>
                    <a:pt x="2519" y="9253"/>
                  </a:lnTo>
                  <a:lnTo>
                    <a:pt x="2563" y="9245"/>
                  </a:lnTo>
                  <a:lnTo>
                    <a:pt x="2611" y="9235"/>
                  </a:lnTo>
                  <a:lnTo>
                    <a:pt x="2663" y="9221"/>
                  </a:lnTo>
                  <a:lnTo>
                    <a:pt x="2718" y="9203"/>
                  </a:lnTo>
                  <a:lnTo>
                    <a:pt x="2777" y="9182"/>
                  </a:lnTo>
                  <a:lnTo>
                    <a:pt x="2840" y="9157"/>
                  </a:lnTo>
                  <a:lnTo>
                    <a:pt x="2849" y="9152"/>
                  </a:lnTo>
                  <a:lnTo>
                    <a:pt x="2876" y="9138"/>
                  </a:lnTo>
                  <a:lnTo>
                    <a:pt x="2916" y="9116"/>
                  </a:lnTo>
                  <a:lnTo>
                    <a:pt x="2967" y="9089"/>
                  </a:lnTo>
                  <a:lnTo>
                    <a:pt x="3028" y="9059"/>
                  </a:lnTo>
                  <a:lnTo>
                    <a:pt x="3094" y="9027"/>
                  </a:lnTo>
                  <a:lnTo>
                    <a:pt x="3165" y="8994"/>
                  </a:lnTo>
                  <a:lnTo>
                    <a:pt x="3235" y="8963"/>
                  </a:lnTo>
                  <a:lnTo>
                    <a:pt x="3272" y="8949"/>
                  </a:lnTo>
                  <a:lnTo>
                    <a:pt x="3306" y="8936"/>
                  </a:lnTo>
                  <a:lnTo>
                    <a:pt x="3339" y="8924"/>
                  </a:lnTo>
                  <a:lnTo>
                    <a:pt x="3371" y="8914"/>
                  </a:lnTo>
                  <a:lnTo>
                    <a:pt x="3403" y="8905"/>
                  </a:lnTo>
                  <a:lnTo>
                    <a:pt x="3431" y="8899"/>
                  </a:lnTo>
                  <a:lnTo>
                    <a:pt x="3457" y="8894"/>
                  </a:lnTo>
                  <a:lnTo>
                    <a:pt x="3481" y="8892"/>
                  </a:lnTo>
                  <a:lnTo>
                    <a:pt x="3501" y="8892"/>
                  </a:lnTo>
                  <a:lnTo>
                    <a:pt x="3519" y="8896"/>
                  </a:lnTo>
                  <a:lnTo>
                    <a:pt x="3533" y="8903"/>
                  </a:lnTo>
                  <a:lnTo>
                    <a:pt x="3543" y="8913"/>
                  </a:lnTo>
                  <a:lnTo>
                    <a:pt x="3548" y="8926"/>
                  </a:lnTo>
                  <a:lnTo>
                    <a:pt x="3549" y="8944"/>
                  </a:lnTo>
                  <a:lnTo>
                    <a:pt x="3545" y="8965"/>
                  </a:lnTo>
                  <a:lnTo>
                    <a:pt x="3536" y="8990"/>
                  </a:lnTo>
                  <a:lnTo>
                    <a:pt x="3532" y="8996"/>
                  </a:lnTo>
                  <a:lnTo>
                    <a:pt x="3520" y="9013"/>
                  </a:lnTo>
                  <a:lnTo>
                    <a:pt x="3499" y="9042"/>
                  </a:lnTo>
                  <a:lnTo>
                    <a:pt x="3473" y="9078"/>
                  </a:lnTo>
                  <a:lnTo>
                    <a:pt x="3439" y="9122"/>
                  </a:lnTo>
                  <a:lnTo>
                    <a:pt x="3400" y="9173"/>
                  </a:lnTo>
                  <a:lnTo>
                    <a:pt x="3354" y="9228"/>
                  </a:lnTo>
                  <a:lnTo>
                    <a:pt x="3303" y="9288"/>
                  </a:lnTo>
                  <a:lnTo>
                    <a:pt x="3276" y="9319"/>
                  </a:lnTo>
                  <a:lnTo>
                    <a:pt x="3247" y="9350"/>
                  </a:lnTo>
                  <a:lnTo>
                    <a:pt x="3218" y="9382"/>
                  </a:lnTo>
                  <a:lnTo>
                    <a:pt x="3188" y="9414"/>
                  </a:lnTo>
                  <a:lnTo>
                    <a:pt x="3156" y="9445"/>
                  </a:lnTo>
                  <a:lnTo>
                    <a:pt x="3123" y="9477"/>
                  </a:lnTo>
                  <a:lnTo>
                    <a:pt x="3090" y="9509"/>
                  </a:lnTo>
                  <a:lnTo>
                    <a:pt x="3057" y="9540"/>
                  </a:lnTo>
                  <a:lnTo>
                    <a:pt x="3022" y="9570"/>
                  </a:lnTo>
                  <a:lnTo>
                    <a:pt x="2986" y="9600"/>
                  </a:lnTo>
                  <a:lnTo>
                    <a:pt x="2950" y="9629"/>
                  </a:lnTo>
                  <a:lnTo>
                    <a:pt x="2914" y="9657"/>
                  </a:lnTo>
                  <a:lnTo>
                    <a:pt x="2877" y="9683"/>
                  </a:lnTo>
                  <a:lnTo>
                    <a:pt x="2838" y="9708"/>
                  </a:lnTo>
                  <a:lnTo>
                    <a:pt x="2800" y="9732"/>
                  </a:lnTo>
                  <a:lnTo>
                    <a:pt x="2762" y="9755"/>
                  </a:lnTo>
                  <a:lnTo>
                    <a:pt x="2748" y="9759"/>
                  </a:lnTo>
                  <a:lnTo>
                    <a:pt x="2707" y="9773"/>
                  </a:lnTo>
                  <a:lnTo>
                    <a:pt x="2644" y="9796"/>
                  </a:lnTo>
                  <a:lnTo>
                    <a:pt x="2559" y="9825"/>
                  </a:lnTo>
                  <a:lnTo>
                    <a:pt x="2457" y="9863"/>
                  </a:lnTo>
                  <a:lnTo>
                    <a:pt x="2340" y="9906"/>
                  </a:lnTo>
                  <a:lnTo>
                    <a:pt x="2211" y="9955"/>
                  </a:lnTo>
                  <a:lnTo>
                    <a:pt x="2074" y="10009"/>
                  </a:lnTo>
                  <a:lnTo>
                    <a:pt x="1930" y="10067"/>
                  </a:lnTo>
                  <a:lnTo>
                    <a:pt x="1783" y="10129"/>
                  </a:lnTo>
                  <a:lnTo>
                    <a:pt x="1708" y="10160"/>
                  </a:lnTo>
                  <a:lnTo>
                    <a:pt x="1635" y="10192"/>
                  </a:lnTo>
                  <a:lnTo>
                    <a:pt x="1561" y="10226"/>
                  </a:lnTo>
                  <a:lnTo>
                    <a:pt x="1490" y="10259"/>
                  </a:lnTo>
                  <a:lnTo>
                    <a:pt x="1418" y="10292"/>
                  </a:lnTo>
                  <a:lnTo>
                    <a:pt x="1349" y="10326"/>
                  </a:lnTo>
                  <a:lnTo>
                    <a:pt x="1282" y="10360"/>
                  </a:lnTo>
                  <a:lnTo>
                    <a:pt x="1217" y="10394"/>
                  </a:lnTo>
                  <a:lnTo>
                    <a:pt x="1155" y="10428"/>
                  </a:lnTo>
                  <a:lnTo>
                    <a:pt x="1096" y="10462"/>
                  </a:lnTo>
                  <a:lnTo>
                    <a:pt x="1041" y="10495"/>
                  </a:lnTo>
                  <a:lnTo>
                    <a:pt x="989" y="10528"/>
                  </a:lnTo>
                  <a:lnTo>
                    <a:pt x="981" y="10530"/>
                  </a:lnTo>
                  <a:lnTo>
                    <a:pt x="959" y="10534"/>
                  </a:lnTo>
                  <a:lnTo>
                    <a:pt x="924" y="10541"/>
                  </a:lnTo>
                  <a:lnTo>
                    <a:pt x="877" y="10551"/>
                  </a:lnTo>
                  <a:lnTo>
                    <a:pt x="820" y="10564"/>
                  </a:lnTo>
                  <a:lnTo>
                    <a:pt x="756" y="10581"/>
                  </a:lnTo>
                  <a:lnTo>
                    <a:pt x="684" y="10600"/>
                  </a:lnTo>
                  <a:lnTo>
                    <a:pt x="609" y="10622"/>
                  </a:lnTo>
                  <a:lnTo>
                    <a:pt x="568" y="10634"/>
                  </a:lnTo>
                  <a:lnTo>
                    <a:pt x="528" y="10647"/>
                  </a:lnTo>
                  <a:lnTo>
                    <a:pt x="488" y="10661"/>
                  </a:lnTo>
                  <a:lnTo>
                    <a:pt x="446" y="10676"/>
                  </a:lnTo>
                  <a:lnTo>
                    <a:pt x="405" y="10691"/>
                  </a:lnTo>
                  <a:lnTo>
                    <a:pt x="364" y="10708"/>
                  </a:lnTo>
                  <a:lnTo>
                    <a:pt x="322" y="10726"/>
                  </a:lnTo>
                  <a:lnTo>
                    <a:pt x="282" y="10744"/>
                  </a:lnTo>
                  <a:lnTo>
                    <a:pt x="243" y="10762"/>
                  </a:lnTo>
                  <a:lnTo>
                    <a:pt x="203" y="10782"/>
                  </a:lnTo>
                  <a:lnTo>
                    <a:pt x="166" y="10803"/>
                  </a:lnTo>
                  <a:lnTo>
                    <a:pt x="129" y="10825"/>
                  </a:lnTo>
                  <a:lnTo>
                    <a:pt x="94" y="10848"/>
                  </a:lnTo>
                  <a:lnTo>
                    <a:pt x="60" y="10871"/>
                  </a:lnTo>
                  <a:lnTo>
                    <a:pt x="29" y="10895"/>
                  </a:lnTo>
                  <a:lnTo>
                    <a:pt x="0" y="10920"/>
                  </a:lnTo>
                  <a:lnTo>
                    <a:pt x="7" y="10919"/>
                  </a:lnTo>
                  <a:lnTo>
                    <a:pt x="27" y="10915"/>
                  </a:lnTo>
                  <a:lnTo>
                    <a:pt x="60" y="10909"/>
                  </a:lnTo>
                  <a:lnTo>
                    <a:pt x="105" y="10901"/>
                  </a:lnTo>
                  <a:lnTo>
                    <a:pt x="160" y="10892"/>
                  </a:lnTo>
                  <a:lnTo>
                    <a:pt x="225" y="10881"/>
                  </a:lnTo>
                  <a:lnTo>
                    <a:pt x="299" y="10869"/>
                  </a:lnTo>
                  <a:lnTo>
                    <a:pt x="381" y="10856"/>
                  </a:lnTo>
                  <a:lnTo>
                    <a:pt x="468" y="10842"/>
                  </a:lnTo>
                  <a:lnTo>
                    <a:pt x="562" y="10829"/>
                  </a:lnTo>
                  <a:lnTo>
                    <a:pt x="661" y="10815"/>
                  </a:lnTo>
                  <a:lnTo>
                    <a:pt x="764" y="10800"/>
                  </a:lnTo>
                  <a:lnTo>
                    <a:pt x="870" y="10787"/>
                  </a:lnTo>
                  <a:lnTo>
                    <a:pt x="977" y="10775"/>
                  </a:lnTo>
                  <a:lnTo>
                    <a:pt x="1086" y="10764"/>
                  </a:lnTo>
                  <a:lnTo>
                    <a:pt x="1194" y="10754"/>
                  </a:lnTo>
                  <a:lnTo>
                    <a:pt x="1252" y="10749"/>
                  </a:lnTo>
                  <a:lnTo>
                    <a:pt x="1313" y="10740"/>
                  </a:lnTo>
                  <a:lnTo>
                    <a:pt x="1381" y="10729"/>
                  </a:lnTo>
                  <a:lnTo>
                    <a:pt x="1452" y="10714"/>
                  </a:lnTo>
                  <a:lnTo>
                    <a:pt x="1528" y="10697"/>
                  </a:lnTo>
                  <a:lnTo>
                    <a:pt x="1607" y="10676"/>
                  </a:lnTo>
                  <a:lnTo>
                    <a:pt x="1690" y="10654"/>
                  </a:lnTo>
                  <a:lnTo>
                    <a:pt x="1777" y="10629"/>
                  </a:lnTo>
                  <a:lnTo>
                    <a:pt x="1866" y="10602"/>
                  </a:lnTo>
                  <a:lnTo>
                    <a:pt x="1957" y="10573"/>
                  </a:lnTo>
                  <a:lnTo>
                    <a:pt x="2052" y="10541"/>
                  </a:lnTo>
                  <a:lnTo>
                    <a:pt x="2148" y="10509"/>
                  </a:lnTo>
                  <a:lnTo>
                    <a:pt x="2246" y="10475"/>
                  </a:lnTo>
                  <a:lnTo>
                    <a:pt x="2344" y="10438"/>
                  </a:lnTo>
                  <a:lnTo>
                    <a:pt x="2444" y="10401"/>
                  </a:lnTo>
                  <a:lnTo>
                    <a:pt x="2544" y="10363"/>
                  </a:lnTo>
                  <a:lnTo>
                    <a:pt x="2645" y="10323"/>
                  </a:lnTo>
                  <a:lnTo>
                    <a:pt x="2745" y="10284"/>
                  </a:lnTo>
                  <a:lnTo>
                    <a:pt x="2845" y="10243"/>
                  </a:lnTo>
                  <a:lnTo>
                    <a:pt x="2945" y="10201"/>
                  </a:lnTo>
                  <a:lnTo>
                    <a:pt x="3044" y="10160"/>
                  </a:lnTo>
                  <a:lnTo>
                    <a:pt x="3141" y="10118"/>
                  </a:lnTo>
                  <a:lnTo>
                    <a:pt x="3236" y="10075"/>
                  </a:lnTo>
                  <a:lnTo>
                    <a:pt x="3330" y="10033"/>
                  </a:lnTo>
                  <a:lnTo>
                    <a:pt x="3421" y="9992"/>
                  </a:lnTo>
                  <a:lnTo>
                    <a:pt x="3510" y="9949"/>
                  </a:lnTo>
                  <a:lnTo>
                    <a:pt x="3595" y="9909"/>
                  </a:lnTo>
                  <a:lnTo>
                    <a:pt x="3678" y="9868"/>
                  </a:lnTo>
                  <a:lnTo>
                    <a:pt x="3756" y="9828"/>
                  </a:lnTo>
                  <a:lnTo>
                    <a:pt x="3831" y="9789"/>
                  </a:lnTo>
                  <a:lnTo>
                    <a:pt x="3901" y="9752"/>
                  </a:lnTo>
                  <a:lnTo>
                    <a:pt x="3967" y="9715"/>
                  </a:lnTo>
                  <a:lnTo>
                    <a:pt x="3983" y="9711"/>
                  </a:lnTo>
                  <a:lnTo>
                    <a:pt x="4029" y="9701"/>
                  </a:lnTo>
                  <a:lnTo>
                    <a:pt x="4098" y="9684"/>
                  </a:lnTo>
                  <a:lnTo>
                    <a:pt x="4187" y="9661"/>
                  </a:lnTo>
                  <a:lnTo>
                    <a:pt x="4237" y="9647"/>
                  </a:lnTo>
                  <a:lnTo>
                    <a:pt x="4291" y="9632"/>
                  </a:lnTo>
                  <a:lnTo>
                    <a:pt x="4346" y="9616"/>
                  </a:lnTo>
                  <a:lnTo>
                    <a:pt x="4404" y="9598"/>
                  </a:lnTo>
                  <a:lnTo>
                    <a:pt x="4463" y="9579"/>
                  </a:lnTo>
                  <a:lnTo>
                    <a:pt x="4523" y="9559"/>
                  </a:lnTo>
                  <a:lnTo>
                    <a:pt x="4581" y="9538"/>
                  </a:lnTo>
                  <a:lnTo>
                    <a:pt x="4641" y="9516"/>
                  </a:lnTo>
                  <a:lnTo>
                    <a:pt x="4698" y="9492"/>
                  </a:lnTo>
                  <a:lnTo>
                    <a:pt x="4753" y="9468"/>
                  </a:lnTo>
                  <a:lnTo>
                    <a:pt x="4807" y="9443"/>
                  </a:lnTo>
                  <a:lnTo>
                    <a:pt x="4857" y="9417"/>
                  </a:lnTo>
                  <a:lnTo>
                    <a:pt x="4905" y="9391"/>
                  </a:lnTo>
                  <a:lnTo>
                    <a:pt x="4947" y="9362"/>
                  </a:lnTo>
                  <a:lnTo>
                    <a:pt x="4984" y="9335"/>
                  </a:lnTo>
                  <a:lnTo>
                    <a:pt x="5017" y="9306"/>
                  </a:lnTo>
                  <a:lnTo>
                    <a:pt x="5043" y="9277"/>
                  </a:lnTo>
                  <a:lnTo>
                    <a:pt x="5062" y="9246"/>
                  </a:lnTo>
                  <a:lnTo>
                    <a:pt x="5074" y="9216"/>
                  </a:lnTo>
                  <a:lnTo>
                    <a:pt x="5079" y="9185"/>
                  </a:lnTo>
                  <a:lnTo>
                    <a:pt x="5075" y="9154"/>
                  </a:lnTo>
                  <a:lnTo>
                    <a:pt x="5061" y="9122"/>
                  </a:lnTo>
                  <a:lnTo>
                    <a:pt x="5039" y="9091"/>
                  </a:lnTo>
                  <a:lnTo>
                    <a:pt x="5005" y="9059"/>
                  </a:lnTo>
                  <a:lnTo>
                    <a:pt x="5002" y="9057"/>
                  </a:lnTo>
                  <a:lnTo>
                    <a:pt x="4993" y="9052"/>
                  </a:lnTo>
                  <a:lnTo>
                    <a:pt x="4980" y="9045"/>
                  </a:lnTo>
                  <a:lnTo>
                    <a:pt x="4964" y="9034"/>
                  </a:lnTo>
                  <a:lnTo>
                    <a:pt x="4947" y="9022"/>
                  </a:lnTo>
                  <a:lnTo>
                    <a:pt x="4931" y="9006"/>
                  </a:lnTo>
                  <a:lnTo>
                    <a:pt x="4923" y="8999"/>
                  </a:lnTo>
                  <a:lnTo>
                    <a:pt x="4916" y="8990"/>
                  </a:lnTo>
                  <a:lnTo>
                    <a:pt x="4910" y="8982"/>
                  </a:lnTo>
                  <a:lnTo>
                    <a:pt x="4905" y="8973"/>
                  </a:lnTo>
                  <a:lnTo>
                    <a:pt x="4901" y="8963"/>
                  </a:lnTo>
                  <a:lnTo>
                    <a:pt x="4899" y="8954"/>
                  </a:lnTo>
                  <a:lnTo>
                    <a:pt x="4898" y="8944"/>
                  </a:lnTo>
                  <a:lnTo>
                    <a:pt x="4898" y="8934"/>
                  </a:lnTo>
                  <a:lnTo>
                    <a:pt x="4901" y="8924"/>
                  </a:lnTo>
                  <a:lnTo>
                    <a:pt x="4906" y="8914"/>
                  </a:lnTo>
                  <a:lnTo>
                    <a:pt x="4913" y="8904"/>
                  </a:lnTo>
                  <a:lnTo>
                    <a:pt x="4923" y="8893"/>
                  </a:lnTo>
                  <a:lnTo>
                    <a:pt x="4935" y="8883"/>
                  </a:lnTo>
                  <a:lnTo>
                    <a:pt x="4950" y="8872"/>
                  </a:lnTo>
                  <a:lnTo>
                    <a:pt x="4968" y="8862"/>
                  </a:lnTo>
                  <a:lnTo>
                    <a:pt x="4990" y="8852"/>
                  </a:lnTo>
                  <a:lnTo>
                    <a:pt x="5016" y="8842"/>
                  </a:lnTo>
                  <a:lnTo>
                    <a:pt x="5044" y="8833"/>
                  </a:lnTo>
                  <a:lnTo>
                    <a:pt x="5076" y="8823"/>
                  </a:lnTo>
                  <a:lnTo>
                    <a:pt x="5113" y="8814"/>
                  </a:lnTo>
                  <a:lnTo>
                    <a:pt x="5123" y="8807"/>
                  </a:lnTo>
                  <a:lnTo>
                    <a:pt x="5154" y="8788"/>
                  </a:lnTo>
                  <a:lnTo>
                    <a:pt x="5202" y="8758"/>
                  </a:lnTo>
                  <a:lnTo>
                    <a:pt x="5264" y="8718"/>
                  </a:lnTo>
                  <a:lnTo>
                    <a:pt x="5340" y="8669"/>
                  </a:lnTo>
                  <a:lnTo>
                    <a:pt x="5426" y="8611"/>
                  </a:lnTo>
                  <a:lnTo>
                    <a:pt x="5521" y="8549"/>
                  </a:lnTo>
                  <a:lnTo>
                    <a:pt x="5620" y="8479"/>
                  </a:lnTo>
                  <a:lnTo>
                    <a:pt x="5723" y="8406"/>
                  </a:lnTo>
                  <a:lnTo>
                    <a:pt x="5828" y="8330"/>
                  </a:lnTo>
                  <a:lnTo>
                    <a:pt x="5879" y="8291"/>
                  </a:lnTo>
                  <a:lnTo>
                    <a:pt x="5931" y="8252"/>
                  </a:lnTo>
                  <a:lnTo>
                    <a:pt x="5981" y="8213"/>
                  </a:lnTo>
                  <a:lnTo>
                    <a:pt x="6031" y="8172"/>
                  </a:lnTo>
                  <a:lnTo>
                    <a:pt x="6078" y="8133"/>
                  </a:lnTo>
                  <a:lnTo>
                    <a:pt x="6124" y="8095"/>
                  </a:lnTo>
                  <a:lnTo>
                    <a:pt x="6169" y="8055"/>
                  </a:lnTo>
                  <a:lnTo>
                    <a:pt x="6210" y="8017"/>
                  </a:lnTo>
                  <a:lnTo>
                    <a:pt x="6249" y="7980"/>
                  </a:lnTo>
                  <a:lnTo>
                    <a:pt x="6285" y="7944"/>
                  </a:lnTo>
                  <a:lnTo>
                    <a:pt x="6318" y="7907"/>
                  </a:lnTo>
                  <a:lnTo>
                    <a:pt x="6347" y="7873"/>
                  </a:lnTo>
                  <a:lnTo>
                    <a:pt x="6354" y="7870"/>
                  </a:lnTo>
                  <a:lnTo>
                    <a:pt x="6375" y="7862"/>
                  </a:lnTo>
                  <a:lnTo>
                    <a:pt x="6409" y="7850"/>
                  </a:lnTo>
                  <a:lnTo>
                    <a:pt x="6455" y="7835"/>
                  </a:lnTo>
                  <a:lnTo>
                    <a:pt x="6513" y="7817"/>
                  </a:lnTo>
                  <a:lnTo>
                    <a:pt x="6583" y="7798"/>
                  </a:lnTo>
                  <a:lnTo>
                    <a:pt x="6622" y="7788"/>
                  </a:lnTo>
                  <a:lnTo>
                    <a:pt x="6664" y="7778"/>
                  </a:lnTo>
                  <a:lnTo>
                    <a:pt x="6708" y="7768"/>
                  </a:lnTo>
                  <a:lnTo>
                    <a:pt x="6755" y="7759"/>
                  </a:lnTo>
                  <a:lnTo>
                    <a:pt x="6804" y="7750"/>
                  </a:lnTo>
                  <a:lnTo>
                    <a:pt x="6856" y="7741"/>
                  </a:lnTo>
                  <a:lnTo>
                    <a:pt x="6910" y="7733"/>
                  </a:lnTo>
                  <a:lnTo>
                    <a:pt x="6966" y="7725"/>
                  </a:lnTo>
                  <a:lnTo>
                    <a:pt x="7023" y="7719"/>
                  </a:lnTo>
                  <a:lnTo>
                    <a:pt x="7084" y="7713"/>
                  </a:lnTo>
                  <a:lnTo>
                    <a:pt x="7146" y="7708"/>
                  </a:lnTo>
                  <a:lnTo>
                    <a:pt x="7211" y="7704"/>
                  </a:lnTo>
                  <a:lnTo>
                    <a:pt x="7277" y="7700"/>
                  </a:lnTo>
                  <a:lnTo>
                    <a:pt x="7345" y="7699"/>
                  </a:lnTo>
                  <a:lnTo>
                    <a:pt x="7415" y="7699"/>
                  </a:lnTo>
                  <a:lnTo>
                    <a:pt x="7486" y="7702"/>
                  </a:lnTo>
                  <a:lnTo>
                    <a:pt x="7560" y="7705"/>
                  </a:lnTo>
                  <a:lnTo>
                    <a:pt x="7634" y="7710"/>
                  </a:lnTo>
                  <a:lnTo>
                    <a:pt x="7710" y="7717"/>
                  </a:lnTo>
                  <a:lnTo>
                    <a:pt x="7788" y="7726"/>
                  </a:lnTo>
                  <a:lnTo>
                    <a:pt x="7792" y="7728"/>
                  </a:lnTo>
                  <a:lnTo>
                    <a:pt x="7804" y="7735"/>
                  </a:lnTo>
                  <a:lnTo>
                    <a:pt x="7822" y="7744"/>
                  </a:lnTo>
                  <a:lnTo>
                    <a:pt x="7845" y="7758"/>
                  </a:lnTo>
                  <a:lnTo>
                    <a:pt x="7870" y="7773"/>
                  </a:lnTo>
                  <a:lnTo>
                    <a:pt x="7896" y="7791"/>
                  </a:lnTo>
                  <a:lnTo>
                    <a:pt x="7909" y="7801"/>
                  </a:lnTo>
                  <a:lnTo>
                    <a:pt x="7923" y="7811"/>
                  </a:lnTo>
                  <a:lnTo>
                    <a:pt x="7935" y="7822"/>
                  </a:lnTo>
                  <a:lnTo>
                    <a:pt x="7947" y="7833"/>
                  </a:lnTo>
                  <a:lnTo>
                    <a:pt x="7957" y="7844"/>
                  </a:lnTo>
                  <a:lnTo>
                    <a:pt x="7966" y="7855"/>
                  </a:lnTo>
                  <a:lnTo>
                    <a:pt x="7974" y="7866"/>
                  </a:lnTo>
                  <a:lnTo>
                    <a:pt x="7980" y="7877"/>
                  </a:lnTo>
                  <a:lnTo>
                    <a:pt x="7985" y="7888"/>
                  </a:lnTo>
                  <a:lnTo>
                    <a:pt x="7987" y="7898"/>
                  </a:lnTo>
                  <a:lnTo>
                    <a:pt x="7988" y="7909"/>
                  </a:lnTo>
                  <a:lnTo>
                    <a:pt x="7986" y="7920"/>
                  </a:lnTo>
                  <a:lnTo>
                    <a:pt x="7981" y="7930"/>
                  </a:lnTo>
                  <a:lnTo>
                    <a:pt x="7973" y="7941"/>
                  </a:lnTo>
                  <a:lnTo>
                    <a:pt x="7963" y="7951"/>
                  </a:lnTo>
                  <a:lnTo>
                    <a:pt x="7949" y="7960"/>
                  </a:lnTo>
                  <a:lnTo>
                    <a:pt x="7931" y="7968"/>
                  </a:lnTo>
                  <a:lnTo>
                    <a:pt x="7909" y="7976"/>
                  </a:lnTo>
                  <a:lnTo>
                    <a:pt x="7885" y="7984"/>
                  </a:lnTo>
                  <a:lnTo>
                    <a:pt x="7856" y="7990"/>
                  </a:lnTo>
                  <a:lnTo>
                    <a:pt x="7844" y="7990"/>
                  </a:lnTo>
                  <a:lnTo>
                    <a:pt x="7810" y="7990"/>
                  </a:lnTo>
                  <a:lnTo>
                    <a:pt x="7757" y="7989"/>
                  </a:lnTo>
                  <a:lnTo>
                    <a:pt x="7687" y="7990"/>
                  </a:lnTo>
                  <a:lnTo>
                    <a:pt x="7602" y="7992"/>
                  </a:lnTo>
                  <a:lnTo>
                    <a:pt x="7506" y="7997"/>
                  </a:lnTo>
                  <a:lnTo>
                    <a:pt x="7455" y="8001"/>
                  </a:lnTo>
                  <a:lnTo>
                    <a:pt x="7400" y="8005"/>
                  </a:lnTo>
                  <a:lnTo>
                    <a:pt x="7345" y="8010"/>
                  </a:lnTo>
                  <a:lnTo>
                    <a:pt x="7289" y="8016"/>
                  </a:lnTo>
                  <a:lnTo>
                    <a:pt x="7231" y="8023"/>
                  </a:lnTo>
                  <a:lnTo>
                    <a:pt x="7173" y="8031"/>
                  </a:lnTo>
                  <a:lnTo>
                    <a:pt x="7114" y="8041"/>
                  </a:lnTo>
                  <a:lnTo>
                    <a:pt x="7056" y="8052"/>
                  </a:lnTo>
                  <a:lnTo>
                    <a:pt x="6997" y="8065"/>
                  </a:lnTo>
                  <a:lnTo>
                    <a:pt x="6940" y="8079"/>
                  </a:lnTo>
                  <a:lnTo>
                    <a:pt x="6882" y="8094"/>
                  </a:lnTo>
                  <a:lnTo>
                    <a:pt x="6827" y="8110"/>
                  </a:lnTo>
                  <a:lnTo>
                    <a:pt x="6772" y="8129"/>
                  </a:lnTo>
                  <a:lnTo>
                    <a:pt x="6720" y="8149"/>
                  </a:lnTo>
                  <a:lnTo>
                    <a:pt x="6671" y="8171"/>
                  </a:lnTo>
                  <a:lnTo>
                    <a:pt x="6623" y="8196"/>
                  </a:lnTo>
                  <a:lnTo>
                    <a:pt x="6578" y="8222"/>
                  </a:lnTo>
                  <a:lnTo>
                    <a:pt x="6537" y="8250"/>
                  </a:lnTo>
                  <a:lnTo>
                    <a:pt x="6499" y="8281"/>
                  </a:lnTo>
                  <a:lnTo>
                    <a:pt x="6465" y="8314"/>
                  </a:lnTo>
                  <a:lnTo>
                    <a:pt x="6456" y="8326"/>
                  </a:lnTo>
                  <a:lnTo>
                    <a:pt x="6431" y="8359"/>
                  </a:lnTo>
                  <a:lnTo>
                    <a:pt x="6414" y="8380"/>
                  </a:lnTo>
                  <a:lnTo>
                    <a:pt x="6392" y="8405"/>
                  </a:lnTo>
                  <a:lnTo>
                    <a:pt x="6368" y="8432"/>
                  </a:lnTo>
                  <a:lnTo>
                    <a:pt x="6342" y="8460"/>
                  </a:lnTo>
                  <a:lnTo>
                    <a:pt x="6314" y="8488"/>
                  </a:lnTo>
                  <a:lnTo>
                    <a:pt x="6283" y="8515"/>
                  </a:lnTo>
                  <a:lnTo>
                    <a:pt x="6267" y="8528"/>
                  </a:lnTo>
                  <a:lnTo>
                    <a:pt x="6250" y="8542"/>
                  </a:lnTo>
                  <a:lnTo>
                    <a:pt x="6234" y="8555"/>
                  </a:lnTo>
                  <a:lnTo>
                    <a:pt x="6217" y="8566"/>
                  </a:lnTo>
                  <a:lnTo>
                    <a:pt x="6200" y="8577"/>
                  </a:lnTo>
                  <a:lnTo>
                    <a:pt x="6182" y="8588"/>
                  </a:lnTo>
                  <a:lnTo>
                    <a:pt x="6164" y="8597"/>
                  </a:lnTo>
                  <a:lnTo>
                    <a:pt x="6146" y="8605"/>
                  </a:lnTo>
                  <a:lnTo>
                    <a:pt x="6128" y="8613"/>
                  </a:lnTo>
                  <a:lnTo>
                    <a:pt x="6109" y="8619"/>
                  </a:lnTo>
                  <a:lnTo>
                    <a:pt x="6091" y="8624"/>
                  </a:lnTo>
                  <a:lnTo>
                    <a:pt x="6073" y="8627"/>
                  </a:lnTo>
                  <a:lnTo>
                    <a:pt x="6069" y="8633"/>
                  </a:lnTo>
                  <a:lnTo>
                    <a:pt x="6059" y="8649"/>
                  </a:lnTo>
                  <a:lnTo>
                    <a:pt x="6044" y="8676"/>
                  </a:lnTo>
                  <a:lnTo>
                    <a:pt x="6028" y="8708"/>
                  </a:lnTo>
                  <a:lnTo>
                    <a:pt x="6018" y="8726"/>
                  </a:lnTo>
                  <a:lnTo>
                    <a:pt x="6010" y="8745"/>
                  </a:lnTo>
                  <a:lnTo>
                    <a:pt x="6002" y="8765"/>
                  </a:lnTo>
                  <a:lnTo>
                    <a:pt x="5995" y="8787"/>
                  </a:lnTo>
                  <a:lnTo>
                    <a:pt x="5988" y="8808"/>
                  </a:lnTo>
                  <a:lnTo>
                    <a:pt x="5984" y="8830"/>
                  </a:lnTo>
                  <a:lnTo>
                    <a:pt x="5980" y="8851"/>
                  </a:lnTo>
                  <a:lnTo>
                    <a:pt x="5979" y="8872"/>
                  </a:lnTo>
                  <a:lnTo>
                    <a:pt x="5979" y="8893"/>
                  </a:lnTo>
                  <a:lnTo>
                    <a:pt x="5982" y="8914"/>
                  </a:lnTo>
                  <a:lnTo>
                    <a:pt x="5987" y="8933"/>
                  </a:lnTo>
                  <a:lnTo>
                    <a:pt x="5995" y="8951"/>
                  </a:lnTo>
                  <a:lnTo>
                    <a:pt x="6006" y="8968"/>
                  </a:lnTo>
                  <a:lnTo>
                    <a:pt x="6020" y="8983"/>
                  </a:lnTo>
                  <a:lnTo>
                    <a:pt x="6039" y="8996"/>
                  </a:lnTo>
                  <a:lnTo>
                    <a:pt x="6061" y="9007"/>
                  </a:lnTo>
                  <a:lnTo>
                    <a:pt x="6087" y="9016"/>
                  </a:lnTo>
                  <a:lnTo>
                    <a:pt x="6117" y="9024"/>
                  </a:lnTo>
                  <a:lnTo>
                    <a:pt x="6153" y="9028"/>
                  </a:lnTo>
                  <a:lnTo>
                    <a:pt x="6192" y="9029"/>
                  </a:lnTo>
                  <a:lnTo>
                    <a:pt x="6237" y="9027"/>
                  </a:lnTo>
                  <a:lnTo>
                    <a:pt x="6288" y="9022"/>
                  </a:lnTo>
                  <a:lnTo>
                    <a:pt x="6344" y="9012"/>
                  </a:lnTo>
                  <a:lnTo>
                    <a:pt x="6407" y="8999"/>
                  </a:lnTo>
                  <a:lnTo>
                    <a:pt x="6419" y="8996"/>
                  </a:lnTo>
                  <a:lnTo>
                    <a:pt x="6455" y="8986"/>
                  </a:lnTo>
                  <a:lnTo>
                    <a:pt x="6511" y="8970"/>
                  </a:lnTo>
                  <a:lnTo>
                    <a:pt x="6586" y="8949"/>
                  </a:lnTo>
                  <a:lnTo>
                    <a:pt x="6674" y="8923"/>
                  </a:lnTo>
                  <a:lnTo>
                    <a:pt x="6773" y="8892"/>
                  </a:lnTo>
                  <a:lnTo>
                    <a:pt x="6880" y="8859"/>
                  </a:lnTo>
                  <a:lnTo>
                    <a:pt x="6992" y="8822"/>
                  </a:lnTo>
                  <a:lnTo>
                    <a:pt x="7050" y="8803"/>
                  </a:lnTo>
                  <a:lnTo>
                    <a:pt x="7106" y="8783"/>
                  </a:lnTo>
                  <a:lnTo>
                    <a:pt x="7163" y="8762"/>
                  </a:lnTo>
                  <a:lnTo>
                    <a:pt x="7219" y="8742"/>
                  </a:lnTo>
                  <a:lnTo>
                    <a:pt x="7273" y="8721"/>
                  </a:lnTo>
                  <a:lnTo>
                    <a:pt x="7327" y="8700"/>
                  </a:lnTo>
                  <a:lnTo>
                    <a:pt x="7378" y="8678"/>
                  </a:lnTo>
                  <a:lnTo>
                    <a:pt x="7427" y="8656"/>
                  </a:lnTo>
                  <a:lnTo>
                    <a:pt x="7473" y="8635"/>
                  </a:lnTo>
                  <a:lnTo>
                    <a:pt x="7516" y="8614"/>
                  </a:lnTo>
                  <a:lnTo>
                    <a:pt x="7556" y="8592"/>
                  </a:lnTo>
                  <a:lnTo>
                    <a:pt x="7592" y="8571"/>
                  </a:lnTo>
                  <a:lnTo>
                    <a:pt x="7623" y="8551"/>
                  </a:lnTo>
                  <a:lnTo>
                    <a:pt x="7650" y="8529"/>
                  </a:lnTo>
                  <a:lnTo>
                    <a:pt x="7673" y="8510"/>
                  </a:lnTo>
                  <a:lnTo>
                    <a:pt x="7690" y="8490"/>
                  </a:lnTo>
                  <a:lnTo>
                    <a:pt x="7695" y="8485"/>
                  </a:lnTo>
                  <a:lnTo>
                    <a:pt x="7710" y="8472"/>
                  </a:lnTo>
                  <a:lnTo>
                    <a:pt x="7734" y="8452"/>
                  </a:lnTo>
                  <a:lnTo>
                    <a:pt x="7767" y="8428"/>
                  </a:lnTo>
                  <a:lnTo>
                    <a:pt x="7788" y="8414"/>
                  </a:lnTo>
                  <a:lnTo>
                    <a:pt x="7810" y="8400"/>
                  </a:lnTo>
                  <a:lnTo>
                    <a:pt x="7834" y="8386"/>
                  </a:lnTo>
                  <a:lnTo>
                    <a:pt x="7861" y="8372"/>
                  </a:lnTo>
                  <a:lnTo>
                    <a:pt x="7889" y="8358"/>
                  </a:lnTo>
                  <a:lnTo>
                    <a:pt x="7920" y="8345"/>
                  </a:lnTo>
                  <a:lnTo>
                    <a:pt x="7952" y="8332"/>
                  </a:lnTo>
                  <a:lnTo>
                    <a:pt x="7986" y="8320"/>
                  </a:lnTo>
                  <a:lnTo>
                    <a:pt x="8021" y="8310"/>
                  </a:lnTo>
                  <a:lnTo>
                    <a:pt x="8059" y="8301"/>
                  </a:lnTo>
                  <a:lnTo>
                    <a:pt x="8098" y="8292"/>
                  </a:lnTo>
                  <a:lnTo>
                    <a:pt x="8139" y="8286"/>
                  </a:lnTo>
                  <a:lnTo>
                    <a:pt x="8182" y="8283"/>
                  </a:lnTo>
                  <a:lnTo>
                    <a:pt x="8225" y="8282"/>
                  </a:lnTo>
                  <a:lnTo>
                    <a:pt x="8270" y="8283"/>
                  </a:lnTo>
                  <a:lnTo>
                    <a:pt x="8318" y="8287"/>
                  </a:lnTo>
                  <a:lnTo>
                    <a:pt x="8366" y="8294"/>
                  </a:lnTo>
                  <a:lnTo>
                    <a:pt x="8415" y="8306"/>
                  </a:lnTo>
                  <a:lnTo>
                    <a:pt x="8466" y="8320"/>
                  </a:lnTo>
                  <a:lnTo>
                    <a:pt x="8518" y="8338"/>
                  </a:lnTo>
                  <a:lnTo>
                    <a:pt x="8572" y="8359"/>
                  </a:lnTo>
                  <a:lnTo>
                    <a:pt x="8625" y="8385"/>
                  </a:lnTo>
                  <a:lnTo>
                    <a:pt x="8681" y="8415"/>
                  </a:lnTo>
                  <a:lnTo>
                    <a:pt x="8737" y="8451"/>
                  </a:lnTo>
                  <a:lnTo>
                    <a:pt x="8758" y="8461"/>
                  </a:lnTo>
                  <a:lnTo>
                    <a:pt x="8817" y="8489"/>
                  </a:lnTo>
                  <a:lnTo>
                    <a:pt x="8908" y="8532"/>
                  </a:lnTo>
                  <a:lnTo>
                    <a:pt x="9028" y="8588"/>
                  </a:lnTo>
                  <a:lnTo>
                    <a:pt x="9171" y="8653"/>
                  </a:lnTo>
                  <a:lnTo>
                    <a:pt x="9332" y="8726"/>
                  </a:lnTo>
                  <a:lnTo>
                    <a:pt x="9417" y="8763"/>
                  </a:lnTo>
                  <a:lnTo>
                    <a:pt x="9505" y="8803"/>
                  </a:lnTo>
                  <a:lnTo>
                    <a:pt x="9595" y="8841"/>
                  </a:lnTo>
                  <a:lnTo>
                    <a:pt x="9687" y="8879"/>
                  </a:lnTo>
                  <a:lnTo>
                    <a:pt x="9778" y="8918"/>
                  </a:lnTo>
                  <a:lnTo>
                    <a:pt x="9870" y="8956"/>
                  </a:lnTo>
                  <a:lnTo>
                    <a:pt x="9962" y="8992"/>
                  </a:lnTo>
                  <a:lnTo>
                    <a:pt x="10051" y="9028"/>
                  </a:lnTo>
                  <a:lnTo>
                    <a:pt x="10139" y="9060"/>
                  </a:lnTo>
                  <a:lnTo>
                    <a:pt x="10225" y="9091"/>
                  </a:lnTo>
                  <a:lnTo>
                    <a:pt x="10308" y="9120"/>
                  </a:lnTo>
                  <a:lnTo>
                    <a:pt x="10386" y="9146"/>
                  </a:lnTo>
                  <a:lnTo>
                    <a:pt x="10461" y="9168"/>
                  </a:lnTo>
                  <a:lnTo>
                    <a:pt x="10530" y="9187"/>
                  </a:lnTo>
                  <a:lnTo>
                    <a:pt x="10594" y="9202"/>
                  </a:lnTo>
                  <a:lnTo>
                    <a:pt x="10651" y="9212"/>
                  </a:lnTo>
                  <a:lnTo>
                    <a:pt x="10702" y="9218"/>
                  </a:lnTo>
                  <a:lnTo>
                    <a:pt x="10744" y="9220"/>
                  </a:lnTo>
                  <a:lnTo>
                    <a:pt x="10778" y="9215"/>
                  </a:lnTo>
                  <a:lnTo>
                    <a:pt x="10804" y="9205"/>
                  </a:lnTo>
                </a:path>
              </a:pathLst>
            </a:custGeom>
            <a:solidFill>
              <a:srgbClr val="93d5ed"/>
            </a:solidFill>
            <a:ln w="324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26" name="Freeform 1533"/>
            <p:cNvSpPr/>
            <p:nvPr/>
          </p:nvSpPr>
          <p:spPr>
            <a:xfrm>
              <a:off x="2666880" y="4700520"/>
              <a:ext cx="26640" cy="16560"/>
            </a:xfrm>
            <a:custGeom>
              <a:avLst/>
              <a:gdLst>
                <a:gd name="textAreaLeft" fmla="*/ 0 w 26640"/>
                <a:gd name="textAreaRight" fmla="*/ 27000 w 26640"/>
                <a:gd name="textAreaTop" fmla="*/ 0 h 16560"/>
                <a:gd name="textAreaBottom" fmla="*/ 16920 h 16560"/>
              </a:gdLst>
              <a:ahLst/>
              <a:rect l="textAreaLeft" t="textAreaTop" r="textAreaRight" b="textAreaBottom"/>
              <a:pathLst>
                <a:path w="845" h="610">
                  <a:moveTo>
                    <a:pt x="541" y="50"/>
                  </a:moveTo>
                  <a:lnTo>
                    <a:pt x="532" y="48"/>
                  </a:lnTo>
                  <a:lnTo>
                    <a:pt x="510" y="42"/>
                  </a:lnTo>
                  <a:lnTo>
                    <a:pt x="476" y="33"/>
                  </a:lnTo>
                  <a:lnTo>
                    <a:pt x="433" y="23"/>
                  </a:lnTo>
                  <a:lnTo>
                    <a:pt x="408" y="18"/>
                  </a:lnTo>
                  <a:lnTo>
                    <a:pt x="381" y="14"/>
                  </a:lnTo>
                  <a:lnTo>
                    <a:pt x="354" y="9"/>
                  </a:lnTo>
                  <a:lnTo>
                    <a:pt x="326" y="6"/>
                  </a:lnTo>
                  <a:lnTo>
                    <a:pt x="297" y="3"/>
                  </a:lnTo>
                  <a:lnTo>
                    <a:pt x="267" y="1"/>
                  </a:lnTo>
                  <a:lnTo>
                    <a:pt x="239" y="0"/>
                  </a:lnTo>
                  <a:lnTo>
                    <a:pt x="210" y="0"/>
                  </a:lnTo>
                  <a:lnTo>
                    <a:pt x="182" y="2"/>
                  </a:lnTo>
                  <a:lnTo>
                    <a:pt x="154" y="6"/>
                  </a:lnTo>
                  <a:lnTo>
                    <a:pt x="128" y="11"/>
                  </a:lnTo>
                  <a:lnTo>
                    <a:pt x="104" y="18"/>
                  </a:lnTo>
                  <a:lnTo>
                    <a:pt x="82" y="28"/>
                  </a:lnTo>
                  <a:lnTo>
                    <a:pt x="62" y="40"/>
                  </a:lnTo>
                  <a:lnTo>
                    <a:pt x="44" y="54"/>
                  </a:lnTo>
                  <a:lnTo>
                    <a:pt x="28" y="71"/>
                  </a:lnTo>
                  <a:lnTo>
                    <a:pt x="16" y="90"/>
                  </a:lnTo>
                  <a:lnTo>
                    <a:pt x="7" y="114"/>
                  </a:lnTo>
                  <a:lnTo>
                    <a:pt x="2" y="140"/>
                  </a:lnTo>
                  <a:lnTo>
                    <a:pt x="0" y="169"/>
                  </a:lnTo>
                  <a:lnTo>
                    <a:pt x="3" y="202"/>
                  </a:lnTo>
                  <a:lnTo>
                    <a:pt x="11" y="240"/>
                  </a:lnTo>
                  <a:lnTo>
                    <a:pt x="23" y="280"/>
                  </a:lnTo>
                  <a:lnTo>
                    <a:pt x="42" y="324"/>
                  </a:lnTo>
                  <a:lnTo>
                    <a:pt x="53" y="337"/>
                  </a:lnTo>
                  <a:lnTo>
                    <a:pt x="84" y="368"/>
                  </a:lnTo>
                  <a:lnTo>
                    <a:pt x="105" y="389"/>
                  </a:lnTo>
                  <a:lnTo>
                    <a:pt x="131" y="412"/>
                  </a:lnTo>
                  <a:lnTo>
                    <a:pt x="160" y="437"/>
                  </a:lnTo>
                  <a:lnTo>
                    <a:pt x="191" y="463"/>
                  </a:lnTo>
                  <a:lnTo>
                    <a:pt x="223" y="489"/>
                  </a:lnTo>
                  <a:lnTo>
                    <a:pt x="258" y="515"/>
                  </a:lnTo>
                  <a:lnTo>
                    <a:pt x="275" y="527"/>
                  </a:lnTo>
                  <a:lnTo>
                    <a:pt x="294" y="538"/>
                  </a:lnTo>
                  <a:lnTo>
                    <a:pt x="312" y="550"/>
                  </a:lnTo>
                  <a:lnTo>
                    <a:pt x="330" y="560"/>
                  </a:lnTo>
                  <a:lnTo>
                    <a:pt x="349" y="570"/>
                  </a:lnTo>
                  <a:lnTo>
                    <a:pt x="367" y="579"/>
                  </a:lnTo>
                  <a:lnTo>
                    <a:pt x="385" y="587"/>
                  </a:lnTo>
                  <a:lnTo>
                    <a:pt x="402" y="594"/>
                  </a:lnTo>
                  <a:lnTo>
                    <a:pt x="421" y="600"/>
                  </a:lnTo>
                  <a:lnTo>
                    <a:pt x="438" y="604"/>
                  </a:lnTo>
                  <a:lnTo>
                    <a:pt x="455" y="607"/>
                  </a:lnTo>
                  <a:lnTo>
                    <a:pt x="472" y="609"/>
                  </a:lnTo>
                  <a:lnTo>
                    <a:pt x="490" y="610"/>
                  </a:lnTo>
                  <a:lnTo>
                    <a:pt x="508" y="610"/>
                  </a:lnTo>
                  <a:lnTo>
                    <a:pt x="526" y="608"/>
                  </a:lnTo>
                  <a:lnTo>
                    <a:pt x="546" y="605"/>
                  </a:lnTo>
                  <a:lnTo>
                    <a:pt x="565" y="601"/>
                  </a:lnTo>
                  <a:lnTo>
                    <a:pt x="585" y="596"/>
                  </a:lnTo>
                  <a:lnTo>
                    <a:pt x="604" y="590"/>
                  </a:lnTo>
                  <a:lnTo>
                    <a:pt x="623" y="582"/>
                  </a:lnTo>
                  <a:lnTo>
                    <a:pt x="642" y="573"/>
                  </a:lnTo>
                  <a:lnTo>
                    <a:pt x="662" y="564"/>
                  </a:lnTo>
                  <a:lnTo>
                    <a:pt x="680" y="554"/>
                  </a:lnTo>
                  <a:lnTo>
                    <a:pt x="698" y="544"/>
                  </a:lnTo>
                  <a:lnTo>
                    <a:pt x="716" y="533"/>
                  </a:lnTo>
                  <a:lnTo>
                    <a:pt x="732" y="521"/>
                  </a:lnTo>
                  <a:lnTo>
                    <a:pt x="748" y="509"/>
                  </a:lnTo>
                  <a:lnTo>
                    <a:pt x="763" y="496"/>
                  </a:lnTo>
                  <a:lnTo>
                    <a:pt x="777" y="483"/>
                  </a:lnTo>
                  <a:lnTo>
                    <a:pt x="791" y="470"/>
                  </a:lnTo>
                  <a:lnTo>
                    <a:pt x="803" y="457"/>
                  </a:lnTo>
                  <a:lnTo>
                    <a:pt x="814" y="442"/>
                  </a:lnTo>
                  <a:lnTo>
                    <a:pt x="823" y="429"/>
                  </a:lnTo>
                  <a:lnTo>
                    <a:pt x="831" y="415"/>
                  </a:lnTo>
                  <a:lnTo>
                    <a:pt x="837" y="402"/>
                  </a:lnTo>
                  <a:lnTo>
                    <a:pt x="841" y="388"/>
                  </a:lnTo>
                  <a:lnTo>
                    <a:pt x="844" y="375"/>
                  </a:lnTo>
                  <a:lnTo>
                    <a:pt x="845" y="363"/>
                  </a:lnTo>
                  <a:lnTo>
                    <a:pt x="844" y="350"/>
                  </a:lnTo>
                  <a:lnTo>
                    <a:pt x="841" y="338"/>
                  </a:lnTo>
                  <a:lnTo>
                    <a:pt x="835" y="326"/>
                  </a:lnTo>
                  <a:lnTo>
                    <a:pt x="828" y="315"/>
                  </a:lnTo>
                  <a:lnTo>
                    <a:pt x="818" y="305"/>
                  </a:lnTo>
                  <a:lnTo>
                    <a:pt x="806" y="295"/>
                  </a:lnTo>
                  <a:lnTo>
                    <a:pt x="777" y="276"/>
                  </a:lnTo>
                  <a:lnTo>
                    <a:pt x="751" y="257"/>
                  </a:lnTo>
                  <a:lnTo>
                    <a:pt x="726" y="237"/>
                  </a:lnTo>
                  <a:lnTo>
                    <a:pt x="702" y="216"/>
                  </a:lnTo>
                  <a:lnTo>
                    <a:pt x="679" y="195"/>
                  </a:lnTo>
                  <a:lnTo>
                    <a:pt x="656" y="175"/>
                  </a:lnTo>
                  <a:lnTo>
                    <a:pt x="636" y="155"/>
                  </a:lnTo>
                  <a:lnTo>
                    <a:pt x="618" y="136"/>
                  </a:lnTo>
                  <a:lnTo>
                    <a:pt x="586" y="102"/>
                  </a:lnTo>
                  <a:lnTo>
                    <a:pt x="562" y="74"/>
                  </a:lnTo>
                  <a:lnTo>
                    <a:pt x="546" y="57"/>
                  </a:lnTo>
                  <a:lnTo>
                    <a:pt x="541" y="50"/>
                  </a:lnTo>
                  <a:close/>
                </a:path>
              </a:pathLst>
            </a:custGeom>
            <a:solidFill>
              <a:srgbClr val="93d5ed"/>
            </a:solidFill>
            <a:ln w="3240">
              <a:solidFill>
                <a:srgbClr val="ccecff"/>
              </a:solidFill>
              <a:round/>
            </a:ln>
          </p:spPr>
          <p:style>
            <a:lnRef idx="0"/>
            <a:fillRef idx="0"/>
            <a:effectRef idx="0"/>
            <a:fontRef idx="minor"/>
          </p:style>
          <p:txBody>
            <a:bodyPr lIns="90000" rIns="90000" tIns="-29880" bIns="-29880" anchor="t">
              <a:noAutofit/>
            </a:bodyPr>
            <a:p>
              <a:endParaRPr b="1" lang="en-US" sz="2400" spc="-1" strike="noStrike">
                <a:solidFill>
                  <a:srgbClr val="ffffff"/>
                </a:solidFill>
                <a:latin typeface="Times New Roman"/>
              </a:endParaRPr>
            </a:p>
          </p:txBody>
        </p:sp>
        <p:sp>
          <p:nvSpPr>
            <p:cNvPr id="427" name="Freeform 1534"/>
            <p:cNvSpPr/>
            <p:nvPr/>
          </p:nvSpPr>
          <p:spPr>
            <a:xfrm>
              <a:off x="3054240" y="4539960"/>
              <a:ext cx="97200" cy="222120"/>
            </a:xfrm>
            <a:custGeom>
              <a:avLst/>
              <a:gdLst>
                <a:gd name="textAreaLeft" fmla="*/ 0 w 97200"/>
                <a:gd name="textAreaRight" fmla="*/ 97560 w 97200"/>
                <a:gd name="textAreaTop" fmla="*/ 0 h 222120"/>
                <a:gd name="textAreaBottom" fmla="*/ 222480 h 222120"/>
              </a:gdLst>
              <a:ahLst/>
              <a:rect l="textAreaLeft" t="textAreaTop" r="textAreaRight" b="textAreaBottom"/>
              <a:pathLst>
                <a:path w="3046" h="8222">
                  <a:moveTo>
                    <a:pt x="3046" y="2097"/>
                  </a:moveTo>
                  <a:lnTo>
                    <a:pt x="3046" y="0"/>
                  </a:lnTo>
                  <a:lnTo>
                    <a:pt x="0" y="6752"/>
                  </a:lnTo>
                  <a:lnTo>
                    <a:pt x="343" y="8222"/>
                  </a:lnTo>
                  <a:lnTo>
                    <a:pt x="3046" y="209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28" name="Freeform 1535"/>
            <p:cNvSpPr/>
            <p:nvPr/>
          </p:nvSpPr>
          <p:spPr>
            <a:xfrm>
              <a:off x="3108240" y="4759560"/>
              <a:ext cx="24120" cy="72360"/>
            </a:xfrm>
            <a:custGeom>
              <a:avLst/>
              <a:gdLst>
                <a:gd name="textAreaLeft" fmla="*/ 0 w 24120"/>
                <a:gd name="textAreaRight" fmla="*/ 24480 w 24120"/>
                <a:gd name="textAreaTop" fmla="*/ 0 h 72360"/>
                <a:gd name="textAreaBottom" fmla="*/ 72720 h 72360"/>
              </a:gdLst>
              <a:ahLst/>
              <a:rect l="textAreaLeft" t="textAreaTop" r="textAreaRight" b="textAreaBottom"/>
              <a:pathLst>
                <a:path w="755" h="2694">
                  <a:moveTo>
                    <a:pt x="755" y="2146"/>
                  </a:moveTo>
                  <a:lnTo>
                    <a:pt x="10" y="2694"/>
                  </a:lnTo>
                  <a:lnTo>
                    <a:pt x="0" y="548"/>
                  </a:lnTo>
                  <a:lnTo>
                    <a:pt x="745" y="0"/>
                  </a:lnTo>
                  <a:lnTo>
                    <a:pt x="755" y="2146"/>
                  </a:lnTo>
                  <a:close/>
                </a:path>
              </a:pathLst>
            </a:custGeom>
            <a:solidFill>
              <a:srgbClr val="93d5ed"/>
            </a:solidFill>
            <a:ln w="936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429" name="Freeform 1536"/>
            <p:cNvSpPr/>
            <p:nvPr/>
          </p:nvSpPr>
          <p:spPr>
            <a:xfrm>
              <a:off x="3079440" y="4749120"/>
              <a:ext cx="28440" cy="83160"/>
            </a:xfrm>
            <a:custGeom>
              <a:avLst/>
              <a:gdLst>
                <a:gd name="textAreaLeft" fmla="*/ 0 w 28440"/>
                <a:gd name="textAreaRight" fmla="*/ 28800 w 28440"/>
                <a:gd name="textAreaTop" fmla="*/ 0 h 83160"/>
                <a:gd name="textAreaBottom" fmla="*/ 83520 h 83160"/>
              </a:gdLst>
              <a:ahLst/>
              <a:rect l="textAreaLeft" t="textAreaTop" r="textAreaRight" b="textAreaBottom"/>
              <a:pathLst>
                <a:path w="891" h="3096">
                  <a:moveTo>
                    <a:pt x="881" y="950"/>
                  </a:moveTo>
                  <a:lnTo>
                    <a:pt x="891" y="3096"/>
                  </a:lnTo>
                  <a:lnTo>
                    <a:pt x="882" y="3087"/>
                  </a:lnTo>
                  <a:lnTo>
                    <a:pt x="855" y="3061"/>
                  </a:lnTo>
                  <a:lnTo>
                    <a:pt x="814" y="3020"/>
                  </a:lnTo>
                  <a:lnTo>
                    <a:pt x="759" y="2965"/>
                  </a:lnTo>
                  <a:lnTo>
                    <a:pt x="695" y="2900"/>
                  </a:lnTo>
                  <a:lnTo>
                    <a:pt x="622" y="2826"/>
                  </a:lnTo>
                  <a:lnTo>
                    <a:pt x="545" y="2746"/>
                  </a:lnTo>
                  <a:lnTo>
                    <a:pt x="464" y="2662"/>
                  </a:lnTo>
                  <a:lnTo>
                    <a:pt x="383" y="2575"/>
                  </a:lnTo>
                  <a:lnTo>
                    <a:pt x="304" y="2488"/>
                  </a:lnTo>
                  <a:lnTo>
                    <a:pt x="265" y="2446"/>
                  </a:lnTo>
                  <a:lnTo>
                    <a:pt x="228" y="2404"/>
                  </a:lnTo>
                  <a:lnTo>
                    <a:pt x="193" y="2363"/>
                  </a:lnTo>
                  <a:lnTo>
                    <a:pt x="160" y="2324"/>
                  </a:lnTo>
                  <a:lnTo>
                    <a:pt x="129" y="2286"/>
                  </a:lnTo>
                  <a:lnTo>
                    <a:pt x="100" y="2249"/>
                  </a:lnTo>
                  <a:lnTo>
                    <a:pt x="75" y="2216"/>
                  </a:lnTo>
                  <a:lnTo>
                    <a:pt x="53" y="2184"/>
                  </a:lnTo>
                  <a:lnTo>
                    <a:pt x="34" y="2156"/>
                  </a:lnTo>
                  <a:lnTo>
                    <a:pt x="18" y="2129"/>
                  </a:lnTo>
                  <a:lnTo>
                    <a:pt x="7" y="2107"/>
                  </a:lnTo>
                  <a:lnTo>
                    <a:pt x="0" y="2087"/>
                  </a:lnTo>
                  <a:lnTo>
                    <a:pt x="0" y="0"/>
                  </a:lnTo>
                  <a:lnTo>
                    <a:pt x="6" y="8"/>
                  </a:lnTo>
                  <a:lnTo>
                    <a:pt x="23" y="30"/>
                  </a:lnTo>
                  <a:lnTo>
                    <a:pt x="52" y="64"/>
                  </a:lnTo>
                  <a:lnTo>
                    <a:pt x="90" y="110"/>
                  </a:lnTo>
                  <a:lnTo>
                    <a:pt x="135" y="165"/>
                  </a:lnTo>
                  <a:lnTo>
                    <a:pt x="189" y="228"/>
                  </a:lnTo>
                  <a:lnTo>
                    <a:pt x="248" y="298"/>
                  </a:lnTo>
                  <a:lnTo>
                    <a:pt x="313" y="373"/>
                  </a:lnTo>
                  <a:lnTo>
                    <a:pt x="380" y="450"/>
                  </a:lnTo>
                  <a:lnTo>
                    <a:pt x="452" y="529"/>
                  </a:lnTo>
                  <a:lnTo>
                    <a:pt x="525" y="609"/>
                  </a:lnTo>
                  <a:lnTo>
                    <a:pt x="599" y="686"/>
                  </a:lnTo>
                  <a:lnTo>
                    <a:pt x="636" y="725"/>
                  </a:lnTo>
                  <a:lnTo>
                    <a:pt x="673" y="761"/>
                  </a:lnTo>
                  <a:lnTo>
                    <a:pt x="710" y="797"/>
                  </a:lnTo>
                  <a:lnTo>
                    <a:pt x="745" y="831"/>
                  </a:lnTo>
                  <a:lnTo>
                    <a:pt x="780" y="864"/>
                  </a:lnTo>
                  <a:lnTo>
                    <a:pt x="816" y="895"/>
                  </a:lnTo>
                  <a:lnTo>
                    <a:pt x="849" y="923"/>
                  </a:lnTo>
                  <a:lnTo>
                    <a:pt x="881" y="950"/>
                  </a:lnTo>
                  <a:close/>
                </a:path>
              </a:pathLst>
            </a:custGeom>
            <a:solidFill>
              <a:srgbClr val="93d5ed"/>
            </a:solidFill>
            <a:ln w="9360">
              <a:solidFill>
                <a:srgbClr val="ccecff"/>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Times New Roman"/>
              </a:endParaRPr>
            </a:p>
          </p:txBody>
        </p:sp>
        <p:sp>
          <p:nvSpPr>
            <p:cNvPr id="430" name="Freeform 1537"/>
            <p:cNvSpPr/>
            <p:nvPr/>
          </p:nvSpPr>
          <p:spPr>
            <a:xfrm>
              <a:off x="3047760" y="4743720"/>
              <a:ext cx="9000" cy="59760"/>
            </a:xfrm>
            <a:custGeom>
              <a:avLst/>
              <a:gdLst>
                <a:gd name="textAreaLeft" fmla="*/ 0 w 9000"/>
                <a:gd name="textAreaRight" fmla="*/ 9360 w 9000"/>
                <a:gd name="textAreaTop" fmla="*/ 0 h 59760"/>
                <a:gd name="textAreaBottom" fmla="*/ 60120 h 59760"/>
              </a:gdLst>
              <a:ahLst/>
              <a:rect l="textAreaLeft" t="textAreaTop" r="textAreaRight" b="textAreaBottom"/>
              <a:pathLst>
                <a:path w="284" h="2192">
                  <a:moveTo>
                    <a:pt x="284" y="9"/>
                  </a:moveTo>
                  <a:lnTo>
                    <a:pt x="273" y="11"/>
                  </a:lnTo>
                  <a:lnTo>
                    <a:pt x="241" y="16"/>
                  </a:lnTo>
                  <a:lnTo>
                    <a:pt x="197" y="22"/>
                  </a:lnTo>
                  <a:lnTo>
                    <a:pt x="146" y="26"/>
                  </a:lnTo>
                  <a:lnTo>
                    <a:pt x="119" y="28"/>
                  </a:lnTo>
                  <a:lnTo>
                    <a:pt x="94" y="28"/>
                  </a:lnTo>
                  <a:lnTo>
                    <a:pt x="70" y="28"/>
                  </a:lnTo>
                  <a:lnTo>
                    <a:pt x="49" y="26"/>
                  </a:lnTo>
                  <a:lnTo>
                    <a:pt x="39" y="24"/>
                  </a:lnTo>
                  <a:lnTo>
                    <a:pt x="30" y="22"/>
                  </a:lnTo>
                  <a:lnTo>
                    <a:pt x="22" y="20"/>
                  </a:lnTo>
                  <a:lnTo>
                    <a:pt x="14" y="17"/>
                  </a:lnTo>
                  <a:lnTo>
                    <a:pt x="9" y="13"/>
                  </a:lnTo>
                  <a:lnTo>
                    <a:pt x="4" y="9"/>
                  </a:lnTo>
                  <a:lnTo>
                    <a:pt x="1" y="5"/>
                  </a:lnTo>
                  <a:lnTo>
                    <a:pt x="0" y="0"/>
                  </a:lnTo>
                  <a:lnTo>
                    <a:pt x="0" y="2126"/>
                  </a:lnTo>
                  <a:lnTo>
                    <a:pt x="12" y="2132"/>
                  </a:lnTo>
                  <a:lnTo>
                    <a:pt x="45" y="2145"/>
                  </a:lnTo>
                  <a:lnTo>
                    <a:pt x="66" y="2153"/>
                  </a:lnTo>
                  <a:lnTo>
                    <a:pt x="90" y="2161"/>
                  </a:lnTo>
                  <a:lnTo>
                    <a:pt x="115" y="2170"/>
                  </a:lnTo>
                  <a:lnTo>
                    <a:pt x="141" y="2177"/>
                  </a:lnTo>
                  <a:lnTo>
                    <a:pt x="169" y="2184"/>
                  </a:lnTo>
                  <a:lnTo>
                    <a:pt x="194" y="2189"/>
                  </a:lnTo>
                  <a:lnTo>
                    <a:pt x="206" y="2191"/>
                  </a:lnTo>
                  <a:lnTo>
                    <a:pt x="218" y="2192"/>
                  </a:lnTo>
                  <a:lnTo>
                    <a:pt x="229" y="2192"/>
                  </a:lnTo>
                  <a:lnTo>
                    <a:pt x="239" y="2192"/>
                  </a:lnTo>
                  <a:lnTo>
                    <a:pt x="249" y="2191"/>
                  </a:lnTo>
                  <a:lnTo>
                    <a:pt x="257" y="2189"/>
                  </a:lnTo>
                  <a:lnTo>
                    <a:pt x="265" y="2186"/>
                  </a:lnTo>
                  <a:lnTo>
                    <a:pt x="272" y="2182"/>
                  </a:lnTo>
                  <a:lnTo>
                    <a:pt x="277" y="2177"/>
                  </a:lnTo>
                  <a:lnTo>
                    <a:pt x="281" y="2171"/>
                  </a:lnTo>
                  <a:lnTo>
                    <a:pt x="284" y="2164"/>
                  </a:lnTo>
                  <a:lnTo>
                    <a:pt x="284" y="2155"/>
                  </a:lnTo>
                  <a:lnTo>
                    <a:pt x="284" y="2127"/>
                  </a:lnTo>
                  <a:lnTo>
                    <a:pt x="284" y="2055"/>
                  </a:lnTo>
                  <a:lnTo>
                    <a:pt x="284" y="1946"/>
                  </a:lnTo>
                  <a:lnTo>
                    <a:pt x="284" y="1808"/>
                  </a:lnTo>
                  <a:lnTo>
                    <a:pt x="284" y="1645"/>
                  </a:lnTo>
                  <a:lnTo>
                    <a:pt x="284" y="1463"/>
                  </a:lnTo>
                  <a:lnTo>
                    <a:pt x="284" y="1271"/>
                  </a:lnTo>
                  <a:lnTo>
                    <a:pt x="284" y="1071"/>
                  </a:lnTo>
                  <a:lnTo>
                    <a:pt x="284" y="872"/>
                  </a:lnTo>
                  <a:lnTo>
                    <a:pt x="284" y="681"/>
                  </a:lnTo>
                  <a:lnTo>
                    <a:pt x="284" y="501"/>
                  </a:lnTo>
                  <a:lnTo>
                    <a:pt x="284" y="341"/>
                  </a:lnTo>
                  <a:lnTo>
                    <a:pt x="284" y="205"/>
                  </a:lnTo>
                  <a:lnTo>
                    <a:pt x="284" y="101"/>
                  </a:lnTo>
                  <a:lnTo>
                    <a:pt x="284" y="33"/>
                  </a:lnTo>
                  <a:lnTo>
                    <a:pt x="284" y="9"/>
                  </a:lnTo>
                  <a:close/>
                </a:path>
              </a:pathLst>
            </a:custGeom>
            <a:solidFill>
              <a:srgbClr val="93d5ed"/>
            </a:solidFill>
            <a:ln w="9360">
              <a:solidFill>
                <a:srgbClr val="ccecff"/>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Times New Roman"/>
              </a:endParaRPr>
            </a:p>
          </p:txBody>
        </p:sp>
        <p:sp>
          <p:nvSpPr>
            <p:cNvPr id="431" name="Freeform 1538"/>
            <p:cNvSpPr/>
            <p:nvPr/>
          </p:nvSpPr>
          <p:spPr>
            <a:xfrm>
              <a:off x="2900520" y="4734720"/>
              <a:ext cx="7920" cy="62640"/>
            </a:xfrm>
            <a:custGeom>
              <a:avLst/>
              <a:gdLst>
                <a:gd name="textAreaLeft" fmla="*/ 0 w 7920"/>
                <a:gd name="textAreaRight" fmla="*/ 8280 w 7920"/>
                <a:gd name="textAreaTop" fmla="*/ 0 h 62640"/>
                <a:gd name="textAreaBottom" fmla="*/ 63000 h 62640"/>
              </a:gdLst>
              <a:ahLst/>
              <a:rect l="textAreaLeft" t="textAreaTop" r="textAreaRight" b="textAreaBottom"/>
              <a:pathLst>
                <a:path w="232" h="2324">
                  <a:moveTo>
                    <a:pt x="232" y="148"/>
                  </a:moveTo>
                  <a:lnTo>
                    <a:pt x="232" y="2323"/>
                  </a:lnTo>
                  <a:lnTo>
                    <a:pt x="222" y="2324"/>
                  </a:lnTo>
                  <a:lnTo>
                    <a:pt x="193" y="2323"/>
                  </a:lnTo>
                  <a:lnTo>
                    <a:pt x="174" y="2322"/>
                  </a:lnTo>
                  <a:lnTo>
                    <a:pt x="153" y="2319"/>
                  </a:lnTo>
                  <a:lnTo>
                    <a:pt x="131" y="2315"/>
                  </a:lnTo>
                  <a:lnTo>
                    <a:pt x="109" y="2309"/>
                  </a:lnTo>
                  <a:lnTo>
                    <a:pt x="98" y="2305"/>
                  </a:lnTo>
                  <a:lnTo>
                    <a:pt x="87" y="2299"/>
                  </a:lnTo>
                  <a:lnTo>
                    <a:pt x="76" y="2294"/>
                  </a:lnTo>
                  <a:lnTo>
                    <a:pt x="66" y="2288"/>
                  </a:lnTo>
                  <a:lnTo>
                    <a:pt x="56" y="2281"/>
                  </a:lnTo>
                  <a:lnTo>
                    <a:pt x="46" y="2274"/>
                  </a:lnTo>
                  <a:lnTo>
                    <a:pt x="37" y="2266"/>
                  </a:lnTo>
                  <a:lnTo>
                    <a:pt x="30" y="2257"/>
                  </a:lnTo>
                  <a:lnTo>
                    <a:pt x="23" y="2247"/>
                  </a:lnTo>
                  <a:lnTo>
                    <a:pt x="17" y="2236"/>
                  </a:lnTo>
                  <a:lnTo>
                    <a:pt x="12" y="2224"/>
                  </a:lnTo>
                  <a:lnTo>
                    <a:pt x="8" y="2211"/>
                  </a:lnTo>
                  <a:lnTo>
                    <a:pt x="6" y="2197"/>
                  </a:lnTo>
                  <a:lnTo>
                    <a:pt x="5" y="2180"/>
                  </a:lnTo>
                  <a:lnTo>
                    <a:pt x="5" y="2164"/>
                  </a:lnTo>
                  <a:lnTo>
                    <a:pt x="7" y="2146"/>
                  </a:lnTo>
                  <a:lnTo>
                    <a:pt x="7" y="0"/>
                  </a:lnTo>
                  <a:lnTo>
                    <a:pt x="5" y="8"/>
                  </a:lnTo>
                  <a:lnTo>
                    <a:pt x="1" y="29"/>
                  </a:lnTo>
                  <a:lnTo>
                    <a:pt x="0" y="43"/>
                  </a:lnTo>
                  <a:lnTo>
                    <a:pt x="1" y="58"/>
                  </a:lnTo>
                  <a:lnTo>
                    <a:pt x="2" y="65"/>
                  </a:lnTo>
                  <a:lnTo>
                    <a:pt x="4" y="73"/>
                  </a:lnTo>
                  <a:lnTo>
                    <a:pt x="6" y="81"/>
                  </a:lnTo>
                  <a:lnTo>
                    <a:pt x="9" y="89"/>
                  </a:lnTo>
                  <a:lnTo>
                    <a:pt x="13" y="96"/>
                  </a:lnTo>
                  <a:lnTo>
                    <a:pt x="18" y="104"/>
                  </a:lnTo>
                  <a:lnTo>
                    <a:pt x="24" y="111"/>
                  </a:lnTo>
                  <a:lnTo>
                    <a:pt x="32" y="118"/>
                  </a:lnTo>
                  <a:lnTo>
                    <a:pt x="40" y="124"/>
                  </a:lnTo>
                  <a:lnTo>
                    <a:pt x="49" y="130"/>
                  </a:lnTo>
                  <a:lnTo>
                    <a:pt x="61" y="136"/>
                  </a:lnTo>
                  <a:lnTo>
                    <a:pt x="74" y="141"/>
                  </a:lnTo>
                  <a:lnTo>
                    <a:pt x="87" y="145"/>
                  </a:lnTo>
                  <a:lnTo>
                    <a:pt x="103" y="149"/>
                  </a:lnTo>
                  <a:lnTo>
                    <a:pt x="119" y="151"/>
                  </a:lnTo>
                  <a:lnTo>
                    <a:pt x="138" y="153"/>
                  </a:lnTo>
                  <a:lnTo>
                    <a:pt x="159" y="153"/>
                  </a:lnTo>
                  <a:lnTo>
                    <a:pt x="182" y="153"/>
                  </a:lnTo>
                  <a:lnTo>
                    <a:pt x="206" y="151"/>
                  </a:lnTo>
                  <a:lnTo>
                    <a:pt x="232" y="148"/>
                  </a:lnTo>
                  <a:close/>
                </a:path>
              </a:pathLst>
            </a:custGeom>
            <a:solidFill>
              <a:srgbClr val="93d5ed"/>
            </a:solidFill>
            <a:ln w="9360">
              <a:solidFill>
                <a:srgbClr val="ccecff"/>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Times New Roman"/>
              </a:endParaRPr>
            </a:p>
          </p:txBody>
        </p:sp>
        <p:sp>
          <p:nvSpPr>
            <p:cNvPr id="432" name="Freeform 1539"/>
            <p:cNvSpPr/>
            <p:nvPr/>
          </p:nvSpPr>
          <p:spPr>
            <a:xfrm>
              <a:off x="2900520" y="4734720"/>
              <a:ext cx="7920" cy="62640"/>
            </a:xfrm>
            <a:custGeom>
              <a:avLst/>
              <a:gdLst>
                <a:gd name="textAreaLeft" fmla="*/ 0 w 7920"/>
                <a:gd name="textAreaRight" fmla="*/ 8280 w 7920"/>
                <a:gd name="textAreaTop" fmla="*/ 0 h 62640"/>
                <a:gd name="textAreaBottom" fmla="*/ 63000 h 62640"/>
              </a:gdLst>
              <a:ahLst/>
              <a:rect l="textAreaLeft" t="textAreaTop" r="textAreaRight" b="textAreaBottom"/>
              <a:pathLst>
                <a:path w="232" h="2324">
                  <a:moveTo>
                    <a:pt x="232" y="148"/>
                  </a:moveTo>
                  <a:lnTo>
                    <a:pt x="232" y="2323"/>
                  </a:lnTo>
                  <a:lnTo>
                    <a:pt x="222" y="2324"/>
                  </a:lnTo>
                  <a:lnTo>
                    <a:pt x="193" y="2323"/>
                  </a:lnTo>
                  <a:lnTo>
                    <a:pt x="174" y="2322"/>
                  </a:lnTo>
                  <a:lnTo>
                    <a:pt x="153" y="2319"/>
                  </a:lnTo>
                  <a:lnTo>
                    <a:pt x="131" y="2315"/>
                  </a:lnTo>
                  <a:lnTo>
                    <a:pt x="109" y="2309"/>
                  </a:lnTo>
                  <a:lnTo>
                    <a:pt x="98" y="2305"/>
                  </a:lnTo>
                  <a:lnTo>
                    <a:pt x="87" y="2299"/>
                  </a:lnTo>
                  <a:lnTo>
                    <a:pt x="76" y="2294"/>
                  </a:lnTo>
                  <a:lnTo>
                    <a:pt x="66" y="2288"/>
                  </a:lnTo>
                  <a:lnTo>
                    <a:pt x="56" y="2281"/>
                  </a:lnTo>
                  <a:lnTo>
                    <a:pt x="46" y="2274"/>
                  </a:lnTo>
                  <a:lnTo>
                    <a:pt x="37" y="2266"/>
                  </a:lnTo>
                  <a:lnTo>
                    <a:pt x="30" y="2257"/>
                  </a:lnTo>
                  <a:lnTo>
                    <a:pt x="23" y="2247"/>
                  </a:lnTo>
                  <a:lnTo>
                    <a:pt x="17" y="2236"/>
                  </a:lnTo>
                  <a:lnTo>
                    <a:pt x="12" y="2224"/>
                  </a:lnTo>
                  <a:lnTo>
                    <a:pt x="8" y="2211"/>
                  </a:lnTo>
                  <a:lnTo>
                    <a:pt x="6" y="2197"/>
                  </a:lnTo>
                  <a:lnTo>
                    <a:pt x="5" y="2180"/>
                  </a:lnTo>
                  <a:lnTo>
                    <a:pt x="5" y="2164"/>
                  </a:lnTo>
                  <a:lnTo>
                    <a:pt x="7" y="2146"/>
                  </a:lnTo>
                  <a:lnTo>
                    <a:pt x="7" y="0"/>
                  </a:lnTo>
                  <a:lnTo>
                    <a:pt x="5" y="8"/>
                  </a:lnTo>
                  <a:lnTo>
                    <a:pt x="1" y="29"/>
                  </a:lnTo>
                  <a:lnTo>
                    <a:pt x="0" y="43"/>
                  </a:lnTo>
                  <a:lnTo>
                    <a:pt x="1" y="58"/>
                  </a:lnTo>
                  <a:lnTo>
                    <a:pt x="2" y="65"/>
                  </a:lnTo>
                  <a:lnTo>
                    <a:pt x="4" y="73"/>
                  </a:lnTo>
                  <a:lnTo>
                    <a:pt x="6" y="81"/>
                  </a:lnTo>
                  <a:lnTo>
                    <a:pt x="9" y="89"/>
                  </a:lnTo>
                  <a:lnTo>
                    <a:pt x="13" y="96"/>
                  </a:lnTo>
                  <a:lnTo>
                    <a:pt x="18" y="104"/>
                  </a:lnTo>
                  <a:lnTo>
                    <a:pt x="24" y="111"/>
                  </a:lnTo>
                  <a:lnTo>
                    <a:pt x="32" y="118"/>
                  </a:lnTo>
                  <a:lnTo>
                    <a:pt x="40" y="124"/>
                  </a:lnTo>
                  <a:lnTo>
                    <a:pt x="49" y="130"/>
                  </a:lnTo>
                  <a:lnTo>
                    <a:pt x="61" y="136"/>
                  </a:lnTo>
                  <a:lnTo>
                    <a:pt x="74" y="141"/>
                  </a:lnTo>
                  <a:lnTo>
                    <a:pt x="87" y="145"/>
                  </a:lnTo>
                  <a:lnTo>
                    <a:pt x="103" y="149"/>
                  </a:lnTo>
                  <a:lnTo>
                    <a:pt x="119" y="151"/>
                  </a:lnTo>
                  <a:lnTo>
                    <a:pt x="138" y="153"/>
                  </a:lnTo>
                  <a:lnTo>
                    <a:pt x="159" y="153"/>
                  </a:lnTo>
                  <a:lnTo>
                    <a:pt x="182" y="153"/>
                  </a:lnTo>
                  <a:lnTo>
                    <a:pt x="206" y="151"/>
                  </a:lnTo>
                  <a:lnTo>
                    <a:pt x="232" y="148"/>
                  </a:lnTo>
                  <a:close/>
                </a:path>
              </a:pathLst>
            </a:custGeom>
            <a:solidFill>
              <a:srgbClr val="93d5ed"/>
            </a:solidFill>
            <a:ln w="3240">
              <a:solidFill>
                <a:srgbClr val="ccecff"/>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Times New Roman"/>
              </a:endParaRPr>
            </a:p>
          </p:txBody>
        </p:sp>
        <p:sp>
          <p:nvSpPr>
            <p:cNvPr id="433" name="Freeform 1540"/>
            <p:cNvSpPr/>
            <p:nvPr/>
          </p:nvSpPr>
          <p:spPr>
            <a:xfrm>
              <a:off x="2868120" y="4742280"/>
              <a:ext cx="3240" cy="64080"/>
            </a:xfrm>
            <a:custGeom>
              <a:avLst/>
              <a:gdLst>
                <a:gd name="textAreaLeft" fmla="*/ 0 w 3240"/>
                <a:gd name="textAreaRight" fmla="*/ 3600 w 3240"/>
                <a:gd name="textAreaTop" fmla="*/ 0 h 64080"/>
                <a:gd name="textAreaBottom" fmla="*/ 64080 h 64080"/>
              </a:gdLst>
              <a:ahLst/>
              <a:rect l="textAreaLeft" t="textAreaTop" r="textAreaRight" b="textAreaBottom"/>
              <a:pathLst>
                <a:path w="112" h="2381">
                  <a:moveTo>
                    <a:pt x="0" y="225"/>
                  </a:moveTo>
                  <a:lnTo>
                    <a:pt x="6" y="222"/>
                  </a:lnTo>
                  <a:lnTo>
                    <a:pt x="21" y="212"/>
                  </a:lnTo>
                  <a:lnTo>
                    <a:pt x="31" y="204"/>
                  </a:lnTo>
                  <a:lnTo>
                    <a:pt x="42" y="195"/>
                  </a:lnTo>
                  <a:lnTo>
                    <a:pt x="53" y="184"/>
                  </a:lnTo>
                  <a:lnTo>
                    <a:pt x="66" y="171"/>
                  </a:lnTo>
                  <a:lnTo>
                    <a:pt x="77" y="157"/>
                  </a:lnTo>
                  <a:lnTo>
                    <a:pt x="87" y="140"/>
                  </a:lnTo>
                  <a:lnTo>
                    <a:pt x="92" y="131"/>
                  </a:lnTo>
                  <a:lnTo>
                    <a:pt x="96" y="122"/>
                  </a:lnTo>
                  <a:lnTo>
                    <a:pt x="100" y="112"/>
                  </a:lnTo>
                  <a:lnTo>
                    <a:pt x="104" y="101"/>
                  </a:lnTo>
                  <a:lnTo>
                    <a:pt x="107" y="90"/>
                  </a:lnTo>
                  <a:lnTo>
                    <a:pt x="109" y="79"/>
                  </a:lnTo>
                  <a:lnTo>
                    <a:pt x="111" y="67"/>
                  </a:lnTo>
                  <a:lnTo>
                    <a:pt x="112" y="55"/>
                  </a:lnTo>
                  <a:lnTo>
                    <a:pt x="112" y="42"/>
                  </a:lnTo>
                  <a:lnTo>
                    <a:pt x="112" y="28"/>
                  </a:lnTo>
                  <a:lnTo>
                    <a:pt x="110" y="15"/>
                  </a:lnTo>
                  <a:lnTo>
                    <a:pt x="108" y="0"/>
                  </a:lnTo>
                  <a:lnTo>
                    <a:pt x="98" y="2224"/>
                  </a:lnTo>
                  <a:lnTo>
                    <a:pt x="99" y="2228"/>
                  </a:lnTo>
                  <a:lnTo>
                    <a:pt x="98" y="2238"/>
                  </a:lnTo>
                  <a:lnTo>
                    <a:pt x="97" y="2245"/>
                  </a:lnTo>
                  <a:lnTo>
                    <a:pt x="96" y="2253"/>
                  </a:lnTo>
                  <a:lnTo>
                    <a:pt x="93" y="2262"/>
                  </a:lnTo>
                  <a:lnTo>
                    <a:pt x="90" y="2274"/>
                  </a:lnTo>
                  <a:lnTo>
                    <a:pt x="85" y="2285"/>
                  </a:lnTo>
                  <a:lnTo>
                    <a:pt x="79" y="2297"/>
                  </a:lnTo>
                  <a:lnTo>
                    <a:pt x="71" y="2310"/>
                  </a:lnTo>
                  <a:lnTo>
                    <a:pt x="62" y="2324"/>
                  </a:lnTo>
                  <a:lnTo>
                    <a:pt x="49" y="2337"/>
                  </a:lnTo>
                  <a:lnTo>
                    <a:pt x="35" y="2352"/>
                  </a:lnTo>
                  <a:lnTo>
                    <a:pt x="19" y="2366"/>
                  </a:lnTo>
                  <a:lnTo>
                    <a:pt x="0" y="2381"/>
                  </a:lnTo>
                  <a:lnTo>
                    <a:pt x="0" y="225"/>
                  </a:lnTo>
                  <a:close/>
                </a:path>
              </a:pathLst>
            </a:custGeom>
            <a:solidFill>
              <a:srgbClr val="93d5ed"/>
            </a:solidFill>
            <a:ln w="9360">
              <a:solidFill>
                <a:srgbClr val="ccecff"/>
              </a:solidFill>
              <a:round/>
            </a:ln>
          </p:spPr>
          <p:style>
            <a:lnRef idx="0"/>
            <a:fillRef idx="0"/>
            <a:effectRef idx="0"/>
            <a:fontRef idx="minor"/>
          </p:style>
          <p:txBody>
            <a:bodyPr lIns="90000" rIns="90000" tIns="17280" bIns="17280" anchor="t">
              <a:noAutofit/>
            </a:bodyPr>
            <a:p>
              <a:endParaRPr b="1" lang="en-US" sz="2400" spc="-1" strike="noStrike">
                <a:solidFill>
                  <a:srgbClr val="ffffff"/>
                </a:solidFill>
                <a:latin typeface="Times New Roman"/>
              </a:endParaRPr>
            </a:p>
          </p:txBody>
        </p:sp>
        <p:sp>
          <p:nvSpPr>
            <p:cNvPr id="434" name="Freeform 1541"/>
            <p:cNvSpPr/>
            <p:nvPr/>
          </p:nvSpPr>
          <p:spPr>
            <a:xfrm>
              <a:off x="2817720" y="4736160"/>
              <a:ext cx="5040" cy="58320"/>
            </a:xfrm>
            <a:custGeom>
              <a:avLst/>
              <a:gdLst>
                <a:gd name="textAreaLeft" fmla="*/ 0 w 5040"/>
                <a:gd name="textAreaRight" fmla="*/ 5400 w 5040"/>
                <a:gd name="textAreaTop" fmla="*/ 0 h 58320"/>
                <a:gd name="textAreaBottom" fmla="*/ 58680 h 58320"/>
              </a:gdLst>
              <a:ahLst/>
              <a:rect l="textAreaLeft" t="textAreaTop" r="textAreaRight" b="textAreaBottom"/>
              <a:pathLst>
                <a:path w="177" h="2156">
                  <a:moveTo>
                    <a:pt x="138" y="108"/>
                  </a:moveTo>
                  <a:lnTo>
                    <a:pt x="140" y="101"/>
                  </a:lnTo>
                  <a:lnTo>
                    <a:pt x="145" y="85"/>
                  </a:lnTo>
                  <a:lnTo>
                    <a:pt x="147" y="75"/>
                  </a:lnTo>
                  <a:lnTo>
                    <a:pt x="149" y="63"/>
                  </a:lnTo>
                  <a:lnTo>
                    <a:pt x="148" y="52"/>
                  </a:lnTo>
                  <a:lnTo>
                    <a:pt x="146" y="40"/>
                  </a:lnTo>
                  <a:lnTo>
                    <a:pt x="145" y="35"/>
                  </a:lnTo>
                  <a:lnTo>
                    <a:pt x="142" y="29"/>
                  </a:lnTo>
                  <a:lnTo>
                    <a:pt x="139" y="24"/>
                  </a:lnTo>
                  <a:lnTo>
                    <a:pt x="135" y="19"/>
                  </a:lnTo>
                  <a:lnTo>
                    <a:pt x="129" y="15"/>
                  </a:lnTo>
                  <a:lnTo>
                    <a:pt x="123" y="11"/>
                  </a:lnTo>
                  <a:lnTo>
                    <a:pt x="116" y="7"/>
                  </a:lnTo>
                  <a:lnTo>
                    <a:pt x="108" y="4"/>
                  </a:lnTo>
                  <a:lnTo>
                    <a:pt x="99" y="2"/>
                  </a:lnTo>
                  <a:lnTo>
                    <a:pt x="89" y="1"/>
                  </a:lnTo>
                  <a:lnTo>
                    <a:pt x="78" y="0"/>
                  </a:lnTo>
                  <a:lnTo>
                    <a:pt x="65" y="0"/>
                  </a:lnTo>
                  <a:lnTo>
                    <a:pt x="51" y="1"/>
                  </a:lnTo>
                  <a:lnTo>
                    <a:pt x="36" y="3"/>
                  </a:lnTo>
                  <a:lnTo>
                    <a:pt x="19" y="6"/>
                  </a:lnTo>
                  <a:lnTo>
                    <a:pt x="0" y="10"/>
                  </a:lnTo>
                  <a:lnTo>
                    <a:pt x="0" y="2156"/>
                  </a:lnTo>
                  <a:lnTo>
                    <a:pt x="8" y="2153"/>
                  </a:lnTo>
                  <a:lnTo>
                    <a:pt x="25" y="2145"/>
                  </a:lnTo>
                  <a:lnTo>
                    <a:pt x="37" y="2139"/>
                  </a:lnTo>
                  <a:lnTo>
                    <a:pt x="51" y="2134"/>
                  </a:lnTo>
                  <a:lnTo>
                    <a:pt x="66" y="2130"/>
                  </a:lnTo>
                  <a:lnTo>
                    <a:pt x="81" y="2126"/>
                  </a:lnTo>
                  <a:lnTo>
                    <a:pt x="97" y="2123"/>
                  </a:lnTo>
                  <a:lnTo>
                    <a:pt x="112" y="2121"/>
                  </a:lnTo>
                  <a:lnTo>
                    <a:pt x="127" y="2121"/>
                  </a:lnTo>
                  <a:lnTo>
                    <a:pt x="141" y="2122"/>
                  </a:lnTo>
                  <a:lnTo>
                    <a:pt x="148" y="2124"/>
                  </a:lnTo>
                  <a:lnTo>
                    <a:pt x="153" y="2126"/>
                  </a:lnTo>
                  <a:lnTo>
                    <a:pt x="159" y="2129"/>
                  </a:lnTo>
                  <a:lnTo>
                    <a:pt x="164" y="2133"/>
                  </a:lnTo>
                  <a:lnTo>
                    <a:pt x="168" y="2137"/>
                  </a:lnTo>
                  <a:lnTo>
                    <a:pt x="172" y="2143"/>
                  </a:lnTo>
                  <a:lnTo>
                    <a:pt x="175" y="2149"/>
                  </a:lnTo>
                  <a:lnTo>
                    <a:pt x="177" y="2156"/>
                  </a:lnTo>
                  <a:lnTo>
                    <a:pt x="138" y="108"/>
                  </a:lnTo>
                  <a:close/>
                </a:path>
              </a:pathLst>
            </a:custGeom>
            <a:solidFill>
              <a:srgbClr val="93d5ed"/>
            </a:solidFill>
            <a:ln w="9360">
              <a:solidFill>
                <a:srgbClr val="ccecff"/>
              </a:solidFill>
              <a:round/>
            </a:ln>
          </p:spPr>
          <p:style>
            <a:lnRef idx="0"/>
            <a:fillRef idx="0"/>
            <a:effectRef idx="0"/>
            <a:fontRef idx="minor"/>
          </p:style>
          <p:txBody>
            <a:bodyPr lIns="90000" rIns="90000" tIns="11880" bIns="11880" anchor="t">
              <a:noAutofit/>
            </a:bodyPr>
            <a:p>
              <a:endParaRPr b="1" lang="en-US" sz="2400" spc="-1" strike="noStrike">
                <a:solidFill>
                  <a:srgbClr val="ffffff"/>
                </a:solidFill>
                <a:latin typeface="Times New Roman"/>
              </a:endParaRPr>
            </a:p>
          </p:txBody>
        </p:sp>
        <p:sp>
          <p:nvSpPr>
            <p:cNvPr id="435" name="Freeform 1542"/>
            <p:cNvSpPr/>
            <p:nvPr/>
          </p:nvSpPr>
          <p:spPr>
            <a:xfrm>
              <a:off x="2779200" y="4742280"/>
              <a:ext cx="14400" cy="61200"/>
            </a:xfrm>
            <a:custGeom>
              <a:avLst/>
              <a:gdLst>
                <a:gd name="textAreaLeft" fmla="*/ 0 w 14400"/>
                <a:gd name="textAreaRight" fmla="*/ 14760 w 14400"/>
                <a:gd name="textAreaTop" fmla="*/ 0 h 61200"/>
                <a:gd name="textAreaBottom" fmla="*/ 61560 h 61200"/>
              </a:gdLst>
              <a:ahLst/>
              <a:rect l="textAreaLeft" t="textAreaTop" r="textAreaRight" b="textAreaBottom"/>
              <a:pathLst>
                <a:path w="461" h="2287">
                  <a:moveTo>
                    <a:pt x="461" y="127"/>
                  </a:moveTo>
                  <a:lnTo>
                    <a:pt x="440" y="130"/>
                  </a:lnTo>
                  <a:lnTo>
                    <a:pt x="389" y="138"/>
                  </a:lnTo>
                  <a:lnTo>
                    <a:pt x="354" y="142"/>
                  </a:lnTo>
                  <a:lnTo>
                    <a:pt x="314" y="145"/>
                  </a:lnTo>
                  <a:lnTo>
                    <a:pt x="294" y="145"/>
                  </a:lnTo>
                  <a:lnTo>
                    <a:pt x="273" y="146"/>
                  </a:lnTo>
                  <a:lnTo>
                    <a:pt x="252" y="146"/>
                  </a:lnTo>
                  <a:lnTo>
                    <a:pt x="231" y="145"/>
                  </a:lnTo>
                  <a:lnTo>
                    <a:pt x="209" y="144"/>
                  </a:lnTo>
                  <a:lnTo>
                    <a:pt x="187" y="142"/>
                  </a:lnTo>
                  <a:lnTo>
                    <a:pt x="166" y="139"/>
                  </a:lnTo>
                  <a:lnTo>
                    <a:pt x="146" y="136"/>
                  </a:lnTo>
                  <a:lnTo>
                    <a:pt x="126" y="130"/>
                  </a:lnTo>
                  <a:lnTo>
                    <a:pt x="107" y="125"/>
                  </a:lnTo>
                  <a:lnTo>
                    <a:pt x="89" y="118"/>
                  </a:lnTo>
                  <a:lnTo>
                    <a:pt x="73" y="111"/>
                  </a:lnTo>
                  <a:lnTo>
                    <a:pt x="56" y="102"/>
                  </a:lnTo>
                  <a:lnTo>
                    <a:pt x="42" y="92"/>
                  </a:lnTo>
                  <a:lnTo>
                    <a:pt x="30" y="80"/>
                  </a:lnTo>
                  <a:lnTo>
                    <a:pt x="20" y="68"/>
                  </a:lnTo>
                  <a:lnTo>
                    <a:pt x="12" y="53"/>
                  </a:lnTo>
                  <a:lnTo>
                    <a:pt x="5" y="37"/>
                  </a:lnTo>
                  <a:lnTo>
                    <a:pt x="2" y="20"/>
                  </a:lnTo>
                  <a:lnTo>
                    <a:pt x="0" y="0"/>
                  </a:lnTo>
                  <a:lnTo>
                    <a:pt x="0" y="2117"/>
                  </a:lnTo>
                  <a:lnTo>
                    <a:pt x="5" y="2126"/>
                  </a:lnTo>
                  <a:lnTo>
                    <a:pt x="21" y="2151"/>
                  </a:lnTo>
                  <a:lnTo>
                    <a:pt x="34" y="2168"/>
                  </a:lnTo>
                  <a:lnTo>
                    <a:pt x="50" y="2185"/>
                  </a:lnTo>
                  <a:lnTo>
                    <a:pt x="59" y="2194"/>
                  </a:lnTo>
                  <a:lnTo>
                    <a:pt x="71" y="2203"/>
                  </a:lnTo>
                  <a:lnTo>
                    <a:pt x="82" y="2212"/>
                  </a:lnTo>
                  <a:lnTo>
                    <a:pt x="95" y="2221"/>
                  </a:lnTo>
                  <a:lnTo>
                    <a:pt x="108" y="2230"/>
                  </a:lnTo>
                  <a:lnTo>
                    <a:pt x="123" y="2238"/>
                  </a:lnTo>
                  <a:lnTo>
                    <a:pt x="139" y="2246"/>
                  </a:lnTo>
                  <a:lnTo>
                    <a:pt x="155" y="2254"/>
                  </a:lnTo>
                  <a:lnTo>
                    <a:pt x="173" y="2261"/>
                  </a:lnTo>
                  <a:lnTo>
                    <a:pt x="193" y="2267"/>
                  </a:lnTo>
                  <a:lnTo>
                    <a:pt x="214" y="2273"/>
                  </a:lnTo>
                  <a:lnTo>
                    <a:pt x="236" y="2278"/>
                  </a:lnTo>
                  <a:lnTo>
                    <a:pt x="259" y="2282"/>
                  </a:lnTo>
                  <a:lnTo>
                    <a:pt x="283" y="2284"/>
                  </a:lnTo>
                  <a:lnTo>
                    <a:pt x="309" y="2287"/>
                  </a:lnTo>
                  <a:lnTo>
                    <a:pt x="337" y="2287"/>
                  </a:lnTo>
                  <a:lnTo>
                    <a:pt x="366" y="2286"/>
                  </a:lnTo>
                  <a:lnTo>
                    <a:pt x="396" y="2283"/>
                  </a:lnTo>
                  <a:lnTo>
                    <a:pt x="427" y="2279"/>
                  </a:lnTo>
                  <a:lnTo>
                    <a:pt x="461" y="2273"/>
                  </a:lnTo>
                  <a:lnTo>
                    <a:pt x="461" y="127"/>
                  </a:lnTo>
                  <a:close/>
                </a:path>
              </a:pathLst>
            </a:custGeom>
            <a:solidFill>
              <a:srgbClr val="93d5ed"/>
            </a:solidFill>
            <a:ln w="9360">
              <a:solidFill>
                <a:srgbClr val="ccecff"/>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Times New Roman"/>
              </a:endParaRPr>
            </a:p>
          </p:txBody>
        </p:sp>
        <p:sp>
          <p:nvSpPr>
            <p:cNvPr id="436" name="Freeform 1543"/>
            <p:cNvSpPr/>
            <p:nvPr/>
          </p:nvSpPr>
          <p:spPr>
            <a:xfrm>
              <a:off x="2752200" y="4734720"/>
              <a:ext cx="13320" cy="60480"/>
            </a:xfrm>
            <a:custGeom>
              <a:avLst/>
              <a:gdLst>
                <a:gd name="textAreaLeft" fmla="*/ 0 w 13320"/>
                <a:gd name="textAreaRight" fmla="*/ 13680 w 13320"/>
                <a:gd name="textAreaTop" fmla="*/ 0 h 60480"/>
                <a:gd name="textAreaBottom" fmla="*/ 60840 h 60480"/>
              </a:gdLst>
              <a:ahLst/>
              <a:rect l="textAreaLeft" t="textAreaTop" r="textAreaRight" b="textAreaBottom"/>
              <a:pathLst>
                <a:path w="431" h="2221">
                  <a:moveTo>
                    <a:pt x="431" y="50"/>
                  </a:moveTo>
                  <a:lnTo>
                    <a:pt x="414" y="54"/>
                  </a:lnTo>
                  <a:lnTo>
                    <a:pt x="369" y="64"/>
                  </a:lnTo>
                  <a:lnTo>
                    <a:pt x="339" y="70"/>
                  </a:lnTo>
                  <a:lnTo>
                    <a:pt x="305" y="75"/>
                  </a:lnTo>
                  <a:lnTo>
                    <a:pt x="268" y="80"/>
                  </a:lnTo>
                  <a:lnTo>
                    <a:pt x="230" y="84"/>
                  </a:lnTo>
                  <a:lnTo>
                    <a:pt x="211" y="85"/>
                  </a:lnTo>
                  <a:lnTo>
                    <a:pt x="192" y="86"/>
                  </a:lnTo>
                  <a:lnTo>
                    <a:pt x="173" y="86"/>
                  </a:lnTo>
                  <a:lnTo>
                    <a:pt x="153" y="85"/>
                  </a:lnTo>
                  <a:lnTo>
                    <a:pt x="135" y="84"/>
                  </a:lnTo>
                  <a:lnTo>
                    <a:pt x="117" y="81"/>
                  </a:lnTo>
                  <a:lnTo>
                    <a:pt x="100" y="78"/>
                  </a:lnTo>
                  <a:lnTo>
                    <a:pt x="84" y="74"/>
                  </a:lnTo>
                  <a:lnTo>
                    <a:pt x="69" y="69"/>
                  </a:lnTo>
                  <a:lnTo>
                    <a:pt x="54" y="63"/>
                  </a:lnTo>
                  <a:lnTo>
                    <a:pt x="41" y="56"/>
                  </a:lnTo>
                  <a:lnTo>
                    <a:pt x="30" y="48"/>
                  </a:lnTo>
                  <a:lnTo>
                    <a:pt x="19" y="38"/>
                  </a:lnTo>
                  <a:lnTo>
                    <a:pt x="11" y="26"/>
                  </a:lnTo>
                  <a:lnTo>
                    <a:pt x="4" y="14"/>
                  </a:lnTo>
                  <a:lnTo>
                    <a:pt x="0" y="0"/>
                  </a:lnTo>
                  <a:lnTo>
                    <a:pt x="0" y="2156"/>
                  </a:lnTo>
                  <a:lnTo>
                    <a:pt x="8" y="2162"/>
                  </a:lnTo>
                  <a:lnTo>
                    <a:pt x="32" y="2175"/>
                  </a:lnTo>
                  <a:lnTo>
                    <a:pt x="49" y="2185"/>
                  </a:lnTo>
                  <a:lnTo>
                    <a:pt x="69" y="2194"/>
                  </a:lnTo>
                  <a:lnTo>
                    <a:pt x="93" y="2202"/>
                  </a:lnTo>
                  <a:lnTo>
                    <a:pt x="120" y="2209"/>
                  </a:lnTo>
                  <a:lnTo>
                    <a:pt x="134" y="2213"/>
                  </a:lnTo>
                  <a:lnTo>
                    <a:pt x="149" y="2215"/>
                  </a:lnTo>
                  <a:lnTo>
                    <a:pt x="166" y="2218"/>
                  </a:lnTo>
                  <a:lnTo>
                    <a:pt x="183" y="2219"/>
                  </a:lnTo>
                  <a:lnTo>
                    <a:pt x="200" y="2220"/>
                  </a:lnTo>
                  <a:lnTo>
                    <a:pt x="218" y="2221"/>
                  </a:lnTo>
                  <a:lnTo>
                    <a:pt x="236" y="2220"/>
                  </a:lnTo>
                  <a:lnTo>
                    <a:pt x="256" y="2219"/>
                  </a:lnTo>
                  <a:lnTo>
                    <a:pt x="275" y="2216"/>
                  </a:lnTo>
                  <a:lnTo>
                    <a:pt x="297" y="2213"/>
                  </a:lnTo>
                  <a:lnTo>
                    <a:pt x="318" y="2208"/>
                  </a:lnTo>
                  <a:lnTo>
                    <a:pt x="339" y="2203"/>
                  </a:lnTo>
                  <a:lnTo>
                    <a:pt x="361" y="2196"/>
                  </a:lnTo>
                  <a:lnTo>
                    <a:pt x="384" y="2188"/>
                  </a:lnTo>
                  <a:lnTo>
                    <a:pt x="408" y="2177"/>
                  </a:lnTo>
                  <a:lnTo>
                    <a:pt x="431" y="2166"/>
                  </a:lnTo>
                  <a:lnTo>
                    <a:pt x="431" y="50"/>
                  </a:lnTo>
                  <a:close/>
                </a:path>
              </a:pathLst>
            </a:custGeom>
            <a:solidFill>
              <a:srgbClr val="93d5ed"/>
            </a:solidFill>
            <a:ln w="9360">
              <a:solidFill>
                <a:srgbClr val="ccecff"/>
              </a:solidFill>
              <a:round/>
            </a:ln>
          </p:spPr>
          <p:style>
            <a:lnRef idx="0"/>
            <a:fillRef idx="0"/>
            <a:effectRef idx="0"/>
            <a:fontRef idx="minor"/>
          </p:style>
          <p:txBody>
            <a:bodyPr lIns="90000" rIns="90000" tIns="14040" bIns="14040" anchor="t">
              <a:noAutofit/>
            </a:bodyPr>
            <a:p>
              <a:endParaRPr b="1" lang="en-US" sz="2400" spc="-1" strike="noStrike">
                <a:solidFill>
                  <a:srgbClr val="ffffff"/>
                </a:solidFill>
                <a:latin typeface="Times New Roman"/>
              </a:endParaRPr>
            </a:p>
          </p:txBody>
        </p:sp>
        <p:sp>
          <p:nvSpPr>
            <p:cNvPr id="437" name="Freeform 1544"/>
            <p:cNvSpPr/>
            <p:nvPr/>
          </p:nvSpPr>
          <p:spPr>
            <a:xfrm>
              <a:off x="2714040" y="4692960"/>
              <a:ext cx="16920" cy="63360"/>
            </a:xfrm>
            <a:custGeom>
              <a:avLst/>
              <a:gdLst>
                <a:gd name="textAreaLeft" fmla="*/ 0 w 16920"/>
                <a:gd name="textAreaRight" fmla="*/ 17280 w 16920"/>
                <a:gd name="textAreaTop" fmla="*/ 0 h 63360"/>
                <a:gd name="textAreaBottom" fmla="*/ 63720 h 63360"/>
              </a:gdLst>
              <a:ahLst/>
              <a:rect l="textAreaLeft" t="textAreaTop" r="textAreaRight" b="textAreaBottom"/>
              <a:pathLst>
                <a:path w="519" h="2362">
                  <a:moveTo>
                    <a:pt x="519" y="216"/>
                  </a:moveTo>
                  <a:lnTo>
                    <a:pt x="519" y="2362"/>
                  </a:lnTo>
                  <a:lnTo>
                    <a:pt x="0" y="2146"/>
                  </a:lnTo>
                  <a:lnTo>
                    <a:pt x="0" y="0"/>
                  </a:lnTo>
                  <a:lnTo>
                    <a:pt x="519" y="216"/>
                  </a:lnTo>
                  <a:close/>
                </a:path>
              </a:pathLst>
            </a:custGeom>
            <a:solidFill>
              <a:srgbClr val="93d5ed"/>
            </a:solidFill>
            <a:ln w="9360">
              <a:solidFill>
                <a:srgbClr val="ccecff"/>
              </a:solidFill>
              <a:round/>
            </a:ln>
          </p:spPr>
          <p:style>
            <a:lnRef idx="0"/>
            <a:fillRef idx="0"/>
            <a:effectRef idx="0"/>
            <a:fontRef idx="minor"/>
          </p:style>
          <p:txBody>
            <a:bodyPr lIns="90000" rIns="90000" tIns="16920" bIns="16920" anchor="t">
              <a:noAutofit/>
            </a:bodyPr>
            <a:p>
              <a:endParaRPr b="1" lang="en-US" sz="2400" spc="-1" strike="noStrike">
                <a:solidFill>
                  <a:srgbClr val="ffffff"/>
                </a:solidFill>
                <a:latin typeface="Times New Roman"/>
              </a:endParaRPr>
            </a:p>
          </p:txBody>
        </p:sp>
        <p:sp>
          <p:nvSpPr>
            <p:cNvPr id="438" name="Freeform 1545"/>
            <p:cNvSpPr/>
            <p:nvPr/>
          </p:nvSpPr>
          <p:spPr>
            <a:xfrm>
              <a:off x="2814120" y="4639320"/>
              <a:ext cx="3600" cy="66960"/>
            </a:xfrm>
            <a:custGeom>
              <a:avLst/>
              <a:gdLst>
                <a:gd name="textAreaLeft" fmla="*/ 0 w 3600"/>
                <a:gd name="textAreaRight" fmla="*/ 3960 w 3600"/>
                <a:gd name="textAreaTop" fmla="*/ 0 h 66960"/>
                <a:gd name="textAreaBottom" fmla="*/ 67320 h 66960"/>
              </a:gdLst>
              <a:ahLst/>
              <a:rect l="textAreaLeft" t="textAreaTop" r="textAreaRight" b="textAreaBottom"/>
              <a:pathLst>
                <a:path w="97" h="2499">
                  <a:moveTo>
                    <a:pt x="97" y="274"/>
                  </a:moveTo>
                  <a:lnTo>
                    <a:pt x="97" y="2499"/>
                  </a:lnTo>
                  <a:lnTo>
                    <a:pt x="0" y="2215"/>
                  </a:lnTo>
                  <a:lnTo>
                    <a:pt x="0" y="0"/>
                  </a:lnTo>
                  <a:lnTo>
                    <a:pt x="97" y="274"/>
                  </a:lnTo>
                  <a:close/>
                </a:path>
              </a:pathLst>
            </a:custGeom>
            <a:solidFill>
              <a:srgbClr val="93d5ed"/>
            </a:solidFill>
            <a:ln w="9360">
              <a:solidFill>
                <a:srgbClr val="ccecff"/>
              </a:solidFill>
              <a:round/>
            </a:ln>
          </p:spPr>
          <p:style>
            <a:lnRef idx="0"/>
            <a:fillRef idx="0"/>
            <a:effectRef idx="0"/>
            <a:fontRef idx="minor"/>
          </p:style>
          <p:txBody>
            <a:bodyPr lIns="90000" rIns="90000" tIns="20520" bIns="20520" anchor="t">
              <a:noAutofit/>
            </a:bodyPr>
            <a:p>
              <a:endParaRPr b="1" lang="en-US" sz="2400" spc="-1" strike="noStrike">
                <a:solidFill>
                  <a:srgbClr val="ffffff"/>
                </a:solidFill>
                <a:latin typeface="Times New Roman"/>
              </a:endParaRPr>
            </a:p>
          </p:txBody>
        </p:sp>
        <p:sp>
          <p:nvSpPr>
            <p:cNvPr id="439" name="Freeform 1546"/>
            <p:cNvSpPr/>
            <p:nvPr/>
          </p:nvSpPr>
          <p:spPr>
            <a:xfrm>
              <a:off x="3161160" y="4809600"/>
              <a:ext cx="21600" cy="83880"/>
            </a:xfrm>
            <a:custGeom>
              <a:avLst/>
              <a:gdLst>
                <a:gd name="textAreaLeft" fmla="*/ 0 w 21600"/>
                <a:gd name="textAreaRight" fmla="*/ 21960 w 21600"/>
                <a:gd name="textAreaTop" fmla="*/ 0 h 83880"/>
                <a:gd name="textAreaBottom" fmla="*/ 84240 h 83880"/>
              </a:gdLst>
              <a:ahLst/>
              <a:rect l="textAreaLeft" t="textAreaTop" r="textAreaRight" b="textAreaBottom"/>
              <a:pathLst>
                <a:path w="686" h="3106">
                  <a:moveTo>
                    <a:pt x="677" y="0"/>
                  </a:moveTo>
                  <a:lnTo>
                    <a:pt x="676" y="3"/>
                  </a:lnTo>
                  <a:lnTo>
                    <a:pt x="674" y="12"/>
                  </a:lnTo>
                  <a:lnTo>
                    <a:pt x="669" y="29"/>
                  </a:lnTo>
                  <a:lnTo>
                    <a:pt x="661" y="51"/>
                  </a:lnTo>
                  <a:lnTo>
                    <a:pt x="647" y="81"/>
                  </a:lnTo>
                  <a:lnTo>
                    <a:pt x="630" y="117"/>
                  </a:lnTo>
                  <a:lnTo>
                    <a:pt x="619" y="140"/>
                  </a:lnTo>
                  <a:lnTo>
                    <a:pt x="607" y="163"/>
                  </a:lnTo>
                  <a:lnTo>
                    <a:pt x="593" y="188"/>
                  </a:lnTo>
                  <a:lnTo>
                    <a:pt x="577" y="215"/>
                  </a:lnTo>
                  <a:lnTo>
                    <a:pt x="560" y="245"/>
                  </a:lnTo>
                  <a:lnTo>
                    <a:pt x="540" y="277"/>
                  </a:lnTo>
                  <a:lnTo>
                    <a:pt x="517" y="311"/>
                  </a:lnTo>
                  <a:lnTo>
                    <a:pt x="494" y="346"/>
                  </a:lnTo>
                  <a:lnTo>
                    <a:pt x="468" y="385"/>
                  </a:lnTo>
                  <a:lnTo>
                    <a:pt x="439" y="425"/>
                  </a:lnTo>
                  <a:lnTo>
                    <a:pt x="409" y="467"/>
                  </a:lnTo>
                  <a:lnTo>
                    <a:pt x="374" y="513"/>
                  </a:lnTo>
                  <a:lnTo>
                    <a:pt x="338" y="560"/>
                  </a:lnTo>
                  <a:lnTo>
                    <a:pt x="299" y="609"/>
                  </a:lnTo>
                  <a:lnTo>
                    <a:pt x="257" y="662"/>
                  </a:lnTo>
                  <a:lnTo>
                    <a:pt x="212" y="716"/>
                  </a:lnTo>
                  <a:lnTo>
                    <a:pt x="165" y="774"/>
                  </a:lnTo>
                  <a:lnTo>
                    <a:pt x="113" y="833"/>
                  </a:lnTo>
                  <a:lnTo>
                    <a:pt x="59" y="896"/>
                  </a:lnTo>
                  <a:lnTo>
                    <a:pt x="0" y="960"/>
                  </a:lnTo>
                  <a:lnTo>
                    <a:pt x="10" y="3106"/>
                  </a:lnTo>
                  <a:lnTo>
                    <a:pt x="17" y="3099"/>
                  </a:lnTo>
                  <a:lnTo>
                    <a:pt x="40" y="3077"/>
                  </a:lnTo>
                  <a:lnTo>
                    <a:pt x="73" y="3043"/>
                  </a:lnTo>
                  <a:lnTo>
                    <a:pt x="116" y="2997"/>
                  </a:lnTo>
                  <a:lnTo>
                    <a:pt x="167" y="2943"/>
                  </a:lnTo>
                  <a:lnTo>
                    <a:pt x="224" y="2880"/>
                  </a:lnTo>
                  <a:lnTo>
                    <a:pt x="285" y="2811"/>
                  </a:lnTo>
                  <a:lnTo>
                    <a:pt x="348" y="2736"/>
                  </a:lnTo>
                  <a:lnTo>
                    <a:pt x="379" y="2698"/>
                  </a:lnTo>
                  <a:lnTo>
                    <a:pt x="412" y="2659"/>
                  </a:lnTo>
                  <a:lnTo>
                    <a:pt x="442" y="2619"/>
                  </a:lnTo>
                  <a:lnTo>
                    <a:pt x="472" y="2579"/>
                  </a:lnTo>
                  <a:lnTo>
                    <a:pt x="501" y="2540"/>
                  </a:lnTo>
                  <a:lnTo>
                    <a:pt x="530" y="2499"/>
                  </a:lnTo>
                  <a:lnTo>
                    <a:pt x="556" y="2460"/>
                  </a:lnTo>
                  <a:lnTo>
                    <a:pt x="581" y="2421"/>
                  </a:lnTo>
                  <a:lnTo>
                    <a:pt x="603" y="2381"/>
                  </a:lnTo>
                  <a:lnTo>
                    <a:pt x="623" y="2344"/>
                  </a:lnTo>
                  <a:lnTo>
                    <a:pt x="641" y="2308"/>
                  </a:lnTo>
                  <a:lnTo>
                    <a:pt x="658" y="2271"/>
                  </a:lnTo>
                  <a:lnTo>
                    <a:pt x="670" y="2238"/>
                  </a:lnTo>
                  <a:lnTo>
                    <a:pt x="679" y="2206"/>
                  </a:lnTo>
                  <a:lnTo>
                    <a:pt x="684" y="2175"/>
                  </a:lnTo>
                  <a:lnTo>
                    <a:pt x="686" y="2146"/>
                  </a:lnTo>
                  <a:lnTo>
                    <a:pt x="677" y="0"/>
                  </a:lnTo>
                  <a:close/>
                </a:path>
              </a:pathLst>
            </a:custGeom>
            <a:solidFill>
              <a:srgbClr val="93d5ed"/>
            </a:solidFill>
            <a:ln w="9360">
              <a:solidFill>
                <a:srgbClr val="ccecff"/>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Times New Roman"/>
              </a:endParaRPr>
            </a:p>
          </p:txBody>
        </p:sp>
        <p:sp>
          <p:nvSpPr>
            <p:cNvPr id="440" name="Freeform 1547"/>
            <p:cNvSpPr/>
            <p:nvPr/>
          </p:nvSpPr>
          <p:spPr>
            <a:xfrm>
              <a:off x="2865240" y="4703040"/>
              <a:ext cx="99720" cy="93600"/>
            </a:xfrm>
            <a:custGeom>
              <a:avLst/>
              <a:gdLst>
                <a:gd name="textAreaLeft" fmla="*/ 0 w 99720"/>
                <a:gd name="textAreaRight" fmla="*/ 100080 w 99720"/>
                <a:gd name="textAreaTop" fmla="*/ 0 h 93600"/>
                <a:gd name="textAreaBottom" fmla="*/ 93960 h 93600"/>
              </a:gdLst>
              <a:ahLst/>
              <a:rect l="textAreaLeft" t="textAreaTop" r="textAreaRight" b="textAreaBottom"/>
              <a:pathLst>
                <a:path w="3088" h="3451">
                  <a:moveTo>
                    <a:pt x="3088" y="158"/>
                  </a:moveTo>
                  <a:lnTo>
                    <a:pt x="3088" y="2353"/>
                  </a:lnTo>
                  <a:lnTo>
                    <a:pt x="3087" y="2349"/>
                  </a:lnTo>
                  <a:lnTo>
                    <a:pt x="3086" y="2338"/>
                  </a:lnTo>
                  <a:lnTo>
                    <a:pt x="3084" y="2331"/>
                  </a:lnTo>
                  <a:lnTo>
                    <a:pt x="3081" y="2322"/>
                  </a:lnTo>
                  <a:lnTo>
                    <a:pt x="3077" y="2311"/>
                  </a:lnTo>
                  <a:lnTo>
                    <a:pt x="3072" y="2300"/>
                  </a:lnTo>
                  <a:lnTo>
                    <a:pt x="3066" y="2289"/>
                  </a:lnTo>
                  <a:lnTo>
                    <a:pt x="3057" y="2275"/>
                  </a:lnTo>
                  <a:lnTo>
                    <a:pt x="3047" y="2262"/>
                  </a:lnTo>
                  <a:lnTo>
                    <a:pt x="3034" y="2249"/>
                  </a:lnTo>
                  <a:lnTo>
                    <a:pt x="3020" y="2236"/>
                  </a:lnTo>
                  <a:lnTo>
                    <a:pt x="3004" y="2223"/>
                  </a:lnTo>
                  <a:lnTo>
                    <a:pt x="2985" y="2210"/>
                  </a:lnTo>
                  <a:lnTo>
                    <a:pt x="2963" y="2198"/>
                  </a:lnTo>
                  <a:lnTo>
                    <a:pt x="2938" y="2186"/>
                  </a:lnTo>
                  <a:lnTo>
                    <a:pt x="2909" y="2175"/>
                  </a:lnTo>
                  <a:lnTo>
                    <a:pt x="2878" y="2165"/>
                  </a:lnTo>
                  <a:lnTo>
                    <a:pt x="2844" y="2155"/>
                  </a:lnTo>
                  <a:lnTo>
                    <a:pt x="2805" y="2148"/>
                  </a:lnTo>
                  <a:lnTo>
                    <a:pt x="2763" y="2141"/>
                  </a:lnTo>
                  <a:lnTo>
                    <a:pt x="2717" y="2137"/>
                  </a:lnTo>
                  <a:lnTo>
                    <a:pt x="2666" y="2134"/>
                  </a:lnTo>
                  <a:lnTo>
                    <a:pt x="2611" y="2133"/>
                  </a:lnTo>
                  <a:lnTo>
                    <a:pt x="2552" y="2134"/>
                  </a:lnTo>
                  <a:lnTo>
                    <a:pt x="2487" y="2138"/>
                  </a:lnTo>
                  <a:lnTo>
                    <a:pt x="2419" y="2144"/>
                  </a:lnTo>
                  <a:lnTo>
                    <a:pt x="2344" y="2153"/>
                  </a:lnTo>
                  <a:lnTo>
                    <a:pt x="2264" y="2165"/>
                  </a:lnTo>
                  <a:lnTo>
                    <a:pt x="2179" y="2179"/>
                  </a:lnTo>
                  <a:lnTo>
                    <a:pt x="2088" y="2197"/>
                  </a:lnTo>
                  <a:lnTo>
                    <a:pt x="2082" y="2197"/>
                  </a:lnTo>
                  <a:lnTo>
                    <a:pt x="2062" y="2197"/>
                  </a:lnTo>
                  <a:lnTo>
                    <a:pt x="2032" y="2199"/>
                  </a:lnTo>
                  <a:lnTo>
                    <a:pt x="1991" y="2202"/>
                  </a:lnTo>
                  <a:lnTo>
                    <a:pt x="1942" y="2206"/>
                  </a:lnTo>
                  <a:lnTo>
                    <a:pt x="1887" y="2213"/>
                  </a:lnTo>
                  <a:lnTo>
                    <a:pt x="1857" y="2217"/>
                  </a:lnTo>
                  <a:lnTo>
                    <a:pt x="1827" y="2222"/>
                  </a:lnTo>
                  <a:lnTo>
                    <a:pt x="1795" y="2228"/>
                  </a:lnTo>
                  <a:lnTo>
                    <a:pt x="1762" y="2234"/>
                  </a:lnTo>
                  <a:lnTo>
                    <a:pt x="1730" y="2242"/>
                  </a:lnTo>
                  <a:lnTo>
                    <a:pt x="1697" y="2250"/>
                  </a:lnTo>
                  <a:lnTo>
                    <a:pt x="1664" y="2260"/>
                  </a:lnTo>
                  <a:lnTo>
                    <a:pt x="1630" y="2270"/>
                  </a:lnTo>
                  <a:lnTo>
                    <a:pt x="1597" y="2283"/>
                  </a:lnTo>
                  <a:lnTo>
                    <a:pt x="1565" y="2296"/>
                  </a:lnTo>
                  <a:lnTo>
                    <a:pt x="1533" y="2310"/>
                  </a:lnTo>
                  <a:lnTo>
                    <a:pt x="1501" y="2325"/>
                  </a:lnTo>
                  <a:lnTo>
                    <a:pt x="1471" y="2342"/>
                  </a:lnTo>
                  <a:lnTo>
                    <a:pt x="1443" y="2359"/>
                  </a:lnTo>
                  <a:lnTo>
                    <a:pt x="1415" y="2379"/>
                  </a:lnTo>
                  <a:lnTo>
                    <a:pt x="1389" y="2400"/>
                  </a:lnTo>
                  <a:lnTo>
                    <a:pt x="1365" y="2423"/>
                  </a:lnTo>
                  <a:lnTo>
                    <a:pt x="1343" y="2447"/>
                  </a:lnTo>
                  <a:lnTo>
                    <a:pt x="1323" y="2473"/>
                  </a:lnTo>
                  <a:lnTo>
                    <a:pt x="1305" y="2500"/>
                  </a:lnTo>
                  <a:lnTo>
                    <a:pt x="1283" y="2517"/>
                  </a:lnTo>
                  <a:lnTo>
                    <a:pt x="1223" y="2562"/>
                  </a:lnTo>
                  <a:lnTo>
                    <a:pt x="1136" y="2628"/>
                  </a:lnTo>
                  <a:lnTo>
                    <a:pt x="1035" y="2707"/>
                  </a:lnTo>
                  <a:lnTo>
                    <a:pt x="926" y="2793"/>
                  </a:lnTo>
                  <a:lnTo>
                    <a:pt x="821" y="2876"/>
                  </a:lnTo>
                  <a:lnTo>
                    <a:pt x="774" y="2916"/>
                  </a:lnTo>
                  <a:lnTo>
                    <a:pt x="732" y="2951"/>
                  </a:lnTo>
                  <a:lnTo>
                    <a:pt x="696" y="2983"/>
                  </a:lnTo>
                  <a:lnTo>
                    <a:pt x="668" y="3010"/>
                  </a:lnTo>
                  <a:lnTo>
                    <a:pt x="51" y="3343"/>
                  </a:lnTo>
                  <a:lnTo>
                    <a:pt x="22" y="3451"/>
                  </a:lnTo>
                  <a:lnTo>
                    <a:pt x="22" y="1275"/>
                  </a:lnTo>
                  <a:lnTo>
                    <a:pt x="18" y="1271"/>
                  </a:lnTo>
                  <a:lnTo>
                    <a:pt x="9" y="1260"/>
                  </a:lnTo>
                  <a:lnTo>
                    <a:pt x="5" y="1252"/>
                  </a:lnTo>
                  <a:lnTo>
                    <a:pt x="2" y="1243"/>
                  </a:lnTo>
                  <a:lnTo>
                    <a:pt x="1" y="1238"/>
                  </a:lnTo>
                  <a:lnTo>
                    <a:pt x="0" y="1233"/>
                  </a:lnTo>
                  <a:lnTo>
                    <a:pt x="0" y="1228"/>
                  </a:lnTo>
                  <a:lnTo>
                    <a:pt x="0" y="1223"/>
                  </a:lnTo>
                  <a:lnTo>
                    <a:pt x="1" y="1218"/>
                  </a:lnTo>
                  <a:lnTo>
                    <a:pt x="3" y="1213"/>
                  </a:lnTo>
                  <a:lnTo>
                    <a:pt x="6" y="1207"/>
                  </a:lnTo>
                  <a:lnTo>
                    <a:pt x="9" y="1201"/>
                  </a:lnTo>
                  <a:lnTo>
                    <a:pt x="14" y="1196"/>
                  </a:lnTo>
                  <a:lnTo>
                    <a:pt x="20" y="1190"/>
                  </a:lnTo>
                  <a:lnTo>
                    <a:pt x="26" y="1185"/>
                  </a:lnTo>
                  <a:lnTo>
                    <a:pt x="34" y="1180"/>
                  </a:lnTo>
                  <a:lnTo>
                    <a:pt x="43" y="1175"/>
                  </a:lnTo>
                  <a:lnTo>
                    <a:pt x="54" y="1171"/>
                  </a:lnTo>
                  <a:lnTo>
                    <a:pt x="65" y="1166"/>
                  </a:lnTo>
                  <a:lnTo>
                    <a:pt x="79" y="1162"/>
                  </a:lnTo>
                  <a:lnTo>
                    <a:pt x="93" y="1158"/>
                  </a:lnTo>
                  <a:lnTo>
                    <a:pt x="110" y="1154"/>
                  </a:lnTo>
                  <a:lnTo>
                    <a:pt x="128" y="1151"/>
                  </a:lnTo>
                  <a:lnTo>
                    <a:pt x="149" y="1148"/>
                  </a:lnTo>
                  <a:lnTo>
                    <a:pt x="158" y="1143"/>
                  </a:lnTo>
                  <a:lnTo>
                    <a:pt x="181" y="1129"/>
                  </a:lnTo>
                  <a:lnTo>
                    <a:pt x="219" y="1107"/>
                  </a:lnTo>
                  <a:lnTo>
                    <a:pt x="269" y="1077"/>
                  </a:lnTo>
                  <a:lnTo>
                    <a:pt x="328" y="1043"/>
                  </a:lnTo>
                  <a:lnTo>
                    <a:pt x="397" y="1003"/>
                  </a:lnTo>
                  <a:lnTo>
                    <a:pt x="470" y="957"/>
                  </a:lnTo>
                  <a:lnTo>
                    <a:pt x="549" y="910"/>
                  </a:lnTo>
                  <a:lnTo>
                    <a:pt x="630" y="861"/>
                  </a:lnTo>
                  <a:lnTo>
                    <a:pt x="713" y="810"/>
                  </a:lnTo>
                  <a:lnTo>
                    <a:pt x="794" y="760"/>
                  </a:lnTo>
                  <a:lnTo>
                    <a:pt x="872" y="709"/>
                  </a:lnTo>
                  <a:lnTo>
                    <a:pt x="946" y="662"/>
                  </a:lnTo>
                  <a:lnTo>
                    <a:pt x="1012" y="618"/>
                  </a:lnTo>
                  <a:lnTo>
                    <a:pt x="1043" y="596"/>
                  </a:lnTo>
                  <a:lnTo>
                    <a:pt x="1071" y="576"/>
                  </a:lnTo>
                  <a:lnTo>
                    <a:pt x="1096" y="558"/>
                  </a:lnTo>
                  <a:lnTo>
                    <a:pt x="1118" y="540"/>
                  </a:lnTo>
                  <a:lnTo>
                    <a:pt x="1462" y="178"/>
                  </a:lnTo>
                  <a:lnTo>
                    <a:pt x="1472" y="175"/>
                  </a:lnTo>
                  <a:lnTo>
                    <a:pt x="1501" y="167"/>
                  </a:lnTo>
                  <a:lnTo>
                    <a:pt x="1549" y="155"/>
                  </a:lnTo>
                  <a:lnTo>
                    <a:pt x="1612" y="139"/>
                  </a:lnTo>
                  <a:lnTo>
                    <a:pt x="1689" y="120"/>
                  </a:lnTo>
                  <a:lnTo>
                    <a:pt x="1778" y="100"/>
                  </a:lnTo>
                  <a:lnTo>
                    <a:pt x="1875" y="80"/>
                  </a:lnTo>
                  <a:lnTo>
                    <a:pt x="1982" y="60"/>
                  </a:lnTo>
                  <a:lnTo>
                    <a:pt x="2038" y="51"/>
                  </a:lnTo>
                  <a:lnTo>
                    <a:pt x="2094" y="42"/>
                  </a:lnTo>
                  <a:lnTo>
                    <a:pt x="2152" y="34"/>
                  </a:lnTo>
                  <a:lnTo>
                    <a:pt x="2211" y="26"/>
                  </a:lnTo>
                  <a:lnTo>
                    <a:pt x="2270" y="19"/>
                  </a:lnTo>
                  <a:lnTo>
                    <a:pt x="2330" y="13"/>
                  </a:lnTo>
                  <a:lnTo>
                    <a:pt x="2389" y="9"/>
                  </a:lnTo>
                  <a:lnTo>
                    <a:pt x="2449" y="4"/>
                  </a:lnTo>
                  <a:lnTo>
                    <a:pt x="2508" y="1"/>
                  </a:lnTo>
                  <a:lnTo>
                    <a:pt x="2567" y="0"/>
                  </a:lnTo>
                  <a:lnTo>
                    <a:pt x="2624" y="1"/>
                  </a:lnTo>
                  <a:lnTo>
                    <a:pt x="2681" y="3"/>
                  </a:lnTo>
                  <a:lnTo>
                    <a:pt x="2736" y="7"/>
                  </a:lnTo>
                  <a:lnTo>
                    <a:pt x="2790" y="14"/>
                  </a:lnTo>
                  <a:lnTo>
                    <a:pt x="2842" y="21"/>
                  </a:lnTo>
                  <a:lnTo>
                    <a:pt x="2891" y="31"/>
                  </a:lnTo>
                  <a:lnTo>
                    <a:pt x="3088" y="15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41" name="Freeform 1548"/>
            <p:cNvSpPr/>
            <p:nvPr/>
          </p:nvSpPr>
          <p:spPr>
            <a:xfrm>
              <a:off x="2908440" y="4719600"/>
              <a:ext cx="69840" cy="77760"/>
            </a:xfrm>
            <a:custGeom>
              <a:avLst/>
              <a:gdLst>
                <a:gd name="textAreaLeft" fmla="*/ 0 w 69840"/>
                <a:gd name="textAreaRight" fmla="*/ 70200 w 69840"/>
                <a:gd name="textAreaTop" fmla="*/ 0 h 77760"/>
                <a:gd name="textAreaBottom" fmla="*/ 78120 h 77760"/>
              </a:gdLst>
              <a:ahLst/>
              <a:rect l="textAreaLeft" t="textAreaTop" r="textAreaRight" b="textAreaBottom"/>
              <a:pathLst>
                <a:path w="2194" h="2905">
                  <a:moveTo>
                    <a:pt x="0" y="2905"/>
                  </a:moveTo>
                  <a:lnTo>
                    <a:pt x="9" y="2903"/>
                  </a:lnTo>
                  <a:lnTo>
                    <a:pt x="32" y="2898"/>
                  </a:lnTo>
                  <a:lnTo>
                    <a:pt x="70" y="2890"/>
                  </a:lnTo>
                  <a:lnTo>
                    <a:pt x="121" y="2877"/>
                  </a:lnTo>
                  <a:lnTo>
                    <a:pt x="182" y="2862"/>
                  </a:lnTo>
                  <a:lnTo>
                    <a:pt x="253" y="2844"/>
                  </a:lnTo>
                  <a:lnTo>
                    <a:pt x="332" y="2824"/>
                  </a:lnTo>
                  <a:lnTo>
                    <a:pt x="418" y="2801"/>
                  </a:lnTo>
                  <a:lnTo>
                    <a:pt x="509" y="2776"/>
                  </a:lnTo>
                  <a:lnTo>
                    <a:pt x="604" y="2747"/>
                  </a:lnTo>
                  <a:lnTo>
                    <a:pt x="700" y="2718"/>
                  </a:lnTo>
                  <a:lnTo>
                    <a:pt x="798" y="2686"/>
                  </a:lnTo>
                  <a:lnTo>
                    <a:pt x="847" y="2670"/>
                  </a:lnTo>
                  <a:lnTo>
                    <a:pt x="895" y="2653"/>
                  </a:lnTo>
                  <a:lnTo>
                    <a:pt x="942" y="2634"/>
                  </a:lnTo>
                  <a:lnTo>
                    <a:pt x="990" y="2617"/>
                  </a:lnTo>
                  <a:lnTo>
                    <a:pt x="1035" y="2599"/>
                  </a:lnTo>
                  <a:lnTo>
                    <a:pt x="1080" y="2580"/>
                  </a:lnTo>
                  <a:lnTo>
                    <a:pt x="1124" y="2562"/>
                  </a:lnTo>
                  <a:lnTo>
                    <a:pt x="1166" y="2543"/>
                  </a:lnTo>
                  <a:lnTo>
                    <a:pt x="1401" y="2445"/>
                  </a:lnTo>
                  <a:lnTo>
                    <a:pt x="1408" y="2437"/>
                  </a:lnTo>
                  <a:lnTo>
                    <a:pt x="1429" y="2417"/>
                  </a:lnTo>
                  <a:lnTo>
                    <a:pt x="1461" y="2386"/>
                  </a:lnTo>
                  <a:lnTo>
                    <a:pt x="1501" y="2351"/>
                  </a:lnTo>
                  <a:lnTo>
                    <a:pt x="1523" y="2333"/>
                  </a:lnTo>
                  <a:lnTo>
                    <a:pt x="1546" y="2314"/>
                  </a:lnTo>
                  <a:lnTo>
                    <a:pt x="1570" y="2297"/>
                  </a:lnTo>
                  <a:lnTo>
                    <a:pt x="1596" y="2279"/>
                  </a:lnTo>
                  <a:lnTo>
                    <a:pt x="1621" y="2263"/>
                  </a:lnTo>
                  <a:lnTo>
                    <a:pt x="1646" y="2249"/>
                  </a:lnTo>
                  <a:lnTo>
                    <a:pt x="1658" y="2243"/>
                  </a:lnTo>
                  <a:lnTo>
                    <a:pt x="1671" y="2238"/>
                  </a:lnTo>
                  <a:lnTo>
                    <a:pt x="1683" y="2233"/>
                  </a:lnTo>
                  <a:lnTo>
                    <a:pt x="1695" y="2229"/>
                  </a:lnTo>
                  <a:lnTo>
                    <a:pt x="1707" y="2221"/>
                  </a:lnTo>
                  <a:lnTo>
                    <a:pt x="1743" y="2203"/>
                  </a:lnTo>
                  <a:lnTo>
                    <a:pt x="1768" y="2192"/>
                  </a:lnTo>
                  <a:lnTo>
                    <a:pt x="1796" y="2180"/>
                  </a:lnTo>
                  <a:lnTo>
                    <a:pt x="1828" y="2168"/>
                  </a:lnTo>
                  <a:lnTo>
                    <a:pt x="1864" y="2156"/>
                  </a:lnTo>
                  <a:lnTo>
                    <a:pt x="1883" y="2151"/>
                  </a:lnTo>
                  <a:lnTo>
                    <a:pt x="1902" y="2146"/>
                  </a:lnTo>
                  <a:lnTo>
                    <a:pt x="1921" y="2142"/>
                  </a:lnTo>
                  <a:lnTo>
                    <a:pt x="1941" y="2139"/>
                  </a:lnTo>
                  <a:lnTo>
                    <a:pt x="1962" y="2136"/>
                  </a:lnTo>
                  <a:lnTo>
                    <a:pt x="1984" y="2134"/>
                  </a:lnTo>
                  <a:lnTo>
                    <a:pt x="2004" y="2133"/>
                  </a:lnTo>
                  <a:lnTo>
                    <a:pt x="2026" y="2133"/>
                  </a:lnTo>
                  <a:lnTo>
                    <a:pt x="2047" y="2135"/>
                  </a:lnTo>
                  <a:lnTo>
                    <a:pt x="2068" y="2137"/>
                  </a:lnTo>
                  <a:lnTo>
                    <a:pt x="2089" y="2140"/>
                  </a:lnTo>
                  <a:lnTo>
                    <a:pt x="2112" y="2145"/>
                  </a:lnTo>
                  <a:lnTo>
                    <a:pt x="2133" y="2151"/>
                  </a:lnTo>
                  <a:lnTo>
                    <a:pt x="2153" y="2159"/>
                  </a:lnTo>
                  <a:lnTo>
                    <a:pt x="2174" y="2169"/>
                  </a:lnTo>
                  <a:lnTo>
                    <a:pt x="2194" y="2180"/>
                  </a:lnTo>
                  <a:lnTo>
                    <a:pt x="2194" y="24"/>
                  </a:lnTo>
                  <a:lnTo>
                    <a:pt x="2180" y="20"/>
                  </a:lnTo>
                  <a:lnTo>
                    <a:pt x="2141" y="12"/>
                  </a:lnTo>
                  <a:lnTo>
                    <a:pt x="2112" y="7"/>
                  </a:lnTo>
                  <a:lnTo>
                    <a:pt x="2078" y="3"/>
                  </a:lnTo>
                  <a:lnTo>
                    <a:pt x="2040" y="1"/>
                  </a:lnTo>
                  <a:lnTo>
                    <a:pt x="1998" y="0"/>
                  </a:lnTo>
                  <a:lnTo>
                    <a:pt x="1975" y="1"/>
                  </a:lnTo>
                  <a:lnTo>
                    <a:pt x="1951" y="2"/>
                  </a:lnTo>
                  <a:lnTo>
                    <a:pt x="1926" y="4"/>
                  </a:lnTo>
                  <a:lnTo>
                    <a:pt x="1901" y="7"/>
                  </a:lnTo>
                  <a:lnTo>
                    <a:pt x="1876" y="10"/>
                  </a:lnTo>
                  <a:lnTo>
                    <a:pt x="1849" y="16"/>
                  </a:lnTo>
                  <a:lnTo>
                    <a:pt x="1821" y="22"/>
                  </a:lnTo>
                  <a:lnTo>
                    <a:pt x="1794" y="28"/>
                  </a:lnTo>
                  <a:lnTo>
                    <a:pt x="1765" y="36"/>
                  </a:lnTo>
                  <a:lnTo>
                    <a:pt x="1737" y="46"/>
                  </a:lnTo>
                  <a:lnTo>
                    <a:pt x="1707" y="56"/>
                  </a:lnTo>
                  <a:lnTo>
                    <a:pt x="1678" y="68"/>
                  </a:lnTo>
                  <a:lnTo>
                    <a:pt x="1648" y="81"/>
                  </a:lnTo>
                  <a:lnTo>
                    <a:pt x="1619" y="96"/>
                  </a:lnTo>
                  <a:lnTo>
                    <a:pt x="1589" y="113"/>
                  </a:lnTo>
                  <a:lnTo>
                    <a:pt x="1558" y="132"/>
                  </a:lnTo>
                  <a:lnTo>
                    <a:pt x="1382" y="298"/>
                  </a:lnTo>
                  <a:lnTo>
                    <a:pt x="1371" y="303"/>
                  </a:lnTo>
                  <a:lnTo>
                    <a:pt x="1339" y="317"/>
                  </a:lnTo>
                  <a:lnTo>
                    <a:pt x="1288" y="338"/>
                  </a:lnTo>
                  <a:lnTo>
                    <a:pt x="1223" y="365"/>
                  </a:lnTo>
                  <a:lnTo>
                    <a:pt x="1142" y="399"/>
                  </a:lnTo>
                  <a:lnTo>
                    <a:pt x="1050" y="435"/>
                  </a:lnTo>
                  <a:lnTo>
                    <a:pt x="949" y="473"/>
                  </a:lnTo>
                  <a:lnTo>
                    <a:pt x="842" y="514"/>
                  </a:lnTo>
                  <a:lnTo>
                    <a:pt x="786" y="534"/>
                  </a:lnTo>
                  <a:lnTo>
                    <a:pt x="729" y="554"/>
                  </a:lnTo>
                  <a:lnTo>
                    <a:pt x="671" y="574"/>
                  </a:lnTo>
                  <a:lnTo>
                    <a:pt x="614" y="593"/>
                  </a:lnTo>
                  <a:lnTo>
                    <a:pt x="556" y="612"/>
                  </a:lnTo>
                  <a:lnTo>
                    <a:pt x="499" y="630"/>
                  </a:lnTo>
                  <a:lnTo>
                    <a:pt x="441" y="646"/>
                  </a:lnTo>
                  <a:lnTo>
                    <a:pt x="386" y="662"/>
                  </a:lnTo>
                  <a:lnTo>
                    <a:pt x="331" y="677"/>
                  </a:lnTo>
                  <a:lnTo>
                    <a:pt x="277" y="689"/>
                  </a:lnTo>
                  <a:lnTo>
                    <a:pt x="225" y="701"/>
                  </a:lnTo>
                  <a:lnTo>
                    <a:pt x="175" y="711"/>
                  </a:lnTo>
                  <a:lnTo>
                    <a:pt x="127" y="718"/>
                  </a:lnTo>
                  <a:lnTo>
                    <a:pt x="82" y="724"/>
                  </a:lnTo>
                  <a:lnTo>
                    <a:pt x="39" y="728"/>
                  </a:lnTo>
                  <a:lnTo>
                    <a:pt x="0" y="730"/>
                  </a:lnTo>
                  <a:lnTo>
                    <a:pt x="0" y="2905"/>
                  </a:lnTo>
                  <a:close/>
                </a:path>
              </a:pathLst>
            </a:custGeom>
            <a:solidFill>
              <a:srgbClr val="93d5ed"/>
            </a:solidFill>
            <a:ln w="9360">
              <a:solidFill>
                <a:srgbClr val="ccecff"/>
              </a:solidFill>
              <a:round/>
            </a:ln>
          </p:spPr>
          <p:style>
            <a:lnRef idx="0"/>
            <a:fillRef idx="0"/>
            <a:effectRef idx="0"/>
            <a:fontRef idx="minor"/>
          </p:style>
          <p:txBody>
            <a:bodyPr lIns="90000" rIns="90000" tIns="31320" bIns="31320" anchor="t">
              <a:noAutofit/>
            </a:bodyPr>
            <a:p>
              <a:endParaRPr b="1" lang="en-US" sz="2400" spc="-1" strike="noStrike">
                <a:solidFill>
                  <a:srgbClr val="ffffff"/>
                </a:solidFill>
                <a:latin typeface="Times New Roman"/>
              </a:endParaRPr>
            </a:p>
          </p:txBody>
        </p:sp>
        <p:sp>
          <p:nvSpPr>
            <p:cNvPr id="442" name="Freeform 1549"/>
            <p:cNvSpPr/>
            <p:nvPr/>
          </p:nvSpPr>
          <p:spPr>
            <a:xfrm>
              <a:off x="2709000" y="4785480"/>
              <a:ext cx="46440" cy="63360"/>
            </a:xfrm>
            <a:custGeom>
              <a:avLst/>
              <a:gdLst>
                <a:gd name="textAreaLeft" fmla="*/ 0 w 46440"/>
                <a:gd name="textAreaRight" fmla="*/ 46800 w 46440"/>
                <a:gd name="textAreaTop" fmla="*/ 0 h 63360"/>
                <a:gd name="textAreaBottom" fmla="*/ 63720 h 63360"/>
              </a:gdLst>
              <a:ahLst/>
              <a:rect l="textAreaLeft" t="textAreaTop" r="textAreaRight" b="textAreaBottom"/>
              <a:pathLst>
                <a:path w="1459" h="2341">
                  <a:moveTo>
                    <a:pt x="1459" y="0"/>
                  </a:moveTo>
                  <a:lnTo>
                    <a:pt x="1459" y="2155"/>
                  </a:lnTo>
                  <a:lnTo>
                    <a:pt x="1452" y="2156"/>
                  </a:lnTo>
                  <a:lnTo>
                    <a:pt x="1434" y="2158"/>
                  </a:lnTo>
                  <a:lnTo>
                    <a:pt x="1405" y="2160"/>
                  </a:lnTo>
                  <a:lnTo>
                    <a:pt x="1367" y="2163"/>
                  </a:lnTo>
                  <a:lnTo>
                    <a:pt x="1319" y="2168"/>
                  </a:lnTo>
                  <a:lnTo>
                    <a:pt x="1267" y="2172"/>
                  </a:lnTo>
                  <a:lnTo>
                    <a:pt x="1209" y="2178"/>
                  </a:lnTo>
                  <a:lnTo>
                    <a:pt x="1148" y="2183"/>
                  </a:lnTo>
                  <a:lnTo>
                    <a:pt x="1085" y="2189"/>
                  </a:lnTo>
                  <a:lnTo>
                    <a:pt x="1021" y="2196"/>
                  </a:lnTo>
                  <a:lnTo>
                    <a:pt x="958" y="2202"/>
                  </a:lnTo>
                  <a:lnTo>
                    <a:pt x="897" y="2209"/>
                  </a:lnTo>
                  <a:lnTo>
                    <a:pt x="840" y="2215"/>
                  </a:lnTo>
                  <a:lnTo>
                    <a:pt x="788" y="2221"/>
                  </a:lnTo>
                  <a:lnTo>
                    <a:pt x="743" y="2228"/>
                  </a:lnTo>
                  <a:lnTo>
                    <a:pt x="705" y="2234"/>
                  </a:lnTo>
                  <a:lnTo>
                    <a:pt x="0" y="2341"/>
                  </a:lnTo>
                  <a:lnTo>
                    <a:pt x="0" y="195"/>
                  </a:lnTo>
                  <a:lnTo>
                    <a:pt x="5" y="194"/>
                  </a:lnTo>
                  <a:lnTo>
                    <a:pt x="18" y="191"/>
                  </a:lnTo>
                  <a:lnTo>
                    <a:pt x="40" y="186"/>
                  </a:lnTo>
                  <a:lnTo>
                    <a:pt x="69" y="179"/>
                  </a:lnTo>
                  <a:lnTo>
                    <a:pt x="105" y="172"/>
                  </a:lnTo>
                  <a:lnTo>
                    <a:pt x="147" y="163"/>
                  </a:lnTo>
                  <a:lnTo>
                    <a:pt x="194" y="154"/>
                  </a:lnTo>
                  <a:lnTo>
                    <a:pt x="246" y="144"/>
                  </a:lnTo>
                  <a:lnTo>
                    <a:pt x="301" y="134"/>
                  </a:lnTo>
                  <a:lnTo>
                    <a:pt x="360" y="124"/>
                  </a:lnTo>
                  <a:lnTo>
                    <a:pt x="420" y="114"/>
                  </a:lnTo>
                  <a:lnTo>
                    <a:pt x="484" y="105"/>
                  </a:lnTo>
                  <a:lnTo>
                    <a:pt x="546" y="96"/>
                  </a:lnTo>
                  <a:lnTo>
                    <a:pt x="610" y="89"/>
                  </a:lnTo>
                  <a:lnTo>
                    <a:pt x="673" y="83"/>
                  </a:lnTo>
                  <a:lnTo>
                    <a:pt x="735" y="77"/>
                  </a:lnTo>
                  <a:lnTo>
                    <a:pt x="1459" y="0"/>
                  </a:lnTo>
                  <a:close/>
                </a:path>
              </a:pathLst>
            </a:custGeom>
            <a:solidFill>
              <a:srgbClr val="93d5ed"/>
            </a:solidFill>
            <a:ln w="9360">
              <a:solidFill>
                <a:srgbClr val="ccecff"/>
              </a:solidFill>
              <a:round/>
            </a:ln>
          </p:spPr>
          <p:style>
            <a:lnRef idx="0"/>
            <a:fillRef idx="0"/>
            <a:effectRef idx="0"/>
            <a:fontRef idx="minor"/>
          </p:style>
          <p:txBody>
            <a:bodyPr lIns="90000" rIns="90000" tIns="16920" bIns="16920" anchor="t">
              <a:noAutofit/>
            </a:bodyPr>
            <a:p>
              <a:endParaRPr b="1" lang="en-US" sz="2400" spc="-1" strike="noStrike">
                <a:solidFill>
                  <a:srgbClr val="ffffff"/>
                </a:solidFill>
                <a:latin typeface="Times New Roman"/>
              </a:endParaRPr>
            </a:p>
          </p:txBody>
        </p:sp>
        <p:sp>
          <p:nvSpPr>
            <p:cNvPr id="443" name="Freeform 1550"/>
            <p:cNvSpPr/>
            <p:nvPr/>
          </p:nvSpPr>
          <p:spPr>
            <a:xfrm>
              <a:off x="3057120" y="4740480"/>
              <a:ext cx="15120" cy="61200"/>
            </a:xfrm>
            <a:custGeom>
              <a:avLst/>
              <a:gdLst>
                <a:gd name="textAreaLeft" fmla="*/ 0 w 15120"/>
                <a:gd name="textAreaRight" fmla="*/ 15480 w 15120"/>
                <a:gd name="textAreaTop" fmla="*/ 0 h 61200"/>
                <a:gd name="textAreaBottom" fmla="*/ 61560 h 61200"/>
              </a:gdLst>
              <a:ahLst/>
              <a:rect l="textAreaLeft" t="textAreaTop" r="textAreaRight" b="textAreaBottom"/>
              <a:pathLst>
                <a:path w="480" h="2286">
                  <a:moveTo>
                    <a:pt x="480" y="3"/>
                  </a:moveTo>
                  <a:lnTo>
                    <a:pt x="470" y="2"/>
                  </a:lnTo>
                  <a:lnTo>
                    <a:pt x="443" y="0"/>
                  </a:lnTo>
                  <a:lnTo>
                    <a:pt x="424" y="0"/>
                  </a:lnTo>
                  <a:lnTo>
                    <a:pt x="401" y="0"/>
                  </a:lnTo>
                  <a:lnTo>
                    <a:pt x="374" y="2"/>
                  </a:lnTo>
                  <a:lnTo>
                    <a:pt x="343" y="6"/>
                  </a:lnTo>
                  <a:lnTo>
                    <a:pt x="309" y="11"/>
                  </a:lnTo>
                  <a:lnTo>
                    <a:pt x="273" y="19"/>
                  </a:lnTo>
                  <a:lnTo>
                    <a:pt x="253" y="24"/>
                  </a:lnTo>
                  <a:lnTo>
                    <a:pt x="232" y="30"/>
                  </a:lnTo>
                  <a:lnTo>
                    <a:pt x="212" y="37"/>
                  </a:lnTo>
                  <a:lnTo>
                    <a:pt x="191" y="44"/>
                  </a:lnTo>
                  <a:lnTo>
                    <a:pt x="169" y="53"/>
                  </a:lnTo>
                  <a:lnTo>
                    <a:pt x="146" y="62"/>
                  </a:lnTo>
                  <a:lnTo>
                    <a:pt x="123" y="73"/>
                  </a:lnTo>
                  <a:lnTo>
                    <a:pt x="99" y="84"/>
                  </a:lnTo>
                  <a:lnTo>
                    <a:pt x="75" y="97"/>
                  </a:lnTo>
                  <a:lnTo>
                    <a:pt x="51" y="110"/>
                  </a:lnTo>
                  <a:lnTo>
                    <a:pt x="26" y="125"/>
                  </a:lnTo>
                  <a:lnTo>
                    <a:pt x="0" y="140"/>
                  </a:lnTo>
                  <a:lnTo>
                    <a:pt x="0" y="2286"/>
                  </a:lnTo>
                  <a:lnTo>
                    <a:pt x="16" y="2278"/>
                  </a:lnTo>
                  <a:lnTo>
                    <a:pt x="58" y="2257"/>
                  </a:lnTo>
                  <a:lnTo>
                    <a:pt x="87" y="2243"/>
                  </a:lnTo>
                  <a:lnTo>
                    <a:pt x="121" y="2228"/>
                  </a:lnTo>
                  <a:lnTo>
                    <a:pt x="157" y="2210"/>
                  </a:lnTo>
                  <a:lnTo>
                    <a:pt x="196" y="2194"/>
                  </a:lnTo>
                  <a:lnTo>
                    <a:pt x="235" y="2179"/>
                  </a:lnTo>
                  <a:lnTo>
                    <a:pt x="277" y="2165"/>
                  </a:lnTo>
                  <a:lnTo>
                    <a:pt x="297" y="2158"/>
                  </a:lnTo>
                  <a:lnTo>
                    <a:pt x="316" y="2152"/>
                  </a:lnTo>
                  <a:lnTo>
                    <a:pt x="336" y="2147"/>
                  </a:lnTo>
                  <a:lnTo>
                    <a:pt x="355" y="2142"/>
                  </a:lnTo>
                  <a:lnTo>
                    <a:pt x="374" y="2138"/>
                  </a:lnTo>
                  <a:lnTo>
                    <a:pt x="392" y="2135"/>
                  </a:lnTo>
                  <a:lnTo>
                    <a:pt x="409" y="2133"/>
                  </a:lnTo>
                  <a:lnTo>
                    <a:pt x="426" y="2132"/>
                  </a:lnTo>
                  <a:lnTo>
                    <a:pt x="441" y="2132"/>
                  </a:lnTo>
                  <a:lnTo>
                    <a:pt x="455" y="2133"/>
                  </a:lnTo>
                  <a:lnTo>
                    <a:pt x="468" y="2136"/>
                  </a:lnTo>
                  <a:lnTo>
                    <a:pt x="480" y="2140"/>
                  </a:lnTo>
                  <a:lnTo>
                    <a:pt x="480" y="3"/>
                  </a:lnTo>
                  <a:close/>
                </a:path>
              </a:pathLst>
            </a:custGeom>
            <a:solidFill>
              <a:srgbClr val="93d5ed"/>
            </a:solidFill>
            <a:ln w="9360">
              <a:solidFill>
                <a:srgbClr val="ccecff"/>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Times New Roman"/>
              </a:endParaRPr>
            </a:p>
          </p:txBody>
        </p:sp>
        <p:sp>
          <p:nvSpPr>
            <p:cNvPr id="444" name="Freeform 1551"/>
            <p:cNvSpPr/>
            <p:nvPr/>
          </p:nvSpPr>
          <p:spPr>
            <a:xfrm>
              <a:off x="2793600" y="4736160"/>
              <a:ext cx="24120" cy="67320"/>
            </a:xfrm>
            <a:custGeom>
              <a:avLst/>
              <a:gdLst>
                <a:gd name="textAreaLeft" fmla="*/ 0 w 24120"/>
                <a:gd name="textAreaRight" fmla="*/ 24480 w 24120"/>
                <a:gd name="textAreaTop" fmla="*/ 0 h 67320"/>
                <a:gd name="textAreaBottom" fmla="*/ 67680 h 67320"/>
              </a:gdLst>
              <a:ahLst/>
              <a:rect l="textAreaLeft" t="textAreaTop" r="textAreaRight" b="textAreaBottom"/>
              <a:pathLst>
                <a:path w="734" h="2478">
                  <a:moveTo>
                    <a:pt x="734" y="0"/>
                  </a:moveTo>
                  <a:lnTo>
                    <a:pt x="0" y="332"/>
                  </a:lnTo>
                  <a:lnTo>
                    <a:pt x="0" y="2478"/>
                  </a:lnTo>
                  <a:lnTo>
                    <a:pt x="734" y="2146"/>
                  </a:lnTo>
                  <a:lnTo>
                    <a:pt x="734" y="0"/>
                  </a:lnTo>
                  <a:close/>
                </a:path>
              </a:pathLst>
            </a:custGeom>
            <a:solidFill>
              <a:srgbClr val="93d5ed"/>
            </a:solidFill>
            <a:ln w="9360">
              <a:solidFill>
                <a:srgbClr val="ccecff"/>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Times New Roman"/>
              </a:endParaRPr>
            </a:p>
          </p:txBody>
        </p:sp>
        <p:sp>
          <p:nvSpPr>
            <p:cNvPr id="445" name="Freeform 1552"/>
            <p:cNvSpPr/>
            <p:nvPr/>
          </p:nvSpPr>
          <p:spPr>
            <a:xfrm>
              <a:off x="2765520" y="4734720"/>
              <a:ext cx="12600" cy="59040"/>
            </a:xfrm>
            <a:custGeom>
              <a:avLst/>
              <a:gdLst>
                <a:gd name="textAreaLeft" fmla="*/ 0 w 12600"/>
                <a:gd name="textAreaRight" fmla="*/ 12960 w 12600"/>
                <a:gd name="textAreaTop" fmla="*/ 0 h 59040"/>
                <a:gd name="textAreaBottom" fmla="*/ 59400 h 59040"/>
              </a:gdLst>
              <a:ahLst/>
              <a:rect l="textAreaLeft" t="textAreaTop" r="textAreaRight" b="textAreaBottom"/>
              <a:pathLst>
                <a:path w="382" h="2186">
                  <a:moveTo>
                    <a:pt x="382" y="70"/>
                  </a:moveTo>
                  <a:lnTo>
                    <a:pt x="382" y="2166"/>
                  </a:lnTo>
                  <a:lnTo>
                    <a:pt x="374" y="2162"/>
                  </a:lnTo>
                  <a:lnTo>
                    <a:pt x="351" y="2152"/>
                  </a:lnTo>
                  <a:lnTo>
                    <a:pt x="334" y="2145"/>
                  </a:lnTo>
                  <a:lnTo>
                    <a:pt x="315" y="2139"/>
                  </a:lnTo>
                  <a:lnTo>
                    <a:pt x="293" y="2133"/>
                  </a:lnTo>
                  <a:lnTo>
                    <a:pt x="268" y="2129"/>
                  </a:lnTo>
                  <a:lnTo>
                    <a:pt x="255" y="2127"/>
                  </a:lnTo>
                  <a:lnTo>
                    <a:pt x="241" y="2125"/>
                  </a:lnTo>
                  <a:lnTo>
                    <a:pt x="226" y="2125"/>
                  </a:lnTo>
                  <a:lnTo>
                    <a:pt x="211" y="2124"/>
                  </a:lnTo>
                  <a:lnTo>
                    <a:pt x="195" y="2124"/>
                  </a:lnTo>
                  <a:lnTo>
                    <a:pt x="179" y="2125"/>
                  </a:lnTo>
                  <a:lnTo>
                    <a:pt x="163" y="2127"/>
                  </a:lnTo>
                  <a:lnTo>
                    <a:pt x="146" y="2129"/>
                  </a:lnTo>
                  <a:lnTo>
                    <a:pt x="129" y="2133"/>
                  </a:lnTo>
                  <a:lnTo>
                    <a:pt x="112" y="2137"/>
                  </a:lnTo>
                  <a:lnTo>
                    <a:pt x="93" y="2142"/>
                  </a:lnTo>
                  <a:lnTo>
                    <a:pt x="75" y="2149"/>
                  </a:lnTo>
                  <a:lnTo>
                    <a:pt x="57" y="2156"/>
                  </a:lnTo>
                  <a:lnTo>
                    <a:pt x="38" y="2165"/>
                  </a:lnTo>
                  <a:lnTo>
                    <a:pt x="19" y="2175"/>
                  </a:lnTo>
                  <a:lnTo>
                    <a:pt x="0" y="2186"/>
                  </a:lnTo>
                  <a:lnTo>
                    <a:pt x="0" y="70"/>
                  </a:lnTo>
                  <a:lnTo>
                    <a:pt x="8" y="63"/>
                  </a:lnTo>
                  <a:lnTo>
                    <a:pt x="31" y="48"/>
                  </a:lnTo>
                  <a:lnTo>
                    <a:pt x="47" y="37"/>
                  </a:lnTo>
                  <a:lnTo>
                    <a:pt x="66" y="28"/>
                  </a:lnTo>
                  <a:lnTo>
                    <a:pt x="88" y="19"/>
                  </a:lnTo>
                  <a:lnTo>
                    <a:pt x="114" y="10"/>
                  </a:lnTo>
                  <a:lnTo>
                    <a:pt x="127" y="7"/>
                  </a:lnTo>
                  <a:lnTo>
                    <a:pt x="141" y="4"/>
                  </a:lnTo>
                  <a:lnTo>
                    <a:pt x="156" y="2"/>
                  </a:lnTo>
                  <a:lnTo>
                    <a:pt x="170" y="0"/>
                  </a:lnTo>
                  <a:lnTo>
                    <a:pt x="186" y="0"/>
                  </a:lnTo>
                  <a:lnTo>
                    <a:pt x="202" y="0"/>
                  </a:lnTo>
                  <a:lnTo>
                    <a:pt x="218" y="1"/>
                  </a:lnTo>
                  <a:lnTo>
                    <a:pt x="236" y="3"/>
                  </a:lnTo>
                  <a:lnTo>
                    <a:pt x="253" y="7"/>
                  </a:lnTo>
                  <a:lnTo>
                    <a:pt x="270" y="11"/>
                  </a:lnTo>
                  <a:lnTo>
                    <a:pt x="288" y="17"/>
                  </a:lnTo>
                  <a:lnTo>
                    <a:pt x="306" y="24"/>
                  </a:lnTo>
                  <a:lnTo>
                    <a:pt x="325" y="33"/>
                  </a:lnTo>
                  <a:lnTo>
                    <a:pt x="343" y="43"/>
                  </a:lnTo>
                  <a:lnTo>
                    <a:pt x="363" y="56"/>
                  </a:lnTo>
                  <a:lnTo>
                    <a:pt x="382" y="70"/>
                  </a:lnTo>
                  <a:close/>
                </a:path>
              </a:pathLst>
            </a:custGeom>
            <a:solidFill>
              <a:srgbClr val="93d5ed"/>
            </a:solidFill>
            <a:ln w="9360">
              <a:solidFill>
                <a:srgbClr val="ccecff"/>
              </a:solidFill>
              <a:round/>
            </a:ln>
          </p:spPr>
          <p:style>
            <a:lnRef idx="0"/>
            <a:fillRef idx="0"/>
            <a:effectRef idx="0"/>
            <a:fontRef idx="minor"/>
          </p:style>
          <p:txBody>
            <a:bodyPr lIns="90000" rIns="90000" tIns="12600" bIns="12600" anchor="t">
              <a:noAutofit/>
            </a:bodyPr>
            <a:p>
              <a:endParaRPr b="1" lang="en-US" sz="2400" spc="-1" strike="noStrike">
                <a:solidFill>
                  <a:srgbClr val="ffffff"/>
                </a:solidFill>
                <a:latin typeface="Times New Roman"/>
              </a:endParaRPr>
            </a:p>
          </p:txBody>
        </p:sp>
        <p:sp>
          <p:nvSpPr>
            <p:cNvPr id="446" name="Freeform 1553"/>
            <p:cNvSpPr/>
            <p:nvPr/>
          </p:nvSpPr>
          <p:spPr>
            <a:xfrm>
              <a:off x="2724840" y="4711320"/>
              <a:ext cx="27000" cy="66600"/>
            </a:xfrm>
            <a:custGeom>
              <a:avLst/>
              <a:gdLst>
                <a:gd name="textAreaLeft" fmla="*/ 0 w 27000"/>
                <a:gd name="textAreaRight" fmla="*/ 27360 w 27000"/>
                <a:gd name="textAreaTop" fmla="*/ 0 h 66600"/>
                <a:gd name="textAreaBottom" fmla="*/ 66960 h 66600"/>
              </a:gdLst>
              <a:ahLst/>
              <a:rect l="textAreaLeft" t="textAreaTop" r="textAreaRight" b="textAreaBottom"/>
              <a:pathLst>
                <a:path w="822" h="2458">
                  <a:moveTo>
                    <a:pt x="822" y="314"/>
                  </a:moveTo>
                  <a:lnTo>
                    <a:pt x="822" y="2450"/>
                  </a:lnTo>
                  <a:lnTo>
                    <a:pt x="812" y="2450"/>
                  </a:lnTo>
                  <a:lnTo>
                    <a:pt x="787" y="2452"/>
                  </a:lnTo>
                  <a:lnTo>
                    <a:pt x="747" y="2456"/>
                  </a:lnTo>
                  <a:lnTo>
                    <a:pt x="694" y="2457"/>
                  </a:lnTo>
                  <a:lnTo>
                    <a:pt x="633" y="2458"/>
                  </a:lnTo>
                  <a:lnTo>
                    <a:pt x="564" y="2457"/>
                  </a:lnTo>
                  <a:lnTo>
                    <a:pt x="528" y="2454"/>
                  </a:lnTo>
                  <a:lnTo>
                    <a:pt x="491" y="2452"/>
                  </a:lnTo>
                  <a:lnTo>
                    <a:pt x="453" y="2449"/>
                  </a:lnTo>
                  <a:lnTo>
                    <a:pt x="415" y="2445"/>
                  </a:lnTo>
                  <a:lnTo>
                    <a:pt x="377" y="2440"/>
                  </a:lnTo>
                  <a:lnTo>
                    <a:pt x="339" y="2434"/>
                  </a:lnTo>
                  <a:lnTo>
                    <a:pt x="302" y="2426"/>
                  </a:lnTo>
                  <a:lnTo>
                    <a:pt x="266" y="2417"/>
                  </a:lnTo>
                  <a:lnTo>
                    <a:pt x="231" y="2407"/>
                  </a:lnTo>
                  <a:lnTo>
                    <a:pt x="197" y="2396"/>
                  </a:lnTo>
                  <a:lnTo>
                    <a:pt x="165" y="2383"/>
                  </a:lnTo>
                  <a:lnTo>
                    <a:pt x="136" y="2368"/>
                  </a:lnTo>
                  <a:lnTo>
                    <a:pt x="109" y="2351"/>
                  </a:lnTo>
                  <a:lnTo>
                    <a:pt x="83" y="2332"/>
                  </a:lnTo>
                  <a:lnTo>
                    <a:pt x="62" y="2311"/>
                  </a:lnTo>
                  <a:lnTo>
                    <a:pt x="44" y="2289"/>
                  </a:lnTo>
                  <a:lnTo>
                    <a:pt x="29" y="2264"/>
                  </a:lnTo>
                  <a:lnTo>
                    <a:pt x="18" y="2237"/>
                  </a:lnTo>
                  <a:lnTo>
                    <a:pt x="11" y="2207"/>
                  </a:lnTo>
                  <a:lnTo>
                    <a:pt x="9" y="2176"/>
                  </a:lnTo>
                  <a:lnTo>
                    <a:pt x="9" y="0"/>
                  </a:lnTo>
                  <a:lnTo>
                    <a:pt x="7" y="4"/>
                  </a:lnTo>
                  <a:lnTo>
                    <a:pt x="4" y="16"/>
                  </a:lnTo>
                  <a:lnTo>
                    <a:pt x="2" y="24"/>
                  </a:lnTo>
                  <a:lnTo>
                    <a:pt x="1" y="33"/>
                  </a:lnTo>
                  <a:lnTo>
                    <a:pt x="0" y="44"/>
                  </a:lnTo>
                  <a:lnTo>
                    <a:pt x="0" y="56"/>
                  </a:lnTo>
                  <a:lnTo>
                    <a:pt x="0" y="70"/>
                  </a:lnTo>
                  <a:lnTo>
                    <a:pt x="2" y="83"/>
                  </a:lnTo>
                  <a:lnTo>
                    <a:pt x="5" y="98"/>
                  </a:lnTo>
                  <a:lnTo>
                    <a:pt x="10" y="113"/>
                  </a:lnTo>
                  <a:lnTo>
                    <a:pt x="17" y="128"/>
                  </a:lnTo>
                  <a:lnTo>
                    <a:pt x="26" y="144"/>
                  </a:lnTo>
                  <a:lnTo>
                    <a:pt x="38" y="159"/>
                  </a:lnTo>
                  <a:lnTo>
                    <a:pt x="51" y="175"/>
                  </a:lnTo>
                  <a:lnTo>
                    <a:pt x="68" y="192"/>
                  </a:lnTo>
                  <a:lnTo>
                    <a:pt x="88" y="207"/>
                  </a:lnTo>
                  <a:lnTo>
                    <a:pt x="112" y="222"/>
                  </a:lnTo>
                  <a:lnTo>
                    <a:pt x="138" y="236"/>
                  </a:lnTo>
                  <a:lnTo>
                    <a:pt x="169" y="250"/>
                  </a:lnTo>
                  <a:lnTo>
                    <a:pt x="203" y="263"/>
                  </a:lnTo>
                  <a:lnTo>
                    <a:pt x="243" y="275"/>
                  </a:lnTo>
                  <a:lnTo>
                    <a:pt x="286" y="285"/>
                  </a:lnTo>
                  <a:lnTo>
                    <a:pt x="333" y="295"/>
                  </a:lnTo>
                  <a:lnTo>
                    <a:pt x="387" y="304"/>
                  </a:lnTo>
                  <a:lnTo>
                    <a:pt x="444" y="310"/>
                  </a:lnTo>
                  <a:lnTo>
                    <a:pt x="509" y="315"/>
                  </a:lnTo>
                  <a:lnTo>
                    <a:pt x="577" y="318"/>
                  </a:lnTo>
                  <a:lnTo>
                    <a:pt x="653" y="319"/>
                  </a:lnTo>
                  <a:lnTo>
                    <a:pt x="735" y="318"/>
                  </a:lnTo>
                  <a:lnTo>
                    <a:pt x="822" y="314"/>
                  </a:lnTo>
                  <a:close/>
                </a:path>
              </a:pathLst>
            </a:custGeom>
            <a:solidFill>
              <a:srgbClr val="93d5ed"/>
            </a:solidFill>
            <a:ln w="9360">
              <a:solidFill>
                <a:srgbClr val="ccecff"/>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Times New Roman"/>
              </a:endParaRPr>
            </a:p>
          </p:txBody>
        </p:sp>
        <p:sp>
          <p:nvSpPr>
            <p:cNvPr id="447" name="Freeform 1554"/>
            <p:cNvSpPr/>
            <p:nvPr/>
          </p:nvSpPr>
          <p:spPr>
            <a:xfrm>
              <a:off x="2667600" y="4647600"/>
              <a:ext cx="14400" cy="69480"/>
            </a:xfrm>
            <a:custGeom>
              <a:avLst/>
              <a:gdLst>
                <a:gd name="textAreaLeft" fmla="*/ 0 w 14400"/>
                <a:gd name="textAreaRight" fmla="*/ 14760 w 14400"/>
                <a:gd name="textAreaTop" fmla="*/ 0 h 69480"/>
                <a:gd name="textAreaBottom" fmla="*/ 69840 h 69480"/>
              </a:gdLst>
              <a:ahLst/>
              <a:rect l="textAreaLeft" t="textAreaTop" r="textAreaRight" b="textAreaBottom"/>
              <a:pathLst>
                <a:path w="456" h="2587">
                  <a:moveTo>
                    <a:pt x="446" y="441"/>
                  </a:moveTo>
                  <a:lnTo>
                    <a:pt x="425" y="432"/>
                  </a:lnTo>
                  <a:lnTo>
                    <a:pt x="369" y="408"/>
                  </a:lnTo>
                  <a:lnTo>
                    <a:pt x="332" y="389"/>
                  </a:lnTo>
                  <a:lnTo>
                    <a:pt x="292" y="368"/>
                  </a:lnTo>
                  <a:lnTo>
                    <a:pt x="270" y="356"/>
                  </a:lnTo>
                  <a:lnTo>
                    <a:pt x="248" y="344"/>
                  </a:lnTo>
                  <a:lnTo>
                    <a:pt x="226" y="330"/>
                  </a:lnTo>
                  <a:lnTo>
                    <a:pt x="204" y="316"/>
                  </a:lnTo>
                  <a:lnTo>
                    <a:pt x="182" y="301"/>
                  </a:lnTo>
                  <a:lnTo>
                    <a:pt x="161" y="285"/>
                  </a:lnTo>
                  <a:lnTo>
                    <a:pt x="140" y="268"/>
                  </a:lnTo>
                  <a:lnTo>
                    <a:pt x="119" y="251"/>
                  </a:lnTo>
                  <a:lnTo>
                    <a:pt x="100" y="233"/>
                  </a:lnTo>
                  <a:lnTo>
                    <a:pt x="82" y="215"/>
                  </a:lnTo>
                  <a:lnTo>
                    <a:pt x="65" y="196"/>
                  </a:lnTo>
                  <a:lnTo>
                    <a:pt x="50" y="176"/>
                  </a:lnTo>
                  <a:lnTo>
                    <a:pt x="36" y="155"/>
                  </a:lnTo>
                  <a:lnTo>
                    <a:pt x="25" y="135"/>
                  </a:lnTo>
                  <a:lnTo>
                    <a:pt x="15" y="114"/>
                  </a:lnTo>
                  <a:lnTo>
                    <a:pt x="7" y="92"/>
                  </a:lnTo>
                  <a:lnTo>
                    <a:pt x="2" y="70"/>
                  </a:lnTo>
                  <a:lnTo>
                    <a:pt x="0" y="47"/>
                  </a:lnTo>
                  <a:lnTo>
                    <a:pt x="1" y="23"/>
                  </a:lnTo>
                  <a:lnTo>
                    <a:pt x="5" y="0"/>
                  </a:lnTo>
                  <a:lnTo>
                    <a:pt x="5" y="2165"/>
                  </a:lnTo>
                  <a:lnTo>
                    <a:pt x="9" y="2180"/>
                  </a:lnTo>
                  <a:lnTo>
                    <a:pt x="23" y="2219"/>
                  </a:lnTo>
                  <a:lnTo>
                    <a:pt x="33" y="2246"/>
                  </a:lnTo>
                  <a:lnTo>
                    <a:pt x="48" y="2275"/>
                  </a:lnTo>
                  <a:lnTo>
                    <a:pt x="56" y="2291"/>
                  </a:lnTo>
                  <a:lnTo>
                    <a:pt x="65" y="2308"/>
                  </a:lnTo>
                  <a:lnTo>
                    <a:pt x="76" y="2326"/>
                  </a:lnTo>
                  <a:lnTo>
                    <a:pt x="87" y="2343"/>
                  </a:lnTo>
                  <a:lnTo>
                    <a:pt x="100" y="2361"/>
                  </a:lnTo>
                  <a:lnTo>
                    <a:pt x="114" y="2379"/>
                  </a:lnTo>
                  <a:lnTo>
                    <a:pt x="129" y="2397"/>
                  </a:lnTo>
                  <a:lnTo>
                    <a:pt x="146" y="2414"/>
                  </a:lnTo>
                  <a:lnTo>
                    <a:pt x="164" y="2432"/>
                  </a:lnTo>
                  <a:lnTo>
                    <a:pt x="182" y="2450"/>
                  </a:lnTo>
                  <a:lnTo>
                    <a:pt x="203" y="2467"/>
                  </a:lnTo>
                  <a:lnTo>
                    <a:pt x="224" y="2484"/>
                  </a:lnTo>
                  <a:lnTo>
                    <a:pt x="247" y="2500"/>
                  </a:lnTo>
                  <a:lnTo>
                    <a:pt x="273" y="2515"/>
                  </a:lnTo>
                  <a:lnTo>
                    <a:pt x="299" y="2530"/>
                  </a:lnTo>
                  <a:lnTo>
                    <a:pt x="327" y="2543"/>
                  </a:lnTo>
                  <a:lnTo>
                    <a:pt x="356" y="2557"/>
                  </a:lnTo>
                  <a:lnTo>
                    <a:pt x="388" y="2568"/>
                  </a:lnTo>
                  <a:lnTo>
                    <a:pt x="421" y="2578"/>
                  </a:lnTo>
                  <a:lnTo>
                    <a:pt x="456" y="2587"/>
                  </a:lnTo>
                  <a:lnTo>
                    <a:pt x="446" y="441"/>
                  </a:lnTo>
                  <a:close/>
                </a:path>
              </a:pathLst>
            </a:custGeom>
            <a:solidFill>
              <a:srgbClr val="93d5ed"/>
            </a:solidFill>
            <a:ln w="9360">
              <a:solidFill>
                <a:srgbClr val="ccecff"/>
              </a:solidFill>
              <a:round/>
            </a:ln>
          </p:spPr>
          <p:style>
            <a:lnRef idx="0"/>
            <a:fillRef idx="0"/>
            <a:effectRef idx="0"/>
            <a:fontRef idx="minor"/>
          </p:style>
          <p:txBody>
            <a:bodyPr lIns="90000" rIns="90000" tIns="23040" bIns="23040" anchor="t">
              <a:noAutofit/>
            </a:bodyPr>
            <a:p>
              <a:endParaRPr b="1" lang="en-US" sz="2400" spc="-1" strike="noStrike">
                <a:solidFill>
                  <a:srgbClr val="ffffff"/>
                </a:solidFill>
                <a:latin typeface="Times New Roman"/>
              </a:endParaRPr>
            </a:p>
          </p:txBody>
        </p:sp>
        <p:sp>
          <p:nvSpPr>
            <p:cNvPr id="448" name="Freeform 1555"/>
            <p:cNvSpPr/>
            <p:nvPr/>
          </p:nvSpPr>
          <p:spPr>
            <a:xfrm>
              <a:off x="2731320" y="4616640"/>
              <a:ext cx="68040" cy="77040"/>
            </a:xfrm>
            <a:custGeom>
              <a:avLst/>
              <a:gdLst>
                <a:gd name="textAreaLeft" fmla="*/ 0 w 68040"/>
                <a:gd name="textAreaRight" fmla="*/ 68400 w 68040"/>
                <a:gd name="textAreaTop" fmla="*/ 0 h 77040"/>
                <a:gd name="textAreaBottom" fmla="*/ 77040 h 77040"/>
              </a:gdLst>
              <a:ahLst/>
              <a:rect l="textAreaLeft" t="textAreaTop" r="textAreaRight" b="textAreaBottom"/>
              <a:pathLst>
                <a:path w="2116" h="2853">
                  <a:moveTo>
                    <a:pt x="2116" y="636"/>
                  </a:moveTo>
                  <a:lnTo>
                    <a:pt x="2098" y="640"/>
                  </a:lnTo>
                  <a:lnTo>
                    <a:pt x="2047" y="649"/>
                  </a:lnTo>
                  <a:lnTo>
                    <a:pt x="2011" y="654"/>
                  </a:lnTo>
                  <a:lnTo>
                    <a:pt x="1969" y="660"/>
                  </a:lnTo>
                  <a:lnTo>
                    <a:pt x="1919" y="667"/>
                  </a:lnTo>
                  <a:lnTo>
                    <a:pt x="1864" y="673"/>
                  </a:lnTo>
                  <a:lnTo>
                    <a:pt x="1804" y="679"/>
                  </a:lnTo>
                  <a:lnTo>
                    <a:pt x="1738" y="684"/>
                  </a:lnTo>
                  <a:lnTo>
                    <a:pt x="1667" y="688"/>
                  </a:lnTo>
                  <a:lnTo>
                    <a:pt x="1594" y="690"/>
                  </a:lnTo>
                  <a:lnTo>
                    <a:pt x="1516" y="691"/>
                  </a:lnTo>
                  <a:lnTo>
                    <a:pt x="1436" y="690"/>
                  </a:lnTo>
                  <a:lnTo>
                    <a:pt x="1353" y="687"/>
                  </a:lnTo>
                  <a:lnTo>
                    <a:pt x="1267" y="681"/>
                  </a:lnTo>
                  <a:lnTo>
                    <a:pt x="1181" y="673"/>
                  </a:lnTo>
                  <a:lnTo>
                    <a:pt x="1093" y="661"/>
                  </a:lnTo>
                  <a:lnTo>
                    <a:pt x="1004" y="646"/>
                  </a:lnTo>
                  <a:lnTo>
                    <a:pt x="914" y="627"/>
                  </a:lnTo>
                  <a:lnTo>
                    <a:pt x="826" y="604"/>
                  </a:lnTo>
                  <a:lnTo>
                    <a:pt x="738" y="576"/>
                  </a:lnTo>
                  <a:lnTo>
                    <a:pt x="651" y="545"/>
                  </a:lnTo>
                  <a:lnTo>
                    <a:pt x="567" y="508"/>
                  </a:lnTo>
                  <a:lnTo>
                    <a:pt x="483" y="465"/>
                  </a:lnTo>
                  <a:lnTo>
                    <a:pt x="402" y="418"/>
                  </a:lnTo>
                  <a:lnTo>
                    <a:pt x="325" y="365"/>
                  </a:lnTo>
                  <a:lnTo>
                    <a:pt x="251" y="305"/>
                  </a:lnTo>
                  <a:lnTo>
                    <a:pt x="182" y="239"/>
                  </a:lnTo>
                  <a:lnTo>
                    <a:pt x="116" y="166"/>
                  </a:lnTo>
                  <a:lnTo>
                    <a:pt x="56" y="86"/>
                  </a:lnTo>
                  <a:lnTo>
                    <a:pt x="0" y="0"/>
                  </a:lnTo>
                  <a:lnTo>
                    <a:pt x="0" y="2165"/>
                  </a:lnTo>
                  <a:lnTo>
                    <a:pt x="7" y="2176"/>
                  </a:lnTo>
                  <a:lnTo>
                    <a:pt x="30" y="2205"/>
                  </a:lnTo>
                  <a:lnTo>
                    <a:pt x="48" y="2226"/>
                  </a:lnTo>
                  <a:lnTo>
                    <a:pt x="69" y="2250"/>
                  </a:lnTo>
                  <a:lnTo>
                    <a:pt x="94" y="2278"/>
                  </a:lnTo>
                  <a:lnTo>
                    <a:pt x="122" y="2308"/>
                  </a:lnTo>
                  <a:lnTo>
                    <a:pt x="155" y="2341"/>
                  </a:lnTo>
                  <a:lnTo>
                    <a:pt x="193" y="2375"/>
                  </a:lnTo>
                  <a:lnTo>
                    <a:pt x="234" y="2411"/>
                  </a:lnTo>
                  <a:lnTo>
                    <a:pt x="279" y="2448"/>
                  </a:lnTo>
                  <a:lnTo>
                    <a:pt x="329" y="2485"/>
                  </a:lnTo>
                  <a:lnTo>
                    <a:pt x="383" y="2524"/>
                  </a:lnTo>
                  <a:lnTo>
                    <a:pt x="441" y="2561"/>
                  </a:lnTo>
                  <a:lnTo>
                    <a:pt x="503" y="2598"/>
                  </a:lnTo>
                  <a:lnTo>
                    <a:pt x="570" y="2635"/>
                  </a:lnTo>
                  <a:lnTo>
                    <a:pt x="641" y="2670"/>
                  </a:lnTo>
                  <a:lnTo>
                    <a:pt x="717" y="2702"/>
                  </a:lnTo>
                  <a:lnTo>
                    <a:pt x="797" y="2733"/>
                  </a:lnTo>
                  <a:lnTo>
                    <a:pt x="881" y="2762"/>
                  </a:lnTo>
                  <a:lnTo>
                    <a:pt x="970" y="2787"/>
                  </a:lnTo>
                  <a:lnTo>
                    <a:pt x="1064" y="2808"/>
                  </a:lnTo>
                  <a:lnTo>
                    <a:pt x="1161" y="2826"/>
                  </a:lnTo>
                  <a:lnTo>
                    <a:pt x="1264" y="2840"/>
                  </a:lnTo>
                  <a:lnTo>
                    <a:pt x="1371" y="2849"/>
                  </a:lnTo>
                  <a:lnTo>
                    <a:pt x="1483" y="2853"/>
                  </a:lnTo>
                  <a:lnTo>
                    <a:pt x="1600" y="2851"/>
                  </a:lnTo>
                  <a:lnTo>
                    <a:pt x="1722" y="2844"/>
                  </a:lnTo>
                  <a:lnTo>
                    <a:pt x="1849" y="2830"/>
                  </a:lnTo>
                  <a:lnTo>
                    <a:pt x="1980" y="2810"/>
                  </a:lnTo>
                  <a:lnTo>
                    <a:pt x="2116" y="2782"/>
                  </a:lnTo>
                  <a:lnTo>
                    <a:pt x="2116" y="636"/>
                  </a:lnTo>
                  <a:close/>
                </a:path>
              </a:pathLst>
            </a:custGeom>
            <a:solidFill>
              <a:srgbClr val="93d5ed"/>
            </a:solidFill>
            <a:ln w="9360">
              <a:solidFill>
                <a:srgbClr val="ccecff"/>
              </a:solidFill>
              <a:round/>
            </a:ln>
          </p:spPr>
          <p:style>
            <a:lnRef idx="0"/>
            <a:fillRef idx="0"/>
            <a:effectRef idx="0"/>
            <a:fontRef idx="minor"/>
          </p:style>
          <p:txBody>
            <a:bodyPr lIns="90000" rIns="90000" tIns="30240" bIns="30240" anchor="t">
              <a:noAutofit/>
            </a:bodyPr>
            <a:p>
              <a:endParaRPr b="1" lang="en-US" sz="2400" spc="-1" strike="noStrike">
                <a:solidFill>
                  <a:srgbClr val="ffffff"/>
                </a:solidFill>
                <a:latin typeface="Times New Roman"/>
              </a:endParaRPr>
            </a:p>
          </p:txBody>
        </p:sp>
        <p:sp>
          <p:nvSpPr>
            <p:cNvPr id="449" name="Freeform 1556"/>
            <p:cNvSpPr/>
            <p:nvPr/>
          </p:nvSpPr>
          <p:spPr>
            <a:xfrm>
              <a:off x="3153960" y="4827960"/>
              <a:ext cx="6840" cy="65520"/>
            </a:xfrm>
            <a:custGeom>
              <a:avLst/>
              <a:gdLst>
                <a:gd name="textAreaLeft" fmla="*/ 0 w 6840"/>
                <a:gd name="textAreaRight" fmla="*/ 7200 w 6840"/>
                <a:gd name="textAreaTop" fmla="*/ 0 h 65520"/>
                <a:gd name="textAreaBottom" fmla="*/ 65880 h 65520"/>
              </a:gdLst>
              <a:ahLst/>
              <a:rect l="textAreaLeft" t="textAreaTop" r="textAreaRight" b="textAreaBottom"/>
              <a:pathLst>
                <a:path w="215" h="2440">
                  <a:moveTo>
                    <a:pt x="215" y="343"/>
                  </a:moveTo>
                  <a:lnTo>
                    <a:pt x="215" y="2440"/>
                  </a:lnTo>
                  <a:lnTo>
                    <a:pt x="202" y="2428"/>
                  </a:lnTo>
                  <a:lnTo>
                    <a:pt x="171" y="2396"/>
                  </a:lnTo>
                  <a:lnTo>
                    <a:pt x="150" y="2374"/>
                  </a:lnTo>
                  <a:lnTo>
                    <a:pt x="128" y="2349"/>
                  </a:lnTo>
                  <a:lnTo>
                    <a:pt x="104" y="2320"/>
                  </a:lnTo>
                  <a:lnTo>
                    <a:pt x="80" y="2291"/>
                  </a:lnTo>
                  <a:lnTo>
                    <a:pt x="69" y="2276"/>
                  </a:lnTo>
                  <a:lnTo>
                    <a:pt x="58" y="2260"/>
                  </a:lnTo>
                  <a:lnTo>
                    <a:pt x="48" y="2245"/>
                  </a:lnTo>
                  <a:lnTo>
                    <a:pt x="38" y="2229"/>
                  </a:lnTo>
                  <a:lnTo>
                    <a:pt x="29" y="2213"/>
                  </a:lnTo>
                  <a:lnTo>
                    <a:pt x="21" y="2198"/>
                  </a:lnTo>
                  <a:lnTo>
                    <a:pt x="15" y="2182"/>
                  </a:lnTo>
                  <a:lnTo>
                    <a:pt x="9" y="2168"/>
                  </a:lnTo>
                  <a:lnTo>
                    <a:pt x="4" y="2153"/>
                  </a:lnTo>
                  <a:lnTo>
                    <a:pt x="1" y="2139"/>
                  </a:lnTo>
                  <a:lnTo>
                    <a:pt x="0" y="2126"/>
                  </a:lnTo>
                  <a:lnTo>
                    <a:pt x="0" y="2113"/>
                  </a:lnTo>
                  <a:lnTo>
                    <a:pt x="2" y="2099"/>
                  </a:lnTo>
                  <a:lnTo>
                    <a:pt x="6" y="2088"/>
                  </a:lnTo>
                  <a:lnTo>
                    <a:pt x="11" y="2077"/>
                  </a:lnTo>
                  <a:lnTo>
                    <a:pt x="19" y="2068"/>
                  </a:lnTo>
                  <a:lnTo>
                    <a:pt x="19" y="0"/>
                  </a:lnTo>
                  <a:lnTo>
                    <a:pt x="21" y="7"/>
                  </a:lnTo>
                  <a:lnTo>
                    <a:pt x="28" y="25"/>
                  </a:lnTo>
                  <a:lnTo>
                    <a:pt x="40" y="54"/>
                  </a:lnTo>
                  <a:lnTo>
                    <a:pt x="58" y="95"/>
                  </a:lnTo>
                  <a:lnTo>
                    <a:pt x="70" y="118"/>
                  </a:lnTo>
                  <a:lnTo>
                    <a:pt x="84" y="144"/>
                  </a:lnTo>
                  <a:lnTo>
                    <a:pt x="101" y="172"/>
                  </a:lnTo>
                  <a:lnTo>
                    <a:pt x="119" y="203"/>
                  </a:lnTo>
                  <a:lnTo>
                    <a:pt x="139" y="235"/>
                  </a:lnTo>
                  <a:lnTo>
                    <a:pt x="162" y="269"/>
                  </a:lnTo>
                  <a:lnTo>
                    <a:pt x="187" y="305"/>
                  </a:lnTo>
                  <a:lnTo>
                    <a:pt x="215" y="343"/>
                  </a:lnTo>
                  <a:close/>
                </a:path>
              </a:pathLst>
            </a:custGeom>
            <a:solidFill>
              <a:srgbClr val="93d5ed"/>
            </a:solidFill>
            <a:ln w="9360">
              <a:solidFill>
                <a:srgbClr val="ccecff"/>
              </a:solidFill>
              <a:round/>
            </a:ln>
          </p:spPr>
          <p:style>
            <a:lnRef idx="0"/>
            <a:fillRef idx="0"/>
            <a:effectRef idx="0"/>
            <a:fontRef idx="minor"/>
          </p:style>
          <p:txBody>
            <a:bodyPr lIns="90000" rIns="90000" tIns="19080" bIns="19080" anchor="t">
              <a:noAutofit/>
            </a:bodyPr>
            <a:p>
              <a:endParaRPr b="1" lang="en-US" sz="2400" spc="-1" strike="noStrike">
                <a:solidFill>
                  <a:srgbClr val="ffffff"/>
                </a:solidFill>
                <a:latin typeface="Times New Roman"/>
              </a:endParaRPr>
            </a:p>
          </p:txBody>
        </p:sp>
        <p:sp>
          <p:nvSpPr>
            <p:cNvPr id="450" name="Freeform 1557"/>
            <p:cNvSpPr/>
            <p:nvPr/>
          </p:nvSpPr>
          <p:spPr>
            <a:xfrm>
              <a:off x="2836440" y="4748400"/>
              <a:ext cx="31320" cy="67680"/>
            </a:xfrm>
            <a:custGeom>
              <a:avLst/>
              <a:gdLst>
                <a:gd name="textAreaLeft" fmla="*/ 0 w 31320"/>
                <a:gd name="textAreaRight" fmla="*/ 31680 w 31320"/>
                <a:gd name="textAreaTop" fmla="*/ 0 h 67680"/>
                <a:gd name="textAreaBottom" fmla="*/ 68040 h 67680"/>
              </a:gdLst>
              <a:ahLst/>
              <a:rect l="textAreaLeft" t="textAreaTop" r="textAreaRight" b="textAreaBottom"/>
              <a:pathLst>
                <a:path w="999" h="2499">
                  <a:moveTo>
                    <a:pt x="999" y="0"/>
                  </a:moveTo>
                  <a:lnTo>
                    <a:pt x="999" y="2156"/>
                  </a:lnTo>
                  <a:lnTo>
                    <a:pt x="995" y="2158"/>
                  </a:lnTo>
                  <a:lnTo>
                    <a:pt x="984" y="2164"/>
                  </a:lnTo>
                  <a:lnTo>
                    <a:pt x="966" y="2173"/>
                  </a:lnTo>
                  <a:lnTo>
                    <a:pt x="941" y="2186"/>
                  </a:lnTo>
                  <a:lnTo>
                    <a:pt x="909" y="2200"/>
                  </a:lnTo>
                  <a:lnTo>
                    <a:pt x="872" y="2217"/>
                  </a:lnTo>
                  <a:lnTo>
                    <a:pt x="830" y="2236"/>
                  </a:lnTo>
                  <a:lnTo>
                    <a:pt x="781" y="2256"/>
                  </a:lnTo>
                  <a:lnTo>
                    <a:pt x="729" y="2278"/>
                  </a:lnTo>
                  <a:lnTo>
                    <a:pt x="671" y="2301"/>
                  </a:lnTo>
                  <a:lnTo>
                    <a:pt x="610" y="2324"/>
                  </a:lnTo>
                  <a:lnTo>
                    <a:pt x="544" y="2346"/>
                  </a:lnTo>
                  <a:lnTo>
                    <a:pt x="476" y="2369"/>
                  </a:lnTo>
                  <a:lnTo>
                    <a:pt x="405" y="2390"/>
                  </a:lnTo>
                  <a:lnTo>
                    <a:pt x="368" y="2402"/>
                  </a:lnTo>
                  <a:lnTo>
                    <a:pt x="331" y="2412"/>
                  </a:lnTo>
                  <a:lnTo>
                    <a:pt x="293" y="2421"/>
                  </a:lnTo>
                  <a:lnTo>
                    <a:pt x="255" y="2431"/>
                  </a:lnTo>
                  <a:lnTo>
                    <a:pt x="10" y="2499"/>
                  </a:lnTo>
                  <a:lnTo>
                    <a:pt x="0" y="353"/>
                  </a:lnTo>
                  <a:lnTo>
                    <a:pt x="19" y="347"/>
                  </a:lnTo>
                  <a:lnTo>
                    <a:pt x="73" y="333"/>
                  </a:lnTo>
                  <a:lnTo>
                    <a:pt x="150" y="313"/>
                  </a:lnTo>
                  <a:lnTo>
                    <a:pt x="243" y="287"/>
                  </a:lnTo>
                  <a:lnTo>
                    <a:pt x="342" y="259"/>
                  </a:lnTo>
                  <a:lnTo>
                    <a:pt x="439" y="229"/>
                  </a:lnTo>
                  <a:lnTo>
                    <a:pt x="483" y="214"/>
                  </a:lnTo>
                  <a:lnTo>
                    <a:pt x="523" y="201"/>
                  </a:lnTo>
                  <a:lnTo>
                    <a:pt x="559" y="188"/>
                  </a:lnTo>
                  <a:lnTo>
                    <a:pt x="588" y="177"/>
                  </a:lnTo>
                  <a:lnTo>
                    <a:pt x="606" y="171"/>
                  </a:lnTo>
                  <a:lnTo>
                    <a:pt x="652" y="155"/>
                  </a:lnTo>
                  <a:lnTo>
                    <a:pt x="718" y="132"/>
                  </a:lnTo>
                  <a:lnTo>
                    <a:pt x="793" y="103"/>
                  </a:lnTo>
                  <a:lnTo>
                    <a:pt x="832" y="88"/>
                  </a:lnTo>
                  <a:lnTo>
                    <a:pt x="869" y="73"/>
                  </a:lnTo>
                  <a:lnTo>
                    <a:pt x="904" y="59"/>
                  </a:lnTo>
                  <a:lnTo>
                    <a:pt x="935" y="45"/>
                  </a:lnTo>
                  <a:lnTo>
                    <a:pt x="962" y="31"/>
                  </a:lnTo>
                  <a:lnTo>
                    <a:pt x="982" y="19"/>
                  </a:lnTo>
                  <a:lnTo>
                    <a:pt x="989" y="14"/>
                  </a:lnTo>
                  <a:lnTo>
                    <a:pt x="995" y="9"/>
                  </a:lnTo>
                  <a:lnTo>
                    <a:pt x="998" y="4"/>
                  </a:lnTo>
                  <a:lnTo>
                    <a:pt x="999" y="0"/>
                  </a:lnTo>
                  <a:close/>
                </a:path>
              </a:pathLst>
            </a:custGeom>
            <a:solidFill>
              <a:srgbClr val="93d5ed"/>
            </a:solidFill>
            <a:ln w="9360">
              <a:solidFill>
                <a:srgbClr val="ccecff"/>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Times New Roman"/>
              </a:endParaRPr>
            </a:p>
          </p:txBody>
        </p:sp>
        <p:sp>
          <p:nvSpPr>
            <p:cNvPr id="451" name="Freeform 1558"/>
            <p:cNvSpPr/>
            <p:nvPr/>
          </p:nvSpPr>
          <p:spPr>
            <a:xfrm>
              <a:off x="3072240" y="4740480"/>
              <a:ext cx="6840" cy="64080"/>
            </a:xfrm>
            <a:custGeom>
              <a:avLst/>
              <a:gdLst>
                <a:gd name="textAreaLeft" fmla="*/ 0 w 6840"/>
                <a:gd name="textAreaRight" fmla="*/ 7200 w 6840"/>
                <a:gd name="textAreaTop" fmla="*/ 0 h 64080"/>
                <a:gd name="textAreaBottom" fmla="*/ 64440 h 64080"/>
              </a:gdLst>
              <a:ahLst/>
              <a:rect l="textAreaLeft" t="textAreaTop" r="textAreaRight" b="textAreaBottom"/>
              <a:pathLst>
                <a:path w="235" h="2392">
                  <a:moveTo>
                    <a:pt x="235" y="305"/>
                  </a:moveTo>
                  <a:lnTo>
                    <a:pt x="235" y="2392"/>
                  </a:lnTo>
                  <a:lnTo>
                    <a:pt x="228" y="2381"/>
                  </a:lnTo>
                  <a:lnTo>
                    <a:pt x="211" y="2350"/>
                  </a:lnTo>
                  <a:lnTo>
                    <a:pt x="198" y="2329"/>
                  </a:lnTo>
                  <a:lnTo>
                    <a:pt x="184" y="2306"/>
                  </a:lnTo>
                  <a:lnTo>
                    <a:pt x="168" y="2282"/>
                  </a:lnTo>
                  <a:lnTo>
                    <a:pt x="151" y="2258"/>
                  </a:lnTo>
                  <a:lnTo>
                    <a:pt x="132" y="2233"/>
                  </a:lnTo>
                  <a:lnTo>
                    <a:pt x="113" y="2209"/>
                  </a:lnTo>
                  <a:lnTo>
                    <a:pt x="93" y="2188"/>
                  </a:lnTo>
                  <a:lnTo>
                    <a:pt x="74" y="2169"/>
                  </a:lnTo>
                  <a:lnTo>
                    <a:pt x="64" y="2161"/>
                  </a:lnTo>
                  <a:lnTo>
                    <a:pt x="55" y="2154"/>
                  </a:lnTo>
                  <a:lnTo>
                    <a:pt x="45" y="2148"/>
                  </a:lnTo>
                  <a:lnTo>
                    <a:pt x="36" y="2143"/>
                  </a:lnTo>
                  <a:lnTo>
                    <a:pt x="26" y="2140"/>
                  </a:lnTo>
                  <a:lnTo>
                    <a:pt x="18" y="2137"/>
                  </a:lnTo>
                  <a:lnTo>
                    <a:pt x="8" y="2137"/>
                  </a:lnTo>
                  <a:lnTo>
                    <a:pt x="0" y="2138"/>
                  </a:lnTo>
                  <a:lnTo>
                    <a:pt x="0" y="1"/>
                  </a:lnTo>
                  <a:lnTo>
                    <a:pt x="3" y="1"/>
                  </a:lnTo>
                  <a:lnTo>
                    <a:pt x="13" y="0"/>
                  </a:lnTo>
                  <a:lnTo>
                    <a:pt x="20" y="0"/>
                  </a:lnTo>
                  <a:lnTo>
                    <a:pt x="28" y="1"/>
                  </a:lnTo>
                  <a:lnTo>
                    <a:pt x="36" y="3"/>
                  </a:lnTo>
                  <a:lnTo>
                    <a:pt x="46" y="6"/>
                  </a:lnTo>
                  <a:lnTo>
                    <a:pt x="55" y="10"/>
                  </a:lnTo>
                  <a:lnTo>
                    <a:pt x="66" y="16"/>
                  </a:lnTo>
                  <a:lnTo>
                    <a:pt x="76" y="24"/>
                  </a:lnTo>
                  <a:lnTo>
                    <a:pt x="87" y="34"/>
                  </a:lnTo>
                  <a:lnTo>
                    <a:pt x="97" y="46"/>
                  </a:lnTo>
                  <a:lnTo>
                    <a:pt x="107" y="61"/>
                  </a:lnTo>
                  <a:lnTo>
                    <a:pt x="117" y="79"/>
                  </a:lnTo>
                  <a:lnTo>
                    <a:pt x="127" y="99"/>
                  </a:lnTo>
                  <a:lnTo>
                    <a:pt x="235" y="305"/>
                  </a:lnTo>
                  <a:close/>
                </a:path>
              </a:pathLst>
            </a:custGeom>
            <a:solidFill>
              <a:srgbClr val="93d5ed"/>
            </a:solidFill>
            <a:ln w="9360">
              <a:solidFill>
                <a:srgbClr val="ccecff"/>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Times New Roman"/>
              </a:endParaRPr>
            </a:p>
          </p:txBody>
        </p:sp>
        <p:sp>
          <p:nvSpPr>
            <p:cNvPr id="452" name="Freeform 1559"/>
            <p:cNvSpPr/>
            <p:nvPr/>
          </p:nvSpPr>
          <p:spPr>
            <a:xfrm>
              <a:off x="2978640" y="4719600"/>
              <a:ext cx="69120" cy="81360"/>
            </a:xfrm>
            <a:custGeom>
              <a:avLst/>
              <a:gdLst>
                <a:gd name="textAreaLeft" fmla="*/ 0 w 69120"/>
                <a:gd name="textAreaRight" fmla="*/ 69480 w 69120"/>
                <a:gd name="textAreaTop" fmla="*/ 0 h 81360"/>
                <a:gd name="textAreaBottom" fmla="*/ 81720 h 81360"/>
              </a:gdLst>
              <a:ahLst/>
              <a:rect l="textAreaLeft" t="textAreaTop" r="textAreaRight" b="textAreaBottom"/>
              <a:pathLst>
                <a:path w="2146" h="3018">
                  <a:moveTo>
                    <a:pt x="2146" y="892"/>
                  </a:moveTo>
                  <a:lnTo>
                    <a:pt x="2131" y="887"/>
                  </a:lnTo>
                  <a:lnTo>
                    <a:pt x="2090" y="873"/>
                  </a:lnTo>
                  <a:lnTo>
                    <a:pt x="2024" y="850"/>
                  </a:lnTo>
                  <a:lnTo>
                    <a:pt x="1936" y="818"/>
                  </a:lnTo>
                  <a:lnTo>
                    <a:pt x="1828" y="779"/>
                  </a:lnTo>
                  <a:lnTo>
                    <a:pt x="1702" y="734"/>
                  </a:lnTo>
                  <a:lnTo>
                    <a:pt x="1562" y="681"/>
                  </a:lnTo>
                  <a:lnTo>
                    <a:pt x="1407" y="622"/>
                  </a:lnTo>
                  <a:lnTo>
                    <a:pt x="1243" y="558"/>
                  </a:lnTo>
                  <a:lnTo>
                    <a:pt x="1071" y="489"/>
                  </a:lnTo>
                  <a:lnTo>
                    <a:pt x="983" y="452"/>
                  </a:lnTo>
                  <a:lnTo>
                    <a:pt x="893" y="415"/>
                  </a:lnTo>
                  <a:lnTo>
                    <a:pt x="803" y="377"/>
                  </a:lnTo>
                  <a:lnTo>
                    <a:pt x="712" y="337"/>
                  </a:lnTo>
                  <a:lnTo>
                    <a:pt x="620" y="298"/>
                  </a:lnTo>
                  <a:lnTo>
                    <a:pt x="530" y="257"/>
                  </a:lnTo>
                  <a:lnTo>
                    <a:pt x="439" y="215"/>
                  </a:lnTo>
                  <a:lnTo>
                    <a:pt x="349" y="173"/>
                  </a:lnTo>
                  <a:lnTo>
                    <a:pt x="259" y="131"/>
                  </a:lnTo>
                  <a:lnTo>
                    <a:pt x="172" y="87"/>
                  </a:lnTo>
                  <a:lnTo>
                    <a:pt x="85" y="44"/>
                  </a:lnTo>
                  <a:lnTo>
                    <a:pt x="0" y="0"/>
                  </a:lnTo>
                  <a:lnTo>
                    <a:pt x="0" y="2156"/>
                  </a:lnTo>
                  <a:lnTo>
                    <a:pt x="5" y="2156"/>
                  </a:lnTo>
                  <a:lnTo>
                    <a:pt x="20" y="2155"/>
                  </a:lnTo>
                  <a:lnTo>
                    <a:pt x="31" y="2155"/>
                  </a:lnTo>
                  <a:lnTo>
                    <a:pt x="44" y="2156"/>
                  </a:lnTo>
                  <a:lnTo>
                    <a:pt x="59" y="2158"/>
                  </a:lnTo>
                  <a:lnTo>
                    <a:pt x="75" y="2161"/>
                  </a:lnTo>
                  <a:lnTo>
                    <a:pt x="94" y="2165"/>
                  </a:lnTo>
                  <a:lnTo>
                    <a:pt x="115" y="2171"/>
                  </a:lnTo>
                  <a:lnTo>
                    <a:pt x="137" y="2179"/>
                  </a:lnTo>
                  <a:lnTo>
                    <a:pt x="162" y="2189"/>
                  </a:lnTo>
                  <a:lnTo>
                    <a:pt x="188" y="2201"/>
                  </a:lnTo>
                  <a:lnTo>
                    <a:pt x="215" y="2216"/>
                  </a:lnTo>
                  <a:lnTo>
                    <a:pt x="244" y="2233"/>
                  </a:lnTo>
                  <a:lnTo>
                    <a:pt x="275" y="2253"/>
                  </a:lnTo>
                  <a:lnTo>
                    <a:pt x="293" y="2263"/>
                  </a:lnTo>
                  <a:lnTo>
                    <a:pt x="345" y="2287"/>
                  </a:lnTo>
                  <a:lnTo>
                    <a:pt x="426" y="2325"/>
                  </a:lnTo>
                  <a:lnTo>
                    <a:pt x="532" y="2374"/>
                  </a:lnTo>
                  <a:lnTo>
                    <a:pt x="658" y="2433"/>
                  </a:lnTo>
                  <a:lnTo>
                    <a:pt x="800" y="2498"/>
                  </a:lnTo>
                  <a:lnTo>
                    <a:pt x="954" y="2568"/>
                  </a:lnTo>
                  <a:lnTo>
                    <a:pt x="1115" y="2640"/>
                  </a:lnTo>
                  <a:lnTo>
                    <a:pt x="1279" y="2711"/>
                  </a:lnTo>
                  <a:lnTo>
                    <a:pt x="1442" y="2781"/>
                  </a:lnTo>
                  <a:lnTo>
                    <a:pt x="1521" y="2814"/>
                  </a:lnTo>
                  <a:lnTo>
                    <a:pt x="1599" y="2845"/>
                  </a:lnTo>
                  <a:lnTo>
                    <a:pt x="1674" y="2876"/>
                  </a:lnTo>
                  <a:lnTo>
                    <a:pt x="1746" y="2903"/>
                  </a:lnTo>
                  <a:lnTo>
                    <a:pt x="1815" y="2928"/>
                  </a:lnTo>
                  <a:lnTo>
                    <a:pt x="1878" y="2951"/>
                  </a:lnTo>
                  <a:lnTo>
                    <a:pt x="1938" y="2971"/>
                  </a:lnTo>
                  <a:lnTo>
                    <a:pt x="1992" y="2989"/>
                  </a:lnTo>
                  <a:lnTo>
                    <a:pt x="2041" y="3002"/>
                  </a:lnTo>
                  <a:lnTo>
                    <a:pt x="2083" y="3011"/>
                  </a:lnTo>
                  <a:lnTo>
                    <a:pt x="2118" y="3017"/>
                  </a:lnTo>
                  <a:lnTo>
                    <a:pt x="2146" y="3018"/>
                  </a:lnTo>
                  <a:lnTo>
                    <a:pt x="2146" y="892"/>
                  </a:lnTo>
                  <a:close/>
                </a:path>
              </a:pathLst>
            </a:custGeom>
            <a:solidFill>
              <a:srgbClr val="93d5ed"/>
            </a:solidFill>
            <a:ln w="9360">
              <a:solidFill>
                <a:srgbClr val="ccecff"/>
              </a:solidFill>
              <a:round/>
            </a:ln>
          </p:spPr>
          <p:style>
            <a:lnRef idx="0"/>
            <a:fillRef idx="0"/>
            <a:effectRef idx="0"/>
            <a:fontRef idx="minor"/>
          </p:style>
          <p:txBody>
            <a:bodyPr lIns="90000" rIns="90000" tIns="34920" bIns="34920" anchor="t">
              <a:noAutofit/>
            </a:bodyPr>
            <a:p>
              <a:endParaRPr b="1" lang="en-US" sz="2400" spc="-1" strike="noStrike">
                <a:solidFill>
                  <a:srgbClr val="ffffff"/>
                </a:solidFill>
                <a:latin typeface="Times New Roman"/>
              </a:endParaRPr>
            </a:p>
          </p:txBody>
        </p:sp>
        <p:sp>
          <p:nvSpPr>
            <p:cNvPr id="453" name="Freeform 1560"/>
            <p:cNvSpPr/>
            <p:nvPr/>
          </p:nvSpPr>
          <p:spPr>
            <a:xfrm>
              <a:off x="2711520" y="4687920"/>
              <a:ext cx="2520" cy="62640"/>
            </a:xfrm>
            <a:custGeom>
              <a:avLst/>
              <a:gdLst>
                <a:gd name="textAreaLeft" fmla="*/ 0 w 2520"/>
                <a:gd name="textAreaRight" fmla="*/ 2880 w 2520"/>
                <a:gd name="textAreaTop" fmla="*/ 0 h 62640"/>
                <a:gd name="textAreaBottom" fmla="*/ 62640 h 62640"/>
              </a:gdLst>
              <a:ahLst/>
              <a:rect l="textAreaLeft" t="textAreaTop" r="textAreaRight" b="textAreaBottom"/>
              <a:pathLst>
                <a:path w="88" h="2322">
                  <a:moveTo>
                    <a:pt x="88" y="176"/>
                  </a:moveTo>
                  <a:lnTo>
                    <a:pt x="0" y="0"/>
                  </a:lnTo>
                  <a:lnTo>
                    <a:pt x="0" y="2116"/>
                  </a:lnTo>
                  <a:lnTo>
                    <a:pt x="88" y="2322"/>
                  </a:lnTo>
                  <a:lnTo>
                    <a:pt x="88" y="176"/>
                  </a:lnTo>
                  <a:close/>
                </a:path>
              </a:pathLst>
            </a:custGeom>
            <a:solidFill>
              <a:srgbClr val="93d5ed"/>
            </a:solidFill>
            <a:ln w="9360">
              <a:solidFill>
                <a:srgbClr val="ccecff"/>
              </a:solidFill>
              <a:round/>
            </a:ln>
          </p:spPr>
          <p:style>
            <a:lnRef idx="0"/>
            <a:fillRef idx="0"/>
            <a:effectRef idx="0"/>
            <a:fontRef idx="minor"/>
          </p:style>
          <p:txBody>
            <a:bodyPr lIns="90000" rIns="90000" tIns="15840" bIns="15840" anchor="t">
              <a:noAutofit/>
            </a:bodyPr>
            <a:p>
              <a:endParaRPr b="1" lang="en-US" sz="2400" spc="-1" strike="noStrike">
                <a:solidFill>
                  <a:srgbClr val="ffffff"/>
                </a:solidFill>
                <a:latin typeface="Times New Roman"/>
              </a:endParaRPr>
            </a:p>
          </p:txBody>
        </p:sp>
        <p:sp>
          <p:nvSpPr>
            <p:cNvPr id="454" name="Freeform 1561"/>
            <p:cNvSpPr/>
            <p:nvPr/>
          </p:nvSpPr>
          <p:spPr>
            <a:xfrm>
              <a:off x="2682000" y="4653000"/>
              <a:ext cx="11520" cy="64080"/>
            </a:xfrm>
            <a:custGeom>
              <a:avLst/>
              <a:gdLst>
                <a:gd name="textAreaLeft" fmla="*/ 0 w 11520"/>
                <a:gd name="textAreaRight" fmla="*/ 11880 w 11520"/>
                <a:gd name="textAreaTop" fmla="*/ 0 h 64080"/>
                <a:gd name="textAreaBottom" fmla="*/ 64080 h 64080"/>
              </a:gdLst>
              <a:ahLst/>
              <a:rect l="textAreaLeft" t="textAreaTop" r="textAreaRight" b="textAreaBottom"/>
              <a:pathLst>
                <a:path w="373" h="2381">
                  <a:moveTo>
                    <a:pt x="0" y="235"/>
                  </a:moveTo>
                  <a:lnTo>
                    <a:pt x="10" y="2381"/>
                  </a:lnTo>
                  <a:lnTo>
                    <a:pt x="24" y="2379"/>
                  </a:lnTo>
                  <a:lnTo>
                    <a:pt x="62" y="2373"/>
                  </a:lnTo>
                  <a:lnTo>
                    <a:pt x="89" y="2367"/>
                  </a:lnTo>
                  <a:lnTo>
                    <a:pt x="117" y="2360"/>
                  </a:lnTo>
                  <a:lnTo>
                    <a:pt x="148" y="2350"/>
                  </a:lnTo>
                  <a:lnTo>
                    <a:pt x="180" y="2336"/>
                  </a:lnTo>
                  <a:lnTo>
                    <a:pt x="196" y="2329"/>
                  </a:lnTo>
                  <a:lnTo>
                    <a:pt x="213" y="2321"/>
                  </a:lnTo>
                  <a:lnTo>
                    <a:pt x="229" y="2313"/>
                  </a:lnTo>
                  <a:lnTo>
                    <a:pt x="245" y="2303"/>
                  </a:lnTo>
                  <a:lnTo>
                    <a:pt x="260" y="2293"/>
                  </a:lnTo>
                  <a:lnTo>
                    <a:pt x="275" y="2282"/>
                  </a:lnTo>
                  <a:lnTo>
                    <a:pt x="290" y="2270"/>
                  </a:lnTo>
                  <a:lnTo>
                    <a:pt x="303" y="2257"/>
                  </a:lnTo>
                  <a:lnTo>
                    <a:pt x="316" y="2243"/>
                  </a:lnTo>
                  <a:lnTo>
                    <a:pt x="329" y="2229"/>
                  </a:lnTo>
                  <a:lnTo>
                    <a:pt x="339" y="2212"/>
                  </a:lnTo>
                  <a:lnTo>
                    <a:pt x="349" y="2195"/>
                  </a:lnTo>
                  <a:lnTo>
                    <a:pt x="357" y="2177"/>
                  </a:lnTo>
                  <a:lnTo>
                    <a:pt x="364" y="2158"/>
                  </a:lnTo>
                  <a:lnTo>
                    <a:pt x="369" y="2138"/>
                  </a:lnTo>
                  <a:lnTo>
                    <a:pt x="373" y="2117"/>
                  </a:lnTo>
                  <a:lnTo>
                    <a:pt x="373" y="0"/>
                  </a:lnTo>
                  <a:lnTo>
                    <a:pt x="365" y="11"/>
                  </a:lnTo>
                  <a:lnTo>
                    <a:pt x="342" y="42"/>
                  </a:lnTo>
                  <a:lnTo>
                    <a:pt x="326" y="62"/>
                  </a:lnTo>
                  <a:lnTo>
                    <a:pt x="306" y="85"/>
                  </a:lnTo>
                  <a:lnTo>
                    <a:pt x="284" y="108"/>
                  </a:lnTo>
                  <a:lnTo>
                    <a:pt x="260" y="132"/>
                  </a:lnTo>
                  <a:lnTo>
                    <a:pt x="247" y="144"/>
                  </a:lnTo>
                  <a:lnTo>
                    <a:pt x="233" y="155"/>
                  </a:lnTo>
                  <a:lnTo>
                    <a:pt x="219" y="166"/>
                  </a:lnTo>
                  <a:lnTo>
                    <a:pt x="205" y="177"/>
                  </a:lnTo>
                  <a:lnTo>
                    <a:pt x="189" y="187"/>
                  </a:lnTo>
                  <a:lnTo>
                    <a:pt x="173" y="198"/>
                  </a:lnTo>
                  <a:lnTo>
                    <a:pt x="157" y="207"/>
                  </a:lnTo>
                  <a:lnTo>
                    <a:pt x="141" y="215"/>
                  </a:lnTo>
                  <a:lnTo>
                    <a:pt x="124" y="222"/>
                  </a:lnTo>
                  <a:lnTo>
                    <a:pt x="108" y="228"/>
                  </a:lnTo>
                  <a:lnTo>
                    <a:pt x="90" y="233"/>
                  </a:lnTo>
                  <a:lnTo>
                    <a:pt x="73" y="236"/>
                  </a:lnTo>
                  <a:lnTo>
                    <a:pt x="54" y="238"/>
                  </a:lnTo>
                  <a:lnTo>
                    <a:pt x="37" y="239"/>
                  </a:lnTo>
                  <a:lnTo>
                    <a:pt x="19" y="238"/>
                  </a:lnTo>
                  <a:lnTo>
                    <a:pt x="0" y="235"/>
                  </a:lnTo>
                  <a:close/>
                </a:path>
              </a:pathLst>
            </a:custGeom>
            <a:solidFill>
              <a:srgbClr val="93d5ed"/>
            </a:solidFill>
            <a:ln w="9360">
              <a:solidFill>
                <a:srgbClr val="ccecff"/>
              </a:solidFill>
              <a:round/>
            </a:ln>
          </p:spPr>
          <p:style>
            <a:lnRef idx="0"/>
            <a:fillRef idx="0"/>
            <a:effectRef idx="0"/>
            <a:fontRef idx="minor"/>
          </p:style>
          <p:txBody>
            <a:bodyPr lIns="90000" rIns="90000" tIns="17280" bIns="17280" anchor="t">
              <a:noAutofit/>
            </a:bodyPr>
            <a:p>
              <a:endParaRPr b="1" lang="en-US" sz="2400" spc="-1" strike="noStrike">
                <a:solidFill>
                  <a:srgbClr val="ffffff"/>
                </a:solidFill>
                <a:latin typeface="Times New Roman"/>
              </a:endParaRPr>
            </a:p>
          </p:txBody>
        </p:sp>
        <p:sp>
          <p:nvSpPr>
            <p:cNvPr id="455" name="Freeform 1562"/>
            <p:cNvSpPr/>
            <p:nvPr/>
          </p:nvSpPr>
          <p:spPr>
            <a:xfrm>
              <a:off x="2799720" y="4631040"/>
              <a:ext cx="22320" cy="60480"/>
            </a:xfrm>
            <a:custGeom>
              <a:avLst/>
              <a:gdLst>
                <a:gd name="textAreaLeft" fmla="*/ 0 w 22320"/>
                <a:gd name="textAreaRight" fmla="*/ 22680 w 22320"/>
                <a:gd name="textAreaTop" fmla="*/ 0 h 60480"/>
                <a:gd name="textAreaBottom" fmla="*/ 60840 h 60480"/>
              </a:gdLst>
              <a:ahLst/>
              <a:rect l="textAreaLeft" t="textAreaTop" r="textAreaRight" b="textAreaBottom"/>
              <a:pathLst>
                <a:path w="715" h="2254">
                  <a:moveTo>
                    <a:pt x="715" y="60"/>
                  </a:moveTo>
                  <a:lnTo>
                    <a:pt x="715" y="2205"/>
                  </a:lnTo>
                  <a:lnTo>
                    <a:pt x="712" y="2203"/>
                  </a:lnTo>
                  <a:lnTo>
                    <a:pt x="702" y="2199"/>
                  </a:lnTo>
                  <a:lnTo>
                    <a:pt x="684" y="2192"/>
                  </a:lnTo>
                  <a:lnTo>
                    <a:pt x="661" y="2184"/>
                  </a:lnTo>
                  <a:lnTo>
                    <a:pt x="632" y="2175"/>
                  </a:lnTo>
                  <a:lnTo>
                    <a:pt x="597" y="2166"/>
                  </a:lnTo>
                  <a:lnTo>
                    <a:pt x="578" y="2162"/>
                  </a:lnTo>
                  <a:lnTo>
                    <a:pt x="557" y="2159"/>
                  </a:lnTo>
                  <a:lnTo>
                    <a:pt x="535" y="2155"/>
                  </a:lnTo>
                  <a:lnTo>
                    <a:pt x="512" y="2153"/>
                  </a:lnTo>
                  <a:lnTo>
                    <a:pt x="487" y="2150"/>
                  </a:lnTo>
                  <a:lnTo>
                    <a:pt x="462" y="2149"/>
                  </a:lnTo>
                  <a:lnTo>
                    <a:pt x="434" y="2148"/>
                  </a:lnTo>
                  <a:lnTo>
                    <a:pt x="407" y="2148"/>
                  </a:lnTo>
                  <a:lnTo>
                    <a:pt x="378" y="2150"/>
                  </a:lnTo>
                  <a:lnTo>
                    <a:pt x="348" y="2152"/>
                  </a:lnTo>
                  <a:lnTo>
                    <a:pt x="318" y="2155"/>
                  </a:lnTo>
                  <a:lnTo>
                    <a:pt x="285" y="2160"/>
                  </a:lnTo>
                  <a:lnTo>
                    <a:pt x="252" y="2166"/>
                  </a:lnTo>
                  <a:lnTo>
                    <a:pt x="219" y="2173"/>
                  </a:lnTo>
                  <a:lnTo>
                    <a:pt x="184" y="2182"/>
                  </a:lnTo>
                  <a:lnTo>
                    <a:pt x="149" y="2193"/>
                  </a:lnTo>
                  <a:lnTo>
                    <a:pt x="113" y="2205"/>
                  </a:lnTo>
                  <a:lnTo>
                    <a:pt x="76" y="2220"/>
                  </a:lnTo>
                  <a:lnTo>
                    <a:pt x="38" y="2236"/>
                  </a:lnTo>
                  <a:lnTo>
                    <a:pt x="0" y="2254"/>
                  </a:lnTo>
                  <a:lnTo>
                    <a:pt x="0" y="108"/>
                  </a:lnTo>
                  <a:lnTo>
                    <a:pt x="6" y="106"/>
                  </a:lnTo>
                  <a:lnTo>
                    <a:pt x="24" y="100"/>
                  </a:lnTo>
                  <a:lnTo>
                    <a:pt x="53" y="90"/>
                  </a:lnTo>
                  <a:lnTo>
                    <a:pt x="91" y="79"/>
                  </a:lnTo>
                  <a:lnTo>
                    <a:pt x="136" y="66"/>
                  </a:lnTo>
                  <a:lnTo>
                    <a:pt x="188" y="51"/>
                  </a:lnTo>
                  <a:lnTo>
                    <a:pt x="243" y="37"/>
                  </a:lnTo>
                  <a:lnTo>
                    <a:pt x="302" y="25"/>
                  </a:lnTo>
                  <a:lnTo>
                    <a:pt x="333" y="19"/>
                  </a:lnTo>
                  <a:lnTo>
                    <a:pt x="363" y="14"/>
                  </a:lnTo>
                  <a:lnTo>
                    <a:pt x="394" y="9"/>
                  </a:lnTo>
                  <a:lnTo>
                    <a:pt x="424" y="6"/>
                  </a:lnTo>
                  <a:lnTo>
                    <a:pt x="455" y="3"/>
                  </a:lnTo>
                  <a:lnTo>
                    <a:pt x="484" y="1"/>
                  </a:lnTo>
                  <a:lnTo>
                    <a:pt x="513" y="0"/>
                  </a:lnTo>
                  <a:lnTo>
                    <a:pt x="541" y="1"/>
                  </a:lnTo>
                  <a:lnTo>
                    <a:pt x="569" y="2"/>
                  </a:lnTo>
                  <a:lnTo>
                    <a:pt x="595" y="5"/>
                  </a:lnTo>
                  <a:lnTo>
                    <a:pt x="619" y="10"/>
                  </a:lnTo>
                  <a:lnTo>
                    <a:pt x="642" y="16"/>
                  </a:lnTo>
                  <a:lnTo>
                    <a:pt x="663" y="24"/>
                  </a:lnTo>
                  <a:lnTo>
                    <a:pt x="682" y="34"/>
                  </a:lnTo>
                  <a:lnTo>
                    <a:pt x="700" y="45"/>
                  </a:lnTo>
                  <a:lnTo>
                    <a:pt x="715" y="60"/>
                  </a:lnTo>
                  <a:close/>
                </a:path>
              </a:pathLst>
            </a:custGeom>
            <a:solidFill>
              <a:srgbClr val="93d5ed"/>
            </a:solidFill>
            <a:ln w="9360">
              <a:solidFill>
                <a:srgbClr val="ccecff"/>
              </a:solidFill>
              <a:round/>
            </a:ln>
          </p:spPr>
          <p:style>
            <a:lnRef idx="0"/>
            <a:fillRef idx="0"/>
            <a:effectRef idx="0"/>
            <a:fontRef idx="minor"/>
          </p:style>
          <p:txBody>
            <a:bodyPr lIns="90000" rIns="90000" tIns="14040" bIns="14040" anchor="t">
              <a:noAutofit/>
            </a:bodyPr>
            <a:p>
              <a:endParaRPr b="1" lang="en-US" sz="2400" spc="-1" strike="noStrike">
                <a:solidFill>
                  <a:srgbClr val="ffffff"/>
                </a:solidFill>
                <a:latin typeface="Times New Roman"/>
              </a:endParaRPr>
            </a:p>
          </p:txBody>
        </p:sp>
        <p:sp>
          <p:nvSpPr>
            <p:cNvPr id="456" name="Freeform 1563"/>
            <p:cNvSpPr/>
            <p:nvPr/>
          </p:nvSpPr>
          <p:spPr>
            <a:xfrm>
              <a:off x="2787840" y="4548240"/>
              <a:ext cx="36720" cy="91440"/>
            </a:xfrm>
            <a:custGeom>
              <a:avLst/>
              <a:gdLst>
                <a:gd name="textAreaLeft" fmla="*/ 0 w 36720"/>
                <a:gd name="textAreaRight" fmla="*/ 37080 w 36720"/>
                <a:gd name="textAreaTop" fmla="*/ 0 h 91440"/>
                <a:gd name="textAreaBottom" fmla="*/ 91800 h 91440"/>
              </a:gdLst>
              <a:ahLst/>
              <a:rect l="textAreaLeft" t="textAreaTop" r="textAreaRight" b="textAreaBottom"/>
              <a:pathLst>
                <a:path w="1157" h="3390">
                  <a:moveTo>
                    <a:pt x="1157" y="1558"/>
                  </a:moveTo>
                  <a:lnTo>
                    <a:pt x="1153" y="1549"/>
                  </a:lnTo>
                  <a:lnTo>
                    <a:pt x="1140" y="1525"/>
                  </a:lnTo>
                  <a:lnTo>
                    <a:pt x="1119" y="1487"/>
                  </a:lnTo>
                  <a:lnTo>
                    <a:pt x="1092" y="1438"/>
                  </a:lnTo>
                  <a:lnTo>
                    <a:pt x="1057" y="1377"/>
                  </a:lnTo>
                  <a:lnTo>
                    <a:pt x="1017" y="1310"/>
                  </a:lnTo>
                  <a:lnTo>
                    <a:pt x="972" y="1235"/>
                  </a:lnTo>
                  <a:lnTo>
                    <a:pt x="922" y="1155"/>
                  </a:lnTo>
                  <a:lnTo>
                    <a:pt x="869" y="1074"/>
                  </a:lnTo>
                  <a:lnTo>
                    <a:pt x="813" y="991"/>
                  </a:lnTo>
                  <a:lnTo>
                    <a:pt x="784" y="950"/>
                  </a:lnTo>
                  <a:lnTo>
                    <a:pt x="755" y="909"/>
                  </a:lnTo>
                  <a:lnTo>
                    <a:pt x="725" y="869"/>
                  </a:lnTo>
                  <a:lnTo>
                    <a:pt x="695" y="830"/>
                  </a:lnTo>
                  <a:lnTo>
                    <a:pt x="664" y="792"/>
                  </a:lnTo>
                  <a:lnTo>
                    <a:pt x="633" y="755"/>
                  </a:lnTo>
                  <a:lnTo>
                    <a:pt x="603" y="721"/>
                  </a:lnTo>
                  <a:lnTo>
                    <a:pt x="573" y="687"/>
                  </a:lnTo>
                  <a:lnTo>
                    <a:pt x="541" y="656"/>
                  </a:lnTo>
                  <a:lnTo>
                    <a:pt x="511" y="627"/>
                  </a:lnTo>
                  <a:lnTo>
                    <a:pt x="482" y="601"/>
                  </a:lnTo>
                  <a:lnTo>
                    <a:pt x="452" y="578"/>
                  </a:lnTo>
                  <a:lnTo>
                    <a:pt x="432" y="559"/>
                  </a:lnTo>
                  <a:lnTo>
                    <a:pt x="379" y="512"/>
                  </a:lnTo>
                  <a:lnTo>
                    <a:pt x="344" y="479"/>
                  </a:lnTo>
                  <a:lnTo>
                    <a:pt x="305" y="441"/>
                  </a:lnTo>
                  <a:lnTo>
                    <a:pt x="262" y="399"/>
                  </a:lnTo>
                  <a:lnTo>
                    <a:pt x="220" y="355"/>
                  </a:lnTo>
                  <a:lnTo>
                    <a:pt x="198" y="331"/>
                  </a:lnTo>
                  <a:lnTo>
                    <a:pt x="177" y="307"/>
                  </a:lnTo>
                  <a:lnTo>
                    <a:pt x="155" y="284"/>
                  </a:lnTo>
                  <a:lnTo>
                    <a:pt x="135" y="260"/>
                  </a:lnTo>
                  <a:lnTo>
                    <a:pt x="116" y="236"/>
                  </a:lnTo>
                  <a:lnTo>
                    <a:pt x="97" y="211"/>
                  </a:lnTo>
                  <a:lnTo>
                    <a:pt x="80" y="187"/>
                  </a:lnTo>
                  <a:lnTo>
                    <a:pt x="64" y="164"/>
                  </a:lnTo>
                  <a:lnTo>
                    <a:pt x="49" y="141"/>
                  </a:lnTo>
                  <a:lnTo>
                    <a:pt x="35" y="118"/>
                  </a:lnTo>
                  <a:lnTo>
                    <a:pt x="24" y="97"/>
                  </a:lnTo>
                  <a:lnTo>
                    <a:pt x="15" y="74"/>
                  </a:lnTo>
                  <a:lnTo>
                    <a:pt x="8" y="54"/>
                  </a:lnTo>
                  <a:lnTo>
                    <a:pt x="3" y="35"/>
                  </a:lnTo>
                  <a:lnTo>
                    <a:pt x="1" y="17"/>
                  </a:lnTo>
                  <a:lnTo>
                    <a:pt x="1" y="0"/>
                  </a:lnTo>
                  <a:lnTo>
                    <a:pt x="1" y="2067"/>
                  </a:lnTo>
                  <a:lnTo>
                    <a:pt x="1" y="2069"/>
                  </a:lnTo>
                  <a:lnTo>
                    <a:pt x="0" y="2076"/>
                  </a:lnTo>
                  <a:lnTo>
                    <a:pt x="0" y="2088"/>
                  </a:lnTo>
                  <a:lnTo>
                    <a:pt x="1" y="2103"/>
                  </a:lnTo>
                  <a:lnTo>
                    <a:pt x="2" y="2113"/>
                  </a:lnTo>
                  <a:lnTo>
                    <a:pt x="4" y="2124"/>
                  </a:lnTo>
                  <a:lnTo>
                    <a:pt x="7" y="2137"/>
                  </a:lnTo>
                  <a:lnTo>
                    <a:pt x="10" y="2150"/>
                  </a:lnTo>
                  <a:lnTo>
                    <a:pt x="14" y="2164"/>
                  </a:lnTo>
                  <a:lnTo>
                    <a:pt x="20" y="2180"/>
                  </a:lnTo>
                  <a:lnTo>
                    <a:pt x="26" y="2196"/>
                  </a:lnTo>
                  <a:lnTo>
                    <a:pt x="34" y="2214"/>
                  </a:lnTo>
                  <a:lnTo>
                    <a:pt x="43" y="2233"/>
                  </a:lnTo>
                  <a:lnTo>
                    <a:pt x="55" y="2253"/>
                  </a:lnTo>
                  <a:lnTo>
                    <a:pt x="67" y="2275"/>
                  </a:lnTo>
                  <a:lnTo>
                    <a:pt x="81" y="2297"/>
                  </a:lnTo>
                  <a:lnTo>
                    <a:pt x="96" y="2320"/>
                  </a:lnTo>
                  <a:lnTo>
                    <a:pt x="113" y="2345"/>
                  </a:lnTo>
                  <a:lnTo>
                    <a:pt x="133" y="2371"/>
                  </a:lnTo>
                  <a:lnTo>
                    <a:pt x="154" y="2398"/>
                  </a:lnTo>
                  <a:lnTo>
                    <a:pt x="179" y="2426"/>
                  </a:lnTo>
                  <a:lnTo>
                    <a:pt x="204" y="2455"/>
                  </a:lnTo>
                  <a:lnTo>
                    <a:pt x="232" y="2485"/>
                  </a:lnTo>
                  <a:lnTo>
                    <a:pt x="263" y="2517"/>
                  </a:lnTo>
                  <a:lnTo>
                    <a:pt x="296" y="2550"/>
                  </a:lnTo>
                  <a:lnTo>
                    <a:pt x="333" y="2583"/>
                  </a:lnTo>
                  <a:lnTo>
                    <a:pt x="371" y="2619"/>
                  </a:lnTo>
                  <a:lnTo>
                    <a:pt x="413" y="2655"/>
                  </a:lnTo>
                  <a:lnTo>
                    <a:pt x="1001" y="3390"/>
                  </a:lnTo>
                  <a:lnTo>
                    <a:pt x="1157" y="1558"/>
                  </a:lnTo>
                  <a:close/>
                </a:path>
              </a:pathLst>
            </a:custGeom>
            <a:solidFill>
              <a:srgbClr val="93d5ed"/>
            </a:solidFill>
            <a:ln w="9360">
              <a:solidFill>
                <a:srgbClr val="ccecff"/>
              </a:solidFill>
              <a:round/>
            </a:ln>
          </p:spPr>
          <p:style>
            <a:lnRef idx="0"/>
            <a:fillRef idx="0"/>
            <a:effectRef idx="0"/>
            <a:fontRef idx="minor"/>
          </p:style>
          <p:txBody>
            <a:bodyPr lIns="90000" rIns="90000" tIns="45000" bIns="45000" anchor="t">
              <a:noAutofit/>
            </a:bodyPr>
            <a:p>
              <a:endParaRPr b="1" lang="en-US" sz="2400" spc="-1" strike="noStrike">
                <a:solidFill>
                  <a:srgbClr val="ffffff"/>
                </a:solidFill>
                <a:latin typeface="Times New Roman"/>
              </a:endParaRPr>
            </a:p>
          </p:txBody>
        </p:sp>
        <p:sp>
          <p:nvSpPr>
            <p:cNvPr id="457" name="Freeform 1564"/>
            <p:cNvSpPr/>
            <p:nvPr/>
          </p:nvSpPr>
          <p:spPr>
            <a:xfrm>
              <a:off x="2901240" y="4734720"/>
              <a:ext cx="6840" cy="62640"/>
            </a:xfrm>
            <a:custGeom>
              <a:avLst/>
              <a:gdLst>
                <a:gd name="textAreaLeft" fmla="*/ 0 w 6840"/>
                <a:gd name="textAreaRight" fmla="*/ 7200 w 6840"/>
                <a:gd name="textAreaTop" fmla="*/ 0 h 62640"/>
                <a:gd name="textAreaBottom" fmla="*/ 63000 h 62640"/>
              </a:gdLst>
              <a:ahLst/>
              <a:rect l="textAreaLeft" t="textAreaTop" r="textAreaRight" b="textAreaBottom"/>
              <a:pathLst>
                <a:path w="240" h="2323">
                  <a:moveTo>
                    <a:pt x="240" y="146"/>
                  </a:moveTo>
                  <a:lnTo>
                    <a:pt x="240" y="2323"/>
                  </a:lnTo>
                  <a:lnTo>
                    <a:pt x="229" y="2323"/>
                  </a:lnTo>
                  <a:lnTo>
                    <a:pt x="201" y="2323"/>
                  </a:lnTo>
                  <a:lnTo>
                    <a:pt x="182" y="2321"/>
                  </a:lnTo>
                  <a:lnTo>
                    <a:pt x="160" y="2318"/>
                  </a:lnTo>
                  <a:lnTo>
                    <a:pt x="138" y="2313"/>
                  </a:lnTo>
                  <a:lnTo>
                    <a:pt x="115" y="2307"/>
                  </a:lnTo>
                  <a:lnTo>
                    <a:pt x="104" y="2303"/>
                  </a:lnTo>
                  <a:lnTo>
                    <a:pt x="92" y="2299"/>
                  </a:lnTo>
                  <a:lnTo>
                    <a:pt x="81" y="2294"/>
                  </a:lnTo>
                  <a:lnTo>
                    <a:pt x="71" y="2288"/>
                  </a:lnTo>
                  <a:lnTo>
                    <a:pt x="61" y="2281"/>
                  </a:lnTo>
                  <a:lnTo>
                    <a:pt x="51" y="2274"/>
                  </a:lnTo>
                  <a:lnTo>
                    <a:pt x="41" y="2265"/>
                  </a:lnTo>
                  <a:lnTo>
                    <a:pt x="33" y="2256"/>
                  </a:lnTo>
                  <a:lnTo>
                    <a:pt x="25" y="2246"/>
                  </a:lnTo>
                  <a:lnTo>
                    <a:pt x="19" y="2235"/>
                  </a:lnTo>
                  <a:lnTo>
                    <a:pt x="13" y="2223"/>
                  </a:lnTo>
                  <a:lnTo>
                    <a:pt x="9" y="2210"/>
                  </a:lnTo>
                  <a:lnTo>
                    <a:pt x="6" y="2195"/>
                  </a:lnTo>
                  <a:lnTo>
                    <a:pt x="4" y="2180"/>
                  </a:lnTo>
                  <a:lnTo>
                    <a:pt x="4" y="2164"/>
                  </a:lnTo>
                  <a:lnTo>
                    <a:pt x="5" y="2146"/>
                  </a:lnTo>
                  <a:lnTo>
                    <a:pt x="5" y="0"/>
                  </a:lnTo>
                  <a:lnTo>
                    <a:pt x="3" y="8"/>
                  </a:lnTo>
                  <a:lnTo>
                    <a:pt x="0" y="28"/>
                  </a:lnTo>
                  <a:lnTo>
                    <a:pt x="0" y="41"/>
                  </a:lnTo>
                  <a:lnTo>
                    <a:pt x="2" y="57"/>
                  </a:lnTo>
                  <a:lnTo>
                    <a:pt x="3" y="65"/>
                  </a:lnTo>
                  <a:lnTo>
                    <a:pt x="5" y="73"/>
                  </a:lnTo>
                  <a:lnTo>
                    <a:pt x="8" y="80"/>
                  </a:lnTo>
                  <a:lnTo>
                    <a:pt x="12" y="88"/>
                  </a:lnTo>
                  <a:lnTo>
                    <a:pt x="16" y="96"/>
                  </a:lnTo>
                  <a:lnTo>
                    <a:pt x="22" y="103"/>
                  </a:lnTo>
                  <a:lnTo>
                    <a:pt x="28" y="111"/>
                  </a:lnTo>
                  <a:lnTo>
                    <a:pt x="36" y="117"/>
                  </a:lnTo>
                  <a:lnTo>
                    <a:pt x="46" y="124"/>
                  </a:lnTo>
                  <a:lnTo>
                    <a:pt x="56" y="130"/>
                  </a:lnTo>
                  <a:lnTo>
                    <a:pt x="67" y="135"/>
                  </a:lnTo>
                  <a:lnTo>
                    <a:pt x="79" y="140"/>
                  </a:lnTo>
                  <a:lnTo>
                    <a:pt x="93" y="144"/>
                  </a:lnTo>
                  <a:lnTo>
                    <a:pt x="109" y="147"/>
                  </a:lnTo>
                  <a:lnTo>
                    <a:pt x="126" y="150"/>
                  </a:lnTo>
                  <a:lnTo>
                    <a:pt x="145" y="151"/>
                  </a:lnTo>
                  <a:lnTo>
                    <a:pt x="166" y="152"/>
                  </a:lnTo>
                  <a:lnTo>
                    <a:pt x="189" y="151"/>
                  </a:lnTo>
                  <a:lnTo>
                    <a:pt x="213" y="150"/>
                  </a:lnTo>
                  <a:lnTo>
                    <a:pt x="240" y="146"/>
                  </a:lnTo>
                  <a:close/>
                </a:path>
              </a:pathLst>
            </a:custGeom>
            <a:solidFill>
              <a:srgbClr val="93d5ed"/>
            </a:solidFill>
            <a:ln w="9360">
              <a:solidFill>
                <a:srgbClr val="ccecff"/>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Times New Roman"/>
              </a:endParaRPr>
            </a:p>
          </p:txBody>
        </p:sp>
        <p:sp>
          <p:nvSpPr>
            <p:cNvPr id="458" name="Freeform 1565"/>
            <p:cNvSpPr/>
            <p:nvPr/>
          </p:nvSpPr>
          <p:spPr>
            <a:xfrm>
              <a:off x="2709000" y="4495680"/>
              <a:ext cx="473760" cy="339840"/>
            </a:xfrm>
            <a:custGeom>
              <a:avLst/>
              <a:gdLst>
                <a:gd name="textAreaLeft" fmla="*/ 0 w 473760"/>
                <a:gd name="textAreaRight" fmla="*/ 474120 w 473760"/>
                <a:gd name="textAreaTop" fmla="*/ 0 h 339840"/>
                <a:gd name="textAreaBottom" fmla="*/ 340200 h 339840"/>
              </a:gdLst>
              <a:ahLst/>
              <a:rect l="textAreaLeft" t="textAreaTop" r="textAreaRight" b="textAreaBottom"/>
              <a:pathLst>
                <a:path w="14755" h="12587">
                  <a:moveTo>
                    <a:pt x="10804" y="9206"/>
                  </a:moveTo>
                  <a:lnTo>
                    <a:pt x="10830" y="9194"/>
                  </a:lnTo>
                  <a:lnTo>
                    <a:pt x="10894" y="9163"/>
                  </a:lnTo>
                  <a:lnTo>
                    <a:pt x="10938" y="9144"/>
                  </a:lnTo>
                  <a:lnTo>
                    <a:pt x="10988" y="9124"/>
                  </a:lnTo>
                  <a:lnTo>
                    <a:pt x="11014" y="9114"/>
                  </a:lnTo>
                  <a:lnTo>
                    <a:pt x="11041" y="9105"/>
                  </a:lnTo>
                  <a:lnTo>
                    <a:pt x="11069" y="9096"/>
                  </a:lnTo>
                  <a:lnTo>
                    <a:pt x="11098" y="9087"/>
                  </a:lnTo>
                  <a:lnTo>
                    <a:pt x="11126" y="9080"/>
                  </a:lnTo>
                  <a:lnTo>
                    <a:pt x="11154" y="9073"/>
                  </a:lnTo>
                  <a:lnTo>
                    <a:pt x="11182" y="9068"/>
                  </a:lnTo>
                  <a:lnTo>
                    <a:pt x="11210" y="9063"/>
                  </a:lnTo>
                  <a:lnTo>
                    <a:pt x="11237" y="9061"/>
                  </a:lnTo>
                  <a:lnTo>
                    <a:pt x="11263" y="9059"/>
                  </a:lnTo>
                  <a:lnTo>
                    <a:pt x="11288" y="9060"/>
                  </a:lnTo>
                  <a:lnTo>
                    <a:pt x="11312" y="9062"/>
                  </a:lnTo>
                  <a:lnTo>
                    <a:pt x="11336" y="9066"/>
                  </a:lnTo>
                  <a:lnTo>
                    <a:pt x="11357" y="9073"/>
                  </a:lnTo>
                  <a:lnTo>
                    <a:pt x="11377" y="9081"/>
                  </a:lnTo>
                  <a:lnTo>
                    <a:pt x="11394" y="9093"/>
                  </a:lnTo>
                  <a:lnTo>
                    <a:pt x="11410" y="9107"/>
                  </a:lnTo>
                  <a:lnTo>
                    <a:pt x="11423" y="9124"/>
                  </a:lnTo>
                  <a:lnTo>
                    <a:pt x="11433" y="9144"/>
                  </a:lnTo>
                  <a:lnTo>
                    <a:pt x="11441" y="9167"/>
                  </a:lnTo>
                  <a:lnTo>
                    <a:pt x="11451" y="9194"/>
                  </a:lnTo>
                  <a:lnTo>
                    <a:pt x="11464" y="9224"/>
                  </a:lnTo>
                  <a:lnTo>
                    <a:pt x="11482" y="9257"/>
                  </a:lnTo>
                  <a:lnTo>
                    <a:pt x="11504" y="9293"/>
                  </a:lnTo>
                  <a:lnTo>
                    <a:pt x="11529" y="9331"/>
                  </a:lnTo>
                  <a:lnTo>
                    <a:pt x="11558" y="9373"/>
                  </a:lnTo>
                  <a:lnTo>
                    <a:pt x="11590" y="9415"/>
                  </a:lnTo>
                  <a:lnTo>
                    <a:pt x="11625" y="9459"/>
                  </a:lnTo>
                  <a:lnTo>
                    <a:pt x="11662" y="9506"/>
                  </a:lnTo>
                  <a:lnTo>
                    <a:pt x="11701" y="9553"/>
                  </a:lnTo>
                  <a:lnTo>
                    <a:pt x="11742" y="9600"/>
                  </a:lnTo>
                  <a:lnTo>
                    <a:pt x="11784" y="9650"/>
                  </a:lnTo>
                  <a:lnTo>
                    <a:pt x="11872" y="9748"/>
                  </a:lnTo>
                  <a:lnTo>
                    <a:pt x="11962" y="9844"/>
                  </a:lnTo>
                  <a:lnTo>
                    <a:pt x="12050" y="9938"/>
                  </a:lnTo>
                  <a:lnTo>
                    <a:pt x="12136" y="10027"/>
                  </a:lnTo>
                  <a:lnTo>
                    <a:pt x="12215" y="10109"/>
                  </a:lnTo>
                  <a:lnTo>
                    <a:pt x="12286" y="10180"/>
                  </a:lnTo>
                  <a:lnTo>
                    <a:pt x="12346" y="10240"/>
                  </a:lnTo>
                  <a:lnTo>
                    <a:pt x="12391" y="10285"/>
                  </a:lnTo>
                  <a:lnTo>
                    <a:pt x="12420" y="10313"/>
                  </a:lnTo>
                  <a:lnTo>
                    <a:pt x="12430" y="10323"/>
                  </a:lnTo>
                  <a:lnTo>
                    <a:pt x="13175" y="9775"/>
                  </a:lnTo>
                  <a:lnTo>
                    <a:pt x="14066" y="11647"/>
                  </a:lnTo>
                  <a:lnTo>
                    <a:pt x="14076" y="11684"/>
                  </a:lnTo>
                  <a:lnTo>
                    <a:pt x="14083" y="11717"/>
                  </a:lnTo>
                  <a:lnTo>
                    <a:pt x="14085" y="11733"/>
                  </a:lnTo>
                  <a:lnTo>
                    <a:pt x="14087" y="11748"/>
                  </a:lnTo>
                  <a:lnTo>
                    <a:pt x="14088" y="11763"/>
                  </a:lnTo>
                  <a:lnTo>
                    <a:pt x="14089" y="11777"/>
                  </a:lnTo>
                  <a:lnTo>
                    <a:pt x="14088" y="11791"/>
                  </a:lnTo>
                  <a:lnTo>
                    <a:pt x="14088" y="11804"/>
                  </a:lnTo>
                  <a:lnTo>
                    <a:pt x="14086" y="11817"/>
                  </a:lnTo>
                  <a:lnTo>
                    <a:pt x="14084" y="11829"/>
                  </a:lnTo>
                  <a:lnTo>
                    <a:pt x="14082" y="11842"/>
                  </a:lnTo>
                  <a:lnTo>
                    <a:pt x="14078" y="11854"/>
                  </a:lnTo>
                  <a:lnTo>
                    <a:pt x="14074" y="11867"/>
                  </a:lnTo>
                  <a:lnTo>
                    <a:pt x="14070" y="11879"/>
                  </a:lnTo>
                  <a:lnTo>
                    <a:pt x="14059" y="11905"/>
                  </a:lnTo>
                  <a:lnTo>
                    <a:pt x="14046" y="11930"/>
                  </a:lnTo>
                  <a:lnTo>
                    <a:pt x="14031" y="11957"/>
                  </a:lnTo>
                  <a:lnTo>
                    <a:pt x="14013" y="11985"/>
                  </a:lnTo>
                  <a:lnTo>
                    <a:pt x="13971" y="12050"/>
                  </a:lnTo>
                  <a:lnTo>
                    <a:pt x="13920" y="12127"/>
                  </a:lnTo>
                  <a:lnTo>
                    <a:pt x="13906" y="12149"/>
                  </a:lnTo>
                  <a:lnTo>
                    <a:pt x="13896" y="12171"/>
                  </a:lnTo>
                  <a:lnTo>
                    <a:pt x="13887" y="12192"/>
                  </a:lnTo>
                  <a:lnTo>
                    <a:pt x="13882" y="12214"/>
                  </a:lnTo>
                  <a:lnTo>
                    <a:pt x="13878" y="12235"/>
                  </a:lnTo>
                  <a:lnTo>
                    <a:pt x="13876" y="12257"/>
                  </a:lnTo>
                  <a:lnTo>
                    <a:pt x="13876" y="12278"/>
                  </a:lnTo>
                  <a:lnTo>
                    <a:pt x="13878" y="12298"/>
                  </a:lnTo>
                  <a:lnTo>
                    <a:pt x="13882" y="12318"/>
                  </a:lnTo>
                  <a:lnTo>
                    <a:pt x="13887" y="12338"/>
                  </a:lnTo>
                  <a:lnTo>
                    <a:pt x="13893" y="12357"/>
                  </a:lnTo>
                  <a:lnTo>
                    <a:pt x="13900" y="12376"/>
                  </a:lnTo>
                  <a:lnTo>
                    <a:pt x="13909" y="12394"/>
                  </a:lnTo>
                  <a:lnTo>
                    <a:pt x="13918" y="12412"/>
                  </a:lnTo>
                  <a:lnTo>
                    <a:pt x="13928" y="12429"/>
                  </a:lnTo>
                  <a:lnTo>
                    <a:pt x="13939" y="12445"/>
                  </a:lnTo>
                  <a:lnTo>
                    <a:pt x="13950" y="12461"/>
                  </a:lnTo>
                  <a:lnTo>
                    <a:pt x="13962" y="12476"/>
                  </a:lnTo>
                  <a:lnTo>
                    <a:pt x="13974" y="12491"/>
                  </a:lnTo>
                  <a:lnTo>
                    <a:pt x="13986" y="12504"/>
                  </a:lnTo>
                  <a:lnTo>
                    <a:pt x="14009" y="12528"/>
                  </a:lnTo>
                  <a:lnTo>
                    <a:pt x="14030" y="12548"/>
                  </a:lnTo>
                  <a:lnTo>
                    <a:pt x="14063" y="12577"/>
                  </a:lnTo>
                  <a:lnTo>
                    <a:pt x="14076" y="12587"/>
                  </a:lnTo>
                  <a:lnTo>
                    <a:pt x="14084" y="12578"/>
                  </a:lnTo>
                  <a:lnTo>
                    <a:pt x="14108" y="12553"/>
                  </a:lnTo>
                  <a:lnTo>
                    <a:pt x="14143" y="12514"/>
                  </a:lnTo>
                  <a:lnTo>
                    <a:pt x="14189" y="12462"/>
                  </a:lnTo>
                  <a:lnTo>
                    <a:pt x="14243" y="12400"/>
                  </a:lnTo>
                  <a:lnTo>
                    <a:pt x="14303" y="12330"/>
                  </a:lnTo>
                  <a:lnTo>
                    <a:pt x="14368" y="12254"/>
                  </a:lnTo>
                  <a:lnTo>
                    <a:pt x="14433" y="12173"/>
                  </a:lnTo>
                  <a:lnTo>
                    <a:pt x="14465" y="12133"/>
                  </a:lnTo>
                  <a:lnTo>
                    <a:pt x="14498" y="12091"/>
                  </a:lnTo>
                  <a:lnTo>
                    <a:pt x="14529" y="12050"/>
                  </a:lnTo>
                  <a:lnTo>
                    <a:pt x="14560" y="12009"/>
                  </a:lnTo>
                  <a:lnTo>
                    <a:pt x="14589" y="11968"/>
                  </a:lnTo>
                  <a:lnTo>
                    <a:pt x="14618" y="11928"/>
                  </a:lnTo>
                  <a:lnTo>
                    <a:pt x="14643" y="11889"/>
                  </a:lnTo>
                  <a:lnTo>
                    <a:pt x="14667" y="11851"/>
                  </a:lnTo>
                  <a:lnTo>
                    <a:pt x="14689" y="11815"/>
                  </a:lnTo>
                  <a:lnTo>
                    <a:pt x="14708" y="11781"/>
                  </a:lnTo>
                  <a:lnTo>
                    <a:pt x="14724" y="11748"/>
                  </a:lnTo>
                  <a:lnTo>
                    <a:pt x="14738" y="11719"/>
                  </a:lnTo>
                  <a:lnTo>
                    <a:pt x="14747" y="11692"/>
                  </a:lnTo>
                  <a:lnTo>
                    <a:pt x="14753" y="11667"/>
                  </a:lnTo>
                  <a:lnTo>
                    <a:pt x="14755" y="11646"/>
                  </a:lnTo>
                  <a:lnTo>
                    <a:pt x="14753" y="11627"/>
                  </a:lnTo>
                  <a:lnTo>
                    <a:pt x="14736" y="11615"/>
                  </a:lnTo>
                  <a:lnTo>
                    <a:pt x="14690" y="11582"/>
                  </a:lnTo>
                  <a:lnTo>
                    <a:pt x="14659" y="11557"/>
                  </a:lnTo>
                  <a:lnTo>
                    <a:pt x="14624" y="11527"/>
                  </a:lnTo>
                  <a:lnTo>
                    <a:pt x="14605" y="11509"/>
                  </a:lnTo>
                  <a:lnTo>
                    <a:pt x="14585" y="11490"/>
                  </a:lnTo>
                  <a:lnTo>
                    <a:pt x="14565" y="11470"/>
                  </a:lnTo>
                  <a:lnTo>
                    <a:pt x="14545" y="11449"/>
                  </a:lnTo>
                  <a:lnTo>
                    <a:pt x="14525" y="11427"/>
                  </a:lnTo>
                  <a:lnTo>
                    <a:pt x="14504" y="11404"/>
                  </a:lnTo>
                  <a:lnTo>
                    <a:pt x="14484" y="11378"/>
                  </a:lnTo>
                  <a:lnTo>
                    <a:pt x="14463" y="11352"/>
                  </a:lnTo>
                  <a:lnTo>
                    <a:pt x="14442" y="11324"/>
                  </a:lnTo>
                  <a:lnTo>
                    <a:pt x="14423" y="11296"/>
                  </a:lnTo>
                  <a:lnTo>
                    <a:pt x="14403" y="11265"/>
                  </a:lnTo>
                  <a:lnTo>
                    <a:pt x="14385" y="11234"/>
                  </a:lnTo>
                  <a:lnTo>
                    <a:pt x="14367" y="11202"/>
                  </a:lnTo>
                  <a:lnTo>
                    <a:pt x="14350" y="11169"/>
                  </a:lnTo>
                  <a:lnTo>
                    <a:pt x="14333" y="11133"/>
                  </a:lnTo>
                  <a:lnTo>
                    <a:pt x="14318" y="11097"/>
                  </a:lnTo>
                  <a:lnTo>
                    <a:pt x="14304" y="11060"/>
                  </a:lnTo>
                  <a:lnTo>
                    <a:pt x="14292" y="11021"/>
                  </a:lnTo>
                  <a:lnTo>
                    <a:pt x="14281" y="10982"/>
                  </a:lnTo>
                  <a:lnTo>
                    <a:pt x="14272" y="10941"/>
                  </a:lnTo>
                  <a:lnTo>
                    <a:pt x="14265" y="10924"/>
                  </a:lnTo>
                  <a:lnTo>
                    <a:pt x="14243" y="10876"/>
                  </a:lnTo>
                  <a:lnTo>
                    <a:pt x="14207" y="10801"/>
                  </a:lnTo>
                  <a:lnTo>
                    <a:pt x="14162" y="10705"/>
                  </a:lnTo>
                  <a:lnTo>
                    <a:pt x="14106" y="10589"/>
                  </a:lnTo>
                  <a:lnTo>
                    <a:pt x="14041" y="10459"/>
                  </a:lnTo>
                  <a:lnTo>
                    <a:pt x="13969" y="10318"/>
                  </a:lnTo>
                  <a:lnTo>
                    <a:pt x="13893" y="10171"/>
                  </a:lnTo>
                  <a:lnTo>
                    <a:pt x="13853" y="10098"/>
                  </a:lnTo>
                  <a:lnTo>
                    <a:pt x="13812" y="10024"/>
                  </a:lnTo>
                  <a:lnTo>
                    <a:pt x="13771" y="9950"/>
                  </a:lnTo>
                  <a:lnTo>
                    <a:pt x="13729" y="9878"/>
                  </a:lnTo>
                  <a:lnTo>
                    <a:pt x="13687" y="9807"/>
                  </a:lnTo>
                  <a:lnTo>
                    <a:pt x="13645" y="9739"/>
                  </a:lnTo>
                  <a:lnTo>
                    <a:pt x="13603" y="9672"/>
                  </a:lnTo>
                  <a:lnTo>
                    <a:pt x="13561" y="9610"/>
                  </a:lnTo>
                  <a:lnTo>
                    <a:pt x="13521" y="9551"/>
                  </a:lnTo>
                  <a:lnTo>
                    <a:pt x="13480" y="9496"/>
                  </a:lnTo>
                  <a:lnTo>
                    <a:pt x="13440" y="9446"/>
                  </a:lnTo>
                  <a:lnTo>
                    <a:pt x="13402" y="9401"/>
                  </a:lnTo>
                  <a:lnTo>
                    <a:pt x="13365" y="9362"/>
                  </a:lnTo>
                  <a:lnTo>
                    <a:pt x="13329" y="9329"/>
                  </a:lnTo>
                  <a:lnTo>
                    <a:pt x="13295" y="9303"/>
                  </a:lnTo>
                  <a:lnTo>
                    <a:pt x="13263" y="9285"/>
                  </a:lnTo>
                  <a:lnTo>
                    <a:pt x="13258" y="9288"/>
                  </a:lnTo>
                  <a:lnTo>
                    <a:pt x="13241" y="9296"/>
                  </a:lnTo>
                  <a:lnTo>
                    <a:pt x="13213" y="9309"/>
                  </a:lnTo>
                  <a:lnTo>
                    <a:pt x="13177" y="9326"/>
                  </a:lnTo>
                  <a:lnTo>
                    <a:pt x="13133" y="9346"/>
                  </a:lnTo>
                  <a:lnTo>
                    <a:pt x="13081" y="9368"/>
                  </a:lnTo>
                  <a:lnTo>
                    <a:pt x="13023" y="9393"/>
                  </a:lnTo>
                  <a:lnTo>
                    <a:pt x="12960" y="9417"/>
                  </a:lnTo>
                  <a:lnTo>
                    <a:pt x="12894" y="9442"/>
                  </a:lnTo>
                  <a:lnTo>
                    <a:pt x="12824" y="9465"/>
                  </a:lnTo>
                  <a:lnTo>
                    <a:pt x="12789" y="9477"/>
                  </a:lnTo>
                  <a:lnTo>
                    <a:pt x="12753" y="9488"/>
                  </a:lnTo>
                  <a:lnTo>
                    <a:pt x="12717" y="9499"/>
                  </a:lnTo>
                  <a:lnTo>
                    <a:pt x="12680" y="9508"/>
                  </a:lnTo>
                  <a:lnTo>
                    <a:pt x="12644" y="9517"/>
                  </a:lnTo>
                  <a:lnTo>
                    <a:pt x="12608" y="9525"/>
                  </a:lnTo>
                  <a:lnTo>
                    <a:pt x="12572" y="9532"/>
                  </a:lnTo>
                  <a:lnTo>
                    <a:pt x="12537" y="9538"/>
                  </a:lnTo>
                  <a:lnTo>
                    <a:pt x="12502" y="9543"/>
                  </a:lnTo>
                  <a:lnTo>
                    <a:pt x="12468" y="9546"/>
                  </a:lnTo>
                  <a:lnTo>
                    <a:pt x="12434" y="9549"/>
                  </a:lnTo>
                  <a:lnTo>
                    <a:pt x="12401" y="9549"/>
                  </a:lnTo>
                  <a:lnTo>
                    <a:pt x="12391" y="9540"/>
                  </a:lnTo>
                  <a:lnTo>
                    <a:pt x="12361" y="9514"/>
                  </a:lnTo>
                  <a:lnTo>
                    <a:pt x="12314" y="9473"/>
                  </a:lnTo>
                  <a:lnTo>
                    <a:pt x="12252" y="9420"/>
                  </a:lnTo>
                  <a:lnTo>
                    <a:pt x="12177" y="9356"/>
                  </a:lnTo>
                  <a:lnTo>
                    <a:pt x="12092" y="9284"/>
                  </a:lnTo>
                  <a:lnTo>
                    <a:pt x="11998" y="9205"/>
                  </a:lnTo>
                  <a:lnTo>
                    <a:pt x="11898" y="9123"/>
                  </a:lnTo>
                  <a:lnTo>
                    <a:pt x="11794" y="9039"/>
                  </a:lnTo>
                  <a:lnTo>
                    <a:pt x="11688" y="8955"/>
                  </a:lnTo>
                  <a:lnTo>
                    <a:pt x="11635" y="8914"/>
                  </a:lnTo>
                  <a:lnTo>
                    <a:pt x="11583" y="8873"/>
                  </a:lnTo>
                  <a:lnTo>
                    <a:pt x="11531" y="8835"/>
                  </a:lnTo>
                  <a:lnTo>
                    <a:pt x="11480" y="8797"/>
                  </a:lnTo>
                  <a:lnTo>
                    <a:pt x="11430" y="8761"/>
                  </a:lnTo>
                  <a:lnTo>
                    <a:pt x="11382" y="8727"/>
                  </a:lnTo>
                  <a:lnTo>
                    <a:pt x="11335" y="8695"/>
                  </a:lnTo>
                  <a:lnTo>
                    <a:pt x="11290" y="8666"/>
                  </a:lnTo>
                  <a:lnTo>
                    <a:pt x="11248" y="8639"/>
                  </a:lnTo>
                  <a:lnTo>
                    <a:pt x="11209" y="8616"/>
                  </a:lnTo>
                  <a:lnTo>
                    <a:pt x="11171" y="8596"/>
                  </a:lnTo>
                  <a:lnTo>
                    <a:pt x="11138" y="8579"/>
                  </a:lnTo>
                  <a:lnTo>
                    <a:pt x="10736" y="8510"/>
                  </a:lnTo>
                  <a:lnTo>
                    <a:pt x="13783" y="1661"/>
                  </a:lnTo>
                  <a:lnTo>
                    <a:pt x="13780" y="1657"/>
                  </a:lnTo>
                  <a:lnTo>
                    <a:pt x="13771" y="1647"/>
                  </a:lnTo>
                  <a:lnTo>
                    <a:pt x="13757" y="1632"/>
                  </a:lnTo>
                  <a:lnTo>
                    <a:pt x="13736" y="1614"/>
                  </a:lnTo>
                  <a:lnTo>
                    <a:pt x="13723" y="1603"/>
                  </a:lnTo>
                  <a:lnTo>
                    <a:pt x="13708" y="1592"/>
                  </a:lnTo>
                  <a:lnTo>
                    <a:pt x="13692" y="1580"/>
                  </a:lnTo>
                  <a:lnTo>
                    <a:pt x="13674" y="1569"/>
                  </a:lnTo>
                  <a:lnTo>
                    <a:pt x="13654" y="1558"/>
                  </a:lnTo>
                  <a:lnTo>
                    <a:pt x="13633" y="1546"/>
                  </a:lnTo>
                  <a:lnTo>
                    <a:pt x="13610" y="1535"/>
                  </a:lnTo>
                  <a:lnTo>
                    <a:pt x="13584" y="1525"/>
                  </a:lnTo>
                  <a:lnTo>
                    <a:pt x="13557" y="1515"/>
                  </a:lnTo>
                  <a:lnTo>
                    <a:pt x="13528" y="1506"/>
                  </a:lnTo>
                  <a:lnTo>
                    <a:pt x="13497" y="1497"/>
                  </a:lnTo>
                  <a:lnTo>
                    <a:pt x="13463" y="1490"/>
                  </a:lnTo>
                  <a:lnTo>
                    <a:pt x="13429" y="1484"/>
                  </a:lnTo>
                  <a:lnTo>
                    <a:pt x="13392" y="1480"/>
                  </a:lnTo>
                  <a:lnTo>
                    <a:pt x="13353" y="1477"/>
                  </a:lnTo>
                  <a:lnTo>
                    <a:pt x="13311" y="1475"/>
                  </a:lnTo>
                  <a:lnTo>
                    <a:pt x="13268" y="1476"/>
                  </a:lnTo>
                  <a:lnTo>
                    <a:pt x="13223" y="1478"/>
                  </a:lnTo>
                  <a:lnTo>
                    <a:pt x="13174" y="1483"/>
                  </a:lnTo>
                  <a:lnTo>
                    <a:pt x="13125" y="1489"/>
                  </a:lnTo>
                  <a:lnTo>
                    <a:pt x="13072" y="1499"/>
                  </a:lnTo>
                  <a:lnTo>
                    <a:pt x="13017" y="1511"/>
                  </a:lnTo>
                  <a:lnTo>
                    <a:pt x="12960" y="1525"/>
                  </a:lnTo>
                  <a:lnTo>
                    <a:pt x="12901" y="1543"/>
                  </a:lnTo>
                  <a:lnTo>
                    <a:pt x="12894" y="1543"/>
                  </a:lnTo>
                  <a:lnTo>
                    <a:pt x="12874" y="1543"/>
                  </a:lnTo>
                  <a:lnTo>
                    <a:pt x="12842" y="1541"/>
                  </a:lnTo>
                  <a:lnTo>
                    <a:pt x="12799" y="1539"/>
                  </a:lnTo>
                  <a:lnTo>
                    <a:pt x="12748" y="1536"/>
                  </a:lnTo>
                  <a:lnTo>
                    <a:pt x="12688" y="1531"/>
                  </a:lnTo>
                  <a:lnTo>
                    <a:pt x="12624" y="1523"/>
                  </a:lnTo>
                  <a:lnTo>
                    <a:pt x="12554" y="1514"/>
                  </a:lnTo>
                  <a:lnTo>
                    <a:pt x="12518" y="1508"/>
                  </a:lnTo>
                  <a:lnTo>
                    <a:pt x="12482" y="1501"/>
                  </a:lnTo>
                  <a:lnTo>
                    <a:pt x="12444" y="1494"/>
                  </a:lnTo>
                  <a:lnTo>
                    <a:pt x="12408" y="1486"/>
                  </a:lnTo>
                  <a:lnTo>
                    <a:pt x="12371" y="1477"/>
                  </a:lnTo>
                  <a:lnTo>
                    <a:pt x="12334" y="1466"/>
                  </a:lnTo>
                  <a:lnTo>
                    <a:pt x="12296" y="1455"/>
                  </a:lnTo>
                  <a:lnTo>
                    <a:pt x="12260" y="1444"/>
                  </a:lnTo>
                  <a:lnTo>
                    <a:pt x="12225" y="1431"/>
                  </a:lnTo>
                  <a:lnTo>
                    <a:pt x="12190" y="1417"/>
                  </a:lnTo>
                  <a:lnTo>
                    <a:pt x="12156" y="1402"/>
                  </a:lnTo>
                  <a:lnTo>
                    <a:pt x="12124" y="1386"/>
                  </a:lnTo>
                  <a:lnTo>
                    <a:pt x="12093" y="1368"/>
                  </a:lnTo>
                  <a:lnTo>
                    <a:pt x="12063" y="1349"/>
                  </a:lnTo>
                  <a:lnTo>
                    <a:pt x="12035" y="1329"/>
                  </a:lnTo>
                  <a:lnTo>
                    <a:pt x="12010" y="1308"/>
                  </a:lnTo>
                  <a:lnTo>
                    <a:pt x="11983" y="1307"/>
                  </a:lnTo>
                  <a:lnTo>
                    <a:pt x="11911" y="1302"/>
                  </a:lnTo>
                  <a:lnTo>
                    <a:pt x="11864" y="1298"/>
                  </a:lnTo>
                  <a:lnTo>
                    <a:pt x="11810" y="1291"/>
                  </a:lnTo>
                  <a:lnTo>
                    <a:pt x="11782" y="1287"/>
                  </a:lnTo>
                  <a:lnTo>
                    <a:pt x="11754" y="1283"/>
                  </a:lnTo>
                  <a:lnTo>
                    <a:pt x="11725" y="1277"/>
                  </a:lnTo>
                  <a:lnTo>
                    <a:pt x="11694" y="1271"/>
                  </a:lnTo>
                  <a:lnTo>
                    <a:pt x="11665" y="1265"/>
                  </a:lnTo>
                  <a:lnTo>
                    <a:pt x="11636" y="1257"/>
                  </a:lnTo>
                  <a:lnTo>
                    <a:pt x="11607" y="1249"/>
                  </a:lnTo>
                  <a:lnTo>
                    <a:pt x="11579" y="1239"/>
                  </a:lnTo>
                  <a:lnTo>
                    <a:pt x="11551" y="1228"/>
                  </a:lnTo>
                  <a:lnTo>
                    <a:pt x="11525" y="1217"/>
                  </a:lnTo>
                  <a:lnTo>
                    <a:pt x="11500" y="1205"/>
                  </a:lnTo>
                  <a:lnTo>
                    <a:pt x="11477" y="1192"/>
                  </a:lnTo>
                  <a:lnTo>
                    <a:pt x="11455" y="1178"/>
                  </a:lnTo>
                  <a:lnTo>
                    <a:pt x="11435" y="1162"/>
                  </a:lnTo>
                  <a:lnTo>
                    <a:pt x="11417" y="1146"/>
                  </a:lnTo>
                  <a:lnTo>
                    <a:pt x="11403" y="1128"/>
                  </a:lnTo>
                  <a:lnTo>
                    <a:pt x="11391" y="1108"/>
                  </a:lnTo>
                  <a:lnTo>
                    <a:pt x="11382" y="1088"/>
                  </a:lnTo>
                  <a:lnTo>
                    <a:pt x="11376" y="1066"/>
                  </a:lnTo>
                  <a:lnTo>
                    <a:pt x="11373" y="1043"/>
                  </a:lnTo>
                  <a:lnTo>
                    <a:pt x="11362" y="1037"/>
                  </a:lnTo>
                  <a:lnTo>
                    <a:pt x="11331" y="1019"/>
                  </a:lnTo>
                  <a:lnTo>
                    <a:pt x="11308" y="1007"/>
                  </a:lnTo>
                  <a:lnTo>
                    <a:pt x="11282" y="994"/>
                  </a:lnTo>
                  <a:lnTo>
                    <a:pt x="11253" y="978"/>
                  </a:lnTo>
                  <a:lnTo>
                    <a:pt x="11220" y="963"/>
                  </a:lnTo>
                  <a:lnTo>
                    <a:pt x="11183" y="948"/>
                  </a:lnTo>
                  <a:lnTo>
                    <a:pt x="11145" y="934"/>
                  </a:lnTo>
                  <a:lnTo>
                    <a:pt x="11105" y="920"/>
                  </a:lnTo>
                  <a:lnTo>
                    <a:pt x="11062" y="907"/>
                  </a:lnTo>
                  <a:lnTo>
                    <a:pt x="11041" y="901"/>
                  </a:lnTo>
                  <a:lnTo>
                    <a:pt x="11019" y="896"/>
                  </a:lnTo>
                  <a:lnTo>
                    <a:pt x="10997" y="891"/>
                  </a:lnTo>
                  <a:lnTo>
                    <a:pt x="10975" y="887"/>
                  </a:lnTo>
                  <a:lnTo>
                    <a:pt x="10952" y="884"/>
                  </a:lnTo>
                  <a:lnTo>
                    <a:pt x="10928" y="881"/>
                  </a:lnTo>
                  <a:lnTo>
                    <a:pt x="10906" y="878"/>
                  </a:lnTo>
                  <a:lnTo>
                    <a:pt x="10883" y="877"/>
                  </a:lnTo>
                  <a:lnTo>
                    <a:pt x="10866" y="866"/>
                  </a:lnTo>
                  <a:lnTo>
                    <a:pt x="10822" y="839"/>
                  </a:lnTo>
                  <a:lnTo>
                    <a:pt x="10790" y="821"/>
                  </a:lnTo>
                  <a:lnTo>
                    <a:pt x="10756" y="803"/>
                  </a:lnTo>
                  <a:lnTo>
                    <a:pt x="10718" y="784"/>
                  </a:lnTo>
                  <a:lnTo>
                    <a:pt x="10677" y="766"/>
                  </a:lnTo>
                  <a:lnTo>
                    <a:pt x="10656" y="757"/>
                  </a:lnTo>
                  <a:lnTo>
                    <a:pt x="10635" y="748"/>
                  </a:lnTo>
                  <a:lnTo>
                    <a:pt x="10614" y="740"/>
                  </a:lnTo>
                  <a:lnTo>
                    <a:pt x="10593" y="733"/>
                  </a:lnTo>
                  <a:lnTo>
                    <a:pt x="10572" y="727"/>
                  </a:lnTo>
                  <a:lnTo>
                    <a:pt x="10551" y="722"/>
                  </a:lnTo>
                  <a:lnTo>
                    <a:pt x="10531" y="718"/>
                  </a:lnTo>
                  <a:lnTo>
                    <a:pt x="10511" y="715"/>
                  </a:lnTo>
                  <a:lnTo>
                    <a:pt x="10492" y="714"/>
                  </a:lnTo>
                  <a:lnTo>
                    <a:pt x="10473" y="714"/>
                  </a:lnTo>
                  <a:lnTo>
                    <a:pt x="10456" y="715"/>
                  </a:lnTo>
                  <a:lnTo>
                    <a:pt x="10438" y="718"/>
                  </a:lnTo>
                  <a:lnTo>
                    <a:pt x="10423" y="723"/>
                  </a:lnTo>
                  <a:lnTo>
                    <a:pt x="10408" y="729"/>
                  </a:lnTo>
                  <a:lnTo>
                    <a:pt x="10395" y="738"/>
                  </a:lnTo>
                  <a:lnTo>
                    <a:pt x="10383" y="749"/>
                  </a:lnTo>
                  <a:lnTo>
                    <a:pt x="10373" y="761"/>
                  </a:lnTo>
                  <a:lnTo>
                    <a:pt x="10364" y="773"/>
                  </a:lnTo>
                  <a:lnTo>
                    <a:pt x="10356" y="786"/>
                  </a:lnTo>
                  <a:lnTo>
                    <a:pt x="10350" y="800"/>
                  </a:lnTo>
                  <a:lnTo>
                    <a:pt x="10344" y="814"/>
                  </a:lnTo>
                  <a:lnTo>
                    <a:pt x="10339" y="829"/>
                  </a:lnTo>
                  <a:lnTo>
                    <a:pt x="10335" y="844"/>
                  </a:lnTo>
                  <a:lnTo>
                    <a:pt x="10332" y="859"/>
                  </a:lnTo>
                  <a:lnTo>
                    <a:pt x="10323" y="921"/>
                  </a:lnTo>
                  <a:lnTo>
                    <a:pt x="10317" y="980"/>
                  </a:lnTo>
                  <a:lnTo>
                    <a:pt x="10313" y="995"/>
                  </a:lnTo>
                  <a:lnTo>
                    <a:pt x="10311" y="1008"/>
                  </a:lnTo>
                  <a:lnTo>
                    <a:pt x="10307" y="1020"/>
                  </a:lnTo>
                  <a:lnTo>
                    <a:pt x="10304" y="1032"/>
                  </a:lnTo>
                  <a:lnTo>
                    <a:pt x="10299" y="1042"/>
                  </a:lnTo>
                  <a:lnTo>
                    <a:pt x="10294" y="1052"/>
                  </a:lnTo>
                  <a:lnTo>
                    <a:pt x="10287" y="1060"/>
                  </a:lnTo>
                  <a:lnTo>
                    <a:pt x="10280" y="1068"/>
                  </a:lnTo>
                  <a:lnTo>
                    <a:pt x="10271" y="1074"/>
                  </a:lnTo>
                  <a:lnTo>
                    <a:pt x="10261" y="1078"/>
                  </a:lnTo>
                  <a:lnTo>
                    <a:pt x="10250" y="1081"/>
                  </a:lnTo>
                  <a:lnTo>
                    <a:pt x="10237" y="1083"/>
                  </a:lnTo>
                  <a:lnTo>
                    <a:pt x="10223" y="1083"/>
                  </a:lnTo>
                  <a:lnTo>
                    <a:pt x="10206" y="1081"/>
                  </a:lnTo>
                  <a:lnTo>
                    <a:pt x="10187" y="1078"/>
                  </a:lnTo>
                  <a:lnTo>
                    <a:pt x="10168" y="1072"/>
                  </a:lnTo>
                  <a:lnTo>
                    <a:pt x="10148" y="1067"/>
                  </a:lnTo>
                  <a:lnTo>
                    <a:pt x="10130" y="1060"/>
                  </a:lnTo>
                  <a:lnTo>
                    <a:pt x="10112" y="1052"/>
                  </a:lnTo>
                  <a:lnTo>
                    <a:pt x="10095" y="1044"/>
                  </a:lnTo>
                  <a:lnTo>
                    <a:pt x="10079" y="1035"/>
                  </a:lnTo>
                  <a:lnTo>
                    <a:pt x="10063" y="1025"/>
                  </a:lnTo>
                  <a:lnTo>
                    <a:pt x="10049" y="1014"/>
                  </a:lnTo>
                  <a:lnTo>
                    <a:pt x="10035" y="1003"/>
                  </a:lnTo>
                  <a:lnTo>
                    <a:pt x="10021" y="990"/>
                  </a:lnTo>
                  <a:lnTo>
                    <a:pt x="10008" y="978"/>
                  </a:lnTo>
                  <a:lnTo>
                    <a:pt x="9995" y="965"/>
                  </a:lnTo>
                  <a:lnTo>
                    <a:pt x="9983" y="952"/>
                  </a:lnTo>
                  <a:lnTo>
                    <a:pt x="9959" y="924"/>
                  </a:lnTo>
                  <a:lnTo>
                    <a:pt x="9934" y="895"/>
                  </a:lnTo>
                  <a:lnTo>
                    <a:pt x="9909" y="864"/>
                  </a:lnTo>
                  <a:lnTo>
                    <a:pt x="9884" y="834"/>
                  </a:lnTo>
                  <a:lnTo>
                    <a:pt x="9857" y="802"/>
                  </a:lnTo>
                  <a:lnTo>
                    <a:pt x="9828" y="771"/>
                  </a:lnTo>
                  <a:lnTo>
                    <a:pt x="9813" y="756"/>
                  </a:lnTo>
                  <a:lnTo>
                    <a:pt x="9795" y="739"/>
                  </a:lnTo>
                  <a:lnTo>
                    <a:pt x="9778" y="724"/>
                  </a:lnTo>
                  <a:lnTo>
                    <a:pt x="9760" y="709"/>
                  </a:lnTo>
                  <a:lnTo>
                    <a:pt x="9742" y="694"/>
                  </a:lnTo>
                  <a:lnTo>
                    <a:pt x="9722" y="680"/>
                  </a:lnTo>
                  <a:lnTo>
                    <a:pt x="9701" y="666"/>
                  </a:lnTo>
                  <a:lnTo>
                    <a:pt x="9678" y="652"/>
                  </a:lnTo>
                  <a:lnTo>
                    <a:pt x="9627" y="622"/>
                  </a:lnTo>
                  <a:lnTo>
                    <a:pt x="9569" y="589"/>
                  </a:lnTo>
                  <a:lnTo>
                    <a:pt x="9502" y="554"/>
                  </a:lnTo>
                  <a:lnTo>
                    <a:pt x="9430" y="518"/>
                  </a:lnTo>
                  <a:lnTo>
                    <a:pt x="9356" y="479"/>
                  </a:lnTo>
                  <a:lnTo>
                    <a:pt x="9279" y="441"/>
                  </a:lnTo>
                  <a:lnTo>
                    <a:pt x="9202" y="403"/>
                  </a:lnTo>
                  <a:lnTo>
                    <a:pt x="9126" y="366"/>
                  </a:lnTo>
                  <a:lnTo>
                    <a:pt x="9052" y="331"/>
                  </a:lnTo>
                  <a:lnTo>
                    <a:pt x="8984" y="298"/>
                  </a:lnTo>
                  <a:lnTo>
                    <a:pt x="8921" y="268"/>
                  </a:lnTo>
                  <a:lnTo>
                    <a:pt x="8867" y="242"/>
                  </a:lnTo>
                  <a:lnTo>
                    <a:pt x="8822" y="221"/>
                  </a:lnTo>
                  <a:lnTo>
                    <a:pt x="8786" y="205"/>
                  </a:lnTo>
                  <a:lnTo>
                    <a:pt x="8765" y="194"/>
                  </a:lnTo>
                  <a:lnTo>
                    <a:pt x="8757" y="191"/>
                  </a:lnTo>
                  <a:lnTo>
                    <a:pt x="8752" y="187"/>
                  </a:lnTo>
                  <a:lnTo>
                    <a:pt x="8735" y="177"/>
                  </a:lnTo>
                  <a:lnTo>
                    <a:pt x="8708" y="161"/>
                  </a:lnTo>
                  <a:lnTo>
                    <a:pt x="8669" y="140"/>
                  </a:lnTo>
                  <a:lnTo>
                    <a:pt x="8646" y="130"/>
                  </a:lnTo>
                  <a:lnTo>
                    <a:pt x="8620" y="118"/>
                  </a:lnTo>
                  <a:lnTo>
                    <a:pt x="8592" y="107"/>
                  </a:lnTo>
                  <a:lnTo>
                    <a:pt x="8560" y="95"/>
                  </a:lnTo>
                  <a:lnTo>
                    <a:pt x="8525" y="83"/>
                  </a:lnTo>
                  <a:lnTo>
                    <a:pt x="8489" y="71"/>
                  </a:lnTo>
                  <a:lnTo>
                    <a:pt x="8450" y="60"/>
                  </a:lnTo>
                  <a:lnTo>
                    <a:pt x="8407" y="49"/>
                  </a:lnTo>
                  <a:lnTo>
                    <a:pt x="8362" y="39"/>
                  </a:lnTo>
                  <a:lnTo>
                    <a:pt x="8315" y="29"/>
                  </a:lnTo>
                  <a:lnTo>
                    <a:pt x="8264" y="20"/>
                  </a:lnTo>
                  <a:lnTo>
                    <a:pt x="8211" y="13"/>
                  </a:lnTo>
                  <a:lnTo>
                    <a:pt x="8155" y="8"/>
                  </a:lnTo>
                  <a:lnTo>
                    <a:pt x="8097" y="4"/>
                  </a:lnTo>
                  <a:lnTo>
                    <a:pt x="8035" y="1"/>
                  </a:lnTo>
                  <a:lnTo>
                    <a:pt x="7972" y="0"/>
                  </a:lnTo>
                  <a:lnTo>
                    <a:pt x="7905" y="2"/>
                  </a:lnTo>
                  <a:lnTo>
                    <a:pt x="7837" y="5"/>
                  </a:lnTo>
                  <a:lnTo>
                    <a:pt x="7764" y="11"/>
                  </a:lnTo>
                  <a:lnTo>
                    <a:pt x="7691" y="20"/>
                  </a:lnTo>
                  <a:lnTo>
                    <a:pt x="7613" y="31"/>
                  </a:lnTo>
                  <a:lnTo>
                    <a:pt x="7533" y="46"/>
                  </a:lnTo>
                  <a:lnTo>
                    <a:pt x="7451" y="63"/>
                  </a:lnTo>
                  <a:lnTo>
                    <a:pt x="7366" y="83"/>
                  </a:lnTo>
                  <a:lnTo>
                    <a:pt x="7283" y="104"/>
                  </a:lnTo>
                  <a:lnTo>
                    <a:pt x="7207" y="122"/>
                  </a:lnTo>
                  <a:lnTo>
                    <a:pt x="7136" y="139"/>
                  </a:lnTo>
                  <a:lnTo>
                    <a:pt x="7071" y="153"/>
                  </a:lnTo>
                  <a:lnTo>
                    <a:pt x="7010" y="166"/>
                  </a:lnTo>
                  <a:lnTo>
                    <a:pt x="6955" y="177"/>
                  </a:lnTo>
                  <a:lnTo>
                    <a:pt x="6903" y="186"/>
                  </a:lnTo>
                  <a:lnTo>
                    <a:pt x="6856" y="193"/>
                  </a:lnTo>
                  <a:lnTo>
                    <a:pt x="6813" y="199"/>
                  </a:lnTo>
                  <a:lnTo>
                    <a:pt x="6773" y="204"/>
                  </a:lnTo>
                  <a:lnTo>
                    <a:pt x="6737" y="207"/>
                  </a:lnTo>
                  <a:lnTo>
                    <a:pt x="6704" y="209"/>
                  </a:lnTo>
                  <a:lnTo>
                    <a:pt x="6674" y="210"/>
                  </a:lnTo>
                  <a:lnTo>
                    <a:pt x="6646" y="210"/>
                  </a:lnTo>
                  <a:lnTo>
                    <a:pt x="6620" y="209"/>
                  </a:lnTo>
                  <a:lnTo>
                    <a:pt x="6597" y="208"/>
                  </a:lnTo>
                  <a:lnTo>
                    <a:pt x="6576" y="206"/>
                  </a:lnTo>
                  <a:lnTo>
                    <a:pt x="6556" y="203"/>
                  </a:lnTo>
                  <a:lnTo>
                    <a:pt x="6537" y="200"/>
                  </a:lnTo>
                  <a:lnTo>
                    <a:pt x="6518" y="197"/>
                  </a:lnTo>
                  <a:lnTo>
                    <a:pt x="6483" y="190"/>
                  </a:lnTo>
                  <a:lnTo>
                    <a:pt x="6449" y="182"/>
                  </a:lnTo>
                  <a:lnTo>
                    <a:pt x="6431" y="179"/>
                  </a:lnTo>
                  <a:lnTo>
                    <a:pt x="6413" y="176"/>
                  </a:lnTo>
                  <a:lnTo>
                    <a:pt x="6392" y="174"/>
                  </a:lnTo>
                  <a:lnTo>
                    <a:pt x="6371" y="172"/>
                  </a:lnTo>
                  <a:lnTo>
                    <a:pt x="6349" y="170"/>
                  </a:lnTo>
                  <a:lnTo>
                    <a:pt x="6325" y="170"/>
                  </a:lnTo>
                  <a:lnTo>
                    <a:pt x="6298" y="170"/>
                  </a:lnTo>
                  <a:lnTo>
                    <a:pt x="6269" y="171"/>
                  </a:lnTo>
                  <a:lnTo>
                    <a:pt x="6208" y="176"/>
                  </a:lnTo>
                  <a:lnTo>
                    <a:pt x="6144" y="182"/>
                  </a:lnTo>
                  <a:lnTo>
                    <a:pt x="6080" y="191"/>
                  </a:lnTo>
                  <a:lnTo>
                    <a:pt x="6015" y="201"/>
                  </a:lnTo>
                  <a:lnTo>
                    <a:pt x="5983" y="207"/>
                  </a:lnTo>
                  <a:lnTo>
                    <a:pt x="5951" y="213"/>
                  </a:lnTo>
                  <a:lnTo>
                    <a:pt x="5919" y="220"/>
                  </a:lnTo>
                  <a:lnTo>
                    <a:pt x="5886" y="228"/>
                  </a:lnTo>
                  <a:lnTo>
                    <a:pt x="5854" y="236"/>
                  </a:lnTo>
                  <a:lnTo>
                    <a:pt x="5823" y="244"/>
                  </a:lnTo>
                  <a:lnTo>
                    <a:pt x="5792" y="253"/>
                  </a:lnTo>
                  <a:lnTo>
                    <a:pt x="5761" y="263"/>
                  </a:lnTo>
                  <a:lnTo>
                    <a:pt x="5731" y="273"/>
                  </a:lnTo>
                  <a:lnTo>
                    <a:pt x="5701" y="284"/>
                  </a:lnTo>
                  <a:lnTo>
                    <a:pt x="5672" y="295"/>
                  </a:lnTo>
                  <a:lnTo>
                    <a:pt x="5643" y="307"/>
                  </a:lnTo>
                  <a:lnTo>
                    <a:pt x="5615" y="319"/>
                  </a:lnTo>
                  <a:lnTo>
                    <a:pt x="5589" y="332"/>
                  </a:lnTo>
                  <a:lnTo>
                    <a:pt x="5563" y="346"/>
                  </a:lnTo>
                  <a:lnTo>
                    <a:pt x="5538" y="360"/>
                  </a:lnTo>
                  <a:lnTo>
                    <a:pt x="5513" y="374"/>
                  </a:lnTo>
                  <a:lnTo>
                    <a:pt x="5490" y="389"/>
                  </a:lnTo>
                  <a:lnTo>
                    <a:pt x="5468" y="406"/>
                  </a:lnTo>
                  <a:lnTo>
                    <a:pt x="5448" y="423"/>
                  </a:lnTo>
                  <a:lnTo>
                    <a:pt x="5428" y="440"/>
                  </a:lnTo>
                  <a:lnTo>
                    <a:pt x="5410" y="457"/>
                  </a:lnTo>
                  <a:lnTo>
                    <a:pt x="5393" y="475"/>
                  </a:lnTo>
                  <a:lnTo>
                    <a:pt x="5377" y="494"/>
                  </a:lnTo>
                  <a:lnTo>
                    <a:pt x="5360" y="515"/>
                  </a:lnTo>
                  <a:lnTo>
                    <a:pt x="5339" y="539"/>
                  </a:lnTo>
                  <a:lnTo>
                    <a:pt x="5313" y="565"/>
                  </a:lnTo>
                  <a:lnTo>
                    <a:pt x="5283" y="595"/>
                  </a:lnTo>
                  <a:lnTo>
                    <a:pt x="5248" y="627"/>
                  </a:lnTo>
                  <a:lnTo>
                    <a:pt x="5211" y="662"/>
                  </a:lnTo>
                  <a:lnTo>
                    <a:pt x="5170" y="699"/>
                  </a:lnTo>
                  <a:lnTo>
                    <a:pt x="5125" y="737"/>
                  </a:lnTo>
                  <a:lnTo>
                    <a:pt x="5078" y="778"/>
                  </a:lnTo>
                  <a:lnTo>
                    <a:pt x="5028" y="819"/>
                  </a:lnTo>
                  <a:lnTo>
                    <a:pt x="4975" y="861"/>
                  </a:lnTo>
                  <a:lnTo>
                    <a:pt x="4921" y="905"/>
                  </a:lnTo>
                  <a:lnTo>
                    <a:pt x="4864" y="948"/>
                  </a:lnTo>
                  <a:lnTo>
                    <a:pt x="4806" y="991"/>
                  </a:lnTo>
                  <a:lnTo>
                    <a:pt x="4746" y="1036"/>
                  </a:lnTo>
                  <a:lnTo>
                    <a:pt x="4686" y="1079"/>
                  </a:lnTo>
                  <a:lnTo>
                    <a:pt x="4624" y="1122"/>
                  </a:lnTo>
                  <a:lnTo>
                    <a:pt x="4562" y="1163"/>
                  </a:lnTo>
                  <a:lnTo>
                    <a:pt x="4498" y="1203"/>
                  </a:lnTo>
                  <a:lnTo>
                    <a:pt x="4436" y="1243"/>
                  </a:lnTo>
                  <a:lnTo>
                    <a:pt x="4372" y="1280"/>
                  </a:lnTo>
                  <a:lnTo>
                    <a:pt x="4310" y="1315"/>
                  </a:lnTo>
                  <a:lnTo>
                    <a:pt x="4247" y="1347"/>
                  </a:lnTo>
                  <a:lnTo>
                    <a:pt x="4186" y="1378"/>
                  </a:lnTo>
                  <a:lnTo>
                    <a:pt x="4125" y="1405"/>
                  </a:lnTo>
                  <a:lnTo>
                    <a:pt x="4067" y="1429"/>
                  </a:lnTo>
                  <a:lnTo>
                    <a:pt x="4008" y="1450"/>
                  </a:lnTo>
                  <a:lnTo>
                    <a:pt x="3953" y="1467"/>
                  </a:lnTo>
                  <a:lnTo>
                    <a:pt x="3899" y="1481"/>
                  </a:lnTo>
                  <a:lnTo>
                    <a:pt x="3847" y="1490"/>
                  </a:lnTo>
                  <a:lnTo>
                    <a:pt x="3798" y="1495"/>
                  </a:lnTo>
                  <a:lnTo>
                    <a:pt x="3751" y="1494"/>
                  </a:lnTo>
                  <a:lnTo>
                    <a:pt x="3706" y="1491"/>
                  </a:lnTo>
                  <a:lnTo>
                    <a:pt x="3660" y="1488"/>
                  </a:lnTo>
                  <a:lnTo>
                    <a:pt x="3612" y="1487"/>
                  </a:lnTo>
                  <a:lnTo>
                    <a:pt x="3564" y="1485"/>
                  </a:lnTo>
                  <a:lnTo>
                    <a:pt x="3516" y="1485"/>
                  </a:lnTo>
                  <a:lnTo>
                    <a:pt x="3467" y="1486"/>
                  </a:lnTo>
                  <a:lnTo>
                    <a:pt x="3418" y="1487"/>
                  </a:lnTo>
                  <a:lnTo>
                    <a:pt x="3368" y="1489"/>
                  </a:lnTo>
                  <a:lnTo>
                    <a:pt x="3319" y="1491"/>
                  </a:lnTo>
                  <a:lnTo>
                    <a:pt x="3270" y="1495"/>
                  </a:lnTo>
                  <a:lnTo>
                    <a:pt x="3220" y="1500"/>
                  </a:lnTo>
                  <a:lnTo>
                    <a:pt x="3171" y="1505"/>
                  </a:lnTo>
                  <a:lnTo>
                    <a:pt x="3123" y="1511"/>
                  </a:lnTo>
                  <a:lnTo>
                    <a:pt x="3075" y="1518"/>
                  </a:lnTo>
                  <a:lnTo>
                    <a:pt x="3029" y="1527"/>
                  </a:lnTo>
                  <a:lnTo>
                    <a:pt x="2982" y="1536"/>
                  </a:lnTo>
                  <a:lnTo>
                    <a:pt x="2938" y="1546"/>
                  </a:lnTo>
                  <a:lnTo>
                    <a:pt x="2894" y="1557"/>
                  </a:lnTo>
                  <a:lnTo>
                    <a:pt x="2851" y="1569"/>
                  </a:lnTo>
                  <a:lnTo>
                    <a:pt x="2811" y="1582"/>
                  </a:lnTo>
                  <a:lnTo>
                    <a:pt x="2771" y="1597"/>
                  </a:lnTo>
                  <a:lnTo>
                    <a:pt x="2733" y="1612"/>
                  </a:lnTo>
                  <a:lnTo>
                    <a:pt x="2697" y="1628"/>
                  </a:lnTo>
                  <a:lnTo>
                    <a:pt x="2664" y="1646"/>
                  </a:lnTo>
                  <a:lnTo>
                    <a:pt x="2632" y="1664"/>
                  </a:lnTo>
                  <a:lnTo>
                    <a:pt x="2601" y="1684"/>
                  </a:lnTo>
                  <a:lnTo>
                    <a:pt x="2574" y="1705"/>
                  </a:lnTo>
                  <a:lnTo>
                    <a:pt x="2550" y="1727"/>
                  </a:lnTo>
                  <a:lnTo>
                    <a:pt x="2528" y="1750"/>
                  </a:lnTo>
                  <a:lnTo>
                    <a:pt x="2509" y="1775"/>
                  </a:lnTo>
                  <a:lnTo>
                    <a:pt x="2491" y="1800"/>
                  </a:lnTo>
                  <a:lnTo>
                    <a:pt x="2478" y="1827"/>
                  </a:lnTo>
                  <a:lnTo>
                    <a:pt x="2467" y="1854"/>
                  </a:lnTo>
                  <a:lnTo>
                    <a:pt x="2458" y="1878"/>
                  </a:lnTo>
                  <a:lnTo>
                    <a:pt x="2451" y="1902"/>
                  </a:lnTo>
                  <a:lnTo>
                    <a:pt x="2446" y="1924"/>
                  </a:lnTo>
                  <a:lnTo>
                    <a:pt x="2443" y="1946"/>
                  </a:lnTo>
                  <a:lnTo>
                    <a:pt x="2441" y="1968"/>
                  </a:lnTo>
                  <a:lnTo>
                    <a:pt x="2441" y="1988"/>
                  </a:lnTo>
                  <a:lnTo>
                    <a:pt x="2443" y="2008"/>
                  </a:lnTo>
                  <a:lnTo>
                    <a:pt x="2447" y="2027"/>
                  </a:lnTo>
                  <a:lnTo>
                    <a:pt x="2452" y="2046"/>
                  </a:lnTo>
                  <a:lnTo>
                    <a:pt x="2459" y="2065"/>
                  </a:lnTo>
                  <a:lnTo>
                    <a:pt x="2468" y="2084"/>
                  </a:lnTo>
                  <a:lnTo>
                    <a:pt x="2478" y="2102"/>
                  </a:lnTo>
                  <a:lnTo>
                    <a:pt x="2489" y="2120"/>
                  </a:lnTo>
                  <a:lnTo>
                    <a:pt x="2502" y="2138"/>
                  </a:lnTo>
                  <a:lnTo>
                    <a:pt x="2518" y="2157"/>
                  </a:lnTo>
                  <a:lnTo>
                    <a:pt x="2533" y="2175"/>
                  </a:lnTo>
                  <a:lnTo>
                    <a:pt x="2550" y="2195"/>
                  </a:lnTo>
                  <a:lnTo>
                    <a:pt x="2569" y="2215"/>
                  </a:lnTo>
                  <a:lnTo>
                    <a:pt x="2588" y="2234"/>
                  </a:lnTo>
                  <a:lnTo>
                    <a:pt x="2632" y="2276"/>
                  </a:lnTo>
                  <a:lnTo>
                    <a:pt x="2679" y="2322"/>
                  </a:lnTo>
                  <a:lnTo>
                    <a:pt x="2731" y="2372"/>
                  </a:lnTo>
                  <a:lnTo>
                    <a:pt x="2787" y="2426"/>
                  </a:lnTo>
                  <a:lnTo>
                    <a:pt x="2846" y="2486"/>
                  </a:lnTo>
                  <a:lnTo>
                    <a:pt x="2909" y="2553"/>
                  </a:lnTo>
                  <a:lnTo>
                    <a:pt x="2976" y="2626"/>
                  </a:lnTo>
                  <a:lnTo>
                    <a:pt x="3050" y="2709"/>
                  </a:lnTo>
                  <a:lnTo>
                    <a:pt x="3089" y="2753"/>
                  </a:lnTo>
                  <a:lnTo>
                    <a:pt x="3128" y="2800"/>
                  </a:lnTo>
                  <a:lnTo>
                    <a:pt x="3169" y="2848"/>
                  </a:lnTo>
                  <a:lnTo>
                    <a:pt x="3210" y="2897"/>
                  </a:lnTo>
                  <a:lnTo>
                    <a:pt x="3250" y="2948"/>
                  </a:lnTo>
                  <a:lnTo>
                    <a:pt x="3291" y="2999"/>
                  </a:lnTo>
                  <a:lnTo>
                    <a:pt x="3330" y="3052"/>
                  </a:lnTo>
                  <a:lnTo>
                    <a:pt x="3368" y="3104"/>
                  </a:lnTo>
                  <a:lnTo>
                    <a:pt x="3406" y="3158"/>
                  </a:lnTo>
                  <a:lnTo>
                    <a:pt x="3441" y="3211"/>
                  </a:lnTo>
                  <a:lnTo>
                    <a:pt x="3475" y="3264"/>
                  </a:lnTo>
                  <a:lnTo>
                    <a:pt x="3506" y="3318"/>
                  </a:lnTo>
                  <a:lnTo>
                    <a:pt x="3536" y="3370"/>
                  </a:lnTo>
                  <a:lnTo>
                    <a:pt x="3562" y="3423"/>
                  </a:lnTo>
                  <a:lnTo>
                    <a:pt x="3585" y="3474"/>
                  </a:lnTo>
                  <a:lnTo>
                    <a:pt x="3604" y="3525"/>
                  </a:lnTo>
                  <a:lnTo>
                    <a:pt x="3620" y="3574"/>
                  </a:lnTo>
                  <a:lnTo>
                    <a:pt x="3631" y="3621"/>
                  </a:lnTo>
                  <a:lnTo>
                    <a:pt x="3640" y="3667"/>
                  </a:lnTo>
                  <a:lnTo>
                    <a:pt x="3642" y="3711"/>
                  </a:lnTo>
                  <a:lnTo>
                    <a:pt x="3640" y="3754"/>
                  </a:lnTo>
                  <a:lnTo>
                    <a:pt x="3632" y="3793"/>
                  </a:lnTo>
                  <a:lnTo>
                    <a:pt x="3618" y="3830"/>
                  </a:lnTo>
                  <a:lnTo>
                    <a:pt x="3599" y="3866"/>
                  </a:lnTo>
                  <a:lnTo>
                    <a:pt x="3574" y="3897"/>
                  </a:lnTo>
                  <a:lnTo>
                    <a:pt x="3543" y="3926"/>
                  </a:lnTo>
                  <a:lnTo>
                    <a:pt x="3503" y="3951"/>
                  </a:lnTo>
                  <a:lnTo>
                    <a:pt x="3458" y="3973"/>
                  </a:lnTo>
                  <a:lnTo>
                    <a:pt x="3409" y="3992"/>
                  </a:lnTo>
                  <a:lnTo>
                    <a:pt x="3362" y="4007"/>
                  </a:lnTo>
                  <a:lnTo>
                    <a:pt x="3319" y="4019"/>
                  </a:lnTo>
                  <a:lnTo>
                    <a:pt x="3279" y="4028"/>
                  </a:lnTo>
                  <a:lnTo>
                    <a:pt x="3240" y="4034"/>
                  </a:lnTo>
                  <a:lnTo>
                    <a:pt x="3205" y="4037"/>
                  </a:lnTo>
                  <a:lnTo>
                    <a:pt x="3172" y="4037"/>
                  </a:lnTo>
                  <a:lnTo>
                    <a:pt x="3141" y="4035"/>
                  </a:lnTo>
                  <a:lnTo>
                    <a:pt x="3111" y="4031"/>
                  </a:lnTo>
                  <a:lnTo>
                    <a:pt x="3084" y="4025"/>
                  </a:lnTo>
                  <a:lnTo>
                    <a:pt x="3058" y="4017"/>
                  </a:lnTo>
                  <a:lnTo>
                    <a:pt x="3034" y="4007"/>
                  </a:lnTo>
                  <a:lnTo>
                    <a:pt x="3011" y="3996"/>
                  </a:lnTo>
                  <a:lnTo>
                    <a:pt x="2988" y="3983"/>
                  </a:lnTo>
                  <a:lnTo>
                    <a:pt x="2968" y="3969"/>
                  </a:lnTo>
                  <a:lnTo>
                    <a:pt x="2948" y="3954"/>
                  </a:lnTo>
                  <a:lnTo>
                    <a:pt x="2929" y="3938"/>
                  </a:lnTo>
                  <a:lnTo>
                    <a:pt x="2911" y="3921"/>
                  </a:lnTo>
                  <a:lnTo>
                    <a:pt x="2894" y="3904"/>
                  </a:lnTo>
                  <a:lnTo>
                    <a:pt x="2876" y="3886"/>
                  </a:lnTo>
                  <a:lnTo>
                    <a:pt x="2842" y="3849"/>
                  </a:lnTo>
                  <a:lnTo>
                    <a:pt x="2808" y="3813"/>
                  </a:lnTo>
                  <a:lnTo>
                    <a:pt x="2790" y="3796"/>
                  </a:lnTo>
                  <a:lnTo>
                    <a:pt x="2772" y="3779"/>
                  </a:lnTo>
                  <a:lnTo>
                    <a:pt x="2752" y="3763"/>
                  </a:lnTo>
                  <a:lnTo>
                    <a:pt x="2733" y="3748"/>
                  </a:lnTo>
                  <a:lnTo>
                    <a:pt x="2713" y="3733"/>
                  </a:lnTo>
                  <a:lnTo>
                    <a:pt x="2691" y="3720"/>
                  </a:lnTo>
                  <a:lnTo>
                    <a:pt x="2669" y="3709"/>
                  </a:lnTo>
                  <a:lnTo>
                    <a:pt x="2645" y="3699"/>
                  </a:lnTo>
                  <a:lnTo>
                    <a:pt x="2618" y="3689"/>
                  </a:lnTo>
                  <a:lnTo>
                    <a:pt x="2590" y="3681"/>
                  </a:lnTo>
                  <a:lnTo>
                    <a:pt x="2559" y="3674"/>
                  </a:lnTo>
                  <a:lnTo>
                    <a:pt x="2526" y="3667"/>
                  </a:lnTo>
                  <a:lnTo>
                    <a:pt x="2490" y="3662"/>
                  </a:lnTo>
                  <a:lnTo>
                    <a:pt x="2453" y="3657"/>
                  </a:lnTo>
                  <a:lnTo>
                    <a:pt x="2414" y="3654"/>
                  </a:lnTo>
                  <a:lnTo>
                    <a:pt x="2373" y="3652"/>
                  </a:lnTo>
                  <a:lnTo>
                    <a:pt x="2331" y="3651"/>
                  </a:lnTo>
                  <a:lnTo>
                    <a:pt x="2287" y="3651"/>
                  </a:lnTo>
                  <a:lnTo>
                    <a:pt x="2242" y="3652"/>
                  </a:lnTo>
                  <a:lnTo>
                    <a:pt x="2196" y="3654"/>
                  </a:lnTo>
                  <a:lnTo>
                    <a:pt x="2149" y="3657"/>
                  </a:lnTo>
                  <a:lnTo>
                    <a:pt x="2100" y="3662"/>
                  </a:lnTo>
                  <a:lnTo>
                    <a:pt x="2051" y="3667"/>
                  </a:lnTo>
                  <a:lnTo>
                    <a:pt x="2002" y="3673"/>
                  </a:lnTo>
                  <a:lnTo>
                    <a:pt x="1952" y="3681"/>
                  </a:lnTo>
                  <a:lnTo>
                    <a:pt x="1902" y="3690"/>
                  </a:lnTo>
                  <a:lnTo>
                    <a:pt x="1850" y="3700"/>
                  </a:lnTo>
                  <a:lnTo>
                    <a:pt x="1800" y="3711"/>
                  </a:lnTo>
                  <a:lnTo>
                    <a:pt x="1750" y="3723"/>
                  </a:lnTo>
                  <a:lnTo>
                    <a:pt x="1699" y="3736"/>
                  </a:lnTo>
                  <a:lnTo>
                    <a:pt x="1649" y="3751"/>
                  </a:lnTo>
                  <a:lnTo>
                    <a:pt x="1599" y="3767"/>
                  </a:lnTo>
                  <a:lnTo>
                    <a:pt x="1550" y="3784"/>
                  </a:lnTo>
                  <a:lnTo>
                    <a:pt x="1502" y="3801"/>
                  </a:lnTo>
                  <a:lnTo>
                    <a:pt x="1454" y="3820"/>
                  </a:lnTo>
                  <a:lnTo>
                    <a:pt x="1408" y="3841"/>
                  </a:lnTo>
                  <a:lnTo>
                    <a:pt x="1362" y="3862"/>
                  </a:lnTo>
                  <a:lnTo>
                    <a:pt x="1318" y="3885"/>
                  </a:lnTo>
                  <a:lnTo>
                    <a:pt x="1275" y="3909"/>
                  </a:lnTo>
                  <a:lnTo>
                    <a:pt x="1234" y="3934"/>
                  </a:lnTo>
                  <a:lnTo>
                    <a:pt x="1153" y="3983"/>
                  </a:lnTo>
                  <a:lnTo>
                    <a:pt x="1074" y="4032"/>
                  </a:lnTo>
                  <a:lnTo>
                    <a:pt x="1037" y="4056"/>
                  </a:lnTo>
                  <a:lnTo>
                    <a:pt x="1000" y="4080"/>
                  </a:lnTo>
                  <a:lnTo>
                    <a:pt x="964" y="4105"/>
                  </a:lnTo>
                  <a:lnTo>
                    <a:pt x="931" y="4129"/>
                  </a:lnTo>
                  <a:lnTo>
                    <a:pt x="899" y="4153"/>
                  </a:lnTo>
                  <a:lnTo>
                    <a:pt x="869" y="4176"/>
                  </a:lnTo>
                  <a:lnTo>
                    <a:pt x="839" y="4200"/>
                  </a:lnTo>
                  <a:lnTo>
                    <a:pt x="812" y="4225"/>
                  </a:lnTo>
                  <a:lnTo>
                    <a:pt x="788" y="4248"/>
                  </a:lnTo>
                  <a:lnTo>
                    <a:pt x="765" y="4272"/>
                  </a:lnTo>
                  <a:lnTo>
                    <a:pt x="745" y="4296"/>
                  </a:lnTo>
                  <a:lnTo>
                    <a:pt x="727" y="4320"/>
                  </a:lnTo>
                  <a:lnTo>
                    <a:pt x="712" y="4345"/>
                  </a:lnTo>
                  <a:lnTo>
                    <a:pt x="699" y="4369"/>
                  </a:lnTo>
                  <a:lnTo>
                    <a:pt x="690" y="4393"/>
                  </a:lnTo>
                  <a:lnTo>
                    <a:pt x="683" y="4417"/>
                  </a:lnTo>
                  <a:lnTo>
                    <a:pt x="679" y="4442"/>
                  </a:lnTo>
                  <a:lnTo>
                    <a:pt x="679" y="4467"/>
                  </a:lnTo>
                  <a:lnTo>
                    <a:pt x="682" y="4492"/>
                  </a:lnTo>
                  <a:lnTo>
                    <a:pt x="688" y="4517"/>
                  </a:lnTo>
                  <a:lnTo>
                    <a:pt x="698" y="4542"/>
                  </a:lnTo>
                  <a:lnTo>
                    <a:pt x="712" y="4568"/>
                  </a:lnTo>
                  <a:lnTo>
                    <a:pt x="730" y="4595"/>
                  </a:lnTo>
                  <a:lnTo>
                    <a:pt x="752" y="4621"/>
                  </a:lnTo>
                  <a:lnTo>
                    <a:pt x="778" y="4647"/>
                  </a:lnTo>
                  <a:lnTo>
                    <a:pt x="808" y="4673"/>
                  </a:lnTo>
                  <a:lnTo>
                    <a:pt x="842" y="4700"/>
                  </a:lnTo>
                  <a:lnTo>
                    <a:pt x="882" y="4728"/>
                  </a:lnTo>
                  <a:lnTo>
                    <a:pt x="922" y="4755"/>
                  </a:lnTo>
                  <a:lnTo>
                    <a:pt x="964" y="4782"/>
                  </a:lnTo>
                  <a:lnTo>
                    <a:pt x="1007" y="4809"/>
                  </a:lnTo>
                  <a:lnTo>
                    <a:pt x="1049" y="4836"/>
                  </a:lnTo>
                  <a:lnTo>
                    <a:pt x="1093" y="4862"/>
                  </a:lnTo>
                  <a:lnTo>
                    <a:pt x="1138" y="4887"/>
                  </a:lnTo>
                  <a:lnTo>
                    <a:pt x="1184" y="4912"/>
                  </a:lnTo>
                  <a:lnTo>
                    <a:pt x="1230" y="4935"/>
                  </a:lnTo>
                  <a:lnTo>
                    <a:pt x="1277" y="4960"/>
                  </a:lnTo>
                  <a:lnTo>
                    <a:pt x="1325" y="4982"/>
                  </a:lnTo>
                  <a:lnTo>
                    <a:pt x="1374" y="5004"/>
                  </a:lnTo>
                  <a:lnTo>
                    <a:pt x="1423" y="5024"/>
                  </a:lnTo>
                  <a:lnTo>
                    <a:pt x="1472" y="5044"/>
                  </a:lnTo>
                  <a:lnTo>
                    <a:pt x="1524" y="5064"/>
                  </a:lnTo>
                  <a:lnTo>
                    <a:pt x="1575" y="5082"/>
                  </a:lnTo>
                  <a:lnTo>
                    <a:pt x="1628" y="5098"/>
                  </a:lnTo>
                  <a:lnTo>
                    <a:pt x="1680" y="5113"/>
                  </a:lnTo>
                  <a:lnTo>
                    <a:pt x="1733" y="5128"/>
                  </a:lnTo>
                  <a:lnTo>
                    <a:pt x="1788" y="5140"/>
                  </a:lnTo>
                  <a:lnTo>
                    <a:pt x="1843" y="5152"/>
                  </a:lnTo>
                  <a:lnTo>
                    <a:pt x="1899" y="5162"/>
                  </a:lnTo>
                  <a:lnTo>
                    <a:pt x="1955" y="5170"/>
                  </a:lnTo>
                  <a:lnTo>
                    <a:pt x="2013" y="5177"/>
                  </a:lnTo>
                  <a:lnTo>
                    <a:pt x="2070" y="5183"/>
                  </a:lnTo>
                  <a:lnTo>
                    <a:pt x="2129" y="5187"/>
                  </a:lnTo>
                  <a:lnTo>
                    <a:pt x="2188" y="5189"/>
                  </a:lnTo>
                  <a:lnTo>
                    <a:pt x="2247" y="5189"/>
                  </a:lnTo>
                  <a:lnTo>
                    <a:pt x="2308" y="5187"/>
                  </a:lnTo>
                  <a:lnTo>
                    <a:pt x="2369" y="5183"/>
                  </a:lnTo>
                  <a:lnTo>
                    <a:pt x="2431" y="5176"/>
                  </a:lnTo>
                  <a:lnTo>
                    <a:pt x="2493" y="5169"/>
                  </a:lnTo>
                  <a:lnTo>
                    <a:pt x="2557" y="5159"/>
                  </a:lnTo>
                  <a:lnTo>
                    <a:pt x="2567" y="5156"/>
                  </a:lnTo>
                  <a:lnTo>
                    <a:pt x="2596" y="5147"/>
                  </a:lnTo>
                  <a:lnTo>
                    <a:pt x="2643" y="5135"/>
                  </a:lnTo>
                  <a:lnTo>
                    <a:pt x="2703" y="5119"/>
                  </a:lnTo>
                  <a:lnTo>
                    <a:pt x="2774" y="5101"/>
                  </a:lnTo>
                  <a:lnTo>
                    <a:pt x="2853" y="5082"/>
                  </a:lnTo>
                  <a:lnTo>
                    <a:pt x="2939" y="5063"/>
                  </a:lnTo>
                  <a:lnTo>
                    <a:pt x="3028" y="5044"/>
                  </a:lnTo>
                  <a:lnTo>
                    <a:pt x="3073" y="5035"/>
                  </a:lnTo>
                  <a:lnTo>
                    <a:pt x="3117" y="5028"/>
                  </a:lnTo>
                  <a:lnTo>
                    <a:pt x="3162" y="5021"/>
                  </a:lnTo>
                  <a:lnTo>
                    <a:pt x="3205" y="5015"/>
                  </a:lnTo>
                  <a:lnTo>
                    <a:pt x="3246" y="5010"/>
                  </a:lnTo>
                  <a:lnTo>
                    <a:pt x="3287" y="5006"/>
                  </a:lnTo>
                  <a:lnTo>
                    <a:pt x="3326" y="5003"/>
                  </a:lnTo>
                  <a:lnTo>
                    <a:pt x="3362" y="5002"/>
                  </a:lnTo>
                  <a:lnTo>
                    <a:pt x="3397" y="5003"/>
                  </a:lnTo>
                  <a:lnTo>
                    <a:pt x="3428" y="5005"/>
                  </a:lnTo>
                  <a:lnTo>
                    <a:pt x="3455" y="5009"/>
                  </a:lnTo>
                  <a:lnTo>
                    <a:pt x="3480" y="5015"/>
                  </a:lnTo>
                  <a:lnTo>
                    <a:pt x="3500" y="5023"/>
                  </a:lnTo>
                  <a:lnTo>
                    <a:pt x="3517" y="5033"/>
                  </a:lnTo>
                  <a:lnTo>
                    <a:pt x="3529" y="5046"/>
                  </a:lnTo>
                  <a:lnTo>
                    <a:pt x="3536" y="5062"/>
                  </a:lnTo>
                  <a:lnTo>
                    <a:pt x="3540" y="5077"/>
                  </a:lnTo>
                  <a:lnTo>
                    <a:pt x="3541" y="5092"/>
                  </a:lnTo>
                  <a:lnTo>
                    <a:pt x="3540" y="5106"/>
                  </a:lnTo>
                  <a:lnTo>
                    <a:pt x="3537" y="5118"/>
                  </a:lnTo>
                  <a:lnTo>
                    <a:pt x="3532" y="5130"/>
                  </a:lnTo>
                  <a:lnTo>
                    <a:pt x="3526" y="5141"/>
                  </a:lnTo>
                  <a:lnTo>
                    <a:pt x="3518" y="5151"/>
                  </a:lnTo>
                  <a:lnTo>
                    <a:pt x="3508" y="5161"/>
                  </a:lnTo>
                  <a:lnTo>
                    <a:pt x="3498" y="5170"/>
                  </a:lnTo>
                  <a:lnTo>
                    <a:pt x="3486" y="5178"/>
                  </a:lnTo>
                  <a:lnTo>
                    <a:pt x="3474" y="5187"/>
                  </a:lnTo>
                  <a:lnTo>
                    <a:pt x="3461" y="5195"/>
                  </a:lnTo>
                  <a:lnTo>
                    <a:pt x="3433" y="5209"/>
                  </a:lnTo>
                  <a:lnTo>
                    <a:pt x="3404" y="5223"/>
                  </a:lnTo>
                  <a:lnTo>
                    <a:pt x="3374" y="5237"/>
                  </a:lnTo>
                  <a:lnTo>
                    <a:pt x="3346" y="5251"/>
                  </a:lnTo>
                  <a:lnTo>
                    <a:pt x="3333" y="5259"/>
                  </a:lnTo>
                  <a:lnTo>
                    <a:pt x="3321" y="5267"/>
                  </a:lnTo>
                  <a:lnTo>
                    <a:pt x="3310" y="5275"/>
                  </a:lnTo>
                  <a:lnTo>
                    <a:pt x="3299" y="5284"/>
                  </a:lnTo>
                  <a:lnTo>
                    <a:pt x="3290" y="5294"/>
                  </a:lnTo>
                  <a:lnTo>
                    <a:pt x="3282" y="5305"/>
                  </a:lnTo>
                  <a:lnTo>
                    <a:pt x="3276" y="5316"/>
                  </a:lnTo>
                  <a:lnTo>
                    <a:pt x="3271" y="5328"/>
                  </a:lnTo>
                  <a:lnTo>
                    <a:pt x="3268" y="5340"/>
                  </a:lnTo>
                  <a:lnTo>
                    <a:pt x="3267" y="5354"/>
                  </a:lnTo>
                  <a:lnTo>
                    <a:pt x="3269" y="5369"/>
                  </a:lnTo>
                  <a:lnTo>
                    <a:pt x="3272" y="5384"/>
                  </a:lnTo>
                  <a:lnTo>
                    <a:pt x="3276" y="5401"/>
                  </a:lnTo>
                  <a:lnTo>
                    <a:pt x="3281" y="5417"/>
                  </a:lnTo>
                  <a:lnTo>
                    <a:pt x="3288" y="5434"/>
                  </a:lnTo>
                  <a:lnTo>
                    <a:pt x="3294" y="5450"/>
                  </a:lnTo>
                  <a:lnTo>
                    <a:pt x="3310" y="5481"/>
                  </a:lnTo>
                  <a:lnTo>
                    <a:pt x="3326" y="5511"/>
                  </a:lnTo>
                  <a:lnTo>
                    <a:pt x="3341" y="5542"/>
                  </a:lnTo>
                  <a:lnTo>
                    <a:pt x="3356" y="5572"/>
                  </a:lnTo>
                  <a:lnTo>
                    <a:pt x="3362" y="5586"/>
                  </a:lnTo>
                  <a:lnTo>
                    <a:pt x="3367" y="5601"/>
                  </a:lnTo>
                  <a:lnTo>
                    <a:pt x="3371" y="5615"/>
                  </a:lnTo>
                  <a:lnTo>
                    <a:pt x="3374" y="5629"/>
                  </a:lnTo>
                  <a:lnTo>
                    <a:pt x="3376" y="5643"/>
                  </a:lnTo>
                  <a:lnTo>
                    <a:pt x="3376" y="5657"/>
                  </a:lnTo>
                  <a:lnTo>
                    <a:pt x="3374" y="5672"/>
                  </a:lnTo>
                  <a:lnTo>
                    <a:pt x="3370" y="5686"/>
                  </a:lnTo>
                  <a:lnTo>
                    <a:pt x="3365" y="5700"/>
                  </a:lnTo>
                  <a:lnTo>
                    <a:pt x="3357" y="5713"/>
                  </a:lnTo>
                  <a:lnTo>
                    <a:pt x="3347" y="5727"/>
                  </a:lnTo>
                  <a:lnTo>
                    <a:pt x="3335" y="5740"/>
                  </a:lnTo>
                  <a:lnTo>
                    <a:pt x="3320" y="5753"/>
                  </a:lnTo>
                  <a:lnTo>
                    <a:pt x="3302" y="5766"/>
                  </a:lnTo>
                  <a:lnTo>
                    <a:pt x="3281" y="5781"/>
                  </a:lnTo>
                  <a:lnTo>
                    <a:pt x="3256" y="5794"/>
                  </a:lnTo>
                  <a:lnTo>
                    <a:pt x="3228" y="5807"/>
                  </a:lnTo>
                  <a:lnTo>
                    <a:pt x="3198" y="5819"/>
                  </a:lnTo>
                  <a:lnTo>
                    <a:pt x="3163" y="5832"/>
                  </a:lnTo>
                  <a:lnTo>
                    <a:pt x="3124" y="5845"/>
                  </a:lnTo>
                  <a:lnTo>
                    <a:pt x="3082" y="5859"/>
                  </a:lnTo>
                  <a:lnTo>
                    <a:pt x="3037" y="5871"/>
                  </a:lnTo>
                  <a:lnTo>
                    <a:pt x="2988" y="5884"/>
                  </a:lnTo>
                  <a:lnTo>
                    <a:pt x="2938" y="5896"/>
                  </a:lnTo>
                  <a:lnTo>
                    <a:pt x="2831" y="5921"/>
                  </a:lnTo>
                  <a:lnTo>
                    <a:pt x="2719" y="5944"/>
                  </a:lnTo>
                  <a:lnTo>
                    <a:pt x="2603" y="5968"/>
                  </a:lnTo>
                  <a:lnTo>
                    <a:pt x="2485" y="5992"/>
                  </a:lnTo>
                  <a:lnTo>
                    <a:pt x="2426" y="6005"/>
                  </a:lnTo>
                  <a:lnTo>
                    <a:pt x="2367" y="6018"/>
                  </a:lnTo>
                  <a:lnTo>
                    <a:pt x="2310" y="6033"/>
                  </a:lnTo>
                  <a:lnTo>
                    <a:pt x="2253" y="6047"/>
                  </a:lnTo>
                  <a:lnTo>
                    <a:pt x="2197" y="6063"/>
                  </a:lnTo>
                  <a:lnTo>
                    <a:pt x="2143" y="6079"/>
                  </a:lnTo>
                  <a:lnTo>
                    <a:pt x="2089" y="6096"/>
                  </a:lnTo>
                  <a:lnTo>
                    <a:pt x="2039" y="6113"/>
                  </a:lnTo>
                  <a:lnTo>
                    <a:pt x="1990" y="6132"/>
                  </a:lnTo>
                  <a:lnTo>
                    <a:pt x="1944" y="6153"/>
                  </a:lnTo>
                  <a:lnTo>
                    <a:pt x="1901" y="6174"/>
                  </a:lnTo>
                  <a:lnTo>
                    <a:pt x="1860" y="6197"/>
                  </a:lnTo>
                  <a:lnTo>
                    <a:pt x="1823" y="6220"/>
                  </a:lnTo>
                  <a:lnTo>
                    <a:pt x="1789" y="6246"/>
                  </a:lnTo>
                  <a:lnTo>
                    <a:pt x="1759" y="6273"/>
                  </a:lnTo>
                  <a:lnTo>
                    <a:pt x="1733" y="6301"/>
                  </a:lnTo>
                  <a:lnTo>
                    <a:pt x="1711" y="6331"/>
                  </a:lnTo>
                  <a:lnTo>
                    <a:pt x="1694" y="6363"/>
                  </a:lnTo>
                  <a:lnTo>
                    <a:pt x="1682" y="6398"/>
                  </a:lnTo>
                  <a:lnTo>
                    <a:pt x="1675" y="6433"/>
                  </a:lnTo>
                  <a:lnTo>
                    <a:pt x="1677" y="6433"/>
                  </a:lnTo>
                  <a:lnTo>
                    <a:pt x="1682" y="6432"/>
                  </a:lnTo>
                  <a:lnTo>
                    <a:pt x="1688" y="6432"/>
                  </a:lnTo>
                  <a:lnTo>
                    <a:pt x="1694" y="6432"/>
                  </a:lnTo>
                  <a:lnTo>
                    <a:pt x="1695" y="6433"/>
                  </a:lnTo>
                  <a:lnTo>
                    <a:pt x="1696" y="6434"/>
                  </a:lnTo>
                  <a:lnTo>
                    <a:pt x="1696" y="6435"/>
                  </a:lnTo>
                  <a:lnTo>
                    <a:pt x="1695" y="6436"/>
                  </a:lnTo>
                  <a:lnTo>
                    <a:pt x="1687" y="6441"/>
                  </a:lnTo>
                  <a:lnTo>
                    <a:pt x="1671" y="6448"/>
                  </a:lnTo>
                  <a:lnTo>
                    <a:pt x="1646" y="6457"/>
                  </a:lnTo>
                  <a:lnTo>
                    <a:pt x="1607" y="6470"/>
                  </a:lnTo>
                  <a:lnTo>
                    <a:pt x="1556" y="6487"/>
                  </a:lnTo>
                  <a:lnTo>
                    <a:pt x="1488" y="6508"/>
                  </a:lnTo>
                  <a:lnTo>
                    <a:pt x="1405" y="6533"/>
                  </a:lnTo>
                  <a:lnTo>
                    <a:pt x="1301" y="6563"/>
                  </a:lnTo>
                  <a:lnTo>
                    <a:pt x="1176" y="6597"/>
                  </a:lnTo>
                  <a:lnTo>
                    <a:pt x="1029" y="6639"/>
                  </a:lnTo>
                  <a:lnTo>
                    <a:pt x="875" y="6682"/>
                  </a:lnTo>
                  <a:lnTo>
                    <a:pt x="734" y="6721"/>
                  </a:lnTo>
                  <a:lnTo>
                    <a:pt x="669" y="6742"/>
                  </a:lnTo>
                  <a:lnTo>
                    <a:pt x="607" y="6760"/>
                  </a:lnTo>
                  <a:lnTo>
                    <a:pt x="548" y="6779"/>
                  </a:lnTo>
                  <a:lnTo>
                    <a:pt x="493" y="6797"/>
                  </a:lnTo>
                  <a:lnTo>
                    <a:pt x="440" y="6815"/>
                  </a:lnTo>
                  <a:lnTo>
                    <a:pt x="392" y="6832"/>
                  </a:lnTo>
                  <a:lnTo>
                    <a:pt x="345" y="6850"/>
                  </a:lnTo>
                  <a:lnTo>
                    <a:pt x="304" y="6868"/>
                  </a:lnTo>
                  <a:lnTo>
                    <a:pt x="265" y="6886"/>
                  </a:lnTo>
                  <a:lnTo>
                    <a:pt x="228" y="6903"/>
                  </a:lnTo>
                  <a:lnTo>
                    <a:pt x="196" y="6921"/>
                  </a:lnTo>
                  <a:lnTo>
                    <a:pt x="168" y="6939"/>
                  </a:lnTo>
                  <a:lnTo>
                    <a:pt x="142" y="6957"/>
                  </a:lnTo>
                  <a:lnTo>
                    <a:pt x="120" y="6975"/>
                  </a:lnTo>
                  <a:lnTo>
                    <a:pt x="100" y="6995"/>
                  </a:lnTo>
                  <a:lnTo>
                    <a:pt x="85" y="7015"/>
                  </a:lnTo>
                  <a:lnTo>
                    <a:pt x="73" y="7034"/>
                  </a:lnTo>
                  <a:lnTo>
                    <a:pt x="64" y="7055"/>
                  </a:lnTo>
                  <a:lnTo>
                    <a:pt x="59" y="7076"/>
                  </a:lnTo>
                  <a:lnTo>
                    <a:pt x="57" y="7098"/>
                  </a:lnTo>
                  <a:lnTo>
                    <a:pt x="59" y="7121"/>
                  </a:lnTo>
                  <a:lnTo>
                    <a:pt x="63" y="7144"/>
                  </a:lnTo>
                  <a:lnTo>
                    <a:pt x="72" y="7168"/>
                  </a:lnTo>
                  <a:lnTo>
                    <a:pt x="84" y="7193"/>
                  </a:lnTo>
                  <a:lnTo>
                    <a:pt x="99" y="7220"/>
                  </a:lnTo>
                  <a:lnTo>
                    <a:pt x="119" y="7247"/>
                  </a:lnTo>
                  <a:lnTo>
                    <a:pt x="141" y="7276"/>
                  </a:lnTo>
                  <a:lnTo>
                    <a:pt x="166" y="7305"/>
                  </a:lnTo>
                  <a:lnTo>
                    <a:pt x="177" y="7311"/>
                  </a:lnTo>
                  <a:lnTo>
                    <a:pt x="209" y="7329"/>
                  </a:lnTo>
                  <a:lnTo>
                    <a:pt x="259" y="7356"/>
                  </a:lnTo>
                  <a:lnTo>
                    <a:pt x="324" y="7387"/>
                  </a:lnTo>
                  <a:lnTo>
                    <a:pt x="363" y="7405"/>
                  </a:lnTo>
                  <a:lnTo>
                    <a:pt x="403" y="7422"/>
                  </a:lnTo>
                  <a:lnTo>
                    <a:pt x="446" y="7440"/>
                  </a:lnTo>
                  <a:lnTo>
                    <a:pt x="493" y="7459"/>
                  </a:lnTo>
                  <a:lnTo>
                    <a:pt x="541" y="7476"/>
                  </a:lnTo>
                  <a:lnTo>
                    <a:pt x="591" y="7492"/>
                  </a:lnTo>
                  <a:lnTo>
                    <a:pt x="643" y="7507"/>
                  </a:lnTo>
                  <a:lnTo>
                    <a:pt x="695" y="7521"/>
                  </a:lnTo>
                  <a:lnTo>
                    <a:pt x="690" y="7526"/>
                  </a:lnTo>
                  <a:lnTo>
                    <a:pt x="677" y="7540"/>
                  </a:lnTo>
                  <a:lnTo>
                    <a:pt x="658" y="7563"/>
                  </a:lnTo>
                  <a:lnTo>
                    <a:pt x="633" y="7595"/>
                  </a:lnTo>
                  <a:lnTo>
                    <a:pt x="620" y="7613"/>
                  </a:lnTo>
                  <a:lnTo>
                    <a:pt x="606" y="7632"/>
                  </a:lnTo>
                  <a:lnTo>
                    <a:pt x="592" y="7653"/>
                  </a:lnTo>
                  <a:lnTo>
                    <a:pt x="578" y="7676"/>
                  </a:lnTo>
                  <a:lnTo>
                    <a:pt x="565" y="7700"/>
                  </a:lnTo>
                  <a:lnTo>
                    <a:pt x="552" y="7725"/>
                  </a:lnTo>
                  <a:lnTo>
                    <a:pt x="540" y="7751"/>
                  </a:lnTo>
                  <a:lnTo>
                    <a:pt x="529" y="7778"/>
                  </a:lnTo>
                  <a:lnTo>
                    <a:pt x="519" y="7806"/>
                  </a:lnTo>
                  <a:lnTo>
                    <a:pt x="511" y="7835"/>
                  </a:lnTo>
                  <a:lnTo>
                    <a:pt x="504" y="7864"/>
                  </a:lnTo>
                  <a:lnTo>
                    <a:pt x="500" y="7894"/>
                  </a:lnTo>
                  <a:lnTo>
                    <a:pt x="497" y="7924"/>
                  </a:lnTo>
                  <a:lnTo>
                    <a:pt x="497" y="7955"/>
                  </a:lnTo>
                  <a:lnTo>
                    <a:pt x="500" y="7986"/>
                  </a:lnTo>
                  <a:lnTo>
                    <a:pt x="506" y="8017"/>
                  </a:lnTo>
                  <a:lnTo>
                    <a:pt x="514" y="8048"/>
                  </a:lnTo>
                  <a:lnTo>
                    <a:pt x="526" y="8079"/>
                  </a:lnTo>
                  <a:lnTo>
                    <a:pt x="542" y="8110"/>
                  </a:lnTo>
                  <a:lnTo>
                    <a:pt x="562" y="8140"/>
                  </a:lnTo>
                  <a:lnTo>
                    <a:pt x="586" y="8169"/>
                  </a:lnTo>
                  <a:lnTo>
                    <a:pt x="615" y="8199"/>
                  </a:lnTo>
                  <a:lnTo>
                    <a:pt x="648" y="8228"/>
                  </a:lnTo>
                  <a:lnTo>
                    <a:pt x="685" y="8256"/>
                  </a:lnTo>
                  <a:lnTo>
                    <a:pt x="706" y="8257"/>
                  </a:lnTo>
                  <a:lnTo>
                    <a:pt x="764" y="8262"/>
                  </a:lnTo>
                  <a:lnTo>
                    <a:pt x="846" y="8268"/>
                  </a:lnTo>
                  <a:lnTo>
                    <a:pt x="947" y="8276"/>
                  </a:lnTo>
                  <a:lnTo>
                    <a:pt x="1057" y="8285"/>
                  </a:lnTo>
                  <a:lnTo>
                    <a:pt x="1165" y="8294"/>
                  </a:lnTo>
                  <a:lnTo>
                    <a:pt x="1263" y="8300"/>
                  </a:lnTo>
                  <a:lnTo>
                    <a:pt x="1342" y="8305"/>
                  </a:lnTo>
                  <a:lnTo>
                    <a:pt x="1347" y="8317"/>
                  </a:lnTo>
                  <a:lnTo>
                    <a:pt x="1361" y="8351"/>
                  </a:lnTo>
                  <a:lnTo>
                    <a:pt x="1369" y="8375"/>
                  </a:lnTo>
                  <a:lnTo>
                    <a:pt x="1378" y="8404"/>
                  </a:lnTo>
                  <a:lnTo>
                    <a:pt x="1386" y="8437"/>
                  </a:lnTo>
                  <a:lnTo>
                    <a:pt x="1394" y="8474"/>
                  </a:lnTo>
                  <a:lnTo>
                    <a:pt x="1396" y="8493"/>
                  </a:lnTo>
                  <a:lnTo>
                    <a:pt x="1399" y="8514"/>
                  </a:lnTo>
                  <a:lnTo>
                    <a:pt x="1401" y="8536"/>
                  </a:lnTo>
                  <a:lnTo>
                    <a:pt x="1402" y="8558"/>
                  </a:lnTo>
                  <a:lnTo>
                    <a:pt x="1403" y="8580"/>
                  </a:lnTo>
                  <a:lnTo>
                    <a:pt x="1403" y="8604"/>
                  </a:lnTo>
                  <a:lnTo>
                    <a:pt x="1402" y="8627"/>
                  </a:lnTo>
                  <a:lnTo>
                    <a:pt x="1400" y="8653"/>
                  </a:lnTo>
                  <a:lnTo>
                    <a:pt x="1397" y="8678"/>
                  </a:lnTo>
                  <a:lnTo>
                    <a:pt x="1393" y="8703"/>
                  </a:lnTo>
                  <a:lnTo>
                    <a:pt x="1388" y="8729"/>
                  </a:lnTo>
                  <a:lnTo>
                    <a:pt x="1382" y="8755"/>
                  </a:lnTo>
                  <a:lnTo>
                    <a:pt x="1374" y="8782"/>
                  </a:lnTo>
                  <a:lnTo>
                    <a:pt x="1364" y="8809"/>
                  </a:lnTo>
                  <a:lnTo>
                    <a:pt x="1353" y="8836"/>
                  </a:lnTo>
                  <a:lnTo>
                    <a:pt x="1342" y="8863"/>
                  </a:lnTo>
                  <a:lnTo>
                    <a:pt x="1343" y="8866"/>
                  </a:lnTo>
                  <a:lnTo>
                    <a:pt x="1349" y="8873"/>
                  </a:lnTo>
                  <a:lnTo>
                    <a:pt x="1359" y="8883"/>
                  </a:lnTo>
                  <a:lnTo>
                    <a:pt x="1374" y="8896"/>
                  </a:lnTo>
                  <a:lnTo>
                    <a:pt x="1382" y="8903"/>
                  </a:lnTo>
                  <a:lnTo>
                    <a:pt x="1392" y="8910"/>
                  </a:lnTo>
                  <a:lnTo>
                    <a:pt x="1402" y="8917"/>
                  </a:lnTo>
                  <a:lnTo>
                    <a:pt x="1414" y="8924"/>
                  </a:lnTo>
                  <a:lnTo>
                    <a:pt x="1427" y="8930"/>
                  </a:lnTo>
                  <a:lnTo>
                    <a:pt x="1442" y="8936"/>
                  </a:lnTo>
                  <a:lnTo>
                    <a:pt x="1457" y="8942"/>
                  </a:lnTo>
                  <a:lnTo>
                    <a:pt x="1474" y="8947"/>
                  </a:lnTo>
                  <a:lnTo>
                    <a:pt x="1492" y="8951"/>
                  </a:lnTo>
                  <a:lnTo>
                    <a:pt x="1512" y="8954"/>
                  </a:lnTo>
                  <a:lnTo>
                    <a:pt x="1532" y="8956"/>
                  </a:lnTo>
                  <a:lnTo>
                    <a:pt x="1554" y="8957"/>
                  </a:lnTo>
                  <a:lnTo>
                    <a:pt x="1577" y="8957"/>
                  </a:lnTo>
                  <a:lnTo>
                    <a:pt x="1602" y="8955"/>
                  </a:lnTo>
                  <a:lnTo>
                    <a:pt x="1629" y="8951"/>
                  </a:lnTo>
                  <a:lnTo>
                    <a:pt x="1656" y="8946"/>
                  </a:lnTo>
                  <a:lnTo>
                    <a:pt x="1685" y="8939"/>
                  </a:lnTo>
                  <a:lnTo>
                    <a:pt x="1715" y="8930"/>
                  </a:lnTo>
                  <a:lnTo>
                    <a:pt x="1747" y="8919"/>
                  </a:lnTo>
                  <a:lnTo>
                    <a:pt x="1781" y="8905"/>
                  </a:lnTo>
                  <a:lnTo>
                    <a:pt x="1815" y="8888"/>
                  </a:lnTo>
                  <a:lnTo>
                    <a:pt x="1852" y="8870"/>
                  </a:lnTo>
                  <a:lnTo>
                    <a:pt x="1890" y="8848"/>
                  </a:lnTo>
                  <a:lnTo>
                    <a:pt x="1930" y="8824"/>
                  </a:lnTo>
                  <a:lnTo>
                    <a:pt x="1944" y="8822"/>
                  </a:lnTo>
                  <a:lnTo>
                    <a:pt x="1980" y="8819"/>
                  </a:lnTo>
                  <a:lnTo>
                    <a:pt x="2004" y="8818"/>
                  </a:lnTo>
                  <a:lnTo>
                    <a:pt x="2030" y="8819"/>
                  </a:lnTo>
                  <a:lnTo>
                    <a:pt x="2043" y="8820"/>
                  </a:lnTo>
                  <a:lnTo>
                    <a:pt x="2056" y="8821"/>
                  </a:lnTo>
                  <a:lnTo>
                    <a:pt x="2069" y="8823"/>
                  </a:lnTo>
                  <a:lnTo>
                    <a:pt x="2082" y="8825"/>
                  </a:lnTo>
                  <a:lnTo>
                    <a:pt x="2095" y="8829"/>
                  </a:lnTo>
                  <a:lnTo>
                    <a:pt x="2108" y="8833"/>
                  </a:lnTo>
                  <a:lnTo>
                    <a:pt x="2119" y="8838"/>
                  </a:lnTo>
                  <a:lnTo>
                    <a:pt x="2131" y="8844"/>
                  </a:lnTo>
                  <a:lnTo>
                    <a:pt x="2141" y="8851"/>
                  </a:lnTo>
                  <a:lnTo>
                    <a:pt x="2151" y="8858"/>
                  </a:lnTo>
                  <a:lnTo>
                    <a:pt x="2159" y="8867"/>
                  </a:lnTo>
                  <a:lnTo>
                    <a:pt x="2165" y="8878"/>
                  </a:lnTo>
                  <a:lnTo>
                    <a:pt x="2170" y="8889"/>
                  </a:lnTo>
                  <a:lnTo>
                    <a:pt x="2174" y="8903"/>
                  </a:lnTo>
                  <a:lnTo>
                    <a:pt x="2176" y="8917"/>
                  </a:lnTo>
                  <a:lnTo>
                    <a:pt x="2176" y="8932"/>
                  </a:lnTo>
                  <a:lnTo>
                    <a:pt x="2174" y="8949"/>
                  </a:lnTo>
                  <a:lnTo>
                    <a:pt x="2170" y="8968"/>
                  </a:lnTo>
                  <a:lnTo>
                    <a:pt x="2164" y="8988"/>
                  </a:lnTo>
                  <a:lnTo>
                    <a:pt x="2155" y="9011"/>
                  </a:lnTo>
                  <a:lnTo>
                    <a:pt x="2155" y="9016"/>
                  </a:lnTo>
                  <a:lnTo>
                    <a:pt x="2156" y="9029"/>
                  </a:lnTo>
                  <a:lnTo>
                    <a:pt x="2159" y="9049"/>
                  </a:lnTo>
                  <a:lnTo>
                    <a:pt x="2164" y="9075"/>
                  </a:lnTo>
                  <a:lnTo>
                    <a:pt x="2169" y="9089"/>
                  </a:lnTo>
                  <a:lnTo>
                    <a:pt x="2174" y="9103"/>
                  </a:lnTo>
                  <a:lnTo>
                    <a:pt x="2180" y="9119"/>
                  </a:lnTo>
                  <a:lnTo>
                    <a:pt x="2188" y="9135"/>
                  </a:lnTo>
                  <a:lnTo>
                    <a:pt x="2198" y="9150"/>
                  </a:lnTo>
                  <a:lnTo>
                    <a:pt x="2209" y="9165"/>
                  </a:lnTo>
                  <a:lnTo>
                    <a:pt x="2222" y="9180"/>
                  </a:lnTo>
                  <a:lnTo>
                    <a:pt x="2237" y="9194"/>
                  </a:lnTo>
                  <a:lnTo>
                    <a:pt x="2254" y="9207"/>
                  </a:lnTo>
                  <a:lnTo>
                    <a:pt x="2273" y="9220"/>
                  </a:lnTo>
                  <a:lnTo>
                    <a:pt x="2294" y="9230"/>
                  </a:lnTo>
                  <a:lnTo>
                    <a:pt x="2318" y="9240"/>
                  </a:lnTo>
                  <a:lnTo>
                    <a:pt x="2344" y="9247"/>
                  </a:lnTo>
                  <a:lnTo>
                    <a:pt x="2373" y="9254"/>
                  </a:lnTo>
                  <a:lnTo>
                    <a:pt x="2405" y="9258"/>
                  </a:lnTo>
                  <a:lnTo>
                    <a:pt x="2440" y="9259"/>
                  </a:lnTo>
                  <a:lnTo>
                    <a:pt x="2478" y="9258"/>
                  </a:lnTo>
                  <a:lnTo>
                    <a:pt x="2519" y="9254"/>
                  </a:lnTo>
                  <a:lnTo>
                    <a:pt x="2563" y="9246"/>
                  </a:lnTo>
                  <a:lnTo>
                    <a:pt x="2611" y="9235"/>
                  </a:lnTo>
                  <a:lnTo>
                    <a:pt x="2663" y="9221"/>
                  </a:lnTo>
                  <a:lnTo>
                    <a:pt x="2718" y="9204"/>
                  </a:lnTo>
                  <a:lnTo>
                    <a:pt x="2778" y="9183"/>
                  </a:lnTo>
                  <a:lnTo>
                    <a:pt x="2840" y="9158"/>
                  </a:lnTo>
                  <a:lnTo>
                    <a:pt x="2850" y="9153"/>
                  </a:lnTo>
                  <a:lnTo>
                    <a:pt x="2875" y="9139"/>
                  </a:lnTo>
                  <a:lnTo>
                    <a:pt x="2916" y="9116"/>
                  </a:lnTo>
                  <a:lnTo>
                    <a:pt x="2967" y="9090"/>
                  </a:lnTo>
                  <a:lnTo>
                    <a:pt x="3028" y="9060"/>
                  </a:lnTo>
                  <a:lnTo>
                    <a:pt x="3094" y="9028"/>
                  </a:lnTo>
                  <a:lnTo>
                    <a:pt x="3165" y="8994"/>
                  </a:lnTo>
                  <a:lnTo>
                    <a:pt x="3236" y="8964"/>
                  </a:lnTo>
                  <a:lnTo>
                    <a:pt x="3272" y="8950"/>
                  </a:lnTo>
                  <a:lnTo>
                    <a:pt x="3306" y="8937"/>
                  </a:lnTo>
                  <a:lnTo>
                    <a:pt x="3340" y="8925"/>
                  </a:lnTo>
                  <a:lnTo>
                    <a:pt x="3372" y="8915"/>
                  </a:lnTo>
                  <a:lnTo>
                    <a:pt x="3403" y="8906"/>
                  </a:lnTo>
                  <a:lnTo>
                    <a:pt x="3431" y="8900"/>
                  </a:lnTo>
                  <a:lnTo>
                    <a:pt x="3457" y="8895"/>
                  </a:lnTo>
                  <a:lnTo>
                    <a:pt x="3481" y="8893"/>
                  </a:lnTo>
                  <a:lnTo>
                    <a:pt x="3501" y="8894"/>
                  </a:lnTo>
                  <a:lnTo>
                    <a:pt x="3520" y="8898"/>
                  </a:lnTo>
                  <a:lnTo>
                    <a:pt x="3533" y="8904"/>
                  </a:lnTo>
                  <a:lnTo>
                    <a:pt x="3543" y="8914"/>
                  </a:lnTo>
                  <a:lnTo>
                    <a:pt x="3548" y="8927"/>
                  </a:lnTo>
                  <a:lnTo>
                    <a:pt x="3549" y="8944"/>
                  </a:lnTo>
                  <a:lnTo>
                    <a:pt x="3545" y="8965"/>
                  </a:lnTo>
                  <a:lnTo>
                    <a:pt x="3536" y="8990"/>
                  </a:lnTo>
                  <a:lnTo>
                    <a:pt x="3532" y="8997"/>
                  </a:lnTo>
                  <a:lnTo>
                    <a:pt x="3520" y="9015"/>
                  </a:lnTo>
                  <a:lnTo>
                    <a:pt x="3499" y="9042"/>
                  </a:lnTo>
                  <a:lnTo>
                    <a:pt x="3473" y="9078"/>
                  </a:lnTo>
                  <a:lnTo>
                    <a:pt x="3439" y="9122"/>
                  </a:lnTo>
                  <a:lnTo>
                    <a:pt x="3400" y="9173"/>
                  </a:lnTo>
                  <a:lnTo>
                    <a:pt x="3354" y="9229"/>
                  </a:lnTo>
                  <a:lnTo>
                    <a:pt x="3304" y="9289"/>
                  </a:lnTo>
                  <a:lnTo>
                    <a:pt x="3276" y="9319"/>
                  </a:lnTo>
                  <a:lnTo>
                    <a:pt x="3247" y="9350"/>
                  </a:lnTo>
                  <a:lnTo>
                    <a:pt x="3218" y="9383"/>
                  </a:lnTo>
                  <a:lnTo>
                    <a:pt x="3188" y="9414"/>
                  </a:lnTo>
                  <a:lnTo>
                    <a:pt x="3157" y="9446"/>
                  </a:lnTo>
                  <a:lnTo>
                    <a:pt x="3124" y="9478"/>
                  </a:lnTo>
                  <a:lnTo>
                    <a:pt x="3091" y="9510"/>
                  </a:lnTo>
                  <a:lnTo>
                    <a:pt x="3057" y="9541"/>
                  </a:lnTo>
                  <a:lnTo>
                    <a:pt x="3022" y="9571"/>
                  </a:lnTo>
                  <a:lnTo>
                    <a:pt x="2986" y="9601"/>
                  </a:lnTo>
                  <a:lnTo>
                    <a:pt x="2950" y="9630"/>
                  </a:lnTo>
                  <a:lnTo>
                    <a:pt x="2914" y="9658"/>
                  </a:lnTo>
                  <a:lnTo>
                    <a:pt x="2876" y="9684"/>
                  </a:lnTo>
                  <a:lnTo>
                    <a:pt x="2839" y="9709"/>
                  </a:lnTo>
                  <a:lnTo>
                    <a:pt x="2801" y="9734"/>
                  </a:lnTo>
                  <a:lnTo>
                    <a:pt x="2763" y="9755"/>
                  </a:lnTo>
                  <a:lnTo>
                    <a:pt x="2748" y="9760"/>
                  </a:lnTo>
                  <a:lnTo>
                    <a:pt x="2707" y="9774"/>
                  </a:lnTo>
                  <a:lnTo>
                    <a:pt x="2643" y="9796"/>
                  </a:lnTo>
                  <a:lnTo>
                    <a:pt x="2558" y="9826"/>
                  </a:lnTo>
                  <a:lnTo>
                    <a:pt x="2455" y="9864"/>
                  </a:lnTo>
                  <a:lnTo>
                    <a:pt x="2337" y="9907"/>
                  </a:lnTo>
                  <a:lnTo>
                    <a:pt x="2208" y="9955"/>
                  </a:lnTo>
                  <a:lnTo>
                    <a:pt x="2069" y="10009"/>
                  </a:lnTo>
                  <a:lnTo>
                    <a:pt x="1924" y="10066"/>
                  </a:lnTo>
                  <a:lnTo>
                    <a:pt x="1776" y="10127"/>
                  </a:lnTo>
                  <a:lnTo>
                    <a:pt x="1701" y="10158"/>
                  </a:lnTo>
                  <a:lnTo>
                    <a:pt x="1628" y="10190"/>
                  </a:lnTo>
                  <a:lnTo>
                    <a:pt x="1554" y="10223"/>
                  </a:lnTo>
                  <a:lnTo>
                    <a:pt x="1481" y="10256"/>
                  </a:lnTo>
                  <a:lnTo>
                    <a:pt x="1410" y="10288"/>
                  </a:lnTo>
                  <a:lnTo>
                    <a:pt x="1340" y="10321"/>
                  </a:lnTo>
                  <a:lnTo>
                    <a:pt x="1273" y="10355"/>
                  </a:lnTo>
                  <a:lnTo>
                    <a:pt x="1208" y="10388"/>
                  </a:lnTo>
                  <a:lnTo>
                    <a:pt x="1146" y="10421"/>
                  </a:lnTo>
                  <a:lnTo>
                    <a:pt x="1086" y="10455"/>
                  </a:lnTo>
                  <a:lnTo>
                    <a:pt x="1031" y="10487"/>
                  </a:lnTo>
                  <a:lnTo>
                    <a:pt x="979" y="10519"/>
                  </a:lnTo>
                  <a:lnTo>
                    <a:pt x="971" y="10521"/>
                  </a:lnTo>
                  <a:lnTo>
                    <a:pt x="950" y="10525"/>
                  </a:lnTo>
                  <a:lnTo>
                    <a:pt x="915" y="10533"/>
                  </a:lnTo>
                  <a:lnTo>
                    <a:pt x="869" y="10543"/>
                  </a:lnTo>
                  <a:lnTo>
                    <a:pt x="813" y="10557"/>
                  </a:lnTo>
                  <a:lnTo>
                    <a:pt x="750" y="10575"/>
                  </a:lnTo>
                  <a:lnTo>
                    <a:pt x="679" y="10595"/>
                  </a:lnTo>
                  <a:lnTo>
                    <a:pt x="603" y="10618"/>
                  </a:lnTo>
                  <a:lnTo>
                    <a:pt x="564" y="10630"/>
                  </a:lnTo>
                  <a:lnTo>
                    <a:pt x="524" y="10644"/>
                  </a:lnTo>
                  <a:lnTo>
                    <a:pt x="483" y="10658"/>
                  </a:lnTo>
                  <a:lnTo>
                    <a:pt x="443" y="10673"/>
                  </a:lnTo>
                  <a:lnTo>
                    <a:pt x="402" y="10690"/>
                  </a:lnTo>
                  <a:lnTo>
                    <a:pt x="361" y="10707"/>
                  </a:lnTo>
                  <a:lnTo>
                    <a:pt x="321" y="10725"/>
                  </a:lnTo>
                  <a:lnTo>
                    <a:pt x="281" y="10743"/>
                  </a:lnTo>
                  <a:lnTo>
                    <a:pt x="242" y="10762"/>
                  </a:lnTo>
                  <a:lnTo>
                    <a:pt x="203" y="10782"/>
                  </a:lnTo>
                  <a:lnTo>
                    <a:pt x="165" y="10803"/>
                  </a:lnTo>
                  <a:lnTo>
                    <a:pt x="129" y="10826"/>
                  </a:lnTo>
                  <a:lnTo>
                    <a:pt x="94" y="10848"/>
                  </a:lnTo>
                  <a:lnTo>
                    <a:pt x="61" y="10872"/>
                  </a:lnTo>
                  <a:lnTo>
                    <a:pt x="29" y="10896"/>
                  </a:lnTo>
                  <a:lnTo>
                    <a:pt x="0" y="10921"/>
                  </a:lnTo>
                  <a:lnTo>
                    <a:pt x="7" y="10919"/>
                  </a:lnTo>
                  <a:lnTo>
                    <a:pt x="28" y="10915"/>
                  </a:lnTo>
                  <a:lnTo>
                    <a:pt x="60" y="10909"/>
                  </a:lnTo>
                  <a:lnTo>
                    <a:pt x="105" y="10901"/>
                  </a:lnTo>
                  <a:lnTo>
                    <a:pt x="161" y="10890"/>
                  </a:lnTo>
                  <a:lnTo>
                    <a:pt x="225" y="10879"/>
                  </a:lnTo>
                  <a:lnTo>
                    <a:pt x="299" y="10866"/>
                  </a:lnTo>
                  <a:lnTo>
                    <a:pt x="381" y="10853"/>
                  </a:lnTo>
                  <a:lnTo>
                    <a:pt x="468" y="10839"/>
                  </a:lnTo>
                  <a:lnTo>
                    <a:pt x="563" y="10825"/>
                  </a:lnTo>
                  <a:lnTo>
                    <a:pt x="662" y="10811"/>
                  </a:lnTo>
                  <a:lnTo>
                    <a:pt x="765" y="10797"/>
                  </a:lnTo>
                  <a:lnTo>
                    <a:pt x="870" y="10784"/>
                  </a:lnTo>
                  <a:lnTo>
                    <a:pt x="977" y="10773"/>
                  </a:lnTo>
                  <a:lnTo>
                    <a:pt x="1086" y="10763"/>
                  </a:lnTo>
                  <a:lnTo>
                    <a:pt x="1195" y="10755"/>
                  </a:lnTo>
                  <a:lnTo>
                    <a:pt x="1252" y="10749"/>
                  </a:lnTo>
                  <a:lnTo>
                    <a:pt x="1314" y="10741"/>
                  </a:lnTo>
                  <a:lnTo>
                    <a:pt x="1381" y="10729"/>
                  </a:lnTo>
                  <a:lnTo>
                    <a:pt x="1452" y="10715"/>
                  </a:lnTo>
                  <a:lnTo>
                    <a:pt x="1528" y="10698"/>
                  </a:lnTo>
                  <a:lnTo>
                    <a:pt x="1607" y="10677"/>
                  </a:lnTo>
                  <a:lnTo>
                    <a:pt x="1690" y="10654"/>
                  </a:lnTo>
                  <a:lnTo>
                    <a:pt x="1777" y="10630"/>
                  </a:lnTo>
                  <a:lnTo>
                    <a:pt x="1866" y="10603"/>
                  </a:lnTo>
                  <a:lnTo>
                    <a:pt x="1958" y="10574"/>
                  </a:lnTo>
                  <a:lnTo>
                    <a:pt x="2052" y="10542"/>
                  </a:lnTo>
                  <a:lnTo>
                    <a:pt x="2148" y="10510"/>
                  </a:lnTo>
                  <a:lnTo>
                    <a:pt x="2245" y="10476"/>
                  </a:lnTo>
                  <a:lnTo>
                    <a:pt x="2344" y="10439"/>
                  </a:lnTo>
                  <a:lnTo>
                    <a:pt x="2444" y="10402"/>
                  </a:lnTo>
                  <a:lnTo>
                    <a:pt x="2544" y="10364"/>
                  </a:lnTo>
                  <a:lnTo>
                    <a:pt x="2645" y="10324"/>
                  </a:lnTo>
                  <a:lnTo>
                    <a:pt x="2745" y="10284"/>
                  </a:lnTo>
                  <a:lnTo>
                    <a:pt x="2845" y="10244"/>
                  </a:lnTo>
                  <a:lnTo>
                    <a:pt x="2945" y="10202"/>
                  </a:lnTo>
                  <a:lnTo>
                    <a:pt x="3044" y="10160"/>
                  </a:lnTo>
                  <a:lnTo>
                    <a:pt x="3141" y="10119"/>
                  </a:lnTo>
                  <a:lnTo>
                    <a:pt x="3236" y="10076"/>
                  </a:lnTo>
                  <a:lnTo>
                    <a:pt x="3330" y="10034"/>
                  </a:lnTo>
                  <a:lnTo>
                    <a:pt x="3421" y="9992"/>
                  </a:lnTo>
                  <a:lnTo>
                    <a:pt x="3509" y="9950"/>
                  </a:lnTo>
                  <a:lnTo>
                    <a:pt x="3595" y="9909"/>
                  </a:lnTo>
                  <a:lnTo>
                    <a:pt x="3678" y="9869"/>
                  </a:lnTo>
                  <a:lnTo>
                    <a:pt x="3756" y="9829"/>
                  </a:lnTo>
                  <a:lnTo>
                    <a:pt x="3831" y="9790"/>
                  </a:lnTo>
                  <a:lnTo>
                    <a:pt x="3902" y="9753"/>
                  </a:lnTo>
                  <a:lnTo>
                    <a:pt x="3967" y="9716"/>
                  </a:lnTo>
                  <a:lnTo>
                    <a:pt x="3983" y="9712"/>
                  </a:lnTo>
                  <a:lnTo>
                    <a:pt x="4029" y="9701"/>
                  </a:lnTo>
                  <a:lnTo>
                    <a:pt x="4098" y="9684"/>
                  </a:lnTo>
                  <a:lnTo>
                    <a:pt x="4187" y="9660"/>
                  </a:lnTo>
                  <a:lnTo>
                    <a:pt x="4237" y="9646"/>
                  </a:lnTo>
                  <a:lnTo>
                    <a:pt x="4291" y="9631"/>
                  </a:lnTo>
                  <a:lnTo>
                    <a:pt x="4346" y="9615"/>
                  </a:lnTo>
                  <a:lnTo>
                    <a:pt x="4405" y="9596"/>
                  </a:lnTo>
                  <a:lnTo>
                    <a:pt x="4463" y="9577"/>
                  </a:lnTo>
                  <a:lnTo>
                    <a:pt x="4523" y="9557"/>
                  </a:lnTo>
                  <a:lnTo>
                    <a:pt x="4582" y="9535"/>
                  </a:lnTo>
                  <a:lnTo>
                    <a:pt x="4640" y="9513"/>
                  </a:lnTo>
                  <a:lnTo>
                    <a:pt x="4698" y="9490"/>
                  </a:lnTo>
                  <a:lnTo>
                    <a:pt x="4754" y="9465"/>
                  </a:lnTo>
                  <a:lnTo>
                    <a:pt x="4808" y="9440"/>
                  </a:lnTo>
                  <a:lnTo>
                    <a:pt x="4858" y="9414"/>
                  </a:lnTo>
                  <a:lnTo>
                    <a:pt x="4905" y="9387"/>
                  </a:lnTo>
                  <a:lnTo>
                    <a:pt x="4947" y="9359"/>
                  </a:lnTo>
                  <a:lnTo>
                    <a:pt x="4984" y="9331"/>
                  </a:lnTo>
                  <a:lnTo>
                    <a:pt x="5016" y="9303"/>
                  </a:lnTo>
                  <a:lnTo>
                    <a:pt x="5043" y="9274"/>
                  </a:lnTo>
                  <a:lnTo>
                    <a:pt x="5063" y="9243"/>
                  </a:lnTo>
                  <a:lnTo>
                    <a:pt x="5075" y="9214"/>
                  </a:lnTo>
                  <a:lnTo>
                    <a:pt x="5079" y="9183"/>
                  </a:lnTo>
                  <a:lnTo>
                    <a:pt x="5075" y="9153"/>
                  </a:lnTo>
                  <a:lnTo>
                    <a:pt x="5062" y="9121"/>
                  </a:lnTo>
                  <a:lnTo>
                    <a:pt x="5039" y="9090"/>
                  </a:lnTo>
                  <a:lnTo>
                    <a:pt x="5005" y="9059"/>
                  </a:lnTo>
                  <a:lnTo>
                    <a:pt x="5002" y="9058"/>
                  </a:lnTo>
                  <a:lnTo>
                    <a:pt x="4993" y="9053"/>
                  </a:lnTo>
                  <a:lnTo>
                    <a:pt x="4979" y="9045"/>
                  </a:lnTo>
                  <a:lnTo>
                    <a:pt x="4963" y="9035"/>
                  </a:lnTo>
                  <a:lnTo>
                    <a:pt x="4946" y="9023"/>
                  </a:lnTo>
                  <a:lnTo>
                    <a:pt x="4929" y="9007"/>
                  </a:lnTo>
                  <a:lnTo>
                    <a:pt x="4921" y="8999"/>
                  </a:lnTo>
                  <a:lnTo>
                    <a:pt x="4914" y="8991"/>
                  </a:lnTo>
                  <a:lnTo>
                    <a:pt x="4907" y="8982"/>
                  </a:lnTo>
                  <a:lnTo>
                    <a:pt x="4902" y="8973"/>
                  </a:lnTo>
                  <a:lnTo>
                    <a:pt x="4897" y="8964"/>
                  </a:lnTo>
                  <a:lnTo>
                    <a:pt x="4894" y="8955"/>
                  </a:lnTo>
                  <a:lnTo>
                    <a:pt x="4893" y="8945"/>
                  </a:lnTo>
                  <a:lnTo>
                    <a:pt x="4894" y="8935"/>
                  </a:lnTo>
                  <a:lnTo>
                    <a:pt x="4896" y="8925"/>
                  </a:lnTo>
                  <a:lnTo>
                    <a:pt x="4902" y="8915"/>
                  </a:lnTo>
                  <a:lnTo>
                    <a:pt x="4909" y="8905"/>
                  </a:lnTo>
                  <a:lnTo>
                    <a:pt x="4919" y="8895"/>
                  </a:lnTo>
                  <a:lnTo>
                    <a:pt x="4931" y="8883"/>
                  </a:lnTo>
                  <a:lnTo>
                    <a:pt x="4947" y="8873"/>
                  </a:lnTo>
                  <a:lnTo>
                    <a:pt x="4965" y="8863"/>
                  </a:lnTo>
                  <a:lnTo>
                    <a:pt x="4987" y="8853"/>
                  </a:lnTo>
                  <a:lnTo>
                    <a:pt x="5013" y="8843"/>
                  </a:lnTo>
                  <a:lnTo>
                    <a:pt x="5043" y="8833"/>
                  </a:lnTo>
                  <a:lnTo>
                    <a:pt x="5076" y="8824"/>
                  </a:lnTo>
                  <a:lnTo>
                    <a:pt x="5113" y="8815"/>
                  </a:lnTo>
                  <a:lnTo>
                    <a:pt x="5124" y="8808"/>
                  </a:lnTo>
                  <a:lnTo>
                    <a:pt x="5155" y="8789"/>
                  </a:lnTo>
                  <a:lnTo>
                    <a:pt x="5202" y="8758"/>
                  </a:lnTo>
                  <a:lnTo>
                    <a:pt x="5264" y="8718"/>
                  </a:lnTo>
                  <a:lnTo>
                    <a:pt x="5340" y="8669"/>
                  </a:lnTo>
                  <a:lnTo>
                    <a:pt x="5427" y="8612"/>
                  </a:lnTo>
                  <a:lnTo>
                    <a:pt x="5520" y="8549"/>
                  </a:lnTo>
                  <a:lnTo>
                    <a:pt x="5620" y="8479"/>
                  </a:lnTo>
                  <a:lnTo>
                    <a:pt x="5723" y="8405"/>
                  </a:lnTo>
                  <a:lnTo>
                    <a:pt x="5828" y="8329"/>
                  </a:lnTo>
                  <a:lnTo>
                    <a:pt x="5879" y="8289"/>
                  </a:lnTo>
                  <a:lnTo>
                    <a:pt x="5931" y="8249"/>
                  </a:lnTo>
                  <a:lnTo>
                    <a:pt x="5981" y="8210"/>
                  </a:lnTo>
                  <a:lnTo>
                    <a:pt x="6030" y="8169"/>
                  </a:lnTo>
                  <a:lnTo>
                    <a:pt x="6079" y="8130"/>
                  </a:lnTo>
                  <a:lnTo>
                    <a:pt x="6124" y="8090"/>
                  </a:lnTo>
                  <a:lnTo>
                    <a:pt x="6169" y="8050"/>
                  </a:lnTo>
                  <a:lnTo>
                    <a:pt x="6210" y="8011"/>
                  </a:lnTo>
                  <a:lnTo>
                    <a:pt x="6249" y="7974"/>
                  </a:lnTo>
                  <a:lnTo>
                    <a:pt x="6286" y="7936"/>
                  </a:lnTo>
                  <a:lnTo>
                    <a:pt x="6318" y="7899"/>
                  </a:lnTo>
                  <a:lnTo>
                    <a:pt x="6348" y="7864"/>
                  </a:lnTo>
                  <a:lnTo>
                    <a:pt x="6354" y="7861"/>
                  </a:lnTo>
                  <a:lnTo>
                    <a:pt x="6375" y="7853"/>
                  </a:lnTo>
                  <a:lnTo>
                    <a:pt x="6408" y="7841"/>
                  </a:lnTo>
                  <a:lnTo>
                    <a:pt x="6455" y="7826"/>
                  </a:lnTo>
                  <a:lnTo>
                    <a:pt x="6513" y="7808"/>
                  </a:lnTo>
                  <a:lnTo>
                    <a:pt x="6583" y="7789"/>
                  </a:lnTo>
                  <a:lnTo>
                    <a:pt x="6622" y="7779"/>
                  </a:lnTo>
                  <a:lnTo>
                    <a:pt x="6664" y="7769"/>
                  </a:lnTo>
                  <a:lnTo>
                    <a:pt x="6708" y="7759"/>
                  </a:lnTo>
                  <a:lnTo>
                    <a:pt x="6754" y="7750"/>
                  </a:lnTo>
                  <a:lnTo>
                    <a:pt x="6803" y="7741"/>
                  </a:lnTo>
                  <a:lnTo>
                    <a:pt x="6854" y="7732"/>
                  </a:lnTo>
                  <a:lnTo>
                    <a:pt x="6907" y="7724"/>
                  </a:lnTo>
                  <a:lnTo>
                    <a:pt x="6964" y="7716"/>
                  </a:lnTo>
                  <a:lnTo>
                    <a:pt x="7021" y="7710"/>
                  </a:lnTo>
                  <a:lnTo>
                    <a:pt x="7081" y="7704"/>
                  </a:lnTo>
                  <a:lnTo>
                    <a:pt x="7143" y="7699"/>
                  </a:lnTo>
                  <a:lnTo>
                    <a:pt x="7207" y="7695"/>
                  </a:lnTo>
                  <a:lnTo>
                    <a:pt x="7272" y="7691"/>
                  </a:lnTo>
                  <a:lnTo>
                    <a:pt x="7340" y="7690"/>
                  </a:lnTo>
                  <a:lnTo>
                    <a:pt x="7409" y="7690"/>
                  </a:lnTo>
                  <a:lnTo>
                    <a:pt x="7480" y="7692"/>
                  </a:lnTo>
                  <a:lnTo>
                    <a:pt x="7553" y="7696"/>
                  </a:lnTo>
                  <a:lnTo>
                    <a:pt x="7626" y="7701"/>
                  </a:lnTo>
                  <a:lnTo>
                    <a:pt x="7701" y="7708"/>
                  </a:lnTo>
                  <a:lnTo>
                    <a:pt x="7777" y="7717"/>
                  </a:lnTo>
                  <a:lnTo>
                    <a:pt x="7782" y="7719"/>
                  </a:lnTo>
                  <a:lnTo>
                    <a:pt x="7794" y="7726"/>
                  </a:lnTo>
                  <a:lnTo>
                    <a:pt x="7814" y="7736"/>
                  </a:lnTo>
                  <a:lnTo>
                    <a:pt x="7837" y="7750"/>
                  </a:lnTo>
                  <a:lnTo>
                    <a:pt x="7863" y="7766"/>
                  </a:lnTo>
                  <a:lnTo>
                    <a:pt x="7890" y="7785"/>
                  </a:lnTo>
                  <a:lnTo>
                    <a:pt x="7903" y="7795"/>
                  </a:lnTo>
                  <a:lnTo>
                    <a:pt x="7917" y="7805"/>
                  </a:lnTo>
                  <a:lnTo>
                    <a:pt x="7930" y="7817"/>
                  </a:lnTo>
                  <a:lnTo>
                    <a:pt x="7942" y="7827"/>
                  </a:lnTo>
                  <a:lnTo>
                    <a:pt x="7953" y="7839"/>
                  </a:lnTo>
                  <a:lnTo>
                    <a:pt x="7963" y="7850"/>
                  </a:lnTo>
                  <a:lnTo>
                    <a:pt x="7971" y="7861"/>
                  </a:lnTo>
                  <a:lnTo>
                    <a:pt x="7978" y="7872"/>
                  </a:lnTo>
                  <a:lnTo>
                    <a:pt x="7983" y="7883"/>
                  </a:lnTo>
                  <a:lnTo>
                    <a:pt x="7985" y="7894"/>
                  </a:lnTo>
                  <a:lnTo>
                    <a:pt x="7986" y="7905"/>
                  </a:lnTo>
                  <a:lnTo>
                    <a:pt x="7984" y="7915"/>
                  </a:lnTo>
                  <a:lnTo>
                    <a:pt x="7980" y="7925"/>
                  </a:lnTo>
                  <a:lnTo>
                    <a:pt x="7973" y="7936"/>
                  </a:lnTo>
                  <a:lnTo>
                    <a:pt x="7962" y="7945"/>
                  </a:lnTo>
                  <a:lnTo>
                    <a:pt x="7949" y="7954"/>
                  </a:lnTo>
                  <a:lnTo>
                    <a:pt x="7931" y="7962"/>
                  </a:lnTo>
                  <a:lnTo>
                    <a:pt x="7910" y="7969"/>
                  </a:lnTo>
                  <a:lnTo>
                    <a:pt x="7885" y="7976"/>
                  </a:lnTo>
                  <a:lnTo>
                    <a:pt x="7856" y="7982"/>
                  </a:lnTo>
                  <a:lnTo>
                    <a:pt x="7844" y="7981"/>
                  </a:lnTo>
                  <a:lnTo>
                    <a:pt x="7811" y="7981"/>
                  </a:lnTo>
                  <a:lnTo>
                    <a:pt x="7757" y="7981"/>
                  </a:lnTo>
                  <a:lnTo>
                    <a:pt x="7687" y="7982"/>
                  </a:lnTo>
                  <a:lnTo>
                    <a:pt x="7602" y="7986"/>
                  </a:lnTo>
                  <a:lnTo>
                    <a:pt x="7506" y="7991"/>
                  </a:lnTo>
                  <a:lnTo>
                    <a:pt x="7454" y="7995"/>
                  </a:lnTo>
                  <a:lnTo>
                    <a:pt x="7400" y="7999"/>
                  </a:lnTo>
                  <a:lnTo>
                    <a:pt x="7345" y="8004"/>
                  </a:lnTo>
                  <a:lnTo>
                    <a:pt x="7287" y="8011"/>
                  </a:lnTo>
                  <a:lnTo>
                    <a:pt x="7230" y="8018"/>
                  </a:lnTo>
                  <a:lnTo>
                    <a:pt x="7172" y="8027"/>
                  </a:lnTo>
                  <a:lnTo>
                    <a:pt x="7112" y="8036"/>
                  </a:lnTo>
                  <a:lnTo>
                    <a:pt x="7054" y="8047"/>
                  </a:lnTo>
                  <a:lnTo>
                    <a:pt x="6994" y="8060"/>
                  </a:lnTo>
                  <a:lnTo>
                    <a:pt x="6937" y="8074"/>
                  </a:lnTo>
                  <a:lnTo>
                    <a:pt x="6879" y="8089"/>
                  </a:lnTo>
                  <a:lnTo>
                    <a:pt x="6823" y="8106"/>
                  </a:lnTo>
                  <a:lnTo>
                    <a:pt x="6768" y="8124"/>
                  </a:lnTo>
                  <a:lnTo>
                    <a:pt x="6716" y="8144"/>
                  </a:lnTo>
                  <a:lnTo>
                    <a:pt x="6665" y="8165"/>
                  </a:lnTo>
                  <a:lnTo>
                    <a:pt x="6617" y="8190"/>
                  </a:lnTo>
                  <a:lnTo>
                    <a:pt x="6571" y="8216"/>
                  </a:lnTo>
                  <a:lnTo>
                    <a:pt x="6529" y="8243"/>
                  </a:lnTo>
                  <a:lnTo>
                    <a:pt x="6490" y="8273"/>
                  </a:lnTo>
                  <a:lnTo>
                    <a:pt x="6455" y="8305"/>
                  </a:lnTo>
                  <a:lnTo>
                    <a:pt x="6447" y="8318"/>
                  </a:lnTo>
                  <a:lnTo>
                    <a:pt x="6423" y="8351"/>
                  </a:lnTo>
                  <a:lnTo>
                    <a:pt x="6406" y="8374"/>
                  </a:lnTo>
                  <a:lnTo>
                    <a:pt x="6386" y="8399"/>
                  </a:lnTo>
                  <a:lnTo>
                    <a:pt x="6363" y="8427"/>
                  </a:lnTo>
                  <a:lnTo>
                    <a:pt x="6338" y="8456"/>
                  </a:lnTo>
                  <a:lnTo>
                    <a:pt x="6310" y="8484"/>
                  </a:lnTo>
                  <a:lnTo>
                    <a:pt x="6280" y="8513"/>
                  </a:lnTo>
                  <a:lnTo>
                    <a:pt x="6264" y="8526"/>
                  </a:lnTo>
                  <a:lnTo>
                    <a:pt x="6248" y="8541"/>
                  </a:lnTo>
                  <a:lnTo>
                    <a:pt x="6232" y="8553"/>
                  </a:lnTo>
                  <a:lnTo>
                    <a:pt x="6216" y="8566"/>
                  </a:lnTo>
                  <a:lnTo>
                    <a:pt x="6199" y="8577"/>
                  </a:lnTo>
                  <a:lnTo>
                    <a:pt x="6181" y="8588"/>
                  </a:lnTo>
                  <a:lnTo>
                    <a:pt x="6164" y="8597"/>
                  </a:lnTo>
                  <a:lnTo>
                    <a:pt x="6145" y="8606"/>
                  </a:lnTo>
                  <a:lnTo>
                    <a:pt x="6128" y="8613"/>
                  </a:lnTo>
                  <a:lnTo>
                    <a:pt x="6110" y="8620"/>
                  </a:lnTo>
                  <a:lnTo>
                    <a:pt x="6092" y="8624"/>
                  </a:lnTo>
                  <a:lnTo>
                    <a:pt x="6073" y="8628"/>
                  </a:lnTo>
                  <a:lnTo>
                    <a:pt x="6069" y="8634"/>
                  </a:lnTo>
                  <a:lnTo>
                    <a:pt x="6059" y="8650"/>
                  </a:lnTo>
                  <a:lnTo>
                    <a:pt x="6045" y="8676"/>
                  </a:lnTo>
                  <a:lnTo>
                    <a:pt x="6027" y="8709"/>
                  </a:lnTo>
                  <a:lnTo>
                    <a:pt x="6018" y="8727"/>
                  </a:lnTo>
                  <a:lnTo>
                    <a:pt x="6010" y="8746"/>
                  </a:lnTo>
                  <a:lnTo>
                    <a:pt x="6002" y="8766"/>
                  </a:lnTo>
                  <a:lnTo>
                    <a:pt x="5995" y="8788"/>
                  </a:lnTo>
                  <a:lnTo>
                    <a:pt x="5989" y="8809"/>
                  </a:lnTo>
                  <a:lnTo>
                    <a:pt x="5984" y="8830"/>
                  </a:lnTo>
                  <a:lnTo>
                    <a:pt x="5980" y="8852"/>
                  </a:lnTo>
                  <a:lnTo>
                    <a:pt x="5979" y="8873"/>
                  </a:lnTo>
                  <a:lnTo>
                    <a:pt x="5979" y="8895"/>
                  </a:lnTo>
                  <a:lnTo>
                    <a:pt x="5982" y="8915"/>
                  </a:lnTo>
                  <a:lnTo>
                    <a:pt x="5987" y="8934"/>
                  </a:lnTo>
                  <a:lnTo>
                    <a:pt x="5995" y="8952"/>
                  </a:lnTo>
                  <a:lnTo>
                    <a:pt x="6006" y="8968"/>
                  </a:lnTo>
                  <a:lnTo>
                    <a:pt x="6020" y="8983"/>
                  </a:lnTo>
                  <a:lnTo>
                    <a:pt x="6039" y="8997"/>
                  </a:lnTo>
                  <a:lnTo>
                    <a:pt x="6061" y="9008"/>
                  </a:lnTo>
                  <a:lnTo>
                    <a:pt x="6087" y="9018"/>
                  </a:lnTo>
                  <a:lnTo>
                    <a:pt x="6117" y="9025"/>
                  </a:lnTo>
                  <a:lnTo>
                    <a:pt x="6152" y="9029"/>
                  </a:lnTo>
                  <a:lnTo>
                    <a:pt x="6192" y="9030"/>
                  </a:lnTo>
                  <a:lnTo>
                    <a:pt x="6237" y="9028"/>
                  </a:lnTo>
                  <a:lnTo>
                    <a:pt x="6288" y="9023"/>
                  </a:lnTo>
                  <a:lnTo>
                    <a:pt x="6344" y="9014"/>
                  </a:lnTo>
                  <a:lnTo>
                    <a:pt x="6406" y="9000"/>
                  </a:lnTo>
                  <a:lnTo>
                    <a:pt x="6419" y="8997"/>
                  </a:lnTo>
                  <a:lnTo>
                    <a:pt x="6455" y="8987"/>
                  </a:lnTo>
                  <a:lnTo>
                    <a:pt x="6511" y="8971"/>
                  </a:lnTo>
                  <a:lnTo>
                    <a:pt x="6585" y="8950"/>
                  </a:lnTo>
                  <a:lnTo>
                    <a:pt x="6673" y="8924"/>
                  </a:lnTo>
                  <a:lnTo>
                    <a:pt x="6771" y="8894"/>
                  </a:lnTo>
                  <a:lnTo>
                    <a:pt x="6877" y="8860"/>
                  </a:lnTo>
                  <a:lnTo>
                    <a:pt x="6989" y="8823"/>
                  </a:lnTo>
                  <a:lnTo>
                    <a:pt x="7046" y="8804"/>
                  </a:lnTo>
                  <a:lnTo>
                    <a:pt x="7102" y="8784"/>
                  </a:lnTo>
                  <a:lnTo>
                    <a:pt x="7158" y="8763"/>
                  </a:lnTo>
                  <a:lnTo>
                    <a:pt x="7215" y="8742"/>
                  </a:lnTo>
                  <a:lnTo>
                    <a:pt x="7269" y="8722"/>
                  </a:lnTo>
                  <a:lnTo>
                    <a:pt x="7323" y="8701"/>
                  </a:lnTo>
                  <a:lnTo>
                    <a:pt x="7374" y="8679"/>
                  </a:lnTo>
                  <a:lnTo>
                    <a:pt x="7423" y="8658"/>
                  </a:lnTo>
                  <a:lnTo>
                    <a:pt x="7469" y="8636"/>
                  </a:lnTo>
                  <a:lnTo>
                    <a:pt x="7513" y="8614"/>
                  </a:lnTo>
                  <a:lnTo>
                    <a:pt x="7553" y="8593"/>
                  </a:lnTo>
                  <a:lnTo>
                    <a:pt x="7590" y="8572"/>
                  </a:lnTo>
                  <a:lnTo>
                    <a:pt x="7621" y="8552"/>
                  </a:lnTo>
                  <a:lnTo>
                    <a:pt x="7649" y="8530"/>
                  </a:lnTo>
                  <a:lnTo>
                    <a:pt x="7673" y="8510"/>
                  </a:lnTo>
                  <a:lnTo>
                    <a:pt x="7690" y="8491"/>
                  </a:lnTo>
                  <a:lnTo>
                    <a:pt x="7695" y="8486"/>
                  </a:lnTo>
                  <a:lnTo>
                    <a:pt x="7710" y="8472"/>
                  </a:lnTo>
                  <a:lnTo>
                    <a:pt x="7734" y="8452"/>
                  </a:lnTo>
                  <a:lnTo>
                    <a:pt x="7768" y="8427"/>
                  </a:lnTo>
                  <a:lnTo>
                    <a:pt x="7788" y="8414"/>
                  </a:lnTo>
                  <a:lnTo>
                    <a:pt x="7811" y="8399"/>
                  </a:lnTo>
                  <a:lnTo>
                    <a:pt x="7835" y="8384"/>
                  </a:lnTo>
                  <a:lnTo>
                    <a:pt x="7861" y="8370"/>
                  </a:lnTo>
                  <a:lnTo>
                    <a:pt x="7889" y="8356"/>
                  </a:lnTo>
                  <a:lnTo>
                    <a:pt x="7919" y="8342"/>
                  </a:lnTo>
                  <a:lnTo>
                    <a:pt x="7952" y="8329"/>
                  </a:lnTo>
                  <a:lnTo>
                    <a:pt x="7986" y="8317"/>
                  </a:lnTo>
                  <a:lnTo>
                    <a:pt x="8021" y="8307"/>
                  </a:lnTo>
                  <a:lnTo>
                    <a:pt x="8060" y="8297"/>
                  </a:lnTo>
                  <a:lnTo>
                    <a:pt x="8098" y="8289"/>
                  </a:lnTo>
                  <a:lnTo>
                    <a:pt x="8139" y="8283"/>
                  </a:lnTo>
                  <a:lnTo>
                    <a:pt x="8182" y="8279"/>
                  </a:lnTo>
                  <a:lnTo>
                    <a:pt x="8226" y="8278"/>
                  </a:lnTo>
                  <a:lnTo>
                    <a:pt x="8271" y="8280"/>
                  </a:lnTo>
                  <a:lnTo>
                    <a:pt x="8318" y="8284"/>
                  </a:lnTo>
                  <a:lnTo>
                    <a:pt x="8366" y="8291"/>
                  </a:lnTo>
                  <a:lnTo>
                    <a:pt x="8415" y="8303"/>
                  </a:lnTo>
                  <a:lnTo>
                    <a:pt x="8466" y="8317"/>
                  </a:lnTo>
                  <a:lnTo>
                    <a:pt x="8518" y="8336"/>
                  </a:lnTo>
                  <a:lnTo>
                    <a:pt x="8572" y="8358"/>
                  </a:lnTo>
                  <a:lnTo>
                    <a:pt x="8626" y="8384"/>
                  </a:lnTo>
                  <a:lnTo>
                    <a:pt x="8682" y="8416"/>
                  </a:lnTo>
                  <a:lnTo>
                    <a:pt x="8738" y="8452"/>
                  </a:lnTo>
                  <a:lnTo>
                    <a:pt x="8758" y="8462"/>
                  </a:lnTo>
                  <a:lnTo>
                    <a:pt x="8817" y="8490"/>
                  </a:lnTo>
                  <a:lnTo>
                    <a:pt x="8908" y="8534"/>
                  </a:lnTo>
                  <a:lnTo>
                    <a:pt x="9027" y="8589"/>
                  </a:lnTo>
                  <a:lnTo>
                    <a:pt x="9169" y="8655"/>
                  </a:lnTo>
                  <a:lnTo>
                    <a:pt x="9330" y="8727"/>
                  </a:lnTo>
                  <a:lnTo>
                    <a:pt x="9414" y="8764"/>
                  </a:lnTo>
                  <a:lnTo>
                    <a:pt x="9502" y="8803"/>
                  </a:lnTo>
                  <a:lnTo>
                    <a:pt x="9592" y="8842"/>
                  </a:lnTo>
                  <a:lnTo>
                    <a:pt x="9682" y="8880"/>
                  </a:lnTo>
                  <a:lnTo>
                    <a:pt x="9774" y="8919"/>
                  </a:lnTo>
                  <a:lnTo>
                    <a:pt x="9866" y="8956"/>
                  </a:lnTo>
                  <a:lnTo>
                    <a:pt x="9958" y="8993"/>
                  </a:lnTo>
                  <a:lnTo>
                    <a:pt x="10047" y="9028"/>
                  </a:lnTo>
                  <a:lnTo>
                    <a:pt x="10135" y="9061"/>
                  </a:lnTo>
                  <a:lnTo>
                    <a:pt x="10221" y="9092"/>
                  </a:lnTo>
                  <a:lnTo>
                    <a:pt x="10303" y="9120"/>
                  </a:lnTo>
                  <a:lnTo>
                    <a:pt x="10382" y="9147"/>
                  </a:lnTo>
                  <a:lnTo>
                    <a:pt x="10457" y="9169"/>
                  </a:lnTo>
                  <a:lnTo>
                    <a:pt x="10526" y="9188"/>
                  </a:lnTo>
                  <a:lnTo>
                    <a:pt x="10591" y="9203"/>
                  </a:lnTo>
                  <a:lnTo>
                    <a:pt x="10648" y="9213"/>
                  </a:lnTo>
                  <a:lnTo>
                    <a:pt x="10700" y="9219"/>
                  </a:lnTo>
                  <a:lnTo>
                    <a:pt x="10743" y="9220"/>
                  </a:lnTo>
                  <a:lnTo>
                    <a:pt x="10778" y="9216"/>
                  </a:lnTo>
                  <a:lnTo>
                    <a:pt x="10804" y="92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59" name="Freeform 1566"/>
            <p:cNvSpPr/>
            <p:nvPr/>
          </p:nvSpPr>
          <p:spPr>
            <a:xfrm>
              <a:off x="2709000" y="4495680"/>
              <a:ext cx="473760" cy="339840"/>
            </a:xfrm>
            <a:custGeom>
              <a:avLst/>
              <a:gdLst>
                <a:gd name="textAreaLeft" fmla="*/ 0 w 473760"/>
                <a:gd name="textAreaRight" fmla="*/ 474120 w 473760"/>
                <a:gd name="textAreaTop" fmla="*/ 0 h 339840"/>
                <a:gd name="textAreaBottom" fmla="*/ 340200 h 339840"/>
              </a:gdLst>
              <a:ahLst/>
              <a:rect l="textAreaLeft" t="textAreaTop" r="textAreaRight" b="textAreaBottom"/>
              <a:pathLst>
                <a:path w="14755" h="12587">
                  <a:moveTo>
                    <a:pt x="10804" y="9206"/>
                  </a:moveTo>
                  <a:lnTo>
                    <a:pt x="10830" y="9194"/>
                  </a:lnTo>
                  <a:lnTo>
                    <a:pt x="10894" y="9163"/>
                  </a:lnTo>
                  <a:lnTo>
                    <a:pt x="10938" y="9144"/>
                  </a:lnTo>
                  <a:lnTo>
                    <a:pt x="10988" y="9124"/>
                  </a:lnTo>
                  <a:lnTo>
                    <a:pt x="11014" y="9114"/>
                  </a:lnTo>
                  <a:lnTo>
                    <a:pt x="11041" y="9105"/>
                  </a:lnTo>
                  <a:lnTo>
                    <a:pt x="11069" y="9096"/>
                  </a:lnTo>
                  <a:lnTo>
                    <a:pt x="11098" y="9087"/>
                  </a:lnTo>
                  <a:lnTo>
                    <a:pt x="11126" y="9080"/>
                  </a:lnTo>
                  <a:lnTo>
                    <a:pt x="11154" y="9073"/>
                  </a:lnTo>
                  <a:lnTo>
                    <a:pt x="11182" y="9068"/>
                  </a:lnTo>
                  <a:lnTo>
                    <a:pt x="11210" y="9063"/>
                  </a:lnTo>
                  <a:lnTo>
                    <a:pt x="11237" y="9061"/>
                  </a:lnTo>
                  <a:lnTo>
                    <a:pt x="11263" y="9059"/>
                  </a:lnTo>
                  <a:lnTo>
                    <a:pt x="11288" y="9060"/>
                  </a:lnTo>
                  <a:lnTo>
                    <a:pt x="11312" y="9062"/>
                  </a:lnTo>
                  <a:lnTo>
                    <a:pt x="11336" y="9066"/>
                  </a:lnTo>
                  <a:lnTo>
                    <a:pt x="11357" y="9073"/>
                  </a:lnTo>
                  <a:lnTo>
                    <a:pt x="11377" y="9081"/>
                  </a:lnTo>
                  <a:lnTo>
                    <a:pt x="11394" y="9093"/>
                  </a:lnTo>
                  <a:lnTo>
                    <a:pt x="11410" y="9107"/>
                  </a:lnTo>
                  <a:lnTo>
                    <a:pt x="11423" y="9124"/>
                  </a:lnTo>
                  <a:lnTo>
                    <a:pt x="11433" y="9144"/>
                  </a:lnTo>
                  <a:lnTo>
                    <a:pt x="11441" y="9167"/>
                  </a:lnTo>
                  <a:lnTo>
                    <a:pt x="11451" y="9194"/>
                  </a:lnTo>
                  <a:lnTo>
                    <a:pt x="11464" y="9224"/>
                  </a:lnTo>
                  <a:lnTo>
                    <a:pt x="11482" y="9257"/>
                  </a:lnTo>
                  <a:lnTo>
                    <a:pt x="11504" y="9293"/>
                  </a:lnTo>
                  <a:lnTo>
                    <a:pt x="11529" y="9331"/>
                  </a:lnTo>
                  <a:lnTo>
                    <a:pt x="11558" y="9373"/>
                  </a:lnTo>
                  <a:lnTo>
                    <a:pt x="11590" y="9415"/>
                  </a:lnTo>
                  <a:lnTo>
                    <a:pt x="11625" y="9459"/>
                  </a:lnTo>
                  <a:lnTo>
                    <a:pt x="11662" y="9506"/>
                  </a:lnTo>
                  <a:lnTo>
                    <a:pt x="11701" y="9553"/>
                  </a:lnTo>
                  <a:lnTo>
                    <a:pt x="11742" y="9600"/>
                  </a:lnTo>
                  <a:lnTo>
                    <a:pt x="11784" y="9650"/>
                  </a:lnTo>
                  <a:lnTo>
                    <a:pt x="11872" y="9748"/>
                  </a:lnTo>
                  <a:lnTo>
                    <a:pt x="11962" y="9844"/>
                  </a:lnTo>
                  <a:lnTo>
                    <a:pt x="12050" y="9938"/>
                  </a:lnTo>
                  <a:lnTo>
                    <a:pt x="12136" y="10027"/>
                  </a:lnTo>
                  <a:lnTo>
                    <a:pt x="12215" y="10109"/>
                  </a:lnTo>
                  <a:lnTo>
                    <a:pt x="12286" y="10180"/>
                  </a:lnTo>
                  <a:lnTo>
                    <a:pt x="12346" y="10240"/>
                  </a:lnTo>
                  <a:lnTo>
                    <a:pt x="12391" y="10285"/>
                  </a:lnTo>
                  <a:lnTo>
                    <a:pt x="12420" y="10313"/>
                  </a:lnTo>
                  <a:lnTo>
                    <a:pt x="12430" y="10323"/>
                  </a:lnTo>
                  <a:lnTo>
                    <a:pt x="13175" y="9775"/>
                  </a:lnTo>
                  <a:lnTo>
                    <a:pt x="14066" y="11647"/>
                  </a:lnTo>
                  <a:lnTo>
                    <a:pt x="14076" y="11684"/>
                  </a:lnTo>
                  <a:lnTo>
                    <a:pt x="14083" y="11717"/>
                  </a:lnTo>
                  <a:lnTo>
                    <a:pt x="14085" y="11733"/>
                  </a:lnTo>
                  <a:lnTo>
                    <a:pt x="14087" y="11748"/>
                  </a:lnTo>
                  <a:lnTo>
                    <a:pt x="14088" y="11763"/>
                  </a:lnTo>
                  <a:lnTo>
                    <a:pt x="14089" y="11777"/>
                  </a:lnTo>
                  <a:lnTo>
                    <a:pt x="14088" y="11791"/>
                  </a:lnTo>
                  <a:lnTo>
                    <a:pt x="14088" y="11804"/>
                  </a:lnTo>
                  <a:lnTo>
                    <a:pt x="14086" y="11817"/>
                  </a:lnTo>
                  <a:lnTo>
                    <a:pt x="14084" y="11829"/>
                  </a:lnTo>
                  <a:lnTo>
                    <a:pt x="14082" y="11842"/>
                  </a:lnTo>
                  <a:lnTo>
                    <a:pt x="14078" y="11854"/>
                  </a:lnTo>
                  <a:lnTo>
                    <a:pt x="14074" y="11867"/>
                  </a:lnTo>
                  <a:lnTo>
                    <a:pt x="14070" y="11879"/>
                  </a:lnTo>
                  <a:lnTo>
                    <a:pt x="14059" y="11905"/>
                  </a:lnTo>
                  <a:lnTo>
                    <a:pt x="14046" y="11930"/>
                  </a:lnTo>
                  <a:lnTo>
                    <a:pt x="14031" y="11957"/>
                  </a:lnTo>
                  <a:lnTo>
                    <a:pt x="14013" y="11985"/>
                  </a:lnTo>
                  <a:lnTo>
                    <a:pt x="13971" y="12050"/>
                  </a:lnTo>
                  <a:lnTo>
                    <a:pt x="13920" y="12127"/>
                  </a:lnTo>
                  <a:lnTo>
                    <a:pt x="13906" y="12149"/>
                  </a:lnTo>
                  <a:lnTo>
                    <a:pt x="13896" y="12171"/>
                  </a:lnTo>
                  <a:lnTo>
                    <a:pt x="13887" y="12192"/>
                  </a:lnTo>
                  <a:lnTo>
                    <a:pt x="13882" y="12214"/>
                  </a:lnTo>
                  <a:lnTo>
                    <a:pt x="13878" y="12235"/>
                  </a:lnTo>
                  <a:lnTo>
                    <a:pt x="13876" y="12257"/>
                  </a:lnTo>
                  <a:lnTo>
                    <a:pt x="13876" y="12278"/>
                  </a:lnTo>
                  <a:lnTo>
                    <a:pt x="13878" y="12298"/>
                  </a:lnTo>
                  <a:lnTo>
                    <a:pt x="13882" y="12318"/>
                  </a:lnTo>
                  <a:lnTo>
                    <a:pt x="13887" y="12338"/>
                  </a:lnTo>
                  <a:lnTo>
                    <a:pt x="13893" y="12357"/>
                  </a:lnTo>
                  <a:lnTo>
                    <a:pt x="13900" y="12376"/>
                  </a:lnTo>
                  <a:lnTo>
                    <a:pt x="13909" y="12394"/>
                  </a:lnTo>
                  <a:lnTo>
                    <a:pt x="13918" y="12412"/>
                  </a:lnTo>
                  <a:lnTo>
                    <a:pt x="13928" y="12429"/>
                  </a:lnTo>
                  <a:lnTo>
                    <a:pt x="13939" y="12445"/>
                  </a:lnTo>
                  <a:lnTo>
                    <a:pt x="13950" y="12461"/>
                  </a:lnTo>
                  <a:lnTo>
                    <a:pt x="13962" y="12476"/>
                  </a:lnTo>
                  <a:lnTo>
                    <a:pt x="13974" y="12491"/>
                  </a:lnTo>
                  <a:lnTo>
                    <a:pt x="13986" y="12504"/>
                  </a:lnTo>
                  <a:lnTo>
                    <a:pt x="14009" y="12528"/>
                  </a:lnTo>
                  <a:lnTo>
                    <a:pt x="14030" y="12548"/>
                  </a:lnTo>
                  <a:lnTo>
                    <a:pt x="14063" y="12577"/>
                  </a:lnTo>
                  <a:lnTo>
                    <a:pt x="14076" y="12587"/>
                  </a:lnTo>
                  <a:lnTo>
                    <a:pt x="14084" y="12578"/>
                  </a:lnTo>
                  <a:lnTo>
                    <a:pt x="14108" y="12553"/>
                  </a:lnTo>
                  <a:lnTo>
                    <a:pt x="14143" y="12514"/>
                  </a:lnTo>
                  <a:lnTo>
                    <a:pt x="14189" y="12462"/>
                  </a:lnTo>
                  <a:lnTo>
                    <a:pt x="14243" y="12400"/>
                  </a:lnTo>
                  <a:lnTo>
                    <a:pt x="14303" y="12330"/>
                  </a:lnTo>
                  <a:lnTo>
                    <a:pt x="14368" y="12254"/>
                  </a:lnTo>
                  <a:lnTo>
                    <a:pt x="14433" y="12173"/>
                  </a:lnTo>
                  <a:lnTo>
                    <a:pt x="14465" y="12133"/>
                  </a:lnTo>
                  <a:lnTo>
                    <a:pt x="14498" y="12091"/>
                  </a:lnTo>
                  <a:lnTo>
                    <a:pt x="14529" y="12050"/>
                  </a:lnTo>
                  <a:lnTo>
                    <a:pt x="14560" y="12009"/>
                  </a:lnTo>
                  <a:lnTo>
                    <a:pt x="14589" y="11968"/>
                  </a:lnTo>
                  <a:lnTo>
                    <a:pt x="14618" y="11928"/>
                  </a:lnTo>
                  <a:lnTo>
                    <a:pt x="14643" y="11889"/>
                  </a:lnTo>
                  <a:lnTo>
                    <a:pt x="14667" y="11851"/>
                  </a:lnTo>
                  <a:lnTo>
                    <a:pt x="14689" y="11815"/>
                  </a:lnTo>
                  <a:lnTo>
                    <a:pt x="14708" y="11781"/>
                  </a:lnTo>
                  <a:lnTo>
                    <a:pt x="14724" y="11748"/>
                  </a:lnTo>
                  <a:lnTo>
                    <a:pt x="14738" y="11719"/>
                  </a:lnTo>
                  <a:lnTo>
                    <a:pt x="14747" y="11692"/>
                  </a:lnTo>
                  <a:lnTo>
                    <a:pt x="14753" y="11667"/>
                  </a:lnTo>
                  <a:lnTo>
                    <a:pt x="14755" y="11646"/>
                  </a:lnTo>
                  <a:lnTo>
                    <a:pt x="14753" y="11627"/>
                  </a:lnTo>
                  <a:lnTo>
                    <a:pt x="14736" y="11615"/>
                  </a:lnTo>
                  <a:lnTo>
                    <a:pt x="14690" y="11582"/>
                  </a:lnTo>
                  <a:lnTo>
                    <a:pt x="14659" y="11557"/>
                  </a:lnTo>
                  <a:lnTo>
                    <a:pt x="14624" y="11527"/>
                  </a:lnTo>
                  <a:lnTo>
                    <a:pt x="14605" y="11509"/>
                  </a:lnTo>
                  <a:lnTo>
                    <a:pt x="14585" y="11490"/>
                  </a:lnTo>
                  <a:lnTo>
                    <a:pt x="14565" y="11470"/>
                  </a:lnTo>
                  <a:lnTo>
                    <a:pt x="14545" y="11449"/>
                  </a:lnTo>
                  <a:lnTo>
                    <a:pt x="14525" y="11427"/>
                  </a:lnTo>
                  <a:lnTo>
                    <a:pt x="14504" y="11404"/>
                  </a:lnTo>
                  <a:lnTo>
                    <a:pt x="14484" y="11378"/>
                  </a:lnTo>
                  <a:lnTo>
                    <a:pt x="14463" y="11352"/>
                  </a:lnTo>
                  <a:lnTo>
                    <a:pt x="14442" y="11324"/>
                  </a:lnTo>
                  <a:lnTo>
                    <a:pt x="14423" y="11296"/>
                  </a:lnTo>
                  <a:lnTo>
                    <a:pt x="14403" y="11265"/>
                  </a:lnTo>
                  <a:lnTo>
                    <a:pt x="14385" y="11234"/>
                  </a:lnTo>
                  <a:lnTo>
                    <a:pt x="14367" y="11202"/>
                  </a:lnTo>
                  <a:lnTo>
                    <a:pt x="14350" y="11169"/>
                  </a:lnTo>
                  <a:lnTo>
                    <a:pt x="14333" y="11133"/>
                  </a:lnTo>
                  <a:lnTo>
                    <a:pt x="14318" y="11097"/>
                  </a:lnTo>
                  <a:lnTo>
                    <a:pt x="14304" y="11060"/>
                  </a:lnTo>
                  <a:lnTo>
                    <a:pt x="14292" y="11021"/>
                  </a:lnTo>
                  <a:lnTo>
                    <a:pt x="14281" y="10982"/>
                  </a:lnTo>
                  <a:lnTo>
                    <a:pt x="14272" y="10941"/>
                  </a:lnTo>
                  <a:lnTo>
                    <a:pt x="14265" y="10924"/>
                  </a:lnTo>
                  <a:lnTo>
                    <a:pt x="14243" y="10876"/>
                  </a:lnTo>
                  <a:lnTo>
                    <a:pt x="14207" y="10801"/>
                  </a:lnTo>
                  <a:lnTo>
                    <a:pt x="14162" y="10705"/>
                  </a:lnTo>
                  <a:lnTo>
                    <a:pt x="14106" y="10589"/>
                  </a:lnTo>
                  <a:lnTo>
                    <a:pt x="14041" y="10459"/>
                  </a:lnTo>
                  <a:lnTo>
                    <a:pt x="13969" y="10318"/>
                  </a:lnTo>
                  <a:lnTo>
                    <a:pt x="13893" y="10171"/>
                  </a:lnTo>
                  <a:lnTo>
                    <a:pt x="13853" y="10098"/>
                  </a:lnTo>
                  <a:lnTo>
                    <a:pt x="13812" y="10024"/>
                  </a:lnTo>
                  <a:lnTo>
                    <a:pt x="13771" y="9950"/>
                  </a:lnTo>
                  <a:lnTo>
                    <a:pt x="13729" y="9878"/>
                  </a:lnTo>
                  <a:lnTo>
                    <a:pt x="13687" y="9807"/>
                  </a:lnTo>
                  <a:lnTo>
                    <a:pt x="13645" y="9739"/>
                  </a:lnTo>
                  <a:lnTo>
                    <a:pt x="13603" y="9672"/>
                  </a:lnTo>
                  <a:lnTo>
                    <a:pt x="13561" y="9610"/>
                  </a:lnTo>
                  <a:lnTo>
                    <a:pt x="13521" y="9551"/>
                  </a:lnTo>
                  <a:lnTo>
                    <a:pt x="13480" y="9496"/>
                  </a:lnTo>
                  <a:lnTo>
                    <a:pt x="13440" y="9446"/>
                  </a:lnTo>
                  <a:lnTo>
                    <a:pt x="13402" y="9401"/>
                  </a:lnTo>
                  <a:lnTo>
                    <a:pt x="13365" y="9362"/>
                  </a:lnTo>
                  <a:lnTo>
                    <a:pt x="13329" y="9329"/>
                  </a:lnTo>
                  <a:lnTo>
                    <a:pt x="13295" y="9303"/>
                  </a:lnTo>
                  <a:lnTo>
                    <a:pt x="13263" y="9285"/>
                  </a:lnTo>
                  <a:lnTo>
                    <a:pt x="13258" y="9288"/>
                  </a:lnTo>
                  <a:lnTo>
                    <a:pt x="13241" y="9296"/>
                  </a:lnTo>
                  <a:lnTo>
                    <a:pt x="13213" y="9309"/>
                  </a:lnTo>
                  <a:lnTo>
                    <a:pt x="13177" y="9326"/>
                  </a:lnTo>
                  <a:lnTo>
                    <a:pt x="13133" y="9346"/>
                  </a:lnTo>
                  <a:lnTo>
                    <a:pt x="13081" y="9368"/>
                  </a:lnTo>
                  <a:lnTo>
                    <a:pt x="13023" y="9393"/>
                  </a:lnTo>
                  <a:lnTo>
                    <a:pt x="12960" y="9417"/>
                  </a:lnTo>
                  <a:lnTo>
                    <a:pt x="12894" y="9442"/>
                  </a:lnTo>
                  <a:lnTo>
                    <a:pt x="12824" y="9465"/>
                  </a:lnTo>
                  <a:lnTo>
                    <a:pt x="12789" y="9477"/>
                  </a:lnTo>
                  <a:lnTo>
                    <a:pt x="12753" y="9488"/>
                  </a:lnTo>
                  <a:lnTo>
                    <a:pt x="12717" y="9499"/>
                  </a:lnTo>
                  <a:lnTo>
                    <a:pt x="12680" y="9508"/>
                  </a:lnTo>
                  <a:lnTo>
                    <a:pt x="12644" y="9517"/>
                  </a:lnTo>
                  <a:lnTo>
                    <a:pt x="12608" y="9525"/>
                  </a:lnTo>
                  <a:lnTo>
                    <a:pt x="12572" y="9532"/>
                  </a:lnTo>
                  <a:lnTo>
                    <a:pt x="12537" y="9538"/>
                  </a:lnTo>
                  <a:lnTo>
                    <a:pt x="12502" y="9543"/>
                  </a:lnTo>
                  <a:lnTo>
                    <a:pt x="12468" y="9546"/>
                  </a:lnTo>
                  <a:lnTo>
                    <a:pt x="12434" y="9549"/>
                  </a:lnTo>
                  <a:lnTo>
                    <a:pt x="12401" y="9549"/>
                  </a:lnTo>
                  <a:lnTo>
                    <a:pt x="12391" y="9540"/>
                  </a:lnTo>
                  <a:lnTo>
                    <a:pt x="12361" y="9514"/>
                  </a:lnTo>
                  <a:lnTo>
                    <a:pt x="12314" y="9473"/>
                  </a:lnTo>
                  <a:lnTo>
                    <a:pt x="12252" y="9420"/>
                  </a:lnTo>
                  <a:lnTo>
                    <a:pt x="12177" y="9356"/>
                  </a:lnTo>
                  <a:lnTo>
                    <a:pt x="12092" y="9284"/>
                  </a:lnTo>
                  <a:lnTo>
                    <a:pt x="11998" y="9205"/>
                  </a:lnTo>
                  <a:lnTo>
                    <a:pt x="11898" y="9123"/>
                  </a:lnTo>
                  <a:lnTo>
                    <a:pt x="11794" y="9039"/>
                  </a:lnTo>
                  <a:lnTo>
                    <a:pt x="11688" y="8955"/>
                  </a:lnTo>
                  <a:lnTo>
                    <a:pt x="11635" y="8914"/>
                  </a:lnTo>
                  <a:lnTo>
                    <a:pt x="11583" y="8873"/>
                  </a:lnTo>
                  <a:lnTo>
                    <a:pt x="11531" y="8835"/>
                  </a:lnTo>
                  <a:lnTo>
                    <a:pt x="11480" y="8797"/>
                  </a:lnTo>
                  <a:lnTo>
                    <a:pt x="11430" y="8761"/>
                  </a:lnTo>
                  <a:lnTo>
                    <a:pt x="11382" y="8727"/>
                  </a:lnTo>
                  <a:lnTo>
                    <a:pt x="11335" y="8695"/>
                  </a:lnTo>
                  <a:lnTo>
                    <a:pt x="11290" y="8666"/>
                  </a:lnTo>
                  <a:lnTo>
                    <a:pt x="11248" y="8639"/>
                  </a:lnTo>
                  <a:lnTo>
                    <a:pt x="11209" y="8616"/>
                  </a:lnTo>
                  <a:lnTo>
                    <a:pt x="11171" y="8596"/>
                  </a:lnTo>
                  <a:lnTo>
                    <a:pt x="11138" y="8579"/>
                  </a:lnTo>
                  <a:lnTo>
                    <a:pt x="10736" y="8510"/>
                  </a:lnTo>
                  <a:lnTo>
                    <a:pt x="13783" y="1661"/>
                  </a:lnTo>
                  <a:lnTo>
                    <a:pt x="13780" y="1657"/>
                  </a:lnTo>
                  <a:lnTo>
                    <a:pt x="13771" y="1647"/>
                  </a:lnTo>
                  <a:lnTo>
                    <a:pt x="13757" y="1632"/>
                  </a:lnTo>
                  <a:lnTo>
                    <a:pt x="13736" y="1614"/>
                  </a:lnTo>
                  <a:lnTo>
                    <a:pt x="13723" y="1603"/>
                  </a:lnTo>
                  <a:lnTo>
                    <a:pt x="13708" y="1592"/>
                  </a:lnTo>
                  <a:lnTo>
                    <a:pt x="13692" y="1580"/>
                  </a:lnTo>
                  <a:lnTo>
                    <a:pt x="13674" y="1569"/>
                  </a:lnTo>
                  <a:lnTo>
                    <a:pt x="13654" y="1558"/>
                  </a:lnTo>
                  <a:lnTo>
                    <a:pt x="13633" y="1546"/>
                  </a:lnTo>
                  <a:lnTo>
                    <a:pt x="13610" y="1535"/>
                  </a:lnTo>
                  <a:lnTo>
                    <a:pt x="13584" y="1525"/>
                  </a:lnTo>
                  <a:lnTo>
                    <a:pt x="13557" y="1515"/>
                  </a:lnTo>
                  <a:lnTo>
                    <a:pt x="13528" y="1506"/>
                  </a:lnTo>
                  <a:lnTo>
                    <a:pt x="13497" y="1497"/>
                  </a:lnTo>
                  <a:lnTo>
                    <a:pt x="13463" y="1490"/>
                  </a:lnTo>
                  <a:lnTo>
                    <a:pt x="13429" y="1484"/>
                  </a:lnTo>
                  <a:lnTo>
                    <a:pt x="13392" y="1480"/>
                  </a:lnTo>
                  <a:lnTo>
                    <a:pt x="13353" y="1477"/>
                  </a:lnTo>
                  <a:lnTo>
                    <a:pt x="13311" y="1475"/>
                  </a:lnTo>
                  <a:lnTo>
                    <a:pt x="13268" y="1476"/>
                  </a:lnTo>
                  <a:lnTo>
                    <a:pt x="13223" y="1478"/>
                  </a:lnTo>
                  <a:lnTo>
                    <a:pt x="13174" y="1483"/>
                  </a:lnTo>
                  <a:lnTo>
                    <a:pt x="13125" y="1489"/>
                  </a:lnTo>
                  <a:lnTo>
                    <a:pt x="13072" y="1499"/>
                  </a:lnTo>
                  <a:lnTo>
                    <a:pt x="13017" y="1511"/>
                  </a:lnTo>
                  <a:lnTo>
                    <a:pt x="12960" y="1525"/>
                  </a:lnTo>
                  <a:lnTo>
                    <a:pt x="12901" y="1543"/>
                  </a:lnTo>
                  <a:lnTo>
                    <a:pt x="12894" y="1543"/>
                  </a:lnTo>
                  <a:lnTo>
                    <a:pt x="12874" y="1543"/>
                  </a:lnTo>
                  <a:lnTo>
                    <a:pt x="12842" y="1541"/>
                  </a:lnTo>
                  <a:lnTo>
                    <a:pt x="12799" y="1539"/>
                  </a:lnTo>
                  <a:lnTo>
                    <a:pt x="12748" y="1536"/>
                  </a:lnTo>
                  <a:lnTo>
                    <a:pt x="12688" y="1531"/>
                  </a:lnTo>
                  <a:lnTo>
                    <a:pt x="12624" y="1523"/>
                  </a:lnTo>
                  <a:lnTo>
                    <a:pt x="12554" y="1514"/>
                  </a:lnTo>
                  <a:lnTo>
                    <a:pt x="12518" y="1508"/>
                  </a:lnTo>
                  <a:lnTo>
                    <a:pt x="12482" y="1501"/>
                  </a:lnTo>
                  <a:lnTo>
                    <a:pt x="12444" y="1494"/>
                  </a:lnTo>
                  <a:lnTo>
                    <a:pt x="12408" y="1486"/>
                  </a:lnTo>
                  <a:lnTo>
                    <a:pt x="12371" y="1477"/>
                  </a:lnTo>
                  <a:lnTo>
                    <a:pt x="12334" y="1466"/>
                  </a:lnTo>
                  <a:lnTo>
                    <a:pt x="12296" y="1455"/>
                  </a:lnTo>
                  <a:lnTo>
                    <a:pt x="12260" y="1444"/>
                  </a:lnTo>
                  <a:lnTo>
                    <a:pt x="12225" y="1431"/>
                  </a:lnTo>
                  <a:lnTo>
                    <a:pt x="12190" y="1417"/>
                  </a:lnTo>
                  <a:lnTo>
                    <a:pt x="12156" y="1402"/>
                  </a:lnTo>
                  <a:lnTo>
                    <a:pt x="12124" y="1386"/>
                  </a:lnTo>
                  <a:lnTo>
                    <a:pt x="12093" y="1368"/>
                  </a:lnTo>
                  <a:lnTo>
                    <a:pt x="12063" y="1349"/>
                  </a:lnTo>
                  <a:lnTo>
                    <a:pt x="12035" y="1329"/>
                  </a:lnTo>
                  <a:lnTo>
                    <a:pt x="12010" y="1308"/>
                  </a:lnTo>
                  <a:lnTo>
                    <a:pt x="11983" y="1307"/>
                  </a:lnTo>
                  <a:lnTo>
                    <a:pt x="11911" y="1302"/>
                  </a:lnTo>
                  <a:lnTo>
                    <a:pt x="11864" y="1298"/>
                  </a:lnTo>
                  <a:lnTo>
                    <a:pt x="11810" y="1291"/>
                  </a:lnTo>
                  <a:lnTo>
                    <a:pt x="11782" y="1287"/>
                  </a:lnTo>
                  <a:lnTo>
                    <a:pt x="11754" y="1283"/>
                  </a:lnTo>
                  <a:lnTo>
                    <a:pt x="11725" y="1277"/>
                  </a:lnTo>
                  <a:lnTo>
                    <a:pt x="11694" y="1271"/>
                  </a:lnTo>
                  <a:lnTo>
                    <a:pt x="11665" y="1265"/>
                  </a:lnTo>
                  <a:lnTo>
                    <a:pt x="11636" y="1257"/>
                  </a:lnTo>
                  <a:lnTo>
                    <a:pt x="11607" y="1249"/>
                  </a:lnTo>
                  <a:lnTo>
                    <a:pt x="11579" y="1239"/>
                  </a:lnTo>
                  <a:lnTo>
                    <a:pt x="11551" y="1228"/>
                  </a:lnTo>
                  <a:lnTo>
                    <a:pt x="11525" y="1217"/>
                  </a:lnTo>
                  <a:lnTo>
                    <a:pt x="11500" y="1205"/>
                  </a:lnTo>
                  <a:lnTo>
                    <a:pt x="11477" y="1192"/>
                  </a:lnTo>
                  <a:lnTo>
                    <a:pt x="11455" y="1178"/>
                  </a:lnTo>
                  <a:lnTo>
                    <a:pt x="11435" y="1162"/>
                  </a:lnTo>
                  <a:lnTo>
                    <a:pt x="11417" y="1146"/>
                  </a:lnTo>
                  <a:lnTo>
                    <a:pt x="11403" y="1128"/>
                  </a:lnTo>
                  <a:lnTo>
                    <a:pt x="11391" y="1108"/>
                  </a:lnTo>
                  <a:lnTo>
                    <a:pt x="11382" y="1088"/>
                  </a:lnTo>
                  <a:lnTo>
                    <a:pt x="11376" y="1066"/>
                  </a:lnTo>
                  <a:lnTo>
                    <a:pt x="11373" y="1043"/>
                  </a:lnTo>
                  <a:lnTo>
                    <a:pt x="11362" y="1037"/>
                  </a:lnTo>
                  <a:lnTo>
                    <a:pt x="11331" y="1019"/>
                  </a:lnTo>
                  <a:lnTo>
                    <a:pt x="11308" y="1007"/>
                  </a:lnTo>
                  <a:lnTo>
                    <a:pt x="11282" y="994"/>
                  </a:lnTo>
                  <a:lnTo>
                    <a:pt x="11253" y="978"/>
                  </a:lnTo>
                  <a:lnTo>
                    <a:pt x="11220" y="963"/>
                  </a:lnTo>
                  <a:lnTo>
                    <a:pt x="11183" y="948"/>
                  </a:lnTo>
                  <a:lnTo>
                    <a:pt x="11145" y="934"/>
                  </a:lnTo>
                  <a:lnTo>
                    <a:pt x="11105" y="920"/>
                  </a:lnTo>
                  <a:lnTo>
                    <a:pt x="11062" y="907"/>
                  </a:lnTo>
                  <a:lnTo>
                    <a:pt x="11041" y="901"/>
                  </a:lnTo>
                  <a:lnTo>
                    <a:pt x="11019" y="896"/>
                  </a:lnTo>
                  <a:lnTo>
                    <a:pt x="10997" y="891"/>
                  </a:lnTo>
                  <a:lnTo>
                    <a:pt x="10975" y="887"/>
                  </a:lnTo>
                  <a:lnTo>
                    <a:pt x="10952" y="884"/>
                  </a:lnTo>
                  <a:lnTo>
                    <a:pt x="10928" y="881"/>
                  </a:lnTo>
                  <a:lnTo>
                    <a:pt x="10906" y="878"/>
                  </a:lnTo>
                  <a:lnTo>
                    <a:pt x="10883" y="877"/>
                  </a:lnTo>
                  <a:lnTo>
                    <a:pt x="10866" y="866"/>
                  </a:lnTo>
                  <a:lnTo>
                    <a:pt x="10822" y="839"/>
                  </a:lnTo>
                  <a:lnTo>
                    <a:pt x="10790" y="821"/>
                  </a:lnTo>
                  <a:lnTo>
                    <a:pt x="10756" y="803"/>
                  </a:lnTo>
                  <a:lnTo>
                    <a:pt x="10718" y="784"/>
                  </a:lnTo>
                  <a:lnTo>
                    <a:pt x="10677" y="766"/>
                  </a:lnTo>
                  <a:lnTo>
                    <a:pt x="10656" y="757"/>
                  </a:lnTo>
                  <a:lnTo>
                    <a:pt x="10635" y="748"/>
                  </a:lnTo>
                  <a:lnTo>
                    <a:pt x="10614" y="740"/>
                  </a:lnTo>
                  <a:lnTo>
                    <a:pt x="10593" y="733"/>
                  </a:lnTo>
                  <a:lnTo>
                    <a:pt x="10572" y="727"/>
                  </a:lnTo>
                  <a:lnTo>
                    <a:pt x="10551" y="722"/>
                  </a:lnTo>
                  <a:lnTo>
                    <a:pt x="10531" y="718"/>
                  </a:lnTo>
                  <a:lnTo>
                    <a:pt x="10511" y="715"/>
                  </a:lnTo>
                  <a:lnTo>
                    <a:pt x="10492" y="714"/>
                  </a:lnTo>
                  <a:lnTo>
                    <a:pt x="10473" y="714"/>
                  </a:lnTo>
                  <a:lnTo>
                    <a:pt x="10456" y="715"/>
                  </a:lnTo>
                  <a:lnTo>
                    <a:pt x="10438" y="718"/>
                  </a:lnTo>
                  <a:lnTo>
                    <a:pt x="10423" y="723"/>
                  </a:lnTo>
                  <a:lnTo>
                    <a:pt x="10408" y="729"/>
                  </a:lnTo>
                  <a:lnTo>
                    <a:pt x="10395" y="738"/>
                  </a:lnTo>
                  <a:lnTo>
                    <a:pt x="10383" y="749"/>
                  </a:lnTo>
                  <a:lnTo>
                    <a:pt x="10373" y="761"/>
                  </a:lnTo>
                  <a:lnTo>
                    <a:pt x="10364" y="773"/>
                  </a:lnTo>
                  <a:lnTo>
                    <a:pt x="10356" y="786"/>
                  </a:lnTo>
                  <a:lnTo>
                    <a:pt x="10350" y="800"/>
                  </a:lnTo>
                  <a:lnTo>
                    <a:pt x="10344" y="814"/>
                  </a:lnTo>
                  <a:lnTo>
                    <a:pt x="10339" y="829"/>
                  </a:lnTo>
                  <a:lnTo>
                    <a:pt x="10335" y="844"/>
                  </a:lnTo>
                  <a:lnTo>
                    <a:pt x="10332" y="859"/>
                  </a:lnTo>
                  <a:lnTo>
                    <a:pt x="10323" y="921"/>
                  </a:lnTo>
                  <a:lnTo>
                    <a:pt x="10317" y="980"/>
                  </a:lnTo>
                  <a:lnTo>
                    <a:pt x="10313" y="995"/>
                  </a:lnTo>
                  <a:lnTo>
                    <a:pt x="10311" y="1008"/>
                  </a:lnTo>
                  <a:lnTo>
                    <a:pt x="10307" y="1020"/>
                  </a:lnTo>
                  <a:lnTo>
                    <a:pt x="10304" y="1032"/>
                  </a:lnTo>
                  <a:lnTo>
                    <a:pt x="10299" y="1042"/>
                  </a:lnTo>
                  <a:lnTo>
                    <a:pt x="10294" y="1052"/>
                  </a:lnTo>
                  <a:lnTo>
                    <a:pt x="10287" y="1060"/>
                  </a:lnTo>
                  <a:lnTo>
                    <a:pt x="10280" y="1068"/>
                  </a:lnTo>
                  <a:lnTo>
                    <a:pt x="10271" y="1074"/>
                  </a:lnTo>
                  <a:lnTo>
                    <a:pt x="10261" y="1078"/>
                  </a:lnTo>
                  <a:lnTo>
                    <a:pt x="10250" y="1081"/>
                  </a:lnTo>
                  <a:lnTo>
                    <a:pt x="10237" y="1083"/>
                  </a:lnTo>
                  <a:lnTo>
                    <a:pt x="10223" y="1083"/>
                  </a:lnTo>
                  <a:lnTo>
                    <a:pt x="10206" y="1081"/>
                  </a:lnTo>
                  <a:lnTo>
                    <a:pt x="10187" y="1078"/>
                  </a:lnTo>
                  <a:lnTo>
                    <a:pt x="10168" y="1072"/>
                  </a:lnTo>
                  <a:lnTo>
                    <a:pt x="10148" y="1067"/>
                  </a:lnTo>
                  <a:lnTo>
                    <a:pt x="10130" y="1060"/>
                  </a:lnTo>
                  <a:lnTo>
                    <a:pt x="10112" y="1052"/>
                  </a:lnTo>
                  <a:lnTo>
                    <a:pt x="10095" y="1044"/>
                  </a:lnTo>
                  <a:lnTo>
                    <a:pt x="10079" y="1035"/>
                  </a:lnTo>
                  <a:lnTo>
                    <a:pt x="10063" y="1025"/>
                  </a:lnTo>
                  <a:lnTo>
                    <a:pt x="10049" y="1014"/>
                  </a:lnTo>
                  <a:lnTo>
                    <a:pt x="10035" y="1003"/>
                  </a:lnTo>
                  <a:lnTo>
                    <a:pt x="10021" y="990"/>
                  </a:lnTo>
                  <a:lnTo>
                    <a:pt x="10008" y="978"/>
                  </a:lnTo>
                  <a:lnTo>
                    <a:pt x="9995" y="965"/>
                  </a:lnTo>
                  <a:lnTo>
                    <a:pt x="9983" y="952"/>
                  </a:lnTo>
                  <a:lnTo>
                    <a:pt x="9959" y="924"/>
                  </a:lnTo>
                  <a:lnTo>
                    <a:pt x="9934" y="895"/>
                  </a:lnTo>
                  <a:lnTo>
                    <a:pt x="9909" y="864"/>
                  </a:lnTo>
                  <a:lnTo>
                    <a:pt x="9884" y="834"/>
                  </a:lnTo>
                  <a:lnTo>
                    <a:pt x="9857" y="802"/>
                  </a:lnTo>
                  <a:lnTo>
                    <a:pt x="9828" y="771"/>
                  </a:lnTo>
                  <a:lnTo>
                    <a:pt x="9813" y="756"/>
                  </a:lnTo>
                  <a:lnTo>
                    <a:pt x="9795" y="739"/>
                  </a:lnTo>
                  <a:lnTo>
                    <a:pt x="9778" y="724"/>
                  </a:lnTo>
                  <a:lnTo>
                    <a:pt x="9760" y="709"/>
                  </a:lnTo>
                  <a:lnTo>
                    <a:pt x="9742" y="694"/>
                  </a:lnTo>
                  <a:lnTo>
                    <a:pt x="9722" y="680"/>
                  </a:lnTo>
                  <a:lnTo>
                    <a:pt x="9701" y="666"/>
                  </a:lnTo>
                  <a:lnTo>
                    <a:pt x="9678" y="652"/>
                  </a:lnTo>
                  <a:lnTo>
                    <a:pt x="9627" y="622"/>
                  </a:lnTo>
                  <a:lnTo>
                    <a:pt x="9569" y="589"/>
                  </a:lnTo>
                  <a:lnTo>
                    <a:pt x="9502" y="554"/>
                  </a:lnTo>
                  <a:lnTo>
                    <a:pt x="9430" y="518"/>
                  </a:lnTo>
                  <a:lnTo>
                    <a:pt x="9356" y="479"/>
                  </a:lnTo>
                  <a:lnTo>
                    <a:pt x="9279" y="441"/>
                  </a:lnTo>
                  <a:lnTo>
                    <a:pt x="9202" y="403"/>
                  </a:lnTo>
                  <a:lnTo>
                    <a:pt x="9126" y="366"/>
                  </a:lnTo>
                  <a:lnTo>
                    <a:pt x="9052" y="331"/>
                  </a:lnTo>
                  <a:lnTo>
                    <a:pt x="8984" y="298"/>
                  </a:lnTo>
                  <a:lnTo>
                    <a:pt x="8921" y="268"/>
                  </a:lnTo>
                  <a:lnTo>
                    <a:pt x="8867" y="242"/>
                  </a:lnTo>
                  <a:lnTo>
                    <a:pt x="8822" y="221"/>
                  </a:lnTo>
                  <a:lnTo>
                    <a:pt x="8786" y="205"/>
                  </a:lnTo>
                  <a:lnTo>
                    <a:pt x="8765" y="194"/>
                  </a:lnTo>
                  <a:lnTo>
                    <a:pt x="8757" y="191"/>
                  </a:lnTo>
                  <a:lnTo>
                    <a:pt x="8752" y="187"/>
                  </a:lnTo>
                  <a:lnTo>
                    <a:pt x="8735" y="177"/>
                  </a:lnTo>
                  <a:lnTo>
                    <a:pt x="8708" y="161"/>
                  </a:lnTo>
                  <a:lnTo>
                    <a:pt x="8669" y="140"/>
                  </a:lnTo>
                  <a:lnTo>
                    <a:pt x="8646" y="130"/>
                  </a:lnTo>
                  <a:lnTo>
                    <a:pt x="8620" y="118"/>
                  </a:lnTo>
                  <a:lnTo>
                    <a:pt x="8592" y="107"/>
                  </a:lnTo>
                  <a:lnTo>
                    <a:pt x="8560" y="95"/>
                  </a:lnTo>
                  <a:lnTo>
                    <a:pt x="8525" y="83"/>
                  </a:lnTo>
                  <a:lnTo>
                    <a:pt x="8489" y="71"/>
                  </a:lnTo>
                  <a:lnTo>
                    <a:pt x="8450" y="60"/>
                  </a:lnTo>
                  <a:lnTo>
                    <a:pt x="8407" y="49"/>
                  </a:lnTo>
                  <a:lnTo>
                    <a:pt x="8362" y="39"/>
                  </a:lnTo>
                  <a:lnTo>
                    <a:pt x="8315" y="29"/>
                  </a:lnTo>
                  <a:lnTo>
                    <a:pt x="8264" y="20"/>
                  </a:lnTo>
                  <a:lnTo>
                    <a:pt x="8211" y="13"/>
                  </a:lnTo>
                  <a:lnTo>
                    <a:pt x="8155" y="8"/>
                  </a:lnTo>
                  <a:lnTo>
                    <a:pt x="8097" y="4"/>
                  </a:lnTo>
                  <a:lnTo>
                    <a:pt x="8035" y="1"/>
                  </a:lnTo>
                  <a:lnTo>
                    <a:pt x="7972" y="0"/>
                  </a:lnTo>
                  <a:lnTo>
                    <a:pt x="7905" y="2"/>
                  </a:lnTo>
                  <a:lnTo>
                    <a:pt x="7837" y="5"/>
                  </a:lnTo>
                  <a:lnTo>
                    <a:pt x="7764" y="11"/>
                  </a:lnTo>
                  <a:lnTo>
                    <a:pt x="7691" y="20"/>
                  </a:lnTo>
                  <a:lnTo>
                    <a:pt x="7613" y="31"/>
                  </a:lnTo>
                  <a:lnTo>
                    <a:pt x="7533" y="46"/>
                  </a:lnTo>
                  <a:lnTo>
                    <a:pt x="7451" y="63"/>
                  </a:lnTo>
                  <a:lnTo>
                    <a:pt x="7366" y="83"/>
                  </a:lnTo>
                  <a:lnTo>
                    <a:pt x="7283" y="104"/>
                  </a:lnTo>
                  <a:lnTo>
                    <a:pt x="7207" y="122"/>
                  </a:lnTo>
                  <a:lnTo>
                    <a:pt x="7136" y="139"/>
                  </a:lnTo>
                  <a:lnTo>
                    <a:pt x="7071" y="153"/>
                  </a:lnTo>
                  <a:lnTo>
                    <a:pt x="7010" y="166"/>
                  </a:lnTo>
                  <a:lnTo>
                    <a:pt x="6955" y="177"/>
                  </a:lnTo>
                  <a:lnTo>
                    <a:pt x="6903" y="186"/>
                  </a:lnTo>
                  <a:lnTo>
                    <a:pt x="6856" y="193"/>
                  </a:lnTo>
                  <a:lnTo>
                    <a:pt x="6813" y="199"/>
                  </a:lnTo>
                  <a:lnTo>
                    <a:pt x="6773" y="204"/>
                  </a:lnTo>
                  <a:lnTo>
                    <a:pt x="6737" y="207"/>
                  </a:lnTo>
                  <a:lnTo>
                    <a:pt x="6704" y="209"/>
                  </a:lnTo>
                  <a:lnTo>
                    <a:pt x="6674" y="210"/>
                  </a:lnTo>
                  <a:lnTo>
                    <a:pt x="6646" y="210"/>
                  </a:lnTo>
                  <a:lnTo>
                    <a:pt x="6620" y="209"/>
                  </a:lnTo>
                  <a:lnTo>
                    <a:pt x="6597" y="208"/>
                  </a:lnTo>
                  <a:lnTo>
                    <a:pt x="6576" y="206"/>
                  </a:lnTo>
                  <a:lnTo>
                    <a:pt x="6556" y="203"/>
                  </a:lnTo>
                  <a:lnTo>
                    <a:pt x="6537" y="200"/>
                  </a:lnTo>
                  <a:lnTo>
                    <a:pt x="6518" y="197"/>
                  </a:lnTo>
                  <a:lnTo>
                    <a:pt x="6483" y="190"/>
                  </a:lnTo>
                  <a:lnTo>
                    <a:pt x="6449" y="182"/>
                  </a:lnTo>
                  <a:lnTo>
                    <a:pt x="6431" y="179"/>
                  </a:lnTo>
                  <a:lnTo>
                    <a:pt x="6413" y="176"/>
                  </a:lnTo>
                  <a:lnTo>
                    <a:pt x="6392" y="174"/>
                  </a:lnTo>
                  <a:lnTo>
                    <a:pt x="6371" y="172"/>
                  </a:lnTo>
                  <a:lnTo>
                    <a:pt x="6349" y="170"/>
                  </a:lnTo>
                  <a:lnTo>
                    <a:pt x="6325" y="170"/>
                  </a:lnTo>
                  <a:lnTo>
                    <a:pt x="6298" y="170"/>
                  </a:lnTo>
                  <a:lnTo>
                    <a:pt x="6269" y="171"/>
                  </a:lnTo>
                  <a:lnTo>
                    <a:pt x="6208" y="176"/>
                  </a:lnTo>
                  <a:lnTo>
                    <a:pt x="6144" y="182"/>
                  </a:lnTo>
                  <a:lnTo>
                    <a:pt x="6080" y="191"/>
                  </a:lnTo>
                  <a:lnTo>
                    <a:pt x="6015" y="201"/>
                  </a:lnTo>
                  <a:lnTo>
                    <a:pt x="5983" y="207"/>
                  </a:lnTo>
                  <a:lnTo>
                    <a:pt x="5951" y="213"/>
                  </a:lnTo>
                  <a:lnTo>
                    <a:pt x="5919" y="220"/>
                  </a:lnTo>
                  <a:lnTo>
                    <a:pt x="5886" y="228"/>
                  </a:lnTo>
                  <a:lnTo>
                    <a:pt x="5854" y="236"/>
                  </a:lnTo>
                  <a:lnTo>
                    <a:pt x="5823" y="244"/>
                  </a:lnTo>
                  <a:lnTo>
                    <a:pt x="5792" y="253"/>
                  </a:lnTo>
                  <a:lnTo>
                    <a:pt x="5761" y="263"/>
                  </a:lnTo>
                  <a:lnTo>
                    <a:pt x="5731" y="273"/>
                  </a:lnTo>
                  <a:lnTo>
                    <a:pt x="5701" y="284"/>
                  </a:lnTo>
                  <a:lnTo>
                    <a:pt x="5672" y="295"/>
                  </a:lnTo>
                  <a:lnTo>
                    <a:pt x="5643" y="307"/>
                  </a:lnTo>
                  <a:lnTo>
                    <a:pt x="5615" y="319"/>
                  </a:lnTo>
                  <a:lnTo>
                    <a:pt x="5589" y="332"/>
                  </a:lnTo>
                  <a:lnTo>
                    <a:pt x="5563" y="346"/>
                  </a:lnTo>
                  <a:lnTo>
                    <a:pt x="5538" y="360"/>
                  </a:lnTo>
                  <a:lnTo>
                    <a:pt x="5513" y="374"/>
                  </a:lnTo>
                  <a:lnTo>
                    <a:pt x="5490" y="389"/>
                  </a:lnTo>
                  <a:lnTo>
                    <a:pt x="5468" y="406"/>
                  </a:lnTo>
                  <a:lnTo>
                    <a:pt x="5448" y="423"/>
                  </a:lnTo>
                  <a:lnTo>
                    <a:pt x="5428" y="440"/>
                  </a:lnTo>
                  <a:lnTo>
                    <a:pt x="5410" y="457"/>
                  </a:lnTo>
                  <a:lnTo>
                    <a:pt x="5393" y="475"/>
                  </a:lnTo>
                  <a:lnTo>
                    <a:pt x="5377" y="494"/>
                  </a:lnTo>
                  <a:lnTo>
                    <a:pt x="5360" y="515"/>
                  </a:lnTo>
                  <a:lnTo>
                    <a:pt x="5339" y="539"/>
                  </a:lnTo>
                  <a:lnTo>
                    <a:pt x="5313" y="565"/>
                  </a:lnTo>
                  <a:lnTo>
                    <a:pt x="5283" y="595"/>
                  </a:lnTo>
                  <a:lnTo>
                    <a:pt x="5248" y="627"/>
                  </a:lnTo>
                  <a:lnTo>
                    <a:pt x="5211" y="662"/>
                  </a:lnTo>
                  <a:lnTo>
                    <a:pt x="5170" y="699"/>
                  </a:lnTo>
                  <a:lnTo>
                    <a:pt x="5125" y="737"/>
                  </a:lnTo>
                  <a:lnTo>
                    <a:pt x="5078" y="778"/>
                  </a:lnTo>
                  <a:lnTo>
                    <a:pt x="5028" y="819"/>
                  </a:lnTo>
                  <a:lnTo>
                    <a:pt x="4975" y="861"/>
                  </a:lnTo>
                  <a:lnTo>
                    <a:pt x="4921" y="905"/>
                  </a:lnTo>
                  <a:lnTo>
                    <a:pt x="4864" y="948"/>
                  </a:lnTo>
                  <a:lnTo>
                    <a:pt x="4806" y="991"/>
                  </a:lnTo>
                  <a:lnTo>
                    <a:pt x="4746" y="1036"/>
                  </a:lnTo>
                  <a:lnTo>
                    <a:pt x="4686" y="1079"/>
                  </a:lnTo>
                  <a:lnTo>
                    <a:pt x="4624" y="1122"/>
                  </a:lnTo>
                  <a:lnTo>
                    <a:pt x="4562" y="1163"/>
                  </a:lnTo>
                  <a:lnTo>
                    <a:pt x="4498" y="1203"/>
                  </a:lnTo>
                  <a:lnTo>
                    <a:pt x="4436" y="1243"/>
                  </a:lnTo>
                  <a:lnTo>
                    <a:pt x="4372" y="1280"/>
                  </a:lnTo>
                  <a:lnTo>
                    <a:pt x="4310" y="1315"/>
                  </a:lnTo>
                  <a:lnTo>
                    <a:pt x="4247" y="1347"/>
                  </a:lnTo>
                  <a:lnTo>
                    <a:pt x="4186" y="1378"/>
                  </a:lnTo>
                  <a:lnTo>
                    <a:pt x="4125" y="1405"/>
                  </a:lnTo>
                  <a:lnTo>
                    <a:pt x="4067" y="1429"/>
                  </a:lnTo>
                  <a:lnTo>
                    <a:pt x="4008" y="1450"/>
                  </a:lnTo>
                  <a:lnTo>
                    <a:pt x="3953" y="1467"/>
                  </a:lnTo>
                  <a:lnTo>
                    <a:pt x="3899" y="1481"/>
                  </a:lnTo>
                  <a:lnTo>
                    <a:pt x="3847" y="1490"/>
                  </a:lnTo>
                  <a:lnTo>
                    <a:pt x="3798" y="1495"/>
                  </a:lnTo>
                  <a:lnTo>
                    <a:pt x="3751" y="1494"/>
                  </a:lnTo>
                  <a:lnTo>
                    <a:pt x="3706" y="1491"/>
                  </a:lnTo>
                  <a:lnTo>
                    <a:pt x="3660" y="1488"/>
                  </a:lnTo>
                  <a:lnTo>
                    <a:pt x="3612" y="1487"/>
                  </a:lnTo>
                  <a:lnTo>
                    <a:pt x="3564" y="1485"/>
                  </a:lnTo>
                  <a:lnTo>
                    <a:pt x="3516" y="1485"/>
                  </a:lnTo>
                  <a:lnTo>
                    <a:pt x="3467" y="1486"/>
                  </a:lnTo>
                  <a:lnTo>
                    <a:pt x="3418" y="1487"/>
                  </a:lnTo>
                  <a:lnTo>
                    <a:pt x="3368" y="1489"/>
                  </a:lnTo>
                  <a:lnTo>
                    <a:pt x="3319" y="1491"/>
                  </a:lnTo>
                  <a:lnTo>
                    <a:pt x="3270" y="1495"/>
                  </a:lnTo>
                  <a:lnTo>
                    <a:pt x="3220" y="1500"/>
                  </a:lnTo>
                  <a:lnTo>
                    <a:pt x="3171" y="1505"/>
                  </a:lnTo>
                  <a:lnTo>
                    <a:pt x="3123" y="1511"/>
                  </a:lnTo>
                  <a:lnTo>
                    <a:pt x="3075" y="1518"/>
                  </a:lnTo>
                  <a:lnTo>
                    <a:pt x="3029" y="1527"/>
                  </a:lnTo>
                  <a:lnTo>
                    <a:pt x="2982" y="1536"/>
                  </a:lnTo>
                  <a:lnTo>
                    <a:pt x="2938" y="1546"/>
                  </a:lnTo>
                  <a:lnTo>
                    <a:pt x="2894" y="1557"/>
                  </a:lnTo>
                  <a:lnTo>
                    <a:pt x="2851" y="1569"/>
                  </a:lnTo>
                  <a:lnTo>
                    <a:pt x="2811" y="1582"/>
                  </a:lnTo>
                  <a:lnTo>
                    <a:pt x="2771" y="1597"/>
                  </a:lnTo>
                  <a:lnTo>
                    <a:pt x="2733" y="1612"/>
                  </a:lnTo>
                  <a:lnTo>
                    <a:pt x="2697" y="1628"/>
                  </a:lnTo>
                  <a:lnTo>
                    <a:pt x="2664" y="1646"/>
                  </a:lnTo>
                  <a:lnTo>
                    <a:pt x="2632" y="1664"/>
                  </a:lnTo>
                  <a:lnTo>
                    <a:pt x="2601" y="1684"/>
                  </a:lnTo>
                  <a:lnTo>
                    <a:pt x="2574" y="1705"/>
                  </a:lnTo>
                  <a:lnTo>
                    <a:pt x="2550" y="1727"/>
                  </a:lnTo>
                  <a:lnTo>
                    <a:pt x="2528" y="1750"/>
                  </a:lnTo>
                  <a:lnTo>
                    <a:pt x="2509" y="1775"/>
                  </a:lnTo>
                  <a:lnTo>
                    <a:pt x="2491" y="1800"/>
                  </a:lnTo>
                  <a:lnTo>
                    <a:pt x="2478" y="1827"/>
                  </a:lnTo>
                  <a:lnTo>
                    <a:pt x="2467" y="1854"/>
                  </a:lnTo>
                  <a:lnTo>
                    <a:pt x="2458" y="1878"/>
                  </a:lnTo>
                  <a:lnTo>
                    <a:pt x="2451" y="1902"/>
                  </a:lnTo>
                  <a:lnTo>
                    <a:pt x="2446" y="1924"/>
                  </a:lnTo>
                  <a:lnTo>
                    <a:pt x="2443" y="1946"/>
                  </a:lnTo>
                  <a:lnTo>
                    <a:pt x="2441" y="1968"/>
                  </a:lnTo>
                  <a:lnTo>
                    <a:pt x="2441" y="1988"/>
                  </a:lnTo>
                  <a:lnTo>
                    <a:pt x="2443" y="2008"/>
                  </a:lnTo>
                  <a:lnTo>
                    <a:pt x="2447" y="2027"/>
                  </a:lnTo>
                  <a:lnTo>
                    <a:pt x="2452" y="2046"/>
                  </a:lnTo>
                  <a:lnTo>
                    <a:pt x="2459" y="2065"/>
                  </a:lnTo>
                  <a:lnTo>
                    <a:pt x="2468" y="2084"/>
                  </a:lnTo>
                  <a:lnTo>
                    <a:pt x="2478" y="2102"/>
                  </a:lnTo>
                  <a:lnTo>
                    <a:pt x="2489" y="2120"/>
                  </a:lnTo>
                  <a:lnTo>
                    <a:pt x="2502" y="2138"/>
                  </a:lnTo>
                  <a:lnTo>
                    <a:pt x="2518" y="2157"/>
                  </a:lnTo>
                  <a:lnTo>
                    <a:pt x="2533" y="2175"/>
                  </a:lnTo>
                  <a:lnTo>
                    <a:pt x="2550" y="2195"/>
                  </a:lnTo>
                  <a:lnTo>
                    <a:pt x="2569" y="2215"/>
                  </a:lnTo>
                  <a:lnTo>
                    <a:pt x="2588" y="2234"/>
                  </a:lnTo>
                  <a:lnTo>
                    <a:pt x="2632" y="2276"/>
                  </a:lnTo>
                  <a:lnTo>
                    <a:pt x="2679" y="2322"/>
                  </a:lnTo>
                  <a:lnTo>
                    <a:pt x="2731" y="2372"/>
                  </a:lnTo>
                  <a:lnTo>
                    <a:pt x="2787" y="2426"/>
                  </a:lnTo>
                  <a:lnTo>
                    <a:pt x="2846" y="2486"/>
                  </a:lnTo>
                  <a:lnTo>
                    <a:pt x="2909" y="2553"/>
                  </a:lnTo>
                  <a:lnTo>
                    <a:pt x="2976" y="2626"/>
                  </a:lnTo>
                  <a:lnTo>
                    <a:pt x="3050" y="2709"/>
                  </a:lnTo>
                  <a:lnTo>
                    <a:pt x="3089" y="2753"/>
                  </a:lnTo>
                  <a:lnTo>
                    <a:pt x="3128" y="2800"/>
                  </a:lnTo>
                  <a:lnTo>
                    <a:pt x="3169" y="2848"/>
                  </a:lnTo>
                  <a:lnTo>
                    <a:pt x="3210" y="2897"/>
                  </a:lnTo>
                  <a:lnTo>
                    <a:pt x="3250" y="2948"/>
                  </a:lnTo>
                  <a:lnTo>
                    <a:pt x="3291" y="2999"/>
                  </a:lnTo>
                  <a:lnTo>
                    <a:pt x="3330" y="3052"/>
                  </a:lnTo>
                  <a:lnTo>
                    <a:pt x="3368" y="3104"/>
                  </a:lnTo>
                  <a:lnTo>
                    <a:pt x="3406" y="3158"/>
                  </a:lnTo>
                  <a:lnTo>
                    <a:pt x="3441" y="3211"/>
                  </a:lnTo>
                  <a:lnTo>
                    <a:pt x="3475" y="3264"/>
                  </a:lnTo>
                  <a:lnTo>
                    <a:pt x="3506" y="3318"/>
                  </a:lnTo>
                  <a:lnTo>
                    <a:pt x="3536" y="3370"/>
                  </a:lnTo>
                  <a:lnTo>
                    <a:pt x="3562" y="3423"/>
                  </a:lnTo>
                  <a:lnTo>
                    <a:pt x="3585" y="3474"/>
                  </a:lnTo>
                  <a:lnTo>
                    <a:pt x="3604" y="3525"/>
                  </a:lnTo>
                  <a:lnTo>
                    <a:pt x="3620" y="3574"/>
                  </a:lnTo>
                  <a:lnTo>
                    <a:pt x="3631" y="3621"/>
                  </a:lnTo>
                  <a:lnTo>
                    <a:pt x="3640" y="3667"/>
                  </a:lnTo>
                  <a:lnTo>
                    <a:pt x="3642" y="3711"/>
                  </a:lnTo>
                  <a:lnTo>
                    <a:pt x="3640" y="3754"/>
                  </a:lnTo>
                  <a:lnTo>
                    <a:pt x="3632" y="3793"/>
                  </a:lnTo>
                  <a:lnTo>
                    <a:pt x="3618" y="3830"/>
                  </a:lnTo>
                  <a:lnTo>
                    <a:pt x="3599" y="3866"/>
                  </a:lnTo>
                  <a:lnTo>
                    <a:pt x="3574" y="3897"/>
                  </a:lnTo>
                  <a:lnTo>
                    <a:pt x="3543" y="3926"/>
                  </a:lnTo>
                  <a:lnTo>
                    <a:pt x="3503" y="3951"/>
                  </a:lnTo>
                  <a:lnTo>
                    <a:pt x="3458" y="3973"/>
                  </a:lnTo>
                  <a:lnTo>
                    <a:pt x="3409" y="3992"/>
                  </a:lnTo>
                  <a:lnTo>
                    <a:pt x="3362" y="4007"/>
                  </a:lnTo>
                  <a:lnTo>
                    <a:pt x="3319" y="4019"/>
                  </a:lnTo>
                  <a:lnTo>
                    <a:pt x="3279" y="4028"/>
                  </a:lnTo>
                  <a:lnTo>
                    <a:pt x="3240" y="4034"/>
                  </a:lnTo>
                  <a:lnTo>
                    <a:pt x="3205" y="4037"/>
                  </a:lnTo>
                  <a:lnTo>
                    <a:pt x="3172" y="4037"/>
                  </a:lnTo>
                  <a:lnTo>
                    <a:pt x="3141" y="4035"/>
                  </a:lnTo>
                  <a:lnTo>
                    <a:pt x="3111" y="4031"/>
                  </a:lnTo>
                  <a:lnTo>
                    <a:pt x="3084" y="4025"/>
                  </a:lnTo>
                  <a:lnTo>
                    <a:pt x="3058" y="4017"/>
                  </a:lnTo>
                  <a:lnTo>
                    <a:pt x="3034" y="4007"/>
                  </a:lnTo>
                  <a:lnTo>
                    <a:pt x="3011" y="3996"/>
                  </a:lnTo>
                  <a:lnTo>
                    <a:pt x="2988" y="3983"/>
                  </a:lnTo>
                  <a:lnTo>
                    <a:pt x="2968" y="3969"/>
                  </a:lnTo>
                  <a:lnTo>
                    <a:pt x="2948" y="3954"/>
                  </a:lnTo>
                  <a:lnTo>
                    <a:pt x="2929" y="3938"/>
                  </a:lnTo>
                  <a:lnTo>
                    <a:pt x="2911" y="3921"/>
                  </a:lnTo>
                  <a:lnTo>
                    <a:pt x="2894" y="3904"/>
                  </a:lnTo>
                  <a:lnTo>
                    <a:pt x="2876" y="3886"/>
                  </a:lnTo>
                  <a:lnTo>
                    <a:pt x="2842" y="3849"/>
                  </a:lnTo>
                  <a:lnTo>
                    <a:pt x="2808" y="3813"/>
                  </a:lnTo>
                  <a:lnTo>
                    <a:pt x="2790" y="3796"/>
                  </a:lnTo>
                  <a:lnTo>
                    <a:pt x="2772" y="3779"/>
                  </a:lnTo>
                  <a:lnTo>
                    <a:pt x="2752" y="3763"/>
                  </a:lnTo>
                  <a:lnTo>
                    <a:pt x="2733" y="3748"/>
                  </a:lnTo>
                  <a:lnTo>
                    <a:pt x="2713" y="3733"/>
                  </a:lnTo>
                  <a:lnTo>
                    <a:pt x="2691" y="3720"/>
                  </a:lnTo>
                  <a:lnTo>
                    <a:pt x="2669" y="3709"/>
                  </a:lnTo>
                  <a:lnTo>
                    <a:pt x="2645" y="3699"/>
                  </a:lnTo>
                  <a:lnTo>
                    <a:pt x="2618" y="3689"/>
                  </a:lnTo>
                  <a:lnTo>
                    <a:pt x="2590" y="3681"/>
                  </a:lnTo>
                  <a:lnTo>
                    <a:pt x="2559" y="3674"/>
                  </a:lnTo>
                  <a:lnTo>
                    <a:pt x="2526" y="3667"/>
                  </a:lnTo>
                  <a:lnTo>
                    <a:pt x="2490" y="3662"/>
                  </a:lnTo>
                  <a:lnTo>
                    <a:pt x="2453" y="3657"/>
                  </a:lnTo>
                  <a:lnTo>
                    <a:pt x="2414" y="3654"/>
                  </a:lnTo>
                  <a:lnTo>
                    <a:pt x="2373" y="3652"/>
                  </a:lnTo>
                  <a:lnTo>
                    <a:pt x="2331" y="3651"/>
                  </a:lnTo>
                  <a:lnTo>
                    <a:pt x="2287" y="3651"/>
                  </a:lnTo>
                  <a:lnTo>
                    <a:pt x="2242" y="3652"/>
                  </a:lnTo>
                  <a:lnTo>
                    <a:pt x="2196" y="3654"/>
                  </a:lnTo>
                  <a:lnTo>
                    <a:pt x="2149" y="3657"/>
                  </a:lnTo>
                  <a:lnTo>
                    <a:pt x="2100" y="3662"/>
                  </a:lnTo>
                  <a:lnTo>
                    <a:pt x="2051" y="3667"/>
                  </a:lnTo>
                  <a:lnTo>
                    <a:pt x="2002" y="3673"/>
                  </a:lnTo>
                  <a:lnTo>
                    <a:pt x="1952" y="3681"/>
                  </a:lnTo>
                  <a:lnTo>
                    <a:pt x="1902" y="3690"/>
                  </a:lnTo>
                  <a:lnTo>
                    <a:pt x="1850" y="3700"/>
                  </a:lnTo>
                  <a:lnTo>
                    <a:pt x="1800" y="3711"/>
                  </a:lnTo>
                  <a:lnTo>
                    <a:pt x="1750" y="3723"/>
                  </a:lnTo>
                  <a:lnTo>
                    <a:pt x="1699" y="3736"/>
                  </a:lnTo>
                  <a:lnTo>
                    <a:pt x="1649" y="3751"/>
                  </a:lnTo>
                  <a:lnTo>
                    <a:pt x="1599" y="3767"/>
                  </a:lnTo>
                  <a:lnTo>
                    <a:pt x="1550" y="3784"/>
                  </a:lnTo>
                  <a:lnTo>
                    <a:pt x="1502" y="3801"/>
                  </a:lnTo>
                  <a:lnTo>
                    <a:pt x="1454" y="3820"/>
                  </a:lnTo>
                  <a:lnTo>
                    <a:pt x="1408" y="3841"/>
                  </a:lnTo>
                  <a:lnTo>
                    <a:pt x="1362" y="3862"/>
                  </a:lnTo>
                  <a:lnTo>
                    <a:pt x="1318" y="3885"/>
                  </a:lnTo>
                  <a:lnTo>
                    <a:pt x="1275" y="3909"/>
                  </a:lnTo>
                  <a:lnTo>
                    <a:pt x="1234" y="3934"/>
                  </a:lnTo>
                  <a:lnTo>
                    <a:pt x="1153" y="3983"/>
                  </a:lnTo>
                  <a:lnTo>
                    <a:pt x="1074" y="4032"/>
                  </a:lnTo>
                  <a:lnTo>
                    <a:pt x="1037" y="4056"/>
                  </a:lnTo>
                  <a:lnTo>
                    <a:pt x="1000" y="4080"/>
                  </a:lnTo>
                  <a:lnTo>
                    <a:pt x="964" y="4105"/>
                  </a:lnTo>
                  <a:lnTo>
                    <a:pt x="931" y="4129"/>
                  </a:lnTo>
                  <a:lnTo>
                    <a:pt x="899" y="4153"/>
                  </a:lnTo>
                  <a:lnTo>
                    <a:pt x="869" y="4176"/>
                  </a:lnTo>
                  <a:lnTo>
                    <a:pt x="839" y="4200"/>
                  </a:lnTo>
                  <a:lnTo>
                    <a:pt x="812" y="4225"/>
                  </a:lnTo>
                  <a:lnTo>
                    <a:pt x="788" y="4248"/>
                  </a:lnTo>
                  <a:lnTo>
                    <a:pt x="765" y="4272"/>
                  </a:lnTo>
                  <a:lnTo>
                    <a:pt x="745" y="4296"/>
                  </a:lnTo>
                  <a:lnTo>
                    <a:pt x="727" y="4320"/>
                  </a:lnTo>
                  <a:lnTo>
                    <a:pt x="712" y="4345"/>
                  </a:lnTo>
                  <a:lnTo>
                    <a:pt x="699" y="4369"/>
                  </a:lnTo>
                  <a:lnTo>
                    <a:pt x="690" y="4393"/>
                  </a:lnTo>
                  <a:lnTo>
                    <a:pt x="683" y="4417"/>
                  </a:lnTo>
                  <a:lnTo>
                    <a:pt x="679" y="4442"/>
                  </a:lnTo>
                  <a:lnTo>
                    <a:pt x="679" y="4467"/>
                  </a:lnTo>
                  <a:lnTo>
                    <a:pt x="682" y="4492"/>
                  </a:lnTo>
                  <a:lnTo>
                    <a:pt x="688" y="4517"/>
                  </a:lnTo>
                  <a:lnTo>
                    <a:pt x="698" y="4542"/>
                  </a:lnTo>
                  <a:lnTo>
                    <a:pt x="712" y="4568"/>
                  </a:lnTo>
                  <a:lnTo>
                    <a:pt x="730" y="4595"/>
                  </a:lnTo>
                  <a:lnTo>
                    <a:pt x="752" y="4621"/>
                  </a:lnTo>
                  <a:lnTo>
                    <a:pt x="778" y="4647"/>
                  </a:lnTo>
                  <a:lnTo>
                    <a:pt x="808" y="4673"/>
                  </a:lnTo>
                  <a:lnTo>
                    <a:pt x="842" y="4700"/>
                  </a:lnTo>
                  <a:lnTo>
                    <a:pt x="882" y="4728"/>
                  </a:lnTo>
                  <a:lnTo>
                    <a:pt x="922" y="4755"/>
                  </a:lnTo>
                  <a:lnTo>
                    <a:pt x="964" y="4782"/>
                  </a:lnTo>
                  <a:lnTo>
                    <a:pt x="1007" y="4809"/>
                  </a:lnTo>
                  <a:lnTo>
                    <a:pt x="1049" y="4836"/>
                  </a:lnTo>
                  <a:lnTo>
                    <a:pt x="1093" y="4862"/>
                  </a:lnTo>
                  <a:lnTo>
                    <a:pt x="1138" y="4887"/>
                  </a:lnTo>
                  <a:lnTo>
                    <a:pt x="1184" y="4912"/>
                  </a:lnTo>
                  <a:lnTo>
                    <a:pt x="1230" y="4935"/>
                  </a:lnTo>
                  <a:lnTo>
                    <a:pt x="1277" y="4960"/>
                  </a:lnTo>
                  <a:lnTo>
                    <a:pt x="1325" y="4982"/>
                  </a:lnTo>
                  <a:lnTo>
                    <a:pt x="1374" y="5004"/>
                  </a:lnTo>
                  <a:lnTo>
                    <a:pt x="1423" y="5024"/>
                  </a:lnTo>
                  <a:lnTo>
                    <a:pt x="1472" y="5044"/>
                  </a:lnTo>
                  <a:lnTo>
                    <a:pt x="1524" y="5064"/>
                  </a:lnTo>
                  <a:lnTo>
                    <a:pt x="1575" y="5082"/>
                  </a:lnTo>
                  <a:lnTo>
                    <a:pt x="1628" y="5098"/>
                  </a:lnTo>
                  <a:lnTo>
                    <a:pt x="1680" y="5113"/>
                  </a:lnTo>
                  <a:lnTo>
                    <a:pt x="1733" y="5128"/>
                  </a:lnTo>
                  <a:lnTo>
                    <a:pt x="1788" y="5140"/>
                  </a:lnTo>
                  <a:lnTo>
                    <a:pt x="1843" y="5152"/>
                  </a:lnTo>
                  <a:lnTo>
                    <a:pt x="1899" y="5162"/>
                  </a:lnTo>
                  <a:lnTo>
                    <a:pt x="1955" y="5170"/>
                  </a:lnTo>
                  <a:lnTo>
                    <a:pt x="2013" y="5177"/>
                  </a:lnTo>
                  <a:lnTo>
                    <a:pt x="2070" y="5183"/>
                  </a:lnTo>
                  <a:lnTo>
                    <a:pt x="2129" y="5187"/>
                  </a:lnTo>
                  <a:lnTo>
                    <a:pt x="2188" y="5189"/>
                  </a:lnTo>
                  <a:lnTo>
                    <a:pt x="2247" y="5189"/>
                  </a:lnTo>
                  <a:lnTo>
                    <a:pt x="2308" y="5187"/>
                  </a:lnTo>
                  <a:lnTo>
                    <a:pt x="2369" y="5183"/>
                  </a:lnTo>
                  <a:lnTo>
                    <a:pt x="2431" y="5176"/>
                  </a:lnTo>
                  <a:lnTo>
                    <a:pt x="2493" y="5169"/>
                  </a:lnTo>
                  <a:lnTo>
                    <a:pt x="2557" y="5159"/>
                  </a:lnTo>
                  <a:lnTo>
                    <a:pt x="2567" y="5156"/>
                  </a:lnTo>
                  <a:lnTo>
                    <a:pt x="2596" y="5147"/>
                  </a:lnTo>
                  <a:lnTo>
                    <a:pt x="2643" y="5135"/>
                  </a:lnTo>
                  <a:lnTo>
                    <a:pt x="2703" y="5119"/>
                  </a:lnTo>
                  <a:lnTo>
                    <a:pt x="2774" y="5101"/>
                  </a:lnTo>
                  <a:lnTo>
                    <a:pt x="2853" y="5082"/>
                  </a:lnTo>
                  <a:lnTo>
                    <a:pt x="2939" y="5063"/>
                  </a:lnTo>
                  <a:lnTo>
                    <a:pt x="3028" y="5044"/>
                  </a:lnTo>
                  <a:lnTo>
                    <a:pt x="3073" y="5035"/>
                  </a:lnTo>
                  <a:lnTo>
                    <a:pt x="3117" y="5028"/>
                  </a:lnTo>
                  <a:lnTo>
                    <a:pt x="3162" y="5021"/>
                  </a:lnTo>
                  <a:lnTo>
                    <a:pt x="3205" y="5015"/>
                  </a:lnTo>
                  <a:lnTo>
                    <a:pt x="3246" y="5010"/>
                  </a:lnTo>
                  <a:lnTo>
                    <a:pt x="3287" y="5006"/>
                  </a:lnTo>
                  <a:lnTo>
                    <a:pt x="3326" y="5003"/>
                  </a:lnTo>
                  <a:lnTo>
                    <a:pt x="3362" y="5002"/>
                  </a:lnTo>
                  <a:lnTo>
                    <a:pt x="3397" y="5003"/>
                  </a:lnTo>
                  <a:lnTo>
                    <a:pt x="3428" y="5005"/>
                  </a:lnTo>
                  <a:lnTo>
                    <a:pt x="3455" y="5009"/>
                  </a:lnTo>
                  <a:lnTo>
                    <a:pt x="3480" y="5015"/>
                  </a:lnTo>
                  <a:lnTo>
                    <a:pt x="3500" y="5023"/>
                  </a:lnTo>
                  <a:lnTo>
                    <a:pt x="3517" y="5033"/>
                  </a:lnTo>
                  <a:lnTo>
                    <a:pt x="3529" y="5046"/>
                  </a:lnTo>
                  <a:lnTo>
                    <a:pt x="3536" y="5062"/>
                  </a:lnTo>
                  <a:lnTo>
                    <a:pt x="3540" y="5077"/>
                  </a:lnTo>
                  <a:lnTo>
                    <a:pt x="3541" y="5092"/>
                  </a:lnTo>
                  <a:lnTo>
                    <a:pt x="3540" y="5106"/>
                  </a:lnTo>
                  <a:lnTo>
                    <a:pt x="3537" y="5118"/>
                  </a:lnTo>
                  <a:lnTo>
                    <a:pt x="3532" y="5130"/>
                  </a:lnTo>
                  <a:lnTo>
                    <a:pt x="3526" y="5141"/>
                  </a:lnTo>
                  <a:lnTo>
                    <a:pt x="3518" y="5151"/>
                  </a:lnTo>
                  <a:lnTo>
                    <a:pt x="3508" y="5161"/>
                  </a:lnTo>
                  <a:lnTo>
                    <a:pt x="3498" y="5170"/>
                  </a:lnTo>
                  <a:lnTo>
                    <a:pt x="3486" y="5178"/>
                  </a:lnTo>
                  <a:lnTo>
                    <a:pt x="3474" y="5187"/>
                  </a:lnTo>
                  <a:lnTo>
                    <a:pt x="3461" y="5195"/>
                  </a:lnTo>
                  <a:lnTo>
                    <a:pt x="3433" y="5209"/>
                  </a:lnTo>
                  <a:lnTo>
                    <a:pt x="3404" y="5223"/>
                  </a:lnTo>
                  <a:lnTo>
                    <a:pt x="3374" y="5237"/>
                  </a:lnTo>
                  <a:lnTo>
                    <a:pt x="3346" y="5251"/>
                  </a:lnTo>
                  <a:lnTo>
                    <a:pt x="3333" y="5259"/>
                  </a:lnTo>
                  <a:lnTo>
                    <a:pt x="3321" y="5267"/>
                  </a:lnTo>
                  <a:lnTo>
                    <a:pt x="3310" y="5275"/>
                  </a:lnTo>
                  <a:lnTo>
                    <a:pt x="3299" y="5284"/>
                  </a:lnTo>
                  <a:lnTo>
                    <a:pt x="3290" y="5294"/>
                  </a:lnTo>
                  <a:lnTo>
                    <a:pt x="3282" y="5305"/>
                  </a:lnTo>
                  <a:lnTo>
                    <a:pt x="3276" y="5316"/>
                  </a:lnTo>
                  <a:lnTo>
                    <a:pt x="3271" y="5328"/>
                  </a:lnTo>
                  <a:lnTo>
                    <a:pt x="3268" y="5340"/>
                  </a:lnTo>
                  <a:lnTo>
                    <a:pt x="3267" y="5354"/>
                  </a:lnTo>
                  <a:lnTo>
                    <a:pt x="3269" y="5369"/>
                  </a:lnTo>
                  <a:lnTo>
                    <a:pt x="3272" y="5384"/>
                  </a:lnTo>
                  <a:lnTo>
                    <a:pt x="3276" y="5401"/>
                  </a:lnTo>
                  <a:lnTo>
                    <a:pt x="3281" y="5417"/>
                  </a:lnTo>
                  <a:lnTo>
                    <a:pt x="3288" y="5434"/>
                  </a:lnTo>
                  <a:lnTo>
                    <a:pt x="3294" y="5450"/>
                  </a:lnTo>
                  <a:lnTo>
                    <a:pt x="3310" y="5481"/>
                  </a:lnTo>
                  <a:lnTo>
                    <a:pt x="3326" y="5511"/>
                  </a:lnTo>
                  <a:lnTo>
                    <a:pt x="3341" y="5542"/>
                  </a:lnTo>
                  <a:lnTo>
                    <a:pt x="3356" y="5572"/>
                  </a:lnTo>
                  <a:lnTo>
                    <a:pt x="3362" y="5586"/>
                  </a:lnTo>
                  <a:lnTo>
                    <a:pt x="3367" y="5601"/>
                  </a:lnTo>
                  <a:lnTo>
                    <a:pt x="3371" y="5615"/>
                  </a:lnTo>
                  <a:lnTo>
                    <a:pt x="3374" y="5629"/>
                  </a:lnTo>
                  <a:lnTo>
                    <a:pt x="3376" y="5643"/>
                  </a:lnTo>
                  <a:lnTo>
                    <a:pt x="3376" y="5657"/>
                  </a:lnTo>
                  <a:lnTo>
                    <a:pt x="3374" y="5672"/>
                  </a:lnTo>
                  <a:lnTo>
                    <a:pt x="3370" y="5686"/>
                  </a:lnTo>
                  <a:lnTo>
                    <a:pt x="3365" y="5700"/>
                  </a:lnTo>
                  <a:lnTo>
                    <a:pt x="3357" y="5713"/>
                  </a:lnTo>
                  <a:lnTo>
                    <a:pt x="3347" y="5727"/>
                  </a:lnTo>
                  <a:lnTo>
                    <a:pt x="3335" y="5740"/>
                  </a:lnTo>
                  <a:lnTo>
                    <a:pt x="3320" y="5753"/>
                  </a:lnTo>
                  <a:lnTo>
                    <a:pt x="3302" y="5766"/>
                  </a:lnTo>
                  <a:lnTo>
                    <a:pt x="3281" y="5781"/>
                  </a:lnTo>
                  <a:lnTo>
                    <a:pt x="3256" y="5794"/>
                  </a:lnTo>
                  <a:lnTo>
                    <a:pt x="3228" y="5807"/>
                  </a:lnTo>
                  <a:lnTo>
                    <a:pt x="3198" y="5819"/>
                  </a:lnTo>
                  <a:lnTo>
                    <a:pt x="3163" y="5832"/>
                  </a:lnTo>
                  <a:lnTo>
                    <a:pt x="3124" y="5845"/>
                  </a:lnTo>
                  <a:lnTo>
                    <a:pt x="3082" y="5859"/>
                  </a:lnTo>
                  <a:lnTo>
                    <a:pt x="3037" y="5871"/>
                  </a:lnTo>
                  <a:lnTo>
                    <a:pt x="2988" y="5884"/>
                  </a:lnTo>
                  <a:lnTo>
                    <a:pt x="2938" y="5896"/>
                  </a:lnTo>
                  <a:lnTo>
                    <a:pt x="2831" y="5921"/>
                  </a:lnTo>
                  <a:lnTo>
                    <a:pt x="2719" y="5944"/>
                  </a:lnTo>
                  <a:lnTo>
                    <a:pt x="2603" y="5968"/>
                  </a:lnTo>
                  <a:lnTo>
                    <a:pt x="2485" y="5992"/>
                  </a:lnTo>
                  <a:lnTo>
                    <a:pt x="2426" y="6005"/>
                  </a:lnTo>
                  <a:lnTo>
                    <a:pt x="2367" y="6018"/>
                  </a:lnTo>
                  <a:lnTo>
                    <a:pt x="2310" y="6033"/>
                  </a:lnTo>
                  <a:lnTo>
                    <a:pt x="2253" y="6047"/>
                  </a:lnTo>
                  <a:lnTo>
                    <a:pt x="2197" y="6063"/>
                  </a:lnTo>
                  <a:lnTo>
                    <a:pt x="2143" y="6079"/>
                  </a:lnTo>
                  <a:lnTo>
                    <a:pt x="2089" y="6096"/>
                  </a:lnTo>
                  <a:lnTo>
                    <a:pt x="2039" y="6113"/>
                  </a:lnTo>
                  <a:lnTo>
                    <a:pt x="1990" y="6132"/>
                  </a:lnTo>
                  <a:lnTo>
                    <a:pt x="1944" y="6153"/>
                  </a:lnTo>
                  <a:lnTo>
                    <a:pt x="1901" y="6174"/>
                  </a:lnTo>
                  <a:lnTo>
                    <a:pt x="1860" y="6197"/>
                  </a:lnTo>
                  <a:lnTo>
                    <a:pt x="1823" y="6220"/>
                  </a:lnTo>
                  <a:lnTo>
                    <a:pt x="1789" y="6246"/>
                  </a:lnTo>
                  <a:lnTo>
                    <a:pt x="1759" y="6273"/>
                  </a:lnTo>
                  <a:lnTo>
                    <a:pt x="1733" y="6301"/>
                  </a:lnTo>
                  <a:lnTo>
                    <a:pt x="1711" y="6331"/>
                  </a:lnTo>
                  <a:lnTo>
                    <a:pt x="1694" y="6363"/>
                  </a:lnTo>
                  <a:lnTo>
                    <a:pt x="1682" y="6398"/>
                  </a:lnTo>
                  <a:lnTo>
                    <a:pt x="1675" y="6433"/>
                  </a:lnTo>
                  <a:lnTo>
                    <a:pt x="1677" y="6433"/>
                  </a:lnTo>
                  <a:lnTo>
                    <a:pt x="1682" y="6432"/>
                  </a:lnTo>
                  <a:lnTo>
                    <a:pt x="1688" y="6432"/>
                  </a:lnTo>
                  <a:lnTo>
                    <a:pt x="1694" y="6432"/>
                  </a:lnTo>
                  <a:lnTo>
                    <a:pt x="1695" y="6433"/>
                  </a:lnTo>
                  <a:lnTo>
                    <a:pt x="1696" y="6434"/>
                  </a:lnTo>
                  <a:lnTo>
                    <a:pt x="1696" y="6435"/>
                  </a:lnTo>
                  <a:lnTo>
                    <a:pt x="1695" y="6436"/>
                  </a:lnTo>
                  <a:lnTo>
                    <a:pt x="1687" y="6441"/>
                  </a:lnTo>
                  <a:lnTo>
                    <a:pt x="1671" y="6448"/>
                  </a:lnTo>
                  <a:lnTo>
                    <a:pt x="1646" y="6457"/>
                  </a:lnTo>
                  <a:lnTo>
                    <a:pt x="1607" y="6470"/>
                  </a:lnTo>
                  <a:lnTo>
                    <a:pt x="1556" y="6487"/>
                  </a:lnTo>
                  <a:lnTo>
                    <a:pt x="1488" y="6508"/>
                  </a:lnTo>
                  <a:lnTo>
                    <a:pt x="1405" y="6533"/>
                  </a:lnTo>
                  <a:lnTo>
                    <a:pt x="1301" y="6563"/>
                  </a:lnTo>
                  <a:lnTo>
                    <a:pt x="1176" y="6597"/>
                  </a:lnTo>
                  <a:lnTo>
                    <a:pt x="1029" y="6639"/>
                  </a:lnTo>
                  <a:lnTo>
                    <a:pt x="875" y="6682"/>
                  </a:lnTo>
                  <a:lnTo>
                    <a:pt x="734" y="6721"/>
                  </a:lnTo>
                  <a:lnTo>
                    <a:pt x="669" y="6742"/>
                  </a:lnTo>
                  <a:lnTo>
                    <a:pt x="607" y="6760"/>
                  </a:lnTo>
                  <a:lnTo>
                    <a:pt x="548" y="6779"/>
                  </a:lnTo>
                  <a:lnTo>
                    <a:pt x="493" y="6797"/>
                  </a:lnTo>
                  <a:lnTo>
                    <a:pt x="440" y="6815"/>
                  </a:lnTo>
                  <a:lnTo>
                    <a:pt x="392" y="6832"/>
                  </a:lnTo>
                  <a:lnTo>
                    <a:pt x="345" y="6850"/>
                  </a:lnTo>
                  <a:lnTo>
                    <a:pt x="304" y="6868"/>
                  </a:lnTo>
                  <a:lnTo>
                    <a:pt x="265" y="6886"/>
                  </a:lnTo>
                  <a:lnTo>
                    <a:pt x="228" y="6903"/>
                  </a:lnTo>
                  <a:lnTo>
                    <a:pt x="196" y="6921"/>
                  </a:lnTo>
                  <a:lnTo>
                    <a:pt x="168" y="6939"/>
                  </a:lnTo>
                  <a:lnTo>
                    <a:pt x="142" y="6957"/>
                  </a:lnTo>
                  <a:lnTo>
                    <a:pt x="120" y="6975"/>
                  </a:lnTo>
                  <a:lnTo>
                    <a:pt x="100" y="6995"/>
                  </a:lnTo>
                  <a:lnTo>
                    <a:pt x="85" y="7015"/>
                  </a:lnTo>
                  <a:lnTo>
                    <a:pt x="73" y="7034"/>
                  </a:lnTo>
                  <a:lnTo>
                    <a:pt x="64" y="7055"/>
                  </a:lnTo>
                  <a:lnTo>
                    <a:pt x="59" y="7076"/>
                  </a:lnTo>
                  <a:lnTo>
                    <a:pt x="57" y="7098"/>
                  </a:lnTo>
                  <a:lnTo>
                    <a:pt x="59" y="7121"/>
                  </a:lnTo>
                  <a:lnTo>
                    <a:pt x="63" y="7144"/>
                  </a:lnTo>
                  <a:lnTo>
                    <a:pt x="72" y="7168"/>
                  </a:lnTo>
                  <a:lnTo>
                    <a:pt x="84" y="7193"/>
                  </a:lnTo>
                  <a:lnTo>
                    <a:pt x="99" y="7220"/>
                  </a:lnTo>
                  <a:lnTo>
                    <a:pt x="119" y="7247"/>
                  </a:lnTo>
                  <a:lnTo>
                    <a:pt x="141" y="7276"/>
                  </a:lnTo>
                  <a:lnTo>
                    <a:pt x="166" y="7305"/>
                  </a:lnTo>
                  <a:lnTo>
                    <a:pt x="177" y="7311"/>
                  </a:lnTo>
                  <a:lnTo>
                    <a:pt x="209" y="7329"/>
                  </a:lnTo>
                  <a:lnTo>
                    <a:pt x="259" y="7356"/>
                  </a:lnTo>
                  <a:lnTo>
                    <a:pt x="324" y="7387"/>
                  </a:lnTo>
                  <a:lnTo>
                    <a:pt x="363" y="7405"/>
                  </a:lnTo>
                  <a:lnTo>
                    <a:pt x="403" y="7422"/>
                  </a:lnTo>
                  <a:lnTo>
                    <a:pt x="446" y="7440"/>
                  </a:lnTo>
                  <a:lnTo>
                    <a:pt x="493" y="7459"/>
                  </a:lnTo>
                  <a:lnTo>
                    <a:pt x="541" y="7476"/>
                  </a:lnTo>
                  <a:lnTo>
                    <a:pt x="591" y="7492"/>
                  </a:lnTo>
                  <a:lnTo>
                    <a:pt x="643" y="7507"/>
                  </a:lnTo>
                  <a:lnTo>
                    <a:pt x="695" y="7521"/>
                  </a:lnTo>
                  <a:lnTo>
                    <a:pt x="690" y="7526"/>
                  </a:lnTo>
                  <a:lnTo>
                    <a:pt x="677" y="7540"/>
                  </a:lnTo>
                  <a:lnTo>
                    <a:pt x="658" y="7563"/>
                  </a:lnTo>
                  <a:lnTo>
                    <a:pt x="633" y="7595"/>
                  </a:lnTo>
                  <a:lnTo>
                    <a:pt x="620" y="7613"/>
                  </a:lnTo>
                  <a:lnTo>
                    <a:pt x="606" y="7632"/>
                  </a:lnTo>
                  <a:lnTo>
                    <a:pt x="592" y="7653"/>
                  </a:lnTo>
                  <a:lnTo>
                    <a:pt x="578" y="7676"/>
                  </a:lnTo>
                  <a:lnTo>
                    <a:pt x="565" y="7700"/>
                  </a:lnTo>
                  <a:lnTo>
                    <a:pt x="552" y="7725"/>
                  </a:lnTo>
                  <a:lnTo>
                    <a:pt x="540" y="7751"/>
                  </a:lnTo>
                  <a:lnTo>
                    <a:pt x="529" y="7778"/>
                  </a:lnTo>
                  <a:lnTo>
                    <a:pt x="519" y="7806"/>
                  </a:lnTo>
                  <a:lnTo>
                    <a:pt x="511" y="7835"/>
                  </a:lnTo>
                  <a:lnTo>
                    <a:pt x="504" y="7864"/>
                  </a:lnTo>
                  <a:lnTo>
                    <a:pt x="500" y="7894"/>
                  </a:lnTo>
                  <a:lnTo>
                    <a:pt x="497" y="7924"/>
                  </a:lnTo>
                  <a:lnTo>
                    <a:pt x="497" y="7955"/>
                  </a:lnTo>
                  <a:lnTo>
                    <a:pt x="500" y="7986"/>
                  </a:lnTo>
                  <a:lnTo>
                    <a:pt x="506" y="8017"/>
                  </a:lnTo>
                  <a:lnTo>
                    <a:pt x="514" y="8048"/>
                  </a:lnTo>
                  <a:lnTo>
                    <a:pt x="526" y="8079"/>
                  </a:lnTo>
                  <a:lnTo>
                    <a:pt x="542" y="8110"/>
                  </a:lnTo>
                  <a:lnTo>
                    <a:pt x="562" y="8140"/>
                  </a:lnTo>
                  <a:lnTo>
                    <a:pt x="586" y="8169"/>
                  </a:lnTo>
                  <a:lnTo>
                    <a:pt x="615" y="8199"/>
                  </a:lnTo>
                  <a:lnTo>
                    <a:pt x="648" y="8228"/>
                  </a:lnTo>
                  <a:lnTo>
                    <a:pt x="685" y="8256"/>
                  </a:lnTo>
                  <a:lnTo>
                    <a:pt x="706" y="8257"/>
                  </a:lnTo>
                  <a:lnTo>
                    <a:pt x="764" y="8262"/>
                  </a:lnTo>
                  <a:lnTo>
                    <a:pt x="846" y="8268"/>
                  </a:lnTo>
                  <a:lnTo>
                    <a:pt x="947" y="8276"/>
                  </a:lnTo>
                  <a:lnTo>
                    <a:pt x="1057" y="8285"/>
                  </a:lnTo>
                  <a:lnTo>
                    <a:pt x="1165" y="8294"/>
                  </a:lnTo>
                  <a:lnTo>
                    <a:pt x="1263" y="8300"/>
                  </a:lnTo>
                  <a:lnTo>
                    <a:pt x="1342" y="8305"/>
                  </a:lnTo>
                  <a:lnTo>
                    <a:pt x="1347" y="8317"/>
                  </a:lnTo>
                  <a:lnTo>
                    <a:pt x="1361" y="8351"/>
                  </a:lnTo>
                  <a:lnTo>
                    <a:pt x="1369" y="8375"/>
                  </a:lnTo>
                  <a:lnTo>
                    <a:pt x="1378" y="8404"/>
                  </a:lnTo>
                  <a:lnTo>
                    <a:pt x="1386" y="8437"/>
                  </a:lnTo>
                  <a:lnTo>
                    <a:pt x="1394" y="8474"/>
                  </a:lnTo>
                  <a:lnTo>
                    <a:pt x="1396" y="8493"/>
                  </a:lnTo>
                  <a:lnTo>
                    <a:pt x="1399" y="8514"/>
                  </a:lnTo>
                  <a:lnTo>
                    <a:pt x="1401" y="8536"/>
                  </a:lnTo>
                  <a:lnTo>
                    <a:pt x="1402" y="8558"/>
                  </a:lnTo>
                  <a:lnTo>
                    <a:pt x="1403" y="8580"/>
                  </a:lnTo>
                  <a:lnTo>
                    <a:pt x="1403" y="8604"/>
                  </a:lnTo>
                  <a:lnTo>
                    <a:pt x="1402" y="8627"/>
                  </a:lnTo>
                  <a:lnTo>
                    <a:pt x="1400" y="8653"/>
                  </a:lnTo>
                  <a:lnTo>
                    <a:pt x="1397" y="8678"/>
                  </a:lnTo>
                  <a:lnTo>
                    <a:pt x="1393" y="8703"/>
                  </a:lnTo>
                  <a:lnTo>
                    <a:pt x="1388" y="8729"/>
                  </a:lnTo>
                  <a:lnTo>
                    <a:pt x="1382" y="8755"/>
                  </a:lnTo>
                  <a:lnTo>
                    <a:pt x="1374" y="8782"/>
                  </a:lnTo>
                  <a:lnTo>
                    <a:pt x="1364" y="8809"/>
                  </a:lnTo>
                  <a:lnTo>
                    <a:pt x="1353" y="8836"/>
                  </a:lnTo>
                  <a:lnTo>
                    <a:pt x="1342" y="8863"/>
                  </a:lnTo>
                  <a:lnTo>
                    <a:pt x="1343" y="8866"/>
                  </a:lnTo>
                  <a:lnTo>
                    <a:pt x="1349" y="8873"/>
                  </a:lnTo>
                  <a:lnTo>
                    <a:pt x="1359" y="8883"/>
                  </a:lnTo>
                  <a:lnTo>
                    <a:pt x="1374" y="8896"/>
                  </a:lnTo>
                  <a:lnTo>
                    <a:pt x="1382" y="8903"/>
                  </a:lnTo>
                  <a:lnTo>
                    <a:pt x="1392" y="8910"/>
                  </a:lnTo>
                  <a:lnTo>
                    <a:pt x="1402" y="8917"/>
                  </a:lnTo>
                  <a:lnTo>
                    <a:pt x="1414" y="8924"/>
                  </a:lnTo>
                  <a:lnTo>
                    <a:pt x="1427" y="8930"/>
                  </a:lnTo>
                  <a:lnTo>
                    <a:pt x="1442" y="8936"/>
                  </a:lnTo>
                  <a:lnTo>
                    <a:pt x="1457" y="8942"/>
                  </a:lnTo>
                  <a:lnTo>
                    <a:pt x="1474" y="8947"/>
                  </a:lnTo>
                  <a:lnTo>
                    <a:pt x="1492" y="8951"/>
                  </a:lnTo>
                  <a:lnTo>
                    <a:pt x="1512" y="8954"/>
                  </a:lnTo>
                  <a:lnTo>
                    <a:pt x="1532" y="8956"/>
                  </a:lnTo>
                  <a:lnTo>
                    <a:pt x="1554" y="8957"/>
                  </a:lnTo>
                  <a:lnTo>
                    <a:pt x="1577" y="8957"/>
                  </a:lnTo>
                  <a:lnTo>
                    <a:pt x="1602" y="8955"/>
                  </a:lnTo>
                  <a:lnTo>
                    <a:pt x="1629" y="8951"/>
                  </a:lnTo>
                  <a:lnTo>
                    <a:pt x="1656" y="8946"/>
                  </a:lnTo>
                  <a:lnTo>
                    <a:pt x="1685" y="8939"/>
                  </a:lnTo>
                  <a:lnTo>
                    <a:pt x="1715" y="8930"/>
                  </a:lnTo>
                  <a:lnTo>
                    <a:pt x="1747" y="8919"/>
                  </a:lnTo>
                  <a:lnTo>
                    <a:pt x="1781" y="8905"/>
                  </a:lnTo>
                  <a:lnTo>
                    <a:pt x="1815" y="8888"/>
                  </a:lnTo>
                  <a:lnTo>
                    <a:pt x="1852" y="8870"/>
                  </a:lnTo>
                  <a:lnTo>
                    <a:pt x="1890" y="8848"/>
                  </a:lnTo>
                  <a:lnTo>
                    <a:pt x="1930" y="8824"/>
                  </a:lnTo>
                  <a:lnTo>
                    <a:pt x="1944" y="8822"/>
                  </a:lnTo>
                  <a:lnTo>
                    <a:pt x="1980" y="8819"/>
                  </a:lnTo>
                  <a:lnTo>
                    <a:pt x="2004" y="8818"/>
                  </a:lnTo>
                  <a:lnTo>
                    <a:pt x="2030" y="8819"/>
                  </a:lnTo>
                  <a:lnTo>
                    <a:pt x="2043" y="8820"/>
                  </a:lnTo>
                  <a:lnTo>
                    <a:pt x="2056" y="8821"/>
                  </a:lnTo>
                  <a:lnTo>
                    <a:pt x="2069" y="8823"/>
                  </a:lnTo>
                  <a:lnTo>
                    <a:pt x="2082" y="8825"/>
                  </a:lnTo>
                  <a:lnTo>
                    <a:pt x="2095" y="8829"/>
                  </a:lnTo>
                  <a:lnTo>
                    <a:pt x="2108" y="8833"/>
                  </a:lnTo>
                  <a:lnTo>
                    <a:pt x="2119" y="8838"/>
                  </a:lnTo>
                  <a:lnTo>
                    <a:pt x="2131" y="8844"/>
                  </a:lnTo>
                  <a:lnTo>
                    <a:pt x="2141" y="8851"/>
                  </a:lnTo>
                  <a:lnTo>
                    <a:pt x="2151" y="8858"/>
                  </a:lnTo>
                  <a:lnTo>
                    <a:pt x="2159" y="8867"/>
                  </a:lnTo>
                  <a:lnTo>
                    <a:pt x="2165" y="8878"/>
                  </a:lnTo>
                  <a:lnTo>
                    <a:pt x="2170" y="8889"/>
                  </a:lnTo>
                  <a:lnTo>
                    <a:pt x="2174" y="8903"/>
                  </a:lnTo>
                  <a:lnTo>
                    <a:pt x="2176" y="8917"/>
                  </a:lnTo>
                  <a:lnTo>
                    <a:pt x="2176" y="8932"/>
                  </a:lnTo>
                  <a:lnTo>
                    <a:pt x="2174" y="8949"/>
                  </a:lnTo>
                  <a:lnTo>
                    <a:pt x="2170" y="8968"/>
                  </a:lnTo>
                  <a:lnTo>
                    <a:pt x="2164" y="8988"/>
                  </a:lnTo>
                  <a:lnTo>
                    <a:pt x="2155" y="9011"/>
                  </a:lnTo>
                  <a:lnTo>
                    <a:pt x="2155" y="9016"/>
                  </a:lnTo>
                  <a:lnTo>
                    <a:pt x="2156" y="9029"/>
                  </a:lnTo>
                  <a:lnTo>
                    <a:pt x="2159" y="9049"/>
                  </a:lnTo>
                  <a:lnTo>
                    <a:pt x="2164" y="9075"/>
                  </a:lnTo>
                  <a:lnTo>
                    <a:pt x="2169" y="9089"/>
                  </a:lnTo>
                  <a:lnTo>
                    <a:pt x="2174" y="9103"/>
                  </a:lnTo>
                  <a:lnTo>
                    <a:pt x="2180" y="9119"/>
                  </a:lnTo>
                  <a:lnTo>
                    <a:pt x="2188" y="9135"/>
                  </a:lnTo>
                  <a:lnTo>
                    <a:pt x="2198" y="9150"/>
                  </a:lnTo>
                  <a:lnTo>
                    <a:pt x="2209" y="9165"/>
                  </a:lnTo>
                  <a:lnTo>
                    <a:pt x="2222" y="9180"/>
                  </a:lnTo>
                  <a:lnTo>
                    <a:pt x="2237" y="9194"/>
                  </a:lnTo>
                  <a:lnTo>
                    <a:pt x="2254" y="9207"/>
                  </a:lnTo>
                  <a:lnTo>
                    <a:pt x="2273" y="9220"/>
                  </a:lnTo>
                  <a:lnTo>
                    <a:pt x="2294" y="9230"/>
                  </a:lnTo>
                  <a:lnTo>
                    <a:pt x="2318" y="9240"/>
                  </a:lnTo>
                  <a:lnTo>
                    <a:pt x="2344" y="9247"/>
                  </a:lnTo>
                  <a:lnTo>
                    <a:pt x="2373" y="9254"/>
                  </a:lnTo>
                  <a:lnTo>
                    <a:pt x="2405" y="9258"/>
                  </a:lnTo>
                  <a:lnTo>
                    <a:pt x="2440" y="9259"/>
                  </a:lnTo>
                  <a:lnTo>
                    <a:pt x="2478" y="9258"/>
                  </a:lnTo>
                  <a:lnTo>
                    <a:pt x="2519" y="9254"/>
                  </a:lnTo>
                  <a:lnTo>
                    <a:pt x="2563" y="9246"/>
                  </a:lnTo>
                  <a:lnTo>
                    <a:pt x="2611" y="9235"/>
                  </a:lnTo>
                  <a:lnTo>
                    <a:pt x="2663" y="9221"/>
                  </a:lnTo>
                  <a:lnTo>
                    <a:pt x="2718" y="9204"/>
                  </a:lnTo>
                  <a:lnTo>
                    <a:pt x="2778" y="9183"/>
                  </a:lnTo>
                  <a:lnTo>
                    <a:pt x="2840" y="9158"/>
                  </a:lnTo>
                  <a:lnTo>
                    <a:pt x="2850" y="9153"/>
                  </a:lnTo>
                  <a:lnTo>
                    <a:pt x="2875" y="9139"/>
                  </a:lnTo>
                  <a:lnTo>
                    <a:pt x="2916" y="9116"/>
                  </a:lnTo>
                  <a:lnTo>
                    <a:pt x="2967" y="9090"/>
                  </a:lnTo>
                  <a:lnTo>
                    <a:pt x="3028" y="9060"/>
                  </a:lnTo>
                  <a:lnTo>
                    <a:pt x="3094" y="9028"/>
                  </a:lnTo>
                  <a:lnTo>
                    <a:pt x="3165" y="8994"/>
                  </a:lnTo>
                  <a:lnTo>
                    <a:pt x="3236" y="8964"/>
                  </a:lnTo>
                  <a:lnTo>
                    <a:pt x="3272" y="8950"/>
                  </a:lnTo>
                  <a:lnTo>
                    <a:pt x="3306" y="8937"/>
                  </a:lnTo>
                  <a:lnTo>
                    <a:pt x="3340" y="8925"/>
                  </a:lnTo>
                  <a:lnTo>
                    <a:pt x="3372" y="8915"/>
                  </a:lnTo>
                  <a:lnTo>
                    <a:pt x="3403" y="8906"/>
                  </a:lnTo>
                  <a:lnTo>
                    <a:pt x="3431" y="8900"/>
                  </a:lnTo>
                  <a:lnTo>
                    <a:pt x="3457" y="8895"/>
                  </a:lnTo>
                  <a:lnTo>
                    <a:pt x="3481" y="8893"/>
                  </a:lnTo>
                  <a:lnTo>
                    <a:pt x="3501" y="8894"/>
                  </a:lnTo>
                  <a:lnTo>
                    <a:pt x="3520" y="8898"/>
                  </a:lnTo>
                  <a:lnTo>
                    <a:pt x="3533" y="8904"/>
                  </a:lnTo>
                  <a:lnTo>
                    <a:pt x="3543" y="8914"/>
                  </a:lnTo>
                  <a:lnTo>
                    <a:pt x="3548" y="8927"/>
                  </a:lnTo>
                  <a:lnTo>
                    <a:pt x="3549" y="8944"/>
                  </a:lnTo>
                  <a:lnTo>
                    <a:pt x="3545" y="8965"/>
                  </a:lnTo>
                  <a:lnTo>
                    <a:pt x="3536" y="8990"/>
                  </a:lnTo>
                  <a:lnTo>
                    <a:pt x="3532" y="8997"/>
                  </a:lnTo>
                  <a:lnTo>
                    <a:pt x="3520" y="9015"/>
                  </a:lnTo>
                  <a:lnTo>
                    <a:pt x="3499" y="9042"/>
                  </a:lnTo>
                  <a:lnTo>
                    <a:pt x="3473" y="9078"/>
                  </a:lnTo>
                  <a:lnTo>
                    <a:pt x="3439" y="9122"/>
                  </a:lnTo>
                  <a:lnTo>
                    <a:pt x="3400" y="9173"/>
                  </a:lnTo>
                  <a:lnTo>
                    <a:pt x="3354" y="9229"/>
                  </a:lnTo>
                  <a:lnTo>
                    <a:pt x="3304" y="9289"/>
                  </a:lnTo>
                  <a:lnTo>
                    <a:pt x="3276" y="9319"/>
                  </a:lnTo>
                  <a:lnTo>
                    <a:pt x="3247" y="9350"/>
                  </a:lnTo>
                  <a:lnTo>
                    <a:pt x="3218" y="9383"/>
                  </a:lnTo>
                  <a:lnTo>
                    <a:pt x="3188" y="9414"/>
                  </a:lnTo>
                  <a:lnTo>
                    <a:pt x="3157" y="9446"/>
                  </a:lnTo>
                  <a:lnTo>
                    <a:pt x="3124" y="9478"/>
                  </a:lnTo>
                  <a:lnTo>
                    <a:pt x="3091" y="9510"/>
                  </a:lnTo>
                  <a:lnTo>
                    <a:pt x="3057" y="9541"/>
                  </a:lnTo>
                  <a:lnTo>
                    <a:pt x="3022" y="9571"/>
                  </a:lnTo>
                  <a:lnTo>
                    <a:pt x="2986" y="9601"/>
                  </a:lnTo>
                  <a:lnTo>
                    <a:pt x="2950" y="9630"/>
                  </a:lnTo>
                  <a:lnTo>
                    <a:pt x="2914" y="9658"/>
                  </a:lnTo>
                  <a:lnTo>
                    <a:pt x="2876" y="9684"/>
                  </a:lnTo>
                  <a:lnTo>
                    <a:pt x="2839" y="9709"/>
                  </a:lnTo>
                  <a:lnTo>
                    <a:pt x="2801" y="9734"/>
                  </a:lnTo>
                  <a:lnTo>
                    <a:pt x="2763" y="9755"/>
                  </a:lnTo>
                  <a:lnTo>
                    <a:pt x="2748" y="9760"/>
                  </a:lnTo>
                  <a:lnTo>
                    <a:pt x="2707" y="9774"/>
                  </a:lnTo>
                  <a:lnTo>
                    <a:pt x="2643" y="9796"/>
                  </a:lnTo>
                  <a:lnTo>
                    <a:pt x="2558" y="9826"/>
                  </a:lnTo>
                  <a:lnTo>
                    <a:pt x="2455" y="9864"/>
                  </a:lnTo>
                  <a:lnTo>
                    <a:pt x="2337" y="9907"/>
                  </a:lnTo>
                  <a:lnTo>
                    <a:pt x="2208" y="9955"/>
                  </a:lnTo>
                  <a:lnTo>
                    <a:pt x="2069" y="10009"/>
                  </a:lnTo>
                  <a:lnTo>
                    <a:pt x="1924" y="10066"/>
                  </a:lnTo>
                  <a:lnTo>
                    <a:pt x="1776" y="10127"/>
                  </a:lnTo>
                  <a:lnTo>
                    <a:pt x="1701" y="10158"/>
                  </a:lnTo>
                  <a:lnTo>
                    <a:pt x="1628" y="10190"/>
                  </a:lnTo>
                  <a:lnTo>
                    <a:pt x="1554" y="10223"/>
                  </a:lnTo>
                  <a:lnTo>
                    <a:pt x="1481" y="10256"/>
                  </a:lnTo>
                  <a:lnTo>
                    <a:pt x="1410" y="10288"/>
                  </a:lnTo>
                  <a:lnTo>
                    <a:pt x="1340" y="10321"/>
                  </a:lnTo>
                  <a:lnTo>
                    <a:pt x="1273" y="10355"/>
                  </a:lnTo>
                  <a:lnTo>
                    <a:pt x="1208" y="10388"/>
                  </a:lnTo>
                  <a:lnTo>
                    <a:pt x="1146" y="10421"/>
                  </a:lnTo>
                  <a:lnTo>
                    <a:pt x="1086" y="10455"/>
                  </a:lnTo>
                  <a:lnTo>
                    <a:pt x="1031" y="10487"/>
                  </a:lnTo>
                  <a:lnTo>
                    <a:pt x="979" y="10519"/>
                  </a:lnTo>
                  <a:lnTo>
                    <a:pt x="971" y="10521"/>
                  </a:lnTo>
                  <a:lnTo>
                    <a:pt x="950" y="10525"/>
                  </a:lnTo>
                  <a:lnTo>
                    <a:pt x="915" y="10533"/>
                  </a:lnTo>
                  <a:lnTo>
                    <a:pt x="869" y="10543"/>
                  </a:lnTo>
                  <a:lnTo>
                    <a:pt x="813" y="10557"/>
                  </a:lnTo>
                  <a:lnTo>
                    <a:pt x="750" y="10575"/>
                  </a:lnTo>
                  <a:lnTo>
                    <a:pt x="679" y="10595"/>
                  </a:lnTo>
                  <a:lnTo>
                    <a:pt x="603" y="10618"/>
                  </a:lnTo>
                  <a:lnTo>
                    <a:pt x="564" y="10630"/>
                  </a:lnTo>
                  <a:lnTo>
                    <a:pt x="524" y="10644"/>
                  </a:lnTo>
                  <a:lnTo>
                    <a:pt x="483" y="10658"/>
                  </a:lnTo>
                  <a:lnTo>
                    <a:pt x="443" y="10673"/>
                  </a:lnTo>
                  <a:lnTo>
                    <a:pt x="402" y="10690"/>
                  </a:lnTo>
                  <a:lnTo>
                    <a:pt x="361" y="10707"/>
                  </a:lnTo>
                  <a:lnTo>
                    <a:pt x="321" y="10725"/>
                  </a:lnTo>
                  <a:lnTo>
                    <a:pt x="281" y="10743"/>
                  </a:lnTo>
                  <a:lnTo>
                    <a:pt x="242" y="10762"/>
                  </a:lnTo>
                  <a:lnTo>
                    <a:pt x="203" y="10782"/>
                  </a:lnTo>
                  <a:lnTo>
                    <a:pt x="165" y="10803"/>
                  </a:lnTo>
                  <a:lnTo>
                    <a:pt x="129" y="10826"/>
                  </a:lnTo>
                  <a:lnTo>
                    <a:pt x="94" y="10848"/>
                  </a:lnTo>
                  <a:lnTo>
                    <a:pt x="61" y="10872"/>
                  </a:lnTo>
                  <a:lnTo>
                    <a:pt x="29" y="10896"/>
                  </a:lnTo>
                  <a:lnTo>
                    <a:pt x="0" y="10921"/>
                  </a:lnTo>
                  <a:lnTo>
                    <a:pt x="7" y="10919"/>
                  </a:lnTo>
                  <a:lnTo>
                    <a:pt x="28" y="10915"/>
                  </a:lnTo>
                  <a:lnTo>
                    <a:pt x="60" y="10909"/>
                  </a:lnTo>
                  <a:lnTo>
                    <a:pt x="105" y="10901"/>
                  </a:lnTo>
                  <a:lnTo>
                    <a:pt x="161" y="10890"/>
                  </a:lnTo>
                  <a:lnTo>
                    <a:pt x="225" y="10879"/>
                  </a:lnTo>
                  <a:lnTo>
                    <a:pt x="299" y="10866"/>
                  </a:lnTo>
                  <a:lnTo>
                    <a:pt x="381" y="10853"/>
                  </a:lnTo>
                  <a:lnTo>
                    <a:pt x="468" y="10839"/>
                  </a:lnTo>
                  <a:lnTo>
                    <a:pt x="563" y="10825"/>
                  </a:lnTo>
                  <a:lnTo>
                    <a:pt x="662" y="10811"/>
                  </a:lnTo>
                  <a:lnTo>
                    <a:pt x="765" y="10797"/>
                  </a:lnTo>
                  <a:lnTo>
                    <a:pt x="870" y="10784"/>
                  </a:lnTo>
                  <a:lnTo>
                    <a:pt x="977" y="10773"/>
                  </a:lnTo>
                  <a:lnTo>
                    <a:pt x="1086" y="10763"/>
                  </a:lnTo>
                  <a:lnTo>
                    <a:pt x="1195" y="10755"/>
                  </a:lnTo>
                  <a:lnTo>
                    <a:pt x="1252" y="10749"/>
                  </a:lnTo>
                  <a:lnTo>
                    <a:pt x="1314" y="10741"/>
                  </a:lnTo>
                  <a:lnTo>
                    <a:pt x="1381" y="10729"/>
                  </a:lnTo>
                  <a:lnTo>
                    <a:pt x="1452" y="10715"/>
                  </a:lnTo>
                  <a:lnTo>
                    <a:pt x="1528" y="10698"/>
                  </a:lnTo>
                  <a:lnTo>
                    <a:pt x="1607" y="10677"/>
                  </a:lnTo>
                  <a:lnTo>
                    <a:pt x="1690" y="10654"/>
                  </a:lnTo>
                  <a:lnTo>
                    <a:pt x="1777" y="10630"/>
                  </a:lnTo>
                  <a:lnTo>
                    <a:pt x="1866" y="10603"/>
                  </a:lnTo>
                  <a:lnTo>
                    <a:pt x="1958" y="10574"/>
                  </a:lnTo>
                  <a:lnTo>
                    <a:pt x="2052" y="10542"/>
                  </a:lnTo>
                  <a:lnTo>
                    <a:pt x="2148" y="10510"/>
                  </a:lnTo>
                  <a:lnTo>
                    <a:pt x="2245" y="10476"/>
                  </a:lnTo>
                  <a:lnTo>
                    <a:pt x="2344" y="10439"/>
                  </a:lnTo>
                  <a:lnTo>
                    <a:pt x="2444" y="10402"/>
                  </a:lnTo>
                  <a:lnTo>
                    <a:pt x="2544" y="10364"/>
                  </a:lnTo>
                  <a:lnTo>
                    <a:pt x="2645" y="10324"/>
                  </a:lnTo>
                  <a:lnTo>
                    <a:pt x="2745" y="10284"/>
                  </a:lnTo>
                  <a:lnTo>
                    <a:pt x="2845" y="10244"/>
                  </a:lnTo>
                  <a:lnTo>
                    <a:pt x="2945" y="10202"/>
                  </a:lnTo>
                  <a:lnTo>
                    <a:pt x="3044" y="10160"/>
                  </a:lnTo>
                  <a:lnTo>
                    <a:pt x="3141" y="10119"/>
                  </a:lnTo>
                  <a:lnTo>
                    <a:pt x="3236" y="10076"/>
                  </a:lnTo>
                  <a:lnTo>
                    <a:pt x="3330" y="10034"/>
                  </a:lnTo>
                  <a:lnTo>
                    <a:pt x="3421" y="9992"/>
                  </a:lnTo>
                  <a:lnTo>
                    <a:pt x="3509" y="9950"/>
                  </a:lnTo>
                  <a:lnTo>
                    <a:pt x="3595" y="9909"/>
                  </a:lnTo>
                  <a:lnTo>
                    <a:pt x="3678" y="9869"/>
                  </a:lnTo>
                  <a:lnTo>
                    <a:pt x="3756" y="9829"/>
                  </a:lnTo>
                  <a:lnTo>
                    <a:pt x="3831" y="9790"/>
                  </a:lnTo>
                  <a:lnTo>
                    <a:pt x="3902" y="9753"/>
                  </a:lnTo>
                  <a:lnTo>
                    <a:pt x="3967" y="9716"/>
                  </a:lnTo>
                  <a:lnTo>
                    <a:pt x="3983" y="9712"/>
                  </a:lnTo>
                  <a:lnTo>
                    <a:pt x="4029" y="9701"/>
                  </a:lnTo>
                  <a:lnTo>
                    <a:pt x="4098" y="9684"/>
                  </a:lnTo>
                  <a:lnTo>
                    <a:pt x="4187" y="9660"/>
                  </a:lnTo>
                  <a:lnTo>
                    <a:pt x="4237" y="9646"/>
                  </a:lnTo>
                  <a:lnTo>
                    <a:pt x="4291" y="9631"/>
                  </a:lnTo>
                  <a:lnTo>
                    <a:pt x="4346" y="9615"/>
                  </a:lnTo>
                  <a:lnTo>
                    <a:pt x="4405" y="9596"/>
                  </a:lnTo>
                  <a:lnTo>
                    <a:pt x="4463" y="9577"/>
                  </a:lnTo>
                  <a:lnTo>
                    <a:pt x="4523" y="9557"/>
                  </a:lnTo>
                  <a:lnTo>
                    <a:pt x="4582" y="9535"/>
                  </a:lnTo>
                  <a:lnTo>
                    <a:pt x="4640" y="9513"/>
                  </a:lnTo>
                  <a:lnTo>
                    <a:pt x="4698" y="9490"/>
                  </a:lnTo>
                  <a:lnTo>
                    <a:pt x="4754" y="9465"/>
                  </a:lnTo>
                  <a:lnTo>
                    <a:pt x="4808" y="9440"/>
                  </a:lnTo>
                  <a:lnTo>
                    <a:pt x="4858" y="9414"/>
                  </a:lnTo>
                  <a:lnTo>
                    <a:pt x="4905" y="9387"/>
                  </a:lnTo>
                  <a:lnTo>
                    <a:pt x="4947" y="9359"/>
                  </a:lnTo>
                  <a:lnTo>
                    <a:pt x="4984" y="9331"/>
                  </a:lnTo>
                  <a:lnTo>
                    <a:pt x="5016" y="9303"/>
                  </a:lnTo>
                  <a:lnTo>
                    <a:pt x="5043" y="9274"/>
                  </a:lnTo>
                  <a:lnTo>
                    <a:pt x="5063" y="9243"/>
                  </a:lnTo>
                  <a:lnTo>
                    <a:pt x="5075" y="9214"/>
                  </a:lnTo>
                  <a:lnTo>
                    <a:pt x="5079" y="9183"/>
                  </a:lnTo>
                  <a:lnTo>
                    <a:pt x="5075" y="9153"/>
                  </a:lnTo>
                  <a:lnTo>
                    <a:pt x="5062" y="9121"/>
                  </a:lnTo>
                  <a:lnTo>
                    <a:pt x="5039" y="9090"/>
                  </a:lnTo>
                  <a:lnTo>
                    <a:pt x="5005" y="9059"/>
                  </a:lnTo>
                  <a:lnTo>
                    <a:pt x="5002" y="9058"/>
                  </a:lnTo>
                  <a:lnTo>
                    <a:pt x="4993" y="9053"/>
                  </a:lnTo>
                  <a:lnTo>
                    <a:pt x="4979" y="9045"/>
                  </a:lnTo>
                  <a:lnTo>
                    <a:pt x="4963" y="9035"/>
                  </a:lnTo>
                  <a:lnTo>
                    <a:pt x="4946" y="9023"/>
                  </a:lnTo>
                  <a:lnTo>
                    <a:pt x="4929" y="9007"/>
                  </a:lnTo>
                  <a:lnTo>
                    <a:pt x="4921" y="8999"/>
                  </a:lnTo>
                  <a:lnTo>
                    <a:pt x="4914" y="8991"/>
                  </a:lnTo>
                  <a:lnTo>
                    <a:pt x="4907" y="8982"/>
                  </a:lnTo>
                  <a:lnTo>
                    <a:pt x="4902" y="8973"/>
                  </a:lnTo>
                  <a:lnTo>
                    <a:pt x="4897" y="8964"/>
                  </a:lnTo>
                  <a:lnTo>
                    <a:pt x="4894" y="8955"/>
                  </a:lnTo>
                  <a:lnTo>
                    <a:pt x="4893" y="8945"/>
                  </a:lnTo>
                  <a:lnTo>
                    <a:pt x="4894" y="8935"/>
                  </a:lnTo>
                  <a:lnTo>
                    <a:pt x="4896" y="8925"/>
                  </a:lnTo>
                  <a:lnTo>
                    <a:pt x="4902" y="8915"/>
                  </a:lnTo>
                  <a:lnTo>
                    <a:pt x="4909" y="8905"/>
                  </a:lnTo>
                  <a:lnTo>
                    <a:pt x="4919" y="8895"/>
                  </a:lnTo>
                  <a:lnTo>
                    <a:pt x="4931" y="8883"/>
                  </a:lnTo>
                  <a:lnTo>
                    <a:pt x="4947" y="8873"/>
                  </a:lnTo>
                  <a:lnTo>
                    <a:pt x="4965" y="8863"/>
                  </a:lnTo>
                  <a:lnTo>
                    <a:pt x="4987" y="8853"/>
                  </a:lnTo>
                  <a:lnTo>
                    <a:pt x="5013" y="8843"/>
                  </a:lnTo>
                  <a:lnTo>
                    <a:pt x="5043" y="8833"/>
                  </a:lnTo>
                  <a:lnTo>
                    <a:pt x="5076" y="8824"/>
                  </a:lnTo>
                  <a:lnTo>
                    <a:pt x="5113" y="8815"/>
                  </a:lnTo>
                  <a:lnTo>
                    <a:pt x="5124" y="8808"/>
                  </a:lnTo>
                  <a:lnTo>
                    <a:pt x="5155" y="8789"/>
                  </a:lnTo>
                  <a:lnTo>
                    <a:pt x="5202" y="8758"/>
                  </a:lnTo>
                  <a:lnTo>
                    <a:pt x="5264" y="8718"/>
                  </a:lnTo>
                  <a:lnTo>
                    <a:pt x="5340" y="8669"/>
                  </a:lnTo>
                  <a:lnTo>
                    <a:pt x="5427" y="8612"/>
                  </a:lnTo>
                  <a:lnTo>
                    <a:pt x="5520" y="8549"/>
                  </a:lnTo>
                  <a:lnTo>
                    <a:pt x="5620" y="8479"/>
                  </a:lnTo>
                  <a:lnTo>
                    <a:pt x="5723" y="8405"/>
                  </a:lnTo>
                  <a:lnTo>
                    <a:pt x="5828" y="8329"/>
                  </a:lnTo>
                  <a:lnTo>
                    <a:pt x="5879" y="8289"/>
                  </a:lnTo>
                  <a:lnTo>
                    <a:pt x="5931" y="8249"/>
                  </a:lnTo>
                  <a:lnTo>
                    <a:pt x="5981" y="8210"/>
                  </a:lnTo>
                  <a:lnTo>
                    <a:pt x="6030" y="8169"/>
                  </a:lnTo>
                  <a:lnTo>
                    <a:pt x="6079" y="8130"/>
                  </a:lnTo>
                  <a:lnTo>
                    <a:pt x="6124" y="8090"/>
                  </a:lnTo>
                  <a:lnTo>
                    <a:pt x="6169" y="8050"/>
                  </a:lnTo>
                  <a:lnTo>
                    <a:pt x="6210" y="8011"/>
                  </a:lnTo>
                  <a:lnTo>
                    <a:pt x="6249" y="7974"/>
                  </a:lnTo>
                  <a:lnTo>
                    <a:pt x="6286" y="7936"/>
                  </a:lnTo>
                  <a:lnTo>
                    <a:pt x="6318" y="7899"/>
                  </a:lnTo>
                  <a:lnTo>
                    <a:pt x="6348" y="7864"/>
                  </a:lnTo>
                  <a:lnTo>
                    <a:pt x="6354" y="7861"/>
                  </a:lnTo>
                  <a:lnTo>
                    <a:pt x="6375" y="7853"/>
                  </a:lnTo>
                  <a:lnTo>
                    <a:pt x="6408" y="7841"/>
                  </a:lnTo>
                  <a:lnTo>
                    <a:pt x="6455" y="7826"/>
                  </a:lnTo>
                  <a:lnTo>
                    <a:pt x="6513" y="7808"/>
                  </a:lnTo>
                  <a:lnTo>
                    <a:pt x="6583" y="7789"/>
                  </a:lnTo>
                  <a:lnTo>
                    <a:pt x="6622" y="7779"/>
                  </a:lnTo>
                  <a:lnTo>
                    <a:pt x="6664" y="7769"/>
                  </a:lnTo>
                  <a:lnTo>
                    <a:pt x="6708" y="7759"/>
                  </a:lnTo>
                  <a:lnTo>
                    <a:pt x="6754" y="7750"/>
                  </a:lnTo>
                  <a:lnTo>
                    <a:pt x="6803" y="7741"/>
                  </a:lnTo>
                  <a:lnTo>
                    <a:pt x="6854" y="7732"/>
                  </a:lnTo>
                  <a:lnTo>
                    <a:pt x="6907" y="7724"/>
                  </a:lnTo>
                  <a:lnTo>
                    <a:pt x="6964" y="7716"/>
                  </a:lnTo>
                  <a:lnTo>
                    <a:pt x="7021" y="7710"/>
                  </a:lnTo>
                  <a:lnTo>
                    <a:pt x="7081" y="7704"/>
                  </a:lnTo>
                  <a:lnTo>
                    <a:pt x="7143" y="7699"/>
                  </a:lnTo>
                  <a:lnTo>
                    <a:pt x="7207" y="7695"/>
                  </a:lnTo>
                  <a:lnTo>
                    <a:pt x="7272" y="7691"/>
                  </a:lnTo>
                  <a:lnTo>
                    <a:pt x="7340" y="7690"/>
                  </a:lnTo>
                  <a:lnTo>
                    <a:pt x="7409" y="7690"/>
                  </a:lnTo>
                  <a:lnTo>
                    <a:pt x="7480" y="7692"/>
                  </a:lnTo>
                  <a:lnTo>
                    <a:pt x="7553" y="7696"/>
                  </a:lnTo>
                  <a:lnTo>
                    <a:pt x="7626" y="7701"/>
                  </a:lnTo>
                  <a:lnTo>
                    <a:pt x="7701" y="7708"/>
                  </a:lnTo>
                  <a:lnTo>
                    <a:pt x="7777" y="7717"/>
                  </a:lnTo>
                  <a:lnTo>
                    <a:pt x="7782" y="7719"/>
                  </a:lnTo>
                  <a:lnTo>
                    <a:pt x="7794" y="7726"/>
                  </a:lnTo>
                  <a:lnTo>
                    <a:pt x="7814" y="7736"/>
                  </a:lnTo>
                  <a:lnTo>
                    <a:pt x="7837" y="7750"/>
                  </a:lnTo>
                  <a:lnTo>
                    <a:pt x="7863" y="7766"/>
                  </a:lnTo>
                  <a:lnTo>
                    <a:pt x="7890" y="7785"/>
                  </a:lnTo>
                  <a:lnTo>
                    <a:pt x="7903" y="7795"/>
                  </a:lnTo>
                  <a:lnTo>
                    <a:pt x="7917" y="7805"/>
                  </a:lnTo>
                  <a:lnTo>
                    <a:pt x="7930" y="7817"/>
                  </a:lnTo>
                  <a:lnTo>
                    <a:pt x="7942" y="7827"/>
                  </a:lnTo>
                  <a:lnTo>
                    <a:pt x="7953" y="7839"/>
                  </a:lnTo>
                  <a:lnTo>
                    <a:pt x="7963" y="7850"/>
                  </a:lnTo>
                  <a:lnTo>
                    <a:pt x="7971" y="7861"/>
                  </a:lnTo>
                  <a:lnTo>
                    <a:pt x="7978" y="7872"/>
                  </a:lnTo>
                  <a:lnTo>
                    <a:pt x="7983" y="7883"/>
                  </a:lnTo>
                  <a:lnTo>
                    <a:pt x="7985" y="7894"/>
                  </a:lnTo>
                  <a:lnTo>
                    <a:pt x="7986" y="7905"/>
                  </a:lnTo>
                  <a:lnTo>
                    <a:pt x="7984" y="7915"/>
                  </a:lnTo>
                  <a:lnTo>
                    <a:pt x="7980" y="7925"/>
                  </a:lnTo>
                  <a:lnTo>
                    <a:pt x="7973" y="7936"/>
                  </a:lnTo>
                  <a:lnTo>
                    <a:pt x="7962" y="7945"/>
                  </a:lnTo>
                  <a:lnTo>
                    <a:pt x="7949" y="7954"/>
                  </a:lnTo>
                  <a:lnTo>
                    <a:pt x="7931" y="7962"/>
                  </a:lnTo>
                  <a:lnTo>
                    <a:pt x="7910" y="7969"/>
                  </a:lnTo>
                  <a:lnTo>
                    <a:pt x="7885" y="7976"/>
                  </a:lnTo>
                  <a:lnTo>
                    <a:pt x="7856" y="7982"/>
                  </a:lnTo>
                  <a:lnTo>
                    <a:pt x="7844" y="7981"/>
                  </a:lnTo>
                  <a:lnTo>
                    <a:pt x="7811" y="7981"/>
                  </a:lnTo>
                  <a:lnTo>
                    <a:pt x="7757" y="7981"/>
                  </a:lnTo>
                  <a:lnTo>
                    <a:pt x="7687" y="7982"/>
                  </a:lnTo>
                  <a:lnTo>
                    <a:pt x="7602" y="7986"/>
                  </a:lnTo>
                  <a:lnTo>
                    <a:pt x="7506" y="7991"/>
                  </a:lnTo>
                  <a:lnTo>
                    <a:pt x="7454" y="7995"/>
                  </a:lnTo>
                  <a:lnTo>
                    <a:pt x="7400" y="7999"/>
                  </a:lnTo>
                  <a:lnTo>
                    <a:pt x="7345" y="8004"/>
                  </a:lnTo>
                  <a:lnTo>
                    <a:pt x="7287" y="8011"/>
                  </a:lnTo>
                  <a:lnTo>
                    <a:pt x="7230" y="8018"/>
                  </a:lnTo>
                  <a:lnTo>
                    <a:pt x="7172" y="8027"/>
                  </a:lnTo>
                  <a:lnTo>
                    <a:pt x="7112" y="8036"/>
                  </a:lnTo>
                  <a:lnTo>
                    <a:pt x="7054" y="8047"/>
                  </a:lnTo>
                  <a:lnTo>
                    <a:pt x="6994" y="8060"/>
                  </a:lnTo>
                  <a:lnTo>
                    <a:pt x="6937" y="8074"/>
                  </a:lnTo>
                  <a:lnTo>
                    <a:pt x="6879" y="8089"/>
                  </a:lnTo>
                  <a:lnTo>
                    <a:pt x="6823" y="8106"/>
                  </a:lnTo>
                  <a:lnTo>
                    <a:pt x="6768" y="8124"/>
                  </a:lnTo>
                  <a:lnTo>
                    <a:pt x="6716" y="8144"/>
                  </a:lnTo>
                  <a:lnTo>
                    <a:pt x="6665" y="8165"/>
                  </a:lnTo>
                  <a:lnTo>
                    <a:pt x="6617" y="8190"/>
                  </a:lnTo>
                  <a:lnTo>
                    <a:pt x="6571" y="8216"/>
                  </a:lnTo>
                  <a:lnTo>
                    <a:pt x="6529" y="8243"/>
                  </a:lnTo>
                  <a:lnTo>
                    <a:pt x="6490" y="8273"/>
                  </a:lnTo>
                  <a:lnTo>
                    <a:pt x="6455" y="8305"/>
                  </a:lnTo>
                  <a:lnTo>
                    <a:pt x="6447" y="8318"/>
                  </a:lnTo>
                  <a:lnTo>
                    <a:pt x="6423" y="8351"/>
                  </a:lnTo>
                  <a:lnTo>
                    <a:pt x="6406" y="8374"/>
                  </a:lnTo>
                  <a:lnTo>
                    <a:pt x="6386" y="8399"/>
                  </a:lnTo>
                  <a:lnTo>
                    <a:pt x="6363" y="8427"/>
                  </a:lnTo>
                  <a:lnTo>
                    <a:pt x="6338" y="8456"/>
                  </a:lnTo>
                  <a:lnTo>
                    <a:pt x="6310" y="8484"/>
                  </a:lnTo>
                  <a:lnTo>
                    <a:pt x="6280" y="8513"/>
                  </a:lnTo>
                  <a:lnTo>
                    <a:pt x="6264" y="8526"/>
                  </a:lnTo>
                  <a:lnTo>
                    <a:pt x="6248" y="8541"/>
                  </a:lnTo>
                  <a:lnTo>
                    <a:pt x="6232" y="8553"/>
                  </a:lnTo>
                  <a:lnTo>
                    <a:pt x="6216" y="8566"/>
                  </a:lnTo>
                  <a:lnTo>
                    <a:pt x="6199" y="8577"/>
                  </a:lnTo>
                  <a:lnTo>
                    <a:pt x="6181" y="8588"/>
                  </a:lnTo>
                  <a:lnTo>
                    <a:pt x="6164" y="8597"/>
                  </a:lnTo>
                  <a:lnTo>
                    <a:pt x="6145" y="8606"/>
                  </a:lnTo>
                  <a:lnTo>
                    <a:pt x="6128" y="8613"/>
                  </a:lnTo>
                  <a:lnTo>
                    <a:pt x="6110" y="8620"/>
                  </a:lnTo>
                  <a:lnTo>
                    <a:pt x="6092" y="8624"/>
                  </a:lnTo>
                  <a:lnTo>
                    <a:pt x="6073" y="8628"/>
                  </a:lnTo>
                  <a:lnTo>
                    <a:pt x="6069" y="8634"/>
                  </a:lnTo>
                  <a:lnTo>
                    <a:pt x="6059" y="8650"/>
                  </a:lnTo>
                  <a:lnTo>
                    <a:pt x="6045" y="8676"/>
                  </a:lnTo>
                  <a:lnTo>
                    <a:pt x="6027" y="8709"/>
                  </a:lnTo>
                  <a:lnTo>
                    <a:pt x="6018" y="8727"/>
                  </a:lnTo>
                  <a:lnTo>
                    <a:pt x="6010" y="8746"/>
                  </a:lnTo>
                  <a:lnTo>
                    <a:pt x="6002" y="8766"/>
                  </a:lnTo>
                  <a:lnTo>
                    <a:pt x="5995" y="8788"/>
                  </a:lnTo>
                  <a:lnTo>
                    <a:pt x="5989" y="8809"/>
                  </a:lnTo>
                  <a:lnTo>
                    <a:pt x="5984" y="8830"/>
                  </a:lnTo>
                  <a:lnTo>
                    <a:pt x="5980" y="8852"/>
                  </a:lnTo>
                  <a:lnTo>
                    <a:pt x="5979" y="8873"/>
                  </a:lnTo>
                  <a:lnTo>
                    <a:pt x="5979" y="8895"/>
                  </a:lnTo>
                  <a:lnTo>
                    <a:pt x="5982" y="8915"/>
                  </a:lnTo>
                  <a:lnTo>
                    <a:pt x="5987" y="8934"/>
                  </a:lnTo>
                  <a:lnTo>
                    <a:pt x="5995" y="8952"/>
                  </a:lnTo>
                  <a:lnTo>
                    <a:pt x="6006" y="8968"/>
                  </a:lnTo>
                  <a:lnTo>
                    <a:pt x="6020" y="8983"/>
                  </a:lnTo>
                  <a:lnTo>
                    <a:pt x="6039" y="8997"/>
                  </a:lnTo>
                  <a:lnTo>
                    <a:pt x="6061" y="9008"/>
                  </a:lnTo>
                  <a:lnTo>
                    <a:pt x="6087" y="9018"/>
                  </a:lnTo>
                  <a:lnTo>
                    <a:pt x="6117" y="9025"/>
                  </a:lnTo>
                  <a:lnTo>
                    <a:pt x="6152" y="9029"/>
                  </a:lnTo>
                  <a:lnTo>
                    <a:pt x="6192" y="9030"/>
                  </a:lnTo>
                  <a:lnTo>
                    <a:pt x="6237" y="9028"/>
                  </a:lnTo>
                  <a:lnTo>
                    <a:pt x="6288" y="9023"/>
                  </a:lnTo>
                  <a:lnTo>
                    <a:pt x="6344" y="9014"/>
                  </a:lnTo>
                  <a:lnTo>
                    <a:pt x="6406" y="9000"/>
                  </a:lnTo>
                  <a:lnTo>
                    <a:pt x="6419" y="8997"/>
                  </a:lnTo>
                  <a:lnTo>
                    <a:pt x="6455" y="8987"/>
                  </a:lnTo>
                  <a:lnTo>
                    <a:pt x="6511" y="8971"/>
                  </a:lnTo>
                  <a:lnTo>
                    <a:pt x="6585" y="8950"/>
                  </a:lnTo>
                  <a:lnTo>
                    <a:pt x="6673" y="8924"/>
                  </a:lnTo>
                  <a:lnTo>
                    <a:pt x="6771" y="8894"/>
                  </a:lnTo>
                  <a:lnTo>
                    <a:pt x="6877" y="8860"/>
                  </a:lnTo>
                  <a:lnTo>
                    <a:pt x="6989" y="8823"/>
                  </a:lnTo>
                  <a:lnTo>
                    <a:pt x="7046" y="8804"/>
                  </a:lnTo>
                  <a:lnTo>
                    <a:pt x="7102" y="8784"/>
                  </a:lnTo>
                  <a:lnTo>
                    <a:pt x="7158" y="8763"/>
                  </a:lnTo>
                  <a:lnTo>
                    <a:pt x="7215" y="8742"/>
                  </a:lnTo>
                  <a:lnTo>
                    <a:pt x="7269" y="8722"/>
                  </a:lnTo>
                  <a:lnTo>
                    <a:pt x="7323" y="8701"/>
                  </a:lnTo>
                  <a:lnTo>
                    <a:pt x="7374" y="8679"/>
                  </a:lnTo>
                  <a:lnTo>
                    <a:pt x="7423" y="8658"/>
                  </a:lnTo>
                  <a:lnTo>
                    <a:pt x="7469" y="8636"/>
                  </a:lnTo>
                  <a:lnTo>
                    <a:pt x="7513" y="8614"/>
                  </a:lnTo>
                  <a:lnTo>
                    <a:pt x="7553" y="8593"/>
                  </a:lnTo>
                  <a:lnTo>
                    <a:pt x="7590" y="8572"/>
                  </a:lnTo>
                  <a:lnTo>
                    <a:pt x="7621" y="8552"/>
                  </a:lnTo>
                  <a:lnTo>
                    <a:pt x="7649" y="8530"/>
                  </a:lnTo>
                  <a:lnTo>
                    <a:pt x="7673" y="8510"/>
                  </a:lnTo>
                  <a:lnTo>
                    <a:pt x="7690" y="8491"/>
                  </a:lnTo>
                  <a:lnTo>
                    <a:pt x="7695" y="8486"/>
                  </a:lnTo>
                  <a:lnTo>
                    <a:pt x="7710" y="8472"/>
                  </a:lnTo>
                  <a:lnTo>
                    <a:pt x="7734" y="8452"/>
                  </a:lnTo>
                  <a:lnTo>
                    <a:pt x="7768" y="8427"/>
                  </a:lnTo>
                  <a:lnTo>
                    <a:pt x="7788" y="8414"/>
                  </a:lnTo>
                  <a:lnTo>
                    <a:pt x="7811" y="8399"/>
                  </a:lnTo>
                  <a:lnTo>
                    <a:pt x="7835" y="8384"/>
                  </a:lnTo>
                  <a:lnTo>
                    <a:pt x="7861" y="8370"/>
                  </a:lnTo>
                  <a:lnTo>
                    <a:pt x="7889" y="8356"/>
                  </a:lnTo>
                  <a:lnTo>
                    <a:pt x="7919" y="8342"/>
                  </a:lnTo>
                  <a:lnTo>
                    <a:pt x="7952" y="8329"/>
                  </a:lnTo>
                  <a:lnTo>
                    <a:pt x="7986" y="8317"/>
                  </a:lnTo>
                  <a:lnTo>
                    <a:pt x="8021" y="8307"/>
                  </a:lnTo>
                  <a:lnTo>
                    <a:pt x="8060" y="8297"/>
                  </a:lnTo>
                  <a:lnTo>
                    <a:pt x="8098" y="8289"/>
                  </a:lnTo>
                  <a:lnTo>
                    <a:pt x="8139" y="8283"/>
                  </a:lnTo>
                  <a:lnTo>
                    <a:pt x="8182" y="8279"/>
                  </a:lnTo>
                  <a:lnTo>
                    <a:pt x="8226" y="8278"/>
                  </a:lnTo>
                  <a:lnTo>
                    <a:pt x="8271" y="8280"/>
                  </a:lnTo>
                  <a:lnTo>
                    <a:pt x="8318" y="8284"/>
                  </a:lnTo>
                  <a:lnTo>
                    <a:pt x="8366" y="8291"/>
                  </a:lnTo>
                  <a:lnTo>
                    <a:pt x="8415" y="8303"/>
                  </a:lnTo>
                  <a:lnTo>
                    <a:pt x="8466" y="8317"/>
                  </a:lnTo>
                  <a:lnTo>
                    <a:pt x="8518" y="8336"/>
                  </a:lnTo>
                  <a:lnTo>
                    <a:pt x="8572" y="8358"/>
                  </a:lnTo>
                  <a:lnTo>
                    <a:pt x="8626" y="8384"/>
                  </a:lnTo>
                  <a:lnTo>
                    <a:pt x="8682" y="8416"/>
                  </a:lnTo>
                  <a:lnTo>
                    <a:pt x="8738" y="8452"/>
                  </a:lnTo>
                  <a:lnTo>
                    <a:pt x="8758" y="8462"/>
                  </a:lnTo>
                  <a:lnTo>
                    <a:pt x="8817" y="8490"/>
                  </a:lnTo>
                  <a:lnTo>
                    <a:pt x="8908" y="8534"/>
                  </a:lnTo>
                  <a:lnTo>
                    <a:pt x="9027" y="8589"/>
                  </a:lnTo>
                  <a:lnTo>
                    <a:pt x="9169" y="8655"/>
                  </a:lnTo>
                  <a:lnTo>
                    <a:pt x="9330" y="8727"/>
                  </a:lnTo>
                  <a:lnTo>
                    <a:pt x="9414" y="8764"/>
                  </a:lnTo>
                  <a:lnTo>
                    <a:pt x="9502" y="8803"/>
                  </a:lnTo>
                  <a:lnTo>
                    <a:pt x="9592" y="8842"/>
                  </a:lnTo>
                  <a:lnTo>
                    <a:pt x="9682" y="8880"/>
                  </a:lnTo>
                  <a:lnTo>
                    <a:pt x="9774" y="8919"/>
                  </a:lnTo>
                  <a:lnTo>
                    <a:pt x="9866" y="8956"/>
                  </a:lnTo>
                  <a:lnTo>
                    <a:pt x="9958" y="8993"/>
                  </a:lnTo>
                  <a:lnTo>
                    <a:pt x="10047" y="9028"/>
                  </a:lnTo>
                  <a:lnTo>
                    <a:pt x="10135" y="9061"/>
                  </a:lnTo>
                  <a:lnTo>
                    <a:pt x="10221" y="9092"/>
                  </a:lnTo>
                  <a:lnTo>
                    <a:pt x="10303" y="9120"/>
                  </a:lnTo>
                  <a:lnTo>
                    <a:pt x="10382" y="9147"/>
                  </a:lnTo>
                  <a:lnTo>
                    <a:pt x="10457" y="9169"/>
                  </a:lnTo>
                  <a:lnTo>
                    <a:pt x="10526" y="9188"/>
                  </a:lnTo>
                  <a:lnTo>
                    <a:pt x="10591" y="9203"/>
                  </a:lnTo>
                  <a:lnTo>
                    <a:pt x="10648" y="9213"/>
                  </a:lnTo>
                  <a:lnTo>
                    <a:pt x="10700" y="9219"/>
                  </a:lnTo>
                  <a:lnTo>
                    <a:pt x="10743" y="9220"/>
                  </a:lnTo>
                  <a:lnTo>
                    <a:pt x="10778" y="9216"/>
                  </a:lnTo>
                  <a:lnTo>
                    <a:pt x="10804" y="92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60" name="Freeform 1567"/>
            <p:cNvSpPr/>
            <p:nvPr/>
          </p:nvSpPr>
          <p:spPr>
            <a:xfrm>
              <a:off x="2666880" y="4643280"/>
              <a:ext cx="26640" cy="15480"/>
            </a:xfrm>
            <a:custGeom>
              <a:avLst/>
              <a:gdLst>
                <a:gd name="textAreaLeft" fmla="*/ 0 w 26640"/>
                <a:gd name="textAreaRight" fmla="*/ 27000 w 26640"/>
                <a:gd name="textAreaTop" fmla="*/ 0 h 15480"/>
                <a:gd name="textAreaBottom" fmla="*/ 15840 h 15480"/>
              </a:gdLst>
              <a:ahLst/>
              <a:rect l="textAreaLeft" t="textAreaTop" r="textAreaRight" b="textAreaBottom"/>
              <a:pathLst>
                <a:path w="845" h="611">
                  <a:moveTo>
                    <a:pt x="531" y="51"/>
                  </a:moveTo>
                  <a:lnTo>
                    <a:pt x="523" y="49"/>
                  </a:lnTo>
                  <a:lnTo>
                    <a:pt x="501" y="42"/>
                  </a:lnTo>
                  <a:lnTo>
                    <a:pt x="468" y="34"/>
                  </a:lnTo>
                  <a:lnTo>
                    <a:pt x="425" y="24"/>
                  </a:lnTo>
                  <a:lnTo>
                    <a:pt x="399" y="19"/>
                  </a:lnTo>
                  <a:lnTo>
                    <a:pt x="374" y="14"/>
                  </a:lnTo>
                  <a:lnTo>
                    <a:pt x="347" y="10"/>
                  </a:lnTo>
                  <a:lnTo>
                    <a:pt x="320" y="6"/>
                  </a:lnTo>
                  <a:lnTo>
                    <a:pt x="290" y="3"/>
                  </a:lnTo>
                  <a:lnTo>
                    <a:pt x="262" y="1"/>
                  </a:lnTo>
                  <a:lnTo>
                    <a:pt x="234" y="0"/>
                  </a:lnTo>
                  <a:lnTo>
                    <a:pt x="206" y="0"/>
                  </a:lnTo>
                  <a:lnTo>
                    <a:pt x="178" y="2"/>
                  </a:lnTo>
                  <a:lnTo>
                    <a:pt x="151" y="5"/>
                  </a:lnTo>
                  <a:lnTo>
                    <a:pt x="125" y="10"/>
                  </a:lnTo>
                  <a:lnTo>
                    <a:pt x="102" y="17"/>
                  </a:lnTo>
                  <a:lnTo>
                    <a:pt x="80" y="26"/>
                  </a:lnTo>
                  <a:lnTo>
                    <a:pt x="60" y="37"/>
                  </a:lnTo>
                  <a:lnTo>
                    <a:pt x="42" y="51"/>
                  </a:lnTo>
                  <a:lnTo>
                    <a:pt x="27" y="67"/>
                  </a:lnTo>
                  <a:lnTo>
                    <a:pt x="15" y="87"/>
                  </a:lnTo>
                  <a:lnTo>
                    <a:pt x="6" y="110"/>
                  </a:lnTo>
                  <a:lnTo>
                    <a:pt x="1" y="135"/>
                  </a:lnTo>
                  <a:lnTo>
                    <a:pt x="0" y="164"/>
                  </a:lnTo>
                  <a:lnTo>
                    <a:pt x="3" y="196"/>
                  </a:lnTo>
                  <a:lnTo>
                    <a:pt x="11" y="232"/>
                  </a:lnTo>
                  <a:lnTo>
                    <a:pt x="23" y="272"/>
                  </a:lnTo>
                  <a:lnTo>
                    <a:pt x="42" y="315"/>
                  </a:lnTo>
                  <a:lnTo>
                    <a:pt x="53" y="327"/>
                  </a:lnTo>
                  <a:lnTo>
                    <a:pt x="84" y="361"/>
                  </a:lnTo>
                  <a:lnTo>
                    <a:pt x="106" y="382"/>
                  </a:lnTo>
                  <a:lnTo>
                    <a:pt x="131" y="406"/>
                  </a:lnTo>
                  <a:lnTo>
                    <a:pt x="159" y="432"/>
                  </a:lnTo>
                  <a:lnTo>
                    <a:pt x="191" y="459"/>
                  </a:lnTo>
                  <a:lnTo>
                    <a:pt x="224" y="486"/>
                  </a:lnTo>
                  <a:lnTo>
                    <a:pt x="258" y="512"/>
                  </a:lnTo>
                  <a:lnTo>
                    <a:pt x="276" y="525"/>
                  </a:lnTo>
                  <a:lnTo>
                    <a:pt x="295" y="537"/>
                  </a:lnTo>
                  <a:lnTo>
                    <a:pt x="313" y="548"/>
                  </a:lnTo>
                  <a:lnTo>
                    <a:pt x="331" y="559"/>
                  </a:lnTo>
                  <a:lnTo>
                    <a:pt x="349" y="570"/>
                  </a:lnTo>
                  <a:lnTo>
                    <a:pt x="367" y="579"/>
                  </a:lnTo>
                  <a:lnTo>
                    <a:pt x="385" y="588"/>
                  </a:lnTo>
                  <a:lnTo>
                    <a:pt x="403" y="595"/>
                  </a:lnTo>
                  <a:lnTo>
                    <a:pt x="421" y="600"/>
                  </a:lnTo>
                  <a:lnTo>
                    <a:pt x="439" y="605"/>
                  </a:lnTo>
                  <a:lnTo>
                    <a:pt x="456" y="608"/>
                  </a:lnTo>
                  <a:lnTo>
                    <a:pt x="472" y="610"/>
                  </a:lnTo>
                  <a:lnTo>
                    <a:pt x="490" y="611"/>
                  </a:lnTo>
                  <a:lnTo>
                    <a:pt x="508" y="611"/>
                  </a:lnTo>
                  <a:lnTo>
                    <a:pt x="527" y="609"/>
                  </a:lnTo>
                  <a:lnTo>
                    <a:pt x="547" y="606"/>
                  </a:lnTo>
                  <a:lnTo>
                    <a:pt x="566" y="601"/>
                  </a:lnTo>
                  <a:lnTo>
                    <a:pt x="585" y="596"/>
                  </a:lnTo>
                  <a:lnTo>
                    <a:pt x="604" y="589"/>
                  </a:lnTo>
                  <a:lnTo>
                    <a:pt x="623" y="582"/>
                  </a:lnTo>
                  <a:lnTo>
                    <a:pt x="642" y="573"/>
                  </a:lnTo>
                  <a:lnTo>
                    <a:pt x="661" y="563"/>
                  </a:lnTo>
                  <a:lnTo>
                    <a:pt x="681" y="553"/>
                  </a:lnTo>
                  <a:lnTo>
                    <a:pt x="699" y="542"/>
                  </a:lnTo>
                  <a:lnTo>
                    <a:pt x="716" y="530"/>
                  </a:lnTo>
                  <a:lnTo>
                    <a:pt x="733" y="518"/>
                  </a:lnTo>
                  <a:lnTo>
                    <a:pt x="748" y="505"/>
                  </a:lnTo>
                  <a:lnTo>
                    <a:pt x="764" y="492"/>
                  </a:lnTo>
                  <a:lnTo>
                    <a:pt x="778" y="479"/>
                  </a:lnTo>
                  <a:lnTo>
                    <a:pt x="791" y="465"/>
                  </a:lnTo>
                  <a:lnTo>
                    <a:pt x="803" y="452"/>
                  </a:lnTo>
                  <a:lnTo>
                    <a:pt x="814" y="437"/>
                  </a:lnTo>
                  <a:lnTo>
                    <a:pt x="823" y="423"/>
                  </a:lnTo>
                  <a:lnTo>
                    <a:pt x="831" y="409"/>
                  </a:lnTo>
                  <a:lnTo>
                    <a:pt x="837" y="395"/>
                  </a:lnTo>
                  <a:lnTo>
                    <a:pt x="842" y="381"/>
                  </a:lnTo>
                  <a:lnTo>
                    <a:pt x="844" y="368"/>
                  </a:lnTo>
                  <a:lnTo>
                    <a:pt x="845" y="355"/>
                  </a:lnTo>
                  <a:lnTo>
                    <a:pt x="844" y="342"/>
                  </a:lnTo>
                  <a:lnTo>
                    <a:pt x="841" y="330"/>
                  </a:lnTo>
                  <a:lnTo>
                    <a:pt x="836" y="317"/>
                  </a:lnTo>
                  <a:lnTo>
                    <a:pt x="828" y="306"/>
                  </a:lnTo>
                  <a:lnTo>
                    <a:pt x="818" y="296"/>
                  </a:lnTo>
                  <a:lnTo>
                    <a:pt x="806" y="286"/>
                  </a:lnTo>
                  <a:lnTo>
                    <a:pt x="778" y="269"/>
                  </a:lnTo>
                  <a:lnTo>
                    <a:pt x="751" y="251"/>
                  </a:lnTo>
                  <a:lnTo>
                    <a:pt x="726" y="232"/>
                  </a:lnTo>
                  <a:lnTo>
                    <a:pt x="701" y="213"/>
                  </a:lnTo>
                  <a:lnTo>
                    <a:pt x="677" y="192"/>
                  </a:lnTo>
                  <a:lnTo>
                    <a:pt x="654" y="173"/>
                  </a:lnTo>
                  <a:lnTo>
                    <a:pt x="633" y="154"/>
                  </a:lnTo>
                  <a:lnTo>
                    <a:pt x="613" y="136"/>
                  </a:lnTo>
                  <a:lnTo>
                    <a:pt x="579" y="103"/>
                  </a:lnTo>
                  <a:lnTo>
                    <a:pt x="554" y="75"/>
                  </a:lnTo>
                  <a:lnTo>
                    <a:pt x="536" y="57"/>
                  </a:lnTo>
                  <a:lnTo>
                    <a:pt x="531" y="51"/>
                  </a:lnTo>
                  <a:close/>
                </a:path>
              </a:pathLst>
            </a:custGeom>
            <a:solidFill>
              <a:srgbClr val="93d5ed"/>
            </a:solidFill>
            <a:ln w="9360">
              <a:solidFill>
                <a:srgbClr val="ccecff"/>
              </a:solidFill>
              <a:round/>
            </a:ln>
          </p:spPr>
          <p:style>
            <a:lnRef idx="0"/>
            <a:fillRef idx="0"/>
            <a:effectRef idx="0"/>
            <a:fontRef idx="minor"/>
          </p:style>
          <p:txBody>
            <a:bodyPr lIns="90000" rIns="90000" tIns="-30960" bIns="-30960" anchor="t">
              <a:noAutofit/>
            </a:bodyPr>
            <a:p>
              <a:endParaRPr b="1" lang="en-US" sz="2400" spc="-1" strike="noStrike">
                <a:solidFill>
                  <a:srgbClr val="ffffff"/>
                </a:solidFill>
                <a:latin typeface="Times New Roman"/>
              </a:endParaRPr>
            </a:p>
          </p:txBody>
        </p:sp>
        <p:sp>
          <p:nvSpPr>
            <p:cNvPr id="461" name="Freeform 1568"/>
            <p:cNvSpPr/>
            <p:nvPr/>
          </p:nvSpPr>
          <p:spPr>
            <a:xfrm>
              <a:off x="2666880" y="4643280"/>
              <a:ext cx="26640" cy="15480"/>
            </a:xfrm>
            <a:custGeom>
              <a:avLst/>
              <a:gdLst>
                <a:gd name="textAreaLeft" fmla="*/ 0 w 26640"/>
                <a:gd name="textAreaRight" fmla="*/ 27000 w 26640"/>
                <a:gd name="textAreaTop" fmla="*/ 0 h 15480"/>
                <a:gd name="textAreaBottom" fmla="*/ 15840 h 15480"/>
              </a:gdLst>
              <a:ahLst/>
              <a:rect l="textAreaLeft" t="textAreaTop" r="textAreaRight" b="textAreaBottom"/>
              <a:pathLst>
                <a:path w="845" h="611">
                  <a:moveTo>
                    <a:pt x="531" y="51"/>
                  </a:moveTo>
                  <a:lnTo>
                    <a:pt x="523" y="49"/>
                  </a:lnTo>
                  <a:lnTo>
                    <a:pt x="501" y="42"/>
                  </a:lnTo>
                  <a:lnTo>
                    <a:pt x="468" y="34"/>
                  </a:lnTo>
                  <a:lnTo>
                    <a:pt x="425" y="24"/>
                  </a:lnTo>
                  <a:lnTo>
                    <a:pt x="399" y="19"/>
                  </a:lnTo>
                  <a:lnTo>
                    <a:pt x="374" y="14"/>
                  </a:lnTo>
                  <a:lnTo>
                    <a:pt x="347" y="10"/>
                  </a:lnTo>
                  <a:lnTo>
                    <a:pt x="320" y="6"/>
                  </a:lnTo>
                  <a:lnTo>
                    <a:pt x="290" y="3"/>
                  </a:lnTo>
                  <a:lnTo>
                    <a:pt x="262" y="1"/>
                  </a:lnTo>
                  <a:lnTo>
                    <a:pt x="234" y="0"/>
                  </a:lnTo>
                  <a:lnTo>
                    <a:pt x="206" y="0"/>
                  </a:lnTo>
                  <a:lnTo>
                    <a:pt x="178" y="2"/>
                  </a:lnTo>
                  <a:lnTo>
                    <a:pt x="151" y="5"/>
                  </a:lnTo>
                  <a:lnTo>
                    <a:pt x="125" y="10"/>
                  </a:lnTo>
                  <a:lnTo>
                    <a:pt x="102" y="17"/>
                  </a:lnTo>
                  <a:lnTo>
                    <a:pt x="80" y="26"/>
                  </a:lnTo>
                  <a:lnTo>
                    <a:pt x="60" y="37"/>
                  </a:lnTo>
                  <a:lnTo>
                    <a:pt x="42" y="51"/>
                  </a:lnTo>
                  <a:lnTo>
                    <a:pt x="27" y="67"/>
                  </a:lnTo>
                  <a:lnTo>
                    <a:pt x="15" y="87"/>
                  </a:lnTo>
                  <a:lnTo>
                    <a:pt x="6" y="110"/>
                  </a:lnTo>
                  <a:lnTo>
                    <a:pt x="1" y="135"/>
                  </a:lnTo>
                  <a:lnTo>
                    <a:pt x="0" y="164"/>
                  </a:lnTo>
                  <a:lnTo>
                    <a:pt x="3" y="196"/>
                  </a:lnTo>
                  <a:lnTo>
                    <a:pt x="11" y="232"/>
                  </a:lnTo>
                  <a:lnTo>
                    <a:pt x="23" y="272"/>
                  </a:lnTo>
                  <a:lnTo>
                    <a:pt x="42" y="315"/>
                  </a:lnTo>
                  <a:lnTo>
                    <a:pt x="53" y="327"/>
                  </a:lnTo>
                  <a:lnTo>
                    <a:pt x="84" y="361"/>
                  </a:lnTo>
                  <a:lnTo>
                    <a:pt x="106" y="382"/>
                  </a:lnTo>
                  <a:lnTo>
                    <a:pt x="131" y="406"/>
                  </a:lnTo>
                  <a:lnTo>
                    <a:pt x="159" y="432"/>
                  </a:lnTo>
                  <a:lnTo>
                    <a:pt x="191" y="459"/>
                  </a:lnTo>
                  <a:lnTo>
                    <a:pt x="224" y="486"/>
                  </a:lnTo>
                  <a:lnTo>
                    <a:pt x="258" y="512"/>
                  </a:lnTo>
                  <a:lnTo>
                    <a:pt x="276" y="525"/>
                  </a:lnTo>
                  <a:lnTo>
                    <a:pt x="295" y="537"/>
                  </a:lnTo>
                  <a:lnTo>
                    <a:pt x="313" y="548"/>
                  </a:lnTo>
                  <a:lnTo>
                    <a:pt x="331" y="559"/>
                  </a:lnTo>
                  <a:lnTo>
                    <a:pt x="349" y="570"/>
                  </a:lnTo>
                  <a:lnTo>
                    <a:pt x="367" y="579"/>
                  </a:lnTo>
                  <a:lnTo>
                    <a:pt x="385" y="588"/>
                  </a:lnTo>
                  <a:lnTo>
                    <a:pt x="403" y="595"/>
                  </a:lnTo>
                  <a:lnTo>
                    <a:pt x="421" y="600"/>
                  </a:lnTo>
                  <a:lnTo>
                    <a:pt x="439" y="605"/>
                  </a:lnTo>
                  <a:lnTo>
                    <a:pt x="456" y="608"/>
                  </a:lnTo>
                  <a:lnTo>
                    <a:pt x="472" y="610"/>
                  </a:lnTo>
                  <a:lnTo>
                    <a:pt x="490" y="611"/>
                  </a:lnTo>
                  <a:lnTo>
                    <a:pt x="508" y="611"/>
                  </a:lnTo>
                  <a:lnTo>
                    <a:pt x="527" y="609"/>
                  </a:lnTo>
                  <a:lnTo>
                    <a:pt x="547" y="606"/>
                  </a:lnTo>
                  <a:lnTo>
                    <a:pt x="566" y="601"/>
                  </a:lnTo>
                  <a:lnTo>
                    <a:pt x="585" y="596"/>
                  </a:lnTo>
                  <a:lnTo>
                    <a:pt x="604" y="589"/>
                  </a:lnTo>
                  <a:lnTo>
                    <a:pt x="623" y="582"/>
                  </a:lnTo>
                  <a:lnTo>
                    <a:pt x="642" y="573"/>
                  </a:lnTo>
                  <a:lnTo>
                    <a:pt x="661" y="563"/>
                  </a:lnTo>
                  <a:lnTo>
                    <a:pt x="681" y="553"/>
                  </a:lnTo>
                  <a:lnTo>
                    <a:pt x="699" y="542"/>
                  </a:lnTo>
                  <a:lnTo>
                    <a:pt x="716" y="530"/>
                  </a:lnTo>
                  <a:lnTo>
                    <a:pt x="733" y="518"/>
                  </a:lnTo>
                  <a:lnTo>
                    <a:pt x="748" y="505"/>
                  </a:lnTo>
                  <a:lnTo>
                    <a:pt x="764" y="492"/>
                  </a:lnTo>
                  <a:lnTo>
                    <a:pt x="778" y="479"/>
                  </a:lnTo>
                  <a:lnTo>
                    <a:pt x="791" y="465"/>
                  </a:lnTo>
                  <a:lnTo>
                    <a:pt x="803" y="452"/>
                  </a:lnTo>
                  <a:lnTo>
                    <a:pt x="814" y="437"/>
                  </a:lnTo>
                  <a:lnTo>
                    <a:pt x="823" y="423"/>
                  </a:lnTo>
                  <a:lnTo>
                    <a:pt x="831" y="409"/>
                  </a:lnTo>
                  <a:lnTo>
                    <a:pt x="837" y="395"/>
                  </a:lnTo>
                  <a:lnTo>
                    <a:pt x="842" y="381"/>
                  </a:lnTo>
                  <a:lnTo>
                    <a:pt x="844" y="368"/>
                  </a:lnTo>
                  <a:lnTo>
                    <a:pt x="845" y="355"/>
                  </a:lnTo>
                  <a:lnTo>
                    <a:pt x="844" y="342"/>
                  </a:lnTo>
                  <a:lnTo>
                    <a:pt x="841" y="330"/>
                  </a:lnTo>
                  <a:lnTo>
                    <a:pt x="836" y="317"/>
                  </a:lnTo>
                  <a:lnTo>
                    <a:pt x="828" y="306"/>
                  </a:lnTo>
                  <a:lnTo>
                    <a:pt x="818" y="296"/>
                  </a:lnTo>
                  <a:lnTo>
                    <a:pt x="806" y="286"/>
                  </a:lnTo>
                  <a:lnTo>
                    <a:pt x="778" y="269"/>
                  </a:lnTo>
                  <a:lnTo>
                    <a:pt x="751" y="251"/>
                  </a:lnTo>
                  <a:lnTo>
                    <a:pt x="726" y="232"/>
                  </a:lnTo>
                  <a:lnTo>
                    <a:pt x="701" y="213"/>
                  </a:lnTo>
                  <a:lnTo>
                    <a:pt x="677" y="192"/>
                  </a:lnTo>
                  <a:lnTo>
                    <a:pt x="654" y="173"/>
                  </a:lnTo>
                  <a:lnTo>
                    <a:pt x="633" y="154"/>
                  </a:lnTo>
                  <a:lnTo>
                    <a:pt x="613" y="136"/>
                  </a:lnTo>
                  <a:lnTo>
                    <a:pt x="579" y="103"/>
                  </a:lnTo>
                  <a:lnTo>
                    <a:pt x="554" y="75"/>
                  </a:lnTo>
                  <a:lnTo>
                    <a:pt x="536" y="57"/>
                  </a:lnTo>
                  <a:lnTo>
                    <a:pt x="531" y="51"/>
                  </a:lnTo>
                </a:path>
              </a:pathLst>
            </a:custGeom>
            <a:solidFill>
              <a:srgbClr val="93d5ed"/>
            </a:solidFill>
            <a:ln w="3240">
              <a:solidFill>
                <a:srgbClr val="ccecff"/>
              </a:solidFill>
              <a:round/>
            </a:ln>
          </p:spPr>
          <p:style>
            <a:lnRef idx="0"/>
            <a:fillRef idx="0"/>
            <a:effectRef idx="0"/>
            <a:fontRef idx="minor"/>
          </p:style>
          <p:txBody>
            <a:bodyPr lIns="90000" rIns="90000" tIns="-30960" bIns="-30960" anchor="t">
              <a:noAutofit/>
            </a:bodyPr>
            <a:p>
              <a:endParaRPr b="1" lang="en-US" sz="2400" spc="-1" strike="noStrike">
                <a:solidFill>
                  <a:srgbClr val="ffffff"/>
                </a:solidFill>
                <a:latin typeface="Times New Roman"/>
              </a:endParaRPr>
            </a:p>
          </p:txBody>
        </p:sp>
        <p:sp>
          <p:nvSpPr>
            <p:cNvPr id="462" name="Freeform 1569"/>
            <p:cNvSpPr/>
            <p:nvPr/>
          </p:nvSpPr>
          <p:spPr>
            <a:xfrm>
              <a:off x="2755440" y="4758120"/>
              <a:ext cx="80640" cy="85320"/>
            </a:xfrm>
            <a:custGeom>
              <a:avLst/>
              <a:gdLst>
                <a:gd name="textAreaLeft" fmla="*/ 0 w 80640"/>
                <a:gd name="textAreaRight" fmla="*/ 81000 w 80640"/>
                <a:gd name="textAreaTop" fmla="*/ 0 h 85320"/>
                <a:gd name="textAreaBottom" fmla="*/ 85680 h 85320"/>
              </a:gdLst>
              <a:ahLst/>
              <a:rect l="textAreaLeft" t="textAreaTop" r="textAreaRight" b="textAreaBottom"/>
              <a:pathLst>
                <a:path w="2508" h="3165">
                  <a:moveTo>
                    <a:pt x="2498" y="0"/>
                  </a:moveTo>
                  <a:lnTo>
                    <a:pt x="2487" y="5"/>
                  </a:lnTo>
                  <a:lnTo>
                    <a:pt x="2455" y="22"/>
                  </a:lnTo>
                  <a:lnTo>
                    <a:pt x="2405" y="47"/>
                  </a:lnTo>
                  <a:lnTo>
                    <a:pt x="2341" y="79"/>
                  </a:lnTo>
                  <a:lnTo>
                    <a:pt x="2263" y="117"/>
                  </a:lnTo>
                  <a:lnTo>
                    <a:pt x="2176" y="161"/>
                  </a:lnTo>
                  <a:lnTo>
                    <a:pt x="2080" y="207"/>
                  </a:lnTo>
                  <a:lnTo>
                    <a:pt x="1980" y="256"/>
                  </a:lnTo>
                  <a:lnTo>
                    <a:pt x="1878" y="305"/>
                  </a:lnTo>
                  <a:lnTo>
                    <a:pt x="1776" y="353"/>
                  </a:lnTo>
                  <a:lnTo>
                    <a:pt x="1678" y="400"/>
                  </a:lnTo>
                  <a:lnTo>
                    <a:pt x="1585" y="442"/>
                  </a:lnTo>
                  <a:lnTo>
                    <a:pt x="1500" y="480"/>
                  </a:lnTo>
                  <a:lnTo>
                    <a:pt x="1427" y="511"/>
                  </a:lnTo>
                  <a:lnTo>
                    <a:pt x="1394" y="524"/>
                  </a:lnTo>
                  <a:lnTo>
                    <a:pt x="1366" y="535"/>
                  </a:lnTo>
                  <a:lnTo>
                    <a:pt x="1342" y="543"/>
                  </a:lnTo>
                  <a:lnTo>
                    <a:pt x="1323" y="549"/>
                  </a:lnTo>
                  <a:lnTo>
                    <a:pt x="0" y="1010"/>
                  </a:lnTo>
                  <a:lnTo>
                    <a:pt x="0" y="3165"/>
                  </a:lnTo>
                  <a:lnTo>
                    <a:pt x="1479" y="2646"/>
                  </a:lnTo>
                  <a:lnTo>
                    <a:pt x="2508" y="2146"/>
                  </a:lnTo>
                  <a:lnTo>
                    <a:pt x="2498" y="0"/>
                  </a:lnTo>
                  <a:close/>
                </a:path>
              </a:pathLst>
            </a:custGeom>
            <a:solidFill>
              <a:srgbClr val="93d5ed"/>
            </a:solidFill>
            <a:ln w="9360">
              <a:solidFill>
                <a:srgbClr val="ccecff"/>
              </a:solidFill>
              <a:round/>
            </a:ln>
          </p:spPr>
          <p:style>
            <a:lnRef idx="0"/>
            <a:fillRef idx="0"/>
            <a:effectRef idx="0"/>
            <a:fontRef idx="minor"/>
          </p:style>
          <p:txBody>
            <a:bodyPr lIns="90000" rIns="90000" tIns="38880" bIns="38880" anchor="t">
              <a:noAutofit/>
            </a:bodyPr>
            <a:p>
              <a:endParaRPr b="1" lang="en-US" sz="2400" spc="-1" strike="noStrike">
                <a:solidFill>
                  <a:srgbClr val="ffffff"/>
                </a:solidFill>
                <a:latin typeface="Times New Roman"/>
              </a:endParaRPr>
            </a:p>
          </p:txBody>
        </p:sp>
        <p:sp>
          <p:nvSpPr>
            <p:cNvPr id="463" name="Freeform 1570"/>
            <p:cNvSpPr/>
            <p:nvPr/>
          </p:nvSpPr>
          <p:spPr>
            <a:xfrm>
              <a:off x="3131640" y="4759560"/>
              <a:ext cx="28440" cy="106560"/>
            </a:xfrm>
            <a:custGeom>
              <a:avLst/>
              <a:gdLst>
                <a:gd name="textAreaLeft" fmla="*/ 0 w 28440"/>
                <a:gd name="textAreaRight" fmla="*/ 28800 w 28440"/>
                <a:gd name="textAreaTop" fmla="*/ 0 h 106560"/>
                <a:gd name="textAreaBottom" fmla="*/ 106920 h 106560"/>
              </a:gdLst>
              <a:ahLst/>
              <a:rect l="textAreaLeft" t="textAreaTop" r="textAreaRight" b="textAreaBottom"/>
              <a:pathLst>
                <a:path w="891" h="3959">
                  <a:moveTo>
                    <a:pt x="0" y="0"/>
                  </a:moveTo>
                  <a:lnTo>
                    <a:pt x="891" y="1872"/>
                  </a:lnTo>
                  <a:lnTo>
                    <a:pt x="891" y="3959"/>
                  </a:lnTo>
                  <a:lnTo>
                    <a:pt x="10" y="2146"/>
                  </a:lnTo>
                  <a:lnTo>
                    <a:pt x="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sp>
        <p:nvSpPr>
          <p:cNvPr id="464" name="Freeform 753"/>
          <p:cNvSpPr/>
          <p:nvPr/>
        </p:nvSpPr>
        <p:spPr>
          <a:xfrm>
            <a:off x="228600" y="2133720"/>
            <a:ext cx="8610480" cy="3352680"/>
          </a:xfrm>
          <a:custGeom>
            <a:avLst/>
            <a:gdLst>
              <a:gd name="textAreaLeft" fmla="*/ 0 w 8610480"/>
              <a:gd name="textAreaRight" fmla="*/ 8610840 w 8610480"/>
              <a:gd name="textAreaTop" fmla="*/ 0 h 3352680"/>
              <a:gd name="textAreaBottom" fmla="*/ 3353040 h 3352680"/>
            </a:gdLst>
            <a:ahLst/>
            <a:rect l="textAreaLeft" t="textAreaTop" r="textAreaRight" b="textAreaBottom"/>
            <a:pathLst>
              <a:path w="5792" h="2480">
                <a:moveTo>
                  <a:pt x="0" y="56"/>
                </a:moveTo>
                <a:cubicBezTo>
                  <a:pt x="2144" y="28"/>
                  <a:pt x="4288" y="0"/>
                  <a:pt x="5040" y="248"/>
                </a:cubicBezTo>
                <a:cubicBezTo>
                  <a:pt x="5792" y="496"/>
                  <a:pt x="4920" y="1192"/>
                  <a:pt x="4512" y="1544"/>
                </a:cubicBezTo>
                <a:cubicBezTo>
                  <a:pt x="4104" y="1896"/>
                  <a:pt x="3056" y="2240"/>
                  <a:pt x="2592" y="2360"/>
                </a:cubicBezTo>
                <a:cubicBezTo>
                  <a:pt x="2128" y="2480"/>
                  <a:pt x="1928" y="2372"/>
                  <a:pt x="1728" y="2264"/>
                </a:cubicBezTo>
              </a:path>
            </a:pathLst>
          </a:custGeom>
          <a:noFill/>
          <a:ln w="76320">
            <a:solidFill>
              <a:srgbClr val="ffffff"/>
            </a:solidFill>
            <a:round/>
            <a:tailEnd len="med" type="stealth" w="med"/>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465" name="Text Box 755"/>
          <p:cNvSpPr/>
          <p:nvPr/>
        </p:nvSpPr>
        <p:spPr>
          <a:xfrm>
            <a:off x="2743200" y="3200400"/>
            <a:ext cx="1879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atient enters </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D/hospital</a:t>
            </a:r>
            <a:endParaRPr b="1" lang="en-US" sz="2000" spc="-1" strike="noStrike">
              <a:solidFill>
                <a:srgbClr val="ffffff"/>
              </a:solidFill>
              <a:latin typeface="Times New Roman"/>
            </a:endParaRPr>
          </a:p>
        </p:txBody>
      </p:sp>
      <p:sp>
        <p:nvSpPr>
          <p:cNvPr id="466" name="Text Box 756"/>
          <p:cNvSpPr/>
          <p:nvPr/>
        </p:nvSpPr>
        <p:spPr>
          <a:xfrm>
            <a:off x="380880" y="4343400"/>
            <a:ext cx="2133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67" name="Rectangle 471"/>
          <p:cNvSpPr/>
          <p:nvPr/>
        </p:nvSpPr>
        <p:spPr>
          <a:xfrm>
            <a:off x="6394320" y="5029200"/>
            <a:ext cx="25974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Hospital sends </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billing data and any additional data elements to</a:t>
            </a:r>
            <a:br>
              <a:rPr sz="2000"/>
            </a:br>
            <a:r>
              <a:rPr b="1" i="1" lang="en-US" sz="2000" spc="-1" strike="noStrike">
                <a:solidFill>
                  <a:srgbClr val="ffffff"/>
                </a:solidFill>
                <a:latin typeface="Arial"/>
              </a:rPr>
              <a:t>Data Organizations</a:t>
            </a:r>
            <a:endParaRPr b="1" lang="en-US" sz="2000" spc="-1" strike="noStrike">
              <a:solidFill>
                <a:srgbClr val="ffffff"/>
              </a:solidFill>
              <a:latin typeface="Times New Roman"/>
            </a:endParaRPr>
          </a:p>
        </p:txBody>
      </p:sp>
      <p:sp>
        <p:nvSpPr>
          <p:cNvPr id="468" name="Rectangle 472"/>
          <p:cNvSpPr/>
          <p:nvPr/>
        </p:nvSpPr>
        <p:spPr>
          <a:xfrm>
            <a:off x="3429000" y="5867280"/>
            <a:ext cx="2438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ates store data in varying formats</a:t>
            </a:r>
            <a:endParaRPr b="1" lang="en-US" sz="2000" spc="-1" strike="noStrike">
              <a:solidFill>
                <a:srgbClr val="ffffff"/>
              </a:solidFill>
              <a:latin typeface="Times New Roman"/>
            </a:endParaRPr>
          </a:p>
        </p:txBody>
      </p:sp>
      <p:pic>
        <p:nvPicPr>
          <p:cNvPr id="469" name="Picture 474" descr=""/>
          <p:cNvPicPr/>
          <p:nvPr/>
        </p:nvPicPr>
        <p:blipFill>
          <a:blip r:embed="rId1"/>
          <a:stretch/>
        </p:blipFill>
        <p:spPr>
          <a:xfrm rot="1561800">
            <a:off x="2666520" y="1447920"/>
            <a:ext cx="1752840" cy="1752480"/>
          </a:xfrm>
          <a:prstGeom prst="rect">
            <a:avLst/>
          </a:prstGeom>
          <a:ln w="0">
            <a:noFill/>
          </a:ln>
        </p:spPr>
      </p:pic>
      <p:pic>
        <p:nvPicPr>
          <p:cNvPr id="470" name="Picture 481" descr=""/>
          <p:cNvPicPr/>
          <p:nvPr/>
        </p:nvPicPr>
        <p:blipFill>
          <a:blip r:embed="rId2"/>
          <a:stretch/>
        </p:blipFill>
        <p:spPr>
          <a:xfrm rot="21294600">
            <a:off x="6019920" y="3352680"/>
            <a:ext cx="1752480" cy="1752840"/>
          </a:xfrm>
          <a:prstGeom prst="rect">
            <a:avLst/>
          </a:prstGeom>
          <a:ln w="0">
            <a:noFill/>
          </a:ln>
        </p:spPr>
      </p:pic>
      <p:sp>
        <p:nvSpPr>
          <p:cNvPr id="471" name="Line 482"/>
          <p:cNvSpPr/>
          <p:nvPr/>
        </p:nvSpPr>
        <p:spPr>
          <a:xfrm>
            <a:off x="990720" y="2209680"/>
            <a:ext cx="1522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472" name="Text Box 757"/>
          <p:cNvSpPr/>
          <p:nvPr/>
        </p:nvSpPr>
        <p:spPr>
          <a:xfrm>
            <a:off x="7899480" y="1523880"/>
            <a:ext cx="1143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Billing record   created</a:t>
            </a:r>
            <a:endParaRPr b="1" lang="en-US" sz="2000" spc="-1" strike="noStrike">
              <a:solidFill>
                <a:srgbClr val="ffffff"/>
              </a:solidFill>
              <a:latin typeface="Times New Roman"/>
            </a:endParaRPr>
          </a:p>
        </p:txBody>
      </p:sp>
      <p:sp>
        <p:nvSpPr>
          <p:cNvPr id="473" name="Rectangle 483"/>
          <p:cNvSpPr/>
          <p:nvPr/>
        </p:nvSpPr>
        <p:spPr>
          <a:xfrm>
            <a:off x="228600" y="5029200"/>
            <a:ext cx="2438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HRQ standardizes data  to create uniform HCUP databases</a:t>
            </a:r>
            <a:endParaRPr b="1" lang="en-US" sz="2000" spc="-1" strike="noStrike">
              <a:solidFill>
                <a:srgbClr val="ffffff"/>
              </a:solidFill>
              <a:latin typeface="Times New Roman"/>
            </a:endParaRPr>
          </a:p>
        </p:txBody>
      </p:sp>
      <p:sp>
        <p:nvSpPr>
          <p:cNvPr id="474" name="Text Box 484"/>
          <p:cNvSpPr/>
          <p:nvPr/>
        </p:nvSpPr>
        <p:spPr>
          <a:xfrm>
            <a:off x="990720" y="1600200"/>
            <a:ext cx="99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75" name="Line 488"/>
          <p:cNvSpPr/>
          <p:nvPr/>
        </p:nvSpPr>
        <p:spPr>
          <a:xfrm>
            <a:off x="4876920" y="2209680"/>
            <a:ext cx="75960" cy="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476" name="Line 489"/>
          <p:cNvSpPr/>
          <p:nvPr/>
        </p:nvSpPr>
        <p:spPr>
          <a:xfrm flipH="1">
            <a:off x="7620120" y="3352680"/>
            <a:ext cx="304560" cy="30492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pic>
        <p:nvPicPr>
          <p:cNvPr id="477" name="Picture 490" descr="HCUP Logo_lg"/>
          <p:cNvPicPr/>
          <p:nvPr/>
        </p:nvPicPr>
        <p:blipFill>
          <a:blip r:embed="rId3"/>
          <a:stretch/>
        </p:blipFill>
        <p:spPr>
          <a:xfrm>
            <a:off x="762120" y="3352680"/>
            <a:ext cx="1387440" cy="1228680"/>
          </a:xfrm>
          <a:prstGeom prst="rect">
            <a:avLst/>
          </a:prstGeom>
          <a:ln w="0">
            <a:noFill/>
          </a:ln>
        </p:spPr>
      </p:pic>
      <p:sp>
        <p:nvSpPr>
          <p:cNvPr id="478" name="Oval 491"/>
          <p:cNvSpPr/>
          <p:nvPr/>
        </p:nvSpPr>
        <p:spPr>
          <a:xfrm>
            <a:off x="457200" y="3200400"/>
            <a:ext cx="2057400" cy="18288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pic>
        <p:nvPicPr>
          <p:cNvPr id="479" name="Picture 492" descr="UB92Form"/>
          <p:cNvPicPr/>
          <p:nvPr/>
        </p:nvPicPr>
        <p:blipFill>
          <a:blip r:embed="rId4"/>
          <a:stretch/>
        </p:blipFill>
        <p:spPr>
          <a:xfrm>
            <a:off x="5867280" y="1523880"/>
            <a:ext cx="1905120" cy="1543320"/>
          </a:xfrm>
          <a:prstGeom prst="rect">
            <a:avLst/>
          </a:prstGeom>
          <a:ln w="0">
            <a:noFill/>
          </a:ln>
        </p:spPr>
      </p:pic>
      <p:sp>
        <p:nvSpPr>
          <p:cNvPr id="480"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Making of HCUP Data</a:t>
            </a:r>
            <a:endParaRPr b="1" lang="en-US" sz="4000" spc="-1" strike="noStrike">
              <a:solidFill>
                <a:srgbClr val="ffff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1"/>
          <p:cNvSpPr/>
          <p:nvPr/>
        </p:nvSpPr>
        <p:spPr>
          <a:xfrm>
            <a:off x="304920" y="6400800"/>
            <a:ext cx="574560" cy="22860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32CE-DFA3-4E95-9F44-2A4A1473AD0F}"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grpSp>
        <p:nvGrpSpPr>
          <p:cNvPr id="482" name="Group 3"/>
          <p:cNvGrpSpPr/>
          <p:nvPr/>
        </p:nvGrpSpPr>
        <p:grpSpPr>
          <a:xfrm>
            <a:off x="457200" y="1676520"/>
            <a:ext cx="8381160" cy="3885840"/>
            <a:chOff x="457200" y="1676520"/>
            <a:chExt cx="8381160" cy="3885840"/>
          </a:xfrm>
        </p:grpSpPr>
        <p:sp>
          <p:nvSpPr>
            <p:cNvPr id="483" name="Freeform 4"/>
            <p:cNvSpPr/>
            <p:nvPr/>
          </p:nvSpPr>
          <p:spPr>
            <a:xfrm>
              <a:off x="7410240" y="2166480"/>
              <a:ext cx="608760" cy="925920"/>
            </a:xfrm>
            <a:custGeom>
              <a:avLst/>
              <a:gdLst>
                <a:gd name="textAreaLeft" fmla="*/ 0 w 608760"/>
                <a:gd name="textAreaRight" fmla="*/ 609120 w 608760"/>
                <a:gd name="textAreaTop" fmla="*/ 0 h 925920"/>
                <a:gd name="textAreaBottom" fmla="*/ 926280 h 925920"/>
              </a:gdLst>
              <a:ahLst/>
              <a:rect l="textAreaLeft" t="textAreaTop" r="textAreaRight" b="textAreaBottom"/>
              <a:pathLst>
                <a:path w="1383" h="2042">
                  <a:moveTo>
                    <a:pt x="1220" y="0"/>
                  </a:moveTo>
                  <a:lnTo>
                    <a:pt x="1237" y="6"/>
                  </a:lnTo>
                  <a:lnTo>
                    <a:pt x="1250" y="11"/>
                  </a:lnTo>
                  <a:lnTo>
                    <a:pt x="1260" y="18"/>
                  </a:lnTo>
                  <a:lnTo>
                    <a:pt x="1267" y="24"/>
                  </a:lnTo>
                  <a:lnTo>
                    <a:pt x="1270" y="27"/>
                  </a:lnTo>
                  <a:lnTo>
                    <a:pt x="1272" y="30"/>
                  </a:lnTo>
                  <a:lnTo>
                    <a:pt x="1272" y="34"/>
                  </a:lnTo>
                  <a:lnTo>
                    <a:pt x="1272" y="36"/>
                  </a:lnTo>
                  <a:lnTo>
                    <a:pt x="1272" y="39"/>
                  </a:lnTo>
                  <a:lnTo>
                    <a:pt x="1270" y="43"/>
                  </a:lnTo>
                  <a:lnTo>
                    <a:pt x="1267" y="46"/>
                  </a:lnTo>
                  <a:lnTo>
                    <a:pt x="1264" y="49"/>
                  </a:lnTo>
                  <a:lnTo>
                    <a:pt x="1253" y="56"/>
                  </a:lnTo>
                  <a:lnTo>
                    <a:pt x="1239" y="63"/>
                  </a:lnTo>
                  <a:lnTo>
                    <a:pt x="1220" y="70"/>
                  </a:lnTo>
                  <a:lnTo>
                    <a:pt x="1198" y="77"/>
                  </a:lnTo>
                  <a:lnTo>
                    <a:pt x="1173" y="85"/>
                  </a:lnTo>
                  <a:lnTo>
                    <a:pt x="1141" y="93"/>
                  </a:lnTo>
                  <a:lnTo>
                    <a:pt x="1106" y="101"/>
                  </a:lnTo>
                  <a:lnTo>
                    <a:pt x="1065" y="110"/>
                  </a:lnTo>
                  <a:lnTo>
                    <a:pt x="1039" y="117"/>
                  </a:lnTo>
                  <a:lnTo>
                    <a:pt x="1016" y="124"/>
                  </a:lnTo>
                  <a:lnTo>
                    <a:pt x="1007" y="128"/>
                  </a:lnTo>
                  <a:lnTo>
                    <a:pt x="997" y="133"/>
                  </a:lnTo>
                  <a:lnTo>
                    <a:pt x="989" y="138"/>
                  </a:lnTo>
                  <a:lnTo>
                    <a:pt x="982" y="142"/>
                  </a:lnTo>
                  <a:lnTo>
                    <a:pt x="976" y="148"/>
                  </a:lnTo>
                  <a:lnTo>
                    <a:pt x="970" y="154"/>
                  </a:lnTo>
                  <a:lnTo>
                    <a:pt x="965" y="159"/>
                  </a:lnTo>
                  <a:lnTo>
                    <a:pt x="961" y="164"/>
                  </a:lnTo>
                  <a:lnTo>
                    <a:pt x="954" y="176"/>
                  </a:lnTo>
                  <a:lnTo>
                    <a:pt x="951" y="188"/>
                  </a:lnTo>
                  <a:lnTo>
                    <a:pt x="948" y="199"/>
                  </a:lnTo>
                  <a:lnTo>
                    <a:pt x="948" y="211"/>
                  </a:lnTo>
                  <a:lnTo>
                    <a:pt x="949" y="223"/>
                  </a:lnTo>
                  <a:lnTo>
                    <a:pt x="953" y="235"/>
                  </a:lnTo>
                  <a:lnTo>
                    <a:pt x="956" y="245"/>
                  </a:lnTo>
                  <a:lnTo>
                    <a:pt x="962" y="254"/>
                  </a:lnTo>
                  <a:lnTo>
                    <a:pt x="967" y="264"/>
                  </a:lnTo>
                  <a:lnTo>
                    <a:pt x="973" y="271"/>
                  </a:lnTo>
                  <a:lnTo>
                    <a:pt x="977" y="278"/>
                  </a:lnTo>
                  <a:lnTo>
                    <a:pt x="981" y="285"/>
                  </a:lnTo>
                  <a:lnTo>
                    <a:pt x="982" y="292"/>
                  </a:lnTo>
                  <a:lnTo>
                    <a:pt x="982" y="298"/>
                  </a:lnTo>
                  <a:lnTo>
                    <a:pt x="981" y="305"/>
                  </a:lnTo>
                  <a:lnTo>
                    <a:pt x="979" y="312"/>
                  </a:lnTo>
                  <a:lnTo>
                    <a:pt x="974" y="319"/>
                  </a:lnTo>
                  <a:lnTo>
                    <a:pt x="969" y="326"/>
                  </a:lnTo>
                  <a:lnTo>
                    <a:pt x="958" y="341"/>
                  </a:lnTo>
                  <a:lnTo>
                    <a:pt x="944" y="355"/>
                  </a:lnTo>
                  <a:lnTo>
                    <a:pt x="927" y="369"/>
                  </a:lnTo>
                  <a:lnTo>
                    <a:pt x="910" y="384"/>
                  </a:lnTo>
                  <a:lnTo>
                    <a:pt x="893" y="398"/>
                  </a:lnTo>
                  <a:lnTo>
                    <a:pt x="877" y="412"/>
                  </a:lnTo>
                  <a:lnTo>
                    <a:pt x="863" y="427"/>
                  </a:lnTo>
                  <a:lnTo>
                    <a:pt x="851" y="441"/>
                  </a:lnTo>
                  <a:lnTo>
                    <a:pt x="847" y="448"/>
                  </a:lnTo>
                  <a:lnTo>
                    <a:pt x="843" y="455"/>
                  </a:lnTo>
                  <a:lnTo>
                    <a:pt x="841" y="462"/>
                  </a:lnTo>
                  <a:lnTo>
                    <a:pt x="840" y="470"/>
                  </a:lnTo>
                  <a:lnTo>
                    <a:pt x="840" y="477"/>
                  </a:lnTo>
                  <a:lnTo>
                    <a:pt x="842" y="484"/>
                  </a:lnTo>
                  <a:lnTo>
                    <a:pt x="844" y="491"/>
                  </a:lnTo>
                  <a:lnTo>
                    <a:pt x="849" y="499"/>
                  </a:lnTo>
                  <a:lnTo>
                    <a:pt x="870" y="503"/>
                  </a:lnTo>
                  <a:lnTo>
                    <a:pt x="889" y="508"/>
                  </a:lnTo>
                  <a:lnTo>
                    <a:pt x="904" y="513"/>
                  </a:lnTo>
                  <a:lnTo>
                    <a:pt x="918" y="518"/>
                  </a:lnTo>
                  <a:lnTo>
                    <a:pt x="930" y="524"/>
                  </a:lnTo>
                  <a:lnTo>
                    <a:pt x="940" y="530"/>
                  </a:lnTo>
                  <a:lnTo>
                    <a:pt x="948" y="537"/>
                  </a:lnTo>
                  <a:lnTo>
                    <a:pt x="954" y="544"/>
                  </a:lnTo>
                  <a:lnTo>
                    <a:pt x="958" y="551"/>
                  </a:lnTo>
                  <a:lnTo>
                    <a:pt x="961" y="559"/>
                  </a:lnTo>
                  <a:lnTo>
                    <a:pt x="961" y="567"/>
                  </a:lnTo>
                  <a:lnTo>
                    <a:pt x="960" y="577"/>
                  </a:lnTo>
                  <a:lnTo>
                    <a:pt x="958" y="586"/>
                  </a:lnTo>
                  <a:lnTo>
                    <a:pt x="954" y="597"/>
                  </a:lnTo>
                  <a:lnTo>
                    <a:pt x="948" y="608"/>
                  </a:lnTo>
                  <a:lnTo>
                    <a:pt x="941" y="619"/>
                  </a:lnTo>
                  <a:lnTo>
                    <a:pt x="963" y="618"/>
                  </a:lnTo>
                  <a:lnTo>
                    <a:pt x="982" y="619"/>
                  </a:lnTo>
                  <a:lnTo>
                    <a:pt x="999" y="621"/>
                  </a:lnTo>
                  <a:lnTo>
                    <a:pt x="1013" y="626"/>
                  </a:lnTo>
                  <a:lnTo>
                    <a:pt x="1024" y="630"/>
                  </a:lnTo>
                  <a:lnTo>
                    <a:pt x="1036" y="638"/>
                  </a:lnTo>
                  <a:lnTo>
                    <a:pt x="1045" y="645"/>
                  </a:lnTo>
                  <a:lnTo>
                    <a:pt x="1055" y="653"/>
                  </a:lnTo>
                  <a:lnTo>
                    <a:pt x="1072" y="669"/>
                  </a:lnTo>
                  <a:lnTo>
                    <a:pt x="1091" y="683"/>
                  </a:lnTo>
                  <a:lnTo>
                    <a:pt x="1101" y="689"/>
                  </a:lnTo>
                  <a:lnTo>
                    <a:pt x="1113" y="694"/>
                  </a:lnTo>
                  <a:lnTo>
                    <a:pt x="1127" y="696"/>
                  </a:lnTo>
                  <a:lnTo>
                    <a:pt x="1143" y="697"/>
                  </a:lnTo>
                  <a:lnTo>
                    <a:pt x="1160" y="697"/>
                  </a:lnTo>
                  <a:lnTo>
                    <a:pt x="1176" y="695"/>
                  </a:lnTo>
                  <a:lnTo>
                    <a:pt x="1190" y="692"/>
                  </a:lnTo>
                  <a:lnTo>
                    <a:pt x="1205" y="690"/>
                  </a:lnTo>
                  <a:lnTo>
                    <a:pt x="1231" y="682"/>
                  </a:lnTo>
                  <a:lnTo>
                    <a:pt x="1254" y="674"/>
                  </a:lnTo>
                  <a:lnTo>
                    <a:pt x="1278" y="666"/>
                  </a:lnTo>
                  <a:lnTo>
                    <a:pt x="1300" y="659"/>
                  </a:lnTo>
                  <a:lnTo>
                    <a:pt x="1310" y="655"/>
                  </a:lnTo>
                  <a:lnTo>
                    <a:pt x="1322" y="653"/>
                  </a:lnTo>
                  <a:lnTo>
                    <a:pt x="1333" y="652"/>
                  </a:lnTo>
                  <a:lnTo>
                    <a:pt x="1345" y="652"/>
                  </a:lnTo>
                  <a:lnTo>
                    <a:pt x="1354" y="652"/>
                  </a:lnTo>
                  <a:lnTo>
                    <a:pt x="1361" y="654"/>
                  </a:lnTo>
                  <a:lnTo>
                    <a:pt x="1364" y="657"/>
                  </a:lnTo>
                  <a:lnTo>
                    <a:pt x="1366" y="662"/>
                  </a:lnTo>
                  <a:lnTo>
                    <a:pt x="1368" y="669"/>
                  </a:lnTo>
                  <a:lnTo>
                    <a:pt x="1368" y="676"/>
                  </a:lnTo>
                  <a:lnTo>
                    <a:pt x="1366" y="684"/>
                  </a:lnTo>
                  <a:lnTo>
                    <a:pt x="1365" y="692"/>
                  </a:lnTo>
                  <a:lnTo>
                    <a:pt x="1362" y="711"/>
                  </a:lnTo>
                  <a:lnTo>
                    <a:pt x="1361" y="732"/>
                  </a:lnTo>
                  <a:lnTo>
                    <a:pt x="1362" y="743"/>
                  </a:lnTo>
                  <a:lnTo>
                    <a:pt x="1365" y="754"/>
                  </a:lnTo>
                  <a:lnTo>
                    <a:pt x="1370" y="765"/>
                  </a:lnTo>
                  <a:lnTo>
                    <a:pt x="1377" y="775"/>
                  </a:lnTo>
                  <a:lnTo>
                    <a:pt x="1379" y="779"/>
                  </a:lnTo>
                  <a:lnTo>
                    <a:pt x="1382" y="782"/>
                  </a:lnTo>
                  <a:lnTo>
                    <a:pt x="1382" y="786"/>
                  </a:lnTo>
                  <a:lnTo>
                    <a:pt x="1383" y="789"/>
                  </a:lnTo>
                  <a:lnTo>
                    <a:pt x="1382" y="793"/>
                  </a:lnTo>
                  <a:lnTo>
                    <a:pt x="1380" y="796"/>
                  </a:lnTo>
                  <a:lnTo>
                    <a:pt x="1378" y="800"/>
                  </a:lnTo>
                  <a:lnTo>
                    <a:pt x="1376" y="802"/>
                  </a:lnTo>
                  <a:lnTo>
                    <a:pt x="1369" y="808"/>
                  </a:lnTo>
                  <a:lnTo>
                    <a:pt x="1359" y="814"/>
                  </a:lnTo>
                  <a:lnTo>
                    <a:pt x="1348" y="819"/>
                  </a:lnTo>
                  <a:lnTo>
                    <a:pt x="1336" y="823"/>
                  </a:lnTo>
                  <a:lnTo>
                    <a:pt x="1309" y="831"/>
                  </a:lnTo>
                  <a:lnTo>
                    <a:pt x="1281" y="838"/>
                  </a:lnTo>
                  <a:lnTo>
                    <a:pt x="1257" y="844"/>
                  </a:lnTo>
                  <a:lnTo>
                    <a:pt x="1236" y="850"/>
                  </a:lnTo>
                  <a:lnTo>
                    <a:pt x="1202" y="854"/>
                  </a:lnTo>
                  <a:lnTo>
                    <a:pt x="1171" y="857"/>
                  </a:lnTo>
                  <a:lnTo>
                    <a:pt x="1142" y="862"/>
                  </a:lnTo>
                  <a:lnTo>
                    <a:pt x="1114" y="868"/>
                  </a:lnTo>
                  <a:lnTo>
                    <a:pt x="1087" y="873"/>
                  </a:lnTo>
                  <a:lnTo>
                    <a:pt x="1063" y="879"/>
                  </a:lnTo>
                  <a:lnTo>
                    <a:pt x="1038" y="886"/>
                  </a:lnTo>
                  <a:lnTo>
                    <a:pt x="1014" y="893"/>
                  </a:lnTo>
                  <a:lnTo>
                    <a:pt x="966" y="908"/>
                  </a:lnTo>
                  <a:lnTo>
                    <a:pt x="917" y="925"/>
                  </a:lnTo>
                  <a:lnTo>
                    <a:pt x="863" y="942"/>
                  </a:lnTo>
                  <a:lnTo>
                    <a:pt x="803" y="959"/>
                  </a:lnTo>
                  <a:lnTo>
                    <a:pt x="806" y="966"/>
                  </a:lnTo>
                  <a:lnTo>
                    <a:pt x="807" y="973"/>
                  </a:lnTo>
                  <a:lnTo>
                    <a:pt x="807" y="980"/>
                  </a:lnTo>
                  <a:lnTo>
                    <a:pt x="806" y="986"/>
                  </a:lnTo>
                  <a:lnTo>
                    <a:pt x="803" y="993"/>
                  </a:lnTo>
                  <a:lnTo>
                    <a:pt x="801" y="998"/>
                  </a:lnTo>
                  <a:lnTo>
                    <a:pt x="796" y="1004"/>
                  </a:lnTo>
                  <a:lnTo>
                    <a:pt x="792" y="1009"/>
                  </a:lnTo>
                  <a:lnTo>
                    <a:pt x="781" y="1019"/>
                  </a:lnTo>
                  <a:lnTo>
                    <a:pt x="767" y="1028"/>
                  </a:lnTo>
                  <a:lnTo>
                    <a:pt x="752" y="1036"/>
                  </a:lnTo>
                  <a:lnTo>
                    <a:pt x="736" y="1043"/>
                  </a:lnTo>
                  <a:lnTo>
                    <a:pt x="719" y="1049"/>
                  </a:lnTo>
                  <a:lnTo>
                    <a:pt x="703" y="1055"/>
                  </a:lnTo>
                  <a:lnTo>
                    <a:pt x="688" y="1059"/>
                  </a:lnTo>
                  <a:lnTo>
                    <a:pt x="674" y="1063"/>
                  </a:lnTo>
                  <a:lnTo>
                    <a:pt x="653" y="1067"/>
                  </a:lnTo>
                  <a:lnTo>
                    <a:pt x="645" y="1069"/>
                  </a:lnTo>
                  <a:lnTo>
                    <a:pt x="849" y="1285"/>
                  </a:lnTo>
                  <a:lnTo>
                    <a:pt x="849" y="1422"/>
                  </a:lnTo>
                  <a:lnTo>
                    <a:pt x="828" y="1419"/>
                  </a:lnTo>
                  <a:lnTo>
                    <a:pt x="807" y="1415"/>
                  </a:lnTo>
                  <a:lnTo>
                    <a:pt x="787" y="1414"/>
                  </a:lnTo>
                  <a:lnTo>
                    <a:pt x="767" y="1412"/>
                  </a:lnTo>
                  <a:lnTo>
                    <a:pt x="750" y="1412"/>
                  </a:lnTo>
                  <a:lnTo>
                    <a:pt x="731" y="1412"/>
                  </a:lnTo>
                  <a:lnTo>
                    <a:pt x="715" y="1413"/>
                  </a:lnTo>
                  <a:lnTo>
                    <a:pt x="699" y="1414"/>
                  </a:lnTo>
                  <a:lnTo>
                    <a:pt x="684" y="1417"/>
                  </a:lnTo>
                  <a:lnTo>
                    <a:pt x="671" y="1419"/>
                  </a:lnTo>
                  <a:lnTo>
                    <a:pt x="660" y="1422"/>
                  </a:lnTo>
                  <a:lnTo>
                    <a:pt x="649" y="1426"/>
                  </a:lnTo>
                  <a:lnTo>
                    <a:pt x="640" y="1431"/>
                  </a:lnTo>
                  <a:lnTo>
                    <a:pt x="632" y="1435"/>
                  </a:lnTo>
                  <a:lnTo>
                    <a:pt x="626" y="1440"/>
                  </a:lnTo>
                  <a:lnTo>
                    <a:pt x="622" y="1446"/>
                  </a:lnTo>
                  <a:lnTo>
                    <a:pt x="620" y="1452"/>
                  </a:lnTo>
                  <a:lnTo>
                    <a:pt x="620" y="1457"/>
                  </a:lnTo>
                  <a:lnTo>
                    <a:pt x="621" y="1464"/>
                  </a:lnTo>
                  <a:lnTo>
                    <a:pt x="625" y="1472"/>
                  </a:lnTo>
                  <a:lnTo>
                    <a:pt x="631" y="1479"/>
                  </a:lnTo>
                  <a:lnTo>
                    <a:pt x="639" y="1486"/>
                  </a:lnTo>
                  <a:lnTo>
                    <a:pt x="649" y="1493"/>
                  </a:lnTo>
                  <a:lnTo>
                    <a:pt x="663" y="1501"/>
                  </a:lnTo>
                  <a:lnTo>
                    <a:pt x="678" y="1508"/>
                  </a:lnTo>
                  <a:lnTo>
                    <a:pt x="696" y="1516"/>
                  </a:lnTo>
                  <a:lnTo>
                    <a:pt x="717" y="1523"/>
                  </a:lnTo>
                  <a:lnTo>
                    <a:pt x="740" y="1531"/>
                  </a:lnTo>
                  <a:lnTo>
                    <a:pt x="767" y="1538"/>
                  </a:lnTo>
                  <a:lnTo>
                    <a:pt x="796" y="1546"/>
                  </a:lnTo>
                  <a:lnTo>
                    <a:pt x="828" y="1553"/>
                  </a:lnTo>
                  <a:lnTo>
                    <a:pt x="864" y="1561"/>
                  </a:lnTo>
                  <a:lnTo>
                    <a:pt x="878" y="1564"/>
                  </a:lnTo>
                  <a:lnTo>
                    <a:pt x="890" y="1567"/>
                  </a:lnTo>
                  <a:lnTo>
                    <a:pt x="902" y="1572"/>
                  </a:lnTo>
                  <a:lnTo>
                    <a:pt x="912" y="1575"/>
                  </a:lnTo>
                  <a:lnTo>
                    <a:pt x="921" y="1580"/>
                  </a:lnTo>
                  <a:lnTo>
                    <a:pt x="928" y="1585"/>
                  </a:lnTo>
                  <a:lnTo>
                    <a:pt x="935" y="1589"/>
                  </a:lnTo>
                  <a:lnTo>
                    <a:pt x="941" y="1594"/>
                  </a:lnTo>
                  <a:lnTo>
                    <a:pt x="947" y="1599"/>
                  </a:lnTo>
                  <a:lnTo>
                    <a:pt x="951" y="1604"/>
                  </a:lnTo>
                  <a:lnTo>
                    <a:pt x="954" y="1609"/>
                  </a:lnTo>
                  <a:lnTo>
                    <a:pt x="956" y="1614"/>
                  </a:lnTo>
                  <a:lnTo>
                    <a:pt x="960" y="1625"/>
                  </a:lnTo>
                  <a:lnTo>
                    <a:pt x="961" y="1635"/>
                  </a:lnTo>
                  <a:lnTo>
                    <a:pt x="960" y="1644"/>
                  </a:lnTo>
                  <a:lnTo>
                    <a:pt x="958" y="1654"/>
                  </a:lnTo>
                  <a:lnTo>
                    <a:pt x="955" y="1663"/>
                  </a:lnTo>
                  <a:lnTo>
                    <a:pt x="952" y="1670"/>
                  </a:lnTo>
                  <a:lnTo>
                    <a:pt x="945" y="1681"/>
                  </a:lnTo>
                  <a:lnTo>
                    <a:pt x="941" y="1685"/>
                  </a:lnTo>
                  <a:lnTo>
                    <a:pt x="942" y="1695"/>
                  </a:lnTo>
                  <a:lnTo>
                    <a:pt x="945" y="1704"/>
                  </a:lnTo>
                  <a:lnTo>
                    <a:pt x="948" y="1713"/>
                  </a:lnTo>
                  <a:lnTo>
                    <a:pt x="954" y="1721"/>
                  </a:lnTo>
                  <a:lnTo>
                    <a:pt x="966" y="1738"/>
                  </a:lnTo>
                  <a:lnTo>
                    <a:pt x="981" y="1754"/>
                  </a:lnTo>
                  <a:lnTo>
                    <a:pt x="995" y="1769"/>
                  </a:lnTo>
                  <a:lnTo>
                    <a:pt x="1007" y="1786"/>
                  </a:lnTo>
                  <a:lnTo>
                    <a:pt x="1013" y="1795"/>
                  </a:lnTo>
                  <a:lnTo>
                    <a:pt x="1016" y="1803"/>
                  </a:lnTo>
                  <a:lnTo>
                    <a:pt x="1018" y="1814"/>
                  </a:lnTo>
                  <a:lnTo>
                    <a:pt x="1020" y="1823"/>
                  </a:lnTo>
                  <a:lnTo>
                    <a:pt x="1020" y="1841"/>
                  </a:lnTo>
                  <a:lnTo>
                    <a:pt x="1022" y="1856"/>
                  </a:lnTo>
                  <a:lnTo>
                    <a:pt x="1025" y="1870"/>
                  </a:lnTo>
                  <a:lnTo>
                    <a:pt x="1029" y="1884"/>
                  </a:lnTo>
                  <a:lnTo>
                    <a:pt x="1038" y="1907"/>
                  </a:lnTo>
                  <a:lnTo>
                    <a:pt x="1049" y="1931"/>
                  </a:lnTo>
                  <a:lnTo>
                    <a:pt x="1053" y="1942"/>
                  </a:lnTo>
                  <a:lnTo>
                    <a:pt x="1058" y="1954"/>
                  </a:lnTo>
                  <a:lnTo>
                    <a:pt x="1063" y="1966"/>
                  </a:lnTo>
                  <a:lnTo>
                    <a:pt x="1065" y="1978"/>
                  </a:lnTo>
                  <a:lnTo>
                    <a:pt x="1067" y="1992"/>
                  </a:lnTo>
                  <a:lnTo>
                    <a:pt x="1069" y="2008"/>
                  </a:lnTo>
                  <a:lnTo>
                    <a:pt x="1067" y="2024"/>
                  </a:lnTo>
                  <a:lnTo>
                    <a:pt x="1065" y="2042"/>
                  </a:lnTo>
                  <a:lnTo>
                    <a:pt x="1053" y="2037"/>
                  </a:lnTo>
                  <a:lnTo>
                    <a:pt x="1043" y="2031"/>
                  </a:lnTo>
                  <a:lnTo>
                    <a:pt x="1031" y="2024"/>
                  </a:lnTo>
                  <a:lnTo>
                    <a:pt x="1021" y="2016"/>
                  </a:lnTo>
                  <a:lnTo>
                    <a:pt x="1010" y="2006"/>
                  </a:lnTo>
                  <a:lnTo>
                    <a:pt x="1000" y="1997"/>
                  </a:lnTo>
                  <a:lnTo>
                    <a:pt x="989" y="1987"/>
                  </a:lnTo>
                  <a:lnTo>
                    <a:pt x="980" y="1975"/>
                  </a:lnTo>
                  <a:lnTo>
                    <a:pt x="960" y="1952"/>
                  </a:lnTo>
                  <a:lnTo>
                    <a:pt x="941" y="1927"/>
                  </a:lnTo>
                  <a:lnTo>
                    <a:pt x="924" y="1901"/>
                  </a:lnTo>
                  <a:lnTo>
                    <a:pt x="905" y="1874"/>
                  </a:lnTo>
                  <a:lnTo>
                    <a:pt x="872" y="1824"/>
                  </a:lnTo>
                  <a:lnTo>
                    <a:pt x="841" y="1780"/>
                  </a:lnTo>
                  <a:lnTo>
                    <a:pt x="824" y="1762"/>
                  </a:lnTo>
                  <a:lnTo>
                    <a:pt x="809" y="1747"/>
                  </a:lnTo>
                  <a:lnTo>
                    <a:pt x="802" y="1741"/>
                  </a:lnTo>
                  <a:lnTo>
                    <a:pt x="795" y="1737"/>
                  </a:lnTo>
                  <a:lnTo>
                    <a:pt x="787" y="1733"/>
                  </a:lnTo>
                  <a:lnTo>
                    <a:pt x="780" y="1731"/>
                  </a:lnTo>
                  <a:lnTo>
                    <a:pt x="725" y="1748"/>
                  </a:lnTo>
                  <a:lnTo>
                    <a:pt x="524" y="1575"/>
                  </a:lnTo>
                  <a:lnTo>
                    <a:pt x="507" y="1581"/>
                  </a:lnTo>
                  <a:lnTo>
                    <a:pt x="492" y="1587"/>
                  </a:lnTo>
                  <a:lnTo>
                    <a:pt x="476" y="1593"/>
                  </a:lnTo>
                  <a:lnTo>
                    <a:pt x="462" y="1600"/>
                  </a:lnTo>
                  <a:lnTo>
                    <a:pt x="450" y="1607"/>
                  </a:lnTo>
                  <a:lnTo>
                    <a:pt x="438" y="1614"/>
                  </a:lnTo>
                  <a:lnTo>
                    <a:pt x="428" y="1621"/>
                  </a:lnTo>
                  <a:lnTo>
                    <a:pt x="419" y="1627"/>
                  </a:lnTo>
                  <a:lnTo>
                    <a:pt x="411" y="1634"/>
                  </a:lnTo>
                  <a:lnTo>
                    <a:pt x="405" y="1641"/>
                  </a:lnTo>
                  <a:lnTo>
                    <a:pt x="400" y="1647"/>
                  </a:lnTo>
                  <a:lnTo>
                    <a:pt x="397" y="1653"/>
                  </a:lnTo>
                  <a:lnTo>
                    <a:pt x="395" y="1657"/>
                  </a:lnTo>
                  <a:lnTo>
                    <a:pt x="395" y="1663"/>
                  </a:lnTo>
                  <a:lnTo>
                    <a:pt x="397" y="1667"/>
                  </a:lnTo>
                  <a:lnTo>
                    <a:pt x="400" y="1670"/>
                  </a:lnTo>
                  <a:lnTo>
                    <a:pt x="438" y="1700"/>
                  </a:lnTo>
                  <a:lnTo>
                    <a:pt x="478" y="1731"/>
                  </a:lnTo>
                  <a:lnTo>
                    <a:pt x="520" y="1761"/>
                  </a:lnTo>
                  <a:lnTo>
                    <a:pt x="562" y="1790"/>
                  </a:lnTo>
                  <a:lnTo>
                    <a:pt x="604" y="1818"/>
                  </a:lnTo>
                  <a:lnTo>
                    <a:pt x="643" y="1844"/>
                  </a:lnTo>
                  <a:lnTo>
                    <a:pt x="680" y="1867"/>
                  </a:lnTo>
                  <a:lnTo>
                    <a:pt x="711" y="1886"/>
                  </a:lnTo>
                  <a:lnTo>
                    <a:pt x="0" y="1886"/>
                  </a:lnTo>
                  <a:lnTo>
                    <a:pt x="0" y="0"/>
                  </a:lnTo>
                  <a:lnTo>
                    <a:pt x="122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84" name="Freeform 5"/>
            <p:cNvSpPr/>
            <p:nvPr/>
          </p:nvSpPr>
          <p:spPr>
            <a:xfrm>
              <a:off x="4997160" y="4642920"/>
              <a:ext cx="369000" cy="256680"/>
            </a:xfrm>
            <a:custGeom>
              <a:avLst/>
              <a:gdLst>
                <a:gd name="textAreaLeft" fmla="*/ 0 w 369000"/>
                <a:gd name="textAreaRight" fmla="*/ 369360 w 369000"/>
                <a:gd name="textAreaTop" fmla="*/ 0 h 256680"/>
                <a:gd name="textAreaBottom" fmla="*/ 257040 h 256680"/>
              </a:gdLst>
              <a:ahLst/>
              <a:rect l="textAreaLeft" t="textAreaTop" r="textAreaRight" b="textAreaBottom"/>
              <a:pathLst>
                <a:path w="841" h="565">
                  <a:moveTo>
                    <a:pt x="0" y="565"/>
                  </a:moveTo>
                  <a:lnTo>
                    <a:pt x="22" y="537"/>
                  </a:lnTo>
                  <a:lnTo>
                    <a:pt x="45" y="510"/>
                  </a:lnTo>
                  <a:lnTo>
                    <a:pt x="67" y="484"/>
                  </a:lnTo>
                  <a:lnTo>
                    <a:pt x="90" y="459"/>
                  </a:lnTo>
                  <a:lnTo>
                    <a:pt x="136" y="410"/>
                  </a:lnTo>
                  <a:lnTo>
                    <a:pt x="180" y="365"/>
                  </a:lnTo>
                  <a:lnTo>
                    <a:pt x="223" y="326"/>
                  </a:lnTo>
                  <a:lnTo>
                    <a:pt x="263" y="292"/>
                  </a:lnTo>
                  <a:lnTo>
                    <a:pt x="282" y="276"/>
                  </a:lnTo>
                  <a:lnTo>
                    <a:pt x="299" y="262"/>
                  </a:lnTo>
                  <a:lnTo>
                    <a:pt x="317" y="252"/>
                  </a:lnTo>
                  <a:lnTo>
                    <a:pt x="332" y="241"/>
                  </a:lnTo>
                  <a:lnTo>
                    <a:pt x="371" y="220"/>
                  </a:lnTo>
                  <a:lnTo>
                    <a:pt x="422" y="195"/>
                  </a:lnTo>
                  <a:lnTo>
                    <a:pt x="483" y="167"/>
                  </a:lnTo>
                  <a:lnTo>
                    <a:pt x="550" y="136"/>
                  </a:lnTo>
                  <a:lnTo>
                    <a:pt x="623" y="104"/>
                  </a:lnTo>
                  <a:lnTo>
                    <a:pt x="698" y="70"/>
                  </a:lnTo>
                  <a:lnTo>
                    <a:pt x="771" y="35"/>
                  </a:lnTo>
                  <a:lnTo>
                    <a:pt x="841" y="0"/>
                  </a:lnTo>
                  <a:lnTo>
                    <a:pt x="0" y="56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85" name="Freeform 6"/>
            <p:cNvSpPr/>
            <p:nvPr/>
          </p:nvSpPr>
          <p:spPr>
            <a:xfrm>
              <a:off x="4997160" y="4642920"/>
              <a:ext cx="369000" cy="256680"/>
            </a:xfrm>
            <a:custGeom>
              <a:avLst/>
              <a:gdLst>
                <a:gd name="textAreaLeft" fmla="*/ 0 w 369000"/>
                <a:gd name="textAreaRight" fmla="*/ 369360 w 369000"/>
                <a:gd name="textAreaTop" fmla="*/ 0 h 256680"/>
                <a:gd name="textAreaBottom" fmla="*/ 257040 h 256680"/>
              </a:gdLst>
              <a:ahLst/>
              <a:rect l="textAreaLeft" t="textAreaTop" r="textAreaRight" b="textAreaBottom"/>
              <a:pathLst>
                <a:path w="841" h="565">
                  <a:moveTo>
                    <a:pt x="0" y="565"/>
                  </a:moveTo>
                  <a:lnTo>
                    <a:pt x="22" y="537"/>
                  </a:lnTo>
                  <a:lnTo>
                    <a:pt x="45" y="510"/>
                  </a:lnTo>
                  <a:lnTo>
                    <a:pt x="67" y="484"/>
                  </a:lnTo>
                  <a:lnTo>
                    <a:pt x="90" y="459"/>
                  </a:lnTo>
                  <a:lnTo>
                    <a:pt x="136" y="410"/>
                  </a:lnTo>
                  <a:lnTo>
                    <a:pt x="180" y="365"/>
                  </a:lnTo>
                  <a:lnTo>
                    <a:pt x="223" y="326"/>
                  </a:lnTo>
                  <a:lnTo>
                    <a:pt x="263" y="292"/>
                  </a:lnTo>
                  <a:lnTo>
                    <a:pt x="282" y="276"/>
                  </a:lnTo>
                  <a:lnTo>
                    <a:pt x="299" y="262"/>
                  </a:lnTo>
                  <a:lnTo>
                    <a:pt x="317" y="252"/>
                  </a:lnTo>
                  <a:lnTo>
                    <a:pt x="332" y="241"/>
                  </a:lnTo>
                  <a:lnTo>
                    <a:pt x="371" y="220"/>
                  </a:lnTo>
                  <a:lnTo>
                    <a:pt x="422" y="195"/>
                  </a:lnTo>
                  <a:lnTo>
                    <a:pt x="483" y="167"/>
                  </a:lnTo>
                  <a:lnTo>
                    <a:pt x="550" y="136"/>
                  </a:lnTo>
                  <a:lnTo>
                    <a:pt x="623" y="104"/>
                  </a:lnTo>
                  <a:lnTo>
                    <a:pt x="698" y="70"/>
                  </a:lnTo>
                  <a:lnTo>
                    <a:pt x="771" y="35"/>
                  </a:lnTo>
                  <a:lnTo>
                    <a:pt x="841" y="0"/>
                  </a:lnTo>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86" name="Freeform 7"/>
            <p:cNvSpPr/>
            <p:nvPr/>
          </p:nvSpPr>
          <p:spPr>
            <a:xfrm>
              <a:off x="7683120" y="4302720"/>
              <a:ext cx="265320" cy="292680"/>
            </a:xfrm>
            <a:custGeom>
              <a:avLst/>
              <a:gdLst>
                <a:gd name="textAreaLeft" fmla="*/ 0 w 265320"/>
                <a:gd name="textAreaRight" fmla="*/ 265680 w 265320"/>
                <a:gd name="textAreaTop" fmla="*/ 0 h 292680"/>
                <a:gd name="textAreaBottom" fmla="*/ 292680 h 292680"/>
              </a:gdLst>
              <a:ahLst/>
              <a:rect l="textAreaLeft" t="textAreaTop" r="textAreaRight" b="textAreaBottom"/>
              <a:pathLst>
                <a:path w="605" h="646">
                  <a:moveTo>
                    <a:pt x="0" y="0"/>
                  </a:moveTo>
                  <a:lnTo>
                    <a:pt x="277" y="0"/>
                  </a:lnTo>
                  <a:lnTo>
                    <a:pt x="274" y="9"/>
                  </a:lnTo>
                  <a:lnTo>
                    <a:pt x="273" y="20"/>
                  </a:lnTo>
                  <a:lnTo>
                    <a:pt x="273" y="31"/>
                  </a:lnTo>
                  <a:lnTo>
                    <a:pt x="274" y="43"/>
                  </a:lnTo>
                  <a:lnTo>
                    <a:pt x="277" y="56"/>
                  </a:lnTo>
                  <a:lnTo>
                    <a:pt x="279" y="71"/>
                  </a:lnTo>
                  <a:lnTo>
                    <a:pt x="284" y="86"/>
                  </a:lnTo>
                  <a:lnTo>
                    <a:pt x="288" y="102"/>
                  </a:lnTo>
                  <a:lnTo>
                    <a:pt x="300" y="137"/>
                  </a:lnTo>
                  <a:lnTo>
                    <a:pt x="316" y="174"/>
                  </a:lnTo>
                  <a:lnTo>
                    <a:pt x="335" y="214"/>
                  </a:lnTo>
                  <a:lnTo>
                    <a:pt x="356" y="256"/>
                  </a:lnTo>
                  <a:lnTo>
                    <a:pt x="381" y="300"/>
                  </a:lnTo>
                  <a:lnTo>
                    <a:pt x="408" y="347"/>
                  </a:lnTo>
                  <a:lnTo>
                    <a:pt x="436" y="395"/>
                  </a:lnTo>
                  <a:lnTo>
                    <a:pt x="467" y="444"/>
                  </a:lnTo>
                  <a:lnTo>
                    <a:pt x="500" y="493"/>
                  </a:lnTo>
                  <a:lnTo>
                    <a:pt x="534" y="543"/>
                  </a:lnTo>
                  <a:lnTo>
                    <a:pt x="569" y="594"/>
                  </a:lnTo>
                  <a:lnTo>
                    <a:pt x="605" y="646"/>
                  </a:lnTo>
                  <a:lnTo>
                    <a:pt x="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87" name="Freeform 8"/>
            <p:cNvSpPr/>
            <p:nvPr/>
          </p:nvSpPr>
          <p:spPr>
            <a:xfrm>
              <a:off x="7683120" y="4302720"/>
              <a:ext cx="265320" cy="292680"/>
            </a:xfrm>
            <a:custGeom>
              <a:avLst/>
              <a:gdLst>
                <a:gd name="textAreaLeft" fmla="*/ 0 w 265320"/>
                <a:gd name="textAreaRight" fmla="*/ 265680 w 265320"/>
                <a:gd name="textAreaTop" fmla="*/ 0 h 292680"/>
                <a:gd name="textAreaBottom" fmla="*/ 292680 h 292680"/>
              </a:gdLst>
              <a:ahLst/>
              <a:rect l="textAreaLeft" t="textAreaTop" r="textAreaRight" b="textAreaBottom"/>
              <a:pathLst>
                <a:path w="605" h="646">
                  <a:moveTo>
                    <a:pt x="0" y="0"/>
                  </a:moveTo>
                  <a:lnTo>
                    <a:pt x="277" y="0"/>
                  </a:lnTo>
                  <a:lnTo>
                    <a:pt x="274" y="9"/>
                  </a:lnTo>
                  <a:lnTo>
                    <a:pt x="273" y="20"/>
                  </a:lnTo>
                  <a:lnTo>
                    <a:pt x="273" y="31"/>
                  </a:lnTo>
                  <a:lnTo>
                    <a:pt x="274" y="43"/>
                  </a:lnTo>
                  <a:lnTo>
                    <a:pt x="277" y="56"/>
                  </a:lnTo>
                  <a:lnTo>
                    <a:pt x="279" y="71"/>
                  </a:lnTo>
                  <a:lnTo>
                    <a:pt x="284" y="86"/>
                  </a:lnTo>
                  <a:lnTo>
                    <a:pt x="288" y="102"/>
                  </a:lnTo>
                  <a:lnTo>
                    <a:pt x="300" y="137"/>
                  </a:lnTo>
                  <a:lnTo>
                    <a:pt x="316" y="174"/>
                  </a:lnTo>
                  <a:lnTo>
                    <a:pt x="335" y="214"/>
                  </a:lnTo>
                  <a:lnTo>
                    <a:pt x="356" y="256"/>
                  </a:lnTo>
                  <a:lnTo>
                    <a:pt x="381" y="300"/>
                  </a:lnTo>
                  <a:lnTo>
                    <a:pt x="408" y="347"/>
                  </a:lnTo>
                  <a:lnTo>
                    <a:pt x="436" y="395"/>
                  </a:lnTo>
                  <a:lnTo>
                    <a:pt x="467" y="444"/>
                  </a:lnTo>
                  <a:lnTo>
                    <a:pt x="500" y="493"/>
                  </a:lnTo>
                  <a:lnTo>
                    <a:pt x="534" y="543"/>
                  </a:lnTo>
                  <a:lnTo>
                    <a:pt x="569" y="594"/>
                  </a:lnTo>
                  <a:lnTo>
                    <a:pt x="605" y="646"/>
                  </a:lnTo>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88" name="Freeform 9"/>
            <p:cNvSpPr/>
            <p:nvPr/>
          </p:nvSpPr>
          <p:spPr>
            <a:xfrm>
              <a:off x="1775880" y="3537720"/>
              <a:ext cx="102960" cy="424080"/>
            </a:xfrm>
            <a:custGeom>
              <a:avLst/>
              <a:gdLst>
                <a:gd name="textAreaLeft" fmla="*/ 0 w 102960"/>
                <a:gd name="textAreaRight" fmla="*/ 103320 w 102960"/>
                <a:gd name="textAreaTop" fmla="*/ 0 h 424080"/>
                <a:gd name="textAreaBottom" fmla="*/ 424080 h 424080"/>
              </a:gdLst>
              <a:ahLst/>
              <a:rect l="textAreaLeft" t="textAreaTop" r="textAreaRight" b="textAreaBottom"/>
              <a:pathLst>
                <a:path w="144" h="1091">
                  <a:moveTo>
                    <a:pt x="0" y="567"/>
                  </a:moveTo>
                  <a:lnTo>
                    <a:pt x="17" y="591"/>
                  </a:lnTo>
                  <a:lnTo>
                    <a:pt x="36" y="616"/>
                  </a:lnTo>
                  <a:lnTo>
                    <a:pt x="53" y="642"/>
                  </a:lnTo>
                  <a:lnTo>
                    <a:pt x="71" y="670"/>
                  </a:lnTo>
                  <a:lnTo>
                    <a:pt x="87" y="699"/>
                  </a:lnTo>
                  <a:lnTo>
                    <a:pt x="102" y="730"/>
                  </a:lnTo>
                  <a:lnTo>
                    <a:pt x="109" y="746"/>
                  </a:lnTo>
                  <a:lnTo>
                    <a:pt x="116" y="761"/>
                  </a:lnTo>
                  <a:lnTo>
                    <a:pt x="122" y="777"/>
                  </a:lnTo>
                  <a:lnTo>
                    <a:pt x="127" y="794"/>
                  </a:lnTo>
                  <a:lnTo>
                    <a:pt x="132" y="811"/>
                  </a:lnTo>
                  <a:lnTo>
                    <a:pt x="136" y="828"/>
                  </a:lnTo>
                  <a:lnTo>
                    <a:pt x="140" y="845"/>
                  </a:lnTo>
                  <a:lnTo>
                    <a:pt x="142" y="863"/>
                  </a:lnTo>
                  <a:lnTo>
                    <a:pt x="143" y="880"/>
                  </a:lnTo>
                  <a:lnTo>
                    <a:pt x="144" y="899"/>
                  </a:lnTo>
                  <a:lnTo>
                    <a:pt x="144" y="916"/>
                  </a:lnTo>
                  <a:lnTo>
                    <a:pt x="143" y="935"/>
                  </a:lnTo>
                  <a:lnTo>
                    <a:pt x="141" y="954"/>
                  </a:lnTo>
                  <a:lnTo>
                    <a:pt x="137" y="973"/>
                  </a:lnTo>
                  <a:lnTo>
                    <a:pt x="133" y="992"/>
                  </a:lnTo>
                  <a:lnTo>
                    <a:pt x="128" y="1011"/>
                  </a:lnTo>
                  <a:lnTo>
                    <a:pt x="121" y="1031"/>
                  </a:lnTo>
                  <a:lnTo>
                    <a:pt x="113" y="1051"/>
                  </a:lnTo>
                  <a:lnTo>
                    <a:pt x="104" y="1071"/>
                  </a:lnTo>
                  <a:lnTo>
                    <a:pt x="92" y="1091"/>
                  </a:lnTo>
                  <a:lnTo>
                    <a:pt x="92" y="526"/>
                  </a:lnTo>
                  <a:lnTo>
                    <a:pt x="104" y="506"/>
                  </a:lnTo>
                  <a:lnTo>
                    <a:pt x="113" y="485"/>
                  </a:lnTo>
                  <a:lnTo>
                    <a:pt x="121" y="466"/>
                  </a:lnTo>
                  <a:lnTo>
                    <a:pt x="128" y="446"/>
                  </a:lnTo>
                  <a:lnTo>
                    <a:pt x="133" y="426"/>
                  </a:lnTo>
                  <a:lnTo>
                    <a:pt x="137" y="407"/>
                  </a:lnTo>
                  <a:lnTo>
                    <a:pt x="141" y="389"/>
                  </a:lnTo>
                  <a:lnTo>
                    <a:pt x="143" y="369"/>
                  </a:lnTo>
                  <a:lnTo>
                    <a:pt x="144" y="350"/>
                  </a:lnTo>
                  <a:lnTo>
                    <a:pt x="144" y="332"/>
                  </a:lnTo>
                  <a:lnTo>
                    <a:pt x="143" y="314"/>
                  </a:lnTo>
                  <a:lnTo>
                    <a:pt x="142" y="296"/>
                  </a:lnTo>
                  <a:lnTo>
                    <a:pt x="140" y="279"/>
                  </a:lnTo>
                  <a:lnTo>
                    <a:pt x="136" y="261"/>
                  </a:lnTo>
                  <a:lnTo>
                    <a:pt x="132" y="244"/>
                  </a:lnTo>
                  <a:lnTo>
                    <a:pt x="127" y="227"/>
                  </a:lnTo>
                  <a:lnTo>
                    <a:pt x="122" y="211"/>
                  </a:lnTo>
                  <a:lnTo>
                    <a:pt x="116" y="195"/>
                  </a:lnTo>
                  <a:lnTo>
                    <a:pt x="109" y="178"/>
                  </a:lnTo>
                  <a:lnTo>
                    <a:pt x="102" y="163"/>
                  </a:lnTo>
                  <a:lnTo>
                    <a:pt x="87" y="133"/>
                  </a:lnTo>
                  <a:lnTo>
                    <a:pt x="71" y="103"/>
                  </a:lnTo>
                  <a:lnTo>
                    <a:pt x="53" y="75"/>
                  </a:lnTo>
                  <a:lnTo>
                    <a:pt x="36" y="49"/>
                  </a:lnTo>
                  <a:lnTo>
                    <a:pt x="17" y="23"/>
                  </a:lnTo>
                  <a:lnTo>
                    <a:pt x="0" y="0"/>
                  </a:lnTo>
                  <a:lnTo>
                    <a:pt x="0" y="56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89" name="Freeform 10"/>
            <p:cNvSpPr/>
            <p:nvPr/>
          </p:nvSpPr>
          <p:spPr>
            <a:xfrm>
              <a:off x="4900680" y="4906440"/>
              <a:ext cx="85680" cy="374040"/>
            </a:xfrm>
            <a:custGeom>
              <a:avLst/>
              <a:gdLst>
                <a:gd name="textAreaLeft" fmla="*/ 0 w 85680"/>
                <a:gd name="textAreaRight" fmla="*/ 86040 w 85680"/>
                <a:gd name="textAreaTop" fmla="*/ 0 h 374040"/>
                <a:gd name="textAreaBottom" fmla="*/ 374400 h 374040"/>
              </a:gdLst>
              <a:ahLst/>
              <a:rect l="textAreaLeft" t="textAreaTop" r="textAreaRight" b="textAreaBottom"/>
              <a:pathLst>
                <a:path w="196" h="827">
                  <a:moveTo>
                    <a:pt x="196" y="411"/>
                  </a:moveTo>
                  <a:lnTo>
                    <a:pt x="175" y="439"/>
                  </a:lnTo>
                  <a:lnTo>
                    <a:pt x="153" y="467"/>
                  </a:lnTo>
                  <a:lnTo>
                    <a:pt x="134" y="495"/>
                  </a:lnTo>
                  <a:lnTo>
                    <a:pt x="114" y="523"/>
                  </a:lnTo>
                  <a:lnTo>
                    <a:pt x="96" y="551"/>
                  </a:lnTo>
                  <a:lnTo>
                    <a:pt x="79" y="579"/>
                  </a:lnTo>
                  <a:lnTo>
                    <a:pt x="64" y="607"/>
                  </a:lnTo>
                  <a:lnTo>
                    <a:pt x="50" y="634"/>
                  </a:lnTo>
                  <a:lnTo>
                    <a:pt x="37" y="661"/>
                  </a:lnTo>
                  <a:lnTo>
                    <a:pt x="25" y="687"/>
                  </a:lnTo>
                  <a:lnTo>
                    <a:pt x="17" y="713"/>
                  </a:lnTo>
                  <a:lnTo>
                    <a:pt x="9" y="737"/>
                  </a:lnTo>
                  <a:lnTo>
                    <a:pt x="4" y="762"/>
                  </a:lnTo>
                  <a:lnTo>
                    <a:pt x="0" y="784"/>
                  </a:lnTo>
                  <a:lnTo>
                    <a:pt x="0" y="795"/>
                  </a:lnTo>
                  <a:lnTo>
                    <a:pt x="0" y="806"/>
                  </a:lnTo>
                  <a:lnTo>
                    <a:pt x="2" y="816"/>
                  </a:lnTo>
                  <a:lnTo>
                    <a:pt x="3" y="827"/>
                  </a:lnTo>
                  <a:lnTo>
                    <a:pt x="3" y="417"/>
                  </a:lnTo>
                  <a:lnTo>
                    <a:pt x="2" y="408"/>
                  </a:lnTo>
                  <a:lnTo>
                    <a:pt x="0" y="397"/>
                  </a:lnTo>
                  <a:lnTo>
                    <a:pt x="0" y="387"/>
                  </a:lnTo>
                  <a:lnTo>
                    <a:pt x="0" y="375"/>
                  </a:lnTo>
                  <a:lnTo>
                    <a:pt x="4" y="352"/>
                  </a:lnTo>
                  <a:lnTo>
                    <a:pt x="9" y="328"/>
                  </a:lnTo>
                  <a:lnTo>
                    <a:pt x="17" y="303"/>
                  </a:lnTo>
                  <a:lnTo>
                    <a:pt x="25" y="277"/>
                  </a:lnTo>
                  <a:lnTo>
                    <a:pt x="37" y="251"/>
                  </a:lnTo>
                  <a:lnTo>
                    <a:pt x="50" y="224"/>
                  </a:lnTo>
                  <a:lnTo>
                    <a:pt x="64" y="196"/>
                  </a:lnTo>
                  <a:lnTo>
                    <a:pt x="79" y="168"/>
                  </a:lnTo>
                  <a:lnTo>
                    <a:pt x="96" y="140"/>
                  </a:lnTo>
                  <a:lnTo>
                    <a:pt x="114" y="112"/>
                  </a:lnTo>
                  <a:lnTo>
                    <a:pt x="134" y="84"/>
                  </a:lnTo>
                  <a:lnTo>
                    <a:pt x="153" y="56"/>
                  </a:lnTo>
                  <a:lnTo>
                    <a:pt x="175" y="28"/>
                  </a:lnTo>
                  <a:lnTo>
                    <a:pt x="196" y="0"/>
                  </a:lnTo>
                  <a:lnTo>
                    <a:pt x="196" y="41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0" name="Freeform 11"/>
            <p:cNvSpPr/>
            <p:nvPr/>
          </p:nvSpPr>
          <p:spPr>
            <a:xfrm>
              <a:off x="5388480" y="4446000"/>
              <a:ext cx="149400" cy="304200"/>
            </a:xfrm>
            <a:custGeom>
              <a:avLst/>
              <a:gdLst>
                <a:gd name="textAreaLeft" fmla="*/ 0 w 149400"/>
                <a:gd name="textAreaRight" fmla="*/ 149760 w 149400"/>
                <a:gd name="textAreaTop" fmla="*/ 0 h 304200"/>
                <a:gd name="textAreaBottom" fmla="*/ 304560 h 304200"/>
              </a:gdLst>
              <a:ahLst/>
              <a:rect l="textAreaLeft" t="textAreaTop" r="textAreaRight" b="textAreaBottom"/>
              <a:pathLst>
                <a:path w="340" h="668">
                  <a:moveTo>
                    <a:pt x="340" y="196"/>
                  </a:moveTo>
                  <a:lnTo>
                    <a:pt x="322" y="168"/>
                  </a:lnTo>
                  <a:lnTo>
                    <a:pt x="303" y="143"/>
                  </a:lnTo>
                  <a:lnTo>
                    <a:pt x="285" y="119"/>
                  </a:lnTo>
                  <a:lnTo>
                    <a:pt x="265" y="98"/>
                  </a:lnTo>
                  <a:lnTo>
                    <a:pt x="245" y="80"/>
                  </a:lnTo>
                  <a:lnTo>
                    <a:pt x="225" y="63"/>
                  </a:lnTo>
                  <a:lnTo>
                    <a:pt x="205" y="48"/>
                  </a:lnTo>
                  <a:lnTo>
                    <a:pt x="185" y="35"/>
                  </a:lnTo>
                  <a:lnTo>
                    <a:pt x="166" y="25"/>
                  </a:lnTo>
                  <a:lnTo>
                    <a:pt x="146" y="16"/>
                  </a:lnTo>
                  <a:lnTo>
                    <a:pt x="127" y="9"/>
                  </a:lnTo>
                  <a:lnTo>
                    <a:pt x="109" y="5"/>
                  </a:lnTo>
                  <a:lnTo>
                    <a:pt x="92" y="1"/>
                  </a:lnTo>
                  <a:lnTo>
                    <a:pt x="76" y="0"/>
                  </a:lnTo>
                  <a:lnTo>
                    <a:pt x="62" y="1"/>
                  </a:lnTo>
                  <a:lnTo>
                    <a:pt x="48" y="4"/>
                  </a:lnTo>
                  <a:lnTo>
                    <a:pt x="35" y="8"/>
                  </a:lnTo>
                  <a:lnTo>
                    <a:pt x="24" y="14"/>
                  </a:lnTo>
                  <a:lnTo>
                    <a:pt x="15" y="21"/>
                  </a:lnTo>
                  <a:lnTo>
                    <a:pt x="8" y="30"/>
                  </a:lnTo>
                  <a:lnTo>
                    <a:pt x="3" y="41"/>
                  </a:lnTo>
                  <a:lnTo>
                    <a:pt x="1" y="54"/>
                  </a:lnTo>
                  <a:lnTo>
                    <a:pt x="0" y="68"/>
                  </a:lnTo>
                  <a:lnTo>
                    <a:pt x="2" y="83"/>
                  </a:lnTo>
                  <a:lnTo>
                    <a:pt x="7" y="101"/>
                  </a:lnTo>
                  <a:lnTo>
                    <a:pt x="14" y="118"/>
                  </a:lnTo>
                  <a:lnTo>
                    <a:pt x="24" y="138"/>
                  </a:lnTo>
                  <a:lnTo>
                    <a:pt x="37" y="159"/>
                  </a:lnTo>
                  <a:lnTo>
                    <a:pt x="53" y="181"/>
                  </a:lnTo>
                  <a:lnTo>
                    <a:pt x="73" y="206"/>
                  </a:lnTo>
                  <a:lnTo>
                    <a:pt x="97" y="230"/>
                  </a:lnTo>
                  <a:lnTo>
                    <a:pt x="124" y="256"/>
                  </a:lnTo>
                  <a:lnTo>
                    <a:pt x="124" y="668"/>
                  </a:lnTo>
                  <a:lnTo>
                    <a:pt x="97" y="641"/>
                  </a:lnTo>
                  <a:lnTo>
                    <a:pt x="73" y="617"/>
                  </a:lnTo>
                  <a:lnTo>
                    <a:pt x="53" y="592"/>
                  </a:lnTo>
                  <a:lnTo>
                    <a:pt x="37" y="570"/>
                  </a:lnTo>
                  <a:lnTo>
                    <a:pt x="24" y="549"/>
                  </a:lnTo>
                  <a:lnTo>
                    <a:pt x="14" y="529"/>
                  </a:lnTo>
                  <a:lnTo>
                    <a:pt x="7" y="511"/>
                  </a:lnTo>
                  <a:lnTo>
                    <a:pt x="2" y="493"/>
                  </a:lnTo>
                  <a:lnTo>
                    <a:pt x="0" y="478"/>
                  </a:lnTo>
                  <a:lnTo>
                    <a:pt x="1" y="464"/>
                  </a:lnTo>
                  <a:lnTo>
                    <a:pt x="3" y="451"/>
                  </a:lnTo>
                  <a:lnTo>
                    <a:pt x="8" y="440"/>
                  </a:lnTo>
                  <a:lnTo>
                    <a:pt x="15" y="431"/>
                  </a:lnTo>
                  <a:lnTo>
                    <a:pt x="24" y="423"/>
                  </a:lnTo>
                  <a:lnTo>
                    <a:pt x="35" y="417"/>
                  </a:lnTo>
                  <a:lnTo>
                    <a:pt x="48" y="412"/>
                  </a:lnTo>
                  <a:lnTo>
                    <a:pt x="62" y="410"/>
                  </a:lnTo>
                  <a:lnTo>
                    <a:pt x="76" y="410"/>
                  </a:lnTo>
                  <a:lnTo>
                    <a:pt x="92" y="411"/>
                  </a:lnTo>
                  <a:lnTo>
                    <a:pt x="109" y="414"/>
                  </a:lnTo>
                  <a:lnTo>
                    <a:pt x="127" y="418"/>
                  </a:lnTo>
                  <a:lnTo>
                    <a:pt x="146" y="425"/>
                  </a:lnTo>
                  <a:lnTo>
                    <a:pt x="166" y="433"/>
                  </a:lnTo>
                  <a:lnTo>
                    <a:pt x="185" y="444"/>
                  </a:lnTo>
                  <a:lnTo>
                    <a:pt x="205" y="457"/>
                  </a:lnTo>
                  <a:lnTo>
                    <a:pt x="225" y="472"/>
                  </a:lnTo>
                  <a:lnTo>
                    <a:pt x="245" y="488"/>
                  </a:lnTo>
                  <a:lnTo>
                    <a:pt x="265" y="507"/>
                  </a:lnTo>
                  <a:lnTo>
                    <a:pt x="285" y="528"/>
                  </a:lnTo>
                  <a:lnTo>
                    <a:pt x="303" y="551"/>
                  </a:lnTo>
                  <a:lnTo>
                    <a:pt x="322" y="577"/>
                  </a:lnTo>
                  <a:lnTo>
                    <a:pt x="340" y="605"/>
                  </a:lnTo>
                  <a:lnTo>
                    <a:pt x="340" y="19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1" name="Freeform 12"/>
            <p:cNvSpPr/>
            <p:nvPr/>
          </p:nvSpPr>
          <p:spPr>
            <a:xfrm>
              <a:off x="6390720" y="4264200"/>
              <a:ext cx="37080" cy="260640"/>
            </a:xfrm>
            <a:custGeom>
              <a:avLst/>
              <a:gdLst>
                <a:gd name="textAreaLeft" fmla="*/ 0 w 37080"/>
                <a:gd name="textAreaRight" fmla="*/ 37440 w 37080"/>
                <a:gd name="textAreaTop" fmla="*/ 0 h 260640"/>
                <a:gd name="textAreaBottom" fmla="*/ 261000 h 260640"/>
              </a:gdLst>
              <a:ahLst/>
              <a:rect l="textAreaLeft" t="textAreaTop" r="textAreaRight" b="textAreaBottom"/>
              <a:pathLst>
                <a:path w="87" h="576">
                  <a:moveTo>
                    <a:pt x="87" y="413"/>
                  </a:moveTo>
                  <a:lnTo>
                    <a:pt x="75" y="417"/>
                  </a:lnTo>
                  <a:lnTo>
                    <a:pt x="66" y="423"/>
                  </a:lnTo>
                  <a:lnTo>
                    <a:pt x="56" y="429"/>
                  </a:lnTo>
                  <a:lnTo>
                    <a:pt x="46" y="436"/>
                  </a:lnTo>
                  <a:lnTo>
                    <a:pt x="35" y="448"/>
                  </a:lnTo>
                  <a:lnTo>
                    <a:pt x="24" y="460"/>
                  </a:lnTo>
                  <a:lnTo>
                    <a:pt x="16" y="472"/>
                  </a:lnTo>
                  <a:lnTo>
                    <a:pt x="10" y="484"/>
                  </a:lnTo>
                  <a:lnTo>
                    <a:pt x="5" y="497"/>
                  </a:lnTo>
                  <a:lnTo>
                    <a:pt x="2" y="509"/>
                  </a:lnTo>
                  <a:lnTo>
                    <a:pt x="1" y="519"/>
                  </a:lnTo>
                  <a:lnTo>
                    <a:pt x="0" y="530"/>
                  </a:lnTo>
                  <a:lnTo>
                    <a:pt x="0" y="548"/>
                  </a:lnTo>
                  <a:lnTo>
                    <a:pt x="2" y="563"/>
                  </a:lnTo>
                  <a:lnTo>
                    <a:pt x="5" y="573"/>
                  </a:lnTo>
                  <a:lnTo>
                    <a:pt x="7" y="576"/>
                  </a:lnTo>
                  <a:lnTo>
                    <a:pt x="7" y="167"/>
                  </a:lnTo>
                  <a:lnTo>
                    <a:pt x="5" y="164"/>
                  </a:lnTo>
                  <a:lnTo>
                    <a:pt x="2" y="155"/>
                  </a:lnTo>
                  <a:lnTo>
                    <a:pt x="0" y="139"/>
                  </a:lnTo>
                  <a:lnTo>
                    <a:pt x="0" y="120"/>
                  </a:lnTo>
                  <a:lnTo>
                    <a:pt x="1" y="109"/>
                  </a:lnTo>
                  <a:lnTo>
                    <a:pt x="2" y="97"/>
                  </a:lnTo>
                  <a:lnTo>
                    <a:pt x="5" y="86"/>
                  </a:lnTo>
                  <a:lnTo>
                    <a:pt x="10" y="74"/>
                  </a:lnTo>
                  <a:lnTo>
                    <a:pt x="16" y="62"/>
                  </a:lnTo>
                  <a:lnTo>
                    <a:pt x="24" y="50"/>
                  </a:lnTo>
                  <a:lnTo>
                    <a:pt x="35" y="38"/>
                  </a:lnTo>
                  <a:lnTo>
                    <a:pt x="46" y="26"/>
                  </a:lnTo>
                  <a:lnTo>
                    <a:pt x="56" y="20"/>
                  </a:lnTo>
                  <a:lnTo>
                    <a:pt x="66" y="13"/>
                  </a:lnTo>
                  <a:lnTo>
                    <a:pt x="75" y="7"/>
                  </a:lnTo>
                  <a:lnTo>
                    <a:pt x="87" y="0"/>
                  </a:lnTo>
                  <a:lnTo>
                    <a:pt x="87" y="41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2" name="Freeform 13"/>
            <p:cNvSpPr/>
            <p:nvPr/>
          </p:nvSpPr>
          <p:spPr>
            <a:xfrm>
              <a:off x="1816920" y="3607920"/>
              <a:ext cx="21600" cy="170280"/>
            </a:xfrm>
            <a:custGeom>
              <a:avLst/>
              <a:gdLst>
                <a:gd name="textAreaLeft" fmla="*/ 0 w 21600"/>
                <a:gd name="textAreaRight" fmla="*/ 21960 w 21600"/>
                <a:gd name="textAreaTop" fmla="*/ 0 h 170280"/>
                <a:gd name="textAreaBottom" fmla="*/ 170640 h 170280"/>
              </a:gdLst>
              <a:ahLst/>
              <a:rect l="textAreaLeft" t="textAreaTop" r="textAreaRight" b="textAreaBottom"/>
              <a:pathLst>
                <a:path w="51" h="375">
                  <a:moveTo>
                    <a:pt x="0" y="375"/>
                  </a:moveTo>
                  <a:lnTo>
                    <a:pt x="0" y="0"/>
                  </a:lnTo>
                  <a:lnTo>
                    <a:pt x="12" y="21"/>
                  </a:lnTo>
                  <a:lnTo>
                    <a:pt x="22" y="44"/>
                  </a:lnTo>
                  <a:lnTo>
                    <a:pt x="30" y="66"/>
                  </a:lnTo>
                  <a:lnTo>
                    <a:pt x="38" y="89"/>
                  </a:lnTo>
                  <a:lnTo>
                    <a:pt x="43" y="113"/>
                  </a:lnTo>
                  <a:lnTo>
                    <a:pt x="48" y="136"/>
                  </a:lnTo>
                  <a:lnTo>
                    <a:pt x="50" y="160"/>
                  </a:lnTo>
                  <a:lnTo>
                    <a:pt x="51" y="185"/>
                  </a:lnTo>
                  <a:lnTo>
                    <a:pt x="50" y="209"/>
                  </a:lnTo>
                  <a:lnTo>
                    <a:pt x="48" y="234"/>
                  </a:lnTo>
                  <a:lnTo>
                    <a:pt x="44" y="259"/>
                  </a:lnTo>
                  <a:lnTo>
                    <a:pt x="38" y="282"/>
                  </a:lnTo>
                  <a:lnTo>
                    <a:pt x="31" y="306"/>
                  </a:lnTo>
                  <a:lnTo>
                    <a:pt x="23" y="330"/>
                  </a:lnTo>
                  <a:lnTo>
                    <a:pt x="13" y="353"/>
                  </a:lnTo>
                  <a:lnTo>
                    <a:pt x="0" y="37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3" name="Freeform 14"/>
            <p:cNvSpPr/>
            <p:nvPr/>
          </p:nvSpPr>
          <p:spPr>
            <a:xfrm>
              <a:off x="3065400" y="4057560"/>
              <a:ext cx="41760" cy="269640"/>
            </a:xfrm>
            <a:custGeom>
              <a:avLst/>
              <a:gdLst>
                <a:gd name="textAreaLeft" fmla="*/ 0 w 41760"/>
                <a:gd name="textAreaRight" fmla="*/ 42120 w 41760"/>
                <a:gd name="textAreaTop" fmla="*/ 0 h 269640"/>
                <a:gd name="textAreaBottom" fmla="*/ 270000 h 269640"/>
              </a:gdLst>
              <a:ahLst/>
              <a:rect l="textAreaLeft" t="textAreaTop" r="textAreaRight" b="textAreaBottom"/>
              <a:pathLst>
                <a:path w="92" h="596">
                  <a:moveTo>
                    <a:pt x="92" y="0"/>
                  </a:moveTo>
                  <a:lnTo>
                    <a:pt x="0" y="187"/>
                  </a:lnTo>
                  <a:lnTo>
                    <a:pt x="0" y="596"/>
                  </a:lnTo>
                  <a:lnTo>
                    <a:pt x="92" y="409"/>
                  </a:lnTo>
                  <a:lnTo>
                    <a:pt x="92"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4" name="Freeform 15"/>
            <p:cNvSpPr/>
            <p:nvPr/>
          </p:nvSpPr>
          <p:spPr>
            <a:xfrm>
              <a:off x="3555360" y="4479840"/>
              <a:ext cx="191160" cy="394560"/>
            </a:xfrm>
            <a:custGeom>
              <a:avLst/>
              <a:gdLst>
                <a:gd name="textAreaLeft" fmla="*/ 0 w 191160"/>
                <a:gd name="textAreaRight" fmla="*/ 191520 w 191160"/>
                <a:gd name="textAreaTop" fmla="*/ 0 h 394560"/>
                <a:gd name="textAreaBottom" fmla="*/ 394920 h 394560"/>
              </a:gdLst>
              <a:ahLst/>
              <a:rect l="textAreaLeft" t="textAreaTop" r="textAreaRight" b="textAreaBottom"/>
              <a:pathLst>
                <a:path w="435" h="872">
                  <a:moveTo>
                    <a:pt x="435" y="463"/>
                  </a:moveTo>
                  <a:lnTo>
                    <a:pt x="0" y="0"/>
                  </a:lnTo>
                  <a:lnTo>
                    <a:pt x="0" y="408"/>
                  </a:lnTo>
                  <a:lnTo>
                    <a:pt x="435" y="872"/>
                  </a:lnTo>
                  <a:lnTo>
                    <a:pt x="435" y="46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5" name="Freeform 16"/>
            <p:cNvSpPr/>
            <p:nvPr/>
          </p:nvSpPr>
          <p:spPr>
            <a:xfrm>
              <a:off x="3827880" y="4493160"/>
              <a:ext cx="94680" cy="340560"/>
            </a:xfrm>
            <a:custGeom>
              <a:avLst/>
              <a:gdLst>
                <a:gd name="textAreaLeft" fmla="*/ 0 w 94680"/>
                <a:gd name="textAreaRight" fmla="*/ 95040 w 94680"/>
                <a:gd name="textAreaTop" fmla="*/ 0 h 340560"/>
                <a:gd name="textAreaBottom" fmla="*/ 340920 h 340560"/>
              </a:gdLst>
              <a:ahLst/>
              <a:rect l="textAreaLeft" t="textAreaTop" r="textAreaRight" b="textAreaBottom"/>
              <a:pathLst>
                <a:path w="216" h="749">
                  <a:moveTo>
                    <a:pt x="216" y="0"/>
                  </a:moveTo>
                  <a:lnTo>
                    <a:pt x="0" y="340"/>
                  </a:lnTo>
                  <a:lnTo>
                    <a:pt x="0" y="749"/>
                  </a:lnTo>
                  <a:lnTo>
                    <a:pt x="216" y="409"/>
                  </a:lnTo>
                  <a:lnTo>
                    <a:pt x="216"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6" name="Freeform 17"/>
            <p:cNvSpPr/>
            <p:nvPr/>
          </p:nvSpPr>
          <p:spPr>
            <a:xfrm>
              <a:off x="4136040" y="4482000"/>
              <a:ext cx="289800" cy="644760"/>
            </a:xfrm>
            <a:custGeom>
              <a:avLst/>
              <a:gdLst>
                <a:gd name="textAreaLeft" fmla="*/ 0 w 289800"/>
                <a:gd name="textAreaRight" fmla="*/ 290160 w 289800"/>
                <a:gd name="textAreaTop" fmla="*/ 0 h 644760"/>
                <a:gd name="textAreaBottom" fmla="*/ 645120 h 644760"/>
              </a:gdLst>
              <a:ahLst/>
              <a:rect l="textAreaLeft" t="textAreaTop" r="textAreaRight" b="textAreaBottom"/>
              <a:pathLst>
                <a:path w="658" h="1423">
                  <a:moveTo>
                    <a:pt x="658" y="1423"/>
                  </a:moveTo>
                  <a:lnTo>
                    <a:pt x="618" y="1400"/>
                  </a:lnTo>
                  <a:lnTo>
                    <a:pt x="581" y="1375"/>
                  </a:lnTo>
                  <a:lnTo>
                    <a:pt x="547" y="1349"/>
                  </a:lnTo>
                  <a:lnTo>
                    <a:pt x="514" y="1324"/>
                  </a:lnTo>
                  <a:lnTo>
                    <a:pt x="485" y="1298"/>
                  </a:lnTo>
                  <a:lnTo>
                    <a:pt x="457" y="1271"/>
                  </a:lnTo>
                  <a:lnTo>
                    <a:pt x="431" y="1243"/>
                  </a:lnTo>
                  <a:lnTo>
                    <a:pt x="407" y="1215"/>
                  </a:lnTo>
                  <a:lnTo>
                    <a:pt x="385" y="1187"/>
                  </a:lnTo>
                  <a:lnTo>
                    <a:pt x="365" y="1158"/>
                  </a:lnTo>
                  <a:lnTo>
                    <a:pt x="346" y="1130"/>
                  </a:lnTo>
                  <a:lnTo>
                    <a:pt x="330" y="1101"/>
                  </a:lnTo>
                  <a:lnTo>
                    <a:pt x="313" y="1071"/>
                  </a:lnTo>
                  <a:lnTo>
                    <a:pt x="299" y="1042"/>
                  </a:lnTo>
                  <a:lnTo>
                    <a:pt x="286" y="1013"/>
                  </a:lnTo>
                  <a:lnTo>
                    <a:pt x="276" y="984"/>
                  </a:lnTo>
                  <a:lnTo>
                    <a:pt x="265" y="955"/>
                  </a:lnTo>
                  <a:lnTo>
                    <a:pt x="256" y="927"/>
                  </a:lnTo>
                  <a:lnTo>
                    <a:pt x="248" y="897"/>
                  </a:lnTo>
                  <a:lnTo>
                    <a:pt x="241" y="871"/>
                  </a:lnTo>
                  <a:lnTo>
                    <a:pt x="228" y="816"/>
                  </a:lnTo>
                  <a:lnTo>
                    <a:pt x="219" y="763"/>
                  </a:lnTo>
                  <a:lnTo>
                    <a:pt x="212" y="714"/>
                  </a:lnTo>
                  <a:lnTo>
                    <a:pt x="205" y="668"/>
                  </a:lnTo>
                  <a:lnTo>
                    <a:pt x="199" y="628"/>
                  </a:lnTo>
                  <a:lnTo>
                    <a:pt x="194" y="590"/>
                  </a:lnTo>
                  <a:lnTo>
                    <a:pt x="190" y="567"/>
                  </a:lnTo>
                  <a:lnTo>
                    <a:pt x="184" y="546"/>
                  </a:lnTo>
                  <a:lnTo>
                    <a:pt x="176" y="526"/>
                  </a:lnTo>
                  <a:lnTo>
                    <a:pt x="167" y="508"/>
                  </a:lnTo>
                  <a:lnTo>
                    <a:pt x="158" y="493"/>
                  </a:lnTo>
                  <a:lnTo>
                    <a:pt x="147" y="479"/>
                  </a:lnTo>
                  <a:lnTo>
                    <a:pt x="136" y="466"/>
                  </a:lnTo>
                  <a:lnTo>
                    <a:pt x="123" y="455"/>
                  </a:lnTo>
                  <a:lnTo>
                    <a:pt x="110" y="445"/>
                  </a:lnTo>
                  <a:lnTo>
                    <a:pt x="96" y="437"/>
                  </a:lnTo>
                  <a:lnTo>
                    <a:pt x="81" y="430"/>
                  </a:lnTo>
                  <a:lnTo>
                    <a:pt x="66" y="423"/>
                  </a:lnTo>
                  <a:lnTo>
                    <a:pt x="51" y="419"/>
                  </a:lnTo>
                  <a:lnTo>
                    <a:pt x="34" y="415"/>
                  </a:lnTo>
                  <a:lnTo>
                    <a:pt x="18" y="412"/>
                  </a:lnTo>
                  <a:lnTo>
                    <a:pt x="0" y="409"/>
                  </a:lnTo>
                  <a:lnTo>
                    <a:pt x="0" y="0"/>
                  </a:lnTo>
                  <a:lnTo>
                    <a:pt x="18" y="3"/>
                  </a:lnTo>
                  <a:lnTo>
                    <a:pt x="34" y="5"/>
                  </a:lnTo>
                  <a:lnTo>
                    <a:pt x="51" y="10"/>
                  </a:lnTo>
                  <a:lnTo>
                    <a:pt x="66" y="14"/>
                  </a:lnTo>
                  <a:lnTo>
                    <a:pt x="81" y="20"/>
                  </a:lnTo>
                  <a:lnTo>
                    <a:pt x="96" y="27"/>
                  </a:lnTo>
                  <a:lnTo>
                    <a:pt x="110" y="35"/>
                  </a:lnTo>
                  <a:lnTo>
                    <a:pt x="123" y="45"/>
                  </a:lnTo>
                  <a:lnTo>
                    <a:pt x="136" y="55"/>
                  </a:lnTo>
                  <a:lnTo>
                    <a:pt x="147" y="68"/>
                  </a:lnTo>
                  <a:lnTo>
                    <a:pt x="158" y="82"/>
                  </a:lnTo>
                  <a:lnTo>
                    <a:pt x="167" y="97"/>
                  </a:lnTo>
                  <a:lnTo>
                    <a:pt x="176" y="115"/>
                  </a:lnTo>
                  <a:lnTo>
                    <a:pt x="184" y="134"/>
                  </a:lnTo>
                  <a:lnTo>
                    <a:pt x="190" y="156"/>
                  </a:lnTo>
                  <a:lnTo>
                    <a:pt x="194" y="178"/>
                  </a:lnTo>
                  <a:lnTo>
                    <a:pt x="199" y="216"/>
                  </a:lnTo>
                  <a:lnTo>
                    <a:pt x="205" y="257"/>
                  </a:lnTo>
                  <a:lnTo>
                    <a:pt x="212" y="304"/>
                  </a:lnTo>
                  <a:lnTo>
                    <a:pt x="219" y="353"/>
                  </a:lnTo>
                  <a:lnTo>
                    <a:pt x="228" y="406"/>
                  </a:lnTo>
                  <a:lnTo>
                    <a:pt x="241" y="459"/>
                  </a:lnTo>
                  <a:lnTo>
                    <a:pt x="248" y="487"/>
                  </a:lnTo>
                  <a:lnTo>
                    <a:pt x="256" y="515"/>
                  </a:lnTo>
                  <a:lnTo>
                    <a:pt x="265" y="545"/>
                  </a:lnTo>
                  <a:lnTo>
                    <a:pt x="276" y="574"/>
                  </a:lnTo>
                  <a:lnTo>
                    <a:pt x="286" y="602"/>
                  </a:lnTo>
                  <a:lnTo>
                    <a:pt x="299" y="631"/>
                  </a:lnTo>
                  <a:lnTo>
                    <a:pt x="313" y="660"/>
                  </a:lnTo>
                  <a:lnTo>
                    <a:pt x="330" y="690"/>
                  </a:lnTo>
                  <a:lnTo>
                    <a:pt x="346" y="719"/>
                  </a:lnTo>
                  <a:lnTo>
                    <a:pt x="365" y="748"/>
                  </a:lnTo>
                  <a:lnTo>
                    <a:pt x="385" y="776"/>
                  </a:lnTo>
                  <a:lnTo>
                    <a:pt x="407" y="805"/>
                  </a:lnTo>
                  <a:lnTo>
                    <a:pt x="431" y="833"/>
                  </a:lnTo>
                  <a:lnTo>
                    <a:pt x="457" y="860"/>
                  </a:lnTo>
                  <a:lnTo>
                    <a:pt x="485" y="888"/>
                  </a:lnTo>
                  <a:lnTo>
                    <a:pt x="514" y="914"/>
                  </a:lnTo>
                  <a:lnTo>
                    <a:pt x="547" y="941"/>
                  </a:lnTo>
                  <a:lnTo>
                    <a:pt x="581" y="965"/>
                  </a:lnTo>
                  <a:lnTo>
                    <a:pt x="618" y="990"/>
                  </a:lnTo>
                  <a:lnTo>
                    <a:pt x="658" y="1013"/>
                  </a:lnTo>
                  <a:lnTo>
                    <a:pt x="658" y="142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7" name="Freeform 18"/>
            <p:cNvSpPr/>
            <p:nvPr/>
          </p:nvSpPr>
          <p:spPr>
            <a:xfrm>
              <a:off x="4493880" y="5151600"/>
              <a:ext cx="217440" cy="410760"/>
            </a:xfrm>
            <a:custGeom>
              <a:avLst/>
              <a:gdLst>
                <a:gd name="textAreaLeft" fmla="*/ 0 w 217440"/>
                <a:gd name="textAreaRight" fmla="*/ 217800 w 217440"/>
                <a:gd name="textAreaTop" fmla="*/ 0 h 410760"/>
                <a:gd name="textAreaBottom" fmla="*/ 411120 h 410760"/>
              </a:gdLst>
              <a:ahLst/>
              <a:rect l="textAreaLeft" t="textAreaTop" r="textAreaRight" b="textAreaBottom"/>
              <a:pathLst>
                <a:path w="496" h="905">
                  <a:moveTo>
                    <a:pt x="496" y="496"/>
                  </a:moveTo>
                  <a:lnTo>
                    <a:pt x="0" y="0"/>
                  </a:lnTo>
                  <a:lnTo>
                    <a:pt x="0" y="410"/>
                  </a:lnTo>
                  <a:lnTo>
                    <a:pt x="496" y="905"/>
                  </a:lnTo>
                  <a:lnTo>
                    <a:pt x="496" y="49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8" name="Freeform 19"/>
            <p:cNvSpPr/>
            <p:nvPr/>
          </p:nvSpPr>
          <p:spPr>
            <a:xfrm>
              <a:off x="5131440" y="4649760"/>
              <a:ext cx="223920" cy="295200"/>
            </a:xfrm>
            <a:custGeom>
              <a:avLst/>
              <a:gdLst>
                <a:gd name="textAreaLeft" fmla="*/ 0 w 223920"/>
                <a:gd name="textAreaRight" fmla="*/ 224280 w 223920"/>
                <a:gd name="textAreaTop" fmla="*/ 0 h 295200"/>
                <a:gd name="textAreaBottom" fmla="*/ 295200 h 295200"/>
              </a:gdLst>
              <a:ahLst/>
              <a:rect l="textAreaLeft" t="textAreaTop" r="textAreaRight" b="textAreaBottom"/>
              <a:pathLst>
                <a:path w="511" h="650">
                  <a:moveTo>
                    <a:pt x="511" y="409"/>
                  </a:moveTo>
                  <a:lnTo>
                    <a:pt x="441" y="443"/>
                  </a:lnTo>
                  <a:lnTo>
                    <a:pt x="367" y="478"/>
                  </a:lnTo>
                  <a:lnTo>
                    <a:pt x="292" y="511"/>
                  </a:lnTo>
                  <a:lnTo>
                    <a:pt x="220" y="544"/>
                  </a:lnTo>
                  <a:lnTo>
                    <a:pt x="152" y="576"/>
                  </a:lnTo>
                  <a:lnTo>
                    <a:pt x="91" y="604"/>
                  </a:lnTo>
                  <a:lnTo>
                    <a:pt x="40" y="628"/>
                  </a:lnTo>
                  <a:lnTo>
                    <a:pt x="0" y="650"/>
                  </a:lnTo>
                  <a:lnTo>
                    <a:pt x="0" y="242"/>
                  </a:lnTo>
                  <a:lnTo>
                    <a:pt x="40" y="219"/>
                  </a:lnTo>
                  <a:lnTo>
                    <a:pt x="91" y="195"/>
                  </a:lnTo>
                  <a:lnTo>
                    <a:pt x="152" y="166"/>
                  </a:lnTo>
                  <a:lnTo>
                    <a:pt x="220" y="135"/>
                  </a:lnTo>
                  <a:lnTo>
                    <a:pt x="292" y="103"/>
                  </a:lnTo>
                  <a:lnTo>
                    <a:pt x="367" y="69"/>
                  </a:lnTo>
                  <a:lnTo>
                    <a:pt x="441" y="34"/>
                  </a:lnTo>
                  <a:lnTo>
                    <a:pt x="511" y="0"/>
                  </a:lnTo>
                  <a:lnTo>
                    <a:pt x="511" y="4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499" name="Freeform 20"/>
            <p:cNvSpPr/>
            <p:nvPr/>
          </p:nvSpPr>
          <p:spPr>
            <a:xfrm>
              <a:off x="5634720" y="4436640"/>
              <a:ext cx="135720" cy="197640"/>
            </a:xfrm>
            <a:custGeom>
              <a:avLst/>
              <a:gdLst>
                <a:gd name="textAreaLeft" fmla="*/ 0 w 135720"/>
                <a:gd name="textAreaRight" fmla="*/ 135720 w 135720"/>
                <a:gd name="textAreaTop" fmla="*/ 0 h 197640"/>
                <a:gd name="textAreaBottom" fmla="*/ 198000 h 197640"/>
              </a:gdLst>
              <a:ahLst/>
              <a:rect l="textAreaLeft" t="textAreaTop" r="textAreaRight" b="textAreaBottom"/>
              <a:pathLst>
                <a:path w="309" h="437">
                  <a:moveTo>
                    <a:pt x="309" y="0"/>
                  </a:moveTo>
                  <a:lnTo>
                    <a:pt x="0" y="28"/>
                  </a:lnTo>
                  <a:lnTo>
                    <a:pt x="0" y="437"/>
                  </a:lnTo>
                  <a:lnTo>
                    <a:pt x="309" y="409"/>
                  </a:lnTo>
                  <a:lnTo>
                    <a:pt x="309"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00" name="Freeform 21"/>
            <p:cNvSpPr/>
            <p:nvPr/>
          </p:nvSpPr>
          <p:spPr>
            <a:xfrm>
              <a:off x="6138000" y="4482000"/>
              <a:ext cx="120600" cy="252000"/>
            </a:xfrm>
            <a:custGeom>
              <a:avLst/>
              <a:gdLst>
                <a:gd name="textAreaLeft" fmla="*/ 0 w 120600"/>
                <a:gd name="textAreaRight" fmla="*/ 120960 w 120600"/>
                <a:gd name="textAreaTop" fmla="*/ 0 h 252000"/>
                <a:gd name="textAreaBottom" fmla="*/ 252360 h 252000"/>
              </a:gdLst>
              <a:ahLst/>
              <a:rect l="textAreaLeft" t="textAreaTop" r="textAreaRight" b="textAreaBottom"/>
              <a:pathLst>
                <a:path w="275" h="556">
                  <a:moveTo>
                    <a:pt x="275" y="556"/>
                  </a:moveTo>
                  <a:lnTo>
                    <a:pt x="264" y="544"/>
                  </a:lnTo>
                  <a:lnTo>
                    <a:pt x="251" y="534"/>
                  </a:lnTo>
                  <a:lnTo>
                    <a:pt x="238" y="523"/>
                  </a:lnTo>
                  <a:lnTo>
                    <a:pt x="223" y="512"/>
                  </a:lnTo>
                  <a:lnTo>
                    <a:pt x="208" y="503"/>
                  </a:lnTo>
                  <a:lnTo>
                    <a:pt x="193" y="494"/>
                  </a:lnTo>
                  <a:lnTo>
                    <a:pt x="175" y="484"/>
                  </a:lnTo>
                  <a:lnTo>
                    <a:pt x="159" y="475"/>
                  </a:lnTo>
                  <a:lnTo>
                    <a:pt x="121" y="458"/>
                  </a:lnTo>
                  <a:lnTo>
                    <a:pt x="83" y="441"/>
                  </a:lnTo>
                  <a:lnTo>
                    <a:pt x="42" y="426"/>
                  </a:lnTo>
                  <a:lnTo>
                    <a:pt x="0" y="412"/>
                  </a:lnTo>
                  <a:lnTo>
                    <a:pt x="0" y="0"/>
                  </a:lnTo>
                  <a:lnTo>
                    <a:pt x="42" y="14"/>
                  </a:lnTo>
                  <a:lnTo>
                    <a:pt x="83" y="30"/>
                  </a:lnTo>
                  <a:lnTo>
                    <a:pt x="121" y="46"/>
                  </a:lnTo>
                  <a:lnTo>
                    <a:pt x="159" y="64"/>
                  </a:lnTo>
                  <a:lnTo>
                    <a:pt x="175" y="73"/>
                  </a:lnTo>
                  <a:lnTo>
                    <a:pt x="193" y="84"/>
                  </a:lnTo>
                  <a:lnTo>
                    <a:pt x="208" y="93"/>
                  </a:lnTo>
                  <a:lnTo>
                    <a:pt x="223" y="104"/>
                  </a:lnTo>
                  <a:lnTo>
                    <a:pt x="238" y="114"/>
                  </a:lnTo>
                  <a:lnTo>
                    <a:pt x="251" y="125"/>
                  </a:lnTo>
                  <a:lnTo>
                    <a:pt x="264" y="135"/>
                  </a:lnTo>
                  <a:lnTo>
                    <a:pt x="275" y="147"/>
                  </a:lnTo>
                  <a:lnTo>
                    <a:pt x="275" y="55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01" name="Freeform 22"/>
            <p:cNvSpPr/>
            <p:nvPr/>
          </p:nvSpPr>
          <p:spPr>
            <a:xfrm>
              <a:off x="7129440" y="4196160"/>
              <a:ext cx="107640" cy="272160"/>
            </a:xfrm>
            <a:custGeom>
              <a:avLst/>
              <a:gdLst>
                <a:gd name="textAreaLeft" fmla="*/ 0 w 107640"/>
                <a:gd name="textAreaRight" fmla="*/ 108000 w 107640"/>
                <a:gd name="textAreaTop" fmla="*/ 0 h 272160"/>
                <a:gd name="textAreaBottom" fmla="*/ 272520 h 272160"/>
              </a:gdLst>
              <a:ahLst/>
              <a:rect l="textAreaLeft" t="textAreaTop" r="textAreaRight" b="textAreaBottom"/>
              <a:pathLst>
                <a:path w="248" h="597">
                  <a:moveTo>
                    <a:pt x="248" y="188"/>
                  </a:moveTo>
                  <a:lnTo>
                    <a:pt x="248" y="177"/>
                  </a:lnTo>
                  <a:lnTo>
                    <a:pt x="246" y="165"/>
                  </a:lnTo>
                  <a:lnTo>
                    <a:pt x="242" y="154"/>
                  </a:lnTo>
                  <a:lnTo>
                    <a:pt x="237" y="144"/>
                  </a:lnTo>
                  <a:lnTo>
                    <a:pt x="232" y="135"/>
                  </a:lnTo>
                  <a:lnTo>
                    <a:pt x="226" y="125"/>
                  </a:lnTo>
                  <a:lnTo>
                    <a:pt x="218" y="116"/>
                  </a:lnTo>
                  <a:lnTo>
                    <a:pt x="209" y="107"/>
                  </a:lnTo>
                  <a:lnTo>
                    <a:pt x="200" y="98"/>
                  </a:lnTo>
                  <a:lnTo>
                    <a:pt x="191" y="90"/>
                  </a:lnTo>
                  <a:lnTo>
                    <a:pt x="180" y="82"/>
                  </a:lnTo>
                  <a:lnTo>
                    <a:pt x="170" y="74"/>
                  </a:lnTo>
                  <a:lnTo>
                    <a:pt x="147" y="61"/>
                  </a:lnTo>
                  <a:lnTo>
                    <a:pt x="124" y="48"/>
                  </a:lnTo>
                  <a:lnTo>
                    <a:pt x="101" y="36"/>
                  </a:lnTo>
                  <a:lnTo>
                    <a:pt x="79" y="27"/>
                  </a:lnTo>
                  <a:lnTo>
                    <a:pt x="58" y="19"/>
                  </a:lnTo>
                  <a:lnTo>
                    <a:pt x="39" y="13"/>
                  </a:lnTo>
                  <a:lnTo>
                    <a:pt x="11" y="4"/>
                  </a:lnTo>
                  <a:lnTo>
                    <a:pt x="0" y="0"/>
                  </a:lnTo>
                  <a:lnTo>
                    <a:pt x="0" y="413"/>
                  </a:lnTo>
                  <a:lnTo>
                    <a:pt x="11" y="416"/>
                  </a:lnTo>
                  <a:lnTo>
                    <a:pt x="39" y="424"/>
                  </a:lnTo>
                  <a:lnTo>
                    <a:pt x="58" y="430"/>
                  </a:lnTo>
                  <a:lnTo>
                    <a:pt x="79" y="438"/>
                  </a:lnTo>
                  <a:lnTo>
                    <a:pt x="101" y="448"/>
                  </a:lnTo>
                  <a:lnTo>
                    <a:pt x="124" y="458"/>
                  </a:lnTo>
                  <a:lnTo>
                    <a:pt x="147" y="471"/>
                  </a:lnTo>
                  <a:lnTo>
                    <a:pt x="170" y="484"/>
                  </a:lnTo>
                  <a:lnTo>
                    <a:pt x="180" y="492"/>
                  </a:lnTo>
                  <a:lnTo>
                    <a:pt x="191" y="499"/>
                  </a:lnTo>
                  <a:lnTo>
                    <a:pt x="200" y="507"/>
                  </a:lnTo>
                  <a:lnTo>
                    <a:pt x="209" y="515"/>
                  </a:lnTo>
                  <a:lnTo>
                    <a:pt x="218" y="525"/>
                  </a:lnTo>
                  <a:lnTo>
                    <a:pt x="226" y="534"/>
                  </a:lnTo>
                  <a:lnTo>
                    <a:pt x="232" y="543"/>
                  </a:lnTo>
                  <a:lnTo>
                    <a:pt x="237" y="554"/>
                  </a:lnTo>
                  <a:lnTo>
                    <a:pt x="242" y="563"/>
                  </a:lnTo>
                  <a:lnTo>
                    <a:pt x="246" y="575"/>
                  </a:lnTo>
                  <a:lnTo>
                    <a:pt x="248" y="585"/>
                  </a:lnTo>
                  <a:lnTo>
                    <a:pt x="248" y="597"/>
                  </a:lnTo>
                  <a:lnTo>
                    <a:pt x="248" y="18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02" name="Rectangle 23"/>
            <p:cNvSpPr/>
            <p:nvPr/>
          </p:nvSpPr>
          <p:spPr>
            <a:xfrm>
              <a:off x="7399440" y="4184280"/>
              <a:ext cx="83520" cy="186120"/>
            </a:xfrm>
            <a:prstGeom prst="rect">
              <a:avLst/>
            </a:prstGeom>
            <a:solidFill>
              <a:srgbClr val="93d5ed"/>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03" name="Rectangle 24"/>
            <p:cNvSpPr/>
            <p:nvPr/>
          </p:nvSpPr>
          <p:spPr>
            <a:xfrm>
              <a:off x="7548840" y="4241520"/>
              <a:ext cx="41760" cy="183600"/>
            </a:xfrm>
            <a:prstGeom prst="rect">
              <a:avLst/>
            </a:prstGeom>
            <a:solidFill>
              <a:srgbClr val="93d5ed"/>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04" name="Freeform 25"/>
            <p:cNvSpPr/>
            <p:nvPr/>
          </p:nvSpPr>
          <p:spPr>
            <a:xfrm>
              <a:off x="7792560" y="4309560"/>
              <a:ext cx="144720" cy="485640"/>
            </a:xfrm>
            <a:custGeom>
              <a:avLst/>
              <a:gdLst>
                <a:gd name="textAreaLeft" fmla="*/ 0 w 144720"/>
                <a:gd name="textAreaRight" fmla="*/ 145080 w 144720"/>
                <a:gd name="textAreaTop" fmla="*/ 0 h 485640"/>
                <a:gd name="textAreaBottom" fmla="*/ 486000 h 485640"/>
              </a:gdLst>
              <a:ahLst/>
              <a:rect l="textAreaLeft" t="textAreaTop" r="textAreaRight" b="textAreaBottom"/>
              <a:pathLst>
                <a:path w="329" h="1068">
                  <a:moveTo>
                    <a:pt x="329" y="645"/>
                  </a:moveTo>
                  <a:lnTo>
                    <a:pt x="293" y="593"/>
                  </a:lnTo>
                  <a:lnTo>
                    <a:pt x="258" y="543"/>
                  </a:lnTo>
                  <a:lnTo>
                    <a:pt x="223" y="493"/>
                  </a:lnTo>
                  <a:lnTo>
                    <a:pt x="191" y="443"/>
                  </a:lnTo>
                  <a:lnTo>
                    <a:pt x="160" y="394"/>
                  </a:lnTo>
                  <a:lnTo>
                    <a:pt x="132" y="346"/>
                  </a:lnTo>
                  <a:lnTo>
                    <a:pt x="105" y="299"/>
                  </a:lnTo>
                  <a:lnTo>
                    <a:pt x="80" y="255"/>
                  </a:lnTo>
                  <a:lnTo>
                    <a:pt x="59" y="213"/>
                  </a:lnTo>
                  <a:lnTo>
                    <a:pt x="41" y="173"/>
                  </a:lnTo>
                  <a:lnTo>
                    <a:pt x="26" y="136"/>
                  </a:lnTo>
                  <a:lnTo>
                    <a:pt x="14" y="102"/>
                  </a:lnTo>
                  <a:lnTo>
                    <a:pt x="9" y="85"/>
                  </a:lnTo>
                  <a:lnTo>
                    <a:pt x="5" y="70"/>
                  </a:lnTo>
                  <a:lnTo>
                    <a:pt x="2" y="56"/>
                  </a:lnTo>
                  <a:lnTo>
                    <a:pt x="0" y="42"/>
                  </a:lnTo>
                  <a:lnTo>
                    <a:pt x="0" y="30"/>
                  </a:lnTo>
                  <a:lnTo>
                    <a:pt x="0" y="19"/>
                  </a:lnTo>
                  <a:lnTo>
                    <a:pt x="1" y="8"/>
                  </a:lnTo>
                  <a:lnTo>
                    <a:pt x="3" y="0"/>
                  </a:lnTo>
                  <a:lnTo>
                    <a:pt x="3" y="425"/>
                  </a:lnTo>
                  <a:lnTo>
                    <a:pt x="1" y="435"/>
                  </a:lnTo>
                  <a:lnTo>
                    <a:pt x="0" y="445"/>
                  </a:lnTo>
                  <a:lnTo>
                    <a:pt x="0" y="457"/>
                  </a:lnTo>
                  <a:lnTo>
                    <a:pt x="0" y="468"/>
                  </a:lnTo>
                  <a:lnTo>
                    <a:pt x="2" y="482"/>
                  </a:lnTo>
                  <a:lnTo>
                    <a:pt x="5" y="497"/>
                  </a:lnTo>
                  <a:lnTo>
                    <a:pt x="9" y="512"/>
                  </a:lnTo>
                  <a:lnTo>
                    <a:pt x="14" y="527"/>
                  </a:lnTo>
                  <a:lnTo>
                    <a:pt x="26" y="562"/>
                  </a:lnTo>
                  <a:lnTo>
                    <a:pt x="41" y="599"/>
                  </a:lnTo>
                  <a:lnTo>
                    <a:pt x="59" y="639"/>
                  </a:lnTo>
                  <a:lnTo>
                    <a:pt x="80" y="681"/>
                  </a:lnTo>
                  <a:lnTo>
                    <a:pt x="105" y="725"/>
                  </a:lnTo>
                  <a:lnTo>
                    <a:pt x="132" y="771"/>
                  </a:lnTo>
                  <a:lnTo>
                    <a:pt x="160" y="819"/>
                  </a:lnTo>
                  <a:lnTo>
                    <a:pt x="191" y="868"/>
                  </a:lnTo>
                  <a:lnTo>
                    <a:pt x="223" y="917"/>
                  </a:lnTo>
                  <a:lnTo>
                    <a:pt x="258" y="967"/>
                  </a:lnTo>
                  <a:lnTo>
                    <a:pt x="293" y="1017"/>
                  </a:lnTo>
                  <a:lnTo>
                    <a:pt x="329" y="1068"/>
                  </a:lnTo>
                  <a:lnTo>
                    <a:pt x="329" y="64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05" name="Freeform 26"/>
            <p:cNvSpPr/>
            <p:nvPr/>
          </p:nvSpPr>
          <p:spPr>
            <a:xfrm>
              <a:off x="8278560" y="4890600"/>
              <a:ext cx="239400" cy="317520"/>
            </a:xfrm>
            <a:custGeom>
              <a:avLst/>
              <a:gdLst>
                <a:gd name="textAreaLeft" fmla="*/ 0 w 239400"/>
                <a:gd name="textAreaRight" fmla="*/ 239760 w 239400"/>
                <a:gd name="textAreaTop" fmla="*/ 0 h 317520"/>
                <a:gd name="textAreaBottom" fmla="*/ 317880 h 317520"/>
              </a:gdLst>
              <a:ahLst/>
              <a:rect l="textAreaLeft" t="textAreaTop" r="textAreaRight" b="textAreaBottom"/>
              <a:pathLst>
                <a:path w="544" h="703">
                  <a:moveTo>
                    <a:pt x="544" y="703"/>
                  </a:moveTo>
                  <a:lnTo>
                    <a:pt x="468" y="658"/>
                  </a:lnTo>
                  <a:lnTo>
                    <a:pt x="395" y="614"/>
                  </a:lnTo>
                  <a:lnTo>
                    <a:pt x="321" y="576"/>
                  </a:lnTo>
                  <a:lnTo>
                    <a:pt x="251" y="540"/>
                  </a:lnTo>
                  <a:lnTo>
                    <a:pt x="183" y="507"/>
                  </a:lnTo>
                  <a:lnTo>
                    <a:pt x="119" y="478"/>
                  </a:lnTo>
                  <a:lnTo>
                    <a:pt x="57" y="451"/>
                  </a:lnTo>
                  <a:lnTo>
                    <a:pt x="0" y="426"/>
                  </a:lnTo>
                  <a:lnTo>
                    <a:pt x="0" y="0"/>
                  </a:lnTo>
                  <a:lnTo>
                    <a:pt x="57" y="24"/>
                  </a:lnTo>
                  <a:lnTo>
                    <a:pt x="119" y="51"/>
                  </a:lnTo>
                  <a:lnTo>
                    <a:pt x="183" y="82"/>
                  </a:lnTo>
                  <a:lnTo>
                    <a:pt x="251" y="114"/>
                  </a:lnTo>
                  <a:lnTo>
                    <a:pt x="321" y="151"/>
                  </a:lnTo>
                  <a:lnTo>
                    <a:pt x="395" y="190"/>
                  </a:lnTo>
                  <a:lnTo>
                    <a:pt x="468" y="232"/>
                  </a:lnTo>
                  <a:lnTo>
                    <a:pt x="544" y="277"/>
                  </a:lnTo>
                  <a:lnTo>
                    <a:pt x="544" y="70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06" name="Rectangle 27"/>
            <p:cNvSpPr/>
            <p:nvPr/>
          </p:nvSpPr>
          <p:spPr>
            <a:xfrm>
              <a:off x="7683120" y="4302720"/>
              <a:ext cx="122760" cy="185760"/>
            </a:xfrm>
            <a:prstGeom prst="rect">
              <a:avLst/>
            </a:prstGeom>
            <a:solidFill>
              <a:srgbClr val="93d5ed"/>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07" name="Freeform 28"/>
            <p:cNvSpPr/>
            <p:nvPr/>
          </p:nvSpPr>
          <p:spPr>
            <a:xfrm>
              <a:off x="1676520" y="3419280"/>
              <a:ext cx="96480" cy="272520"/>
            </a:xfrm>
            <a:custGeom>
              <a:avLst/>
              <a:gdLst>
                <a:gd name="textAreaLeft" fmla="*/ 0 w 96480"/>
                <a:gd name="textAreaRight" fmla="*/ 96840 w 96480"/>
                <a:gd name="textAreaTop" fmla="*/ 0 h 272520"/>
                <a:gd name="textAreaBottom" fmla="*/ 272880 h 272520"/>
              </a:gdLst>
              <a:ahLst/>
              <a:rect l="textAreaLeft" t="textAreaTop" r="textAreaRight" b="textAreaBottom"/>
              <a:pathLst>
                <a:path w="220" h="599">
                  <a:moveTo>
                    <a:pt x="0" y="567"/>
                  </a:moveTo>
                  <a:lnTo>
                    <a:pt x="220" y="599"/>
                  </a:lnTo>
                  <a:lnTo>
                    <a:pt x="220" y="32"/>
                  </a:lnTo>
                  <a:lnTo>
                    <a:pt x="0" y="0"/>
                  </a:lnTo>
                  <a:lnTo>
                    <a:pt x="0" y="56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08" name="Rectangle 29"/>
            <p:cNvSpPr/>
            <p:nvPr/>
          </p:nvSpPr>
          <p:spPr>
            <a:xfrm>
              <a:off x="1825920" y="3769560"/>
              <a:ext cx="340560" cy="188280"/>
            </a:xfrm>
            <a:prstGeom prst="rect">
              <a:avLst/>
            </a:prstGeom>
            <a:solidFill>
              <a:srgbClr val="93d5ed"/>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09" name="Freeform 30"/>
            <p:cNvSpPr/>
            <p:nvPr/>
          </p:nvSpPr>
          <p:spPr>
            <a:xfrm>
              <a:off x="6441120" y="4184280"/>
              <a:ext cx="699120" cy="258840"/>
            </a:xfrm>
            <a:custGeom>
              <a:avLst/>
              <a:gdLst>
                <a:gd name="textAreaLeft" fmla="*/ 0 w 699120"/>
                <a:gd name="textAreaRight" fmla="*/ 699480 w 699120"/>
                <a:gd name="textAreaTop" fmla="*/ 0 h 258840"/>
                <a:gd name="textAreaBottom" fmla="*/ 259200 h 258840"/>
              </a:gdLst>
              <a:ahLst/>
              <a:rect l="textAreaLeft" t="textAreaTop" r="textAreaRight" b="textAreaBottom"/>
              <a:pathLst>
                <a:path w="1590" h="570">
                  <a:moveTo>
                    <a:pt x="1590" y="14"/>
                  </a:moveTo>
                  <a:lnTo>
                    <a:pt x="1546" y="10"/>
                  </a:lnTo>
                  <a:lnTo>
                    <a:pt x="1500" y="6"/>
                  </a:lnTo>
                  <a:lnTo>
                    <a:pt x="1451" y="4"/>
                  </a:lnTo>
                  <a:lnTo>
                    <a:pt x="1399" y="1"/>
                  </a:lnTo>
                  <a:lnTo>
                    <a:pt x="1346" y="0"/>
                  </a:lnTo>
                  <a:lnTo>
                    <a:pt x="1291" y="1"/>
                  </a:lnTo>
                  <a:lnTo>
                    <a:pt x="1235" y="1"/>
                  </a:lnTo>
                  <a:lnTo>
                    <a:pt x="1176" y="4"/>
                  </a:lnTo>
                  <a:lnTo>
                    <a:pt x="1118" y="6"/>
                  </a:lnTo>
                  <a:lnTo>
                    <a:pt x="1057" y="10"/>
                  </a:lnTo>
                  <a:lnTo>
                    <a:pt x="996" y="13"/>
                  </a:lnTo>
                  <a:lnTo>
                    <a:pt x="936" y="18"/>
                  </a:lnTo>
                  <a:lnTo>
                    <a:pt x="875" y="22"/>
                  </a:lnTo>
                  <a:lnTo>
                    <a:pt x="814" y="28"/>
                  </a:lnTo>
                  <a:lnTo>
                    <a:pt x="753" y="34"/>
                  </a:lnTo>
                  <a:lnTo>
                    <a:pt x="694" y="40"/>
                  </a:lnTo>
                  <a:lnTo>
                    <a:pt x="658" y="43"/>
                  </a:lnTo>
                  <a:lnTo>
                    <a:pt x="621" y="48"/>
                  </a:lnTo>
                  <a:lnTo>
                    <a:pt x="585" y="52"/>
                  </a:lnTo>
                  <a:lnTo>
                    <a:pt x="550" y="56"/>
                  </a:lnTo>
                  <a:lnTo>
                    <a:pt x="515" y="61"/>
                  </a:lnTo>
                  <a:lnTo>
                    <a:pt x="481" y="66"/>
                  </a:lnTo>
                  <a:lnTo>
                    <a:pt x="447" y="70"/>
                  </a:lnTo>
                  <a:lnTo>
                    <a:pt x="415" y="75"/>
                  </a:lnTo>
                  <a:lnTo>
                    <a:pt x="339" y="87"/>
                  </a:lnTo>
                  <a:lnTo>
                    <a:pt x="269" y="98"/>
                  </a:lnTo>
                  <a:lnTo>
                    <a:pt x="203" y="110"/>
                  </a:lnTo>
                  <a:lnTo>
                    <a:pt x="146" y="122"/>
                  </a:lnTo>
                  <a:lnTo>
                    <a:pt x="96" y="132"/>
                  </a:lnTo>
                  <a:lnTo>
                    <a:pt x="54" y="143"/>
                  </a:lnTo>
                  <a:lnTo>
                    <a:pt x="36" y="147"/>
                  </a:lnTo>
                  <a:lnTo>
                    <a:pt x="21" y="152"/>
                  </a:lnTo>
                  <a:lnTo>
                    <a:pt x="9" y="157"/>
                  </a:lnTo>
                  <a:lnTo>
                    <a:pt x="0" y="161"/>
                  </a:lnTo>
                  <a:lnTo>
                    <a:pt x="0" y="570"/>
                  </a:lnTo>
                  <a:lnTo>
                    <a:pt x="21" y="562"/>
                  </a:lnTo>
                  <a:lnTo>
                    <a:pt x="54" y="553"/>
                  </a:lnTo>
                  <a:lnTo>
                    <a:pt x="96" y="542"/>
                  </a:lnTo>
                  <a:lnTo>
                    <a:pt x="146" y="532"/>
                  </a:lnTo>
                  <a:lnTo>
                    <a:pt x="203" y="520"/>
                  </a:lnTo>
                  <a:lnTo>
                    <a:pt x="269" y="508"/>
                  </a:lnTo>
                  <a:lnTo>
                    <a:pt x="339" y="496"/>
                  </a:lnTo>
                  <a:lnTo>
                    <a:pt x="415" y="484"/>
                  </a:lnTo>
                  <a:lnTo>
                    <a:pt x="447" y="479"/>
                  </a:lnTo>
                  <a:lnTo>
                    <a:pt x="481" y="476"/>
                  </a:lnTo>
                  <a:lnTo>
                    <a:pt x="515" y="471"/>
                  </a:lnTo>
                  <a:lnTo>
                    <a:pt x="550" y="466"/>
                  </a:lnTo>
                  <a:lnTo>
                    <a:pt x="585" y="463"/>
                  </a:lnTo>
                  <a:lnTo>
                    <a:pt x="621" y="458"/>
                  </a:lnTo>
                  <a:lnTo>
                    <a:pt x="658" y="453"/>
                  </a:lnTo>
                  <a:lnTo>
                    <a:pt x="694" y="449"/>
                  </a:lnTo>
                  <a:lnTo>
                    <a:pt x="753" y="443"/>
                  </a:lnTo>
                  <a:lnTo>
                    <a:pt x="814" y="437"/>
                  </a:lnTo>
                  <a:lnTo>
                    <a:pt x="875" y="431"/>
                  </a:lnTo>
                  <a:lnTo>
                    <a:pt x="936" y="427"/>
                  </a:lnTo>
                  <a:lnTo>
                    <a:pt x="996" y="422"/>
                  </a:lnTo>
                  <a:lnTo>
                    <a:pt x="1057" y="418"/>
                  </a:lnTo>
                  <a:lnTo>
                    <a:pt x="1118" y="415"/>
                  </a:lnTo>
                  <a:lnTo>
                    <a:pt x="1176" y="413"/>
                  </a:lnTo>
                  <a:lnTo>
                    <a:pt x="1235" y="411"/>
                  </a:lnTo>
                  <a:lnTo>
                    <a:pt x="1291" y="410"/>
                  </a:lnTo>
                  <a:lnTo>
                    <a:pt x="1346" y="410"/>
                  </a:lnTo>
                  <a:lnTo>
                    <a:pt x="1399" y="410"/>
                  </a:lnTo>
                  <a:lnTo>
                    <a:pt x="1451" y="413"/>
                  </a:lnTo>
                  <a:lnTo>
                    <a:pt x="1500" y="415"/>
                  </a:lnTo>
                  <a:lnTo>
                    <a:pt x="1546" y="418"/>
                  </a:lnTo>
                  <a:lnTo>
                    <a:pt x="1590" y="423"/>
                  </a:lnTo>
                  <a:lnTo>
                    <a:pt x="1590" y="14"/>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10" name="Freeform 31"/>
            <p:cNvSpPr/>
            <p:nvPr/>
          </p:nvSpPr>
          <p:spPr>
            <a:xfrm>
              <a:off x="7828200" y="1928160"/>
              <a:ext cx="142920" cy="304200"/>
            </a:xfrm>
            <a:custGeom>
              <a:avLst/>
              <a:gdLst>
                <a:gd name="textAreaLeft" fmla="*/ 0 w 142920"/>
                <a:gd name="textAreaRight" fmla="*/ 143280 w 142920"/>
                <a:gd name="textAreaTop" fmla="*/ 0 h 304200"/>
                <a:gd name="textAreaBottom" fmla="*/ 304560 h 304200"/>
              </a:gdLst>
              <a:ahLst/>
              <a:rect l="textAreaLeft" t="textAreaTop" r="textAreaRight" b="textAreaBottom"/>
              <a:pathLst>
                <a:path w="325" h="672">
                  <a:moveTo>
                    <a:pt x="34" y="672"/>
                  </a:moveTo>
                  <a:lnTo>
                    <a:pt x="33" y="665"/>
                  </a:lnTo>
                  <a:lnTo>
                    <a:pt x="32" y="658"/>
                  </a:lnTo>
                  <a:lnTo>
                    <a:pt x="29" y="652"/>
                  </a:lnTo>
                  <a:lnTo>
                    <a:pt x="25" y="645"/>
                  </a:lnTo>
                  <a:lnTo>
                    <a:pt x="19" y="637"/>
                  </a:lnTo>
                  <a:lnTo>
                    <a:pt x="14" y="628"/>
                  </a:lnTo>
                  <a:lnTo>
                    <a:pt x="8" y="618"/>
                  </a:lnTo>
                  <a:lnTo>
                    <a:pt x="5" y="607"/>
                  </a:lnTo>
                  <a:lnTo>
                    <a:pt x="1" y="596"/>
                  </a:lnTo>
                  <a:lnTo>
                    <a:pt x="0" y="584"/>
                  </a:lnTo>
                  <a:lnTo>
                    <a:pt x="0" y="572"/>
                  </a:lnTo>
                  <a:lnTo>
                    <a:pt x="3" y="559"/>
                  </a:lnTo>
                  <a:lnTo>
                    <a:pt x="6" y="548"/>
                  </a:lnTo>
                  <a:lnTo>
                    <a:pt x="13" y="536"/>
                  </a:lnTo>
                  <a:lnTo>
                    <a:pt x="17" y="530"/>
                  </a:lnTo>
                  <a:lnTo>
                    <a:pt x="22" y="524"/>
                  </a:lnTo>
                  <a:lnTo>
                    <a:pt x="28" y="520"/>
                  </a:lnTo>
                  <a:lnTo>
                    <a:pt x="34" y="514"/>
                  </a:lnTo>
                  <a:lnTo>
                    <a:pt x="41" y="509"/>
                  </a:lnTo>
                  <a:lnTo>
                    <a:pt x="49" y="505"/>
                  </a:lnTo>
                  <a:lnTo>
                    <a:pt x="59" y="500"/>
                  </a:lnTo>
                  <a:lnTo>
                    <a:pt x="68" y="495"/>
                  </a:lnTo>
                  <a:lnTo>
                    <a:pt x="91" y="488"/>
                  </a:lnTo>
                  <a:lnTo>
                    <a:pt x="117" y="481"/>
                  </a:lnTo>
                  <a:lnTo>
                    <a:pt x="167" y="471"/>
                  </a:lnTo>
                  <a:lnTo>
                    <a:pt x="211" y="460"/>
                  </a:lnTo>
                  <a:lnTo>
                    <a:pt x="246" y="451"/>
                  </a:lnTo>
                  <a:lnTo>
                    <a:pt x="274" y="441"/>
                  </a:lnTo>
                  <a:lnTo>
                    <a:pt x="296" y="433"/>
                  </a:lnTo>
                  <a:lnTo>
                    <a:pt x="311" y="425"/>
                  </a:lnTo>
                  <a:lnTo>
                    <a:pt x="317" y="420"/>
                  </a:lnTo>
                  <a:lnTo>
                    <a:pt x="322" y="417"/>
                  </a:lnTo>
                  <a:lnTo>
                    <a:pt x="324" y="412"/>
                  </a:lnTo>
                  <a:lnTo>
                    <a:pt x="325" y="409"/>
                  </a:lnTo>
                  <a:lnTo>
                    <a:pt x="325" y="0"/>
                  </a:lnTo>
                  <a:lnTo>
                    <a:pt x="324" y="3"/>
                  </a:lnTo>
                  <a:lnTo>
                    <a:pt x="322" y="8"/>
                  </a:lnTo>
                  <a:lnTo>
                    <a:pt x="317" y="12"/>
                  </a:lnTo>
                  <a:lnTo>
                    <a:pt x="311" y="15"/>
                  </a:lnTo>
                  <a:lnTo>
                    <a:pt x="296" y="24"/>
                  </a:lnTo>
                  <a:lnTo>
                    <a:pt x="274" y="33"/>
                  </a:lnTo>
                  <a:lnTo>
                    <a:pt x="246" y="42"/>
                  </a:lnTo>
                  <a:lnTo>
                    <a:pt x="211" y="51"/>
                  </a:lnTo>
                  <a:lnTo>
                    <a:pt x="167" y="62"/>
                  </a:lnTo>
                  <a:lnTo>
                    <a:pt x="117" y="72"/>
                  </a:lnTo>
                  <a:lnTo>
                    <a:pt x="91" y="78"/>
                  </a:lnTo>
                  <a:lnTo>
                    <a:pt x="68" y="86"/>
                  </a:lnTo>
                  <a:lnTo>
                    <a:pt x="59" y="91"/>
                  </a:lnTo>
                  <a:lnTo>
                    <a:pt x="49" y="96"/>
                  </a:lnTo>
                  <a:lnTo>
                    <a:pt x="41" y="100"/>
                  </a:lnTo>
                  <a:lnTo>
                    <a:pt x="34" y="105"/>
                  </a:lnTo>
                  <a:lnTo>
                    <a:pt x="28" y="111"/>
                  </a:lnTo>
                  <a:lnTo>
                    <a:pt x="22" y="116"/>
                  </a:lnTo>
                  <a:lnTo>
                    <a:pt x="17" y="121"/>
                  </a:lnTo>
                  <a:lnTo>
                    <a:pt x="13" y="127"/>
                  </a:lnTo>
                  <a:lnTo>
                    <a:pt x="6" y="139"/>
                  </a:lnTo>
                  <a:lnTo>
                    <a:pt x="3" y="151"/>
                  </a:lnTo>
                  <a:lnTo>
                    <a:pt x="0" y="162"/>
                  </a:lnTo>
                  <a:lnTo>
                    <a:pt x="0" y="174"/>
                  </a:lnTo>
                  <a:lnTo>
                    <a:pt x="1" y="186"/>
                  </a:lnTo>
                  <a:lnTo>
                    <a:pt x="5" y="196"/>
                  </a:lnTo>
                  <a:lnTo>
                    <a:pt x="8" y="207"/>
                  </a:lnTo>
                  <a:lnTo>
                    <a:pt x="14" y="217"/>
                  </a:lnTo>
                  <a:lnTo>
                    <a:pt x="19" y="225"/>
                  </a:lnTo>
                  <a:lnTo>
                    <a:pt x="25" y="234"/>
                  </a:lnTo>
                  <a:lnTo>
                    <a:pt x="29" y="241"/>
                  </a:lnTo>
                  <a:lnTo>
                    <a:pt x="32" y="248"/>
                  </a:lnTo>
                  <a:lnTo>
                    <a:pt x="33" y="255"/>
                  </a:lnTo>
                  <a:lnTo>
                    <a:pt x="34" y="262"/>
                  </a:lnTo>
                  <a:lnTo>
                    <a:pt x="34" y="67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11" name="Freeform 32"/>
            <p:cNvSpPr/>
            <p:nvPr/>
          </p:nvSpPr>
          <p:spPr>
            <a:xfrm>
              <a:off x="7693920" y="2302920"/>
              <a:ext cx="217440" cy="279000"/>
            </a:xfrm>
            <a:custGeom>
              <a:avLst/>
              <a:gdLst>
                <a:gd name="textAreaLeft" fmla="*/ 0 w 217440"/>
                <a:gd name="textAreaRight" fmla="*/ 217800 w 217440"/>
                <a:gd name="textAreaTop" fmla="*/ 0 h 279000"/>
                <a:gd name="textAreaBottom" fmla="*/ 279360 h 279000"/>
              </a:gdLst>
              <a:ahLst/>
              <a:rect l="textAreaLeft" t="textAreaTop" r="textAreaRight" b="textAreaBottom"/>
              <a:pathLst>
                <a:path w="495" h="613">
                  <a:moveTo>
                    <a:pt x="0" y="613"/>
                  </a:moveTo>
                  <a:lnTo>
                    <a:pt x="8" y="612"/>
                  </a:lnTo>
                  <a:lnTo>
                    <a:pt x="29" y="607"/>
                  </a:lnTo>
                  <a:lnTo>
                    <a:pt x="43" y="604"/>
                  </a:lnTo>
                  <a:lnTo>
                    <a:pt x="58" y="599"/>
                  </a:lnTo>
                  <a:lnTo>
                    <a:pt x="74" y="593"/>
                  </a:lnTo>
                  <a:lnTo>
                    <a:pt x="91" y="587"/>
                  </a:lnTo>
                  <a:lnTo>
                    <a:pt x="107" y="580"/>
                  </a:lnTo>
                  <a:lnTo>
                    <a:pt x="122" y="572"/>
                  </a:lnTo>
                  <a:lnTo>
                    <a:pt x="136" y="563"/>
                  </a:lnTo>
                  <a:lnTo>
                    <a:pt x="147" y="554"/>
                  </a:lnTo>
                  <a:lnTo>
                    <a:pt x="151" y="548"/>
                  </a:lnTo>
                  <a:lnTo>
                    <a:pt x="156" y="543"/>
                  </a:lnTo>
                  <a:lnTo>
                    <a:pt x="158" y="537"/>
                  </a:lnTo>
                  <a:lnTo>
                    <a:pt x="161" y="530"/>
                  </a:lnTo>
                  <a:lnTo>
                    <a:pt x="162" y="524"/>
                  </a:lnTo>
                  <a:lnTo>
                    <a:pt x="162" y="517"/>
                  </a:lnTo>
                  <a:lnTo>
                    <a:pt x="161" y="510"/>
                  </a:lnTo>
                  <a:lnTo>
                    <a:pt x="158" y="503"/>
                  </a:lnTo>
                  <a:lnTo>
                    <a:pt x="208" y="489"/>
                  </a:lnTo>
                  <a:lnTo>
                    <a:pt x="252" y="475"/>
                  </a:lnTo>
                  <a:lnTo>
                    <a:pt x="293" y="462"/>
                  </a:lnTo>
                  <a:lnTo>
                    <a:pt x="332" y="450"/>
                  </a:lnTo>
                  <a:lnTo>
                    <a:pt x="371" y="438"/>
                  </a:lnTo>
                  <a:lnTo>
                    <a:pt x="410" y="426"/>
                  </a:lnTo>
                  <a:lnTo>
                    <a:pt x="450" y="417"/>
                  </a:lnTo>
                  <a:lnTo>
                    <a:pt x="495" y="409"/>
                  </a:lnTo>
                  <a:lnTo>
                    <a:pt x="495" y="0"/>
                  </a:lnTo>
                  <a:lnTo>
                    <a:pt x="450" y="8"/>
                  </a:lnTo>
                  <a:lnTo>
                    <a:pt x="410" y="17"/>
                  </a:lnTo>
                  <a:lnTo>
                    <a:pt x="371" y="29"/>
                  </a:lnTo>
                  <a:lnTo>
                    <a:pt x="332" y="41"/>
                  </a:lnTo>
                  <a:lnTo>
                    <a:pt x="293" y="54"/>
                  </a:lnTo>
                  <a:lnTo>
                    <a:pt x="252" y="67"/>
                  </a:lnTo>
                  <a:lnTo>
                    <a:pt x="208" y="81"/>
                  </a:lnTo>
                  <a:lnTo>
                    <a:pt x="158" y="95"/>
                  </a:lnTo>
                  <a:lnTo>
                    <a:pt x="161" y="102"/>
                  </a:lnTo>
                  <a:lnTo>
                    <a:pt x="162" y="109"/>
                  </a:lnTo>
                  <a:lnTo>
                    <a:pt x="162" y="116"/>
                  </a:lnTo>
                  <a:lnTo>
                    <a:pt x="161" y="121"/>
                  </a:lnTo>
                  <a:lnTo>
                    <a:pt x="158" y="127"/>
                  </a:lnTo>
                  <a:lnTo>
                    <a:pt x="156" y="133"/>
                  </a:lnTo>
                  <a:lnTo>
                    <a:pt x="151" y="139"/>
                  </a:lnTo>
                  <a:lnTo>
                    <a:pt x="147" y="145"/>
                  </a:lnTo>
                  <a:lnTo>
                    <a:pt x="136" y="154"/>
                  </a:lnTo>
                  <a:lnTo>
                    <a:pt x="122" y="163"/>
                  </a:lnTo>
                  <a:lnTo>
                    <a:pt x="107" y="172"/>
                  </a:lnTo>
                  <a:lnTo>
                    <a:pt x="91" y="179"/>
                  </a:lnTo>
                  <a:lnTo>
                    <a:pt x="74" y="184"/>
                  </a:lnTo>
                  <a:lnTo>
                    <a:pt x="58" y="190"/>
                  </a:lnTo>
                  <a:lnTo>
                    <a:pt x="43" y="194"/>
                  </a:lnTo>
                  <a:lnTo>
                    <a:pt x="29" y="197"/>
                  </a:lnTo>
                  <a:lnTo>
                    <a:pt x="8" y="202"/>
                  </a:lnTo>
                  <a:lnTo>
                    <a:pt x="0" y="204"/>
                  </a:lnTo>
                  <a:lnTo>
                    <a:pt x="0" y="61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12" name="Freeform 33"/>
            <p:cNvSpPr/>
            <p:nvPr/>
          </p:nvSpPr>
          <p:spPr>
            <a:xfrm>
              <a:off x="2602080" y="4091760"/>
              <a:ext cx="476640" cy="228960"/>
            </a:xfrm>
            <a:custGeom>
              <a:avLst/>
              <a:gdLst>
                <a:gd name="textAreaLeft" fmla="*/ 0 w 476640"/>
                <a:gd name="textAreaRight" fmla="*/ 477000 w 476640"/>
                <a:gd name="textAreaTop" fmla="*/ 0 h 228960"/>
                <a:gd name="textAreaBottom" fmla="*/ 229320 h 228960"/>
              </a:gdLst>
              <a:ahLst/>
              <a:rect l="textAreaLeft" t="textAreaTop" r="textAreaRight" b="textAreaBottom"/>
              <a:pathLst>
                <a:path w="1083" h="505">
                  <a:moveTo>
                    <a:pt x="1083" y="92"/>
                  </a:moveTo>
                  <a:lnTo>
                    <a:pt x="660" y="55"/>
                  </a:lnTo>
                  <a:lnTo>
                    <a:pt x="0" y="0"/>
                  </a:lnTo>
                  <a:lnTo>
                    <a:pt x="0" y="409"/>
                  </a:lnTo>
                  <a:lnTo>
                    <a:pt x="660" y="467"/>
                  </a:lnTo>
                  <a:lnTo>
                    <a:pt x="1083" y="505"/>
                  </a:lnTo>
                  <a:lnTo>
                    <a:pt x="1083" y="9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13" name="Freeform 34"/>
            <p:cNvSpPr/>
            <p:nvPr/>
          </p:nvSpPr>
          <p:spPr>
            <a:xfrm>
              <a:off x="3118320" y="4050360"/>
              <a:ext cx="241560" cy="199440"/>
            </a:xfrm>
            <a:custGeom>
              <a:avLst/>
              <a:gdLst>
                <a:gd name="textAreaLeft" fmla="*/ 0 w 241560"/>
                <a:gd name="textAreaRight" fmla="*/ 241920 w 241560"/>
                <a:gd name="textAreaTop" fmla="*/ 0 h 199440"/>
                <a:gd name="textAreaBottom" fmla="*/ 199800 h 199440"/>
              </a:gdLst>
              <a:ahLst/>
              <a:rect l="textAreaLeft" t="textAreaTop" r="textAreaRight" b="textAreaBottom"/>
              <a:pathLst>
                <a:path w="548" h="438">
                  <a:moveTo>
                    <a:pt x="548" y="29"/>
                  </a:moveTo>
                  <a:lnTo>
                    <a:pt x="0" y="0"/>
                  </a:lnTo>
                  <a:lnTo>
                    <a:pt x="0" y="409"/>
                  </a:lnTo>
                  <a:lnTo>
                    <a:pt x="548" y="438"/>
                  </a:lnTo>
                  <a:lnTo>
                    <a:pt x="548" y="2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14" name="Freeform 35"/>
            <p:cNvSpPr/>
            <p:nvPr/>
          </p:nvSpPr>
          <p:spPr>
            <a:xfrm>
              <a:off x="3755880" y="4640760"/>
              <a:ext cx="83160" cy="226800"/>
            </a:xfrm>
            <a:custGeom>
              <a:avLst/>
              <a:gdLst>
                <a:gd name="textAreaLeft" fmla="*/ 0 w 83160"/>
                <a:gd name="textAreaRight" fmla="*/ 83520 w 83160"/>
                <a:gd name="textAreaTop" fmla="*/ 0 h 226800"/>
                <a:gd name="textAreaBottom" fmla="*/ 227160 h 226800"/>
              </a:gdLst>
              <a:ahLst/>
              <a:rect l="textAreaLeft" t="textAreaTop" r="textAreaRight" b="textAreaBottom"/>
              <a:pathLst>
                <a:path w="187" h="501">
                  <a:moveTo>
                    <a:pt x="187" y="0"/>
                  </a:moveTo>
                  <a:lnTo>
                    <a:pt x="0" y="92"/>
                  </a:lnTo>
                  <a:lnTo>
                    <a:pt x="0" y="501"/>
                  </a:lnTo>
                  <a:lnTo>
                    <a:pt x="187" y="409"/>
                  </a:lnTo>
                  <a:lnTo>
                    <a:pt x="187"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15" name="Freeform 36"/>
            <p:cNvSpPr/>
            <p:nvPr/>
          </p:nvSpPr>
          <p:spPr>
            <a:xfrm>
              <a:off x="3933720" y="4470480"/>
              <a:ext cx="213120" cy="201960"/>
            </a:xfrm>
            <a:custGeom>
              <a:avLst/>
              <a:gdLst>
                <a:gd name="textAreaLeft" fmla="*/ 0 w 213120"/>
                <a:gd name="textAreaRight" fmla="*/ 213480 w 213120"/>
                <a:gd name="textAreaTop" fmla="*/ 0 h 201960"/>
                <a:gd name="textAreaBottom" fmla="*/ 202320 h 201960"/>
              </a:gdLst>
              <a:ahLst/>
              <a:rect l="textAreaLeft" t="textAreaTop" r="textAreaRight" b="textAreaBottom"/>
              <a:pathLst>
                <a:path w="487" h="442">
                  <a:moveTo>
                    <a:pt x="487" y="415"/>
                  </a:moveTo>
                  <a:lnTo>
                    <a:pt x="457" y="411"/>
                  </a:lnTo>
                  <a:lnTo>
                    <a:pt x="426" y="410"/>
                  </a:lnTo>
                  <a:lnTo>
                    <a:pt x="398" y="409"/>
                  </a:lnTo>
                  <a:lnTo>
                    <a:pt x="372" y="409"/>
                  </a:lnTo>
                  <a:lnTo>
                    <a:pt x="320" y="411"/>
                  </a:lnTo>
                  <a:lnTo>
                    <a:pt x="262" y="415"/>
                  </a:lnTo>
                  <a:lnTo>
                    <a:pt x="200" y="420"/>
                  </a:lnTo>
                  <a:lnTo>
                    <a:pt x="139" y="426"/>
                  </a:lnTo>
                  <a:lnTo>
                    <a:pt x="85" y="431"/>
                  </a:lnTo>
                  <a:lnTo>
                    <a:pt x="41" y="436"/>
                  </a:lnTo>
                  <a:lnTo>
                    <a:pt x="11" y="440"/>
                  </a:lnTo>
                  <a:lnTo>
                    <a:pt x="0" y="442"/>
                  </a:lnTo>
                  <a:lnTo>
                    <a:pt x="0" y="32"/>
                  </a:lnTo>
                  <a:lnTo>
                    <a:pt x="11" y="31"/>
                  </a:lnTo>
                  <a:lnTo>
                    <a:pt x="41" y="27"/>
                  </a:lnTo>
                  <a:lnTo>
                    <a:pt x="85" y="23"/>
                  </a:lnTo>
                  <a:lnTo>
                    <a:pt x="139" y="17"/>
                  </a:lnTo>
                  <a:lnTo>
                    <a:pt x="200" y="11"/>
                  </a:lnTo>
                  <a:lnTo>
                    <a:pt x="262" y="6"/>
                  </a:lnTo>
                  <a:lnTo>
                    <a:pt x="320" y="2"/>
                  </a:lnTo>
                  <a:lnTo>
                    <a:pt x="372" y="0"/>
                  </a:lnTo>
                  <a:lnTo>
                    <a:pt x="398" y="0"/>
                  </a:lnTo>
                  <a:lnTo>
                    <a:pt x="426" y="2"/>
                  </a:lnTo>
                  <a:lnTo>
                    <a:pt x="457" y="3"/>
                  </a:lnTo>
                  <a:lnTo>
                    <a:pt x="487" y="6"/>
                  </a:lnTo>
                  <a:lnTo>
                    <a:pt x="487" y="41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16" name="Rectangle 37"/>
            <p:cNvSpPr/>
            <p:nvPr/>
          </p:nvSpPr>
          <p:spPr>
            <a:xfrm>
              <a:off x="4720680" y="5369400"/>
              <a:ext cx="204120" cy="186120"/>
            </a:xfrm>
            <a:prstGeom prst="rect">
              <a:avLst/>
            </a:prstGeom>
            <a:solidFill>
              <a:srgbClr val="93d5ed"/>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17" name="Freeform 38"/>
            <p:cNvSpPr/>
            <p:nvPr/>
          </p:nvSpPr>
          <p:spPr>
            <a:xfrm>
              <a:off x="5779800" y="4427280"/>
              <a:ext cx="369000" cy="234000"/>
            </a:xfrm>
            <a:custGeom>
              <a:avLst/>
              <a:gdLst>
                <a:gd name="textAreaLeft" fmla="*/ 0 w 369000"/>
                <a:gd name="textAreaRight" fmla="*/ 369360 w 369000"/>
                <a:gd name="textAreaTop" fmla="*/ 0 h 234000"/>
                <a:gd name="textAreaBottom" fmla="*/ 234360 h 234000"/>
              </a:gdLst>
              <a:ahLst/>
              <a:rect l="textAreaLeft" t="textAreaTop" r="textAreaRight" b="textAreaBottom"/>
              <a:pathLst>
                <a:path w="839" h="518">
                  <a:moveTo>
                    <a:pt x="839" y="518"/>
                  </a:moveTo>
                  <a:lnTo>
                    <a:pt x="780" y="500"/>
                  </a:lnTo>
                  <a:lnTo>
                    <a:pt x="719" y="484"/>
                  </a:lnTo>
                  <a:lnTo>
                    <a:pt x="657" y="470"/>
                  </a:lnTo>
                  <a:lnTo>
                    <a:pt x="594" y="457"/>
                  </a:lnTo>
                  <a:lnTo>
                    <a:pt x="531" y="446"/>
                  </a:lnTo>
                  <a:lnTo>
                    <a:pt x="468" y="436"/>
                  </a:lnTo>
                  <a:lnTo>
                    <a:pt x="406" y="429"/>
                  </a:lnTo>
                  <a:lnTo>
                    <a:pt x="347" y="422"/>
                  </a:lnTo>
                  <a:lnTo>
                    <a:pt x="290" y="416"/>
                  </a:lnTo>
                  <a:lnTo>
                    <a:pt x="235" y="412"/>
                  </a:lnTo>
                  <a:lnTo>
                    <a:pt x="183" y="410"/>
                  </a:lnTo>
                  <a:lnTo>
                    <a:pt x="135" y="409"/>
                  </a:lnTo>
                  <a:lnTo>
                    <a:pt x="93" y="409"/>
                  </a:lnTo>
                  <a:lnTo>
                    <a:pt x="56" y="410"/>
                  </a:lnTo>
                  <a:lnTo>
                    <a:pt x="24" y="412"/>
                  </a:lnTo>
                  <a:lnTo>
                    <a:pt x="0" y="416"/>
                  </a:lnTo>
                  <a:lnTo>
                    <a:pt x="0" y="7"/>
                  </a:lnTo>
                  <a:lnTo>
                    <a:pt x="24" y="4"/>
                  </a:lnTo>
                  <a:lnTo>
                    <a:pt x="56" y="1"/>
                  </a:lnTo>
                  <a:lnTo>
                    <a:pt x="93" y="0"/>
                  </a:lnTo>
                  <a:lnTo>
                    <a:pt x="135" y="0"/>
                  </a:lnTo>
                  <a:lnTo>
                    <a:pt x="183" y="1"/>
                  </a:lnTo>
                  <a:lnTo>
                    <a:pt x="235" y="4"/>
                  </a:lnTo>
                  <a:lnTo>
                    <a:pt x="290" y="7"/>
                  </a:lnTo>
                  <a:lnTo>
                    <a:pt x="347" y="13"/>
                  </a:lnTo>
                  <a:lnTo>
                    <a:pt x="406" y="19"/>
                  </a:lnTo>
                  <a:lnTo>
                    <a:pt x="468" y="27"/>
                  </a:lnTo>
                  <a:lnTo>
                    <a:pt x="531" y="37"/>
                  </a:lnTo>
                  <a:lnTo>
                    <a:pt x="594" y="48"/>
                  </a:lnTo>
                  <a:lnTo>
                    <a:pt x="657" y="61"/>
                  </a:lnTo>
                  <a:lnTo>
                    <a:pt x="719" y="75"/>
                  </a:lnTo>
                  <a:lnTo>
                    <a:pt x="780" y="91"/>
                  </a:lnTo>
                  <a:lnTo>
                    <a:pt x="839" y="109"/>
                  </a:lnTo>
                  <a:lnTo>
                    <a:pt x="839" y="51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18" name="Freeform 39"/>
            <p:cNvSpPr/>
            <p:nvPr/>
          </p:nvSpPr>
          <p:spPr>
            <a:xfrm>
              <a:off x="6406200" y="4477320"/>
              <a:ext cx="135720" cy="236160"/>
            </a:xfrm>
            <a:custGeom>
              <a:avLst/>
              <a:gdLst>
                <a:gd name="textAreaLeft" fmla="*/ 0 w 135720"/>
                <a:gd name="textAreaRight" fmla="*/ 136080 w 135720"/>
                <a:gd name="textAreaTop" fmla="*/ 0 h 236160"/>
                <a:gd name="textAreaBottom" fmla="*/ 236520 h 236160"/>
              </a:gdLst>
              <a:ahLst/>
              <a:rect l="textAreaLeft" t="textAreaTop" r="textAreaRight" b="textAreaBottom"/>
              <a:pathLst>
                <a:path w="308" h="519">
                  <a:moveTo>
                    <a:pt x="308" y="519"/>
                  </a:moveTo>
                  <a:lnTo>
                    <a:pt x="287" y="504"/>
                  </a:lnTo>
                  <a:lnTo>
                    <a:pt x="266" y="489"/>
                  </a:lnTo>
                  <a:lnTo>
                    <a:pt x="246" y="476"/>
                  </a:lnTo>
                  <a:lnTo>
                    <a:pt x="225" y="464"/>
                  </a:lnTo>
                  <a:lnTo>
                    <a:pt x="205" y="454"/>
                  </a:lnTo>
                  <a:lnTo>
                    <a:pt x="185" y="444"/>
                  </a:lnTo>
                  <a:lnTo>
                    <a:pt x="165" y="436"/>
                  </a:lnTo>
                  <a:lnTo>
                    <a:pt x="147" y="429"/>
                  </a:lnTo>
                  <a:lnTo>
                    <a:pt x="127" y="423"/>
                  </a:lnTo>
                  <a:lnTo>
                    <a:pt x="108" y="419"/>
                  </a:lnTo>
                  <a:lnTo>
                    <a:pt x="90" y="415"/>
                  </a:lnTo>
                  <a:lnTo>
                    <a:pt x="71" y="413"/>
                  </a:lnTo>
                  <a:lnTo>
                    <a:pt x="53" y="410"/>
                  </a:lnTo>
                  <a:lnTo>
                    <a:pt x="35" y="409"/>
                  </a:lnTo>
                  <a:lnTo>
                    <a:pt x="17" y="409"/>
                  </a:lnTo>
                  <a:lnTo>
                    <a:pt x="0" y="410"/>
                  </a:lnTo>
                  <a:lnTo>
                    <a:pt x="0" y="2"/>
                  </a:lnTo>
                  <a:lnTo>
                    <a:pt x="17" y="0"/>
                  </a:lnTo>
                  <a:lnTo>
                    <a:pt x="35" y="0"/>
                  </a:lnTo>
                  <a:lnTo>
                    <a:pt x="53" y="2"/>
                  </a:lnTo>
                  <a:lnTo>
                    <a:pt x="71" y="3"/>
                  </a:lnTo>
                  <a:lnTo>
                    <a:pt x="90" y="6"/>
                  </a:lnTo>
                  <a:lnTo>
                    <a:pt x="108" y="10"/>
                  </a:lnTo>
                  <a:lnTo>
                    <a:pt x="127" y="14"/>
                  </a:lnTo>
                  <a:lnTo>
                    <a:pt x="147" y="20"/>
                  </a:lnTo>
                  <a:lnTo>
                    <a:pt x="165" y="27"/>
                  </a:lnTo>
                  <a:lnTo>
                    <a:pt x="185" y="35"/>
                  </a:lnTo>
                  <a:lnTo>
                    <a:pt x="205" y="45"/>
                  </a:lnTo>
                  <a:lnTo>
                    <a:pt x="225" y="55"/>
                  </a:lnTo>
                  <a:lnTo>
                    <a:pt x="246" y="67"/>
                  </a:lnTo>
                  <a:lnTo>
                    <a:pt x="266" y="80"/>
                  </a:lnTo>
                  <a:lnTo>
                    <a:pt x="287" y="95"/>
                  </a:lnTo>
                  <a:lnTo>
                    <a:pt x="308" y="110"/>
                  </a:lnTo>
                  <a:lnTo>
                    <a:pt x="308" y="51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19" name="Freeform 40"/>
            <p:cNvSpPr/>
            <p:nvPr/>
          </p:nvSpPr>
          <p:spPr>
            <a:xfrm>
              <a:off x="7247880" y="4261680"/>
              <a:ext cx="122760" cy="222840"/>
            </a:xfrm>
            <a:custGeom>
              <a:avLst/>
              <a:gdLst>
                <a:gd name="textAreaLeft" fmla="*/ 0 w 122760"/>
                <a:gd name="textAreaRight" fmla="*/ 123120 w 122760"/>
                <a:gd name="textAreaTop" fmla="*/ 0 h 222840"/>
                <a:gd name="textAreaBottom" fmla="*/ 223200 h 222840"/>
              </a:gdLst>
              <a:ahLst/>
              <a:rect l="textAreaLeft" t="textAreaTop" r="textAreaRight" b="textAreaBottom"/>
              <a:pathLst>
                <a:path w="279" h="489">
                  <a:moveTo>
                    <a:pt x="279" y="0"/>
                  </a:moveTo>
                  <a:lnTo>
                    <a:pt x="268" y="7"/>
                  </a:lnTo>
                  <a:lnTo>
                    <a:pt x="236" y="22"/>
                  </a:lnTo>
                  <a:lnTo>
                    <a:pt x="215" y="32"/>
                  </a:lnTo>
                  <a:lnTo>
                    <a:pt x="191" y="43"/>
                  </a:lnTo>
                  <a:lnTo>
                    <a:pt x="166" y="53"/>
                  </a:lnTo>
                  <a:lnTo>
                    <a:pt x="140" y="63"/>
                  </a:lnTo>
                  <a:lnTo>
                    <a:pt x="114" y="70"/>
                  </a:lnTo>
                  <a:lnTo>
                    <a:pt x="89" y="76"/>
                  </a:lnTo>
                  <a:lnTo>
                    <a:pt x="76" y="78"/>
                  </a:lnTo>
                  <a:lnTo>
                    <a:pt x="65" y="79"/>
                  </a:lnTo>
                  <a:lnTo>
                    <a:pt x="54" y="79"/>
                  </a:lnTo>
                  <a:lnTo>
                    <a:pt x="44" y="79"/>
                  </a:lnTo>
                  <a:lnTo>
                    <a:pt x="34" y="78"/>
                  </a:lnTo>
                  <a:lnTo>
                    <a:pt x="26" y="74"/>
                  </a:lnTo>
                  <a:lnTo>
                    <a:pt x="19" y="71"/>
                  </a:lnTo>
                  <a:lnTo>
                    <a:pt x="12" y="66"/>
                  </a:lnTo>
                  <a:lnTo>
                    <a:pt x="7" y="59"/>
                  </a:lnTo>
                  <a:lnTo>
                    <a:pt x="4" y="52"/>
                  </a:lnTo>
                  <a:lnTo>
                    <a:pt x="1" y="43"/>
                  </a:lnTo>
                  <a:lnTo>
                    <a:pt x="0" y="31"/>
                  </a:lnTo>
                  <a:lnTo>
                    <a:pt x="0" y="441"/>
                  </a:lnTo>
                  <a:lnTo>
                    <a:pt x="1" y="452"/>
                  </a:lnTo>
                  <a:lnTo>
                    <a:pt x="4" y="461"/>
                  </a:lnTo>
                  <a:lnTo>
                    <a:pt x="7" y="468"/>
                  </a:lnTo>
                  <a:lnTo>
                    <a:pt x="12" y="475"/>
                  </a:lnTo>
                  <a:lnTo>
                    <a:pt x="19" y="480"/>
                  </a:lnTo>
                  <a:lnTo>
                    <a:pt x="26" y="483"/>
                  </a:lnTo>
                  <a:lnTo>
                    <a:pt x="34" y="487"/>
                  </a:lnTo>
                  <a:lnTo>
                    <a:pt x="44" y="488"/>
                  </a:lnTo>
                  <a:lnTo>
                    <a:pt x="54" y="489"/>
                  </a:lnTo>
                  <a:lnTo>
                    <a:pt x="65" y="488"/>
                  </a:lnTo>
                  <a:lnTo>
                    <a:pt x="76" y="487"/>
                  </a:lnTo>
                  <a:lnTo>
                    <a:pt x="89" y="486"/>
                  </a:lnTo>
                  <a:lnTo>
                    <a:pt x="114" y="480"/>
                  </a:lnTo>
                  <a:lnTo>
                    <a:pt x="140" y="472"/>
                  </a:lnTo>
                  <a:lnTo>
                    <a:pt x="166" y="462"/>
                  </a:lnTo>
                  <a:lnTo>
                    <a:pt x="191" y="452"/>
                  </a:lnTo>
                  <a:lnTo>
                    <a:pt x="215" y="441"/>
                  </a:lnTo>
                  <a:lnTo>
                    <a:pt x="236" y="432"/>
                  </a:lnTo>
                  <a:lnTo>
                    <a:pt x="268" y="415"/>
                  </a:lnTo>
                  <a:lnTo>
                    <a:pt x="279" y="408"/>
                  </a:lnTo>
                  <a:lnTo>
                    <a:pt x="279"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0" name="Freeform 41"/>
            <p:cNvSpPr/>
            <p:nvPr/>
          </p:nvSpPr>
          <p:spPr>
            <a:xfrm>
              <a:off x="7491600" y="4177800"/>
              <a:ext cx="68040" cy="242640"/>
            </a:xfrm>
            <a:custGeom>
              <a:avLst/>
              <a:gdLst>
                <a:gd name="textAreaLeft" fmla="*/ 0 w 68040"/>
                <a:gd name="textAreaRight" fmla="*/ 68040 w 68040"/>
                <a:gd name="textAreaTop" fmla="*/ 0 h 242640"/>
                <a:gd name="textAreaBottom" fmla="*/ 243000 h 242640"/>
              </a:gdLst>
              <a:ahLst/>
              <a:rect l="textAreaLeft" t="textAreaTop" r="textAreaRight" b="textAreaBottom"/>
              <a:pathLst>
                <a:path w="156" h="534">
                  <a:moveTo>
                    <a:pt x="156" y="122"/>
                  </a:moveTo>
                  <a:lnTo>
                    <a:pt x="0" y="0"/>
                  </a:lnTo>
                  <a:lnTo>
                    <a:pt x="0" y="410"/>
                  </a:lnTo>
                  <a:lnTo>
                    <a:pt x="156" y="534"/>
                  </a:lnTo>
                  <a:lnTo>
                    <a:pt x="156" y="12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1" name="Freeform 42"/>
            <p:cNvSpPr/>
            <p:nvPr/>
          </p:nvSpPr>
          <p:spPr>
            <a:xfrm>
              <a:off x="8715600" y="5047200"/>
              <a:ext cx="122760" cy="283320"/>
            </a:xfrm>
            <a:custGeom>
              <a:avLst/>
              <a:gdLst>
                <a:gd name="textAreaLeft" fmla="*/ 0 w 122760"/>
                <a:gd name="textAreaRight" fmla="*/ 123120 w 122760"/>
                <a:gd name="textAreaTop" fmla="*/ 0 h 283320"/>
                <a:gd name="textAreaBottom" fmla="*/ 283680 h 283320"/>
              </a:gdLst>
              <a:ahLst/>
              <a:rect l="textAreaLeft" t="textAreaTop" r="textAreaRight" b="textAreaBottom"/>
              <a:pathLst>
                <a:path w="279" h="625">
                  <a:moveTo>
                    <a:pt x="279" y="0"/>
                  </a:moveTo>
                  <a:lnTo>
                    <a:pt x="0" y="216"/>
                  </a:lnTo>
                  <a:lnTo>
                    <a:pt x="0" y="625"/>
                  </a:lnTo>
                  <a:lnTo>
                    <a:pt x="279" y="409"/>
                  </a:lnTo>
                  <a:lnTo>
                    <a:pt x="279"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2" name="Freeform 43"/>
            <p:cNvSpPr/>
            <p:nvPr/>
          </p:nvSpPr>
          <p:spPr>
            <a:xfrm>
              <a:off x="7858800" y="3328920"/>
              <a:ext cx="87480" cy="199440"/>
            </a:xfrm>
            <a:custGeom>
              <a:avLst/>
              <a:gdLst>
                <a:gd name="textAreaLeft" fmla="*/ 0 w 87480"/>
                <a:gd name="textAreaRight" fmla="*/ 87840 w 87480"/>
                <a:gd name="textAreaTop" fmla="*/ 0 h 199440"/>
                <a:gd name="textAreaBottom" fmla="*/ 199800 h 199440"/>
              </a:gdLst>
              <a:ahLst/>
              <a:rect l="textAreaLeft" t="textAreaTop" r="textAreaRight" b="textAreaBottom"/>
              <a:pathLst>
                <a:path w="200" h="440">
                  <a:moveTo>
                    <a:pt x="200" y="0"/>
                  </a:moveTo>
                  <a:lnTo>
                    <a:pt x="0" y="31"/>
                  </a:lnTo>
                  <a:lnTo>
                    <a:pt x="0" y="440"/>
                  </a:lnTo>
                  <a:lnTo>
                    <a:pt x="200" y="409"/>
                  </a:lnTo>
                  <a:lnTo>
                    <a:pt x="20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3" name="Freeform 44"/>
            <p:cNvSpPr/>
            <p:nvPr/>
          </p:nvSpPr>
          <p:spPr>
            <a:xfrm>
              <a:off x="7371000" y="4177800"/>
              <a:ext cx="39240" cy="267840"/>
            </a:xfrm>
            <a:custGeom>
              <a:avLst/>
              <a:gdLst>
                <a:gd name="textAreaLeft" fmla="*/ 0 w 39240"/>
                <a:gd name="textAreaRight" fmla="*/ 39600 w 39240"/>
                <a:gd name="textAreaTop" fmla="*/ 0 h 267840"/>
                <a:gd name="textAreaBottom" fmla="*/ 268200 h 267840"/>
              </a:gdLst>
              <a:ahLst/>
              <a:rect l="textAreaLeft" t="textAreaTop" r="textAreaRight" b="textAreaBottom"/>
              <a:pathLst>
                <a:path w="93" h="593">
                  <a:moveTo>
                    <a:pt x="93" y="0"/>
                  </a:moveTo>
                  <a:lnTo>
                    <a:pt x="0" y="185"/>
                  </a:lnTo>
                  <a:lnTo>
                    <a:pt x="0" y="593"/>
                  </a:lnTo>
                  <a:lnTo>
                    <a:pt x="93" y="410"/>
                  </a:lnTo>
                  <a:lnTo>
                    <a:pt x="93"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4" name="Freeform 45"/>
            <p:cNvSpPr/>
            <p:nvPr/>
          </p:nvSpPr>
          <p:spPr>
            <a:xfrm>
              <a:off x="3353760" y="4069080"/>
              <a:ext cx="219600" cy="494640"/>
            </a:xfrm>
            <a:custGeom>
              <a:avLst/>
              <a:gdLst>
                <a:gd name="textAreaLeft" fmla="*/ 0 w 219600"/>
                <a:gd name="textAreaRight" fmla="*/ 219960 w 219600"/>
                <a:gd name="textAreaTop" fmla="*/ 0 h 494640"/>
                <a:gd name="textAreaBottom" fmla="*/ 495000 h 494640"/>
              </a:gdLst>
              <a:ahLst/>
              <a:rect l="textAreaLeft" t="textAreaTop" r="textAreaRight" b="textAreaBottom"/>
              <a:pathLst>
                <a:path w="504" h="1091">
                  <a:moveTo>
                    <a:pt x="504" y="682"/>
                  </a:moveTo>
                  <a:lnTo>
                    <a:pt x="0" y="0"/>
                  </a:lnTo>
                  <a:lnTo>
                    <a:pt x="0" y="411"/>
                  </a:lnTo>
                  <a:lnTo>
                    <a:pt x="504" y="1091"/>
                  </a:lnTo>
                  <a:lnTo>
                    <a:pt x="504" y="68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5" name="Freeform 46"/>
            <p:cNvSpPr/>
            <p:nvPr/>
          </p:nvSpPr>
          <p:spPr>
            <a:xfrm>
              <a:off x="7933680" y="3135600"/>
              <a:ext cx="151200" cy="383400"/>
            </a:xfrm>
            <a:custGeom>
              <a:avLst/>
              <a:gdLst>
                <a:gd name="textAreaLeft" fmla="*/ 0 w 151200"/>
                <a:gd name="textAreaRight" fmla="*/ 151200 w 151200"/>
                <a:gd name="textAreaTop" fmla="*/ 0 h 383400"/>
                <a:gd name="textAreaBottom" fmla="*/ 383760 h 383400"/>
              </a:gdLst>
              <a:ahLst/>
              <a:rect l="textAreaLeft" t="textAreaTop" r="textAreaRight" b="textAreaBottom"/>
              <a:pathLst>
                <a:path w="342" h="844">
                  <a:moveTo>
                    <a:pt x="342" y="0"/>
                  </a:moveTo>
                  <a:lnTo>
                    <a:pt x="327" y="1"/>
                  </a:lnTo>
                  <a:lnTo>
                    <a:pt x="313" y="5"/>
                  </a:lnTo>
                  <a:lnTo>
                    <a:pt x="300" y="8"/>
                  </a:lnTo>
                  <a:lnTo>
                    <a:pt x="286" y="12"/>
                  </a:lnTo>
                  <a:lnTo>
                    <a:pt x="261" y="21"/>
                  </a:lnTo>
                  <a:lnTo>
                    <a:pt x="237" y="32"/>
                  </a:lnTo>
                  <a:lnTo>
                    <a:pt x="214" y="45"/>
                  </a:lnTo>
                  <a:lnTo>
                    <a:pt x="192" y="60"/>
                  </a:lnTo>
                  <a:lnTo>
                    <a:pt x="172" y="74"/>
                  </a:lnTo>
                  <a:lnTo>
                    <a:pt x="152" y="90"/>
                  </a:lnTo>
                  <a:lnTo>
                    <a:pt x="116" y="122"/>
                  </a:lnTo>
                  <a:lnTo>
                    <a:pt x="84" y="153"/>
                  </a:lnTo>
                  <a:lnTo>
                    <a:pt x="70" y="167"/>
                  </a:lnTo>
                  <a:lnTo>
                    <a:pt x="56" y="180"/>
                  </a:lnTo>
                  <a:lnTo>
                    <a:pt x="43" y="192"/>
                  </a:lnTo>
                  <a:lnTo>
                    <a:pt x="30" y="201"/>
                  </a:lnTo>
                  <a:lnTo>
                    <a:pt x="26" y="206"/>
                  </a:lnTo>
                  <a:lnTo>
                    <a:pt x="21" y="212"/>
                  </a:lnTo>
                  <a:lnTo>
                    <a:pt x="16" y="218"/>
                  </a:lnTo>
                  <a:lnTo>
                    <a:pt x="13" y="225"/>
                  </a:lnTo>
                  <a:lnTo>
                    <a:pt x="7" y="240"/>
                  </a:lnTo>
                  <a:lnTo>
                    <a:pt x="4" y="257"/>
                  </a:lnTo>
                  <a:lnTo>
                    <a:pt x="1" y="276"/>
                  </a:lnTo>
                  <a:lnTo>
                    <a:pt x="0" y="295"/>
                  </a:lnTo>
                  <a:lnTo>
                    <a:pt x="0" y="315"/>
                  </a:lnTo>
                  <a:lnTo>
                    <a:pt x="1" y="334"/>
                  </a:lnTo>
                  <a:lnTo>
                    <a:pt x="5" y="372"/>
                  </a:lnTo>
                  <a:lnTo>
                    <a:pt x="11" y="402"/>
                  </a:lnTo>
                  <a:lnTo>
                    <a:pt x="15" y="424"/>
                  </a:lnTo>
                  <a:lnTo>
                    <a:pt x="16" y="432"/>
                  </a:lnTo>
                  <a:lnTo>
                    <a:pt x="16" y="844"/>
                  </a:lnTo>
                  <a:lnTo>
                    <a:pt x="15" y="835"/>
                  </a:lnTo>
                  <a:lnTo>
                    <a:pt x="11" y="814"/>
                  </a:lnTo>
                  <a:lnTo>
                    <a:pt x="5" y="782"/>
                  </a:lnTo>
                  <a:lnTo>
                    <a:pt x="1" y="744"/>
                  </a:lnTo>
                  <a:lnTo>
                    <a:pt x="0" y="725"/>
                  </a:lnTo>
                  <a:lnTo>
                    <a:pt x="0" y="705"/>
                  </a:lnTo>
                  <a:lnTo>
                    <a:pt x="1" y="685"/>
                  </a:lnTo>
                  <a:lnTo>
                    <a:pt x="4" y="666"/>
                  </a:lnTo>
                  <a:lnTo>
                    <a:pt x="7" y="650"/>
                  </a:lnTo>
                  <a:lnTo>
                    <a:pt x="13" y="633"/>
                  </a:lnTo>
                  <a:lnTo>
                    <a:pt x="16" y="628"/>
                  </a:lnTo>
                  <a:lnTo>
                    <a:pt x="21" y="621"/>
                  </a:lnTo>
                  <a:lnTo>
                    <a:pt x="26" y="616"/>
                  </a:lnTo>
                  <a:lnTo>
                    <a:pt x="30" y="611"/>
                  </a:lnTo>
                  <a:lnTo>
                    <a:pt x="43" y="601"/>
                  </a:lnTo>
                  <a:lnTo>
                    <a:pt x="56" y="589"/>
                  </a:lnTo>
                  <a:lnTo>
                    <a:pt x="70" y="576"/>
                  </a:lnTo>
                  <a:lnTo>
                    <a:pt x="84" y="562"/>
                  </a:lnTo>
                  <a:lnTo>
                    <a:pt x="116" y="531"/>
                  </a:lnTo>
                  <a:lnTo>
                    <a:pt x="152" y="499"/>
                  </a:lnTo>
                  <a:lnTo>
                    <a:pt x="172" y="484"/>
                  </a:lnTo>
                  <a:lnTo>
                    <a:pt x="192" y="469"/>
                  </a:lnTo>
                  <a:lnTo>
                    <a:pt x="214" y="455"/>
                  </a:lnTo>
                  <a:lnTo>
                    <a:pt x="237" y="442"/>
                  </a:lnTo>
                  <a:lnTo>
                    <a:pt x="261" y="430"/>
                  </a:lnTo>
                  <a:lnTo>
                    <a:pt x="286" y="421"/>
                  </a:lnTo>
                  <a:lnTo>
                    <a:pt x="300" y="417"/>
                  </a:lnTo>
                  <a:lnTo>
                    <a:pt x="313" y="414"/>
                  </a:lnTo>
                  <a:lnTo>
                    <a:pt x="327" y="411"/>
                  </a:lnTo>
                  <a:lnTo>
                    <a:pt x="342" y="409"/>
                  </a:lnTo>
                  <a:lnTo>
                    <a:pt x="342"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6" name="Freeform 47"/>
            <p:cNvSpPr/>
            <p:nvPr/>
          </p:nvSpPr>
          <p:spPr>
            <a:xfrm>
              <a:off x="7775280" y="2050560"/>
              <a:ext cx="61560" cy="308520"/>
            </a:xfrm>
            <a:custGeom>
              <a:avLst/>
              <a:gdLst>
                <a:gd name="textAreaLeft" fmla="*/ 0 w 61560"/>
                <a:gd name="textAreaRight" fmla="*/ 61920 w 61560"/>
                <a:gd name="textAreaTop" fmla="*/ 0 h 308520"/>
                <a:gd name="textAreaBottom" fmla="*/ 308880 h 308520"/>
              </a:gdLst>
              <a:ahLst/>
              <a:rect l="textAreaLeft" t="textAreaTop" r="textAreaRight" b="textAreaBottom"/>
              <a:pathLst>
                <a:path w="142" h="678">
                  <a:moveTo>
                    <a:pt x="142" y="409"/>
                  </a:moveTo>
                  <a:lnTo>
                    <a:pt x="140" y="416"/>
                  </a:lnTo>
                  <a:lnTo>
                    <a:pt x="139" y="422"/>
                  </a:lnTo>
                  <a:lnTo>
                    <a:pt x="135" y="428"/>
                  </a:lnTo>
                  <a:lnTo>
                    <a:pt x="132" y="434"/>
                  </a:lnTo>
                  <a:lnTo>
                    <a:pt x="121" y="445"/>
                  </a:lnTo>
                  <a:lnTo>
                    <a:pt x="109" y="458"/>
                  </a:lnTo>
                  <a:lnTo>
                    <a:pt x="83" y="483"/>
                  </a:lnTo>
                  <a:lnTo>
                    <a:pt x="52" y="508"/>
                  </a:lnTo>
                  <a:lnTo>
                    <a:pt x="38" y="521"/>
                  </a:lnTo>
                  <a:lnTo>
                    <a:pt x="27" y="534"/>
                  </a:lnTo>
                  <a:lnTo>
                    <a:pt x="15" y="547"/>
                  </a:lnTo>
                  <a:lnTo>
                    <a:pt x="7" y="560"/>
                  </a:lnTo>
                  <a:lnTo>
                    <a:pt x="3" y="566"/>
                  </a:lnTo>
                  <a:lnTo>
                    <a:pt x="1" y="573"/>
                  </a:lnTo>
                  <a:lnTo>
                    <a:pt x="0" y="578"/>
                  </a:lnTo>
                  <a:lnTo>
                    <a:pt x="0" y="585"/>
                  </a:lnTo>
                  <a:lnTo>
                    <a:pt x="0" y="591"/>
                  </a:lnTo>
                  <a:lnTo>
                    <a:pt x="2" y="598"/>
                  </a:lnTo>
                  <a:lnTo>
                    <a:pt x="4" y="604"/>
                  </a:lnTo>
                  <a:lnTo>
                    <a:pt x="9" y="611"/>
                  </a:lnTo>
                  <a:lnTo>
                    <a:pt x="36" y="617"/>
                  </a:lnTo>
                  <a:lnTo>
                    <a:pt x="59" y="623"/>
                  </a:lnTo>
                  <a:lnTo>
                    <a:pt x="78" y="630"/>
                  </a:lnTo>
                  <a:lnTo>
                    <a:pt x="93" y="638"/>
                  </a:lnTo>
                  <a:lnTo>
                    <a:pt x="100" y="642"/>
                  </a:lnTo>
                  <a:lnTo>
                    <a:pt x="105" y="646"/>
                  </a:lnTo>
                  <a:lnTo>
                    <a:pt x="109" y="651"/>
                  </a:lnTo>
                  <a:lnTo>
                    <a:pt x="114" y="656"/>
                  </a:lnTo>
                  <a:lnTo>
                    <a:pt x="116" y="660"/>
                  </a:lnTo>
                  <a:lnTo>
                    <a:pt x="119" y="666"/>
                  </a:lnTo>
                  <a:lnTo>
                    <a:pt x="120" y="672"/>
                  </a:lnTo>
                  <a:lnTo>
                    <a:pt x="121" y="678"/>
                  </a:lnTo>
                  <a:lnTo>
                    <a:pt x="121" y="265"/>
                  </a:lnTo>
                  <a:lnTo>
                    <a:pt x="120" y="261"/>
                  </a:lnTo>
                  <a:lnTo>
                    <a:pt x="119" y="255"/>
                  </a:lnTo>
                  <a:lnTo>
                    <a:pt x="116" y="250"/>
                  </a:lnTo>
                  <a:lnTo>
                    <a:pt x="114" y="246"/>
                  </a:lnTo>
                  <a:lnTo>
                    <a:pt x="109" y="241"/>
                  </a:lnTo>
                  <a:lnTo>
                    <a:pt x="105" y="236"/>
                  </a:lnTo>
                  <a:lnTo>
                    <a:pt x="100" y="233"/>
                  </a:lnTo>
                  <a:lnTo>
                    <a:pt x="93" y="228"/>
                  </a:lnTo>
                  <a:lnTo>
                    <a:pt x="78" y="221"/>
                  </a:lnTo>
                  <a:lnTo>
                    <a:pt x="59" y="214"/>
                  </a:lnTo>
                  <a:lnTo>
                    <a:pt x="36" y="208"/>
                  </a:lnTo>
                  <a:lnTo>
                    <a:pt x="9" y="202"/>
                  </a:lnTo>
                  <a:lnTo>
                    <a:pt x="4" y="195"/>
                  </a:lnTo>
                  <a:lnTo>
                    <a:pt x="2" y="189"/>
                  </a:lnTo>
                  <a:lnTo>
                    <a:pt x="0" y="182"/>
                  </a:lnTo>
                  <a:lnTo>
                    <a:pt x="0" y="177"/>
                  </a:lnTo>
                  <a:lnTo>
                    <a:pt x="0" y="170"/>
                  </a:lnTo>
                  <a:lnTo>
                    <a:pt x="1" y="164"/>
                  </a:lnTo>
                  <a:lnTo>
                    <a:pt x="3" y="157"/>
                  </a:lnTo>
                  <a:lnTo>
                    <a:pt x="7" y="151"/>
                  </a:lnTo>
                  <a:lnTo>
                    <a:pt x="15" y="138"/>
                  </a:lnTo>
                  <a:lnTo>
                    <a:pt x="27" y="125"/>
                  </a:lnTo>
                  <a:lnTo>
                    <a:pt x="38" y="112"/>
                  </a:lnTo>
                  <a:lnTo>
                    <a:pt x="52" y="100"/>
                  </a:lnTo>
                  <a:lnTo>
                    <a:pt x="83" y="74"/>
                  </a:lnTo>
                  <a:lnTo>
                    <a:pt x="109" y="49"/>
                  </a:lnTo>
                  <a:lnTo>
                    <a:pt x="121" y="36"/>
                  </a:lnTo>
                  <a:lnTo>
                    <a:pt x="132" y="25"/>
                  </a:lnTo>
                  <a:lnTo>
                    <a:pt x="135" y="19"/>
                  </a:lnTo>
                  <a:lnTo>
                    <a:pt x="139" y="13"/>
                  </a:lnTo>
                  <a:lnTo>
                    <a:pt x="140" y="6"/>
                  </a:lnTo>
                  <a:lnTo>
                    <a:pt x="142" y="0"/>
                  </a:lnTo>
                  <a:lnTo>
                    <a:pt x="142" y="4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7" name="Freeform 48"/>
            <p:cNvSpPr/>
            <p:nvPr/>
          </p:nvSpPr>
          <p:spPr>
            <a:xfrm>
              <a:off x="2120760" y="3846240"/>
              <a:ext cx="474120" cy="438480"/>
            </a:xfrm>
            <a:custGeom>
              <a:avLst/>
              <a:gdLst>
                <a:gd name="textAreaLeft" fmla="*/ 0 w 474120"/>
                <a:gd name="textAreaRight" fmla="*/ 474480 w 474120"/>
                <a:gd name="textAreaTop" fmla="*/ 0 h 438480"/>
                <a:gd name="textAreaBottom" fmla="*/ 438840 h 438480"/>
              </a:gdLst>
              <a:ahLst/>
              <a:rect l="textAreaLeft" t="textAreaTop" r="textAreaRight" b="textAreaBottom"/>
              <a:pathLst>
                <a:path w="1081" h="965">
                  <a:moveTo>
                    <a:pt x="1081" y="556"/>
                  </a:moveTo>
                  <a:lnTo>
                    <a:pt x="0" y="0"/>
                  </a:lnTo>
                  <a:lnTo>
                    <a:pt x="0" y="409"/>
                  </a:lnTo>
                  <a:lnTo>
                    <a:pt x="1081" y="965"/>
                  </a:lnTo>
                  <a:lnTo>
                    <a:pt x="1081" y="55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8" name="Freeform 49"/>
            <p:cNvSpPr/>
            <p:nvPr/>
          </p:nvSpPr>
          <p:spPr>
            <a:xfrm>
              <a:off x="4430520" y="4940640"/>
              <a:ext cx="67680" cy="394560"/>
            </a:xfrm>
            <a:custGeom>
              <a:avLst/>
              <a:gdLst>
                <a:gd name="textAreaLeft" fmla="*/ 0 w 67680"/>
                <a:gd name="textAreaRight" fmla="*/ 68040 w 67680"/>
                <a:gd name="textAreaTop" fmla="*/ 0 h 394560"/>
                <a:gd name="textAreaBottom" fmla="*/ 394920 h 394560"/>
              </a:gdLst>
              <a:ahLst/>
              <a:rect l="textAreaLeft" t="textAreaTop" r="textAreaRight" b="textAreaBottom"/>
              <a:pathLst>
                <a:path w="157" h="872">
                  <a:moveTo>
                    <a:pt x="157" y="463"/>
                  </a:moveTo>
                  <a:lnTo>
                    <a:pt x="0" y="0"/>
                  </a:lnTo>
                  <a:lnTo>
                    <a:pt x="0" y="409"/>
                  </a:lnTo>
                  <a:lnTo>
                    <a:pt x="157" y="872"/>
                  </a:lnTo>
                  <a:lnTo>
                    <a:pt x="157" y="46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29" name="Freeform 50"/>
            <p:cNvSpPr/>
            <p:nvPr/>
          </p:nvSpPr>
          <p:spPr>
            <a:xfrm>
              <a:off x="4990680" y="4758840"/>
              <a:ext cx="144720" cy="331200"/>
            </a:xfrm>
            <a:custGeom>
              <a:avLst/>
              <a:gdLst>
                <a:gd name="textAreaLeft" fmla="*/ 0 w 144720"/>
                <a:gd name="textAreaRight" fmla="*/ 145080 w 144720"/>
                <a:gd name="textAreaTop" fmla="*/ 0 h 331200"/>
                <a:gd name="textAreaBottom" fmla="*/ 331200 h 331200"/>
              </a:gdLst>
              <a:ahLst/>
              <a:rect l="textAreaLeft" t="textAreaTop" r="textAreaRight" b="textAreaBottom"/>
              <a:pathLst>
                <a:path w="331" h="732">
                  <a:moveTo>
                    <a:pt x="331" y="409"/>
                  </a:moveTo>
                  <a:lnTo>
                    <a:pt x="316" y="419"/>
                  </a:lnTo>
                  <a:lnTo>
                    <a:pt x="299" y="431"/>
                  </a:lnTo>
                  <a:lnTo>
                    <a:pt x="282" y="444"/>
                  </a:lnTo>
                  <a:lnTo>
                    <a:pt x="263" y="459"/>
                  </a:lnTo>
                  <a:lnTo>
                    <a:pt x="222" y="494"/>
                  </a:lnTo>
                  <a:lnTo>
                    <a:pt x="180" y="534"/>
                  </a:lnTo>
                  <a:lnTo>
                    <a:pt x="135" y="578"/>
                  </a:lnTo>
                  <a:lnTo>
                    <a:pt x="89" y="627"/>
                  </a:lnTo>
                  <a:lnTo>
                    <a:pt x="43" y="679"/>
                  </a:lnTo>
                  <a:lnTo>
                    <a:pt x="0" y="732"/>
                  </a:lnTo>
                  <a:lnTo>
                    <a:pt x="0" y="322"/>
                  </a:lnTo>
                  <a:lnTo>
                    <a:pt x="21" y="296"/>
                  </a:lnTo>
                  <a:lnTo>
                    <a:pt x="43" y="269"/>
                  </a:lnTo>
                  <a:lnTo>
                    <a:pt x="67" y="243"/>
                  </a:lnTo>
                  <a:lnTo>
                    <a:pt x="89" y="217"/>
                  </a:lnTo>
                  <a:lnTo>
                    <a:pt x="135" y="168"/>
                  </a:lnTo>
                  <a:lnTo>
                    <a:pt x="180" y="124"/>
                  </a:lnTo>
                  <a:lnTo>
                    <a:pt x="222" y="84"/>
                  </a:lnTo>
                  <a:lnTo>
                    <a:pt x="263" y="49"/>
                  </a:lnTo>
                  <a:lnTo>
                    <a:pt x="282" y="35"/>
                  </a:lnTo>
                  <a:lnTo>
                    <a:pt x="299" y="21"/>
                  </a:lnTo>
                  <a:lnTo>
                    <a:pt x="316" y="9"/>
                  </a:lnTo>
                  <a:lnTo>
                    <a:pt x="331" y="0"/>
                  </a:lnTo>
                  <a:lnTo>
                    <a:pt x="331" y="4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0" name="Freeform 51"/>
            <p:cNvSpPr/>
            <p:nvPr/>
          </p:nvSpPr>
          <p:spPr>
            <a:xfrm>
              <a:off x="5360040" y="4561560"/>
              <a:ext cx="93960" cy="272160"/>
            </a:xfrm>
            <a:custGeom>
              <a:avLst/>
              <a:gdLst>
                <a:gd name="textAreaLeft" fmla="*/ 0 w 93960"/>
                <a:gd name="textAreaRight" fmla="*/ 94320 w 93960"/>
                <a:gd name="textAreaTop" fmla="*/ 0 h 272160"/>
                <a:gd name="textAreaBottom" fmla="*/ 272520 h 272160"/>
              </a:gdLst>
              <a:ahLst/>
              <a:rect l="textAreaLeft" t="textAreaTop" r="textAreaRight" b="textAreaBottom"/>
              <a:pathLst>
                <a:path w="214" h="601">
                  <a:moveTo>
                    <a:pt x="201" y="412"/>
                  </a:moveTo>
                  <a:lnTo>
                    <a:pt x="206" y="415"/>
                  </a:lnTo>
                  <a:lnTo>
                    <a:pt x="209" y="420"/>
                  </a:lnTo>
                  <a:lnTo>
                    <a:pt x="212" y="425"/>
                  </a:lnTo>
                  <a:lnTo>
                    <a:pt x="213" y="429"/>
                  </a:lnTo>
                  <a:lnTo>
                    <a:pt x="214" y="434"/>
                  </a:lnTo>
                  <a:lnTo>
                    <a:pt x="213" y="439"/>
                  </a:lnTo>
                  <a:lnTo>
                    <a:pt x="213" y="443"/>
                  </a:lnTo>
                  <a:lnTo>
                    <a:pt x="211" y="449"/>
                  </a:lnTo>
                  <a:lnTo>
                    <a:pt x="206" y="460"/>
                  </a:lnTo>
                  <a:lnTo>
                    <a:pt x="198" y="470"/>
                  </a:lnTo>
                  <a:lnTo>
                    <a:pt x="186" y="482"/>
                  </a:lnTo>
                  <a:lnTo>
                    <a:pt x="173" y="495"/>
                  </a:lnTo>
                  <a:lnTo>
                    <a:pt x="158" y="507"/>
                  </a:lnTo>
                  <a:lnTo>
                    <a:pt x="140" y="519"/>
                  </a:lnTo>
                  <a:lnTo>
                    <a:pt x="121" y="533"/>
                  </a:lnTo>
                  <a:lnTo>
                    <a:pt x="100" y="546"/>
                  </a:lnTo>
                  <a:lnTo>
                    <a:pt x="52" y="573"/>
                  </a:lnTo>
                  <a:lnTo>
                    <a:pt x="0" y="601"/>
                  </a:lnTo>
                  <a:lnTo>
                    <a:pt x="0" y="192"/>
                  </a:lnTo>
                  <a:lnTo>
                    <a:pt x="52" y="164"/>
                  </a:lnTo>
                  <a:lnTo>
                    <a:pt x="100" y="137"/>
                  </a:lnTo>
                  <a:lnTo>
                    <a:pt x="121" y="123"/>
                  </a:lnTo>
                  <a:lnTo>
                    <a:pt x="140" y="111"/>
                  </a:lnTo>
                  <a:lnTo>
                    <a:pt x="158" y="98"/>
                  </a:lnTo>
                  <a:lnTo>
                    <a:pt x="173" y="85"/>
                  </a:lnTo>
                  <a:lnTo>
                    <a:pt x="186" y="73"/>
                  </a:lnTo>
                  <a:lnTo>
                    <a:pt x="198" y="61"/>
                  </a:lnTo>
                  <a:lnTo>
                    <a:pt x="206" y="50"/>
                  </a:lnTo>
                  <a:lnTo>
                    <a:pt x="211" y="38"/>
                  </a:lnTo>
                  <a:lnTo>
                    <a:pt x="213" y="33"/>
                  </a:lnTo>
                  <a:lnTo>
                    <a:pt x="213" y="28"/>
                  </a:lnTo>
                  <a:lnTo>
                    <a:pt x="214" y="23"/>
                  </a:lnTo>
                  <a:lnTo>
                    <a:pt x="213" y="18"/>
                  </a:lnTo>
                  <a:lnTo>
                    <a:pt x="212" y="14"/>
                  </a:lnTo>
                  <a:lnTo>
                    <a:pt x="209" y="9"/>
                  </a:lnTo>
                  <a:lnTo>
                    <a:pt x="206" y="4"/>
                  </a:lnTo>
                  <a:lnTo>
                    <a:pt x="201" y="0"/>
                  </a:lnTo>
                  <a:lnTo>
                    <a:pt x="201" y="41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1" name="Freeform 52"/>
            <p:cNvSpPr/>
            <p:nvPr/>
          </p:nvSpPr>
          <p:spPr>
            <a:xfrm>
              <a:off x="5544360" y="4447800"/>
              <a:ext cx="96480" cy="270000"/>
            </a:xfrm>
            <a:custGeom>
              <a:avLst/>
              <a:gdLst>
                <a:gd name="textAreaLeft" fmla="*/ 0 w 96480"/>
                <a:gd name="textAreaRight" fmla="*/ 96840 w 96480"/>
                <a:gd name="textAreaTop" fmla="*/ 0 h 270000"/>
                <a:gd name="textAreaBottom" fmla="*/ 270360 h 270000"/>
              </a:gdLst>
              <a:ahLst/>
              <a:rect l="textAreaLeft" t="textAreaTop" r="textAreaRight" b="textAreaBottom"/>
              <a:pathLst>
                <a:path w="220" h="596">
                  <a:moveTo>
                    <a:pt x="220" y="0"/>
                  </a:moveTo>
                  <a:lnTo>
                    <a:pt x="0" y="187"/>
                  </a:lnTo>
                  <a:lnTo>
                    <a:pt x="0" y="596"/>
                  </a:lnTo>
                  <a:lnTo>
                    <a:pt x="220" y="409"/>
                  </a:lnTo>
                  <a:lnTo>
                    <a:pt x="22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2" name="Freeform 53"/>
            <p:cNvSpPr/>
            <p:nvPr/>
          </p:nvSpPr>
          <p:spPr>
            <a:xfrm>
              <a:off x="6263280" y="4484520"/>
              <a:ext cx="136440" cy="249480"/>
            </a:xfrm>
            <a:custGeom>
              <a:avLst/>
              <a:gdLst>
                <a:gd name="textAreaLeft" fmla="*/ 0 w 136440"/>
                <a:gd name="textAreaRight" fmla="*/ 136800 w 136440"/>
                <a:gd name="textAreaTop" fmla="*/ 0 h 249480"/>
                <a:gd name="textAreaBottom" fmla="*/ 249840 h 249480"/>
              </a:gdLst>
              <a:ahLst/>
              <a:rect l="textAreaLeft" t="textAreaTop" r="textAreaRight" b="textAreaBottom"/>
              <a:pathLst>
                <a:path w="309" h="550">
                  <a:moveTo>
                    <a:pt x="309" y="410"/>
                  </a:moveTo>
                  <a:lnTo>
                    <a:pt x="284" y="412"/>
                  </a:lnTo>
                  <a:lnTo>
                    <a:pt x="261" y="416"/>
                  </a:lnTo>
                  <a:lnTo>
                    <a:pt x="238" y="421"/>
                  </a:lnTo>
                  <a:lnTo>
                    <a:pt x="216" y="428"/>
                  </a:lnTo>
                  <a:lnTo>
                    <a:pt x="194" y="435"/>
                  </a:lnTo>
                  <a:lnTo>
                    <a:pt x="173" y="444"/>
                  </a:lnTo>
                  <a:lnTo>
                    <a:pt x="153" y="453"/>
                  </a:lnTo>
                  <a:lnTo>
                    <a:pt x="133" y="463"/>
                  </a:lnTo>
                  <a:lnTo>
                    <a:pt x="113" y="473"/>
                  </a:lnTo>
                  <a:lnTo>
                    <a:pt x="95" y="485"/>
                  </a:lnTo>
                  <a:lnTo>
                    <a:pt x="77" y="495"/>
                  </a:lnTo>
                  <a:lnTo>
                    <a:pt x="61" y="507"/>
                  </a:lnTo>
                  <a:lnTo>
                    <a:pt x="29" y="529"/>
                  </a:lnTo>
                  <a:lnTo>
                    <a:pt x="0" y="550"/>
                  </a:lnTo>
                  <a:lnTo>
                    <a:pt x="0" y="141"/>
                  </a:lnTo>
                  <a:lnTo>
                    <a:pt x="29" y="120"/>
                  </a:lnTo>
                  <a:lnTo>
                    <a:pt x="61" y="98"/>
                  </a:lnTo>
                  <a:lnTo>
                    <a:pt x="77" y="86"/>
                  </a:lnTo>
                  <a:lnTo>
                    <a:pt x="95" y="75"/>
                  </a:lnTo>
                  <a:lnTo>
                    <a:pt x="113" y="64"/>
                  </a:lnTo>
                  <a:lnTo>
                    <a:pt x="133" y="54"/>
                  </a:lnTo>
                  <a:lnTo>
                    <a:pt x="153" y="44"/>
                  </a:lnTo>
                  <a:lnTo>
                    <a:pt x="173" y="35"/>
                  </a:lnTo>
                  <a:lnTo>
                    <a:pt x="194" y="26"/>
                  </a:lnTo>
                  <a:lnTo>
                    <a:pt x="216" y="19"/>
                  </a:lnTo>
                  <a:lnTo>
                    <a:pt x="238" y="12"/>
                  </a:lnTo>
                  <a:lnTo>
                    <a:pt x="261" y="7"/>
                  </a:lnTo>
                  <a:lnTo>
                    <a:pt x="284" y="4"/>
                  </a:lnTo>
                  <a:lnTo>
                    <a:pt x="309" y="0"/>
                  </a:lnTo>
                  <a:lnTo>
                    <a:pt x="309" y="41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3" name="Freeform 54"/>
            <p:cNvSpPr/>
            <p:nvPr/>
          </p:nvSpPr>
          <p:spPr>
            <a:xfrm>
              <a:off x="6535800" y="4477320"/>
              <a:ext cx="65520" cy="240840"/>
            </a:xfrm>
            <a:custGeom>
              <a:avLst/>
              <a:gdLst>
                <a:gd name="textAreaLeft" fmla="*/ 0 w 65520"/>
                <a:gd name="textAreaRight" fmla="*/ 65520 w 65520"/>
                <a:gd name="textAreaTop" fmla="*/ 0 h 240840"/>
                <a:gd name="textAreaBottom" fmla="*/ 241200 h 240840"/>
              </a:gdLst>
              <a:ahLst/>
              <a:rect l="textAreaLeft" t="textAreaTop" r="textAreaRight" b="textAreaBottom"/>
              <a:pathLst>
                <a:path w="149" h="533">
                  <a:moveTo>
                    <a:pt x="149" y="409"/>
                  </a:moveTo>
                  <a:lnTo>
                    <a:pt x="149" y="415"/>
                  </a:lnTo>
                  <a:lnTo>
                    <a:pt x="147" y="422"/>
                  </a:lnTo>
                  <a:lnTo>
                    <a:pt x="145" y="428"/>
                  </a:lnTo>
                  <a:lnTo>
                    <a:pt x="141" y="435"/>
                  </a:lnTo>
                  <a:lnTo>
                    <a:pt x="137" y="440"/>
                  </a:lnTo>
                  <a:lnTo>
                    <a:pt x="131" y="447"/>
                  </a:lnTo>
                  <a:lnTo>
                    <a:pt x="124" y="456"/>
                  </a:lnTo>
                  <a:lnTo>
                    <a:pt x="116" y="463"/>
                  </a:lnTo>
                  <a:lnTo>
                    <a:pt x="96" y="478"/>
                  </a:lnTo>
                  <a:lnTo>
                    <a:pt x="69" y="495"/>
                  </a:lnTo>
                  <a:lnTo>
                    <a:pt x="37" y="513"/>
                  </a:lnTo>
                  <a:lnTo>
                    <a:pt x="0" y="533"/>
                  </a:lnTo>
                  <a:lnTo>
                    <a:pt x="0" y="124"/>
                  </a:lnTo>
                  <a:lnTo>
                    <a:pt x="37" y="104"/>
                  </a:lnTo>
                  <a:lnTo>
                    <a:pt x="69" y="86"/>
                  </a:lnTo>
                  <a:lnTo>
                    <a:pt x="96" y="69"/>
                  </a:lnTo>
                  <a:lnTo>
                    <a:pt x="116" y="54"/>
                  </a:lnTo>
                  <a:lnTo>
                    <a:pt x="124" y="46"/>
                  </a:lnTo>
                  <a:lnTo>
                    <a:pt x="131" y="39"/>
                  </a:lnTo>
                  <a:lnTo>
                    <a:pt x="137" y="32"/>
                  </a:lnTo>
                  <a:lnTo>
                    <a:pt x="141" y="26"/>
                  </a:lnTo>
                  <a:lnTo>
                    <a:pt x="145" y="19"/>
                  </a:lnTo>
                  <a:lnTo>
                    <a:pt x="147" y="13"/>
                  </a:lnTo>
                  <a:lnTo>
                    <a:pt x="149" y="6"/>
                  </a:lnTo>
                  <a:lnTo>
                    <a:pt x="149" y="0"/>
                  </a:lnTo>
                  <a:lnTo>
                    <a:pt x="149" y="4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4" name="Freeform 55"/>
            <p:cNvSpPr/>
            <p:nvPr/>
          </p:nvSpPr>
          <p:spPr>
            <a:xfrm>
              <a:off x="7595280" y="4239000"/>
              <a:ext cx="81000" cy="254160"/>
            </a:xfrm>
            <a:custGeom>
              <a:avLst/>
              <a:gdLst>
                <a:gd name="textAreaLeft" fmla="*/ 0 w 81000"/>
                <a:gd name="textAreaRight" fmla="*/ 81360 w 81000"/>
                <a:gd name="textAreaTop" fmla="*/ 0 h 254160"/>
                <a:gd name="textAreaBottom" fmla="*/ 254520 h 254160"/>
              </a:gdLst>
              <a:ahLst/>
              <a:rect l="textAreaLeft" t="textAreaTop" r="textAreaRight" b="textAreaBottom"/>
              <a:pathLst>
                <a:path w="187" h="561">
                  <a:moveTo>
                    <a:pt x="187" y="561"/>
                  </a:moveTo>
                  <a:lnTo>
                    <a:pt x="187" y="153"/>
                  </a:lnTo>
                  <a:lnTo>
                    <a:pt x="0" y="0"/>
                  </a:lnTo>
                  <a:lnTo>
                    <a:pt x="0" y="408"/>
                  </a:lnTo>
                  <a:lnTo>
                    <a:pt x="187" y="56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5" name="Freeform 56"/>
            <p:cNvSpPr/>
            <p:nvPr/>
          </p:nvSpPr>
          <p:spPr>
            <a:xfrm>
              <a:off x="7942320" y="4599720"/>
              <a:ext cx="342720" cy="483840"/>
            </a:xfrm>
            <a:custGeom>
              <a:avLst/>
              <a:gdLst>
                <a:gd name="textAreaLeft" fmla="*/ 0 w 342720"/>
                <a:gd name="textAreaRight" fmla="*/ 343080 w 342720"/>
                <a:gd name="textAreaTop" fmla="*/ 0 h 483840"/>
                <a:gd name="textAreaBottom" fmla="*/ 484200 h 483840"/>
              </a:gdLst>
              <a:ahLst/>
              <a:rect l="textAreaLeft" t="textAreaTop" r="textAreaRight" b="textAreaBottom"/>
              <a:pathLst>
                <a:path w="777" h="1061">
                  <a:moveTo>
                    <a:pt x="777" y="1061"/>
                  </a:moveTo>
                  <a:lnTo>
                    <a:pt x="739" y="1046"/>
                  </a:lnTo>
                  <a:lnTo>
                    <a:pt x="704" y="1034"/>
                  </a:lnTo>
                  <a:lnTo>
                    <a:pt x="670" y="1022"/>
                  </a:lnTo>
                  <a:lnTo>
                    <a:pt x="639" y="1012"/>
                  </a:lnTo>
                  <a:lnTo>
                    <a:pt x="611" y="1004"/>
                  </a:lnTo>
                  <a:lnTo>
                    <a:pt x="584" y="997"/>
                  </a:lnTo>
                  <a:lnTo>
                    <a:pt x="559" y="991"/>
                  </a:lnTo>
                  <a:lnTo>
                    <a:pt x="538" y="986"/>
                  </a:lnTo>
                  <a:lnTo>
                    <a:pt x="529" y="984"/>
                  </a:lnTo>
                  <a:lnTo>
                    <a:pt x="519" y="980"/>
                  </a:lnTo>
                  <a:lnTo>
                    <a:pt x="508" y="976"/>
                  </a:lnTo>
                  <a:lnTo>
                    <a:pt x="496" y="969"/>
                  </a:lnTo>
                  <a:lnTo>
                    <a:pt x="484" y="962"/>
                  </a:lnTo>
                  <a:lnTo>
                    <a:pt x="471" y="952"/>
                  </a:lnTo>
                  <a:lnTo>
                    <a:pt x="457" y="943"/>
                  </a:lnTo>
                  <a:lnTo>
                    <a:pt x="443" y="931"/>
                  </a:lnTo>
                  <a:lnTo>
                    <a:pt x="412" y="906"/>
                  </a:lnTo>
                  <a:lnTo>
                    <a:pt x="380" y="876"/>
                  </a:lnTo>
                  <a:lnTo>
                    <a:pt x="346" y="843"/>
                  </a:lnTo>
                  <a:lnTo>
                    <a:pt x="310" y="805"/>
                  </a:lnTo>
                  <a:lnTo>
                    <a:pt x="273" y="765"/>
                  </a:lnTo>
                  <a:lnTo>
                    <a:pt x="235" y="722"/>
                  </a:lnTo>
                  <a:lnTo>
                    <a:pt x="196" y="677"/>
                  </a:lnTo>
                  <a:lnTo>
                    <a:pt x="156" y="629"/>
                  </a:lnTo>
                  <a:lnTo>
                    <a:pt x="117" y="580"/>
                  </a:lnTo>
                  <a:lnTo>
                    <a:pt x="77" y="528"/>
                  </a:lnTo>
                  <a:lnTo>
                    <a:pt x="38" y="477"/>
                  </a:lnTo>
                  <a:lnTo>
                    <a:pt x="0" y="424"/>
                  </a:lnTo>
                  <a:lnTo>
                    <a:pt x="0" y="0"/>
                  </a:lnTo>
                  <a:lnTo>
                    <a:pt x="38" y="53"/>
                  </a:lnTo>
                  <a:lnTo>
                    <a:pt x="77" y="104"/>
                  </a:lnTo>
                  <a:lnTo>
                    <a:pt x="117" y="155"/>
                  </a:lnTo>
                  <a:lnTo>
                    <a:pt x="156" y="204"/>
                  </a:lnTo>
                  <a:lnTo>
                    <a:pt x="196" y="251"/>
                  </a:lnTo>
                  <a:lnTo>
                    <a:pt x="235" y="297"/>
                  </a:lnTo>
                  <a:lnTo>
                    <a:pt x="273" y="339"/>
                  </a:lnTo>
                  <a:lnTo>
                    <a:pt x="310" y="380"/>
                  </a:lnTo>
                  <a:lnTo>
                    <a:pt x="346" y="417"/>
                  </a:lnTo>
                  <a:lnTo>
                    <a:pt x="380" y="451"/>
                  </a:lnTo>
                  <a:lnTo>
                    <a:pt x="412" y="480"/>
                  </a:lnTo>
                  <a:lnTo>
                    <a:pt x="443" y="506"/>
                  </a:lnTo>
                  <a:lnTo>
                    <a:pt x="457" y="518"/>
                  </a:lnTo>
                  <a:lnTo>
                    <a:pt x="471" y="528"/>
                  </a:lnTo>
                  <a:lnTo>
                    <a:pt x="484" y="536"/>
                  </a:lnTo>
                  <a:lnTo>
                    <a:pt x="496" y="545"/>
                  </a:lnTo>
                  <a:lnTo>
                    <a:pt x="508" y="552"/>
                  </a:lnTo>
                  <a:lnTo>
                    <a:pt x="519" y="556"/>
                  </a:lnTo>
                  <a:lnTo>
                    <a:pt x="529" y="560"/>
                  </a:lnTo>
                  <a:lnTo>
                    <a:pt x="538" y="562"/>
                  </a:lnTo>
                  <a:lnTo>
                    <a:pt x="559" y="567"/>
                  </a:lnTo>
                  <a:lnTo>
                    <a:pt x="584" y="572"/>
                  </a:lnTo>
                  <a:lnTo>
                    <a:pt x="611" y="579"/>
                  </a:lnTo>
                  <a:lnTo>
                    <a:pt x="639" y="587"/>
                  </a:lnTo>
                  <a:lnTo>
                    <a:pt x="670" y="596"/>
                  </a:lnTo>
                  <a:lnTo>
                    <a:pt x="704" y="608"/>
                  </a:lnTo>
                  <a:lnTo>
                    <a:pt x="739" y="621"/>
                  </a:lnTo>
                  <a:lnTo>
                    <a:pt x="777" y="635"/>
                  </a:lnTo>
                  <a:lnTo>
                    <a:pt x="777" y="106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6" name="Freeform 57"/>
            <p:cNvSpPr/>
            <p:nvPr/>
          </p:nvSpPr>
          <p:spPr>
            <a:xfrm>
              <a:off x="8522280" y="5015160"/>
              <a:ext cx="186840" cy="329400"/>
            </a:xfrm>
            <a:custGeom>
              <a:avLst/>
              <a:gdLst>
                <a:gd name="textAreaLeft" fmla="*/ 0 w 186840"/>
                <a:gd name="textAreaRight" fmla="*/ 187200 w 186840"/>
                <a:gd name="textAreaTop" fmla="*/ 0 h 329400"/>
                <a:gd name="textAreaBottom" fmla="*/ 329760 h 329400"/>
              </a:gdLst>
              <a:ahLst/>
              <a:rect l="textAreaLeft" t="textAreaTop" r="textAreaRight" b="textAreaBottom"/>
              <a:pathLst>
                <a:path w="423" h="726">
                  <a:moveTo>
                    <a:pt x="423" y="299"/>
                  </a:moveTo>
                  <a:lnTo>
                    <a:pt x="370" y="257"/>
                  </a:lnTo>
                  <a:lnTo>
                    <a:pt x="316" y="217"/>
                  </a:lnTo>
                  <a:lnTo>
                    <a:pt x="264" y="177"/>
                  </a:lnTo>
                  <a:lnTo>
                    <a:pt x="210" y="138"/>
                  </a:lnTo>
                  <a:lnTo>
                    <a:pt x="157" y="102"/>
                  </a:lnTo>
                  <a:lnTo>
                    <a:pt x="104" y="67"/>
                  </a:lnTo>
                  <a:lnTo>
                    <a:pt x="51" y="33"/>
                  </a:lnTo>
                  <a:lnTo>
                    <a:pt x="0" y="0"/>
                  </a:lnTo>
                  <a:lnTo>
                    <a:pt x="0" y="426"/>
                  </a:lnTo>
                  <a:lnTo>
                    <a:pt x="51" y="458"/>
                  </a:lnTo>
                  <a:lnTo>
                    <a:pt x="104" y="492"/>
                  </a:lnTo>
                  <a:lnTo>
                    <a:pt x="157" y="527"/>
                  </a:lnTo>
                  <a:lnTo>
                    <a:pt x="210" y="563"/>
                  </a:lnTo>
                  <a:lnTo>
                    <a:pt x="264" y="602"/>
                  </a:lnTo>
                  <a:lnTo>
                    <a:pt x="316" y="642"/>
                  </a:lnTo>
                  <a:lnTo>
                    <a:pt x="370" y="683"/>
                  </a:lnTo>
                  <a:lnTo>
                    <a:pt x="423" y="726"/>
                  </a:lnTo>
                  <a:lnTo>
                    <a:pt x="423" y="29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7" name="Freeform 58"/>
            <p:cNvSpPr/>
            <p:nvPr/>
          </p:nvSpPr>
          <p:spPr>
            <a:xfrm>
              <a:off x="7720560" y="3634920"/>
              <a:ext cx="52560" cy="383760"/>
            </a:xfrm>
            <a:custGeom>
              <a:avLst/>
              <a:gdLst>
                <a:gd name="textAreaLeft" fmla="*/ 0 w 52560"/>
                <a:gd name="textAreaRight" fmla="*/ 52920 w 52560"/>
                <a:gd name="textAreaTop" fmla="*/ 0 h 383760"/>
                <a:gd name="textAreaBottom" fmla="*/ 384120 h 383760"/>
              </a:gdLst>
              <a:ahLst/>
              <a:rect l="textAreaLeft" t="textAreaTop" r="textAreaRight" b="textAreaBottom"/>
              <a:pathLst>
                <a:path w="119" h="845">
                  <a:moveTo>
                    <a:pt x="119" y="0"/>
                  </a:moveTo>
                  <a:lnTo>
                    <a:pt x="101" y="13"/>
                  </a:lnTo>
                  <a:lnTo>
                    <a:pt x="85" y="25"/>
                  </a:lnTo>
                  <a:lnTo>
                    <a:pt x="71" y="38"/>
                  </a:lnTo>
                  <a:lnTo>
                    <a:pt x="58" y="50"/>
                  </a:lnTo>
                  <a:lnTo>
                    <a:pt x="48" y="62"/>
                  </a:lnTo>
                  <a:lnTo>
                    <a:pt x="37" y="74"/>
                  </a:lnTo>
                  <a:lnTo>
                    <a:pt x="29" y="85"/>
                  </a:lnTo>
                  <a:lnTo>
                    <a:pt x="22" y="97"/>
                  </a:lnTo>
                  <a:lnTo>
                    <a:pt x="16" y="109"/>
                  </a:lnTo>
                  <a:lnTo>
                    <a:pt x="10" y="120"/>
                  </a:lnTo>
                  <a:lnTo>
                    <a:pt x="7" y="131"/>
                  </a:lnTo>
                  <a:lnTo>
                    <a:pt x="4" y="143"/>
                  </a:lnTo>
                  <a:lnTo>
                    <a:pt x="2" y="153"/>
                  </a:lnTo>
                  <a:lnTo>
                    <a:pt x="1" y="162"/>
                  </a:lnTo>
                  <a:lnTo>
                    <a:pt x="0" y="173"/>
                  </a:lnTo>
                  <a:lnTo>
                    <a:pt x="1" y="182"/>
                  </a:lnTo>
                  <a:lnTo>
                    <a:pt x="1" y="196"/>
                  </a:lnTo>
                  <a:lnTo>
                    <a:pt x="3" y="210"/>
                  </a:lnTo>
                  <a:lnTo>
                    <a:pt x="7" y="222"/>
                  </a:lnTo>
                  <a:lnTo>
                    <a:pt x="9" y="234"/>
                  </a:lnTo>
                  <a:lnTo>
                    <a:pt x="17" y="254"/>
                  </a:lnTo>
                  <a:lnTo>
                    <a:pt x="27" y="278"/>
                  </a:lnTo>
                  <a:lnTo>
                    <a:pt x="37" y="305"/>
                  </a:lnTo>
                  <a:lnTo>
                    <a:pt x="48" y="333"/>
                  </a:lnTo>
                  <a:lnTo>
                    <a:pt x="57" y="361"/>
                  </a:lnTo>
                  <a:lnTo>
                    <a:pt x="65" y="388"/>
                  </a:lnTo>
                  <a:lnTo>
                    <a:pt x="69" y="401"/>
                  </a:lnTo>
                  <a:lnTo>
                    <a:pt x="71" y="412"/>
                  </a:lnTo>
                  <a:lnTo>
                    <a:pt x="72" y="423"/>
                  </a:lnTo>
                  <a:lnTo>
                    <a:pt x="72" y="432"/>
                  </a:lnTo>
                  <a:lnTo>
                    <a:pt x="72" y="845"/>
                  </a:lnTo>
                  <a:lnTo>
                    <a:pt x="72" y="834"/>
                  </a:lnTo>
                  <a:lnTo>
                    <a:pt x="71" y="824"/>
                  </a:lnTo>
                  <a:lnTo>
                    <a:pt x="69" y="812"/>
                  </a:lnTo>
                  <a:lnTo>
                    <a:pt x="65" y="799"/>
                  </a:lnTo>
                  <a:lnTo>
                    <a:pt x="57" y="771"/>
                  </a:lnTo>
                  <a:lnTo>
                    <a:pt x="48" y="742"/>
                  </a:lnTo>
                  <a:lnTo>
                    <a:pt x="37" y="714"/>
                  </a:lnTo>
                  <a:lnTo>
                    <a:pt x="27" y="687"/>
                  </a:lnTo>
                  <a:lnTo>
                    <a:pt x="17" y="662"/>
                  </a:lnTo>
                  <a:lnTo>
                    <a:pt x="9" y="643"/>
                  </a:lnTo>
                  <a:lnTo>
                    <a:pt x="7" y="631"/>
                  </a:lnTo>
                  <a:lnTo>
                    <a:pt x="3" y="619"/>
                  </a:lnTo>
                  <a:lnTo>
                    <a:pt x="1" y="605"/>
                  </a:lnTo>
                  <a:lnTo>
                    <a:pt x="1" y="591"/>
                  </a:lnTo>
                  <a:lnTo>
                    <a:pt x="0" y="582"/>
                  </a:lnTo>
                  <a:lnTo>
                    <a:pt x="1" y="571"/>
                  </a:lnTo>
                  <a:lnTo>
                    <a:pt x="2" y="562"/>
                  </a:lnTo>
                  <a:lnTo>
                    <a:pt x="4" y="551"/>
                  </a:lnTo>
                  <a:lnTo>
                    <a:pt x="7" y="541"/>
                  </a:lnTo>
                  <a:lnTo>
                    <a:pt x="10" y="529"/>
                  </a:lnTo>
                  <a:lnTo>
                    <a:pt x="16" y="518"/>
                  </a:lnTo>
                  <a:lnTo>
                    <a:pt x="22" y="507"/>
                  </a:lnTo>
                  <a:lnTo>
                    <a:pt x="29" y="495"/>
                  </a:lnTo>
                  <a:lnTo>
                    <a:pt x="37" y="483"/>
                  </a:lnTo>
                  <a:lnTo>
                    <a:pt x="48" y="471"/>
                  </a:lnTo>
                  <a:lnTo>
                    <a:pt x="58" y="459"/>
                  </a:lnTo>
                  <a:lnTo>
                    <a:pt x="71" y="446"/>
                  </a:lnTo>
                  <a:lnTo>
                    <a:pt x="85" y="435"/>
                  </a:lnTo>
                  <a:lnTo>
                    <a:pt x="101" y="422"/>
                  </a:lnTo>
                  <a:lnTo>
                    <a:pt x="119" y="409"/>
                  </a:lnTo>
                  <a:lnTo>
                    <a:pt x="119"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8" name="Freeform 59"/>
            <p:cNvSpPr/>
            <p:nvPr/>
          </p:nvSpPr>
          <p:spPr>
            <a:xfrm>
              <a:off x="7907400" y="2275560"/>
              <a:ext cx="105120" cy="217440"/>
            </a:xfrm>
            <a:custGeom>
              <a:avLst/>
              <a:gdLst>
                <a:gd name="textAreaLeft" fmla="*/ 0 w 105120"/>
                <a:gd name="textAreaRight" fmla="*/ 105480 w 105120"/>
                <a:gd name="textAreaTop" fmla="*/ 0 h 217440"/>
                <a:gd name="textAreaBottom" fmla="*/ 217800 h 217440"/>
              </a:gdLst>
              <a:ahLst/>
              <a:rect l="textAreaLeft" t="textAreaTop" r="textAreaRight" b="textAreaBottom"/>
              <a:pathLst>
                <a:path w="242" h="481">
                  <a:moveTo>
                    <a:pt x="0" y="481"/>
                  </a:moveTo>
                  <a:lnTo>
                    <a:pt x="22" y="477"/>
                  </a:lnTo>
                  <a:lnTo>
                    <a:pt x="45" y="474"/>
                  </a:lnTo>
                  <a:lnTo>
                    <a:pt x="70" y="472"/>
                  </a:lnTo>
                  <a:lnTo>
                    <a:pt x="94" y="470"/>
                  </a:lnTo>
                  <a:lnTo>
                    <a:pt x="134" y="458"/>
                  </a:lnTo>
                  <a:lnTo>
                    <a:pt x="181" y="445"/>
                  </a:lnTo>
                  <a:lnTo>
                    <a:pt x="203" y="438"/>
                  </a:lnTo>
                  <a:lnTo>
                    <a:pt x="222" y="430"/>
                  </a:lnTo>
                  <a:lnTo>
                    <a:pt x="230" y="425"/>
                  </a:lnTo>
                  <a:lnTo>
                    <a:pt x="236" y="421"/>
                  </a:lnTo>
                  <a:lnTo>
                    <a:pt x="239" y="415"/>
                  </a:lnTo>
                  <a:lnTo>
                    <a:pt x="242" y="409"/>
                  </a:lnTo>
                  <a:lnTo>
                    <a:pt x="242" y="0"/>
                  </a:lnTo>
                  <a:lnTo>
                    <a:pt x="239" y="6"/>
                  </a:lnTo>
                  <a:lnTo>
                    <a:pt x="236" y="11"/>
                  </a:lnTo>
                  <a:lnTo>
                    <a:pt x="230" y="17"/>
                  </a:lnTo>
                  <a:lnTo>
                    <a:pt x="222" y="21"/>
                  </a:lnTo>
                  <a:lnTo>
                    <a:pt x="203" y="29"/>
                  </a:lnTo>
                  <a:lnTo>
                    <a:pt x="181" y="36"/>
                  </a:lnTo>
                  <a:lnTo>
                    <a:pt x="134" y="49"/>
                  </a:lnTo>
                  <a:lnTo>
                    <a:pt x="94" y="61"/>
                  </a:lnTo>
                  <a:lnTo>
                    <a:pt x="70" y="63"/>
                  </a:lnTo>
                  <a:lnTo>
                    <a:pt x="45" y="66"/>
                  </a:lnTo>
                  <a:lnTo>
                    <a:pt x="22" y="68"/>
                  </a:lnTo>
                  <a:lnTo>
                    <a:pt x="0" y="73"/>
                  </a:lnTo>
                  <a:lnTo>
                    <a:pt x="0" y="48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9" name="Freeform 60"/>
            <p:cNvSpPr/>
            <p:nvPr/>
          </p:nvSpPr>
          <p:spPr>
            <a:xfrm>
              <a:off x="7579800" y="2631600"/>
              <a:ext cx="294480" cy="395280"/>
            </a:xfrm>
            <a:custGeom>
              <a:avLst/>
              <a:gdLst>
                <a:gd name="textAreaLeft" fmla="*/ 0 w 294480"/>
                <a:gd name="textAreaRight" fmla="*/ 294840 w 294480"/>
                <a:gd name="textAreaTop" fmla="*/ 0 h 395280"/>
                <a:gd name="textAreaBottom" fmla="*/ 395640 h 395280"/>
              </a:gdLst>
              <a:ahLst/>
              <a:rect l="textAreaLeft" t="textAreaTop" r="textAreaRight" b="textAreaBottom"/>
              <a:pathLst>
                <a:path w="668" h="873">
                  <a:moveTo>
                    <a:pt x="314" y="717"/>
                  </a:moveTo>
                  <a:lnTo>
                    <a:pt x="283" y="697"/>
                  </a:lnTo>
                  <a:lnTo>
                    <a:pt x="246" y="674"/>
                  </a:lnTo>
                  <a:lnTo>
                    <a:pt x="207" y="648"/>
                  </a:lnTo>
                  <a:lnTo>
                    <a:pt x="165" y="620"/>
                  </a:lnTo>
                  <a:lnTo>
                    <a:pt x="124" y="591"/>
                  </a:lnTo>
                  <a:lnTo>
                    <a:pt x="82" y="561"/>
                  </a:lnTo>
                  <a:lnTo>
                    <a:pt x="42" y="530"/>
                  </a:lnTo>
                  <a:lnTo>
                    <a:pt x="6" y="501"/>
                  </a:lnTo>
                  <a:lnTo>
                    <a:pt x="2" y="498"/>
                  </a:lnTo>
                  <a:lnTo>
                    <a:pt x="0" y="493"/>
                  </a:lnTo>
                  <a:lnTo>
                    <a:pt x="0" y="488"/>
                  </a:lnTo>
                  <a:lnTo>
                    <a:pt x="1" y="482"/>
                  </a:lnTo>
                  <a:lnTo>
                    <a:pt x="5" y="478"/>
                  </a:lnTo>
                  <a:lnTo>
                    <a:pt x="9" y="472"/>
                  </a:lnTo>
                  <a:lnTo>
                    <a:pt x="15" y="465"/>
                  </a:lnTo>
                  <a:lnTo>
                    <a:pt x="23" y="459"/>
                  </a:lnTo>
                  <a:lnTo>
                    <a:pt x="31" y="452"/>
                  </a:lnTo>
                  <a:lnTo>
                    <a:pt x="42" y="445"/>
                  </a:lnTo>
                  <a:lnTo>
                    <a:pt x="54" y="438"/>
                  </a:lnTo>
                  <a:lnTo>
                    <a:pt x="67" y="431"/>
                  </a:lnTo>
                  <a:lnTo>
                    <a:pt x="95" y="418"/>
                  </a:lnTo>
                  <a:lnTo>
                    <a:pt x="126" y="405"/>
                  </a:lnTo>
                  <a:lnTo>
                    <a:pt x="328" y="578"/>
                  </a:lnTo>
                  <a:lnTo>
                    <a:pt x="383" y="561"/>
                  </a:lnTo>
                  <a:lnTo>
                    <a:pt x="390" y="563"/>
                  </a:lnTo>
                  <a:lnTo>
                    <a:pt x="397" y="566"/>
                  </a:lnTo>
                  <a:lnTo>
                    <a:pt x="405" y="571"/>
                  </a:lnTo>
                  <a:lnTo>
                    <a:pt x="412" y="577"/>
                  </a:lnTo>
                  <a:lnTo>
                    <a:pt x="427" y="592"/>
                  </a:lnTo>
                  <a:lnTo>
                    <a:pt x="444" y="611"/>
                  </a:lnTo>
                  <a:lnTo>
                    <a:pt x="475" y="655"/>
                  </a:lnTo>
                  <a:lnTo>
                    <a:pt x="509" y="705"/>
                  </a:lnTo>
                  <a:lnTo>
                    <a:pt x="527" y="732"/>
                  </a:lnTo>
                  <a:lnTo>
                    <a:pt x="545" y="758"/>
                  </a:lnTo>
                  <a:lnTo>
                    <a:pt x="564" y="783"/>
                  </a:lnTo>
                  <a:lnTo>
                    <a:pt x="584" y="807"/>
                  </a:lnTo>
                  <a:lnTo>
                    <a:pt x="593" y="818"/>
                  </a:lnTo>
                  <a:lnTo>
                    <a:pt x="604" y="828"/>
                  </a:lnTo>
                  <a:lnTo>
                    <a:pt x="614" y="837"/>
                  </a:lnTo>
                  <a:lnTo>
                    <a:pt x="625" y="847"/>
                  </a:lnTo>
                  <a:lnTo>
                    <a:pt x="635" y="854"/>
                  </a:lnTo>
                  <a:lnTo>
                    <a:pt x="646" y="861"/>
                  </a:lnTo>
                  <a:lnTo>
                    <a:pt x="656" y="867"/>
                  </a:lnTo>
                  <a:lnTo>
                    <a:pt x="668" y="873"/>
                  </a:lnTo>
                  <a:lnTo>
                    <a:pt x="668" y="466"/>
                  </a:lnTo>
                  <a:lnTo>
                    <a:pt x="656" y="461"/>
                  </a:lnTo>
                  <a:lnTo>
                    <a:pt x="646" y="456"/>
                  </a:lnTo>
                  <a:lnTo>
                    <a:pt x="635" y="449"/>
                  </a:lnTo>
                  <a:lnTo>
                    <a:pt x="625" y="440"/>
                  </a:lnTo>
                  <a:lnTo>
                    <a:pt x="614" y="431"/>
                  </a:lnTo>
                  <a:lnTo>
                    <a:pt x="604" y="422"/>
                  </a:lnTo>
                  <a:lnTo>
                    <a:pt x="593" y="411"/>
                  </a:lnTo>
                  <a:lnTo>
                    <a:pt x="584" y="401"/>
                  </a:lnTo>
                  <a:lnTo>
                    <a:pt x="564" y="377"/>
                  </a:lnTo>
                  <a:lnTo>
                    <a:pt x="545" y="352"/>
                  </a:lnTo>
                  <a:lnTo>
                    <a:pt x="527" y="326"/>
                  </a:lnTo>
                  <a:lnTo>
                    <a:pt x="509" y="300"/>
                  </a:lnTo>
                  <a:lnTo>
                    <a:pt x="475" y="249"/>
                  </a:lnTo>
                  <a:lnTo>
                    <a:pt x="444" y="204"/>
                  </a:lnTo>
                  <a:lnTo>
                    <a:pt x="427" y="186"/>
                  </a:lnTo>
                  <a:lnTo>
                    <a:pt x="412" y="172"/>
                  </a:lnTo>
                  <a:lnTo>
                    <a:pt x="405" y="166"/>
                  </a:lnTo>
                  <a:lnTo>
                    <a:pt x="397" y="161"/>
                  </a:lnTo>
                  <a:lnTo>
                    <a:pt x="390" y="158"/>
                  </a:lnTo>
                  <a:lnTo>
                    <a:pt x="383" y="155"/>
                  </a:lnTo>
                  <a:lnTo>
                    <a:pt x="328" y="173"/>
                  </a:lnTo>
                  <a:lnTo>
                    <a:pt x="126" y="0"/>
                  </a:lnTo>
                  <a:lnTo>
                    <a:pt x="95" y="12"/>
                  </a:lnTo>
                  <a:lnTo>
                    <a:pt x="67" y="26"/>
                  </a:lnTo>
                  <a:lnTo>
                    <a:pt x="54" y="33"/>
                  </a:lnTo>
                  <a:lnTo>
                    <a:pt x="42" y="39"/>
                  </a:lnTo>
                  <a:lnTo>
                    <a:pt x="31" y="46"/>
                  </a:lnTo>
                  <a:lnTo>
                    <a:pt x="23" y="53"/>
                  </a:lnTo>
                  <a:lnTo>
                    <a:pt x="15" y="58"/>
                  </a:lnTo>
                  <a:lnTo>
                    <a:pt x="9" y="65"/>
                  </a:lnTo>
                  <a:lnTo>
                    <a:pt x="5" y="71"/>
                  </a:lnTo>
                  <a:lnTo>
                    <a:pt x="1" y="77"/>
                  </a:lnTo>
                  <a:lnTo>
                    <a:pt x="0" y="82"/>
                  </a:lnTo>
                  <a:lnTo>
                    <a:pt x="0" y="86"/>
                  </a:lnTo>
                  <a:lnTo>
                    <a:pt x="2" y="91"/>
                  </a:lnTo>
                  <a:lnTo>
                    <a:pt x="6" y="95"/>
                  </a:lnTo>
                  <a:lnTo>
                    <a:pt x="42" y="124"/>
                  </a:lnTo>
                  <a:lnTo>
                    <a:pt x="82" y="154"/>
                  </a:lnTo>
                  <a:lnTo>
                    <a:pt x="124" y="185"/>
                  </a:lnTo>
                  <a:lnTo>
                    <a:pt x="165" y="215"/>
                  </a:lnTo>
                  <a:lnTo>
                    <a:pt x="207" y="243"/>
                  </a:lnTo>
                  <a:lnTo>
                    <a:pt x="246" y="269"/>
                  </a:lnTo>
                  <a:lnTo>
                    <a:pt x="283" y="291"/>
                  </a:lnTo>
                  <a:lnTo>
                    <a:pt x="314" y="311"/>
                  </a:lnTo>
                  <a:lnTo>
                    <a:pt x="314" y="71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0" name="Freeform 61"/>
            <p:cNvSpPr/>
            <p:nvPr/>
          </p:nvSpPr>
          <p:spPr>
            <a:xfrm>
              <a:off x="1757880" y="3438000"/>
              <a:ext cx="21600" cy="356040"/>
            </a:xfrm>
            <a:custGeom>
              <a:avLst/>
              <a:gdLst>
                <a:gd name="textAreaLeft" fmla="*/ 0 w 21600"/>
                <a:gd name="textAreaRight" fmla="*/ 21960 w 21600"/>
                <a:gd name="textAreaTop" fmla="*/ 0 h 356040"/>
                <a:gd name="textAreaBottom" fmla="*/ 356400 h 356040"/>
              </a:gdLst>
              <a:ahLst/>
              <a:rect l="textAreaLeft" t="textAreaTop" r="textAreaRight" b="textAreaBottom"/>
              <a:pathLst>
                <a:path w="50" h="784">
                  <a:moveTo>
                    <a:pt x="21" y="568"/>
                  </a:moveTo>
                  <a:lnTo>
                    <a:pt x="18" y="572"/>
                  </a:lnTo>
                  <a:lnTo>
                    <a:pt x="13" y="584"/>
                  </a:lnTo>
                  <a:lnTo>
                    <a:pt x="9" y="593"/>
                  </a:lnTo>
                  <a:lnTo>
                    <a:pt x="6" y="604"/>
                  </a:lnTo>
                  <a:lnTo>
                    <a:pt x="3" y="616"/>
                  </a:lnTo>
                  <a:lnTo>
                    <a:pt x="1" y="630"/>
                  </a:lnTo>
                  <a:lnTo>
                    <a:pt x="0" y="645"/>
                  </a:lnTo>
                  <a:lnTo>
                    <a:pt x="0" y="661"/>
                  </a:lnTo>
                  <a:lnTo>
                    <a:pt x="2" y="679"/>
                  </a:lnTo>
                  <a:lnTo>
                    <a:pt x="7" y="697"/>
                  </a:lnTo>
                  <a:lnTo>
                    <a:pt x="13" y="718"/>
                  </a:lnTo>
                  <a:lnTo>
                    <a:pt x="22" y="739"/>
                  </a:lnTo>
                  <a:lnTo>
                    <a:pt x="28" y="750"/>
                  </a:lnTo>
                  <a:lnTo>
                    <a:pt x="35" y="762"/>
                  </a:lnTo>
                  <a:lnTo>
                    <a:pt x="42" y="772"/>
                  </a:lnTo>
                  <a:lnTo>
                    <a:pt x="50" y="784"/>
                  </a:lnTo>
                  <a:lnTo>
                    <a:pt x="50" y="216"/>
                  </a:lnTo>
                  <a:lnTo>
                    <a:pt x="42" y="204"/>
                  </a:lnTo>
                  <a:lnTo>
                    <a:pt x="35" y="194"/>
                  </a:lnTo>
                  <a:lnTo>
                    <a:pt x="28" y="182"/>
                  </a:lnTo>
                  <a:lnTo>
                    <a:pt x="22" y="172"/>
                  </a:lnTo>
                  <a:lnTo>
                    <a:pt x="13" y="151"/>
                  </a:lnTo>
                  <a:lnTo>
                    <a:pt x="7" y="131"/>
                  </a:lnTo>
                  <a:lnTo>
                    <a:pt x="2" y="111"/>
                  </a:lnTo>
                  <a:lnTo>
                    <a:pt x="0" y="93"/>
                  </a:lnTo>
                  <a:lnTo>
                    <a:pt x="0" y="77"/>
                  </a:lnTo>
                  <a:lnTo>
                    <a:pt x="1" y="62"/>
                  </a:lnTo>
                  <a:lnTo>
                    <a:pt x="3" y="48"/>
                  </a:lnTo>
                  <a:lnTo>
                    <a:pt x="6" y="36"/>
                  </a:lnTo>
                  <a:lnTo>
                    <a:pt x="9" y="26"/>
                  </a:lnTo>
                  <a:lnTo>
                    <a:pt x="13" y="16"/>
                  </a:lnTo>
                  <a:lnTo>
                    <a:pt x="18" y="5"/>
                  </a:lnTo>
                  <a:lnTo>
                    <a:pt x="21" y="0"/>
                  </a:lnTo>
                  <a:lnTo>
                    <a:pt x="21" y="56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1" name="Freeform 62"/>
            <p:cNvSpPr/>
            <p:nvPr/>
          </p:nvSpPr>
          <p:spPr>
            <a:xfrm>
              <a:off x="1641600" y="4520520"/>
              <a:ext cx="179640" cy="72360"/>
            </a:xfrm>
            <a:custGeom>
              <a:avLst/>
              <a:gdLst>
                <a:gd name="textAreaLeft" fmla="*/ 0 w 179640"/>
                <a:gd name="textAreaRight" fmla="*/ 180000 w 179640"/>
                <a:gd name="textAreaTop" fmla="*/ 0 h 72360"/>
                <a:gd name="textAreaBottom" fmla="*/ 72720 h 72360"/>
              </a:gdLst>
              <a:ahLst/>
              <a:rect l="textAreaLeft" t="textAreaTop" r="textAreaRight" b="textAreaBottom"/>
              <a:pathLst>
                <a:path w="406" h="162">
                  <a:moveTo>
                    <a:pt x="372" y="130"/>
                  </a:moveTo>
                  <a:lnTo>
                    <a:pt x="364" y="136"/>
                  </a:lnTo>
                  <a:lnTo>
                    <a:pt x="353" y="141"/>
                  </a:lnTo>
                  <a:lnTo>
                    <a:pt x="340" y="145"/>
                  </a:lnTo>
                  <a:lnTo>
                    <a:pt x="326" y="149"/>
                  </a:lnTo>
                  <a:lnTo>
                    <a:pt x="311" y="152"/>
                  </a:lnTo>
                  <a:lnTo>
                    <a:pt x="295" y="156"/>
                  </a:lnTo>
                  <a:lnTo>
                    <a:pt x="278" y="158"/>
                  </a:lnTo>
                  <a:lnTo>
                    <a:pt x="262" y="160"/>
                  </a:lnTo>
                  <a:lnTo>
                    <a:pt x="246" y="162"/>
                  </a:lnTo>
                  <a:lnTo>
                    <a:pt x="230" y="162"/>
                  </a:lnTo>
                  <a:lnTo>
                    <a:pt x="215" y="162"/>
                  </a:lnTo>
                  <a:lnTo>
                    <a:pt x="202" y="160"/>
                  </a:lnTo>
                  <a:lnTo>
                    <a:pt x="191" y="159"/>
                  </a:lnTo>
                  <a:lnTo>
                    <a:pt x="181" y="156"/>
                  </a:lnTo>
                  <a:lnTo>
                    <a:pt x="178" y="155"/>
                  </a:lnTo>
                  <a:lnTo>
                    <a:pt x="174" y="152"/>
                  </a:lnTo>
                  <a:lnTo>
                    <a:pt x="172" y="150"/>
                  </a:lnTo>
                  <a:lnTo>
                    <a:pt x="171" y="148"/>
                  </a:lnTo>
                  <a:lnTo>
                    <a:pt x="167" y="141"/>
                  </a:lnTo>
                  <a:lnTo>
                    <a:pt x="163" y="135"/>
                  </a:lnTo>
                  <a:lnTo>
                    <a:pt x="158" y="129"/>
                  </a:lnTo>
                  <a:lnTo>
                    <a:pt x="153" y="124"/>
                  </a:lnTo>
                  <a:lnTo>
                    <a:pt x="142" y="115"/>
                  </a:lnTo>
                  <a:lnTo>
                    <a:pt x="130" y="107"/>
                  </a:lnTo>
                  <a:lnTo>
                    <a:pt x="116" y="101"/>
                  </a:lnTo>
                  <a:lnTo>
                    <a:pt x="102" y="96"/>
                  </a:lnTo>
                  <a:lnTo>
                    <a:pt x="87" y="92"/>
                  </a:lnTo>
                  <a:lnTo>
                    <a:pt x="73" y="89"/>
                  </a:lnTo>
                  <a:lnTo>
                    <a:pt x="46" y="85"/>
                  </a:lnTo>
                  <a:lnTo>
                    <a:pt x="22" y="83"/>
                  </a:lnTo>
                  <a:lnTo>
                    <a:pt x="6" y="83"/>
                  </a:lnTo>
                  <a:lnTo>
                    <a:pt x="0" y="85"/>
                  </a:lnTo>
                  <a:lnTo>
                    <a:pt x="79" y="6"/>
                  </a:lnTo>
                  <a:lnTo>
                    <a:pt x="93" y="4"/>
                  </a:lnTo>
                  <a:lnTo>
                    <a:pt x="107" y="4"/>
                  </a:lnTo>
                  <a:lnTo>
                    <a:pt x="121" y="4"/>
                  </a:lnTo>
                  <a:lnTo>
                    <a:pt x="133" y="5"/>
                  </a:lnTo>
                  <a:lnTo>
                    <a:pt x="159" y="9"/>
                  </a:lnTo>
                  <a:lnTo>
                    <a:pt x="185" y="13"/>
                  </a:lnTo>
                  <a:lnTo>
                    <a:pt x="196" y="14"/>
                  </a:lnTo>
                  <a:lnTo>
                    <a:pt x="209" y="17"/>
                  </a:lnTo>
                  <a:lnTo>
                    <a:pt x="221" y="18"/>
                  </a:lnTo>
                  <a:lnTo>
                    <a:pt x="233" y="18"/>
                  </a:lnTo>
                  <a:lnTo>
                    <a:pt x="244" y="17"/>
                  </a:lnTo>
                  <a:lnTo>
                    <a:pt x="256" y="14"/>
                  </a:lnTo>
                  <a:lnTo>
                    <a:pt x="268" y="11"/>
                  </a:lnTo>
                  <a:lnTo>
                    <a:pt x="279" y="6"/>
                  </a:lnTo>
                  <a:lnTo>
                    <a:pt x="285" y="4"/>
                  </a:lnTo>
                  <a:lnTo>
                    <a:pt x="292" y="3"/>
                  </a:lnTo>
                  <a:lnTo>
                    <a:pt x="298" y="2"/>
                  </a:lnTo>
                  <a:lnTo>
                    <a:pt x="305" y="0"/>
                  </a:lnTo>
                  <a:lnTo>
                    <a:pt x="319" y="2"/>
                  </a:lnTo>
                  <a:lnTo>
                    <a:pt x="333" y="5"/>
                  </a:lnTo>
                  <a:lnTo>
                    <a:pt x="347" y="10"/>
                  </a:lnTo>
                  <a:lnTo>
                    <a:pt x="360" y="17"/>
                  </a:lnTo>
                  <a:lnTo>
                    <a:pt x="373" y="25"/>
                  </a:lnTo>
                  <a:lnTo>
                    <a:pt x="383" y="34"/>
                  </a:lnTo>
                  <a:lnTo>
                    <a:pt x="393" y="45"/>
                  </a:lnTo>
                  <a:lnTo>
                    <a:pt x="400" y="57"/>
                  </a:lnTo>
                  <a:lnTo>
                    <a:pt x="402" y="62"/>
                  </a:lnTo>
                  <a:lnTo>
                    <a:pt x="403" y="69"/>
                  </a:lnTo>
                  <a:lnTo>
                    <a:pt x="404" y="75"/>
                  </a:lnTo>
                  <a:lnTo>
                    <a:pt x="406" y="81"/>
                  </a:lnTo>
                  <a:lnTo>
                    <a:pt x="404" y="88"/>
                  </a:lnTo>
                  <a:lnTo>
                    <a:pt x="403" y="94"/>
                  </a:lnTo>
                  <a:lnTo>
                    <a:pt x="401" y="100"/>
                  </a:lnTo>
                  <a:lnTo>
                    <a:pt x="397" y="107"/>
                  </a:lnTo>
                  <a:lnTo>
                    <a:pt x="393" y="113"/>
                  </a:lnTo>
                  <a:lnTo>
                    <a:pt x="387" y="118"/>
                  </a:lnTo>
                  <a:lnTo>
                    <a:pt x="380" y="124"/>
                  </a:lnTo>
                  <a:lnTo>
                    <a:pt x="372" y="130"/>
                  </a:lnTo>
                  <a:close/>
                </a:path>
              </a:pathLst>
            </a:custGeom>
            <a:solidFill>
              <a:srgbClr val="93d5ed"/>
            </a:solidFill>
            <a:ln w="936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542" name="Freeform 63"/>
            <p:cNvSpPr/>
            <p:nvPr/>
          </p:nvSpPr>
          <p:spPr>
            <a:xfrm>
              <a:off x="1514160" y="4193640"/>
              <a:ext cx="54720" cy="231480"/>
            </a:xfrm>
            <a:custGeom>
              <a:avLst/>
              <a:gdLst>
                <a:gd name="textAreaLeft" fmla="*/ 0 w 54720"/>
                <a:gd name="textAreaRight" fmla="*/ 55080 w 54720"/>
                <a:gd name="textAreaTop" fmla="*/ 0 h 231480"/>
                <a:gd name="textAreaBottom" fmla="*/ 231840 h 231480"/>
              </a:gdLst>
              <a:ahLst/>
              <a:rect l="textAreaLeft" t="textAreaTop" r="textAreaRight" b="textAreaBottom"/>
              <a:pathLst>
                <a:path w="126" h="509">
                  <a:moveTo>
                    <a:pt x="0" y="100"/>
                  </a:moveTo>
                  <a:lnTo>
                    <a:pt x="15" y="98"/>
                  </a:lnTo>
                  <a:lnTo>
                    <a:pt x="30" y="96"/>
                  </a:lnTo>
                  <a:lnTo>
                    <a:pt x="43" y="91"/>
                  </a:lnTo>
                  <a:lnTo>
                    <a:pt x="56" y="88"/>
                  </a:lnTo>
                  <a:lnTo>
                    <a:pt x="68" y="82"/>
                  </a:lnTo>
                  <a:lnTo>
                    <a:pt x="78" y="76"/>
                  </a:lnTo>
                  <a:lnTo>
                    <a:pt x="88" y="70"/>
                  </a:lnTo>
                  <a:lnTo>
                    <a:pt x="96" y="63"/>
                  </a:lnTo>
                  <a:lnTo>
                    <a:pt x="103" y="56"/>
                  </a:lnTo>
                  <a:lnTo>
                    <a:pt x="109" y="48"/>
                  </a:lnTo>
                  <a:lnTo>
                    <a:pt x="115" y="41"/>
                  </a:lnTo>
                  <a:lnTo>
                    <a:pt x="119" y="33"/>
                  </a:lnTo>
                  <a:lnTo>
                    <a:pt x="123" y="24"/>
                  </a:lnTo>
                  <a:lnTo>
                    <a:pt x="125" y="16"/>
                  </a:lnTo>
                  <a:lnTo>
                    <a:pt x="126" y="8"/>
                  </a:lnTo>
                  <a:lnTo>
                    <a:pt x="126" y="0"/>
                  </a:lnTo>
                  <a:lnTo>
                    <a:pt x="126" y="409"/>
                  </a:lnTo>
                  <a:lnTo>
                    <a:pt x="126" y="417"/>
                  </a:lnTo>
                  <a:lnTo>
                    <a:pt x="125" y="425"/>
                  </a:lnTo>
                  <a:lnTo>
                    <a:pt x="123" y="433"/>
                  </a:lnTo>
                  <a:lnTo>
                    <a:pt x="119" y="441"/>
                  </a:lnTo>
                  <a:lnTo>
                    <a:pt x="115" y="450"/>
                  </a:lnTo>
                  <a:lnTo>
                    <a:pt x="109" y="457"/>
                  </a:lnTo>
                  <a:lnTo>
                    <a:pt x="103" y="465"/>
                  </a:lnTo>
                  <a:lnTo>
                    <a:pt x="96" y="472"/>
                  </a:lnTo>
                  <a:lnTo>
                    <a:pt x="88" y="479"/>
                  </a:lnTo>
                  <a:lnTo>
                    <a:pt x="78" y="485"/>
                  </a:lnTo>
                  <a:lnTo>
                    <a:pt x="68" y="490"/>
                  </a:lnTo>
                  <a:lnTo>
                    <a:pt x="56" y="496"/>
                  </a:lnTo>
                  <a:lnTo>
                    <a:pt x="43" y="501"/>
                  </a:lnTo>
                  <a:lnTo>
                    <a:pt x="30" y="505"/>
                  </a:lnTo>
                  <a:lnTo>
                    <a:pt x="15" y="507"/>
                  </a:lnTo>
                  <a:lnTo>
                    <a:pt x="0" y="509"/>
                  </a:lnTo>
                  <a:lnTo>
                    <a:pt x="0" y="10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3" name="Freeform 64"/>
            <p:cNvSpPr/>
            <p:nvPr/>
          </p:nvSpPr>
          <p:spPr>
            <a:xfrm>
              <a:off x="1274400" y="4159800"/>
              <a:ext cx="54720" cy="188280"/>
            </a:xfrm>
            <a:custGeom>
              <a:avLst/>
              <a:gdLst>
                <a:gd name="textAreaLeft" fmla="*/ 0 w 54720"/>
                <a:gd name="textAreaRight" fmla="*/ 55080 w 54720"/>
                <a:gd name="textAreaTop" fmla="*/ 0 h 188280"/>
                <a:gd name="textAreaBottom" fmla="*/ 188640 h 188280"/>
              </a:gdLst>
              <a:ahLst/>
              <a:rect l="textAreaLeft" t="textAreaTop" r="textAreaRight" b="textAreaBottom"/>
              <a:pathLst>
                <a:path w="122" h="415">
                  <a:moveTo>
                    <a:pt x="0" y="415"/>
                  </a:moveTo>
                  <a:lnTo>
                    <a:pt x="40" y="411"/>
                  </a:lnTo>
                  <a:lnTo>
                    <a:pt x="72" y="411"/>
                  </a:lnTo>
                  <a:lnTo>
                    <a:pt x="99" y="412"/>
                  </a:lnTo>
                  <a:lnTo>
                    <a:pt x="122" y="415"/>
                  </a:lnTo>
                  <a:lnTo>
                    <a:pt x="122" y="5"/>
                  </a:lnTo>
                  <a:lnTo>
                    <a:pt x="111" y="4"/>
                  </a:lnTo>
                  <a:lnTo>
                    <a:pt x="99" y="1"/>
                  </a:lnTo>
                  <a:lnTo>
                    <a:pt x="86" y="0"/>
                  </a:lnTo>
                  <a:lnTo>
                    <a:pt x="72" y="0"/>
                  </a:lnTo>
                  <a:lnTo>
                    <a:pt x="57" y="0"/>
                  </a:lnTo>
                  <a:lnTo>
                    <a:pt x="40" y="1"/>
                  </a:lnTo>
                  <a:lnTo>
                    <a:pt x="21" y="2"/>
                  </a:lnTo>
                  <a:lnTo>
                    <a:pt x="0" y="5"/>
                  </a:lnTo>
                  <a:lnTo>
                    <a:pt x="0" y="41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4" name="Freeform 65"/>
            <p:cNvSpPr/>
            <p:nvPr/>
          </p:nvSpPr>
          <p:spPr>
            <a:xfrm>
              <a:off x="1166760" y="4148280"/>
              <a:ext cx="48240" cy="256320"/>
            </a:xfrm>
            <a:custGeom>
              <a:avLst/>
              <a:gdLst>
                <a:gd name="textAreaLeft" fmla="*/ 0 w 48240"/>
                <a:gd name="textAreaRight" fmla="*/ 48600 w 48240"/>
                <a:gd name="textAreaTop" fmla="*/ 0 h 256320"/>
                <a:gd name="textAreaBottom" fmla="*/ 256680 h 256320"/>
              </a:gdLst>
              <a:ahLst/>
              <a:rect l="textAreaLeft" t="textAreaTop" r="textAreaRight" b="textAreaBottom"/>
              <a:pathLst>
                <a:path w="110" h="566">
                  <a:moveTo>
                    <a:pt x="0" y="566"/>
                  </a:moveTo>
                  <a:lnTo>
                    <a:pt x="110" y="409"/>
                  </a:lnTo>
                  <a:lnTo>
                    <a:pt x="110" y="0"/>
                  </a:lnTo>
                  <a:lnTo>
                    <a:pt x="0" y="156"/>
                  </a:lnTo>
                  <a:lnTo>
                    <a:pt x="0" y="56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5" name="Freeform 66"/>
            <p:cNvSpPr/>
            <p:nvPr/>
          </p:nvSpPr>
          <p:spPr>
            <a:xfrm>
              <a:off x="1641600" y="4302720"/>
              <a:ext cx="76680" cy="212760"/>
            </a:xfrm>
            <a:custGeom>
              <a:avLst/>
              <a:gdLst>
                <a:gd name="textAreaLeft" fmla="*/ 0 w 76680"/>
                <a:gd name="textAreaRight" fmla="*/ 77040 w 76680"/>
                <a:gd name="textAreaTop" fmla="*/ 0 h 212760"/>
                <a:gd name="textAreaBottom" fmla="*/ 213120 h 212760"/>
              </a:gdLst>
              <a:ahLst/>
              <a:rect l="textAreaLeft" t="textAreaTop" r="textAreaRight" b="textAreaBottom"/>
              <a:pathLst>
                <a:path w="171" h="473">
                  <a:moveTo>
                    <a:pt x="0" y="409"/>
                  </a:moveTo>
                  <a:lnTo>
                    <a:pt x="6" y="409"/>
                  </a:lnTo>
                  <a:lnTo>
                    <a:pt x="22" y="409"/>
                  </a:lnTo>
                  <a:lnTo>
                    <a:pt x="46" y="410"/>
                  </a:lnTo>
                  <a:lnTo>
                    <a:pt x="73" y="414"/>
                  </a:lnTo>
                  <a:lnTo>
                    <a:pt x="87" y="417"/>
                  </a:lnTo>
                  <a:lnTo>
                    <a:pt x="102" y="421"/>
                  </a:lnTo>
                  <a:lnTo>
                    <a:pt x="116" y="427"/>
                  </a:lnTo>
                  <a:lnTo>
                    <a:pt x="130" y="432"/>
                  </a:lnTo>
                  <a:lnTo>
                    <a:pt x="142" y="441"/>
                  </a:lnTo>
                  <a:lnTo>
                    <a:pt x="153" y="450"/>
                  </a:lnTo>
                  <a:lnTo>
                    <a:pt x="158" y="455"/>
                  </a:lnTo>
                  <a:lnTo>
                    <a:pt x="163" y="460"/>
                  </a:lnTo>
                  <a:lnTo>
                    <a:pt x="167" y="466"/>
                  </a:lnTo>
                  <a:lnTo>
                    <a:pt x="171" y="473"/>
                  </a:lnTo>
                  <a:lnTo>
                    <a:pt x="171" y="64"/>
                  </a:lnTo>
                  <a:lnTo>
                    <a:pt x="167" y="57"/>
                  </a:lnTo>
                  <a:lnTo>
                    <a:pt x="163" y="52"/>
                  </a:lnTo>
                  <a:lnTo>
                    <a:pt x="158" y="46"/>
                  </a:lnTo>
                  <a:lnTo>
                    <a:pt x="153" y="41"/>
                  </a:lnTo>
                  <a:lnTo>
                    <a:pt x="142" y="32"/>
                  </a:lnTo>
                  <a:lnTo>
                    <a:pt x="130" y="24"/>
                  </a:lnTo>
                  <a:lnTo>
                    <a:pt x="116" y="18"/>
                  </a:lnTo>
                  <a:lnTo>
                    <a:pt x="102" y="12"/>
                  </a:lnTo>
                  <a:lnTo>
                    <a:pt x="87" y="8"/>
                  </a:lnTo>
                  <a:lnTo>
                    <a:pt x="73" y="5"/>
                  </a:lnTo>
                  <a:lnTo>
                    <a:pt x="46" y="1"/>
                  </a:lnTo>
                  <a:lnTo>
                    <a:pt x="22" y="0"/>
                  </a:lnTo>
                  <a:lnTo>
                    <a:pt x="6" y="0"/>
                  </a:lnTo>
                  <a:lnTo>
                    <a:pt x="0" y="0"/>
                  </a:lnTo>
                  <a:lnTo>
                    <a:pt x="0" y="4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6" name="Freeform 67"/>
            <p:cNvSpPr/>
            <p:nvPr/>
          </p:nvSpPr>
          <p:spPr>
            <a:xfrm>
              <a:off x="1456920" y="4225680"/>
              <a:ext cx="57240" cy="201600"/>
            </a:xfrm>
            <a:custGeom>
              <a:avLst/>
              <a:gdLst>
                <a:gd name="textAreaLeft" fmla="*/ 0 w 57240"/>
                <a:gd name="textAreaRight" fmla="*/ 57600 w 57240"/>
                <a:gd name="textAreaTop" fmla="*/ 0 h 201600"/>
                <a:gd name="textAreaBottom" fmla="*/ 201960 h 201600"/>
              </a:gdLst>
              <a:ahLst/>
              <a:rect l="textAreaLeft" t="textAreaTop" r="textAreaRight" b="textAreaBottom"/>
              <a:pathLst>
                <a:path w="131" h="441">
                  <a:moveTo>
                    <a:pt x="1" y="0"/>
                  </a:moveTo>
                  <a:lnTo>
                    <a:pt x="0" y="5"/>
                  </a:lnTo>
                  <a:lnTo>
                    <a:pt x="1" y="10"/>
                  </a:lnTo>
                  <a:lnTo>
                    <a:pt x="3" y="13"/>
                  </a:lnTo>
                  <a:lnTo>
                    <a:pt x="5" y="18"/>
                  </a:lnTo>
                  <a:lnTo>
                    <a:pt x="8" y="20"/>
                  </a:lnTo>
                  <a:lnTo>
                    <a:pt x="14" y="24"/>
                  </a:lnTo>
                  <a:lnTo>
                    <a:pt x="20" y="26"/>
                  </a:lnTo>
                  <a:lnTo>
                    <a:pt x="27" y="28"/>
                  </a:lnTo>
                  <a:lnTo>
                    <a:pt x="46" y="31"/>
                  </a:lnTo>
                  <a:lnTo>
                    <a:pt x="68" y="32"/>
                  </a:lnTo>
                  <a:lnTo>
                    <a:pt x="97" y="32"/>
                  </a:lnTo>
                  <a:lnTo>
                    <a:pt x="131" y="29"/>
                  </a:lnTo>
                  <a:lnTo>
                    <a:pt x="131" y="438"/>
                  </a:lnTo>
                  <a:lnTo>
                    <a:pt x="97" y="441"/>
                  </a:lnTo>
                  <a:lnTo>
                    <a:pt x="68" y="441"/>
                  </a:lnTo>
                  <a:lnTo>
                    <a:pt x="46" y="439"/>
                  </a:lnTo>
                  <a:lnTo>
                    <a:pt x="27" y="437"/>
                  </a:lnTo>
                  <a:lnTo>
                    <a:pt x="20" y="435"/>
                  </a:lnTo>
                  <a:lnTo>
                    <a:pt x="14" y="432"/>
                  </a:lnTo>
                  <a:lnTo>
                    <a:pt x="8" y="429"/>
                  </a:lnTo>
                  <a:lnTo>
                    <a:pt x="5" y="427"/>
                  </a:lnTo>
                  <a:lnTo>
                    <a:pt x="3" y="423"/>
                  </a:lnTo>
                  <a:lnTo>
                    <a:pt x="1" y="418"/>
                  </a:lnTo>
                  <a:lnTo>
                    <a:pt x="0" y="414"/>
                  </a:lnTo>
                  <a:lnTo>
                    <a:pt x="1" y="409"/>
                  </a:lnTo>
                  <a:lnTo>
                    <a:pt x="1"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7" name="Freeform 68"/>
            <p:cNvSpPr/>
            <p:nvPr/>
          </p:nvSpPr>
          <p:spPr>
            <a:xfrm>
              <a:off x="1546920" y="4246200"/>
              <a:ext cx="122760" cy="249480"/>
            </a:xfrm>
            <a:custGeom>
              <a:avLst/>
              <a:gdLst>
                <a:gd name="textAreaLeft" fmla="*/ 0 w 122760"/>
                <a:gd name="textAreaRight" fmla="*/ 123120 w 122760"/>
                <a:gd name="textAreaTop" fmla="*/ 0 h 249480"/>
                <a:gd name="textAreaBottom" fmla="*/ 249840 h 249480"/>
              </a:gdLst>
              <a:ahLst/>
              <a:rect l="textAreaLeft" t="textAreaTop" r="textAreaRight" b="textAreaBottom"/>
              <a:pathLst>
                <a:path w="282" h="550">
                  <a:moveTo>
                    <a:pt x="282" y="0"/>
                  </a:moveTo>
                  <a:lnTo>
                    <a:pt x="281" y="7"/>
                  </a:lnTo>
                  <a:lnTo>
                    <a:pt x="280" y="15"/>
                  </a:lnTo>
                  <a:lnTo>
                    <a:pt x="277" y="22"/>
                  </a:lnTo>
                  <a:lnTo>
                    <a:pt x="273" y="30"/>
                  </a:lnTo>
                  <a:lnTo>
                    <a:pt x="268" y="39"/>
                  </a:lnTo>
                  <a:lnTo>
                    <a:pt x="263" y="46"/>
                  </a:lnTo>
                  <a:lnTo>
                    <a:pt x="257" y="53"/>
                  </a:lnTo>
                  <a:lnTo>
                    <a:pt x="250" y="58"/>
                  </a:lnTo>
                  <a:lnTo>
                    <a:pt x="243" y="64"/>
                  </a:lnTo>
                  <a:lnTo>
                    <a:pt x="237" y="69"/>
                  </a:lnTo>
                  <a:lnTo>
                    <a:pt x="230" y="72"/>
                  </a:lnTo>
                  <a:lnTo>
                    <a:pt x="224" y="75"/>
                  </a:lnTo>
                  <a:lnTo>
                    <a:pt x="218" y="75"/>
                  </a:lnTo>
                  <a:lnTo>
                    <a:pt x="214" y="74"/>
                  </a:lnTo>
                  <a:lnTo>
                    <a:pt x="210" y="71"/>
                  </a:lnTo>
                  <a:lnTo>
                    <a:pt x="207" y="65"/>
                  </a:lnTo>
                  <a:lnTo>
                    <a:pt x="205" y="62"/>
                  </a:lnTo>
                  <a:lnTo>
                    <a:pt x="203" y="60"/>
                  </a:lnTo>
                  <a:lnTo>
                    <a:pt x="202" y="58"/>
                  </a:lnTo>
                  <a:lnTo>
                    <a:pt x="198" y="58"/>
                  </a:lnTo>
                  <a:lnTo>
                    <a:pt x="193" y="60"/>
                  </a:lnTo>
                  <a:lnTo>
                    <a:pt x="186" y="65"/>
                  </a:lnTo>
                  <a:lnTo>
                    <a:pt x="167" y="82"/>
                  </a:lnTo>
                  <a:lnTo>
                    <a:pt x="143" y="103"/>
                  </a:lnTo>
                  <a:lnTo>
                    <a:pt x="132" y="113"/>
                  </a:lnTo>
                  <a:lnTo>
                    <a:pt x="118" y="123"/>
                  </a:lnTo>
                  <a:lnTo>
                    <a:pt x="104" y="131"/>
                  </a:lnTo>
                  <a:lnTo>
                    <a:pt x="89" y="138"/>
                  </a:lnTo>
                  <a:lnTo>
                    <a:pt x="80" y="139"/>
                  </a:lnTo>
                  <a:lnTo>
                    <a:pt x="72" y="140"/>
                  </a:lnTo>
                  <a:lnTo>
                    <a:pt x="65" y="141"/>
                  </a:lnTo>
                  <a:lnTo>
                    <a:pt x="57" y="140"/>
                  </a:lnTo>
                  <a:lnTo>
                    <a:pt x="48" y="139"/>
                  </a:lnTo>
                  <a:lnTo>
                    <a:pt x="40" y="136"/>
                  </a:lnTo>
                  <a:lnTo>
                    <a:pt x="31" y="132"/>
                  </a:lnTo>
                  <a:lnTo>
                    <a:pt x="23" y="126"/>
                  </a:lnTo>
                  <a:lnTo>
                    <a:pt x="17" y="123"/>
                  </a:lnTo>
                  <a:lnTo>
                    <a:pt x="11" y="118"/>
                  </a:lnTo>
                  <a:lnTo>
                    <a:pt x="8" y="113"/>
                  </a:lnTo>
                  <a:lnTo>
                    <a:pt x="4" y="109"/>
                  </a:lnTo>
                  <a:lnTo>
                    <a:pt x="2" y="105"/>
                  </a:lnTo>
                  <a:lnTo>
                    <a:pt x="1" y="100"/>
                  </a:lnTo>
                  <a:lnTo>
                    <a:pt x="0" y="96"/>
                  </a:lnTo>
                  <a:lnTo>
                    <a:pt x="0" y="92"/>
                  </a:lnTo>
                  <a:lnTo>
                    <a:pt x="0" y="501"/>
                  </a:lnTo>
                  <a:lnTo>
                    <a:pt x="0" y="506"/>
                  </a:lnTo>
                  <a:lnTo>
                    <a:pt x="1" y="510"/>
                  </a:lnTo>
                  <a:lnTo>
                    <a:pt x="2" y="515"/>
                  </a:lnTo>
                  <a:lnTo>
                    <a:pt x="4" y="520"/>
                  </a:lnTo>
                  <a:lnTo>
                    <a:pt x="8" y="523"/>
                  </a:lnTo>
                  <a:lnTo>
                    <a:pt x="11" y="528"/>
                  </a:lnTo>
                  <a:lnTo>
                    <a:pt x="17" y="532"/>
                  </a:lnTo>
                  <a:lnTo>
                    <a:pt x="23" y="535"/>
                  </a:lnTo>
                  <a:lnTo>
                    <a:pt x="31" y="541"/>
                  </a:lnTo>
                  <a:lnTo>
                    <a:pt x="40" y="544"/>
                  </a:lnTo>
                  <a:lnTo>
                    <a:pt x="48" y="548"/>
                  </a:lnTo>
                  <a:lnTo>
                    <a:pt x="57" y="549"/>
                  </a:lnTo>
                  <a:lnTo>
                    <a:pt x="65" y="550"/>
                  </a:lnTo>
                  <a:lnTo>
                    <a:pt x="72" y="549"/>
                  </a:lnTo>
                  <a:lnTo>
                    <a:pt x="80" y="548"/>
                  </a:lnTo>
                  <a:lnTo>
                    <a:pt x="89" y="547"/>
                  </a:lnTo>
                  <a:lnTo>
                    <a:pt x="104" y="541"/>
                  </a:lnTo>
                  <a:lnTo>
                    <a:pt x="118" y="532"/>
                  </a:lnTo>
                  <a:lnTo>
                    <a:pt x="132" y="522"/>
                  </a:lnTo>
                  <a:lnTo>
                    <a:pt x="143" y="512"/>
                  </a:lnTo>
                  <a:lnTo>
                    <a:pt x="167" y="491"/>
                  </a:lnTo>
                  <a:lnTo>
                    <a:pt x="186" y="474"/>
                  </a:lnTo>
                  <a:lnTo>
                    <a:pt x="193" y="468"/>
                  </a:lnTo>
                  <a:lnTo>
                    <a:pt x="198" y="467"/>
                  </a:lnTo>
                  <a:lnTo>
                    <a:pt x="202" y="467"/>
                  </a:lnTo>
                  <a:lnTo>
                    <a:pt x="203" y="468"/>
                  </a:lnTo>
                  <a:lnTo>
                    <a:pt x="205" y="471"/>
                  </a:lnTo>
                  <a:lnTo>
                    <a:pt x="207" y="475"/>
                  </a:lnTo>
                  <a:lnTo>
                    <a:pt x="210" y="480"/>
                  </a:lnTo>
                  <a:lnTo>
                    <a:pt x="214" y="484"/>
                  </a:lnTo>
                  <a:lnTo>
                    <a:pt x="218" y="485"/>
                  </a:lnTo>
                  <a:lnTo>
                    <a:pt x="224" y="485"/>
                  </a:lnTo>
                  <a:lnTo>
                    <a:pt x="230" y="482"/>
                  </a:lnTo>
                  <a:lnTo>
                    <a:pt x="237" y="479"/>
                  </a:lnTo>
                  <a:lnTo>
                    <a:pt x="243" y="474"/>
                  </a:lnTo>
                  <a:lnTo>
                    <a:pt x="250" y="468"/>
                  </a:lnTo>
                  <a:lnTo>
                    <a:pt x="257" y="463"/>
                  </a:lnTo>
                  <a:lnTo>
                    <a:pt x="263" y="456"/>
                  </a:lnTo>
                  <a:lnTo>
                    <a:pt x="268" y="447"/>
                  </a:lnTo>
                  <a:lnTo>
                    <a:pt x="273" y="439"/>
                  </a:lnTo>
                  <a:lnTo>
                    <a:pt x="277" y="432"/>
                  </a:lnTo>
                  <a:lnTo>
                    <a:pt x="280" y="424"/>
                  </a:lnTo>
                  <a:lnTo>
                    <a:pt x="281" y="416"/>
                  </a:lnTo>
                  <a:lnTo>
                    <a:pt x="282" y="409"/>
                  </a:lnTo>
                  <a:lnTo>
                    <a:pt x="282"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8" name="Freeform 69"/>
            <p:cNvSpPr/>
            <p:nvPr/>
          </p:nvSpPr>
          <p:spPr>
            <a:xfrm>
              <a:off x="1718280" y="4304880"/>
              <a:ext cx="102960" cy="220320"/>
            </a:xfrm>
            <a:custGeom>
              <a:avLst/>
              <a:gdLst>
                <a:gd name="textAreaLeft" fmla="*/ 0 w 102960"/>
                <a:gd name="textAreaRight" fmla="*/ 103320 w 102960"/>
                <a:gd name="textAreaTop" fmla="*/ 0 h 220320"/>
                <a:gd name="textAreaBottom" fmla="*/ 220680 h 220320"/>
              </a:gdLst>
              <a:ahLst/>
              <a:rect l="textAreaLeft" t="textAreaTop" r="textAreaRight" b="textAreaBottom"/>
              <a:pathLst>
                <a:path w="234" h="489">
                  <a:moveTo>
                    <a:pt x="0" y="475"/>
                  </a:moveTo>
                  <a:lnTo>
                    <a:pt x="2" y="477"/>
                  </a:lnTo>
                  <a:lnTo>
                    <a:pt x="5" y="480"/>
                  </a:lnTo>
                  <a:lnTo>
                    <a:pt x="7" y="482"/>
                  </a:lnTo>
                  <a:lnTo>
                    <a:pt x="12" y="483"/>
                  </a:lnTo>
                  <a:lnTo>
                    <a:pt x="21" y="486"/>
                  </a:lnTo>
                  <a:lnTo>
                    <a:pt x="32" y="488"/>
                  </a:lnTo>
                  <a:lnTo>
                    <a:pt x="45" y="489"/>
                  </a:lnTo>
                  <a:lnTo>
                    <a:pt x="60" y="489"/>
                  </a:lnTo>
                  <a:lnTo>
                    <a:pt x="75" y="489"/>
                  </a:lnTo>
                  <a:lnTo>
                    <a:pt x="90" y="488"/>
                  </a:lnTo>
                  <a:lnTo>
                    <a:pt x="106" y="486"/>
                  </a:lnTo>
                  <a:lnTo>
                    <a:pt x="123" y="483"/>
                  </a:lnTo>
                  <a:lnTo>
                    <a:pt x="139" y="480"/>
                  </a:lnTo>
                  <a:lnTo>
                    <a:pt x="154" y="476"/>
                  </a:lnTo>
                  <a:lnTo>
                    <a:pt x="168" y="472"/>
                  </a:lnTo>
                  <a:lnTo>
                    <a:pt x="181" y="468"/>
                  </a:lnTo>
                  <a:lnTo>
                    <a:pt x="193" y="462"/>
                  </a:lnTo>
                  <a:lnTo>
                    <a:pt x="202" y="458"/>
                  </a:lnTo>
                  <a:lnTo>
                    <a:pt x="210" y="452"/>
                  </a:lnTo>
                  <a:lnTo>
                    <a:pt x="216" y="446"/>
                  </a:lnTo>
                  <a:lnTo>
                    <a:pt x="222" y="440"/>
                  </a:lnTo>
                  <a:lnTo>
                    <a:pt x="227" y="434"/>
                  </a:lnTo>
                  <a:lnTo>
                    <a:pt x="230" y="427"/>
                  </a:lnTo>
                  <a:lnTo>
                    <a:pt x="231" y="421"/>
                  </a:lnTo>
                  <a:lnTo>
                    <a:pt x="234" y="414"/>
                  </a:lnTo>
                  <a:lnTo>
                    <a:pt x="234" y="409"/>
                  </a:lnTo>
                  <a:lnTo>
                    <a:pt x="234" y="0"/>
                  </a:lnTo>
                  <a:lnTo>
                    <a:pt x="234" y="6"/>
                  </a:lnTo>
                  <a:lnTo>
                    <a:pt x="231" y="13"/>
                  </a:lnTo>
                  <a:lnTo>
                    <a:pt x="230" y="18"/>
                  </a:lnTo>
                  <a:lnTo>
                    <a:pt x="227" y="25"/>
                  </a:lnTo>
                  <a:lnTo>
                    <a:pt x="222" y="31"/>
                  </a:lnTo>
                  <a:lnTo>
                    <a:pt x="216" y="37"/>
                  </a:lnTo>
                  <a:lnTo>
                    <a:pt x="210" y="43"/>
                  </a:lnTo>
                  <a:lnTo>
                    <a:pt x="202" y="49"/>
                  </a:lnTo>
                  <a:lnTo>
                    <a:pt x="193" y="53"/>
                  </a:lnTo>
                  <a:lnTo>
                    <a:pt x="181" y="58"/>
                  </a:lnTo>
                  <a:lnTo>
                    <a:pt x="168" y="62"/>
                  </a:lnTo>
                  <a:lnTo>
                    <a:pt x="154" y="66"/>
                  </a:lnTo>
                  <a:lnTo>
                    <a:pt x="139" y="70"/>
                  </a:lnTo>
                  <a:lnTo>
                    <a:pt x="123" y="72"/>
                  </a:lnTo>
                  <a:lnTo>
                    <a:pt x="106" y="76"/>
                  </a:lnTo>
                  <a:lnTo>
                    <a:pt x="90" y="77"/>
                  </a:lnTo>
                  <a:lnTo>
                    <a:pt x="75" y="78"/>
                  </a:lnTo>
                  <a:lnTo>
                    <a:pt x="60" y="79"/>
                  </a:lnTo>
                  <a:lnTo>
                    <a:pt x="45" y="79"/>
                  </a:lnTo>
                  <a:lnTo>
                    <a:pt x="32" y="78"/>
                  </a:lnTo>
                  <a:lnTo>
                    <a:pt x="21" y="76"/>
                  </a:lnTo>
                  <a:lnTo>
                    <a:pt x="12" y="72"/>
                  </a:lnTo>
                  <a:lnTo>
                    <a:pt x="7" y="70"/>
                  </a:lnTo>
                  <a:lnTo>
                    <a:pt x="5" y="69"/>
                  </a:lnTo>
                  <a:lnTo>
                    <a:pt x="2" y="65"/>
                  </a:lnTo>
                  <a:lnTo>
                    <a:pt x="0" y="63"/>
                  </a:lnTo>
                  <a:lnTo>
                    <a:pt x="0" y="47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9" name="Freeform 70"/>
            <p:cNvSpPr/>
            <p:nvPr/>
          </p:nvSpPr>
          <p:spPr>
            <a:xfrm>
              <a:off x="1606320" y="4656960"/>
              <a:ext cx="26280" cy="228960"/>
            </a:xfrm>
            <a:custGeom>
              <a:avLst/>
              <a:gdLst>
                <a:gd name="textAreaLeft" fmla="*/ 0 w 26280"/>
                <a:gd name="textAreaRight" fmla="*/ 26640 w 26280"/>
                <a:gd name="textAreaTop" fmla="*/ 0 h 228960"/>
                <a:gd name="textAreaBottom" fmla="*/ 229320 h 228960"/>
              </a:gdLst>
              <a:ahLst/>
              <a:rect l="textAreaLeft" t="textAreaTop" r="textAreaRight" b="textAreaBottom"/>
              <a:pathLst>
                <a:path w="60" h="507">
                  <a:moveTo>
                    <a:pt x="0" y="0"/>
                  </a:moveTo>
                  <a:lnTo>
                    <a:pt x="1" y="11"/>
                  </a:lnTo>
                  <a:lnTo>
                    <a:pt x="2" y="21"/>
                  </a:lnTo>
                  <a:lnTo>
                    <a:pt x="4" y="31"/>
                  </a:lnTo>
                  <a:lnTo>
                    <a:pt x="7" y="39"/>
                  </a:lnTo>
                  <a:lnTo>
                    <a:pt x="9" y="47"/>
                  </a:lnTo>
                  <a:lnTo>
                    <a:pt x="12" y="55"/>
                  </a:lnTo>
                  <a:lnTo>
                    <a:pt x="16" y="62"/>
                  </a:lnTo>
                  <a:lnTo>
                    <a:pt x="19" y="68"/>
                  </a:lnTo>
                  <a:lnTo>
                    <a:pt x="24" y="74"/>
                  </a:lnTo>
                  <a:lnTo>
                    <a:pt x="28" y="80"/>
                  </a:lnTo>
                  <a:lnTo>
                    <a:pt x="32" y="85"/>
                  </a:lnTo>
                  <a:lnTo>
                    <a:pt x="38" y="88"/>
                  </a:lnTo>
                  <a:lnTo>
                    <a:pt x="49" y="95"/>
                  </a:lnTo>
                  <a:lnTo>
                    <a:pt x="60" y="99"/>
                  </a:lnTo>
                  <a:lnTo>
                    <a:pt x="60" y="507"/>
                  </a:lnTo>
                  <a:lnTo>
                    <a:pt x="55" y="506"/>
                  </a:lnTo>
                  <a:lnTo>
                    <a:pt x="49" y="504"/>
                  </a:lnTo>
                  <a:lnTo>
                    <a:pt x="43" y="502"/>
                  </a:lnTo>
                  <a:lnTo>
                    <a:pt x="38" y="498"/>
                  </a:lnTo>
                  <a:lnTo>
                    <a:pt x="32" y="495"/>
                  </a:lnTo>
                  <a:lnTo>
                    <a:pt x="28" y="490"/>
                  </a:lnTo>
                  <a:lnTo>
                    <a:pt x="24" y="484"/>
                  </a:lnTo>
                  <a:lnTo>
                    <a:pt x="19" y="478"/>
                  </a:lnTo>
                  <a:lnTo>
                    <a:pt x="16" y="472"/>
                  </a:lnTo>
                  <a:lnTo>
                    <a:pt x="12" y="465"/>
                  </a:lnTo>
                  <a:lnTo>
                    <a:pt x="9" y="457"/>
                  </a:lnTo>
                  <a:lnTo>
                    <a:pt x="7" y="449"/>
                  </a:lnTo>
                  <a:lnTo>
                    <a:pt x="2" y="430"/>
                  </a:lnTo>
                  <a:lnTo>
                    <a:pt x="0" y="410"/>
                  </a:lnTo>
                  <a:lnTo>
                    <a:pt x="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0" name="Freeform 71"/>
            <p:cNvSpPr/>
            <p:nvPr/>
          </p:nvSpPr>
          <p:spPr>
            <a:xfrm>
              <a:off x="1559880" y="4316040"/>
              <a:ext cx="101160" cy="220320"/>
            </a:xfrm>
            <a:custGeom>
              <a:avLst/>
              <a:gdLst>
                <a:gd name="textAreaLeft" fmla="*/ 0 w 101160"/>
                <a:gd name="textAreaRight" fmla="*/ 101520 w 101160"/>
                <a:gd name="textAreaTop" fmla="*/ 0 h 220320"/>
                <a:gd name="textAreaBottom" fmla="*/ 220680 h 220320"/>
              </a:gdLst>
              <a:ahLst/>
              <a:rect l="textAreaLeft" t="textAreaTop" r="textAreaRight" b="textAreaBottom"/>
              <a:pathLst>
                <a:path w="234" h="487">
                  <a:moveTo>
                    <a:pt x="230" y="0"/>
                  </a:moveTo>
                  <a:lnTo>
                    <a:pt x="231" y="2"/>
                  </a:lnTo>
                  <a:lnTo>
                    <a:pt x="232" y="4"/>
                  </a:lnTo>
                  <a:lnTo>
                    <a:pt x="234" y="6"/>
                  </a:lnTo>
                  <a:lnTo>
                    <a:pt x="234" y="9"/>
                  </a:lnTo>
                  <a:lnTo>
                    <a:pt x="232" y="14"/>
                  </a:lnTo>
                  <a:lnTo>
                    <a:pt x="228" y="20"/>
                  </a:lnTo>
                  <a:lnTo>
                    <a:pt x="222" y="26"/>
                  </a:lnTo>
                  <a:lnTo>
                    <a:pt x="215" y="33"/>
                  </a:lnTo>
                  <a:lnTo>
                    <a:pt x="206" y="39"/>
                  </a:lnTo>
                  <a:lnTo>
                    <a:pt x="194" y="46"/>
                  </a:lnTo>
                  <a:lnTo>
                    <a:pt x="181" y="52"/>
                  </a:lnTo>
                  <a:lnTo>
                    <a:pt x="167" y="58"/>
                  </a:lnTo>
                  <a:lnTo>
                    <a:pt x="152" y="63"/>
                  </a:lnTo>
                  <a:lnTo>
                    <a:pt x="136" y="68"/>
                  </a:lnTo>
                  <a:lnTo>
                    <a:pt x="119" y="73"/>
                  </a:lnTo>
                  <a:lnTo>
                    <a:pt x="100" y="75"/>
                  </a:lnTo>
                  <a:lnTo>
                    <a:pt x="82" y="77"/>
                  </a:lnTo>
                  <a:lnTo>
                    <a:pt x="63" y="79"/>
                  </a:lnTo>
                  <a:lnTo>
                    <a:pt x="36" y="77"/>
                  </a:lnTo>
                  <a:lnTo>
                    <a:pt x="19" y="74"/>
                  </a:lnTo>
                  <a:lnTo>
                    <a:pt x="12" y="73"/>
                  </a:lnTo>
                  <a:lnTo>
                    <a:pt x="6" y="70"/>
                  </a:lnTo>
                  <a:lnTo>
                    <a:pt x="2" y="68"/>
                  </a:lnTo>
                  <a:lnTo>
                    <a:pt x="0" y="67"/>
                  </a:lnTo>
                  <a:lnTo>
                    <a:pt x="0" y="476"/>
                  </a:lnTo>
                  <a:lnTo>
                    <a:pt x="2" y="478"/>
                  </a:lnTo>
                  <a:lnTo>
                    <a:pt x="6" y="480"/>
                  </a:lnTo>
                  <a:lnTo>
                    <a:pt x="12" y="483"/>
                  </a:lnTo>
                  <a:lnTo>
                    <a:pt x="19" y="484"/>
                  </a:lnTo>
                  <a:lnTo>
                    <a:pt x="36" y="486"/>
                  </a:lnTo>
                  <a:lnTo>
                    <a:pt x="63" y="487"/>
                  </a:lnTo>
                  <a:lnTo>
                    <a:pt x="82" y="486"/>
                  </a:lnTo>
                  <a:lnTo>
                    <a:pt x="100" y="484"/>
                  </a:lnTo>
                  <a:lnTo>
                    <a:pt x="119" y="482"/>
                  </a:lnTo>
                  <a:lnTo>
                    <a:pt x="136" y="477"/>
                  </a:lnTo>
                  <a:lnTo>
                    <a:pt x="152" y="472"/>
                  </a:lnTo>
                  <a:lnTo>
                    <a:pt x="167" y="466"/>
                  </a:lnTo>
                  <a:lnTo>
                    <a:pt x="181" y="461"/>
                  </a:lnTo>
                  <a:lnTo>
                    <a:pt x="194" y="455"/>
                  </a:lnTo>
                  <a:lnTo>
                    <a:pt x="206" y="448"/>
                  </a:lnTo>
                  <a:lnTo>
                    <a:pt x="215" y="442"/>
                  </a:lnTo>
                  <a:lnTo>
                    <a:pt x="222" y="435"/>
                  </a:lnTo>
                  <a:lnTo>
                    <a:pt x="228" y="429"/>
                  </a:lnTo>
                  <a:lnTo>
                    <a:pt x="232" y="423"/>
                  </a:lnTo>
                  <a:lnTo>
                    <a:pt x="234" y="417"/>
                  </a:lnTo>
                  <a:lnTo>
                    <a:pt x="234" y="415"/>
                  </a:lnTo>
                  <a:lnTo>
                    <a:pt x="232" y="413"/>
                  </a:lnTo>
                  <a:lnTo>
                    <a:pt x="231" y="412"/>
                  </a:lnTo>
                  <a:lnTo>
                    <a:pt x="230" y="409"/>
                  </a:lnTo>
                  <a:lnTo>
                    <a:pt x="23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1" name="Freeform 72"/>
            <p:cNvSpPr/>
            <p:nvPr/>
          </p:nvSpPr>
          <p:spPr>
            <a:xfrm>
              <a:off x="1824120" y="4488480"/>
              <a:ext cx="72000" cy="286200"/>
            </a:xfrm>
            <a:custGeom>
              <a:avLst/>
              <a:gdLst>
                <a:gd name="textAreaLeft" fmla="*/ 0 w 72000"/>
                <a:gd name="textAreaRight" fmla="*/ 72360 w 72000"/>
                <a:gd name="textAreaTop" fmla="*/ 0 h 286200"/>
                <a:gd name="textAreaBottom" fmla="*/ 286200 h 286200"/>
              </a:gdLst>
              <a:ahLst/>
              <a:rect l="textAreaLeft" t="textAreaTop" r="textAreaRight" b="textAreaBottom"/>
              <a:pathLst>
                <a:path w="167" h="631">
                  <a:moveTo>
                    <a:pt x="0" y="222"/>
                  </a:moveTo>
                  <a:lnTo>
                    <a:pt x="16" y="214"/>
                  </a:lnTo>
                  <a:lnTo>
                    <a:pt x="31" y="204"/>
                  </a:lnTo>
                  <a:lnTo>
                    <a:pt x="46" y="193"/>
                  </a:lnTo>
                  <a:lnTo>
                    <a:pt x="62" y="180"/>
                  </a:lnTo>
                  <a:lnTo>
                    <a:pt x="76" y="166"/>
                  </a:lnTo>
                  <a:lnTo>
                    <a:pt x="90" y="151"/>
                  </a:lnTo>
                  <a:lnTo>
                    <a:pt x="102" y="136"/>
                  </a:lnTo>
                  <a:lnTo>
                    <a:pt x="114" y="119"/>
                  </a:lnTo>
                  <a:lnTo>
                    <a:pt x="126" y="103"/>
                  </a:lnTo>
                  <a:lnTo>
                    <a:pt x="135" y="86"/>
                  </a:lnTo>
                  <a:lnTo>
                    <a:pt x="144" y="70"/>
                  </a:lnTo>
                  <a:lnTo>
                    <a:pt x="151" y="54"/>
                  </a:lnTo>
                  <a:lnTo>
                    <a:pt x="157" y="39"/>
                  </a:lnTo>
                  <a:lnTo>
                    <a:pt x="162" y="25"/>
                  </a:lnTo>
                  <a:lnTo>
                    <a:pt x="165" y="12"/>
                  </a:lnTo>
                  <a:lnTo>
                    <a:pt x="167" y="0"/>
                  </a:lnTo>
                  <a:lnTo>
                    <a:pt x="167" y="404"/>
                  </a:lnTo>
                  <a:lnTo>
                    <a:pt x="167" y="415"/>
                  </a:lnTo>
                  <a:lnTo>
                    <a:pt x="164" y="428"/>
                  </a:lnTo>
                  <a:lnTo>
                    <a:pt x="160" y="442"/>
                  </a:lnTo>
                  <a:lnTo>
                    <a:pt x="155" y="457"/>
                  </a:lnTo>
                  <a:lnTo>
                    <a:pt x="148" y="473"/>
                  </a:lnTo>
                  <a:lnTo>
                    <a:pt x="140" y="489"/>
                  </a:lnTo>
                  <a:lnTo>
                    <a:pt x="129" y="507"/>
                  </a:lnTo>
                  <a:lnTo>
                    <a:pt x="119" y="524"/>
                  </a:lnTo>
                  <a:lnTo>
                    <a:pt x="107" y="541"/>
                  </a:lnTo>
                  <a:lnTo>
                    <a:pt x="93" y="557"/>
                  </a:lnTo>
                  <a:lnTo>
                    <a:pt x="80" y="572"/>
                  </a:lnTo>
                  <a:lnTo>
                    <a:pt x="65" y="588"/>
                  </a:lnTo>
                  <a:lnTo>
                    <a:pt x="50" y="602"/>
                  </a:lnTo>
                  <a:lnTo>
                    <a:pt x="33" y="613"/>
                  </a:lnTo>
                  <a:lnTo>
                    <a:pt x="17" y="623"/>
                  </a:lnTo>
                  <a:lnTo>
                    <a:pt x="0" y="631"/>
                  </a:lnTo>
                  <a:lnTo>
                    <a:pt x="0" y="22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2" name="Freeform 73"/>
            <p:cNvSpPr/>
            <p:nvPr/>
          </p:nvSpPr>
          <p:spPr>
            <a:xfrm>
              <a:off x="1634760" y="4629600"/>
              <a:ext cx="74520" cy="254160"/>
            </a:xfrm>
            <a:custGeom>
              <a:avLst/>
              <a:gdLst>
                <a:gd name="textAreaLeft" fmla="*/ 0 w 74520"/>
                <a:gd name="textAreaRight" fmla="*/ 74880 w 74520"/>
                <a:gd name="textAreaTop" fmla="*/ 0 h 254160"/>
                <a:gd name="textAreaBottom" fmla="*/ 254520 h 254160"/>
              </a:gdLst>
              <a:ahLst/>
              <a:rect l="textAreaLeft" t="textAreaTop" r="textAreaRight" b="textAreaBottom"/>
              <a:pathLst>
                <a:path w="167" h="559">
                  <a:moveTo>
                    <a:pt x="0" y="146"/>
                  </a:moveTo>
                  <a:lnTo>
                    <a:pt x="12" y="147"/>
                  </a:lnTo>
                  <a:lnTo>
                    <a:pt x="23" y="146"/>
                  </a:lnTo>
                  <a:lnTo>
                    <a:pt x="36" y="144"/>
                  </a:lnTo>
                  <a:lnTo>
                    <a:pt x="48" y="138"/>
                  </a:lnTo>
                  <a:lnTo>
                    <a:pt x="59" y="131"/>
                  </a:lnTo>
                  <a:lnTo>
                    <a:pt x="71" y="120"/>
                  </a:lnTo>
                  <a:lnTo>
                    <a:pt x="76" y="114"/>
                  </a:lnTo>
                  <a:lnTo>
                    <a:pt x="80" y="109"/>
                  </a:lnTo>
                  <a:lnTo>
                    <a:pt x="85" y="102"/>
                  </a:lnTo>
                  <a:lnTo>
                    <a:pt x="89" y="95"/>
                  </a:lnTo>
                  <a:lnTo>
                    <a:pt x="97" y="79"/>
                  </a:lnTo>
                  <a:lnTo>
                    <a:pt x="106" y="65"/>
                  </a:lnTo>
                  <a:lnTo>
                    <a:pt x="116" y="51"/>
                  </a:lnTo>
                  <a:lnTo>
                    <a:pt x="125" y="40"/>
                  </a:lnTo>
                  <a:lnTo>
                    <a:pt x="135" y="28"/>
                  </a:lnTo>
                  <a:lnTo>
                    <a:pt x="145" y="19"/>
                  </a:lnTo>
                  <a:lnTo>
                    <a:pt x="155" y="8"/>
                  </a:lnTo>
                  <a:lnTo>
                    <a:pt x="167" y="0"/>
                  </a:lnTo>
                  <a:lnTo>
                    <a:pt x="167" y="411"/>
                  </a:lnTo>
                  <a:lnTo>
                    <a:pt x="155" y="420"/>
                  </a:lnTo>
                  <a:lnTo>
                    <a:pt x="145" y="430"/>
                  </a:lnTo>
                  <a:lnTo>
                    <a:pt x="135" y="440"/>
                  </a:lnTo>
                  <a:lnTo>
                    <a:pt x="125" y="452"/>
                  </a:lnTo>
                  <a:lnTo>
                    <a:pt x="116" y="464"/>
                  </a:lnTo>
                  <a:lnTo>
                    <a:pt x="106" y="476"/>
                  </a:lnTo>
                  <a:lnTo>
                    <a:pt x="97" y="490"/>
                  </a:lnTo>
                  <a:lnTo>
                    <a:pt x="89" y="507"/>
                  </a:lnTo>
                  <a:lnTo>
                    <a:pt x="85" y="514"/>
                  </a:lnTo>
                  <a:lnTo>
                    <a:pt x="80" y="521"/>
                  </a:lnTo>
                  <a:lnTo>
                    <a:pt x="76" y="527"/>
                  </a:lnTo>
                  <a:lnTo>
                    <a:pt x="71" y="533"/>
                  </a:lnTo>
                  <a:lnTo>
                    <a:pt x="59" y="542"/>
                  </a:lnTo>
                  <a:lnTo>
                    <a:pt x="48" y="550"/>
                  </a:lnTo>
                  <a:lnTo>
                    <a:pt x="36" y="555"/>
                  </a:lnTo>
                  <a:lnTo>
                    <a:pt x="23" y="558"/>
                  </a:lnTo>
                  <a:lnTo>
                    <a:pt x="12" y="559"/>
                  </a:lnTo>
                  <a:lnTo>
                    <a:pt x="0" y="558"/>
                  </a:lnTo>
                  <a:lnTo>
                    <a:pt x="0" y="14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3" name="Freeform 74"/>
            <p:cNvSpPr/>
            <p:nvPr/>
          </p:nvSpPr>
          <p:spPr>
            <a:xfrm>
              <a:off x="1713960" y="4584240"/>
              <a:ext cx="116280" cy="226800"/>
            </a:xfrm>
            <a:custGeom>
              <a:avLst/>
              <a:gdLst>
                <a:gd name="textAreaLeft" fmla="*/ 0 w 116280"/>
                <a:gd name="textAreaRight" fmla="*/ 116640 w 116280"/>
                <a:gd name="textAreaTop" fmla="*/ 0 h 226800"/>
                <a:gd name="textAreaBottom" fmla="*/ 227160 h 226800"/>
              </a:gdLst>
              <a:ahLst/>
              <a:rect l="textAreaLeft" t="textAreaTop" r="textAreaRight" b="textAreaBottom"/>
              <a:pathLst>
                <a:path w="262" h="501">
                  <a:moveTo>
                    <a:pt x="0" y="90"/>
                  </a:moveTo>
                  <a:lnTo>
                    <a:pt x="15" y="79"/>
                  </a:lnTo>
                  <a:lnTo>
                    <a:pt x="31" y="69"/>
                  </a:lnTo>
                  <a:lnTo>
                    <a:pt x="48" y="61"/>
                  </a:lnTo>
                  <a:lnTo>
                    <a:pt x="64" y="54"/>
                  </a:lnTo>
                  <a:lnTo>
                    <a:pt x="82" y="48"/>
                  </a:lnTo>
                  <a:lnTo>
                    <a:pt x="98" y="43"/>
                  </a:lnTo>
                  <a:lnTo>
                    <a:pt x="114" y="39"/>
                  </a:lnTo>
                  <a:lnTo>
                    <a:pt x="132" y="34"/>
                  </a:lnTo>
                  <a:lnTo>
                    <a:pt x="166" y="27"/>
                  </a:lnTo>
                  <a:lnTo>
                    <a:pt x="199" y="20"/>
                  </a:lnTo>
                  <a:lnTo>
                    <a:pt x="215" y="17"/>
                  </a:lnTo>
                  <a:lnTo>
                    <a:pt x="231" y="12"/>
                  </a:lnTo>
                  <a:lnTo>
                    <a:pt x="246" y="7"/>
                  </a:lnTo>
                  <a:lnTo>
                    <a:pt x="262" y="0"/>
                  </a:lnTo>
                  <a:lnTo>
                    <a:pt x="262" y="410"/>
                  </a:lnTo>
                  <a:lnTo>
                    <a:pt x="242" y="417"/>
                  </a:lnTo>
                  <a:lnTo>
                    <a:pt x="222" y="425"/>
                  </a:lnTo>
                  <a:lnTo>
                    <a:pt x="203" y="431"/>
                  </a:lnTo>
                  <a:lnTo>
                    <a:pt x="185" y="437"/>
                  </a:lnTo>
                  <a:lnTo>
                    <a:pt x="148" y="446"/>
                  </a:lnTo>
                  <a:lnTo>
                    <a:pt x="113" y="456"/>
                  </a:lnTo>
                  <a:lnTo>
                    <a:pt x="82" y="465"/>
                  </a:lnTo>
                  <a:lnTo>
                    <a:pt x="51" y="475"/>
                  </a:lnTo>
                  <a:lnTo>
                    <a:pt x="37" y="480"/>
                  </a:lnTo>
                  <a:lnTo>
                    <a:pt x="24" y="486"/>
                  </a:lnTo>
                  <a:lnTo>
                    <a:pt x="12" y="493"/>
                  </a:lnTo>
                  <a:lnTo>
                    <a:pt x="0" y="501"/>
                  </a:lnTo>
                  <a:lnTo>
                    <a:pt x="0" y="9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4" name="Freeform 75"/>
            <p:cNvSpPr/>
            <p:nvPr/>
          </p:nvSpPr>
          <p:spPr>
            <a:xfrm>
              <a:off x="1243440" y="4157640"/>
              <a:ext cx="30600" cy="192240"/>
            </a:xfrm>
            <a:custGeom>
              <a:avLst/>
              <a:gdLst>
                <a:gd name="textAreaLeft" fmla="*/ 0 w 30600"/>
                <a:gd name="textAreaRight" fmla="*/ 30960 w 30600"/>
                <a:gd name="textAreaTop" fmla="*/ 0 h 192240"/>
                <a:gd name="textAreaBottom" fmla="*/ 192600 h 192240"/>
              </a:gdLst>
              <a:ahLst/>
              <a:rect l="textAreaLeft" t="textAreaTop" r="textAreaRight" b="textAreaBottom"/>
              <a:pathLst>
                <a:path w="71" h="423">
                  <a:moveTo>
                    <a:pt x="0" y="409"/>
                  </a:moveTo>
                  <a:lnTo>
                    <a:pt x="1" y="413"/>
                  </a:lnTo>
                  <a:lnTo>
                    <a:pt x="6" y="416"/>
                  </a:lnTo>
                  <a:lnTo>
                    <a:pt x="11" y="418"/>
                  </a:lnTo>
                  <a:lnTo>
                    <a:pt x="20" y="421"/>
                  </a:lnTo>
                  <a:lnTo>
                    <a:pt x="29" y="422"/>
                  </a:lnTo>
                  <a:lnTo>
                    <a:pt x="41" y="423"/>
                  </a:lnTo>
                  <a:lnTo>
                    <a:pt x="55" y="422"/>
                  </a:lnTo>
                  <a:lnTo>
                    <a:pt x="71" y="421"/>
                  </a:lnTo>
                  <a:lnTo>
                    <a:pt x="71" y="11"/>
                  </a:lnTo>
                  <a:lnTo>
                    <a:pt x="55" y="13"/>
                  </a:lnTo>
                  <a:lnTo>
                    <a:pt x="41" y="13"/>
                  </a:lnTo>
                  <a:lnTo>
                    <a:pt x="29" y="13"/>
                  </a:lnTo>
                  <a:lnTo>
                    <a:pt x="20" y="12"/>
                  </a:lnTo>
                  <a:lnTo>
                    <a:pt x="11" y="10"/>
                  </a:lnTo>
                  <a:lnTo>
                    <a:pt x="6" y="7"/>
                  </a:lnTo>
                  <a:lnTo>
                    <a:pt x="1" y="4"/>
                  </a:lnTo>
                  <a:lnTo>
                    <a:pt x="0" y="0"/>
                  </a:lnTo>
                  <a:lnTo>
                    <a:pt x="0" y="4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5" name="Freeform 76"/>
            <p:cNvSpPr/>
            <p:nvPr/>
          </p:nvSpPr>
          <p:spPr>
            <a:xfrm>
              <a:off x="1329120" y="4134240"/>
              <a:ext cx="39600" cy="215640"/>
            </a:xfrm>
            <a:custGeom>
              <a:avLst/>
              <a:gdLst>
                <a:gd name="textAreaLeft" fmla="*/ 0 w 39600"/>
                <a:gd name="textAreaRight" fmla="*/ 39960 w 39600"/>
                <a:gd name="textAreaTop" fmla="*/ 0 h 215640"/>
                <a:gd name="textAreaBottom" fmla="*/ 216000 h 215640"/>
              </a:gdLst>
              <a:ahLst/>
              <a:rect l="textAreaLeft" t="textAreaTop" r="textAreaRight" b="textAreaBottom"/>
              <a:pathLst>
                <a:path w="92" h="473">
                  <a:moveTo>
                    <a:pt x="0" y="470"/>
                  </a:moveTo>
                  <a:lnTo>
                    <a:pt x="21" y="472"/>
                  </a:lnTo>
                  <a:lnTo>
                    <a:pt x="38" y="473"/>
                  </a:lnTo>
                  <a:lnTo>
                    <a:pt x="45" y="473"/>
                  </a:lnTo>
                  <a:lnTo>
                    <a:pt x="52" y="473"/>
                  </a:lnTo>
                  <a:lnTo>
                    <a:pt x="59" y="472"/>
                  </a:lnTo>
                  <a:lnTo>
                    <a:pt x="66" y="470"/>
                  </a:lnTo>
                  <a:lnTo>
                    <a:pt x="70" y="466"/>
                  </a:lnTo>
                  <a:lnTo>
                    <a:pt x="74" y="462"/>
                  </a:lnTo>
                  <a:lnTo>
                    <a:pt x="78" y="456"/>
                  </a:lnTo>
                  <a:lnTo>
                    <a:pt x="81" y="448"/>
                  </a:lnTo>
                  <a:lnTo>
                    <a:pt x="85" y="439"/>
                  </a:lnTo>
                  <a:lnTo>
                    <a:pt x="88" y="430"/>
                  </a:lnTo>
                  <a:lnTo>
                    <a:pt x="89" y="420"/>
                  </a:lnTo>
                  <a:lnTo>
                    <a:pt x="92" y="409"/>
                  </a:lnTo>
                  <a:lnTo>
                    <a:pt x="92" y="0"/>
                  </a:lnTo>
                  <a:lnTo>
                    <a:pt x="89" y="10"/>
                  </a:lnTo>
                  <a:lnTo>
                    <a:pt x="88" y="19"/>
                  </a:lnTo>
                  <a:lnTo>
                    <a:pt x="85" y="29"/>
                  </a:lnTo>
                  <a:lnTo>
                    <a:pt x="81" y="38"/>
                  </a:lnTo>
                  <a:lnTo>
                    <a:pt x="78" y="46"/>
                  </a:lnTo>
                  <a:lnTo>
                    <a:pt x="74" y="52"/>
                  </a:lnTo>
                  <a:lnTo>
                    <a:pt x="70" y="57"/>
                  </a:lnTo>
                  <a:lnTo>
                    <a:pt x="66" y="60"/>
                  </a:lnTo>
                  <a:lnTo>
                    <a:pt x="59" y="63"/>
                  </a:lnTo>
                  <a:lnTo>
                    <a:pt x="52" y="64"/>
                  </a:lnTo>
                  <a:lnTo>
                    <a:pt x="45" y="64"/>
                  </a:lnTo>
                  <a:lnTo>
                    <a:pt x="38" y="64"/>
                  </a:lnTo>
                  <a:lnTo>
                    <a:pt x="21" y="63"/>
                  </a:lnTo>
                  <a:lnTo>
                    <a:pt x="0" y="60"/>
                  </a:lnTo>
                  <a:lnTo>
                    <a:pt x="0" y="47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6" name="Freeform 77"/>
            <p:cNvSpPr/>
            <p:nvPr/>
          </p:nvSpPr>
          <p:spPr>
            <a:xfrm>
              <a:off x="1122840" y="4218840"/>
              <a:ext cx="43560" cy="192240"/>
            </a:xfrm>
            <a:custGeom>
              <a:avLst/>
              <a:gdLst>
                <a:gd name="textAreaLeft" fmla="*/ 0 w 43560"/>
                <a:gd name="textAreaRight" fmla="*/ 43920 w 43560"/>
                <a:gd name="textAreaTop" fmla="*/ 0 h 192240"/>
                <a:gd name="textAreaBottom" fmla="*/ 192600 h 192240"/>
              </a:gdLst>
              <a:ahLst/>
              <a:rect l="textAreaLeft" t="textAreaTop" r="textAreaRight" b="textAreaBottom"/>
              <a:pathLst>
                <a:path w="98" h="426">
                  <a:moveTo>
                    <a:pt x="0" y="410"/>
                  </a:moveTo>
                  <a:lnTo>
                    <a:pt x="1" y="412"/>
                  </a:lnTo>
                  <a:lnTo>
                    <a:pt x="1" y="415"/>
                  </a:lnTo>
                  <a:lnTo>
                    <a:pt x="3" y="418"/>
                  </a:lnTo>
                  <a:lnTo>
                    <a:pt x="5" y="420"/>
                  </a:lnTo>
                  <a:lnTo>
                    <a:pt x="10" y="424"/>
                  </a:lnTo>
                  <a:lnTo>
                    <a:pt x="15" y="425"/>
                  </a:lnTo>
                  <a:lnTo>
                    <a:pt x="24" y="426"/>
                  </a:lnTo>
                  <a:lnTo>
                    <a:pt x="32" y="426"/>
                  </a:lnTo>
                  <a:lnTo>
                    <a:pt x="40" y="425"/>
                  </a:lnTo>
                  <a:lnTo>
                    <a:pt x="49" y="424"/>
                  </a:lnTo>
                  <a:lnTo>
                    <a:pt x="83" y="414"/>
                  </a:lnTo>
                  <a:lnTo>
                    <a:pt x="98" y="410"/>
                  </a:lnTo>
                  <a:lnTo>
                    <a:pt x="98" y="0"/>
                  </a:lnTo>
                  <a:lnTo>
                    <a:pt x="83" y="5"/>
                  </a:lnTo>
                  <a:lnTo>
                    <a:pt x="49" y="14"/>
                  </a:lnTo>
                  <a:lnTo>
                    <a:pt x="40" y="15"/>
                  </a:lnTo>
                  <a:lnTo>
                    <a:pt x="32" y="15"/>
                  </a:lnTo>
                  <a:lnTo>
                    <a:pt x="24" y="16"/>
                  </a:lnTo>
                  <a:lnTo>
                    <a:pt x="15" y="15"/>
                  </a:lnTo>
                  <a:lnTo>
                    <a:pt x="10" y="12"/>
                  </a:lnTo>
                  <a:lnTo>
                    <a:pt x="5" y="10"/>
                  </a:lnTo>
                  <a:lnTo>
                    <a:pt x="3" y="8"/>
                  </a:lnTo>
                  <a:lnTo>
                    <a:pt x="1" y="5"/>
                  </a:lnTo>
                  <a:lnTo>
                    <a:pt x="1" y="3"/>
                  </a:lnTo>
                  <a:lnTo>
                    <a:pt x="0" y="0"/>
                  </a:lnTo>
                  <a:lnTo>
                    <a:pt x="0" y="41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7" name="Freeform 78"/>
            <p:cNvSpPr/>
            <p:nvPr/>
          </p:nvSpPr>
          <p:spPr>
            <a:xfrm>
              <a:off x="1604160" y="4429800"/>
              <a:ext cx="287280" cy="269640"/>
            </a:xfrm>
            <a:custGeom>
              <a:avLst/>
              <a:gdLst>
                <a:gd name="textAreaLeft" fmla="*/ 0 w 287280"/>
                <a:gd name="textAreaRight" fmla="*/ 287640 w 287280"/>
                <a:gd name="textAreaTop" fmla="*/ 0 h 269640"/>
                <a:gd name="textAreaBottom" fmla="*/ 270000 h 269640"/>
              </a:gdLst>
              <a:ahLst/>
              <a:rect l="textAreaLeft" t="textAreaTop" r="textAreaRight" b="textAreaBottom"/>
              <a:pathLst>
                <a:path w="655" h="595">
                  <a:moveTo>
                    <a:pt x="9" y="419"/>
                  </a:moveTo>
                  <a:lnTo>
                    <a:pt x="8" y="401"/>
                  </a:lnTo>
                  <a:lnTo>
                    <a:pt x="9" y="386"/>
                  </a:lnTo>
                  <a:lnTo>
                    <a:pt x="10" y="371"/>
                  </a:lnTo>
                  <a:lnTo>
                    <a:pt x="13" y="358"/>
                  </a:lnTo>
                  <a:lnTo>
                    <a:pt x="17" y="345"/>
                  </a:lnTo>
                  <a:lnTo>
                    <a:pt x="22" y="333"/>
                  </a:lnTo>
                  <a:lnTo>
                    <a:pt x="28" y="322"/>
                  </a:lnTo>
                  <a:lnTo>
                    <a:pt x="34" y="312"/>
                  </a:lnTo>
                  <a:lnTo>
                    <a:pt x="42" y="303"/>
                  </a:lnTo>
                  <a:lnTo>
                    <a:pt x="49" y="294"/>
                  </a:lnTo>
                  <a:lnTo>
                    <a:pt x="58" y="285"/>
                  </a:lnTo>
                  <a:lnTo>
                    <a:pt x="68" y="277"/>
                  </a:lnTo>
                  <a:lnTo>
                    <a:pt x="87" y="263"/>
                  </a:lnTo>
                  <a:lnTo>
                    <a:pt x="107" y="250"/>
                  </a:lnTo>
                  <a:lnTo>
                    <a:pt x="152" y="226"/>
                  </a:lnTo>
                  <a:lnTo>
                    <a:pt x="194" y="199"/>
                  </a:lnTo>
                  <a:lnTo>
                    <a:pt x="204" y="192"/>
                  </a:lnTo>
                  <a:lnTo>
                    <a:pt x="214" y="184"/>
                  </a:lnTo>
                  <a:lnTo>
                    <a:pt x="222" y="176"/>
                  </a:lnTo>
                  <a:lnTo>
                    <a:pt x="230" y="167"/>
                  </a:lnTo>
                  <a:lnTo>
                    <a:pt x="238" y="158"/>
                  </a:lnTo>
                  <a:lnTo>
                    <a:pt x="245" y="148"/>
                  </a:lnTo>
                  <a:lnTo>
                    <a:pt x="251" y="137"/>
                  </a:lnTo>
                  <a:lnTo>
                    <a:pt x="257" y="124"/>
                  </a:lnTo>
                  <a:lnTo>
                    <a:pt x="267" y="97"/>
                  </a:lnTo>
                  <a:lnTo>
                    <a:pt x="277" y="75"/>
                  </a:lnTo>
                  <a:lnTo>
                    <a:pt x="286" y="56"/>
                  </a:lnTo>
                  <a:lnTo>
                    <a:pt x="294" y="41"/>
                  </a:lnTo>
                  <a:lnTo>
                    <a:pt x="302" y="30"/>
                  </a:lnTo>
                  <a:lnTo>
                    <a:pt x="311" y="21"/>
                  </a:lnTo>
                  <a:lnTo>
                    <a:pt x="319" y="14"/>
                  </a:lnTo>
                  <a:lnTo>
                    <a:pt x="329" y="10"/>
                  </a:lnTo>
                  <a:lnTo>
                    <a:pt x="340" y="7"/>
                  </a:lnTo>
                  <a:lnTo>
                    <a:pt x="351" y="5"/>
                  </a:lnTo>
                  <a:lnTo>
                    <a:pt x="365" y="5"/>
                  </a:lnTo>
                  <a:lnTo>
                    <a:pt x="382" y="4"/>
                  </a:lnTo>
                  <a:lnTo>
                    <a:pt x="421" y="4"/>
                  </a:lnTo>
                  <a:lnTo>
                    <a:pt x="473" y="0"/>
                  </a:lnTo>
                  <a:lnTo>
                    <a:pt x="481" y="2"/>
                  </a:lnTo>
                  <a:lnTo>
                    <a:pt x="492" y="5"/>
                  </a:lnTo>
                  <a:lnTo>
                    <a:pt x="501" y="10"/>
                  </a:lnTo>
                  <a:lnTo>
                    <a:pt x="513" y="16"/>
                  </a:lnTo>
                  <a:lnTo>
                    <a:pt x="535" y="31"/>
                  </a:lnTo>
                  <a:lnTo>
                    <a:pt x="557" y="49"/>
                  </a:lnTo>
                  <a:lnTo>
                    <a:pt x="580" y="68"/>
                  </a:lnTo>
                  <a:lnTo>
                    <a:pt x="603" y="86"/>
                  </a:lnTo>
                  <a:lnTo>
                    <a:pt x="613" y="94"/>
                  </a:lnTo>
                  <a:lnTo>
                    <a:pt x="624" y="101"/>
                  </a:lnTo>
                  <a:lnTo>
                    <a:pt x="633" y="107"/>
                  </a:lnTo>
                  <a:lnTo>
                    <a:pt x="642" y="110"/>
                  </a:lnTo>
                  <a:lnTo>
                    <a:pt x="647" y="113"/>
                  </a:lnTo>
                  <a:lnTo>
                    <a:pt x="649" y="115"/>
                  </a:lnTo>
                  <a:lnTo>
                    <a:pt x="652" y="118"/>
                  </a:lnTo>
                  <a:lnTo>
                    <a:pt x="654" y="123"/>
                  </a:lnTo>
                  <a:lnTo>
                    <a:pt x="654" y="129"/>
                  </a:lnTo>
                  <a:lnTo>
                    <a:pt x="655" y="135"/>
                  </a:lnTo>
                  <a:lnTo>
                    <a:pt x="654" y="141"/>
                  </a:lnTo>
                  <a:lnTo>
                    <a:pt x="653" y="149"/>
                  </a:lnTo>
                  <a:lnTo>
                    <a:pt x="649" y="164"/>
                  </a:lnTo>
                  <a:lnTo>
                    <a:pt x="642" y="181"/>
                  </a:lnTo>
                  <a:lnTo>
                    <a:pt x="634" y="201"/>
                  </a:lnTo>
                  <a:lnTo>
                    <a:pt x="624" y="221"/>
                  </a:lnTo>
                  <a:lnTo>
                    <a:pt x="611" y="241"/>
                  </a:lnTo>
                  <a:lnTo>
                    <a:pt x="597" y="261"/>
                  </a:lnTo>
                  <a:lnTo>
                    <a:pt x="580" y="281"/>
                  </a:lnTo>
                  <a:lnTo>
                    <a:pt x="564" y="299"/>
                  </a:lnTo>
                  <a:lnTo>
                    <a:pt x="545" y="317"/>
                  </a:lnTo>
                  <a:lnTo>
                    <a:pt x="527" y="332"/>
                  </a:lnTo>
                  <a:lnTo>
                    <a:pt x="517" y="339"/>
                  </a:lnTo>
                  <a:lnTo>
                    <a:pt x="507" y="345"/>
                  </a:lnTo>
                  <a:lnTo>
                    <a:pt x="497" y="351"/>
                  </a:lnTo>
                  <a:lnTo>
                    <a:pt x="487" y="355"/>
                  </a:lnTo>
                  <a:lnTo>
                    <a:pt x="467" y="362"/>
                  </a:lnTo>
                  <a:lnTo>
                    <a:pt x="446" y="369"/>
                  </a:lnTo>
                  <a:lnTo>
                    <a:pt x="424" y="375"/>
                  </a:lnTo>
                  <a:lnTo>
                    <a:pt x="403" y="380"/>
                  </a:lnTo>
                  <a:lnTo>
                    <a:pt x="379" y="385"/>
                  </a:lnTo>
                  <a:lnTo>
                    <a:pt x="357" y="389"/>
                  </a:lnTo>
                  <a:lnTo>
                    <a:pt x="335" y="395"/>
                  </a:lnTo>
                  <a:lnTo>
                    <a:pt x="313" y="402"/>
                  </a:lnTo>
                  <a:lnTo>
                    <a:pt x="291" y="410"/>
                  </a:lnTo>
                  <a:lnTo>
                    <a:pt x="268" y="421"/>
                  </a:lnTo>
                  <a:lnTo>
                    <a:pt x="257" y="427"/>
                  </a:lnTo>
                  <a:lnTo>
                    <a:pt x="246" y="433"/>
                  </a:lnTo>
                  <a:lnTo>
                    <a:pt x="236" y="440"/>
                  </a:lnTo>
                  <a:lnTo>
                    <a:pt x="225" y="448"/>
                  </a:lnTo>
                  <a:lnTo>
                    <a:pt x="215" y="457"/>
                  </a:lnTo>
                  <a:lnTo>
                    <a:pt x="204" y="466"/>
                  </a:lnTo>
                  <a:lnTo>
                    <a:pt x="195" y="476"/>
                  </a:lnTo>
                  <a:lnTo>
                    <a:pt x="184" y="487"/>
                  </a:lnTo>
                  <a:lnTo>
                    <a:pt x="175" y="499"/>
                  </a:lnTo>
                  <a:lnTo>
                    <a:pt x="166" y="513"/>
                  </a:lnTo>
                  <a:lnTo>
                    <a:pt x="156" y="527"/>
                  </a:lnTo>
                  <a:lnTo>
                    <a:pt x="147" y="542"/>
                  </a:lnTo>
                  <a:lnTo>
                    <a:pt x="142" y="552"/>
                  </a:lnTo>
                  <a:lnTo>
                    <a:pt x="136" y="559"/>
                  </a:lnTo>
                  <a:lnTo>
                    <a:pt x="131" y="567"/>
                  </a:lnTo>
                  <a:lnTo>
                    <a:pt x="125" y="573"/>
                  </a:lnTo>
                  <a:lnTo>
                    <a:pt x="118" y="579"/>
                  </a:lnTo>
                  <a:lnTo>
                    <a:pt x="111" y="583"/>
                  </a:lnTo>
                  <a:lnTo>
                    <a:pt x="104" y="587"/>
                  </a:lnTo>
                  <a:lnTo>
                    <a:pt x="97" y="590"/>
                  </a:lnTo>
                  <a:lnTo>
                    <a:pt x="90" y="593"/>
                  </a:lnTo>
                  <a:lnTo>
                    <a:pt x="83" y="594"/>
                  </a:lnTo>
                  <a:lnTo>
                    <a:pt x="76" y="595"/>
                  </a:lnTo>
                  <a:lnTo>
                    <a:pt x="69" y="595"/>
                  </a:lnTo>
                  <a:lnTo>
                    <a:pt x="62" y="594"/>
                  </a:lnTo>
                  <a:lnTo>
                    <a:pt x="55" y="593"/>
                  </a:lnTo>
                  <a:lnTo>
                    <a:pt x="48" y="589"/>
                  </a:lnTo>
                  <a:lnTo>
                    <a:pt x="41" y="587"/>
                  </a:lnTo>
                  <a:lnTo>
                    <a:pt x="35" y="582"/>
                  </a:lnTo>
                  <a:lnTo>
                    <a:pt x="29" y="577"/>
                  </a:lnTo>
                  <a:lnTo>
                    <a:pt x="23" y="572"/>
                  </a:lnTo>
                  <a:lnTo>
                    <a:pt x="18" y="565"/>
                  </a:lnTo>
                  <a:lnTo>
                    <a:pt x="14" y="558"/>
                  </a:lnTo>
                  <a:lnTo>
                    <a:pt x="10" y="548"/>
                  </a:lnTo>
                  <a:lnTo>
                    <a:pt x="7" y="540"/>
                  </a:lnTo>
                  <a:lnTo>
                    <a:pt x="3" y="530"/>
                  </a:lnTo>
                  <a:lnTo>
                    <a:pt x="1" y="519"/>
                  </a:lnTo>
                  <a:lnTo>
                    <a:pt x="0" y="507"/>
                  </a:lnTo>
                  <a:lnTo>
                    <a:pt x="0" y="494"/>
                  </a:lnTo>
                  <a:lnTo>
                    <a:pt x="0" y="480"/>
                  </a:lnTo>
                  <a:lnTo>
                    <a:pt x="0" y="466"/>
                  </a:lnTo>
                  <a:lnTo>
                    <a:pt x="2" y="451"/>
                  </a:lnTo>
                  <a:lnTo>
                    <a:pt x="4" y="435"/>
                  </a:lnTo>
                  <a:lnTo>
                    <a:pt x="9" y="41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8" name="Freeform 79"/>
            <p:cNvSpPr/>
            <p:nvPr/>
          </p:nvSpPr>
          <p:spPr>
            <a:xfrm>
              <a:off x="1604160" y="4429800"/>
              <a:ext cx="287280" cy="269640"/>
            </a:xfrm>
            <a:custGeom>
              <a:avLst/>
              <a:gdLst>
                <a:gd name="textAreaLeft" fmla="*/ 0 w 287280"/>
                <a:gd name="textAreaRight" fmla="*/ 287640 w 287280"/>
                <a:gd name="textAreaTop" fmla="*/ 0 h 269640"/>
                <a:gd name="textAreaBottom" fmla="*/ 270000 h 269640"/>
              </a:gdLst>
              <a:ahLst/>
              <a:rect l="textAreaLeft" t="textAreaTop" r="textAreaRight" b="textAreaBottom"/>
              <a:pathLst>
                <a:path w="655" h="595">
                  <a:moveTo>
                    <a:pt x="9" y="419"/>
                  </a:moveTo>
                  <a:lnTo>
                    <a:pt x="8" y="401"/>
                  </a:lnTo>
                  <a:lnTo>
                    <a:pt x="9" y="386"/>
                  </a:lnTo>
                  <a:lnTo>
                    <a:pt x="10" y="371"/>
                  </a:lnTo>
                  <a:lnTo>
                    <a:pt x="13" y="358"/>
                  </a:lnTo>
                  <a:lnTo>
                    <a:pt x="17" y="345"/>
                  </a:lnTo>
                  <a:lnTo>
                    <a:pt x="22" y="333"/>
                  </a:lnTo>
                  <a:lnTo>
                    <a:pt x="28" y="322"/>
                  </a:lnTo>
                  <a:lnTo>
                    <a:pt x="34" y="312"/>
                  </a:lnTo>
                  <a:lnTo>
                    <a:pt x="42" y="303"/>
                  </a:lnTo>
                  <a:lnTo>
                    <a:pt x="49" y="294"/>
                  </a:lnTo>
                  <a:lnTo>
                    <a:pt x="58" y="285"/>
                  </a:lnTo>
                  <a:lnTo>
                    <a:pt x="68" y="277"/>
                  </a:lnTo>
                  <a:lnTo>
                    <a:pt x="87" y="263"/>
                  </a:lnTo>
                  <a:lnTo>
                    <a:pt x="107" y="250"/>
                  </a:lnTo>
                  <a:lnTo>
                    <a:pt x="152" y="226"/>
                  </a:lnTo>
                  <a:lnTo>
                    <a:pt x="194" y="199"/>
                  </a:lnTo>
                  <a:lnTo>
                    <a:pt x="204" y="192"/>
                  </a:lnTo>
                  <a:lnTo>
                    <a:pt x="214" y="184"/>
                  </a:lnTo>
                  <a:lnTo>
                    <a:pt x="222" y="176"/>
                  </a:lnTo>
                  <a:lnTo>
                    <a:pt x="230" y="167"/>
                  </a:lnTo>
                  <a:lnTo>
                    <a:pt x="238" y="158"/>
                  </a:lnTo>
                  <a:lnTo>
                    <a:pt x="245" y="148"/>
                  </a:lnTo>
                  <a:lnTo>
                    <a:pt x="251" y="137"/>
                  </a:lnTo>
                  <a:lnTo>
                    <a:pt x="257" y="124"/>
                  </a:lnTo>
                  <a:lnTo>
                    <a:pt x="267" y="97"/>
                  </a:lnTo>
                  <a:lnTo>
                    <a:pt x="277" y="75"/>
                  </a:lnTo>
                  <a:lnTo>
                    <a:pt x="286" y="56"/>
                  </a:lnTo>
                  <a:lnTo>
                    <a:pt x="294" y="41"/>
                  </a:lnTo>
                  <a:lnTo>
                    <a:pt x="302" y="30"/>
                  </a:lnTo>
                  <a:lnTo>
                    <a:pt x="311" y="21"/>
                  </a:lnTo>
                  <a:lnTo>
                    <a:pt x="319" y="14"/>
                  </a:lnTo>
                  <a:lnTo>
                    <a:pt x="329" y="10"/>
                  </a:lnTo>
                  <a:lnTo>
                    <a:pt x="340" y="7"/>
                  </a:lnTo>
                  <a:lnTo>
                    <a:pt x="351" y="5"/>
                  </a:lnTo>
                  <a:lnTo>
                    <a:pt x="365" y="5"/>
                  </a:lnTo>
                  <a:lnTo>
                    <a:pt x="382" y="4"/>
                  </a:lnTo>
                  <a:lnTo>
                    <a:pt x="421" y="4"/>
                  </a:lnTo>
                  <a:lnTo>
                    <a:pt x="473" y="0"/>
                  </a:lnTo>
                  <a:lnTo>
                    <a:pt x="481" y="2"/>
                  </a:lnTo>
                  <a:lnTo>
                    <a:pt x="492" y="5"/>
                  </a:lnTo>
                  <a:lnTo>
                    <a:pt x="501" y="10"/>
                  </a:lnTo>
                  <a:lnTo>
                    <a:pt x="513" y="16"/>
                  </a:lnTo>
                  <a:lnTo>
                    <a:pt x="535" y="31"/>
                  </a:lnTo>
                  <a:lnTo>
                    <a:pt x="557" y="49"/>
                  </a:lnTo>
                  <a:lnTo>
                    <a:pt x="580" y="68"/>
                  </a:lnTo>
                  <a:lnTo>
                    <a:pt x="603" y="86"/>
                  </a:lnTo>
                  <a:lnTo>
                    <a:pt x="613" y="94"/>
                  </a:lnTo>
                  <a:lnTo>
                    <a:pt x="624" y="101"/>
                  </a:lnTo>
                  <a:lnTo>
                    <a:pt x="633" y="107"/>
                  </a:lnTo>
                  <a:lnTo>
                    <a:pt x="642" y="110"/>
                  </a:lnTo>
                  <a:lnTo>
                    <a:pt x="647" y="113"/>
                  </a:lnTo>
                  <a:lnTo>
                    <a:pt x="649" y="115"/>
                  </a:lnTo>
                  <a:lnTo>
                    <a:pt x="652" y="118"/>
                  </a:lnTo>
                  <a:lnTo>
                    <a:pt x="654" y="123"/>
                  </a:lnTo>
                  <a:lnTo>
                    <a:pt x="654" y="129"/>
                  </a:lnTo>
                  <a:lnTo>
                    <a:pt x="655" y="135"/>
                  </a:lnTo>
                  <a:lnTo>
                    <a:pt x="654" y="141"/>
                  </a:lnTo>
                  <a:lnTo>
                    <a:pt x="653" y="149"/>
                  </a:lnTo>
                  <a:lnTo>
                    <a:pt x="649" y="164"/>
                  </a:lnTo>
                  <a:lnTo>
                    <a:pt x="642" y="181"/>
                  </a:lnTo>
                  <a:lnTo>
                    <a:pt x="634" y="201"/>
                  </a:lnTo>
                  <a:lnTo>
                    <a:pt x="624" y="221"/>
                  </a:lnTo>
                  <a:lnTo>
                    <a:pt x="611" y="241"/>
                  </a:lnTo>
                  <a:lnTo>
                    <a:pt x="597" y="261"/>
                  </a:lnTo>
                  <a:lnTo>
                    <a:pt x="580" y="281"/>
                  </a:lnTo>
                  <a:lnTo>
                    <a:pt x="564" y="299"/>
                  </a:lnTo>
                  <a:lnTo>
                    <a:pt x="545" y="317"/>
                  </a:lnTo>
                  <a:lnTo>
                    <a:pt x="527" y="332"/>
                  </a:lnTo>
                  <a:lnTo>
                    <a:pt x="517" y="339"/>
                  </a:lnTo>
                  <a:lnTo>
                    <a:pt x="507" y="345"/>
                  </a:lnTo>
                  <a:lnTo>
                    <a:pt x="497" y="351"/>
                  </a:lnTo>
                  <a:lnTo>
                    <a:pt x="487" y="355"/>
                  </a:lnTo>
                  <a:lnTo>
                    <a:pt x="467" y="362"/>
                  </a:lnTo>
                  <a:lnTo>
                    <a:pt x="446" y="369"/>
                  </a:lnTo>
                  <a:lnTo>
                    <a:pt x="424" y="375"/>
                  </a:lnTo>
                  <a:lnTo>
                    <a:pt x="403" y="380"/>
                  </a:lnTo>
                  <a:lnTo>
                    <a:pt x="379" y="385"/>
                  </a:lnTo>
                  <a:lnTo>
                    <a:pt x="357" y="389"/>
                  </a:lnTo>
                  <a:lnTo>
                    <a:pt x="335" y="395"/>
                  </a:lnTo>
                  <a:lnTo>
                    <a:pt x="313" y="402"/>
                  </a:lnTo>
                  <a:lnTo>
                    <a:pt x="291" y="410"/>
                  </a:lnTo>
                  <a:lnTo>
                    <a:pt x="268" y="421"/>
                  </a:lnTo>
                  <a:lnTo>
                    <a:pt x="257" y="427"/>
                  </a:lnTo>
                  <a:lnTo>
                    <a:pt x="246" y="433"/>
                  </a:lnTo>
                  <a:lnTo>
                    <a:pt x="236" y="440"/>
                  </a:lnTo>
                  <a:lnTo>
                    <a:pt x="225" y="448"/>
                  </a:lnTo>
                  <a:lnTo>
                    <a:pt x="215" y="457"/>
                  </a:lnTo>
                  <a:lnTo>
                    <a:pt x="204" y="466"/>
                  </a:lnTo>
                  <a:lnTo>
                    <a:pt x="195" y="476"/>
                  </a:lnTo>
                  <a:lnTo>
                    <a:pt x="184" y="487"/>
                  </a:lnTo>
                  <a:lnTo>
                    <a:pt x="175" y="499"/>
                  </a:lnTo>
                  <a:lnTo>
                    <a:pt x="166" y="513"/>
                  </a:lnTo>
                  <a:lnTo>
                    <a:pt x="156" y="527"/>
                  </a:lnTo>
                  <a:lnTo>
                    <a:pt x="147" y="542"/>
                  </a:lnTo>
                  <a:lnTo>
                    <a:pt x="142" y="552"/>
                  </a:lnTo>
                  <a:lnTo>
                    <a:pt x="136" y="559"/>
                  </a:lnTo>
                  <a:lnTo>
                    <a:pt x="131" y="567"/>
                  </a:lnTo>
                  <a:lnTo>
                    <a:pt x="125" y="573"/>
                  </a:lnTo>
                  <a:lnTo>
                    <a:pt x="118" y="579"/>
                  </a:lnTo>
                  <a:lnTo>
                    <a:pt x="111" y="583"/>
                  </a:lnTo>
                  <a:lnTo>
                    <a:pt x="104" y="587"/>
                  </a:lnTo>
                  <a:lnTo>
                    <a:pt x="97" y="590"/>
                  </a:lnTo>
                  <a:lnTo>
                    <a:pt x="90" y="593"/>
                  </a:lnTo>
                  <a:lnTo>
                    <a:pt x="83" y="594"/>
                  </a:lnTo>
                  <a:lnTo>
                    <a:pt x="76" y="595"/>
                  </a:lnTo>
                  <a:lnTo>
                    <a:pt x="69" y="595"/>
                  </a:lnTo>
                  <a:lnTo>
                    <a:pt x="62" y="594"/>
                  </a:lnTo>
                  <a:lnTo>
                    <a:pt x="55" y="593"/>
                  </a:lnTo>
                  <a:lnTo>
                    <a:pt x="48" y="589"/>
                  </a:lnTo>
                  <a:lnTo>
                    <a:pt x="41" y="587"/>
                  </a:lnTo>
                  <a:lnTo>
                    <a:pt x="35" y="582"/>
                  </a:lnTo>
                  <a:lnTo>
                    <a:pt x="29" y="577"/>
                  </a:lnTo>
                  <a:lnTo>
                    <a:pt x="23" y="572"/>
                  </a:lnTo>
                  <a:lnTo>
                    <a:pt x="18" y="565"/>
                  </a:lnTo>
                  <a:lnTo>
                    <a:pt x="14" y="558"/>
                  </a:lnTo>
                  <a:lnTo>
                    <a:pt x="10" y="548"/>
                  </a:lnTo>
                  <a:lnTo>
                    <a:pt x="7" y="540"/>
                  </a:lnTo>
                  <a:lnTo>
                    <a:pt x="3" y="530"/>
                  </a:lnTo>
                  <a:lnTo>
                    <a:pt x="1" y="519"/>
                  </a:lnTo>
                  <a:lnTo>
                    <a:pt x="0" y="507"/>
                  </a:lnTo>
                  <a:lnTo>
                    <a:pt x="0" y="494"/>
                  </a:lnTo>
                  <a:lnTo>
                    <a:pt x="0" y="480"/>
                  </a:lnTo>
                  <a:lnTo>
                    <a:pt x="0" y="466"/>
                  </a:lnTo>
                  <a:lnTo>
                    <a:pt x="2" y="451"/>
                  </a:lnTo>
                  <a:lnTo>
                    <a:pt x="4" y="435"/>
                  </a:lnTo>
                  <a:lnTo>
                    <a:pt x="9" y="419"/>
                  </a:lnTo>
                  <a:close/>
                </a:path>
              </a:pathLst>
            </a:custGeom>
            <a:solidFill>
              <a:srgbClr val="93d5ed"/>
            </a:solidFill>
            <a:ln w="324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59" name="Freeform 80"/>
            <p:cNvSpPr/>
            <p:nvPr/>
          </p:nvSpPr>
          <p:spPr>
            <a:xfrm>
              <a:off x="1641600" y="4266000"/>
              <a:ext cx="179640" cy="72360"/>
            </a:xfrm>
            <a:custGeom>
              <a:avLst/>
              <a:gdLst>
                <a:gd name="textAreaLeft" fmla="*/ 0 w 179640"/>
                <a:gd name="textAreaRight" fmla="*/ 180000 w 179640"/>
                <a:gd name="textAreaTop" fmla="*/ 0 h 72360"/>
                <a:gd name="textAreaBottom" fmla="*/ 72720 h 72360"/>
              </a:gdLst>
              <a:ahLst/>
              <a:rect l="textAreaLeft" t="textAreaTop" r="textAreaRight" b="textAreaBottom"/>
              <a:pathLst>
                <a:path w="406" h="160">
                  <a:moveTo>
                    <a:pt x="372" y="127"/>
                  </a:moveTo>
                  <a:lnTo>
                    <a:pt x="364" y="132"/>
                  </a:lnTo>
                  <a:lnTo>
                    <a:pt x="353" y="137"/>
                  </a:lnTo>
                  <a:lnTo>
                    <a:pt x="340" y="142"/>
                  </a:lnTo>
                  <a:lnTo>
                    <a:pt x="326" y="146"/>
                  </a:lnTo>
                  <a:lnTo>
                    <a:pt x="311" y="150"/>
                  </a:lnTo>
                  <a:lnTo>
                    <a:pt x="295" y="153"/>
                  </a:lnTo>
                  <a:lnTo>
                    <a:pt x="278" y="156"/>
                  </a:lnTo>
                  <a:lnTo>
                    <a:pt x="262" y="158"/>
                  </a:lnTo>
                  <a:lnTo>
                    <a:pt x="246" y="160"/>
                  </a:lnTo>
                  <a:lnTo>
                    <a:pt x="230" y="160"/>
                  </a:lnTo>
                  <a:lnTo>
                    <a:pt x="215" y="160"/>
                  </a:lnTo>
                  <a:lnTo>
                    <a:pt x="202" y="158"/>
                  </a:lnTo>
                  <a:lnTo>
                    <a:pt x="191" y="156"/>
                  </a:lnTo>
                  <a:lnTo>
                    <a:pt x="181" y="154"/>
                  </a:lnTo>
                  <a:lnTo>
                    <a:pt x="178" y="151"/>
                  </a:lnTo>
                  <a:lnTo>
                    <a:pt x="174" y="149"/>
                  </a:lnTo>
                  <a:lnTo>
                    <a:pt x="172" y="147"/>
                  </a:lnTo>
                  <a:lnTo>
                    <a:pt x="171" y="144"/>
                  </a:lnTo>
                  <a:lnTo>
                    <a:pt x="167" y="137"/>
                  </a:lnTo>
                  <a:lnTo>
                    <a:pt x="163" y="132"/>
                  </a:lnTo>
                  <a:lnTo>
                    <a:pt x="158" y="126"/>
                  </a:lnTo>
                  <a:lnTo>
                    <a:pt x="153" y="121"/>
                  </a:lnTo>
                  <a:lnTo>
                    <a:pt x="142" y="112"/>
                  </a:lnTo>
                  <a:lnTo>
                    <a:pt x="130" y="104"/>
                  </a:lnTo>
                  <a:lnTo>
                    <a:pt x="116" y="98"/>
                  </a:lnTo>
                  <a:lnTo>
                    <a:pt x="102" y="92"/>
                  </a:lnTo>
                  <a:lnTo>
                    <a:pt x="87" y="88"/>
                  </a:lnTo>
                  <a:lnTo>
                    <a:pt x="73" y="85"/>
                  </a:lnTo>
                  <a:lnTo>
                    <a:pt x="46" y="81"/>
                  </a:lnTo>
                  <a:lnTo>
                    <a:pt x="22" y="80"/>
                  </a:lnTo>
                  <a:lnTo>
                    <a:pt x="6" y="80"/>
                  </a:lnTo>
                  <a:lnTo>
                    <a:pt x="0" y="80"/>
                  </a:lnTo>
                  <a:lnTo>
                    <a:pt x="79" y="5"/>
                  </a:lnTo>
                  <a:lnTo>
                    <a:pt x="93" y="3"/>
                  </a:lnTo>
                  <a:lnTo>
                    <a:pt x="107" y="2"/>
                  </a:lnTo>
                  <a:lnTo>
                    <a:pt x="121" y="2"/>
                  </a:lnTo>
                  <a:lnTo>
                    <a:pt x="133" y="2"/>
                  </a:lnTo>
                  <a:lnTo>
                    <a:pt x="159" y="5"/>
                  </a:lnTo>
                  <a:lnTo>
                    <a:pt x="185" y="10"/>
                  </a:lnTo>
                  <a:lnTo>
                    <a:pt x="209" y="14"/>
                  </a:lnTo>
                  <a:lnTo>
                    <a:pt x="233" y="15"/>
                  </a:lnTo>
                  <a:lnTo>
                    <a:pt x="244" y="15"/>
                  </a:lnTo>
                  <a:lnTo>
                    <a:pt x="256" y="14"/>
                  </a:lnTo>
                  <a:lnTo>
                    <a:pt x="268" y="10"/>
                  </a:lnTo>
                  <a:lnTo>
                    <a:pt x="279" y="5"/>
                  </a:lnTo>
                  <a:lnTo>
                    <a:pt x="285" y="3"/>
                  </a:lnTo>
                  <a:lnTo>
                    <a:pt x="292" y="1"/>
                  </a:lnTo>
                  <a:lnTo>
                    <a:pt x="298" y="0"/>
                  </a:lnTo>
                  <a:lnTo>
                    <a:pt x="305" y="0"/>
                  </a:lnTo>
                  <a:lnTo>
                    <a:pt x="319" y="0"/>
                  </a:lnTo>
                  <a:lnTo>
                    <a:pt x="333" y="3"/>
                  </a:lnTo>
                  <a:lnTo>
                    <a:pt x="347" y="8"/>
                  </a:lnTo>
                  <a:lnTo>
                    <a:pt x="360" y="14"/>
                  </a:lnTo>
                  <a:lnTo>
                    <a:pt x="373" y="22"/>
                  </a:lnTo>
                  <a:lnTo>
                    <a:pt x="383" y="31"/>
                  </a:lnTo>
                  <a:lnTo>
                    <a:pt x="393" y="42"/>
                  </a:lnTo>
                  <a:lnTo>
                    <a:pt x="400" y="53"/>
                  </a:lnTo>
                  <a:lnTo>
                    <a:pt x="402" y="59"/>
                  </a:lnTo>
                  <a:lnTo>
                    <a:pt x="403" y="65"/>
                  </a:lnTo>
                  <a:lnTo>
                    <a:pt x="404" y="72"/>
                  </a:lnTo>
                  <a:lnTo>
                    <a:pt x="406" y="78"/>
                  </a:lnTo>
                  <a:lnTo>
                    <a:pt x="404" y="84"/>
                  </a:lnTo>
                  <a:lnTo>
                    <a:pt x="403" y="91"/>
                  </a:lnTo>
                  <a:lnTo>
                    <a:pt x="401" y="97"/>
                  </a:lnTo>
                  <a:lnTo>
                    <a:pt x="397" y="102"/>
                  </a:lnTo>
                  <a:lnTo>
                    <a:pt x="393" y="109"/>
                  </a:lnTo>
                  <a:lnTo>
                    <a:pt x="387" y="115"/>
                  </a:lnTo>
                  <a:lnTo>
                    <a:pt x="380" y="121"/>
                  </a:lnTo>
                  <a:lnTo>
                    <a:pt x="372" y="127"/>
                  </a:lnTo>
                  <a:close/>
                </a:path>
              </a:pathLst>
            </a:custGeom>
            <a:solidFill>
              <a:srgbClr val="93d5ed"/>
            </a:solidFill>
            <a:ln w="936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560" name="Freeform 81"/>
            <p:cNvSpPr/>
            <p:nvPr/>
          </p:nvSpPr>
          <p:spPr>
            <a:xfrm>
              <a:off x="1641600" y="4266000"/>
              <a:ext cx="179640" cy="72360"/>
            </a:xfrm>
            <a:custGeom>
              <a:avLst/>
              <a:gdLst>
                <a:gd name="textAreaLeft" fmla="*/ 0 w 179640"/>
                <a:gd name="textAreaRight" fmla="*/ 180000 w 179640"/>
                <a:gd name="textAreaTop" fmla="*/ 0 h 72360"/>
                <a:gd name="textAreaBottom" fmla="*/ 72720 h 72360"/>
              </a:gdLst>
              <a:ahLst/>
              <a:rect l="textAreaLeft" t="textAreaTop" r="textAreaRight" b="textAreaBottom"/>
              <a:pathLst>
                <a:path w="406" h="160">
                  <a:moveTo>
                    <a:pt x="372" y="127"/>
                  </a:moveTo>
                  <a:lnTo>
                    <a:pt x="364" y="132"/>
                  </a:lnTo>
                  <a:lnTo>
                    <a:pt x="353" y="137"/>
                  </a:lnTo>
                  <a:lnTo>
                    <a:pt x="340" y="142"/>
                  </a:lnTo>
                  <a:lnTo>
                    <a:pt x="326" y="146"/>
                  </a:lnTo>
                  <a:lnTo>
                    <a:pt x="311" y="150"/>
                  </a:lnTo>
                  <a:lnTo>
                    <a:pt x="295" y="153"/>
                  </a:lnTo>
                  <a:lnTo>
                    <a:pt x="278" y="156"/>
                  </a:lnTo>
                  <a:lnTo>
                    <a:pt x="262" y="158"/>
                  </a:lnTo>
                  <a:lnTo>
                    <a:pt x="246" y="160"/>
                  </a:lnTo>
                  <a:lnTo>
                    <a:pt x="230" y="160"/>
                  </a:lnTo>
                  <a:lnTo>
                    <a:pt x="215" y="160"/>
                  </a:lnTo>
                  <a:lnTo>
                    <a:pt x="202" y="158"/>
                  </a:lnTo>
                  <a:lnTo>
                    <a:pt x="191" y="156"/>
                  </a:lnTo>
                  <a:lnTo>
                    <a:pt x="181" y="154"/>
                  </a:lnTo>
                  <a:lnTo>
                    <a:pt x="178" y="151"/>
                  </a:lnTo>
                  <a:lnTo>
                    <a:pt x="174" y="149"/>
                  </a:lnTo>
                  <a:lnTo>
                    <a:pt x="172" y="147"/>
                  </a:lnTo>
                  <a:lnTo>
                    <a:pt x="171" y="144"/>
                  </a:lnTo>
                  <a:lnTo>
                    <a:pt x="167" y="137"/>
                  </a:lnTo>
                  <a:lnTo>
                    <a:pt x="163" y="132"/>
                  </a:lnTo>
                  <a:lnTo>
                    <a:pt x="158" y="126"/>
                  </a:lnTo>
                  <a:lnTo>
                    <a:pt x="153" y="121"/>
                  </a:lnTo>
                  <a:lnTo>
                    <a:pt x="142" y="112"/>
                  </a:lnTo>
                  <a:lnTo>
                    <a:pt x="130" y="104"/>
                  </a:lnTo>
                  <a:lnTo>
                    <a:pt x="116" y="98"/>
                  </a:lnTo>
                  <a:lnTo>
                    <a:pt x="102" y="92"/>
                  </a:lnTo>
                  <a:lnTo>
                    <a:pt x="87" y="88"/>
                  </a:lnTo>
                  <a:lnTo>
                    <a:pt x="73" y="85"/>
                  </a:lnTo>
                  <a:lnTo>
                    <a:pt x="46" y="81"/>
                  </a:lnTo>
                  <a:lnTo>
                    <a:pt x="22" y="80"/>
                  </a:lnTo>
                  <a:lnTo>
                    <a:pt x="6" y="80"/>
                  </a:lnTo>
                  <a:lnTo>
                    <a:pt x="0" y="80"/>
                  </a:lnTo>
                  <a:lnTo>
                    <a:pt x="79" y="5"/>
                  </a:lnTo>
                  <a:lnTo>
                    <a:pt x="93" y="3"/>
                  </a:lnTo>
                  <a:lnTo>
                    <a:pt x="107" y="2"/>
                  </a:lnTo>
                  <a:lnTo>
                    <a:pt x="121" y="2"/>
                  </a:lnTo>
                  <a:lnTo>
                    <a:pt x="133" y="2"/>
                  </a:lnTo>
                  <a:lnTo>
                    <a:pt x="159" y="5"/>
                  </a:lnTo>
                  <a:lnTo>
                    <a:pt x="185" y="10"/>
                  </a:lnTo>
                  <a:lnTo>
                    <a:pt x="209" y="14"/>
                  </a:lnTo>
                  <a:lnTo>
                    <a:pt x="233" y="15"/>
                  </a:lnTo>
                  <a:lnTo>
                    <a:pt x="244" y="15"/>
                  </a:lnTo>
                  <a:lnTo>
                    <a:pt x="256" y="14"/>
                  </a:lnTo>
                  <a:lnTo>
                    <a:pt x="268" y="10"/>
                  </a:lnTo>
                  <a:lnTo>
                    <a:pt x="279" y="5"/>
                  </a:lnTo>
                  <a:lnTo>
                    <a:pt x="285" y="3"/>
                  </a:lnTo>
                  <a:lnTo>
                    <a:pt x="292" y="1"/>
                  </a:lnTo>
                  <a:lnTo>
                    <a:pt x="298" y="0"/>
                  </a:lnTo>
                  <a:lnTo>
                    <a:pt x="305" y="0"/>
                  </a:lnTo>
                  <a:lnTo>
                    <a:pt x="319" y="0"/>
                  </a:lnTo>
                  <a:lnTo>
                    <a:pt x="333" y="3"/>
                  </a:lnTo>
                  <a:lnTo>
                    <a:pt x="347" y="8"/>
                  </a:lnTo>
                  <a:lnTo>
                    <a:pt x="360" y="14"/>
                  </a:lnTo>
                  <a:lnTo>
                    <a:pt x="373" y="22"/>
                  </a:lnTo>
                  <a:lnTo>
                    <a:pt x="383" y="31"/>
                  </a:lnTo>
                  <a:lnTo>
                    <a:pt x="393" y="42"/>
                  </a:lnTo>
                  <a:lnTo>
                    <a:pt x="400" y="53"/>
                  </a:lnTo>
                  <a:lnTo>
                    <a:pt x="402" y="59"/>
                  </a:lnTo>
                  <a:lnTo>
                    <a:pt x="403" y="65"/>
                  </a:lnTo>
                  <a:lnTo>
                    <a:pt x="404" y="72"/>
                  </a:lnTo>
                  <a:lnTo>
                    <a:pt x="406" y="78"/>
                  </a:lnTo>
                  <a:lnTo>
                    <a:pt x="404" y="84"/>
                  </a:lnTo>
                  <a:lnTo>
                    <a:pt x="403" y="91"/>
                  </a:lnTo>
                  <a:lnTo>
                    <a:pt x="401" y="97"/>
                  </a:lnTo>
                  <a:lnTo>
                    <a:pt x="397" y="102"/>
                  </a:lnTo>
                  <a:lnTo>
                    <a:pt x="393" y="109"/>
                  </a:lnTo>
                  <a:lnTo>
                    <a:pt x="387" y="115"/>
                  </a:lnTo>
                  <a:lnTo>
                    <a:pt x="380" y="121"/>
                  </a:lnTo>
                  <a:lnTo>
                    <a:pt x="372" y="127"/>
                  </a:lnTo>
                  <a:close/>
                </a:path>
              </a:pathLst>
            </a:custGeom>
            <a:solidFill>
              <a:srgbClr val="93d5ed"/>
            </a:solidFill>
            <a:ln w="324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561" name="Freeform 82"/>
            <p:cNvSpPr/>
            <p:nvPr/>
          </p:nvSpPr>
          <p:spPr>
            <a:xfrm>
              <a:off x="1553400" y="4313880"/>
              <a:ext cx="102960" cy="38520"/>
            </a:xfrm>
            <a:custGeom>
              <a:avLst/>
              <a:gdLst>
                <a:gd name="textAreaLeft" fmla="*/ 0 w 102960"/>
                <a:gd name="textAreaRight" fmla="*/ 103320 w 102960"/>
                <a:gd name="textAreaTop" fmla="*/ 0 h 38520"/>
                <a:gd name="textAreaBottom" fmla="*/ 38880 h 38520"/>
              </a:gdLst>
              <a:ahLst/>
              <a:rect l="textAreaLeft" t="textAreaTop" r="textAreaRight" b="textAreaBottom"/>
              <a:pathLst>
                <a:path w="235" h="84">
                  <a:moveTo>
                    <a:pt x="170" y="6"/>
                  </a:moveTo>
                  <a:lnTo>
                    <a:pt x="124" y="17"/>
                  </a:lnTo>
                  <a:lnTo>
                    <a:pt x="81" y="30"/>
                  </a:lnTo>
                  <a:lnTo>
                    <a:pt x="62" y="37"/>
                  </a:lnTo>
                  <a:lnTo>
                    <a:pt x="45" y="43"/>
                  </a:lnTo>
                  <a:lnTo>
                    <a:pt x="30" y="50"/>
                  </a:lnTo>
                  <a:lnTo>
                    <a:pt x="18" y="56"/>
                  </a:lnTo>
                  <a:lnTo>
                    <a:pt x="9" y="62"/>
                  </a:lnTo>
                  <a:lnTo>
                    <a:pt x="3" y="66"/>
                  </a:lnTo>
                  <a:lnTo>
                    <a:pt x="1" y="70"/>
                  </a:lnTo>
                  <a:lnTo>
                    <a:pt x="0" y="72"/>
                  </a:lnTo>
                  <a:lnTo>
                    <a:pt x="1" y="73"/>
                  </a:lnTo>
                  <a:lnTo>
                    <a:pt x="3" y="76"/>
                  </a:lnTo>
                  <a:lnTo>
                    <a:pt x="10" y="79"/>
                  </a:lnTo>
                  <a:lnTo>
                    <a:pt x="23" y="82"/>
                  </a:lnTo>
                  <a:lnTo>
                    <a:pt x="40" y="84"/>
                  </a:lnTo>
                  <a:lnTo>
                    <a:pt x="63" y="84"/>
                  </a:lnTo>
                  <a:lnTo>
                    <a:pt x="89" y="83"/>
                  </a:lnTo>
                  <a:lnTo>
                    <a:pt x="114" y="79"/>
                  </a:lnTo>
                  <a:lnTo>
                    <a:pt x="137" y="75"/>
                  </a:lnTo>
                  <a:lnTo>
                    <a:pt x="158" y="68"/>
                  </a:lnTo>
                  <a:lnTo>
                    <a:pt x="178" y="59"/>
                  </a:lnTo>
                  <a:lnTo>
                    <a:pt x="195" y="51"/>
                  </a:lnTo>
                  <a:lnTo>
                    <a:pt x="209" y="42"/>
                  </a:lnTo>
                  <a:lnTo>
                    <a:pt x="221" y="34"/>
                  </a:lnTo>
                  <a:lnTo>
                    <a:pt x="229" y="24"/>
                  </a:lnTo>
                  <a:lnTo>
                    <a:pt x="235" y="17"/>
                  </a:lnTo>
                  <a:lnTo>
                    <a:pt x="235" y="14"/>
                  </a:lnTo>
                  <a:lnTo>
                    <a:pt x="235" y="10"/>
                  </a:lnTo>
                  <a:lnTo>
                    <a:pt x="234" y="7"/>
                  </a:lnTo>
                  <a:lnTo>
                    <a:pt x="233" y="5"/>
                  </a:lnTo>
                  <a:lnTo>
                    <a:pt x="229" y="3"/>
                  </a:lnTo>
                  <a:lnTo>
                    <a:pt x="225" y="1"/>
                  </a:lnTo>
                  <a:lnTo>
                    <a:pt x="219" y="1"/>
                  </a:lnTo>
                  <a:lnTo>
                    <a:pt x="212" y="0"/>
                  </a:lnTo>
                  <a:lnTo>
                    <a:pt x="193" y="2"/>
                  </a:lnTo>
                  <a:lnTo>
                    <a:pt x="170" y="6"/>
                  </a:lnTo>
                  <a:close/>
                </a:path>
              </a:pathLst>
            </a:custGeom>
            <a:solidFill>
              <a:srgbClr val="93d5ed"/>
            </a:solidFill>
            <a:ln w="9360">
              <a:solidFill>
                <a:srgbClr val="ccecff"/>
              </a:solidFill>
              <a:round/>
            </a:ln>
          </p:spPr>
          <p:style>
            <a:lnRef idx="0"/>
            <a:fillRef idx="0"/>
            <a:effectRef idx="0"/>
            <a:fontRef idx="minor"/>
          </p:style>
          <p:txBody>
            <a:bodyPr lIns="90000" rIns="90000" tIns="-7920" bIns="-7920" anchor="t">
              <a:noAutofit/>
            </a:bodyPr>
            <a:p>
              <a:endParaRPr b="1" lang="en-US" sz="2400" spc="-1" strike="noStrike">
                <a:solidFill>
                  <a:srgbClr val="ffffff"/>
                </a:solidFill>
                <a:latin typeface="Times New Roman"/>
              </a:endParaRPr>
            </a:p>
          </p:txBody>
        </p:sp>
        <p:sp>
          <p:nvSpPr>
            <p:cNvPr id="562" name="Freeform 83"/>
            <p:cNvSpPr/>
            <p:nvPr/>
          </p:nvSpPr>
          <p:spPr>
            <a:xfrm>
              <a:off x="1553400" y="4313880"/>
              <a:ext cx="102960" cy="38520"/>
            </a:xfrm>
            <a:custGeom>
              <a:avLst/>
              <a:gdLst>
                <a:gd name="textAreaLeft" fmla="*/ 0 w 102960"/>
                <a:gd name="textAreaRight" fmla="*/ 103320 w 102960"/>
                <a:gd name="textAreaTop" fmla="*/ 0 h 38520"/>
                <a:gd name="textAreaBottom" fmla="*/ 38880 h 38520"/>
              </a:gdLst>
              <a:ahLst/>
              <a:rect l="textAreaLeft" t="textAreaTop" r="textAreaRight" b="textAreaBottom"/>
              <a:pathLst>
                <a:path w="235" h="84">
                  <a:moveTo>
                    <a:pt x="170" y="6"/>
                  </a:moveTo>
                  <a:lnTo>
                    <a:pt x="124" y="17"/>
                  </a:lnTo>
                  <a:lnTo>
                    <a:pt x="81" y="30"/>
                  </a:lnTo>
                  <a:lnTo>
                    <a:pt x="62" y="37"/>
                  </a:lnTo>
                  <a:lnTo>
                    <a:pt x="45" y="43"/>
                  </a:lnTo>
                  <a:lnTo>
                    <a:pt x="30" y="50"/>
                  </a:lnTo>
                  <a:lnTo>
                    <a:pt x="18" y="56"/>
                  </a:lnTo>
                  <a:lnTo>
                    <a:pt x="9" y="62"/>
                  </a:lnTo>
                  <a:lnTo>
                    <a:pt x="3" y="66"/>
                  </a:lnTo>
                  <a:lnTo>
                    <a:pt x="1" y="70"/>
                  </a:lnTo>
                  <a:lnTo>
                    <a:pt x="0" y="72"/>
                  </a:lnTo>
                  <a:lnTo>
                    <a:pt x="1" y="73"/>
                  </a:lnTo>
                  <a:lnTo>
                    <a:pt x="3" y="76"/>
                  </a:lnTo>
                  <a:lnTo>
                    <a:pt x="10" y="79"/>
                  </a:lnTo>
                  <a:lnTo>
                    <a:pt x="23" y="82"/>
                  </a:lnTo>
                  <a:lnTo>
                    <a:pt x="40" y="84"/>
                  </a:lnTo>
                  <a:lnTo>
                    <a:pt x="63" y="84"/>
                  </a:lnTo>
                  <a:lnTo>
                    <a:pt x="89" y="83"/>
                  </a:lnTo>
                  <a:lnTo>
                    <a:pt x="114" y="79"/>
                  </a:lnTo>
                  <a:lnTo>
                    <a:pt x="137" y="75"/>
                  </a:lnTo>
                  <a:lnTo>
                    <a:pt x="158" y="68"/>
                  </a:lnTo>
                  <a:lnTo>
                    <a:pt x="178" y="59"/>
                  </a:lnTo>
                  <a:lnTo>
                    <a:pt x="195" y="51"/>
                  </a:lnTo>
                  <a:lnTo>
                    <a:pt x="209" y="42"/>
                  </a:lnTo>
                  <a:lnTo>
                    <a:pt x="221" y="34"/>
                  </a:lnTo>
                  <a:lnTo>
                    <a:pt x="229" y="24"/>
                  </a:lnTo>
                  <a:lnTo>
                    <a:pt x="235" y="17"/>
                  </a:lnTo>
                  <a:lnTo>
                    <a:pt x="235" y="14"/>
                  </a:lnTo>
                  <a:lnTo>
                    <a:pt x="235" y="10"/>
                  </a:lnTo>
                  <a:lnTo>
                    <a:pt x="234" y="7"/>
                  </a:lnTo>
                  <a:lnTo>
                    <a:pt x="233" y="5"/>
                  </a:lnTo>
                  <a:lnTo>
                    <a:pt x="229" y="3"/>
                  </a:lnTo>
                  <a:lnTo>
                    <a:pt x="225" y="1"/>
                  </a:lnTo>
                  <a:lnTo>
                    <a:pt x="219" y="1"/>
                  </a:lnTo>
                  <a:lnTo>
                    <a:pt x="212" y="0"/>
                  </a:lnTo>
                  <a:lnTo>
                    <a:pt x="193" y="2"/>
                  </a:lnTo>
                  <a:lnTo>
                    <a:pt x="170" y="6"/>
                  </a:lnTo>
                  <a:close/>
                </a:path>
              </a:pathLst>
            </a:custGeom>
            <a:solidFill>
              <a:srgbClr val="93d5ed"/>
            </a:solidFill>
            <a:ln w="3240">
              <a:solidFill>
                <a:srgbClr val="ccecff"/>
              </a:solidFill>
              <a:round/>
            </a:ln>
          </p:spPr>
          <p:style>
            <a:lnRef idx="0"/>
            <a:fillRef idx="0"/>
            <a:effectRef idx="0"/>
            <a:fontRef idx="minor"/>
          </p:style>
          <p:txBody>
            <a:bodyPr lIns="90000" rIns="90000" tIns="-7920" bIns="-7920" anchor="t">
              <a:noAutofit/>
            </a:bodyPr>
            <a:p>
              <a:endParaRPr b="1" lang="en-US" sz="2400" spc="-1" strike="noStrike">
                <a:solidFill>
                  <a:srgbClr val="ffffff"/>
                </a:solidFill>
                <a:latin typeface="Times New Roman"/>
              </a:endParaRPr>
            </a:p>
          </p:txBody>
        </p:sp>
        <p:sp>
          <p:nvSpPr>
            <p:cNvPr id="563" name="Freeform 84"/>
            <p:cNvSpPr/>
            <p:nvPr/>
          </p:nvSpPr>
          <p:spPr>
            <a:xfrm>
              <a:off x="1545120" y="4232160"/>
              <a:ext cx="122760" cy="77040"/>
            </a:xfrm>
            <a:custGeom>
              <a:avLst/>
              <a:gdLst>
                <a:gd name="textAreaLeft" fmla="*/ 0 w 122760"/>
                <a:gd name="textAreaRight" fmla="*/ 123120 w 122760"/>
                <a:gd name="textAreaTop" fmla="*/ 0 h 77040"/>
                <a:gd name="textAreaBottom" fmla="*/ 77400 h 77040"/>
              </a:gdLst>
              <a:ahLst/>
              <a:rect l="textAreaLeft" t="textAreaTop" r="textAreaRight" b="textAreaBottom"/>
              <a:pathLst>
                <a:path w="284" h="167">
                  <a:moveTo>
                    <a:pt x="23" y="152"/>
                  </a:moveTo>
                  <a:lnTo>
                    <a:pt x="32" y="158"/>
                  </a:lnTo>
                  <a:lnTo>
                    <a:pt x="41" y="162"/>
                  </a:lnTo>
                  <a:lnTo>
                    <a:pt x="49" y="165"/>
                  </a:lnTo>
                  <a:lnTo>
                    <a:pt x="57" y="166"/>
                  </a:lnTo>
                  <a:lnTo>
                    <a:pt x="65" y="167"/>
                  </a:lnTo>
                  <a:lnTo>
                    <a:pt x="74" y="166"/>
                  </a:lnTo>
                  <a:lnTo>
                    <a:pt x="82" y="165"/>
                  </a:lnTo>
                  <a:lnTo>
                    <a:pt x="90" y="164"/>
                  </a:lnTo>
                  <a:lnTo>
                    <a:pt x="105" y="157"/>
                  </a:lnTo>
                  <a:lnTo>
                    <a:pt x="119" y="149"/>
                  </a:lnTo>
                  <a:lnTo>
                    <a:pt x="133" y="139"/>
                  </a:lnTo>
                  <a:lnTo>
                    <a:pt x="146" y="129"/>
                  </a:lnTo>
                  <a:lnTo>
                    <a:pt x="168" y="108"/>
                  </a:lnTo>
                  <a:lnTo>
                    <a:pt x="187" y="91"/>
                  </a:lnTo>
                  <a:lnTo>
                    <a:pt x="195" y="86"/>
                  </a:lnTo>
                  <a:lnTo>
                    <a:pt x="201" y="84"/>
                  </a:lnTo>
                  <a:lnTo>
                    <a:pt x="204" y="84"/>
                  </a:lnTo>
                  <a:lnTo>
                    <a:pt x="207" y="86"/>
                  </a:lnTo>
                  <a:lnTo>
                    <a:pt x="208" y="88"/>
                  </a:lnTo>
                  <a:lnTo>
                    <a:pt x="210" y="91"/>
                  </a:lnTo>
                  <a:lnTo>
                    <a:pt x="211" y="96"/>
                  </a:lnTo>
                  <a:lnTo>
                    <a:pt x="214" y="98"/>
                  </a:lnTo>
                  <a:lnTo>
                    <a:pt x="217" y="101"/>
                  </a:lnTo>
                  <a:lnTo>
                    <a:pt x="220" y="101"/>
                  </a:lnTo>
                  <a:lnTo>
                    <a:pt x="223" y="102"/>
                  </a:lnTo>
                  <a:lnTo>
                    <a:pt x="228" y="101"/>
                  </a:lnTo>
                  <a:lnTo>
                    <a:pt x="231" y="100"/>
                  </a:lnTo>
                  <a:lnTo>
                    <a:pt x="236" y="97"/>
                  </a:lnTo>
                  <a:lnTo>
                    <a:pt x="245" y="91"/>
                  </a:lnTo>
                  <a:lnTo>
                    <a:pt x="255" y="83"/>
                  </a:lnTo>
                  <a:lnTo>
                    <a:pt x="263" y="74"/>
                  </a:lnTo>
                  <a:lnTo>
                    <a:pt x="271" y="63"/>
                  </a:lnTo>
                  <a:lnTo>
                    <a:pt x="277" y="52"/>
                  </a:lnTo>
                  <a:lnTo>
                    <a:pt x="281" y="41"/>
                  </a:lnTo>
                  <a:lnTo>
                    <a:pt x="283" y="35"/>
                  </a:lnTo>
                  <a:lnTo>
                    <a:pt x="284" y="31"/>
                  </a:lnTo>
                  <a:lnTo>
                    <a:pt x="284" y="26"/>
                  </a:lnTo>
                  <a:lnTo>
                    <a:pt x="283" y="20"/>
                  </a:lnTo>
                  <a:lnTo>
                    <a:pt x="280" y="17"/>
                  </a:lnTo>
                  <a:lnTo>
                    <a:pt x="278" y="12"/>
                  </a:lnTo>
                  <a:lnTo>
                    <a:pt x="274" y="9"/>
                  </a:lnTo>
                  <a:lnTo>
                    <a:pt x="270" y="6"/>
                  </a:lnTo>
                  <a:lnTo>
                    <a:pt x="264" y="4"/>
                  </a:lnTo>
                  <a:lnTo>
                    <a:pt x="257" y="2"/>
                  </a:lnTo>
                  <a:lnTo>
                    <a:pt x="249" y="0"/>
                  </a:lnTo>
                  <a:lnTo>
                    <a:pt x="239" y="0"/>
                  </a:lnTo>
                  <a:lnTo>
                    <a:pt x="218" y="0"/>
                  </a:lnTo>
                  <a:lnTo>
                    <a:pt x="195" y="4"/>
                  </a:lnTo>
                  <a:lnTo>
                    <a:pt x="172" y="9"/>
                  </a:lnTo>
                  <a:lnTo>
                    <a:pt x="147" y="16"/>
                  </a:lnTo>
                  <a:lnTo>
                    <a:pt x="123" y="23"/>
                  </a:lnTo>
                  <a:lnTo>
                    <a:pt x="99" y="32"/>
                  </a:lnTo>
                  <a:lnTo>
                    <a:pt x="77" y="42"/>
                  </a:lnTo>
                  <a:lnTo>
                    <a:pt x="56" y="54"/>
                  </a:lnTo>
                  <a:lnTo>
                    <a:pt x="39" y="66"/>
                  </a:lnTo>
                  <a:lnTo>
                    <a:pt x="22" y="77"/>
                  </a:lnTo>
                  <a:lnTo>
                    <a:pt x="16" y="84"/>
                  </a:lnTo>
                  <a:lnTo>
                    <a:pt x="10" y="90"/>
                  </a:lnTo>
                  <a:lnTo>
                    <a:pt x="6" y="97"/>
                  </a:lnTo>
                  <a:lnTo>
                    <a:pt x="2" y="103"/>
                  </a:lnTo>
                  <a:lnTo>
                    <a:pt x="1" y="110"/>
                  </a:lnTo>
                  <a:lnTo>
                    <a:pt x="0" y="116"/>
                  </a:lnTo>
                  <a:lnTo>
                    <a:pt x="0" y="122"/>
                  </a:lnTo>
                  <a:lnTo>
                    <a:pt x="1" y="129"/>
                  </a:lnTo>
                  <a:lnTo>
                    <a:pt x="5" y="135"/>
                  </a:lnTo>
                  <a:lnTo>
                    <a:pt x="9" y="141"/>
                  </a:lnTo>
                  <a:lnTo>
                    <a:pt x="15" y="146"/>
                  </a:lnTo>
                  <a:lnTo>
                    <a:pt x="23" y="152"/>
                  </a:lnTo>
                  <a:close/>
                </a:path>
              </a:pathLst>
            </a:custGeom>
            <a:solidFill>
              <a:srgbClr val="93d5ed"/>
            </a:solidFill>
            <a:ln w="9360">
              <a:solidFill>
                <a:srgbClr val="ccecff"/>
              </a:solidFill>
              <a:round/>
            </a:ln>
          </p:spPr>
          <p:style>
            <a:lnRef idx="0"/>
            <a:fillRef idx="0"/>
            <a:effectRef idx="0"/>
            <a:fontRef idx="minor"/>
          </p:style>
          <p:txBody>
            <a:bodyPr lIns="90000" rIns="90000" tIns="30600" bIns="30600" anchor="t">
              <a:noAutofit/>
            </a:bodyPr>
            <a:p>
              <a:endParaRPr b="1" lang="en-US" sz="2400" spc="-1" strike="noStrike">
                <a:solidFill>
                  <a:srgbClr val="ffffff"/>
                </a:solidFill>
                <a:latin typeface="Times New Roman"/>
              </a:endParaRPr>
            </a:p>
          </p:txBody>
        </p:sp>
        <p:sp>
          <p:nvSpPr>
            <p:cNvPr id="564" name="Freeform 85"/>
            <p:cNvSpPr/>
            <p:nvPr/>
          </p:nvSpPr>
          <p:spPr>
            <a:xfrm>
              <a:off x="1545120" y="4232160"/>
              <a:ext cx="122760" cy="77040"/>
            </a:xfrm>
            <a:custGeom>
              <a:avLst/>
              <a:gdLst>
                <a:gd name="textAreaLeft" fmla="*/ 0 w 122760"/>
                <a:gd name="textAreaRight" fmla="*/ 123120 w 122760"/>
                <a:gd name="textAreaTop" fmla="*/ 0 h 77040"/>
                <a:gd name="textAreaBottom" fmla="*/ 77400 h 77040"/>
              </a:gdLst>
              <a:ahLst/>
              <a:rect l="textAreaLeft" t="textAreaTop" r="textAreaRight" b="textAreaBottom"/>
              <a:pathLst>
                <a:path w="284" h="167">
                  <a:moveTo>
                    <a:pt x="23" y="152"/>
                  </a:moveTo>
                  <a:lnTo>
                    <a:pt x="32" y="158"/>
                  </a:lnTo>
                  <a:lnTo>
                    <a:pt x="41" y="162"/>
                  </a:lnTo>
                  <a:lnTo>
                    <a:pt x="49" y="165"/>
                  </a:lnTo>
                  <a:lnTo>
                    <a:pt x="57" y="166"/>
                  </a:lnTo>
                  <a:lnTo>
                    <a:pt x="65" y="167"/>
                  </a:lnTo>
                  <a:lnTo>
                    <a:pt x="74" y="166"/>
                  </a:lnTo>
                  <a:lnTo>
                    <a:pt x="82" y="165"/>
                  </a:lnTo>
                  <a:lnTo>
                    <a:pt x="90" y="164"/>
                  </a:lnTo>
                  <a:lnTo>
                    <a:pt x="105" y="157"/>
                  </a:lnTo>
                  <a:lnTo>
                    <a:pt x="119" y="149"/>
                  </a:lnTo>
                  <a:lnTo>
                    <a:pt x="133" y="139"/>
                  </a:lnTo>
                  <a:lnTo>
                    <a:pt x="146" y="129"/>
                  </a:lnTo>
                  <a:lnTo>
                    <a:pt x="168" y="108"/>
                  </a:lnTo>
                  <a:lnTo>
                    <a:pt x="187" y="91"/>
                  </a:lnTo>
                  <a:lnTo>
                    <a:pt x="195" y="86"/>
                  </a:lnTo>
                  <a:lnTo>
                    <a:pt x="201" y="84"/>
                  </a:lnTo>
                  <a:lnTo>
                    <a:pt x="204" y="84"/>
                  </a:lnTo>
                  <a:lnTo>
                    <a:pt x="207" y="86"/>
                  </a:lnTo>
                  <a:lnTo>
                    <a:pt x="208" y="88"/>
                  </a:lnTo>
                  <a:lnTo>
                    <a:pt x="210" y="91"/>
                  </a:lnTo>
                  <a:lnTo>
                    <a:pt x="211" y="96"/>
                  </a:lnTo>
                  <a:lnTo>
                    <a:pt x="214" y="98"/>
                  </a:lnTo>
                  <a:lnTo>
                    <a:pt x="217" y="101"/>
                  </a:lnTo>
                  <a:lnTo>
                    <a:pt x="220" y="101"/>
                  </a:lnTo>
                  <a:lnTo>
                    <a:pt x="223" y="102"/>
                  </a:lnTo>
                  <a:lnTo>
                    <a:pt x="228" y="101"/>
                  </a:lnTo>
                  <a:lnTo>
                    <a:pt x="231" y="100"/>
                  </a:lnTo>
                  <a:lnTo>
                    <a:pt x="236" y="97"/>
                  </a:lnTo>
                  <a:lnTo>
                    <a:pt x="245" y="91"/>
                  </a:lnTo>
                  <a:lnTo>
                    <a:pt x="255" y="83"/>
                  </a:lnTo>
                  <a:lnTo>
                    <a:pt x="263" y="74"/>
                  </a:lnTo>
                  <a:lnTo>
                    <a:pt x="271" y="63"/>
                  </a:lnTo>
                  <a:lnTo>
                    <a:pt x="277" y="52"/>
                  </a:lnTo>
                  <a:lnTo>
                    <a:pt x="281" y="41"/>
                  </a:lnTo>
                  <a:lnTo>
                    <a:pt x="283" y="35"/>
                  </a:lnTo>
                  <a:lnTo>
                    <a:pt x="284" y="31"/>
                  </a:lnTo>
                  <a:lnTo>
                    <a:pt x="284" y="26"/>
                  </a:lnTo>
                  <a:lnTo>
                    <a:pt x="283" y="20"/>
                  </a:lnTo>
                  <a:lnTo>
                    <a:pt x="280" y="17"/>
                  </a:lnTo>
                  <a:lnTo>
                    <a:pt x="278" y="12"/>
                  </a:lnTo>
                  <a:lnTo>
                    <a:pt x="274" y="9"/>
                  </a:lnTo>
                  <a:lnTo>
                    <a:pt x="270" y="6"/>
                  </a:lnTo>
                  <a:lnTo>
                    <a:pt x="264" y="4"/>
                  </a:lnTo>
                  <a:lnTo>
                    <a:pt x="257" y="2"/>
                  </a:lnTo>
                  <a:lnTo>
                    <a:pt x="249" y="0"/>
                  </a:lnTo>
                  <a:lnTo>
                    <a:pt x="239" y="0"/>
                  </a:lnTo>
                  <a:lnTo>
                    <a:pt x="218" y="0"/>
                  </a:lnTo>
                  <a:lnTo>
                    <a:pt x="195" y="4"/>
                  </a:lnTo>
                  <a:lnTo>
                    <a:pt x="172" y="9"/>
                  </a:lnTo>
                  <a:lnTo>
                    <a:pt x="147" y="16"/>
                  </a:lnTo>
                  <a:lnTo>
                    <a:pt x="123" y="23"/>
                  </a:lnTo>
                  <a:lnTo>
                    <a:pt x="99" y="32"/>
                  </a:lnTo>
                  <a:lnTo>
                    <a:pt x="77" y="42"/>
                  </a:lnTo>
                  <a:lnTo>
                    <a:pt x="56" y="54"/>
                  </a:lnTo>
                  <a:lnTo>
                    <a:pt x="39" y="66"/>
                  </a:lnTo>
                  <a:lnTo>
                    <a:pt x="22" y="77"/>
                  </a:lnTo>
                  <a:lnTo>
                    <a:pt x="16" y="84"/>
                  </a:lnTo>
                  <a:lnTo>
                    <a:pt x="10" y="90"/>
                  </a:lnTo>
                  <a:lnTo>
                    <a:pt x="6" y="97"/>
                  </a:lnTo>
                  <a:lnTo>
                    <a:pt x="2" y="103"/>
                  </a:lnTo>
                  <a:lnTo>
                    <a:pt x="1" y="110"/>
                  </a:lnTo>
                  <a:lnTo>
                    <a:pt x="0" y="116"/>
                  </a:lnTo>
                  <a:lnTo>
                    <a:pt x="0" y="122"/>
                  </a:lnTo>
                  <a:lnTo>
                    <a:pt x="1" y="129"/>
                  </a:lnTo>
                  <a:lnTo>
                    <a:pt x="5" y="135"/>
                  </a:lnTo>
                  <a:lnTo>
                    <a:pt x="9" y="141"/>
                  </a:lnTo>
                  <a:lnTo>
                    <a:pt x="15" y="146"/>
                  </a:lnTo>
                  <a:lnTo>
                    <a:pt x="23" y="152"/>
                  </a:lnTo>
                  <a:close/>
                </a:path>
              </a:pathLst>
            </a:custGeom>
            <a:solidFill>
              <a:srgbClr val="93d5ed"/>
            </a:solidFill>
            <a:ln w="3240">
              <a:solidFill>
                <a:srgbClr val="ccecff"/>
              </a:solidFill>
              <a:round/>
            </a:ln>
          </p:spPr>
          <p:style>
            <a:lnRef idx="0"/>
            <a:fillRef idx="0"/>
            <a:effectRef idx="0"/>
            <a:fontRef idx="minor"/>
          </p:style>
          <p:txBody>
            <a:bodyPr lIns="90000" rIns="90000" tIns="30600" bIns="30600" anchor="t">
              <a:noAutofit/>
            </a:bodyPr>
            <a:p>
              <a:endParaRPr b="1" lang="en-US" sz="2400" spc="-1" strike="noStrike">
                <a:solidFill>
                  <a:srgbClr val="ffffff"/>
                </a:solidFill>
                <a:latin typeface="Times New Roman"/>
              </a:endParaRPr>
            </a:p>
          </p:txBody>
        </p:sp>
        <p:sp>
          <p:nvSpPr>
            <p:cNvPr id="565" name="Freeform 86"/>
            <p:cNvSpPr/>
            <p:nvPr/>
          </p:nvSpPr>
          <p:spPr>
            <a:xfrm>
              <a:off x="1456920" y="4161600"/>
              <a:ext cx="111960" cy="79560"/>
            </a:xfrm>
            <a:custGeom>
              <a:avLst/>
              <a:gdLst>
                <a:gd name="textAreaLeft" fmla="*/ 0 w 111960"/>
                <a:gd name="textAreaRight" fmla="*/ 112320 w 111960"/>
                <a:gd name="textAreaTop" fmla="*/ 0 h 79560"/>
                <a:gd name="textAreaBottom" fmla="*/ 79560 h 79560"/>
              </a:gdLst>
              <a:ahLst/>
              <a:rect l="textAreaLeft" t="textAreaTop" r="textAreaRight" b="textAreaBottom"/>
              <a:pathLst>
                <a:path w="257" h="173">
                  <a:moveTo>
                    <a:pt x="163" y="0"/>
                  </a:moveTo>
                  <a:lnTo>
                    <a:pt x="131" y="64"/>
                  </a:lnTo>
                  <a:lnTo>
                    <a:pt x="70" y="64"/>
                  </a:lnTo>
                  <a:lnTo>
                    <a:pt x="54" y="77"/>
                  </a:lnTo>
                  <a:lnTo>
                    <a:pt x="39" y="91"/>
                  </a:lnTo>
                  <a:lnTo>
                    <a:pt x="26" y="103"/>
                  </a:lnTo>
                  <a:lnTo>
                    <a:pt x="15" y="114"/>
                  </a:lnTo>
                  <a:lnTo>
                    <a:pt x="8" y="125"/>
                  </a:lnTo>
                  <a:lnTo>
                    <a:pt x="3" y="134"/>
                  </a:lnTo>
                  <a:lnTo>
                    <a:pt x="1" y="139"/>
                  </a:lnTo>
                  <a:lnTo>
                    <a:pt x="0" y="142"/>
                  </a:lnTo>
                  <a:lnTo>
                    <a:pt x="0" y="147"/>
                  </a:lnTo>
                  <a:lnTo>
                    <a:pt x="1" y="151"/>
                  </a:lnTo>
                  <a:lnTo>
                    <a:pt x="3" y="154"/>
                  </a:lnTo>
                  <a:lnTo>
                    <a:pt x="5" y="158"/>
                  </a:lnTo>
                  <a:lnTo>
                    <a:pt x="8" y="160"/>
                  </a:lnTo>
                  <a:lnTo>
                    <a:pt x="12" y="162"/>
                  </a:lnTo>
                  <a:lnTo>
                    <a:pt x="22" y="167"/>
                  </a:lnTo>
                  <a:lnTo>
                    <a:pt x="36" y="170"/>
                  </a:lnTo>
                  <a:lnTo>
                    <a:pt x="54" y="173"/>
                  </a:lnTo>
                  <a:lnTo>
                    <a:pt x="75" y="173"/>
                  </a:lnTo>
                  <a:lnTo>
                    <a:pt x="101" y="173"/>
                  </a:lnTo>
                  <a:lnTo>
                    <a:pt x="131" y="170"/>
                  </a:lnTo>
                  <a:lnTo>
                    <a:pt x="146" y="168"/>
                  </a:lnTo>
                  <a:lnTo>
                    <a:pt x="160" y="166"/>
                  </a:lnTo>
                  <a:lnTo>
                    <a:pt x="174" y="162"/>
                  </a:lnTo>
                  <a:lnTo>
                    <a:pt x="186" y="159"/>
                  </a:lnTo>
                  <a:lnTo>
                    <a:pt x="198" y="154"/>
                  </a:lnTo>
                  <a:lnTo>
                    <a:pt x="207" y="148"/>
                  </a:lnTo>
                  <a:lnTo>
                    <a:pt x="216" y="142"/>
                  </a:lnTo>
                  <a:lnTo>
                    <a:pt x="224" y="135"/>
                  </a:lnTo>
                  <a:lnTo>
                    <a:pt x="233" y="128"/>
                  </a:lnTo>
                  <a:lnTo>
                    <a:pt x="239" y="121"/>
                  </a:lnTo>
                  <a:lnTo>
                    <a:pt x="243" y="114"/>
                  </a:lnTo>
                  <a:lnTo>
                    <a:pt x="248" y="106"/>
                  </a:lnTo>
                  <a:lnTo>
                    <a:pt x="251" y="99"/>
                  </a:lnTo>
                  <a:lnTo>
                    <a:pt x="254" y="91"/>
                  </a:lnTo>
                  <a:lnTo>
                    <a:pt x="256" y="83"/>
                  </a:lnTo>
                  <a:lnTo>
                    <a:pt x="257" y="75"/>
                  </a:lnTo>
                  <a:lnTo>
                    <a:pt x="257" y="66"/>
                  </a:lnTo>
                  <a:lnTo>
                    <a:pt x="256" y="59"/>
                  </a:lnTo>
                  <a:lnTo>
                    <a:pt x="254" y="51"/>
                  </a:lnTo>
                  <a:lnTo>
                    <a:pt x="251" y="44"/>
                  </a:lnTo>
                  <a:lnTo>
                    <a:pt x="248" y="37"/>
                  </a:lnTo>
                  <a:lnTo>
                    <a:pt x="244" y="30"/>
                  </a:lnTo>
                  <a:lnTo>
                    <a:pt x="240" y="24"/>
                  </a:lnTo>
                  <a:lnTo>
                    <a:pt x="234" y="19"/>
                  </a:lnTo>
                  <a:lnTo>
                    <a:pt x="227" y="14"/>
                  </a:lnTo>
                  <a:lnTo>
                    <a:pt x="220" y="9"/>
                  </a:lnTo>
                  <a:lnTo>
                    <a:pt x="212" y="6"/>
                  </a:lnTo>
                  <a:lnTo>
                    <a:pt x="203" y="3"/>
                  </a:lnTo>
                  <a:lnTo>
                    <a:pt x="194" y="1"/>
                  </a:lnTo>
                  <a:lnTo>
                    <a:pt x="185" y="0"/>
                  </a:lnTo>
                  <a:lnTo>
                    <a:pt x="174" y="0"/>
                  </a:lnTo>
                  <a:lnTo>
                    <a:pt x="163" y="0"/>
                  </a:lnTo>
                  <a:close/>
                </a:path>
              </a:pathLst>
            </a:custGeom>
            <a:solidFill>
              <a:srgbClr val="93d5ed"/>
            </a:solidFill>
            <a:ln w="9360">
              <a:solidFill>
                <a:srgbClr val="ccecff"/>
              </a:solidFill>
              <a:round/>
            </a:ln>
          </p:spPr>
          <p:style>
            <a:lnRef idx="0"/>
            <a:fillRef idx="0"/>
            <a:effectRef idx="0"/>
            <a:fontRef idx="minor"/>
          </p:style>
          <p:txBody>
            <a:bodyPr lIns="90000" rIns="90000" tIns="32760" bIns="32760" anchor="t">
              <a:noAutofit/>
            </a:bodyPr>
            <a:p>
              <a:endParaRPr b="1" lang="en-US" sz="2400" spc="-1" strike="noStrike">
                <a:solidFill>
                  <a:srgbClr val="ffffff"/>
                </a:solidFill>
                <a:latin typeface="Times New Roman"/>
              </a:endParaRPr>
            </a:p>
          </p:txBody>
        </p:sp>
        <p:sp>
          <p:nvSpPr>
            <p:cNvPr id="566" name="Freeform 87"/>
            <p:cNvSpPr/>
            <p:nvPr/>
          </p:nvSpPr>
          <p:spPr>
            <a:xfrm>
              <a:off x="1456920" y="4161600"/>
              <a:ext cx="111960" cy="79560"/>
            </a:xfrm>
            <a:custGeom>
              <a:avLst/>
              <a:gdLst>
                <a:gd name="textAreaLeft" fmla="*/ 0 w 111960"/>
                <a:gd name="textAreaRight" fmla="*/ 112320 w 111960"/>
                <a:gd name="textAreaTop" fmla="*/ 0 h 79560"/>
                <a:gd name="textAreaBottom" fmla="*/ 79560 h 79560"/>
              </a:gdLst>
              <a:ahLst/>
              <a:rect l="textAreaLeft" t="textAreaTop" r="textAreaRight" b="textAreaBottom"/>
              <a:pathLst>
                <a:path w="257" h="173">
                  <a:moveTo>
                    <a:pt x="163" y="0"/>
                  </a:moveTo>
                  <a:lnTo>
                    <a:pt x="131" y="64"/>
                  </a:lnTo>
                  <a:lnTo>
                    <a:pt x="70" y="64"/>
                  </a:lnTo>
                  <a:lnTo>
                    <a:pt x="54" y="77"/>
                  </a:lnTo>
                  <a:lnTo>
                    <a:pt x="39" y="91"/>
                  </a:lnTo>
                  <a:lnTo>
                    <a:pt x="26" y="103"/>
                  </a:lnTo>
                  <a:lnTo>
                    <a:pt x="15" y="114"/>
                  </a:lnTo>
                  <a:lnTo>
                    <a:pt x="8" y="125"/>
                  </a:lnTo>
                  <a:lnTo>
                    <a:pt x="3" y="134"/>
                  </a:lnTo>
                  <a:lnTo>
                    <a:pt x="1" y="139"/>
                  </a:lnTo>
                  <a:lnTo>
                    <a:pt x="0" y="142"/>
                  </a:lnTo>
                  <a:lnTo>
                    <a:pt x="0" y="147"/>
                  </a:lnTo>
                  <a:lnTo>
                    <a:pt x="1" y="151"/>
                  </a:lnTo>
                  <a:lnTo>
                    <a:pt x="3" y="154"/>
                  </a:lnTo>
                  <a:lnTo>
                    <a:pt x="5" y="158"/>
                  </a:lnTo>
                  <a:lnTo>
                    <a:pt x="8" y="160"/>
                  </a:lnTo>
                  <a:lnTo>
                    <a:pt x="12" y="162"/>
                  </a:lnTo>
                  <a:lnTo>
                    <a:pt x="22" y="167"/>
                  </a:lnTo>
                  <a:lnTo>
                    <a:pt x="36" y="170"/>
                  </a:lnTo>
                  <a:lnTo>
                    <a:pt x="54" y="173"/>
                  </a:lnTo>
                  <a:lnTo>
                    <a:pt x="75" y="173"/>
                  </a:lnTo>
                  <a:lnTo>
                    <a:pt x="101" y="173"/>
                  </a:lnTo>
                  <a:lnTo>
                    <a:pt x="131" y="170"/>
                  </a:lnTo>
                  <a:lnTo>
                    <a:pt x="146" y="168"/>
                  </a:lnTo>
                  <a:lnTo>
                    <a:pt x="160" y="166"/>
                  </a:lnTo>
                  <a:lnTo>
                    <a:pt x="174" y="162"/>
                  </a:lnTo>
                  <a:lnTo>
                    <a:pt x="186" y="159"/>
                  </a:lnTo>
                  <a:lnTo>
                    <a:pt x="198" y="154"/>
                  </a:lnTo>
                  <a:lnTo>
                    <a:pt x="207" y="148"/>
                  </a:lnTo>
                  <a:lnTo>
                    <a:pt x="216" y="142"/>
                  </a:lnTo>
                  <a:lnTo>
                    <a:pt x="224" y="135"/>
                  </a:lnTo>
                  <a:lnTo>
                    <a:pt x="233" y="128"/>
                  </a:lnTo>
                  <a:lnTo>
                    <a:pt x="239" y="121"/>
                  </a:lnTo>
                  <a:lnTo>
                    <a:pt x="243" y="114"/>
                  </a:lnTo>
                  <a:lnTo>
                    <a:pt x="248" y="106"/>
                  </a:lnTo>
                  <a:lnTo>
                    <a:pt x="251" y="99"/>
                  </a:lnTo>
                  <a:lnTo>
                    <a:pt x="254" y="91"/>
                  </a:lnTo>
                  <a:lnTo>
                    <a:pt x="256" y="83"/>
                  </a:lnTo>
                  <a:lnTo>
                    <a:pt x="257" y="75"/>
                  </a:lnTo>
                  <a:lnTo>
                    <a:pt x="257" y="66"/>
                  </a:lnTo>
                  <a:lnTo>
                    <a:pt x="256" y="59"/>
                  </a:lnTo>
                  <a:lnTo>
                    <a:pt x="254" y="51"/>
                  </a:lnTo>
                  <a:lnTo>
                    <a:pt x="251" y="44"/>
                  </a:lnTo>
                  <a:lnTo>
                    <a:pt x="248" y="37"/>
                  </a:lnTo>
                  <a:lnTo>
                    <a:pt x="244" y="30"/>
                  </a:lnTo>
                  <a:lnTo>
                    <a:pt x="240" y="24"/>
                  </a:lnTo>
                  <a:lnTo>
                    <a:pt x="234" y="19"/>
                  </a:lnTo>
                  <a:lnTo>
                    <a:pt x="227" y="14"/>
                  </a:lnTo>
                  <a:lnTo>
                    <a:pt x="220" y="9"/>
                  </a:lnTo>
                  <a:lnTo>
                    <a:pt x="212" y="6"/>
                  </a:lnTo>
                  <a:lnTo>
                    <a:pt x="203" y="3"/>
                  </a:lnTo>
                  <a:lnTo>
                    <a:pt x="194" y="1"/>
                  </a:lnTo>
                  <a:lnTo>
                    <a:pt x="185" y="0"/>
                  </a:lnTo>
                  <a:lnTo>
                    <a:pt x="174" y="0"/>
                  </a:lnTo>
                  <a:lnTo>
                    <a:pt x="163" y="0"/>
                  </a:lnTo>
                </a:path>
              </a:pathLst>
            </a:custGeom>
            <a:solidFill>
              <a:srgbClr val="93d5ed"/>
            </a:solidFill>
            <a:ln w="3240">
              <a:solidFill>
                <a:srgbClr val="ccecff"/>
              </a:solidFill>
              <a:round/>
            </a:ln>
          </p:spPr>
          <p:style>
            <a:lnRef idx="0"/>
            <a:fillRef idx="0"/>
            <a:effectRef idx="0"/>
            <a:fontRef idx="minor"/>
          </p:style>
          <p:txBody>
            <a:bodyPr lIns="90000" rIns="90000" tIns="32760" bIns="32760" anchor="t">
              <a:noAutofit/>
            </a:bodyPr>
            <a:p>
              <a:endParaRPr b="1" lang="en-US" sz="2400" spc="-1" strike="noStrike">
                <a:solidFill>
                  <a:srgbClr val="ffffff"/>
                </a:solidFill>
                <a:latin typeface="Times New Roman"/>
              </a:endParaRPr>
            </a:p>
          </p:txBody>
        </p:sp>
        <p:sp>
          <p:nvSpPr>
            <p:cNvPr id="567" name="Freeform 88"/>
            <p:cNvSpPr/>
            <p:nvPr/>
          </p:nvSpPr>
          <p:spPr>
            <a:xfrm>
              <a:off x="1243440" y="4107600"/>
              <a:ext cx="125280" cy="56520"/>
            </a:xfrm>
            <a:custGeom>
              <a:avLst/>
              <a:gdLst>
                <a:gd name="textAreaLeft" fmla="*/ 0 w 125280"/>
                <a:gd name="textAreaRight" fmla="*/ 125640 w 125280"/>
                <a:gd name="textAreaTop" fmla="*/ 0 h 56520"/>
                <a:gd name="textAreaBottom" fmla="*/ 56880 h 56520"/>
              </a:gdLst>
              <a:ahLst/>
              <a:rect l="textAreaLeft" t="textAreaTop" r="textAreaRight" b="textAreaBottom"/>
              <a:pathLst>
                <a:path w="285" h="123">
                  <a:moveTo>
                    <a:pt x="106" y="28"/>
                  </a:moveTo>
                  <a:lnTo>
                    <a:pt x="86" y="36"/>
                  </a:lnTo>
                  <a:lnTo>
                    <a:pt x="68" y="44"/>
                  </a:lnTo>
                  <a:lnTo>
                    <a:pt x="52" y="53"/>
                  </a:lnTo>
                  <a:lnTo>
                    <a:pt x="38" y="62"/>
                  </a:lnTo>
                  <a:lnTo>
                    <a:pt x="25" y="71"/>
                  </a:lnTo>
                  <a:lnTo>
                    <a:pt x="16" y="79"/>
                  </a:lnTo>
                  <a:lnTo>
                    <a:pt x="7" y="87"/>
                  </a:lnTo>
                  <a:lnTo>
                    <a:pt x="3" y="94"/>
                  </a:lnTo>
                  <a:lnTo>
                    <a:pt x="2" y="99"/>
                  </a:lnTo>
                  <a:lnTo>
                    <a:pt x="0" y="101"/>
                  </a:lnTo>
                  <a:lnTo>
                    <a:pt x="0" y="105"/>
                  </a:lnTo>
                  <a:lnTo>
                    <a:pt x="2" y="108"/>
                  </a:lnTo>
                  <a:lnTo>
                    <a:pt x="3" y="111"/>
                  </a:lnTo>
                  <a:lnTo>
                    <a:pt x="5" y="113"/>
                  </a:lnTo>
                  <a:lnTo>
                    <a:pt x="7" y="115"/>
                  </a:lnTo>
                  <a:lnTo>
                    <a:pt x="12" y="118"/>
                  </a:lnTo>
                  <a:lnTo>
                    <a:pt x="21" y="120"/>
                  </a:lnTo>
                  <a:lnTo>
                    <a:pt x="35" y="121"/>
                  </a:lnTo>
                  <a:lnTo>
                    <a:pt x="53" y="121"/>
                  </a:lnTo>
                  <a:lnTo>
                    <a:pt x="74" y="119"/>
                  </a:lnTo>
                  <a:lnTo>
                    <a:pt x="96" y="118"/>
                  </a:lnTo>
                  <a:lnTo>
                    <a:pt x="116" y="115"/>
                  </a:lnTo>
                  <a:lnTo>
                    <a:pt x="135" y="115"/>
                  </a:lnTo>
                  <a:lnTo>
                    <a:pt x="151" y="115"/>
                  </a:lnTo>
                  <a:lnTo>
                    <a:pt x="179" y="116"/>
                  </a:lnTo>
                  <a:lnTo>
                    <a:pt x="203" y="119"/>
                  </a:lnTo>
                  <a:lnTo>
                    <a:pt x="221" y="122"/>
                  </a:lnTo>
                  <a:lnTo>
                    <a:pt x="236" y="123"/>
                  </a:lnTo>
                  <a:lnTo>
                    <a:pt x="243" y="123"/>
                  </a:lnTo>
                  <a:lnTo>
                    <a:pt x="249" y="122"/>
                  </a:lnTo>
                  <a:lnTo>
                    <a:pt x="255" y="121"/>
                  </a:lnTo>
                  <a:lnTo>
                    <a:pt x="262" y="119"/>
                  </a:lnTo>
                  <a:lnTo>
                    <a:pt x="267" y="115"/>
                  </a:lnTo>
                  <a:lnTo>
                    <a:pt x="273" y="107"/>
                  </a:lnTo>
                  <a:lnTo>
                    <a:pt x="277" y="98"/>
                  </a:lnTo>
                  <a:lnTo>
                    <a:pt x="282" y="86"/>
                  </a:lnTo>
                  <a:lnTo>
                    <a:pt x="284" y="73"/>
                  </a:lnTo>
                  <a:lnTo>
                    <a:pt x="285" y="59"/>
                  </a:lnTo>
                  <a:lnTo>
                    <a:pt x="285" y="52"/>
                  </a:lnTo>
                  <a:lnTo>
                    <a:pt x="284" y="46"/>
                  </a:lnTo>
                  <a:lnTo>
                    <a:pt x="283" y="39"/>
                  </a:lnTo>
                  <a:lnTo>
                    <a:pt x="281" y="34"/>
                  </a:lnTo>
                  <a:lnTo>
                    <a:pt x="278" y="28"/>
                  </a:lnTo>
                  <a:lnTo>
                    <a:pt x="274" y="22"/>
                  </a:lnTo>
                  <a:lnTo>
                    <a:pt x="269" y="17"/>
                  </a:lnTo>
                  <a:lnTo>
                    <a:pt x="264" y="13"/>
                  </a:lnTo>
                  <a:lnTo>
                    <a:pt x="257" y="8"/>
                  </a:lnTo>
                  <a:lnTo>
                    <a:pt x="250" y="4"/>
                  </a:lnTo>
                  <a:lnTo>
                    <a:pt x="241" y="2"/>
                  </a:lnTo>
                  <a:lnTo>
                    <a:pt x="232" y="1"/>
                  </a:lnTo>
                  <a:lnTo>
                    <a:pt x="220" y="0"/>
                  </a:lnTo>
                  <a:lnTo>
                    <a:pt x="208" y="0"/>
                  </a:lnTo>
                  <a:lnTo>
                    <a:pt x="194" y="2"/>
                  </a:lnTo>
                  <a:lnTo>
                    <a:pt x="180" y="4"/>
                  </a:lnTo>
                  <a:lnTo>
                    <a:pt x="164" y="8"/>
                  </a:lnTo>
                  <a:lnTo>
                    <a:pt x="146" y="13"/>
                  </a:lnTo>
                  <a:lnTo>
                    <a:pt x="127" y="20"/>
                  </a:lnTo>
                  <a:lnTo>
                    <a:pt x="106" y="28"/>
                  </a:lnTo>
                  <a:close/>
                </a:path>
              </a:pathLst>
            </a:custGeom>
            <a:solidFill>
              <a:srgbClr val="93d5ed"/>
            </a:solidFill>
            <a:ln w="9360">
              <a:solidFill>
                <a:srgbClr val="ccecff"/>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Times New Roman"/>
              </a:endParaRPr>
            </a:p>
          </p:txBody>
        </p:sp>
        <p:sp>
          <p:nvSpPr>
            <p:cNvPr id="568" name="Freeform 89"/>
            <p:cNvSpPr/>
            <p:nvPr/>
          </p:nvSpPr>
          <p:spPr>
            <a:xfrm>
              <a:off x="1243440" y="4107600"/>
              <a:ext cx="125280" cy="56520"/>
            </a:xfrm>
            <a:custGeom>
              <a:avLst/>
              <a:gdLst>
                <a:gd name="textAreaLeft" fmla="*/ 0 w 125280"/>
                <a:gd name="textAreaRight" fmla="*/ 125640 w 125280"/>
                <a:gd name="textAreaTop" fmla="*/ 0 h 56520"/>
                <a:gd name="textAreaBottom" fmla="*/ 56880 h 56520"/>
              </a:gdLst>
              <a:ahLst/>
              <a:rect l="textAreaLeft" t="textAreaTop" r="textAreaRight" b="textAreaBottom"/>
              <a:pathLst>
                <a:path w="285" h="123">
                  <a:moveTo>
                    <a:pt x="106" y="28"/>
                  </a:moveTo>
                  <a:lnTo>
                    <a:pt x="86" y="36"/>
                  </a:lnTo>
                  <a:lnTo>
                    <a:pt x="68" y="44"/>
                  </a:lnTo>
                  <a:lnTo>
                    <a:pt x="52" y="53"/>
                  </a:lnTo>
                  <a:lnTo>
                    <a:pt x="38" y="62"/>
                  </a:lnTo>
                  <a:lnTo>
                    <a:pt x="25" y="71"/>
                  </a:lnTo>
                  <a:lnTo>
                    <a:pt x="16" y="79"/>
                  </a:lnTo>
                  <a:lnTo>
                    <a:pt x="7" y="87"/>
                  </a:lnTo>
                  <a:lnTo>
                    <a:pt x="3" y="94"/>
                  </a:lnTo>
                  <a:lnTo>
                    <a:pt x="2" y="99"/>
                  </a:lnTo>
                  <a:lnTo>
                    <a:pt x="0" y="101"/>
                  </a:lnTo>
                  <a:lnTo>
                    <a:pt x="0" y="105"/>
                  </a:lnTo>
                  <a:lnTo>
                    <a:pt x="2" y="108"/>
                  </a:lnTo>
                  <a:lnTo>
                    <a:pt x="3" y="111"/>
                  </a:lnTo>
                  <a:lnTo>
                    <a:pt x="5" y="113"/>
                  </a:lnTo>
                  <a:lnTo>
                    <a:pt x="7" y="115"/>
                  </a:lnTo>
                  <a:lnTo>
                    <a:pt x="12" y="118"/>
                  </a:lnTo>
                  <a:lnTo>
                    <a:pt x="21" y="120"/>
                  </a:lnTo>
                  <a:lnTo>
                    <a:pt x="35" y="121"/>
                  </a:lnTo>
                  <a:lnTo>
                    <a:pt x="53" y="121"/>
                  </a:lnTo>
                  <a:lnTo>
                    <a:pt x="74" y="119"/>
                  </a:lnTo>
                  <a:lnTo>
                    <a:pt x="96" y="118"/>
                  </a:lnTo>
                  <a:lnTo>
                    <a:pt x="116" y="115"/>
                  </a:lnTo>
                  <a:lnTo>
                    <a:pt x="135" y="115"/>
                  </a:lnTo>
                  <a:lnTo>
                    <a:pt x="151" y="115"/>
                  </a:lnTo>
                  <a:lnTo>
                    <a:pt x="179" y="116"/>
                  </a:lnTo>
                  <a:lnTo>
                    <a:pt x="203" y="119"/>
                  </a:lnTo>
                  <a:lnTo>
                    <a:pt x="221" y="122"/>
                  </a:lnTo>
                  <a:lnTo>
                    <a:pt x="236" y="123"/>
                  </a:lnTo>
                  <a:lnTo>
                    <a:pt x="243" y="123"/>
                  </a:lnTo>
                  <a:lnTo>
                    <a:pt x="249" y="122"/>
                  </a:lnTo>
                  <a:lnTo>
                    <a:pt x="255" y="121"/>
                  </a:lnTo>
                  <a:lnTo>
                    <a:pt x="262" y="119"/>
                  </a:lnTo>
                  <a:lnTo>
                    <a:pt x="267" y="115"/>
                  </a:lnTo>
                  <a:lnTo>
                    <a:pt x="273" y="107"/>
                  </a:lnTo>
                  <a:lnTo>
                    <a:pt x="277" y="98"/>
                  </a:lnTo>
                  <a:lnTo>
                    <a:pt x="282" y="86"/>
                  </a:lnTo>
                  <a:lnTo>
                    <a:pt x="284" y="73"/>
                  </a:lnTo>
                  <a:lnTo>
                    <a:pt x="285" y="59"/>
                  </a:lnTo>
                  <a:lnTo>
                    <a:pt x="285" y="52"/>
                  </a:lnTo>
                  <a:lnTo>
                    <a:pt x="284" y="46"/>
                  </a:lnTo>
                  <a:lnTo>
                    <a:pt x="283" y="39"/>
                  </a:lnTo>
                  <a:lnTo>
                    <a:pt x="281" y="34"/>
                  </a:lnTo>
                  <a:lnTo>
                    <a:pt x="278" y="28"/>
                  </a:lnTo>
                  <a:lnTo>
                    <a:pt x="274" y="22"/>
                  </a:lnTo>
                  <a:lnTo>
                    <a:pt x="269" y="17"/>
                  </a:lnTo>
                  <a:lnTo>
                    <a:pt x="264" y="13"/>
                  </a:lnTo>
                  <a:lnTo>
                    <a:pt x="257" y="8"/>
                  </a:lnTo>
                  <a:lnTo>
                    <a:pt x="250" y="4"/>
                  </a:lnTo>
                  <a:lnTo>
                    <a:pt x="241" y="2"/>
                  </a:lnTo>
                  <a:lnTo>
                    <a:pt x="232" y="1"/>
                  </a:lnTo>
                  <a:lnTo>
                    <a:pt x="220" y="0"/>
                  </a:lnTo>
                  <a:lnTo>
                    <a:pt x="208" y="0"/>
                  </a:lnTo>
                  <a:lnTo>
                    <a:pt x="194" y="2"/>
                  </a:lnTo>
                  <a:lnTo>
                    <a:pt x="180" y="4"/>
                  </a:lnTo>
                  <a:lnTo>
                    <a:pt x="164" y="8"/>
                  </a:lnTo>
                  <a:lnTo>
                    <a:pt x="146" y="13"/>
                  </a:lnTo>
                  <a:lnTo>
                    <a:pt x="127" y="20"/>
                  </a:lnTo>
                  <a:lnTo>
                    <a:pt x="106" y="28"/>
                  </a:lnTo>
                  <a:close/>
                </a:path>
              </a:pathLst>
            </a:custGeom>
            <a:solidFill>
              <a:srgbClr val="93d5ed"/>
            </a:solidFill>
            <a:ln w="3240">
              <a:solidFill>
                <a:srgbClr val="ccecff"/>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Times New Roman"/>
              </a:endParaRPr>
            </a:p>
          </p:txBody>
        </p:sp>
        <p:sp>
          <p:nvSpPr>
            <p:cNvPr id="569" name="Freeform 90"/>
            <p:cNvSpPr/>
            <p:nvPr/>
          </p:nvSpPr>
          <p:spPr>
            <a:xfrm>
              <a:off x="1122840" y="4125600"/>
              <a:ext cx="92160" cy="99720"/>
            </a:xfrm>
            <a:custGeom>
              <a:avLst/>
              <a:gdLst>
                <a:gd name="textAreaLeft" fmla="*/ 0 w 92160"/>
                <a:gd name="textAreaRight" fmla="*/ 92520 w 92160"/>
                <a:gd name="textAreaTop" fmla="*/ 0 h 99720"/>
                <a:gd name="textAreaBottom" fmla="*/ 100080 h 99720"/>
              </a:gdLst>
              <a:ahLst/>
              <a:rect l="textAreaLeft" t="textAreaTop" r="textAreaRight" b="textAreaBottom"/>
              <a:pathLst>
                <a:path w="207" h="221">
                  <a:moveTo>
                    <a:pt x="207" y="50"/>
                  </a:moveTo>
                  <a:lnTo>
                    <a:pt x="97" y="206"/>
                  </a:lnTo>
                  <a:lnTo>
                    <a:pt x="90" y="208"/>
                  </a:lnTo>
                  <a:lnTo>
                    <a:pt x="73" y="214"/>
                  </a:lnTo>
                  <a:lnTo>
                    <a:pt x="61" y="216"/>
                  </a:lnTo>
                  <a:lnTo>
                    <a:pt x="49" y="218"/>
                  </a:lnTo>
                  <a:lnTo>
                    <a:pt x="38" y="221"/>
                  </a:lnTo>
                  <a:lnTo>
                    <a:pt x="26" y="221"/>
                  </a:lnTo>
                  <a:lnTo>
                    <a:pt x="17" y="221"/>
                  </a:lnTo>
                  <a:lnTo>
                    <a:pt x="9" y="218"/>
                  </a:lnTo>
                  <a:lnTo>
                    <a:pt x="5" y="216"/>
                  </a:lnTo>
                  <a:lnTo>
                    <a:pt x="3" y="214"/>
                  </a:lnTo>
                  <a:lnTo>
                    <a:pt x="2" y="210"/>
                  </a:lnTo>
                  <a:lnTo>
                    <a:pt x="0" y="206"/>
                  </a:lnTo>
                  <a:lnTo>
                    <a:pt x="0" y="202"/>
                  </a:lnTo>
                  <a:lnTo>
                    <a:pt x="2" y="196"/>
                  </a:lnTo>
                  <a:lnTo>
                    <a:pt x="5" y="190"/>
                  </a:lnTo>
                  <a:lnTo>
                    <a:pt x="9" y="183"/>
                  </a:lnTo>
                  <a:lnTo>
                    <a:pt x="20" y="166"/>
                  </a:lnTo>
                  <a:lnTo>
                    <a:pt x="37" y="146"/>
                  </a:lnTo>
                  <a:lnTo>
                    <a:pt x="73" y="102"/>
                  </a:lnTo>
                  <a:lnTo>
                    <a:pt x="102" y="63"/>
                  </a:lnTo>
                  <a:lnTo>
                    <a:pt x="115" y="47"/>
                  </a:lnTo>
                  <a:lnTo>
                    <a:pt x="125" y="33"/>
                  </a:lnTo>
                  <a:lnTo>
                    <a:pt x="136" y="21"/>
                  </a:lnTo>
                  <a:lnTo>
                    <a:pt x="145" y="12"/>
                  </a:lnTo>
                  <a:lnTo>
                    <a:pt x="153" y="5"/>
                  </a:lnTo>
                  <a:lnTo>
                    <a:pt x="162" y="1"/>
                  </a:lnTo>
                  <a:lnTo>
                    <a:pt x="165" y="0"/>
                  </a:lnTo>
                  <a:lnTo>
                    <a:pt x="169" y="0"/>
                  </a:lnTo>
                  <a:lnTo>
                    <a:pt x="172" y="1"/>
                  </a:lnTo>
                  <a:lnTo>
                    <a:pt x="176" y="4"/>
                  </a:lnTo>
                  <a:lnTo>
                    <a:pt x="179" y="6"/>
                  </a:lnTo>
                  <a:lnTo>
                    <a:pt x="184" y="9"/>
                  </a:lnTo>
                  <a:lnTo>
                    <a:pt x="187" y="14"/>
                  </a:lnTo>
                  <a:lnTo>
                    <a:pt x="191" y="19"/>
                  </a:lnTo>
                  <a:lnTo>
                    <a:pt x="199" y="33"/>
                  </a:lnTo>
                  <a:lnTo>
                    <a:pt x="207" y="5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0" name="Freeform 91"/>
            <p:cNvSpPr/>
            <p:nvPr/>
          </p:nvSpPr>
          <p:spPr>
            <a:xfrm>
              <a:off x="1122840" y="4125600"/>
              <a:ext cx="92160" cy="99720"/>
            </a:xfrm>
            <a:custGeom>
              <a:avLst/>
              <a:gdLst>
                <a:gd name="textAreaLeft" fmla="*/ 0 w 92160"/>
                <a:gd name="textAreaRight" fmla="*/ 92520 w 92160"/>
                <a:gd name="textAreaTop" fmla="*/ 0 h 99720"/>
                <a:gd name="textAreaBottom" fmla="*/ 100080 h 99720"/>
              </a:gdLst>
              <a:ahLst/>
              <a:rect l="textAreaLeft" t="textAreaTop" r="textAreaRight" b="textAreaBottom"/>
              <a:pathLst>
                <a:path w="207" h="221">
                  <a:moveTo>
                    <a:pt x="207" y="50"/>
                  </a:moveTo>
                  <a:lnTo>
                    <a:pt x="97" y="206"/>
                  </a:lnTo>
                  <a:lnTo>
                    <a:pt x="90" y="208"/>
                  </a:lnTo>
                  <a:lnTo>
                    <a:pt x="73" y="214"/>
                  </a:lnTo>
                  <a:lnTo>
                    <a:pt x="61" y="216"/>
                  </a:lnTo>
                  <a:lnTo>
                    <a:pt x="49" y="218"/>
                  </a:lnTo>
                  <a:lnTo>
                    <a:pt x="38" y="221"/>
                  </a:lnTo>
                  <a:lnTo>
                    <a:pt x="26" y="221"/>
                  </a:lnTo>
                  <a:lnTo>
                    <a:pt x="17" y="221"/>
                  </a:lnTo>
                  <a:lnTo>
                    <a:pt x="9" y="218"/>
                  </a:lnTo>
                  <a:lnTo>
                    <a:pt x="5" y="216"/>
                  </a:lnTo>
                  <a:lnTo>
                    <a:pt x="3" y="214"/>
                  </a:lnTo>
                  <a:lnTo>
                    <a:pt x="2" y="210"/>
                  </a:lnTo>
                  <a:lnTo>
                    <a:pt x="0" y="206"/>
                  </a:lnTo>
                  <a:lnTo>
                    <a:pt x="0" y="202"/>
                  </a:lnTo>
                  <a:lnTo>
                    <a:pt x="2" y="196"/>
                  </a:lnTo>
                  <a:lnTo>
                    <a:pt x="5" y="190"/>
                  </a:lnTo>
                  <a:lnTo>
                    <a:pt x="9" y="183"/>
                  </a:lnTo>
                  <a:lnTo>
                    <a:pt x="20" y="166"/>
                  </a:lnTo>
                  <a:lnTo>
                    <a:pt x="37" y="146"/>
                  </a:lnTo>
                  <a:lnTo>
                    <a:pt x="73" y="102"/>
                  </a:lnTo>
                  <a:lnTo>
                    <a:pt x="102" y="63"/>
                  </a:lnTo>
                  <a:lnTo>
                    <a:pt x="115" y="47"/>
                  </a:lnTo>
                  <a:lnTo>
                    <a:pt x="125" y="33"/>
                  </a:lnTo>
                  <a:lnTo>
                    <a:pt x="136" y="21"/>
                  </a:lnTo>
                  <a:lnTo>
                    <a:pt x="145" y="12"/>
                  </a:lnTo>
                  <a:lnTo>
                    <a:pt x="153" y="5"/>
                  </a:lnTo>
                  <a:lnTo>
                    <a:pt x="162" y="1"/>
                  </a:lnTo>
                  <a:lnTo>
                    <a:pt x="165" y="0"/>
                  </a:lnTo>
                  <a:lnTo>
                    <a:pt x="169" y="0"/>
                  </a:lnTo>
                  <a:lnTo>
                    <a:pt x="172" y="1"/>
                  </a:lnTo>
                  <a:lnTo>
                    <a:pt x="176" y="4"/>
                  </a:lnTo>
                  <a:lnTo>
                    <a:pt x="179" y="6"/>
                  </a:lnTo>
                  <a:lnTo>
                    <a:pt x="184" y="9"/>
                  </a:lnTo>
                  <a:lnTo>
                    <a:pt x="187" y="14"/>
                  </a:lnTo>
                  <a:lnTo>
                    <a:pt x="191" y="19"/>
                  </a:lnTo>
                  <a:lnTo>
                    <a:pt x="199" y="33"/>
                  </a:lnTo>
                  <a:lnTo>
                    <a:pt x="207" y="50"/>
                  </a:lnTo>
                  <a:close/>
                </a:path>
              </a:pathLst>
            </a:custGeom>
            <a:solidFill>
              <a:srgbClr val="93d5ed"/>
            </a:solidFill>
            <a:ln w="324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1" name="Freeform 92"/>
            <p:cNvSpPr/>
            <p:nvPr/>
          </p:nvSpPr>
          <p:spPr>
            <a:xfrm>
              <a:off x="5707440" y="2027880"/>
              <a:ext cx="636840" cy="190800"/>
            </a:xfrm>
            <a:custGeom>
              <a:avLst/>
              <a:gdLst>
                <a:gd name="textAreaLeft" fmla="*/ 0 w 636840"/>
                <a:gd name="textAreaRight" fmla="*/ 637200 w 636840"/>
                <a:gd name="textAreaTop" fmla="*/ 0 h 190800"/>
                <a:gd name="textAreaBottom" fmla="*/ 191160 h 190800"/>
              </a:gdLst>
              <a:ahLst/>
              <a:rect l="textAreaLeft" t="textAreaTop" r="textAreaRight" b="textAreaBottom"/>
              <a:pathLst>
                <a:path w="1452" h="422">
                  <a:moveTo>
                    <a:pt x="0" y="206"/>
                  </a:moveTo>
                  <a:lnTo>
                    <a:pt x="24" y="230"/>
                  </a:lnTo>
                  <a:lnTo>
                    <a:pt x="50" y="250"/>
                  </a:lnTo>
                  <a:lnTo>
                    <a:pt x="75" y="268"/>
                  </a:lnTo>
                  <a:lnTo>
                    <a:pt x="98" y="282"/>
                  </a:lnTo>
                  <a:lnTo>
                    <a:pt x="122" y="295"/>
                  </a:lnTo>
                  <a:lnTo>
                    <a:pt x="147" y="306"/>
                  </a:lnTo>
                  <a:lnTo>
                    <a:pt x="171" y="315"/>
                  </a:lnTo>
                  <a:lnTo>
                    <a:pt x="195" y="321"/>
                  </a:lnTo>
                  <a:lnTo>
                    <a:pt x="218" y="327"/>
                  </a:lnTo>
                  <a:lnTo>
                    <a:pt x="243" y="330"/>
                  </a:lnTo>
                  <a:lnTo>
                    <a:pt x="266" y="332"/>
                  </a:lnTo>
                  <a:lnTo>
                    <a:pt x="289" y="334"/>
                  </a:lnTo>
                  <a:lnTo>
                    <a:pt x="336" y="332"/>
                  </a:lnTo>
                  <a:lnTo>
                    <a:pt x="383" y="330"/>
                  </a:lnTo>
                  <a:lnTo>
                    <a:pt x="411" y="329"/>
                  </a:lnTo>
                  <a:lnTo>
                    <a:pt x="438" y="329"/>
                  </a:lnTo>
                  <a:lnTo>
                    <a:pt x="464" y="330"/>
                  </a:lnTo>
                  <a:lnTo>
                    <a:pt x="489" y="331"/>
                  </a:lnTo>
                  <a:lnTo>
                    <a:pt x="514" y="334"/>
                  </a:lnTo>
                  <a:lnTo>
                    <a:pt x="537" y="336"/>
                  </a:lnTo>
                  <a:lnTo>
                    <a:pt x="559" y="341"/>
                  </a:lnTo>
                  <a:lnTo>
                    <a:pt x="581" y="345"/>
                  </a:lnTo>
                  <a:lnTo>
                    <a:pt x="601" y="351"/>
                  </a:lnTo>
                  <a:lnTo>
                    <a:pt x="620" y="357"/>
                  </a:lnTo>
                  <a:lnTo>
                    <a:pt x="638" y="365"/>
                  </a:lnTo>
                  <a:lnTo>
                    <a:pt x="653" y="374"/>
                  </a:lnTo>
                  <a:lnTo>
                    <a:pt x="667" y="384"/>
                  </a:lnTo>
                  <a:lnTo>
                    <a:pt x="678" y="396"/>
                  </a:lnTo>
                  <a:lnTo>
                    <a:pt x="684" y="401"/>
                  </a:lnTo>
                  <a:lnTo>
                    <a:pt x="689" y="408"/>
                  </a:lnTo>
                  <a:lnTo>
                    <a:pt x="694" y="415"/>
                  </a:lnTo>
                  <a:lnTo>
                    <a:pt x="697" y="422"/>
                  </a:lnTo>
                  <a:lnTo>
                    <a:pt x="708" y="405"/>
                  </a:lnTo>
                  <a:lnTo>
                    <a:pt x="718" y="390"/>
                  </a:lnTo>
                  <a:lnTo>
                    <a:pt x="730" y="374"/>
                  </a:lnTo>
                  <a:lnTo>
                    <a:pt x="744" y="360"/>
                  </a:lnTo>
                  <a:lnTo>
                    <a:pt x="758" y="348"/>
                  </a:lnTo>
                  <a:lnTo>
                    <a:pt x="774" y="337"/>
                  </a:lnTo>
                  <a:lnTo>
                    <a:pt x="782" y="332"/>
                  </a:lnTo>
                  <a:lnTo>
                    <a:pt x="791" y="328"/>
                  </a:lnTo>
                  <a:lnTo>
                    <a:pt x="800" y="324"/>
                  </a:lnTo>
                  <a:lnTo>
                    <a:pt x="809" y="322"/>
                  </a:lnTo>
                  <a:lnTo>
                    <a:pt x="871" y="304"/>
                  </a:lnTo>
                  <a:lnTo>
                    <a:pt x="939" y="287"/>
                  </a:lnTo>
                  <a:lnTo>
                    <a:pt x="1014" y="271"/>
                  </a:lnTo>
                  <a:lnTo>
                    <a:pt x="1093" y="254"/>
                  </a:lnTo>
                  <a:lnTo>
                    <a:pt x="1177" y="239"/>
                  </a:lnTo>
                  <a:lnTo>
                    <a:pt x="1265" y="223"/>
                  </a:lnTo>
                  <a:lnTo>
                    <a:pt x="1357" y="207"/>
                  </a:lnTo>
                  <a:lnTo>
                    <a:pt x="1452" y="192"/>
                  </a:lnTo>
                  <a:lnTo>
                    <a:pt x="1439" y="177"/>
                  </a:lnTo>
                  <a:lnTo>
                    <a:pt x="1407" y="146"/>
                  </a:lnTo>
                  <a:lnTo>
                    <a:pt x="1387" y="129"/>
                  </a:lnTo>
                  <a:lnTo>
                    <a:pt x="1366" y="114"/>
                  </a:lnTo>
                  <a:lnTo>
                    <a:pt x="1356" y="108"/>
                  </a:lnTo>
                  <a:lnTo>
                    <a:pt x="1347" y="103"/>
                  </a:lnTo>
                  <a:lnTo>
                    <a:pt x="1337" y="101"/>
                  </a:lnTo>
                  <a:lnTo>
                    <a:pt x="1328" y="100"/>
                  </a:lnTo>
                  <a:lnTo>
                    <a:pt x="1308" y="101"/>
                  </a:lnTo>
                  <a:lnTo>
                    <a:pt x="1284" y="106"/>
                  </a:lnTo>
                  <a:lnTo>
                    <a:pt x="1255" y="111"/>
                  </a:lnTo>
                  <a:lnTo>
                    <a:pt x="1227" y="115"/>
                  </a:lnTo>
                  <a:lnTo>
                    <a:pt x="1212" y="116"/>
                  </a:lnTo>
                  <a:lnTo>
                    <a:pt x="1198" y="115"/>
                  </a:lnTo>
                  <a:lnTo>
                    <a:pt x="1184" y="114"/>
                  </a:lnTo>
                  <a:lnTo>
                    <a:pt x="1170" y="112"/>
                  </a:lnTo>
                  <a:lnTo>
                    <a:pt x="1159" y="107"/>
                  </a:lnTo>
                  <a:lnTo>
                    <a:pt x="1146" y="101"/>
                  </a:lnTo>
                  <a:lnTo>
                    <a:pt x="1141" y="98"/>
                  </a:lnTo>
                  <a:lnTo>
                    <a:pt x="1135" y="93"/>
                  </a:lnTo>
                  <a:lnTo>
                    <a:pt x="1131" y="88"/>
                  </a:lnTo>
                  <a:lnTo>
                    <a:pt x="1126" y="82"/>
                  </a:lnTo>
                  <a:lnTo>
                    <a:pt x="1121" y="77"/>
                  </a:lnTo>
                  <a:lnTo>
                    <a:pt x="1116" y="73"/>
                  </a:lnTo>
                  <a:lnTo>
                    <a:pt x="1111" y="68"/>
                  </a:lnTo>
                  <a:lnTo>
                    <a:pt x="1104" y="66"/>
                  </a:lnTo>
                  <a:lnTo>
                    <a:pt x="1097" y="64"/>
                  </a:lnTo>
                  <a:lnTo>
                    <a:pt x="1090" y="61"/>
                  </a:lnTo>
                  <a:lnTo>
                    <a:pt x="1081" y="60"/>
                  </a:lnTo>
                  <a:lnTo>
                    <a:pt x="1073" y="59"/>
                  </a:lnTo>
                  <a:lnTo>
                    <a:pt x="1056" y="59"/>
                  </a:lnTo>
                  <a:lnTo>
                    <a:pt x="1037" y="61"/>
                  </a:lnTo>
                  <a:lnTo>
                    <a:pt x="1020" y="64"/>
                  </a:lnTo>
                  <a:lnTo>
                    <a:pt x="1001" y="68"/>
                  </a:lnTo>
                  <a:lnTo>
                    <a:pt x="967" y="78"/>
                  </a:lnTo>
                  <a:lnTo>
                    <a:pt x="938" y="88"/>
                  </a:lnTo>
                  <a:lnTo>
                    <a:pt x="918" y="96"/>
                  </a:lnTo>
                  <a:lnTo>
                    <a:pt x="910" y="100"/>
                  </a:lnTo>
                  <a:lnTo>
                    <a:pt x="910" y="106"/>
                  </a:lnTo>
                  <a:lnTo>
                    <a:pt x="907" y="121"/>
                  </a:lnTo>
                  <a:lnTo>
                    <a:pt x="905" y="130"/>
                  </a:lnTo>
                  <a:lnTo>
                    <a:pt x="902" y="141"/>
                  </a:lnTo>
                  <a:lnTo>
                    <a:pt x="897" y="153"/>
                  </a:lnTo>
                  <a:lnTo>
                    <a:pt x="891" y="163"/>
                  </a:lnTo>
                  <a:lnTo>
                    <a:pt x="883" y="174"/>
                  </a:lnTo>
                  <a:lnTo>
                    <a:pt x="872" y="183"/>
                  </a:lnTo>
                  <a:lnTo>
                    <a:pt x="867" y="188"/>
                  </a:lnTo>
                  <a:lnTo>
                    <a:pt x="860" y="191"/>
                  </a:lnTo>
                  <a:lnTo>
                    <a:pt x="852" y="195"/>
                  </a:lnTo>
                  <a:lnTo>
                    <a:pt x="844" y="197"/>
                  </a:lnTo>
                  <a:lnTo>
                    <a:pt x="836" y="199"/>
                  </a:lnTo>
                  <a:lnTo>
                    <a:pt x="827" y="200"/>
                  </a:lnTo>
                  <a:lnTo>
                    <a:pt x="816" y="202"/>
                  </a:lnTo>
                  <a:lnTo>
                    <a:pt x="806" y="202"/>
                  </a:lnTo>
                  <a:lnTo>
                    <a:pt x="794" y="200"/>
                  </a:lnTo>
                  <a:lnTo>
                    <a:pt x="782" y="198"/>
                  </a:lnTo>
                  <a:lnTo>
                    <a:pt x="768" y="196"/>
                  </a:lnTo>
                  <a:lnTo>
                    <a:pt x="754" y="192"/>
                  </a:lnTo>
                  <a:lnTo>
                    <a:pt x="742" y="184"/>
                  </a:lnTo>
                  <a:lnTo>
                    <a:pt x="728" y="177"/>
                  </a:lnTo>
                  <a:lnTo>
                    <a:pt x="715" y="172"/>
                  </a:lnTo>
                  <a:lnTo>
                    <a:pt x="699" y="168"/>
                  </a:lnTo>
                  <a:lnTo>
                    <a:pt x="685" y="164"/>
                  </a:lnTo>
                  <a:lnTo>
                    <a:pt x="671" y="162"/>
                  </a:lnTo>
                  <a:lnTo>
                    <a:pt x="657" y="161"/>
                  </a:lnTo>
                  <a:lnTo>
                    <a:pt x="643" y="160"/>
                  </a:lnTo>
                  <a:lnTo>
                    <a:pt x="589" y="161"/>
                  </a:lnTo>
                  <a:lnTo>
                    <a:pt x="542" y="164"/>
                  </a:lnTo>
                  <a:lnTo>
                    <a:pt x="531" y="164"/>
                  </a:lnTo>
                  <a:lnTo>
                    <a:pt x="522" y="164"/>
                  </a:lnTo>
                  <a:lnTo>
                    <a:pt x="514" y="163"/>
                  </a:lnTo>
                  <a:lnTo>
                    <a:pt x="507" y="162"/>
                  </a:lnTo>
                  <a:lnTo>
                    <a:pt x="500" y="160"/>
                  </a:lnTo>
                  <a:lnTo>
                    <a:pt x="495" y="156"/>
                  </a:lnTo>
                  <a:lnTo>
                    <a:pt x="492" y="153"/>
                  </a:lnTo>
                  <a:lnTo>
                    <a:pt x="488" y="148"/>
                  </a:lnTo>
                  <a:lnTo>
                    <a:pt x="487" y="141"/>
                  </a:lnTo>
                  <a:lnTo>
                    <a:pt x="488" y="134"/>
                  </a:lnTo>
                  <a:lnTo>
                    <a:pt x="489" y="125"/>
                  </a:lnTo>
                  <a:lnTo>
                    <a:pt x="493" y="114"/>
                  </a:lnTo>
                  <a:lnTo>
                    <a:pt x="499" y="101"/>
                  </a:lnTo>
                  <a:lnTo>
                    <a:pt x="504" y="87"/>
                  </a:lnTo>
                  <a:lnTo>
                    <a:pt x="514" y="72"/>
                  </a:lnTo>
                  <a:lnTo>
                    <a:pt x="524" y="53"/>
                  </a:lnTo>
                  <a:lnTo>
                    <a:pt x="523" y="50"/>
                  </a:lnTo>
                  <a:lnTo>
                    <a:pt x="518" y="42"/>
                  </a:lnTo>
                  <a:lnTo>
                    <a:pt x="511" y="31"/>
                  </a:lnTo>
                  <a:lnTo>
                    <a:pt x="501" y="18"/>
                  </a:lnTo>
                  <a:lnTo>
                    <a:pt x="494" y="14"/>
                  </a:lnTo>
                  <a:lnTo>
                    <a:pt x="487" y="8"/>
                  </a:lnTo>
                  <a:lnTo>
                    <a:pt x="480" y="4"/>
                  </a:lnTo>
                  <a:lnTo>
                    <a:pt x="471" y="2"/>
                  </a:lnTo>
                  <a:lnTo>
                    <a:pt x="461" y="0"/>
                  </a:lnTo>
                  <a:lnTo>
                    <a:pt x="452" y="1"/>
                  </a:lnTo>
                  <a:lnTo>
                    <a:pt x="441" y="3"/>
                  </a:lnTo>
                  <a:lnTo>
                    <a:pt x="430" y="8"/>
                  </a:lnTo>
                  <a:lnTo>
                    <a:pt x="417" y="15"/>
                  </a:lnTo>
                  <a:lnTo>
                    <a:pt x="400" y="24"/>
                  </a:lnTo>
                  <a:lnTo>
                    <a:pt x="383" y="36"/>
                  </a:lnTo>
                  <a:lnTo>
                    <a:pt x="363" y="50"/>
                  </a:lnTo>
                  <a:lnTo>
                    <a:pt x="315" y="82"/>
                  </a:lnTo>
                  <a:lnTo>
                    <a:pt x="261" y="116"/>
                  </a:lnTo>
                  <a:lnTo>
                    <a:pt x="232" y="134"/>
                  </a:lnTo>
                  <a:lnTo>
                    <a:pt x="201" y="150"/>
                  </a:lnTo>
                  <a:lnTo>
                    <a:pt x="169" y="164"/>
                  </a:lnTo>
                  <a:lnTo>
                    <a:pt x="136" y="178"/>
                  </a:lnTo>
                  <a:lnTo>
                    <a:pt x="120" y="184"/>
                  </a:lnTo>
                  <a:lnTo>
                    <a:pt x="103" y="189"/>
                  </a:lnTo>
                  <a:lnTo>
                    <a:pt x="86" y="195"/>
                  </a:lnTo>
                  <a:lnTo>
                    <a:pt x="69" y="198"/>
                  </a:lnTo>
                  <a:lnTo>
                    <a:pt x="52" y="202"/>
                  </a:lnTo>
                  <a:lnTo>
                    <a:pt x="35" y="204"/>
                  </a:lnTo>
                  <a:lnTo>
                    <a:pt x="17" y="205"/>
                  </a:lnTo>
                  <a:lnTo>
                    <a:pt x="0" y="2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2" name="Freeform 93"/>
            <p:cNvSpPr/>
            <p:nvPr/>
          </p:nvSpPr>
          <p:spPr>
            <a:xfrm>
              <a:off x="5707440" y="2027880"/>
              <a:ext cx="636840" cy="190800"/>
            </a:xfrm>
            <a:custGeom>
              <a:avLst/>
              <a:gdLst>
                <a:gd name="textAreaLeft" fmla="*/ 0 w 636840"/>
                <a:gd name="textAreaRight" fmla="*/ 637200 w 636840"/>
                <a:gd name="textAreaTop" fmla="*/ 0 h 190800"/>
                <a:gd name="textAreaBottom" fmla="*/ 191160 h 190800"/>
              </a:gdLst>
              <a:ahLst/>
              <a:rect l="textAreaLeft" t="textAreaTop" r="textAreaRight" b="textAreaBottom"/>
              <a:pathLst>
                <a:path w="1452" h="422">
                  <a:moveTo>
                    <a:pt x="0" y="206"/>
                  </a:moveTo>
                  <a:lnTo>
                    <a:pt x="24" y="230"/>
                  </a:lnTo>
                  <a:lnTo>
                    <a:pt x="50" y="250"/>
                  </a:lnTo>
                  <a:lnTo>
                    <a:pt x="75" y="268"/>
                  </a:lnTo>
                  <a:lnTo>
                    <a:pt x="98" y="282"/>
                  </a:lnTo>
                  <a:lnTo>
                    <a:pt x="122" y="295"/>
                  </a:lnTo>
                  <a:lnTo>
                    <a:pt x="147" y="306"/>
                  </a:lnTo>
                  <a:lnTo>
                    <a:pt x="171" y="315"/>
                  </a:lnTo>
                  <a:lnTo>
                    <a:pt x="195" y="321"/>
                  </a:lnTo>
                  <a:lnTo>
                    <a:pt x="218" y="327"/>
                  </a:lnTo>
                  <a:lnTo>
                    <a:pt x="243" y="330"/>
                  </a:lnTo>
                  <a:lnTo>
                    <a:pt x="266" y="332"/>
                  </a:lnTo>
                  <a:lnTo>
                    <a:pt x="289" y="334"/>
                  </a:lnTo>
                  <a:lnTo>
                    <a:pt x="336" y="332"/>
                  </a:lnTo>
                  <a:lnTo>
                    <a:pt x="383" y="330"/>
                  </a:lnTo>
                  <a:lnTo>
                    <a:pt x="411" y="329"/>
                  </a:lnTo>
                  <a:lnTo>
                    <a:pt x="438" y="329"/>
                  </a:lnTo>
                  <a:lnTo>
                    <a:pt x="464" y="330"/>
                  </a:lnTo>
                  <a:lnTo>
                    <a:pt x="489" y="331"/>
                  </a:lnTo>
                  <a:lnTo>
                    <a:pt x="514" y="334"/>
                  </a:lnTo>
                  <a:lnTo>
                    <a:pt x="537" y="336"/>
                  </a:lnTo>
                  <a:lnTo>
                    <a:pt x="559" y="341"/>
                  </a:lnTo>
                  <a:lnTo>
                    <a:pt x="581" y="345"/>
                  </a:lnTo>
                  <a:lnTo>
                    <a:pt x="601" y="351"/>
                  </a:lnTo>
                  <a:lnTo>
                    <a:pt x="620" y="357"/>
                  </a:lnTo>
                  <a:lnTo>
                    <a:pt x="638" y="365"/>
                  </a:lnTo>
                  <a:lnTo>
                    <a:pt x="653" y="374"/>
                  </a:lnTo>
                  <a:lnTo>
                    <a:pt x="667" y="384"/>
                  </a:lnTo>
                  <a:lnTo>
                    <a:pt x="678" y="396"/>
                  </a:lnTo>
                  <a:lnTo>
                    <a:pt x="684" y="401"/>
                  </a:lnTo>
                  <a:lnTo>
                    <a:pt x="689" y="408"/>
                  </a:lnTo>
                  <a:lnTo>
                    <a:pt x="694" y="415"/>
                  </a:lnTo>
                  <a:lnTo>
                    <a:pt x="697" y="422"/>
                  </a:lnTo>
                  <a:lnTo>
                    <a:pt x="708" y="405"/>
                  </a:lnTo>
                  <a:lnTo>
                    <a:pt x="718" y="390"/>
                  </a:lnTo>
                  <a:lnTo>
                    <a:pt x="730" y="374"/>
                  </a:lnTo>
                  <a:lnTo>
                    <a:pt x="744" y="360"/>
                  </a:lnTo>
                  <a:lnTo>
                    <a:pt x="758" y="348"/>
                  </a:lnTo>
                  <a:lnTo>
                    <a:pt x="774" y="337"/>
                  </a:lnTo>
                  <a:lnTo>
                    <a:pt x="782" y="332"/>
                  </a:lnTo>
                  <a:lnTo>
                    <a:pt x="791" y="328"/>
                  </a:lnTo>
                  <a:lnTo>
                    <a:pt x="800" y="324"/>
                  </a:lnTo>
                  <a:lnTo>
                    <a:pt x="809" y="322"/>
                  </a:lnTo>
                  <a:lnTo>
                    <a:pt x="871" y="304"/>
                  </a:lnTo>
                  <a:lnTo>
                    <a:pt x="939" y="287"/>
                  </a:lnTo>
                  <a:lnTo>
                    <a:pt x="1014" y="271"/>
                  </a:lnTo>
                  <a:lnTo>
                    <a:pt x="1093" y="254"/>
                  </a:lnTo>
                  <a:lnTo>
                    <a:pt x="1177" y="239"/>
                  </a:lnTo>
                  <a:lnTo>
                    <a:pt x="1265" y="223"/>
                  </a:lnTo>
                  <a:lnTo>
                    <a:pt x="1357" y="207"/>
                  </a:lnTo>
                  <a:lnTo>
                    <a:pt x="1452" y="192"/>
                  </a:lnTo>
                  <a:lnTo>
                    <a:pt x="1439" y="177"/>
                  </a:lnTo>
                  <a:lnTo>
                    <a:pt x="1407" y="146"/>
                  </a:lnTo>
                  <a:lnTo>
                    <a:pt x="1387" y="129"/>
                  </a:lnTo>
                  <a:lnTo>
                    <a:pt x="1366" y="114"/>
                  </a:lnTo>
                  <a:lnTo>
                    <a:pt x="1356" y="108"/>
                  </a:lnTo>
                  <a:lnTo>
                    <a:pt x="1347" y="103"/>
                  </a:lnTo>
                  <a:lnTo>
                    <a:pt x="1337" y="101"/>
                  </a:lnTo>
                  <a:lnTo>
                    <a:pt x="1328" y="100"/>
                  </a:lnTo>
                  <a:lnTo>
                    <a:pt x="1308" y="101"/>
                  </a:lnTo>
                  <a:lnTo>
                    <a:pt x="1284" y="106"/>
                  </a:lnTo>
                  <a:lnTo>
                    <a:pt x="1255" y="111"/>
                  </a:lnTo>
                  <a:lnTo>
                    <a:pt x="1227" y="115"/>
                  </a:lnTo>
                  <a:lnTo>
                    <a:pt x="1212" y="116"/>
                  </a:lnTo>
                  <a:lnTo>
                    <a:pt x="1198" y="115"/>
                  </a:lnTo>
                  <a:lnTo>
                    <a:pt x="1184" y="114"/>
                  </a:lnTo>
                  <a:lnTo>
                    <a:pt x="1170" y="112"/>
                  </a:lnTo>
                  <a:lnTo>
                    <a:pt x="1159" y="107"/>
                  </a:lnTo>
                  <a:lnTo>
                    <a:pt x="1146" y="101"/>
                  </a:lnTo>
                  <a:lnTo>
                    <a:pt x="1141" y="98"/>
                  </a:lnTo>
                  <a:lnTo>
                    <a:pt x="1135" y="93"/>
                  </a:lnTo>
                  <a:lnTo>
                    <a:pt x="1131" y="88"/>
                  </a:lnTo>
                  <a:lnTo>
                    <a:pt x="1126" y="82"/>
                  </a:lnTo>
                  <a:lnTo>
                    <a:pt x="1121" y="77"/>
                  </a:lnTo>
                  <a:lnTo>
                    <a:pt x="1116" y="73"/>
                  </a:lnTo>
                  <a:lnTo>
                    <a:pt x="1111" y="68"/>
                  </a:lnTo>
                  <a:lnTo>
                    <a:pt x="1104" y="66"/>
                  </a:lnTo>
                  <a:lnTo>
                    <a:pt x="1097" y="64"/>
                  </a:lnTo>
                  <a:lnTo>
                    <a:pt x="1090" y="61"/>
                  </a:lnTo>
                  <a:lnTo>
                    <a:pt x="1081" y="60"/>
                  </a:lnTo>
                  <a:lnTo>
                    <a:pt x="1073" y="59"/>
                  </a:lnTo>
                  <a:lnTo>
                    <a:pt x="1056" y="59"/>
                  </a:lnTo>
                  <a:lnTo>
                    <a:pt x="1037" y="61"/>
                  </a:lnTo>
                  <a:lnTo>
                    <a:pt x="1020" y="64"/>
                  </a:lnTo>
                  <a:lnTo>
                    <a:pt x="1001" y="68"/>
                  </a:lnTo>
                  <a:lnTo>
                    <a:pt x="967" y="78"/>
                  </a:lnTo>
                  <a:lnTo>
                    <a:pt x="938" y="88"/>
                  </a:lnTo>
                  <a:lnTo>
                    <a:pt x="918" y="96"/>
                  </a:lnTo>
                  <a:lnTo>
                    <a:pt x="910" y="100"/>
                  </a:lnTo>
                  <a:lnTo>
                    <a:pt x="910" y="106"/>
                  </a:lnTo>
                  <a:lnTo>
                    <a:pt x="907" y="121"/>
                  </a:lnTo>
                  <a:lnTo>
                    <a:pt x="905" y="130"/>
                  </a:lnTo>
                  <a:lnTo>
                    <a:pt x="902" y="141"/>
                  </a:lnTo>
                  <a:lnTo>
                    <a:pt x="897" y="153"/>
                  </a:lnTo>
                  <a:lnTo>
                    <a:pt x="891" y="163"/>
                  </a:lnTo>
                  <a:lnTo>
                    <a:pt x="883" y="174"/>
                  </a:lnTo>
                  <a:lnTo>
                    <a:pt x="872" y="183"/>
                  </a:lnTo>
                  <a:lnTo>
                    <a:pt x="867" y="188"/>
                  </a:lnTo>
                  <a:lnTo>
                    <a:pt x="860" y="191"/>
                  </a:lnTo>
                  <a:lnTo>
                    <a:pt x="852" y="195"/>
                  </a:lnTo>
                  <a:lnTo>
                    <a:pt x="844" y="197"/>
                  </a:lnTo>
                  <a:lnTo>
                    <a:pt x="836" y="199"/>
                  </a:lnTo>
                  <a:lnTo>
                    <a:pt x="827" y="200"/>
                  </a:lnTo>
                  <a:lnTo>
                    <a:pt x="816" y="202"/>
                  </a:lnTo>
                  <a:lnTo>
                    <a:pt x="806" y="202"/>
                  </a:lnTo>
                  <a:lnTo>
                    <a:pt x="794" y="200"/>
                  </a:lnTo>
                  <a:lnTo>
                    <a:pt x="782" y="198"/>
                  </a:lnTo>
                  <a:lnTo>
                    <a:pt x="768" y="196"/>
                  </a:lnTo>
                  <a:lnTo>
                    <a:pt x="754" y="192"/>
                  </a:lnTo>
                  <a:lnTo>
                    <a:pt x="742" y="184"/>
                  </a:lnTo>
                  <a:lnTo>
                    <a:pt x="728" y="177"/>
                  </a:lnTo>
                  <a:lnTo>
                    <a:pt x="715" y="172"/>
                  </a:lnTo>
                  <a:lnTo>
                    <a:pt x="699" y="168"/>
                  </a:lnTo>
                  <a:lnTo>
                    <a:pt x="685" y="164"/>
                  </a:lnTo>
                  <a:lnTo>
                    <a:pt x="671" y="162"/>
                  </a:lnTo>
                  <a:lnTo>
                    <a:pt x="657" y="161"/>
                  </a:lnTo>
                  <a:lnTo>
                    <a:pt x="643" y="160"/>
                  </a:lnTo>
                  <a:lnTo>
                    <a:pt x="589" y="161"/>
                  </a:lnTo>
                  <a:lnTo>
                    <a:pt x="542" y="164"/>
                  </a:lnTo>
                  <a:lnTo>
                    <a:pt x="531" y="164"/>
                  </a:lnTo>
                  <a:lnTo>
                    <a:pt x="522" y="164"/>
                  </a:lnTo>
                  <a:lnTo>
                    <a:pt x="514" y="163"/>
                  </a:lnTo>
                  <a:lnTo>
                    <a:pt x="507" y="162"/>
                  </a:lnTo>
                  <a:lnTo>
                    <a:pt x="500" y="160"/>
                  </a:lnTo>
                  <a:lnTo>
                    <a:pt x="495" y="156"/>
                  </a:lnTo>
                  <a:lnTo>
                    <a:pt x="492" y="153"/>
                  </a:lnTo>
                  <a:lnTo>
                    <a:pt x="488" y="148"/>
                  </a:lnTo>
                  <a:lnTo>
                    <a:pt x="487" y="141"/>
                  </a:lnTo>
                  <a:lnTo>
                    <a:pt x="488" y="134"/>
                  </a:lnTo>
                  <a:lnTo>
                    <a:pt x="489" y="125"/>
                  </a:lnTo>
                  <a:lnTo>
                    <a:pt x="493" y="114"/>
                  </a:lnTo>
                  <a:lnTo>
                    <a:pt x="499" y="101"/>
                  </a:lnTo>
                  <a:lnTo>
                    <a:pt x="504" y="87"/>
                  </a:lnTo>
                  <a:lnTo>
                    <a:pt x="514" y="72"/>
                  </a:lnTo>
                  <a:lnTo>
                    <a:pt x="524" y="53"/>
                  </a:lnTo>
                  <a:lnTo>
                    <a:pt x="523" y="50"/>
                  </a:lnTo>
                  <a:lnTo>
                    <a:pt x="518" y="42"/>
                  </a:lnTo>
                  <a:lnTo>
                    <a:pt x="511" y="31"/>
                  </a:lnTo>
                  <a:lnTo>
                    <a:pt x="501" y="18"/>
                  </a:lnTo>
                  <a:lnTo>
                    <a:pt x="494" y="14"/>
                  </a:lnTo>
                  <a:lnTo>
                    <a:pt x="487" y="8"/>
                  </a:lnTo>
                  <a:lnTo>
                    <a:pt x="480" y="4"/>
                  </a:lnTo>
                  <a:lnTo>
                    <a:pt x="471" y="2"/>
                  </a:lnTo>
                  <a:lnTo>
                    <a:pt x="461" y="0"/>
                  </a:lnTo>
                  <a:lnTo>
                    <a:pt x="452" y="1"/>
                  </a:lnTo>
                  <a:lnTo>
                    <a:pt x="441" y="3"/>
                  </a:lnTo>
                  <a:lnTo>
                    <a:pt x="430" y="8"/>
                  </a:lnTo>
                  <a:lnTo>
                    <a:pt x="417" y="15"/>
                  </a:lnTo>
                  <a:lnTo>
                    <a:pt x="400" y="24"/>
                  </a:lnTo>
                  <a:lnTo>
                    <a:pt x="383" y="36"/>
                  </a:lnTo>
                  <a:lnTo>
                    <a:pt x="363" y="50"/>
                  </a:lnTo>
                  <a:lnTo>
                    <a:pt x="315" y="82"/>
                  </a:lnTo>
                  <a:lnTo>
                    <a:pt x="261" y="116"/>
                  </a:lnTo>
                  <a:lnTo>
                    <a:pt x="232" y="134"/>
                  </a:lnTo>
                  <a:lnTo>
                    <a:pt x="201" y="150"/>
                  </a:lnTo>
                  <a:lnTo>
                    <a:pt x="169" y="164"/>
                  </a:lnTo>
                  <a:lnTo>
                    <a:pt x="136" y="178"/>
                  </a:lnTo>
                  <a:lnTo>
                    <a:pt x="120" y="184"/>
                  </a:lnTo>
                  <a:lnTo>
                    <a:pt x="103" y="189"/>
                  </a:lnTo>
                  <a:lnTo>
                    <a:pt x="86" y="195"/>
                  </a:lnTo>
                  <a:lnTo>
                    <a:pt x="69" y="198"/>
                  </a:lnTo>
                  <a:lnTo>
                    <a:pt x="52" y="202"/>
                  </a:lnTo>
                  <a:lnTo>
                    <a:pt x="35" y="204"/>
                  </a:lnTo>
                  <a:lnTo>
                    <a:pt x="17" y="205"/>
                  </a:lnTo>
                  <a:lnTo>
                    <a:pt x="0" y="206"/>
                  </a:lnTo>
                </a:path>
              </a:pathLst>
            </a:custGeom>
            <a:solidFill>
              <a:srgbClr val="93d5ed"/>
            </a:solidFill>
            <a:ln w="324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3" name="Freeform 94"/>
            <p:cNvSpPr/>
            <p:nvPr/>
          </p:nvSpPr>
          <p:spPr>
            <a:xfrm>
              <a:off x="2085120" y="2098440"/>
              <a:ext cx="1044000" cy="447120"/>
            </a:xfrm>
            <a:custGeom>
              <a:avLst/>
              <a:gdLst>
                <a:gd name="textAreaLeft" fmla="*/ 0 w 1044000"/>
                <a:gd name="textAreaRight" fmla="*/ 1044360 w 1044000"/>
                <a:gd name="textAreaTop" fmla="*/ 0 h 447120"/>
                <a:gd name="textAreaBottom" fmla="*/ 447480 h 447120"/>
              </a:gdLst>
              <a:ahLst/>
              <a:rect l="textAreaLeft" t="textAreaTop" r="textAreaRight" b="textAreaBottom"/>
              <a:pathLst>
                <a:path w="2375" h="987">
                  <a:moveTo>
                    <a:pt x="916" y="921"/>
                  </a:moveTo>
                  <a:lnTo>
                    <a:pt x="0" y="826"/>
                  </a:lnTo>
                  <a:lnTo>
                    <a:pt x="16" y="801"/>
                  </a:lnTo>
                  <a:lnTo>
                    <a:pt x="31" y="778"/>
                  </a:lnTo>
                  <a:lnTo>
                    <a:pt x="45" y="756"/>
                  </a:lnTo>
                  <a:lnTo>
                    <a:pt x="61" y="737"/>
                  </a:lnTo>
                  <a:lnTo>
                    <a:pt x="75" y="718"/>
                  </a:lnTo>
                  <a:lnTo>
                    <a:pt x="89" y="702"/>
                  </a:lnTo>
                  <a:lnTo>
                    <a:pt x="101" y="687"/>
                  </a:lnTo>
                  <a:lnTo>
                    <a:pt x="115" y="674"/>
                  </a:lnTo>
                  <a:lnTo>
                    <a:pt x="128" y="661"/>
                  </a:lnTo>
                  <a:lnTo>
                    <a:pt x="140" y="651"/>
                  </a:lnTo>
                  <a:lnTo>
                    <a:pt x="153" y="640"/>
                  </a:lnTo>
                  <a:lnTo>
                    <a:pt x="165" y="632"/>
                  </a:lnTo>
                  <a:lnTo>
                    <a:pt x="176" y="624"/>
                  </a:lnTo>
                  <a:lnTo>
                    <a:pt x="188" y="617"/>
                  </a:lnTo>
                  <a:lnTo>
                    <a:pt x="200" y="611"/>
                  </a:lnTo>
                  <a:lnTo>
                    <a:pt x="211" y="605"/>
                  </a:lnTo>
                  <a:lnTo>
                    <a:pt x="233" y="597"/>
                  </a:lnTo>
                  <a:lnTo>
                    <a:pt x="256" y="590"/>
                  </a:lnTo>
                  <a:lnTo>
                    <a:pt x="277" y="583"/>
                  </a:lnTo>
                  <a:lnTo>
                    <a:pt x="299" y="578"/>
                  </a:lnTo>
                  <a:lnTo>
                    <a:pt x="320" y="572"/>
                  </a:lnTo>
                  <a:lnTo>
                    <a:pt x="341" y="565"/>
                  </a:lnTo>
                  <a:lnTo>
                    <a:pt x="363" y="557"/>
                  </a:lnTo>
                  <a:lnTo>
                    <a:pt x="385" y="547"/>
                  </a:lnTo>
                  <a:lnTo>
                    <a:pt x="410" y="534"/>
                  </a:lnTo>
                  <a:lnTo>
                    <a:pt x="434" y="517"/>
                  </a:lnTo>
                  <a:lnTo>
                    <a:pt x="461" y="500"/>
                  </a:lnTo>
                  <a:lnTo>
                    <a:pt x="487" y="480"/>
                  </a:lnTo>
                  <a:lnTo>
                    <a:pt x="514" y="458"/>
                  </a:lnTo>
                  <a:lnTo>
                    <a:pt x="541" y="434"/>
                  </a:lnTo>
                  <a:lnTo>
                    <a:pt x="568" y="411"/>
                  </a:lnTo>
                  <a:lnTo>
                    <a:pt x="593" y="388"/>
                  </a:lnTo>
                  <a:lnTo>
                    <a:pt x="642" y="340"/>
                  </a:lnTo>
                  <a:lnTo>
                    <a:pt x="686" y="298"/>
                  </a:lnTo>
                  <a:lnTo>
                    <a:pt x="719" y="263"/>
                  </a:lnTo>
                  <a:lnTo>
                    <a:pt x="743" y="238"/>
                  </a:lnTo>
                  <a:lnTo>
                    <a:pt x="752" y="231"/>
                  </a:lnTo>
                  <a:lnTo>
                    <a:pt x="761" y="225"/>
                  </a:lnTo>
                  <a:lnTo>
                    <a:pt x="771" y="222"/>
                  </a:lnTo>
                  <a:lnTo>
                    <a:pt x="780" y="219"/>
                  </a:lnTo>
                  <a:lnTo>
                    <a:pt x="800" y="216"/>
                  </a:lnTo>
                  <a:lnTo>
                    <a:pt x="821" y="212"/>
                  </a:lnTo>
                  <a:lnTo>
                    <a:pt x="833" y="210"/>
                  </a:lnTo>
                  <a:lnTo>
                    <a:pt x="843" y="205"/>
                  </a:lnTo>
                  <a:lnTo>
                    <a:pt x="855" y="200"/>
                  </a:lnTo>
                  <a:lnTo>
                    <a:pt x="867" y="191"/>
                  </a:lnTo>
                  <a:lnTo>
                    <a:pt x="877" y="181"/>
                  </a:lnTo>
                  <a:lnTo>
                    <a:pt x="889" y="167"/>
                  </a:lnTo>
                  <a:lnTo>
                    <a:pt x="902" y="151"/>
                  </a:lnTo>
                  <a:lnTo>
                    <a:pt x="913" y="130"/>
                  </a:lnTo>
                  <a:lnTo>
                    <a:pt x="924" y="110"/>
                  </a:lnTo>
                  <a:lnTo>
                    <a:pt x="934" y="92"/>
                  </a:lnTo>
                  <a:lnTo>
                    <a:pt x="947" y="75"/>
                  </a:lnTo>
                  <a:lnTo>
                    <a:pt x="960" y="58"/>
                  </a:lnTo>
                  <a:lnTo>
                    <a:pt x="988" y="28"/>
                  </a:lnTo>
                  <a:lnTo>
                    <a:pt x="1016" y="0"/>
                  </a:lnTo>
                  <a:lnTo>
                    <a:pt x="1192" y="37"/>
                  </a:lnTo>
                  <a:lnTo>
                    <a:pt x="1192" y="49"/>
                  </a:lnTo>
                  <a:lnTo>
                    <a:pt x="1194" y="62"/>
                  </a:lnTo>
                  <a:lnTo>
                    <a:pt x="1195" y="72"/>
                  </a:lnTo>
                  <a:lnTo>
                    <a:pt x="1197" y="83"/>
                  </a:lnTo>
                  <a:lnTo>
                    <a:pt x="1199" y="93"/>
                  </a:lnTo>
                  <a:lnTo>
                    <a:pt x="1203" y="103"/>
                  </a:lnTo>
                  <a:lnTo>
                    <a:pt x="1206" y="112"/>
                  </a:lnTo>
                  <a:lnTo>
                    <a:pt x="1210" y="120"/>
                  </a:lnTo>
                  <a:lnTo>
                    <a:pt x="1215" y="127"/>
                  </a:lnTo>
                  <a:lnTo>
                    <a:pt x="1219" y="134"/>
                  </a:lnTo>
                  <a:lnTo>
                    <a:pt x="1224" y="141"/>
                  </a:lnTo>
                  <a:lnTo>
                    <a:pt x="1230" y="147"/>
                  </a:lnTo>
                  <a:lnTo>
                    <a:pt x="1243" y="159"/>
                  </a:lnTo>
                  <a:lnTo>
                    <a:pt x="1256" y="168"/>
                  </a:lnTo>
                  <a:lnTo>
                    <a:pt x="1270" y="176"/>
                  </a:lnTo>
                  <a:lnTo>
                    <a:pt x="1284" y="183"/>
                  </a:lnTo>
                  <a:lnTo>
                    <a:pt x="1300" y="189"/>
                  </a:lnTo>
                  <a:lnTo>
                    <a:pt x="1315" y="194"/>
                  </a:lnTo>
                  <a:lnTo>
                    <a:pt x="1347" y="201"/>
                  </a:lnTo>
                  <a:lnTo>
                    <a:pt x="1377" y="207"/>
                  </a:lnTo>
                  <a:lnTo>
                    <a:pt x="1400" y="209"/>
                  </a:lnTo>
                  <a:lnTo>
                    <a:pt x="1439" y="209"/>
                  </a:lnTo>
                  <a:lnTo>
                    <a:pt x="1492" y="209"/>
                  </a:lnTo>
                  <a:lnTo>
                    <a:pt x="1556" y="208"/>
                  </a:lnTo>
                  <a:lnTo>
                    <a:pt x="1628" y="205"/>
                  </a:lnTo>
                  <a:lnTo>
                    <a:pt x="1708" y="204"/>
                  </a:lnTo>
                  <a:lnTo>
                    <a:pt x="1792" y="203"/>
                  </a:lnTo>
                  <a:lnTo>
                    <a:pt x="1877" y="203"/>
                  </a:lnTo>
                  <a:lnTo>
                    <a:pt x="1962" y="203"/>
                  </a:lnTo>
                  <a:lnTo>
                    <a:pt x="2046" y="205"/>
                  </a:lnTo>
                  <a:lnTo>
                    <a:pt x="2086" y="208"/>
                  </a:lnTo>
                  <a:lnTo>
                    <a:pt x="2125" y="210"/>
                  </a:lnTo>
                  <a:lnTo>
                    <a:pt x="2161" y="212"/>
                  </a:lnTo>
                  <a:lnTo>
                    <a:pt x="2196" y="216"/>
                  </a:lnTo>
                  <a:lnTo>
                    <a:pt x="2227" y="221"/>
                  </a:lnTo>
                  <a:lnTo>
                    <a:pt x="2258" y="225"/>
                  </a:lnTo>
                  <a:lnTo>
                    <a:pt x="2285" y="230"/>
                  </a:lnTo>
                  <a:lnTo>
                    <a:pt x="2308" y="237"/>
                  </a:lnTo>
                  <a:lnTo>
                    <a:pt x="2328" y="244"/>
                  </a:lnTo>
                  <a:lnTo>
                    <a:pt x="2344" y="251"/>
                  </a:lnTo>
                  <a:lnTo>
                    <a:pt x="2357" y="260"/>
                  </a:lnTo>
                  <a:lnTo>
                    <a:pt x="2364" y="270"/>
                  </a:lnTo>
                  <a:lnTo>
                    <a:pt x="2370" y="280"/>
                  </a:lnTo>
                  <a:lnTo>
                    <a:pt x="2373" y="288"/>
                  </a:lnTo>
                  <a:lnTo>
                    <a:pt x="2375" y="298"/>
                  </a:lnTo>
                  <a:lnTo>
                    <a:pt x="2375" y="306"/>
                  </a:lnTo>
                  <a:lnTo>
                    <a:pt x="2373" y="313"/>
                  </a:lnTo>
                  <a:lnTo>
                    <a:pt x="2370" y="320"/>
                  </a:lnTo>
                  <a:lnTo>
                    <a:pt x="2366" y="327"/>
                  </a:lnTo>
                  <a:lnTo>
                    <a:pt x="2361" y="333"/>
                  </a:lnTo>
                  <a:lnTo>
                    <a:pt x="2355" y="339"/>
                  </a:lnTo>
                  <a:lnTo>
                    <a:pt x="2347" y="343"/>
                  </a:lnTo>
                  <a:lnTo>
                    <a:pt x="2338" y="348"/>
                  </a:lnTo>
                  <a:lnTo>
                    <a:pt x="2329" y="353"/>
                  </a:lnTo>
                  <a:lnTo>
                    <a:pt x="2308" y="362"/>
                  </a:lnTo>
                  <a:lnTo>
                    <a:pt x="2285" y="369"/>
                  </a:lnTo>
                  <a:lnTo>
                    <a:pt x="2233" y="382"/>
                  </a:lnTo>
                  <a:lnTo>
                    <a:pt x="2180" y="395"/>
                  </a:lnTo>
                  <a:lnTo>
                    <a:pt x="2153" y="401"/>
                  </a:lnTo>
                  <a:lnTo>
                    <a:pt x="2129" y="408"/>
                  </a:lnTo>
                  <a:lnTo>
                    <a:pt x="2107" y="415"/>
                  </a:lnTo>
                  <a:lnTo>
                    <a:pt x="2088" y="423"/>
                  </a:lnTo>
                  <a:lnTo>
                    <a:pt x="2059" y="438"/>
                  </a:lnTo>
                  <a:lnTo>
                    <a:pt x="2039" y="448"/>
                  </a:lnTo>
                  <a:lnTo>
                    <a:pt x="2034" y="453"/>
                  </a:lnTo>
                  <a:lnTo>
                    <a:pt x="2029" y="457"/>
                  </a:lnTo>
                  <a:lnTo>
                    <a:pt x="2027" y="461"/>
                  </a:lnTo>
                  <a:lnTo>
                    <a:pt x="2025" y="466"/>
                  </a:lnTo>
                  <a:lnTo>
                    <a:pt x="2027" y="471"/>
                  </a:lnTo>
                  <a:lnTo>
                    <a:pt x="2028" y="475"/>
                  </a:lnTo>
                  <a:lnTo>
                    <a:pt x="2031" y="481"/>
                  </a:lnTo>
                  <a:lnTo>
                    <a:pt x="2035" y="489"/>
                  </a:lnTo>
                  <a:lnTo>
                    <a:pt x="2045" y="507"/>
                  </a:lnTo>
                  <a:lnTo>
                    <a:pt x="2057" y="533"/>
                  </a:lnTo>
                  <a:lnTo>
                    <a:pt x="2062" y="547"/>
                  </a:lnTo>
                  <a:lnTo>
                    <a:pt x="2064" y="559"/>
                  </a:lnTo>
                  <a:lnTo>
                    <a:pt x="2065" y="571"/>
                  </a:lnTo>
                  <a:lnTo>
                    <a:pt x="2064" y="583"/>
                  </a:lnTo>
                  <a:lnTo>
                    <a:pt x="2060" y="593"/>
                  </a:lnTo>
                  <a:lnTo>
                    <a:pt x="2056" y="603"/>
                  </a:lnTo>
                  <a:lnTo>
                    <a:pt x="2049" y="612"/>
                  </a:lnTo>
                  <a:lnTo>
                    <a:pt x="2041" y="620"/>
                  </a:lnTo>
                  <a:lnTo>
                    <a:pt x="2031" y="628"/>
                  </a:lnTo>
                  <a:lnTo>
                    <a:pt x="2021" y="636"/>
                  </a:lnTo>
                  <a:lnTo>
                    <a:pt x="2009" y="645"/>
                  </a:lnTo>
                  <a:lnTo>
                    <a:pt x="1995" y="653"/>
                  </a:lnTo>
                  <a:lnTo>
                    <a:pt x="1966" y="668"/>
                  </a:lnTo>
                  <a:lnTo>
                    <a:pt x="1933" y="684"/>
                  </a:lnTo>
                  <a:lnTo>
                    <a:pt x="1916" y="694"/>
                  </a:lnTo>
                  <a:lnTo>
                    <a:pt x="1900" y="702"/>
                  </a:lnTo>
                  <a:lnTo>
                    <a:pt x="1888" y="711"/>
                  </a:lnTo>
                  <a:lnTo>
                    <a:pt x="1875" y="721"/>
                  </a:lnTo>
                  <a:lnTo>
                    <a:pt x="1863" y="729"/>
                  </a:lnTo>
                  <a:lnTo>
                    <a:pt x="1854" y="738"/>
                  </a:lnTo>
                  <a:lnTo>
                    <a:pt x="1845" y="747"/>
                  </a:lnTo>
                  <a:lnTo>
                    <a:pt x="1837" y="757"/>
                  </a:lnTo>
                  <a:lnTo>
                    <a:pt x="1831" y="767"/>
                  </a:lnTo>
                  <a:lnTo>
                    <a:pt x="1827" y="777"/>
                  </a:lnTo>
                  <a:lnTo>
                    <a:pt x="1823" y="787"/>
                  </a:lnTo>
                  <a:lnTo>
                    <a:pt x="1821" y="797"/>
                  </a:lnTo>
                  <a:lnTo>
                    <a:pt x="1820" y="807"/>
                  </a:lnTo>
                  <a:lnTo>
                    <a:pt x="1820" y="819"/>
                  </a:lnTo>
                  <a:lnTo>
                    <a:pt x="1821" y="829"/>
                  </a:lnTo>
                  <a:lnTo>
                    <a:pt x="1823" y="841"/>
                  </a:lnTo>
                  <a:lnTo>
                    <a:pt x="1826" y="851"/>
                  </a:lnTo>
                  <a:lnTo>
                    <a:pt x="1826" y="863"/>
                  </a:lnTo>
                  <a:lnTo>
                    <a:pt x="1823" y="874"/>
                  </a:lnTo>
                  <a:lnTo>
                    <a:pt x="1820" y="884"/>
                  </a:lnTo>
                  <a:lnTo>
                    <a:pt x="1815" y="893"/>
                  </a:lnTo>
                  <a:lnTo>
                    <a:pt x="1808" y="903"/>
                  </a:lnTo>
                  <a:lnTo>
                    <a:pt x="1801" y="912"/>
                  </a:lnTo>
                  <a:lnTo>
                    <a:pt x="1792" y="920"/>
                  </a:lnTo>
                  <a:lnTo>
                    <a:pt x="1772" y="938"/>
                  </a:lnTo>
                  <a:lnTo>
                    <a:pt x="1748" y="954"/>
                  </a:lnTo>
                  <a:lnTo>
                    <a:pt x="1725" y="971"/>
                  </a:lnTo>
                  <a:lnTo>
                    <a:pt x="1702" y="987"/>
                  </a:lnTo>
                  <a:lnTo>
                    <a:pt x="916" y="92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4" name="Freeform 95"/>
            <p:cNvSpPr/>
            <p:nvPr/>
          </p:nvSpPr>
          <p:spPr>
            <a:xfrm>
              <a:off x="2085120" y="2098440"/>
              <a:ext cx="1044000" cy="447120"/>
            </a:xfrm>
            <a:custGeom>
              <a:avLst/>
              <a:gdLst>
                <a:gd name="textAreaLeft" fmla="*/ 0 w 1044000"/>
                <a:gd name="textAreaRight" fmla="*/ 1044360 w 1044000"/>
                <a:gd name="textAreaTop" fmla="*/ 0 h 447120"/>
                <a:gd name="textAreaBottom" fmla="*/ 447480 h 447120"/>
              </a:gdLst>
              <a:ahLst/>
              <a:rect l="textAreaLeft" t="textAreaTop" r="textAreaRight" b="textAreaBottom"/>
              <a:pathLst>
                <a:path w="2375" h="987">
                  <a:moveTo>
                    <a:pt x="916" y="921"/>
                  </a:moveTo>
                  <a:lnTo>
                    <a:pt x="0" y="826"/>
                  </a:lnTo>
                  <a:lnTo>
                    <a:pt x="16" y="801"/>
                  </a:lnTo>
                  <a:lnTo>
                    <a:pt x="31" y="778"/>
                  </a:lnTo>
                  <a:lnTo>
                    <a:pt x="45" y="756"/>
                  </a:lnTo>
                  <a:lnTo>
                    <a:pt x="61" y="737"/>
                  </a:lnTo>
                  <a:lnTo>
                    <a:pt x="75" y="718"/>
                  </a:lnTo>
                  <a:lnTo>
                    <a:pt x="89" y="702"/>
                  </a:lnTo>
                  <a:lnTo>
                    <a:pt x="101" y="687"/>
                  </a:lnTo>
                  <a:lnTo>
                    <a:pt x="115" y="674"/>
                  </a:lnTo>
                  <a:lnTo>
                    <a:pt x="128" y="661"/>
                  </a:lnTo>
                  <a:lnTo>
                    <a:pt x="140" y="651"/>
                  </a:lnTo>
                  <a:lnTo>
                    <a:pt x="153" y="640"/>
                  </a:lnTo>
                  <a:lnTo>
                    <a:pt x="165" y="632"/>
                  </a:lnTo>
                  <a:lnTo>
                    <a:pt x="176" y="624"/>
                  </a:lnTo>
                  <a:lnTo>
                    <a:pt x="188" y="617"/>
                  </a:lnTo>
                  <a:lnTo>
                    <a:pt x="200" y="611"/>
                  </a:lnTo>
                  <a:lnTo>
                    <a:pt x="211" y="605"/>
                  </a:lnTo>
                  <a:lnTo>
                    <a:pt x="233" y="597"/>
                  </a:lnTo>
                  <a:lnTo>
                    <a:pt x="256" y="590"/>
                  </a:lnTo>
                  <a:lnTo>
                    <a:pt x="277" y="583"/>
                  </a:lnTo>
                  <a:lnTo>
                    <a:pt x="299" y="578"/>
                  </a:lnTo>
                  <a:lnTo>
                    <a:pt x="320" y="572"/>
                  </a:lnTo>
                  <a:lnTo>
                    <a:pt x="341" y="565"/>
                  </a:lnTo>
                  <a:lnTo>
                    <a:pt x="363" y="557"/>
                  </a:lnTo>
                  <a:lnTo>
                    <a:pt x="385" y="547"/>
                  </a:lnTo>
                  <a:lnTo>
                    <a:pt x="410" y="534"/>
                  </a:lnTo>
                  <a:lnTo>
                    <a:pt x="434" y="517"/>
                  </a:lnTo>
                  <a:lnTo>
                    <a:pt x="461" y="500"/>
                  </a:lnTo>
                  <a:lnTo>
                    <a:pt x="487" y="480"/>
                  </a:lnTo>
                  <a:lnTo>
                    <a:pt x="514" y="458"/>
                  </a:lnTo>
                  <a:lnTo>
                    <a:pt x="541" y="434"/>
                  </a:lnTo>
                  <a:lnTo>
                    <a:pt x="568" y="411"/>
                  </a:lnTo>
                  <a:lnTo>
                    <a:pt x="593" y="388"/>
                  </a:lnTo>
                  <a:lnTo>
                    <a:pt x="642" y="340"/>
                  </a:lnTo>
                  <a:lnTo>
                    <a:pt x="686" y="298"/>
                  </a:lnTo>
                  <a:lnTo>
                    <a:pt x="719" y="263"/>
                  </a:lnTo>
                  <a:lnTo>
                    <a:pt x="743" y="238"/>
                  </a:lnTo>
                  <a:lnTo>
                    <a:pt x="752" y="231"/>
                  </a:lnTo>
                  <a:lnTo>
                    <a:pt x="761" y="225"/>
                  </a:lnTo>
                  <a:lnTo>
                    <a:pt x="771" y="222"/>
                  </a:lnTo>
                  <a:lnTo>
                    <a:pt x="780" y="219"/>
                  </a:lnTo>
                  <a:lnTo>
                    <a:pt x="800" y="216"/>
                  </a:lnTo>
                  <a:lnTo>
                    <a:pt x="821" y="212"/>
                  </a:lnTo>
                  <a:lnTo>
                    <a:pt x="833" y="210"/>
                  </a:lnTo>
                  <a:lnTo>
                    <a:pt x="843" y="205"/>
                  </a:lnTo>
                  <a:lnTo>
                    <a:pt x="855" y="200"/>
                  </a:lnTo>
                  <a:lnTo>
                    <a:pt x="867" y="191"/>
                  </a:lnTo>
                  <a:lnTo>
                    <a:pt x="877" y="181"/>
                  </a:lnTo>
                  <a:lnTo>
                    <a:pt x="889" y="167"/>
                  </a:lnTo>
                  <a:lnTo>
                    <a:pt x="902" y="151"/>
                  </a:lnTo>
                  <a:lnTo>
                    <a:pt x="913" y="130"/>
                  </a:lnTo>
                  <a:lnTo>
                    <a:pt x="924" y="110"/>
                  </a:lnTo>
                  <a:lnTo>
                    <a:pt x="934" y="92"/>
                  </a:lnTo>
                  <a:lnTo>
                    <a:pt x="947" y="75"/>
                  </a:lnTo>
                  <a:lnTo>
                    <a:pt x="960" y="58"/>
                  </a:lnTo>
                  <a:lnTo>
                    <a:pt x="988" y="28"/>
                  </a:lnTo>
                  <a:lnTo>
                    <a:pt x="1016" y="0"/>
                  </a:lnTo>
                  <a:lnTo>
                    <a:pt x="1192" y="37"/>
                  </a:lnTo>
                  <a:lnTo>
                    <a:pt x="1192" y="49"/>
                  </a:lnTo>
                  <a:lnTo>
                    <a:pt x="1194" y="62"/>
                  </a:lnTo>
                  <a:lnTo>
                    <a:pt x="1195" y="72"/>
                  </a:lnTo>
                  <a:lnTo>
                    <a:pt x="1197" y="83"/>
                  </a:lnTo>
                  <a:lnTo>
                    <a:pt x="1199" y="93"/>
                  </a:lnTo>
                  <a:lnTo>
                    <a:pt x="1203" y="103"/>
                  </a:lnTo>
                  <a:lnTo>
                    <a:pt x="1206" y="112"/>
                  </a:lnTo>
                  <a:lnTo>
                    <a:pt x="1210" y="120"/>
                  </a:lnTo>
                  <a:lnTo>
                    <a:pt x="1215" y="127"/>
                  </a:lnTo>
                  <a:lnTo>
                    <a:pt x="1219" y="134"/>
                  </a:lnTo>
                  <a:lnTo>
                    <a:pt x="1224" y="141"/>
                  </a:lnTo>
                  <a:lnTo>
                    <a:pt x="1230" y="147"/>
                  </a:lnTo>
                  <a:lnTo>
                    <a:pt x="1243" y="159"/>
                  </a:lnTo>
                  <a:lnTo>
                    <a:pt x="1256" y="168"/>
                  </a:lnTo>
                  <a:lnTo>
                    <a:pt x="1270" y="176"/>
                  </a:lnTo>
                  <a:lnTo>
                    <a:pt x="1284" y="183"/>
                  </a:lnTo>
                  <a:lnTo>
                    <a:pt x="1300" y="189"/>
                  </a:lnTo>
                  <a:lnTo>
                    <a:pt x="1315" y="194"/>
                  </a:lnTo>
                  <a:lnTo>
                    <a:pt x="1347" y="201"/>
                  </a:lnTo>
                  <a:lnTo>
                    <a:pt x="1377" y="207"/>
                  </a:lnTo>
                  <a:lnTo>
                    <a:pt x="1400" y="209"/>
                  </a:lnTo>
                  <a:lnTo>
                    <a:pt x="1439" y="209"/>
                  </a:lnTo>
                  <a:lnTo>
                    <a:pt x="1492" y="209"/>
                  </a:lnTo>
                  <a:lnTo>
                    <a:pt x="1556" y="208"/>
                  </a:lnTo>
                  <a:lnTo>
                    <a:pt x="1628" y="205"/>
                  </a:lnTo>
                  <a:lnTo>
                    <a:pt x="1708" y="204"/>
                  </a:lnTo>
                  <a:lnTo>
                    <a:pt x="1792" y="203"/>
                  </a:lnTo>
                  <a:lnTo>
                    <a:pt x="1877" y="203"/>
                  </a:lnTo>
                  <a:lnTo>
                    <a:pt x="1962" y="203"/>
                  </a:lnTo>
                  <a:lnTo>
                    <a:pt x="2046" y="205"/>
                  </a:lnTo>
                  <a:lnTo>
                    <a:pt x="2086" y="208"/>
                  </a:lnTo>
                  <a:lnTo>
                    <a:pt x="2125" y="210"/>
                  </a:lnTo>
                  <a:lnTo>
                    <a:pt x="2161" y="212"/>
                  </a:lnTo>
                  <a:lnTo>
                    <a:pt x="2196" y="216"/>
                  </a:lnTo>
                  <a:lnTo>
                    <a:pt x="2227" y="221"/>
                  </a:lnTo>
                  <a:lnTo>
                    <a:pt x="2258" y="225"/>
                  </a:lnTo>
                  <a:lnTo>
                    <a:pt x="2285" y="230"/>
                  </a:lnTo>
                  <a:lnTo>
                    <a:pt x="2308" y="237"/>
                  </a:lnTo>
                  <a:lnTo>
                    <a:pt x="2328" y="244"/>
                  </a:lnTo>
                  <a:lnTo>
                    <a:pt x="2344" y="251"/>
                  </a:lnTo>
                  <a:lnTo>
                    <a:pt x="2357" y="260"/>
                  </a:lnTo>
                  <a:lnTo>
                    <a:pt x="2364" y="270"/>
                  </a:lnTo>
                  <a:lnTo>
                    <a:pt x="2370" y="280"/>
                  </a:lnTo>
                  <a:lnTo>
                    <a:pt x="2373" y="288"/>
                  </a:lnTo>
                  <a:lnTo>
                    <a:pt x="2375" y="298"/>
                  </a:lnTo>
                  <a:lnTo>
                    <a:pt x="2375" y="306"/>
                  </a:lnTo>
                  <a:lnTo>
                    <a:pt x="2373" y="313"/>
                  </a:lnTo>
                  <a:lnTo>
                    <a:pt x="2370" y="320"/>
                  </a:lnTo>
                  <a:lnTo>
                    <a:pt x="2366" y="327"/>
                  </a:lnTo>
                  <a:lnTo>
                    <a:pt x="2361" y="333"/>
                  </a:lnTo>
                  <a:lnTo>
                    <a:pt x="2355" y="339"/>
                  </a:lnTo>
                  <a:lnTo>
                    <a:pt x="2347" y="343"/>
                  </a:lnTo>
                  <a:lnTo>
                    <a:pt x="2338" y="348"/>
                  </a:lnTo>
                  <a:lnTo>
                    <a:pt x="2329" y="353"/>
                  </a:lnTo>
                  <a:lnTo>
                    <a:pt x="2308" y="362"/>
                  </a:lnTo>
                  <a:lnTo>
                    <a:pt x="2285" y="369"/>
                  </a:lnTo>
                  <a:lnTo>
                    <a:pt x="2233" y="382"/>
                  </a:lnTo>
                  <a:lnTo>
                    <a:pt x="2180" y="395"/>
                  </a:lnTo>
                  <a:lnTo>
                    <a:pt x="2153" y="401"/>
                  </a:lnTo>
                  <a:lnTo>
                    <a:pt x="2129" y="408"/>
                  </a:lnTo>
                  <a:lnTo>
                    <a:pt x="2107" y="415"/>
                  </a:lnTo>
                  <a:lnTo>
                    <a:pt x="2088" y="423"/>
                  </a:lnTo>
                  <a:lnTo>
                    <a:pt x="2059" y="438"/>
                  </a:lnTo>
                  <a:lnTo>
                    <a:pt x="2039" y="448"/>
                  </a:lnTo>
                  <a:lnTo>
                    <a:pt x="2034" y="453"/>
                  </a:lnTo>
                  <a:lnTo>
                    <a:pt x="2029" y="457"/>
                  </a:lnTo>
                  <a:lnTo>
                    <a:pt x="2027" y="461"/>
                  </a:lnTo>
                  <a:lnTo>
                    <a:pt x="2025" y="466"/>
                  </a:lnTo>
                  <a:lnTo>
                    <a:pt x="2027" y="471"/>
                  </a:lnTo>
                  <a:lnTo>
                    <a:pt x="2028" y="475"/>
                  </a:lnTo>
                  <a:lnTo>
                    <a:pt x="2031" y="481"/>
                  </a:lnTo>
                  <a:lnTo>
                    <a:pt x="2035" y="489"/>
                  </a:lnTo>
                  <a:lnTo>
                    <a:pt x="2045" y="507"/>
                  </a:lnTo>
                  <a:lnTo>
                    <a:pt x="2057" y="533"/>
                  </a:lnTo>
                  <a:lnTo>
                    <a:pt x="2062" y="547"/>
                  </a:lnTo>
                  <a:lnTo>
                    <a:pt x="2064" y="559"/>
                  </a:lnTo>
                  <a:lnTo>
                    <a:pt x="2065" y="571"/>
                  </a:lnTo>
                  <a:lnTo>
                    <a:pt x="2064" y="583"/>
                  </a:lnTo>
                  <a:lnTo>
                    <a:pt x="2060" y="593"/>
                  </a:lnTo>
                  <a:lnTo>
                    <a:pt x="2056" y="603"/>
                  </a:lnTo>
                  <a:lnTo>
                    <a:pt x="2049" y="612"/>
                  </a:lnTo>
                  <a:lnTo>
                    <a:pt x="2041" y="620"/>
                  </a:lnTo>
                  <a:lnTo>
                    <a:pt x="2031" y="628"/>
                  </a:lnTo>
                  <a:lnTo>
                    <a:pt x="2021" y="636"/>
                  </a:lnTo>
                  <a:lnTo>
                    <a:pt x="2009" y="645"/>
                  </a:lnTo>
                  <a:lnTo>
                    <a:pt x="1995" y="653"/>
                  </a:lnTo>
                  <a:lnTo>
                    <a:pt x="1966" y="668"/>
                  </a:lnTo>
                  <a:lnTo>
                    <a:pt x="1933" y="684"/>
                  </a:lnTo>
                  <a:lnTo>
                    <a:pt x="1916" y="694"/>
                  </a:lnTo>
                  <a:lnTo>
                    <a:pt x="1900" y="702"/>
                  </a:lnTo>
                  <a:lnTo>
                    <a:pt x="1888" y="711"/>
                  </a:lnTo>
                  <a:lnTo>
                    <a:pt x="1875" y="721"/>
                  </a:lnTo>
                  <a:lnTo>
                    <a:pt x="1863" y="729"/>
                  </a:lnTo>
                  <a:lnTo>
                    <a:pt x="1854" y="738"/>
                  </a:lnTo>
                  <a:lnTo>
                    <a:pt x="1845" y="747"/>
                  </a:lnTo>
                  <a:lnTo>
                    <a:pt x="1837" y="757"/>
                  </a:lnTo>
                  <a:lnTo>
                    <a:pt x="1831" y="767"/>
                  </a:lnTo>
                  <a:lnTo>
                    <a:pt x="1827" y="777"/>
                  </a:lnTo>
                  <a:lnTo>
                    <a:pt x="1823" y="787"/>
                  </a:lnTo>
                  <a:lnTo>
                    <a:pt x="1821" y="797"/>
                  </a:lnTo>
                  <a:lnTo>
                    <a:pt x="1820" y="807"/>
                  </a:lnTo>
                  <a:lnTo>
                    <a:pt x="1820" y="819"/>
                  </a:lnTo>
                  <a:lnTo>
                    <a:pt x="1821" y="829"/>
                  </a:lnTo>
                  <a:lnTo>
                    <a:pt x="1823" y="841"/>
                  </a:lnTo>
                  <a:lnTo>
                    <a:pt x="1826" y="851"/>
                  </a:lnTo>
                  <a:lnTo>
                    <a:pt x="1826" y="863"/>
                  </a:lnTo>
                  <a:lnTo>
                    <a:pt x="1823" y="874"/>
                  </a:lnTo>
                  <a:lnTo>
                    <a:pt x="1820" y="884"/>
                  </a:lnTo>
                  <a:lnTo>
                    <a:pt x="1815" y="893"/>
                  </a:lnTo>
                  <a:lnTo>
                    <a:pt x="1808" y="903"/>
                  </a:lnTo>
                  <a:lnTo>
                    <a:pt x="1801" y="912"/>
                  </a:lnTo>
                  <a:lnTo>
                    <a:pt x="1792" y="920"/>
                  </a:lnTo>
                  <a:lnTo>
                    <a:pt x="1772" y="938"/>
                  </a:lnTo>
                  <a:lnTo>
                    <a:pt x="1748" y="954"/>
                  </a:lnTo>
                  <a:lnTo>
                    <a:pt x="1725" y="971"/>
                  </a:lnTo>
                  <a:lnTo>
                    <a:pt x="1702" y="987"/>
                  </a:lnTo>
                  <a:lnTo>
                    <a:pt x="916" y="921"/>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5" name="Freeform 96"/>
            <p:cNvSpPr/>
            <p:nvPr/>
          </p:nvSpPr>
          <p:spPr>
            <a:xfrm>
              <a:off x="2210760" y="2516040"/>
              <a:ext cx="909360" cy="887760"/>
            </a:xfrm>
            <a:custGeom>
              <a:avLst/>
              <a:gdLst>
                <a:gd name="textAreaLeft" fmla="*/ 0 w 909360"/>
                <a:gd name="textAreaRight" fmla="*/ 909720 w 909360"/>
                <a:gd name="textAreaTop" fmla="*/ 0 h 887760"/>
                <a:gd name="textAreaBottom" fmla="*/ 888120 h 887760"/>
              </a:gdLst>
              <a:ahLst/>
              <a:rect l="textAreaLeft" t="textAreaTop" r="textAreaRight" b="textAreaBottom"/>
              <a:pathLst>
                <a:path w="2069" h="1958">
                  <a:moveTo>
                    <a:pt x="564" y="1958"/>
                  </a:moveTo>
                  <a:lnTo>
                    <a:pt x="0" y="712"/>
                  </a:lnTo>
                  <a:lnTo>
                    <a:pt x="631" y="0"/>
                  </a:lnTo>
                  <a:lnTo>
                    <a:pt x="1417" y="66"/>
                  </a:lnTo>
                  <a:lnTo>
                    <a:pt x="1517" y="82"/>
                  </a:lnTo>
                  <a:lnTo>
                    <a:pt x="1617" y="96"/>
                  </a:lnTo>
                  <a:lnTo>
                    <a:pt x="1712" y="108"/>
                  </a:lnTo>
                  <a:lnTo>
                    <a:pt x="1803" y="120"/>
                  </a:lnTo>
                  <a:lnTo>
                    <a:pt x="1886" y="129"/>
                  </a:lnTo>
                  <a:lnTo>
                    <a:pt x="1959" y="139"/>
                  </a:lnTo>
                  <a:lnTo>
                    <a:pt x="1991" y="145"/>
                  </a:lnTo>
                  <a:lnTo>
                    <a:pt x="2021" y="150"/>
                  </a:lnTo>
                  <a:lnTo>
                    <a:pt x="2046" y="156"/>
                  </a:lnTo>
                  <a:lnTo>
                    <a:pt x="2069" y="162"/>
                  </a:lnTo>
                  <a:lnTo>
                    <a:pt x="1034" y="1685"/>
                  </a:lnTo>
                  <a:lnTo>
                    <a:pt x="1011" y="1680"/>
                  </a:lnTo>
                  <a:lnTo>
                    <a:pt x="990" y="1676"/>
                  </a:lnTo>
                  <a:lnTo>
                    <a:pt x="969" y="1673"/>
                  </a:lnTo>
                  <a:lnTo>
                    <a:pt x="950" y="1672"/>
                  </a:lnTo>
                  <a:lnTo>
                    <a:pt x="931" y="1671"/>
                  </a:lnTo>
                  <a:lnTo>
                    <a:pt x="913" y="1672"/>
                  </a:lnTo>
                  <a:lnTo>
                    <a:pt x="896" y="1673"/>
                  </a:lnTo>
                  <a:lnTo>
                    <a:pt x="879" y="1677"/>
                  </a:lnTo>
                  <a:lnTo>
                    <a:pt x="863" y="1680"/>
                  </a:lnTo>
                  <a:lnTo>
                    <a:pt x="848" y="1685"/>
                  </a:lnTo>
                  <a:lnTo>
                    <a:pt x="833" y="1690"/>
                  </a:lnTo>
                  <a:lnTo>
                    <a:pt x="819" y="1697"/>
                  </a:lnTo>
                  <a:lnTo>
                    <a:pt x="805" y="1704"/>
                  </a:lnTo>
                  <a:lnTo>
                    <a:pt x="792" y="1712"/>
                  </a:lnTo>
                  <a:lnTo>
                    <a:pt x="779" y="1720"/>
                  </a:lnTo>
                  <a:lnTo>
                    <a:pt x="766" y="1730"/>
                  </a:lnTo>
                  <a:lnTo>
                    <a:pt x="753" y="1740"/>
                  </a:lnTo>
                  <a:lnTo>
                    <a:pt x="740" y="1751"/>
                  </a:lnTo>
                  <a:lnTo>
                    <a:pt x="729" y="1763"/>
                  </a:lnTo>
                  <a:lnTo>
                    <a:pt x="717" y="1775"/>
                  </a:lnTo>
                  <a:lnTo>
                    <a:pt x="693" y="1802"/>
                  </a:lnTo>
                  <a:lnTo>
                    <a:pt x="669" y="1830"/>
                  </a:lnTo>
                  <a:lnTo>
                    <a:pt x="619" y="1892"/>
                  </a:lnTo>
                  <a:lnTo>
                    <a:pt x="564" y="195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6" name="Freeform 97"/>
            <p:cNvSpPr/>
            <p:nvPr/>
          </p:nvSpPr>
          <p:spPr>
            <a:xfrm>
              <a:off x="2210760" y="2516040"/>
              <a:ext cx="909360" cy="887760"/>
            </a:xfrm>
            <a:custGeom>
              <a:avLst/>
              <a:gdLst>
                <a:gd name="textAreaLeft" fmla="*/ 0 w 909360"/>
                <a:gd name="textAreaRight" fmla="*/ 909720 w 909360"/>
                <a:gd name="textAreaTop" fmla="*/ 0 h 887760"/>
                <a:gd name="textAreaBottom" fmla="*/ 888120 h 887760"/>
              </a:gdLst>
              <a:ahLst/>
              <a:rect l="textAreaLeft" t="textAreaTop" r="textAreaRight" b="textAreaBottom"/>
              <a:pathLst>
                <a:path w="2069" h="1958">
                  <a:moveTo>
                    <a:pt x="564" y="1958"/>
                  </a:moveTo>
                  <a:lnTo>
                    <a:pt x="0" y="712"/>
                  </a:lnTo>
                  <a:lnTo>
                    <a:pt x="631" y="0"/>
                  </a:lnTo>
                  <a:lnTo>
                    <a:pt x="1417" y="66"/>
                  </a:lnTo>
                  <a:lnTo>
                    <a:pt x="1517" y="82"/>
                  </a:lnTo>
                  <a:lnTo>
                    <a:pt x="1617" y="96"/>
                  </a:lnTo>
                  <a:lnTo>
                    <a:pt x="1712" y="108"/>
                  </a:lnTo>
                  <a:lnTo>
                    <a:pt x="1803" y="120"/>
                  </a:lnTo>
                  <a:lnTo>
                    <a:pt x="1886" y="129"/>
                  </a:lnTo>
                  <a:lnTo>
                    <a:pt x="1959" y="139"/>
                  </a:lnTo>
                  <a:lnTo>
                    <a:pt x="1991" y="145"/>
                  </a:lnTo>
                  <a:lnTo>
                    <a:pt x="2021" y="150"/>
                  </a:lnTo>
                  <a:lnTo>
                    <a:pt x="2046" y="156"/>
                  </a:lnTo>
                  <a:lnTo>
                    <a:pt x="2069" y="162"/>
                  </a:lnTo>
                  <a:lnTo>
                    <a:pt x="1034" y="1685"/>
                  </a:lnTo>
                  <a:lnTo>
                    <a:pt x="1011" y="1680"/>
                  </a:lnTo>
                  <a:lnTo>
                    <a:pt x="990" y="1676"/>
                  </a:lnTo>
                  <a:lnTo>
                    <a:pt x="969" y="1673"/>
                  </a:lnTo>
                  <a:lnTo>
                    <a:pt x="950" y="1672"/>
                  </a:lnTo>
                  <a:lnTo>
                    <a:pt x="931" y="1671"/>
                  </a:lnTo>
                  <a:lnTo>
                    <a:pt x="913" y="1672"/>
                  </a:lnTo>
                  <a:lnTo>
                    <a:pt x="896" y="1673"/>
                  </a:lnTo>
                  <a:lnTo>
                    <a:pt x="879" y="1677"/>
                  </a:lnTo>
                  <a:lnTo>
                    <a:pt x="863" y="1680"/>
                  </a:lnTo>
                  <a:lnTo>
                    <a:pt x="848" y="1685"/>
                  </a:lnTo>
                  <a:lnTo>
                    <a:pt x="833" y="1690"/>
                  </a:lnTo>
                  <a:lnTo>
                    <a:pt x="819" y="1697"/>
                  </a:lnTo>
                  <a:lnTo>
                    <a:pt x="805" y="1704"/>
                  </a:lnTo>
                  <a:lnTo>
                    <a:pt x="792" y="1712"/>
                  </a:lnTo>
                  <a:lnTo>
                    <a:pt x="779" y="1720"/>
                  </a:lnTo>
                  <a:lnTo>
                    <a:pt x="766" y="1730"/>
                  </a:lnTo>
                  <a:lnTo>
                    <a:pt x="753" y="1740"/>
                  </a:lnTo>
                  <a:lnTo>
                    <a:pt x="740" y="1751"/>
                  </a:lnTo>
                  <a:lnTo>
                    <a:pt x="729" y="1763"/>
                  </a:lnTo>
                  <a:lnTo>
                    <a:pt x="717" y="1775"/>
                  </a:lnTo>
                  <a:lnTo>
                    <a:pt x="693" y="1802"/>
                  </a:lnTo>
                  <a:lnTo>
                    <a:pt x="669" y="1830"/>
                  </a:lnTo>
                  <a:lnTo>
                    <a:pt x="619" y="1892"/>
                  </a:lnTo>
                  <a:lnTo>
                    <a:pt x="564" y="1958"/>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7" name="Freeform 98"/>
            <p:cNvSpPr/>
            <p:nvPr/>
          </p:nvSpPr>
          <p:spPr>
            <a:xfrm>
              <a:off x="2733480" y="2588400"/>
              <a:ext cx="855000" cy="610920"/>
            </a:xfrm>
            <a:custGeom>
              <a:avLst/>
              <a:gdLst>
                <a:gd name="textAreaLeft" fmla="*/ 0 w 855000"/>
                <a:gd name="textAreaRight" fmla="*/ 855360 w 855000"/>
                <a:gd name="textAreaTop" fmla="*/ 0 h 610920"/>
                <a:gd name="textAreaBottom" fmla="*/ 611280 h 610920"/>
              </a:gdLst>
              <a:ahLst/>
              <a:rect l="textAreaLeft" t="textAreaTop" r="textAreaRight" b="textAreaBottom"/>
              <a:pathLst>
                <a:path w="1947" h="1344">
                  <a:moveTo>
                    <a:pt x="0" y="1293"/>
                  </a:moveTo>
                  <a:lnTo>
                    <a:pt x="1418" y="1344"/>
                  </a:lnTo>
                  <a:lnTo>
                    <a:pt x="1947" y="285"/>
                  </a:lnTo>
                  <a:lnTo>
                    <a:pt x="1509" y="253"/>
                  </a:lnTo>
                  <a:lnTo>
                    <a:pt x="1556" y="65"/>
                  </a:lnTo>
                  <a:lnTo>
                    <a:pt x="880" y="0"/>
                  </a:lnTo>
                  <a:lnTo>
                    <a:pt x="0" y="129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8" name="Freeform 99"/>
            <p:cNvSpPr/>
            <p:nvPr/>
          </p:nvSpPr>
          <p:spPr>
            <a:xfrm>
              <a:off x="2733480" y="2588400"/>
              <a:ext cx="855000" cy="610920"/>
            </a:xfrm>
            <a:custGeom>
              <a:avLst/>
              <a:gdLst>
                <a:gd name="textAreaLeft" fmla="*/ 0 w 855000"/>
                <a:gd name="textAreaRight" fmla="*/ 855360 w 855000"/>
                <a:gd name="textAreaTop" fmla="*/ 0 h 610920"/>
                <a:gd name="textAreaBottom" fmla="*/ 611280 h 610920"/>
              </a:gdLst>
              <a:ahLst/>
              <a:rect l="textAreaLeft" t="textAreaTop" r="textAreaRight" b="textAreaBottom"/>
              <a:pathLst>
                <a:path w="1947" h="1344">
                  <a:moveTo>
                    <a:pt x="0" y="1293"/>
                  </a:moveTo>
                  <a:lnTo>
                    <a:pt x="1418" y="1344"/>
                  </a:lnTo>
                  <a:lnTo>
                    <a:pt x="1947" y="285"/>
                  </a:lnTo>
                  <a:lnTo>
                    <a:pt x="1509" y="253"/>
                  </a:lnTo>
                  <a:lnTo>
                    <a:pt x="1556" y="65"/>
                  </a:lnTo>
                  <a:lnTo>
                    <a:pt x="880" y="0"/>
                  </a:lnTo>
                  <a:lnTo>
                    <a:pt x="0" y="1293"/>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79" name="Freeform 100"/>
            <p:cNvSpPr/>
            <p:nvPr/>
          </p:nvSpPr>
          <p:spPr>
            <a:xfrm>
              <a:off x="2531880" y="1923480"/>
              <a:ext cx="748800" cy="297360"/>
            </a:xfrm>
            <a:custGeom>
              <a:avLst/>
              <a:gdLst>
                <a:gd name="textAreaLeft" fmla="*/ 0 w 748800"/>
                <a:gd name="textAreaRight" fmla="*/ 749160 w 748800"/>
                <a:gd name="textAreaTop" fmla="*/ 0 h 297360"/>
                <a:gd name="textAreaBottom" fmla="*/ 297720 h 297360"/>
              </a:gdLst>
              <a:ahLst/>
              <a:rect l="textAreaLeft" t="textAreaTop" r="textAreaRight" b="textAreaBottom"/>
              <a:pathLst>
                <a:path w="1706" h="651">
                  <a:moveTo>
                    <a:pt x="1348" y="651"/>
                  </a:moveTo>
                  <a:lnTo>
                    <a:pt x="1341" y="641"/>
                  </a:lnTo>
                  <a:lnTo>
                    <a:pt x="1328" y="632"/>
                  </a:lnTo>
                  <a:lnTo>
                    <a:pt x="1312" y="625"/>
                  </a:lnTo>
                  <a:lnTo>
                    <a:pt x="1292" y="618"/>
                  </a:lnTo>
                  <a:lnTo>
                    <a:pt x="1269" y="611"/>
                  </a:lnTo>
                  <a:lnTo>
                    <a:pt x="1242" y="606"/>
                  </a:lnTo>
                  <a:lnTo>
                    <a:pt x="1211" y="602"/>
                  </a:lnTo>
                  <a:lnTo>
                    <a:pt x="1180" y="597"/>
                  </a:lnTo>
                  <a:lnTo>
                    <a:pt x="1145" y="593"/>
                  </a:lnTo>
                  <a:lnTo>
                    <a:pt x="1109" y="591"/>
                  </a:lnTo>
                  <a:lnTo>
                    <a:pt x="1070" y="589"/>
                  </a:lnTo>
                  <a:lnTo>
                    <a:pt x="1030" y="586"/>
                  </a:lnTo>
                  <a:lnTo>
                    <a:pt x="946" y="584"/>
                  </a:lnTo>
                  <a:lnTo>
                    <a:pt x="861" y="584"/>
                  </a:lnTo>
                  <a:lnTo>
                    <a:pt x="776" y="584"/>
                  </a:lnTo>
                  <a:lnTo>
                    <a:pt x="692" y="585"/>
                  </a:lnTo>
                  <a:lnTo>
                    <a:pt x="612" y="586"/>
                  </a:lnTo>
                  <a:lnTo>
                    <a:pt x="540" y="589"/>
                  </a:lnTo>
                  <a:lnTo>
                    <a:pt x="476" y="590"/>
                  </a:lnTo>
                  <a:lnTo>
                    <a:pt x="423" y="590"/>
                  </a:lnTo>
                  <a:lnTo>
                    <a:pt x="384" y="590"/>
                  </a:lnTo>
                  <a:lnTo>
                    <a:pt x="361" y="588"/>
                  </a:lnTo>
                  <a:lnTo>
                    <a:pt x="331" y="582"/>
                  </a:lnTo>
                  <a:lnTo>
                    <a:pt x="299" y="575"/>
                  </a:lnTo>
                  <a:lnTo>
                    <a:pt x="284" y="570"/>
                  </a:lnTo>
                  <a:lnTo>
                    <a:pt x="268" y="564"/>
                  </a:lnTo>
                  <a:lnTo>
                    <a:pt x="254" y="557"/>
                  </a:lnTo>
                  <a:lnTo>
                    <a:pt x="240" y="549"/>
                  </a:lnTo>
                  <a:lnTo>
                    <a:pt x="227" y="540"/>
                  </a:lnTo>
                  <a:lnTo>
                    <a:pt x="214" y="528"/>
                  </a:lnTo>
                  <a:lnTo>
                    <a:pt x="208" y="522"/>
                  </a:lnTo>
                  <a:lnTo>
                    <a:pt x="203" y="515"/>
                  </a:lnTo>
                  <a:lnTo>
                    <a:pt x="199" y="508"/>
                  </a:lnTo>
                  <a:lnTo>
                    <a:pt x="194" y="501"/>
                  </a:lnTo>
                  <a:lnTo>
                    <a:pt x="190" y="493"/>
                  </a:lnTo>
                  <a:lnTo>
                    <a:pt x="187" y="484"/>
                  </a:lnTo>
                  <a:lnTo>
                    <a:pt x="183" y="474"/>
                  </a:lnTo>
                  <a:lnTo>
                    <a:pt x="181" y="464"/>
                  </a:lnTo>
                  <a:lnTo>
                    <a:pt x="179" y="453"/>
                  </a:lnTo>
                  <a:lnTo>
                    <a:pt x="178" y="443"/>
                  </a:lnTo>
                  <a:lnTo>
                    <a:pt x="176" y="430"/>
                  </a:lnTo>
                  <a:lnTo>
                    <a:pt x="176" y="418"/>
                  </a:lnTo>
                  <a:lnTo>
                    <a:pt x="0" y="381"/>
                  </a:lnTo>
                  <a:lnTo>
                    <a:pt x="19" y="363"/>
                  </a:lnTo>
                  <a:lnTo>
                    <a:pt x="36" y="347"/>
                  </a:lnTo>
                  <a:lnTo>
                    <a:pt x="53" y="329"/>
                  </a:lnTo>
                  <a:lnTo>
                    <a:pt x="69" y="312"/>
                  </a:lnTo>
                  <a:lnTo>
                    <a:pt x="83" y="294"/>
                  </a:lnTo>
                  <a:lnTo>
                    <a:pt x="95" y="276"/>
                  </a:lnTo>
                  <a:lnTo>
                    <a:pt x="101" y="265"/>
                  </a:lnTo>
                  <a:lnTo>
                    <a:pt x="105" y="256"/>
                  </a:lnTo>
                  <a:lnTo>
                    <a:pt x="110" y="244"/>
                  </a:lnTo>
                  <a:lnTo>
                    <a:pt x="113" y="234"/>
                  </a:lnTo>
                  <a:lnTo>
                    <a:pt x="119" y="214"/>
                  </a:lnTo>
                  <a:lnTo>
                    <a:pt x="126" y="194"/>
                  </a:lnTo>
                  <a:lnTo>
                    <a:pt x="133" y="175"/>
                  </a:lnTo>
                  <a:lnTo>
                    <a:pt x="141" y="158"/>
                  </a:lnTo>
                  <a:lnTo>
                    <a:pt x="150" y="141"/>
                  </a:lnTo>
                  <a:lnTo>
                    <a:pt x="159" y="126"/>
                  </a:lnTo>
                  <a:lnTo>
                    <a:pt x="167" y="112"/>
                  </a:lnTo>
                  <a:lnTo>
                    <a:pt x="176" y="99"/>
                  </a:lnTo>
                  <a:lnTo>
                    <a:pt x="186" y="88"/>
                  </a:lnTo>
                  <a:lnTo>
                    <a:pt x="195" y="77"/>
                  </a:lnTo>
                  <a:lnTo>
                    <a:pt x="205" y="68"/>
                  </a:lnTo>
                  <a:lnTo>
                    <a:pt x="215" y="60"/>
                  </a:lnTo>
                  <a:lnTo>
                    <a:pt x="224" y="54"/>
                  </a:lnTo>
                  <a:lnTo>
                    <a:pt x="234" y="50"/>
                  </a:lnTo>
                  <a:lnTo>
                    <a:pt x="242" y="47"/>
                  </a:lnTo>
                  <a:lnTo>
                    <a:pt x="251" y="47"/>
                  </a:lnTo>
                  <a:lnTo>
                    <a:pt x="259" y="47"/>
                  </a:lnTo>
                  <a:lnTo>
                    <a:pt x="269" y="49"/>
                  </a:lnTo>
                  <a:lnTo>
                    <a:pt x="277" y="54"/>
                  </a:lnTo>
                  <a:lnTo>
                    <a:pt x="285" y="59"/>
                  </a:lnTo>
                  <a:lnTo>
                    <a:pt x="293" y="64"/>
                  </a:lnTo>
                  <a:lnTo>
                    <a:pt x="301" y="71"/>
                  </a:lnTo>
                  <a:lnTo>
                    <a:pt x="308" y="78"/>
                  </a:lnTo>
                  <a:lnTo>
                    <a:pt x="315" y="85"/>
                  </a:lnTo>
                  <a:lnTo>
                    <a:pt x="338" y="112"/>
                  </a:lnTo>
                  <a:lnTo>
                    <a:pt x="346" y="124"/>
                  </a:lnTo>
                  <a:lnTo>
                    <a:pt x="356" y="125"/>
                  </a:lnTo>
                  <a:lnTo>
                    <a:pt x="384" y="129"/>
                  </a:lnTo>
                  <a:lnTo>
                    <a:pt x="425" y="132"/>
                  </a:lnTo>
                  <a:lnTo>
                    <a:pt x="473" y="134"/>
                  </a:lnTo>
                  <a:lnTo>
                    <a:pt x="497" y="134"/>
                  </a:lnTo>
                  <a:lnTo>
                    <a:pt x="521" y="134"/>
                  </a:lnTo>
                  <a:lnTo>
                    <a:pt x="544" y="133"/>
                  </a:lnTo>
                  <a:lnTo>
                    <a:pt x="567" y="131"/>
                  </a:lnTo>
                  <a:lnTo>
                    <a:pt x="585" y="129"/>
                  </a:lnTo>
                  <a:lnTo>
                    <a:pt x="602" y="124"/>
                  </a:lnTo>
                  <a:lnTo>
                    <a:pt x="609" y="120"/>
                  </a:lnTo>
                  <a:lnTo>
                    <a:pt x="615" y="117"/>
                  </a:lnTo>
                  <a:lnTo>
                    <a:pt x="619" y="113"/>
                  </a:lnTo>
                  <a:lnTo>
                    <a:pt x="623" y="110"/>
                  </a:lnTo>
                  <a:lnTo>
                    <a:pt x="643" y="80"/>
                  </a:lnTo>
                  <a:lnTo>
                    <a:pt x="658" y="55"/>
                  </a:lnTo>
                  <a:lnTo>
                    <a:pt x="667" y="43"/>
                  </a:lnTo>
                  <a:lnTo>
                    <a:pt x="680" y="30"/>
                  </a:lnTo>
                  <a:lnTo>
                    <a:pt x="695" y="16"/>
                  </a:lnTo>
                  <a:lnTo>
                    <a:pt x="715" y="0"/>
                  </a:lnTo>
                  <a:lnTo>
                    <a:pt x="764" y="5"/>
                  </a:lnTo>
                  <a:lnTo>
                    <a:pt x="815" y="8"/>
                  </a:lnTo>
                  <a:lnTo>
                    <a:pt x="869" y="13"/>
                  </a:lnTo>
                  <a:lnTo>
                    <a:pt x="924" y="16"/>
                  </a:lnTo>
                  <a:lnTo>
                    <a:pt x="981" y="21"/>
                  </a:lnTo>
                  <a:lnTo>
                    <a:pt x="1040" y="25"/>
                  </a:lnTo>
                  <a:lnTo>
                    <a:pt x="1100" y="28"/>
                  </a:lnTo>
                  <a:lnTo>
                    <a:pt x="1161" y="33"/>
                  </a:lnTo>
                  <a:lnTo>
                    <a:pt x="1225" y="36"/>
                  </a:lnTo>
                  <a:lnTo>
                    <a:pt x="1290" y="40"/>
                  </a:lnTo>
                  <a:lnTo>
                    <a:pt x="1356" y="43"/>
                  </a:lnTo>
                  <a:lnTo>
                    <a:pt x="1423" y="46"/>
                  </a:lnTo>
                  <a:lnTo>
                    <a:pt x="1492" y="49"/>
                  </a:lnTo>
                  <a:lnTo>
                    <a:pt x="1562" y="53"/>
                  </a:lnTo>
                  <a:lnTo>
                    <a:pt x="1633" y="55"/>
                  </a:lnTo>
                  <a:lnTo>
                    <a:pt x="1706" y="57"/>
                  </a:lnTo>
                  <a:lnTo>
                    <a:pt x="1688" y="77"/>
                  </a:lnTo>
                  <a:lnTo>
                    <a:pt x="1644" y="131"/>
                  </a:lnTo>
                  <a:lnTo>
                    <a:pt x="1613" y="167"/>
                  </a:lnTo>
                  <a:lnTo>
                    <a:pt x="1581" y="208"/>
                  </a:lnTo>
                  <a:lnTo>
                    <a:pt x="1546" y="254"/>
                  </a:lnTo>
                  <a:lnTo>
                    <a:pt x="1509" y="301"/>
                  </a:lnTo>
                  <a:lnTo>
                    <a:pt x="1474" y="352"/>
                  </a:lnTo>
                  <a:lnTo>
                    <a:pt x="1442" y="402"/>
                  </a:lnTo>
                  <a:lnTo>
                    <a:pt x="1425" y="426"/>
                  </a:lnTo>
                  <a:lnTo>
                    <a:pt x="1411" y="451"/>
                  </a:lnTo>
                  <a:lnTo>
                    <a:pt x="1397" y="476"/>
                  </a:lnTo>
                  <a:lnTo>
                    <a:pt x="1384" y="499"/>
                  </a:lnTo>
                  <a:lnTo>
                    <a:pt x="1374" y="522"/>
                  </a:lnTo>
                  <a:lnTo>
                    <a:pt x="1364" y="544"/>
                  </a:lnTo>
                  <a:lnTo>
                    <a:pt x="1356" y="565"/>
                  </a:lnTo>
                  <a:lnTo>
                    <a:pt x="1350" y="585"/>
                  </a:lnTo>
                  <a:lnTo>
                    <a:pt x="1347" y="604"/>
                  </a:lnTo>
                  <a:lnTo>
                    <a:pt x="1345" y="622"/>
                  </a:lnTo>
                  <a:lnTo>
                    <a:pt x="1346" y="637"/>
                  </a:lnTo>
                  <a:lnTo>
                    <a:pt x="1348" y="65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0" name="Freeform 101"/>
            <p:cNvSpPr/>
            <p:nvPr/>
          </p:nvSpPr>
          <p:spPr>
            <a:xfrm>
              <a:off x="2531880" y="1923480"/>
              <a:ext cx="748800" cy="297360"/>
            </a:xfrm>
            <a:custGeom>
              <a:avLst/>
              <a:gdLst>
                <a:gd name="textAreaLeft" fmla="*/ 0 w 748800"/>
                <a:gd name="textAreaRight" fmla="*/ 749160 w 748800"/>
                <a:gd name="textAreaTop" fmla="*/ 0 h 297360"/>
                <a:gd name="textAreaBottom" fmla="*/ 297720 h 297360"/>
              </a:gdLst>
              <a:ahLst/>
              <a:rect l="textAreaLeft" t="textAreaTop" r="textAreaRight" b="textAreaBottom"/>
              <a:pathLst>
                <a:path w="1706" h="651">
                  <a:moveTo>
                    <a:pt x="1348" y="651"/>
                  </a:moveTo>
                  <a:lnTo>
                    <a:pt x="1341" y="641"/>
                  </a:lnTo>
                  <a:lnTo>
                    <a:pt x="1328" y="632"/>
                  </a:lnTo>
                  <a:lnTo>
                    <a:pt x="1312" y="625"/>
                  </a:lnTo>
                  <a:lnTo>
                    <a:pt x="1292" y="618"/>
                  </a:lnTo>
                  <a:lnTo>
                    <a:pt x="1269" y="611"/>
                  </a:lnTo>
                  <a:lnTo>
                    <a:pt x="1242" y="606"/>
                  </a:lnTo>
                  <a:lnTo>
                    <a:pt x="1211" y="602"/>
                  </a:lnTo>
                  <a:lnTo>
                    <a:pt x="1180" y="597"/>
                  </a:lnTo>
                  <a:lnTo>
                    <a:pt x="1145" y="593"/>
                  </a:lnTo>
                  <a:lnTo>
                    <a:pt x="1109" y="591"/>
                  </a:lnTo>
                  <a:lnTo>
                    <a:pt x="1070" y="589"/>
                  </a:lnTo>
                  <a:lnTo>
                    <a:pt x="1030" y="586"/>
                  </a:lnTo>
                  <a:lnTo>
                    <a:pt x="946" y="584"/>
                  </a:lnTo>
                  <a:lnTo>
                    <a:pt x="861" y="584"/>
                  </a:lnTo>
                  <a:lnTo>
                    <a:pt x="776" y="584"/>
                  </a:lnTo>
                  <a:lnTo>
                    <a:pt x="692" y="585"/>
                  </a:lnTo>
                  <a:lnTo>
                    <a:pt x="612" y="586"/>
                  </a:lnTo>
                  <a:lnTo>
                    <a:pt x="540" y="589"/>
                  </a:lnTo>
                  <a:lnTo>
                    <a:pt x="476" y="590"/>
                  </a:lnTo>
                  <a:lnTo>
                    <a:pt x="423" y="590"/>
                  </a:lnTo>
                  <a:lnTo>
                    <a:pt x="384" y="590"/>
                  </a:lnTo>
                  <a:lnTo>
                    <a:pt x="361" y="588"/>
                  </a:lnTo>
                  <a:lnTo>
                    <a:pt x="331" y="582"/>
                  </a:lnTo>
                  <a:lnTo>
                    <a:pt x="299" y="575"/>
                  </a:lnTo>
                  <a:lnTo>
                    <a:pt x="284" y="570"/>
                  </a:lnTo>
                  <a:lnTo>
                    <a:pt x="268" y="564"/>
                  </a:lnTo>
                  <a:lnTo>
                    <a:pt x="254" y="557"/>
                  </a:lnTo>
                  <a:lnTo>
                    <a:pt x="240" y="549"/>
                  </a:lnTo>
                  <a:lnTo>
                    <a:pt x="227" y="540"/>
                  </a:lnTo>
                  <a:lnTo>
                    <a:pt x="214" y="528"/>
                  </a:lnTo>
                  <a:lnTo>
                    <a:pt x="208" y="522"/>
                  </a:lnTo>
                  <a:lnTo>
                    <a:pt x="203" y="515"/>
                  </a:lnTo>
                  <a:lnTo>
                    <a:pt x="199" y="508"/>
                  </a:lnTo>
                  <a:lnTo>
                    <a:pt x="194" y="501"/>
                  </a:lnTo>
                  <a:lnTo>
                    <a:pt x="190" y="493"/>
                  </a:lnTo>
                  <a:lnTo>
                    <a:pt x="187" y="484"/>
                  </a:lnTo>
                  <a:lnTo>
                    <a:pt x="183" y="474"/>
                  </a:lnTo>
                  <a:lnTo>
                    <a:pt x="181" y="464"/>
                  </a:lnTo>
                  <a:lnTo>
                    <a:pt x="179" y="453"/>
                  </a:lnTo>
                  <a:lnTo>
                    <a:pt x="178" y="443"/>
                  </a:lnTo>
                  <a:lnTo>
                    <a:pt x="176" y="430"/>
                  </a:lnTo>
                  <a:lnTo>
                    <a:pt x="176" y="418"/>
                  </a:lnTo>
                  <a:lnTo>
                    <a:pt x="0" y="381"/>
                  </a:lnTo>
                  <a:lnTo>
                    <a:pt x="19" y="363"/>
                  </a:lnTo>
                  <a:lnTo>
                    <a:pt x="36" y="347"/>
                  </a:lnTo>
                  <a:lnTo>
                    <a:pt x="53" y="329"/>
                  </a:lnTo>
                  <a:lnTo>
                    <a:pt x="69" y="312"/>
                  </a:lnTo>
                  <a:lnTo>
                    <a:pt x="83" y="294"/>
                  </a:lnTo>
                  <a:lnTo>
                    <a:pt x="95" y="276"/>
                  </a:lnTo>
                  <a:lnTo>
                    <a:pt x="101" y="265"/>
                  </a:lnTo>
                  <a:lnTo>
                    <a:pt x="105" y="256"/>
                  </a:lnTo>
                  <a:lnTo>
                    <a:pt x="110" y="244"/>
                  </a:lnTo>
                  <a:lnTo>
                    <a:pt x="113" y="234"/>
                  </a:lnTo>
                  <a:lnTo>
                    <a:pt x="119" y="214"/>
                  </a:lnTo>
                  <a:lnTo>
                    <a:pt x="126" y="194"/>
                  </a:lnTo>
                  <a:lnTo>
                    <a:pt x="133" y="175"/>
                  </a:lnTo>
                  <a:lnTo>
                    <a:pt x="141" y="158"/>
                  </a:lnTo>
                  <a:lnTo>
                    <a:pt x="150" y="141"/>
                  </a:lnTo>
                  <a:lnTo>
                    <a:pt x="159" y="126"/>
                  </a:lnTo>
                  <a:lnTo>
                    <a:pt x="167" y="112"/>
                  </a:lnTo>
                  <a:lnTo>
                    <a:pt x="176" y="99"/>
                  </a:lnTo>
                  <a:lnTo>
                    <a:pt x="186" y="88"/>
                  </a:lnTo>
                  <a:lnTo>
                    <a:pt x="195" y="77"/>
                  </a:lnTo>
                  <a:lnTo>
                    <a:pt x="205" y="68"/>
                  </a:lnTo>
                  <a:lnTo>
                    <a:pt x="215" y="60"/>
                  </a:lnTo>
                  <a:lnTo>
                    <a:pt x="224" y="54"/>
                  </a:lnTo>
                  <a:lnTo>
                    <a:pt x="234" y="50"/>
                  </a:lnTo>
                  <a:lnTo>
                    <a:pt x="242" y="47"/>
                  </a:lnTo>
                  <a:lnTo>
                    <a:pt x="251" y="47"/>
                  </a:lnTo>
                  <a:lnTo>
                    <a:pt x="259" y="47"/>
                  </a:lnTo>
                  <a:lnTo>
                    <a:pt x="269" y="49"/>
                  </a:lnTo>
                  <a:lnTo>
                    <a:pt x="277" y="54"/>
                  </a:lnTo>
                  <a:lnTo>
                    <a:pt x="285" y="59"/>
                  </a:lnTo>
                  <a:lnTo>
                    <a:pt x="293" y="64"/>
                  </a:lnTo>
                  <a:lnTo>
                    <a:pt x="301" y="71"/>
                  </a:lnTo>
                  <a:lnTo>
                    <a:pt x="308" y="78"/>
                  </a:lnTo>
                  <a:lnTo>
                    <a:pt x="315" y="85"/>
                  </a:lnTo>
                  <a:lnTo>
                    <a:pt x="338" y="112"/>
                  </a:lnTo>
                  <a:lnTo>
                    <a:pt x="346" y="124"/>
                  </a:lnTo>
                  <a:lnTo>
                    <a:pt x="356" y="125"/>
                  </a:lnTo>
                  <a:lnTo>
                    <a:pt x="384" y="129"/>
                  </a:lnTo>
                  <a:lnTo>
                    <a:pt x="425" y="132"/>
                  </a:lnTo>
                  <a:lnTo>
                    <a:pt x="473" y="134"/>
                  </a:lnTo>
                  <a:lnTo>
                    <a:pt x="497" y="134"/>
                  </a:lnTo>
                  <a:lnTo>
                    <a:pt x="521" y="134"/>
                  </a:lnTo>
                  <a:lnTo>
                    <a:pt x="544" y="133"/>
                  </a:lnTo>
                  <a:lnTo>
                    <a:pt x="567" y="131"/>
                  </a:lnTo>
                  <a:lnTo>
                    <a:pt x="585" y="129"/>
                  </a:lnTo>
                  <a:lnTo>
                    <a:pt x="602" y="124"/>
                  </a:lnTo>
                  <a:lnTo>
                    <a:pt x="609" y="120"/>
                  </a:lnTo>
                  <a:lnTo>
                    <a:pt x="615" y="117"/>
                  </a:lnTo>
                  <a:lnTo>
                    <a:pt x="619" y="113"/>
                  </a:lnTo>
                  <a:lnTo>
                    <a:pt x="623" y="110"/>
                  </a:lnTo>
                  <a:lnTo>
                    <a:pt x="643" y="80"/>
                  </a:lnTo>
                  <a:lnTo>
                    <a:pt x="658" y="55"/>
                  </a:lnTo>
                  <a:lnTo>
                    <a:pt x="667" y="43"/>
                  </a:lnTo>
                  <a:lnTo>
                    <a:pt x="680" y="30"/>
                  </a:lnTo>
                  <a:lnTo>
                    <a:pt x="695" y="16"/>
                  </a:lnTo>
                  <a:lnTo>
                    <a:pt x="715" y="0"/>
                  </a:lnTo>
                  <a:lnTo>
                    <a:pt x="764" y="5"/>
                  </a:lnTo>
                  <a:lnTo>
                    <a:pt x="815" y="8"/>
                  </a:lnTo>
                  <a:lnTo>
                    <a:pt x="869" y="13"/>
                  </a:lnTo>
                  <a:lnTo>
                    <a:pt x="924" y="16"/>
                  </a:lnTo>
                  <a:lnTo>
                    <a:pt x="981" y="21"/>
                  </a:lnTo>
                  <a:lnTo>
                    <a:pt x="1040" y="25"/>
                  </a:lnTo>
                  <a:lnTo>
                    <a:pt x="1100" y="28"/>
                  </a:lnTo>
                  <a:lnTo>
                    <a:pt x="1161" y="33"/>
                  </a:lnTo>
                  <a:lnTo>
                    <a:pt x="1225" y="36"/>
                  </a:lnTo>
                  <a:lnTo>
                    <a:pt x="1290" y="40"/>
                  </a:lnTo>
                  <a:lnTo>
                    <a:pt x="1356" y="43"/>
                  </a:lnTo>
                  <a:lnTo>
                    <a:pt x="1423" y="46"/>
                  </a:lnTo>
                  <a:lnTo>
                    <a:pt x="1492" y="49"/>
                  </a:lnTo>
                  <a:lnTo>
                    <a:pt x="1562" y="53"/>
                  </a:lnTo>
                  <a:lnTo>
                    <a:pt x="1633" y="55"/>
                  </a:lnTo>
                  <a:lnTo>
                    <a:pt x="1706" y="57"/>
                  </a:lnTo>
                  <a:lnTo>
                    <a:pt x="1688" y="77"/>
                  </a:lnTo>
                  <a:lnTo>
                    <a:pt x="1644" y="131"/>
                  </a:lnTo>
                  <a:lnTo>
                    <a:pt x="1613" y="167"/>
                  </a:lnTo>
                  <a:lnTo>
                    <a:pt x="1581" y="208"/>
                  </a:lnTo>
                  <a:lnTo>
                    <a:pt x="1546" y="254"/>
                  </a:lnTo>
                  <a:lnTo>
                    <a:pt x="1509" y="301"/>
                  </a:lnTo>
                  <a:lnTo>
                    <a:pt x="1474" y="352"/>
                  </a:lnTo>
                  <a:lnTo>
                    <a:pt x="1442" y="402"/>
                  </a:lnTo>
                  <a:lnTo>
                    <a:pt x="1425" y="426"/>
                  </a:lnTo>
                  <a:lnTo>
                    <a:pt x="1411" y="451"/>
                  </a:lnTo>
                  <a:lnTo>
                    <a:pt x="1397" y="476"/>
                  </a:lnTo>
                  <a:lnTo>
                    <a:pt x="1384" y="499"/>
                  </a:lnTo>
                  <a:lnTo>
                    <a:pt x="1374" y="522"/>
                  </a:lnTo>
                  <a:lnTo>
                    <a:pt x="1364" y="544"/>
                  </a:lnTo>
                  <a:lnTo>
                    <a:pt x="1356" y="565"/>
                  </a:lnTo>
                  <a:lnTo>
                    <a:pt x="1350" y="585"/>
                  </a:lnTo>
                  <a:lnTo>
                    <a:pt x="1347" y="604"/>
                  </a:lnTo>
                  <a:lnTo>
                    <a:pt x="1345" y="622"/>
                  </a:lnTo>
                  <a:lnTo>
                    <a:pt x="1346" y="637"/>
                  </a:lnTo>
                  <a:lnTo>
                    <a:pt x="1348" y="651"/>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1" name="Freeform 102"/>
            <p:cNvSpPr/>
            <p:nvPr/>
          </p:nvSpPr>
          <p:spPr>
            <a:xfrm>
              <a:off x="2832840" y="1950840"/>
              <a:ext cx="734040" cy="667440"/>
            </a:xfrm>
            <a:custGeom>
              <a:avLst/>
              <a:gdLst>
                <a:gd name="textAreaLeft" fmla="*/ 0 w 734040"/>
                <a:gd name="textAreaRight" fmla="*/ 734400 w 734040"/>
                <a:gd name="textAreaTop" fmla="*/ 0 h 667440"/>
                <a:gd name="textAreaBottom" fmla="*/ 667800 h 667440"/>
              </a:gdLst>
              <a:ahLst/>
              <a:rect l="textAreaLeft" t="textAreaTop" r="textAreaRight" b="textAreaBottom"/>
              <a:pathLst>
                <a:path w="1670" h="1472">
                  <a:moveTo>
                    <a:pt x="1670" y="888"/>
                  </a:moveTo>
                  <a:lnTo>
                    <a:pt x="1328" y="1472"/>
                  </a:lnTo>
                  <a:lnTo>
                    <a:pt x="652" y="1407"/>
                  </a:lnTo>
                  <a:lnTo>
                    <a:pt x="629" y="1401"/>
                  </a:lnTo>
                  <a:lnTo>
                    <a:pt x="604" y="1395"/>
                  </a:lnTo>
                  <a:lnTo>
                    <a:pt x="574" y="1389"/>
                  </a:lnTo>
                  <a:lnTo>
                    <a:pt x="542" y="1383"/>
                  </a:lnTo>
                  <a:lnTo>
                    <a:pt x="469" y="1372"/>
                  </a:lnTo>
                  <a:lnTo>
                    <a:pt x="386" y="1361"/>
                  </a:lnTo>
                  <a:lnTo>
                    <a:pt x="295" y="1349"/>
                  </a:lnTo>
                  <a:lnTo>
                    <a:pt x="200" y="1338"/>
                  </a:lnTo>
                  <a:lnTo>
                    <a:pt x="100" y="1325"/>
                  </a:lnTo>
                  <a:lnTo>
                    <a:pt x="0" y="1311"/>
                  </a:lnTo>
                  <a:lnTo>
                    <a:pt x="23" y="1295"/>
                  </a:lnTo>
                  <a:lnTo>
                    <a:pt x="46" y="1278"/>
                  </a:lnTo>
                  <a:lnTo>
                    <a:pt x="70" y="1262"/>
                  </a:lnTo>
                  <a:lnTo>
                    <a:pt x="90" y="1244"/>
                  </a:lnTo>
                  <a:lnTo>
                    <a:pt x="99" y="1236"/>
                  </a:lnTo>
                  <a:lnTo>
                    <a:pt x="106" y="1227"/>
                  </a:lnTo>
                  <a:lnTo>
                    <a:pt x="113" y="1217"/>
                  </a:lnTo>
                  <a:lnTo>
                    <a:pt x="118" y="1208"/>
                  </a:lnTo>
                  <a:lnTo>
                    <a:pt x="121" y="1198"/>
                  </a:lnTo>
                  <a:lnTo>
                    <a:pt x="124" y="1187"/>
                  </a:lnTo>
                  <a:lnTo>
                    <a:pt x="124" y="1175"/>
                  </a:lnTo>
                  <a:lnTo>
                    <a:pt x="121" y="1165"/>
                  </a:lnTo>
                  <a:lnTo>
                    <a:pt x="119" y="1153"/>
                  </a:lnTo>
                  <a:lnTo>
                    <a:pt x="118" y="1143"/>
                  </a:lnTo>
                  <a:lnTo>
                    <a:pt x="118" y="1131"/>
                  </a:lnTo>
                  <a:lnTo>
                    <a:pt x="119" y="1121"/>
                  </a:lnTo>
                  <a:lnTo>
                    <a:pt x="121" y="1111"/>
                  </a:lnTo>
                  <a:lnTo>
                    <a:pt x="125" y="1101"/>
                  </a:lnTo>
                  <a:lnTo>
                    <a:pt x="129" y="1091"/>
                  </a:lnTo>
                  <a:lnTo>
                    <a:pt x="135" y="1081"/>
                  </a:lnTo>
                  <a:lnTo>
                    <a:pt x="143" y="1071"/>
                  </a:lnTo>
                  <a:lnTo>
                    <a:pt x="152" y="1062"/>
                  </a:lnTo>
                  <a:lnTo>
                    <a:pt x="161" y="1053"/>
                  </a:lnTo>
                  <a:lnTo>
                    <a:pt x="173" y="1045"/>
                  </a:lnTo>
                  <a:lnTo>
                    <a:pt x="186" y="1035"/>
                  </a:lnTo>
                  <a:lnTo>
                    <a:pt x="198" y="1026"/>
                  </a:lnTo>
                  <a:lnTo>
                    <a:pt x="214" y="1018"/>
                  </a:lnTo>
                  <a:lnTo>
                    <a:pt x="231" y="1008"/>
                  </a:lnTo>
                  <a:lnTo>
                    <a:pt x="264" y="992"/>
                  </a:lnTo>
                  <a:lnTo>
                    <a:pt x="293" y="977"/>
                  </a:lnTo>
                  <a:lnTo>
                    <a:pt x="307" y="969"/>
                  </a:lnTo>
                  <a:lnTo>
                    <a:pt x="319" y="960"/>
                  </a:lnTo>
                  <a:lnTo>
                    <a:pt x="329" y="952"/>
                  </a:lnTo>
                  <a:lnTo>
                    <a:pt x="339" y="944"/>
                  </a:lnTo>
                  <a:lnTo>
                    <a:pt x="347" y="936"/>
                  </a:lnTo>
                  <a:lnTo>
                    <a:pt x="354" y="927"/>
                  </a:lnTo>
                  <a:lnTo>
                    <a:pt x="358" y="917"/>
                  </a:lnTo>
                  <a:lnTo>
                    <a:pt x="362" y="907"/>
                  </a:lnTo>
                  <a:lnTo>
                    <a:pt x="363" y="895"/>
                  </a:lnTo>
                  <a:lnTo>
                    <a:pt x="362" y="883"/>
                  </a:lnTo>
                  <a:lnTo>
                    <a:pt x="360" y="871"/>
                  </a:lnTo>
                  <a:lnTo>
                    <a:pt x="355" y="857"/>
                  </a:lnTo>
                  <a:lnTo>
                    <a:pt x="343" y="831"/>
                  </a:lnTo>
                  <a:lnTo>
                    <a:pt x="333" y="813"/>
                  </a:lnTo>
                  <a:lnTo>
                    <a:pt x="329" y="805"/>
                  </a:lnTo>
                  <a:lnTo>
                    <a:pt x="326" y="799"/>
                  </a:lnTo>
                  <a:lnTo>
                    <a:pt x="325" y="795"/>
                  </a:lnTo>
                  <a:lnTo>
                    <a:pt x="323" y="790"/>
                  </a:lnTo>
                  <a:lnTo>
                    <a:pt x="325" y="785"/>
                  </a:lnTo>
                  <a:lnTo>
                    <a:pt x="327" y="781"/>
                  </a:lnTo>
                  <a:lnTo>
                    <a:pt x="332" y="777"/>
                  </a:lnTo>
                  <a:lnTo>
                    <a:pt x="337" y="772"/>
                  </a:lnTo>
                  <a:lnTo>
                    <a:pt x="357" y="762"/>
                  </a:lnTo>
                  <a:lnTo>
                    <a:pt x="386" y="747"/>
                  </a:lnTo>
                  <a:lnTo>
                    <a:pt x="405" y="739"/>
                  </a:lnTo>
                  <a:lnTo>
                    <a:pt x="427" y="732"/>
                  </a:lnTo>
                  <a:lnTo>
                    <a:pt x="451" y="725"/>
                  </a:lnTo>
                  <a:lnTo>
                    <a:pt x="478" y="719"/>
                  </a:lnTo>
                  <a:lnTo>
                    <a:pt x="531" y="706"/>
                  </a:lnTo>
                  <a:lnTo>
                    <a:pt x="583" y="693"/>
                  </a:lnTo>
                  <a:lnTo>
                    <a:pt x="606" y="686"/>
                  </a:lnTo>
                  <a:lnTo>
                    <a:pt x="627" y="677"/>
                  </a:lnTo>
                  <a:lnTo>
                    <a:pt x="636" y="672"/>
                  </a:lnTo>
                  <a:lnTo>
                    <a:pt x="645" y="667"/>
                  </a:lnTo>
                  <a:lnTo>
                    <a:pt x="653" y="663"/>
                  </a:lnTo>
                  <a:lnTo>
                    <a:pt x="659" y="657"/>
                  </a:lnTo>
                  <a:lnTo>
                    <a:pt x="664" y="651"/>
                  </a:lnTo>
                  <a:lnTo>
                    <a:pt x="668" y="644"/>
                  </a:lnTo>
                  <a:lnTo>
                    <a:pt x="671" y="637"/>
                  </a:lnTo>
                  <a:lnTo>
                    <a:pt x="673" y="630"/>
                  </a:lnTo>
                  <a:lnTo>
                    <a:pt x="673" y="622"/>
                  </a:lnTo>
                  <a:lnTo>
                    <a:pt x="671" y="612"/>
                  </a:lnTo>
                  <a:lnTo>
                    <a:pt x="668" y="604"/>
                  </a:lnTo>
                  <a:lnTo>
                    <a:pt x="662" y="594"/>
                  </a:lnTo>
                  <a:lnTo>
                    <a:pt x="660" y="580"/>
                  </a:lnTo>
                  <a:lnTo>
                    <a:pt x="659" y="565"/>
                  </a:lnTo>
                  <a:lnTo>
                    <a:pt x="661" y="547"/>
                  </a:lnTo>
                  <a:lnTo>
                    <a:pt x="664" y="528"/>
                  </a:lnTo>
                  <a:lnTo>
                    <a:pt x="670" y="508"/>
                  </a:lnTo>
                  <a:lnTo>
                    <a:pt x="678" y="487"/>
                  </a:lnTo>
                  <a:lnTo>
                    <a:pt x="688" y="465"/>
                  </a:lnTo>
                  <a:lnTo>
                    <a:pt x="698" y="442"/>
                  </a:lnTo>
                  <a:lnTo>
                    <a:pt x="711" y="419"/>
                  </a:lnTo>
                  <a:lnTo>
                    <a:pt x="725" y="394"/>
                  </a:lnTo>
                  <a:lnTo>
                    <a:pt x="739" y="369"/>
                  </a:lnTo>
                  <a:lnTo>
                    <a:pt x="756" y="345"/>
                  </a:lnTo>
                  <a:lnTo>
                    <a:pt x="788" y="295"/>
                  </a:lnTo>
                  <a:lnTo>
                    <a:pt x="823" y="244"/>
                  </a:lnTo>
                  <a:lnTo>
                    <a:pt x="860" y="197"/>
                  </a:lnTo>
                  <a:lnTo>
                    <a:pt x="895" y="151"/>
                  </a:lnTo>
                  <a:lnTo>
                    <a:pt x="927" y="110"/>
                  </a:lnTo>
                  <a:lnTo>
                    <a:pt x="958" y="74"/>
                  </a:lnTo>
                  <a:lnTo>
                    <a:pt x="1002" y="20"/>
                  </a:lnTo>
                  <a:lnTo>
                    <a:pt x="1020" y="0"/>
                  </a:lnTo>
                  <a:lnTo>
                    <a:pt x="1043" y="2"/>
                  </a:lnTo>
                  <a:lnTo>
                    <a:pt x="1065" y="3"/>
                  </a:lnTo>
                  <a:lnTo>
                    <a:pt x="1087" y="4"/>
                  </a:lnTo>
                  <a:lnTo>
                    <a:pt x="1111" y="5"/>
                  </a:lnTo>
                  <a:lnTo>
                    <a:pt x="1134" y="6"/>
                  </a:lnTo>
                  <a:lnTo>
                    <a:pt x="1157" y="7"/>
                  </a:lnTo>
                  <a:lnTo>
                    <a:pt x="1181" y="9"/>
                  </a:lnTo>
                  <a:lnTo>
                    <a:pt x="1204" y="10"/>
                  </a:lnTo>
                  <a:lnTo>
                    <a:pt x="1199" y="13"/>
                  </a:lnTo>
                  <a:lnTo>
                    <a:pt x="1189" y="25"/>
                  </a:lnTo>
                  <a:lnTo>
                    <a:pt x="1173" y="42"/>
                  </a:lnTo>
                  <a:lnTo>
                    <a:pt x="1153" y="66"/>
                  </a:lnTo>
                  <a:lnTo>
                    <a:pt x="1129" y="93"/>
                  </a:lnTo>
                  <a:lnTo>
                    <a:pt x="1107" y="124"/>
                  </a:lnTo>
                  <a:lnTo>
                    <a:pt x="1095" y="141"/>
                  </a:lnTo>
                  <a:lnTo>
                    <a:pt x="1085" y="157"/>
                  </a:lnTo>
                  <a:lnTo>
                    <a:pt x="1074" y="173"/>
                  </a:lnTo>
                  <a:lnTo>
                    <a:pt x="1066" y="191"/>
                  </a:lnTo>
                  <a:lnTo>
                    <a:pt x="1062" y="200"/>
                  </a:lnTo>
                  <a:lnTo>
                    <a:pt x="1058" y="208"/>
                  </a:lnTo>
                  <a:lnTo>
                    <a:pt x="1056" y="218"/>
                  </a:lnTo>
                  <a:lnTo>
                    <a:pt x="1052" y="228"/>
                  </a:lnTo>
                  <a:lnTo>
                    <a:pt x="1050" y="247"/>
                  </a:lnTo>
                  <a:lnTo>
                    <a:pt x="1049" y="267"/>
                  </a:lnTo>
                  <a:lnTo>
                    <a:pt x="1050" y="288"/>
                  </a:lnTo>
                  <a:lnTo>
                    <a:pt x="1053" y="309"/>
                  </a:lnTo>
                  <a:lnTo>
                    <a:pt x="1059" y="330"/>
                  </a:lnTo>
                  <a:lnTo>
                    <a:pt x="1067" y="350"/>
                  </a:lnTo>
                  <a:lnTo>
                    <a:pt x="1072" y="360"/>
                  </a:lnTo>
                  <a:lnTo>
                    <a:pt x="1078" y="369"/>
                  </a:lnTo>
                  <a:lnTo>
                    <a:pt x="1084" y="380"/>
                  </a:lnTo>
                  <a:lnTo>
                    <a:pt x="1091" y="389"/>
                  </a:lnTo>
                  <a:lnTo>
                    <a:pt x="1098" y="399"/>
                  </a:lnTo>
                  <a:lnTo>
                    <a:pt x="1106" y="408"/>
                  </a:lnTo>
                  <a:lnTo>
                    <a:pt x="1114" y="417"/>
                  </a:lnTo>
                  <a:lnTo>
                    <a:pt x="1124" y="427"/>
                  </a:lnTo>
                  <a:lnTo>
                    <a:pt x="1133" y="435"/>
                  </a:lnTo>
                  <a:lnTo>
                    <a:pt x="1143" y="443"/>
                  </a:lnTo>
                  <a:lnTo>
                    <a:pt x="1155" y="451"/>
                  </a:lnTo>
                  <a:lnTo>
                    <a:pt x="1166" y="458"/>
                  </a:lnTo>
                  <a:lnTo>
                    <a:pt x="1178" y="465"/>
                  </a:lnTo>
                  <a:lnTo>
                    <a:pt x="1191" y="472"/>
                  </a:lnTo>
                  <a:lnTo>
                    <a:pt x="1204" y="479"/>
                  </a:lnTo>
                  <a:lnTo>
                    <a:pt x="1218" y="485"/>
                  </a:lnTo>
                  <a:lnTo>
                    <a:pt x="1225" y="487"/>
                  </a:lnTo>
                  <a:lnTo>
                    <a:pt x="1230" y="492"/>
                  </a:lnTo>
                  <a:lnTo>
                    <a:pt x="1233" y="497"/>
                  </a:lnTo>
                  <a:lnTo>
                    <a:pt x="1236" y="501"/>
                  </a:lnTo>
                  <a:lnTo>
                    <a:pt x="1237" y="506"/>
                  </a:lnTo>
                  <a:lnTo>
                    <a:pt x="1236" y="512"/>
                  </a:lnTo>
                  <a:lnTo>
                    <a:pt x="1234" y="518"/>
                  </a:lnTo>
                  <a:lnTo>
                    <a:pt x="1232" y="525"/>
                  </a:lnTo>
                  <a:lnTo>
                    <a:pt x="1225" y="538"/>
                  </a:lnTo>
                  <a:lnTo>
                    <a:pt x="1215" y="553"/>
                  </a:lnTo>
                  <a:lnTo>
                    <a:pt x="1202" y="567"/>
                  </a:lnTo>
                  <a:lnTo>
                    <a:pt x="1187" y="582"/>
                  </a:lnTo>
                  <a:lnTo>
                    <a:pt x="1156" y="609"/>
                  </a:lnTo>
                  <a:lnTo>
                    <a:pt x="1127" y="632"/>
                  </a:lnTo>
                  <a:lnTo>
                    <a:pt x="1106" y="649"/>
                  </a:lnTo>
                  <a:lnTo>
                    <a:pt x="1098" y="654"/>
                  </a:lnTo>
                  <a:lnTo>
                    <a:pt x="1095" y="656"/>
                  </a:lnTo>
                  <a:lnTo>
                    <a:pt x="1092" y="659"/>
                  </a:lnTo>
                  <a:lnTo>
                    <a:pt x="1091" y="663"/>
                  </a:lnTo>
                  <a:lnTo>
                    <a:pt x="1090" y="665"/>
                  </a:lnTo>
                  <a:lnTo>
                    <a:pt x="1088" y="668"/>
                  </a:lnTo>
                  <a:lnTo>
                    <a:pt x="1088" y="673"/>
                  </a:lnTo>
                  <a:lnTo>
                    <a:pt x="1091" y="678"/>
                  </a:lnTo>
                  <a:lnTo>
                    <a:pt x="1093" y="682"/>
                  </a:lnTo>
                  <a:lnTo>
                    <a:pt x="1098" y="687"/>
                  </a:lnTo>
                  <a:lnTo>
                    <a:pt x="1105" y="692"/>
                  </a:lnTo>
                  <a:lnTo>
                    <a:pt x="1114" y="698"/>
                  </a:lnTo>
                  <a:lnTo>
                    <a:pt x="1126" y="704"/>
                  </a:lnTo>
                  <a:lnTo>
                    <a:pt x="1140" y="709"/>
                  </a:lnTo>
                  <a:lnTo>
                    <a:pt x="1157" y="715"/>
                  </a:lnTo>
                  <a:lnTo>
                    <a:pt x="1166" y="719"/>
                  </a:lnTo>
                  <a:lnTo>
                    <a:pt x="1173" y="721"/>
                  </a:lnTo>
                  <a:lnTo>
                    <a:pt x="1178" y="725"/>
                  </a:lnTo>
                  <a:lnTo>
                    <a:pt x="1184" y="728"/>
                  </a:lnTo>
                  <a:lnTo>
                    <a:pt x="1188" y="733"/>
                  </a:lnTo>
                  <a:lnTo>
                    <a:pt x="1191" y="736"/>
                  </a:lnTo>
                  <a:lnTo>
                    <a:pt x="1194" y="740"/>
                  </a:lnTo>
                  <a:lnTo>
                    <a:pt x="1196" y="744"/>
                  </a:lnTo>
                  <a:lnTo>
                    <a:pt x="1198" y="754"/>
                  </a:lnTo>
                  <a:lnTo>
                    <a:pt x="1198" y="763"/>
                  </a:lnTo>
                  <a:lnTo>
                    <a:pt x="1197" y="774"/>
                  </a:lnTo>
                  <a:lnTo>
                    <a:pt x="1195" y="784"/>
                  </a:lnTo>
                  <a:lnTo>
                    <a:pt x="1192" y="795"/>
                  </a:lnTo>
                  <a:lnTo>
                    <a:pt x="1190" y="806"/>
                  </a:lnTo>
                  <a:lnTo>
                    <a:pt x="1190" y="819"/>
                  </a:lnTo>
                  <a:lnTo>
                    <a:pt x="1190" y="831"/>
                  </a:lnTo>
                  <a:lnTo>
                    <a:pt x="1191" y="838"/>
                  </a:lnTo>
                  <a:lnTo>
                    <a:pt x="1192" y="845"/>
                  </a:lnTo>
                  <a:lnTo>
                    <a:pt x="1195" y="851"/>
                  </a:lnTo>
                  <a:lnTo>
                    <a:pt x="1198" y="858"/>
                  </a:lnTo>
                  <a:lnTo>
                    <a:pt x="1202" y="865"/>
                  </a:lnTo>
                  <a:lnTo>
                    <a:pt x="1206" y="872"/>
                  </a:lnTo>
                  <a:lnTo>
                    <a:pt x="1212" y="878"/>
                  </a:lnTo>
                  <a:lnTo>
                    <a:pt x="1218" y="885"/>
                  </a:lnTo>
                  <a:lnTo>
                    <a:pt x="1226" y="892"/>
                  </a:lnTo>
                  <a:lnTo>
                    <a:pt x="1234" y="899"/>
                  </a:lnTo>
                  <a:lnTo>
                    <a:pt x="1244" y="904"/>
                  </a:lnTo>
                  <a:lnTo>
                    <a:pt x="1254" y="909"/>
                  </a:lnTo>
                  <a:lnTo>
                    <a:pt x="1265" y="914"/>
                  </a:lnTo>
                  <a:lnTo>
                    <a:pt x="1275" y="918"/>
                  </a:lnTo>
                  <a:lnTo>
                    <a:pt x="1287" y="922"/>
                  </a:lnTo>
                  <a:lnTo>
                    <a:pt x="1300" y="924"/>
                  </a:lnTo>
                  <a:lnTo>
                    <a:pt x="1327" y="929"/>
                  </a:lnTo>
                  <a:lnTo>
                    <a:pt x="1355" y="932"/>
                  </a:lnTo>
                  <a:lnTo>
                    <a:pt x="1384" y="934"/>
                  </a:lnTo>
                  <a:lnTo>
                    <a:pt x="1416" y="932"/>
                  </a:lnTo>
                  <a:lnTo>
                    <a:pt x="1447" y="931"/>
                  </a:lnTo>
                  <a:lnTo>
                    <a:pt x="1480" y="928"/>
                  </a:lnTo>
                  <a:lnTo>
                    <a:pt x="1512" y="923"/>
                  </a:lnTo>
                  <a:lnTo>
                    <a:pt x="1545" y="917"/>
                  </a:lnTo>
                  <a:lnTo>
                    <a:pt x="1578" y="911"/>
                  </a:lnTo>
                  <a:lnTo>
                    <a:pt x="1609" y="904"/>
                  </a:lnTo>
                  <a:lnTo>
                    <a:pt x="1641" y="896"/>
                  </a:lnTo>
                  <a:lnTo>
                    <a:pt x="1670" y="88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2" name="Freeform 103"/>
            <p:cNvSpPr/>
            <p:nvPr/>
          </p:nvSpPr>
          <p:spPr>
            <a:xfrm>
              <a:off x="2832840" y="1950840"/>
              <a:ext cx="734040" cy="667440"/>
            </a:xfrm>
            <a:custGeom>
              <a:avLst/>
              <a:gdLst>
                <a:gd name="textAreaLeft" fmla="*/ 0 w 734040"/>
                <a:gd name="textAreaRight" fmla="*/ 734400 w 734040"/>
                <a:gd name="textAreaTop" fmla="*/ 0 h 667440"/>
                <a:gd name="textAreaBottom" fmla="*/ 667800 h 667440"/>
              </a:gdLst>
              <a:ahLst/>
              <a:rect l="textAreaLeft" t="textAreaTop" r="textAreaRight" b="textAreaBottom"/>
              <a:pathLst>
                <a:path w="1670" h="1472">
                  <a:moveTo>
                    <a:pt x="1670" y="888"/>
                  </a:moveTo>
                  <a:lnTo>
                    <a:pt x="1328" y="1472"/>
                  </a:lnTo>
                  <a:lnTo>
                    <a:pt x="652" y="1407"/>
                  </a:lnTo>
                  <a:lnTo>
                    <a:pt x="629" y="1401"/>
                  </a:lnTo>
                  <a:lnTo>
                    <a:pt x="604" y="1395"/>
                  </a:lnTo>
                  <a:lnTo>
                    <a:pt x="574" y="1389"/>
                  </a:lnTo>
                  <a:lnTo>
                    <a:pt x="542" y="1383"/>
                  </a:lnTo>
                  <a:lnTo>
                    <a:pt x="469" y="1372"/>
                  </a:lnTo>
                  <a:lnTo>
                    <a:pt x="386" y="1361"/>
                  </a:lnTo>
                  <a:lnTo>
                    <a:pt x="295" y="1349"/>
                  </a:lnTo>
                  <a:lnTo>
                    <a:pt x="200" y="1338"/>
                  </a:lnTo>
                  <a:lnTo>
                    <a:pt x="100" y="1325"/>
                  </a:lnTo>
                  <a:lnTo>
                    <a:pt x="0" y="1311"/>
                  </a:lnTo>
                  <a:lnTo>
                    <a:pt x="23" y="1295"/>
                  </a:lnTo>
                  <a:lnTo>
                    <a:pt x="46" y="1278"/>
                  </a:lnTo>
                  <a:lnTo>
                    <a:pt x="70" y="1262"/>
                  </a:lnTo>
                  <a:lnTo>
                    <a:pt x="90" y="1244"/>
                  </a:lnTo>
                  <a:lnTo>
                    <a:pt x="99" y="1236"/>
                  </a:lnTo>
                  <a:lnTo>
                    <a:pt x="106" y="1227"/>
                  </a:lnTo>
                  <a:lnTo>
                    <a:pt x="113" y="1217"/>
                  </a:lnTo>
                  <a:lnTo>
                    <a:pt x="118" y="1208"/>
                  </a:lnTo>
                  <a:lnTo>
                    <a:pt x="121" y="1198"/>
                  </a:lnTo>
                  <a:lnTo>
                    <a:pt x="124" y="1187"/>
                  </a:lnTo>
                  <a:lnTo>
                    <a:pt x="124" y="1175"/>
                  </a:lnTo>
                  <a:lnTo>
                    <a:pt x="121" y="1165"/>
                  </a:lnTo>
                  <a:lnTo>
                    <a:pt x="119" y="1153"/>
                  </a:lnTo>
                  <a:lnTo>
                    <a:pt x="118" y="1143"/>
                  </a:lnTo>
                  <a:lnTo>
                    <a:pt x="118" y="1131"/>
                  </a:lnTo>
                  <a:lnTo>
                    <a:pt x="119" y="1121"/>
                  </a:lnTo>
                  <a:lnTo>
                    <a:pt x="121" y="1111"/>
                  </a:lnTo>
                  <a:lnTo>
                    <a:pt x="125" y="1101"/>
                  </a:lnTo>
                  <a:lnTo>
                    <a:pt x="129" y="1091"/>
                  </a:lnTo>
                  <a:lnTo>
                    <a:pt x="135" y="1081"/>
                  </a:lnTo>
                  <a:lnTo>
                    <a:pt x="143" y="1071"/>
                  </a:lnTo>
                  <a:lnTo>
                    <a:pt x="152" y="1062"/>
                  </a:lnTo>
                  <a:lnTo>
                    <a:pt x="161" y="1053"/>
                  </a:lnTo>
                  <a:lnTo>
                    <a:pt x="173" y="1045"/>
                  </a:lnTo>
                  <a:lnTo>
                    <a:pt x="186" y="1035"/>
                  </a:lnTo>
                  <a:lnTo>
                    <a:pt x="198" y="1026"/>
                  </a:lnTo>
                  <a:lnTo>
                    <a:pt x="214" y="1018"/>
                  </a:lnTo>
                  <a:lnTo>
                    <a:pt x="231" y="1008"/>
                  </a:lnTo>
                  <a:lnTo>
                    <a:pt x="264" y="992"/>
                  </a:lnTo>
                  <a:lnTo>
                    <a:pt x="293" y="977"/>
                  </a:lnTo>
                  <a:lnTo>
                    <a:pt x="307" y="969"/>
                  </a:lnTo>
                  <a:lnTo>
                    <a:pt x="319" y="960"/>
                  </a:lnTo>
                  <a:lnTo>
                    <a:pt x="329" y="952"/>
                  </a:lnTo>
                  <a:lnTo>
                    <a:pt x="339" y="944"/>
                  </a:lnTo>
                  <a:lnTo>
                    <a:pt x="347" y="936"/>
                  </a:lnTo>
                  <a:lnTo>
                    <a:pt x="354" y="927"/>
                  </a:lnTo>
                  <a:lnTo>
                    <a:pt x="358" y="917"/>
                  </a:lnTo>
                  <a:lnTo>
                    <a:pt x="362" y="907"/>
                  </a:lnTo>
                  <a:lnTo>
                    <a:pt x="363" y="895"/>
                  </a:lnTo>
                  <a:lnTo>
                    <a:pt x="362" y="883"/>
                  </a:lnTo>
                  <a:lnTo>
                    <a:pt x="360" y="871"/>
                  </a:lnTo>
                  <a:lnTo>
                    <a:pt x="355" y="857"/>
                  </a:lnTo>
                  <a:lnTo>
                    <a:pt x="343" y="831"/>
                  </a:lnTo>
                  <a:lnTo>
                    <a:pt x="333" y="813"/>
                  </a:lnTo>
                  <a:lnTo>
                    <a:pt x="329" y="805"/>
                  </a:lnTo>
                  <a:lnTo>
                    <a:pt x="326" y="799"/>
                  </a:lnTo>
                  <a:lnTo>
                    <a:pt x="325" y="795"/>
                  </a:lnTo>
                  <a:lnTo>
                    <a:pt x="323" y="790"/>
                  </a:lnTo>
                  <a:lnTo>
                    <a:pt x="325" y="785"/>
                  </a:lnTo>
                  <a:lnTo>
                    <a:pt x="327" y="781"/>
                  </a:lnTo>
                  <a:lnTo>
                    <a:pt x="332" y="777"/>
                  </a:lnTo>
                  <a:lnTo>
                    <a:pt x="337" y="772"/>
                  </a:lnTo>
                  <a:lnTo>
                    <a:pt x="357" y="762"/>
                  </a:lnTo>
                  <a:lnTo>
                    <a:pt x="386" y="747"/>
                  </a:lnTo>
                  <a:lnTo>
                    <a:pt x="405" y="739"/>
                  </a:lnTo>
                  <a:lnTo>
                    <a:pt x="427" y="732"/>
                  </a:lnTo>
                  <a:lnTo>
                    <a:pt x="451" y="725"/>
                  </a:lnTo>
                  <a:lnTo>
                    <a:pt x="478" y="719"/>
                  </a:lnTo>
                  <a:lnTo>
                    <a:pt x="531" y="706"/>
                  </a:lnTo>
                  <a:lnTo>
                    <a:pt x="583" y="693"/>
                  </a:lnTo>
                  <a:lnTo>
                    <a:pt x="606" y="686"/>
                  </a:lnTo>
                  <a:lnTo>
                    <a:pt x="627" y="677"/>
                  </a:lnTo>
                  <a:lnTo>
                    <a:pt x="636" y="672"/>
                  </a:lnTo>
                  <a:lnTo>
                    <a:pt x="645" y="667"/>
                  </a:lnTo>
                  <a:lnTo>
                    <a:pt x="653" y="663"/>
                  </a:lnTo>
                  <a:lnTo>
                    <a:pt x="659" y="657"/>
                  </a:lnTo>
                  <a:lnTo>
                    <a:pt x="664" y="651"/>
                  </a:lnTo>
                  <a:lnTo>
                    <a:pt x="668" y="644"/>
                  </a:lnTo>
                  <a:lnTo>
                    <a:pt x="671" y="637"/>
                  </a:lnTo>
                  <a:lnTo>
                    <a:pt x="673" y="630"/>
                  </a:lnTo>
                  <a:lnTo>
                    <a:pt x="673" y="622"/>
                  </a:lnTo>
                  <a:lnTo>
                    <a:pt x="671" y="612"/>
                  </a:lnTo>
                  <a:lnTo>
                    <a:pt x="668" y="604"/>
                  </a:lnTo>
                  <a:lnTo>
                    <a:pt x="662" y="594"/>
                  </a:lnTo>
                  <a:lnTo>
                    <a:pt x="660" y="580"/>
                  </a:lnTo>
                  <a:lnTo>
                    <a:pt x="659" y="565"/>
                  </a:lnTo>
                  <a:lnTo>
                    <a:pt x="661" y="547"/>
                  </a:lnTo>
                  <a:lnTo>
                    <a:pt x="664" y="528"/>
                  </a:lnTo>
                  <a:lnTo>
                    <a:pt x="670" y="508"/>
                  </a:lnTo>
                  <a:lnTo>
                    <a:pt x="678" y="487"/>
                  </a:lnTo>
                  <a:lnTo>
                    <a:pt x="688" y="465"/>
                  </a:lnTo>
                  <a:lnTo>
                    <a:pt x="698" y="442"/>
                  </a:lnTo>
                  <a:lnTo>
                    <a:pt x="711" y="419"/>
                  </a:lnTo>
                  <a:lnTo>
                    <a:pt x="725" y="394"/>
                  </a:lnTo>
                  <a:lnTo>
                    <a:pt x="739" y="369"/>
                  </a:lnTo>
                  <a:lnTo>
                    <a:pt x="756" y="345"/>
                  </a:lnTo>
                  <a:lnTo>
                    <a:pt x="788" y="295"/>
                  </a:lnTo>
                  <a:lnTo>
                    <a:pt x="823" y="244"/>
                  </a:lnTo>
                  <a:lnTo>
                    <a:pt x="860" y="197"/>
                  </a:lnTo>
                  <a:lnTo>
                    <a:pt x="895" y="151"/>
                  </a:lnTo>
                  <a:lnTo>
                    <a:pt x="927" y="110"/>
                  </a:lnTo>
                  <a:lnTo>
                    <a:pt x="958" y="74"/>
                  </a:lnTo>
                  <a:lnTo>
                    <a:pt x="1002" y="20"/>
                  </a:lnTo>
                  <a:lnTo>
                    <a:pt x="1020" y="0"/>
                  </a:lnTo>
                  <a:lnTo>
                    <a:pt x="1043" y="2"/>
                  </a:lnTo>
                  <a:lnTo>
                    <a:pt x="1065" y="3"/>
                  </a:lnTo>
                  <a:lnTo>
                    <a:pt x="1087" y="4"/>
                  </a:lnTo>
                  <a:lnTo>
                    <a:pt x="1111" y="5"/>
                  </a:lnTo>
                  <a:lnTo>
                    <a:pt x="1134" y="6"/>
                  </a:lnTo>
                  <a:lnTo>
                    <a:pt x="1157" y="7"/>
                  </a:lnTo>
                  <a:lnTo>
                    <a:pt x="1181" y="9"/>
                  </a:lnTo>
                  <a:lnTo>
                    <a:pt x="1204" y="10"/>
                  </a:lnTo>
                  <a:lnTo>
                    <a:pt x="1199" y="13"/>
                  </a:lnTo>
                  <a:lnTo>
                    <a:pt x="1189" y="25"/>
                  </a:lnTo>
                  <a:lnTo>
                    <a:pt x="1173" y="42"/>
                  </a:lnTo>
                  <a:lnTo>
                    <a:pt x="1153" y="66"/>
                  </a:lnTo>
                  <a:lnTo>
                    <a:pt x="1129" y="93"/>
                  </a:lnTo>
                  <a:lnTo>
                    <a:pt x="1107" y="124"/>
                  </a:lnTo>
                  <a:lnTo>
                    <a:pt x="1095" y="141"/>
                  </a:lnTo>
                  <a:lnTo>
                    <a:pt x="1085" y="157"/>
                  </a:lnTo>
                  <a:lnTo>
                    <a:pt x="1074" y="173"/>
                  </a:lnTo>
                  <a:lnTo>
                    <a:pt x="1066" y="191"/>
                  </a:lnTo>
                  <a:lnTo>
                    <a:pt x="1062" y="200"/>
                  </a:lnTo>
                  <a:lnTo>
                    <a:pt x="1058" y="208"/>
                  </a:lnTo>
                  <a:lnTo>
                    <a:pt x="1056" y="218"/>
                  </a:lnTo>
                  <a:lnTo>
                    <a:pt x="1052" y="228"/>
                  </a:lnTo>
                  <a:lnTo>
                    <a:pt x="1050" y="247"/>
                  </a:lnTo>
                  <a:lnTo>
                    <a:pt x="1049" y="267"/>
                  </a:lnTo>
                  <a:lnTo>
                    <a:pt x="1050" y="288"/>
                  </a:lnTo>
                  <a:lnTo>
                    <a:pt x="1053" y="309"/>
                  </a:lnTo>
                  <a:lnTo>
                    <a:pt x="1059" y="330"/>
                  </a:lnTo>
                  <a:lnTo>
                    <a:pt x="1067" y="350"/>
                  </a:lnTo>
                  <a:lnTo>
                    <a:pt x="1072" y="360"/>
                  </a:lnTo>
                  <a:lnTo>
                    <a:pt x="1078" y="369"/>
                  </a:lnTo>
                  <a:lnTo>
                    <a:pt x="1084" y="380"/>
                  </a:lnTo>
                  <a:lnTo>
                    <a:pt x="1091" y="389"/>
                  </a:lnTo>
                  <a:lnTo>
                    <a:pt x="1098" y="399"/>
                  </a:lnTo>
                  <a:lnTo>
                    <a:pt x="1106" y="408"/>
                  </a:lnTo>
                  <a:lnTo>
                    <a:pt x="1114" y="417"/>
                  </a:lnTo>
                  <a:lnTo>
                    <a:pt x="1124" y="427"/>
                  </a:lnTo>
                  <a:lnTo>
                    <a:pt x="1133" y="435"/>
                  </a:lnTo>
                  <a:lnTo>
                    <a:pt x="1143" y="443"/>
                  </a:lnTo>
                  <a:lnTo>
                    <a:pt x="1155" y="451"/>
                  </a:lnTo>
                  <a:lnTo>
                    <a:pt x="1166" y="458"/>
                  </a:lnTo>
                  <a:lnTo>
                    <a:pt x="1178" y="465"/>
                  </a:lnTo>
                  <a:lnTo>
                    <a:pt x="1191" y="472"/>
                  </a:lnTo>
                  <a:lnTo>
                    <a:pt x="1204" y="479"/>
                  </a:lnTo>
                  <a:lnTo>
                    <a:pt x="1218" y="485"/>
                  </a:lnTo>
                  <a:lnTo>
                    <a:pt x="1225" y="487"/>
                  </a:lnTo>
                  <a:lnTo>
                    <a:pt x="1230" y="492"/>
                  </a:lnTo>
                  <a:lnTo>
                    <a:pt x="1233" y="497"/>
                  </a:lnTo>
                  <a:lnTo>
                    <a:pt x="1236" y="501"/>
                  </a:lnTo>
                  <a:lnTo>
                    <a:pt x="1237" y="506"/>
                  </a:lnTo>
                  <a:lnTo>
                    <a:pt x="1236" y="512"/>
                  </a:lnTo>
                  <a:lnTo>
                    <a:pt x="1234" y="518"/>
                  </a:lnTo>
                  <a:lnTo>
                    <a:pt x="1232" y="525"/>
                  </a:lnTo>
                  <a:lnTo>
                    <a:pt x="1225" y="538"/>
                  </a:lnTo>
                  <a:lnTo>
                    <a:pt x="1215" y="553"/>
                  </a:lnTo>
                  <a:lnTo>
                    <a:pt x="1202" y="567"/>
                  </a:lnTo>
                  <a:lnTo>
                    <a:pt x="1187" y="582"/>
                  </a:lnTo>
                  <a:lnTo>
                    <a:pt x="1156" y="609"/>
                  </a:lnTo>
                  <a:lnTo>
                    <a:pt x="1127" y="632"/>
                  </a:lnTo>
                  <a:lnTo>
                    <a:pt x="1106" y="649"/>
                  </a:lnTo>
                  <a:lnTo>
                    <a:pt x="1098" y="654"/>
                  </a:lnTo>
                  <a:lnTo>
                    <a:pt x="1095" y="656"/>
                  </a:lnTo>
                  <a:lnTo>
                    <a:pt x="1092" y="659"/>
                  </a:lnTo>
                  <a:lnTo>
                    <a:pt x="1091" y="663"/>
                  </a:lnTo>
                  <a:lnTo>
                    <a:pt x="1090" y="665"/>
                  </a:lnTo>
                  <a:lnTo>
                    <a:pt x="1088" y="668"/>
                  </a:lnTo>
                  <a:lnTo>
                    <a:pt x="1088" y="673"/>
                  </a:lnTo>
                  <a:lnTo>
                    <a:pt x="1091" y="678"/>
                  </a:lnTo>
                  <a:lnTo>
                    <a:pt x="1093" y="682"/>
                  </a:lnTo>
                  <a:lnTo>
                    <a:pt x="1098" y="687"/>
                  </a:lnTo>
                  <a:lnTo>
                    <a:pt x="1105" y="692"/>
                  </a:lnTo>
                  <a:lnTo>
                    <a:pt x="1114" y="698"/>
                  </a:lnTo>
                  <a:lnTo>
                    <a:pt x="1126" y="704"/>
                  </a:lnTo>
                  <a:lnTo>
                    <a:pt x="1140" y="709"/>
                  </a:lnTo>
                  <a:lnTo>
                    <a:pt x="1157" y="715"/>
                  </a:lnTo>
                  <a:lnTo>
                    <a:pt x="1166" y="719"/>
                  </a:lnTo>
                  <a:lnTo>
                    <a:pt x="1173" y="721"/>
                  </a:lnTo>
                  <a:lnTo>
                    <a:pt x="1178" y="725"/>
                  </a:lnTo>
                  <a:lnTo>
                    <a:pt x="1184" y="728"/>
                  </a:lnTo>
                  <a:lnTo>
                    <a:pt x="1188" y="733"/>
                  </a:lnTo>
                  <a:lnTo>
                    <a:pt x="1191" y="736"/>
                  </a:lnTo>
                  <a:lnTo>
                    <a:pt x="1194" y="740"/>
                  </a:lnTo>
                  <a:lnTo>
                    <a:pt x="1196" y="744"/>
                  </a:lnTo>
                  <a:lnTo>
                    <a:pt x="1198" y="754"/>
                  </a:lnTo>
                  <a:lnTo>
                    <a:pt x="1198" y="763"/>
                  </a:lnTo>
                  <a:lnTo>
                    <a:pt x="1197" y="774"/>
                  </a:lnTo>
                  <a:lnTo>
                    <a:pt x="1195" y="784"/>
                  </a:lnTo>
                  <a:lnTo>
                    <a:pt x="1192" y="795"/>
                  </a:lnTo>
                  <a:lnTo>
                    <a:pt x="1190" y="806"/>
                  </a:lnTo>
                  <a:lnTo>
                    <a:pt x="1190" y="819"/>
                  </a:lnTo>
                  <a:lnTo>
                    <a:pt x="1190" y="831"/>
                  </a:lnTo>
                  <a:lnTo>
                    <a:pt x="1191" y="838"/>
                  </a:lnTo>
                  <a:lnTo>
                    <a:pt x="1192" y="845"/>
                  </a:lnTo>
                  <a:lnTo>
                    <a:pt x="1195" y="851"/>
                  </a:lnTo>
                  <a:lnTo>
                    <a:pt x="1198" y="858"/>
                  </a:lnTo>
                  <a:lnTo>
                    <a:pt x="1202" y="865"/>
                  </a:lnTo>
                  <a:lnTo>
                    <a:pt x="1206" y="872"/>
                  </a:lnTo>
                  <a:lnTo>
                    <a:pt x="1212" y="878"/>
                  </a:lnTo>
                  <a:lnTo>
                    <a:pt x="1218" y="885"/>
                  </a:lnTo>
                  <a:lnTo>
                    <a:pt x="1226" y="892"/>
                  </a:lnTo>
                  <a:lnTo>
                    <a:pt x="1234" y="899"/>
                  </a:lnTo>
                  <a:lnTo>
                    <a:pt x="1244" y="904"/>
                  </a:lnTo>
                  <a:lnTo>
                    <a:pt x="1254" y="909"/>
                  </a:lnTo>
                  <a:lnTo>
                    <a:pt x="1265" y="914"/>
                  </a:lnTo>
                  <a:lnTo>
                    <a:pt x="1275" y="918"/>
                  </a:lnTo>
                  <a:lnTo>
                    <a:pt x="1287" y="922"/>
                  </a:lnTo>
                  <a:lnTo>
                    <a:pt x="1300" y="924"/>
                  </a:lnTo>
                  <a:lnTo>
                    <a:pt x="1327" y="929"/>
                  </a:lnTo>
                  <a:lnTo>
                    <a:pt x="1355" y="932"/>
                  </a:lnTo>
                  <a:lnTo>
                    <a:pt x="1384" y="934"/>
                  </a:lnTo>
                  <a:lnTo>
                    <a:pt x="1416" y="932"/>
                  </a:lnTo>
                  <a:lnTo>
                    <a:pt x="1447" y="931"/>
                  </a:lnTo>
                  <a:lnTo>
                    <a:pt x="1480" y="928"/>
                  </a:lnTo>
                  <a:lnTo>
                    <a:pt x="1512" y="923"/>
                  </a:lnTo>
                  <a:lnTo>
                    <a:pt x="1545" y="917"/>
                  </a:lnTo>
                  <a:lnTo>
                    <a:pt x="1578" y="911"/>
                  </a:lnTo>
                  <a:lnTo>
                    <a:pt x="1609" y="904"/>
                  </a:lnTo>
                  <a:lnTo>
                    <a:pt x="1641" y="896"/>
                  </a:lnTo>
                  <a:lnTo>
                    <a:pt x="1670" y="888"/>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3" name="Freeform 104"/>
            <p:cNvSpPr/>
            <p:nvPr/>
          </p:nvSpPr>
          <p:spPr>
            <a:xfrm>
              <a:off x="3397320" y="2338920"/>
              <a:ext cx="911880" cy="397080"/>
            </a:xfrm>
            <a:custGeom>
              <a:avLst/>
              <a:gdLst>
                <a:gd name="textAreaLeft" fmla="*/ 0 w 911880"/>
                <a:gd name="textAreaRight" fmla="*/ 912240 w 911880"/>
                <a:gd name="textAreaTop" fmla="*/ 0 h 397080"/>
                <a:gd name="textAreaBottom" fmla="*/ 397440 h 397080"/>
              </a:gdLst>
              <a:ahLst/>
              <a:rect l="textAreaLeft" t="textAreaTop" r="textAreaRight" b="textAreaBottom"/>
              <a:pathLst>
                <a:path w="2077" h="874">
                  <a:moveTo>
                    <a:pt x="438" y="837"/>
                  </a:moveTo>
                  <a:lnTo>
                    <a:pt x="0" y="805"/>
                  </a:lnTo>
                  <a:lnTo>
                    <a:pt x="47" y="617"/>
                  </a:lnTo>
                  <a:lnTo>
                    <a:pt x="389" y="33"/>
                  </a:lnTo>
                  <a:lnTo>
                    <a:pt x="407" y="32"/>
                  </a:lnTo>
                  <a:lnTo>
                    <a:pt x="457" y="31"/>
                  </a:lnTo>
                  <a:lnTo>
                    <a:pt x="535" y="28"/>
                  </a:lnTo>
                  <a:lnTo>
                    <a:pt x="637" y="26"/>
                  </a:lnTo>
                  <a:lnTo>
                    <a:pt x="758" y="23"/>
                  </a:lnTo>
                  <a:lnTo>
                    <a:pt x="893" y="19"/>
                  </a:lnTo>
                  <a:lnTo>
                    <a:pt x="1039" y="14"/>
                  </a:lnTo>
                  <a:lnTo>
                    <a:pt x="1191" y="11"/>
                  </a:lnTo>
                  <a:lnTo>
                    <a:pt x="1344" y="9"/>
                  </a:lnTo>
                  <a:lnTo>
                    <a:pt x="1493" y="5"/>
                  </a:lnTo>
                  <a:lnTo>
                    <a:pt x="1634" y="3"/>
                  </a:lnTo>
                  <a:lnTo>
                    <a:pt x="1765" y="2"/>
                  </a:lnTo>
                  <a:lnTo>
                    <a:pt x="1879" y="0"/>
                  </a:lnTo>
                  <a:lnTo>
                    <a:pt x="1972" y="2"/>
                  </a:lnTo>
                  <a:lnTo>
                    <a:pt x="2009" y="3"/>
                  </a:lnTo>
                  <a:lnTo>
                    <a:pt x="2040" y="4"/>
                  </a:lnTo>
                  <a:lnTo>
                    <a:pt x="2062" y="5"/>
                  </a:lnTo>
                  <a:lnTo>
                    <a:pt x="2077" y="7"/>
                  </a:lnTo>
                  <a:lnTo>
                    <a:pt x="1780" y="874"/>
                  </a:lnTo>
                  <a:lnTo>
                    <a:pt x="438" y="83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4" name="Freeform 105"/>
            <p:cNvSpPr/>
            <p:nvPr/>
          </p:nvSpPr>
          <p:spPr>
            <a:xfrm>
              <a:off x="3397320" y="2338920"/>
              <a:ext cx="911880" cy="397080"/>
            </a:xfrm>
            <a:custGeom>
              <a:avLst/>
              <a:gdLst>
                <a:gd name="textAreaLeft" fmla="*/ 0 w 911880"/>
                <a:gd name="textAreaRight" fmla="*/ 912240 w 911880"/>
                <a:gd name="textAreaTop" fmla="*/ 0 h 397080"/>
                <a:gd name="textAreaBottom" fmla="*/ 397440 h 397080"/>
              </a:gdLst>
              <a:ahLst/>
              <a:rect l="textAreaLeft" t="textAreaTop" r="textAreaRight" b="textAreaBottom"/>
              <a:pathLst>
                <a:path w="2077" h="874">
                  <a:moveTo>
                    <a:pt x="438" y="837"/>
                  </a:moveTo>
                  <a:lnTo>
                    <a:pt x="0" y="805"/>
                  </a:lnTo>
                  <a:lnTo>
                    <a:pt x="47" y="617"/>
                  </a:lnTo>
                  <a:lnTo>
                    <a:pt x="389" y="33"/>
                  </a:lnTo>
                  <a:lnTo>
                    <a:pt x="407" y="32"/>
                  </a:lnTo>
                  <a:lnTo>
                    <a:pt x="457" y="31"/>
                  </a:lnTo>
                  <a:lnTo>
                    <a:pt x="535" y="28"/>
                  </a:lnTo>
                  <a:lnTo>
                    <a:pt x="637" y="26"/>
                  </a:lnTo>
                  <a:lnTo>
                    <a:pt x="758" y="23"/>
                  </a:lnTo>
                  <a:lnTo>
                    <a:pt x="893" y="19"/>
                  </a:lnTo>
                  <a:lnTo>
                    <a:pt x="1039" y="14"/>
                  </a:lnTo>
                  <a:lnTo>
                    <a:pt x="1191" y="11"/>
                  </a:lnTo>
                  <a:lnTo>
                    <a:pt x="1344" y="9"/>
                  </a:lnTo>
                  <a:lnTo>
                    <a:pt x="1493" y="5"/>
                  </a:lnTo>
                  <a:lnTo>
                    <a:pt x="1634" y="3"/>
                  </a:lnTo>
                  <a:lnTo>
                    <a:pt x="1765" y="2"/>
                  </a:lnTo>
                  <a:lnTo>
                    <a:pt x="1879" y="0"/>
                  </a:lnTo>
                  <a:lnTo>
                    <a:pt x="1972" y="2"/>
                  </a:lnTo>
                  <a:lnTo>
                    <a:pt x="2009" y="3"/>
                  </a:lnTo>
                  <a:lnTo>
                    <a:pt x="2040" y="4"/>
                  </a:lnTo>
                  <a:lnTo>
                    <a:pt x="2062" y="5"/>
                  </a:lnTo>
                  <a:lnTo>
                    <a:pt x="2077" y="7"/>
                  </a:lnTo>
                  <a:lnTo>
                    <a:pt x="1780" y="874"/>
                  </a:lnTo>
                  <a:lnTo>
                    <a:pt x="438" y="837"/>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5" name="Freeform 106"/>
            <p:cNvSpPr/>
            <p:nvPr/>
          </p:nvSpPr>
          <p:spPr>
            <a:xfrm>
              <a:off x="2892240" y="3199680"/>
              <a:ext cx="1314000" cy="934560"/>
            </a:xfrm>
            <a:custGeom>
              <a:avLst/>
              <a:gdLst>
                <a:gd name="textAreaLeft" fmla="*/ 0 w 1314000"/>
                <a:gd name="textAreaRight" fmla="*/ 1314360 w 1314000"/>
                <a:gd name="textAreaTop" fmla="*/ 0 h 934560"/>
                <a:gd name="textAreaBottom" fmla="*/ 934920 h 934560"/>
              </a:gdLst>
              <a:ahLst/>
              <a:rect l="textAreaLeft" t="textAreaTop" r="textAreaRight" b="textAreaBottom"/>
              <a:pathLst>
                <a:path w="2989" h="2059">
                  <a:moveTo>
                    <a:pt x="2989" y="6"/>
                  </a:moveTo>
                  <a:lnTo>
                    <a:pt x="1057" y="0"/>
                  </a:lnTo>
                  <a:lnTo>
                    <a:pt x="0" y="2022"/>
                  </a:lnTo>
                  <a:lnTo>
                    <a:pt x="423" y="2059"/>
                  </a:lnTo>
                  <a:lnTo>
                    <a:pt x="515" y="1875"/>
                  </a:lnTo>
                  <a:lnTo>
                    <a:pt x="1068" y="1904"/>
                  </a:lnTo>
                  <a:lnTo>
                    <a:pt x="1071" y="1737"/>
                  </a:lnTo>
                  <a:lnTo>
                    <a:pt x="2462" y="1769"/>
                  </a:lnTo>
                  <a:lnTo>
                    <a:pt x="2989" y="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6" name="Freeform 107"/>
            <p:cNvSpPr/>
            <p:nvPr/>
          </p:nvSpPr>
          <p:spPr>
            <a:xfrm>
              <a:off x="2892240" y="3199680"/>
              <a:ext cx="1314000" cy="934560"/>
            </a:xfrm>
            <a:custGeom>
              <a:avLst/>
              <a:gdLst>
                <a:gd name="textAreaLeft" fmla="*/ 0 w 1314000"/>
                <a:gd name="textAreaRight" fmla="*/ 1314360 w 1314000"/>
                <a:gd name="textAreaTop" fmla="*/ 0 h 934560"/>
                <a:gd name="textAreaBottom" fmla="*/ 934920 h 934560"/>
              </a:gdLst>
              <a:ahLst/>
              <a:rect l="textAreaLeft" t="textAreaTop" r="textAreaRight" b="textAreaBottom"/>
              <a:pathLst>
                <a:path w="2989" h="2059">
                  <a:moveTo>
                    <a:pt x="2989" y="6"/>
                  </a:moveTo>
                  <a:lnTo>
                    <a:pt x="1057" y="0"/>
                  </a:lnTo>
                  <a:lnTo>
                    <a:pt x="0" y="2022"/>
                  </a:lnTo>
                  <a:lnTo>
                    <a:pt x="423" y="2059"/>
                  </a:lnTo>
                  <a:lnTo>
                    <a:pt x="515" y="1875"/>
                  </a:lnTo>
                  <a:lnTo>
                    <a:pt x="1068" y="1904"/>
                  </a:lnTo>
                  <a:lnTo>
                    <a:pt x="1071" y="1737"/>
                  </a:lnTo>
                  <a:lnTo>
                    <a:pt x="2462" y="1769"/>
                  </a:lnTo>
                  <a:lnTo>
                    <a:pt x="2989" y="6"/>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7" name="Freeform 108"/>
            <p:cNvSpPr/>
            <p:nvPr/>
          </p:nvSpPr>
          <p:spPr>
            <a:xfrm>
              <a:off x="4179960" y="2520720"/>
              <a:ext cx="1036800" cy="299520"/>
            </a:xfrm>
            <a:custGeom>
              <a:avLst/>
              <a:gdLst>
                <a:gd name="textAreaLeft" fmla="*/ 0 w 1036800"/>
                <a:gd name="textAreaRight" fmla="*/ 1037160 w 1036800"/>
                <a:gd name="textAreaTop" fmla="*/ 0 h 299520"/>
                <a:gd name="textAreaBottom" fmla="*/ 299880 h 299520"/>
              </a:gdLst>
              <a:ahLst/>
              <a:rect l="textAreaLeft" t="textAreaTop" r="textAreaRight" b="textAreaBottom"/>
              <a:pathLst>
                <a:path w="2362" h="660">
                  <a:moveTo>
                    <a:pt x="2362" y="660"/>
                  </a:moveTo>
                  <a:lnTo>
                    <a:pt x="586" y="656"/>
                  </a:lnTo>
                  <a:lnTo>
                    <a:pt x="631" y="481"/>
                  </a:lnTo>
                  <a:lnTo>
                    <a:pt x="0" y="475"/>
                  </a:lnTo>
                  <a:lnTo>
                    <a:pt x="165" y="0"/>
                  </a:lnTo>
                  <a:lnTo>
                    <a:pt x="1535" y="2"/>
                  </a:lnTo>
                  <a:lnTo>
                    <a:pt x="1548" y="9"/>
                  </a:lnTo>
                  <a:lnTo>
                    <a:pt x="1561" y="15"/>
                  </a:lnTo>
                  <a:lnTo>
                    <a:pt x="1575" y="20"/>
                  </a:lnTo>
                  <a:lnTo>
                    <a:pt x="1588" y="23"/>
                  </a:lnTo>
                  <a:lnTo>
                    <a:pt x="1602" y="25"/>
                  </a:lnTo>
                  <a:lnTo>
                    <a:pt x="1617" y="28"/>
                  </a:lnTo>
                  <a:lnTo>
                    <a:pt x="1632" y="28"/>
                  </a:lnTo>
                  <a:lnTo>
                    <a:pt x="1646" y="29"/>
                  </a:lnTo>
                  <a:lnTo>
                    <a:pt x="1678" y="28"/>
                  </a:lnTo>
                  <a:lnTo>
                    <a:pt x="1709" y="25"/>
                  </a:lnTo>
                  <a:lnTo>
                    <a:pt x="1742" y="23"/>
                  </a:lnTo>
                  <a:lnTo>
                    <a:pt x="1774" y="20"/>
                  </a:lnTo>
                  <a:lnTo>
                    <a:pt x="1806" y="16"/>
                  </a:lnTo>
                  <a:lnTo>
                    <a:pt x="1838" y="15"/>
                  </a:lnTo>
                  <a:lnTo>
                    <a:pt x="1853" y="14"/>
                  </a:lnTo>
                  <a:lnTo>
                    <a:pt x="1869" y="15"/>
                  </a:lnTo>
                  <a:lnTo>
                    <a:pt x="1885" y="16"/>
                  </a:lnTo>
                  <a:lnTo>
                    <a:pt x="1899" y="17"/>
                  </a:lnTo>
                  <a:lnTo>
                    <a:pt x="1914" y="20"/>
                  </a:lnTo>
                  <a:lnTo>
                    <a:pt x="1928" y="23"/>
                  </a:lnTo>
                  <a:lnTo>
                    <a:pt x="1942" y="28"/>
                  </a:lnTo>
                  <a:lnTo>
                    <a:pt x="1956" y="32"/>
                  </a:lnTo>
                  <a:lnTo>
                    <a:pt x="1969" y="39"/>
                  </a:lnTo>
                  <a:lnTo>
                    <a:pt x="1982" y="46"/>
                  </a:lnTo>
                  <a:lnTo>
                    <a:pt x="1993" y="56"/>
                  </a:lnTo>
                  <a:lnTo>
                    <a:pt x="2005" y="66"/>
                  </a:lnTo>
                  <a:lnTo>
                    <a:pt x="2039" y="99"/>
                  </a:lnTo>
                  <a:lnTo>
                    <a:pt x="2066" y="128"/>
                  </a:lnTo>
                  <a:lnTo>
                    <a:pt x="2088" y="153"/>
                  </a:lnTo>
                  <a:lnTo>
                    <a:pt x="2104" y="173"/>
                  </a:lnTo>
                  <a:lnTo>
                    <a:pt x="2116" y="190"/>
                  </a:lnTo>
                  <a:lnTo>
                    <a:pt x="2125" y="205"/>
                  </a:lnTo>
                  <a:lnTo>
                    <a:pt x="2130" y="217"/>
                  </a:lnTo>
                  <a:lnTo>
                    <a:pt x="2133" y="226"/>
                  </a:lnTo>
                  <a:lnTo>
                    <a:pt x="2135" y="233"/>
                  </a:lnTo>
                  <a:lnTo>
                    <a:pt x="2133" y="239"/>
                  </a:lnTo>
                  <a:lnTo>
                    <a:pt x="2132" y="244"/>
                  </a:lnTo>
                  <a:lnTo>
                    <a:pt x="2131" y="248"/>
                  </a:lnTo>
                  <a:lnTo>
                    <a:pt x="2131" y="252"/>
                  </a:lnTo>
                  <a:lnTo>
                    <a:pt x="2131" y="255"/>
                  </a:lnTo>
                  <a:lnTo>
                    <a:pt x="2133" y="260"/>
                  </a:lnTo>
                  <a:lnTo>
                    <a:pt x="2138" y="265"/>
                  </a:lnTo>
                  <a:lnTo>
                    <a:pt x="2145" y="271"/>
                  </a:lnTo>
                  <a:lnTo>
                    <a:pt x="2152" y="275"/>
                  </a:lnTo>
                  <a:lnTo>
                    <a:pt x="2160" y="280"/>
                  </a:lnTo>
                  <a:lnTo>
                    <a:pt x="2170" y="285"/>
                  </a:lnTo>
                  <a:lnTo>
                    <a:pt x="2187" y="293"/>
                  </a:lnTo>
                  <a:lnTo>
                    <a:pt x="2204" y="303"/>
                  </a:lnTo>
                  <a:lnTo>
                    <a:pt x="2211" y="308"/>
                  </a:lnTo>
                  <a:lnTo>
                    <a:pt x="2218" y="315"/>
                  </a:lnTo>
                  <a:lnTo>
                    <a:pt x="2223" y="323"/>
                  </a:lnTo>
                  <a:lnTo>
                    <a:pt x="2228" y="333"/>
                  </a:lnTo>
                  <a:lnTo>
                    <a:pt x="2230" y="344"/>
                  </a:lnTo>
                  <a:lnTo>
                    <a:pt x="2233" y="356"/>
                  </a:lnTo>
                  <a:lnTo>
                    <a:pt x="2233" y="371"/>
                  </a:lnTo>
                  <a:lnTo>
                    <a:pt x="2230" y="389"/>
                  </a:lnTo>
                  <a:lnTo>
                    <a:pt x="2226" y="421"/>
                  </a:lnTo>
                  <a:lnTo>
                    <a:pt x="2225" y="447"/>
                  </a:lnTo>
                  <a:lnTo>
                    <a:pt x="2226" y="458"/>
                  </a:lnTo>
                  <a:lnTo>
                    <a:pt x="2227" y="466"/>
                  </a:lnTo>
                  <a:lnTo>
                    <a:pt x="2228" y="473"/>
                  </a:lnTo>
                  <a:lnTo>
                    <a:pt x="2232" y="480"/>
                  </a:lnTo>
                  <a:lnTo>
                    <a:pt x="2235" y="484"/>
                  </a:lnTo>
                  <a:lnTo>
                    <a:pt x="2240" y="489"/>
                  </a:lnTo>
                  <a:lnTo>
                    <a:pt x="2244" y="494"/>
                  </a:lnTo>
                  <a:lnTo>
                    <a:pt x="2251" y="497"/>
                  </a:lnTo>
                  <a:lnTo>
                    <a:pt x="2267" y="504"/>
                  </a:lnTo>
                  <a:lnTo>
                    <a:pt x="2285" y="512"/>
                  </a:lnTo>
                  <a:lnTo>
                    <a:pt x="2290" y="540"/>
                  </a:lnTo>
                  <a:lnTo>
                    <a:pt x="2297" y="569"/>
                  </a:lnTo>
                  <a:lnTo>
                    <a:pt x="2305" y="593"/>
                  </a:lnTo>
                  <a:lnTo>
                    <a:pt x="2313" y="615"/>
                  </a:lnTo>
                  <a:lnTo>
                    <a:pt x="2319" y="625"/>
                  </a:lnTo>
                  <a:lnTo>
                    <a:pt x="2324" y="633"/>
                  </a:lnTo>
                  <a:lnTo>
                    <a:pt x="2330" y="641"/>
                  </a:lnTo>
                  <a:lnTo>
                    <a:pt x="2336" y="647"/>
                  </a:lnTo>
                  <a:lnTo>
                    <a:pt x="2341" y="653"/>
                  </a:lnTo>
                  <a:lnTo>
                    <a:pt x="2348" y="656"/>
                  </a:lnTo>
                  <a:lnTo>
                    <a:pt x="2355" y="658"/>
                  </a:lnTo>
                  <a:lnTo>
                    <a:pt x="2362" y="66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8" name="Freeform 109"/>
            <p:cNvSpPr/>
            <p:nvPr/>
          </p:nvSpPr>
          <p:spPr>
            <a:xfrm>
              <a:off x="4179960" y="2520720"/>
              <a:ext cx="1036800" cy="299520"/>
            </a:xfrm>
            <a:custGeom>
              <a:avLst/>
              <a:gdLst>
                <a:gd name="textAreaLeft" fmla="*/ 0 w 1036800"/>
                <a:gd name="textAreaRight" fmla="*/ 1037160 w 1036800"/>
                <a:gd name="textAreaTop" fmla="*/ 0 h 299520"/>
                <a:gd name="textAreaBottom" fmla="*/ 299880 h 299520"/>
              </a:gdLst>
              <a:ahLst/>
              <a:rect l="textAreaLeft" t="textAreaTop" r="textAreaRight" b="textAreaBottom"/>
              <a:pathLst>
                <a:path w="2362" h="660">
                  <a:moveTo>
                    <a:pt x="2362" y="660"/>
                  </a:moveTo>
                  <a:lnTo>
                    <a:pt x="586" y="656"/>
                  </a:lnTo>
                  <a:lnTo>
                    <a:pt x="631" y="481"/>
                  </a:lnTo>
                  <a:lnTo>
                    <a:pt x="0" y="475"/>
                  </a:lnTo>
                  <a:lnTo>
                    <a:pt x="165" y="0"/>
                  </a:lnTo>
                  <a:lnTo>
                    <a:pt x="1535" y="2"/>
                  </a:lnTo>
                  <a:lnTo>
                    <a:pt x="1548" y="9"/>
                  </a:lnTo>
                  <a:lnTo>
                    <a:pt x="1561" y="15"/>
                  </a:lnTo>
                  <a:lnTo>
                    <a:pt x="1575" y="20"/>
                  </a:lnTo>
                  <a:lnTo>
                    <a:pt x="1588" y="23"/>
                  </a:lnTo>
                  <a:lnTo>
                    <a:pt x="1602" y="25"/>
                  </a:lnTo>
                  <a:lnTo>
                    <a:pt x="1617" y="28"/>
                  </a:lnTo>
                  <a:lnTo>
                    <a:pt x="1632" y="28"/>
                  </a:lnTo>
                  <a:lnTo>
                    <a:pt x="1646" y="29"/>
                  </a:lnTo>
                  <a:lnTo>
                    <a:pt x="1678" y="28"/>
                  </a:lnTo>
                  <a:lnTo>
                    <a:pt x="1709" y="25"/>
                  </a:lnTo>
                  <a:lnTo>
                    <a:pt x="1742" y="23"/>
                  </a:lnTo>
                  <a:lnTo>
                    <a:pt x="1774" y="20"/>
                  </a:lnTo>
                  <a:lnTo>
                    <a:pt x="1806" y="16"/>
                  </a:lnTo>
                  <a:lnTo>
                    <a:pt x="1838" y="15"/>
                  </a:lnTo>
                  <a:lnTo>
                    <a:pt x="1853" y="14"/>
                  </a:lnTo>
                  <a:lnTo>
                    <a:pt x="1869" y="15"/>
                  </a:lnTo>
                  <a:lnTo>
                    <a:pt x="1885" y="16"/>
                  </a:lnTo>
                  <a:lnTo>
                    <a:pt x="1899" y="17"/>
                  </a:lnTo>
                  <a:lnTo>
                    <a:pt x="1914" y="20"/>
                  </a:lnTo>
                  <a:lnTo>
                    <a:pt x="1928" y="23"/>
                  </a:lnTo>
                  <a:lnTo>
                    <a:pt x="1942" y="28"/>
                  </a:lnTo>
                  <a:lnTo>
                    <a:pt x="1956" y="32"/>
                  </a:lnTo>
                  <a:lnTo>
                    <a:pt x="1969" y="39"/>
                  </a:lnTo>
                  <a:lnTo>
                    <a:pt x="1982" y="46"/>
                  </a:lnTo>
                  <a:lnTo>
                    <a:pt x="1993" y="56"/>
                  </a:lnTo>
                  <a:lnTo>
                    <a:pt x="2005" y="66"/>
                  </a:lnTo>
                  <a:lnTo>
                    <a:pt x="2039" y="99"/>
                  </a:lnTo>
                  <a:lnTo>
                    <a:pt x="2066" y="128"/>
                  </a:lnTo>
                  <a:lnTo>
                    <a:pt x="2088" y="153"/>
                  </a:lnTo>
                  <a:lnTo>
                    <a:pt x="2104" y="173"/>
                  </a:lnTo>
                  <a:lnTo>
                    <a:pt x="2116" y="190"/>
                  </a:lnTo>
                  <a:lnTo>
                    <a:pt x="2125" y="205"/>
                  </a:lnTo>
                  <a:lnTo>
                    <a:pt x="2130" y="217"/>
                  </a:lnTo>
                  <a:lnTo>
                    <a:pt x="2133" y="226"/>
                  </a:lnTo>
                  <a:lnTo>
                    <a:pt x="2135" y="233"/>
                  </a:lnTo>
                  <a:lnTo>
                    <a:pt x="2133" y="239"/>
                  </a:lnTo>
                  <a:lnTo>
                    <a:pt x="2132" y="244"/>
                  </a:lnTo>
                  <a:lnTo>
                    <a:pt x="2131" y="248"/>
                  </a:lnTo>
                  <a:lnTo>
                    <a:pt x="2131" y="252"/>
                  </a:lnTo>
                  <a:lnTo>
                    <a:pt x="2131" y="255"/>
                  </a:lnTo>
                  <a:lnTo>
                    <a:pt x="2133" y="260"/>
                  </a:lnTo>
                  <a:lnTo>
                    <a:pt x="2138" y="265"/>
                  </a:lnTo>
                  <a:lnTo>
                    <a:pt x="2145" y="271"/>
                  </a:lnTo>
                  <a:lnTo>
                    <a:pt x="2152" y="275"/>
                  </a:lnTo>
                  <a:lnTo>
                    <a:pt x="2160" y="280"/>
                  </a:lnTo>
                  <a:lnTo>
                    <a:pt x="2170" y="285"/>
                  </a:lnTo>
                  <a:lnTo>
                    <a:pt x="2187" y="293"/>
                  </a:lnTo>
                  <a:lnTo>
                    <a:pt x="2204" y="303"/>
                  </a:lnTo>
                  <a:lnTo>
                    <a:pt x="2211" y="308"/>
                  </a:lnTo>
                  <a:lnTo>
                    <a:pt x="2218" y="315"/>
                  </a:lnTo>
                  <a:lnTo>
                    <a:pt x="2223" y="323"/>
                  </a:lnTo>
                  <a:lnTo>
                    <a:pt x="2228" y="333"/>
                  </a:lnTo>
                  <a:lnTo>
                    <a:pt x="2230" y="344"/>
                  </a:lnTo>
                  <a:lnTo>
                    <a:pt x="2233" y="356"/>
                  </a:lnTo>
                  <a:lnTo>
                    <a:pt x="2233" y="371"/>
                  </a:lnTo>
                  <a:lnTo>
                    <a:pt x="2230" y="389"/>
                  </a:lnTo>
                  <a:lnTo>
                    <a:pt x="2226" y="421"/>
                  </a:lnTo>
                  <a:lnTo>
                    <a:pt x="2225" y="447"/>
                  </a:lnTo>
                  <a:lnTo>
                    <a:pt x="2226" y="458"/>
                  </a:lnTo>
                  <a:lnTo>
                    <a:pt x="2227" y="466"/>
                  </a:lnTo>
                  <a:lnTo>
                    <a:pt x="2228" y="473"/>
                  </a:lnTo>
                  <a:lnTo>
                    <a:pt x="2232" y="480"/>
                  </a:lnTo>
                  <a:lnTo>
                    <a:pt x="2235" y="484"/>
                  </a:lnTo>
                  <a:lnTo>
                    <a:pt x="2240" y="489"/>
                  </a:lnTo>
                  <a:lnTo>
                    <a:pt x="2244" y="494"/>
                  </a:lnTo>
                  <a:lnTo>
                    <a:pt x="2251" y="497"/>
                  </a:lnTo>
                  <a:lnTo>
                    <a:pt x="2267" y="504"/>
                  </a:lnTo>
                  <a:lnTo>
                    <a:pt x="2285" y="512"/>
                  </a:lnTo>
                  <a:lnTo>
                    <a:pt x="2290" y="540"/>
                  </a:lnTo>
                  <a:lnTo>
                    <a:pt x="2297" y="569"/>
                  </a:lnTo>
                  <a:lnTo>
                    <a:pt x="2305" y="593"/>
                  </a:lnTo>
                  <a:lnTo>
                    <a:pt x="2313" y="615"/>
                  </a:lnTo>
                  <a:lnTo>
                    <a:pt x="2319" y="625"/>
                  </a:lnTo>
                  <a:lnTo>
                    <a:pt x="2324" y="633"/>
                  </a:lnTo>
                  <a:lnTo>
                    <a:pt x="2330" y="641"/>
                  </a:lnTo>
                  <a:lnTo>
                    <a:pt x="2336" y="647"/>
                  </a:lnTo>
                  <a:lnTo>
                    <a:pt x="2341" y="653"/>
                  </a:lnTo>
                  <a:lnTo>
                    <a:pt x="2348" y="656"/>
                  </a:lnTo>
                  <a:lnTo>
                    <a:pt x="2355" y="658"/>
                  </a:lnTo>
                  <a:lnTo>
                    <a:pt x="2362" y="66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89" name="Freeform 110"/>
            <p:cNvSpPr/>
            <p:nvPr/>
          </p:nvSpPr>
          <p:spPr>
            <a:xfrm>
              <a:off x="4250160" y="2230200"/>
              <a:ext cx="828000" cy="319320"/>
            </a:xfrm>
            <a:custGeom>
              <a:avLst/>
              <a:gdLst>
                <a:gd name="textAreaLeft" fmla="*/ 0 w 828000"/>
                <a:gd name="textAreaRight" fmla="*/ 828360 w 828000"/>
                <a:gd name="textAreaTop" fmla="*/ 0 h 319320"/>
                <a:gd name="textAreaBottom" fmla="*/ 319680 h 319320"/>
              </a:gdLst>
              <a:ahLst/>
              <a:rect l="textAreaLeft" t="textAreaTop" r="textAreaRight" b="textAreaBottom"/>
              <a:pathLst>
                <a:path w="1886" h="703">
                  <a:moveTo>
                    <a:pt x="0" y="637"/>
                  </a:moveTo>
                  <a:lnTo>
                    <a:pt x="219" y="0"/>
                  </a:lnTo>
                  <a:lnTo>
                    <a:pt x="1886" y="6"/>
                  </a:lnTo>
                  <a:lnTo>
                    <a:pt x="1846" y="703"/>
                  </a:lnTo>
                  <a:lnTo>
                    <a:pt x="1835" y="693"/>
                  </a:lnTo>
                  <a:lnTo>
                    <a:pt x="1822" y="683"/>
                  </a:lnTo>
                  <a:lnTo>
                    <a:pt x="1809" y="676"/>
                  </a:lnTo>
                  <a:lnTo>
                    <a:pt x="1796" y="669"/>
                  </a:lnTo>
                  <a:lnTo>
                    <a:pt x="1782" y="665"/>
                  </a:lnTo>
                  <a:lnTo>
                    <a:pt x="1768" y="660"/>
                  </a:lnTo>
                  <a:lnTo>
                    <a:pt x="1753" y="657"/>
                  </a:lnTo>
                  <a:lnTo>
                    <a:pt x="1738" y="654"/>
                  </a:lnTo>
                  <a:lnTo>
                    <a:pt x="1724" y="653"/>
                  </a:lnTo>
                  <a:lnTo>
                    <a:pt x="1707" y="652"/>
                  </a:lnTo>
                  <a:lnTo>
                    <a:pt x="1692" y="651"/>
                  </a:lnTo>
                  <a:lnTo>
                    <a:pt x="1677" y="652"/>
                  </a:lnTo>
                  <a:lnTo>
                    <a:pt x="1644" y="653"/>
                  </a:lnTo>
                  <a:lnTo>
                    <a:pt x="1612" y="657"/>
                  </a:lnTo>
                  <a:lnTo>
                    <a:pt x="1580" y="660"/>
                  </a:lnTo>
                  <a:lnTo>
                    <a:pt x="1547" y="662"/>
                  </a:lnTo>
                  <a:lnTo>
                    <a:pt x="1516" y="665"/>
                  </a:lnTo>
                  <a:lnTo>
                    <a:pt x="1485" y="666"/>
                  </a:lnTo>
                  <a:lnTo>
                    <a:pt x="1470" y="665"/>
                  </a:lnTo>
                  <a:lnTo>
                    <a:pt x="1455" y="665"/>
                  </a:lnTo>
                  <a:lnTo>
                    <a:pt x="1440" y="662"/>
                  </a:lnTo>
                  <a:lnTo>
                    <a:pt x="1426" y="660"/>
                  </a:lnTo>
                  <a:lnTo>
                    <a:pt x="1413" y="657"/>
                  </a:lnTo>
                  <a:lnTo>
                    <a:pt x="1399" y="652"/>
                  </a:lnTo>
                  <a:lnTo>
                    <a:pt x="1386" y="646"/>
                  </a:lnTo>
                  <a:lnTo>
                    <a:pt x="1373" y="639"/>
                  </a:lnTo>
                  <a:lnTo>
                    <a:pt x="0" y="63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0" name="Freeform 111"/>
            <p:cNvSpPr/>
            <p:nvPr/>
          </p:nvSpPr>
          <p:spPr>
            <a:xfrm>
              <a:off x="4250160" y="2230200"/>
              <a:ext cx="828000" cy="319320"/>
            </a:xfrm>
            <a:custGeom>
              <a:avLst/>
              <a:gdLst>
                <a:gd name="textAreaLeft" fmla="*/ 0 w 828000"/>
                <a:gd name="textAreaRight" fmla="*/ 828360 w 828000"/>
                <a:gd name="textAreaTop" fmla="*/ 0 h 319320"/>
                <a:gd name="textAreaBottom" fmla="*/ 319680 h 319320"/>
              </a:gdLst>
              <a:ahLst/>
              <a:rect l="textAreaLeft" t="textAreaTop" r="textAreaRight" b="textAreaBottom"/>
              <a:pathLst>
                <a:path w="1886" h="703">
                  <a:moveTo>
                    <a:pt x="0" y="637"/>
                  </a:moveTo>
                  <a:lnTo>
                    <a:pt x="219" y="0"/>
                  </a:lnTo>
                  <a:lnTo>
                    <a:pt x="1886" y="6"/>
                  </a:lnTo>
                  <a:lnTo>
                    <a:pt x="1846" y="703"/>
                  </a:lnTo>
                  <a:lnTo>
                    <a:pt x="1835" y="693"/>
                  </a:lnTo>
                  <a:lnTo>
                    <a:pt x="1822" y="683"/>
                  </a:lnTo>
                  <a:lnTo>
                    <a:pt x="1809" y="676"/>
                  </a:lnTo>
                  <a:lnTo>
                    <a:pt x="1796" y="669"/>
                  </a:lnTo>
                  <a:lnTo>
                    <a:pt x="1782" y="665"/>
                  </a:lnTo>
                  <a:lnTo>
                    <a:pt x="1768" y="660"/>
                  </a:lnTo>
                  <a:lnTo>
                    <a:pt x="1753" y="657"/>
                  </a:lnTo>
                  <a:lnTo>
                    <a:pt x="1738" y="654"/>
                  </a:lnTo>
                  <a:lnTo>
                    <a:pt x="1724" y="653"/>
                  </a:lnTo>
                  <a:lnTo>
                    <a:pt x="1707" y="652"/>
                  </a:lnTo>
                  <a:lnTo>
                    <a:pt x="1692" y="651"/>
                  </a:lnTo>
                  <a:lnTo>
                    <a:pt x="1677" y="652"/>
                  </a:lnTo>
                  <a:lnTo>
                    <a:pt x="1644" y="653"/>
                  </a:lnTo>
                  <a:lnTo>
                    <a:pt x="1612" y="657"/>
                  </a:lnTo>
                  <a:lnTo>
                    <a:pt x="1580" y="660"/>
                  </a:lnTo>
                  <a:lnTo>
                    <a:pt x="1547" y="662"/>
                  </a:lnTo>
                  <a:lnTo>
                    <a:pt x="1516" y="665"/>
                  </a:lnTo>
                  <a:lnTo>
                    <a:pt x="1485" y="666"/>
                  </a:lnTo>
                  <a:lnTo>
                    <a:pt x="1470" y="665"/>
                  </a:lnTo>
                  <a:lnTo>
                    <a:pt x="1455" y="665"/>
                  </a:lnTo>
                  <a:lnTo>
                    <a:pt x="1440" y="662"/>
                  </a:lnTo>
                  <a:lnTo>
                    <a:pt x="1426" y="660"/>
                  </a:lnTo>
                  <a:lnTo>
                    <a:pt x="1413" y="657"/>
                  </a:lnTo>
                  <a:lnTo>
                    <a:pt x="1399" y="652"/>
                  </a:lnTo>
                  <a:lnTo>
                    <a:pt x="1386" y="646"/>
                  </a:lnTo>
                  <a:lnTo>
                    <a:pt x="1373" y="639"/>
                  </a:lnTo>
                  <a:lnTo>
                    <a:pt x="0" y="637"/>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1" name="Freeform 112"/>
            <p:cNvSpPr/>
            <p:nvPr/>
          </p:nvSpPr>
          <p:spPr>
            <a:xfrm>
              <a:off x="4347000" y="1971360"/>
              <a:ext cx="731520" cy="260640"/>
            </a:xfrm>
            <a:custGeom>
              <a:avLst/>
              <a:gdLst>
                <a:gd name="textAreaLeft" fmla="*/ 0 w 731520"/>
                <a:gd name="textAreaRight" fmla="*/ 731880 w 731520"/>
                <a:gd name="textAreaTop" fmla="*/ 0 h 260640"/>
                <a:gd name="textAreaBottom" fmla="*/ 261000 h 260640"/>
              </a:gdLst>
              <a:ahLst/>
              <a:rect l="textAreaLeft" t="textAreaTop" r="textAreaRight" b="textAreaBottom"/>
              <a:pathLst>
                <a:path w="1667" h="576">
                  <a:moveTo>
                    <a:pt x="1667" y="576"/>
                  </a:moveTo>
                  <a:lnTo>
                    <a:pt x="0" y="570"/>
                  </a:lnTo>
                  <a:lnTo>
                    <a:pt x="189" y="6"/>
                  </a:lnTo>
                  <a:lnTo>
                    <a:pt x="292" y="6"/>
                  </a:lnTo>
                  <a:lnTo>
                    <a:pt x="392" y="7"/>
                  </a:lnTo>
                  <a:lnTo>
                    <a:pt x="490" y="7"/>
                  </a:lnTo>
                  <a:lnTo>
                    <a:pt x="585" y="7"/>
                  </a:lnTo>
                  <a:lnTo>
                    <a:pt x="679" y="7"/>
                  </a:lnTo>
                  <a:lnTo>
                    <a:pt x="770" y="7"/>
                  </a:lnTo>
                  <a:lnTo>
                    <a:pt x="859" y="6"/>
                  </a:lnTo>
                  <a:lnTo>
                    <a:pt x="944" y="6"/>
                  </a:lnTo>
                  <a:lnTo>
                    <a:pt x="1028" y="6"/>
                  </a:lnTo>
                  <a:lnTo>
                    <a:pt x="1108" y="5"/>
                  </a:lnTo>
                  <a:lnTo>
                    <a:pt x="1185" y="5"/>
                  </a:lnTo>
                  <a:lnTo>
                    <a:pt x="1258" y="4"/>
                  </a:lnTo>
                  <a:lnTo>
                    <a:pt x="1328" y="2"/>
                  </a:lnTo>
                  <a:lnTo>
                    <a:pt x="1395" y="2"/>
                  </a:lnTo>
                  <a:lnTo>
                    <a:pt x="1458" y="1"/>
                  </a:lnTo>
                  <a:lnTo>
                    <a:pt x="1518" y="0"/>
                  </a:lnTo>
                  <a:lnTo>
                    <a:pt x="1521" y="20"/>
                  </a:lnTo>
                  <a:lnTo>
                    <a:pt x="1522" y="37"/>
                  </a:lnTo>
                  <a:lnTo>
                    <a:pt x="1521" y="53"/>
                  </a:lnTo>
                  <a:lnTo>
                    <a:pt x="1519" y="68"/>
                  </a:lnTo>
                  <a:lnTo>
                    <a:pt x="1515" y="81"/>
                  </a:lnTo>
                  <a:lnTo>
                    <a:pt x="1511" y="94"/>
                  </a:lnTo>
                  <a:lnTo>
                    <a:pt x="1506" y="104"/>
                  </a:lnTo>
                  <a:lnTo>
                    <a:pt x="1501" y="116"/>
                  </a:lnTo>
                  <a:lnTo>
                    <a:pt x="1498" y="125"/>
                  </a:lnTo>
                  <a:lnTo>
                    <a:pt x="1494" y="136"/>
                  </a:lnTo>
                  <a:lnTo>
                    <a:pt x="1492" y="146"/>
                  </a:lnTo>
                  <a:lnTo>
                    <a:pt x="1491" y="157"/>
                  </a:lnTo>
                  <a:lnTo>
                    <a:pt x="1492" y="167"/>
                  </a:lnTo>
                  <a:lnTo>
                    <a:pt x="1494" y="179"/>
                  </a:lnTo>
                  <a:lnTo>
                    <a:pt x="1500" y="190"/>
                  </a:lnTo>
                  <a:lnTo>
                    <a:pt x="1509" y="204"/>
                  </a:lnTo>
                  <a:lnTo>
                    <a:pt x="1530" y="234"/>
                  </a:lnTo>
                  <a:lnTo>
                    <a:pt x="1552" y="261"/>
                  </a:lnTo>
                  <a:lnTo>
                    <a:pt x="1573" y="287"/>
                  </a:lnTo>
                  <a:lnTo>
                    <a:pt x="1592" y="313"/>
                  </a:lnTo>
                  <a:lnTo>
                    <a:pt x="1610" y="338"/>
                  </a:lnTo>
                  <a:lnTo>
                    <a:pt x="1625" y="360"/>
                  </a:lnTo>
                  <a:lnTo>
                    <a:pt x="1631" y="370"/>
                  </a:lnTo>
                  <a:lnTo>
                    <a:pt x="1636" y="381"/>
                  </a:lnTo>
                  <a:lnTo>
                    <a:pt x="1639" y="391"/>
                  </a:lnTo>
                  <a:lnTo>
                    <a:pt x="1641" y="401"/>
                  </a:lnTo>
                  <a:lnTo>
                    <a:pt x="1645" y="421"/>
                  </a:lnTo>
                  <a:lnTo>
                    <a:pt x="1650" y="447"/>
                  </a:lnTo>
                  <a:lnTo>
                    <a:pt x="1653" y="477"/>
                  </a:lnTo>
                  <a:lnTo>
                    <a:pt x="1658" y="506"/>
                  </a:lnTo>
                  <a:lnTo>
                    <a:pt x="1661" y="533"/>
                  </a:lnTo>
                  <a:lnTo>
                    <a:pt x="1665" y="555"/>
                  </a:lnTo>
                  <a:lnTo>
                    <a:pt x="1667" y="570"/>
                  </a:lnTo>
                  <a:lnTo>
                    <a:pt x="1667" y="57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2" name="Freeform 113"/>
            <p:cNvSpPr/>
            <p:nvPr/>
          </p:nvSpPr>
          <p:spPr>
            <a:xfrm>
              <a:off x="4347000" y="1971360"/>
              <a:ext cx="731520" cy="260640"/>
            </a:xfrm>
            <a:custGeom>
              <a:avLst/>
              <a:gdLst>
                <a:gd name="textAreaLeft" fmla="*/ 0 w 731520"/>
                <a:gd name="textAreaRight" fmla="*/ 731880 w 731520"/>
                <a:gd name="textAreaTop" fmla="*/ 0 h 260640"/>
                <a:gd name="textAreaBottom" fmla="*/ 261000 h 260640"/>
              </a:gdLst>
              <a:ahLst/>
              <a:rect l="textAreaLeft" t="textAreaTop" r="textAreaRight" b="textAreaBottom"/>
              <a:pathLst>
                <a:path w="1667" h="576">
                  <a:moveTo>
                    <a:pt x="1667" y="576"/>
                  </a:moveTo>
                  <a:lnTo>
                    <a:pt x="0" y="570"/>
                  </a:lnTo>
                  <a:lnTo>
                    <a:pt x="189" y="6"/>
                  </a:lnTo>
                  <a:lnTo>
                    <a:pt x="292" y="6"/>
                  </a:lnTo>
                  <a:lnTo>
                    <a:pt x="392" y="7"/>
                  </a:lnTo>
                  <a:lnTo>
                    <a:pt x="490" y="7"/>
                  </a:lnTo>
                  <a:lnTo>
                    <a:pt x="585" y="7"/>
                  </a:lnTo>
                  <a:lnTo>
                    <a:pt x="679" y="7"/>
                  </a:lnTo>
                  <a:lnTo>
                    <a:pt x="770" y="7"/>
                  </a:lnTo>
                  <a:lnTo>
                    <a:pt x="859" y="6"/>
                  </a:lnTo>
                  <a:lnTo>
                    <a:pt x="944" y="6"/>
                  </a:lnTo>
                  <a:lnTo>
                    <a:pt x="1028" y="6"/>
                  </a:lnTo>
                  <a:lnTo>
                    <a:pt x="1108" y="5"/>
                  </a:lnTo>
                  <a:lnTo>
                    <a:pt x="1185" y="5"/>
                  </a:lnTo>
                  <a:lnTo>
                    <a:pt x="1258" y="4"/>
                  </a:lnTo>
                  <a:lnTo>
                    <a:pt x="1328" y="2"/>
                  </a:lnTo>
                  <a:lnTo>
                    <a:pt x="1395" y="2"/>
                  </a:lnTo>
                  <a:lnTo>
                    <a:pt x="1458" y="1"/>
                  </a:lnTo>
                  <a:lnTo>
                    <a:pt x="1518" y="0"/>
                  </a:lnTo>
                  <a:lnTo>
                    <a:pt x="1521" y="20"/>
                  </a:lnTo>
                  <a:lnTo>
                    <a:pt x="1522" y="37"/>
                  </a:lnTo>
                  <a:lnTo>
                    <a:pt x="1521" y="53"/>
                  </a:lnTo>
                  <a:lnTo>
                    <a:pt x="1519" y="68"/>
                  </a:lnTo>
                  <a:lnTo>
                    <a:pt x="1515" y="81"/>
                  </a:lnTo>
                  <a:lnTo>
                    <a:pt x="1511" y="94"/>
                  </a:lnTo>
                  <a:lnTo>
                    <a:pt x="1506" y="104"/>
                  </a:lnTo>
                  <a:lnTo>
                    <a:pt x="1501" y="116"/>
                  </a:lnTo>
                  <a:lnTo>
                    <a:pt x="1498" y="125"/>
                  </a:lnTo>
                  <a:lnTo>
                    <a:pt x="1494" y="136"/>
                  </a:lnTo>
                  <a:lnTo>
                    <a:pt x="1492" y="146"/>
                  </a:lnTo>
                  <a:lnTo>
                    <a:pt x="1491" y="157"/>
                  </a:lnTo>
                  <a:lnTo>
                    <a:pt x="1492" y="167"/>
                  </a:lnTo>
                  <a:lnTo>
                    <a:pt x="1494" y="179"/>
                  </a:lnTo>
                  <a:lnTo>
                    <a:pt x="1500" y="190"/>
                  </a:lnTo>
                  <a:lnTo>
                    <a:pt x="1509" y="204"/>
                  </a:lnTo>
                  <a:lnTo>
                    <a:pt x="1530" y="234"/>
                  </a:lnTo>
                  <a:lnTo>
                    <a:pt x="1552" y="261"/>
                  </a:lnTo>
                  <a:lnTo>
                    <a:pt x="1573" y="287"/>
                  </a:lnTo>
                  <a:lnTo>
                    <a:pt x="1592" y="313"/>
                  </a:lnTo>
                  <a:lnTo>
                    <a:pt x="1610" y="338"/>
                  </a:lnTo>
                  <a:lnTo>
                    <a:pt x="1625" y="360"/>
                  </a:lnTo>
                  <a:lnTo>
                    <a:pt x="1631" y="370"/>
                  </a:lnTo>
                  <a:lnTo>
                    <a:pt x="1636" y="381"/>
                  </a:lnTo>
                  <a:lnTo>
                    <a:pt x="1639" y="391"/>
                  </a:lnTo>
                  <a:lnTo>
                    <a:pt x="1641" y="401"/>
                  </a:lnTo>
                  <a:lnTo>
                    <a:pt x="1645" y="421"/>
                  </a:lnTo>
                  <a:lnTo>
                    <a:pt x="1650" y="447"/>
                  </a:lnTo>
                  <a:lnTo>
                    <a:pt x="1653" y="477"/>
                  </a:lnTo>
                  <a:lnTo>
                    <a:pt x="1658" y="506"/>
                  </a:lnTo>
                  <a:lnTo>
                    <a:pt x="1661" y="533"/>
                  </a:lnTo>
                  <a:lnTo>
                    <a:pt x="1665" y="555"/>
                  </a:lnTo>
                  <a:lnTo>
                    <a:pt x="1667" y="570"/>
                  </a:lnTo>
                  <a:lnTo>
                    <a:pt x="1667" y="57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3" name="Freeform 114"/>
            <p:cNvSpPr/>
            <p:nvPr/>
          </p:nvSpPr>
          <p:spPr>
            <a:xfrm>
              <a:off x="5001840" y="1923480"/>
              <a:ext cx="786600" cy="508320"/>
            </a:xfrm>
            <a:custGeom>
              <a:avLst/>
              <a:gdLst>
                <a:gd name="textAreaLeft" fmla="*/ 0 w 786600"/>
                <a:gd name="textAreaRight" fmla="*/ 786960 w 786600"/>
                <a:gd name="textAreaTop" fmla="*/ 0 h 508320"/>
                <a:gd name="textAreaBottom" fmla="*/ 508680 h 508320"/>
              </a:gdLst>
              <a:ahLst/>
              <a:rect l="textAreaLeft" t="textAreaTop" r="textAreaRight" b="textAreaBottom"/>
              <a:pathLst>
                <a:path w="1792" h="1120">
                  <a:moveTo>
                    <a:pt x="1038" y="688"/>
                  </a:moveTo>
                  <a:lnTo>
                    <a:pt x="1052" y="695"/>
                  </a:lnTo>
                  <a:lnTo>
                    <a:pt x="1065" y="701"/>
                  </a:lnTo>
                  <a:lnTo>
                    <a:pt x="1076" y="708"/>
                  </a:lnTo>
                  <a:lnTo>
                    <a:pt x="1084" y="715"/>
                  </a:lnTo>
                  <a:lnTo>
                    <a:pt x="1091" y="722"/>
                  </a:lnTo>
                  <a:lnTo>
                    <a:pt x="1095" y="729"/>
                  </a:lnTo>
                  <a:lnTo>
                    <a:pt x="1099" y="737"/>
                  </a:lnTo>
                  <a:lnTo>
                    <a:pt x="1101" y="745"/>
                  </a:lnTo>
                  <a:lnTo>
                    <a:pt x="1106" y="778"/>
                  </a:lnTo>
                  <a:lnTo>
                    <a:pt x="1109" y="812"/>
                  </a:lnTo>
                  <a:lnTo>
                    <a:pt x="1112" y="820"/>
                  </a:lnTo>
                  <a:lnTo>
                    <a:pt x="1114" y="827"/>
                  </a:lnTo>
                  <a:lnTo>
                    <a:pt x="1116" y="833"/>
                  </a:lnTo>
                  <a:lnTo>
                    <a:pt x="1120" y="840"/>
                  </a:lnTo>
                  <a:lnTo>
                    <a:pt x="1129" y="852"/>
                  </a:lnTo>
                  <a:lnTo>
                    <a:pt x="1140" y="863"/>
                  </a:lnTo>
                  <a:lnTo>
                    <a:pt x="1154" y="875"/>
                  </a:lnTo>
                  <a:lnTo>
                    <a:pt x="1169" y="884"/>
                  </a:lnTo>
                  <a:lnTo>
                    <a:pt x="1185" y="894"/>
                  </a:lnTo>
                  <a:lnTo>
                    <a:pt x="1204" y="903"/>
                  </a:lnTo>
                  <a:lnTo>
                    <a:pt x="1223" y="911"/>
                  </a:lnTo>
                  <a:lnTo>
                    <a:pt x="1244" y="919"/>
                  </a:lnTo>
                  <a:lnTo>
                    <a:pt x="1266" y="926"/>
                  </a:lnTo>
                  <a:lnTo>
                    <a:pt x="1289" y="933"/>
                  </a:lnTo>
                  <a:lnTo>
                    <a:pt x="1337" y="947"/>
                  </a:lnTo>
                  <a:lnTo>
                    <a:pt x="1386" y="959"/>
                  </a:lnTo>
                  <a:lnTo>
                    <a:pt x="1398" y="963"/>
                  </a:lnTo>
                  <a:lnTo>
                    <a:pt x="1410" y="966"/>
                  </a:lnTo>
                  <a:lnTo>
                    <a:pt x="1420" y="971"/>
                  </a:lnTo>
                  <a:lnTo>
                    <a:pt x="1431" y="974"/>
                  </a:lnTo>
                  <a:lnTo>
                    <a:pt x="1448" y="985"/>
                  </a:lnTo>
                  <a:lnTo>
                    <a:pt x="1463" y="995"/>
                  </a:lnTo>
                  <a:lnTo>
                    <a:pt x="1477" y="1007"/>
                  </a:lnTo>
                  <a:lnTo>
                    <a:pt x="1488" y="1020"/>
                  </a:lnTo>
                  <a:lnTo>
                    <a:pt x="1497" y="1033"/>
                  </a:lnTo>
                  <a:lnTo>
                    <a:pt x="1505" y="1044"/>
                  </a:lnTo>
                  <a:lnTo>
                    <a:pt x="1511" y="1057"/>
                  </a:lnTo>
                  <a:lnTo>
                    <a:pt x="1516" y="1068"/>
                  </a:lnTo>
                  <a:lnTo>
                    <a:pt x="1519" y="1078"/>
                  </a:lnTo>
                  <a:lnTo>
                    <a:pt x="1522" y="1088"/>
                  </a:lnTo>
                  <a:lnTo>
                    <a:pt x="1524" y="1102"/>
                  </a:lnTo>
                  <a:lnTo>
                    <a:pt x="1524" y="1106"/>
                  </a:lnTo>
                  <a:lnTo>
                    <a:pt x="150" y="1120"/>
                  </a:lnTo>
                  <a:lnTo>
                    <a:pt x="176" y="680"/>
                  </a:lnTo>
                  <a:lnTo>
                    <a:pt x="176" y="674"/>
                  </a:lnTo>
                  <a:lnTo>
                    <a:pt x="174" y="659"/>
                  </a:lnTo>
                  <a:lnTo>
                    <a:pt x="170" y="637"/>
                  </a:lnTo>
                  <a:lnTo>
                    <a:pt x="167" y="610"/>
                  </a:lnTo>
                  <a:lnTo>
                    <a:pt x="162" y="581"/>
                  </a:lnTo>
                  <a:lnTo>
                    <a:pt x="159" y="551"/>
                  </a:lnTo>
                  <a:lnTo>
                    <a:pt x="154" y="525"/>
                  </a:lnTo>
                  <a:lnTo>
                    <a:pt x="150" y="505"/>
                  </a:lnTo>
                  <a:lnTo>
                    <a:pt x="148" y="495"/>
                  </a:lnTo>
                  <a:lnTo>
                    <a:pt x="145" y="485"/>
                  </a:lnTo>
                  <a:lnTo>
                    <a:pt x="140" y="474"/>
                  </a:lnTo>
                  <a:lnTo>
                    <a:pt x="134" y="464"/>
                  </a:lnTo>
                  <a:lnTo>
                    <a:pt x="119" y="442"/>
                  </a:lnTo>
                  <a:lnTo>
                    <a:pt x="101" y="417"/>
                  </a:lnTo>
                  <a:lnTo>
                    <a:pt x="82" y="391"/>
                  </a:lnTo>
                  <a:lnTo>
                    <a:pt x="61" y="365"/>
                  </a:lnTo>
                  <a:lnTo>
                    <a:pt x="39" y="338"/>
                  </a:lnTo>
                  <a:lnTo>
                    <a:pt x="18" y="308"/>
                  </a:lnTo>
                  <a:lnTo>
                    <a:pt x="9" y="294"/>
                  </a:lnTo>
                  <a:lnTo>
                    <a:pt x="3" y="283"/>
                  </a:lnTo>
                  <a:lnTo>
                    <a:pt x="1" y="271"/>
                  </a:lnTo>
                  <a:lnTo>
                    <a:pt x="0" y="261"/>
                  </a:lnTo>
                  <a:lnTo>
                    <a:pt x="1" y="250"/>
                  </a:lnTo>
                  <a:lnTo>
                    <a:pt x="3" y="240"/>
                  </a:lnTo>
                  <a:lnTo>
                    <a:pt x="7" y="229"/>
                  </a:lnTo>
                  <a:lnTo>
                    <a:pt x="10" y="220"/>
                  </a:lnTo>
                  <a:lnTo>
                    <a:pt x="15" y="208"/>
                  </a:lnTo>
                  <a:lnTo>
                    <a:pt x="20" y="198"/>
                  </a:lnTo>
                  <a:lnTo>
                    <a:pt x="24" y="185"/>
                  </a:lnTo>
                  <a:lnTo>
                    <a:pt x="28" y="172"/>
                  </a:lnTo>
                  <a:lnTo>
                    <a:pt x="30" y="157"/>
                  </a:lnTo>
                  <a:lnTo>
                    <a:pt x="31" y="141"/>
                  </a:lnTo>
                  <a:lnTo>
                    <a:pt x="30" y="124"/>
                  </a:lnTo>
                  <a:lnTo>
                    <a:pt x="27" y="104"/>
                  </a:lnTo>
                  <a:lnTo>
                    <a:pt x="90" y="103"/>
                  </a:lnTo>
                  <a:lnTo>
                    <a:pt x="147" y="102"/>
                  </a:lnTo>
                  <a:lnTo>
                    <a:pt x="200" y="101"/>
                  </a:lnTo>
                  <a:lnTo>
                    <a:pt x="245" y="99"/>
                  </a:lnTo>
                  <a:lnTo>
                    <a:pt x="285" y="98"/>
                  </a:lnTo>
                  <a:lnTo>
                    <a:pt x="319" y="96"/>
                  </a:lnTo>
                  <a:lnTo>
                    <a:pt x="346" y="95"/>
                  </a:lnTo>
                  <a:lnTo>
                    <a:pt x="367" y="92"/>
                  </a:lnTo>
                  <a:lnTo>
                    <a:pt x="375" y="80"/>
                  </a:lnTo>
                  <a:lnTo>
                    <a:pt x="384" y="68"/>
                  </a:lnTo>
                  <a:lnTo>
                    <a:pt x="392" y="57"/>
                  </a:lnTo>
                  <a:lnTo>
                    <a:pt x="400" y="49"/>
                  </a:lnTo>
                  <a:lnTo>
                    <a:pt x="409" y="42"/>
                  </a:lnTo>
                  <a:lnTo>
                    <a:pt x="416" y="36"/>
                  </a:lnTo>
                  <a:lnTo>
                    <a:pt x="424" y="30"/>
                  </a:lnTo>
                  <a:lnTo>
                    <a:pt x="430" y="27"/>
                  </a:lnTo>
                  <a:lnTo>
                    <a:pt x="441" y="21"/>
                  </a:lnTo>
                  <a:lnTo>
                    <a:pt x="451" y="19"/>
                  </a:lnTo>
                  <a:lnTo>
                    <a:pt x="456" y="18"/>
                  </a:lnTo>
                  <a:lnTo>
                    <a:pt x="459" y="18"/>
                  </a:lnTo>
                  <a:lnTo>
                    <a:pt x="583" y="0"/>
                  </a:lnTo>
                  <a:lnTo>
                    <a:pt x="706" y="124"/>
                  </a:lnTo>
                  <a:lnTo>
                    <a:pt x="757" y="120"/>
                  </a:lnTo>
                  <a:lnTo>
                    <a:pt x="803" y="118"/>
                  </a:lnTo>
                  <a:lnTo>
                    <a:pt x="845" y="118"/>
                  </a:lnTo>
                  <a:lnTo>
                    <a:pt x="882" y="119"/>
                  </a:lnTo>
                  <a:lnTo>
                    <a:pt x="912" y="120"/>
                  </a:lnTo>
                  <a:lnTo>
                    <a:pt x="935" y="122"/>
                  </a:lnTo>
                  <a:lnTo>
                    <a:pt x="949" y="124"/>
                  </a:lnTo>
                  <a:lnTo>
                    <a:pt x="954" y="124"/>
                  </a:lnTo>
                  <a:lnTo>
                    <a:pt x="1046" y="124"/>
                  </a:lnTo>
                  <a:lnTo>
                    <a:pt x="1109" y="187"/>
                  </a:lnTo>
                  <a:lnTo>
                    <a:pt x="1134" y="179"/>
                  </a:lnTo>
                  <a:lnTo>
                    <a:pt x="1157" y="173"/>
                  </a:lnTo>
                  <a:lnTo>
                    <a:pt x="1178" y="167"/>
                  </a:lnTo>
                  <a:lnTo>
                    <a:pt x="1197" y="164"/>
                  </a:lnTo>
                  <a:lnTo>
                    <a:pt x="1213" y="161"/>
                  </a:lnTo>
                  <a:lnTo>
                    <a:pt x="1229" y="160"/>
                  </a:lnTo>
                  <a:lnTo>
                    <a:pt x="1243" y="160"/>
                  </a:lnTo>
                  <a:lnTo>
                    <a:pt x="1253" y="160"/>
                  </a:lnTo>
                  <a:lnTo>
                    <a:pt x="1272" y="162"/>
                  </a:lnTo>
                  <a:lnTo>
                    <a:pt x="1285" y="166"/>
                  </a:lnTo>
                  <a:lnTo>
                    <a:pt x="1292" y="169"/>
                  </a:lnTo>
                  <a:lnTo>
                    <a:pt x="1294" y="171"/>
                  </a:lnTo>
                  <a:lnTo>
                    <a:pt x="1296" y="167"/>
                  </a:lnTo>
                  <a:lnTo>
                    <a:pt x="1302" y="159"/>
                  </a:lnTo>
                  <a:lnTo>
                    <a:pt x="1312" y="148"/>
                  </a:lnTo>
                  <a:lnTo>
                    <a:pt x="1323" y="139"/>
                  </a:lnTo>
                  <a:lnTo>
                    <a:pt x="1329" y="136"/>
                  </a:lnTo>
                  <a:lnTo>
                    <a:pt x="1337" y="132"/>
                  </a:lnTo>
                  <a:lnTo>
                    <a:pt x="1344" y="131"/>
                  </a:lnTo>
                  <a:lnTo>
                    <a:pt x="1352" y="131"/>
                  </a:lnTo>
                  <a:lnTo>
                    <a:pt x="1361" y="133"/>
                  </a:lnTo>
                  <a:lnTo>
                    <a:pt x="1369" y="138"/>
                  </a:lnTo>
                  <a:lnTo>
                    <a:pt x="1378" y="145"/>
                  </a:lnTo>
                  <a:lnTo>
                    <a:pt x="1386" y="155"/>
                  </a:lnTo>
                  <a:lnTo>
                    <a:pt x="1391" y="161"/>
                  </a:lnTo>
                  <a:lnTo>
                    <a:pt x="1397" y="166"/>
                  </a:lnTo>
                  <a:lnTo>
                    <a:pt x="1403" y="169"/>
                  </a:lnTo>
                  <a:lnTo>
                    <a:pt x="1410" y="173"/>
                  </a:lnTo>
                  <a:lnTo>
                    <a:pt x="1418" y="175"/>
                  </a:lnTo>
                  <a:lnTo>
                    <a:pt x="1426" y="176"/>
                  </a:lnTo>
                  <a:lnTo>
                    <a:pt x="1434" y="178"/>
                  </a:lnTo>
                  <a:lnTo>
                    <a:pt x="1445" y="179"/>
                  </a:lnTo>
                  <a:lnTo>
                    <a:pt x="1465" y="179"/>
                  </a:lnTo>
                  <a:lnTo>
                    <a:pt x="1488" y="178"/>
                  </a:lnTo>
                  <a:lnTo>
                    <a:pt x="1511" y="175"/>
                  </a:lnTo>
                  <a:lnTo>
                    <a:pt x="1537" y="172"/>
                  </a:lnTo>
                  <a:lnTo>
                    <a:pt x="1592" y="164"/>
                  </a:lnTo>
                  <a:lnTo>
                    <a:pt x="1648" y="157"/>
                  </a:lnTo>
                  <a:lnTo>
                    <a:pt x="1676" y="154"/>
                  </a:lnTo>
                  <a:lnTo>
                    <a:pt x="1704" y="153"/>
                  </a:lnTo>
                  <a:lnTo>
                    <a:pt x="1731" y="153"/>
                  </a:lnTo>
                  <a:lnTo>
                    <a:pt x="1758" y="155"/>
                  </a:lnTo>
                  <a:lnTo>
                    <a:pt x="1769" y="158"/>
                  </a:lnTo>
                  <a:lnTo>
                    <a:pt x="1779" y="159"/>
                  </a:lnTo>
                  <a:lnTo>
                    <a:pt x="1785" y="161"/>
                  </a:lnTo>
                  <a:lnTo>
                    <a:pt x="1789" y="164"/>
                  </a:lnTo>
                  <a:lnTo>
                    <a:pt x="1792" y="167"/>
                  </a:lnTo>
                  <a:lnTo>
                    <a:pt x="1792" y="169"/>
                  </a:lnTo>
                  <a:lnTo>
                    <a:pt x="1789" y="173"/>
                  </a:lnTo>
                  <a:lnTo>
                    <a:pt x="1785" y="176"/>
                  </a:lnTo>
                  <a:lnTo>
                    <a:pt x="1772" y="185"/>
                  </a:lnTo>
                  <a:lnTo>
                    <a:pt x="1753" y="193"/>
                  </a:lnTo>
                  <a:lnTo>
                    <a:pt x="1730" y="202"/>
                  </a:lnTo>
                  <a:lnTo>
                    <a:pt x="1703" y="212"/>
                  </a:lnTo>
                  <a:lnTo>
                    <a:pt x="1640" y="230"/>
                  </a:lnTo>
                  <a:lnTo>
                    <a:pt x="1574" y="249"/>
                  </a:lnTo>
                  <a:lnTo>
                    <a:pt x="1512" y="265"/>
                  </a:lnTo>
                  <a:lnTo>
                    <a:pt x="1463" y="279"/>
                  </a:lnTo>
                  <a:lnTo>
                    <a:pt x="1445" y="285"/>
                  </a:lnTo>
                  <a:lnTo>
                    <a:pt x="1426" y="292"/>
                  </a:lnTo>
                  <a:lnTo>
                    <a:pt x="1409" y="299"/>
                  </a:lnTo>
                  <a:lnTo>
                    <a:pt x="1393" y="307"/>
                  </a:lnTo>
                  <a:lnTo>
                    <a:pt x="1378" y="315"/>
                  </a:lnTo>
                  <a:lnTo>
                    <a:pt x="1365" y="325"/>
                  </a:lnTo>
                  <a:lnTo>
                    <a:pt x="1352" y="334"/>
                  </a:lnTo>
                  <a:lnTo>
                    <a:pt x="1342" y="344"/>
                  </a:lnTo>
                  <a:lnTo>
                    <a:pt x="1331" y="354"/>
                  </a:lnTo>
                  <a:lnTo>
                    <a:pt x="1322" y="365"/>
                  </a:lnTo>
                  <a:lnTo>
                    <a:pt x="1313" y="376"/>
                  </a:lnTo>
                  <a:lnTo>
                    <a:pt x="1306" y="387"/>
                  </a:lnTo>
                  <a:lnTo>
                    <a:pt x="1292" y="410"/>
                  </a:lnTo>
                  <a:lnTo>
                    <a:pt x="1280" y="432"/>
                  </a:lnTo>
                  <a:lnTo>
                    <a:pt x="1268" y="454"/>
                  </a:lnTo>
                  <a:lnTo>
                    <a:pt x="1255" y="478"/>
                  </a:lnTo>
                  <a:lnTo>
                    <a:pt x="1241" y="500"/>
                  </a:lnTo>
                  <a:lnTo>
                    <a:pt x="1226" y="521"/>
                  </a:lnTo>
                  <a:lnTo>
                    <a:pt x="1210" y="542"/>
                  </a:lnTo>
                  <a:lnTo>
                    <a:pt x="1194" y="563"/>
                  </a:lnTo>
                  <a:lnTo>
                    <a:pt x="1176" y="582"/>
                  </a:lnTo>
                  <a:lnTo>
                    <a:pt x="1159" y="600"/>
                  </a:lnTo>
                  <a:lnTo>
                    <a:pt x="1141" y="618"/>
                  </a:lnTo>
                  <a:lnTo>
                    <a:pt x="1123" y="633"/>
                  </a:lnTo>
                  <a:lnTo>
                    <a:pt x="1107" y="647"/>
                  </a:lnTo>
                  <a:lnTo>
                    <a:pt x="1091" y="659"/>
                  </a:lnTo>
                  <a:lnTo>
                    <a:pt x="1076" y="669"/>
                  </a:lnTo>
                  <a:lnTo>
                    <a:pt x="1062" y="679"/>
                  </a:lnTo>
                  <a:lnTo>
                    <a:pt x="1049" y="685"/>
                  </a:lnTo>
                  <a:lnTo>
                    <a:pt x="1038" y="68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4" name="Freeform 115"/>
            <p:cNvSpPr/>
            <p:nvPr/>
          </p:nvSpPr>
          <p:spPr>
            <a:xfrm>
              <a:off x="5001840" y="1923480"/>
              <a:ext cx="786600" cy="508320"/>
            </a:xfrm>
            <a:custGeom>
              <a:avLst/>
              <a:gdLst>
                <a:gd name="textAreaLeft" fmla="*/ 0 w 786600"/>
                <a:gd name="textAreaRight" fmla="*/ 786960 w 786600"/>
                <a:gd name="textAreaTop" fmla="*/ 0 h 508320"/>
                <a:gd name="textAreaBottom" fmla="*/ 508680 h 508320"/>
              </a:gdLst>
              <a:ahLst/>
              <a:rect l="textAreaLeft" t="textAreaTop" r="textAreaRight" b="textAreaBottom"/>
              <a:pathLst>
                <a:path w="1792" h="1120">
                  <a:moveTo>
                    <a:pt x="1038" y="688"/>
                  </a:moveTo>
                  <a:lnTo>
                    <a:pt x="1052" y="695"/>
                  </a:lnTo>
                  <a:lnTo>
                    <a:pt x="1065" y="701"/>
                  </a:lnTo>
                  <a:lnTo>
                    <a:pt x="1076" y="708"/>
                  </a:lnTo>
                  <a:lnTo>
                    <a:pt x="1084" y="715"/>
                  </a:lnTo>
                  <a:lnTo>
                    <a:pt x="1091" y="722"/>
                  </a:lnTo>
                  <a:lnTo>
                    <a:pt x="1095" y="729"/>
                  </a:lnTo>
                  <a:lnTo>
                    <a:pt x="1099" y="737"/>
                  </a:lnTo>
                  <a:lnTo>
                    <a:pt x="1101" y="745"/>
                  </a:lnTo>
                  <a:lnTo>
                    <a:pt x="1106" y="778"/>
                  </a:lnTo>
                  <a:lnTo>
                    <a:pt x="1109" y="812"/>
                  </a:lnTo>
                  <a:lnTo>
                    <a:pt x="1112" y="820"/>
                  </a:lnTo>
                  <a:lnTo>
                    <a:pt x="1114" y="827"/>
                  </a:lnTo>
                  <a:lnTo>
                    <a:pt x="1116" y="833"/>
                  </a:lnTo>
                  <a:lnTo>
                    <a:pt x="1120" y="840"/>
                  </a:lnTo>
                  <a:lnTo>
                    <a:pt x="1129" y="852"/>
                  </a:lnTo>
                  <a:lnTo>
                    <a:pt x="1140" y="863"/>
                  </a:lnTo>
                  <a:lnTo>
                    <a:pt x="1154" y="875"/>
                  </a:lnTo>
                  <a:lnTo>
                    <a:pt x="1169" y="884"/>
                  </a:lnTo>
                  <a:lnTo>
                    <a:pt x="1185" y="894"/>
                  </a:lnTo>
                  <a:lnTo>
                    <a:pt x="1204" y="903"/>
                  </a:lnTo>
                  <a:lnTo>
                    <a:pt x="1223" y="911"/>
                  </a:lnTo>
                  <a:lnTo>
                    <a:pt x="1244" y="919"/>
                  </a:lnTo>
                  <a:lnTo>
                    <a:pt x="1266" y="926"/>
                  </a:lnTo>
                  <a:lnTo>
                    <a:pt x="1289" y="933"/>
                  </a:lnTo>
                  <a:lnTo>
                    <a:pt x="1337" y="947"/>
                  </a:lnTo>
                  <a:lnTo>
                    <a:pt x="1386" y="959"/>
                  </a:lnTo>
                  <a:lnTo>
                    <a:pt x="1398" y="963"/>
                  </a:lnTo>
                  <a:lnTo>
                    <a:pt x="1410" y="966"/>
                  </a:lnTo>
                  <a:lnTo>
                    <a:pt x="1420" y="971"/>
                  </a:lnTo>
                  <a:lnTo>
                    <a:pt x="1431" y="974"/>
                  </a:lnTo>
                  <a:lnTo>
                    <a:pt x="1448" y="985"/>
                  </a:lnTo>
                  <a:lnTo>
                    <a:pt x="1463" y="995"/>
                  </a:lnTo>
                  <a:lnTo>
                    <a:pt x="1477" y="1007"/>
                  </a:lnTo>
                  <a:lnTo>
                    <a:pt x="1488" y="1020"/>
                  </a:lnTo>
                  <a:lnTo>
                    <a:pt x="1497" y="1033"/>
                  </a:lnTo>
                  <a:lnTo>
                    <a:pt x="1505" y="1044"/>
                  </a:lnTo>
                  <a:lnTo>
                    <a:pt x="1511" y="1057"/>
                  </a:lnTo>
                  <a:lnTo>
                    <a:pt x="1516" y="1068"/>
                  </a:lnTo>
                  <a:lnTo>
                    <a:pt x="1519" y="1078"/>
                  </a:lnTo>
                  <a:lnTo>
                    <a:pt x="1522" y="1088"/>
                  </a:lnTo>
                  <a:lnTo>
                    <a:pt x="1524" y="1102"/>
                  </a:lnTo>
                  <a:lnTo>
                    <a:pt x="1524" y="1106"/>
                  </a:lnTo>
                  <a:lnTo>
                    <a:pt x="150" y="1120"/>
                  </a:lnTo>
                  <a:lnTo>
                    <a:pt x="176" y="680"/>
                  </a:lnTo>
                  <a:lnTo>
                    <a:pt x="176" y="674"/>
                  </a:lnTo>
                  <a:lnTo>
                    <a:pt x="174" y="659"/>
                  </a:lnTo>
                  <a:lnTo>
                    <a:pt x="170" y="637"/>
                  </a:lnTo>
                  <a:lnTo>
                    <a:pt x="167" y="610"/>
                  </a:lnTo>
                  <a:lnTo>
                    <a:pt x="162" y="581"/>
                  </a:lnTo>
                  <a:lnTo>
                    <a:pt x="159" y="551"/>
                  </a:lnTo>
                  <a:lnTo>
                    <a:pt x="154" y="525"/>
                  </a:lnTo>
                  <a:lnTo>
                    <a:pt x="150" y="505"/>
                  </a:lnTo>
                  <a:lnTo>
                    <a:pt x="148" y="495"/>
                  </a:lnTo>
                  <a:lnTo>
                    <a:pt x="145" y="485"/>
                  </a:lnTo>
                  <a:lnTo>
                    <a:pt x="140" y="474"/>
                  </a:lnTo>
                  <a:lnTo>
                    <a:pt x="134" y="464"/>
                  </a:lnTo>
                  <a:lnTo>
                    <a:pt x="119" y="442"/>
                  </a:lnTo>
                  <a:lnTo>
                    <a:pt x="101" y="417"/>
                  </a:lnTo>
                  <a:lnTo>
                    <a:pt x="82" y="391"/>
                  </a:lnTo>
                  <a:lnTo>
                    <a:pt x="61" y="365"/>
                  </a:lnTo>
                  <a:lnTo>
                    <a:pt x="39" y="338"/>
                  </a:lnTo>
                  <a:lnTo>
                    <a:pt x="18" y="308"/>
                  </a:lnTo>
                  <a:lnTo>
                    <a:pt x="9" y="294"/>
                  </a:lnTo>
                  <a:lnTo>
                    <a:pt x="3" y="283"/>
                  </a:lnTo>
                  <a:lnTo>
                    <a:pt x="1" y="271"/>
                  </a:lnTo>
                  <a:lnTo>
                    <a:pt x="0" y="261"/>
                  </a:lnTo>
                  <a:lnTo>
                    <a:pt x="1" y="250"/>
                  </a:lnTo>
                  <a:lnTo>
                    <a:pt x="3" y="240"/>
                  </a:lnTo>
                  <a:lnTo>
                    <a:pt x="7" y="229"/>
                  </a:lnTo>
                  <a:lnTo>
                    <a:pt x="10" y="220"/>
                  </a:lnTo>
                  <a:lnTo>
                    <a:pt x="15" y="208"/>
                  </a:lnTo>
                  <a:lnTo>
                    <a:pt x="20" y="198"/>
                  </a:lnTo>
                  <a:lnTo>
                    <a:pt x="24" y="185"/>
                  </a:lnTo>
                  <a:lnTo>
                    <a:pt x="28" y="172"/>
                  </a:lnTo>
                  <a:lnTo>
                    <a:pt x="30" y="157"/>
                  </a:lnTo>
                  <a:lnTo>
                    <a:pt x="31" y="141"/>
                  </a:lnTo>
                  <a:lnTo>
                    <a:pt x="30" y="124"/>
                  </a:lnTo>
                  <a:lnTo>
                    <a:pt x="27" y="104"/>
                  </a:lnTo>
                  <a:lnTo>
                    <a:pt x="90" y="103"/>
                  </a:lnTo>
                  <a:lnTo>
                    <a:pt x="147" y="102"/>
                  </a:lnTo>
                  <a:lnTo>
                    <a:pt x="200" y="101"/>
                  </a:lnTo>
                  <a:lnTo>
                    <a:pt x="245" y="99"/>
                  </a:lnTo>
                  <a:lnTo>
                    <a:pt x="285" y="98"/>
                  </a:lnTo>
                  <a:lnTo>
                    <a:pt x="319" y="96"/>
                  </a:lnTo>
                  <a:lnTo>
                    <a:pt x="346" y="95"/>
                  </a:lnTo>
                  <a:lnTo>
                    <a:pt x="367" y="92"/>
                  </a:lnTo>
                  <a:lnTo>
                    <a:pt x="375" y="80"/>
                  </a:lnTo>
                  <a:lnTo>
                    <a:pt x="384" y="68"/>
                  </a:lnTo>
                  <a:lnTo>
                    <a:pt x="392" y="57"/>
                  </a:lnTo>
                  <a:lnTo>
                    <a:pt x="400" y="49"/>
                  </a:lnTo>
                  <a:lnTo>
                    <a:pt x="409" y="42"/>
                  </a:lnTo>
                  <a:lnTo>
                    <a:pt x="416" y="36"/>
                  </a:lnTo>
                  <a:lnTo>
                    <a:pt x="424" y="30"/>
                  </a:lnTo>
                  <a:lnTo>
                    <a:pt x="430" y="27"/>
                  </a:lnTo>
                  <a:lnTo>
                    <a:pt x="441" y="21"/>
                  </a:lnTo>
                  <a:lnTo>
                    <a:pt x="451" y="19"/>
                  </a:lnTo>
                  <a:lnTo>
                    <a:pt x="456" y="18"/>
                  </a:lnTo>
                  <a:lnTo>
                    <a:pt x="459" y="18"/>
                  </a:lnTo>
                  <a:lnTo>
                    <a:pt x="583" y="0"/>
                  </a:lnTo>
                  <a:lnTo>
                    <a:pt x="706" y="124"/>
                  </a:lnTo>
                  <a:lnTo>
                    <a:pt x="757" y="120"/>
                  </a:lnTo>
                  <a:lnTo>
                    <a:pt x="803" y="118"/>
                  </a:lnTo>
                  <a:lnTo>
                    <a:pt x="845" y="118"/>
                  </a:lnTo>
                  <a:lnTo>
                    <a:pt x="882" y="119"/>
                  </a:lnTo>
                  <a:lnTo>
                    <a:pt x="912" y="120"/>
                  </a:lnTo>
                  <a:lnTo>
                    <a:pt x="935" y="122"/>
                  </a:lnTo>
                  <a:lnTo>
                    <a:pt x="949" y="124"/>
                  </a:lnTo>
                  <a:lnTo>
                    <a:pt x="954" y="124"/>
                  </a:lnTo>
                  <a:lnTo>
                    <a:pt x="1046" y="124"/>
                  </a:lnTo>
                  <a:lnTo>
                    <a:pt x="1109" y="187"/>
                  </a:lnTo>
                  <a:lnTo>
                    <a:pt x="1134" y="179"/>
                  </a:lnTo>
                  <a:lnTo>
                    <a:pt x="1157" y="173"/>
                  </a:lnTo>
                  <a:lnTo>
                    <a:pt x="1178" y="167"/>
                  </a:lnTo>
                  <a:lnTo>
                    <a:pt x="1197" y="164"/>
                  </a:lnTo>
                  <a:lnTo>
                    <a:pt x="1213" y="161"/>
                  </a:lnTo>
                  <a:lnTo>
                    <a:pt x="1229" y="160"/>
                  </a:lnTo>
                  <a:lnTo>
                    <a:pt x="1243" y="160"/>
                  </a:lnTo>
                  <a:lnTo>
                    <a:pt x="1253" y="160"/>
                  </a:lnTo>
                  <a:lnTo>
                    <a:pt x="1272" y="162"/>
                  </a:lnTo>
                  <a:lnTo>
                    <a:pt x="1285" y="166"/>
                  </a:lnTo>
                  <a:lnTo>
                    <a:pt x="1292" y="169"/>
                  </a:lnTo>
                  <a:lnTo>
                    <a:pt x="1294" y="171"/>
                  </a:lnTo>
                  <a:lnTo>
                    <a:pt x="1296" y="167"/>
                  </a:lnTo>
                  <a:lnTo>
                    <a:pt x="1302" y="159"/>
                  </a:lnTo>
                  <a:lnTo>
                    <a:pt x="1312" y="148"/>
                  </a:lnTo>
                  <a:lnTo>
                    <a:pt x="1323" y="139"/>
                  </a:lnTo>
                  <a:lnTo>
                    <a:pt x="1329" y="136"/>
                  </a:lnTo>
                  <a:lnTo>
                    <a:pt x="1337" y="132"/>
                  </a:lnTo>
                  <a:lnTo>
                    <a:pt x="1344" y="131"/>
                  </a:lnTo>
                  <a:lnTo>
                    <a:pt x="1352" y="131"/>
                  </a:lnTo>
                  <a:lnTo>
                    <a:pt x="1361" y="133"/>
                  </a:lnTo>
                  <a:lnTo>
                    <a:pt x="1369" y="138"/>
                  </a:lnTo>
                  <a:lnTo>
                    <a:pt x="1378" y="145"/>
                  </a:lnTo>
                  <a:lnTo>
                    <a:pt x="1386" y="155"/>
                  </a:lnTo>
                  <a:lnTo>
                    <a:pt x="1391" y="161"/>
                  </a:lnTo>
                  <a:lnTo>
                    <a:pt x="1397" y="166"/>
                  </a:lnTo>
                  <a:lnTo>
                    <a:pt x="1403" y="169"/>
                  </a:lnTo>
                  <a:lnTo>
                    <a:pt x="1410" y="173"/>
                  </a:lnTo>
                  <a:lnTo>
                    <a:pt x="1418" y="175"/>
                  </a:lnTo>
                  <a:lnTo>
                    <a:pt x="1426" y="176"/>
                  </a:lnTo>
                  <a:lnTo>
                    <a:pt x="1434" y="178"/>
                  </a:lnTo>
                  <a:lnTo>
                    <a:pt x="1445" y="179"/>
                  </a:lnTo>
                  <a:lnTo>
                    <a:pt x="1465" y="179"/>
                  </a:lnTo>
                  <a:lnTo>
                    <a:pt x="1488" y="178"/>
                  </a:lnTo>
                  <a:lnTo>
                    <a:pt x="1511" y="175"/>
                  </a:lnTo>
                  <a:lnTo>
                    <a:pt x="1537" y="172"/>
                  </a:lnTo>
                  <a:lnTo>
                    <a:pt x="1592" y="164"/>
                  </a:lnTo>
                  <a:lnTo>
                    <a:pt x="1648" y="157"/>
                  </a:lnTo>
                  <a:lnTo>
                    <a:pt x="1676" y="154"/>
                  </a:lnTo>
                  <a:lnTo>
                    <a:pt x="1704" y="153"/>
                  </a:lnTo>
                  <a:lnTo>
                    <a:pt x="1731" y="153"/>
                  </a:lnTo>
                  <a:lnTo>
                    <a:pt x="1758" y="155"/>
                  </a:lnTo>
                  <a:lnTo>
                    <a:pt x="1769" y="158"/>
                  </a:lnTo>
                  <a:lnTo>
                    <a:pt x="1779" y="159"/>
                  </a:lnTo>
                  <a:lnTo>
                    <a:pt x="1785" y="161"/>
                  </a:lnTo>
                  <a:lnTo>
                    <a:pt x="1789" y="164"/>
                  </a:lnTo>
                  <a:lnTo>
                    <a:pt x="1792" y="167"/>
                  </a:lnTo>
                  <a:lnTo>
                    <a:pt x="1792" y="169"/>
                  </a:lnTo>
                  <a:lnTo>
                    <a:pt x="1789" y="173"/>
                  </a:lnTo>
                  <a:lnTo>
                    <a:pt x="1785" y="176"/>
                  </a:lnTo>
                  <a:lnTo>
                    <a:pt x="1772" y="185"/>
                  </a:lnTo>
                  <a:lnTo>
                    <a:pt x="1753" y="193"/>
                  </a:lnTo>
                  <a:lnTo>
                    <a:pt x="1730" y="202"/>
                  </a:lnTo>
                  <a:lnTo>
                    <a:pt x="1703" y="212"/>
                  </a:lnTo>
                  <a:lnTo>
                    <a:pt x="1640" y="230"/>
                  </a:lnTo>
                  <a:lnTo>
                    <a:pt x="1574" y="249"/>
                  </a:lnTo>
                  <a:lnTo>
                    <a:pt x="1512" y="265"/>
                  </a:lnTo>
                  <a:lnTo>
                    <a:pt x="1463" y="279"/>
                  </a:lnTo>
                  <a:lnTo>
                    <a:pt x="1445" y="285"/>
                  </a:lnTo>
                  <a:lnTo>
                    <a:pt x="1426" y="292"/>
                  </a:lnTo>
                  <a:lnTo>
                    <a:pt x="1409" y="299"/>
                  </a:lnTo>
                  <a:lnTo>
                    <a:pt x="1393" y="307"/>
                  </a:lnTo>
                  <a:lnTo>
                    <a:pt x="1378" y="315"/>
                  </a:lnTo>
                  <a:lnTo>
                    <a:pt x="1365" y="325"/>
                  </a:lnTo>
                  <a:lnTo>
                    <a:pt x="1352" y="334"/>
                  </a:lnTo>
                  <a:lnTo>
                    <a:pt x="1342" y="344"/>
                  </a:lnTo>
                  <a:lnTo>
                    <a:pt x="1331" y="354"/>
                  </a:lnTo>
                  <a:lnTo>
                    <a:pt x="1322" y="365"/>
                  </a:lnTo>
                  <a:lnTo>
                    <a:pt x="1313" y="376"/>
                  </a:lnTo>
                  <a:lnTo>
                    <a:pt x="1306" y="387"/>
                  </a:lnTo>
                  <a:lnTo>
                    <a:pt x="1292" y="410"/>
                  </a:lnTo>
                  <a:lnTo>
                    <a:pt x="1280" y="432"/>
                  </a:lnTo>
                  <a:lnTo>
                    <a:pt x="1268" y="454"/>
                  </a:lnTo>
                  <a:lnTo>
                    <a:pt x="1255" y="478"/>
                  </a:lnTo>
                  <a:lnTo>
                    <a:pt x="1241" y="500"/>
                  </a:lnTo>
                  <a:lnTo>
                    <a:pt x="1226" y="521"/>
                  </a:lnTo>
                  <a:lnTo>
                    <a:pt x="1210" y="542"/>
                  </a:lnTo>
                  <a:lnTo>
                    <a:pt x="1194" y="563"/>
                  </a:lnTo>
                  <a:lnTo>
                    <a:pt x="1176" y="582"/>
                  </a:lnTo>
                  <a:lnTo>
                    <a:pt x="1159" y="600"/>
                  </a:lnTo>
                  <a:lnTo>
                    <a:pt x="1141" y="618"/>
                  </a:lnTo>
                  <a:lnTo>
                    <a:pt x="1123" y="633"/>
                  </a:lnTo>
                  <a:lnTo>
                    <a:pt x="1107" y="647"/>
                  </a:lnTo>
                  <a:lnTo>
                    <a:pt x="1091" y="659"/>
                  </a:lnTo>
                  <a:lnTo>
                    <a:pt x="1076" y="669"/>
                  </a:lnTo>
                  <a:lnTo>
                    <a:pt x="1062" y="679"/>
                  </a:lnTo>
                  <a:lnTo>
                    <a:pt x="1049" y="685"/>
                  </a:lnTo>
                  <a:lnTo>
                    <a:pt x="1038" y="688"/>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5" name="Freeform 116"/>
            <p:cNvSpPr/>
            <p:nvPr/>
          </p:nvSpPr>
          <p:spPr>
            <a:xfrm>
              <a:off x="5564520" y="3782880"/>
              <a:ext cx="1041480" cy="760320"/>
            </a:xfrm>
            <a:custGeom>
              <a:avLst/>
              <a:gdLst>
                <a:gd name="textAreaLeft" fmla="*/ 0 w 1041480"/>
                <a:gd name="textAreaRight" fmla="*/ 1041840 w 1041480"/>
                <a:gd name="textAreaTop" fmla="*/ 0 h 760320"/>
                <a:gd name="textAreaBottom" fmla="*/ 760680 h 760320"/>
              </a:gdLst>
              <a:ahLst/>
              <a:rect l="textAreaLeft" t="textAreaTop" r="textAreaRight" b="textAreaBottom"/>
              <a:pathLst>
                <a:path w="2372" h="1671">
                  <a:moveTo>
                    <a:pt x="1952" y="1069"/>
                  </a:moveTo>
                  <a:lnTo>
                    <a:pt x="1939" y="1081"/>
                  </a:lnTo>
                  <a:lnTo>
                    <a:pt x="1929" y="1092"/>
                  </a:lnTo>
                  <a:lnTo>
                    <a:pt x="1920" y="1104"/>
                  </a:lnTo>
                  <a:lnTo>
                    <a:pt x="1915" y="1117"/>
                  </a:lnTo>
                  <a:lnTo>
                    <a:pt x="1910" y="1129"/>
                  </a:lnTo>
                  <a:lnTo>
                    <a:pt x="1906" y="1140"/>
                  </a:lnTo>
                  <a:lnTo>
                    <a:pt x="1905" y="1152"/>
                  </a:lnTo>
                  <a:lnTo>
                    <a:pt x="1904" y="1163"/>
                  </a:lnTo>
                  <a:lnTo>
                    <a:pt x="1905" y="1181"/>
                  </a:lnTo>
                  <a:lnTo>
                    <a:pt x="1908" y="1196"/>
                  </a:lnTo>
                  <a:lnTo>
                    <a:pt x="1911" y="1207"/>
                  </a:lnTo>
                  <a:lnTo>
                    <a:pt x="1912" y="1210"/>
                  </a:lnTo>
                  <a:lnTo>
                    <a:pt x="1915" y="1215"/>
                  </a:lnTo>
                  <a:lnTo>
                    <a:pt x="1924" y="1230"/>
                  </a:lnTo>
                  <a:lnTo>
                    <a:pt x="1940" y="1251"/>
                  </a:lnTo>
                  <a:lnTo>
                    <a:pt x="1964" y="1277"/>
                  </a:lnTo>
                  <a:lnTo>
                    <a:pt x="1978" y="1292"/>
                  </a:lnTo>
                  <a:lnTo>
                    <a:pt x="1993" y="1306"/>
                  </a:lnTo>
                  <a:lnTo>
                    <a:pt x="2012" y="1321"/>
                  </a:lnTo>
                  <a:lnTo>
                    <a:pt x="2031" y="1337"/>
                  </a:lnTo>
                  <a:lnTo>
                    <a:pt x="2054" y="1352"/>
                  </a:lnTo>
                  <a:lnTo>
                    <a:pt x="2077" y="1366"/>
                  </a:lnTo>
                  <a:lnTo>
                    <a:pt x="2103" y="1380"/>
                  </a:lnTo>
                  <a:lnTo>
                    <a:pt x="2131" y="1392"/>
                  </a:lnTo>
                  <a:lnTo>
                    <a:pt x="2193" y="1414"/>
                  </a:lnTo>
                  <a:lnTo>
                    <a:pt x="2255" y="1434"/>
                  </a:lnTo>
                  <a:lnTo>
                    <a:pt x="2284" y="1445"/>
                  </a:lnTo>
                  <a:lnTo>
                    <a:pt x="2311" y="1456"/>
                  </a:lnTo>
                  <a:lnTo>
                    <a:pt x="2322" y="1462"/>
                  </a:lnTo>
                  <a:lnTo>
                    <a:pt x="2334" y="1467"/>
                  </a:lnTo>
                  <a:lnTo>
                    <a:pt x="2343" y="1473"/>
                  </a:lnTo>
                  <a:lnTo>
                    <a:pt x="2351" y="1480"/>
                  </a:lnTo>
                  <a:lnTo>
                    <a:pt x="2360" y="1486"/>
                  </a:lnTo>
                  <a:lnTo>
                    <a:pt x="2365" y="1493"/>
                  </a:lnTo>
                  <a:lnTo>
                    <a:pt x="2369" y="1501"/>
                  </a:lnTo>
                  <a:lnTo>
                    <a:pt x="2371" y="1508"/>
                  </a:lnTo>
                  <a:lnTo>
                    <a:pt x="2372" y="1517"/>
                  </a:lnTo>
                  <a:lnTo>
                    <a:pt x="2371" y="1526"/>
                  </a:lnTo>
                  <a:lnTo>
                    <a:pt x="2368" y="1534"/>
                  </a:lnTo>
                  <a:lnTo>
                    <a:pt x="2362" y="1543"/>
                  </a:lnTo>
                  <a:lnTo>
                    <a:pt x="2354" y="1554"/>
                  </a:lnTo>
                  <a:lnTo>
                    <a:pt x="2343" y="1564"/>
                  </a:lnTo>
                  <a:lnTo>
                    <a:pt x="2330" y="1575"/>
                  </a:lnTo>
                  <a:lnTo>
                    <a:pt x="2315" y="1587"/>
                  </a:lnTo>
                  <a:lnTo>
                    <a:pt x="2297" y="1599"/>
                  </a:lnTo>
                  <a:lnTo>
                    <a:pt x="2276" y="1612"/>
                  </a:lnTo>
                  <a:lnTo>
                    <a:pt x="2251" y="1625"/>
                  </a:lnTo>
                  <a:lnTo>
                    <a:pt x="2223" y="1639"/>
                  </a:lnTo>
                  <a:lnTo>
                    <a:pt x="2197" y="1620"/>
                  </a:lnTo>
                  <a:lnTo>
                    <a:pt x="2172" y="1603"/>
                  </a:lnTo>
                  <a:lnTo>
                    <a:pt x="2147" y="1588"/>
                  </a:lnTo>
                  <a:lnTo>
                    <a:pt x="2123" y="1575"/>
                  </a:lnTo>
                  <a:lnTo>
                    <a:pt x="2098" y="1563"/>
                  </a:lnTo>
                  <a:lnTo>
                    <a:pt x="2073" y="1554"/>
                  </a:lnTo>
                  <a:lnTo>
                    <a:pt x="2050" y="1546"/>
                  </a:lnTo>
                  <a:lnTo>
                    <a:pt x="2027" y="1540"/>
                  </a:lnTo>
                  <a:lnTo>
                    <a:pt x="2005" y="1535"/>
                  </a:lnTo>
                  <a:lnTo>
                    <a:pt x="1982" y="1532"/>
                  </a:lnTo>
                  <a:lnTo>
                    <a:pt x="1960" y="1531"/>
                  </a:lnTo>
                  <a:lnTo>
                    <a:pt x="1938" y="1529"/>
                  </a:lnTo>
                  <a:lnTo>
                    <a:pt x="1917" y="1531"/>
                  </a:lnTo>
                  <a:lnTo>
                    <a:pt x="1897" y="1532"/>
                  </a:lnTo>
                  <a:lnTo>
                    <a:pt x="1876" y="1535"/>
                  </a:lnTo>
                  <a:lnTo>
                    <a:pt x="1856" y="1539"/>
                  </a:lnTo>
                  <a:lnTo>
                    <a:pt x="1837" y="1543"/>
                  </a:lnTo>
                  <a:lnTo>
                    <a:pt x="1819" y="1549"/>
                  </a:lnTo>
                  <a:lnTo>
                    <a:pt x="1800" y="1555"/>
                  </a:lnTo>
                  <a:lnTo>
                    <a:pt x="1783" y="1562"/>
                  </a:lnTo>
                  <a:lnTo>
                    <a:pt x="1765" y="1570"/>
                  </a:lnTo>
                  <a:lnTo>
                    <a:pt x="1748" y="1578"/>
                  </a:lnTo>
                  <a:lnTo>
                    <a:pt x="1731" y="1587"/>
                  </a:lnTo>
                  <a:lnTo>
                    <a:pt x="1715" y="1596"/>
                  </a:lnTo>
                  <a:lnTo>
                    <a:pt x="1684" y="1615"/>
                  </a:lnTo>
                  <a:lnTo>
                    <a:pt x="1656" y="1633"/>
                  </a:lnTo>
                  <a:lnTo>
                    <a:pt x="1631" y="1653"/>
                  </a:lnTo>
                  <a:lnTo>
                    <a:pt x="1607" y="1671"/>
                  </a:lnTo>
                  <a:lnTo>
                    <a:pt x="1585" y="1651"/>
                  </a:lnTo>
                  <a:lnTo>
                    <a:pt x="1559" y="1632"/>
                  </a:lnTo>
                  <a:lnTo>
                    <a:pt x="1533" y="1613"/>
                  </a:lnTo>
                  <a:lnTo>
                    <a:pt x="1502" y="1596"/>
                  </a:lnTo>
                  <a:lnTo>
                    <a:pt x="1471" y="1580"/>
                  </a:lnTo>
                  <a:lnTo>
                    <a:pt x="1436" y="1564"/>
                  </a:lnTo>
                  <a:lnTo>
                    <a:pt x="1399" y="1549"/>
                  </a:lnTo>
                  <a:lnTo>
                    <a:pt x="1362" y="1535"/>
                  </a:lnTo>
                  <a:lnTo>
                    <a:pt x="1324" y="1522"/>
                  </a:lnTo>
                  <a:lnTo>
                    <a:pt x="1283" y="1511"/>
                  </a:lnTo>
                  <a:lnTo>
                    <a:pt x="1241" y="1499"/>
                  </a:lnTo>
                  <a:lnTo>
                    <a:pt x="1199" y="1488"/>
                  </a:lnTo>
                  <a:lnTo>
                    <a:pt x="1156" y="1478"/>
                  </a:lnTo>
                  <a:lnTo>
                    <a:pt x="1113" y="1470"/>
                  </a:lnTo>
                  <a:lnTo>
                    <a:pt x="1069" y="1460"/>
                  </a:lnTo>
                  <a:lnTo>
                    <a:pt x="1026" y="1453"/>
                  </a:lnTo>
                  <a:lnTo>
                    <a:pt x="982" y="1446"/>
                  </a:lnTo>
                  <a:lnTo>
                    <a:pt x="939" y="1441"/>
                  </a:lnTo>
                  <a:lnTo>
                    <a:pt x="897" y="1435"/>
                  </a:lnTo>
                  <a:lnTo>
                    <a:pt x="855" y="1430"/>
                  </a:lnTo>
                  <a:lnTo>
                    <a:pt x="776" y="1423"/>
                  </a:lnTo>
                  <a:lnTo>
                    <a:pt x="701" y="1418"/>
                  </a:lnTo>
                  <a:lnTo>
                    <a:pt x="634" y="1416"/>
                  </a:lnTo>
                  <a:lnTo>
                    <a:pt x="576" y="1416"/>
                  </a:lnTo>
                  <a:lnTo>
                    <a:pt x="550" y="1417"/>
                  </a:lnTo>
                  <a:lnTo>
                    <a:pt x="528" y="1418"/>
                  </a:lnTo>
                  <a:lnTo>
                    <a:pt x="508" y="1421"/>
                  </a:lnTo>
                  <a:lnTo>
                    <a:pt x="492" y="1423"/>
                  </a:lnTo>
                  <a:lnTo>
                    <a:pt x="187" y="1452"/>
                  </a:lnTo>
                  <a:lnTo>
                    <a:pt x="167" y="758"/>
                  </a:lnTo>
                  <a:lnTo>
                    <a:pt x="147" y="736"/>
                  </a:lnTo>
                  <a:lnTo>
                    <a:pt x="129" y="713"/>
                  </a:lnTo>
                  <a:lnTo>
                    <a:pt x="119" y="701"/>
                  </a:lnTo>
                  <a:lnTo>
                    <a:pt x="111" y="688"/>
                  </a:lnTo>
                  <a:lnTo>
                    <a:pt x="103" y="674"/>
                  </a:lnTo>
                  <a:lnTo>
                    <a:pt x="95" y="660"/>
                  </a:lnTo>
                  <a:lnTo>
                    <a:pt x="86" y="645"/>
                  </a:lnTo>
                  <a:lnTo>
                    <a:pt x="79" y="629"/>
                  </a:lnTo>
                  <a:lnTo>
                    <a:pt x="72" y="612"/>
                  </a:lnTo>
                  <a:lnTo>
                    <a:pt x="65" y="595"/>
                  </a:lnTo>
                  <a:lnTo>
                    <a:pt x="54" y="559"/>
                  </a:lnTo>
                  <a:lnTo>
                    <a:pt x="42" y="518"/>
                  </a:lnTo>
                  <a:lnTo>
                    <a:pt x="33" y="473"/>
                  </a:lnTo>
                  <a:lnTo>
                    <a:pt x="23" y="426"/>
                  </a:lnTo>
                  <a:lnTo>
                    <a:pt x="16" y="372"/>
                  </a:lnTo>
                  <a:lnTo>
                    <a:pt x="11" y="315"/>
                  </a:lnTo>
                  <a:lnTo>
                    <a:pt x="6" y="253"/>
                  </a:lnTo>
                  <a:lnTo>
                    <a:pt x="2" y="186"/>
                  </a:lnTo>
                  <a:lnTo>
                    <a:pt x="0" y="114"/>
                  </a:lnTo>
                  <a:lnTo>
                    <a:pt x="0" y="35"/>
                  </a:lnTo>
                  <a:lnTo>
                    <a:pt x="1034" y="0"/>
                  </a:lnTo>
                  <a:lnTo>
                    <a:pt x="1126" y="234"/>
                  </a:lnTo>
                  <a:lnTo>
                    <a:pt x="1020" y="372"/>
                  </a:lnTo>
                  <a:lnTo>
                    <a:pt x="1034" y="698"/>
                  </a:lnTo>
                  <a:lnTo>
                    <a:pt x="1698" y="712"/>
                  </a:lnTo>
                  <a:lnTo>
                    <a:pt x="1952" y="106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6" name="Freeform 117"/>
            <p:cNvSpPr/>
            <p:nvPr/>
          </p:nvSpPr>
          <p:spPr>
            <a:xfrm>
              <a:off x="5564520" y="3782880"/>
              <a:ext cx="1041480" cy="760320"/>
            </a:xfrm>
            <a:custGeom>
              <a:avLst/>
              <a:gdLst>
                <a:gd name="textAreaLeft" fmla="*/ 0 w 1041480"/>
                <a:gd name="textAreaRight" fmla="*/ 1041840 w 1041480"/>
                <a:gd name="textAreaTop" fmla="*/ 0 h 760320"/>
                <a:gd name="textAreaBottom" fmla="*/ 760680 h 760320"/>
              </a:gdLst>
              <a:ahLst/>
              <a:rect l="textAreaLeft" t="textAreaTop" r="textAreaRight" b="textAreaBottom"/>
              <a:pathLst>
                <a:path w="2372" h="1671">
                  <a:moveTo>
                    <a:pt x="1952" y="1069"/>
                  </a:moveTo>
                  <a:lnTo>
                    <a:pt x="1939" y="1081"/>
                  </a:lnTo>
                  <a:lnTo>
                    <a:pt x="1929" y="1092"/>
                  </a:lnTo>
                  <a:lnTo>
                    <a:pt x="1920" y="1104"/>
                  </a:lnTo>
                  <a:lnTo>
                    <a:pt x="1915" y="1117"/>
                  </a:lnTo>
                  <a:lnTo>
                    <a:pt x="1910" y="1129"/>
                  </a:lnTo>
                  <a:lnTo>
                    <a:pt x="1906" y="1140"/>
                  </a:lnTo>
                  <a:lnTo>
                    <a:pt x="1905" y="1152"/>
                  </a:lnTo>
                  <a:lnTo>
                    <a:pt x="1904" y="1163"/>
                  </a:lnTo>
                  <a:lnTo>
                    <a:pt x="1905" y="1181"/>
                  </a:lnTo>
                  <a:lnTo>
                    <a:pt x="1908" y="1196"/>
                  </a:lnTo>
                  <a:lnTo>
                    <a:pt x="1911" y="1207"/>
                  </a:lnTo>
                  <a:lnTo>
                    <a:pt x="1912" y="1210"/>
                  </a:lnTo>
                  <a:lnTo>
                    <a:pt x="1915" y="1215"/>
                  </a:lnTo>
                  <a:lnTo>
                    <a:pt x="1924" y="1230"/>
                  </a:lnTo>
                  <a:lnTo>
                    <a:pt x="1940" y="1251"/>
                  </a:lnTo>
                  <a:lnTo>
                    <a:pt x="1964" y="1277"/>
                  </a:lnTo>
                  <a:lnTo>
                    <a:pt x="1978" y="1292"/>
                  </a:lnTo>
                  <a:lnTo>
                    <a:pt x="1993" y="1306"/>
                  </a:lnTo>
                  <a:lnTo>
                    <a:pt x="2012" y="1321"/>
                  </a:lnTo>
                  <a:lnTo>
                    <a:pt x="2031" y="1337"/>
                  </a:lnTo>
                  <a:lnTo>
                    <a:pt x="2054" y="1352"/>
                  </a:lnTo>
                  <a:lnTo>
                    <a:pt x="2077" y="1366"/>
                  </a:lnTo>
                  <a:lnTo>
                    <a:pt x="2103" y="1380"/>
                  </a:lnTo>
                  <a:lnTo>
                    <a:pt x="2131" y="1392"/>
                  </a:lnTo>
                  <a:lnTo>
                    <a:pt x="2193" y="1414"/>
                  </a:lnTo>
                  <a:lnTo>
                    <a:pt x="2255" y="1434"/>
                  </a:lnTo>
                  <a:lnTo>
                    <a:pt x="2284" y="1445"/>
                  </a:lnTo>
                  <a:lnTo>
                    <a:pt x="2311" y="1456"/>
                  </a:lnTo>
                  <a:lnTo>
                    <a:pt x="2322" y="1462"/>
                  </a:lnTo>
                  <a:lnTo>
                    <a:pt x="2334" y="1467"/>
                  </a:lnTo>
                  <a:lnTo>
                    <a:pt x="2343" y="1473"/>
                  </a:lnTo>
                  <a:lnTo>
                    <a:pt x="2351" y="1480"/>
                  </a:lnTo>
                  <a:lnTo>
                    <a:pt x="2360" y="1486"/>
                  </a:lnTo>
                  <a:lnTo>
                    <a:pt x="2365" y="1493"/>
                  </a:lnTo>
                  <a:lnTo>
                    <a:pt x="2369" y="1501"/>
                  </a:lnTo>
                  <a:lnTo>
                    <a:pt x="2371" y="1508"/>
                  </a:lnTo>
                  <a:lnTo>
                    <a:pt x="2372" y="1517"/>
                  </a:lnTo>
                  <a:lnTo>
                    <a:pt x="2371" y="1526"/>
                  </a:lnTo>
                  <a:lnTo>
                    <a:pt x="2368" y="1534"/>
                  </a:lnTo>
                  <a:lnTo>
                    <a:pt x="2362" y="1543"/>
                  </a:lnTo>
                  <a:lnTo>
                    <a:pt x="2354" y="1554"/>
                  </a:lnTo>
                  <a:lnTo>
                    <a:pt x="2343" y="1564"/>
                  </a:lnTo>
                  <a:lnTo>
                    <a:pt x="2330" y="1575"/>
                  </a:lnTo>
                  <a:lnTo>
                    <a:pt x="2315" y="1587"/>
                  </a:lnTo>
                  <a:lnTo>
                    <a:pt x="2297" y="1599"/>
                  </a:lnTo>
                  <a:lnTo>
                    <a:pt x="2276" y="1612"/>
                  </a:lnTo>
                  <a:lnTo>
                    <a:pt x="2251" y="1625"/>
                  </a:lnTo>
                  <a:lnTo>
                    <a:pt x="2223" y="1639"/>
                  </a:lnTo>
                  <a:lnTo>
                    <a:pt x="2197" y="1620"/>
                  </a:lnTo>
                  <a:lnTo>
                    <a:pt x="2172" y="1603"/>
                  </a:lnTo>
                  <a:lnTo>
                    <a:pt x="2147" y="1588"/>
                  </a:lnTo>
                  <a:lnTo>
                    <a:pt x="2123" y="1575"/>
                  </a:lnTo>
                  <a:lnTo>
                    <a:pt x="2098" y="1563"/>
                  </a:lnTo>
                  <a:lnTo>
                    <a:pt x="2073" y="1554"/>
                  </a:lnTo>
                  <a:lnTo>
                    <a:pt x="2050" y="1546"/>
                  </a:lnTo>
                  <a:lnTo>
                    <a:pt x="2027" y="1540"/>
                  </a:lnTo>
                  <a:lnTo>
                    <a:pt x="2005" y="1535"/>
                  </a:lnTo>
                  <a:lnTo>
                    <a:pt x="1982" y="1532"/>
                  </a:lnTo>
                  <a:lnTo>
                    <a:pt x="1960" y="1531"/>
                  </a:lnTo>
                  <a:lnTo>
                    <a:pt x="1938" y="1529"/>
                  </a:lnTo>
                  <a:lnTo>
                    <a:pt x="1917" y="1531"/>
                  </a:lnTo>
                  <a:lnTo>
                    <a:pt x="1897" y="1532"/>
                  </a:lnTo>
                  <a:lnTo>
                    <a:pt x="1876" y="1535"/>
                  </a:lnTo>
                  <a:lnTo>
                    <a:pt x="1856" y="1539"/>
                  </a:lnTo>
                  <a:lnTo>
                    <a:pt x="1837" y="1543"/>
                  </a:lnTo>
                  <a:lnTo>
                    <a:pt x="1819" y="1549"/>
                  </a:lnTo>
                  <a:lnTo>
                    <a:pt x="1800" y="1555"/>
                  </a:lnTo>
                  <a:lnTo>
                    <a:pt x="1783" y="1562"/>
                  </a:lnTo>
                  <a:lnTo>
                    <a:pt x="1765" y="1570"/>
                  </a:lnTo>
                  <a:lnTo>
                    <a:pt x="1748" y="1578"/>
                  </a:lnTo>
                  <a:lnTo>
                    <a:pt x="1731" y="1587"/>
                  </a:lnTo>
                  <a:lnTo>
                    <a:pt x="1715" y="1596"/>
                  </a:lnTo>
                  <a:lnTo>
                    <a:pt x="1684" y="1615"/>
                  </a:lnTo>
                  <a:lnTo>
                    <a:pt x="1656" y="1633"/>
                  </a:lnTo>
                  <a:lnTo>
                    <a:pt x="1631" y="1653"/>
                  </a:lnTo>
                  <a:lnTo>
                    <a:pt x="1607" y="1671"/>
                  </a:lnTo>
                  <a:lnTo>
                    <a:pt x="1585" y="1651"/>
                  </a:lnTo>
                  <a:lnTo>
                    <a:pt x="1559" y="1632"/>
                  </a:lnTo>
                  <a:lnTo>
                    <a:pt x="1533" y="1613"/>
                  </a:lnTo>
                  <a:lnTo>
                    <a:pt x="1502" y="1596"/>
                  </a:lnTo>
                  <a:lnTo>
                    <a:pt x="1471" y="1580"/>
                  </a:lnTo>
                  <a:lnTo>
                    <a:pt x="1436" y="1564"/>
                  </a:lnTo>
                  <a:lnTo>
                    <a:pt x="1399" y="1549"/>
                  </a:lnTo>
                  <a:lnTo>
                    <a:pt x="1362" y="1535"/>
                  </a:lnTo>
                  <a:lnTo>
                    <a:pt x="1324" y="1522"/>
                  </a:lnTo>
                  <a:lnTo>
                    <a:pt x="1283" y="1511"/>
                  </a:lnTo>
                  <a:lnTo>
                    <a:pt x="1241" y="1499"/>
                  </a:lnTo>
                  <a:lnTo>
                    <a:pt x="1199" y="1488"/>
                  </a:lnTo>
                  <a:lnTo>
                    <a:pt x="1156" y="1478"/>
                  </a:lnTo>
                  <a:lnTo>
                    <a:pt x="1113" y="1470"/>
                  </a:lnTo>
                  <a:lnTo>
                    <a:pt x="1069" y="1460"/>
                  </a:lnTo>
                  <a:lnTo>
                    <a:pt x="1026" y="1453"/>
                  </a:lnTo>
                  <a:lnTo>
                    <a:pt x="982" y="1446"/>
                  </a:lnTo>
                  <a:lnTo>
                    <a:pt x="939" y="1441"/>
                  </a:lnTo>
                  <a:lnTo>
                    <a:pt x="897" y="1435"/>
                  </a:lnTo>
                  <a:lnTo>
                    <a:pt x="855" y="1430"/>
                  </a:lnTo>
                  <a:lnTo>
                    <a:pt x="776" y="1423"/>
                  </a:lnTo>
                  <a:lnTo>
                    <a:pt x="701" y="1418"/>
                  </a:lnTo>
                  <a:lnTo>
                    <a:pt x="634" y="1416"/>
                  </a:lnTo>
                  <a:lnTo>
                    <a:pt x="576" y="1416"/>
                  </a:lnTo>
                  <a:lnTo>
                    <a:pt x="550" y="1417"/>
                  </a:lnTo>
                  <a:lnTo>
                    <a:pt x="528" y="1418"/>
                  </a:lnTo>
                  <a:lnTo>
                    <a:pt x="508" y="1421"/>
                  </a:lnTo>
                  <a:lnTo>
                    <a:pt x="492" y="1423"/>
                  </a:lnTo>
                  <a:lnTo>
                    <a:pt x="187" y="1452"/>
                  </a:lnTo>
                  <a:lnTo>
                    <a:pt x="167" y="758"/>
                  </a:lnTo>
                  <a:lnTo>
                    <a:pt x="147" y="736"/>
                  </a:lnTo>
                  <a:lnTo>
                    <a:pt x="129" y="713"/>
                  </a:lnTo>
                  <a:lnTo>
                    <a:pt x="119" y="701"/>
                  </a:lnTo>
                  <a:lnTo>
                    <a:pt x="111" y="688"/>
                  </a:lnTo>
                  <a:lnTo>
                    <a:pt x="103" y="674"/>
                  </a:lnTo>
                  <a:lnTo>
                    <a:pt x="95" y="660"/>
                  </a:lnTo>
                  <a:lnTo>
                    <a:pt x="86" y="645"/>
                  </a:lnTo>
                  <a:lnTo>
                    <a:pt x="79" y="629"/>
                  </a:lnTo>
                  <a:lnTo>
                    <a:pt x="72" y="612"/>
                  </a:lnTo>
                  <a:lnTo>
                    <a:pt x="65" y="595"/>
                  </a:lnTo>
                  <a:lnTo>
                    <a:pt x="54" y="559"/>
                  </a:lnTo>
                  <a:lnTo>
                    <a:pt x="42" y="518"/>
                  </a:lnTo>
                  <a:lnTo>
                    <a:pt x="33" y="473"/>
                  </a:lnTo>
                  <a:lnTo>
                    <a:pt x="23" y="426"/>
                  </a:lnTo>
                  <a:lnTo>
                    <a:pt x="16" y="372"/>
                  </a:lnTo>
                  <a:lnTo>
                    <a:pt x="11" y="315"/>
                  </a:lnTo>
                  <a:lnTo>
                    <a:pt x="6" y="253"/>
                  </a:lnTo>
                  <a:lnTo>
                    <a:pt x="2" y="186"/>
                  </a:lnTo>
                  <a:lnTo>
                    <a:pt x="0" y="114"/>
                  </a:lnTo>
                  <a:lnTo>
                    <a:pt x="0" y="35"/>
                  </a:lnTo>
                  <a:lnTo>
                    <a:pt x="1034" y="0"/>
                  </a:lnTo>
                  <a:lnTo>
                    <a:pt x="1126" y="234"/>
                  </a:lnTo>
                  <a:lnTo>
                    <a:pt x="1020" y="372"/>
                  </a:lnTo>
                  <a:lnTo>
                    <a:pt x="1034" y="698"/>
                  </a:lnTo>
                  <a:lnTo>
                    <a:pt x="1698" y="712"/>
                  </a:lnTo>
                  <a:lnTo>
                    <a:pt x="1952" y="1069"/>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7" name="Freeform 118"/>
            <p:cNvSpPr/>
            <p:nvPr/>
          </p:nvSpPr>
          <p:spPr>
            <a:xfrm>
              <a:off x="5995080" y="3376800"/>
              <a:ext cx="628200" cy="892080"/>
            </a:xfrm>
            <a:custGeom>
              <a:avLst/>
              <a:gdLst>
                <a:gd name="textAreaLeft" fmla="*/ 0 w 628200"/>
                <a:gd name="textAreaRight" fmla="*/ 628560 w 628200"/>
                <a:gd name="textAreaTop" fmla="*/ 0 h 892080"/>
                <a:gd name="textAreaBottom" fmla="*/ 892440 h 892080"/>
              </a:gdLst>
              <a:ahLst/>
              <a:rect l="textAreaLeft" t="textAreaTop" r="textAreaRight" b="textAreaBottom"/>
              <a:pathLst>
                <a:path w="1430" h="1967">
                  <a:moveTo>
                    <a:pt x="974" y="1967"/>
                  </a:moveTo>
                  <a:lnTo>
                    <a:pt x="720" y="1610"/>
                  </a:lnTo>
                  <a:lnTo>
                    <a:pt x="56" y="1596"/>
                  </a:lnTo>
                  <a:lnTo>
                    <a:pt x="42" y="1270"/>
                  </a:lnTo>
                  <a:lnTo>
                    <a:pt x="148" y="1132"/>
                  </a:lnTo>
                  <a:lnTo>
                    <a:pt x="56" y="898"/>
                  </a:lnTo>
                  <a:lnTo>
                    <a:pt x="46" y="874"/>
                  </a:lnTo>
                  <a:lnTo>
                    <a:pt x="37" y="849"/>
                  </a:lnTo>
                  <a:lnTo>
                    <a:pt x="30" y="825"/>
                  </a:lnTo>
                  <a:lnTo>
                    <a:pt x="23" y="800"/>
                  </a:lnTo>
                  <a:lnTo>
                    <a:pt x="17" y="776"/>
                  </a:lnTo>
                  <a:lnTo>
                    <a:pt x="13" y="751"/>
                  </a:lnTo>
                  <a:lnTo>
                    <a:pt x="8" y="727"/>
                  </a:lnTo>
                  <a:lnTo>
                    <a:pt x="6" y="702"/>
                  </a:lnTo>
                  <a:lnTo>
                    <a:pt x="3" y="679"/>
                  </a:lnTo>
                  <a:lnTo>
                    <a:pt x="1" y="654"/>
                  </a:lnTo>
                  <a:lnTo>
                    <a:pt x="0" y="631"/>
                  </a:lnTo>
                  <a:lnTo>
                    <a:pt x="0" y="609"/>
                  </a:lnTo>
                  <a:lnTo>
                    <a:pt x="1" y="563"/>
                  </a:lnTo>
                  <a:lnTo>
                    <a:pt x="4" y="520"/>
                  </a:lnTo>
                  <a:lnTo>
                    <a:pt x="9" y="479"/>
                  </a:lnTo>
                  <a:lnTo>
                    <a:pt x="16" y="440"/>
                  </a:lnTo>
                  <a:lnTo>
                    <a:pt x="24" y="404"/>
                  </a:lnTo>
                  <a:lnTo>
                    <a:pt x="32" y="373"/>
                  </a:lnTo>
                  <a:lnTo>
                    <a:pt x="42" y="344"/>
                  </a:lnTo>
                  <a:lnTo>
                    <a:pt x="51" y="318"/>
                  </a:lnTo>
                  <a:lnTo>
                    <a:pt x="60" y="297"/>
                  </a:lnTo>
                  <a:lnTo>
                    <a:pt x="70" y="279"/>
                  </a:lnTo>
                  <a:lnTo>
                    <a:pt x="79" y="264"/>
                  </a:lnTo>
                  <a:lnTo>
                    <a:pt x="90" y="244"/>
                  </a:lnTo>
                  <a:lnTo>
                    <a:pt x="101" y="222"/>
                  </a:lnTo>
                  <a:lnTo>
                    <a:pt x="114" y="196"/>
                  </a:lnTo>
                  <a:lnTo>
                    <a:pt x="126" y="169"/>
                  </a:lnTo>
                  <a:lnTo>
                    <a:pt x="139" y="139"/>
                  </a:lnTo>
                  <a:lnTo>
                    <a:pt x="150" y="108"/>
                  </a:lnTo>
                  <a:lnTo>
                    <a:pt x="162" y="75"/>
                  </a:lnTo>
                  <a:lnTo>
                    <a:pt x="871" y="0"/>
                  </a:lnTo>
                  <a:lnTo>
                    <a:pt x="872" y="11"/>
                  </a:lnTo>
                  <a:lnTo>
                    <a:pt x="877" y="42"/>
                  </a:lnTo>
                  <a:lnTo>
                    <a:pt x="885" y="91"/>
                  </a:lnTo>
                  <a:lnTo>
                    <a:pt x="896" y="155"/>
                  </a:lnTo>
                  <a:lnTo>
                    <a:pt x="907" y="233"/>
                  </a:lnTo>
                  <a:lnTo>
                    <a:pt x="923" y="319"/>
                  </a:lnTo>
                  <a:lnTo>
                    <a:pt x="940" y="412"/>
                  </a:lnTo>
                  <a:lnTo>
                    <a:pt x="959" y="512"/>
                  </a:lnTo>
                  <a:lnTo>
                    <a:pt x="979" y="612"/>
                  </a:lnTo>
                  <a:lnTo>
                    <a:pt x="1000" y="713"/>
                  </a:lnTo>
                  <a:lnTo>
                    <a:pt x="1022" y="810"/>
                  </a:lnTo>
                  <a:lnTo>
                    <a:pt x="1044" y="902"/>
                  </a:lnTo>
                  <a:lnTo>
                    <a:pt x="1056" y="945"/>
                  </a:lnTo>
                  <a:lnTo>
                    <a:pt x="1067" y="985"/>
                  </a:lnTo>
                  <a:lnTo>
                    <a:pt x="1079" y="1023"/>
                  </a:lnTo>
                  <a:lnTo>
                    <a:pt x="1092" y="1058"/>
                  </a:lnTo>
                  <a:lnTo>
                    <a:pt x="1104" y="1090"/>
                  </a:lnTo>
                  <a:lnTo>
                    <a:pt x="1115" y="1118"/>
                  </a:lnTo>
                  <a:lnTo>
                    <a:pt x="1127" y="1141"/>
                  </a:lnTo>
                  <a:lnTo>
                    <a:pt x="1139" y="1161"/>
                  </a:lnTo>
                  <a:lnTo>
                    <a:pt x="1430" y="1855"/>
                  </a:lnTo>
                  <a:lnTo>
                    <a:pt x="1354" y="1867"/>
                  </a:lnTo>
                  <a:lnTo>
                    <a:pt x="1284" y="1878"/>
                  </a:lnTo>
                  <a:lnTo>
                    <a:pt x="1218" y="1890"/>
                  </a:lnTo>
                  <a:lnTo>
                    <a:pt x="1161" y="1902"/>
                  </a:lnTo>
                  <a:lnTo>
                    <a:pt x="1111" y="1912"/>
                  </a:lnTo>
                  <a:lnTo>
                    <a:pt x="1069" y="1923"/>
                  </a:lnTo>
                  <a:lnTo>
                    <a:pt x="1051" y="1927"/>
                  </a:lnTo>
                  <a:lnTo>
                    <a:pt x="1036" y="1932"/>
                  </a:lnTo>
                  <a:lnTo>
                    <a:pt x="1024" y="1937"/>
                  </a:lnTo>
                  <a:lnTo>
                    <a:pt x="1015" y="1941"/>
                  </a:lnTo>
                  <a:lnTo>
                    <a:pt x="1003" y="1947"/>
                  </a:lnTo>
                  <a:lnTo>
                    <a:pt x="993" y="1954"/>
                  </a:lnTo>
                  <a:lnTo>
                    <a:pt x="983" y="1961"/>
                  </a:lnTo>
                  <a:lnTo>
                    <a:pt x="974" y="196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8" name="Freeform 119"/>
            <p:cNvSpPr/>
            <p:nvPr/>
          </p:nvSpPr>
          <p:spPr>
            <a:xfrm>
              <a:off x="5995080" y="3376800"/>
              <a:ext cx="628200" cy="892080"/>
            </a:xfrm>
            <a:custGeom>
              <a:avLst/>
              <a:gdLst>
                <a:gd name="textAreaLeft" fmla="*/ 0 w 628200"/>
                <a:gd name="textAreaRight" fmla="*/ 628560 w 628200"/>
                <a:gd name="textAreaTop" fmla="*/ 0 h 892080"/>
                <a:gd name="textAreaBottom" fmla="*/ 892440 h 892080"/>
              </a:gdLst>
              <a:ahLst/>
              <a:rect l="textAreaLeft" t="textAreaTop" r="textAreaRight" b="textAreaBottom"/>
              <a:pathLst>
                <a:path w="1430" h="1967">
                  <a:moveTo>
                    <a:pt x="974" y="1967"/>
                  </a:moveTo>
                  <a:lnTo>
                    <a:pt x="720" y="1610"/>
                  </a:lnTo>
                  <a:lnTo>
                    <a:pt x="56" y="1596"/>
                  </a:lnTo>
                  <a:lnTo>
                    <a:pt x="42" y="1270"/>
                  </a:lnTo>
                  <a:lnTo>
                    <a:pt x="148" y="1132"/>
                  </a:lnTo>
                  <a:lnTo>
                    <a:pt x="56" y="898"/>
                  </a:lnTo>
                  <a:lnTo>
                    <a:pt x="46" y="874"/>
                  </a:lnTo>
                  <a:lnTo>
                    <a:pt x="37" y="849"/>
                  </a:lnTo>
                  <a:lnTo>
                    <a:pt x="30" y="825"/>
                  </a:lnTo>
                  <a:lnTo>
                    <a:pt x="23" y="800"/>
                  </a:lnTo>
                  <a:lnTo>
                    <a:pt x="17" y="776"/>
                  </a:lnTo>
                  <a:lnTo>
                    <a:pt x="13" y="751"/>
                  </a:lnTo>
                  <a:lnTo>
                    <a:pt x="8" y="727"/>
                  </a:lnTo>
                  <a:lnTo>
                    <a:pt x="6" y="702"/>
                  </a:lnTo>
                  <a:lnTo>
                    <a:pt x="3" y="679"/>
                  </a:lnTo>
                  <a:lnTo>
                    <a:pt x="1" y="654"/>
                  </a:lnTo>
                  <a:lnTo>
                    <a:pt x="0" y="631"/>
                  </a:lnTo>
                  <a:lnTo>
                    <a:pt x="0" y="609"/>
                  </a:lnTo>
                  <a:lnTo>
                    <a:pt x="1" y="563"/>
                  </a:lnTo>
                  <a:lnTo>
                    <a:pt x="4" y="520"/>
                  </a:lnTo>
                  <a:lnTo>
                    <a:pt x="9" y="479"/>
                  </a:lnTo>
                  <a:lnTo>
                    <a:pt x="16" y="440"/>
                  </a:lnTo>
                  <a:lnTo>
                    <a:pt x="24" y="404"/>
                  </a:lnTo>
                  <a:lnTo>
                    <a:pt x="32" y="373"/>
                  </a:lnTo>
                  <a:lnTo>
                    <a:pt x="42" y="344"/>
                  </a:lnTo>
                  <a:lnTo>
                    <a:pt x="51" y="318"/>
                  </a:lnTo>
                  <a:lnTo>
                    <a:pt x="60" y="297"/>
                  </a:lnTo>
                  <a:lnTo>
                    <a:pt x="70" y="279"/>
                  </a:lnTo>
                  <a:lnTo>
                    <a:pt x="79" y="264"/>
                  </a:lnTo>
                  <a:lnTo>
                    <a:pt x="90" y="244"/>
                  </a:lnTo>
                  <a:lnTo>
                    <a:pt x="101" y="222"/>
                  </a:lnTo>
                  <a:lnTo>
                    <a:pt x="114" y="196"/>
                  </a:lnTo>
                  <a:lnTo>
                    <a:pt x="126" y="169"/>
                  </a:lnTo>
                  <a:lnTo>
                    <a:pt x="139" y="139"/>
                  </a:lnTo>
                  <a:lnTo>
                    <a:pt x="150" y="108"/>
                  </a:lnTo>
                  <a:lnTo>
                    <a:pt x="162" y="75"/>
                  </a:lnTo>
                  <a:lnTo>
                    <a:pt x="871" y="0"/>
                  </a:lnTo>
                  <a:lnTo>
                    <a:pt x="872" y="11"/>
                  </a:lnTo>
                  <a:lnTo>
                    <a:pt x="877" y="42"/>
                  </a:lnTo>
                  <a:lnTo>
                    <a:pt x="885" y="91"/>
                  </a:lnTo>
                  <a:lnTo>
                    <a:pt x="896" y="155"/>
                  </a:lnTo>
                  <a:lnTo>
                    <a:pt x="907" y="233"/>
                  </a:lnTo>
                  <a:lnTo>
                    <a:pt x="923" y="319"/>
                  </a:lnTo>
                  <a:lnTo>
                    <a:pt x="940" y="412"/>
                  </a:lnTo>
                  <a:lnTo>
                    <a:pt x="959" y="512"/>
                  </a:lnTo>
                  <a:lnTo>
                    <a:pt x="979" y="612"/>
                  </a:lnTo>
                  <a:lnTo>
                    <a:pt x="1000" y="713"/>
                  </a:lnTo>
                  <a:lnTo>
                    <a:pt x="1022" y="810"/>
                  </a:lnTo>
                  <a:lnTo>
                    <a:pt x="1044" y="902"/>
                  </a:lnTo>
                  <a:lnTo>
                    <a:pt x="1056" y="945"/>
                  </a:lnTo>
                  <a:lnTo>
                    <a:pt x="1067" y="985"/>
                  </a:lnTo>
                  <a:lnTo>
                    <a:pt x="1079" y="1023"/>
                  </a:lnTo>
                  <a:lnTo>
                    <a:pt x="1092" y="1058"/>
                  </a:lnTo>
                  <a:lnTo>
                    <a:pt x="1104" y="1090"/>
                  </a:lnTo>
                  <a:lnTo>
                    <a:pt x="1115" y="1118"/>
                  </a:lnTo>
                  <a:lnTo>
                    <a:pt x="1127" y="1141"/>
                  </a:lnTo>
                  <a:lnTo>
                    <a:pt x="1139" y="1161"/>
                  </a:lnTo>
                  <a:lnTo>
                    <a:pt x="1430" y="1855"/>
                  </a:lnTo>
                  <a:lnTo>
                    <a:pt x="1354" y="1867"/>
                  </a:lnTo>
                  <a:lnTo>
                    <a:pt x="1284" y="1878"/>
                  </a:lnTo>
                  <a:lnTo>
                    <a:pt x="1218" y="1890"/>
                  </a:lnTo>
                  <a:lnTo>
                    <a:pt x="1161" y="1902"/>
                  </a:lnTo>
                  <a:lnTo>
                    <a:pt x="1111" y="1912"/>
                  </a:lnTo>
                  <a:lnTo>
                    <a:pt x="1069" y="1923"/>
                  </a:lnTo>
                  <a:lnTo>
                    <a:pt x="1051" y="1927"/>
                  </a:lnTo>
                  <a:lnTo>
                    <a:pt x="1036" y="1932"/>
                  </a:lnTo>
                  <a:lnTo>
                    <a:pt x="1024" y="1937"/>
                  </a:lnTo>
                  <a:lnTo>
                    <a:pt x="1015" y="1941"/>
                  </a:lnTo>
                  <a:lnTo>
                    <a:pt x="1003" y="1947"/>
                  </a:lnTo>
                  <a:lnTo>
                    <a:pt x="993" y="1954"/>
                  </a:lnTo>
                  <a:lnTo>
                    <a:pt x="983" y="1961"/>
                  </a:lnTo>
                  <a:lnTo>
                    <a:pt x="974" y="1967"/>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99" name="Freeform 120"/>
            <p:cNvSpPr/>
            <p:nvPr/>
          </p:nvSpPr>
          <p:spPr>
            <a:xfrm>
              <a:off x="6377760" y="3337920"/>
              <a:ext cx="733320" cy="880560"/>
            </a:xfrm>
            <a:custGeom>
              <a:avLst/>
              <a:gdLst>
                <a:gd name="textAreaLeft" fmla="*/ 0 w 733320"/>
                <a:gd name="textAreaRight" fmla="*/ 733680 w 733320"/>
                <a:gd name="textAreaTop" fmla="*/ 0 h 880560"/>
                <a:gd name="textAreaBottom" fmla="*/ 880920 h 880560"/>
              </a:gdLst>
              <a:ahLst/>
              <a:rect l="textAreaLeft" t="textAreaTop" r="textAreaRight" b="textAreaBottom"/>
              <a:pathLst>
                <a:path w="1670" h="1941">
                  <a:moveTo>
                    <a:pt x="0" y="86"/>
                  </a:moveTo>
                  <a:lnTo>
                    <a:pt x="1" y="97"/>
                  </a:lnTo>
                  <a:lnTo>
                    <a:pt x="5" y="128"/>
                  </a:lnTo>
                  <a:lnTo>
                    <a:pt x="14" y="177"/>
                  </a:lnTo>
                  <a:lnTo>
                    <a:pt x="24" y="241"/>
                  </a:lnTo>
                  <a:lnTo>
                    <a:pt x="36" y="319"/>
                  </a:lnTo>
                  <a:lnTo>
                    <a:pt x="51" y="405"/>
                  </a:lnTo>
                  <a:lnTo>
                    <a:pt x="67" y="498"/>
                  </a:lnTo>
                  <a:lnTo>
                    <a:pt x="86" y="598"/>
                  </a:lnTo>
                  <a:lnTo>
                    <a:pt x="106" y="698"/>
                  </a:lnTo>
                  <a:lnTo>
                    <a:pt x="127" y="799"/>
                  </a:lnTo>
                  <a:lnTo>
                    <a:pt x="148" y="896"/>
                  </a:lnTo>
                  <a:lnTo>
                    <a:pt x="171" y="988"/>
                  </a:lnTo>
                  <a:lnTo>
                    <a:pt x="183" y="1031"/>
                  </a:lnTo>
                  <a:lnTo>
                    <a:pt x="195" y="1071"/>
                  </a:lnTo>
                  <a:lnTo>
                    <a:pt x="206" y="1109"/>
                  </a:lnTo>
                  <a:lnTo>
                    <a:pt x="218" y="1144"/>
                  </a:lnTo>
                  <a:lnTo>
                    <a:pt x="230" y="1176"/>
                  </a:lnTo>
                  <a:lnTo>
                    <a:pt x="241" y="1204"/>
                  </a:lnTo>
                  <a:lnTo>
                    <a:pt x="253" y="1227"/>
                  </a:lnTo>
                  <a:lnTo>
                    <a:pt x="265" y="1247"/>
                  </a:lnTo>
                  <a:lnTo>
                    <a:pt x="556" y="1941"/>
                  </a:lnTo>
                  <a:lnTo>
                    <a:pt x="588" y="1936"/>
                  </a:lnTo>
                  <a:lnTo>
                    <a:pt x="622" y="1932"/>
                  </a:lnTo>
                  <a:lnTo>
                    <a:pt x="656" y="1927"/>
                  </a:lnTo>
                  <a:lnTo>
                    <a:pt x="691" y="1922"/>
                  </a:lnTo>
                  <a:lnTo>
                    <a:pt x="726" y="1918"/>
                  </a:lnTo>
                  <a:lnTo>
                    <a:pt x="762" y="1914"/>
                  </a:lnTo>
                  <a:lnTo>
                    <a:pt x="799" y="1909"/>
                  </a:lnTo>
                  <a:lnTo>
                    <a:pt x="835" y="1906"/>
                  </a:lnTo>
                  <a:lnTo>
                    <a:pt x="837" y="1897"/>
                  </a:lnTo>
                  <a:lnTo>
                    <a:pt x="838" y="1886"/>
                  </a:lnTo>
                  <a:lnTo>
                    <a:pt x="838" y="1876"/>
                  </a:lnTo>
                  <a:lnTo>
                    <a:pt x="838" y="1865"/>
                  </a:lnTo>
                  <a:lnTo>
                    <a:pt x="837" y="1843"/>
                  </a:lnTo>
                  <a:lnTo>
                    <a:pt x="835" y="1820"/>
                  </a:lnTo>
                  <a:lnTo>
                    <a:pt x="829" y="1796"/>
                  </a:lnTo>
                  <a:lnTo>
                    <a:pt x="823" y="1772"/>
                  </a:lnTo>
                  <a:lnTo>
                    <a:pt x="815" y="1747"/>
                  </a:lnTo>
                  <a:lnTo>
                    <a:pt x="806" y="1724"/>
                  </a:lnTo>
                  <a:lnTo>
                    <a:pt x="795" y="1700"/>
                  </a:lnTo>
                  <a:lnTo>
                    <a:pt x="784" y="1679"/>
                  </a:lnTo>
                  <a:lnTo>
                    <a:pt x="773" y="1658"/>
                  </a:lnTo>
                  <a:lnTo>
                    <a:pt x="760" y="1640"/>
                  </a:lnTo>
                  <a:lnTo>
                    <a:pt x="748" y="1622"/>
                  </a:lnTo>
                  <a:lnTo>
                    <a:pt x="735" y="1608"/>
                  </a:lnTo>
                  <a:lnTo>
                    <a:pt x="723" y="1595"/>
                  </a:lnTo>
                  <a:lnTo>
                    <a:pt x="711" y="1587"/>
                  </a:lnTo>
                  <a:lnTo>
                    <a:pt x="1670" y="1495"/>
                  </a:lnTo>
                  <a:lnTo>
                    <a:pt x="1657" y="1482"/>
                  </a:lnTo>
                  <a:lnTo>
                    <a:pt x="1645" y="1469"/>
                  </a:lnTo>
                  <a:lnTo>
                    <a:pt x="1634" y="1456"/>
                  </a:lnTo>
                  <a:lnTo>
                    <a:pt x="1622" y="1442"/>
                  </a:lnTo>
                  <a:lnTo>
                    <a:pt x="1612" y="1427"/>
                  </a:lnTo>
                  <a:lnTo>
                    <a:pt x="1602" y="1411"/>
                  </a:lnTo>
                  <a:lnTo>
                    <a:pt x="1593" y="1396"/>
                  </a:lnTo>
                  <a:lnTo>
                    <a:pt x="1583" y="1379"/>
                  </a:lnTo>
                  <a:lnTo>
                    <a:pt x="1566" y="1345"/>
                  </a:lnTo>
                  <a:lnTo>
                    <a:pt x="1552" y="1311"/>
                  </a:lnTo>
                  <a:lnTo>
                    <a:pt x="1539" y="1276"/>
                  </a:lnTo>
                  <a:lnTo>
                    <a:pt x="1527" y="1242"/>
                  </a:lnTo>
                  <a:lnTo>
                    <a:pt x="1518" y="1209"/>
                  </a:lnTo>
                  <a:lnTo>
                    <a:pt x="1511" y="1177"/>
                  </a:lnTo>
                  <a:lnTo>
                    <a:pt x="1505" y="1147"/>
                  </a:lnTo>
                  <a:lnTo>
                    <a:pt x="1502" y="1120"/>
                  </a:lnTo>
                  <a:lnTo>
                    <a:pt x="1498" y="1095"/>
                  </a:lnTo>
                  <a:lnTo>
                    <a:pt x="1498" y="1075"/>
                  </a:lnTo>
                  <a:lnTo>
                    <a:pt x="1498" y="1059"/>
                  </a:lnTo>
                  <a:lnTo>
                    <a:pt x="1501" y="1049"/>
                  </a:lnTo>
                  <a:lnTo>
                    <a:pt x="1499" y="1040"/>
                  </a:lnTo>
                  <a:lnTo>
                    <a:pt x="1495" y="1029"/>
                  </a:lnTo>
                  <a:lnTo>
                    <a:pt x="1485" y="1011"/>
                  </a:lnTo>
                  <a:lnTo>
                    <a:pt x="1473" y="989"/>
                  </a:lnTo>
                  <a:lnTo>
                    <a:pt x="1436" y="933"/>
                  </a:lnTo>
                  <a:lnTo>
                    <a:pt x="1390" y="864"/>
                  </a:lnTo>
                  <a:lnTo>
                    <a:pt x="1334" y="783"/>
                  </a:lnTo>
                  <a:lnTo>
                    <a:pt x="1270" y="695"/>
                  </a:lnTo>
                  <a:lnTo>
                    <a:pt x="1203" y="601"/>
                  </a:lnTo>
                  <a:lnTo>
                    <a:pt x="1133" y="505"/>
                  </a:lnTo>
                  <a:lnTo>
                    <a:pt x="1062" y="411"/>
                  </a:lnTo>
                  <a:lnTo>
                    <a:pt x="994" y="319"/>
                  </a:lnTo>
                  <a:lnTo>
                    <a:pt x="931" y="233"/>
                  </a:lnTo>
                  <a:lnTo>
                    <a:pt x="873" y="156"/>
                  </a:lnTo>
                  <a:lnTo>
                    <a:pt x="824" y="92"/>
                  </a:lnTo>
                  <a:lnTo>
                    <a:pt x="787" y="43"/>
                  </a:lnTo>
                  <a:lnTo>
                    <a:pt x="762" y="11"/>
                  </a:lnTo>
                  <a:lnTo>
                    <a:pt x="754" y="0"/>
                  </a:lnTo>
                  <a:lnTo>
                    <a:pt x="0" y="8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0" name="Freeform 121"/>
            <p:cNvSpPr/>
            <p:nvPr/>
          </p:nvSpPr>
          <p:spPr>
            <a:xfrm>
              <a:off x="6377760" y="3337920"/>
              <a:ext cx="733320" cy="880560"/>
            </a:xfrm>
            <a:custGeom>
              <a:avLst/>
              <a:gdLst>
                <a:gd name="textAreaLeft" fmla="*/ 0 w 733320"/>
                <a:gd name="textAreaRight" fmla="*/ 733680 w 733320"/>
                <a:gd name="textAreaTop" fmla="*/ 0 h 880560"/>
                <a:gd name="textAreaBottom" fmla="*/ 880920 h 880560"/>
              </a:gdLst>
              <a:ahLst/>
              <a:rect l="textAreaLeft" t="textAreaTop" r="textAreaRight" b="textAreaBottom"/>
              <a:pathLst>
                <a:path w="1670" h="1941">
                  <a:moveTo>
                    <a:pt x="0" y="86"/>
                  </a:moveTo>
                  <a:lnTo>
                    <a:pt x="1" y="97"/>
                  </a:lnTo>
                  <a:lnTo>
                    <a:pt x="5" y="128"/>
                  </a:lnTo>
                  <a:lnTo>
                    <a:pt x="14" y="177"/>
                  </a:lnTo>
                  <a:lnTo>
                    <a:pt x="24" y="241"/>
                  </a:lnTo>
                  <a:lnTo>
                    <a:pt x="36" y="319"/>
                  </a:lnTo>
                  <a:lnTo>
                    <a:pt x="51" y="405"/>
                  </a:lnTo>
                  <a:lnTo>
                    <a:pt x="67" y="498"/>
                  </a:lnTo>
                  <a:lnTo>
                    <a:pt x="86" y="598"/>
                  </a:lnTo>
                  <a:lnTo>
                    <a:pt x="106" y="698"/>
                  </a:lnTo>
                  <a:lnTo>
                    <a:pt x="127" y="799"/>
                  </a:lnTo>
                  <a:lnTo>
                    <a:pt x="148" y="896"/>
                  </a:lnTo>
                  <a:lnTo>
                    <a:pt x="171" y="988"/>
                  </a:lnTo>
                  <a:lnTo>
                    <a:pt x="183" y="1031"/>
                  </a:lnTo>
                  <a:lnTo>
                    <a:pt x="195" y="1071"/>
                  </a:lnTo>
                  <a:lnTo>
                    <a:pt x="206" y="1109"/>
                  </a:lnTo>
                  <a:lnTo>
                    <a:pt x="218" y="1144"/>
                  </a:lnTo>
                  <a:lnTo>
                    <a:pt x="230" y="1176"/>
                  </a:lnTo>
                  <a:lnTo>
                    <a:pt x="241" y="1204"/>
                  </a:lnTo>
                  <a:lnTo>
                    <a:pt x="253" y="1227"/>
                  </a:lnTo>
                  <a:lnTo>
                    <a:pt x="265" y="1247"/>
                  </a:lnTo>
                  <a:lnTo>
                    <a:pt x="556" y="1941"/>
                  </a:lnTo>
                  <a:lnTo>
                    <a:pt x="588" y="1936"/>
                  </a:lnTo>
                  <a:lnTo>
                    <a:pt x="622" y="1932"/>
                  </a:lnTo>
                  <a:lnTo>
                    <a:pt x="656" y="1927"/>
                  </a:lnTo>
                  <a:lnTo>
                    <a:pt x="691" y="1922"/>
                  </a:lnTo>
                  <a:lnTo>
                    <a:pt x="726" y="1918"/>
                  </a:lnTo>
                  <a:lnTo>
                    <a:pt x="762" y="1914"/>
                  </a:lnTo>
                  <a:lnTo>
                    <a:pt x="799" y="1909"/>
                  </a:lnTo>
                  <a:lnTo>
                    <a:pt x="835" y="1906"/>
                  </a:lnTo>
                  <a:lnTo>
                    <a:pt x="837" y="1897"/>
                  </a:lnTo>
                  <a:lnTo>
                    <a:pt x="838" y="1886"/>
                  </a:lnTo>
                  <a:lnTo>
                    <a:pt x="838" y="1876"/>
                  </a:lnTo>
                  <a:lnTo>
                    <a:pt x="838" y="1865"/>
                  </a:lnTo>
                  <a:lnTo>
                    <a:pt x="837" y="1843"/>
                  </a:lnTo>
                  <a:lnTo>
                    <a:pt x="835" y="1820"/>
                  </a:lnTo>
                  <a:lnTo>
                    <a:pt x="829" y="1796"/>
                  </a:lnTo>
                  <a:lnTo>
                    <a:pt x="823" y="1772"/>
                  </a:lnTo>
                  <a:lnTo>
                    <a:pt x="815" y="1747"/>
                  </a:lnTo>
                  <a:lnTo>
                    <a:pt x="806" y="1724"/>
                  </a:lnTo>
                  <a:lnTo>
                    <a:pt x="795" y="1700"/>
                  </a:lnTo>
                  <a:lnTo>
                    <a:pt x="784" y="1679"/>
                  </a:lnTo>
                  <a:lnTo>
                    <a:pt x="773" y="1658"/>
                  </a:lnTo>
                  <a:lnTo>
                    <a:pt x="760" y="1640"/>
                  </a:lnTo>
                  <a:lnTo>
                    <a:pt x="748" y="1622"/>
                  </a:lnTo>
                  <a:lnTo>
                    <a:pt x="735" y="1608"/>
                  </a:lnTo>
                  <a:lnTo>
                    <a:pt x="723" y="1595"/>
                  </a:lnTo>
                  <a:lnTo>
                    <a:pt x="711" y="1587"/>
                  </a:lnTo>
                  <a:lnTo>
                    <a:pt x="1670" y="1495"/>
                  </a:lnTo>
                  <a:lnTo>
                    <a:pt x="1657" y="1482"/>
                  </a:lnTo>
                  <a:lnTo>
                    <a:pt x="1645" y="1469"/>
                  </a:lnTo>
                  <a:lnTo>
                    <a:pt x="1634" y="1456"/>
                  </a:lnTo>
                  <a:lnTo>
                    <a:pt x="1622" y="1442"/>
                  </a:lnTo>
                  <a:lnTo>
                    <a:pt x="1612" y="1427"/>
                  </a:lnTo>
                  <a:lnTo>
                    <a:pt x="1602" y="1411"/>
                  </a:lnTo>
                  <a:lnTo>
                    <a:pt x="1593" y="1396"/>
                  </a:lnTo>
                  <a:lnTo>
                    <a:pt x="1583" y="1379"/>
                  </a:lnTo>
                  <a:lnTo>
                    <a:pt x="1566" y="1345"/>
                  </a:lnTo>
                  <a:lnTo>
                    <a:pt x="1552" y="1311"/>
                  </a:lnTo>
                  <a:lnTo>
                    <a:pt x="1539" y="1276"/>
                  </a:lnTo>
                  <a:lnTo>
                    <a:pt x="1527" y="1242"/>
                  </a:lnTo>
                  <a:lnTo>
                    <a:pt x="1518" y="1209"/>
                  </a:lnTo>
                  <a:lnTo>
                    <a:pt x="1511" y="1177"/>
                  </a:lnTo>
                  <a:lnTo>
                    <a:pt x="1505" y="1147"/>
                  </a:lnTo>
                  <a:lnTo>
                    <a:pt x="1502" y="1120"/>
                  </a:lnTo>
                  <a:lnTo>
                    <a:pt x="1498" y="1095"/>
                  </a:lnTo>
                  <a:lnTo>
                    <a:pt x="1498" y="1075"/>
                  </a:lnTo>
                  <a:lnTo>
                    <a:pt x="1498" y="1059"/>
                  </a:lnTo>
                  <a:lnTo>
                    <a:pt x="1501" y="1049"/>
                  </a:lnTo>
                  <a:lnTo>
                    <a:pt x="1499" y="1040"/>
                  </a:lnTo>
                  <a:lnTo>
                    <a:pt x="1495" y="1029"/>
                  </a:lnTo>
                  <a:lnTo>
                    <a:pt x="1485" y="1011"/>
                  </a:lnTo>
                  <a:lnTo>
                    <a:pt x="1473" y="989"/>
                  </a:lnTo>
                  <a:lnTo>
                    <a:pt x="1436" y="933"/>
                  </a:lnTo>
                  <a:lnTo>
                    <a:pt x="1390" y="864"/>
                  </a:lnTo>
                  <a:lnTo>
                    <a:pt x="1334" y="783"/>
                  </a:lnTo>
                  <a:lnTo>
                    <a:pt x="1270" y="695"/>
                  </a:lnTo>
                  <a:lnTo>
                    <a:pt x="1203" y="601"/>
                  </a:lnTo>
                  <a:lnTo>
                    <a:pt x="1133" y="505"/>
                  </a:lnTo>
                  <a:lnTo>
                    <a:pt x="1062" y="411"/>
                  </a:lnTo>
                  <a:lnTo>
                    <a:pt x="994" y="319"/>
                  </a:lnTo>
                  <a:lnTo>
                    <a:pt x="931" y="233"/>
                  </a:lnTo>
                  <a:lnTo>
                    <a:pt x="873" y="156"/>
                  </a:lnTo>
                  <a:lnTo>
                    <a:pt x="824" y="92"/>
                  </a:lnTo>
                  <a:lnTo>
                    <a:pt x="787" y="43"/>
                  </a:lnTo>
                  <a:lnTo>
                    <a:pt x="762" y="11"/>
                  </a:lnTo>
                  <a:lnTo>
                    <a:pt x="754" y="0"/>
                  </a:lnTo>
                  <a:lnTo>
                    <a:pt x="0" y="8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1" name="Freeform 122"/>
            <p:cNvSpPr/>
            <p:nvPr/>
          </p:nvSpPr>
          <p:spPr>
            <a:xfrm>
              <a:off x="5737680" y="2507040"/>
              <a:ext cx="531720" cy="644400"/>
            </a:xfrm>
            <a:custGeom>
              <a:avLst/>
              <a:gdLst>
                <a:gd name="textAreaLeft" fmla="*/ 0 w 531720"/>
                <a:gd name="textAreaRight" fmla="*/ 532080 w 531720"/>
                <a:gd name="textAreaTop" fmla="*/ 0 h 644400"/>
                <a:gd name="textAreaBottom" fmla="*/ 644400 h 644400"/>
              </a:gdLst>
              <a:ahLst/>
              <a:rect l="textAreaLeft" t="textAreaTop" r="textAreaRight" b="textAreaBottom"/>
              <a:pathLst>
                <a:path w="1210" h="1423">
                  <a:moveTo>
                    <a:pt x="916" y="1423"/>
                  </a:moveTo>
                  <a:lnTo>
                    <a:pt x="915" y="1406"/>
                  </a:lnTo>
                  <a:lnTo>
                    <a:pt x="912" y="1392"/>
                  </a:lnTo>
                  <a:lnTo>
                    <a:pt x="910" y="1386"/>
                  </a:lnTo>
                  <a:lnTo>
                    <a:pt x="908" y="1381"/>
                  </a:lnTo>
                  <a:lnTo>
                    <a:pt x="905" y="1376"/>
                  </a:lnTo>
                  <a:lnTo>
                    <a:pt x="903" y="1373"/>
                  </a:lnTo>
                  <a:lnTo>
                    <a:pt x="896" y="1367"/>
                  </a:lnTo>
                  <a:lnTo>
                    <a:pt x="888" y="1364"/>
                  </a:lnTo>
                  <a:lnTo>
                    <a:pt x="879" y="1361"/>
                  </a:lnTo>
                  <a:lnTo>
                    <a:pt x="869" y="1360"/>
                  </a:lnTo>
                  <a:lnTo>
                    <a:pt x="847" y="1359"/>
                  </a:lnTo>
                  <a:lnTo>
                    <a:pt x="824" y="1357"/>
                  </a:lnTo>
                  <a:lnTo>
                    <a:pt x="811" y="1353"/>
                  </a:lnTo>
                  <a:lnTo>
                    <a:pt x="799" y="1348"/>
                  </a:lnTo>
                  <a:lnTo>
                    <a:pt x="793" y="1345"/>
                  </a:lnTo>
                  <a:lnTo>
                    <a:pt x="786" y="1341"/>
                  </a:lnTo>
                  <a:lnTo>
                    <a:pt x="780" y="1337"/>
                  </a:lnTo>
                  <a:lnTo>
                    <a:pt x="775" y="1331"/>
                  </a:lnTo>
                  <a:lnTo>
                    <a:pt x="775" y="1309"/>
                  </a:lnTo>
                  <a:lnTo>
                    <a:pt x="773" y="1288"/>
                  </a:lnTo>
                  <a:lnTo>
                    <a:pt x="771" y="1268"/>
                  </a:lnTo>
                  <a:lnTo>
                    <a:pt x="768" y="1249"/>
                  </a:lnTo>
                  <a:lnTo>
                    <a:pt x="763" y="1233"/>
                  </a:lnTo>
                  <a:lnTo>
                    <a:pt x="757" y="1216"/>
                  </a:lnTo>
                  <a:lnTo>
                    <a:pt x="749" y="1201"/>
                  </a:lnTo>
                  <a:lnTo>
                    <a:pt x="740" y="1187"/>
                  </a:lnTo>
                  <a:lnTo>
                    <a:pt x="728" y="1173"/>
                  </a:lnTo>
                  <a:lnTo>
                    <a:pt x="714" y="1160"/>
                  </a:lnTo>
                  <a:lnTo>
                    <a:pt x="698" y="1149"/>
                  </a:lnTo>
                  <a:lnTo>
                    <a:pt x="679" y="1138"/>
                  </a:lnTo>
                  <a:lnTo>
                    <a:pt x="658" y="1128"/>
                  </a:lnTo>
                  <a:lnTo>
                    <a:pt x="633" y="1117"/>
                  </a:lnTo>
                  <a:lnTo>
                    <a:pt x="606" y="1108"/>
                  </a:lnTo>
                  <a:lnTo>
                    <a:pt x="576" y="1098"/>
                  </a:lnTo>
                  <a:lnTo>
                    <a:pt x="546" y="1089"/>
                  </a:lnTo>
                  <a:lnTo>
                    <a:pt x="520" y="1080"/>
                  </a:lnTo>
                  <a:lnTo>
                    <a:pt x="498" y="1069"/>
                  </a:lnTo>
                  <a:lnTo>
                    <a:pt x="478" y="1059"/>
                  </a:lnTo>
                  <a:lnTo>
                    <a:pt x="462" y="1048"/>
                  </a:lnTo>
                  <a:lnTo>
                    <a:pt x="449" y="1037"/>
                  </a:lnTo>
                  <a:lnTo>
                    <a:pt x="437" y="1025"/>
                  </a:lnTo>
                  <a:lnTo>
                    <a:pt x="429" y="1012"/>
                  </a:lnTo>
                  <a:lnTo>
                    <a:pt x="423" y="1000"/>
                  </a:lnTo>
                  <a:lnTo>
                    <a:pt x="418" y="987"/>
                  </a:lnTo>
                  <a:lnTo>
                    <a:pt x="416" y="976"/>
                  </a:lnTo>
                  <a:lnTo>
                    <a:pt x="415" y="963"/>
                  </a:lnTo>
                  <a:lnTo>
                    <a:pt x="415" y="950"/>
                  </a:lnTo>
                  <a:lnTo>
                    <a:pt x="416" y="938"/>
                  </a:lnTo>
                  <a:lnTo>
                    <a:pt x="418" y="926"/>
                  </a:lnTo>
                  <a:lnTo>
                    <a:pt x="421" y="914"/>
                  </a:lnTo>
                  <a:lnTo>
                    <a:pt x="422" y="903"/>
                  </a:lnTo>
                  <a:lnTo>
                    <a:pt x="423" y="894"/>
                  </a:lnTo>
                  <a:lnTo>
                    <a:pt x="421" y="887"/>
                  </a:lnTo>
                  <a:lnTo>
                    <a:pt x="418" y="881"/>
                  </a:lnTo>
                  <a:lnTo>
                    <a:pt x="414" y="875"/>
                  </a:lnTo>
                  <a:lnTo>
                    <a:pt x="408" y="871"/>
                  </a:lnTo>
                  <a:lnTo>
                    <a:pt x="400" y="867"/>
                  </a:lnTo>
                  <a:lnTo>
                    <a:pt x="392" y="864"/>
                  </a:lnTo>
                  <a:lnTo>
                    <a:pt x="345" y="853"/>
                  </a:lnTo>
                  <a:lnTo>
                    <a:pt x="283" y="836"/>
                  </a:lnTo>
                  <a:lnTo>
                    <a:pt x="265" y="830"/>
                  </a:lnTo>
                  <a:lnTo>
                    <a:pt x="248" y="824"/>
                  </a:lnTo>
                  <a:lnTo>
                    <a:pt x="231" y="817"/>
                  </a:lnTo>
                  <a:lnTo>
                    <a:pt x="215" y="809"/>
                  </a:lnTo>
                  <a:lnTo>
                    <a:pt x="201" y="801"/>
                  </a:lnTo>
                  <a:lnTo>
                    <a:pt x="187" y="792"/>
                  </a:lnTo>
                  <a:lnTo>
                    <a:pt x="174" y="783"/>
                  </a:lnTo>
                  <a:lnTo>
                    <a:pt x="161" y="774"/>
                  </a:lnTo>
                  <a:lnTo>
                    <a:pt x="151" y="764"/>
                  </a:lnTo>
                  <a:lnTo>
                    <a:pt x="142" y="754"/>
                  </a:lnTo>
                  <a:lnTo>
                    <a:pt x="132" y="745"/>
                  </a:lnTo>
                  <a:lnTo>
                    <a:pt x="125" y="735"/>
                  </a:lnTo>
                  <a:lnTo>
                    <a:pt x="121" y="726"/>
                  </a:lnTo>
                  <a:lnTo>
                    <a:pt x="116" y="715"/>
                  </a:lnTo>
                  <a:lnTo>
                    <a:pt x="113" y="707"/>
                  </a:lnTo>
                  <a:lnTo>
                    <a:pt x="112" y="698"/>
                  </a:lnTo>
                  <a:lnTo>
                    <a:pt x="111" y="690"/>
                  </a:lnTo>
                  <a:lnTo>
                    <a:pt x="109" y="681"/>
                  </a:lnTo>
                  <a:lnTo>
                    <a:pt x="104" y="673"/>
                  </a:lnTo>
                  <a:lnTo>
                    <a:pt x="97" y="666"/>
                  </a:lnTo>
                  <a:lnTo>
                    <a:pt x="90" y="659"/>
                  </a:lnTo>
                  <a:lnTo>
                    <a:pt x="82" y="653"/>
                  </a:lnTo>
                  <a:lnTo>
                    <a:pt x="74" y="648"/>
                  </a:lnTo>
                  <a:lnTo>
                    <a:pt x="64" y="642"/>
                  </a:lnTo>
                  <a:lnTo>
                    <a:pt x="32" y="625"/>
                  </a:lnTo>
                  <a:lnTo>
                    <a:pt x="18" y="620"/>
                  </a:lnTo>
                  <a:lnTo>
                    <a:pt x="6" y="505"/>
                  </a:lnTo>
                  <a:lnTo>
                    <a:pt x="3" y="505"/>
                  </a:lnTo>
                  <a:lnTo>
                    <a:pt x="1" y="498"/>
                  </a:lnTo>
                  <a:lnTo>
                    <a:pt x="0" y="489"/>
                  </a:lnTo>
                  <a:lnTo>
                    <a:pt x="0" y="478"/>
                  </a:lnTo>
                  <a:lnTo>
                    <a:pt x="0" y="467"/>
                  </a:lnTo>
                  <a:lnTo>
                    <a:pt x="1" y="454"/>
                  </a:lnTo>
                  <a:lnTo>
                    <a:pt x="3" y="441"/>
                  </a:lnTo>
                  <a:lnTo>
                    <a:pt x="5" y="427"/>
                  </a:lnTo>
                  <a:lnTo>
                    <a:pt x="7" y="413"/>
                  </a:lnTo>
                  <a:lnTo>
                    <a:pt x="12" y="400"/>
                  </a:lnTo>
                  <a:lnTo>
                    <a:pt x="17" y="388"/>
                  </a:lnTo>
                  <a:lnTo>
                    <a:pt x="22" y="377"/>
                  </a:lnTo>
                  <a:lnTo>
                    <a:pt x="28" y="367"/>
                  </a:lnTo>
                  <a:lnTo>
                    <a:pt x="32" y="363"/>
                  </a:lnTo>
                  <a:lnTo>
                    <a:pt x="36" y="359"/>
                  </a:lnTo>
                  <a:lnTo>
                    <a:pt x="41" y="356"/>
                  </a:lnTo>
                  <a:lnTo>
                    <a:pt x="45" y="353"/>
                  </a:lnTo>
                  <a:lnTo>
                    <a:pt x="50" y="351"/>
                  </a:lnTo>
                  <a:lnTo>
                    <a:pt x="55" y="350"/>
                  </a:lnTo>
                  <a:lnTo>
                    <a:pt x="61" y="350"/>
                  </a:lnTo>
                  <a:lnTo>
                    <a:pt x="67" y="350"/>
                  </a:lnTo>
                  <a:lnTo>
                    <a:pt x="104" y="281"/>
                  </a:lnTo>
                  <a:lnTo>
                    <a:pt x="97" y="274"/>
                  </a:lnTo>
                  <a:lnTo>
                    <a:pt x="91" y="267"/>
                  </a:lnTo>
                  <a:lnTo>
                    <a:pt x="87" y="259"/>
                  </a:lnTo>
                  <a:lnTo>
                    <a:pt x="84" y="250"/>
                  </a:lnTo>
                  <a:lnTo>
                    <a:pt x="82" y="241"/>
                  </a:lnTo>
                  <a:lnTo>
                    <a:pt x="81" y="232"/>
                  </a:lnTo>
                  <a:lnTo>
                    <a:pt x="82" y="222"/>
                  </a:lnTo>
                  <a:lnTo>
                    <a:pt x="84" y="213"/>
                  </a:lnTo>
                  <a:lnTo>
                    <a:pt x="89" y="204"/>
                  </a:lnTo>
                  <a:lnTo>
                    <a:pt x="95" y="194"/>
                  </a:lnTo>
                  <a:lnTo>
                    <a:pt x="102" y="186"/>
                  </a:lnTo>
                  <a:lnTo>
                    <a:pt x="112" y="178"/>
                  </a:lnTo>
                  <a:lnTo>
                    <a:pt x="124" y="171"/>
                  </a:lnTo>
                  <a:lnTo>
                    <a:pt x="138" y="165"/>
                  </a:lnTo>
                  <a:lnTo>
                    <a:pt x="154" y="160"/>
                  </a:lnTo>
                  <a:lnTo>
                    <a:pt x="173" y="156"/>
                  </a:lnTo>
                  <a:lnTo>
                    <a:pt x="142" y="27"/>
                  </a:lnTo>
                  <a:lnTo>
                    <a:pt x="830" y="0"/>
                  </a:lnTo>
                  <a:lnTo>
                    <a:pt x="852" y="25"/>
                  </a:lnTo>
                  <a:lnTo>
                    <a:pt x="876" y="48"/>
                  </a:lnTo>
                  <a:lnTo>
                    <a:pt x="903" y="72"/>
                  </a:lnTo>
                  <a:lnTo>
                    <a:pt x="930" y="96"/>
                  </a:lnTo>
                  <a:lnTo>
                    <a:pt x="1077" y="629"/>
                  </a:lnTo>
                  <a:lnTo>
                    <a:pt x="1082" y="639"/>
                  </a:lnTo>
                  <a:lnTo>
                    <a:pt x="1088" y="650"/>
                  </a:lnTo>
                  <a:lnTo>
                    <a:pt x="1095" y="660"/>
                  </a:lnTo>
                  <a:lnTo>
                    <a:pt x="1102" y="672"/>
                  </a:lnTo>
                  <a:lnTo>
                    <a:pt x="1119" y="693"/>
                  </a:lnTo>
                  <a:lnTo>
                    <a:pt x="1137" y="715"/>
                  </a:lnTo>
                  <a:lnTo>
                    <a:pt x="1157" y="735"/>
                  </a:lnTo>
                  <a:lnTo>
                    <a:pt x="1175" y="753"/>
                  </a:lnTo>
                  <a:lnTo>
                    <a:pt x="1194" y="769"/>
                  </a:lnTo>
                  <a:lnTo>
                    <a:pt x="1210" y="782"/>
                  </a:lnTo>
                  <a:lnTo>
                    <a:pt x="1188" y="806"/>
                  </a:lnTo>
                  <a:lnTo>
                    <a:pt x="1169" y="831"/>
                  </a:lnTo>
                  <a:lnTo>
                    <a:pt x="1161" y="841"/>
                  </a:lnTo>
                  <a:lnTo>
                    <a:pt x="1154" y="853"/>
                  </a:lnTo>
                  <a:lnTo>
                    <a:pt x="1148" y="865"/>
                  </a:lnTo>
                  <a:lnTo>
                    <a:pt x="1143" y="877"/>
                  </a:lnTo>
                  <a:lnTo>
                    <a:pt x="1138" y="889"/>
                  </a:lnTo>
                  <a:lnTo>
                    <a:pt x="1134" y="902"/>
                  </a:lnTo>
                  <a:lnTo>
                    <a:pt x="1131" y="915"/>
                  </a:lnTo>
                  <a:lnTo>
                    <a:pt x="1127" y="930"/>
                  </a:lnTo>
                  <a:lnTo>
                    <a:pt x="1126" y="945"/>
                  </a:lnTo>
                  <a:lnTo>
                    <a:pt x="1124" y="963"/>
                  </a:lnTo>
                  <a:lnTo>
                    <a:pt x="1124" y="980"/>
                  </a:lnTo>
                  <a:lnTo>
                    <a:pt x="1124" y="1000"/>
                  </a:lnTo>
                  <a:lnTo>
                    <a:pt x="1124" y="1041"/>
                  </a:lnTo>
                  <a:lnTo>
                    <a:pt x="1125" y="1081"/>
                  </a:lnTo>
                  <a:lnTo>
                    <a:pt x="1127" y="1119"/>
                  </a:lnTo>
                  <a:lnTo>
                    <a:pt x="1131" y="1156"/>
                  </a:lnTo>
                  <a:lnTo>
                    <a:pt x="1133" y="1186"/>
                  </a:lnTo>
                  <a:lnTo>
                    <a:pt x="1136" y="1209"/>
                  </a:lnTo>
                  <a:lnTo>
                    <a:pt x="1137" y="1225"/>
                  </a:lnTo>
                  <a:lnTo>
                    <a:pt x="1138" y="1230"/>
                  </a:lnTo>
                  <a:lnTo>
                    <a:pt x="1123" y="1257"/>
                  </a:lnTo>
                  <a:lnTo>
                    <a:pt x="1108" y="1281"/>
                  </a:lnTo>
                  <a:lnTo>
                    <a:pt x="1094" y="1299"/>
                  </a:lnTo>
                  <a:lnTo>
                    <a:pt x="1080" y="1315"/>
                  </a:lnTo>
                  <a:lnTo>
                    <a:pt x="1067" y="1327"/>
                  </a:lnTo>
                  <a:lnTo>
                    <a:pt x="1053" y="1338"/>
                  </a:lnTo>
                  <a:lnTo>
                    <a:pt x="1040" y="1347"/>
                  </a:lnTo>
                  <a:lnTo>
                    <a:pt x="1027" y="1354"/>
                  </a:lnTo>
                  <a:lnTo>
                    <a:pt x="1001" y="1367"/>
                  </a:lnTo>
                  <a:lnTo>
                    <a:pt x="974" y="1380"/>
                  </a:lnTo>
                  <a:lnTo>
                    <a:pt x="960" y="1388"/>
                  </a:lnTo>
                  <a:lnTo>
                    <a:pt x="946" y="1397"/>
                  </a:lnTo>
                  <a:lnTo>
                    <a:pt x="931" y="1409"/>
                  </a:lnTo>
                  <a:lnTo>
                    <a:pt x="916" y="142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2" name="Freeform 123"/>
            <p:cNvSpPr/>
            <p:nvPr/>
          </p:nvSpPr>
          <p:spPr>
            <a:xfrm>
              <a:off x="5737680" y="2507040"/>
              <a:ext cx="531720" cy="644400"/>
            </a:xfrm>
            <a:custGeom>
              <a:avLst/>
              <a:gdLst>
                <a:gd name="textAreaLeft" fmla="*/ 0 w 531720"/>
                <a:gd name="textAreaRight" fmla="*/ 532080 w 531720"/>
                <a:gd name="textAreaTop" fmla="*/ 0 h 644400"/>
                <a:gd name="textAreaBottom" fmla="*/ 644400 h 644400"/>
              </a:gdLst>
              <a:ahLst/>
              <a:rect l="textAreaLeft" t="textAreaTop" r="textAreaRight" b="textAreaBottom"/>
              <a:pathLst>
                <a:path w="1210" h="1423">
                  <a:moveTo>
                    <a:pt x="916" y="1423"/>
                  </a:moveTo>
                  <a:lnTo>
                    <a:pt x="915" y="1406"/>
                  </a:lnTo>
                  <a:lnTo>
                    <a:pt x="912" y="1392"/>
                  </a:lnTo>
                  <a:lnTo>
                    <a:pt x="910" y="1386"/>
                  </a:lnTo>
                  <a:lnTo>
                    <a:pt x="908" y="1381"/>
                  </a:lnTo>
                  <a:lnTo>
                    <a:pt x="905" y="1376"/>
                  </a:lnTo>
                  <a:lnTo>
                    <a:pt x="903" y="1373"/>
                  </a:lnTo>
                  <a:lnTo>
                    <a:pt x="896" y="1367"/>
                  </a:lnTo>
                  <a:lnTo>
                    <a:pt x="888" y="1364"/>
                  </a:lnTo>
                  <a:lnTo>
                    <a:pt x="879" y="1361"/>
                  </a:lnTo>
                  <a:lnTo>
                    <a:pt x="869" y="1360"/>
                  </a:lnTo>
                  <a:lnTo>
                    <a:pt x="847" y="1359"/>
                  </a:lnTo>
                  <a:lnTo>
                    <a:pt x="824" y="1357"/>
                  </a:lnTo>
                  <a:lnTo>
                    <a:pt x="811" y="1353"/>
                  </a:lnTo>
                  <a:lnTo>
                    <a:pt x="799" y="1348"/>
                  </a:lnTo>
                  <a:lnTo>
                    <a:pt x="793" y="1345"/>
                  </a:lnTo>
                  <a:lnTo>
                    <a:pt x="786" y="1341"/>
                  </a:lnTo>
                  <a:lnTo>
                    <a:pt x="780" y="1337"/>
                  </a:lnTo>
                  <a:lnTo>
                    <a:pt x="775" y="1331"/>
                  </a:lnTo>
                  <a:lnTo>
                    <a:pt x="775" y="1309"/>
                  </a:lnTo>
                  <a:lnTo>
                    <a:pt x="773" y="1288"/>
                  </a:lnTo>
                  <a:lnTo>
                    <a:pt x="771" y="1268"/>
                  </a:lnTo>
                  <a:lnTo>
                    <a:pt x="768" y="1249"/>
                  </a:lnTo>
                  <a:lnTo>
                    <a:pt x="763" y="1233"/>
                  </a:lnTo>
                  <a:lnTo>
                    <a:pt x="757" y="1216"/>
                  </a:lnTo>
                  <a:lnTo>
                    <a:pt x="749" y="1201"/>
                  </a:lnTo>
                  <a:lnTo>
                    <a:pt x="740" y="1187"/>
                  </a:lnTo>
                  <a:lnTo>
                    <a:pt x="728" y="1173"/>
                  </a:lnTo>
                  <a:lnTo>
                    <a:pt x="714" y="1160"/>
                  </a:lnTo>
                  <a:lnTo>
                    <a:pt x="698" y="1149"/>
                  </a:lnTo>
                  <a:lnTo>
                    <a:pt x="679" y="1138"/>
                  </a:lnTo>
                  <a:lnTo>
                    <a:pt x="658" y="1128"/>
                  </a:lnTo>
                  <a:lnTo>
                    <a:pt x="633" y="1117"/>
                  </a:lnTo>
                  <a:lnTo>
                    <a:pt x="606" y="1108"/>
                  </a:lnTo>
                  <a:lnTo>
                    <a:pt x="576" y="1098"/>
                  </a:lnTo>
                  <a:lnTo>
                    <a:pt x="546" y="1089"/>
                  </a:lnTo>
                  <a:lnTo>
                    <a:pt x="520" y="1080"/>
                  </a:lnTo>
                  <a:lnTo>
                    <a:pt x="498" y="1069"/>
                  </a:lnTo>
                  <a:lnTo>
                    <a:pt x="478" y="1059"/>
                  </a:lnTo>
                  <a:lnTo>
                    <a:pt x="462" y="1048"/>
                  </a:lnTo>
                  <a:lnTo>
                    <a:pt x="449" y="1037"/>
                  </a:lnTo>
                  <a:lnTo>
                    <a:pt x="437" y="1025"/>
                  </a:lnTo>
                  <a:lnTo>
                    <a:pt x="429" y="1012"/>
                  </a:lnTo>
                  <a:lnTo>
                    <a:pt x="423" y="1000"/>
                  </a:lnTo>
                  <a:lnTo>
                    <a:pt x="418" y="987"/>
                  </a:lnTo>
                  <a:lnTo>
                    <a:pt x="416" y="976"/>
                  </a:lnTo>
                  <a:lnTo>
                    <a:pt x="415" y="963"/>
                  </a:lnTo>
                  <a:lnTo>
                    <a:pt x="415" y="950"/>
                  </a:lnTo>
                  <a:lnTo>
                    <a:pt x="416" y="938"/>
                  </a:lnTo>
                  <a:lnTo>
                    <a:pt x="418" y="926"/>
                  </a:lnTo>
                  <a:lnTo>
                    <a:pt x="421" y="914"/>
                  </a:lnTo>
                  <a:lnTo>
                    <a:pt x="422" y="903"/>
                  </a:lnTo>
                  <a:lnTo>
                    <a:pt x="423" y="894"/>
                  </a:lnTo>
                  <a:lnTo>
                    <a:pt x="421" y="887"/>
                  </a:lnTo>
                  <a:lnTo>
                    <a:pt x="418" y="881"/>
                  </a:lnTo>
                  <a:lnTo>
                    <a:pt x="414" y="875"/>
                  </a:lnTo>
                  <a:lnTo>
                    <a:pt x="408" y="871"/>
                  </a:lnTo>
                  <a:lnTo>
                    <a:pt x="400" y="867"/>
                  </a:lnTo>
                  <a:lnTo>
                    <a:pt x="392" y="864"/>
                  </a:lnTo>
                  <a:lnTo>
                    <a:pt x="345" y="853"/>
                  </a:lnTo>
                  <a:lnTo>
                    <a:pt x="283" y="836"/>
                  </a:lnTo>
                  <a:lnTo>
                    <a:pt x="265" y="830"/>
                  </a:lnTo>
                  <a:lnTo>
                    <a:pt x="248" y="824"/>
                  </a:lnTo>
                  <a:lnTo>
                    <a:pt x="231" y="817"/>
                  </a:lnTo>
                  <a:lnTo>
                    <a:pt x="215" y="809"/>
                  </a:lnTo>
                  <a:lnTo>
                    <a:pt x="201" y="801"/>
                  </a:lnTo>
                  <a:lnTo>
                    <a:pt x="187" y="792"/>
                  </a:lnTo>
                  <a:lnTo>
                    <a:pt x="174" y="783"/>
                  </a:lnTo>
                  <a:lnTo>
                    <a:pt x="161" y="774"/>
                  </a:lnTo>
                  <a:lnTo>
                    <a:pt x="151" y="764"/>
                  </a:lnTo>
                  <a:lnTo>
                    <a:pt x="142" y="754"/>
                  </a:lnTo>
                  <a:lnTo>
                    <a:pt x="132" y="745"/>
                  </a:lnTo>
                  <a:lnTo>
                    <a:pt x="125" y="735"/>
                  </a:lnTo>
                  <a:lnTo>
                    <a:pt x="121" y="726"/>
                  </a:lnTo>
                  <a:lnTo>
                    <a:pt x="116" y="715"/>
                  </a:lnTo>
                  <a:lnTo>
                    <a:pt x="113" y="707"/>
                  </a:lnTo>
                  <a:lnTo>
                    <a:pt x="112" y="698"/>
                  </a:lnTo>
                  <a:lnTo>
                    <a:pt x="111" y="690"/>
                  </a:lnTo>
                  <a:lnTo>
                    <a:pt x="109" y="681"/>
                  </a:lnTo>
                  <a:lnTo>
                    <a:pt x="104" y="673"/>
                  </a:lnTo>
                  <a:lnTo>
                    <a:pt x="97" y="666"/>
                  </a:lnTo>
                  <a:lnTo>
                    <a:pt x="90" y="659"/>
                  </a:lnTo>
                  <a:lnTo>
                    <a:pt x="82" y="653"/>
                  </a:lnTo>
                  <a:lnTo>
                    <a:pt x="74" y="648"/>
                  </a:lnTo>
                  <a:lnTo>
                    <a:pt x="64" y="642"/>
                  </a:lnTo>
                  <a:lnTo>
                    <a:pt x="32" y="625"/>
                  </a:lnTo>
                  <a:lnTo>
                    <a:pt x="18" y="620"/>
                  </a:lnTo>
                  <a:lnTo>
                    <a:pt x="6" y="505"/>
                  </a:lnTo>
                  <a:lnTo>
                    <a:pt x="3" y="505"/>
                  </a:lnTo>
                  <a:lnTo>
                    <a:pt x="1" y="498"/>
                  </a:lnTo>
                  <a:lnTo>
                    <a:pt x="0" y="489"/>
                  </a:lnTo>
                  <a:lnTo>
                    <a:pt x="0" y="478"/>
                  </a:lnTo>
                  <a:lnTo>
                    <a:pt x="0" y="467"/>
                  </a:lnTo>
                  <a:lnTo>
                    <a:pt x="1" y="454"/>
                  </a:lnTo>
                  <a:lnTo>
                    <a:pt x="3" y="441"/>
                  </a:lnTo>
                  <a:lnTo>
                    <a:pt x="5" y="427"/>
                  </a:lnTo>
                  <a:lnTo>
                    <a:pt x="7" y="413"/>
                  </a:lnTo>
                  <a:lnTo>
                    <a:pt x="12" y="400"/>
                  </a:lnTo>
                  <a:lnTo>
                    <a:pt x="17" y="388"/>
                  </a:lnTo>
                  <a:lnTo>
                    <a:pt x="22" y="377"/>
                  </a:lnTo>
                  <a:lnTo>
                    <a:pt x="28" y="367"/>
                  </a:lnTo>
                  <a:lnTo>
                    <a:pt x="32" y="363"/>
                  </a:lnTo>
                  <a:lnTo>
                    <a:pt x="36" y="359"/>
                  </a:lnTo>
                  <a:lnTo>
                    <a:pt x="41" y="356"/>
                  </a:lnTo>
                  <a:lnTo>
                    <a:pt x="45" y="353"/>
                  </a:lnTo>
                  <a:lnTo>
                    <a:pt x="50" y="351"/>
                  </a:lnTo>
                  <a:lnTo>
                    <a:pt x="55" y="350"/>
                  </a:lnTo>
                  <a:lnTo>
                    <a:pt x="61" y="350"/>
                  </a:lnTo>
                  <a:lnTo>
                    <a:pt x="67" y="350"/>
                  </a:lnTo>
                  <a:lnTo>
                    <a:pt x="104" y="281"/>
                  </a:lnTo>
                  <a:lnTo>
                    <a:pt x="97" y="274"/>
                  </a:lnTo>
                  <a:lnTo>
                    <a:pt x="91" y="267"/>
                  </a:lnTo>
                  <a:lnTo>
                    <a:pt x="87" y="259"/>
                  </a:lnTo>
                  <a:lnTo>
                    <a:pt x="84" y="250"/>
                  </a:lnTo>
                  <a:lnTo>
                    <a:pt x="82" y="241"/>
                  </a:lnTo>
                  <a:lnTo>
                    <a:pt x="81" y="232"/>
                  </a:lnTo>
                  <a:lnTo>
                    <a:pt x="82" y="222"/>
                  </a:lnTo>
                  <a:lnTo>
                    <a:pt x="84" y="213"/>
                  </a:lnTo>
                  <a:lnTo>
                    <a:pt x="89" y="204"/>
                  </a:lnTo>
                  <a:lnTo>
                    <a:pt x="95" y="194"/>
                  </a:lnTo>
                  <a:lnTo>
                    <a:pt x="102" y="186"/>
                  </a:lnTo>
                  <a:lnTo>
                    <a:pt x="112" y="178"/>
                  </a:lnTo>
                  <a:lnTo>
                    <a:pt x="124" y="171"/>
                  </a:lnTo>
                  <a:lnTo>
                    <a:pt x="138" y="165"/>
                  </a:lnTo>
                  <a:lnTo>
                    <a:pt x="154" y="160"/>
                  </a:lnTo>
                  <a:lnTo>
                    <a:pt x="173" y="156"/>
                  </a:lnTo>
                  <a:lnTo>
                    <a:pt x="142" y="27"/>
                  </a:lnTo>
                  <a:lnTo>
                    <a:pt x="830" y="0"/>
                  </a:lnTo>
                  <a:lnTo>
                    <a:pt x="852" y="25"/>
                  </a:lnTo>
                  <a:lnTo>
                    <a:pt x="876" y="48"/>
                  </a:lnTo>
                  <a:lnTo>
                    <a:pt x="903" y="72"/>
                  </a:lnTo>
                  <a:lnTo>
                    <a:pt x="930" y="96"/>
                  </a:lnTo>
                  <a:lnTo>
                    <a:pt x="1077" y="629"/>
                  </a:lnTo>
                  <a:lnTo>
                    <a:pt x="1082" y="639"/>
                  </a:lnTo>
                  <a:lnTo>
                    <a:pt x="1088" y="650"/>
                  </a:lnTo>
                  <a:lnTo>
                    <a:pt x="1095" y="660"/>
                  </a:lnTo>
                  <a:lnTo>
                    <a:pt x="1102" y="672"/>
                  </a:lnTo>
                  <a:lnTo>
                    <a:pt x="1119" y="693"/>
                  </a:lnTo>
                  <a:lnTo>
                    <a:pt x="1137" y="715"/>
                  </a:lnTo>
                  <a:lnTo>
                    <a:pt x="1157" y="735"/>
                  </a:lnTo>
                  <a:lnTo>
                    <a:pt x="1175" y="753"/>
                  </a:lnTo>
                  <a:lnTo>
                    <a:pt x="1194" y="769"/>
                  </a:lnTo>
                  <a:lnTo>
                    <a:pt x="1210" y="782"/>
                  </a:lnTo>
                  <a:lnTo>
                    <a:pt x="1188" y="806"/>
                  </a:lnTo>
                  <a:lnTo>
                    <a:pt x="1169" y="831"/>
                  </a:lnTo>
                  <a:lnTo>
                    <a:pt x="1161" y="841"/>
                  </a:lnTo>
                  <a:lnTo>
                    <a:pt x="1154" y="853"/>
                  </a:lnTo>
                  <a:lnTo>
                    <a:pt x="1148" y="865"/>
                  </a:lnTo>
                  <a:lnTo>
                    <a:pt x="1143" y="877"/>
                  </a:lnTo>
                  <a:lnTo>
                    <a:pt x="1138" y="889"/>
                  </a:lnTo>
                  <a:lnTo>
                    <a:pt x="1134" y="902"/>
                  </a:lnTo>
                  <a:lnTo>
                    <a:pt x="1131" y="915"/>
                  </a:lnTo>
                  <a:lnTo>
                    <a:pt x="1127" y="930"/>
                  </a:lnTo>
                  <a:lnTo>
                    <a:pt x="1126" y="945"/>
                  </a:lnTo>
                  <a:lnTo>
                    <a:pt x="1124" y="963"/>
                  </a:lnTo>
                  <a:lnTo>
                    <a:pt x="1124" y="980"/>
                  </a:lnTo>
                  <a:lnTo>
                    <a:pt x="1124" y="1000"/>
                  </a:lnTo>
                  <a:lnTo>
                    <a:pt x="1124" y="1041"/>
                  </a:lnTo>
                  <a:lnTo>
                    <a:pt x="1125" y="1081"/>
                  </a:lnTo>
                  <a:lnTo>
                    <a:pt x="1127" y="1119"/>
                  </a:lnTo>
                  <a:lnTo>
                    <a:pt x="1131" y="1156"/>
                  </a:lnTo>
                  <a:lnTo>
                    <a:pt x="1133" y="1186"/>
                  </a:lnTo>
                  <a:lnTo>
                    <a:pt x="1136" y="1209"/>
                  </a:lnTo>
                  <a:lnTo>
                    <a:pt x="1137" y="1225"/>
                  </a:lnTo>
                  <a:lnTo>
                    <a:pt x="1138" y="1230"/>
                  </a:lnTo>
                  <a:lnTo>
                    <a:pt x="1123" y="1257"/>
                  </a:lnTo>
                  <a:lnTo>
                    <a:pt x="1108" y="1281"/>
                  </a:lnTo>
                  <a:lnTo>
                    <a:pt x="1094" y="1299"/>
                  </a:lnTo>
                  <a:lnTo>
                    <a:pt x="1080" y="1315"/>
                  </a:lnTo>
                  <a:lnTo>
                    <a:pt x="1067" y="1327"/>
                  </a:lnTo>
                  <a:lnTo>
                    <a:pt x="1053" y="1338"/>
                  </a:lnTo>
                  <a:lnTo>
                    <a:pt x="1040" y="1347"/>
                  </a:lnTo>
                  <a:lnTo>
                    <a:pt x="1027" y="1354"/>
                  </a:lnTo>
                  <a:lnTo>
                    <a:pt x="1001" y="1367"/>
                  </a:lnTo>
                  <a:lnTo>
                    <a:pt x="974" y="1380"/>
                  </a:lnTo>
                  <a:lnTo>
                    <a:pt x="960" y="1388"/>
                  </a:lnTo>
                  <a:lnTo>
                    <a:pt x="946" y="1397"/>
                  </a:lnTo>
                  <a:lnTo>
                    <a:pt x="931" y="1409"/>
                  </a:lnTo>
                  <a:lnTo>
                    <a:pt x="916" y="1423"/>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3" name="Freeform 124"/>
            <p:cNvSpPr/>
            <p:nvPr/>
          </p:nvSpPr>
          <p:spPr>
            <a:xfrm>
              <a:off x="6940080" y="2538720"/>
              <a:ext cx="411120" cy="419760"/>
            </a:xfrm>
            <a:custGeom>
              <a:avLst/>
              <a:gdLst>
                <a:gd name="textAreaLeft" fmla="*/ 0 w 411120"/>
                <a:gd name="textAreaRight" fmla="*/ 411480 w 411120"/>
                <a:gd name="textAreaTop" fmla="*/ 0 h 419760"/>
                <a:gd name="textAreaBottom" fmla="*/ 420120 h 419760"/>
              </a:gdLst>
              <a:ahLst/>
              <a:rect l="textAreaLeft" t="textAreaTop" r="textAreaRight" b="textAreaBottom"/>
              <a:pathLst>
                <a:path w="932" h="925">
                  <a:moveTo>
                    <a:pt x="10" y="740"/>
                  </a:moveTo>
                  <a:lnTo>
                    <a:pt x="6" y="735"/>
                  </a:lnTo>
                  <a:lnTo>
                    <a:pt x="2" y="729"/>
                  </a:lnTo>
                  <a:lnTo>
                    <a:pt x="1" y="723"/>
                  </a:lnTo>
                  <a:lnTo>
                    <a:pt x="0" y="717"/>
                  </a:lnTo>
                  <a:lnTo>
                    <a:pt x="2" y="704"/>
                  </a:lnTo>
                  <a:lnTo>
                    <a:pt x="7" y="690"/>
                  </a:lnTo>
                  <a:lnTo>
                    <a:pt x="11" y="674"/>
                  </a:lnTo>
                  <a:lnTo>
                    <a:pt x="17" y="654"/>
                  </a:lnTo>
                  <a:lnTo>
                    <a:pt x="18" y="642"/>
                  </a:lnTo>
                  <a:lnTo>
                    <a:pt x="20" y="631"/>
                  </a:lnTo>
                  <a:lnTo>
                    <a:pt x="20" y="617"/>
                  </a:lnTo>
                  <a:lnTo>
                    <a:pt x="18" y="601"/>
                  </a:lnTo>
                  <a:lnTo>
                    <a:pt x="32" y="598"/>
                  </a:lnTo>
                  <a:lnTo>
                    <a:pt x="44" y="593"/>
                  </a:lnTo>
                  <a:lnTo>
                    <a:pt x="54" y="589"/>
                  </a:lnTo>
                  <a:lnTo>
                    <a:pt x="62" y="582"/>
                  </a:lnTo>
                  <a:lnTo>
                    <a:pt x="68" y="573"/>
                  </a:lnTo>
                  <a:lnTo>
                    <a:pt x="72" y="564"/>
                  </a:lnTo>
                  <a:lnTo>
                    <a:pt x="76" y="555"/>
                  </a:lnTo>
                  <a:lnTo>
                    <a:pt x="78" y="544"/>
                  </a:lnTo>
                  <a:lnTo>
                    <a:pt x="79" y="534"/>
                  </a:lnTo>
                  <a:lnTo>
                    <a:pt x="80" y="522"/>
                  </a:lnTo>
                  <a:lnTo>
                    <a:pt x="80" y="510"/>
                  </a:lnTo>
                  <a:lnTo>
                    <a:pt x="79" y="497"/>
                  </a:lnTo>
                  <a:lnTo>
                    <a:pt x="77" y="472"/>
                  </a:lnTo>
                  <a:lnTo>
                    <a:pt x="73" y="446"/>
                  </a:lnTo>
                  <a:lnTo>
                    <a:pt x="92" y="434"/>
                  </a:lnTo>
                  <a:lnTo>
                    <a:pt x="105" y="425"/>
                  </a:lnTo>
                  <a:lnTo>
                    <a:pt x="110" y="422"/>
                  </a:lnTo>
                  <a:lnTo>
                    <a:pt x="113" y="418"/>
                  </a:lnTo>
                  <a:lnTo>
                    <a:pt x="117" y="413"/>
                  </a:lnTo>
                  <a:lnTo>
                    <a:pt x="119" y="409"/>
                  </a:lnTo>
                  <a:lnTo>
                    <a:pt x="127" y="383"/>
                  </a:lnTo>
                  <a:lnTo>
                    <a:pt x="142" y="332"/>
                  </a:lnTo>
                  <a:lnTo>
                    <a:pt x="149" y="308"/>
                  </a:lnTo>
                  <a:lnTo>
                    <a:pt x="154" y="290"/>
                  </a:lnTo>
                  <a:lnTo>
                    <a:pt x="157" y="272"/>
                  </a:lnTo>
                  <a:lnTo>
                    <a:pt x="157" y="257"/>
                  </a:lnTo>
                  <a:lnTo>
                    <a:pt x="157" y="244"/>
                  </a:lnTo>
                  <a:lnTo>
                    <a:pt x="155" y="232"/>
                  </a:lnTo>
                  <a:lnTo>
                    <a:pt x="152" y="221"/>
                  </a:lnTo>
                  <a:lnTo>
                    <a:pt x="147" y="211"/>
                  </a:lnTo>
                  <a:lnTo>
                    <a:pt x="136" y="193"/>
                  </a:lnTo>
                  <a:lnTo>
                    <a:pt x="122" y="174"/>
                  </a:lnTo>
                  <a:lnTo>
                    <a:pt x="117" y="163"/>
                  </a:lnTo>
                  <a:lnTo>
                    <a:pt x="110" y="152"/>
                  </a:lnTo>
                  <a:lnTo>
                    <a:pt x="103" y="139"/>
                  </a:lnTo>
                  <a:lnTo>
                    <a:pt x="97" y="124"/>
                  </a:lnTo>
                  <a:lnTo>
                    <a:pt x="91" y="109"/>
                  </a:lnTo>
                  <a:lnTo>
                    <a:pt x="87" y="95"/>
                  </a:lnTo>
                  <a:lnTo>
                    <a:pt x="86" y="82"/>
                  </a:lnTo>
                  <a:lnTo>
                    <a:pt x="85" y="71"/>
                  </a:lnTo>
                  <a:lnTo>
                    <a:pt x="85" y="62"/>
                  </a:lnTo>
                  <a:lnTo>
                    <a:pt x="86" y="52"/>
                  </a:lnTo>
                  <a:lnTo>
                    <a:pt x="87" y="45"/>
                  </a:lnTo>
                  <a:lnTo>
                    <a:pt x="90" y="38"/>
                  </a:lnTo>
                  <a:lnTo>
                    <a:pt x="94" y="27"/>
                  </a:lnTo>
                  <a:lnTo>
                    <a:pt x="98" y="16"/>
                  </a:lnTo>
                  <a:lnTo>
                    <a:pt x="99" y="13"/>
                  </a:lnTo>
                  <a:lnTo>
                    <a:pt x="99" y="8"/>
                  </a:lnTo>
                  <a:lnTo>
                    <a:pt x="98" y="5"/>
                  </a:lnTo>
                  <a:lnTo>
                    <a:pt x="97" y="0"/>
                  </a:lnTo>
                  <a:lnTo>
                    <a:pt x="106" y="5"/>
                  </a:lnTo>
                  <a:lnTo>
                    <a:pt x="114" y="10"/>
                  </a:lnTo>
                  <a:lnTo>
                    <a:pt x="120" y="16"/>
                  </a:lnTo>
                  <a:lnTo>
                    <a:pt x="126" y="22"/>
                  </a:lnTo>
                  <a:lnTo>
                    <a:pt x="136" y="36"/>
                  </a:lnTo>
                  <a:lnTo>
                    <a:pt x="146" y="50"/>
                  </a:lnTo>
                  <a:lnTo>
                    <a:pt x="150" y="57"/>
                  </a:lnTo>
                  <a:lnTo>
                    <a:pt x="155" y="63"/>
                  </a:lnTo>
                  <a:lnTo>
                    <a:pt x="161" y="69"/>
                  </a:lnTo>
                  <a:lnTo>
                    <a:pt x="168" y="73"/>
                  </a:lnTo>
                  <a:lnTo>
                    <a:pt x="176" y="78"/>
                  </a:lnTo>
                  <a:lnTo>
                    <a:pt x="187" y="80"/>
                  </a:lnTo>
                  <a:lnTo>
                    <a:pt x="198" y="83"/>
                  </a:lnTo>
                  <a:lnTo>
                    <a:pt x="211" y="83"/>
                  </a:lnTo>
                  <a:lnTo>
                    <a:pt x="218" y="84"/>
                  </a:lnTo>
                  <a:lnTo>
                    <a:pt x="224" y="84"/>
                  </a:lnTo>
                  <a:lnTo>
                    <a:pt x="229" y="85"/>
                  </a:lnTo>
                  <a:lnTo>
                    <a:pt x="233" y="87"/>
                  </a:lnTo>
                  <a:lnTo>
                    <a:pt x="237" y="90"/>
                  </a:lnTo>
                  <a:lnTo>
                    <a:pt x="239" y="92"/>
                  </a:lnTo>
                  <a:lnTo>
                    <a:pt x="242" y="95"/>
                  </a:lnTo>
                  <a:lnTo>
                    <a:pt x="243" y="98"/>
                  </a:lnTo>
                  <a:lnTo>
                    <a:pt x="245" y="106"/>
                  </a:lnTo>
                  <a:lnTo>
                    <a:pt x="245" y="116"/>
                  </a:lnTo>
                  <a:lnTo>
                    <a:pt x="244" y="127"/>
                  </a:lnTo>
                  <a:lnTo>
                    <a:pt x="243" y="139"/>
                  </a:lnTo>
                  <a:lnTo>
                    <a:pt x="242" y="153"/>
                  </a:lnTo>
                  <a:lnTo>
                    <a:pt x="242" y="167"/>
                  </a:lnTo>
                  <a:lnTo>
                    <a:pt x="242" y="182"/>
                  </a:lnTo>
                  <a:lnTo>
                    <a:pt x="243" y="198"/>
                  </a:lnTo>
                  <a:lnTo>
                    <a:pt x="246" y="216"/>
                  </a:lnTo>
                  <a:lnTo>
                    <a:pt x="253" y="234"/>
                  </a:lnTo>
                  <a:lnTo>
                    <a:pt x="257" y="243"/>
                  </a:lnTo>
                  <a:lnTo>
                    <a:pt x="263" y="252"/>
                  </a:lnTo>
                  <a:lnTo>
                    <a:pt x="268" y="262"/>
                  </a:lnTo>
                  <a:lnTo>
                    <a:pt x="275" y="271"/>
                  </a:lnTo>
                  <a:lnTo>
                    <a:pt x="288" y="271"/>
                  </a:lnTo>
                  <a:lnTo>
                    <a:pt x="302" y="271"/>
                  </a:lnTo>
                  <a:lnTo>
                    <a:pt x="316" y="271"/>
                  </a:lnTo>
                  <a:lnTo>
                    <a:pt x="330" y="270"/>
                  </a:lnTo>
                  <a:lnTo>
                    <a:pt x="361" y="265"/>
                  </a:lnTo>
                  <a:lnTo>
                    <a:pt x="393" y="259"/>
                  </a:lnTo>
                  <a:lnTo>
                    <a:pt x="426" y="252"/>
                  </a:lnTo>
                  <a:lnTo>
                    <a:pt x="462" y="245"/>
                  </a:lnTo>
                  <a:lnTo>
                    <a:pt x="499" y="237"/>
                  </a:lnTo>
                  <a:lnTo>
                    <a:pt x="537" y="230"/>
                  </a:lnTo>
                  <a:lnTo>
                    <a:pt x="559" y="262"/>
                  </a:lnTo>
                  <a:lnTo>
                    <a:pt x="579" y="285"/>
                  </a:lnTo>
                  <a:lnTo>
                    <a:pt x="587" y="293"/>
                  </a:lnTo>
                  <a:lnTo>
                    <a:pt x="596" y="301"/>
                  </a:lnTo>
                  <a:lnTo>
                    <a:pt x="604" y="306"/>
                  </a:lnTo>
                  <a:lnTo>
                    <a:pt x="611" y="311"/>
                  </a:lnTo>
                  <a:lnTo>
                    <a:pt x="617" y="314"/>
                  </a:lnTo>
                  <a:lnTo>
                    <a:pt x="622" y="315"/>
                  </a:lnTo>
                  <a:lnTo>
                    <a:pt x="628" y="316"/>
                  </a:lnTo>
                  <a:lnTo>
                    <a:pt x="634" y="316"/>
                  </a:lnTo>
                  <a:lnTo>
                    <a:pt x="640" y="315"/>
                  </a:lnTo>
                  <a:lnTo>
                    <a:pt x="645" y="313"/>
                  </a:lnTo>
                  <a:lnTo>
                    <a:pt x="649" y="309"/>
                  </a:lnTo>
                  <a:lnTo>
                    <a:pt x="654" y="307"/>
                  </a:lnTo>
                  <a:lnTo>
                    <a:pt x="674" y="290"/>
                  </a:lnTo>
                  <a:lnTo>
                    <a:pt x="697" y="270"/>
                  </a:lnTo>
                  <a:lnTo>
                    <a:pt x="704" y="266"/>
                  </a:lnTo>
                  <a:lnTo>
                    <a:pt x="711" y="262"/>
                  </a:lnTo>
                  <a:lnTo>
                    <a:pt x="719" y="258"/>
                  </a:lnTo>
                  <a:lnTo>
                    <a:pt x="728" y="256"/>
                  </a:lnTo>
                  <a:lnTo>
                    <a:pt x="736" y="253"/>
                  </a:lnTo>
                  <a:lnTo>
                    <a:pt x="746" y="252"/>
                  </a:lnTo>
                  <a:lnTo>
                    <a:pt x="757" y="252"/>
                  </a:lnTo>
                  <a:lnTo>
                    <a:pt x="767" y="253"/>
                  </a:lnTo>
                  <a:lnTo>
                    <a:pt x="807" y="258"/>
                  </a:lnTo>
                  <a:lnTo>
                    <a:pt x="834" y="260"/>
                  </a:lnTo>
                  <a:lnTo>
                    <a:pt x="854" y="262"/>
                  </a:lnTo>
                  <a:lnTo>
                    <a:pt x="867" y="260"/>
                  </a:lnTo>
                  <a:lnTo>
                    <a:pt x="878" y="260"/>
                  </a:lnTo>
                  <a:lnTo>
                    <a:pt x="891" y="259"/>
                  </a:lnTo>
                  <a:lnTo>
                    <a:pt x="907" y="260"/>
                  </a:lnTo>
                  <a:lnTo>
                    <a:pt x="932" y="262"/>
                  </a:lnTo>
                  <a:lnTo>
                    <a:pt x="924" y="270"/>
                  </a:lnTo>
                  <a:lnTo>
                    <a:pt x="916" y="280"/>
                  </a:lnTo>
                  <a:lnTo>
                    <a:pt x="907" y="293"/>
                  </a:lnTo>
                  <a:lnTo>
                    <a:pt x="898" y="308"/>
                  </a:lnTo>
                  <a:lnTo>
                    <a:pt x="878" y="343"/>
                  </a:lnTo>
                  <a:lnTo>
                    <a:pt x="858" y="382"/>
                  </a:lnTo>
                  <a:lnTo>
                    <a:pt x="836" y="423"/>
                  </a:lnTo>
                  <a:lnTo>
                    <a:pt x="814" y="462"/>
                  </a:lnTo>
                  <a:lnTo>
                    <a:pt x="802" y="480"/>
                  </a:lnTo>
                  <a:lnTo>
                    <a:pt x="791" y="496"/>
                  </a:lnTo>
                  <a:lnTo>
                    <a:pt x="779" y="512"/>
                  </a:lnTo>
                  <a:lnTo>
                    <a:pt x="767" y="524"/>
                  </a:lnTo>
                  <a:lnTo>
                    <a:pt x="763" y="530"/>
                  </a:lnTo>
                  <a:lnTo>
                    <a:pt x="758" y="538"/>
                  </a:lnTo>
                  <a:lnTo>
                    <a:pt x="753" y="547"/>
                  </a:lnTo>
                  <a:lnTo>
                    <a:pt x="750" y="556"/>
                  </a:lnTo>
                  <a:lnTo>
                    <a:pt x="744" y="577"/>
                  </a:lnTo>
                  <a:lnTo>
                    <a:pt x="738" y="600"/>
                  </a:lnTo>
                  <a:lnTo>
                    <a:pt x="731" y="652"/>
                  </a:lnTo>
                  <a:lnTo>
                    <a:pt x="724" y="708"/>
                  </a:lnTo>
                  <a:lnTo>
                    <a:pt x="719" y="736"/>
                  </a:lnTo>
                  <a:lnTo>
                    <a:pt x="713" y="764"/>
                  </a:lnTo>
                  <a:lnTo>
                    <a:pt x="710" y="777"/>
                  </a:lnTo>
                  <a:lnTo>
                    <a:pt x="706" y="790"/>
                  </a:lnTo>
                  <a:lnTo>
                    <a:pt x="702" y="802"/>
                  </a:lnTo>
                  <a:lnTo>
                    <a:pt x="697" y="814"/>
                  </a:lnTo>
                  <a:lnTo>
                    <a:pt x="691" y="825"/>
                  </a:lnTo>
                  <a:lnTo>
                    <a:pt x="684" y="835"/>
                  </a:lnTo>
                  <a:lnTo>
                    <a:pt x="677" y="846"/>
                  </a:lnTo>
                  <a:lnTo>
                    <a:pt x="670" y="855"/>
                  </a:lnTo>
                  <a:lnTo>
                    <a:pt x="661" y="863"/>
                  </a:lnTo>
                  <a:lnTo>
                    <a:pt x="652" y="870"/>
                  </a:lnTo>
                  <a:lnTo>
                    <a:pt x="641" y="876"/>
                  </a:lnTo>
                  <a:lnTo>
                    <a:pt x="629" y="881"/>
                  </a:lnTo>
                  <a:lnTo>
                    <a:pt x="597" y="891"/>
                  </a:lnTo>
                  <a:lnTo>
                    <a:pt x="566" y="900"/>
                  </a:lnTo>
                  <a:lnTo>
                    <a:pt x="537" y="907"/>
                  </a:lnTo>
                  <a:lnTo>
                    <a:pt x="509" y="913"/>
                  </a:lnTo>
                  <a:lnTo>
                    <a:pt x="482" y="918"/>
                  </a:lnTo>
                  <a:lnTo>
                    <a:pt x="458" y="922"/>
                  </a:lnTo>
                  <a:lnTo>
                    <a:pt x="433" y="924"/>
                  </a:lnTo>
                  <a:lnTo>
                    <a:pt x="410" y="925"/>
                  </a:lnTo>
                  <a:lnTo>
                    <a:pt x="388" y="925"/>
                  </a:lnTo>
                  <a:lnTo>
                    <a:pt x="367" y="924"/>
                  </a:lnTo>
                  <a:lnTo>
                    <a:pt x="347" y="922"/>
                  </a:lnTo>
                  <a:lnTo>
                    <a:pt x="328" y="919"/>
                  </a:lnTo>
                  <a:lnTo>
                    <a:pt x="309" y="916"/>
                  </a:lnTo>
                  <a:lnTo>
                    <a:pt x="292" y="912"/>
                  </a:lnTo>
                  <a:lnTo>
                    <a:pt x="275" y="907"/>
                  </a:lnTo>
                  <a:lnTo>
                    <a:pt x="260" y="903"/>
                  </a:lnTo>
                  <a:lnTo>
                    <a:pt x="231" y="892"/>
                  </a:lnTo>
                  <a:lnTo>
                    <a:pt x="205" y="882"/>
                  </a:lnTo>
                  <a:lnTo>
                    <a:pt x="181" y="871"/>
                  </a:lnTo>
                  <a:lnTo>
                    <a:pt x="160" y="861"/>
                  </a:lnTo>
                  <a:lnTo>
                    <a:pt x="140" y="851"/>
                  </a:lnTo>
                  <a:lnTo>
                    <a:pt x="121" y="846"/>
                  </a:lnTo>
                  <a:lnTo>
                    <a:pt x="113" y="843"/>
                  </a:lnTo>
                  <a:lnTo>
                    <a:pt x="104" y="841"/>
                  </a:lnTo>
                  <a:lnTo>
                    <a:pt x="96" y="841"/>
                  </a:lnTo>
                  <a:lnTo>
                    <a:pt x="87" y="841"/>
                  </a:lnTo>
                  <a:lnTo>
                    <a:pt x="73" y="839"/>
                  </a:lnTo>
                  <a:lnTo>
                    <a:pt x="61" y="835"/>
                  </a:lnTo>
                  <a:lnTo>
                    <a:pt x="50" y="830"/>
                  </a:lnTo>
                  <a:lnTo>
                    <a:pt x="39" y="825"/>
                  </a:lnTo>
                  <a:lnTo>
                    <a:pt x="30" y="819"/>
                  </a:lnTo>
                  <a:lnTo>
                    <a:pt x="23" y="812"/>
                  </a:lnTo>
                  <a:lnTo>
                    <a:pt x="16" y="804"/>
                  </a:lnTo>
                  <a:lnTo>
                    <a:pt x="11" y="795"/>
                  </a:lnTo>
                  <a:lnTo>
                    <a:pt x="7" y="788"/>
                  </a:lnTo>
                  <a:lnTo>
                    <a:pt x="4" y="780"/>
                  </a:lnTo>
                  <a:lnTo>
                    <a:pt x="2" y="772"/>
                  </a:lnTo>
                  <a:lnTo>
                    <a:pt x="1" y="764"/>
                  </a:lnTo>
                  <a:lnTo>
                    <a:pt x="2" y="757"/>
                  </a:lnTo>
                  <a:lnTo>
                    <a:pt x="3" y="751"/>
                  </a:lnTo>
                  <a:lnTo>
                    <a:pt x="6" y="745"/>
                  </a:lnTo>
                  <a:lnTo>
                    <a:pt x="10" y="74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4" name="Freeform 125"/>
            <p:cNvSpPr/>
            <p:nvPr/>
          </p:nvSpPr>
          <p:spPr>
            <a:xfrm>
              <a:off x="6940080" y="2538720"/>
              <a:ext cx="411120" cy="419760"/>
            </a:xfrm>
            <a:custGeom>
              <a:avLst/>
              <a:gdLst>
                <a:gd name="textAreaLeft" fmla="*/ 0 w 411120"/>
                <a:gd name="textAreaRight" fmla="*/ 411480 w 411120"/>
                <a:gd name="textAreaTop" fmla="*/ 0 h 419760"/>
                <a:gd name="textAreaBottom" fmla="*/ 420120 h 419760"/>
              </a:gdLst>
              <a:ahLst/>
              <a:rect l="textAreaLeft" t="textAreaTop" r="textAreaRight" b="textAreaBottom"/>
              <a:pathLst>
                <a:path w="932" h="925">
                  <a:moveTo>
                    <a:pt x="10" y="740"/>
                  </a:moveTo>
                  <a:lnTo>
                    <a:pt x="6" y="735"/>
                  </a:lnTo>
                  <a:lnTo>
                    <a:pt x="2" y="729"/>
                  </a:lnTo>
                  <a:lnTo>
                    <a:pt x="1" y="723"/>
                  </a:lnTo>
                  <a:lnTo>
                    <a:pt x="0" y="717"/>
                  </a:lnTo>
                  <a:lnTo>
                    <a:pt x="2" y="704"/>
                  </a:lnTo>
                  <a:lnTo>
                    <a:pt x="7" y="690"/>
                  </a:lnTo>
                  <a:lnTo>
                    <a:pt x="11" y="674"/>
                  </a:lnTo>
                  <a:lnTo>
                    <a:pt x="17" y="654"/>
                  </a:lnTo>
                  <a:lnTo>
                    <a:pt x="18" y="642"/>
                  </a:lnTo>
                  <a:lnTo>
                    <a:pt x="20" y="631"/>
                  </a:lnTo>
                  <a:lnTo>
                    <a:pt x="20" y="617"/>
                  </a:lnTo>
                  <a:lnTo>
                    <a:pt x="18" y="601"/>
                  </a:lnTo>
                  <a:lnTo>
                    <a:pt x="32" y="598"/>
                  </a:lnTo>
                  <a:lnTo>
                    <a:pt x="44" y="593"/>
                  </a:lnTo>
                  <a:lnTo>
                    <a:pt x="54" y="589"/>
                  </a:lnTo>
                  <a:lnTo>
                    <a:pt x="62" y="582"/>
                  </a:lnTo>
                  <a:lnTo>
                    <a:pt x="68" y="573"/>
                  </a:lnTo>
                  <a:lnTo>
                    <a:pt x="72" y="564"/>
                  </a:lnTo>
                  <a:lnTo>
                    <a:pt x="76" y="555"/>
                  </a:lnTo>
                  <a:lnTo>
                    <a:pt x="78" y="544"/>
                  </a:lnTo>
                  <a:lnTo>
                    <a:pt x="79" y="534"/>
                  </a:lnTo>
                  <a:lnTo>
                    <a:pt x="80" y="522"/>
                  </a:lnTo>
                  <a:lnTo>
                    <a:pt x="80" y="510"/>
                  </a:lnTo>
                  <a:lnTo>
                    <a:pt x="79" y="497"/>
                  </a:lnTo>
                  <a:lnTo>
                    <a:pt x="77" y="472"/>
                  </a:lnTo>
                  <a:lnTo>
                    <a:pt x="73" y="446"/>
                  </a:lnTo>
                  <a:lnTo>
                    <a:pt x="92" y="434"/>
                  </a:lnTo>
                  <a:lnTo>
                    <a:pt x="105" y="425"/>
                  </a:lnTo>
                  <a:lnTo>
                    <a:pt x="110" y="422"/>
                  </a:lnTo>
                  <a:lnTo>
                    <a:pt x="113" y="418"/>
                  </a:lnTo>
                  <a:lnTo>
                    <a:pt x="117" y="413"/>
                  </a:lnTo>
                  <a:lnTo>
                    <a:pt x="119" y="409"/>
                  </a:lnTo>
                  <a:lnTo>
                    <a:pt x="127" y="383"/>
                  </a:lnTo>
                  <a:lnTo>
                    <a:pt x="142" y="332"/>
                  </a:lnTo>
                  <a:lnTo>
                    <a:pt x="149" y="308"/>
                  </a:lnTo>
                  <a:lnTo>
                    <a:pt x="154" y="290"/>
                  </a:lnTo>
                  <a:lnTo>
                    <a:pt x="157" y="272"/>
                  </a:lnTo>
                  <a:lnTo>
                    <a:pt x="157" y="257"/>
                  </a:lnTo>
                  <a:lnTo>
                    <a:pt x="157" y="244"/>
                  </a:lnTo>
                  <a:lnTo>
                    <a:pt x="155" y="232"/>
                  </a:lnTo>
                  <a:lnTo>
                    <a:pt x="152" y="221"/>
                  </a:lnTo>
                  <a:lnTo>
                    <a:pt x="147" y="211"/>
                  </a:lnTo>
                  <a:lnTo>
                    <a:pt x="136" y="193"/>
                  </a:lnTo>
                  <a:lnTo>
                    <a:pt x="122" y="174"/>
                  </a:lnTo>
                  <a:lnTo>
                    <a:pt x="117" y="163"/>
                  </a:lnTo>
                  <a:lnTo>
                    <a:pt x="110" y="152"/>
                  </a:lnTo>
                  <a:lnTo>
                    <a:pt x="103" y="139"/>
                  </a:lnTo>
                  <a:lnTo>
                    <a:pt x="97" y="124"/>
                  </a:lnTo>
                  <a:lnTo>
                    <a:pt x="91" y="109"/>
                  </a:lnTo>
                  <a:lnTo>
                    <a:pt x="87" y="95"/>
                  </a:lnTo>
                  <a:lnTo>
                    <a:pt x="86" y="82"/>
                  </a:lnTo>
                  <a:lnTo>
                    <a:pt x="85" y="71"/>
                  </a:lnTo>
                  <a:lnTo>
                    <a:pt x="85" y="62"/>
                  </a:lnTo>
                  <a:lnTo>
                    <a:pt x="86" y="52"/>
                  </a:lnTo>
                  <a:lnTo>
                    <a:pt x="87" y="45"/>
                  </a:lnTo>
                  <a:lnTo>
                    <a:pt x="90" y="38"/>
                  </a:lnTo>
                  <a:lnTo>
                    <a:pt x="94" y="27"/>
                  </a:lnTo>
                  <a:lnTo>
                    <a:pt x="98" y="16"/>
                  </a:lnTo>
                  <a:lnTo>
                    <a:pt x="99" y="13"/>
                  </a:lnTo>
                  <a:lnTo>
                    <a:pt x="99" y="8"/>
                  </a:lnTo>
                  <a:lnTo>
                    <a:pt x="98" y="5"/>
                  </a:lnTo>
                  <a:lnTo>
                    <a:pt x="97" y="0"/>
                  </a:lnTo>
                  <a:lnTo>
                    <a:pt x="106" y="5"/>
                  </a:lnTo>
                  <a:lnTo>
                    <a:pt x="114" y="10"/>
                  </a:lnTo>
                  <a:lnTo>
                    <a:pt x="120" y="16"/>
                  </a:lnTo>
                  <a:lnTo>
                    <a:pt x="126" y="22"/>
                  </a:lnTo>
                  <a:lnTo>
                    <a:pt x="136" y="36"/>
                  </a:lnTo>
                  <a:lnTo>
                    <a:pt x="146" y="50"/>
                  </a:lnTo>
                  <a:lnTo>
                    <a:pt x="150" y="57"/>
                  </a:lnTo>
                  <a:lnTo>
                    <a:pt x="155" y="63"/>
                  </a:lnTo>
                  <a:lnTo>
                    <a:pt x="161" y="69"/>
                  </a:lnTo>
                  <a:lnTo>
                    <a:pt x="168" y="73"/>
                  </a:lnTo>
                  <a:lnTo>
                    <a:pt x="176" y="78"/>
                  </a:lnTo>
                  <a:lnTo>
                    <a:pt x="187" y="80"/>
                  </a:lnTo>
                  <a:lnTo>
                    <a:pt x="198" y="83"/>
                  </a:lnTo>
                  <a:lnTo>
                    <a:pt x="211" y="83"/>
                  </a:lnTo>
                  <a:lnTo>
                    <a:pt x="218" y="84"/>
                  </a:lnTo>
                  <a:lnTo>
                    <a:pt x="224" y="84"/>
                  </a:lnTo>
                  <a:lnTo>
                    <a:pt x="229" y="85"/>
                  </a:lnTo>
                  <a:lnTo>
                    <a:pt x="233" y="87"/>
                  </a:lnTo>
                  <a:lnTo>
                    <a:pt x="237" y="90"/>
                  </a:lnTo>
                  <a:lnTo>
                    <a:pt x="239" y="92"/>
                  </a:lnTo>
                  <a:lnTo>
                    <a:pt x="242" y="95"/>
                  </a:lnTo>
                  <a:lnTo>
                    <a:pt x="243" y="98"/>
                  </a:lnTo>
                  <a:lnTo>
                    <a:pt x="245" y="106"/>
                  </a:lnTo>
                  <a:lnTo>
                    <a:pt x="245" y="116"/>
                  </a:lnTo>
                  <a:lnTo>
                    <a:pt x="244" y="127"/>
                  </a:lnTo>
                  <a:lnTo>
                    <a:pt x="243" y="139"/>
                  </a:lnTo>
                  <a:lnTo>
                    <a:pt x="242" y="153"/>
                  </a:lnTo>
                  <a:lnTo>
                    <a:pt x="242" y="167"/>
                  </a:lnTo>
                  <a:lnTo>
                    <a:pt x="242" y="182"/>
                  </a:lnTo>
                  <a:lnTo>
                    <a:pt x="243" y="198"/>
                  </a:lnTo>
                  <a:lnTo>
                    <a:pt x="246" y="216"/>
                  </a:lnTo>
                  <a:lnTo>
                    <a:pt x="253" y="234"/>
                  </a:lnTo>
                  <a:lnTo>
                    <a:pt x="257" y="243"/>
                  </a:lnTo>
                  <a:lnTo>
                    <a:pt x="263" y="252"/>
                  </a:lnTo>
                  <a:lnTo>
                    <a:pt x="268" y="262"/>
                  </a:lnTo>
                  <a:lnTo>
                    <a:pt x="275" y="271"/>
                  </a:lnTo>
                  <a:lnTo>
                    <a:pt x="288" y="271"/>
                  </a:lnTo>
                  <a:lnTo>
                    <a:pt x="302" y="271"/>
                  </a:lnTo>
                  <a:lnTo>
                    <a:pt x="316" y="271"/>
                  </a:lnTo>
                  <a:lnTo>
                    <a:pt x="330" y="270"/>
                  </a:lnTo>
                  <a:lnTo>
                    <a:pt x="361" y="265"/>
                  </a:lnTo>
                  <a:lnTo>
                    <a:pt x="393" y="259"/>
                  </a:lnTo>
                  <a:lnTo>
                    <a:pt x="426" y="252"/>
                  </a:lnTo>
                  <a:lnTo>
                    <a:pt x="462" y="245"/>
                  </a:lnTo>
                  <a:lnTo>
                    <a:pt x="499" y="237"/>
                  </a:lnTo>
                  <a:lnTo>
                    <a:pt x="537" y="230"/>
                  </a:lnTo>
                  <a:lnTo>
                    <a:pt x="559" y="262"/>
                  </a:lnTo>
                  <a:lnTo>
                    <a:pt x="579" y="285"/>
                  </a:lnTo>
                  <a:lnTo>
                    <a:pt x="587" y="293"/>
                  </a:lnTo>
                  <a:lnTo>
                    <a:pt x="596" y="301"/>
                  </a:lnTo>
                  <a:lnTo>
                    <a:pt x="604" y="306"/>
                  </a:lnTo>
                  <a:lnTo>
                    <a:pt x="611" y="311"/>
                  </a:lnTo>
                  <a:lnTo>
                    <a:pt x="617" y="314"/>
                  </a:lnTo>
                  <a:lnTo>
                    <a:pt x="622" y="315"/>
                  </a:lnTo>
                  <a:lnTo>
                    <a:pt x="628" y="316"/>
                  </a:lnTo>
                  <a:lnTo>
                    <a:pt x="634" y="316"/>
                  </a:lnTo>
                  <a:lnTo>
                    <a:pt x="640" y="315"/>
                  </a:lnTo>
                  <a:lnTo>
                    <a:pt x="645" y="313"/>
                  </a:lnTo>
                  <a:lnTo>
                    <a:pt x="649" y="309"/>
                  </a:lnTo>
                  <a:lnTo>
                    <a:pt x="654" y="307"/>
                  </a:lnTo>
                  <a:lnTo>
                    <a:pt x="674" y="290"/>
                  </a:lnTo>
                  <a:lnTo>
                    <a:pt x="697" y="270"/>
                  </a:lnTo>
                  <a:lnTo>
                    <a:pt x="704" y="266"/>
                  </a:lnTo>
                  <a:lnTo>
                    <a:pt x="711" y="262"/>
                  </a:lnTo>
                  <a:lnTo>
                    <a:pt x="719" y="258"/>
                  </a:lnTo>
                  <a:lnTo>
                    <a:pt x="728" y="256"/>
                  </a:lnTo>
                  <a:lnTo>
                    <a:pt x="736" y="253"/>
                  </a:lnTo>
                  <a:lnTo>
                    <a:pt x="746" y="252"/>
                  </a:lnTo>
                  <a:lnTo>
                    <a:pt x="757" y="252"/>
                  </a:lnTo>
                  <a:lnTo>
                    <a:pt x="767" y="253"/>
                  </a:lnTo>
                  <a:lnTo>
                    <a:pt x="807" y="258"/>
                  </a:lnTo>
                  <a:lnTo>
                    <a:pt x="834" y="260"/>
                  </a:lnTo>
                  <a:lnTo>
                    <a:pt x="854" y="262"/>
                  </a:lnTo>
                  <a:lnTo>
                    <a:pt x="867" y="260"/>
                  </a:lnTo>
                  <a:lnTo>
                    <a:pt x="878" y="260"/>
                  </a:lnTo>
                  <a:lnTo>
                    <a:pt x="891" y="259"/>
                  </a:lnTo>
                  <a:lnTo>
                    <a:pt x="907" y="260"/>
                  </a:lnTo>
                  <a:lnTo>
                    <a:pt x="932" y="262"/>
                  </a:lnTo>
                  <a:lnTo>
                    <a:pt x="924" y="270"/>
                  </a:lnTo>
                  <a:lnTo>
                    <a:pt x="916" y="280"/>
                  </a:lnTo>
                  <a:lnTo>
                    <a:pt x="907" y="293"/>
                  </a:lnTo>
                  <a:lnTo>
                    <a:pt x="898" y="308"/>
                  </a:lnTo>
                  <a:lnTo>
                    <a:pt x="878" y="343"/>
                  </a:lnTo>
                  <a:lnTo>
                    <a:pt x="858" y="382"/>
                  </a:lnTo>
                  <a:lnTo>
                    <a:pt x="836" y="423"/>
                  </a:lnTo>
                  <a:lnTo>
                    <a:pt x="814" y="462"/>
                  </a:lnTo>
                  <a:lnTo>
                    <a:pt x="802" y="480"/>
                  </a:lnTo>
                  <a:lnTo>
                    <a:pt x="791" y="496"/>
                  </a:lnTo>
                  <a:lnTo>
                    <a:pt x="779" y="512"/>
                  </a:lnTo>
                  <a:lnTo>
                    <a:pt x="767" y="524"/>
                  </a:lnTo>
                  <a:lnTo>
                    <a:pt x="763" y="530"/>
                  </a:lnTo>
                  <a:lnTo>
                    <a:pt x="758" y="538"/>
                  </a:lnTo>
                  <a:lnTo>
                    <a:pt x="753" y="547"/>
                  </a:lnTo>
                  <a:lnTo>
                    <a:pt x="750" y="556"/>
                  </a:lnTo>
                  <a:lnTo>
                    <a:pt x="744" y="577"/>
                  </a:lnTo>
                  <a:lnTo>
                    <a:pt x="738" y="600"/>
                  </a:lnTo>
                  <a:lnTo>
                    <a:pt x="731" y="652"/>
                  </a:lnTo>
                  <a:lnTo>
                    <a:pt x="724" y="708"/>
                  </a:lnTo>
                  <a:lnTo>
                    <a:pt x="719" y="736"/>
                  </a:lnTo>
                  <a:lnTo>
                    <a:pt x="713" y="764"/>
                  </a:lnTo>
                  <a:lnTo>
                    <a:pt x="710" y="777"/>
                  </a:lnTo>
                  <a:lnTo>
                    <a:pt x="706" y="790"/>
                  </a:lnTo>
                  <a:lnTo>
                    <a:pt x="702" y="802"/>
                  </a:lnTo>
                  <a:lnTo>
                    <a:pt x="697" y="814"/>
                  </a:lnTo>
                  <a:lnTo>
                    <a:pt x="691" y="825"/>
                  </a:lnTo>
                  <a:lnTo>
                    <a:pt x="684" y="835"/>
                  </a:lnTo>
                  <a:lnTo>
                    <a:pt x="677" y="846"/>
                  </a:lnTo>
                  <a:lnTo>
                    <a:pt x="670" y="855"/>
                  </a:lnTo>
                  <a:lnTo>
                    <a:pt x="661" y="863"/>
                  </a:lnTo>
                  <a:lnTo>
                    <a:pt x="652" y="870"/>
                  </a:lnTo>
                  <a:lnTo>
                    <a:pt x="641" y="876"/>
                  </a:lnTo>
                  <a:lnTo>
                    <a:pt x="629" y="881"/>
                  </a:lnTo>
                  <a:lnTo>
                    <a:pt x="597" y="891"/>
                  </a:lnTo>
                  <a:lnTo>
                    <a:pt x="566" y="900"/>
                  </a:lnTo>
                  <a:lnTo>
                    <a:pt x="537" y="907"/>
                  </a:lnTo>
                  <a:lnTo>
                    <a:pt x="509" y="913"/>
                  </a:lnTo>
                  <a:lnTo>
                    <a:pt x="482" y="918"/>
                  </a:lnTo>
                  <a:lnTo>
                    <a:pt x="458" y="922"/>
                  </a:lnTo>
                  <a:lnTo>
                    <a:pt x="433" y="924"/>
                  </a:lnTo>
                  <a:lnTo>
                    <a:pt x="410" y="925"/>
                  </a:lnTo>
                  <a:lnTo>
                    <a:pt x="388" y="925"/>
                  </a:lnTo>
                  <a:lnTo>
                    <a:pt x="367" y="924"/>
                  </a:lnTo>
                  <a:lnTo>
                    <a:pt x="347" y="922"/>
                  </a:lnTo>
                  <a:lnTo>
                    <a:pt x="328" y="919"/>
                  </a:lnTo>
                  <a:lnTo>
                    <a:pt x="309" y="916"/>
                  </a:lnTo>
                  <a:lnTo>
                    <a:pt x="292" y="912"/>
                  </a:lnTo>
                  <a:lnTo>
                    <a:pt x="275" y="907"/>
                  </a:lnTo>
                  <a:lnTo>
                    <a:pt x="260" y="903"/>
                  </a:lnTo>
                  <a:lnTo>
                    <a:pt x="231" y="892"/>
                  </a:lnTo>
                  <a:lnTo>
                    <a:pt x="205" y="882"/>
                  </a:lnTo>
                  <a:lnTo>
                    <a:pt x="181" y="871"/>
                  </a:lnTo>
                  <a:lnTo>
                    <a:pt x="160" y="861"/>
                  </a:lnTo>
                  <a:lnTo>
                    <a:pt x="140" y="851"/>
                  </a:lnTo>
                  <a:lnTo>
                    <a:pt x="121" y="846"/>
                  </a:lnTo>
                  <a:lnTo>
                    <a:pt x="113" y="843"/>
                  </a:lnTo>
                  <a:lnTo>
                    <a:pt x="104" y="841"/>
                  </a:lnTo>
                  <a:lnTo>
                    <a:pt x="96" y="841"/>
                  </a:lnTo>
                  <a:lnTo>
                    <a:pt x="87" y="841"/>
                  </a:lnTo>
                  <a:lnTo>
                    <a:pt x="73" y="839"/>
                  </a:lnTo>
                  <a:lnTo>
                    <a:pt x="61" y="835"/>
                  </a:lnTo>
                  <a:lnTo>
                    <a:pt x="50" y="830"/>
                  </a:lnTo>
                  <a:lnTo>
                    <a:pt x="39" y="825"/>
                  </a:lnTo>
                  <a:lnTo>
                    <a:pt x="30" y="819"/>
                  </a:lnTo>
                  <a:lnTo>
                    <a:pt x="23" y="812"/>
                  </a:lnTo>
                  <a:lnTo>
                    <a:pt x="16" y="804"/>
                  </a:lnTo>
                  <a:lnTo>
                    <a:pt x="11" y="795"/>
                  </a:lnTo>
                  <a:lnTo>
                    <a:pt x="7" y="788"/>
                  </a:lnTo>
                  <a:lnTo>
                    <a:pt x="4" y="780"/>
                  </a:lnTo>
                  <a:lnTo>
                    <a:pt x="2" y="772"/>
                  </a:lnTo>
                  <a:lnTo>
                    <a:pt x="1" y="764"/>
                  </a:lnTo>
                  <a:lnTo>
                    <a:pt x="2" y="757"/>
                  </a:lnTo>
                  <a:lnTo>
                    <a:pt x="3" y="751"/>
                  </a:lnTo>
                  <a:lnTo>
                    <a:pt x="6" y="745"/>
                  </a:lnTo>
                  <a:lnTo>
                    <a:pt x="10" y="74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5" name="Freeform 126"/>
            <p:cNvSpPr/>
            <p:nvPr/>
          </p:nvSpPr>
          <p:spPr>
            <a:xfrm>
              <a:off x="6936120" y="2350080"/>
              <a:ext cx="689400" cy="311400"/>
            </a:xfrm>
            <a:custGeom>
              <a:avLst/>
              <a:gdLst>
                <a:gd name="textAreaLeft" fmla="*/ 0 w 689400"/>
                <a:gd name="textAreaRight" fmla="*/ 689760 w 689400"/>
                <a:gd name="textAreaTop" fmla="*/ 0 h 311400"/>
                <a:gd name="textAreaBottom" fmla="*/ 311400 h 311400"/>
              </a:gdLst>
              <a:ahLst/>
              <a:rect l="textAreaLeft" t="textAreaTop" r="textAreaRight" b="textAreaBottom"/>
              <a:pathLst>
                <a:path w="1568" h="689">
                  <a:moveTo>
                    <a:pt x="548" y="648"/>
                  </a:moveTo>
                  <a:lnTo>
                    <a:pt x="508" y="655"/>
                  </a:lnTo>
                  <a:lnTo>
                    <a:pt x="471" y="663"/>
                  </a:lnTo>
                  <a:lnTo>
                    <a:pt x="435" y="670"/>
                  </a:lnTo>
                  <a:lnTo>
                    <a:pt x="402" y="677"/>
                  </a:lnTo>
                  <a:lnTo>
                    <a:pt x="371" y="683"/>
                  </a:lnTo>
                  <a:lnTo>
                    <a:pt x="340" y="688"/>
                  </a:lnTo>
                  <a:lnTo>
                    <a:pt x="326" y="689"/>
                  </a:lnTo>
                  <a:lnTo>
                    <a:pt x="312" y="689"/>
                  </a:lnTo>
                  <a:lnTo>
                    <a:pt x="299" y="689"/>
                  </a:lnTo>
                  <a:lnTo>
                    <a:pt x="286" y="689"/>
                  </a:lnTo>
                  <a:lnTo>
                    <a:pt x="279" y="680"/>
                  </a:lnTo>
                  <a:lnTo>
                    <a:pt x="274" y="670"/>
                  </a:lnTo>
                  <a:lnTo>
                    <a:pt x="268" y="661"/>
                  </a:lnTo>
                  <a:lnTo>
                    <a:pt x="264" y="652"/>
                  </a:lnTo>
                  <a:lnTo>
                    <a:pt x="257" y="634"/>
                  </a:lnTo>
                  <a:lnTo>
                    <a:pt x="254" y="616"/>
                  </a:lnTo>
                  <a:lnTo>
                    <a:pt x="253" y="600"/>
                  </a:lnTo>
                  <a:lnTo>
                    <a:pt x="253" y="585"/>
                  </a:lnTo>
                  <a:lnTo>
                    <a:pt x="253" y="571"/>
                  </a:lnTo>
                  <a:lnTo>
                    <a:pt x="254" y="557"/>
                  </a:lnTo>
                  <a:lnTo>
                    <a:pt x="255" y="545"/>
                  </a:lnTo>
                  <a:lnTo>
                    <a:pt x="256" y="534"/>
                  </a:lnTo>
                  <a:lnTo>
                    <a:pt x="256" y="524"/>
                  </a:lnTo>
                  <a:lnTo>
                    <a:pt x="254" y="516"/>
                  </a:lnTo>
                  <a:lnTo>
                    <a:pt x="253" y="513"/>
                  </a:lnTo>
                  <a:lnTo>
                    <a:pt x="250" y="510"/>
                  </a:lnTo>
                  <a:lnTo>
                    <a:pt x="248" y="508"/>
                  </a:lnTo>
                  <a:lnTo>
                    <a:pt x="244" y="505"/>
                  </a:lnTo>
                  <a:lnTo>
                    <a:pt x="240" y="503"/>
                  </a:lnTo>
                  <a:lnTo>
                    <a:pt x="235" y="502"/>
                  </a:lnTo>
                  <a:lnTo>
                    <a:pt x="229" y="502"/>
                  </a:lnTo>
                  <a:lnTo>
                    <a:pt x="222" y="501"/>
                  </a:lnTo>
                  <a:lnTo>
                    <a:pt x="209" y="501"/>
                  </a:lnTo>
                  <a:lnTo>
                    <a:pt x="198" y="498"/>
                  </a:lnTo>
                  <a:lnTo>
                    <a:pt x="187" y="496"/>
                  </a:lnTo>
                  <a:lnTo>
                    <a:pt x="179" y="491"/>
                  </a:lnTo>
                  <a:lnTo>
                    <a:pt x="172" y="487"/>
                  </a:lnTo>
                  <a:lnTo>
                    <a:pt x="166" y="481"/>
                  </a:lnTo>
                  <a:lnTo>
                    <a:pt x="161" y="475"/>
                  </a:lnTo>
                  <a:lnTo>
                    <a:pt x="157" y="468"/>
                  </a:lnTo>
                  <a:lnTo>
                    <a:pt x="147" y="454"/>
                  </a:lnTo>
                  <a:lnTo>
                    <a:pt x="137" y="440"/>
                  </a:lnTo>
                  <a:lnTo>
                    <a:pt x="131" y="434"/>
                  </a:lnTo>
                  <a:lnTo>
                    <a:pt x="125" y="428"/>
                  </a:lnTo>
                  <a:lnTo>
                    <a:pt x="117" y="423"/>
                  </a:lnTo>
                  <a:lnTo>
                    <a:pt x="108" y="418"/>
                  </a:lnTo>
                  <a:lnTo>
                    <a:pt x="90" y="391"/>
                  </a:lnTo>
                  <a:lnTo>
                    <a:pt x="77" y="369"/>
                  </a:lnTo>
                  <a:lnTo>
                    <a:pt x="68" y="349"/>
                  </a:lnTo>
                  <a:lnTo>
                    <a:pt x="60" y="331"/>
                  </a:lnTo>
                  <a:lnTo>
                    <a:pt x="55" y="317"/>
                  </a:lnTo>
                  <a:lnTo>
                    <a:pt x="52" y="303"/>
                  </a:lnTo>
                  <a:lnTo>
                    <a:pt x="50" y="291"/>
                  </a:lnTo>
                  <a:lnTo>
                    <a:pt x="48" y="279"/>
                  </a:lnTo>
                  <a:lnTo>
                    <a:pt x="47" y="266"/>
                  </a:lnTo>
                  <a:lnTo>
                    <a:pt x="46" y="253"/>
                  </a:lnTo>
                  <a:lnTo>
                    <a:pt x="43" y="239"/>
                  </a:lnTo>
                  <a:lnTo>
                    <a:pt x="40" y="223"/>
                  </a:lnTo>
                  <a:lnTo>
                    <a:pt x="34" y="204"/>
                  </a:lnTo>
                  <a:lnTo>
                    <a:pt x="26" y="182"/>
                  </a:lnTo>
                  <a:lnTo>
                    <a:pt x="15" y="156"/>
                  </a:lnTo>
                  <a:lnTo>
                    <a:pt x="0" y="127"/>
                  </a:lnTo>
                  <a:lnTo>
                    <a:pt x="18" y="114"/>
                  </a:lnTo>
                  <a:lnTo>
                    <a:pt x="33" y="100"/>
                  </a:lnTo>
                  <a:lnTo>
                    <a:pt x="49" y="87"/>
                  </a:lnTo>
                  <a:lnTo>
                    <a:pt x="65" y="72"/>
                  </a:lnTo>
                  <a:lnTo>
                    <a:pt x="73" y="139"/>
                  </a:lnTo>
                  <a:lnTo>
                    <a:pt x="83" y="138"/>
                  </a:lnTo>
                  <a:lnTo>
                    <a:pt x="111" y="134"/>
                  </a:lnTo>
                  <a:lnTo>
                    <a:pt x="154" y="129"/>
                  </a:lnTo>
                  <a:lnTo>
                    <a:pt x="212" y="122"/>
                  </a:lnTo>
                  <a:lnTo>
                    <a:pt x="281" y="114"/>
                  </a:lnTo>
                  <a:lnTo>
                    <a:pt x="357" y="105"/>
                  </a:lnTo>
                  <a:lnTo>
                    <a:pt x="439" y="96"/>
                  </a:lnTo>
                  <a:lnTo>
                    <a:pt x="526" y="85"/>
                  </a:lnTo>
                  <a:lnTo>
                    <a:pt x="612" y="74"/>
                  </a:lnTo>
                  <a:lnTo>
                    <a:pt x="699" y="64"/>
                  </a:lnTo>
                  <a:lnTo>
                    <a:pt x="779" y="53"/>
                  </a:lnTo>
                  <a:lnTo>
                    <a:pt x="855" y="44"/>
                  </a:lnTo>
                  <a:lnTo>
                    <a:pt x="922" y="35"/>
                  </a:lnTo>
                  <a:lnTo>
                    <a:pt x="977" y="27"/>
                  </a:lnTo>
                  <a:lnTo>
                    <a:pt x="1018" y="20"/>
                  </a:lnTo>
                  <a:lnTo>
                    <a:pt x="1043" y="15"/>
                  </a:lnTo>
                  <a:lnTo>
                    <a:pt x="1071" y="8"/>
                  </a:lnTo>
                  <a:lnTo>
                    <a:pt x="1094" y="4"/>
                  </a:lnTo>
                  <a:lnTo>
                    <a:pt x="1111" y="3"/>
                  </a:lnTo>
                  <a:lnTo>
                    <a:pt x="1126" y="4"/>
                  </a:lnTo>
                  <a:lnTo>
                    <a:pt x="1139" y="6"/>
                  </a:lnTo>
                  <a:lnTo>
                    <a:pt x="1152" y="6"/>
                  </a:lnTo>
                  <a:lnTo>
                    <a:pt x="1166" y="4"/>
                  </a:lnTo>
                  <a:lnTo>
                    <a:pt x="1181" y="0"/>
                  </a:lnTo>
                  <a:lnTo>
                    <a:pt x="1366" y="84"/>
                  </a:lnTo>
                  <a:lnTo>
                    <a:pt x="1358" y="92"/>
                  </a:lnTo>
                  <a:lnTo>
                    <a:pt x="1352" y="99"/>
                  </a:lnTo>
                  <a:lnTo>
                    <a:pt x="1347" y="106"/>
                  </a:lnTo>
                  <a:lnTo>
                    <a:pt x="1345" y="113"/>
                  </a:lnTo>
                  <a:lnTo>
                    <a:pt x="1344" y="120"/>
                  </a:lnTo>
                  <a:lnTo>
                    <a:pt x="1345" y="127"/>
                  </a:lnTo>
                  <a:lnTo>
                    <a:pt x="1347" y="133"/>
                  </a:lnTo>
                  <a:lnTo>
                    <a:pt x="1351" y="140"/>
                  </a:lnTo>
                  <a:lnTo>
                    <a:pt x="1355" y="146"/>
                  </a:lnTo>
                  <a:lnTo>
                    <a:pt x="1361" y="152"/>
                  </a:lnTo>
                  <a:lnTo>
                    <a:pt x="1369" y="157"/>
                  </a:lnTo>
                  <a:lnTo>
                    <a:pt x="1377" y="163"/>
                  </a:lnTo>
                  <a:lnTo>
                    <a:pt x="1396" y="175"/>
                  </a:lnTo>
                  <a:lnTo>
                    <a:pt x="1417" y="187"/>
                  </a:lnTo>
                  <a:lnTo>
                    <a:pt x="1439" y="199"/>
                  </a:lnTo>
                  <a:lnTo>
                    <a:pt x="1463" y="213"/>
                  </a:lnTo>
                  <a:lnTo>
                    <a:pt x="1486" y="227"/>
                  </a:lnTo>
                  <a:lnTo>
                    <a:pt x="1508" y="243"/>
                  </a:lnTo>
                  <a:lnTo>
                    <a:pt x="1519" y="251"/>
                  </a:lnTo>
                  <a:lnTo>
                    <a:pt x="1528" y="260"/>
                  </a:lnTo>
                  <a:lnTo>
                    <a:pt x="1538" y="270"/>
                  </a:lnTo>
                  <a:lnTo>
                    <a:pt x="1546" y="279"/>
                  </a:lnTo>
                  <a:lnTo>
                    <a:pt x="1553" y="289"/>
                  </a:lnTo>
                  <a:lnTo>
                    <a:pt x="1559" y="300"/>
                  </a:lnTo>
                  <a:lnTo>
                    <a:pt x="1564" y="310"/>
                  </a:lnTo>
                  <a:lnTo>
                    <a:pt x="1568" y="323"/>
                  </a:lnTo>
                  <a:lnTo>
                    <a:pt x="1567" y="362"/>
                  </a:lnTo>
                  <a:lnTo>
                    <a:pt x="1563" y="393"/>
                  </a:lnTo>
                  <a:lnTo>
                    <a:pt x="1560" y="416"/>
                  </a:lnTo>
                  <a:lnTo>
                    <a:pt x="1559" y="424"/>
                  </a:lnTo>
                  <a:lnTo>
                    <a:pt x="1548" y="426"/>
                  </a:lnTo>
                  <a:lnTo>
                    <a:pt x="1539" y="428"/>
                  </a:lnTo>
                  <a:lnTo>
                    <a:pt x="1529" y="432"/>
                  </a:lnTo>
                  <a:lnTo>
                    <a:pt x="1521" y="435"/>
                  </a:lnTo>
                  <a:lnTo>
                    <a:pt x="1514" y="439"/>
                  </a:lnTo>
                  <a:lnTo>
                    <a:pt x="1508" y="444"/>
                  </a:lnTo>
                  <a:lnTo>
                    <a:pt x="1502" y="449"/>
                  </a:lnTo>
                  <a:lnTo>
                    <a:pt x="1499" y="455"/>
                  </a:lnTo>
                  <a:lnTo>
                    <a:pt x="1494" y="461"/>
                  </a:lnTo>
                  <a:lnTo>
                    <a:pt x="1492" y="467"/>
                  </a:lnTo>
                  <a:lnTo>
                    <a:pt x="1490" y="474"/>
                  </a:lnTo>
                  <a:lnTo>
                    <a:pt x="1488" y="481"/>
                  </a:lnTo>
                  <a:lnTo>
                    <a:pt x="1487" y="488"/>
                  </a:lnTo>
                  <a:lnTo>
                    <a:pt x="1487" y="495"/>
                  </a:lnTo>
                  <a:lnTo>
                    <a:pt x="1488" y="502"/>
                  </a:lnTo>
                  <a:lnTo>
                    <a:pt x="1490" y="510"/>
                  </a:lnTo>
                  <a:lnTo>
                    <a:pt x="548" y="64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6" name="Freeform 127"/>
            <p:cNvSpPr/>
            <p:nvPr/>
          </p:nvSpPr>
          <p:spPr>
            <a:xfrm>
              <a:off x="6936120" y="2350080"/>
              <a:ext cx="689400" cy="311400"/>
            </a:xfrm>
            <a:custGeom>
              <a:avLst/>
              <a:gdLst>
                <a:gd name="textAreaLeft" fmla="*/ 0 w 689400"/>
                <a:gd name="textAreaRight" fmla="*/ 689760 w 689400"/>
                <a:gd name="textAreaTop" fmla="*/ 0 h 311400"/>
                <a:gd name="textAreaBottom" fmla="*/ 311400 h 311400"/>
              </a:gdLst>
              <a:ahLst/>
              <a:rect l="textAreaLeft" t="textAreaTop" r="textAreaRight" b="textAreaBottom"/>
              <a:pathLst>
                <a:path w="1568" h="689">
                  <a:moveTo>
                    <a:pt x="548" y="648"/>
                  </a:moveTo>
                  <a:lnTo>
                    <a:pt x="508" y="655"/>
                  </a:lnTo>
                  <a:lnTo>
                    <a:pt x="471" y="663"/>
                  </a:lnTo>
                  <a:lnTo>
                    <a:pt x="435" y="670"/>
                  </a:lnTo>
                  <a:lnTo>
                    <a:pt x="402" y="677"/>
                  </a:lnTo>
                  <a:lnTo>
                    <a:pt x="371" y="683"/>
                  </a:lnTo>
                  <a:lnTo>
                    <a:pt x="340" y="688"/>
                  </a:lnTo>
                  <a:lnTo>
                    <a:pt x="326" y="689"/>
                  </a:lnTo>
                  <a:lnTo>
                    <a:pt x="312" y="689"/>
                  </a:lnTo>
                  <a:lnTo>
                    <a:pt x="299" y="689"/>
                  </a:lnTo>
                  <a:lnTo>
                    <a:pt x="286" y="689"/>
                  </a:lnTo>
                  <a:lnTo>
                    <a:pt x="279" y="680"/>
                  </a:lnTo>
                  <a:lnTo>
                    <a:pt x="274" y="670"/>
                  </a:lnTo>
                  <a:lnTo>
                    <a:pt x="268" y="661"/>
                  </a:lnTo>
                  <a:lnTo>
                    <a:pt x="264" y="652"/>
                  </a:lnTo>
                  <a:lnTo>
                    <a:pt x="257" y="634"/>
                  </a:lnTo>
                  <a:lnTo>
                    <a:pt x="254" y="616"/>
                  </a:lnTo>
                  <a:lnTo>
                    <a:pt x="253" y="600"/>
                  </a:lnTo>
                  <a:lnTo>
                    <a:pt x="253" y="585"/>
                  </a:lnTo>
                  <a:lnTo>
                    <a:pt x="253" y="571"/>
                  </a:lnTo>
                  <a:lnTo>
                    <a:pt x="254" y="557"/>
                  </a:lnTo>
                  <a:lnTo>
                    <a:pt x="255" y="545"/>
                  </a:lnTo>
                  <a:lnTo>
                    <a:pt x="256" y="534"/>
                  </a:lnTo>
                  <a:lnTo>
                    <a:pt x="256" y="524"/>
                  </a:lnTo>
                  <a:lnTo>
                    <a:pt x="254" y="516"/>
                  </a:lnTo>
                  <a:lnTo>
                    <a:pt x="253" y="513"/>
                  </a:lnTo>
                  <a:lnTo>
                    <a:pt x="250" y="510"/>
                  </a:lnTo>
                  <a:lnTo>
                    <a:pt x="248" y="508"/>
                  </a:lnTo>
                  <a:lnTo>
                    <a:pt x="244" y="505"/>
                  </a:lnTo>
                  <a:lnTo>
                    <a:pt x="240" y="503"/>
                  </a:lnTo>
                  <a:lnTo>
                    <a:pt x="235" y="502"/>
                  </a:lnTo>
                  <a:lnTo>
                    <a:pt x="229" y="502"/>
                  </a:lnTo>
                  <a:lnTo>
                    <a:pt x="222" y="501"/>
                  </a:lnTo>
                  <a:lnTo>
                    <a:pt x="209" y="501"/>
                  </a:lnTo>
                  <a:lnTo>
                    <a:pt x="198" y="498"/>
                  </a:lnTo>
                  <a:lnTo>
                    <a:pt x="187" y="496"/>
                  </a:lnTo>
                  <a:lnTo>
                    <a:pt x="179" y="491"/>
                  </a:lnTo>
                  <a:lnTo>
                    <a:pt x="172" y="487"/>
                  </a:lnTo>
                  <a:lnTo>
                    <a:pt x="166" y="481"/>
                  </a:lnTo>
                  <a:lnTo>
                    <a:pt x="161" y="475"/>
                  </a:lnTo>
                  <a:lnTo>
                    <a:pt x="157" y="468"/>
                  </a:lnTo>
                  <a:lnTo>
                    <a:pt x="147" y="454"/>
                  </a:lnTo>
                  <a:lnTo>
                    <a:pt x="137" y="440"/>
                  </a:lnTo>
                  <a:lnTo>
                    <a:pt x="131" y="434"/>
                  </a:lnTo>
                  <a:lnTo>
                    <a:pt x="125" y="428"/>
                  </a:lnTo>
                  <a:lnTo>
                    <a:pt x="117" y="423"/>
                  </a:lnTo>
                  <a:lnTo>
                    <a:pt x="108" y="418"/>
                  </a:lnTo>
                  <a:lnTo>
                    <a:pt x="90" y="391"/>
                  </a:lnTo>
                  <a:lnTo>
                    <a:pt x="77" y="369"/>
                  </a:lnTo>
                  <a:lnTo>
                    <a:pt x="68" y="349"/>
                  </a:lnTo>
                  <a:lnTo>
                    <a:pt x="60" y="331"/>
                  </a:lnTo>
                  <a:lnTo>
                    <a:pt x="55" y="317"/>
                  </a:lnTo>
                  <a:lnTo>
                    <a:pt x="52" y="303"/>
                  </a:lnTo>
                  <a:lnTo>
                    <a:pt x="50" y="291"/>
                  </a:lnTo>
                  <a:lnTo>
                    <a:pt x="48" y="279"/>
                  </a:lnTo>
                  <a:lnTo>
                    <a:pt x="47" y="266"/>
                  </a:lnTo>
                  <a:lnTo>
                    <a:pt x="46" y="253"/>
                  </a:lnTo>
                  <a:lnTo>
                    <a:pt x="43" y="239"/>
                  </a:lnTo>
                  <a:lnTo>
                    <a:pt x="40" y="223"/>
                  </a:lnTo>
                  <a:lnTo>
                    <a:pt x="34" y="204"/>
                  </a:lnTo>
                  <a:lnTo>
                    <a:pt x="26" y="182"/>
                  </a:lnTo>
                  <a:lnTo>
                    <a:pt x="15" y="156"/>
                  </a:lnTo>
                  <a:lnTo>
                    <a:pt x="0" y="127"/>
                  </a:lnTo>
                  <a:lnTo>
                    <a:pt x="18" y="114"/>
                  </a:lnTo>
                  <a:lnTo>
                    <a:pt x="33" y="100"/>
                  </a:lnTo>
                  <a:lnTo>
                    <a:pt x="49" y="87"/>
                  </a:lnTo>
                  <a:lnTo>
                    <a:pt x="65" y="72"/>
                  </a:lnTo>
                  <a:lnTo>
                    <a:pt x="73" y="139"/>
                  </a:lnTo>
                  <a:lnTo>
                    <a:pt x="83" y="138"/>
                  </a:lnTo>
                  <a:lnTo>
                    <a:pt x="111" y="134"/>
                  </a:lnTo>
                  <a:lnTo>
                    <a:pt x="154" y="129"/>
                  </a:lnTo>
                  <a:lnTo>
                    <a:pt x="212" y="122"/>
                  </a:lnTo>
                  <a:lnTo>
                    <a:pt x="281" y="114"/>
                  </a:lnTo>
                  <a:lnTo>
                    <a:pt x="357" y="105"/>
                  </a:lnTo>
                  <a:lnTo>
                    <a:pt x="439" y="96"/>
                  </a:lnTo>
                  <a:lnTo>
                    <a:pt x="526" y="85"/>
                  </a:lnTo>
                  <a:lnTo>
                    <a:pt x="612" y="74"/>
                  </a:lnTo>
                  <a:lnTo>
                    <a:pt x="699" y="64"/>
                  </a:lnTo>
                  <a:lnTo>
                    <a:pt x="779" y="53"/>
                  </a:lnTo>
                  <a:lnTo>
                    <a:pt x="855" y="44"/>
                  </a:lnTo>
                  <a:lnTo>
                    <a:pt x="922" y="35"/>
                  </a:lnTo>
                  <a:lnTo>
                    <a:pt x="977" y="27"/>
                  </a:lnTo>
                  <a:lnTo>
                    <a:pt x="1018" y="20"/>
                  </a:lnTo>
                  <a:lnTo>
                    <a:pt x="1043" y="15"/>
                  </a:lnTo>
                  <a:lnTo>
                    <a:pt x="1071" y="8"/>
                  </a:lnTo>
                  <a:lnTo>
                    <a:pt x="1094" y="4"/>
                  </a:lnTo>
                  <a:lnTo>
                    <a:pt x="1111" y="3"/>
                  </a:lnTo>
                  <a:lnTo>
                    <a:pt x="1126" y="4"/>
                  </a:lnTo>
                  <a:lnTo>
                    <a:pt x="1139" y="6"/>
                  </a:lnTo>
                  <a:lnTo>
                    <a:pt x="1152" y="6"/>
                  </a:lnTo>
                  <a:lnTo>
                    <a:pt x="1166" y="4"/>
                  </a:lnTo>
                  <a:lnTo>
                    <a:pt x="1181" y="0"/>
                  </a:lnTo>
                  <a:lnTo>
                    <a:pt x="1366" y="84"/>
                  </a:lnTo>
                  <a:lnTo>
                    <a:pt x="1358" y="92"/>
                  </a:lnTo>
                  <a:lnTo>
                    <a:pt x="1352" y="99"/>
                  </a:lnTo>
                  <a:lnTo>
                    <a:pt x="1347" y="106"/>
                  </a:lnTo>
                  <a:lnTo>
                    <a:pt x="1345" y="113"/>
                  </a:lnTo>
                  <a:lnTo>
                    <a:pt x="1344" y="120"/>
                  </a:lnTo>
                  <a:lnTo>
                    <a:pt x="1345" y="127"/>
                  </a:lnTo>
                  <a:lnTo>
                    <a:pt x="1347" y="133"/>
                  </a:lnTo>
                  <a:lnTo>
                    <a:pt x="1351" y="140"/>
                  </a:lnTo>
                  <a:lnTo>
                    <a:pt x="1355" y="146"/>
                  </a:lnTo>
                  <a:lnTo>
                    <a:pt x="1361" y="152"/>
                  </a:lnTo>
                  <a:lnTo>
                    <a:pt x="1369" y="157"/>
                  </a:lnTo>
                  <a:lnTo>
                    <a:pt x="1377" y="163"/>
                  </a:lnTo>
                  <a:lnTo>
                    <a:pt x="1396" y="175"/>
                  </a:lnTo>
                  <a:lnTo>
                    <a:pt x="1417" y="187"/>
                  </a:lnTo>
                  <a:lnTo>
                    <a:pt x="1439" y="199"/>
                  </a:lnTo>
                  <a:lnTo>
                    <a:pt x="1463" y="213"/>
                  </a:lnTo>
                  <a:lnTo>
                    <a:pt x="1486" y="227"/>
                  </a:lnTo>
                  <a:lnTo>
                    <a:pt x="1508" y="243"/>
                  </a:lnTo>
                  <a:lnTo>
                    <a:pt x="1519" y="251"/>
                  </a:lnTo>
                  <a:lnTo>
                    <a:pt x="1528" y="260"/>
                  </a:lnTo>
                  <a:lnTo>
                    <a:pt x="1538" y="270"/>
                  </a:lnTo>
                  <a:lnTo>
                    <a:pt x="1546" y="279"/>
                  </a:lnTo>
                  <a:lnTo>
                    <a:pt x="1553" y="289"/>
                  </a:lnTo>
                  <a:lnTo>
                    <a:pt x="1559" y="300"/>
                  </a:lnTo>
                  <a:lnTo>
                    <a:pt x="1564" y="310"/>
                  </a:lnTo>
                  <a:lnTo>
                    <a:pt x="1568" y="323"/>
                  </a:lnTo>
                  <a:lnTo>
                    <a:pt x="1567" y="362"/>
                  </a:lnTo>
                  <a:lnTo>
                    <a:pt x="1563" y="393"/>
                  </a:lnTo>
                  <a:lnTo>
                    <a:pt x="1560" y="416"/>
                  </a:lnTo>
                  <a:lnTo>
                    <a:pt x="1559" y="424"/>
                  </a:lnTo>
                  <a:lnTo>
                    <a:pt x="1548" y="426"/>
                  </a:lnTo>
                  <a:lnTo>
                    <a:pt x="1539" y="428"/>
                  </a:lnTo>
                  <a:lnTo>
                    <a:pt x="1529" y="432"/>
                  </a:lnTo>
                  <a:lnTo>
                    <a:pt x="1521" y="435"/>
                  </a:lnTo>
                  <a:lnTo>
                    <a:pt x="1514" y="439"/>
                  </a:lnTo>
                  <a:lnTo>
                    <a:pt x="1508" y="444"/>
                  </a:lnTo>
                  <a:lnTo>
                    <a:pt x="1502" y="449"/>
                  </a:lnTo>
                  <a:lnTo>
                    <a:pt x="1499" y="455"/>
                  </a:lnTo>
                  <a:lnTo>
                    <a:pt x="1494" y="461"/>
                  </a:lnTo>
                  <a:lnTo>
                    <a:pt x="1492" y="467"/>
                  </a:lnTo>
                  <a:lnTo>
                    <a:pt x="1490" y="474"/>
                  </a:lnTo>
                  <a:lnTo>
                    <a:pt x="1488" y="481"/>
                  </a:lnTo>
                  <a:lnTo>
                    <a:pt x="1487" y="488"/>
                  </a:lnTo>
                  <a:lnTo>
                    <a:pt x="1487" y="495"/>
                  </a:lnTo>
                  <a:lnTo>
                    <a:pt x="1488" y="502"/>
                  </a:lnTo>
                  <a:lnTo>
                    <a:pt x="1490" y="510"/>
                  </a:lnTo>
                  <a:lnTo>
                    <a:pt x="548" y="648"/>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7" name="Freeform 128"/>
            <p:cNvSpPr/>
            <p:nvPr/>
          </p:nvSpPr>
          <p:spPr>
            <a:xfrm>
              <a:off x="7425720" y="2009880"/>
              <a:ext cx="210600" cy="217440"/>
            </a:xfrm>
            <a:custGeom>
              <a:avLst/>
              <a:gdLst>
                <a:gd name="textAreaLeft" fmla="*/ 0 w 210600"/>
                <a:gd name="textAreaRight" fmla="*/ 210960 w 210600"/>
                <a:gd name="textAreaTop" fmla="*/ 0 h 217440"/>
                <a:gd name="textAreaBottom" fmla="*/ 217800 h 217440"/>
              </a:gdLst>
              <a:ahLst/>
              <a:rect l="textAreaLeft" t="textAreaTop" r="textAreaRight" b="textAreaBottom"/>
              <a:pathLst>
                <a:path w="484" h="479">
                  <a:moveTo>
                    <a:pt x="369" y="479"/>
                  </a:moveTo>
                  <a:lnTo>
                    <a:pt x="0" y="58"/>
                  </a:lnTo>
                  <a:lnTo>
                    <a:pt x="40" y="54"/>
                  </a:lnTo>
                  <a:lnTo>
                    <a:pt x="79" y="48"/>
                  </a:lnTo>
                  <a:lnTo>
                    <a:pt x="114" y="42"/>
                  </a:lnTo>
                  <a:lnTo>
                    <a:pt x="149" y="35"/>
                  </a:lnTo>
                  <a:lnTo>
                    <a:pt x="181" y="27"/>
                  </a:lnTo>
                  <a:lnTo>
                    <a:pt x="213" y="19"/>
                  </a:lnTo>
                  <a:lnTo>
                    <a:pt x="243" y="9"/>
                  </a:lnTo>
                  <a:lnTo>
                    <a:pt x="274" y="0"/>
                  </a:lnTo>
                  <a:lnTo>
                    <a:pt x="332" y="70"/>
                  </a:lnTo>
                  <a:lnTo>
                    <a:pt x="329" y="74"/>
                  </a:lnTo>
                  <a:lnTo>
                    <a:pt x="320" y="84"/>
                  </a:lnTo>
                  <a:lnTo>
                    <a:pt x="317" y="91"/>
                  </a:lnTo>
                  <a:lnTo>
                    <a:pt x="312" y="99"/>
                  </a:lnTo>
                  <a:lnTo>
                    <a:pt x="309" y="109"/>
                  </a:lnTo>
                  <a:lnTo>
                    <a:pt x="305" y="118"/>
                  </a:lnTo>
                  <a:lnTo>
                    <a:pt x="304" y="128"/>
                  </a:lnTo>
                  <a:lnTo>
                    <a:pt x="304" y="139"/>
                  </a:lnTo>
                  <a:lnTo>
                    <a:pt x="305" y="145"/>
                  </a:lnTo>
                  <a:lnTo>
                    <a:pt x="306" y="150"/>
                  </a:lnTo>
                  <a:lnTo>
                    <a:pt x="309" y="155"/>
                  </a:lnTo>
                  <a:lnTo>
                    <a:pt x="311" y="161"/>
                  </a:lnTo>
                  <a:lnTo>
                    <a:pt x="315" y="166"/>
                  </a:lnTo>
                  <a:lnTo>
                    <a:pt x="319" y="172"/>
                  </a:lnTo>
                  <a:lnTo>
                    <a:pt x="324" y="176"/>
                  </a:lnTo>
                  <a:lnTo>
                    <a:pt x="330" y="181"/>
                  </a:lnTo>
                  <a:lnTo>
                    <a:pt x="337" y="186"/>
                  </a:lnTo>
                  <a:lnTo>
                    <a:pt x="345" y="190"/>
                  </a:lnTo>
                  <a:lnTo>
                    <a:pt x="353" y="195"/>
                  </a:lnTo>
                  <a:lnTo>
                    <a:pt x="364" y="200"/>
                  </a:lnTo>
                  <a:lnTo>
                    <a:pt x="372" y="204"/>
                  </a:lnTo>
                  <a:lnTo>
                    <a:pt x="380" y="211"/>
                  </a:lnTo>
                  <a:lnTo>
                    <a:pt x="390" y="222"/>
                  </a:lnTo>
                  <a:lnTo>
                    <a:pt x="402" y="234"/>
                  </a:lnTo>
                  <a:lnTo>
                    <a:pt x="413" y="249"/>
                  </a:lnTo>
                  <a:lnTo>
                    <a:pt x="424" y="264"/>
                  </a:lnTo>
                  <a:lnTo>
                    <a:pt x="436" y="281"/>
                  </a:lnTo>
                  <a:lnTo>
                    <a:pt x="447" y="299"/>
                  </a:lnTo>
                  <a:lnTo>
                    <a:pt x="457" y="318"/>
                  </a:lnTo>
                  <a:lnTo>
                    <a:pt x="466" y="336"/>
                  </a:lnTo>
                  <a:lnTo>
                    <a:pt x="473" y="355"/>
                  </a:lnTo>
                  <a:lnTo>
                    <a:pt x="479" y="374"/>
                  </a:lnTo>
                  <a:lnTo>
                    <a:pt x="483" y="392"/>
                  </a:lnTo>
                  <a:lnTo>
                    <a:pt x="484" y="409"/>
                  </a:lnTo>
                  <a:lnTo>
                    <a:pt x="484" y="417"/>
                  </a:lnTo>
                  <a:lnTo>
                    <a:pt x="483" y="424"/>
                  </a:lnTo>
                  <a:lnTo>
                    <a:pt x="482" y="431"/>
                  </a:lnTo>
                  <a:lnTo>
                    <a:pt x="478" y="438"/>
                  </a:lnTo>
                  <a:lnTo>
                    <a:pt x="369" y="47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8" name="Freeform 129"/>
            <p:cNvSpPr/>
            <p:nvPr/>
          </p:nvSpPr>
          <p:spPr>
            <a:xfrm>
              <a:off x="7425720" y="2009880"/>
              <a:ext cx="210600" cy="217440"/>
            </a:xfrm>
            <a:custGeom>
              <a:avLst/>
              <a:gdLst>
                <a:gd name="textAreaLeft" fmla="*/ 0 w 210600"/>
                <a:gd name="textAreaRight" fmla="*/ 210960 w 210600"/>
                <a:gd name="textAreaTop" fmla="*/ 0 h 217440"/>
                <a:gd name="textAreaBottom" fmla="*/ 217800 h 217440"/>
              </a:gdLst>
              <a:ahLst/>
              <a:rect l="textAreaLeft" t="textAreaTop" r="textAreaRight" b="textAreaBottom"/>
              <a:pathLst>
                <a:path w="484" h="479">
                  <a:moveTo>
                    <a:pt x="369" y="479"/>
                  </a:moveTo>
                  <a:lnTo>
                    <a:pt x="0" y="58"/>
                  </a:lnTo>
                  <a:lnTo>
                    <a:pt x="40" y="54"/>
                  </a:lnTo>
                  <a:lnTo>
                    <a:pt x="79" y="48"/>
                  </a:lnTo>
                  <a:lnTo>
                    <a:pt x="114" y="42"/>
                  </a:lnTo>
                  <a:lnTo>
                    <a:pt x="149" y="35"/>
                  </a:lnTo>
                  <a:lnTo>
                    <a:pt x="181" y="27"/>
                  </a:lnTo>
                  <a:lnTo>
                    <a:pt x="213" y="19"/>
                  </a:lnTo>
                  <a:lnTo>
                    <a:pt x="243" y="9"/>
                  </a:lnTo>
                  <a:lnTo>
                    <a:pt x="274" y="0"/>
                  </a:lnTo>
                  <a:lnTo>
                    <a:pt x="332" y="70"/>
                  </a:lnTo>
                  <a:lnTo>
                    <a:pt x="329" y="74"/>
                  </a:lnTo>
                  <a:lnTo>
                    <a:pt x="320" y="84"/>
                  </a:lnTo>
                  <a:lnTo>
                    <a:pt x="317" y="91"/>
                  </a:lnTo>
                  <a:lnTo>
                    <a:pt x="312" y="99"/>
                  </a:lnTo>
                  <a:lnTo>
                    <a:pt x="309" y="109"/>
                  </a:lnTo>
                  <a:lnTo>
                    <a:pt x="305" y="118"/>
                  </a:lnTo>
                  <a:lnTo>
                    <a:pt x="304" y="128"/>
                  </a:lnTo>
                  <a:lnTo>
                    <a:pt x="304" y="139"/>
                  </a:lnTo>
                  <a:lnTo>
                    <a:pt x="305" y="145"/>
                  </a:lnTo>
                  <a:lnTo>
                    <a:pt x="306" y="150"/>
                  </a:lnTo>
                  <a:lnTo>
                    <a:pt x="309" y="155"/>
                  </a:lnTo>
                  <a:lnTo>
                    <a:pt x="311" y="161"/>
                  </a:lnTo>
                  <a:lnTo>
                    <a:pt x="315" y="166"/>
                  </a:lnTo>
                  <a:lnTo>
                    <a:pt x="319" y="172"/>
                  </a:lnTo>
                  <a:lnTo>
                    <a:pt x="324" y="176"/>
                  </a:lnTo>
                  <a:lnTo>
                    <a:pt x="330" y="181"/>
                  </a:lnTo>
                  <a:lnTo>
                    <a:pt x="337" y="186"/>
                  </a:lnTo>
                  <a:lnTo>
                    <a:pt x="345" y="190"/>
                  </a:lnTo>
                  <a:lnTo>
                    <a:pt x="353" y="195"/>
                  </a:lnTo>
                  <a:lnTo>
                    <a:pt x="364" y="200"/>
                  </a:lnTo>
                  <a:lnTo>
                    <a:pt x="372" y="204"/>
                  </a:lnTo>
                  <a:lnTo>
                    <a:pt x="380" y="211"/>
                  </a:lnTo>
                  <a:lnTo>
                    <a:pt x="390" y="222"/>
                  </a:lnTo>
                  <a:lnTo>
                    <a:pt x="402" y="234"/>
                  </a:lnTo>
                  <a:lnTo>
                    <a:pt x="413" y="249"/>
                  </a:lnTo>
                  <a:lnTo>
                    <a:pt x="424" y="264"/>
                  </a:lnTo>
                  <a:lnTo>
                    <a:pt x="436" y="281"/>
                  </a:lnTo>
                  <a:lnTo>
                    <a:pt x="447" y="299"/>
                  </a:lnTo>
                  <a:lnTo>
                    <a:pt x="457" y="318"/>
                  </a:lnTo>
                  <a:lnTo>
                    <a:pt x="466" y="336"/>
                  </a:lnTo>
                  <a:lnTo>
                    <a:pt x="473" y="355"/>
                  </a:lnTo>
                  <a:lnTo>
                    <a:pt x="479" y="374"/>
                  </a:lnTo>
                  <a:lnTo>
                    <a:pt x="483" y="392"/>
                  </a:lnTo>
                  <a:lnTo>
                    <a:pt x="484" y="409"/>
                  </a:lnTo>
                  <a:lnTo>
                    <a:pt x="484" y="417"/>
                  </a:lnTo>
                  <a:lnTo>
                    <a:pt x="483" y="424"/>
                  </a:lnTo>
                  <a:lnTo>
                    <a:pt x="482" y="431"/>
                  </a:lnTo>
                  <a:lnTo>
                    <a:pt x="478" y="438"/>
                  </a:lnTo>
                  <a:lnTo>
                    <a:pt x="369" y="479"/>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09" name="Freeform 130"/>
            <p:cNvSpPr/>
            <p:nvPr/>
          </p:nvSpPr>
          <p:spPr>
            <a:xfrm>
              <a:off x="7544520" y="1977840"/>
              <a:ext cx="239400" cy="229320"/>
            </a:xfrm>
            <a:custGeom>
              <a:avLst/>
              <a:gdLst>
                <a:gd name="textAreaLeft" fmla="*/ 0 w 239400"/>
                <a:gd name="textAreaRight" fmla="*/ 239760 w 239400"/>
                <a:gd name="textAreaTop" fmla="*/ 0 h 229320"/>
                <a:gd name="textAreaBottom" fmla="*/ 229680 h 229320"/>
              </a:gdLst>
              <a:ahLst/>
              <a:rect l="textAreaLeft" t="textAreaTop" r="textAreaRight" b="textAreaBottom"/>
              <a:pathLst>
                <a:path w="544" h="509">
                  <a:moveTo>
                    <a:pt x="204" y="509"/>
                  </a:moveTo>
                  <a:lnTo>
                    <a:pt x="208" y="502"/>
                  </a:lnTo>
                  <a:lnTo>
                    <a:pt x="209" y="495"/>
                  </a:lnTo>
                  <a:lnTo>
                    <a:pt x="210" y="488"/>
                  </a:lnTo>
                  <a:lnTo>
                    <a:pt x="210" y="480"/>
                  </a:lnTo>
                  <a:lnTo>
                    <a:pt x="209" y="463"/>
                  </a:lnTo>
                  <a:lnTo>
                    <a:pt x="205" y="445"/>
                  </a:lnTo>
                  <a:lnTo>
                    <a:pt x="199" y="426"/>
                  </a:lnTo>
                  <a:lnTo>
                    <a:pt x="192" y="407"/>
                  </a:lnTo>
                  <a:lnTo>
                    <a:pt x="183" y="389"/>
                  </a:lnTo>
                  <a:lnTo>
                    <a:pt x="173" y="370"/>
                  </a:lnTo>
                  <a:lnTo>
                    <a:pt x="162" y="352"/>
                  </a:lnTo>
                  <a:lnTo>
                    <a:pt x="150" y="335"/>
                  </a:lnTo>
                  <a:lnTo>
                    <a:pt x="139" y="320"/>
                  </a:lnTo>
                  <a:lnTo>
                    <a:pt x="128" y="305"/>
                  </a:lnTo>
                  <a:lnTo>
                    <a:pt x="116" y="293"/>
                  </a:lnTo>
                  <a:lnTo>
                    <a:pt x="106" y="282"/>
                  </a:lnTo>
                  <a:lnTo>
                    <a:pt x="98" y="275"/>
                  </a:lnTo>
                  <a:lnTo>
                    <a:pt x="90" y="271"/>
                  </a:lnTo>
                  <a:lnTo>
                    <a:pt x="79" y="266"/>
                  </a:lnTo>
                  <a:lnTo>
                    <a:pt x="71" y="261"/>
                  </a:lnTo>
                  <a:lnTo>
                    <a:pt x="63" y="257"/>
                  </a:lnTo>
                  <a:lnTo>
                    <a:pt x="56" y="252"/>
                  </a:lnTo>
                  <a:lnTo>
                    <a:pt x="50" y="247"/>
                  </a:lnTo>
                  <a:lnTo>
                    <a:pt x="45" y="243"/>
                  </a:lnTo>
                  <a:lnTo>
                    <a:pt x="41" y="237"/>
                  </a:lnTo>
                  <a:lnTo>
                    <a:pt x="37" y="232"/>
                  </a:lnTo>
                  <a:lnTo>
                    <a:pt x="35" y="226"/>
                  </a:lnTo>
                  <a:lnTo>
                    <a:pt x="32" y="221"/>
                  </a:lnTo>
                  <a:lnTo>
                    <a:pt x="31" y="216"/>
                  </a:lnTo>
                  <a:lnTo>
                    <a:pt x="30" y="210"/>
                  </a:lnTo>
                  <a:lnTo>
                    <a:pt x="30" y="199"/>
                  </a:lnTo>
                  <a:lnTo>
                    <a:pt x="31" y="189"/>
                  </a:lnTo>
                  <a:lnTo>
                    <a:pt x="35" y="180"/>
                  </a:lnTo>
                  <a:lnTo>
                    <a:pt x="38" y="170"/>
                  </a:lnTo>
                  <a:lnTo>
                    <a:pt x="43" y="162"/>
                  </a:lnTo>
                  <a:lnTo>
                    <a:pt x="46" y="155"/>
                  </a:lnTo>
                  <a:lnTo>
                    <a:pt x="55" y="145"/>
                  </a:lnTo>
                  <a:lnTo>
                    <a:pt x="58" y="141"/>
                  </a:lnTo>
                  <a:lnTo>
                    <a:pt x="0" y="71"/>
                  </a:lnTo>
                  <a:lnTo>
                    <a:pt x="4" y="69"/>
                  </a:lnTo>
                  <a:lnTo>
                    <a:pt x="17" y="59"/>
                  </a:lnTo>
                  <a:lnTo>
                    <a:pt x="25" y="50"/>
                  </a:lnTo>
                  <a:lnTo>
                    <a:pt x="36" y="37"/>
                  </a:lnTo>
                  <a:lnTo>
                    <a:pt x="46" y="21"/>
                  </a:lnTo>
                  <a:lnTo>
                    <a:pt x="58" y="0"/>
                  </a:lnTo>
                  <a:lnTo>
                    <a:pt x="544" y="351"/>
                  </a:lnTo>
                  <a:lnTo>
                    <a:pt x="204" y="50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0" name="Freeform 131"/>
            <p:cNvSpPr/>
            <p:nvPr/>
          </p:nvSpPr>
          <p:spPr>
            <a:xfrm>
              <a:off x="7544520" y="1977840"/>
              <a:ext cx="239400" cy="229320"/>
            </a:xfrm>
            <a:custGeom>
              <a:avLst/>
              <a:gdLst>
                <a:gd name="textAreaLeft" fmla="*/ 0 w 239400"/>
                <a:gd name="textAreaRight" fmla="*/ 239760 w 239400"/>
                <a:gd name="textAreaTop" fmla="*/ 0 h 229320"/>
                <a:gd name="textAreaBottom" fmla="*/ 229680 h 229320"/>
              </a:gdLst>
              <a:ahLst/>
              <a:rect l="textAreaLeft" t="textAreaTop" r="textAreaRight" b="textAreaBottom"/>
              <a:pathLst>
                <a:path w="544" h="509">
                  <a:moveTo>
                    <a:pt x="204" y="509"/>
                  </a:moveTo>
                  <a:lnTo>
                    <a:pt x="208" y="502"/>
                  </a:lnTo>
                  <a:lnTo>
                    <a:pt x="209" y="495"/>
                  </a:lnTo>
                  <a:lnTo>
                    <a:pt x="210" y="488"/>
                  </a:lnTo>
                  <a:lnTo>
                    <a:pt x="210" y="480"/>
                  </a:lnTo>
                  <a:lnTo>
                    <a:pt x="209" y="463"/>
                  </a:lnTo>
                  <a:lnTo>
                    <a:pt x="205" y="445"/>
                  </a:lnTo>
                  <a:lnTo>
                    <a:pt x="199" y="426"/>
                  </a:lnTo>
                  <a:lnTo>
                    <a:pt x="192" y="407"/>
                  </a:lnTo>
                  <a:lnTo>
                    <a:pt x="183" y="389"/>
                  </a:lnTo>
                  <a:lnTo>
                    <a:pt x="173" y="370"/>
                  </a:lnTo>
                  <a:lnTo>
                    <a:pt x="162" y="352"/>
                  </a:lnTo>
                  <a:lnTo>
                    <a:pt x="150" y="335"/>
                  </a:lnTo>
                  <a:lnTo>
                    <a:pt x="139" y="320"/>
                  </a:lnTo>
                  <a:lnTo>
                    <a:pt x="128" y="305"/>
                  </a:lnTo>
                  <a:lnTo>
                    <a:pt x="116" y="293"/>
                  </a:lnTo>
                  <a:lnTo>
                    <a:pt x="106" y="282"/>
                  </a:lnTo>
                  <a:lnTo>
                    <a:pt x="98" y="275"/>
                  </a:lnTo>
                  <a:lnTo>
                    <a:pt x="90" y="271"/>
                  </a:lnTo>
                  <a:lnTo>
                    <a:pt x="79" y="266"/>
                  </a:lnTo>
                  <a:lnTo>
                    <a:pt x="71" y="261"/>
                  </a:lnTo>
                  <a:lnTo>
                    <a:pt x="63" y="257"/>
                  </a:lnTo>
                  <a:lnTo>
                    <a:pt x="56" y="252"/>
                  </a:lnTo>
                  <a:lnTo>
                    <a:pt x="50" y="247"/>
                  </a:lnTo>
                  <a:lnTo>
                    <a:pt x="45" y="243"/>
                  </a:lnTo>
                  <a:lnTo>
                    <a:pt x="41" y="237"/>
                  </a:lnTo>
                  <a:lnTo>
                    <a:pt x="37" y="232"/>
                  </a:lnTo>
                  <a:lnTo>
                    <a:pt x="35" y="226"/>
                  </a:lnTo>
                  <a:lnTo>
                    <a:pt x="32" y="221"/>
                  </a:lnTo>
                  <a:lnTo>
                    <a:pt x="31" y="216"/>
                  </a:lnTo>
                  <a:lnTo>
                    <a:pt x="30" y="210"/>
                  </a:lnTo>
                  <a:lnTo>
                    <a:pt x="30" y="199"/>
                  </a:lnTo>
                  <a:lnTo>
                    <a:pt x="31" y="189"/>
                  </a:lnTo>
                  <a:lnTo>
                    <a:pt x="35" y="180"/>
                  </a:lnTo>
                  <a:lnTo>
                    <a:pt x="38" y="170"/>
                  </a:lnTo>
                  <a:lnTo>
                    <a:pt x="43" y="162"/>
                  </a:lnTo>
                  <a:lnTo>
                    <a:pt x="46" y="155"/>
                  </a:lnTo>
                  <a:lnTo>
                    <a:pt x="55" y="145"/>
                  </a:lnTo>
                  <a:lnTo>
                    <a:pt x="58" y="141"/>
                  </a:lnTo>
                  <a:lnTo>
                    <a:pt x="0" y="71"/>
                  </a:lnTo>
                  <a:lnTo>
                    <a:pt x="4" y="69"/>
                  </a:lnTo>
                  <a:lnTo>
                    <a:pt x="17" y="59"/>
                  </a:lnTo>
                  <a:lnTo>
                    <a:pt x="25" y="50"/>
                  </a:lnTo>
                  <a:lnTo>
                    <a:pt x="36" y="37"/>
                  </a:lnTo>
                  <a:lnTo>
                    <a:pt x="46" y="21"/>
                  </a:lnTo>
                  <a:lnTo>
                    <a:pt x="58" y="0"/>
                  </a:lnTo>
                  <a:lnTo>
                    <a:pt x="544" y="351"/>
                  </a:lnTo>
                  <a:lnTo>
                    <a:pt x="204" y="509"/>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1" name="Freeform 132"/>
            <p:cNvSpPr/>
            <p:nvPr/>
          </p:nvSpPr>
          <p:spPr>
            <a:xfrm>
              <a:off x="7524360" y="1764720"/>
              <a:ext cx="446400" cy="371880"/>
            </a:xfrm>
            <a:custGeom>
              <a:avLst/>
              <a:gdLst>
                <a:gd name="textAreaLeft" fmla="*/ 0 w 446400"/>
                <a:gd name="textAreaRight" fmla="*/ 446760 w 446400"/>
                <a:gd name="textAreaTop" fmla="*/ 0 h 371880"/>
                <a:gd name="textAreaBottom" fmla="*/ 372240 h 371880"/>
              </a:gdLst>
              <a:ahLst/>
              <a:rect l="textAreaLeft" t="textAreaTop" r="textAreaRight" b="textAreaBottom"/>
              <a:pathLst>
                <a:path w="1016" h="821">
                  <a:moveTo>
                    <a:pt x="593" y="821"/>
                  </a:moveTo>
                  <a:lnTo>
                    <a:pt x="107" y="470"/>
                  </a:lnTo>
                  <a:lnTo>
                    <a:pt x="112" y="458"/>
                  </a:lnTo>
                  <a:lnTo>
                    <a:pt x="114" y="449"/>
                  </a:lnTo>
                  <a:lnTo>
                    <a:pt x="115" y="438"/>
                  </a:lnTo>
                  <a:lnTo>
                    <a:pt x="114" y="430"/>
                  </a:lnTo>
                  <a:lnTo>
                    <a:pt x="112" y="421"/>
                  </a:lnTo>
                  <a:lnTo>
                    <a:pt x="108" y="413"/>
                  </a:lnTo>
                  <a:lnTo>
                    <a:pt x="104" y="404"/>
                  </a:lnTo>
                  <a:lnTo>
                    <a:pt x="98" y="395"/>
                  </a:lnTo>
                  <a:lnTo>
                    <a:pt x="85" y="377"/>
                  </a:lnTo>
                  <a:lnTo>
                    <a:pt x="72" y="358"/>
                  </a:lnTo>
                  <a:lnTo>
                    <a:pt x="66" y="347"/>
                  </a:lnTo>
                  <a:lnTo>
                    <a:pt x="60" y="335"/>
                  </a:lnTo>
                  <a:lnTo>
                    <a:pt x="56" y="323"/>
                  </a:lnTo>
                  <a:lnTo>
                    <a:pt x="52" y="309"/>
                  </a:lnTo>
                  <a:lnTo>
                    <a:pt x="50" y="295"/>
                  </a:lnTo>
                  <a:lnTo>
                    <a:pt x="49" y="283"/>
                  </a:lnTo>
                  <a:lnTo>
                    <a:pt x="49" y="272"/>
                  </a:lnTo>
                  <a:lnTo>
                    <a:pt x="50" y="264"/>
                  </a:lnTo>
                  <a:lnTo>
                    <a:pt x="51" y="256"/>
                  </a:lnTo>
                  <a:lnTo>
                    <a:pt x="53" y="249"/>
                  </a:lnTo>
                  <a:lnTo>
                    <a:pt x="56" y="243"/>
                  </a:lnTo>
                  <a:lnTo>
                    <a:pt x="58" y="237"/>
                  </a:lnTo>
                  <a:lnTo>
                    <a:pt x="64" y="227"/>
                  </a:lnTo>
                  <a:lnTo>
                    <a:pt x="70" y="214"/>
                  </a:lnTo>
                  <a:lnTo>
                    <a:pt x="72" y="206"/>
                  </a:lnTo>
                  <a:lnTo>
                    <a:pt x="73" y="198"/>
                  </a:lnTo>
                  <a:lnTo>
                    <a:pt x="74" y="187"/>
                  </a:lnTo>
                  <a:lnTo>
                    <a:pt x="76" y="175"/>
                  </a:lnTo>
                  <a:lnTo>
                    <a:pt x="74" y="171"/>
                  </a:lnTo>
                  <a:lnTo>
                    <a:pt x="72" y="165"/>
                  </a:lnTo>
                  <a:lnTo>
                    <a:pt x="70" y="158"/>
                  </a:lnTo>
                  <a:lnTo>
                    <a:pt x="65" y="152"/>
                  </a:lnTo>
                  <a:lnTo>
                    <a:pt x="56" y="137"/>
                  </a:lnTo>
                  <a:lnTo>
                    <a:pt x="43" y="120"/>
                  </a:lnTo>
                  <a:lnTo>
                    <a:pt x="30" y="102"/>
                  </a:lnTo>
                  <a:lnTo>
                    <a:pt x="18" y="81"/>
                  </a:lnTo>
                  <a:lnTo>
                    <a:pt x="12" y="69"/>
                  </a:lnTo>
                  <a:lnTo>
                    <a:pt x="8" y="56"/>
                  </a:lnTo>
                  <a:lnTo>
                    <a:pt x="3" y="43"/>
                  </a:lnTo>
                  <a:lnTo>
                    <a:pt x="0" y="28"/>
                  </a:lnTo>
                  <a:lnTo>
                    <a:pt x="42" y="34"/>
                  </a:lnTo>
                  <a:lnTo>
                    <a:pt x="78" y="38"/>
                  </a:lnTo>
                  <a:lnTo>
                    <a:pt x="111" y="40"/>
                  </a:lnTo>
                  <a:lnTo>
                    <a:pt x="141" y="42"/>
                  </a:lnTo>
                  <a:lnTo>
                    <a:pt x="168" y="42"/>
                  </a:lnTo>
                  <a:lnTo>
                    <a:pt x="192" y="41"/>
                  </a:lnTo>
                  <a:lnTo>
                    <a:pt x="215" y="40"/>
                  </a:lnTo>
                  <a:lnTo>
                    <a:pt x="234" y="38"/>
                  </a:lnTo>
                  <a:lnTo>
                    <a:pt x="253" y="34"/>
                  </a:lnTo>
                  <a:lnTo>
                    <a:pt x="271" y="31"/>
                  </a:lnTo>
                  <a:lnTo>
                    <a:pt x="288" y="26"/>
                  </a:lnTo>
                  <a:lnTo>
                    <a:pt x="304" y="21"/>
                  </a:lnTo>
                  <a:lnTo>
                    <a:pt x="340" y="11"/>
                  </a:lnTo>
                  <a:lnTo>
                    <a:pt x="377" y="0"/>
                  </a:lnTo>
                  <a:lnTo>
                    <a:pt x="386" y="8"/>
                  </a:lnTo>
                  <a:lnTo>
                    <a:pt x="410" y="33"/>
                  </a:lnTo>
                  <a:lnTo>
                    <a:pt x="446" y="67"/>
                  </a:lnTo>
                  <a:lnTo>
                    <a:pt x="488" y="109"/>
                  </a:lnTo>
                  <a:lnTo>
                    <a:pt x="535" y="152"/>
                  </a:lnTo>
                  <a:lnTo>
                    <a:pt x="580" y="195"/>
                  </a:lnTo>
                  <a:lnTo>
                    <a:pt x="622" y="234"/>
                  </a:lnTo>
                  <a:lnTo>
                    <a:pt x="657" y="262"/>
                  </a:lnTo>
                  <a:lnTo>
                    <a:pt x="677" y="272"/>
                  </a:lnTo>
                  <a:lnTo>
                    <a:pt x="697" y="281"/>
                  </a:lnTo>
                  <a:lnTo>
                    <a:pt x="717" y="288"/>
                  </a:lnTo>
                  <a:lnTo>
                    <a:pt x="737" y="293"/>
                  </a:lnTo>
                  <a:lnTo>
                    <a:pt x="757" y="297"/>
                  </a:lnTo>
                  <a:lnTo>
                    <a:pt x="776" y="300"/>
                  </a:lnTo>
                  <a:lnTo>
                    <a:pt x="796" y="303"/>
                  </a:lnTo>
                  <a:lnTo>
                    <a:pt x="816" y="304"/>
                  </a:lnTo>
                  <a:lnTo>
                    <a:pt x="855" y="306"/>
                  </a:lnTo>
                  <a:lnTo>
                    <a:pt x="893" y="310"/>
                  </a:lnTo>
                  <a:lnTo>
                    <a:pt x="912" y="312"/>
                  </a:lnTo>
                  <a:lnTo>
                    <a:pt x="929" y="314"/>
                  </a:lnTo>
                  <a:lnTo>
                    <a:pt x="948" y="318"/>
                  </a:lnTo>
                  <a:lnTo>
                    <a:pt x="964" y="323"/>
                  </a:lnTo>
                  <a:lnTo>
                    <a:pt x="981" y="328"/>
                  </a:lnTo>
                  <a:lnTo>
                    <a:pt x="994" y="334"/>
                  </a:lnTo>
                  <a:lnTo>
                    <a:pt x="1004" y="340"/>
                  </a:lnTo>
                  <a:lnTo>
                    <a:pt x="1011" y="347"/>
                  </a:lnTo>
                  <a:lnTo>
                    <a:pt x="1014" y="349"/>
                  </a:lnTo>
                  <a:lnTo>
                    <a:pt x="1016" y="353"/>
                  </a:lnTo>
                  <a:lnTo>
                    <a:pt x="1016" y="355"/>
                  </a:lnTo>
                  <a:lnTo>
                    <a:pt x="1016" y="359"/>
                  </a:lnTo>
                  <a:lnTo>
                    <a:pt x="1016" y="362"/>
                  </a:lnTo>
                  <a:lnTo>
                    <a:pt x="1014" y="366"/>
                  </a:lnTo>
                  <a:lnTo>
                    <a:pt x="1011" y="368"/>
                  </a:lnTo>
                  <a:lnTo>
                    <a:pt x="1008" y="372"/>
                  </a:lnTo>
                  <a:lnTo>
                    <a:pt x="997" y="379"/>
                  </a:lnTo>
                  <a:lnTo>
                    <a:pt x="983" y="386"/>
                  </a:lnTo>
                  <a:lnTo>
                    <a:pt x="964" y="393"/>
                  </a:lnTo>
                  <a:lnTo>
                    <a:pt x="942" y="400"/>
                  </a:lnTo>
                  <a:lnTo>
                    <a:pt x="917" y="408"/>
                  </a:lnTo>
                  <a:lnTo>
                    <a:pt x="885" y="415"/>
                  </a:lnTo>
                  <a:lnTo>
                    <a:pt x="850" y="423"/>
                  </a:lnTo>
                  <a:lnTo>
                    <a:pt x="809" y="432"/>
                  </a:lnTo>
                  <a:lnTo>
                    <a:pt x="783" y="438"/>
                  </a:lnTo>
                  <a:lnTo>
                    <a:pt x="760" y="446"/>
                  </a:lnTo>
                  <a:lnTo>
                    <a:pt x="751" y="451"/>
                  </a:lnTo>
                  <a:lnTo>
                    <a:pt x="741" y="456"/>
                  </a:lnTo>
                  <a:lnTo>
                    <a:pt x="733" y="460"/>
                  </a:lnTo>
                  <a:lnTo>
                    <a:pt x="726" y="465"/>
                  </a:lnTo>
                  <a:lnTo>
                    <a:pt x="720" y="471"/>
                  </a:lnTo>
                  <a:lnTo>
                    <a:pt x="714" y="476"/>
                  </a:lnTo>
                  <a:lnTo>
                    <a:pt x="709" y="481"/>
                  </a:lnTo>
                  <a:lnTo>
                    <a:pt x="705" y="487"/>
                  </a:lnTo>
                  <a:lnTo>
                    <a:pt x="698" y="499"/>
                  </a:lnTo>
                  <a:lnTo>
                    <a:pt x="695" y="511"/>
                  </a:lnTo>
                  <a:lnTo>
                    <a:pt x="692" y="522"/>
                  </a:lnTo>
                  <a:lnTo>
                    <a:pt x="692" y="534"/>
                  </a:lnTo>
                  <a:lnTo>
                    <a:pt x="693" y="546"/>
                  </a:lnTo>
                  <a:lnTo>
                    <a:pt x="697" y="556"/>
                  </a:lnTo>
                  <a:lnTo>
                    <a:pt x="700" y="567"/>
                  </a:lnTo>
                  <a:lnTo>
                    <a:pt x="706" y="577"/>
                  </a:lnTo>
                  <a:lnTo>
                    <a:pt x="711" y="585"/>
                  </a:lnTo>
                  <a:lnTo>
                    <a:pt x="717" y="594"/>
                  </a:lnTo>
                  <a:lnTo>
                    <a:pt x="721" y="601"/>
                  </a:lnTo>
                  <a:lnTo>
                    <a:pt x="725" y="606"/>
                  </a:lnTo>
                  <a:lnTo>
                    <a:pt x="726" y="613"/>
                  </a:lnTo>
                  <a:lnTo>
                    <a:pt x="726" y="620"/>
                  </a:lnTo>
                  <a:lnTo>
                    <a:pt x="725" y="627"/>
                  </a:lnTo>
                  <a:lnTo>
                    <a:pt x="723" y="634"/>
                  </a:lnTo>
                  <a:lnTo>
                    <a:pt x="718" y="641"/>
                  </a:lnTo>
                  <a:lnTo>
                    <a:pt x="713" y="648"/>
                  </a:lnTo>
                  <a:lnTo>
                    <a:pt x="702" y="662"/>
                  </a:lnTo>
                  <a:lnTo>
                    <a:pt x="688" y="678"/>
                  </a:lnTo>
                  <a:lnTo>
                    <a:pt x="671" y="692"/>
                  </a:lnTo>
                  <a:lnTo>
                    <a:pt x="654" y="706"/>
                  </a:lnTo>
                  <a:lnTo>
                    <a:pt x="637" y="721"/>
                  </a:lnTo>
                  <a:lnTo>
                    <a:pt x="621" y="735"/>
                  </a:lnTo>
                  <a:lnTo>
                    <a:pt x="607" y="749"/>
                  </a:lnTo>
                  <a:lnTo>
                    <a:pt x="595" y="764"/>
                  </a:lnTo>
                  <a:lnTo>
                    <a:pt x="591" y="771"/>
                  </a:lnTo>
                  <a:lnTo>
                    <a:pt x="587" y="778"/>
                  </a:lnTo>
                  <a:lnTo>
                    <a:pt x="585" y="785"/>
                  </a:lnTo>
                  <a:lnTo>
                    <a:pt x="584" y="792"/>
                  </a:lnTo>
                  <a:lnTo>
                    <a:pt x="584" y="799"/>
                  </a:lnTo>
                  <a:lnTo>
                    <a:pt x="586" y="806"/>
                  </a:lnTo>
                  <a:lnTo>
                    <a:pt x="588" y="814"/>
                  </a:lnTo>
                  <a:lnTo>
                    <a:pt x="593" y="82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2" name="Freeform 133"/>
            <p:cNvSpPr/>
            <p:nvPr/>
          </p:nvSpPr>
          <p:spPr>
            <a:xfrm>
              <a:off x="7524360" y="1764720"/>
              <a:ext cx="446400" cy="371880"/>
            </a:xfrm>
            <a:custGeom>
              <a:avLst/>
              <a:gdLst>
                <a:gd name="textAreaLeft" fmla="*/ 0 w 446400"/>
                <a:gd name="textAreaRight" fmla="*/ 446760 w 446400"/>
                <a:gd name="textAreaTop" fmla="*/ 0 h 371880"/>
                <a:gd name="textAreaBottom" fmla="*/ 372240 h 371880"/>
              </a:gdLst>
              <a:ahLst/>
              <a:rect l="textAreaLeft" t="textAreaTop" r="textAreaRight" b="textAreaBottom"/>
              <a:pathLst>
                <a:path w="1016" h="821">
                  <a:moveTo>
                    <a:pt x="593" y="821"/>
                  </a:moveTo>
                  <a:lnTo>
                    <a:pt x="107" y="470"/>
                  </a:lnTo>
                  <a:lnTo>
                    <a:pt x="112" y="458"/>
                  </a:lnTo>
                  <a:lnTo>
                    <a:pt x="114" y="449"/>
                  </a:lnTo>
                  <a:lnTo>
                    <a:pt x="115" y="438"/>
                  </a:lnTo>
                  <a:lnTo>
                    <a:pt x="114" y="430"/>
                  </a:lnTo>
                  <a:lnTo>
                    <a:pt x="112" y="421"/>
                  </a:lnTo>
                  <a:lnTo>
                    <a:pt x="108" y="413"/>
                  </a:lnTo>
                  <a:lnTo>
                    <a:pt x="104" y="404"/>
                  </a:lnTo>
                  <a:lnTo>
                    <a:pt x="98" y="395"/>
                  </a:lnTo>
                  <a:lnTo>
                    <a:pt x="85" y="377"/>
                  </a:lnTo>
                  <a:lnTo>
                    <a:pt x="72" y="358"/>
                  </a:lnTo>
                  <a:lnTo>
                    <a:pt x="66" y="347"/>
                  </a:lnTo>
                  <a:lnTo>
                    <a:pt x="60" y="335"/>
                  </a:lnTo>
                  <a:lnTo>
                    <a:pt x="56" y="323"/>
                  </a:lnTo>
                  <a:lnTo>
                    <a:pt x="52" y="309"/>
                  </a:lnTo>
                  <a:lnTo>
                    <a:pt x="50" y="295"/>
                  </a:lnTo>
                  <a:lnTo>
                    <a:pt x="49" y="283"/>
                  </a:lnTo>
                  <a:lnTo>
                    <a:pt x="49" y="272"/>
                  </a:lnTo>
                  <a:lnTo>
                    <a:pt x="50" y="264"/>
                  </a:lnTo>
                  <a:lnTo>
                    <a:pt x="51" y="256"/>
                  </a:lnTo>
                  <a:lnTo>
                    <a:pt x="53" y="249"/>
                  </a:lnTo>
                  <a:lnTo>
                    <a:pt x="56" y="243"/>
                  </a:lnTo>
                  <a:lnTo>
                    <a:pt x="58" y="237"/>
                  </a:lnTo>
                  <a:lnTo>
                    <a:pt x="64" y="227"/>
                  </a:lnTo>
                  <a:lnTo>
                    <a:pt x="70" y="214"/>
                  </a:lnTo>
                  <a:lnTo>
                    <a:pt x="72" y="206"/>
                  </a:lnTo>
                  <a:lnTo>
                    <a:pt x="73" y="198"/>
                  </a:lnTo>
                  <a:lnTo>
                    <a:pt x="74" y="187"/>
                  </a:lnTo>
                  <a:lnTo>
                    <a:pt x="76" y="175"/>
                  </a:lnTo>
                  <a:lnTo>
                    <a:pt x="74" y="171"/>
                  </a:lnTo>
                  <a:lnTo>
                    <a:pt x="72" y="165"/>
                  </a:lnTo>
                  <a:lnTo>
                    <a:pt x="70" y="158"/>
                  </a:lnTo>
                  <a:lnTo>
                    <a:pt x="65" y="152"/>
                  </a:lnTo>
                  <a:lnTo>
                    <a:pt x="56" y="137"/>
                  </a:lnTo>
                  <a:lnTo>
                    <a:pt x="43" y="120"/>
                  </a:lnTo>
                  <a:lnTo>
                    <a:pt x="30" y="102"/>
                  </a:lnTo>
                  <a:lnTo>
                    <a:pt x="18" y="81"/>
                  </a:lnTo>
                  <a:lnTo>
                    <a:pt x="12" y="69"/>
                  </a:lnTo>
                  <a:lnTo>
                    <a:pt x="8" y="56"/>
                  </a:lnTo>
                  <a:lnTo>
                    <a:pt x="3" y="43"/>
                  </a:lnTo>
                  <a:lnTo>
                    <a:pt x="0" y="28"/>
                  </a:lnTo>
                  <a:lnTo>
                    <a:pt x="42" y="34"/>
                  </a:lnTo>
                  <a:lnTo>
                    <a:pt x="78" y="38"/>
                  </a:lnTo>
                  <a:lnTo>
                    <a:pt x="111" y="40"/>
                  </a:lnTo>
                  <a:lnTo>
                    <a:pt x="141" y="42"/>
                  </a:lnTo>
                  <a:lnTo>
                    <a:pt x="168" y="42"/>
                  </a:lnTo>
                  <a:lnTo>
                    <a:pt x="192" y="41"/>
                  </a:lnTo>
                  <a:lnTo>
                    <a:pt x="215" y="40"/>
                  </a:lnTo>
                  <a:lnTo>
                    <a:pt x="234" y="38"/>
                  </a:lnTo>
                  <a:lnTo>
                    <a:pt x="253" y="34"/>
                  </a:lnTo>
                  <a:lnTo>
                    <a:pt x="271" y="31"/>
                  </a:lnTo>
                  <a:lnTo>
                    <a:pt x="288" y="26"/>
                  </a:lnTo>
                  <a:lnTo>
                    <a:pt x="304" y="21"/>
                  </a:lnTo>
                  <a:lnTo>
                    <a:pt x="340" y="11"/>
                  </a:lnTo>
                  <a:lnTo>
                    <a:pt x="377" y="0"/>
                  </a:lnTo>
                  <a:lnTo>
                    <a:pt x="386" y="8"/>
                  </a:lnTo>
                  <a:lnTo>
                    <a:pt x="410" y="33"/>
                  </a:lnTo>
                  <a:lnTo>
                    <a:pt x="446" y="67"/>
                  </a:lnTo>
                  <a:lnTo>
                    <a:pt x="488" y="109"/>
                  </a:lnTo>
                  <a:lnTo>
                    <a:pt x="535" y="152"/>
                  </a:lnTo>
                  <a:lnTo>
                    <a:pt x="580" y="195"/>
                  </a:lnTo>
                  <a:lnTo>
                    <a:pt x="622" y="234"/>
                  </a:lnTo>
                  <a:lnTo>
                    <a:pt x="657" y="262"/>
                  </a:lnTo>
                  <a:lnTo>
                    <a:pt x="677" y="272"/>
                  </a:lnTo>
                  <a:lnTo>
                    <a:pt x="697" y="281"/>
                  </a:lnTo>
                  <a:lnTo>
                    <a:pt x="717" y="288"/>
                  </a:lnTo>
                  <a:lnTo>
                    <a:pt x="737" y="293"/>
                  </a:lnTo>
                  <a:lnTo>
                    <a:pt x="757" y="297"/>
                  </a:lnTo>
                  <a:lnTo>
                    <a:pt x="776" y="300"/>
                  </a:lnTo>
                  <a:lnTo>
                    <a:pt x="796" y="303"/>
                  </a:lnTo>
                  <a:lnTo>
                    <a:pt x="816" y="304"/>
                  </a:lnTo>
                  <a:lnTo>
                    <a:pt x="855" y="306"/>
                  </a:lnTo>
                  <a:lnTo>
                    <a:pt x="893" y="310"/>
                  </a:lnTo>
                  <a:lnTo>
                    <a:pt x="912" y="312"/>
                  </a:lnTo>
                  <a:lnTo>
                    <a:pt x="929" y="314"/>
                  </a:lnTo>
                  <a:lnTo>
                    <a:pt x="948" y="318"/>
                  </a:lnTo>
                  <a:lnTo>
                    <a:pt x="964" y="323"/>
                  </a:lnTo>
                  <a:lnTo>
                    <a:pt x="981" y="328"/>
                  </a:lnTo>
                  <a:lnTo>
                    <a:pt x="994" y="334"/>
                  </a:lnTo>
                  <a:lnTo>
                    <a:pt x="1004" y="340"/>
                  </a:lnTo>
                  <a:lnTo>
                    <a:pt x="1011" y="347"/>
                  </a:lnTo>
                  <a:lnTo>
                    <a:pt x="1014" y="349"/>
                  </a:lnTo>
                  <a:lnTo>
                    <a:pt x="1016" y="353"/>
                  </a:lnTo>
                  <a:lnTo>
                    <a:pt x="1016" y="355"/>
                  </a:lnTo>
                  <a:lnTo>
                    <a:pt x="1016" y="359"/>
                  </a:lnTo>
                  <a:lnTo>
                    <a:pt x="1016" y="362"/>
                  </a:lnTo>
                  <a:lnTo>
                    <a:pt x="1014" y="366"/>
                  </a:lnTo>
                  <a:lnTo>
                    <a:pt x="1011" y="368"/>
                  </a:lnTo>
                  <a:lnTo>
                    <a:pt x="1008" y="372"/>
                  </a:lnTo>
                  <a:lnTo>
                    <a:pt x="997" y="379"/>
                  </a:lnTo>
                  <a:lnTo>
                    <a:pt x="983" y="386"/>
                  </a:lnTo>
                  <a:lnTo>
                    <a:pt x="964" y="393"/>
                  </a:lnTo>
                  <a:lnTo>
                    <a:pt x="942" y="400"/>
                  </a:lnTo>
                  <a:lnTo>
                    <a:pt x="917" y="408"/>
                  </a:lnTo>
                  <a:lnTo>
                    <a:pt x="885" y="415"/>
                  </a:lnTo>
                  <a:lnTo>
                    <a:pt x="850" y="423"/>
                  </a:lnTo>
                  <a:lnTo>
                    <a:pt x="809" y="432"/>
                  </a:lnTo>
                  <a:lnTo>
                    <a:pt x="783" y="438"/>
                  </a:lnTo>
                  <a:lnTo>
                    <a:pt x="760" y="446"/>
                  </a:lnTo>
                  <a:lnTo>
                    <a:pt x="751" y="451"/>
                  </a:lnTo>
                  <a:lnTo>
                    <a:pt x="741" y="456"/>
                  </a:lnTo>
                  <a:lnTo>
                    <a:pt x="733" y="460"/>
                  </a:lnTo>
                  <a:lnTo>
                    <a:pt x="726" y="465"/>
                  </a:lnTo>
                  <a:lnTo>
                    <a:pt x="720" y="471"/>
                  </a:lnTo>
                  <a:lnTo>
                    <a:pt x="714" y="476"/>
                  </a:lnTo>
                  <a:lnTo>
                    <a:pt x="709" y="481"/>
                  </a:lnTo>
                  <a:lnTo>
                    <a:pt x="705" y="487"/>
                  </a:lnTo>
                  <a:lnTo>
                    <a:pt x="698" y="499"/>
                  </a:lnTo>
                  <a:lnTo>
                    <a:pt x="695" y="511"/>
                  </a:lnTo>
                  <a:lnTo>
                    <a:pt x="692" y="522"/>
                  </a:lnTo>
                  <a:lnTo>
                    <a:pt x="692" y="534"/>
                  </a:lnTo>
                  <a:lnTo>
                    <a:pt x="693" y="546"/>
                  </a:lnTo>
                  <a:lnTo>
                    <a:pt x="697" y="556"/>
                  </a:lnTo>
                  <a:lnTo>
                    <a:pt x="700" y="567"/>
                  </a:lnTo>
                  <a:lnTo>
                    <a:pt x="706" y="577"/>
                  </a:lnTo>
                  <a:lnTo>
                    <a:pt x="711" y="585"/>
                  </a:lnTo>
                  <a:lnTo>
                    <a:pt x="717" y="594"/>
                  </a:lnTo>
                  <a:lnTo>
                    <a:pt x="721" y="601"/>
                  </a:lnTo>
                  <a:lnTo>
                    <a:pt x="725" y="606"/>
                  </a:lnTo>
                  <a:lnTo>
                    <a:pt x="726" y="613"/>
                  </a:lnTo>
                  <a:lnTo>
                    <a:pt x="726" y="620"/>
                  </a:lnTo>
                  <a:lnTo>
                    <a:pt x="725" y="627"/>
                  </a:lnTo>
                  <a:lnTo>
                    <a:pt x="723" y="634"/>
                  </a:lnTo>
                  <a:lnTo>
                    <a:pt x="718" y="641"/>
                  </a:lnTo>
                  <a:lnTo>
                    <a:pt x="713" y="648"/>
                  </a:lnTo>
                  <a:lnTo>
                    <a:pt x="702" y="662"/>
                  </a:lnTo>
                  <a:lnTo>
                    <a:pt x="688" y="678"/>
                  </a:lnTo>
                  <a:lnTo>
                    <a:pt x="671" y="692"/>
                  </a:lnTo>
                  <a:lnTo>
                    <a:pt x="654" y="706"/>
                  </a:lnTo>
                  <a:lnTo>
                    <a:pt x="637" y="721"/>
                  </a:lnTo>
                  <a:lnTo>
                    <a:pt x="621" y="735"/>
                  </a:lnTo>
                  <a:lnTo>
                    <a:pt x="607" y="749"/>
                  </a:lnTo>
                  <a:lnTo>
                    <a:pt x="595" y="764"/>
                  </a:lnTo>
                  <a:lnTo>
                    <a:pt x="591" y="771"/>
                  </a:lnTo>
                  <a:lnTo>
                    <a:pt x="587" y="778"/>
                  </a:lnTo>
                  <a:lnTo>
                    <a:pt x="585" y="785"/>
                  </a:lnTo>
                  <a:lnTo>
                    <a:pt x="584" y="792"/>
                  </a:lnTo>
                  <a:lnTo>
                    <a:pt x="584" y="799"/>
                  </a:lnTo>
                  <a:lnTo>
                    <a:pt x="586" y="806"/>
                  </a:lnTo>
                  <a:lnTo>
                    <a:pt x="588" y="814"/>
                  </a:lnTo>
                  <a:lnTo>
                    <a:pt x="593" y="821"/>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3" name="Freeform 134"/>
            <p:cNvSpPr/>
            <p:nvPr/>
          </p:nvSpPr>
          <p:spPr>
            <a:xfrm>
              <a:off x="7166520" y="3233520"/>
              <a:ext cx="698400" cy="478440"/>
            </a:xfrm>
            <a:custGeom>
              <a:avLst/>
              <a:gdLst>
                <a:gd name="textAreaLeft" fmla="*/ 0 w 698400"/>
                <a:gd name="textAreaRight" fmla="*/ 698760 w 698400"/>
                <a:gd name="textAreaTop" fmla="*/ 0 h 478440"/>
                <a:gd name="textAreaBottom" fmla="*/ 478800 h 478440"/>
              </a:gdLst>
              <a:ahLst/>
              <a:rect l="textAreaLeft" t="textAreaTop" r="textAreaRight" b="textAreaBottom"/>
              <a:pathLst>
                <a:path w="1588" h="1055">
                  <a:moveTo>
                    <a:pt x="1576" y="239"/>
                  </a:moveTo>
                  <a:lnTo>
                    <a:pt x="1580" y="281"/>
                  </a:lnTo>
                  <a:lnTo>
                    <a:pt x="1585" y="322"/>
                  </a:lnTo>
                  <a:lnTo>
                    <a:pt x="1587" y="361"/>
                  </a:lnTo>
                  <a:lnTo>
                    <a:pt x="1588" y="397"/>
                  </a:lnTo>
                  <a:lnTo>
                    <a:pt x="1588" y="432"/>
                  </a:lnTo>
                  <a:lnTo>
                    <a:pt x="1588" y="465"/>
                  </a:lnTo>
                  <a:lnTo>
                    <a:pt x="1586" y="496"/>
                  </a:lnTo>
                  <a:lnTo>
                    <a:pt x="1583" y="527"/>
                  </a:lnTo>
                  <a:lnTo>
                    <a:pt x="1579" y="555"/>
                  </a:lnTo>
                  <a:lnTo>
                    <a:pt x="1574" y="580"/>
                  </a:lnTo>
                  <a:lnTo>
                    <a:pt x="1570" y="606"/>
                  </a:lnTo>
                  <a:lnTo>
                    <a:pt x="1563" y="629"/>
                  </a:lnTo>
                  <a:lnTo>
                    <a:pt x="1557" y="652"/>
                  </a:lnTo>
                  <a:lnTo>
                    <a:pt x="1549" y="672"/>
                  </a:lnTo>
                  <a:lnTo>
                    <a:pt x="1542" y="691"/>
                  </a:lnTo>
                  <a:lnTo>
                    <a:pt x="1533" y="709"/>
                  </a:lnTo>
                  <a:lnTo>
                    <a:pt x="1524" y="726"/>
                  </a:lnTo>
                  <a:lnTo>
                    <a:pt x="1515" y="743"/>
                  </a:lnTo>
                  <a:lnTo>
                    <a:pt x="1505" y="757"/>
                  </a:lnTo>
                  <a:lnTo>
                    <a:pt x="1496" y="771"/>
                  </a:lnTo>
                  <a:lnTo>
                    <a:pt x="1477" y="795"/>
                  </a:lnTo>
                  <a:lnTo>
                    <a:pt x="1458" y="816"/>
                  </a:lnTo>
                  <a:lnTo>
                    <a:pt x="1439" y="834"/>
                  </a:lnTo>
                  <a:lnTo>
                    <a:pt x="1421" y="849"/>
                  </a:lnTo>
                  <a:lnTo>
                    <a:pt x="1405" y="862"/>
                  </a:lnTo>
                  <a:lnTo>
                    <a:pt x="1391" y="872"/>
                  </a:lnTo>
                  <a:lnTo>
                    <a:pt x="1373" y="885"/>
                  </a:lnTo>
                  <a:lnTo>
                    <a:pt x="1357" y="898"/>
                  </a:lnTo>
                  <a:lnTo>
                    <a:pt x="1342" y="910"/>
                  </a:lnTo>
                  <a:lnTo>
                    <a:pt x="1330" y="923"/>
                  </a:lnTo>
                  <a:lnTo>
                    <a:pt x="1319" y="934"/>
                  </a:lnTo>
                  <a:lnTo>
                    <a:pt x="1309" y="946"/>
                  </a:lnTo>
                  <a:lnTo>
                    <a:pt x="1300" y="959"/>
                  </a:lnTo>
                  <a:lnTo>
                    <a:pt x="1293" y="971"/>
                  </a:lnTo>
                  <a:lnTo>
                    <a:pt x="1287" y="981"/>
                  </a:lnTo>
                  <a:lnTo>
                    <a:pt x="1282" y="993"/>
                  </a:lnTo>
                  <a:lnTo>
                    <a:pt x="1279" y="1004"/>
                  </a:lnTo>
                  <a:lnTo>
                    <a:pt x="1277" y="1015"/>
                  </a:lnTo>
                  <a:lnTo>
                    <a:pt x="1274" y="1025"/>
                  </a:lnTo>
                  <a:lnTo>
                    <a:pt x="1273" y="1035"/>
                  </a:lnTo>
                  <a:lnTo>
                    <a:pt x="1273" y="1045"/>
                  </a:lnTo>
                  <a:lnTo>
                    <a:pt x="1273" y="1055"/>
                  </a:lnTo>
                  <a:lnTo>
                    <a:pt x="1260" y="1035"/>
                  </a:lnTo>
                  <a:lnTo>
                    <a:pt x="1246" y="1016"/>
                  </a:lnTo>
                  <a:lnTo>
                    <a:pt x="1230" y="1000"/>
                  </a:lnTo>
                  <a:lnTo>
                    <a:pt x="1212" y="985"/>
                  </a:lnTo>
                  <a:lnTo>
                    <a:pt x="1194" y="971"/>
                  </a:lnTo>
                  <a:lnTo>
                    <a:pt x="1173" y="958"/>
                  </a:lnTo>
                  <a:lnTo>
                    <a:pt x="1152" y="945"/>
                  </a:lnTo>
                  <a:lnTo>
                    <a:pt x="1130" y="934"/>
                  </a:lnTo>
                  <a:lnTo>
                    <a:pt x="1107" y="925"/>
                  </a:lnTo>
                  <a:lnTo>
                    <a:pt x="1084" y="916"/>
                  </a:lnTo>
                  <a:lnTo>
                    <a:pt x="1060" y="907"/>
                  </a:lnTo>
                  <a:lnTo>
                    <a:pt x="1037" y="899"/>
                  </a:lnTo>
                  <a:lnTo>
                    <a:pt x="989" y="885"/>
                  </a:lnTo>
                  <a:lnTo>
                    <a:pt x="941" y="872"/>
                  </a:lnTo>
                  <a:lnTo>
                    <a:pt x="920" y="867"/>
                  </a:lnTo>
                  <a:lnTo>
                    <a:pt x="903" y="858"/>
                  </a:lnTo>
                  <a:lnTo>
                    <a:pt x="886" y="850"/>
                  </a:lnTo>
                  <a:lnTo>
                    <a:pt x="875" y="841"/>
                  </a:lnTo>
                  <a:lnTo>
                    <a:pt x="863" y="830"/>
                  </a:lnTo>
                  <a:lnTo>
                    <a:pt x="855" y="820"/>
                  </a:lnTo>
                  <a:lnTo>
                    <a:pt x="848" y="807"/>
                  </a:lnTo>
                  <a:lnTo>
                    <a:pt x="841" y="794"/>
                  </a:lnTo>
                  <a:lnTo>
                    <a:pt x="830" y="767"/>
                  </a:lnTo>
                  <a:lnTo>
                    <a:pt x="820" y="737"/>
                  </a:lnTo>
                  <a:lnTo>
                    <a:pt x="814" y="722"/>
                  </a:lnTo>
                  <a:lnTo>
                    <a:pt x="806" y="705"/>
                  </a:lnTo>
                  <a:lnTo>
                    <a:pt x="798" y="688"/>
                  </a:lnTo>
                  <a:lnTo>
                    <a:pt x="786" y="672"/>
                  </a:lnTo>
                  <a:lnTo>
                    <a:pt x="753" y="659"/>
                  </a:lnTo>
                  <a:lnTo>
                    <a:pt x="722" y="646"/>
                  </a:lnTo>
                  <a:lnTo>
                    <a:pt x="692" y="632"/>
                  </a:lnTo>
                  <a:lnTo>
                    <a:pt x="666" y="617"/>
                  </a:lnTo>
                  <a:lnTo>
                    <a:pt x="640" y="601"/>
                  </a:lnTo>
                  <a:lnTo>
                    <a:pt x="618" y="586"/>
                  </a:lnTo>
                  <a:lnTo>
                    <a:pt x="597" y="571"/>
                  </a:lnTo>
                  <a:lnTo>
                    <a:pt x="579" y="556"/>
                  </a:lnTo>
                  <a:lnTo>
                    <a:pt x="549" y="529"/>
                  </a:lnTo>
                  <a:lnTo>
                    <a:pt x="527" y="507"/>
                  </a:lnTo>
                  <a:lnTo>
                    <a:pt x="514" y="493"/>
                  </a:lnTo>
                  <a:lnTo>
                    <a:pt x="510" y="487"/>
                  </a:lnTo>
                  <a:lnTo>
                    <a:pt x="354" y="441"/>
                  </a:lnTo>
                  <a:lnTo>
                    <a:pt x="0" y="112"/>
                  </a:lnTo>
                  <a:lnTo>
                    <a:pt x="15" y="47"/>
                  </a:lnTo>
                  <a:lnTo>
                    <a:pt x="548" y="0"/>
                  </a:lnTo>
                  <a:lnTo>
                    <a:pt x="579" y="55"/>
                  </a:lnTo>
                  <a:lnTo>
                    <a:pt x="927" y="23"/>
                  </a:lnTo>
                  <a:lnTo>
                    <a:pt x="1576" y="23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4" name="Freeform 135"/>
            <p:cNvSpPr/>
            <p:nvPr/>
          </p:nvSpPr>
          <p:spPr>
            <a:xfrm>
              <a:off x="7166520" y="3233520"/>
              <a:ext cx="698400" cy="478440"/>
            </a:xfrm>
            <a:custGeom>
              <a:avLst/>
              <a:gdLst>
                <a:gd name="textAreaLeft" fmla="*/ 0 w 698400"/>
                <a:gd name="textAreaRight" fmla="*/ 698760 w 698400"/>
                <a:gd name="textAreaTop" fmla="*/ 0 h 478440"/>
                <a:gd name="textAreaBottom" fmla="*/ 478800 h 478440"/>
              </a:gdLst>
              <a:ahLst/>
              <a:rect l="textAreaLeft" t="textAreaTop" r="textAreaRight" b="textAreaBottom"/>
              <a:pathLst>
                <a:path w="1588" h="1055">
                  <a:moveTo>
                    <a:pt x="1576" y="239"/>
                  </a:moveTo>
                  <a:lnTo>
                    <a:pt x="1580" y="281"/>
                  </a:lnTo>
                  <a:lnTo>
                    <a:pt x="1585" y="322"/>
                  </a:lnTo>
                  <a:lnTo>
                    <a:pt x="1587" y="361"/>
                  </a:lnTo>
                  <a:lnTo>
                    <a:pt x="1588" y="397"/>
                  </a:lnTo>
                  <a:lnTo>
                    <a:pt x="1588" y="432"/>
                  </a:lnTo>
                  <a:lnTo>
                    <a:pt x="1588" y="465"/>
                  </a:lnTo>
                  <a:lnTo>
                    <a:pt x="1586" y="496"/>
                  </a:lnTo>
                  <a:lnTo>
                    <a:pt x="1583" y="527"/>
                  </a:lnTo>
                  <a:lnTo>
                    <a:pt x="1579" y="555"/>
                  </a:lnTo>
                  <a:lnTo>
                    <a:pt x="1574" y="580"/>
                  </a:lnTo>
                  <a:lnTo>
                    <a:pt x="1570" y="606"/>
                  </a:lnTo>
                  <a:lnTo>
                    <a:pt x="1563" y="629"/>
                  </a:lnTo>
                  <a:lnTo>
                    <a:pt x="1557" y="652"/>
                  </a:lnTo>
                  <a:lnTo>
                    <a:pt x="1549" y="672"/>
                  </a:lnTo>
                  <a:lnTo>
                    <a:pt x="1542" y="691"/>
                  </a:lnTo>
                  <a:lnTo>
                    <a:pt x="1533" y="709"/>
                  </a:lnTo>
                  <a:lnTo>
                    <a:pt x="1524" y="726"/>
                  </a:lnTo>
                  <a:lnTo>
                    <a:pt x="1515" y="743"/>
                  </a:lnTo>
                  <a:lnTo>
                    <a:pt x="1505" y="757"/>
                  </a:lnTo>
                  <a:lnTo>
                    <a:pt x="1496" y="771"/>
                  </a:lnTo>
                  <a:lnTo>
                    <a:pt x="1477" y="795"/>
                  </a:lnTo>
                  <a:lnTo>
                    <a:pt x="1458" y="816"/>
                  </a:lnTo>
                  <a:lnTo>
                    <a:pt x="1439" y="834"/>
                  </a:lnTo>
                  <a:lnTo>
                    <a:pt x="1421" y="849"/>
                  </a:lnTo>
                  <a:lnTo>
                    <a:pt x="1405" y="862"/>
                  </a:lnTo>
                  <a:lnTo>
                    <a:pt x="1391" y="872"/>
                  </a:lnTo>
                  <a:lnTo>
                    <a:pt x="1373" y="885"/>
                  </a:lnTo>
                  <a:lnTo>
                    <a:pt x="1357" y="898"/>
                  </a:lnTo>
                  <a:lnTo>
                    <a:pt x="1342" y="910"/>
                  </a:lnTo>
                  <a:lnTo>
                    <a:pt x="1330" y="923"/>
                  </a:lnTo>
                  <a:lnTo>
                    <a:pt x="1319" y="934"/>
                  </a:lnTo>
                  <a:lnTo>
                    <a:pt x="1309" y="946"/>
                  </a:lnTo>
                  <a:lnTo>
                    <a:pt x="1300" y="959"/>
                  </a:lnTo>
                  <a:lnTo>
                    <a:pt x="1293" y="971"/>
                  </a:lnTo>
                  <a:lnTo>
                    <a:pt x="1287" y="981"/>
                  </a:lnTo>
                  <a:lnTo>
                    <a:pt x="1282" y="993"/>
                  </a:lnTo>
                  <a:lnTo>
                    <a:pt x="1279" y="1004"/>
                  </a:lnTo>
                  <a:lnTo>
                    <a:pt x="1277" y="1015"/>
                  </a:lnTo>
                  <a:lnTo>
                    <a:pt x="1274" y="1025"/>
                  </a:lnTo>
                  <a:lnTo>
                    <a:pt x="1273" y="1035"/>
                  </a:lnTo>
                  <a:lnTo>
                    <a:pt x="1273" y="1045"/>
                  </a:lnTo>
                  <a:lnTo>
                    <a:pt x="1273" y="1055"/>
                  </a:lnTo>
                  <a:lnTo>
                    <a:pt x="1260" y="1035"/>
                  </a:lnTo>
                  <a:lnTo>
                    <a:pt x="1246" y="1016"/>
                  </a:lnTo>
                  <a:lnTo>
                    <a:pt x="1230" y="1000"/>
                  </a:lnTo>
                  <a:lnTo>
                    <a:pt x="1212" y="985"/>
                  </a:lnTo>
                  <a:lnTo>
                    <a:pt x="1194" y="971"/>
                  </a:lnTo>
                  <a:lnTo>
                    <a:pt x="1173" y="958"/>
                  </a:lnTo>
                  <a:lnTo>
                    <a:pt x="1152" y="945"/>
                  </a:lnTo>
                  <a:lnTo>
                    <a:pt x="1130" y="934"/>
                  </a:lnTo>
                  <a:lnTo>
                    <a:pt x="1107" y="925"/>
                  </a:lnTo>
                  <a:lnTo>
                    <a:pt x="1084" y="916"/>
                  </a:lnTo>
                  <a:lnTo>
                    <a:pt x="1060" y="907"/>
                  </a:lnTo>
                  <a:lnTo>
                    <a:pt x="1037" y="899"/>
                  </a:lnTo>
                  <a:lnTo>
                    <a:pt x="989" y="885"/>
                  </a:lnTo>
                  <a:lnTo>
                    <a:pt x="941" y="872"/>
                  </a:lnTo>
                  <a:lnTo>
                    <a:pt x="920" y="867"/>
                  </a:lnTo>
                  <a:lnTo>
                    <a:pt x="903" y="858"/>
                  </a:lnTo>
                  <a:lnTo>
                    <a:pt x="886" y="850"/>
                  </a:lnTo>
                  <a:lnTo>
                    <a:pt x="875" y="841"/>
                  </a:lnTo>
                  <a:lnTo>
                    <a:pt x="863" y="830"/>
                  </a:lnTo>
                  <a:lnTo>
                    <a:pt x="855" y="820"/>
                  </a:lnTo>
                  <a:lnTo>
                    <a:pt x="848" y="807"/>
                  </a:lnTo>
                  <a:lnTo>
                    <a:pt x="841" y="794"/>
                  </a:lnTo>
                  <a:lnTo>
                    <a:pt x="830" y="767"/>
                  </a:lnTo>
                  <a:lnTo>
                    <a:pt x="820" y="737"/>
                  </a:lnTo>
                  <a:lnTo>
                    <a:pt x="814" y="722"/>
                  </a:lnTo>
                  <a:lnTo>
                    <a:pt x="806" y="705"/>
                  </a:lnTo>
                  <a:lnTo>
                    <a:pt x="798" y="688"/>
                  </a:lnTo>
                  <a:lnTo>
                    <a:pt x="786" y="672"/>
                  </a:lnTo>
                  <a:lnTo>
                    <a:pt x="753" y="659"/>
                  </a:lnTo>
                  <a:lnTo>
                    <a:pt x="722" y="646"/>
                  </a:lnTo>
                  <a:lnTo>
                    <a:pt x="692" y="632"/>
                  </a:lnTo>
                  <a:lnTo>
                    <a:pt x="666" y="617"/>
                  </a:lnTo>
                  <a:lnTo>
                    <a:pt x="640" y="601"/>
                  </a:lnTo>
                  <a:lnTo>
                    <a:pt x="618" y="586"/>
                  </a:lnTo>
                  <a:lnTo>
                    <a:pt x="597" y="571"/>
                  </a:lnTo>
                  <a:lnTo>
                    <a:pt x="579" y="556"/>
                  </a:lnTo>
                  <a:lnTo>
                    <a:pt x="549" y="529"/>
                  </a:lnTo>
                  <a:lnTo>
                    <a:pt x="527" y="507"/>
                  </a:lnTo>
                  <a:lnTo>
                    <a:pt x="514" y="493"/>
                  </a:lnTo>
                  <a:lnTo>
                    <a:pt x="510" y="487"/>
                  </a:lnTo>
                  <a:lnTo>
                    <a:pt x="354" y="441"/>
                  </a:lnTo>
                  <a:lnTo>
                    <a:pt x="0" y="112"/>
                  </a:lnTo>
                  <a:lnTo>
                    <a:pt x="15" y="47"/>
                  </a:lnTo>
                  <a:lnTo>
                    <a:pt x="548" y="0"/>
                  </a:lnTo>
                  <a:lnTo>
                    <a:pt x="579" y="55"/>
                  </a:lnTo>
                  <a:lnTo>
                    <a:pt x="927" y="23"/>
                  </a:lnTo>
                  <a:lnTo>
                    <a:pt x="1576" y="239"/>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5" name="Freeform 136"/>
            <p:cNvSpPr/>
            <p:nvPr/>
          </p:nvSpPr>
          <p:spPr>
            <a:xfrm>
              <a:off x="6928920" y="2940480"/>
              <a:ext cx="1171440" cy="401400"/>
            </a:xfrm>
            <a:custGeom>
              <a:avLst/>
              <a:gdLst>
                <a:gd name="textAreaLeft" fmla="*/ 0 w 1171440"/>
                <a:gd name="textAreaRight" fmla="*/ 1171800 w 1171440"/>
                <a:gd name="textAreaTop" fmla="*/ 0 h 401400"/>
                <a:gd name="textAreaBottom" fmla="*/ 401760 h 401400"/>
              </a:gdLst>
              <a:ahLst/>
              <a:rect l="textAreaLeft" t="textAreaTop" r="textAreaRight" b="textAreaBottom"/>
              <a:pathLst>
                <a:path w="2666" h="882">
                  <a:moveTo>
                    <a:pt x="541" y="755"/>
                  </a:moveTo>
                  <a:lnTo>
                    <a:pt x="556" y="690"/>
                  </a:lnTo>
                  <a:lnTo>
                    <a:pt x="1089" y="643"/>
                  </a:lnTo>
                  <a:lnTo>
                    <a:pt x="1120" y="698"/>
                  </a:lnTo>
                  <a:lnTo>
                    <a:pt x="1468" y="666"/>
                  </a:lnTo>
                  <a:lnTo>
                    <a:pt x="2117" y="882"/>
                  </a:lnTo>
                  <a:lnTo>
                    <a:pt x="2317" y="851"/>
                  </a:lnTo>
                  <a:lnTo>
                    <a:pt x="2316" y="843"/>
                  </a:lnTo>
                  <a:lnTo>
                    <a:pt x="2312" y="822"/>
                  </a:lnTo>
                  <a:lnTo>
                    <a:pt x="2307" y="790"/>
                  </a:lnTo>
                  <a:lnTo>
                    <a:pt x="2302" y="753"/>
                  </a:lnTo>
                  <a:lnTo>
                    <a:pt x="2301" y="733"/>
                  </a:lnTo>
                  <a:lnTo>
                    <a:pt x="2301" y="713"/>
                  </a:lnTo>
                  <a:lnTo>
                    <a:pt x="2302" y="694"/>
                  </a:lnTo>
                  <a:lnTo>
                    <a:pt x="2305" y="676"/>
                  </a:lnTo>
                  <a:lnTo>
                    <a:pt x="2308" y="658"/>
                  </a:lnTo>
                  <a:lnTo>
                    <a:pt x="2314" y="643"/>
                  </a:lnTo>
                  <a:lnTo>
                    <a:pt x="2319" y="637"/>
                  </a:lnTo>
                  <a:lnTo>
                    <a:pt x="2322" y="630"/>
                  </a:lnTo>
                  <a:lnTo>
                    <a:pt x="2327" y="625"/>
                  </a:lnTo>
                  <a:lnTo>
                    <a:pt x="2333" y="621"/>
                  </a:lnTo>
                  <a:lnTo>
                    <a:pt x="2344" y="610"/>
                  </a:lnTo>
                  <a:lnTo>
                    <a:pt x="2357" y="599"/>
                  </a:lnTo>
                  <a:lnTo>
                    <a:pt x="2371" y="586"/>
                  </a:lnTo>
                  <a:lnTo>
                    <a:pt x="2386" y="572"/>
                  </a:lnTo>
                  <a:lnTo>
                    <a:pt x="2418" y="540"/>
                  </a:lnTo>
                  <a:lnTo>
                    <a:pt x="2453" y="507"/>
                  </a:lnTo>
                  <a:lnTo>
                    <a:pt x="2473" y="492"/>
                  </a:lnTo>
                  <a:lnTo>
                    <a:pt x="2494" y="477"/>
                  </a:lnTo>
                  <a:lnTo>
                    <a:pt x="2515" y="463"/>
                  </a:lnTo>
                  <a:lnTo>
                    <a:pt x="2538" y="450"/>
                  </a:lnTo>
                  <a:lnTo>
                    <a:pt x="2550" y="444"/>
                  </a:lnTo>
                  <a:lnTo>
                    <a:pt x="2563" y="438"/>
                  </a:lnTo>
                  <a:lnTo>
                    <a:pt x="2576" y="434"/>
                  </a:lnTo>
                  <a:lnTo>
                    <a:pt x="2588" y="429"/>
                  </a:lnTo>
                  <a:lnTo>
                    <a:pt x="2601" y="426"/>
                  </a:lnTo>
                  <a:lnTo>
                    <a:pt x="2615" y="422"/>
                  </a:lnTo>
                  <a:lnTo>
                    <a:pt x="2629" y="420"/>
                  </a:lnTo>
                  <a:lnTo>
                    <a:pt x="2643" y="419"/>
                  </a:lnTo>
                  <a:lnTo>
                    <a:pt x="2645" y="403"/>
                  </a:lnTo>
                  <a:lnTo>
                    <a:pt x="2646" y="387"/>
                  </a:lnTo>
                  <a:lnTo>
                    <a:pt x="2648" y="370"/>
                  </a:lnTo>
                  <a:lnTo>
                    <a:pt x="2652" y="351"/>
                  </a:lnTo>
                  <a:lnTo>
                    <a:pt x="2659" y="314"/>
                  </a:lnTo>
                  <a:lnTo>
                    <a:pt x="2664" y="276"/>
                  </a:lnTo>
                  <a:lnTo>
                    <a:pt x="2666" y="257"/>
                  </a:lnTo>
                  <a:lnTo>
                    <a:pt x="2666" y="239"/>
                  </a:lnTo>
                  <a:lnTo>
                    <a:pt x="2664" y="222"/>
                  </a:lnTo>
                  <a:lnTo>
                    <a:pt x="2662" y="206"/>
                  </a:lnTo>
                  <a:lnTo>
                    <a:pt x="2660" y="198"/>
                  </a:lnTo>
                  <a:lnTo>
                    <a:pt x="2656" y="191"/>
                  </a:lnTo>
                  <a:lnTo>
                    <a:pt x="2653" y="184"/>
                  </a:lnTo>
                  <a:lnTo>
                    <a:pt x="2649" y="178"/>
                  </a:lnTo>
                  <a:lnTo>
                    <a:pt x="2645" y="172"/>
                  </a:lnTo>
                  <a:lnTo>
                    <a:pt x="2639" y="166"/>
                  </a:lnTo>
                  <a:lnTo>
                    <a:pt x="2633" y="160"/>
                  </a:lnTo>
                  <a:lnTo>
                    <a:pt x="2626" y="157"/>
                  </a:lnTo>
                  <a:lnTo>
                    <a:pt x="2597" y="141"/>
                  </a:lnTo>
                  <a:lnTo>
                    <a:pt x="2569" y="128"/>
                  </a:lnTo>
                  <a:lnTo>
                    <a:pt x="2539" y="116"/>
                  </a:lnTo>
                  <a:lnTo>
                    <a:pt x="2511" y="102"/>
                  </a:lnTo>
                  <a:lnTo>
                    <a:pt x="2496" y="95"/>
                  </a:lnTo>
                  <a:lnTo>
                    <a:pt x="2482" y="86"/>
                  </a:lnTo>
                  <a:lnTo>
                    <a:pt x="2468" y="76"/>
                  </a:lnTo>
                  <a:lnTo>
                    <a:pt x="2454" y="65"/>
                  </a:lnTo>
                  <a:lnTo>
                    <a:pt x="2439" y="52"/>
                  </a:lnTo>
                  <a:lnTo>
                    <a:pt x="2425" y="37"/>
                  </a:lnTo>
                  <a:lnTo>
                    <a:pt x="2411" y="20"/>
                  </a:lnTo>
                  <a:lnTo>
                    <a:pt x="2396" y="0"/>
                  </a:lnTo>
                  <a:lnTo>
                    <a:pt x="625" y="240"/>
                  </a:lnTo>
                  <a:lnTo>
                    <a:pt x="618" y="246"/>
                  </a:lnTo>
                  <a:lnTo>
                    <a:pt x="613" y="252"/>
                  </a:lnTo>
                  <a:lnTo>
                    <a:pt x="611" y="260"/>
                  </a:lnTo>
                  <a:lnTo>
                    <a:pt x="607" y="269"/>
                  </a:lnTo>
                  <a:lnTo>
                    <a:pt x="605" y="290"/>
                  </a:lnTo>
                  <a:lnTo>
                    <a:pt x="603" y="311"/>
                  </a:lnTo>
                  <a:lnTo>
                    <a:pt x="600" y="323"/>
                  </a:lnTo>
                  <a:lnTo>
                    <a:pt x="598" y="333"/>
                  </a:lnTo>
                  <a:lnTo>
                    <a:pt x="593" y="343"/>
                  </a:lnTo>
                  <a:lnTo>
                    <a:pt x="589" y="351"/>
                  </a:lnTo>
                  <a:lnTo>
                    <a:pt x="582" y="359"/>
                  </a:lnTo>
                  <a:lnTo>
                    <a:pt x="573" y="365"/>
                  </a:lnTo>
                  <a:lnTo>
                    <a:pt x="569" y="367"/>
                  </a:lnTo>
                  <a:lnTo>
                    <a:pt x="563" y="370"/>
                  </a:lnTo>
                  <a:lnTo>
                    <a:pt x="557" y="372"/>
                  </a:lnTo>
                  <a:lnTo>
                    <a:pt x="550" y="372"/>
                  </a:lnTo>
                  <a:lnTo>
                    <a:pt x="538" y="374"/>
                  </a:lnTo>
                  <a:lnTo>
                    <a:pt x="528" y="377"/>
                  </a:lnTo>
                  <a:lnTo>
                    <a:pt x="517" y="380"/>
                  </a:lnTo>
                  <a:lnTo>
                    <a:pt x="507" y="385"/>
                  </a:lnTo>
                  <a:lnTo>
                    <a:pt x="498" y="389"/>
                  </a:lnTo>
                  <a:lnTo>
                    <a:pt x="488" y="395"/>
                  </a:lnTo>
                  <a:lnTo>
                    <a:pt x="480" y="401"/>
                  </a:lnTo>
                  <a:lnTo>
                    <a:pt x="472" y="408"/>
                  </a:lnTo>
                  <a:lnTo>
                    <a:pt x="455" y="423"/>
                  </a:lnTo>
                  <a:lnTo>
                    <a:pt x="440" y="438"/>
                  </a:lnTo>
                  <a:lnTo>
                    <a:pt x="424" y="456"/>
                  </a:lnTo>
                  <a:lnTo>
                    <a:pt x="409" y="474"/>
                  </a:lnTo>
                  <a:lnTo>
                    <a:pt x="394" y="491"/>
                  </a:lnTo>
                  <a:lnTo>
                    <a:pt x="377" y="507"/>
                  </a:lnTo>
                  <a:lnTo>
                    <a:pt x="360" y="524"/>
                  </a:lnTo>
                  <a:lnTo>
                    <a:pt x="341" y="539"/>
                  </a:lnTo>
                  <a:lnTo>
                    <a:pt x="332" y="545"/>
                  </a:lnTo>
                  <a:lnTo>
                    <a:pt x="321" y="552"/>
                  </a:lnTo>
                  <a:lnTo>
                    <a:pt x="311" y="556"/>
                  </a:lnTo>
                  <a:lnTo>
                    <a:pt x="299" y="562"/>
                  </a:lnTo>
                  <a:lnTo>
                    <a:pt x="287" y="566"/>
                  </a:lnTo>
                  <a:lnTo>
                    <a:pt x="274" y="569"/>
                  </a:lnTo>
                  <a:lnTo>
                    <a:pt x="262" y="573"/>
                  </a:lnTo>
                  <a:lnTo>
                    <a:pt x="248" y="574"/>
                  </a:lnTo>
                  <a:lnTo>
                    <a:pt x="236" y="575"/>
                  </a:lnTo>
                  <a:lnTo>
                    <a:pt x="224" y="577"/>
                  </a:lnTo>
                  <a:lnTo>
                    <a:pt x="213" y="580"/>
                  </a:lnTo>
                  <a:lnTo>
                    <a:pt x="201" y="583"/>
                  </a:lnTo>
                  <a:lnTo>
                    <a:pt x="177" y="592"/>
                  </a:lnTo>
                  <a:lnTo>
                    <a:pt x="154" y="601"/>
                  </a:lnTo>
                  <a:lnTo>
                    <a:pt x="132" y="613"/>
                  </a:lnTo>
                  <a:lnTo>
                    <a:pt x="111" y="625"/>
                  </a:lnTo>
                  <a:lnTo>
                    <a:pt x="91" y="639"/>
                  </a:lnTo>
                  <a:lnTo>
                    <a:pt x="72" y="653"/>
                  </a:lnTo>
                  <a:lnTo>
                    <a:pt x="56" y="669"/>
                  </a:lnTo>
                  <a:lnTo>
                    <a:pt x="41" y="683"/>
                  </a:lnTo>
                  <a:lnTo>
                    <a:pt x="28" y="697"/>
                  </a:lnTo>
                  <a:lnTo>
                    <a:pt x="19" y="709"/>
                  </a:lnTo>
                  <a:lnTo>
                    <a:pt x="12" y="720"/>
                  </a:lnTo>
                  <a:lnTo>
                    <a:pt x="7" y="731"/>
                  </a:lnTo>
                  <a:lnTo>
                    <a:pt x="6" y="735"/>
                  </a:lnTo>
                  <a:lnTo>
                    <a:pt x="6" y="739"/>
                  </a:lnTo>
                  <a:lnTo>
                    <a:pt x="7" y="741"/>
                  </a:lnTo>
                  <a:lnTo>
                    <a:pt x="8" y="745"/>
                  </a:lnTo>
                  <a:lnTo>
                    <a:pt x="12" y="748"/>
                  </a:lnTo>
                  <a:lnTo>
                    <a:pt x="15" y="754"/>
                  </a:lnTo>
                  <a:lnTo>
                    <a:pt x="17" y="759"/>
                  </a:lnTo>
                  <a:lnTo>
                    <a:pt x="19" y="763"/>
                  </a:lnTo>
                  <a:lnTo>
                    <a:pt x="20" y="775"/>
                  </a:lnTo>
                  <a:lnTo>
                    <a:pt x="17" y="785"/>
                  </a:lnTo>
                  <a:lnTo>
                    <a:pt x="15" y="795"/>
                  </a:lnTo>
                  <a:lnTo>
                    <a:pt x="10" y="803"/>
                  </a:lnTo>
                  <a:lnTo>
                    <a:pt x="5" y="810"/>
                  </a:lnTo>
                  <a:lnTo>
                    <a:pt x="0" y="813"/>
                  </a:lnTo>
                  <a:lnTo>
                    <a:pt x="541" y="75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6" name="Freeform 137"/>
            <p:cNvSpPr/>
            <p:nvPr/>
          </p:nvSpPr>
          <p:spPr>
            <a:xfrm>
              <a:off x="6928920" y="2940480"/>
              <a:ext cx="1171440" cy="401400"/>
            </a:xfrm>
            <a:custGeom>
              <a:avLst/>
              <a:gdLst>
                <a:gd name="textAreaLeft" fmla="*/ 0 w 1171440"/>
                <a:gd name="textAreaRight" fmla="*/ 1171800 w 1171440"/>
                <a:gd name="textAreaTop" fmla="*/ 0 h 401400"/>
                <a:gd name="textAreaBottom" fmla="*/ 401760 h 401400"/>
              </a:gdLst>
              <a:ahLst/>
              <a:rect l="textAreaLeft" t="textAreaTop" r="textAreaRight" b="textAreaBottom"/>
              <a:pathLst>
                <a:path w="2666" h="882">
                  <a:moveTo>
                    <a:pt x="541" y="755"/>
                  </a:moveTo>
                  <a:lnTo>
                    <a:pt x="556" y="690"/>
                  </a:lnTo>
                  <a:lnTo>
                    <a:pt x="1089" y="643"/>
                  </a:lnTo>
                  <a:lnTo>
                    <a:pt x="1120" y="698"/>
                  </a:lnTo>
                  <a:lnTo>
                    <a:pt x="1468" y="666"/>
                  </a:lnTo>
                  <a:lnTo>
                    <a:pt x="2117" y="882"/>
                  </a:lnTo>
                  <a:lnTo>
                    <a:pt x="2317" y="851"/>
                  </a:lnTo>
                  <a:lnTo>
                    <a:pt x="2316" y="843"/>
                  </a:lnTo>
                  <a:lnTo>
                    <a:pt x="2312" y="822"/>
                  </a:lnTo>
                  <a:lnTo>
                    <a:pt x="2307" y="790"/>
                  </a:lnTo>
                  <a:lnTo>
                    <a:pt x="2302" y="753"/>
                  </a:lnTo>
                  <a:lnTo>
                    <a:pt x="2301" y="733"/>
                  </a:lnTo>
                  <a:lnTo>
                    <a:pt x="2301" y="713"/>
                  </a:lnTo>
                  <a:lnTo>
                    <a:pt x="2302" y="694"/>
                  </a:lnTo>
                  <a:lnTo>
                    <a:pt x="2305" y="676"/>
                  </a:lnTo>
                  <a:lnTo>
                    <a:pt x="2308" y="658"/>
                  </a:lnTo>
                  <a:lnTo>
                    <a:pt x="2314" y="643"/>
                  </a:lnTo>
                  <a:lnTo>
                    <a:pt x="2319" y="637"/>
                  </a:lnTo>
                  <a:lnTo>
                    <a:pt x="2322" y="630"/>
                  </a:lnTo>
                  <a:lnTo>
                    <a:pt x="2327" y="625"/>
                  </a:lnTo>
                  <a:lnTo>
                    <a:pt x="2333" y="621"/>
                  </a:lnTo>
                  <a:lnTo>
                    <a:pt x="2344" y="610"/>
                  </a:lnTo>
                  <a:lnTo>
                    <a:pt x="2357" y="599"/>
                  </a:lnTo>
                  <a:lnTo>
                    <a:pt x="2371" y="586"/>
                  </a:lnTo>
                  <a:lnTo>
                    <a:pt x="2386" y="572"/>
                  </a:lnTo>
                  <a:lnTo>
                    <a:pt x="2418" y="540"/>
                  </a:lnTo>
                  <a:lnTo>
                    <a:pt x="2453" y="507"/>
                  </a:lnTo>
                  <a:lnTo>
                    <a:pt x="2473" y="492"/>
                  </a:lnTo>
                  <a:lnTo>
                    <a:pt x="2494" y="477"/>
                  </a:lnTo>
                  <a:lnTo>
                    <a:pt x="2515" y="463"/>
                  </a:lnTo>
                  <a:lnTo>
                    <a:pt x="2538" y="450"/>
                  </a:lnTo>
                  <a:lnTo>
                    <a:pt x="2550" y="444"/>
                  </a:lnTo>
                  <a:lnTo>
                    <a:pt x="2563" y="438"/>
                  </a:lnTo>
                  <a:lnTo>
                    <a:pt x="2576" y="434"/>
                  </a:lnTo>
                  <a:lnTo>
                    <a:pt x="2588" y="429"/>
                  </a:lnTo>
                  <a:lnTo>
                    <a:pt x="2601" y="426"/>
                  </a:lnTo>
                  <a:lnTo>
                    <a:pt x="2615" y="422"/>
                  </a:lnTo>
                  <a:lnTo>
                    <a:pt x="2629" y="420"/>
                  </a:lnTo>
                  <a:lnTo>
                    <a:pt x="2643" y="419"/>
                  </a:lnTo>
                  <a:lnTo>
                    <a:pt x="2645" y="403"/>
                  </a:lnTo>
                  <a:lnTo>
                    <a:pt x="2646" y="387"/>
                  </a:lnTo>
                  <a:lnTo>
                    <a:pt x="2648" y="370"/>
                  </a:lnTo>
                  <a:lnTo>
                    <a:pt x="2652" y="351"/>
                  </a:lnTo>
                  <a:lnTo>
                    <a:pt x="2659" y="314"/>
                  </a:lnTo>
                  <a:lnTo>
                    <a:pt x="2664" y="276"/>
                  </a:lnTo>
                  <a:lnTo>
                    <a:pt x="2666" y="257"/>
                  </a:lnTo>
                  <a:lnTo>
                    <a:pt x="2666" y="239"/>
                  </a:lnTo>
                  <a:lnTo>
                    <a:pt x="2664" y="222"/>
                  </a:lnTo>
                  <a:lnTo>
                    <a:pt x="2662" y="206"/>
                  </a:lnTo>
                  <a:lnTo>
                    <a:pt x="2660" y="198"/>
                  </a:lnTo>
                  <a:lnTo>
                    <a:pt x="2656" y="191"/>
                  </a:lnTo>
                  <a:lnTo>
                    <a:pt x="2653" y="184"/>
                  </a:lnTo>
                  <a:lnTo>
                    <a:pt x="2649" y="178"/>
                  </a:lnTo>
                  <a:lnTo>
                    <a:pt x="2645" y="172"/>
                  </a:lnTo>
                  <a:lnTo>
                    <a:pt x="2639" y="166"/>
                  </a:lnTo>
                  <a:lnTo>
                    <a:pt x="2633" y="160"/>
                  </a:lnTo>
                  <a:lnTo>
                    <a:pt x="2626" y="157"/>
                  </a:lnTo>
                  <a:lnTo>
                    <a:pt x="2597" y="141"/>
                  </a:lnTo>
                  <a:lnTo>
                    <a:pt x="2569" y="128"/>
                  </a:lnTo>
                  <a:lnTo>
                    <a:pt x="2539" y="116"/>
                  </a:lnTo>
                  <a:lnTo>
                    <a:pt x="2511" y="102"/>
                  </a:lnTo>
                  <a:lnTo>
                    <a:pt x="2496" y="95"/>
                  </a:lnTo>
                  <a:lnTo>
                    <a:pt x="2482" y="86"/>
                  </a:lnTo>
                  <a:lnTo>
                    <a:pt x="2468" y="76"/>
                  </a:lnTo>
                  <a:lnTo>
                    <a:pt x="2454" y="65"/>
                  </a:lnTo>
                  <a:lnTo>
                    <a:pt x="2439" y="52"/>
                  </a:lnTo>
                  <a:lnTo>
                    <a:pt x="2425" y="37"/>
                  </a:lnTo>
                  <a:lnTo>
                    <a:pt x="2411" y="20"/>
                  </a:lnTo>
                  <a:lnTo>
                    <a:pt x="2396" y="0"/>
                  </a:lnTo>
                  <a:lnTo>
                    <a:pt x="625" y="240"/>
                  </a:lnTo>
                  <a:lnTo>
                    <a:pt x="618" y="246"/>
                  </a:lnTo>
                  <a:lnTo>
                    <a:pt x="613" y="252"/>
                  </a:lnTo>
                  <a:lnTo>
                    <a:pt x="611" y="260"/>
                  </a:lnTo>
                  <a:lnTo>
                    <a:pt x="607" y="269"/>
                  </a:lnTo>
                  <a:lnTo>
                    <a:pt x="605" y="290"/>
                  </a:lnTo>
                  <a:lnTo>
                    <a:pt x="603" y="311"/>
                  </a:lnTo>
                  <a:lnTo>
                    <a:pt x="600" y="323"/>
                  </a:lnTo>
                  <a:lnTo>
                    <a:pt x="598" y="333"/>
                  </a:lnTo>
                  <a:lnTo>
                    <a:pt x="593" y="343"/>
                  </a:lnTo>
                  <a:lnTo>
                    <a:pt x="589" y="351"/>
                  </a:lnTo>
                  <a:lnTo>
                    <a:pt x="582" y="359"/>
                  </a:lnTo>
                  <a:lnTo>
                    <a:pt x="573" y="365"/>
                  </a:lnTo>
                  <a:lnTo>
                    <a:pt x="569" y="367"/>
                  </a:lnTo>
                  <a:lnTo>
                    <a:pt x="563" y="370"/>
                  </a:lnTo>
                  <a:lnTo>
                    <a:pt x="557" y="372"/>
                  </a:lnTo>
                  <a:lnTo>
                    <a:pt x="550" y="372"/>
                  </a:lnTo>
                  <a:lnTo>
                    <a:pt x="538" y="374"/>
                  </a:lnTo>
                  <a:lnTo>
                    <a:pt x="528" y="377"/>
                  </a:lnTo>
                  <a:lnTo>
                    <a:pt x="517" y="380"/>
                  </a:lnTo>
                  <a:lnTo>
                    <a:pt x="507" y="385"/>
                  </a:lnTo>
                  <a:lnTo>
                    <a:pt x="498" y="389"/>
                  </a:lnTo>
                  <a:lnTo>
                    <a:pt x="488" y="395"/>
                  </a:lnTo>
                  <a:lnTo>
                    <a:pt x="480" y="401"/>
                  </a:lnTo>
                  <a:lnTo>
                    <a:pt x="472" y="408"/>
                  </a:lnTo>
                  <a:lnTo>
                    <a:pt x="455" y="423"/>
                  </a:lnTo>
                  <a:lnTo>
                    <a:pt x="440" y="438"/>
                  </a:lnTo>
                  <a:lnTo>
                    <a:pt x="424" y="456"/>
                  </a:lnTo>
                  <a:lnTo>
                    <a:pt x="409" y="474"/>
                  </a:lnTo>
                  <a:lnTo>
                    <a:pt x="394" y="491"/>
                  </a:lnTo>
                  <a:lnTo>
                    <a:pt x="377" y="507"/>
                  </a:lnTo>
                  <a:lnTo>
                    <a:pt x="360" y="524"/>
                  </a:lnTo>
                  <a:lnTo>
                    <a:pt x="341" y="539"/>
                  </a:lnTo>
                  <a:lnTo>
                    <a:pt x="332" y="545"/>
                  </a:lnTo>
                  <a:lnTo>
                    <a:pt x="321" y="552"/>
                  </a:lnTo>
                  <a:lnTo>
                    <a:pt x="311" y="556"/>
                  </a:lnTo>
                  <a:lnTo>
                    <a:pt x="299" y="562"/>
                  </a:lnTo>
                  <a:lnTo>
                    <a:pt x="287" y="566"/>
                  </a:lnTo>
                  <a:lnTo>
                    <a:pt x="274" y="569"/>
                  </a:lnTo>
                  <a:lnTo>
                    <a:pt x="262" y="573"/>
                  </a:lnTo>
                  <a:lnTo>
                    <a:pt x="248" y="574"/>
                  </a:lnTo>
                  <a:lnTo>
                    <a:pt x="236" y="575"/>
                  </a:lnTo>
                  <a:lnTo>
                    <a:pt x="224" y="577"/>
                  </a:lnTo>
                  <a:lnTo>
                    <a:pt x="213" y="580"/>
                  </a:lnTo>
                  <a:lnTo>
                    <a:pt x="201" y="583"/>
                  </a:lnTo>
                  <a:lnTo>
                    <a:pt x="177" y="592"/>
                  </a:lnTo>
                  <a:lnTo>
                    <a:pt x="154" y="601"/>
                  </a:lnTo>
                  <a:lnTo>
                    <a:pt x="132" y="613"/>
                  </a:lnTo>
                  <a:lnTo>
                    <a:pt x="111" y="625"/>
                  </a:lnTo>
                  <a:lnTo>
                    <a:pt x="91" y="639"/>
                  </a:lnTo>
                  <a:lnTo>
                    <a:pt x="72" y="653"/>
                  </a:lnTo>
                  <a:lnTo>
                    <a:pt x="56" y="669"/>
                  </a:lnTo>
                  <a:lnTo>
                    <a:pt x="41" y="683"/>
                  </a:lnTo>
                  <a:lnTo>
                    <a:pt x="28" y="697"/>
                  </a:lnTo>
                  <a:lnTo>
                    <a:pt x="19" y="709"/>
                  </a:lnTo>
                  <a:lnTo>
                    <a:pt x="12" y="720"/>
                  </a:lnTo>
                  <a:lnTo>
                    <a:pt x="7" y="731"/>
                  </a:lnTo>
                  <a:lnTo>
                    <a:pt x="6" y="735"/>
                  </a:lnTo>
                  <a:lnTo>
                    <a:pt x="6" y="739"/>
                  </a:lnTo>
                  <a:lnTo>
                    <a:pt x="7" y="741"/>
                  </a:lnTo>
                  <a:lnTo>
                    <a:pt x="8" y="745"/>
                  </a:lnTo>
                  <a:lnTo>
                    <a:pt x="12" y="748"/>
                  </a:lnTo>
                  <a:lnTo>
                    <a:pt x="15" y="754"/>
                  </a:lnTo>
                  <a:lnTo>
                    <a:pt x="17" y="759"/>
                  </a:lnTo>
                  <a:lnTo>
                    <a:pt x="19" y="763"/>
                  </a:lnTo>
                  <a:lnTo>
                    <a:pt x="20" y="775"/>
                  </a:lnTo>
                  <a:lnTo>
                    <a:pt x="17" y="785"/>
                  </a:lnTo>
                  <a:lnTo>
                    <a:pt x="15" y="795"/>
                  </a:lnTo>
                  <a:lnTo>
                    <a:pt x="10" y="803"/>
                  </a:lnTo>
                  <a:lnTo>
                    <a:pt x="5" y="810"/>
                  </a:lnTo>
                  <a:lnTo>
                    <a:pt x="0" y="813"/>
                  </a:lnTo>
                  <a:lnTo>
                    <a:pt x="541" y="755"/>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7" name="Freeform 138"/>
            <p:cNvSpPr/>
            <p:nvPr/>
          </p:nvSpPr>
          <p:spPr>
            <a:xfrm>
              <a:off x="6065280" y="3049920"/>
              <a:ext cx="1138680" cy="360720"/>
            </a:xfrm>
            <a:custGeom>
              <a:avLst/>
              <a:gdLst>
                <a:gd name="textAreaLeft" fmla="*/ 0 w 1138680"/>
                <a:gd name="textAreaRight" fmla="*/ 1139040 w 1138680"/>
                <a:gd name="textAreaTop" fmla="*/ 0 h 360720"/>
                <a:gd name="textAreaBottom" fmla="*/ 361080 h 360720"/>
              </a:gdLst>
              <a:ahLst/>
              <a:rect l="textAreaLeft" t="textAreaTop" r="textAreaRight" b="textAreaBottom"/>
              <a:pathLst>
                <a:path w="2590" h="792">
                  <a:moveTo>
                    <a:pt x="2590" y="0"/>
                  </a:moveTo>
                  <a:lnTo>
                    <a:pt x="613" y="265"/>
                  </a:lnTo>
                  <a:lnTo>
                    <a:pt x="596" y="311"/>
                  </a:lnTo>
                  <a:lnTo>
                    <a:pt x="78" y="366"/>
                  </a:lnTo>
                  <a:lnTo>
                    <a:pt x="76" y="377"/>
                  </a:lnTo>
                  <a:lnTo>
                    <a:pt x="75" y="388"/>
                  </a:lnTo>
                  <a:lnTo>
                    <a:pt x="74" y="398"/>
                  </a:lnTo>
                  <a:lnTo>
                    <a:pt x="74" y="408"/>
                  </a:lnTo>
                  <a:lnTo>
                    <a:pt x="74" y="426"/>
                  </a:lnTo>
                  <a:lnTo>
                    <a:pt x="74" y="443"/>
                  </a:lnTo>
                  <a:lnTo>
                    <a:pt x="73" y="452"/>
                  </a:lnTo>
                  <a:lnTo>
                    <a:pt x="70" y="460"/>
                  </a:lnTo>
                  <a:lnTo>
                    <a:pt x="68" y="469"/>
                  </a:lnTo>
                  <a:lnTo>
                    <a:pt x="63" y="478"/>
                  </a:lnTo>
                  <a:lnTo>
                    <a:pt x="59" y="487"/>
                  </a:lnTo>
                  <a:lnTo>
                    <a:pt x="52" y="498"/>
                  </a:lnTo>
                  <a:lnTo>
                    <a:pt x="42" y="508"/>
                  </a:lnTo>
                  <a:lnTo>
                    <a:pt x="32" y="519"/>
                  </a:lnTo>
                  <a:lnTo>
                    <a:pt x="35" y="535"/>
                  </a:lnTo>
                  <a:lnTo>
                    <a:pt x="36" y="551"/>
                  </a:lnTo>
                  <a:lnTo>
                    <a:pt x="37" y="568"/>
                  </a:lnTo>
                  <a:lnTo>
                    <a:pt x="39" y="585"/>
                  </a:lnTo>
                  <a:lnTo>
                    <a:pt x="37" y="603"/>
                  </a:lnTo>
                  <a:lnTo>
                    <a:pt x="37" y="619"/>
                  </a:lnTo>
                  <a:lnTo>
                    <a:pt x="35" y="637"/>
                  </a:lnTo>
                  <a:lnTo>
                    <a:pt x="33" y="654"/>
                  </a:lnTo>
                  <a:lnTo>
                    <a:pt x="27" y="689"/>
                  </a:lnTo>
                  <a:lnTo>
                    <a:pt x="20" y="724"/>
                  </a:lnTo>
                  <a:lnTo>
                    <a:pt x="11" y="758"/>
                  </a:lnTo>
                  <a:lnTo>
                    <a:pt x="0" y="792"/>
                  </a:lnTo>
                  <a:lnTo>
                    <a:pt x="709" y="717"/>
                  </a:lnTo>
                  <a:lnTo>
                    <a:pt x="712" y="717"/>
                  </a:lnTo>
                  <a:lnTo>
                    <a:pt x="1466" y="631"/>
                  </a:lnTo>
                  <a:lnTo>
                    <a:pt x="1967" y="576"/>
                  </a:lnTo>
                  <a:lnTo>
                    <a:pt x="1972" y="563"/>
                  </a:lnTo>
                  <a:lnTo>
                    <a:pt x="1981" y="545"/>
                  </a:lnTo>
                  <a:lnTo>
                    <a:pt x="1982" y="541"/>
                  </a:lnTo>
                  <a:lnTo>
                    <a:pt x="1984" y="536"/>
                  </a:lnTo>
                  <a:lnTo>
                    <a:pt x="1985" y="530"/>
                  </a:lnTo>
                  <a:lnTo>
                    <a:pt x="1985" y="526"/>
                  </a:lnTo>
                  <a:lnTo>
                    <a:pt x="1984" y="520"/>
                  </a:lnTo>
                  <a:lnTo>
                    <a:pt x="1981" y="515"/>
                  </a:lnTo>
                  <a:lnTo>
                    <a:pt x="1978" y="509"/>
                  </a:lnTo>
                  <a:lnTo>
                    <a:pt x="1973" y="505"/>
                  </a:lnTo>
                  <a:lnTo>
                    <a:pt x="1972" y="501"/>
                  </a:lnTo>
                  <a:lnTo>
                    <a:pt x="1971" y="499"/>
                  </a:lnTo>
                  <a:lnTo>
                    <a:pt x="1971" y="495"/>
                  </a:lnTo>
                  <a:lnTo>
                    <a:pt x="1972" y="491"/>
                  </a:lnTo>
                  <a:lnTo>
                    <a:pt x="1977" y="480"/>
                  </a:lnTo>
                  <a:lnTo>
                    <a:pt x="1984" y="469"/>
                  </a:lnTo>
                  <a:lnTo>
                    <a:pt x="1993" y="457"/>
                  </a:lnTo>
                  <a:lnTo>
                    <a:pt x="2006" y="443"/>
                  </a:lnTo>
                  <a:lnTo>
                    <a:pt x="2021" y="429"/>
                  </a:lnTo>
                  <a:lnTo>
                    <a:pt x="2037" y="413"/>
                  </a:lnTo>
                  <a:lnTo>
                    <a:pt x="2056" y="399"/>
                  </a:lnTo>
                  <a:lnTo>
                    <a:pt x="2076" y="385"/>
                  </a:lnTo>
                  <a:lnTo>
                    <a:pt x="2097" y="373"/>
                  </a:lnTo>
                  <a:lnTo>
                    <a:pt x="2119" y="361"/>
                  </a:lnTo>
                  <a:lnTo>
                    <a:pt x="2142" y="352"/>
                  </a:lnTo>
                  <a:lnTo>
                    <a:pt x="2166" y="343"/>
                  </a:lnTo>
                  <a:lnTo>
                    <a:pt x="2178" y="340"/>
                  </a:lnTo>
                  <a:lnTo>
                    <a:pt x="2189" y="337"/>
                  </a:lnTo>
                  <a:lnTo>
                    <a:pt x="2201" y="335"/>
                  </a:lnTo>
                  <a:lnTo>
                    <a:pt x="2213" y="334"/>
                  </a:lnTo>
                  <a:lnTo>
                    <a:pt x="2227" y="333"/>
                  </a:lnTo>
                  <a:lnTo>
                    <a:pt x="2239" y="329"/>
                  </a:lnTo>
                  <a:lnTo>
                    <a:pt x="2252" y="326"/>
                  </a:lnTo>
                  <a:lnTo>
                    <a:pt x="2264" y="322"/>
                  </a:lnTo>
                  <a:lnTo>
                    <a:pt x="2276" y="316"/>
                  </a:lnTo>
                  <a:lnTo>
                    <a:pt x="2286" y="312"/>
                  </a:lnTo>
                  <a:lnTo>
                    <a:pt x="2297" y="305"/>
                  </a:lnTo>
                  <a:lnTo>
                    <a:pt x="2306" y="299"/>
                  </a:lnTo>
                  <a:lnTo>
                    <a:pt x="2325" y="284"/>
                  </a:lnTo>
                  <a:lnTo>
                    <a:pt x="2342" y="267"/>
                  </a:lnTo>
                  <a:lnTo>
                    <a:pt x="2359" y="251"/>
                  </a:lnTo>
                  <a:lnTo>
                    <a:pt x="2374" y="234"/>
                  </a:lnTo>
                  <a:lnTo>
                    <a:pt x="2389" y="216"/>
                  </a:lnTo>
                  <a:lnTo>
                    <a:pt x="2405" y="198"/>
                  </a:lnTo>
                  <a:lnTo>
                    <a:pt x="2420" y="183"/>
                  </a:lnTo>
                  <a:lnTo>
                    <a:pt x="2437" y="168"/>
                  </a:lnTo>
                  <a:lnTo>
                    <a:pt x="2445" y="161"/>
                  </a:lnTo>
                  <a:lnTo>
                    <a:pt x="2453" y="155"/>
                  </a:lnTo>
                  <a:lnTo>
                    <a:pt x="2463" y="149"/>
                  </a:lnTo>
                  <a:lnTo>
                    <a:pt x="2472" y="145"/>
                  </a:lnTo>
                  <a:lnTo>
                    <a:pt x="2482" y="140"/>
                  </a:lnTo>
                  <a:lnTo>
                    <a:pt x="2493" y="137"/>
                  </a:lnTo>
                  <a:lnTo>
                    <a:pt x="2503" y="134"/>
                  </a:lnTo>
                  <a:lnTo>
                    <a:pt x="2515" y="132"/>
                  </a:lnTo>
                  <a:lnTo>
                    <a:pt x="2522" y="132"/>
                  </a:lnTo>
                  <a:lnTo>
                    <a:pt x="2528" y="130"/>
                  </a:lnTo>
                  <a:lnTo>
                    <a:pt x="2534" y="127"/>
                  </a:lnTo>
                  <a:lnTo>
                    <a:pt x="2538" y="125"/>
                  </a:lnTo>
                  <a:lnTo>
                    <a:pt x="2547" y="119"/>
                  </a:lnTo>
                  <a:lnTo>
                    <a:pt x="2554" y="111"/>
                  </a:lnTo>
                  <a:lnTo>
                    <a:pt x="2558" y="103"/>
                  </a:lnTo>
                  <a:lnTo>
                    <a:pt x="2563" y="93"/>
                  </a:lnTo>
                  <a:lnTo>
                    <a:pt x="2565" y="83"/>
                  </a:lnTo>
                  <a:lnTo>
                    <a:pt x="2568" y="71"/>
                  </a:lnTo>
                  <a:lnTo>
                    <a:pt x="2570" y="50"/>
                  </a:lnTo>
                  <a:lnTo>
                    <a:pt x="2572" y="29"/>
                  </a:lnTo>
                  <a:lnTo>
                    <a:pt x="2576" y="20"/>
                  </a:lnTo>
                  <a:lnTo>
                    <a:pt x="2578" y="12"/>
                  </a:lnTo>
                  <a:lnTo>
                    <a:pt x="2583" y="6"/>
                  </a:lnTo>
                  <a:lnTo>
                    <a:pt x="259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8" name="Freeform 139"/>
            <p:cNvSpPr/>
            <p:nvPr/>
          </p:nvSpPr>
          <p:spPr>
            <a:xfrm>
              <a:off x="6065280" y="3049920"/>
              <a:ext cx="1138680" cy="360720"/>
            </a:xfrm>
            <a:custGeom>
              <a:avLst/>
              <a:gdLst>
                <a:gd name="textAreaLeft" fmla="*/ 0 w 1138680"/>
                <a:gd name="textAreaRight" fmla="*/ 1139040 w 1138680"/>
                <a:gd name="textAreaTop" fmla="*/ 0 h 360720"/>
                <a:gd name="textAreaBottom" fmla="*/ 361080 h 360720"/>
              </a:gdLst>
              <a:ahLst/>
              <a:rect l="textAreaLeft" t="textAreaTop" r="textAreaRight" b="textAreaBottom"/>
              <a:pathLst>
                <a:path w="2590" h="792">
                  <a:moveTo>
                    <a:pt x="2590" y="0"/>
                  </a:moveTo>
                  <a:lnTo>
                    <a:pt x="613" y="265"/>
                  </a:lnTo>
                  <a:lnTo>
                    <a:pt x="596" y="311"/>
                  </a:lnTo>
                  <a:lnTo>
                    <a:pt x="78" y="366"/>
                  </a:lnTo>
                  <a:lnTo>
                    <a:pt x="76" y="377"/>
                  </a:lnTo>
                  <a:lnTo>
                    <a:pt x="75" y="388"/>
                  </a:lnTo>
                  <a:lnTo>
                    <a:pt x="74" y="398"/>
                  </a:lnTo>
                  <a:lnTo>
                    <a:pt x="74" y="408"/>
                  </a:lnTo>
                  <a:lnTo>
                    <a:pt x="74" y="426"/>
                  </a:lnTo>
                  <a:lnTo>
                    <a:pt x="74" y="443"/>
                  </a:lnTo>
                  <a:lnTo>
                    <a:pt x="73" y="452"/>
                  </a:lnTo>
                  <a:lnTo>
                    <a:pt x="70" y="460"/>
                  </a:lnTo>
                  <a:lnTo>
                    <a:pt x="68" y="469"/>
                  </a:lnTo>
                  <a:lnTo>
                    <a:pt x="63" y="478"/>
                  </a:lnTo>
                  <a:lnTo>
                    <a:pt x="59" y="487"/>
                  </a:lnTo>
                  <a:lnTo>
                    <a:pt x="52" y="498"/>
                  </a:lnTo>
                  <a:lnTo>
                    <a:pt x="42" y="508"/>
                  </a:lnTo>
                  <a:lnTo>
                    <a:pt x="32" y="519"/>
                  </a:lnTo>
                  <a:lnTo>
                    <a:pt x="35" y="535"/>
                  </a:lnTo>
                  <a:lnTo>
                    <a:pt x="36" y="551"/>
                  </a:lnTo>
                  <a:lnTo>
                    <a:pt x="37" y="568"/>
                  </a:lnTo>
                  <a:lnTo>
                    <a:pt x="39" y="585"/>
                  </a:lnTo>
                  <a:lnTo>
                    <a:pt x="37" y="603"/>
                  </a:lnTo>
                  <a:lnTo>
                    <a:pt x="37" y="619"/>
                  </a:lnTo>
                  <a:lnTo>
                    <a:pt x="35" y="637"/>
                  </a:lnTo>
                  <a:lnTo>
                    <a:pt x="33" y="654"/>
                  </a:lnTo>
                  <a:lnTo>
                    <a:pt x="27" y="689"/>
                  </a:lnTo>
                  <a:lnTo>
                    <a:pt x="20" y="724"/>
                  </a:lnTo>
                  <a:lnTo>
                    <a:pt x="11" y="758"/>
                  </a:lnTo>
                  <a:lnTo>
                    <a:pt x="0" y="792"/>
                  </a:lnTo>
                  <a:lnTo>
                    <a:pt x="709" y="717"/>
                  </a:lnTo>
                  <a:lnTo>
                    <a:pt x="712" y="717"/>
                  </a:lnTo>
                  <a:lnTo>
                    <a:pt x="1466" y="631"/>
                  </a:lnTo>
                  <a:lnTo>
                    <a:pt x="1967" y="576"/>
                  </a:lnTo>
                  <a:lnTo>
                    <a:pt x="1972" y="563"/>
                  </a:lnTo>
                  <a:lnTo>
                    <a:pt x="1981" y="545"/>
                  </a:lnTo>
                  <a:lnTo>
                    <a:pt x="1982" y="541"/>
                  </a:lnTo>
                  <a:lnTo>
                    <a:pt x="1984" y="536"/>
                  </a:lnTo>
                  <a:lnTo>
                    <a:pt x="1985" y="530"/>
                  </a:lnTo>
                  <a:lnTo>
                    <a:pt x="1985" y="526"/>
                  </a:lnTo>
                  <a:lnTo>
                    <a:pt x="1984" y="520"/>
                  </a:lnTo>
                  <a:lnTo>
                    <a:pt x="1981" y="515"/>
                  </a:lnTo>
                  <a:lnTo>
                    <a:pt x="1978" y="509"/>
                  </a:lnTo>
                  <a:lnTo>
                    <a:pt x="1973" y="505"/>
                  </a:lnTo>
                  <a:lnTo>
                    <a:pt x="1972" y="501"/>
                  </a:lnTo>
                  <a:lnTo>
                    <a:pt x="1971" y="499"/>
                  </a:lnTo>
                  <a:lnTo>
                    <a:pt x="1971" y="495"/>
                  </a:lnTo>
                  <a:lnTo>
                    <a:pt x="1972" y="491"/>
                  </a:lnTo>
                  <a:lnTo>
                    <a:pt x="1977" y="480"/>
                  </a:lnTo>
                  <a:lnTo>
                    <a:pt x="1984" y="469"/>
                  </a:lnTo>
                  <a:lnTo>
                    <a:pt x="1993" y="457"/>
                  </a:lnTo>
                  <a:lnTo>
                    <a:pt x="2006" y="443"/>
                  </a:lnTo>
                  <a:lnTo>
                    <a:pt x="2021" y="429"/>
                  </a:lnTo>
                  <a:lnTo>
                    <a:pt x="2037" y="413"/>
                  </a:lnTo>
                  <a:lnTo>
                    <a:pt x="2056" y="399"/>
                  </a:lnTo>
                  <a:lnTo>
                    <a:pt x="2076" y="385"/>
                  </a:lnTo>
                  <a:lnTo>
                    <a:pt x="2097" y="373"/>
                  </a:lnTo>
                  <a:lnTo>
                    <a:pt x="2119" y="361"/>
                  </a:lnTo>
                  <a:lnTo>
                    <a:pt x="2142" y="352"/>
                  </a:lnTo>
                  <a:lnTo>
                    <a:pt x="2166" y="343"/>
                  </a:lnTo>
                  <a:lnTo>
                    <a:pt x="2178" y="340"/>
                  </a:lnTo>
                  <a:lnTo>
                    <a:pt x="2189" y="337"/>
                  </a:lnTo>
                  <a:lnTo>
                    <a:pt x="2201" y="335"/>
                  </a:lnTo>
                  <a:lnTo>
                    <a:pt x="2213" y="334"/>
                  </a:lnTo>
                  <a:lnTo>
                    <a:pt x="2227" y="333"/>
                  </a:lnTo>
                  <a:lnTo>
                    <a:pt x="2239" y="329"/>
                  </a:lnTo>
                  <a:lnTo>
                    <a:pt x="2252" y="326"/>
                  </a:lnTo>
                  <a:lnTo>
                    <a:pt x="2264" y="322"/>
                  </a:lnTo>
                  <a:lnTo>
                    <a:pt x="2276" y="316"/>
                  </a:lnTo>
                  <a:lnTo>
                    <a:pt x="2286" y="312"/>
                  </a:lnTo>
                  <a:lnTo>
                    <a:pt x="2297" y="305"/>
                  </a:lnTo>
                  <a:lnTo>
                    <a:pt x="2306" y="299"/>
                  </a:lnTo>
                  <a:lnTo>
                    <a:pt x="2325" y="284"/>
                  </a:lnTo>
                  <a:lnTo>
                    <a:pt x="2342" y="267"/>
                  </a:lnTo>
                  <a:lnTo>
                    <a:pt x="2359" y="251"/>
                  </a:lnTo>
                  <a:lnTo>
                    <a:pt x="2374" y="234"/>
                  </a:lnTo>
                  <a:lnTo>
                    <a:pt x="2389" y="216"/>
                  </a:lnTo>
                  <a:lnTo>
                    <a:pt x="2405" y="198"/>
                  </a:lnTo>
                  <a:lnTo>
                    <a:pt x="2420" y="183"/>
                  </a:lnTo>
                  <a:lnTo>
                    <a:pt x="2437" y="168"/>
                  </a:lnTo>
                  <a:lnTo>
                    <a:pt x="2445" y="161"/>
                  </a:lnTo>
                  <a:lnTo>
                    <a:pt x="2453" y="155"/>
                  </a:lnTo>
                  <a:lnTo>
                    <a:pt x="2463" y="149"/>
                  </a:lnTo>
                  <a:lnTo>
                    <a:pt x="2472" y="145"/>
                  </a:lnTo>
                  <a:lnTo>
                    <a:pt x="2482" y="140"/>
                  </a:lnTo>
                  <a:lnTo>
                    <a:pt x="2493" y="137"/>
                  </a:lnTo>
                  <a:lnTo>
                    <a:pt x="2503" y="134"/>
                  </a:lnTo>
                  <a:lnTo>
                    <a:pt x="2515" y="132"/>
                  </a:lnTo>
                  <a:lnTo>
                    <a:pt x="2522" y="132"/>
                  </a:lnTo>
                  <a:lnTo>
                    <a:pt x="2528" y="130"/>
                  </a:lnTo>
                  <a:lnTo>
                    <a:pt x="2534" y="127"/>
                  </a:lnTo>
                  <a:lnTo>
                    <a:pt x="2538" y="125"/>
                  </a:lnTo>
                  <a:lnTo>
                    <a:pt x="2547" y="119"/>
                  </a:lnTo>
                  <a:lnTo>
                    <a:pt x="2554" y="111"/>
                  </a:lnTo>
                  <a:lnTo>
                    <a:pt x="2558" y="103"/>
                  </a:lnTo>
                  <a:lnTo>
                    <a:pt x="2563" y="93"/>
                  </a:lnTo>
                  <a:lnTo>
                    <a:pt x="2565" y="83"/>
                  </a:lnTo>
                  <a:lnTo>
                    <a:pt x="2568" y="71"/>
                  </a:lnTo>
                  <a:lnTo>
                    <a:pt x="2570" y="50"/>
                  </a:lnTo>
                  <a:lnTo>
                    <a:pt x="2572" y="29"/>
                  </a:lnTo>
                  <a:lnTo>
                    <a:pt x="2576" y="20"/>
                  </a:lnTo>
                  <a:lnTo>
                    <a:pt x="2578" y="12"/>
                  </a:lnTo>
                  <a:lnTo>
                    <a:pt x="2583" y="6"/>
                  </a:lnTo>
                  <a:lnTo>
                    <a:pt x="2590" y="0"/>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19" name="Freeform 140"/>
            <p:cNvSpPr/>
            <p:nvPr/>
          </p:nvSpPr>
          <p:spPr>
            <a:xfrm>
              <a:off x="6100560" y="2811600"/>
              <a:ext cx="938160" cy="406080"/>
            </a:xfrm>
            <a:custGeom>
              <a:avLst/>
              <a:gdLst>
                <a:gd name="textAreaLeft" fmla="*/ 0 w 938160"/>
                <a:gd name="textAreaRight" fmla="*/ 938520 w 938160"/>
                <a:gd name="textAreaTop" fmla="*/ 0 h 406080"/>
                <a:gd name="textAreaBottom" fmla="*/ 406440 h 406080"/>
              </a:gdLst>
              <a:ahLst/>
              <a:rect l="textAreaLeft" t="textAreaTop" r="textAreaRight" b="textAreaBottom"/>
              <a:pathLst>
                <a:path w="2135" h="893">
                  <a:moveTo>
                    <a:pt x="1872" y="611"/>
                  </a:moveTo>
                  <a:lnTo>
                    <a:pt x="535" y="792"/>
                  </a:lnTo>
                  <a:lnTo>
                    <a:pt x="518" y="838"/>
                  </a:lnTo>
                  <a:lnTo>
                    <a:pt x="0" y="893"/>
                  </a:lnTo>
                  <a:lnTo>
                    <a:pt x="7" y="870"/>
                  </a:lnTo>
                  <a:lnTo>
                    <a:pt x="16" y="849"/>
                  </a:lnTo>
                  <a:lnTo>
                    <a:pt x="25" y="829"/>
                  </a:lnTo>
                  <a:lnTo>
                    <a:pt x="37" y="812"/>
                  </a:lnTo>
                  <a:lnTo>
                    <a:pt x="49" y="794"/>
                  </a:lnTo>
                  <a:lnTo>
                    <a:pt x="63" y="778"/>
                  </a:lnTo>
                  <a:lnTo>
                    <a:pt x="79" y="764"/>
                  </a:lnTo>
                  <a:lnTo>
                    <a:pt x="95" y="751"/>
                  </a:lnTo>
                  <a:lnTo>
                    <a:pt x="110" y="737"/>
                  </a:lnTo>
                  <a:lnTo>
                    <a:pt x="125" y="725"/>
                  </a:lnTo>
                  <a:lnTo>
                    <a:pt x="139" y="716"/>
                  </a:lnTo>
                  <a:lnTo>
                    <a:pt x="153" y="708"/>
                  </a:lnTo>
                  <a:lnTo>
                    <a:pt x="180" y="695"/>
                  </a:lnTo>
                  <a:lnTo>
                    <a:pt x="206" y="682"/>
                  </a:lnTo>
                  <a:lnTo>
                    <a:pt x="219" y="675"/>
                  </a:lnTo>
                  <a:lnTo>
                    <a:pt x="232" y="666"/>
                  </a:lnTo>
                  <a:lnTo>
                    <a:pt x="246" y="655"/>
                  </a:lnTo>
                  <a:lnTo>
                    <a:pt x="259" y="643"/>
                  </a:lnTo>
                  <a:lnTo>
                    <a:pt x="273" y="627"/>
                  </a:lnTo>
                  <a:lnTo>
                    <a:pt x="287" y="609"/>
                  </a:lnTo>
                  <a:lnTo>
                    <a:pt x="302" y="585"/>
                  </a:lnTo>
                  <a:lnTo>
                    <a:pt x="317" y="558"/>
                  </a:lnTo>
                  <a:lnTo>
                    <a:pt x="326" y="539"/>
                  </a:lnTo>
                  <a:lnTo>
                    <a:pt x="331" y="527"/>
                  </a:lnTo>
                  <a:lnTo>
                    <a:pt x="336" y="520"/>
                  </a:lnTo>
                  <a:lnTo>
                    <a:pt x="344" y="509"/>
                  </a:lnTo>
                  <a:lnTo>
                    <a:pt x="359" y="495"/>
                  </a:lnTo>
                  <a:lnTo>
                    <a:pt x="380" y="476"/>
                  </a:lnTo>
                  <a:lnTo>
                    <a:pt x="391" y="466"/>
                  </a:lnTo>
                  <a:lnTo>
                    <a:pt x="402" y="458"/>
                  </a:lnTo>
                  <a:lnTo>
                    <a:pt x="415" y="451"/>
                  </a:lnTo>
                  <a:lnTo>
                    <a:pt x="430" y="444"/>
                  </a:lnTo>
                  <a:lnTo>
                    <a:pt x="444" y="438"/>
                  </a:lnTo>
                  <a:lnTo>
                    <a:pt x="461" y="432"/>
                  </a:lnTo>
                  <a:lnTo>
                    <a:pt x="478" y="428"/>
                  </a:lnTo>
                  <a:lnTo>
                    <a:pt x="496" y="423"/>
                  </a:lnTo>
                  <a:lnTo>
                    <a:pt x="575" y="407"/>
                  </a:lnTo>
                  <a:lnTo>
                    <a:pt x="663" y="391"/>
                  </a:lnTo>
                  <a:lnTo>
                    <a:pt x="708" y="382"/>
                  </a:lnTo>
                  <a:lnTo>
                    <a:pt x="755" y="370"/>
                  </a:lnTo>
                  <a:lnTo>
                    <a:pt x="778" y="363"/>
                  </a:lnTo>
                  <a:lnTo>
                    <a:pt x="802" y="356"/>
                  </a:lnTo>
                  <a:lnTo>
                    <a:pt x="825" y="348"/>
                  </a:lnTo>
                  <a:lnTo>
                    <a:pt x="848" y="340"/>
                  </a:lnTo>
                  <a:lnTo>
                    <a:pt x="872" y="330"/>
                  </a:lnTo>
                  <a:lnTo>
                    <a:pt x="894" y="319"/>
                  </a:lnTo>
                  <a:lnTo>
                    <a:pt x="916" y="306"/>
                  </a:lnTo>
                  <a:lnTo>
                    <a:pt x="938" y="293"/>
                  </a:lnTo>
                  <a:lnTo>
                    <a:pt x="961" y="279"/>
                  </a:lnTo>
                  <a:lnTo>
                    <a:pt x="982" y="263"/>
                  </a:lnTo>
                  <a:lnTo>
                    <a:pt x="1003" y="247"/>
                  </a:lnTo>
                  <a:lnTo>
                    <a:pt x="1022" y="228"/>
                  </a:lnTo>
                  <a:lnTo>
                    <a:pt x="1041" y="208"/>
                  </a:lnTo>
                  <a:lnTo>
                    <a:pt x="1054" y="191"/>
                  </a:lnTo>
                  <a:lnTo>
                    <a:pt x="1059" y="182"/>
                  </a:lnTo>
                  <a:lnTo>
                    <a:pt x="1062" y="175"/>
                  </a:lnTo>
                  <a:lnTo>
                    <a:pt x="1066" y="168"/>
                  </a:lnTo>
                  <a:lnTo>
                    <a:pt x="1068" y="161"/>
                  </a:lnTo>
                  <a:lnTo>
                    <a:pt x="1070" y="150"/>
                  </a:lnTo>
                  <a:lnTo>
                    <a:pt x="1070" y="139"/>
                  </a:lnTo>
                  <a:lnTo>
                    <a:pt x="1068" y="130"/>
                  </a:lnTo>
                  <a:lnTo>
                    <a:pt x="1067" y="120"/>
                  </a:lnTo>
                  <a:lnTo>
                    <a:pt x="1065" y="112"/>
                  </a:lnTo>
                  <a:lnTo>
                    <a:pt x="1062" y="104"/>
                  </a:lnTo>
                  <a:lnTo>
                    <a:pt x="1062" y="96"/>
                  </a:lnTo>
                  <a:lnTo>
                    <a:pt x="1063" y="87"/>
                  </a:lnTo>
                  <a:lnTo>
                    <a:pt x="1066" y="82"/>
                  </a:lnTo>
                  <a:lnTo>
                    <a:pt x="1068" y="77"/>
                  </a:lnTo>
                  <a:lnTo>
                    <a:pt x="1072" y="71"/>
                  </a:lnTo>
                  <a:lnTo>
                    <a:pt x="1076" y="66"/>
                  </a:lnTo>
                  <a:lnTo>
                    <a:pt x="1089" y="54"/>
                  </a:lnTo>
                  <a:lnTo>
                    <a:pt x="1105" y="40"/>
                  </a:lnTo>
                  <a:lnTo>
                    <a:pt x="1109" y="36"/>
                  </a:lnTo>
                  <a:lnTo>
                    <a:pt x="1112" y="34"/>
                  </a:lnTo>
                  <a:lnTo>
                    <a:pt x="1116" y="32"/>
                  </a:lnTo>
                  <a:lnTo>
                    <a:pt x="1121" y="30"/>
                  </a:lnTo>
                  <a:lnTo>
                    <a:pt x="1131" y="28"/>
                  </a:lnTo>
                  <a:lnTo>
                    <a:pt x="1142" y="28"/>
                  </a:lnTo>
                  <a:lnTo>
                    <a:pt x="1153" y="27"/>
                  </a:lnTo>
                  <a:lnTo>
                    <a:pt x="1164" y="25"/>
                  </a:lnTo>
                  <a:lnTo>
                    <a:pt x="1170" y="22"/>
                  </a:lnTo>
                  <a:lnTo>
                    <a:pt x="1174" y="20"/>
                  </a:lnTo>
                  <a:lnTo>
                    <a:pt x="1179" y="16"/>
                  </a:lnTo>
                  <a:lnTo>
                    <a:pt x="1184" y="12"/>
                  </a:lnTo>
                  <a:lnTo>
                    <a:pt x="1186" y="8"/>
                  </a:lnTo>
                  <a:lnTo>
                    <a:pt x="1190" y="6"/>
                  </a:lnTo>
                  <a:lnTo>
                    <a:pt x="1193" y="5"/>
                  </a:lnTo>
                  <a:lnTo>
                    <a:pt x="1197" y="2"/>
                  </a:lnTo>
                  <a:lnTo>
                    <a:pt x="1206" y="1"/>
                  </a:lnTo>
                  <a:lnTo>
                    <a:pt x="1216" y="0"/>
                  </a:lnTo>
                  <a:lnTo>
                    <a:pt x="1229" y="0"/>
                  </a:lnTo>
                  <a:lnTo>
                    <a:pt x="1242" y="1"/>
                  </a:lnTo>
                  <a:lnTo>
                    <a:pt x="1255" y="4"/>
                  </a:lnTo>
                  <a:lnTo>
                    <a:pt x="1269" y="6"/>
                  </a:lnTo>
                  <a:lnTo>
                    <a:pt x="1296" y="11"/>
                  </a:lnTo>
                  <a:lnTo>
                    <a:pt x="1320" y="15"/>
                  </a:lnTo>
                  <a:lnTo>
                    <a:pt x="1331" y="18"/>
                  </a:lnTo>
                  <a:lnTo>
                    <a:pt x="1340" y="18"/>
                  </a:lnTo>
                  <a:lnTo>
                    <a:pt x="1348" y="19"/>
                  </a:lnTo>
                  <a:lnTo>
                    <a:pt x="1353" y="18"/>
                  </a:lnTo>
                  <a:lnTo>
                    <a:pt x="1358" y="16"/>
                  </a:lnTo>
                  <a:lnTo>
                    <a:pt x="1364" y="18"/>
                  </a:lnTo>
                  <a:lnTo>
                    <a:pt x="1369" y="20"/>
                  </a:lnTo>
                  <a:lnTo>
                    <a:pt x="1376" y="23"/>
                  </a:lnTo>
                  <a:lnTo>
                    <a:pt x="1390" y="30"/>
                  </a:lnTo>
                  <a:lnTo>
                    <a:pt x="1404" y="40"/>
                  </a:lnTo>
                  <a:lnTo>
                    <a:pt x="1420" y="48"/>
                  </a:lnTo>
                  <a:lnTo>
                    <a:pt x="1435" y="53"/>
                  </a:lnTo>
                  <a:lnTo>
                    <a:pt x="1442" y="54"/>
                  </a:lnTo>
                  <a:lnTo>
                    <a:pt x="1449" y="54"/>
                  </a:lnTo>
                  <a:lnTo>
                    <a:pt x="1455" y="53"/>
                  </a:lnTo>
                  <a:lnTo>
                    <a:pt x="1461" y="49"/>
                  </a:lnTo>
                  <a:lnTo>
                    <a:pt x="1466" y="44"/>
                  </a:lnTo>
                  <a:lnTo>
                    <a:pt x="1473" y="41"/>
                  </a:lnTo>
                  <a:lnTo>
                    <a:pt x="1482" y="37"/>
                  </a:lnTo>
                  <a:lnTo>
                    <a:pt x="1490" y="34"/>
                  </a:lnTo>
                  <a:lnTo>
                    <a:pt x="1508" y="29"/>
                  </a:lnTo>
                  <a:lnTo>
                    <a:pt x="1529" y="25"/>
                  </a:lnTo>
                  <a:lnTo>
                    <a:pt x="1552" y="21"/>
                  </a:lnTo>
                  <a:lnTo>
                    <a:pt x="1576" y="19"/>
                  </a:lnTo>
                  <a:lnTo>
                    <a:pt x="1603" y="18"/>
                  </a:lnTo>
                  <a:lnTo>
                    <a:pt x="1630" y="18"/>
                  </a:lnTo>
                  <a:lnTo>
                    <a:pt x="1653" y="18"/>
                  </a:lnTo>
                  <a:lnTo>
                    <a:pt x="1673" y="19"/>
                  </a:lnTo>
                  <a:lnTo>
                    <a:pt x="1689" y="23"/>
                  </a:lnTo>
                  <a:lnTo>
                    <a:pt x="1704" y="29"/>
                  </a:lnTo>
                  <a:lnTo>
                    <a:pt x="1716" y="36"/>
                  </a:lnTo>
                  <a:lnTo>
                    <a:pt x="1729" y="44"/>
                  </a:lnTo>
                  <a:lnTo>
                    <a:pt x="1741" y="53"/>
                  </a:lnTo>
                  <a:lnTo>
                    <a:pt x="1753" y="63"/>
                  </a:lnTo>
                  <a:lnTo>
                    <a:pt x="1764" y="74"/>
                  </a:lnTo>
                  <a:lnTo>
                    <a:pt x="1778" y="84"/>
                  </a:lnTo>
                  <a:lnTo>
                    <a:pt x="1795" y="95"/>
                  </a:lnTo>
                  <a:lnTo>
                    <a:pt x="1813" y="105"/>
                  </a:lnTo>
                  <a:lnTo>
                    <a:pt x="1834" y="116"/>
                  </a:lnTo>
                  <a:lnTo>
                    <a:pt x="1860" y="125"/>
                  </a:lnTo>
                  <a:lnTo>
                    <a:pt x="1889" y="133"/>
                  </a:lnTo>
                  <a:lnTo>
                    <a:pt x="1924" y="141"/>
                  </a:lnTo>
                  <a:lnTo>
                    <a:pt x="1920" y="146"/>
                  </a:lnTo>
                  <a:lnTo>
                    <a:pt x="1917" y="152"/>
                  </a:lnTo>
                  <a:lnTo>
                    <a:pt x="1916" y="158"/>
                  </a:lnTo>
                  <a:lnTo>
                    <a:pt x="1915" y="165"/>
                  </a:lnTo>
                  <a:lnTo>
                    <a:pt x="1916" y="173"/>
                  </a:lnTo>
                  <a:lnTo>
                    <a:pt x="1918" y="181"/>
                  </a:lnTo>
                  <a:lnTo>
                    <a:pt x="1921" y="189"/>
                  </a:lnTo>
                  <a:lnTo>
                    <a:pt x="1925" y="196"/>
                  </a:lnTo>
                  <a:lnTo>
                    <a:pt x="1930" y="205"/>
                  </a:lnTo>
                  <a:lnTo>
                    <a:pt x="1937" y="213"/>
                  </a:lnTo>
                  <a:lnTo>
                    <a:pt x="1944" y="220"/>
                  </a:lnTo>
                  <a:lnTo>
                    <a:pt x="1953" y="226"/>
                  </a:lnTo>
                  <a:lnTo>
                    <a:pt x="1964" y="231"/>
                  </a:lnTo>
                  <a:lnTo>
                    <a:pt x="1975" y="236"/>
                  </a:lnTo>
                  <a:lnTo>
                    <a:pt x="1987" y="240"/>
                  </a:lnTo>
                  <a:lnTo>
                    <a:pt x="2001" y="242"/>
                  </a:lnTo>
                  <a:lnTo>
                    <a:pt x="2015" y="242"/>
                  </a:lnTo>
                  <a:lnTo>
                    <a:pt x="2029" y="244"/>
                  </a:lnTo>
                  <a:lnTo>
                    <a:pt x="2043" y="249"/>
                  </a:lnTo>
                  <a:lnTo>
                    <a:pt x="2060" y="256"/>
                  </a:lnTo>
                  <a:lnTo>
                    <a:pt x="2094" y="272"/>
                  </a:lnTo>
                  <a:lnTo>
                    <a:pt x="2135" y="291"/>
                  </a:lnTo>
                  <a:lnTo>
                    <a:pt x="2124" y="297"/>
                  </a:lnTo>
                  <a:lnTo>
                    <a:pt x="2114" y="301"/>
                  </a:lnTo>
                  <a:lnTo>
                    <a:pt x="2103" y="305"/>
                  </a:lnTo>
                  <a:lnTo>
                    <a:pt x="2094" y="306"/>
                  </a:lnTo>
                  <a:lnTo>
                    <a:pt x="2076" y="308"/>
                  </a:lnTo>
                  <a:lnTo>
                    <a:pt x="2061" y="310"/>
                  </a:lnTo>
                  <a:lnTo>
                    <a:pt x="2055" y="311"/>
                  </a:lnTo>
                  <a:lnTo>
                    <a:pt x="2050" y="313"/>
                  </a:lnTo>
                  <a:lnTo>
                    <a:pt x="2047" y="317"/>
                  </a:lnTo>
                  <a:lnTo>
                    <a:pt x="2045" y="320"/>
                  </a:lnTo>
                  <a:lnTo>
                    <a:pt x="2045" y="326"/>
                  </a:lnTo>
                  <a:lnTo>
                    <a:pt x="2047" y="334"/>
                  </a:lnTo>
                  <a:lnTo>
                    <a:pt x="2050" y="345"/>
                  </a:lnTo>
                  <a:lnTo>
                    <a:pt x="2056" y="358"/>
                  </a:lnTo>
                  <a:lnTo>
                    <a:pt x="2060" y="365"/>
                  </a:lnTo>
                  <a:lnTo>
                    <a:pt x="2061" y="373"/>
                  </a:lnTo>
                  <a:lnTo>
                    <a:pt x="2062" y="381"/>
                  </a:lnTo>
                  <a:lnTo>
                    <a:pt x="2063" y="389"/>
                  </a:lnTo>
                  <a:lnTo>
                    <a:pt x="2062" y="398"/>
                  </a:lnTo>
                  <a:lnTo>
                    <a:pt x="2061" y="408"/>
                  </a:lnTo>
                  <a:lnTo>
                    <a:pt x="2059" y="417"/>
                  </a:lnTo>
                  <a:lnTo>
                    <a:pt x="2056" y="426"/>
                  </a:lnTo>
                  <a:lnTo>
                    <a:pt x="2049" y="445"/>
                  </a:lnTo>
                  <a:lnTo>
                    <a:pt x="2039" y="465"/>
                  </a:lnTo>
                  <a:lnTo>
                    <a:pt x="2027" y="485"/>
                  </a:lnTo>
                  <a:lnTo>
                    <a:pt x="2013" y="505"/>
                  </a:lnTo>
                  <a:lnTo>
                    <a:pt x="1998" y="523"/>
                  </a:lnTo>
                  <a:lnTo>
                    <a:pt x="1980" y="541"/>
                  </a:lnTo>
                  <a:lnTo>
                    <a:pt x="1963" y="557"/>
                  </a:lnTo>
                  <a:lnTo>
                    <a:pt x="1945" y="572"/>
                  </a:lnTo>
                  <a:lnTo>
                    <a:pt x="1927" y="585"/>
                  </a:lnTo>
                  <a:lnTo>
                    <a:pt x="1908" y="596"/>
                  </a:lnTo>
                  <a:lnTo>
                    <a:pt x="1889" y="605"/>
                  </a:lnTo>
                  <a:lnTo>
                    <a:pt x="1872" y="61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0" name="Freeform 141"/>
            <p:cNvSpPr/>
            <p:nvPr/>
          </p:nvSpPr>
          <p:spPr>
            <a:xfrm>
              <a:off x="6100560" y="2811600"/>
              <a:ext cx="938160" cy="406080"/>
            </a:xfrm>
            <a:custGeom>
              <a:avLst/>
              <a:gdLst>
                <a:gd name="textAreaLeft" fmla="*/ 0 w 938160"/>
                <a:gd name="textAreaRight" fmla="*/ 938520 w 938160"/>
                <a:gd name="textAreaTop" fmla="*/ 0 h 406080"/>
                <a:gd name="textAreaBottom" fmla="*/ 406440 h 406080"/>
              </a:gdLst>
              <a:ahLst/>
              <a:rect l="textAreaLeft" t="textAreaTop" r="textAreaRight" b="textAreaBottom"/>
              <a:pathLst>
                <a:path w="2135" h="893">
                  <a:moveTo>
                    <a:pt x="1872" y="611"/>
                  </a:moveTo>
                  <a:lnTo>
                    <a:pt x="535" y="792"/>
                  </a:lnTo>
                  <a:lnTo>
                    <a:pt x="518" y="838"/>
                  </a:lnTo>
                  <a:lnTo>
                    <a:pt x="0" y="893"/>
                  </a:lnTo>
                  <a:lnTo>
                    <a:pt x="7" y="870"/>
                  </a:lnTo>
                  <a:lnTo>
                    <a:pt x="16" y="849"/>
                  </a:lnTo>
                  <a:lnTo>
                    <a:pt x="25" y="829"/>
                  </a:lnTo>
                  <a:lnTo>
                    <a:pt x="37" y="812"/>
                  </a:lnTo>
                  <a:lnTo>
                    <a:pt x="49" y="794"/>
                  </a:lnTo>
                  <a:lnTo>
                    <a:pt x="63" y="778"/>
                  </a:lnTo>
                  <a:lnTo>
                    <a:pt x="79" y="764"/>
                  </a:lnTo>
                  <a:lnTo>
                    <a:pt x="95" y="751"/>
                  </a:lnTo>
                  <a:lnTo>
                    <a:pt x="110" y="737"/>
                  </a:lnTo>
                  <a:lnTo>
                    <a:pt x="125" y="725"/>
                  </a:lnTo>
                  <a:lnTo>
                    <a:pt x="139" y="716"/>
                  </a:lnTo>
                  <a:lnTo>
                    <a:pt x="153" y="708"/>
                  </a:lnTo>
                  <a:lnTo>
                    <a:pt x="180" y="695"/>
                  </a:lnTo>
                  <a:lnTo>
                    <a:pt x="206" y="682"/>
                  </a:lnTo>
                  <a:lnTo>
                    <a:pt x="219" y="675"/>
                  </a:lnTo>
                  <a:lnTo>
                    <a:pt x="232" y="666"/>
                  </a:lnTo>
                  <a:lnTo>
                    <a:pt x="246" y="655"/>
                  </a:lnTo>
                  <a:lnTo>
                    <a:pt x="259" y="643"/>
                  </a:lnTo>
                  <a:lnTo>
                    <a:pt x="273" y="627"/>
                  </a:lnTo>
                  <a:lnTo>
                    <a:pt x="287" y="609"/>
                  </a:lnTo>
                  <a:lnTo>
                    <a:pt x="302" y="585"/>
                  </a:lnTo>
                  <a:lnTo>
                    <a:pt x="317" y="558"/>
                  </a:lnTo>
                  <a:lnTo>
                    <a:pt x="326" y="539"/>
                  </a:lnTo>
                  <a:lnTo>
                    <a:pt x="331" y="527"/>
                  </a:lnTo>
                  <a:lnTo>
                    <a:pt x="336" y="520"/>
                  </a:lnTo>
                  <a:lnTo>
                    <a:pt x="344" y="509"/>
                  </a:lnTo>
                  <a:lnTo>
                    <a:pt x="359" y="495"/>
                  </a:lnTo>
                  <a:lnTo>
                    <a:pt x="380" y="476"/>
                  </a:lnTo>
                  <a:lnTo>
                    <a:pt x="391" y="466"/>
                  </a:lnTo>
                  <a:lnTo>
                    <a:pt x="402" y="458"/>
                  </a:lnTo>
                  <a:lnTo>
                    <a:pt x="415" y="451"/>
                  </a:lnTo>
                  <a:lnTo>
                    <a:pt x="430" y="444"/>
                  </a:lnTo>
                  <a:lnTo>
                    <a:pt x="444" y="438"/>
                  </a:lnTo>
                  <a:lnTo>
                    <a:pt x="461" y="432"/>
                  </a:lnTo>
                  <a:lnTo>
                    <a:pt x="478" y="428"/>
                  </a:lnTo>
                  <a:lnTo>
                    <a:pt x="496" y="423"/>
                  </a:lnTo>
                  <a:lnTo>
                    <a:pt x="575" y="407"/>
                  </a:lnTo>
                  <a:lnTo>
                    <a:pt x="663" y="391"/>
                  </a:lnTo>
                  <a:lnTo>
                    <a:pt x="708" y="382"/>
                  </a:lnTo>
                  <a:lnTo>
                    <a:pt x="755" y="370"/>
                  </a:lnTo>
                  <a:lnTo>
                    <a:pt x="778" y="363"/>
                  </a:lnTo>
                  <a:lnTo>
                    <a:pt x="802" y="356"/>
                  </a:lnTo>
                  <a:lnTo>
                    <a:pt x="825" y="348"/>
                  </a:lnTo>
                  <a:lnTo>
                    <a:pt x="848" y="340"/>
                  </a:lnTo>
                  <a:lnTo>
                    <a:pt x="872" y="330"/>
                  </a:lnTo>
                  <a:lnTo>
                    <a:pt x="894" y="319"/>
                  </a:lnTo>
                  <a:lnTo>
                    <a:pt x="916" y="306"/>
                  </a:lnTo>
                  <a:lnTo>
                    <a:pt x="938" y="293"/>
                  </a:lnTo>
                  <a:lnTo>
                    <a:pt x="961" y="279"/>
                  </a:lnTo>
                  <a:lnTo>
                    <a:pt x="982" y="263"/>
                  </a:lnTo>
                  <a:lnTo>
                    <a:pt x="1003" y="247"/>
                  </a:lnTo>
                  <a:lnTo>
                    <a:pt x="1022" y="228"/>
                  </a:lnTo>
                  <a:lnTo>
                    <a:pt x="1041" y="208"/>
                  </a:lnTo>
                  <a:lnTo>
                    <a:pt x="1054" y="191"/>
                  </a:lnTo>
                  <a:lnTo>
                    <a:pt x="1059" y="182"/>
                  </a:lnTo>
                  <a:lnTo>
                    <a:pt x="1062" y="175"/>
                  </a:lnTo>
                  <a:lnTo>
                    <a:pt x="1066" y="168"/>
                  </a:lnTo>
                  <a:lnTo>
                    <a:pt x="1068" y="161"/>
                  </a:lnTo>
                  <a:lnTo>
                    <a:pt x="1070" y="150"/>
                  </a:lnTo>
                  <a:lnTo>
                    <a:pt x="1070" y="139"/>
                  </a:lnTo>
                  <a:lnTo>
                    <a:pt x="1068" y="130"/>
                  </a:lnTo>
                  <a:lnTo>
                    <a:pt x="1067" y="120"/>
                  </a:lnTo>
                  <a:lnTo>
                    <a:pt x="1065" y="112"/>
                  </a:lnTo>
                  <a:lnTo>
                    <a:pt x="1062" y="104"/>
                  </a:lnTo>
                  <a:lnTo>
                    <a:pt x="1062" y="96"/>
                  </a:lnTo>
                  <a:lnTo>
                    <a:pt x="1063" y="87"/>
                  </a:lnTo>
                  <a:lnTo>
                    <a:pt x="1066" y="82"/>
                  </a:lnTo>
                  <a:lnTo>
                    <a:pt x="1068" y="77"/>
                  </a:lnTo>
                  <a:lnTo>
                    <a:pt x="1072" y="71"/>
                  </a:lnTo>
                  <a:lnTo>
                    <a:pt x="1076" y="66"/>
                  </a:lnTo>
                  <a:lnTo>
                    <a:pt x="1089" y="54"/>
                  </a:lnTo>
                  <a:lnTo>
                    <a:pt x="1105" y="40"/>
                  </a:lnTo>
                  <a:lnTo>
                    <a:pt x="1109" y="36"/>
                  </a:lnTo>
                  <a:lnTo>
                    <a:pt x="1112" y="34"/>
                  </a:lnTo>
                  <a:lnTo>
                    <a:pt x="1116" y="32"/>
                  </a:lnTo>
                  <a:lnTo>
                    <a:pt x="1121" y="30"/>
                  </a:lnTo>
                  <a:lnTo>
                    <a:pt x="1131" y="28"/>
                  </a:lnTo>
                  <a:lnTo>
                    <a:pt x="1142" y="28"/>
                  </a:lnTo>
                  <a:lnTo>
                    <a:pt x="1153" y="27"/>
                  </a:lnTo>
                  <a:lnTo>
                    <a:pt x="1164" y="25"/>
                  </a:lnTo>
                  <a:lnTo>
                    <a:pt x="1170" y="22"/>
                  </a:lnTo>
                  <a:lnTo>
                    <a:pt x="1174" y="20"/>
                  </a:lnTo>
                  <a:lnTo>
                    <a:pt x="1179" y="16"/>
                  </a:lnTo>
                  <a:lnTo>
                    <a:pt x="1184" y="12"/>
                  </a:lnTo>
                  <a:lnTo>
                    <a:pt x="1186" y="8"/>
                  </a:lnTo>
                  <a:lnTo>
                    <a:pt x="1190" y="6"/>
                  </a:lnTo>
                  <a:lnTo>
                    <a:pt x="1193" y="5"/>
                  </a:lnTo>
                  <a:lnTo>
                    <a:pt x="1197" y="2"/>
                  </a:lnTo>
                  <a:lnTo>
                    <a:pt x="1206" y="1"/>
                  </a:lnTo>
                  <a:lnTo>
                    <a:pt x="1216" y="0"/>
                  </a:lnTo>
                  <a:lnTo>
                    <a:pt x="1229" y="0"/>
                  </a:lnTo>
                  <a:lnTo>
                    <a:pt x="1242" y="1"/>
                  </a:lnTo>
                  <a:lnTo>
                    <a:pt x="1255" y="4"/>
                  </a:lnTo>
                  <a:lnTo>
                    <a:pt x="1269" y="6"/>
                  </a:lnTo>
                  <a:lnTo>
                    <a:pt x="1296" y="11"/>
                  </a:lnTo>
                  <a:lnTo>
                    <a:pt x="1320" y="15"/>
                  </a:lnTo>
                  <a:lnTo>
                    <a:pt x="1331" y="18"/>
                  </a:lnTo>
                  <a:lnTo>
                    <a:pt x="1340" y="18"/>
                  </a:lnTo>
                  <a:lnTo>
                    <a:pt x="1348" y="19"/>
                  </a:lnTo>
                  <a:lnTo>
                    <a:pt x="1353" y="18"/>
                  </a:lnTo>
                  <a:lnTo>
                    <a:pt x="1358" y="16"/>
                  </a:lnTo>
                  <a:lnTo>
                    <a:pt x="1364" y="18"/>
                  </a:lnTo>
                  <a:lnTo>
                    <a:pt x="1369" y="20"/>
                  </a:lnTo>
                  <a:lnTo>
                    <a:pt x="1376" y="23"/>
                  </a:lnTo>
                  <a:lnTo>
                    <a:pt x="1390" y="30"/>
                  </a:lnTo>
                  <a:lnTo>
                    <a:pt x="1404" y="40"/>
                  </a:lnTo>
                  <a:lnTo>
                    <a:pt x="1420" y="48"/>
                  </a:lnTo>
                  <a:lnTo>
                    <a:pt x="1435" y="53"/>
                  </a:lnTo>
                  <a:lnTo>
                    <a:pt x="1442" y="54"/>
                  </a:lnTo>
                  <a:lnTo>
                    <a:pt x="1449" y="54"/>
                  </a:lnTo>
                  <a:lnTo>
                    <a:pt x="1455" y="53"/>
                  </a:lnTo>
                  <a:lnTo>
                    <a:pt x="1461" y="49"/>
                  </a:lnTo>
                  <a:lnTo>
                    <a:pt x="1466" y="44"/>
                  </a:lnTo>
                  <a:lnTo>
                    <a:pt x="1473" y="41"/>
                  </a:lnTo>
                  <a:lnTo>
                    <a:pt x="1482" y="37"/>
                  </a:lnTo>
                  <a:lnTo>
                    <a:pt x="1490" y="34"/>
                  </a:lnTo>
                  <a:lnTo>
                    <a:pt x="1508" y="29"/>
                  </a:lnTo>
                  <a:lnTo>
                    <a:pt x="1529" y="25"/>
                  </a:lnTo>
                  <a:lnTo>
                    <a:pt x="1552" y="21"/>
                  </a:lnTo>
                  <a:lnTo>
                    <a:pt x="1576" y="19"/>
                  </a:lnTo>
                  <a:lnTo>
                    <a:pt x="1603" y="18"/>
                  </a:lnTo>
                  <a:lnTo>
                    <a:pt x="1630" y="18"/>
                  </a:lnTo>
                  <a:lnTo>
                    <a:pt x="1653" y="18"/>
                  </a:lnTo>
                  <a:lnTo>
                    <a:pt x="1673" y="19"/>
                  </a:lnTo>
                  <a:lnTo>
                    <a:pt x="1689" y="23"/>
                  </a:lnTo>
                  <a:lnTo>
                    <a:pt x="1704" y="29"/>
                  </a:lnTo>
                  <a:lnTo>
                    <a:pt x="1716" y="36"/>
                  </a:lnTo>
                  <a:lnTo>
                    <a:pt x="1729" y="44"/>
                  </a:lnTo>
                  <a:lnTo>
                    <a:pt x="1741" y="53"/>
                  </a:lnTo>
                  <a:lnTo>
                    <a:pt x="1753" y="63"/>
                  </a:lnTo>
                  <a:lnTo>
                    <a:pt x="1764" y="74"/>
                  </a:lnTo>
                  <a:lnTo>
                    <a:pt x="1778" y="84"/>
                  </a:lnTo>
                  <a:lnTo>
                    <a:pt x="1795" y="95"/>
                  </a:lnTo>
                  <a:lnTo>
                    <a:pt x="1813" y="105"/>
                  </a:lnTo>
                  <a:lnTo>
                    <a:pt x="1834" y="116"/>
                  </a:lnTo>
                  <a:lnTo>
                    <a:pt x="1860" y="125"/>
                  </a:lnTo>
                  <a:lnTo>
                    <a:pt x="1889" y="133"/>
                  </a:lnTo>
                  <a:lnTo>
                    <a:pt x="1924" y="141"/>
                  </a:lnTo>
                  <a:lnTo>
                    <a:pt x="1920" y="146"/>
                  </a:lnTo>
                  <a:lnTo>
                    <a:pt x="1917" y="152"/>
                  </a:lnTo>
                  <a:lnTo>
                    <a:pt x="1916" y="158"/>
                  </a:lnTo>
                  <a:lnTo>
                    <a:pt x="1915" y="165"/>
                  </a:lnTo>
                  <a:lnTo>
                    <a:pt x="1916" y="173"/>
                  </a:lnTo>
                  <a:lnTo>
                    <a:pt x="1918" y="181"/>
                  </a:lnTo>
                  <a:lnTo>
                    <a:pt x="1921" y="189"/>
                  </a:lnTo>
                  <a:lnTo>
                    <a:pt x="1925" y="196"/>
                  </a:lnTo>
                  <a:lnTo>
                    <a:pt x="1930" y="205"/>
                  </a:lnTo>
                  <a:lnTo>
                    <a:pt x="1937" y="213"/>
                  </a:lnTo>
                  <a:lnTo>
                    <a:pt x="1944" y="220"/>
                  </a:lnTo>
                  <a:lnTo>
                    <a:pt x="1953" y="226"/>
                  </a:lnTo>
                  <a:lnTo>
                    <a:pt x="1964" y="231"/>
                  </a:lnTo>
                  <a:lnTo>
                    <a:pt x="1975" y="236"/>
                  </a:lnTo>
                  <a:lnTo>
                    <a:pt x="1987" y="240"/>
                  </a:lnTo>
                  <a:lnTo>
                    <a:pt x="2001" y="242"/>
                  </a:lnTo>
                  <a:lnTo>
                    <a:pt x="2015" y="242"/>
                  </a:lnTo>
                  <a:lnTo>
                    <a:pt x="2029" y="244"/>
                  </a:lnTo>
                  <a:lnTo>
                    <a:pt x="2043" y="249"/>
                  </a:lnTo>
                  <a:lnTo>
                    <a:pt x="2060" y="256"/>
                  </a:lnTo>
                  <a:lnTo>
                    <a:pt x="2094" y="272"/>
                  </a:lnTo>
                  <a:lnTo>
                    <a:pt x="2135" y="291"/>
                  </a:lnTo>
                  <a:lnTo>
                    <a:pt x="2124" y="297"/>
                  </a:lnTo>
                  <a:lnTo>
                    <a:pt x="2114" y="301"/>
                  </a:lnTo>
                  <a:lnTo>
                    <a:pt x="2103" y="305"/>
                  </a:lnTo>
                  <a:lnTo>
                    <a:pt x="2094" y="306"/>
                  </a:lnTo>
                  <a:lnTo>
                    <a:pt x="2076" y="308"/>
                  </a:lnTo>
                  <a:lnTo>
                    <a:pt x="2061" y="310"/>
                  </a:lnTo>
                  <a:lnTo>
                    <a:pt x="2055" y="311"/>
                  </a:lnTo>
                  <a:lnTo>
                    <a:pt x="2050" y="313"/>
                  </a:lnTo>
                  <a:lnTo>
                    <a:pt x="2047" y="317"/>
                  </a:lnTo>
                  <a:lnTo>
                    <a:pt x="2045" y="320"/>
                  </a:lnTo>
                  <a:lnTo>
                    <a:pt x="2045" y="326"/>
                  </a:lnTo>
                  <a:lnTo>
                    <a:pt x="2047" y="334"/>
                  </a:lnTo>
                  <a:lnTo>
                    <a:pt x="2050" y="345"/>
                  </a:lnTo>
                  <a:lnTo>
                    <a:pt x="2056" y="358"/>
                  </a:lnTo>
                  <a:lnTo>
                    <a:pt x="2060" y="365"/>
                  </a:lnTo>
                  <a:lnTo>
                    <a:pt x="2061" y="373"/>
                  </a:lnTo>
                  <a:lnTo>
                    <a:pt x="2062" y="381"/>
                  </a:lnTo>
                  <a:lnTo>
                    <a:pt x="2063" y="389"/>
                  </a:lnTo>
                  <a:lnTo>
                    <a:pt x="2062" y="398"/>
                  </a:lnTo>
                  <a:lnTo>
                    <a:pt x="2061" y="408"/>
                  </a:lnTo>
                  <a:lnTo>
                    <a:pt x="2059" y="417"/>
                  </a:lnTo>
                  <a:lnTo>
                    <a:pt x="2056" y="426"/>
                  </a:lnTo>
                  <a:lnTo>
                    <a:pt x="2049" y="445"/>
                  </a:lnTo>
                  <a:lnTo>
                    <a:pt x="2039" y="465"/>
                  </a:lnTo>
                  <a:lnTo>
                    <a:pt x="2027" y="485"/>
                  </a:lnTo>
                  <a:lnTo>
                    <a:pt x="2013" y="505"/>
                  </a:lnTo>
                  <a:lnTo>
                    <a:pt x="1998" y="523"/>
                  </a:lnTo>
                  <a:lnTo>
                    <a:pt x="1980" y="541"/>
                  </a:lnTo>
                  <a:lnTo>
                    <a:pt x="1963" y="557"/>
                  </a:lnTo>
                  <a:lnTo>
                    <a:pt x="1945" y="572"/>
                  </a:lnTo>
                  <a:lnTo>
                    <a:pt x="1927" y="585"/>
                  </a:lnTo>
                  <a:lnTo>
                    <a:pt x="1908" y="596"/>
                  </a:lnTo>
                  <a:lnTo>
                    <a:pt x="1889" y="605"/>
                  </a:lnTo>
                  <a:lnTo>
                    <a:pt x="1872" y="611"/>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1" name="Freeform 142"/>
            <p:cNvSpPr/>
            <p:nvPr/>
          </p:nvSpPr>
          <p:spPr>
            <a:xfrm>
              <a:off x="6922440" y="2654280"/>
              <a:ext cx="1059480" cy="433800"/>
            </a:xfrm>
            <a:custGeom>
              <a:avLst/>
              <a:gdLst>
                <a:gd name="textAreaLeft" fmla="*/ 0 w 1059480"/>
                <a:gd name="textAreaRight" fmla="*/ 1059840 w 1059480"/>
                <a:gd name="textAreaTop" fmla="*/ 0 h 433800"/>
                <a:gd name="textAreaBottom" fmla="*/ 434160 h 433800"/>
              </a:gdLst>
              <a:ahLst/>
              <a:rect l="textAreaLeft" t="textAreaTop" r="textAreaRight" b="textAreaBottom"/>
              <a:pathLst>
                <a:path w="2411" h="954">
                  <a:moveTo>
                    <a:pt x="1823" y="245"/>
                  </a:moveTo>
                  <a:lnTo>
                    <a:pt x="1840" y="252"/>
                  </a:lnTo>
                  <a:lnTo>
                    <a:pt x="1855" y="260"/>
                  </a:lnTo>
                  <a:lnTo>
                    <a:pt x="1870" y="268"/>
                  </a:lnTo>
                  <a:lnTo>
                    <a:pt x="1883" y="277"/>
                  </a:lnTo>
                  <a:lnTo>
                    <a:pt x="1896" y="286"/>
                  </a:lnTo>
                  <a:lnTo>
                    <a:pt x="1907" y="296"/>
                  </a:lnTo>
                  <a:lnTo>
                    <a:pt x="1919" y="307"/>
                  </a:lnTo>
                  <a:lnTo>
                    <a:pt x="1929" y="319"/>
                  </a:lnTo>
                  <a:lnTo>
                    <a:pt x="1952" y="344"/>
                  </a:lnTo>
                  <a:lnTo>
                    <a:pt x="1974" y="375"/>
                  </a:lnTo>
                  <a:lnTo>
                    <a:pt x="1997" y="409"/>
                  </a:lnTo>
                  <a:lnTo>
                    <a:pt x="2025" y="447"/>
                  </a:lnTo>
                  <a:lnTo>
                    <a:pt x="2049" y="447"/>
                  </a:lnTo>
                  <a:lnTo>
                    <a:pt x="2073" y="451"/>
                  </a:lnTo>
                  <a:lnTo>
                    <a:pt x="2099" y="454"/>
                  </a:lnTo>
                  <a:lnTo>
                    <a:pt x="2126" y="460"/>
                  </a:lnTo>
                  <a:lnTo>
                    <a:pt x="2153" y="468"/>
                  </a:lnTo>
                  <a:lnTo>
                    <a:pt x="2179" y="476"/>
                  </a:lnTo>
                  <a:lnTo>
                    <a:pt x="2207" y="487"/>
                  </a:lnTo>
                  <a:lnTo>
                    <a:pt x="2234" y="498"/>
                  </a:lnTo>
                  <a:lnTo>
                    <a:pt x="2260" y="511"/>
                  </a:lnTo>
                  <a:lnTo>
                    <a:pt x="2287" y="525"/>
                  </a:lnTo>
                  <a:lnTo>
                    <a:pt x="2311" y="541"/>
                  </a:lnTo>
                  <a:lnTo>
                    <a:pt x="2335" y="557"/>
                  </a:lnTo>
                  <a:lnTo>
                    <a:pt x="2357" y="574"/>
                  </a:lnTo>
                  <a:lnTo>
                    <a:pt x="2377" y="592"/>
                  </a:lnTo>
                  <a:lnTo>
                    <a:pt x="2394" y="612"/>
                  </a:lnTo>
                  <a:lnTo>
                    <a:pt x="2411" y="630"/>
                  </a:lnTo>
                  <a:lnTo>
                    <a:pt x="640" y="870"/>
                  </a:lnTo>
                  <a:lnTo>
                    <a:pt x="0" y="954"/>
                  </a:lnTo>
                  <a:lnTo>
                    <a:pt x="17" y="948"/>
                  </a:lnTo>
                  <a:lnTo>
                    <a:pt x="36" y="939"/>
                  </a:lnTo>
                  <a:lnTo>
                    <a:pt x="55" y="928"/>
                  </a:lnTo>
                  <a:lnTo>
                    <a:pt x="73" y="915"/>
                  </a:lnTo>
                  <a:lnTo>
                    <a:pt x="91" y="900"/>
                  </a:lnTo>
                  <a:lnTo>
                    <a:pt x="108" y="884"/>
                  </a:lnTo>
                  <a:lnTo>
                    <a:pt x="126" y="866"/>
                  </a:lnTo>
                  <a:lnTo>
                    <a:pt x="141" y="848"/>
                  </a:lnTo>
                  <a:lnTo>
                    <a:pt x="155" y="828"/>
                  </a:lnTo>
                  <a:lnTo>
                    <a:pt x="167" y="808"/>
                  </a:lnTo>
                  <a:lnTo>
                    <a:pt x="177" y="788"/>
                  </a:lnTo>
                  <a:lnTo>
                    <a:pt x="184" y="769"/>
                  </a:lnTo>
                  <a:lnTo>
                    <a:pt x="187" y="760"/>
                  </a:lnTo>
                  <a:lnTo>
                    <a:pt x="189" y="751"/>
                  </a:lnTo>
                  <a:lnTo>
                    <a:pt x="190" y="741"/>
                  </a:lnTo>
                  <a:lnTo>
                    <a:pt x="191" y="732"/>
                  </a:lnTo>
                  <a:lnTo>
                    <a:pt x="190" y="724"/>
                  </a:lnTo>
                  <a:lnTo>
                    <a:pt x="189" y="716"/>
                  </a:lnTo>
                  <a:lnTo>
                    <a:pt x="188" y="708"/>
                  </a:lnTo>
                  <a:lnTo>
                    <a:pt x="184" y="701"/>
                  </a:lnTo>
                  <a:lnTo>
                    <a:pt x="178" y="688"/>
                  </a:lnTo>
                  <a:lnTo>
                    <a:pt x="175" y="677"/>
                  </a:lnTo>
                  <a:lnTo>
                    <a:pt x="173" y="669"/>
                  </a:lnTo>
                  <a:lnTo>
                    <a:pt x="173" y="663"/>
                  </a:lnTo>
                  <a:lnTo>
                    <a:pt x="175" y="660"/>
                  </a:lnTo>
                  <a:lnTo>
                    <a:pt x="178" y="656"/>
                  </a:lnTo>
                  <a:lnTo>
                    <a:pt x="183" y="654"/>
                  </a:lnTo>
                  <a:lnTo>
                    <a:pt x="189" y="653"/>
                  </a:lnTo>
                  <a:lnTo>
                    <a:pt x="204" y="651"/>
                  </a:lnTo>
                  <a:lnTo>
                    <a:pt x="222" y="649"/>
                  </a:lnTo>
                  <a:lnTo>
                    <a:pt x="231" y="648"/>
                  </a:lnTo>
                  <a:lnTo>
                    <a:pt x="242" y="644"/>
                  </a:lnTo>
                  <a:lnTo>
                    <a:pt x="252" y="640"/>
                  </a:lnTo>
                  <a:lnTo>
                    <a:pt x="263" y="634"/>
                  </a:lnTo>
                  <a:lnTo>
                    <a:pt x="278" y="640"/>
                  </a:lnTo>
                  <a:lnTo>
                    <a:pt x="294" y="647"/>
                  </a:lnTo>
                  <a:lnTo>
                    <a:pt x="313" y="651"/>
                  </a:lnTo>
                  <a:lnTo>
                    <a:pt x="331" y="657"/>
                  </a:lnTo>
                  <a:lnTo>
                    <a:pt x="351" y="662"/>
                  </a:lnTo>
                  <a:lnTo>
                    <a:pt x="374" y="666"/>
                  </a:lnTo>
                  <a:lnTo>
                    <a:pt x="396" y="668"/>
                  </a:lnTo>
                  <a:lnTo>
                    <a:pt x="420" y="669"/>
                  </a:lnTo>
                  <a:lnTo>
                    <a:pt x="446" y="670"/>
                  </a:lnTo>
                  <a:lnTo>
                    <a:pt x="473" y="669"/>
                  </a:lnTo>
                  <a:lnTo>
                    <a:pt x="502" y="666"/>
                  </a:lnTo>
                  <a:lnTo>
                    <a:pt x="532" y="662"/>
                  </a:lnTo>
                  <a:lnTo>
                    <a:pt x="564" y="656"/>
                  </a:lnTo>
                  <a:lnTo>
                    <a:pt x="598" y="648"/>
                  </a:lnTo>
                  <a:lnTo>
                    <a:pt x="634" y="637"/>
                  </a:lnTo>
                  <a:lnTo>
                    <a:pt x="671" y="625"/>
                  </a:lnTo>
                  <a:lnTo>
                    <a:pt x="683" y="620"/>
                  </a:lnTo>
                  <a:lnTo>
                    <a:pt x="694" y="614"/>
                  </a:lnTo>
                  <a:lnTo>
                    <a:pt x="703" y="607"/>
                  </a:lnTo>
                  <a:lnTo>
                    <a:pt x="712" y="599"/>
                  </a:lnTo>
                  <a:lnTo>
                    <a:pt x="719" y="590"/>
                  </a:lnTo>
                  <a:lnTo>
                    <a:pt x="726" y="579"/>
                  </a:lnTo>
                  <a:lnTo>
                    <a:pt x="733" y="569"/>
                  </a:lnTo>
                  <a:lnTo>
                    <a:pt x="739" y="558"/>
                  </a:lnTo>
                  <a:lnTo>
                    <a:pt x="744" y="546"/>
                  </a:lnTo>
                  <a:lnTo>
                    <a:pt x="748" y="534"/>
                  </a:lnTo>
                  <a:lnTo>
                    <a:pt x="752" y="521"/>
                  </a:lnTo>
                  <a:lnTo>
                    <a:pt x="755" y="508"/>
                  </a:lnTo>
                  <a:lnTo>
                    <a:pt x="761" y="480"/>
                  </a:lnTo>
                  <a:lnTo>
                    <a:pt x="766" y="452"/>
                  </a:lnTo>
                  <a:lnTo>
                    <a:pt x="773" y="396"/>
                  </a:lnTo>
                  <a:lnTo>
                    <a:pt x="780" y="344"/>
                  </a:lnTo>
                  <a:lnTo>
                    <a:pt x="786" y="321"/>
                  </a:lnTo>
                  <a:lnTo>
                    <a:pt x="792" y="300"/>
                  </a:lnTo>
                  <a:lnTo>
                    <a:pt x="795" y="291"/>
                  </a:lnTo>
                  <a:lnTo>
                    <a:pt x="800" y="282"/>
                  </a:lnTo>
                  <a:lnTo>
                    <a:pt x="805" y="274"/>
                  </a:lnTo>
                  <a:lnTo>
                    <a:pt x="809" y="268"/>
                  </a:lnTo>
                  <a:lnTo>
                    <a:pt x="821" y="256"/>
                  </a:lnTo>
                  <a:lnTo>
                    <a:pt x="833" y="240"/>
                  </a:lnTo>
                  <a:lnTo>
                    <a:pt x="844" y="224"/>
                  </a:lnTo>
                  <a:lnTo>
                    <a:pt x="856" y="206"/>
                  </a:lnTo>
                  <a:lnTo>
                    <a:pt x="878" y="167"/>
                  </a:lnTo>
                  <a:lnTo>
                    <a:pt x="900" y="126"/>
                  </a:lnTo>
                  <a:lnTo>
                    <a:pt x="920" y="87"/>
                  </a:lnTo>
                  <a:lnTo>
                    <a:pt x="940" y="52"/>
                  </a:lnTo>
                  <a:lnTo>
                    <a:pt x="949" y="37"/>
                  </a:lnTo>
                  <a:lnTo>
                    <a:pt x="958" y="24"/>
                  </a:lnTo>
                  <a:lnTo>
                    <a:pt x="966" y="14"/>
                  </a:lnTo>
                  <a:lnTo>
                    <a:pt x="974" y="6"/>
                  </a:lnTo>
                  <a:lnTo>
                    <a:pt x="1019" y="1"/>
                  </a:lnTo>
                  <a:lnTo>
                    <a:pt x="1060" y="0"/>
                  </a:lnTo>
                  <a:lnTo>
                    <a:pt x="1097" y="0"/>
                  </a:lnTo>
                  <a:lnTo>
                    <a:pt x="1128" y="1"/>
                  </a:lnTo>
                  <a:lnTo>
                    <a:pt x="1156" y="4"/>
                  </a:lnTo>
                  <a:lnTo>
                    <a:pt x="1180" y="8"/>
                  </a:lnTo>
                  <a:lnTo>
                    <a:pt x="1201" y="14"/>
                  </a:lnTo>
                  <a:lnTo>
                    <a:pt x="1218" y="20"/>
                  </a:lnTo>
                  <a:lnTo>
                    <a:pt x="1247" y="31"/>
                  </a:lnTo>
                  <a:lnTo>
                    <a:pt x="1271" y="41"/>
                  </a:lnTo>
                  <a:lnTo>
                    <a:pt x="1281" y="44"/>
                  </a:lnTo>
                  <a:lnTo>
                    <a:pt x="1292" y="45"/>
                  </a:lnTo>
                  <a:lnTo>
                    <a:pt x="1302" y="45"/>
                  </a:lnTo>
                  <a:lnTo>
                    <a:pt x="1314" y="43"/>
                  </a:lnTo>
                  <a:lnTo>
                    <a:pt x="1323" y="44"/>
                  </a:lnTo>
                  <a:lnTo>
                    <a:pt x="1330" y="45"/>
                  </a:lnTo>
                  <a:lnTo>
                    <a:pt x="1337" y="48"/>
                  </a:lnTo>
                  <a:lnTo>
                    <a:pt x="1342" y="51"/>
                  </a:lnTo>
                  <a:lnTo>
                    <a:pt x="1347" y="55"/>
                  </a:lnTo>
                  <a:lnTo>
                    <a:pt x="1350" y="59"/>
                  </a:lnTo>
                  <a:lnTo>
                    <a:pt x="1354" y="65"/>
                  </a:lnTo>
                  <a:lnTo>
                    <a:pt x="1356" y="71"/>
                  </a:lnTo>
                  <a:lnTo>
                    <a:pt x="1363" y="83"/>
                  </a:lnTo>
                  <a:lnTo>
                    <a:pt x="1372" y="95"/>
                  </a:lnTo>
                  <a:lnTo>
                    <a:pt x="1378" y="102"/>
                  </a:lnTo>
                  <a:lnTo>
                    <a:pt x="1385" y="108"/>
                  </a:lnTo>
                  <a:lnTo>
                    <a:pt x="1394" y="115"/>
                  </a:lnTo>
                  <a:lnTo>
                    <a:pt x="1406" y="121"/>
                  </a:lnTo>
                  <a:lnTo>
                    <a:pt x="1412" y="135"/>
                  </a:lnTo>
                  <a:lnTo>
                    <a:pt x="1419" y="148"/>
                  </a:lnTo>
                  <a:lnTo>
                    <a:pt x="1427" y="159"/>
                  </a:lnTo>
                  <a:lnTo>
                    <a:pt x="1435" y="169"/>
                  </a:lnTo>
                  <a:lnTo>
                    <a:pt x="1442" y="177"/>
                  </a:lnTo>
                  <a:lnTo>
                    <a:pt x="1452" y="185"/>
                  </a:lnTo>
                  <a:lnTo>
                    <a:pt x="1460" y="192"/>
                  </a:lnTo>
                  <a:lnTo>
                    <a:pt x="1469" y="198"/>
                  </a:lnTo>
                  <a:lnTo>
                    <a:pt x="1477" y="203"/>
                  </a:lnTo>
                  <a:lnTo>
                    <a:pt x="1487" y="208"/>
                  </a:lnTo>
                  <a:lnTo>
                    <a:pt x="1496" y="211"/>
                  </a:lnTo>
                  <a:lnTo>
                    <a:pt x="1505" y="213"/>
                  </a:lnTo>
                  <a:lnTo>
                    <a:pt x="1524" y="218"/>
                  </a:lnTo>
                  <a:lnTo>
                    <a:pt x="1543" y="219"/>
                  </a:lnTo>
                  <a:lnTo>
                    <a:pt x="1577" y="220"/>
                  </a:lnTo>
                  <a:lnTo>
                    <a:pt x="1607" y="220"/>
                  </a:lnTo>
                  <a:lnTo>
                    <a:pt x="1620" y="222"/>
                  </a:lnTo>
                  <a:lnTo>
                    <a:pt x="1630" y="225"/>
                  </a:lnTo>
                  <a:lnTo>
                    <a:pt x="1635" y="226"/>
                  </a:lnTo>
                  <a:lnTo>
                    <a:pt x="1639" y="229"/>
                  </a:lnTo>
                  <a:lnTo>
                    <a:pt x="1642" y="232"/>
                  </a:lnTo>
                  <a:lnTo>
                    <a:pt x="1644" y="237"/>
                  </a:lnTo>
                  <a:lnTo>
                    <a:pt x="1823" y="24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2" name="Freeform 143"/>
            <p:cNvSpPr/>
            <p:nvPr/>
          </p:nvSpPr>
          <p:spPr>
            <a:xfrm>
              <a:off x="6922440" y="2654280"/>
              <a:ext cx="1059480" cy="433800"/>
            </a:xfrm>
            <a:custGeom>
              <a:avLst/>
              <a:gdLst>
                <a:gd name="textAreaLeft" fmla="*/ 0 w 1059480"/>
                <a:gd name="textAreaRight" fmla="*/ 1059840 w 1059480"/>
                <a:gd name="textAreaTop" fmla="*/ 0 h 433800"/>
                <a:gd name="textAreaBottom" fmla="*/ 434160 h 433800"/>
              </a:gdLst>
              <a:ahLst/>
              <a:rect l="textAreaLeft" t="textAreaTop" r="textAreaRight" b="textAreaBottom"/>
              <a:pathLst>
                <a:path w="2411" h="954">
                  <a:moveTo>
                    <a:pt x="1823" y="245"/>
                  </a:moveTo>
                  <a:lnTo>
                    <a:pt x="1840" y="252"/>
                  </a:lnTo>
                  <a:lnTo>
                    <a:pt x="1855" y="260"/>
                  </a:lnTo>
                  <a:lnTo>
                    <a:pt x="1870" y="268"/>
                  </a:lnTo>
                  <a:lnTo>
                    <a:pt x="1883" y="277"/>
                  </a:lnTo>
                  <a:lnTo>
                    <a:pt x="1896" y="286"/>
                  </a:lnTo>
                  <a:lnTo>
                    <a:pt x="1907" y="296"/>
                  </a:lnTo>
                  <a:lnTo>
                    <a:pt x="1919" y="307"/>
                  </a:lnTo>
                  <a:lnTo>
                    <a:pt x="1929" y="319"/>
                  </a:lnTo>
                  <a:lnTo>
                    <a:pt x="1952" y="344"/>
                  </a:lnTo>
                  <a:lnTo>
                    <a:pt x="1974" y="375"/>
                  </a:lnTo>
                  <a:lnTo>
                    <a:pt x="1997" y="409"/>
                  </a:lnTo>
                  <a:lnTo>
                    <a:pt x="2025" y="447"/>
                  </a:lnTo>
                  <a:lnTo>
                    <a:pt x="2049" y="447"/>
                  </a:lnTo>
                  <a:lnTo>
                    <a:pt x="2073" y="451"/>
                  </a:lnTo>
                  <a:lnTo>
                    <a:pt x="2099" y="454"/>
                  </a:lnTo>
                  <a:lnTo>
                    <a:pt x="2126" y="460"/>
                  </a:lnTo>
                  <a:lnTo>
                    <a:pt x="2153" y="468"/>
                  </a:lnTo>
                  <a:lnTo>
                    <a:pt x="2179" y="476"/>
                  </a:lnTo>
                  <a:lnTo>
                    <a:pt x="2207" y="487"/>
                  </a:lnTo>
                  <a:lnTo>
                    <a:pt x="2234" y="498"/>
                  </a:lnTo>
                  <a:lnTo>
                    <a:pt x="2260" y="511"/>
                  </a:lnTo>
                  <a:lnTo>
                    <a:pt x="2287" y="525"/>
                  </a:lnTo>
                  <a:lnTo>
                    <a:pt x="2311" y="541"/>
                  </a:lnTo>
                  <a:lnTo>
                    <a:pt x="2335" y="557"/>
                  </a:lnTo>
                  <a:lnTo>
                    <a:pt x="2357" y="574"/>
                  </a:lnTo>
                  <a:lnTo>
                    <a:pt x="2377" y="592"/>
                  </a:lnTo>
                  <a:lnTo>
                    <a:pt x="2394" y="612"/>
                  </a:lnTo>
                  <a:lnTo>
                    <a:pt x="2411" y="630"/>
                  </a:lnTo>
                  <a:lnTo>
                    <a:pt x="640" y="870"/>
                  </a:lnTo>
                  <a:lnTo>
                    <a:pt x="0" y="954"/>
                  </a:lnTo>
                  <a:lnTo>
                    <a:pt x="17" y="948"/>
                  </a:lnTo>
                  <a:lnTo>
                    <a:pt x="36" y="939"/>
                  </a:lnTo>
                  <a:lnTo>
                    <a:pt x="55" y="928"/>
                  </a:lnTo>
                  <a:lnTo>
                    <a:pt x="73" y="915"/>
                  </a:lnTo>
                  <a:lnTo>
                    <a:pt x="91" y="900"/>
                  </a:lnTo>
                  <a:lnTo>
                    <a:pt x="108" y="884"/>
                  </a:lnTo>
                  <a:lnTo>
                    <a:pt x="126" y="866"/>
                  </a:lnTo>
                  <a:lnTo>
                    <a:pt x="141" y="848"/>
                  </a:lnTo>
                  <a:lnTo>
                    <a:pt x="155" y="828"/>
                  </a:lnTo>
                  <a:lnTo>
                    <a:pt x="167" y="808"/>
                  </a:lnTo>
                  <a:lnTo>
                    <a:pt x="177" y="788"/>
                  </a:lnTo>
                  <a:lnTo>
                    <a:pt x="184" y="769"/>
                  </a:lnTo>
                  <a:lnTo>
                    <a:pt x="187" y="760"/>
                  </a:lnTo>
                  <a:lnTo>
                    <a:pt x="189" y="751"/>
                  </a:lnTo>
                  <a:lnTo>
                    <a:pt x="190" y="741"/>
                  </a:lnTo>
                  <a:lnTo>
                    <a:pt x="191" y="732"/>
                  </a:lnTo>
                  <a:lnTo>
                    <a:pt x="190" y="724"/>
                  </a:lnTo>
                  <a:lnTo>
                    <a:pt x="189" y="716"/>
                  </a:lnTo>
                  <a:lnTo>
                    <a:pt x="188" y="708"/>
                  </a:lnTo>
                  <a:lnTo>
                    <a:pt x="184" y="701"/>
                  </a:lnTo>
                  <a:lnTo>
                    <a:pt x="178" y="688"/>
                  </a:lnTo>
                  <a:lnTo>
                    <a:pt x="175" y="677"/>
                  </a:lnTo>
                  <a:lnTo>
                    <a:pt x="173" y="669"/>
                  </a:lnTo>
                  <a:lnTo>
                    <a:pt x="173" y="663"/>
                  </a:lnTo>
                  <a:lnTo>
                    <a:pt x="175" y="660"/>
                  </a:lnTo>
                  <a:lnTo>
                    <a:pt x="178" y="656"/>
                  </a:lnTo>
                  <a:lnTo>
                    <a:pt x="183" y="654"/>
                  </a:lnTo>
                  <a:lnTo>
                    <a:pt x="189" y="653"/>
                  </a:lnTo>
                  <a:lnTo>
                    <a:pt x="204" y="651"/>
                  </a:lnTo>
                  <a:lnTo>
                    <a:pt x="222" y="649"/>
                  </a:lnTo>
                  <a:lnTo>
                    <a:pt x="231" y="648"/>
                  </a:lnTo>
                  <a:lnTo>
                    <a:pt x="242" y="644"/>
                  </a:lnTo>
                  <a:lnTo>
                    <a:pt x="252" y="640"/>
                  </a:lnTo>
                  <a:lnTo>
                    <a:pt x="263" y="634"/>
                  </a:lnTo>
                  <a:lnTo>
                    <a:pt x="278" y="640"/>
                  </a:lnTo>
                  <a:lnTo>
                    <a:pt x="294" y="647"/>
                  </a:lnTo>
                  <a:lnTo>
                    <a:pt x="313" y="651"/>
                  </a:lnTo>
                  <a:lnTo>
                    <a:pt x="331" y="657"/>
                  </a:lnTo>
                  <a:lnTo>
                    <a:pt x="351" y="662"/>
                  </a:lnTo>
                  <a:lnTo>
                    <a:pt x="374" y="666"/>
                  </a:lnTo>
                  <a:lnTo>
                    <a:pt x="396" y="668"/>
                  </a:lnTo>
                  <a:lnTo>
                    <a:pt x="420" y="669"/>
                  </a:lnTo>
                  <a:lnTo>
                    <a:pt x="446" y="670"/>
                  </a:lnTo>
                  <a:lnTo>
                    <a:pt x="473" y="669"/>
                  </a:lnTo>
                  <a:lnTo>
                    <a:pt x="502" y="666"/>
                  </a:lnTo>
                  <a:lnTo>
                    <a:pt x="532" y="662"/>
                  </a:lnTo>
                  <a:lnTo>
                    <a:pt x="564" y="656"/>
                  </a:lnTo>
                  <a:lnTo>
                    <a:pt x="598" y="648"/>
                  </a:lnTo>
                  <a:lnTo>
                    <a:pt x="634" y="637"/>
                  </a:lnTo>
                  <a:lnTo>
                    <a:pt x="671" y="625"/>
                  </a:lnTo>
                  <a:lnTo>
                    <a:pt x="683" y="620"/>
                  </a:lnTo>
                  <a:lnTo>
                    <a:pt x="694" y="614"/>
                  </a:lnTo>
                  <a:lnTo>
                    <a:pt x="703" y="607"/>
                  </a:lnTo>
                  <a:lnTo>
                    <a:pt x="712" y="599"/>
                  </a:lnTo>
                  <a:lnTo>
                    <a:pt x="719" y="590"/>
                  </a:lnTo>
                  <a:lnTo>
                    <a:pt x="726" y="579"/>
                  </a:lnTo>
                  <a:lnTo>
                    <a:pt x="733" y="569"/>
                  </a:lnTo>
                  <a:lnTo>
                    <a:pt x="739" y="558"/>
                  </a:lnTo>
                  <a:lnTo>
                    <a:pt x="744" y="546"/>
                  </a:lnTo>
                  <a:lnTo>
                    <a:pt x="748" y="534"/>
                  </a:lnTo>
                  <a:lnTo>
                    <a:pt x="752" y="521"/>
                  </a:lnTo>
                  <a:lnTo>
                    <a:pt x="755" y="508"/>
                  </a:lnTo>
                  <a:lnTo>
                    <a:pt x="761" y="480"/>
                  </a:lnTo>
                  <a:lnTo>
                    <a:pt x="766" y="452"/>
                  </a:lnTo>
                  <a:lnTo>
                    <a:pt x="773" y="396"/>
                  </a:lnTo>
                  <a:lnTo>
                    <a:pt x="780" y="344"/>
                  </a:lnTo>
                  <a:lnTo>
                    <a:pt x="786" y="321"/>
                  </a:lnTo>
                  <a:lnTo>
                    <a:pt x="792" y="300"/>
                  </a:lnTo>
                  <a:lnTo>
                    <a:pt x="795" y="291"/>
                  </a:lnTo>
                  <a:lnTo>
                    <a:pt x="800" y="282"/>
                  </a:lnTo>
                  <a:lnTo>
                    <a:pt x="805" y="274"/>
                  </a:lnTo>
                  <a:lnTo>
                    <a:pt x="809" y="268"/>
                  </a:lnTo>
                  <a:lnTo>
                    <a:pt x="821" y="256"/>
                  </a:lnTo>
                  <a:lnTo>
                    <a:pt x="833" y="240"/>
                  </a:lnTo>
                  <a:lnTo>
                    <a:pt x="844" y="224"/>
                  </a:lnTo>
                  <a:lnTo>
                    <a:pt x="856" y="206"/>
                  </a:lnTo>
                  <a:lnTo>
                    <a:pt x="878" y="167"/>
                  </a:lnTo>
                  <a:lnTo>
                    <a:pt x="900" y="126"/>
                  </a:lnTo>
                  <a:lnTo>
                    <a:pt x="920" y="87"/>
                  </a:lnTo>
                  <a:lnTo>
                    <a:pt x="940" y="52"/>
                  </a:lnTo>
                  <a:lnTo>
                    <a:pt x="949" y="37"/>
                  </a:lnTo>
                  <a:lnTo>
                    <a:pt x="958" y="24"/>
                  </a:lnTo>
                  <a:lnTo>
                    <a:pt x="966" y="14"/>
                  </a:lnTo>
                  <a:lnTo>
                    <a:pt x="974" y="6"/>
                  </a:lnTo>
                  <a:lnTo>
                    <a:pt x="1019" y="1"/>
                  </a:lnTo>
                  <a:lnTo>
                    <a:pt x="1060" y="0"/>
                  </a:lnTo>
                  <a:lnTo>
                    <a:pt x="1097" y="0"/>
                  </a:lnTo>
                  <a:lnTo>
                    <a:pt x="1128" y="1"/>
                  </a:lnTo>
                  <a:lnTo>
                    <a:pt x="1156" y="4"/>
                  </a:lnTo>
                  <a:lnTo>
                    <a:pt x="1180" y="8"/>
                  </a:lnTo>
                  <a:lnTo>
                    <a:pt x="1201" y="14"/>
                  </a:lnTo>
                  <a:lnTo>
                    <a:pt x="1218" y="20"/>
                  </a:lnTo>
                  <a:lnTo>
                    <a:pt x="1247" y="31"/>
                  </a:lnTo>
                  <a:lnTo>
                    <a:pt x="1271" y="41"/>
                  </a:lnTo>
                  <a:lnTo>
                    <a:pt x="1281" y="44"/>
                  </a:lnTo>
                  <a:lnTo>
                    <a:pt x="1292" y="45"/>
                  </a:lnTo>
                  <a:lnTo>
                    <a:pt x="1302" y="45"/>
                  </a:lnTo>
                  <a:lnTo>
                    <a:pt x="1314" y="43"/>
                  </a:lnTo>
                  <a:lnTo>
                    <a:pt x="1323" y="44"/>
                  </a:lnTo>
                  <a:lnTo>
                    <a:pt x="1330" y="45"/>
                  </a:lnTo>
                  <a:lnTo>
                    <a:pt x="1337" y="48"/>
                  </a:lnTo>
                  <a:lnTo>
                    <a:pt x="1342" y="51"/>
                  </a:lnTo>
                  <a:lnTo>
                    <a:pt x="1347" y="55"/>
                  </a:lnTo>
                  <a:lnTo>
                    <a:pt x="1350" y="59"/>
                  </a:lnTo>
                  <a:lnTo>
                    <a:pt x="1354" y="65"/>
                  </a:lnTo>
                  <a:lnTo>
                    <a:pt x="1356" y="71"/>
                  </a:lnTo>
                  <a:lnTo>
                    <a:pt x="1363" y="83"/>
                  </a:lnTo>
                  <a:lnTo>
                    <a:pt x="1372" y="95"/>
                  </a:lnTo>
                  <a:lnTo>
                    <a:pt x="1378" y="102"/>
                  </a:lnTo>
                  <a:lnTo>
                    <a:pt x="1385" y="108"/>
                  </a:lnTo>
                  <a:lnTo>
                    <a:pt x="1394" y="115"/>
                  </a:lnTo>
                  <a:lnTo>
                    <a:pt x="1406" y="121"/>
                  </a:lnTo>
                  <a:lnTo>
                    <a:pt x="1412" y="135"/>
                  </a:lnTo>
                  <a:lnTo>
                    <a:pt x="1419" y="148"/>
                  </a:lnTo>
                  <a:lnTo>
                    <a:pt x="1427" y="159"/>
                  </a:lnTo>
                  <a:lnTo>
                    <a:pt x="1435" y="169"/>
                  </a:lnTo>
                  <a:lnTo>
                    <a:pt x="1442" y="177"/>
                  </a:lnTo>
                  <a:lnTo>
                    <a:pt x="1452" y="185"/>
                  </a:lnTo>
                  <a:lnTo>
                    <a:pt x="1460" y="192"/>
                  </a:lnTo>
                  <a:lnTo>
                    <a:pt x="1469" y="198"/>
                  </a:lnTo>
                  <a:lnTo>
                    <a:pt x="1477" y="203"/>
                  </a:lnTo>
                  <a:lnTo>
                    <a:pt x="1487" y="208"/>
                  </a:lnTo>
                  <a:lnTo>
                    <a:pt x="1496" y="211"/>
                  </a:lnTo>
                  <a:lnTo>
                    <a:pt x="1505" y="213"/>
                  </a:lnTo>
                  <a:lnTo>
                    <a:pt x="1524" y="218"/>
                  </a:lnTo>
                  <a:lnTo>
                    <a:pt x="1543" y="219"/>
                  </a:lnTo>
                  <a:lnTo>
                    <a:pt x="1577" y="220"/>
                  </a:lnTo>
                  <a:lnTo>
                    <a:pt x="1607" y="220"/>
                  </a:lnTo>
                  <a:lnTo>
                    <a:pt x="1620" y="222"/>
                  </a:lnTo>
                  <a:lnTo>
                    <a:pt x="1630" y="225"/>
                  </a:lnTo>
                  <a:lnTo>
                    <a:pt x="1635" y="226"/>
                  </a:lnTo>
                  <a:lnTo>
                    <a:pt x="1639" y="229"/>
                  </a:lnTo>
                  <a:lnTo>
                    <a:pt x="1642" y="232"/>
                  </a:lnTo>
                  <a:lnTo>
                    <a:pt x="1644" y="237"/>
                  </a:lnTo>
                  <a:lnTo>
                    <a:pt x="1823" y="245"/>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3" name="Freeform 144"/>
            <p:cNvSpPr/>
            <p:nvPr/>
          </p:nvSpPr>
          <p:spPr>
            <a:xfrm>
              <a:off x="5377680" y="3254040"/>
              <a:ext cx="703080" cy="544320"/>
            </a:xfrm>
            <a:custGeom>
              <a:avLst/>
              <a:gdLst>
                <a:gd name="textAreaLeft" fmla="*/ 0 w 703080"/>
                <a:gd name="textAreaRight" fmla="*/ 703440 w 703080"/>
                <a:gd name="textAreaTop" fmla="*/ 0 h 544320"/>
                <a:gd name="textAreaBottom" fmla="*/ 544680 h 544320"/>
              </a:gdLst>
              <a:ahLst/>
              <a:rect l="textAreaLeft" t="textAreaTop" r="textAreaRight" b="textAreaBottom"/>
              <a:pathLst>
                <a:path w="1601" h="1200">
                  <a:moveTo>
                    <a:pt x="424" y="1200"/>
                  </a:moveTo>
                  <a:lnTo>
                    <a:pt x="415" y="1192"/>
                  </a:lnTo>
                  <a:lnTo>
                    <a:pt x="404" y="1184"/>
                  </a:lnTo>
                  <a:lnTo>
                    <a:pt x="391" y="1176"/>
                  </a:lnTo>
                  <a:lnTo>
                    <a:pt x="377" y="1167"/>
                  </a:lnTo>
                  <a:lnTo>
                    <a:pt x="345" y="1147"/>
                  </a:lnTo>
                  <a:lnTo>
                    <a:pt x="306" y="1126"/>
                  </a:lnTo>
                  <a:lnTo>
                    <a:pt x="263" y="1103"/>
                  </a:lnTo>
                  <a:lnTo>
                    <a:pt x="216" y="1081"/>
                  </a:lnTo>
                  <a:lnTo>
                    <a:pt x="166" y="1059"/>
                  </a:lnTo>
                  <a:lnTo>
                    <a:pt x="112" y="1036"/>
                  </a:lnTo>
                  <a:lnTo>
                    <a:pt x="106" y="308"/>
                  </a:lnTo>
                  <a:lnTo>
                    <a:pt x="0" y="55"/>
                  </a:lnTo>
                  <a:lnTo>
                    <a:pt x="1466" y="0"/>
                  </a:lnTo>
                  <a:lnTo>
                    <a:pt x="1458" y="83"/>
                  </a:lnTo>
                  <a:lnTo>
                    <a:pt x="1596" y="69"/>
                  </a:lnTo>
                  <a:lnTo>
                    <a:pt x="1598" y="85"/>
                  </a:lnTo>
                  <a:lnTo>
                    <a:pt x="1600" y="101"/>
                  </a:lnTo>
                  <a:lnTo>
                    <a:pt x="1601" y="118"/>
                  </a:lnTo>
                  <a:lnTo>
                    <a:pt x="1601" y="135"/>
                  </a:lnTo>
                  <a:lnTo>
                    <a:pt x="1600" y="169"/>
                  </a:lnTo>
                  <a:lnTo>
                    <a:pt x="1597" y="204"/>
                  </a:lnTo>
                  <a:lnTo>
                    <a:pt x="1591" y="239"/>
                  </a:lnTo>
                  <a:lnTo>
                    <a:pt x="1584" y="274"/>
                  </a:lnTo>
                  <a:lnTo>
                    <a:pt x="1575" y="309"/>
                  </a:lnTo>
                  <a:lnTo>
                    <a:pt x="1564" y="343"/>
                  </a:lnTo>
                  <a:lnTo>
                    <a:pt x="1552" y="376"/>
                  </a:lnTo>
                  <a:lnTo>
                    <a:pt x="1541" y="407"/>
                  </a:lnTo>
                  <a:lnTo>
                    <a:pt x="1529" y="436"/>
                  </a:lnTo>
                  <a:lnTo>
                    <a:pt x="1516" y="465"/>
                  </a:lnTo>
                  <a:lnTo>
                    <a:pt x="1505" y="489"/>
                  </a:lnTo>
                  <a:lnTo>
                    <a:pt x="1493" y="511"/>
                  </a:lnTo>
                  <a:lnTo>
                    <a:pt x="1482" y="531"/>
                  </a:lnTo>
                  <a:lnTo>
                    <a:pt x="1472" y="546"/>
                  </a:lnTo>
                  <a:lnTo>
                    <a:pt x="1462" y="564"/>
                  </a:lnTo>
                  <a:lnTo>
                    <a:pt x="1453" y="585"/>
                  </a:lnTo>
                  <a:lnTo>
                    <a:pt x="1444" y="611"/>
                  </a:lnTo>
                  <a:lnTo>
                    <a:pt x="1434" y="640"/>
                  </a:lnTo>
                  <a:lnTo>
                    <a:pt x="1426" y="671"/>
                  </a:lnTo>
                  <a:lnTo>
                    <a:pt x="1418" y="707"/>
                  </a:lnTo>
                  <a:lnTo>
                    <a:pt x="1411" y="746"/>
                  </a:lnTo>
                  <a:lnTo>
                    <a:pt x="1406" y="787"/>
                  </a:lnTo>
                  <a:lnTo>
                    <a:pt x="1403" y="830"/>
                  </a:lnTo>
                  <a:lnTo>
                    <a:pt x="1402" y="876"/>
                  </a:lnTo>
                  <a:lnTo>
                    <a:pt x="1402" y="898"/>
                  </a:lnTo>
                  <a:lnTo>
                    <a:pt x="1403" y="921"/>
                  </a:lnTo>
                  <a:lnTo>
                    <a:pt x="1405" y="946"/>
                  </a:lnTo>
                  <a:lnTo>
                    <a:pt x="1408" y="969"/>
                  </a:lnTo>
                  <a:lnTo>
                    <a:pt x="1410" y="994"/>
                  </a:lnTo>
                  <a:lnTo>
                    <a:pt x="1415" y="1018"/>
                  </a:lnTo>
                  <a:lnTo>
                    <a:pt x="1419" y="1043"/>
                  </a:lnTo>
                  <a:lnTo>
                    <a:pt x="1425" y="1067"/>
                  </a:lnTo>
                  <a:lnTo>
                    <a:pt x="1432" y="1092"/>
                  </a:lnTo>
                  <a:lnTo>
                    <a:pt x="1439" y="1116"/>
                  </a:lnTo>
                  <a:lnTo>
                    <a:pt x="1448" y="1141"/>
                  </a:lnTo>
                  <a:lnTo>
                    <a:pt x="1458" y="1165"/>
                  </a:lnTo>
                  <a:lnTo>
                    <a:pt x="424" y="120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4" name="Freeform 145"/>
            <p:cNvSpPr/>
            <p:nvPr/>
          </p:nvSpPr>
          <p:spPr>
            <a:xfrm>
              <a:off x="5377680" y="3254040"/>
              <a:ext cx="703080" cy="544320"/>
            </a:xfrm>
            <a:custGeom>
              <a:avLst/>
              <a:gdLst>
                <a:gd name="textAreaLeft" fmla="*/ 0 w 703080"/>
                <a:gd name="textAreaRight" fmla="*/ 703440 w 703080"/>
                <a:gd name="textAreaTop" fmla="*/ 0 h 544320"/>
                <a:gd name="textAreaBottom" fmla="*/ 544680 h 544320"/>
              </a:gdLst>
              <a:ahLst/>
              <a:rect l="textAreaLeft" t="textAreaTop" r="textAreaRight" b="textAreaBottom"/>
              <a:pathLst>
                <a:path w="1601" h="1200">
                  <a:moveTo>
                    <a:pt x="424" y="1200"/>
                  </a:moveTo>
                  <a:lnTo>
                    <a:pt x="415" y="1192"/>
                  </a:lnTo>
                  <a:lnTo>
                    <a:pt x="404" y="1184"/>
                  </a:lnTo>
                  <a:lnTo>
                    <a:pt x="391" y="1176"/>
                  </a:lnTo>
                  <a:lnTo>
                    <a:pt x="377" y="1167"/>
                  </a:lnTo>
                  <a:lnTo>
                    <a:pt x="345" y="1147"/>
                  </a:lnTo>
                  <a:lnTo>
                    <a:pt x="306" y="1126"/>
                  </a:lnTo>
                  <a:lnTo>
                    <a:pt x="263" y="1103"/>
                  </a:lnTo>
                  <a:lnTo>
                    <a:pt x="216" y="1081"/>
                  </a:lnTo>
                  <a:lnTo>
                    <a:pt x="166" y="1059"/>
                  </a:lnTo>
                  <a:lnTo>
                    <a:pt x="112" y="1036"/>
                  </a:lnTo>
                  <a:lnTo>
                    <a:pt x="106" y="308"/>
                  </a:lnTo>
                  <a:lnTo>
                    <a:pt x="0" y="55"/>
                  </a:lnTo>
                  <a:lnTo>
                    <a:pt x="1466" y="0"/>
                  </a:lnTo>
                  <a:lnTo>
                    <a:pt x="1458" y="83"/>
                  </a:lnTo>
                  <a:lnTo>
                    <a:pt x="1596" y="69"/>
                  </a:lnTo>
                  <a:lnTo>
                    <a:pt x="1598" y="85"/>
                  </a:lnTo>
                  <a:lnTo>
                    <a:pt x="1600" y="101"/>
                  </a:lnTo>
                  <a:lnTo>
                    <a:pt x="1601" y="118"/>
                  </a:lnTo>
                  <a:lnTo>
                    <a:pt x="1601" y="135"/>
                  </a:lnTo>
                  <a:lnTo>
                    <a:pt x="1600" y="169"/>
                  </a:lnTo>
                  <a:lnTo>
                    <a:pt x="1597" y="204"/>
                  </a:lnTo>
                  <a:lnTo>
                    <a:pt x="1591" y="239"/>
                  </a:lnTo>
                  <a:lnTo>
                    <a:pt x="1584" y="274"/>
                  </a:lnTo>
                  <a:lnTo>
                    <a:pt x="1575" y="309"/>
                  </a:lnTo>
                  <a:lnTo>
                    <a:pt x="1564" y="343"/>
                  </a:lnTo>
                  <a:lnTo>
                    <a:pt x="1552" y="376"/>
                  </a:lnTo>
                  <a:lnTo>
                    <a:pt x="1541" y="407"/>
                  </a:lnTo>
                  <a:lnTo>
                    <a:pt x="1529" y="436"/>
                  </a:lnTo>
                  <a:lnTo>
                    <a:pt x="1516" y="465"/>
                  </a:lnTo>
                  <a:lnTo>
                    <a:pt x="1505" y="489"/>
                  </a:lnTo>
                  <a:lnTo>
                    <a:pt x="1493" y="511"/>
                  </a:lnTo>
                  <a:lnTo>
                    <a:pt x="1482" y="531"/>
                  </a:lnTo>
                  <a:lnTo>
                    <a:pt x="1472" y="546"/>
                  </a:lnTo>
                  <a:lnTo>
                    <a:pt x="1462" y="564"/>
                  </a:lnTo>
                  <a:lnTo>
                    <a:pt x="1453" y="585"/>
                  </a:lnTo>
                  <a:lnTo>
                    <a:pt x="1444" y="611"/>
                  </a:lnTo>
                  <a:lnTo>
                    <a:pt x="1434" y="640"/>
                  </a:lnTo>
                  <a:lnTo>
                    <a:pt x="1426" y="671"/>
                  </a:lnTo>
                  <a:lnTo>
                    <a:pt x="1418" y="707"/>
                  </a:lnTo>
                  <a:lnTo>
                    <a:pt x="1411" y="746"/>
                  </a:lnTo>
                  <a:lnTo>
                    <a:pt x="1406" y="787"/>
                  </a:lnTo>
                  <a:lnTo>
                    <a:pt x="1403" y="830"/>
                  </a:lnTo>
                  <a:lnTo>
                    <a:pt x="1402" y="876"/>
                  </a:lnTo>
                  <a:lnTo>
                    <a:pt x="1402" y="898"/>
                  </a:lnTo>
                  <a:lnTo>
                    <a:pt x="1403" y="921"/>
                  </a:lnTo>
                  <a:lnTo>
                    <a:pt x="1405" y="946"/>
                  </a:lnTo>
                  <a:lnTo>
                    <a:pt x="1408" y="969"/>
                  </a:lnTo>
                  <a:lnTo>
                    <a:pt x="1410" y="994"/>
                  </a:lnTo>
                  <a:lnTo>
                    <a:pt x="1415" y="1018"/>
                  </a:lnTo>
                  <a:lnTo>
                    <a:pt x="1419" y="1043"/>
                  </a:lnTo>
                  <a:lnTo>
                    <a:pt x="1425" y="1067"/>
                  </a:lnTo>
                  <a:lnTo>
                    <a:pt x="1432" y="1092"/>
                  </a:lnTo>
                  <a:lnTo>
                    <a:pt x="1439" y="1116"/>
                  </a:lnTo>
                  <a:lnTo>
                    <a:pt x="1448" y="1141"/>
                  </a:lnTo>
                  <a:lnTo>
                    <a:pt x="1458" y="1165"/>
                  </a:lnTo>
                  <a:lnTo>
                    <a:pt x="424" y="120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5" name="Freeform 146"/>
            <p:cNvSpPr/>
            <p:nvPr/>
          </p:nvSpPr>
          <p:spPr>
            <a:xfrm>
              <a:off x="7753320" y="2675160"/>
              <a:ext cx="127440" cy="160920"/>
            </a:xfrm>
            <a:custGeom>
              <a:avLst/>
              <a:gdLst>
                <a:gd name="textAreaLeft" fmla="*/ 0 w 127440"/>
                <a:gd name="textAreaRight" fmla="*/ 127800 w 127440"/>
                <a:gd name="textAreaTop" fmla="*/ 0 h 160920"/>
                <a:gd name="textAreaBottom" fmla="*/ 161280 h 160920"/>
              </a:gdLst>
              <a:ahLst/>
              <a:rect l="textAreaLeft" t="textAreaTop" r="textAreaRight" b="textAreaBottom"/>
              <a:pathLst>
                <a:path w="289" h="357">
                  <a:moveTo>
                    <a:pt x="285" y="357"/>
                  </a:moveTo>
                  <a:lnTo>
                    <a:pt x="273" y="353"/>
                  </a:lnTo>
                  <a:lnTo>
                    <a:pt x="263" y="347"/>
                  </a:lnTo>
                  <a:lnTo>
                    <a:pt x="251" y="340"/>
                  </a:lnTo>
                  <a:lnTo>
                    <a:pt x="241" y="332"/>
                  </a:lnTo>
                  <a:lnTo>
                    <a:pt x="230" y="322"/>
                  </a:lnTo>
                  <a:lnTo>
                    <a:pt x="220" y="313"/>
                  </a:lnTo>
                  <a:lnTo>
                    <a:pt x="209" y="302"/>
                  </a:lnTo>
                  <a:lnTo>
                    <a:pt x="200" y="292"/>
                  </a:lnTo>
                  <a:lnTo>
                    <a:pt x="180" y="269"/>
                  </a:lnTo>
                  <a:lnTo>
                    <a:pt x="161" y="243"/>
                  </a:lnTo>
                  <a:lnTo>
                    <a:pt x="144" y="217"/>
                  </a:lnTo>
                  <a:lnTo>
                    <a:pt x="125" y="191"/>
                  </a:lnTo>
                  <a:lnTo>
                    <a:pt x="92" y="140"/>
                  </a:lnTo>
                  <a:lnTo>
                    <a:pt x="61" y="96"/>
                  </a:lnTo>
                  <a:lnTo>
                    <a:pt x="44" y="78"/>
                  </a:lnTo>
                  <a:lnTo>
                    <a:pt x="29" y="63"/>
                  </a:lnTo>
                  <a:lnTo>
                    <a:pt x="22" y="57"/>
                  </a:lnTo>
                  <a:lnTo>
                    <a:pt x="15" y="52"/>
                  </a:lnTo>
                  <a:lnTo>
                    <a:pt x="7" y="49"/>
                  </a:lnTo>
                  <a:lnTo>
                    <a:pt x="0" y="47"/>
                  </a:lnTo>
                  <a:lnTo>
                    <a:pt x="161" y="0"/>
                  </a:lnTo>
                  <a:lnTo>
                    <a:pt x="162" y="10"/>
                  </a:lnTo>
                  <a:lnTo>
                    <a:pt x="165" y="20"/>
                  </a:lnTo>
                  <a:lnTo>
                    <a:pt x="168" y="29"/>
                  </a:lnTo>
                  <a:lnTo>
                    <a:pt x="174" y="37"/>
                  </a:lnTo>
                  <a:lnTo>
                    <a:pt x="186" y="55"/>
                  </a:lnTo>
                  <a:lnTo>
                    <a:pt x="201" y="71"/>
                  </a:lnTo>
                  <a:lnTo>
                    <a:pt x="215" y="88"/>
                  </a:lnTo>
                  <a:lnTo>
                    <a:pt x="227" y="104"/>
                  </a:lnTo>
                  <a:lnTo>
                    <a:pt x="233" y="113"/>
                  </a:lnTo>
                  <a:lnTo>
                    <a:pt x="236" y="123"/>
                  </a:lnTo>
                  <a:lnTo>
                    <a:pt x="238" y="132"/>
                  </a:lnTo>
                  <a:lnTo>
                    <a:pt x="240" y="141"/>
                  </a:lnTo>
                  <a:lnTo>
                    <a:pt x="240" y="158"/>
                  </a:lnTo>
                  <a:lnTo>
                    <a:pt x="242" y="173"/>
                  </a:lnTo>
                  <a:lnTo>
                    <a:pt x="245" y="187"/>
                  </a:lnTo>
                  <a:lnTo>
                    <a:pt x="249" y="200"/>
                  </a:lnTo>
                  <a:lnTo>
                    <a:pt x="258" y="224"/>
                  </a:lnTo>
                  <a:lnTo>
                    <a:pt x="269" y="246"/>
                  </a:lnTo>
                  <a:lnTo>
                    <a:pt x="273" y="258"/>
                  </a:lnTo>
                  <a:lnTo>
                    <a:pt x="278" y="270"/>
                  </a:lnTo>
                  <a:lnTo>
                    <a:pt x="283" y="281"/>
                  </a:lnTo>
                  <a:lnTo>
                    <a:pt x="285" y="294"/>
                  </a:lnTo>
                  <a:lnTo>
                    <a:pt x="287" y="308"/>
                  </a:lnTo>
                  <a:lnTo>
                    <a:pt x="289" y="323"/>
                  </a:lnTo>
                  <a:lnTo>
                    <a:pt x="287" y="340"/>
                  </a:lnTo>
                  <a:lnTo>
                    <a:pt x="285" y="35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6" name="Freeform 147"/>
            <p:cNvSpPr/>
            <p:nvPr/>
          </p:nvSpPr>
          <p:spPr>
            <a:xfrm>
              <a:off x="7753320" y="2675160"/>
              <a:ext cx="127440" cy="160920"/>
            </a:xfrm>
            <a:custGeom>
              <a:avLst/>
              <a:gdLst>
                <a:gd name="textAreaLeft" fmla="*/ 0 w 127440"/>
                <a:gd name="textAreaRight" fmla="*/ 127800 w 127440"/>
                <a:gd name="textAreaTop" fmla="*/ 0 h 160920"/>
                <a:gd name="textAreaBottom" fmla="*/ 161280 h 160920"/>
              </a:gdLst>
              <a:ahLst/>
              <a:rect l="textAreaLeft" t="textAreaTop" r="textAreaRight" b="textAreaBottom"/>
              <a:pathLst>
                <a:path w="289" h="357">
                  <a:moveTo>
                    <a:pt x="285" y="357"/>
                  </a:moveTo>
                  <a:lnTo>
                    <a:pt x="273" y="353"/>
                  </a:lnTo>
                  <a:lnTo>
                    <a:pt x="263" y="347"/>
                  </a:lnTo>
                  <a:lnTo>
                    <a:pt x="251" y="340"/>
                  </a:lnTo>
                  <a:lnTo>
                    <a:pt x="241" y="332"/>
                  </a:lnTo>
                  <a:lnTo>
                    <a:pt x="230" y="322"/>
                  </a:lnTo>
                  <a:lnTo>
                    <a:pt x="220" y="313"/>
                  </a:lnTo>
                  <a:lnTo>
                    <a:pt x="209" y="302"/>
                  </a:lnTo>
                  <a:lnTo>
                    <a:pt x="200" y="292"/>
                  </a:lnTo>
                  <a:lnTo>
                    <a:pt x="180" y="269"/>
                  </a:lnTo>
                  <a:lnTo>
                    <a:pt x="161" y="243"/>
                  </a:lnTo>
                  <a:lnTo>
                    <a:pt x="144" y="217"/>
                  </a:lnTo>
                  <a:lnTo>
                    <a:pt x="125" y="191"/>
                  </a:lnTo>
                  <a:lnTo>
                    <a:pt x="92" y="140"/>
                  </a:lnTo>
                  <a:lnTo>
                    <a:pt x="61" y="96"/>
                  </a:lnTo>
                  <a:lnTo>
                    <a:pt x="44" y="78"/>
                  </a:lnTo>
                  <a:lnTo>
                    <a:pt x="29" y="63"/>
                  </a:lnTo>
                  <a:lnTo>
                    <a:pt x="22" y="57"/>
                  </a:lnTo>
                  <a:lnTo>
                    <a:pt x="15" y="52"/>
                  </a:lnTo>
                  <a:lnTo>
                    <a:pt x="7" y="49"/>
                  </a:lnTo>
                  <a:lnTo>
                    <a:pt x="0" y="47"/>
                  </a:lnTo>
                  <a:lnTo>
                    <a:pt x="161" y="0"/>
                  </a:lnTo>
                  <a:lnTo>
                    <a:pt x="162" y="10"/>
                  </a:lnTo>
                  <a:lnTo>
                    <a:pt x="165" y="20"/>
                  </a:lnTo>
                  <a:lnTo>
                    <a:pt x="168" y="29"/>
                  </a:lnTo>
                  <a:lnTo>
                    <a:pt x="174" y="37"/>
                  </a:lnTo>
                  <a:lnTo>
                    <a:pt x="186" y="55"/>
                  </a:lnTo>
                  <a:lnTo>
                    <a:pt x="201" y="71"/>
                  </a:lnTo>
                  <a:lnTo>
                    <a:pt x="215" y="88"/>
                  </a:lnTo>
                  <a:lnTo>
                    <a:pt x="227" y="104"/>
                  </a:lnTo>
                  <a:lnTo>
                    <a:pt x="233" y="113"/>
                  </a:lnTo>
                  <a:lnTo>
                    <a:pt x="236" y="123"/>
                  </a:lnTo>
                  <a:lnTo>
                    <a:pt x="238" y="132"/>
                  </a:lnTo>
                  <a:lnTo>
                    <a:pt x="240" y="141"/>
                  </a:lnTo>
                  <a:lnTo>
                    <a:pt x="240" y="158"/>
                  </a:lnTo>
                  <a:lnTo>
                    <a:pt x="242" y="173"/>
                  </a:lnTo>
                  <a:lnTo>
                    <a:pt x="245" y="187"/>
                  </a:lnTo>
                  <a:lnTo>
                    <a:pt x="249" y="200"/>
                  </a:lnTo>
                  <a:lnTo>
                    <a:pt x="258" y="224"/>
                  </a:lnTo>
                  <a:lnTo>
                    <a:pt x="269" y="246"/>
                  </a:lnTo>
                  <a:lnTo>
                    <a:pt x="273" y="258"/>
                  </a:lnTo>
                  <a:lnTo>
                    <a:pt x="278" y="270"/>
                  </a:lnTo>
                  <a:lnTo>
                    <a:pt x="283" y="281"/>
                  </a:lnTo>
                  <a:lnTo>
                    <a:pt x="285" y="294"/>
                  </a:lnTo>
                  <a:lnTo>
                    <a:pt x="287" y="308"/>
                  </a:lnTo>
                  <a:lnTo>
                    <a:pt x="289" y="323"/>
                  </a:lnTo>
                  <a:lnTo>
                    <a:pt x="287" y="340"/>
                  </a:lnTo>
                  <a:lnTo>
                    <a:pt x="285" y="357"/>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7" name="Freeform 148"/>
            <p:cNvSpPr/>
            <p:nvPr/>
          </p:nvSpPr>
          <p:spPr>
            <a:xfrm>
              <a:off x="5060880" y="2427480"/>
              <a:ext cx="753840" cy="324720"/>
            </a:xfrm>
            <a:custGeom>
              <a:avLst/>
              <a:gdLst>
                <a:gd name="textAreaLeft" fmla="*/ 0 w 753840"/>
                <a:gd name="textAreaRight" fmla="*/ 754200 w 753840"/>
                <a:gd name="textAreaTop" fmla="*/ 0 h 324720"/>
                <a:gd name="textAreaBottom" fmla="*/ 324720 h 324720"/>
              </a:gdLst>
              <a:ahLst/>
              <a:rect l="textAreaLeft" t="textAreaTop" r="textAreaRight" b="textAreaBottom"/>
              <a:pathLst>
                <a:path w="1714" h="717">
                  <a:moveTo>
                    <a:pt x="1388" y="0"/>
                  </a:moveTo>
                  <a:lnTo>
                    <a:pt x="1399" y="19"/>
                  </a:lnTo>
                  <a:lnTo>
                    <a:pt x="1410" y="38"/>
                  </a:lnTo>
                  <a:lnTo>
                    <a:pt x="1424" y="56"/>
                  </a:lnTo>
                  <a:lnTo>
                    <a:pt x="1440" y="75"/>
                  </a:lnTo>
                  <a:lnTo>
                    <a:pt x="1457" y="93"/>
                  </a:lnTo>
                  <a:lnTo>
                    <a:pt x="1475" y="109"/>
                  </a:lnTo>
                  <a:lnTo>
                    <a:pt x="1494" y="125"/>
                  </a:lnTo>
                  <a:lnTo>
                    <a:pt x="1514" y="140"/>
                  </a:lnTo>
                  <a:lnTo>
                    <a:pt x="1535" y="153"/>
                  </a:lnTo>
                  <a:lnTo>
                    <a:pt x="1558" y="166"/>
                  </a:lnTo>
                  <a:lnTo>
                    <a:pt x="1579" y="177"/>
                  </a:lnTo>
                  <a:lnTo>
                    <a:pt x="1601" y="186"/>
                  </a:lnTo>
                  <a:lnTo>
                    <a:pt x="1622" y="193"/>
                  </a:lnTo>
                  <a:lnTo>
                    <a:pt x="1643" y="198"/>
                  </a:lnTo>
                  <a:lnTo>
                    <a:pt x="1663" y="201"/>
                  </a:lnTo>
                  <a:lnTo>
                    <a:pt x="1683" y="202"/>
                  </a:lnTo>
                  <a:lnTo>
                    <a:pt x="1714" y="331"/>
                  </a:lnTo>
                  <a:lnTo>
                    <a:pt x="1695" y="335"/>
                  </a:lnTo>
                  <a:lnTo>
                    <a:pt x="1679" y="340"/>
                  </a:lnTo>
                  <a:lnTo>
                    <a:pt x="1665" y="346"/>
                  </a:lnTo>
                  <a:lnTo>
                    <a:pt x="1653" y="353"/>
                  </a:lnTo>
                  <a:lnTo>
                    <a:pt x="1643" y="361"/>
                  </a:lnTo>
                  <a:lnTo>
                    <a:pt x="1636" y="369"/>
                  </a:lnTo>
                  <a:lnTo>
                    <a:pt x="1630" y="379"/>
                  </a:lnTo>
                  <a:lnTo>
                    <a:pt x="1625" y="388"/>
                  </a:lnTo>
                  <a:lnTo>
                    <a:pt x="1623" y="397"/>
                  </a:lnTo>
                  <a:lnTo>
                    <a:pt x="1622" y="407"/>
                  </a:lnTo>
                  <a:lnTo>
                    <a:pt x="1623" y="416"/>
                  </a:lnTo>
                  <a:lnTo>
                    <a:pt x="1625" y="425"/>
                  </a:lnTo>
                  <a:lnTo>
                    <a:pt x="1628" y="434"/>
                  </a:lnTo>
                  <a:lnTo>
                    <a:pt x="1632" y="442"/>
                  </a:lnTo>
                  <a:lnTo>
                    <a:pt x="1638" y="449"/>
                  </a:lnTo>
                  <a:lnTo>
                    <a:pt x="1645" y="456"/>
                  </a:lnTo>
                  <a:lnTo>
                    <a:pt x="1608" y="525"/>
                  </a:lnTo>
                  <a:lnTo>
                    <a:pt x="1602" y="525"/>
                  </a:lnTo>
                  <a:lnTo>
                    <a:pt x="1596" y="525"/>
                  </a:lnTo>
                  <a:lnTo>
                    <a:pt x="1591" y="526"/>
                  </a:lnTo>
                  <a:lnTo>
                    <a:pt x="1586" y="528"/>
                  </a:lnTo>
                  <a:lnTo>
                    <a:pt x="1582" y="531"/>
                  </a:lnTo>
                  <a:lnTo>
                    <a:pt x="1577" y="534"/>
                  </a:lnTo>
                  <a:lnTo>
                    <a:pt x="1573" y="538"/>
                  </a:lnTo>
                  <a:lnTo>
                    <a:pt x="1569" y="542"/>
                  </a:lnTo>
                  <a:lnTo>
                    <a:pt x="1563" y="552"/>
                  </a:lnTo>
                  <a:lnTo>
                    <a:pt x="1558" y="563"/>
                  </a:lnTo>
                  <a:lnTo>
                    <a:pt x="1553" y="575"/>
                  </a:lnTo>
                  <a:lnTo>
                    <a:pt x="1548" y="588"/>
                  </a:lnTo>
                  <a:lnTo>
                    <a:pt x="1546" y="602"/>
                  </a:lnTo>
                  <a:lnTo>
                    <a:pt x="1544" y="616"/>
                  </a:lnTo>
                  <a:lnTo>
                    <a:pt x="1542" y="629"/>
                  </a:lnTo>
                  <a:lnTo>
                    <a:pt x="1541" y="642"/>
                  </a:lnTo>
                  <a:lnTo>
                    <a:pt x="1541" y="653"/>
                  </a:lnTo>
                  <a:lnTo>
                    <a:pt x="1541" y="664"/>
                  </a:lnTo>
                  <a:lnTo>
                    <a:pt x="1542" y="673"/>
                  </a:lnTo>
                  <a:lnTo>
                    <a:pt x="1544" y="680"/>
                  </a:lnTo>
                  <a:lnTo>
                    <a:pt x="277" y="717"/>
                  </a:lnTo>
                  <a:lnTo>
                    <a:pt x="259" y="709"/>
                  </a:lnTo>
                  <a:lnTo>
                    <a:pt x="243" y="702"/>
                  </a:lnTo>
                  <a:lnTo>
                    <a:pt x="236" y="699"/>
                  </a:lnTo>
                  <a:lnTo>
                    <a:pt x="232" y="694"/>
                  </a:lnTo>
                  <a:lnTo>
                    <a:pt x="227" y="689"/>
                  </a:lnTo>
                  <a:lnTo>
                    <a:pt x="224" y="685"/>
                  </a:lnTo>
                  <a:lnTo>
                    <a:pt x="220" y="678"/>
                  </a:lnTo>
                  <a:lnTo>
                    <a:pt x="219" y="671"/>
                  </a:lnTo>
                  <a:lnTo>
                    <a:pt x="218" y="663"/>
                  </a:lnTo>
                  <a:lnTo>
                    <a:pt x="217" y="652"/>
                  </a:lnTo>
                  <a:lnTo>
                    <a:pt x="218" y="626"/>
                  </a:lnTo>
                  <a:lnTo>
                    <a:pt x="222" y="594"/>
                  </a:lnTo>
                  <a:lnTo>
                    <a:pt x="225" y="576"/>
                  </a:lnTo>
                  <a:lnTo>
                    <a:pt x="225" y="561"/>
                  </a:lnTo>
                  <a:lnTo>
                    <a:pt x="222" y="549"/>
                  </a:lnTo>
                  <a:lnTo>
                    <a:pt x="220" y="538"/>
                  </a:lnTo>
                  <a:lnTo>
                    <a:pt x="215" y="528"/>
                  </a:lnTo>
                  <a:lnTo>
                    <a:pt x="210" y="520"/>
                  </a:lnTo>
                  <a:lnTo>
                    <a:pt x="203" y="513"/>
                  </a:lnTo>
                  <a:lnTo>
                    <a:pt x="196" y="508"/>
                  </a:lnTo>
                  <a:lnTo>
                    <a:pt x="179" y="498"/>
                  </a:lnTo>
                  <a:lnTo>
                    <a:pt x="162" y="490"/>
                  </a:lnTo>
                  <a:lnTo>
                    <a:pt x="152" y="485"/>
                  </a:lnTo>
                  <a:lnTo>
                    <a:pt x="144" y="480"/>
                  </a:lnTo>
                  <a:lnTo>
                    <a:pt x="137" y="476"/>
                  </a:lnTo>
                  <a:lnTo>
                    <a:pt x="130" y="470"/>
                  </a:lnTo>
                  <a:lnTo>
                    <a:pt x="125" y="465"/>
                  </a:lnTo>
                  <a:lnTo>
                    <a:pt x="123" y="460"/>
                  </a:lnTo>
                  <a:lnTo>
                    <a:pt x="123" y="457"/>
                  </a:lnTo>
                  <a:lnTo>
                    <a:pt x="123" y="453"/>
                  </a:lnTo>
                  <a:lnTo>
                    <a:pt x="124" y="449"/>
                  </a:lnTo>
                  <a:lnTo>
                    <a:pt x="125" y="444"/>
                  </a:lnTo>
                  <a:lnTo>
                    <a:pt x="127" y="438"/>
                  </a:lnTo>
                  <a:lnTo>
                    <a:pt x="125" y="431"/>
                  </a:lnTo>
                  <a:lnTo>
                    <a:pt x="123" y="422"/>
                  </a:lnTo>
                  <a:lnTo>
                    <a:pt x="117" y="410"/>
                  </a:lnTo>
                  <a:lnTo>
                    <a:pt x="109" y="395"/>
                  </a:lnTo>
                  <a:lnTo>
                    <a:pt x="97" y="378"/>
                  </a:lnTo>
                  <a:lnTo>
                    <a:pt x="81" y="358"/>
                  </a:lnTo>
                  <a:lnTo>
                    <a:pt x="60" y="333"/>
                  </a:lnTo>
                  <a:lnTo>
                    <a:pt x="33" y="304"/>
                  </a:lnTo>
                  <a:lnTo>
                    <a:pt x="0" y="271"/>
                  </a:lnTo>
                  <a:lnTo>
                    <a:pt x="14" y="14"/>
                  </a:lnTo>
                  <a:lnTo>
                    <a:pt x="1388"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8" name="Freeform 149"/>
            <p:cNvSpPr/>
            <p:nvPr/>
          </p:nvSpPr>
          <p:spPr>
            <a:xfrm>
              <a:off x="5060880" y="2427480"/>
              <a:ext cx="753840" cy="324720"/>
            </a:xfrm>
            <a:custGeom>
              <a:avLst/>
              <a:gdLst>
                <a:gd name="textAreaLeft" fmla="*/ 0 w 753840"/>
                <a:gd name="textAreaRight" fmla="*/ 754200 w 753840"/>
                <a:gd name="textAreaTop" fmla="*/ 0 h 324720"/>
                <a:gd name="textAreaBottom" fmla="*/ 324720 h 324720"/>
              </a:gdLst>
              <a:ahLst/>
              <a:rect l="textAreaLeft" t="textAreaTop" r="textAreaRight" b="textAreaBottom"/>
              <a:pathLst>
                <a:path w="1714" h="717">
                  <a:moveTo>
                    <a:pt x="1388" y="0"/>
                  </a:moveTo>
                  <a:lnTo>
                    <a:pt x="1399" y="19"/>
                  </a:lnTo>
                  <a:lnTo>
                    <a:pt x="1410" y="38"/>
                  </a:lnTo>
                  <a:lnTo>
                    <a:pt x="1424" y="56"/>
                  </a:lnTo>
                  <a:lnTo>
                    <a:pt x="1440" y="75"/>
                  </a:lnTo>
                  <a:lnTo>
                    <a:pt x="1457" y="93"/>
                  </a:lnTo>
                  <a:lnTo>
                    <a:pt x="1475" y="109"/>
                  </a:lnTo>
                  <a:lnTo>
                    <a:pt x="1494" y="125"/>
                  </a:lnTo>
                  <a:lnTo>
                    <a:pt x="1514" y="140"/>
                  </a:lnTo>
                  <a:lnTo>
                    <a:pt x="1535" y="153"/>
                  </a:lnTo>
                  <a:lnTo>
                    <a:pt x="1558" y="166"/>
                  </a:lnTo>
                  <a:lnTo>
                    <a:pt x="1579" y="177"/>
                  </a:lnTo>
                  <a:lnTo>
                    <a:pt x="1601" y="186"/>
                  </a:lnTo>
                  <a:lnTo>
                    <a:pt x="1622" y="193"/>
                  </a:lnTo>
                  <a:lnTo>
                    <a:pt x="1643" y="198"/>
                  </a:lnTo>
                  <a:lnTo>
                    <a:pt x="1663" y="201"/>
                  </a:lnTo>
                  <a:lnTo>
                    <a:pt x="1683" y="202"/>
                  </a:lnTo>
                  <a:lnTo>
                    <a:pt x="1714" y="331"/>
                  </a:lnTo>
                  <a:lnTo>
                    <a:pt x="1695" y="335"/>
                  </a:lnTo>
                  <a:lnTo>
                    <a:pt x="1679" y="340"/>
                  </a:lnTo>
                  <a:lnTo>
                    <a:pt x="1665" y="346"/>
                  </a:lnTo>
                  <a:lnTo>
                    <a:pt x="1653" y="353"/>
                  </a:lnTo>
                  <a:lnTo>
                    <a:pt x="1643" y="361"/>
                  </a:lnTo>
                  <a:lnTo>
                    <a:pt x="1636" y="369"/>
                  </a:lnTo>
                  <a:lnTo>
                    <a:pt x="1630" y="379"/>
                  </a:lnTo>
                  <a:lnTo>
                    <a:pt x="1625" y="388"/>
                  </a:lnTo>
                  <a:lnTo>
                    <a:pt x="1623" y="397"/>
                  </a:lnTo>
                  <a:lnTo>
                    <a:pt x="1622" y="407"/>
                  </a:lnTo>
                  <a:lnTo>
                    <a:pt x="1623" y="416"/>
                  </a:lnTo>
                  <a:lnTo>
                    <a:pt x="1625" y="425"/>
                  </a:lnTo>
                  <a:lnTo>
                    <a:pt x="1628" y="434"/>
                  </a:lnTo>
                  <a:lnTo>
                    <a:pt x="1632" y="442"/>
                  </a:lnTo>
                  <a:lnTo>
                    <a:pt x="1638" y="449"/>
                  </a:lnTo>
                  <a:lnTo>
                    <a:pt x="1645" y="456"/>
                  </a:lnTo>
                  <a:lnTo>
                    <a:pt x="1608" y="525"/>
                  </a:lnTo>
                  <a:lnTo>
                    <a:pt x="1602" y="525"/>
                  </a:lnTo>
                  <a:lnTo>
                    <a:pt x="1596" y="525"/>
                  </a:lnTo>
                  <a:lnTo>
                    <a:pt x="1591" y="526"/>
                  </a:lnTo>
                  <a:lnTo>
                    <a:pt x="1586" y="528"/>
                  </a:lnTo>
                  <a:lnTo>
                    <a:pt x="1582" y="531"/>
                  </a:lnTo>
                  <a:lnTo>
                    <a:pt x="1577" y="534"/>
                  </a:lnTo>
                  <a:lnTo>
                    <a:pt x="1573" y="538"/>
                  </a:lnTo>
                  <a:lnTo>
                    <a:pt x="1569" y="542"/>
                  </a:lnTo>
                  <a:lnTo>
                    <a:pt x="1563" y="552"/>
                  </a:lnTo>
                  <a:lnTo>
                    <a:pt x="1558" y="563"/>
                  </a:lnTo>
                  <a:lnTo>
                    <a:pt x="1553" y="575"/>
                  </a:lnTo>
                  <a:lnTo>
                    <a:pt x="1548" y="588"/>
                  </a:lnTo>
                  <a:lnTo>
                    <a:pt x="1546" y="602"/>
                  </a:lnTo>
                  <a:lnTo>
                    <a:pt x="1544" y="616"/>
                  </a:lnTo>
                  <a:lnTo>
                    <a:pt x="1542" y="629"/>
                  </a:lnTo>
                  <a:lnTo>
                    <a:pt x="1541" y="642"/>
                  </a:lnTo>
                  <a:lnTo>
                    <a:pt x="1541" y="653"/>
                  </a:lnTo>
                  <a:lnTo>
                    <a:pt x="1541" y="664"/>
                  </a:lnTo>
                  <a:lnTo>
                    <a:pt x="1542" y="673"/>
                  </a:lnTo>
                  <a:lnTo>
                    <a:pt x="1544" y="680"/>
                  </a:lnTo>
                  <a:lnTo>
                    <a:pt x="277" y="717"/>
                  </a:lnTo>
                  <a:lnTo>
                    <a:pt x="259" y="709"/>
                  </a:lnTo>
                  <a:lnTo>
                    <a:pt x="243" y="702"/>
                  </a:lnTo>
                  <a:lnTo>
                    <a:pt x="236" y="699"/>
                  </a:lnTo>
                  <a:lnTo>
                    <a:pt x="232" y="694"/>
                  </a:lnTo>
                  <a:lnTo>
                    <a:pt x="227" y="689"/>
                  </a:lnTo>
                  <a:lnTo>
                    <a:pt x="224" y="685"/>
                  </a:lnTo>
                  <a:lnTo>
                    <a:pt x="220" y="678"/>
                  </a:lnTo>
                  <a:lnTo>
                    <a:pt x="219" y="671"/>
                  </a:lnTo>
                  <a:lnTo>
                    <a:pt x="218" y="663"/>
                  </a:lnTo>
                  <a:lnTo>
                    <a:pt x="217" y="652"/>
                  </a:lnTo>
                  <a:lnTo>
                    <a:pt x="218" y="626"/>
                  </a:lnTo>
                  <a:lnTo>
                    <a:pt x="222" y="594"/>
                  </a:lnTo>
                  <a:lnTo>
                    <a:pt x="225" y="576"/>
                  </a:lnTo>
                  <a:lnTo>
                    <a:pt x="225" y="561"/>
                  </a:lnTo>
                  <a:lnTo>
                    <a:pt x="222" y="549"/>
                  </a:lnTo>
                  <a:lnTo>
                    <a:pt x="220" y="538"/>
                  </a:lnTo>
                  <a:lnTo>
                    <a:pt x="215" y="528"/>
                  </a:lnTo>
                  <a:lnTo>
                    <a:pt x="210" y="520"/>
                  </a:lnTo>
                  <a:lnTo>
                    <a:pt x="203" y="513"/>
                  </a:lnTo>
                  <a:lnTo>
                    <a:pt x="196" y="508"/>
                  </a:lnTo>
                  <a:lnTo>
                    <a:pt x="179" y="498"/>
                  </a:lnTo>
                  <a:lnTo>
                    <a:pt x="162" y="490"/>
                  </a:lnTo>
                  <a:lnTo>
                    <a:pt x="152" y="485"/>
                  </a:lnTo>
                  <a:lnTo>
                    <a:pt x="144" y="480"/>
                  </a:lnTo>
                  <a:lnTo>
                    <a:pt x="137" y="476"/>
                  </a:lnTo>
                  <a:lnTo>
                    <a:pt x="130" y="470"/>
                  </a:lnTo>
                  <a:lnTo>
                    <a:pt x="125" y="465"/>
                  </a:lnTo>
                  <a:lnTo>
                    <a:pt x="123" y="460"/>
                  </a:lnTo>
                  <a:lnTo>
                    <a:pt x="123" y="457"/>
                  </a:lnTo>
                  <a:lnTo>
                    <a:pt x="123" y="453"/>
                  </a:lnTo>
                  <a:lnTo>
                    <a:pt x="124" y="449"/>
                  </a:lnTo>
                  <a:lnTo>
                    <a:pt x="125" y="444"/>
                  </a:lnTo>
                  <a:lnTo>
                    <a:pt x="127" y="438"/>
                  </a:lnTo>
                  <a:lnTo>
                    <a:pt x="125" y="431"/>
                  </a:lnTo>
                  <a:lnTo>
                    <a:pt x="123" y="422"/>
                  </a:lnTo>
                  <a:lnTo>
                    <a:pt x="117" y="410"/>
                  </a:lnTo>
                  <a:lnTo>
                    <a:pt x="109" y="395"/>
                  </a:lnTo>
                  <a:lnTo>
                    <a:pt x="97" y="378"/>
                  </a:lnTo>
                  <a:lnTo>
                    <a:pt x="81" y="358"/>
                  </a:lnTo>
                  <a:lnTo>
                    <a:pt x="60" y="333"/>
                  </a:lnTo>
                  <a:lnTo>
                    <a:pt x="33" y="304"/>
                  </a:lnTo>
                  <a:lnTo>
                    <a:pt x="0" y="271"/>
                  </a:lnTo>
                  <a:lnTo>
                    <a:pt x="14" y="14"/>
                  </a:lnTo>
                  <a:lnTo>
                    <a:pt x="1388" y="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29" name="Freeform 150"/>
            <p:cNvSpPr/>
            <p:nvPr/>
          </p:nvSpPr>
          <p:spPr>
            <a:xfrm>
              <a:off x="1650240" y="2473200"/>
              <a:ext cx="837000" cy="1318680"/>
            </a:xfrm>
            <a:custGeom>
              <a:avLst/>
              <a:gdLst>
                <a:gd name="textAreaLeft" fmla="*/ 0 w 837000"/>
                <a:gd name="textAreaRight" fmla="*/ 837360 w 837000"/>
                <a:gd name="textAreaTop" fmla="*/ 0 h 1318680"/>
                <a:gd name="textAreaBottom" fmla="*/ 1319040 h 1318680"/>
              </a:gdLst>
              <a:ahLst/>
              <a:rect l="textAreaLeft" t="textAreaTop" r="textAreaRight" b="textAreaBottom"/>
              <a:pathLst>
                <a:path w="1904" h="2906">
                  <a:moveTo>
                    <a:pt x="1147" y="2906"/>
                  </a:moveTo>
                  <a:lnTo>
                    <a:pt x="1175" y="2857"/>
                  </a:lnTo>
                  <a:lnTo>
                    <a:pt x="400" y="2857"/>
                  </a:lnTo>
                  <a:lnTo>
                    <a:pt x="411" y="2837"/>
                  </a:lnTo>
                  <a:lnTo>
                    <a:pt x="421" y="2817"/>
                  </a:lnTo>
                  <a:lnTo>
                    <a:pt x="428" y="2797"/>
                  </a:lnTo>
                  <a:lnTo>
                    <a:pt x="435" y="2777"/>
                  </a:lnTo>
                  <a:lnTo>
                    <a:pt x="441" y="2759"/>
                  </a:lnTo>
                  <a:lnTo>
                    <a:pt x="446" y="2739"/>
                  </a:lnTo>
                  <a:lnTo>
                    <a:pt x="449" y="2720"/>
                  </a:lnTo>
                  <a:lnTo>
                    <a:pt x="452" y="2701"/>
                  </a:lnTo>
                  <a:lnTo>
                    <a:pt x="453" y="2683"/>
                  </a:lnTo>
                  <a:lnTo>
                    <a:pt x="453" y="2665"/>
                  </a:lnTo>
                  <a:lnTo>
                    <a:pt x="452" y="2647"/>
                  </a:lnTo>
                  <a:lnTo>
                    <a:pt x="449" y="2629"/>
                  </a:lnTo>
                  <a:lnTo>
                    <a:pt x="447" y="2612"/>
                  </a:lnTo>
                  <a:lnTo>
                    <a:pt x="443" y="2594"/>
                  </a:lnTo>
                  <a:lnTo>
                    <a:pt x="440" y="2578"/>
                  </a:lnTo>
                  <a:lnTo>
                    <a:pt x="435" y="2560"/>
                  </a:lnTo>
                  <a:lnTo>
                    <a:pt x="429" y="2544"/>
                  </a:lnTo>
                  <a:lnTo>
                    <a:pt x="424" y="2527"/>
                  </a:lnTo>
                  <a:lnTo>
                    <a:pt x="418" y="2512"/>
                  </a:lnTo>
                  <a:lnTo>
                    <a:pt x="411" y="2496"/>
                  </a:lnTo>
                  <a:lnTo>
                    <a:pt x="396" y="2466"/>
                  </a:lnTo>
                  <a:lnTo>
                    <a:pt x="379" y="2436"/>
                  </a:lnTo>
                  <a:lnTo>
                    <a:pt x="362" y="2408"/>
                  </a:lnTo>
                  <a:lnTo>
                    <a:pt x="344" y="2383"/>
                  </a:lnTo>
                  <a:lnTo>
                    <a:pt x="325" y="2357"/>
                  </a:lnTo>
                  <a:lnTo>
                    <a:pt x="308" y="2332"/>
                  </a:lnTo>
                  <a:lnTo>
                    <a:pt x="300" y="2322"/>
                  </a:lnTo>
                  <a:lnTo>
                    <a:pt x="293" y="2310"/>
                  </a:lnTo>
                  <a:lnTo>
                    <a:pt x="286" y="2298"/>
                  </a:lnTo>
                  <a:lnTo>
                    <a:pt x="280" y="2288"/>
                  </a:lnTo>
                  <a:lnTo>
                    <a:pt x="272" y="2267"/>
                  </a:lnTo>
                  <a:lnTo>
                    <a:pt x="265" y="2247"/>
                  </a:lnTo>
                  <a:lnTo>
                    <a:pt x="260" y="2228"/>
                  </a:lnTo>
                  <a:lnTo>
                    <a:pt x="259" y="2210"/>
                  </a:lnTo>
                  <a:lnTo>
                    <a:pt x="258" y="2193"/>
                  </a:lnTo>
                  <a:lnTo>
                    <a:pt x="259" y="2178"/>
                  </a:lnTo>
                  <a:lnTo>
                    <a:pt x="261" y="2164"/>
                  </a:lnTo>
                  <a:lnTo>
                    <a:pt x="265" y="2152"/>
                  </a:lnTo>
                  <a:lnTo>
                    <a:pt x="267" y="2142"/>
                  </a:lnTo>
                  <a:lnTo>
                    <a:pt x="271" y="2133"/>
                  </a:lnTo>
                  <a:lnTo>
                    <a:pt x="276" y="2121"/>
                  </a:lnTo>
                  <a:lnTo>
                    <a:pt x="280" y="2117"/>
                  </a:lnTo>
                  <a:lnTo>
                    <a:pt x="60" y="2085"/>
                  </a:lnTo>
                  <a:lnTo>
                    <a:pt x="63" y="2077"/>
                  </a:lnTo>
                  <a:lnTo>
                    <a:pt x="65" y="2068"/>
                  </a:lnTo>
                  <a:lnTo>
                    <a:pt x="66" y="2060"/>
                  </a:lnTo>
                  <a:lnTo>
                    <a:pt x="67" y="2052"/>
                  </a:lnTo>
                  <a:lnTo>
                    <a:pt x="66" y="2037"/>
                  </a:lnTo>
                  <a:lnTo>
                    <a:pt x="64" y="2022"/>
                  </a:lnTo>
                  <a:lnTo>
                    <a:pt x="60" y="2009"/>
                  </a:lnTo>
                  <a:lnTo>
                    <a:pt x="56" y="1996"/>
                  </a:lnTo>
                  <a:lnTo>
                    <a:pt x="49" y="1983"/>
                  </a:lnTo>
                  <a:lnTo>
                    <a:pt x="42" y="1973"/>
                  </a:lnTo>
                  <a:lnTo>
                    <a:pt x="28" y="1955"/>
                  </a:lnTo>
                  <a:lnTo>
                    <a:pt x="14" y="1941"/>
                  </a:lnTo>
                  <a:lnTo>
                    <a:pt x="4" y="1933"/>
                  </a:lnTo>
                  <a:lnTo>
                    <a:pt x="0" y="1929"/>
                  </a:lnTo>
                  <a:lnTo>
                    <a:pt x="184" y="1713"/>
                  </a:lnTo>
                  <a:lnTo>
                    <a:pt x="184" y="1705"/>
                  </a:lnTo>
                  <a:lnTo>
                    <a:pt x="183" y="1697"/>
                  </a:lnTo>
                  <a:lnTo>
                    <a:pt x="181" y="1689"/>
                  </a:lnTo>
                  <a:lnTo>
                    <a:pt x="178" y="1681"/>
                  </a:lnTo>
                  <a:lnTo>
                    <a:pt x="170" y="1664"/>
                  </a:lnTo>
                  <a:lnTo>
                    <a:pt x="161" y="1649"/>
                  </a:lnTo>
                  <a:lnTo>
                    <a:pt x="137" y="1619"/>
                  </a:lnTo>
                  <a:lnTo>
                    <a:pt x="112" y="1587"/>
                  </a:lnTo>
                  <a:lnTo>
                    <a:pt x="99" y="1571"/>
                  </a:lnTo>
                  <a:lnTo>
                    <a:pt x="87" y="1554"/>
                  </a:lnTo>
                  <a:lnTo>
                    <a:pt x="77" y="1538"/>
                  </a:lnTo>
                  <a:lnTo>
                    <a:pt x="67" y="1519"/>
                  </a:lnTo>
                  <a:lnTo>
                    <a:pt x="64" y="1510"/>
                  </a:lnTo>
                  <a:lnTo>
                    <a:pt x="61" y="1501"/>
                  </a:lnTo>
                  <a:lnTo>
                    <a:pt x="59" y="1491"/>
                  </a:lnTo>
                  <a:lnTo>
                    <a:pt x="58" y="1481"/>
                  </a:lnTo>
                  <a:lnTo>
                    <a:pt x="57" y="1470"/>
                  </a:lnTo>
                  <a:lnTo>
                    <a:pt x="57" y="1460"/>
                  </a:lnTo>
                  <a:lnTo>
                    <a:pt x="58" y="1448"/>
                  </a:lnTo>
                  <a:lnTo>
                    <a:pt x="60" y="1438"/>
                  </a:lnTo>
                  <a:lnTo>
                    <a:pt x="67" y="1414"/>
                  </a:lnTo>
                  <a:lnTo>
                    <a:pt x="77" y="1391"/>
                  </a:lnTo>
                  <a:lnTo>
                    <a:pt x="86" y="1369"/>
                  </a:lnTo>
                  <a:lnTo>
                    <a:pt x="98" y="1347"/>
                  </a:lnTo>
                  <a:lnTo>
                    <a:pt x="111" y="1324"/>
                  </a:lnTo>
                  <a:lnTo>
                    <a:pt x="123" y="1304"/>
                  </a:lnTo>
                  <a:lnTo>
                    <a:pt x="137" y="1285"/>
                  </a:lnTo>
                  <a:lnTo>
                    <a:pt x="150" y="1267"/>
                  </a:lnTo>
                  <a:lnTo>
                    <a:pt x="175" y="1236"/>
                  </a:lnTo>
                  <a:lnTo>
                    <a:pt x="196" y="1211"/>
                  </a:lnTo>
                  <a:lnTo>
                    <a:pt x="211" y="1195"/>
                  </a:lnTo>
                  <a:lnTo>
                    <a:pt x="216" y="1190"/>
                  </a:lnTo>
                  <a:lnTo>
                    <a:pt x="224" y="1197"/>
                  </a:lnTo>
                  <a:lnTo>
                    <a:pt x="232" y="1203"/>
                  </a:lnTo>
                  <a:lnTo>
                    <a:pt x="239" y="1208"/>
                  </a:lnTo>
                  <a:lnTo>
                    <a:pt x="245" y="1209"/>
                  </a:lnTo>
                  <a:lnTo>
                    <a:pt x="251" y="1210"/>
                  </a:lnTo>
                  <a:lnTo>
                    <a:pt x="257" y="1210"/>
                  </a:lnTo>
                  <a:lnTo>
                    <a:pt x="261" y="1208"/>
                  </a:lnTo>
                  <a:lnTo>
                    <a:pt x="265" y="1204"/>
                  </a:lnTo>
                  <a:lnTo>
                    <a:pt x="268" y="1199"/>
                  </a:lnTo>
                  <a:lnTo>
                    <a:pt x="272" y="1195"/>
                  </a:lnTo>
                  <a:lnTo>
                    <a:pt x="274" y="1188"/>
                  </a:lnTo>
                  <a:lnTo>
                    <a:pt x="276" y="1181"/>
                  </a:lnTo>
                  <a:lnTo>
                    <a:pt x="280" y="1164"/>
                  </a:lnTo>
                  <a:lnTo>
                    <a:pt x="282" y="1147"/>
                  </a:lnTo>
                  <a:lnTo>
                    <a:pt x="283" y="1127"/>
                  </a:lnTo>
                  <a:lnTo>
                    <a:pt x="283" y="1107"/>
                  </a:lnTo>
                  <a:lnTo>
                    <a:pt x="283" y="1088"/>
                  </a:lnTo>
                  <a:lnTo>
                    <a:pt x="282" y="1071"/>
                  </a:lnTo>
                  <a:lnTo>
                    <a:pt x="280" y="1044"/>
                  </a:lnTo>
                  <a:lnTo>
                    <a:pt x="280" y="1033"/>
                  </a:lnTo>
                  <a:lnTo>
                    <a:pt x="296" y="1025"/>
                  </a:lnTo>
                  <a:lnTo>
                    <a:pt x="311" y="1016"/>
                  </a:lnTo>
                  <a:lnTo>
                    <a:pt x="325" y="1007"/>
                  </a:lnTo>
                  <a:lnTo>
                    <a:pt x="337" y="996"/>
                  </a:lnTo>
                  <a:lnTo>
                    <a:pt x="349" y="987"/>
                  </a:lnTo>
                  <a:lnTo>
                    <a:pt x="358" y="976"/>
                  </a:lnTo>
                  <a:lnTo>
                    <a:pt x="368" y="966"/>
                  </a:lnTo>
                  <a:lnTo>
                    <a:pt x="376" y="954"/>
                  </a:lnTo>
                  <a:lnTo>
                    <a:pt x="383" y="944"/>
                  </a:lnTo>
                  <a:lnTo>
                    <a:pt x="389" y="932"/>
                  </a:lnTo>
                  <a:lnTo>
                    <a:pt x="393" y="920"/>
                  </a:lnTo>
                  <a:lnTo>
                    <a:pt x="397" y="908"/>
                  </a:lnTo>
                  <a:lnTo>
                    <a:pt x="400" y="897"/>
                  </a:lnTo>
                  <a:lnTo>
                    <a:pt x="403" y="885"/>
                  </a:lnTo>
                  <a:lnTo>
                    <a:pt x="405" y="872"/>
                  </a:lnTo>
                  <a:lnTo>
                    <a:pt x="405" y="861"/>
                  </a:lnTo>
                  <a:lnTo>
                    <a:pt x="406" y="835"/>
                  </a:lnTo>
                  <a:lnTo>
                    <a:pt x="404" y="810"/>
                  </a:lnTo>
                  <a:lnTo>
                    <a:pt x="400" y="785"/>
                  </a:lnTo>
                  <a:lnTo>
                    <a:pt x="396" y="760"/>
                  </a:lnTo>
                  <a:lnTo>
                    <a:pt x="384" y="710"/>
                  </a:lnTo>
                  <a:lnTo>
                    <a:pt x="371" y="662"/>
                  </a:lnTo>
                  <a:lnTo>
                    <a:pt x="587" y="418"/>
                  </a:lnTo>
                  <a:lnTo>
                    <a:pt x="588" y="403"/>
                  </a:lnTo>
                  <a:lnTo>
                    <a:pt x="592" y="388"/>
                  </a:lnTo>
                  <a:lnTo>
                    <a:pt x="598" y="371"/>
                  </a:lnTo>
                  <a:lnTo>
                    <a:pt x="605" y="355"/>
                  </a:lnTo>
                  <a:lnTo>
                    <a:pt x="614" y="338"/>
                  </a:lnTo>
                  <a:lnTo>
                    <a:pt x="625" y="321"/>
                  </a:lnTo>
                  <a:lnTo>
                    <a:pt x="636" y="305"/>
                  </a:lnTo>
                  <a:lnTo>
                    <a:pt x="650" y="287"/>
                  </a:lnTo>
                  <a:lnTo>
                    <a:pt x="664" y="270"/>
                  </a:lnTo>
                  <a:lnTo>
                    <a:pt x="681" y="252"/>
                  </a:lnTo>
                  <a:lnTo>
                    <a:pt x="697" y="234"/>
                  </a:lnTo>
                  <a:lnTo>
                    <a:pt x="714" y="217"/>
                  </a:lnTo>
                  <a:lnTo>
                    <a:pt x="751" y="183"/>
                  </a:lnTo>
                  <a:lnTo>
                    <a:pt x="788" y="150"/>
                  </a:lnTo>
                  <a:lnTo>
                    <a:pt x="825" y="120"/>
                  </a:lnTo>
                  <a:lnTo>
                    <a:pt x="862" y="91"/>
                  </a:lnTo>
                  <a:lnTo>
                    <a:pt x="896" y="65"/>
                  </a:lnTo>
                  <a:lnTo>
                    <a:pt x="926" y="43"/>
                  </a:lnTo>
                  <a:lnTo>
                    <a:pt x="970" y="11"/>
                  </a:lnTo>
                  <a:lnTo>
                    <a:pt x="988" y="0"/>
                  </a:lnTo>
                  <a:lnTo>
                    <a:pt x="1904" y="95"/>
                  </a:lnTo>
                  <a:lnTo>
                    <a:pt x="1273" y="807"/>
                  </a:lnTo>
                  <a:lnTo>
                    <a:pt x="1837" y="2053"/>
                  </a:lnTo>
                  <a:lnTo>
                    <a:pt x="1824" y="2071"/>
                  </a:lnTo>
                  <a:lnTo>
                    <a:pt x="1814" y="2087"/>
                  </a:lnTo>
                  <a:lnTo>
                    <a:pt x="1805" y="2103"/>
                  </a:lnTo>
                  <a:lnTo>
                    <a:pt x="1798" y="2117"/>
                  </a:lnTo>
                  <a:lnTo>
                    <a:pt x="1794" y="2131"/>
                  </a:lnTo>
                  <a:lnTo>
                    <a:pt x="1790" y="2144"/>
                  </a:lnTo>
                  <a:lnTo>
                    <a:pt x="1788" y="2156"/>
                  </a:lnTo>
                  <a:lnTo>
                    <a:pt x="1787" y="2166"/>
                  </a:lnTo>
                  <a:lnTo>
                    <a:pt x="1787" y="2185"/>
                  </a:lnTo>
                  <a:lnTo>
                    <a:pt x="1788" y="2198"/>
                  </a:lnTo>
                  <a:lnTo>
                    <a:pt x="1790" y="2206"/>
                  </a:lnTo>
                  <a:lnTo>
                    <a:pt x="1791" y="2209"/>
                  </a:lnTo>
                  <a:lnTo>
                    <a:pt x="1809" y="2301"/>
                  </a:lnTo>
                  <a:lnTo>
                    <a:pt x="1787" y="2315"/>
                  </a:lnTo>
                  <a:lnTo>
                    <a:pt x="1763" y="2330"/>
                  </a:lnTo>
                  <a:lnTo>
                    <a:pt x="1738" y="2348"/>
                  </a:lnTo>
                  <a:lnTo>
                    <a:pt x="1712" y="2367"/>
                  </a:lnTo>
                  <a:lnTo>
                    <a:pt x="1685" y="2388"/>
                  </a:lnTo>
                  <a:lnTo>
                    <a:pt x="1658" y="2409"/>
                  </a:lnTo>
                  <a:lnTo>
                    <a:pt x="1633" y="2432"/>
                  </a:lnTo>
                  <a:lnTo>
                    <a:pt x="1607" y="2455"/>
                  </a:lnTo>
                  <a:lnTo>
                    <a:pt x="1582" y="2477"/>
                  </a:lnTo>
                  <a:lnTo>
                    <a:pt x="1561" y="2498"/>
                  </a:lnTo>
                  <a:lnTo>
                    <a:pt x="1542" y="2519"/>
                  </a:lnTo>
                  <a:lnTo>
                    <a:pt x="1525" y="2539"/>
                  </a:lnTo>
                  <a:lnTo>
                    <a:pt x="1511" y="2557"/>
                  </a:lnTo>
                  <a:lnTo>
                    <a:pt x="1503" y="2572"/>
                  </a:lnTo>
                  <a:lnTo>
                    <a:pt x="1499" y="2579"/>
                  </a:lnTo>
                  <a:lnTo>
                    <a:pt x="1497" y="2585"/>
                  </a:lnTo>
                  <a:lnTo>
                    <a:pt x="1497" y="2590"/>
                  </a:lnTo>
                  <a:lnTo>
                    <a:pt x="1497" y="2595"/>
                  </a:lnTo>
                  <a:lnTo>
                    <a:pt x="1475" y="2605"/>
                  </a:lnTo>
                  <a:lnTo>
                    <a:pt x="1454" y="2615"/>
                  </a:lnTo>
                  <a:lnTo>
                    <a:pt x="1433" y="2627"/>
                  </a:lnTo>
                  <a:lnTo>
                    <a:pt x="1414" y="2638"/>
                  </a:lnTo>
                  <a:lnTo>
                    <a:pt x="1397" y="2651"/>
                  </a:lnTo>
                  <a:lnTo>
                    <a:pt x="1380" y="2664"/>
                  </a:lnTo>
                  <a:lnTo>
                    <a:pt x="1365" y="2677"/>
                  </a:lnTo>
                  <a:lnTo>
                    <a:pt x="1352" y="2690"/>
                  </a:lnTo>
                  <a:lnTo>
                    <a:pt x="1329" y="2713"/>
                  </a:lnTo>
                  <a:lnTo>
                    <a:pt x="1313" y="2733"/>
                  </a:lnTo>
                  <a:lnTo>
                    <a:pt x="1302" y="2746"/>
                  </a:lnTo>
                  <a:lnTo>
                    <a:pt x="1299" y="2751"/>
                  </a:lnTo>
                  <a:lnTo>
                    <a:pt x="1328" y="2829"/>
                  </a:lnTo>
                  <a:lnTo>
                    <a:pt x="1313" y="2840"/>
                  </a:lnTo>
                  <a:lnTo>
                    <a:pt x="1297" y="2851"/>
                  </a:lnTo>
                  <a:lnTo>
                    <a:pt x="1282" y="2860"/>
                  </a:lnTo>
                  <a:lnTo>
                    <a:pt x="1268" y="2868"/>
                  </a:lnTo>
                  <a:lnTo>
                    <a:pt x="1254" y="2876"/>
                  </a:lnTo>
                  <a:lnTo>
                    <a:pt x="1241" y="2881"/>
                  </a:lnTo>
                  <a:lnTo>
                    <a:pt x="1228" y="2887"/>
                  </a:lnTo>
                  <a:lnTo>
                    <a:pt x="1217" y="2891"/>
                  </a:lnTo>
                  <a:lnTo>
                    <a:pt x="1195" y="2897"/>
                  </a:lnTo>
                  <a:lnTo>
                    <a:pt x="1175" y="2901"/>
                  </a:lnTo>
                  <a:lnTo>
                    <a:pt x="1158" y="2904"/>
                  </a:lnTo>
                  <a:lnTo>
                    <a:pt x="1147" y="29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0" name="Freeform 151"/>
            <p:cNvSpPr/>
            <p:nvPr/>
          </p:nvSpPr>
          <p:spPr>
            <a:xfrm>
              <a:off x="1650240" y="2473200"/>
              <a:ext cx="837000" cy="1318680"/>
            </a:xfrm>
            <a:custGeom>
              <a:avLst/>
              <a:gdLst>
                <a:gd name="textAreaLeft" fmla="*/ 0 w 837000"/>
                <a:gd name="textAreaRight" fmla="*/ 837360 w 837000"/>
                <a:gd name="textAreaTop" fmla="*/ 0 h 1318680"/>
                <a:gd name="textAreaBottom" fmla="*/ 1319040 h 1318680"/>
              </a:gdLst>
              <a:ahLst/>
              <a:rect l="textAreaLeft" t="textAreaTop" r="textAreaRight" b="textAreaBottom"/>
              <a:pathLst>
                <a:path w="1904" h="2906">
                  <a:moveTo>
                    <a:pt x="1147" y="2906"/>
                  </a:moveTo>
                  <a:lnTo>
                    <a:pt x="1175" y="2857"/>
                  </a:lnTo>
                  <a:lnTo>
                    <a:pt x="400" y="2857"/>
                  </a:lnTo>
                  <a:lnTo>
                    <a:pt x="411" y="2837"/>
                  </a:lnTo>
                  <a:lnTo>
                    <a:pt x="421" y="2817"/>
                  </a:lnTo>
                  <a:lnTo>
                    <a:pt x="428" y="2797"/>
                  </a:lnTo>
                  <a:lnTo>
                    <a:pt x="435" y="2777"/>
                  </a:lnTo>
                  <a:lnTo>
                    <a:pt x="441" y="2759"/>
                  </a:lnTo>
                  <a:lnTo>
                    <a:pt x="446" y="2739"/>
                  </a:lnTo>
                  <a:lnTo>
                    <a:pt x="449" y="2720"/>
                  </a:lnTo>
                  <a:lnTo>
                    <a:pt x="452" y="2701"/>
                  </a:lnTo>
                  <a:lnTo>
                    <a:pt x="453" y="2683"/>
                  </a:lnTo>
                  <a:lnTo>
                    <a:pt x="453" y="2665"/>
                  </a:lnTo>
                  <a:lnTo>
                    <a:pt x="452" y="2647"/>
                  </a:lnTo>
                  <a:lnTo>
                    <a:pt x="449" y="2629"/>
                  </a:lnTo>
                  <a:lnTo>
                    <a:pt x="447" y="2612"/>
                  </a:lnTo>
                  <a:lnTo>
                    <a:pt x="443" y="2594"/>
                  </a:lnTo>
                  <a:lnTo>
                    <a:pt x="440" y="2578"/>
                  </a:lnTo>
                  <a:lnTo>
                    <a:pt x="435" y="2560"/>
                  </a:lnTo>
                  <a:lnTo>
                    <a:pt x="429" y="2544"/>
                  </a:lnTo>
                  <a:lnTo>
                    <a:pt x="424" y="2527"/>
                  </a:lnTo>
                  <a:lnTo>
                    <a:pt x="418" y="2512"/>
                  </a:lnTo>
                  <a:lnTo>
                    <a:pt x="411" y="2496"/>
                  </a:lnTo>
                  <a:lnTo>
                    <a:pt x="396" y="2466"/>
                  </a:lnTo>
                  <a:lnTo>
                    <a:pt x="379" y="2436"/>
                  </a:lnTo>
                  <a:lnTo>
                    <a:pt x="362" y="2408"/>
                  </a:lnTo>
                  <a:lnTo>
                    <a:pt x="344" y="2383"/>
                  </a:lnTo>
                  <a:lnTo>
                    <a:pt x="325" y="2357"/>
                  </a:lnTo>
                  <a:lnTo>
                    <a:pt x="308" y="2332"/>
                  </a:lnTo>
                  <a:lnTo>
                    <a:pt x="300" y="2322"/>
                  </a:lnTo>
                  <a:lnTo>
                    <a:pt x="293" y="2310"/>
                  </a:lnTo>
                  <a:lnTo>
                    <a:pt x="286" y="2298"/>
                  </a:lnTo>
                  <a:lnTo>
                    <a:pt x="280" y="2288"/>
                  </a:lnTo>
                  <a:lnTo>
                    <a:pt x="272" y="2267"/>
                  </a:lnTo>
                  <a:lnTo>
                    <a:pt x="265" y="2247"/>
                  </a:lnTo>
                  <a:lnTo>
                    <a:pt x="260" y="2228"/>
                  </a:lnTo>
                  <a:lnTo>
                    <a:pt x="259" y="2210"/>
                  </a:lnTo>
                  <a:lnTo>
                    <a:pt x="258" y="2193"/>
                  </a:lnTo>
                  <a:lnTo>
                    <a:pt x="259" y="2178"/>
                  </a:lnTo>
                  <a:lnTo>
                    <a:pt x="261" y="2164"/>
                  </a:lnTo>
                  <a:lnTo>
                    <a:pt x="265" y="2152"/>
                  </a:lnTo>
                  <a:lnTo>
                    <a:pt x="267" y="2142"/>
                  </a:lnTo>
                  <a:lnTo>
                    <a:pt x="271" y="2133"/>
                  </a:lnTo>
                  <a:lnTo>
                    <a:pt x="276" y="2121"/>
                  </a:lnTo>
                  <a:lnTo>
                    <a:pt x="280" y="2117"/>
                  </a:lnTo>
                  <a:lnTo>
                    <a:pt x="60" y="2085"/>
                  </a:lnTo>
                  <a:lnTo>
                    <a:pt x="63" y="2077"/>
                  </a:lnTo>
                  <a:lnTo>
                    <a:pt x="65" y="2068"/>
                  </a:lnTo>
                  <a:lnTo>
                    <a:pt x="66" y="2060"/>
                  </a:lnTo>
                  <a:lnTo>
                    <a:pt x="67" y="2052"/>
                  </a:lnTo>
                  <a:lnTo>
                    <a:pt x="66" y="2037"/>
                  </a:lnTo>
                  <a:lnTo>
                    <a:pt x="64" y="2022"/>
                  </a:lnTo>
                  <a:lnTo>
                    <a:pt x="60" y="2009"/>
                  </a:lnTo>
                  <a:lnTo>
                    <a:pt x="56" y="1996"/>
                  </a:lnTo>
                  <a:lnTo>
                    <a:pt x="49" y="1983"/>
                  </a:lnTo>
                  <a:lnTo>
                    <a:pt x="42" y="1973"/>
                  </a:lnTo>
                  <a:lnTo>
                    <a:pt x="28" y="1955"/>
                  </a:lnTo>
                  <a:lnTo>
                    <a:pt x="14" y="1941"/>
                  </a:lnTo>
                  <a:lnTo>
                    <a:pt x="4" y="1933"/>
                  </a:lnTo>
                  <a:lnTo>
                    <a:pt x="0" y="1929"/>
                  </a:lnTo>
                  <a:lnTo>
                    <a:pt x="184" y="1713"/>
                  </a:lnTo>
                  <a:lnTo>
                    <a:pt x="184" y="1705"/>
                  </a:lnTo>
                  <a:lnTo>
                    <a:pt x="183" y="1697"/>
                  </a:lnTo>
                  <a:lnTo>
                    <a:pt x="181" y="1689"/>
                  </a:lnTo>
                  <a:lnTo>
                    <a:pt x="178" y="1681"/>
                  </a:lnTo>
                  <a:lnTo>
                    <a:pt x="170" y="1664"/>
                  </a:lnTo>
                  <a:lnTo>
                    <a:pt x="161" y="1649"/>
                  </a:lnTo>
                  <a:lnTo>
                    <a:pt x="137" y="1619"/>
                  </a:lnTo>
                  <a:lnTo>
                    <a:pt x="112" y="1587"/>
                  </a:lnTo>
                  <a:lnTo>
                    <a:pt x="99" y="1571"/>
                  </a:lnTo>
                  <a:lnTo>
                    <a:pt x="87" y="1554"/>
                  </a:lnTo>
                  <a:lnTo>
                    <a:pt x="77" y="1538"/>
                  </a:lnTo>
                  <a:lnTo>
                    <a:pt x="67" y="1519"/>
                  </a:lnTo>
                  <a:lnTo>
                    <a:pt x="64" y="1510"/>
                  </a:lnTo>
                  <a:lnTo>
                    <a:pt x="61" y="1501"/>
                  </a:lnTo>
                  <a:lnTo>
                    <a:pt x="59" y="1491"/>
                  </a:lnTo>
                  <a:lnTo>
                    <a:pt x="58" y="1481"/>
                  </a:lnTo>
                  <a:lnTo>
                    <a:pt x="57" y="1470"/>
                  </a:lnTo>
                  <a:lnTo>
                    <a:pt x="57" y="1460"/>
                  </a:lnTo>
                  <a:lnTo>
                    <a:pt x="58" y="1448"/>
                  </a:lnTo>
                  <a:lnTo>
                    <a:pt x="60" y="1438"/>
                  </a:lnTo>
                  <a:lnTo>
                    <a:pt x="67" y="1414"/>
                  </a:lnTo>
                  <a:lnTo>
                    <a:pt x="77" y="1391"/>
                  </a:lnTo>
                  <a:lnTo>
                    <a:pt x="86" y="1369"/>
                  </a:lnTo>
                  <a:lnTo>
                    <a:pt x="98" y="1347"/>
                  </a:lnTo>
                  <a:lnTo>
                    <a:pt x="111" y="1324"/>
                  </a:lnTo>
                  <a:lnTo>
                    <a:pt x="123" y="1304"/>
                  </a:lnTo>
                  <a:lnTo>
                    <a:pt x="137" y="1285"/>
                  </a:lnTo>
                  <a:lnTo>
                    <a:pt x="150" y="1267"/>
                  </a:lnTo>
                  <a:lnTo>
                    <a:pt x="175" y="1236"/>
                  </a:lnTo>
                  <a:lnTo>
                    <a:pt x="196" y="1211"/>
                  </a:lnTo>
                  <a:lnTo>
                    <a:pt x="211" y="1195"/>
                  </a:lnTo>
                  <a:lnTo>
                    <a:pt x="216" y="1190"/>
                  </a:lnTo>
                  <a:lnTo>
                    <a:pt x="224" y="1197"/>
                  </a:lnTo>
                  <a:lnTo>
                    <a:pt x="232" y="1203"/>
                  </a:lnTo>
                  <a:lnTo>
                    <a:pt x="239" y="1208"/>
                  </a:lnTo>
                  <a:lnTo>
                    <a:pt x="245" y="1209"/>
                  </a:lnTo>
                  <a:lnTo>
                    <a:pt x="251" y="1210"/>
                  </a:lnTo>
                  <a:lnTo>
                    <a:pt x="257" y="1210"/>
                  </a:lnTo>
                  <a:lnTo>
                    <a:pt x="261" y="1208"/>
                  </a:lnTo>
                  <a:lnTo>
                    <a:pt x="265" y="1204"/>
                  </a:lnTo>
                  <a:lnTo>
                    <a:pt x="268" y="1199"/>
                  </a:lnTo>
                  <a:lnTo>
                    <a:pt x="272" y="1195"/>
                  </a:lnTo>
                  <a:lnTo>
                    <a:pt x="274" y="1188"/>
                  </a:lnTo>
                  <a:lnTo>
                    <a:pt x="276" y="1181"/>
                  </a:lnTo>
                  <a:lnTo>
                    <a:pt x="280" y="1164"/>
                  </a:lnTo>
                  <a:lnTo>
                    <a:pt x="282" y="1147"/>
                  </a:lnTo>
                  <a:lnTo>
                    <a:pt x="283" y="1127"/>
                  </a:lnTo>
                  <a:lnTo>
                    <a:pt x="283" y="1107"/>
                  </a:lnTo>
                  <a:lnTo>
                    <a:pt x="283" y="1088"/>
                  </a:lnTo>
                  <a:lnTo>
                    <a:pt x="282" y="1071"/>
                  </a:lnTo>
                  <a:lnTo>
                    <a:pt x="280" y="1044"/>
                  </a:lnTo>
                  <a:lnTo>
                    <a:pt x="280" y="1033"/>
                  </a:lnTo>
                  <a:lnTo>
                    <a:pt x="296" y="1025"/>
                  </a:lnTo>
                  <a:lnTo>
                    <a:pt x="311" y="1016"/>
                  </a:lnTo>
                  <a:lnTo>
                    <a:pt x="325" y="1007"/>
                  </a:lnTo>
                  <a:lnTo>
                    <a:pt x="337" y="996"/>
                  </a:lnTo>
                  <a:lnTo>
                    <a:pt x="349" y="987"/>
                  </a:lnTo>
                  <a:lnTo>
                    <a:pt x="358" y="976"/>
                  </a:lnTo>
                  <a:lnTo>
                    <a:pt x="368" y="966"/>
                  </a:lnTo>
                  <a:lnTo>
                    <a:pt x="376" y="954"/>
                  </a:lnTo>
                  <a:lnTo>
                    <a:pt x="383" y="944"/>
                  </a:lnTo>
                  <a:lnTo>
                    <a:pt x="389" y="932"/>
                  </a:lnTo>
                  <a:lnTo>
                    <a:pt x="393" y="920"/>
                  </a:lnTo>
                  <a:lnTo>
                    <a:pt x="397" y="908"/>
                  </a:lnTo>
                  <a:lnTo>
                    <a:pt x="400" y="897"/>
                  </a:lnTo>
                  <a:lnTo>
                    <a:pt x="403" y="885"/>
                  </a:lnTo>
                  <a:lnTo>
                    <a:pt x="405" y="872"/>
                  </a:lnTo>
                  <a:lnTo>
                    <a:pt x="405" y="861"/>
                  </a:lnTo>
                  <a:lnTo>
                    <a:pt x="406" y="835"/>
                  </a:lnTo>
                  <a:lnTo>
                    <a:pt x="404" y="810"/>
                  </a:lnTo>
                  <a:lnTo>
                    <a:pt x="400" y="785"/>
                  </a:lnTo>
                  <a:lnTo>
                    <a:pt x="396" y="760"/>
                  </a:lnTo>
                  <a:lnTo>
                    <a:pt x="384" y="710"/>
                  </a:lnTo>
                  <a:lnTo>
                    <a:pt x="371" y="662"/>
                  </a:lnTo>
                  <a:lnTo>
                    <a:pt x="587" y="418"/>
                  </a:lnTo>
                  <a:lnTo>
                    <a:pt x="588" y="403"/>
                  </a:lnTo>
                  <a:lnTo>
                    <a:pt x="592" y="388"/>
                  </a:lnTo>
                  <a:lnTo>
                    <a:pt x="598" y="371"/>
                  </a:lnTo>
                  <a:lnTo>
                    <a:pt x="605" y="355"/>
                  </a:lnTo>
                  <a:lnTo>
                    <a:pt x="614" y="338"/>
                  </a:lnTo>
                  <a:lnTo>
                    <a:pt x="625" y="321"/>
                  </a:lnTo>
                  <a:lnTo>
                    <a:pt x="636" y="305"/>
                  </a:lnTo>
                  <a:lnTo>
                    <a:pt x="650" y="287"/>
                  </a:lnTo>
                  <a:lnTo>
                    <a:pt x="664" y="270"/>
                  </a:lnTo>
                  <a:lnTo>
                    <a:pt x="681" y="252"/>
                  </a:lnTo>
                  <a:lnTo>
                    <a:pt x="697" y="234"/>
                  </a:lnTo>
                  <a:lnTo>
                    <a:pt x="714" y="217"/>
                  </a:lnTo>
                  <a:lnTo>
                    <a:pt x="751" y="183"/>
                  </a:lnTo>
                  <a:lnTo>
                    <a:pt x="788" y="150"/>
                  </a:lnTo>
                  <a:lnTo>
                    <a:pt x="825" y="120"/>
                  </a:lnTo>
                  <a:lnTo>
                    <a:pt x="862" y="91"/>
                  </a:lnTo>
                  <a:lnTo>
                    <a:pt x="896" y="65"/>
                  </a:lnTo>
                  <a:lnTo>
                    <a:pt x="926" y="43"/>
                  </a:lnTo>
                  <a:lnTo>
                    <a:pt x="970" y="11"/>
                  </a:lnTo>
                  <a:lnTo>
                    <a:pt x="988" y="0"/>
                  </a:lnTo>
                  <a:lnTo>
                    <a:pt x="1904" y="95"/>
                  </a:lnTo>
                  <a:lnTo>
                    <a:pt x="1273" y="807"/>
                  </a:lnTo>
                  <a:lnTo>
                    <a:pt x="1837" y="2053"/>
                  </a:lnTo>
                  <a:lnTo>
                    <a:pt x="1824" y="2071"/>
                  </a:lnTo>
                  <a:lnTo>
                    <a:pt x="1814" y="2087"/>
                  </a:lnTo>
                  <a:lnTo>
                    <a:pt x="1805" y="2103"/>
                  </a:lnTo>
                  <a:lnTo>
                    <a:pt x="1798" y="2117"/>
                  </a:lnTo>
                  <a:lnTo>
                    <a:pt x="1794" y="2131"/>
                  </a:lnTo>
                  <a:lnTo>
                    <a:pt x="1790" y="2144"/>
                  </a:lnTo>
                  <a:lnTo>
                    <a:pt x="1788" y="2156"/>
                  </a:lnTo>
                  <a:lnTo>
                    <a:pt x="1787" y="2166"/>
                  </a:lnTo>
                  <a:lnTo>
                    <a:pt x="1787" y="2185"/>
                  </a:lnTo>
                  <a:lnTo>
                    <a:pt x="1788" y="2198"/>
                  </a:lnTo>
                  <a:lnTo>
                    <a:pt x="1790" y="2206"/>
                  </a:lnTo>
                  <a:lnTo>
                    <a:pt x="1791" y="2209"/>
                  </a:lnTo>
                  <a:lnTo>
                    <a:pt x="1809" y="2301"/>
                  </a:lnTo>
                  <a:lnTo>
                    <a:pt x="1787" y="2315"/>
                  </a:lnTo>
                  <a:lnTo>
                    <a:pt x="1763" y="2330"/>
                  </a:lnTo>
                  <a:lnTo>
                    <a:pt x="1738" y="2348"/>
                  </a:lnTo>
                  <a:lnTo>
                    <a:pt x="1712" y="2367"/>
                  </a:lnTo>
                  <a:lnTo>
                    <a:pt x="1685" y="2388"/>
                  </a:lnTo>
                  <a:lnTo>
                    <a:pt x="1658" y="2409"/>
                  </a:lnTo>
                  <a:lnTo>
                    <a:pt x="1633" y="2432"/>
                  </a:lnTo>
                  <a:lnTo>
                    <a:pt x="1607" y="2455"/>
                  </a:lnTo>
                  <a:lnTo>
                    <a:pt x="1582" y="2477"/>
                  </a:lnTo>
                  <a:lnTo>
                    <a:pt x="1561" y="2498"/>
                  </a:lnTo>
                  <a:lnTo>
                    <a:pt x="1542" y="2519"/>
                  </a:lnTo>
                  <a:lnTo>
                    <a:pt x="1525" y="2539"/>
                  </a:lnTo>
                  <a:lnTo>
                    <a:pt x="1511" y="2557"/>
                  </a:lnTo>
                  <a:lnTo>
                    <a:pt x="1503" y="2572"/>
                  </a:lnTo>
                  <a:lnTo>
                    <a:pt x="1499" y="2579"/>
                  </a:lnTo>
                  <a:lnTo>
                    <a:pt x="1497" y="2585"/>
                  </a:lnTo>
                  <a:lnTo>
                    <a:pt x="1497" y="2590"/>
                  </a:lnTo>
                  <a:lnTo>
                    <a:pt x="1497" y="2595"/>
                  </a:lnTo>
                  <a:lnTo>
                    <a:pt x="1475" y="2605"/>
                  </a:lnTo>
                  <a:lnTo>
                    <a:pt x="1454" y="2615"/>
                  </a:lnTo>
                  <a:lnTo>
                    <a:pt x="1433" y="2627"/>
                  </a:lnTo>
                  <a:lnTo>
                    <a:pt x="1414" y="2638"/>
                  </a:lnTo>
                  <a:lnTo>
                    <a:pt x="1397" y="2651"/>
                  </a:lnTo>
                  <a:lnTo>
                    <a:pt x="1380" y="2664"/>
                  </a:lnTo>
                  <a:lnTo>
                    <a:pt x="1365" y="2677"/>
                  </a:lnTo>
                  <a:lnTo>
                    <a:pt x="1352" y="2690"/>
                  </a:lnTo>
                  <a:lnTo>
                    <a:pt x="1329" y="2713"/>
                  </a:lnTo>
                  <a:lnTo>
                    <a:pt x="1313" y="2733"/>
                  </a:lnTo>
                  <a:lnTo>
                    <a:pt x="1302" y="2746"/>
                  </a:lnTo>
                  <a:lnTo>
                    <a:pt x="1299" y="2751"/>
                  </a:lnTo>
                  <a:lnTo>
                    <a:pt x="1328" y="2829"/>
                  </a:lnTo>
                  <a:lnTo>
                    <a:pt x="1313" y="2840"/>
                  </a:lnTo>
                  <a:lnTo>
                    <a:pt x="1297" y="2851"/>
                  </a:lnTo>
                  <a:lnTo>
                    <a:pt x="1282" y="2860"/>
                  </a:lnTo>
                  <a:lnTo>
                    <a:pt x="1268" y="2868"/>
                  </a:lnTo>
                  <a:lnTo>
                    <a:pt x="1254" y="2876"/>
                  </a:lnTo>
                  <a:lnTo>
                    <a:pt x="1241" y="2881"/>
                  </a:lnTo>
                  <a:lnTo>
                    <a:pt x="1228" y="2887"/>
                  </a:lnTo>
                  <a:lnTo>
                    <a:pt x="1217" y="2891"/>
                  </a:lnTo>
                  <a:lnTo>
                    <a:pt x="1195" y="2897"/>
                  </a:lnTo>
                  <a:lnTo>
                    <a:pt x="1175" y="2901"/>
                  </a:lnTo>
                  <a:lnTo>
                    <a:pt x="1158" y="2904"/>
                  </a:lnTo>
                  <a:lnTo>
                    <a:pt x="1147" y="290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1" name="Freeform 152"/>
            <p:cNvSpPr/>
            <p:nvPr/>
          </p:nvSpPr>
          <p:spPr>
            <a:xfrm>
              <a:off x="2127240" y="3177000"/>
              <a:ext cx="1228320" cy="939240"/>
            </a:xfrm>
            <a:custGeom>
              <a:avLst/>
              <a:gdLst>
                <a:gd name="textAreaLeft" fmla="*/ 0 w 1228320"/>
                <a:gd name="textAreaRight" fmla="*/ 1228680 w 1228320"/>
                <a:gd name="textAreaTop" fmla="*/ 0 h 939240"/>
                <a:gd name="textAreaBottom" fmla="*/ 939600 h 939240"/>
              </a:gdLst>
              <a:ahLst/>
              <a:rect l="textAreaLeft" t="textAreaTop" r="textAreaRight" b="textAreaBottom"/>
              <a:pathLst>
                <a:path w="2798" h="2073">
                  <a:moveTo>
                    <a:pt x="1741" y="2073"/>
                  </a:moveTo>
                  <a:lnTo>
                    <a:pt x="1081" y="2018"/>
                  </a:lnTo>
                  <a:lnTo>
                    <a:pt x="0" y="1462"/>
                  </a:lnTo>
                  <a:lnTo>
                    <a:pt x="65" y="1356"/>
                  </a:lnTo>
                  <a:lnTo>
                    <a:pt x="76" y="1354"/>
                  </a:lnTo>
                  <a:lnTo>
                    <a:pt x="93" y="1351"/>
                  </a:lnTo>
                  <a:lnTo>
                    <a:pt x="113" y="1347"/>
                  </a:lnTo>
                  <a:lnTo>
                    <a:pt x="135" y="1341"/>
                  </a:lnTo>
                  <a:lnTo>
                    <a:pt x="146" y="1337"/>
                  </a:lnTo>
                  <a:lnTo>
                    <a:pt x="159" y="1331"/>
                  </a:lnTo>
                  <a:lnTo>
                    <a:pt x="172" y="1326"/>
                  </a:lnTo>
                  <a:lnTo>
                    <a:pt x="186" y="1318"/>
                  </a:lnTo>
                  <a:lnTo>
                    <a:pt x="200" y="1310"/>
                  </a:lnTo>
                  <a:lnTo>
                    <a:pt x="215" y="1301"/>
                  </a:lnTo>
                  <a:lnTo>
                    <a:pt x="231" y="1290"/>
                  </a:lnTo>
                  <a:lnTo>
                    <a:pt x="246" y="1279"/>
                  </a:lnTo>
                  <a:lnTo>
                    <a:pt x="217" y="1201"/>
                  </a:lnTo>
                  <a:lnTo>
                    <a:pt x="220" y="1196"/>
                  </a:lnTo>
                  <a:lnTo>
                    <a:pt x="231" y="1183"/>
                  </a:lnTo>
                  <a:lnTo>
                    <a:pt x="247" y="1163"/>
                  </a:lnTo>
                  <a:lnTo>
                    <a:pt x="270" y="1140"/>
                  </a:lnTo>
                  <a:lnTo>
                    <a:pt x="283" y="1127"/>
                  </a:lnTo>
                  <a:lnTo>
                    <a:pt x="298" y="1114"/>
                  </a:lnTo>
                  <a:lnTo>
                    <a:pt x="315" y="1101"/>
                  </a:lnTo>
                  <a:lnTo>
                    <a:pt x="332" y="1088"/>
                  </a:lnTo>
                  <a:lnTo>
                    <a:pt x="351" y="1077"/>
                  </a:lnTo>
                  <a:lnTo>
                    <a:pt x="372" y="1065"/>
                  </a:lnTo>
                  <a:lnTo>
                    <a:pt x="393" y="1055"/>
                  </a:lnTo>
                  <a:lnTo>
                    <a:pt x="415" y="1045"/>
                  </a:lnTo>
                  <a:lnTo>
                    <a:pt x="415" y="1040"/>
                  </a:lnTo>
                  <a:lnTo>
                    <a:pt x="415" y="1035"/>
                  </a:lnTo>
                  <a:lnTo>
                    <a:pt x="417" y="1029"/>
                  </a:lnTo>
                  <a:lnTo>
                    <a:pt x="421" y="1022"/>
                  </a:lnTo>
                  <a:lnTo>
                    <a:pt x="429" y="1007"/>
                  </a:lnTo>
                  <a:lnTo>
                    <a:pt x="443" y="989"/>
                  </a:lnTo>
                  <a:lnTo>
                    <a:pt x="460" y="969"/>
                  </a:lnTo>
                  <a:lnTo>
                    <a:pt x="479" y="948"/>
                  </a:lnTo>
                  <a:lnTo>
                    <a:pt x="500" y="927"/>
                  </a:lnTo>
                  <a:lnTo>
                    <a:pt x="525" y="905"/>
                  </a:lnTo>
                  <a:lnTo>
                    <a:pt x="551" y="882"/>
                  </a:lnTo>
                  <a:lnTo>
                    <a:pt x="576" y="859"/>
                  </a:lnTo>
                  <a:lnTo>
                    <a:pt x="603" y="838"/>
                  </a:lnTo>
                  <a:lnTo>
                    <a:pt x="630" y="817"/>
                  </a:lnTo>
                  <a:lnTo>
                    <a:pt x="656" y="798"/>
                  </a:lnTo>
                  <a:lnTo>
                    <a:pt x="681" y="780"/>
                  </a:lnTo>
                  <a:lnTo>
                    <a:pt x="705" y="765"/>
                  </a:lnTo>
                  <a:lnTo>
                    <a:pt x="727" y="751"/>
                  </a:lnTo>
                  <a:lnTo>
                    <a:pt x="709" y="659"/>
                  </a:lnTo>
                  <a:lnTo>
                    <a:pt x="708" y="656"/>
                  </a:lnTo>
                  <a:lnTo>
                    <a:pt x="706" y="648"/>
                  </a:lnTo>
                  <a:lnTo>
                    <a:pt x="705" y="635"/>
                  </a:lnTo>
                  <a:lnTo>
                    <a:pt x="705" y="616"/>
                  </a:lnTo>
                  <a:lnTo>
                    <a:pt x="706" y="606"/>
                  </a:lnTo>
                  <a:lnTo>
                    <a:pt x="708" y="594"/>
                  </a:lnTo>
                  <a:lnTo>
                    <a:pt x="712" y="581"/>
                  </a:lnTo>
                  <a:lnTo>
                    <a:pt x="716" y="567"/>
                  </a:lnTo>
                  <a:lnTo>
                    <a:pt x="723" y="553"/>
                  </a:lnTo>
                  <a:lnTo>
                    <a:pt x="732" y="537"/>
                  </a:lnTo>
                  <a:lnTo>
                    <a:pt x="742" y="521"/>
                  </a:lnTo>
                  <a:lnTo>
                    <a:pt x="755" y="503"/>
                  </a:lnTo>
                  <a:lnTo>
                    <a:pt x="810" y="437"/>
                  </a:lnTo>
                  <a:lnTo>
                    <a:pt x="860" y="375"/>
                  </a:lnTo>
                  <a:lnTo>
                    <a:pt x="884" y="347"/>
                  </a:lnTo>
                  <a:lnTo>
                    <a:pt x="908" y="320"/>
                  </a:lnTo>
                  <a:lnTo>
                    <a:pt x="920" y="308"/>
                  </a:lnTo>
                  <a:lnTo>
                    <a:pt x="931" y="296"/>
                  </a:lnTo>
                  <a:lnTo>
                    <a:pt x="944" y="285"/>
                  </a:lnTo>
                  <a:lnTo>
                    <a:pt x="957" y="275"/>
                  </a:lnTo>
                  <a:lnTo>
                    <a:pt x="970" y="265"/>
                  </a:lnTo>
                  <a:lnTo>
                    <a:pt x="983" y="257"/>
                  </a:lnTo>
                  <a:lnTo>
                    <a:pt x="996" y="249"/>
                  </a:lnTo>
                  <a:lnTo>
                    <a:pt x="1010" y="242"/>
                  </a:lnTo>
                  <a:lnTo>
                    <a:pt x="1024" y="235"/>
                  </a:lnTo>
                  <a:lnTo>
                    <a:pt x="1039" y="230"/>
                  </a:lnTo>
                  <a:lnTo>
                    <a:pt x="1054" y="225"/>
                  </a:lnTo>
                  <a:lnTo>
                    <a:pt x="1070" y="222"/>
                  </a:lnTo>
                  <a:lnTo>
                    <a:pt x="1087" y="218"/>
                  </a:lnTo>
                  <a:lnTo>
                    <a:pt x="1104" y="217"/>
                  </a:lnTo>
                  <a:lnTo>
                    <a:pt x="1122" y="216"/>
                  </a:lnTo>
                  <a:lnTo>
                    <a:pt x="1141" y="217"/>
                  </a:lnTo>
                  <a:lnTo>
                    <a:pt x="1160" y="218"/>
                  </a:lnTo>
                  <a:lnTo>
                    <a:pt x="1181" y="221"/>
                  </a:lnTo>
                  <a:lnTo>
                    <a:pt x="1202" y="225"/>
                  </a:lnTo>
                  <a:lnTo>
                    <a:pt x="1225" y="230"/>
                  </a:lnTo>
                  <a:lnTo>
                    <a:pt x="1380" y="0"/>
                  </a:lnTo>
                  <a:lnTo>
                    <a:pt x="2798" y="51"/>
                  </a:lnTo>
                  <a:lnTo>
                    <a:pt x="1741" y="207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2" name="Freeform 153"/>
            <p:cNvSpPr/>
            <p:nvPr/>
          </p:nvSpPr>
          <p:spPr>
            <a:xfrm>
              <a:off x="2127240" y="3177000"/>
              <a:ext cx="1228320" cy="939240"/>
            </a:xfrm>
            <a:custGeom>
              <a:avLst/>
              <a:gdLst>
                <a:gd name="textAreaLeft" fmla="*/ 0 w 1228320"/>
                <a:gd name="textAreaRight" fmla="*/ 1228680 w 1228320"/>
                <a:gd name="textAreaTop" fmla="*/ 0 h 939240"/>
                <a:gd name="textAreaBottom" fmla="*/ 939600 h 939240"/>
              </a:gdLst>
              <a:ahLst/>
              <a:rect l="textAreaLeft" t="textAreaTop" r="textAreaRight" b="textAreaBottom"/>
              <a:pathLst>
                <a:path w="2798" h="2073">
                  <a:moveTo>
                    <a:pt x="1741" y="2073"/>
                  </a:moveTo>
                  <a:lnTo>
                    <a:pt x="1081" y="2018"/>
                  </a:lnTo>
                  <a:lnTo>
                    <a:pt x="0" y="1462"/>
                  </a:lnTo>
                  <a:lnTo>
                    <a:pt x="65" y="1356"/>
                  </a:lnTo>
                  <a:lnTo>
                    <a:pt x="76" y="1354"/>
                  </a:lnTo>
                  <a:lnTo>
                    <a:pt x="93" y="1351"/>
                  </a:lnTo>
                  <a:lnTo>
                    <a:pt x="113" y="1347"/>
                  </a:lnTo>
                  <a:lnTo>
                    <a:pt x="135" y="1341"/>
                  </a:lnTo>
                  <a:lnTo>
                    <a:pt x="146" y="1337"/>
                  </a:lnTo>
                  <a:lnTo>
                    <a:pt x="159" y="1331"/>
                  </a:lnTo>
                  <a:lnTo>
                    <a:pt x="172" y="1326"/>
                  </a:lnTo>
                  <a:lnTo>
                    <a:pt x="186" y="1318"/>
                  </a:lnTo>
                  <a:lnTo>
                    <a:pt x="200" y="1310"/>
                  </a:lnTo>
                  <a:lnTo>
                    <a:pt x="215" y="1301"/>
                  </a:lnTo>
                  <a:lnTo>
                    <a:pt x="231" y="1290"/>
                  </a:lnTo>
                  <a:lnTo>
                    <a:pt x="246" y="1279"/>
                  </a:lnTo>
                  <a:lnTo>
                    <a:pt x="217" y="1201"/>
                  </a:lnTo>
                  <a:lnTo>
                    <a:pt x="220" y="1196"/>
                  </a:lnTo>
                  <a:lnTo>
                    <a:pt x="231" y="1183"/>
                  </a:lnTo>
                  <a:lnTo>
                    <a:pt x="247" y="1163"/>
                  </a:lnTo>
                  <a:lnTo>
                    <a:pt x="270" y="1140"/>
                  </a:lnTo>
                  <a:lnTo>
                    <a:pt x="283" y="1127"/>
                  </a:lnTo>
                  <a:lnTo>
                    <a:pt x="298" y="1114"/>
                  </a:lnTo>
                  <a:lnTo>
                    <a:pt x="315" y="1101"/>
                  </a:lnTo>
                  <a:lnTo>
                    <a:pt x="332" y="1088"/>
                  </a:lnTo>
                  <a:lnTo>
                    <a:pt x="351" y="1077"/>
                  </a:lnTo>
                  <a:lnTo>
                    <a:pt x="372" y="1065"/>
                  </a:lnTo>
                  <a:lnTo>
                    <a:pt x="393" y="1055"/>
                  </a:lnTo>
                  <a:lnTo>
                    <a:pt x="415" y="1045"/>
                  </a:lnTo>
                  <a:lnTo>
                    <a:pt x="415" y="1040"/>
                  </a:lnTo>
                  <a:lnTo>
                    <a:pt x="415" y="1035"/>
                  </a:lnTo>
                  <a:lnTo>
                    <a:pt x="417" y="1029"/>
                  </a:lnTo>
                  <a:lnTo>
                    <a:pt x="421" y="1022"/>
                  </a:lnTo>
                  <a:lnTo>
                    <a:pt x="429" y="1007"/>
                  </a:lnTo>
                  <a:lnTo>
                    <a:pt x="443" y="989"/>
                  </a:lnTo>
                  <a:lnTo>
                    <a:pt x="460" y="969"/>
                  </a:lnTo>
                  <a:lnTo>
                    <a:pt x="479" y="948"/>
                  </a:lnTo>
                  <a:lnTo>
                    <a:pt x="500" y="927"/>
                  </a:lnTo>
                  <a:lnTo>
                    <a:pt x="525" y="905"/>
                  </a:lnTo>
                  <a:lnTo>
                    <a:pt x="551" y="882"/>
                  </a:lnTo>
                  <a:lnTo>
                    <a:pt x="576" y="859"/>
                  </a:lnTo>
                  <a:lnTo>
                    <a:pt x="603" y="838"/>
                  </a:lnTo>
                  <a:lnTo>
                    <a:pt x="630" y="817"/>
                  </a:lnTo>
                  <a:lnTo>
                    <a:pt x="656" y="798"/>
                  </a:lnTo>
                  <a:lnTo>
                    <a:pt x="681" y="780"/>
                  </a:lnTo>
                  <a:lnTo>
                    <a:pt x="705" y="765"/>
                  </a:lnTo>
                  <a:lnTo>
                    <a:pt x="727" y="751"/>
                  </a:lnTo>
                  <a:lnTo>
                    <a:pt x="709" y="659"/>
                  </a:lnTo>
                  <a:lnTo>
                    <a:pt x="708" y="656"/>
                  </a:lnTo>
                  <a:lnTo>
                    <a:pt x="706" y="648"/>
                  </a:lnTo>
                  <a:lnTo>
                    <a:pt x="705" y="635"/>
                  </a:lnTo>
                  <a:lnTo>
                    <a:pt x="705" y="616"/>
                  </a:lnTo>
                  <a:lnTo>
                    <a:pt x="706" y="606"/>
                  </a:lnTo>
                  <a:lnTo>
                    <a:pt x="708" y="594"/>
                  </a:lnTo>
                  <a:lnTo>
                    <a:pt x="712" y="581"/>
                  </a:lnTo>
                  <a:lnTo>
                    <a:pt x="716" y="567"/>
                  </a:lnTo>
                  <a:lnTo>
                    <a:pt x="723" y="553"/>
                  </a:lnTo>
                  <a:lnTo>
                    <a:pt x="732" y="537"/>
                  </a:lnTo>
                  <a:lnTo>
                    <a:pt x="742" y="521"/>
                  </a:lnTo>
                  <a:lnTo>
                    <a:pt x="755" y="503"/>
                  </a:lnTo>
                  <a:lnTo>
                    <a:pt x="810" y="437"/>
                  </a:lnTo>
                  <a:lnTo>
                    <a:pt x="860" y="375"/>
                  </a:lnTo>
                  <a:lnTo>
                    <a:pt x="884" y="347"/>
                  </a:lnTo>
                  <a:lnTo>
                    <a:pt x="908" y="320"/>
                  </a:lnTo>
                  <a:lnTo>
                    <a:pt x="920" y="308"/>
                  </a:lnTo>
                  <a:lnTo>
                    <a:pt x="931" y="296"/>
                  </a:lnTo>
                  <a:lnTo>
                    <a:pt x="944" y="285"/>
                  </a:lnTo>
                  <a:lnTo>
                    <a:pt x="957" y="275"/>
                  </a:lnTo>
                  <a:lnTo>
                    <a:pt x="970" y="265"/>
                  </a:lnTo>
                  <a:lnTo>
                    <a:pt x="983" y="257"/>
                  </a:lnTo>
                  <a:lnTo>
                    <a:pt x="996" y="249"/>
                  </a:lnTo>
                  <a:lnTo>
                    <a:pt x="1010" y="242"/>
                  </a:lnTo>
                  <a:lnTo>
                    <a:pt x="1024" y="235"/>
                  </a:lnTo>
                  <a:lnTo>
                    <a:pt x="1039" y="230"/>
                  </a:lnTo>
                  <a:lnTo>
                    <a:pt x="1054" y="225"/>
                  </a:lnTo>
                  <a:lnTo>
                    <a:pt x="1070" y="222"/>
                  </a:lnTo>
                  <a:lnTo>
                    <a:pt x="1087" y="218"/>
                  </a:lnTo>
                  <a:lnTo>
                    <a:pt x="1104" y="217"/>
                  </a:lnTo>
                  <a:lnTo>
                    <a:pt x="1122" y="216"/>
                  </a:lnTo>
                  <a:lnTo>
                    <a:pt x="1141" y="217"/>
                  </a:lnTo>
                  <a:lnTo>
                    <a:pt x="1160" y="218"/>
                  </a:lnTo>
                  <a:lnTo>
                    <a:pt x="1181" y="221"/>
                  </a:lnTo>
                  <a:lnTo>
                    <a:pt x="1202" y="225"/>
                  </a:lnTo>
                  <a:lnTo>
                    <a:pt x="1225" y="230"/>
                  </a:lnTo>
                  <a:lnTo>
                    <a:pt x="1380" y="0"/>
                  </a:lnTo>
                  <a:lnTo>
                    <a:pt x="2798" y="51"/>
                  </a:lnTo>
                  <a:lnTo>
                    <a:pt x="1741" y="2073"/>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3" name="Freeform 154"/>
            <p:cNvSpPr/>
            <p:nvPr/>
          </p:nvSpPr>
          <p:spPr>
            <a:xfrm>
              <a:off x="3294360" y="1955520"/>
              <a:ext cx="1136160" cy="417960"/>
            </a:xfrm>
            <a:custGeom>
              <a:avLst/>
              <a:gdLst>
                <a:gd name="textAreaLeft" fmla="*/ 0 w 1136160"/>
                <a:gd name="textAreaRight" fmla="*/ 1136520 w 1136160"/>
                <a:gd name="textAreaTop" fmla="*/ 0 h 417960"/>
                <a:gd name="textAreaBottom" fmla="*/ 418320 h 417960"/>
              </a:gdLst>
              <a:ahLst/>
              <a:rect l="textAreaLeft" t="textAreaTop" r="textAreaRight" b="textAreaBottom"/>
              <a:pathLst>
                <a:path w="2582" h="922">
                  <a:moveTo>
                    <a:pt x="2582" y="43"/>
                  </a:moveTo>
                  <a:lnTo>
                    <a:pt x="2309" y="852"/>
                  </a:lnTo>
                  <a:lnTo>
                    <a:pt x="2294" y="850"/>
                  </a:lnTo>
                  <a:lnTo>
                    <a:pt x="2272" y="849"/>
                  </a:lnTo>
                  <a:lnTo>
                    <a:pt x="2241" y="848"/>
                  </a:lnTo>
                  <a:lnTo>
                    <a:pt x="2204" y="847"/>
                  </a:lnTo>
                  <a:lnTo>
                    <a:pt x="2111" y="845"/>
                  </a:lnTo>
                  <a:lnTo>
                    <a:pt x="1997" y="845"/>
                  </a:lnTo>
                  <a:lnTo>
                    <a:pt x="1866" y="848"/>
                  </a:lnTo>
                  <a:lnTo>
                    <a:pt x="1725" y="849"/>
                  </a:lnTo>
                  <a:lnTo>
                    <a:pt x="1576" y="852"/>
                  </a:lnTo>
                  <a:lnTo>
                    <a:pt x="1423" y="855"/>
                  </a:lnTo>
                  <a:lnTo>
                    <a:pt x="1271" y="858"/>
                  </a:lnTo>
                  <a:lnTo>
                    <a:pt x="1125" y="862"/>
                  </a:lnTo>
                  <a:lnTo>
                    <a:pt x="990" y="865"/>
                  </a:lnTo>
                  <a:lnTo>
                    <a:pt x="869" y="869"/>
                  </a:lnTo>
                  <a:lnTo>
                    <a:pt x="767" y="871"/>
                  </a:lnTo>
                  <a:lnTo>
                    <a:pt x="689" y="873"/>
                  </a:lnTo>
                  <a:lnTo>
                    <a:pt x="639" y="875"/>
                  </a:lnTo>
                  <a:lnTo>
                    <a:pt x="621" y="875"/>
                  </a:lnTo>
                  <a:lnTo>
                    <a:pt x="592" y="884"/>
                  </a:lnTo>
                  <a:lnTo>
                    <a:pt x="562" y="891"/>
                  </a:lnTo>
                  <a:lnTo>
                    <a:pt x="530" y="899"/>
                  </a:lnTo>
                  <a:lnTo>
                    <a:pt x="497" y="905"/>
                  </a:lnTo>
                  <a:lnTo>
                    <a:pt x="465" y="911"/>
                  </a:lnTo>
                  <a:lnTo>
                    <a:pt x="432" y="915"/>
                  </a:lnTo>
                  <a:lnTo>
                    <a:pt x="399" y="919"/>
                  </a:lnTo>
                  <a:lnTo>
                    <a:pt x="368" y="921"/>
                  </a:lnTo>
                  <a:lnTo>
                    <a:pt x="336" y="922"/>
                  </a:lnTo>
                  <a:lnTo>
                    <a:pt x="307" y="921"/>
                  </a:lnTo>
                  <a:lnTo>
                    <a:pt x="278" y="919"/>
                  </a:lnTo>
                  <a:lnTo>
                    <a:pt x="251" y="914"/>
                  </a:lnTo>
                  <a:lnTo>
                    <a:pt x="239" y="912"/>
                  </a:lnTo>
                  <a:lnTo>
                    <a:pt x="226" y="908"/>
                  </a:lnTo>
                  <a:lnTo>
                    <a:pt x="216" y="904"/>
                  </a:lnTo>
                  <a:lnTo>
                    <a:pt x="205" y="899"/>
                  </a:lnTo>
                  <a:lnTo>
                    <a:pt x="195" y="894"/>
                  </a:lnTo>
                  <a:lnTo>
                    <a:pt x="185" y="889"/>
                  </a:lnTo>
                  <a:lnTo>
                    <a:pt x="177" y="882"/>
                  </a:lnTo>
                  <a:lnTo>
                    <a:pt x="169" y="875"/>
                  </a:lnTo>
                  <a:lnTo>
                    <a:pt x="163" y="868"/>
                  </a:lnTo>
                  <a:lnTo>
                    <a:pt x="157" y="862"/>
                  </a:lnTo>
                  <a:lnTo>
                    <a:pt x="153" y="855"/>
                  </a:lnTo>
                  <a:lnTo>
                    <a:pt x="149" y="848"/>
                  </a:lnTo>
                  <a:lnTo>
                    <a:pt x="146" y="841"/>
                  </a:lnTo>
                  <a:lnTo>
                    <a:pt x="143" y="835"/>
                  </a:lnTo>
                  <a:lnTo>
                    <a:pt x="142" y="828"/>
                  </a:lnTo>
                  <a:lnTo>
                    <a:pt x="141" y="821"/>
                  </a:lnTo>
                  <a:lnTo>
                    <a:pt x="141" y="809"/>
                  </a:lnTo>
                  <a:lnTo>
                    <a:pt x="141" y="796"/>
                  </a:lnTo>
                  <a:lnTo>
                    <a:pt x="143" y="785"/>
                  </a:lnTo>
                  <a:lnTo>
                    <a:pt x="146" y="774"/>
                  </a:lnTo>
                  <a:lnTo>
                    <a:pt x="148" y="764"/>
                  </a:lnTo>
                  <a:lnTo>
                    <a:pt x="149" y="753"/>
                  </a:lnTo>
                  <a:lnTo>
                    <a:pt x="149" y="744"/>
                  </a:lnTo>
                  <a:lnTo>
                    <a:pt x="147" y="734"/>
                  </a:lnTo>
                  <a:lnTo>
                    <a:pt x="145" y="730"/>
                  </a:lnTo>
                  <a:lnTo>
                    <a:pt x="142" y="726"/>
                  </a:lnTo>
                  <a:lnTo>
                    <a:pt x="139" y="723"/>
                  </a:lnTo>
                  <a:lnTo>
                    <a:pt x="135" y="718"/>
                  </a:lnTo>
                  <a:lnTo>
                    <a:pt x="129" y="715"/>
                  </a:lnTo>
                  <a:lnTo>
                    <a:pt x="124" y="711"/>
                  </a:lnTo>
                  <a:lnTo>
                    <a:pt x="117" y="709"/>
                  </a:lnTo>
                  <a:lnTo>
                    <a:pt x="108" y="705"/>
                  </a:lnTo>
                  <a:lnTo>
                    <a:pt x="91" y="699"/>
                  </a:lnTo>
                  <a:lnTo>
                    <a:pt x="77" y="694"/>
                  </a:lnTo>
                  <a:lnTo>
                    <a:pt x="65" y="688"/>
                  </a:lnTo>
                  <a:lnTo>
                    <a:pt x="56" y="682"/>
                  </a:lnTo>
                  <a:lnTo>
                    <a:pt x="49" y="677"/>
                  </a:lnTo>
                  <a:lnTo>
                    <a:pt x="44" y="672"/>
                  </a:lnTo>
                  <a:lnTo>
                    <a:pt x="42" y="668"/>
                  </a:lnTo>
                  <a:lnTo>
                    <a:pt x="39" y="663"/>
                  </a:lnTo>
                  <a:lnTo>
                    <a:pt x="39" y="658"/>
                  </a:lnTo>
                  <a:lnTo>
                    <a:pt x="41" y="655"/>
                  </a:lnTo>
                  <a:lnTo>
                    <a:pt x="42" y="653"/>
                  </a:lnTo>
                  <a:lnTo>
                    <a:pt x="43" y="649"/>
                  </a:lnTo>
                  <a:lnTo>
                    <a:pt x="46" y="646"/>
                  </a:lnTo>
                  <a:lnTo>
                    <a:pt x="49" y="644"/>
                  </a:lnTo>
                  <a:lnTo>
                    <a:pt x="57" y="639"/>
                  </a:lnTo>
                  <a:lnTo>
                    <a:pt x="78" y="622"/>
                  </a:lnTo>
                  <a:lnTo>
                    <a:pt x="107" y="599"/>
                  </a:lnTo>
                  <a:lnTo>
                    <a:pt x="138" y="572"/>
                  </a:lnTo>
                  <a:lnTo>
                    <a:pt x="153" y="557"/>
                  </a:lnTo>
                  <a:lnTo>
                    <a:pt x="166" y="543"/>
                  </a:lnTo>
                  <a:lnTo>
                    <a:pt x="176" y="528"/>
                  </a:lnTo>
                  <a:lnTo>
                    <a:pt x="183" y="515"/>
                  </a:lnTo>
                  <a:lnTo>
                    <a:pt x="185" y="508"/>
                  </a:lnTo>
                  <a:lnTo>
                    <a:pt x="187" y="502"/>
                  </a:lnTo>
                  <a:lnTo>
                    <a:pt x="188" y="496"/>
                  </a:lnTo>
                  <a:lnTo>
                    <a:pt x="187" y="491"/>
                  </a:lnTo>
                  <a:lnTo>
                    <a:pt x="184" y="487"/>
                  </a:lnTo>
                  <a:lnTo>
                    <a:pt x="181" y="482"/>
                  </a:lnTo>
                  <a:lnTo>
                    <a:pt x="176" y="477"/>
                  </a:lnTo>
                  <a:lnTo>
                    <a:pt x="169" y="475"/>
                  </a:lnTo>
                  <a:lnTo>
                    <a:pt x="155" y="469"/>
                  </a:lnTo>
                  <a:lnTo>
                    <a:pt x="142" y="462"/>
                  </a:lnTo>
                  <a:lnTo>
                    <a:pt x="129" y="455"/>
                  </a:lnTo>
                  <a:lnTo>
                    <a:pt x="117" y="448"/>
                  </a:lnTo>
                  <a:lnTo>
                    <a:pt x="106" y="441"/>
                  </a:lnTo>
                  <a:lnTo>
                    <a:pt x="94" y="433"/>
                  </a:lnTo>
                  <a:lnTo>
                    <a:pt x="84" y="425"/>
                  </a:lnTo>
                  <a:lnTo>
                    <a:pt x="75" y="417"/>
                  </a:lnTo>
                  <a:lnTo>
                    <a:pt x="65" y="407"/>
                  </a:lnTo>
                  <a:lnTo>
                    <a:pt x="57" y="398"/>
                  </a:lnTo>
                  <a:lnTo>
                    <a:pt x="49" y="389"/>
                  </a:lnTo>
                  <a:lnTo>
                    <a:pt x="42" y="379"/>
                  </a:lnTo>
                  <a:lnTo>
                    <a:pt x="35" y="370"/>
                  </a:lnTo>
                  <a:lnTo>
                    <a:pt x="29" y="359"/>
                  </a:lnTo>
                  <a:lnTo>
                    <a:pt x="23" y="350"/>
                  </a:lnTo>
                  <a:lnTo>
                    <a:pt x="18" y="340"/>
                  </a:lnTo>
                  <a:lnTo>
                    <a:pt x="10" y="320"/>
                  </a:lnTo>
                  <a:lnTo>
                    <a:pt x="4" y="299"/>
                  </a:lnTo>
                  <a:lnTo>
                    <a:pt x="1" y="278"/>
                  </a:lnTo>
                  <a:lnTo>
                    <a:pt x="0" y="257"/>
                  </a:lnTo>
                  <a:lnTo>
                    <a:pt x="1" y="237"/>
                  </a:lnTo>
                  <a:lnTo>
                    <a:pt x="3" y="218"/>
                  </a:lnTo>
                  <a:lnTo>
                    <a:pt x="7" y="208"/>
                  </a:lnTo>
                  <a:lnTo>
                    <a:pt x="9" y="198"/>
                  </a:lnTo>
                  <a:lnTo>
                    <a:pt x="13" y="190"/>
                  </a:lnTo>
                  <a:lnTo>
                    <a:pt x="17" y="181"/>
                  </a:lnTo>
                  <a:lnTo>
                    <a:pt x="25" y="163"/>
                  </a:lnTo>
                  <a:lnTo>
                    <a:pt x="36" y="147"/>
                  </a:lnTo>
                  <a:lnTo>
                    <a:pt x="46" y="131"/>
                  </a:lnTo>
                  <a:lnTo>
                    <a:pt x="58" y="114"/>
                  </a:lnTo>
                  <a:lnTo>
                    <a:pt x="80" y="83"/>
                  </a:lnTo>
                  <a:lnTo>
                    <a:pt x="104" y="56"/>
                  </a:lnTo>
                  <a:lnTo>
                    <a:pt x="124" y="32"/>
                  </a:lnTo>
                  <a:lnTo>
                    <a:pt x="140" y="15"/>
                  </a:lnTo>
                  <a:lnTo>
                    <a:pt x="150" y="3"/>
                  </a:lnTo>
                  <a:lnTo>
                    <a:pt x="155" y="0"/>
                  </a:lnTo>
                  <a:lnTo>
                    <a:pt x="300" y="4"/>
                  </a:lnTo>
                  <a:lnTo>
                    <a:pt x="447" y="9"/>
                  </a:lnTo>
                  <a:lnTo>
                    <a:pt x="597" y="13"/>
                  </a:lnTo>
                  <a:lnTo>
                    <a:pt x="749" y="17"/>
                  </a:lnTo>
                  <a:lnTo>
                    <a:pt x="903" y="21"/>
                  </a:lnTo>
                  <a:lnTo>
                    <a:pt x="1057" y="24"/>
                  </a:lnTo>
                  <a:lnTo>
                    <a:pt x="1213" y="27"/>
                  </a:lnTo>
                  <a:lnTo>
                    <a:pt x="1369" y="30"/>
                  </a:lnTo>
                  <a:lnTo>
                    <a:pt x="1525" y="32"/>
                  </a:lnTo>
                  <a:lnTo>
                    <a:pt x="1681" y="35"/>
                  </a:lnTo>
                  <a:lnTo>
                    <a:pt x="1835" y="37"/>
                  </a:lnTo>
                  <a:lnTo>
                    <a:pt x="1989" y="38"/>
                  </a:lnTo>
                  <a:lnTo>
                    <a:pt x="2141" y="39"/>
                  </a:lnTo>
                  <a:lnTo>
                    <a:pt x="2290" y="41"/>
                  </a:lnTo>
                  <a:lnTo>
                    <a:pt x="2439" y="42"/>
                  </a:lnTo>
                  <a:lnTo>
                    <a:pt x="2582" y="4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4" name="Freeform 155"/>
            <p:cNvSpPr/>
            <p:nvPr/>
          </p:nvSpPr>
          <p:spPr>
            <a:xfrm>
              <a:off x="3294360" y="1955520"/>
              <a:ext cx="1136160" cy="417960"/>
            </a:xfrm>
            <a:custGeom>
              <a:avLst/>
              <a:gdLst>
                <a:gd name="textAreaLeft" fmla="*/ 0 w 1136160"/>
                <a:gd name="textAreaRight" fmla="*/ 1136520 w 1136160"/>
                <a:gd name="textAreaTop" fmla="*/ 0 h 417960"/>
                <a:gd name="textAreaBottom" fmla="*/ 418320 h 417960"/>
              </a:gdLst>
              <a:ahLst/>
              <a:rect l="textAreaLeft" t="textAreaTop" r="textAreaRight" b="textAreaBottom"/>
              <a:pathLst>
                <a:path w="2582" h="922">
                  <a:moveTo>
                    <a:pt x="2582" y="43"/>
                  </a:moveTo>
                  <a:lnTo>
                    <a:pt x="2309" y="852"/>
                  </a:lnTo>
                  <a:lnTo>
                    <a:pt x="2294" y="850"/>
                  </a:lnTo>
                  <a:lnTo>
                    <a:pt x="2272" y="849"/>
                  </a:lnTo>
                  <a:lnTo>
                    <a:pt x="2241" y="848"/>
                  </a:lnTo>
                  <a:lnTo>
                    <a:pt x="2204" y="847"/>
                  </a:lnTo>
                  <a:lnTo>
                    <a:pt x="2111" y="845"/>
                  </a:lnTo>
                  <a:lnTo>
                    <a:pt x="1997" y="845"/>
                  </a:lnTo>
                  <a:lnTo>
                    <a:pt x="1866" y="848"/>
                  </a:lnTo>
                  <a:lnTo>
                    <a:pt x="1725" y="849"/>
                  </a:lnTo>
                  <a:lnTo>
                    <a:pt x="1576" y="852"/>
                  </a:lnTo>
                  <a:lnTo>
                    <a:pt x="1423" y="855"/>
                  </a:lnTo>
                  <a:lnTo>
                    <a:pt x="1271" y="858"/>
                  </a:lnTo>
                  <a:lnTo>
                    <a:pt x="1125" y="862"/>
                  </a:lnTo>
                  <a:lnTo>
                    <a:pt x="990" y="865"/>
                  </a:lnTo>
                  <a:lnTo>
                    <a:pt x="869" y="869"/>
                  </a:lnTo>
                  <a:lnTo>
                    <a:pt x="767" y="871"/>
                  </a:lnTo>
                  <a:lnTo>
                    <a:pt x="689" y="873"/>
                  </a:lnTo>
                  <a:lnTo>
                    <a:pt x="639" y="875"/>
                  </a:lnTo>
                  <a:lnTo>
                    <a:pt x="621" y="875"/>
                  </a:lnTo>
                  <a:lnTo>
                    <a:pt x="592" y="884"/>
                  </a:lnTo>
                  <a:lnTo>
                    <a:pt x="562" y="891"/>
                  </a:lnTo>
                  <a:lnTo>
                    <a:pt x="530" y="899"/>
                  </a:lnTo>
                  <a:lnTo>
                    <a:pt x="497" y="905"/>
                  </a:lnTo>
                  <a:lnTo>
                    <a:pt x="465" y="911"/>
                  </a:lnTo>
                  <a:lnTo>
                    <a:pt x="432" y="915"/>
                  </a:lnTo>
                  <a:lnTo>
                    <a:pt x="399" y="919"/>
                  </a:lnTo>
                  <a:lnTo>
                    <a:pt x="368" y="921"/>
                  </a:lnTo>
                  <a:lnTo>
                    <a:pt x="336" y="922"/>
                  </a:lnTo>
                  <a:lnTo>
                    <a:pt x="307" y="921"/>
                  </a:lnTo>
                  <a:lnTo>
                    <a:pt x="278" y="919"/>
                  </a:lnTo>
                  <a:lnTo>
                    <a:pt x="251" y="914"/>
                  </a:lnTo>
                  <a:lnTo>
                    <a:pt x="239" y="912"/>
                  </a:lnTo>
                  <a:lnTo>
                    <a:pt x="226" y="908"/>
                  </a:lnTo>
                  <a:lnTo>
                    <a:pt x="216" y="904"/>
                  </a:lnTo>
                  <a:lnTo>
                    <a:pt x="205" y="899"/>
                  </a:lnTo>
                  <a:lnTo>
                    <a:pt x="195" y="894"/>
                  </a:lnTo>
                  <a:lnTo>
                    <a:pt x="185" y="889"/>
                  </a:lnTo>
                  <a:lnTo>
                    <a:pt x="177" y="882"/>
                  </a:lnTo>
                  <a:lnTo>
                    <a:pt x="169" y="875"/>
                  </a:lnTo>
                  <a:lnTo>
                    <a:pt x="163" y="868"/>
                  </a:lnTo>
                  <a:lnTo>
                    <a:pt x="157" y="862"/>
                  </a:lnTo>
                  <a:lnTo>
                    <a:pt x="153" y="855"/>
                  </a:lnTo>
                  <a:lnTo>
                    <a:pt x="149" y="848"/>
                  </a:lnTo>
                  <a:lnTo>
                    <a:pt x="146" y="841"/>
                  </a:lnTo>
                  <a:lnTo>
                    <a:pt x="143" y="835"/>
                  </a:lnTo>
                  <a:lnTo>
                    <a:pt x="142" y="828"/>
                  </a:lnTo>
                  <a:lnTo>
                    <a:pt x="141" y="821"/>
                  </a:lnTo>
                  <a:lnTo>
                    <a:pt x="141" y="809"/>
                  </a:lnTo>
                  <a:lnTo>
                    <a:pt x="141" y="796"/>
                  </a:lnTo>
                  <a:lnTo>
                    <a:pt x="143" y="785"/>
                  </a:lnTo>
                  <a:lnTo>
                    <a:pt x="146" y="774"/>
                  </a:lnTo>
                  <a:lnTo>
                    <a:pt x="148" y="764"/>
                  </a:lnTo>
                  <a:lnTo>
                    <a:pt x="149" y="753"/>
                  </a:lnTo>
                  <a:lnTo>
                    <a:pt x="149" y="744"/>
                  </a:lnTo>
                  <a:lnTo>
                    <a:pt x="147" y="734"/>
                  </a:lnTo>
                  <a:lnTo>
                    <a:pt x="145" y="730"/>
                  </a:lnTo>
                  <a:lnTo>
                    <a:pt x="142" y="726"/>
                  </a:lnTo>
                  <a:lnTo>
                    <a:pt x="139" y="723"/>
                  </a:lnTo>
                  <a:lnTo>
                    <a:pt x="135" y="718"/>
                  </a:lnTo>
                  <a:lnTo>
                    <a:pt x="129" y="715"/>
                  </a:lnTo>
                  <a:lnTo>
                    <a:pt x="124" y="711"/>
                  </a:lnTo>
                  <a:lnTo>
                    <a:pt x="117" y="709"/>
                  </a:lnTo>
                  <a:lnTo>
                    <a:pt x="108" y="705"/>
                  </a:lnTo>
                  <a:lnTo>
                    <a:pt x="91" y="699"/>
                  </a:lnTo>
                  <a:lnTo>
                    <a:pt x="77" y="694"/>
                  </a:lnTo>
                  <a:lnTo>
                    <a:pt x="65" y="688"/>
                  </a:lnTo>
                  <a:lnTo>
                    <a:pt x="56" y="682"/>
                  </a:lnTo>
                  <a:lnTo>
                    <a:pt x="49" y="677"/>
                  </a:lnTo>
                  <a:lnTo>
                    <a:pt x="44" y="672"/>
                  </a:lnTo>
                  <a:lnTo>
                    <a:pt x="42" y="668"/>
                  </a:lnTo>
                  <a:lnTo>
                    <a:pt x="39" y="663"/>
                  </a:lnTo>
                  <a:lnTo>
                    <a:pt x="39" y="658"/>
                  </a:lnTo>
                  <a:lnTo>
                    <a:pt x="41" y="655"/>
                  </a:lnTo>
                  <a:lnTo>
                    <a:pt x="42" y="653"/>
                  </a:lnTo>
                  <a:lnTo>
                    <a:pt x="43" y="649"/>
                  </a:lnTo>
                  <a:lnTo>
                    <a:pt x="46" y="646"/>
                  </a:lnTo>
                  <a:lnTo>
                    <a:pt x="49" y="644"/>
                  </a:lnTo>
                  <a:lnTo>
                    <a:pt x="57" y="639"/>
                  </a:lnTo>
                  <a:lnTo>
                    <a:pt x="78" y="622"/>
                  </a:lnTo>
                  <a:lnTo>
                    <a:pt x="107" y="599"/>
                  </a:lnTo>
                  <a:lnTo>
                    <a:pt x="138" y="572"/>
                  </a:lnTo>
                  <a:lnTo>
                    <a:pt x="153" y="557"/>
                  </a:lnTo>
                  <a:lnTo>
                    <a:pt x="166" y="543"/>
                  </a:lnTo>
                  <a:lnTo>
                    <a:pt x="176" y="528"/>
                  </a:lnTo>
                  <a:lnTo>
                    <a:pt x="183" y="515"/>
                  </a:lnTo>
                  <a:lnTo>
                    <a:pt x="185" y="508"/>
                  </a:lnTo>
                  <a:lnTo>
                    <a:pt x="187" y="502"/>
                  </a:lnTo>
                  <a:lnTo>
                    <a:pt x="188" y="496"/>
                  </a:lnTo>
                  <a:lnTo>
                    <a:pt x="187" y="491"/>
                  </a:lnTo>
                  <a:lnTo>
                    <a:pt x="184" y="487"/>
                  </a:lnTo>
                  <a:lnTo>
                    <a:pt x="181" y="482"/>
                  </a:lnTo>
                  <a:lnTo>
                    <a:pt x="176" y="477"/>
                  </a:lnTo>
                  <a:lnTo>
                    <a:pt x="169" y="475"/>
                  </a:lnTo>
                  <a:lnTo>
                    <a:pt x="155" y="469"/>
                  </a:lnTo>
                  <a:lnTo>
                    <a:pt x="142" y="462"/>
                  </a:lnTo>
                  <a:lnTo>
                    <a:pt x="129" y="455"/>
                  </a:lnTo>
                  <a:lnTo>
                    <a:pt x="117" y="448"/>
                  </a:lnTo>
                  <a:lnTo>
                    <a:pt x="106" y="441"/>
                  </a:lnTo>
                  <a:lnTo>
                    <a:pt x="94" y="433"/>
                  </a:lnTo>
                  <a:lnTo>
                    <a:pt x="84" y="425"/>
                  </a:lnTo>
                  <a:lnTo>
                    <a:pt x="75" y="417"/>
                  </a:lnTo>
                  <a:lnTo>
                    <a:pt x="65" y="407"/>
                  </a:lnTo>
                  <a:lnTo>
                    <a:pt x="57" y="398"/>
                  </a:lnTo>
                  <a:lnTo>
                    <a:pt x="49" y="389"/>
                  </a:lnTo>
                  <a:lnTo>
                    <a:pt x="42" y="379"/>
                  </a:lnTo>
                  <a:lnTo>
                    <a:pt x="35" y="370"/>
                  </a:lnTo>
                  <a:lnTo>
                    <a:pt x="29" y="359"/>
                  </a:lnTo>
                  <a:lnTo>
                    <a:pt x="23" y="350"/>
                  </a:lnTo>
                  <a:lnTo>
                    <a:pt x="18" y="340"/>
                  </a:lnTo>
                  <a:lnTo>
                    <a:pt x="10" y="320"/>
                  </a:lnTo>
                  <a:lnTo>
                    <a:pt x="4" y="299"/>
                  </a:lnTo>
                  <a:lnTo>
                    <a:pt x="1" y="278"/>
                  </a:lnTo>
                  <a:lnTo>
                    <a:pt x="0" y="257"/>
                  </a:lnTo>
                  <a:lnTo>
                    <a:pt x="1" y="237"/>
                  </a:lnTo>
                  <a:lnTo>
                    <a:pt x="3" y="218"/>
                  </a:lnTo>
                  <a:lnTo>
                    <a:pt x="7" y="208"/>
                  </a:lnTo>
                  <a:lnTo>
                    <a:pt x="9" y="198"/>
                  </a:lnTo>
                  <a:lnTo>
                    <a:pt x="13" y="190"/>
                  </a:lnTo>
                  <a:lnTo>
                    <a:pt x="17" y="181"/>
                  </a:lnTo>
                  <a:lnTo>
                    <a:pt x="25" y="163"/>
                  </a:lnTo>
                  <a:lnTo>
                    <a:pt x="36" y="147"/>
                  </a:lnTo>
                  <a:lnTo>
                    <a:pt x="46" y="131"/>
                  </a:lnTo>
                  <a:lnTo>
                    <a:pt x="58" y="114"/>
                  </a:lnTo>
                  <a:lnTo>
                    <a:pt x="80" y="83"/>
                  </a:lnTo>
                  <a:lnTo>
                    <a:pt x="104" y="56"/>
                  </a:lnTo>
                  <a:lnTo>
                    <a:pt x="124" y="32"/>
                  </a:lnTo>
                  <a:lnTo>
                    <a:pt x="140" y="15"/>
                  </a:lnTo>
                  <a:lnTo>
                    <a:pt x="150" y="3"/>
                  </a:lnTo>
                  <a:lnTo>
                    <a:pt x="155" y="0"/>
                  </a:lnTo>
                  <a:lnTo>
                    <a:pt x="300" y="4"/>
                  </a:lnTo>
                  <a:lnTo>
                    <a:pt x="447" y="9"/>
                  </a:lnTo>
                  <a:lnTo>
                    <a:pt x="597" y="13"/>
                  </a:lnTo>
                  <a:lnTo>
                    <a:pt x="749" y="17"/>
                  </a:lnTo>
                  <a:lnTo>
                    <a:pt x="903" y="21"/>
                  </a:lnTo>
                  <a:lnTo>
                    <a:pt x="1057" y="24"/>
                  </a:lnTo>
                  <a:lnTo>
                    <a:pt x="1213" y="27"/>
                  </a:lnTo>
                  <a:lnTo>
                    <a:pt x="1369" y="30"/>
                  </a:lnTo>
                  <a:lnTo>
                    <a:pt x="1525" y="32"/>
                  </a:lnTo>
                  <a:lnTo>
                    <a:pt x="1681" y="35"/>
                  </a:lnTo>
                  <a:lnTo>
                    <a:pt x="1835" y="37"/>
                  </a:lnTo>
                  <a:lnTo>
                    <a:pt x="1989" y="38"/>
                  </a:lnTo>
                  <a:lnTo>
                    <a:pt x="2141" y="39"/>
                  </a:lnTo>
                  <a:lnTo>
                    <a:pt x="2290" y="41"/>
                  </a:lnTo>
                  <a:lnTo>
                    <a:pt x="2439" y="42"/>
                  </a:lnTo>
                  <a:lnTo>
                    <a:pt x="2582" y="43"/>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5" name="Freeform 156"/>
            <p:cNvSpPr/>
            <p:nvPr/>
          </p:nvSpPr>
          <p:spPr>
            <a:xfrm>
              <a:off x="3355560" y="2718360"/>
              <a:ext cx="1100880" cy="480960"/>
            </a:xfrm>
            <a:custGeom>
              <a:avLst/>
              <a:gdLst>
                <a:gd name="textAreaLeft" fmla="*/ 0 w 1100880"/>
                <a:gd name="textAreaRight" fmla="*/ 1101240 w 1100880"/>
                <a:gd name="textAreaTop" fmla="*/ 0 h 480960"/>
                <a:gd name="textAreaBottom" fmla="*/ 481320 h 480960"/>
              </a:gdLst>
              <a:ahLst/>
              <a:rect l="textAreaLeft" t="textAreaTop" r="textAreaRight" b="textAreaBottom"/>
              <a:pathLst>
                <a:path w="2502" h="1059">
                  <a:moveTo>
                    <a:pt x="0" y="1059"/>
                  </a:moveTo>
                  <a:lnTo>
                    <a:pt x="529" y="0"/>
                  </a:lnTo>
                  <a:lnTo>
                    <a:pt x="1871" y="37"/>
                  </a:lnTo>
                  <a:lnTo>
                    <a:pt x="2502" y="43"/>
                  </a:lnTo>
                  <a:lnTo>
                    <a:pt x="2235" y="1057"/>
                  </a:lnTo>
                  <a:lnTo>
                    <a:pt x="0" y="105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6" name="Freeform 157"/>
            <p:cNvSpPr/>
            <p:nvPr/>
          </p:nvSpPr>
          <p:spPr>
            <a:xfrm>
              <a:off x="3355560" y="2718360"/>
              <a:ext cx="1100880" cy="480960"/>
            </a:xfrm>
            <a:custGeom>
              <a:avLst/>
              <a:gdLst>
                <a:gd name="textAreaLeft" fmla="*/ 0 w 1100880"/>
                <a:gd name="textAreaRight" fmla="*/ 1101240 w 1100880"/>
                <a:gd name="textAreaTop" fmla="*/ 0 h 480960"/>
                <a:gd name="textAreaBottom" fmla="*/ 481320 h 480960"/>
              </a:gdLst>
              <a:ahLst/>
              <a:rect l="textAreaLeft" t="textAreaTop" r="textAreaRight" b="textAreaBottom"/>
              <a:pathLst>
                <a:path w="2502" h="1059">
                  <a:moveTo>
                    <a:pt x="0" y="1059"/>
                  </a:moveTo>
                  <a:lnTo>
                    <a:pt x="529" y="0"/>
                  </a:lnTo>
                  <a:lnTo>
                    <a:pt x="1871" y="37"/>
                  </a:lnTo>
                  <a:lnTo>
                    <a:pt x="2502" y="43"/>
                  </a:lnTo>
                  <a:lnTo>
                    <a:pt x="2235" y="1057"/>
                  </a:lnTo>
                  <a:lnTo>
                    <a:pt x="0" y="1059"/>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7" name="Freeform 158"/>
            <p:cNvSpPr/>
            <p:nvPr/>
          </p:nvSpPr>
          <p:spPr>
            <a:xfrm>
              <a:off x="3360240" y="3306240"/>
              <a:ext cx="2285280" cy="2063160"/>
            </a:xfrm>
            <a:custGeom>
              <a:avLst/>
              <a:gdLst>
                <a:gd name="textAreaLeft" fmla="*/ 0 w 2285280"/>
                <a:gd name="textAreaRight" fmla="*/ 2285640 w 2285280"/>
                <a:gd name="textAreaTop" fmla="*/ 0 h 2063160"/>
                <a:gd name="textAreaBottom" fmla="*/ 2063520 h 2063160"/>
              </a:gdLst>
              <a:ahLst/>
              <a:rect l="textAreaLeft" t="textAreaTop" r="textAreaRight" b="textAreaBottom"/>
              <a:pathLst>
                <a:path w="5200" h="4545">
                  <a:moveTo>
                    <a:pt x="5200" y="2503"/>
                  </a:moveTo>
                  <a:lnTo>
                    <a:pt x="5184" y="1809"/>
                  </a:lnTo>
                  <a:lnTo>
                    <a:pt x="5164" y="1787"/>
                  </a:lnTo>
                  <a:lnTo>
                    <a:pt x="5146" y="1764"/>
                  </a:lnTo>
                  <a:lnTo>
                    <a:pt x="5136" y="1752"/>
                  </a:lnTo>
                  <a:lnTo>
                    <a:pt x="5128" y="1739"/>
                  </a:lnTo>
                  <a:lnTo>
                    <a:pt x="5120" y="1725"/>
                  </a:lnTo>
                  <a:lnTo>
                    <a:pt x="5112" y="1711"/>
                  </a:lnTo>
                  <a:lnTo>
                    <a:pt x="5103" y="1696"/>
                  </a:lnTo>
                  <a:lnTo>
                    <a:pt x="5096" y="1680"/>
                  </a:lnTo>
                  <a:lnTo>
                    <a:pt x="5089" y="1663"/>
                  </a:lnTo>
                  <a:lnTo>
                    <a:pt x="5082" y="1646"/>
                  </a:lnTo>
                  <a:lnTo>
                    <a:pt x="5071" y="1610"/>
                  </a:lnTo>
                  <a:lnTo>
                    <a:pt x="5059" y="1569"/>
                  </a:lnTo>
                  <a:lnTo>
                    <a:pt x="5050" y="1524"/>
                  </a:lnTo>
                  <a:lnTo>
                    <a:pt x="5040" y="1477"/>
                  </a:lnTo>
                  <a:lnTo>
                    <a:pt x="5033" y="1423"/>
                  </a:lnTo>
                  <a:lnTo>
                    <a:pt x="5028" y="1366"/>
                  </a:lnTo>
                  <a:lnTo>
                    <a:pt x="5023" y="1304"/>
                  </a:lnTo>
                  <a:lnTo>
                    <a:pt x="5019" y="1237"/>
                  </a:lnTo>
                  <a:lnTo>
                    <a:pt x="5017" y="1165"/>
                  </a:lnTo>
                  <a:lnTo>
                    <a:pt x="5017" y="1086"/>
                  </a:lnTo>
                  <a:lnTo>
                    <a:pt x="5004" y="1076"/>
                  </a:lnTo>
                  <a:lnTo>
                    <a:pt x="4988" y="1064"/>
                  </a:lnTo>
                  <a:lnTo>
                    <a:pt x="4969" y="1053"/>
                  </a:lnTo>
                  <a:lnTo>
                    <a:pt x="4947" y="1039"/>
                  </a:lnTo>
                  <a:lnTo>
                    <a:pt x="4922" y="1026"/>
                  </a:lnTo>
                  <a:lnTo>
                    <a:pt x="4896" y="1010"/>
                  </a:lnTo>
                  <a:lnTo>
                    <a:pt x="4866" y="996"/>
                  </a:lnTo>
                  <a:lnTo>
                    <a:pt x="4836" y="981"/>
                  </a:lnTo>
                  <a:lnTo>
                    <a:pt x="4769" y="951"/>
                  </a:lnTo>
                  <a:lnTo>
                    <a:pt x="4698" y="921"/>
                  </a:lnTo>
                  <a:lnTo>
                    <a:pt x="4623" y="891"/>
                  </a:lnTo>
                  <a:lnTo>
                    <a:pt x="4547" y="864"/>
                  </a:lnTo>
                  <a:lnTo>
                    <a:pt x="4509" y="852"/>
                  </a:lnTo>
                  <a:lnTo>
                    <a:pt x="4472" y="840"/>
                  </a:lnTo>
                  <a:lnTo>
                    <a:pt x="4434" y="828"/>
                  </a:lnTo>
                  <a:lnTo>
                    <a:pt x="4398" y="819"/>
                  </a:lnTo>
                  <a:lnTo>
                    <a:pt x="4363" y="810"/>
                  </a:lnTo>
                  <a:lnTo>
                    <a:pt x="4329" y="803"/>
                  </a:lnTo>
                  <a:lnTo>
                    <a:pt x="4296" y="797"/>
                  </a:lnTo>
                  <a:lnTo>
                    <a:pt x="4265" y="792"/>
                  </a:lnTo>
                  <a:lnTo>
                    <a:pt x="4236" y="789"/>
                  </a:lnTo>
                  <a:lnTo>
                    <a:pt x="4209" y="787"/>
                  </a:lnTo>
                  <a:lnTo>
                    <a:pt x="4184" y="787"/>
                  </a:lnTo>
                  <a:lnTo>
                    <a:pt x="4162" y="791"/>
                  </a:lnTo>
                  <a:lnTo>
                    <a:pt x="4142" y="794"/>
                  </a:lnTo>
                  <a:lnTo>
                    <a:pt x="4126" y="801"/>
                  </a:lnTo>
                  <a:lnTo>
                    <a:pt x="4113" y="810"/>
                  </a:lnTo>
                  <a:lnTo>
                    <a:pt x="4104" y="821"/>
                  </a:lnTo>
                  <a:lnTo>
                    <a:pt x="4080" y="856"/>
                  </a:lnTo>
                  <a:lnTo>
                    <a:pt x="4059" y="884"/>
                  </a:lnTo>
                  <a:lnTo>
                    <a:pt x="4049" y="896"/>
                  </a:lnTo>
                  <a:lnTo>
                    <a:pt x="4039" y="907"/>
                  </a:lnTo>
                  <a:lnTo>
                    <a:pt x="4031" y="916"/>
                  </a:lnTo>
                  <a:lnTo>
                    <a:pt x="4022" y="923"/>
                  </a:lnTo>
                  <a:lnTo>
                    <a:pt x="4014" y="930"/>
                  </a:lnTo>
                  <a:lnTo>
                    <a:pt x="4007" y="935"/>
                  </a:lnTo>
                  <a:lnTo>
                    <a:pt x="4000" y="939"/>
                  </a:lnTo>
                  <a:lnTo>
                    <a:pt x="3993" y="942"/>
                  </a:lnTo>
                  <a:lnTo>
                    <a:pt x="3986" y="944"/>
                  </a:lnTo>
                  <a:lnTo>
                    <a:pt x="3980" y="945"/>
                  </a:lnTo>
                  <a:lnTo>
                    <a:pt x="3974" y="945"/>
                  </a:lnTo>
                  <a:lnTo>
                    <a:pt x="3968" y="944"/>
                  </a:lnTo>
                  <a:lnTo>
                    <a:pt x="3963" y="943"/>
                  </a:lnTo>
                  <a:lnTo>
                    <a:pt x="3959" y="940"/>
                  </a:lnTo>
                  <a:lnTo>
                    <a:pt x="3954" y="937"/>
                  </a:lnTo>
                  <a:lnTo>
                    <a:pt x="3949" y="933"/>
                  </a:lnTo>
                  <a:lnTo>
                    <a:pt x="3942" y="925"/>
                  </a:lnTo>
                  <a:lnTo>
                    <a:pt x="3937" y="915"/>
                  </a:lnTo>
                  <a:lnTo>
                    <a:pt x="3931" y="903"/>
                  </a:lnTo>
                  <a:lnTo>
                    <a:pt x="3926" y="891"/>
                  </a:lnTo>
                  <a:lnTo>
                    <a:pt x="3922" y="880"/>
                  </a:lnTo>
                  <a:lnTo>
                    <a:pt x="3919" y="868"/>
                  </a:lnTo>
                  <a:lnTo>
                    <a:pt x="3917" y="862"/>
                  </a:lnTo>
                  <a:lnTo>
                    <a:pt x="3913" y="857"/>
                  </a:lnTo>
                  <a:lnTo>
                    <a:pt x="3907" y="854"/>
                  </a:lnTo>
                  <a:lnTo>
                    <a:pt x="3900" y="850"/>
                  </a:lnTo>
                  <a:lnTo>
                    <a:pt x="3893" y="848"/>
                  </a:lnTo>
                  <a:lnTo>
                    <a:pt x="3884" y="847"/>
                  </a:lnTo>
                  <a:lnTo>
                    <a:pt x="3873" y="846"/>
                  </a:lnTo>
                  <a:lnTo>
                    <a:pt x="3862" y="845"/>
                  </a:lnTo>
                  <a:lnTo>
                    <a:pt x="3837" y="845"/>
                  </a:lnTo>
                  <a:lnTo>
                    <a:pt x="3808" y="847"/>
                  </a:lnTo>
                  <a:lnTo>
                    <a:pt x="3778" y="850"/>
                  </a:lnTo>
                  <a:lnTo>
                    <a:pt x="3746" y="854"/>
                  </a:lnTo>
                  <a:lnTo>
                    <a:pt x="3680" y="863"/>
                  </a:lnTo>
                  <a:lnTo>
                    <a:pt x="3615" y="870"/>
                  </a:lnTo>
                  <a:lnTo>
                    <a:pt x="3586" y="873"/>
                  </a:lnTo>
                  <a:lnTo>
                    <a:pt x="3559" y="873"/>
                  </a:lnTo>
                  <a:lnTo>
                    <a:pt x="3546" y="873"/>
                  </a:lnTo>
                  <a:lnTo>
                    <a:pt x="3536" y="871"/>
                  </a:lnTo>
                  <a:lnTo>
                    <a:pt x="3525" y="870"/>
                  </a:lnTo>
                  <a:lnTo>
                    <a:pt x="3516" y="868"/>
                  </a:lnTo>
                  <a:lnTo>
                    <a:pt x="3500" y="861"/>
                  </a:lnTo>
                  <a:lnTo>
                    <a:pt x="3483" y="853"/>
                  </a:lnTo>
                  <a:lnTo>
                    <a:pt x="3467" y="845"/>
                  </a:lnTo>
                  <a:lnTo>
                    <a:pt x="3453" y="835"/>
                  </a:lnTo>
                  <a:lnTo>
                    <a:pt x="3439" y="825"/>
                  </a:lnTo>
                  <a:lnTo>
                    <a:pt x="3426" y="814"/>
                  </a:lnTo>
                  <a:lnTo>
                    <a:pt x="3414" y="804"/>
                  </a:lnTo>
                  <a:lnTo>
                    <a:pt x="3404" y="793"/>
                  </a:lnTo>
                  <a:lnTo>
                    <a:pt x="3372" y="758"/>
                  </a:lnTo>
                  <a:lnTo>
                    <a:pt x="3361" y="743"/>
                  </a:lnTo>
                  <a:lnTo>
                    <a:pt x="3356" y="748"/>
                  </a:lnTo>
                  <a:lnTo>
                    <a:pt x="3344" y="759"/>
                  </a:lnTo>
                  <a:lnTo>
                    <a:pt x="3335" y="766"/>
                  </a:lnTo>
                  <a:lnTo>
                    <a:pt x="3324" y="775"/>
                  </a:lnTo>
                  <a:lnTo>
                    <a:pt x="3313" y="783"/>
                  </a:lnTo>
                  <a:lnTo>
                    <a:pt x="3299" y="791"/>
                  </a:lnTo>
                  <a:lnTo>
                    <a:pt x="3284" y="799"/>
                  </a:lnTo>
                  <a:lnTo>
                    <a:pt x="3267" y="805"/>
                  </a:lnTo>
                  <a:lnTo>
                    <a:pt x="3250" y="811"/>
                  </a:lnTo>
                  <a:lnTo>
                    <a:pt x="3231" y="814"/>
                  </a:lnTo>
                  <a:lnTo>
                    <a:pt x="3220" y="815"/>
                  </a:lnTo>
                  <a:lnTo>
                    <a:pt x="3210" y="815"/>
                  </a:lnTo>
                  <a:lnTo>
                    <a:pt x="3201" y="815"/>
                  </a:lnTo>
                  <a:lnTo>
                    <a:pt x="3189" y="814"/>
                  </a:lnTo>
                  <a:lnTo>
                    <a:pt x="3178" y="813"/>
                  </a:lnTo>
                  <a:lnTo>
                    <a:pt x="3168" y="811"/>
                  </a:lnTo>
                  <a:lnTo>
                    <a:pt x="3156" y="808"/>
                  </a:lnTo>
                  <a:lnTo>
                    <a:pt x="3145" y="804"/>
                  </a:lnTo>
                  <a:lnTo>
                    <a:pt x="3122" y="794"/>
                  </a:lnTo>
                  <a:lnTo>
                    <a:pt x="3100" y="784"/>
                  </a:lnTo>
                  <a:lnTo>
                    <a:pt x="3079" y="771"/>
                  </a:lnTo>
                  <a:lnTo>
                    <a:pt x="3058" y="758"/>
                  </a:lnTo>
                  <a:lnTo>
                    <a:pt x="3016" y="730"/>
                  </a:lnTo>
                  <a:lnTo>
                    <a:pt x="2972" y="702"/>
                  </a:lnTo>
                  <a:lnTo>
                    <a:pt x="2947" y="688"/>
                  </a:lnTo>
                  <a:lnTo>
                    <a:pt x="2923" y="675"/>
                  </a:lnTo>
                  <a:lnTo>
                    <a:pt x="2896" y="665"/>
                  </a:lnTo>
                  <a:lnTo>
                    <a:pt x="2867" y="654"/>
                  </a:lnTo>
                  <a:lnTo>
                    <a:pt x="2851" y="650"/>
                  </a:lnTo>
                  <a:lnTo>
                    <a:pt x="2836" y="646"/>
                  </a:lnTo>
                  <a:lnTo>
                    <a:pt x="2820" y="643"/>
                  </a:lnTo>
                  <a:lnTo>
                    <a:pt x="2802" y="639"/>
                  </a:lnTo>
                  <a:lnTo>
                    <a:pt x="2785" y="637"/>
                  </a:lnTo>
                  <a:lnTo>
                    <a:pt x="2766" y="636"/>
                  </a:lnTo>
                  <a:lnTo>
                    <a:pt x="2747" y="634"/>
                  </a:lnTo>
                  <a:lnTo>
                    <a:pt x="2726" y="634"/>
                  </a:lnTo>
                  <a:lnTo>
                    <a:pt x="2759" y="47"/>
                  </a:lnTo>
                  <a:lnTo>
                    <a:pt x="1857" y="0"/>
                  </a:lnTo>
                  <a:lnTo>
                    <a:pt x="1399" y="1533"/>
                  </a:lnTo>
                  <a:lnTo>
                    <a:pt x="8" y="1501"/>
                  </a:lnTo>
                  <a:lnTo>
                    <a:pt x="0" y="1668"/>
                  </a:lnTo>
                  <a:lnTo>
                    <a:pt x="503" y="2350"/>
                  </a:lnTo>
                  <a:lnTo>
                    <a:pt x="472" y="2566"/>
                  </a:lnTo>
                  <a:lnTo>
                    <a:pt x="904" y="3030"/>
                  </a:lnTo>
                  <a:lnTo>
                    <a:pt x="1091" y="2938"/>
                  </a:lnTo>
                  <a:lnTo>
                    <a:pt x="1307" y="2598"/>
                  </a:lnTo>
                  <a:lnTo>
                    <a:pt x="1318" y="2597"/>
                  </a:lnTo>
                  <a:lnTo>
                    <a:pt x="1348" y="2593"/>
                  </a:lnTo>
                  <a:lnTo>
                    <a:pt x="1392" y="2589"/>
                  </a:lnTo>
                  <a:lnTo>
                    <a:pt x="1446" y="2583"/>
                  </a:lnTo>
                  <a:lnTo>
                    <a:pt x="1507" y="2577"/>
                  </a:lnTo>
                  <a:lnTo>
                    <a:pt x="1569" y="2572"/>
                  </a:lnTo>
                  <a:lnTo>
                    <a:pt x="1627" y="2568"/>
                  </a:lnTo>
                  <a:lnTo>
                    <a:pt x="1679" y="2566"/>
                  </a:lnTo>
                  <a:lnTo>
                    <a:pt x="1725" y="2568"/>
                  </a:lnTo>
                  <a:lnTo>
                    <a:pt x="1773" y="2570"/>
                  </a:lnTo>
                  <a:lnTo>
                    <a:pt x="1798" y="2572"/>
                  </a:lnTo>
                  <a:lnTo>
                    <a:pt x="1821" y="2577"/>
                  </a:lnTo>
                  <a:lnTo>
                    <a:pt x="1844" y="2582"/>
                  </a:lnTo>
                  <a:lnTo>
                    <a:pt x="1867" y="2590"/>
                  </a:lnTo>
                  <a:lnTo>
                    <a:pt x="1877" y="2594"/>
                  </a:lnTo>
                  <a:lnTo>
                    <a:pt x="1888" y="2599"/>
                  </a:lnTo>
                  <a:lnTo>
                    <a:pt x="1897" y="2605"/>
                  </a:lnTo>
                  <a:lnTo>
                    <a:pt x="1907" y="2612"/>
                  </a:lnTo>
                  <a:lnTo>
                    <a:pt x="1917" y="2619"/>
                  </a:lnTo>
                  <a:lnTo>
                    <a:pt x="1925" y="2627"/>
                  </a:lnTo>
                  <a:lnTo>
                    <a:pt x="1934" y="2635"/>
                  </a:lnTo>
                  <a:lnTo>
                    <a:pt x="1943" y="2645"/>
                  </a:lnTo>
                  <a:lnTo>
                    <a:pt x="1950" y="2655"/>
                  </a:lnTo>
                  <a:lnTo>
                    <a:pt x="1957" y="2666"/>
                  </a:lnTo>
                  <a:lnTo>
                    <a:pt x="1964" y="2677"/>
                  </a:lnTo>
                  <a:lnTo>
                    <a:pt x="1969" y="2690"/>
                  </a:lnTo>
                  <a:lnTo>
                    <a:pt x="1974" y="2704"/>
                  </a:lnTo>
                  <a:lnTo>
                    <a:pt x="1980" y="2718"/>
                  </a:lnTo>
                  <a:lnTo>
                    <a:pt x="1983" y="2735"/>
                  </a:lnTo>
                  <a:lnTo>
                    <a:pt x="1987" y="2751"/>
                  </a:lnTo>
                  <a:lnTo>
                    <a:pt x="1993" y="2788"/>
                  </a:lnTo>
                  <a:lnTo>
                    <a:pt x="1997" y="2830"/>
                  </a:lnTo>
                  <a:lnTo>
                    <a:pt x="2004" y="2876"/>
                  </a:lnTo>
                  <a:lnTo>
                    <a:pt x="2011" y="2926"/>
                  </a:lnTo>
                  <a:lnTo>
                    <a:pt x="2021" y="2977"/>
                  </a:lnTo>
                  <a:lnTo>
                    <a:pt x="2034" y="3032"/>
                  </a:lnTo>
                  <a:lnTo>
                    <a:pt x="2041" y="3060"/>
                  </a:lnTo>
                  <a:lnTo>
                    <a:pt x="2049" y="3088"/>
                  </a:lnTo>
                  <a:lnTo>
                    <a:pt x="2058" y="3116"/>
                  </a:lnTo>
                  <a:lnTo>
                    <a:pt x="2069" y="3146"/>
                  </a:lnTo>
                  <a:lnTo>
                    <a:pt x="2080" y="3175"/>
                  </a:lnTo>
                  <a:lnTo>
                    <a:pt x="2092" y="3204"/>
                  </a:lnTo>
                  <a:lnTo>
                    <a:pt x="2107" y="3233"/>
                  </a:lnTo>
                  <a:lnTo>
                    <a:pt x="2122" y="3263"/>
                  </a:lnTo>
                  <a:lnTo>
                    <a:pt x="2139" y="3292"/>
                  </a:lnTo>
                  <a:lnTo>
                    <a:pt x="2157" y="3321"/>
                  </a:lnTo>
                  <a:lnTo>
                    <a:pt x="2178" y="3349"/>
                  </a:lnTo>
                  <a:lnTo>
                    <a:pt x="2201" y="3377"/>
                  </a:lnTo>
                  <a:lnTo>
                    <a:pt x="2224" y="3405"/>
                  </a:lnTo>
                  <a:lnTo>
                    <a:pt x="2250" y="3433"/>
                  </a:lnTo>
                  <a:lnTo>
                    <a:pt x="2278" y="3460"/>
                  </a:lnTo>
                  <a:lnTo>
                    <a:pt x="2308" y="3487"/>
                  </a:lnTo>
                  <a:lnTo>
                    <a:pt x="2340" y="3512"/>
                  </a:lnTo>
                  <a:lnTo>
                    <a:pt x="2375" y="3538"/>
                  </a:lnTo>
                  <a:lnTo>
                    <a:pt x="2411" y="3563"/>
                  </a:lnTo>
                  <a:lnTo>
                    <a:pt x="2451" y="3586"/>
                  </a:lnTo>
                  <a:lnTo>
                    <a:pt x="2606" y="4050"/>
                  </a:lnTo>
                  <a:lnTo>
                    <a:pt x="3099" y="4545"/>
                  </a:lnTo>
                  <a:lnTo>
                    <a:pt x="3563" y="4545"/>
                  </a:lnTo>
                  <a:lnTo>
                    <a:pt x="3562" y="4528"/>
                  </a:lnTo>
                  <a:lnTo>
                    <a:pt x="3562" y="4478"/>
                  </a:lnTo>
                  <a:lnTo>
                    <a:pt x="3560" y="4406"/>
                  </a:lnTo>
                  <a:lnTo>
                    <a:pt x="3558" y="4316"/>
                  </a:lnTo>
                  <a:lnTo>
                    <a:pt x="3555" y="4217"/>
                  </a:lnTo>
                  <a:lnTo>
                    <a:pt x="3549" y="4114"/>
                  </a:lnTo>
                  <a:lnTo>
                    <a:pt x="3545" y="4064"/>
                  </a:lnTo>
                  <a:lnTo>
                    <a:pt x="3541" y="4015"/>
                  </a:lnTo>
                  <a:lnTo>
                    <a:pt x="3536" y="3969"/>
                  </a:lnTo>
                  <a:lnTo>
                    <a:pt x="3530" y="3926"/>
                  </a:lnTo>
                  <a:lnTo>
                    <a:pt x="3529" y="3905"/>
                  </a:lnTo>
                  <a:lnTo>
                    <a:pt x="3530" y="3883"/>
                  </a:lnTo>
                  <a:lnTo>
                    <a:pt x="3534" y="3861"/>
                  </a:lnTo>
                  <a:lnTo>
                    <a:pt x="3538" y="3836"/>
                  </a:lnTo>
                  <a:lnTo>
                    <a:pt x="3546" y="3811"/>
                  </a:lnTo>
                  <a:lnTo>
                    <a:pt x="3555" y="3786"/>
                  </a:lnTo>
                  <a:lnTo>
                    <a:pt x="3566" y="3759"/>
                  </a:lnTo>
                  <a:lnTo>
                    <a:pt x="3579" y="3732"/>
                  </a:lnTo>
                  <a:lnTo>
                    <a:pt x="3593" y="3705"/>
                  </a:lnTo>
                  <a:lnTo>
                    <a:pt x="3608" y="3677"/>
                  </a:lnTo>
                  <a:lnTo>
                    <a:pt x="3626" y="3649"/>
                  </a:lnTo>
                  <a:lnTo>
                    <a:pt x="3643" y="3621"/>
                  </a:lnTo>
                  <a:lnTo>
                    <a:pt x="3663" y="3593"/>
                  </a:lnTo>
                  <a:lnTo>
                    <a:pt x="3683" y="3565"/>
                  </a:lnTo>
                  <a:lnTo>
                    <a:pt x="3703" y="3537"/>
                  </a:lnTo>
                  <a:lnTo>
                    <a:pt x="3725" y="3509"/>
                  </a:lnTo>
                  <a:lnTo>
                    <a:pt x="3747" y="3482"/>
                  </a:lnTo>
                  <a:lnTo>
                    <a:pt x="3769" y="3455"/>
                  </a:lnTo>
                  <a:lnTo>
                    <a:pt x="3792" y="3430"/>
                  </a:lnTo>
                  <a:lnTo>
                    <a:pt x="3815" y="3404"/>
                  </a:lnTo>
                  <a:lnTo>
                    <a:pt x="3861" y="3355"/>
                  </a:lnTo>
                  <a:lnTo>
                    <a:pt x="3905" y="3310"/>
                  </a:lnTo>
                  <a:lnTo>
                    <a:pt x="3948" y="3270"/>
                  </a:lnTo>
                  <a:lnTo>
                    <a:pt x="3989" y="3236"/>
                  </a:lnTo>
                  <a:lnTo>
                    <a:pt x="4008" y="3220"/>
                  </a:lnTo>
                  <a:lnTo>
                    <a:pt x="4025" y="3206"/>
                  </a:lnTo>
                  <a:lnTo>
                    <a:pt x="4043" y="3196"/>
                  </a:lnTo>
                  <a:lnTo>
                    <a:pt x="4058" y="3185"/>
                  </a:lnTo>
                  <a:lnTo>
                    <a:pt x="4092" y="3167"/>
                  </a:lnTo>
                  <a:lnTo>
                    <a:pt x="4137" y="3145"/>
                  </a:lnTo>
                  <a:lnTo>
                    <a:pt x="4190" y="3119"/>
                  </a:lnTo>
                  <a:lnTo>
                    <a:pt x="4250" y="3092"/>
                  </a:lnTo>
                  <a:lnTo>
                    <a:pt x="4313" y="3063"/>
                  </a:lnTo>
                  <a:lnTo>
                    <a:pt x="4379" y="3034"/>
                  </a:lnTo>
                  <a:lnTo>
                    <a:pt x="4446" y="3002"/>
                  </a:lnTo>
                  <a:lnTo>
                    <a:pt x="4511" y="2970"/>
                  </a:lnTo>
                  <a:lnTo>
                    <a:pt x="4574" y="2939"/>
                  </a:lnTo>
                  <a:lnTo>
                    <a:pt x="4632" y="2907"/>
                  </a:lnTo>
                  <a:lnTo>
                    <a:pt x="4658" y="2892"/>
                  </a:lnTo>
                  <a:lnTo>
                    <a:pt x="4683" y="2877"/>
                  </a:lnTo>
                  <a:lnTo>
                    <a:pt x="4705" y="2863"/>
                  </a:lnTo>
                  <a:lnTo>
                    <a:pt x="4725" y="2848"/>
                  </a:lnTo>
                  <a:lnTo>
                    <a:pt x="4741" y="2834"/>
                  </a:lnTo>
                  <a:lnTo>
                    <a:pt x="4757" y="2821"/>
                  </a:lnTo>
                  <a:lnTo>
                    <a:pt x="4767" y="2807"/>
                  </a:lnTo>
                  <a:lnTo>
                    <a:pt x="4775" y="2795"/>
                  </a:lnTo>
                  <a:lnTo>
                    <a:pt x="4780" y="2782"/>
                  </a:lnTo>
                  <a:lnTo>
                    <a:pt x="4780" y="2772"/>
                  </a:lnTo>
                  <a:lnTo>
                    <a:pt x="4776" y="2761"/>
                  </a:lnTo>
                  <a:lnTo>
                    <a:pt x="4769" y="2751"/>
                  </a:lnTo>
                  <a:lnTo>
                    <a:pt x="4741" y="2725"/>
                  </a:lnTo>
                  <a:lnTo>
                    <a:pt x="4718" y="2699"/>
                  </a:lnTo>
                  <a:lnTo>
                    <a:pt x="4698" y="2676"/>
                  </a:lnTo>
                  <a:lnTo>
                    <a:pt x="4682" y="2654"/>
                  </a:lnTo>
                  <a:lnTo>
                    <a:pt x="4669" y="2633"/>
                  </a:lnTo>
                  <a:lnTo>
                    <a:pt x="4658" y="2613"/>
                  </a:lnTo>
                  <a:lnTo>
                    <a:pt x="4651" y="2594"/>
                  </a:lnTo>
                  <a:lnTo>
                    <a:pt x="4647" y="2578"/>
                  </a:lnTo>
                  <a:lnTo>
                    <a:pt x="4644" y="2562"/>
                  </a:lnTo>
                  <a:lnTo>
                    <a:pt x="4644" y="2548"/>
                  </a:lnTo>
                  <a:lnTo>
                    <a:pt x="4648" y="2536"/>
                  </a:lnTo>
                  <a:lnTo>
                    <a:pt x="4653" y="2524"/>
                  </a:lnTo>
                  <a:lnTo>
                    <a:pt x="4660" y="2515"/>
                  </a:lnTo>
                  <a:lnTo>
                    <a:pt x="4669" y="2508"/>
                  </a:lnTo>
                  <a:lnTo>
                    <a:pt x="4679" y="2501"/>
                  </a:lnTo>
                  <a:lnTo>
                    <a:pt x="4691" y="2497"/>
                  </a:lnTo>
                  <a:lnTo>
                    <a:pt x="4705" y="2495"/>
                  </a:lnTo>
                  <a:lnTo>
                    <a:pt x="4720" y="2494"/>
                  </a:lnTo>
                  <a:lnTo>
                    <a:pt x="4736" y="2495"/>
                  </a:lnTo>
                  <a:lnTo>
                    <a:pt x="4753" y="2497"/>
                  </a:lnTo>
                  <a:lnTo>
                    <a:pt x="4771" y="2502"/>
                  </a:lnTo>
                  <a:lnTo>
                    <a:pt x="4789" y="2509"/>
                  </a:lnTo>
                  <a:lnTo>
                    <a:pt x="4809" y="2518"/>
                  </a:lnTo>
                  <a:lnTo>
                    <a:pt x="4829" y="2529"/>
                  </a:lnTo>
                  <a:lnTo>
                    <a:pt x="4849" y="2542"/>
                  </a:lnTo>
                  <a:lnTo>
                    <a:pt x="4869" y="2556"/>
                  </a:lnTo>
                  <a:lnTo>
                    <a:pt x="4890" y="2573"/>
                  </a:lnTo>
                  <a:lnTo>
                    <a:pt x="4910" y="2592"/>
                  </a:lnTo>
                  <a:lnTo>
                    <a:pt x="4929" y="2613"/>
                  </a:lnTo>
                  <a:lnTo>
                    <a:pt x="4948" y="2636"/>
                  </a:lnTo>
                  <a:lnTo>
                    <a:pt x="4967" y="2662"/>
                  </a:lnTo>
                  <a:lnTo>
                    <a:pt x="4985" y="2690"/>
                  </a:lnTo>
                  <a:lnTo>
                    <a:pt x="5200" y="250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8" name="Freeform 159"/>
            <p:cNvSpPr/>
            <p:nvPr/>
          </p:nvSpPr>
          <p:spPr>
            <a:xfrm>
              <a:off x="3360240" y="3306240"/>
              <a:ext cx="2285280" cy="2063160"/>
            </a:xfrm>
            <a:custGeom>
              <a:avLst/>
              <a:gdLst>
                <a:gd name="textAreaLeft" fmla="*/ 0 w 2285280"/>
                <a:gd name="textAreaRight" fmla="*/ 2285640 w 2285280"/>
                <a:gd name="textAreaTop" fmla="*/ 0 h 2063160"/>
                <a:gd name="textAreaBottom" fmla="*/ 2063520 h 2063160"/>
              </a:gdLst>
              <a:ahLst/>
              <a:rect l="textAreaLeft" t="textAreaTop" r="textAreaRight" b="textAreaBottom"/>
              <a:pathLst>
                <a:path w="5200" h="4545">
                  <a:moveTo>
                    <a:pt x="5200" y="2503"/>
                  </a:moveTo>
                  <a:lnTo>
                    <a:pt x="5184" y="1809"/>
                  </a:lnTo>
                  <a:lnTo>
                    <a:pt x="5164" y="1787"/>
                  </a:lnTo>
                  <a:lnTo>
                    <a:pt x="5146" y="1764"/>
                  </a:lnTo>
                  <a:lnTo>
                    <a:pt x="5136" y="1752"/>
                  </a:lnTo>
                  <a:lnTo>
                    <a:pt x="5128" y="1739"/>
                  </a:lnTo>
                  <a:lnTo>
                    <a:pt x="5120" y="1725"/>
                  </a:lnTo>
                  <a:lnTo>
                    <a:pt x="5112" y="1711"/>
                  </a:lnTo>
                  <a:lnTo>
                    <a:pt x="5103" y="1696"/>
                  </a:lnTo>
                  <a:lnTo>
                    <a:pt x="5096" y="1680"/>
                  </a:lnTo>
                  <a:lnTo>
                    <a:pt x="5089" y="1663"/>
                  </a:lnTo>
                  <a:lnTo>
                    <a:pt x="5082" y="1646"/>
                  </a:lnTo>
                  <a:lnTo>
                    <a:pt x="5071" y="1610"/>
                  </a:lnTo>
                  <a:lnTo>
                    <a:pt x="5059" y="1569"/>
                  </a:lnTo>
                  <a:lnTo>
                    <a:pt x="5050" y="1524"/>
                  </a:lnTo>
                  <a:lnTo>
                    <a:pt x="5040" y="1477"/>
                  </a:lnTo>
                  <a:lnTo>
                    <a:pt x="5033" y="1423"/>
                  </a:lnTo>
                  <a:lnTo>
                    <a:pt x="5028" y="1366"/>
                  </a:lnTo>
                  <a:lnTo>
                    <a:pt x="5023" y="1304"/>
                  </a:lnTo>
                  <a:lnTo>
                    <a:pt x="5019" y="1237"/>
                  </a:lnTo>
                  <a:lnTo>
                    <a:pt x="5017" y="1165"/>
                  </a:lnTo>
                  <a:lnTo>
                    <a:pt x="5017" y="1086"/>
                  </a:lnTo>
                  <a:lnTo>
                    <a:pt x="5004" y="1076"/>
                  </a:lnTo>
                  <a:lnTo>
                    <a:pt x="4988" y="1064"/>
                  </a:lnTo>
                  <a:lnTo>
                    <a:pt x="4969" y="1053"/>
                  </a:lnTo>
                  <a:lnTo>
                    <a:pt x="4947" y="1039"/>
                  </a:lnTo>
                  <a:lnTo>
                    <a:pt x="4922" y="1026"/>
                  </a:lnTo>
                  <a:lnTo>
                    <a:pt x="4896" y="1010"/>
                  </a:lnTo>
                  <a:lnTo>
                    <a:pt x="4866" y="996"/>
                  </a:lnTo>
                  <a:lnTo>
                    <a:pt x="4836" y="981"/>
                  </a:lnTo>
                  <a:lnTo>
                    <a:pt x="4769" y="951"/>
                  </a:lnTo>
                  <a:lnTo>
                    <a:pt x="4698" y="921"/>
                  </a:lnTo>
                  <a:lnTo>
                    <a:pt x="4623" y="891"/>
                  </a:lnTo>
                  <a:lnTo>
                    <a:pt x="4547" y="864"/>
                  </a:lnTo>
                  <a:lnTo>
                    <a:pt x="4509" y="852"/>
                  </a:lnTo>
                  <a:lnTo>
                    <a:pt x="4472" y="840"/>
                  </a:lnTo>
                  <a:lnTo>
                    <a:pt x="4434" y="828"/>
                  </a:lnTo>
                  <a:lnTo>
                    <a:pt x="4398" y="819"/>
                  </a:lnTo>
                  <a:lnTo>
                    <a:pt x="4363" y="810"/>
                  </a:lnTo>
                  <a:lnTo>
                    <a:pt x="4329" y="803"/>
                  </a:lnTo>
                  <a:lnTo>
                    <a:pt x="4296" y="797"/>
                  </a:lnTo>
                  <a:lnTo>
                    <a:pt x="4265" y="792"/>
                  </a:lnTo>
                  <a:lnTo>
                    <a:pt x="4236" y="789"/>
                  </a:lnTo>
                  <a:lnTo>
                    <a:pt x="4209" y="787"/>
                  </a:lnTo>
                  <a:lnTo>
                    <a:pt x="4184" y="787"/>
                  </a:lnTo>
                  <a:lnTo>
                    <a:pt x="4162" y="791"/>
                  </a:lnTo>
                  <a:lnTo>
                    <a:pt x="4142" y="794"/>
                  </a:lnTo>
                  <a:lnTo>
                    <a:pt x="4126" y="801"/>
                  </a:lnTo>
                  <a:lnTo>
                    <a:pt x="4113" y="810"/>
                  </a:lnTo>
                  <a:lnTo>
                    <a:pt x="4104" y="821"/>
                  </a:lnTo>
                  <a:lnTo>
                    <a:pt x="4080" y="856"/>
                  </a:lnTo>
                  <a:lnTo>
                    <a:pt x="4059" y="884"/>
                  </a:lnTo>
                  <a:lnTo>
                    <a:pt x="4049" y="896"/>
                  </a:lnTo>
                  <a:lnTo>
                    <a:pt x="4039" y="907"/>
                  </a:lnTo>
                  <a:lnTo>
                    <a:pt x="4031" y="916"/>
                  </a:lnTo>
                  <a:lnTo>
                    <a:pt x="4022" y="923"/>
                  </a:lnTo>
                  <a:lnTo>
                    <a:pt x="4014" y="930"/>
                  </a:lnTo>
                  <a:lnTo>
                    <a:pt x="4007" y="935"/>
                  </a:lnTo>
                  <a:lnTo>
                    <a:pt x="4000" y="939"/>
                  </a:lnTo>
                  <a:lnTo>
                    <a:pt x="3993" y="942"/>
                  </a:lnTo>
                  <a:lnTo>
                    <a:pt x="3986" y="944"/>
                  </a:lnTo>
                  <a:lnTo>
                    <a:pt x="3980" y="945"/>
                  </a:lnTo>
                  <a:lnTo>
                    <a:pt x="3974" y="945"/>
                  </a:lnTo>
                  <a:lnTo>
                    <a:pt x="3968" y="944"/>
                  </a:lnTo>
                  <a:lnTo>
                    <a:pt x="3963" y="943"/>
                  </a:lnTo>
                  <a:lnTo>
                    <a:pt x="3959" y="940"/>
                  </a:lnTo>
                  <a:lnTo>
                    <a:pt x="3954" y="937"/>
                  </a:lnTo>
                  <a:lnTo>
                    <a:pt x="3949" y="933"/>
                  </a:lnTo>
                  <a:lnTo>
                    <a:pt x="3942" y="925"/>
                  </a:lnTo>
                  <a:lnTo>
                    <a:pt x="3937" y="915"/>
                  </a:lnTo>
                  <a:lnTo>
                    <a:pt x="3931" y="903"/>
                  </a:lnTo>
                  <a:lnTo>
                    <a:pt x="3926" y="891"/>
                  </a:lnTo>
                  <a:lnTo>
                    <a:pt x="3922" y="880"/>
                  </a:lnTo>
                  <a:lnTo>
                    <a:pt x="3919" y="868"/>
                  </a:lnTo>
                  <a:lnTo>
                    <a:pt x="3917" y="862"/>
                  </a:lnTo>
                  <a:lnTo>
                    <a:pt x="3913" y="857"/>
                  </a:lnTo>
                  <a:lnTo>
                    <a:pt x="3907" y="854"/>
                  </a:lnTo>
                  <a:lnTo>
                    <a:pt x="3900" y="850"/>
                  </a:lnTo>
                  <a:lnTo>
                    <a:pt x="3893" y="848"/>
                  </a:lnTo>
                  <a:lnTo>
                    <a:pt x="3884" y="847"/>
                  </a:lnTo>
                  <a:lnTo>
                    <a:pt x="3873" y="846"/>
                  </a:lnTo>
                  <a:lnTo>
                    <a:pt x="3862" y="845"/>
                  </a:lnTo>
                  <a:lnTo>
                    <a:pt x="3837" y="845"/>
                  </a:lnTo>
                  <a:lnTo>
                    <a:pt x="3808" y="847"/>
                  </a:lnTo>
                  <a:lnTo>
                    <a:pt x="3778" y="850"/>
                  </a:lnTo>
                  <a:lnTo>
                    <a:pt x="3746" y="854"/>
                  </a:lnTo>
                  <a:lnTo>
                    <a:pt x="3680" y="863"/>
                  </a:lnTo>
                  <a:lnTo>
                    <a:pt x="3615" y="870"/>
                  </a:lnTo>
                  <a:lnTo>
                    <a:pt x="3586" y="873"/>
                  </a:lnTo>
                  <a:lnTo>
                    <a:pt x="3559" y="873"/>
                  </a:lnTo>
                  <a:lnTo>
                    <a:pt x="3546" y="873"/>
                  </a:lnTo>
                  <a:lnTo>
                    <a:pt x="3536" y="871"/>
                  </a:lnTo>
                  <a:lnTo>
                    <a:pt x="3525" y="870"/>
                  </a:lnTo>
                  <a:lnTo>
                    <a:pt x="3516" y="868"/>
                  </a:lnTo>
                  <a:lnTo>
                    <a:pt x="3500" y="861"/>
                  </a:lnTo>
                  <a:lnTo>
                    <a:pt x="3483" y="853"/>
                  </a:lnTo>
                  <a:lnTo>
                    <a:pt x="3467" y="845"/>
                  </a:lnTo>
                  <a:lnTo>
                    <a:pt x="3453" y="835"/>
                  </a:lnTo>
                  <a:lnTo>
                    <a:pt x="3439" y="825"/>
                  </a:lnTo>
                  <a:lnTo>
                    <a:pt x="3426" y="814"/>
                  </a:lnTo>
                  <a:lnTo>
                    <a:pt x="3414" y="804"/>
                  </a:lnTo>
                  <a:lnTo>
                    <a:pt x="3404" y="793"/>
                  </a:lnTo>
                  <a:lnTo>
                    <a:pt x="3372" y="758"/>
                  </a:lnTo>
                  <a:lnTo>
                    <a:pt x="3361" y="743"/>
                  </a:lnTo>
                  <a:lnTo>
                    <a:pt x="3356" y="748"/>
                  </a:lnTo>
                  <a:lnTo>
                    <a:pt x="3344" y="759"/>
                  </a:lnTo>
                  <a:lnTo>
                    <a:pt x="3335" y="766"/>
                  </a:lnTo>
                  <a:lnTo>
                    <a:pt x="3324" y="775"/>
                  </a:lnTo>
                  <a:lnTo>
                    <a:pt x="3313" y="783"/>
                  </a:lnTo>
                  <a:lnTo>
                    <a:pt x="3299" y="791"/>
                  </a:lnTo>
                  <a:lnTo>
                    <a:pt x="3284" y="799"/>
                  </a:lnTo>
                  <a:lnTo>
                    <a:pt x="3267" y="805"/>
                  </a:lnTo>
                  <a:lnTo>
                    <a:pt x="3250" y="811"/>
                  </a:lnTo>
                  <a:lnTo>
                    <a:pt x="3231" y="814"/>
                  </a:lnTo>
                  <a:lnTo>
                    <a:pt x="3220" y="815"/>
                  </a:lnTo>
                  <a:lnTo>
                    <a:pt x="3210" y="815"/>
                  </a:lnTo>
                  <a:lnTo>
                    <a:pt x="3201" y="815"/>
                  </a:lnTo>
                  <a:lnTo>
                    <a:pt x="3189" y="814"/>
                  </a:lnTo>
                  <a:lnTo>
                    <a:pt x="3178" y="813"/>
                  </a:lnTo>
                  <a:lnTo>
                    <a:pt x="3168" y="811"/>
                  </a:lnTo>
                  <a:lnTo>
                    <a:pt x="3156" y="808"/>
                  </a:lnTo>
                  <a:lnTo>
                    <a:pt x="3145" y="804"/>
                  </a:lnTo>
                  <a:lnTo>
                    <a:pt x="3122" y="794"/>
                  </a:lnTo>
                  <a:lnTo>
                    <a:pt x="3100" y="784"/>
                  </a:lnTo>
                  <a:lnTo>
                    <a:pt x="3079" y="771"/>
                  </a:lnTo>
                  <a:lnTo>
                    <a:pt x="3058" y="758"/>
                  </a:lnTo>
                  <a:lnTo>
                    <a:pt x="3016" y="730"/>
                  </a:lnTo>
                  <a:lnTo>
                    <a:pt x="2972" y="702"/>
                  </a:lnTo>
                  <a:lnTo>
                    <a:pt x="2947" y="688"/>
                  </a:lnTo>
                  <a:lnTo>
                    <a:pt x="2923" y="675"/>
                  </a:lnTo>
                  <a:lnTo>
                    <a:pt x="2896" y="665"/>
                  </a:lnTo>
                  <a:lnTo>
                    <a:pt x="2867" y="654"/>
                  </a:lnTo>
                  <a:lnTo>
                    <a:pt x="2851" y="650"/>
                  </a:lnTo>
                  <a:lnTo>
                    <a:pt x="2836" y="646"/>
                  </a:lnTo>
                  <a:lnTo>
                    <a:pt x="2820" y="643"/>
                  </a:lnTo>
                  <a:lnTo>
                    <a:pt x="2802" y="639"/>
                  </a:lnTo>
                  <a:lnTo>
                    <a:pt x="2785" y="637"/>
                  </a:lnTo>
                  <a:lnTo>
                    <a:pt x="2766" y="636"/>
                  </a:lnTo>
                  <a:lnTo>
                    <a:pt x="2747" y="634"/>
                  </a:lnTo>
                  <a:lnTo>
                    <a:pt x="2726" y="634"/>
                  </a:lnTo>
                  <a:lnTo>
                    <a:pt x="2759" y="47"/>
                  </a:lnTo>
                  <a:lnTo>
                    <a:pt x="1857" y="0"/>
                  </a:lnTo>
                  <a:lnTo>
                    <a:pt x="1399" y="1533"/>
                  </a:lnTo>
                  <a:lnTo>
                    <a:pt x="8" y="1501"/>
                  </a:lnTo>
                  <a:lnTo>
                    <a:pt x="0" y="1668"/>
                  </a:lnTo>
                  <a:lnTo>
                    <a:pt x="503" y="2350"/>
                  </a:lnTo>
                  <a:lnTo>
                    <a:pt x="472" y="2566"/>
                  </a:lnTo>
                  <a:lnTo>
                    <a:pt x="904" y="3030"/>
                  </a:lnTo>
                  <a:lnTo>
                    <a:pt x="1091" y="2938"/>
                  </a:lnTo>
                  <a:lnTo>
                    <a:pt x="1307" y="2598"/>
                  </a:lnTo>
                  <a:lnTo>
                    <a:pt x="1318" y="2597"/>
                  </a:lnTo>
                  <a:lnTo>
                    <a:pt x="1348" y="2593"/>
                  </a:lnTo>
                  <a:lnTo>
                    <a:pt x="1392" y="2589"/>
                  </a:lnTo>
                  <a:lnTo>
                    <a:pt x="1446" y="2583"/>
                  </a:lnTo>
                  <a:lnTo>
                    <a:pt x="1507" y="2577"/>
                  </a:lnTo>
                  <a:lnTo>
                    <a:pt x="1569" y="2572"/>
                  </a:lnTo>
                  <a:lnTo>
                    <a:pt x="1627" y="2568"/>
                  </a:lnTo>
                  <a:lnTo>
                    <a:pt x="1679" y="2566"/>
                  </a:lnTo>
                  <a:lnTo>
                    <a:pt x="1725" y="2568"/>
                  </a:lnTo>
                  <a:lnTo>
                    <a:pt x="1773" y="2570"/>
                  </a:lnTo>
                  <a:lnTo>
                    <a:pt x="1798" y="2572"/>
                  </a:lnTo>
                  <a:lnTo>
                    <a:pt x="1821" y="2577"/>
                  </a:lnTo>
                  <a:lnTo>
                    <a:pt x="1844" y="2582"/>
                  </a:lnTo>
                  <a:lnTo>
                    <a:pt x="1867" y="2590"/>
                  </a:lnTo>
                  <a:lnTo>
                    <a:pt x="1877" y="2594"/>
                  </a:lnTo>
                  <a:lnTo>
                    <a:pt x="1888" y="2599"/>
                  </a:lnTo>
                  <a:lnTo>
                    <a:pt x="1897" y="2605"/>
                  </a:lnTo>
                  <a:lnTo>
                    <a:pt x="1907" y="2612"/>
                  </a:lnTo>
                  <a:lnTo>
                    <a:pt x="1917" y="2619"/>
                  </a:lnTo>
                  <a:lnTo>
                    <a:pt x="1925" y="2627"/>
                  </a:lnTo>
                  <a:lnTo>
                    <a:pt x="1934" y="2635"/>
                  </a:lnTo>
                  <a:lnTo>
                    <a:pt x="1943" y="2645"/>
                  </a:lnTo>
                  <a:lnTo>
                    <a:pt x="1950" y="2655"/>
                  </a:lnTo>
                  <a:lnTo>
                    <a:pt x="1957" y="2666"/>
                  </a:lnTo>
                  <a:lnTo>
                    <a:pt x="1964" y="2677"/>
                  </a:lnTo>
                  <a:lnTo>
                    <a:pt x="1969" y="2690"/>
                  </a:lnTo>
                  <a:lnTo>
                    <a:pt x="1974" y="2704"/>
                  </a:lnTo>
                  <a:lnTo>
                    <a:pt x="1980" y="2718"/>
                  </a:lnTo>
                  <a:lnTo>
                    <a:pt x="1983" y="2735"/>
                  </a:lnTo>
                  <a:lnTo>
                    <a:pt x="1987" y="2751"/>
                  </a:lnTo>
                  <a:lnTo>
                    <a:pt x="1993" y="2788"/>
                  </a:lnTo>
                  <a:lnTo>
                    <a:pt x="1997" y="2830"/>
                  </a:lnTo>
                  <a:lnTo>
                    <a:pt x="2004" y="2876"/>
                  </a:lnTo>
                  <a:lnTo>
                    <a:pt x="2011" y="2926"/>
                  </a:lnTo>
                  <a:lnTo>
                    <a:pt x="2021" y="2977"/>
                  </a:lnTo>
                  <a:lnTo>
                    <a:pt x="2034" y="3032"/>
                  </a:lnTo>
                  <a:lnTo>
                    <a:pt x="2041" y="3060"/>
                  </a:lnTo>
                  <a:lnTo>
                    <a:pt x="2049" y="3088"/>
                  </a:lnTo>
                  <a:lnTo>
                    <a:pt x="2058" y="3116"/>
                  </a:lnTo>
                  <a:lnTo>
                    <a:pt x="2069" y="3146"/>
                  </a:lnTo>
                  <a:lnTo>
                    <a:pt x="2080" y="3175"/>
                  </a:lnTo>
                  <a:lnTo>
                    <a:pt x="2092" y="3204"/>
                  </a:lnTo>
                  <a:lnTo>
                    <a:pt x="2107" y="3233"/>
                  </a:lnTo>
                  <a:lnTo>
                    <a:pt x="2122" y="3263"/>
                  </a:lnTo>
                  <a:lnTo>
                    <a:pt x="2139" y="3292"/>
                  </a:lnTo>
                  <a:lnTo>
                    <a:pt x="2157" y="3321"/>
                  </a:lnTo>
                  <a:lnTo>
                    <a:pt x="2178" y="3349"/>
                  </a:lnTo>
                  <a:lnTo>
                    <a:pt x="2201" y="3377"/>
                  </a:lnTo>
                  <a:lnTo>
                    <a:pt x="2224" y="3405"/>
                  </a:lnTo>
                  <a:lnTo>
                    <a:pt x="2250" y="3433"/>
                  </a:lnTo>
                  <a:lnTo>
                    <a:pt x="2278" y="3460"/>
                  </a:lnTo>
                  <a:lnTo>
                    <a:pt x="2308" y="3487"/>
                  </a:lnTo>
                  <a:lnTo>
                    <a:pt x="2340" y="3512"/>
                  </a:lnTo>
                  <a:lnTo>
                    <a:pt x="2375" y="3538"/>
                  </a:lnTo>
                  <a:lnTo>
                    <a:pt x="2411" y="3563"/>
                  </a:lnTo>
                  <a:lnTo>
                    <a:pt x="2451" y="3586"/>
                  </a:lnTo>
                  <a:lnTo>
                    <a:pt x="2606" y="4050"/>
                  </a:lnTo>
                  <a:lnTo>
                    <a:pt x="3099" y="4545"/>
                  </a:lnTo>
                  <a:lnTo>
                    <a:pt x="3563" y="4545"/>
                  </a:lnTo>
                  <a:lnTo>
                    <a:pt x="3562" y="4528"/>
                  </a:lnTo>
                  <a:lnTo>
                    <a:pt x="3562" y="4478"/>
                  </a:lnTo>
                  <a:lnTo>
                    <a:pt x="3560" y="4406"/>
                  </a:lnTo>
                  <a:lnTo>
                    <a:pt x="3558" y="4316"/>
                  </a:lnTo>
                  <a:lnTo>
                    <a:pt x="3555" y="4217"/>
                  </a:lnTo>
                  <a:lnTo>
                    <a:pt x="3549" y="4114"/>
                  </a:lnTo>
                  <a:lnTo>
                    <a:pt x="3545" y="4064"/>
                  </a:lnTo>
                  <a:lnTo>
                    <a:pt x="3541" y="4015"/>
                  </a:lnTo>
                  <a:lnTo>
                    <a:pt x="3536" y="3969"/>
                  </a:lnTo>
                  <a:lnTo>
                    <a:pt x="3530" y="3926"/>
                  </a:lnTo>
                  <a:lnTo>
                    <a:pt x="3529" y="3905"/>
                  </a:lnTo>
                  <a:lnTo>
                    <a:pt x="3530" y="3883"/>
                  </a:lnTo>
                  <a:lnTo>
                    <a:pt x="3534" y="3861"/>
                  </a:lnTo>
                  <a:lnTo>
                    <a:pt x="3538" y="3836"/>
                  </a:lnTo>
                  <a:lnTo>
                    <a:pt x="3546" y="3811"/>
                  </a:lnTo>
                  <a:lnTo>
                    <a:pt x="3555" y="3786"/>
                  </a:lnTo>
                  <a:lnTo>
                    <a:pt x="3566" y="3759"/>
                  </a:lnTo>
                  <a:lnTo>
                    <a:pt x="3579" y="3732"/>
                  </a:lnTo>
                  <a:lnTo>
                    <a:pt x="3593" y="3705"/>
                  </a:lnTo>
                  <a:lnTo>
                    <a:pt x="3608" y="3677"/>
                  </a:lnTo>
                  <a:lnTo>
                    <a:pt x="3626" y="3649"/>
                  </a:lnTo>
                  <a:lnTo>
                    <a:pt x="3643" y="3621"/>
                  </a:lnTo>
                  <a:lnTo>
                    <a:pt x="3663" y="3593"/>
                  </a:lnTo>
                  <a:lnTo>
                    <a:pt x="3683" y="3565"/>
                  </a:lnTo>
                  <a:lnTo>
                    <a:pt x="3703" y="3537"/>
                  </a:lnTo>
                  <a:lnTo>
                    <a:pt x="3725" y="3509"/>
                  </a:lnTo>
                  <a:lnTo>
                    <a:pt x="3747" y="3482"/>
                  </a:lnTo>
                  <a:lnTo>
                    <a:pt x="3769" y="3455"/>
                  </a:lnTo>
                  <a:lnTo>
                    <a:pt x="3792" y="3430"/>
                  </a:lnTo>
                  <a:lnTo>
                    <a:pt x="3815" y="3404"/>
                  </a:lnTo>
                  <a:lnTo>
                    <a:pt x="3861" y="3355"/>
                  </a:lnTo>
                  <a:lnTo>
                    <a:pt x="3905" y="3310"/>
                  </a:lnTo>
                  <a:lnTo>
                    <a:pt x="3948" y="3270"/>
                  </a:lnTo>
                  <a:lnTo>
                    <a:pt x="3989" y="3236"/>
                  </a:lnTo>
                  <a:lnTo>
                    <a:pt x="4008" y="3220"/>
                  </a:lnTo>
                  <a:lnTo>
                    <a:pt x="4025" y="3206"/>
                  </a:lnTo>
                  <a:lnTo>
                    <a:pt x="4043" y="3196"/>
                  </a:lnTo>
                  <a:lnTo>
                    <a:pt x="4058" y="3185"/>
                  </a:lnTo>
                  <a:lnTo>
                    <a:pt x="4092" y="3167"/>
                  </a:lnTo>
                  <a:lnTo>
                    <a:pt x="4137" y="3145"/>
                  </a:lnTo>
                  <a:lnTo>
                    <a:pt x="4190" y="3119"/>
                  </a:lnTo>
                  <a:lnTo>
                    <a:pt x="4250" y="3092"/>
                  </a:lnTo>
                  <a:lnTo>
                    <a:pt x="4313" y="3063"/>
                  </a:lnTo>
                  <a:lnTo>
                    <a:pt x="4379" y="3034"/>
                  </a:lnTo>
                  <a:lnTo>
                    <a:pt x="4446" y="3002"/>
                  </a:lnTo>
                  <a:lnTo>
                    <a:pt x="4511" y="2970"/>
                  </a:lnTo>
                  <a:lnTo>
                    <a:pt x="4574" y="2939"/>
                  </a:lnTo>
                  <a:lnTo>
                    <a:pt x="4632" y="2907"/>
                  </a:lnTo>
                  <a:lnTo>
                    <a:pt x="4658" y="2892"/>
                  </a:lnTo>
                  <a:lnTo>
                    <a:pt x="4683" y="2877"/>
                  </a:lnTo>
                  <a:lnTo>
                    <a:pt x="4705" y="2863"/>
                  </a:lnTo>
                  <a:lnTo>
                    <a:pt x="4725" y="2848"/>
                  </a:lnTo>
                  <a:lnTo>
                    <a:pt x="4741" y="2834"/>
                  </a:lnTo>
                  <a:lnTo>
                    <a:pt x="4757" y="2821"/>
                  </a:lnTo>
                  <a:lnTo>
                    <a:pt x="4767" y="2807"/>
                  </a:lnTo>
                  <a:lnTo>
                    <a:pt x="4775" y="2795"/>
                  </a:lnTo>
                  <a:lnTo>
                    <a:pt x="4780" y="2782"/>
                  </a:lnTo>
                  <a:lnTo>
                    <a:pt x="4780" y="2772"/>
                  </a:lnTo>
                  <a:lnTo>
                    <a:pt x="4776" y="2761"/>
                  </a:lnTo>
                  <a:lnTo>
                    <a:pt x="4769" y="2751"/>
                  </a:lnTo>
                  <a:lnTo>
                    <a:pt x="4741" y="2725"/>
                  </a:lnTo>
                  <a:lnTo>
                    <a:pt x="4718" y="2699"/>
                  </a:lnTo>
                  <a:lnTo>
                    <a:pt x="4698" y="2676"/>
                  </a:lnTo>
                  <a:lnTo>
                    <a:pt x="4682" y="2654"/>
                  </a:lnTo>
                  <a:lnTo>
                    <a:pt x="4669" y="2633"/>
                  </a:lnTo>
                  <a:lnTo>
                    <a:pt x="4658" y="2613"/>
                  </a:lnTo>
                  <a:lnTo>
                    <a:pt x="4651" y="2594"/>
                  </a:lnTo>
                  <a:lnTo>
                    <a:pt x="4647" y="2578"/>
                  </a:lnTo>
                  <a:lnTo>
                    <a:pt x="4644" y="2562"/>
                  </a:lnTo>
                  <a:lnTo>
                    <a:pt x="4644" y="2548"/>
                  </a:lnTo>
                  <a:lnTo>
                    <a:pt x="4648" y="2536"/>
                  </a:lnTo>
                  <a:lnTo>
                    <a:pt x="4653" y="2524"/>
                  </a:lnTo>
                  <a:lnTo>
                    <a:pt x="4660" y="2515"/>
                  </a:lnTo>
                  <a:lnTo>
                    <a:pt x="4669" y="2508"/>
                  </a:lnTo>
                  <a:lnTo>
                    <a:pt x="4679" y="2501"/>
                  </a:lnTo>
                  <a:lnTo>
                    <a:pt x="4691" y="2497"/>
                  </a:lnTo>
                  <a:lnTo>
                    <a:pt x="4705" y="2495"/>
                  </a:lnTo>
                  <a:lnTo>
                    <a:pt x="4720" y="2494"/>
                  </a:lnTo>
                  <a:lnTo>
                    <a:pt x="4736" y="2495"/>
                  </a:lnTo>
                  <a:lnTo>
                    <a:pt x="4753" y="2497"/>
                  </a:lnTo>
                  <a:lnTo>
                    <a:pt x="4771" y="2502"/>
                  </a:lnTo>
                  <a:lnTo>
                    <a:pt x="4789" y="2509"/>
                  </a:lnTo>
                  <a:lnTo>
                    <a:pt x="4809" y="2518"/>
                  </a:lnTo>
                  <a:lnTo>
                    <a:pt x="4829" y="2529"/>
                  </a:lnTo>
                  <a:lnTo>
                    <a:pt x="4849" y="2542"/>
                  </a:lnTo>
                  <a:lnTo>
                    <a:pt x="4869" y="2556"/>
                  </a:lnTo>
                  <a:lnTo>
                    <a:pt x="4890" y="2573"/>
                  </a:lnTo>
                  <a:lnTo>
                    <a:pt x="4910" y="2592"/>
                  </a:lnTo>
                  <a:lnTo>
                    <a:pt x="4929" y="2613"/>
                  </a:lnTo>
                  <a:lnTo>
                    <a:pt x="4948" y="2636"/>
                  </a:lnTo>
                  <a:lnTo>
                    <a:pt x="4967" y="2662"/>
                  </a:lnTo>
                  <a:lnTo>
                    <a:pt x="4985" y="2690"/>
                  </a:lnTo>
                  <a:lnTo>
                    <a:pt x="5200" y="2503"/>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39" name="Freeform 160"/>
            <p:cNvSpPr/>
            <p:nvPr/>
          </p:nvSpPr>
          <p:spPr>
            <a:xfrm>
              <a:off x="4175280" y="3201480"/>
              <a:ext cx="1252800" cy="533160"/>
            </a:xfrm>
            <a:custGeom>
              <a:avLst/>
              <a:gdLst>
                <a:gd name="textAreaLeft" fmla="*/ 0 w 1252800"/>
                <a:gd name="textAreaRight" fmla="*/ 1253160 w 1252800"/>
                <a:gd name="textAreaTop" fmla="*/ 0 h 533160"/>
                <a:gd name="textAreaBottom" fmla="*/ 533520 h 533160"/>
              </a:gdLst>
              <a:ahLst/>
              <a:rect l="textAreaLeft" t="textAreaTop" r="textAreaRight" b="textAreaBottom"/>
              <a:pathLst>
                <a:path w="2848" h="1175">
                  <a:moveTo>
                    <a:pt x="2848" y="1152"/>
                  </a:moveTo>
                  <a:lnTo>
                    <a:pt x="2805" y="1135"/>
                  </a:lnTo>
                  <a:lnTo>
                    <a:pt x="2759" y="1118"/>
                  </a:lnTo>
                  <a:lnTo>
                    <a:pt x="2713" y="1101"/>
                  </a:lnTo>
                  <a:lnTo>
                    <a:pt x="2665" y="1085"/>
                  </a:lnTo>
                  <a:lnTo>
                    <a:pt x="2618" y="1070"/>
                  </a:lnTo>
                  <a:lnTo>
                    <a:pt x="2571" y="1056"/>
                  </a:lnTo>
                  <a:lnTo>
                    <a:pt x="2526" y="1044"/>
                  </a:lnTo>
                  <a:lnTo>
                    <a:pt x="2481" y="1034"/>
                  </a:lnTo>
                  <a:lnTo>
                    <a:pt x="2439" y="1026"/>
                  </a:lnTo>
                  <a:lnTo>
                    <a:pt x="2401" y="1020"/>
                  </a:lnTo>
                  <a:lnTo>
                    <a:pt x="2382" y="1017"/>
                  </a:lnTo>
                  <a:lnTo>
                    <a:pt x="2365" y="1016"/>
                  </a:lnTo>
                  <a:lnTo>
                    <a:pt x="2347" y="1016"/>
                  </a:lnTo>
                  <a:lnTo>
                    <a:pt x="2332" y="1016"/>
                  </a:lnTo>
                  <a:lnTo>
                    <a:pt x="2317" y="1017"/>
                  </a:lnTo>
                  <a:lnTo>
                    <a:pt x="2303" y="1020"/>
                  </a:lnTo>
                  <a:lnTo>
                    <a:pt x="2290" y="1022"/>
                  </a:lnTo>
                  <a:lnTo>
                    <a:pt x="2279" y="1027"/>
                  </a:lnTo>
                  <a:lnTo>
                    <a:pt x="2269" y="1031"/>
                  </a:lnTo>
                  <a:lnTo>
                    <a:pt x="2259" y="1037"/>
                  </a:lnTo>
                  <a:lnTo>
                    <a:pt x="2252" y="1043"/>
                  </a:lnTo>
                  <a:lnTo>
                    <a:pt x="2247" y="1051"/>
                  </a:lnTo>
                  <a:lnTo>
                    <a:pt x="2223" y="1086"/>
                  </a:lnTo>
                  <a:lnTo>
                    <a:pt x="2202" y="1114"/>
                  </a:lnTo>
                  <a:lnTo>
                    <a:pt x="2192" y="1126"/>
                  </a:lnTo>
                  <a:lnTo>
                    <a:pt x="2182" y="1137"/>
                  </a:lnTo>
                  <a:lnTo>
                    <a:pt x="2174" y="1146"/>
                  </a:lnTo>
                  <a:lnTo>
                    <a:pt x="2165" y="1153"/>
                  </a:lnTo>
                  <a:lnTo>
                    <a:pt x="2157" y="1160"/>
                  </a:lnTo>
                  <a:lnTo>
                    <a:pt x="2150" y="1165"/>
                  </a:lnTo>
                  <a:lnTo>
                    <a:pt x="2143" y="1169"/>
                  </a:lnTo>
                  <a:lnTo>
                    <a:pt x="2136" y="1172"/>
                  </a:lnTo>
                  <a:lnTo>
                    <a:pt x="2129" y="1174"/>
                  </a:lnTo>
                  <a:lnTo>
                    <a:pt x="2123" y="1175"/>
                  </a:lnTo>
                  <a:lnTo>
                    <a:pt x="2117" y="1175"/>
                  </a:lnTo>
                  <a:lnTo>
                    <a:pt x="2111" y="1174"/>
                  </a:lnTo>
                  <a:lnTo>
                    <a:pt x="2106" y="1173"/>
                  </a:lnTo>
                  <a:lnTo>
                    <a:pt x="2102" y="1170"/>
                  </a:lnTo>
                  <a:lnTo>
                    <a:pt x="2097" y="1167"/>
                  </a:lnTo>
                  <a:lnTo>
                    <a:pt x="2092" y="1163"/>
                  </a:lnTo>
                  <a:lnTo>
                    <a:pt x="2085" y="1155"/>
                  </a:lnTo>
                  <a:lnTo>
                    <a:pt x="2080" y="1145"/>
                  </a:lnTo>
                  <a:lnTo>
                    <a:pt x="2074" y="1133"/>
                  </a:lnTo>
                  <a:lnTo>
                    <a:pt x="2069" y="1121"/>
                  </a:lnTo>
                  <a:lnTo>
                    <a:pt x="2065" y="1110"/>
                  </a:lnTo>
                  <a:lnTo>
                    <a:pt x="2062" y="1098"/>
                  </a:lnTo>
                  <a:lnTo>
                    <a:pt x="2060" y="1092"/>
                  </a:lnTo>
                  <a:lnTo>
                    <a:pt x="2056" y="1087"/>
                  </a:lnTo>
                  <a:lnTo>
                    <a:pt x="2050" y="1084"/>
                  </a:lnTo>
                  <a:lnTo>
                    <a:pt x="2043" y="1080"/>
                  </a:lnTo>
                  <a:lnTo>
                    <a:pt x="2036" y="1078"/>
                  </a:lnTo>
                  <a:lnTo>
                    <a:pt x="2027" y="1077"/>
                  </a:lnTo>
                  <a:lnTo>
                    <a:pt x="2016" y="1076"/>
                  </a:lnTo>
                  <a:lnTo>
                    <a:pt x="2005" y="1075"/>
                  </a:lnTo>
                  <a:lnTo>
                    <a:pt x="1980" y="1075"/>
                  </a:lnTo>
                  <a:lnTo>
                    <a:pt x="1951" y="1077"/>
                  </a:lnTo>
                  <a:lnTo>
                    <a:pt x="1921" y="1080"/>
                  </a:lnTo>
                  <a:lnTo>
                    <a:pt x="1889" y="1084"/>
                  </a:lnTo>
                  <a:lnTo>
                    <a:pt x="1823" y="1093"/>
                  </a:lnTo>
                  <a:lnTo>
                    <a:pt x="1758" y="1100"/>
                  </a:lnTo>
                  <a:lnTo>
                    <a:pt x="1729" y="1103"/>
                  </a:lnTo>
                  <a:lnTo>
                    <a:pt x="1702" y="1103"/>
                  </a:lnTo>
                  <a:lnTo>
                    <a:pt x="1689" y="1103"/>
                  </a:lnTo>
                  <a:lnTo>
                    <a:pt x="1679" y="1101"/>
                  </a:lnTo>
                  <a:lnTo>
                    <a:pt x="1668" y="1100"/>
                  </a:lnTo>
                  <a:lnTo>
                    <a:pt x="1659" y="1098"/>
                  </a:lnTo>
                  <a:lnTo>
                    <a:pt x="1643" y="1091"/>
                  </a:lnTo>
                  <a:lnTo>
                    <a:pt x="1626" y="1083"/>
                  </a:lnTo>
                  <a:lnTo>
                    <a:pt x="1610" y="1075"/>
                  </a:lnTo>
                  <a:lnTo>
                    <a:pt x="1596" y="1065"/>
                  </a:lnTo>
                  <a:lnTo>
                    <a:pt x="1582" y="1055"/>
                  </a:lnTo>
                  <a:lnTo>
                    <a:pt x="1569" y="1044"/>
                  </a:lnTo>
                  <a:lnTo>
                    <a:pt x="1557" y="1034"/>
                  </a:lnTo>
                  <a:lnTo>
                    <a:pt x="1547" y="1023"/>
                  </a:lnTo>
                  <a:lnTo>
                    <a:pt x="1515" y="988"/>
                  </a:lnTo>
                  <a:lnTo>
                    <a:pt x="1504" y="973"/>
                  </a:lnTo>
                  <a:lnTo>
                    <a:pt x="1499" y="978"/>
                  </a:lnTo>
                  <a:lnTo>
                    <a:pt x="1487" y="989"/>
                  </a:lnTo>
                  <a:lnTo>
                    <a:pt x="1478" y="996"/>
                  </a:lnTo>
                  <a:lnTo>
                    <a:pt x="1467" y="1005"/>
                  </a:lnTo>
                  <a:lnTo>
                    <a:pt x="1456" y="1013"/>
                  </a:lnTo>
                  <a:lnTo>
                    <a:pt x="1442" y="1021"/>
                  </a:lnTo>
                  <a:lnTo>
                    <a:pt x="1427" y="1029"/>
                  </a:lnTo>
                  <a:lnTo>
                    <a:pt x="1410" y="1035"/>
                  </a:lnTo>
                  <a:lnTo>
                    <a:pt x="1393" y="1041"/>
                  </a:lnTo>
                  <a:lnTo>
                    <a:pt x="1374" y="1044"/>
                  </a:lnTo>
                  <a:lnTo>
                    <a:pt x="1363" y="1045"/>
                  </a:lnTo>
                  <a:lnTo>
                    <a:pt x="1353" y="1045"/>
                  </a:lnTo>
                  <a:lnTo>
                    <a:pt x="1344" y="1045"/>
                  </a:lnTo>
                  <a:lnTo>
                    <a:pt x="1332" y="1044"/>
                  </a:lnTo>
                  <a:lnTo>
                    <a:pt x="1321" y="1043"/>
                  </a:lnTo>
                  <a:lnTo>
                    <a:pt x="1311" y="1041"/>
                  </a:lnTo>
                  <a:lnTo>
                    <a:pt x="1299" y="1038"/>
                  </a:lnTo>
                  <a:lnTo>
                    <a:pt x="1288" y="1034"/>
                  </a:lnTo>
                  <a:lnTo>
                    <a:pt x="1265" y="1024"/>
                  </a:lnTo>
                  <a:lnTo>
                    <a:pt x="1243" y="1014"/>
                  </a:lnTo>
                  <a:lnTo>
                    <a:pt x="1222" y="1001"/>
                  </a:lnTo>
                  <a:lnTo>
                    <a:pt x="1201" y="988"/>
                  </a:lnTo>
                  <a:lnTo>
                    <a:pt x="1159" y="960"/>
                  </a:lnTo>
                  <a:lnTo>
                    <a:pt x="1115" y="932"/>
                  </a:lnTo>
                  <a:lnTo>
                    <a:pt x="1090" y="918"/>
                  </a:lnTo>
                  <a:lnTo>
                    <a:pt x="1066" y="905"/>
                  </a:lnTo>
                  <a:lnTo>
                    <a:pt x="1039" y="895"/>
                  </a:lnTo>
                  <a:lnTo>
                    <a:pt x="1010" y="884"/>
                  </a:lnTo>
                  <a:lnTo>
                    <a:pt x="994" y="880"/>
                  </a:lnTo>
                  <a:lnTo>
                    <a:pt x="979" y="876"/>
                  </a:lnTo>
                  <a:lnTo>
                    <a:pt x="963" y="873"/>
                  </a:lnTo>
                  <a:lnTo>
                    <a:pt x="945" y="869"/>
                  </a:lnTo>
                  <a:lnTo>
                    <a:pt x="928" y="867"/>
                  </a:lnTo>
                  <a:lnTo>
                    <a:pt x="909" y="866"/>
                  </a:lnTo>
                  <a:lnTo>
                    <a:pt x="890" y="864"/>
                  </a:lnTo>
                  <a:lnTo>
                    <a:pt x="869" y="864"/>
                  </a:lnTo>
                  <a:lnTo>
                    <a:pt x="902" y="277"/>
                  </a:lnTo>
                  <a:lnTo>
                    <a:pt x="0" y="230"/>
                  </a:lnTo>
                  <a:lnTo>
                    <a:pt x="69" y="0"/>
                  </a:lnTo>
                  <a:lnTo>
                    <a:pt x="2665" y="0"/>
                  </a:lnTo>
                  <a:lnTo>
                    <a:pt x="2842" y="424"/>
                  </a:lnTo>
                  <a:lnTo>
                    <a:pt x="2848" y="115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0" name="Freeform 161"/>
            <p:cNvSpPr/>
            <p:nvPr/>
          </p:nvSpPr>
          <p:spPr>
            <a:xfrm>
              <a:off x="4175280" y="3201480"/>
              <a:ext cx="1252800" cy="533160"/>
            </a:xfrm>
            <a:custGeom>
              <a:avLst/>
              <a:gdLst>
                <a:gd name="textAreaLeft" fmla="*/ 0 w 1252800"/>
                <a:gd name="textAreaRight" fmla="*/ 1253160 w 1252800"/>
                <a:gd name="textAreaTop" fmla="*/ 0 h 533160"/>
                <a:gd name="textAreaBottom" fmla="*/ 533520 h 533160"/>
              </a:gdLst>
              <a:ahLst/>
              <a:rect l="textAreaLeft" t="textAreaTop" r="textAreaRight" b="textAreaBottom"/>
              <a:pathLst>
                <a:path w="2848" h="1175">
                  <a:moveTo>
                    <a:pt x="2848" y="1152"/>
                  </a:moveTo>
                  <a:lnTo>
                    <a:pt x="2805" y="1135"/>
                  </a:lnTo>
                  <a:lnTo>
                    <a:pt x="2759" y="1118"/>
                  </a:lnTo>
                  <a:lnTo>
                    <a:pt x="2713" y="1101"/>
                  </a:lnTo>
                  <a:lnTo>
                    <a:pt x="2665" y="1085"/>
                  </a:lnTo>
                  <a:lnTo>
                    <a:pt x="2618" y="1070"/>
                  </a:lnTo>
                  <a:lnTo>
                    <a:pt x="2571" y="1056"/>
                  </a:lnTo>
                  <a:lnTo>
                    <a:pt x="2526" y="1044"/>
                  </a:lnTo>
                  <a:lnTo>
                    <a:pt x="2481" y="1034"/>
                  </a:lnTo>
                  <a:lnTo>
                    <a:pt x="2439" y="1026"/>
                  </a:lnTo>
                  <a:lnTo>
                    <a:pt x="2401" y="1020"/>
                  </a:lnTo>
                  <a:lnTo>
                    <a:pt x="2382" y="1017"/>
                  </a:lnTo>
                  <a:lnTo>
                    <a:pt x="2365" y="1016"/>
                  </a:lnTo>
                  <a:lnTo>
                    <a:pt x="2347" y="1016"/>
                  </a:lnTo>
                  <a:lnTo>
                    <a:pt x="2332" y="1016"/>
                  </a:lnTo>
                  <a:lnTo>
                    <a:pt x="2317" y="1017"/>
                  </a:lnTo>
                  <a:lnTo>
                    <a:pt x="2303" y="1020"/>
                  </a:lnTo>
                  <a:lnTo>
                    <a:pt x="2290" y="1022"/>
                  </a:lnTo>
                  <a:lnTo>
                    <a:pt x="2279" y="1027"/>
                  </a:lnTo>
                  <a:lnTo>
                    <a:pt x="2269" y="1031"/>
                  </a:lnTo>
                  <a:lnTo>
                    <a:pt x="2259" y="1037"/>
                  </a:lnTo>
                  <a:lnTo>
                    <a:pt x="2252" y="1043"/>
                  </a:lnTo>
                  <a:lnTo>
                    <a:pt x="2247" y="1051"/>
                  </a:lnTo>
                  <a:lnTo>
                    <a:pt x="2223" y="1086"/>
                  </a:lnTo>
                  <a:lnTo>
                    <a:pt x="2202" y="1114"/>
                  </a:lnTo>
                  <a:lnTo>
                    <a:pt x="2192" y="1126"/>
                  </a:lnTo>
                  <a:lnTo>
                    <a:pt x="2182" y="1137"/>
                  </a:lnTo>
                  <a:lnTo>
                    <a:pt x="2174" y="1146"/>
                  </a:lnTo>
                  <a:lnTo>
                    <a:pt x="2165" y="1153"/>
                  </a:lnTo>
                  <a:lnTo>
                    <a:pt x="2157" y="1160"/>
                  </a:lnTo>
                  <a:lnTo>
                    <a:pt x="2150" y="1165"/>
                  </a:lnTo>
                  <a:lnTo>
                    <a:pt x="2143" y="1169"/>
                  </a:lnTo>
                  <a:lnTo>
                    <a:pt x="2136" y="1172"/>
                  </a:lnTo>
                  <a:lnTo>
                    <a:pt x="2129" y="1174"/>
                  </a:lnTo>
                  <a:lnTo>
                    <a:pt x="2123" y="1175"/>
                  </a:lnTo>
                  <a:lnTo>
                    <a:pt x="2117" y="1175"/>
                  </a:lnTo>
                  <a:lnTo>
                    <a:pt x="2111" y="1174"/>
                  </a:lnTo>
                  <a:lnTo>
                    <a:pt x="2106" y="1173"/>
                  </a:lnTo>
                  <a:lnTo>
                    <a:pt x="2102" y="1170"/>
                  </a:lnTo>
                  <a:lnTo>
                    <a:pt x="2097" y="1167"/>
                  </a:lnTo>
                  <a:lnTo>
                    <a:pt x="2092" y="1163"/>
                  </a:lnTo>
                  <a:lnTo>
                    <a:pt x="2085" y="1155"/>
                  </a:lnTo>
                  <a:lnTo>
                    <a:pt x="2080" y="1145"/>
                  </a:lnTo>
                  <a:lnTo>
                    <a:pt x="2074" y="1133"/>
                  </a:lnTo>
                  <a:lnTo>
                    <a:pt x="2069" y="1121"/>
                  </a:lnTo>
                  <a:lnTo>
                    <a:pt x="2065" y="1110"/>
                  </a:lnTo>
                  <a:lnTo>
                    <a:pt x="2062" y="1098"/>
                  </a:lnTo>
                  <a:lnTo>
                    <a:pt x="2060" y="1092"/>
                  </a:lnTo>
                  <a:lnTo>
                    <a:pt x="2056" y="1087"/>
                  </a:lnTo>
                  <a:lnTo>
                    <a:pt x="2050" y="1084"/>
                  </a:lnTo>
                  <a:lnTo>
                    <a:pt x="2043" y="1080"/>
                  </a:lnTo>
                  <a:lnTo>
                    <a:pt x="2036" y="1078"/>
                  </a:lnTo>
                  <a:lnTo>
                    <a:pt x="2027" y="1077"/>
                  </a:lnTo>
                  <a:lnTo>
                    <a:pt x="2016" y="1076"/>
                  </a:lnTo>
                  <a:lnTo>
                    <a:pt x="2005" y="1075"/>
                  </a:lnTo>
                  <a:lnTo>
                    <a:pt x="1980" y="1075"/>
                  </a:lnTo>
                  <a:lnTo>
                    <a:pt x="1951" y="1077"/>
                  </a:lnTo>
                  <a:lnTo>
                    <a:pt x="1921" y="1080"/>
                  </a:lnTo>
                  <a:lnTo>
                    <a:pt x="1889" y="1084"/>
                  </a:lnTo>
                  <a:lnTo>
                    <a:pt x="1823" y="1093"/>
                  </a:lnTo>
                  <a:lnTo>
                    <a:pt x="1758" y="1100"/>
                  </a:lnTo>
                  <a:lnTo>
                    <a:pt x="1729" y="1103"/>
                  </a:lnTo>
                  <a:lnTo>
                    <a:pt x="1702" y="1103"/>
                  </a:lnTo>
                  <a:lnTo>
                    <a:pt x="1689" y="1103"/>
                  </a:lnTo>
                  <a:lnTo>
                    <a:pt x="1679" y="1101"/>
                  </a:lnTo>
                  <a:lnTo>
                    <a:pt x="1668" y="1100"/>
                  </a:lnTo>
                  <a:lnTo>
                    <a:pt x="1659" y="1098"/>
                  </a:lnTo>
                  <a:lnTo>
                    <a:pt x="1643" y="1091"/>
                  </a:lnTo>
                  <a:lnTo>
                    <a:pt x="1626" y="1083"/>
                  </a:lnTo>
                  <a:lnTo>
                    <a:pt x="1610" y="1075"/>
                  </a:lnTo>
                  <a:lnTo>
                    <a:pt x="1596" y="1065"/>
                  </a:lnTo>
                  <a:lnTo>
                    <a:pt x="1582" y="1055"/>
                  </a:lnTo>
                  <a:lnTo>
                    <a:pt x="1569" y="1044"/>
                  </a:lnTo>
                  <a:lnTo>
                    <a:pt x="1557" y="1034"/>
                  </a:lnTo>
                  <a:lnTo>
                    <a:pt x="1547" y="1023"/>
                  </a:lnTo>
                  <a:lnTo>
                    <a:pt x="1515" y="988"/>
                  </a:lnTo>
                  <a:lnTo>
                    <a:pt x="1504" y="973"/>
                  </a:lnTo>
                  <a:lnTo>
                    <a:pt x="1499" y="978"/>
                  </a:lnTo>
                  <a:lnTo>
                    <a:pt x="1487" y="989"/>
                  </a:lnTo>
                  <a:lnTo>
                    <a:pt x="1478" y="996"/>
                  </a:lnTo>
                  <a:lnTo>
                    <a:pt x="1467" y="1005"/>
                  </a:lnTo>
                  <a:lnTo>
                    <a:pt x="1456" y="1013"/>
                  </a:lnTo>
                  <a:lnTo>
                    <a:pt x="1442" y="1021"/>
                  </a:lnTo>
                  <a:lnTo>
                    <a:pt x="1427" y="1029"/>
                  </a:lnTo>
                  <a:lnTo>
                    <a:pt x="1410" y="1035"/>
                  </a:lnTo>
                  <a:lnTo>
                    <a:pt x="1393" y="1041"/>
                  </a:lnTo>
                  <a:lnTo>
                    <a:pt x="1374" y="1044"/>
                  </a:lnTo>
                  <a:lnTo>
                    <a:pt x="1363" y="1045"/>
                  </a:lnTo>
                  <a:lnTo>
                    <a:pt x="1353" y="1045"/>
                  </a:lnTo>
                  <a:lnTo>
                    <a:pt x="1344" y="1045"/>
                  </a:lnTo>
                  <a:lnTo>
                    <a:pt x="1332" y="1044"/>
                  </a:lnTo>
                  <a:lnTo>
                    <a:pt x="1321" y="1043"/>
                  </a:lnTo>
                  <a:lnTo>
                    <a:pt x="1311" y="1041"/>
                  </a:lnTo>
                  <a:lnTo>
                    <a:pt x="1299" y="1038"/>
                  </a:lnTo>
                  <a:lnTo>
                    <a:pt x="1288" y="1034"/>
                  </a:lnTo>
                  <a:lnTo>
                    <a:pt x="1265" y="1024"/>
                  </a:lnTo>
                  <a:lnTo>
                    <a:pt x="1243" y="1014"/>
                  </a:lnTo>
                  <a:lnTo>
                    <a:pt x="1222" y="1001"/>
                  </a:lnTo>
                  <a:lnTo>
                    <a:pt x="1201" y="988"/>
                  </a:lnTo>
                  <a:lnTo>
                    <a:pt x="1159" y="960"/>
                  </a:lnTo>
                  <a:lnTo>
                    <a:pt x="1115" y="932"/>
                  </a:lnTo>
                  <a:lnTo>
                    <a:pt x="1090" y="918"/>
                  </a:lnTo>
                  <a:lnTo>
                    <a:pt x="1066" y="905"/>
                  </a:lnTo>
                  <a:lnTo>
                    <a:pt x="1039" y="895"/>
                  </a:lnTo>
                  <a:lnTo>
                    <a:pt x="1010" y="884"/>
                  </a:lnTo>
                  <a:lnTo>
                    <a:pt x="994" y="880"/>
                  </a:lnTo>
                  <a:lnTo>
                    <a:pt x="979" y="876"/>
                  </a:lnTo>
                  <a:lnTo>
                    <a:pt x="963" y="873"/>
                  </a:lnTo>
                  <a:lnTo>
                    <a:pt x="945" y="869"/>
                  </a:lnTo>
                  <a:lnTo>
                    <a:pt x="928" y="867"/>
                  </a:lnTo>
                  <a:lnTo>
                    <a:pt x="909" y="866"/>
                  </a:lnTo>
                  <a:lnTo>
                    <a:pt x="890" y="864"/>
                  </a:lnTo>
                  <a:lnTo>
                    <a:pt x="869" y="864"/>
                  </a:lnTo>
                  <a:lnTo>
                    <a:pt x="902" y="277"/>
                  </a:lnTo>
                  <a:lnTo>
                    <a:pt x="0" y="230"/>
                  </a:lnTo>
                  <a:lnTo>
                    <a:pt x="69" y="0"/>
                  </a:lnTo>
                  <a:lnTo>
                    <a:pt x="2665" y="0"/>
                  </a:lnTo>
                  <a:lnTo>
                    <a:pt x="2842" y="424"/>
                  </a:lnTo>
                  <a:lnTo>
                    <a:pt x="2848" y="1152"/>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1" name="Freeform 162"/>
            <p:cNvSpPr/>
            <p:nvPr/>
          </p:nvSpPr>
          <p:spPr>
            <a:xfrm>
              <a:off x="4338000" y="2818080"/>
              <a:ext cx="1008360" cy="383400"/>
            </a:xfrm>
            <a:custGeom>
              <a:avLst/>
              <a:gdLst>
                <a:gd name="textAreaLeft" fmla="*/ 0 w 1008360"/>
                <a:gd name="textAreaRight" fmla="*/ 1008720 w 1008360"/>
                <a:gd name="textAreaTop" fmla="*/ 0 h 383400"/>
                <a:gd name="textAreaBottom" fmla="*/ 383760 h 383400"/>
              </a:gdLst>
              <a:ahLst/>
              <a:rect l="textAreaLeft" t="textAreaTop" r="textAreaRight" b="textAreaBottom"/>
              <a:pathLst>
                <a:path w="2293" h="847">
                  <a:moveTo>
                    <a:pt x="2293" y="224"/>
                  </a:moveTo>
                  <a:lnTo>
                    <a:pt x="2289" y="847"/>
                  </a:lnTo>
                  <a:lnTo>
                    <a:pt x="0" y="845"/>
                  </a:lnTo>
                  <a:lnTo>
                    <a:pt x="222" y="0"/>
                  </a:lnTo>
                  <a:lnTo>
                    <a:pt x="1998" y="4"/>
                  </a:lnTo>
                  <a:lnTo>
                    <a:pt x="2007" y="21"/>
                  </a:lnTo>
                  <a:lnTo>
                    <a:pt x="2014" y="36"/>
                  </a:lnTo>
                  <a:lnTo>
                    <a:pt x="2021" y="47"/>
                  </a:lnTo>
                  <a:lnTo>
                    <a:pt x="2028" y="54"/>
                  </a:lnTo>
                  <a:lnTo>
                    <a:pt x="2031" y="57"/>
                  </a:lnTo>
                  <a:lnTo>
                    <a:pt x="2036" y="59"/>
                  </a:lnTo>
                  <a:lnTo>
                    <a:pt x="2039" y="60"/>
                  </a:lnTo>
                  <a:lnTo>
                    <a:pt x="2044" y="61"/>
                  </a:lnTo>
                  <a:lnTo>
                    <a:pt x="2054" y="61"/>
                  </a:lnTo>
                  <a:lnTo>
                    <a:pt x="2067" y="57"/>
                  </a:lnTo>
                  <a:lnTo>
                    <a:pt x="2095" y="54"/>
                  </a:lnTo>
                  <a:lnTo>
                    <a:pt x="2122" y="50"/>
                  </a:lnTo>
                  <a:lnTo>
                    <a:pt x="2134" y="50"/>
                  </a:lnTo>
                  <a:lnTo>
                    <a:pt x="2144" y="52"/>
                  </a:lnTo>
                  <a:lnTo>
                    <a:pt x="2154" y="53"/>
                  </a:lnTo>
                  <a:lnTo>
                    <a:pt x="2163" y="55"/>
                  </a:lnTo>
                  <a:lnTo>
                    <a:pt x="2170" y="59"/>
                  </a:lnTo>
                  <a:lnTo>
                    <a:pt x="2177" y="63"/>
                  </a:lnTo>
                  <a:lnTo>
                    <a:pt x="2182" y="69"/>
                  </a:lnTo>
                  <a:lnTo>
                    <a:pt x="2185" y="76"/>
                  </a:lnTo>
                  <a:lnTo>
                    <a:pt x="2188" y="85"/>
                  </a:lnTo>
                  <a:lnTo>
                    <a:pt x="2188" y="96"/>
                  </a:lnTo>
                  <a:lnTo>
                    <a:pt x="2186" y="108"/>
                  </a:lnTo>
                  <a:lnTo>
                    <a:pt x="2183" y="122"/>
                  </a:lnTo>
                  <a:lnTo>
                    <a:pt x="2182" y="125"/>
                  </a:lnTo>
                  <a:lnTo>
                    <a:pt x="2182" y="130"/>
                  </a:lnTo>
                  <a:lnTo>
                    <a:pt x="2183" y="133"/>
                  </a:lnTo>
                  <a:lnTo>
                    <a:pt x="2184" y="137"/>
                  </a:lnTo>
                  <a:lnTo>
                    <a:pt x="2189" y="145"/>
                  </a:lnTo>
                  <a:lnTo>
                    <a:pt x="2196" y="151"/>
                  </a:lnTo>
                  <a:lnTo>
                    <a:pt x="2205" y="158"/>
                  </a:lnTo>
                  <a:lnTo>
                    <a:pt x="2214" y="164"/>
                  </a:lnTo>
                  <a:lnTo>
                    <a:pt x="2226" y="170"/>
                  </a:lnTo>
                  <a:lnTo>
                    <a:pt x="2238" y="175"/>
                  </a:lnTo>
                  <a:lnTo>
                    <a:pt x="2260" y="187"/>
                  </a:lnTo>
                  <a:lnTo>
                    <a:pt x="2279" y="199"/>
                  </a:lnTo>
                  <a:lnTo>
                    <a:pt x="2286" y="205"/>
                  </a:lnTo>
                  <a:lnTo>
                    <a:pt x="2292" y="210"/>
                  </a:lnTo>
                  <a:lnTo>
                    <a:pt x="2293" y="214"/>
                  </a:lnTo>
                  <a:lnTo>
                    <a:pt x="2293" y="217"/>
                  </a:lnTo>
                  <a:lnTo>
                    <a:pt x="2293" y="221"/>
                  </a:lnTo>
                  <a:lnTo>
                    <a:pt x="2293" y="224"/>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2" name="Freeform 163"/>
            <p:cNvSpPr/>
            <p:nvPr/>
          </p:nvSpPr>
          <p:spPr>
            <a:xfrm>
              <a:off x="4338000" y="2818080"/>
              <a:ext cx="1008360" cy="383400"/>
            </a:xfrm>
            <a:custGeom>
              <a:avLst/>
              <a:gdLst>
                <a:gd name="textAreaLeft" fmla="*/ 0 w 1008360"/>
                <a:gd name="textAreaRight" fmla="*/ 1008720 w 1008360"/>
                <a:gd name="textAreaTop" fmla="*/ 0 h 383400"/>
                <a:gd name="textAreaBottom" fmla="*/ 383760 h 383400"/>
              </a:gdLst>
              <a:ahLst/>
              <a:rect l="textAreaLeft" t="textAreaTop" r="textAreaRight" b="textAreaBottom"/>
              <a:pathLst>
                <a:path w="2293" h="847">
                  <a:moveTo>
                    <a:pt x="2293" y="224"/>
                  </a:moveTo>
                  <a:lnTo>
                    <a:pt x="2289" y="847"/>
                  </a:lnTo>
                  <a:lnTo>
                    <a:pt x="0" y="845"/>
                  </a:lnTo>
                  <a:lnTo>
                    <a:pt x="222" y="0"/>
                  </a:lnTo>
                  <a:lnTo>
                    <a:pt x="1998" y="4"/>
                  </a:lnTo>
                  <a:lnTo>
                    <a:pt x="2007" y="21"/>
                  </a:lnTo>
                  <a:lnTo>
                    <a:pt x="2014" y="36"/>
                  </a:lnTo>
                  <a:lnTo>
                    <a:pt x="2021" y="47"/>
                  </a:lnTo>
                  <a:lnTo>
                    <a:pt x="2028" y="54"/>
                  </a:lnTo>
                  <a:lnTo>
                    <a:pt x="2031" y="57"/>
                  </a:lnTo>
                  <a:lnTo>
                    <a:pt x="2036" y="59"/>
                  </a:lnTo>
                  <a:lnTo>
                    <a:pt x="2039" y="60"/>
                  </a:lnTo>
                  <a:lnTo>
                    <a:pt x="2044" y="61"/>
                  </a:lnTo>
                  <a:lnTo>
                    <a:pt x="2054" y="61"/>
                  </a:lnTo>
                  <a:lnTo>
                    <a:pt x="2067" y="57"/>
                  </a:lnTo>
                  <a:lnTo>
                    <a:pt x="2095" y="54"/>
                  </a:lnTo>
                  <a:lnTo>
                    <a:pt x="2122" y="50"/>
                  </a:lnTo>
                  <a:lnTo>
                    <a:pt x="2134" y="50"/>
                  </a:lnTo>
                  <a:lnTo>
                    <a:pt x="2144" y="52"/>
                  </a:lnTo>
                  <a:lnTo>
                    <a:pt x="2154" y="53"/>
                  </a:lnTo>
                  <a:lnTo>
                    <a:pt x="2163" y="55"/>
                  </a:lnTo>
                  <a:lnTo>
                    <a:pt x="2170" y="59"/>
                  </a:lnTo>
                  <a:lnTo>
                    <a:pt x="2177" y="63"/>
                  </a:lnTo>
                  <a:lnTo>
                    <a:pt x="2182" y="69"/>
                  </a:lnTo>
                  <a:lnTo>
                    <a:pt x="2185" y="76"/>
                  </a:lnTo>
                  <a:lnTo>
                    <a:pt x="2188" y="85"/>
                  </a:lnTo>
                  <a:lnTo>
                    <a:pt x="2188" y="96"/>
                  </a:lnTo>
                  <a:lnTo>
                    <a:pt x="2186" y="108"/>
                  </a:lnTo>
                  <a:lnTo>
                    <a:pt x="2183" y="122"/>
                  </a:lnTo>
                  <a:lnTo>
                    <a:pt x="2182" y="125"/>
                  </a:lnTo>
                  <a:lnTo>
                    <a:pt x="2182" y="130"/>
                  </a:lnTo>
                  <a:lnTo>
                    <a:pt x="2183" y="133"/>
                  </a:lnTo>
                  <a:lnTo>
                    <a:pt x="2184" y="137"/>
                  </a:lnTo>
                  <a:lnTo>
                    <a:pt x="2189" y="145"/>
                  </a:lnTo>
                  <a:lnTo>
                    <a:pt x="2196" y="151"/>
                  </a:lnTo>
                  <a:lnTo>
                    <a:pt x="2205" y="158"/>
                  </a:lnTo>
                  <a:lnTo>
                    <a:pt x="2214" y="164"/>
                  </a:lnTo>
                  <a:lnTo>
                    <a:pt x="2226" y="170"/>
                  </a:lnTo>
                  <a:lnTo>
                    <a:pt x="2238" y="175"/>
                  </a:lnTo>
                  <a:lnTo>
                    <a:pt x="2260" y="187"/>
                  </a:lnTo>
                  <a:lnTo>
                    <a:pt x="2279" y="199"/>
                  </a:lnTo>
                  <a:lnTo>
                    <a:pt x="2286" y="205"/>
                  </a:lnTo>
                  <a:lnTo>
                    <a:pt x="2292" y="210"/>
                  </a:lnTo>
                  <a:lnTo>
                    <a:pt x="2293" y="214"/>
                  </a:lnTo>
                  <a:lnTo>
                    <a:pt x="2293" y="217"/>
                  </a:lnTo>
                  <a:lnTo>
                    <a:pt x="2293" y="221"/>
                  </a:lnTo>
                  <a:lnTo>
                    <a:pt x="2293" y="224"/>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3" name="Freeform 164"/>
            <p:cNvSpPr/>
            <p:nvPr/>
          </p:nvSpPr>
          <p:spPr>
            <a:xfrm>
              <a:off x="5458680" y="2121120"/>
              <a:ext cx="643680" cy="397080"/>
            </a:xfrm>
            <a:custGeom>
              <a:avLst/>
              <a:gdLst>
                <a:gd name="textAreaLeft" fmla="*/ 0 w 643680"/>
                <a:gd name="textAreaRight" fmla="*/ 644040 w 643680"/>
                <a:gd name="textAreaTop" fmla="*/ 0 h 397080"/>
                <a:gd name="textAreaBottom" fmla="*/ 397440 h 397080"/>
              </a:gdLst>
              <a:ahLst/>
              <a:rect l="textAreaLeft" t="textAreaTop" r="textAreaRight" b="textAreaBottom"/>
              <a:pathLst>
                <a:path w="1469" h="876">
                  <a:moveTo>
                    <a:pt x="781" y="876"/>
                  </a:moveTo>
                  <a:lnTo>
                    <a:pt x="761" y="875"/>
                  </a:lnTo>
                  <a:lnTo>
                    <a:pt x="741" y="872"/>
                  </a:lnTo>
                  <a:lnTo>
                    <a:pt x="720" y="867"/>
                  </a:lnTo>
                  <a:lnTo>
                    <a:pt x="699" y="860"/>
                  </a:lnTo>
                  <a:lnTo>
                    <a:pt x="677" y="851"/>
                  </a:lnTo>
                  <a:lnTo>
                    <a:pt x="656" y="840"/>
                  </a:lnTo>
                  <a:lnTo>
                    <a:pt x="633" y="827"/>
                  </a:lnTo>
                  <a:lnTo>
                    <a:pt x="612" y="814"/>
                  </a:lnTo>
                  <a:lnTo>
                    <a:pt x="592" y="799"/>
                  </a:lnTo>
                  <a:lnTo>
                    <a:pt x="573" y="783"/>
                  </a:lnTo>
                  <a:lnTo>
                    <a:pt x="555" y="767"/>
                  </a:lnTo>
                  <a:lnTo>
                    <a:pt x="538" y="749"/>
                  </a:lnTo>
                  <a:lnTo>
                    <a:pt x="522" y="730"/>
                  </a:lnTo>
                  <a:lnTo>
                    <a:pt x="508" y="712"/>
                  </a:lnTo>
                  <a:lnTo>
                    <a:pt x="497" y="693"/>
                  </a:lnTo>
                  <a:lnTo>
                    <a:pt x="486" y="674"/>
                  </a:lnTo>
                  <a:lnTo>
                    <a:pt x="486" y="670"/>
                  </a:lnTo>
                  <a:lnTo>
                    <a:pt x="484" y="656"/>
                  </a:lnTo>
                  <a:lnTo>
                    <a:pt x="481" y="646"/>
                  </a:lnTo>
                  <a:lnTo>
                    <a:pt x="478" y="636"/>
                  </a:lnTo>
                  <a:lnTo>
                    <a:pt x="473" y="625"/>
                  </a:lnTo>
                  <a:lnTo>
                    <a:pt x="467" y="612"/>
                  </a:lnTo>
                  <a:lnTo>
                    <a:pt x="459" y="601"/>
                  </a:lnTo>
                  <a:lnTo>
                    <a:pt x="450" y="588"/>
                  </a:lnTo>
                  <a:lnTo>
                    <a:pt x="439" y="575"/>
                  </a:lnTo>
                  <a:lnTo>
                    <a:pt x="425" y="563"/>
                  </a:lnTo>
                  <a:lnTo>
                    <a:pt x="410" y="553"/>
                  </a:lnTo>
                  <a:lnTo>
                    <a:pt x="393" y="542"/>
                  </a:lnTo>
                  <a:lnTo>
                    <a:pt x="382" y="539"/>
                  </a:lnTo>
                  <a:lnTo>
                    <a:pt x="372" y="534"/>
                  </a:lnTo>
                  <a:lnTo>
                    <a:pt x="360" y="531"/>
                  </a:lnTo>
                  <a:lnTo>
                    <a:pt x="348" y="527"/>
                  </a:lnTo>
                  <a:lnTo>
                    <a:pt x="299" y="515"/>
                  </a:lnTo>
                  <a:lnTo>
                    <a:pt x="251" y="501"/>
                  </a:lnTo>
                  <a:lnTo>
                    <a:pt x="228" y="494"/>
                  </a:lnTo>
                  <a:lnTo>
                    <a:pt x="206" y="487"/>
                  </a:lnTo>
                  <a:lnTo>
                    <a:pt x="185" y="479"/>
                  </a:lnTo>
                  <a:lnTo>
                    <a:pt x="166" y="471"/>
                  </a:lnTo>
                  <a:lnTo>
                    <a:pt x="147" y="462"/>
                  </a:lnTo>
                  <a:lnTo>
                    <a:pt x="131" y="452"/>
                  </a:lnTo>
                  <a:lnTo>
                    <a:pt x="116" y="443"/>
                  </a:lnTo>
                  <a:lnTo>
                    <a:pt x="102" y="431"/>
                  </a:lnTo>
                  <a:lnTo>
                    <a:pt x="91" y="420"/>
                  </a:lnTo>
                  <a:lnTo>
                    <a:pt x="82" y="408"/>
                  </a:lnTo>
                  <a:lnTo>
                    <a:pt x="78" y="401"/>
                  </a:lnTo>
                  <a:lnTo>
                    <a:pt x="76" y="395"/>
                  </a:lnTo>
                  <a:lnTo>
                    <a:pt x="74" y="388"/>
                  </a:lnTo>
                  <a:lnTo>
                    <a:pt x="71" y="380"/>
                  </a:lnTo>
                  <a:lnTo>
                    <a:pt x="68" y="346"/>
                  </a:lnTo>
                  <a:lnTo>
                    <a:pt x="63" y="313"/>
                  </a:lnTo>
                  <a:lnTo>
                    <a:pt x="61" y="305"/>
                  </a:lnTo>
                  <a:lnTo>
                    <a:pt x="57" y="297"/>
                  </a:lnTo>
                  <a:lnTo>
                    <a:pt x="53" y="290"/>
                  </a:lnTo>
                  <a:lnTo>
                    <a:pt x="46" y="283"/>
                  </a:lnTo>
                  <a:lnTo>
                    <a:pt x="38" y="276"/>
                  </a:lnTo>
                  <a:lnTo>
                    <a:pt x="27" y="269"/>
                  </a:lnTo>
                  <a:lnTo>
                    <a:pt x="14" y="263"/>
                  </a:lnTo>
                  <a:lnTo>
                    <a:pt x="0" y="256"/>
                  </a:lnTo>
                  <a:lnTo>
                    <a:pt x="11" y="253"/>
                  </a:lnTo>
                  <a:lnTo>
                    <a:pt x="24" y="247"/>
                  </a:lnTo>
                  <a:lnTo>
                    <a:pt x="38" y="237"/>
                  </a:lnTo>
                  <a:lnTo>
                    <a:pt x="53" y="227"/>
                  </a:lnTo>
                  <a:lnTo>
                    <a:pt x="69" y="215"/>
                  </a:lnTo>
                  <a:lnTo>
                    <a:pt x="87" y="201"/>
                  </a:lnTo>
                  <a:lnTo>
                    <a:pt x="104" y="186"/>
                  </a:lnTo>
                  <a:lnTo>
                    <a:pt x="122" y="168"/>
                  </a:lnTo>
                  <a:lnTo>
                    <a:pt x="140" y="150"/>
                  </a:lnTo>
                  <a:lnTo>
                    <a:pt x="158" y="131"/>
                  </a:lnTo>
                  <a:lnTo>
                    <a:pt x="174" y="110"/>
                  </a:lnTo>
                  <a:lnTo>
                    <a:pt x="191" y="89"/>
                  </a:lnTo>
                  <a:lnTo>
                    <a:pt x="206" y="68"/>
                  </a:lnTo>
                  <a:lnTo>
                    <a:pt x="221" y="46"/>
                  </a:lnTo>
                  <a:lnTo>
                    <a:pt x="234" y="22"/>
                  </a:lnTo>
                  <a:lnTo>
                    <a:pt x="244" y="0"/>
                  </a:lnTo>
                  <a:lnTo>
                    <a:pt x="564" y="0"/>
                  </a:lnTo>
                  <a:lnTo>
                    <a:pt x="589" y="24"/>
                  </a:lnTo>
                  <a:lnTo>
                    <a:pt x="613" y="44"/>
                  </a:lnTo>
                  <a:lnTo>
                    <a:pt x="638" y="62"/>
                  </a:lnTo>
                  <a:lnTo>
                    <a:pt x="663" y="76"/>
                  </a:lnTo>
                  <a:lnTo>
                    <a:pt x="687" y="89"/>
                  </a:lnTo>
                  <a:lnTo>
                    <a:pt x="712" y="100"/>
                  </a:lnTo>
                  <a:lnTo>
                    <a:pt x="736" y="109"/>
                  </a:lnTo>
                  <a:lnTo>
                    <a:pt x="761" y="115"/>
                  </a:lnTo>
                  <a:lnTo>
                    <a:pt x="784" y="121"/>
                  </a:lnTo>
                  <a:lnTo>
                    <a:pt x="809" y="124"/>
                  </a:lnTo>
                  <a:lnTo>
                    <a:pt x="832" y="126"/>
                  </a:lnTo>
                  <a:lnTo>
                    <a:pt x="856" y="128"/>
                  </a:lnTo>
                  <a:lnTo>
                    <a:pt x="903" y="126"/>
                  </a:lnTo>
                  <a:lnTo>
                    <a:pt x="950" y="124"/>
                  </a:lnTo>
                  <a:lnTo>
                    <a:pt x="978" y="123"/>
                  </a:lnTo>
                  <a:lnTo>
                    <a:pt x="1005" y="123"/>
                  </a:lnTo>
                  <a:lnTo>
                    <a:pt x="1031" y="124"/>
                  </a:lnTo>
                  <a:lnTo>
                    <a:pt x="1056" y="125"/>
                  </a:lnTo>
                  <a:lnTo>
                    <a:pt x="1081" y="128"/>
                  </a:lnTo>
                  <a:lnTo>
                    <a:pt x="1104" y="130"/>
                  </a:lnTo>
                  <a:lnTo>
                    <a:pt x="1126" y="135"/>
                  </a:lnTo>
                  <a:lnTo>
                    <a:pt x="1148" y="139"/>
                  </a:lnTo>
                  <a:lnTo>
                    <a:pt x="1168" y="145"/>
                  </a:lnTo>
                  <a:lnTo>
                    <a:pt x="1187" y="151"/>
                  </a:lnTo>
                  <a:lnTo>
                    <a:pt x="1205" y="159"/>
                  </a:lnTo>
                  <a:lnTo>
                    <a:pt x="1220" y="168"/>
                  </a:lnTo>
                  <a:lnTo>
                    <a:pt x="1234" y="178"/>
                  </a:lnTo>
                  <a:lnTo>
                    <a:pt x="1245" y="190"/>
                  </a:lnTo>
                  <a:lnTo>
                    <a:pt x="1251" y="195"/>
                  </a:lnTo>
                  <a:lnTo>
                    <a:pt x="1256" y="202"/>
                  </a:lnTo>
                  <a:lnTo>
                    <a:pt x="1261" y="209"/>
                  </a:lnTo>
                  <a:lnTo>
                    <a:pt x="1264" y="216"/>
                  </a:lnTo>
                  <a:lnTo>
                    <a:pt x="1256" y="234"/>
                  </a:lnTo>
                  <a:lnTo>
                    <a:pt x="1248" y="253"/>
                  </a:lnTo>
                  <a:lnTo>
                    <a:pt x="1242" y="270"/>
                  </a:lnTo>
                  <a:lnTo>
                    <a:pt x="1235" y="289"/>
                  </a:lnTo>
                  <a:lnTo>
                    <a:pt x="1224" y="325"/>
                  </a:lnTo>
                  <a:lnTo>
                    <a:pt x="1215" y="358"/>
                  </a:lnTo>
                  <a:lnTo>
                    <a:pt x="1254" y="327"/>
                  </a:lnTo>
                  <a:lnTo>
                    <a:pt x="1287" y="298"/>
                  </a:lnTo>
                  <a:lnTo>
                    <a:pt x="1318" y="270"/>
                  </a:lnTo>
                  <a:lnTo>
                    <a:pt x="1346" y="246"/>
                  </a:lnTo>
                  <a:lnTo>
                    <a:pt x="1359" y="234"/>
                  </a:lnTo>
                  <a:lnTo>
                    <a:pt x="1370" y="225"/>
                  </a:lnTo>
                  <a:lnTo>
                    <a:pt x="1382" y="216"/>
                  </a:lnTo>
                  <a:lnTo>
                    <a:pt x="1393" y="209"/>
                  </a:lnTo>
                  <a:lnTo>
                    <a:pt x="1403" y="205"/>
                  </a:lnTo>
                  <a:lnTo>
                    <a:pt x="1412" y="201"/>
                  </a:lnTo>
                  <a:lnTo>
                    <a:pt x="1422" y="200"/>
                  </a:lnTo>
                  <a:lnTo>
                    <a:pt x="1431" y="202"/>
                  </a:lnTo>
                  <a:lnTo>
                    <a:pt x="1411" y="235"/>
                  </a:lnTo>
                  <a:lnTo>
                    <a:pt x="1394" y="271"/>
                  </a:lnTo>
                  <a:lnTo>
                    <a:pt x="1384" y="289"/>
                  </a:lnTo>
                  <a:lnTo>
                    <a:pt x="1377" y="307"/>
                  </a:lnTo>
                  <a:lnTo>
                    <a:pt x="1370" y="326"/>
                  </a:lnTo>
                  <a:lnTo>
                    <a:pt x="1363" y="346"/>
                  </a:lnTo>
                  <a:lnTo>
                    <a:pt x="1358" y="365"/>
                  </a:lnTo>
                  <a:lnTo>
                    <a:pt x="1352" y="385"/>
                  </a:lnTo>
                  <a:lnTo>
                    <a:pt x="1347" y="404"/>
                  </a:lnTo>
                  <a:lnTo>
                    <a:pt x="1344" y="424"/>
                  </a:lnTo>
                  <a:lnTo>
                    <a:pt x="1340" y="445"/>
                  </a:lnTo>
                  <a:lnTo>
                    <a:pt x="1338" y="466"/>
                  </a:lnTo>
                  <a:lnTo>
                    <a:pt x="1337" y="486"/>
                  </a:lnTo>
                  <a:lnTo>
                    <a:pt x="1335" y="507"/>
                  </a:lnTo>
                  <a:lnTo>
                    <a:pt x="1335" y="528"/>
                  </a:lnTo>
                  <a:lnTo>
                    <a:pt x="1337" y="549"/>
                  </a:lnTo>
                  <a:lnTo>
                    <a:pt x="1339" y="571"/>
                  </a:lnTo>
                  <a:lnTo>
                    <a:pt x="1341" y="592"/>
                  </a:lnTo>
                  <a:lnTo>
                    <a:pt x="1346" y="614"/>
                  </a:lnTo>
                  <a:lnTo>
                    <a:pt x="1351" y="636"/>
                  </a:lnTo>
                  <a:lnTo>
                    <a:pt x="1358" y="657"/>
                  </a:lnTo>
                  <a:lnTo>
                    <a:pt x="1365" y="679"/>
                  </a:lnTo>
                  <a:lnTo>
                    <a:pt x="1373" y="700"/>
                  </a:lnTo>
                  <a:lnTo>
                    <a:pt x="1383" y="722"/>
                  </a:lnTo>
                  <a:lnTo>
                    <a:pt x="1394" y="743"/>
                  </a:lnTo>
                  <a:lnTo>
                    <a:pt x="1407" y="764"/>
                  </a:lnTo>
                  <a:lnTo>
                    <a:pt x="1419" y="786"/>
                  </a:lnTo>
                  <a:lnTo>
                    <a:pt x="1435" y="807"/>
                  </a:lnTo>
                  <a:lnTo>
                    <a:pt x="1451" y="828"/>
                  </a:lnTo>
                  <a:lnTo>
                    <a:pt x="1469" y="849"/>
                  </a:lnTo>
                  <a:lnTo>
                    <a:pt x="781" y="87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4" name="Freeform 165"/>
            <p:cNvSpPr/>
            <p:nvPr/>
          </p:nvSpPr>
          <p:spPr>
            <a:xfrm>
              <a:off x="5458680" y="2121120"/>
              <a:ext cx="643680" cy="397080"/>
            </a:xfrm>
            <a:custGeom>
              <a:avLst/>
              <a:gdLst>
                <a:gd name="textAreaLeft" fmla="*/ 0 w 643680"/>
                <a:gd name="textAreaRight" fmla="*/ 644040 w 643680"/>
                <a:gd name="textAreaTop" fmla="*/ 0 h 397080"/>
                <a:gd name="textAreaBottom" fmla="*/ 397440 h 397080"/>
              </a:gdLst>
              <a:ahLst/>
              <a:rect l="textAreaLeft" t="textAreaTop" r="textAreaRight" b="textAreaBottom"/>
              <a:pathLst>
                <a:path w="1469" h="876">
                  <a:moveTo>
                    <a:pt x="781" y="876"/>
                  </a:moveTo>
                  <a:lnTo>
                    <a:pt x="761" y="875"/>
                  </a:lnTo>
                  <a:lnTo>
                    <a:pt x="741" y="872"/>
                  </a:lnTo>
                  <a:lnTo>
                    <a:pt x="720" y="867"/>
                  </a:lnTo>
                  <a:lnTo>
                    <a:pt x="699" y="860"/>
                  </a:lnTo>
                  <a:lnTo>
                    <a:pt x="677" y="851"/>
                  </a:lnTo>
                  <a:lnTo>
                    <a:pt x="656" y="840"/>
                  </a:lnTo>
                  <a:lnTo>
                    <a:pt x="633" y="827"/>
                  </a:lnTo>
                  <a:lnTo>
                    <a:pt x="612" y="814"/>
                  </a:lnTo>
                  <a:lnTo>
                    <a:pt x="592" y="799"/>
                  </a:lnTo>
                  <a:lnTo>
                    <a:pt x="573" y="783"/>
                  </a:lnTo>
                  <a:lnTo>
                    <a:pt x="555" y="767"/>
                  </a:lnTo>
                  <a:lnTo>
                    <a:pt x="538" y="749"/>
                  </a:lnTo>
                  <a:lnTo>
                    <a:pt x="522" y="730"/>
                  </a:lnTo>
                  <a:lnTo>
                    <a:pt x="508" y="712"/>
                  </a:lnTo>
                  <a:lnTo>
                    <a:pt x="497" y="693"/>
                  </a:lnTo>
                  <a:lnTo>
                    <a:pt x="486" y="674"/>
                  </a:lnTo>
                  <a:lnTo>
                    <a:pt x="486" y="670"/>
                  </a:lnTo>
                  <a:lnTo>
                    <a:pt x="484" y="656"/>
                  </a:lnTo>
                  <a:lnTo>
                    <a:pt x="481" y="646"/>
                  </a:lnTo>
                  <a:lnTo>
                    <a:pt x="478" y="636"/>
                  </a:lnTo>
                  <a:lnTo>
                    <a:pt x="473" y="625"/>
                  </a:lnTo>
                  <a:lnTo>
                    <a:pt x="467" y="612"/>
                  </a:lnTo>
                  <a:lnTo>
                    <a:pt x="459" y="601"/>
                  </a:lnTo>
                  <a:lnTo>
                    <a:pt x="450" y="588"/>
                  </a:lnTo>
                  <a:lnTo>
                    <a:pt x="439" y="575"/>
                  </a:lnTo>
                  <a:lnTo>
                    <a:pt x="425" y="563"/>
                  </a:lnTo>
                  <a:lnTo>
                    <a:pt x="410" y="553"/>
                  </a:lnTo>
                  <a:lnTo>
                    <a:pt x="393" y="542"/>
                  </a:lnTo>
                  <a:lnTo>
                    <a:pt x="382" y="539"/>
                  </a:lnTo>
                  <a:lnTo>
                    <a:pt x="372" y="534"/>
                  </a:lnTo>
                  <a:lnTo>
                    <a:pt x="360" y="531"/>
                  </a:lnTo>
                  <a:lnTo>
                    <a:pt x="348" y="527"/>
                  </a:lnTo>
                  <a:lnTo>
                    <a:pt x="299" y="515"/>
                  </a:lnTo>
                  <a:lnTo>
                    <a:pt x="251" y="501"/>
                  </a:lnTo>
                  <a:lnTo>
                    <a:pt x="228" y="494"/>
                  </a:lnTo>
                  <a:lnTo>
                    <a:pt x="206" y="487"/>
                  </a:lnTo>
                  <a:lnTo>
                    <a:pt x="185" y="479"/>
                  </a:lnTo>
                  <a:lnTo>
                    <a:pt x="166" y="471"/>
                  </a:lnTo>
                  <a:lnTo>
                    <a:pt x="147" y="462"/>
                  </a:lnTo>
                  <a:lnTo>
                    <a:pt x="131" y="452"/>
                  </a:lnTo>
                  <a:lnTo>
                    <a:pt x="116" y="443"/>
                  </a:lnTo>
                  <a:lnTo>
                    <a:pt x="102" y="431"/>
                  </a:lnTo>
                  <a:lnTo>
                    <a:pt x="91" y="420"/>
                  </a:lnTo>
                  <a:lnTo>
                    <a:pt x="82" y="408"/>
                  </a:lnTo>
                  <a:lnTo>
                    <a:pt x="78" y="401"/>
                  </a:lnTo>
                  <a:lnTo>
                    <a:pt x="76" y="395"/>
                  </a:lnTo>
                  <a:lnTo>
                    <a:pt x="74" y="388"/>
                  </a:lnTo>
                  <a:lnTo>
                    <a:pt x="71" y="380"/>
                  </a:lnTo>
                  <a:lnTo>
                    <a:pt x="68" y="346"/>
                  </a:lnTo>
                  <a:lnTo>
                    <a:pt x="63" y="313"/>
                  </a:lnTo>
                  <a:lnTo>
                    <a:pt x="61" y="305"/>
                  </a:lnTo>
                  <a:lnTo>
                    <a:pt x="57" y="297"/>
                  </a:lnTo>
                  <a:lnTo>
                    <a:pt x="53" y="290"/>
                  </a:lnTo>
                  <a:lnTo>
                    <a:pt x="46" y="283"/>
                  </a:lnTo>
                  <a:lnTo>
                    <a:pt x="38" y="276"/>
                  </a:lnTo>
                  <a:lnTo>
                    <a:pt x="27" y="269"/>
                  </a:lnTo>
                  <a:lnTo>
                    <a:pt x="14" y="263"/>
                  </a:lnTo>
                  <a:lnTo>
                    <a:pt x="0" y="256"/>
                  </a:lnTo>
                  <a:lnTo>
                    <a:pt x="11" y="253"/>
                  </a:lnTo>
                  <a:lnTo>
                    <a:pt x="24" y="247"/>
                  </a:lnTo>
                  <a:lnTo>
                    <a:pt x="38" y="237"/>
                  </a:lnTo>
                  <a:lnTo>
                    <a:pt x="53" y="227"/>
                  </a:lnTo>
                  <a:lnTo>
                    <a:pt x="69" y="215"/>
                  </a:lnTo>
                  <a:lnTo>
                    <a:pt x="87" y="201"/>
                  </a:lnTo>
                  <a:lnTo>
                    <a:pt x="104" y="186"/>
                  </a:lnTo>
                  <a:lnTo>
                    <a:pt x="122" y="168"/>
                  </a:lnTo>
                  <a:lnTo>
                    <a:pt x="140" y="150"/>
                  </a:lnTo>
                  <a:lnTo>
                    <a:pt x="158" y="131"/>
                  </a:lnTo>
                  <a:lnTo>
                    <a:pt x="174" y="110"/>
                  </a:lnTo>
                  <a:lnTo>
                    <a:pt x="191" y="89"/>
                  </a:lnTo>
                  <a:lnTo>
                    <a:pt x="206" y="68"/>
                  </a:lnTo>
                  <a:lnTo>
                    <a:pt x="221" y="46"/>
                  </a:lnTo>
                  <a:lnTo>
                    <a:pt x="234" y="22"/>
                  </a:lnTo>
                  <a:lnTo>
                    <a:pt x="244" y="0"/>
                  </a:lnTo>
                  <a:lnTo>
                    <a:pt x="564" y="0"/>
                  </a:lnTo>
                  <a:lnTo>
                    <a:pt x="589" y="24"/>
                  </a:lnTo>
                  <a:lnTo>
                    <a:pt x="613" y="44"/>
                  </a:lnTo>
                  <a:lnTo>
                    <a:pt x="638" y="62"/>
                  </a:lnTo>
                  <a:lnTo>
                    <a:pt x="663" y="76"/>
                  </a:lnTo>
                  <a:lnTo>
                    <a:pt x="687" y="89"/>
                  </a:lnTo>
                  <a:lnTo>
                    <a:pt x="712" y="100"/>
                  </a:lnTo>
                  <a:lnTo>
                    <a:pt x="736" y="109"/>
                  </a:lnTo>
                  <a:lnTo>
                    <a:pt x="761" y="115"/>
                  </a:lnTo>
                  <a:lnTo>
                    <a:pt x="784" y="121"/>
                  </a:lnTo>
                  <a:lnTo>
                    <a:pt x="809" y="124"/>
                  </a:lnTo>
                  <a:lnTo>
                    <a:pt x="832" y="126"/>
                  </a:lnTo>
                  <a:lnTo>
                    <a:pt x="856" y="128"/>
                  </a:lnTo>
                  <a:lnTo>
                    <a:pt x="903" y="126"/>
                  </a:lnTo>
                  <a:lnTo>
                    <a:pt x="950" y="124"/>
                  </a:lnTo>
                  <a:lnTo>
                    <a:pt x="978" y="123"/>
                  </a:lnTo>
                  <a:lnTo>
                    <a:pt x="1005" y="123"/>
                  </a:lnTo>
                  <a:lnTo>
                    <a:pt x="1031" y="124"/>
                  </a:lnTo>
                  <a:lnTo>
                    <a:pt x="1056" y="125"/>
                  </a:lnTo>
                  <a:lnTo>
                    <a:pt x="1081" y="128"/>
                  </a:lnTo>
                  <a:lnTo>
                    <a:pt x="1104" y="130"/>
                  </a:lnTo>
                  <a:lnTo>
                    <a:pt x="1126" y="135"/>
                  </a:lnTo>
                  <a:lnTo>
                    <a:pt x="1148" y="139"/>
                  </a:lnTo>
                  <a:lnTo>
                    <a:pt x="1168" y="145"/>
                  </a:lnTo>
                  <a:lnTo>
                    <a:pt x="1187" y="151"/>
                  </a:lnTo>
                  <a:lnTo>
                    <a:pt x="1205" y="159"/>
                  </a:lnTo>
                  <a:lnTo>
                    <a:pt x="1220" y="168"/>
                  </a:lnTo>
                  <a:lnTo>
                    <a:pt x="1234" y="178"/>
                  </a:lnTo>
                  <a:lnTo>
                    <a:pt x="1245" y="190"/>
                  </a:lnTo>
                  <a:lnTo>
                    <a:pt x="1251" y="195"/>
                  </a:lnTo>
                  <a:lnTo>
                    <a:pt x="1256" y="202"/>
                  </a:lnTo>
                  <a:lnTo>
                    <a:pt x="1261" y="209"/>
                  </a:lnTo>
                  <a:lnTo>
                    <a:pt x="1264" y="216"/>
                  </a:lnTo>
                  <a:lnTo>
                    <a:pt x="1256" y="234"/>
                  </a:lnTo>
                  <a:lnTo>
                    <a:pt x="1248" y="253"/>
                  </a:lnTo>
                  <a:lnTo>
                    <a:pt x="1242" y="270"/>
                  </a:lnTo>
                  <a:lnTo>
                    <a:pt x="1235" y="289"/>
                  </a:lnTo>
                  <a:lnTo>
                    <a:pt x="1224" y="325"/>
                  </a:lnTo>
                  <a:lnTo>
                    <a:pt x="1215" y="358"/>
                  </a:lnTo>
                  <a:lnTo>
                    <a:pt x="1254" y="327"/>
                  </a:lnTo>
                  <a:lnTo>
                    <a:pt x="1287" y="298"/>
                  </a:lnTo>
                  <a:lnTo>
                    <a:pt x="1318" y="270"/>
                  </a:lnTo>
                  <a:lnTo>
                    <a:pt x="1346" y="246"/>
                  </a:lnTo>
                  <a:lnTo>
                    <a:pt x="1359" y="234"/>
                  </a:lnTo>
                  <a:lnTo>
                    <a:pt x="1370" y="225"/>
                  </a:lnTo>
                  <a:lnTo>
                    <a:pt x="1382" y="216"/>
                  </a:lnTo>
                  <a:lnTo>
                    <a:pt x="1393" y="209"/>
                  </a:lnTo>
                  <a:lnTo>
                    <a:pt x="1403" y="205"/>
                  </a:lnTo>
                  <a:lnTo>
                    <a:pt x="1412" y="201"/>
                  </a:lnTo>
                  <a:lnTo>
                    <a:pt x="1422" y="200"/>
                  </a:lnTo>
                  <a:lnTo>
                    <a:pt x="1431" y="202"/>
                  </a:lnTo>
                  <a:lnTo>
                    <a:pt x="1411" y="235"/>
                  </a:lnTo>
                  <a:lnTo>
                    <a:pt x="1394" y="271"/>
                  </a:lnTo>
                  <a:lnTo>
                    <a:pt x="1384" y="289"/>
                  </a:lnTo>
                  <a:lnTo>
                    <a:pt x="1377" y="307"/>
                  </a:lnTo>
                  <a:lnTo>
                    <a:pt x="1370" y="326"/>
                  </a:lnTo>
                  <a:lnTo>
                    <a:pt x="1363" y="346"/>
                  </a:lnTo>
                  <a:lnTo>
                    <a:pt x="1358" y="365"/>
                  </a:lnTo>
                  <a:lnTo>
                    <a:pt x="1352" y="385"/>
                  </a:lnTo>
                  <a:lnTo>
                    <a:pt x="1347" y="404"/>
                  </a:lnTo>
                  <a:lnTo>
                    <a:pt x="1344" y="424"/>
                  </a:lnTo>
                  <a:lnTo>
                    <a:pt x="1340" y="445"/>
                  </a:lnTo>
                  <a:lnTo>
                    <a:pt x="1338" y="466"/>
                  </a:lnTo>
                  <a:lnTo>
                    <a:pt x="1337" y="486"/>
                  </a:lnTo>
                  <a:lnTo>
                    <a:pt x="1335" y="507"/>
                  </a:lnTo>
                  <a:lnTo>
                    <a:pt x="1335" y="528"/>
                  </a:lnTo>
                  <a:lnTo>
                    <a:pt x="1337" y="549"/>
                  </a:lnTo>
                  <a:lnTo>
                    <a:pt x="1339" y="571"/>
                  </a:lnTo>
                  <a:lnTo>
                    <a:pt x="1341" y="592"/>
                  </a:lnTo>
                  <a:lnTo>
                    <a:pt x="1346" y="614"/>
                  </a:lnTo>
                  <a:lnTo>
                    <a:pt x="1351" y="636"/>
                  </a:lnTo>
                  <a:lnTo>
                    <a:pt x="1358" y="657"/>
                  </a:lnTo>
                  <a:lnTo>
                    <a:pt x="1365" y="679"/>
                  </a:lnTo>
                  <a:lnTo>
                    <a:pt x="1373" y="700"/>
                  </a:lnTo>
                  <a:lnTo>
                    <a:pt x="1383" y="722"/>
                  </a:lnTo>
                  <a:lnTo>
                    <a:pt x="1394" y="743"/>
                  </a:lnTo>
                  <a:lnTo>
                    <a:pt x="1407" y="764"/>
                  </a:lnTo>
                  <a:lnTo>
                    <a:pt x="1419" y="786"/>
                  </a:lnTo>
                  <a:lnTo>
                    <a:pt x="1435" y="807"/>
                  </a:lnTo>
                  <a:lnTo>
                    <a:pt x="1451" y="828"/>
                  </a:lnTo>
                  <a:lnTo>
                    <a:pt x="1469" y="849"/>
                  </a:lnTo>
                  <a:lnTo>
                    <a:pt x="781" y="87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5" name="Freeform 166"/>
            <p:cNvSpPr/>
            <p:nvPr/>
          </p:nvSpPr>
          <p:spPr>
            <a:xfrm>
              <a:off x="5184000" y="2736360"/>
              <a:ext cx="958320" cy="555840"/>
            </a:xfrm>
            <a:custGeom>
              <a:avLst/>
              <a:gdLst>
                <a:gd name="textAreaLeft" fmla="*/ 0 w 958320"/>
                <a:gd name="textAreaRight" fmla="*/ 958680 w 958320"/>
                <a:gd name="textAreaTop" fmla="*/ 0 h 555840"/>
                <a:gd name="textAreaBottom" fmla="*/ 556200 h 555840"/>
              </a:gdLst>
              <a:ahLst/>
              <a:rect l="textAreaLeft" t="textAreaTop" r="textAreaRight" b="textAreaBottom"/>
              <a:pathLst>
                <a:path w="2180" h="1227">
                  <a:moveTo>
                    <a:pt x="1270" y="0"/>
                  </a:moveTo>
                  <a:lnTo>
                    <a:pt x="0" y="37"/>
                  </a:lnTo>
                  <a:lnTo>
                    <a:pt x="5" y="65"/>
                  </a:lnTo>
                  <a:lnTo>
                    <a:pt x="12" y="94"/>
                  </a:lnTo>
                  <a:lnTo>
                    <a:pt x="20" y="118"/>
                  </a:lnTo>
                  <a:lnTo>
                    <a:pt x="28" y="140"/>
                  </a:lnTo>
                  <a:lnTo>
                    <a:pt x="34" y="150"/>
                  </a:lnTo>
                  <a:lnTo>
                    <a:pt x="39" y="158"/>
                  </a:lnTo>
                  <a:lnTo>
                    <a:pt x="45" y="166"/>
                  </a:lnTo>
                  <a:lnTo>
                    <a:pt x="51" y="172"/>
                  </a:lnTo>
                  <a:lnTo>
                    <a:pt x="56" y="178"/>
                  </a:lnTo>
                  <a:lnTo>
                    <a:pt x="63" y="181"/>
                  </a:lnTo>
                  <a:lnTo>
                    <a:pt x="70" y="183"/>
                  </a:lnTo>
                  <a:lnTo>
                    <a:pt x="77" y="185"/>
                  </a:lnTo>
                  <a:lnTo>
                    <a:pt x="86" y="202"/>
                  </a:lnTo>
                  <a:lnTo>
                    <a:pt x="93" y="217"/>
                  </a:lnTo>
                  <a:lnTo>
                    <a:pt x="100" y="228"/>
                  </a:lnTo>
                  <a:lnTo>
                    <a:pt x="107" y="235"/>
                  </a:lnTo>
                  <a:lnTo>
                    <a:pt x="110" y="238"/>
                  </a:lnTo>
                  <a:lnTo>
                    <a:pt x="115" y="240"/>
                  </a:lnTo>
                  <a:lnTo>
                    <a:pt x="118" y="241"/>
                  </a:lnTo>
                  <a:lnTo>
                    <a:pt x="123" y="242"/>
                  </a:lnTo>
                  <a:lnTo>
                    <a:pt x="133" y="242"/>
                  </a:lnTo>
                  <a:lnTo>
                    <a:pt x="146" y="238"/>
                  </a:lnTo>
                  <a:lnTo>
                    <a:pt x="174" y="235"/>
                  </a:lnTo>
                  <a:lnTo>
                    <a:pt x="201" y="231"/>
                  </a:lnTo>
                  <a:lnTo>
                    <a:pt x="213" y="231"/>
                  </a:lnTo>
                  <a:lnTo>
                    <a:pt x="223" y="233"/>
                  </a:lnTo>
                  <a:lnTo>
                    <a:pt x="233" y="234"/>
                  </a:lnTo>
                  <a:lnTo>
                    <a:pt x="242" y="236"/>
                  </a:lnTo>
                  <a:lnTo>
                    <a:pt x="249" y="240"/>
                  </a:lnTo>
                  <a:lnTo>
                    <a:pt x="256" y="244"/>
                  </a:lnTo>
                  <a:lnTo>
                    <a:pt x="261" y="250"/>
                  </a:lnTo>
                  <a:lnTo>
                    <a:pt x="264" y="257"/>
                  </a:lnTo>
                  <a:lnTo>
                    <a:pt x="267" y="266"/>
                  </a:lnTo>
                  <a:lnTo>
                    <a:pt x="267" y="277"/>
                  </a:lnTo>
                  <a:lnTo>
                    <a:pt x="265" y="289"/>
                  </a:lnTo>
                  <a:lnTo>
                    <a:pt x="262" y="303"/>
                  </a:lnTo>
                  <a:lnTo>
                    <a:pt x="261" y="306"/>
                  </a:lnTo>
                  <a:lnTo>
                    <a:pt x="261" y="311"/>
                  </a:lnTo>
                  <a:lnTo>
                    <a:pt x="262" y="314"/>
                  </a:lnTo>
                  <a:lnTo>
                    <a:pt x="263" y="318"/>
                  </a:lnTo>
                  <a:lnTo>
                    <a:pt x="268" y="326"/>
                  </a:lnTo>
                  <a:lnTo>
                    <a:pt x="275" y="332"/>
                  </a:lnTo>
                  <a:lnTo>
                    <a:pt x="284" y="339"/>
                  </a:lnTo>
                  <a:lnTo>
                    <a:pt x="293" y="345"/>
                  </a:lnTo>
                  <a:lnTo>
                    <a:pt x="305" y="351"/>
                  </a:lnTo>
                  <a:lnTo>
                    <a:pt x="317" y="356"/>
                  </a:lnTo>
                  <a:lnTo>
                    <a:pt x="339" y="368"/>
                  </a:lnTo>
                  <a:lnTo>
                    <a:pt x="358" y="380"/>
                  </a:lnTo>
                  <a:lnTo>
                    <a:pt x="365" y="386"/>
                  </a:lnTo>
                  <a:lnTo>
                    <a:pt x="371" y="391"/>
                  </a:lnTo>
                  <a:lnTo>
                    <a:pt x="372" y="395"/>
                  </a:lnTo>
                  <a:lnTo>
                    <a:pt x="372" y="398"/>
                  </a:lnTo>
                  <a:lnTo>
                    <a:pt x="372" y="402"/>
                  </a:lnTo>
                  <a:lnTo>
                    <a:pt x="372" y="405"/>
                  </a:lnTo>
                  <a:lnTo>
                    <a:pt x="368" y="1028"/>
                  </a:lnTo>
                  <a:lnTo>
                    <a:pt x="443" y="1199"/>
                  </a:lnTo>
                  <a:lnTo>
                    <a:pt x="1909" y="1144"/>
                  </a:lnTo>
                  <a:lnTo>
                    <a:pt x="1901" y="1227"/>
                  </a:lnTo>
                  <a:lnTo>
                    <a:pt x="2039" y="1213"/>
                  </a:lnTo>
                  <a:lnTo>
                    <a:pt x="2049" y="1202"/>
                  </a:lnTo>
                  <a:lnTo>
                    <a:pt x="2059" y="1192"/>
                  </a:lnTo>
                  <a:lnTo>
                    <a:pt x="2066" y="1181"/>
                  </a:lnTo>
                  <a:lnTo>
                    <a:pt x="2070" y="1172"/>
                  </a:lnTo>
                  <a:lnTo>
                    <a:pt x="2075" y="1163"/>
                  </a:lnTo>
                  <a:lnTo>
                    <a:pt x="2077" y="1154"/>
                  </a:lnTo>
                  <a:lnTo>
                    <a:pt x="2080" y="1146"/>
                  </a:lnTo>
                  <a:lnTo>
                    <a:pt x="2081" y="1137"/>
                  </a:lnTo>
                  <a:lnTo>
                    <a:pt x="2081" y="1120"/>
                  </a:lnTo>
                  <a:lnTo>
                    <a:pt x="2081" y="1102"/>
                  </a:lnTo>
                  <a:lnTo>
                    <a:pt x="2081" y="1092"/>
                  </a:lnTo>
                  <a:lnTo>
                    <a:pt x="2082" y="1082"/>
                  </a:lnTo>
                  <a:lnTo>
                    <a:pt x="2083" y="1071"/>
                  </a:lnTo>
                  <a:lnTo>
                    <a:pt x="2085" y="1060"/>
                  </a:lnTo>
                  <a:lnTo>
                    <a:pt x="2092" y="1037"/>
                  </a:lnTo>
                  <a:lnTo>
                    <a:pt x="2101" y="1016"/>
                  </a:lnTo>
                  <a:lnTo>
                    <a:pt x="2110" y="996"/>
                  </a:lnTo>
                  <a:lnTo>
                    <a:pt x="2122" y="979"/>
                  </a:lnTo>
                  <a:lnTo>
                    <a:pt x="2134" y="961"/>
                  </a:lnTo>
                  <a:lnTo>
                    <a:pt x="2148" y="945"/>
                  </a:lnTo>
                  <a:lnTo>
                    <a:pt x="2164" y="931"/>
                  </a:lnTo>
                  <a:lnTo>
                    <a:pt x="2180" y="918"/>
                  </a:lnTo>
                  <a:lnTo>
                    <a:pt x="2179" y="901"/>
                  </a:lnTo>
                  <a:lnTo>
                    <a:pt x="2176" y="887"/>
                  </a:lnTo>
                  <a:lnTo>
                    <a:pt x="2174" y="881"/>
                  </a:lnTo>
                  <a:lnTo>
                    <a:pt x="2172" y="876"/>
                  </a:lnTo>
                  <a:lnTo>
                    <a:pt x="2169" y="871"/>
                  </a:lnTo>
                  <a:lnTo>
                    <a:pt x="2167" y="868"/>
                  </a:lnTo>
                  <a:lnTo>
                    <a:pt x="2160" y="862"/>
                  </a:lnTo>
                  <a:lnTo>
                    <a:pt x="2152" y="859"/>
                  </a:lnTo>
                  <a:lnTo>
                    <a:pt x="2143" y="856"/>
                  </a:lnTo>
                  <a:lnTo>
                    <a:pt x="2133" y="855"/>
                  </a:lnTo>
                  <a:lnTo>
                    <a:pt x="2111" y="854"/>
                  </a:lnTo>
                  <a:lnTo>
                    <a:pt x="2088" y="852"/>
                  </a:lnTo>
                  <a:lnTo>
                    <a:pt x="2075" y="848"/>
                  </a:lnTo>
                  <a:lnTo>
                    <a:pt x="2063" y="843"/>
                  </a:lnTo>
                  <a:lnTo>
                    <a:pt x="2057" y="840"/>
                  </a:lnTo>
                  <a:lnTo>
                    <a:pt x="2050" y="836"/>
                  </a:lnTo>
                  <a:lnTo>
                    <a:pt x="2044" y="832"/>
                  </a:lnTo>
                  <a:lnTo>
                    <a:pt x="2039" y="826"/>
                  </a:lnTo>
                  <a:lnTo>
                    <a:pt x="2039" y="804"/>
                  </a:lnTo>
                  <a:lnTo>
                    <a:pt x="2037" y="783"/>
                  </a:lnTo>
                  <a:lnTo>
                    <a:pt x="2035" y="763"/>
                  </a:lnTo>
                  <a:lnTo>
                    <a:pt x="2032" y="744"/>
                  </a:lnTo>
                  <a:lnTo>
                    <a:pt x="2027" y="728"/>
                  </a:lnTo>
                  <a:lnTo>
                    <a:pt x="2021" y="711"/>
                  </a:lnTo>
                  <a:lnTo>
                    <a:pt x="2013" y="696"/>
                  </a:lnTo>
                  <a:lnTo>
                    <a:pt x="2004" y="682"/>
                  </a:lnTo>
                  <a:lnTo>
                    <a:pt x="1992" y="668"/>
                  </a:lnTo>
                  <a:lnTo>
                    <a:pt x="1978" y="655"/>
                  </a:lnTo>
                  <a:lnTo>
                    <a:pt x="1962" y="644"/>
                  </a:lnTo>
                  <a:lnTo>
                    <a:pt x="1943" y="633"/>
                  </a:lnTo>
                  <a:lnTo>
                    <a:pt x="1922" y="623"/>
                  </a:lnTo>
                  <a:lnTo>
                    <a:pt x="1897" y="612"/>
                  </a:lnTo>
                  <a:lnTo>
                    <a:pt x="1870" y="603"/>
                  </a:lnTo>
                  <a:lnTo>
                    <a:pt x="1840" y="593"/>
                  </a:lnTo>
                  <a:lnTo>
                    <a:pt x="1810" y="584"/>
                  </a:lnTo>
                  <a:lnTo>
                    <a:pt x="1784" y="575"/>
                  </a:lnTo>
                  <a:lnTo>
                    <a:pt x="1762" y="564"/>
                  </a:lnTo>
                  <a:lnTo>
                    <a:pt x="1742" y="554"/>
                  </a:lnTo>
                  <a:lnTo>
                    <a:pt x="1726" y="543"/>
                  </a:lnTo>
                  <a:lnTo>
                    <a:pt x="1713" y="532"/>
                  </a:lnTo>
                  <a:lnTo>
                    <a:pt x="1701" y="520"/>
                  </a:lnTo>
                  <a:lnTo>
                    <a:pt x="1693" y="507"/>
                  </a:lnTo>
                  <a:lnTo>
                    <a:pt x="1687" y="495"/>
                  </a:lnTo>
                  <a:lnTo>
                    <a:pt x="1682" y="482"/>
                  </a:lnTo>
                  <a:lnTo>
                    <a:pt x="1680" y="471"/>
                  </a:lnTo>
                  <a:lnTo>
                    <a:pt x="1679" y="458"/>
                  </a:lnTo>
                  <a:lnTo>
                    <a:pt x="1679" y="445"/>
                  </a:lnTo>
                  <a:lnTo>
                    <a:pt x="1680" y="433"/>
                  </a:lnTo>
                  <a:lnTo>
                    <a:pt x="1682" y="421"/>
                  </a:lnTo>
                  <a:lnTo>
                    <a:pt x="1685" y="409"/>
                  </a:lnTo>
                  <a:lnTo>
                    <a:pt x="1686" y="398"/>
                  </a:lnTo>
                  <a:lnTo>
                    <a:pt x="1687" y="389"/>
                  </a:lnTo>
                  <a:lnTo>
                    <a:pt x="1685" y="382"/>
                  </a:lnTo>
                  <a:lnTo>
                    <a:pt x="1682" y="376"/>
                  </a:lnTo>
                  <a:lnTo>
                    <a:pt x="1678" y="370"/>
                  </a:lnTo>
                  <a:lnTo>
                    <a:pt x="1672" y="366"/>
                  </a:lnTo>
                  <a:lnTo>
                    <a:pt x="1664" y="362"/>
                  </a:lnTo>
                  <a:lnTo>
                    <a:pt x="1656" y="359"/>
                  </a:lnTo>
                  <a:lnTo>
                    <a:pt x="1609" y="348"/>
                  </a:lnTo>
                  <a:lnTo>
                    <a:pt x="1547" y="331"/>
                  </a:lnTo>
                  <a:lnTo>
                    <a:pt x="1529" y="325"/>
                  </a:lnTo>
                  <a:lnTo>
                    <a:pt x="1512" y="319"/>
                  </a:lnTo>
                  <a:lnTo>
                    <a:pt x="1495" y="312"/>
                  </a:lnTo>
                  <a:lnTo>
                    <a:pt x="1479" y="304"/>
                  </a:lnTo>
                  <a:lnTo>
                    <a:pt x="1465" y="296"/>
                  </a:lnTo>
                  <a:lnTo>
                    <a:pt x="1451" y="287"/>
                  </a:lnTo>
                  <a:lnTo>
                    <a:pt x="1438" y="278"/>
                  </a:lnTo>
                  <a:lnTo>
                    <a:pt x="1425" y="269"/>
                  </a:lnTo>
                  <a:lnTo>
                    <a:pt x="1415" y="259"/>
                  </a:lnTo>
                  <a:lnTo>
                    <a:pt x="1406" y="249"/>
                  </a:lnTo>
                  <a:lnTo>
                    <a:pt x="1396" y="240"/>
                  </a:lnTo>
                  <a:lnTo>
                    <a:pt x="1389" y="230"/>
                  </a:lnTo>
                  <a:lnTo>
                    <a:pt x="1385" y="221"/>
                  </a:lnTo>
                  <a:lnTo>
                    <a:pt x="1380" y="210"/>
                  </a:lnTo>
                  <a:lnTo>
                    <a:pt x="1377" y="202"/>
                  </a:lnTo>
                  <a:lnTo>
                    <a:pt x="1376" y="193"/>
                  </a:lnTo>
                  <a:lnTo>
                    <a:pt x="1375" y="185"/>
                  </a:lnTo>
                  <a:lnTo>
                    <a:pt x="1373" y="176"/>
                  </a:lnTo>
                  <a:lnTo>
                    <a:pt x="1368" y="168"/>
                  </a:lnTo>
                  <a:lnTo>
                    <a:pt x="1361" y="161"/>
                  </a:lnTo>
                  <a:lnTo>
                    <a:pt x="1354" y="154"/>
                  </a:lnTo>
                  <a:lnTo>
                    <a:pt x="1346" y="148"/>
                  </a:lnTo>
                  <a:lnTo>
                    <a:pt x="1338" y="143"/>
                  </a:lnTo>
                  <a:lnTo>
                    <a:pt x="1328" y="137"/>
                  </a:lnTo>
                  <a:lnTo>
                    <a:pt x="1296" y="120"/>
                  </a:lnTo>
                  <a:lnTo>
                    <a:pt x="1282" y="115"/>
                  </a:lnTo>
                  <a:lnTo>
                    <a:pt x="127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6" name="Freeform 167"/>
            <p:cNvSpPr/>
            <p:nvPr/>
          </p:nvSpPr>
          <p:spPr>
            <a:xfrm>
              <a:off x="5184000" y="2736360"/>
              <a:ext cx="958320" cy="555840"/>
            </a:xfrm>
            <a:custGeom>
              <a:avLst/>
              <a:gdLst>
                <a:gd name="textAreaLeft" fmla="*/ 0 w 958320"/>
                <a:gd name="textAreaRight" fmla="*/ 958680 w 958320"/>
                <a:gd name="textAreaTop" fmla="*/ 0 h 555840"/>
                <a:gd name="textAreaBottom" fmla="*/ 556200 h 555840"/>
              </a:gdLst>
              <a:ahLst/>
              <a:rect l="textAreaLeft" t="textAreaTop" r="textAreaRight" b="textAreaBottom"/>
              <a:pathLst>
                <a:path w="2180" h="1227">
                  <a:moveTo>
                    <a:pt x="1270" y="0"/>
                  </a:moveTo>
                  <a:lnTo>
                    <a:pt x="0" y="37"/>
                  </a:lnTo>
                  <a:lnTo>
                    <a:pt x="5" y="65"/>
                  </a:lnTo>
                  <a:lnTo>
                    <a:pt x="12" y="94"/>
                  </a:lnTo>
                  <a:lnTo>
                    <a:pt x="20" y="118"/>
                  </a:lnTo>
                  <a:lnTo>
                    <a:pt x="28" y="140"/>
                  </a:lnTo>
                  <a:lnTo>
                    <a:pt x="34" y="150"/>
                  </a:lnTo>
                  <a:lnTo>
                    <a:pt x="39" y="158"/>
                  </a:lnTo>
                  <a:lnTo>
                    <a:pt x="45" y="166"/>
                  </a:lnTo>
                  <a:lnTo>
                    <a:pt x="51" y="172"/>
                  </a:lnTo>
                  <a:lnTo>
                    <a:pt x="56" y="178"/>
                  </a:lnTo>
                  <a:lnTo>
                    <a:pt x="63" y="181"/>
                  </a:lnTo>
                  <a:lnTo>
                    <a:pt x="70" y="183"/>
                  </a:lnTo>
                  <a:lnTo>
                    <a:pt x="77" y="185"/>
                  </a:lnTo>
                  <a:lnTo>
                    <a:pt x="86" y="202"/>
                  </a:lnTo>
                  <a:lnTo>
                    <a:pt x="93" y="217"/>
                  </a:lnTo>
                  <a:lnTo>
                    <a:pt x="100" y="228"/>
                  </a:lnTo>
                  <a:lnTo>
                    <a:pt x="107" y="235"/>
                  </a:lnTo>
                  <a:lnTo>
                    <a:pt x="110" y="238"/>
                  </a:lnTo>
                  <a:lnTo>
                    <a:pt x="115" y="240"/>
                  </a:lnTo>
                  <a:lnTo>
                    <a:pt x="118" y="241"/>
                  </a:lnTo>
                  <a:lnTo>
                    <a:pt x="123" y="242"/>
                  </a:lnTo>
                  <a:lnTo>
                    <a:pt x="133" y="242"/>
                  </a:lnTo>
                  <a:lnTo>
                    <a:pt x="146" y="238"/>
                  </a:lnTo>
                  <a:lnTo>
                    <a:pt x="174" y="235"/>
                  </a:lnTo>
                  <a:lnTo>
                    <a:pt x="201" y="231"/>
                  </a:lnTo>
                  <a:lnTo>
                    <a:pt x="213" y="231"/>
                  </a:lnTo>
                  <a:lnTo>
                    <a:pt x="223" y="233"/>
                  </a:lnTo>
                  <a:lnTo>
                    <a:pt x="233" y="234"/>
                  </a:lnTo>
                  <a:lnTo>
                    <a:pt x="242" y="236"/>
                  </a:lnTo>
                  <a:lnTo>
                    <a:pt x="249" y="240"/>
                  </a:lnTo>
                  <a:lnTo>
                    <a:pt x="256" y="244"/>
                  </a:lnTo>
                  <a:lnTo>
                    <a:pt x="261" y="250"/>
                  </a:lnTo>
                  <a:lnTo>
                    <a:pt x="264" y="257"/>
                  </a:lnTo>
                  <a:lnTo>
                    <a:pt x="267" y="266"/>
                  </a:lnTo>
                  <a:lnTo>
                    <a:pt x="267" y="277"/>
                  </a:lnTo>
                  <a:lnTo>
                    <a:pt x="265" y="289"/>
                  </a:lnTo>
                  <a:lnTo>
                    <a:pt x="262" y="303"/>
                  </a:lnTo>
                  <a:lnTo>
                    <a:pt x="261" y="306"/>
                  </a:lnTo>
                  <a:lnTo>
                    <a:pt x="261" y="311"/>
                  </a:lnTo>
                  <a:lnTo>
                    <a:pt x="262" y="314"/>
                  </a:lnTo>
                  <a:lnTo>
                    <a:pt x="263" y="318"/>
                  </a:lnTo>
                  <a:lnTo>
                    <a:pt x="268" y="326"/>
                  </a:lnTo>
                  <a:lnTo>
                    <a:pt x="275" y="332"/>
                  </a:lnTo>
                  <a:lnTo>
                    <a:pt x="284" y="339"/>
                  </a:lnTo>
                  <a:lnTo>
                    <a:pt x="293" y="345"/>
                  </a:lnTo>
                  <a:lnTo>
                    <a:pt x="305" y="351"/>
                  </a:lnTo>
                  <a:lnTo>
                    <a:pt x="317" y="356"/>
                  </a:lnTo>
                  <a:lnTo>
                    <a:pt x="339" y="368"/>
                  </a:lnTo>
                  <a:lnTo>
                    <a:pt x="358" y="380"/>
                  </a:lnTo>
                  <a:lnTo>
                    <a:pt x="365" y="386"/>
                  </a:lnTo>
                  <a:lnTo>
                    <a:pt x="371" y="391"/>
                  </a:lnTo>
                  <a:lnTo>
                    <a:pt x="372" y="395"/>
                  </a:lnTo>
                  <a:lnTo>
                    <a:pt x="372" y="398"/>
                  </a:lnTo>
                  <a:lnTo>
                    <a:pt x="372" y="402"/>
                  </a:lnTo>
                  <a:lnTo>
                    <a:pt x="372" y="405"/>
                  </a:lnTo>
                  <a:lnTo>
                    <a:pt x="368" y="1028"/>
                  </a:lnTo>
                  <a:lnTo>
                    <a:pt x="443" y="1199"/>
                  </a:lnTo>
                  <a:lnTo>
                    <a:pt x="1909" y="1144"/>
                  </a:lnTo>
                  <a:lnTo>
                    <a:pt x="1901" y="1227"/>
                  </a:lnTo>
                  <a:lnTo>
                    <a:pt x="2039" y="1213"/>
                  </a:lnTo>
                  <a:lnTo>
                    <a:pt x="2049" y="1202"/>
                  </a:lnTo>
                  <a:lnTo>
                    <a:pt x="2059" y="1192"/>
                  </a:lnTo>
                  <a:lnTo>
                    <a:pt x="2066" y="1181"/>
                  </a:lnTo>
                  <a:lnTo>
                    <a:pt x="2070" y="1172"/>
                  </a:lnTo>
                  <a:lnTo>
                    <a:pt x="2075" y="1163"/>
                  </a:lnTo>
                  <a:lnTo>
                    <a:pt x="2077" y="1154"/>
                  </a:lnTo>
                  <a:lnTo>
                    <a:pt x="2080" y="1146"/>
                  </a:lnTo>
                  <a:lnTo>
                    <a:pt x="2081" y="1137"/>
                  </a:lnTo>
                  <a:lnTo>
                    <a:pt x="2081" y="1120"/>
                  </a:lnTo>
                  <a:lnTo>
                    <a:pt x="2081" y="1102"/>
                  </a:lnTo>
                  <a:lnTo>
                    <a:pt x="2081" y="1092"/>
                  </a:lnTo>
                  <a:lnTo>
                    <a:pt x="2082" y="1082"/>
                  </a:lnTo>
                  <a:lnTo>
                    <a:pt x="2083" y="1071"/>
                  </a:lnTo>
                  <a:lnTo>
                    <a:pt x="2085" y="1060"/>
                  </a:lnTo>
                  <a:lnTo>
                    <a:pt x="2092" y="1037"/>
                  </a:lnTo>
                  <a:lnTo>
                    <a:pt x="2101" y="1016"/>
                  </a:lnTo>
                  <a:lnTo>
                    <a:pt x="2110" y="996"/>
                  </a:lnTo>
                  <a:lnTo>
                    <a:pt x="2122" y="979"/>
                  </a:lnTo>
                  <a:lnTo>
                    <a:pt x="2134" y="961"/>
                  </a:lnTo>
                  <a:lnTo>
                    <a:pt x="2148" y="945"/>
                  </a:lnTo>
                  <a:lnTo>
                    <a:pt x="2164" y="931"/>
                  </a:lnTo>
                  <a:lnTo>
                    <a:pt x="2180" y="918"/>
                  </a:lnTo>
                  <a:lnTo>
                    <a:pt x="2179" y="901"/>
                  </a:lnTo>
                  <a:lnTo>
                    <a:pt x="2176" y="887"/>
                  </a:lnTo>
                  <a:lnTo>
                    <a:pt x="2174" y="881"/>
                  </a:lnTo>
                  <a:lnTo>
                    <a:pt x="2172" y="876"/>
                  </a:lnTo>
                  <a:lnTo>
                    <a:pt x="2169" y="871"/>
                  </a:lnTo>
                  <a:lnTo>
                    <a:pt x="2167" y="868"/>
                  </a:lnTo>
                  <a:lnTo>
                    <a:pt x="2160" y="862"/>
                  </a:lnTo>
                  <a:lnTo>
                    <a:pt x="2152" y="859"/>
                  </a:lnTo>
                  <a:lnTo>
                    <a:pt x="2143" y="856"/>
                  </a:lnTo>
                  <a:lnTo>
                    <a:pt x="2133" y="855"/>
                  </a:lnTo>
                  <a:lnTo>
                    <a:pt x="2111" y="854"/>
                  </a:lnTo>
                  <a:lnTo>
                    <a:pt x="2088" y="852"/>
                  </a:lnTo>
                  <a:lnTo>
                    <a:pt x="2075" y="848"/>
                  </a:lnTo>
                  <a:lnTo>
                    <a:pt x="2063" y="843"/>
                  </a:lnTo>
                  <a:lnTo>
                    <a:pt x="2057" y="840"/>
                  </a:lnTo>
                  <a:lnTo>
                    <a:pt x="2050" y="836"/>
                  </a:lnTo>
                  <a:lnTo>
                    <a:pt x="2044" y="832"/>
                  </a:lnTo>
                  <a:lnTo>
                    <a:pt x="2039" y="826"/>
                  </a:lnTo>
                  <a:lnTo>
                    <a:pt x="2039" y="804"/>
                  </a:lnTo>
                  <a:lnTo>
                    <a:pt x="2037" y="783"/>
                  </a:lnTo>
                  <a:lnTo>
                    <a:pt x="2035" y="763"/>
                  </a:lnTo>
                  <a:lnTo>
                    <a:pt x="2032" y="744"/>
                  </a:lnTo>
                  <a:lnTo>
                    <a:pt x="2027" y="728"/>
                  </a:lnTo>
                  <a:lnTo>
                    <a:pt x="2021" y="711"/>
                  </a:lnTo>
                  <a:lnTo>
                    <a:pt x="2013" y="696"/>
                  </a:lnTo>
                  <a:lnTo>
                    <a:pt x="2004" y="682"/>
                  </a:lnTo>
                  <a:lnTo>
                    <a:pt x="1992" y="668"/>
                  </a:lnTo>
                  <a:lnTo>
                    <a:pt x="1978" y="655"/>
                  </a:lnTo>
                  <a:lnTo>
                    <a:pt x="1962" y="644"/>
                  </a:lnTo>
                  <a:lnTo>
                    <a:pt x="1943" y="633"/>
                  </a:lnTo>
                  <a:lnTo>
                    <a:pt x="1922" y="623"/>
                  </a:lnTo>
                  <a:lnTo>
                    <a:pt x="1897" y="612"/>
                  </a:lnTo>
                  <a:lnTo>
                    <a:pt x="1870" y="603"/>
                  </a:lnTo>
                  <a:lnTo>
                    <a:pt x="1840" y="593"/>
                  </a:lnTo>
                  <a:lnTo>
                    <a:pt x="1810" y="584"/>
                  </a:lnTo>
                  <a:lnTo>
                    <a:pt x="1784" y="575"/>
                  </a:lnTo>
                  <a:lnTo>
                    <a:pt x="1762" y="564"/>
                  </a:lnTo>
                  <a:lnTo>
                    <a:pt x="1742" y="554"/>
                  </a:lnTo>
                  <a:lnTo>
                    <a:pt x="1726" y="543"/>
                  </a:lnTo>
                  <a:lnTo>
                    <a:pt x="1713" y="532"/>
                  </a:lnTo>
                  <a:lnTo>
                    <a:pt x="1701" y="520"/>
                  </a:lnTo>
                  <a:lnTo>
                    <a:pt x="1693" y="507"/>
                  </a:lnTo>
                  <a:lnTo>
                    <a:pt x="1687" y="495"/>
                  </a:lnTo>
                  <a:lnTo>
                    <a:pt x="1682" y="482"/>
                  </a:lnTo>
                  <a:lnTo>
                    <a:pt x="1680" y="471"/>
                  </a:lnTo>
                  <a:lnTo>
                    <a:pt x="1679" y="458"/>
                  </a:lnTo>
                  <a:lnTo>
                    <a:pt x="1679" y="445"/>
                  </a:lnTo>
                  <a:lnTo>
                    <a:pt x="1680" y="433"/>
                  </a:lnTo>
                  <a:lnTo>
                    <a:pt x="1682" y="421"/>
                  </a:lnTo>
                  <a:lnTo>
                    <a:pt x="1685" y="409"/>
                  </a:lnTo>
                  <a:lnTo>
                    <a:pt x="1686" y="398"/>
                  </a:lnTo>
                  <a:lnTo>
                    <a:pt x="1687" y="389"/>
                  </a:lnTo>
                  <a:lnTo>
                    <a:pt x="1685" y="382"/>
                  </a:lnTo>
                  <a:lnTo>
                    <a:pt x="1682" y="376"/>
                  </a:lnTo>
                  <a:lnTo>
                    <a:pt x="1678" y="370"/>
                  </a:lnTo>
                  <a:lnTo>
                    <a:pt x="1672" y="366"/>
                  </a:lnTo>
                  <a:lnTo>
                    <a:pt x="1664" y="362"/>
                  </a:lnTo>
                  <a:lnTo>
                    <a:pt x="1656" y="359"/>
                  </a:lnTo>
                  <a:lnTo>
                    <a:pt x="1609" y="348"/>
                  </a:lnTo>
                  <a:lnTo>
                    <a:pt x="1547" y="331"/>
                  </a:lnTo>
                  <a:lnTo>
                    <a:pt x="1529" y="325"/>
                  </a:lnTo>
                  <a:lnTo>
                    <a:pt x="1512" y="319"/>
                  </a:lnTo>
                  <a:lnTo>
                    <a:pt x="1495" y="312"/>
                  </a:lnTo>
                  <a:lnTo>
                    <a:pt x="1479" y="304"/>
                  </a:lnTo>
                  <a:lnTo>
                    <a:pt x="1465" y="296"/>
                  </a:lnTo>
                  <a:lnTo>
                    <a:pt x="1451" y="287"/>
                  </a:lnTo>
                  <a:lnTo>
                    <a:pt x="1438" y="278"/>
                  </a:lnTo>
                  <a:lnTo>
                    <a:pt x="1425" y="269"/>
                  </a:lnTo>
                  <a:lnTo>
                    <a:pt x="1415" y="259"/>
                  </a:lnTo>
                  <a:lnTo>
                    <a:pt x="1406" y="249"/>
                  </a:lnTo>
                  <a:lnTo>
                    <a:pt x="1396" y="240"/>
                  </a:lnTo>
                  <a:lnTo>
                    <a:pt x="1389" y="230"/>
                  </a:lnTo>
                  <a:lnTo>
                    <a:pt x="1385" y="221"/>
                  </a:lnTo>
                  <a:lnTo>
                    <a:pt x="1380" y="210"/>
                  </a:lnTo>
                  <a:lnTo>
                    <a:pt x="1377" y="202"/>
                  </a:lnTo>
                  <a:lnTo>
                    <a:pt x="1376" y="193"/>
                  </a:lnTo>
                  <a:lnTo>
                    <a:pt x="1375" y="185"/>
                  </a:lnTo>
                  <a:lnTo>
                    <a:pt x="1373" y="176"/>
                  </a:lnTo>
                  <a:lnTo>
                    <a:pt x="1368" y="168"/>
                  </a:lnTo>
                  <a:lnTo>
                    <a:pt x="1361" y="161"/>
                  </a:lnTo>
                  <a:lnTo>
                    <a:pt x="1354" y="154"/>
                  </a:lnTo>
                  <a:lnTo>
                    <a:pt x="1346" y="148"/>
                  </a:lnTo>
                  <a:lnTo>
                    <a:pt x="1338" y="143"/>
                  </a:lnTo>
                  <a:lnTo>
                    <a:pt x="1328" y="137"/>
                  </a:lnTo>
                  <a:lnTo>
                    <a:pt x="1296" y="120"/>
                  </a:lnTo>
                  <a:lnTo>
                    <a:pt x="1282" y="115"/>
                  </a:lnTo>
                  <a:lnTo>
                    <a:pt x="1270" y="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7" name="Freeform 168"/>
            <p:cNvSpPr/>
            <p:nvPr/>
          </p:nvSpPr>
          <p:spPr>
            <a:xfrm>
              <a:off x="6709320" y="3283560"/>
              <a:ext cx="1112040" cy="785520"/>
            </a:xfrm>
            <a:custGeom>
              <a:avLst/>
              <a:gdLst>
                <a:gd name="textAreaLeft" fmla="*/ 0 w 1112040"/>
                <a:gd name="textAreaRight" fmla="*/ 1112400 w 1112040"/>
                <a:gd name="textAreaTop" fmla="*/ 0 h 785520"/>
                <a:gd name="textAreaBottom" fmla="*/ 785880 h 785520"/>
              </a:gdLst>
              <a:ahLst/>
              <a:rect l="textAreaLeft" t="textAreaTop" r="textAreaRight" b="textAreaBottom"/>
              <a:pathLst>
                <a:path w="2529" h="1729">
                  <a:moveTo>
                    <a:pt x="1040" y="0"/>
                  </a:moveTo>
                  <a:lnTo>
                    <a:pt x="0" y="116"/>
                  </a:lnTo>
                  <a:lnTo>
                    <a:pt x="8" y="127"/>
                  </a:lnTo>
                  <a:lnTo>
                    <a:pt x="33" y="159"/>
                  </a:lnTo>
                  <a:lnTo>
                    <a:pt x="70" y="208"/>
                  </a:lnTo>
                  <a:lnTo>
                    <a:pt x="119" y="272"/>
                  </a:lnTo>
                  <a:lnTo>
                    <a:pt x="177" y="349"/>
                  </a:lnTo>
                  <a:lnTo>
                    <a:pt x="240" y="435"/>
                  </a:lnTo>
                  <a:lnTo>
                    <a:pt x="308" y="527"/>
                  </a:lnTo>
                  <a:lnTo>
                    <a:pt x="379" y="621"/>
                  </a:lnTo>
                  <a:lnTo>
                    <a:pt x="449" y="717"/>
                  </a:lnTo>
                  <a:lnTo>
                    <a:pt x="516" y="811"/>
                  </a:lnTo>
                  <a:lnTo>
                    <a:pt x="580" y="899"/>
                  </a:lnTo>
                  <a:lnTo>
                    <a:pt x="636" y="980"/>
                  </a:lnTo>
                  <a:lnTo>
                    <a:pt x="682" y="1049"/>
                  </a:lnTo>
                  <a:lnTo>
                    <a:pt x="719" y="1105"/>
                  </a:lnTo>
                  <a:lnTo>
                    <a:pt x="731" y="1127"/>
                  </a:lnTo>
                  <a:lnTo>
                    <a:pt x="741" y="1145"/>
                  </a:lnTo>
                  <a:lnTo>
                    <a:pt x="745" y="1156"/>
                  </a:lnTo>
                  <a:lnTo>
                    <a:pt x="747" y="1165"/>
                  </a:lnTo>
                  <a:lnTo>
                    <a:pt x="744" y="1175"/>
                  </a:lnTo>
                  <a:lnTo>
                    <a:pt x="744" y="1191"/>
                  </a:lnTo>
                  <a:lnTo>
                    <a:pt x="744" y="1211"/>
                  </a:lnTo>
                  <a:lnTo>
                    <a:pt x="748" y="1236"/>
                  </a:lnTo>
                  <a:lnTo>
                    <a:pt x="751" y="1263"/>
                  </a:lnTo>
                  <a:lnTo>
                    <a:pt x="757" y="1293"/>
                  </a:lnTo>
                  <a:lnTo>
                    <a:pt x="764" y="1325"/>
                  </a:lnTo>
                  <a:lnTo>
                    <a:pt x="773" y="1358"/>
                  </a:lnTo>
                  <a:lnTo>
                    <a:pt x="785" y="1392"/>
                  </a:lnTo>
                  <a:lnTo>
                    <a:pt x="798" y="1427"/>
                  </a:lnTo>
                  <a:lnTo>
                    <a:pt x="812" y="1461"/>
                  </a:lnTo>
                  <a:lnTo>
                    <a:pt x="829" y="1495"/>
                  </a:lnTo>
                  <a:lnTo>
                    <a:pt x="839" y="1512"/>
                  </a:lnTo>
                  <a:lnTo>
                    <a:pt x="848" y="1527"/>
                  </a:lnTo>
                  <a:lnTo>
                    <a:pt x="858" y="1543"/>
                  </a:lnTo>
                  <a:lnTo>
                    <a:pt x="868" y="1558"/>
                  </a:lnTo>
                  <a:lnTo>
                    <a:pt x="880" y="1572"/>
                  </a:lnTo>
                  <a:lnTo>
                    <a:pt x="891" y="1585"/>
                  </a:lnTo>
                  <a:lnTo>
                    <a:pt x="903" y="1598"/>
                  </a:lnTo>
                  <a:lnTo>
                    <a:pt x="916" y="1611"/>
                  </a:lnTo>
                  <a:lnTo>
                    <a:pt x="938" y="1628"/>
                  </a:lnTo>
                  <a:lnTo>
                    <a:pt x="958" y="1644"/>
                  </a:lnTo>
                  <a:lnTo>
                    <a:pt x="978" y="1658"/>
                  </a:lnTo>
                  <a:lnTo>
                    <a:pt x="997" y="1670"/>
                  </a:lnTo>
                  <a:lnTo>
                    <a:pt x="1015" y="1682"/>
                  </a:lnTo>
                  <a:lnTo>
                    <a:pt x="1033" y="1693"/>
                  </a:lnTo>
                  <a:lnTo>
                    <a:pt x="1050" y="1701"/>
                  </a:lnTo>
                  <a:lnTo>
                    <a:pt x="1068" y="1708"/>
                  </a:lnTo>
                  <a:lnTo>
                    <a:pt x="1085" y="1715"/>
                  </a:lnTo>
                  <a:lnTo>
                    <a:pt x="1103" y="1719"/>
                  </a:lnTo>
                  <a:lnTo>
                    <a:pt x="1120" y="1723"/>
                  </a:lnTo>
                  <a:lnTo>
                    <a:pt x="1139" y="1726"/>
                  </a:lnTo>
                  <a:lnTo>
                    <a:pt x="1159" y="1728"/>
                  </a:lnTo>
                  <a:lnTo>
                    <a:pt x="1179" y="1729"/>
                  </a:lnTo>
                  <a:lnTo>
                    <a:pt x="1200" y="1729"/>
                  </a:lnTo>
                  <a:lnTo>
                    <a:pt x="1222" y="1728"/>
                  </a:lnTo>
                  <a:lnTo>
                    <a:pt x="1272" y="1722"/>
                  </a:lnTo>
                  <a:lnTo>
                    <a:pt x="1328" y="1714"/>
                  </a:lnTo>
                  <a:lnTo>
                    <a:pt x="1393" y="1703"/>
                  </a:lnTo>
                  <a:lnTo>
                    <a:pt x="1467" y="1690"/>
                  </a:lnTo>
                  <a:lnTo>
                    <a:pt x="1553" y="1675"/>
                  </a:lnTo>
                  <a:lnTo>
                    <a:pt x="1651" y="1658"/>
                  </a:lnTo>
                  <a:lnTo>
                    <a:pt x="1763" y="1639"/>
                  </a:lnTo>
                  <a:lnTo>
                    <a:pt x="1890" y="1619"/>
                  </a:lnTo>
                  <a:lnTo>
                    <a:pt x="1960" y="1608"/>
                  </a:lnTo>
                  <a:lnTo>
                    <a:pt x="2019" y="1599"/>
                  </a:lnTo>
                  <a:lnTo>
                    <a:pt x="2068" y="1592"/>
                  </a:lnTo>
                  <a:lnTo>
                    <a:pt x="2109" y="1586"/>
                  </a:lnTo>
                  <a:lnTo>
                    <a:pt x="2142" y="1582"/>
                  </a:lnTo>
                  <a:lnTo>
                    <a:pt x="2169" y="1578"/>
                  </a:lnTo>
                  <a:lnTo>
                    <a:pt x="2194" y="1576"/>
                  </a:lnTo>
                  <a:lnTo>
                    <a:pt x="2215" y="1573"/>
                  </a:lnTo>
                  <a:lnTo>
                    <a:pt x="2220" y="1572"/>
                  </a:lnTo>
                  <a:lnTo>
                    <a:pt x="2224" y="1570"/>
                  </a:lnTo>
                  <a:lnTo>
                    <a:pt x="2229" y="1568"/>
                  </a:lnTo>
                  <a:lnTo>
                    <a:pt x="2232" y="1565"/>
                  </a:lnTo>
                  <a:lnTo>
                    <a:pt x="2239" y="1558"/>
                  </a:lnTo>
                  <a:lnTo>
                    <a:pt x="2245" y="1549"/>
                  </a:lnTo>
                  <a:lnTo>
                    <a:pt x="2257" y="1529"/>
                  </a:lnTo>
                  <a:lnTo>
                    <a:pt x="2265" y="1509"/>
                  </a:lnTo>
                  <a:lnTo>
                    <a:pt x="2270" y="1499"/>
                  </a:lnTo>
                  <a:lnTo>
                    <a:pt x="2274" y="1490"/>
                  </a:lnTo>
                  <a:lnTo>
                    <a:pt x="2278" y="1482"/>
                  </a:lnTo>
                  <a:lnTo>
                    <a:pt x="2283" y="1478"/>
                  </a:lnTo>
                  <a:lnTo>
                    <a:pt x="2286" y="1475"/>
                  </a:lnTo>
                  <a:lnTo>
                    <a:pt x="2288" y="1474"/>
                  </a:lnTo>
                  <a:lnTo>
                    <a:pt x="2291" y="1473"/>
                  </a:lnTo>
                  <a:lnTo>
                    <a:pt x="2294" y="1473"/>
                  </a:lnTo>
                  <a:lnTo>
                    <a:pt x="2297" y="1474"/>
                  </a:lnTo>
                  <a:lnTo>
                    <a:pt x="2300" y="1475"/>
                  </a:lnTo>
                  <a:lnTo>
                    <a:pt x="2304" y="1478"/>
                  </a:lnTo>
                  <a:lnTo>
                    <a:pt x="2307" y="1481"/>
                  </a:lnTo>
                  <a:lnTo>
                    <a:pt x="2317" y="1488"/>
                  </a:lnTo>
                  <a:lnTo>
                    <a:pt x="2327" y="1495"/>
                  </a:lnTo>
                  <a:lnTo>
                    <a:pt x="2338" y="1500"/>
                  </a:lnTo>
                  <a:lnTo>
                    <a:pt x="2349" y="1502"/>
                  </a:lnTo>
                  <a:lnTo>
                    <a:pt x="2362" y="1505"/>
                  </a:lnTo>
                  <a:lnTo>
                    <a:pt x="2376" y="1506"/>
                  </a:lnTo>
                  <a:lnTo>
                    <a:pt x="2390" y="1507"/>
                  </a:lnTo>
                  <a:lnTo>
                    <a:pt x="2404" y="1507"/>
                  </a:lnTo>
                  <a:lnTo>
                    <a:pt x="2434" y="1505"/>
                  </a:lnTo>
                  <a:lnTo>
                    <a:pt x="2466" y="1503"/>
                  </a:lnTo>
                  <a:lnTo>
                    <a:pt x="2481" y="1502"/>
                  </a:lnTo>
                  <a:lnTo>
                    <a:pt x="2498" y="1502"/>
                  </a:lnTo>
                  <a:lnTo>
                    <a:pt x="2513" y="1503"/>
                  </a:lnTo>
                  <a:lnTo>
                    <a:pt x="2529" y="1505"/>
                  </a:lnTo>
                  <a:lnTo>
                    <a:pt x="2522" y="1496"/>
                  </a:lnTo>
                  <a:lnTo>
                    <a:pt x="2516" y="1489"/>
                  </a:lnTo>
                  <a:lnTo>
                    <a:pt x="2510" y="1481"/>
                  </a:lnTo>
                  <a:lnTo>
                    <a:pt x="2505" y="1473"/>
                  </a:lnTo>
                  <a:lnTo>
                    <a:pt x="2496" y="1457"/>
                  </a:lnTo>
                  <a:lnTo>
                    <a:pt x="2489" y="1440"/>
                  </a:lnTo>
                  <a:lnTo>
                    <a:pt x="2485" y="1424"/>
                  </a:lnTo>
                  <a:lnTo>
                    <a:pt x="2480" y="1406"/>
                  </a:lnTo>
                  <a:lnTo>
                    <a:pt x="2478" y="1390"/>
                  </a:lnTo>
                  <a:lnTo>
                    <a:pt x="2477" y="1374"/>
                  </a:lnTo>
                  <a:lnTo>
                    <a:pt x="2474" y="1342"/>
                  </a:lnTo>
                  <a:lnTo>
                    <a:pt x="2472" y="1313"/>
                  </a:lnTo>
                  <a:lnTo>
                    <a:pt x="2471" y="1300"/>
                  </a:lnTo>
                  <a:lnTo>
                    <a:pt x="2468" y="1290"/>
                  </a:lnTo>
                  <a:lnTo>
                    <a:pt x="2465" y="1279"/>
                  </a:lnTo>
                  <a:lnTo>
                    <a:pt x="2460" y="1271"/>
                  </a:lnTo>
                  <a:lnTo>
                    <a:pt x="2454" y="1263"/>
                  </a:lnTo>
                  <a:lnTo>
                    <a:pt x="2449" y="1256"/>
                  </a:lnTo>
                  <a:lnTo>
                    <a:pt x="2443" y="1250"/>
                  </a:lnTo>
                  <a:lnTo>
                    <a:pt x="2436" y="1245"/>
                  </a:lnTo>
                  <a:lnTo>
                    <a:pt x="2424" y="1238"/>
                  </a:lnTo>
                  <a:lnTo>
                    <a:pt x="2411" y="1232"/>
                  </a:lnTo>
                  <a:lnTo>
                    <a:pt x="2406" y="1229"/>
                  </a:lnTo>
                  <a:lnTo>
                    <a:pt x="2401" y="1225"/>
                  </a:lnTo>
                  <a:lnTo>
                    <a:pt x="2397" y="1222"/>
                  </a:lnTo>
                  <a:lnTo>
                    <a:pt x="2392" y="1218"/>
                  </a:lnTo>
                  <a:lnTo>
                    <a:pt x="2389" y="1214"/>
                  </a:lnTo>
                  <a:lnTo>
                    <a:pt x="2387" y="1208"/>
                  </a:lnTo>
                  <a:lnTo>
                    <a:pt x="2385" y="1201"/>
                  </a:lnTo>
                  <a:lnTo>
                    <a:pt x="2385" y="1193"/>
                  </a:lnTo>
                  <a:lnTo>
                    <a:pt x="2384" y="1183"/>
                  </a:lnTo>
                  <a:lnTo>
                    <a:pt x="2383" y="1173"/>
                  </a:lnTo>
                  <a:lnTo>
                    <a:pt x="2381" y="1161"/>
                  </a:lnTo>
                  <a:lnTo>
                    <a:pt x="2377" y="1149"/>
                  </a:lnTo>
                  <a:lnTo>
                    <a:pt x="2369" y="1121"/>
                  </a:lnTo>
                  <a:lnTo>
                    <a:pt x="2360" y="1093"/>
                  </a:lnTo>
                  <a:lnTo>
                    <a:pt x="2349" y="1064"/>
                  </a:lnTo>
                  <a:lnTo>
                    <a:pt x="2339" y="1037"/>
                  </a:lnTo>
                  <a:lnTo>
                    <a:pt x="2329" y="1012"/>
                  </a:lnTo>
                  <a:lnTo>
                    <a:pt x="2321" y="992"/>
                  </a:lnTo>
                  <a:lnTo>
                    <a:pt x="2319" y="981"/>
                  </a:lnTo>
                  <a:lnTo>
                    <a:pt x="2317" y="970"/>
                  </a:lnTo>
                  <a:lnTo>
                    <a:pt x="2314" y="957"/>
                  </a:lnTo>
                  <a:lnTo>
                    <a:pt x="2313" y="943"/>
                  </a:lnTo>
                  <a:lnTo>
                    <a:pt x="2300" y="923"/>
                  </a:lnTo>
                  <a:lnTo>
                    <a:pt x="2286" y="904"/>
                  </a:lnTo>
                  <a:lnTo>
                    <a:pt x="2270" y="888"/>
                  </a:lnTo>
                  <a:lnTo>
                    <a:pt x="2252" y="873"/>
                  </a:lnTo>
                  <a:lnTo>
                    <a:pt x="2234" y="859"/>
                  </a:lnTo>
                  <a:lnTo>
                    <a:pt x="2213" y="846"/>
                  </a:lnTo>
                  <a:lnTo>
                    <a:pt x="2192" y="833"/>
                  </a:lnTo>
                  <a:lnTo>
                    <a:pt x="2170" y="822"/>
                  </a:lnTo>
                  <a:lnTo>
                    <a:pt x="2147" y="813"/>
                  </a:lnTo>
                  <a:lnTo>
                    <a:pt x="2124" y="804"/>
                  </a:lnTo>
                  <a:lnTo>
                    <a:pt x="2100" y="795"/>
                  </a:lnTo>
                  <a:lnTo>
                    <a:pt x="2077" y="787"/>
                  </a:lnTo>
                  <a:lnTo>
                    <a:pt x="2029" y="773"/>
                  </a:lnTo>
                  <a:lnTo>
                    <a:pt x="1981" y="760"/>
                  </a:lnTo>
                  <a:lnTo>
                    <a:pt x="1960" y="755"/>
                  </a:lnTo>
                  <a:lnTo>
                    <a:pt x="1943" y="746"/>
                  </a:lnTo>
                  <a:lnTo>
                    <a:pt x="1926" y="738"/>
                  </a:lnTo>
                  <a:lnTo>
                    <a:pt x="1915" y="729"/>
                  </a:lnTo>
                  <a:lnTo>
                    <a:pt x="1903" y="718"/>
                  </a:lnTo>
                  <a:lnTo>
                    <a:pt x="1895" y="708"/>
                  </a:lnTo>
                  <a:lnTo>
                    <a:pt x="1888" y="695"/>
                  </a:lnTo>
                  <a:lnTo>
                    <a:pt x="1881" y="682"/>
                  </a:lnTo>
                  <a:lnTo>
                    <a:pt x="1870" y="655"/>
                  </a:lnTo>
                  <a:lnTo>
                    <a:pt x="1860" y="625"/>
                  </a:lnTo>
                  <a:lnTo>
                    <a:pt x="1854" y="610"/>
                  </a:lnTo>
                  <a:lnTo>
                    <a:pt x="1846" y="593"/>
                  </a:lnTo>
                  <a:lnTo>
                    <a:pt x="1838" y="576"/>
                  </a:lnTo>
                  <a:lnTo>
                    <a:pt x="1826" y="560"/>
                  </a:lnTo>
                  <a:lnTo>
                    <a:pt x="1793" y="547"/>
                  </a:lnTo>
                  <a:lnTo>
                    <a:pt x="1762" y="534"/>
                  </a:lnTo>
                  <a:lnTo>
                    <a:pt x="1732" y="520"/>
                  </a:lnTo>
                  <a:lnTo>
                    <a:pt x="1706" y="505"/>
                  </a:lnTo>
                  <a:lnTo>
                    <a:pt x="1680" y="489"/>
                  </a:lnTo>
                  <a:lnTo>
                    <a:pt x="1658" y="474"/>
                  </a:lnTo>
                  <a:lnTo>
                    <a:pt x="1637" y="459"/>
                  </a:lnTo>
                  <a:lnTo>
                    <a:pt x="1619" y="444"/>
                  </a:lnTo>
                  <a:lnTo>
                    <a:pt x="1589" y="417"/>
                  </a:lnTo>
                  <a:lnTo>
                    <a:pt x="1567" y="395"/>
                  </a:lnTo>
                  <a:lnTo>
                    <a:pt x="1554" y="381"/>
                  </a:lnTo>
                  <a:lnTo>
                    <a:pt x="1550" y="375"/>
                  </a:lnTo>
                  <a:lnTo>
                    <a:pt x="1394" y="329"/>
                  </a:lnTo>
                  <a:lnTo>
                    <a:pt x="104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8" name="Freeform 169"/>
            <p:cNvSpPr/>
            <p:nvPr/>
          </p:nvSpPr>
          <p:spPr>
            <a:xfrm>
              <a:off x="6709320" y="3283560"/>
              <a:ext cx="1112040" cy="785520"/>
            </a:xfrm>
            <a:custGeom>
              <a:avLst/>
              <a:gdLst>
                <a:gd name="textAreaLeft" fmla="*/ 0 w 1112040"/>
                <a:gd name="textAreaRight" fmla="*/ 1112400 w 1112040"/>
                <a:gd name="textAreaTop" fmla="*/ 0 h 785520"/>
                <a:gd name="textAreaBottom" fmla="*/ 785880 h 785520"/>
              </a:gdLst>
              <a:ahLst/>
              <a:rect l="textAreaLeft" t="textAreaTop" r="textAreaRight" b="textAreaBottom"/>
              <a:pathLst>
                <a:path w="2529" h="1729">
                  <a:moveTo>
                    <a:pt x="1040" y="0"/>
                  </a:moveTo>
                  <a:lnTo>
                    <a:pt x="0" y="116"/>
                  </a:lnTo>
                  <a:lnTo>
                    <a:pt x="8" y="127"/>
                  </a:lnTo>
                  <a:lnTo>
                    <a:pt x="33" y="159"/>
                  </a:lnTo>
                  <a:lnTo>
                    <a:pt x="70" y="208"/>
                  </a:lnTo>
                  <a:lnTo>
                    <a:pt x="119" y="272"/>
                  </a:lnTo>
                  <a:lnTo>
                    <a:pt x="177" y="349"/>
                  </a:lnTo>
                  <a:lnTo>
                    <a:pt x="240" y="435"/>
                  </a:lnTo>
                  <a:lnTo>
                    <a:pt x="308" y="527"/>
                  </a:lnTo>
                  <a:lnTo>
                    <a:pt x="379" y="621"/>
                  </a:lnTo>
                  <a:lnTo>
                    <a:pt x="449" y="717"/>
                  </a:lnTo>
                  <a:lnTo>
                    <a:pt x="516" y="811"/>
                  </a:lnTo>
                  <a:lnTo>
                    <a:pt x="580" y="899"/>
                  </a:lnTo>
                  <a:lnTo>
                    <a:pt x="636" y="980"/>
                  </a:lnTo>
                  <a:lnTo>
                    <a:pt x="682" y="1049"/>
                  </a:lnTo>
                  <a:lnTo>
                    <a:pt x="719" y="1105"/>
                  </a:lnTo>
                  <a:lnTo>
                    <a:pt x="731" y="1127"/>
                  </a:lnTo>
                  <a:lnTo>
                    <a:pt x="741" y="1145"/>
                  </a:lnTo>
                  <a:lnTo>
                    <a:pt x="745" y="1156"/>
                  </a:lnTo>
                  <a:lnTo>
                    <a:pt x="747" y="1165"/>
                  </a:lnTo>
                  <a:lnTo>
                    <a:pt x="744" y="1175"/>
                  </a:lnTo>
                  <a:lnTo>
                    <a:pt x="744" y="1191"/>
                  </a:lnTo>
                  <a:lnTo>
                    <a:pt x="744" y="1211"/>
                  </a:lnTo>
                  <a:lnTo>
                    <a:pt x="748" y="1236"/>
                  </a:lnTo>
                  <a:lnTo>
                    <a:pt x="751" y="1263"/>
                  </a:lnTo>
                  <a:lnTo>
                    <a:pt x="757" y="1293"/>
                  </a:lnTo>
                  <a:lnTo>
                    <a:pt x="764" y="1325"/>
                  </a:lnTo>
                  <a:lnTo>
                    <a:pt x="773" y="1358"/>
                  </a:lnTo>
                  <a:lnTo>
                    <a:pt x="785" y="1392"/>
                  </a:lnTo>
                  <a:lnTo>
                    <a:pt x="798" y="1427"/>
                  </a:lnTo>
                  <a:lnTo>
                    <a:pt x="812" y="1461"/>
                  </a:lnTo>
                  <a:lnTo>
                    <a:pt x="829" y="1495"/>
                  </a:lnTo>
                  <a:lnTo>
                    <a:pt x="839" y="1512"/>
                  </a:lnTo>
                  <a:lnTo>
                    <a:pt x="848" y="1527"/>
                  </a:lnTo>
                  <a:lnTo>
                    <a:pt x="858" y="1543"/>
                  </a:lnTo>
                  <a:lnTo>
                    <a:pt x="868" y="1558"/>
                  </a:lnTo>
                  <a:lnTo>
                    <a:pt x="880" y="1572"/>
                  </a:lnTo>
                  <a:lnTo>
                    <a:pt x="891" y="1585"/>
                  </a:lnTo>
                  <a:lnTo>
                    <a:pt x="903" y="1598"/>
                  </a:lnTo>
                  <a:lnTo>
                    <a:pt x="916" y="1611"/>
                  </a:lnTo>
                  <a:lnTo>
                    <a:pt x="938" y="1628"/>
                  </a:lnTo>
                  <a:lnTo>
                    <a:pt x="958" y="1644"/>
                  </a:lnTo>
                  <a:lnTo>
                    <a:pt x="978" y="1658"/>
                  </a:lnTo>
                  <a:lnTo>
                    <a:pt x="997" y="1670"/>
                  </a:lnTo>
                  <a:lnTo>
                    <a:pt x="1015" y="1682"/>
                  </a:lnTo>
                  <a:lnTo>
                    <a:pt x="1033" y="1693"/>
                  </a:lnTo>
                  <a:lnTo>
                    <a:pt x="1050" y="1701"/>
                  </a:lnTo>
                  <a:lnTo>
                    <a:pt x="1068" y="1708"/>
                  </a:lnTo>
                  <a:lnTo>
                    <a:pt x="1085" y="1715"/>
                  </a:lnTo>
                  <a:lnTo>
                    <a:pt x="1103" y="1719"/>
                  </a:lnTo>
                  <a:lnTo>
                    <a:pt x="1120" y="1723"/>
                  </a:lnTo>
                  <a:lnTo>
                    <a:pt x="1139" y="1726"/>
                  </a:lnTo>
                  <a:lnTo>
                    <a:pt x="1159" y="1728"/>
                  </a:lnTo>
                  <a:lnTo>
                    <a:pt x="1179" y="1729"/>
                  </a:lnTo>
                  <a:lnTo>
                    <a:pt x="1200" y="1729"/>
                  </a:lnTo>
                  <a:lnTo>
                    <a:pt x="1222" y="1728"/>
                  </a:lnTo>
                  <a:lnTo>
                    <a:pt x="1272" y="1722"/>
                  </a:lnTo>
                  <a:lnTo>
                    <a:pt x="1328" y="1714"/>
                  </a:lnTo>
                  <a:lnTo>
                    <a:pt x="1393" y="1703"/>
                  </a:lnTo>
                  <a:lnTo>
                    <a:pt x="1467" y="1690"/>
                  </a:lnTo>
                  <a:lnTo>
                    <a:pt x="1553" y="1675"/>
                  </a:lnTo>
                  <a:lnTo>
                    <a:pt x="1651" y="1658"/>
                  </a:lnTo>
                  <a:lnTo>
                    <a:pt x="1763" y="1639"/>
                  </a:lnTo>
                  <a:lnTo>
                    <a:pt x="1890" y="1619"/>
                  </a:lnTo>
                  <a:lnTo>
                    <a:pt x="1960" y="1608"/>
                  </a:lnTo>
                  <a:lnTo>
                    <a:pt x="2019" y="1599"/>
                  </a:lnTo>
                  <a:lnTo>
                    <a:pt x="2068" y="1592"/>
                  </a:lnTo>
                  <a:lnTo>
                    <a:pt x="2109" y="1586"/>
                  </a:lnTo>
                  <a:lnTo>
                    <a:pt x="2142" y="1582"/>
                  </a:lnTo>
                  <a:lnTo>
                    <a:pt x="2169" y="1578"/>
                  </a:lnTo>
                  <a:lnTo>
                    <a:pt x="2194" y="1576"/>
                  </a:lnTo>
                  <a:lnTo>
                    <a:pt x="2215" y="1573"/>
                  </a:lnTo>
                  <a:lnTo>
                    <a:pt x="2220" y="1572"/>
                  </a:lnTo>
                  <a:lnTo>
                    <a:pt x="2224" y="1570"/>
                  </a:lnTo>
                  <a:lnTo>
                    <a:pt x="2229" y="1568"/>
                  </a:lnTo>
                  <a:lnTo>
                    <a:pt x="2232" y="1565"/>
                  </a:lnTo>
                  <a:lnTo>
                    <a:pt x="2239" y="1558"/>
                  </a:lnTo>
                  <a:lnTo>
                    <a:pt x="2245" y="1549"/>
                  </a:lnTo>
                  <a:lnTo>
                    <a:pt x="2257" y="1529"/>
                  </a:lnTo>
                  <a:lnTo>
                    <a:pt x="2265" y="1509"/>
                  </a:lnTo>
                  <a:lnTo>
                    <a:pt x="2270" y="1499"/>
                  </a:lnTo>
                  <a:lnTo>
                    <a:pt x="2274" y="1490"/>
                  </a:lnTo>
                  <a:lnTo>
                    <a:pt x="2278" y="1482"/>
                  </a:lnTo>
                  <a:lnTo>
                    <a:pt x="2283" y="1478"/>
                  </a:lnTo>
                  <a:lnTo>
                    <a:pt x="2286" y="1475"/>
                  </a:lnTo>
                  <a:lnTo>
                    <a:pt x="2288" y="1474"/>
                  </a:lnTo>
                  <a:lnTo>
                    <a:pt x="2291" y="1473"/>
                  </a:lnTo>
                  <a:lnTo>
                    <a:pt x="2294" y="1473"/>
                  </a:lnTo>
                  <a:lnTo>
                    <a:pt x="2297" y="1474"/>
                  </a:lnTo>
                  <a:lnTo>
                    <a:pt x="2300" y="1475"/>
                  </a:lnTo>
                  <a:lnTo>
                    <a:pt x="2304" y="1478"/>
                  </a:lnTo>
                  <a:lnTo>
                    <a:pt x="2307" y="1481"/>
                  </a:lnTo>
                  <a:lnTo>
                    <a:pt x="2317" y="1488"/>
                  </a:lnTo>
                  <a:lnTo>
                    <a:pt x="2327" y="1495"/>
                  </a:lnTo>
                  <a:lnTo>
                    <a:pt x="2338" y="1500"/>
                  </a:lnTo>
                  <a:lnTo>
                    <a:pt x="2349" y="1502"/>
                  </a:lnTo>
                  <a:lnTo>
                    <a:pt x="2362" y="1505"/>
                  </a:lnTo>
                  <a:lnTo>
                    <a:pt x="2376" y="1506"/>
                  </a:lnTo>
                  <a:lnTo>
                    <a:pt x="2390" y="1507"/>
                  </a:lnTo>
                  <a:lnTo>
                    <a:pt x="2404" y="1507"/>
                  </a:lnTo>
                  <a:lnTo>
                    <a:pt x="2434" y="1505"/>
                  </a:lnTo>
                  <a:lnTo>
                    <a:pt x="2466" y="1503"/>
                  </a:lnTo>
                  <a:lnTo>
                    <a:pt x="2481" y="1502"/>
                  </a:lnTo>
                  <a:lnTo>
                    <a:pt x="2498" y="1502"/>
                  </a:lnTo>
                  <a:lnTo>
                    <a:pt x="2513" y="1503"/>
                  </a:lnTo>
                  <a:lnTo>
                    <a:pt x="2529" y="1505"/>
                  </a:lnTo>
                  <a:lnTo>
                    <a:pt x="2522" y="1496"/>
                  </a:lnTo>
                  <a:lnTo>
                    <a:pt x="2516" y="1489"/>
                  </a:lnTo>
                  <a:lnTo>
                    <a:pt x="2510" y="1481"/>
                  </a:lnTo>
                  <a:lnTo>
                    <a:pt x="2505" y="1473"/>
                  </a:lnTo>
                  <a:lnTo>
                    <a:pt x="2496" y="1457"/>
                  </a:lnTo>
                  <a:lnTo>
                    <a:pt x="2489" y="1440"/>
                  </a:lnTo>
                  <a:lnTo>
                    <a:pt x="2485" y="1424"/>
                  </a:lnTo>
                  <a:lnTo>
                    <a:pt x="2480" y="1406"/>
                  </a:lnTo>
                  <a:lnTo>
                    <a:pt x="2478" y="1390"/>
                  </a:lnTo>
                  <a:lnTo>
                    <a:pt x="2477" y="1374"/>
                  </a:lnTo>
                  <a:lnTo>
                    <a:pt x="2474" y="1342"/>
                  </a:lnTo>
                  <a:lnTo>
                    <a:pt x="2472" y="1313"/>
                  </a:lnTo>
                  <a:lnTo>
                    <a:pt x="2471" y="1300"/>
                  </a:lnTo>
                  <a:lnTo>
                    <a:pt x="2468" y="1290"/>
                  </a:lnTo>
                  <a:lnTo>
                    <a:pt x="2465" y="1279"/>
                  </a:lnTo>
                  <a:lnTo>
                    <a:pt x="2460" y="1271"/>
                  </a:lnTo>
                  <a:lnTo>
                    <a:pt x="2454" y="1263"/>
                  </a:lnTo>
                  <a:lnTo>
                    <a:pt x="2449" y="1256"/>
                  </a:lnTo>
                  <a:lnTo>
                    <a:pt x="2443" y="1250"/>
                  </a:lnTo>
                  <a:lnTo>
                    <a:pt x="2436" y="1245"/>
                  </a:lnTo>
                  <a:lnTo>
                    <a:pt x="2424" y="1238"/>
                  </a:lnTo>
                  <a:lnTo>
                    <a:pt x="2411" y="1232"/>
                  </a:lnTo>
                  <a:lnTo>
                    <a:pt x="2406" y="1229"/>
                  </a:lnTo>
                  <a:lnTo>
                    <a:pt x="2401" y="1225"/>
                  </a:lnTo>
                  <a:lnTo>
                    <a:pt x="2397" y="1222"/>
                  </a:lnTo>
                  <a:lnTo>
                    <a:pt x="2392" y="1218"/>
                  </a:lnTo>
                  <a:lnTo>
                    <a:pt x="2389" y="1214"/>
                  </a:lnTo>
                  <a:lnTo>
                    <a:pt x="2387" y="1208"/>
                  </a:lnTo>
                  <a:lnTo>
                    <a:pt x="2385" y="1201"/>
                  </a:lnTo>
                  <a:lnTo>
                    <a:pt x="2385" y="1193"/>
                  </a:lnTo>
                  <a:lnTo>
                    <a:pt x="2384" y="1183"/>
                  </a:lnTo>
                  <a:lnTo>
                    <a:pt x="2383" y="1173"/>
                  </a:lnTo>
                  <a:lnTo>
                    <a:pt x="2381" y="1161"/>
                  </a:lnTo>
                  <a:lnTo>
                    <a:pt x="2377" y="1149"/>
                  </a:lnTo>
                  <a:lnTo>
                    <a:pt x="2369" y="1121"/>
                  </a:lnTo>
                  <a:lnTo>
                    <a:pt x="2360" y="1093"/>
                  </a:lnTo>
                  <a:lnTo>
                    <a:pt x="2349" y="1064"/>
                  </a:lnTo>
                  <a:lnTo>
                    <a:pt x="2339" y="1037"/>
                  </a:lnTo>
                  <a:lnTo>
                    <a:pt x="2329" y="1012"/>
                  </a:lnTo>
                  <a:lnTo>
                    <a:pt x="2321" y="992"/>
                  </a:lnTo>
                  <a:lnTo>
                    <a:pt x="2319" y="981"/>
                  </a:lnTo>
                  <a:lnTo>
                    <a:pt x="2317" y="970"/>
                  </a:lnTo>
                  <a:lnTo>
                    <a:pt x="2314" y="957"/>
                  </a:lnTo>
                  <a:lnTo>
                    <a:pt x="2313" y="943"/>
                  </a:lnTo>
                  <a:lnTo>
                    <a:pt x="2300" y="923"/>
                  </a:lnTo>
                  <a:lnTo>
                    <a:pt x="2286" y="904"/>
                  </a:lnTo>
                  <a:lnTo>
                    <a:pt x="2270" y="888"/>
                  </a:lnTo>
                  <a:lnTo>
                    <a:pt x="2252" y="873"/>
                  </a:lnTo>
                  <a:lnTo>
                    <a:pt x="2234" y="859"/>
                  </a:lnTo>
                  <a:lnTo>
                    <a:pt x="2213" y="846"/>
                  </a:lnTo>
                  <a:lnTo>
                    <a:pt x="2192" y="833"/>
                  </a:lnTo>
                  <a:lnTo>
                    <a:pt x="2170" y="822"/>
                  </a:lnTo>
                  <a:lnTo>
                    <a:pt x="2147" y="813"/>
                  </a:lnTo>
                  <a:lnTo>
                    <a:pt x="2124" y="804"/>
                  </a:lnTo>
                  <a:lnTo>
                    <a:pt x="2100" y="795"/>
                  </a:lnTo>
                  <a:lnTo>
                    <a:pt x="2077" y="787"/>
                  </a:lnTo>
                  <a:lnTo>
                    <a:pt x="2029" y="773"/>
                  </a:lnTo>
                  <a:lnTo>
                    <a:pt x="1981" y="760"/>
                  </a:lnTo>
                  <a:lnTo>
                    <a:pt x="1960" y="755"/>
                  </a:lnTo>
                  <a:lnTo>
                    <a:pt x="1943" y="746"/>
                  </a:lnTo>
                  <a:lnTo>
                    <a:pt x="1926" y="738"/>
                  </a:lnTo>
                  <a:lnTo>
                    <a:pt x="1915" y="729"/>
                  </a:lnTo>
                  <a:lnTo>
                    <a:pt x="1903" y="718"/>
                  </a:lnTo>
                  <a:lnTo>
                    <a:pt x="1895" y="708"/>
                  </a:lnTo>
                  <a:lnTo>
                    <a:pt x="1888" y="695"/>
                  </a:lnTo>
                  <a:lnTo>
                    <a:pt x="1881" y="682"/>
                  </a:lnTo>
                  <a:lnTo>
                    <a:pt x="1870" y="655"/>
                  </a:lnTo>
                  <a:lnTo>
                    <a:pt x="1860" y="625"/>
                  </a:lnTo>
                  <a:lnTo>
                    <a:pt x="1854" y="610"/>
                  </a:lnTo>
                  <a:lnTo>
                    <a:pt x="1846" y="593"/>
                  </a:lnTo>
                  <a:lnTo>
                    <a:pt x="1838" y="576"/>
                  </a:lnTo>
                  <a:lnTo>
                    <a:pt x="1826" y="560"/>
                  </a:lnTo>
                  <a:lnTo>
                    <a:pt x="1793" y="547"/>
                  </a:lnTo>
                  <a:lnTo>
                    <a:pt x="1762" y="534"/>
                  </a:lnTo>
                  <a:lnTo>
                    <a:pt x="1732" y="520"/>
                  </a:lnTo>
                  <a:lnTo>
                    <a:pt x="1706" y="505"/>
                  </a:lnTo>
                  <a:lnTo>
                    <a:pt x="1680" y="489"/>
                  </a:lnTo>
                  <a:lnTo>
                    <a:pt x="1658" y="474"/>
                  </a:lnTo>
                  <a:lnTo>
                    <a:pt x="1637" y="459"/>
                  </a:lnTo>
                  <a:lnTo>
                    <a:pt x="1619" y="444"/>
                  </a:lnTo>
                  <a:lnTo>
                    <a:pt x="1589" y="417"/>
                  </a:lnTo>
                  <a:lnTo>
                    <a:pt x="1567" y="395"/>
                  </a:lnTo>
                  <a:lnTo>
                    <a:pt x="1554" y="381"/>
                  </a:lnTo>
                  <a:lnTo>
                    <a:pt x="1550" y="375"/>
                  </a:lnTo>
                  <a:lnTo>
                    <a:pt x="1394" y="329"/>
                  </a:lnTo>
                  <a:lnTo>
                    <a:pt x="1040" y="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49" name="Freeform 170"/>
            <p:cNvSpPr/>
            <p:nvPr/>
          </p:nvSpPr>
          <p:spPr>
            <a:xfrm>
              <a:off x="6691680" y="3953160"/>
              <a:ext cx="2146680" cy="1191600"/>
            </a:xfrm>
            <a:custGeom>
              <a:avLst/>
              <a:gdLst>
                <a:gd name="textAreaLeft" fmla="*/ 0 w 2146680"/>
                <a:gd name="textAreaRight" fmla="*/ 2147040 w 2146680"/>
                <a:gd name="textAreaTop" fmla="*/ 0 h 1191600"/>
                <a:gd name="textAreaBottom" fmla="*/ 1191960 h 1191600"/>
              </a:gdLst>
              <a:ahLst/>
              <a:rect l="textAreaLeft" t="textAreaTop" r="textAreaRight" b="textAreaBottom"/>
              <a:pathLst>
                <a:path w="4885" h="2626">
                  <a:moveTo>
                    <a:pt x="2572" y="32"/>
                  </a:moveTo>
                  <a:lnTo>
                    <a:pt x="2556" y="30"/>
                  </a:lnTo>
                  <a:lnTo>
                    <a:pt x="2541" y="29"/>
                  </a:lnTo>
                  <a:lnTo>
                    <a:pt x="2524" y="29"/>
                  </a:lnTo>
                  <a:lnTo>
                    <a:pt x="2509" y="30"/>
                  </a:lnTo>
                  <a:lnTo>
                    <a:pt x="2477" y="32"/>
                  </a:lnTo>
                  <a:lnTo>
                    <a:pt x="2447" y="34"/>
                  </a:lnTo>
                  <a:lnTo>
                    <a:pt x="2433" y="34"/>
                  </a:lnTo>
                  <a:lnTo>
                    <a:pt x="2419" y="33"/>
                  </a:lnTo>
                  <a:lnTo>
                    <a:pt x="2405" y="32"/>
                  </a:lnTo>
                  <a:lnTo>
                    <a:pt x="2392" y="29"/>
                  </a:lnTo>
                  <a:lnTo>
                    <a:pt x="2381" y="27"/>
                  </a:lnTo>
                  <a:lnTo>
                    <a:pt x="2370" y="22"/>
                  </a:lnTo>
                  <a:lnTo>
                    <a:pt x="2360" y="15"/>
                  </a:lnTo>
                  <a:lnTo>
                    <a:pt x="2350" y="8"/>
                  </a:lnTo>
                  <a:lnTo>
                    <a:pt x="2347" y="5"/>
                  </a:lnTo>
                  <a:lnTo>
                    <a:pt x="2343" y="2"/>
                  </a:lnTo>
                  <a:lnTo>
                    <a:pt x="2340" y="1"/>
                  </a:lnTo>
                  <a:lnTo>
                    <a:pt x="2337" y="0"/>
                  </a:lnTo>
                  <a:lnTo>
                    <a:pt x="2334" y="0"/>
                  </a:lnTo>
                  <a:lnTo>
                    <a:pt x="2331" y="1"/>
                  </a:lnTo>
                  <a:lnTo>
                    <a:pt x="2329" y="2"/>
                  </a:lnTo>
                  <a:lnTo>
                    <a:pt x="2326" y="5"/>
                  </a:lnTo>
                  <a:lnTo>
                    <a:pt x="2321" y="9"/>
                  </a:lnTo>
                  <a:lnTo>
                    <a:pt x="2317" y="17"/>
                  </a:lnTo>
                  <a:lnTo>
                    <a:pt x="2313" y="26"/>
                  </a:lnTo>
                  <a:lnTo>
                    <a:pt x="2308" y="36"/>
                  </a:lnTo>
                  <a:lnTo>
                    <a:pt x="2300" y="56"/>
                  </a:lnTo>
                  <a:lnTo>
                    <a:pt x="2288" y="76"/>
                  </a:lnTo>
                  <a:lnTo>
                    <a:pt x="2282" y="85"/>
                  </a:lnTo>
                  <a:lnTo>
                    <a:pt x="2275" y="92"/>
                  </a:lnTo>
                  <a:lnTo>
                    <a:pt x="2272" y="95"/>
                  </a:lnTo>
                  <a:lnTo>
                    <a:pt x="2267" y="97"/>
                  </a:lnTo>
                  <a:lnTo>
                    <a:pt x="2263" y="99"/>
                  </a:lnTo>
                  <a:lnTo>
                    <a:pt x="2258" y="100"/>
                  </a:lnTo>
                  <a:lnTo>
                    <a:pt x="2237" y="103"/>
                  </a:lnTo>
                  <a:lnTo>
                    <a:pt x="2212" y="105"/>
                  </a:lnTo>
                  <a:lnTo>
                    <a:pt x="2185" y="109"/>
                  </a:lnTo>
                  <a:lnTo>
                    <a:pt x="2152" y="113"/>
                  </a:lnTo>
                  <a:lnTo>
                    <a:pt x="2111" y="119"/>
                  </a:lnTo>
                  <a:lnTo>
                    <a:pt x="2062" y="126"/>
                  </a:lnTo>
                  <a:lnTo>
                    <a:pt x="2003" y="135"/>
                  </a:lnTo>
                  <a:lnTo>
                    <a:pt x="1933" y="146"/>
                  </a:lnTo>
                  <a:lnTo>
                    <a:pt x="1806" y="166"/>
                  </a:lnTo>
                  <a:lnTo>
                    <a:pt x="1694" y="185"/>
                  </a:lnTo>
                  <a:lnTo>
                    <a:pt x="1596" y="202"/>
                  </a:lnTo>
                  <a:lnTo>
                    <a:pt x="1510" y="217"/>
                  </a:lnTo>
                  <a:lnTo>
                    <a:pt x="1436" y="230"/>
                  </a:lnTo>
                  <a:lnTo>
                    <a:pt x="1371" y="241"/>
                  </a:lnTo>
                  <a:lnTo>
                    <a:pt x="1315" y="249"/>
                  </a:lnTo>
                  <a:lnTo>
                    <a:pt x="1265" y="255"/>
                  </a:lnTo>
                  <a:lnTo>
                    <a:pt x="1243" y="256"/>
                  </a:lnTo>
                  <a:lnTo>
                    <a:pt x="1222" y="256"/>
                  </a:lnTo>
                  <a:lnTo>
                    <a:pt x="1202" y="255"/>
                  </a:lnTo>
                  <a:lnTo>
                    <a:pt x="1182" y="253"/>
                  </a:lnTo>
                  <a:lnTo>
                    <a:pt x="1163" y="250"/>
                  </a:lnTo>
                  <a:lnTo>
                    <a:pt x="1146" y="246"/>
                  </a:lnTo>
                  <a:lnTo>
                    <a:pt x="1128" y="242"/>
                  </a:lnTo>
                  <a:lnTo>
                    <a:pt x="1111" y="235"/>
                  </a:lnTo>
                  <a:lnTo>
                    <a:pt x="1093" y="228"/>
                  </a:lnTo>
                  <a:lnTo>
                    <a:pt x="1076" y="220"/>
                  </a:lnTo>
                  <a:lnTo>
                    <a:pt x="1058" y="209"/>
                  </a:lnTo>
                  <a:lnTo>
                    <a:pt x="1040" y="197"/>
                  </a:lnTo>
                  <a:lnTo>
                    <a:pt x="1021" y="185"/>
                  </a:lnTo>
                  <a:lnTo>
                    <a:pt x="1001" y="171"/>
                  </a:lnTo>
                  <a:lnTo>
                    <a:pt x="981" y="155"/>
                  </a:lnTo>
                  <a:lnTo>
                    <a:pt x="959" y="138"/>
                  </a:lnTo>
                  <a:lnTo>
                    <a:pt x="0" y="230"/>
                  </a:lnTo>
                  <a:lnTo>
                    <a:pt x="12" y="238"/>
                  </a:lnTo>
                  <a:lnTo>
                    <a:pt x="24" y="251"/>
                  </a:lnTo>
                  <a:lnTo>
                    <a:pt x="37" y="265"/>
                  </a:lnTo>
                  <a:lnTo>
                    <a:pt x="49" y="283"/>
                  </a:lnTo>
                  <a:lnTo>
                    <a:pt x="62" y="301"/>
                  </a:lnTo>
                  <a:lnTo>
                    <a:pt x="73" y="322"/>
                  </a:lnTo>
                  <a:lnTo>
                    <a:pt x="84" y="343"/>
                  </a:lnTo>
                  <a:lnTo>
                    <a:pt x="95" y="367"/>
                  </a:lnTo>
                  <a:lnTo>
                    <a:pt x="104" y="390"/>
                  </a:lnTo>
                  <a:lnTo>
                    <a:pt x="112" y="415"/>
                  </a:lnTo>
                  <a:lnTo>
                    <a:pt x="118" y="439"/>
                  </a:lnTo>
                  <a:lnTo>
                    <a:pt x="124" y="463"/>
                  </a:lnTo>
                  <a:lnTo>
                    <a:pt x="126" y="486"/>
                  </a:lnTo>
                  <a:lnTo>
                    <a:pt x="127" y="508"/>
                  </a:lnTo>
                  <a:lnTo>
                    <a:pt x="127" y="519"/>
                  </a:lnTo>
                  <a:lnTo>
                    <a:pt x="127" y="529"/>
                  </a:lnTo>
                  <a:lnTo>
                    <a:pt x="126" y="540"/>
                  </a:lnTo>
                  <a:lnTo>
                    <a:pt x="124" y="549"/>
                  </a:lnTo>
                  <a:lnTo>
                    <a:pt x="183" y="543"/>
                  </a:lnTo>
                  <a:lnTo>
                    <a:pt x="244" y="537"/>
                  </a:lnTo>
                  <a:lnTo>
                    <a:pt x="305" y="531"/>
                  </a:lnTo>
                  <a:lnTo>
                    <a:pt x="366" y="527"/>
                  </a:lnTo>
                  <a:lnTo>
                    <a:pt x="426" y="522"/>
                  </a:lnTo>
                  <a:lnTo>
                    <a:pt x="487" y="519"/>
                  </a:lnTo>
                  <a:lnTo>
                    <a:pt x="548" y="515"/>
                  </a:lnTo>
                  <a:lnTo>
                    <a:pt x="606" y="513"/>
                  </a:lnTo>
                  <a:lnTo>
                    <a:pt x="665" y="510"/>
                  </a:lnTo>
                  <a:lnTo>
                    <a:pt x="721" y="510"/>
                  </a:lnTo>
                  <a:lnTo>
                    <a:pt x="776" y="509"/>
                  </a:lnTo>
                  <a:lnTo>
                    <a:pt x="829" y="510"/>
                  </a:lnTo>
                  <a:lnTo>
                    <a:pt x="881" y="513"/>
                  </a:lnTo>
                  <a:lnTo>
                    <a:pt x="930" y="515"/>
                  </a:lnTo>
                  <a:lnTo>
                    <a:pt x="976" y="519"/>
                  </a:lnTo>
                  <a:lnTo>
                    <a:pt x="1020" y="523"/>
                  </a:lnTo>
                  <a:lnTo>
                    <a:pt x="1030" y="527"/>
                  </a:lnTo>
                  <a:lnTo>
                    <a:pt x="1058" y="535"/>
                  </a:lnTo>
                  <a:lnTo>
                    <a:pt x="1077" y="542"/>
                  </a:lnTo>
                  <a:lnTo>
                    <a:pt x="1098" y="550"/>
                  </a:lnTo>
                  <a:lnTo>
                    <a:pt x="1120" y="559"/>
                  </a:lnTo>
                  <a:lnTo>
                    <a:pt x="1143" y="571"/>
                  </a:lnTo>
                  <a:lnTo>
                    <a:pt x="1167" y="583"/>
                  </a:lnTo>
                  <a:lnTo>
                    <a:pt x="1189" y="597"/>
                  </a:lnTo>
                  <a:lnTo>
                    <a:pt x="1200" y="605"/>
                  </a:lnTo>
                  <a:lnTo>
                    <a:pt x="1210" y="612"/>
                  </a:lnTo>
                  <a:lnTo>
                    <a:pt x="1219" y="620"/>
                  </a:lnTo>
                  <a:lnTo>
                    <a:pt x="1229" y="630"/>
                  </a:lnTo>
                  <a:lnTo>
                    <a:pt x="1237" y="638"/>
                  </a:lnTo>
                  <a:lnTo>
                    <a:pt x="1244" y="647"/>
                  </a:lnTo>
                  <a:lnTo>
                    <a:pt x="1251" y="658"/>
                  </a:lnTo>
                  <a:lnTo>
                    <a:pt x="1257" y="667"/>
                  </a:lnTo>
                  <a:lnTo>
                    <a:pt x="1261" y="677"/>
                  </a:lnTo>
                  <a:lnTo>
                    <a:pt x="1265" y="688"/>
                  </a:lnTo>
                  <a:lnTo>
                    <a:pt x="1266" y="700"/>
                  </a:lnTo>
                  <a:lnTo>
                    <a:pt x="1267" y="710"/>
                  </a:lnTo>
                  <a:lnTo>
                    <a:pt x="1268" y="722"/>
                  </a:lnTo>
                  <a:lnTo>
                    <a:pt x="1271" y="731"/>
                  </a:lnTo>
                  <a:lnTo>
                    <a:pt x="1274" y="738"/>
                  </a:lnTo>
                  <a:lnTo>
                    <a:pt x="1279" y="745"/>
                  </a:lnTo>
                  <a:lnTo>
                    <a:pt x="1286" y="750"/>
                  </a:lnTo>
                  <a:lnTo>
                    <a:pt x="1293" y="753"/>
                  </a:lnTo>
                  <a:lnTo>
                    <a:pt x="1301" y="757"/>
                  </a:lnTo>
                  <a:lnTo>
                    <a:pt x="1311" y="758"/>
                  </a:lnTo>
                  <a:lnTo>
                    <a:pt x="1321" y="758"/>
                  </a:lnTo>
                  <a:lnTo>
                    <a:pt x="1332" y="758"/>
                  </a:lnTo>
                  <a:lnTo>
                    <a:pt x="1343" y="757"/>
                  </a:lnTo>
                  <a:lnTo>
                    <a:pt x="1356" y="755"/>
                  </a:lnTo>
                  <a:lnTo>
                    <a:pt x="1381" y="749"/>
                  </a:lnTo>
                  <a:lnTo>
                    <a:pt x="1407" y="742"/>
                  </a:lnTo>
                  <a:lnTo>
                    <a:pt x="1433" y="732"/>
                  </a:lnTo>
                  <a:lnTo>
                    <a:pt x="1458" y="722"/>
                  </a:lnTo>
                  <a:lnTo>
                    <a:pt x="1482" y="711"/>
                  </a:lnTo>
                  <a:lnTo>
                    <a:pt x="1503" y="701"/>
                  </a:lnTo>
                  <a:lnTo>
                    <a:pt x="1535" y="686"/>
                  </a:lnTo>
                  <a:lnTo>
                    <a:pt x="1546" y="679"/>
                  </a:lnTo>
                  <a:lnTo>
                    <a:pt x="1639" y="494"/>
                  </a:lnTo>
                  <a:lnTo>
                    <a:pt x="1823" y="494"/>
                  </a:lnTo>
                  <a:lnTo>
                    <a:pt x="1979" y="616"/>
                  </a:lnTo>
                  <a:lnTo>
                    <a:pt x="2071" y="616"/>
                  </a:lnTo>
                  <a:lnTo>
                    <a:pt x="2258" y="771"/>
                  </a:lnTo>
                  <a:lnTo>
                    <a:pt x="2535" y="771"/>
                  </a:lnTo>
                  <a:lnTo>
                    <a:pt x="2531" y="791"/>
                  </a:lnTo>
                  <a:lnTo>
                    <a:pt x="2532" y="815"/>
                  </a:lnTo>
                  <a:lnTo>
                    <a:pt x="2537" y="843"/>
                  </a:lnTo>
                  <a:lnTo>
                    <a:pt x="2546" y="875"/>
                  </a:lnTo>
                  <a:lnTo>
                    <a:pt x="2559" y="910"/>
                  </a:lnTo>
                  <a:lnTo>
                    <a:pt x="2576" y="948"/>
                  </a:lnTo>
                  <a:lnTo>
                    <a:pt x="2595" y="989"/>
                  </a:lnTo>
                  <a:lnTo>
                    <a:pt x="2618" y="1033"/>
                  </a:lnTo>
                  <a:lnTo>
                    <a:pt x="2643" y="1079"/>
                  </a:lnTo>
                  <a:lnTo>
                    <a:pt x="2671" y="1126"/>
                  </a:lnTo>
                  <a:lnTo>
                    <a:pt x="2701" y="1175"/>
                  </a:lnTo>
                  <a:lnTo>
                    <a:pt x="2733" y="1225"/>
                  </a:lnTo>
                  <a:lnTo>
                    <a:pt x="2766" y="1277"/>
                  </a:lnTo>
                  <a:lnTo>
                    <a:pt x="2801" y="1328"/>
                  </a:lnTo>
                  <a:lnTo>
                    <a:pt x="2838" y="1381"/>
                  </a:lnTo>
                  <a:lnTo>
                    <a:pt x="2875" y="1432"/>
                  </a:lnTo>
                  <a:lnTo>
                    <a:pt x="2913" y="1483"/>
                  </a:lnTo>
                  <a:lnTo>
                    <a:pt x="2952" y="1534"/>
                  </a:lnTo>
                  <a:lnTo>
                    <a:pt x="2990" y="1583"/>
                  </a:lnTo>
                  <a:lnTo>
                    <a:pt x="3029" y="1631"/>
                  </a:lnTo>
                  <a:lnTo>
                    <a:pt x="3067" y="1677"/>
                  </a:lnTo>
                  <a:lnTo>
                    <a:pt x="3105" y="1721"/>
                  </a:lnTo>
                  <a:lnTo>
                    <a:pt x="3142" y="1763"/>
                  </a:lnTo>
                  <a:lnTo>
                    <a:pt x="3178" y="1802"/>
                  </a:lnTo>
                  <a:lnTo>
                    <a:pt x="3213" y="1837"/>
                  </a:lnTo>
                  <a:lnTo>
                    <a:pt x="3247" y="1870"/>
                  </a:lnTo>
                  <a:lnTo>
                    <a:pt x="3279" y="1899"/>
                  </a:lnTo>
                  <a:lnTo>
                    <a:pt x="3308" y="1925"/>
                  </a:lnTo>
                  <a:lnTo>
                    <a:pt x="3335" y="1945"/>
                  </a:lnTo>
                  <a:lnTo>
                    <a:pt x="3361" y="1961"/>
                  </a:lnTo>
                  <a:lnTo>
                    <a:pt x="3383" y="1972"/>
                  </a:lnTo>
                  <a:lnTo>
                    <a:pt x="3401" y="1978"/>
                  </a:lnTo>
                  <a:lnTo>
                    <a:pt x="3420" y="1981"/>
                  </a:lnTo>
                  <a:lnTo>
                    <a:pt x="3440" y="1986"/>
                  </a:lnTo>
                  <a:lnTo>
                    <a:pt x="3462" y="1990"/>
                  </a:lnTo>
                  <a:lnTo>
                    <a:pt x="3486" y="1997"/>
                  </a:lnTo>
                  <a:lnTo>
                    <a:pt x="3538" y="2014"/>
                  </a:lnTo>
                  <a:lnTo>
                    <a:pt x="3598" y="2035"/>
                  </a:lnTo>
                  <a:lnTo>
                    <a:pt x="3663" y="2059"/>
                  </a:lnTo>
                  <a:lnTo>
                    <a:pt x="3733" y="2090"/>
                  </a:lnTo>
                  <a:lnTo>
                    <a:pt x="3808" y="2124"/>
                  </a:lnTo>
                  <a:lnTo>
                    <a:pt x="3886" y="2162"/>
                  </a:lnTo>
                  <a:lnTo>
                    <a:pt x="3928" y="2182"/>
                  </a:lnTo>
                  <a:lnTo>
                    <a:pt x="3969" y="2204"/>
                  </a:lnTo>
                  <a:lnTo>
                    <a:pt x="4012" y="2227"/>
                  </a:lnTo>
                  <a:lnTo>
                    <a:pt x="4056" y="2251"/>
                  </a:lnTo>
                  <a:lnTo>
                    <a:pt x="4099" y="2277"/>
                  </a:lnTo>
                  <a:lnTo>
                    <a:pt x="4143" y="2302"/>
                  </a:lnTo>
                  <a:lnTo>
                    <a:pt x="4189" y="2330"/>
                  </a:lnTo>
                  <a:lnTo>
                    <a:pt x="4234" y="2358"/>
                  </a:lnTo>
                  <a:lnTo>
                    <a:pt x="4280" y="2389"/>
                  </a:lnTo>
                  <a:lnTo>
                    <a:pt x="4327" y="2419"/>
                  </a:lnTo>
                  <a:lnTo>
                    <a:pt x="4372" y="2451"/>
                  </a:lnTo>
                  <a:lnTo>
                    <a:pt x="4419" y="2483"/>
                  </a:lnTo>
                  <a:lnTo>
                    <a:pt x="4466" y="2517"/>
                  </a:lnTo>
                  <a:lnTo>
                    <a:pt x="4512" y="2552"/>
                  </a:lnTo>
                  <a:lnTo>
                    <a:pt x="4559" y="2588"/>
                  </a:lnTo>
                  <a:lnTo>
                    <a:pt x="4606" y="2626"/>
                  </a:lnTo>
                  <a:lnTo>
                    <a:pt x="4885" y="2410"/>
                  </a:lnTo>
                  <a:lnTo>
                    <a:pt x="4884" y="2390"/>
                  </a:lnTo>
                  <a:lnTo>
                    <a:pt x="4883" y="2369"/>
                  </a:lnTo>
                  <a:lnTo>
                    <a:pt x="4879" y="2349"/>
                  </a:lnTo>
                  <a:lnTo>
                    <a:pt x="4876" y="2328"/>
                  </a:lnTo>
                  <a:lnTo>
                    <a:pt x="4871" y="2307"/>
                  </a:lnTo>
                  <a:lnTo>
                    <a:pt x="4865" y="2287"/>
                  </a:lnTo>
                  <a:lnTo>
                    <a:pt x="4858" y="2266"/>
                  </a:lnTo>
                  <a:lnTo>
                    <a:pt x="4851" y="2246"/>
                  </a:lnTo>
                  <a:lnTo>
                    <a:pt x="4835" y="2206"/>
                  </a:lnTo>
                  <a:lnTo>
                    <a:pt x="4816" y="2168"/>
                  </a:lnTo>
                  <a:lnTo>
                    <a:pt x="4797" y="2132"/>
                  </a:lnTo>
                  <a:lnTo>
                    <a:pt x="4776" y="2097"/>
                  </a:lnTo>
                  <a:lnTo>
                    <a:pt x="4756" y="2065"/>
                  </a:lnTo>
                  <a:lnTo>
                    <a:pt x="4737" y="2036"/>
                  </a:lnTo>
                  <a:lnTo>
                    <a:pt x="4719" y="2010"/>
                  </a:lnTo>
                  <a:lnTo>
                    <a:pt x="4703" y="1988"/>
                  </a:lnTo>
                  <a:lnTo>
                    <a:pt x="4678" y="1958"/>
                  </a:lnTo>
                  <a:lnTo>
                    <a:pt x="4669" y="1946"/>
                  </a:lnTo>
                  <a:lnTo>
                    <a:pt x="4657" y="1924"/>
                  </a:lnTo>
                  <a:lnTo>
                    <a:pt x="4641" y="1898"/>
                  </a:lnTo>
                  <a:lnTo>
                    <a:pt x="4621" y="1869"/>
                  </a:lnTo>
                  <a:lnTo>
                    <a:pt x="4595" y="1836"/>
                  </a:lnTo>
                  <a:lnTo>
                    <a:pt x="4567" y="1800"/>
                  </a:lnTo>
                  <a:lnTo>
                    <a:pt x="4535" y="1763"/>
                  </a:lnTo>
                  <a:lnTo>
                    <a:pt x="4498" y="1722"/>
                  </a:lnTo>
                  <a:lnTo>
                    <a:pt x="4460" y="1678"/>
                  </a:lnTo>
                  <a:lnTo>
                    <a:pt x="4419" y="1634"/>
                  </a:lnTo>
                  <a:lnTo>
                    <a:pt x="4375" y="1587"/>
                  </a:lnTo>
                  <a:lnTo>
                    <a:pt x="4328" y="1538"/>
                  </a:lnTo>
                  <a:lnTo>
                    <a:pt x="4280" y="1489"/>
                  </a:lnTo>
                  <a:lnTo>
                    <a:pt x="4178" y="1389"/>
                  </a:lnTo>
                  <a:lnTo>
                    <a:pt x="4073" y="1286"/>
                  </a:lnTo>
                  <a:lnTo>
                    <a:pt x="3965" y="1183"/>
                  </a:lnTo>
                  <a:lnTo>
                    <a:pt x="3857" y="1084"/>
                  </a:lnTo>
                  <a:lnTo>
                    <a:pt x="3752" y="988"/>
                  </a:lnTo>
                  <a:lnTo>
                    <a:pt x="3650" y="899"/>
                  </a:lnTo>
                  <a:lnTo>
                    <a:pt x="3557" y="818"/>
                  </a:lnTo>
                  <a:lnTo>
                    <a:pt x="3472" y="748"/>
                  </a:lnTo>
                  <a:lnTo>
                    <a:pt x="3433" y="717"/>
                  </a:lnTo>
                  <a:lnTo>
                    <a:pt x="3398" y="690"/>
                  </a:lnTo>
                  <a:lnTo>
                    <a:pt x="3366" y="667"/>
                  </a:lnTo>
                  <a:lnTo>
                    <a:pt x="3338" y="647"/>
                  </a:lnTo>
                  <a:lnTo>
                    <a:pt x="3285" y="611"/>
                  </a:lnTo>
                  <a:lnTo>
                    <a:pt x="3231" y="571"/>
                  </a:lnTo>
                  <a:lnTo>
                    <a:pt x="3175" y="528"/>
                  </a:lnTo>
                  <a:lnTo>
                    <a:pt x="3119" y="484"/>
                  </a:lnTo>
                  <a:lnTo>
                    <a:pt x="3062" y="438"/>
                  </a:lnTo>
                  <a:lnTo>
                    <a:pt x="3007" y="391"/>
                  </a:lnTo>
                  <a:lnTo>
                    <a:pt x="2952" y="346"/>
                  </a:lnTo>
                  <a:lnTo>
                    <a:pt x="2900" y="300"/>
                  </a:lnTo>
                  <a:lnTo>
                    <a:pt x="2803" y="217"/>
                  </a:lnTo>
                  <a:lnTo>
                    <a:pt x="2722" y="146"/>
                  </a:lnTo>
                  <a:lnTo>
                    <a:pt x="2689" y="118"/>
                  </a:lnTo>
                  <a:lnTo>
                    <a:pt x="2661" y="95"/>
                  </a:lnTo>
                  <a:lnTo>
                    <a:pt x="2639" y="78"/>
                  </a:lnTo>
                  <a:lnTo>
                    <a:pt x="2624" y="69"/>
                  </a:lnTo>
                  <a:lnTo>
                    <a:pt x="2609" y="60"/>
                  </a:lnTo>
                  <a:lnTo>
                    <a:pt x="2595" y="50"/>
                  </a:lnTo>
                  <a:lnTo>
                    <a:pt x="2584" y="41"/>
                  </a:lnTo>
                  <a:lnTo>
                    <a:pt x="2572" y="3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0" name="Freeform 171"/>
            <p:cNvSpPr/>
            <p:nvPr/>
          </p:nvSpPr>
          <p:spPr>
            <a:xfrm>
              <a:off x="6691680" y="3953160"/>
              <a:ext cx="2146680" cy="1191600"/>
            </a:xfrm>
            <a:custGeom>
              <a:avLst/>
              <a:gdLst>
                <a:gd name="textAreaLeft" fmla="*/ 0 w 2146680"/>
                <a:gd name="textAreaRight" fmla="*/ 2147040 w 2146680"/>
                <a:gd name="textAreaTop" fmla="*/ 0 h 1191600"/>
                <a:gd name="textAreaBottom" fmla="*/ 1191960 h 1191600"/>
              </a:gdLst>
              <a:ahLst/>
              <a:rect l="textAreaLeft" t="textAreaTop" r="textAreaRight" b="textAreaBottom"/>
              <a:pathLst>
                <a:path w="4885" h="2626">
                  <a:moveTo>
                    <a:pt x="2572" y="32"/>
                  </a:moveTo>
                  <a:lnTo>
                    <a:pt x="2556" y="30"/>
                  </a:lnTo>
                  <a:lnTo>
                    <a:pt x="2541" y="29"/>
                  </a:lnTo>
                  <a:lnTo>
                    <a:pt x="2524" y="29"/>
                  </a:lnTo>
                  <a:lnTo>
                    <a:pt x="2509" y="30"/>
                  </a:lnTo>
                  <a:lnTo>
                    <a:pt x="2477" y="32"/>
                  </a:lnTo>
                  <a:lnTo>
                    <a:pt x="2447" y="34"/>
                  </a:lnTo>
                  <a:lnTo>
                    <a:pt x="2433" y="34"/>
                  </a:lnTo>
                  <a:lnTo>
                    <a:pt x="2419" y="33"/>
                  </a:lnTo>
                  <a:lnTo>
                    <a:pt x="2405" y="32"/>
                  </a:lnTo>
                  <a:lnTo>
                    <a:pt x="2392" y="29"/>
                  </a:lnTo>
                  <a:lnTo>
                    <a:pt x="2381" y="27"/>
                  </a:lnTo>
                  <a:lnTo>
                    <a:pt x="2370" y="22"/>
                  </a:lnTo>
                  <a:lnTo>
                    <a:pt x="2360" y="15"/>
                  </a:lnTo>
                  <a:lnTo>
                    <a:pt x="2350" y="8"/>
                  </a:lnTo>
                  <a:lnTo>
                    <a:pt x="2347" y="5"/>
                  </a:lnTo>
                  <a:lnTo>
                    <a:pt x="2343" y="2"/>
                  </a:lnTo>
                  <a:lnTo>
                    <a:pt x="2340" y="1"/>
                  </a:lnTo>
                  <a:lnTo>
                    <a:pt x="2337" y="0"/>
                  </a:lnTo>
                  <a:lnTo>
                    <a:pt x="2334" y="0"/>
                  </a:lnTo>
                  <a:lnTo>
                    <a:pt x="2331" y="1"/>
                  </a:lnTo>
                  <a:lnTo>
                    <a:pt x="2329" y="2"/>
                  </a:lnTo>
                  <a:lnTo>
                    <a:pt x="2326" y="5"/>
                  </a:lnTo>
                  <a:lnTo>
                    <a:pt x="2321" y="9"/>
                  </a:lnTo>
                  <a:lnTo>
                    <a:pt x="2317" y="17"/>
                  </a:lnTo>
                  <a:lnTo>
                    <a:pt x="2313" y="26"/>
                  </a:lnTo>
                  <a:lnTo>
                    <a:pt x="2308" y="36"/>
                  </a:lnTo>
                  <a:lnTo>
                    <a:pt x="2300" y="56"/>
                  </a:lnTo>
                  <a:lnTo>
                    <a:pt x="2288" y="76"/>
                  </a:lnTo>
                  <a:lnTo>
                    <a:pt x="2282" y="85"/>
                  </a:lnTo>
                  <a:lnTo>
                    <a:pt x="2275" y="92"/>
                  </a:lnTo>
                  <a:lnTo>
                    <a:pt x="2272" y="95"/>
                  </a:lnTo>
                  <a:lnTo>
                    <a:pt x="2267" y="97"/>
                  </a:lnTo>
                  <a:lnTo>
                    <a:pt x="2263" y="99"/>
                  </a:lnTo>
                  <a:lnTo>
                    <a:pt x="2258" y="100"/>
                  </a:lnTo>
                  <a:lnTo>
                    <a:pt x="2237" y="103"/>
                  </a:lnTo>
                  <a:lnTo>
                    <a:pt x="2212" y="105"/>
                  </a:lnTo>
                  <a:lnTo>
                    <a:pt x="2185" y="109"/>
                  </a:lnTo>
                  <a:lnTo>
                    <a:pt x="2152" y="113"/>
                  </a:lnTo>
                  <a:lnTo>
                    <a:pt x="2111" y="119"/>
                  </a:lnTo>
                  <a:lnTo>
                    <a:pt x="2062" y="126"/>
                  </a:lnTo>
                  <a:lnTo>
                    <a:pt x="2003" y="135"/>
                  </a:lnTo>
                  <a:lnTo>
                    <a:pt x="1933" y="146"/>
                  </a:lnTo>
                  <a:lnTo>
                    <a:pt x="1806" y="166"/>
                  </a:lnTo>
                  <a:lnTo>
                    <a:pt x="1694" y="185"/>
                  </a:lnTo>
                  <a:lnTo>
                    <a:pt x="1596" y="202"/>
                  </a:lnTo>
                  <a:lnTo>
                    <a:pt x="1510" y="217"/>
                  </a:lnTo>
                  <a:lnTo>
                    <a:pt x="1436" y="230"/>
                  </a:lnTo>
                  <a:lnTo>
                    <a:pt x="1371" y="241"/>
                  </a:lnTo>
                  <a:lnTo>
                    <a:pt x="1315" y="249"/>
                  </a:lnTo>
                  <a:lnTo>
                    <a:pt x="1265" y="255"/>
                  </a:lnTo>
                  <a:lnTo>
                    <a:pt x="1243" y="256"/>
                  </a:lnTo>
                  <a:lnTo>
                    <a:pt x="1222" y="256"/>
                  </a:lnTo>
                  <a:lnTo>
                    <a:pt x="1202" y="255"/>
                  </a:lnTo>
                  <a:lnTo>
                    <a:pt x="1182" y="253"/>
                  </a:lnTo>
                  <a:lnTo>
                    <a:pt x="1163" y="250"/>
                  </a:lnTo>
                  <a:lnTo>
                    <a:pt x="1146" y="246"/>
                  </a:lnTo>
                  <a:lnTo>
                    <a:pt x="1128" y="242"/>
                  </a:lnTo>
                  <a:lnTo>
                    <a:pt x="1111" y="235"/>
                  </a:lnTo>
                  <a:lnTo>
                    <a:pt x="1093" y="228"/>
                  </a:lnTo>
                  <a:lnTo>
                    <a:pt x="1076" y="220"/>
                  </a:lnTo>
                  <a:lnTo>
                    <a:pt x="1058" y="209"/>
                  </a:lnTo>
                  <a:lnTo>
                    <a:pt x="1040" y="197"/>
                  </a:lnTo>
                  <a:lnTo>
                    <a:pt x="1021" y="185"/>
                  </a:lnTo>
                  <a:lnTo>
                    <a:pt x="1001" y="171"/>
                  </a:lnTo>
                  <a:lnTo>
                    <a:pt x="981" y="155"/>
                  </a:lnTo>
                  <a:lnTo>
                    <a:pt x="959" y="138"/>
                  </a:lnTo>
                  <a:lnTo>
                    <a:pt x="0" y="230"/>
                  </a:lnTo>
                  <a:lnTo>
                    <a:pt x="12" y="238"/>
                  </a:lnTo>
                  <a:lnTo>
                    <a:pt x="24" y="251"/>
                  </a:lnTo>
                  <a:lnTo>
                    <a:pt x="37" y="265"/>
                  </a:lnTo>
                  <a:lnTo>
                    <a:pt x="49" y="283"/>
                  </a:lnTo>
                  <a:lnTo>
                    <a:pt x="62" y="301"/>
                  </a:lnTo>
                  <a:lnTo>
                    <a:pt x="73" y="322"/>
                  </a:lnTo>
                  <a:lnTo>
                    <a:pt x="84" y="343"/>
                  </a:lnTo>
                  <a:lnTo>
                    <a:pt x="95" y="367"/>
                  </a:lnTo>
                  <a:lnTo>
                    <a:pt x="104" y="390"/>
                  </a:lnTo>
                  <a:lnTo>
                    <a:pt x="112" y="415"/>
                  </a:lnTo>
                  <a:lnTo>
                    <a:pt x="118" y="439"/>
                  </a:lnTo>
                  <a:lnTo>
                    <a:pt x="124" y="463"/>
                  </a:lnTo>
                  <a:lnTo>
                    <a:pt x="126" y="486"/>
                  </a:lnTo>
                  <a:lnTo>
                    <a:pt x="127" y="508"/>
                  </a:lnTo>
                  <a:lnTo>
                    <a:pt x="127" y="519"/>
                  </a:lnTo>
                  <a:lnTo>
                    <a:pt x="127" y="529"/>
                  </a:lnTo>
                  <a:lnTo>
                    <a:pt x="126" y="540"/>
                  </a:lnTo>
                  <a:lnTo>
                    <a:pt x="124" y="549"/>
                  </a:lnTo>
                  <a:lnTo>
                    <a:pt x="183" y="543"/>
                  </a:lnTo>
                  <a:lnTo>
                    <a:pt x="244" y="537"/>
                  </a:lnTo>
                  <a:lnTo>
                    <a:pt x="305" y="531"/>
                  </a:lnTo>
                  <a:lnTo>
                    <a:pt x="366" y="527"/>
                  </a:lnTo>
                  <a:lnTo>
                    <a:pt x="426" y="522"/>
                  </a:lnTo>
                  <a:lnTo>
                    <a:pt x="487" y="519"/>
                  </a:lnTo>
                  <a:lnTo>
                    <a:pt x="548" y="515"/>
                  </a:lnTo>
                  <a:lnTo>
                    <a:pt x="606" y="513"/>
                  </a:lnTo>
                  <a:lnTo>
                    <a:pt x="665" y="510"/>
                  </a:lnTo>
                  <a:lnTo>
                    <a:pt x="721" y="510"/>
                  </a:lnTo>
                  <a:lnTo>
                    <a:pt x="776" y="509"/>
                  </a:lnTo>
                  <a:lnTo>
                    <a:pt x="829" y="510"/>
                  </a:lnTo>
                  <a:lnTo>
                    <a:pt x="881" y="513"/>
                  </a:lnTo>
                  <a:lnTo>
                    <a:pt x="930" y="515"/>
                  </a:lnTo>
                  <a:lnTo>
                    <a:pt x="976" y="519"/>
                  </a:lnTo>
                  <a:lnTo>
                    <a:pt x="1020" y="523"/>
                  </a:lnTo>
                  <a:lnTo>
                    <a:pt x="1030" y="527"/>
                  </a:lnTo>
                  <a:lnTo>
                    <a:pt x="1058" y="535"/>
                  </a:lnTo>
                  <a:lnTo>
                    <a:pt x="1077" y="542"/>
                  </a:lnTo>
                  <a:lnTo>
                    <a:pt x="1098" y="550"/>
                  </a:lnTo>
                  <a:lnTo>
                    <a:pt x="1120" y="559"/>
                  </a:lnTo>
                  <a:lnTo>
                    <a:pt x="1143" y="571"/>
                  </a:lnTo>
                  <a:lnTo>
                    <a:pt x="1167" y="583"/>
                  </a:lnTo>
                  <a:lnTo>
                    <a:pt x="1189" y="597"/>
                  </a:lnTo>
                  <a:lnTo>
                    <a:pt x="1200" y="605"/>
                  </a:lnTo>
                  <a:lnTo>
                    <a:pt x="1210" y="612"/>
                  </a:lnTo>
                  <a:lnTo>
                    <a:pt x="1219" y="620"/>
                  </a:lnTo>
                  <a:lnTo>
                    <a:pt x="1229" y="630"/>
                  </a:lnTo>
                  <a:lnTo>
                    <a:pt x="1237" y="638"/>
                  </a:lnTo>
                  <a:lnTo>
                    <a:pt x="1244" y="647"/>
                  </a:lnTo>
                  <a:lnTo>
                    <a:pt x="1251" y="658"/>
                  </a:lnTo>
                  <a:lnTo>
                    <a:pt x="1257" y="667"/>
                  </a:lnTo>
                  <a:lnTo>
                    <a:pt x="1261" y="677"/>
                  </a:lnTo>
                  <a:lnTo>
                    <a:pt x="1265" y="688"/>
                  </a:lnTo>
                  <a:lnTo>
                    <a:pt x="1266" y="700"/>
                  </a:lnTo>
                  <a:lnTo>
                    <a:pt x="1267" y="710"/>
                  </a:lnTo>
                  <a:lnTo>
                    <a:pt x="1268" y="722"/>
                  </a:lnTo>
                  <a:lnTo>
                    <a:pt x="1271" y="731"/>
                  </a:lnTo>
                  <a:lnTo>
                    <a:pt x="1274" y="738"/>
                  </a:lnTo>
                  <a:lnTo>
                    <a:pt x="1279" y="745"/>
                  </a:lnTo>
                  <a:lnTo>
                    <a:pt x="1286" y="750"/>
                  </a:lnTo>
                  <a:lnTo>
                    <a:pt x="1293" y="753"/>
                  </a:lnTo>
                  <a:lnTo>
                    <a:pt x="1301" y="757"/>
                  </a:lnTo>
                  <a:lnTo>
                    <a:pt x="1311" y="758"/>
                  </a:lnTo>
                  <a:lnTo>
                    <a:pt x="1321" y="758"/>
                  </a:lnTo>
                  <a:lnTo>
                    <a:pt x="1332" y="758"/>
                  </a:lnTo>
                  <a:lnTo>
                    <a:pt x="1343" y="757"/>
                  </a:lnTo>
                  <a:lnTo>
                    <a:pt x="1356" y="755"/>
                  </a:lnTo>
                  <a:lnTo>
                    <a:pt x="1381" y="749"/>
                  </a:lnTo>
                  <a:lnTo>
                    <a:pt x="1407" y="742"/>
                  </a:lnTo>
                  <a:lnTo>
                    <a:pt x="1433" y="732"/>
                  </a:lnTo>
                  <a:lnTo>
                    <a:pt x="1458" y="722"/>
                  </a:lnTo>
                  <a:lnTo>
                    <a:pt x="1482" y="711"/>
                  </a:lnTo>
                  <a:lnTo>
                    <a:pt x="1503" y="701"/>
                  </a:lnTo>
                  <a:lnTo>
                    <a:pt x="1535" y="686"/>
                  </a:lnTo>
                  <a:lnTo>
                    <a:pt x="1546" y="679"/>
                  </a:lnTo>
                  <a:lnTo>
                    <a:pt x="1639" y="494"/>
                  </a:lnTo>
                  <a:lnTo>
                    <a:pt x="1823" y="494"/>
                  </a:lnTo>
                  <a:lnTo>
                    <a:pt x="1979" y="616"/>
                  </a:lnTo>
                  <a:lnTo>
                    <a:pt x="2071" y="616"/>
                  </a:lnTo>
                  <a:lnTo>
                    <a:pt x="2258" y="771"/>
                  </a:lnTo>
                  <a:lnTo>
                    <a:pt x="2535" y="771"/>
                  </a:lnTo>
                  <a:lnTo>
                    <a:pt x="2531" y="791"/>
                  </a:lnTo>
                  <a:lnTo>
                    <a:pt x="2532" y="815"/>
                  </a:lnTo>
                  <a:lnTo>
                    <a:pt x="2537" y="843"/>
                  </a:lnTo>
                  <a:lnTo>
                    <a:pt x="2546" y="875"/>
                  </a:lnTo>
                  <a:lnTo>
                    <a:pt x="2559" y="910"/>
                  </a:lnTo>
                  <a:lnTo>
                    <a:pt x="2576" y="948"/>
                  </a:lnTo>
                  <a:lnTo>
                    <a:pt x="2595" y="989"/>
                  </a:lnTo>
                  <a:lnTo>
                    <a:pt x="2618" y="1033"/>
                  </a:lnTo>
                  <a:lnTo>
                    <a:pt x="2643" y="1079"/>
                  </a:lnTo>
                  <a:lnTo>
                    <a:pt x="2671" y="1126"/>
                  </a:lnTo>
                  <a:lnTo>
                    <a:pt x="2701" y="1175"/>
                  </a:lnTo>
                  <a:lnTo>
                    <a:pt x="2733" y="1225"/>
                  </a:lnTo>
                  <a:lnTo>
                    <a:pt x="2766" y="1277"/>
                  </a:lnTo>
                  <a:lnTo>
                    <a:pt x="2801" y="1328"/>
                  </a:lnTo>
                  <a:lnTo>
                    <a:pt x="2838" y="1381"/>
                  </a:lnTo>
                  <a:lnTo>
                    <a:pt x="2875" y="1432"/>
                  </a:lnTo>
                  <a:lnTo>
                    <a:pt x="2913" y="1483"/>
                  </a:lnTo>
                  <a:lnTo>
                    <a:pt x="2952" y="1534"/>
                  </a:lnTo>
                  <a:lnTo>
                    <a:pt x="2990" y="1583"/>
                  </a:lnTo>
                  <a:lnTo>
                    <a:pt x="3029" y="1631"/>
                  </a:lnTo>
                  <a:lnTo>
                    <a:pt x="3067" y="1677"/>
                  </a:lnTo>
                  <a:lnTo>
                    <a:pt x="3105" y="1721"/>
                  </a:lnTo>
                  <a:lnTo>
                    <a:pt x="3142" y="1763"/>
                  </a:lnTo>
                  <a:lnTo>
                    <a:pt x="3178" y="1802"/>
                  </a:lnTo>
                  <a:lnTo>
                    <a:pt x="3213" y="1837"/>
                  </a:lnTo>
                  <a:lnTo>
                    <a:pt x="3247" y="1870"/>
                  </a:lnTo>
                  <a:lnTo>
                    <a:pt x="3279" y="1899"/>
                  </a:lnTo>
                  <a:lnTo>
                    <a:pt x="3308" y="1925"/>
                  </a:lnTo>
                  <a:lnTo>
                    <a:pt x="3335" y="1945"/>
                  </a:lnTo>
                  <a:lnTo>
                    <a:pt x="3361" y="1961"/>
                  </a:lnTo>
                  <a:lnTo>
                    <a:pt x="3383" y="1972"/>
                  </a:lnTo>
                  <a:lnTo>
                    <a:pt x="3401" y="1978"/>
                  </a:lnTo>
                  <a:lnTo>
                    <a:pt x="3420" y="1981"/>
                  </a:lnTo>
                  <a:lnTo>
                    <a:pt x="3440" y="1986"/>
                  </a:lnTo>
                  <a:lnTo>
                    <a:pt x="3462" y="1990"/>
                  </a:lnTo>
                  <a:lnTo>
                    <a:pt x="3486" y="1997"/>
                  </a:lnTo>
                  <a:lnTo>
                    <a:pt x="3538" y="2014"/>
                  </a:lnTo>
                  <a:lnTo>
                    <a:pt x="3598" y="2035"/>
                  </a:lnTo>
                  <a:lnTo>
                    <a:pt x="3663" y="2059"/>
                  </a:lnTo>
                  <a:lnTo>
                    <a:pt x="3733" y="2090"/>
                  </a:lnTo>
                  <a:lnTo>
                    <a:pt x="3808" y="2124"/>
                  </a:lnTo>
                  <a:lnTo>
                    <a:pt x="3886" y="2162"/>
                  </a:lnTo>
                  <a:lnTo>
                    <a:pt x="3928" y="2182"/>
                  </a:lnTo>
                  <a:lnTo>
                    <a:pt x="3969" y="2204"/>
                  </a:lnTo>
                  <a:lnTo>
                    <a:pt x="4012" y="2227"/>
                  </a:lnTo>
                  <a:lnTo>
                    <a:pt x="4056" y="2251"/>
                  </a:lnTo>
                  <a:lnTo>
                    <a:pt x="4099" y="2277"/>
                  </a:lnTo>
                  <a:lnTo>
                    <a:pt x="4143" y="2302"/>
                  </a:lnTo>
                  <a:lnTo>
                    <a:pt x="4189" y="2330"/>
                  </a:lnTo>
                  <a:lnTo>
                    <a:pt x="4234" y="2358"/>
                  </a:lnTo>
                  <a:lnTo>
                    <a:pt x="4280" y="2389"/>
                  </a:lnTo>
                  <a:lnTo>
                    <a:pt x="4327" y="2419"/>
                  </a:lnTo>
                  <a:lnTo>
                    <a:pt x="4372" y="2451"/>
                  </a:lnTo>
                  <a:lnTo>
                    <a:pt x="4419" y="2483"/>
                  </a:lnTo>
                  <a:lnTo>
                    <a:pt x="4466" y="2517"/>
                  </a:lnTo>
                  <a:lnTo>
                    <a:pt x="4512" y="2552"/>
                  </a:lnTo>
                  <a:lnTo>
                    <a:pt x="4559" y="2588"/>
                  </a:lnTo>
                  <a:lnTo>
                    <a:pt x="4606" y="2626"/>
                  </a:lnTo>
                  <a:lnTo>
                    <a:pt x="4885" y="2410"/>
                  </a:lnTo>
                  <a:lnTo>
                    <a:pt x="4884" y="2390"/>
                  </a:lnTo>
                  <a:lnTo>
                    <a:pt x="4883" y="2369"/>
                  </a:lnTo>
                  <a:lnTo>
                    <a:pt x="4879" y="2349"/>
                  </a:lnTo>
                  <a:lnTo>
                    <a:pt x="4876" y="2328"/>
                  </a:lnTo>
                  <a:lnTo>
                    <a:pt x="4871" y="2307"/>
                  </a:lnTo>
                  <a:lnTo>
                    <a:pt x="4865" y="2287"/>
                  </a:lnTo>
                  <a:lnTo>
                    <a:pt x="4858" y="2266"/>
                  </a:lnTo>
                  <a:lnTo>
                    <a:pt x="4851" y="2246"/>
                  </a:lnTo>
                  <a:lnTo>
                    <a:pt x="4835" y="2206"/>
                  </a:lnTo>
                  <a:lnTo>
                    <a:pt x="4816" y="2168"/>
                  </a:lnTo>
                  <a:lnTo>
                    <a:pt x="4797" y="2132"/>
                  </a:lnTo>
                  <a:lnTo>
                    <a:pt x="4776" y="2097"/>
                  </a:lnTo>
                  <a:lnTo>
                    <a:pt x="4756" y="2065"/>
                  </a:lnTo>
                  <a:lnTo>
                    <a:pt x="4737" y="2036"/>
                  </a:lnTo>
                  <a:lnTo>
                    <a:pt x="4719" y="2010"/>
                  </a:lnTo>
                  <a:lnTo>
                    <a:pt x="4703" y="1988"/>
                  </a:lnTo>
                  <a:lnTo>
                    <a:pt x="4678" y="1958"/>
                  </a:lnTo>
                  <a:lnTo>
                    <a:pt x="4669" y="1946"/>
                  </a:lnTo>
                  <a:lnTo>
                    <a:pt x="4657" y="1924"/>
                  </a:lnTo>
                  <a:lnTo>
                    <a:pt x="4641" y="1898"/>
                  </a:lnTo>
                  <a:lnTo>
                    <a:pt x="4621" y="1869"/>
                  </a:lnTo>
                  <a:lnTo>
                    <a:pt x="4595" y="1836"/>
                  </a:lnTo>
                  <a:lnTo>
                    <a:pt x="4567" y="1800"/>
                  </a:lnTo>
                  <a:lnTo>
                    <a:pt x="4535" y="1763"/>
                  </a:lnTo>
                  <a:lnTo>
                    <a:pt x="4498" y="1722"/>
                  </a:lnTo>
                  <a:lnTo>
                    <a:pt x="4460" y="1678"/>
                  </a:lnTo>
                  <a:lnTo>
                    <a:pt x="4419" y="1634"/>
                  </a:lnTo>
                  <a:lnTo>
                    <a:pt x="4375" y="1587"/>
                  </a:lnTo>
                  <a:lnTo>
                    <a:pt x="4328" y="1538"/>
                  </a:lnTo>
                  <a:lnTo>
                    <a:pt x="4280" y="1489"/>
                  </a:lnTo>
                  <a:lnTo>
                    <a:pt x="4178" y="1389"/>
                  </a:lnTo>
                  <a:lnTo>
                    <a:pt x="4073" y="1286"/>
                  </a:lnTo>
                  <a:lnTo>
                    <a:pt x="3965" y="1183"/>
                  </a:lnTo>
                  <a:lnTo>
                    <a:pt x="3857" y="1084"/>
                  </a:lnTo>
                  <a:lnTo>
                    <a:pt x="3752" y="988"/>
                  </a:lnTo>
                  <a:lnTo>
                    <a:pt x="3650" y="899"/>
                  </a:lnTo>
                  <a:lnTo>
                    <a:pt x="3557" y="818"/>
                  </a:lnTo>
                  <a:lnTo>
                    <a:pt x="3472" y="748"/>
                  </a:lnTo>
                  <a:lnTo>
                    <a:pt x="3433" y="717"/>
                  </a:lnTo>
                  <a:lnTo>
                    <a:pt x="3398" y="690"/>
                  </a:lnTo>
                  <a:lnTo>
                    <a:pt x="3366" y="667"/>
                  </a:lnTo>
                  <a:lnTo>
                    <a:pt x="3338" y="647"/>
                  </a:lnTo>
                  <a:lnTo>
                    <a:pt x="3285" y="611"/>
                  </a:lnTo>
                  <a:lnTo>
                    <a:pt x="3231" y="571"/>
                  </a:lnTo>
                  <a:lnTo>
                    <a:pt x="3175" y="528"/>
                  </a:lnTo>
                  <a:lnTo>
                    <a:pt x="3119" y="484"/>
                  </a:lnTo>
                  <a:lnTo>
                    <a:pt x="3062" y="438"/>
                  </a:lnTo>
                  <a:lnTo>
                    <a:pt x="3007" y="391"/>
                  </a:lnTo>
                  <a:lnTo>
                    <a:pt x="2952" y="346"/>
                  </a:lnTo>
                  <a:lnTo>
                    <a:pt x="2900" y="300"/>
                  </a:lnTo>
                  <a:lnTo>
                    <a:pt x="2803" y="217"/>
                  </a:lnTo>
                  <a:lnTo>
                    <a:pt x="2722" y="146"/>
                  </a:lnTo>
                  <a:lnTo>
                    <a:pt x="2689" y="118"/>
                  </a:lnTo>
                  <a:lnTo>
                    <a:pt x="2661" y="95"/>
                  </a:lnTo>
                  <a:lnTo>
                    <a:pt x="2639" y="78"/>
                  </a:lnTo>
                  <a:lnTo>
                    <a:pt x="2624" y="69"/>
                  </a:lnTo>
                  <a:lnTo>
                    <a:pt x="2609" y="60"/>
                  </a:lnTo>
                  <a:lnTo>
                    <a:pt x="2595" y="50"/>
                  </a:lnTo>
                  <a:lnTo>
                    <a:pt x="2584" y="41"/>
                  </a:lnTo>
                  <a:lnTo>
                    <a:pt x="2572" y="32"/>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1" name="Freeform 172"/>
            <p:cNvSpPr/>
            <p:nvPr/>
          </p:nvSpPr>
          <p:spPr>
            <a:xfrm>
              <a:off x="6159960" y="2148480"/>
              <a:ext cx="545040" cy="371880"/>
            </a:xfrm>
            <a:custGeom>
              <a:avLst/>
              <a:gdLst>
                <a:gd name="textAreaLeft" fmla="*/ 0 w 545040"/>
                <a:gd name="textAreaRight" fmla="*/ 545400 w 545040"/>
                <a:gd name="textAreaTop" fmla="*/ 0 h 371880"/>
                <a:gd name="textAreaBottom" fmla="*/ 372240 h 371880"/>
              </a:gdLst>
              <a:ahLst/>
              <a:rect l="textAreaLeft" t="textAreaTop" r="textAreaRight" b="textAreaBottom"/>
              <a:pathLst>
                <a:path w="1238" h="822">
                  <a:moveTo>
                    <a:pt x="1124" y="762"/>
                  </a:moveTo>
                  <a:lnTo>
                    <a:pt x="1238" y="776"/>
                  </a:lnTo>
                  <a:lnTo>
                    <a:pt x="1238" y="762"/>
                  </a:lnTo>
                  <a:lnTo>
                    <a:pt x="1237" y="747"/>
                  </a:lnTo>
                  <a:lnTo>
                    <a:pt x="1236" y="732"/>
                  </a:lnTo>
                  <a:lnTo>
                    <a:pt x="1234" y="717"/>
                  </a:lnTo>
                  <a:lnTo>
                    <a:pt x="1230" y="703"/>
                  </a:lnTo>
                  <a:lnTo>
                    <a:pt x="1227" y="688"/>
                  </a:lnTo>
                  <a:lnTo>
                    <a:pt x="1222" y="672"/>
                  </a:lnTo>
                  <a:lnTo>
                    <a:pt x="1217" y="657"/>
                  </a:lnTo>
                  <a:lnTo>
                    <a:pt x="1212" y="641"/>
                  </a:lnTo>
                  <a:lnTo>
                    <a:pt x="1205" y="626"/>
                  </a:lnTo>
                  <a:lnTo>
                    <a:pt x="1198" y="611"/>
                  </a:lnTo>
                  <a:lnTo>
                    <a:pt x="1189" y="594"/>
                  </a:lnTo>
                  <a:lnTo>
                    <a:pt x="1181" y="579"/>
                  </a:lnTo>
                  <a:lnTo>
                    <a:pt x="1171" y="563"/>
                  </a:lnTo>
                  <a:lnTo>
                    <a:pt x="1160" y="546"/>
                  </a:lnTo>
                  <a:lnTo>
                    <a:pt x="1150" y="531"/>
                  </a:lnTo>
                  <a:lnTo>
                    <a:pt x="1124" y="497"/>
                  </a:lnTo>
                  <a:lnTo>
                    <a:pt x="1096" y="465"/>
                  </a:lnTo>
                  <a:lnTo>
                    <a:pt x="1064" y="431"/>
                  </a:lnTo>
                  <a:lnTo>
                    <a:pt x="1029" y="396"/>
                  </a:lnTo>
                  <a:lnTo>
                    <a:pt x="991" y="361"/>
                  </a:lnTo>
                  <a:lnTo>
                    <a:pt x="949" y="326"/>
                  </a:lnTo>
                  <a:lnTo>
                    <a:pt x="903" y="289"/>
                  </a:lnTo>
                  <a:lnTo>
                    <a:pt x="853" y="252"/>
                  </a:lnTo>
                  <a:lnTo>
                    <a:pt x="844" y="267"/>
                  </a:lnTo>
                  <a:lnTo>
                    <a:pt x="835" y="281"/>
                  </a:lnTo>
                  <a:lnTo>
                    <a:pt x="827" y="294"/>
                  </a:lnTo>
                  <a:lnTo>
                    <a:pt x="819" y="305"/>
                  </a:lnTo>
                  <a:lnTo>
                    <a:pt x="811" y="314"/>
                  </a:lnTo>
                  <a:lnTo>
                    <a:pt x="803" y="322"/>
                  </a:lnTo>
                  <a:lnTo>
                    <a:pt x="796" y="329"/>
                  </a:lnTo>
                  <a:lnTo>
                    <a:pt x="789" y="335"/>
                  </a:lnTo>
                  <a:lnTo>
                    <a:pt x="782" y="340"/>
                  </a:lnTo>
                  <a:lnTo>
                    <a:pt x="775" y="342"/>
                  </a:lnTo>
                  <a:lnTo>
                    <a:pt x="768" y="344"/>
                  </a:lnTo>
                  <a:lnTo>
                    <a:pt x="762" y="344"/>
                  </a:lnTo>
                  <a:lnTo>
                    <a:pt x="756" y="344"/>
                  </a:lnTo>
                  <a:lnTo>
                    <a:pt x="750" y="342"/>
                  </a:lnTo>
                  <a:lnTo>
                    <a:pt x="745" y="340"/>
                  </a:lnTo>
                  <a:lnTo>
                    <a:pt x="741" y="335"/>
                  </a:lnTo>
                  <a:lnTo>
                    <a:pt x="736" y="330"/>
                  </a:lnTo>
                  <a:lnTo>
                    <a:pt x="733" y="323"/>
                  </a:lnTo>
                  <a:lnTo>
                    <a:pt x="729" y="316"/>
                  </a:lnTo>
                  <a:lnTo>
                    <a:pt x="727" y="307"/>
                  </a:lnTo>
                  <a:lnTo>
                    <a:pt x="724" y="298"/>
                  </a:lnTo>
                  <a:lnTo>
                    <a:pt x="723" y="287"/>
                  </a:lnTo>
                  <a:lnTo>
                    <a:pt x="722" y="275"/>
                  </a:lnTo>
                  <a:lnTo>
                    <a:pt x="722" y="263"/>
                  </a:lnTo>
                  <a:lnTo>
                    <a:pt x="722" y="250"/>
                  </a:lnTo>
                  <a:lnTo>
                    <a:pt x="723" y="234"/>
                  </a:lnTo>
                  <a:lnTo>
                    <a:pt x="724" y="219"/>
                  </a:lnTo>
                  <a:lnTo>
                    <a:pt x="727" y="203"/>
                  </a:lnTo>
                  <a:lnTo>
                    <a:pt x="734" y="168"/>
                  </a:lnTo>
                  <a:lnTo>
                    <a:pt x="743" y="128"/>
                  </a:lnTo>
                  <a:lnTo>
                    <a:pt x="744" y="126"/>
                  </a:lnTo>
                  <a:lnTo>
                    <a:pt x="745" y="119"/>
                  </a:lnTo>
                  <a:lnTo>
                    <a:pt x="745" y="115"/>
                  </a:lnTo>
                  <a:lnTo>
                    <a:pt x="743" y="111"/>
                  </a:lnTo>
                  <a:lnTo>
                    <a:pt x="741" y="106"/>
                  </a:lnTo>
                  <a:lnTo>
                    <a:pt x="736" y="102"/>
                  </a:lnTo>
                  <a:lnTo>
                    <a:pt x="729" y="99"/>
                  </a:lnTo>
                  <a:lnTo>
                    <a:pt x="720" y="97"/>
                  </a:lnTo>
                  <a:lnTo>
                    <a:pt x="708" y="94"/>
                  </a:lnTo>
                  <a:lnTo>
                    <a:pt x="692" y="94"/>
                  </a:lnTo>
                  <a:lnTo>
                    <a:pt x="673" y="95"/>
                  </a:lnTo>
                  <a:lnTo>
                    <a:pt x="650" y="99"/>
                  </a:lnTo>
                  <a:lnTo>
                    <a:pt x="623" y="104"/>
                  </a:lnTo>
                  <a:lnTo>
                    <a:pt x="590" y="111"/>
                  </a:lnTo>
                  <a:lnTo>
                    <a:pt x="594" y="108"/>
                  </a:lnTo>
                  <a:lnTo>
                    <a:pt x="598" y="101"/>
                  </a:lnTo>
                  <a:lnTo>
                    <a:pt x="605" y="91"/>
                  </a:lnTo>
                  <a:lnTo>
                    <a:pt x="611" y="79"/>
                  </a:lnTo>
                  <a:lnTo>
                    <a:pt x="612" y="73"/>
                  </a:lnTo>
                  <a:lnTo>
                    <a:pt x="613" y="66"/>
                  </a:lnTo>
                  <a:lnTo>
                    <a:pt x="612" y="60"/>
                  </a:lnTo>
                  <a:lnTo>
                    <a:pt x="609" y="55"/>
                  </a:lnTo>
                  <a:lnTo>
                    <a:pt x="604" y="49"/>
                  </a:lnTo>
                  <a:lnTo>
                    <a:pt x="596" y="44"/>
                  </a:lnTo>
                  <a:lnTo>
                    <a:pt x="587" y="39"/>
                  </a:lnTo>
                  <a:lnTo>
                    <a:pt x="574" y="36"/>
                  </a:lnTo>
                  <a:lnTo>
                    <a:pt x="546" y="29"/>
                  </a:lnTo>
                  <a:lnTo>
                    <a:pt x="519" y="20"/>
                  </a:lnTo>
                  <a:lnTo>
                    <a:pt x="492" y="11"/>
                  </a:lnTo>
                  <a:lnTo>
                    <a:pt x="463" y="4"/>
                  </a:lnTo>
                  <a:lnTo>
                    <a:pt x="448" y="1"/>
                  </a:lnTo>
                  <a:lnTo>
                    <a:pt x="431" y="0"/>
                  </a:lnTo>
                  <a:lnTo>
                    <a:pt x="413" y="0"/>
                  </a:lnTo>
                  <a:lnTo>
                    <a:pt x="394" y="0"/>
                  </a:lnTo>
                  <a:lnTo>
                    <a:pt x="373" y="2"/>
                  </a:lnTo>
                  <a:lnTo>
                    <a:pt x="349" y="6"/>
                  </a:lnTo>
                  <a:lnTo>
                    <a:pt x="324" y="11"/>
                  </a:lnTo>
                  <a:lnTo>
                    <a:pt x="297" y="20"/>
                  </a:lnTo>
                  <a:lnTo>
                    <a:pt x="311" y="111"/>
                  </a:lnTo>
                  <a:lnTo>
                    <a:pt x="305" y="108"/>
                  </a:lnTo>
                  <a:lnTo>
                    <a:pt x="288" y="102"/>
                  </a:lnTo>
                  <a:lnTo>
                    <a:pt x="260" y="93"/>
                  </a:lnTo>
                  <a:lnTo>
                    <a:pt x="219" y="83"/>
                  </a:lnTo>
                  <a:lnTo>
                    <a:pt x="220" y="86"/>
                  </a:lnTo>
                  <a:lnTo>
                    <a:pt x="220" y="95"/>
                  </a:lnTo>
                  <a:lnTo>
                    <a:pt x="221" y="108"/>
                  </a:lnTo>
                  <a:lnTo>
                    <a:pt x="219" y="125"/>
                  </a:lnTo>
                  <a:lnTo>
                    <a:pt x="216" y="134"/>
                  </a:lnTo>
                  <a:lnTo>
                    <a:pt x="214" y="142"/>
                  </a:lnTo>
                  <a:lnTo>
                    <a:pt x="210" y="152"/>
                  </a:lnTo>
                  <a:lnTo>
                    <a:pt x="206" y="160"/>
                  </a:lnTo>
                  <a:lnTo>
                    <a:pt x="200" y="168"/>
                  </a:lnTo>
                  <a:lnTo>
                    <a:pt x="192" y="176"/>
                  </a:lnTo>
                  <a:lnTo>
                    <a:pt x="184" y="183"/>
                  </a:lnTo>
                  <a:lnTo>
                    <a:pt x="173" y="189"/>
                  </a:lnTo>
                  <a:lnTo>
                    <a:pt x="154" y="184"/>
                  </a:lnTo>
                  <a:lnTo>
                    <a:pt x="136" y="182"/>
                  </a:lnTo>
                  <a:lnTo>
                    <a:pt x="119" y="182"/>
                  </a:lnTo>
                  <a:lnTo>
                    <a:pt x="104" y="182"/>
                  </a:lnTo>
                  <a:lnTo>
                    <a:pt x="90" y="184"/>
                  </a:lnTo>
                  <a:lnTo>
                    <a:pt x="76" y="189"/>
                  </a:lnTo>
                  <a:lnTo>
                    <a:pt x="64" y="194"/>
                  </a:lnTo>
                  <a:lnTo>
                    <a:pt x="54" y="201"/>
                  </a:lnTo>
                  <a:lnTo>
                    <a:pt x="45" y="208"/>
                  </a:lnTo>
                  <a:lnTo>
                    <a:pt x="35" y="216"/>
                  </a:lnTo>
                  <a:lnTo>
                    <a:pt x="27" y="226"/>
                  </a:lnTo>
                  <a:lnTo>
                    <a:pt x="21" y="236"/>
                  </a:lnTo>
                  <a:lnTo>
                    <a:pt x="15" y="247"/>
                  </a:lnTo>
                  <a:lnTo>
                    <a:pt x="11" y="259"/>
                  </a:lnTo>
                  <a:lnTo>
                    <a:pt x="7" y="272"/>
                  </a:lnTo>
                  <a:lnTo>
                    <a:pt x="4" y="285"/>
                  </a:lnTo>
                  <a:lnTo>
                    <a:pt x="1" y="299"/>
                  </a:lnTo>
                  <a:lnTo>
                    <a:pt x="0" y="312"/>
                  </a:lnTo>
                  <a:lnTo>
                    <a:pt x="0" y="326"/>
                  </a:lnTo>
                  <a:lnTo>
                    <a:pt x="1" y="340"/>
                  </a:lnTo>
                  <a:lnTo>
                    <a:pt x="3" y="355"/>
                  </a:lnTo>
                  <a:lnTo>
                    <a:pt x="5" y="369"/>
                  </a:lnTo>
                  <a:lnTo>
                    <a:pt x="7" y="383"/>
                  </a:lnTo>
                  <a:lnTo>
                    <a:pt x="11" y="397"/>
                  </a:lnTo>
                  <a:lnTo>
                    <a:pt x="15" y="410"/>
                  </a:lnTo>
                  <a:lnTo>
                    <a:pt x="20" y="423"/>
                  </a:lnTo>
                  <a:lnTo>
                    <a:pt x="26" y="435"/>
                  </a:lnTo>
                  <a:lnTo>
                    <a:pt x="33" y="448"/>
                  </a:lnTo>
                  <a:lnTo>
                    <a:pt x="39" y="459"/>
                  </a:lnTo>
                  <a:lnTo>
                    <a:pt x="47" y="469"/>
                  </a:lnTo>
                  <a:lnTo>
                    <a:pt x="55" y="480"/>
                  </a:lnTo>
                  <a:lnTo>
                    <a:pt x="63" y="488"/>
                  </a:lnTo>
                  <a:lnTo>
                    <a:pt x="90" y="515"/>
                  </a:lnTo>
                  <a:lnTo>
                    <a:pt x="114" y="541"/>
                  </a:lnTo>
                  <a:lnTo>
                    <a:pt x="135" y="565"/>
                  </a:lnTo>
                  <a:lnTo>
                    <a:pt x="153" y="588"/>
                  </a:lnTo>
                  <a:lnTo>
                    <a:pt x="170" y="612"/>
                  </a:lnTo>
                  <a:lnTo>
                    <a:pt x="184" y="633"/>
                  </a:lnTo>
                  <a:lnTo>
                    <a:pt x="195" y="655"/>
                  </a:lnTo>
                  <a:lnTo>
                    <a:pt x="205" y="675"/>
                  </a:lnTo>
                  <a:lnTo>
                    <a:pt x="210" y="695"/>
                  </a:lnTo>
                  <a:lnTo>
                    <a:pt x="215" y="715"/>
                  </a:lnTo>
                  <a:lnTo>
                    <a:pt x="216" y="724"/>
                  </a:lnTo>
                  <a:lnTo>
                    <a:pt x="216" y="733"/>
                  </a:lnTo>
                  <a:lnTo>
                    <a:pt x="216" y="743"/>
                  </a:lnTo>
                  <a:lnTo>
                    <a:pt x="215" y="752"/>
                  </a:lnTo>
                  <a:lnTo>
                    <a:pt x="214" y="761"/>
                  </a:lnTo>
                  <a:lnTo>
                    <a:pt x="212" y="769"/>
                  </a:lnTo>
                  <a:lnTo>
                    <a:pt x="209" y="779"/>
                  </a:lnTo>
                  <a:lnTo>
                    <a:pt x="206" y="788"/>
                  </a:lnTo>
                  <a:lnTo>
                    <a:pt x="198" y="806"/>
                  </a:lnTo>
                  <a:lnTo>
                    <a:pt x="187" y="822"/>
                  </a:lnTo>
                  <a:lnTo>
                    <a:pt x="714" y="800"/>
                  </a:lnTo>
                  <a:lnTo>
                    <a:pt x="1124" y="76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2" name="Freeform 173"/>
            <p:cNvSpPr/>
            <p:nvPr/>
          </p:nvSpPr>
          <p:spPr>
            <a:xfrm>
              <a:off x="6159960" y="2148480"/>
              <a:ext cx="545040" cy="371880"/>
            </a:xfrm>
            <a:custGeom>
              <a:avLst/>
              <a:gdLst>
                <a:gd name="textAreaLeft" fmla="*/ 0 w 545040"/>
                <a:gd name="textAreaRight" fmla="*/ 545400 w 545040"/>
                <a:gd name="textAreaTop" fmla="*/ 0 h 371880"/>
                <a:gd name="textAreaBottom" fmla="*/ 372240 h 371880"/>
              </a:gdLst>
              <a:ahLst/>
              <a:rect l="textAreaLeft" t="textAreaTop" r="textAreaRight" b="textAreaBottom"/>
              <a:pathLst>
                <a:path w="1238" h="822">
                  <a:moveTo>
                    <a:pt x="1124" y="762"/>
                  </a:moveTo>
                  <a:lnTo>
                    <a:pt x="1238" y="776"/>
                  </a:lnTo>
                  <a:lnTo>
                    <a:pt x="1238" y="762"/>
                  </a:lnTo>
                  <a:lnTo>
                    <a:pt x="1237" y="747"/>
                  </a:lnTo>
                  <a:lnTo>
                    <a:pt x="1236" y="732"/>
                  </a:lnTo>
                  <a:lnTo>
                    <a:pt x="1234" y="717"/>
                  </a:lnTo>
                  <a:lnTo>
                    <a:pt x="1230" y="703"/>
                  </a:lnTo>
                  <a:lnTo>
                    <a:pt x="1227" y="688"/>
                  </a:lnTo>
                  <a:lnTo>
                    <a:pt x="1222" y="672"/>
                  </a:lnTo>
                  <a:lnTo>
                    <a:pt x="1217" y="657"/>
                  </a:lnTo>
                  <a:lnTo>
                    <a:pt x="1212" y="641"/>
                  </a:lnTo>
                  <a:lnTo>
                    <a:pt x="1205" y="626"/>
                  </a:lnTo>
                  <a:lnTo>
                    <a:pt x="1198" y="611"/>
                  </a:lnTo>
                  <a:lnTo>
                    <a:pt x="1189" y="594"/>
                  </a:lnTo>
                  <a:lnTo>
                    <a:pt x="1181" y="579"/>
                  </a:lnTo>
                  <a:lnTo>
                    <a:pt x="1171" y="563"/>
                  </a:lnTo>
                  <a:lnTo>
                    <a:pt x="1160" y="546"/>
                  </a:lnTo>
                  <a:lnTo>
                    <a:pt x="1150" y="531"/>
                  </a:lnTo>
                  <a:lnTo>
                    <a:pt x="1124" y="497"/>
                  </a:lnTo>
                  <a:lnTo>
                    <a:pt x="1096" y="465"/>
                  </a:lnTo>
                  <a:lnTo>
                    <a:pt x="1064" y="431"/>
                  </a:lnTo>
                  <a:lnTo>
                    <a:pt x="1029" y="396"/>
                  </a:lnTo>
                  <a:lnTo>
                    <a:pt x="991" y="361"/>
                  </a:lnTo>
                  <a:lnTo>
                    <a:pt x="949" y="326"/>
                  </a:lnTo>
                  <a:lnTo>
                    <a:pt x="903" y="289"/>
                  </a:lnTo>
                  <a:lnTo>
                    <a:pt x="853" y="252"/>
                  </a:lnTo>
                  <a:lnTo>
                    <a:pt x="844" y="267"/>
                  </a:lnTo>
                  <a:lnTo>
                    <a:pt x="835" y="281"/>
                  </a:lnTo>
                  <a:lnTo>
                    <a:pt x="827" y="294"/>
                  </a:lnTo>
                  <a:lnTo>
                    <a:pt x="819" y="305"/>
                  </a:lnTo>
                  <a:lnTo>
                    <a:pt x="811" y="314"/>
                  </a:lnTo>
                  <a:lnTo>
                    <a:pt x="803" y="322"/>
                  </a:lnTo>
                  <a:lnTo>
                    <a:pt x="796" y="329"/>
                  </a:lnTo>
                  <a:lnTo>
                    <a:pt x="789" y="335"/>
                  </a:lnTo>
                  <a:lnTo>
                    <a:pt x="782" y="340"/>
                  </a:lnTo>
                  <a:lnTo>
                    <a:pt x="775" y="342"/>
                  </a:lnTo>
                  <a:lnTo>
                    <a:pt x="768" y="344"/>
                  </a:lnTo>
                  <a:lnTo>
                    <a:pt x="762" y="344"/>
                  </a:lnTo>
                  <a:lnTo>
                    <a:pt x="756" y="344"/>
                  </a:lnTo>
                  <a:lnTo>
                    <a:pt x="750" y="342"/>
                  </a:lnTo>
                  <a:lnTo>
                    <a:pt x="745" y="340"/>
                  </a:lnTo>
                  <a:lnTo>
                    <a:pt x="741" y="335"/>
                  </a:lnTo>
                  <a:lnTo>
                    <a:pt x="736" y="330"/>
                  </a:lnTo>
                  <a:lnTo>
                    <a:pt x="733" y="323"/>
                  </a:lnTo>
                  <a:lnTo>
                    <a:pt x="729" y="316"/>
                  </a:lnTo>
                  <a:lnTo>
                    <a:pt x="727" y="307"/>
                  </a:lnTo>
                  <a:lnTo>
                    <a:pt x="724" y="298"/>
                  </a:lnTo>
                  <a:lnTo>
                    <a:pt x="723" y="287"/>
                  </a:lnTo>
                  <a:lnTo>
                    <a:pt x="722" y="275"/>
                  </a:lnTo>
                  <a:lnTo>
                    <a:pt x="722" y="263"/>
                  </a:lnTo>
                  <a:lnTo>
                    <a:pt x="722" y="250"/>
                  </a:lnTo>
                  <a:lnTo>
                    <a:pt x="723" y="234"/>
                  </a:lnTo>
                  <a:lnTo>
                    <a:pt x="724" y="219"/>
                  </a:lnTo>
                  <a:lnTo>
                    <a:pt x="727" y="203"/>
                  </a:lnTo>
                  <a:lnTo>
                    <a:pt x="734" y="168"/>
                  </a:lnTo>
                  <a:lnTo>
                    <a:pt x="743" y="128"/>
                  </a:lnTo>
                  <a:lnTo>
                    <a:pt x="744" y="126"/>
                  </a:lnTo>
                  <a:lnTo>
                    <a:pt x="745" y="119"/>
                  </a:lnTo>
                  <a:lnTo>
                    <a:pt x="745" y="115"/>
                  </a:lnTo>
                  <a:lnTo>
                    <a:pt x="743" y="111"/>
                  </a:lnTo>
                  <a:lnTo>
                    <a:pt x="741" y="106"/>
                  </a:lnTo>
                  <a:lnTo>
                    <a:pt x="736" y="102"/>
                  </a:lnTo>
                  <a:lnTo>
                    <a:pt x="729" y="99"/>
                  </a:lnTo>
                  <a:lnTo>
                    <a:pt x="720" y="97"/>
                  </a:lnTo>
                  <a:lnTo>
                    <a:pt x="708" y="94"/>
                  </a:lnTo>
                  <a:lnTo>
                    <a:pt x="692" y="94"/>
                  </a:lnTo>
                  <a:lnTo>
                    <a:pt x="673" y="95"/>
                  </a:lnTo>
                  <a:lnTo>
                    <a:pt x="650" y="99"/>
                  </a:lnTo>
                  <a:lnTo>
                    <a:pt x="623" y="104"/>
                  </a:lnTo>
                  <a:lnTo>
                    <a:pt x="590" y="111"/>
                  </a:lnTo>
                  <a:lnTo>
                    <a:pt x="594" y="108"/>
                  </a:lnTo>
                  <a:lnTo>
                    <a:pt x="598" y="101"/>
                  </a:lnTo>
                  <a:lnTo>
                    <a:pt x="605" y="91"/>
                  </a:lnTo>
                  <a:lnTo>
                    <a:pt x="611" y="79"/>
                  </a:lnTo>
                  <a:lnTo>
                    <a:pt x="612" y="73"/>
                  </a:lnTo>
                  <a:lnTo>
                    <a:pt x="613" y="66"/>
                  </a:lnTo>
                  <a:lnTo>
                    <a:pt x="612" y="60"/>
                  </a:lnTo>
                  <a:lnTo>
                    <a:pt x="609" y="55"/>
                  </a:lnTo>
                  <a:lnTo>
                    <a:pt x="604" y="49"/>
                  </a:lnTo>
                  <a:lnTo>
                    <a:pt x="596" y="44"/>
                  </a:lnTo>
                  <a:lnTo>
                    <a:pt x="587" y="39"/>
                  </a:lnTo>
                  <a:lnTo>
                    <a:pt x="574" y="36"/>
                  </a:lnTo>
                  <a:lnTo>
                    <a:pt x="546" y="29"/>
                  </a:lnTo>
                  <a:lnTo>
                    <a:pt x="519" y="20"/>
                  </a:lnTo>
                  <a:lnTo>
                    <a:pt x="492" y="11"/>
                  </a:lnTo>
                  <a:lnTo>
                    <a:pt x="463" y="4"/>
                  </a:lnTo>
                  <a:lnTo>
                    <a:pt x="448" y="1"/>
                  </a:lnTo>
                  <a:lnTo>
                    <a:pt x="431" y="0"/>
                  </a:lnTo>
                  <a:lnTo>
                    <a:pt x="413" y="0"/>
                  </a:lnTo>
                  <a:lnTo>
                    <a:pt x="394" y="0"/>
                  </a:lnTo>
                  <a:lnTo>
                    <a:pt x="373" y="2"/>
                  </a:lnTo>
                  <a:lnTo>
                    <a:pt x="349" y="6"/>
                  </a:lnTo>
                  <a:lnTo>
                    <a:pt x="324" y="11"/>
                  </a:lnTo>
                  <a:lnTo>
                    <a:pt x="297" y="20"/>
                  </a:lnTo>
                  <a:lnTo>
                    <a:pt x="311" y="111"/>
                  </a:lnTo>
                  <a:lnTo>
                    <a:pt x="305" y="108"/>
                  </a:lnTo>
                  <a:lnTo>
                    <a:pt x="288" y="102"/>
                  </a:lnTo>
                  <a:lnTo>
                    <a:pt x="260" y="93"/>
                  </a:lnTo>
                  <a:lnTo>
                    <a:pt x="219" y="83"/>
                  </a:lnTo>
                  <a:lnTo>
                    <a:pt x="220" y="86"/>
                  </a:lnTo>
                  <a:lnTo>
                    <a:pt x="220" y="95"/>
                  </a:lnTo>
                  <a:lnTo>
                    <a:pt x="221" y="108"/>
                  </a:lnTo>
                  <a:lnTo>
                    <a:pt x="219" y="125"/>
                  </a:lnTo>
                  <a:lnTo>
                    <a:pt x="216" y="134"/>
                  </a:lnTo>
                  <a:lnTo>
                    <a:pt x="214" y="142"/>
                  </a:lnTo>
                  <a:lnTo>
                    <a:pt x="210" y="152"/>
                  </a:lnTo>
                  <a:lnTo>
                    <a:pt x="206" y="160"/>
                  </a:lnTo>
                  <a:lnTo>
                    <a:pt x="200" y="168"/>
                  </a:lnTo>
                  <a:lnTo>
                    <a:pt x="192" y="176"/>
                  </a:lnTo>
                  <a:lnTo>
                    <a:pt x="184" y="183"/>
                  </a:lnTo>
                  <a:lnTo>
                    <a:pt x="173" y="189"/>
                  </a:lnTo>
                  <a:lnTo>
                    <a:pt x="154" y="184"/>
                  </a:lnTo>
                  <a:lnTo>
                    <a:pt x="136" y="182"/>
                  </a:lnTo>
                  <a:lnTo>
                    <a:pt x="119" y="182"/>
                  </a:lnTo>
                  <a:lnTo>
                    <a:pt x="104" y="182"/>
                  </a:lnTo>
                  <a:lnTo>
                    <a:pt x="90" y="184"/>
                  </a:lnTo>
                  <a:lnTo>
                    <a:pt x="76" y="189"/>
                  </a:lnTo>
                  <a:lnTo>
                    <a:pt x="64" y="194"/>
                  </a:lnTo>
                  <a:lnTo>
                    <a:pt x="54" y="201"/>
                  </a:lnTo>
                  <a:lnTo>
                    <a:pt x="45" y="208"/>
                  </a:lnTo>
                  <a:lnTo>
                    <a:pt x="35" y="216"/>
                  </a:lnTo>
                  <a:lnTo>
                    <a:pt x="27" y="226"/>
                  </a:lnTo>
                  <a:lnTo>
                    <a:pt x="21" y="236"/>
                  </a:lnTo>
                  <a:lnTo>
                    <a:pt x="15" y="247"/>
                  </a:lnTo>
                  <a:lnTo>
                    <a:pt x="11" y="259"/>
                  </a:lnTo>
                  <a:lnTo>
                    <a:pt x="7" y="272"/>
                  </a:lnTo>
                  <a:lnTo>
                    <a:pt x="4" y="285"/>
                  </a:lnTo>
                  <a:lnTo>
                    <a:pt x="1" y="299"/>
                  </a:lnTo>
                  <a:lnTo>
                    <a:pt x="0" y="312"/>
                  </a:lnTo>
                  <a:lnTo>
                    <a:pt x="0" y="326"/>
                  </a:lnTo>
                  <a:lnTo>
                    <a:pt x="1" y="340"/>
                  </a:lnTo>
                  <a:lnTo>
                    <a:pt x="3" y="355"/>
                  </a:lnTo>
                  <a:lnTo>
                    <a:pt x="5" y="369"/>
                  </a:lnTo>
                  <a:lnTo>
                    <a:pt x="7" y="383"/>
                  </a:lnTo>
                  <a:lnTo>
                    <a:pt x="11" y="397"/>
                  </a:lnTo>
                  <a:lnTo>
                    <a:pt x="15" y="410"/>
                  </a:lnTo>
                  <a:lnTo>
                    <a:pt x="20" y="423"/>
                  </a:lnTo>
                  <a:lnTo>
                    <a:pt x="26" y="435"/>
                  </a:lnTo>
                  <a:lnTo>
                    <a:pt x="33" y="448"/>
                  </a:lnTo>
                  <a:lnTo>
                    <a:pt x="39" y="459"/>
                  </a:lnTo>
                  <a:lnTo>
                    <a:pt x="47" y="469"/>
                  </a:lnTo>
                  <a:lnTo>
                    <a:pt x="55" y="480"/>
                  </a:lnTo>
                  <a:lnTo>
                    <a:pt x="63" y="488"/>
                  </a:lnTo>
                  <a:lnTo>
                    <a:pt x="90" y="515"/>
                  </a:lnTo>
                  <a:lnTo>
                    <a:pt x="114" y="541"/>
                  </a:lnTo>
                  <a:lnTo>
                    <a:pt x="135" y="565"/>
                  </a:lnTo>
                  <a:lnTo>
                    <a:pt x="153" y="588"/>
                  </a:lnTo>
                  <a:lnTo>
                    <a:pt x="170" y="612"/>
                  </a:lnTo>
                  <a:lnTo>
                    <a:pt x="184" y="633"/>
                  </a:lnTo>
                  <a:lnTo>
                    <a:pt x="195" y="655"/>
                  </a:lnTo>
                  <a:lnTo>
                    <a:pt x="205" y="675"/>
                  </a:lnTo>
                  <a:lnTo>
                    <a:pt x="210" y="695"/>
                  </a:lnTo>
                  <a:lnTo>
                    <a:pt x="215" y="715"/>
                  </a:lnTo>
                  <a:lnTo>
                    <a:pt x="216" y="724"/>
                  </a:lnTo>
                  <a:lnTo>
                    <a:pt x="216" y="733"/>
                  </a:lnTo>
                  <a:lnTo>
                    <a:pt x="216" y="743"/>
                  </a:lnTo>
                  <a:lnTo>
                    <a:pt x="215" y="752"/>
                  </a:lnTo>
                  <a:lnTo>
                    <a:pt x="214" y="761"/>
                  </a:lnTo>
                  <a:lnTo>
                    <a:pt x="212" y="769"/>
                  </a:lnTo>
                  <a:lnTo>
                    <a:pt x="209" y="779"/>
                  </a:lnTo>
                  <a:lnTo>
                    <a:pt x="206" y="788"/>
                  </a:lnTo>
                  <a:lnTo>
                    <a:pt x="198" y="806"/>
                  </a:lnTo>
                  <a:lnTo>
                    <a:pt x="187" y="822"/>
                  </a:lnTo>
                  <a:lnTo>
                    <a:pt x="714" y="800"/>
                  </a:lnTo>
                  <a:lnTo>
                    <a:pt x="1124" y="762"/>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3" name="Freeform 174"/>
            <p:cNvSpPr/>
            <p:nvPr/>
          </p:nvSpPr>
          <p:spPr>
            <a:xfrm>
              <a:off x="6147000" y="2511720"/>
              <a:ext cx="438840" cy="553320"/>
            </a:xfrm>
            <a:custGeom>
              <a:avLst/>
              <a:gdLst>
                <a:gd name="textAreaLeft" fmla="*/ 0 w 438840"/>
                <a:gd name="textAreaRight" fmla="*/ 439200 w 438840"/>
                <a:gd name="textAreaTop" fmla="*/ 0 h 553320"/>
                <a:gd name="textAreaBottom" fmla="*/ 553680 h 553320"/>
              </a:gdLst>
              <a:ahLst/>
              <a:rect l="textAreaLeft" t="textAreaTop" r="textAreaRight" b="textAreaBottom"/>
              <a:pathLst>
                <a:path w="996" h="1220">
                  <a:moveTo>
                    <a:pt x="208" y="1220"/>
                  </a:moveTo>
                  <a:lnTo>
                    <a:pt x="207" y="1215"/>
                  </a:lnTo>
                  <a:lnTo>
                    <a:pt x="206" y="1199"/>
                  </a:lnTo>
                  <a:lnTo>
                    <a:pt x="203" y="1176"/>
                  </a:lnTo>
                  <a:lnTo>
                    <a:pt x="201" y="1146"/>
                  </a:lnTo>
                  <a:lnTo>
                    <a:pt x="197" y="1109"/>
                  </a:lnTo>
                  <a:lnTo>
                    <a:pt x="195" y="1071"/>
                  </a:lnTo>
                  <a:lnTo>
                    <a:pt x="194" y="1031"/>
                  </a:lnTo>
                  <a:lnTo>
                    <a:pt x="194" y="990"/>
                  </a:lnTo>
                  <a:lnTo>
                    <a:pt x="194" y="970"/>
                  </a:lnTo>
                  <a:lnTo>
                    <a:pt x="194" y="953"/>
                  </a:lnTo>
                  <a:lnTo>
                    <a:pt x="196" y="935"/>
                  </a:lnTo>
                  <a:lnTo>
                    <a:pt x="197" y="920"/>
                  </a:lnTo>
                  <a:lnTo>
                    <a:pt x="201" y="905"/>
                  </a:lnTo>
                  <a:lnTo>
                    <a:pt x="204" y="892"/>
                  </a:lnTo>
                  <a:lnTo>
                    <a:pt x="208" y="879"/>
                  </a:lnTo>
                  <a:lnTo>
                    <a:pt x="213" y="867"/>
                  </a:lnTo>
                  <a:lnTo>
                    <a:pt x="218" y="855"/>
                  </a:lnTo>
                  <a:lnTo>
                    <a:pt x="224" y="843"/>
                  </a:lnTo>
                  <a:lnTo>
                    <a:pt x="231" y="831"/>
                  </a:lnTo>
                  <a:lnTo>
                    <a:pt x="239" y="821"/>
                  </a:lnTo>
                  <a:lnTo>
                    <a:pt x="258" y="796"/>
                  </a:lnTo>
                  <a:lnTo>
                    <a:pt x="280" y="772"/>
                  </a:lnTo>
                  <a:lnTo>
                    <a:pt x="264" y="759"/>
                  </a:lnTo>
                  <a:lnTo>
                    <a:pt x="245" y="743"/>
                  </a:lnTo>
                  <a:lnTo>
                    <a:pt x="227" y="725"/>
                  </a:lnTo>
                  <a:lnTo>
                    <a:pt x="207" y="705"/>
                  </a:lnTo>
                  <a:lnTo>
                    <a:pt x="189" y="683"/>
                  </a:lnTo>
                  <a:lnTo>
                    <a:pt x="172" y="662"/>
                  </a:lnTo>
                  <a:lnTo>
                    <a:pt x="165" y="650"/>
                  </a:lnTo>
                  <a:lnTo>
                    <a:pt x="158" y="640"/>
                  </a:lnTo>
                  <a:lnTo>
                    <a:pt x="152" y="629"/>
                  </a:lnTo>
                  <a:lnTo>
                    <a:pt x="147" y="619"/>
                  </a:lnTo>
                  <a:lnTo>
                    <a:pt x="0" y="86"/>
                  </a:lnTo>
                  <a:lnTo>
                    <a:pt x="12" y="89"/>
                  </a:lnTo>
                  <a:lnTo>
                    <a:pt x="23" y="90"/>
                  </a:lnTo>
                  <a:lnTo>
                    <a:pt x="34" y="91"/>
                  </a:lnTo>
                  <a:lnTo>
                    <a:pt x="44" y="91"/>
                  </a:lnTo>
                  <a:lnTo>
                    <a:pt x="65" y="91"/>
                  </a:lnTo>
                  <a:lnTo>
                    <a:pt x="84" y="89"/>
                  </a:lnTo>
                  <a:lnTo>
                    <a:pt x="103" y="84"/>
                  </a:lnTo>
                  <a:lnTo>
                    <a:pt x="119" y="78"/>
                  </a:lnTo>
                  <a:lnTo>
                    <a:pt x="136" y="72"/>
                  </a:lnTo>
                  <a:lnTo>
                    <a:pt x="150" y="65"/>
                  </a:lnTo>
                  <a:lnTo>
                    <a:pt x="174" y="50"/>
                  </a:lnTo>
                  <a:lnTo>
                    <a:pt x="194" y="36"/>
                  </a:lnTo>
                  <a:lnTo>
                    <a:pt x="208" y="27"/>
                  </a:lnTo>
                  <a:lnTo>
                    <a:pt x="216" y="22"/>
                  </a:lnTo>
                  <a:lnTo>
                    <a:pt x="743" y="0"/>
                  </a:lnTo>
                  <a:lnTo>
                    <a:pt x="996" y="702"/>
                  </a:lnTo>
                  <a:lnTo>
                    <a:pt x="980" y="716"/>
                  </a:lnTo>
                  <a:lnTo>
                    <a:pt x="967" y="728"/>
                  </a:lnTo>
                  <a:lnTo>
                    <a:pt x="963" y="733"/>
                  </a:lnTo>
                  <a:lnTo>
                    <a:pt x="959" y="739"/>
                  </a:lnTo>
                  <a:lnTo>
                    <a:pt x="957" y="744"/>
                  </a:lnTo>
                  <a:lnTo>
                    <a:pt x="954" y="749"/>
                  </a:lnTo>
                  <a:lnTo>
                    <a:pt x="953" y="758"/>
                  </a:lnTo>
                  <a:lnTo>
                    <a:pt x="953" y="766"/>
                  </a:lnTo>
                  <a:lnTo>
                    <a:pt x="956" y="774"/>
                  </a:lnTo>
                  <a:lnTo>
                    <a:pt x="958" y="782"/>
                  </a:lnTo>
                  <a:lnTo>
                    <a:pt x="959" y="792"/>
                  </a:lnTo>
                  <a:lnTo>
                    <a:pt x="961" y="801"/>
                  </a:lnTo>
                  <a:lnTo>
                    <a:pt x="961" y="812"/>
                  </a:lnTo>
                  <a:lnTo>
                    <a:pt x="959" y="823"/>
                  </a:lnTo>
                  <a:lnTo>
                    <a:pt x="957" y="830"/>
                  </a:lnTo>
                  <a:lnTo>
                    <a:pt x="953" y="837"/>
                  </a:lnTo>
                  <a:lnTo>
                    <a:pt x="950" y="844"/>
                  </a:lnTo>
                  <a:lnTo>
                    <a:pt x="945" y="853"/>
                  </a:lnTo>
                  <a:lnTo>
                    <a:pt x="932" y="870"/>
                  </a:lnTo>
                  <a:lnTo>
                    <a:pt x="913" y="890"/>
                  </a:lnTo>
                  <a:lnTo>
                    <a:pt x="894" y="909"/>
                  </a:lnTo>
                  <a:lnTo>
                    <a:pt x="873" y="925"/>
                  </a:lnTo>
                  <a:lnTo>
                    <a:pt x="852" y="941"/>
                  </a:lnTo>
                  <a:lnTo>
                    <a:pt x="829" y="955"/>
                  </a:lnTo>
                  <a:lnTo>
                    <a:pt x="807" y="968"/>
                  </a:lnTo>
                  <a:lnTo>
                    <a:pt x="785" y="981"/>
                  </a:lnTo>
                  <a:lnTo>
                    <a:pt x="763" y="992"/>
                  </a:lnTo>
                  <a:lnTo>
                    <a:pt x="739" y="1002"/>
                  </a:lnTo>
                  <a:lnTo>
                    <a:pt x="716" y="1010"/>
                  </a:lnTo>
                  <a:lnTo>
                    <a:pt x="693" y="1018"/>
                  </a:lnTo>
                  <a:lnTo>
                    <a:pt x="669" y="1025"/>
                  </a:lnTo>
                  <a:lnTo>
                    <a:pt x="646" y="1032"/>
                  </a:lnTo>
                  <a:lnTo>
                    <a:pt x="599" y="1044"/>
                  </a:lnTo>
                  <a:lnTo>
                    <a:pt x="554" y="1053"/>
                  </a:lnTo>
                  <a:lnTo>
                    <a:pt x="466" y="1069"/>
                  </a:lnTo>
                  <a:lnTo>
                    <a:pt x="387" y="1085"/>
                  </a:lnTo>
                  <a:lnTo>
                    <a:pt x="369" y="1090"/>
                  </a:lnTo>
                  <a:lnTo>
                    <a:pt x="352" y="1094"/>
                  </a:lnTo>
                  <a:lnTo>
                    <a:pt x="335" y="1100"/>
                  </a:lnTo>
                  <a:lnTo>
                    <a:pt x="321" y="1106"/>
                  </a:lnTo>
                  <a:lnTo>
                    <a:pt x="306" y="1113"/>
                  </a:lnTo>
                  <a:lnTo>
                    <a:pt x="293" y="1120"/>
                  </a:lnTo>
                  <a:lnTo>
                    <a:pt x="282" y="1128"/>
                  </a:lnTo>
                  <a:lnTo>
                    <a:pt x="271" y="1138"/>
                  </a:lnTo>
                  <a:lnTo>
                    <a:pt x="250" y="1157"/>
                  </a:lnTo>
                  <a:lnTo>
                    <a:pt x="235" y="1171"/>
                  </a:lnTo>
                  <a:lnTo>
                    <a:pt x="227" y="1182"/>
                  </a:lnTo>
                  <a:lnTo>
                    <a:pt x="222" y="1189"/>
                  </a:lnTo>
                  <a:lnTo>
                    <a:pt x="217" y="1201"/>
                  </a:lnTo>
                  <a:lnTo>
                    <a:pt x="208" y="122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4" name="Freeform 175"/>
            <p:cNvSpPr/>
            <p:nvPr/>
          </p:nvSpPr>
          <p:spPr>
            <a:xfrm>
              <a:off x="6147000" y="2511720"/>
              <a:ext cx="438840" cy="553320"/>
            </a:xfrm>
            <a:custGeom>
              <a:avLst/>
              <a:gdLst>
                <a:gd name="textAreaLeft" fmla="*/ 0 w 438840"/>
                <a:gd name="textAreaRight" fmla="*/ 439200 w 438840"/>
                <a:gd name="textAreaTop" fmla="*/ 0 h 553320"/>
                <a:gd name="textAreaBottom" fmla="*/ 553680 h 553320"/>
              </a:gdLst>
              <a:ahLst/>
              <a:rect l="textAreaLeft" t="textAreaTop" r="textAreaRight" b="textAreaBottom"/>
              <a:pathLst>
                <a:path w="996" h="1220">
                  <a:moveTo>
                    <a:pt x="208" y="1220"/>
                  </a:moveTo>
                  <a:lnTo>
                    <a:pt x="207" y="1215"/>
                  </a:lnTo>
                  <a:lnTo>
                    <a:pt x="206" y="1199"/>
                  </a:lnTo>
                  <a:lnTo>
                    <a:pt x="203" y="1176"/>
                  </a:lnTo>
                  <a:lnTo>
                    <a:pt x="201" y="1146"/>
                  </a:lnTo>
                  <a:lnTo>
                    <a:pt x="197" y="1109"/>
                  </a:lnTo>
                  <a:lnTo>
                    <a:pt x="195" y="1071"/>
                  </a:lnTo>
                  <a:lnTo>
                    <a:pt x="194" y="1031"/>
                  </a:lnTo>
                  <a:lnTo>
                    <a:pt x="194" y="990"/>
                  </a:lnTo>
                  <a:lnTo>
                    <a:pt x="194" y="970"/>
                  </a:lnTo>
                  <a:lnTo>
                    <a:pt x="194" y="953"/>
                  </a:lnTo>
                  <a:lnTo>
                    <a:pt x="196" y="935"/>
                  </a:lnTo>
                  <a:lnTo>
                    <a:pt x="197" y="920"/>
                  </a:lnTo>
                  <a:lnTo>
                    <a:pt x="201" y="905"/>
                  </a:lnTo>
                  <a:lnTo>
                    <a:pt x="204" y="892"/>
                  </a:lnTo>
                  <a:lnTo>
                    <a:pt x="208" y="879"/>
                  </a:lnTo>
                  <a:lnTo>
                    <a:pt x="213" y="867"/>
                  </a:lnTo>
                  <a:lnTo>
                    <a:pt x="218" y="855"/>
                  </a:lnTo>
                  <a:lnTo>
                    <a:pt x="224" y="843"/>
                  </a:lnTo>
                  <a:lnTo>
                    <a:pt x="231" y="831"/>
                  </a:lnTo>
                  <a:lnTo>
                    <a:pt x="239" y="821"/>
                  </a:lnTo>
                  <a:lnTo>
                    <a:pt x="258" y="796"/>
                  </a:lnTo>
                  <a:lnTo>
                    <a:pt x="280" y="772"/>
                  </a:lnTo>
                  <a:lnTo>
                    <a:pt x="264" y="759"/>
                  </a:lnTo>
                  <a:lnTo>
                    <a:pt x="245" y="743"/>
                  </a:lnTo>
                  <a:lnTo>
                    <a:pt x="227" y="725"/>
                  </a:lnTo>
                  <a:lnTo>
                    <a:pt x="207" y="705"/>
                  </a:lnTo>
                  <a:lnTo>
                    <a:pt x="189" y="683"/>
                  </a:lnTo>
                  <a:lnTo>
                    <a:pt x="172" y="662"/>
                  </a:lnTo>
                  <a:lnTo>
                    <a:pt x="165" y="650"/>
                  </a:lnTo>
                  <a:lnTo>
                    <a:pt x="158" y="640"/>
                  </a:lnTo>
                  <a:lnTo>
                    <a:pt x="152" y="629"/>
                  </a:lnTo>
                  <a:lnTo>
                    <a:pt x="147" y="619"/>
                  </a:lnTo>
                  <a:lnTo>
                    <a:pt x="0" y="86"/>
                  </a:lnTo>
                  <a:lnTo>
                    <a:pt x="12" y="89"/>
                  </a:lnTo>
                  <a:lnTo>
                    <a:pt x="23" y="90"/>
                  </a:lnTo>
                  <a:lnTo>
                    <a:pt x="34" y="91"/>
                  </a:lnTo>
                  <a:lnTo>
                    <a:pt x="44" y="91"/>
                  </a:lnTo>
                  <a:lnTo>
                    <a:pt x="65" y="91"/>
                  </a:lnTo>
                  <a:lnTo>
                    <a:pt x="84" y="89"/>
                  </a:lnTo>
                  <a:lnTo>
                    <a:pt x="103" y="84"/>
                  </a:lnTo>
                  <a:lnTo>
                    <a:pt x="119" y="78"/>
                  </a:lnTo>
                  <a:lnTo>
                    <a:pt x="136" y="72"/>
                  </a:lnTo>
                  <a:lnTo>
                    <a:pt x="150" y="65"/>
                  </a:lnTo>
                  <a:lnTo>
                    <a:pt x="174" y="50"/>
                  </a:lnTo>
                  <a:lnTo>
                    <a:pt x="194" y="36"/>
                  </a:lnTo>
                  <a:lnTo>
                    <a:pt x="208" y="27"/>
                  </a:lnTo>
                  <a:lnTo>
                    <a:pt x="216" y="22"/>
                  </a:lnTo>
                  <a:lnTo>
                    <a:pt x="743" y="0"/>
                  </a:lnTo>
                  <a:lnTo>
                    <a:pt x="996" y="702"/>
                  </a:lnTo>
                  <a:lnTo>
                    <a:pt x="980" y="716"/>
                  </a:lnTo>
                  <a:lnTo>
                    <a:pt x="967" y="728"/>
                  </a:lnTo>
                  <a:lnTo>
                    <a:pt x="963" y="733"/>
                  </a:lnTo>
                  <a:lnTo>
                    <a:pt x="959" y="739"/>
                  </a:lnTo>
                  <a:lnTo>
                    <a:pt x="957" y="744"/>
                  </a:lnTo>
                  <a:lnTo>
                    <a:pt x="954" y="749"/>
                  </a:lnTo>
                  <a:lnTo>
                    <a:pt x="953" y="758"/>
                  </a:lnTo>
                  <a:lnTo>
                    <a:pt x="953" y="766"/>
                  </a:lnTo>
                  <a:lnTo>
                    <a:pt x="956" y="774"/>
                  </a:lnTo>
                  <a:lnTo>
                    <a:pt x="958" y="782"/>
                  </a:lnTo>
                  <a:lnTo>
                    <a:pt x="959" y="792"/>
                  </a:lnTo>
                  <a:lnTo>
                    <a:pt x="961" y="801"/>
                  </a:lnTo>
                  <a:lnTo>
                    <a:pt x="961" y="812"/>
                  </a:lnTo>
                  <a:lnTo>
                    <a:pt x="959" y="823"/>
                  </a:lnTo>
                  <a:lnTo>
                    <a:pt x="957" y="830"/>
                  </a:lnTo>
                  <a:lnTo>
                    <a:pt x="953" y="837"/>
                  </a:lnTo>
                  <a:lnTo>
                    <a:pt x="950" y="844"/>
                  </a:lnTo>
                  <a:lnTo>
                    <a:pt x="945" y="853"/>
                  </a:lnTo>
                  <a:lnTo>
                    <a:pt x="932" y="870"/>
                  </a:lnTo>
                  <a:lnTo>
                    <a:pt x="913" y="890"/>
                  </a:lnTo>
                  <a:lnTo>
                    <a:pt x="894" y="909"/>
                  </a:lnTo>
                  <a:lnTo>
                    <a:pt x="873" y="925"/>
                  </a:lnTo>
                  <a:lnTo>
                    <a:pt x="852" y="941"/>
                  </a:lnTo>
                  <a:lnTo>
                    <a:pt x="829" y="955"/>
                  </a:lnTo>
                  <a:lnTo>
                    <a:pt x="807" y="968"/>
                  </a:lnTo>
                  <a:lnTo>
                    <a:pt x="785" y="981"/>
                  </a:lnTo>
                  <a:lnTo>
                    <a:pt x="763" y="992"/>
                  </a:lnTo>
                  <a:lnTo>
                    <a:pt x="739" y="1002"/>
                  </a:lnTo>
                  <a:lnTo>
                    <a:pt x="716" y="1010"/>
                  </a:lnTo>
                  <a:lnTo>
                    <a:pt x="693" y="1018"/>
                  </a:lnTo>
                  <a:lnTo>
                    <a:pt x="669" y="1025"/>
                  </a:lnTo>
                  <a:lnTo>
                    <a:pt x="646" y="1032"/>
                  </a:lnTo>
                  <a:lnTo>
                    <a:pt x="599" y="1044"/>
                  </a:lnTo>
                  <a:lnTo>
                    <a:pt x="554" y="1053"/>
                  </a:lnTo>
                  <a:lnTo>
                    <a:pt x="466" y="1069"/>
                  </a:lnTo>
                  <a:lnTo>
                    <a:pt x="387" y="1085"/>
                  </a:lnTo>
                  <a:lnTo>
                    <a:pt x="369" y="1090"/>
                  </a:lnTo>
                  <a:lnTo>
                    <a:pt x="352" y="1094"/>
                  </a:lnTo>
                  <a:lnTo>
                    <a:pt x="335" y="1100"/>
                  </a:lnTo>
                  <a:lnTo>
                    <a:pt x="321" y="1106"/>
                  </a:lnTo>
                  <a:lnTo>
                    <a:pt x="306" y="1113"/>
                  </a:lnTo>
                  <a:lnTo>
                    <a:pt x="293" y="1120"/>
                  </a:lnTo>
                  <a:lnTo>
                    <a:pt x="282" y="1128"/>
                  </a:lnTo>
                  <a:lnTo>
                    <a:pt x="271" y="1138"/>
                  </a:lnTo>
                  <a:lnTo>
                    <a:pt x="250" y="1157"/>
                  </a:lnTo>
                  <a:lnTo>
                    <a:pt x="235" y="1171"/>
                  </a:lnTo>
                  <a:lnTo>
                    <a:pt x="227" y="1182"/>
                  </a:lnTo>
                  <a:lnTo>
                    <a:pt x="222" y="1189"/>
                  </a:lnTo>
                  <a:lnTo>
                    <a:pt x="217" y="1201"/>
                  </a:lnTo>
                  <a:lnTo>
                    <a:pt x="208" y="1220"/>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5" name="Freeform 176"/>
            <p:cNvSpPr/>
            <p:nvPr/>
          </p:nvSpPr>
          <p:spPr>
            <a:xfrm>
              <a:off x="6474600" y="2407320"/>
              <a:ext cx="536040" cy="467280"/>
            </a:xfrm>
            <a:custGeom>
              <a:avLst/>
              <a:gdLst>
                <a:gd name="textAreaLeft" fmla="*/ 0 w 536040"/>
                <a:gd name="textAreaRight" fmla="*/ 536400 w 536040"/>
                <a:gd name="textAreaTop" fmla="*/ 0 h 467280"/>
                <a:gd name="textAreaBottom" fmla="*/ 467640 h 467280"/>
              </a:gdLst>
              <a:ahLst/>
              <a:rect l="textAreaLeft" t="textAreaTop" r="textAreaRight" b="textAreaBottom"/>
              <a:pathLst>
                <a:path w="1219" h="1031">
                  <a:moveTo>
                    <a:pt x="253" y="930"/>
                  </a:moveTo>
                  <a:lnTo>
                    <a:pt x="0" y="228"/>
                  </a:lnTo>
                  <a:lnTo>
                    <a:pt x="410" y="190"/>
                  </a:lnTo>
                  <a:lnTo>
                    <a:pt x="524" y="204"/>
                  </a:lnTo>
                  <a:lnTo>
                    <a:pt x="568" y="199"/>
                  </a:lnTo>
                  <a:lnTo>
                    <a:pt x="609" y="190"/>
                  </a:lnTo>
                  <a:lnTo>
                    <a:pt x="648" y="182"/>
                  </a:lnTo>
                  <a:lnTo>
                    <a:pt x="687" y="173"/>
                  </a:lnTo>
                  <a:lnTo>
                    <a:pt x="723" y="164"/>
                  </a:lnTo>
                  <a:lnTo>
                    <a:pt x="759" y="152"/>
                  </a:lnTo>
                  <a:lnTo>
                    <a:pt x="794" y="140"/>
                  </a:lnTo>
                  <a:lnTo>
                    <a:pt x="827" y="129"/>
                  </a:lnTo>
                  <a:lnTo>
                    <a:pt x="860" y="115"/>
                  </a:lnTo>
                  <a:lnTo>
                    <a:pt x="890" y="100"/>
                  </a:lnTo>
                  <a:lnTo>
                    <a:pt x="919" y="85"/>
                  </a:lnTo>
                  <a:lnTo>
                    <a:pt x="948" y="70"/>
                  </a:lnTo>
                  <a:lnTo>
                    <a:pt x="975" y="54"/>
                  </a:lnTo>
                  <a:lnTo>
                    <a:pt x="1002" y="36"/>
                  </a:lnTo>
                  <a:lnTo>
                    <a:pt x="1028" y="19"/>
                  </a:lnTo>
                  <a:lnTo>
                    <a:pt x="1051" y="0"/>
                  </a:lnTo>
                  <a:lnTo>
                    <a:pt x="1066" y="29"/>
                  </a:lnTo>
                  <a:lnTo>
                    <a:pt x="1077" y="55"/>
                  </a:lnTo>
                  <a:lnTo>
                    <a:pt x="1085" y="77"/>
                  </a:lnTo>
                  <a:lnTo>
                    <a:pt x="1091" y="96"/>
                  </a:lnTo>
                  <a:lnTo>
                    <a:pt x="1094" y="112"/>
                  </a:lnTo>
                  <a:lnTo>
                    <a:pt x="1097" y="126"/>
                  </a:lnTo>
                  <a:lnTo>
                    <a:pt x="1098" y="139"/>
                  </a:lnTo>
                  <a:lnTo>
                    <a:pt x="1099" y="152"/>
                  </a:lnTo>
                  <a:lnTo>
                    <a:pt x="1101" y="164"/>
                  </a:lnTo>
                  <a:lnTo>
                    <a:pt x="1103" y="176"/>
                  </a:lnTo>
                  <a:lnTo>
                    <a:pt x="1106" y="190"/>
                  </a:lnTo>
                  <a:lnTo>
                    <a:pt x="1111" y="204"/>
                  </a:lnTo>
                  <a:lnTo>
                    <a:pt x="1119" y="222"/>
                  </a:lnTo>
                  <a:lnTo>
                    <a:pt x="1128" y="242"/>
                  </a:lnTo>
                  <a:lnTo>
                    <a:pt x="1141" y="264"/>
                  </a:lnTo>
                  <a:lnTo>
                    <a:pt x="1159" y="291"/>
                  </a:lnTo>
                  <a:lnTo>
                    <a:pt x="1160" y="296"/>
                  </a:lnTo>
                  <a:lnTo>
                    <a:pt x="1161" y="299"/>
                  </a:lnTo>
                  <a:lnTo>
                    <a:pt x="1161" y="304"/>
                  </a:lnTo>
                  <a:lnTo>
                    <a:pt x="1160" y="307"/>
                  </a:lnTo>
                  <a:lnTo>
                    <a:pt x="1156" y="318"/>
                  </a:lnTo>
                  <a:lnTo>
                    <a:pt x="1152" y="329"/>
                  </a:lnTo>
                  <a:lnTo>
                    <a:pt x="1149" y="336"/>
                  </a:lnTo>
                  <a:lnTo>
                    <a:pt x="1148" y="343"/>
                  </a:lnTo>
                  <a:lnTo>
                    <a:pt x="1147" y="353"/>
                  </a:lnTo>
                  <a:lnTo>
                    <a:pt x="1147" y="362"/>
                  </a:lnTo>
                  <a:lnTo>
                    <a:pt x="1148" y="373"/>
                  </a:lnTo>
                  <a:lnTo>
                    <a:pt x="1149" y="386"/>
                  </a:lnTo>
                  <a:lnTo>
                    <a:pt x="1153" y="400"/>
                  </a:lnTo>
                  <a:lnTo>
                    <a:pt x="1159" y="415"/>
                  </a:lnTo>
                  <a:lnTo>
                    <a:pt x="1165" y="430"/>
                  </a:lnTo>
                  <a:lnTo>
                    <a:pt x="1172" y="443"/>
                  </a:lnTo>
                  <a:lnTo>
                    <a:pt x="1179" y="454"/>
                  </a:lnTo>
                  <a:lnTo>
                    <a:pt x="1184" y="465"/>
                  </a:lnTo>
                  <a:lnTo>
                    <a:pt x="1198" y="484"/>
                  </a:lnTo>
                  <a:lnTo>
                    <a:pt x="1209" y="502"/>
                  </a:lnTo>
                  <a:lnTo>
                    <a:pt x="1214" y="512"/>
                  </a:lnTo>
                  <a:lnTo>
                    <a:pt x="1217" y="523"/>
                  </a:lnTo>
                  <a:lnTo>
                    <a:pt x="1219" y="535"/>
                  </a:lnTo>
                  <a:lnTo>
                    <a:pt x="1219" y="548"/>
                  </a:lnTo>
                  <a:lnTo>
                    <a:pt x="1219" y="563"/>
                  </a:lnTo>
                  <a:lnTo>
                    <a:pt x="1216" y="581"/>
                  </a:lnTo>
                  <a:lnTo>
                    <a:pt x="1211" y="599"/>
                  </a:lnTo>
                  <a:lnTo>
                    <a:pt x="1204" y="623"/>
                  </a:lnTo>
                  <a:lnTo>
                    <a:pt x="1189" y="674"/>
                  </a:lnTo>
                  <a:lnTo>
                    <a:pt x="1181" y="700"/>
                  </a:lnTo>
                  <a:lnTo>
                    <a:pt x="1179" y="704"/>
                  </a:lnTo>
                  <a:lnTo>
                    <a:pt x="1175" y="709"/>
                  </a:lnTo>
                  <a:lnTo>
                    <a:pt x="1172" y="713"/>
                  </a:lnTo>
                  <a:lnTo>
                    <a:pt x="1167" y="716"/>
                  </a:lnTo>
                  <a:lnTo>
                    <a:pt x="1154" y="725"/>
                  </a:lnTo>
                  <a:lnTo>
                    <a:pt x="1135" y="737"/>
                  </a:lnTo>
                  <a:lnTo>
                    <a:pt x="1139" y="763"/>
                  </a:lnTo>
                  <a:lnTo>
                    <a:pt x="1141" y="788"/>
                  </a:lnTo>
                  <a:lnTo>
                    <a:pt x="1142" y="801"/>
                  </a:lnTo>
                  <a:lnTo>
                    <a:pt x="1142" y="813"/>
                  </a:lnTo>
                  <a:lnTo>
                    <a:pt x="1141" y="825"/>
                  </a:lnTo>
                  <a:lnTo>
                    <a:pt x="1140" y="835"/>
                  </a:lnTo>
                  <a:lnTo>
                    <a:pt x="1138" y="846"/>
                  </a:lnTo>
                  <a:lnTo>
                    <a:pt x="1134" y="855"/>
                  </a:lnTo>
                  <a:lnTo>
                    <a:pt x="1130" y="864"/>
                  </a:lnTo>
                  <a:lnTo>
                    <a:pt x="1124" y="873"/>
                  </a:lnTo>
                  <a:lnTo>
                    <a:pt x="1116" y="880"/>
                  </a:lnTo>
                  <a:lnTo>
                    <a:pt x="1106" y="884"/>
                  </a:lnTo>
                  <a:lnTo>
                    <a:pt x="1094" y="889"/>
                  </a:lnTo>
                  <a:lnTo>
                    <a:pt x="1080" y="892"/>
                  </a:lnTo>
                  <a:lnTo>
                    <a:pt x="1082" y="908"/>
                  </a:lnTo>
                  <a:lnTo>
                    <a:pt x="1082" y="922"/>
                  </a:lnTo>
                  <a:lnTo>
                    <a:pt x="1080" y="933"/>
                  </a:lnTo>
                  <a:lnTo>
                    <a:pt x="1079" y="945"/>
                  </a:lnTo>
                  <a:lnTo>
                    <a:pt x="1073" y="965"/>
                  </a:lnTo>
                  <a:lnTo>
                    <a:pt x="1069" y="981"/>
                  </a:lnTo>
                  <a:lnTo>
                    <a:pt x="1064" y="995"/>
                  </a:lnTo>
                  <a:lnTo>
                    <a:pt x="1062" y="1008"/>
                  </a:lnTo>
                  <a:lnTo>
                    <a:pt x="1063" y="1014"/>
                  </a:lnTo>
                  <a:lnTo>
                    <a:pt x="1064" y="1020"/>
                  </a:lnTo>
                  <a:lnTo>
                    <a:pt x="1068" y="1026"/>
                  </a:lnTo>
                  <a:lnTo>
                    <a:pt x="1072" y="1031"/>
                  </a:lnTo>
                  <a:lnTo>
                    <a:pt x="1037" y="1023"/>
                  </a:lnTo>
                  <a:lnTo>
                    <a:pt x="1008" y="1015"/>
                  </a:lnTo>
                  <a:lnTo>
                    <a:pt x="982" y="1006"/>
                  </a:lnTo>
                  <a:lnTo>
                    <a:pt x="961" y="995"/>
                  </a:lnTo>
                  <a:lnTo>
                    <a:pt x="943" y="985"/>
                  </a:lnTo>
                  <a:lnTo>
                    <a:pt x="926" y="974"/>
                  </a:lnTo>
                  <a:lnTo>
                    <a:pt x="912" y="964"/>
                  </a:lnTo>
                  <a:lnTo>
                    <a:pt x="901" y="953"/>
                  </a:lnTo>
                  <a:lnTo>
                    <a:pt x="889" y="943"/>
                  </a:lnTo>
                  <a:lnTo>
                    <a:pt x="877" y="934"/>
                  </a:lnTo>
                  <a:lnTo>
                    <a:pt x="864" y="926"/>
                  </a:lnTo>
                  <a:lnTo>
                    <a:pt x="852" y="919"/>
                  </a:lnTo>
                  <a:lnTo>
                    <a:pt x="837" y="913"/>
                  </a:lnTo>
                  <a:lnTo>
                    <a:pt x="821" y="909"/>
                  </a:lnTo>
                  <a:lnTo>
                    <a:pt x="801" y="908"/>
                  </a:lnTo>
                  <a:lnTo>
                    <a:pt x="778" y="908"/>
                  </a:lnTo>
                  <a:lnTo>
                    <a:pt x="751" y="908"/>
                  </a:lnTo>
                  <a:lnTo>
                    <a:pt x="724" y="909"/>
                  </a:lnTo>
                  <a:lnTo>
                    <a:pt x="700" y="911"/>
                  </a:lnTo>
                  <a:lnTo>
                    <a:pt x="677" y="915"/>
                  </a:lnTo>
                  <a:lnTo>
                    <a:pt x="656" y="919"/>
                  </a:lnTo>
                  <a:lnTo>
                    <a:pt x="638" y="924"/>
                  </a:lnTo>
                  <a:lnTo>
                    <a:pt x="630" y="927"/>
                  </a:lnTo>
                  <a:lnTo>
                    <a:pt x="621" y="931"/>
                  </a:lnTo>
                  <a:lnTo>
                    <a:pt x="614" y="934"/>
                  </a:lnTo>
                  <a:lnTo>
                    <a:pt x="609" y="939"/>
                  </a:lnTo>
                  <a:lnTo>
                    <a:pt x="603" y="943"/>
                  </a:lnTo>
                  <a:lnTo>
                    <a:pt x="597" y="944"/>
                  </a:lnTo>
                  <a:lnTo>
                    <a:pt x="590" y="944"/>
                  </a:lnTo>
                  <a:lnTo>
                    <a:pt x="583" y="943"/>
                  </a:lnTo>
                  <a:lnTo>
                    <a:pt x="568" y="938"/>
                  </a:lnTo>
                  <a:lnTo>
                    <a:pt x="552" y="930"/>
                  </a:lnTo>
                  <a:lnTo>
                    <a:pt x="538" y="920"/>
                  </a:lnTo>
                  <a:lnTo>
                    <a:pt x="524" y="913"/>
                  </a:lnTo>
                  <a:lnTo>
                    <a:pt x="517" y="910"/>
                  </a:lnTo>
                  <a:lnTo>
                    <a:pt x="512" y="908"/>
                  </a:lnTo>
                  <a:lnTo>
                    <a:pt x="506" y="906"/>
                  </a:lnTo>
                  <a:lnTo>
                    <a:pt x="501" y="908"/>
                  </a:lnTo>
                  <a:lnTo>
                    <a:pt x="496" y="909"/>
                  </a:lnTo>
                  <a:lnTo>
                    <a:pt x="488" y="908"/>
                  </a:lnTo>
                  <a:lnTo>
                    <a:pt x="479" y="908"/>
                  </a:lnTo>
                  <a:lnTo>
                    <a:pt x="468" y="905"/>
                  </a:lnTo>
                  <a:lnTo>
                    <a:pt x="444" y="901"/>
                  </a:lnTo>
                  <a:lnTo>
                    <a:pt x="417" y="896"/>
                  </a:lnTo>
                  <a:lnTo>
                    <a:pt x="403" y="894"/>
                  </a:lnTo>
                  <a:lnTo>
                    <a:pt x="390" y="891"/>
                  </a:lnTo>
                  <a:lnTo>
                    <a:pt x="377" y="890"/>
                  </a:lnTo>
                  <a:lnTo>
                    <a:pt x="364" y="890"/>
                  </a:lnTo>
                  <a:lnTo>
                    <a:pt x="354" y="891"/>
                  </a:lnTo>
                  <a:lnTo>
                    <a:pt x="345" y="892"/>
                  </a:lnTo>
                  <a:lnTo>
                    <a:pt x="341" y="895"/>
                  </a:lnTo>
                  <a:lnTo>
                    <a:pt x="338" y="896"/>
                  </a:lnTo>
                  <a:lnTo>
                    <a:pt x="334" y="898"/>
                  </a:lnTo>
                  <a:lnTo>
                    <a:pt x="332" y="902"/>
                  </a:lnTo>
                  <a:lnTo>
                    <a:pt x="327" y="906"/>
                  </a:lnTo>
                  <a:lnTo>
                    <a:pt x="322" y="910"/>
                  </a:lnTo>
                  <a:lnTo>
                    <a:pt x="318" y="912"/>
                  </a:lnTo>
                  <a:lnTo>
                    <a:pt x="312" y="915"/>
                  </a:lnTo>
                  <a:lnTo>
                    <a:pt x="301" y="917"/>
                  </a:lnTo>
                  <a:lnTo>
                    <a:pt x="290" y="918"/>
                  </a:lnTo>
                  <a:lnTo>
                    <a:pt x="279" y="918"/>
                  </a:lnTo>
                  <a:lnTo>
                    <a:pt x="269" y="920"/>
                  </a:lnTo>
                  <a:lnTo>
                    <a:pt x="264" y="922"/>
                  </a:lnTo>
                  <a:lnTo>
                    <a:pt x="260" y="924"/>
                  </a:lnTo>
                  <a:lnTo>
                    <a:pt x="257" y="926"/>
                  </a:lnTo>
                  <a:lnTo>
                    <a:pt x="253" y="93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6" name="Freeform 177"/>
            <p:cNvSpPr/>
            <p:nvPr/>
          </p:nvSpPr>
          <p:spPr>
            <a:xfrm>
              <a:off x="6474600" y="2407320"/>
              <a:ext cx="536040" cy="467280"/>
            </a:xfrm>
            <a:custGeom>
              <a:avLst/>
              <a:gdLst>
                <a:gd name="textAreaLeft" fmla="*/ 0 w 536040"/>
                <a:gd name="textAreaRight" fmla="*/ 536400 w 536040"/>
                <a:gd name="textAreaTop" fmla="*/ 0 h 467280"/>
                <a:gd name="textAreaBottom" fmla="*/ 467640 h 467280"/>
              </a:gdLst>
              <a:ahLst/>
              <a:rect l="textAreaLeft" t="textAreaTop" r="textAreaRight" b="textAreaBottom"/>
              <a:pathLst>
                <a:path w="1219" h="1031">
                  <a:moveTo>
                    <a:pt x="253" y="930"/>
                  </a:moveTo>
                  <a:lnTo>
                    <a:pt x="0" y="228"/>
                  </a:lnTo>
                  <a:lnTo>
                    <a:pt x="410" y="190"/>
                  </a:lnTo>
                  <a:lnTo>
                    <a:pt x="524" y="204"/>
                  </a:lnTo>
                  <a:lnTo>
                    <a:pt x="568" y="199"/>
                  </a:lnTo>
                  <a:lnTo>
                    <a:pt x="609" y="190"/>
                  </a:lnTo>
                  <a:lnTo>
                    <a:pt x="648" y="182"/>
                  </a:lnTo>
                  <a:lnTo>
                    <a:pt x="687" y="173"/>
                  </a:lnTo>
                  <a:lnTo>
                    <a:pt x="723" y="164"/>
                  </a:lnTo>
                  <a:lnTo>
                    <a:pt x="759" y="152"/>
                  </a:lnTo>
                  <a:lnTo>
                    <a:pt x="794" y="140"/>
                  </a:lnTo>
                  <a:lnTo>
                    <a:pt x="827" y="129"/>
                  </a:lnTo>
                  <a:lnTo>
                    <a:pt x="860" y="115"/>
                  </a:lnTo>
                  <a:lnTo>
                    <a:pt x="890" y="100"/>
                  </a:lnTo>
                  <a:lnTo>
                    <a:pt x="919" y="85"/>
                  </a:lnTo>
                  <a:lnTo>
                    <a:pt x="948" y="70"/>
                  </a:lnTo>
                  <a:lnTo>
                    <a:pt x="975" y="54"/>
                  </a:lnTo>
                  <a:lnTo>
                    <a:pt x="1002" y="36"/>
                  </a:lnTo>
                  <a:lnTo>
                    <a:pt x="1028" y="19"/>
                  </a:lnTo>
                  <a:lnTo>
                    <a:pt x="1051" y="0"/>
                  </a:lnTo>
                  <a:lnTo>
                    <a:pt x="1066" y="29"/>
                  </a:lnTo>
                  <a:lnTo>
                    <a:pt x="1077" y="55"/>
                  </a:lnTo>
                  <a:lnTo>
                    <a:pt x="1085" y="77"/>
                  </a:lnTo>
                  <a:lnTo>
                    <a:pt x="1091" y="96"/>
                  </a:lnTo>
                  <a:lnTo>
                    <a:pt x="1094" y="112"/>
                  </a:lnTo>
                  <a:lnTo>
                    <a:pt x="1097" y="126"/>
                  </a:lnTo>
                  <a:lnTo>
                    <a:pt x="1098" y="139"/>
                  </a:lnTo>
                  <a:lnTo>
                    <a:pt x="1099" y="152"/>
                  </a:lnTo>
                  <a:lnTo>
                    <a:pt x="1101" y="164"/>
                  </a:lnTo>
                  <a:lnTo>
                    <a:pt x="1103" y="176"/>
                  </a:lnTo>
                  <a:lnTo>
                    <a:pt x="1106" y="190"/>
                  </a:lnTo>
                  <a:lnTo>
                    <a:pt x="1111" y="204"/>
                  </a:lnTo>
                  <a:lnTo>
                    <a:pt x="1119" y="222"/>
                  </a:lnTo>
                  <a:lnTo>
                    <a:pt x="1128" y="242"/>
                  </a:lnTo>
                  <a:lnTo>
                    <a:pt x="1141" y="264"/>
                  </a:lnTo>
                  <a:lnTo>
                    <a:pt x="1159" y="291"/>
                  </a:lnTo>
                  <a:lnTo>
                    <a:pt x="1160" y="296"/>
                  </a:lnTo>
                  <a:lnTo>
                    <a:pt x="1161" y="299"/>
                  </a:lnTo>
                  <a:lnTo>
                    <a:pt x="1161" y="304"/>
                  </a:lnTo>
                  <a:lnTo>
                    <a:pt x="1160" y="307"/>
                  </a:lnTo>
                  <a:lnTo>
                    <a:pt x="1156" y="318"/>
                  </a:lnTo>
                  <a:lnTo>
                    <a:pt x="1152" y="329"/>
                  </a:lnTo>
                  <a:lnTo>
                    <a:pt x="1149" y="336"/>
                  </a:lnTo>
                  <a:lnTo>
                    <a:pt x="1148" y="343"/>
                  </a:lnTo>
                  <a:lnTo>
                    <a:pt x="1147" y="353"/>
                  </a:lnTo>
                  <a:lnTo>
                    <a:pt x="1147" y="362"/>
                  </a:lnTo>
                  <a:lnTo>
                    <a:pt x="1148" y="373"/>
                  </a:lnTo>
                  <a:lnTo>
                    <a:pt x="1149" y="386"/>
                  </a:lnTo>
                  <a:lnTo>
                    <a:pt x="1153" y="400"/>
                  </a:lnTo>
                  <a:lnTo>
                    <a:pt x="1159" y="415"/>
                  </a:lnTo>
                  <a:lnTo>
                    <a:pt x="1165" y="430"/>
                  </a:lnTo>
                  <a:lnTo>
                    <a:pt x="1172" y="443"/>
                  </a:lnTo>
                  <a:lnTo>
                    <a:pt x="1179" y="454"/>
                  </a:lnTo>
                  <a:lnTo>
                    <a:pt x="1184" y="465"/>
                  </a:lnTo>
                  <a:lnTo>
                    <a:pt x="1198" y="484"/>
                  </a:lnTo>
                  <a:lnTo>
                    <a:pt x="1209" y="502"/>
                  </a:lnTo>
                  <a:lnTo>
                    <a:pt x="1214" y="512"/>
                  </a:lnTo>
                  <a:lnTo>
                    <a:pt x="1217" y="523"/>
                  </a:lnTo>
                  <a:lnTo>
                    <a:pt x="1219" y="535"/>
                  </a:lnTo>
                  <a:lnTo>
                    <a:pt x="1219" y="548"/>
                  </a:lnTo>
                  <a:lnTo>
                    <a:pt x="1219" y="563"/>
                  </a:lnTo>
                  <a:lnTo>
                    <a:pt x="1216" y="581"/>
                  </a:lnTo>
                  <a:lnTo>
                    <a:pt x="1211" y="599"/>
                  </a:lnTo>
                  <a:lnTo>
                    <a:pt x="1204" y="623"/>
                  </a:lnTo>
                  <a:lnTo>
                    <a:pt x="1189" y="674"/>
                  </a:lnTo>
                  <a:lnTo>
                    <a:pt x="1181" y="700"/>
                  </a:lnTo>
                  <a:lnTo>
                    <a:pt x="1179" y="704"/>
                  </a:lnTo>
                  <a:lnTo>
                    <a:pt x="1175" y="709"/>
                  </a:lnTo>
                  <a:lnTo>
                    <a:pt x="1172" y="713"/>
                  </a:lnTo>
                  <a:lnTo>
                    <a:pt x="1167" y="716"/>
                  </a:lnTo>
                  <a:lnTo>
                    <a:pt x="1154" y="725"/>
                  </a:lnTo>
                  <a:lnTo>
                    <a:pt x="1135" y="737"/>
                  </a:lnTo>
                  <a:lnTo>
                    <a:pt x="1139" y="763"/>
                  </a:lnTo>
                  <a:lnTo>
                    <a:pt x="1141" y="788"/>
                  </a:lnTo>
                  <a:lnTo>
                    <a:pt x="1142" y="801"/>
                  </a:lnTo>
                  <a:lnTo>
                    <a:pt x="1142" y="813"/>
                  </a:lnTo>
                  <a:lnTo>
                    <a:pt x="1141" y="825"/>
                  </a:lnTo>
                  <a:lnTo>
                    <a:pt x="1140" y="835"/>
                  </a:lnTo>
                  <a:lnTo>
                    <a:pt x="1138" y="846"/>
                  </a:lnTo>
                  <a:lnTo>
                    <a:pt x="1134" y="855"/>
                  </a:lnTo>
                  <a:lnTo>
                    <a:pt x="1130" y="864"/>
                  </a:lnTo>
                  <a:lnTo>
                    <a:pt x="1124" y="873"/>
                  </a:lnTo>
                  <a:lnTo>
                    <a:pt x="1116" y="880"/>
                  </a:lnTo>
                  <a:lnTo>
                    <a:pt x="1106" y="884"/>
                  </a:lnTo>
                  <a:lnTo>
                    <a:pt x="1094" y="889"/>
                  </a:lnTo>
                  <a:lnTo>
                    <a:pt x="1080" y="892"/>
                  </a:lnTo>
                  <a:lnTo>
                    <a:pt x="1082" y="908"/>
                  </a:lnTo>
                  <a:lnTo>
                    <a:pt x="1082" y="922"/>
                  </a:lnTo>
                  <a:lnTo>
                    <a:pt x="1080" y="933"/>
                  </a:lnTo>
                  <a:lnTo>
                    <a:pt x="1079" y="945"/>
                  </a:lnTo>
                  <a:lnTo>
                    <a:pt x="1073" y="965"/>
                  </a:lnTo>
                  <a:lnTo>
                    <a:pt x="1069" y="981"/>
                  </a:lnTo>
                  <a:lnTo>
                    <a:pt x="1064" y="995"/>
                  </a:lnTo>
                  <a:lnTo>
                    <a:pt x="1062" y="1008"/>
                  </a:lnTo>
                  <a:lnTo>
                    <a:pt x="1063" y="1014"/>
                  </a:lnTo>
                  <a:lnTo>
                    <a:pt x="1064" y="1020"/>
                  </a:lnTo>
                  <a:lnTo>
                    <a:pt x="1068" y="1026"/>
                  </a:lnTo>
                  <a:lnTo>
                    <a:pt x="1072" y="1031"/>
                  </a:lnTo>
                  <a:lnTo>
                    <a:pt x="1037" y="1023"/>
                  </a:lnTo>
                  <a:lnTo>
                    <a:pt x="1008" y="1015"/>
                  </a:lnTo>
                  <a:lnTo>
                    <a:pt x="982" y="1006"/>
                  </a:lnTo>
                  <a:lnTo>
                    <a:pt x="961" y="995"/>
                  </a:lnTo>
                  <a:lnTo>
                    <a:pt x="943" y="985"/>
                  </a:lnTo>
                  <a:lnTo>
                    <a:pt x="926" y="974"/>
                  </a:lnTo>
                  <a:lnTo>
                    <a:pt x="912" y="964"/>
                  </a:lnTo>
                  <a:lnTo>
                    <a:pt x="901" y="953"/>
                  </a:lnTo>
                  <a:lnTo>
                    <a:pt x="889" y="943"/>
                  </a:lnTo>
                  <a:lnTo>
                    <a:pt x="877" y="934"/>
                  </a:lnTo>
                  <a:lnTo>
                    <a:pt x="864" y="926"/>
                  </a:lnTo>
                  <a:lnTo>
                    <a:pt x="852" y="919"/>
                  </a:lnTo>
                  <a:lnTo>
                    <a:pt x="837" y="913"/>
                  </a:lnTo>
                  <a:lnTo>
                    <a:pt x="821" y="909"/>
                  </a:lnTo>
                  <a:lnTo>
                    <a:pt x="801" y="908"/>
                  </a:lnTo>
                  <a:lnTo>
                    <a:pt x="778" y="908"/>
                  </a:lnTo>
                  <a:lnTo>
                    <a:pt x="751" y="908"/>
                  </a:lnTo>
                  <a:lnTo>
                    <a:pt x="724" y="909"/>
                  </a:lnTo>
                  <a:lnTo>
                    <a:pt x="700" y="911"/>
                  </a:lnTo>
                  <a:lnTo>
                    <a:pt x="677" y="915"/>
                  </a:lnTo>
                  <a:lnTo>
                    <a:pt x="656" y="919"/>
                  </a:lnTo>
                  <a:lnTo>
                    <a:pt x="638" y="924"/>
                  </a:lnTo>
                  <a:lnTo>
                    <a:pt x="630" y="927"/>
                  </a:lnTo>
                  <a:lnTo>
                    <a:pt x="621" y="931"/>
                  </a:lnTo>
                  <a:lnTo>
                    <a:pt x="614" y="934"/>
                  </a:lnTo>
                  <a:lnTo>
                    <a:pt x="609" y="939"/>
                  </a:lnTo>
                  <a:lnTo>
                    <a:pt x="603" y="943"/>
                  </a:lnTo>
                  <a:lnTo>
                    <a:pt x="597" y="944"/>
                  </a:lnTo>
                  <a:lnTo>
                    <a:pt x="590" y="944"/>
                  </a:lnTo>
                  <a:lnTo>
                    <a:pt x="583" y="943"/>
                  </a:lnTo>
                  <a:lnTo>
                    <a:pt x="568" y="938"/>
                  </a:lnTo>
                  <a:lnTo>
                    <a:pt x="552" y="930"/>
                  </a:lnTo>
                  <a:lnTo>
                    <a:pt x="538" y="920"/>
                  </a:lnTo>
                  <a:lnTo>
                    <a:pt x="524" y="913"/>
                  </a:lnTo>
                  <a:lnTo>
                    <a:pt x="517" y="910"/>
                  </a:lnTo>
                  <a:lnTo>
                    <a:pt x="512" y="908"/>
                  </a:lnTo>
                  <a:lnTo>
                    <a:pt x="506" y="906"/>
                  </a:lnTo>
                  <a:lnTo>
                    <a:pt x="501" y="908"/>
                  </a:lnTo>
                  <a:lnTo>
                    <a:pt x="496" y="909"/>
                  </a:lnTo>
                  <a:lnTo>
                    <a:pt x="488" y="908"/>
                  </a:lnTo>
                  <a:lnTo>
                    <a:pt x="479" y="908"/>
                  </a:lnTo>
                  <a:lnTo>
                    <a:pt x="468" y="905"/>
                  </a:lnTo>
                  <a:lnTo>
                    <a:pt x="444" y="901"/>
                  </a:lnTo>
                  <a:lnTo>
                    <a:pt x="417" y="896"/>
                  </a:lnTo>
                  <a:lnTo>
                    <a:pt x="403" y="894"/>
                  </a:lnTo>
                  <a:lnTo>
                    <a:pt x="390" y="891"/>
                  </a:lnTo>
                  <a:lnTo>
                    <a:pt x="377" y="890"/>
                  </a:lnTo>
                  <a:lnTo>
                    <a:pt x="364" y="890"/>
                  </a:lnTo>
                  <a:lnTo>
                    <a:pt x="354" y="891"/>
                  </a:lnTo>
                  <a:lnTo>
                    <a:pt x="345" y="892"/>
                  </a:lnTo>
                  <a:lnTo>
                    <a:pt x="341" y="895"/>
                  </a:lnTo>
                  <a:lnTo>
                    <a:pt x="338" y="896"/>
                  </a:lnTo>
                  <a:lnTo>
                    <a:pt x="334" y="898"/>
                  </a:lnTo>
                  <a:lnTo>
                    <a:pt x="332" y="902"/>
                  </a:lnTo>
                  <a:lnTo>
                    <a:pt x="327" y="906"/>
                  </a:lnTo>
                  <a:lnTo>
                    <a:pt x="322" y="910"/>
                  </a:lnTo>
                  <a:lnTo>
                    <a:pt x="318" y="912"/>
                  </a:lnTo>
                  <a:lnTo>
                    <a:pt x="312" y="915"/>
                  </a:lnTo>
                  <a:lnTo>
                    <a:pt x="301" y="917"/>
                  </a:lnTo>
                  <a:lnTo>
                    <a:pt x="290" y="918"/>
                  </a:lnTo>
                  <a:lnTo>
                    <a:pt x="279" y="918"/>
                  </a:lnTo>
                  <a:lnTo>
                    <a:pt x="269" y="920"/>
                  </a:lnTo>
                  <a:lnTo>
                    <a:pt x="264" y="922"/>
                  </a:lnTo>
                  <a:lnTo>
                    <a:pt x="260" y="924"/>
                  </a:lnTo>
                  <a:lnTo>
                    <a:pt x="257" y="926"/>
                  </a:lnTo>
                  <a:lnTo>
                    <a:pt x="253" y="930"/>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7" name="Freeform 178"/>
            <p:cNvSpPr/>
            <p:nvPr/>
          </p:nvSpPr>
          <p:spPr>
            <a:xfrm>
              <a:off x="6964200" y="2034720"/>
              <a:ext cx="729360" cy="376560"/>
            </a:xfrm>
            <a:custGeom>
              <a:avLst/>
              <a:gdLst>
                <a:gd name="textAreaLeft" fmla="*/ 0 w 729360"/>
                <a:gd name="textAreaRight" fmla="*/ 729360 w 729360"/>
                <a:gd name="textAreaTop" fmla="*/ 0 h 376560"/>
                <a:gd name="textAreaBottom" fmla="*/ 376920 h 376560"/>
              </a:gdLst>
              <a:ahLst/>
              <a:rect l="textAreaLeft" t="textAreaTop" r="textAreaRight" b="textAreaBottom"/>
              <a:pathLst>
                <a:path w="1661" h="830">
                  <a:moveTo>
                    <a:pt x="1301" y="775"/>
                  </a:moveTo>
                  <a:lnTo>
                    <a:pt x="1116" y="691"/>
                  </a:lnTo>
                  <a:lnTo>
                    <a:pt x="1101" y="695"/>
                  </a:lnTo>
                  <a:lnTo>
                    <a:pt x="1087" y="697"/>
                  </a:lnTo>
                  <a:lnTo>
                    <a:pt x="1074" y="697"/>
                  </a:lnTo>
                  <a:lnTo>
                    <a:pt x="1061" y="695"/>
                  </a:lnTo>
                  <a:lnTo>
                    <a:pt x="1046" y="694"/>
                  </a:lnTo>
                  <a:lnTo>
                    <a:pt x="1029" y="695"/>
                  </a:lnTo>
                  <a:lnTo>
                    <a:pt x="1006" y="699"/>
                  </a:lnTo>
                  <a:lnTo>
                    <a:pt x="978" y="706"/>
                  </a:lnTo>
                  <a:lnTo>
                    <a:pt x="953" y="711"/>
                  </a:lnTo>
                  <a:lnTo>
                    <a:pt x="912" y="718"/>
                  </a:lnTo>
                  <a:lnTo>
                    <a:pt x="857" y="726"/>
                  </a:lnTo>
                  <a:lnTo>
                    <a:pt x="790" y="735"/>
                  </a:lnTo>
                  <a:lnTo>
                    <a:pt x="714" y="744"/>
                  </a:lnTo>
                  <a:lnTo>
                    <a:pt x="634" y="755"/>
                  </a:lnTo>
                  <a:lnTo>
                    <a:pt x="547" y="765"/>
                  </a:lnTo>
                  <a:lnTo>
                    <a:pt x="461" y="776"/>
                  </a:lnTo>
                  <a:lnTo>
                    <a:pt x="374" y="787"/>
                  </a:lnTo>
                  <a:lnTo>
                    <a:pt x="292" y="796"/>
                  </a:lnTo>
                  <a:lnTo>
                    <a:pt x="216" y="805"/>
                  </a:lnTo>
                  <a:lnTo>
                    <a:pt x="147" y="813"/>
                  </a:lnTo>
                  <a:lnTo>
                    <a:pt x="89" y="820"/>
                  </a:lnTo>
                  <a:lnTo>
                    <a:pt x="46" y="825"/>
                  </a:lnTo>
                  <a:lnTo>
                    <a:pt x="18" y="829"/>
                  </a:lnTo>
                  <a:lnTo>
                    <a:pt x="8" y="830"/>
                  </a:lnTo>
                  <a:lnTo>
                    <a:pt x="0" y="763"/>
                  </a:lnTo>
                  <a:lnTo>
                    <a:pt x="18" y="743"/>
                  </a:lnTo>
                  <a:lnTo>
                    <a:pt x="38" y="725"/>
                  </a:lnTo>
                  <a:lnTo>
                    <a:pt x="57" y="704"/>
                  </a:lnTo>
                  <a:lnTo>
                    <a:pt x="74" y="683"/>
                  </a:lnTo>
                  <a:lnTo>
                    <a:pt x="74" y="498"/>
                  </a:lnTo>
                  <a:lnTo>
                    <a:pt x="141" y="498"/>
                  </a:lnTo>
                  <a:lnTo>
                    <a:pt x="202" y="496"/>
                  </a:lnTo>
                  <a:lnTo>
                    <a:pt x="231" y="494"/>
                  </a:lnTo>
                  <a:lnTo>
                    <a:pt x="258" y="492"/>
                  </a:lnTo>
                  <a:lnTo>
                    <a:pt x="283" y="490"/>
                  </a:lnTo>
                  <a:lnTo>
                    <a:pt x="309" y="486"/>
                  </a:lnTo>
                  <a:lnTo>
                    <a:pt x="332" y="483"/>
                  </a:lnTo>
                  <a:lnTo>
                    <a:pt x="355" y="478"/>
                  </a:lnTo>
                  <a:lnTo>
                    <a:pt x="376" y="473"/>
                  </a:lnTo>
                  <a:lnTo>
                    <a:pt x="395" y="469"/>
                  </a:lnTo>
                  <a:lnTo>
                    <a:pt x="414" y="462"/>
                  </a:lnTo>
                  <a:lnTo>
                    <a:pt x="432" y="455"/>
                  </a:lnTo>
                  <a:lnTo>
                    <a:pt x="448" y="447"/>
                  </a:lnTo>
                  <a:lnTo>
                    <a:pt x="463" y="438"/>
                  </a:lnTo>
                  <a:lnTo>
                    <a:pt x="477" y="429"/>
                  </a:lnTo>
                  <a:lnTo>
                    <a:pt x="490" y="419"/>
                  </a:lnTo>
                  <a:lnTo>
                    <a:pt x="502" y="407"/>
                  </a:lnTo>
                  <a:lnTo>
                    <a:pt x="512" y="395"/>
                  </a:lnTo>
                  <a:lnTo>
                    <a:pt x="522" y="382"/>
                  </a:lnTo>
                  <a:lnTo>
                    <a:pt x="530" y="367"/>
                  </a:lnTo>
                  <a:lnTo>
                    <a:pt x="537" y="352"/>
                  </a:lnTo>
                  <a:lnTo>
                    <a:pt x="543" y="336"/>
                  </a:lnTo>
                  <a:lnTo>
                    <a:pt x="547" y="318"/>
                  </a:lnTo>
                  <a:lnTo>
                    <a:pt x="551" y="299"/>
                  </a:lnTo>
                  <a:lnTo>
                    <a:pt x="554" y="278"/>
                  </a:lnTo>
                  <a:lnTo>
                    <a:pt x="556" y="257"/>
                  </a:lnTo>
                  <a:lnTo>
                    <a:pt x="557" y="235"/>
                  </a:lnTo>
                  <a:lnTo>
                    <a:pt x="556" y="211"/>
                  </a:lnTo>
                  <a:lnTo>
                    <a:pt x="554" y="185"/>
                  </a:lnTo>
                  <a:lnTo>
                    <a:pt x="552" y="158"/>
                  </a:lnTo>
                  <a:lnTo>
                    <a:pt x="690" y="17"/>
                  </a:lnTo>
                  <a:lnTo>
                    <a:pt x="699" y="17"/>
                  </a:lnTo>
                  <a:lnTo>
                    <a:pt x="723" y="17"/>
                  </a:lnTo>
                  <a:lnTo>
                    <a:pt x="759" y="17"/>
                  </a:lnTo>
                  <a:lnTo>
                    <a:pt x="806" y="16"/>
                  </a:lnTo>
                  <a:lnTo>
                    <a:pt x="859" y="13"/>
                  </a:lnTo>
                  <a:lnTo>
                    <a:pt x="920" y="10"/>
                  </a:lnTo>
                  <a:lnTo>
                    <a:pt x="983" y="6"/>
                  </a:lnTo>
                  <a:lnTo>
                    <a:pt x="1047" y="0"/>
                  </a:lnTo>
                  <a:lnTo>
                    <a:pt x="1416" y="421"/>
                  </a:lnTo>
                  <a:lnTo>
                    <a:pt x="1416" y="521"/>
                  </a:lnTo>
                  <a:lnTo>
                    <a:pt x="1471" y="545"/>
                  </a:lnTo>
                  <a:lnTo>
                    <a:pt x="1661" y="792"/>
                  </a:lnTo>
                  <a:lnTo>
                    <a:pt x="1651" y="796"/>
                  </a:lnTo>
                  <a:lnTo>
                    <a:pt x="1641" y="801"/>
                  </a:lnTo>
                  <a:lnTo>
                    <a:pt x="1627" y="805"/>
                  </a:lnTo>
                  <a:lnTo>
                    <a:pt x="1613" y="809"/>
                  </a:lnTo>
                  <a:lnTo>
                    <a:pt x="1596" y="812"/>
                  </a:lnTo>
                  <a:lnTo>
                    <a:pt x="1578" y="815"/>
                  </a:lnTo>
                  <a:lnTo>
                    <a:pt x="1558" y="817"/>
                  </a:lnTo>
                  <a:lnTo>
                    <a:pt x="1536" y="818"/>
                  </a:lnTo>
                  <a:lnTo>
                    <a:pt x="1512" y="818"/>
                  </a:lnTo>
                  <a:lnTo>
                    <a:pt x="1488" y="817"/>
                  </a:lnTo>
                  <a:lnTo>
                    <a:pt x="1461" y="815"/>
                  </a:lnTo>
                  <a:lnTo>
                    <a:pt x="1432" y="810"/>
                  </a:lnTo>
                  <a:lnTo>
                    <a:pt x="1402" y="804"/>
                  </a:lnTo>
                  <a:lnTo>
                    <a:pt x="1370" y="796"/>
                  </a:lnTo>
                  <a:lnTo>
                    <a:pt x="1336" y="787"/>
                  </a:lnTo>
                  <a:lnTo>
                    <a:pt x="1301" y="77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8" name="Freeform 179"/>
            <p:cNvSpPr/>
            <p:nvPr/>
          </p:nvSpPr>
          <p:spPr>
            <a:xfrm>
              <a:off x="6964200" y="2034720"/>
              <a:ext cx="729360" cy="376560"/>
            </a:xfrm>
            <a:custGeom>
              <a:avLst/>
              <a:gdLst>
                <a:gd name="textAreaLeft" fmla="*/ 0 w 729360"/>
                <a:gd name="textAreaRight" fmla="*/ 729360 w 729360"/>
                <a:gd name="textAreaTop" fmla="*/ 0 h 376560"/>
                <a:gd name="textAreaBottom" fmla="*/ 376920 h 376560"/>
              </a:gdLst>
              <a:ahLst/>
              <a:rect l="textAreaLeft" t="textAreaTop" r="textAreaRight" b="textAreaBottom"/>
              <a:pathLst>
                <a:path w="1661" h="830">
                  <a:moveTo>
                    <a:pt x="1301" y="775"/>
                  </a:moveTo>
                  <a:lnTo>
                    <a:pt x="1116" y="691"/>
                  </a:lnTo>
                  <a:lnTo>
                    <a:pt x="1101" y="695"/>
                  </a:lnTo>
                  <a:lnTo>
                    <a:pt x="1087" y="697"/>
                  </a:lnTo>
                  <a:lnTo>
                    <a:pt x="1074" y="697"/>
                  </a:lnTo>
                  <a:lnTo>
                    <a:pt x="1061" y="695"/>
                  </a:lnTo>
                  <a:lnTo>
                    <a:pt x="1046" y="694"/>
                  </a:lnTo>
                  <a:lnTo>
                    <a:pt x="1029" y="695"/>
                  </a:lnTo>
                  <a:lnTo>
                    <a:pt x="1006" y="699"/>
                  </a:lnTo>
                  <a:lnTo>
                    <a:pt x="978" y="706"/>
                  </a:lnTo>
                  <a:lnTo>
                    <a:pt x="953" y="711"/>
                  </a:lnTo>
                  <a:lnTo>
                    <a:pt x="912" y="718"/>
                  </a:lnTo>
                  <a:lnTo>
                    <a:pt x="857" y="726"/>
                  </a:lnTo>
                  <a:lnTo>
                    <a:pt x="790" y="735"/>
                  </a:lnTo>
                  <a:lnTo>
                    <a:pt x="714" y="744"/>
                  </a:lnTo>
                  <a:lnTo>
                    <a:pt x="634" y="755"/>
                  </a:lnTo>
                  <a:lnTo>
                    <a:pt x="547" y="765"/>
                  </a:lnTo>
                  <a:lnTo>
                    <a:pt x="461" y="776"/>
                  </a:lnTo>
                  <a:lnTo>
                    <a:pt x="374" y="787"/>
                  </a:lnTo>
                  <a:lnTo>
                    <a:pt x="292" y="796"/>
                  </a:lnTo>
                  <a:lnTo>
                    <a:pt x="216" y="805"/>
                  </a:lnTo>
                  <a:lnTo>
                    <a:pt x="147" y="813"/>
                  </a:lnTo>
                  <a:lnTo>
                    <a:pt x="89" y="820"/>
                  </a:lnTo>
                  <a:lnTo>
                    <a:pt x="46" y="825"/>
                  </a:lnTo>
                  <a:lnTo>
                    <a:pt x="18" y="829"/>
                  </a:lnTo>
                  <a:lnTo>
                    <a:pt x="8" y="830"/>
                  </a:lnTo>
                  <a:lnTo>
                    <a:pt x="0" y="763"/>
                  </a:lnTo>
                  <a:lnTo>
                    <a:pt x="18" y="743"/>
                  </a:lnTo>
                  <a:lnTo>
                    <a:pt x="38" y="725"/>
                  </a:lnTo>
                  <a:lnTo>
                    <a:pt x="57" y="704"/>
                  </a:lnTo>
                  <a:lnTo>
                    <a:pt x="74" y="683"/>
                  </a:lnTo>
                  <a:lnTo>
                    <a:pt x="74" y="498"/>
                  </a:lnTo>
                  <a:lnTo>
                    <a:pt x="141" y="498"/>
                  </a:lnTo>
                  <a:lnTo>
                    <a:pt x="202" y="496"/>
                  </a:lnTo>
                  <a:lnTo>
                    <a:pt x="231" y="494"/>
                  </a:lnTo>
                  <a:lnTo>
                    <a:pt x="258" y="492"/>
                  </a:lnTo>
                  <a:lnTo>
                    <a:pt x="283" y="490"/>
                  </a:lnTo>
                  <a:lnTo>
                    <a:pt x="309" y="486"/>
                  </a:lnTo>
                  <a:lnTo>
                    <a:pt x="332" y="483"/>
                  </a:lnTo>
                  <a:lnTo>
                    <a:pt x="355" y="478"/>
                  </a:lnTo>
                  <a:lnTo>
                    <a:pt x="376" y="473"/>
                  </a:lnTo>
                  <a:lnTo>
                    <a:pt x="395" y="469"/>
                  </a:lnTo>
                  <a:lnTo>
                    <a:pt x="414" y="462"/>
                  </a:lnTo>
                  <a:lnTo>
                    <a:pt x="432" y="455"/>
                  </a:lnTo>
                  <a:lnTo>
                    <a:pt x="448" y="447"/>
                  </a:lnTo>
                  <a:lnTo>
                    <a:pt x="463" y="438"/>
                  </a:lnTo>
                  <a:lnTo>
                    <a:pt x="477" y="429"/>
                  </a:lnTo>
                  <a:lnTo>
                    <a:pt x="490" y="419"/>
                  </a:lnTo>
                  <a:lnTo>
                    <a:pt x="502" y="407"/>
                  </a:lnTo>
                  <a:lnTo>
                    <a:pt x="512" y="395"/>
                  </a:lnTo>
                  <a:lnTo>
                    <a:pt x="522" y="382"/>
                  </a:lnTo>
                  <a:lnTo>
                    <a:pt x="530" y="367"/>
                  </a:lnTo>
                  <a:lnTo>
                    <a:pt x="537" y="352"/>
                  </a:lnTo>
                  <a:lnTo>
                    <a:pt x="543" y="336"/>
                  </a:lnTo>
                  <a:lnTo>
                    <a:pt x="547" y="318"/>
                  </a:lnTo>
                  <a:lnTo>
                    <a:pt x="551" y="299"/>
                  </a:lnTo>
                  <a:lnTo>
                    <a:pt x="554" y="278"/>
                  </a:lnTo>
                  <a:lnTo>
                    <a:pt x="556" y="257"/>
                  </a:lnTo>
                  <a:lnTo>
                    <a:pt x="557" y="235"/>
                  </a:lnTo>
                  <a:lnTo>
                    <a:pt x="556" y="211"/>
                  </a:lnTo>
                  <a:lnTo>
                    <a:pt x="554" y="185"/>
                  </a:lnTo>
                  <a:lnTo>
                    <a:pt x="552" y="158"/>
                  </a:lnTo>
                  <a:lnTo>
                    <a:pt x="690" y="17"/>
                  </a:lnTo>
                  <a:lnTo>
                    <a:pt x="699" y="17"/>
                  </a:lnTo>
                  <a:lnTo>
                    <a:pt x="723" y="17"/>
                  </a:lnTo>
                  <a:lnTo>
                    <a:pt x="759" y="17"/>
                  </a:lnTo>
                  <a:lnTo>
                    <a:pt x="806" y="16"/>
                  </a:lnTo>
                  <a:lnTo>
                    <a:pt x="859" y="13"/>
                  </a:lnTo>
                  <a:lnTo>
                    <a:pt x="920" y="10"/>
                  </a:lnTo>
                  <a:lnTo>
                    <a:pt x="983" y="6"/>
                  </a:lnTo>
                  <a:lnTo>
                    <a:pt x="1047" y="0"/>
                  </a:lnTo>
                  <a:lnTo>
                    <a:pt x="1416" y="421"/>
                  </a:lnTo>
                  <a:lnTo>
                    <a:pt x="1416" y="521"/>
                  </a:lnTo>
                  <a:lnTo>
                    <a:pt x="1471" y="545"/>
                  </a:lnTo>
                  <a:lnTo>
                    <a:pt x="1661" y="792"/>
                  </a:lnTo>
                  <a:lnTo>
                    <a:pt x="1651" y="796"/>
                  </a:lnTo>
                  <a:lnTo>
                    <a:pt x="1641" y="801"/>
                  </a:lnTo>
                  <a:lnTo>
                    <a:pt x="1627" y="805"/>
                  </a:lnTo>
                  <a:lnTo>
                    <a:pt x="1613" y="809"/>
                  </a:lnTo>
                  <a:lnTo>
                    <a:pt x="1596" y="812"/>
                  </a:lnTo>
                  <a:lnTo>
                    <a:pt x="1578" y="815"/>
                  </a:lnTo>
                  <a:lnTo>
                    <a:pt x="1558" y="817"/>
                  </a:lnTo>
                  <a:lnTo>
                    <a:pt x="1536" y="818"/>
                  </a:lnTo>
                  <a:lnTo>
                    <a:pt x="1512" y="818"/>
                  </a:lnTo>
                  <a:lnTo>
                    <a:pt x="1488" y="817"/>
                  </a:lnTo>
                  <a:lnTo>
                    <a:pt x="1461" y="815"/>
                  </a:lnTo>
                  <a:lnTo>
                    <a:pt x="1432" y="810"/>
                  </a:lnTo>
                  <a:lnTo>
                    <a:pt x="1402" y="804"/>
                  </a:lnTo>
                  <a:lnTo>
                    <a:pt x="1370" y="796"/>
                  </a:lnTo>
                  <a:lnTo>
                    <a:pt x="1336" y="787"/>
                  </a:lnTo>
                  <a:lnTo>
                    <a:pt x="1301" y="775"/>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59" name="Freeform 180"/>
            <p:cNvSpPr/>
            <p:nvPr/>
          </p:nvSpPr>
          <p:spPr>
            <a:xfrm>
              <a:off x="7526880" y="2386800"/>
              <a:ext cx="307440" cy="317520"/>
            </a:xfrm>
            <a:custGeom>
              <a:avLst/>
              <a:gdLst>
                <a:gd name="textAreaLeft" fmla="*/ 0 w 307440"/>
                <a:gd name="textAreaRight" fmla="*/ 307800 w 307440"/>
                <a:gd name="textAreaTop" fmla="*/ 0 h 317520"/>
                <a:gd name="textAreaBottom" fmla="*/ 317880 h 317520"/>
              </a:gdLst>
              <a:ahLst/>
              <a:rect l="textAreaLeft" t="textAreaTop" r="textAreaRight" b="textAreaBottom"/>
              <a:pathLst>
                <a:path w="698" h="697">
                  <a:moveTo>
                    <a:pt x="146" y="426"/>
                  </a:moveTo>
                  <a:lnTo>
                    <a:pt x="144" y="418"/>
                  </a:lnTo>
                  <a:lnTo>
                    <a:pt x="143" y="411"/>
                  </a:lnTo>
                  <a:lnTo>
                    <a:pt x="143" y="404"/>
                  </a:lnTo>
                  <a:lnTo>
                    <a:pt x="144" y="397"/>
                  </a:lnTo>
                  <a:lnTo>
                    <a:pt x="146" y="390"/>
                  </a:lnTo>
                  <a:lnTo>
                    <a:pt x="148" y="383"/>
                  </a:lnTo>
                  <a:lnTo>
                    <a:pt x="150" y="377"/>
                  </a:lnTo>
                  <a:lnTo>
                    <a:pt x="155" y="371"/>
                  </a:lnTo>
                  <a:lnTo>
                    <a:pt x="158" y="365"/>
                  </a:lnTo>
                  <a:lnTo>
                    <a:pt x="164" y="360"/>
                  </a:lnTo>
                  <a:lnTo>
                    <a:pt x="170" y="355"/>
                  </a:lnTo>
                  <a:lnTo>
                    <a:pt x="177" y="351"/>
                  </a:lnTo>
                  <a:lnTo>
                    <a:pt x="185" y="348"/>
                  </a:lnTo>
                  <a:lnTo>
                    <a:pt x="195" y="344"/>
                  </a:lnTo>
                  <a:lnTo>
                    <a:pt x="204" y="342"/>
                  </a:lnTo>
                  <a:lnTo>
                    <a:pt x="215" y="340"/>
                  </a:lnTo>
                  <a:lnTo>
                    <a:pt x="216" y="332"/>
                  </a:lnTo>
                  <a:lnTo>
                    <a:pt x="219" y="309"/>
                  </a:lnTo>
                  <a:lnTo>
                    <a:pt x="223" y="278"/>
                  </a:lnTo>
                  <a:lnTo>
                    <a:pt x="224" y="239"/>
                  </a:lnTo>
                  <a:lnTo>
                    <a:pt x="220" y="226"/>
                  </a:lnTo>
                  <a:lnTo>
                    <a:pt x="215" y="216"/>
                  </a:lnTo>
                  <a:lnTo>
                    <a:pt x="209" y="205"/>
                  </a:lnTo>
                  <a:lnTo>
                    <a:pt x="202" y="195"/>
                  </a:lnTo>
                  <a:lnTo>
                    <a:pt x="194" y="186"/>
                  </a:lnTo>
                  <a:lnTo>
                    <a:pt x="184" y="176"/>
                  </a:lnTo>
                  <a:lnTo>
                    <a:pt x="175" y="167"/>
                  </a:lnTo>
                  <a:lnTo>
                    <a:pt x="164" y="159"/>
                  </a:lnTo>
                  <a:lnTo>
                    <a:pt x="142" y="143"/>
                  </a:lnTo>
                  <a:lnTo>
                    <a:pt x="119" y="129"/>
                  </a:lnTo>
                  <a:lnTo>
                    <a:pt x="95" y="115"/>
                  </a:lnTo>
                  <a:lnTo>
                    <a:pt x="73" y="103"/>
                  </a:lnTo>
                  <a:lnTo>
                    <a:pt x="52" y="91"/>
                  </a:lnTo>
                  <a:lnTo>
                    <a:pt x="33" y="79"/>
                  </a:lnTo>
                  <a:lnTo>
                    <a:pt x="25" y="73"/>
                  </a:lnTo>
                  <a:lnTo>
                    <a:pt x="17" y="68"/>
                  </a:lnTo>
                  <a:lnTo>
                    <a:pt x="11" y="62"/>
                  </a:lnTo>
                  <a:lnTo>
                    <a:pt x="7" y="56"/>
                  </a:lnTo>
                  <a:lnTo>
                    <a:pt x="3" y="49"/>
                  </a:lnTo>
                  <a:lnTo>
                    <a:pt x="1" y="43"/>
                  </a:lnTo>
                  <a:lnTo>
                    <a:pt x="0" y="36"/>
                  </a:lnTo>
                  <a:lnTo>
                    <a:pt x="1" y="29"/>
                  </a:lnTo>
                  <a:lnTo>
                    <a:pt x="3" y="22"/>
                  </a:lnTo>
                  <a:lnTo>
                    <a:pt x="8" y="15"/>
                  </a:lnTo>
                  <a:lnTo>
                    <a:pt x="14" y="8"/>
                  </a:lnTo>
                  <a:lnTo>
                    <a:pt x="22" y="0"/>
                  </a:lnTo>
                  <a:lnTo>
                    <a:pt x="57" y="12"/>
                  </a:lnTo>
                  <a:lnTo>
                    <a:pt x="91" y="21"/>
                  </a:lnTo>
                  <a:lnTo>
                    <a:pt x="123" y="29"/>
                  </a:lnTo>
                  <a:lnTo>
                    <a:pt x="153" y="35"/>
                  </a:lnTo>
                  <a:lnTo>
                    <a:pt x="182" y="40"/>
                  </a:lnTo>
                  <a:lnTo>
                    <a:pt x="209" y="42"/>
                  </a:lnTo>
                  <a:lnTo>
                    <a:pt x="233" y="43"/>
                  </a:lnTo>
                  <a:lnTo>
                    <a:pt x="257" y="43"/>
                  </a:lnTo>
                  <a:lnTo>
                    <a:pt x="279" y="42"/>
                  </a:lnTo>
                  <a:lnTo>
                    <a:pt x="299" y="40"/>
                  </a:lnTo>
                  <a:lnTo>
                    <a:pt x="317" y="37"/>
                  </a:lnTo>
                  <a:lnTo>
                    <a:pt x="334" y="34"/>
                  </a:lnTo>
                  <a:lnTo>
                    <a:pt x="348" y="30"/>
                  </a:lnTo>
                  <a:lnTo>
                    <a:pt x="362" y="26"/>
                  </a:lnTo>
                  <a:lnTo>
                    <a:pt x="372" y="21"/>
                  </a:lnTo>
                  <a:lnTo>
                    <a:pt x="382" y="17"/>
                  </a:lnTo>
                  <a:lnTo>
                    <a:pt x="586" y="233"/>
                  </a:lnTo>
                  <a:lnTo>
                    <a:pt x="586" y="371"/>
                  </a:lnTo>
                  <a:lnTo>
                    <a:pt x="565" y="368"/>
                  </a:lnTo>
                  <a:lnTo>
                    <a:pt x="544" y="364"/>
                  </a:lnTo>
                  <a:lnTo>
                    <a:pt x="524" y="362"/>
                  </a:lnTo>
                  <a:lnTo>
                    <a:pt x="504" y="361"/>
                  </a:lnTo>
                  <a:lnTo>
                    <a:pt x="487" y="361"/>
                  </a:lnTo>
                  <a:lnTo>
                    <a:pt x="468" y="361"/>
                  </a:lnTo>
                  <a:lnTo>
                    <a:pt x="452" y="361"/>
                  </a:lnTo>
                  <a:lnTo>
                    <a:pt x="436" y="363"/>
                  </a:lnTo>
                  <a:lnTo>
                    <a:pt x="421" y="364"/>
                  </a:lnTo>
                  <a:lnTo>
                    <a:pt x="408" y="368"/>
                  </a:lnTo>
                  <a:lnTo>
                    <a:pt x="397" y="370"/>
                  </a:lnTo>
                  <a:lnTo>
                    <a:pt x="386" y="375"/>
                  </a:lnTo>
                  <a:lnTo>
                    <a:pt x="377" y="378"/>
                  </a:lnTo>
                  <a:lnTo>
                    <a:pt x="369" y="383"/>
                  </a:lnTo>
                  <a:lnTo>
                    <a:pt x="363" y="389"/>
                  </a:lnTo>
                  <a:lnTo>
                    <a:pt x="359" y="393"/>
                  </a:lnTo>
                  <a:lnTo>
                    <a:pt x="357" y="400"/>
                  </a:lnTo>
                  <a:lnTo>
                    <a:pt x="357" y="406"/>
                  </a:lnTo>
                  <a:lnTo>
                    <a:pt x="358" y="412"/>
                  </a:lnTo>
                  <a:lnTo>
                    <a:pt x="362" y="419"/>
                  </a:lnTo>
                  <a:lnTo>
                    <a:pt x="368" y="426"/>
                  </a:lnTo>
                  <a:lnTo>
                    <a:pt x="376" y="434"/>
                  </a:lnTo>
                  <a:lnTo>
                    <a:pt x="386" y="441"/>
                  </a:lnTo>
                  <a:lnTo>
                    <a:pt x="400" y="448"/>
                  </a:lnTo>
                  <a:lnTo>
                    <a:pt x="415" y="457"/>
                  </a:lnTo>
                  <a:lnTo>
                    <a:pt x="433" y="464"/>
                  </a:lnTo>
                  <a:lnTo>
                    <a:pt x="454" y="472"/>
                  </a:lnTo>
                  <a:lnTo>
                    <a:pt x="477" y="480"/>
                  </a:lnTo>
                  <a:lnTo>
                    <a:pt x="504" y="487"/>
                  </a:lnTo>
                  <a:lnTo>
                    <a:pt x="533" y="495"/>
                  </a:lnTo>
                  <a:lnTo>
                    <a:pt x="565" y="502"/>
                  </a:lnTo>
                  <a:lnTo>
                    <a:pt x="601" y="509"/>
                  </a:lnTo>
                  <a:lnTo>
                    <a:pt x="615" y="513"/>
                  </a:lnTo>
                  <a:lnTo>
                    <a:pt x="627" y="516"/>
                  </a:lnTo>
                  <a:lnTo>
                    <a:pt x="639" y="520"/>
                  </a:lnTo>
                  <a:lnTo>
                    <a:pt x="649" y="524"/>
                  </a:lnTo>
                  <a:lnTo>
                    <a:pt x="658" y="528"/>
                  </a:lnTo>
                  <a:lnTo>
                    <a:pt x="665" y="532"/>
                  </a:lnTo>
                  <a:lnTo>
                    <a:pt x="672" y="537"/>
                  </a:lnTo>
                  <a:lnTo>
                    <a:pt x="678" y="542"/>
                  </a:lnTo>
                  <a:lnTo>
                    <a:pt x="684" y="548"/>
                  </a:lnTo>
                  <a:lnTo>
                    <a:pt x="688" y="552"/>
                  </a:lnTo>
                  <a:lnTo>
                    <a:pt x="691" y="557"/>
                  </a:lnTo>
                  <a:lnTo>
                    <a:pt x="693" y="563"/>
                  </a:lnTo>
                  <a:lnTo>
                    <a:pt x="697" y="573"/>
                  </a:lnTo>
                  <a:lnTo>
                    <a:pt x="698" y="584"/>
                  </a:lnTo>
                  <a:lnTo>
                    <a:pt x="697" y="593"/>
                  </a:lnTo>
                  <a:lnTo>
                    <a:pt x="695" y="603"/>
                  </a:lnTo>
                  <a:lnTo>
                    <a:pt x="692" y="611"/>
                  </a:lnTo>
                  <a:lnTo>
                    <a:pt x="689" y="619"/>
                  </a:lnTo>
                  <a:lnTo>
                    <a:pt x="682" y="629"/>
                  </a:lnTo>
                  <a:lnTo>
                    <a:pt x="678" y="633"/>
                  </a:lnTo>
                  <a:lnTo>
                    <a:pt x="462" y="697"/>
                  </a:lnTo>
                  <a:lnTo>
                    <a:pt x="146" y="42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60" name="Freeform 181"/>
            <p:cNvSpPr/>
            <p:nvPr/>
          </p:nvSpPr>
          <p:spPr>
            <a:xfrm>
              <a:off x="7526880" y="2386800"/>
              <a:ext cx="307440" cy="317520"/>
            </a:xfrm>
            <a:custGeom>
              <a:avLst/>
              <a:gdLst>
                <a:gd name="textAreaLeft" fmla="*/ 0 w 307440"/>
                <a:gd name="textAreaRight" fmla="*/ 307800 w 307440"/>
                <a:gd name="textAreaTop" fmla="*/ 0 h 317520"/>
                <a:gd name="textAreaBottom" fmla="*/ 317880 h 317520"/>
              </a:gdLst>
              <a:ahLst/>
              <a:rect l="textAreaLeft" t="textAreaTop" r="textAreaRight" b="textAreaBottom"/>
              <a:pathLst>
                <a:path w="698" h="697">
                  <a:moveTo>
                    <a:pt x="146" y="426"/>
                  </a:moveTo>
                  <a:lnTo>
                    <a:pt x="144" y="418"/>
                  </a:lnTo>
                  <a:lnTo>
                    <a:pt x="143" y="411"/>
                  </a:lnTo>
                  <a:lnTo>
                    <a:pt x="143" y="404"/>
                  </a:lnTo>
                  <a:lnTo>
                    <a:pt x="144" y="397"/>
                  </a:lnTo>
                  <a:lnTo>
                    <a:pt x="146" y="390"/>
                  </a:lnTo>
                  <a:lnTo>
                    <a:pt x="148" y="383"/>
                  </a:lnTo>
                  <a:lnTo>
                    <a:pt x="150" y="377"/>
                  </a:lnTo>
                  <a:lnTo>
                    <a:pt x="155" y="371"/>
                  </a:lnTo>
                  <a:lnTo>
                    <a:pt x="158" y="365"/>
                  </a:lnTo>
                  <a:lnTo>
                    <a:pt x="164" y="360"/>
                  </a:lnTo>
                  <a:lnTo>
                    <a:pt x="170" y="355"/>
                  </a:lnTo>
                  <a:lnTo>
                    <a:pt x="177" y="351"/>
                  </a:lnTo>
                  <a:lnTo>
                    <a:pt x="185" y="348"/>
                  </a:lnTo>
                  <a:lnTo>
                    <a:pt x="195" y="344"/>
                  </a:lnTo>
                  <a:lnTo>
                    <a:pt x="204" y="342"/>
                  </a:lnTo>
                  <a:lnTo>
                    <a:pt x="215" y="340"/>
                  </a:lnTo>
                  <a:lnTo>
                    <a:pt x="216" y="332"/>
                  </a:lnTo>
                  <a:lnTo>
                    <a:pt x="219" y="309"/>
                  </a:lnTo>
                  <a:lnTo>
                    <a:pt x="223" y="278"/>
                  </a:lnTo>
                  <a:lnTo>
                    <a:pt x="224" y="239"/>
                  </a:lnTo>
                  <a:lnTo>
                    <a:pt x="220" y="226"/>
                  </a:lnTo>
                  <a:lnTo>
                    <a:pt x="215" y="216"/>
                  </a:lnTo>
                  <a:lnTo>
                    <a:pt x="209" y="205"/>
                  </a:lnTo>
                  <a:lnTo>
                    <a:pt x="202" y="195"/>
                  </a:lnTo>
                  <a:lnTo>
                    <a:pt x="194" y="186"/>
                  </a:lnTo>
                  <a:lnTo>
                    <a:pt x="184" y="176"/>
                  </a:lnTo>
                  <a:lnTo>
                    <a:pt x="175" y="167"/>
                  </a:lnTo>
                  <a:lnTo>
                    <a:pt x="164" y="159"/>
                  </a:lnTo>
                  <a:lnTo>
                    <a:pt x="142" y="143"/>
                  </a:lnTo>
                  <a:lnTo>
                    <a:pt x="119" y="129"/>
                  </a:lnTo>
                  <a:lnTo>
                    <a:pt x="95" y="115"/>
                  </a:lnTo>
                  <a:lnTo>
                    <a:pt x="73" y="103"/>
                  </a:lnTo>
                  <a:lnTo>
                    <a:pt x="52" y="91"/>
                  </a:lnTo>
                  <a:lnTo>
                    <a:pt x="33" y="79"/>
                  </a:lnTo>
                  <a:lnTo>
                    <a:pt x="25" y="73"/>
                  </a:lnTo>
                  <a:lnTo>
                    <a:pt x="17" y="68"/>
                  </a:lnTo>
                  <a:lnTo>
                    <a:pt x="11" y="62"/>
                  </a:lnTo>
                  <a:lnTo>
                    <a:pt x="7" y="56"/>
                  </a:lnTo>
                  <a:lnTo>
                    <a:pt x="3" y="49"/>
                  </a:lnTo>
                  <a:lnTo>
                    <a:pt x="1" y="43"/>
                  </a:lnTo>
                  <a:lnTo>
                    <a:pt x="0" y="36"/>
                  </a:lnTo>
                  <a:lnTo>
                    <a:pt x="1" y="29"/>
                  </a:lnTo>
                  <a:lnTo>
                    <a:pt x="3" y="22"/>
                  </a:lnTo>
                  <a:lnTo>
                    <a:pt x="8" y="15"/>
                  </a:lnTo>
                  <a:lnTo>
                    <a:pt x="14" y="8"/>
                  </a:lnTo>
                  <a:lnTo>
                    <a:pt x="22" y="0"/>
                  </a:lnTo>
                  <a:lnTo>
                    <a:pt x="57" y="12"/>
                  </a:lnTo>
                  <a:lnTo>
                    <a:pt x="91" y="21"/>
                  </a:lnTo>
                  <a:lnTo>
                    <a:pt x="123" y="29"/>
                  </a:lnTo>
                  <a:lnTo>
                    <a:pt x="153" y="35"/>
                  </a:lnTo>
                  <a:lnTo>
                    <a:pt x="182" y="40"/>
                  </a:lnTo>
                  <a:lnTo>
                    <a:pt x="209" y="42"/>
                  </a:lnTo>
                  <a:lnTo>
                    <a:pt x="233" y="43"/>
                  </a:lnTo>
                  <a:lnTo>
                    <a:pt x="257" y="43"/>
                  </a:lnTo>
                  <a:lnTo>
                    <a:pt x="279" y="42"/>
                  </a:lnTo>
                  <a:lnTo>
                    <a:pt x="299" y="40"/>
                  </a:lnTo>
                  <a:lnTo>
                    <a:pt x="317" y="37"/>
                  </a:lnTo>
                  <a:lnTo>
                    <a:pt x="334" y="34"/>
                  </a:lnTo>
                  <a:lnTo>
                    <a:pt x="348" y="30"/>
                  </a:lnTo>
                  <a:lnTo>
                    <a:pt x="362" y="26"/>
                  </a:lnTo>
                  <a:lnTo>
                    <a:pt x="372" y="21"/>
                  </a:lnTo>
                  <a:lnTo>
                    <a:pt x="382" y="17"/>
                  </a:lnTo>
                  <a:lnTo>
                    <a:pt x="586" y="233"/>
                  </a:lnTo>
                  <a:lnTo>
                    <a:pt x="586" y="371"/>
                  </a:lnTo>
                  <a:lnTo>
                    <a:pt x="565" y="368"/>
                  </a:lnTo>
                  <a:lnTo>
                    <a:pt x="544" y="364"/>
                  </a:lnTo>
                  <a:lnTo>
                    <a:pt x="524" y="362"/>
                  </a:lnTo>
                  <a:lnTo>
                    <a:pt x="504" y="361"/>
                  </a:lnTo>
                  <a:lnTo>
                    <a:pt x="487" y="361"/>
                  </a:lnTo>
                  <a:lnTo>
                    <a:pt x="468" y="361"/>
                  </a:lnTo>
                  <a:lnTo>
                    <a:pt x="452" y="361"/>
                  </a:lnTo>
                  <a:lnTo>
                    <a:pt x="436" y="363"/>
                  </a:lnTo>
                  <a:lnTo>
                    <a:pt x="421" y="364"/>
                  </a:lnTo>
                  <a:lnTo>
                    <a:pt x="408" y="368"/>
                  </a:lnTo>
                  <a:lnTo>
                    <a:pt x="397" y="370"/>
                  </a:lnTo>
                  <a:lnTo>
                    <a:pt x="386" y="375"/>
                  </a:lnTo>
                  <a:lnTo>
                    <a:pt x="377" y="378"/>
                  </a:lnTo>
                  <a:lnTo>
                    <a:pt x="369" y="383"/>
                  </a:lnTo>
                  <a:lnTo>
                    <a:pt x="363" y="389"/>
                  </a:lnTo>
                  <a:lnTo>
                    <a:pt x="359" y="393"/>
                  </a:lnTo>
                  <a:lnTo>
                    <a:pt x="357" y="400"/>
                  </a:lnTo>
                  <a:lnTo>
                    <a:pt x="357" y="406"/>
                  </a:lnTo>
                  <a:lnTo>
                    <a:pt x="358" y="412"/>
                  </a:lnTo>
                  <a:lnTo>
                    <a:pt x="362" y="419"/>
                  </a:lnTo>
                  <a:lnTo>
                    <a:pt x="368" y="426"/>
                  </a:lnTo>
                  <a:lnTo>
                    <a:pt x="376" y="434"/>
                  </a:lnTo>
                  <a:lnTo>
                    <a:pt x="386" y="441"/>
                  </a:lnTo>
                  <a:lnTo>
                    <a:pt x="400" y="448"/>
                  </a:lnTo>
                  <a:lnTo>
                    <a:pt x="415" y="457"/>
                  </a:lnTo>
                  <a:lnTo>
                    <a:pt x="433" y="464"/>
                  </a:lnTo>
                  <a:lnTo>
                    <a:pt x="454" y="472"/>
                  </a:lnTo>
                  <a:lnTo>
                    <a:pt x="477" y="480"/>
                  </a:lnTo>
                  <a:lnTo>
                    <a:pt x="504" y="487"/>
                  </a:lnTo>
                  <a:lnTo>
                    <a:pt x="533" y="495"/>
                  </a:lnTo>
                  <a:lnTo>
                    <a:pt x="565" y="502"/>
                  </a:lnTo>
                  <a:lnTo>
                    <a:pt x="601" y="509"/>
                  </a:lnTo>
                  <a:lnTo>
                    <a:pt x="615" y="513"/>
                  </a:lnTo>
                  <a:lnTo>
                    <a:pt x="627" y="516"/>
                  </a:lnTo>
                  <a:lnTo>
                    <a:pt x="639" y="520"/>
                  </a:lnTo>
                  <a:lnTo>
                    <a:pt x="649" y="524"/>
                  </a:lnTo>
                  <a:lnTo>
                    <a:pt x="658" y="528"/>
                  </a:lnTo>
                  <a:lnTo>
                    <a:pt x="665" y="532"/>
                  </a:lnTo>
                  <a:lnTo>
                    <a:pt x="672" y="537"/>
                  </a:lnTo>
                  <a:lnTo>
                    <a:pt x="678" y="542"/>
                  </a:lnTo>
                  <a:lnTo>
                    <a:pt x="684" y="548"/>
                  </a:lnTo>
                  <a:lnTo>
                    <a:pt x="688" y="552"/>
                  </a:lnTo>
                  <a:lnTo>
                    <a:pt x="691" y="557"/>
                  </a:lnTo>
                  <a:lnTo>
                    <a:pt x="693" y="563"/>
                  </a:lnTo>
                  <a:lnTo>
                    <a:pt x="697" y="573"/>
                  </a:lnTo>
                  <a:lnTo>
                    <a:pt x="698" y="584"/>
                  </a:lnTo>
                  <a:lnTo>
                    <a:pt x="697" y="593"/>
                  </a:lnTo>
                  <a:lnTo>
                    <a:pt x="695" y="603"/>
                  </a:lnTo>
                  <a:lnTo>
                    <a:pt x="692" y="611"/>
                  </a:lnTo>
                  <a:lnTo>
                    <a:pt x="689" y="619"/>
                  </a:lnTo>
                  <a:lnTo>
                    <a:pt x="682" y="629"/>
                  </a:lnTo>
                  <a:lnTo>
                    <a:pt x="678" y="633"/>
                  </a:lnTo>
                  <a:lnTo>
                    <a:pt x="462" y="697"/>
                  </a:lnTo>
                  <a:lnTo>
                    <a:pt x="146" y="42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61" name="Freeform 182"/>
            <p:cNvSpPr/>
            <p:nvPr/>
          </p:nvSpPr>
          <p:spPr>
            <a:xfrm>
              <a:off x="7586280" y="2136960"/>
              <a:ext cx="433080" cy="160920"/>
            </a:xfrm>
            <a:custGeom>
              <a:avLst/>
              <a:gdLst>
                <a:gd name="textAreaLeft" fmla="*/ 0 w 433080"/>
                <a:gd name="textAreaRight" fmla="*/ 433440 w 433080"/>
                <a:gd name="textAreaTop" fmla="*/ 0 h 160920"/>
                <a:gd name="textAreaBottom" fmla="*/ 161280 h 160920"/>
              </a:gdLst>
              <a:ahLst/>
              <a:rect l="textAreaLeft" t="textAreaTop" r="textAreaRight" b="textAreaBottom"/>
              <a:pathLst>
                <a:path w="983" h="354">
                  <a:moveTo>
                    <a:pt x="55" y="323"/>
                  </a:moveTo>
                  <a:lnTo>
                    <a:pt x="596" y="268"/>
                  </a:lnTo>
                  <a:lnTo>
                    <a:pt x="609" y="271"/>
                  </a:lnTo>
                  <a:lnTo>
                    <a:pt x="644" y="281"/>
                  </a:lnTo>
                  <a:lnTo>
                    <a:pt x="666" y="285"/>
                  </a:lnTo>
                  <a:lnTo>
                    <a:pt x="691" y="291"/>
                  </a:lnTo>
                  <a:lnTo>
                    <a:pt x="718" y="296"/>
                  </a:lnTo>
                  <a:lnTo>
                    <a:pt x="743" y="299"/>
                  </a:lnTo>
                  <a:lnTo>
                    <a:pt x="752" y="301"/>
                  </a:lnTo>
                  <a:lnTo>
                    <a:pt x="761" y="303"/>
                  </a:lnTo>
                  <a:lnTo>
                    <a:pt x="769" y="306"/>
                  </a:lnTo>
                  <a:lnTo>
                    <a:pt x="777" y="310"/>
                  </a:lnTo>
                  <a:lnTo>
                    <a:pt x="792" y="319"/>
                  </a:lnTo>
                  <a:lnTo>
                    <a:pt x="806" y="329"/>
                  </a:lnTo>
                  <a:lnTo>
                    <a:pt x="827" y="346"/>
                  </a:lnTo>
                  <a:lnTo>
                    <a:pt x="836" y="354"/>
                  </a:lnTo>
                  <a:lnTo>
                    <a:pt x="857" y="347"/>
                  </a:lnTo>
                  <a:lnTo>
                    <a:pt x="881" y="340"/>
                  </a:lnTo>
                  <a:lnTo>
                    <a:pt x="909" y="333"/>
                  </a:lnTo>
                  <a:lnTo>
                    <a:pt x="936" y="325"/>
                  </a:lnTo>
                  <a:lnTo>
                    <a:pt x="948" y="320"/>
                  </a:lnTo>
                  <a:lnTo>
                    <a:pt x="959" y="316"/>
                  </a:lnTo>
                  <a:lnTo>
                    <a:pt x="969" y="310"/>
                  </a:lnTo>
                  <a:lnTo>
                    <a:pt x="976" y="304"/>
                  </a:lnTo>
                  <a:lnTo>
                    <a:pt x="978" y="302"/>
                  </a:lnTo>
                  <a:lnTo>
                    <a:pt x="980" y="298"/>
                  </a:lnTo>
                  <a:lnTo>
                    <a:pt x="982" y="295"/>
                  </a:lnTo>
                  <a:lnTo>
                    <a:pt x="983" y="291"/>
                  </a:lnTo>
                  <a:lnTo>
                    <a:pt x="982" y="288"/>
                  </a:lnTo>
                  <a:lnTo>
                    <a:pt x="982" y="284"/>
                  </a:lnTo>
                  <a:lnTo>
                    <a:pt x="979" y="281"/>
                  </a:lnTo>
                  <a:lnTo>
                    <a:pt x="977" y="276"/>
                  </a:lnTo>
                  <a:lnTo>
                    <a:pt x="970" y="265"/>
                  </a:lnTo>
                  <a:lnTo>
                    <a:pt x="965" y="255"/>
                  </a:lnTo>
                  <a:lnTo>
                    <a:pt x="962" y="244"/>
                  </a:lnTo>
                  <a:lnTo>
                    <a:pt x="961" y="234"/>
                  </a:lnTo>
                  <a:lnTo>
                    <a:pt x="962" y="213"/>
                  </a:lnTo>
                  <a:lnTo>
                    <a:pt x="965" y="194"/>
                  </a:lnTo>
                  <a:lnTo>
                    <a:pt x="966" y="185"/>
                  </a:lnTo>
                  <a:lnTo>
                    <a:pt x="968" y="177"/>
                  </a:lnTo>
                  <a:lnTo>
                    <a:pt x="968" y="170"/>
                  </a:lnTo>
                  <a:lnTo>
                    <a:pt x="966" y="164"/>
                  </a:lnTo>
                  <a:lnTo>
                    <a:pt x="964" y="159"/>
                  </a:lnTo>
                  <a:lnTo>
                    <a:pt x="961" y="156"/>
                  </a:lnTo>
                  <a:lnTo>
                    <a:pt x="954" y="153"/>
                  </a:lnTo>
                  <a:lnTo>
                    <a:pt x="945" y="152"/>
                  </a:lnTo>
                  <a:lnTo>
                    <a:pt x="933" y="153"/>
                  </a:lnTo>
                  <a:lnTo>
                    <a:pt x="922" y="155"/>
                  </a:lnTo>
                  <a:lnTo>
                    <a:pt x="910" y="157"/>
                  </a:lnTo>
                  <a:lnTo>
                    <a:pt x="900" y="159"/>
                  </a:lnTo>
                  <a:lnTo>
                    <a:pt x="878" y="167"/>
                  </a:lnTo>
                  <a:lnTo>
                    <a:pt x="854" y="176"/>
                  </a:lnTo>
                  <a:lnTo>
                    <a:pt x="831" y="184"/>
                  </a:lnTo>
                  <a:lnTo>
                    <a:pt x="805" y="192"/>
                  </a:lnTo>
                  <a:lnTo>
                    <a:pt x="790" y="194"/>
                  </a:lnTo>
                  <a:lnTo>
                    <a:pt x="776" y="197"/>
                  </a:lnTo>
                  <a:lnTo>
                    <a:pt x="760" y="198"/>
                  </a:lnTo>
                  <a:lnTo>
                    <a:pt x="743" y="199"/>
                  </a:lnTo>
                  <a:lnTo>
                    <a:pt x="727" y="198"/>
                  </a:lnTo>
                  <a:lnTo>
                    <a:pt x="713" y="194"/>
                  </a:lnTo>
                  <a:lnTo>
                    <a:pt x="701" y="190"/>
                  </a:lnTo>
                  <a:lnTo>
                    <a:pt x="691" y="185"/>
                  </a:lnTo>
                  <a:lnTo>
                    <a:pt x="672" y="170"/>
                  </a:lnTo>
                  <a:lnTo>
                    <a:pt x="655" y="155"/>
                  </a:lnTo>
                  <a:lnTo>
                    <a:pt x="645" y="146"/>
                  </a:lnTo>
                  <a:lnTo>
                    <a:pt x="636" y="139"/>
                  </a:lnTo>
                  <a:lnTo>
                    <a:pt x="624" y="132"/>
                  </a:lnTo>
                  <a:lnTo>
                    <a:pt x="613" y="126"/>
                  </a:lnTo>
                  <a:lnTo>
                    <a:pt x="599" y="123"/>
                  </a:lnTo>
                  <a:lnTo>
                    <a:pt x="582" y="119"/>
                  </a:lnTo>
                  <a:lnTo>
                    <a:pt x="563" y="119"/>
                  </a:lnTo>
                  <a:lnTo>
                    <a:pt x="541" y="121"/>
                  </a:lnTo>
                  <a:lnTo>
                    <a:pt x="548" y="110"/>
                  </a:lnTo>
                  <a:lnTo>
                    <a:pt x="554" y="100"/>
                  </a:lnTo>
                  <a:lnTo>
                    <a:pt x="558" y="89"/>
                  </a:lnTo>
                  <a:lnTo>
                    <a:pt x="560" y="80"/>
                  </a:lnTo>
                  <a:lnTo>
                    <a:pt x="561" y="72"/>
                  </a:lnTo>
                  <a:lnTo>
                    <a:pt x="561" y="62"/>
                  </a:lnTo>
                  <a:lnTo>
                    <a:pt x="558" y="55"/>
                  </a:lnTo>
                  <a:lnTo>
                    <a:pt x="554" y="47"/>
                  </a:lnTo>
                  <a:lnTo>
                    <a:pt x="548" y="40"/>
                  </a:lnTo>
                  <a:lnTo>
                    <a:pt x="540" y="33"/>
                  </a:lnTo>
                  <a:lnTo>
                    <a:pt x="530" y="27"/>
                  </a:lnTo>
                  <a:lnTo>
                    <a:pt x="518" y="21"/>
                  </a:lnTo>
                  <a:lnTo>
                    <a:pt x="504" y="16"/>
                  </a:lnTo>
                  <a:lnTo>
                    <a:pt x="489" y="10"/>
                  </a:lnTo>
                  <a:lnTo>
                    <a:pt x="470" y="5"/>
                  </a:lnTo>
                  <a:lnTo>
                    <a:pt x="449" y="0"/>
                  </a:lnTo>
                  <a:lnTo>
                    <a:pt x="109" y="158"/>
                  </a:lnTo>
                  <a:lnTo>
                    <a:pt x="0" y="199"/>
                  </a:lnTo>
                  <a:lnTo>
                    <a:pt x="0" y="299"/>
                  </a:lnTo>
                  <a:lnTo>
                    <a:pt x="55" y="32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62" name="Freeform 183"/>
            <p:cNvSpPr/>
            <p:nvPr/>
          </p:nvSpPr>
          <p:spPr>
            <a:xfrm>
              <a:off x="7586280" y="2136960"/>
              <a:ext cx="433080" cy="160920"/>
            </a:xfrm>
            <a:custGeom>
              <a:avLst/>
              <a:gdLst>
                <a:gd name="textAreaLeft" fmla="*/ 0 w 433080"/>
                <a:gd name="textAreaRight" fmla="*/ 433440 w 433080"/>
                <a:gd name="textAreaTop" fmla="*/ 0 h 160920"/>
                <a:gd name="textAreaBottom" fmla="*/ 161280 h 160920"/>
              </a:gdLst>
              <a:ahLst/>
              <a:rect l="textAreaLeft" t="textAreaTop" r="textAreaRight" b="textAreaBottom"/>
              <a:pathLst>
                <a:path w="983" h="354">
                  <a:moveTo>
                    <a:pt x="55" y="323"/>
                  </a:moveTo>
                  <a:lnTo>
                    <a:pt x="596" y="268"/>
                  </a:lnTo>
                  <a:lnTo>
                    <a:pt x="609" y="271"/>
                  </a:lnTo>
                  <a:lnTo>
                    <a:pt x="644" y="281"/>
                  </a:lnTo>
                  <a:lnTo>
                    <a:pt x="666" y="285"/>
                  </a:lnTo>
                  <a:lnTo>
                    <a:pt x="691" y="291"/>
                  </a:lnTo>
                  <a:lnTo>
                    <a:pt x="718" y="296"/>
                  </a:lnTo>
                  <a:lnTo>
                    <a:pt x="743" y="299"/>
                  </a:lnTo>
                  <a:lnTo>
                    <a:pt x="752" y="301"/>
                  </a:lnTo>
                  <a:lnTo>
                    <a:pt x="761" y="303"/>
                  </a:lnTo>
                  <a:lnTo>
                    <a:pt x="769" y="306"/>
                  </a:lnTo>
                  <a:lnTo>
                    <a:pt x="777" y="310"/>
                  </a:lnTo>
                  <a:lnTo>
                    <a:pt x="792" y="319"/>
                  </a:lnTo>
                  <a:lnTo>
                    <a:pt x="806" y="329"/>
                  </a:lnTo>
                  <a:lnTo>
                    <a:pt x="827" y="346"/>
                  </a:lnTo>
                  <a:lnTo>
                    <a:pt x="836" y="354"/>
                  </a:lnTo>
                  <a:lnTo>
                    <a:pt x="857" y="347"/>
                  </a:lnTo>
                  <a:lnTo>
                    <a:pt x="881" y="340"/>
                  </a:lnTo>
                  <a:lnTo>
                    <a:pt x="909" y="333"/>
                  </a:lnTo>
                  <a:lnTo>
                    <a:pt x="936" y="325"/>
                  </a:lnTo>
                  <a:lnTo>
                    <a:pt x="948" y="320"/>
                  </a:lnTo>
                  <a:lnTo>
                    <a:pt x="959" y="316"/>
                  </a:lnTo>
                  <a:lnTo>
                    <a:pt x="969" y="310"/>
                  </a:lnTo>
                  <a:lnTo>
                    <a:pt x="976" y="304"/>
                  </a:lnTo>
                  <a:lnTo>
                    <a:pt x="978" y="302"/>
                  </a:lnTo>
                  <a:lnTo>
                    <a:pt x="980" y="298"/>
                  </a:lnTo>
                  <a:lnTo>
                    <a:pt x="982" y="295"/>
                  </a:lnTo>
                  <a:lnTo>
                    <a:pt x="983" y="291"/>
                  </a:lnTo>
                  <a:lnTo>
                    <a:pt x="982" y="288"/>
                  </a:lnTo>
                  <a:lnTo>
                    <a:pt x="982" y="284"/>
                  </a:lnTo>
                  <a:lnTo>
                    <a:pt x="979" y="281"/>
                  </a:lnTo>
                  <a:lnTo>
                    <a:pt x="977" y="276"/>
                  </a:lnTo>
                  <a:lnTo>
                    <a:pt x="970" y="265"/>
                  </a:lnTo>
                  <a:lnTo>
                    <a:pt x="965" y="255"/>
                  </a:lnTo>
                  <a:lnTo>
                    <a:pt x="962" y="244"/>
                  </a:lnTo>
                  <a:lnTo>
                    <a:pt x="961" y="234"/>
                  </a:lnTo>
                  <a:lnTo>
                    <a:pt x="962" y="213"/>
                  </a:lnTo>
                  <a:lnTo>
                    <a:pt x="965" y="194"/>
                  </a:lnTo>
                  <a:lnTo>
                    <a:pt x="966" y="185"/>
                  </a:lnTo>
                  <a:lnTo>
                    <a:pt x="968" y="177"/>
                  </a:lnTo>
                  <a:lnTo>
                    <a:pt x="968" y="170"/>
                  </a:lnTo>
                  <a:lnTo>
                    <a:pt x="966" y="164"/>
                  </a:lnTo>
                  <a:lnTo>
                    <a:pt x="964" y="159"/>
                  </a:lnTo>
                  <a:lnTo>
                    <a:pt x="961" y="156"/>
                  </a:lnTo>
                  <a:lnTo>
                    <a:pt x="954" y="153"/>
                  </a:lnTo>
                  <a:lnTo>
                    <a:pt x="945" y="152"/>
                  </a:lnTo>
                  <a:lnTo>
                    <a:pt x="933" y="153"/>
                  </a:lnTo>
                  <a:lnTo>
                    <a:pt x="922" y="155"/>
                  </a:lnTo>
                  <a:lnTo>
                    <a:pt x="910" y="157"/>
                  </a:lnTo>
                  <a:lnTo>
                    <a:pt x="900" y="159"/>
                  </a:lnTo>
                  <a:lnTo>
                    <a:pt x="878" y="167"/>
                  </a:lnTo>
                  <a:lnTo>
                    <a:pt x="854" y="176"/>
                  </a:lnTo>
                  <a:lnTo>
                    <a:pt x="831" y="184"/>
                  </a:lnTo>
                  <a:lnTo>
                    <a:pt x="805" y="192"/>
                  </a:lnTo>
                  <a:lnTo>
                    <a:pt x="790" y="194"/>
                  </a:lnTo>
                  <a:lnTo>
                    <a:pt x="776" y="197"/>
                  </a:lnTo>
                  <a:lnTo>
                    <a:pt x="760" y="198"/>
                  </a:lnTo>
                  <a:lnTo>
                    <a:pt x="743" y="199"/>
                  </a:lnTo>
                  <a:lnTo>
                    <a:pt x="727" y="198"/>
                  </a:lnTo>
                  <a:lnTo>
                    <a:pt x="713" y="194"/>
                  </a:lnTo>
                  <a:lnTo>
                    <a:pt x="701" y="190"/>
                  </a:lnTo>
                  <a:lnTo>
                    <a:pt x="691" y="185"/>
                  </a:lnTo>
                  <a:lnTo>
                    <a:pt x="672" y="170"/>
                  </a:lnTo>
                  <a:lnTo>
                    <a:pt x="655" y="155"/>
                  </a:lnTo>
                  <a:lnTo>
                    <a:pt x="645" y="146"/>
                  </a:lnTo>
                  <a:lnTo>
                    <a:pt x="636" y="139"/>
                  </a:lnTo>
                  <a:lnTo>
                    <a:pt x="624" y="132"/>
                  </a:lnTo>
                  <a:lnTo>
                    <a:pt x="613" y="126"/>
                  </a:lnTo>
                  <a:lnTo>
                    <a:pt x="599" y="123"/>
                  </a:lnTo>
                  <a:lnTo>
                    <a:pt x="582" y="119"/>
                  </a:lnTo>
                  <a:lnTo>
                    <a:pt x="563" y="119"/>
                  </a:lnTo>
                  <a:lnTo>
                    <a:pt x="541" y="121"/>
                  </a:lnTo>
                  <a:lnTo>
                    <a:pt x="548" y="110"/>
                  </a:lnTo>
                  <a:lnTo>
                    <a:pt x="554" y="100"/>
                  </a:lnTo>
                  <a:lnTo>
                    <a:pt x="558" y="89"/>
                  </a:lnTo>
                  <a:lnTo>
                    <a:pt x="560" y="80"/>
                  </a:lnTo>
                  <a:lnTo>
                    <a:pt x="561" y="72"/>
                  </a:lnTo>
                  <a:lnTo>
                    <a:pt x="561" y="62"/>
                  </a:lnTo>
                  <a:lnTo>
                    <a:pt x="558" y="55"/>
                  </a:lnTo>
                  <a:lnTo>
                    <a:pt x="554" y="47"/>
                  </a:lnTo>
                  <a:lnTo>
                    <a:pt x="548" y="40"/>
                  </a:lnTo>
                  <a:lnTo>
                    <a:pt x="540" y="33"/>
                  </a:lnTo>
                  <a:lnTo>
                    <a:pt x="530" y="27"/>
                  </a:lnTo>
                  <a:lnTo>
                    <a:pt x="518" y="21"/>
                  </a:lnTo>
                  <a:lnTo>
                    <a:pt x="504" y="16"/>
                  </a:lnTo>
                  <a:lnTo>
                    <a:pt x="489" y="10"/>
                  </a:lnTo>
                  <a:lnTo>
                    <a:pt x="470" y="5"/>
                  </a:lnTo>
                  <a:lnTo>
                    <a:pt x="449" y="0"/>
                  </a:lnTo>
                  <a:lnTo>
                    <a:pt x="109" y="158"/>
                  </a:lnTo>
                  <a:lnTo>
                    <a:pt x="0" y="199"/>
                  </a:lnTo>
                  <a:lnTo>
                    <a:pt x="0" y="299"/>
                  </a:lnTo>
                  <a:lnTo>
                    <a:pt x="55" y="323"/>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63" name="Freeform 184"/>
            <p:cNvSpPr/>
            <p:nvPr/>
          </p:nvSpPr>
          <p:spPr>
            <a:xfrm>
              <a:off x="7177680" y="2581920"/>
              <a:ext cx="547200" cy="183600"/>
            </a:xfrm>
            <a:custGeom>
              <a:avLst/>
              <a:gdLst>
                <a:gd name="textAreaLeft" fmla="*/ 0 w 547200"/>
                <a:gd name="textAreaRight" fmla="*/ 547560 w 547200"/>
                <a:gd name="textAreaTop" fmla="*/ 0 h 183600"/>
                <a:gd name="textAreaBottom" fmla="*/ 183600 h 183600"/>
              </a:gdLst>
              <a:ahLst/>
              <a:rect l="textAreaLeft" t="textAreaTop" r="textAreaRight" b="textAreaBottom"/>
              <a:pathLst>
                <a:path w="1244" h="409">
                  <a:moveTo>
                    <a:pt x="933" y="193"/>
                  </a:moveTo>
                  <a:lnTo>
                    <a:pt x="971" y="223"/>
                  </a:lnTo>
                  <a:lnTo>
                    <a:pt x="1011" y="254"/>
                  </a:lnTo>
                  <a:lnTo>
                    <a:pt x="1053" y="283"/>
                  </a:lnTo>
                  <a:lnTo>
                    <a:pt x="1095" y="313"/>
                  </a:lnTo>
                  <a:lnTo>
                    <a:pt x="1137" y="341"/>
                  </a:lnTo>
                  <a:lnTo>
                    <a:pt x="1176" y="367"/>
                  </a:lnTo>
                  <a:lnTo>
                    <a:pt x="1213" y="389"/>
                  </a:lnTo>
                  <a:lnTo>
                    <a:pt x="1244" y="409"/>
                  </a:lnTo>
                  <a:lnTo>
                    <a:pt x="1065" y="401"/>
                  </a:lnTo>
                  <a:lnTo>
                    <a:pt x="1063" y="396"/>
                  </a:lnTo>
                  <a:lnTo>
                    <a:pt x="1060" y="393"/>
                  </a:lnTo>
                  <a:lnTo>
                    <a:pt x="1056" y="390"/>
                  </a:lnTo>
                  <a:lnTo>
                    <a:pt x="1051" y="389"/>
                  </a:lnTo>
                  <a:lnTo>
                    <a:pt x="1041" y="386"/>
                  </a:lnTo>
                  <a:lnTo>
                    <a:pt x="1028" y="384"/>
                  </a:lnTo>
                  <a:lnTo>
                    <a:pt x="998" y="384"/>
                  </a:lnTo>
                  <a:lnTo>
                    <a:pt x="964" y="383"/>
                  </a:lnTo>
                  <a:lnTo>
                    <a:pt x="945" y="382"/>
                  </a:lnTo>
                  <a:lnTo>
                    <a:pt x="926" y="377"/>
                  </a:lnTo>
                  <a:lnTo>
                    <a:pt x="917" y="375"/>
                  </a:lnTo>
                  <a:lnTo>
                    <a:pt x="908" y="372"/>
                  </a:lnTo>
                  <a:lnTo>
                    <a:pt x="898" y="367"/>
                  </a:lnTo>
                  <a:lnTo>
                    <a:pt x="890" y="362"/>
                  </a:lnTo>
                  <a:lnTo>
                    <a:pt x="881" y="356"/>
                  </a:lnTo>
                  <a:lnTo>
                    <a:pt x="873" y="349"/>
                  </a:lnTo>
                  <a:lnTo>
                    <a:pt x="863" y="341"/>
                  </a:lnTo>
                  <a:lnTo>
                    <a:pt x="856" y="333"/>
                  </a:lnTo>
                  <a:lnTo>
                    <a:pt x="848" y="323"/>
                  </a:lnTo>
                  <a:lnTo>
                    <a:pt x="840" y="312"/>
                  </a:lnTo>
                  <a:lnTo>
                    <a:pt x="833" y="299"/>
                  </a:lnTo>
                  <a:lnTo>
                    <a:pt x="827" y="285"/>
                  </a:lnTo>
                  <a:lnTo>
                    <a:pt x="815" y="279"/>
                  </a:lnTo>
                  <a:lnTo>
                    <a:pt x="806" y="272"/>
                  </a:lnTo>
                  <a:lnTo>
                    <a:pt x="799" y="266"/>
                  </a:lnTo>
                  <a:lnTo>
                    <a:pt x="793" y="259"/>
                  </a:lnTo>
                  <a:lnTo>
                    <a:pt x="784" y="247"/>
                  </a:lnTo>
                  <a:lnTo>
                    <a:pt x="777" y="235"/>
                  </a:lnTo>
                  <a:lnTo>
                    <a:pt x="775" y="229"/>
                  </a:lnTo>
                  <a:lnTo>
                    <a:pt x="771" y="223"/>
                  </a:lnTo>
                  <a:lnTo>
                    <a:pt x="768" y="219"/>
                  </a:lnTo>
                  <a:lnTo>
                    <a:pt x="763" y="215"/>
                  </a:lnTo>
                  <a:lnTo>
                    <a:pt x="758" y="212"/>
                  </a:lnTo>
                  <a:lnTo>
                    <a:pt x="751" y="209"/>
                  </a:lnTo>
                  <a:lnTo>
                    <a:pt x="744" y="208"/>
                  </a:lnTo>
                  <a:lnTo>
                    <a:pt x="735" y="207"/>
                  </a:lnTo>
                  <a:lnTo>
                    <a:pt x="723" y="209"/>
                  </a:lnTo>
                  <a:lnTo>
                    <a:pt x="713" y="209"/>
                  </a:lnTo>
                  <a:lnTo>
                    <a:pt x="702" y="208"/>
                  </a:lnTo>
                  <a:lnTo>
                    <a:pt x="692" y="205"/>
                  </a:lnTo>
                  <a:lnTo>
                    <a:pt x="668" y="195"/>
                  </a:lnTo>
                  <a:lnTo>
                    <a:pt x="639" y="184"/>
                  </a:lnTo>
                  <a:lnTo>
                    <a:pt x="622" y="178"/>
                  </a:lnTo>
                  <a:lnTo>
                    <a:pt x="601" y="172"/>
                  </a:lnTo>
                  <a:lnTo>
                    <a:pt x="577" y="168"/>
                  </a:lnTo>
                  <a:lnTo>
                    <a:pt x="549" y="165"/>
                  </a:lnTo>
                  <a:lnTo>
                    <a:pt x="518" y="164"/>
                  </a:lnTo>
                  <a:lnTo>
                    <a:pt x="481" y="164"/>
                  </a:lnTo>
                  <a:lnTo>
                    <a:pt x="440" y="165"/>
                  </a:lnTo>
                  <a:lnTo>
                    <a:pt x="395" y="170"/>
                  </a:lnTo>
                  <a:lnTo>
                    <a:pt x="370" y="168"/>
                  </a:lnTo>
                  <a:lnTo>
                    <a:pt x="354" y="167"/>
                  </a:lnTo>
                  <a:lnTo>
                    <a:pt x="341" y="168"/>
                  </a:lnTo>
                  <a:lnTo>
                    <a:pt x="330" y="168"/>
                  </a:lnTo>
                  <a:lnTo>
                    <a:pt x="317" y="170"/>
                  </a:lnTo>
                  <a:lnTo>
                    <a:pt x="297" y="168"/>
                  </a:lnTo>
                  <a:lnTo>
                    <a:pt x="270" y="166"/>
                  </a:lnTo>
                  <a:lnTo>
                    <a:pt x="230" y="161"/>
                  </a:lnTo>
                  <a:lnTo>
                    <a:pt x="220" y="160"/>
                  </a:lnTo>
                  <a:lnTo>
                    <a:pt x="209" y="160"/>
                  </a:lnTo>
                  <a:lnTo>
                    <a:pt x="199" y="161"/>
                  </a:lnTo>
                  <a:lnTo>
                    <a:pt x="191" y="164"/>
                  </a:lnTo>
                  <a:lnTo>
                    <a:pt x="182" y="166"/>
                  </a:lnTo>
                  <a:lnTo>
                    <a:pt x="174" y="170"/>
                  </a:lnTo>
                  <a:lnTo>
                    <a:pt x="167" y="174"/>
                  </a:lnTo>
                  <a:lnTo>
                    <a:pt x="160" y="178"/>
                  </a:lnTo>
                  <a:lnTo>
                    <a:pt x="137" y="198"/>
                  </a:lnTo>
                  <a:lnTo>
                    <a:pt x="117" y="215"/>
                  </a:lnTo>
                  <a:lnTo>
                    <a:pt x="112" y="217"/>
                  </a:lnTo>
                  <a:lnTo>
                    <a:pt x="108" y="221"/>
                  </a:lnTo>
                  <a:lnTo>
                    <a:pt x="103" y="223"/>
                  </a:lnTo>
                  <a:lnTo>
                    <a:pt x="97" y="224"/>
                  </a:lnTo>
                  <a:lnTo>
                    <a:pt x="91" y="224"/>
                  </a:lnTo>
                  <a:lnTo>
                    <a:pt x="85" y="223"/>
                  </a:lnTo>
                  <a:lnTo>
                    <a:pt x="80" y="222"/>
                  </a:lnTo>
                  <a:lnTo>
                    <a:pt x="74" y="219"/>
                  </a:lnTo>
                  <a:lnTo>
                    <a:pt x="67" y="214"/>
                  </a:lnTo>
                  <a:lnTo>
                    <a:pt x="59" y="209"/>
                  </a:lnTo>
                  <a:lnTo>
                    <a:pt x="50" y="201"/>
                  </a:lnTo>
                  <a:lnTo>
                    <a:pt x="42" y="193"/>
                  </a:lnTo>
                  <a:lnTo>
                    <a:pt x="22" y="170"/>
                  </a:lnTo>
                  <a:lnTo>
                    <a:pt x="0" y="138"/>
                  </a:lnTo>
                  <a:lnTo>
                    <a:pt x="942" y="0"/>
                  </a:lnTo>
                  <a:lnTo>
                    <a:pt x="1057" y="98"/>
                  </a:lnTo>
                  <a:lnTo>
                    <a:pt x="1025" y="110"/>
                  </a:lnTo>
                  <a:lnTo>
                    <a:pt x="995" y="124"/>
                  </a:lnTo>
                  <a:lnTo>
                    <a:pt x="983" y="131"/>
                  </a:lnTo>
                  <a:lnTo>
                    <a:pt x="971" y="138"/>
                  </a:lnTo>
                  <a:lnTo>
                    <a:pt x="961" y="144"/>
                  </a:lnTo>
                  <a:lnTo>
                    <a:pt x="952" y="151"/>
                  </a:lnTo>
                  <a:lnTo>
                    <a:pt x="944" y="158"/>
                  </a:lnTo>
                  <a:lnTo>
                    <a:pt x="938" y="164"/>
                  </a:lnTo>
                  <a:lnTo>
                    <a:pt x="933" y="170"/>
                  </a:lnTo>
                  <a:lnTo>
                    <a:pt x="930" y="175"/>
                  </a:lnTo>
                  <a:lnTo>
                    <a:pt x="928" y="180"/>
                  </a:lnTo>
                  <a:lnTo>
                    <a:pt x="928" y="185"/>
                  </a:lnTo>
                  <a:lnTo>
                    <a:pt x="930" y="189"/>
                  </a:lnTo>
                  <a:lnTo>
                    <a:pt x="933" y="19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64" name="Freeform 185"/>
            <p:cNvSpPr/>
            <p:nvPr/>
          </p:nvSpPr>
          <p:spPr>
            <a:xfrm>
              <a:off x="7177680" y="2581920"/>
              <a:ext cx="547200" cy="183600"/>
            </a:xfrm>
            <a:custGeom>
              <a:avLst/>
              <a:gdLst>
                <a:gd name="textAreaLeft" fmla="*/ 0 w 547200"/>
                <a:gd name="textAreaRight" fmla="*/ 547560 w 547200"/>
                <a:gd name="textAreaTop" fmla="*/ 0 h 183600"/>
                <a:gd name="textAreaBottom" fmla="*/ 183600 h 183600"/>
              </a:gdLst>
              <a:ahLst/>
              <a:rect l="textAreaLeft" t="textAreaTop" r="textAreaRight" b="textAreaBottom"/>
              <a:pathLst>
                <a:path w="1244" h="409">
                  <a:moveTo>
                    <a:pt x="933" y="193"/>
                  </a:moveTo>
                  <a:lnTo>
                    <a:pt x="971" y="223"/>
                  </a:lnTo>
                  <a:lnTo>
                    <a:pt x="1011" y="254"/>
                  </a:lnTo>
                  <a:lnTo>
                    <a:pt x="1053" y="283"/>
                  </a:lnTo>
                  <a:lnTo>
                    <a:pt x="1095" y="313"/>
                  </a:lnTo>
                  <a:lnTo>
                    <a:pt x="1137" y="341"/>
                  </a:lnTo>
                  <a:lnTo>
                    <a:pt x="1176" y="367"/>
                  </a:lnTo>
                  <a:lnTo>
                    <a:pt x="1213" y="389"/>
                  </a:lnTo>
                  <a:lnTo>
                    <a:pt x="1244" y="409"/>
                  </a:lnTo>
                  <a:lnTo>
                    <a:pt x="1065" y="401"/>
                  </a:lnTo>
                  <a:lnTo>
                    <a:pt x="1063" y="396"/>
                  </a:lnTo>
                  <a:lnTo>
                    <a:pt x="1060" y="393"/>
                  </a:lnTo>
                  <a:lnTo>
                    <a:pt x="1056" y="390"/>
                  </a:lnTo>
                  <a:lnTo>
                    <a:pt x="1051" y="389"/>
                  </a:lnTo>
                  <a:lnTo>
                    <a:pt x="1041" y="386"/>
                  </a:lnTo>
                  <a:lnTo>
                    <a:pt x="1028" y="384"/>
                  </a:lnTo>
                  <a:lnTo>
                    <a:pt x="998" y="384"/>
                  </a:lnTo>
                  <a:lnTo>
                    <a:pt x="964" y="383"/>
                  </a:lnTo>
                  <a:lnTo>
                    <a:pt x="945" y="382"/>
                  </a:lnTo>
                  <a:lnTo>
                    <a:pt x="926" y="377"/>
                  </a:lnTo>
                  <a:lnTo>
                    <a:pt x="917" y="375"/>
                  </a:lnTo>
                  <a:lnTo>
                    <a:pt x="908" y="372"/>
                  </a:lnTo>
                  <a:lnTo>
                    <a:pt x="898" y="367"/>
                  </a:lnTo>
                  <a:lnTo>
                    <a:pt x="890" y="362"/>
                  </a:lnTo>
                  <a:lnTo>
                    <a:pt x="881" y="356"/>
                  </a:lnTo>
                  <a:lnTo>
                    <a:pt x="873" y="349"/>
                  </a:lnTo>
                  <a:lnTo>
                    <a:pt x="863" y="341"/>
                  </a:lnTo>
                  <a:lnTo>
                    <a:pt x="856" y="333"/>
                  </a:lnTo>
                  <a:lnTo>
                    <a:pt x="848" y="323"/>
                  </a:lnTo>
                  <a:lnTo>
                    <a:pt x="840" y="312"/>
                  </a:lnTo>
                  <a:lnTo>
                    <a:pt x="833" y="299"/>
                  </a:lnTo>
                  <a:lnTo>
                    <a:pt x="827" y="285"/>
                  </a:lnTo>
                  <a:lnTo>
                    <a:pt x="815" y="279"/>
                  </a:lnTo>
                  <a:lnTo>
                    <a:pt x="806" y="272"/>
                  </a:lnTo>
                  <a:lnTo>
                    <a:pt x="799" y="266"/>
                  </a:lnTo>
                  <a:lnTo>
                    <a:pt x="793" y="259"/>
                  </a:lnTo>
                  <a:lnTo>
                    <a:pt x="784" y="247"/>
                  </a:lnTo>
                  <a:lnTo>
                    <a:pt x="777" y="235"/>
                  </a:lnTo>
                  <a:lnTo>
                    <a:pt x="775" y="229"/>
                  </a:lnTo>
                  <a:lnTo>
                    <a:pt x="771" y="223"/>
                  </a:lnTo>
                  <a:lnTo>
                    <a:pt x="768" y="219"/>
                  </a:lnTo>
                  <a:lnTo>
                    <a:pt x="763" y="215"/>
                  </a:lnTo>
                  <a:lnTo>
                    <a:pt x="758" y="212"/>
                  </a:lnTo>
                  <a:lnTo>
                    <a:pt x="751" y="209"/>
                  </a:lnTo>
                  <a:lnTo>
                    <a:pt x="744" y="208"/>
                  </a:lnTo>
                  <a:lnTo>
                    <a:pt x="735" y="207"/>
                  </a:lnTo>
                  <a:lnTo>
                    <a:pt x="723" y="209"/>
                  </a:lnTo>
                  <a:lnTo>
                    <a:pt x="713" y="209"/>
                  </a:lnTo>
                  <a:lnTo>
                    <a:pt x="702" y="208"/>
                  </a:lnTo>
                  <a:lnTo>
                    <a:pt x="692" y="205"/>
                  </a:lnTo>
                  <a:lnTo>
                    <a:pt x="668" y="195"/>
                  </a:lnTo>
                  <a:lnTo>
                    <a:pt x="639" y="184"/>
                  </a:lnTo>
                  <a:lnTo>
                    <a:pt x="622" y="178"/>
                  </a:lnTo>
                  <a:lnTo>
                    <a:pt x="601" y="172"/>
                  </a:lnTo>
                  <a:lnTo>
                    <a:pt x="577" y="168"/>
                  </a:lnTo>
                  <a:lnTo>
                    <a:pt x="549" y="165"/>
                  </a:lnTo>
                  <a:lnTo>
                    <a:pt x="518" y="164"/>
                  </a:lnTo>
                  <a:lnTo>
                    <a:pt x="481" y="164"/>
                  </a:lnTo>
                  <a:lnTo>
                    <a:pt x="440" y="165"/>
                  </a:lnTo>
                  <a:lnTo>
                    <a:pt x="395" y="170"/>
                  </a:lnTo>
                  <a:lnTo>
                    <a:pt x="370" y="168"/>
                  </a:lnTo>
                  <a:lnTo>
                    <a:pt x="354" y="167"/>
                  </a:lnTo>
                  <a:lnTo>
                    <a:pt x="341" y="168"/>
                  </a:lnTo>
                  <a:lnTo>
                    <a:pt x="330" y="168"/>
                  </a:lnTo>
                  <a:lnTo>
                    <a:pt x="317" y="170"/>
                  </a:lnTo>
                  <a:lnTo>
                    <a:pt x="297" y="168"/>
                  </a:lnTo>
                  <a:lnTo>
                    <a:pt x="270" y="166"/>
                  </a:lnTo>
                  <a:lnTo>
                    <a:pt x="230" y="161"/>
                  </a:lnTo>
                  <a:lnTo>
                    <a:pt x="220" y="160"/>
                  </a:lnTo>
                  <a:lnTo>
                    <a:pt x="209" y="160"/>
                  </a:lnTo>
                  <a:lnTo>
                    <a:pt x="199" y="161"/>
                  </a:lnTo>
                  <a:lnTo>
                    <a:pt x="191" y="164"/>
                  </a:lnTo>
                  <a:lnTo>
                    <a:pt x="182" y="166"/>
                  </a:lnTo>
                  <a:lnTo>
                    <a:pt x="174" y="170"/>
                  </a:lnTo>
                  <a:lnTo>
                    <a:pt x="167" y="174"/>
                  </a:lnTo>
                  <a:lnTo>
                    <a:pt x="160" y="178"/>
                  </a:lnTo>
                  <a:lnTo>
                    <a:pt x="137" y="198"/>
                  </a:lnTo>
                  <a:lnTo>
                    <a:pt x="117" y="215"/>
                  </a:lnTo>
                  <a:lnTo>
                    <a:pt x="112" y="217"/>
                  </a:lnTo>
                  <a:lnTo>
                    <a:pt x="108" y="221"/>
                  </a:lnTo>
                  <a:lnTo>
                    <a:pt x="103" y="223"/>
                  </a:lnTo>
                  <a:lnTo>
                    <a:pt x="97" y="224"/>
                  </a:lnTo>
                  <a:lnTo>
                    <a:pt x="91" y="224"/>
                  </a:lnTo>
                  <a:lnTo>
                    <a:pt x="85" y="223"/>
                  </a:lnTo>
                  <a:lnTo>
                    <a:pt x="80" y="222"/>
                  </a:lnTo>
                  <a:lnTo>
                    <a:pt x="74" y="219"/>
                  </a:lnTo>
                  <a:lnTo>
                    <a:pt x="67" y="214"/>
                  </a:lnTo>
                  <a:lnTo>
                    <a:pt x="59" y="209"/>
                  </a:lnTo>
                  <a:lnTo>
                    <a:pt x="50" y="201"/>
                  </a:lnTo>
                  <a:lnTo>
                    <a:pt x="42" y="193"/>
                  </a:lnTo>
                  <a:lnTo>
                    <a:pt x="22" y="170"/>
                  </a:lnTo>
                  <a:lnTo>
                    <a:pt x="0" y="138"/>
                  </a:lnTo>
                  <a:lnTo>
                    <a:pt x="942" y="0"/>
                  </a:lnTo>
                  <a:lnTo>
                    <a:pt x="1057" y="98"/>
                  </a:lnTo>
                  <a:lnTo>
                    <a:pt x="1025" y="110"/>
                  </a:lnTo>
                  <a:lnTo>
                    <a:pt x="995" y="124"/>
                  </a:lnTo>
                  <a:lnTo>
                    <a:pt x="983" y="131"/>
                  </a:lnTo>
                  <a:lnTo>
                    <a:pt x="971" y="138"/>
                  </a:lnTo>
                  <a:lnTo>
                    <a:pt x="961" y="144"/>
                  </a:lnTo>
                  <a:lnTo>
                    <a:pt x="952" y="151"/>
                  </a:lnTo>
                  <a:lnTo>
                    <a:pt x="944" y="158"/>
                  </a:lnTo>
                  <a:lnTo>
                    <a:pt x="938" y="164"/>
                  </a:lnTo>
                  <a:lnTo>
                    <a:pt x="933" y="170"/>
                  </a:lnTo>
                  <a:lnTo>
                    <a:pt x="930" y="175"/>
                  </a:lnTo>
                  <a:lnTo>
                    <a:pt x="928" y="180"/>
                  </a:lnTo>
                  <a:lnTo>
                    <a:pt x="928" y="185"/>
                  </a:lnTo>
                  <a:lnTo>
                    <a:pt x="930" y="189"/>
                  </a:lnTo>
                  <a:lnTo>
                    <a:pt x="933" y="193"/>
                  </a:lnTo>
                  <a:close/>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65" name="Freeform 186"/>
            <p:cNvSpPr/>
            <p:nvPr/>
          </p:nvSpPr>
          <p:spPr>
            <a:xfrm>
              <a:off x="7610400" y="2261520"/>
              <a:ext cx="253080" cy="134280"/>
            </a:xfrm>
            <a:custGeom>
              <a:avLst/>
              <a:gdLst>
                <a:gd name="textAreaLeft" fmla="*/ 0 w 253080"/>
                <a:gd name="textAreaRight" fmla="*/ 253440 w 253080"/>
                <a:gd name="textAreaTop" fmla="*/ 0 h 134280"/>
                <a:gd name="textAreaBottom" fmla="*/ 134640 h 134280"/>
              </a:gdLst>
              <a:ahLst/>
              <a:rect l="textAreaLeft" t="textAreaTop" r="textAreaRight" b="textAreaBottom"/>
              <a:pathLst>
                <a:path w="573" h="294">
                  <a:moveTo>
                    <a:pt x="573" y="116"/>
                  </a:moveTo>
                  <a:lnTo>
                    <a:pt x="547" y="124"/>
                  </a:lnTo>
                  <a:lnTo>
                    <a:pt x="521" y="132"/>
                  </a:lnTo>
                  <a:lnTo>
                    <a:pt x="496" y="140"/>
                  </a:lnTo>
                  <a:lnTo>
                    <a:pt x="470" y="150"/>
                  </a:lnTo>
                  <a:lnTo>
                    <a:pt x="442" y="159"/>
                  </a:lnTo>
                  <a:lnTo>
                    <a:pt x="413" y="168"/>
                  </a:lnTo>
                  <a:lnTo>
                    <a:pt x="381" y="178"/>
                  </a:lnTo>
                  <a:lnTo>
                    <a:pt x="348" y="188"/>
                  </a:lnTo>
                  <a:lnTo>
                    <a:pt x="351" y="194"/>
                  </a:lnTo>
                  <a:lnTo>
                    <a:pt x="352" y="201"/>
                  </a:lnTo>
                  <a:lnTo>
                    <a:pt x="352" y="208"/>
                  </a:lnTo>
                  <a:lnTo>
                    <a:pt x="351" y="214"/>
                  </a:lnTo>
                  <a:lnTo>
                    <a:pt x="348" y="220"/>
                  </a:lnTo>
                  <a:lnTo>
                    <a:pt x="346" y="225"/>
                  </a:lnTo>
                  <a:lnTo>
                    <a:pt x="341" y="230"/>
                  </a:lnTo>
                  <a:lnTo>
                    <a:pt x="337" y="236"/>
                  </a:lnTo>
                  <a:lnTo>
                    <a:pt x="326" y="245"/>
                  </a:lnTo>
                  <a:lnTo>
                    <a:pt x="312" y="255"/>
                  </a:lnTo>
                  <a:lnTo>
                    <a:pt x="297" y="262"/>
                  </a:lnTo>
                  <a:lnTo>
                    <a:pt x="281" y="269"/>
                  </a:lnTo>
                  <a:lnTo>
                    <a:pt x="248" y="280"/>
                  </a:lnTo>
                  <a:lnTo>
                    <a:pt x="219" y="289"/>
                  </a:lnTo>
                  <a:lnTo>
                    <a:pt x="198" y="292"/>
                  </a:lnTo>
                  <a:lnTo>
                    <a:pt x="190" y="294"/>
                  </a:lnTo>
                  <a:lnTo>
                    <a:pt x="0" y="47"/>
                  </a:lnTo>
                  <a:lnTo>
                    <a:pt x="478" y="0"/>
                  </a:lnTo>
                  <a:lnTo>
                    <a:pt x="573" y="11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66" name="Freeform 187"/>
            <p:cNvSpPr/>
            <p:nvPr/>
          </p:nvSpPr>
          <p:spPr>
            <a:xfrm>
              <a:off x="7610400" y="2261520"/>
              <a:ext cx="253080" cy="134280"/>
            </a:xfrm>
            <a:custGeom>
              <a:avLst/>
              <a:gdLst>
                <a:gd name="textAreaLeft" fmla="*/ 0 w 253080"/>
                <a:gd name="textAreaRight" fmla="*/ 253440 w 253080"/>
                <a:gd name="textAreaTop" fmla="*/ 0 h 134280"/>
                <a:gd name="textAreaBottom" fmla="*/ 134640 h 134280"/>
              </a:gdLst>
              <a:ahLst/>
              <a:rect l="textAreaLeft" t="textAreaTop" r="textAreaRight" b="textAreaBottom"/>
              <a:pathLst>
                <a:path w="573" h="294">
                  <a:moveTo>
                    <a:pt x="573" y="116"/>
                  </a:moveTo>
                  <a:lnTo>
                    <a:pt x="547" y="124"/>
                  </a:lnTo>
                  <a:lnTo>
                    <a:pt x="521" y="132"/>
                  </a:lnTo>
                  <a:lnTo>
                    <a:pt x="496" y="140"/>
                  </a:lnTo>
                  <a:lnTo>
                    <a:pt x="470" y="150"/>
                  </a:lnTo>
                  <a:lnTo>
                    <a:pt x="442" y="159"/>
                  </a:lnTo>
                  <a:lnTo>
                    <a:pt x="413" y="168"/>
                  </a:lnTo>
                  <a:lnTo>
                    <a:pt x="381" y="178"/>
                  </a:lnTo>
                  <a:lnTo>
                    <a:pt x="348" y="188"/>
                  </a:lnTo>
                  <a:lnTo>
                    <a:pt x="351" y="194"/>
                  </a:lnTo>
                  <a:lnTo>
                    <a:pt x="352" y="201"/>
                  </a:lnTo>
                  <a:lnTo>
                    <a:pt x="352" y="208"/>
                  </a:lnTo>
                  <a:lnTo>
                    <a:pt x="351" y="214"/>
                  </a:lnTo>
                  <a:lnTo>
                    <a:pt x="348" y="220"/>
                  </a:lnTo>
                  <a:lnTo>
                    <a:pt x="346" y="225"/>
                  </a:lnTo>
                  <a:lnTo>
                    <a:pt x="341" y="230"/>
                  </a:lnTo>
                  <a:lnTo>
                    <a:pt x="337" y="236"/>
                  </a:lnTo>
                  <a:lnTo>
                    <a:pt x="326" y="245"/>
                  </a:lnTo>
                  <a:lnTo>
                    <a:pt x="312" y="255"/>
                  </a:lnTo>
                  <a:lnTo>
                    <a:pt x="297" y="262"/>
                  </a:lnTo>
                  <a:lnTo>
                    <a:pt x="281" y="269"/>
                  </a:lnTo>
                  <a:lnTo>
                    <a:pt x="248" y="280"/>
                  </a:lnTo>
                  <a:lnTo>
                    <a:pt x="219" y="289"/>
                  </a:lnTo>
                  <a:lnTo>
                    <a:pt x="198" y="292"/>
                  </a:lnTo>
                  <a:lnTo>
                    <a:pt x="190" y="294"/>
                  </a:lnTo>
                  <a:lnTo>
                    <a:pt x="0" y="47"/>
                  </a:lnTo>
                  <a:lnTo>
                    <a:pt x="478" y="0"/>
                  </a:lnTo>
                  <a:lnTo>
                    <a:pt x="573" y="116"/>
                  </a:lnTo>
                </a:path>
              </a:pathLst>
            </a:custGeom>
            <a:solidFill>
              <a:srgbClr val="93d5ed"/>
            </a:solidFill>
            <a:ln w="468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67" name="Freeform 188"/>
            <p:cNvSpPr/>
            <p:nvPr/>
          </p:nvSpPr>
          <p:spPr>
            <a:xfrm>
              <a:off x="7821720" y="2257560"/>
              <a:ext cx="133920" cy="56520"/>
            </a:xfrm>
            <a:custGeom>
              <a:avLst/>
              <a:gdLst>
                <a:gd name="textAreaLeft" fmla="*/ 0 w 133920"/>
                <a:gd name="textAreaRight" fmla="*/ 134280 w 133920"/>
                <a:gd name="textAreaTop" fmla="*/ 0 h 56520"/>
                <a:gd name="textAreaBottom" fmla="*/ 56880 h 56520"/>
              </a:gdLst>
              <a:ahLst/>
              <a:rect l="textAreaLeft" t="textAreaTop" r="textAreaRight" b="textAreaBottom"/>
              <a:pathLst>
                <a:path w="303" h="124">
                  <a:moveTo>
                    <a:pt x="95" y="124"/>
                  </a:moveTo>
                  <a:lnTo>
                    <a:pt x="118" y="117"/>
                  </a:lnTo>
                  <a:lnTo>
                    <a:pt x="141" y="111"/>
                  </a:lnTo>
                  <a:lnTo>
                    <a:pt x="165" y="106"/>
                  </a:lnTo>
                  <a:lnTo>
                    <a:pt x="191" y="100"/>
                  </a:lnTo>
                  <a:lnTo>
                    <a:pt x="216" y="96"/>
                  </a:lnTo>
                  <a:lnTo>
                    <a:pt x="243" y="92"/>
                  </a:lnTo>
                  <a:lnTo>
                    <a:pt x="272" y="89"/>
                  </a:lnTo>
                  <a:lnTo>
                    <a:pt x="303" y="86"/>
                  </a:lnTo>
                  <a:lnTo>
                    <a:pt x="294" y="78"/>
                  </a:lnTo>
                  <a:lnTo>
                    <a:pt x="273" y="61"/>
                  </a:lnTo>
                  <a:lnTo>
                    <a:pt x="259" y="51"/>
                  </a:lnTo>
                  <a:lnTo>
                    <a:pt x="244" y="42"/>
                  </a:lnTo>
                  <a:lnTo>
                    <a:pt x="236" y="38"/>
                  </a:lnTo>
                  <a:lnTo>
                    <a:pt x="228" y="35"/>
                  </a:lnTo>
                  <a:lnTo>
                    <a:pt x="219" y="33"/>
                  </a:lnTo>
                  <a:lnTo>
                    <a:pt x="210" y="31"/>
                  </a:lnTo>
                  <a:lnTo>
                    <a:pt x="185" y="28"/>
                  </a:lnTo>
                  <a:lnTo>
                    <a:pt x="158" y="24"/>
                  </a:lnTo>
                  <a:lnTo>
                    <a:pt x="133" y="19"/>
                  </a:lnTo>
                  <a:lnTo>
                    <a:pt x="111" y="14"/>
                  </a:lnTo>
                  <a:lnTo>
                    <a:pt x="76" y="3"/>
                  </a:lnTo>
                  <a:lnTo>
                    <a:pt x="63" y="0"/>
                  </a:lnTo>
                  <a:lnTo>
                    <a:pt x="0" y="8"/>
                  </a:lnTo>
                  <a:lnTo>
                    <a:pt x="95" y="124"/>
                  </a:lnTo>
                  <a:close/>
                </a:path>
              </a:pathLst>
            </a:custGeom>
            <a:solidFill>
              <a:srgbClr val="93d5ed"/>
            </a:solidFill>
            <a:ln w="9360">
              <a:solidFill>
                <a:srgbClr val="ccecff"/>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Times New Roman"/>
              </a:endParaRPr>
            </a:p>
          </p:txBody>
        </p:sp>
        <p:sp>
          <p:nvSpPr>
            <p:cNvPr id="668" name="Freeform 189"/>
            <p:cNvSpPr/>
            <p:nvPr/>
          </p:nvSpPr>
          <p:spPr>
            <a:xfrm>
              <a:off x="7821720" y="2257560"/>
              <a:ext cx="133920" cy="56520"/>
            </a:xfrm>
            <a:custGeom>
              <a:avLst/>
              <a:gdLst>
                <a:gd name="textAreaLeft" fmla="*/ 0 w 133920"/>
                <a:gd name="textAreaRight" fmla="*/ 134280 w 133920"/>
                <a:gd name="textAreaTop" fmla="*/ 0 h 56520"/>
                <a:gd name="textAreaBottom" fmla="*/ 56880 h 56520"/>
              </a:gdLst>
              <a:ahLst/>
              <a:rect l="textAreaLeft" t="textAreaTop" r="textAreaRight" b="textAreaBottom"/>
              <a:pathLst>
                <a:path w="303" h="124">
                  <a:moveTo>
                    <a:pt x="95" y="124"/>
                  </a:moveTo>
                  <a:lnTo>
                    <a:pt x="118" y="117"/>
                  </a:lnTo>
                  <a:lnTo>
                    <a:pt x="141" y="111"/>
                  </a:lnTo>
                  <a:lnTo>
                    <a:pt x="165" y="106"/>
                  </a:lnTo>
                  <a:lnTo>
                    <a:pt x="191" y="100"/>
                  </a:lnTo>
                  <a:lnTo>
                    <a:pt x="216" y="96"/>
                  </a:lnTo>
                  <a:lnTo>
                    <a:pt x="243" y="92"/>
                  </a:lnTo>
                  <a:lnTo>
                    <a:pt x="272" y="89"/>
                  </a:lnTo>
                  <a:lnTo>
                    <a:pt x="303" y="86"/>
                  </a:lnTo>
                  <a:lnTo>
                    <a:pt x="294" y="78"/>
                  </a:lnTo>
                  <a:lnTo>
                    <a:pt x="273" y="61"/>
                  </a:lnTo>
                  <a:lnTo>
                    <a:pt x="259" y="51"/>
                  </a:lnTo>
                  <a:lnTo>
                    <a:pt x="244" y="42"/>
                  </a:lnTo>
                  <a:lnTo>
                    <a:pt x="236" y="38"/>
                  </a:lnTo>
                  <a:lnTo>
                    <a:pt x="228" y="35"/>
                  </a:lnTo>
                  <a:lnTo>
                    <a:pt x="219" y="33"/>
                  </a:lnTo>
                  <a:lnTo>
                    <a:pt x="210" y="31"/>
                  </a:lnTo>
                  <a:lnTo>
                    <a:pt x="185" y="28"/>
                  </a:lnTo>
                  <a:lnTo>
                    <a:pt x="158" y="24"/>
                  </a:lnTo>
                  <a:lnTo>
                    <a:pt x="133" y="19"/>
                  </a:lnTo>
                  <a:lnTo>
                    <a:pt x="111" y="14"/>
                  </a:lnTo>
                  <a:lnTo>
                    <a:pt x="76" y="3"/>
                  </a:lnTo>
                  <a:lnTo>
                    <a:pt x="63" y="0"/>
                  </a:lnTo>
                  <a:lnTo>
                    <a:pt x="0" y="8"/>
                  </a:lnTo>
                  <a:lnTo>
                    <a:pt x="95" y="124"/>
                  </a:lnTo>
                </a:path>
              </a:pathLst>
            </a:custGeom>
            <a:solidFill>
              <a:srgbClr val="93d5ed"/>
            </a:solidFill>
            <a:ln w="4680">
              <a:solidFill>
                <a:srgbClr val="ccecff"/>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Times New Roman"/>
              </a:endParaRPr>
            </a:p>
          </p:txBody>
        </p:sp>
        <p:grpSp>
          <p:nvGrpSpPr>
            <p:cNvPr id="669" name="Group 190"/>
            <p:cNvGrpSpPr/>
            <p:nvPr/>
          </p:nvGrpSpPr>
          <p:grpSpPr>
            <a:xfrm>
              <a:off x="1122840" y="4107600"/>
              <a:ext cx="768600" cy="591120"/>
              <a:chOff x="1122840" y="4107600"/>
              <a:chExt cx="768600" cy="591120"/>
            </a:xfrm>
          </p:grpSpPr>
          <p:sp>
            <p:nvSpPr>
              <p:cNvPr id="670" name="Freeform 191"/>
              <p:cNvSpPr/>
              <p:nvPr/>
            </p:nvSpPr>
            <p:spPr>
              <a:xfrm>
                <a:off x="1641240" y="4520160"/>
                <a:ext cx="179640" cy="72360"/>
              </a:xfrm>
              <a:custGeom>
                <a:avLst/>
                <a:gdLst>
                  <a:gd name="textAreaLeft" fmla="*/ 0 w 179640"/>
                  <a:gd name="textAreaRight" fmla="*/ 180000 w 179640"/>
                  <a:gd name="textAreaTop" fmla="*/ 0 h 72360"/>
                  <a:gd name="textAreaBottom" fmla="*/ 72720 h 72360"/>
                </a:gdLst>
                <a:ahLst/>
                <a:rect l="textAreaLeft" t="textAreaTop" r="textAreaRight" b="textAreaBottom"/>
                <a:pathLst>
                  <a:path w="406" h="162">
                    <a:moveTo>
                      <a:pt x="372" y="130"/>
                    </a:moveTo>
                    <a:lnTo>
                      <a:pt x="364" y="136"/>
                    </a:lnTo>
                    <a:lnTo>
                      <a:pt x="353" y="141"/>
                    </a:lnTo>
                    <a:lnTo>
                      <a:pt x="340" y="145"/>
                    </a:lnTo>
                    <a:lnTo>
                      <a:pt x="326" y="149"/>
                    </a:lnTo>
                    <a:lnTo>
                      <a:pt x="311" y="152"/>
                    </a:lnTo>
                    <a:lnTo>
                      <a:pt x="295" y="156"/>
                    </a:lnTo>
                    <a:lnTo>
                      <a:pt x="278" y="158"/>
                    </a:lnTo>
                    <a:lnTo>
                      <a:pt x="262" y="160"/>
                    </a:lnTo>
                    <a:lnTo>
                      <a:pt x="246" y="162"/>
                    </a:lnTo>
                    <a:lnTo>
                      <a:pt x="230" y="162"/>
                    </a:lnTo>
                    <a:lnTo>
                      <a:pt x="215" y="162"/>
                    </a:lnTo>
                    <a:lnTo>
                      <a:pt x="202" y="160"/>
                    </a:lnTo>
                    <a:lnTo>
                      <a:pt x="191" y="159"/>
                    </a:lnTo>
                    <a:lnTo>
                      <a:pt x="181" y="156"/>
                    </a:lnTo>
                    <a:lnTo>
                      <a:pt x="178" y="155"/>
                    </a:lnTo>
                    <a:lnTo>
                      <a:pt x="174" y="152"/>
                    </a:lnTo>
                    <a:lnTo>
                      <a:pt x="172" y="150"/>
                    </a:lnTo>
                    <a:lnTo>
                      <a:pt x="171" y="148"/>
                    </a:lnTo>
                    <a:lnTo>
                      <a:pt x="167" y="141"/>
                    </a:lnTo>
                    <a:lnTo>
                      <a:pt x="163" y="135"/>
                    </a:lnTo>
                    <a:lnTo>
                      <a:pt x="158" y="129"/>
                    </a:lnTo>
                    <a:lnTo>
                      <a:pt x="153" y="124"/>
                    </a:lnTo>
                    <a:lnTo>
                      <a:pt x="142" y="115"/>
                    </a:lnTo>
                    <a:lnTo>
                      <a:pt x="130" y="107"/>
                    </a:lnTo>
                    <a:lnTo>
                      <a:pt x="116" y="101"/>
                    </a:lnTo>
                    <a:lnTo>
                      <a:pt x="102" y="96"/>
                    </a:lnTo>
                    <a:lnTo>
                      <a:pt x="87" y="92"/>
                    </a:lnTo>
                    <a:lnTo>
                      <a:pt x="73" y="89"/>
                    </a:lnTo>
                    <a:lnTo>
                      <a:pt x="46" y="85"/>
                    </a:lnTo>
                    <a:lnTo>
                      <a:pt x="22" y="83"/>
                    </a:lnTo>
                    <a:lnTo>
                      <a:pt x="6" y="83"/>
                    </a:lnTo>
                    <a:lnTo>
                      <a:pt x="0" y="85"/>
                    </a:lnTo>
                    <a:lnTo>
                      <a:pt x="79" y="6"/>
                    </a:lnTo>
                    <a:lnTo>
                      <a:pt x="93" y="4"/>
                    </a:lnTo>
                    <a:lnTo>
                      <a:pt x="107" y="4"/>
                    </a:lnTo>
                    <a:lnTo>
                      <a:pt x="121" y="4"/>
                    </a:lnTo>
                    <a:lnTo>
                      <a:pt x="133" y="5"/>
                    </a:lnTo>
                    <a:lnTo>
                      <a:pt x="159" y="9"/>
                    </a:lnTo>
                    <a:lnTo>
                      <a:pt x="185" y="13"/>
                    </a:lnTo>
                    <a:lnTo>
                      <a:pt x="196" y="14"/>
                    </a:lnTo>
                    <a:lnTo>
                      <a:pt x="209" y="17"/>
                    </a:lnTo>
                    <a:lnTo>
                      <a:pt x="221" y="18"/>
                    </a:lnTo>
                    <a:lnTo>
                      <a:pt x="233" y="18"/>
                    </a:lnTo>
                    <a:lnTo>
                      <a:pt x="244" y="17"/>
                    </a:lnTo>
                    <a:lnTo>
                      <a:pt x="256" y="14"/>
                    </a:lnTo>
                    <a:lnTo>
                      <a:pt x="268" y="11"/>
                    </a:lnTo>
                    <a:lnTo>
                      <a:pt x="279" y="6"/>
                    </a:lnTo>
                    <a:lnTo>
                      <a:pt x="285" y="4"/>
                    </a:lnTo>
                    <a:lnTo>
                      <a:pt x="292" y="3"/>
                    </a:lnTo>
                    <a:lnTo>
                      <a:pt x="298" y="2"/>
                    </a:lnTo>
                    <a:lnTo>
                      <a:pt x="305" y="0"/>
                    </a:lnTo>
                    <a:lnTo>
                      <a:pt x="319" y="2"/>
                    </a:lnTo>
                    <a:lnTo>
                      <a:pt x="333" y="5"/>
                    </a:lnTo>
                    <a:lnTo>
                      <a:pt x="347" y="10"/>
                    </a:lnTo>
                    <a:lnTo>
                      <a:pt x="360" y="17"/>
                    </a:lnTo>
                    <a:lnTo>
                      <a:pt x="373" y="25"/>
                    </a:lnTo>
                    <a:lnTo>
                      <a:pt x="383" y="34"/>
                    </a:lnTo>
                    <a:lnTo>
                      <a:pt x="393" y="45"/>
                    </a:lnTo>
                    <a:lnTo>
                      <a:pt x="400" y="57"/>
                    </a:lnTo>
                    <a:lnTo>
                      <a:pt x="402" y="62"/>
                    </a:lnTo>
                    <a:lnTo>
                      <a:pt x="403" y="69"/>
                    </a:lnTo>
                    <a:lnTo>
                      <a:pt x="404" y="75"/>
                    </a:lnTo>
                    <a:lnTo>
                      <a:pt x="406" y="81"/>
                    </a:lnTo>
                    <a:lnTo>
                      <a:pt x="404" y="88"/>
                    </a:lnTo>
                    <a:lnTo>
                      <a:pt x="403" y="94"/>
                    </a:lnTo>
                    <a:lnTo>
                      <a:pt x="401" y="100"/>
                    </a:lnTo>
                    <a:lnTo>
                      <a:pt x="397" y="107"/>
                    </a:lnTo>
                    <a:lnTo>
                      <a:pt x="393" y="113"/>
                    </a:lnTo>
                    <a:lnTo>
                      <a:pt x="387" y="118"/>
                    </a:lnTo>
                    <a:lnTo>
                      <a:pt x="380" y="124"/>
                    </a:lnTo>
                    <a:lnTo>
                      <a:pt x="372" y="130"/>
                    </a:lnTo>
                    <a:close/>
                  </a:path>
                </a:pathLst>
              </a:custGeom>
              <a:solidFill>
                <a:srgbClr val="93d5ed"/>
              </a:solidFill>
              <a:ln w="936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671" name="Freeform 192"/>
              <p:cNvSpPr/>
              <p:nvPr/>
            </p:nvSpPr>
            <p:spPr>
              <a:xfrm>
                <a:off x="1604160" y="4429440"/>
                <a:ext cx="287280" cy="269280"/>
              </a:xfrm>
              <a:custGeom>
                <a:avLst/>
                <a:gdLst>
                  <a:gd name="textAreaLeft" fmla="*/ 0 w 287280"/>
                  <a:gd name="textAreaRight" fmla="*/ 287640 w 287280"/>
                  <a:gd name="textAreaTop" fmla="*/ 0 h 269280"/>
                  <a:gd name="textAreaBottom" fmla="*/ 269640 h 269280"/>
                </a:gdLst>
                <a:ahLst/>
                <a:rect l="textAreaLeft" t="textAreaTop" r="textAreaRight" b="textAreaBottom"/>
                <a:pathLst>
                  <a:path w="655" h="595">
                    <a:moveTo>
                      <a:pt x="9" y="419"/>
                    </a:moveTo>
                    <a:lnTo>
                      <a:pt x="8" y="401"/>
                    </a:lnTo>
                    <a:lnTo>
                      <a:pt x="9" y="386"/>
                    </a:lnTo>
                    <a:lnTo>
                      <a:pt x="10" y="371"/>
                    </a:lnTo>
                    <a:lnTo>
                      <a:pt x="13" y="358"/>
                    </a:lnTo>
                    <a:lnTo>
                      <a:pt x="17" y="345"/>
                    </a:lnTo>
                    <a:lnTo>
                      <a:pt x="22" y="333"/>
                    </a:lnTo>
                    <a:lnTo>
                      <a:pt x="28" y="322"/>
                    </a:lnTo>
                    <a:lnTo>
                      <a:pt x="34" y="312"/>
                    </a:lnTo>
                    <a:lnTo>
                      <a:pt x="42" y="303"/>
                    </a:lnTo>
                    <a:lnTo>
                      <a:pt x="49" y="294"/>
                    </a:lnTo>
                    <a:lnTo>
                      <a:pt x="58" y="285"/>
                    </a:lnTo>
                    <a:lnTo>
                      <a:pt x="68" y="277"/>
                    </a:lnTo>
                    <a:lnTo>
                      <a:pt x="87" y="263"/>
                    </a:lnTo>
                    <a:lnTo>
                      <a:pt x="107" y="250"/>
                    </a:lnTo>
                    <a:lnTo>
                      <a:pt x="152" y="226"/>
                    </a:lnTo>
                    <a:lnTo>
                      <a:pt x="194" y="199"/>
                    </a:lnTo>
                    <a:lnTo>
                      <a:pt x="204" y="192"/>
                    </a:lnTo>
                    <a:lnTo>
                      <a:pt x="214" y="184"/>
                    </a:lnTo>
                    <a:lnTo>
                      <a:pt x="222" y="176"/>
                    </a:lnTo>
                    <a:lnTo>
                      <a:pt x="230" y="167"/>
                    </a:lnTo>
                    <a:lnTo>
                      <a:pt x="238" y="158"/>
                    </a:lnTo>
                    <a:lnTo>
                      <a:pt x="245" y="148"/>
                    </a:lnTo>
                    <a:lnTo>
                      <a:pt x="251" y="137"/>
                    </a:lnTo>
                    <a:lnTo>
                      <a:pt x="257" y="124"/>
                    </a:lnTo>
                    <a:lnTo>
                      <a:pt x="267" y="97"/>
                    </a:lnTo>
                    <a:lnTo>
                      <a:pt x="277" y="75"/>
                    </a:lnTo>
                    <a:lnTo>
                      <a:pt x="286" y="56"/>
                    </a:lnTo>
                    <a:lnTo>
                      <a:pt x="294" y="41"/>
                    </a:lnTo>
                    <a:lnTo>
                      <a:pt x="302" y="30"/>
                    </a:lnTo>
                    <a:lnTo>
                      <a:pt x="311" y="21"/>
                    </a:lnTo>
                    <a:lnTo>
                      <a:pt x="319" y="14"/>
                    </a:lnTo>
                    <a:lnTo>
                      <a:pt x="329" y="10"/>
                    </a:lnTo>
                    <a:lnTo>
                      <a:pt x="340" y="7"/>
                    </a:lnTo>
                    <a:lnTo>
                      <a:pt x="351" y="5"/>
                    </a:lnTo>
                    <a:lnTo>
                      <a:pt x="365" y="5"/>
                    </a:lnTo>
                    <a:lnTo>
                      <a:pt x="382" y="4"/>
                    </a:lnTo>
                    <a:lnTo>
                      <a:pt x="421" y="4"/>
                    </a:lnTo>
                    <a:lnTo>
                      <a:pt x="473" y="0"/>
                    </a:lnTo>
                    <a:lnTo>
                      <a:pt x="481" y="2"/>
                    </a:lnTo>
                    <a:lnTo>
                      <a:pt x="492" y="5"/>
                    </a:lnTo>
                    <a:lnTo>
                      <a:pt x="501" y="10"/>
                    </a:lnTo>
                    <a:lnTo>
                      <a:pt x="513" y="16"/>
                    </a:lnTo>
                    <a:lnTo>
                      <a:pt x="535" y="31"/>
                    </a:lnTo>
                    <a:lnTo>
                      <a:pt x="557" y="49"/>
                    </a:lnTo>
                    <a:lnTo>
                      <a:pt x="580" y="68"/>
                    </a:lnTo>
                    <a:lnTo>
                      <a:pt x="603" y="86"/>
                    </a:lnTo>
                    <a:lnTo>
                      <a:pt x="613" y="94"/>
                    </a:lnTo>
                    <a:lnTo>
                      <a:pt x="624" y="101"/>
                    </a:lnTo>
                    <a:lnTo>
                      <a:pt x="633" y="107"/>
                    </a:lnTo>
                    <a:lnTo>
                      <a:pt x="642" y="110"/>
                    </a:lnTo>
                    <a:lnTo>
                      <a:pt x="647" y="113"/>
                    </a:lnTo>
                    <a:lnTo>
                      <a:pt x="649" y="115"/>
                    </a:lnTo>
                    <a:lnTo>
                      <a:pt x="652" y="118"/>
                    </a:lnTo>
                    <a:lnTo>
                      <a:pt x="654" y="123"/>
                    </a:lnTo>
                    <a:lnTo>
                      <a:pt x="654" y="129"/>
                    </a:lnTo>
                    <a:lnTo>
                      <a:pt x="655" y="135"/>
                    </a:lnTo>
                    <a:lnTo>
                      <a:pt x="654" y="141"/>
                    </a:lnTo>
                    <a:lnTo>
                      <a:pt x="653" y="149"/>
                    </a:lnTo>
                    <a:lnTo>
                      <a:pt x="649" y="164"/>
                    </a:lnTo>
                    <a:lnTo>
                      <a:pt x="642" y="181"/>
                    </a:lnTo>
                    <a:lnTo>
                      <a:pt x="634" y="201"/>
                    </a:lnTo>
                    <a:lnTo>
                      <a:pt x="624" y="221"/>
                    </a:lnTo>
                    <a:lnTo>
                      <a:pt x="611" y="241"/>
                    </a:lnTo>
                    <a:lnTo>
                      <a:pt x="597" y="261"/>
                    </a:lnTo>
                    <a:lnTo>
                      <a:pt x="580" y="281"/>
                    </a:lnTo>
                    <a:lnTo>
                      <a:pt x="564" y="299"/>
                    </a:lnTo>
                    <a:lnTo>
                      <a:pt x="545" y="317"/>
                    </a:lnTo>
                    <a:lnTo>
                      <a:pt x="527" y="332"/>
                    </a:lnTo>
                    <a:lnTo>
                      <a:pt x="517" y="339"/>
                    </a:lnTo>
                    <a:lnTo>
                      <a:pt x="507" y="345"/>
                    </a:lnTo>
                    <a:lnTo>
                      <a:pt x="497" y="351"/>
                    </a:lnTo>
                    <a:lnTo>
                      <a:pt x="487" y="355"/>
                    </a:lnTo>
                    <a:lnTo>
                      <a:pt x="467" y="362"/>
                    </a:lnTo>
                    <a:lnTo>
                      <a:pt x="446" y="369"/>
                    </a:lnTo>
                    <a:lnTo>
                      <a:pt x="424" y="375"/>
                    </a:lnTo>
                    <a:lnTo>
                      <a:pt x="403" y="380"/>
                    </a:lnTo>
                    <a:lnTo>
                      <a:pt x="379" y="385"/>
                    </a:lnTo>
                    <a:lnTo>
                      <a:pt x="357" y="389"/>
                    </a:lnTo>
                    <a:lnTo>
                      <a:pt x="335" y="395"/>
                    </a:lnTo>
                    <a:lnTo>
                      <a:pt x="313" y="402"/>
                    </a:lnTo>
                    <a:lnTo>
                      <a:pt x="291" y="410"/>
                    </a:lnTo>
                    <a:lnTo>
                      <a:pt x="268" y="421"/>
                    </a:lnTo>
                    <a:lnTo>
                      <a:pt x="257" y="427"/>
                    </a:lnTo>
                    <a:lnTo>
                      <a:pt x="246" y="433"/>
                    </a:lnTo>
                    <a:lnTo>
                      <a:pt x="236" y="440"/>
                    </a:lnTo>
                    <a:lnTo>
                      <a:pt x="225" y="448"/>
                    </a:lnTo>
                    <a:lnTo>
                      <a:pt x="215" y="457"/>
                    </a:lnTo>
                    <a:lnTo>
                      <a:pt x="204" y="466"/>
                    </a:lnTo>
                    <a:lnTo>
                      <a:pt x="195" y="476"/>
                    </a:lnTo>
                    <a:lnTo>
                      <a:pt x="184" y="487"/>
                    </a:lnTo>
                    <a:lnTo>
                      <a:pt x="175" y="499"/>
                    </a:lnTo>
                    <a:lnTo>
                      <a:pt x="166" y="513"/>
                    </a:lnTo>
                    <a:lnTo>
                      <a:pt x="156" y="527"/>
                    </a:lnTo>
                    <a:lnTo>
                      <a:pt x="147" y="542"/>
                    </a:lnTo>
                    <a:lnTo>
                      <a:pt x="142" y="552"/>
                    </a:lnTo>
                    <a:lnTo>
                      <a:pt x="136" y="559"/>
                    </a:lnTo>
                    <a:lnTo>
                      <a:pt x="131" y="567"/>
                    </a:lnTo>
                    <a:lnTo>
                      <a:pt x="125" y="573"/>
                    </a:lnTo>
                    <a:lnTo>
                      <a:pt x="118" y="579"/>
                    </a:lnTo>
                    <a:lnTo>
                      <a:pt x="111" y="583"/>
                    </a:lnTo>
                    <a:lnTo>
                      <a:pt x="104" y="587"/>
                    </a:lnTo>
                    <a:lnTo>
                      <a:pt x="97" y="590"/>
                    </a:lnTo>
                    <a:lnTo>
                      <a:pt x="90" y="593"/>
                    </a:lnTo>
                    <a:lnTo>
                      <a:pt x="83" y="594"/>
                    </a:lnTo>
                    <a:lnTo>
                      <a:pt x="76" y="595"/>
                    </a:lnTo>
                    <a:lnTo>
                      <a:pt x="69" y="595"/>
                    </a:lnTo>
                    <a:lnTo>
                      <a:pt x="62" y="594"/>
                    </a:lnTo>
                    <a:lnTo>
                      <a:pt x="55" y="593"/>
                    </a:lnTo>
                    <a:lnTo>
                      <a:pt x="48" y="589"/>
                    </a:lnTo>
                    <a:lnTo>
                      <a:pt x="41" y="587"/>
                    </a:lnTo>
                    <a:lnTo>
                      <a:pt x="35" y="582"/>
                    </a:lnTo>
                    <a:lnTo>
                      <a:pt x="29" y="577"/>
                    </a:lnTo>
                    <a:lnTo>
                      <a:pt x="23" y="572"/>
                    </a:lnTo>
                    <a:lnTo>
                      <a:pt x="18" y="565"/>
                    </a:lnTo>
                    <a:lnTo>
                      <a:pt x="14" y="558"/>
                    </a:lnTo>
                    <a:lnTo>
                      <a:pt x="10" y="548"/>
                    </a:lnTo>
                    <a:lnTo>
                      <a:pt x="7" y="540"/>
                    </a:lnTo>
                    <a:lnTo>
                      <a:pt x="3" y="530"/>
                    </a:lnTo>
                    <a:lnTo>
                      <a:pt x="1" y="519"/>
                    </a:lnTo>
                    <a:lnTo>
                      <a:pt x="0" y="507"/>
                    </a:lnTo>
                    <a:lnTo>
                      <a:pt x="0" y="494"/>
                    </a:lnTo>
                    <a:lnTo>
                      <a:pt x="0" y="480"/>
                    </a:lnTo>
                    <a:lnTo>
                      <a:pt x="0" y="466"/>
                    </a:lnTo>
                    <a:lnTo>
                      <a:pt x="2" y="451"/>
                    </a:lnTo>
                    <a:lnTo>
                      <a:pt x="4" y="435"/>
                    </a:lnTo>
                    <a:lnTo>
                      <a:pt x="9" y="41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72" name="Freeform 193"/>
              <p:cNvSpPr/>
              <p:nvPr/>
            </p:nvSpPr>
            <p:spPr>
              <a:xfrm>
                <a:off x="1604160" y="4429440"/>
                <a:ext cx="287280" cy="269280"/>
              </a:xfrm>
              <a:custGeom>
                <a:avLst/>
                <a:gdLst>
                  <a:gd name="textAreaLeft" fmla="*/ 0 w 287280"/>
                  <a:gd name="textAreaRight" fmla="*/ 287640 w 287280"/>
                  <a:gd name="textAreaTop" fmla="*/ 0 h 269280"/>
                  <a:gd name="textAreaBottom" fmla="*/ 269640 h 269280"/>
                </a:gdLst>
                <a:ahLst/>
                <a:rect l="textAreaLeft" t="textAreaTop" r="textAreaRight" b="textAreaBottom"/>
                <a:pathLst>
                  <a:path w="655" h="595">
                    <a:moveTo>
                      <a:pt x="9" y="419"/>
                    </a:moveTo>
                    <a:lnTo>
                      <a:pt x="8" y="401"/>
                    </a:lnTo>
                    <a:lnTo>
                      <a:pt x="9" y="386"/>
                    </a:lnTo>
                    <a:lnTo>
                      <a:pt x="10" y="371"/>
                    </a:lnTo>
                    <a:lnTo>
                      <a:pt x="13" y="358"/>
                    </a:lnTo>
                    <a:lnTo>
                      <a:pt x="17" y="345"/>
                    </a:lnTo>
                    <a:lnTo>
                      <a:pt x="22" y="333"/>
                    </a:lnTo>
                    <a:lnTo>
                      <a:pt x="28" y="322"/>
                    </a:lnTo>
                    <a:lnTo>
                      <a:pt x="34" y="312"/>
                    </a:lnTo>
                    <a:lnTo>
                      <a:pt x="42" y="303"/>
                    </a:lnTo>
                    <a:lnTo>
                      <a:pt x="49" y="294"/>
                    </a:lnTo>
                    <a:lnTo>
                      <a:pt x="58" y="285"/>
                    </a:lnTo>
                    <a:lnTo>
                      <a:pt x="68" y="277"/>
                    </a:lnTo>
                    <a:lnTo>
                      <a:pt x="87" y="263"/>
                    </a:lnTo>
                    <a:lnTo>
                      <a:pt x="107" y="250"/>
                    </a:lnTo>
                    <a:lnTo>
                      <a:pt x="152" y="226"/>
                    </a:lnTo>
                    <a:lnTo>
                      <a:pt x="194" y="199"/>
                    </a:lnTo>
                    <a:lnTo>
                      <a:pt x="204" y="192"/>
                    </a:lnTo>
                    <a:lnTo>
                      <a:pt x="214" y="184"/>
                    </a:lnTo>
                    <a:lnTo>
                      <a:pt x="222" y="176"/>
                    </a:lnTo>
                    <a:lnTo>
                      <a:pt x="230" y="167"/>
                    </a:lnTo>
                    <a:lnTo>
                      <a:pt x="238" y="158"/>
                    </a:lnTo>
                    <a:lnTo>
                      <a:pt x="245" y="148"/>
                    </a:lnTo>
                    <a:lnTo>
                      <a:pt x="251" y="137"/>
                    </a:lnTo>
                    <a:lnTo>
                      <a:pt x="257" y="124"/>
                    </a:lnTo>
                    <a:lnTo>
                      <a:pt x="267" y="97"/>
                    </a:lnTo>
                    <a:lnTo>
                      <a:pt x="277" y="75"/>
                    </a:lnTo>
                    <a:lnTo>
                      <a:pt x="286" y="56"/>
                    </a:lnTo>
                    <a:lnTo>
                      <a:pt x="294" y="41"/>
                    </a:lnTo>
                    <a:lnTo>
                      <a:pt x="302" y="30"/>
                    </a:lnTo>
                    <a:lnTo>
                      <a:pt x="311" y="21"/>
                    </a:lnTo>
                    <a:lnTo>
                      <a:pt x="319" y="14"/>
                    </a:lnTo>
                    <a:lnTo>
                      <a:pt x="329" y="10"/>
                    </a:lnTo>
                    <a:lnTo>
                      <a:pt x="340" y="7"/>
                    </a:lnTo>
                    <a:lnTo>
                      <a:pt x="351" y="5"/>
                    </a:lnTo>
                    <a:lnTo>
                      <a:pt x="365" y="5"/>
                    </a:lnTo>
                    <a:lnTo>
                      <a:pt x="382" y="4"/>
                    </a:lnTo>
                    <a:lnTo>
                      <a:pt x="421" y="4"/>
                    </a:lnTo>
                    <a:lnTo>
                      <a:pt x="473" y="0"/>
                    </a:lnTo>
                    <a:lnTo>
                      <a:pt x="481" y="2"/>
                    </a:lnTo>
                    <a:lnTo>
                      <a:pt x="492" y="5"/>
                    </a:lnTo>
                    <a:lnTo>
                      <a:pt x="501" y="10"/>
                    </a:lnTo>
                    <a:lnTo>
                      <a:pt x="513" y="16"/>
                    </a:lnTo>
                    <a:lnTo>
                      <a:pt x="535" y="31"/>
                    </a:lnTo>
                    <a:lnTo>
                      <a:pt x="557" y="49"/>
                    </a:lnTo>
                    <a:lnTo>
                      <a:pt x="580" y="68"/>
                    </a:lnTo>
                    <a:lnTo>
                      <a:pt x="603" y="86"/>
                    </a:lnTo>
                    <a:lnTo>
                      <a:pt x="613" y="94"/>
                    </a:lnTo>
                    <a:lnTo>
                      <a:pt x="624" y="101"/>
                    </a:lnTo>
                    <a:lnTo>
                      <a:pt x="633" y="107"/>
                    </a:lnTo>
                    <a:lnTo>
                      <a:pt x="642" y="110"/>
                    </a:lnTo>
                    <a:lnTo>
                      <a:pt x="647" y="113"/>
                    </a:lnTo>
                    <a:lnTo>
                      <a:pt x="649" y="115"/>
                    </a:lnTo>
                    <a:lnTo>
                      <a:pt x="652" y="118"/>
                    </a:lnTo>
                    <a:lnTo>
                      <a:pt x="654" y="123"/>
                    </a:lnTo>
                    <a:lnTo>
                      <a:pt x="654" y="129"/>
                    </a:lnTo>
                    <a:lnTo>
                      <a:pt x="655" y="135"/>
                    </a:lnTo>
                    <a:lnTo>
                      <a:pt x="654" y="141"/>
                    </a:lnTo>
                    <a:lnTo>
                      <a:pt x="653" y="149"/>
                    </a:lnTo>
                    <a:lnTo>
                      <a:pt x="649" y="164"/>
                    </a:lnTo>
                    <a:lnTo>
                      <a:pt x="642" y="181"/>
                    </a:lnTo>
                    <a:lnTo>
                      <a:pt x="634" y="201"/>
                    </a:lnTo>
                    <a:lnTo>
                      <a:pt x="624" y="221"/>
                    </a:lnTo>
                    <a:lnTo>
                      <a:pt x="611" y="241"/>
                    </a:lnTo>
                    <a:lnTo>
                      <a:pt x="597" y="261"/>
                    </a:lnTo>
                    <a:lnTo>
                      <a:pt x="580" y="281"/>
                    </a:lnTo>
                    <a:lnTo>
                      <a:pt x="564" y="299"/>
                    </a:lnTo>
                    <a:lnTo>
                      <a:pt x="545" y="317"/>
                    </a:lnTo>
                    <a:lnTo>
                      <a:pt x="527" y="332"/>
                    </a:lnTo>
                    <a:lnTo>
                      <a:pt x="517" y="339"/>
                    </a:lnTo>
                    <a:lnTo>
                      <a:pt x="507" y="345"/>
                    </a:lnTo>
                    <a:lnTo>
                      <a:pt x="497" y="351"/>
                    </a:lnTo>
                    <a:lnTo>
                      <a:pt x="487" y="355"/>
                    </a:lnTo>
                    <a:lnTo>
                      <a:pt x="467" y="362"/>
                    </a:lnTo>
                    <a:lnTo>
                      <a:pt x="446" y="369"/>
                    </a:lnTo>
                    <a:lnTo>
                      <a:pt x="424" y="375"/>
                    </a:lnTo>
                    <a:lnTo>
                      <a:pt x="403" y="380"/>
                    </a:lnTo>
                    <a:lnTo>
                      <a:pt x="379" y="385"/>
                    </a:lnTo>
                    <a:lnTo>
                      <a:pt x="357" y="389"/>
                    </a:lnTo>
                    <a:lnTo>
                      <a:pt x="335" y="395"/>
                    </a:lnTo>
                    <a:lnTo>
                      <a:pt x="313" y="402"/>
                    </a:lnTo>
                    <a:lnTo>
                      <a:pt x="291" y="410"/>
                    </a:lnTo>
                    <a:lnTo>
                      <a:pt x="268" y="421"/>
                    </a:lnTo>
                    <a:lnTo>
                      <a:pt x="257" y="427"/>
                    </a:lnTo>
                    <a:lnTo>
                      <a:pt x="246" y="433"/>
                    </a:lnTo>
                    <a:lnTo>
                      <a:pt x="236" y="440"/>
                    </a:lnTo>
                    <a:lnTo>
                      <a:pt x="225" y="448"/>
                    </a:lnTo>
                    <a:lnTo>
                      <a:pt x="215" y="457"/>
                    </a:lnTo>
                    <a:lnTo>
                      <a:pt x="204" y="466"/>
                    </a:lnTo>
                    <a:lnTo>
                      <a:pt x="195" y="476"/>
                    </a:lnTo>
                    <a:lnTo>
                      <a:pt x="184" y="487"/>
                    </a:lnTo>
                    <a:lnTo>
                      <a:pt x="175" y="499"/>
                    </a:lnTo>
                    <a:lnTo>
                      <a:pt x="166" y="513"/>
                    </a:lnTo>
                    <a:lnTo>
                      <a:pt x="156" y="527"/>
                    </a:lnTo>
                    <a:lnTo>
                      <a:pt x="147" y="542"/>
                    </a:lnTo>
                    <a:lnTo>
                      <a:pt x="142" y="552"/>
                    </a:lnTo>
                    <a:lnTo>
                      <a:pt x="136" y="559"/>
                    </a:lnTo>
                    <a:lnTo>
                      <a:pt x="131" y="567"/>
                    </a:lnTo>
                    <a:lnTo>
                      <a:pt x="125" y="573"/>
                    </a:lnTo>
                    <a:lnTo>
                      <a:pt x="118" y="579"/>
                    </a:lnTo>
                    <a:lnTo>
                      <a:pt x="111" y="583"/>
                    </a:lnTo>
                    <a:lnTo>
                      <a:pt x="104" y="587"/>
                    </a:lnTo>
                    <a:lnTo>
                      <a:pt x="97" y="590"/>
                    </a:lnTo>
                    <a:lnTo>
                      <a:pt x="90" y="593"/>
                    </a:lnTo>
                    <a:lnTo>
                      <a:pt x="83" y="594"/>
                    </a:lnTo>
                    <a:lnTo>
                      <a:pt x="76" y="595"/>
                    </a:lnTo>
                    <a:lnTo>
                      <a:pt x="69" y="595"/>
                    </a:lnTo>
                    <a:lnTo>
                      <a:pt x="62" y="594"/>
                    </a:lnTo>
                    <a:lnTo>
                      <a:pt x="55" y="593"/>
                    </a:lnTo>
                    <a:lnTo>
                      <a:pt x="48" y="589"/>
                    </a:lnTo>
                    <a:lnTo>
                      <a:pt x="41" y="587"/>
                    </a:lnTo>
                    <a:lnTo>
                      <a:pt x="35" y="582"/>
                    </a:lnTo>
                    <a:lnTo>
                      <a:pt x="29" y="577"/>
                    </a:lnTo>
                    <a:lnTo>
                      <a:pt x="23" y="572"/>
                    </a:lnTo>
                    <a:lnTo>
                      <a:pt x="18" y="565"/>
                    </a:lnTo>
                    <a:lnTo>
                      <a:pt x="14" y="558"/>
                    </a:lnTo>
                    <a:lnTo>
                      <a:pt x="10" y="548"/>
                    </a:lnTo>
                    <a:lnTo>
                      <a:pt x="7" y="540"/>
                    </a:lnTo>
                    <a:lnTo>
                      <a:pt x="3" y="530"/>
                    </a:lnTo>
                    <a:lnTo>
                      <a:pt x="1" y="519"/>
                    </a:lnTo>
                    <a:lnTo>
                      <a:pt x="0" y="507"/>
                    </a:lnTo>
                    <a:lnTo>
                      <a:pt x="0" y="494"/>
                    </a:lnTo>
                    <a:lnTo>
                      <a:pt x="0" y="480"/>
                    </a:lnTo>
                    <a:lnTo>
                      <a:pt x="0" y="466"/>
                    </a:lnTo>
                    <a:lnTo>
                      <a:pt x="2" y="451"/>
                    </a:lnTo>
                    <a:lnTo>
                      <a:pt x="4" y="435"/>
                    </a:lnTo>
                    <a:lnTo>
                      <a:pt x="9" y="41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73" name="Freeform 194"/>
              <p:cNvSpPr/>
              <p:nvPr/>
            </p:nvSpPr>
            <p:spPr>
              <a:xfrm>
                <a:off x="1641240" y="4266000"/>
                <a:ext cx="179640" cy="72360"/>
              </a:xfrm>
              <a:custGeom>
                <a:avLst/>
                <a:gdLst>
                  <a:gd name="textAreaLeft" fmla="*/ 0 w 179640"/>
                  <a:gd name="textAreaRight" fmla="*/ 180000 w 179640"/>
                  <a:gd name="textAreaTop" fmla="*/ 0 h 72360"/>
                  <a:gd name="textAreaBottom" fmla="*/ 72720 h 72360"/>
                </a:gdLst>
                <a:ahLst/>
                <a:rect l="textAreaLeft" t="textAreaTop" r="textAreaRight" b="textAreaBottom"/>
                <a:pathLst>
                  <a:path w="406" h="160">
                    <a:moveTo>
                      <a:pt x="372" y="127"/>
                    </a:moveTo>
                    <a:lnTo>
                      <a:pt x="364" y="132"/>
                    </a:lnTo>
                    <a:lnTo>
                      <a:pt x="353" y="137"/>
                    </a:lnTo>
                    <a:lnTo>
                      <a:pt x="340" y="142"/>
                    </a:lnTo>
                    <a:lnTo>
                      <a:pt x="326" y="146"/>
                    </a:lnTo>
                    <a:lnTo>
                      <a:pt x="311" y="150"/>
                    </a:lnTo>
                    <a:lnTo>
                      <a:pt x="295" y="153"/>
                    </a:lnTo>
                    <a:lnTo>
                      <a:pt x="278" y="156"/>
                    </a:lnTo>
                    <a:lnTo>
                      <a:pt x="262" y="158"/>
                    </a:lnTo>
                    <a:lnTo>
                      <a:pt x="246" y="160"/>
                    </a:lnTo>
                    <a:lnTo>
                      <a:pt x="230" y="160"/>
                    </a:lnTo>
                    <a:lnTo>
                      <a:pt x="215" y="160"/>
                    </a:lnTo>
                    <a:lnTo>
                      <a:pt x="202" y="158"/>
                    </a:lnTo>
                    <a:lnTo>
                      <a:pt x="191" y="156"/>
                    </a:lnTo>
                    <a:lnTo>
                      <a:pt x="181" y="154"/>
                    </a:lnTo>
                    <a:lnTo>
                      <a:pt x="178" y="151"/>
                    </a:lnTo>
                    <a:lnTo>
                      <a:pt x="174" y="149"/>
                    </a:lnTo>
                    <a:lnTo>
                      <a:pt x="172" y="147"/>
                    </a:lnTo>
                    <a:lnTo>
                      <a:pt x="171" y="144"/>
                    </a:lnTo>
                    <a:lnTo>
                      <a:pt x="167" y="137"/>
                    </a:lnTo>
                    <a:lnTo>
                      <a:pt x="163" y="132"/>
                    </a:lnTo>
                    <a:lnTo>
                      <a:pt x="158" y="126"/>
                    </a:lnTo>
                    <a:lnTo>
                      <a:pt x="153" y="121"/>
                    </a:lnTo>
                    <a:lnTo>
                      <a:pt x="142" y="112"/>
                    </a:lnTo>
                    <a:lnTo>
                      <a:pt x="130" y="104"/>
                    </a:lnTo>
                    <a:lnTo>
                      <a:pt x="116" y="98"/>
                    </a:lnTo>
                    <a:lnTo>
                      <a:pt x="102" y="92"/>
                    </a:lnTo>
                    <a:lnTo>
                      <a:pt x="87" y="88"/>
                    </a:lnTo>
                    <a:lnTo>
                      <a:pt x="73" y="85"/>
                    </a:lnTo>
                    <a:lnTo>
                      <a:pt x="46" y="81"/>
                    </a:lnTo>
                    <a:lnTo>
                      <a:pt x="22" y="80"/>
                    </a:lnTo>
                    <a:lnTo>
                      <a:pt x="6" y="80"/>
                    </a:lnTo>
                    <a:lnTo>
                      <a:pt x="0" y="80"/>
                    </a:lnTo>
                    <a:lnTo>
                      <a:pt x="79" y="5"/>
                    </a:lnTo>
                    <a:lnTo>
                      <a:pt x="93" y="3"/>
                    </a:lnTo>
                    <a:lnTo>
                      <a:pt x="107" y="2"/>
                    </a:lnTo>
                    <a:lnTo>
                      <a:pt x="121" y="2"/>
                    </a:lnTo>
                    <a:lnTo>
                      <a:pt x="133" y="2"/>
                    </a:lnTo>
                    <a:lnTo>
                      <a:pt x="159" y="5"/>
                    </a:lnTo>
                    <a:lnTo>
                      <a:pt x="185" y="10"/>
                    </a:lnTo>
                    <a:lnTo>
                      <a:pt x="209" y="14"/>
                    </a:lnTo>
                    <a:lnTo>
                      <a:pt x="233" y="15"/>
                    </a:lnTo>
                    <a:lnTo>
                      <a:pt x="244" y="15"/>
                    </a:lnTo>
                    <a:lnTo>
                      <a:pt x="256" y="14"/>
                    </a:lnTo>
                    <a:lnTo>
                      <a:pt x="268" y="10"/>
                    </a:lnTo>
                    <a:lnTo>
                      <a:pt x="279" y="5"/>
                    </a:lnTo>
                    <a:lnTo>
                      <a:pt x="285" y="3"/>
                    </a:lnTo>
                    <a:lnTo>
                      <a:pt x="292" y="1"/>
                    </a:lnTo>
                    <a:lnTo>
                      <a:pt x="298" y="0"/>
                    </a:lnTo>
                    <a:lnTo>
                      <a:pt x="305" y="0"/>
                    </a:lnTo>
                    <a:lnTo>
                      <a:pt x="319" y="0"/>
                    </a:lnTo>
                    <a:lnTo>
                      <a:pt x="333" y="3"/>
                    </a:lnTo>
                    <a:lnTo>
                      <a:pt x="347" y="8"/>
                    </a:lnTo>
                    <a:lnTo>
                      <a:pt x="360" y="14"/>
                    </a:lnTo>
                    <a:lnTo>
                      <a:pt x="373" y="22"/>
                    </a:lnTo>
                    <a:lnTo>
                      <a:pt x="383" y="31"/>
                    </a:lnTo>
                    <a:lnTo>
                      <a:pt x="393" y="42"/>
                    </a:lnTo>
                    <a:lnTo>
                      <a:pt x="400" y="53"/>
                    </a:lnTo>
                    <a:lnTo>
                      <a:pt x="402" y="59"/>
                    </a:lnTo>
                    <a:lnTo>
                      <a:pt x="403" y="65"/>
                    </a:lnTo>
                    <a:lnTo>
                      <a:pt x="404" y="72"/>
                    </a:lnTo>
                    <a:lnTo>
                      <a:pt x="406" y="78"/>
                    </a:lnTo>
                    <a:lnTo>
                      <a:pt x="404" y="84"/>
                    </a:lnTo>
                    <a:lnTo>
                      <a:pt x="403" y="91"/>
                    </a:lnTo>
                    <a:lnTo>
                      <a:pt x="401" y="97"/>
                    </a:lnTo>
                    <a:lnTo>
                      <a:pt x="397" y="102"/>
                    </a:lnTo>
                    <a:lnTo>
                      <a:pt x="393" y="109"/>
                    </a:lnTo>
                    <a:lnTo>
                      <a:pt x="387" y="115"/>
                    </a:lnTo>
                    <a:lnTo>
                      <a:pt x="380" y="121"/>
                    </a:lnTo>
                    <a:lnTo>
                      <a:pt x="372" y="127"/>
                    </a:lnTo>
                    <a:close/>
                  </a:path>
                </a:pathLst>
              </a:custGeom>
              <a:solidFill>
                <a:srgbClr val="93d5ed"/>
              </a:solidFill>
              <a:ln w="936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674" name="Freeform 195"/>
              <p:cNvSpPr/>
              <p:nvPr/>
            </p:nvSpPr>
            <p:spPr>
              <a:xfrm>
                <a:off x="1641240" y="4266000"/>
                <a:ext cx="179640" cy="72360"/>
              </a:xfrm>
              <a:custGeom>
                <a:avLst/>
                <a:gdLst>
                  <a:gd name="textAreaLeft" fmla="*/ 0 w 179640"/>
                  <a:gd name="textAreaRight" fmla="*/ 180000 w 179640"/>
                  <a:gd name="textAreaTop" fmla="*/ 0 h 72360"/>
                  <a:gd name="textAreaBottom" fmla="*/ 72720 h 72360"/>
                </a:gdLst>
                <a:ahLst/>
                <a:rect l="textAreaLeft" t="textAreaTop" r="textAreaRight" b="textAreaBottom"/>
                <a:pathLst>
                  <a:path w="406" h="160">
                    <a:moveTo>
                      <a:pt x="372" y="127"/>
                    </a:moveTo>
                    <a:lnTo>
                      <a:pt x="364" y="132"/>
                    </a:lnTo>
                    <a:lnTo>
                      <a:pt x="353" y="137"/>
                    </a:lnTo>
                    <a:lnTo>
                      <a:pt x="340" y="142"/>
                    </a:lnTo>
                    <a:lnTo>
                      <a:pt x="326" y="146"/>
                    </a:lnTo>
                    <a:lnTo>
                      <a:pt x="311" y="150"/>
                    </a:lnTo>
                    <a:lnTo>
                      <a:pt x="295" y="153"/>
                    </a:lnTo>
                    <a:lnTo>
                      <a:pt x="278" y="156"/>
                    </a:lnTo>
                    <a:lnTo>
                      <a:pt x="262" y="158"/>
                    </a:lnTo>
                    <a:lnTo>
                      <a:pt x="246" y="160"/>
                    </a:lnTo>
                    <a:lnTo>
                      <a:pt x="230" y="160"/>
                    </a:lnTo>
                    <a:lnTo>
                      <a:pt x="215" y="160"/>
                    </a:lnTo>
                    <a:lnTo>
                      <a:pt x="202" y="158"/>
                    </a:lnTo>
                    <a:lnTo>
                      <a:pt x="191" y="156"/>
                    </a:lnTo>
                    <a:lnTo>
                      <a:pt x="181" y="154"/>
                    </a:lnTo>
                    <a:lnTo>
                      <a:pt x="178" y="151"/>
                    </a:lnTo>
                    <a:lnTo>
                      <a:pt x="174" y="149"/>
                    </a:lnTo>
                    <a:lnTo>
                      <a:pt x="172" y="147"/>
                    </a:lnTo>
                    <a:lnTo>
                      <a:pt x="171" y="144"/>
                    </a:lnTo>
                    <a:lnTo>
                      <a:pt x="167" y="137"/>
                    </a:lnTo>
                    <a:lnTo>
                      <a:pt x="163" y="132"/>
                    </a:lnTo>
                    <a:lnTo>
                      <a:pt x="158" y="126"/>
                    </a:lnTo>
                    <a:lnTo>
                      <a:pt x="153" y="121"/>
                    </a:lnTo>
                    <a:lnTo>
                      <a:pt x="142" y="112"/>
                    </a:lnTo>
                    <a:lnTo>
                      <a:pt x="130" y="104"/>
                    </a:lnTo>
                    <a:lnTo>
                      <a:pt x="116" y="98"/>
                    </a:lnTo>
                    <a:lnTo>
                      <a:pt x="102" y="92"/>
                    </a:lnTo>
                    <a:lnTo>
                      <a:pt x="87" y="88"/>
                    </a:lnTo>
                    <a:lnTo>
                      <a:pt x="73" y="85"/>
                    </a:lnTo>
                    <a:lnTo>
                      <a:pt x="46" y="81"/>
                    </a:lnTo>
                    <a:lnTo>
                      <a:pt x="22" y="80"/>
                    </a:lnTo>
                    <a:lnTo>
                      <a:pt x="6" y="80"/>
                    </a:lnTo>
                    <a:lnTo>
                      <a:pt x="0" y="80"/>
                    </a:lnTo>
                    <a:lnTo>
                      <a:pt x="79" y="5"/>
                    </a:lnTo>
                    <a:lnTo>
                      <a:pt x="93" y="3"/>
                    </a:lnTo>
                    <a:lnTo>
                      <a:pt x="107" y="2"/>
                    </a:lnTo>
                    <a:lnTo>
                      <a:pt x="121" y="2"/>
                    </a:lnTo>
                    <a:lnTo>
                      <a:pt x="133" y="2"/>
                    </a:lnTo>
                    <a:lnTo>
                      <a:pt x="159" y="5"/>
                    </a:lnTo>
                    <a:lnTo>
                      <a:pt x="185" y="10"/>
                    </a:lnTo>
                    <a:lnTo>
                      <a:pt x="209" y="14"/>
                    </a:lnTo>
                    <a:lnTo>
                      <a:pt x="233" y="15"/>
                    </a:lnTo>
                    <a:lnTo>
                      <a:pt x="244" y="15"/>
                    </a:lnTo>
                    <a:lnTo>
                      <a:pt x="256" y="14"/>
                    </a:lnTo>
                    <a:lnTo>
                      <a:pt x="268" y="10"/>
                    </a:lnTo>
                    <a:lnTo>
                      <a:pt x="279" y="5"/>
                    </a:lnTo>
                    <a:lnTo>
                      <a:pt x="285" y="3"/>
                    </a:lnTo>
                    <a:lnTo>
                      <a:pt x="292" y="1"/>
                    </a:lnTo>
                    <a:lnTo>
                      <a:pt x="298" y="0"/>
                    </a:lnTo>
                    <a:lnTo>
                      <a:pt x="305" y="0"/>
                    </a:lnTo>
                    <a:lnTo>
                      <a:pt x="319" y="0"/>
                    </a:lnTo>
                    <a:lnTo>
                      <a:pt x="333" y="3"/>
                    </a:lnTo>
                    <a:lnTo>
                      <a:pt x="347" y="8"/>
                    </a:lnTo>
                    <a:lnTo>
                      <a:pt x="360" y="14"/>
                    </a:lnTo>
                    <a:lnTo>
                      <a:pt x="373" y="22"/>
                    </a:lnTo>
                    <a:lnTo>
                      <a:pt x="383" y="31"/>
                    </a:lnTo>
                    <a:lnTo>
                      <a:pt x="393" y="42"/>
                    </a:lnTo>
                    <a:lnTo>
                      <a:pt x="400" y="53"/>
                    </a:lnTo>
                    <a:lnTo>
                      <a:pt x="402" y="59"/>
                    </a:lnTo>
                    <a:lnTo>
                      <a:pt x="403" y="65"/>
                    </a:lnTo>
                    <a:lnTo>
                      <a:pt x="404" y="72"/>
                    </a:lnTo>
                    <a:lnTo>
                      <a:pt x="406" y="78"/>
                    </a:lnTo>
                    <a:lnTo>
                      <a:pt x="404" y="84"/>
                    </a:lnTo>
                    <a:lnTo>
                      <a:pt x="403" y="91"/>
                    </a:lnTo>
                    <a:lnTo>
                      <a:pt x="401" y="97"/>
                    </a:lnTo>
                    <a:lnTo>
                      <a:pt x="397" y="102"/>
                    </a:lnTo>
                    <a:lnTo>
                      <a:pt x="393" y="109"/>
                    </a:lnTo>
                    <a:lnTo>
                      <a:pt x="387" y="115"/>
                    </a:lnTo>
                    <a:lnTo>
                      <a:pt x="380" y="121"/>
                    </a:lnTo>
                    <a:lnTo>
                      <a:pt x="372" y="127"/>
                    </a:lnTo>
                    <a:close/>
                  </a:path>
                </a:pathLst>
              </a:custGeom>
              <a:solidFill>
                <a:srgbClr val="93d5ed"/>
              </a:solidFill>
              <a:ln w="9360">
                <a:solidFill>
                  <a:srgbClr val="ccecff"/>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Times New Roman"/>
                </a:endParaRPr>
              </a:p>
            </p:txBody>
          </p:sp>
          <p:sp>
            <p:nvSpPr>
              <p:cNvPr id="675" name="Freeform 196"/>
              <p:cNvSpPr/>
              <p:nvPr/>
            </p:nvSpPr>
            <p:spPr>
              <a:xfrm>
                <a:off x="1553040" y="4313880"/>
                <a:ext cx="102960" cy="38520"/>
              </a:xfrm>
              <a:custGeom>
                <a:avLst/>
                <a:gdLst>
                  <a:gd name="textAreaLeft" fmla="*/ 0 w 102960"/>
                  <a:gd name="textAreaRight" fmla="*/ 103320 w 102960"/>
                  <a:gd name="textAreaTop" fmla="*/ 0 h 38520"/>
                  <a:gd name="textAreaBottom" fmla="*/ 38880 h 38520"/>
                </a:gdLst>
                <a:ahLst/>
                <a:rect l="textAreaLeft" t="textAreaTop" r="textAreaRight" b="textAreaBottom"/>
                <a:pathLst>
                  <a:path w="235" h="84">
                    <a:moveTo>
                      <a:pt x="170" y="6"/>
                    </a:moveTo>
                    <a:lnTo>
                      <a:pt x="124" y="17"/>
                    </a:lnTo>
                    <a:lnTo>
                      <a:pt x="81" y="30"/>
                    </a:lnTo>
                    <a:lnTo>
                      <a:pt x="62" y="37"/>
                    </a:lnTo>
                    <a:lnTo>
                      <a:pt x="45" y="43"/>
                    </a:lnTo>
                    <a:lnTo>
                      <a:pt x="30" y="50"/>
                    </a:lnTo>
                    <a:lnTo>
                      <a:pt x="18" y="56"/>
                    </a:lnTo>
                    <a:lnTo>
                      <a:pt x="9" y="62"/>
                    </a:lnTo>
                    <a:lnTo>
                      <a:pt x="3" y="66"/>
                    </a:lnTo>
                    <a:lnTo>
                      <a:pt x="1" y="70"/>
                    </a:lnTo>
                    <a:lnTo>
                      <a:pt x="0" y="72"/>
                    </a:lnTo>
                    <a:lnTo>
                      <a:pt x="1" y="73"/>
                    </a:lnTo>
                    <a:lnTo>
                      <a:pt x="3" y="76"/>
                    </a:lnTo>
                    <a:lnTo>
                      <a:pt x="10" y="79"/>
                    </a:lnTo>
                    <a:lnTo>
                      <a:pt x="23" y="82"/>
                    </a:lnTo>
                    <a:lnTo>
                      <a:pt x="40" y="84"/>
                    </a:lnTo>
                    <a:lnTo>
                      <a:pt x="63" y="84"/>
                    </a:lnTo>
                    <a:lnTo>
                      <a:pt x="89" y="83"/>
                    </a:lnTo>
                    <a:lnTo>
                      <a:pt x="114" y="79"/>
                    </a:lnTo>
                    <a:lnTo>
                      <a:pt x="137" y="75"/>
                    </a:lnTo>
                    <a:lnTo>
                      <a:pt x="158" y="68"/>
                    </a:lnTo>
                    <a:lnTo>
                      <a:pt x="178" y="59"/>
                    </a:lnTo>
                    <a:lnTo>
                      <a:pt x="195" y="51"/>
                    </a:lnTo>
                    <a:lnTo>
                      <a:pt x="209" y="42"/>
                    </a:lnTo>
                    <a:lnTo>
                      <a:pt x="221" y="34"/>
                    </a:lnTo>
                    <a:lnTo>
                      <a:pt x="229" y="24"/>
                    </a:lnTo>
                    <a:lnTo>
                      <a:pt x="235" y="17"/>
                    </a:lnTo>
                    <a:lnTo>
                      <a:pt x="235" y="14"/>
                    </a:lnTo>
                    <a:lnTo>
                      <a:pt x="235" y="10"/>
                    </a:lnTo>
                    <a:lnTo>
                      <a:pt x="234" y="7"/>
                    </a:lnTo>
                    <a:lnTo>
                      <a:pt x="233" y="5"/>
                    </a:lnTo>
                    <a:lnTo>
                      <a:pt x="229" y="3"/>
                    </a:lnTo>
                    <a:lnTo>
                      <a:pt x="225" y="1"/>
                    </a:lnTo>
                    <a:lnTo>
                      <a:pt x="219" y="1"/>
                    </a:lnTo>
                    <a:lnTo>
                      <a:pt x="212" y="0"/>
                    </a:lnTo>
                    <a:lnTo>
                      <a:pt x="193" y="2"/>
                    </a:lnTo>
                    <a:lnTo>
                      <a:pt x="170" y="6"/>
                    </a:lnTo>
                    <a:close/>
                  </a:path>
                </a:pathLst>
              </a:custGeom>
              <a:solidFill>
                <a:srgbClr val="93d5ed"/>
              </a:solidFill>
              <a:ln w="9360">
                <a:solidFill>
                  <a:srgbClr val="ccecff"/>
                </a:solidFill>
                <a:round/>
              </a:ln>
            </p:spPr>
            <p:style>
              <a:lnRef idx="0"/>
              <a:fillRef idx="0"/>
              <a:effectRef idx="0"/>
              <a:fontRef idx="minor"/>
            </p:style>
            <p:txBody>
              <a:bodyPr lIns="90000" rIns="90000" tIns="-7920" bIns="-7920" anchor="t">
                <a:noAutofit/>
              </a:bodyPr>
              <a:p>
                <a:endParaRPr b="1" lang="en-US" sz="2400" spc="-1" strike="noStrike">
                  <a:solidFill>
                    <a:srgbClr val="ffffff"/>
                  </a:solidFill>
                  <a:latin typeface="Times New Roman"/>
                </a:endParaRPr>
              </a:p>
            </p:txBody>
          </p:sp>
          <p:sp>
            <p:nvSpPr>
              <p:cNvPr id="676" name="Freeform 197"/>
              <p:cNvSpPr/>
              <p:nvPr/>
            </p:nvSpPr>
            <p:spPr>
              <a:xfrm>
                <a:off x="1553040" y="4313880"/>
                <a:ext cx="102960" cy="38520"/>
              </a:xfrm>
              <a:custGeom>
                <a:avLst/>
                <a:gdLst>
                  <a:gd name="textAreaLeft" fmla="*/ 0 w 102960"/>
                  <a:gd name="textAreaRight" fmla="*/ 103320 w 102960"/>
                  <a:gd name="textAreaTop" fmla="*/ 0 h 38520"/>
                  <a:gd name="textAreaBottom" fmla="*/ 38880 h 38520"/>
                </a:gdLst>
                <a:ahLst/>
                <a:rect l="textAreaLeft" t="textAreaTop" r="textAreaRight" b="textAreaBottom"/>
                <a:pathLst>
                  <a:path w="235" h="84">
                    <a:moveTo>
                      <a:pt x="170" y="6"/>
                    </a:moveTo>
                    <a:lnTo>
                      <a:pt x="124" y="17"/>
                    </a:lnTo>
                    <a:lnTo>
                      <a:pt x="81" y="30"/>
                    </a:lnTo>
                    <a:lnTo>
                      <a:pt x="62" y="37"/>
                    </a:lnTo>
                    <a:lnTo>
                      <a:pt x="45" y="43"/>
                    </a:lnTo>
                    <a:lnTo>
                      <a:pt x="30" y="50"/>
                    </a:lnTo>
                    <a:lnTo>
                      <a:pt x="18" y="56"/>
                    </a:lnTo>
                    <a:lnTo>
                      <a:pt x="9" y="62"/>
                    </a:lnTo>
                    <a:lnTo>
                      <a:pt x="3" y="66"/>
                    </a:lnTo>
                    <a:lnTo>
                      <a:pt x="1" y="70"/>
                    </a:lnTo>
                    <a:lnTo>
                      <a:pt x="0" y="72"/>
                    </a:lnTo>
                    <a:lnTo>
                      <a:pt x="1" y="73"/>
                    </a:lnTo>
                    <a:lnTo>
                      <a:pt x="3" y="76"/>
                    </a:lnTo>
                    <a:lnTo>
                      <a:pt x="10" y="79"/>
                    </a:lnTo>
                    <a:lnTo>
                      <a:pt x="23" y="82"/>
                    </a:lnTo>
                    <a:lnTo>
                      <a:pt x="40" y="84"/>
                    </a:lnTo>
                    <a:lnTo>
                      <a:pt x="63" y="84"/>
                    </a:lnTo>
                    <a:lnTo>
                      <a:pt x="89" y="83"/>
                    </a:lnTo>
                    <a:lnTo>
                      <a:pt x="114" y="79"/>
                    </a:lnTo>
                    <a:lnTo>
                      <a:pt x="137" y="75"/>
                    </a:lnTo>
                    <a:lnTo>
                      <a:pt x="158" y="68"/>
                    </a:lnTo>
                    <a:lnTo>
                      <a:pt x="178" y="59"/>
                    </a:lnTo>
                    <a:lnTo>
                      <a:pt x="195" y="51"/>
                    </a:lnTo>
                    <a:lnTo>
                      <a:pt x="209" y="42"/>
                    </a:lnTo>
                    <a:lnTo>
                      <a:pt x="221" y="34"/>
                    </a:lnTo>
                    <a:lnTo>
                      <a:pt x="229" y="24"/>
                    </a:lnTo>
                    <a:lnTo>
                      <a:pt x="235" y="17"/>
                    </a:lnTo>
                    <a:lnTo>
                      <a:pt x="235" y="14"/>
                    </a:lnTo>
                    <a:lnTo>
                      <a:pt x="235" y="10"/>
                    </a:lnTo>
                    <a:lnTo>
                      <a:pt x="234" y="7"/>
                    </a:lnTo>
                    <a:lnTo>
                      <a:pt x="233" y="5"/>
                    </a:lnTo>
                    <a:lnTo>
                      <a:pt x="229" y="3"/>
                    </a:lnTo>
                    <a:lnTo>
                      <a:pt x="225" y="1"/>
                    </a:lnTo>
                    <a:lnTo>
                      <a:pt x="219" y="1"/>
                    </a:lnTo>
                    <a:lnTo>
                      <a:pt x="212" y="0"/>
                    </a:lnTo>
                    <a:lnTo>
                      <a:pt x="193" y="2"/>
                    </a:lnTo>
                    <a:lnTo>
                      <a:pt x="170" y="6"/>
                    </a:lnTo>
                    <a:close/>
                  </a:path>
                </a:pathLst>
              </a:custGeom>
              <a:solidFill>
                <a:srgbClr val="93d5ed"/>
              </a:solidFill>
              <a:ln w="9360">
                <a:solidFill>
                  <a:srgbClr val="ccecff"/>
                </a:solidFill>
                <a:round/>
              </a:ln>
            </p:spPr>
            <p:style>
              <a:lnRef idx="0"/>
              <a:fillRef idx="0"/>
              <a:effectRef idx="0"/>
              <a:fontRef idx="minor"/>
            </p:style>
            <p:txBody>
              <a:bodyPr lIns="90000" rIns="90000" tIns="-7920" bIns="-7920" anchor="t">
                <a:noAutofit/>
              </a:bodyPr>
              <a:p>
                <a:endParaRPr b="1" lang="en-US" sz="2400" spc="-1" strike="noStrike">
                  <a:solidFill>
                    <a:srgbClr val="ffffff"/>
                  </a:solidFill>
                  <a:latin typeface="Times New Roman"/>
                </a:endParaRPr>
              </a:p>
            </p:txBody>
          </p:sp>
          <p:sp>
            <p:nvSpPr>
              <p:cNvPr id="677" name="Freeform 198"/>
              <p:cNvSpPr/>
              <p:nvPr/>
            </p:nvSpPr>
            <p:spPr>
              <a:xfrm>
                <a:off x="1544760" y="4231800"/>
                <a:ext cx="122760" cy="77040"/>
              </a:xfrm>
              <a:custGeom>
                <a:avLst/>
                <a:gdLst>
                  <a:gd name="textAreaLeft" fmla="*/ 0 w 122760"/>
                  <a:gd name="textAreaRight" fmla="*/ 123120 w 122760"/>
                  <a:gd name="textAreaTop" fmla="*/ 0 h 77040"/>
                  <a:gd name="textAreaBottom" fmla="*/ 77400 h 77040"/>
                </a:gdLst>
                <a:ahLst/>
                <a:rect l="textAreaLeft" t="textAreaTop" r="textAreaRight" b="textAreaBottom"/>
                <a:pathLst>
                  <a:path w="284" h="167">
                    <a:moveTo>
                      <a:pt x="23" y="152"/>
                    </a:moveTo>
                    <a:lnTo>
                      <a:pt x="32" y="158"/>
                    </a:lnTo>
                    <a:lnTo>
                      <a:pt x="41" y="162"/>
                    </a:lnTo>
                    <a:lnTo>
                      <a:pt x="49" y="165"/>
                    </a:lnTo>
                    <a:lnTo>
                      <a:pt x="57" y="166"/>
                    </a:lnTo>
                    <a:lnTo>
                      <a:pt x="65" y="167"/>
                    </a:lnTo>
                    <a:lnTo>
                      <a:pt x="74" y="166"/>
                    </a:lnTo>
                    <a:lnTo>
                      <a:pt x="82" y="165"/>
                    </a:lnTo>
                    <a:lnTo>
                      <a:pt x="90" y="164"/>
                    </a:lnTo>
                    <a:lnTo>
                      <a:pt x="105" y="157"/>
                    </a:lnTo>
                    <a:lnTo>
                      <a:pt x="119" y="149"/>
                    </a:lnTo>
                    <a:lnTo>
                      <a:pt x="133" y="139"/>
                    </a:lnTo>
                    <a:lnTo>
                      <a:pt x="146" y="129"/>
                    </a:lnTo>
                    <a:lnTo>
                      <a:pt x="168" y="108"/>
                    </a:lnTo>
                    <a:lnTo>
                      <a:pt x="187" y="91"/>
                    </a:lnTo>
                    <a:lnTo>
                      <a:pt x="195" y="86"/>
                    </a:lnTo>
                    <a:lnTo>
                      <a:pt x="201" y="84"/>
                    </a:lnTo>
                    <a:lnTo>
                      <a:pt x="204" y="84"/>
                    </a:lnTo>
                    <a:lnTo>
                      <a:pt x="207" y="86"/>
                    </a:lnTo>
                    <a:lnTo>
                      <a:pt x="208" y="88"/>
                    </a:lnTo>
                    <a:lnTo>
                      <a:pt x="210" y="91"/>
                    </a:lnTo>
                    <a:lnTo>
                      <a:pt x="211" y="96"/>
                    </a:lnTo>
                    <a:lnTo>
                      <a:pt x="214" y="98"/>
                    </a:lnTo>
                    <a:lnTo>
                      <a:pt x="217" y="101"/>
                    </a:lnTo>
                    <a:lnTo>
                      <a:pt x="220" y="101"/>
                    </a:lnTo>
                    <a:lnTo>
                      <a:pt x="223" y="102"/>
                    </a:lnTo>
                    <a:lnTo>
                      <a:pt x="228" y="101"/>
                    </a:lnTo>
                    <a:lnTo>
                      <a:pt x="231" y="100"/>
                    </a:lnTo>
                    <a:lnTo>
                      <a:pt x="236" y="97"/>
                    </a:lnTo>
                    <a:lnTo>
                      <a:pt x="245" y="91"/>
                    </a:lnTo>
                    <a:lnTo>
                      <a:pt x="255" y="83"/>
                    </a:lnTo>
                    <a:lnTo>
                      <a:pt x="263" y="74"/>
                    </a:lnTo>
                    <a:lnTo>
                      <a:pt x="271" y="63"/>
                    </a:lnTo>
                    <a:lnTo>
                      <a:pt x="277" y="52"/>
                    </a:lnTo>
                    <a:lnTo>
                      <a:pt x="281" y="41"/>
                    </a:lnTo>
                    <a:lnTo>
                      <a:pt x="283" y="35"/>
                    </a:lnTo>
                    <a:lnTo>
                      <a:pt x="284" y="31"/>
                    </a:lnTo>
                    <a:lnTo>
                      <a:pt x="284" y="26"/>
                    </a:lnTo>
                    <a:lnTo>
                      <a:pt x="283" y="20"/>
                    </a:lnTo>
                    <a:lnTo>
                      <a:pt x="280" y="17"/>
                    </a:lnTo>
                    <a:lnTo>
                      <a:pt x="278" y="12"/>
                    </a:lnTo>
                    <a:lnTo>
                      <a:pt x="274" y="9"/>
                    </a:lnTo>
                    <a:lnTo>
                      <a:pt x="270" y="6"/>
                    </a:lnTo>
                    <a:lnTo>
                      <a:pt x="264" y="4"/>
                    </a:lnTo>
                    <a:lnTo>
                      <a:pt x="257" y="2"/>
                    </a:lnTo>
                    <a:lnTo>
                      <a:pt x="249" y="0"/>
                    </a:lnTo>
                    <a:lnTo>
                      <a:pt x="239" y="0"/>
                    </a:lnTo>
                    <a:lnTo>
                      <a:pt x="218" y="0"/>
                    </a:lnTo>
                    <a:lnTo>
                      <a:pt x="195" y="4"/>
                    </a:lnTo>
                    <a:lnTo>
                      <a:pt x="172" y="9"/>
                    </a:lnTo>
                    <a:lnTo>
                      <a:pt x="147" y="16"/>
                    </a:lnTo>
                    <a:lnTo>
                      <a:pt x="123" y="23"/>
                    </a:lnTo>
                    <a:lnTo>
                      <a:pt x="99" y="32"/>
                    </a:lnTo>
                    <a:lnTo>
                      <a:pt x="77" y="42"/>
                    </a:lnTo>
                    <a:lnTo>
                      <a:pt x="56" y="54"/>
                    </a:lnTo>
                    <a:lnTo>
                      <a:pt x="39" y="66"/>
                    </a:lnTo>
                    <a:lnTo>
                      <a:pt x="22" y="77"/>
                    </a:lnTo>
                    <a:lnTo>
                      <a:pt x="16" y="84"/>
                    </a:lnTo>
                    <a:lnTo>
                      <a:pt x="10" y="90"/>
                    </a:lnTo>
                    <a:lnTo>
                      <a:pt x="6" y="97"/>
                    </a:lnTo>
                    <a:lnTo>
                      <a:pt x="2" y="103"/>
                    </a:lnTo>
                    <a:lnTo>
                      <a:pt x="1" y="110"/>
                    </a:lnTo>
                    <a:lnTo>
                      <a:pt x="0" y="116"/>
                    </a:lnTo>
                    <a:lnTo>
                      <a:pt x="0" y="122"/>
                    </a:lnTo>
                    <a:lnTo>
                      <a:pt x="1" y="129"/>
                    </a:lnTo>
                    <a:lnTo>
                      <a:pt x="5" y="135"/>
                    </a:lnTo>
                    <a:lnTo>
                      <a:pt x="9" y="141"/>
                    </a:lnTo>
                    <a:lnTo>
                      <a:pt x="15" y="146"/>
                    </a:lnTo>
                    <a:lnTo>
                      <a:pt x="23" y="152"/>
                    </a:lnTo>
                    <a:close/>
                  </a:path>
                </a:pathLst>
              </a:custGeom>
              <a:solidFill>
                <a:srgbClr val="93d5ed"/>
              </a:solidFill>
              <a:ln w="9360">
                <a:solidFill>
                  <a:srgbClr val="ccecff"/>
                </a:solidFill>
                <a:round/>
              </a:ln>
            </p:spPr>
            <p:style>
              <a:lnRef idx="0"/>
              <a:fillRef idx="0"/>
              <a:effectRef idx="0"/>
              <a:fontRef idx="minor"/>
            </p:style>
            <p:txBody>
              <a:bodyPr lIns="90000" rIns="90000" tIns="30600" bIns="30600" anchor="t">
                <a:noAutofit/>
              </a:bodyPr>
              <a:p>
                <a:endParaRPr b="1" lang="en-US" sz="2400" spc="-1" strike="noStrike">
                  <a:solidFill>
                    <a:srgbClr val="ffffff"/>
                  </a:solidFill>
                  <a:latin typeface="Times New Roman"/>
                </a:endParaRPr>
              </a:p>
            </p:txBody>
          </p:sp>
          <p:sp>
            <p:nvSpPr>
              <p:cNvPr id="678" name="Freeform 199"/>
              <p:cNvSpPr/>
              <p:nvPr/>
            </p:nvSpPr>
            <p:spPr>
              <a:xfrm>
                <a:off x="1544760" y="4231800"/>
                <a:ext cx="122760" cy="77040"/>
              </a:xfrm>
              <a:custGeom>
                <a:avLst/>
                <a:gdLst>
                  <a:gd name="textAreaLeft" fmla="*/ 0 w 122760"/>
                  <a:gd name="textAreaRight" fmla="*/ 123120 w 122760"/>
                  <a:gd name="textAreaTop" fmla="*/ 0 h 77040"/>
                  <a:gd name="textAreaBottom" fmla="*/ 77400 h 77040"/>
                </a:gdLst>
                <a:ahLst/>
                <a:rect l="textAreaLeft" t="textAreaTop" r="textAreaRight" b="textAreaBottom"/>
                <a:pathLst>
                  <a:path w="284" h="167">
                    <a:moveTo>
                      <a:pt x="23" y="152"/>
                    </a:moveTo>
                    <a:lnTo>
                      <a:pt x="32" y="158"/>
                    </a:lnTo>
                    <a:lnTo>
                      <a:pt x="41" y="162"/>
                    </a:lnTo>
                    <a:lnTo>
                      <a:pt x="49" y="165"/>
                    </a:lnTo>
                    <a:lnTo>
                      <a:pt x="57" y="166"/>
                    </a:lnTo>
                    <a:lnTo>
                      <a:pt x="65" y="167"/>
                    </a:lnTo>
                    <a:lnTo>
                      <a:pt x="74" y="166"/>
                    </a:lnTo>
                    <a:lnTo>
                      <a:pt x="82" y="165"/>
                    </a:lnTo>
                    <a:lnTo>
                      <a:pt x="90" y="164"/>
                    </a:lnTo>
                    <a:lnTo>
                      <a:pt x="105" y="157"/>
                    </a:lnTo>
                    <a:lnTo>
                      <a:pt x="119" y="149"/>
                    </a:lnTo>
                    <a:lnTo>
                      <a:pt x="133" y="139"/>
                    </a:lnTo>
                    <a:lnTo>
                      <a:pt x="146" y="129"/>
                    </a:lnTo>
                    <a:lnTo>
                      <a:pt x="168" y="108"/>
                    </a:lnTo>
                    <a:lnTo>
                      <a:pt x="187" y="91"/>
                    </a:lnTo>
                    <a:lnTo>
                      <a:pt x="195" y="86"/>
                    </a:lnTo>
                    <a:lnTo>
                      <a:pt x="201" y="84"/>
                    </a:lnTo>
                    <a:lnTo>
                      <a:pt x="204" y="84"/>
                    </a:lnTo>
                    <a:lnTo>
                      <a:pt x="207" y="86"/>
                    </a:lnTo>
                    <a:lnTo>
                      <a:pt x="208" y="88"/>
                    </a:lnTo>
                    <a:lnTo>
                      <a:pt x="210" y="91"/>
                    </a:lnTo>
                    <a:lnTo>
                      <a:pt x="211" y="96"/>
                    </a:lnTo>
                    <a:lnTo>
                      <a:pt x="214" y="98"/>
                    </a:lnTo>
                    <a:lnTo>
                      <a:pt x="217" y="101"/>
                    </a:lnTo>
                    <a:lnTo>
                      <a:pt x="220" y="101"/>
                    </a:lnTo>
                    <a:lnTo>
                      <a:pt x="223" y="102"/>
                    </a:lnTo>
                    <a:lnTo>
                      <a:pt x="228" y="101"/>
                    </a:lnTo>
                    <a:lnTo>
                      <a:pt x="231" y="100"/>
                    </a:lnTo>
                    <a:lnTo>
                      <a:pt x="236" y="97"/>
                    </a:lnTo>
                    <a:lnTo>
                      <a:pt x="245" y="91"/>
                    </a:lnTo>
                    <a:lnTo>
                      <a:pt x="255" y="83"/>
                    </a:lnTo>
                    <a:lnTo>
                      <a:pt x="263" y="74"/>
                    </a:lnTo>
                    <a:lnTo>
                      <a:pt x="271" y="63"/>
                    </a:lnTo>
                    <a:lnTo>
                      <a:pt x="277" y="52"/>
                    </a:lnTo>
                    <a:lnTo>
                      <a:pt x="281" y="41"/>
                    </a:lnTo>
                    <a:lnTo>
                      <a:pt x="283" y="35"/>
                    </a:lnTo>
                    <a:lnTo>
                      <a:pt x="284" y="31"/>
                    </a:lnTo>
                    <a:lnTo>
                      <a:pt x="284" y="26"/>
                    </a:lnTo>
                    <a:lnTo>
                      <a:pt x="283" y="20"/>
                    </a:lnTo>
                    <a:lnTo>
                      <a:pt x="280" y="17"/>
                    </a:lnTo>
                    <a:lnTo>
                      <a:pt x="278" y="12"/>
                    </a:lnTo>
                    <a:lnTo>
                      <a:pt x="274" y="9"/>
                    </a:lnTo>
                    <a:lnTo>
                      <a:pt x="270" y="6"/>
                    </a:lnTo>
                    <a:lnTo>
                      <a:pt x="264" y="4"/>
                    </a:lnTo>
                    <a:lnTo>
                      <a:pt x="257" y="2"/>
                    </a:lnTo>
                    <a:lnTo>
                      <a:pt x="249" y="0"/>
                    </a:lnTo>
                    <a:lnTo>
                      <a:pt x="239" y="0"/>
                    </a:lnTo>
                    <a:lnTo>
                      <a:pt x="218" y="0"/>
                    </a:lnTo>
                    <a:lnTo>
                      <a:pt x="195" y="4"/>
                    </a:lnTo>
                    <a:lnTo>
                      <a:pt x="172" y="9"/>
                    </a:lnTo>
                    <a:lnTo>
                      <a:pt x="147" y="16"/>
                    </a:lnTo>
                    <a:lnTo>
                      <a:pt x="123" y="23"/>
                    </a:lnTo>
                    <a:lnTo>
                      <a:pt x="99" y="32"/>
                    </a:lnTo>
                    <a:lnTo>
                      <a:pt x="77" y="42"/>
                    </a:lnTo>
                    <a:lnTo>
                      <a:pt x="56" y="54"/>
                    </a:lnTo>
                    <a:lnTo>
                      <a:pt x="39" y="66"/>
                    </a:lnTo>
                    <a:lnTo>
                      <a:pt x="22" y="77"/>
                    </a:lnTo>
                    <a:lnTo>
                      <a:pt x="16" y="84"/>
                    </a:lnTo>
                    <a:lnTo>
                      <a:pt x="10" y="90"/>
                    </a:lnTo>
                    <a:lnTo>
                      <a:pt x="6" y="97"/>
                    </a:lnTo>
                    <a:lnTo>
                      <a:pt x="2" y="103"/>
                    </a:lnTo>
                    <a:lnTo>
                      <a:pt x="1" y="110"/>
                    </a:lnTo>
                    <a:lnTo>
                      <a:pt x="0" y="116"/>
                    </a:lnTo>
                    <a:lnTo>
                      <a:pt x="0" y="122"/>
                    </a:lnTo>
                    <a:lnTo>
                      <a:pt x="1" y="129"/>
                    </a:lnTo>
                    <a:lnTo>
                      <a:pt x="5" y="135"/>
                    </a:lnTo>
                    <a:lnTo>
                      <a:pt x="9" y="141"/>
                    </a:lnTo>
                    <a:lnTo>
                      <a:pt x="15" y="146"/>
                    </a:lnTo>
                    <a:lnTo>
                      <a:pt x="23" y="152"/>
                    </a:lnTo>
                    <a:close/>
                  </a:path>
                </a:pathLst>
              </a:custGeom>
              <a:solidFill>
                <a:srgbClr val="93d5ed"/>
              </a:solidFill>
              <a:ln w="9360">
                <a:solidFill>
                  <a:srgbClr val="ccecff"/>
                </a:solidFill>
                <a:round/>
              </a:ln>
            </p:spPr>
            <p:style>
              <a:lnRef idx="0"/>
              <a:fillRef idx="0"/>
              <a:effectRef idx="0"/>
              <a:fontRef idx="minor"/>
            </p:style>
            <p:txBody>
              <a:bodyPr lIns="90000" rIns="90000" tIns="30600" bIns="30600" anchor="t">
                <a:noAutofit/>
              </a:bodyPr>
              <a:p>
                <a:endParaRPr b="1" lang="en-US" sz="2400" spc="-1" strike="noStrike">
                  <a:solidFill>
                    <a:srgbClr val="ffffff"/>
                  </a:solidFill>
                  <a:latin typeface="Times New Roman"/>
                </a:endParaRPr>
              </a:p>
            </p:txBody>
          </p:sp>
          <p:sp>
            <p:nvSpPr>
              <p:cNvPr id="679" name="Freeform 200"/>
              <p:cNvSpPr/>
              <p:nvPr/>
            </p:nvSpPr>
            <p:spPr>
              <a:xfrm>
                <a:off x="1456560" y="4161600"/>
                <a:ext cx="111960" cy="79560"/>
              </a:xfrm>
              <a:custGeom>
                <a:avLst/>
                <a:gdLst>
                  <a:gd name="textAreaLeft" fmla="*/ 0 w 111960"/>
                  <a:gd name="textAreaRight" fmla="*/ 112320 w 111960"/>
                  <a:gd name="textAreaTop" fmla="*/ 0 h 79560"/>
                  <a:gd name="textAreaBottom" fmla="*/ 79560 h 79560"/>
                </a:gdLst>
                <a:ahLst/>
                <a:rect l="textAreaLeft" t="textAreaTop" r="textAreaRight" b="textAreaBottom"/>
                <a:pathLst>
                  <a:path w="257" h="173">
                    <a:moveTo>
                      <a:pt x="163" y="0"/>
                    </a:moveTo>
                    <a:lnTo>
                      <a:pt x="131" y="64"/>
                    </a:lnTo>
                    <a:lnTo>
                      <a:pt x="70" y="64"/>
                    </a:lnTo>
                    <a:lnTo>
                      <a:pt x="54" y="77"/>
                    </a:lnTo>
                    <a:lnTo>
                      <a:pt x="39" y="91"/>
                    </a:lnTo>
                    <a:lnTo>
                      <a:pt x="26" y="103"/>
                    </a:lnTo>
                    <a:lnTo>
                      <a:pt x="15" y="114"/>
                    </a:lnTo>
                    <a:lnTo>
                      <a:pt x="8" y="125"/>
                    </a:lnTo>
                    <a:lnTo>
                      <a:pt x="3" y="134"/>
                    </a:lnTo>
                    <a:lnTo>
                      <a:pt x="1" y="139"/>
                    </a:lnTo>
                    <a:lnTo>
                      <a:pt x="0" y="142"/>
                    </a:lnTo>
                    <a:lnTo>
                      <a:pt x="0" y="147"/>
                    </a:lnTo>
                    <a:lnTo>
                      <a:pt x="1" y="151"/>
                    </a:lnTo>
                    <a:lnTo>
                      <a:pt x="3" y="154"/>
                    </a:lnTo>
                    <a:lnTo>
                      <a:pt x="5" y="158"/>
                    </a:lnTo>
                    <a:lnTo>
                      <a:pt x="8" y="160"/>
                    </a:lnTo>
                    <a:lnTo>
                      <a:pt x="12" y="162"/>
                    </a:lnTo>
                    <a:lnTo>
                      <a:pt x="22" y="167"/>
                    </a:lnTo>
                    <a:lnTo>
                      <a:pt x="36" y="170"/>
                    </a:lnTo>
                    <a:lnTo>
                      <a:pt x="54" y="173"/>
                    </a:lnTo>
                    <a:lnTo>
                      <a:pt x="75" y="173"/>
                    </a:lnTo>
                    <a:lnTo>
                      <a:pt x="101" y="173"/>
                    </a:lnTo>
                    <a:lnTo>
                      <a:pt x="131" y="170"/>
                    </a:lnTo>
                    <a:lnTo>
                      <a:pt x="146" y="168"/>
                    </a:lnTo>
                    <a:lnTo>
                      <a:pt x="160" y="166"/>
                    </a:lnTo>
                    <a:lnTo>
                      <a:pt x="174" y="162"/>
                    </a:lnTo>
                    <a:lnTo>
                      <a:pt x="186" y="159"/>
                    </a:lnTo>
                    <a:lnTo>
                      <a:pt x="198" y="154"/>
                    </a:lnTo>
                    <a:lnTo>
                      <a:pt x="207" y="148"/>
                    </a:lnTo>
                    <a:lnTo>
                      <a:pt x="216" y="142"/>
                    </a:lnTo>
                    <a:lnTo>
                      <a:pt x="224" y="135"/>
                    </a:lnTo>
                    <a:lnTo>
                      <a:pt x="233" y="128"/>
                    </a:lnTo>
                    <a:lnTo>
                      <a:pt x="239" y="121"/>
                    </a:lnTo>
                    <a:lnTo>
                      <a:pt x="243" y="114"/>
                    </a:lnTo>
                    <a:lnTo>
                      <a:pt x="248" y="106"/>
                    </a:lnTo>
                    <a:lnTo>
                      <a:pt x="251" y="99"/>
                    </a:lnTo>
                    <a:lnTo>
                      <a:pt x="254" y="91"/>
                    </a:lnTo>
                    <a:lnTo>
                      <a:pt x="256" y="83"/>
                    </a:lnTo>
                    <a:lnTo>
                      <a:pt x="257" y="75"/>
                    </a:lnTo>
                    <a:lnTo>
                      <a:pt x="257" y="66"/>
                    </a:lnTo>
                    <a:lnTo>
                      <a:pt x="256" y="59"/>
                    </a:lnTo>
                    <a:lnTo>
                      <a:pt x="254" y="51"/>
                    </a:lnTo>
                    <a:lnTo>
                      <a:pt x="251" y="44"/>
                    </a:lnTo>
                    <a:lnTo>
                      <a:pt x="248" y="37"/>
                    </a:lnTo>
                    <a:lnTo>
                      <a:pt x="244" y="30"/>
                    </a:lnTo>
                    <a:lnTo>
                      <a:pt x="240" y="24"/>
                    </a:lnTo>
                    <a:lnTo>
                      <a:pt x="234" y="19"/>
                    </a:lnTo>
                    <a:lnTo>
                      <a:pt x="227" y="14"/>
                    </a:lnTo>
                    <a:lnTo>
                      <a:pt x="220" y="9"/>
                    </a:lnTo>
                    <a:lnTo>
                      <a:pt x="212" y="6"/>
                    </a:lnTo>
                    <a:lnTo>
                      <a:pt x="203" y="3"/>
                    </a:lnTo>
                    <a:lnTo>
                      <a:pt x="194" y="1"/>
                    </a:lnTo>
                    <a:lnTo>
                      <a:pt x="185" y="0"/>
                    </a:lnTo>
                    <a:lnTo>
                      <a:pt x="174" y="0"/>
                    </a:lnTo>
                    <a:lnTo>
                      <a:pt x="163" y="0"/>
                    </a:lnTo>
                    <a:close/>
                  </a:path>
                </a:pathLst>
              </a:custGeom>
              <a:solidFill>
                <a:srgbClr val="93d5ed"/>
              </a:solidFill>
              <a:ln w="9360">
                <a:solidFill>
                  <a:srgbClr val="ccecff"/>
                </a:solidFill>
                <a:round/>
              </a:ln>
            </p:spPr>
            <p:style>
              <a:lnRef idx="0"/>
              <a:fillRef idx="0"/>
              <a:effectRef idx="0"/>
              <a:fontRef idx="minor"/>
            </p:style>
            <p:txBody>
              <a:bodyPr lIns="90000" rIns="90000" tIns="32760" bIns="32760" anchor="t">
                <a:noAutofit/>
              </a:bodyPr>
              <a:p>
                <a:endParaRPr b="1" lang="en-US" sz="2400" spc="-1" strike="noStrike">
                  <a:solidFill>
                    <a:srgbClr val="ffffff"/>
                  </a:solidFill>
                  <a:latin typeface="Times New Roman"/>
                </a:endParaRPr>
              </a:p>
            </p:txBody>
          </p:sp>
          <p:sp>
            <p:nvSpPr>
              <p:cNvPr id="680" name="Freeform 201"/>
              <p:cNvSpPr/>
              <p:nvPr/>
            </p:nvSpPr>
            <p:spPr>
              <a:xfrm>
                <a:off x="1456560" y="4161600"/>
                <a:ext cx="111960" cy="79560"/>
              </a:xfrm>
              <a:custGeom>
                <a:avLst/>
                <a:gdLst>
                  <a:gd name="textAreaLeft" fmla="*/ 0 w 111960"/>
                  <a:gd name="textAreaRight" fmla="*/ 112320 w 111960"/>
                  <a:gd name="textAreaTop" fmla="*/ 0 h 79560"/>
                  <a:gd name="textAreaBottom" fmla="*/ 79560 h 79560"/>
                </a:gdLst>
                <a:ahLst/>
                <a:rect l="textAreaLeft" t="textAreaTop" r="textAreaRight" b="textAreaBottom"/>
                <a:pathLst>
                  <a:path w="257" h="173">
                    <a:moveTo>
                      <a:pt x="163" y="0"/>
                    </a:moveTo>
                    <a:lnTo>
                      <a:pt x="131" y="64"/>
                    </a:lnTo>
                    <a:lnTo>
                      <a:pt x="70" y="64"/>
                    </a:lnTo>
                    <a:lnTo>
                      <a:pt x="54" y="77"/>
                    </a:lnTo>
                    <a:lnTo>
                      <a:pt x="39" y="91"/>
                    </a:lnTo>
                    <a:lnTo>
                      <a:pt x="26" y="103"/>
                    </a:lnTo>
                    <a:lnTo>
                      <a:pt x="15" y="114"/>
                    </a:lnTo>
                    <a:lnTo>
                      <a:pt x="8" y="125"/>
                    </a:lnTo>
                    <a:lnTo>
                      <a:pt x="3" y="134"/>
                    </a:lnTo>
                    <a:lnTo>
                      <a:pt x="1" y="139"/>
                    </a:lnTo>
                    <a:lnTo>
                      <a:pt x="0" y="142"/>
                    </a:lnTo>
                    <a:lnTo>
                      <a:pt x="0" y="147"/>
                    </a:lnTo>
                    <a:lnTo>
                      <a:pt x="1" y="151"/>
                    </a:lnTo>
                    <a:lnTo>
                      <a:pt x="3" y="154"/>
                    </a:lnTo>
                    <a:lnTo>
                      <a:pt x="5" y="158"/>
                    </a:lnTo>
                    <a:lnTo>
                      <a:pt x="8" y="160"/>
                    </a:lnTo>
                    <a:lnTo>
                      <a:pt x="12" y="162"/>
                    </a:lnTo>
                    <a:lnTo>
                      <a:pt x="22" y="167"/>
                    </a:lnTo>
                    <a:lnTo>
                      <a:pt x="36" y="170"/>
                    </a:lnTo>
                    <a:lnTo>
                      <a:pt x="54" y="173"/>
                    </a:lnTo>
                    <a:lnTo>
                      <a:pt x="75" y="173"/>
                    </a:lnTo>
                    <a:lnTo>
                      <a:pt x="101" y="173"/>
                    </a:lnTo>
                    <a:lnTo>
                      <a:pt x="131" y="170"/>
                    </a:lnTo>
                    <a:lnTo>
                      <a:pt x="146" y="168"/>
                    </a:lnTo>
                    <a:lnTo>
                      <a:pt x="160" y="166"/>
                    </a:lnTo>
                    <a:lnTo>
                      <a:pt x="174" y="162"/>
                    </a:lnTo>
                    <a:lnTo>
                      <a:pt x="186" y="159"/>
                    </a:lnTo>
                    <a:lnTo>
                      <a:pt x="198" y="154"/>
                    </a:lnTo>
                    <a:lnTo>
                      <a:pt x="207" y="148"/>
                    </a:lnTo>
                    <a:lnTo>
                      <a:pt x="216" y="142"/>
                    </a:lnTo>
                    <a:lnTo>
                      <a:pt x="224" y="135"/>
                    </a:lnTo>
                    <a:lnTo>
                      <a:pt x="233" y="128"/>
                    </a:lnTo>
                    <a:lnTo>
                      <a:pt x="239" y="121"/>
                    </a:lnTo>
                    <a:lnTo>
                      <a:pt x="243" y="114"/>
                    </a:lnTo>
                    <a:lnTo>
                      <a:pt x="248" y="106"/>
                    </a:lnTo>
                    <a:lnTo>
                      <a:pt x="251" y="99"/>
                    </a:lnTo>
                    <a:lnTo>
                      <a:pt x="254" y="91"/>
                    </a:lnTo>
                    <a:lnTo>
                      <a:pt x="256" y="83"/>
                    </a:lnTo>
                    <a:lnTo>
                      <a:pt x="257" y="75"/>
                    </a:lnTo>
                    <a:lnTo>
                      <a:pt x="257" y="66"/>
                    </a:lnTo>
                    <a:lnTo>
                      <a:pt x="256" y="59"/>
                    </a:lnTo>
                    <a:lnTo>
                      <a:pt x="254" y="51"/>
                    </a:lnTo>
                    <a:lnTo>
                      <a:pt x="251" y="44"/>
                    </a:lnTo>
                    <a:lnTo>
                      <a:pt x="248" y="37"/>
                    </a:lnTo>
                    <a:lnTo>
                      <a:pt x="244" y="30"/>
                    </a:lnTo>
                    <a:lnTo>
                      <a:pt x="240" y="24"/>
                    </a:lnTo>
                    <a:lnTo>
                      <a:pt x="234" y="19"/>
                    </a:lnTo>
                    <a:lnTo>
                      <a:pt x="227" y="14"/>
                    </a:lnTo>
                    <a:lnTo>
                      <a:pt x="220" y="9"/>
                    </a:lnTo>
                    <a:lnTo>
                      <a:pt x="212" y="6"/>
                    </a:lnTo>
                    <a:lnTo>
                      <a:pt x="203" y="3"/>
                    </a:lnTo>
                    <a:lnTo>
                      <a:pt x="194" y="1"/>
                    </a:lnTo>
                    <a:lnTo>
                      <a:pt x="185" y="0"/>
                    </a:lnTo>
                    <a:lnTo>
                      <a:pt x="174" y="0"/>
                    </a:lnTo>
                    <a:lnTo>
                      <a:pt x="163" y="0"/>
                    </a:lnTo>
                  </a:path>
                </a:pathLst>
              </a:custGeom>
              <a:solidFill>
                <a:srgbClr val="93d5ed"/>
              </a:solidFill>
              <a:ln w="9360">
                <a:solidFill>
                  <a:srgbClr val="ccecff"/>
                </a:solidFill>
                <a:round/>
              </a:ln>
            </p:spPr>
            <p:style>
              <a:lnRef idx="0"/>
              <a:fillRef idx="0"/>
              <a:effectRef idx="0"/>
              <a:fontRef idx="minor"/>
            </p:style>
            <p:txBody>
              <a:bodyPr lIns="90000" rIns="90000" tIns="32760" bIns="32760" anchor="t">
                <a:noAutofit/>
              </a:bodyPr>
              <a:p>
                <a:endParaRPr b="1" lang="en-US" sz="2400" spc="-1" strike="noStrike">
                  <a:solidFill>
                    <a:srgbClr val="ffffff"/>
                  </a:solidFill>
                  <a:latin typeface="Times New Roman"/>
                </a:endParaRPr>
              </a:p>
            </p:txBody>
          </p:sp>
          <p:sp>
            <p:nvSpPr>
              <p:cNvPr id="681" name="Freeform 202"/>
              <p:cNvSpPr/>
              <p:nvPr/>
            </p:nvSpPr>
            <p:spPr>
              <a:xfrm>
                <a:off x="1243080" y="4107600"/>
                <a:ext cx="125280" cy="56520"/>
              </a:xfrm>
              <a:custGeom>
                <a:avLst/>
                <a:gdLst>
                  <a:gd name="textAreaLeft" fmla="*/ 0 w 125280"/>
                  <a:gd name="textAreaRight" fmla="*/ 125640 w 125280"/>
                  <a:gd name="textAreaTop" fmla="*/ 0 h 56520"/>
                  <a:gd name="textAreaBottom" fmla="*/ 56880 h 56520"/>
                </a:gdLst>
                <a:ahLst/>
                <a:rect l="textAreaLeft" t="textAreaTop" r="textAreaRight" b="textAreaBottom"/>
                <a:pathLst>
                  <a:path w="285" h="123">
                    <a:moveTo>
                      <a:pt x="106" y="28"/>
                    </a:moveTo>
                    <a:lnTo>
                      <a:pt x="86" y="36"/>
                    </a:lnTo>
                    <a:lnTo>
                      <a:pt x="68" y="44"/>
                    </a:lnTo>
                    <a:lnTo>
                      <a:pt x="52" y="53"/>
                    </a:lnTo>
                    <a:lnTo>
                      <a:pt x="38" y="62"/>
                    </a:lnTo>
                    <a:lnTo>
                      <a:pt x="25" y="71"/>
                    </a:lnTo>
                    <a:lnTo>
                      <a:pt x="16" y="79"/>
                    </a:lnTo>
                    <a:lnTo>
                      <a:pt x="7" y="87"/>
                    </a:lnTo>
                    <a:lnTo>
                      <a:pt x="3" y="94"/>
                    </a:lnTo>
                    <a:lnTo>
                      <a:pt x="2" y="99"/>
                    </a:lnTo>
                    <a:lnTo>
                      <a:pt x="0" y="101"/>
                    </a:lnTo>
                    <a:lnTo>
                      <a:pt x="0" y="105"/>
                    </a:lnTo>
                    <a:lnTo>
                      <a:pt x="2" y="108"/>
                    </a:lnTo>
                    <a:lnTo>
                      <a:pt x="3" y="111"/>
                    </a:lnTo>
                    <a:lnTo>
                      <a:pt x="5" y="113"/>
                    </a:lnTo>
                    <a:lnTo>
                      <a:pt x="7" y="115"/>
                    </a:lnTo>
                    <a:lnTo>
                      <a:pt x="12" y="118"/>
                    </a:lnTo>
                    <a:lnTo>
                      <a:pt x="21" y="120"/>
                    </a:lnTo>
                    <a:lnTo>
                      <a:pt x="35" y="121"/>
                    </a:lnTo>
                    <a:lnTo>
                      <a:pt x="53" y="121"/>
                    </a:lnTo>
                    <a:lnTo>
                      <a:pt x="74" y="119"/>
                    </a:lnTo>
                    <a:lnTo>
                      <a:pt x="96" y="118"/>
                    </a:lnTo>
                    <a:lnTo>
                      <a:pt x="116" y="115"/>
                    </a:lnTo>
                    <a:lnTo>
                      <a:pt x="135" y="115"/>
                    </a:lnTo>
                    <a:lnTo>
                      <a:pt x="151" y="115"/>
                    </a:lnTo>
                    <a:lnTo>
                      <a:pt x="179" y="116"/>
                    </a:lnTo>
                    <a:lnTo>
                      <a:pt x="203" y="119"/>
                    </a:lnTo>
                    <a:lnTo>
                      <a:pt x="221" y="122"/>
                    </a:lnTo>
                    <a:lnTo>
                      <a:pt x="236" y="123"/>
                    </a:lnTo>
                    <a:lnTo>
                      <a:pt x="243" y="123"/>
                    </a:lnTo>
                    <a:lnTo>
                      <a:pt x="249" y="122"/>
                    </a:lnTo>
                    <a:lnTo>
                      <a:pt x="255" y="121"/>
                    </a:lnTo>
                    <a:lnTo>
                      <a:pt x="262" y="119"/>
                    </a:lnTo>
                    <a:lnTo>
                      <a:pt x="267" y="115"/>
                    </a:lnTo>
                    <a:lnTo>
                      <a:pt x="273" y="107"/>
                    </a:lnTo>
                    <a:lnTo>
                      <a:pt x="277" y="98"/>
                    </a:lnTo>
                    <a:lnTo>
                      <a:pt x="282" y="86"/>
                    </a:lnTo>
                    <a:lnTo>
                      <a:pt x="284" y="73"/>
                    </a:lnTo>
                    <a:lnTo>
                      <a:pt x="285" y="59"/>
                    </a:lnTo>
                    <a:lnTo>
                      <a:pt x="285" y="52"/>
                    </a:lnTo>
                    <a:lnTo>
                      <a:pt x="284" y="46"/>
                    </a:lnTo>
                    <a:lnTo>
                      <a:pt x="283" y="39"/>
                    </a:lnTo>
                    <a:lnTo>
                      <a:pt x="281" y="34"/>
                    </a:lnTo>
                    <a:lnTo>
                      <a:pt x="278" y="28"/>
                    </a:lnTo>
                    <a:lnTo>
                      <a:pt x="274" y="22"/>
                    </a:lnTo>
                    <a:lnTo>
                      <a:pt x="269" y="17"/>
                    </a:lnTo>
                    <a:lnTo>
                      <a:pt x="264" y="13"/>
                    </a:lnTo>
                    <a:lnTo>
                      <a:pt x="257" y="8"/>
                    </a:lnTo>
                    <a:lnTo>
                      <a:pt x="250" y="4"/>
                    </a:lnTo>
                    <a:lnTo>
                      <a:pt x="241" y="2"/>
                    </a:lnTo>
                    <a:lnTo>
                      <a:pt x="232" y="1"/>
                    </a:lnTo>
                    <a:lnTo>
                      <a:pt x="220" y="0"/>
                    </a:lnTo>
                    <a:lnTo>
                      <a:pt x="208" y="0"/>
                    </a:lnTo>
                    <a:lnTo>
                      <a:pt x="194" y="2"/>
                    </a:lnTo>
                    <a:lnTo>
                      <a:pt x="180" y="4"/>
                    </a:lnTo>
                    <a:lnTo>
                      <a:pt x="164" y="8"/>
                    </a:lnTo>
                    <a:lnTo>
                      <a:pt x="146" y="13"/>
                    </a:lnTo>
                    <a:lnTo>
                      <a:pt x="127" y="20"/>
                    </a:lnTo>
                    <a:lnTo>
                      <a:pt x="106" y="28"/>
                    </a:lnTo>
                    <a:close/>
                  </a:path>
                </a:pathLst>
              </a:custGeom>
              <a:solidFill>
                <a:srgbClr val="93d5ed"/>
              </a:solidFill>
              <a:ln w="9360">
                <a:solidFill>
                  <a:srgbClr val="ccecff"/>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Times New Roman"/>
                </a:endParaRPr>
              </a:p>
            </p:txBody>
          </p:sp>
          <p:sp>
            <p:nvSpPr>
              <p:cNvPr id="682" name="Freeform 203"/>
              <p:cNvSpPr/>
              <p:nvPr/>
            </p:nvSpPr>
            <p:spPr>
              <a:xfrm>
                <a:off x="1243080" y="4107600"/>
                <a:ext cx="125280" cy="56520"/>
              </a:xfrm>
              <a:custGeom>
                <a:avLst/>
                <a:gdLst>
                  <a:gd name="textAreaLeft" fmla="*/ 0 w 125280"/>
                  <a:gd name="textAreaRight" fmla="*/ 125640 w 125280"/>
                  <a:gd name="textAreaTop" fmla="*/ 0 h 56520"/>
                  <a:gd name="textAreaBottom" fmla="*/ 56880 h 56520"/>
                </a:gdLst>
                <a:ahLst/>
                <a:rect l="textAreaLeft" t="textAreaTop" r="textAreaRight" b="textAreaBottom"/>
                <a:pathLst>
                  <a:path w="285" h="123">
                    <a:moveTo>
                      <a:pt x="106" y="28"/>
                    </a:moveTo>
                    <a:lnTo>
                      <a:pt x="86" y="36"/>
                    </a:lnTo>
                    <a:lnTo>
                      <a:pt x="68" y="44"/>
                    </a:lnTo>
                    <a:lnTo>
                      <a:pt x="52" y="53"/>
                    </a:lnTo>
                    <a:lnTo>
                      <a:pt x="38" y="62"/>
                    </a:lnTo>
                    <a:lnTo>
                      <a:pt x="25" y="71"/>
                    </a:lnTo>
                    <a:lnTo>
                      <a:pt x="16" y="79"/>
                    </a:lnTo>
                    <a:lnTo>
                      <a:pt x="7" y="87"/>
                    </a:lnTo>
                    <a:lnTo>
                      <a:pt x="3" y="94"/>
                    </a:lnTo>
                    <a:lnTo>
                      <a:pt x="2" y="99"/>
                    </a:lnTo>
                    <a:lnTo>
                      <a:pt x="0" y="101"/>
                    </a:lnTo>
                    <a:lnTo>
                      <a:pt x="0" y="105"/>
                    </a:lnTo>
                    <a:lnTo>
                      <a:pt x="2" y="108"/>
                    </a:lnTo>
                    <a:lnTo>
                      <a:pt x="3" y="111"/>
                    </a:lnTo>
                    <a:lnTo>
                      <a:pt x="5" y="113"/>
                    </a:lnTo>
                    <a:lnTo>
                      <a:pt x="7" y="115"/>
                    </a:lnTo>
                    <a:lnTo>
                      <a:pt x="12" y="118"/>
                    </a:lnTo>
                    <a:lnTo>
                      <a:pt x="21" y="120"/>
                    </a:lnTo>
                    <a:lnTo>
                      <a:pt x="35" y="121"/>
                    </a:lnTo>
                    <a:lnTo>
                      <a:pt x="53" y="121"/>
                    </a:lnTo>
                    <a:lnTo>
                      <a:pt x="74" y="119"/>
                    </a:lnTo>
                    <a:lnTo>
                      <a:pt x="96" y="118"/>
                    </a:lnTo>
                    <a:lnTo>
                      <a:pt x="116" y="115"/>
                    </a:lnTo>
                    <a:lnTo>
                      <a:pt x="135" y="115"/>
                    </a:lnTo>
                    <a:lnTo>
                      <a:pt x="151" y="115"/>
                    </a:lnTo>
                    <a:lnTo>
                      <a:pt x="179" y="116"/>
                    </a:lnTo>
                    <a:lnTo>
                      <a:pt x="203" y="119"/>
                    </a:lnTo>
                    <a:lnTo>
                      <a:pt x="221" y="122"/>
                    </a:lnTo>
                    <a:lnTo>
                      <a:pt x="236" y="123"/>
                    </a:lnTo>
                    <a:lnTo>
                      <a:pt x="243" y="123"/>
                    </a:lnTo>
                    <a:lnTo>
                      <a:pt x="249" y="122"/>
                    </a:lnTo>
                    <a:lnTo>
                      <a:pt x="255" y="121"/>
                    </a:lnTo>
                    <a:lnTo>
                      <a:pt x="262" y="119"/>
                    </a:lnTo>
                    <a:lnTo>
                      <a:pt x="267" y="115"/>
                    </a:lnTo>
                    <a:lnTo>
                      <a:pt x="273" y="107"/>
                    </a:lnTo>
                    <a:lnTo>
                      <a:pt x="277" y="98"/>
                    </a:lnTo>
                    <a:lnTo>
                      <a:pt x="282" y="86"/>
                    </a:lnTo>
                    <a:lnTo>
                      <a:pt x="284" y="73"/>
                    </a:lnTo>
                    <a:lnTo>
                      <a:pt x="285" y="59"/>
                    </a:lnTo>
                    <a:lnTo>
                      <a:pt x="285" y="52"/>
                    </a:lnTo>
                    <a:lnTo>
                      <a:pt x="284" y="46"/>
                    </a:lnTo>
                    <a:lnTo>
                      <a:pt x="283" y="39"/>
                    </a:lnTo>
                    <a:lnTo>
                      <a:pt x="281" y="34"/>
                    </a:lnTo>
                    <a:lnTo>
                      <a:pt x="278" y="28"/>
                    </a:lnTo>
                    <a:lnTo>
                      <a:pt x="274" y="22"/>
                    </a:lnTo>
                    <a:lnTo>
                      <a:pt x="269" y="17"/>
                    </a:lnTo>
                    <a:lnTo>
                      <a:pt x="264" y="13"/>
                    </a:lnTo>
                    <a:lnTo>
                      <a:pt x="257" y="8"/>
                    </a:lnTo>
                    <a:lnTo>
                      <a:pt x="250" y="4"/>
                    </a:lnTo>
                    <a:lnTo>
                      <a:pt x="241" y="2"/>
                    </a:lnTo>
                    <a:lnTo>
                      <a:pt x="232" y="1"/>
                    </a:lnTo>
                    <a:lnTo>
                      <a:pt x="220" y="0"/>
                    </a:lnTo>
                    <a:lnTo>
                      <a:pt x="208" y="0"/>
                    </a:lnTo>
                    <a:lnTo>
                      <a:pt x="194" y="2"/>
                    </a:lnTo>
                    <a:lnTo>
                      <a:pt x="180" y="4"/>
                    </a:lnTo>
                    <a:lnTo>
                      <a:pt x="164" y="8"/>
                    </a:lnTo>
                    <a:lnTo>
                      <a:pt x="146" y="13"/>
                    </a:lnTo>
                    <a:lnTo>
                      <a:pt x="127" y="20"/>
                    </a:lnTo>
                    <a:lnTo>
                      <a:pt x="106" y="28"/>
                    </a:lnTo>
                    <a:close/>
                  </a:path>
                </a:pathLst>
              </a:custGeom>
              <a:solidFill>
                <a:srgbClr val="93d5ed"/>
              </a:solidFill>
              <a:ln w="9360">
                <a:solidFill>
                  <a:srgbClr val="ccecff"/>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Times New Roman"/>
                </a:endParaRPr>
              </a:p>
            </p:txBody>
          </p:sp>
          <p:sp>
            <p:nvSpPr>
              <p:cNvPr id="683" name="Freeform 204"/>
              <p:cNvSpPr/>
              <p:nvPr/>
            </p:nvSpPr>
            <p:spPr>
              <a:xfrm>
                <a:off x="1122840" y="4125600"/>
                <a:ext cx="92160" cy="99720"/>
              </a:xfrm>
              <a:custGeom>
                <a:avLst/>
                <a:gdLst>
                  <a:gd name="textAreaLeft" fmla="*/ 0 w 92160"/>
                  <a:gd name="textAreaRight" fmla="*/ 92520 w 92160"/>
                  <a:gd name="textAreaTop" fmla="*/ 0 h 99720"/>
                  <a:gd name="textAreaBottom" fmla="*/ 100080 h 99720"/>
                </a:gdLst>
                <a:ahLst/>
                <a:rect l="textAreaLeft" t="textAreaTop" r="textAreaRight" b="textAreaBottom"/>
                <a:pathLst>
                  <a:path w="207" h="221">
                    <a:moveTo>
                      <a:pt x="207" y="50"/>
                    </a:moveTo>
                    <a:lnTo>
                      <a:pt x="97" y="206"/>
                    </a:lnTo>
                    <a:lnTo>
                      <a:pt x="90" y="208"/>
                    </a:lnTo>
                    <a:lnTo>
                      <a:pt x="73" y="214"/>
                    </a:lnTo>
                    <a:lnTo>
                      <a:pt x="61" y="216"/>
                    </a:lnTo>
                    <a:lnTo>
                      <a:pt x="49" y="218"/>
                    </a:lnTo>
                    <a:lnTo>
                      <a:pt x="38" y="221"/>
                    </a:lnTo>
                    <a:lnTo>
                      <a:pt x="26" y="221"/>
                    </a:lnTo>
                    <a:lnTo>
                      <a:pt x="17" y="221"/>
                    </a:lnTo>
                    <a:lnTo>
                      <a:pt x="9" y="218"/>
                    </a:lnTo>
                    <a:lnTo>
                      <a:pt x="5" y="216"/>
                    </a:lnTo>
                    <a:lnTo>
                      <a:pt x="3" y="214"/>
                    </a:lnTo>
                    <a:lnTo>
                      <a:pt x="2" y="210"/>
                    </a:lnTo>
                    <a:lnTo>
                      <a:pt x="0" y="206"/>
                    </a:lnTo>
                    <a:lnTo>
                      <a:pt x="0" y="202"/>
                    </a:lnTo>
                    <a:lnTo>
                      <a:pt x="2" y="196"/>
                    </a:lnTo>
                    <a:lnTo>
                      <a:pt x="5" y="190"/>
                    </a:lnTo>
                    <a:lnTo>
                      <a:pt x="9" y="183"/>
                    </a:lnTo>
                    <a:lnTo>
                      <a:pt x="20" y="166"/>
                    </a:lnTo>
                    <a:lnTo>
                      <a:pt x="37" y="146"/>
                    </a:lnTo>
                    <a:lnTo>
                      <a:pt x="73" y="102"/>
                    </a:lnTo>
                    <a:lnTo>
                      <a:pt x="102" y="63"/>
                    </a:lnTo>
                    <a:lnTo>
                      <a:pt x="115" y="47"/>
                    </a:lnTo>
                    <a:lnTo>
                      <a:pt x="125" y="33"/>
                    </a:lnTo>
                    <a:lnTo>
                      <a:pt x="136" y="21"/>
                    </a:lnTo>
                    <a:lnTo>
                      <a:pt x="145" y="12"/>
                    </a:lnTo>
                    <a:lnTo>
                      <a:pt x="153" y="5"/>
                    </a:lnTo>
                    <a:lnTo>
                      <a:pt x="162" y="1"/>
                    </a:lnTo>
                    <a:lnTo>
                      <a:pt x="165" y="0"/>
                    </a:lnTo>
                    <a:lnTo>
                      <a:pt x="169" y="0"/>
                    </a:lnTo>
                    <a:lnTo>
                      <a:pt x="172" y="1"/>
                    </a:lnTo>
                    <a:lnTo>
                      <a:pt x="176" y="4"/>
                    </a:lnTo>
                    <a:lnTo>
                      <a:pt x="179" y="6"/>
                    </a:lnTo>
                    <a:lnTo>
                      <a:pt x="184" y="9"/>
                    </a:lnTo>
                    <a:lnTo>
                      <a:pt x="187" y="14"/>
                    </a:lnTo>
                    <a:lnTo>
                      <a:pt x="191" y="19"/>
                    </a:lnTo>
                    <a:lnTo>
                      <a:pt x="199" y="33"/>
                    </a:lnTo>
                    <a:lnTo>
                      <a:pt x="207" y="5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84" name="Freeform 205"/>
              <p:cNvSpPr/>
              <p:nvPr/>
            </p:nvSpPr>
            <p:spPr>
              <a:xfrm>
                <a:off x="1122840" y="4125600"/>
                <a:ext cx="92160" cy="99720"/>
              </a:xfrm>
              <a:custGeom>
                <a:avLst/>
                <a:gdLst>
                  <a:gd name="textAreaLeft" fmla="*/ 0 w 92160"/>
                  <a:gd name="textAreaRight" fmla="*/ 92520 w 92160"/>
                  <a:gd name="textAreaTop" fmla="*/ 0 h 99720"/>
                  <a:gd name="textAreaBottom" fmla="*/ 100080 h 99720"/>
                </a:gdLst>
                <a:ahLst/>
                <a:rect l="textAreaLeft" t="textAreaTop" r="textAreaRight" b="textAreaBottom"/>
                <a:pathLst>
                  <a:path w="207" h="221">
                    <a:moveTo>
                      <a:pt x="207" y="50"/>
                    </a:moveTo>
                    <a:lnTo>
                      <a:pt x="97" y="206"/>
                    </a:lnTo>
                    <a:lnTo>
                      <a:pt x="90" y="208"/>
                    </a:lnTo>
                    <a:lnTo>
                      <a:pt x="73" y="214"/>
                    </a:lnTo>
                    <a:lnTo>
                      <a:pt x="61" y="216"/>
                    </a:lnTo>
                    <a:lnTo>
                      <a:pt x="49" y="218"/>
                    </a:lnTo>
                    <a:lnTo>
                      <a:pt x="38" y="221"/>
                    </a:lnTo>
                    <a:lnTo>
                      <a:pt x="26" y="221"/>
                    </a:lnTo>
                    <a:lnTo>
                      <a:pt x="17" y="221"/>
                    </a:lnTo>
                    <a:lnTo>
                      <a:pt x="9" y="218"/>
                    </a:lnTo>
                    <a:lnTo>
                      <a:pt x="5" y="216"/>
                    </a:lnTo>
                    <a:lnTo>
                      <a:pt x="3" y="214"/>
                    </a:lnTo>
                    <a:lnTo>
                      <a:pt x="2" y="210"/>
                    </a:lnTo>
                    <a:lnTo>
                      <a:pt x="0" y="206"/>
                    </a:lnTo>
                    <a:lnTo>
                      <a:pt x="0" y="202"/>
                    </a:lnTo>
                    <a:lnTo>
                      <a:pt x="2" y="196"/>
                    </a:lnTo>
                    <a:lnTo>
                      <a:pt x="5" y="190"/>
                    </a:lnTo>
                    <a:lnTo>
                      <a:pt x="9" y="183"/>
                    </a:lnTo>
                    <a:lnTo>
                      <a:pt x="20" y="166"/>
                    </a:lnTo>
                    <a:lnTo>
                      <a:pt x="37" y="146"/>
                    </a:lnTo>
                    <a:lnTo>
                      <a:pt x="73" y="102"/>
                    </a:lnTo>
                    <a:lnTo>
                      <a:pt x="102" y="63"/>
                    </a:lnTo>
                    <a:lnTo>
                      <a:pt x="115" y="47"/>
                    </a:lnTo>
                    <a:lnTo>
                      <a:pt x="125" y="33"/>
                    </a:lnTo>
                    <a:lnTo>
                      <a:pt x="136" y="21"/>
                    </a:lnTo>
                    <a:lnTo>
                      <a:pt x="145" y="12"/>
                    </a:lnTo>
                    <a:lnTo>
                      <a:pt x="153" y="5"/>
                    </a:lnTo>
                    <a:lnTo>
                      <a:pt x="162" y="1"/>
                    </a:lnTo>
                    <a:lnTo>
                      <a:pt x="165" y="0"/>
                    </a:lnTo>
                    <a:lnTo>
                      <a:pt x="169" y="0"/>
                    </a:lnTo>
                    <a:lnTo>
                      <a:pt x="172" y="1"/>
                    </a:lnTo>
                    <a:lnTo>
                      <a:pt x="176" y="4"/>
                    </a:lnTo>
                    <a:lnTo>
                      <a:pt x="179" y="6"/>
                    </a:lnTo>
                    <a:lnTo>
                      <a:pt x="184" y="9"/>
                    </a:lnTo>
                    <a:lnTo>
                      <a:pt x="187" y="14"/>
                    </a:lnTo>
                    <a:lnTo>
                      <a:pt x="191" y="19"/>
                    </a:lnTo>
                    <a:lnTo>
                      <a:pt x="199" y="33"/>
                    </a:lnTo>
                    <a:lnTo>
                      <a:pt x="207" y="5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sp>
          <p:nvSpPr>
            <p:cNvPr id="685" name="Freeform 206"/>
            <p:cNvSpPr/>
            <p:nvPr/>
          </p:nvSpPr>
          <p:spPr>
            <a:xfrm>
              <a:off x="5707440" y="2027880"/>
              <a:ext cx="636840" cy="190800"/>
            </a:xfrm>
            <a:custGeom>
              <a:avLst/>
              <a:gdLst>
                <a:gd name="textAreaLeft" fmla="*/ 0 w 636840"/>
                <a:gd name="textAreaRight" fmla="*/ 637200 w 636840"/>
                <a:gd name="textAreaTop" fmla="*/ 0 h 190800"/>
                <a:gd name="textAreaBottom" fmla="*/ 191160 h 190800"/>
              </a:gdLst>
              <a:ahLst/>
              <a:rect l="textAreaLeft" t="textAreaTop" r="textAreaRight" b="textAreaBottom"/>
              <a:pathLst>
                <a:path w="1452" h="422">
                  <a:moveTo>
                    <a:pt x="0" y="206"/>
                  </a:moveTo>
                  <a:lnTo>
                    <a:pt x="24" y="230"/>
                  </a:lnTo>
                  <a:lnTo>
                    <a:pt x="50" y="250"/>
                  </a:lnTo>
                  <a:lnTo>
                    <a:pt x="75" y="268"/>
                  </a:lnTo>
                  <a:lnTo>
                    <a:pt x="98" y="282"/>
                  </a:lnTo>
                  <a:lnTo>
                    <a:pt x="122" y="295"/>
                  </a:lnTo>
                  <a:lnTo>
                    <a:pt x="147" y="306"/>
                  </a:lnTo>
                  <a:lnTo>
                    <a:pt x="171" y="315"/>
                  </a:lnTo>
                  <a:lnTo>
                    <a:pt x="195" y="321"/>
                  </a:lnTo>
                  <a:lnTo>
                    <a:pt x="218" y="327"/>
                  </a:lnTo>
                  <a:lnTo>
                    <a:pt x="243" y="330"/>
                  </a:lnTo>
                  <a:lnTo>
                    <a:pt x="266" y="332"/>
                  </a:lnTo>
                  <a:lnTo>
                    <a:pt x="289" y="334"/>
                  </a:lnTo>
                  <a:lnTo>
                    <a:pt x="336" y="332"/>
                  </a:lnTo>
                  <a:lnTo>
                    <a:pt x="383" y="330"/>
                  </a:lnTo>
                  <a:lnTo>
                    <a:pt x="411" y="329"/>
                  </a:lnTo>
                  <a:lnTo>
                    <a:pt x="438" y="329"/>
                  </a:lnTo>
                  <a:lnTo>
                    <a:pt x="464" y="330"/>
                  </a:lnTo>
                  <a:lnTo>
                    <a:pt x="489" y="331"/>
                  </a:lnTo>
                  <a:lnTo>
                    <a:pt x="514" y="334"/>
                  </a:lnTo>
                  <a:lnTo>
                    <a:pt x="537" y="336"/>
                  </a:lnTo>
                  <a:lnTo>
                    <a:pt x="559" y="341"/>
                  </a:lnTo>
                  <a:lnTo>
                    <a:pt x="581" y="345"/>
                  </a:lnTo>
                  <a:lnTo>
                    <a:pt x="601" y="351"/>
                  </a:lnTo>
                  <a:lnTo>
                    <a:pt x="620" y="357"/>
                  </a:lnTo>
                  <a:lnTo>
                    <a:pt x="638" y="365"/>
                  </a:lnTo>
                  <a:lnTo>
                    <a:pt x="653" y="374"/>
                  </a:lnTo>
                  <a:lnTo>
                    <a:pt x="667" y="384"/>
                  </a:lnTo>
                  <a:lnTo>
                    <a:pt x="678" y="396"/>
                  </a:lnTo>
                  <a:lnTo>
                    <a:pt x="684" y="401"/>
                  </a:lnTo>
                  <a:lnTo>
                    <a:pt x="689" y="408"/>
                  </a:lnTo>
                  <a:lnTo>
                    <a:pt x="694" y="415"/>
                  </a:lnTo>
                  <a:lnTo>
                    <a:pt x="697" y="422"/>
                  </a:lnTo>
                  <a:lnTo>
                    <a:pt x="708" y="405"/>
                  </a:lnTo>
                  <a:lnTo>
                    <a:pt x="718" y="390"/>
                  </a:lnTo>
                  <a:lnTo>
                    <a:pt x="730" y="374"/>
                  </a:lnTo>
                  <a:lnTo>
                    <a:pt x="744" y="360"/>
                  </a:lnTo>
                  <a:lnTo>
                    <a:pt x="758" y="348"/>
                  </a:lnTo>
                  <a:lnTo>
                    <a:pt x="774" y="337"/>
                  </a:lnTo>
                  <a:lnTo>
                    <a:pt x="782" y="332"/>
                  </a:lnTo>
                  <a:lnTo>
                    <a:pt x="791" y="328"/>
                  </a:lnTo>
                  <a:lnTo>
                    <a:pt x="800" y="324"/>
                  </a:lnTo>
                  <a:lnTo>
                    <a:pt x="809" y="322"/>
                  </a:lnTo>
                  <a:lnTo>
                    <a:pt x="871" y="304"/>
                  </a:lnTo>
                  <a:lnTo>
                    <a:pt x="939" y="287"/>
                  </a:lnTo>
                  <a:lnTo>
                    <a:pt x="1014" y="271"/>
                  </a:lnTo>
                  <a:lnTo>
                    <a:pt x="1093" y="254"/>
                  </a:lnTo>
                  <a:lnTo>
                    <a:pt x="1177" y="239"/>
                  </a:lnTo>
                  <a:lnTo>
                    <a:pt x="1265" y="223"/>
                  </a:lnTo>
                  <a:lnTo>
                    <a:pt x="1357" y="207"/>
                  </a:lnTo>
                  <a:lnTo>
                    <a:pt x="1452" y="192"/>
                  </a:lnTo>
                  <a:lnTo>
                    <a:pt x="1439" y="177"/>
                  </a:lnTo>
                  <a:lnTo>
                    <a:pt x="1407" y="146"/>
                  </a:lnTo>
                  <a:lnTo>
                    <a:pt x="1387" y="129"/>
                  </a:lnTo>
                  <a:lnTo>
                    <a:pt x="1366" y="114"/>
                  </a:lnTo>
                  <a:lnTo>
                    <a:pt x="1356" y="108"/>
                  </a:lnTo>
                  <a:lnTo>
                    <a:pt x="1347" y="103"/>
                  </a:lnTo>
                  <a:lnTo>
                    <a:pt x="1337" y="101"/>
                  </a:lnTo>
                  <a:lnTo>
                    <a:pt x="1328" y="100"/>
                  </a:lnTo>
                  <a:lnTo>
                    <a:pt x="1308" y="101"/>
                  </a:lnTo>
                  <a:lnTo>
                    <a:pt x="1284" y="106"/>
                  </a:lnTo>
                  <a:lnTo>
                    <a:pt x="1255" y="111"/>
                  </a:lnTo>
                  <a:lnTo>
                    <a:pt x="1227" y="115"/>
                  </a:lnTo>
                  <a:lnTo>
                    <a:pt x="1212" y="116"/>
                  </a:lnTo>
                  <a:lnTo>
                    <a:pt x="1198" y="115"/>
                  </a:lnTo>
                  <a:lnTo>
                    <a:pt x="1184" y="114"/>
                  </a:lnTo>
                  <a:lnTo>
                    <a:pt x="1170" y="112"/>
                  </a:lnTo>
                  <a:lnTo>
                    <a:pt x="1159" y="107"/>
                  </a:lnTo>
                  <a:lnTo>
                    <a:pt x="1146" y="101"/>
                  </a:lnTo>
                  <a:lnTo>
                    <a:pt x="1141" y="98"/>
                  </a:lnTo>
                  <a:lnTo>
                    <a:pt x="1135" y="93"/>
                  </a:lnTo>
                  <a:lnTo>
                    <a:pt x="1131" y="88"/>
                  </a:lnTo>
                  <a:lnTo>
                    <a:pt x="1126" y="82"/>
                  </a:lnTo>
                  <a:lnTo>
                    <a:pt x="1121" y="77"/>
                  </a:lnTo>
                  <a:lnTo>
                    <a:pt x="1116" y="73"/>
                  </a:lnTo>
                  <a:lnTo>
                    <a:pt x="1111" y="68"/>
                  </a:lnTo>
                  <a:lnTo>
                    <a:pt x="1104" y="66"/>
                  </a:lnTo>
                  <a:lnTo>
                    <a:pt x="1097" y="64"/>
                  </a:lnTo>
                  <a:lnTo>
                    <a:pt x="1090" y="61"/>
                  </a:lnTo>
                  <a:lnTo>
                    <a:pt x="1081" y="60"/>
                  </a:lnTo>
                  <a:lnTo>
                    <a:pt x="1073" y="59"/>
                  </a:lnTo>
                  <a:lnTo>
                    <a:pt x="1056" y="59"/>
                  </a:lnTo>
                  <a:lnTo>
                    <a:pt x="1037" y="61"/>
                  </a:lnTo>
                  <a:lnTo>
                    <a:pt x="1020" y="64"/>
                  </a:lnTo>
                  <a:lnTo>
                    <a:pt x="1001" y="68"/>
                  </a:lnTo>
                  <a:lnTo>
                    <a:pt x="967" y="78"/>
                  </a:lnTo>
                  <a:lnTo>
                    <a:pt x="938" y="88"/>
                  </a:lnTo>
                  <a:lnTo>
                    <a:pt x="918" y="96"/>
                  </a:lnTo>
                  <a:lnTo>
                    <a:pt x="910" y="100"/>
                  </a:lnTo>
                  <a:lnTo>
                    <a:pt x="910" y="106"/>
                  </a:lnTo>
                  <a:lnTo>
                    <a:pt x="907" y="121"/>
                  </a:lnTo>
                  <a:lnTo>
                    <a:pt x="905" y="130"/>
                  </a:lnTo>
                  <a:lnTo>
                    <a:pt x="902" y="141"/>
                  </a:lnTo>
                  <a:lnTo>
                    <a:pt x="897" y="153"/>
                  </a:lnTo>
                  <a:lnTo>
                    <a:pt x="891" y="163"/>
                  </a:lnTo>
                  <a:lnTo>
                    <a:pt x="883" y="174"/>
                  </a:lnTo>
                  <a:lnTo>
                    <a:pt x="872" y="183"/>
                  </a:lnTo>
                  <a:lnTo>
                    <a:pt x="867" y="188"/>
                  </a:lnTo>
                  <a:lnTo>
                    <a:pt x="860" y="191"/>
                  </a:lnTo>
                  <a:lnTo>
                    <a:pt x="852" y="195"/>
                  </a:lnTo>
                  <a:lnTo>
                    <a:pt x="844" y="197"/>
                  </a:lnTo>
                  <a:lnTo>
                    <a:pt x="836" y="199"/>
                  </a:lnTo>
                  <a:lnTo>
                    <a:pt x="827" y="200"/>
                  </a:lnTo>
                  <a:lnTo>
                    <a:pt x="816" y="202"/>
                  </a:lnTo>
                  <a:lnTo>
                    <a:pt x="806" y="202"/>
                  </a:lnTo>
                  <a:lnTo>
                    <a:pt x="794" y="200"/>
                  </a:lnTo>
                  <a:lnTo>
                    <a:pt x="782" y="198"/>
                  </a:lnTo>
                  <a:lnTo>
                    <a:pt x="768" y="196"/>
                  </a:lnTo>
                  <a:lnTo>
                    <a:pt x="754" y="192"/>
                  </a:lnTo>
                  <a:lnTo>
                    <a:pt x="742" y="184"/>
                  </a:lnTo>
                  <a:lnTo>
                    <a:pt x="728" y="177"/>
                  </a:lnTo>
                  <a:lnTo>
                    <a:pt x="715" y="172"/>
                  </a:lnTo>
                  <a:lnTo>
                    <a:pt x="699" y="168"/>
                  </a:lnTo>
                  <a:lnTo>
                    <a:pt x="685" y="164"/>
                  </a:lnTo>
                  <a:lnTo>
                    <a:pt x="671" y="162"/>
                  </a:lnTo>
                  <a:lnTo>
                    <a:pt x="657" y="161"/>
                  </a:lnTo>
                  <a:lnTo>
                    <a:pt x="643" y="160"/>
                  </a:lnTo>
                  <a:lnTo>
                    <a:pt x="589" y="161"/>
                  </a:lnTo>
                  <a:lnTo>
                    <a:pt x="542" y="164"/>
                  </a:lnTo>
                  <a:lnTo>
                    <a:pt x="531" y="164"/>
                  </a:lnTo>
                  <a:lnTo>
                    <a:pt x="522" y="164"/>
                  </a:lnTo>
                  <a:lnTo>
                    <a:pt x="514" y="163"/>
                  </a:lnTo>
                  <a:lnTo>
                    <a:pt x="507" y="162"/>
                  </a:lnTo>
                  <a:lnTo>
                    <a:pt x="500" y="160"/>
                  </a:lnTo>
                  <a:lnTo>
                    <a:pt x="495" y="156"/>
                  </a:lnTo>
                  <a:lnTo>
                    <a:pt x="492" y="153"/>
                  </a:lnTo>
                  <a:lnTo>
                    <a:pt x="488" y="148"/>
                  </a:lnTo>
                  <a:lnTo>
                    <a:pt x="487" y="141"/>
                  </a:lnTo>
                  <a:lnTo>
                    <a:pt x="488" y="134"/>
                  </a:lnTo>
                  <a:lnTo>
                    <a:pt x="489" y="125"/>
                  </a:lnTo>
                  <a:lnTo>
                    <a:pt x="493" y="114"/>
                  </a:lnTo>
                  <a:lnTo>
                    <a:pt x="499" y="101"/>
                  </a:lnTo>
                  <a:lnTo>
                    <a:pt x="504" y="87"/>
                  </a:lnTo>
                  <a:lnTo>
                    <a:pt x="514" y="72"/>
                  </a:lnTo>
                  <a:lnTo>
                    <a:pt x="524" y="53"/>
                  </a:lnTo>
                  <a:lnTo>
                    <a:pt x="523" y="50"/>
                  </a:lnTo>
                  <a:lnTo>
                    <a:pt x="518" y="42"/>
                  </a:lnTo>
                  <a:lnTo>
                    <a:pt x="511" y="31"/>
                  </a:lnTo>
                  <a:lnTo>
                    <a:pt x="501" y="18"/>
                  </a:lnTo>
                  <a:lnTo>
                    <a:pt x="494" y="14"/>
                  </a:lnTo>
                  <a:lnTo>
                    <a:pt x="487" y="8"/>
                  </a:lnTo>
                  <a:lnTo>
                    <a:pt x="480" y="4"/>
                  </a:lnTo>
                  <a:lnTo>
                    <a:pt x="471" y="2"/>
                  </a:lnTo>
                  <a:lnTo>
                    <a:pt x="461" y="0"/>
                  </a:lnTo>
                  <a:lnTo>
                    <a:pt x="452" y="1"/>
                  </a:lnTo>
                  <a:lnTo>
                    <a:pt x="441" y="3"/>
                  </a:lnTo>
                  <a:lnTo>
                    <a:pt x="430" y="8"/>
                  </a:lnTo>
                  <a:lnTo>
                    <a:pt x="417" y="15"/>
                  </a:lnTo>
                  <a:lnTo>
                    <a:pt x="400" y="24"/>
                  </a:lnTo>
                  <a:lnTo>
                    <a:pt x="383" y="36"/>
                  </a:lnTo>
                  <a:lnTo>
                    <a:pt x="363" y="50"/>
                  </a:lnTo>
                  <a:lnTo>
                    <a:pt x="315" y="82"/>
                  </a:lnTo>
                  <a:lnTo>
                    <a:pt x="261" y="116"/>
                  </a:lnTo>
                  <a:lnTo>
                    <a:pt x="232" y="134"/>
                  </a:lnTo>
                  <a:lnTo>
                    <a:pt x="201" y="150"/>
                  </a:lnTo>
                  <a:lnTo>
                    <a:pt x="169" y="164"/>
                  </a:lnTo>
                  <a:lnTo>
                    <a:pt x="136" y="178"/>
                  </a:lnTo>
                  <a:lnTo>
                    <a:pt x="120" y="184"/>
                  </a:lnTo>
                  <a:lnTo>
                    <a:pt x="103" y="189"/>
                  </a:lnTo>
                  <a:lnTo>
                    <a:pt x="86" y="195"/>
                  </a:lnTo>
                  <a:lnTo>
                    <a:pt x="69" y="198"/>
                  </a:lnTo>
                  <a:lnTo>
                    <a:pt x="52" y="202"/>
                  </a:lnTo>
                  <a:lnTo>
                    <a:pt x="35" y="204"/>
                  </a:lnTo>
                  <a:lnTo>
                    <a:pt x="17" y="205"/>
                  </a:lnTo>
                  <a:lnTo>
                    <a:pt x="0" y="2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86" name="Freeform 207"/>
            <p:cNvSpPr/>
            <p:nvPr/>
          </p:nvSpPr>
          <p:spPr>
            <a:xfrm>
              <a:off x="2085120" y="2098440"/>
              <a:ext cx="1044000" cy="447120"/>
            </a:xfrm>
            <a:custGeom>
              <a:avLst/>
              <a:gdLst>
                <a:gd name="textAreaLeft" fmla="*/ 0 w 1044000"/>
                <a:gd name="textAreaRight" fmla="*/ 1044360 w 1044000"/>
                <a:gd name="textAreaTop" fmla="*/ 0 h 447120"/>
                <a:gd name="textAreaBottom" fmla="*/ 447480 h 447120"/>
              </a:gdLst>
              <a:ahLst/>
              <a:rect l="textAreaLeft" t="textAreaTop" r="textAreaRight" b="textAreaBottom"/>
              <a:pathLst>
                <a:path w="2375" h="987">
                  <a:moveTo>
                    <a:pt x="916" y="921"/>
                  </a:moveTo>
                  <a:lnTo>
                    <a:pt x="0" y="826"/>
                  </a:lnTo>
                  <a:lnTo>
                    <a:pt x="16" y="801"/>
                  </a:lnTo>
                  <a:lnTo>
                    <a:pt x="31" y="778"/>
                  </a:lnTo>
                  <a:lnTo>
                    <a:pt x="45" y="756"/>
                  </a:lnTo>
                  <a:lnTo>
                    <a:pt x="61" y="737"/>
                  </a:lnTo>
                  <a:lnTo>
                    <a:pt x="75" y="718"/>
                  </a:lnTo>
                  <a:lnTo>
                    <a:pt x="89" y="702"/>
                  </a:lnTo>
                  <a:lnTo>
                    <a:pt x="101" y="687"/>
                  </a:lnTo>
                  <a:lnTo>
                    <a:pt x="115" y="674"/>
                  </a:lnTo>
                  <a:lnTo>
                    <a:pt x="128" y="661"/>
                  </a:lnTo>
                  <a:lnTo>
                    <a:pt x="140" y="651"/>
                  </a:lnTo>
                  <a:lnTo>
                    <a:pt x="153" y="640"/>
                  </a:lnTo>
                  <a:lnTo>
                    <a:pt x="165" y="632"/>
                  </a:lnTo>
                  <a:lnTo>
                    <a:pt x="176" y="624"/>
                  </a:lnTo>
                  <a:lnTo>
                    <a:pt x="188" y="617"/>
                  </a:lnTo>
                  <a:lnTo>
                    <a:pt x="200" y="611"/>
                  </a:lnTo>
                  <a:lnTo>
                    <a:pt x="211" y="605"/>
                  </a:lnTo>
                  <a:lnTo>
                    <a:pt x="233" y="597"/>
                  </a:lnTo>
                  <a:lnTo>
                    <a:pt x="256" y="590"/>
                  </a:lnTo>
                  <a:lnTo>
                    <a:pt x="277" y="583"/>
                  </a:lnTo>
                  <a:lnTo>
                    <a:pt x="299" y="578"/>
                  </a:lnTo>
                  <a:lnTo>
                    <a:pt x="320" y="572"/>
                  </a:lnTo>
                  <a:lnTo>
                    <a:pt x="341" y="565"/>
                  </a:lnTo>
                  <a:lnTo>
                    <a:pt x="363" y="557"/>
                  </a:lnTo>
                  <a:lnTo>
                    <a:pt x="385" y="547"/>
                  </a:lnTo>
                  <a:lnTo>
                    <a:pt x="410" y="534"/>
                  </a:lnTo>
                  <a:lnTo>
                    <a:pt x="434" y="517"/>
                  </a:lnTo>
                  <a:lnTo>
                    <a:pt x="461" y="500"/>
                  </a:lnTo>
                  <a:lnTo>
                    <a:pt x="487" y="480"/>
                  </a:lnTo>
                  <a:lnTo>
                    <a:pt x="514" y="458"/>
                  </a:lnTo>
                  <a:lnTo>
                    <a:pt x="541" y="434"/>
                  </a:lnTo>
                  <a:lnTo>
                    <a:pt x="568" y="411"/>
                  </a:lnTo>
                  <a:lnTo>
                    <a:pt x="593" y="388"/>
                  </a:lnTo>
                  <a:lnTo>
                    <a:pt x="642" y="340"/>
                  </a:lnTo>
                  <a:lnTo>
                    <a:pt x="686" y="298"/>
                  </a:lnTo>
                  <a:lnTo>
                    <a:pt x="719" y="263"/>
                  </a:lnTo>
                  <a:lnTo>
                    <a:pt x="743" y="238"/>
                  </a:lnTo>
                  <a:lnTo>
                    <a:pt x="752" y="231"/>
                  </a:lnTo>
                  <a:lnTo>
                    <a:pt x="761" y="225"/>
                  </a:lnTo>
                  <a:lnTo>
                    <a:pt x="771" y="222"/>
                  </a:lnTo>
                  <a:lnTo>
                    <a:pt x="780" y="219"/>
                  </a:lnTo>
                  <a:lnTo>
                    <a:pt x="800" y="216"/>
                  </a:lnTo>
                  <a:lnTo>
                    <a:pt x="821" y="212"/>
                  </a:lnTo>
                  <a:lnTo>
                    <a:pt x="833" y="210"/>
                  </a:lnTo>
                  <a:lnTo>
                    <a:pt x="843" y="205"/>
                  </a:lnTo>
                  <a:lnTo>
                    <a:pt x="855" y="200"/>
                  </a:lnTo>
                  <a:lnTo>
                    <a:pt x="867" y="191"/>
                  </a:lnTo>
                  <a:lnTo>
                    <a:pt x="877" y="181"/>
                  </a:lnTo>
                  <a:lnTo>
                    <a:pt x="889" y="167"/>
                  </a:lnTo>
                  <a:lnTo>
                    <a:pt x="902" y="151"/>
                  </a:lnTo>
                  <a:lnTo>
                    <a:pt x="913" y="130"/>
                  </a:lnTo>
                  <a:lnTo>
                    <a:pt x="924" y="110"/>
                  </a:lnTo>
                  <a:lnTo>
                    <a:pt x="934" y="92"/>
                  </a:lnTo>
                  <a:lnTo>
                    <a:pt x="947" y="75"/>
                  </a:lnTo>
                  <a:lnTo>
                    <a:pt x="960" y="58"/>
                  </a:lnTo>
                  <a:lnTo>
                    <a:pt x="988" y="28"/>
                  </a:lnTo>
                  <a:lnTo>
                    <a:pt x="1016" y="0"/>
                  </a:lnTo>
                  <a:lnTo>
                    <a:pt x="1192" y="37"/>
                  </a:lnTo>
                  <a:lnTo>
                    <a:pt x="1192" y="49"/>
                  </a:lnTo>
                  <a:lnTo>
                    <a:pt x="1194" y="62"/>
                  </a:lnTo>
                  <a:lnTo>
                    <a:pt x="1195" y="72"/>
                  </a:lnTo>
                  <a:lnTo>
                    <a:pt x="1197" y="83"/>
                  </a:lnTo>
                  <a:lnTo>
                    <a:pt x="1199" y="93"/>
                  </a:lnTo>
                  <a:lnTo>
                    <a:pt x="1203" y="103"/>
                  </a:lnTo>
                  <a:lnTo>
                    <a:pt x="1206" y="112"/>
                  </a:lnTo>
                  <a:lnTo>
                    <a:pt x="1210" y="120"/>
                  </a:lnTo>
                  <a:lnTo>
                    <a:pt x="1215" y="127"/>
                  </a:lnTo>
                  <a:lnTo>
                    <a:pt x="1219" y="134"/>
                  </a:lnTo>
                  <a:lnTo>
                    <a:pt x="1224" y="141"/>
                  </a:lnTo>
                  <a:lnTo>
                    <a:pt x="1230" y="147"/>
                  </a:lnTo>
                  <a:lnTo>
                    <a:pt x="1243" y="159"/>
                  </a:lnTo>
                  <a:lnTo>
                    <a:pt x="1256" y="168"/>
                  </a:lnTo>
                  <a:lnTo>
                    <a:pt x="1270" y="176"/>
                  </a:lnTo>
                  <a:lnTo>
                    <a:pt x="1284" y="183"/>
                  </a:lnTo>
                  <a:lnTo>
                    <a:pt x="1300" y="189"/>
                  </a:lnTo>
                  <a:lnTo>
                    <a:pt x="1315" y="194"/>
                  </a:lnTo>
                  <a:lnTo>
                    <a:pt x="1347" y="201"/>
                  </a:lnTo>
                  <a:lnTo>
                    <a:pt x="1377" y="207"/>
                  </a:lnTo>
                  <a:lnTo>
                    <a:pt x="1400" y="209"/>
                  </a:lnTo>
                  <a:lnTo>
                    <a:pt x="1439" y="209"/>
                  </a:lnTo>
                  <a:lnTo>
                    <a:pt x="1492" y="209"/>
                  </a:lnTo>
                  <a:lnTo>
                    <a:pt x="1556" y="208"/>
                  </a:lnTo>
                  <a:lnTo>
                    <a:pt x="1628" y="205"/>
                  </a:lnTo>
                  <a:lnTo>
                    <a:pt x="1708" y="204"/>
                  </a:lnTo>
                  <a:lnTo>
                    <a:pt x="1792" y="203"/>
                  </a:lnTo>
                  <a:lnTo>
                    <a:pt x="1877" y="203"/>
                  </a:lnTo>
                  <a:lnTo>
                    <a:pt x="1962" y="203"/>
                  </a:lnTo>
                  <a:lnTo>
                    <a:pt x="2046" y="205"/>
                  </a:lnTo>
                  <a:lnTo>
                    <a:pt x="2086" y="208"/>
                  </a:lnTo>
                  <a:lnTo>
                    <a:pt x="2125" y="210"/>
                  </a:lnTo>
                  <a:lnTo>
                    <a:pt x="2161" y="212"/>
                  </a:lnTo>
                  <a:lnTo>
                    <a:pt x="2196" y="216"/>
                  </a:lnTo>
                  <a:lnTo>
                    <a:pt x="2227" y="221"/>
                  </a:lnTo>
                  <a:lnTo>
                    <a:pt x="2258" y="225"/>
                  </a:lnTo>
                  <a:lnTo>
                    <a:pt x="2285" y="230"/>
                  </a:lnTo>
                  <a:lnTo>
                    <a:pt x="2308" y="237"/>
                  </a:lnTo>
                  <a:lnTo>
                    <a:pt x="2328" y="244"/>
                  </a:lnTo>
                  <a:lnTo>
                    <a:pt x="2344" y="251"/>
                  </a:lnTo>
                  <a:lnTo>
                    <a:pt x="2357" y="260"/>
                  </a:lnTo>
                  <a:lnTo>
                    <a:pt x="2364" y="270"/>
                  </a:lnTo>
                  <a:lnTo>
                    <a:pt x="2370" y="280"/>
                  </a:lnTo>
                  <a:lnTo>
                    <a:pt x="2373" y="288"/>
                  </a:lnTo>
                  <a:lnTo>
                    <a:pt x="2375" y="298"/>
                  </a:lnTo>
                  <a:lnTo>
                    <a:pt x="2375" y="306"/>
                  </a:lnTo>
                  <a:lnTo>
                    <a:pt x="2373" y="313"/>
                  </a:lnTo>
                  <a:lnTo>
                    <a:pt x="2370" y="320"/>
                  </a:lnTo>
                  <a:lnTo>
                    <a:pt x="2366" y="327"/>
                  </a:lnTo>
                  <a:lnTo>
                    <a:pt x="2361" y="333"/>
                  </a:lnTo>
                  <a:lnTo>
                    <a:pt x="2355" y="339"/>
                  </a:lnTo>
                  <a:lnTo>
                    <a:pt x="2347" y="343"/>
                  </a:lnTo>
                  <a:lnTo>
                    <a:pt x="2338" y="348"/>
                  </a:lnTo>
                  <a:lnTo>
                    <a:pt x="2329" y="353"/>
                  </a:lnTo>
                  <a:lnTo>
                    <a:pt x="2308" y="362"/>
                  </a:lnTo>
                  <a:lnTo>
                    <a:pt x="2285" y="369"/>
                  </a:lnTo>
                  <a:lnTo>
                    <a:pt x="2233" y="382"/>
                  </a:lnTo>
                  <a:lnTo>
                    <a:pt x="2180" y="395"/>
                  </a:lnTo>
                  <a:lnTo>
                    <a:pt x="2153" y="401"/>
                  </a:lnTo>
                  <a:lnTo>
                    <a:pt x="2129" y="408"/>
                  </a:lnTo>
                  <a:lnTo>
                    <a:pt x="2107" y="415"/>
                  </a:lnTo>
                  <a:lnTo>
                    <a:pt x="2088" y="423"/>
                  </a:lnTo>
                  <a:lnTo>
                    <a:pt x="2059" y="438"/>
                  </a:lnTo>
                  <a:lnTo>
                    <a:pt x="2039" y="448"/>
                  </a:lnTo>
                  <a:lnTo>
                    <a:pt x="2034" y="453"/>
                  </a:lnTo>
                  <a:lnTo>
                    <a:pt x="2029" y="457"/>
                  </a:lnTo>
                  <a:lnTo>
                    <a:pt x="2027" y="461"/>
                  </a:lnTo>
                  <a:lnTo>
                    <a:pt x="2025" y="466"/>
                  </a:lnTo>
                  <a:lnTo>
                    <a:pt x="2027" y="471"/>
                  </a:lnTo>
                  <a:lnTo>
                    <a:pt x="2028" y="475"/>
                  </a:lnTo>
                  <a:lnTo>
                    <a:pt x="2031" y="481"/>
                  </a:lnTo>
                  <a:lnTo>
                    <a:pt x="2035" y="489"/>
                  </a:lnTo>
                  <a:lnTo>
                    <a:pt x="2045" y="507"/>
                  </a:lnTo>
                  <a:lnTo>
                    <a:pt x="2057" y="533"/>
                  </a:lnTo>
                  <a:lnTo>
                    <a:pt x="2062" y="547"/>
                  </a:lnTo>
                  <a:lnTo>
                    <a:pt x="2064" y="559"/>
                  </a:lnTo>
                  <a:lnTo>
                    <a:pt x="2065" y="571"/>
                  </a:lnTo>
                  <a:lnTo>
                    <a:pt x="2064" y="583"/>
                  </a:lnTo>
                  <a:lnTo>
                    <a:pt x="2060" y="593"/>
                  </a:lnTo>
                  <a:lnTo>
                    <a:pt x="2056" y="603"/>
                  </a:lnTo>
                  <a:lnTo>
                    <a:pt x="2049" y="612"/>
                  </a:lnTo>
                  <a:lnTo>
                    <a:pt x="2041" y="620"/>
                  </a:lnTo>
                  <a:lnTo>
                    <a:pt x="2031" y="628"/>
                  </a:lnTo>
                  <a:lnTo>
                    <a:pt x="2021" y="636"/>
                  </a:lnTo>
                  <a:lnTo>
                    <a:pt x="2009" y="645"/>
                  </a:lnTo>
                  <a:lnTo>
                    <a:pt x="1995" y="653"/>
                  </a:lnTo>
                  <a:lnTo>
                    <a:pt x="1966" y="668"/>
                  </a:lnTo>
                  <a:lnTo>
                    <a:pt x="1933" y="684"/>
                  </a:lnTo>
                  <a:lnTo>
                    <a:pt x="1916" y="694"/>
                  </a:lnTo>
                  <a:lnTo>
                    <a:pt x="1900" y="702"/>
                  </a:lnTo>
                  <a:lnTo>
                    <a:pt x="1888" y="711"/>
                  </a:lnTo>
                  <a:lnTo>
                    <a:pt x="1875" y="721"/>
                  </a:lnTo>
                  <a:lnTo>
                    <a:pt x="1863" y="729"/>
                  </a:lnTo>
                  <a:lnTo>
                    <a:pt x="1854" y="738"/>
                  </a:lnTo>
                  <a:lnTo>
                    <a:pt x="1845" y="747"/>
                  </a:lnTo>
                  <a:lnTo>
                    <a:pt x="1837" y="757"/>
                  </a:lnTo>
                  <a:lnTo>
                    <a:pt x="1831" y="767"/>
                  </a:lnTo>
                  <a:lnTo>
                    <a:pt x="1827" y="777"/>
                  </a:lnTo>
                  <a:lnTo>
                    <a:pt x="1823" y="787"/>
                  </a:lnTo>
                  <a:lnTo>
                    <a:pt x="1821" y="797"/>
                  </a:lnTo>
                  <a:lnTo>
                    <a:pt x="1820" y="807"/>
                  </a:lnTo>
                  <a:lnTo>
                    <a:pt x="1820" y="819"/>
                  </a:lnTo>
                  <a:lnTo>
                    <a:pt x="1821" y="829"/>
                  </a:lnTo>
                  <a:lnTo>
                    <a:pt x="1823" y="841"/>
                  </a:lnTo>
                  <a:lnTo>
                    <a:pt x="1826" y="851"/>
                  </a:lnTo>
                  <a:lnTo>
                    <a:pt x="1826" y="863"/>
                  </a:lnTo>
                  <a:lnTo>
                    <a:pt x="1823" y="874"/>
                  </a:lnTo>
                  <a:lnTo>
                    <a:pt x="1820" y="884"/>
                  </a:lnTo>
                  <a:lnTo>
                    <a:pt x="1815" y="893"/>
                  </a:lnTo>
                  <a:lnTo>
                    <a:pt x="1808" y="903"/>
                  </a:lnTo>
                  <a:lnTo>
                    <a:pt x="1801" y="912"/>
                  </a:lnTo>
                  <a:lnTo>
                    <a:pt x="1792" y="920"/>
                  </a:lnTo>
                  <a:lnTo>
                    <a:pt x="1772" y="938"/>
                  </a:lnTo>
                  <a:lnTo>
                    <a:pt x="1748" y="954"/>
                  </a:lnTo>
                  <a:lnTo>
                    <a:pt x="1725" y="971"/>
                  </a:lnTo>
                  <a:lnTo>
                    <a:pt x="1702" y="987"/>
                  </a:lnTo>
                  <a:lnTo>
                    <a:pt x="916" y="92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87" name="Freeform 208"/>
            <p:cNvSpPr/>
            <p:nvPr/>
          </p:nvSpPr>
          <p:spPr>
            <a:xfrm>
              <a:off x="2733480" y="2588400"/>
              <a:ext cx="855000" cy="610920"/>
            </a:xfrm>
            <a:custGeom>
              <a:avLst/>
              <a:gdLst>
                <a:gd name="textAreaLeft" fmla="*/ 0 w 855000"/>
                <a:gd name="textAreaRight" fmla="*/ 855360 w 855000"/>
                <a:gd name="textAreaTop" fmla="*/ 0 h 610920"/>
                <a:gd name="textAreaBottom" fmla="*/ 611280 h 610920"/>
              </a:gdLst>
              <a:ahLst/>
              <a:rect l="textAreaLeft" t="textAreaTop" r="textAreaRight" b="textAreaBottom"/>
              <a:pathLst>
                <a:path w="1947" h="1344">
                  <a:moveTo>
                    <a:pt x="0" y="1293"/>
                  </a:moveTo>
                  <a:lnTo>
                    <a:pt x="1418" y="1344"/>
                  </a:lnTo>
                  <a:lnTo>
                    <a:pt x="1947" y="285"/>
                  </a:lnTo>
                  <a:lnTo>
                    <a:pt x="1509" y="253"/>
                  </a:lnTo>
                  <a:lnTo>
                    <a:pt x="1556" y="65"/>
                  </a:lnTo>
                  <a:lnTo>
                    <a:pt x="880" y="0"/>
                  </a:lnTo>
                  <a:lnTo>
                    <a:pt x="0" y="129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88" name="Freeform 209"/>
            <p:cNvSpPr/>
            <p:nvPr/>
          </p:nvSpPr>
          <p:spPr>
            <a:xfrm>
              <a:off x="2531880" y="1923480"/>
              <a:ext cx="748800" cy="297360"/>
            </a:xfrm>
            <a:custGeom>
              <a:avLst/>
              <a:gdLst>
                <a:gd name="textAreaLeft" fmla="*/ 0 w 748800"/>
                <a:gd name="textAreaRight" fmla="*/ 749160 w 748800"/>
                <a:gd name="textAreaTop" fmla="*/ 0 h 297360"/>
                <a:gd name="textAreaBottom" fmla="*/ 297720 h 297360"/>
              </a:gdLst>
              <a:ahLst/>
              <a:rect l="textAreaLeft" t="textAreaTop" r="textAreaRight" b="textAreaBottom"/>
              <a:pathLst>
                <a:path w="1706" h="651">
                  <a:moveTo>
                    <a:pt x="1348" y="651"/>
                  </a:moveTo>
                  <a:lnTo>
                    <a:pt x="1341" y="641"/>
                  </a:lnTo>
                  <a:lnTo>
                    <a:pt x="1328" y="632"/>
                  </a:lnTo>
                  <a:lnTo>
                    <a:pt x="1312" y="625"/>
                  </a:lnTo>
                  <a:lnTo>
                    <a:pt x="1292" y="618"/>
                  </a:lnTo>
                  <a:lnTo>
                    <a:pt x="1269" y="611"/>
                  </a:lnTo>
                  <a:lnTo>
                    <a:pt x="1242" y="606"/>
                  </a:lnTo>
                  <a:lnTo>
                    <a:pt x="1211" y="602"/>
                  </a:lnTo>
                  <a:lnTo>
                    <a:pt x="1180" y="597"/>
                  </a:lnTo>
                  <a:lnTo>
                    <a:pt x="1145" y="593"/>
                  </a:lnTo>
                  <a:lnTo>
                    <a:pt x="1109" y="591"/>
                  </a:lnTo>
                  <a:lnTo>
                    <a:pt x="1070" y="589"/>
                  </a:lnTo>
                  <a:lnTo>
                    <a:pt x="1030" y="586"/>
                  </a:lnTo>
                  <a:lnTo>
                    <a:pt x="946" y="584"/>
                  </a:lnTo>
                  <a:lnTo>
                    <a:pt x="861" y="584"/>
                  </a:lnTo>
                  <a:lnTo>
                    <a:pt x="776" y="584"/>
                  </a:lnTo>
                  <a:lnTo>
                    <a:pt x="692" y="585"/>
                  </a:lnTo>
                  <a:lnTo>
                    <a:pt x="612" y="586"/>
                  </a:lnTo>
                  <a:lnTo>
                    <a:pt x="540" y="589"/>
                  </a:lnTo>
                  <a:lnTo>
                    <a:pt x="476" y="590"/>
                  </a:lnTo>
                  <a:lnTo>
                    <a:pt x="423" y="590"/>
                  </a:lnTo>
                  <a:lnTo>
                    <a:pt x="384" y="590"/>
                  </a:lnTo>
                  <a:lnTo>
                    <a:pt x="361" y="588"/>
                  </a:lnTo>
                  <a:lnTo>
                    <a:pt x="331" y="582"/>
                  </a:lnTo>
                  <a:lnTo>
                    <a:pt x="299" y="575"/>
                  </a:lnTo>
                  <a:lnTo>
                    <a:pt x="284" y="570"/>
                  </a:lnTo>
                  <a:lnTo>
                    <a:pt x="268" y="564"/>
                  </a:lnTo>
                  <a:lnTo>
                    <a:pt x="254" y="557"/>
                  </a:lnTo>
                  <a:lnTo>
                    <a:pt x="240" y="549"/>
                  </a:lnTo>
                  <a:lnTo>
                    <a:pt x="227" y="540"/>
                  </a:lnTo>
                  <a:lnTo>
                    <a:pt x="214" y="528"/>
                  </a:lnTo>
                  <a:lnTo>
                    <a:pt x="208" y="522"/>
                  </a:lnTo>
                  <a:lnTo>
                    <a:pt x="203" y="515"/>
                  </a:lnTo>
                  <a:lnTo>
                    <a:pt x="199" y="508"/>
                  </a:lnTo>
                  <a:lnTo>
                    <a:pt x="194" y="501"/>
                  </a:lnTo>
                  <a:lnTo>
                    <a:pt x="190" y="493"/>
                  </a:lnTo>
                  <a:lnTo>
                    <a:pt x="187" y="484"/>
                  </a:lnTo>
                  <a:lnTo>
                    <a:pt x="183" y="474"/>
                  </a:lnTo>
                  <a:lnTo>
                    <a:pt x="181" y="464"/>
                  </a:lnTo>
                  <a:lnTo>
                    <a:pt x="179" y="453"/>
                  </a:lnTo>
                  <a:lnTo>
                    <a:pt x="178" y="443"/>
                  </a:lnTo>
                  <a:lnTo>
                    <a:pt x="176" y="430"/>
                  </a:lnTo>
                  <a:lnTo>
                    <a:pt x="176" y="418"/>
                  </a:lnTo>
                  <a:lnTo>
                    <a:pt x="0" y="381"/>
                  </a:lnTo>
                  <a:lnTo>
                    <a:pt x="19" y="363"/>
                  </a:lnTo>
                  <a:lnTo>
                    <a:pt x="36" y="347"/>
                  </a:lnTo>
                  <a:lnTo>
                    <a:pt x="53" y="329"/>
                  </a:lnTo>
                  <a:lnTo>
                    <a:pt x="69" y="312"/>
                  </a:lnTo>
                  <a:lnTo>
                    <a:pt x="83" y="294"/>
                  </a:lnTo>
                  <a:lnTo>
                    <a:pt x="95" y="276"/>
                  </a:lnTo>
                  <a:lnTo>
                    <a:pt x="101" y="265"/>
                  </a:lnTo>
                  <a:lnTo>
                    <a:pt x="105" y="256"/>
                  </a:lnTo>
                  <a:lnTo>
                    <a:pt x="110" y="244"/>
                  </a:lnTo>
                  <a:lnTo>
                    <a:pt x="113" y="234"/>
                  </a:lnTo>
                  <a:lnTo>
                    <a:pt x="119" y="214"/>
                  </a:lnTo>
                  <a:lnTo>
                    <a:pt x="126" y="194"/>
                  </a:lnTo>
                  <a:lnTo>
                    <a:pt x="133" y="175"/>
                  </a:lnTo>
                  <a:lnTo>
                    <a:pt x="141" y="158"/>
                  </a:lnTo>
                  <a:lnTo>
                    <a:pt x="150" y="141"/>
                  </a:lnTo>
                  <a:lnTo>
                    <a:pt x="159" y="126"/>
                  </a:lnTo>
                  <a:lnTo>
                    <a:pt x="167" y="112"/>
                  </a:lnTo>
                  <a:lnTo>
                    <a:pt x="176" y="99"/>
                  </a:lnTo>
                  <a:lnTo>
                    <a:pt x="186" y="88"/>
                  </a:lnTo>
                  <a:lnTo>
                    <a:pt x="195" y="77"/>
                  </a:lnTo>
                  <a:lnTo>
                    <a:pt x="205" y="68"/>
                  </a:lnTo>
                  <a:lnTo>
                    <a:pt x="215" y="60"/>
                  </a:lnTo>
                  <a:lnTo>
                    <a:pt x="224" y="54"/>
                  </a:lnTo>
                  <a:lnTo>
                    <a:pt x="234" y="50"/>
                  </a:lnTo>
                  <a:lnTo>
                    <a:pt x="242" y="47"/>
                  </a:lnTo>
                  <a:lnTo>
                    <a:pt x="251" y="47"/>
                  </a:lnTo>
                  <a:lnTo>
                    <a:pt x="259" y="47"/>
                  </a:lnTo>
                  <a:lnTo>
                    <a:pt x="269" y="49"/>
                  </a:lnTo>
                  <a:lnTo>
                    <a:pt x="277" y="54"/>
                  </a:lnTo>
                  <a:lnTo>
                    <a:pt x="285" y="59"/>
                  </a:lnTo>
                  <a:lnTo>
                    <a:pt x="293" y="64"/>
                  </a:lnTo>
                  <a:lnTo>
                    <a:pt x="301" y="71"/>
                  </a:lnTo>
                  <a:lnTo>
                    <a:pt x="308" y="78"/>
                  </a:lnTo>
                  <a:lnTo>
                    <a:pt x="315" y="85"/>
                  </a:lnTo>
                  <a:lnTo>
                    <a:pt x="338" y="112"/>
                  </a:lnTo>
                  <a:lnTo>
                    <a:pt x="346" y="124"/>
                  </a:lnTo>
                  <a:lnTo>
                    <a:pt x="356" y="125"/>
                  </a:lnTo>
                  <a:lnTo>
                    <a:pt x="384" y="129"/>
                  </a:lnTo>
                  <a:lnTo>
                    <a:pt x="425" y="132"/>
                  </a:lnTo>
                  <a:lnTo>
                    <a:pt x="473" y="134"/>
                  </a:lnTo>
                  <a:lnTo>
                    <a:pt x="497" y="134"/>
                  </a:lnTo>
                  <a:lnTo>
                    <a:pt x="521" y="134"/>
                  </a:lnTo>
                  <a:lnTo>
                    <a:pt x="544" y="133"/>
                  </a:lnTo>
                  <a:lnTo>
                    <a:pt x="567" y="131"/>
                  </a:lnTo>
                  <a:lnTo>
                    <a:pt x="585" y="129"/>
                  </a:lnTo>
                  <a:lnTo>
                    <a:pt x="602" y="124"/>
                  </a:lnTo>
                  <a:lnTo>
                    <a:pt x="609" y="120"/>
                  </a:lnTo>
                  <a:lnTo>
                    <a:pt x="615" y="117"/>
                  </a:lnTo>
                  <a:lnTo>
                    <a:pt x="619" y="113"/>
                  </a:lnTo>
                  <a:lnTo>
                    <a:pt x="623" y="110"/>
                  </a:lnTo>
                  <a:lnTo>
                    <a:pt x="643" y="80"/>
                  </a:lnTo>
                  <a:lnTo>
                    <a:pt x="658" y="55"/>
                  </a:lnTo>
                  <a:lnTo>
                    <a:pt x="667" y="43"/>
                  </a:lnTo>
                  <a:lnTo>
                    <a:pt x="680" y="30"/>
                  </a:lnTo>
                  <a:lnTo>
                    <a:pt x="695" y="16"/>
                  </a:lnTo>
                  <a:lnTo>
                    <a:pt x="715" y="0"/>
                  </a:lnTo>
                  <a:lnTo>
                    <a:pt x="764" y="5"/>
                  </a:lnTo>
                  <a:lnTo>
                    <a:pt x="815" y="8"/>
                  </a:lnTo>
                  <a:lnTo>
                    <a:pt x="869" y="13"/>
                  </a:lnTo>
                  <a:lnTo>
                    <a:pt x="924" y="16"/>
                  </a:lnTo>
                  <a:lnTo>
                    <a:pt x="981" y="21"/>
                  </a:lnTo>
                  <a:lnTo>
                    <a:pt x="1040" y="25"/>
                  </a:lnTo>
                  <a:lnTo>
                    <a:pt x="1100" y="28"/>
                  </a:lnTo>
                  <a:lnTo>
                    <a:pt x="1161" y="33"/>
                  </a:lnTo>
                  <a:lnTo>
                    <a:pt x="1225" y="36"/>
                  </a:lnTo>
                  <a:lnTo>
                    <a:pt x="1290" y="40"/>
                  </a:lnTo>
                  <a:lnTo>
                    <a:pt x="1356" y="43"/>
                  </a:lnTo>
                  <a:lnTo>
                    <a:pt x="1423" y="46"/>
                  </a:lnTo>
                  <a:lnTo>
                    <a:pt x="1492" y="49"/>
                  </a:lnTo>
                  <a:lnTo>
                    <a:pt x="1562" y="53"/>
                  </a:lnTo>
                  <a:lnTo>
                    <a:pt x="1633" y="55"/>
                  </a:lnTo>
                  <a:lnTo>
                    <a:pt x="1706" y="57"/>
                  </a:lnTo>
                  <a:lnTo>
                    <a:pt x="1688" y="77"/>
                  </a:lnTo>
                  <a:lnTo>
                    <a:pt x="1644" y="131"/>
                  </a:lnTo>
                  <a:lnTo>
                    <a:pt x="1613" y="167"/>
                  </a:lnTo>
                  <a:lnTo>
                    <a:pt x="1581" y="208"/>
                  </a:lnTo>
                  <a:lnTo>
                    <a:pt x="1546" y="254"/>
                  </a:lnTo>
                  <a:lnTo>
                    <a:pt x="1509" y="301"/>
                  </a:lnTo>
                  <a:lnTo>
                    <a:pt x="1474" y="352"/>
                  </a:lnTo>
                  <a:lnTo>
                    <a:pt x="1442" y="402"/>
                  </a:lnTo>
                  <a:lnTo>
                    <a:pt x="1425" y="426"/>
                  </a:lnTo>
                  <a:lnTo>
                    <a:pt x="1411" y="451"/>
                  </a:lnTo>
                  <a:lnTo>
                    <a:pt x="1397" y="476"/>
                  </a:lnTo>
                  <a:lnTo>
                    <a:pt x="1384" y="499"/>
                  </a:lnTo>
                  <a:lnTo>
                    <a:pt x="1374" y="522"/>
                  </a:lnTo>
                  <a:lnTo>
                    <a:pt x="1364" y="544"/>
                  </a:lnTo>
                  <a:lnTo>
                    <a:pt x="1356" y="565"/>
                  </a:lnTo>
                  <a:lnTo>
                    <a:pt x="1350" y="585"/>
                  </a:lnTo>
                  <a:lnTo>
                    <a:pt x="1347" y="604"/>
                  </a:lnTo>
                  <a:lnTo>
                    <a:pt x="1345" y="622"/>
                  </a:lnTo>
                  <a:lnTo>
                    <a:pt x="1346" y="637"/>
                  </a:lnTo>
                  <a:lnTo>
                    <a:pt x="1348" y="65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89" name="Freeform 210"/>
            <p:cNvSpPr/>
            <p:nvPr/>
          </p:nvSpPr>
          <p:spPr>
            <a:xfrm>
              <a:off x="5001840" y="1923480"/>
              <a:ext cx="786600" cy="508320"/>
            </a:xfrm>
            <a:custGeom>
              <a:avLst/>
              <a:gdLst>
                <a:gd name="textAreaLeft" fmla="*/ 0 w 786600"/>
                <a:gd name="textAreaRight" fmla="*/ 786960 w 786600"/>
                <a:gd name="textAreaTop" fmla="*/ 0 h 508320"/>
                <a:gd name="textAreaBottom" fmla="*/ 508680 h 508320"/>
              </a:gdLst>
              <a:ahLst/>
              <a:rect l="textAreaLeft" t="textAreaTop" r="textAreaRight" b="textAreaBottom"/>
              <a:pathLst>
                <a:path w="1792" h="1120">
                  <a:moveTo>
                    <a:pt x="1038" y="688"/>
                  </a:moveTo>
                  <a:lnTo>
                    <a:pt x="1052" y="695"/>
                  </a:lnTo>
                  <a:lnTo>
                    <a:pt x="1065" y="701"/>
                  </a:lnTo>
                  <a:lnTo>
                    <a:pt x="1076" y="708"/>
                  </a:lnTo>
                  <a:lnTo>
                    <a:pt x="1084" y="715"/>
                  </a:lnTo>
                  <a:lnTo>
                    <a:pt x="1091" y="722"/>
                  </a:lnTo>
                  <a:lnTo>
                    <a:pt x="1095" y="729"/>
                  </a:lnTo>
                  <a:lnTo>
                    <a:pt x="1099" y="737"/>
                  </a:lnTo>
                  <a:lnTo>
                    <a:pt x="1101" y="745"/>
                  </a:lnTo>
                  <a:lnTo>
                    <a:pt x="1106" y="778"/>
                  </a:lnTo>
                  <a:lnTo>
                    <a:pt x="1109" y="812"/>
                  </a:lnTo>
                  <a:lnTo>
                    <a:pt x="1112" y="820"/>
                  </a:lnTo>
                  <a:lnTo>
                    <a:pt x="1114" y="827"/>
                  </a:lnTo>
                  <a:lnTo>
                    <a:pt x="1116" y="833"/>
                  </a:lnTo>
                  <a:lnTo>
                    <a:pt x="1120" y="840"/>
                  </a:lnTo>
                  <a:lnTo>
                    <a:pt x="1129" y="852"/>
                  </a:lnTo>
                  <a:lnTo>
                    <a:pt x="1140" y="863"/>
                  </a:lnTo>
                  <a:lnTo>
                    <a:pt x="1154" y="875"/>
                  </a:lnTo>
                  <a:lnTo>
                    <a:pt x="1169" y="884"/>
                  </a:lnTo>
                  <a:lnTo>
                    <a:pt x="1185" y="894"/>
                  </a:lnTo>
                  <a:lnTo>
                    <a:pt x="1204" y="903"/>
                  </a:lnTo>
                  <a:lnTo>
                    <a:pt x="1223" y="911"/>
                  </a:lnTo>
                  <a:lnTo>
                    <a:pt x="1244" y="919"/>
                  </a:lnTo>
                  <a:lnTo>
                    <a:pt x="1266" y="926"/>
                  </a:lnTo>
                  <a:lnTo>
                    <a:pt x="1289" y="933"/>
                  </a:lnTo>
                  <a:lnTo>
                    <a:pt x="1337" y="947"/>
                  </a:lnTo>
                  <a:lnTo>
                    <a:pt x="1386" y="959"/>
                  </a:lnTo>
                  <a:lnTo>
                    <a:pt x="1398" y="963"/>
                  </a:lnTo>
                  <a:lnTo>
                    <a:pt x="1410" y="966"/>
                  </a:lnTo>
                  <a:lnTo>
                    <a:pt x="1420" y="971"/>
                  </a:lnTo>
                  <a:lnTo>
                    <a:pt x="1431" y="974"/>
                  </a:lnTo>
                  <a:lnTo>
                    <a:pt x="1448" y="985"/>
                  </a:lnTo>
                  <a:lnTo>
                    <a:pt x="1463" y="995"/>
                  </a:lnTo>
                  <a:lnTo>
                    <a:pt x="1477" y="1007"/>
                  </a:lnTo>
                  <a:lnTo>
                    <a:pt x="1488" y="1020"/>
                  </a:lnTo>
                  <a:lnTo>
                    <a:pt x="1497" y="1033"/>
                  </a:lnTo>
                  <a:lnTo>
                    <a:pt x="1505" y="1044"/>
                  </a:lnTo>
                  <a:lnTo>
                    <a:pt x="1511" y="1057"/>
                  </a:lnTo>
                  <a:lnTo>
                    <a:pt x="1516" y="1068"/>
                  </a:lnTo>
                  <a:lnTo>
                    <a:pt x="1519" y="1078"/>
                  </a:lnTo>
                  <a:lnTo>
                    <a:pt x="1522" y="1088"/>
                  </a:lnTo>
                  <a:lnTo>
                    <a:pt x="1524" y="1102"/>
                  </a:lnTo>
                  <a:lnTo>
                    <a:pt x="1524" y="1106"/>
                  </a:lnTo>
                  <a:lnTo>
                    <a:pt x="150" y="1120"/>
                  </a:lnTo>
                  <a:lnTo>
                    <a:pt x="176" y="680"/>
                  </a:lnTo>
                  <a:lnTo>
                    <a:pt x="176" y="674"/>
                  </a:lnTo>
                  <a:lnTo>
                    <a:pt x="174" y="659"/>
                  </a:lnTo>
                  <a:lnTo>
                    <a:pt x="170" y="637"/>
                  </a:lnTo>
                  <a:lnTo>
                    <a:pt x="167" y="610"/>
                  </a:lnTo>
                  <a:lnTo>
                    <a:pt x="162" y="581"/>
                  </a:lnTo>
                  <a:lnTo>
                    <a:pt x="159" y="551"/>
                  </a:lnTo>
                  <a:lnTo>
                    <a:pt x="154" y="525"/>
                  </a:lnTo>
                  <a:lnTo>
                    <a:pt x="150" y="505"/>
                  </a:lnTo>
                  <a:lnTo>
                    <a:pt x="148" y="495"/>
                  </a:lnTo>
                  <a:lnTo>
                    <a:pt x="145" y="485"/>
                  </a:lnTo>
                  <a:lnTo>
                    <a:pt x="140" y="474"/>
                  </a:lnTo>
                  <a:lnTo>
                    <a:pt x="134" y="464"/>
                  </a:lnTo>
                  <a:lnTo>
                    <a:pt x="119" y="442"/>
                  </a:lnTo>
                  <a:lnTo>
                    <a:pt x="101" y="417"/>
                  </a:lnTo>
                  <a:lnTo>
                    <a:pt x="82" y="391"/>
                  </a:lnTo>
                  <a:lnTo>
                    <a:pt x="61" y="365"/>
                  </a:lnTo>
                  <a:lnTo>
                    <a:pt x="39" y="338"/>
                  </a:lnTo>
                  <a:lnTo>
                    <a:pt x="18" y="308"/>
                  </a:lnTo>
                  <a:lnTo>
                    <a:pt x="9" y="294"/>
                  </a:lnTo>
                  <a:lnTo>
                    <a:pt x="3" y="283"/>
                  </a:lnTo>
                  <a:lnTo>
                    <a:pt x="1" y="271"/>
                  </a:lnTo>
                  <a:lnTo>
                    <a:pt x="0" y="261"/>
                  </a:lnTo>
                  <a:lnTo>
                    <a:pt x="1" y="250"/>
                  </a:lnTo>
                  <a:lnTo>
                    <a:pt x="3" y="240"/>
                  </a:lnTo>
                  <a:lnTo>
                    <a:pt x="7" y="229"/>
                  </a:lnTo>
                  <a:lnTo>
                    <a:pt x="10" y="220"/>
                  </a:lnTo>
                  <a:lnTo>
                    <a:pt x="15" y="208"/>
                  </a:lnTo>
                  <a:lnTo>
                    <a:pt x="20" y="198"/>
                  </a:lnTo>
                  <a:lnTo>
                    <a:pt x="24" y="185"/>
                  </a:lnTo>
                  <a:lnTo>
                    <a:pt x="28" y="172"/>
                  </a:lnTo>
                  <a:lnTo>
                    <a:pt x="30" y="157"/>
                  </a:lnTo>
                  <a:lnTo>
                    <a:pt x="31" y="141"/>
                  </a:lnTo>
                  <a:lnTo>
                    <a:pt x="30" y="124"/>
                  </a:lnTo>
                  <a:lnTo>
                    <a:pt x="27" y="104"/>
                  </a:lnTo>
                  <a:lnTo>
                    <a:pt x="90" y="103"/>
                  </a:lnTo>
                  <a:lnTo>
                    <a:pt x="147" y="102"/>
                  </a:lnTo>
                  <a:lnTo>
                    <a:pt x="200" y="101"/>
                  </a:lnTo>
                  <a:lnTo>
                    <a:pt x="245" y="99"/>
                  </a:lnTo>
                  <a:lnTo>
                    <a:pt x="285" y="98"/>
                  </a:lnTo>
                  <a:lnTo>
                    <a:pt x="319" y="96"/>
                  </a:lnTo>
                  <a:lnTo>
                    <a:pt x="346" y="95"/>
                  </a:lnTo>
                  <a:lnTo>
                    <a:pt x="367" y="92"/>
                  </a:lnTo>
                  <a:lnTo>
                    <a:pt x="375" y="80"/>
                  </a:lnTo>
                  <a:lnTo>
                    <a:pt x="384" y="68"/>
                  </a:lnTo>
                  <a:lnTo>
                    <a:pt x="392" y="57"/>
                  </a:lnTo>
                  <a:lnTo>
                    <a:pt x="400" y="49"/>
                  </a:lnTo>
                  <a:lnTo>
                    <a:pt x="409" y="42"/>
                  </a:lnTo>
                  <a:lnTo>
                    <a:pt x="416" y="36"/>
                  </a:lnTo>
                  <a:lnTo>
                    <a:pt x="424" y="30"/>
                  </a:lnTo>
                  <a:lnTo>
                    <a:pt x="430" y="27"/>
                  </a:lnTo>
                  <a:lnTo>
                    <a:pt x="441" y="21"/>
                  </a:lnTo>
                  <a:lnTo>
                    <a:pt x="451" y="19"/>
                  </a:lnTo>
                  <a:lnTo>
                    <a:pt x="456" y="18"/>
                  </a:lnTo>
                  <a:lnTo>
                    <a:pt x="459" y="18"/>
                  </a:lnTo>
                  <a:lnTo>
                    <a:pt x="583" y="0"/>
                  </a:lnTo>
                  <a:lnTo>
                    <a:pt x="706" y="124"/>
                  </a:lnTo>
                  <a:lnTo>
                    <a:pt x="757" y="120"/>
                  </a:lnTo>
                  <a:lnTo>
                    <a:pt x="803" y="118"/>
                  </a:lnTo>
                  <a:lnTo>
                    <a:pt x="845" y="118"/>
                  </a:lnTo>
                  <a:lnTo>
                    <a:pt x="882" y="119"/>
                  </a:lnTo>
                  <a:lnTo>
                    <a:pt x="912" y="120"/>
                  </a:lnTo>
                  <a:lnTo>
                    <a:pt x="935" y="122"/>
                  </a:lnTo>
                  <a:lnTo>
                    <a:pt x="949" y="124"/>
                  </a:lnTo>
                  <a:lnTo>
                    <a:pt x="954" y="124"/>
                  </a:lnTo>
                  <a:lnTo>
                    <a:pt x="1046" y="124"/>
                  </a:lnTo>
                  <a:lnTo>
                    <a:pt x="1109" y="187"/>
                  </a:lnTo>
                  <a:lnTo>
                    <a:pt x="1134" y="179"/>
                  </a:lnTo>
                  <a:lnTo>
                    <a:pt x="1157" y="173"/>
                  </a:lnTo>
                  <a:lnTo>
                    <a:pt x="1178" y="167"/>
                  </a:lnTo>
                  <a:lnTo>
                    <a:pt x="1197" y="164"/>
                  </a:lnTo>
                  <a:lnTo>
                    <a:pt x="1213" y="161"/>
                  </a:lnTo>
                  <a:lnTo>
                    <a:pt x="1229" y="160"/>
                  </a:lnTo>
                  <a:lnTo>
                    <a:pt x="1243" y="160"/>
                  </a:lnTo>
                  <a:lnTo>
                    <a:pt x="1253" y="160"/>
                  </a:lnTo>
                  <a:lnTo>
                    <a:pt x="1272" y="162"/>
                  </a:lnTo>
                  <a:lnTo>
                    <a:pt x="1285" y="166"/>
                  </a:lnTo>
                  <a:lnTo>
                    <a:pt x="1292" y="169"/>
                  </a:lnTo>
                  <a:lnTo>
                    <a:pt x="1294" y="171"/>
                  </a:lnTo>
                  <a:lnTo>
                    <a:pt x="1296" y="167"/>
                  </a:lnTo>
                  <a:lnTo>
                    <a:pt x="1302" y="159"/>
                  </a:lnTo>
                  <a:lnTo>
                    <a:pt x="1312" y="148"/>
                  </a:lnTo>
                  <a:lnTo>
                    <a:pt x="1323" y="139"/>
                  </a:lnTo>
                  <a:lnTo>
                    <a:pt x="1329" y="136"/>
                  </a:lnTo>
                  <a:lnTo>
                    <a:pt x="1337" y="132"/>
                  </a:lnTo>
                  <a:lnTo>
                    <a:pt x="1344" y="131"/>
                  </a:lnTo>
                  <a:lnTo>
                    <a:pt x="1352" y="131"/>
                  </a:lnTo>
                  <a:lnTo>
                    <a:pt x="1361" y="133"/>
                  </a:lnTo>
                  <a:lnTo>
                    <a:pt x="1369" y="138"/>
                  </a:lnTo>
                  <a:lnTo>
                    <a:pt x="1378" y="145"/>
                  </a:lnTo>
                  <a:lnTo>
                    <a:pt x="1386" y="155"/>
                  </a:lnTo>
                  <a:lnTo>
                    <a:pt x="1391" y="161"/>
                  </a:lnTo>
                  <a:lnTo>
                    <a:pt x="1397" y="166"/>
                  </a:lnTo>
                  <a:lnTo>
                    <a:pt x="1403" y="169"/>
                  </a:lnTo>
                  <a:lnTo>
                    <a:pt x="1410" y="173"/>
                  </a:lnTo>
                  <a:lnTo>
                    <a:pt x="1418" y="175"/>
                  </a:lnTo>
                  <a:lnTo>
                    <a:pt x="1426" y="176"/>
                  </a:lnTo>
                  <a:lnTo>
                    <a:pt x="1434" y="178"/>
                  </a:lnTo>
                  <a:lnTo>
                    <a:pt x="1445" y="179"/>
                  </a:lnTo>
                  <a:lnTo>
                    <a:pt x="1465" y="179"/>
                  </a:lnTo>
                  <a:lnTo>
                    <a:pt x="1488" y="178"/>
                  </a:lnTo>
                  <a:lnTo>
                    <a:pt x="1511" y="175"/>
                  </a:lnTo>
                  <a:lnTo>
                    <a:pt x="1537" y="172"/>
                  </a:lnTo>
                  <a:lnTo>
                    <a:pt x="1592" y="164"/>
                  </a:lnTo>
                  <a:lnTo>
                    <a:pt x="1648" y="157"/>
                  </a:lnTo>
                  <a:lnTo>
                    <a:pt x="1676" y="154"/>
                  </a:lnTo>
                  <a:lnTo>
                    <a:pt x="1704" y="153"/>
                  </a:lnTo>
                  <a:lnTo>
                    <a:pt x="1731" y="153"/>
                  </a:lnTo>
                  <a:lnTo>
                    <a:pt x="1758" y="155"/>
                  </a:lnTo>
                  <a:lnTo>
                    <a:pt x="1769" y="158"/>
                  </a:lnTo>
                  <a:lnTo>
                    <a:pt x="1779" y="159"/>
                  </a:lnTo>
                  <a:lnTo>
                    <a:pt x="1785" y="161"/>
                  </a:lnTo>
                  <a:lnTo>
                    <a:pt x="1789" y="164"/>
                  </a:lnTo>
                  <a:lnTo>
                    <a:pt x="1792" y="167"/>
                  </a:lnTo>
                  <a:lnTo>
                    <a:pt x="1792" y="169"/>
                  </a:lnTo>
                  <a:lnTo>
                    <a:pt x="1789" y="173"/>
                  </a:lnTo>
                  <a:lnTo>
                    <a:pt x="1785" y="176"/>
                  </a:lnTo>
                  <a:lnTo>
                    <a:pt x="1772" y="185"/>
                  </a:lnTo>
                  <a:lnTo>
                    <a:pt x="1753" y="193"/>
                  </a:lnTo>
                  <a:lnTo>
                    <a:pt x="1730" y="202"/>
                  </a:lnTo>
                  <a:lnTo>
                    <a:pt x="1703" y="212"/>
                  </a:lnTo>
                  <a:lnTo>
                    <a:pt x="1640" y="230"/>
                  </a:lnTo>
                  <a:lnTo>
                    <a:pt x="1574" y="249"/>
                  </a:lnTo>
                  <a:lnTo>
                    <a:pt x="1512" y="265"/>
                  </a:lnTo>
                  <a:lnTo>
                    <a:pt x="1463" y="279"/>
                  </a:lnTo>
                  <a:lnTo>
                    <a:pt x="1445" y="285"/>
                  </a:lnTo>
                  <a:lnTo>
                    <a:pt x="1426" y="292"/>
                  </a:lnTo>
                  <a:lnTo>
                    <a:pt x="1409" y="299"/>
                  </a:lnTo>
                  <a:lnTo>
                    <a:pt x="1393" y="307"/>
                  </a:lnTo>
                  <a:lnTo>
                    <a:pt x="1378" y="315"/>
                  </a:lnTo>
                  <a:lnTo>
                    <a:pt x="1365" y="325"/>
                  </a:lnTo>
                  <a:lnTo>
                    <a:pt x="1352" y="334"/>
                  </a:lnTo>
                  <a:lnTo>
                    <a:pt x="1342" y="344"/>
                  </a:lnTo>
                  <a:lnTo>
                    <a:pt x="1331" y="354"/>
                  </a:lnTo>
                  <a:lnTo>
                    <a:pt x="1322" y="365"/>
                  </a:lnTo>
                  <a:lnTo>
                    <a:pt x="1313" y="376"/>
                  </a:lnTo>
                  <a:lnTo>
                    <a:pt x="1306" y="387"/>
                  </a:lnTo>
                  <a:lnTo>
                    <a:pt x="1292" y="410"/>
                  </a:lnTo>
                  <a:lnTo>
                    <a:pt x="1280" y="432"/>
                  </a:lnTo>
                  <a:lnTo>
                    <a:pt x="1268" y="454"/>
                  </a:lnTo>
                  <a:lnTo>
                    <a:pt x="1255" y="478"/>
                  </a:lnTo>
                  <a:lnTo>
                    <a:pt x="1241" y="500"/>
                  </a:lnTo>
                  <a:lnTo>
                    <a:pt x="1226" y="521"/>
                  </a:lnTo>
                  <a:lnTo>
                    <a:pt x="1210" y="542"/>
                  </a:lnTo>
                  <a:lnTo>
                    <a:pt x="1194" y="563"/>
                  </a:lnTo>
                  <a:lnTo>
                    <a:pt x="1176" y="582"/>
                  </a:lnTo>
                  <a:lnTo>
                    <a:pt x="1159" y="600"/>
                  </a:lnTo>
                  <a:lnTo>
                    <a:pt x="1141" y="618"/>
                  </a:lnTo>
                  <a:lnTo>
                    <a:pt x="1123" y="633"/>
                  </a:lnTo>
                  <a:lnTo>
                    <a:pt x="1107" y="647"/>
                  </a:lnTo>
                  <a:lnTo>
                    <a:pt x="1091" y="659"/>
                  </a:lnTo>
                  <a:lnTo>
                    <a:pt x="1076" y="669"/>
                  </a:lnTo>
                  <a:lnTo>
                    <a:pt x="1062" y="679"/>
                  </a:lnTo>
                  <a:lnTo>
                    <a:pt x="1049" y="685"/>
                  </a:lnTo>
                  <a:lnTo>
                    <a:pt x="1038" y="68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0" name="Freeform 211"/>
            <p:cNvSpPr/>
            <p:nvPr/>
          </p:nvSpPr>
          <p:spPr>
            <a:xfrm>
              <a:off x="5737680" y="2507040"/>
              <a:ext cx="531720" cy="644400"/>
            </a:xfrm>
            <a:custGeom>
              <a:avLst/>
              <a:gdLst>
                <a:gd name="textAreaLeft" fmla="*/ 0 w 531720"/>
                <a:gd name="textAreaRight" fmla="*/ 532080 w 531720"/>
                <a:gd name="textAreaTop" fmla="*/ 0 h 644400"/>
                <a:gd name="textAreaBottom" fmla="*/ 644400 h 644400"/>
              </a:gdLst>
              <a:ahLst/>
              <a:rect l="textAreaLeft" t="textAreaTop" r="textAreaRight" b="textAreaBottom"/>
              <a:pathLst>
                <a:path w="1210" h="1423">
                  <a:moveTo>
                    <a:pt x="916" y="1423"/>
                  </a:moveTo>
                  <a:lnTo>
                    <a:pt x="915" y="1406"/>
                  </a:lnTo>
                  <a:lnTo>
                    <a:pt x="912" y="1392"/>
                  </a:lnTo>
                  <a:lnTo>
                    <a:pt x="910" y="1386"/>
                  </a:lnTo>
                  <a:lnTo>
                    <a:pt x="908" y="1381"/>
                  </a:lnTo>
                  <a:lnTo>
                    <a:pt x="905" y="1376"/>
                  </a:lnTo>
                  <a:lnTo>
                    <a:pt x="903" y="1373"/>
                  </a:lnTo>
                  <a:lnTo>
                    <a:pt x="896" y="1367"/>
                  </a:lnTo>
                  <a:lnTo>
                    <a:pt x="888" y="1364"/>
                  </a:lnTo>
                  <a:lnTo>
                    <a:pt x="879" y="1361"/>
                  </a:lnTo>
                  <a:lnTo>
                    <a:pt x="869" y="1360"/>
                  </a:lnTo>
                  <a:lnTo>
                    <a:pt x="847" y="1359"/>
                  </a:lnTo>
                  <a:lnTo>
                    <a:pt x="824" y="1357"/>
                  </a:lnTo>
                  <a:lnTo>
                    <a:pt x="811" y="1353"/>
                  </a:lnTo>
                  <a:lnTo>
                    <a:pt x="799" y="1348"/>
                  </a:lnTo>
                  <a:lnTo>
                    <a:pt x="793" y="1345"/>
                  </a:lnTo>
                  <a:lnTo>
                    <a:pt x="786" y="1341"/>
                  </a:lnTo>
                  <a:lnTo>
                    <a:pt x="780" y="1337"/>
                  </a:lnTo>
                  <a:lnTo>
                    <a:pt x="775" y="1331"/>
                  </a:lnTo>
                  <a:lnTo>
                    <a:pt x="775" y="1309"/>
                  </a:lnTo>
                  <a:lnTo>
                    <a:pt x="773" y="1288"/>
                  </a:lnTo>
                  <a:lnTo>
                    <a:pt x="771" y="1268"/>
                  </a:lnTo>
                  <a:lnTo>
                    <a:pt x="768" y="1249"/>
                  </a:lnTo>
                  <a:lnTo>
                    <a:pt x="763" y="1233"/>
                  </a:lnTo>
                  <a:lnTo>
                    <a:pt x="757" y="1216"/>
                  </a:lnTo>
                  <a:lnTo>
                    <a:pt x="749" y="1201"/>
                  </a:lnTo>
                  <a:lnTo>
                    <a:pt x="740" y="1187"/>
                  </a:lnTo>
                  <a:lnTo>
                    <a:pt x="728" y="1173"/>
                  </a:lnTo>
                  <a:lnTo>
                    <a:pt x="714" y="1160"/>
                  </a:lnTo>
                  <a:lnTo>
                    <a:pt x="698" y="1149"/>
                  </a:lnTo>
                  <a:lnTo>
                    <a:pt x="679" y="1138"/>
                  </a:lnTo>
                  <a:lnTo>
                    <a:pt x="658" y="1128"/>
                  </a:lnTo>
                  <a:lnTo>
                    <a:pt x="633" y="1117"/>
                  </a:lnTo>
                  <a:lnTo>
                    <a:pt x="606" y="1108"/>
                  </a:lnTo>
                  <a:lnTo>
                    <a:pt x="576" y="1098"/>
                  </a:lnTo>
                  <a:lnTo>
                    <a:pt x="546" y="1089"/>
                  </a:lnTo>
                  <a:lnTo>
                    <a:pt x="520" y="1080"/>
                  </a:lnTo>
                  <a:lnTo>
                    <a:pt x="498" y="1069"/>
                  </a:lnTo>
                  <a:lnTo>
                    <a:pt x="478" y="1059"/>
                  </a:lnTo>
                  <a:lnTo>
                    <a:pt x="462" y="1048"/>
                  </a:lnTo>
                  <a:lnTo>
                    <a:pt x="449" y="1037"/>
                  </a:lnTo>
                  <a:lnTo>
                    <a:pt x="437" y="1025"/>
                  </a:lnTo>
                  <a:lnTo>
                    <a:pt x="429" y="1012"/>
                  </a:lnTo>
                  <a:lnTo>
                    <a:pt x="423" y="1000"/>
                  </a:lnTo>
                  <a:lnTo>
                    <a:pt x="418" y="987"/>
                  </a:lnTo>
                  <a:lnTo>
                    <a:pt x="416" y="976"/>
                  </a:lnTo>
                  <a:lnTo>
                    <a:pt x="415" y="963"/>
                  </a:lnTo>
                  <a:lnTo>
                    <a:pt x="415" y="950"/>
                  </a:lnTo>
                  <a:lnTo>
                    <a:pt x="416" y="938"/>
                  </a:lnTo>
                  <a:lnTo>
                    <a:pt x="418" y="926"/>
                  </a:lnTo>
                  <a:lnTo>
                    <a:pt x="421" y="914"/>
                  </a:lnTo>
                  <a:lnTo>
                    <a:pt x="422" y="903"/>
                  </a:lnTo>
                  <a:lnTo>
                    <a:pt x="423" y="894"/>
                  </a:lnTo>
                  <a:lnTo>
                    <a:pt x="421" y="887"/>
                  </a:lnTo>
                  <a:lnTo>
                    <a:pt x="418" y="881"/>
                  </a:lnTo>
                  <a:lnTo>
                    <a:pt x="414" y="875"/>
                  </a:lnTo>
                  <a:lnTo>
                    <a:pt x="408" y="871"/>
                  </a:lnTo>
                  <a:lnTo>
                    <a:pt x="400" y="867"/>
                  </a:lnTo>
                  <a:lnTo>
                    <a:pt x="392" y="864"/>
                  </a:lnTo>
                  <a:lnTo>
                    <a:pt x="345" y="853"/>
                  </a:lnTo>
                  <a:lnTo>
                    <a:pt x="283" y="836"/>
                  </a:lnTo>
                  <a:lnTo>
                    <a:pt x="265" y="830"/>
                  </a:lnTo>
                  <a:lnTo>
                    <a:pt x="248" y="824"/>
                  </a:lnTo>
                  <a:lnTo>
                    <a:pt x="231" y="817"/>
                  </a:lnTo>
                  <a:lnTo>
                    <a:pt x="215" y="809"/>
                  </a:lnTo>
                  <a:lnTo>
                    <a:pt x="201" y="801"/>
                  </a:lnTo>
                  <a:lnTo>
                    <a:pt x="187" y="792"/>
                  </a:lnTo>
                  <a:lnTo>
                    <a:pt x="174" y="783"/>
                  </a:lnTo>
                  <a:lnTo>
                    <a:pt x="161" y="774"/>
                  </a:lnTo>
                  <a:lnTo>
                    <a:pt x="151" y="764"/>
                  </a:lnTo>
                  <a:lnTo>
                    <a:pt x="142" y="754"/>
                  </a:lnTo>
                  <a:lnTo>
                    <a:pt x="132" y="745"/>
                  </a:lnTo>
                  <a:lnTo>
                    <a:pt x="125" y="735"/>
                  </a:lnTo>
                  <a:lnTo>
                    <a:pt x="121" y="726"/>
                  </a:lnTo>
                  <a:lnTo>
                    <a:pt x="116" y="715"/>
                  </a:lnTo>
                  <a:lnTo>
                    <a:pt x="113" y="707"/>
                  </a:lnTo>
                  <a:lnTo>
                    <a:pt x="112" y="698"/>
                  </a:lnTo>
                  <a:lnTo>
                    <a:pt x="111" y="690"/>
                  </a:lnTo>
                  <a:lnTo>
                    <a:pt x="109" y="681"/>
                  </a:lnTo>
                  <a:lnTo>
                    <a:pt x="104" y="673"/>
                  </a:lnTo>
                  <a:lnTo>
                    <a:pt x="97" y="666"/>
                  </a:lnTo>
                  <a:lnTo>
                    <a:pt x="90" y="659"/>
                  </a:lnTo>
                  <a:lnTo>
                    <a:pt x="82" y="653"/>
                  </a:lnTo>
                  <a:lnTo>
                    <a:pt x="74" y="648"/>
                  </a:lnTo>
                  <a:lnTo>
                    <a:pt x="64" y="642"/>
                  </a:lnTo>
                  <a:lnTo>
                    <a:pt x="32" y="625"/>
                  </a:lnTo>
                  <a:lnTo>
                    <a:pt x="18" y="620"/>
                  </a:lnTo>
                  <a:lnTo>
                    <a:pt x="6" y="505"/>
                  </a:lnTo>
                  <a:lnTo>
                    <a:pt x="3" y="505"/>
                  </a:lnTo>
                  <a:lnTo>
                    <a:pt x="1" y="498"/>
                  </a:lnTo>
                  <a:lnTo>
                    <a:pt x="0" y="489"/>
                  </a:lnTo>
                  <a:lnTo>
                    <a:pt x="0" y="478"/>
                  </a:lnTo>
                  <a:lnTo>
                    <a:pt x="0" y="467"/>
                  </a:lnTo>
                  <a:lnTo>
                    <a:pt x="1" y="454"/>
                  </a:lnTo>
                  <a:lnTo>
                    <a:pt x="3" y="441"/>
                  </a:lnTo>
                  <a:lnTo>
                    <a:pt x="5" y="427"/>
                  </a:lnTo>
                  <a:lnTo>
                    <a:pt x="7" y="413"/>
                  </a:lnTo>
                  <a:lnTo>
                    <a:pt x="12" y="400"/>
                  </a:lnTo>
                  <a:lnTo>
                    <a:pt x="17" y="388"/>
                  </a:lnTo>
                  <a:lnTo>
                    <a:pt x="22" y="377"/>
                  </a:lnTo>
                  <a:lnTo>
                    <a:pt x="28" y="367"/>
                  </a:lnTo>
                  <a:lnTo>
                    <a:pt x="32" y="363"/>
                  </a:lnTo>
                  <a:lnTo>
                    <a:pt x="36" y="359"/>
                  </a:lnTo>
                  <a:lnTo>
                    <a:pt x="41" y="356"/>
                  </a:lnTo>
                  <a:lnTo>
                    <a:pt x="45" y="353"/>
                  </a:lnTo>
                  <a:lnTo>
                    <a:pt x="50" y="351"/>
                  </a:lnTo>
                  <a:lnTo>
                    <a:pt x="55" y="350"/>
                  </a:lnTo>
                  <a:lnTo>
                    <a:pt x="61" y="350"/>
                  </a:lnTo>
                  <a:lnTo>
                    <a:pt x="67" y="350"/>
                  </a:lnTo>
                  <a:lnTo>
                    <a:pt x="104" y="281"/>
                  </a:lnTo>
                  <a:lnTo>
                    <a:pt x="97" y="274"/>
                  </a:lnTo>
                  <a:lnTo>
                    <a:pt x="91" y="267"/>
                  </a:lnTo>
                  <a:lnTo>
                    <a:pt x="87" y="259"/>
                  </a:lnTo>
                  <a:lnTo>
                    <a:pt x="84" y="250"/>
                  </a:lnTo>
                  <a:lnTo>
                    <a:pt x="82" y="241"/>
                  </a:lnTo>
                  <a:lnTo>
                    <a:pt x="81" y="232"/>
                  </a:lnTo>
                  <a:lnTo>
                    <a:pt x="82" y="222"/>
                  </a:lnTo>
                  <a:lnTo>
                    <a:pt x="84" y="213"/>
                  </a:lnTo>
                  <a:lnTo>
                    <a:pt x="89" y="204"/>
                  </a:lnTo>
                  <a:lnTo>
                    <a:pt x="95" y="194"/>
                  </a:lnTo>
                  <a:lnTo>
                    <a:pt x="102" y="186"/>
                  </a:lnTo>
                  <a:lnTo>
                    <a:pt x="112" y="178"/>
                  </a:lnTo>
                  <a:lnTo>
                    <a:pt x="124" y="171"/>
                  </a:lnTo>
                  <a:lnTo>
                    <a:pt x="138" y="165"/>
                  </a:lnTo>
                  <a:lnTo>
                    <a:pt x="154" y="160"/>
                  </a:lnTo>
                  <a:lnTo>
                    <a:pt x="173" y="156"/>
                  </a:lnTo>
                  <a:lnTo>
                    <a:pt x="142" y="27"/>
                  </a:lnTo>
                  <a:lnTo>
                    <a:pt x="830" y="0"/>
                  </a:lnTo>
                  <a:lnTo>
                    <a:pt x="852" y="25"/>
                  </a:lnTo>
                  <a:lnTo>
                    <a:pt x="876" y="48"/>
                  </a:lnTo>
                  <a:lnTo>
                    <a:pt x="903" y="72"/>
                  </a:lnTo>
                  <a:lnTo>
                    <a:pt x="930" y="96"/>
                  </a:lnTo>
                  <a:lnTo>
                    <a:pt x="1077" y="629"/>
                  </a:lnTo>
                  <a:lnTo>
                    <a:pt x="1082" y="639"/>
                  </a:lnTo>
                  <a:lnTo>
                    <a:pt x="1088" y="650"/>
                  </a:lnTo>
                  <a:lnTo>
                    <a:pt x="1095" y="660"/>
                  </a:lnTo>
                  <a:lnTo>
                    <a:pt x="1102" y="672"/>
                  </a:lnTo>
                  <a:lnTo>
                    <a:pt x="1119" y="693"/>
                  </a:lnTo>
                  <a:lnTo>
                    <a:pt x="1137" y="715"/>
                  </a:lnTo>
                  <a:lnTo>
                    <a:pt x="1157" y="735"/>
                  </a:lnTo>
                  <a:lnTo>
                    <a:pt x="1175" y="753"/>
                  </a:lnTo>
                  <a:lnTo>
                    <a:pt x="1194" y="769"/>
                  </a:lnTo>
                  <a:lnTo>
                    <a:pt x="1210" y="782"/>
                  </a:lnTo>
                  <a:lnTo>
                    <a:pt x="1188" y="806"/>
                  </a:lnTo>
                  <a:lnTo>
                    <a:pt x="1169" y="831"/>
                  </a:lnTo>
                  <a:lnTo>
                    <a:pt x="1161" y="841"/>
                  </a:lnTo>
                  <a:lnTo>
                    <a:pt x="1154" y="853"/>
                  </a:lnTo>
                  <a:lnTo>
                    <a:pt x="1148" y="865"/>
                  </a:lnTo>
                  <a:lnTo>
                    <a:pt x="1143" y="877"/>
                  </a:lnTo>
                  <a:lnTo>
                    <a:pt x="1138" y="889"/>
                  </a:lnTo>
                  <a:lnTo>
                    <a:pt x="1134" y="902"/>
                  </a:lnTo>
                  <a:lnTo>
                    <a:pt x="1131" y="915"/>
                  </a:lnTo>
                  <a:lnTo>
                    <a:pt x="1127" y="930"/>
                  </a:lnTo>
                  <a:lnTo>
                    <a:pt x="1126" y="945"/>
                  </a:lnTo>
                  <a:lnTo>
                    <a:pt x="1124" y="963"/>
                  </a:lnTo>
                  <a:lnTo>
                    <a:pt x="1124" y="980"/>
                  </a:lnTo>
                  <a:lnTo>
                    <a:pt x="1124" y="1000"/>
                  </a:lnTo>
                  <a:lnTo>
                    <a:pt x="1124" y="1041"/>
                  </a:lnTo>
                  <a:lnTo>
                    <a:pt x="1125" y="1081"/>
                  </a:lnTo>
                  <a:lnTo>
                    <a:pt x="1127" y="1119"/>
                  </a:lnTo>
                  <a:lnTo>
                    <a:pt x="1131" y="1156"/>
                  </a:lnTo>
                  <a:lnTo>
                    <a:pt x="1133" y="1186"/>
                  </a:lnTo>
                  <a:lnTo>
                    <a:pt x="1136" y="1209"/>
                  </a:lnTo>
                  <a:lnTo>
                    <a:pt x="1137" y="1225"/>
                  </a:lnTo>
                  <a:lnTo>
                    <a:pt x="1138" y="1230"/>
                  </a:lnTo>
                  <a:lnTo>
                    <a:pt x="1123" y="1257"/>
                  </a:lnTo>
                  <a:lnTo>
                    <a:pt x="1108" y="1281"/>
                  </a:lnTo>
                  <a:lnTo>
                    <a:pt x="1094" y="1299"/>
                  </a:lnTo>
                  <a:lnTo>
                    <a:pt x="1080" y="1315"/>
                  </a:lnTo>
                  <a:lnTo>
                    <a:pt x="1067" y="1327"/>
                  </a:lnTo>
                  <a:lnTo>
                    <a:pt x="1053" y="1338"/>
                  </a:lnTo>
                  <a:lnTo>
                    <a:pt x="1040" y="1347"/>
                  </a:lnTo>
                  <a:lnTo>
                    <a:pt x="1027" y="1354"/>
                  </a:lnTo>
                  <a:lnTo>
                    <a:pt x="1001" y="1367"/>
                  </a:lnTo>
                  <a:lnTo>
                    <a:pt x="974" y="1380"/>
                  </a:lnTo>
                  <a:lnTo>
                    <a:pt x="960" y="1388"/>
                  </a:lnTo>
                  <a:lnTo>
                    <a:pt x="946" y="1397"/>
                  </a:lnTo>
                  <a:lnTo>
                    <a:pt x="931" y="1409"/>
                  </a:lnTo>
                  <a:lnTo>
                    <a:pt x="916" y="142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1" name="Freeform 212"/>
            <p:cNvSpPr/>
            <p:nvPr/>
          </p:nvSpPr>
          <p:spPr>
            <a:xfrm>
              <a:off x="6940080" y="2538720"/>
              <a:ext cx="411120" cy="419760"/>
            </a:xfrm>
            <a:custGeom>
              <a:avLst/>
              <a:gdLst>
                <a:gd name="textAreaLeft" fmla="*/ 0 w 411120"/>
                <a:gd name="textAreaRight" fmla="*/ 411480 w 411120"/>
                <a:gd name="textAreaTop" fmla="*/ 0 h 419760"/>
                <a:gd name="textAreaBottom" fmla="*/ 420120 h 419760"/>
              </a:gdLst>
              <a:ahLst/>
              <a:rect l="textAreaLeft" t="textAreaTop" r="textAreaRight" b="textAreaBottom"/>
              <a:pathLst>
                <a:path w="932" h="925">
                  <a:moveTo>
                    <a:pt x="10" y="740"/>
                  </a:moveTo>
                  <a:lnTo>
                    <a:pt x="6" y="735"/>
                  </a:lnTo>
                  <a:lnTo>
                    <a:pt x="2" y="729"/>
                  </a:lnTo>
                  <a:lnTo>
                    <a:pt x="1" y="723"/>
                  </a:lnTo>
                  <a:lnTo>
                    <a:pt x="0" y="717"/>
                  </a:lnTo>
                  <a:lnTo>
                    <a:pt x="2" y="704"/>
                  </a:lnTo>
                  <a:lnTo>
                    <a:pt x="7" y="690"/>
                  </a:lnTo>
                  <a:lnTo>
                    <a:pt x="11" y="674"/>
                  </a:lnTo>
                  <a:lnTo>
                    <a:pt x="17" y="654"/>
                  </a:lnTo>
                  <a:lnTo>
                    <a:pt x="18" y="642"/>
                  </a:lnTo>
                  <a:lnTo>
                    <a:pt x="20" y="631"/>
                  </a:lnTo>
                  <a:lnTo>
                    <a:pt x="20" y="617"/>
                  </a:lnTo>
                  <a:lnTo>
                    <a:pt x="18" y="601"/>
                  </a:lnTo>
                  <a:lnTo>
                    <a:pt x="32" y="598"/>
                  </a:lnTo>
                  <a:lnTo>
                    <a:pt x="44" y="593"/>
                  </a:lnTo>
                  <a:lnTo>
                    <a:pt x="54" y="589"/>
                  </a:lnTo>
                  <a:lnTo>
                    <a:pt x="62" y="582"/>
                  </a:lnTo>
                  <a:lnTo>
                    <a:pt x="68" y="573"/>
                  </a:lnTo>
                  <a:lnTo>
                    <a:pt x="72" y="564"/>
                  </a:lnTo>
                  <a:lnTo>
                    <a:pt x="76" y="555"/>
                  </a:lnTo>
                  <a:lnTo>
                    <a:pt x="78" y="544"/>
                  </a:lnTo>
                  <a:lnTo>
                    <a:pt x="79" y="534"/>
                  </a:lnTo>
                  <a:lnTo>
                    <a:pt x="80" y="522"/>
                  </a:lnTo>
                  <a:lnTo>
                    <a:pt x="80" y="510"/>
                  </a:lnTo>
                  <a:lnTo>
                    <a:pt x="79" y="497"/>
                  </a:lnTo>
                  <a:lnTo>
                    <a:pt x="77" y="472"/>
                  </a:lnTo>
                  <a:lnTo>
                    <a:pt x="73" y="446"/>
                  </a:lnTo>
                  <a:lnTo>
                    <a:pt x="92" y="434"/>
                  </a:lnTo>
                  <a:lnTo>
                    <a:pt x="105" y="425"/>
                  </a:lnTo>
                  <a:lnTo>
                    <a:pt x="110" y="422"/>
                  </a:lnTo>
                  <a:lnTo>
                    <a:pt x="113" y="418"/>
                  </a:lnTo>
                  <a:lnTo>
                    <a:pt x="117" y="413"/>
                  </a:lnTo>
                  <a:lnTo>
                    <a:pt x="119" y="409"/>
                  </a:lnTo>
                  <a:lnTo>
                    <a:pt x="127" y="383"/>
                  </a:lnTo>
                  <a:lnTo>
                    <a:pt x="142" y="332"/>
                  </a:lnTo>
                  <a:lnTo>
                    <a:pt x="149" y="308"/>
                  </a:lnTo>
                  <a:lnTo>
                    <a:pt x="154" y="290"/>
                  </a:lnTo>
                  <a:lnTo>
                    <a:pt x="157" y="272"/>
                  </a:lnTo>
                  <a:lnTo>
                    <a:pt x="157" y="257"/>
                  </a:lnTo>
                  <a:lnTo>
                    <a:pt x="157" y="244"/>
                  </a:lnTo>
                  <a:lnTo>
                    <a:pt x="155" y="232"/>
                  </a:lnTo>
                  <a:lnTo>
                    <a:pt x="152" y="221"/>
                  </a:lnTo>
                  <a:lnTo>
                    <a:pt x="147" y="211"/>
                  </a:lnTo>
                  <a:lnTo>
                    <a:pt x="136" y="193"/>
                  </a:lnTo>
                  <a:lnTo>
                    <a:pt x="122" y="174"/>
                  </a:lnTo>
                  <a:lnTo>
                    <a:pt x="117" y="163"/>
                  </a:lnTo>
                  <a:lnTo>
                    <a:pt x="110" y="152"/>
                  </a:lnTo>
                  <a:lnTo>
                    <a:pt x="103" y="139"/>
                  </a:lnTo>
                  <a:lnTo>
                    <a:pt x="97" y="124"/>
                  </a:lnTo>
                  <a:lnTo>
                    <a:pt x="91" y="109"/>
                  </a:lnTo>
                  <a:lnTo>
                    <a:pt x="87" y="95"/>
                  </a:lnTo>
                  <a:lnTo>
                    <a:pt x="86" y="82"/>
                  </a:lnTo>
                  <a:lnTo>
                    <a:pt x="85" y="71"/>
                  </a:lnTo>
                  <a:lnTo>
                    <a:pt x="85" y="62"/>
                  </a:lnTo>
                  <a:lnTo>
                    <a:pt x="86" y="52"/>
                  </a:lnTo>
                  <a:lnTo>
                    <a:pt x="87" y="45"/>
                  </a:lnTo>
                  <a:lnTo>
                    <a:pt x="90" y="38"/>
                  </a:lnTo>
                  <a:lnTo>
                    <a:pt x="94" y="27"/>
                  </a:lnTo>
                  <a:lnTo>
                    <a:pt x="98" y="16"/>
                  </a:lnTo>
                  <a:lnTo>
                    <a:pt x="99" y="13"/>
                  </a:lnTo>
                  <a:lnTo>
                    <a:pt x="99" y="8"/>
                  </a:lnTo>
                  <a:lnTo>
                    <a:pt x="98" y="5"/>
                  </a:lnTo>
                  <a:lnTo>
                    <a:pt x="97" y="0"/>
                  </a:lnTo>
                  <a:lnTo>
                    <a:pt x="106" y="5"/>
                  </a:lnTo>
                  <a:lnTo>
                    <a:pt x="114" y="10"/>
                  </a:lnTo>
                  <a:lnTo>
                    <a:pt x="120" y="16"/>
                  </a:lnTo>
                  <a:lnTo>
                    <a:pt x="126" y="22"/>
                  </a:lnTo>
                  <a:lnTo>
                    <a:pt x="136" y="36"/>
                  </a:lnTo>
                  <a:lnTo>
                    <a:pt x="146" y="50"/>
                  </a:lnTo>
                  <a:lnTo>
                    <a:pt x="150" y="57"/>
                  </a:lnTo>
                  <a:lnTo>
                    <a:pt x="155" y="63"/>
                  </a:lnTo>
                  <a:lnTo>
                    <a:pt x="161" y="69"/>
                  </a:lnTo>
                  <a:lnTo>
                    <a:pt x="168" y="73"/>
                  </a:lnTo>
                  <a:lnTo>
                    <a:pt x="176" y="78"/>
                  </a:lnTo>
                  <a:lnTo>
                    <a:pt x="187" y="80"/>
                  </a:lnTo>
                  <a:lnTo>
                    <a:pt x="198" y="83"/>
                  </a:lnTo>
                  <a:lnTo>
                    <a:pt x="211" y="83"/>
                  </a:lnTo>
                  <a:lnTo>
                    <a:pt x="218" y="84"/>
                  </a:lnTo>
                  <a:lnTo>
                    <a:pt x="224" y="84"/>
                  </a:lnTo>
                  <a:lnTo>
                    <a:pt x="229" y="85"/>
                  </a:lnTo>
                  <a:lnTo>
                    <a:pt x="233" y="87"/>
                  </a:lnTo>
                  <a:lnTo>
                    <a:pt x="237" y="90"/>
                  </a:lnTo>
                  <a:lnTo>
                    <a:pt x="239" y="92"/>
                  </a:lnTo>
                  <a:lnTo>
                    <a:pt x="242" y="95"/>
                  </a:lnTo>
                  <a:lnTo>
                    <a:pt x="243" y="98"/>
                  </a:lnTo>
                  <a:lnTo>
                    <a:pt x="245" y="106"/>
                  </a:lnTo>
                  <a:lnTo>
                    <a:pt x="245" y="116"/>
                  </a:lnTo>
                  <a:lnTo>
                    <a:pt x="244" y="127"/>
                  </a:lnTo>
                  <a:lnTo>
                    <a:pt x="243" y="139"/>
                  </a:lnTo>
                  <a:lnTo>
                    <a:pt x="242" y="153"/>
                  </a:lnTo>
                  <a:lnTo>
                    <a:pt x="242" y="167"/>
                  </a:lnTo>
                  <a:lnTo>
                    <a:pt x="242" y="182"/>
                  </a:lnTo>
                  <a:lnTo>
                    <a:pt x="243" y="198"/>
                  </a:lnTo>
                  <a:lnTo>
                    <a:pt x="246" y="216"/>
                  </a:lnTo>
                  <a:lnTo>
                    <a:pt x="253" y="234"/>
                  </a:lnTo>
                  <a:lnTo>
                    <a:pt x="257" y="243"/>
                  </a:lnTo>
                  <a:lnTo>
                    <a:pt x="263" y="252"/>
                  </a:lnTo>
                  <a:lnTo>
                    <a:pt x="268" y="262"/>
                  </a:lnTo>
                  <a:lnTo>
                    <a:pt x="275" y="271"/>
                  </a:lnTo>
                  <a:lnTo>
                    <a:pt x="288" y="271"/>
                  </a:lnTo>
                  <a:lnTo>
                    <a:pt x="302" y="271"/>
                  </a:lnTo>
                  <a:lnTo>
                    <a:pt x="316" y="271"/>
                  </a:lnTo>
                  <a:lnTo>
                    <a:pt x="330" y="270"/>
                  </a:lnTo>
                  <a:lnTo>
                    <a:pt x="361" y="265"/>
                  </a:lnTo>
                  <a:lnTo>
                    <a:pt x="393" y="259"/>
                  </a:lnTo>
                  <a:lnTo>
                    <a:pt x="426" y="252"/>
                  </a:lnTo>
                  <a:lnTo>
                    <a:pt x="462" y="245"/>
                  </a:lnTo>
                  <a:lnTo>
                    <a:pt x="499" y="237"/>
                  </a:lnTo>
                  <a:lnTo>
                    <a:pt x="537" y="230"/>
                  </a:lnTo>
                  <a:lnTo>
                    <a:pt x="559" y="262"/>
                  </a:lnTo>
                  <a:lnTo>
                    <a:pt x="579" y="285"/>
                  </a:lnTo>
                  <a:lnTo>
                    <a:pt x="587" y="293"/>
                  </a:lnTo>
                  <a:lnTo>
                    <a:pt x="596" y="301"/>
                  </a:lnTo>
                  <a:lnTo>
                    <a:pt x="604" y="306"/>
                  </a:lnTo>
                  <a:lnTo>
                    <a:pt x="611" y="311"/>
                  </a:lnTo>
                  <a:lnTo>
                    <a:pt x="617" y="314"/>
                  </a:lnTo>
                  <a:lnTo>
                    <a:pt x="622" y="315"/>
                  </a:lnTo>
                  <a:lnTo>
                    <a:pt x="628" y="316"/>
                  </a:lnTo>
                  <a:lnTo>
                    <a:pt x="634" y="316"/>
                  </a:lnTo>
                  <a:lnTo>
                    <a:pt x="640" y="315"/>
                  </a:lnTo>
                  <a:lnTo>
                    <a:pt x="645" y="313"/>
                  </a:lnTo>
                  <a:lnTo>
                    <a:pt x="649" y="309"/>
                  </a:lnTo>
                  <a:lnTo>
                    <a:pt x="654" y="307"/>
                  </a:lnTo>
                  <a:lnTo>
                    <a:pt x="674" y="290"/>
                  </a:lnTo>
                  <a:lnTo>
                    <a:pt x="697" y="270"/>
                  </a:lnTo>
                  <a:lnTo>
                    <a:pt x="704" y="266"/>
                  </a:lnTo>
                  <a:lnTo>
                    <a:pt x="711" y="262"/>
                  </a:lnTo>
                  <a:lnTo>
                    <a:pt x="719" y="258"/>
                  </a:lnTo>
                  <a:lnTo>
                    <a:pt x="728" y="256"/>
                  </a:lnTo>
                  <a:lnTo>
                    <a:pt x="736" y="253"/>
                  </a:lnTo>
                  <a:lnTo>
                    <a:pt x="746" y="252"/>
                  </a:lnTo>
                  <a:lnTo>
                    <a:pt x="757" y="252"/>
                  </a:lnTo>
                  <a:lnTo>
                    <a:pt x="767" y="253"/>
                  </a:lnTo>
                  <a:lnTo>
                    <a:pt x="807" y="258"/>
                  </a:lnTo>
                  <a:lnTo>
                    <a:pt x="834" y="260"/>
                  </a:lnTo>
                  <a:lnTo>
                    <a:pt x="854" y="262"/>
                  </a:lnTo>
                  <a:lnTo>
                    <a:pt x="867" y="260"/>
                  </a:lnTo>
                  <a:lnTo>
                    <a:pt x="878" y="260"/>
                  </a:lnTo>
                  <a:lnTo>
                    <a:pt x="891" y="259"/>
                  </a:lnTo>
                  <a:lnTo>
                    <a:pt x="907" y="260"/>
                  </a:lnTo>
                  <a:lnTo>
                    <a:pt x="932" y="262"/>
                  </a:lnTo>
                  <a:lnTo>
                    <a:pt x="924" y="270"/>
                  </a:lnTo>
                  <a:lnTo>
                    <a:pt x="916" y="280"/>
                  </a:lnTo>
                  <a:lnTo>
                    <a:pt x="907" y="293"/>
                  </a:lnTo>
                  <a:lnTo>
                    <a:pt x="898" y="308"/>
                  </a:lnTo>
                  <a:lnTo>
                    <a:pt x="878" y="343"/>
                  </a:lnTo>
                  <a:lnTo>
                    <a:pt x="858" y="382"/>
                  </a:lnTo>
                  <a:lnTo>
                    <a:pt x="836" y="423"/>
                  </a:lnTo>
                  <a:lnTo>
                    <a:pt x="814" y="462"/>
                  </a:lnTo>
                  <a:lnTo>
                    <a:pt x="802" y="480"/>
                  </a:lnTo>
                  <a:lnTo>
                    <a:pt x="791" y="496"/>
                  </a:lnTo>
                  <a:lnTo>
                    <a:pt x="779" y="512"/>
                  </a:lnTo>
                  <a:lnTo>
                    <a:pt x="767" y="524"/>
                  </a:lnTo>
                  <a:lnTo>
                    <a:pt x="763" y="530"/>
                  </a:lnTo>
                  <a:lnTo>
                    <a:pt x="758" y="538"/>
                  </a:lnTo>
                  <a:lnTo>
                    <a:pt x="753" y="547"/>
                  </a:lnTo>
                  <a:lnTo>
                    <a:pt x="750" y="556"/>
                  </a:lnTo>
                  <a:lnTo>
                    <a:pt x="744" y="577"/>
                  </a:lnTo>
                  <a:lnTo>
                    <a:pt x="738" y="600"/>
                  </a:lnTo>
                  <a:lnTo>
                    <a:pt x="731" y="652"/>
                  </a:lnTo>
                  <a:lnTo>
                    <a:pt x="724" y="708"/>
                  </a:lnTo>
                  <a:lnTo>
                    <a:pt x="719" y="736"/>
                  </a:lnTo>
                  <a:lnTo>
                    <a:pt x="713" y="764"/>
                  </a:lnTo>
                  <a:lnTo>
                    <a:pt x="710" y="777"/>
                  </a:lnTo>
                  <a:lnTo>
                    <a:pt x="706" y="790"/>
                  </a:lnTo>
                  <a:lnTo>
                    <a:pt x="702" y="802"/>
                  </a:lnTo>
                  <a:lnTo>
                    <a:pt x="697" y="814"/>
                  </a:lnTo>
                  <a:lnTo>
                    <a:pt x="691" y="825"/>
                  </a:lnTo>
                  <a:lnTo>
                    <a:pt x="684" y="835"/>
                  </a:lnTo>
                  <a:lnTo>
                    <a:pt x="677" y="846"/>
                  </a:lnTo>
                  <a:lnTo>
                    <a:pt x="670" y="855"/>
                  </a:lnTo>
                  <a:lnTo>
                    <a:pt x="661" y="863"/>
                  </a:lnTo>
                  <a:lnTo>
                    <a:pt x="652" y="870"/>
                  </a:lnTo>
                  <a:lnTo>
                    <a:pt x="641" y="876"/>
                  </a:lnTo>
                  <a:lnTo>
                    <a:pt x="629" y="881"/>
                  </a:lnTo>
                  <a:lnTo>
                    <a:pt x="597" y="891"/>
                  </a:lnTo>
                  <a:lnTo>
                    <a:pt x="566" y="900"/>
                  </a:lnTo>
                  <a:lnTo>
                    <a:pt x="537" y="907"/>
                  </a:lnTo>
                  <a:lnTo>
                    <a:pt x="509" y="913"/>
                  </a:lnTo>
                  <a:lnTo>
                    <a:pt x="482" y="918"/>
                  </a:lnTo>
                  <a:lnTo>
                    <a:pt x="458" y="922"/>
                  </a:lnTo>
                  <a:lnTo>
                    <a:pt x="433" y="924"/>
                  </a:lnTo>
                  <a:lnTo>
                    <a:pt x="410" y="925"/>
                  </a:lnTo>
                  <a:lnTo>
                    <a:pt x="388" y="925"/>
                  </a:lnTo>
                  <a:lnTo>
                    <a:pt x="367" y="924"/>
                  </a:lnTo>
                  <a:lnTo>
                    <a:pt x="347" y="922"/>
                  </a:lnTo>
                  <a:lnTo>
                    <a:pt x="328" y="919"/>
                  </a:lnTo>
                  <a:lnTo>
                    <a:pt x="309" y="916"/>
                  </a:lnTo>
                  <a:lnTo>
                    <a:pt x="292" y="912"/>
                  </a:lnTo>
                  <a:lnTo>
                    <a:pt x="275" y="907"/>
                  </a:lnTo>
                  <a:lnTo>
                    <a:pt x="260" y="903"/>
                  </a:lnTo>
                  <a:lnTo>
                    <a:pt x="231" y="892"/>
                  </a:lnTo>
                  <a:lnTo>
                    <a:pt x="205" y="882"/>
                  </a:lnTo>
                  <a:lnTo>
                    <a:pt x="181" y="871"/>
                  </a:lnTo>
                  <a:lnTo>
                    <a:pt x="160" y="861"/>
                  </a:lnTo>
                  <a:lnTo>
                    <a:pt x="140" y="851"/>
                  </a:lnTo>
                  <a:lnTo>
                    <a:pt x="121" y="846"/>
                  </a:lnTo>
                  <a:lnTo>
                    <a:pt x="113" y="843"/>
                  </a:lnTo>
                  <a:lnTo>
                    <a:pt x="104" y="841"/>
                  </a:lnTo>
                  <a:lnTo>
                    <a:pt x="96" y="841"/>
                  </a:lnTo>
                  <a:lnTo>
                    <a:pt x="87" y="841"/>
                  </a:lnTo>
                  <a:lnTo>
                    <a:pt x="73" y="839"/>
                  </a:lnTo>
                  <a:lnTo>
                    <a:pt x="61" y="835"/>
                  </a:lnTo>
                  <a:lnTo>
                    <a:pt x="50" y="830"/>
                  </a:lnTo>
                  <a:lnTo>
                    <a:pt x="39" y="825"/>
                  </a:lnTo>
                  <a:lnTo>
                    <a:pt x="30" y="819"/>
                  </a:lnTo>
                  <a:lnTo>
                    <a:pt x="23" y="812"/>
                  </a:lnTo>
                  <a:lnTo>
                    <a:pt x="16" y="804"/>
                  </a:lnTo>
                  <a:lnTo>
                    <a:pt x="11" y="795"/>
                  </a:lnTo>
                  <a:lnTo>
                    <a:pt x="7" y="788"/>
                  </a:lnTo>
                  <a:lnTo>
                    <a:pt x="4" y="780"/>
                  </a:lnTo>
                  <a:lnTo>
                    <a:pt x="2" y="772"/>
                  </a:lnTo>
                  <a:lnTo>
                    <a:pt x="1" y="764"/>
                  </a:lnTo>
                  <a:lnTo>
                    <a:pt x="2" y="757"/>
                  </a:lnTo>
                  <a:lnTo>
                    <a:pt x="3" y="751"/>
                  </a:lnTo>
                  <a:lnTo>
                    <a:pt x="6" y="745"/>
                  </a:lnTo>
                  <a:lnTo>
                    <a:pt x="10" y="74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2" name="Freeform 213"/>
            <p:cNvSpPr/>
            <p:nvPr/>
          </p:nvSpPr>
          <p:spPr>
            <a:xfrm>
              <a:off x="6936120" y="2350080"/>
              <a:ext cx="689400" cy="311400"/>
            </a:xfrm>
            <a:custGeom>
              <a:avLst/>
              <a:gdLst>
                <a:gd name="textAreaLeft" fmla="*/ 0 w 689400"/>
                <a:gd name="textAreaRight" fmla="*/ 689760 w 689400"/>
                <a:gd name="textAreaTop" fmla="*/ 0 h 311400"/>
                <a:gd name="textAreaBottom" fmla="*/ 311400 h 311400"/>
              </a:gdLst>
              <a:ahLst/>
              <a:rect l="textAreaLeft" t="textAreaTop" r="textAreaRight" b="textAreaBottom"/>
              <a:pathLst>
                <a:path w="1568" h="689">
                  <a:moveTo>
                    <a:pt x="548" y="648"/>
                  </a:moveTo>
                  <a:lnTo>
                    <a:pt x="508" y="655"/>
                  </a:lnTo>
                  <a:lnTo>
                    <a:pt x="471" y="663"/>
                  </a:lnTo>
                  <a:lnTo>
                    <a:pt x="435" y="670"/>
                  </a:lnTo>
                  <a:lnTo>
                    <a:pt x="402" y="677"/>
                  </a:lnTo>
                  <a:lnTo>
                    <a:pt x="371" y="683"/>
                  </a:lnTo>
                  <a:lnTo>
                    <a:pt x="340" y="688"/>
                  </a:lnTo>
                  <a:lnTo>
                    <a:pt x="326" y="689"/>
                  </a:lnTo>
                  <a:lnTo>
                    <a:pt x="312" y="689"/>
                  </a:lnTo>
                  <a:lnTo>
                    <a:pt x="299" y="689"/>
                  </a:lnTo>
                  <a:lnTo>
                    <a:pt x="286" y="689"/>
                  </a:lnTo>
                  <a:lnTo>
                    <a:pt x="279" y="680"/>
                  </a:lnTo>
                  <a:lnTo>
                    <a:pt x="274" y="670"/>
                  </a:lnTo>
                  <a:lnTo>
                    <a:pt x="268" y="661"/>
                  </a:lnTo>
                  <a:lnTo>
                    <a:pt x="264" y="652"/>
                  </a:lnTo>
                  <a:lnTo>
                    <a:pt x="257" y="634"/>
                  </a:lnTo>
                  <a:lnTo>
                    <a:pt x="254" y="616"/>
                  </a:lnTo>
                  <a:lnTo>
                    <a:pt x="253" y="600"/>
                  </a:lnTo>
                  <a:lnTo>
                    <a:pt x="253" y="585"/>
                  </a:lnTo>
                  <a:lnTo>
                    <a:pt x="253" y="571"/>
                  </a:lnTo>
                  <a:lnTo>
                    <a:pt x="254" y="557"/>
                  </a:lnTo>
                  <a:lnTo>
                    <a:pt x="255" y="545"/>
                  </a:lnTo>
                  <a:lnTo>
                    <a:pt x="256" y="534"/>
                  </a:lnTo>
                  <a:lnTo>
                    <a:pt x="256" y="524"/>
                  </a:lnTo>
                  <a:lnTo>
                    <a:pt x="254" y="516"/>
                  </a:lnTo>
                  <a:lnTo>
                    <a:pt x="253" y="513"/>
                  </a:lnTo>
                  <a:lnTo>
                    <a:pt x="250" y="510"/>
                  </a:lnTo>
                  <a:lnTo>
                    <a:pt x="248" y="508"/>
                  </a:lnTo>
                  <a:lnTo>
                    <a:pt x="244" y="505"/>
                  </a:lnTo>
                  <a:lnTo>
                    <a:pt x="240" y="503"/>
                  </a:lnTo>
                  <a:lnTo>
                    <a:pt x="235" y="502"/>
                  </a:lnTo>
                  <a:lnTo>
                    <a:pt x="229" y="502"/>
                  </a:lnTo>
                  <a:lnTo>
                    <a:pt x="222" y="501"/>
                  </a:lnTo>
                  <a:lnTo>
                    <a:pt x="209" y="501"/>
                  </a:lnTo>
                  <a:lnTo>
                    <a:pt x="198" y="498"/>
                  </a:lnTo>
                  <a:lnTo>
                    <a:pt x="187" y="496"/>
                  </a:lnTo>
                  <a:lnTo>
                    <a:pt x="179" y="491"/>
                  </a:lnTo>
                  <a:lnTo>
                    <a:pt x="172" y="487"/>
                  </a:lnTo>
                  <a:lnTo>
                    <a:pt x="166" y="481"/>
                  </a:lnTo>
                  <a:lnTo>
                    <a:pt x="161" y="475"/>
                  </a:lnTo>
                  <a:lnTo>
                    <a:pt x="157" y="468"/>
                  </a:lnTo>
                  <a:lnTo>
                    <a:pt x="147" y="454"/>
                  </a:lnTo>
                  <a:lnTo>
                    <a:pt x="137" y="440"/>
                  </a:lnTo>
                  <a:lnTo>
                    <a:pt x="131" y="434"/>
                  </a:lnTo>
                  <a:lnTo>
                    <a:pt x="125" y="428"/>
                  </a:lnTo>
                  <a:lnTo>
                    <a:pt x="117" y="423"/>
                  </a:lnTo>
                  <a:lnTo>
                    <a:pt x="108" y="418"/>
                  </a:lnTo>
                  <a:lnTo>
                    <a:pt x="90" y="391"/>
                  </a:lnTo>
                  <a:lnTo>
                    <a:pt x="77" y="369"/>
                  </a:lnTo>
                  <a:lnTo>
                    <a:pt x="68" y="349"/>
                  </a:lnTo>
                  <a:lnTo>
                    <a:pt x="60" y="331"/>
                  </a:lnTo>
                  <a:lnTo>
                    <a:pt x="55" y="317"/>
                  </a:lnTo>
                  <a:lnTo>
                    <a:pt x="52" y="303"/>
                  </a:lnTo>
                  <a:lnTo>
                    <a:pt x="50" y="291"/>
                  </a:lnTo>
                  <a:lnTo>
                    <a:pt x="48" y="279"/>
                  </a:lnTo>
                  <a:lnTo>
                    <a:pt x="47" y="266"/>
                  </a:lnTo>
                  <a:lnTo>
                    <a:pt x="46" y="253"/>
                  </a:lnTo>
                  <a:lnTo>
                    <a:pt x="43" y="239"/>
                  </a:lnTo>
                  <a:lnTo>
                    <a:pt x="40" y="223"/>
                  </a:lnTo>
                  <a:lnTo>
                    <a:pt x="34" y="204"/>
                  </a:lnTo>
                  <a:lnTo>
                    <a:pt x="26" y="182"/>
                  </a:lnTo>
                  <a:lnTo>
                    <a:pt x="15" y="156"/>
                  </a:lnTo>
                  <a:lnTo>
                    <a:pt x="0" y="127"/>
                  </a:lnTo>
                  <a:lnTo>
                    <a:pt x="18" y="114"/>
                  </a:lnTo>
                  <a:lnTo>
                    <a:pt x="33" y="100"/>
                  </a:lnTo>
                  <a:lnTo>
                    <a:pt x="49" y="87"/>
                  </a:lnTo>
                  <a:lnTo>
                    <a:pt x="65" y="72"/>
                  </a:lnTo>
                  <a:lnTo>
                    <a:pt x="73" y="139"/>
                  </a:lnTo>
                  <a:lnTo>
                    <a:pt x="83" y="138"/>
                  </a:lnTo>
                  <a:lnTo>
                    <a:pt x="111" y="134"/>
                  </a:lnTo>
                  <a:lnTo>
                    <a:pt x="154" y="129"/>
                  </a:lnTo>
                  <a:lnTo>
                    <a:pt x="212" y="122"/>
                  </a:lnTo>
                  <a:lnTo>
                    <a:pt x="281" y="114"/>
                  </a:lnTo>
                  <a:lnTo>
                    <a:pt x="357" y="105"/>
                  </a:lnTo>
                  <a:lnTo>
                    <a:pt x="439" y="96"/>
                  </a:lnTo>
                  <a:lnTo>
                    <a:pt x="526" y="85"/>
                  </a:lnTo>
                  <a:lnTo>
                    <a:pt x="612" y="74"/>
                  </a:lnTo>
                  <a:lnTo>
                    <a:pt x="699" y="64"/>
                  </a:lnTo>
                  <a:lnTo>
                    <a:pt x="779" y="53"/>
                  </a:lnTo>
                  <a:lnTo>
                    <a:pt x="855" y="44"/>
                  </a:lnTo>
                  <a:lnTo>
                    <a:pt x="922" y="35"/>
                  </a:lnTo>
                  <a:lnTo>
                    <a:pt x="977" y="27"/>
                  </a:lnTo>
                  <a:lnTo>
                    <a:pt x="1018" y="20"/>
                  </a:lnTo>
                  <a:lnTo>
                    <a:pt x="1043" y="15"/>
                  </a:lnTo>
                  <a:lnTo>
                    <a:pt x="1071" y="8"/>
                  </a:lnTo>
                  <a:lnTo>
                    <a:pt x="1094" y="4"/>
                  </a:lnTo>
                  <a:lnTo>
                    <a:pt x="1111" y="3"/>
                  </a:lnTo>
                  <a:lnTo>
                    <a:pt x="1126" y="4"/>
                  </a:lnTo>
                  <a:lnTo>
                    <a:pt x="1139" y="6"/>
                  </a:lnTo>
                  <a:lnTo>
                    <a:pt x="1152" y="6"/>
                  </a:lnTo>
                  <a:lnTo>
                    <a:pt x="1166" y="4"/>
                  </a:lnTo>
                  <a:lnTo>
                    <a:pt x="1181" y="0"/>
                  </a:lnTo>
                  <a:lnTo>
                    <a:pt x="1366" y="84"/>
                  </a:lnTo>
                  <a:lnTo>
                    <a:pt x="1358" y="92"/>
                  </a:lnTo>
                  <a:lnTo>
                    <a:pt x="1352" y="99"/>
                  </a:lnTo>
                  <a:lnTo>
                    <a:pt x="1347" y="106"/>
                  </a:lnTo>
                  <a:lnTo>
                    <a:pt x="1345" y="113"/>
                  </a:lnTo>
                  <a:lnTo>
                    <a:pt x="1344" y="120"/>
                  </a:lnTo>
                  <a:lnTo>
                    <a:pt x="1345" y="127"/>
                  </a:lnTo>
                  <a:lnTo>
                    <a:pt x="1347" y="133"/>
                  </a:lnTo>
                  <a:lnTo>
                    <a:pt x="1351" y="140"/>
                  </a:lnTo>
                  <a:lnTo>
                    <a:pt x="1355" y="146"/>
                  </a:lnTo>
                  <a:lnTo>
                    <a:pt x="1361" y="152"/>
                  </a:lnTo>
                  <a:lnTo>
                    <a:pt x="1369" y="157"/>
                  </a:lnTo>
                  <a:lnTo>
                    <a:pt x="1377" y="163"/>
                  </a:lnTo>
                  <a:lnTo>
                    <a:pt x="1396" y="175"/>
                  </a:lnTo>
                  <a:lnTo>
                    <a:pt x="1417" y="187"/>
                  </a:lnTo>
                  <a:lnTo>
                    <a:pt x="1439" y="199"/>
                  </a:lnTo>
                  <a:lnTo>
                    <a:pt x="1463" y="213"/>
                  </a:lnTo>
                  <a:lnTo>
                    <a:pt x="1486" y="227"/>
                  </a:lnTo>
                  <a:lnTo>
                    <a:pt x="1508" y="243"/>
                  </a:lnTo>
                  <a:lnTo>
                    <a:pt x="1519" y="251"/>
                  </a:lnTo>
                  <a:lnTo>
                    <a:pt x="1528" y="260"/>
                  </a:lnTo>
                  <a:lnTo>
                    <a:pt x="1538" y="270"/>
                  </a:lnTo>
                  <a:lnTo>
                    <a:pt x="1546" y="279"/>
                  </a:lnTo>
                  <a:lnTo>
                    <a:pt x="1553" y="289"/>
                  </a:lnTo>
                  <a:lnTo>
                    <a:pt x="1559" y="300"/>
                  </a:lnTo>
                  <a:lnTo>
                    <a:pt x="1564" y="310"/>
                  </a:lnTo>
                  <a:lnTo>
                    <a:pt x="1568" y="323"/>
                  </a:lnTo>
                  <a:lnTo>
                    <a:pt x="1567" y="362"/>
                  </a:lnTo>
                  <a:lnTo>
                    <a:pt x="1563" y="393"/>
                  </a:lnTo>
                  <a:lnTo>
                    <a:pt x="1560" y="416"/>
                  </a:lnTo>
                  <a:lnTo>
                    <a:pt x="1559" y="424"/>
                  </a:lnTo>
                  <a:lnTo>
                    <a:pt x="1548" y="426"/>
                  </a:lnTo>
                  <a:lnTo>
                    <a:pt x="1539" y="428"/>
                  </a:lnTo>
                  <a:lnTo>
                    <a:pt x="1529" y="432"/>
                  </a:lnTo>
                  <a:lnTo>
                    <a:pt x="1521" y="435"/>
                  </a:lnTo>
                  <a:lnTo>
                    <a:pt x="1514" y="439"/>
                  </a:lnTo>
                  <a:lnTo>
                    <a:pt x="1508" y="444"/>
                  </a:lnTo>
                  <a:lnTo>
                    <a:pt x="1502" y="449"/>
                  </a:lnTo>
                  <a:lnTo>
                    <a:pt x="1499" y="455"/>
                  </a:lnTo>
                  <a:lnTo>
                    <a:pt x="1494" y="461"/>
                  </a:lnTo>
                  <a:lnTo>
                    <a:pt x="1492" y="467"/>
                  </a:lnTo>
                  <a:lnTo>
                    <a:pt x="1490" y="474"/>
                  </a:lnTo>
                  <a:lnTo>
                    <a:pt x="1488" y="481"/>
                  </a:lnTo>
                  <a:lnTo>
                    <a:pt x="1487" y="488"/>
                  </a:lnTo>
                  <a:lnTo>
                    <a:pt x="1487" y="495"/>
                  </a:lnTo>
                  <a:lnTo>
                    <a:pt x="1488" y="502"/>
                  </a:lnTo>
                  <a:lnTo>
                    <a:pt x="1490" y="510"/>
                  </a:lnTo>
                  <a:lnTo>
                    <a:pt x="548" y="64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3" name="Freeform 214"/>
            <p:cNvSpPr/>
            <p:nvPr/>
          </p:nvSpPr>
          <p:spPr>
            <a:xfrm>
              <a:off x="7524360" y="1764720"/>
              <a:ext cx="446400" cy="371880"/>
            </a:xfrm>
            <a:custGeom>
              <a:avLst/>
              <a:gdLst>
                <a:gd name="textAreaLeft" fmla="*/ 0 w 446400"/>
                <a:gd name="textAreaRight" fmla="*/ 446760 w 446400"/>
                <a:gd name="textAreaTop" fmla="*/ 0 h 371880"/>
                <a:gd name="textAreaBottom" fmla="*/ 372240 h 371880"/>
              </a:gdLst>
              <a:ahLst/>
              <a:rect l="textAreaLeft" t="textAreaTop" r="textAreaRight" b="textAreaBottom"/>
              <a:pathLst>
                <a:path w="1016" h="821">
                  <a:moveTo>
                    <a:pt x="593" y="821"/>
                  </a:moveTo>
                  <a:lnTo>
                    <a:pt x="107" y="470"/>
                  </a:lnTo>
                  <a:lnTo>
                    <a:pt x="112" y="458"/>
                  </a:lnTo>
                  <a:lnTo>
                    <a:pt x="114" y="449"/>
                  </a:lnTo>
                  <a:lnTo>
                    <a:pt x="115" y="438"/>
                  </a:lnTo>
                  <a:lnTo>
                    <a:pt x="114" y="430"/>
                  </a:lnTo>
                  <a:lnTo>
                    <a:pt x="112" y="421"/>
                  </a:lnTo>
                  <a:lnTo>
                    <a:pt x="108" y="413"/>
                  </a:lnTo>
                  <a:lnTo>
                    <a:pt x="104" y="404"/>
                  </a:lnTo>
                  <a:lnTo>
                    <a:pt x="98" y="395"/>
                  </a:lnTo>
                  <a:lnTo>
                    <a:pt x="85" y="377"/>
                  </a:lnTo>
                  <a:lnTo>
                    <a:pt x="72" y="358"/>
                  </a:lnTo>
                  <a:lnTo>
                    <a:pt x="66" y="347"/>
                  </a:lnTo>
                  <a:lnTo>
                    <a:pt x="60" y="335"/>
                  </a:lnTo>
                  <a:lnTo>
                    <a:pt x="56" y="323"/>
                  </a:lnTo>
                  <a:lnTo>
                    <a:pt x="52" y="309"/>
                  </a:lnTo>
                  <a:lnTo>
                    <a:pt x="50" y="295"/>
                  </a:lnTo>
                  <a:lnTo>
                    <a:pt x="49" y="283"/>
                  </a:lnTo>
                  <a:lnTo>
                    <a:pt x="49" y="272"/>
                  </a:lnTo>
                  <a:lnTo>
                    <a:pt x="50" y="264"/>
                  </a:lnTo>
                  <a:lnTo>
                    <a:pt x="51" y="256"/>
                  </a:lnTo>
                  <a:lnTo>
                    <a:pt x="53" y="249"/>
                  </a:lnTo>
                  <a:lnTo>
                    <a:pt x="56" y="243"/>
                  </a:lnTo>
                  <a:lnTo>
                    <a:pt x="58" y="237"/>
                  </a:lnTo>
                  <a:lnTo>
                    <a:pt x="64" y="227"/>
                  </a:lnTo>
                  <a:lnTo>
                    <a:pt x="70" y="214"/>
                  </a:lnTo>
                  <a:lnTo>
                    <a:pt x="72" y="206"/>
                  </a:lnTo>
                  <a:lnTo>
                    <a:pt x="73" y="198"/>
                  </a:lnTo>
                  <a:lnTo>
                    <a:pt x="74" y="187"/>
                  </a:lnTo>
                  <a:lnTo>
                    <a:pt x="76" y="175"/>
                  </a:lnTo>
                  <a:lnTo>
                    <a:pt x="74" y="171"/>
                  </a:lnTo>
                  <a:lnTo>
                    <a:pt x="72" y="165"/>
                  </a:lnTo>
                  <a:lnTo>
                    <a:pt x="70" y="158"/>
                  </a:lnTo>
                  <a:lnTo>
                    <a:pt x="65" y="152"/>
                  </a:lnTo>
                  <a:lnTo>
                    <a:pt x="56" y="137"/>
                  </a:lnTo>
                  <a:lnTo>
                    <a:pt x="43" y="120"/>
                  </a:lnTo>
                  <a:lnTo>
                    <a:pt x="30" y="102"/>
                  </a:lnTo>
                  <a:lnTo>
                    <a:pt x="18" y="81"/>
                  </a:lnTo>
                  <a:lnTo>
                    <a:pt x="12" y="69"/>
                  </a:lnTo>
                  <a:lnTo>
                    <a:pt x="8" y="56"/>
                  </a:lnTo>
                  <a:lnTo>
                    <a:pt x="3" y="43"/>
                  </a:lnTo>
                  <a:lnTo>
                    <a:pt x="0" y="28"/>
                  </a:lnTo>
                  <a:lnTo>
                    <a:pt x="42" y="34"/>
                  </a:lnTo>
                  <a:lnTo>
                    <a:pt x="78" y="38"/>
                  </a:lnTo>
                  <a:lnTo>
                    <a:pt x="111" y="40"/>
                  </a:lnTo>
                  <a:lnTo>
                    <a:pt x="141" y="42"/>
                  </a:lnTo>
                  <a:lnTo>
                    <a:pt x="168" y="42"/>
                  </a:lnTo>
                  <a:lnTo>
                    <a:pt x="192" y="41"/>
                  </a:lnTo>
                  <a:lnTo>
                    <a:pt x="215" y="40"/>
                  </a:lnTo>
                  <a:lnTo>
                    <a:pt x="234" y="38"/>
                  </a:lnTo>
                  <a:lnTo>
                    <a:pt x="253" y="34"/>
                  </a:lnTo>
                  <a:lnTo>
                    <a:pt x="271" y="31"/>
                  </a:lnTo>
                  <a:lnTo>
                    <a:pt x="288" y="26"/>
                  </a:lnTo>
                  <a:lnTo>
                    <a:pt x="304" y="21"/>
                  </a:lnTo>
                  <a:lnTo>
                    <a:pt x="340" y="11"/>
                  </a:lnTo>
                  <a:lnTo>
                    <a:pt x="377" y="0"/>
                  </a:lnTo>
                  <a:lnTo>
                    <a:pt x="386" y="8"/>
                  </a:lnTo>
                  <a:lnTo>
                    <a:pt x="410" y="33"/>
                  </a:lnTo>
                  <a:lnTo>
                    <a:pt x="446" y="67"/>
                  </a:lnTo>
                  <a:lnTo>
                    <a:pt x="488" y="109"/>
                  </a:lnTo>
                  <a:lnTo>
                    <a:pt x="535" y="152"/>
                  </a:lnTo>
                  <a:lnTo>
                    <a:pt x="580" y="195"/>
                  </a:lnTo>
                  <a:lnTo>
                    <a:pt x="622" y="234"/>
                  </a:lnTo>
                  <a:lnTo>
                    <a:pt x="657" y="262"/>
                  </a:lnTo>
                  <a:lnTo>
                    <a:pt x="677" y="272"/>
                  </a:lnTo>
                  <a:lnTo>
                    <a:pt x="697" y="281"/>
                  </a:lnTo>
                  <a:lnTo>
                    <a:pt x="717" y="288"/>
                  </a:lnTo>
                  <a:lnTo>
                    <a:pt x="737" y="293"/>
                  </a:lnTo>
                  <a:lnTo>
                    <a:pt x="757" y="297"/>
                  </a:lnTo>
                  <a:lnTo>
                    <a:pt x="776" y="300"/>
                  </a:lnTo>
                  <a:lnTo>
                    <a:pt x="796" y="303"/>
                  </a:lnTo>
                  <a:lnTo>
                    <a:pt x="816" y="304"/>
                  </a:lnTo>
                  <a:lnTo>
                    <a:pt x="855" y="306"/>
                  </a:lnTo>
                  <a:lnTo>
                    <a:pt x="893" y="310"/>
                  </a:lnTo>
                  <a:lnTo>
                    <a:pt x="912" y="312"/>
                  </a:lnTo>
                  <a:lnTo>
                    <a:pt x="929" y="314"/>
                  </a:lnTo>
                  <a:lnTo>
                    <a:pt x="948" y="318"/>
                  </a:lnTo>
                  <a:lnTo>
                    <a:pt x="964" y="323"/>
                  </a:lnTo>
                  <a:lnTo>
                    <a:pt x="981" y="328"/>
                  </a:lnTo>
                  <a:lnTo>
                    <a:pt x="994" y="334"/>
                  </a:lnTo>
                  <a:lnTo>
                    <a:pt x="1004" y="340"/>
                  </a:lnTo>
                  <a:lnTo>
                    <a:pt x="1011" y="347"/>
                  </a:lnTo>
                  <a:lnTo>
                    <a:pt x="1014" y="349"/>
                  </a:lnTo>
                  <a:lnTo>
                    <a:pt x="1016" y="353"/>
                  </a:lnTo>
                  <a:lnTo>
                    <a:pt x="1016" y="355"/>
                  </a:lnTo>
                  <a:lnTo>
                    <a:pt x="1016" y="359"/>
                  </a:lnTo>
                  <a:lnTo>
                    <a:pt x="1016" y="362"/>
                  </a:lnTo>
                  <a:lnTo>
                    <a:pt x="1014" y="366"/>
                  </a:lnTo>
                  <a:lnTo>
                    <a:pt x="1011" y="368"/>
                  </a:lnTo>
                  <a:lnTo>
                    <a:pt x="1008" y="372"/>
                  </a:lnTo>
                  <a:lnTo>
                    <a:pt x="997" y="379"/>
                  </a:lnTo>
                  <a:lnTo>
                    <a:pt x="983" y="386"/>
                  </a:lnTo>
                  <a:lnTo>
                    <a:pt x="964" y="393"/>
                  </a:lnTo>
                  <a:lnTo>
                    <a:pt x="942" y="400"/>
                  </a:lnTo>
                  <a:lnTo>
                    <a:pt x="917" y="408"/>
                  </a:lnTo>
                  <a:lnTo>
                    <a:pt x="885" y="415"/>
                  </a:lnTo>
                  <a:lnTo>
                    <a:pt x="850" y="423"/>
                  </a:lnTo>
                  <a:lnTo>
                    <a:pt x="809" y="432"/>
                  </a:lnTo>
                  <a:lnTo>
                    <a:pt x="783" y="438"/>
                  </a:lnTo>
                  <a:lnTo>
                    <a:pt x="760" y="446"/>
                  </a:lnTo>
                  <a:lnTo>
                    <a:pt x="751" y="451"/>
                  </a:lnTo>
                  <a:lnTo>
                    <a:pt x="741" y="456"/>
                  </a:lnTo>
                  <a:lnTo>
                    <a:pt x="733" y="460"/>
                  </a:lnTo>
                  <a:lnTo>
                    <a:pt x="726" y="465"/>
                  </a:lnTo>
                  <a:lnTo>
                    <a:pt x="720" y="471"/>
                  </a:lnTo>
                  <a:lnTo>
                    <a:pt x="714" y="476"/>
                  </a:lnTo>
                  <a:lnTo>
                    <a:pt x="709" y="481"/>
                  </a:lnTo>
                  <a:lnTo>
                    <a:pt x="705" y="487"/>
                  </a:lnTo>
                  <a:lnTo>
                    <a:pt x="698" y="499"/>
                  </a:lnTo>
                  <a:lnTo>
                    <a:pt x="695" y="511"/>
                  </a:lnTo>
                  <a:lnTo>
                    <a:pt x="692" y="522"/>
                  </a:lnTo>
                  <a:lnTo>
                    <a:pt x="692" y="534"/>
                  </a:lnTo>
                  <a:lnTo>
                    <a:pt x="693" y="546"/>
                  </a:lnTo>
                  <a:lnTo>
                    <a:pt x="697" y="556"/>
                  </a:lnTo>
                  <a:lnTo>
                    <a:pt x="700" y="567"/>
                  </a:lnTo>
                  <a:lnTo>
                    <a:pt x="706" y="577"/>
                  </a:lnTo>
                  <a:lnTo>
                    <a:pt x="711" y="585"/>
                  </a:lnTo>
                  <a:lnTo>
                    <a:pt x="717" y="594"/>
                  </a:lnTo>
                  <a:lnTo>
                    <a:pt x="721" y="601"/>
                  </a:lnTo>
                  <a:lnTo>
                    <a:pt x="725" y="606"/>
                  </a:lnTo>
                  <a:lnTo>
                    <a:pt x="726" y="613"/>
                  </a:lnTo>
                  <a:lnTo>
                    <a:pt x="726" y="620"/>
                  </a:lnTo>
                  <a:lnTo>
                    <a:pt x="725" y="627"/>
                  </a:lnTo>
                  <a:lnTo>
                    <a:pt x="723" y="634"/>
                  </a:lnTo>
                  <a:lnTo>
                    <a:pt x="718" y="641"/>
                  </a:lnTo>
                  <a:lnTo>
                    <a:pt x="713" y="648"/>
                  </a:lnTo>
                  <a:lnTo>
                    <a:pt x="702" y="662"/>
                  </a:lnTo>
                  <a:lnTo>
                    <a:pt x="688" y="678"/>
                  </a:lnTo>
                  <a:lnTo>
                    <a:pt x="671" y="692"/>
                  </a:lnTo>
                  <a:lnTo>
                    <a:pt x="654" y="706"/>
                  </a:lnTo>
                  <a:lnTo>
                    <a:pt x="637" y="721"/>
                  </a:lnTo>
                  <a:lnTo>
                    <a:pt x="621" y="735"/>
                  </a:lnTo>
                  <a:lnTo>
                    <a:pt x="607" y="749"/>
                  </a:lnTo>
                  <a:lnTo>
                    <a:pt x="595" y="764"/>
                  </a:lnTo>
                  <a:lnTo>
                    <a:pt x="591" y="771"/>
                  </a:lnTo>
                  <a:lnTo>
                    <a:pt x="587" y="778"/>
                  </a:lnTo>
                  <a:lnTo>
                    <a:pt x="585" y="785"/>
                  </a:lnTo>
                  <a:lnTo>
                    <a:pt x="584" y="792"/>
                  </a:lnTo>
                  <a:lnTo>
                    <a:pt x="584" y="799"/>
                  </a:lnTo>
                  <a:lnTo>
                    <a:pt x="586" y="806"/>
                  </a:lnTo>
                  <a:lnTo>
                    <a:pt x="588" y="814"/>
                  </a:lnTo>
                  <a:lnTo>
                    <a:pt x="593" y="82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4" name="Freeform 215"/>
            <p:cNvSpPr/>
            <p:nvPr/>
          </p:nvSpPr>
          <p:spPr>
            <a:xfrm>
              <a:off x="7166520" y="3233520"/>
              <a:ext cx="698400" cy="478440"/>
            </a:xfrm>
            <a:custGeom>
              <a:avLst/>
              <a:gdLst>
                <a:gd name="textAreaLeft" fmla="*/ 0 w 698400"/>
                <a:gd name="textAreaRight" fmla="*/ 698760 w 698400"/>
                <a:gd name="textAreaTop" fmla="*/ 0 h 478440"/>
                <a:gd name="textAreaBottom" fmla="*/ 478800 h 478440"/>
              </a:gdLst>
              <a:ahLst/>
              <a:rect l="textAreaLeft" t="textAreaTop" r="textAreaRight" b="textAreaBottom"/>
              <a:pathLst>
                <a:path w="1588" h="1055">
                  <a:moveTo>
                    <a:pt x="1576" y="239"/>
                  </a:moveTo>
                  <a:lnTo>
                    <a:pt x="1580" y="281"/>
                  </a:lnTo>
                  <a:lnTo>
                    <a:pt x="1585" y="322"/>
                  </a:lnTo>
                  <a:lnTo>
                    <a:pt x="1587" y="361"/>
                  </a:lnTo>
                  <a:lnTo>
                    <a:pt x="1588" y="397"/>
                  </a:lnTo>
                  <a:lnTo>
                    <a:pt x="1588" y="432"/>
                  </a:lnTo>
                  <a:lnTo>
                    <a:pt x="1588" y="465"/>
                  </a:lnTo>
                  <a:lnTo>
                    <a:pt x="1586" y="496"/>
                  </a:lnTo>
                  <a:lnTo>
                    <a:pt x="1583" y="527"/>
                  </a:lnTo>
                  <a:lnTo>
                    <a:pt x="1579" y="555"/>
                  </a:lnTo>
                  <a:lnTo>
                    <a:pt x="1574" y="580"/>
                  </a:lnTo>
                  <a:lnTo>
                    <a:pt x="1570" y="606"/>
                  </a:lnTo>
                  <a:lnTo>
                    <a:pt x="1563" y="629"/>
                  </a:lnTo>
                  <a:lnTo>
                    <a:pt x="1557" y="652"/>
                  </a:lnTo>
                  <a:lnTo>
                    <a:pt x="1549" y="672"/>
                  </a:lnTo>
                  <a:lnTo>
                    <a:pt x="1542" y="691"/>
                  </a:lnTo>
                  <a:lnTo>
                    <a:pt x="1533" y="709"/>
                  </a:lnTo>
                  <a:lnTo>
                    <a:pt x="1524" y="726"/>
                  </a:lnTo>
                  <a:lnTo>
                    <a:pt x="1515" y="743"/>
                  </a:lnTo>
                  <a:lnTo>
                    <a:pt x="1505" y="757"/>
                  </a:lnTo>
                  <a:lnTo>
                    <a:pt x="1496" y="771"/>
                  </a:lnTo>
                  <a:lnTo>
                    <a:pt x="1477" y="795"/>
                  </a:lnTo>
                  <a:lnTo>
                    <a:pt x="1458" y="816"/>
                  </a:lnTo>
                  <a:lnTo>
                    <a:pt x="1439" y="834"/>
                  </a:lnTo>
                  <a:lnTo>
                    <a:pt x="1421" y="849"/>
                  </a:lnTo>
                  <a:lnTo>
                    <a:pt x="1405" y="862"/>
                  </a:lnTo>
                  <a:lnTo>
                    <a:pt x="1391" y="872"/>
                  </a:lnTo>
                  <a:lnTo>
                    <a:pt x="1373" y="885"/>
                  </a:lnTo>
                  <a:lnTo>
                    <a:pt x="1357" y="898"/>
                  </a:lnTo>
                  <a:lnTo>
                    <a:pt x="1342" y="910"/>
                  </a:lnTo>
                  <a:lnTo>
                    <a:pt x="1330" y="923"/>
                  </a:lnTo>
                  <a:lnTo>
                    <a:pt x="1319" y="934"/>
                  </a:lnTo>
                  <a:lnTo>
                    <a:pt x="1309" y="946"/>
                  </a:lnTo>
                  <a:lnTo>
                    <a:pt x="1300" y="959"/>
                  </a:lnTo>
                  <a:lnTo>
                    <a:pt x="1293" y="971"/>
                  </a:lnTo>
                  <a:lnTo>
                    <a:pt x="1287" y="981"/>
                  </a:lnTo>
                  <a:lnTo>
                    <a:pt x="1282" y="993"/>
                  </a:lnTo>
                  <a:lnTo>
                    <a:pt x="1279" y="1004"/>
                  </a:lnTo>
                  <a:lnTo>
                    <a:pt x="1277" y="1015"/>
                  </a:lnTo>
                  <a:lnTo>
                    <a:pt x="1274" y="1025"/>
                  </a:lnTo>
                  <a:lnTo>
                    <a:pt x="1273" y="1035"/>
                  </a:lnTo>
                  <a:lnTo>
                    <a:pt x="1273" y="1045"/>
                  </a:lnTo>
                  <a:lnTo>
                    <a:pt x="1273" y="1055"/>
                  </a:lnTo>
                  <a:lnTo>
                    <a:pt x="1260" y="1035"/>
                  </a:lnTo>
                  <a:lnTo>
                    <a:pt x="1246" y="1016"/>
                  </a:lnTo>
                  <a:lnTo>
                    <a:pt x="1230" y="1000"/>
                  </a:lnTo>
                  <a:lnTo>
                    <a:pt x="1212" y="985"/>
                  </a:lnTo>
                  <a:lnTo>
                    <a:pt x="1194" y="971"/>
                  </a:lnTo>
                  <a:lnTo>
                    <a:pt x="1173" y="958"/>
                  </a:lnTo>
                  <a:lnTo>
                    <a:pt x="1152" y="945"/>
                  </a:lnTo>
                  <a:lnTo>
                    <a:pt x="1130" y="934"/>
                  </a:lnTo>
                  <a:lnTo>
                    <a:pt x="1107" y="925"/>
                  </a:lnTo>
                  <a:lnTo>
                    <a:pt x="1084" y="916"/>
                  </a:lnTo>
                  <a:lnTo>
                    <a:pt x="1060" y="907"/>
                  </a:lnTo>
                  <a:lnTo>
                    <a:pt x="1037" y="899"/>
                  </a:lnTo>
                  <a:lnTo>
                    <a:pt x="989" y="885"/>
                  </a:lnTo>
                  <a:lnTo>
                    <a:pt x="941" y="872"/>
                  </a:lnTo>
                  <a:lnTo>
                    <a:pt x="920" y="867"/>
                  </a:lnTo>
                  <a:lnTo>
                    <a:pt x="903" y="858"/>
                  </a:lnTo>
                  <a:lnTo>
                    <a:pt x="886" y="850"/>
                  </a:lnTo>
                  <a:lnTo>
                    <a:pt x="875" y="841"/>
                  </a:lnTo>
                  <a:lnTo>
                    <a:pt x="863" y="830"/>
                  </a:lnTo>
                  <a:lnTo>
                    <a:pt x="855" y="820"/>
                  </a:lnTo>
                  <a:lnTo>
                    <a:pt x="848" y="807"/>
                  </a:lnTo>
                  <a:lnTo>
                    <a:pt x="841" y="794"/>
                  </a:lnTo>
                  <a:lnTo>
                    <a:pt x="830" y="767"/>
                  </a:lnTo>
                  <a:lnTo>
                    <a:pt x="820" y="737"/>
                  </a:lnTo>
                  <a:lnTo>
                    <a:pt x="814" y="722"/>
                  </a:lnTo>
                  <a:lnTo>
                    <a:pt x="806" y="705"/>
                  </a:lnTo>
                  <a:lnTo>
                    <a:pt x="798" y="688"/>
                  </a:lnTo>
                  <a:lnTo>
                    <a:pt x="786" y="672"/>
                  </a:lnTo>
                  <a:lnTo>
                    <a:pt x="753" y="659"/>
                  </a:lnTo>
                  <a:lnTo>
                    <a:pt x="722" y="646"/>
                  </a:lnTo>
                  <a:lnTo>
                    <a:pt x="692" y="632"/>
                  </a:lnTo>
                  <a:lnTo>
                    <a:pt x="666" y="617"/>
                  </a:lnTo>
                  <a:lnTo>
                    <a:pt x="640" y="601"/>
                  </a:lnTo>
                  <a:lnTo>
                    <a:pt x="618" y="586"/>
                  </a:lnTo>
                  <a:lnTo>
                    <a:pt x="597" y="571"/>
                  </a:lnTo>
                  <a:lnTo>
                    <a:pt x="579" y="556"/>
                  </a:lnTo>
                  <a:lnTo>
                    <a:pt x="549" y="529"/>
                  </a:lnTo>
                  <a:lnTo>
                    <a:pt x="527" y="507"/>
                  </a:lnTo>
                  <a:lnTo>
                    <a:pt x="514" y="493"/>
                  </a:lnTo>
                  <a:lnTo>
                    <a:pt x="510" y="487"/>
                  </a:lnTo>
                  <a:lnTo>
                    <a:pt x="354" y="441"/>
                  </a:lnTo>
                  <a:lnTo>
                    <a:pt x="0" y="112"/>
                  </a:lnTo>
                  <a:lnTo>
                    <a:pt x="15" y="47"/>
                  </a:lnTo>
                  <a:lnTo>
                    <a:pt x="548" y="0"/>
                  </a:lnTo>
                  <a:lnTo>
                    <a:pt x="579" y="55"/>
                  </a:lnTo>
                  <a:lnTo>
                    <a:pt x="927" y="23"/>
                  </a:lnTo>
                  <a:lnTo>
                    <a:pt x="1576" y="23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5" name="Freeform 216"/>
            <p:cNvSpPr/>
            <p:nvPr/>
          </p:nvSpPr>
          <p:spPr>
            <a:xfrm>
              <a:off x="6928920" y="2940480"/>
              <a:ext cx="1171440" cy="401400"/>
            </a:xfrm>
            <a:custGeom>
              <a:avLst/>
              <a:gdLst>
                <a:gd name="textAreaLeft" fmla="*/ 0 w 1171440"/>
                <a:gd name="textAreaRight" fmla="*/ 1171800 w 1171440"/>
                <a:gd name="textAreaTop" fmla="*/ 0 h 401400"/>
                <a:gd name="textAreaBottom" fmla="*/ 401760 h 401400"/>
              </a:gdLst>
              <a:ahLst/>
              <a:rect l="textAreaLeft" t="textAreaTop" r="textAreaRight" b="textAreaBottom"/>
              <a:pathLst>
                <a:path w="2666" h="882">
                  <a:moveTo>
                    <a:pt x="541" y="755"/>
                  </a:moveTo>
                  <a:lnTo>
                    <a:pt x="556" y="690"/>
                  </a:lnTo>
                  <a:lnTo>
                    <a:pt x="1089" y="643"/>
                  </a:lnTo>
                  <a:lnTo>
                    <a:pt x="1120" y="698"/>
                  </a:lnTo>
                  <a:lnTo>
                    <a:pt x="1468" y="666"/>
                  </a:lnTo>
                  <a:lnTo>
                    <a:pt x="2117" y="882"/>
                  </a:lnTo>
                  <a:lnTo>
                    <a:pt x="2317" y="851"/>
                  </a:lnTo>
                  <a:lnTo>
                    <a:pt x="2316" y="843"/>
                  </a:lnTo>
                  <a:lnTo>
                    <a:pt x="2312" y="822"/>
                  </a:lnTo>
                  <a:lnTo>
                    <a:pt x="2307" y="790"/>
                  </a:lnTo>
                  <a:lnTo>
                    <a:pt x="2302" y="753"/>
                  </a:lnTo>
                  <a:lnTo>
                    <a:pt x="2301" y="733"/>
                  </a:lnTo>
                  <a:lnTo>
                    <a:pt x="2301" y="713"/>
                  </a:lnTo>
                  <a:lnTo>
                    <a:pt x="2302" y="694"/>
                  </a:lnTo>
                  <a:lnTo>
                    <a:pt x="2305" y="676"/>
                  </a:lnTo>
                  <a:lnTo>
                    <a:pt x="2308" y="658"/>
                  </a:lnTo>
                  <a:lnTo>
                    <a:pt x="2314" y="643"/>
                  </a:lnTo>
                  <a:lnTo>
                    <a:pt x="2319" y="637"/>
                  </a:lnTo>
                  <a:lnTo>
                    <a:pt x="2322" y="630"/>
                  </a:lnTo>
                  <a:lnTo>
                    <a:pt x="2327" y="625"/>
                  </a:lnTo>
                  <a:lnTo>
                    <a:pt x="2333" y="621"/>
                  </a:lnTo>
                  <a:lnTo>
                    <a:pt x="2344" y="610"/>
                  </a:lnTo>
                  <a:lnTo>
                    <a:pt x="2357" y="599"/>
                  </a:lnTo>
                  <a:lnTo>
                    <a:pt x="2371" y="586"/>
                  </a:lnTo>
                  <a:lnTo>
                    <a:pt x="2386" y="572"/>
                  </a:lnTo>
                  <a:lnTo>
                    <a:pt x="2418" y="540"/>
                  </a:lnTo>
                  <a:lnTo>
                    <a:pt x="2453" y="507"/>
                  </a:lnTo>
                  <a:lnTo>
                    <a:pt x="2473" y="492"/>
                  </a:lnTo>
                  <a:lnTo>
                    <a:pt x="2494" y="477"/>
                  </a:lnTo>
                  <a:lnTo>
                    <a:pt x="2515" y="463"/>
                  </a:lnTo>
                  <a:lnTo>
                    <a:pt x="2538" y="450"/>
                  </a:lnTo>
                  <a:lnTo>
                    <a:pt x="2550" y="444"/>
                  </a:lnTo>
                  <a:lnTo>
                    <a:pt x="2563" y="438"/>
                  </a:lnTo>
                  <a:lnTo>
                    <a:pt x="2576" y="434"/>
                  </a:lnTo>
                  <a:lnTo>
                    <a:pt x="2588" y="429"/>
                  </a:lnTo>
                  <a:lnTo>
                    <a:pt x="2601" y="426"/>
                  </a:lnTo>
                  <a:lnTo>
                    <a:pt x="2615" y="422"/>
                  </a:lnTo>
                  <a:lnTo>
                    <a:pt x="2629" y="420"/>
                  </a:lnTo>
                  <a:lnTo>
                    <a:pt x="2643" y="419"/>
                  </a:lnTo>
                  <a:lnTo>
                    <a:pt x="2645" y="403"/>
                  </a:lnTo>
                  <a:lnTo>
                    <a:pt x="2646" y="387"/>
                  </a:lnTo>
                  <a:lnTo>
                    <a:pt x="2648" y="370"/>
                  </a:lnTo>
                  <a:lnTo>
                    <a:pt x="2652" y="351"/>
                  </a:lnTo>
                  <a:lnTo>
                    <a:pt x="2659" y="314"/>
                  </a:lnTo>
                  <a:lnTo>
                    <a:pt x="2664" y="276"/>
                  </a:lnTo>
                  <a:lnTo>
                    <a:pt x="2666" y="257"/>
                  </a:lnTo>
                  <a:lnTo>
                    <a:pt x="2666" y="239"/>
                  </a:lnTo>
                  <a:lnTo>
                    <a:pt x="2664" y="222"/>
                  </a:lnTo>
                  <a:lnTo>
                    <a:pt x="2662" y="206"/>
                  </a:lnTo>
                  <a:lnTo>
                    <a:pt x="2660" y="198"/>
                  </a:lnTo>
                  <a:lnTo>
                    <a:pt x="2656" y="191"/>
                  </a:lnTo>
                  <a:lnTo>
                    <a:pt x="2653" y="184"/>
                  </a:lnTo>
                  <a:lnTo>
                    <a:pt x="2649" y="178"/>
                  </a:lnTo>
                  <a:lnTo>
                    <a:pt x="2645" y="172"/>
                  </a:lnTo>
                  <a:lnTo>
                    <a:pt x="2639" y="166"/>
                  </a:lnTo>
                  <a:lnTo>
                    <a:pt x="2633" y="160"/>
                  </a:lnTo>
                  <a:lnTo>
                    <a:pt x="2626" y="157"/>
                  </a:lnTo>
                  <a:lnTo>
                    <a:pt x="2597" y="141"/>
                  </a:lnTo>
                  <a:lnTo>
                    <a:pt x="2569" y="128"/>
                  </a:lnTo>
                  <a:lnTo>
                    <a:pt x="2539" y="116"/>
                  </a:lnTo>
                  <a:lnTo>
                    <a:pt x="2511" y="102"/>
                  </a:lnTo>
                  <a:lnTo>
                    <a:pt x="2496" y="95"/>
                  </a:lnTo>
                  <a:lnTo>
                    <a:pt x="2482" y="86"/>
                  </a:lnTo>
                  <a:lnTo>
                    <a:pt x="2468" y="76"/>
                  </a:lnTo>
                  <a:lnTo>
                    <a:pt x="2454" y="65"/>
                  </a:lnTo>
                  <a:lnTo>
                    <a:pt x="2439" y="52"/>
                  </a:lnTo>
                  <a:lnTo>
                    <a:pt x="2425" y="37"/>
                  </a:lnTo>
                  <a:lnTo>
                    <a:pt x="2411" y="20"/>
                  </a:lnTo>
                  <a:lnTo>
                    <a:pt x="2396" y="0"/>
                  </a:lnTo>
                  <a:lnTo>
                    <a:pt x="625" y="240"/>
                  </a:lnTo>
                  <a:lnTo>
                    <a:pt x="618" y="246"/>
                  </a:lnTo>
                  <a:lnTo>
                    <a:pt x="613" y="252"/>
                  </a:lnTo>
                  <a:lnTo>
                    <a:pt x="611" y="260"/>
                  </a:lnTo>
                  <a:lnTo>
                    <a:pt x="607" y="269"/>
                  </a:lnTo>
                  <a:lnTo>
                    <a:pt x="605" y="290"/>
                  </a:lnTo>
                  <a:lnTo>
                    <a:pt x="603" y="311"/>
                  </a:lnTo>
                  <a:lnTo>
                    <a:pt x="600" y="323"/>
                  </a:lnTo>
                  <a:lnTo>
                    <a:pt x="598" y="333"/>
                  </a:lnTo>
                  <a:lnTo>
                    <a:pt x="593" y="343"/>
                  </a:lnTo>
                  <a:lnTo>
                    <a:pt x="589" y="351"/>
                  </a:lnTo>
                  <a:lnTo>
                    <a:pt x="582" y="359"/>
                  </a:lnTo>
                  <a:lnTo>
                    <a:pt x="573" y="365"/>
                  </a:lnTo>
                  <a:lnTo>
                    <a:pt x="569" y="367"/>
                  </a:lnTo>
                  <a:lnTo>
                    <a:pt x="563" y="370"/>
                  </a:lnTo>
                  <a:lnTo>
                    <a:pt x="557" y="372"/>
                  </a:lnTo>
                  <a:lnTo>
                    <a:pt x="550" y="372"/>
                  </a:lnTo>
                  <a:lnTo>
                    <a:pt x="538" y="374"/>
                  </a:lnTo>
                  <a:lnTo>
                    <a:pt x="528" y="377"/>
                  </a:lnTo>
                  <a:lnTo>
                    <a:pt x="517" y="380"/>
                  </a:lnTo>
                  <a:lnTo>
                    <a:pt x="507" y="385"/>
                  </a:lnTo>
                  <a:lnTo>
                    <a:pt x="498" y="389"/>
                  </a:lnTo>
                  <a:lnTo>
                    <a:pt x="488" y="395"/>
                  </a:lnTo>
                  <a:lnTo>
                    <a:pt x="480" y="401"/>
                  </a:lnTo>
                  <a:lnTo>
                    <a:pt x="472" y="408"/>
                  </a:lnTo>
                  <a:lnTo>
                    <a:pt x="455" y="423"/>
                  </a:lnTo>
                  <a:lnTo>
                    <a:pt x="440" y="438"/>
                  </a:lnTo>
                  <a:lnTo>
                    <a:pt x="424" y="456"/>
                  </a:lnTo>
                  <a:lnTo>
                    <a:pt x="409" y="474"/>
                  </a:lnTo>
                  <a:lnTo>
                    <a:pt x="394" y="491"/>
                  </a:lnTo>
                  <a:lnTo>
                    <a:pt x="377" y="507"/>
                  </a:lnTo>
                  <a:lnTo>
                    <a:pt x="360" y="524"/>
                  </a:lnTo>
                  <a:lnTo>
                    <a:pt x="341" y="539"/>
                  </a:lnTo>
                  <a:lnTo>
                    <a:pt x="332" y="545"/>
                  </a:lnTo>
                  <a:lnTo>
                    <a:pt x="321" y="552"/>
                  </a:lnTo>
                  <a:lnTo>
                    <a:pt x="311" y="556"/>
                  </a:lnTo>
                  <a:lnTo>
                    <a:pt x="299" y="562"/>
                  </a:lnTo>
                  <a:lnTo>
                    <a:pt x="287" y="566"/>
                  </a:lnTo>
                  <a:lnTo>
                    <a:pt x="274" y="569"/>
                  </a:lnTo>
                  <a:lnTo>
                    <a:pt x="262" y="573"/>
                  </a:lnTo>
                  <a:lnTo>
                    <a:pt x="248" y="574"/>
                  </a:lnTo>
                  <a:lnTo>
                    <a:pt x="236" y="575"/>
                  </a:lnTo>
                  <a:lnTo>
                    <a:pt x="224" y="577"/>
                  </a:lnTo>
                  <a:lnTo>
                    <a:pt x="213" y="580"/>
                  </a:lnTo>
                  <a:lnTo>
                    <a:pt x="201" y="583"/>
                  </a:lnTo>
                  <a:lnTo>
                    <a:pt x="177" y="592"/>
                  </a:lnTo>
                  <a:lnTo>
                    <a:pt x="154" y="601"/>
                  </a:lnTo>
                  <a:lnTo>
                    <a:pt x="132" y="613"/>
                  </a:lnTo>
                  <a:lnTo>
                    <a:pt x="111" y="625"/>
                  </a:lnTo>
                  <a:lnTo>
                    <a:pt x="91" y="639"/>
                  </a:lnTo>
                  <a:lnTo>
                    <a:pt x="72" y="653"/>
                  </a:lnTo>
                  <a:lnTo>
                    <a:pt x="56" y="669"/>
                  </a:lnTo>
                  <a:lnTo>
                    <a:pt x="41" y="683"/>
                  </a:lnTo>
                  <a:lnTo>
                    <a:pt x="28" y="697"/>
                  </a:lnTo>
                  <a:lnTo>
                    <a:pt x="19" y="709"/>
                  </a:lnTo>
                  <a:lnTo>
                    <a:pt x="12" y="720"/>
                  </a:lnTo>
                  <a:lnTo>
                    <a:pt x="7" y="731"/>
                  </a:lnTo>
                  <a:lnTo>
                    <a:pt x="6" y="735"/>
                  </a:lnTo>
                  <a:lnTo>
                    <a:pt x="6" y="739"/>
                  </a:lnTo>
                  <a:lnTo>
                    <a:pt x="7" y="741"/>
                  </a:lnTo>
                  <a:lnTo>
                    <a:pt x="8" y="745"/>
                  </a:lnTo>
                  <a:lnTo>
                    <a:pt x="12" y="748"/>
                  </a:lnTo>
                  <a:lnTo>
                    <a:pt x="15" y="754"/>
                  </a:lnTo>
                  <a:lnTo>
                    <a:pt x="17" y="759"/>
                  </a:lnTo>
                  <a:lnTo>
                    <a:pt x="19" y="763"/>
                  </a:lnTo>
                  <a:lnTo>
                    <a:pt x="20" y="775"/>
                  </a:lnTo>
                  <a:lnTo>
                    <a:pt x="17" y="785"/>
                  </a:lnTo>
                  <a:lnTo>
                    <a:pt x="15" y="795"/>
                  </a:lnTo>
                  <a:lnTo>
                    <a:pt x="10" y="803"/>
                  </a:lnTo>
                  <a:lnTo>
                    <a:pt x="5" y="810"/>
                  </a:lnTo>
                  <a:lnTo>
                    <a:pt x="0" y="813"/>
                  </a:lnTo>
                  <a:lnTo>
                    <a:pt x="541" y="75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6" name="Freeform 217"/>
            <p:cNvSpPr/>
            <p:nvPr/>
          </p:nvSpPr>
          <p:spPr>
            <a:xfrm>
              <a:off x="6065280" y="3049920"/>
              <a:ext cx="1138680" cy="360720"/>
            </a:xfrm>
            <a:custGeom>
              <a:avLst/>
              <a:gdLst>
                <a:gd name="textAreaLeft" fmla="*/ 0 w 1138680"/>
                <a:gd name="textAreaRight" fmla="*/ 1139040 w 1138680"/>
                <a:gd name="textAreaTop" fmla="*/ 0 h 360720"/>
                <a:gd name="textAreaBottom" fmla="*/ 361080 h 360720"/>
              </a:gdLst>
              <a:ahLst/>
              <a:rect l="textAreaLeft" t="textAreaTop" r="textAreaRight" b="textAreaBottom"/>
              <a:pathLst>
                <a:path w="2590" h="792">
                  <a:moveTo>
                    <a:pt x="2590" y="0"/>
                  </a:moveTo>
                  <a:lnTo>
                    <a:pt x="613" y="265"/>
                  </a:lnTo>
                  <a:lnTo>
                    <a:pt x="596" y="311"/>
                  </a:lnTo>
                  <a:lnTo>
                    <a:pt x="78" y="366"/>
                  </a:lnTo>
                  <a:lnTo>
                    <a:pt x="76" y="377"/>
                  </a:lnTo>
                  <a:lnTo>
                    <a:pt x="75" y="388"/>
                  </a:lnTo>
                  <a:lnTo>
                    <a:pt x="74" y="398"/>
                  </a:lnTo>
                  <a:lnTo>
                    <a:pt x="74" y="408"/>
                  </a:lnTo>
                  <a:lnTo>
                    <a:pt x="74" y="426"/>
                  </a:lnTo>
                  <a:lnTo>
                    <a:pt x="74" y="443"/>
                  </a:lnTo>
                  <a:lnTo>
                    <a:pt x="73" y="452"/>
                  </a:lnTo>
                  <a:lnTo>
                    <a:pt x="70" y="460"/>
                  </a:lnTo>
                  <a:lnTo>
                    <a:pt x="68" y="469"/>
                  </a:lnTo>
                  <a:lnTo>
                    <a:pt x="63" y="478"/>
                  </a:lnTo>
                  <a:lnTo>
                    <a:pt x="59" y="487"/>
                  </a:lnTo>
                  <a:lnTo>
                    <a:pt x="52" y="498"/>
                  </a:lnTo>
                  <a:lnTo>
                    <a:pt x="42" y="508"/>
                  </a:lnTo>
                  <a:lnTo>
                    <a:pt x="32" y="519"/>
                  </a:lnTo>
                  <a:lnTo>
                    <a:pt x="35" y="535"/>
                  </a:lnTo>
                  <a:lnTo>
                    <a:pt x="36" y="551"/>
                  </a:lnTo>
                  <a:lnTo>
                    <a:pt x="37" y="568"/>
                  </a:lnTo>
                  <a:lnTo>
                    <a:pt x="39" y="585"/>
                  </a:lnTo>
                  <a:lnTo>
                    <a:pt x="37" y="603"/>
                  </a:lnTo>
                  <a:lnTo>
                    <a:pt x="37" y="619"/>
                  </a:lnTo>
                  <a:lnTo>
                    <a:pt x="35" y="637"/>
                  </a:lnTo>
                  <a:lnTo>
                    <a:pt x="33" y="654"/>
                  </a:lnTo>
                  <a:lnTo>
                    <a:pt x="27" y="689"/>
                  </a:lnTo>
                  <a:lnTo>
                    <a:pt x="20" y="724"/>
                  </a:lnTo>
                  <a:lnTo>
                    <a:pt x="11" y="758"/>
                  </a:lnTo>
                  <a:lnTo>
                    <a:pt x="0" y="792"/>
                  </a:lnTo>
                  <a:lnTo>
                    <a:pt x="709" y="717"/>
                  </a:lnTo>
                  <a:lnTo>
                    <a:pt x="712" y="717"/>
                  </a:lnTo>
                  <a:lnTo>
                    <a:pt x="1466" y="631"/>
                  </a:lnTo>
                  <a:lnTo>
                    <a:pt x="1967" y="576"/>
                  </a:lnTo>
                  <a:lnTo>
                    <a:pt x="1972" y="563"/>
                  </a:lnTo>
                  <a:lnTo>
                    <a:pt x="1981" y="545"/>
                  </a:lnTo>
                  <a:lnTo>
                    <a:pt x="1982" y="541"/>
                  </a:lnTo>
                  <a:lnTo>
                    <a:pt x="1984" y="536"/>
                  </a:lnTo>
                  <a:lnTo>
                    <a:pt x="1985" y="530"/>
                  </a:lnTo>
                  <a:lnTo>
                    <a:pt x="1985" y="526"/>
                  </a:lnTo>
                  <a:lnTo>
                    <a:pt x="1984" y="520"/>
                  </a:lnTo>
                  <a:lnTo>
                    <a:pt x="1981" y="515"/>
                  </a:lnTo>
                  <a:lnTo>
                    <a:pt x="1978" y="509"/>
                  </a:lnTo>
                  <a:lnTo>
                    <a:pt x="1973" y="505"/>
                  </a:lnTo>
                  <a:lnTo>
                    <a:pt x="1972" y="501"/>
                  </a:lnTo>
                  <a:lnTo>
                    <a:pt x="1971" y="499"/>
                  </a:lnTo>
                  <a:lnTo>
                    <a:pt x="1971" y="495"/>
                  </a:lnTo>
                  <a:lnTo>
                    <a:pt x="1972" y="491"/>
                  </a:lnTo>
                  <a:lnTo>
                    <a:pt x="1977" y="480"/>
                  </a:lnTo>
                  <a:lnTo>
                    <a:pt x="1984" y="469"/>
                  </a:lnTo>
                  <a:lnTo>
                    <a:pt x="1993" y="457"/>
                  </a:lnTo>
                  <a:lnTo>
                    <a:pt x="2006" y="443"/>
                  </a:lnTo>
                  <a:lnTo>
                    <a:pt x="2021" y="429"/>
                  </a:lnTo>
                  <a:lnTo>
                    <a:pt x="2037" y="413"/>
                  </a:lnTo>
                  <a:lnTo>
                    <a:pt x="2056" y="399"/>
                  </a:lnTo>
                  <a:lnTo>
                    <a:pt x="2076" y="385"/>
                  </a:lnTo>
                  <a:lnTo>
                    <a:pt x="2097" y="373"/>
                  </a:lnTo>
                  <a:lnTo>
                    <a:pt x="2119" y="361"/>
                  </a:lnTo>
                  <a:lnTo>
                    <a:pt x="2142" y="352"/>
                  </a:lnTo>
                  <a:lnTo>
                    <a:pt x="2166" y="343"/>
                  </a:lnTo>
                  <a:lnTo>
                    <a:pt x="2178" y="340"/>
                  </a:lnTo>
                  <a:lnTo>
                    <a:pt x="2189" y="337"/>
                  </a:lnTo>
                  <a:lnTo>
                    <a:pt x="2201" y="335"/>
                  </a:lnTo>
                  <a:lnTo>
                    <a:pt x="2213" y="334"/>
                  </a:lnTo>
                  <a:lnTo>
                    <a:pt x="2227" y="333"/>
                  </a:lnTo>
                  <a:lnTo>
                    <a:pt x="2239" y="329"/>
                  </a:lnTo>
                  <a:lnTo>
                    <a:pt x="2252" y="326"/>
                  </a:lnTo>
                  <a:lnTo>
                    <a:pt x="2264" y="322"/>
                  </a:lnTo>
                  <a:lnTo>
                    <a:pt x="2276" y="316"/>
                  </a:lnTo>
                  <a:lnTo>
                    <a:pt x="2286" y="312"/>
                  </a:lnTo>
                  <a:lnTo>
                    <a:pt x="2297" y="305"/>
                  </a:lnTo>
                  <a:lnTo>
                    <a:pt x="2306" y="299"/>
                  </a:lnTo>
                  <a:lnTo>
                    <a:pt x="2325" y="284"/>
                  </a:lnTo>
                  <a:lnTo>
                    <a:pt x="2342" y="267"/>
                  </a:lnTo>
                  <a:lnTo>
                    <a:pt x="2359" y="251"/>
                  </a:lnTo>
                  <a:lnTo>
                    <a:pt x="2374" y="234"/>
                  </a:lnTo>
                  <a:lnTo>
                    <a:pt x="2389" y="216"/>
                  </a:lnTo>
                  <a:lnTo>
                    <a:pt x="2405" y="198"/>
                  </a:lnTo>
                  <a:lnTo>
                    <a:pt x="2420" y="183"/>
                  </a:lnTo>
                  <a:lnTo>
                    <a:pt x="2437" y="168"/>
                  </a:lnTo>
                  <a:lnTo>
                    <a:pt x="2445" y="161"/>
                  </a:lnTo>
                  <a:lnTo>
                    <a:pt x="2453" y="155"/>
                  </a:lnTo>
                  <a:lnTo>
                    <a:pt x="2463" y="149"/>
                  </a:lnTo>
                  <a:lnTo>
                    <a:pt x="2472" y="145"/>
                  </a:lnTo>
                  <a:lnTo>
                    <a:pt x="2482" y="140"/>
                  </a:lnTo>
                  <a:lnTo>
                    <a:pt x="2493" y="137"/>
                  </a:lnTo>
                  <a:lnTo>
                    <a:pt x="2503" y="134"/>
                  </a:lnTo>
                  <a:lnTo>
                    <a:pt x="2515" y="132"/>
                  </a:lnTo>
                  <a:lnTo>
                    <a:pt x="2522" y="132"/>
                  </a:lnTo>
                  <a:lnTo>
                    <a:pt x="2528" y="130"/>
                  </a:lnTo>
                  <a:lnTo>
                    <a:pt x="2534" y="127"/>
                  </a:lnTo>
                  <a:lnTo>
                    <a:pt x="2538" y="125"/>
                  </a:lnTo>
                  <a:lnTo>
                    <a:pt x="2547" y="119"/>
                  </a:lnTo>
                  <a:lnTo>
                    <a:pt x="2554" y="111"/>
                  </a:lnTo>
                  <a:lnTo>
                    <a:pt x="2558" y="103"/>
                  </a:lnTo>
                  <a:lnTo>
                    <a:pt x="2563" y="93"/>
                  </a:lnTo>
                  <a:lnTo>
                    <a:pt x="2565" y="83"/>
                  </a:lnTo>
                  <a:lnTo>
                    <a:pt x="2568" y="71"/>
                  </a:lnTo>
                  <a:lnTo>
                    <a:pt x="2570" y="50"/>
                  </a:lnTo>
                  <a:lnTo>
                    <a:pt x="2572" y="29"/>
                  </a:lnTo>
                  <a:lnTo>
                    <a:pt x="2576" y="20"/>
                  </a:lnTo>
                  <a:lnTo>
                    <a:pt x="2578" y="12"/>
                  </a:lnTo>
                  <a:lnTo>
                    <a:pt x="2583" y="6"/>
                  </a:lnTo>
                  <a:lnTo>
                    <a:pt x="259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7" name="Freeform 218"/>
            <p:cNvSpPr/>
            <p:nvPr/>
          </p:nvSpPr>
          <p:spPr>
            <a:xfrm>
              <a:off x="6100560" y="2811600"/>
              <a:ext cx="938160" cy="406080"/>
            </a:xfrm>
            <a:custGeom>
              <a:avLst/>
              <a:gdLst>
                <a:gd name="textAreaLeft" fmla="*/ 0 w 938160"/>
                <a:gd name="textAreaRight" fmla="*/ 938520 w 938160"/>
                <a:gd name="textAreaTop" fmla="*/ 0 h 406080"/>
                <a:gd name="textAreaBottom" fmla="*/ 406440 h 406080"/>
              </a:gdLst>
              <a:ahLst/>
              <a:rect l="textAreaLeft" t="textAreaTop" r="textAreaRight" b="textAreaBottom"/>
              <a:pathLst>
                <a:path w="2135" h="893">
                  <a:moveTo>
                    <a:pt x="1872" y="611"/>
                  </a:moveTo>
                  <a:lnTo>
                    <a:pt x="535" y="792"/>
                  </a:lnTo>
                  <a:lnTo>
                    <a:pt x="518" y="838"/>
                  </a:lnTo>
                  <a:lnTo>
                    <a:pt x="0" y="893"/>
                  </a:lnTo>
                  <a:lnTo>
                    <a:pt x="7" y="870"/>
                  </a:lnTo>
                  <a:lnTo>
                    <a:pt x="16" y="849"/>
                  </a:lnTo>
                  <a:lnTo>
                    <a:pt x="25" y="829"/>
                  </a:lnTo>
                  <a:lnTo>
                    <a:pt x="37" y="812"/>
                  </a:lnTo>
                  <a:lnTo>
                    <a:pt x="49" y="794"/>
                  </a:lnTo>
                  <a:lnTo>
                    <a:pt x="63" y="778"/>
                  </a:lnTo>
                  <a:lnTo>
                    <a:pt x="79" y="764"/>
                  </a:lnTo>
                  <a:lnTo>
                    <a:pt x="95" y="751"/>
                  </a:lnTo>
                  <a:lnTo>
                    <a:pt x="110" y="737"/>
                  </a:lnTo>
                  <a:lnTo>
                    <a:pt x="125" y="725"/>
                  </a:lnTo>
                  <a:lnTo>
                    <a:pt x="139" y="716"/>
                  </a:lnTo>
                  <a:lnTo>
                    <a:pt x="153" y="708"/>
                  </a:lnTo>
                  <a:lnTo>
                    <a:pt x="180" y="695"/>
                  </a:lnTo>
                  <a:lnTo>
                    <a:pt x="206" y="682"/>
                  </a:lnTo>
                  <a:lnTo>
                    <a:pt x="219" y="675"/>
                  </a:lnTo>
                  <a:lnTo>
                    <a:pt x="232" y="666"/>
                  </a:lnTo>
                  <a:lnTo>
                    <a:pt x="246" y="655"/>
                  </a:lnTo>
                  <a:lnTo>
                    <a:pt x="259" y="643"/>
                  </a:lnTo>
                  <a:lnTo>
                    <a:pt x="273" y="627"/>
                  </a:lnTo>
                  <a:lnTo>
                    <a:pt x="287" y="609"/>
                  </a:lnTo>
                  <a:lnTo>
                    <a:pt x="302" y="585"/>
                  </a:lnTo>
                  <a:lnTo>
                    <a:pt x="317" y="558"/>
                  </a:lnTo>
                  <a:lnTo>
                    <a:pt x="326" y="539"/>
                  </a:lnTo>
                  <a:lnTo>
                    <a:pt x="331" y="527"/>
                  </a:lnTo>
                  <a:lnTo>
                    <a:pt x="336" y="520"/>
                  </a:lnTo>
                  <a:lnTo>
                    <a:pt x="344" y="509"/>
                  </a:lnTo>
                  <a:lnTo>
                    <a:pt x="359" y="495"/>
                  </a:lnTo>
                  <a:lnTo>
                    <a:pt x="380" y="476"/>
                  </a:lnTo>
                  <a:lnTo>
                    <a:pt x="391" y="466"/>
                  </a:lnTo>
                  <a:lnTo>
                    <a:pt x="402" y="458"/>
                  </a:lnTo>
                  <a:lnTo>
                    <a:pt x="415" y="451"/>
                  </a:lnTo>
                  <a:lnTo>
                    <a:pt x="430" y="444"/>
                  </a:lnTo>
                  <a:lnTo>
                    <a:pt x="444" y="438"/>
                  </a:lnTo>
                  <a:lnTo>
                    <a:pt x="461" y="432"/>
                  </a:lnTo>
                  <a:lnTo>
                    <a:pt x="478" y="428"/>
                  </a:lnTo>
                  <a:lnTo>
                    <a:pt x="496" y="423"/>
                  </a:lnTo>
                  <a:lnTo>
                    <a:pt x="575" y="407"/>
                  </a:lnTo>
                  <a:lnTo>
                    <a:pt x="663" y="391"/>
                  </a:lnTo>
                  <a:lnTo>
                    <a:pt x="708" y="382"/>
                  </a:lnTo>
                  <a:lnTo>
                    <a:pt x="755" y="370"/>
                  </a:lnTo>
                  <a:lnTo>
                    <a:pt x="778" y="363"/>
                  </a:lnTo>
                  <a:lnTo>
                    <a:pt x="802" y="356"/>
                  </a:lnTo>
                  <a:lnTo>
                    <a:pt x="825" y="348"/>
                  </a:lnTo>
                  <a:lnTo>
                    <a:pt x="848" y="340"/>
                  </a:lnTo>
                  <a:lnTo>
                    <a:pt x="872" y="330"/>
                  </a:lnTo>
                  <a:lnTo>
                    <a:pt x="894" y="319"/>
                  </a:lnTo>
                  <a:lnTo>
                    <a:pt x="916" y="306"/>
                  </a:lnTo>
                  <a:lnTo>
                    <a:pt x="938" y="293"/>
                  </a:lnTo>
                  <a:lnTo>
                    <a:pt x="961" y="279"/>
                  </a:lnTo>
                  <a:lnTo>
                    <a:pt x="982" y="263"/>
                  </a:lnTo>
                  <a:lnTo>
                    <a:pt x="1003" y="247"/>
                  </a:lnTo>
                  <a:lnTo>
                    <a:pt x="1022" y="228"/>
                  </a:lnTo>
                  <a:lnTo>
                    <a:pt x="1041" y="208"/>
                  </a:lnTo>
                  <a:lnTo>
                    <a:pt x="1054" y="191"/>
                  </a:lnTo>
                  <a:lnTo>
                    <a:pt x="1059" y="182"/>
                  </a:lnTo>
                  <a:lnTo>
                    <a:pt x="1062" y="175"/>
                  </a:lnTo>
                  <a:lnTo>
                    <a:pt x="1066" y="168"/>
                  </a:lnTo>
                  <a:lnTo>
                    <a:pt x="1068" y="161"/>
                  </a:lnTo>
                  <a:lnTo>
                    <a:pt x="1070" y="150"/>
                  </a:lnTo>
                  <a:lnTo>
                    <a:pt x="1070" y="139"/>
                  </a:lnTo>
                  <a:lnTo>
                    <a:pt x="1068" y="130"/>
                  </a:lnTo>
                  <a:lnTo>
                    <a:pt x="1067" y="120"/>
                  </a:lnTo>
                  <a:lnTo>
                    <a:pt x="1065" y="112"/>
                  </a:lnTo>
                  <a:lnTo>
                    <a:pt x="1062" y="104"/>
                  </a:lnTo>
                  <a:lnTo>
                    <a:pt x="1062" y="96"/>
                  </a:lnTo>
                  <a:lnTo>
                    <a:pt x="1063" y="87"/>
                  </a:lnTo>
                  <a:lnTo>
                    <a:pt x="1066" y="82"/>
                  </a:lnTo>
                  <a:lnTo>
                    <a:pt x="1068" y="77"/>
                  </a:lnTo>
                  <a:lnTo>
                    <a:pt x="1072" y="71"/>
                  </a:lnTo>
                  <a:lnTo>
                    <a:pt x="1076" y="66"/>
                  </a:lnTo>
                  <a:lnTo>
                    <a:pt x="1089" y="54"/>
                  </a:lnTo>
                  <a:lnTo>
                    <a:pt x="1105" y="40"/>
                  </a:lnTo>
                  <a:lnTo>
                    <a:pt x="1109" y="36"/>
                  </a:lnTo>
                  <a:lnTo>
                    <a:pt x="1112" y="34"/>
                  </a:lnTo>
                  <a:lnTo>
                    <a:pt x="1116" y="32"/>
                  </a:lnTo>
                  <a:lnTo>
                    <a:pt x="1121" y="30"/>
                  </a:lnTo>
                  <a:lnTo>
                    <a:pt x="1131" y="28"/>
                  </a:lnTo>
                  <a:lnTo>
                    <a:pt x="1142" y="28"/>
                  </a:lnTo>
                  <a:lnTo>
                    <a:pt x="1153" y="27"/>
                  </a:lnTo>
                  <a:lnTo>
                    <a:pt x="1164" y="25"/>
                  </a:lnTo>
                  <a:lnTo>
                    <a:pt x="1170" y="22"/>
                  </a:lnTo>
                  <a:lnTo>
                    <a:pt x="1174" y="20"/>
                  </a:lnTo>
                  <a:lnTo>
                    <a:pt x="1179" y="16"/>
                  </a:lnTo>
                  <a:lnTo>
                    <a:pt x="1184" y="12"/>
                  </a:lnTo>
                  <a:lnTo>
                    <a:pt x="1186" y="8"/>
                  </a:lnTo>
                  <a:lnTo>
                    <a:pt x="1190" y="6"/>
                  </a:lnTo>
                  <a:lnTo>
                    <a:pt x="1193" y="5"/>
                  </a:lnTo>
                  <a:lnTo>
                    <a:pt x="1197" y="2"/>
                  </a:lnTo>
                  <a:lnTo>
                    <a:pt x="1206" y="1"/>
                  </a:lnTo>
                  <a:lnTo>
                    <a:pt x="1216" y="0"/>
                  </a:lnTo>
                  <a:lnTo>
                    <a:pt x="1229" y="0"/>
                  </a:lnTo>
                  <a:lnTo>
                    <a:pt x="1242" y="1"/>
                  </a:lnTo>
                  <a:lnTo>
                    <a:pt x="1255" y="4"/>
                  </a:lnTo>
                  <a:lnTo>
                    <a:pt x="1269" y="6"/>
                  </a:lnTo>
                  <a:lnTo>
                    <a:pt x="1296" y="11"/>
                  </a:lnTo>
                  <a:lnTo>
                    <a:pt x="1320" y="15"/>
                  </a:lnTo>
                  <a:lnTo>
                    <a:pt x="1331" y="18"/>
                  </a:lnTo>
                  <a:lnTo>
                    <a:pt x="1340" y="18"/>
                  </a:lnTo>
                  <a:lnTo>
                    <a:pt x="1348" y="19"/>
                  </a:lnTo>
                  <a:lnTo>
                    <a:pt x="1353" y="18"/>
                  </a:lnTo>
                  <a:lnTo>
                    <a:pt x="1358" y="16"/>
                  </a:lnTo>
                  <a:lnTo>
                    <a:pt x="1364" y="18"/>
                  </a:lnTo>
                  <a:lnTo>
                    <a:pt x="1369" y="20"/>
                  </a:lnTo>
                  <a:lnTo>
                    <a:pt x="1376" y="23"/>
                  </a:lnTo>
                  <a:lnTo>
                    <a:pt x="1390" y="30"/>
                  </a:lnTo>
                  <a:lnTo>
                    <a:pt x="1404" y="40"/>
                  </a:lnTo>
                  <a:lnTo>
                    <a:pt x="1420" y="48"/>
                  </a:lnTo>
                  <a:lnTo>
                    <a:pt x="1435" y="53"/>
                  </a:lnTo>
                  <a:lnTo>
                    <a:pt x="1442" y="54"/>
                  </a:lnTo>
                  <a:lnTo>
                    <a:pt x="1449" y="54"/>
                  </a:lnTo>
                  <a:lnTo>
                    <a:pt x="1455" y="53"/>
                  </a:lnTo>
                  <a:lnTo>
                    <a:pt x="1461" y="49"/>
                  </a:lnTo>
                  <a:lnTo>
                    <a:pt x="1466" y="44"/>
                  </a:lnTo>
                  <a:lnTo>
                    <a:pt x="1473" y="41"/>
                  </a:lnTo>
                  <a:lnTo>
                    <a:pt x="1482" y="37"/>
                  </a:lnTo>
                  <a:lnTo>
                    <a:pt x="1490" y="34"/>
                  </a:lnTo>
                  <a:lnTo>
                    <a:pt x="1508" y="29"/>
                  </a:lnTo>
                  <a:lnTo>
                    <a:pt x="1529" y="25"/>
                  </a:lnTo>
                  <a:lnTo>
                    <a:pt x="1552" y="21"/>
                  </a:lnTo>
                  <a:lnTo>
                    <a:pt x="1576" y="19"/>
                  </a:lnTo>
                  <a:lnTo>
                    <a:pt x="1603" y="18"/>
                  </a:lnTo>
                  <a:lnTo>
                    <a:pt x="1630" y="18"/>
                  </a:lnTo>
                  <a:lnTo>
                    <a:pt x="1653" y="18"/>
                  </a:lnTo>
                  <a:lnTo>
                    <a:pt x="1673" y="19"/>
                  </a:lnTo>
                  <a:lnTo>
                    <a:pt x="1689" y="23"/>
                  </a:lnTo>
                  <a:lnTo>
                    <a:pt x="1704" y="29"/>
                  </a:lnTo>
                  <a:lnTo>
                    <a:pt x="1716" y="36"/>
                  </a:lnTo>
                  <a:lnTo>
                    <a:pt x="1729" y="44"/>
                  </a:lnTo>
                  <a:lnTo>
                    <a:pt x="1741" y="53"/>
                  </a:lnTo>
                  <a:lnTo>
                    <a:pt x="1753" y="63"/>
                  </a:lnTo>
                  <a:lnTo>
                    <a:pt x="1764" y="74"/>
                  </a:lnTo>
                  <a:lnTo>
                    <a:pt x="1778" y="84"/>
                  </a:lnTo>
                  <a:lnTo>
                    <a:pt x="1795" y="95"/>
                  </a:lnTo>
                  <a:lnTo>
                    <a:pt x="1813" y="105"/>
                  </a:lnTo>
                  <a:lnTo>
                    <a:pt x="1834" y="116"/>
                  </a:lnTo>
                  <a:lnTo>
                    <a:pt x="1860" y="125"/>
                  </a:lnTo>
                  <a:lnTo>
                    <a:pt x="1889" y="133"/>
                  </a:lnTo>
                  <a:lnTo>
                    <a:pt x="1924" y="141"/>
                  </a:lnTo>
                  <a:lnTo>
                    <a:pt x="1920" y="146"/>
                  </a:lnTo>
                  <a:lnTo>
                    <a:pt x="1917" y="152"/>
                  </a:lnTo>
                  <a:lnTo>
                    <a:pt x="1916" y="158"/>
                  </a:lnTo>
                  <a:lnTo>
                    <a:pt x="1915" y="165"/>
                  </a:lnTo>
                  <a:lnTo>
                    <a:pt x="1916" y="173"/>
                  </a:lnTo>
                  <a:lnTo>
                    <a:pt x="1918" y="181"/>
                  </a:lnTo>
                  <a:lnTo>
                    <a:pt x="1921" y="189"/>
                  </a:lnTo>
                  <a:lnTo>
                    <a:pt x="1925" y="196"/>
                  </a:lnTo>
                  <a:lnTo>
                    <a:pt x="1930" y="205"/>
                  </a:lnTo>
                  <a:lnTo>
                    <a:pt x="1937" y="213"/>
                  </a:lnTo>
                  <a:lnTo>
                    <a:pt x="1944" y="220"/>
                  </a:lnTo>
                  <a:lnTo>
                    <a:pt x="1953" y="226"/>
                  </a:lnTo>
                  <a:lnTo>
                    <a:pt x="1964" y="231"/>
                  </a:lnTo>
                  <a:lnTo>
                    <a:pt x="1975" y="236"/>
                  </a:lnTo>
                  <a:lnTo>
                    <a:pt x="1987" y="240"/>
                  </a:lnTo>
                  <a:lnTo>
                    <a:pt x="2001" y="242"/>
                  </a:lnTo>
                  <a:lnTo>
                    <a:pt x="2015" y="242"/>
                  </a:lnTo>
                  <a:lnTo>
                    <a:pt x="2029" y="244"/>
                  </a:lnTo>
                  <a:lnTo>
                    <a:pt x="2043" y="249"/>
                  </a:lnTo>
                  <a:lnTo>
                    <a:pt x="2060" y="256"/>
                  </a:lnTo>
                  <a:lnTo>
                    <a:pt x="2094" y="272"/>
                  </a:lnTo>
                  <a:lnTo>
                    <a:pt x="2135" y="291"/>
                  </a:lnTo>
                  <a:lnTo>
                    <a:pt x="2124" y="297"/>
                  </a:lnTo>
                  <a:lnTo>
                    <a:pt x="2114" y="301"/>
                  </a:lnTo>
                  <a:lnTo>
                    <a:pt x="2103" y="305"/>
                  </a:lnTo>
                  <a:lnTo>
                    <a:pt x="2094" y="306"/>
                  </a:lnTo>
                  <a:lnTo>
                    <a:pt x="2076" y="308"/>
                  </a:lnTo>
                  <a:lnTo>
                    <a:pt x="2061" y="310"/>
                  </a:lnTo>
                  <a:lnTo>
                    <a:pt x="2055" y="311"/>
                  </a:lnTo>
                  <a:lnTo>
                    <a:pt x="2050" y="313"/>
                  </a:lnTo>
                  <a:lnTo>
                    <a:pt x="2047" y="317"/>
                  </a:lnTo>
                  <a:lnTo>
                    <a:pt x="2045" y="320"/>
                  </a:lnTo>
                  <a:lnTo>
                    <a:pt x="2045" y="326"/>
                  </a:lnTo>
                  <a:lnTo>
                    <a:pt x="2047" y="334"/>
                  </a:lnTo>
                  <a:lnTo>
                    <a:pt x="2050" y="345"/>
                  </a:lnTo>
                  <a:lnTo>
                    <a:pt x="2056" y="358"/>
                  </a:lnTo>
                  <a:lnTo>
                    <a:pt x="2060" y="365"/>
                  </a:lnTo>
                  <a:lnTo>
                    <a:pt x="2061" y="373"/>
                  </a:lnTo>
                  <a:lnTo>
                    <a:pt x="2062" y="381"/>
                  </a:lnTo>
                  <a:lnTo>
                    <a:pt x="2063" y="389"/>
                  </a:lnTo>
                  <a:lnTo>
                    <a:pt x="2062" y="398"/>
                  </a:lnTo>
                  <a:lnTo>
                    <a:pt x="2061" y="408"/>
                  </a:lnTo>
                  <a:lnTo>
                    <a:pt x="2059" y="417"/>
                  </a:lnTo>
                  <a:lnTo>
                    <a:pt x="2056" y="426"/>
                  </a:lnTo>
                  <a:lnTo>
                    <a:pt x="2049" y="445"/>
                  </a:lnTo>
                  <a:lnTo>
                    <a:pt x="2039" y="465"/>
                  </a:lnTo>
                  <a:lnTo>
                    <a:pt x="2027" y="485"/>
                  </a:lnTo>
                  <a:lnTo>
                    <a:pt x="2013" y="505"/>
                  </a:lnTo>
                  <a:lnTo>
                    <a:pt x="1998" y="523"/>
                  </a:lnTo>
                  <a:lnTo>
                    <a:pt x="1980" y="541"/>
                  </a:lnTo>
                  <a:lnTo>
                    <a:pt x="1963" y="557"/>
                  </a:lnTo>
                  <a:lnTo>
                    <a:pt x="1945" y="572"/>
                  </a:lnTo>
                  <a:lnTo>
                    <a:pt x="1927" y="585"/>
                  </a:lnTo>
                  <a:lnTo>
                    <a:pt x="1908" y="596"/>
                  </a:lnTo>
                  <a:lnTo>
                    <a:pt x="1889" y="605"/>
                  </a:lnTo>
                  <a:lnTo>
                    <a:pt x="1872" y="61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8" name="Freeform 219"/>
            <p:cNvSpPr/>
            <p:nvPr/>
          </p:nvSpPr>
          <p:spPr>
            <a:xfrm>
              <a:off x="6922440" y="2654280"/>
              <a:ext cx="1059480" cy="433800"/>
            </a:xfrm>
            <a:custGeom>
              <a:avLst/>
              <a:gdLst>
                <a:gd name="textAreaLeft" fmla="*/ 0 w 1059480"/>
                <a:gd name="textAreaRight" fmla="*/ 1059840 w 1059480"/>
                <a:gd name="textAreaTop" fmla="*/ 0 h 433800"/>
                <a:gd name="textAreaBottom" fmla="*/ 434160 h 433800"/>
              </a:gdLst>
              <a:ahLst/>
              <a:rect l="textAreaLeft" t="textAreaTop" r="textAreaRight" b="textAreaBottom"/>
              <a:pathLst>
                <a:path w="2411" h="954">
                  <a:moveTo>
                    <a:pt x="1823" y="245"/>
                  </a:moveTo>
                  <a:lnTo>
                    <a:pt x="1840" y="252"/>
                  </a:lnTo>
                  <a:lnTo>
                    <a:pt x="1855" y="260"/>
                  </a:lnTo>
                  <a:lnTo>
                    <a:pt x="1870" y="268"/>
                  </a:lnTo>
                  <a:lnTo>
                    <a:pt x="1883" y="277"/>
                  </a:lnTo>
                  <a:lnTo>
                    <a:pt x="1896" y="286"/>
                  </a:lnTo>
                  <a:lnTo>
                    <a:pt x="1907" y="296"/>
                  </a:lnTo>
                  <a:lnTo>
                    <a:pt x="1919" y="307"/>
                  </a:lnTo>
                  <a:lnTo>
                    <a:pt x="1929" y="319"/>
                  </a:lnTo>
                  <a:lnTo>
                    <a:pt x="1952" y="344"/>
                  </a:lnTo>
                  <a:lnTo>
                    <a:pt x="1974" y="375"/>
                  </a:lnTo>
                  <a:lnTo>
                    <a:pt x="1997" y="409"/>
                  </a:lnTo>
                  <a:lnTo>
                    <a:pt x="2025" y="447"/>
                  </a:lnTo>
                  <a:lnTo>
                    <a:pt x="2049" y="447"/>
                  </a:lnTo>
                  <a:lnTo>
                    <a:pt x="2073" y="451"/>
                  </a:lnTo>
                  <a:lnTo>
                    <a:pt x="2099" y="454"/>
                  </a:lnTo>
                  <a:lnTo>
                    <a:pt x="2126" y="460"/>
                  </a:lnTo>
                  <a:lnTo>
                    <a:pt x="2153" y="468"/>
                  </a:lnTo>
                  <a:lnTo>
                    <a:pt x="2179" y="476"/>
                  </a:lnTo>
                  <a:lnTo>
                    <a:pt x="2207" y="487"/>
                  </a:lnTo>
                  <a:lnTo>
                    <a:pt x="2234" y="498"/>
                  </a:lnTo>
                  <a:lnTo>
                    <a:pt x="2260" y="511"/>
                  </a:lnTo>
                  <a:lnTo>
                    <a:pt x="2287" y="525"/>
                  </a:lnTo>
                  <a:lnTo>
                    <a:pt x="2311" y="541"/>
                  </a:lnTo>
                  <a:lnTo>
                    <a:pt x="2335" y="557"/>
                  </a:lnTo>
                  <a:lnTo>
                    <a:pt x="2357" y="574"/>
                  </a:lnTo>
                  <a:lnTo>
                    <a:pt x="2377" y="592"/>
                  </a:lnTo>
                  <a:lnTo>
                    <a:pt x="2394" y="612"/>
                  </a:lnTo>
                  <a:lnTo>
                    <a:pt x="2411" y="630"/>
                  </a:lnTo>
                  <a:lnTo>
                    <a:pt x="640" y="870"/>
                  </a:lnTo>
                  <a:lnTo>
                    <a:pt x="0" y="954"/>
                  </a:lnTo>
                  <a:lnTo>
                    <a:pt x="17" y="948"/>
                  </a:lnTo>
                  <a:lnTo>
                    <a:pt x="36" y="939"/>
                  </a:lnTo>
                  <a:lnTo>
                    <a:pt x="55" y="928"/>
                  </a:lnTo>
                  <a:lnTo>
                    <a:pt x="73" y="915"/>
                  </a:lnTo>
                  <a:lnTo>
                    <a:pt x="91" y="900"/>
                  </a:lnTo>
                  <a:lnTo>
                    <a:pt x="108" y="884"/>
                  </a:lnTo>
                  <a:lnTo>
                    <a:pt x="126" y="866"/>
                  </a:lnTo>
                  <a:lnTo>
                    <a:pt x="141" y="848"/>
                  </a:lnTo>
                  <a:lnTo>
                    <a:pt x="155" y="828"/>
                  </a:lnTo>
                  <a:lnTo>
                    <a:pt x="167" y="808"/>
                  </a:lnTo>
                  <a:lnTo>
                    <a:pt x="177" y="788"/>
                  </a:lnTo>
                  <a:lnTo>
                    <a:pt x="184" y="769"/>
                  </a:lnTo>
                  <a:lnTo>
                    <a:pt x="187" y="760"/>
                  </a:lnTo>
                  <a:lnTo>
                    <a:pt x="189" y="751"/>
                  </a:lnTo>
                  <a:lnTo>
                    <a:pt x="190" y="741"/>
                  </a:lnTo>
                  <a:lnTo>
                    <a:pt x="191" y="732"/>
                  </a:lnTo>
                  <a:lnTo>
                    <a:pt x="190" y="724"/>
                  </a:lnTo>
                  <a:lnTo>
                    <a:pt x="189" y="716"/>
                  </a:lnTo>
                  <a:lnTo>
                    <a:pt x="188" y="708"/>
                  </a:lnTo>
                  <a:lnTo>
                    <a:pt x="184" y="701"/>
                  </a:lnTo>
                  <a:lnTo>
                    <a:pt x="178" y="688"/>
                  </a:lnTo>
                  <a:lnTo>
                    <a:pt x="175" y="677"/>
                  </a:lnTo>
                  <a:lnTo>
                    <a:pt x="173" y="669"/>
                  </a:lnTo>
                  <a:lnTo>
                    <a:pt x="173" y="663"/>
                  </a:lnTo>
                  <a:lnTo>
                    <a:pt x="175" y="660"/>
                  </a:lnTo>
                  <a:lnTo>
                    <a:pt x="178" y="656"/>
                  </a:lnTo>
                  <a:lnTo>
                    <a:pt x="183" y="654"/>
                  </a:lnTo>
                  <a:lnTo>
                    <a:pt x="189" y="653"/>
                  </a:lnTo>
                  <a:lnTo>
                    <a:pt x="204" y="651"/>
                  </a:lnTo>
                  <a:lnTo>
                    <a:pt x="222" y="649"/>
                  </a:lnTo>
                  <a:lnTo>
                    <a:pt x="231" y="648"/>
                  </a:lnTo>
                  <a:lnTo>
                    <a:pt x="242" y="644"/>
                  </a:lnTo>
                  <a:lnTo>
                    <a:pt x="252" y="640"/>
                  </a:lnTo>
                  <a:lnTo>
                    <a:pt x="263" y="634"/>
                  </a:lnTo>
                  <a:lnTo>
                    <a:pt x="278" y="640"/>
                  </a:lnTo>
                  <a:lnTo>
                    <a:pt x="294" y="647"/>
                  </a:lnTo>
                  <a:lnTo>
                    <a:pt x="313" y="651"/>
                  </a:lnTo>
                  <a:lnTo>
                    <a:pt x="331" y="657"/>
                  </a:lnTo>
                  <a:lnTo>
                    <a:pt x="351" y="662"/>
                  </a:lnTo>
                  <a:lnTo>
                    <a:pt x="374" y="666"/>
                  </a:lnTo>
                  <a:lnTo>
                    <a:pt x="396" y="668"/>
                  </a:lnTo>
                  <a:lnTo>
                    <a:pt x="420" y="669"/>
                  </a:lnTo>
                  <a:lnTo>
                    <a:pt x="446" y="670"/>
                  </a:lnTo>
                  <a:lnTo>
                    <a:pt x="473" y="669"/>
                  </a:lnTo>
                  <a:lnTo>
                    <a:pt x="502" y="666"/>
                  </a:lnTo>
                  <a:lnTo>
                    <a:pt x="532" y="662"/>
                  </a:lnTo>
                  <a:lnTo>
                    <a:pt x="564" y="656"/>
                  </a:lnTo>
                  <a:lnTo>
                    <a:pt x="598" y="648"/>
                  </a:lnTo>
                  <a:lnTo>
                    <a:pt x="634" y="637"/>
                  </a:lnTo>
                  <a:lnTo>
                    <a:pt x="671" y="625"/>
                  </a:lnTo>
                  <a:lnTo>
                    <a:pt x="683" y="620"/>
                  </a:lnTo>
                  <a:lnTo>
                    <a:pt x="694" y="614"/>
                  </a:lnTo>
                  <a:lnTo>
                    <a:pt x="703" y="607"/>
                  </a:lnTo>
                  <a:lnTo>
                    <a:pt x="712" y="599"/>
                  </a:lnTo>
                  <a:lnTo>
                    <a:pt x="719" y="590"/>
                  </a:lnTo>
                  <a:lnTo>
                    <a:pt x="726" y="579"/>
                  </a:lnTo>
                  <a:lnTo>
                    <a:pt x="733" y="569"/>
                  </a:lnTo>
                  <a:lnTo>
                    <a:pt x="739" y="558"/>
                  </a:lnTo>
                  <a:lnTo>
                    <a:pt x="744" y="546"/>
                  </a:lnTo>
                  <a:lnTo>
                    <a:pt x="748" y="534"/>
                  </a:lnTo>
                  <a:lnTo>
                    <a:pt x="752" y="521"/>
                  </a:lnTo>
                  <a:lnTo>
                    <a:pt x="755" y="508"/>
                  </a:lnTo>
                  <a:lnTo>
                    <a:pt x="761" y="480"/>
                  </a:lnTo>
                  <a:lnTo>
                    <a:pt x="766" y="452"/>
                  </a:lnTo>
                  <a:lnTo>
                    <a:pt x="773" y="396"/>
                  </a:lnTo>
                  <a:lnTo>
                    <a:pt x="780" y="344"/>
                  </a:lnTo>
                  <a:lnTo>
                    <a:pt x="786" y="321"/>
                  </a:lnTo>
                  <a:lnTo>
                    <a:pt x="792" y="300"/>
                  </a:lnTo>
                  <a:lnTo>
                    <a:pt x="795" y="291"/>
                  </a:lnTo>
                  <a:lnTo>
                    <a:pt x="800" y="282"/>
                  </a:lnTo>
                  <a:lnTo>
                    <a:pt x="805" y="274"/>
                  </a:lnTo>
                  <a:lnTo>
                    <a:pt x="809" y="268"/>
                  </a:lnTo>
                  <a:lnTo>
                    <a:pt x="821" y="256"/>
                  </a:lnTo>
                  <a:lnTo>
                    <a:pt x="833" y="240"/>
                  </a:lnTo>
                  <a:lnTo>
                    <a:pt x="844" y="224"/>
                  </a:lnTo>
                  <a:lnTo>
                    <a:pt x="856" y="206"/>
                  </a:lnTo>
                  <a:lnTo>
                    <a:pt x="878" y="167"/>
                  </a:lnTo>
                  <a:lnTo>
                    <a:pt x="900" y="126"/>
                  </a:lnTo>
                  <a:lnTo>
                    <a:pt x="920" y="87"/>
                  </a:lnTo>
                  <a:lnTo>
                    <a:pt x="940" y="52"/>
                  </a:lnTo>
                  <a:lnTo>
                    <a:pt x="949" y="37"/>
                  </a:lnTo>
                  <a:lnTo>
                    <a:pt x="958" y="24"/>
                  </a:lnTo>
                  <a:lnTo>
                    <a:pt x="966" y="14"/>
                  </a:lnTo>
                  <a:lnTo>
                    <a:pt x="974" y="6"/>
                  </a:lnTo>
                  <a:lnTo>
                    <a:pt x="1019" y="1"/>
                  </a:lnTo>
                  <a:lnTo>
                    <a:pt x="1060" y="0"/>
                  </a:lnTo>
                  <a:lnTo>
                    <a:pt x="1097" y="0"/>
                  </a:lnTo>
                  <a:lnTo>
                    <a:pt x="1128" y="1"/>
                  </a:lnTo>
                  <a:lnTo>
                    <a:pt x="1156" y="4"/>
                  </a:lnTo>
                  <a:lnTo>
                    <a:pt x="1180" y="8"/>
                  </a:lnTo>
                  <a:lnTo>
                    <a:pt x="1201" y="14"/>
                  </a:lnTo>
                  <a:lnTo>
                    <a:pt x="1218" y="20"/>
                  </a:lnTo>
                  <a:lnTo>
                    <a:pt x="1247" y="31"/>
                  </a:lnTo>
                  <a:lnTo>
                    <a:pt x="1271" y="41"/>
                  </a:lnTo>
                  <a:lnTo>
                    <a:pt x="1281" y="44"/>
                  </a:lnTo>
                  <a:lnTo>
                    <a:pt x="1292" y="45"/>
                  </a:lnTo>
                  <a:lnTo>
                    <a:pt x="1302" y="45"/>
                  </a:lnTo>
                  <a:lnTo>
                    <a:pt x="1314" y="43"/>
                  </a:lnTo>
                  <a:lnTo>
                    <a:pt x="1323" y="44"/>
                  </a:lnTo>
                  <a:lnTo>
                    <a:pt x="1330" y="45"/>
                  </a:lnTo>
                  <a:lnTo>
                    <a:pt x="1337" y="48"/>
                  </a:lnTo>
                  <a:lnTo>
                    <a:pt x="1342" y="51"/>
                  </a:lnTo>
                  <a:lnTo>
                    <a:pt x="1347" y="55"/>
                  </a:lnTo>
                  <a:lnTo>
                    <a:pt x="1350" y="59"/>
                  </a:lnTo>
                  <a:lnTo>
                    <a:pt x="1354" y="65"/>
                  </a:lnTo>
                  <a:lnTo>
                    <a:pt x="1356" y="71"/>
                  </a:lnTo>
                  <a:lnTo>
                    <a:pt x="1363" y="83"/>
                  </a:lnTo>
                  <a:lnTo>
                    <a:pt x="1372" y="95"/>
                  </a:lnTo>
                  <a:lnTo>
                    <a:pt x="1378" y="102"/>
                  </a:lnTo>
                  <a:lnTo>
                    <a:pt x="1385" y="108"/>
                  </a:lnTo>
                  <a:lnTo>
                    <a:pt x="1394" y="115"/>
                  </a:lnTo>
                  <a:lnTo>
                    <a:pt x="1406" y="121"/>
                  </a:lnTo>
                  <a:lnTo>
                    <a:pt x="1412" y="135"/>
                  </a:lnTo>
                  <a:lnTo>
                    <a:pt x="1419" y="148"/>
                  </a:lnTo>
                  <a:lnTo>
                    <a:pt x="1427" y="159"/>
                  </a:lnTo>
                  <a:lnTo>
                    <a:pt x="1435" y="169"/>
                  </a:lnTo>
                  <a:lnTo>
                    <a:pt x="1442" y="177"/>
                  </a:lnTo>
                  <a:lnTo>
                    <a:pt x="1452" y="185"/>
                  </a:lnTo>
                  <a:lnTo>
                    <a:pt x="1460" y="192"/>
                  </a:lnTo>
                  <a:lnTo>
                    <a:pt x="1469" y="198"/>
                  </a:lnTo>
                  <a:lnTo>
                    <a:pt x="1477" y="203"/>
                  </a:lnTo>
                  <a:lnTo>
                    <a:pt x="1487" y="208"/>
                  </a:lnTo>
                  <a:lnTo>
                    <a:pt x="1496" y="211"/>
                  </a:lnTo>
                  <a:lnTo>
                    <a:pt x="1505" y="213"/>
                  </a:lnTo>
                  <a:lnTo>
                    <a:pt x="1524" y="218"/>
                  </a:lnTo>
                  <a:lnTo>
                    <a:pt x="1543" y="219"/>
                  </a:lnTo>
                  <a:lnTo>
                    <a:pt x="1577" y="220"/>
                  </a:lnTo>
                  <a:lnTo>
                    <a:pt x="1607" y="220"/>
                  </a:lnTo>
                  <a:lnTo>
                    <a:pt x="1620" y="222"/>
                  </a:lnTo>
                  <a:lnTo>
                    <a:pt x="1630" y="225"/>
                  </a:lnTo>
                  <a:lnTo>
                    <a:pt x="1635" y="226"/>
                  </a:lnTo>
                  <a:lnTo>
                    <a:pt x="1639" y="229"/>
                  </a:lnTo>
                  <a:lnTo>
                    <a:pt x="1642" y="232"/>
                  </a:lnTo>
                  <a:lnTo>
                    <a:pt x="1644" y="237"/>
                  </a:lnTo>
                  <a:lnTo>
                    <a:pt x="1823" y="24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699" name="Freeform 220"/>
            <p:cNvSpPr/>
            <p:nvPr/>
          </p:nvSpPr>
          <p:spPr>
            <a:xfrm>
              <a:off x="7753320" y="2675160"/>
              <a:ext cx="127440" cy="160920"/>
            </a:xfrm>
            <a:custGeom>
              <a:avLst/>
              <a:gdLst>
                <a:gd name="textAreaLeft" fmla="*/ 0 w 127440"/>
                <a:gd name="textAreaRight" fmla="*/ 127800 w 127440"/>
                <a:gd name="textAreaTop" fmla="*/ 0 h 160920"/>
                <a:gd name="textAreaBottom" fmla="*/ 161280 h 160920"/>
              </a:gdLst>
              <a:ahLst/>
              <a:rect l="textAreaLeft" t="textAreaTop" r="textAreaRight" b="textAreaBottom"/>
              <a:pathLst>
                <a:path w="289" h="357">
                  <a:moveTo>
                    <a:pt x="285" y="357"/>
                  </a:moveTo>
                  <a:lnTo>
                    <a:pt x="273" y="353"/>
                  </a:lnTo>
                  <a:lnTo>
                    <a:pt x="263" y="347"/>
                  </a:lnTo>
                  <a:lnTo>
                    <a:pt x="251" y="340"/>
                  </a:lnTo>
                  <a:lnTo>
                    <a:pt x="241" y="332"/>
                  </a:lnTo>
                  <a:lnTo>
                    <a:pt x="230" y="322"/>
                  </a:lnTo>
                  <a:lnTo>
                    <a:pt x="220" y="313"/>
                  </a:lnTo>
                  <a:lnTo>
                    <a:pt x="209" y="302"/>
                  </a:lnTo>
                  <a:lnTo>
                    <a:pt x="200" y="292"/>
                  </a:lnTo>
                  <a:lnTo>
                    <a:pt x="180" y="269"/>
                  </a:lnTo>
                  <a:lnTo>
                    <a:pt x="161" y="243"/>
                  </a:lnTo>
                  <a:lnTo>
                    <a:pt x="144" y="217"/>
                  </a:lnTo>
                  <a:lnTo>
                    <a:pt x="125" y="191"/>
                  </a:lnTo>
                  <a:lnTo>
                    <a:pt x="92" y="140"/>
                  </a:lnTo>
                  <a:lnTo>
                    <a:pt x="61" y="96"/>
                  </a:lnTo>
                  <a:lnTo>
                    <a:pt x="44" y="78"/>
                  </a:lnTo>
                  <a:lnTo>
                    <a:pt x="29" y="63"/>
                  </a:lnTo>
                  <a:lnTo>
                    <a:pt x="22" y="57"/>
                  </a:lnTo>
                  <a:lnTo>
                    <a:pt x="15" y="52"/>
                  </a:lnTo>
                  <a:lnTo>
                    <a:pt x="7" y="49"/>
                  </a:lnTo>
                  <a:lnTo>
                    <a:pt x="0" y="47"/>
                  </a:lnTo>
                  <a:lnTo>
                    <a:pt x="161" y="0"/>
                  </a:lnTo>
                  <a:lnTo>
                    <a:pt x="162" y="10"/>
                  </a:lnTo>
                  <a:lnTo>
                    <a:pt x="165" y="20"/>
                  </a:lnTo>
                  <a:lnTo>
                    <a:pt x="168" y="29"/>
                  </a:lnTo>
                  <a:lnTo>
                    <a:pt x="174" y="37"/>
                  </a:lnTo>
                  <a:lnTo>
                    <a:pt x="186" y="55"/>
                  </a:lnTo>
                  <a:lnTo>
                    <a:pt x="201" y="71"/>
                  </a:lnTo>
                  <a:lnTo>
                    <a:pt x="215" y="88"/>
                  </a:lnTo>
                  <a:lnTo>
                    <a:pt x="227" y="104"/>
                  </a:lnTo>
                  <a:lnTo>
                    <a:pt x="233" y="113"/>
                  </a:lnTo>
                  <a:lnTo>
                    <a:pt x="236" y="123"/>
                  </a:lnTo>
                  <a:lnTo>
                    <a:pt x="238" y="132"/>
                  </a:lnTo>
                  <a:lnTo>
                    <a:pt x="240" y="141"/>
                  </a:lnTo>
                  <a:lnTo>
                    <a:pt x="240" y="158"/>
                  </a:lnTo>
                  <a:lnTo>
                    <a:pt x="242" y="173"/>
                  </a:lnTo>
                  <a:lnTo>
                    <a:pt x="245" y="187"/>
                  </a:lnTo>
                  <a:lnTo>
                    <a:pt x="249" y="200"/>
                  </a:lnTo>
                  <a:lnTo>
                    <a:pt x="258" y="224"/>
                  </a:lnTo>
                  <a:lnTo>
                    <a:pt x="269" y="246"/>
                  </a:lnTo>
                  <a:lnTo>
                    <a:pt x="273" y="258"/>
                  </a:lnTo>
                  <a:lnTo>
                    <a:pt x="278" y="270"/>
                  </a:lnTo>
                  <a:lnTo>
                    <a:pt x="283" y="281"/>
                  </a:lnTo>
                  <a:lnTo>
                    <a:pt x="285" y="294"/>
                  </a:lnTo>
                  <a:lnTo>
                    <a:pt x="287" y="308"/>
                  </a:lnTo>
                  <a:lnTo>
                    <a:pt x="289" y="323"/>
                  </a:lnTo>
                  <a:lnTo>
                    <a:pt x="287" y="340"/>
                  </a:lnTo>
                  <a:lnTo>
                    <a:pt x="285" y="35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0" name="Freeform 221"/>
            <p:cNvSpPr/>
            <p:nvPr/>
          </p:nvSpPr>
          <p:spPr>
            <a:xfrm>
              <a:off x="5060880" y="2427480"/>
              <a:ext cx="753840" cy="324720"/>
            </a:xfrm>
            <a:custGeom>
              <a:avLst/>
              <a:gdLst>
                <a:gd name="textAreaLeft" fmla="*/ 0 w 753840"/>
                <a:gd name="textAreaRight" fmla="*/ 754200 w 753840"/>
                <a:gd name="textAreaTop" fmla="*/ 0 h 324720"/>
                <a:gd name="textAreaBottom" fmla="*/ 324720 h 324720"/>
              </a:gdLst>
              <a:ahLst/>
              <a:rect l="textAreaLeft" t="textAreaTop" r="textAreaRight" b="textAreaBottom"/>
              <a:pathLst>
                <a:path w="1714" h="717">
                  <a:moveTo>
                    <a:pt x="1388" y="0"/>
                  </a:moveTo>
                  <a:lnTo>
                    <a:pt x="1399" y="19"/>
                  </a:lnTo>
                  <a:lnTo>
                    <a:pt x="1410" y="38"/>
                  </a:lnTo>
                  <a:lnTo>
                    <a:pt x="1424" y="56"/>
                  </a:lnTo>
                  <a:lnTo>
                    <a:pt x="1440" y="75"/>
                  </a:lnTo>
                  <a:lnTo>
                    <a:pt x="1457" y="93"/>
                  </a:lnTo>
                  <a:lnTo>
                    <a:pt x="1475" y="109"/>
                  </a:lnTo>
                  <a:lnTo>
                    <a:pt x="1494" y="125"/>
                  </a:lnTo>
                  <a:lnTo>
                    <a:pt x="1514" y="140"/>
                  </a:lnTo>
                  <a:lnTo>
                    <a:pt x="1535" y="153"/>
                  </a:lnTo>
                  <a:lnTo>
                    <a:pt x="1558" y="166"/>
                  </a:lnTo>
                  <a:lnTo>
                    <a:pt x="1579" y="177"/>
                  </a:lnTo>
                  <a:lnTo>
                    <a:pt x="1601" y="186"/>
                  </a:lnTo>
                  <a:lnTo>
                    <a:pt x="1622" y="193"/>
                  </a:lnTo>
                  <a:lnTo>
                    <a:pt x="1643" y="198"/>
                  </a:lnTo>
                  <a:lnTo>
                    <a:pt x="1663" y="201"/>
                  </a:lnTo>
                  <a:lnTo>
                    <a:pt x="1683" y="202"/>
                  </a:lnTo>
                  <a:lnTo>
                    <a:pt x="1714" y="331"/>
                  </a:lnTo>
                  <a:lnTo>
                    <a:pt x="1695" y="335"/>
                  </a:lnTo>
                  <a:lnTo>
                    <a:pt x="1679" y="340"/>
                  </a:lnTo>
                  <a:lnTo>
                    <a:pt x="1665" y="346"/>
                  </a:lnTo>
                  <a:lnTo>
                    <a:pt x="1653" y="353"/>
                  </a:lnTo>
                  <a:lnTo>
                    <a:pt x="1643" y="361"/>
                  </a:lnTo>
                  <a:lnTo>
                    <a:pt x="1636" y="369"/>
                  </a:lnTo>
                  <a:lnTo>
                    <a:pt x="1630" y="379"/>
                  </a:lnTo>
                  <a:lnTo>
                    <a:pt x="1625" y="388"/>
                  </a:lnTo>
                  <a:lnTo>
                    <a:pt x="1623" y="397"/>
                  </a:lnTo>
                  <a:lnTo>
                    <a:pt x="1622" y="407"/>
                  </a:lnTo>
                  <a:lnTo>
                    <a:pt x="1623" y="416"/>
                  </a:lnTo>
                  <a:lnTo>
                    <a:pt x="1625" y="425"/>
                  </a:lnTo>
                  <a:lnTo>
                    <a:pt x="1628" y="434"/>
                  </a:lnTo>
                  <a:lnTo>
                    <a:pt x="1632" y="442"/>
                  </a:lnTo>
                  <a:lnTo>
                    <a:pt x="1638" y="449"/>
                  </a:lnTo>
                  <a:lnTo>
                    <a:pt x="1645" y="456"/>
                  </a:lnTo>
                  <a:lnTo>
                    <a:pt x="1608" y="525"/>
                  </a:lnTo>
                  <a:lnTo>
                    <a:pt x="1602" y="525"/>
                  </a:lnTo>
                  <a:lnTo>
                    <a:pt x="1596" y="525"/>
                  </a:lnTo>
                  <a:lnTo>
                    <a:pt x="1591" y="526"/>
                  </a:lnTo>
                  <a:lnTo>
                    <a:pt x="1586" y="528"/>
                  </a:lnTo>
                  <a:lnTo>
                    <a:pt x="1582" y="531"/>
                  </a:lnTo>
                  <a:lnTo>
                    <a:pt x="1577" y="534"/>
                  </a:lnTo>
                  <a:lnTo>
                    <a:pt x="1573" y="538"/>
                  </a:lnTo>
                  <a:lnTo>
                    <a:pt x="1569" y="542"/>
                  </a:lnTo>
                  <a:lnTo>
                    <a:pt x="1563" y="552"/>
                  </a:lnTo>
                  <a:lnTo>
                    <a:pt x="1558" y="563"/>
                  </a:lnTo>
                  <a:lnTo>
                    <a:pt x="1553" y="575"/>
                  </a:lnTo>
                  <a:lnTo>
                    <a:pt x="1548" y="588"/>
                  </a:lnTo>
                  <a:lnTo>
                    <a:pt x="1546" y="602"/>
                  </a:lnTo>
                  <a:lnTo>
                    <a:pt x="1544" y="616"/>
                  </a:lnTo>
                  <a:lnTo>
                    <a:pt x="1542" y="629"/>
                  </a:lnTo>
                  <a:lnTo>
                    <a:pt x="1541" y="642"/>
                  </a:lnTo>
                  <a:lnTo>
                    <a:pt x="1541" y="653"/>
                  </a:lnTo>
                  <a:lnTo>
                    <a:pt x="1541" y="664"/>
                  </a:lnTo>
                  <a:lnTo>
                    <a:pt x="1542" y="673"/>
                  </a:lnTo>
                  <a:lnTo>
                    <a:pt x="1544" y="680"/>
                  </a:lnTo>
                  <a:lnTo>
                    <a:pt x="277" y="717"/>
                  </a:lnTo>
                  <a:lnTo>
                    <a:pt x="259" y="709"/>
                  </a:lnTo>
                  <a:lnTo>
                    <a:pt x="243" y="702"/>
                  </a:lnTo>
                  <a:lnTo>
                    <a:pt x="236" y="699"/>
                  </a:lnTo>
                  <a:lnTo>
                    <a:pt x="232" y="694"/>
                  </a:lnTo>
                  <a:lnTo>
                    <a:pt x="227" y="689"/>
                  </a:lnTo>
                  <a:lnTo>
                    <a:pt x="224" y="685"/>
                  </a:lnTo>
                  <a:lnTo>
                    <a:pt x="220" y="678"/>
                  </a:lnTo>
                  <a:lnTo>
                    <a:pt x="219" y="671"/>
                  </a:lnTo>
                  <a:lnTo>
                    <a:pt x="218" y="663"/>
                  </a:lnTo>
                  <a:lnTo>
                    <a:pt x="217" y="652"/>
                  </a:lnTo>
                  <a:lnTo>
                    <a:pt x="218" y="626"/>
                  </a:lnTo>
                  <a:lnTo>
                    <a:pt x="222" y="594"/>
                  </a:lnTo>
                  <a:lnTo>
                    <a:pt x="225" y="576"/>
                  </a:lnTo>
                  <a:lnTo>
                    <a:pt x="225" y="561"/>
                  </a:lnTo>
                  <a:lnTo>
                    <a:pt x="222" y="549"/>
                  </a:lnTo>
                  <a:lnTo>
                    <a:pt x="220" y="538"/>
                  </a:lnTo>
                  <a:lnTo>
                    <a:pt x="215" y="528"/>
                  </a:lnTo>
                  <a:lnTo>
                    <a:pt x="210" y="520"/>
                  </a:lnTo>
                  <a:lnTo>
                    <a:pt x="203" y="513"/>
                  </a:lnTo>
                  <a:lnTo>
                    <a:pt x="196" y="508"/>
                  </a:lnTo>
                  <a:lnTo>
                    <a:pt x="179" y="498"/>
                  </a:lnTo>
                  <a:lnTo>
                    <a:pt x="162" y="490"/>
                  </a:lnTo>
                  <a:lnTo>
                    <a:pt x="152" y="485"/>
                  </a:lnTo>
                  <a:lnTo>
                    <a:pt x="144" y="480"/>
                  </a:lnTo>
                  <a:lnTo>
                    <a:pt x="137" y="476"/>
                  </a:lnTo>
                  <a:lnTo>
                    <a:pt x="130" y="470"/>
                  </a:lnTo>
                  <a:lnTo>
                    <a:pt x="125" y="465"/>
                  </a:lnTo>
                  <a:lnTo>
                    <a:pt x="123" y="460"/>
                  </a:lnTo>
                  <a:lnTo>
                    <a:pt x="123" y="457"/>
                  </a:lnTo>
                  <a:lnTo>
                    <a:pt x="123" y="453"/>
                  </a:lnTo>
                  <a:lnTo>
                    <a:pt x="124" y="449"/>
                  </a:lnTo>
                  <a:lnTo>
                    <a:pt x="125" y="444"/>
                  </a:lnTo>
                  <a:lnTo>
                    <a:pt x="127" y="438"/>
                  </a:lnTo>
                  <a:lnTo>
                    <a:pt x="125" y="431"/>
                  </a:lnTo>
                  <a:lnTo>
                    <a:pt x="123" y="422"/>
                  </a:lnTo>
                  <a:lnTo>
                    <a:pt x="117" y="410"/>
                  </a:lnTo>
                  <a:lnTo>
                    <a:pt x="109" y="395"/>
                  </a:lnTo>
                  <a:lnTo>
                    <a:pt x="97" y="378"/>
                  </a:lnTo>
                  <a:lnTo>
                    <a:pt x="81" y="358"/>
                  </a:lnTo>
                  <a:lnTo>
                    <a:pt x="60" y="333"/>
                  </a:lnTo>
                  <a:lnTo>
                    <a:pt x="33" y="304"/>
                  </a:lnTo>
                  <a:lnTo>
                    <a:pt x="0" y="271"/>
                  </a:lnTo>
                  <a:lnTo>
                    <a:pt x="14" y="14"/>
                  </a:lnTo>
                  <a:lnTo>
                    <a:pt x="1388"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1" name="Freeform 222"/>
            <p:cNvSpPr/>
            <p:nvPr/>
          </p:nvSpPr>
          <p:spPr>
            <a:xfrm>
              <a:off x="1650240" y="2473200"/>
              <a:ext cx="837000" cy="1318680"/>
            </a:xfrm>
            <a:custGeom>
              <a:avLst/>
              <a:gdLst>
                <a:gd name="textAreaLeft" fmla="*/ 0 w 837000"/>
                <a:gd name="textAreaRight" fmla="*/ 837360 w 837000"/>
                <a:gd name="textAreaTop" fmla="*/ 0 h 1318680"/>
                <a:gd name="textAreaBottom" fmla="*/ 1319040 h 1318680"/>
              </a:gdLst>
              <a:ahLst/>
              <a:rect l="textAreaLeft" t="textAreaTop" r="textAreaRight" b="textAreaBottom"/>
              <a:pathLst>
                <a:path w="1904" h="2906">
                  <a:moveTo>
                    <a:pt x="1147" y="2906"/>
                  </a:moveTo>
                  <a:lnTo>
                    <a:pt x="1175" y="2857"/>
                  </a:lnTo>
                  <a:lnTo>
                    <a:pt x="400" y="2857"/>
                  </a:lnTo>
                  <a:lnTo>
                    <a:pt x="411" y="2837"/>
                  </a:lnTo>
                  <a:lnTo>
                    <a:pt x="421" y="2817"/>
                  </a:lnTo>
                  <a:lnTo>
                    <a:pt x="428" y="2797"/>
                  </a:lnTo>
                  <a:lnTo>
                    <a:pt x="435" y="2777"/>
                  </a:lnTo>
                  <a:lnTo>
                    <a:pt x="441" y="2759"/>
                  </a:lnTo>
                  <a:lnTo>
                    <a:pt x="446" y="2739"/>
                  </a:lnTo>
                  <a:lnTo>
                    <a:pt x="449" y="2720"/>
                  </a:lnTo>
                  <a:lnTo>
                    <a:pt x="452" y="2701"/>
                  </a:lnTo>
                  <a:lnTo>
                    <a:pt x="453" y="2683"/>
                  </a:lnTo>
                  <a:lnTo>
                    <a:pt x="453" y="2665"/>
                  </a:lnTo>
                  <a:lnTo>
                    <a:pt x="452" y="2647"/>
                  </a:lnTo>
                  <a:lnTo>
                    <a:pt x="449" y="2629"/>
                  </a:lnTo>
                  <a:lnTo>
                    <a:pt x="447" y="2612"/>
                  </a:lnTo>
                  <a:lnTo>
                    <a:pt x="443" y="2594"/>
                  </a:lnTo>
                  <a:lnTo>
                    <a:pt x="440" y="2578"/>
                  </a:lnTo>
                  <a:lnTo>
                    <a:pt x="435" y="2560"/>
                  </a:lnTo>
                  <a:lnTo>
                    <a:pt x="429" y="2544"/>
                  </a:lnTo>
                  <a:lnTo>
                    <a:pt x="424" y="2527"/>
                  </a:lnTo>
                  <a:lnTo>
                    <a:pt x="418" y="2512"/>
                  </a:lnTo>
                  <a:lnTo>
                    <a:pt x="411" y="2496"/>
                  </a:lnTo>
                  <a:lnTo>
                    <a:pt x="396" y="2466"/>
                  </a:lnTo>
                  <a:lnTo>
                    <a:pt x="379" y="2436"/>
                  </a:lnTo>
                  <a:lnTo>
                    <a:pt x="362" y="2408"/>
                  </a:lnTo>
                  <a:lnTo>
                    <a:pt x="344" y="2383"/>
                  </a:lnTo>
                  <a:lnTo>
                    <a:pt x="325" y="2357"/>
                  </a:lnTo>
                  <a:lnTo>
                    <a:pt x="308" y="2332"/>
                  </a:lnTo>
                  <a:lnTo>
                    <a:pt x="300" y="2322"/>
                  </a:lnTo>
                  <a:lnTo>
                    <a:pt x="293" y="2310"/>
                  </a:lnTo>
                  <a:lnTo>
                    <a:pt x="286" y="2298"/>
                  </a:lnTo>
                  <a:lnTo>
                    <a:pt x="280" y="2288"/>
                  </a:lnTo>
                  <a:lnTo>
                    <a:pt x="272" y="2267"/>
                  </a:lnTo>
                  <a:lnTo>
                    <a:pt x="265" y="2247"/>
                  </a:lnTo>
                  <a:lnTo>
                    <a:pt x="260" y="2228"/>
                  </a:lnTo>
                  <a:lnTo>
                    <a:pt x="259" y="2210"/>
                  </a:lnTo>
                  <a:lnTo>
                    <a:pt x="258" y="2193"/>
                  </a:lnTo>
                  <a:lnTo>
                    <a:pt x="259" y="2178"/>
                  </a:lnTo>
                  <a:lnTo>
                    <a:pt x="261" y="2164"/>
                  </a:lnTo>
                  <a:lnTo>
                    <a:pt x="265" y="2152"/>
                  </a:lnTo>
                  <a:lnTo>
                    <a:pt x="267" y="2142"/>
                  </a:lnTo>
                  <a:lnTo>
                    <a:pt x="271" y="2133"/>
                  </a:lnTo>
                  <a:lnTo>
                    <a:pt x="276" y="2121"/>
                  </a:lnTo>
                  <a:lnTo>
                    <a:pt x="280" y="2117"/>
                  </a:lnTo>
                  <a:lnTo>
                    <a:pt x="60" y="2085"/>
                  </a:lnTo>
                  <a:lnTo>
                    <a:pt x="63" y="2077"/>
                  </a:lnTo>
                  <a:lnTo>
                    <a:pt x="65" y="2068"/>
                  </a:lnTo>
                  <a:lnTo>
                    <a:pt x="66" y="2060"/>
                  </a:lnTo>
                  <a:lnTo>
                    <a:pt x="67" y="2052"/>
                  </a:lnTo>
                  <a:lnTo>
                    <a:pt x="66" y="2037"/>
                  </a:lnTo>
                  <a:lnTo>
                    <a:pt x="64" y="2022"/>
                  </a:lnTo>
                  <a:lnTo>
                    <a:pt x="60" y="2009"/>
                  </a:lnTo>
                  <a:lnTo>
                    <a:pt x="56" y="1996"/>
                  </a:lnTo>
                  <a:lnTo>
                    <a:pt x="49" y="1983"/>
                  </a:lnTo>
                  <a:lnTo>
                    <a:pt x="42" y="1973"/>
                  </a:lnTo>
                  <a:lnTo>
                    <a:pt x="28" y="1955"/>
                  </a:lnTo>
                  <a:lnTo>
                    <a:pt x="14" y="1941"/>
                  </a:lnTo>
                  <a:lnTo>
                    <a:pt x="4" y="1933"/>
                  </a:lnTo>
                  <a:lnTo>
                    <a:pt x="0" y="1929"/>
                  </a:lnTo>
                  <a:lnTo>
                    <a:pt x="184" y="1713"/>
                  </a:lnTo>
                  <a:lnTo>
                    <a:pt x="184" y="1705"/>
                  </a:lnTo>
                  <a:lnTo>
                    <a:pt x="183" y="1697"/>
                  </a:lnTo>
                  <a:lnTo>
                    <a:pt x="181" y="1689"/>
                  </a:lnTo>
                  <a:lnTo>
                    <a:pt x="178" y="1681"/>
                  </a:lnTo>
                  <a:lnTo>
                    <a:pt x="170" y="1664"/>
                  </a:lnTo>
                  <a:lnTo>
                    <a:pt x="161" y="1649"/>
                  </a:lnTo>
                  <a:lnTo>
                    <a:pt x="137" y="1619"/>
                  </a:lnTo>
                  <a:lnTo>
                    <a:pt x="112" y="1587"/>
                  </a:lnTo>
                  <a:lnTo>
                    <a:pt x="99" y="1571"/>
                  </a:lnTo>
                  <a:lnTo>
                    <a:pt x="87" y="1554"/>
                  </a:lnTo>
                  <a:lnTo>
                    <a:pt x="77" y="1538"/>
                  </a:lnTo>
                  <a:lnTo>
                    <a:pt x="67" y="1519"/>
                  </a:lnTo>
                  <a:lnTo>
                    <a:pt x="64" y="1510"/>
                  </a:lnTo>
                  <a:lnTo>
                    <a:pt x="61" y="1501"/>
                  </a:lnTo>
                  <a:lnTo>
                    <a:pt x="59" y="1491"/>
                  </a:lnTo>
                  <a:lnTo>
                    <a:pt x="58" y="1481"/>
                  </a:lnTo>
                  <a:lnTo>
                    <a:pt x="57" y="1470"/>
                  </a:lnTo>
                  <a:lnTo>
                    <a:pt x="57" y="1460"/>
                  </a:lnTo>
                  <a:lnTo>
                    <a:pt x="58" y="1448"/>
                  </a:lnTo>
                  <a:lnTo>
                    <a:pt x="60" y="1438"/>
                  </a:lnTo>
                  <a:lnTo>
                    <a:pt x="67" y="1414"/>
                  </a:lnTo>
                  <a:lnTo>
                    <a:pt x="77" y="1391"/>
                  </a:lnTo>
                  <a:lnTo>
                    <a:pt x="86" y="1369"/>
                  </a:lnTo>
                  <a:lnTo>
                    <a:pt x="98" y="1347"/>
                  </a:lnTo>
                  <a:lnTo>
                    <a:pt x="111" y="1324"/>
                  </a:lnTo>
                  <a:lnTo>
                    <a:pt x="123" y="1304"/>
                  </a:lnTo>
                  <a:lnTo>
                    <a:pt x="137" y="1285"/>
                  </a:lnTo>
                  <a:lnTo>
                    <a:pt x="150" y="1267"/>
                  </a:lnTo>
                  <a:lnTo>
                    <a:pt x="175" y="1236"/>
                  </a:lnTo>
                  <a:lnTo>
                    <a:pt x="196" y="1211"/>
                  </a:lnTo>
                  <a:lnTo>
                    <a:pt x="211" y="1195"/>
                  </a:lnTo>
                  <a:lnTo>
                    <a:pt x="216" y="1190"/>
                  </a:lnTo>
                  <a:lnTo>
                    <a:pt x="224" y="1197"/>
                  </a:lnTo>
                  <a:lnTo>
                    <a:pt x="232" y="1203"/>
                  </a:lnTo>
                  <a:lnTo>
                    <a:pt x="239" y="1208"/>
                  </a:lnTo>
                  <a:lnTo>
                    <a:pt x="245" y="1209"/>
                  </a:lnTo>
                  <a:lnTo>
                    <a:pt x="251" y="1210"/>
                  </a:lnTo>
                  <a:lnTo>
                    <a:pt x="257" y="1210"/>
                  </a:lnTo>
                  <a:lnTo>
                    <a:pt x="261" y="1208"/>
                  </a:lnTo>
                  <a:lnTo>
                    <a:pt x="265" y="1204"/>
                  </a:lnTo>
                  <a:lnTo>
                    <a:pt x="268" y="1199"/>
                  </a:lnTo>
                  <a:lnTo>
                    <a:pt x="272" y="1195"/>
                  </a:lnTo>
                  <a:lnTo>
                    <a:pt x="274" y="1188"/>
                  </a:lnTo>
                  <a:lnTo>
                    <a:pt x="276" y="1181"/>
                  </a:lnTo>
                  <a:lnTo>
                    <a:pt x="280" y="1164"/>
                  </a:lnTo>
                  <a:lnTo>
                    <a:pt x="282" y="1147"/>
                  </a:lnTo>
                  <a:lnTo>
                    <a:pt x="283" y="1127"/>
                  </a:lnTo>
                  <a:lnTo>
                    <a:pt x="283" y="1107"/>
                  </a:lnTo>
                  <a:lnTo>
                    <a:pt x="283" y="1088"/>
                  </a:lnTo>
                  <a:lnTo>
                    <a:pt x="282" y="1071"/>
                  </a:lnTo>
                  <a:lnTo>
                    <a:pt x="280" y="1044"/>
                  </a:lnTo>
                  <a:lnTo>
                    <a:pt x="280" y="1033"/>
                  </a:lnTo>
                  <a:lnTo>
                    <a:pt x="296" y="1025"/>
                  </a:lnTo>
                  <a:lnTo>
                    <a:pt x="311" y="1016"/>
                  </a:lnTo>
                  <a:lnTo>
                    <a:pt x="325" y="1007"/>
                  </a:lnTo>
                  <a:lnTo>
                    <a:pt x="337" y="996"/>
                  </a:lnTo>
                  <a:lnTo>
                    <a:pt x="349" y="987"/>
                  </a:lnTo>
                  <a:lnTo>
                    <a:pt x="358" y="976"/>
                  </a:lnTo>
                  <a:lnTo>
                    <a:pt x="368" y="966"/>
                  </a:lnTo>
                  <a:lnTo>
                    <a:pt x="376" y="954"/>
                  </a:lnTo>
                  <a:lnTo>
                    <a:pt x="383" y="944"/>
                  </a:lnTo>
                  <a:lnTo>
                    <a:pt x="389" y="932"/>
                  </a:lnTo>
                  <a:lnTo>
                    <a:pt x="393" y="920"/>
                  </a:lnTo>
                  <a:lnTo>
                    <a:pt x="397" y="908"/>
                  </a:lnTo>
                  <a:lnTo>
                    <a:pt x="400" y="897"/>
                  </a:lnTo>
                  <a:lnTo>
                    <a:pt x="403" y="885"/>
                  </a:lnTo>
                  <a:lnTo>
                    <a:pt x="405" y="872"/>
                  </a:lnTo>
                  <a:lnTo>
                    <a:pt x="405" y="861"/>
                  </a:lnTo>
                  <a:lnTo>
                    <a:pt x="406" y="835"/>
                  </a:lnTo>
                  <a:lnTo>
                    <a:pt x="404" y="810"/>
                  </a:lnTo>
                  <a:lnTo>
                    <a:pt x="400" y="785"/>
                  </a:lnTo>
                  <a:lnTo>
                    <a:pt x="396" y="760"/>
                  </a:lnTo>
                  <a:lnTo>
                    <a:pt x="384" y="710"/>
                  </a:lnTo>
                  <a:lnTo>
                    <a:pt x="371" y="662"/>
                  </a:lnTo>
                  <a:lnTo>
                    <a:pt x="587" y="418"/>
                  </a:lnTo>
                  <a:lnTo>
                    <a:pt x="588" y="403"/>
                  </a:lnTo>
                  <a:lnTo>
                    <a:pt x="592" y="388"/>
                  </a:lnTo>
                  <a:lnTo>
                    <a:pt x="598" y="371"/>
                  </a:lnTo>
                  <a:lnTo>
                    <a:pt x="605" y="355"/>
                  </a:lnTo>
                  <a:lnTo>
                    <a:pt x="614" y="338"/>
                  </a:lnTo>
                  <a:lnTo>
                    <a:pt x="625" y="321"/>
                  </a:lnTo>
                  <a:lnTo>
                    <a:pt x="636" y="305"/>
                  </a:lnTo>
                  <a:lnTo>
                    <a:pt x="650" y="287"/>
                  </a:lnTo>
                  <a:lnTo>
                    <a:pt x="664" y="270"/>
                  </a:lnTo>
                  <a:lnTo>
                    <a:pt x="681" y="252"/>
                  </a:lnTo>
                  <a:lnTo>
                    <a:pt x="697" y="234"/>
                  </a:lnTo>
                  <a:lnTo>
                    <a:pt x="714" y="217"/>
                  </a:lnTo>
                  <a:lnTo>
                    <a:pt x="751" y="183"/>
                  </a:lnTo>
                  <a:lnTo>
                    <a:pt x="788" y="150"/>
                  </a:lnTo>
                  <a:lnTo>
                    <a:pt x="825" y="120"/>
                  </a:lnTo>
                  <a:lnTo>
                    <a:pt x="862" y="91"/>
                  </a:lnTo>
                  <a:lnTo>
                    <a:pt x="896" y="65"/>
                  </a:lnTo>
                  <a:lnTo>
                    <a:pt x="926" y="43"/>
                  </a:lnTo>
                  <a:lnTo>
                    <a:pt x="970" y="11"/>
                  </a:lnTo>
                  <a:lnTo>
                    <a:pt x="988" y="0"/>
                  </a:lnTo>
                  <a:lnTo>
                    <a:pt x="1904" y="95"/>
                  </a:lnTo>
                  <a:lnTo>
                    <a:pt x="1273" y="807"/>
                  </a:lnTo>
                  <a:lnTo>
                    <a:pt x="1837" y="2053"/>
                  </a:lnTo>
                  <a:lnTo>
                    <a:pt x="1824" y="2071"/>
                  </a:lnTo>
                  <a:lnTo>
                    <a:pt x="1814" y="2087"/>
                  </a:lnTo>
                  <a:lnTo>
                    <a:pt x="1805" y="2103"/>
                  </a:lnTo>
                  <a:lnTo>
                    <a:pt x="1798" y="2117"/>
                  </a:lnTo>
                  <a:lnTo>
                    <a:pt x="1794" y="2131"/>
                  </a:lnTo>
                  <a:lnTo>
                    <a:pt x="1790" y="2144"/>
                  </a:lnTo>
                  <a:lnTo>
                    <a:pt x="1788" y="2156"/>
                  </a:lnTo>
                  <a:lnTo>
                    <a:pt x="1787" y="2166"/>
                  </a:lnTo>
                  <a:lnTo>
                    <a:pt x="1787" y="2185"/>
                  </a:lnTo>
                  <a:lnTo>
                    <a:pt x="1788" y="2198"/>
                  </a:lnTo>
                  <a:lnTo>
                    <a:pt x="1790" y="2206"/>
                  </a:lnTo>
                  <a:lnTo>
                    <a:pt x="1791" y="2209"/>
                  </a:lnTo>
                  <a:lnTo>
                    <a:pt x="1809" y="2301"/>
                  </a:lnTo>
                  <a:lnTo>
                    <a:pt x="1787" y="2315"/>
                  </a:lnTo>
                  <a:lnTo>
                    <a:pt x="1763" y="2330"/>
                  </a:lnTo>
                  <a:lnTo>
                    <a:pt x="1738" y="2348"/>
                  </a:lnTo>
                  <a:lnTo>
                    <a:pt x="1712" y="2367"/>
                  </a:lnTo>
                  <a:lnTo>
                    <a:pt x="1685" y="2388"/>
                  </a:lnTo>
                  <a:lnTo>
                    <a:pt x="1658" y="2409"/>
                  </a:lnTo>
                  <a:lnTo>
                    <a:pt x="1633" y="2432"/>
                  </a:lnTo>
                  <a:lnTo>
                    <a:pt x="1607" y="2455"/>
                  </a:lnTo>
                  <a:lnTo>
                    <a:pt x="1582" y="2477"/>
                  </a:lnTo>
                  <a:lnTo>
                    <a:pt x="1561" y="2498"/>
                  </a:lnTo>
                  <a:lnTo>
                    <a:pt x="1542" y="2519"/>
                  </a:lnTo>
                  <a:lnTo>
                    <a:pt x="1525" y="2539"/>
                  </a:lnTo>
                  <a:lnTo>
                    <a:pt x="1511" y="2557"/>
                  </a:lnTo>
                  <a:lnTo>
                    <a:pt x="1503" y="2572"/>
                  </a:lnTo>
                  <a:lnTo>
                    <a:pt x="1499" y="2579"/>
                  </a:lnTo>
                  <a:lnTo>
                    <a:pt x="1497" y="2585"/>
                  </a:lnTo>
                  <a:lnTo>
                    <a:pt x="1497" y="2590"/>
                  </a:lnTo>
                  <a:lnTo>
                    <a:pt x="1497" y="2595"/>
                  </a:lnTo>
                  <a:lnTo>
                    <a:pt x="1475" y="2605"/>
                  </a:lnTo>
                  <a:lnTo>
                    <a:pt x="1454" y="2615"/>
                  </a:lnTo>
                  <a:lnTo>
                    <a:pt x="1433" y="2627"/>
                  </a:lnTo>
                  <a:lnTo>
                    <a:pt x="1414" y="2638"/>
                  </a:lnTo>
                  <a:lnTo>
                    <a:pt x="1397" y="2651"/>
                  </a:lnTo>
                  <a:lnTo>
                    <a:pt x="1380" y="2664"/>
                  </a:lnTo>
                  <a:lnTo>
                    <a:pt x="1365" y="2677"/>
                  </a:lnTo>
                  <a:lnTo>
                    <a:pt x="1352" y="2690"/>
                  </a:lnTo>
                  <a:lnTo>
                    <a:pt x="1329" y="2713"/>
                  </a:lnTo>
                  <a:lnTo>
                    <a:pt x="1313" y="2733"/>
                  </a:lnTo>
                  <a:lnTo>
                    <a:pt x="1302" y="2746"/>
                  </a:lnTo>
                  <a:lnTo>
                    <a:pt x="1299" y="2751"/>
                  </a:lnTo>
                  <a:lnTo>
                    <a:pt x="1328" y="2829"/>
                  </a:lnTo>
                  <a:lnTo>
                    <a:pt x="1313" y="2840"/>
                  </a:lnTo>
                  <a:lnTo>
                    <a:pt x="1297" y="2851"/>
                  </a:lnTo>
                  <a:lnTo>
                    <a:pt x="1282" y="2860"/>
                  </a:lnTo>
                  <a:lnTo>
                    <a:pt x="1268" y="2868"/>
                  </a:lnTo>
                  <a:lnTo>
                    <a:pt x="1254" y="2876"/>
                  </a:lnTo>
                  <a:lnTo>
                    <a:pt x="1241" y="2881"/>
                  </a:lnTo>
                  <a:lnTo>
                    <a:pt x="1228" y="2887"/>
                  </a:lnTo>
                  <a:lnTo>
                    <a:pt x="1217" y="2891"/>
                  </a:lnTo>
                  <a:lnTo>
                    <a:pt x="1195" y="2897"/>
                  </a:lnTo>
                  <a:lnTo>
                    <a:pt x="1175" y="2901"/>
                  </a:lnTo>
                  <a:lnTo>
                    <a:pt x="1158" y="2904"/>
                  </a:lnTo>
                  <a:lnTo>
                    <a:pt x="1147" y="29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2" name="Freeform 223"/>
            <p:cNvSpPr/>
            <p:nvPr/>
          </p:nvSpPr>
          <p:spPr>
            <a:xfrm>
              <a:off x="2127240" y="3177000"/>
              <a:ext cx="1228320" cy="939240"/>
            </a:xfrm>
            <a:custGeom>
              <a:avLst/>
              <a:gdLst>
                <a:gd name="textAreaLeft" fmla="*/ 0 w 1228320"/>
                <a:gd name="textAreaRight" fmla="*/ 1228680 w 1228320"/>
                <a:gd name="textAreaTop" fmla="*/ 0 h 939240"/>
                <a:gd name="textAreaBottom" fmla="*/ 939600 h 939240"/>
              </a:gdLst>
              <a:ahLst/>
              <a:rect l="textAreaLeft" t="textAreaTop" r="textAreaRight" b="textAreaBottom"/>
              <a:pathLst>
                <a:path w="2798" h="2073">
                  <a:moveTo>
                    <a:pt x="1741" y="2073"/>
                  </a:moveTo>
                  <a:lnTo>
                    <a:pt x="1081" y="2018"/>
                  </a:lnTo>
                  <a:lnTo>
                    <a:pt x="0" y="1462"/>
                  </a:lnTo>
                  <a:lnTo>
                    <a:pt x="65" y="1356"/>
                  </a:lnTo>
                  <a:lnTo>
                    <a:pt x="76" y="1354"/>
                  </a:lnTo>
                  <a:lnTo>
                    <a:pt x="93" y="1351"/>
                  </a:lnTo>
                  <a:lnTo>
                    <a:pt x="113" y="1347"/>
                  </a:lnTo>
                  <a:lnTo>
                    <a:pt x="135" y="1341"/>
                  </a:lnTo>
                  <a:lnTo>
                    <a:pt x="146" y="1337"/>
                  </a:lnTo>
                  <a:lnTo>
                    <a:pt x="159" y="1331"/>
                  </a:lnTo>
                  <a:lnTo>
                    <a:pt x="172" y="1326"/>
                  </a:lnTo>
                  <a:lnTo>
                    <a:pt x="186" y="1318"/>
                  </a:lnTo>
                  <a:lnTo>
                    <a:pt x="200" y="1310"/>
                  </a:lnTo>
                  <a:lnTo>
                    <a:pt x="215" y="1301"/>
                  </a:lnTo>
                  <a:lnTo>
                    <a:pt x="231" y="1290"/>
                  </a:lnTo>
                  <a:lnTo>
                    <a:pt x="246" y="1279"/>
                  </a:lnTo>
                  <a:lnTo>
                    <a:pt x="217" y="1201"/>
                  </a:lnTo>
                  <a:lnTo>
                    <a:pt x="220" y="1196"/>
                  </a:lnTo>
                  <a:lnTo>
                    <a:pt x="231" y="1183"/>
                  </a:lnTo>
                  <a:lnTo>
                    <a:pt x="247" y="1163"/>
                  </a:lnTo>
                  <a:lnTo>
                    <a:pt x="270" y="1140"/>
                  </a:lnTo>
                  <a:lnTo>
                    <a:pt x="283" y="1127"/>
                  </a:lnTo>
                  <a:lnTo>
                    <a:pt x="298" y="1114"/>
                  </a:lnTo>
                  <a:lnTo>
                    <a:pt x="315" y="1101"/>
                  </a:lnTo>
                  <a:lnTo>
                    <a:pt x="332" y="1088"/>
                  </a:lnTo>
                  <a:lnTo>
                    <a:pt x="351" y="1077"/>
                  </a:lnTo>
                  <a:lnTo>
                    <a:pt x="372" y="1065"/>
                  </a:lnTo>
                  <a:lnTo>
                    <a:pt x="393" y="1055"/>
                  </a:lnTo>
                  <a:lnTo>
                    <a:pt x="415" y="1045"/>
                  </a:lnTo>
                  <a:lnTo>
                    <a:pt x="415" y="1040"/>
                  </a:lnTo>
                  <a:lnTo>
                    <a:pt x="415" y="1035"/>
                  </a:lnTo>
                  <a:lnTo>
                    <a:pt x="417" y="1029"/>
                  </a:lnTo>
                  <a:lnTo>
                    <a:pt x="421" y="1022"/>
                  </a:lnTo>
                  <a:lnTo>
                    <a:pt x="429" y="1007"/>
                  </a:lnTo>
                  <a:lnTo>
                    <a:pt x="443" y="989"/>
                  </a:lnTo>
                  <a:lnTo>
                    <a:pt x="460" y="969"/>
                  </a:lnTo>
                  <a:lnTo>
                    <a:pt x="479" y="948"/>
                  </a:lnTo>
                  <a:lnTo>
                    <a:pt x="500" y="927"/>
                  </a:lnTo>
                  <a:lnTo>
                    <a:pt x="525" y="905"/>
                  </a:lnTo>
                  <a:lnTo>
                    <a:pt x="551" y="882"/>
                  </a:lnTo>
                  <a:lnTo>
                    <a:pt x="576" y="859"/>
                  </a:lnTo>
                  <a:lnTo>
                    <a:pt x="603" y="838"/>
                  </a:lnTo>
                  <a:lnTo>
                    <a:pt x="630" y="817"/>
                  </a:lnTo>
                  <a:lnTo>
                    <a:pt x="656" y="798"/>
                  </a:lnTo>
                  <a:lnTo>
                    <a:pt x="681" y="780"/>
                  </a:lnTo>
                  <a:lnTo>
                    <a:pt x="705" y="765"/>
                  </a:lnTo>
                  <a:lnTo>
                    <a:pt x="727" y="751"/>
                  </a:lnTo>
                  <a:lnTo>
                    <a:pt x="709" y="659"/>
                  </a:lnTo>
                  <a:lnTo>
                    <a:pt x="708" y="656"/>
                  </a:lnTo>
                  <a:lnTo>
                    <a:pt x="706" y="648"/>
                  </a:lnTo>
                  <a:lnTo>
                    <a:pt x="705" y="635"/>
                  </a:lnTo>
                  <a:lnTo>
                    <a:pt x="705" y="616"/>
                  </a:lnTo>
                  <a:lnTo>
                    <a:pt x="706" y="606"/>
                  </a:lnTo>
                  <a:lnTo>
                    <a:pt x="708" y="594"/>
                  </a:lnTo>
                  <a:lnTo>
                    <a:pt x="712" y="581"/>
                  </a:lnTo>
                  <a:lnTo>
                    <a:pt x="716" y="567"/>
                  </a:lnTo>
                  <a:lnTo>
                    <a:pt x="723" y="553"/>
                  </a:lnTo>
                  <a:lnTo>
                    <a:pt x="732" y="537"/>
                  </a:lnTo>
                  <a:lnTo>
                    <a:pt x="742" y="521"/>
                  </a:lnTo>
                  <a:lnTo>
                    <a:pt x="755" y="503"/>
                  </a:lnTo>
                  <a:lnTo>
                    <a:pt x="810" y="437"/>
                  </a:lnTo>
                  <a:lnTo>
                    <a:pt x="860" y="375"/>
                  </a:lnTo>
                  <a:lnTo>
                    <a:pt x="884" y="347"/>
                  </a:lnTo>
                  <a:lnTo>
                    <a:pt x="908" y="320"/>
                  </a:lnTo>
                  <a:lnTo>
                    <a:pt x="920" y="308"/>
                  </a:lnTo>
                  <a:lnTo>
                    <a:pt x="931" y="296"/>
                  </a:lnTo>
                  <a:lnTo>
                    <a:pt x="944" y="285"/>
                  </a:lnTo>
                  <a:lnTo>
                    <a:pt x="957" y="275"/>
                  </a:lnTo>
                  <a:lnTo>
                    <a:pt x="970" y="265"/>
                  </a:lnTo>
                  <a:lnTo>
                    <a:pt x="983" y="257"/>
                  </a:lnTo>
                  <a:lnTo>
                    <a:pt x="996" y="249"/>
                  </a:lnTo>
                  <a:lnTo>
                    <a:pt x="1010" y="242"/>
                  </a:lnTo>
                  <a:lnTo>
                    <a:pt x="1024" y="235"/>
                  </a:lnTo>
                  <a:lnTo>
                    <a:pt x="1039" y="230"/>
                  </a:lnTo>
                  <a:lnTo>
                    <a:pt x="1054" y="225"/>
                  </a:lnTo>
                  <a:lnTo>
                    <a:pt x="1070" y="222"/>
                  </a:lnTo>
                  <a:lnTo>
                    <a:pt x="1087" y="218"/>
                  </a:lnTo>
                  <a:lnTo>
                    <a:pt x="1104" y="217"/>
                  </a:lnTo>
                  <a:lnTo>
                    <a:pt x="1122" y="216"/>
                  </a:lnTo>
                  <a:lnTo>
                    <a:pt x="1141" y="217"/>
                  </a:lnTo>
                  <a:lnTo>
                    <a:pt x="1160" y="218"/>
                  </a:lnTo>
                  <a:lnTo>
                    <a:pt x="1181" y="221"/>
                  </a:lnTo>
                  <a:lnTo>
                    <a:pt x="1202" y="225"/>
                  </a:lnTo>
                  <a:lnTo>
                    <a:pt x="1225" y="230"/>
                  </a:lnTo>
                  <a:lnTo>
                    <a:pt x="1380" y="0"/>
                  </a:lnTo>
                  <a:lnTo>
                    <a:pt x="2798" y="51"/>
                  </a:lnTo>
                  <a:lnTo>
                    <a:pt x="1741" y="207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3" name="Freeform 224"/>
            <p:cNvSpPr/>
            <p:nvPr/>
          </p:nvSpPr>
          <p:spPr>
            <a:xfrm>
              <a:off x="3355560" y="2718360"/>
              <a:ext cx="1100880" cy="480960"/>
            </a:xfrm>
            <a:custGeom>
              <a:avLst/>
              <a:gdLst>
                <a:gd name="textAreaLeft" fmla="*/ 0 w 1100880"/>
                <a:gd name="textAreaRight" fmla="*/ 1101240 w 1100880"/>
                <a:gd name="textAreaTop" fmla="*/ 0 h 480960"/>
                <a:gd name="textAreaBottom" fmla="*/ 481320 h 480960"/>
              </a:gdLst>
              <a:ahLst/>
              <a:rect l="textAreaLeft" t="textAreaTop" r="textAreaRight" b="textAreaBottom"/>
              <a:pathLst>
                <a:path w="2502" h="1059">
                  <a:moveTo>
                    <a:pt x="0" y="1059"/>
                  </a:moveTo>
                  <a:lnTo>
                    <a:pt x="529" y="0"/>
                  </a:lnTo>
                  <a:lnTo>
                    <a:pt x="1871" y="37"/>
                  </a:lnTo>
                  <a:lnTo>
                    <a:pt x="2502" y="43"/>
                  </a:lnTo>
                  <a:lnTo>
                    <a:pt x="2235" y="1057"/>
                  </a:lnTo>
                  <a:lnTo>
                    <a:pt x="0" y="105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4" name="Freeform 225"/>
            <p:cNvSpPr/>
            <p:nvPr/>
          </p:nvSpPr>
          <p:spPr>
            <a:xfrm>
              <a:off x="3360240" y="3306240"/>
              <a:ext cx="2285280" cy="2063160"/>
            </a:xfrm>
            <a:custGeom>
              <a:avLst/>
              <a:gdLst>
                <a:gd name="textAreaLeft" fmla="*/ 0 w 2285280"/>
                <a:gd name="textAreaRight" fmla="*/ 2285640 w 2285280"/>
                <a:gd name="textAreaTop" fmla="*/ 0 h 2063160"/>
                <a:gd name="textAreaBottom" fmla="*/ 2063520 h 2063160"/>
              </a:gdLst>
              <a:ahLst/>
              <a:rect l="textAreaLeft" t="textAreaTop" r="textAreaRight" b="textAreaBottom"/>
              <a:pathLst>
                <a:path w="5200" h="4545">
                  <a:moveTo>
                    <a:pt x="5200" y="2503"/>
                  </a:moveTo>
                  <a:lnTo>
                    <a:pt x="5184" y="1809"/>
                  </a:lnTo>
                  <a:lnTo>
                    <a:pt x="5164" y="1787"/>
                  </a:lnTo>
                  <a:lnTo>
                    <a:pt x="5146" y="1764"/>
                  </a:lnTo>
                  <a:lnTo>
                    <a:pt x="5136" y="1752"/>
                  </a:lnTo>
                  <a:lnTo>
                    <a:pt x="5128" y="1739"/>
                  </a:lnTo>
                  <a:lnTo>
                    <a:pt x="5120" y="1725"/>
                  </a:lnTo>
                  <a:lnTo>
                    <a:pt x="5112" y="1711"/>
                  </a:lnTo>
                  <a:lnTo>
                    <a:pt x="5103" y="1696"/>
                  </a:lnTo>
                  <a:lnTo>
                    <a:pt x="5096" y="1680"/>
                  </a:lnTo>
                  <a:lnTo>
                    <a:pt x="5089" y="1663"/>
                  </a:lnTo>
                  <a:lnTo>
                    <a:pt x="5082" y="1646"/>
                  </a:lnTo>
                  <a:lnTo>
                    <a:pt x="5071" y="1610"/>
                  </a:lnTo>
                  <a:lnTo>
                    <a:pt x="5059" y="1569"/>
                  </a:lnTo>
                  <a:lnTo>
                    <a:pt x="5050" y="1524"/>
                  </a:lnTo>
                  <a:lnTo>
                    <a:pt x="5040" y="1477"/>
                  </a:lnTo>
                  <a:lnTo>
                    <a:pt x="5033" y="1423"/>
                  </a:lnTo>
                  <a:lnTo>
                    <a:pt x="5028" y="1366"/>
                  </a:lnTo>
                  <a:lnTo>
                    <a:pt x="5023" y="1304"/>
                  </a:lnTo>
                  <a:lnTo>
                    <a:pt x="5019" y="1237"/>
                  </a:lnTo>
                  <a:lnTo>
                    <a:pt x="5017" y="1165"/>
                  </a:lnTo>
                  <a:lnTo>
                    <a:pt x="5017" y="1086"/>
                  </a:lnTo>
                  <a:lnTo>
                    <a:pt x="5004" y="1076"/>
                  </a:lnTo>
                  <a:lnTo>
                    <a:pt x="4988" y="1064"/>
                  </a:lnTo>
                  <a:lnTo>
                    <a:pt x="4969" y="1053"/>
                  </a:lnTo>
                  <a:lnTo>
                    <a:pt x="4947" y="1039"/>
                  </a:lnTo>
                  <a:lnTo>
                    <a:pt x="4922" y="1026"/>
                  </a:lnTo>
                  <a:lnTo>
                    <a:pt x="4896" y="1010"/>
                  </a:lnTo>
                  <a:lnTo>
                    <a:pt x="4866" y="996"/>
                  </a:lnTo>
                  <a:lnTo>
                    <a:pt x="4836" y="981"/>
                  </a:lnTo>
                  <a:lnTo>
                    <a:pt x="4769" y="951"/>
                  </a:lnTo>
                  <a:lnTo>
                    <a:pt x="4698" y="921"/>
                  </a:lnTo>
                  <a:lnTo>
                    <a:pt x="4623" y="891"/>
                  </a:lnTo>
                  <a:lnTo>
                    <a:pt x="4547" y="864"/>
                  </a:lnTo>
                  <a:lnTo>
                    <a:pt x="4509" y="852"/>
                  </a:lnTo>
                  <a:lnTo>
                    <a:pt x="4472" y="840"/>
                  </a:lnTo>
                  <a:lnTo>
                    <a:pt x="4434" y="828"/>
                  </a:lnTo>
                  <a:lnTo>
                    <a:pt x="4398" y="819"/>
                  </a:lnTo>
                  <a:lnTo>
                    <a:pt x="4363" y="810"/>
                  </a:lnTo>
                  <a:lnTo>
                    <a:pt x="4329" y="803"/>
                  </a:lnTo>
                  <a:lnTo>
                    <a:pt x="4296" y="797"/>
                  </a:lnTo>
                  <a:lnTo>
                    <a:pt x="4265" y="792"/>
                  </a:lnTo>
                  <a:lnTo>
                    <a:pt x="4236" y="789"/>
                  </a:lnTo>
                  <a:lnTo>
                    <a:pt x="4209" y="787"/>
                  </a:lnTo>
                  <a:lnTo>
                    <a:pt x="4184" y="787"/>
                  </a:lnTo>
                  <a:lnTo>
                    <a:pt x="4162" y="791"/>
                  </a:lnTo>
                  <a:lnTo>
                    <a:pt x="4142" y="794"/>
                  </a:lnTo>
                  <a:lnTo>
                    <a:pt x="4126" y="801"/>
                  </a:lnTo>
                  <a:lnTo>
                    <a:pt x="4113" y="810"/>
                  </a:lnTo>
                  <a:lnTo>
                    <a:pt x="4104" y="821"/>
                  </a:lnTo>
                  <a:lnTo>
                    <a:pt x="4080" y="856"/>
                  </a:lnTo>
                  <a:lnTo>
                    <a:pt x="4059" y="884"/>
                  </a:lnTo>
                  <a:lnTo>
                    <a:pt x="4049" y="896"/>
                  </a:lnTo>
                  <a:lnTo>
                    <a:pt x="4039" y="907"/>
                  </a:lnTo>
                  <a:lnTo>
                    <a:pt x="4031" y="916"/>
                  </a:lnTo>
                  <a:lnTo>
                    <a:pt x="4022" y="923"/>
                  </a:lnTo>
                  <a:lnTo>
                    <a:pt x="4014" y="930"/>
                  </a:lnTo>
                  <a:lnTo>
                    <a:pt x="4007" y="935"/>
                  </a:lnTo>
                  <a:lnTo>
                    <a:pt x="4000" y="939"/>
                  </a:lnTo>
                  <a:lnTo>
                    <a:pt x="3993" y="942"/>
                  </a:lnTo>
                  <a:lnTo>
                    <a:pt x="3986" y="944"/>
                  </a:lnTo>
                  <a:lnTo>
                    <a:pt x="3980" y="945"/>
                  </a:lnTo>
                  <a:lnTo>
                    <a:pt x="3974" y="945"/>
                  </a:lnTo>
                  <a:lnTo>
                    <a:pt x="3968" y="944"/>
                  </a:lnTo>
                  <a:lnTo>
                    <a:pt x="3963" y="943"/>
                  </a:lnTo>
                  <a:lnTo>
                    <a:pt x="3959" y="940"/>
                  </a:lnTo>
                  <a:lnTo>
                    <a:pt x="3954" y="937"/>
                  </a:lnTo>
                  <a:lnTo>
                    <a:pt x="3949" y="933"/>
                  </a:lnTo>
                  <a:lnTo>
                    <a:pt x="3942" y="925"/>
                  </a:lnTo>
                  <a:lnTo>
                    <a:pt x="3937" y="915"/>
                  </a:lnTo>
                  <a:lnTo>
                    <a:pt x="3931" y="903"/>
                  </a:lnTo>
                  <a:lnTo>
                    <a:pt x="3926" y="891"/>
                  </a:lnTo>
                  <a:lnTo>
                    <a:pt x="3922" y="880"/>
                  </a:lnTo>
                  <a:lnTo>
                    <a:pt x="3919" y="868"/>
                  </a:lnTo>
                  <a:lnTo>
                    <a:pt x="3917" y="862"/>
                  </a:lnTo>
                  <a:lnTo>
                    <a:pt x="3913" y="857"/>
                  </a:lnTo>
                  <a:lnTo>
                    <a:pt x="3907" y="854"/>
                  </a:lnTo>
                  <a:lnTo>
                    <a:pt x="3900" y="850"/>
                  </a:lnTo>
                  <a:lnTo>
                    <a:pt x="3893" y="848"/>
                  </a:lnTo>
                  <a:lnTo>
                    <a:pt x="3884" y="847"/>
                  </a:lnTo>
                  <a:lnTo>
                    <a:pt x="3873" y="846"/>
                  </a:lnTo>
                  <a:lnTo>
                    <a:pt x="3862" y="845"/>
                  </a:lnTo>
                  <a:lnTo>
                    <a:pt x="3837" y="845"/>
                  </a:lnTo>
                  <a:lnTo>
                    <a:pt x="3808" y="847"/>
                  </a:lnTo>
                  <a:lnTo>
                    <a:pt x="3778" y="850"/>
                  </a:lnTo>
                  <a:lnTo>
                    <a:pt x="3746" y="854"/>
                  </a:lnTo>
                  <a:lnTo>
                    <a:pt x="3680" y="863"/>
                  </a:lnTo>
                  <a:lnTo>
                    <a:pt x="3615" y="870"/>
                  </a:lnTo>
                  <a:lnTo>
                    <a:pt x="3586" y="873"/>
                  </a:lnTo>
                  <a:lnTo>
                    <a:pt x="3559" y="873"/>
                  </a:lnTo>
                  <a:lnTo>
                    <a:pt x="3546" y="873"/>
                  </a:lnTo>
                  <a:lnTo>
                    <a:pt x="3536" y="871"/>
                  </a:lnTo>
                  <a:lnTo>
                    <a:pt x="3525" y="870"/>
                  </a:lnTo>
                  <a:lnTo>
                    <a:pt x="3516" y="868"/>
                  </a:lnTo>
                  <a:lnTo>
                    <a:pt x="3500" y="861"/>
                  </a:lnTo>
                  <a:lnTo>
                    <a:pt x="3483" y="853"/>
                  </a:lnTo>
                  <a:lnTo>
                    <a:pt x="3467" y="845"/>
                  </a:lnTo>
                  <a:lnTo>
                    <a:pt x="3453" y="835"/>
                  </a:lnTo>
                  <a:lnTo>
                    <a:pt x="3439" y="825"/>
                  </a:lnTo>
                  <a:lnTo>
                    <a:pt x="3426" y="814"/>
                  </a:lnTo>
                  <a:lnTo>
                    <a:pt x="3414" y="804"/>
                  </a:lnTo>
                  <a:lnTo>
                    <a:pt x="3404" y="793"/>
                  </a:lnTo>
                  <a:lnTo>
                    <a:pt x="3372" y="758"/>
                  </a:lnTo>
                  <a:lnTo>
                    <a:pt x="3361" y="743"/>
                  </a:lnTo>
                  <a:lnTo>
                    <a:pt x="3356" y="748"/>
                  </a:lnTo>
                  <a:lnTo>
                    <a:pt x="3344" y="759"/>
                  </a:lnTo>
                  <a:lnTo>
                    <a:pt x="3335" y="766"/>
                  </a:lnTo>
                  <a:lnTo>
                    <a:pt x="3324" y="775"/>
                  </a:lnTo>
                  <a:lnTo>
                    <a:pt x="3313" y="783"/>
                  </a:lnTo>
                  <a:lnTo>
                    <a:pt x="3299" y="791"/>
                  </a:lnTo>
                  <a:lnTo>
                    <a:pt x="3284" y="799"/>
                  </a:lnTo>
                  <a:lnTo>
                    <a:pt x="3267" y="805"/>
                  </a:lnTo>
                  <a:lnTo>
                    <a:pt x="3250" y="811"/>
                  </a:lnTo>
                  <a:lnTo>
                    <a:pt x="3231" y="814"/>
                  </a:lnTo>
                  <a:lnTo>
                    <a:pt x="3220" y="815"/>
                  </a:lnTo>
                  <a:lnTo>
                    <a:pt x="3210" y="815"/>
                  </a:lnTo>
                  <a:lnTo>
                    <a:pt x="3201" y="815"/>
                  </a:lnTo>
                  <a:lnTo>
                    <a:pt x="3189" y="814"/>
                  </a:lnTo>
                  <a:lnTo>
                    <a:pt x="3178" y="813"/>
                  </a:lnTo>
                  <a:lnTo>
                    <a:pt x="3168" y="811"/>
                  </a:lnTo>
                  <a:lnTo>
                    <a:pt x="3156" y="808"/>
                  </a:lnTo>
                  <a:lnTo>
                    <a:pt x="3145" y="804"/>
                  </a:lnTo>
                  <a:lnTo>
                    <a:pt x="3122" y="794"/>
                  </a:lnTo>
                  <a:lnTo>
                    <a:pt x="3100" y="784"/>
                  </a:lnTo>
                  <a:lnTo>
                    <a:pt x="3079" y="771"/>
                  </a:lnTo>
                  <a:lnTo>
                    <a:pt x="3058" y="758"/>
                  </a:lnTo>
                  <a:lnTo>
                    <a:pt x="3016" y="730"/>
                  </a:lnTo>
                  <a:lnTo>
                    <a:pt x="2972" y="702"/>
                  </a:lnTo>
                  <a:lnTo>
                    <a:pt x="2947" y="688"/>
                  </a:lnTo>
                  <a:lnTo>
                    <a:pt x="2923" y="675"/>
                  </a:lnTo>
                  <a:lnTo>
                    <a:pt x="2896" y="665"/>
                  </a:lnTo>
                  <a:lnTo>
                    <a:pt x="2867" y="654"/>
                  </a:lnTo>
                  <a:lnTo>
                    <a:pt x="2851" y="650"/>
                  </a:lnTo>
                  <a:lnTo>
                    <a:pt x="2836" y="646"/>
                  </a:lnTo>
                  <a:lnTo>
                    <a:pt x="2820" y="643"/>
                  </a:lnTo>
                  <a:lnTo>
                    <a:pt x="2802" y="639"/>
                  </a:lnTo>
                  <a:lnTo>
                    <a:pt x="2785" y="637"/>
                  </a:lnTo>
                  <a:lnTo>
                    <a:pt x="2766" y="636"/>
                  </a:lnTo>
                  <a:lnTo>
                    <a:pt x="2747" y="634"/>
                  </a:lnTo>
                  <a:lnTo>
                    <a:pt x="2726" y="634"/>
                  </a:lnTo>
                  <a:lnTo>
                    <a:pt x="2759" y="47"/>
                  </a:lnTo>
                  <a:lnTo>
                    <a:pt x="1857" y="0"/>
                  </a:lnTo>
                  <a:lnTo>
                    <a:pt x="1399" y="1533"/>
                  </a:lnTo>
                  <a:lnTo>
                    <a:pt x="8" y="1501"/>
                  </a:lnTo>
                  <a:lnTo>
                    <a:pt x="0" y="1668"/>
                  </a:lnTo>
                  <a:lnTo>
                    <a:pt x="503" y="2350"/>
                  </a:lnTo>
                  <a:lnTo>
                    <a:pt x="472" y="2566"/>
                  </a:lnTo>
                  <a:lnTo>
                    <a:pt x="904" y="3030"/>
                  </a:lnTo>
                  <a:lnTo>
                    <a:pt x="1091" y="2938"/>
                  </a:lnTo>
                  <a:lnTo>
                    <a:pt x="1307" y="2598"/>
                  </a:lnTo>
                  <a:lnTo>
                    <a:pt x="1318" y="2597"/>
                  </a:lnTo>
                  <a:lnTo>
                    <a:pt x="1348" y="2593"/>
                  </a:lnTo>
                  <a:lnTo>
                    <a:pt x="1392" y="2589"/>
                  </a:lnTo>
                  <a:lnTo>
                    <a:pt x="1446" y="2583"/>
                  </a:lnTo>
                  <a:lnTo>
                    <a:pt x="1507" y="2577"/>
                  </a:lnTo>
                  <a:lnTo>
                    <a:pt x="1569" y="2572"/>
                  </a:lnTo>
                  <a:lnTo>
                    <a:pt x="1627" y="2568"/>
                  </a:lnTo>
                  <a:lnTo>
                    <a:pt x="1679" y="2566"/>
                  </a:lnTo>
                  <a:lnTo>
                    <a:pt x="1725" y="2568"/>
                  </a:lnTo>
                  <a:lnTo>
                    <a:pt x="1773" y="2570"/>
                  </a:lnTo>
                  <a:lnTo>
                    <a:pt x="1798" y="2572"/>
                  </a:lnTo>
                  <a:lnTo>
                    <a:pt x="1821" y="2577"/>
                  </a:lnTo>
                  <a:lnTo>
                    <a:pt x="1844" y="2582"/>
                  </a:lnTo>
                  <a:lnTo>
                    <a:pt x="1867" y="2590"/>
                  </a:lnTo>
                  <a:lnTo>
                    <a:pt x="1877" y="2594"/>
                  </a:lnTo>
                  <a:lnTo>
                    <a:pt x="1888" y="2599"/>
                  </a:lnTo>
                  <a:lnTo>
                    <a:pt x="1897" y="2605"/>
                  </a:lnTo>
                  <a:lnTo>
                    <a:pt x="1907" y="2612"/>
                  </a:lnTo>
                  <a:lnTo>
                    <a:pt x="1917" y="2619"/>
                  </a:lnTo>
                  <a:lnTo>
                    <a:pt x="1925" y="2627"/>
                  </a:lnTo>
                  <a:lnTo>
                    <a:pt x="1934" y="2635"/>
                  </a:lnTo>
                  <a:lnTo>
                    <a:pt x="1943" y="2645"/>
                  </a:lnTo>
                  <a:lnTo>
                    <a:pt x="1950" y="2655"/>
                  </a:lnTo>
                  <a:lnTo>
                    <a:pt x="1957" y="2666"/>
                  </a:lnTo>
                  <a:lnTo>
                    <a:pt x="1964" y="2677"/>
                  </a:lnTo>
                  <a:lnTo>
                    <a:pt x="1969" y="2690"/>
                  </a:lnTo>
                  <a:lnTo>
                    <a:pt x="1974" y="2704"/>
                  </a:lnTo>
                  <a:lnTo>
                    <a:pt x="1980" y="2718"/>
                  </a:lnTo>
                  <a:lnTo>
                    <a:pt x="1983" y="2735"/>
                  </a:lnTo>
                  <a:lnTo>
                    <a:pt x="1987" y="2751"/>
                  </a:lnTo>
                  <a:lnTo>
                    <a:pt x="1993" y="2788"/>
                  </a:lnTo>
                  <a:lnTo>
                    <a:pt x="1997" y="2830"/>
                  </a:lnTo>
                  <a:lnTo>
                    <a:pt x="2004" y="2876"/>
                  </a:lnTo>
                  <a:lnTo>
                    <a:pt x="2011" y="2926"/>
                  </a:lnTo>
                  <a:lnTo>
                    <a:pt x="2021" y="2977"/>
                  </a:lnTo>
                  <a:lnTo>
                    <a:pt x="2034" y="3032"/>
                  </a:lnTo>
                  <a:lnTo>
                    <a:pt x="2041" y="3060"/>
                  </a:lnTo>
                  <a:lnTo>
                    <a:pt x="2049" y="3088"/>
                  </a:lnTo>
                  <a:lnTo>
                    <a:pt x="2058" y="3116"/>
                  </a:lnTo>
                  <a:lnTo>
                    <a:pt x="2069" y="3146"/>
                  </a:lnTo>
                  <a:lnTo>
                    <a:pt x="2080" y="3175"/>
                  </a:lnTo>
                  <a:lnTo>
                    <a:pt x="2092" y="3204"/>
                  </a:lnTo>
                  <a:lnTo>
                    <a:pt x="2107" y="3233"/>
                  </a:lnTo>
                  <a:lnTo>
                    <a:pt x="2122" y="3263"/>
                  </a:lnTo>
                  <a:lnTo>
                    <a:pt x="2139" y="3292"/>
                  </a:lnTo>
                  <a:lnTo>
                    <a:pt x="2157" y="3321"/>
                  </a:lnTo>
                  <a:lnTo>
                    <a:pt x="2178" y="3349"/>
                  </a:lnTo>
                  <a:lnTo>
                    <a:pt x="2201" y="3377"/>
                  </a:lnTo>
                  <a:lnTo>
                    <a:pt x="2224" y="3405"/>
                  </a:lnTo>
                  <a:lnTo>
                    <a:pt x="2250" y="3433"/>
                  </a:lnTo>
                  <a:lnTo>
                    <a:pt x="2278" y="3460"/>
                  </a:lnTo>
                  <a:lnTo>
                    <a:pt x="2308" y="3487"/>
                  </a:lnTo>
                  <a:lnTo>
                    <a:pt x="2340" y="3512"/>
                  </a:lnTo>
                  <a:lnTo>
                    <a:pt x="2375" y="3538"/>
                  </a:lnTo>
                  <a:lnTo>
                    <a:pt x="2411" y="3563"/>
                  </a:lnTo>
                  <a:lnTo>
                    <a:pt x="2451" y="3586"/>
                  </a:lnTo>
                  <a:lnTo>
                    <a:pt x="2606" y="4050"/>
                  </a:lnTo>
                  <a:lnTo>
                    <a:pt x="3099" y="4545"/>
                  </a:lnTo>
                  <a:lnTo>
                    <a:pt x="3563" y="4545"/>
                  </a:lnTo>
                  <a:lnTo>
                    <a:pt x="3562" y="4528"/>
                  </a:lnTo>
                  <a:lnTo>
                    <a:pt x="3562" y="4478"/>
                  </a:lnTo>
                  <a:lnTo>
                    <a:pt x="3560" y="4406"/>
                  </a:lnTo>
                  <a:lnTo>
                    <a:pt x="3558" y="4316"/>
                  </a:lnTo>
                  <a:lnTo>
                    <a:pt x="3555" y="4217"/>
                  </a:lnTo>
                  <a:lnTo>
                    <a:pt x="3549" y="4114"/>
                  </a:lnTo>
                  <a:lnTo>
                    <a:pt x="3545" y="4064"/>
                  </a:lnTo>
                  <a:lnTo>
                    <a:pt x="3541" y="4015"/>
                  </a:lnTo>
                  <a:lnTo>
                    <a:pt x="3536" y="3969"/>
                  </a:lnTo>
                  <a:lnTo>
                    <a:pt x="3530" y="3926"/>
                  </a:lnTo>
                  <a:lnTo>
                    <a:pt x="3529" y="3905"/>
                  </a:lnTo>
                  <a:lnTo>
                    <a:pt x="3530" y="3883"/>
                  </a:lnTo>
                  <a:lnTo>
                    <a:pt x="3534" y="3861"/>
                  </a:lnTo>
                  <a:lnTo>
                    <a:pt x="3538" y="3836"/>
                  </a:lnTo>
                  <a:lnTo>
                    <a:pt x="3546" y="3811"/>
                  </a:lnTo>
                  <a:lnTo>
                    <a:pt x="3555" y="3786"/>
                  </a:lnTo>
                  <a:lnTo>
                    <a:pt x="3566" y="3759"/>
                  </a:lnTo>
                  <a:lnTo>
                    <a:pt x="3579" y="3732"/>
                  </a:lnTo>
                  <a:lnTo>
                    <a:pt x="3593" y="3705"/>
                  </a:lnTo>
                  <a:lnTo>
                    <a:pt x="3608" y="3677"/>
                  </a:lnTo>
                  <a:lnTo>
                    <a:pt x="3626" y="3649"/>
                  </a:lnTo>
                  <a:lnTo>
                    <a:pt x="3643" y="3621"/>
                  </a:lnTo>
                  <a:lnTo>
                    <a:pt x="3663" y="3593"/>
                  </a:lnTo>
                  <a:lnTo>
                    <a:pt x="3683" y="3565"/>
                  </a:lnTo>
                  <a:lnTo>
                    <a:pt x="3703" y="3537"/>
                  </a:lnTo>
                  <a:lnTo>
                    <a:pt x="3725" y="3509"/>
                  </a:lnTo>
                  <a:lnTo>
                    <a:pt x="3747" y="3482"/>
                  </a:lnTo>
                  <a:lnTo>
                    <a:pt x="3769" y="3455"/>
                  </a:lnTo>
                  <a:lnTo>
                    <a:pt x="3792" y="3430"/>
                  </a:lnTo>
                  <a:lnTo>
                    <a:pt x="3815" y="3404"/>
                  </a:lnTo>
                  <a:lnTo>
                    <a:pt x="3861" y="3355"/>
                  </a:lnTo>
                  <a:lnTo>
                    <a:pt x="3905" y="3310"/>
                  </a:lnTo>
                  <a:lnTo>
                    <a:pt x="3948" y="3270"/>
                  </a:lnTo>
                  <a:lnTo>
                    <a:pt x="3989" y="3236"/>
                  </a:lnTo>
                  <a:lnTo>
                    <a:pt x="4008" y="3220"/>
                  </a:lnTo>
                  <a:lnTo>
                    <a:pt x="4025" y="3206"/>
                  </a:lnTo>
                  <a:lnTo>
                    <a:pt x="4043" y="3196"/>
                  </a:lnTo>
                  <a:lnTo>
                    <a:pt x="4058" y="3185"/>
                  </a:lnTo>
                  <a:lnTo>
                    <a:pt x="4092" y="3167"/>
                  </a:lnTo>
                  <a:lnTo>
                    <a:pt x="4137" y="3145"/>
                  </a:lnTo>
                  <a:lnTo>
                    <a:pt x="4190" y="3119"/>
                  </a:lnTo>
                  <a:lnTo>
                    <a:pt x="4250" y="3092"/>
                  </a:lnTo>
                  <a:lnTo>
                    <a:pt x="4313" y="3063"/>
                  </a:lnTo>
                  <a:lnTo>
                    <a:pt x="4379" y="3034"/>
                  </a:lnTo>
                  <a:lnTo>
                    <a:pt x="4446" y="3002"/>
                  </a:lnTo>
                  <a:lnTo>
                    <a:pt x="4511" y="2970"/>
                  </a:lnTo>
                  <a:lnTo>
                    <a:pt x="4574" y="2939"/>
                  </a:lnTo>
                  <a:lnTo>
                    <a:pt x="4632" y="2907"/>
                  </a:lnTo>
                  <a:lnTo>
                    <a:pt x="4658" y="2892"/>
                  </a:lnTo>
                  <a:lnTo>
                    <a:pt x="4683" y="2877"/>
                  </a:lnTo>
                  <a:lnTo>
                    <a:pt x="4705" y="2863"/>
                  </a:lnTo>
                  <a:lnTo>
                    <a:pt x="4725" y="2848"/>
                  </a:lnTo>
                  <a:lnTo>
                    <a:pt x="4741" y="2834"/>
                  </a:lnTo>
                  <a:lnTo>
                    <a:pt x="4757" y="2821"/>
                  </a:lnTo>
                  <a:lnTo>
                    <a:pt x="4767" y="2807"/>
                  </a:lnTo>
                  <a:lnTo>
                    <a:pt x="4775" y="2795"/>
                  </a:lnTo>
                  <a:lnTo>
                    <a:pt x="4780" y="2782"/>
                  </a:lnTo>
                  <a:lnTo>
                    <a:pt x="4780" y="2772"/>
                  </a:lnTo>
                  <a:lnTo>
                    <a:pt x="4776" y="2761"/>
                  </a:lnTo>
                  <a:lnTo>
                    <a:pt x="4769" y="2751"/>
                  </a:lnTo>
                  <a:lnTo>
                    <a:pt x="4741" y="2725"/>
                  </a:lnTo>
                  <a:lnTo>
                    <a:pt x="4718" y="2699"/>
                  </a:lnTo>
                  <a:lnTo>
                    <a:pt x="4698" y="2676"/>
                  </a:lnTo>
                  <a:lnTo>
                    <a:pt x="4682" y="2654"/>
                  </a:lnTo>
                  <a:lnTo>
                    <a:pt x="4669" y="2633"/>
                  </a:lnTo>
                  <a:lnTo>
                    <a:pt x="4658" y="2613"/>
                  </a:lnTo>
                  <a:lnTo>
                    <a:pt x="4651" y="2594"/>
                  </a:lnTo>
                  <a:lnTo>
                    <a:pt x="4647" y="2578"/>
                  </a:lnTo>
                  <a:lnTo>
                    <a:pt x="4644" y="2562"/>
                  </a:lnTo>
                  <a:lnTo>
                    <a:pt x="4644" y="2548"/>
                  </a:lnTo>
                  <a:lnTo>
                    <a:pt x="4648" y="2536"/>
                  </a:lnTo>
                  <a:lnTo>
                    <a:pt x="4653" y="2524"/>
                  </a:lnTo>
                  <a:lnTo>
                    <a:pt x="4660" y="2515"/>
                  </a:lnTo>
                  <a:lnTo>
                    <a:pt x="4669" y="2508"/>
                  </a:lnTo>
                  <a:lnTo>
                    <a:pt x="4679" y="2501"/>
                  </a:lnTo>
                  <a:lnTo>
                    <a:pt x="4691" y="2497"/>
                  </a:lnTo>
                  <a:lnTo>
                    <a:pt x="4705" y="2495"/>
                  </a:lnTo>
                  <a:lnTo>
                    <a:pt x="4720" y="2494"/>
                  </a:lnTo>
                  <a:lnTo>
                    <a:pt x="4736" y="2495"/>
                  </a:lnTo>
                  <a:lnTo>
                    <a:pt x="4753" y="2497"/>
                  </a:lnTo>
                  <a:lnTo>
                    <a:pt x="4771" y="2502"/>
                  </a:lnTo>
                  <a:lnTo>
                    <a:pt x="4789" y="2509"/>
                  </a:lnTo>
                  <a:lnTo>
                    <a:pt x="4809" y="2518"/>
                  </a:lnTo>
                  <a:lnTo>
                    <a:pt x="4829" y="2529"/>
                  </a:lnTo>
                  <a:lnTo>
                    <a:pt x="4849" y="2542"/>
                  </a:lnTo>
                  <a:lnTo>
                    <a:pt x="4869" y="2556"/>
                  </a:lnTo>
                  <a:lnTo>
                    <a:pt x="4890" y="2573"/>
                  </a:lnTo>
                  <a:lnTo>
                    <a:pt x="4910" y="2592"/>
                  </a:lnTo>
                  <a:lnTo>
                    <a:pt x="4929" y="2613"/>
                  </a:lnTo>
                  <a:lnTo>
                    <a:pt x="4948" y="2636"/>
                  </a:lnTo>
                  <a:lnTo>
                    <a:pt x="4967" y="2662"/>
                  </a:lnTo>
                  <a:lnTo>
                    <a:pt x="4985" y="2690"/>
                  </a:lnTo>
                  <a:lnTo>
                    <a:pt x="5200" y="250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5" name="Freeform 226"/>
            <p:cNvSpPr/>
            <p:nvPr/>
          </p:nvSpPr>
          <p:spPr>
            <a:xfrm>
              <a:off x="4338000" y="2818080"/>
              <a:ext cx="1008360" cy="383400"/>
            </a:xfrm>
            <a:custGeom>
              <a:avLst/>
              <a:gdLst>
                <a:gd name="textAreaLeft" fmla="*/ 0 w 1008360"/>
                <a:gd name="textAreaRight" fmla="*/ 1008720 w 1008360"/>
                <a:gd name="textAreaTop" fmla="*/ 0 h 383400"/>
                <a:gd name="textAreaBottom" fmla="*/ 383760 h 383400"/>
              </a:gdLst>
              <a:ahLst/>
              <a:rect l="textAreaLeft" t="textAreaTop" r="textAreaRight" b="textAreaBottom"/>
              <a:pathLst>
                <a:path w="2293" h="847">
                  <a:moveTo>
                    <a:pt x="2293" y="224"/>
                  </a:moveTo>
                  <a:lnTo>
                    <a:pt x="2289" y="847"/>
                  </a:lnTo>
                  <a:lnTo>
                    <a:pt x="0" y="845"/>
                  </a:lnTo>
                  <a:lnTo>
                    <a:pt x="222" y="0"/>
                  </a:lnTo>
                  <a:lnTo>
                    <a:pt x="1998" y="4"/>
                  </a:lnTo>
                  <a:lnTo>
                    <a:pt x="2007" y="21"/>
                  </a:lnTo>
                  <a:lnTo>
                    <a:pt x="2014" y="36"/>
                  </a:lnTo>
                  <a:lnTo>
                    <a:pt x="2021" y="47"/>
                  </a:lnTo>
                  <a:lnTo>
                    <a:pt x="2028" y="54"/>
                  </a:lnTo>
                  <a:lnTo>
                    <a:pt x="2031" y="57"/>
                  </a:lnTo>
                  <a:lnTo>
                    <a:pt x="2036" y="59"/>
                  </a:lnTo>
                  <a:lnTo>
                    <a:pt x="2039" y="60"/>
                  </a:lnTo>
                  <a:lnTo>
                    <a:pt x="2044" y="61"/>
                  </a:lnTo>
                  <a:lnTo>
                    <a:pt x="2054" y="61"/>
                  </a:lnTo>
                  <a:lnTo>
                    <a:pt x="2067" y="57"/>
                  </a:lnTo>
                  <a:lnTo>
                    <a:pt x="2095" y="54"/>
                  </a:lnTo>
                  <a:lnTo>
                    <a:pt x="2122" y="50"/>
                  </a:lnTo>
                  <a:lnTo>
                    <a:pt x="2134" y="50"/>
                  </a:lnTo>
                  <a:lnTo>
                    <a:pt x="2144" y="52"/>
                  </a:lnTo>
                  <a:lnTo>
                    <a:pt x="2154" y="53"/>
                  </a:lnTo>
                  <a:lnTo>
                    <a:pt x="2163" y="55"/>
                  </a:lnTo>
                  <a:lnTo>
                    <a:pt x="2170" y="59"/>
                  </a:lnTo>
                  <a:lnTo>
                    <a:pt x="2177" y="63"/>
                  </a:lnTo>
                  <a:lnTo>
                    <a:pt x="2182" y="69"/>
                  </a:lnTo>
                  <a:lnTo>
                    <a:pt x="2185" y="76"/>
                  </a:lnTo>
                  <a:lnTo>
                    <a:pt x="2188" y="85"/>
                  </a:lnTo>
                  <a:lnTo>
                    <a:pt x="2188" y="96"/>
                  </a:lnTo>
                  <a:lnTo>
                    <a:pt x="2186" y="108"/>
                  </a:lnTo>
                  <a:lnTo>
                    <a:pt x="2183" y="122"/>
                  </a:lnTo>
                  <a:lnTo>
                    <a:pt x="2182" y="125"/>
                  </a:lnTo>
                  <a:lnTo>
                    <a:pt x="2182" y="130"/>
                  </a:lnTo>
                  <a:lnTo>
                    <a:pt x="2183" y="133"/>
                  </a:lnTo>
                  <a:lnTo>
                    <a:pt x="2184" y="137"/>
                  </a:lnTo>
                  <a:lnTo>
                    <a:pt x="2189" y="145"/>
                  </a:lnTo>
                  <a:lnTo>
                    <a:pt x="2196" y="151"/>
                  </a:lnTo>
                  <a:lnTo>
                    <a:pt x="2205" y="158"/>
                  </a:lnTo>
                  <a:lnTo>
                    <a:pt x="2214" y="164"/>
                  </a:lnTo>
                  <a:lnTo>
                    <a:pt x="2226" y="170"/>
                  </a:lnTo>
                  <a:lnTo>
                    <a:pt x="2238" y="175"/>
                  </a:lnTo>
                  <a:lnTo>
                    <a:pt x="2260" y="187"/>
                  </a:lnTo>
                  <a:lnTo>
                    <a:pt x="2279" y="199"/>
                  </a:lnTo>
                  <a:lnTo>
                    <a:pt x="2286" y="205"/>
                  </a:lnTo>
                  <a:lnTo>
                    <a:pt x="2292" y="210"/>
                  </a:lnTo>
                  <a:lnTo>
                    <a:pt x="2293" y="214"/>
                  </a:lnTo>
                  <a:lnTo>
                    <a:pt x="2293" y="217"/>
                  </a:lnTo>
                  <a:lnTo>
                    <a:pt x="2293" y="221"/>
                  </a:lnTo>
                  <a:lnTo>
                    <a:pt x="2293" y="224"/>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6" name="Freeform 227"/>
            <p:cNvSpPr/>
            <p:nvPr/>
          </p:nvSpPr>
          <p:spPr>
            <a:xfrm>
              <a:off x="5458680" y="2121120"/>
              <a:ext cx="643680" cy="397080"/>
            </a:xfrm>
            <a:custGeom>
              <a:avLst/>
              <a:gdLst>
                <a:gd name="textAreaLeft" fmla="*/ 0 w 643680"/>
                <a:gd name="textAreaRight" fmla="*/ 644040 w 643680"/>
                <a:gd name="textAreaTop" fmla="*/ 0 h 397080"/>
                <a:gd name="textAreaBottom" fmla="*/ 397440 h 397080"/>
              </a:gdLst>
              <a:ahLst/>
              <a:rect l="textAreaLeft" t="textAreaTop" r="textAreaRight" b="textAreaBottom"/>
              <a:pathLst>
                <a:path w="1469" h="876">
                  <a:moveTo>
                    <a:pt x="781" y="876"/>
                  </a:moveTo>
                  <a:lnTo>
                    <a:pt x="761" y="875"/>
                  </a:lnTo>
                  <a:lnTo>
                    <a:pt x="741" y="872"/>
                  </a:lnTo>
                  <a:lnTo>
                    <a:pt x="720" y="867"/>
                  </a:lnTo>
                  <a:lnTo>
                    <a:pt x="699" y="860"/>
                  </a:lnTo>
                  <a:lnTo>
                    <a:pt x="677" y="851"/>
                  </a:lnTo>
                  <a:lnTo>
                    <a:pt x="656" y="840"/>
                  </a:lnTo>
                  <a:lnTo>
                    <a:pt x="633" y="827"/>
                  </a:lnTo>
                  <a:lnTo>
                    <a:pt x="612" y="814"/>
                  </a:lnTo>
                  <a:lnTo>
                    <a:pt x="592" y="799"/>
                  </a:lnTo>
                  <a:lnTo>
                    <a:pt x="573" y="783"/>
                  </a:lnTo>
                  <a:lnTo>
                    <a:pt x="555" y="767"/>
                  </a:lnTo>
                  <a:lnTo>
                    <a:pt x="538" y="749"/>
                  </a:lnTo>
                  <a:lnTo>
                    <a:pt x="522" y="730"/>
                  </a:lnTo>
                  <a:lnTo>
                    <a:pt x="508" y="712"/>
                  </a:lnTo>
                  <a:lnTo>
                    <a:pt x="497" y="693"/>
                  </a:lnTo>
                  <a:lnTo>
                    <a:pt x="486" y="674"/>
                  </a:lnTo>
                  <a:lnTo>
                    <a:pt x="486" y="670"/>
                  </a:lnTo>
                  <a:lnTo>
                    <a:pt x="484" y="656"/>
                  </a:lnTo>
                  <a:lnTo>
                    <a:pt x="481" y="646"/>
                  </a:lnTo>
                  <a:lnTo>
                    <a:pt x="478" y="636"/>
                  </a:lnTo>
                  <a:lnTo>
                    <a:pt x="473" y="625"/>
                  </a:lnTo>
                  <a:lnTo>
                    <a:pt x="467" y="612"/>
                  </a:lnTo>
                  <a:lnTo>
                    <a:pt x="459" y="601"/>
                  </a:lnTo>
                  <a:lnTo>
                    <a:pt x="450" y="588"/>
                  </a:lnTo>
                  <a:lnTo>
                    <a:pt x="439" y="575"/>
                  </a:lnTo>
                  <a:lnTo>
                    <a:pt x="425" y="563"/>
                  </a:lnTo>
                  <a:lnTo>
                    <a:pt x="410" y="553"/>
                  </a:lnTo>
                  <a:lnTo>
                    <a:pt x="393" y="542"/>
                  </a:lnTo>
                  <a:lnTo>
                    <a:pt x="382" y="539"/>
                  </a:lnTo>
                  <a:lnTo>
                    <a:pt x="372" y="534"/>
                  </a:lnTo>
                  <a:lnTo>
                    <a:pt x="360" y="531"/>
                  </a:lnTo>
                  <a:lnTo>
                    <a:pt x="348" y="527"/>
                  </a:lnTo>
                  <a:lnTo>
                    <a:pt x="299" y="515"/>
                  </a:lnTo>
                  <a:lnTo>
                    <a:pt x="251" y="501"/>
                  </a:lnTo>
                  <a:lnTo>
                    <a:pt x="228" y="494"/>
                  </a:lnTo>
                  <a:lnTo>
                    <a:pt x="206" y="487"/>
                  </a:lnTo>
                  <a:lnTo>
                    <a:pt x="185" y="479"/>
                  </a:lnTo>
                  <a:lnTo>
                    <a:pt x="166" y="471"/>
                  </a:lnTo>
                  <a:lnTo>
                    <a:pt x="147" y="462"/>
                  </a:lnTo>
                  <a:lnTo>
                    <a:pt x="131" y="452"/>
                  </a:lnTo>
                  <a:lnTo>
                    <a:pt x="116" y="443"/>
                  </a:lnTo>
                  <a:lnTo>
                    <a:pt x="102" y="431"/>
                  </a:lnTo>
                  <a:lnTo>
                    <a:pt x="91" y="420"/>
                  </a:lnTo>
                  <a:lnTo>
                    <a:pt x="82" y="408"/>
                  </a:lnTo>
                  <a:lnTo>
                    <a:pt x="78" y="401"/>
                  </a:lnTo>
                  <a:lnTo>
                    <a:pt x="76" y="395"/>
                  </a:lnTo>
                  <a:lnTo>
                    <a:pt x="74" y="388"/>
                  </a:lnTo>
                  <a:lnTo>
                    <a:pt x="71" y="380"/>
                  </a:lnTo>
                  <a:lnTo>
                    <a:pt x="68" y="346"/>
                  </a:lnTo>
                  <a:lnTo>
                    <a:pt x="63" y="313"/>
                  </a:lnTo>
                  <a:lnTo>
                    <a:pt x="61" y="305"/>
                  </a:lnTo>
                  <a:lnTo>
                    <a:pt x="57" y="297"/>
                  </a:lnTo>
                  <a:lnTo>
                    <a:pt x="53" y="290"/>
                  </a:lnTo>
                  <a:lnTo>
                    <a:pt x="46" y="283"/>
                  </a:lnTo>
                  <a:lnTo>
                    <a:pt x="38" y="276"/>
                  </a:lnTo>
                  <a:lnTo>
                    <a:pt x="27" y="269"/>
                  </a:lnTo>
                  <a:lnTo>
                    <a:pt x="14" y="263"/>
                  </a:lnTo>
                  <a:lnTo>
                    <a:pt x="0" y="256"/>
                  </a:lnTo>
                  <a:lnTo>
                    <a:pt x="11" y="253"/>
                  </a:lnTo>
                  <a:lnTo>
                    <a:pt x="24" y="247"/>
                  </a:lnTo>
                  <a:lnTo>
                    <a:pt x="38" y="237"/>
                  </a:lnTo>
                  <a:lnTo>
                    <a:pt x="53" y="227"/>
                  </a:lnTo>
                  <a:lnTo>
                    <a:pt x="69" y="215"/>
                  </a:lnTo>
                  <a:lnTo>
                    <a:pt x="87" y="201"/>
                  </a:lnTo>
                  <a:lnTo>
                    <a:pt x="104" y="186"/>
                  </a:lnTo>
                  <a:lnTo>
                    <a:pt x="122" y="168"/>
                  </a:lnTo>
                  <a:lnTo>
                    <a:pt x="140" y="150"/>
                  </a:lnTo>
                  <a:lnTo>
                    <a:pt x="158" y="131"/>
                  </a:lnTo>
                  <a:lnTo>
                    <a:pt x="174" y="110"/>
                  </a:lnTo>
                  <a:lnTo>
                    <a:pt x="191" y="89"/>
                  </a:lnTo>
                  <a:lnTo>
                    <a:pt x="206" y="68"/>
                  </a:lnTo>
                  <a:lnTo>
                    <a:pt x="221" y="46"/>
                  </a:lnTo>
                  <a:lnTo>
                    <a:pt x="234" y="22"/>
                  </a:lnTo>
                  <a:lnTo>
                    <a:pt x="244" y="0"/>
                  </a:lnTo>
                  <a:lnTo>
                    <a:pt x="564" y="0"/>
                  </a:lnTo>
                  <a:lnTo>
                    <a:pt x="589" y="24"/>
                  </a:lnTo>
                  <a:lnTo>
                    <a:pt x="613" y="44"/>
                  </a:lnTo>
                  <a:lnTo>
                    <a:pt x="638" y="62"/>
                  </a:lnTo>
                  <a:lnTo>
                    <a:pt x="663" y="76"/>
                  </a:lnTo>
                  <a:lnTo>
                    <a:pt x="687" y="89"/>
                  </a:lnTo>
                  <a:lnTo>
                    <a:pt x="712" y="100"/>
                  </a:lnTo>
                  <a:lnTo>
                    <a:pt x="736" y="109"/>
                  </a:lnTo>
                  <a:lnTo>
                    <a:pt x="761" y="115"/>
                  </a:lnTo>
                  <a:lnTo>
                    <a:pt x="784" y="121"/>
                  </a:lnTo>
                  <a:lnTo>
                    <a:pt x="809" y="124"/>
                  </a:lnTo>
                  <a:lnTo>
                    <a:pt x="832" y="126"/>
                  </a:lnTo>
                  <a:lnTo>
                    <a:pt x="856" y="128"/>
                  </a:lnTo>
                  <a:lnTo>
                    <a:pt x="903" y="126"/>
                  </a:lnTo>
                  <a:lnTo>
                    <a:pt x="950" y="124"/>
                  </a:lnTo>
                  <a:lnTo>
                    <a:pt x="978" y="123"/>
                  </a:lnTo>
                  <a:lnTo>
                    <a:pt x="1005" y="123"/>
                  </a:lnTo>
                  <a:lnTo>
                    <a:pt x="1031" y="124"/>
                  </a:lnTo>
                  <a:lnTo>
                    <a:pt x="1056" y="125"/>
                  </a:lnTo>
                  <a:lnTo>
                    <a:pt x="1081" y="128"/>
                  </a:lnTo>
                  <a:lnTo>
                    <a:pt x="1104" y="130"/>
                  </a:lnTo>
                  <a:lnTo>
                    <a:pt x="1126" y="135"/>
                  </a:lnTo>
                  <a:lnTo>
                    <a:pt x="1148" y="139"/>
                  </a:lnTo>
                  <a:lnTo>
                    <a:pt x="1168" y="145"/>
                  </a:lnTo>
                  <a:lnTo>
                    <a:pt x="1187" y="151"/>
                  </a:lnTo>
                  <a:lnTo>
                    <a:pt x="1205" y="159"/>
                  </a:lnTo>
                  <a:lnTo>
                    <a:pt x="1220" y="168"/>
                  </a:lnTo>
                  <a:lnTo>
                    <a:pt x="1234" y="178"/>
                  </a:lnTo>
                  <a:lnTo>
                    <a:pt x="1245" y="190"/>
                  </a:lnTo>
                  <a:lnTo>
                    <a:pt x="1251" y="195"/>
                  </a:lnTo>
                  <a:lnTo>
                    <a:pt x="1256" y="202"/>
                  </a:lnTo>
                  <a:lnTo>
                    <a:pt x="1261" y="209"/>
                  </a:lnTo>
                  <a:lnTo>
                    <a:pt x="1264" y="216"/>
                  </a:lnTo>
                  <a:lnTo>
                    <a:pt x="1256" y="234"/>
                  </a:lnTo>
                  <a:lnTo>
                    <a:pt x="1248" y="253"/>
                  </a:lnTo>
                  <a:lnTo>
                    <a:pt x="1242" y="270"/>
                  </a:lnTo>
                  <a:lnTo>
                    <a:pt x="1235" y="289"/>
                  </a:lnTo>
                  <a:lnTo>
                    <a:pt x="1224" y="325"/>
                  </a:lnTo>
                  <a:lnTo>
                    <a:pt x="1215" y="358"/>
                  </a:lnTo>
                  <a:lnTo>
                    <a:pt x="1254" y="327"/>
                  </a:lnTo>
                  <a:lnTo>
                    <a:pt x="1287" y="298"/>
                  </a:lnTo>
                  <a:lnTo>
                    <a:pt x="1318" y="270"/>
                  </a:lnTo>
                  <a:lnTo>
                    <a:pt x="1346" y="246"/>
                  </a:lnTo>
                  <a:lnTo>
                    <a:pt x="1359" y="234"/>
                  </a:lnTo>
                  <a:lnTo>
                    <a:pt x="1370" y="225"/>
                  </a:lnTo>
                  <a:lnTo>
                    <a:pt x="1382" y="216"/>
                  </a:lnTo>
                  <a:lnTo>
                    <a:pt x="1393" y="209"/>
                  </a:lnTo>
                  <a:lnTo>
                    <a:pt x="1403" y="205"/>
                  </a:lnTo>
                  <a:lnTo>
                    <a:pt x="1412" y="201"/>
                  </a:lnTo>
                  <a:lnTo>
                    <a:pt x="1422" y="200"/>
                  </a:lnTo>
                  <a:lnTo>
                    <a:pt x="1431" y="202"/>
                  </a:lnTo>
                  <a:lnTo>
                    <a:pt x="1411" y="235"/>
                  </a:lnTo>
                  <a:lnTo>
                    <a:pt x="1394" y="271"/>
                  </a:lnTo>
                  <a:lnTo>
                    <a:pt x="1384" y="289"/>
                  </a:lnTo>
                  <a:lnTo>
                    <a:pt x="1377" y="307"/>
                  </a:lnTo>
                  <a:lnTo>
                    <a:pt x="1370" y="326"/>
                  </a:lnTo>
                  <a:lnTo>
                    <a:pt x="1363" y="346"/>
                  </a:lnTo>
                  <a:lnTo>
                    <a:pt x="1358" y="365"/>
                  </a:lnTo>
                  <a:lnTo>
                    <a:pt x="1352" y="385"/>
                  </a:lnTo>
                  <a:lnTo>
                    <a:pt x="1347" y="404"/>
                  </a:lnTo>
                  <a:lnTo>
                    <a:pt x="1344" y="424"/>
                  </a:lnTo>
                  <a:lnTo>
                    <a:pt x="1340" y="445"/>
                  </a:lnTo>
                  <a:lnTo>
                    <a:pt x="1338" y="466"/>
                  </a:lnTo>
                  <a:lnTo>
                    <a:pt x="1337" y="486"/>
                  </a:lnTo>
                  <a:lnTo>
                    <a:pt x="1335" y="507"/>
                  </a:lnTo>
                  <a:lnTo>
                    <a:pt x="1335" y="528"/>
                  </a:lnTo>
                  <a:lnTo>
                    <a:pt x="1337" y="549"/>
                  </a:lnTo>
                  <a:lnTo>
                    <a:pt x="1339" y="571"/>
                  </a:lnTo>
                  <a:lnTo>
                    <a:pt x="1341" y="592"/>
                  </a:lnTo>
                  <a:lnTo>
                    <a:pt x="1346" y="614"/>
                  </a:lnTo>
                  <a:lnTo>
                    <a:pt x="1351" y="636"/>
                  </a:lnTo>
                  <a:lnTo>
                    <a:pt x="1358" y="657"/>
                  </a:lnTo>
                  <a:lnTo>
                    <a:pt x="1365" y="679"/>
                  </a:lnTo>
                  <a:lnTo>
                    <a:pt x="1373" y="700"/>
                  </a:lnTo>
                  <a:lnTo>
                    <a:pt x="1383" y="722"/>
                  </a:lnTo>
                  <a:lnTo>
                    <a:pt x="1394" y="743"/>
                  </a:lnTo>
                  <a:lnTo>
                    <a:pt x="1407" y="764"/>
                  </a:lnTo>
                  <a:lnTo>
                    <a:pt x="1419" y="786"/>
                  </a:lnTo>
                  <a:lnTo>
                    <a:pt x="1435" y="807"/>
                  </a:lnTo>
                  <a:lnTo>
                    <a:pt x="1451" y="828"/>
                  </a:lnTo>
                  <a:lnTo>
                    <a:pt x="1469" y="849"/>
                  </a:lnTo>
                  <a:lnTo>
                    <a:pt x="781" y="87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7" name="Freeform 228"/>
            <p:cNvSpPr/>
            <p:nvPr/>
          </p:nvSpPr>
          <p:spPr>
            <a:xfrm>
              <a:off x="5184000" y="2736360"/>
              <a:ext cx="958320" cy="555840"/>
            </a:xfrm>
            <a:custGeom>
              <a:avLst/>
              <a:gdLst>
                <a:gd name="textAreaLeft" fmla="*/ 0 w 958320"/>
                <a:gd name="textAreaRight" fmla="*/ 958680 w 958320"/>
                <a:gd name="textAreaTop" fmla="*/ 0 h 555840"/>
                <a:gd name="textAreaBottom" fmla="*/ 556200 h 555840"/>
              </a:gdLst>
              <a:ahLst/>
              <a:rect l="textAreaLeft" t="textAreaTop" r="textAreaRight" b="textAreaBottom"/>
              <a:pathLst>
                <a:path w="2180" h="1227">
                  <a:moveTo>
                    <a:pt x="1270" y="0"/>
                  </a:moveTo>
                  <a:lnTo>
                    <a:pt x="0" y="37"/>
                  </a:lnTo>
                  <a:lnTo>
                    <a:pt x="5" y="65"/>
                  </a:lnTo>
                  <a:lnTo>
                    <a:pt x="12" y="94"/>
                  </a:lnTo>
                  <a:lnTo>
                    <a:pt x="20" y="118"/>
                  </a:lnTo>
                  <a:lnTo>
                    <a:pt x="28" y="140"/>
                  </a:lnTo>
                  <a:lnTo>
                    <a:pt x="34" y="150"/>
                  </a:lnTo>
                  <a:lnTo>
                    <a:pt x="39" y="158"/>
                  </a:lnTo>
                  <a:lnTo>
                    <a:pt x="45" y="166"/>
                  </a:lnTo>
                  <a:lnTo>
                    <a:pt x="51" y="172"/>
                  </a:lnTo>
                  <a:lnTo>
                    <a:pt x="56" y="178"/>
                  </a:lnTo>
                  <a:lnTo>
                    <a:pt x="63" y="181"/>
                  </a:lnTo>
                  <a:lnTo>
                    <a:pt x="70" y="183"/>
                  </a:lnTo>
                  <a:lnTo>
                    <a:pt x="77" y="185"/>
                  </a:lnTo>
                  <a:lnTo>
                    <a:pt x="86" y="202"/>
                  </a:lnTo>
                  <a:lnTo>
                    <a:pt x="93" y="217"/>
                  </a:lnTo>
                  <a:lnTo>
                    <a:pt x="100" y="228"/>
                  </a:lnTo>
                  <a:lnTo>
                    <a:pt x="107" y="235"/>
                  </a:lnTo>
                  <a:lnTo>
                    <a:pt x="110" y="238"/>
                  </a:lnTo>
                  <a:lnTo>
                    <a:pt x="115" y="240"/>
                  </a:lnTo>
                  <a:lnTo>
                    <a:pt x="118" y="241"/>
                  </a:lnTo>
                  <a:lnTo>
                    <a:pt x="123" y="242"/>
                  </a:lnTo>
                  <a:lnTo>
                    <a:pt x="133" y="242"/>
                  </a:lnTo>
                  <a:lnTo>
                    <a:pt x="146" y="238"/>
                  </a:lnTo>
                  <a:lnTo>
                    <a:pt x="174" y="235"/>
                  </a:lnTo>
                  <a:lnTo>
                    <a:pt x="201" y="231"/>
                  </a:lnTo>
                  <a:lnTo>
                    <a:pt x="213" y="231"/>
                  </a:lnTo>
                  <a:lnTo>
                    <a:pt x="223" y="233"/>
                  </a:lnTo>
                  <a:lnTo>
                    <a:pt x="233" y="234"/>
                  </a:lnTo>
                  <a:lnTo>
                    <a:pt x="242" y="236"/>
                  </a:lnTo>
                  <a:lnTo>
                    <a:pt x="249" y="240"/>
                  </a:lnTo>
                  <a:lnTo>
                    <a:pt x="256" y="244"/>
                  </a:lnTo>
                  <a:lnTo>
                    <a:pt x="261" y="250"/>
                  </a:lnTo>
                  <a:lnTo>
                    <a:pt x="264" y="257"/>
                  </a:lnTo>
                  <a:lnTo>
                    <a:pt x="267" y="266"/>
                  </a:lnTo>
                  <a:lnTo>
                    <a:pt x="267" y="277"/>
                  </a:lnTo>
                  <a:lnTo>
                    <a:pt x="265" y="289"/>
                  </a:lnTo>
                  <a:lnTo>
                    <a:pt x="262" y="303"/>
                  </a:lnTo>
                  <a:lnTo>
                    <a:pt x="261" y="306"/>
                  </a:lnTo>
                  <a:lnTo>
                    <a:pt x="261" y="311"/>
                  </a:lnTo>
                  <a:lnTo>
                    <a:pt x="262" y="314"/>
                  </a:lnTo>
                  <a:lnTo>
                    <a:pt x="263" y="318"/>
                  </a:lnTo>
                  <a:lnTo>
                    <a:pt x="268" y="326"/>
                  </a:lnTo>
                  <a:lnTo>
                    <a:pt x="275" y="332"/>
                  </a:lnTo>
                  <a:lnTo>
                    <a:pt x="284" y="339"/>
                  </a:lnTo>
                  <a:lnTo>
                    <a:pt x="293" y="345"/>
                  </a:lnTo>
                  <a:lnTo>
                    <a:pt x="305" y="351"/>
                  </a:lnTo>
                  <a:lnTo>
                    <a:pt x="317" y="356"/>
                  </a:lnTo>
                  <a:lnTo>
                    <a:pt x="339" y="368"/>
                  </a:lnTo>
                  <a:lnTo>
                    <a:pt x="358" y="380"/>
                  </a:lnTo>
                  <a:lnTo>
                    <a:pt x="365" y="386"/>
                  </a:lnTo>
                  <a:lnTo>
                    <a:pt x="371" y="391"/>
                  </a:lnTo>
                  <a:lnTo>
                    <a:pt x="372" y="395"/>
                  </a:lnTo>
                  <a:lnTo>
                    <a:pt x="372" y="398"/>
                  </a:lnTo>
                  <a:lnTo>
                    <a:pt x="372" y="402"/>
                  </a:lnTo>
                  <a:lnTo>
                    <a:pt x="372" y="405"/>
                  </a:lnTo>
                  <a:lnTo>
                    <a:pt x="368" y="1028"/>
                  </a:lnTo>
                  <a:lnTo>
                    <a:pt x="443" y="1199"/>
                  </a:lnTo>
                  <a:lnTo>
                    <a:pt x="1909" y="1144"/>
                  </a:lnTo>
                  <a:lnTo>
                    <a:pt x="1901" y="1227"/>
                  </a:lnTo>
                  <a:lnTo>
                    <a:pt x="2039" y="1213"/>
                  </a:lnTo>
                  <a:lnTo>
                    <a:pt x="2049" y="1202"/>
                  </a:lnTo>
                  <a:lnTo>
                    <a:pt x="2059" y="1192"/>
                  </a:lnTo>
                  <a:lnTo>
                    <a:pt x="2066" y="1181"/>
                  </a:lnTo>
                  <a:lnTo>
                    <a:pt x="2070" y="1172"/>
                  </a:lnTo>
                  <a:lnTo>
                    <a:pt x="2075" y="1163"/>
                  </a:lnTo>
                  <a:lnTo>
                    <a:pt x="2077" y="1154"/>
                  </a:lnTo>
                  <a:lnTo>
                    <a:pt x="2080" y="1146"/>
                  </a:lnTo>
                  <a:lnTo>
                    <a:pt x="2081" y="1137"/>
                  </a:lnTo>
                  <a:lnTo>
                    <a:pt x="2081" y="1120"/>
                  </a:lnTo>
                  <a:lnTo>
                    <a:pt x="2081" y="1102"/>
                  </a:lnTo>
                  <a:lnTo>
                    <a:pt x="2081" y="1092"/>
                  </a:lnTo>
                  <a:lnTo>
                    <a:pt x="2082" y="1082"/>
                  </a:lnTo>
                  <a:lnTo>
                    <a:pt x="2083" y="1071"/>
                  </a:lnTo>
                  <a:lnTo>
                    <a:pt x="2085" y="1060"/>
                  </a:lnTo>
                  <a:lnTo>
                    <a:pt x="2092" y="1037"/>
                  </a:lnTo>
                  <a:lnTo>
                    <a:pt x="2101" y="1016"/>
                  </a:lnTo>
                  <a:lnTo>
                    <a:pt x="2110" y="996"/>
                  </a:lnTo>
                  <a:lnTo>
                    <a:pt x="2122" y="979"/>
                  </a:lnTo>
                  <a:lnTo>
                    <a:pt x="2134" y="961"/>
                  </a:lnTo>
                  <a:lnTo>
                    <a:pt x="2148" y="945"/>
                  </a:lnTo>
                  <a:lnTo>
                    <a:pt x="2164" y="931"/>
                  </a:lnTo>
                  <a:lnTo>
                    <a:pt x="2180" y="918"/>
                  </a:lnTo>
                  <a:lnTo>
                    <a:pt x="2179" y="901"/>
                  </a:lnTo>
                  <a:lnTo>
                    <a:pt x="2176" y="887"/>
                  </a:lnTo>
                  <a:lnTo>
                    <a:pt x="2174" y="881"/>
                  </a:lnTo>
                  <a:lnTo>
                    <a:pt x="2172" y="876"/>
                  </a:lnTo>
                  <a:lnTo>
                    <a:pt x="2169" y="871"/>
                  </a:lnTo>
                  <a:lnTo>
                    <a:pt x="2167" y="868"/>
                  </a:lnTo>
                  <a:lnTo>
                    <a:pt x="2160" y="862"/>
                  </a:lnTo>
                  <a:lnTo>
                    <a:pt x="2152" y="859"/>
                  </a:lnTo>
                  <a:lnTo>
                    <a:pt x="2143" y="856"/>
                  </a:lnTo>
                  <a:lnTo>
                    <a:pt x="2133" y="855"/>
                  </a:lnTo>
                  <a:lnTo>
                    <a:pt x="2111" y="854"/>
                  </a:lnTo>
                  <a:lnTo>
                    <a:pt x="2088" y="852"/>
                  </a:lnTo>
                  <a:lnTo>
                    <a:pt x="2075" y="848"/>
                  </a:lnTo>
                  <a:lnTo>
                    <a:pt x="2063" y="843"/>
                  </a:lnTo>
                  <a:lnTo>
                    <a:pt x="2057" y="840"/>
                  </a:lnTo>
                  <a:lnTo>
                    <a:pt x="2050" y="836"/>
                  </a:lnTo>
                  <a:lnTo>
                    <a:pt x="2044" y="832"/>
                  </a:lnTo>
                  <a:lnTo>
                    <a:pt x="2039" y="826"/>
                  </a:lnTo>
                  <a:lnTo>
                    <a:pt x="2039" y="804"/>
                  </a:lnTo>
                  <a:lnTo>
                    <a:pt x="2037" y="783"/>
                  </a:lnTo>
                  <a:lnTo>
                    <a:pt x="2035" y="763"/>
                  </a:lnTo>
                  <a:lnTo>
                    <a:pt x="2032" y="744"/>
                  </a:lnTo>
                  <a:lnTo>
                    <a:pt x="2027" y="728"/>
                  </a:lnTo>
                  <a:lnTo>
                    <a:pt x="2021" y="711"/>
                  </a:lnTo>
                  <a:lnTo>
                    <a:pt x="2013" y="696"/>
                  </a:lnTo>
                  <a:lnTo>
                    <a:pt x="2004" y="682"/>
                  </a:lnTo>
                  <a:lnTo>
                    <a:pt x="1992" y="668"/>
                  </a:lnTo>
                  <a:lnTo>
                    <a:pt x="1978" y="655"/>
                  </a:lnTo>
                  <a:lnTo>
                    <a:pt x="1962" y="644"/>
                  </a:lnTo>
                  <a:lnTo>
                    <a:pt x="1943" y="633"/>
                  </a:lnTo>
                  <a:lnTo>
                    <a:pt x="1922" y="623"/>
                  </a:lnTo>
                  <a:lnTo>
                    <a:pt x="1897" y="612"/>
                  </a:lnTo>
                  <a:lnTo>
                    <a:pt x="1870" y="603"/>
                  </a:lnTo>
                  <a:lnTo>
                    <a:pt x="1840" y="593"/>
                  </a:lnTo>
                  <a:lnTo>
                    <a:pt x="1810" y="584"/>
                  </a:lnTo>
                  <a:lnTo>
                    <a:pt x="1784" y="575"/>
                  </a:lnTo>
                  <a:lnTo>
                    <a:pt x="1762" y="564"/>
                  </a:lnTo>
                  <a:lnTo>
                    <a:pt x="1742" y="554"/>
                  </a:lnTo>
                  <a:lnTo>
                    <a:pt x="1726" y="543"/>
                  </a:lnTo>
                  <a:lnTo>
                    <a:pt x="1713" y="532"/>
                  </a:lnTo>
                  <a:lnTo>
                    <a:pt x="1701" y="520"/>
                  </a:lnTo>
                  <a:lnTo>
                    <a:pt x="1693" y="507"/>
                  </a:lnTo>
                  <a:lnTo>
                    <a:pt x="1687" y="495"/>
                  </a:lnTo>
                  <a:lnTo>
                    <a:pt x="1682" y="482"/>
                  </a:lnTo>
                  <a:lnTo>
                    <a:pt x="1680" y="471"/>
                  </a:lnTo>
                  <a:lnTo>
                    <a:pt x="1679" y="458"/>
                  </a:lnTo>
                  <a:lnTo>
                    <a:pt x="1679" y="445"/>
                  </a:lnTo>
                  <a:lnTo>
                    <a:pt x="1680" y="433"/>
                  </a:lnTo>
                  <a:lnTo>
                    <a:pt x="1682" y="421"/>
                  </a:lnTo>
                  <a:lnTo>
                    <a:pt x="1685" y="409"/>
                  </a:lnTo>
                  <a:lnTo>
                    <a:pt x="1686" y="398"/>
                  </a:lnTo>
                  <a:lnTo>
                    <a:pt x="1687" y="389"/>
                  </a:lnTo>
                  <a:lnTo>
                    <a:pt x="1685" y="382"/>
                  </a:lnTo>
                  <a:lnTo>
                    <a:pt x="1682" y="376"/>
                  </a:lnTo>
                  <a:lnTo>
                    <a:pt x="1678" y="370"/>
                  </a:lnTo>
                  <a:lnTo>
                    <a:pt x="1672" y="366"/>
                  </a:lnTo>
                  <a:lnTo>
                    <a:pt x="1664" y="362"/>
                  </a:lnTo>
                  <a:lnTo>
                    <a:pt x="1656" y="359"/>
                  </a:lnTo>
                  <a:lnTo>
                    <a:pt x="1609" y="348"/>
                  </a:lnTo>
                  <a:lnTo>
                    <a:pt x="1547" y="331"/>
                  </a:lnTo>
                  <a:lnTo>
                    <a:pt x="1529" y="325"/>
                  </a:lnTo>
                  <a:lnTo>
                    <a:pt x="1512" y="319"/>
                  </a:lnTo>
                  <a:lnTo>
                    <a:pt x="1495" y="312"/>
                  </a:lnTo>
                  <a:lnTo>
                    <a:pt x="1479" y="304"/>
                  </a:lnTo>
                  <a:lnTo>
                    <a:pt x="1465" y="296"/>
                  </a:lnTo>
                  <a:lnTo>
                    <a:pt x="1451" y="287"/>
                  </a:lnTo>
                  <a:lnTo>
                    <a:pt x="1438" y="278"/>
                  </a:lnTo>
                  <a:lnTo>
                    <a:pt x="1425" y="269"/>
                  </a:lnTo>
                  <a:lnTo>
                    <a:pt x="1415" y="259"/>
                  </a:lnTo>
                  <a:lnTo>
                    <a:pt x="1406" y="249"/>
                  </a:lnTo>
                  <a:lnTo>
                    <a:pt x="1396" y="240"/>
                  </a:lnTo>
                  <a:lnTo>
                    <a:pt x="1389" y="230"/>
                  </a:lnTo>
                  <a:lnTo>
                    <a:pt x="1385" y="221"/>
                  </a:lnTo>
                  <a:lnTo>
                    <a:pt x="1380" y="210"/>
                  </a:lnTo>
                  <a:lnTo>
                    <a:pt x="1377" y="202"/>
                  </a:lnTo>
                  <a:lnTo>
                    <a:pt x="1376" y="193"/>
                  </a:lnTo>
                  <a:lnTo>
                    <a:pt x="1375" y="185"/>
                  </a:lnTo>
                  <a:lnTo>
                    <a:pt x="1373" y="176"/>
                  </a:lnTo>
                  <a:lnTo>
                    <a:pt x="1368" y="168"/>
                  </a:lnTo>
                  <a:lnTo>
                    <a:pt x="1361" y="161"/>
                  </a:lnTo>
                  <a:lnTo>
                    <a:pt x="1354" y="154"/>
                  </a:lnTo>
                  <a:lnTo>
                    <a:pt x="1346" y="148"/>
                  </a:lnTo>
                  <a:lnTo>
                    <a:pt x="1338" y="143"/>
                  </a:lnTo>
                  <a:lnTo>
                    <a:pt x="1328" y="137"/>
                  </a:lnTo>
                  <a:lnTo>
                    <a:pt x="1296" y="120"/>
                  </a:lnTo>
                  <a:lnTo>
                    <a:pt x="1282" y="115"/>
                  </a:lnTo>
                  <a:lnTo>
                    <a:pt x="127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8" name="Freeform 229"/>
            <p:cNvSpPr/>
            <p:nvPr/>
          </p:nvSpPr>
          <p:spPr>
            <a:xfrm>
              <a:off x="6709320" y="3283560"/>
              <a:ext cx="1112040" cy="785520"/>
            </a:xfrm>
            <a:custGeom>
              <a:avLst/>
              <a:gdLst>
                <a:gd name="textAreaLeft" fmla="*/ 0 w 1112040"/>
                <a:gd name="textAreaRight" fmla="*/ 1112400 w 1112040"/>
                <a:gd name="textAreaTop" fmla="*/ 0 h 785520"/>
                <a:gd name="textAreaBottom" fmla="*/ 785880 h 785520"/>
              </a:gdLst>
              <a:ahLst/>
              <a:rect l="textAreaLeft" t="textAreaTop" r="textAreaRight" b="textAreaBottom"/>
              <a:pathLst>
                <a:path w="2529" h="1729">
                  <a:moveTo>
                    <a:pt x="1040" y="0"/>
                  </a:moveTo>
                  <a:lnTo>
                    <a:pt x="0" y="116"/>
                  </a:lnTo>
                  <a:lnTo>
                    <a:pt x="8" y="127"/>
                  </a:lnTo>
                  <a:lnTo>
                    <a:pt x="33" y="159"/>
                  </a:lnTo>
                  <a:lnTo>
                    <a:pt x="70" y="208"/>
                  </a:lnTo>
                  <a:lnTo>
                    <a:pt x="119" y="272"/>
                  </a:lnTo>
                  <a:lnTo>
                    <a:pt x="177" y="349"/>
                  </a:lnTo>
                  <a:lnTo>
                    <a:pt x="240" y="435"/>
                  </a:lnTo>
                  <a:lnTo>
                    <a:pt x="308" y="527"/>
                  </a:lnTo>
                  <a:lnTo>
                    <a:pt x="379" y="621"/>
                  </a:lnTo>
                  <a:lnTo>
                    <a:pt x="449" y="717"/>
                  </a:lnTo>
                  <a:lnTo>
                    <a:pt x="516" y="811"/>
                  </a:lnTo>
                  <a:lnTo>
                    <a:pt x="580" y="899"/>
                  </a:lnTo>
                  <a:lnTo>
                    <a:pt x="636" y="980"/>
                  </a:lnTo>
                  <a:lnTo>
                    <a:pt x="682" y="1049"/>
                  </a:lnTo>
                  <a:lnTo>
                    <a:pt x="719" y="1105"/>
                  </a:lnTo>
                  <a:lnTo>
                    <a:pt x="731" y="1127"/>
                  </a:lnTo>
                  <a:lnTo>
                    <a:pt x="741" y="1145"/>
                  </a:lnTo>
                  <a:lnTo>
                    <a:pt x="745" y="1156"/>
                  </a:lnTo>
                  <a:lnTo>
                    <a:pt x="747" y="1165"/>
                  </a:lnTo>
                  <a:lnTo>
                    <a:pt x="744" y="1175"/>
                  </a:lnTo>
                  <a:lnTo>
                    <a:pt x="744" y="1191"/>
                  </a:lnTo>
                  <a:lnTo>
                    <a:pt x="744" y="1211"/>
                  </a:lnTo>
                  <a:lnTo>
                    <a:pt x="748" y="1236"/>
                  </a:lnTo>
                  <a:lnTo>
                    <a:pt x="751" y="1263"/>
                  </a:lnTo>
                  <a:lnTo>
                    <a:pt x="757" y="1293"/>
                  </a:lnTo>
                  <a:lnTo>
                    <a:pt x="764" y="1325"/>
                  </a:lnTo>
                  <a:lnTo>
                    <a:pt x="773" y="1358"/>
                  </a:lnTo>
                  <a:lnTo>
                    <a:pt x="785" y="1392"/>
                  </a:lnTo>
                  <a:lnTo>
                    <a:pt x="798" y="1427"/>
                  </a:lnTo>
                  <a:lnTo>
                    <a:pt x="812" y="1461"/>
                  </a:lnTo>
                  <a:lnTo>
                    <a:pt x="829" y="1495"/>
                  </a:lnTo>
                  <a:lnTo>
                    <a:pt x="839" y="1512"/>
                  </a:lnTo>
                  <a:lnTo>
                    <a:pt x="848" y="1527"/>
                  </a:lnTo>
                  <a:lnTo>
                    <a:pt x="858" y="1543"/>
                  </a:lnTo>
                  <a:lnTo>
                    <a:pt x="868" y="1558"/>
                  </a:lnTo>
                  <a:lnTo>
                    <a:pt x="880" y="1572"/>
                  </a:lnTo>
                  <a:lnTo>
                    <a:pt x="891" y="1585"/>
                  </a:lnTo>
                  <a:lnTo>
                    <a:pt x="903" y="1598"/>
                  </a:lnTo>
                  <a:lnTo>
                    <a:pt x="916" y="1611"/>
                  </a:lnTo>
                  <a:lnTo>
                    <a:pt x="938" y="1628"/>
                  </a:lnTo>
                  <a:lnTo>
                    <a:pt x="958" y="1644"/>
                  </a:lnTo>
                  <a:lnTo>
                    <a:pt x="978" y="1658"/>
                  </a:lnTo>
                  <a:lnTo>
                    <a:pt x="997" y="1670"/>
                  </a:lnTo>
                  <a:lnTo>
                    <a:pt x="1015" y="1682"/>
                  </a:lnTo>
                  <a:lnTo>
                    <a:pt x="1033" y="1693"/>
                  </a:lnTo>
                  <a:lnTo>
                    <a:pt x="1050" y="1701"/>
                  </a:lnTo>
                  <a:lnTo>
                    <a:pt x="1068" y="1708"/>
                  </a:lnTo>
                  <a:lnTo>
                    <a:pt x="1085" y="1715"/>
                  </a:lnTo>
                  <a:lnTo>
                    <a:pt x="1103" y="1719"/>
                  </a:lnTo>
                  <a:lnTo>
                    <a:pt x="1120" y="1723"/>
                  </a:lnTo>
                  <a:lnTo>
                    <a:pt x="1139" y="1726"/>
                  </a:lnTo>
                  <a:lnTo>
                    <a:pt x="1159" y="1728"/>
                  </a:lnTo>
                  <a:lnTo>
                    <a:pt x="1179" y="1729"/>
                  </a:lnTo>
                  <a:lnTo>
                    <a:pt x="1200" y="1729"/>
                  </a:lnTo>
                  <a:lnTo>
                    <a:pt x="1222" y="1728"/>
                  </a:lnTo>
                  <a:lnTo>
                    <a:pt x="1272" y="1722"/>
                  </a:lnTo>
                  <a:lnTo>
                    <a:pt x="1328" y="1714"/>
                  </a:lnTo>
                  <a:lnTo>
                    <a:pt x="1393" y="1703"/>
                  </a:lnTo>
                  <a:lnTo>
                    <a:pt x="1467" y="1690"/>
                  </a:lnTo>
                  <a:lnTo>
                    <a:pt x="1553" y="1675"/>
                  </a:lnTo>
                  <a:lnTo>
                    <a:pt x="1651" y="1658"/>
                  </a:lnTo>
                  <a:lnTo>
                    <a:pt x="1763" y="1639"/>
                  </a:lnTo>
                  <a:lnTo>
                    <a:pt x="1890" y="1619"/>
                  </a:lnTo>
                  <a:lnTo>
                    <a:pt x="1960" y="1608"/>
                  </a:lnTo>
                  <a:lnTo>
                    <a:pt x="2019" y="1599"/>
                  </a:lnTo>
                  <a:lnTo>
                    <a:pt x="2068" y="1592"/>
                  </a:lnTo>
                  <a:lnTo>
                    <a:pt x="2109" y="1586"/>
                  </a:lnTo>
                  <a:lnTo>
                    <a:pt x="2142" y="1582"/>
                  </a:lnTo>
                  <a:lnTo>
                    <a:pt x="2169" y="1578"/>
                  </a:lnTo>
                  <a:lnTo>
                    <a:pt x="2194" y="1576"/>
                  </a:lnTo>
                  <a:lnTo>
                    <a:pt x="2215" y="1573"/>
                  </a:lnTo>
                  <a:lnTo>
                    <a:pt x="2220" y="1572"/>
                  </a:lnTo>
                  <a:lnTo>
                    <a:pt x="2224" y="1570"/>
                  </a:lnTo>
                  <a:lnTo>
                    <a:pt x="2229" y="1568"/>
                  </a:lnTo>
                  <a:lnTo>
                    <a:pt x="2232" y="1565"/>
                  </a:lnTo>
                  <a:lnTo>
                    <a:pt x="2239" y="1558"/>
                  </a:lnTo>
                  <a:lnTo>
                    <a:pt x="2245" y="1549"/>
                  </a:lnTo>
                  <a:lnTo>
                    <a:pt x="2257" y="1529"/>
                  </a:lnTo>
                  <a:lnTo>
                    <a:pt x="2265" y="1509"/>
                  </a:lnTo>
                  <a:lnTo>
                    <a:pt x="2270" y="1499"/>
                  </a:lnTo>
                  <a:lnTo>
                    <a:pt x="2274" y="1490"/>
                  </a:lnTo>
                  <a:lnTo>
                    <a:pt x="2278" y="1482"/>
                  </a:lnTo>
                  <a:lnTo>
                    <a:pt x="2283" y="1478"/>
                  </a:lnTo>
                  <a:lnTo>
                    <a:pt x="2286" y="1475"/>
                  </a:lnTo>
                  <a:lnTo>
                    <a:pt x="2288" y="1474"/>
                  </a:lnTo>
                  <a:lnTo>
                    <a:pt x="2291" y="1473"/>
                  </a:lnTo>
                  <a:lnTo>
                    <a:pt x="2294" y="1473"/>
                  </a:lnTo>
                  <a:lnTo>
                    <a:pt x="2297" y="1474"/>
                  </a:lnTo>
                  <a:lnTo>
                    <a:pt x="2300" y="1475"/>
                  </a:lnTo>
                  <a:lnTo>
                    <a:pt x="2304" y="1478"/>
                  </a:lnTo>
                  <a:lnTo>
                    <a:pt x="2307" y="1481"/>
                  </a:lnTo>
                  <a:lnTo>
                    <a:pt x="2317" y="1488"/>
                  </a:lnTo>
                  <a:lnTo>
                    <a:pt x="2327" y="1495"/>
                  </a:lnTo>
                  <a:lnTo>
                    <a:pt x="2338" y="1500"/>
                  </a:lnTo>
                  <a:lnTo>
                    <a:pt x="2349" y="1502"/>
                  </a:lnTo>
                  <a:lnTo>
                    <a:pt x="2362" y="1505"/>
                  </a:lnTo>
                  <a:lnTo>
                    <a:pt x="2376" y="1506"/>
                  </a:lnTo>
                  <a:lnTo>
                    <a:pt x="2390" y="1507"/>
                  </a:lnTo>
                  <a:lnTo>
                    <a:pt x="2404" y="1507"/>
                  </a:lnTo>
                  <a:lnTo>
                    <a:pt x="2434" y="1505"/>
                  </a:lnTo>
                  <a:lnTo>
                    <a:pt x="2466" y="1503"/>
                  </a:lnTo>
                  <a:lnTo>
                    <a:pt x="2481" y="1502"/>
                  </a:lnTo>
                  <a:lnTo>
                    <a:pt x="2498" y="1502"/>
                  </a:lnTo>
                  <a:lnTo>
                    <a:pt x="2513" y="1503"/>
                  </a:lnTo>
                  <a:lnTo>
                    <a:pt x="2529" y="1505"/>
                  </a:lnTo>
                  <a:lnTo>
                    <a:pt x="2522" y="1496"/>
                  </a:lnTo>
                  <a:lnTo>
                    <a:pt x="2516" y="1489"/>
                  </a:lnTo>
                  <a:lnTo>
                    <a:pt x="2510" y="1481"/>
                  </a:lnTo>
                  <a:lnTo>
                    <a:pt x="2505" y="1473"/>
                  </a:lnTo>
                  <a:lnTo>
                    <a:pt x="2496" y="1457"/>
                  </a:lnTo>
                  <a:lnTo>
                    <a:pt x="2489" y="1440"/>
                  </a:lnTo>
                  <a:lnTo>
                    <a:pt x="2485" y="1424"/>
                  </a:lnTo>
                  <a:lnTo>
                    <a:pt x="2480" y="1406"/>
                  </a:lnTo>
                  <a:lnTo>
                    <a:pt x="2478" y="1390"/>
                  </a:lnTo>
                  <a:lnTo>
                    <a:pt x="2477" y="1374"/>
                  </a:lnTo>
                  <a:lnTo>
                    <a:pt x="2474" y="1342"/>
                  </a:lnTo>
                  <a:lnTo>
                    <a:pt x="2472" y="1313"/>
                  </a:lnTo>
                  <a:lnTo>
                    <a:pt x="2471" y="1300"/>
                  </a:lnTo>
                  <a:lnTo>
                    <a:pt x="2468" y="1290"/>
                  </a:lnTo>
                  <a:lnTo>
                    <a:pt x="2465" y="1279"/>
                  </a:lnTo>
                  <a:lnTo>
                    <a:pt x="2460" y="1271"/>
                  </a:lnTo>
                  <a:lnTo>
                    <a:pt x="2454" y="1263"/>
                  </a:lnTo>
                  <a:lnTo>
                    <a:pt x="2449" y="1256"/>
                  </a:lnTo>
                  <a:lnTo>
                    <a:pt x="2443" y="1250"/>
                  </a:lnTo>
                  <a:lnTo>
                    <a:pt x="2436" y="1245"/>
                  </a:lnTo>
                  <a:lnTo>
                    <a:pt x="2424" y="1238"/>
                  </a:lnTo>
                  <a:lnTo>
                    <a:pt x="2411" y="1232"/>
                  </a:lnTo>
                  <a:lnTo>
                    <a:pt x="2406" y="1229"/>
                  </a:lnTo>
                  <a:lnTo>
                    <a:pt x="2401" y="1225"/>
                  </a:lnTo>
                  <a:lnTo>
                    <a:pt x="2397" y="1222"/>
                  </a:lnTo>
                  <a:lnTo>
                    <a:pt x="2392" y="1218"/>
                  </a:lnTo>
                  <a:lnTo>
                    <a:pt x="2389" y="1214"/>
                  </a:lnTo>
                  <a:lnTo>
                    <a:pt x="2387" y="1208"/>
                  </a:lnTo>
                  <a:lnTo>
                    <a:pt x="2385" y="1201"/>
                  </a:lnTo>
                  <a:lnTo>
                    <a:pt x="2385" y="1193"/>
                  </a:lnTo>
                  <a:lnTo>
                    <a:pt x="2384" y="1183"/>
                  </a:lnTo>
                  <a:lnTo>
                    <a:pt x="2383" y="1173"/>
                  </a:lnTo>
                  <a:lnTo>
                    <a:pt x="2381" y="1161"/>
                  </a:lnTo>
                  <a:lnTo>
                    <a:pt x="2377" y="1149"/>
                  </a:lnTo>
                  <a:lnTo>
                    <a:pt x="2369" y="1121"/>
                  </a:lnTo>
                  <a:lnTo>
                    <a:pt x="2360" y="1093"/>
                  </a:lnTo>
                  <a:lnTo>
                    <a:pt x="2349" y="1064"/>
                  </a:lnTo>
                  <a:lnTo>
                    <a:pt x="2339" y="1037"/>
                  </a:lnTo>
                  <a:lnTo>
                    <a:pt x="2329" y="1012"/>
                  </a:lnTo>
                  <a:lnTo>
                    <a:pt x="2321" y="992"/>
                  </a:lnTo>
                  <a:lnTo>
                    <a:pt x="2319" y="981"/>
                  </a:lnTo>
                  <a:lnTo>
                    <a:pt x="2317" y="970"/>
                  </a:lnTo>
                  <a:lnTo>
                    <a:pt x="2314" y="957"/>
                  </a:lnTo>
                  <a:lnTo>
                    <a:pt x="2313" y="943"/>
                  </a:lnTo>
                  <a:lnTo>
                    <a:pt x="2300" y="923"/>
                  </a:lnTo>
                  <a:lnTo>
                    <a:pt x="2286" y="904"/>
                  </a:lnTo>
                  <a:lnTo>
                    <a:pt x="2270" y="888"/>
                  </a:lnTo>
                  <a:lnTo>
                    <a:pt x="2252" y="873"/>
                  </a:lnTo>
                  <a:lnTo>
                    <a:pt x="2234" y="859"/>
                  </a:lnTo>
                  <a:lnTo>
                    <a:pt x="2213" y="846"/>
                  </a:lnTo>
                  <a:lnTo>
                    <a:pt x="2192" y="833"/>
                  </a:lnTo>
                  <a:lnTo>
                    <a:pt x="2170" y="822"/>
                  </a:lnTo>
                  <a:lnTo>
                    <a:pt x="2147" y="813"/>
                  </a:lnTo>
                  <a:lnTo>
                    <a:pt x="2124" y="804"/>
                  </a:lnTo>
                  <a:lnTo>
                    <a:pt x="2100" y="795"/>
                  </a:lnTo>
                  <a:lnTo>
                    <a:pt x="2077" y="787"/>
                  </a:lnTo>
                  <a:lnTo>
                    <a:pt x="2029" y="773"/>
                  </a:lnTo>
                  <a:lnTo>
                    <a:pt x="1981" y="760"/>
                  </a:lnTo>
                  <a:lnTo>
                    <a:pt x="1960" y="755"/>
                  </a:lnTo>
                  <a:lnTo>
                    <a:pt x="1943" y="746"/>
                  </a:lnTo>
                  <a:lnTo>
                    <a:pt x="1926" y="738"/>
                  </a:lnTo>
                  <a:lnTo>
                    <a:pt x="1915" y="729"/>
                  </a:lnTo>
                  <a:lnTo>
                    <a:pt x="1903" y="718"/>
                  </a:lnTo>
                  <a:lnTo>
                    <a:pt x="1895" y="708"/>
                  </a:lnTo>
                  <a:lnTo>
                    <a:pt x="1888" y="695"/>
                  </a:lnTo>
                  <a:lnTo>
                    <a:pt x="1881" y="682"/>
                  </a:lnTo>
                  <a:lnTo>
                    <a:pt x="1870" y="655"/>
                  </a:lnTo>
                  <a:lnTo>
                    <a:pt x="1860" y="625"/>
                  </a:lnTo>
                  <a:lnTo>
                    <a:pt x="1854" y="610"/>
                  </a:lnTo>
                  <a:lnTo>
                    <a:pt x="1846" y="593"/>
                  </a:lnTo>
                  <a:lnTo>
                    <a:pt x="1838" y="576"/>
                  </a:lnTo>
                  <a:lnTo>
                    <a:pt x="1826" y="560"/>
                  </a:lnTo>
                  <a:lnTo>
                    <a:pt x="1793" y="547"/>
                  </a:lnTo>
                  <a:lnTo>
                    <a:pt x="1762" y="534"/>
                  </a:lnTo>
                  <a:lnTo>
                    <a:pt x="1732" y="520"/>
                  </a:lnTo>
                  <a:lnTo>
                    <a:pt x="1706" y="505"/>
                  </a:lnTo>
                  <a:lnTo>
                    <a:pt x="1680" y="489"/>
                  </a:lnTo>
                  <a:lnTo>
                    <a:pt x="1658" y="474"/>
                  </a:lnTo>
                  <a:lnTo>
                    <a:pt x="1637" y="459"/>
                  </a:lnTo>
                  <a:lnTo>
                    <a:pt x="1619" y="444"/>
                  </a:lnTo>
                  <a:lnTo>
                    <a:pt x="1589" y="417"/>
                  </a:lnTo>
                  <a:lnTo>
                    <a:pt x="1567" y="395"/>
                  </a:lnTo>
                  <a:lnTo>
                    <a:pt x="1554" y="381"/>
                  </a:lnTo>
                  <a:lnTo>
                    <a:pt x="1550" y="375"/>
                  </a:lnTo>
                  <a:lnTo>
                    <a:pt x="1394" y="329"/>
                  </a:lnTo>
                  <a:lnTo>
                    <a:pt x="104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09" name="Freeform 230"/>
            <p:cNvSpPr/>
            <p:nvPr/>
          </p:nvSpPr>
          <p:spPr>
            <a:xfrm>
              <a:off x="6691680" y="3953160"/>
              <a:ext cx="2146680" cy="1191600"/>
            </a:xfrm>
            <a:custGeom>
              <a:avLst/>
              <a:gdLst>
                <a:gd name="textAreaLeft" fmla="*/ 0 w 2146680"/>
                <a:gd name="textAreaRight" fmla="*/ 2147040 w 2146680"/>
                <a:gd name="textAreaTop" fmla="*/ 0 h 1191600"/>
                <a:gd name="textAreaBottom" fmla="*/ 1191960 h 1191600"/>
              </a:gdLst>
              <a:ahLst/>
              <a:rect l="textAreaLeft" t="textAreaTop" r="textAreaRight" b="textAreaBottom"/>
              <a:pathLst>
                <a:path w="4885" h="2626">
                  <a:moveTo>
                    <a:pt x="2572" y="32"/>
                  </a:moveTo>
                  <a:lnTo>
                    <a:pt x="2556" y="30"/>
                  </a:lnTo>
                  <a:lnTo>
                    <a:pt x="2541" y="29"/>
                  </a:lnTo>
                  <a:lnTo>
                    <a:pt x="2524" y="29"/>
                  </a:lnTo>
                  <a:lnTo>
                    <a:pt x="2509" y="30"/>
                  </a:lnTo>
                  <a:lnTo>
                    <a:pt x="2477" y="32"/>
                  </a:lnTo>
                  <a:lnTo>
                    <a:pt x="2447" y="34"/>
                  </a:lnTo>
                  <a:lnTo>
                    <a:pt x="2433" y="34"/>
                  </a:lnTo>
                  <a:lnTo>
                    <a:pt x="2419" y="33"/>
                  </a:lnTo>
                  <a:lnTo>
                    <a:pt x="2405" y="32"/>
                  </a:lnTo>
                  <a:lnTo>
                    <a:pt x="2392" y="29"/>
                  </a:lnTo>
                  <a:lnTo>
                    <a:pt x="2381" y="27"/>
                  </a:lnTo>
                  <a:lnTo>
                    <a:pt x="2370" y="22"/>
                  </a:lnTo>
                  <a:lnTo>
                    <a:pt x="2360" y="15"/>
                  </a:lnTo>
                  <a:lnTo>
                    <a:pt x="2350" y="8"/>
                  </a:lnTo>
                  <a:lnTo>
                    <a:pt x="2347" y="5"/>
                  </a:lnTo>
                  <a:lnTo>
                    <a:pt x="2343" y="2"/>
                  </a:lnTo>
                  <a:lnTo>
                    <a:pt x="2340" y="1"/>
                  </a:lnTo>
                  <a:lnTo>
                    <a:pt x="2337" y="0"/>
                  </a:lnTo>
                  <a:lnTo>
                    <a:pt x="2334" y="0"/>
                  </a:lnTo>
                  <a:lnTo>
                    <a:pt x="2331" y="1"/>
                  </a:lnTo>
                  <a:lnTo>
                    <a:pt x="2329" y="2"/>
                  </a:lnTo>
                  <a:lnTo>
                    <a:pt x="2326" y="5"/>
                  </a:lnTo>
                  <a:lnTo>
                    <a:pt x="2321" y="9"/>
                  </a:lnTo>
                  <a:lnTo>
                    <a:pt x="2317" y="17"/>
                  </a:lnTo>
                  <a:lnTo>
                    <a:pt x="2313" y="26"/>
                  </a:lnTo>
                  <a:lnTo>
                    <a:pt x="2308" y="36"/>
                  </a:lnTo>
                  <a:lnTo>
                    <a:pt x="2300" y="56"/>
                  </a:lnTo>
                  <a:lnTo>
                    <a:pt x="2288" y="76"/>
                  </a:lnTo>
                  <a:lnTo>
                    <a:pt x="2282" y="85"/>
                  </a:lnTo>
                  <a:lnTo>
                    <a:pt x="2275" y="92"/>
                  </a:lnTo>
                  <a:lnTo>
                    <a:pt x="2272" y="95"/>
                  </a:lnTo>
                  <a:lnTo>
                    <a:pt x="2267" y="97"/>
                  </a:lnTo>
                  <a:lnTo>
                    <a:pt x="2263" y="99"/>
                  </a:lnTo>
                  <a:lnTo>
                    <a:pt x="2258" y="100"/>
                  </a:lnTo>
                  <a:lnTo>
                    <a:pt x="2237" y="103"/>
                  </a:lnTo>
                  <a:lnTo>
                    <a:pt x="2212" y="105"/>
                  </a:lnTo>
                  <a:lnTo>
                    <a:pt x="2185" y="109"/>
                  </a:lnTo>
                  <a:lnTo>
                    <a:pt x="2152" y="113"/>
                  </a:lnTo>
                  <a:lnTo>
                    <a:pt x="2111" y="119"/>
                  </a:lnTo>
                  <a:lnTo>
                    <a:pt x="2062" y="126"/>
                  </a:lnTo>
                  <a:lnTo>
                    <a:pt x="2003" y="135"/>
                  </a:lnTo>
                  <a:lnTo>
                    <a:pt x="1933" y="146"/>
                  </a:lnTo>
                  <a:lnTo>
                    <a:pt x="1806" y="166"/>
                  </a:lnTo>
                  <a:lnTo>
                    <a:pt x="1694" y="185"/>
                  </a:lnTo>
                  <a:lnTo>
                    <a:pt x="1596" y="202"/>
                  </a:lnTo>
                  <a:lnTo>
                    <a:pt x="1510" y="217"/>
                  </a:lnTo>
                  <a:lnTo>
                    <a:pt x="1436" y="230"/>
                  </a:lnTo>
                  <a:lnTo>
                    <a:pt x="1371" y="241"/>
                  </a:lnTo>
                  <a:lnTo>
                    <a:pt x="1315" y="249"/>
                  </a:lnTo>
                  <a:lnTo>
                    <a:pt x="1265" y="255"/>
                  </a:lnTo>
                  <a:lnTo>
                    <a:pt x="1243" y="256"/>
                  </a:lnTo>
                  <a:lnTo>
                    <a:pt x="1222" y="256"/>
                  </a:lnTo>
                  <a:lnTo>
                    <a:pt x="1202" y="255"/>
                  </a:lnTo>
                  <a:lnTo>
                    <a:pt x="1182" y="253"/>
                  </a:lnTo>
                  <a:lnTo>
                    <a:pt x="1163" y="250"/>
                  </a:lnTo>
                  <a:lnTo>
                    <a:pt x="1146" y="246"/>
                  </a:lnTo>
                  <a:lnTo>
                    <a:pt x="1128" y="242"/>
                  </a:lnTo>
                  <a:lnTo>
                    <a:pt x="1111" y="235"/>
                  </a:lnTo>
                  <a:lnTo>
                    <a:pt x="1093" y="228"/>
                  </a:lnTo>
                  <a:lnTo>
                    <a:pt x="1076" y="220"/>
                  </a:lnTo>
                  <a:lnTo>
                    <a:pt x="1058" y="209"/>
                  </a:lnTo>
                  <a:lnTo>
                    <a:pt x="1040" y="197"/>
                  </a:lnTo>
                  <a:lnTo>
                    <a:pt x="1021" y="185"/>
                  </a:lnTo>
                  <a:lnTo>
                    <a:pt x="1001" y="171"/>
                  </a:lnTo>
                  <a:lnTo>
                    <a:pt x="981" y="155"/>
                  </a:lnTo>
                  <a:lnTo>
                    <a:pt x="959" y="138"/>
                  </a:lnTo>
                  <a:lnTo>
                    <a:pt x="0" y="230"/>
                  </a:lnTo>
                  <a:lnTo>
                    <a:pt x="12" y="238"/>
                  </a:lnTo>
                  <a:lnTo>
                    <a:pt x="24" y="251"/>
                  </a:lnTo>
                  <a:lnTo>
                    <a:pt x="37" y="265"/>
                  </a:lnTo>
                  <a:lnTo>
                    <a:pt x="49" y="283"/>
                  </a:lnTo>
                  <a:lnTo>
                    <a:pt x="62" y="301"/>
                  </a:lnTo>
                  <a:lnTo>
                    <a:pt x="73" y="322"/>
                  </a:lnTo>
                  <a:lnTo>
                    <a:pt x="84" y="343"/>
                  </a:lnTo>
                  <a:lnTo>
                    <a:pt x="95" y="367"/>
                  </a:lnTo>
                  <a:lnTo>
                    <a:pt x="104" y="390"/>
                  </a:lnTo>
                  <a:lnTo>
                    <a:pt x="112" y="415"/>
                  </a:lnTo>
                  <a:lnTo>
                    <a:pt x="118" y="439"/>
                  </a:lnTo>
                  <a:lnTo>
                    <a:pt x="124" y="463"/>
                  </a:lnTo>
                  <a:lnTo>
                    <a:pt x="126" y="486"/>
                  </a:lnTo>
                  <a:lnTo>
                    <a:pt x="127" y="508"/>
                  </a:lnTo>
                  <a:lnTo>
                    <a:pt x="127" y="519"/>
                  </a:lnTo>
                  <a:lnTo>
                    <a:pt x="127" y="529"/>
                  </a:lnTo>
                  <a:lnTo>
                    <a:pt x="126" y="540"/>
                  </a:lnTo>
                  <a:lnTo>
                    <a:pt x="124" y="549"/>
                  </a:lnTo>
                  <a:lnTo>
                    <a:pt x="183" y="543"/>
                  </a:lnTo>
                  <a:lnTo>
                    <a:pt x="244" y="537"/>
                  </a:lnTo>
                  <a:lnTo>
                    <a:pt x="305" y="531"/>
                  </a:lnTo>
                  <a:lnTo>
                    <a:pt x="366" y="527"/>
                  </a:lnTo>
                  <a:lnTo>
                    <a:pt x="426" y="522"/>
                  </a:lnTo>
                  <a:lnTo>
                    <a:pt x="487" y="519"/>
                  </a:lnTo>
                  <a:lnTo>
                    <a:pt x="548" y="515"/>
                  </a:lnTo>
                  <a:lnTo>
                    <a:pt x="606" y="513"/>
                  </a:lnTo>
                  <a:lnTo>
                    <a:pt x="665" y="510"/>
                  </a:lnTo>
                  <a:lnTo>
                    <a:pt x="721" y="510"/>
                  </a:lnTo>
                  <a:lnTo>
                    <a:pt x="776" y="509"/>
                  </a:lnTo>
                  <a:lnTo>
                    <a:pt x="829" y="510"/>
                  </a:lnTo>
                  <a:lnTo>
                    <a:pt x="881" y="513"/>
                  </a:lnTo>
                  <a:lnTo>
                    <a:pt x="930" y="515"/>
                  </a:lnTo>
                  <a:lnTo>
                    <a:pt x="976" y="519"/>
                  </a:lnTo>
                  <a:lnTo>
                    <a:pt x="1020" y="523"/>
                  </a:lnTo>
                  <a:lnTo>
                    <a:pt x="1030" y="527"/>
                  </a:lnTo>
                  <a:lnTo>
                    <a:pt x="1058" y="535"/>
                  </a:lnTo>
                  <a:lnTo>
                    <a:pt x="1077" y="542"/>
                  </a:lnTo>
                  <a:lnTo>
                    <a:pt x="1098" y="550"/>
                  </a:lnTo>
                  <a:lnTo>
                    <a:pt x="1120" y="559"/>
                  </a:lnTo>
                  <a:lnTo>
                    <a:pt x="1143" y="571"/>
                  </a:lnTo>
                  <a:lnTo>
                    <a:pt x="1167" y="583"/>
                  </a:lnTo>
                  <a:lnTo>
                    <a:pt x="1189" y="597"/>
                  </a:lnTo>
                  <a:lnTo>
                    <a:pt x="1200" y="605"/>
                  </a:lnTo>
                  <a:lnTo>
                    <a:pt x="1210" y="612"/>
                  </a:lnTo>
                  <a:lnTo>
                    <a:pt x="1219" y="620"/>
                  </a:lnTo>
                  <a:lnTo>
                    <a:pt x="1229" y="630"/>
                  </a:lnTo>
                  <a:lnTo>
                    <a:pt x="1237" y="638"/>
                  </a:lnTo>
                  <a:lnTo>
                    <a:pt x="1244" y="647"/>
                  </a:lnTo>
                  <a:lnTo>
                    <a:pt x="1251" y="658"/>
                  </a:lnTo>
                  <a:lnTo>
                    <a:pt x="1257" y="667"/>
                  </a:lnTo>
                  <a:lnTo>
                    <a:pt x="1261" y="677"/>
                  </a:lnTo>
                  <a:lnTo>
                    <a:pt x="1265" y="688"/>
                  </a:lnTo>
                  <a:lnTo>
                    <a:pt x="1266" y="700"/>
                  </a:lnTo>
                  <a:lnTo>
                    <a:pt x="1267" y="710"/>
                  </a:lnTo>
                  <a:lnTo>
                    <a:pt x="1268" y="722"/>
                  </a:lnTo>
                  <a:lnTo>
                    <a:pt x="1271" y="731"/>
                  </a:lnTo>
                  <a:lnTo>
                    <a:pt x="1274" y="738"/>
                  </a:lnTo>
                  <a:lnTo>
                    <a:pt x="1279" y="745"/>
                  </a:lnTo>
                  <a:lnTo>
                    <a:pt x="1286" y="750"/>
                  </a:lnTo>
                  <a:lnTo>
                    <a:pt x="1293" y="753"/>
                  </a:lnTo>
                  <a:lnTo>
                    <a:pt x="1301" y="757"/>
                  </a:lnTo>
                  <a:lnTo>
                    <a:pt x="1311" y="758"/>
                  </a:lnTo>
                  <a:lnTo>
                    <a:pt x="1321" y="758"/>
                  </a:lnTo>
                  <a:lnTo>
                    <a:pt x="1332" y="758"/>
                  </a:lnTo>
                  <a:lnTo>
                    <a:pt x="1343" y="757"/>
                  </a:lnTo>
                  <a:lnTo>
                    <a:pt x="1356" y="755"/>
                  </a:lnTo>
                  <a:lnTo>
                    <a:pt x="1381" y="749"/>
                  </a:lnTo>
                  <a:lnTo>
                    <a:pt x="1407" y="742"/>
                  </a:lnTo>
                  <a:lnTo>
                    <a:pt x="1433" y="732"/>
                  </a:lnTo>
                  <a:lnTo>
                    <a:pt x="1458" y="722"/>
                  </a:lnTo>
                  <a:lnTo>
                    <a:pt x="1482" y="711"/>
                  </a:lnTo>
                  <a:lnTo>
                    <a:pt x="1503" y="701"/>
                  </a:lnTo>
                  <a:lnTo>
                    <a:pt x="1535" y="686"/>
                  </a:lnTo>
                  <a:lnTo>
                    <a:pt x="1546" y="679"/>
                  </a:lnTo>
                  <a:lnTo>
                    <a:pt x="1639" y="494"/>
                  </a:lnTo>
                  <a:lnTo>
                    <a:pt x="1823" y="494"/>
                  </a:lnTo>
                  <a:lnTo>
                    <a:pt x="1979" y="616"/>
                  </a:lnTo>
                  <a:lnTo>
                    <a:pt x="2071" y="616"/>
                  </a:lnTo>
                  <a:lnTo>
                    <a:pt x="2258" y="771"/>
                  </a:lnTo>
                  <a:lnTo>
                    <a:pt x="2535" y="771"/>
                  </a:lnTo>
                  <a:lnTo>
                    <a:pt x="2531" y="791"/>
                  </a:lnTo>
                  <a:lnTo>
                    <a:pt x="2532" y="815"/>
                  </a:lnTo>
                  <a:lnTo>
                    <a:pt x="2537" y="843"/>
                  </a:lnTo>
                  <a:lnTo>
                    <a:pt x="2546" y="875"/>
                  </a:lnTo>
                  <a:lnTo>
                    <a:pt x="2559" y="910"/>
                  </a:lnTo>
                  <a:lnTo>
                    <a:pt x="2576" y="948"/>
                  </a:lnTo>
                  <a:lnTo>
                    <a:pt x="2595" y="989"/>
                  </a:lnTo>
                  <a:lnTo>
                    <a:pt x="2618" y="1033"/>
                  </a:lnTo>
                  <a:lnTo>
                    <a:pt x="2643" y="1079"/>
                  </a:lnTo>
                  <a:lnTo>
                    <a:pt x="2671" y="1126"/>
                  </a:lnTo>
                  <a:lnTo>
                    <a:pt x="2701" y="1175"/>
                  </a:lnTo>
                  <a:lnTo>
                    <a:pt x="2733" y="1225"/>
                  </a:lnTo>
                  <a:lnTo>
                    <a:pt x="2766" y="1277"/>
                  </a:lnTo>
                  <a:lnTo>
                    <a:pt x="2801" y="1328"/>
                  </a:lnTo>
                  <a:lnTo>
                    <a:pt x="2838" y="1381"/>
                  </a:lnTo>
                  <a:lnTo>
                    <a:pt x="2875" y="1432"/>
                  </a:lnTo>
                  <a:lnTo>
                    <a:pt x="2913" y="1483"/>
                  </a:lnTo>
                  <a:lnTo>
                    <a:pt x="2952" y="1534"/>
                  </a:lnTo>
                  <a:lnTo>
                    <a:pt x="2990" y="1583"/>
                  </a:lnTo>
                  <a:lnTo>
                    <a:pt x="3029" y="1631"/>
                  </a:lnTo>
                  <a:lnTo>
                    <a:pt x="3067" y="1677"/>
                  </a:lnTo>
                  <a:lnTo>
                    <a:pt x="3105" y="1721"/>
                  </a:lnTo>
                  <a:lnTo>
                    <a:pt x="3142" y="1763"/>
                  </a:lnTo>
                  <a:lnTo>
                    <a:pt x="3178" y="1802"/>
                  </a:lnTo>
                  <a:lnTo>
                    <a:pt x="3213" y="1837"/>
                  </a:lnTo>
                  <a:lnTo>
                    <a:pt x="3247" y="1870"/>
                  </a:lnTo>
                  <a:lnTo>
                    <a:pt x="3279" y="1899"/>
                  </a:lnTo>
                  <a:lnTo>
                    <a:pt x="3308" y="1925"/>
                  </a:lnTo>
                  <a:lnTo>
                    <a:pt x="3335" y="1945"/>
                  </a:lnTo>
                  <a:lnTo>
                    <a:pt x="3361" y="1961"/>
                  </a:lnTo>
                  <a:lnTo>
                    <a:pt x="3383" y="1972"/>
                  </a:lnTo>
                  <a:lnTo>
                    <a:pt x="3401" y="1978"/>
                  </a:lnTo>
                  <a:lnTo>
                    <a:pt x="3420" y="1981"/>
                  </a:lnTo>
                  <a:lnTo>
                    <a:pt x="3440" y="1986"/>
                  </a:lnTo>
                  <a:lnTo>
                    <a:pt x="3462" y="1990"/>
                  </a:lnTo>
                  <a:lnTo>
                    <a:pt x="3486" y="1997"/>
                  </a:lnTo>
                  <a:lnTo>
                    <a:pt x="3538" y="2014"/>
                  </a:lnTo>
                  <a:lnTo>
                    <a:pt x="3598" y="2035"/>
                  </a:lnTo>
                  <a:lnTo>
                    <a:pt x="3663" y="2059"/>
                  </a:lnTo>
                  <a:lnTo>
                    <a:pt x="3733" y="2090"/>
                  </a:lnTo>
                  <a:lnTo>
                    <a:pt x="3808" y="2124"/>
                  </a:lnTo>
                  <a:lnTo>
                    <a:pt x="3886" y="2162"/>
                  </a:lnTo>
                  <a:lnTo>
                    <a:pt x="3928" y="2182"/>
                  </a:lnTo>
                  <a:lnTo>
                    <a:pt x="3969" y="2204"/>
                  </a:lnTo>
                  <a:lnTo>
                    <a:pt x="4012" y="2227"/>
                  </a:lnTo>
                  <a:lnTo>
                    <a:pt x="4056" y="2251"/>
                  </a:lnTo>
                  <a:lnTo>
                    <a:pt x="4099" y="2277"/>
                  </a:lnTo>
                  <a:lnTo>
                    <a:pt x="4143" y="2302"/>
                  </a:lnTo>
                  <a:lnTo>
                    <a:pt x="4189" y="2330"/>
                  </a:lnTo>
                  <a:lnTo>
                    <a:pt x="4234" y="2358"/>
                  </a:lnTo>
                  <a:lnTo>
                    <a:pt x="4280" y="2389"/>
                  </a:lnTo>
                  <a:lnTo>
                    <a:pt x="4327" y="2419"/>
                  </a:lnTo>
                  <a:lnTo>
                    <a:pt x="4372" y="2451"/>
                  </a:lnTo>
                  <a:lnTo>
                    <a:pt x="4419" y="2483"/>
                  </a:lnTo>
                  <a:lnTo>
                    <a:pt x="4466" y="2517"/>
                  </a:lnTo>
                  <a:lnTo>
                    <a:pt x="4512" y="2552"/>
                  </a:lnTo>
                  <a:lnTo>
                    <a:pt x="4559" y="2588"/>
                  </a:lnTo>
                  <a:lnTo>
                    <a:pt x="4606" y="2626"/>
                  </a:lnTo>
                  <a:lnTo>
                    <a:pt x="4885" y="2410"/>
                  </a:lnTo>
                  <a:lnTo>
                    <a:pt x="4884" y="2390"/>
                  </a:lnTo>
                  <a:lnTo>
                    <a:pt x="4883" y="2369"/>
                  </a:lnTo>
                  <a:lnTo>
                    <a:pt x="4879" y="2349"/>
                  </a:lnTo>
                  <a:lnTo>
                    <a:pt x="4876" y="2328"/>
                  </a:lnTo>
                  <a:lnTo>
                    <a:pt x="4871" y="2307"/>
                  </a:lnTo>
                  <a:lnTo>
                    <a:pt x="4865" y="2287"/>
                  </a:lnTo>
                  <a:lnTo>
                    <a:pt x="4858" y="2266"/>
                  </a:lnTo>
                  <a:lnTo>
                    <a:pt x="4851" y="2246"/>
                  </a:lnTo>
                  <a:lnTo>
                    <a:pt x="4835" y="2206"/>
                  </a:lnTo>
                  <a:lnTo>
                    <a:pt x="4816" y="2168"/>
                  </a:lnTo>
                  <a:lnTo>
                    <a:pt x="4797" y="2132"/>
                  </a:lnTo>
                  <a:lnTo>
                    <a:pt x="4776" y="2097"/>
                  </a:lnTo>
                  <a:lnTo>
                    <a:pt x="4756" y="2065"/>
                  </a:lnTo>
                  <a:lnTo>
                    <a:pt x="4737" y="2036"/>
                  </a:lnTo>
                  <a:lnTo>
                    <a:pt x="4719" y="2010"/>
                  </a:lnTo>
                  <a:lnTo>
                    <a:pt x="4703" y="1988"/>
                  </a:lnTo>
                  <a:lnTo>
                    <a:pt x="4678" y="1958"/>
                  </a:lnTo>
                  <a:lnTo>
                    <a:pt x="4669" y="1946"/>
                  </a:lnTo>
                  <a:lnTo>
                    <a:pt x="4657" y="1924"/>
                  </a:lnTo>
                  <a:lnTo>
                    <a:pt x="4641" y="1898"/>
                  </a:lnTo>
                  <a:lnTo>
                    <a:pt x="4621" y="1869"/>
                  </a:lnTo>
                  <a:lnTo>
                    <a:pt x="4595" y="1836"/>
                  </a:lnTo>
                  <a:lnTo>
                    <a:pt x="4567" y="1800"/>
                  </a:lnTo>
                  <a:lnTo>
                    <a:pt x="4535" y="1763"/>
                  </a:lnTo>
                  <a:lnTo>
                    <a:pt x="4498" y="1722"/>
                  </a:lnTo>
                  <a:lnTo>
                    <a:pt x="4460" y="1678"/>
                  </a:lnTo>
                  <a:lnTo>
                    <a:pt x="4419" y="1634"/>
                  </a:lnTo>
                  <a:lnTo>
                    <a:pt x="4375" y="1587"/>
                  </a:lnTo>
                  <a:lnTo>
                    <a:pt x="4328" y="1538"/>
                  </a:lnTo>
                  <a:lnTo>
                    <a:pt x="4280" y="1489"/>
                  </a:lnTo>
                  <a:lnTo>
                    <a:pt x="4178" y="1389"/>
                  </a:lnTo>
                  <a:lnTo>
                    <a:pt x="4073" y="1286"/>
                  </a:lnTo>
                  <a:lnTo>
                    <a:pt x="3965" y="1183"/>
                  </a:lnTo>
                  <a:lnTo>
                    <a:pt x="3857" y="1084"/>
                  </a:lnTo>
                  <a:lnTo>
                    <a:pt x="3752" y="988"/>
                  </a:lnTo>
                  <a:lnTo>
                    <a:pt x="3650" y="899"/>
                  </a:lnTo>
                  <a:lnTo>
                    <a:pt x="3557" y="818"/>
                  </a:lnTo>
                  <a:lnTo>
                    <a:pt x="3472" y="748"/>
                  </a:lnTo>
                  <a:lnTo>
                    <a:pt x="3433" y="717"/>
                  </a:lnTo>
                  <a:lnTo>
                    <a:pt x="3398" y="690"/>
                  </a:lnTo>
                  <a:lnTo>
                    <a:pt x="3366" y="667"/>
                  </a:lnTo>
                  <a:lnTo>
                    <a:pt x="3338" y="647"/>
                  </a:lnTo>
                  <a:lnTo>
                    <a:pt x="3285" y="611"/>
                  </a:lnTo>
                  <a:lnTo>
                    <a:pt x="3231" y="571"/>
                  </a:lnTo>
                  <a:lnTo>
                    <a:pt x="3175" y="528"/>
                  </a:lnTo>
                  <a:lnTo>
                    <a:pt x="3119" y="484"/>
                  </a:lnTo>
                  <a:lnTo>
                    <a:pt x="3062" y="438"/>
                  </a:lnTo>
                  <a:lnTo>
                    <a:pt x="3007" y="391"/>
                  </a:lnTo>
                  <a:lnTo>
                    <a:pt x="2952" y="346"/>
                  </a:lnTo>
                  <a:lnTo>
                    <a:pt x="2900" y="300"/>
                  </a:lnTo>
                  <a:lnTo>
                    <a:pt x="2803" y="217"/>
                  </a:lnTo>
                  <a:lnTo>
                    <a:pt x="2722" y="146"/>
                  </a:lnTo>
                  <a:lnTo>
                    <a:pt x="2689" y="118"/>
                  </a:lnTo>
                  <a:lnTo>
                    <a:pt x="2661" y="95"/>
                  </a:lnTo>
                  <a:lnTo>
                    <a:pt x="2639" y="78"/>
                  </a:lnTo>
                  <a:lnTo>
                    <a:pt x="2624" y="69"/>
                  </a:lnTo>
                  <a:lnTo>
                    <a:pt x="2609" y="60"/>
                  </a:lnTo>
                  <a:lnTo>
                    <a:pt x="2595" y="50"/>
                  </a:lnTo>
                  <a:lnTo>
                    <a:pt x="2584" y="41"/>
                  </a:lnTo>
                  <a:lnTo>
                    <a:pt x="2572" y="3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10" name="Freeform 231"/>
            <p:cNvSpPr/>
            <p:nvPr/>
          </p:nvSpPr>
          <p:spPr>
            <a:xfrm>
              <a:off x="6159960" y="2148480"/>
              <a:ext cx="545040" cy="371880"/>
            </a:xfrm>
            <a:custGeom>
              <a:avLst/>
              <a:gdLst>
                <a:gd name="textAreaLeft" fmla="*/ 0 w 545040"/>
                <a:gd name="textAreaRight" fmla="*/ 545400 w 545040"/>
                <a:gd name="textAreaTop" fmla="*/ 0 h 371880"/>
                <a:gd name="textAreaBottom" fmla="*/ 372240 h 371880"/>
              </a:gdLst>
              <a:ahLst/>
              <a:rect l="textAreaLeft" t="textAreaTop" r="textAreaRight" b="textAreaBottom"/>
              <a:pathLst>
                <a:path w="1238" h="822">
                  <a:moveTo>
                    <a:pt x="1124" y="762"/>
                  </a:moveTo>
                  <a:lnTo>
                    <a:pt x="1238" y="776"/>
                  </a:lnTo>
                  <a:lnTo>
                    <a:pt x="1238" y="762"/>
                  </a:lnTo>
                  <a:lnTo>
                    <a:pt x="1237" y="747"/>
                  </a:lnTo>
                  <a:lnTo>
                    <a:pt x="1236" y="732"/>
                  </a:lnTo>
                  <a:lnTo>
                    <a:pt x="1234" y="717"/>
                  </a:lnTo>
                  <a:lnTo>
                    <a:pt x="1230" y="703"/>
                  </a:lnTo>
                  <a:lnTo>
                    <a:pt x="1227" y="688"/>
                  </a:lnTo>
                  <a:lnTo>
                    <a:pt x="1222" y="672"/>
                  </a:lnTo>
                  <a:lnTo>
                    <a:pt x="1217" y="657"/>
                  </a:lnTo>
                  <a:lnTo>
                    <a:pt x="1212" y="641"/>
                  </a:lnTo>
                  <a:lnTo>
                    <a:pt x="1205" y="626"/>
                  </a:lnTo>
                  <a:lnTo>
                    <a:pt x="1198" y="611"/>
                  </a:lnTo>
                  <a:lnTo>
                    <a:pt x="1189" y="594"/>
                  </a:lnTo>
                  <a:lnTo>
                    <a:pt x="1181" y="579"/>
                  </a:lnTo>
                  <a:lnTo>
                    <a:pt x="1171" y="563"/>
                  </a:lnTo>
                  <a:lnTo>
                    <a:pt x="1160" y="546"/>
                  </a:lnTo>
                  <a:lnTo>
                    <a:pt x="1150" y="531"/>
                  </a:lnTo>
                  <a:lnTo>
                    <a:pt x="1124" y="497"/>
                  </a:lnTo>
                  <a:lnTo>
                    <a:pt x="1096" y="465"/>
                  </a:lnTo>
                  <a:lnTo>
                    <a:pt x="1064" y="431"/>
                  </a:lnTo>
                  <a:lnTo>
                    <a:pt x="1029" y="396"/>
                  </a:lnTo>
                  <a:lnTo>
                    <a:pt x="991" y="361"/>
                  </a:lnTo>
                  <a:lnTo>
                    <a:pt x="949" y="326"/>
                  </a:lnTo>
                  <a:lnTo>
                    <a:pt x="903" y="289"/>
                  </a:lnTo>
                  <a:lnTo>
                    <a:pt x="853" y="252"/>
                  </a:lnTo>
                  <a:lnTo>
                    <a:pt x="844" y="267"/>
                  </a:lnTo>
                  <a:lnTo>
                    <a:pt x="835" y="281"/>
                  </a:lnTo>
                  <a:lnTo>
                    <a:pt x="827" y="294"/>
                  </a:lnTo>
                  <a:lnTo>
                    <a:pt x="819" y="305"/>
                  </a:lnTo>
                  <a:lnTo>
                    <a:pt x="811" y="314"/>
                  </a:lnTo>
                  <a:lnTo>
                    <a:pt x="803" y="322"/>
                  </a:lnTo>
                  <a:lnTo>
                    <a:pt x="796" y="329"/>
                  </a:lnTo>
                  <a:lnTo>
                    <a:pt x="789" y="335"/>
                  </a:lnTo>
                  <a:lnTo>
                    <a:pt x="782" y="340"/>
                  </a:lnTo>
                  <a:lnTo>
                    <a:pt x="775" y="342"/>
                  </a:lnTo>
                  <a:lnTo>
                    <a:pt x="768" y="344"/>
                  </a:lnTo>
                  <a:lnTo>
                    <a:pt x="762" y="344"/>
                  </a:lnTo>
                  <a:lnTo>
                    <a:pt x="756" y="344"/>
                  </a:lnTo>
                  <a:lnTo>
                    <a:pt x="750" y="342"/>
                  </a:lnTo>
                  <a:lnTo>
                    <a:pt x="745" y="340"/>
                  </a:lnTo>
                  <a:lnTo>
                    <a:pt x="741" y="335"/>
                  </a:lnTo>
                  <a:lnTo>
                    <a:pt x="736" y="330"/>
                  </a:lnTo>
                  <a:lnTo>
                    <a:pt x="733" y="323"/>
                  </a:lnTo>
                  <a:lnTo>
                    <a:pt x="729" y="316"/>
                  </a:lnTo>
                  <a:lnTo>
                    <a:pt x="727" y="307"/>
                  </a:lnTo>
                  <a:lnTo>
                    <a:pt x="724" y="298"/>
                  </a:lnTo>
                  <a:lnTo>
                    <a:pt x="723" y="287"/>
                  </a:lnTo>
                  <a:lnTo>
                    <a:pt x="722" y="275"/>
                  </a:lnTo>
                  <a:lnTo>
                    <a:pt x="722" y="263"/>
                  </a:lnTo>
                  <a:lnTo>
                    <a:pt x="722" y="250"/>
                  </a:lnTo>
                  <a:lnTo>
                    <a:pt x="723" y="234"/>
                  </a:lnTo>
                  <a:lnTo>
                    <a:pt x="724" y="219"/>
                  </a:lnTo>
                  <a:lnTo>
                    <a:pt x="727" y="203"/>
                  </a:lnTo>
                  <a:lnTo>
                    <a:pt x="734" y="168"/>
                  </a:lnTo>
                  <a:lnTo>
                    <a:pt x="743" y="128"/>
                  </a:lnTo>
                  <a:lnTo>
                    <a:pt x="744" y="126"/>
                  </a:lnTo>
                  <a:lnTo>
                    <a:pt x="745" y="119"/>
                  </a:lnTo>
                  <a:lnTo>
                    <a:pt x="745" y="115"/>
                  </a:lnTo>
                  <a:lnTo>
                    <a:pt x="743" y="111"/>
                  </a:lnTo>
                  <a:lnTo>
                    <a:pt x="741" y="106"/>
                  </a:lnTo>
                  <a:lnTo>
                    <a:pt x="736" y="102"/>
                  </a:lnTo>
                  <a:lnTo>
                    <a:pt x="729" y="99"/>
                  </a:lnTo>
                  <a:lnTo>
                    <a:pt x="720" y="97"/>
                  </a:lnTo>
                  <a:lnTo>
                    <a:pt x="708" y="94"/>
                  </a:lnTo>
                  <a:lnTo>
                    <a:pt x="692" y="94"/>
                  </a:lnTo>
                  <a:lnTo>
                    <a:pt x="673" y="95"/>
                  </a:lnTo>
                  <a:lnTo>
                    <a:pt x="650" y="99"/>
                  </a:lnTo>
                  <a:lnTo>
                    <a:pt x="623" y="104"/>
                  </a:lnTo>
                  <a:lnTo>
                    <a:pt x="590" y="111"/>
                  </a:lnTo>
                  <a:lnTo>
                    <a:pt x="594" y="108"/>
                  </a:lnTo>
                  <a:lnTo>
                    <a:pt x="598" y="101"/>
                  </a:lnTo>
                  <a:lnTo>
                    <a:pt x="605" y="91"/>
                  </a:lnTo>
                  <a:lnTo>
                    <a:pt x="611" y="79"/>
                  </a:lnTo>
                  <a:lnTo>
                    <a:pt x="612" y="73"/>
                  </a:lnTo>
                  <a:lnTo>
                    <a:pt x="613" y="66"/>
                  </a:lnTo>
                  <a:lnTo>
                    <a:pt x="612" y="60"/>
                  </a:lnTo>
                  <a:lnTo>
                    <a:pt x="609" y="55"/>
                  </a:lnTo>
                  <a:lnTo>
                    <a:pt x="604" y="49"/>
                  </a:lnTo>
                  <a:lnTo>
                    <a:pt x="596" y="44"/>
                  </a:lnTo>
                  <a:lnTo>
                    <a:pt x="587" y="39"/>
                  </a:lnTo>
                  <a:lnTo>
                    <a:pt x="574" y="36"/>
                  </a:lnTo>
                  <a:lnTo>
                    <a:pt x="546" y="29"/>
                  </a:lnTo>
                  <a:lnTo>
                    <a:pt x="519" y="20"/>
                  </a:lnTo>
                  <a:lnTo>
                    <a:pt x="492" y="11"/>
                  </a:lnTo>
                  <a:lnTo>
                    <a:pt x="463" y="4"/>
                  </a:lnTo>
                  <a:lnTo>
                    <a:pt x="448" y="1"/>
                  </a:lnTo>
                  <a:lnTo>
                    <a:pt x="431" y="0"/>
                  </a:lnTo>
                  <a:lnTo>
                    <a:pt x="413" y="0"/>
                  </a:lnTo>
                  <a:lnTo>
                    <a:pt x="394" y="0"/>
                  </a:lnTo>
                  <a:lnTo>
                    <a:pt x="373" y="2"/>
                  </a:lnTo>
                  <a:lnTo>
                    <a:pt x="349" y="6"/>
                  </a:lnTo>
                  <a:lnTo>
                    <a:pt x="324" y="11"/>
                  </a:lnTo>
                  <a:lnTo>
                    <a:pt x="297" y="20"/>
                  </a:lnTo>
                  <a:lnTo>
                    <a:pt x="311" y="111"/>
                  </a:lnTo>
                  <a:lnTo>
                    <a:pt x="305" y="108"/>
                  </a:lnTo>
                  <a:lnTo>
                    <a:pt x="288" y="102"/>
                  </a:lnTo>
                  <a:lnTo>
                    <a:pt x="260" y="93"/>
                  </a:lnTo>
                  <a:lnTo>
                    <a:pt x="219" y="83"/>
                  </a:lnTo>
                  <a:lnTo>
                    <a:pt x="220" y="86"/>
                  </a:lnTo>
                  <a:lnTo>
                    <a:pt x="220" y="95"/>
                  </a:lnTo>
                  <a:lnTo>
                    <a:pt x="221" y="108"/>
                  </a:lnTo>
                  <a:lnTo>
                    <a:pt x="219" y="125"/>
                  </a:lnTo>
                  <a:lnTo>
                    <a:pt x="216" y="134"/>
                  </a:lnTo>
                  <a:lnTo>
                    <a:pt x="214" y="142"/>
                  </a:lnTo>
                  <a:lnTo>
                    <a:pt x="210" y="152"/>
                  </a:lnTo>
                  <a:lnTo>
                    <a:pt x="206" y="160"/>
                  </a:lnTo>
                  <a:lnTo>
                    <a:pt x="200" y="168"/>
                  </a:lnTo>
                  <a:lnTo>
                    <a:pt x="192" y="176"/>
                  </a:lnTo>
                  <a:lnTo>
                    <a:pt x="184" y="183"/>
                  </a:lnTo>
                  <a:lnTo>
                    <a:pt x="173" y="189"/>
                  </a:lnTo>
                  <a:lnTo>
                    <a:pt x="154" y="184"/>
                  </a:lnTo>
                  <a:lnTo>
                    <a:pt x="136" y="182"/>
                  </a:lnTo>
                  <a:lnTo>
                    <a:pt x="119" y="182"/>
                  </a:lnTo>
                  <a:lnTo>
                    <a:pt x="104" y="182"/>
                  </a:lnTo>
                  <a:lnTo>
                    <a:pt x="90" y="184"/>
                  </a:lnTo>
                  <a:lnTo>
                    <a:pt x="76" y="189"/>
                  </a:lnTo>
                  <a:lnTo>
                    <a:pt x="64" y="194"/>
                  </a:lnTo>
                  <a:lnTo>
                    <a:pt x="54" y="201"/>
                  </a:lnTo>
                  <a:lnTo>
                    <a:pt x="45" y="208"/>
                  </a:lnTo>
                  <a:lnTo>
                    <a:pt x="35" y="216"/>
                  </a:lnTo>
                  <a:lnTo>
                    <a:pt x="27" y="226"/>
                  </a:lnTo>
                  <a:lnTo>
                    <a:pt x="21" y="236"/>
                  </a:lnTo>
                  <a:lnTo>
                    <a:pt x="15" y="247"/>
                  </a:lnTo>
                  <a:lnTo>
                    <a:pt x="11" y="259"/>
                  </a:lnTo>
                  <a:lnTo>
                    <a:pt x="7" y="272"/>
                  </a:lnTo>
                  <a:lnTo>
                    <a:pt x="4" y="285"/>
                  </a:lnTo>
                  <a:lnTo>
                    <a:pt x="1" y="299"/>
                  </a:lnTo>
                  <a:lnTo>
                    <a:pt x="0" y="312"/>
                  </a:lnTo>
                  <a:lnTo>
                    <a:pt x="0" y="326"/>
                  </a:lnTo>
                  <a:lnTo>
                    <a:pt x="1" y="340"/>
                  </a:lnTo>
                  <a:lnTo>
                    <a:pt x="3" y="355"/>
                  </a:lnTo>
                  <a:lnTo>
                    <a:pt x="5" y="369"/>
                  </a:lnTo>
                  <a:lnTo>
                    <a:pt x="7" y="383"/>
                  </a:lnTo>
                  <a:lnTo>
                    <a:pt x="11" y="397"/>
                  </a:lnTo>
                  <a:lnTo>
                    <a:pt x="15" y="410"/>
                  </a:lnTo>
                  <a:lnTo>
                    <a:pt x="20" y="423"/>
                  </a:lnTo>
                  <a:lnTo>
                    <a:pt x="26" y="435"/>
                  </a:lnTo>
                  <a:lnTo>
                    <a:pt x="33" y="448"/>
                  </a:lnTo>
                  <a:lnTo>
                    <a:pt x="39" y="459"/>
                  </a:lnTo>
                  <a:lnTo>
                    <a:pt x="47" y="469"/>
                  </a:lnTo>
                  <a:lnTo>
                    <a:pt x="55" y="480"/>
                  </a:lnTo>
                  <a:lnTo>
                    <a:pt x="63" y="488"/>
                  </a:lnTo>
                  <a:lnTo>
                    <a:pt x="90" y="515"/>
                  </a:lnTo>
                  <a:lnTo>
                    <a:pt x="114" y="541"/>
                  </a:lnTo>
                  <a:lnTo>
                    <a:pt x="135" y="565"/>
                  </a:lnTo>
                  <a:lnTo>
                    <a:pt x="153" y="588"/>
                  </a:lnTo>
                  <a:lnTo>
                    <a:pt x="170" y="612"/>
                  </a:lnTo>
                  <a:lnTo>
                    <a:pt x="184" y="633"/>
                  </a:lnTo>
                  <a:lnTo>
                    <a:pt x="195" y="655"/>
                  </a:lnTo>
                  <a:lnTo>
                    <a:pt x="205" y="675"/>
                  </a:lnTo>
                  <a:lnTo>
                    <a:pt x="210" y="695"/>
                  </a:lnTo>
                  <a:lnTo>
                    <a:pt x="215" y="715"/>
                  </a:lnTo>
                  <a:lnTo>
                    <a:pt x="216" y="724"/>
                  </a:lnTo>
                  <a:lnTo>
                    <a:pt x="216" y="733"/>
                  </a:lnTo>
                  <a:lnTo>
                    <a:pt x="216" y="743"/>
                  </a:lnTo>
                  <a:lnTo>
                    <a:pt x="215" y="752"/>
                  </a:lnTo>
                  <a:lnTo>
                    <a:pt x="214" y="761"/>
                  </a:lnTo>
                  <a:lnTo>
                    <a:pt x="212" y="769"/>
                  </a:lnTo>
                  <a:lnTo>
                    <a:pt x="209" y="779"/>
                  </a:lnTo>
                  <a:lnTo>
                    <a:pt x="206" y="788"/>
                  </a:lnTo>
                  <a:lnTo>
                    <a:pt x="198" y="806"/>
                  </a:lnTo>
                  <a:lnTo>
                    <a:pt x="187" y="822"/>
                  </a:lnTo>
                  <a:lnTo>
                    <a:pt x="714" y="800"/>
                  </a:lnTo>
                  <a:lnTo>
                    <a:pt x="1124" y="762"/>
                  </a:lnTo>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11" name="Freeform 232"/>
            <p:cNvSpPr/>
            <p:nvPr/>
          </p:nvSpPr>
          <p:spPr>
            <a:xfrm>
              <a:off x="6964200" y="2034720"/>
              <a:ext cx="729360" cy="376560"/>
            </a:xfrm>
            <a:custGeom>
              <a:avLst/>
              <a:gdLst>
                <a:gd name="textAreaLeft" fmla="*/ 0 w 729360"/>
                <a:gd name="textAreaRight" fmla="*/ 729360 w 729360"/>
                <a:gd name="textAreaTop" fmla="*/ 0 h 376560"/>
                <a:gd name="textAreaBottom" fmla="*/ 376920 h 376560"/>
              </a:gdLst>
              <a:ahLst/>
              <a:rect l="textAreaLeft" t="textAreaTop" r="textAreaRight" b="textAreaBottom"/>
              <a:pathLst>
                <a:path w="1661" h="830">
                  <a:moveTo>
                    <a:pt x="1301" y="775"/>
                  </a:moveTo>
                  <a:lnTo>
                    <a:pt x="1116" y="691"/>
                  </a:lnTo>
                  <a:lnTo>
                    <a:pt x="1101" y="695"/>
                  </a:lnTo>
                  <a:lnTo>
                    <a:pt x="1087" y="697"/>
                  </a:lnTo>
                  <a:lnTo>
                    <a:pt x="1074" y="697"/>
                  </a:lnTo>
                  <a:lnTo>
                    <a:pt x="1061" y="695"/>
                  </a:lnTo>
                  <a:lnTo>
                    <a:pt x="1046" y="694"/>
                  </a:lnTo>
                  <a:lnTo>
                    <a:pt x="1029" y="695"/>
                  </a:lnTo>
                  <a:lnTo>
                    <a:pt x="1006" y="699"/>
                  </a:lnTo>
                  <a:lnTo>
                    <a:pt x="978" y="706"/>
                  </a:lnTo>
                  <a:lnTo>
                    <a:pt x="953" y="711"/>
                  </a:lnTo>
                  <a:lnTo>
                    <a:pt x="912" y="718"/>
                  </a:lnTo>
                  <a:lnTo>
                    <a:pt x="857" y="726"/>
                  </a:lnTo>
                  <a:lnTo>
                    <a:pt x="790" y="735"/>
                  </a:lnTo>
                  <a:lnTo>
                    <a:pt x="714" y="744"/>
                  </a:lnTo>
                  <a:lnTo>
                    <a:pt x="634" y="755"/>
                  </a:lnTo>
                  <a:lnTo>
                    <a:pt x="547" y="765"/>
                  </a:lnTo>
                  <a:lnTo>
                    <a:pt x="461" y="776"/>
                  </a:lnTo>
                  <a:lnTo>
                    <a:pt x="374" y="787"/>
                  </a:lnTo>
                  <a:lnTo>
                    <a:pt x="292" y="796"/>
                  </a:lnTo>
                  <a:lnTo>
                    <a:pt x="216" y="805"/>
                  </a:lnTo>
                  <a:lnTo>
                    <a:pt x="147" y="813"/>
                  </a:lnTo>
                  <a:lnTo>
                    <a:pt x="89" y="820"/>
                  </a:lnTo>
                  <a:lnTo>
                    <a:pt x="46" y="825"/>
                  </a:lnTo>
                  <a:lnTo>
                    <a:pt x="18" y="829"/>
                  </a:lnTo>
                  <a:lnTo>
                    <a:pt x="8" y="830"/>
                  </a:lnTo>
                  <a:lnTo>
                    <a:pt x="0" y="763"/>
                  </a:lnTo>
                  <a:lnTo>
                    <a:pt x="18" y="743"/>
                  </a:lnTo>
                  <a:lnTo>
                    <a:pt x="38" y="725"/>
                  </a:lnTo>
                  <a:lnTo>
                    <a:pt x="57" y="704"/>
                  </a:lnTo>
                  <a:lnTo>
                    <a:pt x="74" y="683"/>
                  </a:lnTo>
                  <a:lnTo>
                    <a:pt x="74" y="498"/>
                  </a:lnTo>
                  <a:lnTo>
                    <a:pt x="141" y="498"/>
                  </a:lnTo>
                  <a:lnTo>
                    <a:pt x="202" y="496"/>
                  </a:lnTo>
                  <a:lnTo>
                    <a:pt x="231" y="494"/>
                  </a:lnTo>
                  <a:lnTo>
                    <a:pt x="258" y="492"/>
                  </a:lnTo>
                  <a:lnTo>
                    <a:pt x="283" y="490"/>
                  </a:lnTo>
                  <a:lnTo>
                    <a:pt x="309" y="486"/>
                  </a:lnTo>
                  <a:lnTo>
                    <a:pt x="332" y="483"/>
                  </a:lnTo>
                  <a:lnTo>
                    <a:pt x="355" y="478"/>
                  </a:lnTo>
                  <a:lnTo>
                    <a:pt x="376" y="473"/>
                  </a:lnTo>
                  <a:lnTo>
                    <a:pt x="395" y="469"/>
                  </a:lnTo>
                  <a:lnTo>
                    <a:pt x="414" y="462"/>
                  </a:lnTo>
                  <a:lnTo>
                    <a:pt x="432" y="455"/>
                  </a:lnTo>
                  <a:lnTo>
                    <a:pt x="448" y="447"/>
                  </a:lnTo>
                  <a:lnTo>
                    <a:pt x="463" y="438"/>
                  </a:lnTo>
                  <a:lnTo>
                    <a:pt x="477" y="429"/>
                  </a:lnTo>
                  <a:lnTo>
                    <a:pt x="490" y="419"/>
                  </a:lnTo>
                  <a:lnTo>
                    <a:pt x="502" y="407"/>
                  </a:lnTo>
                  <a:lnTo>
                    <a:pt x="512" y="395"/>
                  </a:lnTo>
                  <a:lnTo>
                    <a:pt x="522" y="382"/>
                  </a:lnTo>
                  <a:lnTo>
                    <a:pt x="530" y="367"/>
                  </a:lnTo>
                  <a:lnTo>
                    <a:pt x="537" y="352"/>
                  </a:lnTo>
                  <a:lnTo>
                    <a:pt x="543" y="336"/>
                  </a:lnTo>
                  <a:lnTo>
                    <a:pt x="547" y="318"/>
                  </a:lnTo>
                  <a:lnTo>
                    <a:pt x="551" y="299"/>
                  </a:lnTo>
                  <a:lnTo>
                    <a:pt x="554" y="278"/>
                  </a:lnTo>
                  <a:lnTo>
                    <a:pt x="556" y="257"/>
                  </a:lnTo>
                  <a:lnTo>
                    <a:pt x="557" y="235"/>
                  </a:lnTo>
                  <a:lnTo>
                    <a:pt x="556" y="211"/>
                  </a:lnTo>
                  <a:lnTo>
                    <a:pt x="554" y="185"/>
                  </a:lnTo>
                  <a:lnTo>
                    <a:pt x="552" y="158"/>
                  </a:lnTo>
                  <a:lnTo>
                    <a:pt x="690" y="17"/>
                  </a:lnTo>
                  <a:lnTo>
                    <a:pt x="699" y="17"/>
                  </a:lnTo>
                  <a:lnTo>
                    <a:pt x="723" y="17"/>
                  </a:lnTo>
                  <a:lnTo>
                    <a:pt x="759" y="17"/>
                  </a:lnTo>
                  <a:lnTo>
                    <a:pt x="806" y="16"/>
                  </a:lnTo>
                  <a:lnTo>
                    <a:pt x="859" y="13"/>
                  </a:lnTo>
                  <a:lnTo>
                    <a:pt x="920" y="10"/>
                  </a:lnTo>
                  <a:lnTo>
                    <a:pt x="983" y="6"/>
                  </a:lnTo>
                  <a:lnTo>
                    <a:pt x="1047" y="0"/>
                  </a:lnTo>
                  <a:lnTo>
                    <a:pt x="1416" y="421"/>
                  </a:lnTo>
                  <a:lnTo>
                    <a:pt x="1416" y="521"/>
                  </a:lnTo>
                  <a:lnTo>
                    <a:pt x="1471" y="545"/>
                  </a:lnTo>
                  <a:lnTo>
                    <a:pt x="1661" y="792"/>
                  </a:lnTo>
                  <a:lnTo>
                    <a:pt x="1651" y="796"/>
                  </a:lnTo>
                  <a:lnTo>
                    <a:pt x="1641" y="801"/>
                  </a:lnTo>
                  <a:lnTo>
                    <a:pt x="1627" y="805"/>
                  </a:lnTo>
                  <a:lnTo>
                    <a:pt x="1613" y="809"/>
                  </a:lnTo>
                  <a:lnTo>
                    <a:pt x="1596" y="812"/>
                  </a:lnTo>
                  <a:lnTo>
                    <a:pt x="1578" y="815"/>
                  </a:lnTo>
                  <a:lnTo>
                    <a:pt x="1558" y="817"/>
                  </a:lnTo>
                  <a:lnTo>
                    <a:pt x="1536" y="818"/>
                  </a:lnTo>
                  <a:lnTo>
                    <a:pt x="1512" y="818"/>
                  </a:lnTo>
                  <a:lnTo>
                    <a:pt x="1488" y="817"/>
                  </a:lnTo>
                  <a:lnTo>
                    <a:pt x="1461" y="815"/>
                  </a:lnTo>
                  <a:lnTo>
                    <a:pt x="1432" y="810"/>
                  </a:lnTo>
                  <a:lnTo>
                    <a:pt x="1402" y="804"/>
                  </a:lnTo>
                  <a:lnTo>
                    <a:pt x="1370" y="796"/>
                  </a:lnTo>
                  <a:lnTo>
                    <a:pt x="1336" y="787"/>
                  </a:lnTo>
                  <a:lnTo>
                    <a:pt x="1301" y="77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12" name="Freeform 233"/>
            <p:cNvSpPr/>
            <p:nvPr/>
          </p:nvSpPr>
          <p:spPr>
            <a:xfrm>
              <a:off x="7526880" y="2386800"/>
              <a:ext cx="307440" cy="317520"/>
            </a:xfrm>
            <a:custGeom>
              <a:avLst/>
              <a:gdLst>
                <a:gd name="textAreaLeft" fmla="*/ 0 w 307440"/>
                <a:gd name="textAreaRight" fmla="*/ 307800 w 307440"/>
                <a:gd name="textAreaTop" fmla="*/ 0 h 317520"/>
                <a:gd name="textAreaBottom" fmla="*/ 317880 h 317520"/>
              </a:gdLst>
              <a:ahLst/>
              <a:rect l="textAreaLeft" t="textAreaTop" r="textAreaRight" b="textAreaBottom"/>
              <a:pathLst>
                <a:path w="698" h="697">
                  <a:moveTo>
                    <a:pt x="146" y="426"/>
                  </a:moveTo>
                  <a:lnTo>
                    <a:pt x="144" y="418"/>
                  </a:lnTo>
                  <a:lnTo>
                    <a:pt x="143" y="411"/>
                  </a:lnTo>
                  <a:lnTo>
                    <a:pt x="143" y="404"/>
                  </a:lnTo>
                  <a:lnTo>
                    <a:pt x="144" y="397"/>
                  </a:lnTo>
                  <a:lnTo>
                    <a:pt x="146" y="390"/>
                  </a:lnTo>
                  <a:lnTo>
                    <a:pt x="148" y="383"/>
                  </a:lnTo>
                  <a:lnTo>
                    <a:pt x="150" y="377"/>
                  </a:lnTo>
                  <a:lnTo>
                    <a:pt x="155" y="371"/>
                  </a:lnTo>
                  <a:lnTo>
                    <a:pt x="158" y="365"/>
                  </a:lnTo>
                  <a:lnTo>
                    <a:pt x="164" y="360"/>
                  </a:lnTo>
                  <a:lnTo>
                    <a:pt x="170" y="355"/>
                  </a:lnTo>
                  <a:lnTo>
                    <a:pt x="177" y="351"/>
                  </a:lnTo>
                  <a:lnTo>
                    <a:pt x="185" y="348"/>
                  </a:lnTo>
                  <a:lnTo>
                    <a:pt x="195" y="344"/>
                  </a:lnTo>
                  <a:lnTo>
                    <a:pt x="204" y="342"/>
                  </a:lnTo>
                  <a:lnTo>
                    <a:pt x="215" y="340"/>
                  </a:lnTo>
                  <a:lnTo>
                    <a:pt x="216" y="332"/>
                  </a:lnTo>
                  <a:lnTo>
                    <a:pt x="219" y="309"/>
                  </a:lnTo>
                  <a:lnTo>
                    <a:pt x="223" y="278"/>
                  </a:lnTo>
                  <a:lnTo>
                    <a:pt x="224" y="239"/>
                  </a:lnTo>
                  <a:lnTo>
                    <a:pt x="220" y="226"/>
                  </a:lnTo>
                  <a:lnTo>
                    <a:pt x="215" y="216"/>
                  </a:lnTo>
                  <a:lnTo>
                    <a:pt x="209" y="205"/>
                  </a:lnTo>
                  <a:lnTo>
                    <a:pt x="202" y="195"/>
                  </a:lnTo>
                  <a:lnTo>
                    <a:pt x="194" y="186"/>
                  </a:lnTo>
                  <a:lnTo>
                    <a:pt x="184" y="176"/>
                  </a:lnTo>
                  <a:lnTo>
                    <a:pt x="175" y="167"/>
                  </a:lnTo>
                  <a:lnTo>
                    <a:pt x="164" y="159"/>
                  </a:lnTo>
                  <a:lnTo>
                    <a:pt x="142" y="143"/>
                  </a:lnTo>
                  <a:lnTo>
                    <a:pt x="119" y="129"/>
                  </a:lnTo>
                  <a:lnTo>
                    <a:pt x="95" y="115"/>
                  </a:lnTo>
                  <a:lnTo>
                    <a:pt x="73" y="103"/>
                  </a:lnTo>
                  <a:lnTo>
                    <a:pt x="52" y="91"/>
                  </a:lnTo>
                  <a:lnTo>
                    <a:pt x="33" y="79"/>
                  </a:lnTo>
                  <a:lnTo>
                    <a:pt x="25" y="73"/>
                  </a:lnTo>
                  <a:lnTo>
                    <a:pt x="17" y="68"/>
                  </a:lnTo>
                  <a:lnTo>
                    <a:pt x="11" y="62"/>
                  </a:lnTo>
                  <a:lnTo>
                    <a:pt x="7" y="56"/>
                  </a:lnTo>
                  <a:lnTo>
                    <a:pt x="3" y="49"/>
                  </a:lnTo>
                  <a:lnTo>
                    <a:pt x="1" y="43"/>
                  </a:lnTo>
                  <a:lnTo>
                    <a:pt x="0" y="36"/>
                  </a:lnTo>
                  <a:lnTo>
                    <a:pt x="1" y="29"/>
                  </a:lnTo>
                  <a:lnTo>
                    <a:pt x="3" y="22"/>
                  </a:lnTo>
                  <a:lnTo>
                    <a:pt x="8" y="15"/>
                  </a:lnTo>
                  <a:lnTo>
                    <a:pt x="14" y="8"/>
                  </a:lnTo>
                  <a:lnTo>
                    <a:pt x="22" y="0"/>
                  </a:lnTo>
                  <a:lnTo>
                    <a:pt x="57" y="12"/>
                  </a:lnTo>
                  <a:lnTo>
                    <a:pt x="91" y="21"/>
                  </a:lnTo>
                  <a:lnTo>
                    <a:pt x="123" y="29"/>
                  </a:lnTo>
                  <a:lnTo>
                    <a:pt x="153" y="35"/>
                  </a:lnTo>
                  <a:lnTo>
                    <a:pt x="182" y="40"/>
                  </a:lnTo>
                  <a:lnTo>
                    <a:pt x="209" y="42"/>
                  </a:lnTo>
                  <a:lnTo>
                    <a:pt x="233" y="43"/>
                  </a:lnTo>
                  <a:lnTo>
                    <a:pt x="257" y="43"/>
                  </a:lnTo>
                  <a:lnTo>
                    <a:pt x="279" y="42"/>
                  </a:lnTo>
                  <a:lnTo>
                    <a:pt x="299" y="40"/>
                  </a:lnTo>
                  <a:lnTo>
                    <a:pt x="317" y="37"/>
                  </a:lnTo>
                  <a:lnTo>
                    <a:pt x="334" y="34"/>
                  </a:lnTo>
                  <a:lnTo>
                    <a:pt x="348" y="30"/>
                  </a:lnTo>
                  <a:lnTo>
                    <a:pt x="362" y="26"/>
                  </a:lnTo>
                  <a:lnTo>
                    <a:pt x="372" y="21"/>
                  </a:lnTo>
                  <a:lnTo>
                    <a:pt x="382" y="17"/>
                  </a:lnTo>
                  <a:lnTo>
                    <a:pt x="586" y="233"/>
                  </a:lnTo>
                  <a:lnTo>
                    <a:pt x="586" y="371"/>
                  </a:lnTo>
                  <a:lnTo>
                    <a:pt x="565" y="368"/>
                  </a:lnTo>
                  <a:lnTo>
                    <a:pt x="544" y="364"/>
                  </a:lnTo>
                  <a:lnTo>
                    <a:pt x="524" y="362"/>
                  </a:lnTo>
                  <a:lnTo>
                    <a:pt x="504" y="361"/>
                  </a:lnTo>
                  <a:lnTo>
                    <a:pt x="487" y="361"/>
                  </a:lnTo>
                  <a:lnTo>
                    <a:pt x="468" y="361"/>
                  </a:lnTo>
                  <a:lnTo>
                    <a:pt x="452" y="361"/>
                  </a:lnTo>
                  <a:lnTo>
                    <a:pt x="436" y="363"/>
                  </a:lnTo>
                  <a:lnTo>
                    <a:pt x="421" y="364"/>
                  </a:lnTo>
                  <a:lnTo>
                    <a:pt x="408" y="368"/>
                  </a:lnTo>
                  <a:lnTo>
                    <a:pt x="397" y="370"/>
                  </a:lnTo>
                  <a:lnTo>
                    <a:pt x="386" y="375"/>
                  </a:lnTo>
                  <a:lnTo>
                    <a:pt x="377" y="378"/>
                  </a:lnTo>
                  <a:lnTo>
                    <a:pt x="369" y="383"/>
                  </a:lnTo>
                  <a:lnTo>
                    <a:pt x="363" y="389"/>
                  </a:lnTo>
                  <a:lnTo>
                    <a:pt x="359" y="393"/>
                  </a:lnTo>
                  <a:lnTo>
                    <a:pt x="357" y="400"/>
                  </a:lnTo>
                  <a:lnTo>
                    <a:pt x="357" y="406"/>
                  </a:lnTo>
                  <a:lnTo>
                    <a:pt x="358" y="412"/>
                  </a:lnTo>
                  <a:lnTo>
                    <a:pt x="362" y="419"/>
                  </a:lnTo>
                  <a:lnTo>
                    <a:pt x="368" y="426"/>
                  </a:lnTo>
                  <a:lnTo>
                    <a:pt x="376" y="434"/>
                  </a:lnTo>
                  <a:lnTo>
                    <a:pt x="386" y="441"/>
                  </a:lnTo>
                  <a:lnTo>
                    <a:pt x="400" y="448"/>
                  </a:lnTo>
                  <a:lnTo>
                    <a:pt x="415" y="457"/>
                  </a:lnTo>
                  <a:lnTo>
                    <a:pt x="433" y="464"/>
                  </a:lnTo>
                  <a:lnTo>
                    <a:pt x="454" y="472"/>
                  </a:lnTo>
                  <a:lnTo>
                    <a:pt x="477" y="480"/>
                  </a:lnTo>
                  <a:lnTo>
                    <a:pt x="504" y="487"/>
                  </a:lnTo>
                  <a:lnTo>
                    <a:pt x="533" y="495"/>
                  </a:lnTo>
                  <a:lnTo>
                    <a:pt x="565" y="502"/>
                  </a:lnTo>
                  <a:lnTo>
                    <a:pt x="601" y="509"/>
                  </a:lnTo>
                  <a:lnTo>
                    <a:pt x="615" y="513"/>
                  </a:lnTo>
                  <a:lnTo>
                    <a:pt x="627" y="516"/>
                  </a:lnTo>
                  <a:lnTo>
                    <a:pt x="639" y="520"/>
                  </a:lnTo>
                  <a:lnTo>
                    <a:pt x="649" y="524"/>
                  </a:lnTo>
                  <a:lnTo>
                    <a:pt x="658" y="528"/>
                  </a:lnTo>
                  <a:lnTo>
                    <a:pt x="665" y="532"/>
                  </a:lnTo>
                  <a:lnTo>
                    <a:pt x="672" y="537"/>
                  </a:lnTo>
                  <a:lnTo>
                    <a:pt x="678" y="542"/>
                  </a:lnTo>
                  <a:lnTo>
                    <a:pt x="684" y="548"/>
                  </a:lnTo>
                  <a:lnTo>
                    <a:pt x="688" y="552"/>
                  </a:lnTo>
                  <a:lnTo>
                    <a:pt x="691" y="557"/>
                  </a:lnTo>
                  <a:lnTo>
                    <a:pt x="693" y="563"/>
                  </a:lnTo>
                  <a:lnTo>
                    <a:pt x="697" y="573"/>
                  </a:lnTo>
                  <a:lnTo>
                    <a:pt x="698" y="584"/>
                  </a:lnTo>
                  <a:lnTo>
                    <a:pt x="697" y="593"/>
                  </a:lnTo>
                  <a:lnTo>
                    <a:pt x="695" y="603"/>
                  </a:lnTo>
                  <a:lnTo>
                    <a:pt x="692" y="611"/>
                  </a:lnTo>
                  <a:lnTo>
                    <a:pt x="689" y="619"/>
                  </a:lnTo>
                  <a:lnTo>
                    <a:pt x="682" y="629"/>
                  </a:lnTo>
                  <a:lnTo>
                    <a:pt x="678" y="633"/>
                  </a:lnTo>
                  <a:lnTo>
                    <a:pt x="462" y="697"/>
                  </a:lnTo>
                  <a:lnTo>
                    <a:pt x="146" y="42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13" name="Freeform 234"/>
            <p:cNvSpPr/>
            <p:nvPr/>
          </p:nvSpPr>
          <p:spPr>
            <a:xfrm>
              <a:off x="7586280" y="2136960"/>
              <a:ext cx="433080" cy="160920"/>
            </a:xfrm>
            <a:custGeom>
              <a:avLst/>
              <a:gdLst>
                <a:gd name="textAreaLeft" fmla="*/ 0 w 433080"/>
                <a:gd name="textAreaRight" fmla="*/ 433440 w 433080"/>
                <a:gd name="textAreaTop" fmla="*/ 0 h 160920"/>
                <a:gd name="textAreaBottom" fmla="*/ 161280 h 160920"/>
              </a:gdLst>
              <a:ahLst/>
              <a:rect l="textAreaLeft" t="textAreaTop" r="textAreaRight" b="textAreaBottom"/>
              <a:pathLst>
                <a:path w="983" h="354">
                  <a:moveTo>
                    <a:pt x="55" y="323"/>
                  </a:moveTo>
                  <a:lnTo>
                    <a:pt x="596" y="268"/>
                  </a:lnTo>
                  <a:lnTo>
                    <a:pt x="609" y="271"/>
                  </a:lnTo>
                  <a:lnTo>
                    <a:pt x="644" y="281"/>
                  </a:lnTo>
                  <a:lnTo>
                    <a:pt x="666" y="285"/>
                  </a:lnTo>
                  <a:lnTo>
                    <a:pt x="691" y="291"/>
                  </a:lnTo>
                  <a:lnTo>
                    <a:pt x="718" y="296"/>
                  </a:lnTo>
                  <a:lnTo>
                    <a:pt x="743" y="299"/>
                  </a:lnTo>
                  <a:lnTo>
                    <a:pt x="752" y="301"/>
                  </a:lnTo>
                  <a:lnTo>
                    <a:pt x="761" y="303"/>
                  </a:lnTo>
                  <a:lnTo>
                    <a:pt x="769" y="306"/>
                  </a:lnTo>
                  <a:lnTo>
                    <a:pt x="777" y="310"/>
                  </a:lnTo>
                  <a:lnTo>
                    <a:pt x="792" y="319"/>
                  </a:lnTo>
                  <a:lnTo>
                    <a:pt x="806" y="329"/>
                  </a:lnTo>
                  <a:lnTo>
                    <a:pt x="827" y="346"/>
                  </a:lnTo>
                  <a:lnTo>
                    <a:pt x="836" y="354"/>
                  </a:lnTo>
                  <a:lnTo>
                    <a:pt x="857" y="347"/>
                  </a:lnTo>
                  <a:lnTo>
                    <a:pt x="881" y="340"/>
                  </a:lnTo>
                  <a:lnTo>
                    <a:pt x="909" y="333"/>
                  </a:lnTo>
                  <a:lnTo>
                    <a:pt x="936" y="325"/>
                  </a:lnTo>
                  <a:lnTo>
                    <a:pt x="948" y="320"/>
                  </a:lnTo>
                  <a:lnTo>
                    <a:pt x="959" y="316"/>
                  </a:lnTo>
                  <a:lnTo>
                    <a:pt x="969" y="310"/>
                  </a:lnTo>
                  <a:lnTo>
                    <a:pt x="976" y="304"/>
                  </a:lnTo>
                  <a:lnTo>
                    <a:pt x="978" y="302"/>
                  </a:lnTo>
                  <a:lnTo>
                    <a:pt x="980" y="298"/>
                  </a:lnTo>
                  <a:lnTo>
                    <a:pt x="982" y="295"/>
                  </a:lnTo>
                  <a:lnTo>
                    <a:pt x="983" y="291"/>
                  </a:lnTo>
                  <a:lnTo>
                    <a:pt x="982" y="288"/>
                  </a:lnTo>
                  <a:lnTo>
                    <a:pt x="982" y="284"/>
                  </a:lnTo>
                  <a:lnTo>
                    <a:pt x="979" y="281"/>
                  </a:lnTo>
                  <a:lnTo>
                    <a:pt x="977" y="276"/>
                  </a:lnTo>
                  <a:lnTo>
                    <a:pt x="970" y="265"/>
                  </a:lnTo>
                  <a:lnTo>
                    <a:pt x="965" y="255"/>
                  </a:lnTo>
                  <a:lnTo>
                    <a:pt x="962" y="244"/>
                  </a:lnTo>
                  <a:lnTo>
                    <a:pt x="961" y="234"/>
                  </a:lnTo>
                  <a:lnTo>
                    <a:pt x="962" y="213"/>
                  </a:lnTo>
                  <a:lnTo>
                    <a:pt x="965" y="194"/>
                  </a:lnTo>
                  <a:lnTo>
                    <a:pt x="966" y="185"/>
                  </a:lnTo>
                  <a:lnTo>
                    <a:pt x="968" y="177"/>
                  </a:lnTo>
                  <a:lnTo>
                    <a:pt x="968" y="170"/>
                  </a:lnTo>
                  <a:lnTo>
                    <a:pt x="966" y="164"/>
                  </a:lnTo>
                  <a:lnTo>
                    <a:pt x="964" y="159"/>
                  </a:lnTo>
                  <a:lnTo>
                    <a:pt x="961" y="156"/>
                  </a:lnTo>
                  <a:lnTo>
                    <a:pt x="954" y="153"/>
                  </a:lnTo>
                  <a:lnTo>
                    <a:pt x="945" y="152"/>
                  </a:lnTo>
                  <a:lnTo>
                    <a:pt x="933" y="153"/>
                  </a:lnTo>
                  <a:lnTo>
                    <a:pt x="922" y="155"/>
                  </a:lnTo>
                  <a:lnTo>
                    <a:pt x="910" y="157"/>
                  </a:lnTo>
                  <a:lnTo>
                    <a:pt x="900" y="159"/>
                  </a:lnTo>
                  <a:lnTo>
                    <a:pt x="878" y="167"/>
                  </a:lnTo>
                  <a:lnTo>
                    <a:pt x="854" y="176"/>
                  </a:lnTo>
                  <a:lnTo>
                    <a:pt x="831" y="184"/>
                  </a:lnTo>
                  <a:lnTo>
                    <a:pt x="805" y="192"/>
                  </a:lnTo>
                  <a:lnTo>
                    <a:pt x="790" y="194"/>
                  </a:lnTo>
                  <a:lnTo>
                    <a:pt x="776" y="197"/>
                  </a:lnTo>
                  <a:lnTo>
                    <a:pt x="760" y="198"/>
                  </a:lnTo>
                  <a:lnTo>
                    <a:pt x="743" y="199"/>
                  </a:lnTo>
                  <a:lnTo>
                    <a:pt x="727" y="198"/>
                  </a:lnTo>
                  <a:lnTo>
                    <a:pt x="713" y="194"/>
                  </a:lnTo>
                  <a:lnTo>
                    <a:pt x="701" y="190"/>
                  </a:lnTo>
                  <a:lnTo>
                    <a:pt x="691" y="185"/>
                  </a:lnTo>
                  <a:lnTo>
                    <a:pt x="672" y="170"/>
                  </a:lnTo>
                  <a:lnTo>
                    <a:pt x="655" y="155"/>
                  </a:lnTo>
                  <a:lnTo>
                    <a:pt x="645" y="146"/>
                  </a:lnTo>
                  <a:lnTo>
                    <a:pt x="636" y="139"/>
                  </a:lnTo>
                  <a:lnTo>
                    <a:pt x="624" y="132"/>
                  </a:lnTo>
                  <a:lnTo>
                    <a:pt x="613" y="126"/>
                  </a:lnTo>
                  <a:lnTo>
                    <a:pt x="599" y="123"/>
                  </a:lnTo>
                  <a:lnTo>
                    <a:pt x="582" y="119"/>
                  </a:lnTo>
                  <a:lnTo>
                    <a:pt x="563" y="119"/>
                  </a:lnTo>
                  <a:lnTo>
                    <a:pt x="541" y="121"/>
                  </a:lnTo>
                  <a:lnTo>
                    <a:pt x="548" y="110"/>
                  </a:lnTo>
                  <a:lnTo>
                    <a:pt x="554" y="100"/>
                  </a:lnTo>
                  <a:lnTo>
                    <a:pt x="558" y="89"/>
                  </a:lnTo>
                  <a:lnTo>
                    <a:pt x="560" y="80"/>
                  </a:lnTo>
                  <a:lnTo>
                    <a:pt x="561" y="72"/>
                  </a:lnTo>
                  <a:lnTo>
                    <a:pt x="561" y="62"/>
                  </a:lnTo>
                  <a:lnTo>
                    <a:pt x="558" y="55"/>
                  </a:lnTo>
                  <a:lnTo>
                    <a:pt x="554" y="47"/>
                  </a:lnTo>
                  <a:lnTo>
                    <a:pt x="548" y="40"/>
                  </a:lnTo>
                  <a:lnTo>
                    <a:pt x="540" y="33"/>
                  </a:lnTo>
                  <a:lnTo>
                    <a:pt x="530" y="27"/>
                  </a:lnTo>
                  <a:lnTo>
                    <a:pt x="518" y="21"/>
                  </a:lnTo>
                  <a:lnTo>
                    <a:pt x="504" y="16"/>
                  </a:lnTo>
                  <a:lnTo>
                    <a:pt x="489" y="10"/>
                  </a:lnTo>
                  <a:lnTo>
                    <a:pt x="470" y="5"/>
                  </a:lnTo>
                  <a:lnTo>
                    <a:pt x="449" y="0"/>
                  </a:lnTo>
                  <a:lnTo>
                    <a:pt x="109" y="158"/>
                  </a:lnTo>
                  <a:lnTo>
                    <a:pt x="0" y="199"/>
                  </a:lnTo>
                  <a:lnTo>
                    <a:pt x="0" y="299"/>
                  </a:lnTo>
                  <a:lnTo>
                    <a:pt x="55" y="32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14" name="Freeform 235"/>
            <p:cNvSpPr/>
            <p:nvPr/>
          </p:nvSpPr>
          <p:spPr>
            <a:xfrm>
              <a:off x="7177680" y="2581920"/>
              <a:ext cx="547200" cy="183600"/>
            </a:xfrm>
            <a:custGeom>
              <a:avLst/>
              <a:gdLst>
                <a:gd name="textAreaLeft" fmla="*/ 0 w 547200"/>
                <a:gd name="textAreaRight" fmla="*/ 547560 w 547200"/>
                <a:gd name="textAreaTop" fmla="*/ 0 h 183600"/>
                <a:gd name="textAreaBottom" fmla="*/ 183600 h 183600"/>
              </a:gdLst>
              <a:ahLst/>
              <a:rect l="textAreaLeft" t="textAreaTop" r="textAreaRight" b="textAreaBottom"/>
              <a:pathLst>
                <a:path w="1244" h="409">
                  <a:moveTo>
                    <a:pt x="933" y="193"/>
                  </a:moveTo>
                  <a:lnTo>
                    <a:pt x="971" y="223"/>
                  </a:lnTo>
                  <a:lnTo>
                    <a:pt x="1011" y="254"/>
                  </a:lnTo>
                  <a:lnTo>
                    <a:pt x="1053" y="283"/>
                  </a:lnTo>
                  <a:lnTo>
                    <a:pt x="1095" y="313"/>
                  </a:lnTo>
                  <a:lnTo>
                    <a:pt x="1137" y="341"/>
                  </a:lnTo>
                  <a:lnTo>
                    <a:pt x="1176" y="367"/>
                  </a:lnTo>
                  <a:lnTo>
                    <a:pt x="1213" y="389"/>
                  </a:lnTo>
                  <a:lnTo>
                    <a:pt x="1244" y="409"/>
                  </a:lnTo>
                  <a:lnTo>
                    <a:pt x="1065" y="401"/>
                  </a:lnTo>
                  <a:lnTo>
                    <a:pt x="1063" y="396"/>
                  </a:lnTo>
                  <a:lnTo>
                    <a:pt x="1060" y="393"/>
                  </a:lnTo>
                  <a:lnTo>
                    <a:pt x="1056" y="390"/>
                  </a:lnTo>
                  <a:lnTo>
                    <a:pt x="1051" y="389"/>
                  </a:lnTo>
                  <a:lnTo>
                    <a:pt x="1041" y="386"/>
                  </a:lnTo>
                  <a:lnTo>
                    <a:pt x="1028" y="384"/>
                  </a:lnTo>
                  <a:lnTo>
                    <a:pt x="998" y="384"/>
                  </a:lnTo>
                  <a:lnTo>
                    <a:pt x="964" y="383"/>
                  </a:lnTo>
                  <a:lnTo>
                    <a:pt x="945" y="382"/>
                  </a:lnTo>
                  <a:lnTo>
                    <a:pt x="926" y="377"/>
                  </a:lnTo>
                  <a:lnTo>
                    <a:pt x="917" y="375"/>
                  </a:lnTo>
                  <a:lnTo>
                    <a:pt x="908" y="372"/>
                  </a:lnTo>
                  <a:lnTo>
                    <a:pt x="898" y="367"/>
                  </a:lnTo>
                  <a:lnTo>
                    <a:pt x="890" y="362"/>
                  </a:lnTo>
                  <a:lnTo>
                    <a:pt x="881" y="356"/>
                  </a:lnTo>
                  <a:lnTo>
                    <a:pt x="873" y="349"/>
                  </a:lnTo>
                  <a:lnTo>
                    <a:pt x="863" y="341"/>
                  </a:lnTo>
                  <a:lnTo>
                    <a:pt x="856" y="333"/>
                  </a:lnTo>
                  <a:lnTo>
                    <a:pt x="848" y="323"/>
                  </a:lnTo>
                  <a:lnTo>
                    <a:pt x="840" y="312"/>
                  </a:lnTo>
                  <a:lnTo>
                    <a:pt x="833" y="299"/>
                  </a:lnTo>
                  <a:lnTo>
                    <a:pt x="827" y="285"/>
                  </a:lnTo>
                  <a:lnTo>
                    <a:pt x="815" y="279"/>
                  </a:lnTo>
                  <a:lnTo>
                    <a:pt x="806" y="272"/>
                  </a:lnTo>
                  <a:lnTo>
                    <a:pt x="799" y="266"/>
                  </a:lnTo>
                  <a:lnTo>
                    <a:pt x="793" y="259"/>
                  </a:lnTo>
                  <a:lnTo>
                    <a:pt x="784" y="247"/>
                  </a:lnTo>
                  <a:lnTo>
                    <a:pt x="777" y="235"/>
                  </a:lnTo>
                  <a:lnTo>
                    <a:pt x="775" y="229"/>
                  </a:lnTo>
                  <a:lnTo>
                    <a:pt x="771" y="223"/>
                  </a:lnTo>
                  <a:lnTo>
                    <a:pt x="768" y="219"/>
                  </a:lnTo>
                  <a:lnTo>
                    <a:pt x="763" y="215"/>
                  </a:lnTo>
                  <a:lnTo>
                    <a:pt x="758" y="212"/>
                  </a:lnTo>
                  <a:lnTo>
                    <a:pt x="751" y="209"/>
                  </a:lnTo>
                  <a:lnTo>
                    <a:pt x="744" y="208"/>
                  </a:lnTo>
                  <a:lnTo>
                    <a:pt x="735" y="207"/>
                  </a:lnTo>
                  <a:lnTo>
                    <a:pt x="723" y="209"/>
                  </a:lnTo>
                  <a:lnTo>
                    <a:pt x="713" y="209"/>
                  </a:lnTo>
                  <a:lnTo>
                    <a:pt x="702" y="208"/>
                  </a:lnTo>
                  <a:lnTo>
                    <a:pt x="692" y="205"/>
                  </a:lnTo>
                  <a:lnTo>
                    <a:pt x="668" y="195"/>
                  </a:lnTo>
                  <a:lnTo>
                    <a:pt x="639" y="184"/>
                  </a:lnTo>
                  <a:lnTo>
                    <a:pt x="622" y="178"/>
                  </a:lnTo>
                  <a:lnTo>
                    <a:pt x="601" y="172"/>
                  </a:lnTo>
                  <a:lnTo>
                    <a:pt x="577" y="168"/>
                  </a:lnTo>
                  <a:lnTo>
                    <a:pt x="549" y="165"/>
                  </a:lnTo>
                  <a:lnTo>
                    <a:pt x="518" y="164"/>
                  </a:lnTo>
                  <a:lnTo>
                    <a:pt x="481" y="164"/>
                  </a:lnTo>
                  <a:lnTo>
                    <a:pt x="440" y="165"/>
                  </a:lnTo>
                  <a:lnTo>
                    <a:pt x="395" y="170"/>
                  </a:lnTo>
                  <a:lnTo>
                    <a:pt x="370" y="168"/>
                  </a:lnTo>
                  <a:lnTo>
                    <a:pt x="354" y="167"/>
                  </a:lnTo>
                  <a:lnTo>
                    <a:pt x="341" y="168"/>
                  </a:lnTo>
                  <a:lnTo>
                    <a:pt x="330" y="168"/>
                  </a:lnTo>
                  <a:lnTo>
                    <a:pt x="317" y="170"/>
                  </a:lnTo>
                  <a:lnTo>
                    <a:pt x="297" y="168"/>
                  </a:lnTo>
                  <a:lnTo>
                    <a:pt x="270" y="166"/>
                  </a:lnTo>
                  <a:lnTo>
                    <a:pt x="230" y="161"/>
                  </a:lnTo>
                  <a:lnTo>
                    <a:pt x="220" y="160"/>
                  </a:lnTo>
                  <a:lnTo>
                    <a:pt x="209" y="160"/>
                  </a:lnTo>
                  <a:lnTo>
                    <a:pt x="199" y="161"/>
                  </a:lnTo>
                  <a:lnTo>
                    <a:pt x="191" y="164"/>
                  </a:lnTo>
                  <a:lnTo>
                    <a:pt x="182" y="166"/>
                  </a:lnTo>
                  <a:lnTo>
                    <a:pt x="174" y="170"/>
                  </a:lnTo>
                  <a:lnTo>
                    <a:pt x="167" y="174"/>
                  </a:lnTo>
                  <a:lnTo>
                    <a:pt x="160" y="178"/>
                  </a:lnTo>
                  <a:lnTo>
                    <a:pt x="137" y="198"/>
                  </a:lnTo>
                  <a:lnTo>
                    <a:pt x="117" y="215"/>
                  </a:lnTo>
                  <a:lnTo>
                    <a:pt x="112" y="217"/>
                  </a:lnTo>
                  <a:lnTo>
                    <a:pt x="108" y="221"/>
                  </a:lnTo>
                  <a:lnTo>
                    <a:pt x="103" y="223"/>
                  </a:lnTo>
                  <a:lnTo>
                    <a:pt x="97" y="224"/>
                  </a:lnTo>
                  <a:lnTo>
                    <a:pt x="91" y="224"/>
                  </a:lnTo>
                  <a:lnTo>
                    <a:pt x="85" y="223"/>
                  </a:lnTo>
                  <a:lnTo>
                    <a:pt x="80" y="222"/>
                  </a:lnTo>
                  <a:lnTo>
                    <a:pt x="74" y="219"/>
                  </a:lnTo>
                  <a:lnTo>
                    <a:pt x="67" y="214"/>
                  </a:lnTo>
                  <a:lnTo>
                    <a:pt x="59" y="209"/>
                  </a:lnTo>
                  <a:lnTo>
                    <a:pt x="50" y="201"/>
                  </a:lnTo>
                  <a:lnTo>
                    <a:pt x="42" y="193"/>
                  </a:lnTo>
                  <a:lnTo>
                    <a:pt x="22" y="170"/>
                  </a:lnTo>
                  <a:lnTo>
                    <a:pt x="0" y="138"/>
                  </a:lnTo>
                  <a:lnTo>
                    <a:pt x="942" y="0"/>
                  </a:lnTo>
                  <a:lnTo>
                    <a:pt x="1057" y="98"/>
                  </a:lnTo>
                  <a:lnTo>
                    <a:pt x="1025" y="110"/>
                  </a:lnTo>
                  <a:lnTo>
                    <a:pt x="995" y="124"/>
                  </a:lnTo>
                  <a:lnTo>
                    <a:pt x="983" y="131"/>
                  </a:lnTo>
                  <a:lnTo>
                    <a:pt x="971" y="138"/>
                  </a:lnTo>
                  <a:lnTo>
                    <a:pt x="961" y="144"/>
                  </a:lnTo>
                  <a:lnTo>
                    <a:pt x="952" y="151"/>
                  </a:lnTo>
                  <a:lnTo>
                    <a:pt x="944" y="158"/>
                  </a:lnTo>
                  <a:lnTo>
                    <a:pt x="938" y="164"/>
                  </a:lnTo>
                  <a:lnTo>
                    <a:pt x="933" y="170"/>
                  </a:lnTo>
                  <a:lnTo>
                    <a:pt x="930" y="175"/>
                  </a:lnTo>
                  <a:lnTo>
                    <a:pt x="928" y="180"/>
                  </a:lnTo>
                  <a:lnTo>
                    <a:pt x="928" y="185"/>
                  </a:lnTo>
                  <a:lnTo>
                    <a:pt x="930" y="189"/>
                  </a:lnTo>
                  <a:lnTo>
                    <a:pt x="933" y="19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15" name="Freeform 236"/>
            <p:cNvSpPr/>
            <p:nvPr/>
          </p:nvSpPr>
          <p:spPr>
            <a:xfrm>
              <a:off x="7610400" y="2261520"/>
              <a:ext cx="253080" cy="134280"/>
            </a:xfrm>
            <a:custGeom>
              <a:avLst/>
              <a:gdLst>
                <a:gd name="textAreaLeft" fmla="*/ 0 w 253080"/>
                <a:gd name="textAreaRight" fmla="*/ 253440 w 253080"/>
                <a:gd name="textAreaTop" fmla="*/ 0 h 134280"/>
                <a:gd name="textAreaBottom" fmla="*/ 134640 h 134280"/>
              </a:gdLst>
              <a:ahLst/>
              <a:rect l="textAreaLeft" t="textAreaTop" r="textAreaRight" b="textAreaBottom"/>
              <a:pathLst>
                <a:path w="573" h="294">
                  <a:moveTo>
                    <a:pt x="573" y="116"/>
                  </a:moveTo>
                  <a:lnTo>
                    <a:pt x="547" y="124"/>
                  </a:lnTo>
                  <a:lnTo>
                    <a:pt x="521" y="132"/>
                  </a:lnTo>
                  <a:lnTo>
                    <a:pt x="496" y="140"/>
                  </a:lnTo>
                  <a:lnTo>
                    <a:pt x="470" y="150"/>
                  </a:lnTo>
                  <a:lnTo>
                    <a:pt x="442" y="159"/>
                  </a:lnTo>
                  <a:lnTo>
                    <a:pt x="413" y="168"/>
                  </a:lnTo>
                  <a:lnTo>
                    <a:pt x="381" y="178"/>
                  </a:lnTo>
                  <a:lnTo>
                    <a:pt x="348" y="188"/>
                  </a:lnTo>
                  <a:lnTo>
                    <a:pt x="351" y="194"/>
                  </a:lnTo>
                  <a:lnTo>
                    <a:pt x="352" y="201"/>
                  </a:lnTo>
                  <a:lnTo>
                    <a:pt x="352" y="208"/>
                  </a:lnTo>
                  <a:lnTo>
                    <a:pt x="351" y="214"/>
                  </a:lnTo>
                  <a:lnTo>
                    <a:pt x="348" y="220"/>
                  </a:lnTo>
                  <a:lnTo>
                    <a:pt x="346" y="225"/>
                  </a:lnTo>
                  <a:lnTo>
                    <a:pt x="341" y="230"/>
                  </a:lnTo>
                  <a:lnTo>
                    <a:pt x="337" y="236"/>
                  </a:lnTo>
                  <a:lnTo>
                    <a:pt x="326" y="245"/>
                  </a:lnTo>
                  <a:lnTo>
                    <a:pt x="312" y="255"/>
                  </a:lnTo>
                  <a:lnTo>
                    <a:pt x="297" y="262"/>
                  </a:lnTo>
                  <a:lnTo>
                    <a:pt x="281" y="269"/>
                  </a:lnTo>
                  <a:lnTo>
                    <a:pt x="248" y="280"/>
                  </a:lnTo>
                  <a:lnTo>
                    <a:pt x="219" y="289"/>
                  </a:lnTo>
                  <a:lnTo>
                    <a:pt x="198" y="292"/>
                  </a:lnTo>
                  <a:lnTo>
                    <a:pt x="190" y="294"/>
                  </a:lnTo>
                  <a:lnTo>
                    <a:pt x="0" y="47"/>
                  </a:lnTo>
                  <a:lnTo>
                    <a:pt x="478" y="0"/>
                  </a:lnTo>
                  <a:lnTo>
                    <a:pt x="573" y="11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16" name="Freeform 237"/>
            <p:cNvSpPr/>
            <p:nvPr/>
          </p:nvSpPr>
          <p:spPr>
            <a:xfrm>
              <a:off x="560160" y="1850760"/>
              <a:ext cx="1158120" cy="1019160"/>
            </a:xfrm>
            <a:custGeom>
              <a:avLst/>
              <a:gdLst>
                <a:gd name="textAreaLeft" fmla="*/ 0 w 1158120"/>
                <a:gd name="textAreaRight" fmla="*/ 1158480 w 1158120"/>
                <a:gd name="textAreaTop" fmla="*/ 0 h 1019160"/>
                <a:gd name="textAreaBottom" fmla="*/ 1019520 h 1019160"/>
              </a:gdLst>
              <a:ahLst/>
              <a:rect l="textAreaLeft" t="textAreaTop" r="textAreaRight" b="textAreaBottom"/>
              <a:pathLst>
                <a:path w="14755" h="12586">
                  <a:moveTo>
                    <a:pt x="10804" y="9205"/>
                  </a:moveTo>
                  <a:lnTo>
                    <a:pt x="10829" y="9193"/>
                  </a:lnTo>
                  <a:lnTo>
                    <a:pt x="10894" y="9163"/>
                  </a:lnTo>
                  <a:lnTo>
                    <a:pt x="10939" y="9144"/>
                  </a:lnTo>
                  <a:lnTo>
                    <a:pt x="10988" y="9123"/>
                  </a:lnTo>
                  <a:lnTo>
                    <a:pt x="11014" y="9113"/>
                  </a:lnTo>
                  <a:lnTo>
                    <a:pt x="11041" y="9104"/>
                  </a:lnTo>
                  <a:lnTo>
                    <a:pt x="11069" y="9095"/>
                  </a:lnTo>
                  <a:lnTo>
                    <a:pt x="11097" y="9087"/>
                  </a:lnTo>
                  <a:lnTo>
                    <a:pt x="11125" y="9079"/>
                  </a:lnTo>
                  <a:lnTo>
                    <a:pt x="11153" y="9072"/>
                  </a:lnTo>
                  <a:lnTo>
                    <a:pt x="11181" y="9067"/>
                  </a:lnTo>
                  <a:lnTo>
                    <a:pt x="11210" y="9063"/>
                  </a:lnTo>
                  <a:lnTo>
                    <a:pt x="11237" y="9060"/>
                  </a:lnTo>
                  <a:lnTo>
                    <a:pt x="11263" y="9058"/>
                  </a:lnTo>
                  <a:lnTo>
                    <a:pt x="11288" y="9059"/>
                  </a:lnTo>
                  <a:lnTo>
                    <a:pt x="11312" y="9061"/>
                  </a:lnTo>
                  <a:lnTo>
                    <a:pt x="11336" y="9065"/>
                  </a:lnTo>
                  <a:lnTo>
                    <a:pt x="11357" y="9072"/>
                  </a:lnTo>
                  <a:lnTo>
                    <a:pt x="11376" y="9081"/>
                  </a:lnTo>
                  <a:lnTo>
                    <a:pt x="11394" y="9092"/>
                  </a:lnTo>
                  <a:lnTo>
                    <a:pt x="11409" y="9106"/>
                  </a:lnTo>
                  <a:lnTo>
                    <a:pt x="11422" y="9123"/>
                  </a:lnTo>
                  <a:lnTo>
                    <a:pt x="11433" y="9144"/>
                  </a:lnTo>
                  <a:lnTo>
                    <a:pt x="11442" y="9167"/>
                  </a:lnTo>
                  <a:lnTo>
                    <a:pt x="11451" y="9193"/>
                  </a:lnTo>
                  <a:lnTo>
                    <a:pt x="11465" y="9223"/>
                  </a:lnTo>
                  <a:lnTo>
                    <a:pt x="11484" y="9257"/>
                  </a:lnTo>
                  <a:lnTo>
                    <a:pt x="11506" y="9292"/>
                  </a:lnTo>
                  <a:lnTo>
                    <a:pt x="11532" y="9330"/>
                  </a:lnTo>
                  <a:lnTo>
                    <a:pt x="11561" y="9371"/>
                  </a:lnTo>
                  <a:lnTo>
                    <a:pt x="11594" y="9414"/>
                  </a:lnTo>
                  <a:lnTo>
                    <a:pt x="11629" y="9458"/>
                  </a:lnTo>
                  <a:lnTo>
                    <a:pt x="11666" y="9505"/>
                  </a:lnTo>
                  <a:lnTo>
                    <a:pt x="11706" y="9552"/>
                  </a:lnTo>
                  <a:lnTo>
                    <a:pt x="11746" y="9600"/>
                  </a:lnTo>
                  <a:lnTo>
                    <a:pt x="11788" y="9649"/>
                  </a:lnTo>
                  <a:lnTo>
                    <a:pt x="11876" y="9747"/>
                  </a:lnTo>
                  <a:lnTo>
                    <a:pt x="11966" y="9843"/>
                  </a:lnTo>
                  <a:lnTo>
                    <a:pt x="12053" y="9938"/>
                  </a:lnTo>
                  <a:lnTo>
                    <a:pt x="12138" y="10027"/>
                  </a:lnTo>
                  <a:lnTo>
                    <a:pt x="12217" y="10108"/>
                  </a:lnTo>
                  <a:lnTo>
                    <a:pt x="12287" y="10179"/>
                  </a:lnTo>
                  <a:lnTo>
                    <a:pt x="12346" y="10239"/>
                  </a:lnTo>
                  <a:lnTo>
                    <a:pt x="12391" y="10284"/>
                  </a:lnTo>
                  <a:lnTo>
                    <a:pt x="12420" y="10312"/>
                  </a:lnTo>
                  <a:lnTo>
                    <a:pt x="12430" y="10322"/>
                  </a:lnTo>
                  <a:lnTo>
                    <a:pt x="13175" y="9774"/>
                  </a:lnTo>
                  <a:lnTo>
                    <a:pt x="14066" y="11645"/>
                  </a:lnTo>
                  <a:lnTo>
                    <a:pt x="14076" y="11683"/>
                  </a:lnTo>
                  <a:lnTo>
                    <a:pt x="14083" y="11716"/>
                  </a:lnTo>
                  <a:lnTo>
                    <a:pt x="14085" y="11732"/>
                  </a:lnTo>
                  <a:lnTo>
                    <a:pt x="14088" y="11747"/>
                  </a:lnTo>
                  <a:lnTo>
                    <a:pt x="14089" y="11761"/>
                  </a:lnTo>
                  <a:lnTo>
                    <a:pt x="14089" y="11776"/>
                  </a:lnTo>
                  <a:lnTo>
                    <a:pt x="14089" y="11790"/>
                  </a:lnTo>
                  <a:lnTo>
                    <a:pt x="14088" y="11803"/>
                  </a:lnTo>
                  <a:lnTo>
                    <a:pt x="14087" y="11816"/>
                  </a:lnTo>
                  <a:lnTo>
                    <a:pt x="14084" y="11829"/>
                  </a:lnTo>
                  <a:lnTo>
                    <a:pt x="14081" y="11841"/>
                  </a:lnTo>
                  <a:lnTo>
                    <a:pt x="14078" y="11853"/>
                  </a:lnTo>
                  <a:lnTo>
                    <a:pt x="14074" y="11866"/>
                  </a:lnTo>
                  <a:lnTo>
                    <a:pt x="14070" y="11878"/>
                  </a:lnTo>
                  <a:lnTo>
                    <a:pt x="14059" y="11904"/>
                  </a:lnTo>
                  <a:lnTo>
                    <a:pt x="14046" y="11929"/>
                  </a:lnTo>
                  <a:lnTo>
                    <a:pt x="14030" y="11956"/>
                  </a:lnTo>
                  <a:lnTo>
                    <a:pt x="14013" y="11984"/>
                  </a:lnTo>
                  <a:lnTo>
                    <a:pt x="13971" y="12049"/>
                  </a:lnTo>
                  <a:lnTo>
                    <a:pt x="13919" y="12125"/>
                  </a:lnTo>
                  <a:lnTo>
                    <a:pt x="13906" y="12148"/>
                  </a:lnTo>
                  <a:lnTo>
                    <a:pt x="13895" y="12170"/>
                  </a:lnTo>
                  <a:lnTo>
                    <a:pt x="13887" y="12192"/>
                  </a:lnTo>
                  <a:lnTo>
                    <a:pt x="13881" y="12213"/>
                  </a:lnTo>
                  <a:lnTo>
                    <a:pt x="13878" y="12234"/>
                  </a:lnTo>
                  <a:lnTo>
                    <a:pt x="13876" y="12256"/>
                  </a:lnTo>
                  <a:lnTo>
                    <a:pt x="13876" y="12277"/>
                  </a:lnTo>
                  <a:lnTo>
                    <a:pt x="13878" y="12297"/>
                  </a:lnTo>
                  <a:lnTo>
                    <a:pt x="13881" y="12317"/>
                  </a:lnTo>
                  <a:lnTo>
                    <a:pt x="13886" y="12337"/>
                  </a:lnTo>
                  <a:lnTo>
                    <a:pt x="13893" y="12356"/>
                  </a:lnTo>
                  <a:lnTo>
                    <a:pt x="13900" y="12375"/>
                  </a:lnTo>
                  <a:lnTo>
                    <a:pt x="13909" y="12394"/>
                  </a:lnTo>
                  <a:lnTo>
                    <a:pt x="13918" y="12411"/>
                  </a:lnTo>
                  <a:lnTo>
                    <a:pt x="13928" y="12428"/>
                  </a:lnTo>
                  <a:lnTo>
                    <a:pt x="13939" y="12444"/>
                  </a:lnTo>
                  <a:lnTo>
                    <a:pt x="13950" y="12460"/>
                  </a:lnTo>
                  <a:lnTo>
                    <a:pt x="13962" y="12475"/>
                  </a:lnTo>
                  <a:lnTo>
                    <a:pt x="13974" y="12490"/>
                  </a:lnTo>
                  <a:lnTo>
                    <a:pt x="13986" y="12503"/>
                  </a:lnTo>
                  <a:lnTo>
                    <a:pt x="14008" y="12527"/>
                  </a:lnTo>
                  <a:lnTo>
                    <a:pt x="14030" y="12548"/>
                  </a:lnTo>
                  <a:lnTo>
                    <a:pt x="14063" y="12576"/>
                  </a:lnTo>
                  <a:lnTo>
                    <a:pt x="14076" y="12586"/>
                  </a:lnTo>
                  <a:lnTo>
                    <a:pt x="14084" y="12577"/>
                  </a:lnTo>
                  <a:lnTo>
                    <a:pt x="14108" y="12552"/>
                  </a:lnTo>
                  <a:lnTo>
                    <a:pt x="14143" y="12513"/>
                  </a:lnTo>
                  <a:lnTo>
                    <a:pt x="14188" y="12461"/>
                  </a:lnTo>
                  <a:lnTo>
                    <a:pt x="14243" y="12399"/>
                  </a:lnTo>
                  <a:lnTo>
                    <a:pt x="14303" y="12329"/>
                  </a:lnTo>
                  <a:lnTo>
                    <a:pt x="14367" y="12253"/>
                  </a:lnTo>
                  <a:lnTo>
                    <a:pt x="14432" y="12173"/>
                  </a:lnTo>
                  <a:lnTo>
                    <a:pt x="14466" y="12132"/>
                  </a:lnTo>
                  <a:lnTo>
                    <a:pt x="14498" y="12090"/>
                  </a:lnTo>
                  <a:lnTo>
                    <a:pt x="14529" y="12049"/>
                  </a:lnTo>
                  <a:lnTo>
                    <a:pt x="14560" y="12007"/>
                  </a:lnTo>
                  <a:lnTo>
                    <a:pt x="14589" y="11967"/>
                  </a:lnTo>
                  <a:lnTo>
                    <a:pt x="14617" y="11927"/>
                  </a:lnTo>
                  <a:lnTo>
                    <a:pt x="14643" y="11888"/>
                  </a:lnTo>
                  <a:lnTo>
                    <a:pt x="14667" y="11850"/>
                  </a:lnTo>
                  <a:lnTo>
                    <a:pt x="14689" y="11815"/>
                  </a:lnTo>
                  <a:lnTo>
                    <a:pt x="14707" y="11781"/>
                  </a:lnTo>
                  <a:lnTo>
                    <a:pt x="14725" y="11748"/>
                  </a:lnTo>
                  <a:lnTo>
                    <a:pt x="14737" y="11718"/>
                  </a:lnTo>
                  <a:lnTo>
                    <a:pt x="14747" y="11691"/>
                  </a:lnTo>
                  <a:lnTo>
                    <a:pt x="14753" y="11666"/>
                  </a:lnTo>
                  <a:lnTo>
                    <a:pt x="14755" y="11644"/>
                  </a:lnTo>
                  <a:lnTo>
                    <a:pt x="14752" y="11626"/>
                  </a:lnTo>
                  <a:lnTo>
                    <a:pt x="14735" y="11614"/>
                  </a:lnTo>
                  <a:lnTo>
                    <a:pt x="14689" y="11581"/>
                  </a:lnTo>
                  <a:lnTo>
                    <a:pt x="14658" y="11556"/>
                  </a:lnTo>
                  <a:lnTo>
                    <a:pt x="14624" y="11525"/>
                  </a:lnTo>
                  <a:lnTo>
                    <a:pt x="14605" y="11508"/>
                  </a:lnTo>
                  <a:lnTo>
                    <a:pt x="14585" y="11489"/>
                  </a:lnTo>
                  <a:lnTo>
                    <a:pt x="14565" y="11470"/>
                  </a:lnTo>
                  <a:lnTo>
                    <a:pt x="14545" y="11449"/>
                  </a:lnTo>
                  <a:lnTo>
                    <a:pt x="14525" y="11426"/>
                  </a:lnTo>
                  <a:lnTo>
                    <a:pt x="14504" y="11402"/>
                  </a:lnTo>
                  <a:lnTo>
                    <a:pt x="14484" y="11377"/>
                  </a:lnTo>
                  <a:lnTo>
                    <a:pt x="14462" y="11351"/>
                  </a:lnTo>
                  <a:lnTo>
                    <a:pt x="14442" y="11324"/>
                  </a:lnTo>
                  <a:lnTo>
                    <a:pt x="14422" y="11295"/>
                  </a:lnTo>
                  <a:lnTo>
                    <a:pt x="14403" y="11264"/>
                  </a:lnTo>
                  <a:lnTo>
                    <a:pt x="14384" y="11233"/>
                  </a:lnTo>
                  <a:lnTo>
                    <a:pt x="14366" y="11201"/>
                  </a:lnTo>
                  <a:lnTo>
                    <a:pt x="14350" y="11167"/>
                  </a:lnTo>
                  <a:lnTo>
                    <a:pt x="14332" y="11132"/>
                  </a:lnTo>
                  <a:lnTo>
                    <a:pt x="14318" y="11096"/>
                  </a:lnTo>
                  <a:lnTo>
                    <a:pt x="14304" y="11059"/>
                  </a:lnTo>
                  <a:lnTo>
                    <a:pt x="14292" y="11020"/>
                  </a:lnTo>
                  <a:lnTo>
                    <a:pt x="14281" y="10981"/>
                  </a:lnTo>
                  <a:lnTo>
                    <a:pt x="14272" y="10940"/>
                  </a:lnTo>
                  <a:lnTo>
                    <a:pt x="14265" y="10923"/>
                  </a:lnTo>
                  <a:lnTo>
                    <a:pt x="14243" y="10875"/>
                  </a:lnTo>
                  <a:lnTo>
                    <a:pt x="14207" y="10800"/>
                  </a:lnTo>
                  <a:lnTo>
                    <a:pt x="14161" y="10704"/>
                  </a:lnTo>
                  <a:lnTo>
                    <a:pt x="14106" y="10588"/>
                  </a:lnTo>
                  <a:lnTo>
                    <a:pt x="14041" y="10458"/>
                  </a:lnTo>
                  <a:lnTo>
                    <a:pt x="13970" y="10317"/>
                  </a:lnTo>
                  <a:lnTo>
                    <a:pt x="13893" y="10171"/>
                  </a:lnTo>
                  <a:lnTo>
                    <a:pt x="13853" y="10097"/>
                  </a:lnTo>
                  <a:lnTo>
                    <a:pt x="13811" y="10023"/>
                  </a:lnTo>
                  <a:lnTo>
                    <a:pt x="13770" y="9949"/>
                  </a:lnTo>
                  <a:lnTo>
                    <a:pt x="13729" y="9877"/>
                  </a:lnTo>
                  <a:lnTo>
                    <a:pt x="13686" y="9806"/>
                  </a:lnTo>
                  <a:lnTo>
                    <a:pt x="13645" y="9738"/>
                  </a:lnTo>
                  <a:lnTo>
                    <a:pt x="13603" y="9672"/>
                  </a:lnTo>
                  <a:lnTo>
                    <a:pt x="13561" y="9608"/>
                  </a:lnTo>
                  <a:lnTo>
                    <a:pt x="13520" y="9550"/>
                  </a:lnTo>
                  <a:lnTo>
                    <a:pt x="13480" y="9496"/>
                  </a:lnTo>
                  <a:lnTo>
                    <a:pt x="13440" y="9445"/>
                  </a:lnTo>
                  <a:lnTo>
                    <a:pt x="13402" y="9400"/>
                  </a:lnTo>
                  <a:lnTo>
                    <a:pt x="13365" y="9361"/>
                  </a:lnTo>
                  <a:lnTo>
                    <a:pt x="13329" y="9328"/>
                  </a:lnTo>
                  <a:lnTo>
                    <a:pt x="13295" y="9303"/>
                  </a:lnTo>
                  <a:lnTo>
                    <a:pt x="13263" y="9284"/>
                  </a:lnTo>
                  <a:lnTo>
                    <a:pt x="13257" y="9287"/>
                  </a:lnTo>
                  <a:lnTo>
                    <a:pt x="13240" y="9296"/>
                  </a:lnTo>
                  <a:lnTo>
                    <a:pt x="13213" y="9308"/>
                  </a:lnTo>
                  <a:lnTo>
                    <a:pt x="13176" y="9325"/>
                  </a:lnTo>
                  <a:lnTo>
                    <a:pt x="13132" y="9345"/>
                  </a:lnTo>
                  <a:lnTo>
                    <a:pt x="13081" y="9367"/>
                  </a:lnTo>
                  <a:lnTo>
                    <a:pt x="13023" y="9392"/>
                  </a:lnTo>
                  <a:lnTo>
                    <a:pt x="12961" y="9416"/>
                  </a:lnTo>
                  <a:lnTo>
                    <a:pt x="12894" y="9441"/>
                  </a:lnTo>
                  <a:lnTo>
                    <a:pt x="12824" y="9465"/>
                  </a:lnTo>
                  <a:lnTo>
                    <a:pt x="12789" y="9476"/>
                  </a:lnTo>
                  <a:lnTo>
                    <a:pt x="12753" y="9487"/>
                  </a:lnTo>
                  <a:lnTo>
                    <a:pt x="12717" y="9498"/>
                  </a:lnTo>
                  <a:lnTo>
                    <a:pt x="12680" y="9508"/>
                  </a:lnTo>
                  <a:lnTo>
                    <a:pt x="12644" y="9516"/>
                  </a:lnTo>
                  <a:lnTo>
                    <a:pt x="12608" y="9524"/>
                  </a:lnTo>
                  <a:lnTo>
                    <a:pt x="12572" y="9531"/>
                  </a:lnTo>
                  <a:lnTo>
                    <a:pt x="12536" y="9537"/>
                  </a:lnTo>
                  <a:lnTo>
                    <a:pt x="12502" y="9542"/>
                  </a:lnTo>
                  <a:lnTo>
                    <a:pt x="12468" y="9546"/>
                  </a:lnTo>
                  <a:lnTo>
                    <a:pt x="12433" y="9548"/>
                  </a:lnTo>
                  <a:lnTo>
                    <a:pt x="12401" y="9549"/>
                  </a:lnTo>
                  <a:lnTo>
                    <a:pt x="12391" y="9540"/>
                  </a:lnTo>
                  <a:lnTo>
                    <a:pt x="12361" y="9514"/>
                  </a:lnTo>
                  <a:lnTo>
                    <a:pt x="12313" y="9472"/>
                  </a:lnTo>
                  <a:lnTo>
                    <a:pt x="12252" y="9419"/>
                  </a:lnTo>
                  <a:lnTo>
                    <a:pt x="12177" y="9355"/>
                  </a:lnTo>
                  <a:lnTo>
                    <a:pt x="12092" y="9284"/>
                  </a:lnTo>
                  <a:lnTo>
                    <a:pt x="11999" y="9205"/>
                  </a:lnTo>
                  <a:lnTo>
                    <a:pt x="11899" y="9123"/>
                  </a:lnTo>
                  <a:lnTo>
                    <a:pt x="11795" y="9040"/>
                  </a:lnTo>
                  <a:lnTo>
                    <a:pt x="11690" y="8957"/>
                  </a:lnTo>
                  <a:lnTo>
                    <a:pt x="11638" y="8916"/>
                  </a:lnTo>
                  <a:lnTo>
                    <a:pt x="11586" y="8876"/>
                  </a:lnTo>
                  <a:lnTo>
                    <a:pt x="11534" y="8837"/>
                  </a:lnTo>
                  <a:lnTo>
                    <a:pt x="11484" y="8801"/>
                  </a:lnTo>
                  <a:lnTo>
                    <a:pt x="11434" y="8764"/>
                  </a:lnTo>
                  <a:lnTo>
                    <a:pt x="11387" y="8731"/>
                  </a:lnTo>
                  <a:lnTo>
                    <a:pt x="11341" y="8700"/>
                  </a:lnTo>
                  <a:lnTo>
                    <a:pt x="11296" y="8672"/>
                  </a:lnTo>
                  <a:lnTo>
                    <a:pt x="11255" y="8645"/>
                  </a:lnTo>
                  <a:lnTo>
                    <a:pt x="11216" y="8623"/>
                  </a:lnTo>
                  <a:lnTo>
                    <a:pt x="11180" y="8604"/>
                  </a:lnTo>
                  <a:lnTo>
                    <a:pt x="11147" y="8588"/>
                  </a:lnTo>
                  <a:lnTo>
                    <a:pt x="10736" y="8509"/>
                  </a:lnTo>
                  <a:lnTo>
                    <a:pt x="13782" y="1660"/>
                  </a:lnTo>
                  <a:lnTo>
                    <a:pt x="13780" y="1656"/>
                  </a:lnTo>
                  <a:lnTo>
                    <a:pt x="13771" y="1646"/>
                  </a:lnTo>
                  <a:lnTo>
                    <a:pt x="13757" y="1632"/>
                  </a:lnTo>
                  <a:lnTo>
                    <a:pt x="13737" y="1613"/>
                  </a:lnTo>
                  <a:lnTo>
                    <a:pt x="13725" y="1603"/>
                  </a:lnTo>
                  <a:lnTo>
                    <a:pt x="13710" y="1591"/>
                  </a:lnTo>
                  <a:lnTo>
                    <a:pt x="13694" y="1580"/>
                  </a:lnTo>
                  <a:lnTo>
                    <a:pt x="13676" y="1568"/>
                  </a:lnTo>
                  <a:lnTo>
                    <a:pt x="13657" y="1557"/>
                  </a:lnTo>
                  <a:lnTo>
                    <a:pt x="13636" y="1545"/>
                  </a:lnTo>
                  <a:lnTo>
                    <a:pt x="13613" y="1534"/>
                  </a:lnTo>
                  <a:lnTo>
                    <a:pt x="13588" y="1524"/>
                  </a:lnTo>
                  <a:lnTo>
                    <a:pt x="13560" y="1514"/>
                  </a:lnTo>
                  <a:lnTo>
                    <a:pt x="13532" y="1505"/>
                  </a:lnTo>
                  <a:lnTo>
                    <a:pt x="13501" y="1497"/>
                  </a:lnTo>
                  <a:lnTo>
                    <a:pt x="13468" y="1489"/>
                  </a:lnTo>
                  <a:lnTo>
                    <a:pt x="13433" y="1483"/>
                  </a:lnTo>
                  <a:lnTo>
                    <a:pt x="13396" y="1478"/>
                  </a:lnTo>
                  <a:lnTo>
                    <a:pt x="13357" y="1475"/>
                  </a:lnTo>
                  <a:lnTo>
                    <a:pt x="13315" y="1473"/>
                  </a:lnTo>
                  <a:lnTo>
                    <a:pt x="13272" y="1474"/>
                  </a:lnTo>
                  <a:lnTo>
                    <a:pt x="13226" y="1476"/>
                  </a:lnTo>
                  <a:lnTo>
                    <a:pt x="13177" y="1482"/>
                  </a:lnTo>
                  <a:lnTo>
                    <a:pt x="13127" y="1489"/>
                  </a:lnTo>
                  <a:lnTo>
                    <a:pt x="13074" y="1498"/>
                  </a:lnTo>
                  <a:lnTo>
                    <a:pt x="13019" y="1510"/>
                  </a:lnTo>
                  <a:lnTo>
                    <a:pt x="12961" y="1525"/>
                  </a:lnTo>
                  <a:lnTo>
                    <a:pt x="12901" y="1542"/>
                  </a:lnTo>
                  <a:lnTo>
                    <a:pt x="12894" y="1542"/>
                  </a:lnTo>
                  <a:lnTo>
                    <a:pt x="12873" y="1542"/>
                  </a:lnTo>
                  <a:lnTo>
                    <a:pt x="12841" y="1541"/>
                  </a:lnTo>
                  <a:lnTo>
                    <a:pt x="12798" y="1538"/>
                  </a:lnTo>
                  <a:lnTo>
                    <a:pt x="12747" y="1535"/>
                  </a:lnTo>
                  <a:lnTo>
                    <a:pt x="12688" y="1530"/>
                  </a:lnTo>
                  <a:lnTo>
                    <a:pt x="12624" y="1523"/>
                  </a:lnTo>
                  <a:lnTo>
                    <a:pt x="12554" y="1513"/>
                  </a:lnTo>
                  <a:lnTo>
                    <a:pt x="12518" y="1507"/>
                  </a:lnTo>
                  <a:lnTo>
                    <a:pt x="12482" y="1501"/>
                  </a:lnTo>
                  <a:lnTo>
                    <a:pt x="12444" y="1493"/>
                  </a:lnTo>
                  <a:lnTo>
                    <a:pt x="12407" y="1485"/>
                  </a:lnTo>
                  <a:lnTo>
                    <a:pt x="12370" y="1475"/>
                  </a:lnTo>
                  <a:lnTo>
                    <a:pt x="12334" y="1465"/>
                  </a:lnTo>
                  <a:lnTo>
                    <a:pt x="12296" y="1455"/>
                  </a:lnTo>
                  <a:lnTo>
                    <a:pt x="12260" y="1443"/>
                  </a:lnTo>
                  <a:lnTo>
                    <a:pt x="12225" y="1430"/>
                  </a:lnTo>
                  <a:lnTo>
                    <a:pt x="12189" y="1416"/>
                  </a:lnTo>
                  <a:lnTo>
                    <a:pt x="12156" y="1401"/>
                  </a:lnTo>
                  <a:lnTo>
                    <a:pt x="12124" y="1385"/>
                  </a:lnTo>
                  <a:lnTo>
                    <a:pt x="12093" y="1368"/>
                  </a:lnTo>
                  <a:lnTo>
                    <a:pt x="12062" y="1348"/>
                  </a:lnTo>
                  <a:lnTo>
                    <a:pt x="12035" y="1328"/>
                  </a:lnTo>
                  <a:lnTo>
                    <a:pt x="12009" y="1307"/>
                  </a:lnTo>
                  <a:lnTo>
                    <a:pt x="11983" y="1306"/>
                  </a:lnTo>
                  <a:lnTo>
                    <a:pt x="11911" y="1301"/>
                  </a:lnTo>
                  <a:lnTo>
                    <a:pt x="11864" y="1297"/>
                  </a:lnTo>
                  <a:lnTo>
                    <a:pt x="11810" y="1291"/>
                  </a:lnTo>
                  <a:lnTo>
                    <a:pt x="11782" y="1287"/>
                  </a:lnTo>
                  <a:lnTo>
                    <a:pt x="11753" y="1282"/>
                  </a:lnTo>
                  <a:lnTo>
                    <a:pt x="11724" y="1277"/>
                  </a:lnTo>
                  <a:lnTo>
                    <a:pt x="11695" y="1270"/>
                  </a:lnTo>
                  <a:lnTo>
                    <a:pt x="11665" y="1264"/>
                  </a:lnTo>
                  <a:lnTo>
                    <a:pt x="11636" y="1256"/>
                  </a:lnTo>
                  <a:lnTo>
                    <a:pt x="11607" y="1248"/>
                  </a:lnTo>
                  <a:lnTo>
                    <a:pt x="11579" y="1238"/>
                  </a:lnTo>
                  <a:lnTo>
                    <a:pt x="11550" y="1228"/>
                  </a:lnTo>
                  <a:lnTo>
                    <a:pt x="11524" y="1216"/>
                  </a:lnTo>
                  <a:lnTo>
                    <a:pt x="11500" y="1204"/>
                  </a:lnTo>
                  <a:lnTo>
                    <a:pt x="11476" y="1191"/>
                  </a:lnTo>
                  <a:lnTo>
                    <a:pt x="11455" y="1177"/>
                  </a:lnTo>
                  <a:lnTo>
                    <a:pt x="11434" y="1162"/>
                  </a:lnTo>
                  <a:lnTo>
                    <a:pt x="11417" y="1145"/>
                  </a:lnTo>
                  <a:lnTo>
                    <a:pt x="11403" y="1127"/>
                  </a:lnTo>
                  <a:lnTo>
                    <a:pt x="11390" y="1107"/>
                  </a:lnTo>
                  <a:lnTo>
                    <a:pt x="11381" y="1087"/>
                  </a:lnTo>
                  <a:lnTo>
                    <a:pt x="11375" y="1066"/>
                  </a:lnTo>
                  <a:lnTo>
                    <a:pt x="11373" y="1043"/>
                  </a:lnTo>
                  <a:lnTo>
                    <a:pt x="11362" y="1036"/>
                  </a:lnTo>
                  <a:lnTo>
                    <a:pt x="11331" y="1019"/>
                  </a:lnTo>
                  <a:lnTo>
                    <a:pt x="11308" y="1008"/>
                  </a:lnTo>
                  <a:lnTo>
                    <a:pt x="11282" y="994"/>
                  </a:lnTo>
                  <a:lnTo>
                    <a:pt x="11253" y="981"/>
                  </a:lnTo>
                  <a:lnTo>
                    <a:pt x="11221" y="966"/>
                  </a:lnTo>
                  <a:lnTo>
                    <a:pt x="11185" y="952"/>
                  </a:lnTo>
                  <a:lnTo>
                    <a:pt x="11148" y="937"/>
                  </a:lnTo>
                  <a:lnTo>
                    <a:pt x="11108" y="923"/>
                  </a:lnTo>
                  <a:lnTo>
                    <a:pt x="11067" y="910"/>
                  </a:lnTo>
                  <a:lnTo>
                    <a:pt x="11024" y="899"/>
                  </a:lnTo>
                  <a:lnTo>
                    <a:pt x="10981" y="889"/>
                  </a:lnTo>
                  <a:lnTo>
                    <a:pt x="10959" y="885"/>
                  </a:lnTo>
                  <a:lnTo>
                    <a:pt x="10937" y="881"/>
                  </a:lnTo>
                  <a:lnTo>
                    <a:pt x="10914" y="878"/>
                  </a:lnTo>
                  <a:lnTo>
                    <a:pt x="10892" y="875"/>
                  </a:lnTo>
                  <a:lnTo>
                    <a:pt x="10875" y="865"/>
                  </a:lnTo>
                  <a:lnTo>
                    <a:pt x="10830" y="839"/>
                  </a:lnTo>
                  <a:lnTo>
                    <a:pt x="10798" y="823"/>
                  </a:lnTo>
                  <a:lnTo>
                    <a:pt x="10762" y="805"/>
                  </a:lnTo>
                  <a:lnTo>
                    <a:pt x="10724" y="786"/>
                  </a:lnTo>
                  <a:lnTo>
                    <a:pt x="10681" y="768"/>
                  </a:lnTo>
                  <a:lnTo>
                    <a:pt x="10660" y="759"/>
                  </a:lnTo>
                  <a:lnTo>
                    <a:pt x="10639" y="751"/>
                  </a:lnTo>
                  <a:lnTo>
                    <a:pt x="10618" y="744"/>
                  </a:lnTo>
                  <a:lnTo>
                    <a:pt x="10596" y="737"/>
                  </a:lnTo>
                  <a:lnTo>
                    <a:pt x="10575" y="731"/>
                  </a:lnTo>
                  <a:lnTo>
                    <a:pt x="10553" y="726"/>
                  </a:lnTo>
                  <a:lnTo>
                    <a:pt x="10532" y="722"/>
                  </a:lnTo>
                  <a:lnTo>
                    <a:pt x="10512" y="719"/>
                  </a:lnTo>
                  <a:lnTo>
                    <a:pt x="10493" y="717"/>
                  </a:lnTo>
                  <a:lnTo>
                    <a:pt x="10474" y="716"/>
                  </a:lnTo>
                  <a:lnTo>
                    <a:pt x="10456" y="717"/>
                  </a:lnTo>
                  <a:lnTo>
                    <a:pt x="10439" y="720"/>
                  </a:lnTo>
                  <a:lnTo>
                    <a:pt x="10422" y="724"/>
                  </a:lnTo>
                  <a:lnTo>
                    <a:pt x="10408" y="730"/>
                  </a:lnTo>
                  <a:lnTo>
                    <a:pt x="10395" y="738"/>
                  </a:lnTo>
                  <a:lnTo>
                    <a:pt x="10383" y="748"/>
                  </a:lnTo>
                  <a:lnTo>
                    <a:pt x="10373" y="759"/>
                  </a:lnTo>
                  <a:lnTo>
                    <a:pt x="10364" y="773"/>
                  </a:lnTo>
                  <a:lnTo>
                    <a:pt x="10356" y="786"/>
                  </a:lnTo>
                  <a:lnTo>
                    <a:pt x="10350" y="799"/>
                  </a:lnTo>
                  <a:lnTo>
                    <a:pt x="10344" y="813"/>
                  </a:lnTo>
                  <a:lnTo>
                    <a:pt x="10339" y="828"/>
                  </a:lnTo>
                  <a:lnTo>
                    <a:pt x="10335" y="843"/>
                  </a:lnTo>
                  <a:lnTo>
                    <a:pt x="10332" y="858"/>
                  </a:lnTo>
                  <a:lnTo>
                    <a:pt x="10327" y="890"/>
                  </a:lnTo>
                  <a:lnTo>
                    <a:pt x="10324" y="921"/>
                  </a:lnTo>
                  <a:lnTo>
                    <a:pt x="10321" y="952"/>
                  </a:lnTo>
                  <a:lnTo>
                    <a:pt x="10317" y="981"/>
                  </a:lnTo>
                  <a:lnTo>
                    <a:pt x="10315" y="995"/>
                  </a:lnTo>
                  <a:lnTo>
                    <a:pt x="10313" y="1009"/>
                  </a:lnTo>
                  <a:lnTo>
                    <a:pt x="10310" y="1022"/>
                  </a:lnTo>
                  <a:lnTo>
                    <a:pt x="10307" y="1033"/>
                  </a:lnTo>
                  <a:lnTo>
                    <a:pt x="10301" y="1044"/>
                  </a:lnTo>
                  <a:lnTo>
                    <a:pt x="10297" y="1054"/>
                  </a:lnTo>
                  <a:lnTo>
                    <a:pt x="10291" y="1063"/>
                  </a:lnTo>
                  <a:lnTo>
                    <a:pt x="10284" y="1071"/>
                  </a:lnTo>
                  <a:lnTo>
                    <a:pt x="10275" y="1077"/>
                  </a:lnTo>
                  <a:lnTo>
                    <a:pt x="10266" y="1083"/>
                  </a:lnTo>
                  <a:lnTo>
                    <a:pt x="10255" y="1086"/>
                  </a:lnTo>
                  <a:lnTo>
                    <a:pt x="10243" y="1089"/>
                  </a:lnTo>
                  <a:lnTo>
                    <a:pt x="10230" y="1090"/>
                  </a:lnTo>
                  <a:lnTo>
                    <a:pt x="10214" y="1089"/>
                  </a:lnTo>
                  <a:lnTo>
                    <a:pt x="10197" y="1086"/>
                  </a:lnTo>
                  <a:lnTo>
                    <a:pt x="10177" y="1081"/>
                  </a:lnTo>
                  <a:lnTo>
                    <a:pt x="10157" y="1075"/>
                  </a:lnTo>
                  <a:lnTo>
                    <a:pt x="10137" y="1067"/>
                  </a:lnTo>
                  <a:lnTo>
                    <a:pt x="10119" y="1059"/>
                  </a:lnTo>
                  <a:lnTo>
                    <a:pt x="10101" y="1050"/>
                  </a:lnTo>
                  <a:lnTo>
                    <a:pt x="10085" y="1040"/>
                  </a:lnTo>
                  <a:lnTo>
                    <a:pt x="10069" y="1029"/>
                  </a:lnTo>
                  <a:lnTo>
                    <a:pt x="10053" y="1018"/>
                  </a:lnTo>
                  <a:lnTo>
                    <a:pt x="10038" y="1006"/>
                  </a:lnTo>
                  <a:lnTo>
                    <a:pt x="10024" y="993"/>
                  </a:lnTo>
                  <a:lnTo>
                    <a:pt x="10011" y="981"/>
                  </a:lnTo>
                  <a:lnTo>
                    <a:pt x="9998" y="967"/>
                  </a:lnTo>
                  <a:lnTo>
                    <a:pt x="9985" y="954"/>
                  </a:lnTo>
                  <a:lnTo>
                    <a:pt x="9960" y="925"/>
                  </a:lnTo>
                  <a:lnTo>
                    <a:pt x="9935" y="896"/>
                  </a:lnTo>
                  <a:lnTo>
                    <a:pt x="9910" y="864"/>
                  </a:lnTo>
                  <a:lnTo>
                    <a:pt x="9884" y="833"/>
                  </a:lnTo>
                  <a:lnTo>
                    <a:pt x="9857" y="802"/>
                  </a:lnTo>
                  <a:lnTo>
                    <a:pt x="9828" y="771"/>
                  </a:lnTo>
                  <a:lnTo>
                    <a:pt x="9812" y="754"/>
                  </a:lnTo>
                  <a:lnTo>
                    <a:pt x="9795" y="739"/>
                  </a:lnTo>
                  <a:lnTo>
                    <a:pt x="9778" y="723"/>
                  </a:lnTo>
                  <a:lnTo>
                    <a:pt x="9760" y="708"/>
                  </a:lnTo>
                  <a:lnTo>
                    <a:pt x="9741" y="694"/>
                  </a:lnTo>
                  <a:lnTo>
                    <a:pt x="9721" y="679"/>
                  </a:lnTo>
                  <a:lnTo>
                    <a:pt x="9700" y="665"/>
                  </a:lnTo>
                  <a:lnTo>
                    <a:pt x="9678" y="651"/>
                  </a:lnTo>
                  <a:lnTo>
                    <a:pt x="9627" y="621"/>
                  </a:lnTo>
                  <a:lnTo>
                    <a:pt x="9568" y="588"/>
                  </a:lnTo>
                  <a:lnTo>
                    <a:pt x="9502" y="554"/>
                  </a:lnTo>
                  <a:lnTo>
                    <a:pt x="9431" y="516"/>
                  </a:lnTo>
                  <a:lnTo>
                    <a:pt x="9356" y="478"/>
                  </a:lnTo>
                  <a:lnTo>
                    <a:pt x="9279" y="440"/>
                  </a:lnTo>
                  <a:lnTo>
                    <a:pt x="9202" y="403"/>
                  </a:lnTo>
                  <a:lnTo>
                    <a:pt x="9125" y="365"/>
                  </a:lnTo>
                  <a:lnTo>
                    <a:pt x="9053" y="330"/>
                  </a:lnTo>
                  <a:lnTo>
                    <a:pt x="8984" y="297"/>
                  </a:lnTo>
                  <a:lnTo>
                    <a:pt x="8922" y="267"/>
                  </a:lnTo>
                  <a:lnTo>
                    <a:pt x="8866" y="241"/>
                  </a:lnTo>
                  <a:lnTo>
                    <a:pt x="8821" y="220"/>
                  </a:lnTo>
                  <a:lnTo>
                    <a:pt x="8786" y="204"/>
                  </a:lnTo>
                  <a:lnTo>
                    <a:pt x="8764" y="194"/>
                  </a:lnTo>
                  <a:lnTo>
                    <a:pt x="8757" y="190"/>
                  </a:lnTo>
                  <a:lnTo>
                    <a:pt x="8751" y="186"/>
                  </a:lnTo>
                  <a:lnTo>
                    <a:pt x="8735" y="176"/>
                  </a:lnTo>
                  <a:lnTo>
                    <a:pt x="8708" y="159"/>
                  </a:lnTo>
                  <a:lnTo>
                    <a:pt x="8670" y="140"/>
                  </a:lnTo>
                  <a:lnTo>
                    <a:pt x="8646" y="129"/>
                  </a:lnTo>
                  <a:lnTo>
                    <a:pt x="8620" y="117"/>
                  </a:lnTo>
                  <a:lnTo>
                    <a:pt x="8591" y="106"/>
                  </a:lnTo>
                  <a:lnTo>
                    <a:pt x="8560" y="94"/>
                  </a:lnTo>
                  <a:lnTo>
                    <a:pt x="8525" y="82"/>
                  </a:lnTo>
                  <a:lnTo>
                    <a:pt x="8489" y="70"/>
                  </a:lnTo>
                  <a:lnTo>
                    <a:pt x="8449" y="59"/>
                  </a:lnTo>
                  <a:lnTo>
                    <a:pt x="8406" y="48"/>
                  </a:lnTo>
                  <a:lnTo>
                    <a:pt x="8362" y="37"/>
                  </a:lnTo>
                  <a:lnTo>
                    <a:pt x="8315" y="28"/>
                  </a:lnTo>
                  <a:lnTo>
                    <a:pt x="8264" y="20"/>
                  </a:lnTo>
                  <a:lnTo>
                    <a:pt x="8211" y="13"/>
                  </a:lnTo>
                  <a:lnTo>
                    <a:pt x="8155" y="7"/>
                  </a:lnTo>
                  <a:lnTo>
                    <a:pt x="8097" y="3"/>
                  </a:lnTo>
                  <a:lnTo>
                    <a:pt x="8035" y="0"/>
                  </a:lnTo>
                  <a:lnTo>
                    <a:pt x="7972" y="0"/>
                  </a:lnTo>
                  <a:lnTo>
                    <a:pt x="7905" y="1"/>
                  </a:lnTo>
                  <a:lnTo>
                    <a:pt x="7836" y="5"/>
                  </a:lnTo>
                  <a:lnTo>
                    <a:pt x="7764" y="10"/>
                  </a:lnTo>
                  <a:lnTo>
                    <a:pt x="7690" y="19"/>
                  </a:lnTo>
                  <a:lnTo>
                    <a:pt x="7613" y="30"/>
                  </a:lnTo>
                  <a:lnTo>
                    <a:pt x="7533" y="45"/>
                  </a:lnTo>
                  <a:lnTo>
                    <a:pt x="7451" y="62"/>
                  </a:lnTo>
                  <a:lnTo>
                    <a:pt x="7366" y="82"/>
                  </a:lnTo>
                  <a:lnTo>
                    <a:pt x="7284" y="103"/>
                  </a:lnTo>
                  <a:lnTo>
                    <a:pt x="7207" y="121"/>
                  </a:lnTo>
                  <a:lnTo>
                    <a:pt x="7136" y="138"/>
                  </a:lnTo>
                  <a:lnTo>
                    <a:pt x="7071" y="152"/>
                  </a:lnTo>
                  <a:lnTo>
                    <a:pt x="7010" y="166"/>
                  </a:lnTo>
                  <a:lnTo>
                    <a:pt x="6954" y="176"/>
                  </a:lnTo>
                  <a:lnTo>
                    <a:pt x="6902" y="185"/>
                  </a:lnTo>
                  <a:lnTo>
                    <a:pt x="6856" y="193"/>
                  </a:lnTo>
                  <a:lnTo>
                    <a:pt x="6813" y="198"/>
                  </a:lnTo>
                  <a:lnTo>
                    <a:pt x="6773" y="203"/>
                  </a:lnTo>
                  <a:lnTo>
                    <a:pt x="6737" y="206"/>
                  </a:lnTo>
                  <a:lnTo>
                    <a:pt x="6704" y="208"/>
                  </a:lnTo>
                  <a:lnTo>
                    <a:pt x="6674" y="209"/>
                  </a:lnTo>
                  <a:lnTo>
                    <a:pt x="6645" y="209"/>
                  </a:lnTo>
                  <a:lnTo>
                    <a:pt x="6620" y="209"/>
                  </a:lnTo>
                  <a:lnTo>
                    <a:pt x="6597" y="207"/>
                  </a:lnTo>
                  <a:lnTo>
                    <a:pt x="6575" y="205"/>
                  </a:lnTo>
                  <a:lnTo>
                    <a:pt x="6555" y="202"/>
                  </a:lnTo>
                  <a:lnTo>
                    <a:pt x="6536" y="199"/>
                  </a:lnTo>
                  <a:lnTo>
                    <a:pt x="6517" y="196"/>
                  </a:lnTo>
                  <a:lnTo>
                    <a:pt x="6483" y="189"/>
                  </a:lnTo>
                  <a:lnTo>
                    <a:pt x="6449" y="182"/>
                  </a:lnTo>
                  <a:lnTo>
                    <a:pt x="6431" y="178"/>
                  </a:lnTo>
                  <a:lnTo>
                    <a:pt x="6413" y="175"/>
                  </a:lnTo>
                  <a:lnTo>
                    <a:pt x="6392" y="173"/>
                  </a:lnTo>
                  <a:lnTo>
                    <a:pt x="6371" y="171"/>
                  </a:lnTo>
                  <a:lnTo>
                    <a:pt x="6349" y="170"/>
                  </a:lnTo>
                  <a:lnTo>
                    <a:pt x="6325" y="169"/>
                  </a:lnTo>
                  <a:lnTo>
                    <a:pt x="6298" y="169"/>
                  </a:lnTo>
                  <a:lnTo>
                    <a:pt x="6268" y="171"/>
                  </a:lnTo>
                  <a:lnTo>
                    <a:pt x="6209" y="175"/>
                  </a:lnTo>
                  <a:lnTo>
                    <a:pt x="6147" y="182"/>
                  </a:lnTo>
                  <a:lnTo>
                    <a:pt x="6084" y="190"/>
                  </a:lnTo>
                  <a:lnTo>
                    <a:pt x="6019" y="200"/>
                  </a:lnTo>
                  <a:lnTo>
                    <a:pt x="5987" y="206"/>
                  </a:lnTo>
                  <a:lnTo>
                    <a:pt x="5955" y="213"/>
                  </a:lnTo>
                  <a:lnTo>
                    <a:pt x="5923" y="219"/>
                  </a:lnTo>
                  <a:lnTo>
                    <a:pt x="5890" y="227"/>
                  </a:lnTo>
                  <a:lnTo>
                    <a:pt x="5858" y="235"/>
                  </a:lnTo>
                  <a:lnTo>
                    <a:pt x="5827" y="243"/>
                  </a:lnTo>
                  <a:lnTo>
                    <a:pt x="5796" y="252"/>
                  </a:lnTo>
                  <a:lnTo>
                    <a:pt x="5764" y="262"/>
                  </a:lnTo>
                  <a:lnTo>
                    <a:pt x="5734" y="272"/>
                  </a:lnTo>
                  <a:lnTo>
                    <a:pt x="5704" y="284"/>
                  </a:lnTo>
                  <a:lnTo>
                    <a:pt x="5675" y="295"/>
                  </a:lnTo>
                  <a:lnTo>
                    <a:pt x="5646" y="306"/>
                  </a:lnTo>
                  <a:lnTo>
                    <a:pt x="5617" y="319"/>
                  </a:lnTo>
                  <a:lnTo>
                    <a:pt x="5590" y="331"/>
                  </a:lnTo>
                  <a:lnTo>
                    <a:pt x="5564" y="345"/>
                  </a:lnTo>
                  <a:lnTo>
                    <a:pt x="5539" y="359"/>
                  </a:lnTo>
                  <a:lnTo>
                    <a:pt x="5514" y="373"/>
                  </a:lnTo>
                  <a:lnTo>
                    <a:pt x="5491" y="389"/>
                  </a:lnTo>
                  <a:lnTo>
                    <a:pt x="5469" y="405"/>
                  </a:lnTo>
                  <a:lnTo>
                    <a:pt x="5448" y="422"/>
                  </a:lnTo>
                  <a:lnTo>
                    <a:pt x="5428" y="439"/>
                  </a:lnTo>
                  <a:lnTo>
                    <a:pt x="5410" y="456"/>
                  </a:lnTo>
                  <a:lnTo>
                    <a:pt x="5393" y="475"/>
                  </a:lnTo>
                  <a:lnTo>
                    <a:pt x="5377" y="493"/>
                  </a:lnTo>
                  <a:lnTo>
                    <a:pt x="5361" y="514"/>
                  </a:lnTo>
                  <a:lnTo>
                    <a:pt x="5340" y="539"/>
                  </a:lnTo>
                  <a:lnTo>
                    <a:pt x="5315" y="567"/>
                  </a:lnTo>
                  <a:lnTo>
                    <a:pt x="5285" y="597"/>
                  </a:lnTo>
                  <a:lnTo>
                    <a:pt x="5251" y="629"/>
                  </a:lnTo>
                  <a:lnTo>
                    <a:pt x="5214" y="665"/>
                  </a:lnTo>
                  <a:lnTo>
                    <a:pt x="5173" y="702"/>
                  </a:lnTo>
                  <a:lnTo>
                    <a:pt x="5129" y="740"/>
                  </a:lnTo>
                  <a:lnTo>
                    <a:pt x="5082" y="781"/>
                  </a:lnTo>
                  <a:lnTo>
                    <a:pt x="5032" y="823"/>
                  </a:lnTo>
                  <a:lnTo>
                    <a:pt x="4979" y="865"/>
                  </a:lnTo>
                  <a:lnTo>
                    <a:pt x="4925" y="908"/>
                  </a:lnTo>
                  <a:lnTo>
                    <a:pt x="4868" y="952"/>
                  </a:lnTo>
                  <a:lnTo>
                    <a:pt x="4810" y="995"/>
                  </a:lnTo>
                  <a:lnTo>
                    <a:pt x="4750" y="1039"/>
                  </a:lnTo>
                  <a:lnTo>
                    <a:pt x="4689" y="1081"/>
                  </a:lnTo>
                  <a:lnTo>
                    <a:pt x="4627" y="1124"/>
                  </a:lnTo>
                  <a:lnTo>
                    <a:pt x="4565" y="1165"/>
                  </a:lnTo>
                  <a:lnTo>
                    <a:pt x="4501" y="1205"/>
                  </a:lnTo>
                  <a:lnTo>
                    <a:pt x="4438" y="1245"/>
                  </a:lnTo>
                  <a:lnTo>
                    <a:pt x="4374" y="1281"/>
                  </a:lnTo>
                  <a:lnTo>
                    <a:pt x="4312" y="1316"/>
                  </a:lnTo>
                  <a:lnTo>
                    <a:pt x="4249" y="1348"/>
                  </a:lnTo>
                  <a:lnTo>
                    <a:pt x="4187" y="1379"/>
                  </a:lnTo>
                  <a:lnTo>
                    <a:pt x="4126" y="1406"/>
                  </a:lnTo>
                  <a:lnTo>
                    <a:pt x="4067" y="1429"/>
                  </a:lnTo>
                  <a:lnTo>
                    <a:pt x="4010" y="1450"/>
                  </a:lnTo>
                  <a:lnTo>
                    <a:pt x="3953" y="1467"/>
                  </a:lnTo>
                  <a:lnTo>
                    <a:pt x="3899" y="1481"/>
                  </a:lnTo>
                  <a:lnTo>
                    <a:pt x="3847" y="1490"/>
                  </a:lnTo>
                  <a:lnTo>
                    <a:pt x="3798" y="1494"/>
                  </a:lnTo>
                  <a:lnTo>
                    <a:pt x="3751" y="1494"/>
                  </a:lnTo>
                  <a:lnTo>
                    <a:pt x="3706" y="1490"/>
                  </a:lnTo>
                  <a:lnTo>
                    <a:pt x="3660" y="1488"/>
                  </a:lnTo>
                  <a:lnTo>
                    <a:pt x="3612" y="1486"/>
                  </a:lnTo>
                  <a:lnTo>
                    <a:pt x="3564" y="1485"/>
                  </a:lnTo>
                  <a:lnTo>
                    <a:pt x="3516" y="1484"/>
                  </a:lnTo>
                  <a:lnTo>
                    <a:pt x="3466" y="1485"/>
                  </a:lnTo>
                  <a:lnTo>
                    <a:pt x="3417" y="1486"/>
                  </a:lnTo>
                  <a:lnTo>
                    <a:pt x="3367" y="1488"/>
                  </a:lnTo>
                  <a:lnTo>
                    <a:pt x="3318" y="1491"/>
                  </a:lnTo>
                  <a:lnTo>
                    <a:pt x="3269" y="1494"/>
                  </a:lnTo>
                  <a:lnTo>
                    <a:pt x="3219" y="1499"/>
                  </a:lnTo>
                  <a:lnTo>
                    <a:pt x="3171" y="1504"/>
                  </a:lnTo>
                  <a:lnTo>
                    <a:pt x="3122" y="1510"/>
                  </a:lnTo>
                  <a:lnTo>
                    <a:pt x="3075" y="1518"/>
                  </a:lnTo>
                  <a:lnTo>
                    <a:pt x="3029" y="1526"/>
                  </a:lnTo>
                  <a:lnTo>
                    <a:pt x="2982" y="1535"/>
                  </a:lnTo>
                  <a:lnTo>
                    <a:pt x="2937" y="1545"/>
                  </a:lnTo>
                  <a:lnTo>
                    <a:pt x="2894" y="1556"/>
                  </a:lnTo>
                  <a:lnTo>
                    <a:pt x="2851" y="1568"/>
                  </a:lnTo>
                  <a:lnTo>
                    <a:pt x="2810" y="1581"/>
                  </a:lnTo>
                  <a:lnTo>
                    <a:pt x="2771" y="1595"/>
                  </a:lnTo>
                  <a:lnTo>
                    <a:pt x="2733" y="1611"/>
                  </a:lnTo>
                  <a:lnTo>
                    <a:pt x="2697" y="1628"/>
                  </a:lnTo>
                  <a:lnTo>
                    <a:pt x="2663" y="1645"/>
                  </a:lnTo>
                  <a:lnTo>
                    <a:pt x="2632" y="1663"/>
                  </a:lnTo>
                  <a:lnTo>
                    <a:pt x="2601" y="1683"/>
                  </a:lnTo>
                  <a:lnTo>
                    <a:pt x="2574" y="1704"/>
                  </a:lnTo>
                  <a:lnTo>
                    <a:pt x="2550" y="1727"/>
                  </a:lnTo>
                  <a:lnTo>
                    <a:pt x="2528" y="1750"/>
                  </a:lnTo>
                  <a:lnTo>
                    <a:pt x="2508" y="1774"/>
                  </a:lnTo>
                  <a:lnTo>
                    <a:pt x="2491" y="1799"/>
                  </a:lnTo>
                  <a:lnTo>
                    <a:pt x="2478" y="1826"/>
                  </a:lnTo>
                  <a:lnTo>
                    <a:pt x="2467" y="1854"/>
                  </a:lnTo>
                  <a:lnTo>
                    <a:pt x="2458" y="1879"/>
                  </a:lnTo>
                  <a:lnTo>
                    <a:pt x="2451" y="1903"/>
                  </a:lnTo>
                  <a:lnTo>
                    <a:pt x="2446" y="1926"/>
                  </a:lnTo>
                  <a:lnTo>
                    <a:pt x="2443" y="1949"/>
                  </a:lnTo>
                  <a:lnTo>
                    <a:pt x="2442" y="1971"/>
                  </a:lnTo>
                  <a:lnTo>
                    <a:pt x="2442" y="1992"/>
                  </a:lnTo>
                  <a:lnTo>
                    <a:pt x="2445" y="2011"/>
                  </a:lnTo>
                  <a:lnTo>
                    <a:pt x="2449" y="2031"/>
                  </a:lnTo>
                  <a:lnTo>
                    <a:pt x="2454" y="2050"/>
                  </a:lnTo>
                  <a:lnTo>
                    <a:pt x="2461" y="2068"/>
                  </a:lnTo>
                  <a:lnTo>
                    <a:pt x="2470" y="2087"/>
                  </a:lnTo>
                  <a:lnTo>
                    <a:pt x="2480" y="2105"/>
                  </a:lnTo>
                  <a:lnTo>
                    <a:pt x="2492" y="2123"/>
                  </a:lnTo>
                  <a:lnTo>
                    <a:pt x="2506" y="2141"/>
                  </a:lnTo>
                  <a:lnTo>
                    <a:pt x="2521" y="2159"/>
                  </a:lnTo>
                  <a:lnTo>
                    <a:pt x="2537" y="2178"/>
                  </a:lnTo>
                  <a:lnTo>
                    <a:pt x="2554" y="2197"/>
                  </a:lnTo>
                  <a:lnTo>
                    <a:pt x="2573" y="2217"/>
                  </a:lnTo>
                  <a:lnTo>
                    <a:pt x="2592" y="2236"/>
                  </a:lnTo>
                  <a:lnTo>
                    <a:pt x="2636" y="2277"/>
                  </a:lnTo>
                  <a:lnTo>
                    <a:pt x="2683" y="2323"/>
                  </a:lnTo>
                  <a:lnTo>
                    <a:pt x="2734" y="2372"/>
                  </a:lnTo>
                  <a:lnTo>
                    <a:pt x="2790" y="2425"/>
                  </a:lnTo>
                  <a:lnTo>
                    <a:pt x="2818" y="2455"/>
                  </a:lnTo>
                  <a:lnTo>
                    <a:pt x="2847" y="2485"/>
                  </a:lnTo>
                  <a:lnTo>
                    <a:pt x="2878" y="2517"/>
                  </a:lnTo>
                  <a:lnTo>
                    <a:pt x="2909" y="2551"/>
                  </a:lnTo>
                  <a:lnTo>
                    <a:pt x="2976" y="2626"/>
                  </a:lnTo>
                  <a:lnTo>
                    <a:pt x="3050" y="2711"/>
                  </a:lnTo>
                  <a:lnTo>
                    <a:pt x="3089" y="2756"/>
                  </a:lnTo>
                  <a:lnTo>
                    <a:pt x="3130" y="2803"/>
                  </a:lnTo>
                  <a:lnTo>
                    <a:pt x="3170" y="2851"/>
                  </a:lnTo>
                  <a:lnTo>
                    <a:pt x="3211" y="2900"/>
                  </a:lnTo>
                  <a:lnTo>
                    <a:pt x="3252" y="2951"/>
                  </a:lnTo>
                  <a:lnTo>
                    <a:pt x="3292" y="3003"/>
                  </a:lnTo>
                  <a:lnTo>
                    <a:pt x="3332" y="3055"/>
                  </a:lnTo>
                  <a:lnTo>
                    <a:pt x="3370" y="3108"/>
                  </a:lnTo>
                  <a:lnTo>
                    <a:pt x="3409" y="3162"/>
                  </a:lnTo>
                  <a:lnTo>
                    <a:pt x="3444" y="3215"/>
                  </a:lnTo>
                  <a:lnTo>
                    <a:pt x="3478" y="3267"/>
                  </a:lnTo>
                  <a:lnTo>
                    <a:pt x="3511" y="3321"/>
                  </a:lnTo>
                  <a:lnTo>
                    <a:pt x="3539" y="3373"/>
                  </a:lnTo>
                  <a:lnTo>
                    <a:pt x="3566" y="3426"/>
                  </a:lnTo>
                  <a:lnTo>
                    <a:pt x="3589" y="3476"/>
                  </a:lnTo>
                  <a:lnTo>
                    <a:pt x="3608" y="3527"/>
                  </a:lnTo>
                  <a:lnTo>
                    <a:pt x="3624" y="3575"/>
                  </a:lnTo>
                  <a:lnTo>
                    <a:pt x="3636" y="3622"/>
                  </a:lnTo>
                  <a:lnTo>
                    <a:pt x="3644" y="3668"/>
                  </a:lnTo>
                  <a:lnTo>
                    <a:pt x="3646" y="3712"/>
                  </a:lnTo>
                  <a:lnTo>
                    <a:pt x="3644" y="3754"/>
                  </a:lnTo>
                  <a:lnTo>
                    <a:pt x="3636" y="3793"/>
                  </a:lnTo>
                  <a:lnTo>
                    <a:pt x="3621" y="3830"/>
                  </a:lnTo>
                  <a:lnTo>
                    <a:pt x="3602" y="3864"/>
                  </a:lnTo>
                  <a:lnTo>
                    <a:pt x="3576" y="3897"/>
                  </a:lnTo>
                  <a:lnTo>
                    <a:pt x="3544" y="3925"/>
                  </a:lnTo>
                  <a:lnTo>
                    <a:pt x="3505" y="3950"/>
                  </a:lnTo>
                  <a:lnTo>
                    <a:pt x="3457" y="3972"/>
                  </a:lnTo>
                  <a:lnTo>
                    <a:pt x="3410" y="3992"/>
                  </a:lnTo>
                  <a:lnTo>
                    <a:pt x="3364" y="4007"/>
                  </a:lnTo>
                  <a:lnTo>
                    <a:pt x="3321" y="4018"/>
                  </a:lnTo>
                  <a:lnTo>
                    <a:pt x="3282" y="4027"/>
                  </a:lnTo>
                  <a:lnTo>
                    <a:pt x="3243" y="4033"/>
                  </a:lnTo>
                  <a:lnTo>
                    <a:pt x="3209" y="4037"/>
                  </a:lnTo>
                  <a:lnTo>
                    <a:pt x="3176" y="4037"/>
                  </a:lnTo>
                  <a:lnTo>
                    <a:pt x="3145" y="4036"/>
                  </a:lnTo>
                  <a:lnTo>
                    <a:pt x="3115" y="4032"/>
                  </a:lnTo>
                  <a:lnTo>
                    <a:pt x="3088" y="4026"/>
                  </a:lnTo>
                  <a:lnTo>
                    <a:pt x="3062" y="4019"/>
                  </a:lnTo>
                  <a:lnTo>
                    <a:pt x="3038" y="4009"/>
                  </a:lnTo>
                  <a:lnTo>
                    <a:pt x="3015" y="3998"/>
                  </a:lnTo>
                  <a:lnTo>
                    <a:pt x="2992" y="3985"/>
                  </a:lnTo>
                  <a:lnTo>
                    <a:pt x="2971" y="3971"/>
                  </a:lnTo>
                  <a:lnTo>
                    <a:pt x="2952" y="3956"/>
                  </a:lnTo>
                  <a:lnTo>
                    <a:pt x="2933" y="3941"/>
                  </a:lnTo>
                  <a:lnTo>
                    <a:pt x="2914" y="3924"/>
                  </a:lnTo>
                  <a:lnTo>
                    <a:pt x="2896" y="3907"/>
                  </a:lnTo>
                  <a:lnTo>
                    <a:pt x="2879" y="3890"/>
                  </a:lnTo>
                  <a:lnTo>
                    <a:pt x="2843" y="3853"/>
                  </a:lnTo>
                  <a:lnTo>
                    <a:pt x="2809" y="3817"/>
                  </a:lnTo>
                  <a:lnTo>
                    <a:pt x="2791" y="3799"/>
                  </a:lnTo>
                  <a:lnTo>
                    <a:pt x="2773" y="3782"/>
                  </a:lnTo>
                  <a:lnTo>
                    <a:pt x="2754" y="3766"/>
                  </a:lnTo>
                  <a:lnTo>
                    <a:pt x="2733" y="3749"/>
                  </a:lnTo>
                  <a:lnTo>
                    <a:pt x="2713" y="3735"/>
                  </a:lnTo>
                  <a:lnTo>
                    <a:pt x="2691" y="3721"/>
                  </a:lnTo>
                  <a:lnTo>
                    <a:pt x="2669" y="3709"/>
                  </a:lnTo>
                  <a:lnTo>
                    <a:pt x="2645" y="3698"/>
                  </a:lnTo>
                  <a:lnTo>
                    <a:pt x="2618" y="3689"/>
                  </a:lnTo>
                  <a:lnTo>
                    <a:pt x="2589" y="3680"/>
                  </a:lnTo>
                  <a:lnTo>
                    <a:pt x="2559" y="3673"/>
                  </a:lnTo>
                  <a:lnTo>
                    <a:pt x="2526" y="3666"/>
                  </a:lnTo>
                  <a:lnTo>
                    <a:pt x="2490" y="3661"/>
                  </a:lnTo>
                  <a:lnTo>
                    <a:pt x="2453" y="3657"/>
                  </a:lnTo>
                  <a:lnTo>
                    <a:pt x="2414" y="3653"/>
                  </a:lnTo>
                  <a:lnTo>
                    <a:pt x="2374" y="3651"/>
                  </a:lnTo>
                  <a:lnTo>
                    <a:pt x="2330" y="3650"/>
                  </a:lnTo>
                  <a:lnTo>
                    <a:pt x="2287" y="3650"/>
                  </a:lnTo>
                  <a:lnTo>
                    <a:pt x="2241" y="3651"/>
                  </a:lnTo>
                  <a:lnTo>
                    <a:pt x="2195" y="3653"/>
                  </a:lnTo>
                  <a:lnTo>
                    <a:pt x="2148" y="3656"/>
                  </a:lnTo>
                  <a:lnTo>
                    <a:pt x="2100" y="3661"/>
                  </a:lnTo>
                  <a:lnTo>
                    <a:pt x="2051" y="3666"/>
                  </a:lnTo>
                  <a:lnTo>
                    <a:pt x="2002" y="3673"/>
                  </a:lnTo>
                  <a:lnTo>
                    <a:pt x="1951" y="3680"/>
                  </a:lnTo>
                  <a:lnTo>
                    <a:pt x="1901" y="3689"/>
                  </a:lnTo>
                  <a:lnTo>
                    <a:pt x="1850" y="3699"/>
                  </a:lnTo>
                  <a:lnTo>
                    <a:pt x="1800" y="3710"/>
                  </a:lnTo>
                  <a:lnTo>
                    <a:pt x="1750" y="3722"/>
                  </a:lnTo>
                  <a:lnTo>
                    <a:pt x="1698" y="3735"/>
                  </a:lnTo>
                  <a:lnTo>
                    <a:pt x="1649" y="3750"/>
                  </a:lnTo>
                  <a:lnTo>
                    <a:pt x="1599" y="3766"/>
                  </a:lnTo>
                  <a:lnTo>
                    <a:pt x="1550" y="3783"/>
                  </a:lnTo>
                  <a:lnTo>
                    <a:pt x="1502" y="3801"/>
                  </a:lnTo>
                  <a:lnTo>
                    <a:pt x="1454" y="3820"/>
                  </a:lnTo>
                  <a:lnTo>
                    <a:pt x="1407" y="3840"/>
                  </a:lnTo>
                  <a:lnTo>
                    <a:pt x="1362" y="3861"/>
                  </a:lnTo>
                  <a:lnTo>
                    <a:pt x="1318" y="3885"/>
                  </a:lnTo>
                  <a:lnTo>
                    <a:pt x="1275" y="3908"/>
                  </a:lnTo>
                  <a:lnTo>
                    <a:pt x="1233" y="3933"/>
                  </a:lnTo>
                  <a:lnTo>
                    <a:pt x="1154" y="3982"/>
                  </a:lnTo>
                  <a:lnTo>
                    <a:pt x="1077" y="4032"/>
                  </a:lnTo>
                  <a:lnTo>
                    <a:pt x="1040" y="4056"/>
                  </a:lnTo>
                  <a:lnTo>
                    <a:pt x="1005" y="4079"/>
                  </a:lnTo>
                  <a:lnTo>
                    <a:pt x="969" y="4103"/>
                  </a:lnTo>
                  <a:lnTo>
                    <a:pt x="936" y="4128"/>
                  </a:lnTo>
                  <a:lnTo>
                    <a:pt x="905" y="4152"/>
                  </a:lnTo>
                  <a:lnTo>
                    <a:pt x="875" y="4175"/>
                  </a:lnTo>
                  <a:lnTo>
                    <a:pt x="845" y="4199"/>
                  </a:lnTo>
                  <a:lnTo>
                    <a:pt x="819" y="4223"/>
                  </a:lnTo>
                  <a:lnTo>
                    <a:pt x="795" y="4248"/>
                  </a:lnTo>
                  <a:lnTo>
                    <a:pt x="772" y="4271"/>
                  </a:lnTo>
                  <a:lnTo>
                    <a:pt x="752" y="4295"/>
                  </a:lnTo>
                  <a:lnTo>
                    <a:pt x="735" y="4319"/>
                  </a:lnTo>
                  <a:lnTo>
                    <a:pt x="719" y="4343"/>
                  </a:lnTo>
                  <a:lnTo>
                    <a:pt x="706" y="4368"/>
                  </a:lnTo>
                  <a:lnTo>
                    <a:pt x="696" y="4392"/>
                  </a:lnTo>
                  <a:lnTo>
                    <a:pt x="690" y="4417"/>
                  </a:lnTo>
                  <a:lnTo>
                    <a:pt x="686" y="4441"/>
                  </a:lnTo>
                  <a:lnTo>
                    <a:pt x="685" y="4466"/>
                  </a:lnTo>
                  <a:lnTo>
                    <a:pt x="688" y="4491"/>
                  </a:lnTo>
                  <a:lnTo>
                    <a:pt x="694" y="4516"/>
                  </a:lnTo>
                  <a:lnTo>
                    <a:pt x="703" y="4542"/>
                  </a:lnTo>
                  <a:lnTo>
                    <a:pt x="716" y="4567"/>
                  </a:lnTo>
                  <a:lnTo>
                    <a:pt x="734" y="4594"/>
                  </a:lnTo>
                  <a:lnTo>
                    <a:pt x="755" y="4620"/>
                  </a:lnTo>
                  <a:lnTo>
                    <a:pt x="780" y="4646"/>
                  </a:lnTo>
                  <a:lnTo>
                    <a:pt x="809" y="4672"/>
                  </a:lnTo>
                  <a:lnTo>
                    <a:pt x="843" y="4699"/>
                  </a:lnTo>
                  <a:lnTo>
                    <a:pt x="882" y="4727"/>
                  </a:lnTo>
                  <a:lnTo>
                    <a:pt x="922" y="4755"/>
                  </a:lnTo>
                  <a:lnTo>
                    <a:pt x="963" y="4782"/>
                  </a:lnTo>
                  <a:lnTo>
                    <a:pt x="1006" y="4808"/>
                  </a:lnTo>
                  <a:lnTo>
                    <a:pt x="1049" y="4835"/>
                  </a:lnTo>
                  <a:lnTo>
                    <a:pt x="1093" y="4861"/>
                  </a:lnTo>
                  <a:lnTo>
                    <a:pt x="1138" y="4886"/>
                  </a:lnTo>
                  <a:lnTo>
                    <a:pt x="1183" y="4911"/>
                  </a:lnTo>
                  <a:lnTo>
                    <a:pt x="1229" y="4935"/>
                  </a:lnTo>
                  <a:lnTo>
                    <a:pt x="1277" y="4959"/>
                  </a:lnTo>
                  <a:lnTo>
                    <a:pt x="1324" y="4981"/>
                  </a:lnTo>
                  <a:lnTo>
                    <a:pt x="1373" y="5003"/>
                  </a:lnTo>
                  <a:lnTo>
                    <a:pt x="1422" y="5024"/>
                  </a:lnTo>
                  <a:lnTo>
                    <a:pt x="1472" y="5043"/>
                  </a:lnTo>
                  <a:lnTo>
                    <a:pt x="1523" y="5062"/>
                  </a:lnTo>
                  <a:lnTo>
                    <a:pt x="1574" y="5081"/>
                  </a:lnTo>
                  <a:lnTo>
                    <a:pt x="1627" y="5097"/>
                  </a:lnTo>
                  <a:lnTo>
                    <a:pt x="1680" y="5113"/>
                  </a:lnTo>
                  <a:lnTo>
                    <a:pt x="1733" y="5127"/>
                  </a:lnTo>
                  <a:lnTo>
                    <a:pt x="1788" y="5139"/>
                  </a:lnTo>
                  <a:lnTo>
                    <a:pt x="1842" y="5151"/>
                  </a:lnTo>
                  <a:lnTo>
                    <a:pt x="1899" y="5161"/>
                  </a:lnTo>
                  <a:lnTo>
                    <a:pt x="1955" y="5169"/>
                  </a:lnTo>
                  <a:lnTo>
                    <a:pt x="2012" y="5176"/>
                  </a:lnTo>
                  <a:lnTo>
                    <a:pt x="2070" y="5181"/>
                  </a:lnTo>
                  <a:lnTo>
                    <a:pt x="2129" y="5185"/>
                  </a:lnTo>
                  <a:lnTo>
                    <a:pt x="2188" y="5187"/>
                  </a:lnTo>
                  <a:lnTo>
                    <a:pt x="2248" y="5187"/>
                  </a:lnTo>
                  <a:lnTo>
                    <a:pt x="2308" y="5185"/>
                  </a:lnTo>
                  <a:lnTo>
                    <a:pt x="2369" y="5181"/>
                  </a:lnTo>
                  <a:lnTo>
                    <a:pt x="2431" y="5176"/>
                  </a:lnTo>
                  <a:lnTo>
                    <a:pt x="2493" y="5168"/>
                  </a:lnTo>
                  <a:lnTo>
                    <a:pt x="2556" y="5158"/>
                  </a:lnTo>
                  <a:lnTo>
                    <a:pt x="2567" y="5155"/>
                  </a:lnTo>
                  <a:lnTo>
                    <a:pt x="2596" y="5147"/>
                  </a:lnTo>
                  <a:lnTo>
                    <a:pt x="2643" y="5134"/>
                  </a:lnTo>
                  <a:lnTo>
                    <a:pt x="2702" y="5118"/>
                  </a:lnTo>
                  <a:lnTo>
                    <a:pt x="2774" y="5100"/>
                  </a:lnTo>
                  <a:lnTo>
                    <a:pt x="2853" y="5081"/>
                  </a:lnTo>
                  <a:lnTo>
                    <a:pt x="2939" y="5061"/>
                  </a:lnTo>
                  <a:lnTo>
                    <a:pt x="3028" y="5043"/>
                  </a:lnTo>
                  <a:lnTo>
                    <a:pt x="3072" y="5034"/>
                  </a:lnTo>
                  <a:lnTo>
                    <a:pt x="3117" y="5027"/>
                  </a:lnTo>
                  <a:lnTo>
                    <a:pt x="3161" y="5020"/>
                  </a:lnTo>
                  <a:lnTo>
                    <a:pt x="3204" y="5014"/>
                  </a:lnTo>
                  <a:lnTo>
                    <a:pt x="3246" y="5009"/>
                  </a:lnTo>
                  <a:lnTo>
                    <a:pt x="3287" y="5005"/>
                  </a:lnTo>
                  <a:lnTo>
                    <a:pt x="3325" y="5002"/>
                  </a:lnTo>
                  <a:lnTo>
                    <a:pt x="3362" y="5001"/>
                  </a:lnTo>
                  <a:lnTo>
                    <a:pt x="3396" y="5002"/>
                  </a:lnTo>
                  <a:lnTo>
                    <a:pt x="3427" y="5004"/>
                  </a:lnTo>
                  <a:lnTo>
                    <a:pt x="3455" y="5008"/>
                  </a:lnTo>
                  <a:lnTo>
                    <a:pt x="3479" y="5014"/>
                  </a:lnTo>
                  <a:lnTo>
                    <a:pt x="3500" y="5022"/>
                  </a:lnTo>
                  <a:lnTo>
                    <a:pt x="3517" y="5032"/>
                  </a:lnTo>
                  <a:lnTo>
                    <a:pt x="3529" y="5045"/>
                  </a:lnTo>
                  <a:lnTo>
                    <a:pt x="3536" y="5060"/>
                  </a:lnTo>
                  <a:lnTo>
                    <a:pt x="3539" y="5077"/>
                  </a:lnTo>
                  <a:lnTo>
                    <a:pt x="3541" y="5091"/>
                  </a:lnTo>
                  <a:lnTo>
                    <a:pt x="3540" y="5105"/>
                  </a:lnTo>
                  <a:lnTo>
                    <a:pt x="3537" y="5118"/>
                  </a:lnTo>
                  <a:lnTo>
                    <a:pt x="3532" y="5129"/>
                  </a:lnTo>
                  <a:lnTo>
                    <a:pt x="3526" y="5140"/>
                  </a:lnTo>
                  <a:lnTo>
                    <a:pt x="3518" y="5151"/>
                  </a:lnTo>
                  <a:lnTo>
                    <a:pt x="3509" y="5160"/>
                  </a:lnTo>
                  <a:lnTo>
                    <a:pt x="3497" y="5169"/>
                  </a:lnTo>
                  <a:lnTo>
                    <a:pt x="3486" y="5178"/>
                  </a:lnTo>
                  <a:lnTo>
                    <a:pt x="3474" y="5186"/>
                  </a:lnTo>
                  <a:lnTo>
                    <a:pt x="3461" y="5194"/>
                  </a:lnTo>
                  <a:lnTo>
                    <a:pt x="3433" y="5208"/>
                  </a:lnTo>
                  <a:lnTo>
                    <a:pt x="3404" y="5222"/>
                  </a:lnTo>
                  <a:lnTo>
                    <a:pt x="3374" y="5236"/>
                  </a:lnTo>
                  <a:lnTo>
                    <a:pt x="3346" y="5250"/>
                  </a:lnTo>
                  <a:lnTo>
                    <a:pt x="3333" y="5258"/>
                  </a:lnTo>
                  <a:lnTo>
                    <a:pt x="3321" y="5266"/>
                  </a:lnTo>
                  <a:lnTo>
                    <a:pt x="3309" y="5274"/>
                  </a:lnTo>
                  <a:lnTo>
                    <a:pt x="3299" y="5283"/>
                  </a:lnTo>
                  <a:lnTo>
                    <a:pt x="3290" y="5293"/>
                  </a:lnTo>
                  <a:lnTo>
                    <a:pt x="3282" y="5303"/>
                  </a:lnTo>
                  <a:lnTo>
                    <a:pt x="3276" y="5315"/>
                  </a:lnTo>
                  <a:lnTo>
                    <a:pt x="3271" y="5327"/>
                  </a:lnTo>
                  <a:lnTo>
                    <a:pt x="3268" y="5339"/>
                  </a:lnTo>
                  <a:lnTo>
                    <a:pt x="3267" y="5353"/>
                  </a:lnTo>
                  <a:lnTo>
                    <a:pt x="3268" y="5368"/>
                  </a:lnTo>
                  <a:lnTo>
                    <a:pt x="3272" y="5384"/>
                  </a:lnTo>
                  <a:lnTo>
                    <a:pt x="3276" y="5400"/>
                  </a:lnTo>
                  <a:lnTo>
                    <a:pt x="3281" y="5416"/>
                  </a:lnTo>
                  <a:lnTo>
                    <a:pt x="3288" y="5433"/>
                  </a:lnTo>
                  <a:lnTo>
                    <a:pt x="3295" y="5449"/>
                  </a:lnTo>
                  <a:lnTo>
                    <a:pt x="3310" y="5480"/>
                  </a:lnTo>
                  <a:lnTo>
                    <a:pt x="3327" y="5511"/>
                  </a:lnTo>
                  <a:lnTo>
                    <a:pt x="3343" y="5541"/>
                  </a:lnTo>
                  <a:lnTo>
                    <a:pt x="3358" y="5572"/>
                  </a:lnTo>
                  <a:lnTo>
                    <a:pt x="3364" y="5586"/>
                  </a:lnTo>
                  <a:lnTo>
                    <a:pt x="3370" y="5601"/>
                  </a:lnTo>
                  <a:lnTo>
                    <a:pt x="3374" y="5615"/>
                  </a:lnTo>
                  <a:lnTo>
                    <a:pt x="3378" y="5630"/>
                  </a:lnTo>
                  <a:lnTo>
                    <a:pt x="3380" y="5644"/>
                  </a:lnTo>
                  <a:lnTo>
                    <a:pt x="3380" y="5658"/>
                  </a:lnTo>
                  <a:lnTo>
                    <a:pt x="3379" y="5673"/>
                  </a:lnTo>
                  <a:lnTo>
                    <a:pt x="3374" y="5687"/>
                  </a:lnTo>
                  <a:lnTo>
                    <a:pt x="3369" y="5702"/>
                  </a:lnTo>
                  <a:lnTo>
                    <a:pt x="3361" y="5715"/>
                  </a:lnTo>
                  <a:lnTo>
                    <a:pt x="3351" y="5729"/>
                  </a:lnTo>
                  <a:lnTo>
                    <a:pt x="3339" y="5743"/>
                  </a:lnTo>
                  <a:lnTo>
                    <a:pt x="3323" y="5757"/>
                  </a:lnTo>
                  <a:lnTo>
                    <a:pt x="3305" y="5771"/>
                  </a:lnTo>
                  <a:lnTo>
                    <a:pt x="3284" y="5785"/>
                  </a:lnTo>
                  <a:lnTo>
                    <a:pt x="3259" y="5799"/>
                  </a:lnTo>
                  <a:lnTo>
                    <a:pt x="3230" y="5813"/>
                  </a:lnTo>
                  <a:lnTo>
                    <a:pt x="3199" y="5827"/>
                  </a:lnTo>
                  <a:lnTo>
                    <a:pt x="3164" y="5840"/>
                  </a:lnTo>
                  <a:lnTo>
                    <a:pt x="3125" y="5854"/>
                  </a:lnTo>
                  <a:lnTo>
                    <a:pt x="3081" y="5867"/>
                  </a:lnTo>
                  <a:lnTo>
                    <a:pt x="3036" y="5879"/>
                  </a:lnTo>
                  <a:lnTo>
                    <a:pt x="2987" y="5890"/>
                  </a:lnTo>
                  <a:lnTo>
                    <a:pt x="2938" y="5902"/>
                  </a:lnTo>
                  <a:lnTo>
                    <a:pt x="2831" y="5925"/>
                  </a:lnTo>
                  <a:lnTo>
                    <a:pt x="2719" y="5947"/>
                  </a:lnTo>
                  <a:lnTo>
                    <a:pt x="2603" y="5970"/>
                  </a:lnTo>
                  <a:lnTo>
                    <a:pt x="2485" y="5994"/>
                  </a:lnTo>
                  <a:lnTo>
                    <a:pt x="2427" y="6006"/>
                  </a:lnTo>
                  <a:lnTo>
                    <a:pt x="2369" y="6019"/>
                  </a:lnTo>
                  <a:lnTo>
                    <a:pt x="2311" y="6034"/>
                  </a:lnTo>
                  <a:lnTo>
                    <a:pt x="2254" y="6048"/>
                  </a:lnTo>
                  <a:lnTo>
                    <a:pt x="2198" y="6063"/>
                  </a:lnTo>
                  <a:lnTo>
                    <a:pt x="2144" y="6079"/>
                  </a:lnTo>
                  <a:lnTo>
                    <a:pt x="2091" y="6095"/>
                  </a:lnTo>
                  <a:lnTo>
                    <a:pt x="2041" y="6113"/>
                  </a:lnTo>
                  <a:lnTo>
                    <a:pt x="1993" y="6132"/>
                  </a:lnTo>
                  <a:lnTo>
                    <a:pt x="1947" y="6153"/>
                  </a:lnTo>
                  <a:lnTo>
                    <a:pt x="1904" y="6174"/>
                  </a:lnTo>
                  <a:lnTo>
                    <a:pt x="1865" y="6196"/>
                  </a:lnTo>
                  <a:lnTo>
                    <a:pt x="1827" y="6220"/>
                  </a:lnTo>
                  <a:lnTo>
                    <a:pt x="1794" y="6245"/>
                  </a:lnTo>
                  <a:lnTo>
                    <a:pt x="1765" y="6272"/>
                  </a:lnTo>
                  <a:lnTo>
                    <a:pt x="1740" y="6301"/>
                  </a:lnTo>
                  <a:lnTo>
                    <a:pt x="1718" y="6331"/>
                  </a:lnTo>
                  <a:lnTo>
                    <a:pt x="1702" y="6362"/>
                  </a:lnTo>
                  <a:lnTo>
                    <a:pt x="1691" y="6397"/>
                  </a:lnTo>
                  <a:lnTo>
                    <a:pt x="1684" y="6432"/>
                  </a:lnTo>
                  <a:lnTo>
                    <a:pt x="1686" y="6432"/>
                  </a:lnTo>
                  <a:lnTo>
                    <a:pt x="1691" y="6432"/>
                  </a:lnTo>
                  <a:lnTo>
                    <a:pt x="1697" y="6431"/>
                  </a:lnTo>
                  <a:lnTo>
                    <a:pt x="1702" y="6431"/>
                  </a:lnTo>
                  <a:lnTo>
                    <a:pt x="1703" y="6432"/>
                  </a:lnTo>
                  <a:lnTo>
                    <a:pt x="1704" y="6433"/>
                  </a:lnTo>
                  <a:lnTo>
                    <a:pt x="1703" y="6434"/>
                  </a:lnTo>
                  <a:lnTo>
                    <a:pt x="1701" y="6435"/>
                  </a:lnTo>
                  <a:lnTo>
                    <a:pt x="1693" y="6440"/>
                  </a:lnTo>
                  <a:lnTo>
                    <a:pt x="1676" y="6447"/>
                  </a:lnTo>
                  <a:lnTo>
                    <a:pt x="1649" y="6457"/>
                  </a:lnTo>
                  <a:lnTo>
                    <a:pt x="1610" y="6469"/>
                  </a:lnTo>
                  <a:lnTo>
                    <a:pt x="1558" y="6486"/>
                  </a:lnTo>
                  <a:lnTo>
                    <a:pt x="1491" y="6507"/>
                  </a:lnTo>
                  <a:lnTo>
                    <a:pt x="1405" y="6532"/>
                  </a:lnTo>
                  <a:lnTo>
                    <a:pt x="1301" y="6562"/>
                  </a:lnTo>
                  <a:lnTo>
                    <a:pt x="1176" y="6597"/>
                  </a:lnTo>
                  <a:lnTo>
                    <a:pt x="1028" y="6638"/>
                  </a:lnTo>
                  <a:lnTo>
                    <a:pt x="875" y="6681"/>
                  </a:lnTo>
                  <a:lnTo>
                    <a:pt x="735" y="6721"/>
                  </a:lnTo>
                  <a:lnTo>
                    <a:pt x="669" y="6740"/>
                  </a:lnTo>
                  <a:lnTo>
                    <a:pt x="607" y="6760"/>
                  </a:lnTo>
                  <a:lnTo>
                    <a:pt x="548" y="6778"/>
                  </a:lnTo>
                  <a:lnTo>
                    <a:pt x="493" y="6796"/>
                  </a:lnTo>
                  <a:lnTo>
                    <a:pt x="440" y="6814"/>
                  </a:lnTo>
                  <a:lnTo>
                    <a:pt x="391" y="6831"/>
                  </a:lnTo>
                  <a:lnTo>
                    <a:pt x="345" y="6849"/>
                  </a:lnTo>
                  <a:lnTo>
                    <a:pt x="303" y="6867"/>
                  </a:lnTo>
                  <a:lnTo>
                    <a:pt x="265" y="6885"/>
                  </a:lnTo>
                  <a:lnTo>
                    <a:pt x="229" y="6902"/>
                  </a:lnTo>
                  <a:lnTo>
                    <a:pt x="196" y="6920"/>
                  </a:lnTo>
                  <a:lnTo>
                    <a:pt x="167" y="6938"/>
                  </a:lnTo>
                  <a:lnTo>
                    <a:pt x="142" y="6956"/>
                  </a:lnTo>
                  <a:lnTo>
                    <a:pt x="120" y="6975"/>
                  </a:lnTo>
                  <a:lnTo>
                    <a:pt x="101" y="6994"/>
                  </a:lnTo>
                  <a:lnTo>
                    <a:pt x="85" y="7014"/>
                  </a:lnTo>
                  <a:lnTo>
                    <a:pt x="73" y="7034"/>
                  </a:lnTo>
                  <a:lnTo>
                    <a:pt x="64" y="7054"/>
                  </a:lnTo>
                  <a:lnTo>
                    <a:pt x="59" y="7075"/>
                  </a:lnTo>
                  <a:lnTo>
                    <a:pt x="57" y="7096"/>
                  </a:lnTo>
                  <a:lnTo>
                    <a:pt x="58" y="7120"/>
                  </a:lnTo>
                  <a:lnTo>
                    <a:pt x="63" y="7143"/>
                  </a:lnTo>
                  <a:lnTo>
                    <a:pt x="72" y="7167"/>
                  </a:lnTo>
                  <a:lnTo>
                    <a:pt x="83" y="7192"/>
                  </a:lnTo>
                  <a:lnTo>
                    <a:pt x="99" y="7218"/>
                  </a:lnTo>
                  <a:lnTo>
                    <a:pt x="118" y="7247"/>
                  </a:lnTo>
                  <a:lnTo>
                    <a:pt x="140" y="7275"/>
                  </a:lnTo>
                  <a:lnTo>
                    <a:pt x="166" y="7304"/>
                  </a:lnTo>
                  <a:lnTo>
                    <a:pt x="177" y="7311"/>
                  </a:lnTo>
                  <a:lnTo>
                    <a:pt x="208" y="7328"/>
                  </a:lnTo>
                  <a:lnTo>
                    <a:pt x="259" y="7355"/>
                  </a:lnTo>
                  <a:lnTo>
                    <a:pt x="324" y="7387"/>
                  </a:lnTo>
                  <a:lnTo>
                    <a:pt x="362" y="7404"/>
                  </a:lnTo>
                  <a:lnTo>
                    <a:pt x="403" y="7421"/>
                  </a:lnTo>
                  <a:lnTo>
                    <a:pt x="446" y="7439"/>
                  </a:lnTo>
                  <a:lnTo>
                    <a:pt x="493" y="7457"/>
                  </a:lnTo>
                  <a:lnTo>
                    <a:pt x="541" y="7475"/>
                  </a:lnTo>
                  <a:lnTo>
                    <a:pt x="590" y="7491"/>
                  </a:lnTo>
                  <a:lnTo>
                    <a:pt x="642" y="7506"/>
                  </a:lnTo>
                  <a:lnTo>
                    <a:pt x="695" y="7520"/>
                  </a:lnTo>
                  <a:lnTo>
                    <a:pt x="690" y="7525"/>
                  </a:lnTo>
                  <a:lnTo>
                    <a:pt x="677" y="7539"/>
                  </a:lnTo>
                  <a:lnTo>
                    <a:pt x="657" y="7562"/>
                  </a:lnTo>
                  <a:lnTo>
                    <a:pt x="633" y="7594"/>
                  </a:lnTo>
                  <a:lnTo>
                    <a:pt x="620" y="7612"/>
                  </a:lnTo>
                  <a:lnTo>
                    <a:pt x="606" y="7631"/>
                  </a:lnTo>
                  <a:lnTo>
                    <a:pt x="592" y="7652"/>
                  </a:lnTo>
                  <a:lnTo>
                    <a:pt x="578" y="7675"/>
                  </a:lnTo>
                  <a:lnTo>
                    <a:pt x="565" y="7699"/>
                  </a:lnTo>
                  <a:lnTo>
                    <a:pt x="552" y="7724"/>
                  </a:lnTo>
                  <a:lnTo>
                    <a:pt x="540" y="7750"/>
                  </a:lnTo>
                  <a:lnTo>
                    <a:pt x="529" y="7777"/>
                  </a:lnTo>
                  <a:lnTo>
                    <a:pt x="519" y="7805"/>
                  </a:lnTo>
                  <a:lnTo>
                    <a:pt x="510" y="7834"/>
                  </a:lnTo>
                  <a:lnTo>
                    <a:pt x="504" y="7864"/>
                  </a:lnTo>
                  <a:lnTo>
                    <a:pt x="499" y="7893"/>
                  </a:lnTo>
                  <a:lnTo>
                    <a:pt x="497" y="7923"/>
                  </a:lnTo>
                  <a:lnTo>
                    <a:pt x="497" y="7955"/>
                  </a:lnTo>
                  <a:lnTo>
                    <a:pt x="500" y="7985"/>
                  </a:lnTo>
                  <a:lnTo>
                    <a:pt x="505" y="8016"/>
                  </a:lnTo>
                  <a:lnTo>
                    <a:pt x="514" y="8047"/>
                  </a:lnTo>
                  <a:lnTo>
                    <a:pt x="526" y="8078"/>
                  </a:lnTo>
                  <a:lnTo>
                    <a:pt x="542" y="8109"/>
                  </a:lnTo>
                  <a:lnTo>
                    <a:pt x="562" y="8139"/>
                  </a:lnTo>
                  <a:lnTo>
                    <a:pt x="586" y="8169"/>
                  </a:lnTo>
                  <a:lnTo>
                    <a:pt x="615" y="8199"/>
                  </a:lnTo>
                  <a:lnTo>
                    <a:pt x="648" y="8227"/>
                  </a:lnTo>
                  <a:lnTo>
                    <a:pt x="685" y="8255"/>
                  </a:lnTo>
                  <a:lnTo>
                    <a:pt x="706" y="8257"/>
                  </a:lnTo>
                  <a:lnTo>
                    <a:pt x="763" y="8261"/>
                  </a:lnTo>
                  <a:lnTo>
                    <a:pt x="847" y="8268"/>
                  </a:lnTo>
                  <a:lnTo>
                    <a:pt x="948" y="8275"/>
                  </a:lnTo>
                  <a:lnTo>
                    <a:pt x="1059" y="8284"/>
                  </a:lnTo>
                  <a:lnTo>
                    <a:pt x="1169" y="8292"/>
                  </a:lnTo>
                  <a:lnTo>
                    <a:pt x="1270" y="8300"/>
                  </a:lnTo>
                  <a:lnTo>
                    <a:pt x="1351" y="8304"/>
                  </a:lnTo>
                  <a:lnTo>
                    <a:pt x="1356" y="8317"/>
                  </a:lnTo>
                  <a:lnTo>
                    <a:pt x="1370" y="8352"/>
                  </a:lnTo>
                  <a:lnTo>
                    <a:pt x="1377" y="8376"/>
                  </a:lnTo>
                  <a:lnTo>
                    <a:pt x="1385" y="8406"/>
                  </a:lnTo>
                  <a:lnTo>
                    <a:pt x="1393" y="8441"/>
                  </a:lnTo>
                  <a:lnTo>
                    <a:pt x="1399" y="8478"/>
                  </a:lnTo>
                  <a:lnTo>
                    <a:pt x="1402" y="8498"/>
                  </a:lnTo>
                  <a:lnTo>
                    <a:pt x="1404" y="8519"/>
                  </a:lnTo>
                  <a:lnTo>
                    <a:pt x="1406" y="8541"/>
                  </a:lnTo>
                  <a:lnTo>
                    <a:pt x="1407" y="8564"/>
                  </a:lnTo>
                  <a:lnTo>
                    <a:pt x="1408" y="8587"/>
                  </a:lnTo>
                  <a:lnTo>
                    <a:pt x="1408" y="8610"/>
                  </a:lnTo>
                  <a:lnTo>
                    <a:pt x="1407" y="8634"/>
                  </a:lnTo>
                  <a:lnTo>
                    <a:pt x="1405" y="8660"/>
                  </a:lnTo>
                  <a:lnTo>
                    <a:pt x="1402" y="8685"/>
                  </a:lnTo>
                  <a:lnTo>
                    <a:pt x="1399" y="8711"/>
                  </a:lnTo>
                  <a:lnTo>
                    <a:pt x="1394" y="8737"/>
                  </a:lnTo>
                  <a:lnTo>
                    <a:pt x="1388" y="8763"/>
                  </a:lnTo>
                  <a:lnTo>
                    <a:pt x="1381" y="8791"/>
                  </a:lnTo>
                  <a:lnTo>
                    <a:pt x="1373" y="8818"/>
                  </a:lnTo>
                  <a:lnTo>
                    <a:pt x="1363" y="8845"/>
                  </a:lnTo>
                  <a:lnTo>
                    <a:pt x="1351" y="8872"/>
                  </a:lnTo>
                  <a:lnTo>
                    <a:pt x="1353" y="8875"/>
                  </a:lnTo>
                  <a:lnTo>
                    <a:pt x="1358" y="8881"/>
                  </a:lnTo>
                  <a:lnTo>
                    <a:pt x="1368" y="8891"/>
                  </a:lnTo>
                  <a:lnTo>
                    <a:pt x="1381" y="8904"/>
                  </a:lnTo>
                  <a:lnTo>
                    <a:pt x="1390" y="8910"/>
                  </a:lnTo>
                  <a:lnTo>
                    <a:pt x="1399" y="8917"/>
                  </a:lnTo>
                  <a:lnTo>
                    <a:pt x="1409" y="8923"/>
                  </a:lnTo>
                  <a:lnTo>
                    <a:pt x="1421" y="8929"/>
                  </a:lnTo>
                  <a:lnTo>
                    <a:pt x="1433" y="8936"/>
                  </a:lnTo>
                  <a:lnTo>
                    <a:pt x="1447" y="8941"/>
                  </a:lnTo>
                  <a:lnTo>
                    <a:pt x="1462" y="8946"/>
                  </a:lnTo>
                  <a:lnTo>
                    <a:pt x="1478" y="8951"/>
                  </a:lnTo>
                  <a:lnTo>
                    <a:pt x="1497" y="8955"/>
                  </a:lnTo>
                  <a:lnTo>
                    <a:pt x="1515" y="8957"/>
                  </a:lnTo>
                  <a:lnTo>
                    <a:pt x="1536" y="8959"/>
                  </a:lnTo>
                  <a:lnTo>
                    <a:pt x="1557" y="8959"/>
                  </a:lnTo>
                  <a:lnTo>
                    <a:pt x="1580" y="8959"/>
                  </a:lnTo>
                  <a:lnTo>
                    <a:pt x="1604" y="8956"/>
                  </a:lnTo>
                  <a:lnTo>
                    <a:pt x="1630" y="8953"/>
                  </a:lnTo>
                  <a:lnTo>
                    <a:pt x="1657" y="8947"/>
                  </a:lnTo>
                  <a:lnTo>
                    <a:pt x="1686" y="8939"/>
                  </a:lnTo>
                  <a:lnTo>
                    <a:pt x="1716" y="8930"/>
                  </a:lnTo>
                  <a:lnTo>
                    <a:pt x="1748" y="8919"/>
                  </a:lnTo>
                  <a:lnTo>
                    <a:pt x="1781" y="8905"/>
                  </a:lnTo>
                  <a:lnTo>
                    <a:pt x="1815" y="8888"/>
                  </a:lnTo>
                  <a:lnTo>
                    <a:pt x="1851" y="8869"/>
                  </a:lnTo>
                  <a:lnTo>
                    <a:pt x="1890" y="8848"/>
                  </a:lnTo>
                  <a:lnTo>
                    <a:pt x="1929" y="8823"/>
                  </a:lnTo>
                  <a:lnTo>
                    <a:pt x="1943" y="8821"/>
                  </a:lnTo>
                  <a:lnTo>
                    <a:pt x="1979" y="8818"/>
                  </a:lnTo>
                  <a:lnTo>
                    <a:pt x="2004" y="8818"/>
                  </a:lnTo>
                  <a:lnTo>
                    <a:pt x="2029" y="8818"/>
                  </a:lnTo>
                  <a:lnTo>
                    <a:pt x="2042" y="8819"/>
                  </a:lnTo>
                  <a:lnTo>
                    <a:pt x="2056" y="8821"/>
                  </a:lnTo>
                  <a:lnTo>
                    <a:pt x="2069" y="8823"/>
                  </a:lnTo>
                  <a:lnTo>
                    <a:pt x="2082" y="8826"/>
                  </a:lnTo>
                  <a:lnTo>
                    <a:pt x="2095" y="8830"/>
                  </a:lnTo>
                  <a:lnTo>
                    <a:pt x="2107" y="8834"/>
                  </a:lnTo>
                  <a:lnTo>
                    <a:pt x="2120" y="8839"/>
                  </a:lnTo>
                  <a:lnTo>
                    <a:pt x="2131" y="8845"/>
                  </a:lnTo>
                  <a:lnTo>
                    <a:pt x="2141" y="8853"/>
                  </a:lnTo>
                  <a:lnTo>
                    <a:pt x="2150" y="8861"/>
                  </a:lnTo>
                  <a:lnTo>
                    <a:pt x="2158" y="8870"/>
                  </a:lnTo>
                  <a:lnTo>
                    <a:pt x="2165" y="8881"/>
                  </a:lnTo>
                  <a:lnTo>
                    <a:pt x="2170" y="8893"/>
                  </a:lnTo>
                  <a:lnTo>
                    <a:pt x="2174" y="8907"/>
                  </a:lnTo>
                  <a:lnTo>
                    <a:pt x="2176" y="8922"/>
                  </a:lnTo>
                  <a:lnTo>
                    <a:pt x="2176" y="8938"/>
                  </a:lnTo>
                  <a:lnTo>
                    <a:pt x="2174" y="8956"/>
                  </a:lnTo>
                  <a:lnTo>
                    <a:pt x="2170" y="8975"/>
                  </a:lnTo>
                  <a:lnTo>
                    <a:pt x="2164" y="8996"/>
                  </a:lnTo>
                  <a:lnTo>
                    <a:pt x="2155" y="9020"/>
                  </a:lnTo>
                  <a:lnTo>
                    <a:pt x="2155" y="9025"/>
                  </a:lnTo>
                  <a:lnTo>
                    <a:pt x="2156" y="9038"/>
                  </a:lnTo>
                  <a:lnTo>
                    <a:pt x="2157" y="9047"/>
                  </a:lnTo>
                  <a:lnTo>
                    <a:pt x="2158" y="9057"/>
                  </a:lnTo>
                  <a:lnTo>
                    <a:pt x="2161" y="9069"/>
                  </a:lnTo>
                  <a:lnTo>
                    <a:pt x="2164" y="9082"/>
                  </a:lnTo>
                  <a:lnTo>
                    <a:pt x="2168" y="9096"/>
                  </a:lnTo>
                  <a:lnTo>
                    <a:pt x="2174" y="9110"/>
                  </a:lnTo>
                  <a:lnTo>
                    <a:pt x="2180" y="9125"/>
                  </a:lnTo>
                  <a:lnTo>
                    <a:pt x="2188" y="9141"/>
                  </a:lnTo>
                  <a:lnTo>
                    <a:pt x="2198" y="9156"/>
                  </a:lnTo>
                  <a:lnTo>
                    <a:pt x="2209" y="9170"/>
                  </a:lnTo>
                  <a:lnTo>
                    <a:pt x="2221" y="9185"/>
                  </a:lnTo>
                  <a:lnTo>
                    <a:pt x="2236" y="9198"/>
                  </a:lnTo>
                  <a:lnTo>
                    <a:pt x="2254" y="9211"/>
                  </a:lnTo>
                  <a:lnTo>
                    <a:pt x="2273" y="9223"/>
                  </a:lnTo>
                  <a:lnTo>
                    <a:pt x="2294" y="9233"/>
                  </a:lnTo>
                  <a:lnTo>
                    <a:pt x="2318" y="9242"/>
                  </a:lnTo>
                  <a:lnTo>
                    <a:pt x="2344" y="9249"/>
                  </a:lnTo>
                  <a:lnTo>
                    <a:pt x="2374" y="9255"/>
                  </a:lnTo>
                  <a:lnTo>
                    <a:pt x="2405" y="9259"/>
                  </a:lnTo>
                  <a:lnTo>
                    <a:pt x="2440" y="9260"/>
                  </a:lnTo>
                  <a:lnTo>
                    <a:pt x="2477" y="9258"/>
                  </a:lnTo>
                  <a:lnTo>
                    <a:pt x="2519" y="9253"/>
                  </a:lnTo>
                  <a:lnTo>
                    <a:pt x="2563" y="9245"/>
                  </a:lnTo>
                  <a:lnTo>
                    <a:pt x="2611" y="9235"/>
                  </a:lnTo>
                  <a:lnTo>
                    <a:pt x="2663" y="9221"/>
                  </a:lnTo>
                  <a:lnTo>
                    <a:pt x="2718" y="9203"/>
                  </a:lnTo>
                  <a:lnTo>
                    <a:pt x="2777" y="9182"/>
                  </a:lnTo>
                  <a:lnTo>
                    <a:pt x="2840" y="9157"/>
                  </a:lnTo>
                  <a:lnTo>
                    <a:pt x="2849" y="9152"/>
                  </a:lnTo>
                  <a:lnTo>
                    <a:pt x="2876" y="9138"/>
                  </a:lnTo>
                  <a:lnTo>
                    <a:pt x="2916" y="9116"/>
                  </a:lnTo>
                  <a:lnTo>
                    <a:pt x="2967" y="9089"/>
                  </a:lnTo>
                  <a:lnTo>
                    <a:pt x="3028" y="9059"/>
                  </a:lnTo>
                  <a:lnTo>
                    <a:pt x="3094" y="9027"/>
                  </a:lnTo>
                  <a:lnTo>
                    <a:pt x="3165" y="8994"/>
                  </a:lnTo>
                  <a:lnTo>
                    <a:pt x="3235" y="8963"/>
                  </a:lnTo>
                  <a:lnTo>
                    <a:pt x="3272" y="8949"/>
                  </a:lnTo>
                  <a:lnTo>
                    <a:pt x="3306" y="8936"/>
                  </a:lnTo>
                  <a:lnTo>
                    <a:pt x="3339" y="8924"/>
                  </a:lnTo>
                  <a:lnTo>
                    <a:pt x="3371" y="8914"/>
                  </a:lnTo>
                  <a:lnTo>
                    <a:pt x="3403" y="8905"/>
                  </a:lnTo>
                  <a:lnTo>
                    <a:pt x="3431" y="8899"/>
                  </a:lnTo>
                  <a:lnTo>
                    <a:pt x="3457" y="8894"/>
                  </a:lnTo>
                  <a:lnTo>
                    <a:pt x="3481" y="8892"/>
                  </a:lnTo>
                  <a:lnTo>
                    <a:pt x="3501" y="8892"/>
                  </a:lnTo>
                  <a:lnTo>
                    <a:pt x="3519" y="8896"/>
                  </a:lnTo>
                  <a:lnTo>
                    <a:pt x="3533" y="8903"/>
                  </a:lnTo>
                  <a:lnTo>
                    <a:pt x="3543" y="8913"/>
                  </a:lnTo>
                  <a:lnTo>
                    <a:pt x="3548" y="8926"/>
                  </a:lnTo>
                  <a:lnTo>
                    <a:pt x="3549" y="8944"/>
                  </a:lnTo>
                  <a:lnTo>
                    <a:pt x="3545" y="8965"/>
                  </a:lnTo>
                  <a:lnTo>
                    <a:pt x="3536" y="8990"/>
                  </a:lnTo>
                  <a:lnTo>
                    <a:pt x="3532" y="8996"/>
                  </a:lnTo>
                  <a:lnTo>
                    <a:pt x="3520" y="9013"/>
                  </a:lnTo>
                  <a:lnTo>
                    <a:pt x="3499" y="9042"/>
                  </a:lnTo>
                  <a:lnTo>
                    <a:pt x="3473" y="9078"/>
                  </a:lnTo>
                  <a:lnTo>
                    <a:pt x="3439" y="9122"/>
                  </a:lnTo>
                  <a:lnTo>
                    <a:pt x="3400" y="9173"/>
                  </a:lnTo>
                  <a:lnTo>
                    <a:pt x="3354" y="9228"/>
                  </a:lnTo>
                  <a:lnTo>
                    <a:pt x="3303" y="9288"/>
                  </a:lnTo>
                  <a:lnTo>
                    <a:pt x="3276" y="9319"/>
                  </a:lnTo>
                  <a:lnTo>
                    <a:pt x="3247" y="9350"/>
                  </a:lnTo>
                  <a:lnTo>
                    <a:pt x="3218" y="9382"/>
                  </a:lnTo>
                  <a:lnTo>
                    <a:pt x="3188" y="9414"/>
                  </a:lnTo>
                  <a:lnTo>
                    <a:pt x="3156" y="9445"/>
                  </a:lnTo>
                  <a:lnTo>
                    <a:pt x="3123" y="9477"/>
                  </a:lnTo>
                  <a:lnTo>
                    <a:pt x="3090" y="9509"/>
                  </a:lnTo>
                  <a:lnTo>
                    <a:pt x="3057" y="9540"/>
                  </a:lnTo>
                  <a:lnTo>
                    <a:pt x="3022" y="9570"/>
                  </a:lnTo>
                  <a:lnTo>
                    <a:pt x="2986" y="9600"/>
                  </a:lnTo>
                  <a:lnTo>
                    <a:pt x="2950" y="9629"/>
                  </a:lnTo>
                  <a:lnTo>
                    <a:pt x="2914" y="9657"/>
                  </a:lnTo>
                  <a:lnTo>
                    <a:pt x="2877" y="9683"/>
                  </a:lnTo>
                  <a:lnTo>
                    <a:pt x="2838" y="9708"/>
                  </a:lnTo>
                  <a:lnTo>
                    <a:pt x="2800" y="9732"/>
                  </a:lnTo>
                  <a:lnTo>
                    <a:pt x="2762" y="9755"/>
                  </a:lnTo>
                  <a:lnTo>
                    <a:pt x="2748" y="9759"/>
                  </a:lnTo>
                  <a:lnTo>
                    <a:pt x="2707" y="9773"/>
                  </a:lnTo>
                  <a:lnTo>
                    <a:pt x="2644" y="9796"/>
                  </a:lnTo>
                  <a:lnTo>
                    <a:pt x="2559" y="9825"/>
                  </a:lnTo>
                  <a:lnTo>
                    <a:pt x="2457" y="9863"/>
                  </a:lnTo>
                  <a:lnTo>
                    <a:pt x="2340" y="9906"/>
                  </a:lnTo>
                  <a:lnTo>
                    <a:pt x="2211" y="9955"/>
                  </a:lnTo>
                  <a:lnTo>
                    <a:pt x="2074" y="10009"/>
                  </a:lnTo>
                  <a:lnTo>
                    <a:pt x="1930" y="10067"/>
                  </a:lnTo>
                  <a:lnTo>
                    <a:pt x="1783" y="10129"/>
                  </a:lnTo>
                  <a:lnTo>
                    <a:pt x="1708" y="10160"/>
                  </a:lnTo>
                  <a:lnTo>
                    <a:pt x="1635" y="10192"/>
                  </a:lnTo>
                  <a:lnTo>
                    <a:pt x="1561" y="10226"/>
                  </a:lnTo>
                  <a:lnTo>
                    <a:pt x="1490" y="10259"/>
                  </a:lnTo>
                  <a:lnTo>
                    <a:pt x="1418" y="10292"/>
                  </a:lnTo>
                  <a:lnTo>
                    <a:pt x="1349" y="10326"/>
                  </a:lnTo>
                  <a:lnTo>
                    <a:pt x="1282" y="10360"/>
                  </a:lnTo>
                  <a:lnTo>
                    <a:pt x="1217" y="10394"/>
                  </a:lnTo>
                  <a:lnTo>
                    <a:pt x="1155" y="10428"/>
                  </a:lnTo>
                  <a:lnTo>
                    <a:pt x="1096" y="10462"/>
                  </a:lnTo>
                  <a:lnTo>
                    <a:pt x="1041" y="10495"/>
                  </a:lnTo>
                  <a:lnTo>
                    <a:pt x="989" y="10528"/>
                  </a:lnTo>
                  <a:lnTo>
                    <a:pt x="981" y="10530"/>
                  </a:lnTo>
                  <a:lnTo>
                    <a:pt x="959" y="10534"/>
                  </a:lnTo>
                  <a:lnTo>
                    <a:pt x="924" y="10541"/>
                  </a:lnTo>
                  <a:lnTo>
                    <a:pt x="877" y="10551"/>
                  </a:lnTo>
                  <a:lnTo>
                    <a:pt x="820" y="10564"/>
                  </a:lnTo>
                  <a:lnTo>
                    <a:pt x="756" y="10581"/>
                  </a:lnTo>
                  <a:lnTo>
                    <a:pt x="684" y="10600"/>
                  </a:lnTo>
                  <a:lnTo>
                    <a:pt x="609" y="10622"/>
                  </a:lnTo>
                  <a:lnTo>
                    <a:pt x="568" y="10634"/>
                  </a:lnTo>
                  <a:lnTo>
                    <a:pt x="528" y="10647"/>
                  </a:lnTo>
                  <a:lnTo>
                    <a:pt x="488" y="10661"/>
                  </a:lnTo>
                  <a:lnTo>
                    <a:pt x="446" y="10676"/>
                  </a:lnTo>
                  <a:lnTo>
                    <a:pt x="405" y="10691"/>
                  </a:lnTo>
                  <a:lnTo>
                    <a:pt x="364" y="10708"/>
                  </a:lnTo>
                  <a:lnTo>
                    <a:pt x="322" y="10726"/>
                  </a:lnTo>
                  <a:lnTo>
                    <a:pt x="282" y="10744"/>
                  </a:lnTo>
                  <a:lnTo>
                    <a:pt x="243" y="10762"/>
                  </a:lnTo>
                  <a:lnTo>
                    <a:pt x="203" y="10782"/>
                  </a:lnTo>
                  <a:lnTo>
                    <a:pt x="166" y="10803"/>
                  </a:lnTo>
                  <a:lnTo>
                    <a:pt x="129" y="10825"/>
                  </a:lnTo>
                  <a:lnTo>
                    <a:pt x="94" y="10848"/>
                  </a:lnTo>
                  <a:lnTo>
                    <a:pt x="60" y="10871"/>
                  </a:lnTo>
                  <a:lnTo>
                    <a:pt x="29" y="10895"/>
                  </a:lnTo>
                  <a:lnTo>
                    <a:pt x="0" y="10920"/>
                  </a:lnTo>
                  <a:lnTo>
                    <a:pt x="7" y="10919"/>
                  </a:lnTo>
                  <a:lnTo>
                    <a:pt x="27" y="10915"/>
                  </a:lnTo>
                  <a:lnTo>
                    <a:pt x="60" y="10909"/>
                  </a:lnTo>
                  <a:lnTo>
                    <a:pt x="105" y="10901"/>
                  </a:lnTo>
                  <a:lnTo>
                    <a:pt x="160" y="10892"/>
                  </a:lnTo>
                  <a:lnTo>
                    <a:pt x="225" y="10881"/>
                  </a:lnTo>
                  <a:lnTo>
                    <a:pt x="299" y="10869"/>
                  </a:lnTo>
                  <a:lnTo>
                    <a:pt x="381" y="10856"/>
                  </a:lnTo>
                  <a:lnTo>
                    <a:pt x="468" y="10842"/>
                  </a:lnTo>
                  <a:lnTo>
                    <a:pt x="562" y="10829"/>
                  </a:lnTo>
                  <a:lnTo>
                    <a:pt x="661" y="10815"/>
                  </a:lnTo>
                  <a:lnTo>
                    <a:pt x="764" y="10800"/>
                  </a:lnTo>
                  <a:lnTo>
                    <a:pt x="870" y="10787"/>
                  </a:lnTo>
                  <a:lnTo>
                    <a:pt x="977" y="10775"/>
                  </a:lnTo>
                  <a:lnTo>
                    <a:pt x="1086" y="10764"/>
                  </a:lnTo>
                  <a:lnTo>
                    <a:pt x="1194" y="10754"/>
                  </a:lnTo>
                  <a:lnTo>
                    <a:pt x="1252" y="10749"/>
                  </a:lnTo>
                  <a:lnTo>
                    <a:pt x="1313" y="10740"/>
                  </a:lnTo>
                  <a:lnTo>
                    <a:pt x="1381" y="10729"/>
                  </a:lnTo>
                  <a:lnTo>
                    <a:pt x="1452" y="10714"/>
                  </a:lnTo>
                  <a:lnTo>
                    <a:pt x="1528" y="10697"/>
                  </a:lnTo>
                  <a:lnTo>
                    <a:pt x="1607" y="10676"/>
                  </a:lnTo>
                  <a:lnTo>
                    <a:pt x="1690" y="10654"/>
                  </a:lnTo>
                  <a:lnTo>
                    <a:pt x="1777" y="10629"/>
                  </a:lnTo>
                  <a:lnTo>
                    <a:pt x="1866" y="10602"/>
                  </a:lnTo>
                  <a:lnTo>
                    <a:pt x="1957" y="10573"/>
                  </a:lnTo>
                  <a:lnTo>
                    <a:pt x="2052" y="10541"/>
                  </a:lnTo>
                  <a:lnTo>
                    <a:pt x="2148" y="10509"/>
                  </a:lnTo>
                  <a:lnTo>
                    <a:pt x="2246" y="10475"/>
                  </a:lnTo>
                  <a:lnTo>
                    <a:pt x="2344" y="10438"/>
                  </a:lnTo>
                  <a:lnTo>
                    <a:pt x="2444" y="10401"/>
                  </a:lnTo>
                  <a:lnTo>
                    <a:pt x="2544" y="10363"/>
                  </a:lnTo>
                  <a:lnTo>
                    <a:pt x="2645" y="10323"/>
                  </a:lnTo>
                  <a:lnTo>
                    <a:pt x="2745" y="10284"/>
                  </a:lnTo>
                  <a:lnTo>
                    <a:pt x="2845" y="10243"/>
                  </a:lnTo>
                  <a:lnTo>
                    <a:pt x="2945" y="10201"/>
                  </a:lnTo>
                  <a:lnTo>
                    <a:pt x="3044" y="10160"/>
                  </a:lnTo>
                  <a:lnTo>
                    <a:pt x="3141" y="10118"/>
                  </a:lnTo>
                  <a:lnTo>
                    <a:pt x="3236" y="10075"/>
                  </a:lnTo>
                  <a:lnTo>
                    <a:pt x="3330" y="10033"/>
                  </a:lnTo>
                  <a:lnTo>
                    <a:pt x="3421" y="9992"/>
                  </a:lnTo>
                  <a:lnTo>
                    <a:pt x="3510" y="9949"/>
                  </a:lnTo>
                  <a:lnTo>
                    <a:pt x="3595" y="9909"/>
                  </a:lnTo>
                  <a:lnTo>
                    <a:pt x="3678" y="9868"/>
                  </a:lnTo>
                  <a:lnTo>
                    <a:pt x="3756" y="9828"/>
                  </a:lnTo>
                  <a:lnTo>
                    <a:pt x="3831" y="9789"/>
                  </a:lnTo>
                  <a:lnTo>
                    <a:pt x="3901" y="9752"/>
                  </a:lnTo>
                  <a:lnTo>
                    <a:pt x="3967" y="9715"/>
                  </a:lnTo>
                  <a:lnTo>
                    <a:pt x="3983" y="9711"/>
                  </a:lnTo>
                  <a:lnTo>
                    <a:pt x="4029" y="9701"/>
                  </a:lnTo>
                  <a:lnTo>
                    <a:pt x="4098" y="9684"/>
                  </a:lnTo>
                  <a:lnTo>
                    <a:pt x="4187" y="9661"/>
                  </a:lnTo>
                  <a:lnTo>
                    <a:pt x="4237" y="9647"/>
                  </a:lnTo>
                  <a:lnTo>
                    <a:pt x="4291" y="9632"/>
                  </a:lnTo>
                  <a:lnTo>
                    <a:pt x="4346" y="9616"/>
                  </a:lnTo>
                  <a:lnTo>
                    <a:pt x="4404" y="9598"/>
                  </a:lnTo>
                  <a:lnTo>
                    <a:pt x="4463" y="9579"/>
                  </a:lnTo>
                  <a:lnTo>
                    <a:pt x="4523" y="9559"/>
                  </a:lnTo>
                  <a:lnTo>
                    <a:pt x="4581" y="9538"/>
                  </a:lnTo>
                  <a:lnTo>
                    <a:pt x="4641" y="9516"/>
                  </a:lnTo>
                  <a:lnTo>
                    <a:pt x="4698" y="9492"/>
                  </a:lnTo>
                  <a:lnTo>
                    <a:pt x="4753" y="9468"/>
                  </a:lnTo>
                  <a:lnTo>
                    <a:pt x="4807" y="9443"/>
                  </a:lnTo>
                  <a:lnTo>
                    <a:pt x="4857" y="9417"/>
                  </a:lnTo>
                  <a:lnTo>
                    <a:pt x="4905" y="9391"/>
                  </a:lnTo>
                  <a:lnTo>
                    <a:pt x="4947" y="9362"/>
                  </a:lnTo>
                  <a:lnTo>
                    <a:pt x="4984" y="9335"/>
                  </a:lnTo>
                  <a:lnTo>
                    <a:pt x="5017" y="9306"/>
                  </a:lnTo>
                  <a:lnTo>
                    <a:pt x="5043" y="9277"/>
                  </a:lnTo>
                  <a:lnTo>
                    <a:pt x="5062" y="9246"/>
                  </a:lnTo>
                  <a:lnTo>
                    <a:pt x="5074" y="9216"/>
                  </a:lnTo>
                  <a:lnTo>
                    <a:pt x="5079" y="9185"/>
                  </a:lnTo>
                  <a:lnTo>
                    <a:pt x="5075" y="9154"/>
                  </a:lnTo>
                  <a:lnTo>
                    <a:pt x="5061" y="9122"/>
                  </a:lnTo>
                  <a:lnTo>
                    <a:pt x="5039" y="9091"/>
                  </a:lnTo>
                  <a:lnTo>
                    <a:pt x="5005" y="9059"/>
                  </a:lnTo>
                  <a:lnTo>
                    <a:pt x="5002" y="9057"/>
                  </a:lnTo>
                  <a:lnTo>
                    <a:pt x="4993" y="9052"/>
                  </a:lnTo>
                  <a:lnTo>
                    <a:pt x="4980" y="9045"/>
                  </a:lnTo>
                  <a:lnTo>
                    <a:pt x="4964" y="9034"/>
                  </a:lnTo>
                  <a:lnTo>
                    <a:pt x="4947" y="9022"/>
                  </a:lnTo>
                  <a:lnTo>
                    <a:pt x="4931" y="9006"/>
                  </a:lnTo>
                  <a:lnTo>
                    <a:pt x="4923" y="8999"/>
                  </a:lnTo>
                  <a:lnTo>
                    <a:pt x="4916" y="8990"/>
                  </a:lnTo>
                  <a:lnTo>
                    <a:pt x="4910" y="8982"/>
                  </a:lnTo>
                  <a:lnTo>
                    <a:pt x="4905" y="8973"/>
                  </a:lnTo>
                  <a:lnTo>
                    <a:pt x="4901" y="8963"/>
                  </a:lnTo>
                  <a:lnTo>
                    <a:pt x="4899" y="8954"/>
                  </a:lnTo>
                  <a:lnTo>
                    <a:pt x="4898" y="8944"/>
                  </a:lnTo>
                  <a:lnTo>
                    <a:pt x="4898" y="8934"/>
                  </a:lnTo>
                  <a:lnTo>
                    <a:pt x="4901" y="8924"/>
                  </a:lnTo>
                  <a:lnTo>
                    <a:pt x="4906" y="8914"/>
                  </a:lnTo>
                  <a:lnTo>
                    <a:pt x="4913" y="8904"/>
                  </a:lnTo>
                  <a:lnTo>
                    <a:pt x="4923" y="8893"/>
                  </a:lnTo>
                  <a:lnTo>
                    <a:pt x="4935" y="8883"/>
                  </a:lnTo>
                  <a:lnTo>
                    <a:pt x="4950" y="8872"/>
                  </a:lnTo>
                  <a:lnTo>
                    <a:pt x="4968" y="8862"/>
                  </a:lnTo>
                  <a:lnTo>
                    <a:pt x="4990" y="8852"/>
                  </a:lnTo>
                  <a:lnTo>
                    <a:pt x="5016" y="8842"/>
                  </a:lnTo>
                  <a:lnTo>
                    <a:pt x="5044" y="8833"/>
                  </a:lnTo>
                  <a:lnTo>
                    <a:pt x="5076" y="8823"/>
                  </a:lnTo>
                  <a:lnTo>
                    <a:pt x="5113" y="8814"/>
                  </a:lnTo>
                  <a:lnTo>
                    <a:pt x="5123" y="8807"/>
                  </a:lnTo>
                  <a:lnTo>
                    <a:pt x="5154" y="8788"/>
                  </a:lnTo>
                  <a:lnTo>
                    <a:pt x="5202" y="8758"/>
                  </a:lnTo>
                  <a:lnTo>
                    <a:pt x="5264" y="8718"/>
                  </a:lnTo>
                  <a:lnTo>
                    <a:pt x="5340" y="8669"/>
                  </a:lnTo>
                  <a:lnTo>
                    <a:pt x="5426" y="8611"/>
                  </a:lnTo>
                  <a:lnTo>
                    <a:pt x="5521" y="8549"/>
                  </a:lnTo>
                  <a:lnTo>
                    <a:pt x="5620" y="8479"/>
                  </a:lnTo>
                  <a:lnTo>
                    <a:pt x="5723" y="8406"/>
                  </a:lnTo>
                  <a:lnTo>
                    <a:pt x="5828" y="8330"/>
                  </a:lnTo>
                  <a:lnTo>
                    <a:pt x="5879" y="8291"/>
                  </a:lnTo>
                  <a:lnTo>
                    <a:pt x="5931" y="8252"/>
                  </a:lnTo>
                  <a:lnTo>
                    <a:pt x="5981" y="8213"/>
                  </a:lnTo>
                  <a:lnTo>
                    <a:pt x="6031" y="8172"/>
                  </a:lnTo>
                  <a:lnTo>
                    <a:pt x="6078" y="8133"/>
                  </a:lnTo>
                  <a:lnTo>
                    <a:pt x="6124" y="8095"/>
                  </a:lnTo>
                  <a:lnTo>
                    <a:pt x="6169" y="8055"/>
                  </a:lnTo>
                  <a:lnTo>
                    <a:pt x="6210" y="8017"/>
                  </a:lnTo>
                  <a:lnTo>
                    <a:pt x="6249" y="7980"/>
                  </a:lnTo>
                  <a:lnTo>
                    <a:pt x="6285" y="7944"/>
                  </a:lnTo>
                  <a:lnTo>
                    <a:pt x="6318" y="7907"/>
                  </a:lnTo>
                  <a:lnTo>
                    <a:pt x="6347" y="7873"/>
                  </a:lnTo>
                  <a:lnTo>
                    <a:pt x="6354" y="7870"/>
                  </a:lnTo>
                  <a:lnTo>
                    <a:pt x="6375" y="7862"/>
                  </a:lnTo>
                  <a:lnTo>
                    <a:pt x="6409" y="7850"/>
                  </a:lnTo>
                  <a:lnTo>
                    <a:pt x="6455" y="7835"/>
                  </a:lnTo>
                  <a:lnTo>
                    <a:pt x="6513" y="7817"/>
                  </a:lnTo>
                  <a:lnTo>
                    <a:pt x="6583" y="7798"/>
                  </a:lnTo>
                  <a:lnTo>
                    <a:pt x="6622" y="7788"/>
                  </a:lnTo>
                  <a:lnTo>
                    <a:pt x="6664" y="7778"/>
                  </a:lnTo>
                  <a:lnTo>
                    <a:pt x="6708" y="7768"/>
                  </a:lnTo>
                  <a:lnTo>
                    <a:pt x="6755" y="7759"/>
                  </a:lnTo>
                  <a:lnTo>
                    <a:pt x="6804" y="7750"/>
                  </a:lnTo>
                  <a:lnTo>
                    <a:pt x="6856" y="7741"/>
                  </a:lnTo>
                  <a:lnTo>
                    <a:pt x="6910" y="7733"/>
                  </a:lnTo>
                  <a:lnTo>
                    <a:pt x="6966" y="7725"/>
                  </a:lnTo>
                  <a:lnTo>
                    <a:pt x="7023" y="7719"/>
                  </a:lnTo>
                  <a:lnTo>
                    <a:pt x="7084" y="7713"/>
                  </a:lnTo>
                  <a:lnTo>
                    <a:pt x="7146" y="7708"/>
                  </a:lnTo>
                  <a:lnTo>
                    <a:pt x="7211" y="7704"/>
                  </a:lnTo>
                  <a:lnTo>
                    <a:pt x="7277" y="7700"/>
                  </a:lnTo>
                  <a:lnTo>
                    <a:pt x="7345" y="7699"/>
                  </a:lnTo>
                  <a:lnTo>
                    <a:pt x="7415" y="7699"/>
                  </a:lnTo>
                  <a:lnTo>
                    <a:pt x="7486" y="7702"/>
                  </a:lnTo>
                  <a:lnTo>
                    <a:pt x="7560" y="7705"/>
                  </a:lnTo>
                  <a:lnTo>
                    <a:pt x="7634" y="7710"/>
                  </a:lnTo>
                  <a:lnTo>
                    <a:pt x="7710" y="7717"/>
                  </a:lnTo>
                  <a:lnTo>
                    <a:pt x="7788" y="7726"/>
                  </a:lnTo>
                  <a:lnTo>
                    <a:pt x="7792" y="7728"/>
                  </a:lnTo>
                  <a:lnTo>
                    <a:pt x="7804" y="7735"/>
                  </a:lnTo>
                  <a:lnTo>
                    <a:pt x="7822" y="7744"/>
                  </a:lnTo>
                  <a:lnTo>
                    <a:pt x="7845" y="7758"/>
                  </a:lnTo>
                  <a:lnTo>
                    <a:pt x="7870" y="7773"/>
                  </a:lnTo>
                  <a:lnTo>
                    <a:pt x="7896" y="7791"/>
                  </a:lnTo>
                  <a:lnTo>
                    <a:pt x="7909" y="7801"/>
                  </a:lnTo>
                  <a:lnTo>
                    <a:pt x="7923" y="7811"/>
                  </a:lnTo>
                  <a:lnTo>
                    <a:pt x="7935" y="7822"/>
                  </a:lnTo>
                  <a:lnTo>
                    <a:pt x="7947" y="7833"/>
                  </a:lnTo>
                  <a:lnTo>
                    <a:pt x="7957" y="7844"/>
                  </a:lnTo>
                  <a:lnTo>
                    <a:pt x="7966" y="7855"/>
                  </a:lnTo>
                  <a:lnTo>
                    <a:pt x="7974" y="7866"/>
                  </a:lnTo>
                  <a:lnTo>
                    <a:pt x="7980" y="7877"/>
                  </a:lnTo>
                  <a:lnTo>
                    <a:pt x="7985" y="7888"/>
                  </a:lnTo>
                  <a:lnTo>
                    <a:pt x="7987" y="7898"/>
                  </a:lnTo>
                  <a:lnTo>
                    <a:pt x="7988" y="7909"/>
                  </a:lnTo>
                  <a:lnTo>
                    <a:pt x="7986" y="7920"/>
                  </a:lnTo>
                  <a:lnTo>
                    <a:pt x="7981" y="7930"/>
                  </a:lnTo>
                  <a:lnTo>
                    <a:pt x="7973" y="7941"/>
                  </a:lnTo>
                  <a:lnTo>
                    <a:pt x="7963" y="7951"/>
                  </a:lnTo>
                  <a:lnTo>
                    <a:pt x="7949" y="7960"/>
                  </a:lnTo>
                  <a:lnTo>
                    <a:pt x="7931" y="7968"/>
                  </a:lnTo>
                  <a:lnTo>
                    <a:pt x="7909" y="7976"/>
                  </a:lnTo>
                  <a:lnTo>
                    <a:pt x="7885" y="7984"/>
                  </a:lnTo>
                  <a:lnTo>
                    <a:pt x="7856" y="7990"/>
                  </a:lnTo>
                  <a:lnTo>
                    <a:pt x="7844" y="7990"/>
                  </a:lnTo>
                  <a:lnTo>
                    <a:pt x="7810" y="7990"/>
                  </a:lnTo>
                  <a:lnTo>
                    <a:pt x="7757" y="7989"/>
                  </a:lnTo>
                  <a:lnTo>
                    <a:pt x="7687" y="7990"/>
                  </a:lnTo>
                  <a:lnTo>
                    <a:pt x="7602" y="7992"/>
                  </a:lnTo>
                  <a:lnTo>
                    <a:pt x="7506" y="7997"/>
                  </a:lnTo>
                  <a:lnTo>
                    <a:pt x="7455" y="8001"/>
                  </a:lnTo>
                  <a:lnTo>
                    <a:pt x="7400" y="8005"/>
                  </a:lnTo>
                  <a:lnTo>
                    <a:pt x="7345" y="8010"/>
                  </a:lnTo>
                  <a:lnTo>
                    <a:pt x="7289" y="8016"/>
                  </a:lnTo>
                  <a:lnTo>
                    <a:pt x="7231" y="8023"/>
                  </a:lnTo>
                  <a:lnTo>
                    <a:pt x="7173" y="8031"/>
                  </a:lnTo>
                  <a:lnTo>
                    <a:pt x="7114" y="8041"/>
                  </a:lnTo>
                  <a:lnTo>
                    <a:pt x="7056" y="8052"/>
                  </a:lnTo>
                  <a:lnTo>
                    <a:pt x="6997" y="8065"/>
                  </a:lnTo>
                  <a:lnTo>
                    <a:pt x="6940" y="8079"/>
                  </a:lnTo>
                  <a:lnTo>
                    <a:pt x="6882" y="8094"/>
                  </a:lnTo>
                  <a:lnTo>
                    <a:pt x="6827" y="8110"/>
                  </a:lnTo>
                  <a:lnTo>
                    <a:pt x="6772" y="8129"/>
                  </a:lnTo>
                  <a:lnTo>
                    <a:pt x="6720" y="8149"/>
                  </a:lnTo>
                  <a:lnTo>
                    <a:pt x="6671" y="8171"/>
                  </a:lnTo>
                  <a:lnTo>
                    <a:pt x="6623" y="8196"/>
                  </a:lnTo>
                  <a:lnTo>
                    <a:pt x="6578" y="8222"/>
                  </a:lnTo>
                  <a:lnTo>
                    <a:pt x="6537" y="8250"/>
                  </a:lnTo>
                  <a:lnTo>
                    <a:pt x="6499" y="8281"/>
                  </a:lnTo>
                  <a:lnTo>
                    <a:pt x="6465" y="8314"/>
                  </a:lnTo>
                  <a:lnTo>
                    <a:pt x="6456" y="8326"/>
                  </a:lnTo>
                  <a:lnTo>
                    <a:pt x="6431" y="8359"/>
                  </a:lnTo>
                  <a:lnTo>
                    <a:pt x="6414" y="8380"/>
                  </a:lnTo>
                  <a:lnTo>
                    <a:pt x="6392" y="8405"/>
                  </a:lnTo>
                  <a:lnTo>
                    <a:pt x="6368" y="8432"/>
                  </a:lnTo>
                  <a:lnTo>
                    <a:pt x="6342" y="8460"/>
                  </a:lnTo>
                  <a:lnTo>
                    <a:pt x="6314" y="8488"/>
                  </a:lnTo>
                  <a:lnTo>
                    <a:pt x="6283" y="8515"/>
                  </a:lnTo>
                  <a:lnTo>
                    <a:pt x="6267" y="8528"/>
                  </a:lnTo>
                  <a:lnTo>
                    <a:pt x="6250" y="8542"/>
                  </a:lnTo>
                  <a:lnTo>
                    <a:pt x="6234" y="8555"/>
                  </a:lnTo>
                  <a:lnTo>
                    <a:pt x="6217" y="8566"/>
                  </a:lnTo>
                  <a:lnTo>
                    <a:pt x="6200" y="8577"/>
                  </a:lnTo>
                  <a:lnTo>
                    <a:pt x="6182" y="8588"/>
                  </a:lnTo>
                  <a:lnTo>
                    <a:pt x="6164" y="8597"/>
                  </a:lnTo>
                  <a:lnTo>
                    <a:pt x="6146" y="8605"/>
                  </a:lnTo>
                  <a:lnTo>
                    <a:pt x="6128" y="8613"/>
                  </a:lnTo>
                  <a:lnTo>
                    <a:pt x="6109" y="8619"/>
                  </a:lnTo>
                  <a:lnTo>
                    <a:pt x="6091" y="8624"/>
                  </a:lnTo>
                  <a:lnTo>
                    <a:pt x="6073" y="8627"/>
                  </a:lnTo>
                  <a:lnTo>
                    <a:pt x="6069" y="8633"/>
                  </a:lnTo>
                  <a:lnTo>
                    <a:pt x="6059" y="8649"/>
                  </a:lnTo>
                  <a:lnTo>
                    <a:pt x="6044" y="8676"/>
                  </a:lnTo>
                  <a:lnTo>
                    <a:pt x="6028" y="8708"/>
                  </a:lnTo>
                  <a:lnTo>
                    <a:pt x="6018" y="8726"/>
                  </a:lnTo>
                  <a:lnTo>
                    <a:pt x="6010" y="8745"/>
                  </a:lnTo>
                  <a:lnTo>
                    <a:pt x="6002" y="8765"/>
                  </a:lnTo>
                  <a:lnTo>
                    <a:pt x="5995" y="8787"/>
                  </a:lnTo>
                  <a:lnTo>
                    <a:pt x="5988" y="8808"/>
                  </a:lnTo>
                  <a:lnTo>
                    <a:pt x="5984" y="8830"/>
                  </a:lnTo>
                  <a:lnTo>
                    <a:pt x="5980" y="8851"/>
                  </a:lnTo>
                  <a:lnTo>
                    <a:pt x="5979" y="8872"/>
                  </a:lnTo>
                  <a:lnTo>
                    <a:pt x="5979" y="8893"/>
                  </a:lnTo>
                  <a:lnTo>
                    <a:pt x="5982" y="8914"/>
                  </a:lnTo>
                  <a:lnTo>
                    <a:pt x="5987" y="8933"/>
                  </a:lnTo>
                  <a:lnTo>
                    <a:pt x="5995" y="8951"/>
                  </a:lnTo>
                  <a:lnTo>
                    <a:pt x="6006" y="8968"/>
                  </a:lnTo>
                  <a:lnTo>
                    <a:pt x="6020" y="8983"/>
                  </a:lnTo>
                  <a:lnTo>
                    <a:pt x="6039" y="8996"/>
                  </a:lnTo>
                  <a:lnTo>
                    <a:pt x="6061" y="9007"/>
                  </a:lnTo>
                  <a:lnTo>
                    <a:pt x="6087" y="9016"/>
                  </a:lnTo>
                  <a:lnTo>
                    <a:pt x="6117" y="9024"/>
                  </a:lnTo>
                  <a:lnTo>
                    <a:pt x="6153" y="9028"/>
                  </a:lnTo>
                  <a:lnTo>
                    <a:pt x="6192" y="9029"/>
                  </a:lnTo>
                  <a:lnTo>
                    <a:pt x="6237" y="9027"/>
                  </a:lnTo>
                  <a:lnTo>
                    <a:pt x="6288" y="9022"/>
                  </a:lnTo>
                  <a:lnTo>
                    <a:pt x="6344" y="9012"/>
                  </a:lnTo>
                  <a:lnTo>
                    <a:pt x="6407" y="8999"/>
                  </a:lnTo>
                  <a:lnTo>
                    <a:pt x="6419" y="8996"/>
                  </a:lnTo>
                  <a:lnTo>
                    <a:pt x="6455" y="8986"/>
                  </a:lnTo>
                  <a:lnTo>
                    <a:pt x="6511" y="8970"/>
                  </a:lnTo>
                  <a:lnTo>
                    <a:pt x="6586" y="8949"/>
                  </a:lnTo>
                  <a:lnTo>
                    <a:pt x="6674" y="8923"/>
                  </a:lnTo>
                  <a:lnTo>
                    <a:pt x="6773" y="8892"/>
                  </a:lnTo>
                  <a:lnTo>
                    <a:pt x="6880" y="8859"/>
                  </a:lnTo>
                  <a:lnTo>
                    <a:pt x="6992" y="8822"/>
                  </a:lnTo>
                  <a:lnTo>
                    <a:pt x="7050" y="8803"/>
                  </a:lnTo>
                  <a:lnTo>
                    <a:pt x="7106" y="8783"/>
                  </a:lnTo>
                  <a:lnTo>
                    <a:pt x="7163" y="8762"/>
                  </a:lnTo>
                  <a:lnTo>
                    <a:pt x="7219" y="8742"/>
                  </a:lnTo>
                  <a:lnTo>
                    <a:pt x="7273" y="8721"/>
                  </a:lnTo>
                  <a:lnTo>
                    <a:pt x="7327" y="8700"/>
                  </a:lnTo>
                  <a:lnTo>
                    <a:pt x="7378" y="8678"/>
                  </a:lnTo>
                  <a:lnTo>
                    <a:pt x="7427" y="8656"/>
                  </a:lnTo>
                  <a:lnTo>
                    <a:pt x="7473" y="8635"/>
                  </a:lnTo>
                  <a:lnTo>
                    <a:pt x="7516" y="8614"/>
                  </a:lnTo>
                  <a:lnTo>
                    <a:pt x="7556" y="8592"/>
                  </a:lnTo>
                  <a:lnTo>
                    <a:pt x="7592" y="8571"/>
                  </a:lnTo>
                  <a:lnTo>
                    <a:pt x="7623" y="8551"/>
                  </a:lnTo>
                  <a:lnTo>
                    <a:pt x="7650" y="8529"/>
                  </a:lnTo>
                  <a:lnTo>
                    <a:pt x="7673" y="8510"/>
                  </a:lnTo>
                  <a:lnTo>
                    <a:pt x="7690" y="8490"/>
                  </a:lnTo>
                  <a:lnTo>
                    <a:pt x="7695" y="8485"/>
                  </a:lnTo>
                  <a:lnTo>
                    <a:pt x="7710" y="8472"/>
                  </a:lnTo>
                  <a:lnTo>
                    <a:pt x="7734" y="8452"/>
                  </a:lnTo>
                  <a:lnTo>
                    <a:pt x="7767" y="8428"/>
                  </a:lnTo>
                  <a:lnTo>
                    <a:pt x="7788" y="8414"/>
                  </a:lnTo>
                  <a:lnTo>
                    <a:pt x="7810" y="8400"/>
                  </a:lnTo>
                  <a:lnTo>
                    <a:pt x="7834" y="8386"/>
                  </a:lnTo>
                  <a:lnTo>
                    <a:pt x="7861" y="8372"/>
                  </a:lnTo>
                  <a:lnTo>
                    <a:pt x="7889" y="8358"/>
                  </a:lnTo>
                  <a:lnTo>
                    <a:pt x="7920" y="8345"/>
                  </a:lnTo>
                  <a:lnTo>
                    <a:pt x="7952" y="8332"/>
                  </a:lnTo>
                  <a:lnTo>
                    <a:pt x="7986" y="8320"/>
                  </a:lnTo>
                  <a:lnTo>
                    <a:pt x="8021" y="8310"/>
                  </a:lnTo>
                  <a:lnTo>
                    <a:pt x="8059" y="8301"/>
                  </a:lnTo>
                  <a:lnTo>
                    <a:pt x="8098" y="8292"/>
                  </a:lnTo>
                  <a:lnTo>
                    <a:pt x="8139" y="8286"/>
                  </a:lnTo>
                  <a:lnTo>
                    <a:pt x="8182" y="8283"/>
                  </a:lnTo>
                  <a:lnTo>
                    <a:pt x="8225" y="8282"/>
                  </a:lnTo>
                  <a:lnTo>
                    <a:pt x="8270" y="8283"/>
                  </a:lnTo>
                  <a:lnTo>
                    <a:pt x="8318" y="8287"/>
                  </a:lnTo>
                  <a:lnTo>
                    <a:pt x="8366" y="8294"/>
                  </a:lnTo>
                  <a:lnTo>
                    <a:pt x="8415" y="8306"/>
                  </a:lnTo>
                  <a:lnTo>
                    <a:pt x="8466" y="8320"/>
                  </a:lnTo>
                  <a:lnTo>
                    <a:pt x="8518" y="8338"/>
                  </a:lnTo>
                  <a:lnTo>
                    <a:pt x="8572" y="8359"/>
                  </a:lnTo>
                  <a:lnTo>
                    <a:pt x="8625" y="8385"/>
                  </a:lnTo>
                  <a:lnTo>
                    <a:pt x="8681" y="8415"/>
                  </a:lnTo>
                  <a:lnTo>
                    <a:pt x="8737" y="8451"/>
                  </a:lnTo>
                  <a:lnTo>
                    <a:pt x="8758" y="8461"/>
                  </a:lnTo>
                  <a:lnTo>
                    <a:pt x="8817" y="8489"/>
                  </a:lnTo>
                  <a:lnTo>
                    <a:pt x="8908" y="8532"/>
                  </a:lnTo>
                  <a:lnTo>
                    <a:pt x="9028" y="8588"/>
                  </a:lnTo>
                  <a:lnTo>
                    <a:pt x="9171" y="8653"/>
                  </a:lnTo>
                  <a:lnTo>
                    <a:pt x="9332" y="8726"/>
                  </a:lnTo>
                  <a:lnTo>
                    <a:pt x="9417" y="8763"/>
                  </a:lnTo>
                  <a:lnTo>
                    <a:pt x="9505" y="8803"/>
                  </a:lnTo>
                  <a:lnTo>
                    <a:pt x="9595" y="8841"/>
                  </a:lnTo>
                  <a:lnTo>
                    <a:pt x="9687" y="8879"/>
                  </a:lnTo>
                  <a:lnTo>
                    <a:pt x="9778" y="8918"/>
                  </a:lnTo>
                  <a:lnTo>
                    <a:pt x="9870" y="8956"/>
                  </a:lnTo>
                  <a:lnTo>
                    <a:pt x="9962" y="8992"/>
                  </a:lnTo>
                  <a:lnTo>
                    <a:pt x="10051" y="9028"/>
                  </a:lnTo>
                  <a:lnTo>
                    <a:pt x="10139" y="9060"/>
                  </a:lnTo>
                  <a:lnTo>
                    <a:pt x="10225" y="9091"/>
                  </a:lnTo>
                  <a:lnTo>
                    <a:pt x="10308" y="9120"/>
                  </a:lnTo>
                  <a:lnTo>
                    <a:pt x="10386" y="9146"/>
                  </a:lnTo>
                  <a:lnTo>
                    <a:pt x="10461" y="9168"/>
                  </a:lnTo>
                  <a:lnTo>
                    <a:pt x="10530" y="9187"/>
                  </a:lnTo>
                  <a:lnTo>
                    <a:pt x="10594" y="9202"/>
                  </a:lnTo>
                  <a:lnTo>
                    <a:pt x="10651" y="9212"/>
                  </a:lnTo>
                  <a:lnTo>
                    <a:pt x="10702" y="9218"/>
                  </a:lnTo>
                  <a:lnTo>
                    <a:pt x="10744" y="9220"/>
                  </a:lnTo>
                  <a:lnTo>
                    <a:pt x="10778" y="9215"/>
                  </a:lnTo>
                  <a:lnTo>
                    <a:pt x="10804" y="9205"/>
                  </a:lnTo>
                </a:path>
              </a:pathLst>
            </a:custGeom>
            <a:solidFill>
              <a:srgbClr val="93d5ed"/>
            </a:solidFill>
            <a:ln w="324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17" name="Freeform 238"/>
            <p:cNvSpPr/>
            <p:nvPr/>
          </p:nvSpPr>
          <p:spPr>
            <a:xfrm>
              <a:off x="457200" y="2291400"/>
              <a:ext cx="65520" cy="49680"/>
            </a:xfrm>
            <a:custGeom>
              <a:avLst/>
              <a:gdLst>
                <a:gd name="textAreaLeft" fmla="*/ 0 w 65520"/>
                <a:gd name="textAreaRight" fmla="*/ 65880 w 65520"/>
                <a:gd name="textAreaTop" fmla="*/ 0 h 49680"/>
                <a:gd name="textAreaBottom" fmla="*/ 50040 h 49680"/>
              </a:gdLst>
              <a:ahLst/>
              <a:rect l="textAreaLeft" t="textAreaTop" r="textAreaRight" b="textAreaBottom"/>
              <a:pathLst>
                <a:path w="845" h="610">
                  <a:moveTo>
                    <a:pt x="541" y="50"/>
                  </a:moveTo>
                  <a:lnTo>
                    <a:pt x="532" y="48"/>
                  </a:lnTo>
                  <a:lnTo>
                    <a:pt x="510" y="42"/>
                  </a:lnTo>
                  <a:lnTo>
                    <a:pt x="476" y="33"/>
                  </a:lnTo>
                  <a:lnTo>
                    <a:pt x="433" y="23"/>
                  </a:lnTo>
                  <a:lnTo>
                    <a:pt x="408" y="18"/>
                  </a:lnTo>
                  <a:lnTo>
                    <a:pt x="381" y="14"/>
                  </a:lnTo>
                  <a:lnTo>
                    <a:pt x="354" y="9"/>
                  </a:lnTo>
                  <a:lnTo>
                    <a:pt x="326" y="6"/>
                  </a:lnTo>
                  <a:lnTo>
                    <a:pt x="297" y="3"/>
                  </a:lnTo>
                  <a:lnTo>
                    <a:pt x="267" y="1"/>
                  </a:lnTo>
                  <a:lnTo>
                    <a:pt x="239" y="0"/>
                  </a:lnTo>
                  <a:lnTo>
                    <a:pt x="210" y="0"/>
                  </a:lnTo>
                  <a:lnTo>
                    <a:pt x="182" y="2"/>
                  </a:lnTo>
                  <a:lnTo>
                    <a:pt x="154" y="6"/>
                  </a:lnTo>
                  <a:lnTo>
                    <a:pt x="128" y="11"/>
                  </a:lnTo>
                  <a:lnTo>
                    <a:pt x="104" y="18"/>
                  </a:lnTo>
                  <a:lnTo>
                    <a:pt x="82" y="28"/>
                  </a:lnTo>
                  <a:lnTo>
                    <a:pt x="62" y="40"/>
                  </a:lnTo>
                  <a:lnTo>
                    <a:pt x="44" y="54"/>
                  </a:lnTo>
                  <a:lnTo>
                    <a:pt x="28" y="71"/>
                  </a:lnTo>
                  <a:lnTo>
                    <a:pt x="16" y="90"/>
                  </a:lnTo>
                  <a:lnTo>
                    <a:pt x="7" y="114"/>
                  </a:lnTo>
                  <a:lnTo>
                    <a:pt x="2" y="140"/>
                  </a:lnTo>
                  <a:lnTo>
                    <a:pt x="0" y="169"/>
                  </a:lnTo>
                  <a:lnTo>
                    <a:pt x="3" y="202"/>
                  </a:lnTo>
                  <a:lnTo>
                    <a:pt x="11" y="240"/>
                  </a:lnTo>
                  <a:lnTo>
                    <a:pt x="23" y="280"/>
                  </a:lnTo>
                  <a:lnTo>
                    <a:pt x="42" y="324"/>
                  </a:lnTo>
                  <a:lnTo>
                    <a:pt x="53" y="337"/>
                  </a:lnTo>
                  <a:lnTo>
                    <a:pt x="84" y="368"/>
                  </a:lnTo>
                  <a:lnTo>
                    <a:pt x="105" y="389"/>
                  </a:lnTo>
                  <a:lnTo>
                    <a:pt x="131" y="412"/>
                  </a:lnTo>
                  <a:lnTo>
                    <a:pt x="160" y="437"/>
                  </a:lnTo>
                  <a:lnTo>
                    <a:pt x="191" y="463"/>
                  </a:lnTo>
                  <a:lnTo>
                    <a:pt x="223" y="489"/>
                  </a:lnTo>
                  <a:lnTo>
                    <a:pt x="258" y="515"/>
                  </a:lnTo>
                  <a:lnTo>
                    <a:pt x="275" y="527"/>
                  </a:lnTo>
                  <a:lnTo>
                    <a:pt x="294" y="538"/>
                  </a:lnTo>
                  <a:lnTo>
                    <a:pt x="312" y="550"/>
                  </a:lnTo>
                  <a:lnTo>
                    <a:pt x="330" y="560"/>
                  </a:lnTo>
                  <a:lnTo>
                    <a:pt x="349" y="570"/>
                  </a:lnTo>
                  <a:lnTo>
                    <a:pt x="367" y="579"/>
                  </a:lnTo>
                  <a:lnTo>
                    <a:pt x="385" y="587"/>
                  </a:lnTo>
                  <a:lnTo>
                    <a:pt x="402" y="594"/>
                  </a:lnTo>
                  <a:lnTo>
                    <a:pt x="421" y="600"/>
                  </a:lnTo>
                  <a:lnTo>
                    <a:pt x="438" y="604"/>
                  </a:lnTo>
                  <a:lnTo>
                    <a:pt x="455" y="607"/>
                  </a:lnTo>
                  <a:lnTo>
                    <a:pt x="472" y="609"/>
                  </a:lnTo>
                  <a:lnTo>
                    <a:pt x="490" y="610"/>
                  </a:lnTo>
                  <a:lnTo>
                    <a:pt x="508" y="610"/>
                  </a:lnTo>
                  <a:lnTo>
                    <a:pt x="526" y="608"/>
                  </a:lnTo>
                  <a:lnTo>
                    <a:pt x="546" y="605"/>
                  </a:lnTo>
                  <a:lnTo>
                    <a:pt x="565" y="601"/>
                  </a:lnTo>
                  <a:lnTo>
                    <a:pt x="585" y="596"/>
                  </a:lnTo>
                  <a:lnTo>
                    <a:pt x="604" y="590"/>
                  </a:lnTo>
                  <a:lnTo>
                    <a:pt x="623" y="582"/>
                  </a:lnTo>
                  <a:lnTo>
                    <a:pt x="642" y="573"/>
                  </a:lnTo>
                  <a:lnTo>
                    <a:pt x="662" y="564"/>
                  </a:lnTo>
                  <a:lnTo>
                    <a:pt x="680" y="554"/>
                  </a:lnTo>
                  <a:lnTo>
                    <a:pt x="698" y="544"/>
                  </a:lnTo>
                  <a:lnTo>
                    <a:pt x="716" y="533"/>
                  </a:lnTo>
                  <a:lnTo>
                    <a:pt x="732" y="521"/>
                  </a:lnTo>
                  <a:lnTo>
                    <a:pt x="748" y="509"/>
                  </a:lnTo>
                  <a:lnTo>
                    <a:pt x="763" y="496"/>
                  </a:lnTo>
                  <a:lnTo>
                    <a:pt x="777" y="483"/>
                  </a:lnTo>
                  <a:lnTo>
                    <a:pt x="791" y="470"/>
                  </a:lnTo>
                  <a:lnTo>
                    <a:pt x="803" y="457"/>
                  </a:lnTo>
                  <a:lnTo>
                    <a:pt x="814" y="442"/>
                  </a:lnTo>
                  <a:lnTo>
                    <a:pt x="823" y="429"/>
                  </a:lnTo>
                  <a:lnTo>
                    <a:pt x="831" y="415"/>
                  </a:lnTo>
                  <a:lnTo>
                    <a:pt x="837" y="402"/>
                  </a:lnTo>
                  <a:lnTo>
                    <a:pt x="841" y="388"/>
                  </a:lnTo>
                  <a:lnTo>
                    <a:pt x="844" y="375"/>
                  </a:lnTo>
                  <a:lnTo>
                    <a:pt x="845" y="363"/>
                  </a:lnTo>
                  <a:lnTo>
                    <a:pt x="844" y="350"/>
                  </a:lnTo>
                  <a:lnTo>
                    <a:pt x="841" y="338"/>
                  </a:lnTo>
                  <a:lnTo>
                    <a:pt x="835" y="326"/>
                  </a:lnTo>
                  <a:lnTo>
                    <a:pt x="828" y="315"/>
                  </a:lnTo>
                  <a:lnTo>
                    <a:pt x="818" y="305"/>
                  </a:lnTo>
                  <a:lnTo>
                    <a:pt x="806" y="295"/>
                  </a:lnTo>
                  <a:lnTo>
                    <a:pt x="777" y="276"/>
                  </a:lnTo>
                  <a:lnTo>
                    <a:pt x="751" y="257"/>
                  </a:lnTo>
                  <a:lnTo>
                    <a:pt x="726" y="237"/>
                  </a:lnTo>
                  <a:lnTo>
                    <a:pt x="702" y="216"/>
                  </a:lnTo>
                  <a:lnTo>
                    <a:pt x="679" y="195"/>
                  </a:lnTo>
                  <a:lnTo>
                    <a:pt x="656" y="175"/>
                  </a:lnTo>
                  <a:lnTo>
                    <a:pt x="636" y="155"/>
                  </a:lnTo>
                  <a:lnTo>
                    <a:pt x="618" y="136"/>
                  </a:lnTo>
                  <a:lnTo>
                    <a:pt x="586" y="102"/>
                  </a:lnTo>
                  <a:lnTo>
                    <a:pt x="562" y="74"/>
                  </a:lnTo>
                  <a:lnTo>
                    <a:pt x="546" y="57"/>
                  </a:lnTo>
                  <a:lnTo>
                    <a:pt x="541" y="50"/>
                  </a:lnTo>
                  <a:close/>
                </a:path>
              </a:pathLst>
            </a:custGeom>
            <a:solidFill>
              <a:srgbClr val="93d5ed"/>
            </a:solidFill>
            <a:ln w="3240">
              <a:solidFill>
                <a:srgbClr val="ccecff"/>
              </a:solidFill>
              <a:round/>
            </a:ln>
          </p:spPr>
          <p:style>
            <a:lnRef idx="0"/>
            <a:fillRef idx="0"/>
            <a:effectRef idx="0"/>
            <a:fontRef idx="minor"/>
          </p:style>
          <p:txBody>
            <a:bodyPr lIns="90000" rIns="90000" tIns="3240" bIns="3240" anchor="t">
              <a:noAutofit/>
            </a:bodyPr>
            <a:p>
              <a:endParaRPr b="1" lang="en-US" sz="2400" spc="-1" strike="noStrike">
                <a:solidFill>
                  <a:srgbClr val="ffffff"/>
                </a:solidFill>
                <a:latin typeface="Times New Roman"/>
              </a:endParaRPr>
            </a:p>
          </p:txBody>
        </p:sp>
        <p:sp>
          <p:nvSpPr>
            <p:cNvPr id="718" name="Freeform 239"/>
            <p:cNvSpPr/>
            <p:nvPr/>
          </p:nvSpPr>
          <p:spPr>
            <a:xfrm>
              <a:off x="1404000" y="1810080"/>
              <a:ext cx="237600" cy="667080"/>
            </a:xfrm>
            <a:custGeom>
              <a:avLst/>
              <a:gdLst>
                <a:gd name="textAreaLeft" fmla="*/ 0 w 237600"/>
                <a:gd name="textAreaRight" fmla="*/ 237960 w 237600"/>
                <a:gd name="textAreaTop" fmla="*/ 0 h 667080"/>
                <a:gd name="textAreaBottom" fmla="*/ 667440 h 667080"/>
              </a:gdLst>
              <a:ahLst/>
              <a:rect l="textAreaLeft" t="textAreaTop" r="textAreaRight" b="textAreaBottom"/>
              <a:pathLst>
                <a:path w="3046" h="8222">
                  <a:moveTo>
                    <a:pt x="3046" y="2097"/>
                  </a:moveTo>
                  <a:lnTo>
                    <a:pt x="3046" y="0"/>
                  </a:lnTo>
                  <a:lnTo>
                    <a:pt x="0" y="6752"/>
                  </a:lnTo>
                  <a:lnTo>
                    <a:pt x="343" y="8222"/>
                  </a:lnTo>
                  <a:lnTo>
                    <a:pt x="3046" y="209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19" name="Freeform 240"/>
            <p:cNvSpPr/>
            <p:nvPr/>
          </p:nvSpPr>
          <p:spPr>
            <a:xfrm>
              <a:off x="1536120" y="2468520"/>
              <a:ext cx="59040" cy="217440"/>
            </a:xfrm>
            <a:custGeom>
              <a:avLst/>
              <a:gdLst>
                <a:gd name="textAreaLeft" fmla="*/ 0 w 59040"/>
                <a:gd name="textAreaRight" fmla="*/ 59400 w 59040"/>
                <a:gd name="textAreaTop" fmla="*/ 0 h 217440"/>
                <a:gd name="textAreaBottom" fmla="*/ 217800 h 217440"/>
              </a:gdLst>
              <a:ahLst/>
              <a:rect l="textAreaLeft" t="textAreaTop" r="textAreaRight" b="textAreaBottom"/>
              <a:pathLst>
                <a:path w="755" h="2694">
                  <a:moveTo>
                    <a:pt x="755" y="2146"/>
                  </a:moveTo>
                  <a:lnTo>
                    <a:pt x="10" y="2694"/>
                  </a:lnTo>
                  <a:lnTo>
                    <a:pt x="0" y="548"/>
                  </a:lnTo>
                  <a:lnTo>
                    <a:pt x="745" y="0"/>
                  </a:lnTo>
                  <a:lnTo>
                    <a:pt x="755" y="214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0" name="Freeform 241"/>
            <p:cNvSpPr/>
            <p:nvPr/>
          </p:nvSpPr>
          <p:spPr>
            <a:xfrm>
              <a:off x="1465560" y="2436840"/>
              <a:ext cx="70200" cy="249480"/>
            </a:xfrm>
            <a:custGeom>
              <a:avLst/>
              <a:gdLst>
                <a:gd name="textAreaLeft" fmla="*/ 0 w 70200"/>
                <a:gd name="textAreaRight" fmla="*/ 70560 w 70200"/>
                <a:gd name="textAreaTop" fmla="*/ 0 h 249480"/>
                <a:gd name="textAreaBottom" fmla="*/ 249840 h 249480"/>
              </a:gdLst>
              <a:ahLst/>
              <a:rect l="textAreaLeft" t="textAreaTop" r="textAreaRight" b="textAreaBottom"/>
              <a:pathLst>
                <a:path w="891" h="3096">
                  <a:moveTo>
                    <a:pt x="881" y="950"/>
                  </a:moveTo>
                  <a:lnTo>
                    <a:pt x="891" y="3096"/>
                  </a:lnTo>
                  <a:lnTo>
                    <a:pt x="882" y="3087"/>
                  </a:lnTo>
                  <a:lnTo>
                    <a:pt x="855" y="3061"/>
                  </a:lnTo>
                  <a:lnTo>
                    <a:pt x="814" y="3020"/>
                  </a:lnTo>
                  <a:lnTo>
                    <a:pt x="759" y="2965"/>
                  </a:lnTo>
                  <a:lnTo>
                    <a:pt x="695" y="2900"/>
                  </a:lnTo>
                  <a:lnTo>
                    <a:pt x="622" y="2826"/>
                  </a:lnTo>
                  <a:lnTo>
                    <a:pt x="545" y="2746"/>
                  </a:lnTo>
                  <a:lnTo>
                    <a:pt x="464" y="2662"/>
                  </a:lnTo>
                  <a:lnTo>
                    <a:pt x="383" y="2575"/>
                  </a:lnTo>
                  <a:lnTo>
                    <a:pt x="304" y="2488"/>
                  </a:lnTo>
                  <a:lnTo>
                    <a:pt x="265" y="2446"/>
                  </a:lnTo>
                  <a:lnTo>
                    <a:pt x="228" y="2404"/>
                  </a:lnTo>
                  <a:lnTo>
                    <a:pt x="193" y="2363"/>
                  </a:lnTo>
                  <a:lnTo>
                    <a:pt x="160" y="2324"/>
                  </a:lnTo>
                  <a:lnTo>
                    <a:pt x="129" y="2286"/>
                  </a:lnTo>
                  <a:lnTo>
                    <a:pt x="100" y="2249"/>
                  </a:lnTo>
                  <a:lnTo>
                    <a:pt x="75" y="2216"/>
                  </a:lnTo>
                  <a:lnTo>
                    <a:pt x="53" y="2184"/>
                  </a:lnTo>
                  <a:lnTo>
                    <a:pt x="34" y="2156"/>
                  </a:lnTo>
                  <a:lnTo>
                    <a:pt x="18" y="2129"/>
                  </a:lnTo>
                  <a:lnTo>
                    <a:pt x="7" y="2107"/>
                  </a:lnTo>
                  <a:lnTo>
                    <a:pt x="0" y="2087"/>
                  </a:lnTo>
                  <a:lnTo>
                    <a:pt x="0" y="0"/>
                  </a:lnTo>
                  <a:lnTo>
                    <a:pt x="6" y="8"/>
                  </a:lnTo>
                  <a:lnTo>
                    <a:pt x="23" y="30"/>
                  </a:lnTo>
                  <a:lnTo>
                    <a:pt x="52" y="64"/>
                  </a:lnTo>
                  <a:lnTo>
                    <a:pt x="90" y="110"/>
                  </a:lnTo>
                  <a:lnTo>
                    <a:pt x="135" y="165"/>
                  </a:lnTo>
                  <a:lnTo>
                    <a:pt x="189" y="228"/>
                  </a:lnTo>
                  <a:lnTo>
                    <a:pt x="248" y="298"/>
                  </a:lnTo>
                  <a:lnTo>
                    <a:pt x="313" y="373"/>
                  </a:lnTo>
                  <a:lnTo>
                    <a:pt x="380" y="450"/>
                  </a:lnTo>
                  <a:lnTo>
                    <a:pt x="452" y="529"/>
                  </a:lnTo>
                  <a:lnTo>
                    <a:pt x="525" y="609"/>
                  </a:lnTo>
                  <a:lnTo>
                    <a:pt x="599" y="686"/>
                  </a:lnTo>
                  <a:lnTo>
                    <a:pt x="636" y="725"/>
                  </a:lnTo>
                  <a:lnTo>
                    <a:pt x="673" y="761"/>
                  </a:lnTo>
                  <a:lnTo>
                    <a:pt x="710" y="797"/>
                  </a:lnTo>
                  <a:lnTo>
                    <a:pt x="745" y="831"/>
                  </a:lnTo>
                  <a:lnTo>
                    <a:pt x="780" y="864"/>
                  </a:lnTo>
                  <a:lnTo>
                    <a:pt x="816" y="895"/>
                  </a:lnTo>
                  <a:lnTo>
                    <a:pt x="849" y="923"/>
                  </a:lnTo>
                  <a:lnTo>
                    <a:pt x="881" y="95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1" name="Freeform 242"/>
            <p:cNvSpPr/>
            <p:nvPr/>
          </p:nvSpPr>
          <p:spPr>
            <a:xfrm>
              <a:off x="1388520" y="2420640"/>
              <a:ext cx="22320" cy="179640"/>
            </a:xfrm>
            <a:custGeom>
              <a:avLst/>
              <a:gdLst>
                <a:gd name="textAreaLeft" fmla="*/ 0 w 22320"/>
                <a:gd name="textAreaRight" fmla="*/ 22680 w 22320"/>
                <a:gd name="textAreaTop" fmla="*/ 0 h 179640"/>
                <a:gd name="textAreaBottom" fmla="*/ 180000 h 179640"/>
              </a:gdLst>
              <a:ahLst/>
              <a:rect l="textAreaLeft" t="textAreaTop" r="textAreaRight" b="textAreaBottom"/>
              <a:pathLst>
                <a:path w="284" h="2192">
                  <a:moveTo>
                    <a:pt x="284" y="9"/>
                  </a:moveTo>
                  <a:lnTo>
                    <a:pt x="273" y="11"/>
                  </a:lnTo>
                  <a:lnTo>
                    <a:pt x="241" y="16"/>
                  </a:lnTo>
                  <a:lnTo>
                    <a:pt x="197" y="22"/>
                  </a:lnTo>
                  <a:lnTo>
                    <a:pt x="146" y="26"/>
                  </a:lnTo>
                  <a:lnTo>
                    <a:pt x="119" y="28"/>
                  </a:lnTo>
                  <a:lnTo>
                    <a:pt x="94" y="28"/>
                  </a:lnTo>
                  <a:lnTo>
                    <a:pt x="70" y="28"/>
                  </a:lnTo>
                  <a:lnTo>
                    <a:pt x="49" y="26"/>
                  </a:lnTo>
                  <a:lnTo>
                    <a:pt x="39" y="24"/>
                  </a:lnTo>
                  <a:lnTo>
                    <a:pt x="30" y="22"/>
                  </a:lnTo>
                  <a:lnTo>
                    <a:pt x="22" y="20"/>
                  </a:lnTo>
                  <a:lnTo>
                    <a:pt x="14" y="17"/>
                  </a:lnTo>
                  <a:lnTo>
                    <a:pt x="9" y="13"/>
                  </a:lnTo>
                  <a:lnTo>
                    <a:pt x="4" y="9"/>
                  </a:lnTo>
                  <a:lnTo>
                    <a:pt x="1" y="5"/>
                  </a:lnTo>
                  <a:lnTo>
                    <a:pt x="0" y="0"/>
                  </a:lnTo>
                  <a:lnTo>
                    <a:pt x="0" y="2126"/>
                  </a:lnTo>
                  <a:lnTo>
                    <a:pt x="12" y="2132"/>
                  </a:lnTo>
                  <a:lnTo>
                    <a:pt x="45" y="2145"/>
                  </a:lnTo>
                  <a:lnTo>
                    <a:pt x="66" y="2153"/>
                  </a:lnTo>
                  <a:lnTo>
                    <a:pt x="90" y="2161"/>
                  </a:lnTo>
                  <a:lnTo>
                    <a:pt x="115" y="2170"/>
                  </a:lnTo>
                  <a:lnTo>
                    <a:pt x="141" y="2177"/>
                  </a:lnTo>
                  <a:lnTo>
                    <a:pt x="169" y="2184"/>
                  </a:lnTo>
                  <a:lnTo>
                    <a:pt x="194" y="2189"/>
                  </a:lnTo>
                  <a:lnTo>
                    <a:pt x="206" y="2191"/>
                  </a:lnTo>
                  <a:lnTo>
                    <a:pt x="218" y="2192"/>
                  </a:lnTo>
                  <a:lnTo>
                    <a:pt x="229" y="2192"/>
                  </a:lnTo>
                  <a:lnTo>
                    <a:pt x="239" y="2192"/>
                  </a:lnTo>
                  <a:lnTo>
                    <a:pt x="249" y="2191"/>
                  </a:lnTo>
                  <a:lnTo>
                    <a:pt x="257" y="2189"/>
                  </a:lnTo>
                  <a:lnTo>
                    <a:pt x="265" y="2186"/>
                  </a:lnTo>
                  <a:lnTo>
                    <a:pt x="272" y="2182"/>
                  </a:lnTo>
                  <a:lnTo>
                    <a:pt x="277" y="2177"/>
                  </a:lnTo>
                  <a:lnTo>
                    <a:pt x="281" y="2171"/>
                  </a:lnTo>
                  <a:lnTo>
                    <a:pt x="284" y="2164"/>
                  </a:lnTo>
                  <a:lnTo>
                    <a:pt x="284" y="2155"/>
                  </a:lnTo>
                  <a:lnTo>
                    <a:pt x="284" y="2127"/>
                  </a:lnTo>
                  <a:lnTo>
                    <a:pt x="284" y="2055"/>
                  </a:lnTo>
                  <a:lnTo>
                    <a:pt x="284" y="1946"/>
                  </a:lnTo>
                  <a:lnTo>
                    <a:pt x="284" y="1808"/>
                  </a:lnTo>
                  <a:lnTo>
                    <a:pt x="284" y="1645"/>
                  </a:lnTo>
                  <a:lnTo>
                    <a:pt x="284" y="1463"/>
                  </a:lnTo>
                  <a:lnTo>
                    <a:pt x="284" y="1271"/>
                  </a:lnTo>
                  <a:lnTo>
                    <a:pt x="284" y="1071"/>
                  </a:lnTo>
                  <a:lnTo>
                    <a:pt x="284" y="872"/>
                  </a:lnTo>
                  <a:lnTo>
                    <a:pt x="284" y="681"/>
                  </a:lnTo>
                  <a:lnTo>
                    <a:pt x="284" y="501"/>
                  </a:lnTo>
                  <a:lnTo>
                    <a:pt x="284" y="341"/>
                  </a:lnTo>
                  <a:lnTo>
                    <a:pt x="284" y="205"/>
                  </a:lnTo>
                  <a:lnTo>
                    <a:pt x="284" y="101"/>
                  </a:lnTo>
                  <a:lnTo>
                    <a:pt x="284" y="33"/>
                  </a:lnTo>
                  <a:lnTo>
                    <a:pt x="284" y="9"/>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2" name="Freeform 243"/>
            <p:cNvSpPr/>
            <p:nvPr/>
          </p:nvSpPr>
          <p:spPr>
            <a:xfrm>
              <a:off x="1028160" y="2393280"/>
              <a:ext cx="19800" cy="188280"/>
            </a:xfrm>
            <a:custGeom>
              <a:avLst/>
              <a:gdLst>
                <a:gd name="textAreaLeft" fmla="*/ 0 w 19800"/>
                <a:gd name="textAreaRight" fmla="*/ 20160 w 19800"/>
                <a:gd name="textAreaTop" fmla="*/ 0 h 188280"/>
                <a:gd name="textAreaBottom" fmla="*/ 188640 h 188280"/>
              </a:gdLst>
              <a:ahLst/>
              <a:rect l="textAreaLeft" t="textAreaTop" r="textAreaRight" b="textAreaBottom"/>
              <a:pathLst>
                <a:path w="232" h="2324">
                  <a:moveTo>
                    <a:pt x="232" y="148"/>
                  </a:moveTo>
                  <a:lnTo>
                    <a:pt x="232" y="2323"/>
                  </a:lnTo>
                  <a:lnTo>
                    <a:pt x="222" y="2324"/>
                  </a:lnTo>
                  <a:lnTo>
                    <a:pt x="193" y="2323"/>
                  </a:lnTo>
                  <a:lnTo>
                    <a:pt x="174" y="2322"/>
                  </a:lnTo>
                  <a:lnTo>
                    <a:pt x="153" y="2319"/>
                  </a:lnTo>
                  <a:lnTo>
                    <a:pt x="131" y="2315"/>
                  </a:lnTo>
                  <a:lnTo>
                    <a:pt x="109" y="2309"/>
                  </a:lnTo>
                  <a:lnTo>
                    <a:pt x="98" y="2305"/>
                  </a:lnTo>
                  <a:lnTo>
                    <a:pt x="87" y="2299"/>
                  </a:lnTo>
                  <a:lnTo>
                    <a:pt x="76" y="2294"/>
                  </a:lnTo>
                  <a:lnTo>
                    <a:pt x="66" y="2288"/>
                  </a:lnTo>
                  <a:lnTo>
                    <a:pt x="56" y="2281"/>
                  </a:lnTo>
                  <a:lnTo>
                    <a:pt x="46" y="2274"/>
                  </a:lnTo>
                  <a:lnTo>
                    <a:pt x="37" y="2266"/>
                  </a:lnTo>
                  <a:lnTo>
                    <a:pt x="30" y="2257"/>
                  </a:lnTo>
                  <a:lnTo>
                    <a:pt x="23" y="2247"/>
                  </a:lnTo>
                  <a:lnTo>
                    <a:pt x="17" y="2236"/>
                  </a:lnTo>
                  <a:lnTo>
                    <a:pt x="12" y="2224"/>
                  </a:lnTo>
                  <a:lnTo>
                    <a:pt x="8" y="2211"/>
                  </a:lnTo>
                  <a:lnTo>
                    <a:pt x="6" y="2197"/>
                  </a:lnTo>
                  <a:lnTo>
                    <a:pt x="5" y="2180"/>
                  </a:lnTo>
                  <a:lnTo>
                    <a:pt x="5" y="2164"/>
                  </a:lnTo>
                  <a:lnTo>
                    <a:pt x="7" y="2146"/>
                  </a:lnTo>
                  <a:lnTo>
                    <a:pt x="7" y="0"/>
                  </a:lnTo>
                  <a:lnTo>
                    <a:pt x="5" y="8"/>
                  </a:lnTo>
                  <a:lnTo>
                    <a:pt x="1" y="29"/>
                  </a:lnTo>
                  <a:lnTo>
                    <a:pt x="0" y="43"/>
                  </a:lnTo>
                  <a:lnTo>
                    <a:pt x="1" y="58"/>
                  </a:lnTo>
                  <a:lnTo>
                    <a:pt x="2" y="65"/>
                  </a:lnTo>
                  <a:lnTo>
                    <a:pt x="4" y="73"/>
                  </a:lnTo>
                  <a:lnTo>
                    <a:pt x="6" y="81"/>
                  </a:lnTo>
                  <a:lnTo>
                    <a:pt x="9" y="89"/>
                  </a:lnTo>
                  <a:lnTo>
                    <a:pt x="13" y="96"/>
                  </a:lnTo>
                  <a:lnTo>
                    <a:pt x="18" y="104"/>
                  </a:lnTo>
                  <a:lnTo>
                    <a:pt x="24" y="111"/>
                  </a:lnTo>
                  <a:lnTo>
                    <a:pt x="32" y="118"/>
                  </a:lnTo>
                  <a:lnTo>
                    <a:pt x="40" y="124"/>
                  </a:lnTo>
                  <a:lnTo>
                    <a:pt x="49" y="130"/>
                  </a:lnTo>
                  <a:lnTo>
                    <a:pt x="61" y="136"/>
                  </a:lnTo>
                  <a:lnTo>
                    <a:pt x="74" y="141"/>
                  </a:lnTo>
                  <a:lnTo>
                    <a:pt x="87" y="145"/>
                  </a:lnTo>
                  <a:lnTo>
                    <a:pt x="103" y="149"/>
                  </a:lnTo>
                  <a:lnTo>
                    <a:pt x="119" y="151"/>
                  </a:lnTo>
                  <a:lnTo>
                    <a:pt x="138" y="153"/>
                  </a:lnTo>
                  <a:lnTo>
                    <a:pt x="159" y="153"/>
                  </a:lnTo>
                  <a:lnTo>
                    <a:pt x="182" y="153"/>
                  </a:lnTo>
                  <a:lnTo>
                    <a:pt x="206" y="151"/>
                  </a:lnTo>
                  <a:lnTo>
                    <a:pt x="232" y="14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3" name="Freeform 244"/>
            <p:cNvSpPr/>
            <p:nvPr/>
          </p:nvSpPr>
          <p:spPr>
            <a:xfrm>
              <a:off x="1028160" y="2393280"/>
              <a:ext cx="19800" cy="188280"/>
            </a:xfrm>
            <a:custGeom>
              <a:avLst/>
              <a:gdLst>
                <a:gd name="textAreaLeft" fmla="*/ 0 w 19800"/>
                <a:gd name="textAreaRight" fmla="*/ 20160 w 19800"/>
                <a:gd name="textAreaTop" fmla="*/ 0 h 188280"/>
                <a:gd name="textAreaBottom" fmla="*/ 188640 h 188280"/>
              </a:gdLst>
              <a:ahLst/>
              <a:rect l="textAreaLeft" t="textAreaTop" r="textAreaRight" b="textAreaBottom"/>
              <a:pathLst>
                <a:path w="232" h="2324">
                  <a:moveTo>
                    <a:pt x="232" y="148"/>
                  </a:moveTo>
                  <a:lnTo>
                    <a:pt x="232" y="2323"/>
                  </a:lnTo>
                  <a:lnTo>
                    <a:pt x="222" y="2324"/>
                  </a:lnTo>
                  <a:lnTo>
                    <a:pt x="193" y="2323"/>
                  </a:lnTo>
                  <a:lnTo>
                    <a:pt x="174" y="2322"/>
                  </a:lnTo>
                  <a:lnTo>
                    <a:pt x="153" y="2319"/>
                  </a:lnTo>
                  <a:lnTo>
                    <a:pt x="131" y="2315"/>
                  </a:lnTo>
                  <a:lnTo>
                    <a:pt x="109" y="2309"/>
                  </a:lnTo>
                  <a:lnTo>
                    <a:pt x="98" y="2305"/>
                  </a:lnTo>
                  <a:lnTo>
                    <a:pt x="87" y="2299"/>
                  </a:lnTo>
                  <a:lnTo>
                    <a:pt x="76" y="2294"/>
                  </a:lnTo>
                  <a:lnTo>
                    <a:pt x="66" y="2288"/>
                  </a:lnTo>
                  <a:lnTo>
                    <a:pt x="56" y="2281"/>
                  </a:lnTo>
                  <a:lnTo>
                    <a:pt x="46" y="2274"/>
                  </a:lnTo>
                  <a:lnTo>
                    <a:pt x="37" y="2266"/>
                  </a:lnTo>
                  <a:lnTo>
                    <a:pt x="30" y="2257"/>
                  </a:lnTo>
                  <a:lnTo>
                    <a:pt x="23" y="2247"/>
                  </a:lnTo>
                  <a:lnTo>
                    <a:pt x="17" y="2236"/>
                  </a:lnTo>
                  <a:lnTo>
                    <a:pt x="12" y="2224"/>
                  </a:lnTo>
                  <a:lnTo>
                    <a:pt x="8" y="2211"/>
                  </a:lnTo>
                  <a:lnTo>
                    <a:pt x="6" y="2197"/>
                  </a:lnTo>
                  <a:lnTo>
                    <a:pt x="5" y="2180"/>
                  </a:lnTo>
                  <a:lnTo>
                    <a:pt x="5" y="2164"/>
                  </a:lnTo>
                  <a:lnTo>
                    <a:pt x="7" y="2146"/>
                  </a:lnTo>
                  <a:lnTo>
                    <a:pt x="7" y="0"/>
                  </a:lnTo>
                  <a:lnTo>
                    <a:pt x="5" y="8"/>
                  </a:lnTo>
                  <a:lnTo>
                    <a:pt x="1" y="29"/>
                  </a:lnTo>
                  <a:lnTo>
                    <a:pt x="0" y="43"/>
                  </a:lnTo>
                  <a:lnTo>
                    <a:pt x="1" y="58"/>
                  </a:lnTo>
                  <a:lnTo>
                    <a:pt x="2" y="65"/>
                  </a:lnTo>
                  <a:lnTo>
                    <a:pt x="4" y="73"/>
                  </a:lnTo>
                  <a:lnTo>
                    <a:pt x="6" y="81"/>
                  </a:lnTo>
                  <a:lnTo>
                    <a:pt x="9" y="89"/>
                  </a:lnTo>
                  <a:lnTo>
                    <a:pt x="13" y="96"/>
                  </a:lnTo>
                  <a:lnTo>
                    <a:pt x="18" y="104"/>
                  </a:lnTo>
                  <a:lnTo>
                    <a:pt x="24" y="111"/>
                  </a:lnTo>
                  <a:lnTo>
                    <a:pt x="32" y="118"/>
                  </a:lnTo>
                  <a:lnTo>
                    <a:pt x="40" y="124"/>
                  </a:lnTo>
                  <a:lnTo>
                    <a:pt x="49" y="130"/>
                  </a:lnTo>
                  <a:lnTo>
                    <a:pt x="61" y="136"/>
                  </a:lnTo>
                  <a:lnTo>
                    <a:pt x="74" y="141"/>
                  </a:lnTo>
                  <a:lnTo>
                    <a:pt x="87" y="145"/>
                  </a:lnTo>
                  <a:lnTo>
                    <a:pt x="103" y="149"/>
                  </a:lnTo>
                  <a:lnTo>
                    <a:pt x="119" y="151"/>
                  </a:lnTo>
                  <a:lnTo>
                    <a:pt x="138" y="153"/>
                  </a:lnTo>
                  <a:lnTo>
                    <a:pt x="159" y="153"/>
                  </a:lnTo>
                  <a:lnTo>
                    <a:pt x="182" y="153"/>
                  </a:lnTo>
                  <a:lnTo>
                    <a:pt x="206" y="151"/>
                  </a:lnTo>
                  <a:lnTo>
                    <a:pt x="232" y="148"/>
                  </a:lnTo>
                  <a:close/>
                </a:path>
              </a:pathLst>
            </a:custGeom>
            <a:solidFill>
              <a:srgbClr val="93d5ed"/>
            </a:solidFill>
            <a:ln w="324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4" name="Freeform 245"/>
            <p:cNvSpPr/>
            <p:nvPr/>
          </p:nvSpPr>
          <p:spPr>
            <a:xfrm>
              <a:off x="949320" y="2415960"/>
              <a:ext cx="8280" cy="192960"/>
            </a:xfrm>
            <a:custGeom>
              <a:avLst/>
              <a:gdLst>
                <a:gd name="textAreaLeft" fmla="*/ 0 w 8280"/>
                <a:gd name="textAreaRight" fmla="*/ 8640 w 8280"/>
                <a:gd name="textAreaTop" fmla="*/ 0 h 192960"/>
                <a:gd name="textAreaBottom" fmla="*/ 193320 h 192960"/>
              </a:gdLst>
              <a:ahLst/>
              <a:rect l="textAreaLeft" t="textAreaTop" r="textAreaRight" b="textAreaBottom"/>
              <a:pathLst>
                <a:path w="112" h="2381">
                  <a:moveTo>
                    <a:pt x="0" y="225"/>
                  </a:moveTo>
                  <a:lnTo>
                    <a:pt x="6" y="222"/>
                  </a:lnTo>
                  <a:lnTo>
                    <a:pt x="21" y="212"/>
                  </a:lnTo>
                  <a:lnTo>
                    <a:pt x="31" y="204"/>
                  </a:lnTo>
                  <a:lnTo>
                    <a:pt x="42" y="195"/>
                  </a:lnTo>
                  <a:lnTo>
                    <a:pt x="53" y="184"/>
                  </a:lnTo>
                  <a:lnTo>
                    <a:pt x="66" y="171"/>
                  </a:lnTo>
                  <a:lnTo>
                    <a:pt x="77" y="157"/>
                  </a:lnTo>
                  <a:lnTo>
                    <a:pt x="87" y="140"/>
                  </a:lnTo>
                  <a:lnTo>
                    <a:pt x="92" y="131"/>
                  </a:lnTo>
                  <a:lnTo>
                    <a:pt x="96" y="122"/>
                  </a:lnTo>
                  <a:lnTo>
                    <a:pt x="100" y="112"/>
                  </a:lnTo>
                  <a:lnTo>
                    <a:pt x="104" y="101"/>
                  </a:lnTo>
                  <a:lnTo>
                    <a:pt x="107" y="90"/>
                  </a:lnTo>
                  <a:lnTo>
                    <a:pt x="109" y="79"/>
                  </a:lnTo>
                  <a:lnTo>
                    <a:pt x="111" y="67"/>
                  </a:lnTo>
                  <a:lnTo>
                    <a:pt x="112" y="55"/>
                  </a:lnTo>
                  <a:lnTo>
                    <a:pt x="112" y="42"/>
                  </a:lnTo>
                  <a:lnTo>
                    <a:pt x="112" y="28"/>
                  </a:lnTo>
                  <a:lnTo>
                    <a:pt x="110" y="15"/>
                  </a:lnTo>
                  <a:lnTo>
                    <a:pt x="108" y="0"/>
                  </a:lnTo>
                  <a:lnTo>
                    <a:pt x="98" y="2224"/>
                  </a:lnTo>
                  <a:lnTo>
                    <a:pt x="99" y="2228"/>
                  </a:lnTo>
                  <a:lnTo>
                    <a:pt x="98" y="2238"/>
                  </a:lnTo>
                  <a:lnTo>
                    <a:pt x="97" y="2245"/>
                  </a:lnTo>
                  <a:lnTo>
                    <a:pt x="96" y="2253"/>
                  </a:lnTo>
                  <a:lnTo>
                    <a:pt x="93" y="2262"/>
                  </a:lnTo>
                  <a:lnTo>
                    <a:pt x="90" y="2274"/>
                  </a:lnTo>
                  <a:lnTo>
                    <a:pt x="85" y="2285"/>
                  </a:lnTo>
                  <a:lnTo>
                    <a:pt x="79" y="2297"/>
                  </a:lnTo>
                  <a:lnTo>
                    <a:pt x="71" y="2310"/>
                  </a:lnTo>
                  <a:lnTo>
                    <a:pt x="62" y="2324"/>
                  </a:lnTo>
                  <a:lnTo>
                    <a:pt x="49" y="2337"/>
                  </a:lnTo>
                  <a:lnTo>
                    <a:pt x="35" y="2352"/>
                  </a:lnTo>
                  <a:lnTo>
                    <a:pt x="19" y="2366"/>
                  </a:lnTo>
                  <a:lnTo>
                    <a:pt x="0" y="2381"/>
                  </a:lnTo>
                  <a:lnTo>
                    <a:pt x="0" y="22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5" name="Freeform 246"/>
            <p:cNvSpPr/>
            <p:nvPr/>
          </p:nvSpPr>
          <p:spPr>
            <a:xfrm>
              <a:off x="826200" y="2397960"/>
              <a:ext cx="12600" cy="174960"/>
            </a:xfrm>
            <a:custGeom>
              <a:avLst/>
              <a:gdLst>
                <a:gd name="textAreaLeft" fmla="*/ 0 w 12600"/>
                <a:gd name="textAreaRight" fmla="*/ 12960 w 12600"/>
                <a:gd name="textAreaTop" fmla="*/ 0 h 174960"/>
                <a:gd name="textAreaBottom" fmla="*/ 175320 h 174960"/>
              </a:gdLst>
              <a:ahLst/>
              <a:rect l="textAreaLeft" t="textAreaTop" r="textAreaRight" b="textAreaBottom"/>
              <a:pathLst>
                <a:path w="177" h="2156">
                  <a:moveTo>
                    <a:pt x="138" y="108"/>
                  </a:moveTo>
                  <a:lnTo>
                    <a:pt x="140" y="101"/>
                  </a:lnTo>
                  <a:lnTo>
                    <a:pt x="145" y="85"/>
                  </a:lnTo>
                  <a:lnTo>
                    <a:pt x="147" y="75"/>
                  </a:lnTo>
                  <a:lnTo>
                    <a:pt x="149" y="63"/>
                  </a:lnTo>
                  <a:lnTo>
                    <a:pt x="148" y="52"/>
                  </a:lnTo>
                  <a:lnTo>
                    <a:pt x="146" y="40"/>
                  </a:lnTo>
                  <a:lnTo>
                    <a:pt x="145" y="35"/>
                  </a:lnTo>
                  <a:lnTo>
                    <a:pt x="142" y="29"/>
                  </a:lnTo>
                  <a:lnTo>
                    <a:pt x="139" y="24"/>
                  </a:lnTo>
                  <a:lnTo>
                    <a:pt x="135" y="19"/>
                  </a:lnTo>
                  <a:lnTo>
                    <a:pt x="129" y="15"/>
                  </a:lnTo>
                  <a:lnTo>
                    <a:pt x="123" y="11"/>
                  </a:lnTo>
                  <a:lnTo>
                    <a:pt x="116" y="7"/>
                  </a:lnTo>
                  <a:lnTo>
                    <a:pt x="108" y="4"/>
                  </a:lnTo>
                  <a:lnTo>
                    <a:pt x="99" y="2"/>
                  </a:lnTo>
                  <a:lnTo>
                    <a:pt x="89" y="1"/>
                  </a:lnTo>
                  <a:lnTo>
                    <a:pt x="78" y="0"/>
                  </a:lnTo>
                  <a:lnTo>
                    <a:pt x="65" y="0"/>
                  </a:lnTo>
                  <a:lnTo>
                    <a:pt x="51" y="1"/>
                  </a:lnTo>
                  <a:lnTo>
                    <a:pt x="36" y="3"/>
                  </a:lnTo>
                  <a:lnTo>
                    <a:pt x="19" y="6"/>
                  </a:lnTo>
                  <a:lnTo>
                    <a:pt x="0" y="10"/>
                  </a:lnTo>
                  <a:lnTo>
                    <a:pt x="0" y="2156"/>
                  </a:lnTo>
                  <a:lnTo>
                    <a:pt x="8" y="2153"/>
                  </a:lnTo>
                  <a:lnTo>
                    <a:pt x="25" y="2145"/>
                  </a:lnTo>
                  <a:lnTo>
                    <a:pt x="37" y="2139"/>
                  </a:lnTo>
                  <a:lnTo>
                    <a:pt x="51" y="2134"/>
                  </a:lnTo>
                  <a:lnTo>
                    <a:pt x="66" y="2130"/>
                  </a:lnTo>
                  <a:lnTo>
                    <a:pt x="81" y="2126"/>
                  </a:lnTo>
                  <a:lnTo>
                    <a:pt x="97" y="2123"/>
                  </a:lnTo>
                  <a:lnTo>
                    <a:pt x="112" y="2121"/>
                  </a:lnTo>
                  <a:lnTo>
                    <a:pt x="127" y="2121"/>
                  </a:lnTo>
                  <a:lnTo>
                    <a:pt x="141" y="2122"/>
                  </a:lnTo>
                  <a:lnTo>
                    <a:pt x="148" y="2124"/>
                  </a:lnTo>
                  <a:lnTo>
                    <a:pt x="153" y="2126"/>
                  </a:lnTo>
                  <a:lnTo>
                    <a:pt x="159" y="2129"/>
                  </a:lnTo>
                  <a:lnTo>
                    <a:pt x="164" y="2133"/>
                  </a:lnTo>
                  <a:lnTo>
                    <a:pt x="168" y="2137"/>
                  </a:lnTo>
                  <a:lnTo>
                    <a:pt x="172" y="2143"/>
                  </a:lnTo>
                  <a:lnTo>
                    <a:pt x="175" y="2149"/>
                  </a:lnTo>
                  <a:lnTo>
                    <a:pt x="177" y="2156"/>
                  </a:lnTo>
                  <a:lnTo>
                    <a:pt x="138" y="10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6" name="Freeform 247"/>
            <p:cNvSpPr/>
            <p:nvPr/>
          </p:nvSpPr>
          <p:spPr>
            <a:xfrm>
              <a:off x="731520" y="2415960"/>
              <a:ext cx="35280" cy="183960"/>
            </a:xfrm>
            <a:custGeom>
              <a:avLst/>
              <a:gdLst>
                <a:gd name="textAreaLeft" fmla="*/ 0 w 35280"/>
                <a:gd name="textAreaRight" fmla="*/ 35640 w 35280"/>
                <a:gd name="textAreaTop" fmla="*/ 0 h 183960"/>
                <a:gd name="textAreaBottom" fmla="*/ 184320 h 183960"/>
              </a:gdLst>
              <a:ahLst/>
              <a:rect l="textAreaLeft" t="textAreaTop" r="textAreaRight" b="textAreaBottom"/>
              <a:pathLst>
                <a:path w="461" h="2287">
                  <a:moveTo>
                    <a:pt x="461" y="127"/>
                  </a:moveTo>
                  <a:lnTo>
                    <a:pt x="440" y="130"/>
                  </a:lnTo>
                  <a:lnTo>
                    <a:pt x="389" y="138"/>
                  </a:lnTo>
                  <a:lnTo>
                    <a:pt x="354" y="142"/>
                  </a:lnTo>
                  <a:lnTo>
                    <a:pt x="314" y="145"/>
                  </a:lnTo>
                  <a:lnTo>
                    <a:pt x="294" y="145"/>
                  </a:lnTo>
                  <a:lnTo>
                    <a:pt x="273" y="146"/>
                  </a:lnTo>
                  <a:lnTo>
                    <a:pt x="252" y="146"/>
                  </a:lnTo>
                  <a:lnTo>
                    <a:pt x="231" y="145"/>
                  </a:lnTo>
                  <a:lnTo>
                    <a:pt x="209" y="144"/>
                  </a:lnTo>
                  <a:lnTo>
                    <a:pt x="187" y="142"/>
                  </a:lnTo>
                  <a:lnTo>
                    <a:pt x="166" y="139"/>
                  </a:lnTo>
                  <a:lnTo>
                    <a:pt x="146" y="136"/>
                  </a:lnTo>
                  <a:lnTo>
                    <a:pt x="126" y="130"/>
                  </a:lnTo>
                  <a:lnTo>
                    <a:pt x="107" y="125"/>
                  </a:lnTo>
                  <a:lnTo>
                    <a:pt x="89" y="118"/>
                  </a:lnTo>
                  <a:lnTo>
                    <a:pt x="73" y="111"/>
                  </a:lnTo>
                  <a:lnTo>
                    <a:pt x="56" y="102"/>
                  </a:lnTo>
                  <a:lnTo>
                    <a:pt x="42" y="92"/>
                  </a:lnTo>
                  <a:lnTo>
                    <a:pt x="30" y="80"/>
                  </a:lnTo>
                  <a:lnTo>
                    <a:pt x="20" y="68"/>
                  </a:lnTo>
                  <a:lnTo>
                    <a:pt x="12" y="53"/>
                  </a:lnTo>
                  <a:lnTo>
                    <a:pt x="5" y="37"/>
                  </a:lnTo>
                  <a:lnTo>
                    <a:pt x="2" y="20"/>
                  </a:lnTo>
                  <a:lnTo>
                    <a:pt x="0" y="0"/>
                  </a:lnTo>
                  <a:lnTo>
                    <a:pt x="0" y="2117"/>
                  </a:lnTo>
                  <a:lnTo>
                    <a:pt x="5" y="2126"/>
                  </a:lnTo>
                  <a:lnTo>
                    <a:pt x="21" y="2151"/>
                  </a:lnTo>
                  <a:lnTo>
                    <a:pt x="34" y="2168"/>
                  </a:lnTo>
                  <a:lnTo>
                    <a:pt x="50" y="2185"/>
                  </a:lnTo>
                  <a:lnTo>
                    <a:pt x="59" y="2194"/>
                  </a:lnTo>
                  <a:lnTo>
                    <a:pt x="71" y="2203"/>
                  </a:lnTo>
                  <a:lnTo>
                    <a:pt x="82" y="2212"/>
                  </a:lnTo>
                  <a:lnTo>
                    <a:pt x="95" y="2221"/>
                  </a:lnTo>
                  <a:lnTo>
                    <a:pt x="108" y="2230"/>
                  </a:lnTo>
                  <a:lnTo>
                    <a:pt x="123" y="2238"/>
                  </a:lnTo>
                  <a:lnTo>
                    <a:pt x="139" y="2246"/>
                  </a:lnTo>
                  <a:lnTo>
                    <a:pt x="155" y="2254"/>
                  </a:lnTo>
                  <a:lnTo>
                    <a:pt x="173" y="2261"/>
                  </a:lnTo>
                  <a:lnTo>
                    <a:pt x="193" y="2267"/>
                  </a:lnTo>
                  <a:lnTo>
                    <a:pt x="214" y="2273"/>
                  </a:lnTo>
                  <a:lnTo>
                    <a:pt x="236" y="2278"/>
                  </a:lnTo>
                  <a:lnTo>
                    <a:pt x="259" y="2282"/>
                  </a:lnTo>
                  <a:lnTo>
                    <a:pt x="283" y="2284"/>
                  </a:lnTo>
                  <a:lnTo>
                    <a:pt x="309" y="2287"/>
                  </a:lnTo>
                  <a:lnTo>
                    <a:pt x="337" y="2287"/>
                  </a:lnTo>
                  <a:lnTo>
                    <a:pt x="366" y="2286"/>
                  </a:lnTo>
                  <a:lnTo>
                    <a:pt x="396" y="2283"/>
                  </a:lnTo>
                  <a:lnTo>
                    <a:pt x="427" y="2279"/>
                  </a:lnTo>
                  <a:lnTo>
                    <a:pt x="461" y="2273"/>
                  </a:lnTo>
                  <a:lnTo>
                    <a:pt x="461" y="127"/>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7" name="Freeform 248"/>
            <p:cNvSpPr/>
            <p:nvPr/>
          </p:nvSpPr>
          <p:spPr>
            <a:xfrm>
              <a:off x="666000" y="2393280"/>
              <a:ext cx="32760" cy="181440"/>
            </a:xfrm>
            <a:custGeom>
              <a:avLst/>
              <a:gdLst>
                <a:gd name="textAreaLeft" fmla="*/ 0 w 32760"/>
                <a:gd name="textAreaRight" fmla="*/ 33120 w 32760"/>
                <a:gd name="textAreaTop" fmla="*/ 0 h 181440"/>
                <a:gd name="textAreaBottom" fmla="*/ 181800 h 181440"/>
              </a:gdLst>
              <a:ahLst/>
              <a:rect l="textAreaLeft" t="textAreaTop" r="textAreaRight" b="textAreaBottom"/>
              <a:pathLst>
                <a:path w="431" h="2221">
                  <a:moveTo>
                    <a:pt x="431" y="50"/>
                  </a:moveTo>
                  <a:lnTo>
                    <a:pt x="414" y="54"/>
                  </a:lnTo>
                  <a:lnTo>
                    <a:pt x="369" y="64"/>
                  </a:lnTo>
                  <a:lnTo>
                    <a:pt x="339" y="70"/>
                  </a:lnTo>
                  <a:lnTo>
                    <a:pt x="305" y="75"/>
                  </a:lnTo>
                  <a:lnTo>
                    <a:pt x="268" y="80"/>
                  </a:lnTo>
                  <a:lnTo>
                    <a:pt x="230" y="84"/>
                  </a:lnTo>
                  <a:lnTo>
                    <a:pt x="211" y="85"/>
                  </a:lnTo>
                  <a:lnTo>
                    <a:pt x="192" y="86"/>
                  </a:lnTo>
                  <a:lnTo>
                    <a:pt x="173" y="86"/>
                  </a:lnTo>
                  <a:lnTo>
                    <a:pt x="153" y="85"/>
                  </a:lnTo>
                  <a:lnTo>
                    <a:pt x="135" y="84"/>
                  </a:lnTo>
                  <a:lnTo>
                    <a:pt x="117" y="81"/>
                  </a:lnTo>
                  <a:lnTo>
                    <a:pt x="100" y="78"/>
                  </a:lnTo>
                  <a:lnTo>
                    <a:pt x="84" y="74"/>
                  </a:lnTo>
                  <a:lnTo>
                    <a:pt x="69" y="69"/>
                  </a:lnTo>
                  <a:lnTo>
                    <a:pt x="54" y="63"/>
                  </a:lnTo>
                  <a:lnTo>
                    <a:pt x="41" y="56"/>
                  </a:lnTo>
                  <a:lnTo>
                    <a:pt x="30" y="48"/>
                  </a:lnTo>
                  <a:lnTo>
                    <a:pt x="19" y="38"/>
                  </a:lnTo>
                  <a:lnTo>
                    <a:pt x="11" y="26"/>
                  </a:lnTo>
                  <a:lnTo>
                    <a:pt x="4" y="14"/>
                  </a:lnTo>
                  <a:lnTo>
                    <a:pt x="0" y="0"/>
                  </a:lnTo>
                  <a:lnTo>
                    <a:pt x="0" y="2156"/>
                  </a:lnTo>
                  <a:lnTo>
                    <a:pt x="8" y="2162"/>
                  </a:lnTo>
                  <a:lnTo>
                    <a:pt x="32" y="2175"/>
                  </a:lnTo>
                  <a:lnTo>
                    <a:pt x="49" y="2185"/>
                  </a:lnTo>
                  <a:lnTo>
                    <a:pt x="69" y="2194"/>
                  </a:lnTo>
                  <a:lnTo>
                    <a:pt x="93" y="2202"/>
                  </a:lnTo>
                  <a:lnTo>
                    <a:pt x="120" y="2209"/>
                  </a:lnTo>
                  <a:lnTo>
                    <a:pt x="134" y="2213"/>
                  </a:lnTo>
                  <a:lnTo>
                    <a:pt x="149" y="2215"/>
                  </a:lnTo>
                  <a:lnTo>
                    <a:pt x="166" y="2218"/>
                  </a:lnTo>
                  <a:lnTo>
                    <a:pt x="183" y="2219"/>
                  </a:lnTo>
                  <a:lnTo>
                    <a:pt x="200" y="2220"/>
                  </a:lnTo>
                  <a:lnTo>
                    <a:pt x="218" y="2221"/>
                  </a:lnTo>
                  <a:lnTo>
                    <a:pt x="236" y="2220"/>
                  </a:lnTo>
                  <a:lnTo>
                    <a:pt x="256" y="2219"/>
                  </a:lnTo>
                  <a:lnTo>
                    <a:pt x="275" y="2216"/>
                  </a:lnTo>
                  <a:lnTo>
                    <a:pt x="297" y="2213"/>
                  </a:lnTo>
                  <a:lnTo>
                    <a:pt x="318" y="2208"/>
                  </a:lnTo>
                  <a:lnTo>
                    <a:pt x="339" y="2203"/>
                  </a:lnTo>
                  <a:lnTo>
                    <a:pt x="361" y="2196"/>
                  </a:lnTo>
                  <a:lnTo>
                    <a:pt x="384" y="2188"/>
                  </a:lnTo>
                  <a:lnTo>
                    <a:pt x="408" y="2177"/>
                  </a:lnTo>
                  <a:lnTo>
                    <a:pt x="431" y="2166"/>
                  </a:lnTo>
                  <a:lnTo>
                    <a:pt x="431" y="5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8" name="Freeform 249"/>
            <p:cNvSpPr/>
            <p:nvPr/>
          </p:nvSpPr>
          <p:spPr>
            <a:xfrm>
              <a:off x="573120" y="2268720"/>
              <a:ext cx="41760" cy="190440"/>
            </a:xfrm>
            <a:custGeom>
              <a:avLst/>
              <a:gdLst>
                <a:gd name="textAreaLeft" fmla="*/ 0 w 41760"/>
                <a:gd name="textAreaRight" fmla="*/ 42120 w 41760"/>
                <a:gd name="textAreaTop" fmla="*/ 0 h 190440"/>
                <a:gd name="textAreaBottom" fmla="*/ 190800 h 190440"/>
              </a:gdLst>
              <a:ahLst/>
              <a:rect l="textAreaLeft" t="textAreaTop" r="textAreaRight" b="textAreaBottom"/>
              <a:pathLst>
                <a:path w="519" h="2362">
                  <a:moveTo>
                    <a:pt x="519" y="216"/>
                  </a:moveTo>
                  <a:lnTo>
                    <a:pt x="519" y="2362"/>
                  </a:lnTo>
                  <a:lnTo>
                    <a:pt x="0" y="2146"/>
                  </a:lnTo>
                  <a:lnTo>
                    <a:pt x="0" y="0"/>
                  </a:lnTo>
                  <a:lnTo>
                    <a:pt x="519" y="21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29" name="Freeform 250"/>
            <p:cNvSpPr/>
            <p:nvPr/>
          </p:nvSpPr>
          <p:spPr>
            <a:xfrm>
              <a:off x="817200" y="2107800"/>
              <a:ext cx="8640" cy="201600"/>
            </a:xfrm>
            <a:custGeom>
              <a:avLst/>
              <a:gdLst>
                <a:gd name="textAreaLeft" fmla="*/ 0 w 8640"/>
                <a:gd name="textAreaRight" fmla="*/ 8640 w 8640"/>
                <a:gd name="textAreaTop" fmla="*/ 0 h 201600"/>
                <a:gd name="textAreaBottom" fmla="*/ 201960 h 201600"/>
              </a:gdLst>
              <a:ahLst/>
              <a:rect l="textAreaLeft" t="textAreaTop" r="textAreaRight" b="textAreaBottom"/>
              <a:pathLst>
                <a:path w="97" h="2499">
                  <a:moveTo>
                    <a:pt x="97" y="274"/>
                  </a:moveTo>
                  <a:lnTo>
                    <a:pt x="97" y="2499"/>
                  </a:lnTo>
                  <a:lnTo>
                    <a:pt x="0" y="2215"/>
                  </a:lnTo>
                  <a:lnTo>
                    <a:pt x="0" y="0"/>
                  </a:lnTo>
                  <a:lnTo>
                    <a:pt x="97" y="274"/>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0" name="Freeform 251"/>
            <p:cNvSpPr/>
            <p:nvPr/>
          </p:nvSpPr>
          <p:spPr>
            <a:xfrm>
              <a:off x="1665720" y="2618280"/>
              <a:ext cx="52560" cy="251640"/>
            </a:xfrm>
            <a:custGeom>
              <a:avLst/>
              <a:gdLst>
                <a:gd name="textAreaLeft" fmla="*/ 0 w 52560"/>
                <a:gd name="textAreaRight" fmla="*/ 52920 w 52560"/>
                <a:gd name="textAreaTop" fmla="*/ 0 h 251640"/>
                <a:gd name="textAreaBottom" fmla="*/ 252000 h 251640"/>
              </a:gdLst>
              <a:ahLst/>
              <a:rect l="textAreaLeft" t="textAreaTop" r="textAreaRight" b="textAreaBottom"/>
              <a:pathLst>
                <a:path w="686" h="3106">
                  <a:moveTo>
                    <a:pt x="677" y="0"/>
                  </a:moveTo>
                  <a:lnTo>
                    <a:pt x="676" y="3"/>
                  </a:lnTo>
                  <a:lnTo>
                    <a:pt x="674" y="12"/>
                  </a:lnTo>
                  <a:lnTo>
                    <a:pt x="669" y="29"/>
                  </a:lnTo>
                  <a:lnTo>
                    <a:pt x="661" y="51"/>
                  </a:lnTo>
                  <a:lnTo>
                    <a:pt x="647" y="81"/>
                  </a:lnTo>
                  <a:lnTo>
                    <a:pt x="630" y="117"/>
                  </a:lnTo>
                  <a:lnTo>
                    <a:pt x="619" y="140"/>
                  </a:lnTo>
                  <a:lnTo>
                    <a:pt x="607" y="163"/>
                  </a:lnTo>
                  <a:lnTo>
                    <a:pt x="593" y="188"/>
                  </a:lnTo>
                  <a:lnTo>
                    <a:pt x="577" y="215"/>
                  </a:lnTo>
                  <a:lnTo>
                    <a:pt x="560" y="245"/>
                  </a:lnTo>
                  <a:lnTo>
                    <a:pt x="540" y="277"/>
                  </a:lnTo>
                  <a:lnTo>
                    <a:pt x="517" y="311"/>
                  </a:lnTo>
                  <a:lnTo>
                    <a:pt x="494" y="346"/>
                  </a:lnTo>
                  <a:lnTo>
                    <a:pt x="468" y="385"/>
                  </a:lnTo>
                  <a:lnTo>
                    <a:pt x="439" y="425"/>
                  </a:lnTo>
                  <a:lnTo>
                    <a:pt x="409" y="467"/>
                  </a:lnTo>
                  <a:lnTo>
                    <a:pt x="374" y="513"/>
                  </a:lnTo>
                  <a:lnTo>
                    <a:pt x="338" y="560"/>
                  </a:lnTo>
                  <a:lnTo>
                    <a:pt x="299" y="609"/>
                  </a:lnTo>
                  <a:lnTo>
                    <a:pt x="257" y="662"/>
                  </a:lnTo>
                  <a:lnTo>
                    <a:pt x="212" y="716"/>
                  </a:lnTo>
                  <a:lnTo>
                    <a:pt x="165" y="774"/>
                  </a:lnTo>
                  <a:lnTo>
                    <a:pt x="113" y="833"/>
                  </a:lnTo>
                  <a:lnTo>
                    <a:pt x="59" y="896"/>
                  </a:lnTo>
                  <a:lnTo>
                    <a:pt x="0" y="960"/>
                  </a:lnTo>
                  <a:lnTo>
                    <a:pt x="10" y="3106"/>
                  </a:lnTo>
                  <a:lnTo>
                    <a:pt x="17" y="3099"/>
                  </a:lnTo>
                  <a:lnTo>
                    <a:pt x="40" y="3077"/>
                  </a:lnTo>
                  <a:lnTo>
                    <a:pt x="73" y="3043"/>
                  </a:lnTo>
                  <a:lnTo>
                    <a:pt x="116" y="2997"/>
                  </a:lnTo>
                  <a:lnTo>
                    <a:pt x="167" y="2943"/>
                  </a:lnTo>
                  <a:lnTo>
                    <a:pt x="224" y="2880"/>
                  </a:lnTo>
                  <a:lnTo>
                    <a:pt x="285" y="2811"/>
                  </a:lnTo>
                  <a:lnTo>
                    <a:pt x="348" y="2736"/>
                  </a:lnTo>
                  <a:lnTo>
                    <a:pt x="379" y="2698"/>
                  </a:lnTo>
                  <a:lnTo>
                    <a:pt x="412" y="2659"/>
                  </a:lnTo>
                  <a:lnTo>
                    <a:pt x="442" y="2619"/>
                  </a:lnTo>
                  <a:lnTo>
                    <a:pt x="472" y="2579"/>
                  </a:lnTo>
                  <a:lnTo>
                    <a:pt x="501" y="2540"/>
                  </a:lnTo>
                  <a:lnTo>
                    <a:pt x="530" y="2499"/>
                  </a:lnTo>
                  <a:lnTo>
                    <a:pt x="556" y="2460"/>
                  </a:lnTo>
                  <a:lnTo>
                    <a:pt x="581" y="2421"/>
                  </a:lnTo>
                  <a:lnTo>
                    <a:pt x="603" y="2381"/>
                  </a:lnTo>
                  <a:lnTo>
                    <a:pt x="623" y="2344"/>
                  </a:lnTo>
                  <a:lnTo>
                    <a:pt x="641" y="2308"/>
                  </a:lnTo>
                  <a:lnTo>
                    <a:pt x="658" y="2271"/>
                  </a:lnTo>
                  <a:lnTo>
                    <a:pt x="670" y="2238"/>
                  </a:lnTo>
                  <a:lnTo>
                    <a:pt x="679" y="2206"/>
                  </a:lnTo>
                  <a:lnTo>
                    <a:pt x="684" y="2175"/>
                  </a:lnTo>
                  <a:lnTo>
                    <a:pt x="686" y="2146"/>
                  </a:lnTo>
                  <a:lnTo>
                    <a:pt x="677"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1" name="Freeform 252"/>
            <p:cNvSpPr/>
            <p:nvPr/>
          </p:nvSpPr>
          <p:spPr>
            <a:xfrm>
              <a:off x="942480" y="2298240"/>
              <a:ext cx="244080" cy="281520"/>
            </a:xfrm>
            <a:custGeom>
              <a:avLst/>
              <a:gdLst>
                <a:gd name="textAreaLeft" fmla="*/ 0 w 244080"/>
                <a:gd name="textAreaRight" fmla="*/ 244440 w 244080"/>
                <a:gd name="textAreaTop" fmla="*/ 0 h 281520"/>
                <a:gd name="textAreaBottom" fmla="*/ 281880 h 281520"/>
              </a:gdLst>
              <a:ahLst/>
              <a:rect l="textAreaLeft" t="textAreaTop" r="textAreaRight" b="textAreaBottom"/>
              <a:pathLst>
                <a:path w="3088" h="3451">
                  <a:moveTo>
                    <a:pt x="3088" y="158"/>
                  </a:moveTo>
                  <a:lnTo>
                    <a:pt x="3088" y="2353"/>
                  </a:lnTo>
                  <a:lnTo>
                    <a:pt x="3087" y="2349"/>
                  </a:lnTo>
                  <a:lnTo>
                    <a:pt x="3086" y="2338"/>
                  </a:lnTo>
                  <a:lnTo>
                    <a:pt x="3084" y="2331"/>
                  </a:lnTo>
                  <a:lnTo>
                    <a:pt x="3081" y="2322"/>
                  </a:lnTo>
                  <a:lnTo>
                    <a:pt x="3077" y="2311"/>
                  </a:lnTo>
                  <a:lnTo>
                    <a:pt x="3072" y="2300"/>
                  </a:lnTo>
                  <a:lnTo>
                    <a:pt x="3066" y="2289"/>
                  </a:lnTo>
                  <a:lnTo>
                    <a:pt x="3057" y="2275"/>
                  </a:lnTo>
                  <a:lnTo>
                    <a:pt x="3047" y="2262"/>
                  </a:lnTo>
                  <a:lnTo>
                    <a:pt x="3034" y="2249"/>
                  </a:lnTo>
                  <a:lnTo>
                    <a:pt x="3020" y="2236"/>
                  </a:lnTo>
                  <a:lnTo>
                    <a:pt x="3004" y="2223"/>
                  </a:lnTo>
                  <a:lnTo>
                    <a:pt x="2985" y="2210"/>
                  </a:lnTo>
                  <a:lnTo>
                    <a:pt x="2963" y="2198"/>
                  </a:lnTo>
                  <a:lnTo>
                    <a:pt x="2938" y="2186"/>
                  </a:lnTo>
                  <a:lnTo>
                    <a:pt x="2909" y="2175"/>
                  </a:lnTo>
                  <a:lnTo>
                    <a:pt x="2878" y="2165"/>
                  </a:lnTo>
                  <a:lnTo>
                    <a:pt x="2844" y="2155"/>
                  </a:lnTo>
                  <a:lnTo>
                    <a:pt x="2805" y="2148"/>
                  </a:lnTo>
                  <a:lnTo>
                    <a:pt x="2763" y="2141"/>
                  </a:lnTo>
                  <a:lnTo>
                    <a:pt x="2717" y="2137"/>
                  </a:lnTo>
                  <a:lnTo>
                    <a:pt x="2666" y="2134"/>
                  </a:lnTo>
                  <a:lnTo>
                    <a:pt x="2611" y="2133"/>
                  </a:lnTo>
                  <a:lnTo>
                    <a:pt x="2552" y="2134"/>
                  </a:lnTo>
                  <a:lnTo>
                    <a:pt x="2487" y="2138"/>
                  </a:lnTo>
                  <a:lnTo>
                    <a:pt x="2419" y="2144"/>
                  </a:lnTo>
                  <a:lnTo>
                    <a:pt x="2344" y="2153"/>
                  </a:lnTo>
                  <a:lnTo>
                    <a:pt x="2264" y="2165"/>
                  </a:lnTo>
                  <a:lnTo>
                    <a:pt x="2179" y="2179"/>
                  </a:lnTo>
                  <a:lnTo>
                    <a:pt x="2088" y="2197"/>
                  </a:lnTo>
                  <a:lnTo>
                    <a:pt x="2082" y="2197"/>
                  </a:lnTo>
                  <a:lnTo>
                    <a:pt x="2062" y="2197"/>
                  </a:lnTo>
                  <a:lnTo>
                    <a:pt x="2032" y="2199"/>
                  </a:lnTo>
                  <a:lnTo>
                    <a:pt x="1991" y="2202"/>
                  </a:lnTo>
                  <a:lnTo>
                    <a:pt x="1942" y="2206"/>
                  </a:lnTo>
                  <a:lnTo>
                    <a:pt x="1887" y="2213"/>
                  </a:lnTo>
                  <a:lnTo>
                    <a:pt x="1857" y="2217"/>
                  </a:lnTo>
                  <a:lnTo>
                    <a:pt x="1827" y="2222"/>
                  </a:lnTo>
                  <a:lnTo>
                    <a:pt x="1795" y="2228"/>
                  </a:lnTo>
                  <a:lnTo>
                    <a:pt x="1762" y="2234"/>
                  </a:lnTo>
                  <a:lnTo>
                    <a:pt x="1730" y="2242"/>
                  </a:lnTo>
                  <a:lnTo>
                    <a:pt x="1697" y="2250"/>
                  </a:lnTo>
                  <a:lnTo>
                    <a:pt x="1664" y="2260"/>
                  </a:lnTo>
                  <a:lnTo>
                    <a:pt x="1630" y="2270"/>
                  </a:lnTo>
                  <a:lnTo>
                    <a:pt x="1597" y="2283"/>
                  </a:lnTo>
                  <a:lnTo>
                    <a:pt x="1565" y="2296"/>
                  </a:lnTo>
                  <a:lnTo>
                    <a:pt x="1533" y="2310"/>
                  </a:lnTo>
                  <a:lnTo>
                    <a:pt x="1501" y="2325"/>
                  </a:lnTo>
                  <a:lnTo>
                    <a:pt x="1471" y="2342"/>
                  </a:lnTo>
                  <a:lnTo>
                    <a:pt x="1443" y="2359"/>
                  </a:lnTo>
                  <a:lnTo>
                    <a:pt x="1415" y="2379"/>
                  </a:lnTo>
                  <a:lnTo>
                    <a:pt x="1389" y="2400"/>
                  </a:lnTo>
                  <a:lnTo>
                    <a:pt x="1365" y="2423"/>
                  </a:lnTo>
                  <a:lnTo>
                    <a:pt x="1343" y="2447"/>
                  </a:lnTo>
                  <a:lnTo>
                    <a:pt x="1323" y="2473"/>
                  </a:lnTo>
                  <a:lnTo>
                    <a:pt x="1305" y="2500"/>
                  </a:lnTo>
                  <a:lnTo>
                    <a:pt x="1283" y="2517"/>
                  </a:lnTo>
                  <a:lnTo>
                    <a:pt x="1223" y="2562"/>
                  </a:lnTo>
                  <a:lnTo>
                    <a:pt x="1136" y="2628"/>
                  </a:lnTo>
                  <a:lnTo>
                    <a:pt x="1035" y="2707"/>
                  </a:lnTo>
                  <a:lnTo>
                    <a:pt x="926" y="2793"/>
                  </a:lnTo>
                  <a:lnTo>
                    <a:pt x="821" y="2876"/>
                  </a:lnTo>
                  <a:lnTo>
                    <a:pt x="774" y="2916"/>
                  </a:lnTo>
                  <a:lnTo>
                    <a:pt x="732" y="2951"/>
                  </a:lnTo>
                  <a:lnTo>
                    <a:pt x="696" y="2983"/>
                  </a:lnTo>
                  <a:lnTo>
                    <a:pt x="668" y="3010"/>
                  </a:lnTo>
                  <a:lnTo>
                    <a:pt x="51" y="3343"/>
                  </a:lnTo>
                  <a:lnTo>
                    <a:pt x="22" y="3451"/>
                  </a:lnTo>
                  <a:lnTo>
                    <a:pt x="22" y="1275"/>
                  </a:lnTo>
                  <a:lnTo>
                    <a:pt x="18" y="1271"/>
                  </a:lnTo>
                  <a:lnTo>
                    <a:pt x="9" y="1260"/>
                  </a:lnTo>
                  <a:lnTo>
                    <a:pt x="5" y="1252"/>
                  </a:lnTo>
                  <a:lnTo>
                    <a:pt x="2" y="1243"/>
                  </a:lnTo>
                  <a:lnTo>
                    <a:pt x="1" y="1238"/>
                  </a:lnTo>
                  <a:lnTo>
                    <a:pt x="0" y="1233"/>
                  </a:lnTo>
                  <a:lnTo>
                    <a:pt x="0" y="1228"/>
                  </a:lnTo>
                  <a:lnTo>
                    <a:pt x="0" y="1223"/>
                  </a:lnTo>
                  <a:lnTo>
                    <a:pt x="1" y="1218"/>
                  </a:lnTo>
                  <a:lnTo>
                    <a:pt x="3" y="1213"/>
                  </a:lnTo>
                  <a:lnTo>
                    <a:pt x="6" y="1207"/>
                  </a:lnTo>
                  <a:lnTo>
                    <a:pt x="9" y="1201"/>
                  </a:lnTo>
                  <a:lnTo>
                    <a:pt x="14" y="1196"/>
                  </a:lnTo>
                  <a:lnTo>
                    <a:pt x="20" y="1190"/>
                  </a:lnTo>
                  <a:lnTo>
                    <a:pt x="26" y="1185"/>
                  </a:lnTo>
                  <a:lnTo>
                    <a:pt x="34" y="1180"/>
                  </a:lnTo>
                  <a:lnTo>
                    <a:pt x="43" y="1175"/>
                  </a:lnTo>
                  <a:lnTo>
                    <a:pt x="54" y="1171"/>
                  </a:lnTo>
                  <a:lnTo>
                    <a:pt x="65" y="1166"/>
                  </a:lnTo>
                  <a:lnTo>
                    <a:pt x="79" y="1162"/>
                  </a:lnTo>
                  <a:lnTo>
                    <a:pt x="93" y="1158"/>
                  </a:lnTo>
                  <a:lnTo>
                    <a:pt x="110" y="1154"/>
                  </a:lnTo>
                  <a:lnTo>
                    <a:pt x="128" y="1151"/>
                  </a:lnTo>
                  <a:lnTo>
                    <a:pt x="149" y="1148"/>
                  </a:lnTo>
                  <a:lnTo>
                    <a:pt x="158" y="1143"/>
                  </a:lnTo>
                  <a:lnTo>
                    <a:pt x="181" y="1129"/>
                  </a:lnTo>
                  <a:lnTo>
                    <a:pt x="219" y="1107"/>
                  </a:lnTo>
                  <a:lnTo>
                    <a:pt x="269" y="1077"/>
                  </a:lnTo>
                  <a:lnTo>
                    <a:pt x="328" y="1043"/>
                  </a:lnTo>
                  <a:lnTo>
                    <a:pt x="397" y="1003"/>
                  </a:lnTo>
                  <a:lnTo>
                    <a:pt x="470" y="957"/>
                  </a:lnTo>
                  <a:lnTo>
                    <a:pt x="549" y="910"/>
                  </a:lnTo>
                  <a:lnTo>
                    <a:pt x="630" y="861"/>
                  </a:lnTo>
                  <a:lnTo>
                    <a:pt x="713" y="810"/>
                  </a:lnTo>
                  <a:lnTo>
                    <a:pt x="794" y="760"/>
                  </a:lnTo>
                  <a:lnTo>
                    <a:pt x="872" y="709"/>
                  </a:lnTo>
                  <a:lnTo>
                    <a:pt x="946" y="662"/>
                  </a:lnTo>
                  <a:lnTo>
                    <a:pt x="1012" y="618"/>
                  </a:lnTo>
                  <a:lnTo>
                    <a:pt x="1043" y="596"/>
                  </a:lnTo>
                  <a:lnTo>
                    <a:pt x="1071" y="576"/>
                  </a:lnTo>
                  <a:lnTo>
                    <a:pt x="1096" y="558"/>
                  </a:lnTo>
                  <a:lnTo>
                    <a:pt x="1118" y="540"/>
                  </a:lnTo>
                  <a:lnTo>
                    <a:pt x="1462" y="178"/>
                  </a:lnTo>
                  <a:lnTo>
                    <a:pt x="1472" y="175"/>
                  </a:lnTo>
                  <a:lnTo>
                    <a:pt x="1501" y="167"/>
                  </a:lnTo>
                  <a:lnTo>
                    <a:pt x="1549" y="155"/>
                  </a:lnTo>
                  <a:lnTo>
                    <a:pt x="1612" y="139"/>
                  </a:lnTo>
                  <a:lnTo>
                    <a:pt x="1689" y="120"/>
                  </a:lnTo>
                  <a:lnTo>
                    <a:pt x="1778" y="100"/>
                  </a:lnTo>
                  <a:lnTo>
                    <a:pt x="1875" y="80"/>
                  </a:lnTo>
                  <a:lnTo>
                    <a:pt x="1982" y="60"/>
                  </a:lnTo>
                  <a:lnTo>
                    <a:pt x="2038" y="51"/>
                  </a:lnTo>
                  <a:lnTo>
                    <a:pt x="2094" y="42"/>
                  </a:lnTo>
                  <a:lnTo>
                    <a:pt x="2152" y="34"/>
                  </a:lnTo>
                  <a:lnTo>
                    <a:pt x="2211" y="26"/>
                  </a:lnTo>
                  <a:lnTo>
                    <a:pt x="2270" y="19"/>
                  </a:lnTo>
                  <a:lnTo>
                    <a:pt x="2330" y="13"/>
                  </a:lnTo>
                  <a:lnTo>
                    <a:pt x="2389" y="9"/>
                  </a:lnTo>
                  <a:lnTo>
                    <a:pt x="2449" y="4"/>
                  </a:lnTo>
                  <a:lnTo>
                    <a:pt x="2508" y="1"/>
                  </a:lnTo>
                  <a:lnTo>
                    <a:pt x="2567" y="0"/>
                  </a:lnTo>
                  <a:lnTo>
                    <a:pt x="2624" y="1"/>
                  </a:lnTo>
                  <a:lnTo>
                    <a:pt x="2681" y="3"/>
                  </a:lnTo>
                  <a:lnTo>
                    <a:pt x="2736" y="7"/>
                  </a:lnTo>
                  <a:lnTo>
                    <a:pt x="2790" y="14"/>
                  </a:lnTo>
                  <a:lnTo>
                    <a:pt x="2842" y="21"/>
                  </a:lnTo>
                  <a:lnTo>
                    <a:pt x="2891" y="31"/>
                  </a:lnTo>
                  <a:lnTo>
                    <a:pt x="3088" y="15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2" name="Freeform 253"/>
            <p:cNvSpPr/>
            <p:nvPr/>
          </p:nvSpPr>
          <p:spPr>
            <a:xfrm>
              <a:off x="1047960" y="2348280"/>
              <a:ext cx="171360" cy="233640"/>
            </a:xfrm>
            <a:custGeom>
              <a:avLst/>
              <a:gdLst>
                <a:gd name="textAreaLeft" fmla="*/ 0 w 171360"/>
                <a:gd name="textAreaRight" fmla="*/ 171720 w 171360"/>
                <a:gd name="textAreaTop" fmla="*/ 0 h 233640"/>
                <a:gd name="textAreaBottom" fmla="*/ 234000 h 233640"/>
              </a:gdLst>
              <a:ahLst/>
              <a:rect l="textAreaLeft" t="textAreaTop" r="textAreaRight" b="textAreaBottom"/>
              <a:pathLst>
                <a:path w="2194" h="2905">
                  <a:moveTo>
                    <a:pt x="0" y="2905"/>
                  </a:moveTo>
                  <a:lnTo>
                    <a:pt x="9" y="2903"/>
                  </a:lnTo>
                  <a:lnTo>
                    <a:pt x="32" y="2898"/>
                  </a:lnTo>
                  <a:lnTo>
                    <a:pt x="70" y="2890"/>
                  </a:lnTo>
                  <a:lnTo>
                    <a:pt x="121" y="2877"/>
                  </a:lnTo>
                  <a:lnTo>
                    <a:pt x="182" y="2862"/>
                  </a:lnTo>
                  <a:lnTo>
                    <a:pt x="253" y="2844"/>
                  </a:lnTo>
                  <a:lnTo>
                    <a:pt x="332" y="2824"/>
                  </a:lnTo>
                  <a:lnTo>
                    <a:pt x="418" y="2801"/>
                  </a:lnTo>
                  <a:lnTo>
                    <a:pt x="509" y="2776"/>
                  </a:lnTo>
                  <a:lnTo>
                    <a:pt x="604" y="2747"/>
                  </a:lnTo>
                  <a:lnTo>
                    <a:pt x="700" y="2718"/>
                  </a:lnTo>
                  <a:lnTo>
                    <a:pt x="798" y="2686"/>
                  </a:lnTo>
                  <a:lnTo>
                    <a:pt x="847" y="2670"/>
                  </a:lnTo>
                  <a:lnTo>
                    <a:pt x="895" y="2653"/>
                  </a:lnTo>
                  <a:lnTo>
                    <a:pt x="942" y="2634"/>
                  </a:lnTo>
                  <a:lnTo>
                    <a:pt x="990" y="2617"/>
                  </a:lnTo>
                  <a:lnTo>
                    <a:pt x="1035" y="2599"/>
                  </a:lnTo>
                  <a:lnTo>
                    <a:pt x="1080" y="2580"/>
                  </a:lnTo>
                  <a:lnTo>
                    <a:pt x="1124" y="2562"/>
                  </a:lnTo>
                  <a:lnTo>
                    <a:pt x="1166" y="2543"/>
                  </a:lnTo>
                  <a:lnTo>
                    <a:pt x="1401" y="2445"/>
                  </a:lnTo>
                  <a:lnTo>
                    <a:pt x="1408" y="2437"/>
                  </a:lnTo>
                  <a:lnTo>
                    <a:pt x="1429" y="2417"/>
                  </a:lnTo>
                  <a:lnTo>
                    <a:pt x="1461" y="2386"/>
                  </a:lnTo>
                  <a:lnTo>
                    <a:pt x="1501" y="2351"/>
                  </a:lnTo>
                  <a:lnTo>
                    <a:pt x="1523" y="2333"/>
                  </a:lnTo>
                  <a:lnTo>
                    <a:pt x="1546" y="2314"/>
                  </a:lnTo>
                  <a:lnTo>
                    <a:pt x="1570" y="2297"/>
                  </a:lnTo>
                  <a:lnTo>
                    <a:pt x="1596" y="2279"/>
                  </a:lnTo>
                  <a:lnTo>
                    <a:pt x="1621" y="2263"/>
                  </a:lnTo>
                  <a:lnTo>
                    <a:pt x="1646" y="2249"/>
                  </a:lnTo>
                  <a:lnTo>
                    <a:pt x="1658" y="2243"/>
                  </a:lnTo>
                  <a:lnTo>
                    <a:pt x="1671" y="2238"/>
                  </a:lnTo>
                  <a:lnTo>
                    <a:pt x="1683" y="2233"/>
                  </a:lnTo>
                  <a:lnTo>
                    <a:pt x="1695" y="2229"/>
                  </a:lnTo>
                  <a:lnTo>
                    <a:pt x="1707" y="2221"/>
                  </a:lnTo>
                  <a:lnTo>
                    <a:pt x="1743" y="2203"/>
                  </a:lnTo>
                  <a:lnTo>
                    <a:pt x="1768" y="2192"/>
                  </a:lnTo>
                  <a:lnTo>
                    <a:pt x="1796" y="2180"/>
                  </a:lnTo>
                  <a:lnTo>
                    <a:pt x="1828" y="2168"/>
                  </a:lnTo>
                  <a:lnTo>
                    <a:pt x="1864" y="2156"/>
                  </a:lnTo>
                  <a:lnTo>
                    <a:pt x="1883" y="2151"/>
                  </a:lnTo>
                  <a:lnTo>
                    <a:pt x="1902" y="2146"/>
                  </a:lnTo>
                  <a:lnTo>
                    <a:pt x="1921" y="2142"/>
                  </a:lnTo>
                  <a:lnTo>
                    <a:pt x="1941" y="2139"/>
                  </a:lnTo>
                  <a:lnTo>
                    <a:pt x="1962" y="2136"/>
                  </a:lnTo>
                  <a:lnTo>
                    <a:pt x="1984" y="2134"/>
                  </a:lnTo>
                  <a:lnTo>
                    <a:pt x="2004" y="2133"/>
                  </a:lnTo>
                  <a:lnTo>
                    <a:pt x="2026" y="2133"/>
                  </a:lnTo>
                  <a:lnTo>
                    <a:pt x="2047" y="2135"/>
                  </a:lnTo>
                  <a:lnTo>
                    <a:pt x="2068" y="2137"/>
                  </a:lnTo>
                  <a:lnTo>
                    <a:pt x="2089" y="2140"/>
                  </a:lnTo>
                  <a:lnTo>
                    <a:pt x="2112" y="2145"/>
                  </a:lnTo>
                  <a:lnTo>
                    <a:pt x="2133" y="2151"/>
                  </a:lnTo>
                  <a:lnTo>
                    <a:pt x="2153" y="2159"/>
                  </a:lnTo>
                  <a:lnTo>
                    <a:pt x="2174" y="2169"/>
                  </a:lnTo>
                  <a:lnTo>
                    <a:pt x="2194" y="2180"/>
                  </a:lnTo>
                  <a:lnTo>
                    <a:pt x="2194" y="24"/>
                  </a:lnTo>
                  <a:lnTo>
                    <a:pt x="2180" y="20"/>
                  </a:lnTo>
                  <a:lnTo>
                    <a:pt x="2141" y="12"/>
                  </a:lnTo>
                  <a:lnTo>
                    <a:pt x="2112" y="7"/>
                  </a:lnTo>
                  <a:lnTo>
                    <a:pt x="2078" y="3"/>
                  </a:lnTo>
                  <a:lnTo>
                    <a:pt x="2040" y="1"/>
                  </a:lnTo>
                  <a:lnTo>
                    <a:pt x="1998" y="0"/>
                  </a:lnTo>
                  <a:lnTo>
                    <a:pt x="1975" y="1"/>
                  </a:lnTo>
                  <a:lnTo>
                    <a:pt x="1951" y="2"/>
                  </a:lnTo>
                  <a:lnTo>
                    <a:pt x="1926" y="4"/>
                  </a:lnTo>
                  <a:lnTo>
                    <a:pt x="1901" y="7"/>
                  </a:lnTo>
                  <a:lnTo>
                    <a:pt x="1876" y="10"/>
                  </a:lnTo>
                  <a:lnTo>
                    <a:pt x="1849" y="16"/>
                  </a:lnTo>
                  <a:lnTo>
                    <a:pt x="1821" y="22"/>
                  </a:lnTo>
                  <a:lnTo>
                    <a:pt x="1794" y="28"/>
                  </a:lnTo>
                  <a:lnTo>
                    <a:pt x="1765" y="36"/>
                  </a:lnTo>
                  <a:lnTo>
                    <a:pt x="1737" y="46"/>
                  </a:lnTo>
                  <a:lnTo>
                    <a:pt x="1707" y="56"/>
                  </a:lnTo>
                  <a:lnTo>
                    <a:pt x="1678" y="68"/>
                  </a:lnTo>
                  <a:lnTo>
                    <a:pt x="1648" y="81"/>
                  </a:lnTo>
                  <a:lnTo>
                    <a:pt x="1619" y="96"/>
                  </a:lnTo>
                  <a:lnTo>
                    <a:pt x="1589" y="113"/>
                  </a:lnTo>
                  <a:lnTo>
                    <a:pt x="1558" y="132"/>
                  </a:lnTo>
                  <a:lnTo>
                    <a:pt x="1382" y="298"/>
                  </a:lnTo>
                  <a:lnTo>
                    <a:pt x="1371" y="303"/>
                  </a:lnTo>
                  <a:lnTo>
                    <a:pt x="1339" y="317"/>
                  </a:lnTo>
                  <a:lnTo>
                    <a:pt x="1288" y="338"/>
                  </a:lnTo>
                  <a:lnTo>
                    <a:pt x="1223" y="365"/>
                  </a:lnTo>
                  <a:lnTo>
                    <a:pt x="1142" y="399"/>
                  </a:lnTo>
                  <a:lnTo>
                    <a:pt x="1050" y="435"/>
                  </a:lnTo>
                  <a:lnTo>
                    <a:pt x="949" y="473"/>
                  </a:lnTo>
                  <a:lnTo>
                    <a:pt x="842" y="514"/>
                  </a:lnTo>
                  <a:lnTo>
                    <a:pt x="786" y="534"/>
                  </a:lnTo>
                  <a:lnTo>
                    <a:pt x="729" y="554"/>
                  </a:lnTo>
                  <a:lnTo>
                    <a:pt x="671" y="574"/>
                  </a:lnTo>
                  <a:lnTo>
                    <a:pt x="614" y="593"/>
                  </a:lnTo>
                  <a:lnTo>
                    <a:pt x="556" y="612"/>
                  </a:lnTo>
                  <a:lnTo>
                    <a:pt x="499" y="630"/>
                  </a:lnTo>
                  <a:lnTo>
                    <a:pt x="441" y="646"/>
                  </a:lnTo>
                  <a:lnTo>
                    <a:pt x="386" y="662"/>
                  </a:lnTo>
                  <a:lnTo>
                    <a:pt x="331" y="677"/>
                  </a:lnTo>
                  <a:lnTo>
                    <a:pt x="277" y="689"/>
                  </a:lnTo>
                  <a:lnTo>
                    <a:pt x="225" y="701"/>
                  </a:lnTo>
                  <a:lnTo>
                    <a:pt x="175" y="711"/>
                  </a:lnTo>
                  <a:lnTo>
                    <a:pt x="127" y="718"/>
                  </a:lnTo>
                  <a:lnTo>
                    <a:pt x="82" y="724"/>
                  </a:lnTo>
                  <a:lnTo>
                    <a:pt x="39" y="728"/>
                  </a:lnTo>
                  <a:lnTo>
                    <a:pt x="0" y="730"/>
                  </a:lnTo>
                  <a:lnTo>
                    <a:pt x="0" y="290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3" name="Freeform 254"/>
            <p:cNvSpPr/>
            <p:nvPr/>
          </p:nvSpPr>
          <p:spPr>
            <a:xfrm>
              <a:off x="560160" y="2545920"/>
              <a:ext cx="114120" cy="190440"/>
            </a:xfrm>
            <a:custGeom>
              <a:avLst/>
              <a:gdLst>
                <a:gd name="textAreaLeft" fmla="*/ 0 w 114120"/>
                <a:gd name="textAreaRight" fmla="*/ 114480 w 114120"/>
                <a:gd name="textAreaTop" fmla="*/ 0 h 190440"/>
                <a:gd name="textAreaBottom" fmla="*/ 190800 h 190440"/>
              </a:gdLst>
              <a:ahLst/>
              <a:rect l="textAreaLeft" t="textAreaTop" r="textAreaRight" b="textAreaBottom"/>
              <a:pathLst>
                <a:path w="1459" h="2341">
                  <a:moveTo>
                    <a:pt x="1459" y="0"/>
                  </a:moveTo>
                  <a:lnTo>
                    <a:pt x="1459" y="2155"/>
                  </a:lnTo>
                  <a:lnTo>
                    <a:pt x="1452" y="2156"/>
                  </a:lnTo>
                  <a:lnTo>
                    <a:pt x="1434" y="2158"/>
                  </a:lnTo>
                  <a:lnTo>
                    <a:pt x="1405" y="2160"/>
                  </a:lnTo>
                  <a:lnTo>
                    <a:pt x="1367" y="2163"/>
                  </a:lnTo>
                  <a:lnTo>
                    <a:pt x="1319" y="2168"/>
                  </a:lnTo>
                  <a:lnTo>
                    <a:pt x="1267" y="2172"/>
                  </a:lnTo>
                  <a:lnTo>
                    <a:pt x="1209" y="2178"/>
                  </a:lnTo>
                  <a:lnTo>
                    <a:pt x="1148" y="2183"/>
                  </a:lnTo>
                  <a:lnTo>
                    <a:pt x="1085" y="2189"/>
                  </a:lnTo>
                  <a:lnTo>
                    <a:pt x="1021" y="2196"/>
                  </a:lnTo>
                  <a:lnTo>
                    <a:pt x="958" y="2202"/>
                  </a:lnTo>
                  <a:lnTo>
                    <a:pt x="897" y="2209"/>
                  </a:lnTo>
                  <a:lnTo>
                    <a:pt x="840" y="2215"/>
                  </a:lnTo>
                  <a:lnTo>
                    <a:pt x="788" y="2221"/>
                  </a:lnTo>
                  <a:lnTo>
                    <a:pt x="743" y="2228"/>
                  </a:lnTo>
                  <a:lnTo>
                    <a:pt x="705" y="2234"/>
                  </a:lnTo>
                  <a:lnTo>
                    <a:pt x="0" y="2341"/>
                  </a:lnTo>
                  <a:lnTo>
                    <a:pt x="0" y="195"/>
                  </a:lnTo>
                  <a:lnTo>
                    <a:pt x="5" y="194"/>
                  </a:lnTo>
                  <a:lnTo>
                    <a:pt x="18" y="191"/>
                  </a:lnTo>
                  <a:lnTo>
                    <a:pt x="40" y="186"/>
                  </a:lnTo>
                  <a:lnTo>
                    <a:pt x="69" y="179"/>
                  </a:lnTo>
                  <a:lnTo>
                    <a:pt x="105" y="172"/>
                  </a:lnTo>
                  <a:lnTo>
                    <a:pt x="147" y="163"/>
                  </a:lnTo>
                  <a:lnTo>
                    <a:pt x="194" y="154"/>
                  </a:lnTo>
                  <a:lnTo>
                    <a:pt x="246" y="144"/>
                  </a:lnTo>
                  <a:lnTo>
                    <a:pt x="301" y="134"/>
                  </a:lnTo>
                  <a:lnTo>
                    <a:pt x="360" y="124"/>
                  </a:lnTo>
                  <a:lnTo>
                    <a:pt x="420" y="114"/>
                  </a:lnTo>
                  <a:lnTo>
                    <a:pt x="484" y="105"/>
                  </a:lnTo>
                  <a:lnTo>
                    <a:pt x="546" y="96"/>
                  </a:lnTo>
                  <a:lnTo>
                    <a:pt x="610" y="89"/>
                  </a:lnTo>
                  <a:lnTo>
                    <a:pt x="673" y="83"/>
                  </a:lnTo>
                  <a:lnTo>
                    <a:pt x="735" y="77"/>
                  </a:lnTo>
                  <a:lnTo>
                    <a:pt x="1459"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4" name="Freeform 255"/>
            <p:cNvSpPr/>
            <p:nvPr/>
          </p:nvSpPr>
          <p:spPr>
            <a:xfrm>
              <a:off x="1410840" y="2411280"/>
              <a:ext cx="37080" cy="183960"/>
            </a:xfrm>
            <a:custGeom>
              <a:avLst/>
              <a:gdLst>
                <a:gd name="textAreaLeft" fmla="*/ 0 w 37080"/>
                <a:gd name="textAreaRight" fmla="*/ 37440 w 37080"/>
                <a:gd name="textAreaTop" fmla="*/ 0 h 183960"/>
                <a:gd name="textAreaBottom" fmla="*/ 184320 h 183960"/>
              </a:gdLst>
              <a:ahLst/>
              <a:rect l="textAreaLeft" t="textAreaTop" r="textAreaRight" b="textAreaBottom"/>
              <a:pathLst>
                <a:path w="480" h="2286">
                  <a:moveTo>
                    <a:pt x="480" y="3"/>
                  </a:moveTo>
                  <a:lnTo>
                    <a:pt x="470" y="2"/>
                  </a:lnTo>
                  <a:lnTo>
                    <a:pt x="443" y="0"/>
                  </a:lnTo>
                  <a:lnTo>
                    <a:pt x="424" y="0"/>
                  </a:lnTo>
                  <a:lnTo>
                    <a:pt x="401" y="0"/>
                  </a:lnTo>
                  <a:lnTo>
                    <a:pt x="374" y="2"/>
                  </a:lnTo>
                  <a:lnTo>
                    <a:pt x="343" y="6"/>
                  </a:lnTo>
                  <a:lnTo>
                    <a:pt x="309" y="11"/>
                  </a:lnTo>
                  <a:lnTo>
                    <a:pt x="273" y="19"/>
                  </a:lnTo>
                  <a:lnTo>
                    <a:pt x="253" y="24"/>
                  </a:lnTo>
                  <a:lnTo>
                    <a:pt x="232" y="30"/>
                  </a:lnTo>
                  <a:lnTo>
                    <a:pt x="212" y="37"/>
                  </a:lnTo>
                  <a:lnTo>
                    <a:pt x="191" y="44"/>
                  </a:lnTo>
                  <a:lnTo>
                    <a:pt x="169" y="53"/>
                  </a:lnTo>
                  <a:lnTo>
                    <a:pt x="146" y="62"/>
                  </a:lnTo>
                  <a:lnTo>
                    <a:pt x="123" y="73"/>
                  </a:lnTo>
                  <a:lnTo>
                    <a:pt x="99" y="84"/>
                  </a:lnTo>
                  <a:lnTo>
                    <a:pt x="75" y="97"/>
                  </a:lnTo>
                  <a:lnTo>
                    <a:pt x="51" y="110"/>
                  </a:lnTo>
                  <a:lnTo>
                    <a:pt x="26" y="125"/>
                  </a:lnTo>
                  <a:lnTo>
                    <a:pt x="0" y="140"/>
                  </a:lnTo>
                  <a:lnTo>
                    <a:pt x="0" y="2286"/>
                  </a:lnTo>
                  <a:lnTo>
                    <a:pt x="16" y="2278"/>
                  </a:lnTo>
                  <a:lnTo>
                    <a:pt x="58" y="2257"/>
                  </a:lnTo>
                  <a:lnTo>
                    <a:pt x="87" y="2243"/>
                  </a:lnTo>
                  <a:lnTo>
                    <a:pt x="121" y="2228"/>
                  </a:lnTo>
                  <a:lnTo>
                    <a:pt x="157" y="2210"/>
                  </a:lnTo>
                  <a:lnTo>
                    <a:pt x="196" y="2194"/>
                  </a:lnTo>
                  <a:lnTo>
                    <a:pt x="235" y="2179"/>
                  </a:lnTo>
                  <a:lnTo>
                    <a:pt x="277" y="2165"/>
                  </a:lnTo>
                  <a:lnTo>
                    <a:pt x="297" y="2158"/>
                  </a:lnTo>
                  <a:lnTo>
                    <a:pt x="316" y="2152"/>
                  </a:lnTo>
                  <a:lnTo>
                    <a:pt x="336" y="2147"/>
                  </a:lnTo>
                  <a:lnTo>
                    <a:pt x="355" y="2142"/>
                  </a:lnTo>
                  <a:lnTo>
                    <a:pt x="374" y="2138"/>
                  </a:lnTo>
                  <a:lnTo>
                    <a:pt x="392" y="2135"/>
                  </a:lnTo>
                  <a:lnTo>
                    <a:pt x="409" y="2133"/>
                  </a:lnTo>
                  <a:lnTo>
                    <a:pt x="426" y="2132"/>
                  </a:lnTo>
                  <a:lnTo>
                    <a:pt x="441" y="2132"/>
                  </a:lnTo>
                  <a:lnTo>
                    <a:pt x="455" y="2133"/>
                  </a:lnTo>
                  <a:lnTo>
                    <a:pt x="468" y="2136"/>
                  </a:lnTo>
                  <a:lnTo>
                    <a:pt x="480" y="2140"/>
                  </a:lnTo>
                  <a:lnTo>
                    <a:pt x="480" y="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5" name="Freeform 256"/>
            <p:cNvSpPr/>
            <p:nvPr/>
          </p:nvSpPr>
          <p:spPr>
            <a:xfrm>
              <a:off x="767160" y="2397960"/>
              <a:ext cx="59040" cy="201960"/>
            </a:xfrm>
            <a:custGeom>
              <a:avLst/>
              <a:gdLst>
                <a:gd name="textAreaLeft" fmla="*/ 0 w 59040"/>
                <a:gd name="textAreaRight" fmla="*/ 59400 w 59040"/>
                <a:gd name="textAreaTop" fmla="*/ 0 h 201960"/>
                <a:gd name="textAreaBottom" fmla="*/ 202320 h 201960"/>
              </a:gdLst>
              <a:ahLst/>
              <a:rect l="textAreaLeft" t="textAreaTop" r="textAreaRight" b="textAreaBottom"/>
              <a:pathLst>
                <a:path w="734" h="2478">
                  <a:moveTo>
                    <a:pt x="734" y="0"/>
                  </a:moveTo>
                  <a:lnTo>
                    <a:pt x="0" y="332"/>
                  </a:lnTo>
                  <a:lnTo>
                    <a:pt x="0" y="2478"/>
                  </a:lnTo>
                  <a:lnTo>
                    <a:pt x="734" y="2146"/>
                  </a:lnTo>
                  <a:lnTo>
                    <a:pt x="734"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6" name="Freeform 257"/>
            <p:cNvSpPr/>
            <p:nvPr/>
          </p:nvSpPr>
          <p:spPr>
            <a:xfrm>
              <a:off x="698760" y="2393280"/>
              <a:ext cx="30600" cy="176760"/>
            </a:xfrm>
            <a:custGeom>
              <a:avLst/>
              <a:gdLst>
                <a:gd name="textAreaLeft" fmla="*/ 0 w 30600"/>
                <a:gd name="textAreaRight" fmla="*/ 30960 w 30600"/>
                <a:gd name="textAreaTop" fmla="*/ 0 h 176760"/>
                <a:gd name="textAreaBottom" fmla="*/ 177120 h 176760"/>
              </a:gdLst>
              <a:ahLst/>
              <a:rect l="textAreaLeft" t="textAreaTop" r="textAreaRight" b="textAreaBottom"/>
              <a:pathLst>
                <a:path w="382" h="2186">
                  <a:moveTo>
                    <a:pt x="382" y="70"/>
                  </a:moveTo>
                  <a:lnTo>
                    <a:pt x="382" y="2166"/>
                  </a:lnTo>
                  <a:lnTo>
                    <a:pt x="374" y="2162"/>
                  </a:lnTo>
                  <a:lnTo>
                    <a:pt x="351" y="2152"/>
                  </a:lnTo>
                  <a:lnTo>
                    <a:pt x="334" y="2145"/>
                  </a:lnTo>
                  <a:lnTo>
                    <a:pt x="315" y="2139"/>
                  </a:lnTo>
                  <a:lnTo>
                    <a:pt x="293" y="2133"/>
                  </a:lnTo>
                  <a:lnTo>
                    <a:pt x="268" y="2129"/>
                  </a:lnTo>
                  <a:lnTo>
                    <a:pt x="255" y="2127"/>
                  </a:lnTo>
                  <a:lnTo>
                    <a:pt x="241" y="2125"/>
                  </a:lnTo>
                  <a:lnTo>
                    <a:pt x="226" y="2125"/>
                  </a:lnTo>
                  <a:lnTo>
                    <a:pt x="211" y="2124"/>
                  </a:lnTo>
                  <a:lnTo>
                    <a:pt x="195" y="2124"/>
                  </a:lnTo>
                  <a:lnTo>
                    <a:pt x="179" y="2125"/>
                  </a:lnTo>
                  <a:lnTo>
                    <a:pt x="163" y="2127"/>
                  </a:lnTo>
                  <a:lnTo>
                    <a:pt x="146" y="2129"/>
                  </a:lnTo>
                  <a:lnTo>
                    <a:pt x="129" y="2133"/>
                  </a:lnTo>
                  <a:lnTo>
                    <a:pt x="112" y="2137"/>
                  </a:lnTo>
                  <a:lnTo>
                    <a:pt x="93" y="2142"/>
                  </a:lnTo>
                  <a:lnTo>
                    <a:pt x="75" y="2149"/>
                  </a:lnTo>
                  <a:lnTo>
                    <a:pt x="57" y="2156"/>
                  </a:lnTo>
                  <a:lnTo>
                    <a:pt x="38" y="2165"/>
                  </a:lnTo>
                  <a:lnTo>
                    <a:pt x="19" y="2175"/>
                  </a:lnTo>
                  <a:lnTo>
                    <a:pt x="0" y="2186"/>
                  </a:lnTo>
                  <a:lnTo>
                    <a:pt x="0" y="70"/>
                  </a:lnTo>
                  <a:lnTo>
                    <a:pt x="8" y="63"/>
                  </a:lnTo>
                  <a:lnTo>
                    <a:pt x="31" y="48"/>
                  </a:lnTo>
                  <a:lnTo>
                    <a:pt x="47" y="37"/>
                  </a:lnTo>
                  <a:lnTo>
                    <a:pt x="66" y="28"/>
                  </a:lnTo>
                  <a:lnTo>
                    <a:pt x="88" y="19"/>
                  </a:lnTo>
                  <a:lnTo>
                    <a:pt x="114" y="10"/>
                  </a:lnTo>
                  <a:lnTo>
                    <a:pt x="127" y="7"/>
                  </a:lnTo>
                  <a:lnTo>
                    <a:pt x="141" y="4"/>
                  </a:lnTo>
                  <a:lnTo>
                    <a:pt x="156" y="2"/>
                  </a:lnTo>
                  <a:lnTo>
                    <a:pt x="170" y="0"/>
                  </a:lnTo>
                  <a:lnTo>
                    <a:pt x="186" y="0"/>
                  </a:lnTo>
                  <a:lnTo>
                    <a:pt x="202" y="0"/>
                  </a:lnTo>
                  <a:lnTo>
                    <a:pt x="218" y="1"/>
                  </a:lnTo>
                  <a:lnTo>
                    <a:pt x="236" y="3"/>
                  </a:lnTo>
                  <a:lnTo>
                    <a:pt x="253" y="7"/>
                  </a:lnTo>
                  <a:lnTo>
                    <a:pt x="270" y="11"/>
                  </a:lnTo>
                  <a:lnTo>
                    <a:pt x="288" y="17"/>
                  </a:lnTo>
                  <a:lnTo>
                    <a:pt x="306" y="24"/>
                  </a:lnTo>
                  <a:lnTo>
                    <a:pt x="325" y="33"/>
                  </a:lnTo>
                  <a:lnTo>
                    <a:pt x="343" y="43"/>
                  </a:lnTo>
                  <a:lnTo>
                    <a:pt x="363" y="56"/>
                  </a:lnTo>
                  <a:lnTo>
                    <a:pt x="382" y="7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7" name="Freeform 258"/>
            <p:cNvSpPr/>
            <p:nvPr/>
          </p:nvSpPr>
          <p:spPr>
            <a:xfrm>
              <a:off x="599400" y="2323440"/>
              <a:ext cx="66240" cy="199440"/>
            </a:xfrm>
            <a:custGeom>
              <a:avLst/>
              <a:gdLst>
                <a:gd name="textAreaLeft" fmla="*/ 0 w 66240"/>
                <a:gd name="textAreaRight" fmla="*/ 66600 w 66240"/>
                <a:gd name="textAreaTop" fmla="*/ 0 h 199440"/>
                <a:gd name="textAreaBottom" fmla="*/ 199800 h 199440"/>
              </a:gdLst>
              <a:ahLst/>
              <a:rect l="textAreaLeft" t="textAreaTop" r="textAreaRight" b="textAreaBottom"/>
              <a:pathLst>
                <a:path w="822" h="2458">
                  <a:moveTo>
                    <a:pt x="822" y="314"/>
                  </a:moveTo>
                  <a:lnTo>
                    <a:pt x="822" y="2450"/>
                  </a:lnTo>
                  <a:lnTo>
                    <a:pt x="812" y="2450"/>
                  </a:lnTo>
                  <a:lnTo>
                    <a:pt x="787" y="2452"/>
                  </a:lnTo>
                  <a:lnTo>
                    <a:pt x="747" y="2456"/>
                  </a:lnTo>
                  <a:lnTo>
                    <a:pt x="694" y="2457"/>
                  </a:lnTo>
                  <a:lnTo>
                    <a:pt x="633" y="2458"/>
                  </a:lnTo>
                  <a:lnTo>
                    <a:pt x="564" y="2457"/>
                  </a:lnTo>
                  <a:lnTo>
                    <a:pt x="528" y="2454"/>
                  </a:lnTo>
                  <a:lnTo>
                    <a:pt x="491" y="2452"/>
                  </a:lnTo>
                  <a:lnTo>
                    <a:pt x="453" y="2449"/>
                  </a:lnTo>
                  <a:lnTo>
                    <a:pt x="415" y="2445"/>
                  </a:lnTo>
                  <a:lnTo>
                    <a:pt x="377" y="2440"/>
                  </a:lnTo>
                  <a:lnTo>
                    <a:pt x="339" y="2434"/>
                  </a:lnTo>
                  <a:lnTo>
                    <a:pt x="302" y="2426"/>
                  </a:lnTo>
                  <a:lnTo>
                    <a:pt x="266" y="2417"/>
                  </a:lnTo>
                  <a:lnTo>
                    <a:pt x="231" y="2407"/>
                  </a:lnTo>
                  <a:lnTo>
                    <a:pt x="197" y="2396"/>
                  </a:lnTo>
                  <a:lnTo>
                    <a:pt x="165" y="2383"/>
                  </a:lnTo>
                  <a:lnTo>
                    <a:pt x="136" y="2368"/>
                  </a:lnTo>
                  <a:lnTo>
                    <a:pt x="109" y="2351"/>
                  </a:lnTo>
                  <a:lnTo>
                    <a:pt x="83" y="2332"/>
                  </a:lnTo>
                  <a:lnTo>
                    <a:pt x="62" y="2311"/>
                  </a:lnTo>
                  <a:lnTo>
                    <a:pt x="44" y="2289"/>
                  </a:lnTo>
                  <a:lnTo>
                    <a:pt x="29" y="2264"/>
                  </a:lnTo>
                  <a:lnTo>
                    <a:pt x="18" y="2237"/>
                  </a:lnTo>
                  <a:lnTo>
                    <a:pt x="11" y="2207"/>
                  </a:lnTo>
                  <a:lnTo>
                    <a:pt x="9" y="2176"/>
                  </a:lnTo>
                  <a:lnTo>
                    <a:pt x="9" y="0"/>
                  </a:lnTo>
                  <a:lnTo>
                    <a:pt x="7" y="4"/>
                  </a:lnTo>
                  <a:lnTo>
                    <a:pt x="4" y="16"/>
                  </a:lnTo>
                  <a:lnTo>
                    <a:pt x="2" y="24"/>
                  </a:lnTo>
                  <a:lnTo>
                    <a:pt x="1" y="33"/>
                  </a:lnTo>
                  <a:lnTo>
                    <a:pt x="0" y="44"/>
                  </a:lnTo>
                  <a:lnTo>
                    <a:pt x="0" y="56"/>
                  </a:lnTo>
                  <a:lnTo>
                    <a:pt x="0" y="70"/>
                  </a:lnTo>
                  <a:lnTo>
                    <a:pt x="2" y="83"/>
                  </a:lnTo>
                  <a:lnTo>
                    <a:pt x="5" y="98"/>
                  </a:lnTo>
                  <a:lnTo>
                    <a:pt x="10" y="113"/>
                  </a:lnTo>
                  <a:lnTo>
                    <a:pt x="17" y="128"/>
                  </a:lnTo>
                  <a:lnTo>
                    <a:pt x="26" y="144"/>
                  </a:lnTo>
                  <a:lnTo>
                    <a:pt x="38" y="159"/>
                  </a:lnTo>
                  <a:lnTo>
                    <a:pt x="51" y="175"/>
                  </a:lnTo>
                  <a:lnTo>
                    <a:pt x="68" y="192"/>
                  </a:lnTo>
                  <a:lnTo>
                    <a:pt x="88" y="207"/>
                  </a:lnTo>
                  <a:lnTo>
                    <a:pt x="112" y="222"/>
                  </a:lnTo>
                  <a:lnTo>
                    <a:pt x="138" y="236"/>
                  </a:lnTo>
                  <a:lnTo>
                    <a:pt x="169" y="250"/>
                  </a:lnTo>
                  <a:lnTo>
                    <a:pt x="203" y="263"/>
                  </a:lnTo>
                  <a:lnTo>
                    <a:pt x="243" y="275"/>
                  </a:lnTo>
                  <a:lnTo>
                    <a:pt x="286" y="285"/>
                  </a:lnTo>
                  <a:lnTo>
                    <a:pt x="333" y="295"/>
                  </a:lnTo>
                  <a:lnTo>
                    <a:pt x="387" y="304"/>
                  </a:lnTo>
                  <a:lnTo>
                    <a:pt x="444" y="310"/>
                  </a:lnTo>
                  <a:lnTo>
                    <a:pt x="509" y="315"/>
                  </a:lnTo>
                  <a:lnTo>
                    <a:pt x="577" y="318"/>
                  </a:lnTo>
                  <a:lnTo>
                    <a:pt x="653" y="319"/>
                  </a:lnTo>
                  <a:lnTo>
                    <a:pt x="735" y="318"/>
                  </a:lnTo>
                  <a:lnTo>
                    <a:pt x="822" y="314"/>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8" name="Freeform 259"/>
            <p:cNvSpPr/>
            <p:nvPr/>
          </p:nvSpPr>
          <p:spPr>
            <a:xfrm>
              <a:off x="459000" y="2132280"/>
              <a:ext cx="35280" cy="208800"/>
            </a:xfrm>
            <a:custGeom>
              <a:avLst/>
              <a:gdLst>
                <a:gd name="textAreaLeft" fmla="*/ 0 w 35280"/>
                <a:gd name="textAreaRight" fmla="*/ 35640 w 35280"/>
                <a:gd name="textAreaTop" fmla="*/ 0 h 208800"/>
                <a:gd name="textAreaBottom" fmla="*/ 209160 h 208800"/>
              </a:gdLst>
              <a:ahLst/>
              <a:rect l="textAreaLeft" t="textAreaTop" r="textAreaRight" b="textAreaBottom"/>
              <a:pathLst>
                <a:path w="456" h="2587">
                  <a:moveTo>
                    <a:pt x="446" y="441"/>
                  </a:moveTo>
                  <a:lnTo>
                    <a:pt x="425" y="432"/>
                  </a:lnTo>
                  <a:lnTo>
                    <a:pt x="369" y="408"/>
                  </a:lnTo>
                  <a:lnTo>
                    <a:pt x="332" y="389"/>
                  </a:lnTo>
                  <a:lnTo>
                    <a:pt x="292" y="368"/>
                  </a:lnTo>
                  <a:lnTo>
                    <a:pt x="270" y="356"/>
                  </a:lnTo>
                  <a:lnTo>
                    <a:pt x="248" y="344"/>
                  </a:lnTo>
                  <a:lnTo>
                    <a:pt x="226" y="330"/>
                  </a:lnTo>
                  <a:lnTo>
                    <a:pt x="204" y="316"/>
                  </a:lnTo>
                  <a:lnTo>
                    <a:pt x="182" y="301"/>
                  </a:lnTo>
                  <a:lnTo>
                    <a:pt x="161" y="285"/>
                  </a:lnTo>
                  <a:lnTo>
                    <a:pt x="140" y="268"/>
                  </a:lnTo>
                  <a:lnTo>
                    <a:pt x="119" y="251"/>
                  </a:lnTo>
                  <a:lnTo>
                    <a:pt x="100" y="233"/>
                  </a:lnTo>
                  <a:lnTo>
                    <a:pt x="82" y="215"/>
                  </a:lnTo>
                  <a:lnTo>
                    <a:pt x="65" y="196"/>
                  </a:lnTo>
                  <a:lnTo>
                    <a:pt x="50" y="176"/>
                  </a:lnTo>
                  <a:lnTo>
                    <a:pt x="36" y="155"/>
                  </a:lnTo>
                  <a:lnTo>
                    <a:pt x="25" y="135"/>
                  </a:lnTo>
                  <a:lnTo>
                    <a:pt x="15" y="114"/>
                  </a:lnTo>
                  <a:lnTo>
                    <a:pt x="7" y="92"/>
                  </a:lnTo>
                  <a:lnTo>
                    <a:pt x="2" y="70"/>
                  </a:lnTo>
                  <a:lnTo>
                    <a:pt x="0" y="47"/>
                  </a:lnTo>
                  <a:lnTo>
                    <a:pt x="1" y="23"/>
                  </a:lnTo>
                  <a:lnTo>
                    <a:pt x="5" y="0"/>
                  </a:lnTo>
                  <a:lnTo>
                    <a:pt x="5" y="2165"/>
                  </a:lnTo>
                  <a:lnTo>
                    <a:pt x="9" y="2180"/>
                  </a:lnTo>
                  <a:lnTo>
                    <a:pt x="23" y="2219"/>
                  </a:lnTo>
                  <a:lnTo>
                    <a:pt x="33" y="2246"/>
                  </a:lnTo>
                  <a:lnTo>
                    <a:pt x="48" y="2275"/>
                  </a:lnTo>
                  <a:lnTo>
                    <a:pt x="56" y="2291"/>
                  </a:lnTo>
                  <a:lnTo>
                    <a:pt x="65" y="2308"/>
                  </a:lnTo>
                  <a:lnTo>
                    <a:pt x="76" y="2326"/>
                  </a:lnTo>
                  <a:lnTo>
                    <a:pt x="87" y="2343"/>
                  </a:lnTo>
                  <a:lnTo>
                    <a:pt x="100" y="2361"/>
                  </a:lnTo>
                  <a:lnTo>
                    <a:pt x="114" y="2379"/>
                  </a:lnTo>
                  <a:lnTo>
                    <a:pt x="129" y="2397"/>
                  </a:lnTo>
                  <a:lnTo>
                    <a:pt x="146" y="2414"/>
                  </a:lnTo>
                  <a:lnTo>
                    <a:pt x="164" y="2432"/>
                  </a:lnTo>
                  <a:lnTo>
                    <a:pt x="182" y="2450"/>
                  </a:lnTo>
                  <a:lnTo>
                    <a:pt x="203" y="2467"/>
                  </a:lnTo>
                  <a:lnTo>
                    <a:pt x="224" y="2484"/>
                  </a:lnTo>
                  <a:lnTo>
                    <a:pt x="247" y="2500"/>
                  </a:lnTo>
                  <a:lnTo>
                    <a:pt x="273" y="2515"/>
                  </a:lnTo>
                  <a:lnTo>
                    <a:pt x="299" y="2530"/>
                  </a:lnTo>
                  <a:lnTo>
                    <a:pt x="327" y="2543"/>
                  </a:lnTo>
                  <a:lnTo>
                    <a:pt x="356" y="2557"/>
                  </a:lnTo>
                  <a:lnTo>
                    <a:pt x="388" y="2568"/>
                  </a:lnTo>
                  <a:lnTo>
                    <a:pt x="421" y="2578"/>
                  </a:lnTo>
                  <a:lnTo>
                    <a:pt x="456" y="2587"/>
                  </a:lnTo>
                  <a:lnTo>
                    <a:pt x="446" y="441"/>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39" name="Freeform 260"/>
            <p:cNvSpPr/>
            <p:nvPr/>
          </p:nvSpPr>
          <p:spPr>
            <a:xfrm>
              <a:off x="614880" y="2039400"/>
              <a:ext cx="166680" cy="231480"/>
            </a:xfrm>
            <a:custGeom>
              <a:avLst/>
              <a:gdLst>
                <a:gd name="textAreaLeft" fmla="*/ 0 w 166680"/>
                <a:gd name="textAreaRight" fmla="*/ 167040 w 166680"/>
                <a:gd name="textAreaTop" fmla="*/ 0 h 231480"/>
                <a:gd name="textAreaBottom" fmla="*/ 231840 h 231480"/>
              </a:gdLst>
              <a:ahLst/>
              <a:rect l="textAreaLeft" t="textAreaTop" r="textAreaRight" b="textAreaBottom"/>
              <a:pathLst>
                <a:path w="2116" h="2853">
                  <a:moveTo>
                    <a:pt x="2116" y="636"/>
                  </a:moveTo>
                  <a:lnTo>
                    <a:pt x="2098" y="640"/>
                  </a:lnTo>
                  <a:lnTo>
                    <a:pt x="2047" y="649"/>
                  </a:lnTo>
                  <a:lnTo>
                    <a:pt x="2011" y="654"/>
                  </a:lnTo>
                  <a:lnTo>
                    <a:pt x="1969" y="660"/>
                  </a:lnTo>
                  <a:lnTo>
                    <a:pt x="1919" y="667"/>
                  </a:lnTo>
                  <a:lnTo>
                    <a:pt x="1864" y="673"/>
                  </a:lnTo>
                  <a:lnTo>
                    <a:pt x="1804" y="679"/>
                  </a:lnTo>
                  <a:lnTo>
                    <a:pt x="1738" y="684"/>
                  </a:lnTo>
                  <a:lnTo>
                    <a:pt x="1667" y="688"/>
                  </a:lnTo>
                  <a:lnTo>
                    <a:pt x="1594" y="690"/>
                  </a:lnTo>
                  <a:lnTo>
                    <a:pt x="1516" y="691"/>
                  </a:lnTo>
                  <a:lnTo>
                    <a:pt x="1436" y="690"/>
                  </a:lnTo>
                  <a:lnTo>
                    <a:pt x="1353" y="687"/>
                  </a:lnTo>
                  <a:lnTo>
                    <a:pt x="1267" y="681"/>
                  </a:lnTo>
                  <a:lnTo>
                    <a:pt x="1181" y="673"/>
                  </a:lnTo>
                  <a:lnTo>
                    <a:pt x="1093" y="661"/>
                  </a:lnTo>
                  <a:lnTo>
                    <a:pt x="1004" y="646"/>
                  </a:lnTo>
                  <a:lnTo>
                    <a:pt x="914" y="627"/>
                  </a:lnTo>
                  <a:lnTo>
                    <a:pt x="826" y="604"/>
                  </a:lnTo>
                  <a:lnTo>
                    <a:pt x="738" y="576"/>
                  </a:lnTo>
                  <a:lnTo>
                    <a:pt x="651" y="545"/>
                  </a:lnTo>
                  <a:lnTo>
                    <a:pt x="567" y="508"/>
                  </a:lnTo>
                  <a:lnTo>
                    <a:pt x="483" y="465"/>
                  </a:lnTo>
                  <a:lnTo>
                    <a:pt x="402" y="418"/>
                  </a:lnTo>
                  <a:lnTo>
                    <a:pt x="325" y="365"/>
                  </a:lnTo>
                  <a:lnTo>
                    <a:pt x="251" y="305"/>
                  </a:lnTo>
                  <a:lnTo>
                    <a:pt x="182" y="239"/>
                  </a:lnTo>
                  <a:lnTo>
                    <a:pt x="116" y="166"/>
                  </a:lnTo>
                  <a:lnTo>
                    <a:pt x="56" y="86"/>
                  </a:lnTo>
                  <a:lnTo>
                    <a:pt x="0" y="0"/>
                  </a:lnTo>
                  <a:lnTo>
                    <a:pt x="0" y="2165"/>
                  </a:lnTo>
                  <a:lnTo>
                    <a:pt x="7" y="2176"/>
                  </a:lnTo>
                  <a:lnTo>
                    <a:pt x="30" y="2205"/>
                  </a:lnTo>
                  <a:lnTo>
                    <a:pt x="48" y="2226"/>
                  </a:lnTo>
                  <a:lnTo>
                    <a:pt x="69" y="2250"/>
                  </a:lnTo>
                  <a:lnTo>
                    <a:pt x="94" y="2278"/>
                  </a:lnTo>
                  <a:lnTo>
                    <a:pt x="122" y="2308"/>
                  </a:lnTo>
                  <a:lnTo>
                    <a:pt x="155" y="2341"/>
                  </a:lnTo>
                  <a:lnTo>
                    <a:pt x="193" y="2375"/>
                  </a:lnTo>
                  <a:lnTo>
                    <a:pt x="234" y="2411"/>
                  </a:lnTo>
                  <a:lnTo>
                    <a:pt x="279" y="2448"/>
                  </a:lnTo>
                  <a:lnTo>
                    <a:pt x="329" y="2485"/>
                  </a:lnTo>
                  <a:lnTo>
                    <a:pt x="383" y="2524"/>
                  </a:lnTo>
                  <a:lnTo>
                    <a:pt x="441" y="2561"/>
                  </a:lnTo>
                  <a:lnTo>
                    <a:pt x="503" y="2598"/>
                  </a:lnTo>
                  <a:lnTo>
                    <a:pt x="570" y="2635"/>
                  </a:lnTo>
                  <a:lnTo>
                    <a:pt x="641" y="2670"/>
                  </a:lnTo>
                  <a:lnTo>
                    <a:pt x="717" y="2702"/>
                  </a:lnTo>
                  <a:lnTo>
                    <a:pt x="797" y="2733"/>
                  </a:lnTo>
                  <a:lnTo>
                    <a:pt x="881" y="2762"/>
                  </a:lnTo>
                  <a:lnTo>
                    <a:pt x="970" y="2787"/>
                  </a:lnTo>
                  <a:lnTo>
                    <a:pt x="1064" y="2808"/>
                  </a:lnTo>
                  <a:lnTo>
                    <a:pt x="1161" y="2826"/>
                  </a:lnTo>
                  <a:lnTo>
                    <a:pt x="1264" y="2840"/>
                  </a:lnTo>
                  <a:lnTo>
                    <a:pt x="1371" y="2849"/>
                  </a:lnTo>
                  <a:lnTo>
                    <a:pt x="1483" y="2853"/>
                  </a:lnTo>
                  <a:lnTo>
                    <a:pt x="1600" y="2851"/>
                  </a:lnTo>
                  <a:lnTo>
                    <a:pt x="1722" y="2844"/>
                  </a:lnTo>
                  <a:lnTo>
                    <a:pt x="1849" y="2830"/>
                  </a:lnTo>
                  <a:lnTo>
                    <a:pt x="1980" y="2810"/>
                  </a:lnTo>
                  <a:lnTo>
                    <a:pt x="2116" y="2782"/>
                  </a:lnTo>
                  <a:lnTo>
                    <a:pt x="2116" y="63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0" name="Freeform 261"/>
            <p:cNvSpPr/>
            <p:nvPr/>
          </p:nvSpPr>
          <p:spPr>
            <a:xfrm>
              <a:off x="1648080" y="2673000"/>
              <a:ext cx="17280" cy="196920"/>
            </a:xfrm>
            <a:custGeom>
              <a:avLst/>
              <a:gdLst>
                <a:gd name="textAreaLeft" fmla="*/ 0 w 17280"/>
                <a:gd name="textAreaRight" fmla="*/ 17640 w 17280"/>
                <a:gd name="textAreaTop" fmla="*/ 0 h 196920"/>
                <a:gd name="textAreaBottom" fmla="*/ 197280 h 196920"/>
              </a:gdLst>
              <a:ahLst/>
              <a:rect l="textAreaLeft" t="textAreaTop" r="textAreaRight" b="textAreaBottom"/>
              <a:pathLst>
                <a:path w="215" h="2440">
                  <a:moveTo>
                    <a:pt x="215" y="343"/>
                  </a:moveTo>
                  <a:lnTo>
                    <a:pt x="215" y="2440"/>
                  </a:lnTo>
                  <a:lnTo>
                    <a:pt x="202" y="2428"/>
                  </a:lnTo>
                  <a:lnTo>
                    <a:pt x="171" y="2396"/>
                  </a:lnTo>
                  <a:lnTo>
                    <a:pt x="150" y="2374"/>
                  </a:lnTo>
                  <a:lnTo>
                    <a:pt x="128" y="2349"/>
                  </a:lnTo>
                  <a:lnTo>
                    <a:pt x="104" y="2320"/>
                  </a:lnTo>
                  <a:lnTo>
                    <a:pt x="80" y="2291"/>
                  </a:lnTo>
                  <a:lnTo>
                    <a:pt x="69" y="2276"/>
                  </a:lnTo>
                  <a:lnTo>
                    <a:pt x="58" y="2260"/>
                  </a:lnTo>
                  <a:lnTo>
                    <a:pt x="48" y="2245"/>
                  </a:lnTo>
                  <a:lnTo>
                    <a:pt x="38" y="2229"/>
                  </a:lnTo>
                  <a:lnTo>
                    <a:pt x="29" y="2213"/>
                  </a:lnTo>
                  <a:lnTo>
                    <a:pt x="21" y="2198"/>
                  </a:lnTo>
                  <a:lnTo>
                    <a:pt x="15" y="2182"/>
                  </a:lnTo>
                  <a:lnTo>
                    <a:pt x="9" y="2168"/>
                  </a:lnTo>
                  <a:lnTo>
                    <a:pt x="4" y="2153"/>
                  </a:lnTo>
                  <a:lnTo>
                    <a:pt x="1" y="2139"/>
                  </a:lnTo>
                  <a:lnTo>
                    <a:pt x="0" y="2126"/>
                  </a:lnTo>
                  <a:lnTo>
                    <a:pt x="0" y="2113"/>
                  </a:lnTo>
                  <a:lnTo>
                    <a:pt x="2" y="2099"/>
                  </a:lnTo>
                  <a:lnTo>
                    <a:pt x="6" y="2088"/>
                  </a:lnTo>
                  <a:lnTo>
                    <a:pt x="11" y="2077"/>
                  </a:lnTo>
                  <a:lnTo>
                    <a:pt x="19" y="2068"/>
                  </a:lnTo>
                  <a:lnTo>
                    <a:pt x="19" y="0"/>
                  </a:lnTo>
                  <a:lnTo>
                    <a:pt x="21" y="7"/>
                  </a:lnTo>
                  <a:lnTo>
                    <a:pt x="28" y="25"/>
                  </a:lnTo>
                  <a:lnTo>
                    <a:pt x="40" y="54"/>
                  </a:lnTo>
                  <a:lnTo>
                    <a:pt x="58" y="95"/>
                  </a:lnTo>
                  <a:lnTo>
                    <a:pt x="70" y="118"/>
                  </a:lnTo>
                  <a:lnTo>
                    <a:pt x="84" y="144"/>
                  </a:lnTo>
                  <a:lnTo>
                    <a:pt x="101" y="172"/>
                  </a:lnTo>
                  <a:lnTo>
                    <a:pt x="119" y="203"/>
                  </a:lnTo>
                  <a:lnTo>
                    <a:pt x="139" y="235"/>
                  </a:lnTo>
                  <a:lnTo>
                    <a:pt x="162" y="269"/>
                  </a:lnTo>
                  <a:lnTo>
                    <a:pt x="187" y="305"/>
                  </a:lnTo>
                  <a:lnTo>
                    <a:pt x="215" y="343"/>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1" name="Freeform 262"/>
            <p:cNvSpPr/>
            <p:nvPr/>
          </p:nvSpPr>
          <p:spPr>
            <a:xfrm>
              <a:off x="872280" y="2434680"/>
              <a:ext cx="77040" cy="203760"/>
            </a:xfrm>
            <a:custGeom>
              <a:avLst/>
              <a:gdLst>
                <a:gd name="textAreaLeft" fmla="*/ 0 w 77040"/>
                <a:gd name="textAreaRight" fmla="*/ 77400 w 77040"/>
                <a:gd name="textAreaTop" fmla="*/ 0 h 203760"/>
                <a:gd name="textAreaBottom" fmla="*/ 204120 h 203760"/>
              </a:gdLst>
              <a:ahLst/>
              <a:rect l="textAreaLeft" t="textAreaTop" r="textAreaRight" b="textAreaBottom"/>
              <a:pathLst>
                <a:path w="999" h="2499">
                  <a:moveTo>
                    <a:pt x="999" y="0"/>
                  </a:moveTo>
                  <a:lnTo>
                    <a:pt x="999" y="2156"/>
                  </a:lnTo>
                  <a:lnTo>
                    <a:pt x="995" y="2158"/>
                  </a:lnTo>
                  <a:lnTo>
                    <a:pt x="984" y="2164"/>
                  </a:lnTo>
                  <a:lnTo>
                    <a:pt x="966" y="2173"/>
                  </a:lnTo>
                  <a:lnTo>
                    <a:pt x="941" y="2186"/>
                  </a:lnTo>
                  <a:lnTo>
                    <a:pt x="909" y="2200"/>
                  </a:lnTo>
                  <a:lnTo>
                    <a:pt x="872" y="2217"/>
                  </a:lnTo>
                  <a:lnTo>
                    <a:pt x="830" y="2236"/>
                  </a:lnTo>
                  <a:lnTo>
                    <a:pt x="781" y="2256"/>
                  </a:lnTo>
                  <a:lnTo>
                    <a:pt x="729" y="2278"/>
                  </a:lnTo>
                  <a:lnTo>
                    <a:pt x="671" y="2301"/>
                  </a:lnTo>
                  <a:lnTo>
                    <a:pt x="610" y="2324"/>
                  </a:lnTo>
                  <a:lnTo>
                    <a:pt x="544" y="2346"/>
                  </a:lnTo>
                  <a:lnTo>
                    <a:pt x="476" y="2369"/>
                  </a:lnTo>
                  <a:lnTo>
                    <a:pt x="405" y="2390"/>
                  </a:lnTo>
                  <a:lnTo>
                    <a:pt x="368" y="2402"/>
                  </a:lnTo>
                  <a:lnTo>
                    <a:pt x="331" y="2412"/>
                  </a:lnTo>
                  <a:lnTo>
                    <a:pt x="293" y="2421"/>
                  </a:lnTo>
                  <a:lnTo>
                    <a:pt x="255" y="2431"/>
                  </a:lnTo>
                  <a:lnTo>
                    <a:pt x="10" y="2499"/>
                  </a:lnTo>
                  <a:lnTo>
                    <a:pt x="0" y="353"/>
                  </a:lnTo>
                  <a:lnTo>
                    <a:pt x="19" y="347"/>
                  </a:lnTo>
                  <a:lnTo>
                    <a:pt x="73" y="333"/>
                  </a:lnTo>
                  <a:lnTo>
                    <a:pt x="150" y="313"/>
                  </a:lnTo>
                  <a:lnTo>
                    <a:pt x="243" y="287"/>
                  </a:lnTo>
                  <a:lnTo>
                    <a:pt x="342" y="259"/>
                  </a:lnTo>
                  <a:lnTo>
                    <a:pt x="439" y="229"/>
                  </a:lnTo>
                  <a:lnTo>
                    <a:pt x="483" y="214"/>
                  </a:lnTo>
                  <a:lnTo>
                    <a:pt x="523" y="201"/>
                  </a:lnTo>
                  <a:lnTo>
                    <a:pt x="559" y="188"/>
                  </a:lnTo>
                  <a:lnTo>
                    <a:pt x="588" y="177"/>
                  </a:lnTo>
                  <a:lnTo>
                    <a:pt x="606" y="171"/>
                  </a:lnTo>
                  <a:lnTo>
                    <a:pt x="652" y="155"/>
                  </a:lnTo>
                  <a:lnTo>
                    <a:pt x="718" y="132"/>
                  </a:lnTo>
                  <a:lnTo>
                    <a:pt x="793" y="103"/>
                  </a:lnTo>
                  <a:lnTo>
                    <a:pt x="832" y="88"/>
                  </a:lnTo>
                  <a:lnTo>
                    <a:pt x="869" y="73"/>
                  </a:lnTo>
                  <a:lnTo>
                    <a:pt x="904" y="59"/>
                  </a:lnTo>
                  <a:lnTo>
                    <a:pt x="935" y="45"/>
                  </a:lnTo>
                  <a:lnTo>
                    <a:pt x="962" y="31"/>
                  </a:lnTo>
                  <a:lnTo>
                    <a:pt x="982" y="19"/>
                  </a:lnTo>
                  <a:lnTo>
                    <a:pt x="989" y="14"/>
                  </a:lnTo>
                  <a:lnTo>
                    <a:pt x="995" y="9"/>
                  </a:lnTo>
                  <a:lnTo>
                    <a:pt x="998" y="4"/>
                  </a:lnTo>
                  <a:lnTo>
                    <a:pt x="999"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2" name="Freeform 263"/>
            <p:cNvSpPr/>
            <p:nvPr/>
          </p:nvSpPr>
          <p:spPr>
            <a:xfrm>
              <a:off x="1448280" y="2411280"/>
              <a:ext cx="17280" cy="192960"/>
            </a:xfrm>
            <a:custGeom>
              <a:avLst/>
              <a:gdLst>
                <a:gd name="textAreaLeft" fmla="*/ 0 w 17280"/>
                <a:gd name="textAreaRight" fmla="*/ 17640 w 17280"/>
                <a:gd name="textAreaTop" fmla="*/ 0 h 192960"/>
                <a:gd name="textAreaBottom" fmla="*/ 193320 h 192960"/>
              </a:gdLst>
              <a:ahLst/>
              <a:rect l="textAreaLeft" t="textAreaTop" r="textAreaRight" b="textAreaBottom"/>
              <a:pathLst>
                <a:path w="235" h="2392">
                  <a:moveTo>
                    <a:pt x="235" y="305"/>
                  </a:moveTo>
                  <a:lnTo>
                    <a:pt x="235" y="2392"/>
                  </a:lnTo>
                  <a:lnTo>
                    <a:pt x="228" y="2381"/>
                  </a:lnTo>
                  <a:lnTo>
                    <a:pt x="211" y="2350"/>
                  </a:lnTo>
                  <a:lnTo>
                    <a:pt x="198" y="2329"/>
                  </a:lnTo>
                  <a:lnTo>
                    <a:pt x="184" y="2306"/>
                  </a:lnTo>
                  <a:lnTo>
                    <a:pt x="168" y="2282"/>
                  </a:lnTo>
                  <a:lnTo>
                    <a:pt x="151" y="2258"/>
                  </a:lnTo>
                  <a:lnTo>
                    <a:pt x="132" y="2233"/>
                  </a:lnTo>
                  <a:lnTo>
                    <a:pt x="113" y="2209"/>
                  </a:lnTo>
                  <a:lnTo>
                    <a:pt x="93" y="2188"/>
                  </a:lnTo>
                  <a:lnTo>
                    <a:pt x="74" y="2169"/>
                  </a:lnTo>
                  <a:lnTo>
                    <a:pt x="64" y="2161"/>
                  </a:lnTo>
                  <a:lnTo>
                    <a:pt x="55" y="2154"/>
                  </a:lnTo>
                  <a:lnTo>
                    <a:pt x="45" y="2148"/>
                  </a:lnTo>
                  <a:lnTo>
                    <a:pt x="36" y="2143"/>
                  </a:lnTo>
                  <a:lnTo>
                    <a:pt x="26" y="2140"/>
                  </a:lnTo>
                  <a:lnTo>
                    <a:pt x="18" y="2137"/>
                  </a:lnTo>
                  <a:lnTo>
                    <a:pt x="8" y="2137"/>
                  </a:lnTo>
                  <a:lnTo>
                    <a:pt x="0" y="2138"/>
                  </a:lnTo>
                  <a:lnTo>
                    <a:pt x="0" y="1"/>
                  </a:lnTo>
                  <a:lnTo>
                    <a:pt x="3" y="1"/>
                  </a:lnTo>
                  <a:lnTo>
                    <a:pt x="13" y="0"/>
                  </a:lnTo>
                  <a:lnTo>
                    <a:pt x="20" y="0"/>
                  </a:lnTo>
                  <a:lnTo>
                    <a:pt x="28" y="1"/>
                  </a:lnTo>
                  <a:lnTo>
                    <a:pt x="36" y="3"/>
                  </a:lnTo>
                  <a:lnTo>
                    <a:pt x="46" y="6"/>
                  </a:lnTo>
                  <a:lnTo>
                    <a:pt x="55" y="10"/>
                  </a:lnTo>
                  <a:lnTo>
                    <a:pt x="66" y="16"/>
                  </a:lnTo>
                  <a:lnTo>
                    <a:pt x="76" y="24"/>
                  </a:lnTo>
                  <a:lnTo>
                    <a:pt x="87" y="34"/>
                  </a:lnTo>
                  <a:lnTo>
                    <a:pt x="97" y="46"/>
                  </a:lnTo>
                  <a:lnTo>
                    <a:pt x="107" y="61"/>
                  </a:lnTo>
                  <a:lnTo>
                    <a:pt x="117" y="79"/>
                  </a:lnTo>
                  <a:lnTo>
                    <a:pt x="127" y="99"/>
                  </a:lnTo>
                  <a:lnTo>
                    <a:pt x="235" y="30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3" name="Freeform 264"/>
            <p:cNvSpPr/>
            <p:nvPr/>
          </p:nvSpPr>
          <p:spPr>
            <a:xfrm>
              <a:off x="1219680" y="2348280"/>
              <a:ext cx="168840" cy="244800"/>
            </a:xfrm>
            <a:custGeom>
              <a:avLst/>
              <a:gdLst>
                <a:gd name="textAreaLeft" fmla="*/ 0 w 168840"/>
                <a:gd name="textAreaRight" fmla="*/ 169200 w 168840"/>
                <a:gd name="textAreaTop" fmla="*/ 0 h 244800"/>
                <a:gd name="textAreaBottom" fmla="*/ 245160 h 244800"/>
              </a:gdLst>
              <a:ahLst/>
              <a:rect l="textAreaLeft" t="textAreaTop" r="textAreaRight" b="textAreaBottom"/>
              <a:pathLst>
                <a:path w="2146" h="3018">
                  <a:moveTo>
                    <a:pt x="2146" y="892"/>
                  </a:moveTo>
                  <a:lnTo>
                    <a:pt x="2131" y="887"/>
                  </a:lnTo>
                  <a:lnTo>
                    <a:pt x="2090" y="873"/>
                  </a:lnTo>
                  <a:lnTo>
                    <a:pt x="2024" y="850"/>
                  </a:lnTo>
                  <a:lnTo>
                    <a:pt x="1936" y="818"/>
                  </a:lnTo>
                  <a:lnTo>
                    <a:pt x="1828" y="779"/>
                  </a:lnTo>
                  <a:lnTo>
                    <a:pt x="1702" y="734"/>
                  </a:lnTo>
                  <a:lnTo>
                    <a:pt x="1562" y="681"/>
                  </a:lnTo>
                  <a:lnTo>
                    <a:pt x="1407" y="622"/>
                  </a:lnTo>
                  <a:lnTo>
                    <a:pt x="1243" y="558"/>
                  </a:lnTo>
                  <a:lnTo>
                    <a:pt x="1071" y="489"/>
                  </a:lnTo>
                  <a:lnTo>
                    <a:pt x="983" y="452"/>
                  </a:lnTo>
                  <a:lnTo>
                    <a:pt x="893" y="415"/>
                  </a:lnTo>
                  <a:lnTo>
                    <a:pt x="803" y="377"/>
                  </a:lnTo>
                  <a:lnTo>
                    <a:pt x="712" y="337"/>
                  </a:lnTo>
                  <a:lnTo>
                    <a:pt x="620" y="298"/>
                  </a:lnTo>
                  <a:lnTo>
                    <a:pt x="530" y="257"/>
                  </a:lnTo>
                  <a:lnTo>
                    <a:pt x="439" y="215"/>
                  </a:lnTo>
                  <a:lnTo>
                    <a:pt x="349" y="173"/>
                  </a:lnTo>
                  <a:lnTo>
                    <a:pt x="259" y="131"/>
                  </a:lnTo>
                  <a:lnTo>
                    <a:pt x="172" y="87"/>
                  </a:lnTo>
                  <a:lnTo>
                    <a:pt x="85" y="44"/>
                  </a:lnTo>
                  <a:lnTo>
                    <a:pt x="0" y="0"/>
                  </a:lnTo>
                  <a:lnTo>
                    <a:pt x="0" y="2156"/>
                  </a:lnTo>
                  <a:lnTo>
                    <a:pt x="5" y="2156"/>
                  </a:lnTo>
                  <a:lnTo>
                    <a:pt x="20" y="2155"/>
                  </a:lnTo>
                  <a:lnTo>
                    <a:pt x="31" y="2155"/>
                  </a:lnTo>
                  <a:lnTo>
                    <a:pt x="44" y="2156"/>
                  </a:lnTo>
                  <a:lnTo>
                    <a:pt x="59" y="2158"/>
                  </a:lnTo>
                  <a:lnTo>
                    <a:pt x="75" y="2161"/>
                  </a:lnTo>
                  <a:lnTo>
                    <a:pt x="94" y="2165"/>
                  </a:lnTo>
                  <a:lnTo>
                    <a:pt x="115" y="2171"/>
                  </a:lnTo>
                  <a:lnTo>
                    <a:pt x="137" y="2179"/>
                  </a:lnTo>
                  <a:lnTo>
                    <a:pt x="162" y="2189"/>
                  </a:lnTo>
                  <a:lnTo>
                    <a:pt x="188" y="2201"/>
                  </a:lnTo>
                  <a:lnTo>
                    <a:pt x="215" y="2216"/>
                  </a:lnTo>
                  <a:lnTo>
                    <a:pt x="244" y="2233"/>
                  </a:lnTo>
                  <a:lnTo>
                    <a:pt x="275" y="2253"/>
                  </a:lnTo>
                  <a:lnTo>
                    <a:pt x="293" y="2263"/>
                  </a:lnTo>
                  <a:lnTo>
                    <a:pt x="345" y="2287"/>
                  </a:lnTo>
                  <a:lnTo>
                    <a:pt x="426" y="2325"/>
                  </a:lnTo>
                  <a:lnTo>
                    <a:pt x="532" y="2374"/>
                  </a:lnTo>
                  <a:lnTo>
                    <a:pt x="658" y="2433"/>
                  </a:lnTo>
                  <a:lnTo>
                    <a:pt x="800" y="2498"/>
                  </a:lnTo>
                  <a:lnTo>
                    <a:pt x="954" y="2568"/>
                  </a:lnTo>
                  <a:lnTo>
                    <a:pt x="1115" y="2640"/>
                  </a:lnTo>
                  <a:lnTo>
                    <a:pt x="1279" y="2711"/>
                  </a:lnTo>
                  <a:lnTo>
                    <a:pt x="1442" y="2781"/>
                  </a:lnTo>
                  <a:lnTo>
                    <a:pt x="1521" y="2814"/>
                  </a:lnTo>
                  <a:lnTo>
                    <a:pt x="1599" y="2845"/>
                  </a:lnTo>
                  <a:lnTo>
                    <a:pt x="1674" y="2876"/>
                  </a:lnTo>
                  <a:lnTo>
                    <a:pt x="1746" y="2903"/>
                  </a:lnTo>
                  <a:lnTo>
                    <a:pt x="1815" y="2928"/>
                  </a:lnTo>
                  <a:lnTo>
                    <a:pt x="1878" y="2951"/>
                  </a:lnTo>
                  <a:lnTo>
                    <a:pt x="1938" y="2971"/>
                  </a:lnTo>
                  <a:lnTo>
                    <a:pt x="1992" y="2989"/>
                  </a:lnTo>
                  <a:lnTo>
                    <a:pt x="2041" y="3002"/>
                  </a:lnTo>
                  <a:lnTo>
                    <a:pt x="2083" y="3011"/>
                  </a:lnTo>
                  <a:lnTo>
                    <a:pt x="2118" y="3017"/>
                  </a:lnTo>
                  <a:lnTo>
                    <a:pt x="2146" y="3018"/>
                  </a:lnTo>
                  <a:lnTo>
                    <a:pt x="2146" y="892"/>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4" name="Freeform 265"/>
            <p:cNvSpPr/>
            <p:nvPr/>
          </p:nvSpPr>
          <p:spPr>
            <a:xfrm>
              <a:off x="566640" y="2252880"/>
              <a:ext cx="6120" cy="188280"/>
            </a:xfrm>
            <a:custGeom>
              <a:avLst/>
              <a:gdLst>
                <a:gd name="textAreaLeft" fmla="*/ 0 w 6120"/>
                <a:gd name="textAreaRight" fmla="*/ 6480 w 6120"/>
                <a:gd name="textAreaTop" fmla="*/ 0 h 188280"/>
                <a:gd name="textAreaBottom" fmla="*/ 188640 h 188280"/>
              </a:gdLst>
              <a:ahLst/>
              <a:rect l="textAreaLeft" t="textAreaTop" r="textAreaRight" b="textAreaBottom"/>
              <a:pathLst>
                <a:path w="88" h="2322">
                  <a:moveTo>
                    <a:pt x="88" y="176"/>
                  </a:moveTo>
                  <a:lnTo>
                    <a:pt x="0" y="0"/>
                  </a:lnTo>
                  <a:lnTo>
                    <a:pt x="0" y="2116"/>
                  </a:lnTo>
                  <a:lnTo>
                    <a:pt x="88" y="2322"/>
                  </a:lnTo>
                  <a:lnTo>
                    <a:pt x="88" y="17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5" name="Freeform 266"/>
            <p:cNvSpPr/>
            <p:nvPr/>
          </p:nvSpPr>
          <p:spPr>
            <a:xfrm>
              <a:off x="494280" y="2148480"/>
              <a:ext cx="28080" cy="192960"/>
            </a:xfrm>
            <a:custGeom>
              <a:avLst/>
              <a:gdLst>
                <a:gd name="textAreaLeft" fmla="*/ 0 w 28080"/>
                <a:gd name="textAreaRight" fmla="*/ 28440 w 28080"/>
                <a:gd name="textAreaTop" fmla="*/ 0 h 192960"/>
                <a:gd name="textAreaBottom" fmla="*/ 193320 h 192960"/>
              </a:gdLst>
              <a:ahLst/>
              <a:rect l="textAreaLeft" t="textAreaTop" r="textAreaRight" b="textAreaBottom"/>
              <a:pathLst>
                <a:path w="373" h="2381">
                  <a:moveTo>
                    <a:pt x="0" y="235"/>
                  </a:moveTo>
                  <a:lnTo>
                    <a:pt x="10" y="2381"/>
                  </a:lnTo>
                  <a:lnTo>
                    <a:pt x="24" y="2379"/>
                  </a:lnTo>
                  <a:lnTo>
                    <a:pt x="62" y="2373"/>
                  </a:lnTo>
                  <a:lnTo>
                    <a:pt x="89" y="2367"/>
                  </a:lnTo>
                  <a:lnTo>
                    <a:pt x="117" y="2360"/>
                  </a:lnTo>
                  <a:lnTo>
                    <a:pt x="148" y="2350"/>
                  </a:lnTo>
                  <a:lnTo>
                    <a:pt x="180" y="2336"/>
                  </a:lnTo>
                  <a:lnTo>
                    <a:pt x="196" y="2329"/>
                  </a:lnTo>
                  <a:lnTo>
                    <a:pt x="213" y="2321"/>
                  </a:lnTo>
                  <a:lnTo>
                    <a:pt x="229" y="2313"/>
                  </a:lnTo>
                  <a:lnTo>
                    <a:pt x="245" y="2303"/>
                  </a:lnTo>
                  <a:lnTo>
                    <a:pt x="260" y="2293"/>
                  </a:lnTo>
                  <a:lnTo>
                    <a:pt x="275" y="2282"/>
                  </a:lnTo>
                  <a:lnTo>
                    <a:pt x="290" y="2270"/>
                  </a:lnTo>
                  <a:lnTo>
                    <a:pt x="303" y="2257"/>
                  </a:lnTo>
                  <a:lnTo>
                    <a:pt x="316" y="2243"/>
                  </a:lnTo>
                  <a:lnTo>
                    <a:pt x="329" y="2229"/>
                  </a:lnTo>
                  <a:lnTo>
                    <a:pt x="339" y="2212"/>
                  </a:lnTo>
                  <a:lnTo>
                    <a:pt x="349" y="2195"/>
                  </a:lnTo>
                  <a:lnTo>
                    <a:pt x="357" y="2177"/>
                  </a:lnTo>
                  <a:lnTo>
                    <a:pt x="364" y="2158"/>
                  </a:lnTo>
                  <a:lnTo>
                    <a:pt x="369" y="2138"/>
                  </a:lnTo>
                  <a:lnTo>
                    <a:pt x="373" y="2117"/>
                  </a:lnTo>
                  <a:lnTo>
                    <a:pt x="373" y="0"/>
                  </a:lnTo>
                  <a:lnTo>
                    <a:pt x="365" y="11"/>
                  </a:lnTo>
                  <a:lnTo>
                    <a:pt x="342" y="42"/>
                  </a:lnTo>
                  <a:lnTo>
                    <a:pt x="326" y="62"/>
                  </a:lnTo>
                  <a:lnTo>
                    <a:pt x="306" y="85"/>
                  </a:lnTo>
                  <a:lnTo>
                    <a:pt x="284" y="108"/>
                  </a:lnTo>
                  <a:lnTo>
                    <a:pt x="260" y="132"/>
                  </a:lnTo>
                  <a:lnTo>
                    <a:pt x="247" y="144"/>
                  </a:lnTo>
                  <a:lnTo>
                    <a:pt x="233" y="155"/>
                  </a:lnTo>
                  <a:lnTo>
                    <a:pt x="219" y="166"/>
                  </a:lnTo>
                  <a:lnTo>
                    <a:pt x="205" y="177"/>
                  </a:lnTo>
                  <a:lnTo>
                    <a:pt x="189" y="187"/>
                  </a:lnTo>
                  <a:lnTo>
                    <a:pt x="173" y="198"/>
                  </a:lnTo>
                  <a:lnTo>
                    <a:pt x="157" y="207"/>
                  </a:lnTo>
                  <a:lnTo>
                    <a:pt x="141" y="215"/>
                  </a:lnTo>
                  <a:lnTo>
                    <a:pt x="124" y="222"/>
                  </a:lnTo>
                  <a:lnTo>
                    <a:pt x="108" y="228"/>
                  </a:lnTo>
                  <a:lnTo>
                    <a:pt x="90" y="233"/>
                  </a:lnTo>
                  <a:lnTo>
                    <a:pt x="73" y="236"/>
                  </a:lnTo>
                  <a:lnTo>
                    <a:pt x="54" y="238"/>
                  </a:lnTo>
                  <a:lnTo>
                    <a:pt x="37" y="239"/>
                  </a:lnTo>
                  <a:lnTo>
                    <a:pt x="19" y="238"/>
                  </a:lnTo>
                  <a:lnTo>
                    <a:pt x="0" y="235"/>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6" name="Freeform 267"/>
            <p:cNvSpPr/>
            <p:nvPr/>
          </p:nvSpPr>
          <p:spPr>
            <a:xfrm>
              <a:off x="781920" y="2082600"/>
              <a:ext cx="55080" cy="181440"/>
            </a:xfrm>
            <a:custGeom>
              <a:avLst/>
              <a:gdLst>
                <a:gd name="textAreaLeft" fmla="*/ 0 w 55080"/>
                <a:gd name="textAreaRight" fmla="*/ 55440 w 55080"/>
                <a:gd name="textAreaTop" fmla="*/ 0 h 181440"/>
                <a:gd name="textAreaBottom" fmla="*/ 181800 h 181440"/>
              </a:gdLst>
              <a:ahLst/>
              <a:rect l="textAreaLeft" t="textAreaTop" r="textAreaRight" b="textAreaBottom"/>
              <a:pathLst>
                <a:path w="715" h="2254">
                  <a:moveTo>
                    <a:pt x="715" y="60"/>
                  </a:moveTo>
                  <a:lnTo>
                    <a:pt x="715" y="2205"/>
                  </a:lnTo>
                  <a:lnTo>
                    <a:pt x="712" y="2203"/>
                  </a:lnTo>
                  <a:lnTo>
                    <a:pt x="702" y="2199"/>
                  </a:lnTo>
                  <a:lnTo>
                    <a:pt x="684" y="2192"/>
                  </a:lnTo>
                  <a:lnTo>
                    <a:pt x="661" y="2184"/>
                  </a:lnTo>
                  <a:lnTo>
                    <a:pt x="632" y="2175"/>
                  </a:lnTo>
                  <a:lnTo>
                    <a:pt x="597" y="2166"/>
                  </a:lnTo>
                  <a:lnTo>
                    <a:pt x="578" y="2162"/>
                  </a:lnTo>
                  <a:lnTo>
                    <a:pt x="557" y="2159"/>
                  </a:lnTo>
                  <a:lnTo>
                    <a:pt x="535" y="2155"/>
                  </a:lnTo>
                  <a:lnTo>
                    <a:pt x="512" y="2153"/>
                  </a:lnTo>
                  <a:lnTo>
                    <a:pt x="487" y="2150"/>
                  </a:lnTo>
                  <a:lnTo>
                    <a:pt x="462" y="2149"/>
                  </a:lnTo>
                  <a:lnTo>
                    <a:pt x="434" y="2148"/>
                  </a:lnTo>
                  <a:lnTo>
                    <a:pt x="407" y="2148"/>
                  </a:lnTo>
                  <a:lnTo>
                    <a:pt x="378" y="2150"/>
                  </a:lnTo>
                  <a:lnTo>
                    <a:pt x="348" y="2152"/>
                  </a:lnTo>
                  <a:lnTo>
                    <a:pt x="318" y="2155"/>
                  </a:lnTo>
                  <a:lnTo>
                    <a:pt x="285" y="2160"/>
                  </a:lnTo>
                  <a:lnTo>
                    <a:pt x="252" y="2166"/>
                  </a:lnTo>
                  <a:lnTo>
                    <a:pt x="219" y="2173"/>
                  </a:lnTo>
                  <a:lnTo>
                    <a:pt x="184" y="2182"/>
                  </a:lnTo>
                  <a:lnTo>
                    <a:pt x="149" y="2193"/>
                  </a:lnTo>
                  <a:lnTo>
                    <a:pt x="113" y="2205"/>
                  </a:lnTo>
                  <a:lnTo>
                    <a:pt x="76" y="2220"/>
                  </a:lnTo>
                  <a:lnTo>
                    <a:pt x="38" y="2236"/>
                  </a:lnTo>
                  <a:lnTo>
                    <a:pt x="0" y="2254"/>
                  </a:lnTo>
                  <a:lnTo>
                    <a:pt x="0" y="108"/>
                  </a:lnTo>
                  <a:lnTo>
                    <a:pt x="6" y="106"/>
                  </a:lnTo>
                  <a:lnTo>
                    <a:pt x="24" y="100"/>
                  </a:lnTo>
                  <a:lnTo>
                    <a:pt x="53" y="90"/>
                  </a:lnTo>
                  <a:lnTo>
                    <a:pt x="91" y="79"/>
                  </a:lnTo>
                  <a:lnTo>
                    <a:pt x="136" y="66"/>
                  </a:lnTo>
                  <a:lnTo>
                    <a:pt x="188" y="51"/>
                  </a:lnTo>
                  <a:lnTo>
                    <a:pt x="243" y="37"/>
                  </a:lnTo>
                  <a:lnTo>
                    <a:pt x="302" y="25"/>
                  </a:lnTo>
                  <a:lnTo>
                    <a:pt x="333" y="19"/>
                  </a:lnTo>
                  <a:lnTo>
                    <a:pt x="363" y="14"/>
                  </a:lnTo>
                  <a:lnTo>
                    <a:pt x="394" y="9"/>
                  </a:lnTo>
                  <a:lnTo>
                    <a:pt x="424" y="6"/>
                  </a:lnTo>
                  <a:lnTo>
                    <a:pt x="455" y="3"/>
                  </a:lnTo>
                  <a:lnTo>
                    <a:pt x="484" y="1"/>
                  </a:lnTo>
                  <a:lnTo>
                    <a:pt x="513" y="0"/>
                  </a:lnTo>
                  <a:lnTo>
                    <a:pt x="541" y="1"/>
                  </a:lnTo>
                  <a:lnTo>
                    <a:pt x="569" y="2"/>
                  </a:lnTo>
                  <a:lnTo>
                    <a:pt x="595" y="5"/>
                  </a:lnTo>
                  <a:lnTo>
                    <a:pt x="619" y="10"/>
                  </a:lnTo>
                  <a:lnTo>
                    <a:pt x="642" y="16"/>
                  </a:lnTo>
                  <a:lnTo>
                    <a:pt x="663" y="24"/>
                  </a:lnTo>
                  <a:lnTo>
                    <a:pt x="682" y="34"/>
                  </a:lnTo>
                  <a:lnTo>
                    <a:pt x="700" y="45"/>
                  </a:lnTo>
                  <a:lnTo>
                    <a:pt x="715" y="6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7" name="Freeform 268"/>
            <p:cNvSpPr/>
            <p:nvPr/>
          </p:nvSpPr>
          <p:spPr>
            <a:xfrm>
              <a:off x="753480" y="1834920"/>
              <a:ext cx="90000" cy="274680"/>
            </a:xfrm>
            <a:custGeom>
              <a:avLst/>
              <a:gdLst>
                <a:gd name="textAreaLeft" fmla="*/ 0 w 90000"/>
                <a:gd name="textAreaRight" fmla="*/ 90360 w 90000"/>
                <a:gd name="textAreaTop" fmla="*/ 0 h 274680"/>
                <a:gd name="textAreaBottom" fmla="*/ 275040 h 274680"/>
              </a:gdLst>
              <a:ahLst/>
              <a:rect l="textAreaLeft" t="textAreaTop" r="textAreaRight" b="textAreaBottom"/>
              <a:pathLst>
                <a:path w="1157" h="3390">
                  <a:moveTo>
                    <a:pt x="1157" y="1558"/>
                  </a:moveTo>
                  <a:lnTo>
                    <a:pt x="1153" y="1549"/>
                  </a:lnTo>
                  <a:lnTo>
                    <a:pt x="1140" y="1525"/>
                  </a:lnTo>
                  <a:lnTo>
                    <a:pt x="1119" y="1487"/>
                  </a:lnTo>
                  <a:lnTo>
                    <a:pt x="1092" y="1438"/>
                  </a:lnTo>
                  <a:lnTo>
                    <a:pt x="1057" y="1377"/>
                  </a:lnTo>
                  <a:lnTo>
                    <a:pt x="1017" y="1310"/>
                  </a:lnTo>
                  <a:lnTo>
                    <a:pt x="972" y="1235"/>
                  </a:lnTo>
                  <a:lnTo>
                    <a:pt x="922" y="1155"/>
                  </a:lnTo>
                  <a:lnTo>
                    <a:pt x="869" y="1074"/>
                  </a:lnTo>
                  <a:lnTo>
                    <a:pt x="813" y="991"/>
                  </a:lnTo>
                  <a:lnTo>
                    <a:pt x="784" y="950"/>
                  </a:lnTo>
                  <a:lnTo>
                    <a:pt x="755" y="909"/>
                  </a:lnTo>
                  <a:lnTo>
                    <a:pt x="725" y="869"/>
                  </a:lnTo>
                  <a:lnTo>
                    <a:pt x="695" y="830"/>
                  </a:lnTo>
                  <a:lnTo>
                    <a:pt x="664" y="792"/>
                  </a:lnTo>
                  <a:lnTo>
                    <a:pt x="633" y="755"/>
                  </a:lnTo>
                  <a:lnTo>
                    <a:pt x="603" y="721"/>
                  </a:lnTo>
                  <a:lnTo>
                    <a:pt x="573" y="687"/>
                  </a:lnTo>
                  <a:lnTo>
                    <a:pt x="541" y="656"/>
                  </a:lnTo>
                  <a:lnTo>
                    <a:pt x="511" y="627"/>
                  </a:lnTo>
                  <a:lnTo>
                    <a:pt x="482" y="601"/>
                  </a:lnTo>
                  <a:lnTo>
                    <a:pt x="452" y="578"/>
                  </a:lnTo>
                  <a:lnTo>
                    <a:pt x="432" y="559"/>
                  </a:lnTo>
                  <a:lnTo>
                    <a:pt x="379" y="512"/>
                  </a:lnTo>
                  <a:lnTo>
                    <a:pt x="344" y="479"/>
                  </a:lnTo>
                  <a:lnTo>
                    <a:pt x="305" y="441"/>
                  </a:lnTo>
                  <a:lnTo>
                    <a:pt x="262" y="399"/>
                  </a:lnTo>
                  <a:lnTo>
                    <a:pt x="220" y="355"/>
                  </a:lnTo>
                  <a:lnTo>
                    <a:pt x="198" y="331"/>
                  </a:lnTo>
                  <a:lnTo>
                    <a:pt x="177" y="307"/>
                  </a:lnTo>
                  <a:lnTo>
                    <a:pt x="155" y="284"/>
                  </a:lnTo>
                  <a:lnTo>
                    <a:pt x="135" y="260"/>
                  </a:lnTo>
                  <a:lnTo>
                    <a:pt x="116" y="236"/>
                  </a:lnTo>
                  <a:lnTo>
                    <a:pt x="97" y="211"/>
                  </a:lnTo>
                  <a:lnTo>
                    <a:pt x="80" y="187"/>
                  </a:lnTo>
                  <a:lnTo>
                    <a:pt x="64" y="164"/>
                  </a:lnTo>
                  <a:lnTo>
                    <a:pt x="49" y="141"/>
                  </a:lnTo>
                  <a:lnTo>
                    <a:pt x="35" y="118"/>
                  </a:lnTo>
                  <a:lnTo>
                    <a:pt x="24" y="97"/>
                  </a:lnTo>
                  <a:lnTo>
                    <a:pt x="15" y="74"/>
                  </a:lnTo>
                  <a:lnTo>
                    <a:pt x="8" y="54"/>
                  </a:lnTo>
                  <a:lnTo>
                    <a:pt x="3" y="35"/>
                  </a:lnTo>
                  <a:lnTo>
                    <a:pt x="1" y="17"/>
                  </a:lnTo>
                  <a:lnTo>
                    <a:pt x="1" y="0"/>
                  </a:lnTo>
                  <a:lnTo>
                    <a:pt x="1" y="2067"/>
                  </a:lnTo>
                  <a:lnTo>
                    <a:pt x="1" y="2069"/>
                  </a:lnTo>
                  <a:lnTo>
                    <a:pt x="0" y="2076"/>
                  </a:lnTo>
                  <a:lnTo>
                    <a:pt x="0" y="2088"/>
                  </a:lnTo>
                  <a:lnTo>
                    <a:pt x="1" y="2103"/>
                  </a:lnTo>
                  <a:lnTo>
                    <a:pt x="2" y="2113"/>
                  </a:lnTo>
                  <a:lnTo>
                    <a:pt x="4" y="2124"/>
                  </a:lnTo>
                  <a:lnTo>
                    <a:pt x="7" y="2137"/>
                  </a:lnTo>
                  <a:lnTo>
                    <a:pt x="10" y="2150"/>
                  </a:lnTo>
                  <a:lnTo>
                    <a:pt x="14" y="2164"/>
                  </a:lnTo>
                  <a:lnTo>
                    <a:pt x="20" y="2180"/>
                  </a:lnTo>
                  <a:lnTo>
                    <a:pt x="26" y="2196"/>
                  </a:lnTo>
                  <a:lnTo>
                    <a:pt x="34" y="2214"/>
                  </a:lnTo>
                  <a:lnTo>
                    <a:pt x="43" y="2233"/>
                  </a:lnTo>
                  <a:lnTo>
                    <a:pt x="55" y="2253"/>
                  </a:lnTo>
                  <a:lnTo>
                    <a:pt x="67" y="2275"/>
                  </a:lnTo>
                  <a:lnTo>
                    <a:pt x="81" y="2297"/>
                  </a:lnTo>
                  <a:lnTo>
                    <a:pt x="96" y="2320"/>
                  </a:lnTo>
                  <a:lnTo>
                    <a:pt x="113" y="2345"/>
                  </a:lnTo>
                  <a:lnTo>
                    <a:pt x="133" y="2371"/>
                  </a:lnTo>
                  <a:lnTo>
                    <a:pt x="154" y="2398"/>
                  </a:lnTo>
                  <a:lnTo>
                    <a:pt x="179" y="2426"/>
                  </a:lnTo>
                  <a:lnTo>
                    <a:pt x="204" y="2455"/>
                  </a:lnTo>
                  <a:lnTo>
                    <a:pt x="232" y="2485"/>
                  </a:lnTo>
                  <a:lnTo>
                    <a:pt x="263" y="2517"/>
                  </a:lnTo>
                  <a:lnTo>
                    <a:pt x="296" y="2550"/>
                  </a:lnTo>
                  <a:lnTo>
                    <a:pt x="333" y="2583"/>
                  </a:lnTo>
                  <a:lnTo>
                    <a:pt x="371" y="2619"/>
                  </a:lnTo>
                  <a:lnTo>
                    <a:pt x="413" y="2655"/>
                  </a:lnTo>
                  <a:lnTo>
                    <a:pt x="1001" y="3390"/>
                  </a:lnTo>
                  <a:lnTo>
                    <a:pt x="1157" y="1558"/>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8" name="Freeform 269"/>
            <p:cNvSpPr/>
            <p:nvPr/>
          </p:nvSpPr>
          <p:spPr>
            <a:xfrm>
              <a:off x="1030680" y="2393280"/>
              <a:ext cx="17280" cy="188280"/>
            </a:xfrm>
            <a:custGeom>
              <a:avLst/>
              <a:gdLst>
                <a:gd name="textAreaLeft" fmla="*/ 0 w 17280"/>
                <a:gd name="textAreaRight" fmla="*/ 17640 w 17280"/>
                <a:gd name="textAreaTop" fmla="*/ 0 h 188280"/>
                <a:gd name="textAreaBottom" fmla="*/ 188640 h 188280"/>
              </a:gdLst>
              <a:ahLst/>
              <a:rect l="textAreaLeft" t="textAreaTop" r="textAreaRight" b="textAreaBottom"/>
              <a:pathLst>
                <a:path w="240" h="2323">
                  <a:moveTo>
                    <a:pt x="240" y="146"/>
                  </a:moveTo>
                  <a:lnTo>
                    <a:pt x="240" y="2323"/>
                  </a:lnTo>
                  <a:lnTo>
                    <a:pt x="229" y="2323"/>
                  </a:lnTo>
                  <a:lnTo>
                    <a:pt x="201" y="2323"/>
                  </a:lnTo>
                  <a:lnTo>
                    <a:pt x="182" y="2321"/>
                  </a:lnTo>
                  <a:lnTo>
                    <a:pt x="160" y="2318"/>
                  </a:lnTo>
                  <a:lnTo>
                    <a:pt x="138" y="2313"/>
                  </a:lnTo>
                  <a:lnTo>
                    <a:pt x="115" y="2307"/>
                  </a:lnTo>
                  <a:lnTo>
                    <a:pt x="104" y="2303"/>
                  </a:lnTo>
                  <a:lnTo>
                    <a:pt x="92" y="2299"/>
                  </a:lnTo>
                  <a:lnTo>
                    <a:pt x="81" y="2294"/>
                  </a:lnTo>
                  <a:lnTo>
                    <a:pt x="71" y="2288"/>
                  </a:lnTo>
                  <a:lnTo>
                    <a:pt x="61" y="2281"/>
                  </a:lnTo>
                  <a:lnTo>
                    <a:pt x="51" y="2274"/>
                  </a:lnTo>
                  <a:lnTo>
                    <a:pt x="41" y="2265"/>
                  </a:lnTo>
                  <a:lnTo>
                    <a:pt x="33" y="2256"/>
                  </a:lnTo>
                  <a:lnTo>
                    <a:pt x="25" y="2246"/>
                  </a:lnTo>
                  <a:lnTo>
                    <a:pt x="19" y="2235"/>
                  </a:lnTo>
                  <a:lnTo>
                    <a:pt x="13" y="2223"/>
                  </a:lnTo>
                  <a:lnTo>
                    <a:pt x="9" y="2210"/>
                  </a:lnTo>
                  <a:lnTo>
                    <a:pt x="6" y="2195"/>
                  </a:lnTo>
                  <a:lnTo>
                    <a:pt x="4" y="2180"/>
                  </a:lnTo>
                  <a:lnTo>
                    <a:pt x="4" y="2164"/>
                  </a:lnTo>
                  <a:lnTo>
                    <a:pt x="5" y="2146"/>
                  </a:lnTo>
                  <a:lnTo>
                    <a:pt x="5" y="0"/>
                  </a:lnTo>
                  <a:lnTo>
                    <a:pt x="3" y="8"/>
                  </a:lnTo>
                  <a:lnTo>
                    <a:pt x="0" y="28"/>
                  </a:lnTo>
                  <a:lnTo>
                    <a:pt x="0" y="41"/>
                  </a:lnTo>
                  <a:lnTo>
                    <a:pt x="2" y="57"/>
                  </a:lnTo>
                  <a:lnTo>
                    <a:pt x="3" y="65"/>
                  </a:lnTo>
                  <a:lnTo>
                    <a:pt x="5" y="73"/>
                  </a:lnTo>
                  <a:lnTo>
                    <a:pt x="8" y="80"/>
                  </a:lnTo>
                  <a:lnTo>
                    <a:pt x="12" y="88"/>
                  </a:lnTo>
                  <a:lnTo>
                    <a:pt x="16" y="96"/>
                  </a:lnTo>
                  <a:lnTo>
                    <a:pt x="22" y="103"/>
                  </a:lnTo>
                  <a:lnTo>
                    <a:pt x="28" y="111"/>
                  </a:lnTo>
                  <a:lnTo>
                    <a:pt x="36" y="117"/>
                  </a:lnTo>
                  <a:lnTo>
                    <a:pt x="46" y="124"/>
                  </a:lnTo>
                  <a:lnTo>
                    <a:pt x="56" y="130"/>
                  </a:lnTo>
                  <a:lnTo>
                    <a:pt x="67" y="135"/>
                  </a:lnTo>
                  <a:lnTo>
                    <a:pt x="79" y="140"/>
                  </a:lnTo>
                  <a:lnTo>
                    <a:pt x="93" y="144"/>
                  </a:lnTo>
                  <a:lnTo>
                    <a:pt x="109" y="147"/>
                  </a:lnTo>
                  <a:lnTo>
                    <a:pt x="126" y="150"/>
                  </a:lnTo>
                  <a:lnTo>
                    <a:pt x="145" y="151"/>
                  </a:lnTo>
                  <a:lnTo>
                    <a:pt x="166" y="152"/>
                  </a:lnTo>
                  <a:lnTo>
                    <a:pt x="189" y="151"/>
                  </a:lnTo>
                  <a:lnTo>
                    <a:pt x="213" y="150"/>
                  </a:lnTo>
                  <a:lnTo>
                    <a:pt x="240" y="14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49" name="Freeform 270"/>
            <p:cNvSpPr/>
            <p:nvPr/>
          </p:nvSpPr>
          <p:spPr>
            <a:xfrm>
              <a:off x="560160" y="1676520"/>
              <a:ext cx="1158120" cy="1019160"/>
            </a:xfrm>
            <a:custGeom>
              <a:avLst/>
              <a:gdLst>
                <a:gd name="textAreaLeft" fmla="*/ 0 w 1158120"/>
                <a:gd name="textAreaRight" fmla="*/ 1158480 w 1158120"/>
                <a:gd name="textAreaTop" fmla="*/ 0 h 1019160"/>
                <a:gd name="textAreaBottom" fmla="*/ 1019520 h 1019160"/>
              </a:gdLst>
              <a:ahLst/>
              <a:rect l="textAreaLeft" t="textAreaTop" r="textAreaRight" b="textAreaBottom"/>
              <a:pathLst>
                <a:path w="14755" h="12587">
                  <a:moveTo>
                    <a:pt x="10804" y="9206"/>
                  </a:moveTo>
                  <a:lnTo>
                    <a:pt x="10830" y="9194"/>
                  </a:lnTo>
                  <a:lnTo>
                    <a:pt x="10894" y="9163"/>
                  </a:lnTo>
                  <a:lnTo>
                    <a:pt x="10938" y="9144"/>
                  </a:lnTo>
                  <a:lnTo>
                    <a:pt x="10988" y="9124"/>
                  </a:lnTo>
                  <a:lnTo>
                    <a:pt x="11014" y="9114"/>
                  </a:lnTo>
                  <a:lnTo>
                    <a:pt x="11041" y="9105"/>
                  </a:lnTo>
                  <a:lnTo>
                    <a:pt x="11069" y="9096"/>
                  </a:lnTo>
                  <a:lnTo>
                    <a:pt x="11098" y="9087"/>
                  </a:lnTo>
                  <a:lnTo>
                    <a:pt x="11126" y="9080"/>
                  </a:lnTo>
                  <a:lnTo>
                    <a:pt x="11154" y="9073"/>
                  </a:lnTo>
                  <a:lnTo>
                    <a:pt x="11182" y="9068"/>
                  </a:lnTo>
                  <a:lnTo>
                    <a:pt x="11210" y="9063"/>
                  </a:lnTo>
                  <a:lnTo>
                    <a:pt x="11237" y="9061"/>
                  </a:lnTo>
                  <a:lnTo>
                    <a:pt x="11263" y="9059"/>
                  </a:lnTo>
                  <a:lnTo>
                    <a:pt x="11288" y="9060"/>
                  </a:lnTo>
                  <a:lnTo>
                    <a:pt x="11312" y="9062"/>
                  </a:lnTo>
                  <a:lnTo>
                    <a:pt x="11336" y="9066"/>
                  </a:lnTo>
                  <a:lnTo>
                    <a:pt x="11357" y="9073"/>
                  </a:lnTo>
                  <a:lnTo>
                    <a:pt x="11377" y="9081"/>
                  </a:lnTo>
                  <a:lnTo>
                    <a:pt x="11394" y="9093"/>
                  </a:lnTo>
                  <a:lnTo>
                    <a:pt x="11410" y="9107"/>
                  </a:lnTo>
                  <a:lnTo>
                    <a:pt x="11423" y="9124"/>
                  </a:lnTo>
                  <a:lnTo>
                    <a:pt x="11433" y="9144"/>
                  </a:lnTo>
                  <a:lnTo>
                    <a:pt x="11441" y="9167"/>
                  </a:lnTo>
                  <a:lnTo>
                    <a:pt x="11451" y="9194"/>
                  </a:lnTo>
                  <a:lnTo>
                    <a:pt x="11464" y="9224"/>
                  </a:lnTo>
                  <a:lnTo>
                    <a:pt x="11482" y="9257"/>
                  </a:lnTo>
                  <a:lnTo>
                    <a:pt x="11504" y="9293"/>
                  </a:lnTo>
                  <a:lnTo>
                    <a:pt x="11529" y="9331"/>
                  </a:lnTo>
                  <a:lnTo>
                    <a:pt x="11558" y="9373"/>
                  </a:lnTo>
                  <a:lnTo>
                    <a:pt x="11590" y="9415"/>
                  </a:lnTo>
                  <a:lnTo>
                    <a:pt x="11625" y="9459"/>
                  </a:lnTo>
                  <a:lnTo>
                    <a:pt x="11662" y="9506"/>
                  </a:lnTo>
                  <a:lnTo>
                    <a:pt x="11701" y="9553"/>
                  </a:lnTo>
                  <a:lnTo>
                    <a:pt x="11742" y="9600"/>
                  </a:lnTo>
                  <a:lnTo>
                    <a:pt x="11784" y="9650"/>
                  </a:lnTo>
                  <a:lnTo>
                    <a:pt x="11872" y="9748"/>
                  </a:lnTo>
                  <a:lnTo>
                    <a:pt x="11962" y="9844"/>
                  </a:lnTo>
                  <a:lnTo>
                    <a:pt x="12050" y="9938"/>
                  </a:lnTo>
                  <a:lnTo>
                    <a:pt x="12136" y="10027"/>
                  </a:lnTo>
                  <a:lnTo>
                    <a:pt x="12215" y="10109"/>
                  </a:lnTo>
                  <a:lnTo>
                    <a:pt x="12286" y="10180"/>
                  </a:lnTo>
                  <a:lnTo>
                    <a:pt x="12346" y="10240"/>
                  </a:lnTo>
                  <a:lnTo>
                    <a:pt x="12391" y="10285"/>
                  </a:lnTo>
                  <a:lnTo>
                    <a:pt x="12420" y="10313"/>
                  </a:lnTo>
                  <a:lnTo>
                    <a:pt x="12430" y="10323"/>
                  </a:lnTo>
                  <a:lnTo>
                    <a:pt x="13175" y="9775"/>
                  </a:lnTo>
                  <a:lnTo>
                    <a:pt x="14066" y="11647"/>
                  </a:lnTo>
                  <a:lnTo>
                    <a:pt x="14076" y="11684"/>
                  </a:lnTo>
                  <a:lnTo>
                    <a:pt x="14083" y="11717"/>
                  </a:lnTo>
                  <a:lnTo>
                    <a:pt x="14085" y="11733"/>
                  </a:lnTo>
                  <a:lnTo>
                    <a:pt x="14087" y="11748"/>
                  </a:lnTo>
                  <a:lnTo>
                    <a:pt x="14088" y="11763"/>
                  </a:lnTo>
                  <a:lnTo>
                    <a:pt x="14089" y="11777"/>
                  </a:lnTo>
                  <a:lnTo>
                    <a:pt x="14088" y="11791"/>
                  </a:lnTo>
                  <a:lnTo>
                    <a:pt x="14088" y="11804"/>
                  </a:lnTo>
                  <a:lnTo>
                    <a:pt x="14086" y="11817"/>
                  </a:lnTo>
                  <a:lnTo>
                    <a:pt x="14084" y="11829"/>
                  </a:lnTo>
                  <a:lnTo>
                    <a:pt x="14082" y="11842"/>
                  </a:lnTo>
                  <a:lnTo>
                    <a:pt x="14078" y="11854"/>
                  </a:lnTo>
                  <a:lnTo>
                    <a:pt x="14074" y="11867"/>
                  </a:lnTo>
                  <a:lnTo>
                    <a:pt x="14070" y="11879"/>
                  </a:lnTo>
                  <a:lnTo>
                    <a:pt x="14059" y="11905"/>
                  </a:lnTo>
                  <a:lnTo>
                    <a:pt x="14046" y="11930"/>
                  </a:lnTo>
                  <a:lnTo>
                    <a:pt x="14031" y="11957"/>
                  </a:lnTo>
                  <a:lnTo>
                    <a:pt x="14013" y="11985"/>
                  </a:lnTo>
                  <a:lnTo>
                    <a:pt x="13971" y="12050"/>
                  </a:lnTo>
                  <a:lnTo>
                    <a:pt x="13920" y="12127"/>
                  </a:lnTo>
                  <a:lnTo>
                    <a:pt x="13906" y="12149"/>
                  </a:lnTo>
                  <a:lnTo>
                    <a:pt x="13896" y="12171"/>
                  </a:lnTo>
                  <a:lnTo>
                    <a:pt x="13887" y="12192"/>
                  </a:lnTo>
                  <a:lnTo>
                    <a:pt x="13882" y="12214"/>
                  </a:lnTo>
                  <a:lnTo>
                    <a:pt x="13878" y="12235"/>
                  </a:lnTo>
                  <a:lnTo>
                    <a:pt x="13876" y="12257"/>
                  </a:lnTo>
                  <a:lnTo>
                    <a:pt x="13876" y="12278"/>
                  </a:lnTo>
                  <a:lnTo>
                    <a:pt x="13878" y="12298"/>
                  </a:lnTo>
                  <a:lnTo>
                    <a:pt x="13882" y="12318"/>
                  </a:lnTo>
                  <a:lnTo>
                    <a:pt x="13887" y="12338"/>
                  </a:lnTo>
                  <a:lnTo>
                    <a:pt x="13893" y="12357"/>
                  </a:lnTo>
                  <a:lnTo>
                    <a:pt x="13900" y="12376"/>
                  </a:lnTo>
                  <a:lnTo>
                    <a:pt x="13909" y="12394"/>
                  </a:lnTo>
                  <a:lnTo>
                    <a:pt x="13918" y="12412"/>
                  </a:lnTo>
                  <a:lnTo>
                    <a:pt x="13928" y="12429"/>
                  </a:lnTo>
                  <a:lnTo>
                    <a:pt x="13939" y="12445"/>
                  </a:lnTo>
                  <a:lnTo>
                    <a:pt x="13950" y="12461"/>
                  </a:lnTo>
                  <a:lnTo>
                    <a:pt x="13962" y="12476"/>
                  </a:lnTo>
                  <a:lnTo>
                    <a:pt x="13974" y="12491"/>
                  </a:lnTo>
                  <a:lnTo>
                    <a:pt x="13986" y="12504"/>
                  </a:lnTo>
                  <a:lnTo>
                    <a:pt x="14009" y="12528"/>
                  </a:lnTo>
                  <a:lnTo>
                    <a:pt x="14030" y="12548"/>
                  </a:lnTo>
                  <a:lnTo>
                    <a:pt x="14063" y="12577"/>
                  </a:lnTo>
                  <a:lnTo>
                    <a:pt x="14076" y="12587"/>
                  </a:lnTo>
                  <a:lnTo>
                    <a:pt x="14084" y="12578"/>
                  </a:lnTo>
                  <a:lnTo>
                    <a:pt x="14108" y="12553"/>
                  </a:lnTo>
                  <a:lnTo>
                    <a:pt x="14143" y="12514"/>
                  </a:lnTo>
                  <a:lnTo>
                    <a:pt x="14189" y="12462"/>
                  </a:lnTo>
                  <a:lnTo>
                    <a:pt x="14243" y="12400"/>
                  </a:lnTo>
                  <a:lnTo>
                    <a:pt x="14303" y="12330"/>
                  </a:lnTo>
                  <a:lnTo>
                    <a:pt x="14368" y="12254"/>
                  </a:lnTo>
                  <a:lnTo>
                    <a:pt x="14433" y="12173"/>
                  </a:lnTo>
                  <a:lnTo>
                    <a:pt x="14465" y="12133"/>
                  </a:lnTo>
                  <a:lnTo>
                    <a:pt x="14498" y="12091"/>
                  </a:lnTo>
                  <a:lnTo>
                    <a:pt x="14529" y="12050"/>
                  </a:lnTo>
                  <a:lnTo>
                    <a:pt x="14560" y="12009"/>
                  </a:lnTo>
                  <a:lnTo>
                    <a:pt x="14589" y="11968"/>
                  </a:lnTo>
                  <a:lnTo>
                    <a:pt x="14618" y="11928"/>
                  </a:lnTo>
                  <a:lnTo>
                    <a:pt x="14643" y="11889"/>
                  </a:lnTo>
                  <a:lnTo>
                    <a:pt x="14667" y="11851"/>
                  </a:lnTo>
                  <a:lnTo>
                    <a:pt x="14689" y="11815"/>
                  </a:lnTo>
                  <a:lnTo>
                    <a:pt x="14708" y="11781"/>
                  </a:lnTo>
                  <a:lnTo>
                    <a:pt x="14724" y="11748"/>
                  </a:lnTo>
                  <a:lnTo>
                    <a:pt x="14738" y="11719"/>
                  </a:lnTo>
                  <a:lnTo>
                    <a:pt x="14747" y="11692"/>
                  </a:lnTo>
                  <a:lnTo>
                    <a:pt x="14753" y="11667"/>
                  </a:lnTo>
                  <a:lnTo>
                    <a:pt x="14755" y="11646"/>
                  </a:lnTo>
                  <a:lnTo>
                    <a:pt x="14753" y="11627"/>
                  </a:lnTo>
                  <a:lnTo>
                    <a:pt x="14736" y="11615"/>
                  </a:lnTo>
                  <a:lnTo>
                    <a:pt x="14690" y="11582"/>
                  </a:lnTo>
                  <a:lnTo>
                    <a:pt x="14659" y="11557"/>
                  </a:lnTo>
                  <a:lnTo>
                    <a:pt x="14624" y="11527"/>
                  </a:lnTo>
                  <a:lnTo>
                    <a:pt x="14605" y="11509"/>
                  </a:lnTo>
                  <a:lnTo>
                    <a:pt x="14585" y="11490"/>
                  </a:lnTo>
                  <a:lnTo>
                    <a:pt x="14565" y="11470"/>
                  </a:lnTo>
                  <a:lnTo>
                    <a:pt x="14545" y="11449"/>
                  </a:lnTo>
                  <a:lnTo>
                    <a:pt x="14525" y="11427"/>
                  </a:lnTo>
                  <a:lnTo>
                    <a:pt x="14504" y="11404"/>
                  </a:lnTo>
                  <a:lnTo>
                    <a:pt x="14484" y="11378"/>
                  </a:lnTo>
                  <a:lnTo>
                    <a:pt x="14463" y="11352"/>
                  </a:lnTo>
                  <a:lnTo>
                    <a:pt x="14442" y="11324"/>
                  </a:lnTo>
                  <a:lnTo>
                    <a:pt x="14423" y="11296"/>
                  </a:lnTo>
                  <a:lnTo>
                    <a:pt x="14403" y="11265"/>
                  </a:lnTo>
                  <a:lnTo>
                    <a:pt x="14385" y="11234"/>
                  </a:lnTo>
                  <a:lnTo>
                    <a:pt x="14367" y="11202"/>
                  </a:lnTo>
                  <a:lnTo>
                    <a:pt x="14350" y="11169"/>
                  </a:lnTo>
                  <a:lnTo>
                    <a:pt x="14333" y="11133"/>
                  </a:lnTo>
                  <a:lnTo>
                    <a:pt x="14318" y="11097"/>
                  </a:lnTo>
                  <a:lnTo>
                    <a:pt x="14304" y="11060"/>
                  </a:lnTo>
                  <a:lnTo>
                    <a:pt x="14292" y="11021"/>
                  </a:lnTo>
                  <a:lnTo>
                    <a:pt x="14281" y="10982"/>
                  </a:lnTo>
                  <a:lnTo>
                    <a:pt x="14272" y="10941"/>
                  </a:lnTo>
                  <a:lnTo>
                    <a:pt x="14265" y="10924"/>
                  </a:lnTo>
                  <a:lnTo>
                    <a:pt x="14243" y="10876"/>
                  </a:lnTo>
                  <a:lnTo>
                    <a:pt x="14207" y="10801"/>
                  </a:lnTo>
                  <a:lnTo>
                    <a:pt x="14162" y="10705"/>
                  </a:lnTo>
                  <a:lnTo>
                    <a:pt x="14106" y="10589"/>
                  </a:lnTo>
                  <a:lnTo>
                    <a:pt x="14041" y="10459"/>
                  </a:lnTo>
                  <a:lnTo>
                    <a:pt x="13969" y="10318"/>
                  </a:lnTo>
                  <a:lnTo>
                    <a:pt x="13893" y="10171"/>
                  </a:lnTo>
                  <a:lnTo>
                    <a:pt x="13853" y="10098"/>
                  </a:lnTo>
                  <a:lnTo>
                    <a:pt x="13812" y="10024"/>
                  </a:lnTo>
                  <a:lnTo>
                    <a:pt x="13771" y="9950"/>
                  </a:lnTo>
                  <a:lnTo>
                    <a:pt x="13729" y="9878"/>
                  </a:lnTo>
                  <a:lnTo>
                    <a:pt x="13687" y="9807"/>
                  </a:lnTo>
                  <a:lnTo>
                    <a:pt x="13645" y="9739"/>
                  </a:lnTo>
                  <a:lnTo>
                    <a:pt x="13603" y="9672"/>
                  </a:lnTo>
                  <a:lnTo>
                    <a:pt x="13561" y="9610"/>
                  </a:lnTo>
                  <a:lnTo>
                    <a:pt x="13521" y="9551"/>
                  </a:lnTo>
                  <a:lnTo>
                    <a:pt x="13480" y="9496"/>
                  </a:lnTo>
                  <a:lnTo>
                    <a:pt x="13440" y="9446"/>
                  </a:lnTo>
                  <a:lnTo>
                    <a:pt x="13402" y="9401"/>
                  </a:lnTo>
                  <a:lnTo>
                    <a:pt x="13365" y="9362"/>
                  </a:lnTo>
                  <a:lnTo>
                    <a:pt x="13329" y="9329"/>
                  </a:lnTo>
                  <a:lnTo>
                    <a:pt x="13295" y="9303"/>
                  </a:lnTo>
                  <a:lnTo>
                    <a:pt x="13263" y="9285"/>
                  </a:lnTo>
                  <a:lnTo>
                    <a:pt x="13258" y="9288"/>
                  </a:lnTo>
                  <a:lnTo>
                    <a:pt x="13241" y="9296"/>
                  </a:lnTo>
                  <a:lnTo>
                    <a:pt x="13213" y="9309"/>
                  </a:lnTo>
                  <a:lnTo>
                    <a:pt x="13177" y="9326"/>
                  </a:lnTo>
                  <a:lnTo>
                    <a:pt x="13133" y="9346"/>
                  </a:lnTo>
                  <a:lnTo>
                    <a:pt x="13081" y="9368"/>
                  </a:lnTo>
                  <a:lnTo>
                    <a:pt x="13023" y="9393"/>
                  </a:lnTo>
                  <a:lnTo>
                    <a:pt x="12960" y="9417"/>
                  </a:lnTo>
                  <a:lnTo>
                    <a:pt x="12894" y="9442"/>
                  </a:lnTo>
                  <a:lnTo>
                    <a:pt x="12824" y="9465"/>
                  </a:lnTo>
                  <a:lnTo>
                    <a:pt x="12789" y="9477"/>
                  </a:lnTo>
                  <a:lnTo>
                    <a:pt x="12753" y="9488"/>
                  </a:lnTo>
                  <a:lnTo>
                    <a:pt x="12717" y="9499"/>
                  </a:lnTo>
                  <a:lnTo>
                    <a:pt x="12680" y="9508"/>
                  </a:lnTo>
                  <a:lnTo>
                    <a:pt x="12644" y="9517"/>
                  </a:lnTo>
                  <a:lnTo>
                    <a:pt x="12608" y="9525"/>
                  </a:lnTo>
                  <a:lnTo>
                    <a:pt x="12572" y="9532"/>
                  </a:lnTo>
                  <a:lnTo>
                    <a:pt x="12537" y="9538"/>
                  </a:lnTo>
                  <a:lnTo>
                    <a:pt x="12502" y="9543"/>
                  </a:lnTo>
                  <a:lnTo>
                    <a:pt x="12468" y="9546"/>
                  </a:lnTo>
                  <a:lnTo>
                    <a:pt x="12434" y="9549"/>
                  </a:lnTo>
                  <a:lnTo>
                    <a:pt x="12401" y="9549"/>
                  </a:lnTo>
                  <a:lnTo>
                    <a:pt x="12391" y="9540"/>
                  </a:lnTo>
                  <a:lnTo>
                    <a:pt x="12361" y="9514"/>
                  </a:lnTo>
                  <a:lnTo>
                    <a:pt x="12314" y="9473"/>
                  </a:lnTo>
                  <a:lnTo>
                    <a:pt x="12252" y="9420"/>
                  </a:lnTo>
                  <a:lnTo>
                    <a:pt x="12177" y="9356"/>
                  </a:lnTo>
                  <a:lnTo>
                    <a:pt x="12092" y="9284"/>
                  </a:lnTo>
                  <a:lnTo>
                    <a:pt x="11998" y="9205"/>
                  </a:lnTo>
                  <a:lnTo>
                    <a:pt x="11898" y="9123"/>
                  </a:lnTo>
                  <a:lnTo>
                    <a:pt x="11794" y="9039"/>
                  </a:lnTo>
                  <a:lnTo>
                    <a:pt x="11688" y="8955"/>
                  </a:lnTo>
                  <a:lnTo>
                    <a:pt x="11635" y="8914"/>
                  </a:lnTo>
                  <a:lnTo>
                    <a:pt x="11583" y="8873"/>
                  </a:lnTo>
                  <a:lnTo>
                    <a:pt x="11531" y="8835"/>
                  </a:lnTo>
                  <a:lnTo>
                    <a:pt x="11480" y="8797"/>
                  </a:lnTo>
                  <a:lnTo>
                    <a:pt x="11430" y="8761"/>
                  </a:lnTo>
                  <a:lnTo>
                    <a:pt x="11382" y="8727"/>
                  </a:lnTo>
                  <a:lnTo>
                    <a:pt x="11335" y="8695"/>
                  </a:lnTo>
                  <a:lnTo>
                    <a:pt x="11290" y="8666"/>
                  </a:lnTo>
                  <a:lnTo>
                    <a:pt x="11248" y="8639"/>
                  </a:lnTo>
                  <a:lnTo>
                    <a:pt x="11209" y="8616"/>
                  </a:lnTo>
                  <a:lnTo>
                    <a:pt x="11171" y="8596"/>
                  </a:lnTo>
                  <a:lnTo>
                    <a:pt x="11138" y="8579"/>
                  </a:lnTo>
                  <a:lnTo>
                    <a:pt x="10736" y="8510"/>
                  </a:lnTo>
                  <a:lnTo>
                    <a:pt x="13783" y="1661"/>
                  </a:lnTo>
                  <a:lnTo>
                    <a:pt x="13780" y="1657"/>
                  </a:lnTo>
                  <a:lnTo>
                    <a:pt x="13771" y="1647"/>
                  </a:lnTo>
                  <a:lnTo>
                    <a:pt x="13757" y="1632"/>
                  </a:lnTo>
                  <a:lnTo>
                    <a:pt x="13736" y="1614"/>
                  </a:lnTo>
                  <a:lnTo>
                    <a:pt x="13723" y="1603"/>
                  </a:lnTo>
                  <a:lnTo>
                    <a:pt x="13708" y="1592"/>
                  </a:lnTo>
                  <a:lnTo>
                    <a:pt x="13692" y="1580"/>
                  </a:lnTo>
                  <a:lnTo>
                    <a:pt x="13674" y="1569"/>
                  </a:lnTo>
                  <a:lnTo>
                    <a:pt x="13654" y="1558"/>
                  </a:lnTo>
                  <a:lnTo>
                    <a:pt x="13633" y="1546"/>
                  </a:lnTo>
                  <a:lnTo>
                    <a:pt x="13610" y="1535"/>
                  </a:lnTo>
                  <a:lnTo>
                    <a:pt x="13584" y="1525"/>
                  </a:lnTo>
                  <a:lnTo>
                    <a:pt x="13557" y="1515"/>
                  </a:lnTo>
                  <a:lnTo>
                    <a:pt x="13528" y="1506"/>
                  </a:lnTo>
                  <a:lnTo>
                    <a:pt x="13497" y="1497"/>
                  </a:lnTo>
                  <a:lnTo>
                    <a:pt x="13463" y="1490"/>
                  </a:lnTo>
                  <a:lnTo>
                    <a:pt x="13429" y="1484"/>
                  </a:lnTo>
                  <a:lnTo>
                    <a:pt x="13392" y="1480"/>
                  </a:lnTo>
                  <a:lnTo>
                    <a:pt x="13353" y="1477"/>
                  </a:lnTo>
                  <a:lnTo>
                    <a:pt x="13311" y="1475"/>
                  </a:lnTo>
                  <a:lnTo>
                    <a:pt x="13268" y="1476"/>
                  </a:lnTo>
                  <a:lnTo>
                    <a:pt x="13223" y="1478"/>
                  </a:lnTo>
                  <a:lnTo>
                    <a:pt x="13174" y="1483"/>
                  </a:lnTo>
                  <a:lnTo>
                    <a:pt x="13125" y="1489"/>
                  </a:lnTo>
                  <a:lnTo>
                    <a:pt x="13072" y="1499"/>
                  </a:lnTo>
                  <a:lnTo>
                    <a:pt x="13017" y="1511"/>
                  </a:lnTo>
                  <a:lnTo>
                    <a:pt x="12960" y="1525"/>
                  </a:lnTo>
                  <a:lnTo>
                    <a:pt x="12901" y="1543"/>
                  </a:lnTo>
                  <a:lnTo>
                    <a:pt x="12894" y="1543"/>
                  </a:lnTo>
                  <a:lnTo>
                    <a:pt x="12874" y="1543"/>
                  </a:lnTo>
                  <a:lnTo>
                    <a:pt x="12842" y="1541"/>
                  </a:lnTo>
                  <a:lnTo>
                    <a:pt x="12799" y="1539"/>
                  </a:lnTo>
                  <a:lnTo>
                    <a:pt x="12748" y="1536"/>
                  </a:lnTo>
                  <a:lnTo>
                    <a:pt x="12688" y="1531"/>
                  </a:lnTo>
                  <a:lnTo>
                    <a:pt x="12624" y="1523"/>
                  </a:lnTo>
                  <a:lnTo>
                    <a:pt x="12554" y="1514"/>
                  </a:lnTo>
                  <a:lnTo>
                    <a:pt x="12518" y="1508"/>
                  </a:lnTo>
                  <a:lnTo>
                    <a:pt x="12482" y="1501"/>
                  </a:lnTo>
                  <a:lnTo>
                    <a:pt x="12444" y="1494"/>
                  </a:lnTo>
                  <a:lnTo>
                    <a:pt x="12408" y="1486"/>
                  </a:lnTo>
                  <a:lnTo>
                    <a:pt x="12371" y="1477"/>
                  </a:lnTo>
                  <a:lnTo>
                    <a:pt x="12334" y="1466"/>
                  </a:lnTo>
                  <a:lnTo>
                    <a:pt x="12296" y="1455"/>
                  </a:lnTo>
                  <a:lnTo>
                    <a:pt x="12260" y="1444"/>
                  </a:lnTo>
                  <a:lnTo>
                    <a:pt x="12225" y="1431"/>
                  </a:lnTo>
                  <a:lnTo>
                    <a:pt x="12190" y="1417"/>
                  </a:lnTo>
                  <a:lnTo>
                    <a:pt x="12156" y="1402"/>
                  </a:lnTo>
                  <a:lnTo>
                    <a:pt x="12124" y="1386"/>
                  </a:lnTo>
                  <a:lnTo>
                    <a:pt x="12093" y="1368"/>
                  </a:lnTo>
                  <a:lnTo>
                    <a:pt x="12063" y="1349"/>
                  </a:lnTo>
                  <a:lnTo>
                    <a:pt x="12035" y="1329"/>
                  </a:lnTo>
                  <a:lnTo>
                    <a:pt x="12010" y="1308"/>
                  </a:lnTo>
                  <a:lnTo>
                    <a:pt x="11983" y="1307"/>
                  </a:lnTo>
                  <a:lnTo>
                    <a:pt x="11911" y="1302"/>
                  </a:lnTo>
                  <a:lnTo>
                    <a:pt x="11864" y="1298"/>
                  </a:lnTo>
                  <a:lnTo>
                    <a:pt x="11810" y="1291"/>
                  </a:lnTo>
                  <a:lnTo>
                    <a:pt x="11782" y="1287"/>
                  </a:lnTo>
                  <a:lnTo>
                    <a:pt x="11754" y="1283"/>
                  </a:lnTo>
                  <a:lnTo>
                    <a:pt x="11725" y="1277"/>
                  </a:lnTo>
                  <a:lnTo>
                    <a:pt x="11694" y="1271"/>
                  </a:lnTo>
                  <a:lnTo>
                    <a:pt x="11665" y="1265"/>
                  </a:lnTo>
                  <a:lnTo>
                    <a:pt x="11636" y="1257"/>
                  </a:lnTo>
                  <a:lnTo>
                    <a:pt x="11607" y="1249"/>
                  </a:lnTo>
                  <a:lnTo>
                    <a:pt x="11579" y="1239"/>
                  </a:lnTo>
                  <a:lnTo>
                    <a:pt x="11551" y="1228"/>
                  </a:lnTo>
                  <a:lnTo>
                    <a:pt x="11525" y="1217"/>
                  </a:lnTo>
                  <a:lnTo>
                    <a:pt x="11500" y="1205"/>
                  </a:lnTo>
                  <a:lnTo>
                    <a:pt x="11477" y="1192"/>
                  </a:lnTo>
                  <a:lnTo>
                    <a:pt x="11455" y="1178"/>
                  </a:lnTo>
                  <a:lnTo>
                    <a:pt x="11435" y="1162"/>
                  </a:lnTo>
                  <a:lnTo>
                    <a:pt x="11417" y="1146"/>
                  </a:lnTo>
                  <a:lnTo>
                    <a:pt x="11403" y="1128"/>
                  </a:lnTo>
                  <a:lnTo>
                    <a:pt x="11391" y="1108"/>
                  </a:lnTo>
                  <a:lnTo>
                    <a:pt x="11382" y="1088"/>
                  </a:lnTo>
                  <a:lnTo>
                    <a:pt x="11376" y="1066"/>
                  </a:lnTo>
                  <a:lnTo>
                    <a:pt x="11373" y="1043"/>
                  </a:lnTo>
                  <a:lnTo>
                    <a:pt x="11362" y="1037"/>
                  </a:lnTo>
                  <a:lnTo>
                    <a:pt x="11331" y="1019"/>
                  </a:lnTo>
                  <a:lnTo>
                    <a:pt x="11308" y="1007"/>
                  </a:lnTo>
                  <a:lnTo>
                    <a:pt x="11282" y="994"/>
                  </a:lnTo>
                  <a:lnTo>
                    <a:pt x="11253" y="978"/>
                  </a:lnTo>
                  <a:lnTo>
                    <a:pt x="11220" y="963"/>
                  </a:lnTo>
                  <a:lnTo>
                    <a:pt x="11183" y="948"/>
                  </a:lnTo>
                  <a:lnTo>
                    <a:pt x="11145" y="934"/>
                  </a:lnTo>
                  <a:lnTo>
                    <a:pt x="11105" y="920"/>
                  </a:lnTo>
                  <a:lnTo>
                    <a:pt x="11062" y="907"/>
                  </a:lnTo>
                  <a:lnTo>
                    <a:pt x="11041" y="901"/>
                  </a:lnTo>
                  <a:lnTo>
                    <a:pt x="11019" y="896"/>
                  </a:lnTo>
                  <a:lnTo>
                    <a:pt x="10997" y="891"/>
                  </a:lnTo>
                  <a:lnTo>
                    <a:pt x="10975" y="887"/>
                  </a:lnTo>
                  <a:lnTo>
                    <a:pt x="10952" y="884"/>
                  </a:lnTo>
                  <a:lnTo>
                    <a:pt x="10928" y="881"/>
                  </a:lnTo>
                  <a:lnTo>
                    <a:pt x="10906" y="878"/>
                  </a:lnTo>
                  <a:lnTo>
                    <a:pt x="10883" y="877"/>
                  </a:lnTo>
                  <a:lnTo>
                    <a:pt x="10866" y="866"/>
                  </a:lnTo>
                  <a:lnTo>
                    <a:pt x="10822" y="839"/>
                  </a:lnTo>
                  <a:lnTo>
                    <a:pt x="10790" y="821"/>
                  </a:lnTo>
                  <a:lnTo>
                    <a:pt x="10756" y="803"/>
                  </a:lnTo>
                  <a:lnTo>
                    <a:pt x="10718" y="784"/>
                  </a:lnTo>
                  <a:lnTo>
                    <a:pt x="10677" y="766"/>
                  </a:lnTo>
                  <a:lnTo>
                    <a:pt x="10656" y="757"/>
                  </a:lnTo>
                  <a:lnTo>
                    <a:pt x="10635" y="748"/>
                  </a:lnTo>
                  <a:lnTo>
                    <a:pt x="10614" y="740"/>
                  </a:lnTo>
                  <a:lnTo>
                    <a:pt x="10593" y="733"/>
                  </a:lnTo>
                  <a:lnTo>
                    <a:pt x="10572" y="727"/>
                  </a:lnTo>
                  <a:lnTo>
                    <a:pt x="10551" y="722"/>
                  </a:lnTo>
                  <a:lnTo>
                    <a:pt x="10531" y="718"/>
                  </a:lnTo>
                  <a:lnTo>
                    <a:pt x="10511" y="715"/>
                  </a:lnTo>
                  <a:lnTo>
                    <a:pt x="10492" y="714"/>
                  </a:lnTo>
                  <a:lnTo>
                    <a:pt x="10473" y="714"/>
                  </a:lnTo>
                  <a:lnTo>
                    <a:pt x="10456" y="715"/>
                  </a:lnTo>
                  <a:lnTo>
                    <a:pt x="10438" y="718"/>
                  </a:lnTo>
                  <a:lnTo>
                    <a:pt x="10423" y="723"/>
                  </a:lnTo>
                  <a:lnTo>
                    <a:pt x="10408" y="729"/>
                  </a:lnTo>
                  <a:lnTo>
                    <a:pt x="10395" y="738"/>
                  </a:lnTo>
                  <a:lnTo>
                    <a:pt x="10383" y="749"/>
                  </a:lnTo>
                  <a:lnTo>
                    <a:pt x="10373" y="761"/>
                  </a:lnTo>
                  <a:lnTo>
                    <a:pt x="10364" y="773"/>
                  </a:lnTo>
                  <a:lnTo>
                    <a:pt x="10356" y="786"/>
                  </a:lnTo>
                  <a:lnTo>
                    <a:pt x="10350" y="800"/>
                  </a:lnTo>
                  <a:lnTo>
                    <a:pt x="10344" y="814"/>
                  </a:lnTo>
                  <a:lnTo>
                    <a:pt x="10339" y="829"/>
                  </a:lnTo>
                  <a:lnTo>
                    <a:pt x="10335" y="844"/>
                  </a:lnTo>
                  <a:lnTo>
                    <a:pt x="10332" y="859"/>
                  </a:lnTo>
                  <a:lnTo>
                    <a:pt x="10323" y="921"/>
                  </a:lnTo>
                  <a:lnTo>
                    <a:pt x="10317" y="980"/>
                  </a:lnTo>
                  <a:lnTo>
                    <a:pt x="10313" y="995"/>
                  </a:lnTo>
                  <a:lnTo>
                    <a:pt x="10311" y="1008"/>
                  </a:lnTo>
                  <a:lnTo>
                    <a:pt x="10307" y="1020"/>
                  </a:lnTo>
                  <a:lnTo>
                    <a:pt x="10304" y="1032"/>
                  </a:lnTo>
                  <a:lnTo>
                    <a:pt x="10299" y="1042"/>
                  </a:lnTo>
                  <a:lnTo>
                    <a:pt x="10294" y="1052"/>
                  </a:lnTo>
                  <a:lnTo>
                    <a:pt x="10287" y="1060"/>
                  </a:lnTo>
                  <a:lnTo>
                    <a:pt x="10280" y="1068"/>
                  </a:lnTo>
                  <a:lnTo>
                    <a:pt x="10271" y="1074"/>
                  </a:lnTo>
                  <a:lnTo>
                    <a:pt x="10261" y="1078"/>
                  </a:lnTo>
                  <a:lnTo>
                    <a:pt x="10250" y="1081"/>
                  </a:lnTo>
                  <a:lnTo>
                    <a:pt x="10237" y="1083"/>
                  </a:lnTo>
                  <a:lnTo>
                    <a:pt x="10223" y="1083"/>
                  </a:lnTo>
                  <a:lnTo>
                    <a:pt x="10206" y="1081"/>
                  </a:lnTo>
                  <a:lnTo>
                    <a:pt x="10187" y="1078"/>
                  </a:lnTo>
                  <a:lnTo>
                    <a:pt x="10168" y="1072"/>
                  </a:lnTo>
                  <a:lnTo>
                    <a:pt x="10148" y="1067"/>
                  </a:lnTo>
                  <a:lnTo>
                    <a:pt x="10130" y="1060"/>
                  </a:lnTo>
                  <a:lnTo>
                    <a:pt x="10112" y="1052"/>
                  </a:lnTo>
                  <a:lnTo>
                    <a:pt x="10095" y="1044"/>
                  </a:lnTo>
                  <a:lnTo>
                    <a:pt x="10079" y="1035"/>
                  </a:lnTo>
                  <a:lnTo>
                    <a:pt x="10063" y="1025"/>
                  </a:lnTo>
                  <a:lnTo>
                    <a:pt x="10049" y="1014"/>
                  </a:lnTo>
                  <a:lnTo>
                    <a:pt x="10035" y="1003"/>
                  </a:lnTo>
                  <a:lnTo>
                    <a:pt x="10021" y="990"/>
                  </a:lnTo>
                  <a:lnTo>
                    <a:pt x="10008" y="978"/>
                  </a:lnTo>
                  <a:lnTo>
                    <a:pt x="9995" y="965"/>
                  </a:lnTo>
                  <a:lnTo>
                    <a:pt x="9983" y="952"/>
                  </a:lnTo>
                  <a:lnTo>
                    <a:pt x="9959" y="924"/>
                  </a:lnTo>
                  <a:lnTo>
                    <a:pt x="9934" y="895"/>
                  </a:lnTo>
                  <a:lnTo>
                    <a:pt x="9909" y="864"/>
                  </a:lnTo>
                  <a:lnTo>
                    <a:pt x="9884" y="834"/>
                  </a:lnTo>
                  <a:lnTo>
                    <a:pt x="9857" y="802"/>
                  </a:lnTo>
                  <a:lnTo>
                    <a:pt x="9828" y="771"/>
                  </a:lnTo>
                  <a:lnTo>
                    <a:pt x="9813" y="756"/>
                  </a:lnTo>
                  <a:lnTo>
                    <a:pt x="9795" y="739"/>
                  </a:lnTo>
                  <a:lnTo>
                    <a:pt x="9778" y="724"/>
                  </a:lnTo>
                  <a:lnTo>
                    <a:pt x="9760" y="709"/>
                  </a:lnTo>
                  <a:lnTo>
                    <a:pt x="9742" y="694"/>
                  </a:lnTo>
                  <a:lnTo>
                    <a:pt x="9722" y="680"/>
                  </a:lnTo>
                  <a:lnTo>
                    <a:pt x="9701" y="666"/>
                  </a:lnTo>
                  <a:lnTo>
                    <a:pt x="9678" y="652"/>
                  </a:lnTo>
                  <a:lnTo>
                    <a:pt x="9627" y="622"/>
                  </a:lnTo>
                  <a:lnTo>
                    <a:pt x="9569" y="589"/>
                  </a:lnTo>
                  <a:lnTo>
                    <a:pt x="9502" y="554"/>
                  </a:lnTo>
                  <a:lnTo>
                    <a:pt x="9430" y="518"/>
                  </a:lnTo>
                  <a:lnTo>
                    <a:pt x="9356" y="479"/>
                  </a:lnTo>
                  <a:lnTo>
                    <a:pt x="9279" y="441"/>
                  </a:lnTo>
                  <a:lnTo>
                    <a:pt x="9202" y="403"/>
                  </a:lnTo>
                  <a:lnTo>
                    <a:pt x="9126" y="366"/>
                  </a:lnTo>
                  <a:lnTo>
                    <a:pt x="9052" y="331"/>
                  </a:lnTo>
                  <a:lnTo>
                    <a:pt x="8984" y="298"/>
                  </a:lnTo>
                  <a:lnTo>
                    <a:pt x="8921" y="268"/>
                  </a:lnTo>
                  <a:lnTo>
                    <a:pt x="8867" y="242"/>
                  </a:lnTo>
                  <a:lnTo>
                    <a:pt x="8822" y="221"/>
                  </a:lnTo>
                  <a:lnTo>
                    <a:pt x="8786" y="205"/>
                  </a:lnTo>
                  <a:lnTo>
                    <a:pt x="8765" y="194"/>
                  </a:lnTo>
                  <a:lnTo>
                    <a:pt x="8757" y="191"/>
                  </a:lnTo>
                  <a:lnTo>
                    <a:pt x="8752" y="187"/>
                  </a:lnTo>
                  <a:lnTo>
                    <a:pt x="8735" y="177"/>
                  </a:lnTo>
                  <a:lnTo>
                    <a:pt x="8708" y="161"/>
                  </a:lnTo>
                  <a:lnTo>
                    <a:pt x="8669" y="140"/>
                  </a:lnTo>
                  <a:lnTo>
                    <a:pt x="8646" y="130"/>
                  </a:lnTo>
                  <a:lnTo>
                    <a:pt x="8620" y="118"/>
                  </a:lnTo>
                  <a:lnTo>
                    <a:pt x="8592" y="107"/>
                  </a:lnTo>
                  <a:lnTo>
                    <a:pt x="8560" y="95"/>
                  </a:lnTo>
                  <a:lnTo>
                    <a:pt x="8525" y="83"/>
                  </a:lnTo>
                  <a:lnTo>
                    <a:pt x="8489" y="71"/>
                  </a:lnTo>
                  <a:lnTo>
                    <a:pt x="8450" y="60"/>
                  </a:lnTo>
                  <a:lnTo>
                    <a:pt x="8407" y="49"/>
                  </a:lnTo>
                  <a:lnTo>
                    <a:pt x="8362" y="39"/>
                  </a:lnTo>
                  <a:lnTo>
                    <a:pt x="8315" y="29"/>
                  </a:lnTo>
                  <a:lnTo>
                    <a:pt x="8264" y="20"/>
                  </a:lnTo>
                  <a:lnTo>
                    <a:pt x="8211" y="13"/>
                  </a:lnTo>
                  <a:lnTo>
                    <a:pt x="8155" y="8"/>
                  </a:lnTo>
                  <a:lnTo>
                    <a:pt x="8097" y="4"/>
                  </a:lnTo>
                  <a:lnTo>
                    <a:pt x="8035" y="1"/>
                  </a:lnTo>
                  <a:lnTo>
                    <a:pt x="7972" y="0"/>
                  </a:lnTo>
                  <a:lnTo>
                    <a:pt x="7905" y="2"/>
                  </a:lnTo>
                  <a:lnTo>
                    <a:pt x="7837" y="5"/>
                  </a:lnTo>
                  <a:lnTo>
                    <a:pt x="7764" y="11"/>
                  </a:lnTo>
                  <a:lnTo>
                    <a:pt x="7691" y="20"/>
                  </a:lnTo>
                  <a:lnTo>
                    <a:pt x="7613" y="31"/>
                  </a:lnTo>
                  <a:lnTo>
                    <a:pt x="7533" y="46"/>
                  </a:lnTo>
                  <a:lnTo>
                    <a:pt x="7451" y="63"/>
                  </a:lnTo>
                  <a:lnTo>
                    <a:pt x="7366" y="83"/>
                  </a:lnTo>
                  <a:lnTo>
                    <a:pt x="7283" y="104"/>
                  </a:lnTo>
                  <a:lnTo>
                    <a:pt x="7207" y="122"/>
                  </a:lnTo>
                  <a:lnTo>
                    <a:pt x="7136" y="139"/>
                  </a:lnTo>
                  <a:lnTo>
                    <a:pt x="7071" y="153"/>
                  </a:lnTo>
                  <a:lnTo>
                    <a:pt x="7010" y="166"/>
                  </a:lnTo>
                  <a:lnTo>
                    <a:pt x="6955" y="177"/>
                  </a:lnTo>
                  <a:lnTo>
                    <a:pt x="6903" y="186"/>
                  </a:lnTo>
                  <a:lnTo>
                    <a:pt x="6856" y="193"/>
                  </a:lnTo>
                  <a:lnTo>
                    <a:pt x="6813" y="199"/>
                  </a:lnTo>
                  <a:lnTo>
                    <a:pt x="6773" y="204"/>
                  </a:lnTo>
                  <a:lnTo>
                    <a:pt x="6737" y="207"/>
                  </a:lnTo>
                  <a:lnTo>
                    <a:pt x="6704" y="209"/>
                  </a:lnTo>
                  <a:lnTo>
                    <a:pt x="6674" y="210"/>
                  </a:lnTo>
                  <a:lnTo>
                    <a:pt x="6646" y="210"/>
                  </a:lnTo>
                  <a:lnTo>
                    <a:pt x="6620" y="209"/>
                  </a:lnTo>
                  <a:lnTo>
                    <a:pt x="6597" y="208"/>
                  </a:lnTo>
                  <a:lnTo>
                    <a:pt x="6576" y="206"/>
                  </a:lnTo>
                  <a:lnTo>
                    <a:pt x="6556" y="203"/>
                  </a:lnTo>
                  <a:lnTo>
                    <a:pt x="6537" y="200"/>
                  </a:lnTo>
                  <a:lnTo>
                    <a:pt x="6518" y="197"/>
                  </a:lnTo>
                  <a:lnTo>
                    <a:pt x="6483" y="190"/>
                  </a:lnTo>
                  <a:lnTo>
                    <a:pt x="6449" y="182"/>
                  </a:lnTo>
                  <a:lnTo>
                    <a:pt x="6431" y="179"/>
                  </a:lnTo>
                  <a:lnTo>
                    <a:pt x="6413" y="176"/>
                  </a:lnTo>
                  <a:lnTo>
                    <a:pt x="6392" y="174"/>
                  </a:lnTo>
                  <a:lnTo>
                    <a:pt x="6371" y="172"/>
                  </a:lnTo>
                  <a:lnTo>
                    <a:pt x="6349" y="170"/>
                  </a:lnTo>
                  <a:lnTo>
                    <a:pt x="6325" y="170"/>
                  </a:lnTo>
                  <a:lnTo>
                    <a:pt x="6298" y="170"/>
                  </a:lnTo>
                  <a:lnTo>
                    <a:pt x="6269" y="171"/>
                  </a:lnTo>
                  <a:lnTo>
                    <a:pt x="6208" y="176"/>
                  </a:lnTo>
                  <a:lnTo>
                    <a:pt x="6144" y="182"/>
                  </a:lnTo>
                  <a:lnTo>
                    <a:pt x="6080" y="191"/>
                  </a:lnTo>
                  <a:lnTo>
                    <a:pt x="6015" y="201"/>
                  </a:lnTo>
                  <a:lnTo>
                    <a:pt x="5983" y="207"/>
                  </a:lnTo>
                  <a:lnTo>
                    <a:pt x="5951" y="213"/>
                  </a:lnTo>
                  <a:lnTo>
                    <a:pt x="5919" y="220"/>
                  </a:lnTo>
                  <a:lnTo>
                    <a:pt x="5886" y="228"/>
                  </a:lnTo>
                  <a:lnTo>
                    <a:pt x="5854" y="236"/>
                  </a:lnTo>
                  <a:lnTo>
                    <a:pt x="5823" y="244"/>
                  </a:lnTo>
                  <a:lnTo>
                    <a:pt x="5792" y="253"/>
                  </a:lnTo>
                  <a:lnTo>
                    <a:pt x="5761" y="263"/>
                  </a:lnTo>
                  <a:lnTo>
                    <a:pt x="5731" y="273"/>
                  </a:lnTo>
                  <a:lnTo>
                    <a:pt x="5701" y="284"/>
                  </a:lnTo>
                  <a:lnTo>
                    <a:pt x="5672" y="295"/>
                  </a:lnTo>
                  <a:lnTo>
                    <a:pt x="5643" y="307"/>
                  </a:lnTo>
                  <a:lnTo>
                    <a:pt x="5615" y="319"/>
                  </a:lnTo>
                  <a:lnTo>
                    <a:pt x="5589" y="332"/>
                  </a:lnTo>
                  <a:lnTo>
                    <a:pt x="5563" y="346"/>
                  </a:lnTo>
                  <a:lnTo>
                    <a:pt x="5538" y="360"/>
                  </a:lnTo>
                  <a:lnTo>
                    <a:pt x="5513" y="374"/>
                  </a:lnTo>
                  <a:lnTo>
                    <a:pt x="5490" y="389"/>
                  </a:lnTo>
                  <a:lnTo>
                    <a:pt x="5468" y="406"/>
                  </a:lnTo>
                  <a:lnTo>
                    <a:pt x="5448" y="423"/>
                  </a:lnTo>
                  <a:lnTo>
                    <a:pt x="5428" y="440"/>
                  </a:lnTo>
                  <a:lnTo>
                    <a:pt x="5410" y="457"/>
                  </a:lnTo>
                  <a:lnTo>
                    <a:pt x="5393" y="475"/>
                  </a:lnTo>
                  <a:lnTo>
                    <a:pt x="5377" y="494"/>
                  </a:lnTo>
                  <a:lnTo>
                    <a:pt x="5360" y="515"/>
                  </a:lnTo>
                  <a:lnTo>
                    <a:pt x="5339" y="539"/>
                  </a:lnTo>
                  <a:lnTo>
                    <a:pt x="5313" y="565"/>
                  </a:lnTo>
                  <a:lnTo>
                    <a:pt x="5283" y="595"/>
                  </a:lnTo>
                  <a:lnTo>
                    <a:pt x="5248" y="627"/>
                  </a:lnTo>
                  <a:lnTo>
                    <a:pt x="5211" y="662"/>
                  </a:lnTo>
                  <a:lnTo>
                    <a:pt x="5170" y="699"/>
                  </a:lnTo>
                  <a:lnTo>
                    <a:pt x="5125" y="737"/>
                  </a:lnTo>
                  <a:lnTo>
                    <a:pt x="5078" y="778"/>
                  </a:lnTo>
                  <a:lnTo>
                    <a:pt x="5028" y="819"/>
                  </a:lnTo>
                  <a:lnTo>
                    <a:pt x="4975" y="861"/>
                  </a:lnTo>
                  <a:lnTo>
                    <a:pt x="4921" y="905"/>
                  </a:lnTo>
                  <a:lnTo>
                    <a:pt x="4864" y="948"/>
                  </a:lnTo>
                  <a:lnTo>
                    <a:pt x="4806" y="991"/>
                  </a:lnTo>
                  <a:lnTo>
                    <a:pt x="4746" y="1036"/>
                  </a:lnTo>
                  <a:lnTo>
                    <a:pt x="4686" y="1079"/>
                  </a:lnTo>
                  <a:lnTo>
                    <a:pt x="4624" y="1122"/>
                  </a:lnTo>
                  <a:lnTo>
                    <a:pt x="4562" y="1163"/>
                  </a:lnTo>
                  <a:lnTo>
                    <a:pt x="4498" y="1203"/>
                  </a:lnTo>
                  <a:lnTo>
                    <a:pt x="4436" y="1243"/>
                  </a:lnTo>
                  <a:lnTo>
                    <a:pt x="4372" y="1280"/>
                  </a:lnTo>
                  <a:lnTo>
                    <a:pt x="4310" y="1315"/>
                  </a:lnTo>
                  <a:lnTo>
                    <a:pt x="4247" y="1347"/>
                  </a:lnTo>
                  <a:lnTo>
                    <a:pt x="4186" y="1378"/>
                  </a:lnTo>
                  <a:lnTo>
                    <a:pt x="4125" y="1405"/>
                  </a:lnTo>
                  <a:lnTo>
                    <a:pt x="4067" y="1429"/>
                  </a:lnTo>
                  <a:lnTo>
                    <a:pt x="4008" y="1450"/>
                  </a:lnTo>
                  <a:lnTo>
                    <a:pt x="3953" y="1467"/>
                  </a:lnTo>
                  <a:lnTo>
                    <a:pt x="3899" y="1481"/>
                  </a:lnTo>
                  <a:lnTo>
                    <a:pt x="3847" y="1490"/>
                  </a:lnTo>
                  <a:lnTo>
                    <a:pt x="3798" y="1495"/>
                  </a:lnTo>
                  <a:lnTo>
                    <a:pt x="3751" y="1494"/>
                  </a:lnTo>
                  <a:lnTo>
                    <a:pt x="3706" y="1491"/>
                  </a:lnTo>
                  <a:lnTo>
                    <a:pt x="3660" y="1488"/>
                  </a:lnTo>
                  <a:lnTo>
                    <a:pt x="3612" y="1487"/>
                  </a:lnTo>
                  <a:lnTo>
                    <a:pt x="3564" y="1485"/>
                  </a:lnTo>
                  <a:lnTo>
                    <a:pt x="3516" y="1485"/>
                  </a:lnTo>
                  <a:lnTo>
                    <a:pt x="3467" y="1486"/>
                  </a:lnTo>
                  <a:lnTo>
                    <a:pt x="3418" y="1487"/>
                  </a:lnTo>
                  <a:lnTo>
                    <a:pt x="3368" y="1489"/>
                  </a:lnTo>
                  <a:lnTo>
                    <a:pt x="3319" y="1491"/>
                  </a:lnTo>
                  <a:lnTo>
                    <a:pt x="3270" y="1495"/>
                  </a:lnTo>
                  <a:lnTo>
                    <a:pt x="3220" y="1500"/>
                  </a:lnTo>
                  <a:lnTo>
                    <a:pt x="3171" y="1505"/>
                  </a:lnTo>
                  <a:lnTo>
                    <a:pt x="3123" y="1511"/>
                  </a:lnTo>
                  <a:lnTo>
                    <a:pt x="3075" y="1518"/>
                  </a:lnTo>
                  <a:lnTo>
                    <a:pt x="3029" y="1527"/>
                  </a:lnTo>
                  <a:lnTo>
                    <a:pt x="2982" y="1536"/>
                  </a:lnTo>
                  <a:lnTo>
                    <a:pt x="2938" y="1546"/>
                  </a:lnTo>
                  <a:lnTo>
                    <a:pt x="2894" y="1557"/>
                  </a:lnTo>
                  <a:lnTo>
                    <a:pt x="2851" y="1569"/>
                  </a:lnTo>
                  <a:lnTo>
                    <a:pt x="2811" y="1582"/>
                  </a:lnTo>
                  <a:lnTo>
                    <a:pt x="2771" y="1597"/>
                  </a:lnTo>
                  <a:lnTo>
                    <a:pt x="2733" y="1612"/>
                  </a:lnTo>
                  <a:lnTo>
                    <a:pt x="2697" y="1628"/>
                  </a:lnTo>
                  <a:lnTo>
                    <a:pt x="2664" y="1646"/>
                  </a:lnTo>
                  <a:lnTo>
                    <a:pt x="2632" y="1664"/>
                  </a:lnTo>
                  <a:lnTo>
                    <a:pt x="2601" y="1684"/>
                  </a:lnTo>
                  <a:lnTo>
                    <a:pt x="2574" y="1705"/>
                  </a:lnTo>
                  <a:lnTo>
                    <a:pt x="2550" y="1727"/>
                  </a:lnTo>
                  <a:lnTo>
                    <a:pt x="2528" y="1750"/>
                  </a:lnTo>
                  <a:lnTo>
                    <a:pt x="2509" y="1775"/>
                  </a:lnTo>
                  <a:lnTo>
                    <a:pt x="2491" y="1800"/>
                  </a:lnTo>
                  <a:lnTo>
                    <a:pt x="2478" y="1827"/>
                  </a:lnTo>
                  <a:lnTo>
                    <a:pt x="2467" y="1854"/>
                  </a:lnTo>
                  <a:lnTo>
                    <a:pt x="2458" y="1878"/>
                  </a:lnTo>
                  <a:lnTo>
                    <a:pt x="2451" y="1902"/>
                  </a:lnTo>
                  <a:lnTo>
                    <a:pt x="2446" y="1924"/>
                  </a:lnTo>
                  <a:lnTo>
                    <a:pt x="2443" y="1946"/>
                  </a:lnTo>
                  <a:lnTo>
                    <a:pt x="2441" y="1968"/>
                  </a:lnTo>
                  <a:lnTo>
                    <a:pt x="2441" y="1988"/>
                  </a:lnTo>
                  <a:lnTo>
                    <a:pt x="2443" y="2008"/>
                  </a:lnTo>
                  <a:lnTo>
                    <a:pt x="2447" y="2027"/>
                  </a:lnTo>
                  <a:lnTo>
                    <a:pt x="2452" y="2046"/>
                  </a:lnTo>
                  <a:lnTo>
                    <a:pt x="2459" y="2065"/>
                  </a:lnTo>
                  <a:lnTo>
                    <a:pt x="2468" y="2084"/>
                  </a:lnTo>
                  <a:lnTo>
                    <a:pt x="2478" y="2102"/>
                  </a:lnTo>
                  <a:lnTo>
                    <a:pt x="2489" y="2120"/>
                  </a:lnTo>
                  <a:lnTo>
                    <a:pt x="2502" y="2138"/>
                  </a:lnTo>
                  <a:lnTo>
                    <a:pt x="2518" y="2157"/>
                  </a:lnTo>
                  <a:lnTo>
                    <a:pt x="2533" y="2175"/>
                  </a:lnTo>
                  <a:lnTo>
                    <a:pt x="2550" y="2195"/>
                  </a:lnTo>
                  <a:lnTo>
                    <a:pt x="2569" y="2215"/>
                  </a:lnTo>
                  <a:lnTo>
                    <a:pt x="2588" y="2234"/>
                  </a:lnTo>
                  <a:lnTo>
                    <a:pt x="2632" y="2276"/>
                  </a:lnTo>
                  <a:lnTo>
                    <a:pt x="2679" y="2322"/>
                  </a:lnTo>
                  <a:lnTo>
                    <a:pt x="2731" y="2372"/>
                  </a:lnTo>
                  <a:lnTo>
                    <a:pt x="2787" y="2426"/>
                  </a:lnTo>
                  <a:lnTo>
                    <a:pt x="2846" y="2486"/>
                  </a:lnTo>
                  <a:lnTo>
                    <a:pt x="2909" y="2553"/>
                  </a:lnTo>
                  <a:lnTo>
                    <a:pt x="2976" y="2626"/>
                  </a:lnTo>
                  <a:lnTo>
                    <a:pt x="3050" y="2709"/>
                  </a:lnTo>
                  <a:lnTo>
                    <a:pt x="3089" y="2753"/>
                  </a:lnTo>
                  <a:lnTo>
                    <a:pt x="3128" y="2800"/>
                  </a:lnTo>
                  <a:lnTo>
                    <a:pt x="3169" y="2848"/>
                  </a:lnTo>
                  <a:lnTo>
                    <a:pt x="3210" y="2897"/>
                  </a:lnTo>
                  <a:lnTo>
                    <a:pt x="3250" y="2948"/>
                  </a:lnTo>
                  <a:lnTo>
                    <a:pt x="3291" y="2999"/>
                  </a:lnTo>
                  <a:lnTo>
                    <a:pt x="3330" y="3052"/>
                  </a:lnTo>
                  <a:lnTo>
                    <a:pt x="3368" y="3104"/>
                  </a:lnTo>
                  <a:lnTo>
                    <a:pt x="3406" y="3158"/>
                  </a:lnTo>
                  <a:lnTo>
                    <a:pt x="3441" y="3211"/>
                  </a:lnTo>
                  <a:lnTo>
                    <a:pt x="3475" y="3264"/>
                  </a:lnTo>
                  <a:lnTo>
                    <a:pt x="3506" y="3318"/>
                  </a:lnTo>
                  <a:lnTo>
                    <a:pt x="3536" y="3370"/>
                  </a:lnTo>
                  <a:lnTo>
                    <a:pt x="3562" y="3423"/>
                  </a:lnTo>
                  <a:lnTo>
                    <a:pt x="3585" y="3474"/>
                  </a:lnTo>
                  <a:lnTo>
                    <a:pt x="3604" y="3525"/>
                  </a:lnTo>
                  <a:lnTo>
                    <a:pt x="3620" y="3574"/>
                  </a:lnTo>
                  <a:lnTo>
                    <a:pt x="3631" y="3621"/>
                  </a:lnTo>
                  <a:lnTo>
                    <a:pt x="3640" y="3667"/>
                  </a:lnTo>
                  <a:lnTo>
                    <a:pt x="3642" y="3711"/>
                  </a:lnTo>
                  <a:lnTo>
                    <a:pt x="3640" y="3754"/>
                  </a:lnTo>
                  <a:lnTo>
                    <a:pt x="3632" y="3793"/>
                  </a:lnTo>
                  <a:lnTo>
                    <a:pt x="3618" y="3830"/>
                  </a:lnTo>
                  <a:lnTo>
                    <a:pt x="3599" y="3866"/>
                  </a:lnTo>
                  <a:lnTo>
                    <a:pt x="3574" y="3897"/>
                  </a:lnTo>
                  <a:lnTo>
                    <a:pt x="3543" y="3926"/>
                  </a:lnTo>
                  <a:lnTo>
                    <a:pt x="3503" y="3951"/>
                  </a:lnTo>
                  <a:lnTo>
                    <a:pt x="3458" y="3973"/>
                  </a:lnTo>
                  <a:lnTo>
                    <a:pt x="3409" y="3992"/>
                  </a:lnTo>
                  <a:lnTo>
                    <a:pt x="3362" y="4007"/>
                  </a:lnTo>
                  <a:lnTo>
                    <a:pt x="3319" y="4019"/>
                  </a:lnTo>
                  <a:lnTo>
                    <a:pt x="3279" y="4028"/>
                  </a:lnTo>
                  <a:lnTo>
                    <a:pt x="3240" y="4034"/>
                  </a:lnTo>
                  <a:lnTo>
                    <a:pt x="3205" y="4037"/>
                  </a:lnTo>
                  <a:lnTo>
                    <a:pt x="3172" y="4037"/>
                  </a:lnTo>
                  <a:lnTo>
                    <a:pt x="3141" y="4035"/>
                  </a:lnTo>
                  <a:lnTo>
                    <a:pt x="3111" y="4031"/>
                  </a:lnTo>
                  <a:lnTo>
                    <a:pt x="3084" y="4025"/>
                  </a:lnTo>
                  <a:lnTo>
                    <a:pt x="3058" y="4017"/>
                  </a:lnTo>
                  <a:lnTo>
                    <a:pt x="3034" y="4007"/>
                  </a:lnTo>
                  <a:lnTo>
                    <a:pt x="3011" y="3996"/>
                  </a:lnTo>
                  <a:lnTo>
                    <a:pt x="2988" y="3983"/>
                  </a:lnTo>
                  <a:lnTo>
                    <a:pt x="2968" y="3969"/>
                  </a:lnTo>
                  <a:lnTo>
                    <a:pt x="2948" y="3954"/>
                  </a:lnTo>
                  <a:lnTo>
                    <a:pt x="2929" y="3938"/>
                  </a:lnTo>
                  <a:lnTo>
                    <a:pt x="2911" y="3921"/>
                  </a:lnTo>
                  <a:lnTo>
                    <a:pt x="2894" y="3904"/>
                  </a:lnTo>
                  <a:lnTo>
                    <a:pt x="2876" y="3886"/>
                  </a:lnTo>
                  <a:lnTo>
                    <a:pt x="2842" y="3849"/>
                  </a:lnTo>
                  <a:lnTo>
                    <a:pt x="2808" y="3813"/>
                  </a:lnTo>
                  <a:lnTo>
                    <a:pt x="2790" y="3796"/>
                  </a:lnTo>
                  <a:lnTo>
                    <a:pt x="2772" y="3779"/>
                  </a:lnTo>
                  <a:lnTo>
                    <a:pt x="2752" y="3763"/>
                  </a:lnTo>
                  <a:lnTo>
                    <a:pt x="2733" y="3748"/>
                  </a:lnTo>
                  <a:lnTo>
                    <a:pt x="2713" y="3733"/>
                  </a:lnTo>
                  <a:lnTo>
                    <a:pt x="2691" y="3720"/>
                  </a:lnTo>
                  <a:lnTo>
                    <a:pt x="2669" y="3709"/>
                  </a:lnTo>
                  <a:lnTo>
                    <a:pt x="2645" y="3699"/>
                  </a:lnTo>
                  <a:lnTo>
                    <a:pt x="2618" y="3689"/>
                  </a:lnTo>
                  <a:lnTo>
                    <a:pt x="2590" y="3681"/>
                  </a:lnTo>
                  <a:lnTo>
                    <a:pt x="2559" y="3674"/>
                  </a:lnTo>
                  <a:lnTo>
                    <a:pt x="2526" y="3667"/>
                  </a:lnTo>
                  <a:lnTo>
                    <a:pt x="2490" y="3662"/>
                  </a:lnTo>
                  <a:lnTo>
                    <a:pt x="2453" y="3657"/>
                  </a:lnTo>
                  <a:lnTo>
                    <a:pt x="2414" y="3654"/>
                  </a:lnTo>
                  <a:lnTo>
                    <a:pt x="2373" y="3652"/>
                  </a:lnTo>
                  <a:lnTo>
                    <a:pt x="2331" y="3651"/>
                  </a:lnTo>
                  <a:lnTo>
                    <a:pt x="2287" y="3651"/>
                  </a:lnTo>
                  <a:lnTo>
                    <a:pt x="2242" y="3652"/>
                  </a:lnTo>
                  <a:lnTo>
                    <a:pt x="2196" y="3654"/>
                  </a:lnTo>
                  <a:lnTo>
                    <a:pt x="2149" y="3657"/>
                  </a:lnTo>
                  <a:lnTo>
                    <a:pt x="2100" y="3662"/>
                  </a:lnTo>
                  <a:lnTo>
                    <a:pt x="2051" y="3667"/>
                  </a:lnTo>
                  <a:lnTo>
                    <a:pt x="2002" y="3673"/>
                  </a:lnTo>
                  <a:lnTo>
                    <a:pt x="1952" y="3681"/>
                  </a:lnTo>
                  <a:lnTo>
                    <a:pt x="1902" y="3690"/>
                  </a:lnTo>
                  <a:lnTo>
                    <a:pt x="1850" y="3700"/>
                  </a:lnTo>
                  <a:lnTo>
                    <a:pt x="1800" y="3711"/>
                  </a:lnTo>
                  <a:lnTo>
                    <a:pt x="1750" y="3723"/>
                  </a:lnTo>
                  <a:lnTo>
                    <a:pt x="1699" y="3736"/>
                  </a:lnTo>
                  <a:lnTo>
                    <a:pt x="1649" y="3751"/>
                  </a:lnTo>
                  <a:lnTo>
                    <a:pt x="1599" y="3767"/>
                  </a:lnTo>
                  <a:lnTo>
                    <a:pt x="1550" y="3784"/>
                  </a:lnTo>
                  <a:lnTo>
                    <a:pt x="1502" y="3801"/>
                  </a:lnTo>
                  <a:lnTo>
                    <a:pt x="1454" y="3820"/>
                  </a:lnTo>
                  <a:lnTo>
                    <a:pt x="1408" y="3841"/>
                  </a:lnTo>
                  <a:lnTo>
                    <a:pt x="1362" y="3862"/>
                  </a:lnTo>
                  <a:lnTo>
                    <a:pt x="1318" y="3885"/>
                  </a:lnTo>
                  <a:lnTo>
                    <a:pt x="1275" y="3909"/>
                  </a:lnTo>
                  <a:lnTo>
                    <a:pt x="1234" y="3934"/>
                  </a:lnTo>
                  <a:lnTo>
                    <a:pt x="1153" y="3983"/>
                  </a:lnTo>
                  <a:lnTo>
                    <a:pt x="1074" y="4032"/>
                  </a:lnTo>
                  <a:lnTo>
                    <a:pt x="1037" y="4056"/>
                  </a:lnTo>
                  <a:lnTo>
                    <a:pt x="1000" y="4080"/>
                  </a:lnTo>
                  <a:lnTo>
                    <a:pt x="964" y="4105"/>
                  </a:lnTo>
                  <a:lnTo>
                    <a:pt x="931" y="4129"/>
                  </a:lnTo>
                  <a:lnTo>
                    <a:pt x="899" y="4153"/>
                  </a:lnTo>
                  <a:lnTo>
                    <a:pt x="869" y="4176"/>
                  </a:lnTo>
                  <a:lnTo>
                    <a:pt x="839" y="4200"/>
                  </a:lnTo>
                  <a:lnTo>
                    <a:pt x="812" y="4225"/>
                  </a:lnTo>
                  <a:lnTo>
                    <a:pt x="788" y="4248"/>
                  </a:lnTo>
                  <a:lnTo>
                    <a:pt x="765" y="4272"/>
                  </a:lnTo>
                  <a:lnTo>
                    <a:pt x="745" y="4296"/>
                  </a:lnTo>
                  <a:lnTo>
                    <a:pt x="727" y="4320"/>
                  </a:lnTo>
                  <a:lnTo>
                    <a:pt x="712" y="4345"/>
                  </a:lnTo>
                  <a:lnTo>
                    <a:pt x="699" y="4369"/>
                  </a:lnTo>
                  <a:lnTo>
                    <a:pt x="690" y="4393"/>
                  </a:lnTo>
                  <a:lnTo>
                    <a:pt x="683" y="4417"/>
                  </a:lnTo>
                  <a:lnTo>
                    <a:pt x="679" y="4442"/>
                  </a:lnTo>
                  <a:lnTo>
                    <a:pt x="679" y="4467"/>
                  </a:lnTo>
                  <a:lnTo>
                    <a:pt x="682" y="4492"/>
                  </a:lnTo>
                  <a:lnTo>
                    <a:pt x="688" y="4517"/>
                  </a:lnTo>
                  <a:lnTo>
                    <a:pt x="698" y="4542"/>
                  </a:lnTo>
                  <a:lnTo>
                    <a:pt x="712" y="4568"/>
                  </a:lnTo>
                  <a:lnTo>
                    <a:pt x="730" y="4595"/>
                  </a:lnTo>
                  <a:lnTo>
                    <a:pt x="752" y="4621"/>
                  </a:lnTo>
                  <a:lnTo>
                    <a:pt x="778" y="4647"/>
                  </a:lnTo>
                  <a:lnTo>
                    <a:pt x="808" y="4673"/>
                  </a:lnTo>
                  <a:lnTo>
                    <a:pt x="842" y="4700"/>
                  </a:lnTo>
                  <a:lnTo>
                    <a:pt x="882" y="4728"/>
                  </a:lnTo>
                  <a:lnTo>
                    <a:pt x="922" y="4755"/>
                  </a:lnTo>
                  <a:lnTo>
                    <a:pt x="964" y="4782"/>
                  </a:lnTo>
                  <a:lnTo>
                    <a:pt x="1007" y="4809"/>
                  </a:lnTo>
                  <a:lnTo>
                    <a:pt x="1049" y="4836"/>
                  </a:lnTo>
                  <a:lnTo>
                    <a:pt x="1093" y="4862"/>
                  </a:lnTo>
                  <a:lnTo>
                    <a:pt x="1138" y="4887"/>
                  </a:lnTo>
                  <a:lnTo>
                    <a:pt x="1184" y="4912"/>
                  </a:lnTo>
                  <a:lnTo>
                    <a:pt x="1230" y="4935"/>
                  </a:lnTo>
                  <a:lnTo>
                    <a:pt x="1277" y="4960"/>
                  </a:lnTo>
                  <a:lnTo>
                    <a:pt x="1325" y="4982"/>
                  </a:lnTo>
                  <a:lnTo>
                    <a:pt x="1374" y="5004"/>
                  </a:lnTo>
                  <a:lnTo>
                    <a:pt x="1423" y="5024"/>
                  </a:lnTo>
                  <a:lnTo>
                    <a:pt x="1472" y="5044"/>
                  </a:lnTo>
                  <a:lnTo>
                    <a:pt x="1524" y="5064"/>
                  </a:lnTo>
                  <a:lnTo>
                    <a:pt x="1575" y="5082"/>
                  </a:lnTo>
                  <a:lnTo>
                    <a:pt x="1628" y="5098"/>
                  </a:lnTo>
                  <a:lnTo>
                    <a:pt x="1680" y="5113"/>
                  </a:lnTo>
                  <a:lnTo>
                    <a:pt x="1733" y="5128"/>
                  </a:lnTo>
                  <a:lnTo>
                    <a:pt x="1788" y="5140"/>
                  </a:lnTo>
                  <a:lnTo>
                    <a:pt x="1843" y="5152"/>
                  </a:lnTo>
                  <a:lnTo>
                    <a:pt x="1899" y="5162"/>
                  </a:lnTo>
                  <a:lnTo>
                    <a:pt x="1955" y="5170"/>
                  </a:lnTo>
                  <a:lnTo>
                    <a:pt x="2013" y="5177"/>
                  </a:lnTo>
                  <a:lnTo>
                    <a:pt x="2070" y="5183"/>
                  </a:lnTo>
                  <a:lnTo>
                    <a:pt x="2129" y="5187"/>
                  </a:lnTo>
                  <a:lnTo>
                    <a:pt x="2188" y="5189"/>
                  </a:lnTo>
                  <a:lnTo>
                    <a:pt x="2247" y="5189"/>
                  </a:lnTo>
                  <a:lnTo>
                    <a:pt x="2308" y="5187"/>
                  </a:lnTo>
                  <a:lnTo>
                    <a:pt x="2369" y="5183"/>
                  </a:lnTo>
                  <a:lnTo>
                    <a:pt x="2431" y="5176"/>
                  </a:lnTo>
                  <a:lnTo>
                    <a:pt x="2493" y="5169"/>
                  </a:lnTo>
                  <a:lnTo>
                    <a:pt x="2557" y="5159"/>
                  </a:lnTo>
                  <a:lnTo>
                    <a:pt x="2567" y="5156"/>
                  </a:lnTo>
                  <a:lnTo>
                    <a:pt x="2596" y="5147"/>
                  </a:lnTo>
                  <a:lnTo>
                    <a:pt x="2643" y="5135"/>
                  </a:lnTo>
                  <a:lnTo>
                    <a:pt x="2703" y="5119"/>
                  </a:lnTo>
                  <a:lnTo>
                    <a:pt x="2774" y="5101"/>
                  </a:lnTo>
                  <a:lnTo>
                    <a:pt x="2853" y="5082"/>
                  </a:lnTo>
                  <a:lnTo>
                    <a:pt x="2939" y="5063"/>
                  </a:lnTo>
                  <a:lnTo>
                    <a:pt x="3028" y="5044"/>
                  </a:lnTo>
                  <a:lnTo>
                    <a:pt x="3073" y="5035"/>
                  </a:lnTo>
                  <a:lnTo>
                    <a:pt x="3117" y="5028"/>
                  </a:lnTo>
                  <a:lnTo>
                    <a:pt x="3162" y="5021"/>
                  </a:lnTo>
                  <a:lnTo>
                    <a:pt x="3205" y="5015"/>
                  </a:lnTo>
                  <a:lnTo>
                    <a:pt x="3246" y="5010"/>
                  </a:lnTo>
                  <a:lnTo>
                    <a:pt x="3287" y="5006"/>
                  </a:lnTo>
                  <a:lnTo>
                    <a:pt x="3326" y="5003"/>
                  </a:lnTo>
                  <a:lnTo>
                    <a:pt x="3362" y="5002"/>
                  </a:lnTo>
                  <a:lnTo>
                    <a:pt x="3397" y="5003"/>
                  </a:lnTo>
                  <a:lnTo>
                    <a:pt x="3428" y="5005"/>
                  </a:lnTo>
                  <a:lnTo>
                    <a:pt x="3455" y="5009"/>
                  </a:lnTo>
                  <a:lnTo>
                    <a:pt x="3480" y="5015"/>
                  </a:lnTo>
                  <a:lnTo>
                    <a:pt x="3500" y="5023"/>
                  </a:lnTo>
                  <a:lnTo>
                    <a:pt x="3517" y="5033"/>
                  </a:lnTo>
                  <a:lnTo>
                    <a:pt x="3529" y="5046"/>
                  </a:lnTo>
                  <a:lnTo>
                    <a:pt x="3536" y="5062"/>
                  </a:lnTo>
                  <a:lnTo>
                    <a:pt x="3540" y="5077"/>
                  </a:lnTo>
                  <a:lnTo>
                    <a:pt x="3541" y="5092"/>
                  </a:lnTo>
                  <a:lnTo>
                    <a:pt x="3540" y="5106"/>
                  </a:lnTo>
                  <a:lnTo>
                    <a:pt x="3537" y="5118"/>
                  </a:lnTo>
                  <a:lnTo>
                    <a:pt x="3532" y="5130"/>
                  </a:lnTo>
                  <a:lnTo>
                    <a:pt x="3526" y="5141"/>
                  </a:lnTo>
                  <a:lnTo>
                    <a:pt x="3518" y="5151"/>
                  </a:lnTo>
                  <a:lnTo>
                    <a:pt x="3508" y="5161"/>
                  </a:lnTo>
                  <a:lnTo>
                    <a:pt x="3498" y="5170"/>
                  </a:lnTo>
                  <a:lnTo>
                    <a:pt x="3486" y="5178"/>
                  </a:lnTo>
                  <a:lnTo>
                    <a:pt x="3474" y="5187"/>
                  </a:lnTo>
                  <a:lnTo>
                    <a:pt x="3461" y="5195"/>
                  </a:lnTo>
                  <a:lnTo>
                    <a:pt x="3433" y="5209"/>
                  </a:lnTo>
                  <a:lnTo>
                    <a:pt x="3404" y="5223"/>
                  </a:lnTo>
                  <a:lnTo>
                    <a:pt x="3374" y="5237"/>
                  </a:lnTo>
                  <a:lnTo>
                    <a:pt x="3346" y="5251"/>
                  </a:lnTo>
                  <a:lnTo>
                    <a:pt x="3333" y="5259"/>
                  </a:lnTo>
                  <a:lnTo>
                    <a:pt x="3321" y="5267"/>
                  </a:lnTo>
                  <a:lnTo>
                    <a:pt x="3310" y="5275"/>
                  </a:lnTo>
                  <a:lnTo>
                    <a:pt x="3299" y="5284"/>
                  </a:lnTo>
                  <a:lnTo>
                    <a:pt x="3290" y="5294"/>
                  </a:lnTo>
                  <a:lnTo>
                    <a:pt x="3282" y="5305"/>
                  </a:lnTo>
                  <a:lnTo>
                    <a:pt x="3276" y="5316"/>
                  </a:lnTo>
                  <a:lnTo>
                    <a:pt x="3271" y="5328"/>
                  </a:lnTo>
                  <a:lnTo>
                    <a:pt x="3268" y="5340"/>
                  </a:lnTo>
                  <a:lnTo>
                    <a:pt x="3267" y="5354"/>
                  </a:lnTo>
                  <a:lnTo>
                    <a:pt x="3269" y="5369"/>
                  </a:lnTo>
                  <a:lnTo>
                    <a:pt x="3272" y="5384"/>
                  </a:lnTo>
                  <a:lnTo>
                    <a:pt x="3276" y="5401"/>
                  </a:lnTo>
                  <a:lnTo>
                    <a:pt x="3281" y="5417"/>
                  </a:lnTo>
                  <a:lnTo>
                    <a:pt x="3288" y="5434"/>
                  </a:lnTo>
                  <a:lnTo>
                    <a:pt x="3294" y="5450"/>
                  </a:lnTo>
                  <a:lnTo>
                    <a:pt x="3310" y="5481"/>
                  </a:lnTo>
                  <a:lnTo>
                    <a:pt x="3326" y="5511"/>
                  </a:lnTo>
                  <a:lnTo>
                    <a:pt x="3341" y="5542"/>
                  </a:lnTo>
                  <a:lnTo>
                    <a:pt x="3356" y="5572"/>
                  </a:lnTo>
                  <a:lnTo>
                    <a:pt x="3362" y="5586"/>
                  </a:lnTo>
                  <a:lnTo>
                    <a:pt x="3367" y="5601"/>
                  </a:lnTo>
                  <a:lnTo>
                    <a:pt x="3371" y="5615"/>
                  </a:lnTo>
                  <a:lnTo>
                    <a:pt x="3374" y="5629"/>
                  </a:lnTo>
                  <a:lnTo>
                    <a:pt x="3376" y="5643"/>
                  </a:lnTo>
                  <a:lnTo>
                    <a:pt x="3376" y="5657"/>
                  </a:lnTo>
                  <a:lnTo>
                    <a:pt x="3374" y="5672"/>
                  </a:lnTo>
                  <a:lnTo>
                    <a:pt x="3370" y="5686"/>
                  </a:lnTo>
                  <a:lnTo>
                    <a:pt x="3365" y="5700"/>
                  </a:lnTo>
                  <a:lnTo>
                    <a:pt x="3357" y="5713"/>
                  </a:lnTo>
                  <a:lnTo>
                    <a:pt x="3347" y="5727"/>
                  </a:lnTo>
                  <a:lnTo>
                    <a:pt x="3335" y="5740"/>
                  </a:lnTo>
                  <a:lnTo>
                    <a:pt x="3320" y="5753"/>
                  </a:lnTo>
                  <a:lnTo>
                    <a:pt x="3302" y="5766"/>
                  </a:lnTo>
                  <a:lnTo>
                    <a:pt x="3281" y="5781"/>
                  </a:lnTo>
                  <a:lnTo>
                    <a:pt x="3256" y="5794"/>
                  </a:lnTo>
                  <a:lnTo>
                    <a:pt x="3228" y="5807"/>
                  </a:lnTo>
                  <a:lnTo>
                    <a:pt x="3198" y="5819"/>
                  </a:lnTo>
                  <a:lnTo>
                    <a:pt x="3163" y="5832"/>
                  </a:lnTo>
                  <a:lnTo>
                    <a:pt x="3124" y="5845"/>
                  </a:lnTo>
                  <a:lnTo>
                    <a:pt x="3082" y="5859"/>
                  </a:lnTo>
                  <a:lnTo>
                    <a:pt x="3037" y="5871"/>
                  </a:lnTo>
                  <a:lnTo>
                    <a:pt x="2988" y="5884"/>
                  </a:lnTo>
                  <a:lnTo>
                    <a:pt x="2938" y="5896"/>
                  </a:lnTo>
                  <a:lnTo>
                    <a:pt x="2831" y="5921"/>
                  </a:lnTo>
                  <a:lnTo>
                    <a:pt x="2719" y="5944"/>
                  </a:lnTo>
                  <a:lnTo>
                    <a:pt x="2603" y="5968"/>
                  </a:lnTo>
                  <a:lnTo>
                    <a:pt x="2485" y="5992"/>
                  </a:lnTo>
                  <a:lnTo>
                    <a:pt x="2426" y="6005"/>
                  </a:lnTo>
                  <a:lnTo>
                    <a:pt x="2367" y="6018"/>
                  </a:lnTo>
                  <a:lnTo>
                    <a:pt x="2310" y="6033"/>
                  </a:lnTo>
                  <a:lnTo>
                    <a:pt x="2253" y="6047"/>
                  </a:lnTo>
                  <a:lnTo>
                    <a:pt x="2197" y="6063"/>
                  </a:lnTo>
                  <a:lnTo>
                    <a:pt x="2143" y="6079"/>
                  </a:lnTo>
                  <a:lnTo>
                    <a:pt x="2089" y="6096"/>
                  </a:lnTo>
                  <a:lnTo>
                    <a:pt x="2039" y="6113"/>
                  </a:lnTo>
                  <a:lnTo>
                    <a:pt x="1990" y="6132"/>
                  </a:lnTo>
                  <a:lnTo>
                    <a:pt x="1944" y="6153"/>
                  </a:lnTo>
                  <a:lnTo>
                    <a:pt x="1901" y="6174"/>
                  </a:lnTo>
                  <a:lnTo>
                    <a:pt x="1860" y="6197"/>
                  </a:lnTo>
                  <a:lnTo>
                    <a:pt x="1823" y="6220"/>
                  </a:lnTo>
                  <a:lnTo>
                    <a:pt x="1789" y="6246"/>
                  </a:lnTo>
                  <a:lnTo>
                    <a:pt x="1759" y="6273"/>
                  </a:lnTo>
                  <a:lnTo>
                    <a:pt x="1733" y="6301"/>
                  </a:lnTo>
                  <a:lnTo>
                    <a:pt x="1711" y="6331"/>
                  </a:lnTo>
                  <a:lnTo>
                    <a:pt x="1694" y="6363"/>
                  </a:lnTo>
                  <a:lnTo>
                    <a:pt x="1682" y="6398"/>
                  </a:lnTo>
                  <a:lnTo>
                    <a:pt x="1675" y="6433"/>
                  </a:lnTo>
                  <a:lnTo>
                    <a:pt x="1677" y="6433"/>
                  </a:lnTo>
                  <a:lnTo>
                    <a:pt x="1682" y="6432"/>
                  </a:lnTo>
                  <a:lnTo>
                    <a:pt x="1688" y="6432"/>
                  </a:lnTo>
                  <a:lnTo>
                    <a:pt x="1694" y="6432"/>
                  </a:lnTo>
                  <a:lnTo>
                    <a:pt x="1695" y="6433"/>
                  </a:lnTo>
                  <a:lnTo>
                    <a:pt x="1696" y="6434"/>
                  </a:lnTo>
                  <a:lnTo>
                    <a:pt x="1696" y="6435"/>
                  </a:lnTo>
                  <a:lnTo>
                    <a:pt x="1695" y="6436"/>
                  </a:lnTo>
                  <a:lnTo>
                    <a:pt x="1687" y="6441"/>
                  </a:lnTo>
                  <a:lnTo>
                    <a:pt x="1671" y="6448"/>
                  </a:lnTo>
                  <a:lnTo>
                    <a:pt x="1646" y="6457"/>
                  </a:lnTo>
                  <a:lnTo>
                    <a:pt x="1607" y="6470"/>
                  </a:lnTo>
                  <a:lnTo>
                    <a:pt x="1556" y="6487"/>
                  </a:lnTo>
                  <a:lnTo>
                    <a:pt x="1488" y="6508"/>
                  </a:lnTo>
                  <a:lnTo>
                    <a:pt x="1405" y="6533"/>
                  </a:lnTo>
                  <a:lnTo>
                    <a:pt x="1301" y="6563"/>
                  </a:lnTo>
                  <a:lnTo>
                    <a:pt x="1176" y="6597"/>
                  </a:lnTo>
                  <a:lnTo>
                    <a:pt x="1029" y="6639"/>
                  </a:lnTo>
                  <a:lnTo>
                    <a:pt x="875" y="6682"/>
                  </a:lnTo>
                  <a:lnTo>
                    <a:pt x="734" y="6721"/>
                  </a:lnTo>
                  <a:lnTo>
                    <a:pt x="669" y="6742"/>
                  </a:lnTo>
                  <a:lnTo>
                    <a:pt x="607" y="6760"/>
                  </a:lnTo>
                  <a:lnTo>
                    <a:pt x="548" y="6779"/>
                  </a:lnTo>
                  <a:lnTo>
                    <a:pt x="493" y="6797"/>
                  </a:lnTo>
                  <a:lnTo>
                    <a:pt x="440" y="6815"/>
                  </a:lnTo>
                  <a:lnTo>
                    <a:pt x="392" y="6832"/>
                  </a:lnTo>
                  <a:lnTo>
                    <a:pt x="345" y="6850"/>
                  </a:lnTo>
                  <a:lnTo>
                    <a:pt x="304" y="6868"/>
                  </a:lnTo>
                  <a:lnTo>
                    <a:pt x="265" y="6886"/>
                  </a:lnTo>
                  <a:lnTo>
                    <a:pt x="228" y="6903"/>
                  </a:lnTo>
                  <a:lnTo>
                    <a:pt x="196" y="6921"/>
                  </a:lnTo>
                  <a:lnTo>
                    <a:pt x="168" y="6939"/>
                  </a:lnTo>
                  <a:lnTo>
                    <a:pt x="142" y="6957"/>
                  </a:lnTo>
                  <a:lnTo>
                    <a:pt x="120" y="6975"/>
                  </a:lnTo>
                  <a:lnTo>
                    <a:pt x="100" y="6995"/>
                  </a:lnTo>
                  <a:lnTo>
                    <a:pt x="85" y="7015"/>
                  </a:lnTo>
                  <a:lnTo>
                    <a:pt x="73" y="7034"/>
                  </a:lnTo>
                  <a:lnTo>
                    <a:pt x="64" y="7055"/>
                  </a:lnTo>
                  <a:lnTo>
                    <a:pt x="59" y="7076"/>
                  </a:lnTo>
                  <a:lnTo>
                    <a:pt x="57" y="7098"/>
                  </a:lnTo>
                  <a:lnTo>
                    <a:pt x="59" y="7121"/>
                  </a:lnTo>
                  <a:lnTo>
                    <a:pt x="63" y="7144"/>
                  </a:lnTo>
                  <a:lnTo>
                    <a:pt x="72" y="7168"/>
                  </a:lnTo>
                  <a:lnTo>
                    <a:pt x="84" y="7193"/>
                  </a:lnTo>
                  <a:lnTo>
                    <a:pt x="99" y="7220"/>
                  </a:lnTo>
                  <a:lnTo>
                    <a:pt x="119" y="7247"/>
                  </a:lnTo>
                  <a:lnTo>
                    <a:pt x="141" y="7276"/>
                  </a:lnTo>
                  <a:lnTo>
                    <a:pt x="166" y="7305"/>
                  </a:lnTo>
                  <a:lnTo>
                    <a:pt x="177" y="7311"/>
                  </a:lnTo>
                  <a:lnTo>
                    <a:pt x="209" y="7329"/>
                  </a:lnTo>
                  <a:lnTo>
                    <a:pt x="259" y="7356"/>
                  </a:lnTo>
                  <a:lnTo>
                    <a:pt x="324" y="7387"/>
                  </a:lnTo>
                  <a:lnTo>
                    <a:pt x="363" y="7405"/>
                  </a:lnTo>
                  <a:lnTo>
                    <a:pt x="403" y="7422"/>
                  </a:lnTo>
                  <a:lnTo>
                    <a:pt x="446" y="7440"/>
                  </a:lnTo>
                  <a:lnTo>
                    <a:pt x="493" y="7459"/>
                  </a:lnTo>
                  <a:lnTo>
                    <a:pt x="541" y="7476"/>
                  </a:lnTo>
                  <a:lnTo>
                    <a:pt x="591" y="7492"/>
                  </a:lnTo>
                  <a:lnTo>
                    <a:pt x="643" y="7507"/>
                  </a:lnTo>
                  <a:lnTo>
                    <a:pt x="695" y="7521"/>
                  </a:lnTo>
                  <a:lnTo>
                    <a:pt x="690" y="7526"/>
                  </a:lnTo>
                  <a:lnTo>
                    <a:pt x="677" y="7540"/>
                  </a:lnTo>
                  <a:lnTo>
                    <a:pt x="658" y="7563"/>
                  </a:lnTo>
                  <a:lnTo>
                    <a:pt x="633" y="7595"/>
                  </a:lnTo>
                  <a:lnTo>
                    <a:pt x="620" y="7613"/>
                  </a:lnTo>
                  <a:lnTo>
                    <a:pt x="606" y="7632"/>
                  </a:lnTo>
                  <a:lnTo>
                    <a:pt x="592" y="7653"/>
                  </a:lnTo>
                  <a:lnTo>
                    <a:pt x="578" y="7676"/>
                  </a:lnTo>
                  <a:lnTo>
                    <a:pt x="565" y="7700"/>
                  </a:lnTo>
                  <a:lnTo>
                    <a:pt x="552" y="7725"/>
                  </a:lnTo>
                  <a:lnTo>
                    <a:pt x="540" y="7751"/>
                  </a:lnTo>
                  <a:lnTo>
                    <a:pt x="529" y="7778"/>
                  </a:lnTo>
                  <a:lnTo>
                    <a:pt x="519" y="7806"/>
                  </a:lnTo>
                  <a:lnTo>
                    <a:pt x="511" y="7835"/>
                  </a:lnTo>
                  <a:lnTo>
                    <a:pt x="504" y="7864"/>
                  </a:lnTo>
                  <a:lnTo>
                    <a:pt x="500" y="7894"/>
                  </a:lnTo>
                  <a:lnTo>
                    <a:pt x="497" y="7924"/>
                  </a:lnTo>
                  <a:lnTo>
                    <a:pt x="497" y="7955"/>
                  </a:lnTo>
                  <a:lnTo>
                    <a:pt x="500" y="7986"/>
                  </a:lnTo>
                  <a:lnTo>
                    <a:pt x="506" y="8017"/>
                  </a:lnTo>
                  <a:lnTo>
                    <a:pt x="514" y="8048"/>
                  </a:lnTo>
                  <a:lnTo>
                    <a:pt x="526" y="8079"/>
                  </a:lnTo>
                  <a:lnTo>
                    <a:pt x="542" y="8110"/>
                  </a:lnTo>
                  <a:lnTo>
                    <a:pt x="562" y="8140"/>
                  </a:lnTo>
                  <a:lnTo>
                    <a:pt x="586" y="8169"/>
                  </a:lnTo>
                  <a:lnTo>
                    <a:pt x="615" y="8199"/>
                  </a:lnTo>
                  <a:lnTo>
                    <a:pt x="648" y="8228"/>
                  </a:lnTo>
                  <a:lnTo>
                    <a:pt x="685" y="8256"/>
                  </a:lnTo>
                  <a:lnTo>
                    <a:pt x="706" y="8257"/>
                  </a:lnTo>
                  <a:lnTo>
                    <a:pt x="764" y="8262"/>
                  </a:lnTo>
                  <a:lnTo>
                    <a:pt x="846" y="8268"/>
                  </a:lnTo>
                  <a:lnTo>
                    <a:pt x="947" y="8276"/>
                  </a:lnTo>
                  <a:lnTo>
                    <a:pt x="1057" y="8285"/>
                  </a:lnTo>
                  <a:lnTo>
                    <a:pt x="1165" y="8294"/>
                  </a:lnTo>
                  <a:lnTo>
                    <a:pt x="1263" y="8300"/>
                  </a:lnTo>
                  <a:lnTo>
                    <a:pt x="1342" y="8305"/>
                  </a:lnTo>
                  <a:lnTo>
                    <a:pt x="1347" y="8317"/>
                  </a:lnTo>
                  <a:lnTo>
                    <a:pt x="1361" y="8351"/>
                  </a:lnTo>
                  <a:lnTo>
                    <a:pt x="1369" y="8375"/>
                  </a:lnTo>
                  <a:lnTo>
                    <a:pt x="1378" y="8404"/>
                  </a:lnTo>
                  <a:lnTo>
                    <a:pt x="1386" y="8437"/>
                  </a:lnTo>
                  <a:lnTo>
                    <a:pt x="1394" y="8474"/>
                  </a:lnTo>
                  <a:lnTo>
                    <a:pt x="1396" y="8493"/>
                  </a:lnTo>
                  <a:lnTo>
                    <a:pt x="1399" y="8514"/>
                  </a:lnTo>
                  <a:lnTo>
                    <a:pt x="1401" y="8536"/>
                  </a:lnTo>
                  <a:lnTo>
                    <a:pt x="1402" y="8558"/>
                  </a:lnTo>
                  <a:lnTo>
                    <a:pt x="1403" y="8580"/>
                  </a:lnTo>
                  <a:lnTo>
                    <a:pt x="1403" y="8604"/>
                  </a:lnTo>
                  <a:lnTo>
                    <a:pt x="1402" y="8627"/>
                  </a:lnTo>
                  <a:lnTo>
                    <a:pt x="1400" y="8653"/>
                  </a:lnTo>
                  <a:lnTo>
                    <a:pt x="1397" y="8678"/>
                  </a:lnTo>
                  <a:lnTo>
                    <a:pt x="1393" y="8703"/>
                  </a:lnTo>
                  <a:lnTo>
                    <a:pt x="1388" y="8729"/>
                  </a:lnTo>
                  <a:lnTo>
                    <a:pt x="1382" y="8755"/>
                  </a:lnTo>
                  <a:lnTo>
                    <a:pt x="1374" y="8782"/>
                  </a:lnTo>
                  <a:lnTo>
                    <a:pt x="1364" y="8809"/>
                  </a:lnTo>
                  <a:lnTo>
                    <a:pt x="1353" y="8836"/>
                  </a:lnTo>
                  <a:lnTo>
                    <a:pt x="1342" y="8863"/>
                  </a:lnTo>
                  <a:lnTo>
                    <a:pt x="1343" y="8866"/>
                  </a:lnTo>
                  <a:lnTo>
                    <a:pt x="1349" y="8873"/>
                  </a:lnTo>
                  <a:lnTo>
                    <a:pt x="1359" y="8883"/>
                  </a:lnTo>
                  <a:lnTo>
                    <a:pt x="1374" y="8896"/>
                  </a:lnTo>
                  <a:lnTo>
                    <a:pt x="1382" y="8903"/>
                  </a:lnTo>
                  <a:lnTo>
                    <a:pt x="1392" y="8910"/>
                  </a:lnTo>
                  <a:lnTo>
                    <a:pt x="1402" y="8917"/>
                  </a:lnTo>
                  <a:lnTo>
                    <a:pt x="1414" y="8924"/>
                  </a:lnTo>
                  <a:lnTo>
                    <a:pt x="1427" y="8930"/>
                  </a:lnTo>
                  <a:lnTo>
                    <a:pt x="1442" y="8936"/>
                  </a:lnTo>
                  <a:lnTo>
                    <a:pt x="1457" y="8942"/>
                  </a:lnTo>
                  <a:lnTo>
                    <a:pt x="1474" y="8947"/>
                  </a:lnTo>
                  <a:lnTo>
                    <a:pt x="1492" y="8951"/>
                  </a:lnTo>
                  <a:lnTo>
                    <a:pt x="1512" y="8954"/>
                  </a:lnTo>
                  <a:lnTo>
                    <a:pt x="1532" y="8956"/>
                  </a:lnTo>
                  <a:lnTo>
                    <a:pt x="1554" y="8957"/>
                  </a:lnTo>
                  <a:lnTo>
                    <a:pt x="1577" y="8957"/>
                  </a:lnTo>
                  <a:lnTo>
                    <a:pt x="1602" y="8955"/>
                  </a:lnTo>
                  <a:lnTo>
                    <a:pt x="1629" y="8951"/>
                  </a:lnTo>
                  <a:lnTo>
                    <a:pt x="1656" y="8946"/>
                  </a:lnTo>
                  <a:lnTo>
                    <a:pt x="1685" y="8939"/>
                  </a:lnTo>
                  <a:lnTo>
                    <a:pt x="1715" y="8930"/>
                  </a:lnTo>
                  <a:lnTo>
                    <a:pt x="1747" y="8919"/>
                  </a:lnTo>
                  <a:lnTo>
                    <a:pt x="1781" y="8905"/>
                  </a:lnTo>
                  <a:lnTo>
                    <a:pt x="1815" y="8888"/>
                  </a:lnTo>
                  <a:lnTo>
                    <a:pt x="1852" y="8870"/>
                  </a:lnTo>
                  <a:lnTo>
                    <a:pt x="1890" y="8848"/>
                  </a:lnTo>
                  <a:lnTo>
                    <a:pt x="1930" y="8824"/>
                  </a:lnTo>
                  <a:lnTo>
                    <a:pt x="1944" y="8822"/>
                  </a:lnTo>
                  <a:lnTo>
                    <a:pt x="1980" y="8819"/>
                  </a:lnTo>
                  <a:lnTo>
                    <a:pt x="2004" y="8818"/>
                  </a:lnTo>
                  <a:lnTo>
                    <a:pt x="2030" y="8819"/>
                  </a:lnTo>
                  <a:lnTo>
                    <a:pt x="2043" y="8820"/>
                  </a:lnTo>
                  <a:lnTo>
                    <a:pt x="2056" y="8821"/>
                  </a:lnTo>
                  <a:lnTo>
                    <a:pt x="2069" y="8823"/>
                  </a:lnTo>
                  <a:lnTo>
                    <a:pt x="2082" y="8825"/>
                  </a:lnTo>
                  <a:lnTo>
                    <a:pt x="2095" y="8829"/>
                  </a:lnTo>
                  <a:lnTo>
                    <a:pt x="2108" y="8833"/>
                  </a:lnTo>
                  <a:lnTo>
                    <a:pt x="2119" y="8838"/>
                  </a:lnTo>
                  <a:lnTo>
                    <a:pt x="2131" y="8844"/>
                  </a:lnTo>
                  <a:lnTo>
                    <a:pt x="2141" y="8851"/>
                  </a:lnTo>
                  <a:lnTo>
                    <a:pt x="2151" y="8858"/>
                  </a:lnTo>
                  <a:lnTo>
                    <a:pt x="2159" y="8867"/>
                  </a:lnTo>
                  <a:lnTo>
                    <a:pt x="2165" y="8878"/>
                  </a:lnTo>
                  <a:lnTo>
                    <a:pt x="2170" y="8889"/>
                  </a:lnTo>
                  <a:lnTo>
                    <a:pt x="2174" y="8903"/>
                  </a:lnTo>
                  <a:lnTo>
                    <a:pt x="2176" y="8917"/>
                  </a:lnTo>
                  <a:lnTo>
                    <a:pt x="2176" y="8932"/>
                  </a:lnTo>
                  <a:lnTo>
                    <a:pt x="2174" y="8949"/>
                  </a:lnTo>
                  <a:lnTo>
                    <a:pt x="2170" y="8968"/>
                  </a:lnTo>
                  <a:lnTo>
                    <a:pt x="2164" y="8988"/>
                  </a:lnTo>
                  <a:lnTo>
                    <a:pt x="2155" y="9011"/>
                  </a:lnTo>
                  <a:lnTo>
                    <a:pt x="2155" y="9016"/>
                  </a:lnTo>
                  <a:lnTo>
                    <a:pt x="2156" y="9029"/>
                  </a:lnTo>
                  <a:lnTo>
                    <a:pt x="2159" y="9049"/>
                  </a:lnTo>
                  <a:lnTo>
                    <a:pt x="2164" y="9075"/>
                  </a:lnTo>
                  <a:lnTo>
                    <a:pt x="2169" y="9089"/>
                  </a:lnTo>
                  <a:lnTo>
                    <a:pt x="2174" y="9103"/>
                  </a:lnTo>
                  <a:lnTo>
                    <a:pt x="2180" y="9119"/>
                  </a:lnTo>
                  <a:lnTo>
                    <a:pt x="2188" y="9135"/>
                  </a:lnTo>
                  <a:lnTo>
                    <a:pt x="2198" y="9150"/>
                  </a:lnTo>
                  <a:lnTo>
                    <a:pt x="2209" y="9165"/>
                  </a:lnTo>
                  <a:lnTo>
                    <a:pt x="2222" y="9180"/>
                  </a:lnTo>
                  <a:lnTo>
                    <a:pt x="2237" y="9194"/>
                  </a:lnTo>
                  <a:lnTo>
                    <a:pt x="2254" y="9207"/>
                  </a:lnTo>
                  <a:lnTo>
                    <a:pt x="2273" y="9220"/>
                  </a:lnTo>
                  <a:lnTo>
                    <a:pt x="2294" y="9230"/>
                  </a:lnTo>
                  <a:lnTo>
                    <a:pt x="2318" y="9240"/>
                  </a:lnTo>
                  <a:lnTo>
                    <a:pt x="2344" y="9247"/>
                  </a:lnTo>
                  <a:lnTo>
                    <a:pt x="2373" y="9254"/>
                  </a:lnTo>
                  <a:lnTo>
                    <a:pt x="2405" y="9258"/>
                  </a:lnTo>
                  <a:lnTo>
                    <a:pt x="2440" y="9259"/>
                  </a:lnTo>
                  <a:lnTo>
                    <a:pt x="2478" y="9258"/>
                  </a:lnTo>
                  <a:lnTo>
                    <a:pt x="2519" y="9254"/>
                  </a:lnTo>
                  <a:lnTo>
                    <a:pt x="2563" y="9246"/>
                  </a:lnTo>
                  <a:lnTo>
                    <a:pt x="2611" y="9235"/>
                  </a:lnTo>
                  <a:lnTo>
                    <a:pt x="2663" y="9221"/>
                  </a:lnTo>
                  <a:lnTo>
                    <a:pt x="2718" y="9204"/>
                  </a:lnTo>
                  <a:lnTo>
                    <a:pt x="2778" y="9183"/>
                  </a:lnTo>
                  <a:lnTo>
                    <a:pt x="2840" y="9158"/>
                  </a:lnTo>
                  <a:lnTo>
                    <a:pt x="2850" y="9153"/>
                  </a:lnTo>
                  <a:lnTo>
                    <a:pt x="2875" y="9139"/>
                  </a:lnTo>
                  <a:lnTo>
                    <a:pt x="2916" y="9116"/>
                  </a:lnTo>
                  <a:lnTo>
                    <a:pt x="2967" y="9090"/>
                  </a:lnTo>
                  <a:lnTo>
                    <a:pt x="3028" y="9060"/>
                  </a:lnTo>
                  <a:lnTo>
                    <a:pt x="3094" y="9028"/>
                  </a:lnTo>
                  <a:lnTo>
                    <a:pt x="3165" y="8994"/>
                  </a:lnTo>
                  <a:lnTo>
                    <a:pt x="3236" y="8964"/>
                  </a:lnTo>
                  <a:lnTo>
                    <a:pt x="3272" y="8950"/>
                  </a:lnTo>
                  <a:lnTo>
                    <a:pt x="3306" y="8937"/>
                  </a:lnTo>
                  <a:lnTo>
                    <a:pt x="3340" y="8925"/>
                  </a:lnTo>
                  <a:lnTo>
                    <a:pt x="3372" y="8915"/>
                  </a:lnTo>
                  <a:lnTo>
                    <a:pt x="3403" y="8906"/>
                  </a:lnTo>
                  <a:lnTo>
                    <a:pt x="3431" y="8900"/>
                  </a:lnTo>
                  <a:lnTo>
                    <a:pt x="3457" y="8895"/>
                  </a:lnTo>
                  <a:lnTo>
                    <a:pt x="3481" y="8893"/>
                  </a:lnTo>
                  <a:lnTo>
                    <a:pt x="3501" y="8894"/>
                  </a:lnTo>
                  <a:lnTo>
                    <a:pt x="3520" y="8898"/>
                  </a:lnTo>
                  <a:lnTo>
                    <a:pt x="3533" y="8904"/>
                  </a:lnTo>
                  <a:lnTo>
                    <a:pt x="3543" y="8914"/>
                  </a:lnTo>
                  <a:lnTo>
                    <a:pt x="3548" y="8927"/>
                  </a:lnTo>
                  <a:lnTo>
                    <a:pt x="3549" y="8944"/>
                  </a:lnTo>
                  <a:lnTo>
                    <a:pt x="3545" y="8965"/>
                  </a:lnTo>
                  <a:lnTo>
                    <a:pt x="3536" y="8990"/>
                  </a:lnTo>
                  <a:lnTo>
                    <a:pt x="3532" y="8997"/>
                  </a:lnTo>
                  <a:lnTo>
                    <a:pt x="3520" y="9015"/>
                  </a:lnTo>
                  <a:lnTo>
                    <a:pt x="3499" y="9042"/>
                  </a:lnTo>
                  <a:lnTo>
                    <a:pt x="3473" y="9078"/>
                  </a:lnTo>
                  <a:lnTo>
                    <a:pt x="3439" y="9122"/>
                  </a:lnTo>
                  <a:lnTo>
                    <a:pt x="3400" y="9173"/>
                  </a:lnTo>
                  <a:lnTo>
                    <a:pt x="3354" y="9229"/>
                  </a:lnTo>
                  <a:lnTo>
                    <a:pt x="3304" y="9289"/>
                  </a:lnTo>
                  <a:lnTo>
                    <a:pt x="3276" y="9319"/>
                  </a:lnTo>
                  <a:lnTo>
                    <a:pt x="3247" y="9350"/>
                  </a:lnTo>
                  <a:lnTo>
                    <a:pt x="3218" y="9383"/>
                  </a:lnTo>
                  <a:lnTo>
                    <a:pt x="3188" y="9414"/>
                  </a:lnTo>
                  <a:lnTo>
                    <a:pt x="3157" y="9446"/>
                  </a:lnTo>
                  <a:lnTo>
                    <a:pt x="3124" y="9478"/>
                  </a:lnTo>
                  <a:lnTo>
                    <a:pt x="3091" y="9510"/>
                  </a:lnTo>
                  <a:lnTo>
                    <a:pt x="3057" y="9541"/>
                  </a:lnTo>
                  <a:lnTo>
                    <a:pt x="3022" y="9571"/>
                  </a:lnTo>
                  <a:lnTo>
                    <a:pt x="2986" y="9601"/>
                  </a:lnTo>
                  <a:lnTo>
                    <a:pt x="2950" y="9630"/>
                  </a:lnTo>
                  <a:lnTo>
                    <a:pt x="2914" y="9658"/>
                  </a:lnTo>
                  <a:lnTo>
                    <a:pt x="2876" y="9684"/>
                  </a:lnTo>
                  <a:lnTo>
                    <a:pt x="2839" y="9709"/>
                  </a:lnTo>
                  <a:lnTo>
                    <a:pt x="2801" y="9734"/>
                  </a:lnTo>
                  <a:lnTo>
                    <a:pt x="2763" y="9755"/>
                  </a:lnTo>
                  <a:lnTo>
                    <a:pt x="2748" y="9760"/>
                  </a:lnTo>
                  <a:lnTo>
                    <a:pt x="2707" y="9774"/>
                  </a:lnTo>
                  <a:lnTo>
                    <a:pt x="2643" y="9796"/>
                  </a:lnTo>
                  <a:lnTo>
                    <a:pt x="2558" y="9826"/>
                  </a:lnTo>
                  <a:lnTo>
                    <a:pt x="2455" y="9864"/>
                  </a:lnTo>
                  <a:lnTo>
                    <a:pt x="2337" y="9907"/>
                  </a:lnTo>
                  <a:lnTo>
                    <a:pt x="2208" y="9955"/>
                  </a:lnTo>
                  <a:lnTo>
                    <a:pt x="2069" y="10009"/>
                  </a:lnTo>
                  <a:lnTo>
                    <a:pt x="1924" y="10066"/>
                  </a:lnTo>
                  <a:lnTo>
                    <a:pt x="1776" y="10127"/>
                  </a:lnTo>
                  <a:lnTo>
                    <a:pt x="1701" y="10158"/>
                  </a:lnTo>
                  <a:lnTo>
                    <a:pt x="1628" y="10190"/>
                  </a:lnTo>
                  <a:lnTo>
                    <a:pt x="1554" y="10223"/>
                  </a:lnTo>
                  <a:lnTo>
                    <a:pt x="1481" y="10256"/>
                  </a:lnTo>
                  <a:lnTo>
                    <a:pt x="1410" y="10288"/>
                  </a:lnTo>
                  <a:lnTo>
                    <a:pt x="1340" y="10321"/>
                  </a:lnTo>
                  <a:lnTo>
                    <a:pt x="1273" y="10355"/>
                  </a:lnTo>
                  <a:lnTo>
                    <a:pt x="1208" y="10388"/>
                  </a:lnTo>
                  <a:lnTo>
                    <a:pt x="1146" y="10421"/>
                  </a:lnTo>
                  <a:lnTo>
                    <a:pt x="1086" y="10455"/>
                  </a:lnTo>
                  <a:lnTo>
                    <a:pt x="1031" y="10487"/>
                  </a:lnTo>
                  <a:lnTo>
                    <a:pt x="979" y="10519"/>
                  </a:lnTo>
                  <a:lnTo>
                    <a:pt x="971" y="10521"/>
                  </a:lnTo>
                  <a:lnTo>
                    <a:pt x="950" y="10525"/>
                  </a:lnTo>
                  <a:lnTo>
                    <a:pt x="915" y="10533"/>
                  </a:lnTo>
                  <a:lnTo>
                    <a:pt x="869" y="10543"/>
                  </a:lnTo>
                  <a:lnTo>
                    <a:pt x="813" y="10557"/>
                  </a:lnTo>
                  <a:lnTo>
                    <a:pt x="750" y="10575"/>
                  </a:lnTo>
                  <a:lnTo>
                    <a:pt x="679" y="10595"/>
                  </a:lnTo>
                  <a:lnTo>
                    <a:pt x="603" y="10618"/>
                  </a:lnTo>
                  <a:lnTo>
                    <a:pt x="564" y="10630"/>
                  </a:lnTo>
                  <a:lnTo>
                    <a:pt x="524" y="10644"/>
                  </a:lnTo>
                  <a:lnTo>
                    <a:pt x="483" y="10658"/>
                  </a:lnTo>
                  <a:lnTo>
                    <a:pt x="443" y="10673"/>
                  </a:lnTo>
                  <a:lnTo>
                    <a:pt x="402" y="10690"/>
                  </a:lnTo>
                  <a:lnTo>
                    <a:pt x="361" y="10707"/>
                  </a:lnTo>
                  <a:lnTo>
                    <a:pt x="321" y="10725"/>
                  </a:lnTo>
                  <a:lnTo>
                    <a:pt x="281" y="10743"/>
                  </a:lnTo>
                  <a:lnTo>
                    <a:pt x="242" y="10762"/>
                  </a:lnTo>
                  <a:lnTo>
                    <a:pt x="203" y="10782"/>
                  </a:lnTo>
                  <a:lnTo>
                    <a:pt x="165" y="10803"/>
                  </a:lnTo>
                  <a:lnTo>
                    <a:pt x="129" y="10826"/>
                  </a:lnTo>
                  <a:lnTo>
                    <a:pt x="94" y="10848"/>
                  </a:lnTo>
                  <a:lnTo>
                    <a:pt x="61" y="10872"/>
                  </a:lnTo>
                  <a:lnTo>
                    <a:pt x="29" y="10896"/>
                  </a:lnTo>
                  <a:lnTo>
                    <a:pt x="0" y="10921"/>
                  </a:lnTo>
                  <a:lnTo>
                    <a:pt x="7" y="10919"/>
                  </a:lnTo>
                  <a:lnTo>
                    <a:pt x="28" y="10915"/>
                  </a:lnTo>
                  <a:lnTo>
                    <a:pt x="60" y="10909"/>
                  </a:lnTo>
                  <a:lnTo>
                    <a:pt x="105" y="10901"/>
                  </a:lnTo>
                  <a:lnTo>
                    <a:pt x="161" y="10890"/>
                  </a:lnTo>
                  <a:lnTo>
                    <a:pt x="225" y="10879"/>
                  </a:lnTo>
                  <a:lnTo>
                    <a:pt x="299" y="10866"/>
                  </a:lnTo>
                  <a:lnTo>
                    <a:pt x="381" y="10853"/>
                  </a:lnTo>
                  <a:lnTo>
                    <a:pt x="468" y="10839"/>
                  </a:lnTo>
                  <a:lnTo>
                    <a:pt x="563" y="10825"/>
                  </a:lnTo>
                  <a:lnTo>
                    <a:pt x="662" y="10811"/>
                  </a:lnTo>
                  <a:lnTo>
                    <a:pt x="765" y="10797"/>
                  </a:lnTo>
                  <a:lnTo>
                    <a:pt x="870" y="10784"/>
                  </a:lnTo>
                  <a:lnTo>
                    <a:pt x="977" y="10773"/>
                  </a:lnTo>
                  <a:lnTo>
                    <a:pt x="1086" y="10763"/>
                  </a:lnTo>
                  <a:lnTo>
                    <a:pt x="1195" y="10755"/>
                  </a:lnTo>
                  <a:lnTo>
                    <a:pt x="1252" y="10749"/>
                  </a:lnTo>
                  <a:lnTo>
                    <a:pt x="1314" y="10741"/>
                  </a:lnTo>
                  <a:lnTo>
                    <a:pt x="1381" y="10729"/>
                  </a:lnTo>
                  <a:lnTo>
                    <a:pt x="1452" y="10715"/>
                  </a:lnTo>
                  <a:lnTo>
                    <a:pt x="1528" y="10698"/>
                  </a:lnTo>
                  <a:lnTo>
                    <a:pt x="1607" y="10677"/>
                  </a:lnTo>
                  <a:lnTo>
                    <a:pt x="1690" y="10654"/>
                  </a:lnTo>
                  <a:lnTo>
                    <a:pt x="1777" y="10630"/>
                  </a:lnTo>
                  <a:lnTo>
                    <a:pt x="1866" y="10603"/>
                  </a:lnTo>
                  <a:lnTo>
                    <a:pt x="1958" y="10574"/>
                  </a:lnTo>
                  <a:lnTo>
                    <a:pt x="2052" y="10542"/>
                  </a:lnTo>
                  <a:lnTo>
                    <a:pt x="2148" y="10510"/>
                  </a:lnTo>
                  <a:lnTo>
                    <a:pt x="2245" y="10476"/>
                  </a:lnTo>
                  <a:lnTo>
                    <a:pt x="2344" y="10439"/>
                  </a:lnTo>
                  <a:lnTo>
                    <a:pt x="2444" y="10402"/>
                  </a:lnTo>
                  <a:lnTo>
                    <a:pt x="2544" y="10364"/>
                  </a:lnTo>
                  <a:lnTo>
                    <a:pt x="2645" y="10324"/>
                  </a:lnTo>
                  <a:lnTo>
                    <a:pt x="2745" y="10284"/>
                  </a:lnTo>
                  <a:lnTo>
                    <a:pt x="2845" y="10244"/>
                  </a:lnTo>
                  <a:lnTo>
                    <a:pt x="2945" y="10202"/>
                  </a:lnTo>
                  <a:lnTo>
                    <a:pt x="3044" y="10160"/>
                  </a:lnTo>
                  <a:lnTo>
                    <a:pt x="3141" y="10119"/>
                  </a:lnTo>
                  <a:lnTo>
                    <a:pt x="3236" y="10076"/>
                  </a:lnTo>
                  <a:lnTo>
                    <a:pt x="3330" y="10034"/>
                  </a:lnTo>
                  <a:lnTo>
                    <a:pt x="3421" y="9992"/>
                  </a:lnTo>
                  <a:lnTo>
                    <a:pt x="3509" y="9950"/>
                  </a:lnTo>
                  <a:lnTo>
                    <a:pt x="3595" y="9909"/>
                  </a:lnTo>
                  <a:lnTo>
                    <a:pt x="3678" y="9869"/>
                  </a:lnTo>
                  <a:lnTo>
                    <a:pt x="3756" y="9829"/>
                  </a:lnTo>
                  <a:lnTo>
                    <a:pt x="3831" y="9790"/>
                  </a:lnTo>
                  <a:lnTo>
                    <a:pt x="3902" y="9753"/>
                  </a:lnTo>
                  <a:lnTo>
                    <a:pt x="3967" y="9716"/>
                  </a:lnTo>
                  <a:lnTo>
                    <a:pt x="3983" y="9712"/>
                  </a:lnTo>
                  <a:lnTo>
                    <a:pt x="4029" y="9701"/>
                  </a:lnTo>
                  <a:lnTo>
                    <a:pt x="4098" y="9684"/>
                  </a:lnTo>
                  <a:lnTo>
                    <a:pt x="4187" y="9660"/>
                  </a:lnTo>
                  <a:lnTo>
                    <a:pt x="4237" y="9646"/>
                  </a:lnTo>
                  <a:lnTo>
                    <a:pt x="4291" y="9631"/>
                  </a:lnTo>
                  <a:lnTo>
                    <a:pt x="4346" y="9615"/>
                  </a:lnTo>
                  <a:lnTo>
                    <a:pt x="4405" y="9596"/>
                  </a:lnTo>
                  <a:lnTo>
                    <a:pt x="4463" y="9577"/>
                  </a:lnTo>
                  <a:lnTo>
                    <a:pt x="4523" y="9557"/>
                  </a:lnTo>
                  <a:lnTo>
                    <a:pt x="4582" y="9535"/>
                  </a:lnTo>
                  <a:lnTo>
                    <a:pt x="4640" y="9513"/>
                  </a:lnTo>
                  <a:lnTo>
                    <a:pt x="4698" y="9490"/>
                  </a:lnTo>
                  <a:lnTo>
                    <a:pt x="4754" y="9465"/>
                  </a:lnTo>
                  <a:lnTo>
                    <a:pt x="4808" y="9440"/>
                  </a:lnTo>
                  <a:lnTo>
                    <a:pt x="4858" y="9414"/>
                  </a:lnTo>
                  <a:lnTo>
                    <a:pt x="4905" y="9387"/>
                  </a:lnTo>
                  <a:lnTo>
                    <a:pt x="4947" y="9359"/>
                  </a:lnTo>
                  <a:lnTo>
                    <a:pt x="4984" y="9331"/>
                  </a:lnTo>
                  <a:lnTo>
                    <a:pt x="5016" y="9303"/>
                  </a:lnTo>
                  <a:lnTo>
                    <a:pt x="5043" y="9274"/>
                  </a:lnTo>
                  <a:lnTo>
                    <a:pt x="5063" y="9243"/>
                  </a:lnTo>
                  <a:lnTo>
                    <a:pt x="5075" y="9214"/>
                  </a:lnTo>
                  <a:lnTo>
                    <a:pt x="5079" y="9183"/>
                  </a:lnTo>
                  <a:lnTo>
                    <a:pt x="5075" y="9153"/>
                  </a:lnTo>
                  <a:lnTo>
                    <a:pt x="5062" y="9121"/>
                  </a:lnTo>
                  <a:lnTo>
                    <a:pt x="5039" y="9090"/>
                  </a:lnTo>
                  <a:lnTo>
                    <a:pt x="5005" y="9059"/>
                  </a:lnTo>
                  <a:lnTo>
                    <a:pt x="5002" y="9058"/>
                  </a:lnTo>
                  <a:lnTo>
                    <a:pt x="4993" y="9053"/>
                  </a:lnTo>
                  <a:lnTo>
                    <a:pt x="4979" y="9045"/>
                  </a:lnTo>
                  <a:lnTo>
                    <a:pt x="4963" y="9035"/>
                  </a:lnTo>
                  <a:lnTo>
                    <a:pt x="4946" y="9023"/>
                  </a:lnTo>
                  <a:lnTo>
                    <a:pt x="4929" y="9007"/>
                  </a:lnTo>
                  <a:lnTo>
                    <a:pt x="4921" y="8999"/>
                  </a:lnTo>
                  <a:lnTo>
                    <a:pt x="4914" y="8991"/>
                  </a:lnTo>
                  <a:lnTo>
                    <a:pt x="4907" y="8982"/>
                  </a:lnTo>
                  <a:lnTo>
                    <a:pt x="4902" y="8973"/>
                  </a:lnTo>
                  <a:lnTo>
                    <a:pt x="4897" y="8964"/>
                  </a:lnTo>
                  <a:lnTo>
                    <a:pt x="4894" y="8955"/>
                  </a:lnTo>
                  <a:lnTo>
                    <a:pt x="4893" y="8945"/>
                  </a:lnTo>
                  <a:lnTo>
                    <a:pt x="4894" y="8935"/>
                  </a:lnTo>
                  <a:lnTo>
                    <a:pt x="4896" y="8925"/>
                  </a:lnTo>
                  <a:lnTo>
                    <a:pt x="4902" y="8915"/>
                  </a:lnTo>
                  <a:lnTo>
                    <a:pt x="4909" y="8905"/>
                  </a:lnTo>
                  <a:lnTo>
                    <a:pt x="4919" y="8895"/>
                  </a:lnTo>
                  <a:lnTo>
                    <a:pt x="4931" y="8883"/>
                  </a:lnTo>
                  <a:lnTo>
                    <a:pt x="4947" y="8873"/>
                  </a:lnTo>
                  <a:lnTo>
                    <a:pt x="4965" y="8863"/>
                  </a:lnTo>
                  <a:lnTo>
                    <a:pt x="4987" y="8853"/>
                  </a:lnTo>
                  <a:lnTo>
                    <a:pt x="5013" y="8843"/>
                  </a:lnTo>
                  <a:lnTo>
                    <a:pt x="5043" y="8833"/>
                  </a:lnTo>
                  <a:lnTo>
                    <a:pt x="5076" y="8824"/>
                  </a:lnTo>
                  <a:lnTo>
                    <a:pt x="5113" y="8815"/>
                  </a:lnTo>
                  <a:lnTo>
                    <a:pt x="5124" y="8808"/>
                  </a:lnTo>
                  <a:lnTo>
                    <a:pt x="5155" y="8789"/>
                  </a:lnTo>
                  <a:lnTo>
                    <a:pt x="5202" y="8758"/>
                  </a:lnTo>
                  <a:lnTo>
                    <a:pt x="5264" y="8718"/>
                  </a:lnTo>
                  <a:lnTo>
                    <a:pt x="5340" y="8669"/>
                  </a:lnTo>
                  <a:lnTo>
                    <a:pt x="5427" y="8612"/>
                  </a:lnTo>
                  <a:lnTo>
                    <a:pt x="5520" y="8549"/>
                  </a:lnTo>
                  <a:lnTo>
                    <a:pt x="5620" y="8479"/>
                  </a:lnTo>
                  <a:lnTo>
                    <a:pt x="5723" y="8405"/>
                  </a:lnTo>
                  <a:lnTo>
                    <a:pt x="5828" y="8329"/>
                  </a:lnTo>
                  <a:lnTo>
                    <a:pt x="5879" y="8289"/>
                  </a:lnTo>
                  <a:lnTo>
                    <a:pt x="5931" y="8249"/>
                  </a:lnTo>
                  <a:lnTo>
                    <a:pt x="5981" y="8210"/>
                  </a:lnTo>
                  <a:lnTo>
                    <a:pt x="6030" y="8169"/>
                  </a:lnTo>
                  <a:lnTo>
                    <a:pt x="6079" y="8130"/>
                  </a:lnTo>
                  <a:lnTo>
                    <a:pt x="6124" y="8090"/>
                  </a:lnTo>
                  <a:lnTo>
                    <a:pt x="6169" y="8050"/>
                  </a:lnTo>
                  <a:lnTo>
                    <a:pt x="6210" y="8011"/>
                  </a:lnTo>
                  <a:lnTo>
                    <a:pt x="6249" y="7974"/>
                  </a:lnTo>
                  <a:lnTo>
                    <a:pt x="6286" y="7936"/>
                  </a:lnTo>
                  <a:lnTo>
                    <a:pt x="6318" y="7899"/>
                  </a:lnTo>
                  <a:lnTo>
                    <a:pt x="6348" y="7864"/>
                  </a:lnTo>
                  <a:lnTo>
                    <a:pt x="6354" y="7861"/>
                  </a:lnTo>
                  <a:lnTo>
                    <a:pt x="6375" y="7853"/>
                  </a:lnTo>
                  <a:lnTo>
                    <a:pt x="6408" y="7841"/>
                  </a:lnTo>
                  <a:lnTo>
                    <a:pt x="6455" y="7826"/>
                  </a:lnTo>
                  <a:lnTo>
                    <a:pt x="6513" y="7808"/>
                  </a:lnTo>
                  <a:lnTo>
                    <a:pt x="6583" y="7789"/>
                  </a:lnTo>
                  <a:lnTo>
                    <a:pt x="6622" y="7779"/>
                  </a:lnTo>
                  <a:lnTo>
                    <a:pt x="6664" y="7769"/>
                  </a:lnTo>
                  <a:lnTo>
                    <a:pt x="6708" y="7759"/>
                  </a:lnTo>
                  <a:lnTo>
                    <a:pt x="6754" y="7750"/>
                  </a:lnTo>
                  <a:lnTo>
                    <a:pt x="6803" y="7741"/>
                  </a:lnTo>
                  <a:lnTo>
                    <a:pt x="6854" y="7732"/>
                  </a:lnTo>
                  <a:lnTo>
                    <a:pt x="6907" y="7724"/>
                  </a:lnTo>
                  <a:lnTo>
                    <a:pt x="6964" y="7716"/>
                  </a:lnTo>
                  <a:lnTo>
                    <a:pt x="7021" y="7710"/>
                  </a:lnTo>
                  <a:lnTo>
                    <a:pt x="7081" y="7704"/>
                  </a:lnTo>
                  <a:lnTo>
                    <a:pt x="7143" y="7699"/>
                  </a:lnTo>
                  <a:lnTo>
                    <a:pt x="7207" y="7695"/>
                  </a:lnTo>
                  <a:lnTo>
                    <a:pt x="7272" y="7691"/>
                  </a:lnTo>
                  <a:lnTo>
                    <a:pt x="7340" y="7690"/>
                  </a:lnTo>
                  <a:lnTo>
                    <a:pt x="7409" y="7690"/>
                  </a:lnTo>
                  <a:lnTo>
                    <a:pt x="7480" y="7692"/>
                  </a:lnTo>
                  <a:lnTo>
                    <a:pt x="7553" y="7696"/>
                  </a:lnTo>
                  <a:lnTo>
                    <a:pt x="7626" y="7701"/>
                  </a:lnTo>
                  <a:lnTo>
                    <a:pt x="7701" y="7708"/>
                  </a:lnTo>
                  <a:lnTo>
                    <a:pt x="7777" y="7717"/>
                  </a:lnTo>
                  <a:lnTo>
                    <a:pt x="7782" y="7719"/>
                  </a:lnTo>
                  <a:lnTo>
                    <a:pt x="7794" y="7726"/>
                  </a:lnTo>
                  <a:lnTo>
                    <a:pt x="7814" y="7736"/>
                  </a:lnTo>
                  <a:lnTo>
                    <a:pt x="7837" y="7750"/>
                  </a:lnTo>
                  <a:lnTo>
                    <a:pt x="7863" y="7766"/>
                  </a:lnTo>
                  <a:lnTo>
                    <a:pt x="7890" y="7785"/>
                  </a:lnTo>
                  <a:lnTo>
                    <a:pt x="7903" y="7795"/>
                  </a:lnTo>
                  <a:lnTo>
                    <a:pt x="7917" y="7805"/>
                  </a:lnTo>
                  <a:lnTo>
                    <a:pt x="7930" y="7817"/>
                  </a:lnTo>
                  <a:lnTo>
                    <a:pt x="7942" y="7827"/>
                  </a:lnTo>
                  <a:lnTo>
                    <a:pt x="7953" y="7839"/>
                  </a:lnTo>
                  <a:lnTo>
                    <a:pt x="7963" y="7850"/>
                  </a:lnTo>
                  <a:lnTo>
                    <a:pt x="7971" y="7861"/>
                  </a:lnTo>
                  <a:lnTo>
                    <a:pt x="7978" y="7872"/>
                  </a:lnTo>
                  <a:lnTo>
                    <a:pt x="7983" y="7883"/>
                  </a:lnTo>
                  <a:lnTo>
                    <a:pt x="7985" y="7894"/>
                  </a:lnTo>
                  <a:lnTo>
                    <a:pt x="7986" y="7905"/>
                  </a:lnTo>
                  <a:lnTo>
                    <a:pt x="7984" y="7915"/>
                  </a:lnTo>
                  <a:lnTo>
                    <a:pt x="7980" y="7925"/>
                  </a:lnTo>
                  <a:lnTo>
                    <a:pt x="7973" y="7936"/>
                  </a:lnTo>
                  <a:lnTo>
                    <a:pt x="7962" y="7945"/>
                  </a:lnTo>
                  <a:lnTo>
                    <a:pt x="7949" y="7954"/>
                  </a:lnTo>
                  <a:lnTo>
                    <a:pt x="7931" y="7962"/>
                  </a:lnTo>
                  <a:lnTo>
                    <a:pt x="7910" y="7969"/>
                  </a:lnTo>
                  <a:lnTo>
                    <a:pt x="7885" y="7976"/>
                  </a:lnTo>
                  <a:lnTo>
                    <a:pt x="7856" y="7982"/>
                  </a:lnTo>
                  <a:lnTo>
                    <a:pt x="7844" y="7981"/>
                  </a:lnTo>
                  <a:lnTo>
                    <a:pt x="7811" y="7981"/>
                  </a:lnTo>
                  <a:lnTo>
                    <a:pt x="7757" y="7981"/>
                  </a:lnTo>
                  <a:lnTo>
                    <a:pt x="7687" y="7982"/>
                  </a:lnTo>
                  <a:lnTo>
                    <a:pt x="7602" y="7986"/>
                  </a:lnTo>
                  <a:lnTo>
                    <a:pt x="7506" y="7991"/>
                  </a:lnTo>
                  <a:lnTo>
                    <a:pt x="7454" y="7995"/>
                  </a:lnTo>
                  <a:lnTo>
                    <a:pt x="7400" y="7999"/>
                  </a:lnTo>
                  <a:lnTo>
                    <a:pt x="7345" y="8004"/>
                  </a:lnTo>
                  <a:lnTo>
                    <a:pt x="7287" y="8011"/>
                  </a:lnTo>
                  <a:lnTo>
                    <a:pt x="7230" y="8018"/>
                  </a:lnTo>
                  <a:lnTo>
                    <a:pt x="7172" y="8027"/>
                  </a:lnTo>
                  <a:lnTo>
                    <a:pt x="7112" y="8036"/>
                  </a:lnTo>
                  <a:lnTo>
                    <a:pt x="7054" y="8047"/>
                  </a:lnTo>
                  <a:lnTo>
                    <a:pt x="6994" y="8060"/>
                  </a:lnTo>
                  <a:lnTo>
                    <a:pt x="6937" y="8074"/>
                  </a:lnTo>
                  <a:lnTo>
                    <a:pt x="6879" y="8089"/>
                  </a:lnTo>
                  <a:lnTo>
                    <a:pt x="6823" y="8106"/>
                  </a:lnTo>
                  <a:lnTo>
                    <a:pt x="6768" y="8124"/>
                  </a:lnTo>
                  <a:lnTo>
                    <a:pt x="6716" y="8144"/>
                  </a:lnTo>
                  <a:lnTo>
                    <a:pt x="6665" y="8165"/>
                  </a:lnTo>
                  <a:lnTo>
                    <a:pt x="6617" y="8190"/>
                  </a:lnTo>
                  <a:lnTo>
                    <a:pt x="6571" y="8216"/>
                  </a:lnTo>
                  <a:lnTo>
                    <a:pt x="6529" y="8243"/>
                  </a:lnTo>
                  <a:lnTo>
                    <a:pt x="6490" y="8273"/>
                  </a:lnTo>
                  <a:lnTo>
                    <a:pt x="6455" y="8305"/>
                  </a:lnTo>
                  <a:lnTo>
                    <a:pt x="6447" y="8318"/>
                  </a:lnTo>
                  <a:lnTo>
                    <a:pt x="6423" y="8351"/>
                  </a:lnTo>
                  <a:lnTo>
                    <a:pt x="6406" y="8374"/>
                  </a:lnTo>
                  <a:lnTo>
                    <a:pt x="6386" y="8399"/>
                  </a:lnTo>
                  <a:lnTo>
                    <a:pt x="6363" y="8427"/>
                  </a:lnTo>
                  <a:lnTo>
                    <a:pt x="6338" y="8456"/>
                  </a:lnTo>
                  <a:lnTo>
                    <a:pt x="6310" y="8484"/>
                  </a:lnTo>
                  <a:lnTo>
                    <a:pt x="6280" y="8513"/>
                  </a:lnTo>
                  <a:lnTo>
                    <a:pt x="6264" y="8526"/>
                  </a:lnTo>
                  <a:lnTo>
                    <a:pt x="6248" y="8541"/>
                  </a:lnTo>
                  <a:lnTo>
                    <a:pt x="6232" y="8553"/>
                  </a:lnTo>
                  <a:lnTo>
                    <a:pt x="6216" y="8566"/>
                  </a:lnTo>
                  <a:lnTo>
                    <a:pt x="6199" y="8577"/>
                  </a:lnTo>
                  <a:lnTo>
                    <a:pt x="6181" y="8588"/>
                  </a:lnTo>
                  <a:lnTo>
                    <a:pt x="6164" y="8597"/>
                  </a:lnTo>
                  <a:lnTo>
                    <a:pt x="6145" y="8606"/>
                  </a:lnTo>
                  <a:lnTo>
                    <a:pt x="6128" y="8613"/>
                  </a:lnTo>
                  <a:lnTo>
                    <a:pt x="6110" y="8620"/>
                  </a:lnTo>
                  <a:lnTo>
                    <a:pt x="6092" y="8624"/>
                  </a:lnTo>
                  <a:lnTo>
                    <a:pt x="6073" y="8628"/>
                  </a:lnTo>
                  <a:lnTo>
                    <a:pt x="6069" y="8634"/>
                  </a:lnTo>
                  <a:lnTo>
                    <a:pt x="6059" y="8650"/>
                  </a:lnTo>
                  <a:lnTo>
                    <a:pt x="6045" y="8676"/>
                  </a:lnTo>
                  <a:lnTo>
                    <a:pt x="6027" y="8709"/>
                  </a:lnTo>
                  <a:lnTo>
                    <a:pt x="6018" y="8727"/>
                  </a:lnTo>
                  <a:lnTo>
                    <a:pt x="6010" y="8746"/>
                  </a:lnTo>
                  <a:lnTo>
                    <a:pt x="6002" y="8766"/>
                  </a:lnTo>
                  <a:lnTo>
                    <a:pt x="5995" y="8788"/>
                  </a:lnTo>
                  <a:lnTo>
                    <a:pt x="5989" y="8809"/>
                  </a:lnTo>
                  <a:lnTo>
                    <a:pt x="5984" y="8830"/>
                  </a:lnTo>
                  <a:lnTo>
                    <a:pt x="5980" y="8852"/>
                  </a:lnTo>
                  <a:lnTo>
                    <a:pt x="5979" y="8873"/>
                  </a:lnTo>
                  <a:lnTo>
                    <a:pt x="5979" y="8895"/>
                  </a:lnTo>
                  <a:lnTo>
                    <a:pt x="5982" y="8915"/>
                  </a:lnTo>
                  <a:lnTo>
                    <a:pt x="5987" y="8934"/>
                  </a:lnTo>
                  <a:lnTo>
                    <a:pt x="5995" y="8952"/>
                  </a:lnTo>
                  <a:lnTo>
                    <a:pt x="6006" y="8968"/>
                  </a:lnTo>
                  <a:lnTo>
                    <a:pt x="6020" y="8983"/>
                  </a:lnTo>
                  <a:lnTo>
                    <a:pt x="6039" y="8997"/>
                  </a:lnTo>
                  <a:lnTo>
                    <a:pt x="6061" y="9008"/>
                  </a:lnTo>
                  <a:lnTo>
                    <a:pt x="6087" y="9018"/>
                  </a:lnTo>
                  <a:lnTo>
                    <a:pt x="6117" y="9025"/>
                  </a:lnTo>
                  <a:lnTo>
                    <a:pt x="6152" y="9029"/>
                  </a:lnTo>
                  <a:lnTo>
                    <a:pt x="6192" y="9030"/>
                  </a:lnTo>
                  <a:lnTo>
                    <a:pt x="6237" y="9028"/>
                  </a:lnTo>
                  <a:lnTo>
                    <a:pt x="6288" y="9023"/>
                  </a:lnTo>
                  <a:lnTo>
                    <a:pt x="6344" y="9014"/>
                  </a:lnTo>
                  <a:lnTo>
                    <a:pt x="6406" y="9000"/>
                  </a:lnTo>
                  <a:lnTo>
                    <a:pt x="6419" y="8997"/>
                  </a:lnTo>
                  <a:lnTo>
                    <a:pt x="6455" y="8987"/>
                  </a:lnTo>
                  <a:lnTo>
                    <a:pt x="6511" y="8971"/>
                  </a:lnTo>
                  <a:lnTo>
                    <a:pt x="6585" y="8950"/>
                  </a:lnTo>
                  <a:lnTo>
                    <a:pt x="6673" y="8924"/>
                  </a:lnTo>
                  <a:lnTo>
                    <a:pt x="6771" y="8894"/>
                  </a:lnTo>
                  <a:lnTo>
                    <a:pt x="6877" y="8860"/>
                  </a:lnTo>
                  <a:lnTo>
                    <a:pt x="6989" y="8823"/>
                  </a:lnTo>
                  <a:lnTo>
                    <a:pt x="7046" y="8804"/>
                  </a:lnTo>
                  <a:lnTo>
                    <a:pt x="7102" y="8784"/>
                  </a:lnTo>
                  <a:lnTo>
                    <a:pt x="7158" y="8763"/>
                  </a:lnTo>
                  <a:lnTo>
                    <a:pt x="7215" y="8742"/>
                  </a:lnTo>
                  <a:lnTo>
                    <a:pt x="7269" y="8722"/>
                  </a:lnTo>
                  <a:lnTo>
                    <a:pt x="7323" y="8701"/>
                  </a:lnTo>
                  <a:lnTo>
                    <a:pt x="7374" y="8679"/>
                  </a:lnTo>
                  <a:lnTo>
                    <a:pt x="7423" y="8658"/>
                  </a:lnTo>
                  <a:lnTo>
                    <a:pt x="7469" y="8636"/>
                  </a:lnTo>
                  <a:lnTo>
                    <a:pt x="7513" y="8614"/>
                  </a:lnTo>
                  <a:lnTo>
                    <a:pt x="7553" y="8593"/>
                  </a:lnTo>
                  <a:lnTo>
                    <a:pt x="7590" y="8572"/>
                  </a:lnTo>
                  <a:lnTo>
                    <a:pt x="7621" y="8552"/>
                  </a:lnTo>
                  <a:lnTo>
                    <a:pt x="7649" y="8530"/>
                  </a:lnTo>
                  <a:lnTo>
                    <a:pt x="7673" y="8510"/>
                  </a:lnTo>
                  <a:lnTo>
                    <a:pt x="7690" y="8491"/>
                  </a:lnTo>
                  <a:lnTo>
                    <a:pt x="7695" y="8486"/>
                  </a:lnTo>
                  <a:lnTo>
                    <a:pt x="7710" y="8472"/>
                  </a:lnTo>
                  <a:lnTo>
                    <a:pt x="7734" y="8452"/>
                  </a:lnTo>
                  <a:lnTo>
                    <a:pt x="7768" y="8427"/>
                  </a:lnTo>
                  <a:lnTo>
                    <a:pt x="7788" y="8414"/>
                  </a:lnTo>
                  <a:lnTo>
                    <a:pt x="7811" y="8399"/>
                  </a:lnTo>
                  <a:lnTo>
                    <a:pt x="7835" y="8384"/>
                  </a:lnTo>
                  <a:lnTo>
                    <a:pt x="7861" y="8370"/>
                  </a:lnTo>
                  <a:lnTo>
                    <a:pt x="7889" y="8356"/>
                  </a:lnTo>
                  <a:lnTo>
                    <a:pt x="7919" y="8342"/>
                  </a:lnTo>
                  <a:lnTo>
                    <a:pt x="7952" y="8329"/>
                  </a:lnTo>
                  <a:lnTo>
                    <a:pt x="7986" y="8317"/>
                  </a:lnTo>
                  <a:lnTo>
                    <a:pt x="8021" y="8307"/>
                  </a:lnTo>
                  <a:lnTo>
                    <a:pt x="8060" y="8297"/>
                  </a:lnTo>
                  <a:lnTo>
                    <a:pt x="8098" y="8289"/>
                  </a:lnTo>
                  <a:lnTo>
                    <a:pt x="8139" y="8283"/>
                  </a:lnTo>
                  <a:lnTo>
                    <a:pt x="8182" y="8279"/>
                  </a:lnTo>
                  <a:lnTo>
                    <a:pt x="8226" y="8278"/>
                  </a:lnTo>
                  <a:lnTo>
                    <a:pt x="8271" y="8280"/>
                  </a:lnTo>
                  <a:lnTo>
                    <a:pt x="8318" y="8284"/>
                  </a:lnTo>
                  <a:lnTo>
                    <a:pt x="8366" y="8291"/>
                  </a:lnTo>
                  <a:lnTo>
                    <a:pt x="8415" y="8303"/>
                  </a:lnTo>
                  <a:lnTo>
                    <a:pt x="8466" y="8317"/>
                  </a:lnTo>
                  <a:lnTo>
                    <a:pt x="8518" y="8336"/>
                  </a:lnTo>
                  <a:lnTo>
                    <a:pt x="8572" y="8358"/>
                  </a:lnTo>
                  <a:lnTo>
                    <a:pt x="8626" y="8384"/>
                  </a:lnTo>
                  <a:lnTo>
                    <a:pt x="8682" y="8416"/>
                  </a:lnTo>
                  <a:lnTo>
                    <a:pt x="8738" y="8452"/>
                  </a:lnTo>
                  <a:lnTo>
                    <a:pt x="8758" y="8462"/>
                  </a:lnTo>
                  <a:lnTo>
                    <a:pt x="8817" y="8490"/>
                  </a:lnTo>
                  <a:lnTo>
                    <a:pt x="8908" y="8534"/>
                  </a:lnTo>
                  <a:lnTo>
                    <a:pt x="9027" y="8589"/>
                  </a:lnTo>
                  <a:lnTo>
                    <a:pt x="9169" y="8655"/>
                  </a:lnTo>
                  <a:lnTo>
                    <a:pt x="9330" y="8727"/>
                  </a:lnTo>
                  <a:lnTo>
                    <a:pt x="9414" y="8764"/>
                  </a:lnTo>
                  <a:lnTo>
                    <a:pt x="9502" y="8803"/>
                  </a:lnTo>
                  <a:lnTo>
                    <a:pt x="9592" y="8842"/>
                  </a:lnTo>
                  <a:lnTo>
                    <a:pt x="9682" y="8880"/>
                  </a:lnTo>
                  <a:lnTo>
                    <a:pt x="9774" y="8919"/>
                  </a:lnTo>
                  <a:lnTo>
                    <a:pt x="9866" y="8956"/>
                  </a:lnTo>
                  <a:lnTo>
                    <a:pt x="9958" y="8993"/>
                  </a:lnTo>
                  <a:lnTo>
                    <a:pt x="10047" y="9028"/>
                  </a:lnTo>
                  <a:lnTo>
                    <a:pt x="10135" y="9061"/>
                  </a:lnTo>
                  <a:lnTo>
                    <a:pt x="10221" y="9092"/>
                  </a:lnTo>
                  <a:lnTo>
                    <a:pt x="10303" y="9120"/>
                  </a:lnTo>
                  <a:lnTo>
                    <a:pt x="10382" y="9147"/>
                  </a:lnTo>
                  <a:lnTo>
                    <a:pt x="10457" y="9169"/>
                  </a:lnTo>
                  <a:lnTo>
                    <a:pt x="10526" y="9188"/>
                  </a:lnTo>
                  <a:lnTo>
                    <a:pt x="10591" y="9203"/>
                  </a:lnTo>
                  <a:lnTo>
                    <a:pt x="10648" y="9213"/>
                  </a:lnTo>
                  <a:lnTo>
                    <a:pt x="10700" y="9219"/>
                  </a:lnTo>
                  <a:lnTo>
                    <a:pt x="10743" y="9220"/>
                  </a:lnTo>
                  <a:lnTo>
                    <a:pt x="10778" y="9216"/>
                  </a:lnTo>
                  <a:lnTo>
                    <a:pt x="10804" y="92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50" name="Freeform 271"/>
            <p:cNvSpPr/>
            <p:nvPr/>
          </p:nvSpPr>
          <p:spPr>
            <a:xfrm>
              <a:off x="560160" y="1676520"/>
              <a:ext cx="1158120" cy="1019160"/>
            </a:xfrm>
            <a:custGeom>
              <a:avLst/>
              <a:gdLst>
                <a:gd name="textAreaLeft" fmla="*/ 0 w 1158120"/>
                <a:gd name="textAreaRight" fmla="*/ 1158480 w 1158120"/>
                <a:gd name="textAreaTop" fmla="*/ 0 h 1019160"/>
                <a:gd name="textAreaBottom" fmla="*/ 1019520 h 1019160"/>
              </a:gdLst>
              <a:ahLst/>
              <a:rect l="textAreaLeft" t="textAreaTop" r="textAreaRight" b="textAreaBottom"/>
              <a:pathLst>
                <a:path w="14755" h="12587">
                  <a:moveTo>
                    <a:pt x="10804" y="9206"/>
                  </a:moveTo>
                  <a:lnTo>
                    <a:pt x="10830" y="9194"/>
                  </a:lnTo>
                  <a:lnTo>
                    <a:pt x="10894" y="9163"/>
                  </a:lnTo>
                  <a:lnTo>
                    <a:pt x="10938" y="9144"/>
                  </a:lnTo>
                  <a:lnTo>
                    <a:pt x="10988" y="9124"/>
                  </a:lnTo>
                  <a:lnTo>
                    <a:pt x="11014" y="9114"/>
                  </a:lnTo>
                  <a:lnTo>
                    <a:pt x="11041" y="9105"/>
                  </a:lnTo>
                  <a:lnTo>
                    <a:pt x="11069" y="9096"/>
                  </a:lnTo>
                  <a:lnTo>
                    <a:pt x="11098" y="9087"/>
                  </a:lnTo>
                  <a:lnTo>
                    <a:pt x="11126" y="9080"/>
                  </a:lnTo>
                  <a:lnTo>
                    <a:pt x="11154" y="9073"/>
                  </a:lnTo>
                  <a:lnTo>
                    <a:pt x="11182" y="9068"/>
                  </a:lnTo>
                  <a:lnTo>
                    <a:pt x="11210" y="9063"/>
                  </a:lnTo>
                  <a:lnTo>
                    <a:pt x="11237" y="9061"/>
                  </a:lnTo>
                  <a:lnTo>
                    <a:pt x="11263" y="9059"/>
                  </a:lnTo>
                  <a:lnTo>
                    <a:pt x="11288" y="9060"/>
                  </a:lnTo>
                  <a:lnTo>
                    <a:pt x="11312" y="9062"/>
                  </a:lnTo>
                  <a:lnTo>
                    <a:pt x="11336" y="9066"/>
                  </a:lnTo>
                  <a:lnTo>
                    <a:pt x="11357" y="9073"/>
                  </a:lnTo>
                  <a:lnTo>
                    <a:pt x="11377" y="9081"/>
                  </a:lnTo>
                  <a:lnTo>
                    <a:pt x="11394" y="9093"/>
                  </a:lnTo>
                  <a:lnTo>
                    <a:pt x="11410" y="9107"/>
                  </a:lnTo>
                  <a:lnTo>
                    <a:pt x="11423" y="9124"/>
                  </a:lnTo>
                  <a:lnTo>
                    <a:pt x="11433" y="9144"/>
                  </a:lnTo>
                  <a:lnTo>
                    <a:pt x="11441" y="9167"/>
                  </a:lnTo>
                  <a:lnTo>
                    <a:pt x="11451" y="9194"/>
                  </a:lnTo>
                  <a:lnTo>
                    <a:pt x="11464" y="9224"/>
                  </a:lnTo>
                  <a:lnTo>
                    <a:pt x="11482" y="9257"/>
                  </a:lnTo>
                  <a:lnTo>
                    <a:pt x="11504" y="9293"/>
                  </a:lnTo>
                  <a:lnTo>
                    <a:pt x="11529" y="9331"/>
                  </a:lnTo>
                  <a:lnTo>
                    <a:pt x="11558" y="9373"/>
                  </a:lnTo>
                  <a:lnTo>
                    <a:pt x="11590" y="9415"/>
                  </a:lnTo>
                  <a:lnTo>
                    <a:pt x="11625" y="9459"/>
                  </a:lnTo>
                  <a:lnTo>
                    <a:pt x="11662" y="9506"/>
                  </a:lnTo>
                  <a:lnTo>
                    <a:pt x="11701" y="9553"/>
                  </a:lnTo>
                  <a:lnTo>
                    <a:pt x="11742" y="9600"/>
                  </a:lnTo>
                  <a:lnTo>
                    <a:pt x="11784" y="9650"/>
                  </a:lnTo>
                  <a:lnTo>
                    <a:pt x="11872" y="9748"/>
                  </a:lnTo>
                  <a:lnTo>
                    <a:pt x="11962" y="9844"/>
                  </a:lnTo>
                  <a:lnTo>
                    <a:pt x="12050" y="9938"/>
                  </a:lnTo>
                  <a:lnTo>
                    <a:pt x="12136" y="10027"/>
                  </a:lnTo>
                  <a:lnTo>
                    <a:pt x="12215" y="10109"/>
                  </a:lnTo>
                  <a:lnTo>
                    <a:pt x="12286" y="10180"/>
                  </a:lnTo>
                  <a:lnTo>
                    <a:pt x="12346" y="10240"/>
                  </a:lnTo>
                  <a:lnTo>
                    <a:pt x="12391" y="10285"/>
                  </a:lnTo>
                  <a:lnTo>
                    <a:pt x="12420" y="10313"/>
                  </a:lnTo>
                  <a:lnTo>
                    <a:pt x="12430" y="10323"/>
                  </a:lnTo>
                  <a:lnTo>
                    <a:pt x="13175" y="9775"/>
                  </a:lnTo>
                  <a:lnTo>
                    <a:pt x="14066" y="11647"/>
                  </a:lnTo>
                  <a:lnTo>
                    <a:pt x="14076" y="11684"/>
                  </a:lnTo>
                  <a:lnTo>
                    <a:pt x="14083" y="11717"/>
                  </a:lnTo>
                  <a:lnTo>
                    <a:pt x="14085" y="11733"/>
                  </a:lnTo>
                  <a:lnTo>
                    <a:pt x="14087" y="11748"/>
                  </a:lnTo>
                  <a:lnTo>
                    <a:pt x="14088" y="11763"/>
                  </a:lnTo>
                  <a:lnTo>
                    <a:pt x="14089" y="11777"/>
                  </a:lnTo>
                  <a:lnTo>
                    <a:pt x="14088" y="11791"/>
                  </a:lnTo>
                  <a:lnTo>
                    <a:pt x="14088" y="11804"/>
                  </a:lnTo>
                  <a:lnTo>
                    <a:pt x="14086" y="11817"/>
                  </a:lnTo>
                  <a:lnTo>
                    <a:pt x="14084" y="11829"/>
                  </a:lnTo>
                  <a:lnTo>
                    <a:pt x="14082" y="11842"/>
                  </a:lnTo>
                  <a:lnTo>
                    <a:pt x="14078" y="11854"/>
                  </a:lnTo>
                  <a:lnTo>
                    <a:pt x="14074" y="11867"/>
                  </a:lnTo>
                  <a:lnTo>
                    <a:pt x="14070" y="11879"/>
                  </a:lnTo>
                  <a:lnTo>
                    <a:pt x="14059" y="11905"/>
                  </a:lnTo>
                  <a:lnTo>
                    <a:pt x="14046" y="11930"/>
                  </a:lnTo>
                  <a:lnTo>
                    <a:pt x="14031" y="11957"/>
                  </a:lnTo>
                  <a:lnTo>
                    <a:pt x="14013" y="11985"/>
                  </a:lnTo>
                  <a:lnTo>
                    <a:pt x="13971" y="12050"/>
                  </a:lnTo>
                  <a:lnTo>
                    <a:pt x="13920" y="12127"/>
                  </a:lnTo>
                  <a:lnTo>
                    <a:pt x="13906" y="12149"/>
                  </a:lnTo>
                  <a:lnTo>
                    <a:pt x="13896" y="12171"/>
                  </a:lnTo>
                  <a:lnTo>
                    <a:pt x="13887" y="12192"/>
                  </a:lnTo>
                  <a:lnTo>
                    <a:pt x="13882" y="12214"/>
                  </a:lnTo>
                  <a:lnTo>
                    <a:pt x="13878" y="12235"/>
                  </a:lnTo>
                  <a:lnTo>
                    <a:pt x="13876" y="12257"/>
                  </a:lnTo>
                  <a:lnTo>
                    <a:pt x="13876" y="12278"/>
                  </a:lnTo>
                  <a:lnTo>
                    <a:pt x="13878" y="12298"/>
                  </a:lnTo>
                  <a:lnTo>
                    <a:pt x="13882" y="12318"/>
                  </a:lnTo>
                  <a:lnTo>
                    <a:pt x="13887" y="12338"/>
                  </a:lnTo>
                  <a:lnTo>
                    <a:pt x="13893" y="12357"/>
                  </a:lnTo>
                  <a:lnTo>
                    <a:pt x="13900" y="12376"/>
                  </a:lnTo>
                  <a:lnTo>
                    <a:pt x="13909" y="12394"/>
                  </a:lnTo>
                  <a:lnTo>
                    <a:pt x="13918" y="12412"/>
                  </a:lnTo>
                  <a:lnTo>
                    <a:pt x="13928" y="12429"/>
                  </a:lnTo>
                  <a:lnTo>
                    <a:pt x="13939" y="12445"/>
                  </a:lnTo>
                  <a:lnTo>
                    <a:pt x="13950" y="12461"/>
                  </a:lnTo>
                  <a:lnTo>
                    <a:pt x="13962" y="12476"/>
                  </a:lnTo>
                  <a:lnTo>
                    <a:pt x="13974" y="12491"/>
                  </a:lnTo>
                  <a:lnTo>
                    <a:pt x="13986" y="12504"/>
                  </a:lnTo>
                  <a:lnTo>
                    <a:pt x="14009" y="12528"/>
                  </a:lnTo>
                  <a:lnTo>
                    <a:pt x="14030" y="12548"/>
                  </a:lnTo>
                  <a:lnTo>
                    <a:pt x="14063" y="12577"/>
                  </a:lnTo>
                  <a:lnTo>
                    <a:pt x="14076" y="12587"/>
                  </a:lnTo>
                  <a:lnTo>
                    <a:pt x="14084" y="12578"/>
                  </a:lnTo>
                  <a:lnTo>
                    <a:pt x="14108" y="12553"/>
                  </a:lnTo>
                  <a:lnTo>
                    <a:pt x="14143" y="12514"/>
                  </a:lnTo>
                  <a:lnTo>
                    <a:pt x="14189" y="12462"/>
                  </a:lnTo>
                  <a:lnTo>
                    <a:pt x="14243" y="12400"/>
                  </a:lnTo>
                  <a:lnTo>
                    <a:pt x="14303" y="12330"/>
                  </a:lnTo>
                  <a:lnTo>
                    <a:pt x="14368" y="12254"/>
                  </a:lnTo>
                  <a:lnTo>
                    <a:pt x="14433" y="12173"/>
                  </a:lnTo>
                  <a:lnTo>
                    <a:pt x="14465" y="12133"/>
                  </a:lnTo>
                  <a:lnTo>
                    <a:pt x="14498" y="12091"/>
                  </a:lnTo>
                  <a:lnTo>
                    <a:pt x="14529" y="12050"/>
                  </a:lnTo>
                  <a:lnTo>
                    <a:pt x="14560" y="12009"/>
                  </a:lnTo>
                  <a:lnTo>
                    <a:pt x="14589" y="11968"/>
                  </a:lnTo>
                  <a:lnTo>
                    <a:pt x="14618" y="11928"/>
                  </a:lnTo>
                  <a:lnTo>
                    <a:pt x="14643" y="11889"/>
                  </a:lnTo>
                  <a:lnTo>
                    <a:pt x="14667" y="11851"/>
                  </a:lnTo>
                  <a:lnTo>
                    <a:pt x="14689" y="11815"/>
                  </a:lnTo>
                  <a:lnTo>
                    <a:pt x="14708" y="11781"/>
                  </a:lnTo>
                  <a:lnTo>
                    <a:pt x="14724" y="11748"/>
                  </a:lnTo>
                  <a:lnTo>
                    <a:pt x="14738" y="11719"/>
                  </a:lnTo>
                  <a:lnTo>
                    <a:pt x="14747" y="11692"/>
                  </a:lnTo>
                  <a:lnTo>
                    <a:pt x="14753" y="11667"/>
                  </a:lnTo>
                  <a:lnTo>
                    <a:pt x="14755" y="11646"/>
                  </a:lnTo>
                  <a:lnTo>
                    <a:pt x="14753" y="11627"/>
                  </a:lnTo>
                  <a:lnTo>
                    <a:pt x="14736" y="11615"/>
                  </a:lnTo>
                  <a:lnTo>
                    <a:pt x="14690" y="11582"/>
                  </a:lnTo>
                  <a:lnTo>
                    <a:pt x="14659" y="11557"/>
                  </a:lnTo>
                  <a:lnTo>
                    <a:pt x="14624" y="11527"/>
                  </a:lnTo>
                  <a:lnTo>
                    <a:pt x="14605" y="11509"/>
                  </a:lnTo>
                  <a:lnTo>
                    <a:pt x="14585" y="11490"/>
                  </a:lnTo>
                  <a:lnTo>
                    <a:pt x="14565" y="11470"/>
                  </a:lnTo>
                  <a:lnTo>
                    <a:pt x="14545" y="11449"/>
                  </a:lnTo>
                  <a:lnTo>
                    <a:pt x="14525" y="11427"/>
                  </a:lnTo>
                  <a:lnTo>
                    <a:pt x="14504" y="11404"/>
                  </a:lnTo>
                  <a:lnTo>
                    <a:pt x="14484" y="11378"/>
                  </a:lnTo>
                  <a:lnTo>
                    <a:pt x="14463" y="11352"/>
                  </a:lnTo>
                  <a:lnTo>
                    <a:pt x="14442" y="11324"/>
                  </a:lnTo>
                  <a:lnTo>
                    <a:pt x="14423" y="11296"/>
                  </a:lnTo>
                  <a:lnTo>
                    <a:pt x="14403" y="11265"/>
                  </a:lnTo>
                  <a:lnTo>
                    <a:pt x="14385" y="11234"/>
                  </a:lnTo>
                  <a:lnTo>
                    <a:pt x="14367" y="11202"/>
                  </a:lnTo>
                  <a:lnTo>
                    <a:pt x="14350" y="11169"/>
                  </a:lnTo>
                  <a:lnTo>
                    <a:pt x="14333" y="11133"/>
                  </a:lnTo>
                  <a:lnTo>
                    <a:pt x="14318" y="11097"/>
                  </a:lnTo>
                  <a:lnTo>
                    <a:pt x="14304" y="11060"/>
                  </a:lnTo>
                  <a:lnTo>
                    <a:pt x="14292" y="11021"/>
                  </a:lnTo>
                  <a:lnTo>
                    <a:pt x="14281" y="10982"/>
                  </a:lnTo>
                  <a:lnTo>
                    <a:pt x="14272" y="10941"/>
                  </a:lnTo>
                  <a:lnTo>
                    <a:pt x="14265" y="10924"/>
                  </a:lnTo>
                  <a:lnTo>
                    <a:pt x="14243" y="10876"/>
                  </a:lnTo>
                  <a:lnTo>
                    <a:pt x="14207" y="10801"/>
                  </a:lnTo>
                  <a:lnTo>
                    <a:pt x="14162" y="10705"/>
                  </a:lnTo>
                  <a:lnTo>
                    <a:pt x="14106" y="10589"/>
                  </a:lnTo>
                  <a:lnTo>
                    <a:pt x="14041" y="10459"/>
                  </a:lnTo>
                  <a:lnTo>
                    <a:pt x="13969" y="10318"/>
                  </a:lnTo>
                  <a:lnTo>
                    <a:pt x="13893" y="10171"/>
                  </a:lnTo>
                  <a:lnTo>
                    <a:pt x="13853" y="10098"/>
                  </a:lnTo>
                  <a:lnTo>
                    <a:pt x="13812" y="10024"/>
                  </a:lnTo>
                  <a:lnTo>
                    <a:pt x="13771" y="9950"/>
                  </a:lnTo>
                  <a:lnTo>
                    <a:pt x="13729" y="9878"/>
                  </a:lnTo>
                  <a:lnTo>
                    <a:pt x="13687" y="9807"/>
                  </a:lnTo>
                  <a:lnTo>
                    <a:pt x="13645" y="9739"/>
                  </a:lnTo>
                  <a:lnTo>
                    <a:pt x="13603" y="9672"/>
                  </a:lnTo>
                  <a:lnTo>
                    <a:pt x="13561" y="9610"/>
                  </a:lnTo>
                  <a:lnTo>
                    <a:pt x="13521" y="9551"/>
                  </a:lnTo>
                  <a:lnTo>
                    <a:pt x="13480" y="9496"/>
                  </a:lnTo>
                  <a:lnTo>
                    <a:pt x="13440" y="9446"/>
                  </a:lnTo>
                  <a:lnTo>
                    <a:pt x="13402" y="9401"/>
                  </a:lnTo>
                  <a:lnTo>
                    <a:pt x="13365" y="9362"/>
                  </a:lnTo>
                  <a:lnTo>
                    <a:pt x="13329" y="9329"/>
                  </a:lnTo>
                  <a:lnTo>
                    <a:pt x="13295" y="9303"/>
                  </a:lnTo>
                  <a:lnTo>
                    <a:pt x="13263" y="9285"/>
                  </a:lnTo>
                  <a:lnTo>
                    <a:pt x="13258" y="9288"/>
                  </a:lnTo>
                  <a:lnTo>
                    <a:pt x="13241" y="9296"/>
                  </a:lnTo>
                  <a:lnTo>
                    <a:pt x="13213" y="9309"/>
                  </a:lnTo>
                  <a:lnTo>
                    <a:pt x="13177" y="9326"/>
                  </a:lnTo>
                  <a:lnTo>
                    <a:pt x="13133" y="9346"/>
                  </a:lnTo>
                  <a:lnTo>
                    <a:pt x="13081" y="9368"/>
                  </a:lnTo>
                  <a:lnTo>
                    <a:pt x="13023" y="9393"/>
                  </a:lnTo>
                  <a:lnTo>
                    <a:pt x="12960" y="9417"/>
                  </a:lnTo>
                  <a:lnTo>
                    <a:pt x="12894" y="9442"/>
                  </a:lnTo>
                  <a:lnTo>
                    <a:pt x="12824" y="9465"/>
                  </a:lnTo>
                  <a:lnTo>
                    <a:pt x="12789" y="9477"/>
                  </a:lnTo>
                  <a:lnTo>
                    <a:pt x="12753" y="9488"/>
                  </a:lnTo>
                  <a:lnTo>
                    <a:pt x="12717" y="9499"/>
                  </a:lnTo>
                  <a:lnTo>
                    <a:pt x="12680" y="9508"/>
                  </a:lnTo>
                  <a:lnTo>
                    <a:pt x="12644" y="9517"/>
                  </a:lnTo>
                  <a:lnTo>
                    <a:pt x="12608" y="9525"/>
                  </a:lnTo>
                  <a:lnTo>
                    <a:pt x="12572" y="9532"/>
                  </a:lnTo>
                  <a:lnTo>
                    <a:pt x="12537" y="9538"/>
                  </a:lnTo>
                  <a:lnTo>
                    <a:pt x="12502" y="9543"/>
                  </a:lnTo>
                  <a:lnTo>
                    <a:pt x="12468" y="9546"/>
                  </a:lnTo>
                  <a:lnTo>
                    <a:pt x="12434" y="9549"/>
                  </a:lnTo>
                  <a:lnTo>
                    <a:pt x="12401" y="9549"/>
                  </a:lnTo>
                  <a:lnTo>
                    <a:pt x="12391" y="9540"/>
                  </a:lnTo>
                  <a:lnTo>
                    <a:pt x="12361" y="9514"/>
                  </a:lnTo>
                  <a:lnTo>
                    <a:pt x="12314" y="9473"/>
                  </a:lnTo>
                  <a:lnTo>
                    <a:pt x="12252" y="9420"/>
                  </a:lnTo>
                  <a:lnTo>
                    <a:pt x="12177" y="9356"/>
                  </a:lnTo>
                  <a:lnTo>
                    <a:pt x="12092" y="9284"/>
                  </a:lnTo>
                  <a:lnTo>
                    <a:pt x="11998" y="9205"/>
                  </a:lnTo>
                  <a:lnTo>
                    <a:pt x="11898" y="9123"/>
                  </a:lnTo>
                  <a:lnTo>
                    <a:pt x="11794" y="9039"/>
                  </a:lnTo>
                  <a:lnTo>
                    <a:pt x="11688" y="8955"/>
                  </a:lnTo>
                  <a:lnTo>
                    <a:pt x="11635" y="8914"/>
                  </a:lnTo>
                  <a:lnTo>
                    <a:pt x="11583" y="8873"/>
                  </a:lnTo>
                  <a:lnTo>
                    <a:pt x="11531" y="8835"/>
                  </a:lnTo>
                  <a:lnTo>
                    <a:pt x="11480" y="8797"/>
                  </a:lnTo>
                  <a:lnTo>
                    <a:pt x="11430" y="8761"/>
                  </a:lnTo>
                  <a:lnTo>
                    <a:pt x="11382" y="8727"/>
                  </a:lnTo>
                  <a:lnTo>
                    <a:pt x="11335" y="8695"/>
                  </a:lnTo>
                  <a:lnTo>
                    <a:pt x="11290" y="8666"/>
                  </a:lnTo>
                  <a:lnTo>
                    <a:pt x="11248" y="8639"/>
                  </a:lnTo>
                  <a:lnTo>
                    <a:pt x="11209" y="8616"/>
                  </a:lnTo>
                  <a:lnTo>
                    <a:pt x="11171" y="8596"/>
                  </a:lnTo>
                  <a:lnTo>
                    <a:pt x="11138" y="8579"/>
                  </a:lnTo>
                  <a:lnTo>
                    <a:pt x="10736" y="8510"/>
                  </a:lnTo>
                  <a:lnTo>
                    <a:pt x="13783" y="1661"/>
                  </a:lnTo>
                  <a:lnTo>
                    <a:pt x="13780" y="1657"/>
                  </a:lnTo>
                  <a:lnTo>
                    <a:pt x="13771" y="1647"/>
                  </a:lnTo>
                  <a:lnTo>
                    <a:pt x="13757" y="1632"/>
                  </a:lnTo>
                  <a:lnTo>
                    <a:pt x="13736" y="1614"/>
                  </a:lnTo>
                  <a:lnTo>
                    <a:pt x="13723" y="1603"/>
                  </a:lnTo>
                  <a:lnTo>
                    <a:pt x="13708" y="1592"/>
                  </a:lnTo>
                  <a:lnTo>
                    <a:pt x="13692" y="1580"/>
                  </a:lnTo>
                  <a:lnTo>
                    <a:pt x="13674" y="1569"/>
                  </a:lnTo>
                  <a:lnTo>
                    <a:pt x="13654" y="1558"/>
                  </a:lnTo>
                  <a:lnTo>
                    <a:pt x="13633" y="1546"/>
                  </a:lnTo>
                  <a:lnTo>
                    <a:pt x="13610" y="1535"/>
                  </a:lnTo>
                  <a:lnTo>
                    <a:pt x="13584" y="1525"/>
                  </a:lnTo>
                  <a:lnTo>
                    <a:pt x="13557" y="1515"/>
                  </a:lnTo>
                  <a:lnTo>
                    <a:pt x="13528" y="1506"/>
                  </a:lnTo>
                  <a:lnTo>
                    <a:pt x="13497" y="1497"/>
                  </a:lnTo>
                  <a:lnTo>
                    <a:pt x="13463" y="1490"/>
                  </a:lnTo>
                  <a:lnTo>
                    <a:pt x="13429" y="1484"/>
                  </a:lnTo>
                  <a:lnTo>
                    <a:pt x="13392" y="1480"/>
                  </a:lnTo>
                  <a:lnTo>
                    <a:pt x="13353" y="1477"/>
                  </a:lnTo>
                  <a:lnTo>
                    <a:pt x="13311" y="1475"/>
                  </a:lnTo>
                  <a:lnTo>
                    <a:pt x="13268" y="1476"/>
                  </a:lnTo>
                  <a:lnTo>
                    <a:pt x="13223" y="1478"/>
                  </a:lnTo>
                  <a:lnTo>
                    <a:pt x="13174" y="1483"/>
                  </a:lnTo>
                  <a:lnTo>
                    <a:pt x="13125" y="1489"/>
                  </a:lnTo>
                  <a:lnTo>
                    <a:pt x="13072" y="1499"/>
                  </a:lnTo>
                  <a:lnTo>
                    <a:pt x="13017" y="1511"/>
                  </a:lnTo>
                  <a:lnTo>
                    <a:pt x="12960" y="1525"/>
                  </a:lnTo>
                  <a:lnTo>
                    <a:pt x="12901" y="1543"/>
                  </a:lnTo>
                  <a:lnTo>
                    <a:pt x="12894" y="1543"/>
                  </a:lnTo>
                  <a:lnTo>
                    <a:pt x="12874" y="1543"/>
                  </a:lnTo>
                  <a:lnTo>
                    <a:pt x="12842" y="1541"/>
                  </a:lnTo>
                  <a:lnTo>
                    <a:pt x="12799" y="1539"/>
                  </a:lnTo>
                  <a:lnTo>
                    <a:pt x="12748" y="1536"/>
                  </a:lnTo>
                  <a:lnTo>
                    <a:pt x="12688" y="1531"/>
                  </a:lnTo>
                  <a:lnTo>
                    <a:pt x="12624" y="1523"/>
                  </a:lnTo>
                  <a:lnTo>
                    <a:pt x="12554" y="1514"/>
                  </a:lnTo>
                  <a:lnTo>
                    <a:pt x="12518" y="1508"/>
                  </a:lnTo>
                  <a:lnTo>
                    <a:pt x="12482" y="1501"/>
                  </a:lnTo>
                  <a:lnTo>
                    <a:pt x="12444" y="1494"/>
                  </a:lnTo>
                  <a:lnTo>
                    <a:pt x="12408" y="1486"/>
                  </a:lnTo>
                  <a:lnTo>
                    <a:pt x="12371" y="1477"/>
                  </a:lnTo>
                  <a:lnTo>
                    <a:pt x="12334" y="1466"/>
                  </a:lnTo>
                  <a:lnTo>
                    <a:pt x="12296" y="1455"/>
                  </a:lnTo>
                  <a:lnTo>
                    <a:pt x="12260" y="1444"/>
                  </a:lnTo>
                  <a:lnTo>
                    <a:pt x="12225" y="1431"/>
                  </a:lnTo>
                  <a:lnTo>
                    <a:pt x="12190" y="1417"/>
                  </a:lnTo>
                  <a:lnTo>
                    <a:pt x="12156" y="1402"/>
                  </a:lnTo>
                  <a:lnTo>
                    <a:pt x="12124" y="1386"/>
                  </a:lnTo>
                  <a:lnTo>
                    <a:pt x="12093" y="1368"/>
                  </a:lnTo>
                  <a:lnTo>
                    <a:pt x="12063" y="1349"/>
                  </a:lnTo>
                  <a:lnTo>
                    <a:pt x="12035" y="1329"/>
                  </a:lnTo>
                  <a:lnTo>
                    <a:pt x="12010" y="1308"/>
                  </a:lnTo>
                  <a:lnTo>
                    <a:pt x="11983" y="1307"/>
                  </a:lnTo>
                  <a:lnTo>
                    <a:pt x="11911" y="1302"/>
                  </a:lnTo>
                  <a:lnTo>
                    <a:pt x="11864" y="1298"/>
                  </a:lnTo>
                  <a:lnTo>
                    <a:pt x="11810" y="1291"/>
                  </a:lnTo>
                  <a:lnTo>
                    <a:pt x="11782" y="1287"/>
                  </a:lnTo>
                  <a:lnTo>
                    <a:pt x="11754" y="1283"/>
                  </a:lnTo>
                  <a:lnTo>
                    <a:pt x="11725" y="1277"/>
                  </a:lnTo>
                  <a:lnTo>
                    <a:pt x="11694" y="1271"/>
                  </a:lnTo>
                  <a:lnTo>
                    <a:pt x="11665" y="1265"/>
                  </a:lnTo>
                  <a:lnTo>
                    <a:pt x="11636" y="1257"/>
                  </a:lnTo>
                  <a:lnTo>
                    <a:pt x="11607" y="1249"/>
                  </a:lnTo>
                  <a:lnTo>
                    <a:pt x="11579" y="1239"/>
                  </a:lnTo>
                  <a:lnTo>
                    <a:pt x="11551" y="1228"/>
                  </a:lnTo>
                  <a:lnTo>
                    <a:pt x="11525" y="1217"/>
                  </a:lnTo>
                  <a:lnTo>
                    <a:pt x="11500" y="1205"/>
                  </a:lnTo>
                  <a:lnTo>
                    <a:pt x="11477" y="1192"/>
                  </a:lnTo>
                  <a:lnTo>
                    <a:pt x="11455" y="1178"/>
                  </a:lnTo>
                  <a:lnTo>
                    <a:pt x="11435" y="1162"/>
                  </a:lnTo>
                  <a:lnTo>
                    <a:pt x="11417" y="1146"/>
                  </a:lnTo>
                  <a:lnTo>
                    <a:pt x="11403" y="1128"/>
                  </a:lnTo>
                  <a:lnTo>
                    <a:pt x="11391" y="1108"/>
                  </a:lnTo>
                  <a:lnTo>
                    <a:pt x="11382" y="1088"/>
                  </a:lnTo>
                  <a:lnTo>
                    <a:pt x="11376" y="1066"/>
                  </a:lnTo>
                  <a:lnTo>
                    <a:pt x="11373" y="1043"/>
                  </a:lnTo>
                  <a:lnTo>
                    <a:pt x="11362" y="1037"/>
                  </a:lnTo>
                  <a:lnTo>
                    <a:pt x="11331" y="1019"/>
                  </a:lnTo>
                  <a:lnTo>
                    <a:pt x="11308" y="1007"/>
                  </a:lnTo>
                  <a:lnTo>
                    <a:pt x="11282" y="994"/>
                  </a:lnTo>
                  <a:lnTo>
                    <a:pt x="11253" y="978"/>
                  </a:lnTo>
                  <a:lnTo>
                    <a:pt x="11220" y="963"/>
                  </a:lnTo>
                  <a:lnTo>
                    <a:pt x="11183" y="948"/>
                  </a:lnTo>
                  <a:lnTo>
                    <a:pt x="11145" y="934"/>
                  </a:lnTo>
                  <a:lnTo>
                    <a:pt x="11105" y="920"/>
                  </a:lnTo>
                  <a:lnTo>
                    <a:pt x="11062" y="907"/>
                  </a:lnTo>
                  <a:lnTo>
                    <a:pt x="11041" y="901"/>
                  </a:lnTo>
                  <a:lnTo>
                    <a:pt x="11019" y="896"/>
                  </a:lnTo>
                  <a:lnTo>
                    <a:pt x="10997" y="891"/>
                  </a:lnTo>
                  <a:lnTo>
                    <a:pt x="10975" y="887"/>
                  </a:lnTo>
                  <a:lnTo>
                    <a:pt x="10952" y="884"/>
                  </a:lnTo>
                  <a:lnTo>
                    <a:pt x="10928" y="881"/>
                  </a:lnTo>
                  <a:lnTo>
                    <a:pt x="10906" y="878"/>
                  </a:lnTo>
                  <a:lnTo>
                    <a:pt x="10883" y="877"/>
                  </a:lnTo>
                  <a:lnTo>
                    <a:pt x="10866" y="866"/>
                  </a:lnTo>
                  <a:lnTo>
                    <a:pt x="10822" y="839"/>
                  </a:lnTo>
                  <a:lnTo>
                    <a:pt x="10790" y="821"/>
                  </a:lnTo>
                  <a:lnTo>
                    <a:pt x="10756" y="803"/>
                  </a:lnTo>
                  <a:lnTo>
                    <a:pt x="10718" y="784"/>
                  </a:lnTo>
                  <a:lnTo>
                    <a:pt x="10677" y="766"/>
                  </a:lnTo>
                  <a:lnTo>
                    <a:pt x="10656" y="757"/>
                  </a:lnTo>
                  <a:lnTo>
                    <a:pt x="10635" y="748"/>
                  </a:lnTo>
                  <a:lnTo>
                    <a:pt x="10614" y="740"/>
                  </a:lnTo>
                  <a:lnTo>
                    <a:pt x="10593" y="733"/>
                  </a:lnTo>
                  <a:lnTo>
                    <a:pt x="10572" y="727"/>
                  </a:lnTo>
                  <a:lnTo>
                    <a:pt x="10551" y="722"/>
                  </a:lnTo>
                  <a:lnTo>
                    <a:pt x="10531" y="718"/>
                  </a:lnTo>
                  <a:lnTo>
                    <a:pt x="10511" y="715"/>
                  </a:lnTo>
                  <a:lnTo>
                    <a:pt x="10492" y="714"/>
                  </a:lnTo>
                  <a:lnTo>
                    <a:pt x="10473" y="714"/>
                  </a:lnTo>
                  <a:lnTo>
                    <a:pt x="10456" y="715"/>
                  </a:lnTo>
                  <a:lnTo>
                    <a:pt x="10438" y="718"/>
                  </a:lnTo>
                  <a:lnTo>
                    <a:pt x="10423" y="723"/>
                  </a:lnTo>
                  <a:lnTo>
                    <a:pt x="10408" y="729"/>
                  </a:lnTo>
                  <a:lnTo>
                    <a:pt x="10395" y="738"/>
                  </a:lnTo>
                  <a:lnTo>
                    <a:pt x="10383" y="749"/>
                  </a:lnTo>
                  <a:lnTo>
                    <a:pt x="10373" y="761"/>
                  </a:lnTo>
                  <a:lnTo>
                    <a:pt x="10364" y="773"/>
                  </a:lnTo>
                  <a:lnTo>
                    <a:pt x="10356" y="786"/>
                  </a:lnTo>
                  <a:lnTo>
                    <a:pt x="10350" y="800"/>
                  </a:lnTo>
                  <a:lnTo>
                    <a:pt x="10344" y="814"/>
                  </a:lnTo>
                  <a:lnTo>
                    <a:pt x="10339" y="829"/>
                  </a:lnTo>
                  <a:lnTo>
                    <a:pt x="10335" y="844"/>
                  </a:lnTo>
                  <a:lnTo>
                    <a:pt x="10332" y="859"/>
                  </a:lnTo>
                  <a:lnTo>
                    <a:pt x="10323" y="921"/>
                  </a:lnTo>
                  <a:lnTo>
                    <a:pt x="10317" y="980"/>
                  </a:lnTo>
                  <a:lnTo>
                    <a:pt x="10313" y="995"/>
                  </a:lnTo>
                  <a:lnTo>
                    <a:pt x="10311" y="1008"/>
                  </a:lnTo>
                  <a:lnTo>
                    <a:pt x="10307" y="1020"/>
                  </a:lnTo>
                  <a:lnTo>
                    <a:pt x="10304" y="1032"/>
                  </a:lnTo>
                  <a:lnTo>
                    <a:pt x="10299" y="1042"/>
                  </a:lnTo>
                  <a:lnTo>
                    <a:pt x="10294" y="1052"/>
                  </a:lnTo>
                  <a:lnTo>
                    <a:pt x="10287" y="1060"/>
                  </a:lnTo>
                  <a:lnTo>
                    <a:pt x="10280" y="1068"/>
                  </a:lnTo>
                  <a:lnTo>
                    <a:pt x="10271" y="1074"/>
                  </a:lnTo>
                  <a:lnTo>
                    <a:pt x="10261" y="1078"/>
                  </a:lnTo>
                  <a:lnTo>
                    <a:pt x="10250" y="1081"/>
                  </a:lnTo>
                  <a:lnTo>
                    <a:pt x="10237" y="1083"/>
                  </a:lnTo>
                  <a:lnTo>
                    <a:pt x="10223" y="1083"/>
                  </a:lnTo>
                  <a:lnTo>
                    <a:pt x="10206" y="1081"/>
                  </a:lnTo>
                  <a:lnTo>
                    <a:pt x="10187" y="1078"/>
                  </a:lnTo>
                  <a:lnTo>
                    <a:pt x="10168" y="1072"/>
                  </a:lnTo>
                  <a:lnTo>
                    <a:pt x="10148" y="1067"/>
                  </a:lnTo>
                  <a:lnTo>
                    <a:pt x="10130" y="1060"/>
                  </a:lnTo>
                  <a:lnTo>
                    <a:pt x="10112" y="1052"/>
                  </a:lnTo>
                  <a:lnTo>
                    <a:pt x="10095" y="1044"/>
                  </a:lnTo>
                  <a:lnTo>
                    <a:pt x="10079" y="1035"/>
                  </a:lnTo>
                  <a:lnTo>
                    <a:pt x="10063" y="1025"/>
                  </a:lnTo>
                  <a:lnTo>
                    <a:pt x="10049" y="1014"/>
                  </a:lnTo>
                  <a:lnTo>
                    <a:pt x="10035" y="1003"/>
                  </a:lnTo>
                  <a:lnTo>
                    <a:pt x="10021" y="990"/>
                  </a:lnTo>
                  <a:lnTo>
                    <a:pt x="10008" y="978"/>
                  </a:lnTo>
                  <a:lnTo>
                    <a:pt x="9995" y="965"/>
                  </a:lnTo>
                  <a:lnTo>
                    <a:pt x="9983" y="952"/>
                  </a:lnTo>
                  <a:lnTo>
                    <a:pt x="9959" y="924"/>
                  </a:lnTo>
                  <a:lnTo>
                    <a:pt x="9934" y="895"/>
                  </a:lnTo>
                  <a:lnTo>
                    <a:pt x="9909" y="864"/>
                  </a:lnTo>
                  <a:lnTo>
                    <a:pt x="9884" y="834"/>
                  </a:lnTo>
                  <a:lnTo>
                    <a:pt x="9857" y="802"/>
                  </a:lnTo>
                  <a:lnTo>
                    <a:pt x="9828" y="771"/>
                  </a:lnTo>
                  <a:lnTo>
                    <a:pt x="9813" y="756"/>
                  </a:lnTo>
                  <a:lnTo>
                    <a:pt x="9795" y="739"/>
                  </a:lnTo>
                  <a:lnTo>
                    <a:pt x="9778" y="724"/>
                  </a:lnTo>
                  <a:lnTo>
                    <a:pt x="9760" y="709"/>
                  </a:lnTo>
                  <a:lnTo>
                    <a:pt x="9742" y="694"/>
                  </a:lnTo>
                  <a:lnTo>
                    <a:pt x="9722" y="680"/>
                  </a:lnTo>
                  <a:lnTo>
                    <a:pt x="9701" y="666"/>
                  </a:lnTo>
                  <a:lnTo>
                    <a:pt x="9678" y="652"/>
                  </a:lnTo>
                  <a:lnTo>
                    <a:pt x="9627" y="622"/>
                  </a:lnTo>
                  <a:lnTo>
                    <a:pt x="9569" y="589"/>
                  </a:lnTo>
                  <a:lnTo>
                    <a:pt x="9502" y="554"/>
                  </a:lnTo>
                  <a:lnTo>
                    <a:pt x="9430" y="518"/>
                  </a:lnTo>
                  <a:lnTo>
                    <a:pt x="9356" y="479"/>
                  </a:lnTo>
                  <a:lnTo>
                    <a:pt x="9279" y="441"/>
                  </a:lnTo>
                  <a:lnTo>
                    <a:pt x="9202" y="403"/>
                  </a:lnTo>
                  <a:lnTo>
                    <a:pt x="9126" y="366"/>
                  </a:lnTo>
                  <a:lnTo>
                    <a:pt x="9052" y="331"/>
                  </a:lnTo>
                  <a:lnTo>
                    <a:pt x="8984" y="298"/>
                  </a:lnTo>
                  <a:lnTo>
                    <a:pt x="8921" y="268"/>
                  </a:lnTo>
                  <a:lnTo>
                    <a:pt x="8867" y="242"/>
                  </a:lnTo>
                  <a:lnTo>
                    <a:pt x="8822" y="221"/>
                  </a:lnTo>
                  <a:lnTo>
                    <a:pt x="8786" y="205"/>
                  </a:lnTo>
                  <a:lnTo>
                    <a:pt x="8765" y="194"/>
                  </a:lnTo>
                  <a:lnTo>
                    <a:pt x="8757" y="191"/>
                  </a:lnTo>
                  <a:lnTo>
                    <a:pt x="8752" y="187"/>
                  </a:lnTo>
                  <a:lnTo>
                    <a:pt x="8735" y="177"/>
                  </a:lnTo>
                  <a:lnTo>
                    <a:pt x="8708" y="161"/>
                  </a:lnTo>
                  <a:lnTo>
                    <a:pt x="8669" y="140"/>
                  </a:lnTo>
                  <a:lnTo>
                    <a:pt x="8646" y="130"/>
                  </a:lnTo>
                  <a:lnTo>
                    <a:pt x="8620" y="118"/>
                  </a:lnTo>
                  <a:lnTo>
                    <a:pt x="8592" y="107"/>
                  </a:lnTo>
                  <a:lnTo>
                    <a:pt x="8560" y="95"/>
                  </a:lnTo>
                  <a:lnTo>
                    <a:pt x="8525" y="83"/>
                  </a:lnTo>
                  <a:lnTo>
                    <a:pt x="8489" y="71"/>
                  </a:lnTo>
                  <a:lnTo>
                    <a:pt x="8450" y="60"/>
                  </a:lnTo>
                  <a:lnTo>
                    <a:pt x="8407" y="49"/>
                  </a:lnTo>
                  <a:lnTo>
                    <a:pt x="8362" y="39"/>
                  </a:lnTo>
                  <a:lnTo>
                    <a:pt x="8315" y="29"/>
                  </a:lnTo>
                  <a:lnTo>
                    <a:pt x="8264" y="20"/>
                  </a:lnTo>
                  <a:lnTo>
                    <a:pt x="8211" y="13"/>
                  </a:lnTo>
                  <a:lnTo>
                    <a:pt x="8155" y="8"/>
                  </a:lnTo>
                  <a:lnTo>
                    <a:pt x="8097" y="4"/>
                  </a:lnTo>
                  <a:lnTo>
                    <a:pt x="8035" y="1"/>
                  </a:lnTo>
                  <a:lnTo>
                    <a:pt x="7972" y="0"/>
                  </a:lnTo>
                  <a:lnTo>
                    <a:pt x="7905" y="2"/>
                  </a:lnTo>
                  <a:lnTo>
                    <a:pt x="7837" y="5"/>
                  </a:lnTo>
                  <a:lnTo>
                    <a:pt x="7764" y="11"/>
                  </a:lnTo>
                  <a:lnTo>
                    <a:pt x="7691" y="20"/>
                  </a:lnTo>
                  <a:lnTo>
                    <a:pt x="7613" y="31"/>
                  </a:lnTo>
                  <a:lnTo>
                    <a:pt x="7533" y="46"/>
                  </a:lnTo>
                  <a:lnTo>
                    <a:pt x="7451" y="63"/>
                  </a:lnTo>
                  <a:lnTo>
                    <a:pt x="7366" y="83"/>
                  </a:lnTo>
                  <a:lnTo>
                    <a:pt x="7283" y="104"/>
                  </a:lnTo>
                  <a:lnTo>
                    <a:pt x="7207" y="122"/>
                  </a:lnTo>
                  <a:lnTo>
                    <a:pt x="7136" y="139"/>
                  </a:lnTo>
                  <a:lnTo>
                    <a:pt x="7071" y="153"/>
                  </a:lnTo>
                  <a:lnTo>
                    <a:pt x="7010" y="166"/>
                  </a:lnTo>
                  <a:lnTo>
                    <a:pt x="6955" y="177"/>
                  </a:lnTo>
                  <a:lnTo>
                    <a:pt x="6903" y="186"/>
                  </a:lnTo>
                  <a:lnTo>
                    <a:pt x="6856" y="193"/>
                  </a:lnTo>
                  <a:lnTo>
                    <a:pt x="6813" y="199"/>
                  </a:lnTo>
                  <a:lnTo>
                    <a:pt x="6773" y="204"/>
                  </a:lnTo>
                  <a:lnTo>
                    <a:pt x="6737" y="207"/>
                  </a:lnTo>
                  <a:lnTo>
                    <a:pt x="6704" y="209"/>
                  </a:lnTo>
                  <a:lnTo>
                    <a:pt x="6674" y="210"/>
                  </a:lnTo>
                  <a:lnTo>
                    <a:pt x="6646" y="210"/>
                  </a:lnTo>
                  <a:lnTo>
                    <a:pt x="6620" y="209"/>
                  </a:lnTo>
                  <a:lnTo>
                    <a:pt x="6597" y="208"/>
                  </a:lnTo>
                  <a:lnTo>
                    <a:pt x="6576" y="206"/>
                  </a:lnTo>
                  <a:lnTo>
                    <a:pt x="6556" y="203"/>
                  </a:lnTo>
                  <a:lnTo>
                    <a:pt x="6537" y="200"/>
                  </a:lnTo>
                  <a:lnTo>
                    <a:pt x="6518" y="197"/>
                  </a:lnTo>
                  <a:lnTo>
                    <a:pt x="6483" y="190"/>
                  </a:lnTo>
                  <a:lnTo>
                    <a:pt x="6449" y="182"/>
                  </a:lnTo>
                  <a:lnTo>
                    <a:pt x="6431" y="179"/>
                  </a:lnTo>
                  <a:lnTo>
                    <a:pt x="6413" y="176"/>
                  </a:lnTo>
                  <a:lnTo>
                    <a:pt x="6392" y="174"/>
                  </a:lnTo>
                  <a:lnTo>
                    <a:pt x="6371" y="172"/>
                  </a:lnTo>
                  <a:lnTo>
                    <a:pt x="6349" y="170"/>
                  </a:lnTo>
                  <a:lnTo>
                    <a:pt x="6325" y="170"/>
                  </a:lnTo>
                  <a:lnTo>
                    <a:pt x="6298" y="170"/>
                  </a:lnTo>
                  <a:lnTo>
                    <a:pt x="6269" y="171"/>
                  </a:lnTo>
                  <a:lnTo>
                    <a:pt x="6208" y="176"/>
                  </a:lnTo>
                  <a:lnTo>
                    <a:pt x="6144" y="182"/>
                  </a:lnTo>
                  <a:lnTo>
                    <a:pt x="6080" y="191"/>
                  </a:lnTo>
                  <a:lnTo>
                    <a:pt x="6015" y="201"/>
                  </a:lnTo>
                  <a:lnTo>
                    <a:pt x="5983" y="207"/>
                  </a:lnTo>
                  <a:lnTo>
                    <a:pt x="5951" y="213"/>
                  </a:lnTo>
                  <a:lnTo>
                    <a:pt x="5919" y="220"/>
                  </a:lnTo>
                  <a:lnTo>
                    <a:pt x="5886" y="228"/>
                  </a:lnTo>
                  <a:lnTo>
                    <a:pt x="5854" y="236"/>
                  </a:lnTo>
                  <a:lnTo>
                    <a:pt x="5823" y="244"/>
                  </a:lnTo>
                  <a:lnTo>
                    <a:pt x="5792" y="253"/>
                  </a:lnTo>
                  <a:lnTo>
                    <a:pt x="5761" y="263"/>
                  </a:lnTo>
                  <a:lnTo>
                    <a:pt x="5731" y="273"/>
                  </a:lnTo>
                  <a:lnTo>
                    <a:pt x="5701" y="284"/>
                  </a:lnTo>
                  <a:lnTo>
                    <a:pt x="5672" y="295"/>
                  </a:lnTo>
                  <a:lnTo>
                    <a:pt x="5643" y="307"/>
                  </a:lnTo>
                  <a:lnTo>
                    <a:pt x="5615" y="319"/>
                  </a:lnTo>
                  <a:lnTo>
                    <a:pt x="5589" y="332"/>
                  </a:lnTo>
                  <a:lnTo>
                    <a:pt x="5563" y="346"/>
                  </a:lnTo>
                  <a:lnTo>
                    <a:pt x="5538" y="360"/>
                  </a:lnTo>
                  <a:lnTo>
                    <a:pt x="5513" y="374"/>
                  </a:lnTo>
                  <a:lnTo>
                    <a:pt x="5490" y="389"/>
                  </a:lnTo>
                  <a:lnTo>
                    <a:pt x="5468" y="406"/>
                  </a:lnTo>
                  <a:lnTo>
                    <a:pt x="5448" y="423"/>
                  </a:lnTo>
                  <a:lnTo>
                    <a:pt x="5428" y="440"/>
                  </a:lnTo>
                  <a:lnTo>
                    <a:pt x="5410" y="457"/>
                  </a:lnTo>
                  <a:lnTo>
                    <a:pt x="5393" y="475"/>
                  </a:lnTo>
                  <a:lnTo>
                    <a:pt x="5377" y="494"/>
                  </a:lnTo>
                  <a:lnTo>
                    <a:pt x="5360" y="515"/>
                  </a:lnTo>
                  <a:lnTo>
                    <a:pt x="5339" y="539"/>
                  </a:lnTo>
                  <a:lnTo>
                    <a:pt x="5313" y="565"/>
                  </a:lnTo>
                  <a:lnTo>
                    <a:pt x="5283" y="595"/>
                  </a:lnTo>
                  <a:lnTo>
                    <a:pt x="5248" y="627"/>
                  </a:lnTo>
                  <a:lnTo>
                    <a:pt x="5211" y="662"/>
                  </a:lnTo>
                  <a:lnTo>
                    <a:pt x="5170" y="699"/>
                  </a:lnTo>
                  <a:lnTo>
                    <a:pt x="5125" y="737"/>
                  </a:lnTo>
                  <a:lnTo>
                    <a:pt x="5078" y="778"/>
                  </a:lnTo>
                  <a:lnTo>
                    <a:pt x="5028" y="819"/>
                  </a:lnTo>
                  <a:lnTo>
                    <a:pt x="4975" y="861"/>
                  </a:lnTo>
                  <a:lnTo>
                    <a:pt x="4921" y="905"/>
                  </a:lnTo>
                  <a:lnTo>
                    <a:pt x="4864" y="948"/>
                  </a:lnTo>
                  <a:lnTo>
                    <a:pt x="4806" y="991"/>
                  </a:lnTo>
                  <a:lnTo>
                    <a:pt x="4746" y="1036"/>
                  </a:lnTo>
                  <a:lnTo>
                    <a:pt x="4686" y="1079"/>
                  </a:lnTo>
                  <a:lnTo>
                    <a:pt x="4624" y="1122"/>
                  </a:lnTo>
                  <a:lnTo>
                    <a:pt x="4562" y="1163"/>
                  </a:lnTo>
                  <a:lnTo>
                    <a:pt x="4498" y="1203"/>
                  </a:lnTo>
                  <a:lnTo>
                    <a:pt x="4436" y="1243"/>
                  </a:lnTo>
                  <a:lnTo>
                    <a:pt x="4372" y="1280"/>
                  </a:lnTo>
                  <a:lnTo>
                    <a:pt x="4310" y="1315"/>
                  </a:lnTo>
                  <a:lnTo>
                    <a:pt x="4247" y="1347"/>
                  </a:lnTo>
                  <a:lnTo>
                    <a:pt x="4186" y="1378"/>
                  </a:lnTo>
                  <a:lnTo>
                    <a:pt x="4125" y="1405"/>
                  </a:lnTo>
                  <a:lnTo>
                    <a:pt x="4067" y="1429"/>
                  </a:lnTo>
                  <a:lnTo>
                    <a:pt x="4008" y="1450"/>
                  </a:lnTo>
                  <a:lnTo>
                    <a:pt x="3953" y="1467"/>
                  </a:lnTo>
                  <a:lnTo>
                    <a:pt x="3899" y="1481"/>
                  </a:lnTo>
                  <a:lnTo>
                    <a:pt x="3847" y="1490"/>
                  </a:lnTo>
                  <a:lnTo>
                    <a:pt x="3798" y="1495"/>
                  </a:lnTo>
                  <a:lnTo>
                    <a:pt x="3751" y="1494"/>
                  </a:lnTo>
                  <a:lnTo>
                    <a:pt x="3706" y="1491"/>
                  </a:lnTo>
                  <a:lnTo>
                    <a:pt x="3660" y="1488"/>
                  </a:lnTo>
                  <a:lnTo>
                    <a:pt x="3612" y="1487"/>
                  </a:lnTo>
                  <a:lnTo>
                    <a:pt x="3564" y="1485"/>
                  </a:lnTo>
                  <a:lnTo>
                    <a:pt x="3516" y="1485"/>
                  </a:lnTo>
                  <a:lnTo>
                    <a:pt x="3467" y="1486"/>
                  </a:lnTo>
                  <a:lnTo>
                    <a:pt x="3418" y="1487"/>
                  </a:lnTo>
                  <a:lnTo>
                    <a:pt x="3368" y="1489"/>
                  </a:lnTo>
                  <a:lnTo>
                    <a:pt x="3319" y="1491"/>
                  </a:lnTo>
                  <a:lnTo>
                    <a:pt x="3270" y="1495"/>
                  </a:lnTo>
                  <a:lnTo>
                    <a:pt x="3220" y="1500"/>
                  </a:lnTo>
                  <a:lnTo>
                    <a:pt x="3171" y="1505"/>
                  </a:lnTo>
                  <a:lnTo>
                    <a:pt x="3123" y="1511"/>
                  </a:lnTo>
                  <a:lnTo>
                    <a:pt x="3075" y="1518"/>
                  </a:lnTo>
                  <a:lnTo>
                    <a:pt x="3029" y="1527"/>
                  </a:lnTo>
                  <a:lnTo>
                    <a:pt x="2982" y="1536"/>
                  </a:lnTo>
                  <a:lnTo>
                    <a:pt x="2938" y="1546"/>
                  </a:lnTo>
                  <a:lnTo>
                    <a:pt x="2894" y="1557"/>
                  </a:lnTo>
                  <a:lnTo>
                    <a:pt x="2851" y="1569"/>
                  </a:lnTo>
                  <a:lnTo>
                    <a:pt x="2811" y="1582"/>
                  </a:lnTo>
                  <a:lnTo>
                    <a:pt x="2771" y="1597"/>
                  </a:lnTo>
                  <a:lnTo>
                    <a:pt x="2733" y="1612"/>
                  </a:lnTo>
                  <a:lnTo>
                    <a:pt x="2697" y="1628"/>
                  </a:lnTo>
                  <a:lnTo>
                    <a:pt x="2664" y="1646"/>
                  </a:lnTo>
                  <a:lnTo>
                    <a:pt x="2632" y="1664"/>
                  </a:lnTo>
                  <a:lnTo>
                    <a:pt x="2601" y="1684"/>
                  </a:lnTo>
                  <a:lnTo>
                    <a:pt x="2574" y="1705"/>
                  </a:lnTo>
                  <a:lnTo>
                    <a:pt x="2550" y="1727"/>
                  </a:lnTo>
                  <a:lnTo>
                    <a:pt x="2528" y="1750"/>
                  </a:lnTo>
                  <a:lnTo>
                    <a:pt x="2509" y="1775"/>
                  </a:lnTo>
                  <a:lnTo>
                    <a:pt x="2491" y="1800"/>
                  </a:lnTo>
                  <a:lnTo>
                    <a:pt x="2478" y="1827"/>
                  </a:lnTo>
                  <a:lnTo>
                    <a:pt x="2467" y="1854"/>
                  </a:lnTo>
                  <a:lnTo>
                    <a:pt x="2458" y="1878"/>
                  </a:lnTo>
                  <a:lnTo>
                    <a:pt x="2451" y="1902"/>
                  </a:lnTo>
                  <a:lnTo>
                    <a:pt x="2446" y="1924"/>
                  </a:lnTo>
                  <a:lnTo>
                    <a:pt x="2443" y="1946"/>
                  </a:lnTo>
                  <a:lnTo>
                    <a:pt x="2441" y="1968"/>
                  </a:lnTo>
                  <a:lnTo>
                    <a:pt x="2441" y="1988"/>
                  </a:lnTo>
                  <a:lnTo>
                    <a:pt x="2443" y="2008"/>
                  </a:lnTo>
                  <a:lnTo>
                    <a:pt x="2447" y="2027"/>
                  </a:lnTo>
                  <a:lnTo>
                    <a:pt x="2452" y="2046"/>
                  </a:lnTo>
                  <a:lnTo>
                    <a:pt x="2459" y="2065"/>
                  </a:lnTo>
                  <a:lnTo>
                    <a:pt x="2468" y="2084"/>
                  </a:lnTo>
                  <a:lnTo>
                    <a:pt x="2478" y="2102"/>
                  </a:lnTo>
                  <a:lnTo>
                    <a:pt x="2489" y="2120"/>
                  </a:lnTo>
                  <a:lnTo>
                    <a:pt x="2502" y="2138"/>
                  </a:lnTo>
                  <a:lnTo>
                    <a:pt x="2518" y="2157"/>
                  </a:lnTo>
                  <a:lnTo>
                    <a:pt x="2533" y="2175"/>
                  </a:lnTo>
                  <a:lnTo>
                    <a:pt x="2550" y="2195"/>
                  </a:lnTo>
                  <a:lnTo>
                    <a:pt x="2569" y="2215"/>
                  </a:lnTo>
                  <a:lnTo>
                    <a:pt x="2588" y="2234"/>
                  </a:lnTo>
                  <a:lnTo>
                    <a:pt x="2632" y="2276"/>
                  </a:lnTo>
                  <a:lnTo>
                    <a:pt x="2679" y="2322"/>
                  </a:lnTo>
                  <a:lnTo>
                    <a:pt x="2731" y="2372"/>
                  </a:lnTo>
                  <a:lnTo>
                    <a:pt x="2787" y="2426"/>
                  </a:lnTo>
                  <a:lnTo>
                    <a:pt x="2846" y="2486"/>
                  </a:lnTo>
                  <a:lnTo>
                    <a:pt x="2909" y="2553"/>
                  </a:lnTo>
                  <a:lnTo>
                    <a:pt x="2976" y="2626"/>
                  </a:lnTo>
                  <a:lnTo>
                    <a:pt x="3050" y="2709"/>
                  </a:lnTo>
                  <a:lnTo>
                    <a:pt x="3089" y="2753"/>
                  </a:lnTo>
                  <a:lnTo>
                    <a:pt x="3128" y="2800"/>
                  </a:lnTo>
                  <a:lnTo>
                    <a:pt x="3169" y="2848"/>
                  </a:lnTo>
                  <a:lnTo>
                    <a:pt x="3210" y="2897"/>
                  </a:lnTo>
                  <a:lnTo>
                    <a:pt x="3250" y="2948"/>
                  </a:lnTo>
                  <a:lnTo>
                    <a:pt x="3291" y="2999"/>
                  </a:lnTo>
                  <a:lnTo>
                    <a:pt x="3330" y="3052"/>
                  </a:lnTo>
                  <a:lnTo>
                    <a:pt x="3368" y="3104"/>
                  </a:lnTo>
                  <a:lnTo>
                    <a:pt x="3406" y="3158"/>
                  </a:lnTo>
                  <a:lnTo>
                    <a:pt x="3441" y="3211"/>
                  </a:lnTo>
                  <a:lnTo>
                    <a:pt x="3475" y="3264"/>
                  </a:lnTo>
                  <a:lnTo>
                    <a:pt x="3506" y="3318"/>
                  </a:lnTo>
                  <a:lnTo>
                    <a:pt x="3536" y="3370"/>
                  </a:lnTo>
                  <a:lnTo>
                    <a:pt x="3562" y="3423"/>
                  </a:lnTo>
                  <a:lnTo>
                    <a:pt x="3585" y="3474"/>
                  </a:lnTo>
                  <a:lnTo>
                    <a:pt x="3604" y="3525"/>
                  </a:lnTo>
                  <a:lnTo>
                    <a:pt x="3620" y="3574"/>
                  </a:lnTo>
                  <a:lnTo>
                    <a:pt x="3631" y="3621"/>
                  </a:lnTo>
                  <a:lnTo>
                    <a:pt x="3640" y="3667"/>
                  </a:lnTo>
                  <a:lnTo>
                    <a:pt x="3642" y="3711"/>
                  </a:lnTo>
                  <a:lnTo>
                    <a:pt x="3640" y="3754"/>
                  </a:lnTo>
                  <a:lnTo>
                    <a:pt x="3632" y="3793"/>
                  </a:lnTo>
                  <a:lnTo>
                    <a:pt x="3618" y="3830"/>
                  </a:lnTo>
                  <a:lnTo>
                    <a:pt x="3599" y="3866"/>
                  </a:lnTo>
                  <a:lnTo>
                    <a:pt x="3574" y="3897"/>
                  </a:lnTo>
                  <a:lnTo>
                    <a:pt x="3543" y="3926"/>
                  </a:lnTo>
                  <a:lnTo>
                    <a:pt x="3503" y="3951"/>
                  </a:lnTo>
                  <a:lnTo>
                    <a:pt x="3458" y="3973"/>
                  </a:lnTo>
                  <a:lnTo>
                    <a:pt x="3409" y="3992"/>
                  </a:lnTo>
                  <a:lnTo>
                    <a:pt x="3362" y="4007"/>
                  </a:lnTo>
                  <a:lnTo>
                    <a:pt x="3319" y="4019"/>
                  </a:lnTo>
                  <a:lnTo>
                    <a:pt x="3279" y="4028"/>
                  </a:lnTo>
                  <a:lnTo>
                    <a:pt x="3240" y="4034"/>
                  </a:lnTo>
                  <a:lnTo>
                    <a:pt x="3205" y="4037"/>
                  </a:lnTo>
                  <a:lnTo>
                    <a:pt x="3172" y="4037"/>
                  </a:lnTo>
                  <a:lnTo>
                    <a:pt x="3141" y="4035"/>
                  </a:lnTo>
                  <a:lnTo>
                    <a:pt x="3111" y="4031"/>
                  </a:lnTo>
                  <a:lnTo>
                    <a:pt x="3084" y="4025"/>
                  </a:lnTo>
                  <a:lnTo>
                    <a:pt x="3058" y="4017"/>
                  </a:lnTo>
                  <a:lnTo>
                    <a:pt x="3034" y="4007"/>
                  </a:lnTo>
                  <a:lnTo>
                    <a:pt x="3011" y="3996"/>
                  </a:lnTo>
                  <a:lnTo>
                    <a:pt x="2988" y="3983"/>
                  </a:lnTo>
                  <a:lnTo>
                    <a:pt x="2968" y="3969"/>
                  </a:lnTo>
                  <a:lnTo>
                    <a:pt x="2948" y="3954"/>
                  </a:lnTo>
                  <a:lnTo>
                    <a:pt x="2929" y="3938"/>
                  </a:lnTo>
                  <a:lnTo>
                    <a:pt x="2911" y="3921"/>
                  </a:lnTo>
                  <a:lnTo>
                    <a:pt x="2894" y="3904"/>
                  </a:lnTo>
                  <a:lnTo>
                    <a:pt x="2876" y="3886"/>
                  </a:lnTo>
                  <a:lnTo>
                    <a:pt x="2842" y="3849"/>
                  </a:lnTo>
                  <a:lnTo>
                    <a:pt x="2808" y="3813"/>
                  </a:lnTo>
                  <a:lnTo>
                    <a:pt x="2790" y="3796"/>
                  </a:lnTo>
                  <a:lnTo>
                    <a:pt x="2772" y="3779"/>
                  </a:lnTo>
                  <a:lnTo>
                    <a:pt x="2752" y="3763"/>
                  </a:lnTo>
                  <a:lnTo>
                    <a:pt x="2733" y="3748"/>
                  </a:lnTo>
                  <a:lnTo>
                    <a:pt x="2713" y="3733"/>
                  </a:lnTo>
                  <a:lnTo>
                    <a:pt x="2691" y="3720"/>
                  </a:lnTo>
                  <a:lnTo>
                    <a:pt x="2669" y="3709"/>
                  </a:lnTo>
                  <a:lnTo>
                    <a:pt x="2645" y="3699"/>
                  </a:lnTo>
                  <a:lnTo>
                    <a:pt x="2618" y="3689"/>
                  </a:lnTo>
                  <a:lnTo>
                    <a:pt x="2590" y="3681"/>
                  </a:lnTo>
                  <a:lnTo>
                    <a:pt x="2559" y="3674"/>
                  </a:lnTo>
                  <a:lnTo>
                    <a:pt x="2526" y="3667"/>
                  </a:lnTo>
                  <a:lnTo>
                    <a:pt x="2490" y="3662"/>
                  </a:lnTo>
                  <a:lnTo>
                    <a:pt x="2453" y="3657"/>
                  </a:lnTo>
                  <a:lnTo>
                    <a:pt x="2414" y="3654"/>
                  </a:lnTo>
                  <a:lnTo>
                    <a:pt x="2373" y="3652"/>
                  </a:lnTo>
                  <a:lnTo>
                    <a:pt x="2331" y="3651"/>
                  </a:lnTo>
                  <a:lnTo>
                    <a:pt x="2287" y="3651"/>
                  </a:lnTo>
                  <a:lnTo>
                    <a:pt x="2242" y="3652"/>
                  </a:lnTo>
                  <a:lnTo>
                    <a:pt x="2196" y="3654"/>
                  </a:lnTo>
                  <a:lnTo>
                    <a:pt x="2149" y="3657"/>
                  </a:lnTo>
                  <a:lnTo>
                    <a:pt x="2100" y="3662"/>
                  </a:lnTo>
                  <a:lnTo>
                    <a:pt x="2051" y="3667"/>
                  </a:lnTo>
                  <a:lnTo>
                    <a:pt x="2002" y="3673"/>
                  </a:lnTo>
                  <a:lnTo>
                    <a:pt x="1952" y="3681"/>
                  </a:lnTo>
                  <a:lnTo>
                    <a:pt x="1902" y="3690"/>
                  </a:lnTo>
                  <a:lnTo>
                    <a:pt x="1850" y="3700"/>
                  </a:lnTo>
                  <a:lnTo>
                    <a:pt x="1800" y="3711"/>
                  </a:lnTo>
                  <a:lnTo>
                    <a:pt x="1750" y="3723"/>
                  </a:lnTo>
                  <a:lnTo>
                    <a:pt x="1699" y="3736"/>
                  </a:lnTo>
                  <a:lnTo>
                    <a:pt x="1649" y="3751"/>
                  </a:lnTo>
                  <a:lnTo>
                    <a:pt x="1599" y="3767"/>
                  </a:lnTo>
                  <a:lnTo>
                    <a:pt x="1550" y="3784"/>
                  </a:lnTo>
                  <a:lnTo>
                    <a:pt x="1502" y="3801"/>
                  </a:lnTo>
                  <a:lnTo>
                    <a:pt x="1454" y="3820"/>
                  </a:lnTo>
                  <a:lnTo>
                    <a:pt x="1408" y="3841"/>
                  </a:lnTo>
                  <a:lnTo>
                    <a:pt x="1362" y="3862"/>
                  </a:lnTo>
                  <a:lnTo>
                    <a:pt x="1318" y="3885"/>
                  </a:lnTo>
                  <a:lnTo>
                    <a:pt x="1275" y="3909"/>
                  </a:lnTo>
                  <a:lnTo>
                    <a:pt x="1234" y="3934"/>
                  </a:lnTo>
                  <a:lnTo>
                    <a:pt x="1153" y="3983"/>
                  </a:lnTo>
                  <a:lnTo>
                    <a:pt x="1074" y="4032"/>
                  </a:lnTo>
                  <a:lnTo>
                    <a:pt x="1037" y="4056"/>
                  </a:lnTo>
                  <a:lnTo>
                    <a:pt x="1000" y="4080"/>
                  </a:lnTo>
                  <a:lnTo>
                    <a:pt x="964" y="4105"/>
                  </a:lnTo>
                  <a:lnTo>
                    <a:pt x="931" y="4129"/>
                  </a:lnTo>
                  <a:lnTo>
                    <a:pt x="899" y="4153"/>
                  </a:lnTo>
                  <a:lnTo>
                    <a:pt x="869" y="4176"/>
                  </a:lnTo>
                  <a:lnTo>
                    <a:pt x="839" y="4200"/>
                  </a:lnTo>
                  <a:lnTo>
                    <a:pt x="812" y="4225"/>
                  </a:lnTo>
                  <a:lnTo>
                    <a:pt x="788" y="4248"/>
                  </a:lnTo>
                  <a:lnTo>
                    <a:pt x="765" y="4272"/>
                  </a:lnTo>
                  <a:lnTo>
                    <a:pt x="745" y="4296"/>
                  </a:lnTo>
                  <a:lnTo>
                    <a:pt x="727" y="4320"/>
                  </a:lnTo>
                  <a:lnTo>
                    <a:pt x="712" y="4345"/>
                  </a:lnTo>
                  <a:lnTo>
                    <a:pt x="699" y="4369"/>
                  </a:lnTo>
                  <a:lnTo>
                    <a:pt x="690" y="4393"/>
                  </a:lnTo>
                  <a:lnTo>
                    <a:pt x="683" y="4417"/>
                  </a:lnTo>
                  <a:lnTo>
                    <a:pt x="679" y="4442"/>
                  </a:lnTo>
                  <a:lnTo>
                    <a:pt x="679" y="4467"/>
                  </a:lnTo>
                  <a:lnTo>
                    <a:pt x="682" y="4492"/>
                  </a:lnTo>
                  <a:lnTo>
                    <a:pt x="688" y="4517"/>
                  </a:lnTo>
                  <a:lnTo>
                    <a:pt x="698" y="4542"/>
                  </a:lnTo>
                  <a:lnTo>
                    <a:pt x="712" y="4568"/>
                  </a:lnTo>
                  <a:lnTo>
                    <a:pt x="730" y="4595"/>
                  </a:lnTo>
                  <a:lnTo>
                    <a:pt x="752" y="4621"/>
                  </a:lnTo>
                  <a:lnTo>
                    <a:pt x="778" y="4647"/>
                  </a:lnTo>
                  <a:lnTo>
                    <a:pt x="808" y="4673"/>
                  </a:lnTo>
                  <a:lnTo>
                    <a:pt x="842" y="4700"/>
                  </a:lnTo>
                  <a:lnTo>
                    <a:pt x="882" y="4728"/>
                  </a:lnTo>
                  <a:lnTo>
                    <a:pt x="922" y="4755"/>
                  </a:lnTo>
                  <a:lnTo>
                    <a:pt x="964" y="4782"/>
                  </a:lnTo>
                  <a:lnTo>
                    <a:pt x="1007" y="4809"/>
                  </a:lnTo>
                  <a:lnTo>
                    <a:pt x="1049" y="4836"/>
                  </a:lnTo>
                  <a:lnTo>
                    <a:pt x="1093" y="4862"/>
                  </a:lnTo>
                  <a:lnTo>
                    <a:pt x="1138" y="4887"/>
                  </a:lnTo>
                  <a:lnTo>
                    <a:pt x="1184" y="4912"/>
                  </a:lnTo>
                  <a:lnTo>
                    <a:pt x="1230" y="4935"/>
                  </a:lnTo>
                  <a:lnTo>
                    <a:pt x="1277" y="4960"/>
                  </a:lnTo>
                  <a:lnTo>
                    <a:pt x="1325" y="4982"/>
                  </a:lnTo>
                  <a:lnTo>
                    <a:pt x="1374" y="5004"/>
                  </a:lnTo>
                  <a:lnTo>
                    <a:pt x="1423" y="5024"/>
                  </a:lnTo>
                  <a:lnTo>
                    <a:pt x="1472" y="5044"/>
                  </a:lnTo>
                  <a:lnTo>
                    <a:pt x="1524" y="5064"/>
                  </a:lnTo>
                  <a:lnTo>
                    <a:pt x="1575" y="5082"/>
                  </a:lnTo>
                  <a:lnTo>
                    <a:pt x="1628" y="5098"/>
                  </a:lnTo>
                  <a:lnTo>
                    <a:pt x="1680" y="5113"/>
                  </a:lnTo>
                  <a:lnTo>
                    <a:pt x="1733" y="5128"/>
                  </a:lnTo>
                  <a:lnTo>
                    <a:pt x="1788" y="5140"/>
                  </a:lnTo>
                  <a:lnTo>
                    <a:pt x="1843" y="5152"/>
                  </a:lnTo>
                  <a:lnTo>
                    <a:pt x="1899" y="5162"/>
                  </a:lnTo>
                  <a:lnTo>
                    <a:pt x="1955" y="5170"/>
                  </a:lnTo>
                  <a:lnTo>
                    <a:pt x="2013" y="5177"/>
                  </a:lnTo>
                  <a:lnTo>
                    <a:pt x="2070" y="5183"/>
                  </a:lnTo>
                  <a:lnTo>
                    <a:pt x="2129" y="5187"/>
                  </a:lnTo>
                  <a:lnTo>
                    <a:pt x="2188" y="5189"/>
                  </a:lnTo>
                  <a:lnTo>
                    <a:pt x="2247" y="5189"/>
                  </a:lnTo>
                  <a:lnTo>
                    <a:pt x="2308" y="5187"/>
                  </a:lnTo>
                  <a:lnTo>
                    <a:pt x="2369" y="5183"/>
                  </a:lnTo>
                  <a:lnTo>
                    <a:pt x="2431" y="5176"/>
                  </a:lnTo>
                  <a:lnTo>
                    <a:pt x="2493" y="5169"/>
                  </a:lnTo>
                  <a:lnTo>
                    <a:pt x="2557" y="5159"/>
                  </a:lnTo>
                  <a:lnTo>
                    <a:pt x="2567" y="5156"/>
                  </a:lnTo>
                  <a:lnTo>
                    <a:pt x="2596" y="5147"/>
                  </a:lnTo>
                  <a:lnTo>
                    <a:pt x="2643" y="5135"/>
                  </a:lnTo>
                  <a:lnTo>
                    <a:pt x="2703" y="5119"/>
                  </a:lnTo>
                  <a:lnTo>
                    <a:pt x="2774" y="5101"/>
                  </a:lnTo>
                  <a:lnTo>
                    <a:pt x="2853" y="5082"/>
                  </a:lnTo>
                  <a:lnTo>
                    <a:pt x="2939" y="5063"/>
                  </a:lnTo>
                  <a:lnTo>
                    <a:pt x="3028" y="5044"/>
                  </a:lnTo>
                  <a:lnTo>
                    <a:pt x="3073" y="5035"/>
                  </a:lnTo>
                  <a:lnTo>
                    <a:pt x="3117" y="5028"/>
                  </a:lnTo>
                  <a:lnTo>
                    <a:pt x="3162" y="5021"/>
                  </a:lnTo>
                  <a:lnTo>
                    <a:pt x="3205" y="5015"/>
                  </a:lnTo>
                  <a:lnTo>
                    <a:pt x="3246" y="5010"/>
                  </a:lnTo>
                  <a:lnTo>
                    <a:pt x="3287" y="5006"/>
                  </a:lnTo>
                  <a:lnTo>
                    <a:pt x="3326" y="5003"/>
                  </a:lnTo>
                  <a:lnTo>
                    <a:pt x="3362" y="5002"/>
                  </a:lnTo>
                  <a:lnTo>
                    <a:pt x="3397" y="5003"/>
                  </a:lnTo>
                  <a:lnTo>
                    <a:pt x="3428" y="5005"/>
                  </a:lnTo>
                  <a:lnTo>
                    <a:pt x="3455" y="5009"/>
                  </a:lnTo>
                  <a:lnTo>
                    <a:pt x="3480" y="5015"/>
                  </a:lnTo>
                  <a:lnTo>
                    <a:pt x="3500" y="5023"/>
                  </a:lnTo>
                  <a:lnTo>
                    <a:pt x="3517" y="5033"/>
                  </a:lnTo>
                  <a:lnTo>
                    <a:pt x="3529" y="5046"/>
                  </a:lnTo>
                  <a:lnTo>
                    <a:pt x="3536" y="5062"/>
                  </a:lnTo>
                  <a:lnTo>
                    <a:pt x="3540" y="5077"/>
                  </a:lnTo>
                  <a:lnTo>
                    <a:pt x="3541" y="5092"/>
                  </a:lnTo>
                  <a:lnTo>
                    <a:pt x="3540" y="5106"/>
                  </a:lnTo>
                  <a:lnTo>
                    <a:pt x="3537" y="5118"/>
                  </a:lnTo>
                  <a:lnTo>
                    <a:pt x="3532" y="5130"/>
                  </a:lnTo>
                  <a:lnTo>
                    <a:pt x="3526" y="5141"/>
                  </a:lnTo>
                  <a:lnTo>
                    <a:pt x="3518" y="5151"/>
                  </a:lnTo>
                  <a:lnTo>
                    <a:pt x="3508" y="5161"/>
                  </a:lnTo>
                  <a:lnTo>
                    <a:pt x="3498" y="5170"/>
                  </a:lnTo>
                  <a:lnTo>
                    <a:pt x="3486" y="5178"/>
                  </a:lnTo>
                  <a:lnTo>
                    <a:pt x="3474" y="5187"/>
                  </a:lnTo>
                  <a:lnTo>
                    <a:pt x="3461" y="5195"/>
                  </a:lnTo>
                  <a:lnTo>
                    <a:pt x="3433" y="5209"/>
                  </a:lnTo>
                  <a:lnTo>
                    <a:pt x="3404" y="5223"/>
                  </a:lnTo>
                  <a:lnTo>
                    <a:pt x="3374" y="5237"/>
                  </a:lnTo>
                  <a:lnTo>
                    <a:pt x="3346" y="5251"/>
                  </a:lnTo>
                  <a:lnTo>
                    <a:pt x="3333" y="5259"/>
                  </a:lnTo>
                  <a:lnTo>
                    <a:pt x="3321" y="5267"/>
                  </a:lnTo>
                  <a:lnTo>
                    <a:pt x="3310" y="5275"/>
                  </a:lnTo>
                  <a:lnTo>
                    <a:pt x="3299" y="5284"/>
                  </a:lnTo>
                  <a:lnTo>
                    <a:pt x="3290" y="5294"/>
                  </a:lnTo>
                  <a:lnTo>
                    <a:pt x="3282" y="5305"/>
                  </a:lnTo>
                  <a:lnTo>
                    <a:pt x="3276" y="5316"/>
                  </a:lnTo>
                  <a:lnTo>
                    <a:pt x="3271" y="5328"/>
                  </a:lnTo>
                  <a:lnTo>
                    <a:pt x="3268" y="5340"/>
                  </a:lnTo>
                  <a:lnTo>
                    <a:pt x="3267" y="5354"/>
                  </a:lnTo>
                  <a:lnTo>
                    <a:pt x="3269" y="5369"/>
                  </a:lnTo>
                  <a:lnTo>
                    <a:pt x="3272" y="5384"/>
                  </a:lnTo>
                  <a:lnTo>
                    <a:pt x="3276" y="5401"/>
                  </a:lnTo>
                  <a:lnTo>
                    <a:pt x="3281" y="5417"/>
                  </a:lnTo>
                  <a:lnTo>
                    <a:pt x="3288" y="5434"/>
                  </a:lnTo>
                  <a:lnTo>
                    <a:pt x="3294" y="5450"/>
                  </a:lnTo>
                  <a:lnTo>
                    <a:pt x="3310" y="5481"/>
                  </a:lnTo>
                  <a:lnTo>
                    <a:pt x="3326" y="5511"/>
                  </a:lnTo>
                  <a:lnTo>
                    <a:pt x="3341" y="5542"/>
                  </a:lnTo>
                  <a:lnTo>
                    <a:pt x="3356" y="5572"/>
                  </a:lnTo>
                  <a:lnTo>
                    <a:pt x="3362" y="5586"/>
                  </a:lnTo>
                  <a:lnTo>
                    <a:pt x="3367" y="5601"/>
                  </a:lnTo>
                  <a:lnTo>
                    <a:pt x="3371" y="5615"/>
                  </a:lnTo>
                  <a:lnTo>
                    <a:pt x="3374" y="5629"/>
                  </a:lnTo>
                  <a:lnTo>
                    <a:pt x="3376" y="5643"/>
                  </a:lnTo>
                  <a:lnTo>
                    <a:pt x="3376" y="5657"/>
                  </a:lnTo>
                  <a:lnTo>
                    <a:pt x="3374" y="5672"/>
                  </a:lnTo>
                  <a:lnTo>
                    <a:pt x="3370" y="5686"/>
                  </a:lnTo>
                  <a:lnTo>
                    <a:pt x="3365" y="5700"/>
                  </a:lnTo>
                  <a:lnTo>
                    <a:pt x="3357" y="5713"/>
                  </a:lnTo>
                  <a:lnTo>
                    <a:pt x="3347" y="5727"/>
                  </a:lnTo>
                  <a:lnTo>
                    <a:pt x="3335" y="5740"/>
                  </a:lnTo>
                  <a:lnTo>
                    <a:pt x="3320" y="5753"/>
                  </a:lnTo>
                  <a:lnTo>
                    <a:pt x="3302" y="5766"/>
                  </a:lnTo>
                  <a:lnTo>
                    <a:pt x="3281" y="5781"/>
                  </a:lnTo>
                  <a:lnTo>
                    <a:pt x="3256" y="5794"/>
                  </a:lnTo>
                  <a:lnTo>
                    <a:pt x="3228" y="5807"/>
                  </a:lnTo>
                  <a:lnTo>
                    <a:pt x="3198" y="5819"/>
                  </a:lnTo>
                  <a:lnTo>
                    <a:pt x="3163" y="5832"/>
                  </a:lnTo>
                  <a:lnTo>
                    <a:pt x="3124" y="5845"/>
                  </a:lnTo>
                  <a:lnTo>
                    <a:pt x="3082" y="5859"/>
                  </a:lnTo>
                  <a:lnTo>
                    <a:pt x="3037" y="5871"/>
                  </a:lnTo>
                  <a:lnTo>
                    <a:pt x="2988" y="5884"/>
                  </a:lnTo>
                  <a:lnTo>
                    <a:pt x="2938" y="5896"/>
                  </a:lnTo>
                  <a:lnTo>
                    <a:pt x="2831" y="5921"/>
                  </a:lnTo>
                  <a:lnTo>
                    <a:pt x="2719" y="5944"/>
                  </a:lnTo>
                  <a:lnTo>
                    <a:pt x="2603" y="5968"/>
                  </a:lnTo>
                  <a:lnTo>
                    <a:pt x="2485" y="5992"/>
                  </a:lnTo>
                  <a:lnTo>
                    <a:pt x="2426" y="6005"/>
                  </a:lnTo>
                  <a:lnTo>
                    <a:pt x="2367" y="6018"/>
                  </a:lnTo>
                  <a:lnTo>
                    <a:pt x="2310" y="6033"/>
                  </a:lnTo>
                  <a:lnTo>
                    <a:pt x="2253" y="6047"/>
                  </a:lnTo>
                  <a:lnTo>
                    <a:pt x="2197" y="6063"/>
                  </a:lnTo>
                  <a:lnTo>
                    <a:pt x="2143" y="6079"/>
                  </a:lnTo>
                  <a:lnTo>
                    <a:pt x="2089" y="6096"/>
                  </a:lnTo>
                  <a:lnTo>
                    <a:pt x="2039" y="6113"/>
                  </a:lnTo>
                  <a:lnTo>
                    <a:pt x="1990" y="6132"/>
                  </a:lnTo>
                  <a:lnTo>
                    <a:pt x="1944" y="6153"/>
                  </a:lnTo>
                  <a:lnTo>
                    <a:pt x="1901" y="6174"/>
                  </a:lnTo>
                  <a:lnTo>
                    <a:pt x="1860" y="6197"/>
                  </a:lnTo>
                  <a:lnTo>
                    <a:pt x="1823" y="6220"/>
                  </a:lnTo>
                  <a:lnTo>
                    <a:pt x="1789" y="6246"/>
                  </a:lnTo>
                  <a:lnTo>
                    <a:pt x="1759" y="6273"/>
                  </a:lnTo>
                  <a:lnTo>
                    <a:pt x="1733" y="6301"/>
                  </a:lnTo>
                  <a:lnTo>
                    <a:pt x="1711" y="6331"/>
                  </a:lnTo>
                  <a:lnTo>
                    <a:pt x="1694" y="6363"/>
                  </a:lnTo>
                  <a:lnTo>
                    <a:pt x="1682" y="6398"/>
                  </a:lnTo>
                  <a:lnTo>
                    <a:pt x="1675" y="6433"/>
                  </a:lnTo>
                  <a:lnTo>
                    <a:pt x="1677" y="6433"/>
                  </a:lnTo>
                  <a:lnTo>
                    <a:pt x="1682" y="6432"/>
                  </a:lnTo>
                  <a:lnTo>
                    <a:pt x="1688" y="6432"/>
                  </a:lnTo>
                  <a:lnTo>
                    <a:pt x="1694" y="6432"/>
                  </a:lnTo>
                  <a:lnTo>
                    <a:pt x="1695" y="6433"/>
                  </a:lnTo>
                  <a:lnTo>
                    <a:pt x="1696" y="6434"/>
                  </a:lnTo>
                  <a:lnTo>
                    <a:pt x="1696" y="6435"/>
                  </a:lnTo>
                  <a:lnTo>
                    <a:pt x="1695" y="6436"/>
                  </a:lnTo>
                  <a:lnTo>
                    <a:pt x="1687" y="6441"/>
                  </a:lnTo>
                  <a:lnTo>
                    <a:pt x="1671" y="6448"/>
                  </a:lnTo>
                  <a:lnTo>
                    <a:pt x="1646" y="6457"/>
                  </a:lnTo>
                  <a:lnTo>
                    <a:pt x="1607" y="6470"/>
                  </a:lnTo>
                  <a:lnTo>
                    <a:pt x="1556" y="6487"/>
                  </a:lnTo>
                  <a:lnTo>
                    <a:pt x="1488" y="6508"/>
                  </a:lnTo>
                  <a:lnTo>
                    <a:pt x="1405" y="6533"/>
                  </a:lnTo>
                  <a:lnTo>
                    <a:pt x="1301" y="6563"/>
                  </a:lnTo>
                  <a:lnTo>
                    <a:pt x="1176" y="6597"/>
                  </a:lnTo>
                  <a:lnTo>
                    <a:pt x="1029" y="6639"/>
                  </a:lnTo>
                  <a:lnTo>
                    <a:pt x="875" y="6682"/>
                  </a:lnTo>
                  <a:lnTo>
                    <a:pt x="734" y="6721"/>
                  </a:lnTo>
                  <a:lnTo>
                    <a:pt x="669" y="6742"/>
                  </a:lnTo>
                  <a:lnTo>
                    <a:pt x="607" y="6760"/>
                  </a:lnTo>
                  <a:lnTo>
                    <a:pt x="548" y="6779"/>
                  </a:lnTo>
                  <a:lnTo>
                    <a:pt x="493" y="6797"/>
                  </a:lnTo>
                  <a:lnTo>
                    <a:pt x="440" y="6815"/>
                  </a:lnTo>
                  <a:lnTo>
                    <a:pt x="392" y="6832"/>
                  </a:lnTo>
                  <a:lnTo>
                    <a:pt x="345" y="6850"/>
                  </a:lnTo>
                  <a:lnTo>
                    <a:pt x="304" y="6868"/>
                  </a:lnTo>
                  <a:lnTo>
                    <a:pt x="265" y="6886"/>
                  </a:lnTo>
                  <a:lnTo>
                    <a:pt x="228" y="6903"/>
                  </a:lnTo>
                  <a:lnTo>
                    <a:pt x="196" y="6921"/>
                  </a:lnTo>
                  <a:lnTo>
                    <a:pt x="168" y="6939"/>
                  </a:lnTo>
                  <a:lnTo>
                    <a:pt x="142" y="6957"/>
                  </a:lnTo>
                  <a:lnTo>
                    <a:pt x="120" y="6975"/>
                  </a:lnTo>
                  <a:lnTo>
                    <a:pt x="100" y="6995"/>
                  </a:lnTo>
                  <a:lnTo>
                    <a:pt x="85" y="7015"/>
                  </a:lnTo>
                  <a:lnTo>
                    <a:pt x="73" y="7034"/>
                  </a:lnTo>
                  <a:lnTo>
                    <a:pt x="64" y="7055"/>
                  </a:lnTo>
                  <a:lnTo>
                    <a:pt x="59" y="7076"/>
                  </a:lnTo>
                  <a:lnTo>
                    <a:pt x="57" y="7098"/>
                  </a:lnTo>
                  <a:lnTo>
                    <a:pt x="59" y="7121"/>
                  </a:lnTo>
                  <a:lnTo>
                    <a:pt x="63" y="7144"/>
                  </a:lnTo>
                  <a:lnTo>
                    <a:pt x="72" y="7168"/>
                  </a:lnTo>
                  <a:lnTo>
                    <a:pt x="84" y="7193"/>
                  </a:lnTo>
                  <a:lnTo>
                    <a:pt x="99" y="7220"/>
                  </a:lnTo>
                  <a:lnTo>
                    <a:pt x="119" y="7247"/>
                  </a:lnTo>
                  <a:lnTo>
                    <a:pt x="141" y="7276"/>
                  </a:lnTo>
                  <a:lnTo>
                    <a:pt x="166" y="7305"/>
                  </a:lnTo>
                  <a:lnTo>
                    <a:pt x="177" y="7311"/>
                  </a:lnTo>
                  <a:lnTo>
                    <a:pt x="209" y="7329"/>
                  </a:lnTo>
                  <a:lnTo>
                    <a:pt x="259" y="7356"/>
                  </a:lnTo>
                  <a:lnTo>
                    <a:pt x="324" y="7387"/>
                  </a:lnTo>
                  <a:lnTo>
                    <a:pt x="363" y="7405"/>
                  </a:lnTo>
                  <a:lnTo>
                    <a:pt x="403" y="7422"/>
                  </a:lnTo>
                  <a:lnTo>
                    <a:pt x="446" y="7440"/>
                  </a:lnTo>
                  <a:lnTo>
                    <a:pt x="493" y="7459"/>
                  </a:lnTo>
                  <a:lnTo>
                    <a:pt x="541" y="7476"/>
                  </a:lnTo>
                  <a:lnTo>
                    <a:pt x="591" y="7492"/>
                  </a:lnTo>
                  <a:lnTo>
                    <a:pt x="643" y="7507"/>
                  </a:lnTo>
                  <a:lnTo>
                    <a:pt x="695" y="7521"/>
                  </a:lnTo>
                  <a:lnTo>
                    <a:pt x="690" y="7526"/>
                  </a:lnTo>
                  <a:lnTo>
                    <a:pt x="677" y="7540"/>
                  </a:lnTo>
                  <a:lnTo>
                    <a:pt x="658" y="7563"/>
                  </a:lnTo>
                  <a:lnTo>
                    <a:pt x="633" y="7595"/>
                  </a:lnTo>
                  <a:lnTo>
                    <a:pt x="620" y="7613"/>
                  </a:lnTo>
                  <a:lnTo>
                    <a:pt x="606" y="7632"/>
                  </a:lnTo>
                  <a:lnTo>
                    <a:pt x="592" y="7653"/>
                  </a:lnTo>
                  <a:lnTo>
                    <a:pt x="578" y="7676"/>
                  </a:lnTo>
                  <a:lnTo>
                    <a:pt x="565" y="7700"/>
                  </a:lnTo>
                  <a:lnTo>
                    <a:pt x="552" y="7725"/>
                  </a:lnTo>
                  <a:lnTo>
                    <a:pt x="540" y="7751"/>
                  </a:lnTo>
                  <a:lnTo>
                    <a:pt x="529" y="7778"/>
                  </a:lnTo>
                  <a:lnTo>
                    <a:pt x="519" y="7806"/>
                  </a:lnTo>
                  <a:lnTo>
                    <a:pt x="511" y="7835"/>
                  </a:lnTo>
                  <a:lnTo>
                    <a:pt x="504" y="7864"/>
                  </a:lnTo>
                  <a:lnTo>
                    <a:pt x="500" y="7894"/>
                  </a:lnTo>
                  <a:lnTo>
                    <a:pt x="497" y="7924"/>
                  </a:lnTo>
                  <a:lnTo>
                    <a:pt x="497" y="7955"/>
                  </a:lnTo>
                  <a:lnTo>
                    <a:pt x="500" y="7986"/>
                  </a:lnTo>
                  <a:lnTo>
                    <a:pt x="506" y="8017"/>
                  </a:lnTo>
                  <a:lnTo>
                    <a:pt x="514" y="8048"/>
                  </a:lnTo>
                  <a:lnTo>
                    <a:pt x="526" y="8079"/>
                  </a:lnTo>
                  <a:lnTo>
                    <a:pt x="542" y="8110"/>
                  </a:lnTo>
                  <a:lnTo>
                    <a:pt x="562" y="8140"/>
                  </a:lnTo>
                  <a:lnTo>
                    <a:pt x="586" y="8169"/>
                  </a:lnTo>
                  <a:lnTo>
                    <a:pt x="615" y="8199"/>
                  </a:lnTo>
                  <a:lnTo>
                    <a:pt x="648" y="8228"/>
                  </a:lnTo>
                  <a:lnTo>
                    <a:pt x="685" y="8256"/>
                  </a:lnTo>
                  <a:lnTo>
                    <a:pt x="706" y="8257"/>
                  </a:lnTo>
                  <a:lnTo>
                    <a:pt x="764" y="8262"/>
                  </a:lnTo>
                  <a:lnTo>
                    <a:pt x="846" y="8268"/>
                  </a:lnTo>
                  <a:lnTo>
                    <a:pt x="947" y="8276"/>
                  </a:lnTo>
                  <a:lnTo>
                    <a:pt x="1057" y="8285"/>
                  </a:lnTo>
                  <a:lnTo>
                    <a:pt x="1165" y="8294"/>
                  </a:lnTo>
                  <a:lnTo>
                    <a:pt x="1263" y="8300"/>
                  </a:lnTo>
                  <a:lnTo>
                    <a:pt x="1342" y="8305"/>
                  </a:lnTo>
                  <a:lnTo>
                    <a:pt x="1347" y="8317"/>
                  </a:lnTo>
                  <a:lnTo>
                    <a:pt x="1361" y="8351"/>
                  </a:lnTo>
                  <a:lnTo>
                    <a:pt x="1369" y="8375"/>
                  </a:lnTo>
                  <a:lnTo>
                    <a:pt x="1378" y="8404"/>
                  </a:lnTo>
                  <a:lnTo>
                    <a:pt x="1386" y="8437"/>
                  </a:lnTo>
                  <a:lnTo>
                    <a:pt x="1394" y="8474"/>
                  </a:lnTo>
                  <a:lnTo>
                    <a:pt x="1396" y="8493"/>
                  </a:lnTo>
                  <a:lnTo>
                    <a:pt x="1399" y="8514"/>
                  </a:lnTo>
                  <a:lnTo>
                    <a:pt x="1401" y="8536"/>
                  </a:lnTo>
                  <a:lnTo>
                    <a:pt x="1402" y="8558"/>
                  </a:lnTo>
                  <a:lnTo>
                    <a:pt x="1403" y="8580"/>
                  </a:lnTo>
                  <a:lnTo>
                    <a:pt x="1403" y="8604"/>
                  </a:lnTo>
                  <a:lnTo>
                    <a:pt x="1402" y="8627"/>
                  </a:lnTo>
                  <a:lnTo>
                    <a:pt x="1400" y="8653"/>
                  </a:lnTo>
                  <a:lnTo>
                    <a:pt x="1397" y="8678"/>
                  </a:lnTo>
                  <a:lnTo>
                    <a:pt x="1393" y="8703"/>
                  </a:lnTo>
                  <a:lnTo>
                    <a:pt x="1388" y="8729"/>
                  </a:lnTo>
                  <a:lnTo>
                    <a:pt x="1382" y="8755"/>
                  </a:lnTo>
                  <a:lnTo>
                    <a:pt x="1374" y="8782"/>
                  </a:lnTo>
                  <a:lnTo>
                    <a:pt x="1364" y="8809"/>
                  </a:lnTo>
                  <a:lnTo>
                    <a:pt x="1353" y="8836"/>
                  </a:lnTo>
                  <a:lnTo>
                    <a:pt x="1342" y="8863"/>
                  </a:lnTo>
                  <a:lnTo>
                    <a:pt x="1343" y="8866"/>
                  </a:lnTo>
                  <a:lnTo>
                    <a:pt x="1349" y="8873"/>
                  </a:lnTo>
                  <a:lnTo>
                    <a:pt x="1359" y="8883"/>
                  </a:lnTo>
                  <a:lnTo>
                    <a:pt x="1374" y="8896"/>
                  </a:lnTo>
                  <a:lnTo>
                    <a:pt x="1382" y="8903"/>
                  </a:lnTo>
                  <a:lnTo>
                    <a:pt x="1392" y="8910"/>
                  </a:lnTo>
                  <a:lnTo>
                    <a:pt x="1402" y="8917"/>
                  </a:lnTo>
                  <a:lnTo>
                    <a:pt x="1414" y="8924"/>
                  </a:lnTo>
                  <a:lnTo>
                    <a:pt x="1427" y="8930"/>
                  </a:lnTo>
                  <a:lnTo>
                    <a:pt x="1442" y="8936"/>
                  </a:lnTo>
                  <a:lnTo>
                    <a:pt x="1457" y="8942"/>
                  </a:lnTo>
                  <a:lnTo>
                    <a:pt x="1474" y="8947"/>
                  </a:lnTo>
                  <a:lnTo>
                    <a:pt x="1492" y="8951"/>
                  </a:lnTo>
                  <a:lnTo>
                    <a:pt x="1512" y="8954"/>
                  </a:lnTo>
                  <a:lnTo>
                    <a:pt x="1532" y="8956"/>
                  </a:lnTo>
                  <a:lnTo>
                    <a:pt x="1554" y="8957"/>
                  </a:lnTo>
                  <a:lnTo>
                    <a:pt x="1577" y="8957"/>
                  </a:lnTo>
                  <a:lnTo>
                    <a:pt x="1602" y="8955"/>
                  </a:lnTo>
                  <a:lnTo>
                    <a:pt x="1629" y="8951"/>
                  </a:lnTo>
                  <a:lnTo>
                    <a:pt x="1656" y="8946"/>
                  </a:lnTo>
                  <a:lnTo>
                    <a:pt x="1685" y="8939"/>
                  </a:lnTo>
                  <a:lnTo>
                    <a:pt x="1715" y="8930"/>
                  </a:lnTo>
                  <a:lnTo>
                    <a:pt x="1747" y="8919"/>
                  </a:lnTo>
                  <a:lnTo>
                    <a:pt x="1781" y="8905"/>
                  </a:lnTo>
                  <a:lnTo>
                    <a:pt x="1815" y="8888"/>
                  </a:lnTo>
                  <a:lnTo>
                    <a:pt x="1852" y="8870"/>
                  </a:lnTo>
                  <a:lnTo>
                    <a:pt x="1890" y="8848"/>
                  </a:lnTo>
                  <a:lnTo>
                    <a:pt x="1930" y="8824"/>
                  </a:lnTo>
                  <a:lnTo>
                    <a:pt x="1944" y="8822"/>
                  </a:lnTo>
                  <a:lnTo>
                    <a:pt x="1980" y="8819"/>
                  </a:lnTo>
                  <a:lnTo>
                    <a:pt x="2004" y="8818"/>
                  </a:lnTo>
                  <a:lnTo>
                    <a:pt x="2030" y="8819"/>
                  </a:lnTo>
                  <a:lnTo>
                    <a:pt x="2043" y="8820"/>
                  </a:lnTo>
                  <a:lnTo>
                    <a:pt x="2056" y="8821"/>
                  </a:lnTo>
                  <a:lnTo>
                    <a:pt x="2069" y="8823"/>
                  </a:lnTo>
                  <a:lnTo>
                    <a:pt x="2082" y="8825"/>
                  </a:lnTo>
                  <a:lnTo>
                    <a:pt x="2095" y="8829"/>
                  </a:lnTo>
                  <a:lnTo>
                    <a:pt x="2108" y="8833"/>
                  </a:lnTo>
                  <a:lnTo>
                    <a:pt x="2119" y="8838"/>
                  </a:lnTo>
                  <a:lnTo>
                    <a:pt x="2131" y="8844"/>
                  </a:lnTo>
                  <a:lnTo>
                    <a:pt x="2141" y="8851"/>
                  </a:lnTo>
                  <a:lnTo>
                    <a:pt x="2151" y="8858"/>
                  </a:lnTo>
                  <a:lnTo>
                    <a:pt x="2159" y="8867"/>
                  </a:lnTo>
                  <a:lnTo>
                    <a:pt x="2165" y="8878"/>
                  </a:lnTo>
                  <a:lnTo>
                    <a:pt x="2170" y="8889"/>
                  </a:lnTo>
                  <a:lnTo>
                    <a:pt x="2174" y="8903"/>
                  </a:lnTo>
                  <a:lnTo>
                    <a:pt x="2176" y="8917"/>
                  </a:lnTo>
                  <a:lnTo>
                    <a:pt x="2176" y="8932"/>
                  </a:lnTo>
                  <a:lnTo>
                    <a:pt x="2174" y="8949"/>
                  </a:lnTo>
                  <a:lnTo>
                    <a:pt x="2170" y="8968"/>
                  </a:lnTo>
                  <a:lnTo>
                    <a:pt x="2164" y="8988"/>
                  </a:lnTo>
                  <a:lnTo>
                    <a:pt x="2155" y="9011"/>
                  </a:lnTo>
                  <a:lnTo>
                    <a:pt x="2155" y="9016"/>
                  </a:lnTo>
                  <a:lnTo>
                    <a:pt x="2156" y="9029"/>
                  </a:lnTo>
                  <a:lnTo>
                    <a:pt x="2159" y="9049"/>
                  </a:lnTo>
                  <a:lnTo>
                    <a:pt x="2164" y="9075"/>
                  </a:lnTo>
                  <a:lnTo>
                    <a:pt x="2169" y="9089"/>
                  </a:lnTo>
                  <a:lnTo>
                    <a:pt x="2174" y="9103"/>
                  </a:lnTo>
                  <a:lnTo>
                    <a:pt x="2180" y="9119"/>
                  </a:lnTo>
                  <a:lnTo>
                    <a:pt x="2188" y="9135"/>
                  </a:lnTo>
                  <a:lnTo>
                    <a:pt x="2198" y="9150"/>
                  </a:lnTo>
                  <a:lnTo>
                    <a:pt x="2209" y="9165"/>
                  </a:lnTo>
                  <a:lnTo>
                    <a:pt x="2222" y="9180"/>
                  </a:lnTo>
                  <a:lnTo>
                    <a:pt x="2237" y="9194"/>
                  </a:lnTo>
                  <a:lnTo>
                    <a:pt x="2254" y="9207"/>
                  </a:lnTo>
                  <a:lnTo>
                    <a:pt x="2273" y="9220"/>
                  </a:lnTo>
                  <a:lnTo>
                    <a:pt x="2294" y="9230"/>
                  </a:lnTo>
                  <a:lnTo>
                    <a:pt x="2318" y="9240"/>
                  </a:lnTo>
                  <a:lnTo>
                    <a:pt x="2344" y="9247"/>
                  </a:lnTo>
                  <a:lnTo>
                    <a:pt x="2373" y="9254"/>
                  </a:lnTo>
                  <a:lnTo>
                    <a:pt x="2405" y="9258"/>
                  </a:lnTo>
                  <a:lnTo>
                    <a:pt x="2440" y="9259"/>
                  </a:lnTo>
                  <a:lnTo>
                    <a:pt x="2478" y="9258"/>
                  </a:lnTo>
                  <a:lnTo>
                    <a:pt x="2519" y="9254"/>
                  </a:lnTo>
                  <a:lnTo>
                    <a:pt x="2563" y="9246"/>
                  </a:lnTo>
                  <a:lnTo>
                    <a:pt x="2611" y="9235"/>
                  </a:lnTo>
                  <a:lnTo>
                    <a:pt x="2663" y="9221"/>
                  </a:lnTo>
                  <a:lnTo>
                    <a:pt x="2718" y="9204"/>
                  </a:lnTo>
                  <a:lnTo>
                    <a:pt x="2778" y="9183"/>
                  </a:lnTo>
                  <a:lnTo>
                    <a:pt x="2840" y="9158"/>
                  </a:lnTo>
                  <a:lnTo>
                    <a:pt x="2850" y="9153"/>
                  </a:lnTo>
                  <a:lnTo>
                    <a:pt x="2875" y="9139"/>
                  </a:lnTo>
                  <a:lnTo>
                    <a:pt x="2916" y="9116"/>
                  </a:lnTo>
                  <a:lnTo>
                    <a:pt x="2967" y="9090"/>
                  </a:lnTo>
                  <a:lnTo>
                    <a:pt x="3028" y="9060"/>
                  </a:lnTo>
                  <a:lnTo>
                    <a:pt x="3094" y="9028"/>
                  </a:lnTo>
                  <a:lnTo>
                    <a:pt x="3165" y="8994"/>
                  </a:lnTo>
                  <a:lnTo>
                    <a:pt x="3236" y="8964"/>
                  </a:lnTo>
                  <a:lnTo>
                    <a:pt x="3272" y="8950"/>
                  </a:lnTo>
                  <a:lnTo>
                    <a:pt x="3306" y="8937"/>
                  </a:lnTo>
                  <a:lnTo>
                    <a:pt x="3340" y="8925"/>
                  </a:lnTo>
                  <a:lnTo>
                    <a:pt x="3372" y="8915"/>
                  </a:lnTo>
                  <a:lnTo>
                    <a:pt x="3403" y="8906"/>
                  </a:lnTo>
                  <a:lnTo>
                    <a:pt x="3431" y="8900"/>
                  </a:lnTo>
                  <a:lnTo>
                    <a:pt x="3457" y="8895"/>
                  </a:lnTo>
                  <a:lnTo>
                    <a:pt x="3481" y="8893"/>
                  </a:lnTo>
                  <a:lnTo>
                    <a:pt x="3501" y="8894"/>
                  </a:lnTo>
                  <a:lnTo>
                    <a:pt x="3520" y="8898"/>
                  </a:lnTo>
                  <a:lnTo>
                    <a:pt x="3533" y="8904"/>
                  </a:lnTo>
                  <a:lnTo>
                    <a:pt x="3543" y="8914"/>
                  </a:lnTo>
                  <a:lnTo>
                    <a:pt x="3548" y="8927"/>
                  </a:lnTo>
                  <a:lnTo>
                    <a:pt x="3549" y="8944"/>
                  </a:lnTo>
                  <a:lnTo>
                    <a:pt x="3545" y="8965"/>
                  </a:lnTo>
                  <a:lnTo>
                    <a:pt x="3536" y="8990"/>
                  </a:lnTo>
                  <a:lnTo>
                    <a:pt x="3532" y="8997"/>
                  </a:lnTo>
                  <a:lnTo>
                    <a:pt x="3520" y="9015"/>
                  </a:lnTo>
                  <a:lnTo>
                    <a:pt x="3499" y="9042"/>
                  </a:lnTo>
                  <a:lnTo>
                    <a:pt x="3473" y="9078"/>
                  </a:lnTo>
                  <a:lnTo>
                    <a:pt x="3439" y="9122"/>
                  </a:lnTo>
                  <a:lnTo>
                    <a:pt x="3400" y="9173"/>
                  </a:lnTo>
                  <a:lnTo>
                    <a:pt x="3354" y="9229"/>
                  </a:lnTo>
                  <a:lnTo>
                    <a:pt x="3304" y="9289"/>
                  </a:lnTo>
                  <a:lnTo>
                    <a:pt x="3276" y="9319"/>
                  </a:lnTo>
                  <a:lnTo>
                    <a:pt x="3247" y="9350"/>
                  </a:lnTo>
                  <a:lnTo>
                    <a:pt x="3218" y="9383"/>
                  </a:lnTo>
                  <a:lnTo>
                    <a:pt x="3188" y="9414"/>
                  </a:lnTo>
                  <a:lnTo>
                    <a:pt x="3157" y="9446"/>
                  </a:lnTo>
                  <a:lnTo>
                    <a:pt x="3124" y="9478"/>
                  </a:lnTo>
                  <a:lnTo>
                    <a:pt x="3091" y="9510"/>
                  </a:lnTo>
                  <a:lnTo>
                    <a:pt x="3057" y="9541"/>
                  </a:lnTo>
                  <a:lnTo>
                    <a:pt x="3022" y="9571"/>
                  </a:lnTo>
                  <a:lnTo>
                    <a:pt x="2986" y="9601"/>
                  </a:lnTo>
                  <a:lnTo>
                    <a:pt x="2950" y="9630"/>
                  </a:lnTo>
                  <a:lnTo>
                    <a:pt x="2914" y="9658"/>
                  </a:lnTo>
                  <a:lnTo>
                    <a:pt x="2876" y="9684"/>
                  </a:lnTo>
                  <a:lnTo>
                    <a:pt x="2839" y="9709"/>
                  </a:lnTo>
                  <a:lnTo>
                    <a:pt x="2801" y="9734"/>
                  </a:lnTo>
                  <a:lnTo>
                    <a:pt x="2763" y="9755"/>
                  </a:lnTo>
                  <a:lnTo>
                    <a:pt x="2748" y="9760"/>
                  </a:lnTo>
                  <a:lnTo>
                    <a:pt x="2707" y="9774"/>
                  </a:lnTo>
                  <a:lnTo>
                    <a:pt x="2643" y="9796"/>
                  </a:lnTo>
                  <a:lnTo>
                    <a:pt x="2558" y="9826"/>
                  </a:lnTo>
                  <a:lnTo>
                    <a:pt x="2455" y="9864"/>
                  </a:lnTo>
                  <a:lnTo>
                    <a:pt x="2337" y="9907"/>
                  </a:lnTo>
                  <a:lnTo>
                    <a:pt x="2208" y="9955"/>
                  </a:lnTo>
                  <a:lnTo>
                    <a:pt x="2069" y="10009"/>
                  </a:lnTo>
                  <a:lnTo>
                    <a:pt x="1924" y="10066"/>
                  </a:lnTo>
                  <a:lnTo>
                    <a:pt x="1776" y="10127"/>
                  </a:lnTo>
                  <a:lnTo>
                    <a:pt x="1701" y="10158"/>
                  </a:lnTo>
                  <a:lnTo>
                    <a:pt x="1628" y="10190"/>
                  </a:lnTo>
                  <a:lnTo>
                    <a:pt x="1554" y="10223"/>
                  </a:lnTo>
                  <a:lnTo>
                    <a:pt x="1481" y="10256"/>
                  </a:lnTo>
                  <a:lnTo>
                    <a:pt x="1410" y="10288"/>
                  </a:lnTo>
                  <a:lnTo>
                    <a:pt x="1340" y="10321"/>
                  </a:lnTo>
                  <a:lnTo>
                    <a:pt x="1273" y="10355"/>
                  </a:lnTo>
                  <a:lnTo>
                    <a:pt x="1208" y="10388"/>
                  </a:lnTo>
                  <a:lnTo>
                    <a:pt x="1146" y="10421"/>
                  </a:lnTo>
                  <a:lnTo>
                    <a:pt x="1086" y="10455"/>
                  </a:lnTo>
                  <a:lnTo>
                    <a:pt x="1031" y="10487"/>
                  </a:lnTo>
                  <a:lnTo>
                    <a:pt x="979" y="10519"/>
                  </a:lnTo>
                  <a:lnTo>
                    <a:pt x="971" y="10521"/>
                  </a:lnTo>
                  <a:lnTo>
                    <a:pt x="950" y="10525"/>
                  </a:lnTo>
                  <a:lnTo>
                    <a:pt x="915" y="10533"/>
                  </a:lnTo>
                  <a:lnTo>
                    <a:pt x="869" y="10543"/>
                  </a:lnTo>
                  <a:lnTo>
                    <a:pt x="813" y="10557"/>
                  </a:lnTo>
                  <a:lnTo>
                    <a:pt x="750" y="10575"/>
                  </a:lnTo>
                  <a:lnTo>
                    <a:pt x="679" y="10595"/>
                  </a:lnTo>
                  <a:lnTo>
                    <a:pt x="603" y="10618"/>
                  </a:lnTo>
                  <a:lnTo>
                    <a:pt x="564" y="10630"/>
                  </a:lnTo>
                  <a:lnTo>
                    <a:pt x="524" y="10644"/>
                  </a:lnTo>
                  <a:lnTo>
                    <a:pt x="483" y="10658"/>
                  </a:lnTo>
                  <a:lnTo>
                    <a:pt x="443" y="10673"/>
                  </a:lnTo>
                  <a:lnTo>
                    <a:pt x="402" y="10690"/>
                  </a:lnTo>
                  <a:lnTo>
                    <a:pt x="361" y="10707"/>
                  </a:lnTo>
                  <a:lnTo>
                    <a:pt x="321" y="10725"/>
                  </a:lnTo>
                  <a:lnTo>
                    <a:pt x="281" y="10743"/>
                  </a:lnTo>
                  <a:lnTo>
                    <a:pt x="242" y="10762"/>
                  </a:lnTo>
                  <a:lnTo>
                    <a:pt x="203" y="10782"/>
                  </a:lnTo>
                  <a:lnTo>
                    <a:pt x="165" y="10803"/>
                  </a:lnTo>
                  <a:lnTo>
                    <a:pt x="129" y="10826"/>
                  </a:lnTo>
                  <a:lnTo>
                    <a:pt x="94" y="10848"/>
                  </a:lnTo>
                  <a:lnTo>
                    <a:pt x="61" y="10872"/>
                  </a:lnTo>
                  <a:lnTo>
                    <a:pt x="29" y="10896"/>
                  </a:lnTo>
                  <a:lnTo>
                    <a:pt x="0" y="10921"/>
                  </a:lnTo>
                  <a:lnTo>
                    <a:pt x="7" y="10919"/>
                  </a:lnTo>
                  <a:lnTo>
                    <a:pt x="28" y="10915"/>
                  </a:lnTo>
                  <a:lnTo>
                    <a:pt x="60" y="10909"/>
                  </a:lnTo>
                  <a:lnTo>
                    <a:pt x="105" y="10901"/>
                  </a:lnTo>
                  <a:lnTo>
                    <a:pt x="161" y="10890"/>
                  </a:lnTo>
                  <a:lnTo>
                    <a:pt x="225" y="10879"/>
                  </a:lnTo>
                  <a:lnTo>
                    <a:pt x="299" y="10866"/>
                  </a:lnTo>
                  <a:lnTo>
                    <a:pt x="381" y="10853"/>
                  </a:lnTo>
                  <a:lnTo>
                    <a:pt x="468" y="10839"/>
                  </a:lnTo>
                  <a:lnTo>
                    <a:pt x="563" y="10825"/>
                  </a:lnTo>
                  <a:lnTo>
                    <a:pt x="662" y="10811"/>
                  </a:lnTo>
                  <a:lnTo>
                    <a:pt x="765" y="10797"/>
                  </a:lnTo>
                  <a:lnTo>
                    <a:pt x="870" y="10784"/>
                  </a:lnTo>
                  <a:lnTo>
                    <a:pt x="977" y="10773"/>
                  </a:lnTo>
                  <a:lnTo>
                    <a:pt x="1086" y="10763"/>
                  </a:lnTo>
                  <a:lnTo>
                    <a:pt x="1195" y="10755"/>
                  </a:lnTo>
                  <a:lnTo>
                    <a:pt x="1252" y="10749"/>
                  </a:lnTo>
                  <a:lnTo>
                    <a:pt x="1314" y="10741"/>
                  </a:lnTo>
                  <a:lnTo>
                    <a:pt x="1381" y="10729"/>
                  </a:lnTo>
                  <a:lnTo>
                    <a:pt x="1452" y="10715"/>
                  </a:lnTo>
                  <a:lnTo>
                    <a:pt x="1528" y="10698"/>
                  </a:lnTo>
                  <a:lnTo>
                    <a:pt x="1607" y="10677"/>
                  </a:lnTo>
                  <a:lnTo>
                    <a:pt x="1690" y="10654"/>
                  </a:lnTo>
                  <a:lnTo>
                    <a:pt x="1777" y="10630"/>
                  </a:lnTo>
                  <a:lnTo>
                    <a:pt x="1866" y="10603"/>
                  </a:lnTo>
                  <a:lnTo>
                    <a:pt x="1958" y="10574"/>
                  </a:lnTo>
                  <a:lnTo>
                    <a:pt x="2052" y="10542"/>
                  </a:lnTo>
                  <a:lnTo>
                    <a:pt x="2148" y="10510"/>
                  </a:lnTo>
                  <a:lnTo>
                    <a:pt x="2245" y="10476"/>
                  </a:lnTo>
                  <a:lnTo>
                    <a:pt x="2344" y="10439"/>
                  </a:lnTo>
                  <a:lnTo>
                    <a:pt x="2444" y="10402"/>
                  </a:lnTo>
                  <a:lnTo>
                    <a:pt x="2544" y="10364"/>
                  </a:lnTo>
                  <a:lnTo>
                    <a:pt x="2645" y="10324"/>
                  </a:lnTo>
                  <a:lnTo>
                    <a:pt x="2745" y="10284"/>
                  </a:lnTo>
                  <a:lnTo>
                    <a:pt x="2845" y="10244"/>
                  </a:lnTo>
                  <a:lnTo>
                    <a:pt x="2945" y="10202"/>
                  </a:lnTo>
                  <a:lnTo>
                    <a:pt x="3044" y="10160"/>
                  </a:lnTo>
                  <a:lnTo>
                    <a:pt x="3141" y="10119"/>
                  </a:lnTo>
                  <a:lnTo>
                    <a:pt x="3236" y="10076"/>
                  </a:lnTo>
                  <a:lnTo>
                    <a:pt x="3330" y="10034"/>
                  </a:lnTo>
                  <a:lnTo>
                    <a:pt x="3421" y="9992"/>
                  </a:lnTo>
                  <a:lnTo>
                    <a:pt x="3509" y="9950"/>
                  </a:lnTo>
                  <a:lnTo>
                    <a:pt x="3595" y="9909"/>
                  </a:lnTo>
                  <a:lnTo>
                    <a:pt x="3678" y="9869"/>
                  </a:lnTo>
                  <a:lnTo>
                    <a:pt x="3756" y="9829"/>
                  </a:lnTo>
                  <a:lnTo>
                    <a:pt x="3831" y="9790"/>
                  </a:lnTo>
                  <a:lnTo>
                    <a:pt x="3902" y="9753"/>
                  </a:lnTo>
                  <a:lnTo>
                    <a:pt x="3967" y="9716"/>
                  </a:lnTo>
                  <a:lnTo>
                    <a:pt x="3983" y="9712"/>
                  </a:lnTo>
                  <a:lnTo>
                    <a:pt x="4029" y="9701"/>
                  </a:lnTo>
                  <a:lnTo>
                    <a:pt x="4098" y="9684"/>
                  </a:lnTo>
                  <a:lnTo>
                    <a:pt x="4187" y="9660"/>
                  </a:lnTo>
                  <a:lnTo>
                    <a:pt x="4237" y="9646"/>
                  </a:lnTo>
                  <a:lnTo>
                    <a:pt x="4291" y="9631"/>
                  </a:lnTo>
                  <a:lnTo>
                    <a:pt x="4346" y="9615"/>
                  </a:lnTo>
                  <a:lnTo>
                    <a:pt x="4405" y="9596"/>
                  </a:lnTo>
                  <a:lnTo>
                    <a:pt x="4463" y="9577"/>
                  </a:lnTo>
                  <a:lnTo>
                    <a:pt x="4523" y="9557"/>
                  </a:lnTo>
                  <a:lnTo>
                    <a:pt x="4582" y="9535"/>
                  </a:lnTo>
                  <a:lnTo>
                    <a:pt x="4640" y="9513"/>
                  </a:lnTo>
                  <a:lnTo>
                    <a:pt x="4698" y="9490"/>
                  </a:lnTo>
                  <a:lnTo>
                    <a:pt x="4754" y="9465"/>
                  </a:lnTo>
                  <a:lnTo>
                    <a:pt x="4808" y="9440"/>
                  </a:lnTo>
                  <a:lnTo>
                    <a:pt x="4858" y="9414"/>
                  </a:lnTo>
                  <a:lnTo>
                    <a:pt x="4905" y="9387"/>
                  </a:lnTo>
                  <a:lnTo>
                    <a:pt x="4947" y="9359"/>
                  </a:lnTo>
                  <a:lnTo>
                    <a:pt x="4984" y="9331"/>
                  </a:lnTo>
                  <a:lnTo>
                    <a:pt x="5016" y="9303"/>
                  </a:lnTo>
                  <a:lnTo>
                    <a:pt x="5043" y="9274"/>
                  </a:lnTo>
                  <a:lnTo>
                    <a:pt x="5063" y="9243"/>
                  </a:lnTo>
                  <a:lnTo>
                    <a:pt x="5075" y="9214"/>
                  </a:lnTo>
                  <a:lnTo>
                    <a:pt x="5079" y="9183"/>
                  </a:lnTo>
                  <a:lnTo>
                    <a:pt x="5075" y="9153"/>
                  </a:lnTo>
                  <a:lnTo>
                    <a:pt x="5062" y="9121"/>
                  </a:lnTo>
                  <a:lnTo>
                    <a:pt x="5039" y="9090"/>
                  </a:lnTo>
                  <a:lnTo>
                    <a:pt x="5005" y="9059"/>
                  </a:lnTo>
                  <a:lnTo>
                    <a:pt x="5002" y="9058"/>
                  </a:lnTo>
                  <a:lnTo>
                    <a:pt x="4993" y="9053"/>
                  </a:lnTo>
                  <a:lnTo>
                    <a:pt x="4979" y="9045"/>
                  </a:lnTo>
                  <a:lnTo>
                    <a:pt x="4963" y="9035"/>
                  </a:lnTo>
                  <a:lnTo>
                    <a:pt x="4946" y="9023"/>
                  </a:lnTo>
                  <a:lnTo>
                    <a:pt x="4929" y="9007"/>
                  </a:lnTo>
                  <a:lnTo>
                    <a:pt x="4921" y="8999"/>
                  </a:lnTo>
                  <a:lnTo>
                    <a:pt x="4914" y="8991"/>
                  </a:lnTo>
                  <a:lnTo>
                    <a:pt x="4907" y="8982"/>
                  </a:lnTo>
                  <a:lnTo>
                    <a:pt x="4902" y="8973"/>
                  </a:lnTo>
                  <a:lnTo>
                    <a:pt x="4897" y="8964"/>
                  </a:lnTo>
                  <a:lnTo>
                    <a:pt x="4894" y="8955"/>
                  </a:lnTo>
                  <a:lnTo>
                    <a:pt x="4893" y="8945"/>
                  </a:lnTo>
                  <a:lnTo>
                    <a:pt x="4894" y="8935"/>
                  </a:lnTo>
                  <a:lnTo>
                    <a:pt x="4896" y="8925"/>
                  </a:lnTo>
                  <a:lnTo>
                    <a:pt x="4902" y="8915"/>
                  </a:lnTo>
                  <a:lnTo>
                    <a:pt x="4909" y="8905"/>
                  </a:lnTo>
                  <a:lnTo>
                    <a:pt x="4919" y="8895"/>
                  </a:lnTo>
                  <a:lnTo>
                    <a:pt x="4931" y="8883"/>
                  </a:lnTo>
                  <a:lnTo>
                    <a:pt x="4947" y="8873"/>
                  </a:lnTo>
                  <a:lnTo>
                    <a:pt x="4965" y="8863"/>
                  </a:lnTo>
                  <a:lnTo>
                    <a:pt x="4987" y="8853"/>
                  </a:lnTo>
                  <a:lnTo>
                    <a:pt x="5013" y="8843"/>
                  </a:lnTo>
                  <a:lnTo>
                    <a:pt x="5043" y="8833"/>
                  </a:lnTo>
                  <a:lnTo>
                    <a:pt x="5076" y="8824"/>
                  </a:lnTo>
                  <a:lnTo>
                    <a:pt x="5113" y="8815"/>
                  </a:lnTo>
                  <a:lnTo>
                    <a:pt x="5124" y="8808"/>
                  </a:lnTo>
                  <a:lnTo>
                    <a:pt x="5155" y="8789"/>
                  </a:lnTo>
                  <a:lnTo>
                    <a:pt x="5202" y="8758"/>
                  </a:lnTo>
                  <a:lnTo>
                    <a:pt x="5264" y="8718"/>
                  </a:lnTo>
                  <a:lnTo>
                    <a:pt x="5340" y="8669"/>
                  </a:lnTo>
                  <a:lnTo>
                    <a:pt x="5427" y="8612"/>
                  </a:lnTo>
                  <a:lnTo>
                    <a:pt x="5520" y="8549"/>
                  </a:lnTo>
                  <a:lnTo>
                    <a:pt x="5620" y="8479"/>
                  </a:lnTo>
                  <a:lnTo>
                    <a:pt x="5723" y="8405"/>
                  </a:lnTo>
                  <a:lnTo>
                    <a:pt x="5828" y="8329"/>
                  </a:lnTo>
                  <a:lnTo>
                    <a:pt x="5879" y="8289"/>
                  </a:lnTo>
                  <a:lnTo>
                    <a:pt x="5931" y="8249"/>
                  </a:lnTo>
                  <a:lnTo>
                    <a:pt x="5981" y="8210"/>
                  </a:lnTo>
                  <a:lnTo>
                    <a:pt x="6030" y="8169"/>
                  </a:lnTo>
                  <a:lnTo>
                    <a:pt x="6079" y="8130"/>
                  </a:lnTo>
                  <a:lnTo>
                    <a:pt x="6124" y="8090"/>
                  </a:lnTo>
                  <a:lnTo>
                    <a:pt x="6169" y="8050"/>
                  </a:lnTo>
                  <a:lnTo>
                    <a:pt x="6210" y="8011"/>
                  </a:lnTo>
                  <a:lnTo>
                    <a:pt x="6249" y="7974"/>
                  </a:lnTo>
                  <a:lnTo>
                    <a:pt x="6286" y="7936"/>
                  </a:lnTo>
                  <a:lnTo>
                    <a:pt x="6318" y="7899"/>
                  </a:lnTo>
                  <a:lnTo>
                    <a:pt x="6348" y="7864"/>
                  </a:lnTo>
                  <a:lnTo>
                    <a:pt x="6354" y="7861"/>
                  </a:lnTo>
                  <a:lnTo>
                    <a:pt x="6375" y="7853"/>
                  </a:lnTo>
                  <a:lnTo>
                    <a:pt x="6408" y="7841"/>
                  </a:lnTo>
                  <a:lnTo>
                    <a:pt x="6455" y="7826"/>
                  </a:lnTo>
                  <a:lnTo>
                    <a:pt x="6513" y="7808"/>
                  </a:lnTo>
                  <a:lnTo>
                    <a:pt x="6583" y="7789"/>
                  </a:lnTo>
                  <a:lnTo>
                    <a:pt x="6622" y="7779"/>
                  </a:lnTo>
                  <a:lnTo>
                    <a:pt x="6664" y="7769"/>
                  </a:lnTo>
                  <a:lnTo>
                    <a:pt x="6708" y="7759"/>
                  </a:lnTo>
                  <a:lnTo>
                    <a:pt x="6754" y="7750"/>
                  </a:lnTo>
                  <a:lnTo>
                    <a:pt x="6803" y="7741"/>
                  </a:lnTo>
                  <a:lnTo>
                    <a:pt x="6854" y="7732"/>
                  </a:lnTo>
                  <a:lnTo>
                    <a:pt x="6907" y="7724"/>
                  </a:lnTo>
                  <a:lnTo>
                    <a:pt x="6964" y="7716"/>
                  </a:lnTo>
                  <a:lnTo>
                    <a:pt x="7021" y="7710"/>
                  </a:lnTo>
                  <a:lnTo>
                    <a:pt x="7081" y="7704"/>
                  </a:lnTo>
                  <a:lnTo>
                    <a:pt x="7143" y="7699"/>
                  </a:lnTo>
                  <a:lnTo>
                    <a:pt x="7207" y="7695"/>
                  </a:lnTo>
                  <a:lnTo>
                    <a:pt x="7272" y="7691"/>
                  </a:lnTo>
                  <a:lnTo>
                    <a:pt x="7340" y="7690"/>
                  </a:lnTo>
                  <a:lnTo>
                    <a:pt x="7409" y="7690"/>
                  </a:lnTo>
                  <a:lnTo>
                    <a:pt x="7480" y="7692"/>
                  </a:lnTo>
                  <a:lnTo>
                    <a:pt x="7553" y="7696"/>
                  </a:lnTo>
                  <a:lnTo>
                    <a:pt x="7626" y="7701"/>
                  </a:lnTo>
                  <a:lnTo>
                    <a:pt x="7701" y="7708"/>
                  </a:lnTo>
                  <a:lnTo>
                    <a:pt x="7777" y="7717"/>
                  </a:lnTo>
                  <a:lnTo>
                    <a:pt x="7782" y="7719"/>
                  </a:lnTo>
                  <a:lnTo>
                    <a:pt x="7794" y="7726"/>
                  </a:lnTo>
                  <a:lnTo>
                    <a:pt x="7814" y="7736"/>
                  </a:lnTo>
                  <a:lnTo>
                    <a:pt x="7837" y="7750"/>
                  </a:lnTo>
                  <a:lnTo>
                    <a:pt x="7863" y="7766"/>
                  </a:lnTo>
                  <a:lnTo>
                    <a:pt x="7890" y="7785"/>
                  </a:lnTo>
                  <a:lnTo>
                    <a:pt x="7903" y="7795"/>
                  </a:lnTo>
                  <a:lnTo>
                    <a:pt x="7917" y="7805"/>
                  </a:lnTo>
                  <a:lnTo>
                    <a:pt x="7930" y="7817"/>
                  </a:lnTo>
                  <a:lnTo>
                    <a:pt x="7942" y="7827"/>
                  </a:lnTo>
                  <a:lnTo>
                    <a:pt x="7953" y="7839"/>
                  </a:lnTo>
                  <a:lnTo>
                    <a:pt x="7963" y="7850"/>
                  </a:lnTo>
                  <a:lnTo>
                    <a:pt x="7971" y="7861"/>
                  </a:lnTo>
                  <a:lnTo>
                    <a:pt x="7978" y="7872"/>
                  </a:lnTo>
                  <a:lnTo>
                    <a:pt x="7983" y="7883"/>
                  </a:lnTo>
                  <a:lnTo>
                    <a:pt x="7985" y="7894"/>
                  </a:lnTo>
                  <a:lnTo>
                    <a:pt x="7986" y="7905"/>
                  </a:lnTo>
                  <a:lnTo>
                    <a:pt x="7984" y="7915"/>
                  </a:lnTo>
                  <a:lnTo>
                    <a:pt x="7980" y="7925"/>
                  </a:lnTo>
                  <a:lnTo>
                    <a:pt x="7973" y="7936"/>
                  </a:lnTo>
                  <a:lnTo>
                    <a:pt x="7962" y="7945"/>
                  </a:lnTo>
                  <a:lnTo>
                    <a:pt x="7949" y="7954"/>
                  </a:lnTo>
                  <a:lnTo>
                    <a:pt x="7931" y="7962"/>
                  </a:lnTo>
                  <a:lnTo>
                    <a:pt x="7910" y="7969"/>
                  </a:lnTo>
                  <a:lnTo>
                    <a:pt x="7885" y="7976"/>
                  </a:lnTo>
                  <a:lnTo>
                    <a:pt x="7856" y="7982"/>
                  </a:lnTo>
                  <a:lnTo>
                    <a:pt x="7844" y="7981"/>
                  </a:lnTo>
                  <a:lnTo>
                    <a:pt x="7811" y="7981"/>
                  </a:lnTo>
                  <a:lnTo>
                    <a:pt x="7757" y="7981"/>
                  </a:lnTo>
                  <a:lnTo>
                    <a:pt x="7687" y="7982"/>
                  </a:lnTo>
                  <a:lnTo>
                    <a:pt x="7602" y="7986"/>
                  </a:lnTo>
                  <a:lnTo>
                    <a:pt x="7506" y="7991"/>
                  </a:lnTo>
                  <a:lnTo>
                    <a:pt x="7454" y="7995"/>
                  </a:lnTo>
                  <a:lnTo>
                    <a:pt x="7400" y="7999"/>
                  </a:lnTo>
                  <a:lnTo>
                    <a:pt x="7345" y="8004"/>
                  </a:lnTo>
                  <a:lnTo>
                    <a:pt x="7287" y="8011"/>
                  </a:lnTo>
                  <a:lnTo>
                    <a:pt x="7230" y="8018"/>
                  </a:lnTo>
                  <a:lnTo>
                    <a:pt x="7172" y="8027"/>
                  </a:lnTo>
                  <a:lnTo>
                    <a:pt x="7112" y="8036"/>
                  </a:lnTo>
                  <a:lnTo>
                    <a:pt x="7054" y="8047"/>
                  </a:lnTo>
                  <a:lnTo>
                    <a:pt x="6994" y="8060"/>
                  </a:lnTo>
                  <a:lnTo>
                    <a:pt x="6937" y="8074"/>
                  </a:lnTo>
                  <a:lnTo>
                    <a:pt x="6879" y="8089"/>
                  </a:lnTo>
                  <a:lnTo>
                    <a:pt x="6823" y="8106"/>
                  </a:lnTo>
                  <a:lnTo>
                    <a:pt x="6768" y="8124"/>
                  </a:lnTo>
                  <a:lnTo>
                    <a:pt x="6716" y="8144"/>
                  </a:lnTo>
                  <a:lnTo>
                    <a:pt x="6665" y="8165"/>
                  </a:lnTo>
                  <a:lnTo>
                    <a:pt x="6617" y="8190"/>
                  </a:lnTo>
                  <a:lnTo>
                    <a:pt x="6571" y="8216"/>
                  </a:lnTo>
                  <a:lnTo>
                    <a:pt x="6529" y="8243"/>
                  </a:lnTo>
                  <a:lnTo>
                    <a:pt x="6490" y="8273"/>
                  </a:lnTo>
                  <a:lnTo>
                    <a:pt x="6455" y="8305"/>
                  </a:lnTo>
                  <a:lnTo>
                    <a:pt x="6447" y="8318"/>
                  </a:lnTo>
                  <a:lnTo>
                    <a:pt x="6423" y="8351"/>
                  </a:lnTo>
                  <a:lnTo>
                    <a:pt x="6406" y="8374"/>
                  </a:lnTo>
                  <a:lnTo>
                    <a:pt x="6386" y="8399"/>
                  </a:lnTo>
                  <a:lnTo>
                    <a:pt x="6363" y="8427"/>
                  </a:lnTo>
                  <a:lnTo>
                    <a:pt x="6338" y="8456"/>
                  </a:lnTo>
                  <a:lnTo>
                    <a:pt x="6310" y="8484"/>
                  </a:lnTo>
                  <a:lnTo>
                    <a:pt x="6280" y="8513"/>
                  </a:lnTo>
                  <a:lnTo>
                    <a:pt x="6264" y="8526"/>
                  </a:lnTo>
                  <a:lnTo>
                    <a:pt x="6248" y="8541"/>
                  </a:lnTo>
                  <a:lnTo>
                    <a:pt x="6232" y="8553"/>
                  </a:lnTo>
                  <a:lnTo>
                    <a:pt x="6216" y="8566"/>
                  </a:lnTo>
                  <a:lnTo>
                    <a:pt x="6199" y="8577"/>
                  </a:lnTo>
                  <a:lnTo>
                    <a:pt x="6181" y="8588"/>
                  </a:lnTo>
                  <a:lnTo>
                    <a:pt x="6164" y="8597"/>
                  </a:lnTo>
                  <a:lnTo>
                    <a:pt x="6145" y="8606"/>
                  </a:lnTo>
                  <a:lnTo>
                    <a:pt x="6128" y="8613"/>
                  </a:lnTo>
                  <a:lnTo>
                    <a:pt x="6110" y="8620"/>
                  </a:lnTo>
                  <a:lnTo>
                    <a:pt x="6092" y="8624"/>
                  </a:lnTo>
                  <a:lnTo>
                    <a:pt x="6073" y="8628"/>
                  </a:lnTo>
                  <a:lnTo>
                    <a:pt x="6069" y="8634"/>
                  </a:lnTo>
                  <a:lnTo>
                    <a:pt x="6059" y="8650"/>
                  </a:lnTo>
                  <a:lnTo>
                    <a:pt x="6045" y="8676"/>
                  </a:lnTo>
                  <a:lnTo>
                    <a:pt x="6027" y="8709"/>
                  </a:lnTo>
                  <a:lnTo>
                    <a:pt x="6018" y="8727"/>
                  </a:lnTo>
                  <a:lnTo>
                    <a:pt x="6010" y="8746"/>
                  </a:lnTo>
                  <a:lnTo>
                    <a:pt x="6002" y="8766"/>
                  </a:lnTo>
                  <a:lnTo>
                    <a:pt x="5995" y="8788"/>
                  </a:lnTo>
                  <a:lnTo>
                    <a:pt x="5989" y="8809"/>
                  </a:lnTo>
                  <a:lnTo>
                    <a:pt x="5984" y="8830"/>
                  </a:lnTo>
                  <a:lnTo>
                    <a:pt x="5980" y="8852"/>
                  </a:lnTo>
                  <a:lnTo>
                    <a:pt x="5979" y="8873"/>
                  </a:lnTo>
                  <a:lnTo>
                    <a:pt x="5979" y="8895"/>
                  </a:lnTo>
                  <a:lnTo>
                    <a:pt x="5982" y="8915"/>
                  </a:lnTo>
                  <a:lnTo>
                    <a:pt x="5987" y="8934"/>
                  </a:lnTo>
                  <a:lnTo>
                    <a:pt x="5995" y="8952"/>
                  </a:lnTo>
                  <a:lnTo>
                    <a:pt x="6006" y="8968"/>
                  </a:lnTo>
                  <a:lnTo>
                    <a:pt x="6020" y="8983"/>
                  </a:lnTo>
                  <a:lnTo>
                    <a:pt x="6039" y="8997"/>
                  </a:lnTo>
                  <a:lnTo>
                    <a:pt x="6061" y="9008"/>
                  </a:lnTo>
                  <a:lnTo>
                    <a:pt x="6087" y="9018"/>
                  </a:lnTo>
                  <a:lnTo>
                    <a:pt x="6117" y="9025"/>
                  </a:lnTo>
                  <a:lnTo>
                    <a:pt x="6152" y="9029"/>
                  </a:lnTo>
                  <a:lnTo>
                    <a:pt x="6192" y="9030"/>
                  </a:lnTo>
                  <a:lnTo>
                    <a:pt x="6237" y="9028"/>
                  </a:lnTo>
                  <a:lnTo>
                    <a:pt x="6288" y="9023"/>
                  </a:lnTo>
                  <a:lnTo>
                    <a:pt x="6344" y="9014"/>
                  </a:lnTo>
                  <a:lnTo>
                    <a:pt x="6406" y="9000"/>
                  </a:lnTo>
                  <a:lnTo>
                    <a:pt x="6419" y="8997"/>
                  </a:lnTo>
                  <a:lnTo>
                    <a:pt x="6455" y="8987"/>
                  </a:lnTo>
                  <a:lnTo>
                    <a:pt x="6511" y="8971"/>
                  </a:lnTo>
                  <a:lnTo>
                    <a:pt x="6585" y="8950"/>
                  </a:lnTo>
                  <a:lnTo>
                    <a:pt x="6673" y="8924"/>
                  </a:lnTo>
                  <a:lnTo>
                    <a:pt x="6771" y="8894"/>
                  </a:lnTo>
                  <a:lnTo>
                    <a:pt x="6877" y="8860"/>
                  </a:lnTo>
                  <a:lnTo>
                    <a:pt x="6989" y="8823"/>
                  </a:lnTo>
                  <a:lnTo>
                    <a:pt x="7046" y="8804"/>
                  </a:lnTo>
                  <a:lnTo>
                    <a:pt x="7102" y="8784"/>
                  </a:lnTo>
                  <a:lnTo>
                    <a:pt x="7158" y="8763"/>
                  </a:lnTo>
                  <a:lnTo>
                    <a:pt x="7215" y="8742"/>
                  </a:lnTo>
                  <a:lnTo>
                    <a:pt x="7269" y="8722"/>
                  </a:lnTo>
                  <a:lnTo>
                    <a:pt x="7323" y="8701"/>
                  </a:lnTo>
                  <a:lnTo>
                    <a:pt x="7374" y="8679"/>
                  </a:lnTo>
                  <a:lnTo>
                    <a:pt x="7423" y="8658"/>
                  </a:lnTo>
                  <a:lnTo>
                    <a:pt x="7469" y="8636"/>
                  </a:lnTo>
                  <a:lnTo>
                    <a:pt x="7513" y="8614"/>
                  </a:lnTo>
                  <a:lnTo>
                    <a:pt x="7553" y="8593"/>
                  </a:lnTo>
                  <a:lnTo>
                    <a:pt x="7590" y="8572"/>
                  </a:lnTo>
                  <a:lnTo>
                    <a:pt x="7621" y="8552"/>
                  </a:lnTo>
                  <a:lnTo>
                    <a:pt x="7649" y="8530"/>
                  </a:lnTo>
                  <a:lnTo>
                    <a:pt x="7673" y="8510"/>
                  </a:lnTo>
                  <a:lnTo>
                    <a:pt x="7690" y="8491"/>
                  </a:lnTo>
                  <a:lnTo>
                    <a:pt x="7695" y="8486"/>
                  </a:lnTo>
                  <a:lnTo>
                    <a:pt x="7710" y="8472"/>
                  </a:lnTo>
                  <a:lnTo>
                    <a:pt x="7734" y="8452"/>
                  </a:lnTo>
                  <a:lnTo>
                    <a:pt x="7768" y="8427"/>
                  </a:lnTo>
                  <a:lnTo>
                    <a:pt x="7788" y="8414"/>
                  </a:lnTo>
                  <a:lnTo>
                    <a:pt x="7811" y="8399"/>
                  </a:lnTo>
                  <a:lnTo>
                    <a:pt x="7835" y="8384"/>
                  </a:lnTo>
                  <a:lnTo>
                    <a:pt x="7861" y="8370"/>
                  </a:lnTo>
                  <a:lnTo>
                    <a:pt x="7889" y="8356"/>
                  </a:lnTo>
                  <a:lnTo>
                    <a:pt x="7919" y="8342"/>
                  </a:lnTo>
                  <a:lnTo>
                    <a:pt x="7952" y="8329"/>
                  </a:lnTo>
                  <a:lnTo>
                    <a:pt x="7986" y="8317"/>
                  </a:lnTo>
                  <a:lnTo>
                    <a:pt x="8021" y="8307"/>
                  </a:lnTo>
                  <a:lnTo>
                    <a:pt x="8060" y="8297"/>
                  </a:lnTo>
                  <a:lnTo>
                    <a:pt x="8098" y="8289"/>
                  </a:lnTo>
                  <a:lnTo>
                    <a:pt x="8139" y="8283"/>
                  </a:lnTo>
                  <a:lnTo>
                    <a:pt x="8182" y="8279"/>
                  </a:lnTo>
                  <a:lnTo>
                    <a:pt x="8226" y="8278"/>
                  </a:lnTo>
                  <a:lnTo>
                    <a:pt x="8271" y="8280"/>
                  </a:lnTo>
                  <a:lnTo>
                    <a:pt x="8318" y="8284"/>
                  </a:lnTo>
                  <a:lnTo>
                    <a:pt x="8366" y="8291"/>
                  </a:lnTo>
                  <a:lnTo>
                    <a:pt x="8415" y="8303"/>
                  </a:lnTo>
                  <a:lnTo>
                    <a:pt x="8466" y="8317"/>
                  </a:lnTo>
                  <a:lnTo>
                    <a:pt x="8518" y="8336"/>
                  </a:lnTo>
                  <a:lnTo>
                    <a:pt x="8572" y="8358"/>
                  </a:lnTo>
                  <a:lnTo>
                    <a:pt x="8626" y="8384"/>
                  </a:lnTo>
                  <a:lnTo>
                    <a:pt x="8682" y="8416"/>
                  </a:lnTo>
                  <a:lnTo>
                    <a:pt x="8738" y="8452"/>
                  </a:lnTo>
                  <a:lnTo>
                    <a:pt x="8758" y="8462"/>
                  </a:lnTo>
                  <a:lnTo>
                    <a:pt x="8817" y="8490"/>
                  </a:lnTo>
                  <a:lnTo>
                    <a:pt x="8908" y="8534"/>
                  </a:lnTo>
                  <a:lnTo>
                    <a:pt x="9027" y="8589"/>
                  </a:lnTo>
                  <a:lnTo>
                    <a:pt x="9169" y="8655"/>
                  </a:lnTo>
                  <a:lnTo>
                    <a:pt x="9330" y="8727"/>
                  </a:lnTo>
                  <a:lnTo>
                    <a:pt x="9414" y="8764"/>
                  </a:lnTo>
                  <a:lnTo>
                    <a:pt x="9502" y="8803"/>
                  </a:lnTo>
                  <a:lnTo>
                    <a:pt x="9592" y="8842"/>
                  </a:lnTo>
                  <a:lnTo>
                    <a:pt x="9682" y="8880"/>
                  </a:lnTo>
                  <a:lnTo>
                    <a:pt x="9774" y="8919"/>
                  </a:lnTo>
                  <a:lnTo>
                    <a:pt x="9866" y="8956"/>
                  </a:lnTo>
                  <a:lnTo>
                    <a:pt x="9958" y="8993"/>
                  </a:lnTo>
                  <a:lnTo>
                    <a:pt x="10047" y="9028"/>
                  </a:lnTo>
                  <a:lnTo>
                    <a:pt x="10135" y="9061"/>
                  </a:lnTo>
                  <a:lnTo>
                    <a:pt x="10221" y="9092"/>
                  </a:lnTo>
                  <a:lnTo>
                    <a:pt x="10303" y="9120"/>
                  </a:lnTo>
                  <a:lnTo>
                    <a:pt x="10382" y="9147"/>
                  </a:lnTo>
                  <a:lnTo>
                    <a:pt x="10457" y="9169"/>
                  </a:lnTo>
                  <a:lnTo>
                    <a:pt x="10526" y="9188"/>
                  </a:lnTo>
                  <a:lnTo>
                    <a:pt x="10591" y="9203"/>
                  </a:lnTo>
                  <a:lnTo>
                    <a:pt x="10648" y="9213"/>
                  </a:lnTo>
                  <a:lnTo>
                    <a:pt x="10700" y="9219"/>
                  </a:lnTo>
                  <a:lnTo>
                    <a:pt x="10743" y="9220"/>
                  </a:lnTo>
                  <a:lnTo>
                    <a:pt x="10778" y="9216"/>
                  </a:lnTo>
                  <a:lnTo>
                    <a:pt x="10804" y="9206"/>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51" name="Freeform 272"/>
            <p:cNvSpPr/>
            <p:nvPr/>
          </p:nvSpPr>
          <p:spPr>
            <a:xfrm>
              <a:off x="457200" y="2118960"/>
              <a:ext cx="65520" cy="47160"/>
            </a:xfrm>
            <a:custGeom>
              <a:avLst/>
              <a:gdLst>
                <a:gd name="textAreaLeft" fmla="*/ 0 w 65520"/>
                <a:gd name="textAreaRight" fmla="*/ 65880 w 65520"/>
                <a:gd name="textAreaTop" fmla="*/ 0 h 47160"/>
                <a:gd name="textAreaBottom" fmla="*/ 47520 h 47160"/>
              </a:gdLst>
              <a:ahLst/>
              <a:rect l="textAreaLeft" t="textAreaTop" r="textAreaRight" b="textAreaBottom"/>
              <a:pathLst>
                <a:path w="845" h="611">
                  <a:moveTo>
                    <a:pt x="531" y="51"/>
                  </a:moveTo>
                  <a:lnTo>
                    <a:pt x="523" y="49"/>
                  </a:lnTo>
                  <a:lnTo>
                    <a:pt x="501" y="42"/>
                  </a:lnTo>
                  <a:lnTo>
                    <a:pt x="468" y="34"/>
                  </a:lnTo>
                  <a:lnTo>
                    <a:pt x="425" y="24"/>
                  </a:lnTo>
                  <a:lnTo>
                    <a:pt x="399" y="19"/>
                  </a:lnTo>
                  <a:lnTo>
                    <a:pt x="374" y="14"/>
                  </a:lnTo>
                  <a:lnTo>
                    <a:pt x="347" y="10"/>
                  </a:lnTo>
                  <a:lnTo>
                    <a:pt x="320" y="6"/>
                  </a:lnTo>
                  <a:lnTo>
                    <a:pt x="290" y="3"/>
                  </a:lnTo>
                  <a:lnTo>
                    <a:pt x="262" y="1"/>
                  </a:lnTo>
                  <a:lnTo>
                    <a:pt x="234" y="0"/>
                  </a:lnTo>
                  <a:lnTo>
                    <a:pt x="206" y="0"/>
                  </a:lnTo>
                  <a:lnTo>
                    <a:pt x="178" y="2"/>
                  </a:lnTo>
                  <a:lnTo>
                    <a:pt x="151" y="5"/>
                  </a:lnTo>
                  <a:lnTo>
                    <a:pt x="125" y="10"/>
                  </a:lnTo>
                  <a:lnTo>
                    <a:pt x="102" y="17"/>
                  </a:lnTo>
                  <a:lnTo>
                    <a:pt x="80" y="26"/>
                  </a:lnTo>
                  <a:lnTo>
                    <a:pt x="60" y="37"/>
                  </a:lnTo>
                  <a:lnTo>
                    <a:pt x="42" y="51"/>
                  </a:lnTo>
                  <a:lnTo>
                    <a:pt x="27" y="67"/>
                  </a:lnTo>
                  <a:lnTo>
                    <a:pt x="15" y="87"/>
                  </a:lnTo>
                  <a:lnTo>
                    <a:pt x="6" y="110"/>
                  </a:lnTo>
                  <a:lnTo>
                    <a:pt x="1" y="135"/>
                  </a:lnTo>
                  <a:lnTo>
                    <a:pt x="0" y="164"/>
                  </a:lnTo>
                  <a:lnTo>
                    <a:pt x="3" y="196"/>
                  </a:lnTo>
                  <a:lnTo>
                    <a:pt x="11" y="232"/>
                  </a:lnTo>
                  <a:lnTo>
                    <a:pt x="23" y="272"/>
                  </a:lnTo>
                  <a:lnTo>
                    <a:pt x="42" y="315"/>
                  </a:lnTo>
                  <a:lnTo>
                    <a:pt x="53" y="327"/>
                  </a:lnTo>
                  <a:lnTo>
                    <a:pt x="84" y="361"/>
                  </a:lnTo>
                  <a:lnTo>
                    <a:pt x="106" y="382"/>
                  </a:lnTo>
                  <a:lnTo>
                    <a:pt x="131" y="406"/>
                  </a:lnTo>
                  <a:lnTo>
                    <a:pt x="159" y="432"/>
                  </a:lnTo>
                  <a:lnTo>
                    <a:pt x="191" y="459"/>
                  </a:lnTo>
                  <a:lnTo>
                    <a:pt x="224" y="486"/>
                  </a:lnTo>
                  <a:lnTo>
                    <a:pt x="258" y="512"/>
                  </a:lnTo>
                  <a:lnTo>
                    <a:pt x="276" y="525"/>
                  </a:lnTo>
                  <a:lnTo>
                    <a:pt x="295" y="537"/>
                  </a:lnTo>
                  <a:lnTo>
                    <a:pt x="313" y="548"/>
                  </a:lnTo>
                  <a:lnTo>
                    <a:pt x="331" y="559"/>
                  </a:lnTo>
                  <a:lnTo>
                    <a:pt x="349" y="570"/>
                  </a:lnTo>
                  <a:lnTo>
                    <a:pt x="367" y="579"/>
                  </a:lnTo>
                  <a:lnTo>
                    <a:pt x="385" y="588"/>
                  </a:lnTo>
                  <a:lnTo>
                    <a:pt x="403" y="595"/>
                  </a:lnTo>
                  <a:lnTo>
                    <a:pt x="421" y="600"/>
                  </a:lnTo>
                  <a:lnTo>
                    <a:pt x="439" y="605"/>
                  </a:lnTo>
                  <a:lnTo>
                    <a:pt x="456" y="608"/>
                  </a:lnTo>
                  <a:lnTo>
                    <a:pt x="472" y="610"/>
                  </a:lnTo>
                  <a:lnTo>
                    <a:pt x="490" y="611"/>
                  </a:lnTo>
                  <a:lnTo>
                    <a:pt x="508" y="611"/>
                  </a:lnTo>
                  <a:lnTo>
                    <a:pt x="527" y="609"/>
                  </a:lnTo>
                  <a:lnTo>
                    <a:pt x="547" y="606"/>
                  </a:lnTo>
                  <a:lnTo>
                    <a:pt x="566" y="601"/>
                  </a:lnTo>
                  <a:lnTo>
                    <a:pt x="585" y="596"/>
                  </a:lnTo>
                  <a:lnTo>
                    <a:pt x="604" y="589"/>
                  </a:lnTo>
                  <a:lnTo>
                    <a:pt x="623" y="582"/>
                  </a:lnTo>
                  <a:lnTo>
                    <a:pt x="642" y="573"/>
                  </a:lnTo>
                  <a:lnTo>
                    <a:pt x="661" y="563"/>
                  </a:lnTo>
                  <a:lnTo>
                    <a:pt x="681" y="553"/>
                  </a:lnTo>
                  <a:lnTo>
                    <a:pt x="699" y="542"/>
                  </a:lnTo>
                  <a:lnTo>
                    <a:pt x="716" y="530"/>
                  </a:lnTo>
                  <a:lnTo>
                    <a:pt x="733" y="518"/>
                  </a:lnTo>
                  <a:lnTo>
                    <a:pt x="748" y="505"/>
                  </a:lnTo>
                  <a:lnTo>
                    <a:pt x="764" y="492"/>
                  </a:lnTo>
                  <a:lnTo>
                    <a:pt x="778" y="479"/>
                  </a:lnTo>
                  <a:lnTo>
                    <a:pt x="791" y="465"/>
                  </a:lnTo>
                  <a:lnTo>
                    <a:pt x="803" y="452"/>
                  </a:lnTo>
                  <a:lnTo>
                    <a:pt x="814" y="437"/>
                  </a:lnTo>
                  <a:lnTo>
                    <a:pt x="823" y="423"/>
                  </a:lnTo>
                  <a:lnTo>
                    <a:pt x="831" y="409"/>
                  </a:lnTo>
                  <a:lnTo>
                    <a:pt x="837" y="395"/>
                  </a:lnTo>
                  <a:lnTo>
                    <a:pt x="842" y="381"/>
                  </a:lnTo>
                  <a:lnTo>
                    <a:pt x="844" y="368"/>
                  </a:lnTo>
                  <a:lnTo>
                    <a:pt x="845" y="355"/>
                  </a:lnTo>
                  <a:lnTo>
                    <a:pt x="844" y="342"/>
                  </a:lnTo>
                  <a:lnTo>
                    <a:pt x="841" y="330"/>
                  </a:lnTo>
                  <a:lnTo>
                    <a:pt x="836" y="317"/>
                  </a:lnTo>
                  <a:lnTo>
                    <a:pt x="828" y="306"/>
                  </a:lnTo>
                  <a:lnTo>
                    <a:pt x="818" y="296"/>
                  </a:lnTo>
                  <a:lnTo>
                    <a:pt x="806" y="286"/>
                  </a:lnTo>
                  <a:lnTo>
                    <a:pt x="778" y="269"/>
                  </a:lnTo>
                  <a:lnTo>
                    <a:pt x="751" y="251"/>
                  </a:lnTo>
                  <a:lnTo>
                    <a:pt x="726" y="232"/>
                  </a:lnTo>
                  <a:lnTo>
                    <a:pt x="701" y="213"/>
                  </a:lnTo>
                  <a:lnTo>
                    <a:pt x="677" y="192"/>
                  </a:lnTo>
                  <a:lnTo>
                    <a:pt x="654" y="173"/>
                  </a:lnTo>
                  <a:lnTo>
                    <a:pt x="633" y="154"/>
                  </a:lnTo>
                  <a:lnTo>
                    <a:pt x="613" y="136"/>
                  </a:lnTo>
                  <a:lnTo>
                    <a:pt x="579" y="103"/>
                  </a:lnTo>
                  <a:lnTo>
                    <a:pt x="554" y="75"/>
                  </a:lnTo>
                  <a:lnTo>
                    <a:pt x="536" y="57"/>
                  </a:lnTo>
                  <a:lnTo>
                    <a:pt x="531" y="51"/>
                  </a:lnTo>
                  <a:close/>
                </a:path>
              </a:pathLst>
            </a:custGeom>
            <a:solidFill>
              <a:srgbClr val="93d5ed"/>
            </a:solidFill>
            <a:ln w="9360">
              <a:solidFill>
                <a:srgbClr val="ccecff"/>
              </a:solidFill>
              <a:round/>
            </a:ln>
          </p:spPr>
          <p:style>
            <a:lnRef idx="0"/>
            <a:fillRef idx="0"/>
            <a:effectRef idx="0"/>
            <a:fontRef idx="minor"/>
          </p:style>
          <p:txBody>
            <a:bodyPr lIns="90000" rIns="90000" tIns="720" bIns="720" anchor="t">
              <a:noAutofit/>
            </a:bodyPr>
            <a:p>
              <a:endParaRPr b="1" lang="en-US" sz="2400" spc="-1" strike="noStrike">
                <a:solidFill>
                  <a:srgbClr val="ffffff"/>
                </a:solidFill>
                <a:latin typeface="Times New Roman"/>
              </a:endParaRPr>
            </a:p>
          </p:txBody>
        </p:sp>
        <p:sp>
          <p:nvSpPr>
            <p:cNvPr id="752" name="Freeform 273"/>
            <p:cNvSpPr/>
            <p:nvPr/>
          </p:nvSpPr>
          <p:spPr>
            <a:xfrm>
              <a:off x="457200" y="2118960"/>
              <a:ext cx="65520" cy="47160"/>
            </a:xfrm>
            <a:custGeom>
              <a:avLst/>
              <a:gdLst>
                <a:gd name="textAreaLeft" fmla="*/ 0 w 65520"/>
                <a:gd name="textAreaRight" fmla="*/ 65880 w 65520"/>
                <a:gd name="textAreaTop" fmla="*/ 0 h 47160"/>
                <a:gd name="textAreaBottom" fmla="*/ 47520 h 47160"/>
              </a:gdLst>
              <a:ahLst/>
              <a:rect l="textAreaLeft" t="textAreaTop" r="textAreaRight" b="textAreaBottom"/>
              <a:pathLst>
                <a:path w="845" h="611">
                  <a:moveTo>
                    <a:pt x="531" y="51"/>
                  </a:moveTo>
                  <a:lnTo>
                    <a:pt x="523" y="49"/>
                  </a:lnTo>
                  <a:lnTo>
                    <a:pt x="501" y="42"/>
                  </a:lnTo>
                  <a:lnTo>
                    <a:pt x="468" y="34"/>
                  </a:lnTo>
                  <a:lnTo>
                    <a:pt x="425" y="24"/>
                  </a:lnTo>
                  <a:lnTo>
                    <a:pt x="399" y="19"/>
                  </a:lnTo>
                  <a:lnTo>
                    <a:pt x="374" y="14"/>
                  </a:lnTo>
                  <a:lnTo>
                    <a:pt x="347" y="10"/>
                  </a:lnTo>
                  <a:lnTo>
                    <a:pt x="320" y="6"/>
                  </a:lnTo>
                  <a:lnTo>
                    <a:pt x="290" y="3"/>
                  </a:lnTo>
                  <a:lnTo>
                    <a:pt x="262" y="1"/>
                  </a:lnTo>
                  <a:lnTo>
                    <a:pt x="234" y="0"/>
                  </a:lnTo>
                  <a:lnTo>
                    <a:pt x="206" y="0"/>
                  </a:lnTo>
                  <a:lnTo>
                    <a:pt x="178" y="2"/>
                  </a:lnTo>
                  <a:lnTo>
                    <a:pt x="151" y="5"/>
                  </a:lnTo>
                  <a:lnTo>
                    <a:pt x="125" y="10"/>
                  </a:lnTo>
                  <a:lnTo>
                    <a:pt x="102" y="17"/>
                  </a:lnTo>
                  <a:lnTo>
                    <a:pt x="80" y="26"/>
                  </a:lnTo>
                  <a:lnTo>
                    <a:pt x="60" y="37"/>
                  </a:lnTo>
                  <a:lnTo>
                    <a:pt x="42" y="51"/>
                  </a:lnTo>
                  <a:lnTo>
                    <a:pt x="27" y="67"/>
                  </a:lnTo>
                  <a:lnTo>
                    <a:pt x="15" y="87"/>
                  </a:lnTo>
                  <a:lnTo>
                    <a:pt x="6" y="110"/>
                  </a:lnTo>
                  <a:lnTo>
                    <a:pt x="1" y="135"/>
                  </a:lnTo>
                  <a:lnTo>
                    <a:pt x="0" y="164"/>
                  </a:lnTo>
                  <a:lnTo>
                    <a:pt x="3" y="196"/>
                  </a:lnTo>
                  <a:lnTo>
                    <a:pt x="11" y="232"/>
                  </a:lnTo>
                  <a:lnTo>
                    <a:pt x="23" y="272"/>
                  </a:lnTo>
                  <a:lnTo>
                    <a:pt x="42" y="315"/>
                  </a:lnTo>
                  <a:lnTo>
                    <a:pt x="53" y="327"/>
                  </a:lnTo>
                  <a:lnTo>
                    <a:pt x="84" y="361"/>
                  </a:lnTo>
                  <a:lnTo>
                    <a:pt x="106" y="382"/>
                  </a:lnTo>
                  <a:lnTo>
                    <a:pt x="131" y="406"/>
                  </a:lnTo>
                  <a:lnTo>
                    <a:pt x="159" y="432"/>
                  </a:lnTo>
                  <a:lnTo>
                    <a:pt x="191" y="459"/>
                  </a:lnTo>
                  <a:lnTo>
                    <a:pt x="224" y="486"/>
                  </a:lnTo>
                  <a:lnTo>
                    <a:pt x="258" y="512"/>
                  </a:lnTo>
                  <a:lnTo>
                    <a:pt x="276" y="525"/>
                  </a:lnTo>
                  <a:lnTo>
                    <a:pt x="295" y="537"/>
                  </a:lnTo>
                  <a:lnTo>
                    <a:pt x="313" y="548"/>
                  </a:lnTo>
                  <a:lnTo>
                    <a:pt x="331" y="559"/>
                  </a:lnTo>
                  <a:lnTo>
                    <a:pt x="349" y="570"/>
                  </a:lnTo>
                  <a:lnTo>
                    <a:pt x="367" y="579"/>
                  </a:lnTo>
                  <a:lnTo>
                    <a:pt x="385" y="588"/>
                  </a:lnTo>
                  <a:lnTo>
                    <a:pt x="403" y="595"/>
                  </a:lnTo>
                  <a:lnTo>
                    <a:pt x="421" y="600"/>
                  </a:lnTo>
                  <a:lnTo>
                    <a:pt x="439" y="605"/>
                  </a:lnTo>
                  <a:lnTo>
                    <a:pt x="456" y="608"/>
                  </a:lnTo>
                  <a:lnTo>
                    <a:pt x="472" y="610"/>
                  </a:lnTo>
                  <a:lnTo>
                    <a:pt x="490" y="611"/>
                  </a:lnTo>
                  <a:lnTo>
                    <a:pt x="508" y="611"/>
                  </a:lnTo>
                  <a:lnTo>
                    <a:pt x="527" y="609"/>
                  </a:lnTo>
                  <a:lnTo>
                    <a:pt x="547" y="606"/>
                  </a:lnTo>
                  <a:lnTo>
                    <a:pt x="566" y="601"/>
                  </a:lnTo>
                  <a:lnTo>
                    <a:pt x="585" y="596"/>
                  </a:lnTo>
                  <a:lnTo>
                    <a:pt x="604" y="589"/>
                  </a:lnTo>
                  <a:lnTo>
                    <a:pt x="623" y="582"/>
                  </a:lnTo>
                  <a:lnTo>
                    <a:pt x="642" y="573"/>
                  </a:lnTo>
                  <a:lnTo>
                    <a:pt x="661" y="563"/>
                  </a:lnTo>
                  <a:lnTo>
                    <a:pt x="681" y="553"/>
                  </a:lnTo>
                  <a:lnTo>
                    <a:pt x="699" y="542"/>
                  </a:lnTo>
                  <a:lnTo>
                    <a:pt x="716" y="530"/>
                  </a:lnTo>
                  <a:lnTo>
                    <a:pt x="733" y="518"/>
                  </a:lnTo>
                  <a:lnTo>
                    <a:pt x="748" y="505"/>
                  </a:lnTo>
                  <a:lnTo>
                    <a:pt x="764" y="492"/>
                  </a:lnTo>
                  <a:lnTo>
                    <a:pt x="778" y="479"/>
                  </a:lnTo>
                  <a:lnTo>
                    <a:pt x="791" y="465"/>
                  </a:lnTo>
                  <a:lnTo>
                    <a:pt x="803" y="452"/>
                  </a:lnTo>
                  <a:lnTo>
                    <a:pt x="814" y="437"/>
                  </a:lnTo>
                  <a:lnTo>
                    <a:pt x="823" y="423"/>
                  </a:lnTo>
                  <a:lnTo>
                    <a:pt x="831" y="409"/>
                  </a:lnTo>
                  <a:lnTo>
                    <a:pt x="837" y="395"/>
                  </a:lnTo>
                  <a:lnTo>
                    <a:pt x="842" y="381"/>
                  </a:lnTo>
                  <a:lnTo>
                    <a:pt x="844" y="368"/>
                  </a:lnTo>
                  <a:lnTo>
                    <a:pt x="845" y="355"/>
                  </a:lnTo>
                  <a:lnTo>
                    <a:pt x="844" y="342"/>
                  </a:lnTo>
                  <a:lnTo>
                    <a:pt x="841" y="330"/>
                  </a:lnTo>
                  <a:lnTo>
                    <a:pt x="836" y="317"/>
                  </a:lnTo>
                  <a:lnTo>
                    <a:pt x="828" y="306"/>
                  </a:lnTo>
                  <a:lnTo>
                    <a:pt x="818" y="296"/>
                  </a:lnTo>
                  <a:lnTo>
                    <a:pt x="806" y="286"/>
                  </a:lnTo>
                  <a:lnTo>
                    <a:pt x="778" y="269"/>
                  </a:lnTo>
                  <a:lnTo>
                    <a:pt x="751" y="251"/>
                  </a:lnTo>
                  <a:lnTo>
                    <a:pt x="726" y="232"/>
                  </a:lnTo>
                  <a:lnTo>
                    <a:pt x="701" y="213"/>
                  </a:lnTo>
                  <a:lnTo>
                    <a:pt x="677" y="192"/>
                  </a:lnTo>
                  <a:lnTo>
                    <a:pt x="654" y="173"/>
                  </a:lnTo>
                  <a:lnTo>
                    <a:pt x="633" y="154"/>
                  </a:lnTo>
                  <a:lnTo>
                    <a:pt x="613" y="136"/>
                  </a:lnTo>
                  <a:lnTo>
                    <a:pt x="579" y="103"/>
                  </a:lnTo>
                  <a:lnTo>
                    <a:pt x="554" y="75"/>
                  </a:lnTo>
                  <a:lnTo>
                    <a:pt x="536" y="57"/>
                  </a:lnTo>
                  <a:lnTo>
                    <a:pt x="531" y="51"/>
                  </a:lnTo>
                </a:path>
              </a:pathLst>
            </a:custGeom>
            <a:solidFill>
              <a:srgbClr val="93d5ed"/>
            </a:solidFill>
            <a:ln w="3240">
              <a:solidFill>
                <a:srgbClr val="ccecff"/>
              </a:solidFill>
              <a:round/>
            </a:ln>
          </p:spPr>
          <p:style>
            <a:lnRef idx="0"/>
            <a:fillRef idx="0"/>
            <a:effectRef idx="0"/>
            <a:fontRef idx="minor"/>
          </p:style>
          <p:txBody>
            <a:bodyPr lIns="90000" rIns="90000" tIns="720" bIns="720" anchor="t">
              <a:noAutofit/>
            </a:bodyPr>
            <a:p>
              <a:endParaRPr b="1" lang="en-US" sz="2400" spc="-1" strike="noStrike">
                <a:solidFill>
                  <a:srgbClr val="ffffff"/>
                </a:solidFill>
                <a:latin typeface="Times New Roman"/>
              </a:endParaRPr>
            </a:p>
          </p:txBody>
        </p:sp>
        <p:sp>
          <p:nvSpPr>
            <p:cNvPr id="753" name="Freeform 274"/>
            <p:cNvSpPr/>
            <p:nvPr/>
          </p:nvSpPr>
          <p:spPr>
            <a:xfrm>
              <a:off x="674280" y="2463840"/>
              <a:ext cx="197640" cy="256320"/>
            </a:xfrm>
            <a:custGeom>
              <a:avLst/>
              <a:gdLst>
                <a:gd name="textAreaLeft" fmla="*/ 0 w 197640"/>
                <a:gd name="textAreaRight" fmla="*/ 198000 w 197640"/>
                <a:gd name="textAreaTop" fmla="*/ 0 h 256320"/>
                <a:gd name="textAreaBottom" fmla="*/ 256680 h 256320"/>
              </a:gdLst>
              <a:ahLst/>
              <a:rect l="textAreaLeft" t="textAreaTop" r="textAreaRight" b="textAreaBottom"/>
              <a:pathLst>
                <a:path w="2508" h="3165">
                  <a:moveTo>
                    <a:pt x="2498" y="0"/>
                  </a:moveTo>
                  <a:lnTo>
                    <a:pt x="2487" y="5"/>
                  </a:lnTo>
                  <a:lnTo>
                    <a:pt x="2455" y="22"/>
                  </a:lnTo>
                  <a:lnTo>
                    <a:pt x="2405" y="47"/>
                  </a:lnTo>
                  <a:lnTo>
                    <a:pt x="2341" y="79"/>
                  </a:lnTo>
                  <a:lnTo>
                    <a:pt x="2263" y="117"/>
                  </a:lnTo>
                  <a:lnTo>
                    <a:pt x="2176" y="161"/>
                  </a:lnTo>
                  <a:lnTo>
                    <a:pt x="2080" y="207"/>
                  </a:lnTo>
                  <a:lnTo>
                    <a:pt x="1980" y="256"/>
                  </a:lnTo>
                  <a:lnTo>
                    <a:pt x="1878" y="305"/>
                  </a:lnTo>
                  <a:lnTo>
                    <a:pt x="1776" y="353"/>
                  </a:lnTo>
                  <a:lnTo>
                    <a:pt x="1678" y="400"/>
                  </a:lnTo>
                  <a:lnTo>
                    <a:pt x="1585" y="442"/>
                  </a:lnTo>
                  <a:lnTo>
                    <a:pt x="1500" y="480"/>
                  </a:lnTo>
                  <a:lnTo>
                    <a:pt x="1427" y="511"/>
                  </a:lnTo>
                  <a:lnTo>
                    <a:pt x="1394" y="524"/>
                  </a:lnTo>
                  <a:lnTo>
                    <a:pt x="1366" y="535"/>
                  </a:lnTo>
                  <a:lnTo>
                    <a:pt x="1342" y="543"/>
                  </a:lnTo>
                  <a:lnTo>
                    <a:pt x="1323" y="549"/>
                  </a:lnTo>
                  <a:lnTo>
                    <a:pt x="0" y="1010"/>
                  </a:lnTo>
                  <a:lnTo>
                    <a:pt x="0" y="3165"/>
                  </a:lnTo>
                  <a:lnTo>
                    <a:pt x="1479" y="2646"/>
                  </a:lnTo>
                  <a:lnTo>
                    <a:pt x="2508" y="2146"/>
                  </a:lnTo>
                  <a:lnTo>
                    <a:pt x="2498"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54" name="Freeform 275"/>
            <p:cNvSpPr/>
            <p:nvPr/>
          </p:nvSpPr>
          <p:spPr>
            <a:xfrm>
              <a:off x="1593360" y="2468520"/>
              <a:ext cx="70200" cy="320040"/>
            </a:xfrm>
            <a:custGeom>
              <a:avLst/>
              <a:gdLst>
                <a:gd name="textAreaLeft" fmla="*/ 0 w 70200"/>
                <a:gd name="textAreaRight" fmla="*/ 70560 w 70200"/>
                <a:gd name="textAreaTop" fmla="*/ 0 h 320040"/>
                <a:gd name="textAreaBottom" fmla="*/ 320400 h 320040"/>
              </a:gdLst>
              <a:ahLst/>
              <a:rect l="textAreaLeft" t="textAreaTop" r="textAreaRight" b="textAreaBottom"/>
              <a:pathLst>
                <a:path w="891" h="3959">
                  <a:moveTo>
                    <a:pt x="0" y="0"/>
                  </a:moveTo>
                  <a:lnTo>
                    <a:pt x="891" y="1872"/>
                  </a:lnTo>
                  <a:lnTo>
                    <a:pt x="891" y="3959"/>
                  </a:lnTo>
                  <a:lnTo>
                    <a:pt x="10" y="2146"/>
                  </a:lnTo>
                  <a:lnTo>
                    <a:pt x="0" y="0"/>
                  </a:lnTo>
                  <a:close/>
                </a:path>
              </a:pathLst>
            </a:custGeom>
            <a:solidFill>
              <a:srgbClr val="93d5ed"/>
            </a:solidFill>
            <a:ln w="9360">
              <a:solidFill>
                <a:srgbClr val="ccec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sp>
        <p:nvSpPr>
          <p:cNvPr id="755" name="Text Box 278"/>
          <p:cNvSpPr/>
          <p:nvPr/>
        </p:nvSpPr>
        <p:spPr>
          <a:xfrm>
            <a:off x="1320840" y="2870280"/>
            <a:ext cx="2425680" cy="30456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524"/>
              </a:spcBef>
              <a:buClr>
                <a:srgbClr val="b2b2b2"/>
              </a:buClr>
              <a:buFont typeface="Times New Roman"/>
              <a:buChar char="•"/>
              <a:tabLst>
                <a:tab algn="dec" pos="17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grpSp>
        <p:nvGrpSpPr>
          <p:cNvPr id="756" name="Group 492"/>
          <p:cNvGrpSpPr/>
          <p:nvPr/>
        </p:nvGrpSpPr>
        <p:grpSpPr>
          <a:xfrm>
            <a:off x="3581280" y="1523880"/>
            <a:ext cx="1828800" cy="2743200"/>
            <a:chOff x="3581280" y="1523880"/>
            <a:chExt cx="1828800" cy="2743200"/>
          </a:xfrm>
        </p:grpSpPr>
        <p:sp>
          <p:nvSpPr>
            <p:cNvPr id="757" name="Rectangle 279"/>
            <p:cNvSpPr/>
            <p:nvPr/>
          </p:nvSpPr>
          <p:spPr>
            <a:xfrm>
              <a:off x="3581280" y="1523880"/>
              <a:ext cx="1828800" cy="2743200"/>
            </a:xfrm>
            <a:prstGeom prst="rect">
              <a:avLst/>
            </a:prstGeom>
            <a:solidFill>
              <a:srgbClr val="00279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58" name="Text Box 280"/>
            <p:cNvSpPr/>
            <p:nvPr/>
          </p:nvSpPr>
          <p:spPr>
            <a:xfrm>
              <a:off x="3722400" y="1822320"/>
              <a:ext cx="1611360" cy="146556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 Ambulatory Surgery  Databases (SASD)</a:t>
              </a:r>
              <a:endParaRPr b="1" lang="en-US" sz="1800" spc="-1" strike="noStrike">
                <a:solidFill>
                  <a:srgbClr val="ffffff"/>
                </a:solidFill>
                <a:latin typeface="Times New Roman"/>
              </a:endParaRPr>
            </a:p>
          </p:txBody>
        </p:sp>
        <p:pic>
          <p:nvPicPr>
            <p:cNvPr id="759" name="Picture 281" descr="Compact"/>
            <p:cNvPicPr/>
            <p:nvPr/>
          </p:nvPicPr>
          <p:blipFill>
            <a:blip r:embed="rId1"/>
            <a:stretch/>
          </p:blipFill>
          <p:spPr>
            <a:xfrm>
              <a:off x="3886200" y="3352680"/>
              <a:ext cx="1252440" cy="687240"/>
            </a:xfrm>
            <a:prstGeom prst="rect">
              <a:avLst/>
            </a:prstGeom>
            <a:ln w="0">
              <a:noFill/>
            </a:ln>
          </p:spPr>
        </p:pic>
      </p:grpSp>
      <p:sp>
        <p:nvSpPr>
          <p:cNvPr id="760" name="Rectangle 283"/>
          <p:cNvSpPr/>
          <p:nvPr/>
        </p:nvSpPr>
        <p:spPr>
          <a:xfrm>
            <a:off x="787320" y="5956200"/>
            <a:ext cx="363240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grpSp>
        <p:nvGrpSpPr>
          <p:cNvPr id="761" name="Group 491"/>
          <p:cNvGrpSpPr/>
          <p:nvPr/>
        </p:nvGrpSpPr>
        <p:grpSpPr>
          <a:xfrm>
            <a:off x="990720" y="1523880"/>
            <a:ext cx="1892160" cy="2743200"/>
            <a:chOff x="990720" y="1523880"/>
            <a:chExt cx="1892160" cy="2743200"/>
          </a:xfrm>
        </p:grpSpPr>
        <p:sp>
          <p:nvSpPr>
            <p:cNvPr id="762" name="Rectangle 468"/>
            <p:cNvSpPr/>
            <p:nvPr/>
          </p:nvSpPr>
          <p:spPr>
            <a:xfrm>
              <a:off x="990720" y="1523880"/>
              <a:ext cx="1892160" cy="2743200"/>
            </a:xfrm>
            <a:prstGeom prst="rect">
              <a:avLst/>
            </a:prstGeom>
            <a:solidFill>
              <a:srgbClr val="00279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63" name="Text Box 469"/>
            <p:cNvSpPr/>
            <p:nvPr/>
          </p:nvSpPr>
          <p:spPr>
            <a:xfrm>
              <a:off x="1143000" y="1981080"/>
              <a:ext cx="1652040" cy="119124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   Inpatient Databases    (SID)</a:t>
              </a:r>
              <a:endParaRPr b="1" lang="en-US" sz="1800" spc="-1" strike="noStrike">
                <a:solidFill>
                  <a:srgbClr val="ffffff"/>
                </a:solidFill>
                <a:latin typeface="Times New Roman"/>
              </a:endParaRPr>
            </a:p>
          </p:txBody>
        </p:sp>
        <p:pic>
          <p:nvPicPr>
            <p:cNvPr id="764" name="Picture 470" descr="Compact"/>
            <p:cNvPicPr/>
            <p:nvPr/>
          </p:nvPicPr>
          <p:blipFill>
            <a:blip r:embed="rId2"/>
            <a:stretch/>
          </p:blipFill>
          <p:spPr>
            <a:xfrm>
              <a:off x="1295280" y="3352680"/>
              <a:ext cx="1252080" cy="682560"/>
            </a:xfrm>
            <a:prstGeom prst="rect">
              <a:avLst/>
            </a:prstGeom>
            <a:ln w="0">
              <a:noFill/>
            </a:ln>
          </p:spPr>
        </p:pic>
      </p:grpSp>
      <p:grpSp>
        <p:nvGrpSpPr>
          <p:cNvPr id="765" name="Group 493"/>
          <p:cNvGrpSpPr/>
          <p:nvPr/>
        </p:nvGrpSpPr>
        <p:grpSpPr>
          <a:xfrm>
            <a:off x="6172200" y="1523880"/>
            <a:ext cx="1828800" cy="2743200"/>
            <a:chOff x="6172200" y="1523880"/>
            <a:chExt cx="1828800" cy="2743200"/>
          </a:xfrm>
        </p:grpSpPr>
        <p:sp>
          <p:nvSpPr>
            <p:cNvPr id="766" name="Rectangle 472"/>
            <p:cNvSpPr/>
            <p:nvPr/>
          </p:nvSpPr>
          <p:spPr>
            <a:xfrm>
              <a:off x="6172200" y="1523880"/>
              <a:ext cx="1828800" cy="2743200"/>
            </a:xfrm>
            <a:prstGeom prst="rect">
              <a:avLst/>
            </a:prstGeom>
            <a:solidFill>
              <a:srgbClr val="00279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67" name="Text Box 473"/>
            <p:cNvSpPr/>
            <p:nvPr/>
          </p:nvSpPr>
          <p:spPr>
            <a:xfrm>
              <a:off x="6310440" y="1855800"/>
              <a:ext cx="1585800" cy="1465560"/>
            </a:xfrm>
            <a:prstGeom prst="rect">
              <a:avLst/>
            </a:prstGeom>
            <a:solidFill>
              <a:srgbClr val="00279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e Emergency Department Databases  (SEDD)</a:t>
              </a:r>
              <a:endParaRPr b="1" lang="en-US" sz="1800" spc="-1" strike="noStrike">
                <a:solidFill>
                  <a:srgbClr val="ffffff"/>
                </a:solidFill>
                <a:latin typeface="Times New Roman"/>
              </a:endParaRPr>
            </a:p>
          </p:txBody>
        </p:sp>
        <p:pic>
          <p:nvPicPr>
            <p:cNvPr id="768" name="Picture 485" descr="Compact"/>
            <p:cNvPicPr/>
            <p:nvPr/>
          </p:nvPicPr>
          <p:blipFill>
            <a:blip r:embed="rId3"/>
            <a:stretch/>
          </p:blipFill>
          <p:spPr>
            <a:xfrm>
              <a:off x="6553080" y="3352680"/>
              <a:ext cx="1252800" cy="687240"/>
            </a:xfrm>
            <a:prstGeom prst="rect">
              <a:avLst/>
            </a:prstGeom>
            <a:ln w="0">
              <a:noFill/>
            </a:ln>
          </p:spPr>
        </p:pic>
      </p:grpSp>
      <p:grpSp>
        <p:nvGrpSpPr>
          <p:cNvPr id="769" name="Group 510"/>
          <p:cNvGrpSpPr/>
          <p:nvPr/>
        </p:nvGrpSpPr>
        <p:grpSpPr>
          <a:xfrm>
            <a:off x="380880" y="3657600"/>
            <a:ext cx="1455840" cy="3006000"/>
            <a:chOff x="380880" y="3657600"/>
            <a:chExt cx="1455840" cy="3006000"/>
          </a:xfrm>
        </p:grpSpPr>
        <p:sp>
          <p:nvSpPr>
            <p:cNvPr id="770" name="Line 476"/>
            <p:cNvSpPr/>
            <p:nvPr/>
          </p:nvSpPr>
          <p:spPr>
            <a:xfrm flipH="1">
              <a:off x="1371600" y="3657600"/>
              <a:ext cx="457200" cy="1219320"/>
            </a:xfrm>
            <a:prstGeom prst="line">
              <a:avLst/>
            </a:prstGeom>
            <a:ln w="38160">
              <a:solidFill>
                <a:srgbClr val="cc3300"/>
              </a:solidFill>
              <a:miter/>
              <a:tailEnd len="med" type="stealth" w="med"/>
            </a:ln>
          </p:spPr>
          <p:style>
            <a:lnRef idx="0"/>
            <a:fillRef idx="0"/>
            <a:effectRef idx="0"/>
            <a:fontRef idx="minor"/>
          </p:style>
          <p:txBody>
            <a:bodyPr lIns="92160" rIns="92160" tIns="46080" bIns="46080" anchor="t">
              <a:noAutofit/>
            </a:bodyPr>
            <a:p>
              <a:endParaRPr b="1" lang="en-US" sz="2400" spc="-1" strike="noStrike">
                <a:solidFill>
                  <a:srgbClr val="ffffff"/>
                </a:solidFill>
                <a:latin typeface="Times New Roman"/>
              </a:endParaRPr>
            </a:p>
          </p:txBody>
        </p:sp>
        <p:grpSp>
          <p:nvGrpSpPr>
            <p:cNvPr id="771" name="Group 507"/>
            <p:cNvGrpSpPr/>
            <p:nvPr/>
          </p:nvGrpSpPr>
          <p:grpSpPr>
            <a:xfrm>
              <a:off x="380880" y="4876920"/>
              <a:ext cx="1455840" cy="1786680"/>
              <a:chOff x="380880" y="4876920"/>
              <a:chExt cx="1455840" cy="1786680"/>
            </a:xfrm>
          </p:grpSpPr>
          <p:pic>
            <p:nvPicPr>
              <p:cNvPr id="772" name="Picture 478" descr="Compact"/>
              <p:cNvPicPr/>
              <p:nvPr/>
            </p:nvPicPr>
            <p:blipFill>
              <a:blip r:embed="rId4"/>
              <a:stretch/>
            </p:blipFill>
            <p:spPr>
              <a:xfrm>
                <a:off x="380880" y="4876920"/>
                <a:ext cx="1455840" cy="709560"/>
              </a:xfrm>
              <a:prstGeom prst="rect">
                <a:avLst/>
              </a:prstGeom>
              <a:ln w="0">
                <a:noFill/>
              </a:ln>
            </p:spPr>
          </p:pic>
          <p:sp>
            <p:nvSpPr>
              <p:cNvPr id="773" name="Text Box 486"/>
              <p:cNvSpPr/>
              <p:nvPr/>
            </p:nvSpPr>
            <p:spPr>
              <a:xfrm>
                <a:off x="457200" y="5597640"/>
                <a:ext cx="1371600" cy="1065960"/>
              </a:xfrm>
              <a:prstGeom prst="rect">
                <a:avLst/>
              </a:prstGeom>
              <a:solidFill>
                <a:srgbClr val="00279f"/>
              </a:solidFill>
              <a:ln w="38160">
                <a:solidFill>
                  <a:srgbClr val="ffffff"/>
                </a:solidFill>
                <a:miter/>
              </a:ln>
            </p:spPr>
            <p:style>
              <a:lnRef idx="0"/>
              <a:fillRef idx="0"/>
              <a:effectRef idx="0"/>
              <a:fontRef idx="minor"/>
            </p:style>
            <p:txBody>
              <a:bodyPr lIns="92520" rIns="9252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ionwide Inpatient Sample (NIS)</a:t>
                </a:r>
                <a:endParaRPr b="1" lang="en-US" sz="1600" spc="-1" strike="noStrike">
                  <a:solidFill>
                    <a:srgbClr val="ffffff"/>
                  </a:solidFill>
                  <a:latin typeface="Times New Roman"/>
                </a:endParaRPr>
              </a:p>
            </p:txBody>
          </p:sp>
        </p:grpSp>
      </p:grpSp>
      <p:grpSp>
        <p:nvGrpSpPr>
          <p:cNvPr id="774" name="Group 296"/>
          <p:cNvGrpSpPr/>
          <p:nvPr/>
        </p:nvGrpSpPr>
        <p:grpSpPr>
          <a:xfrm>
            <a:off x="7162920" y="3733920"/>
            <a:ext cx="1476360" cy="3020400"/>
            <a:chOff x="7162920" y="3733920"/>
            <a:chExt cx="1476360" cy="3020400"/>
          </a:xfrm>
        </p:grpSpPr>
        <p:sp>
          <p:nvSpPr>
            <p:cNvPr id="775" name="Line 477"/>
            <p:cNvSpPr/>
            <p:nvPr/>
          </p:nvSpPr>
          <p:spPr>
            <a:xfrm>
              <a:off x="7238880" y="3733920"/>
              <a:ext cx="381240" cy="990360"/>
            </a:xfrm>
            <a:prstGeom prst="line">
              <a:avLst/>
            </a:prstGeom>
            <a:ln w="38160">
              <a:solidFill>
                <a:srgbClr val="cc3300"/>
              </a:solidFill>
              <a:miter/>
              <a:tailEnd len="med" type="stealth" w="med"/>
            </a:ln>
          </p:spPr>
          <p:style>
            <a:lnRef idx="0"/>
            <a:fillRef idx="0"/>
            <a:effectRef idx="0"/>
            <a:fontRef idx="minor"/>
          </p:style>
          <p:txBody>
            <a:bodyPr lIns="92160" rIns="92160" tIns="46080" bIns="46080" anchor="t">
              <a:noAutofit/>
            </a:bodyPr>
            <a:p>
              <a:endParaRPr b="1" lang="en-US" sz="2400" spc="-1" strike="noStrike">
                <a:solidFill>
                  <a:srgbClr val="ffffff"/>
                </a:solidFill>
                <a:latin typeface="Times New Roman"/>
              </a:endParaRPr>
            </a:p>
          </p:txBody>
        </p:sp>
        <p:pic>
          <p:nvPicPr>
            <p:cNvPr id="776" name="Picture 479" descr="Compact"/>
            <p:cNvPicPr/>
            <p:nvPr/>
          </p:nvPicPr>
          <p:blipFill>
            <a:blip r:embed="rId5"/>
            <a:stretch/>
          </p:blipFill>
          <p:spPr>
            <a:xfrm>
              <a:off x="7162920" y="4724280"/>
              <a:ext cx="1455480" cy="709560"/>
            </a:xfrm>
            <a:prstGeom prst="rect">
              <a:avLst/>
            </a:prstGeom>
            <a:ln w="0">
              <a:noFill/>
            </a:ln>
          </p:spPr>
        </p:pic>
        <p:sp>
          <p:nvSpPr>
            <p:cNvPr id="777" name="Text Box 487"/>
            <p:cNvSpPr/>
            <p:nvPr/>
          </p:nvSpPr>
          <p:spPr>
            <a:xfrm>
              <a:off x="7162920" y="5445000"/>
              <a:ext cx="1476360" cy="1309320"/>
            </a:xfrm>
            <a:prstGeom prst="rect">
              <a:avLst/>
            </a:prstGeom>
            <a:solidFill>
              <a:srgbClr val="00279f"/>
            </a:solidFill>
            <a:ln w="38160">
              <a:solidFill>
                <a:srgbClr val="ffffff"/>
              </a:solidFill>
              <a:miter/>
            </a:ln>
          </p:spPr>
          <p:style>
            <a:lnRef idx="0"/>
            <a:fillRef idx="0"/>
            <a:effectRef idx="0"/>
            <a:fontRef idx="minor"/>
          </p:style>
          <p:txBody>
            <a:bodyPr lIns="92520" rIns="9252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ionwide Emergency Department Sample (NEDS)</a:t>
              </a:r>
              <a:endParaRPr b="1" lang="en-US" sz="1600" spc="-1" strike="noStrike">
                <a:solidFill>
                  <a:srgbClr val="ffffff"/>
                </a:solidFill>
                <a:latin typeface="Times New Roman"/>
              </a:endParaRPr>
            </a:p>
          </p:txBody>
        </p:sp>
      </p:grpSp>
      <p:grpSp>
        <p:nvGrpSpPr>
          <p:cNvPr id="778" name="Group 511"/>
          <p:cNvGrpSpPr/>
          <p:nvPr/>
        </p:nvGrpSpPr>
        <p:grpSpPr>
          <a:xfrm>
            <a:off x="1981080" y="3657600"/>
            <a:ext cx="1476360" cy="3006000"/>
            <a:chOff x="1981080" y="3657600"/>
            <a:chExt cx="1476360" cy="3006000"/>
          </a:xfrm>
        </p:grpSpPr>
        <p:sp>
          <p:nvSpPr>
            <p:cNvPr id="779" name="Line 477"/>
            <p:cNvSpPr/>
            <p:nvPr/>
          </p:nvSpPr>
          <p:spPr>
            <a:xfrm>
              <a:off x="1981080" y="3657600"/>
              <a:ext cx="457200" cy="1219320"/>
            </a:xfrm>
            <a:prstGeom prst="line">
              <a:avLst/>
            </a:prstGeom>
            <a:ln w="38160">
              <a:solidFill>
                <a:srgbClr val="cc3300"/>
              </a:solidFill>
              <a:miter/>
              <a:tailEnd len="med" type="stealth" w="med"/>
            </a:ln>
          </p:spPr>
          <p:style>
            <a:lnRef idx="0"/>
            <a:fillRef idx="0"/>
            <a:effectRef idx="0"/>
            <a:fontRef idx="minor"/>
          </p:style>
          <p:txBody>
            <a:bodyPr lIns="92160" rIns="92160" tIns="46080" bIns="46080" anchor="t">
              <a:noAutofit/>
            </a:bodyPr>
            <a:p>
              <a:endParaRPr b="1" lang="en-US" sz="2400" spc="-1" strike="noStrike">
                <a:solidFill>
                  <a:srgbClr val="ffffff"/>
                </a:solidFill>
                <a:latin typeface="Times New Roman"/>
              </a:endParaRPr>
            </a:p>
          </p:txBody>
        </p:sp>
        <p:grpSp>
          <p:nvGrpSpPr>
            <p:cNvPr id="780" name="Group 508"/>
            <p:cNvGrpSpPr/>
            <p:nvPr/>
          </p:nvGrpSpPr>
          <p:grpSpPr>
            <a:xfrm>
              <a:off x="1981080" y="4876920"/>
              <a:ext cx="1476360" cy="1786680"/>
              <a:chOff x="1981080" y="4876920"/>
              <a:chExt cx="1476360" cy="1786680"/>
            </a:xfrm>
          </p:grpSpPr>
          <p:pic>
            <p:nvPicPr>
              <p:cNvPr id="781" name="Picture 479" descr="Compact"/>
              <p:cNvPicPr/>
              <p:nvPr/>
            </p:nvPicPr>
            <p:blipFill>
              <a:blip r:embed="rId6"/>
              <a:stretch/>
            </p:blipFill>
            <p:spPr>
              <a:xfrm>
                <a:off x="1981080" y="4876920"/>
                <a:ext cx="1455480" cy="709560"/>
              </a:xfrm>
              <a:prstGeom prst="rect">
                <a:avLst/>
              </a:prstGeom>
              <a:ln w="0">
                <a:noFill/>
              </a:ln>
            </p:spPr>
          </p:pic>
          <p:sp>
            <p:nvSpPr>
              <p:cNvPr id="782" name="Text Box 487"/>
              <p:cNvSpPr/>
              <p:nvPr/>
            </p:nvSpPr>
            <p:spPr>
              <a:xfrm>
                <a:off x="2133360" y="5597640"/>
                <a:ext cx="1324080" cy="1065960"/>
              </a:xfrm>
              <a:prstGeom prst="rect">
                <a:avLst/>
              </a:prstGeom>
              <a:solidFill>
                <a:srgbClr val="00279f"/>
              </a:solidFill>
              <a:ln w="38160">
                <a:solidFill>
                  <a:srgbClr val="ffffff"/>
                </a:solidFill>
                <a:miter/>
              </a:ln>
            </p:spPr>
            <p:style>
              <a:lnRef idx="0"/>
              <a:fillRef idx="0"/>
              <a:effectRef idx="0"/>
              <a:fontRef idx="minor"/>
            </p:style>
            <p:txBody>
              <a:bodyPr lIns="92520" rIns="9252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ds’             Inpatient Database  (KID)</a:t>
                </a:r>
                <a:endParaRPr b="1" lang="en-US" sz="1600" spc="-1" strike="noStrike">
                  <a:solidFill>
                    <a:srgbClr val="ffffff"/>
                  </a:solidFill>
                  <a:latin typeface="Times New Roman"/>
                </a:endParaRPr>
              </a:p>
            </p:txBody>
          </p:sp>
        </p:grpSp>
      </p:grpSp>
      <p:sp>
        <p:nvSpPr>
          <p:cNvPr id="783" name="Line 311"/>
          <p:cNvSpPr/>
          <p:nvPr/>
        </p:nvSpPr>
        <p:spPr>
          <a:xfrm>
            <a:off x="2057400" y="3657600"/>
            <a:ext cx="5105520" cy="1295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84"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ypes of HCUP Databases</a:t>
            </a:r>
            <a:endParaRPr b="1" lang="en-US" sz="4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844280" y="228600"/>
            <a:ext cx="68454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Quality Indicators (QIs)</a:t>
            </a:r>
            <a:endParaRPr b="1" lang="en-US" sz="3600" spc="-1" strike="noStrike">
              <a:solidFill>
                <a:srgbClr val="ffff00"/>
              </a:solidFill>
              <a:latin typeface="Arial"/>
            </a:endParaRPr>
          </a:p>
        </p:txBody>
      </p:sp>
      <p:sp>
        <p:nvSpPr>
          <p:cNvPr id="786" name="PlaceHolder 2"/>
          <p:cNvSpPr>
            <a:spLocks noGrp="1"/>
          </p:cNvSpPr>
          <p:nvPr>
            <p:ph/>
          </p:nvPr>
        </p:nvSpPr>
        <p:spPr>
          <a:xfrm>
            <a:off x="380520" y="1599840"/>
            <a:ext cx="8458200" cy="5257800"/>
          </a:xfrm>
          <a:prstGeom prst="rect">
            <a:avLst/>
          </a:prstGeom>
          <a:noFill/>
          <a:ln w="0">
            <a:noFill/>
          </a:ln>
        </p:spPr>
        <p:txBody>
          <a:bodyPr lIns="90360" rIns="90360" tIns="44280" bIns="44280" anchor="t">
            <a:normAutofit/>
          </a:bodyPr>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ed through contract with UCSF-Stanford Evidence-based Practice Center &amp; UC Davis, maintained and extended through contract with Battelle</a:t>
            </a:r>
            <a:endParaRPr b="0" lang="en-US" sz="24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existing HCUP (hospital discharge) data, based on readily available data elements</a:t>
            </a:r>
            <a:endParaRPr b="0" lang="en-US" sz="24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e a range of severity adjustment methods, including APR-DRGs* and comorbidity groupings </a:t>
            </a:r>
            <a:endParaRPr b="0" lang="en-US" sz="24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eminate software and support materials free via </a:t>
            </a:r>
            <a:r>
              <a:rPr b="0" lang="en-US" sz="2400" spc="-1" strike="noStrike" u="sng">
                <a:solidFill>
                  <a:srgbClr val="fafd00"/>
                </a:solidFill>
                <a:uFillTx/>
                <a:latin typeface="Arial"/>
                <a:hlinkClick r:id="rId1"/>
              </a:rPr>
              <a:t>http://www.qualityindicators.ahrq.gov</a:t>
            </a:r>
            <a:endParaRPr b="0" lang="en-US" sz="24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technical support to users</a:t>
            </a:r>
            <a:endParaRPr b="0" lang="en-US" sz="24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ous improvement through user feedback, annual coding updates, validation projects</a:t>
            </a:r>
            <a:endParaRPr b="0" lang="en-US" sz="24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ll Patient Refined - Diagnosis Related Groups</a:t>
            </a:r>
            <a:r>
              <a:rPr b="0" lang="en-US" sz="800" spc="-1" strike="noStrike">
                <a:solidFill>
                  <a:srgbClr val="ffffff"/>
                </a:solidFill>
                <a:latin typeface="Arial"/>
              </a:rPr>
              <a:t> </a:t>
            </a:r>
            <a:endParaRPr b="0" lang="en-US" sz="800" spc="-1" strike="noStrike">
              <a:solidFill>
                <a:srgbClr val="ffffff"/>
              </a:solidFill>
              <a:latin typeface="Arial"/>
            </a:endParaRPr>
          </a:p>
        </p:txBody>
      </p:sp>
      <p:sp>
        <p:nvSpPr>
          <p:cNvPr id="787" name="Text Box 4"/>
          <p:cNvSpPr/>
          <p:nvPr/>
        </p:nvSpPr>
        <p:spPr>
          <a:xfrm>
            <a:off x="8763120" y="6400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3CEA-E668-41EF-B2FF-34FC7AEC9150}"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676520" y="151920"/>
            <a:ext cx="7315200" cy="876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Evidence-based indicator development</a:t>
            </a:r>
            <a:endParaRPr b="1" lang="en-US" sz="3000" spc="-1" strike="noStrike">
              <a:solidFill>
                <a:srgbClr val="ffff00"/>
              </a:solidFill>
              <a:latin typeface="Arial"/>
            </a:endParaRPr>
          </a:p>
        </p:txBody>
      </p:sp>
      <p:grpSp>
        <p:nvGrpSpPr>
          <p:cNvPr id="789" name="Group 3"/>
          <p:cNvGrpSpPr/>
          <p:nvPr/>
        </p:nvGrpSpPr>
        <p:grpSpPr>
          <a:xfrm>
            <a:off x="457200" y="1219320"/>
            <a:ext cx="8305920" cy="5486400"/>
            <a:chOff x="457200" y="1219320"/>
            <a:chExt cx="8305920" cy="5486400"/>
          </a:xfrm>
        </p:grpSpPr>
        <p:sp>
          <p:nvSpPr>
            <p:cNvPr id="790" name="Rectangle 4"/>
            <p:cNvSpPr/>
            <p:nvPr/>
          </p:nvSpPr>
          <p:spPr>
            <a:xfrm>
              <a:off x="457200" y="1447920"/>
              <a:ext cx="2666880" cy="1371600"/>
            </a:xfrm>
            <a:prstGeom prst="rect">
              <a:avLst/>
            </a:prstGeom>
            <a:solidFill>
              <a:srgbClr val="51d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91" name="Rectangle 5"/>
            <p:cNvSpPr/>
            <p:nvPr/>
          </p:nvSpPr>
          <p:spPr>
            <a:xfrm>
              <a:off x="3200400" y="3429000"/>
              <a:ext cx="2743200" cy="13716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NEL EVALUATION</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IFIED DELPHI </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1" lang="en-US" sz="1800" spc="-1" strike="noStrike">
                <a:solidFill>
                  <a:srgbClr val="ffffff"/>
                </a:solidFill>
                <a:latin typeface="Times New Roman"/>
              </a:endParaRPr>
            </a:p>
          </p:txBody>
        </p:sp>
        <p:sp>
          <p:nvSpPr>
            <p:cNvPr id="792" name="Oval 6"/>
            <p:cNvSpPr/>
            <p:nvPr/>
          </p:nvSpPr>
          <p:spPr>
            <a:xfrm>
              <a:off x="457200" y="4876920"/>
              <a:ext cx="2666880" cy="1828800"/>
            </a:xfrm>
            <a:prstGeom prst="ellipse">
              <a:avLst/>
            </a:prstGeom>
            <a:solidFill>
              <a:srgbClr val="00279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RTHER</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IRICAL ANALYSES</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FINED DEFINITION</a:t>
              </a:r>
              <a:endParaRPr b="1" lang="en-US" sz="1800" spc="-1" strike="noStrike">
                <a:solidFill>
                  <a:srgbClr val="ffffff"/>
                </a:solidFill>
                <a:latin typeface="Times New Roman"/>
              </a:endParaRPr>
            </a:p>
          </p:txBody>
        </p:sp>
        <p:sp>
          <p:nvSpPr>
            <p:cNvPr id="793" name="Rectangle 7"/>
            <p:cNvSpPr/>
            <p:nvPr/>
          </p:nvSpPr>
          <p:spPr>
            <a:xfrm>
              <a:off x="6095880" y="5105520"/>
              <a:ext cx="2667240" cy="1600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RTHER REVIEW?</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L DEFINITION</a:t>
              </a:r>
              <a:endParaRPr b="1" lang="en-US" sz="1800" spc="-1" strike="noStrike">
                <a:solidFill>
                  <a:srgbClr val="ffffff"/>
                </a:solidFill>
                <a:latin typeface="Times New Roman"/>
              </a:endParaRPr>
            </a:p>
          </p:txBody>
        </p:sp>
        <p:sp>
          <p:nvSpPr>
            <p:cNvPr id="794" name="Oval 8"/>
            <p:cNvSpPr/>
            <p:nvPr/>
          </p:nvSpPr>
          <p:spPr>
            <a:xfrm>
              <a:off x="5867280" y="1219320"/>
              <a:ext cx="2895840" cy="1828800"/>
            </a:xfrm>
            <a:prstGeom prst="ellipse">
              <a:avLst/>
            </a:prstGeom>
            <a:solidFill>
              <a:srgbClr val="00279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ITIAL </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RICAL ANALYSES</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DEFINITION</a:t>
              </a:r>
              <a:endParaRPr b="1" lang="en-US" sz="1800" spc="-1" strike="noStrike">
                <a:solidFill>
                  <a:srgbClr val="ffffff"/>
                </a:solidFill>
                <a:latin typeface="Times New Roman"/>
              </a:endParaRPr>
            </a:p>
          </p:txBody>
        </p:sp>
        <p:sp>
          <p:nvSpPr>
            <p:cNvPr id="795" name="Text Box 9"/>
            <p:cNvSpPr/>
            <p:nvPr/>
          </p:nvSpPr>
          <p:spPr>
            <a:xfrm>
              <a:off x="477360" y="1752480"/>
              <a:ext cx="25948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TERATURE REVIEW</a:t>
              </a: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 SUGGESTIONS</a:t>
              </a:r>
              <a:endParaRPr b="1" lang="en-US" sz="1800" spc="-1" strike="noStrike">
                <a:solidFill>
                  <a:srgbClr val="ffffff"/>
                </a:solidFill>
                <a:latin typeface="Times New Roman"/>
              </a:endParaRPr>
            </a:p>
          </p:txBody>
        </p:sp>
        <p:sp>
          <p:nvSpPr>
            <p:cNvPr id="796" name="Line 10"/>
            <p:cNvSpPr/>
            <p:nvPr/>
          </p:nvSpPr>
          <p:spPr>
            <a:xfrm>
              <a:off x="3276720" y="1981080"/>
              <a:ext cx="2438280" cy="0"/>
            </a:xfrm>
            <a:prstGeom prst="line">
              <a:avLst/>
            </a:prstGeom>
            <a:ln w="8568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97" name="Line 11"/>
            <p:cNvSpPr/>
            <p:nvPr/>
          </p:nvSpPr>
          <p:spPr>
            <a:xfrm>
              <a:off x="3276720" y="5791320"/>
              <a:ext cx="2438280" cy="0"/>
            </a:xfrm>
            <a:prstGeom prst="line">
              <a:avLst/>
            </a:prstGeom>
            <a:ln w="8568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98" name="Line 12"/>
            <p:cNvSpPr/>
            <p:nvPr/>
          </p:nvSpPr>
          <p:spPr>
            <a:xfrm flipH="1">
              <a:off x="6172200" y="3200400"/>
              <a:ext cx="990720" cy="762120"/>
            </a:xfrm>
            <a:prstGeom prst="line">
              <a:avLst/>
            </a:prstGeom>
            <a:ln w="8568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99" name="Line 13"/>
            <p:cNvSpPr/>
            <p:nvPr/>
          </p:nvSpPr>
          <p:spPr>
            <a:xfrm flipH="1">
              <a:off x="2057400" y="4114800"/>
              <a:ext cx="990720" cy="762120"/>
            </a:xfrm>
            <a:prstGeom prst="line">
              <a:avLst/>
            </a:prstGeom>
            <a:ln w="8568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sp>
        <p:nvSpPr>
          <p:cNvPr id="800" name="Text Box 14"/>
          <p:cNvSpPr/>
          <p:nvPr/>
        </p:nvSpPr>
        <p:spPr>
          <a:xfrm>
            <a:off x="8839080" y="64008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D7F8-ABF8-4F8C-85D6-28AE709A7532}"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1" name="Group 2"/>
          <p:cNvGrpSpPr/>
          <p:nvPr/>
        </p:nvGrpSpPr>
        <p:grpSpPr>
          <a:xfrm>
            <a:off x="533520" y="1523880"/>
            <a:ext cx="8199000" cy="5046480"/>
            <a:chOff x="533520" y="1523880"/>
            <a:chExt cx="8199000" cy="5046480"/>
          </a:xfrm>
        </p:grpSpPr>
        <p:sp>
          <p:nvSpPr>
            <p:cNvPr id="802" name="Rectangle 3"/>
            <p:cNvSpPr/>
            <p:nvPr/>
          </p:nvSpPr>
          <p:spPr>
            <a:xfrm>
              <a:off x="2385720" y="1537920"/>
              <a:ext cx="6346800" cy="503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803" name="Rectangle 4"/>
            <p:cNvSpPr/>
            <p:nvPr/>
          </p:nvSpPr>
          <p:spPr>
            <a:xfrm flipV="1" rot="10800000">
              <a:off x="2390400" y="1535400"/>
              <a:ext cx="6324120" cy="8254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804" name="Rectangle 5"/>
            <p:cNvSpPr/>
            <p:nvPr/>
          </p:nvSpPr>
          <p:spPr>
            <a:xfrm flipV="1" rot="10800000">
              <a:off x="2085480" y="2370240"/>
              <a:ext cx="6324120" cy="8290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805" name="Rectangle 6"/>
            <p:cNvSpPr/>
            <p:nvPr/>
          </p:nvSpPr>
          <p:spPr>
            <a:xfrm flipV="1" rot="10800000">
              <a:off x="1704600" y="3215880"/>
              <a:ext cx="6324120" cy="8287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806" name="Rectangle 7"/>
            <p:cNvSpPr/>
            <p:nvPr/>
          </p:nvSpPr>
          <p:spPr>
            <a:xfrm flipV="1" rot="10800000">
              <a:off x="1287000" y="4063680"/>
              <a:ext cx="6324120" cy="8287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807" name="Rectangle 8"/>
            <p:cNvSpPr/>
            <p:nvPr/>
          </p:nvSpPr>
          <p:spPr>
            <a:xfrm flipV="1" rot="10800000">
              <a:off x="942480" y="4906440"/>
              <a:ext cx="6324120" cy="8287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808" name="Rectangle 9"/>
            <p:cNvSpPr/>
            <p:nvPr/>
          </p:nvSpPr>
          <p:spPr>
            <a:xfrm flipV="1" rot="10800000">
              <a:off x="561600" y="5742000"/>
              <a:ext cx="6324120" cy="8254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809" name="Text Box 10"/>
            <p:cNvSpPr/>
            <p:nvPr/>
          </p:nvSpPr>
          <p:spPr>
            <a:xfrm>
              <a:off x="533520" y="5743080"/>
              <a:ext cx="7073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ace validity/consensual validity:</a:t>
              </a:r>
              <a:r>
                <a:rPr b="1" lang="en-US" sz="2400" spc="-1" strike="noStrike">
                  <a:solidFill>
                    <a:srgbClr val="ffffff"/>
                  </a:solidFill>
                  <a:latin typeface="Arial"/>
                </a:rPr>
                <a:t> </a:t>
              </a:r>
              <a:r>
                <a:rPr b="1" lang="en-US" sz="1600" spc="-1" strike="noStrike">
                  <a:solidFill>
                    <a:srgbClr val="ffffff"/>
                  </a:solidFill>
                  <a:latin typeface="Arial"/>
                </a:rPr>
                <a:t>Does the </a:t>
              </a:r>
              <a:endParaRPr b="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cator capture an important and modifiable aspect of care?</a:t>
              </a:r>
              <a:endParaRPr b="1" lang="en-US" sz="1600" spc="-1" strike="noStrike">
                <a:solidFill>
                  <a:srgbClr val="ffffff"/>
                </a:solidFill>
                <a:latin typeface="Times New Roman"/>
              </a:endParaRPr>
            </a:p>
          </p:txBody>
        </p:sp>
        <p:sp>
          <p:nvSpPr>
            <p:cNvPr id="810" name="Text Box 11"/>
            <p:cNvSpPr/>
            <p:nvPr/>
          </p:nvSpPr>
          <p:spPr>
            <a:xfrm>
              <a:off x="1258920" y="4068360"/>
              <a:ext cx="65131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inimum bias:</a:t>
              </a:r>
              <a:r>
                <a:rPr b="1" lang="en-US" sz="2400" spc="-1" strike="noStrike">
                  <a:solidFill>
                    <a:srgbClr val="ffffff"/>
                  </a:solidFill>
                  <a:latin typeface="Arial"/>
                </a:rPr>
                <a:t> </a:t>
              </a:r>
              <a:r>
                <a:rPr b="1" lang="en-US" sz="1600" spc="-1" strike="noStrike">
                  <a:solidFill>
                    <a:srgbClr val="ffffff"/>
                  </a:solidFill>
                  <a:latin typeface="Arial"/>
                </a:rPr>
                <a:t>Is it possible to account for differences in severity of illness &amp; other factors that confound comparisons?</a:t>
              </a:r>
              <a:endParaRPr b="1" lang="en-US" sz="1600" spc="-1" strike="noStrike">
                <a:solidFill>
                  <a:srgbClr val="ffffff"/>
                </a:solidFill>
                <a:latin typeface="Times New Roman"/>
              </a:endParaRPr>
            </a:p>
          </p:txBody>
        </p:sp>
        <p:sp>
          <p:nvSpPr>
            <p:cNvPr id="811" name="Text Box 12"/>
            <p:cNvSpPr/>
            <p:nvPr/>
          </p:nvSpPr>
          <p:spPr>
            <a:xfrm>
              <a:off x="927000" y="4893840"/>
              <a:ext cx="6311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ecision:</a:t>
              </a:r>
              <a:r>
                <a:rPr b="1" lang="en-US" sz="2400" spc="-1" strike="noStrike">
                  <a:solidFill>
                    <a:srgbClr val="ffffff"/>
                  </a:solidFill>
                  <a:latin typeface="Arial"/>
                </a:rPr>
                <a:t> </a:t>
              </a:r>
              <a:r>
                <a:rPr b="1" lang="en-US" sz="1600" spc="-1" strike="noStrike">
                  <a:solidFill>
                    <a:srgbClr val="ffffff"/>
                  </a:solidFill>
                  <a:latin typeface="Arial"/>
                </a:rPr>
                <a:t> Is there substantial “true” variation at the level of provider measurement?</a:t>
              </a:r>
              <a:endParaRPr b="1" lang="en-US" sz="1600" spc="-1" strike="noStrike">
                <a:solidFill>
                  <a:srgbClr val="ffffff"/>
                </a:solidFill>
                <a:latin typeface="Times New Roman"/>
              </a:endParaRPr>
            </a:p>
          </p:txBody>
        </p:sp>
        <p:sp>
          <p:nvSpPr>
            <p:cNvPr id="812" name="Text Box 13"/>
            <p:cNvSpPr/>
            <p:nvPr/>
          </p:nvSpPr>
          <p:spPr>
            <a:xfrm>
              <a:off x="1704960" y="3171960"/>
              <a:ext cx="6295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nstruct validity:</a:t>
              </a:r>
              <a:r>
                <a:rPr b="1" lang="en-US" sz="2400" spc="-1" strike="noStrike">
                  <a:solidFill>
                    <a:srgbClr val="ffffff"/>
                  </a:solidFill>
                  <a:latin typeface="Arial"/>
                </a:rPr>
                <a:t> </a:t>
              </a:r>
              <a:r>
                <a:rPr b="1" lang="en-US" sz="1600" spc="-1" strike="noStrike">
                  <a:solidFill>
                    <a:srgbClr val="ffffff"/>
                  </a:solidFill>
                  <a:latin typeface="Arial"/>
                </a:rPr>
                <a:t>Does the indicator identify quality of care problems that are suspected using other methods?</a:t>
              </a:r>
              <a:endParaRPr b="1" lang="en-US" sz="1600" spc="-1" strike="noStrike">
                <a:solidFill>
                  <a:srgbClr val="ffffff"/>
                </a:solidFill>
                <a:latin typeface="Times New Roman"/>
              </a:endParaRPr>
            </a:p>
          </p:txBody>
        </p:sp>
        <p:sp>
          <p:nvSpPr>
            <p:cNvPr id="813" name="Text Box 14"/>
            <p:cNvSpPr/>
            <p:nvPr/>
          </p:nvSpPr>
          <p:spPr>
            <a:xfrm>
              <a:off x="2070000" y="2371320"/>
              <a:ext cx="6235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sters real quality improvement:</a:t>
              </a:r>
              <a:r>
                <a:rPr b="1" lang="en-US" sz="2400" spc="-1" strike="noStrike">
                  <a:solidFill>
                    <a:srgbClr val="ffffff"/>
                  </a:solidFill>
                  <a:latin typeface="Arial"/>
                </a:rPr>
                <a:t> </a:t>
              </a:r>
              <a:r>
                <a:rPr b="1" lang="en-US" sz="1600" spc="-1" strike="noStrike">
                  <a:solidFill>
                    <a:srgbClr val="ffffff"/>
                  </a:solidFill>
                  <a:latin typeface="Arial"/>
                </a:rPr>
                <a:t> Is the indicator unlikely to be gamed or cause perverse incentives?</a:t>
              </a:r>
              <a:endParaRPr b="1" lang="en-US" sz="1600" spc="-1" strike="noStrike">
                <a:solidFill>
                  <a:srgbClr val="ffffff"/>
                </a:solidFill>
                <a:latin typeface="Times New Roman"/>
              </a:endParaRPr>
            </a:p>
          </p:txBody>
        </p:sp>
        <p:sp>
          <p:nvSpPr>
            <p:cNvPr id="814" name="Text Box 15"/>
            <p:cNvSpPr/>
            <p:nvPr/>
          </p:nvSpPr>
          <p:spPr>
            <a:xfrm>
              <a:off x="2360520" y="1523880"/>
              <a:ext cx="61750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pplication/experience:</a:t>
              </a:r>
              <a:r>
                <a:rPr b="1" lang="en-US" sz="2400" spc="-1" strike="noStrike">
                  <a:solidFill>
                    <a:srgbClr val="ffffff"/>
                  </a:solidFill>
                  <a:latin typeface="Arial"/>
                </a:rPr>
                <a:t>  </a:t>
              </a:r>
              <a:r>
                <a:rPr b="1" lang="en-US" sz="1600" spc="-1" strike="noStrike">
                  <a:solidFill>
                    <a:srgbClr val="ffffff"/>
                  </a:solidFill>
                  <a:latin typeface="Arial"/>
                </a:rPr>
                <a:t>Is there reason to believe the indicator will be feasible and useful?</a:t>
              </a:r>
              <a:endParaRPr b="1" lang="en-US" sz="1600" spc="-1" strike="noStrike">
                <a:solidFill>
                  <a:srgbClr val="ffffff"/>
                </a:solidFill>
                <a:latin typeface="Times New Roman"/>
              </a:endParaRPr>
            </a:p>
          </p:txBody>
        </p:sp>
      </p:grpSp>
      <p:sp>
        <p:nvSpPr>
          <p:cNvPr id="815"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ey considerations in the evaluation of each prospective indicator</a:t>
            </a: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Oval 2"/>
          <p:cNvSpPr/>
          <p:nvPr/>
        </p:nvSpPr>
        <p:spPr>
          <a:xfrm>
            <a:off x="1905120" y="2438280"/>
            <a:ext cx="990360" cy="990720"/>
          </a:xfrm>
          <a:prstGeom prst="ellipse">
            <a:avLst/>
          </a:prstGeom>
          <a:gradFill rotWithShape="0">
            <a:gsLst>
              <a:gs pos="0">
                <a:srgbClr val="ffcc66"/>
              </a:gs>
              <a:gs pos="100000">
                <a:srgbClr val="765e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817" name="Oval 3"/>
          <p:cNvSpPr/>
          <p:nvPr/>
        </p:nvSpPr>
        <p:spPr>
          <a:xfrm>
            <a:off x="380880" y="1523880"/>
            <a:ext cx="2895840" cy="2514600"/>
          </a:xfrm>
          <a:prstGeom prst="ellipse">
            <a:avLst/>
          </a:prstGeom>
          <a:gradFill rotWithShape="0">
            <a:gsLst>
              <a:gs pos="0">
                <a:srgbClr val="ffcc66"/>
              </a:gs>
              <a:gs pos="100000">
                <a:srgbClr val="765e2f"/>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atient QIs</a:t>
            </a:r>
            <a:endParaRPr b="1"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Mortality,</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Utilization,</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Volume</a:t>
            </a:r>
            <a:endParaRPr b="1" lang="en-US" sz="2000" spc="-1" strike="noStrike">
              <a:solidFill>
                <a:srgbClr val="ffffff"/>
              </a:solidFill>
              <a:latin typeface="Times New Roman"/>
            </a:endParaRPr>
          </a:p>
        </p:txBody>
      </p:sp>
      <p:sp>
        <p:nvSpPr>
          <p:cNvPr id="818" name="PlaceHolder 1"/>
          <p:cNvSpPr>
            <a:spLocks noGrp="1"/>
          </p:cNvSpPr>
          <p:nvPr>
            <p:ph type="title"/>
          </p:nvPr>
        </p:nvSpPr>
        <p:spPr>
          <a:xfrm>
            <a:off x="1676520" y="456840"/>
            <a:ext cx="7315200" cy="66348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Quality Indicator modules</a:t>
            </a:r>
            <a:endParaRPr b="1" lang="en-US" sz="3600" spc="-1" strike="noStrike">
              <a:solidFill>
                <a:srgbClr val="ffff00"/>
              </a:solidFill>
              <a:latin typeface="Arial"/>
            </a:endParaRPr>
          </a:p>
        </p:txBody>
      </p:sp>
      <p:sp>
        <p:nvSpPr>
          <p:cNvPr id="819" name="Oval 5"/>
          <p:cNvSpPr/>
          <p:nvPr/>
        </p:nvSpPr>
        <p:spPr>
          <a:xfrm>
            <a:off x="4038480" y="1447920"/>
            <a:ext cx="2819520" cy="2514600"/>
          </a:xfrm>
          <a:prstGeom prst="ellipse">
            <a:avLst/>
          </a:prstGeom>
          <a:gradFill rotWithShape="0">
            <a:gsLst>
              <a:gs pos="0">
                <a:srgbClr val="33cccc"/>
              </a:gs>
              <a:gs pos="100000">
                <a:srgbClr val="185e5e"/>
              </a:gs>
            </a:gsLst>
            <a:path path="rect">
              <a:fillToRect l="50000" t="50000" r="50000" b="50000"/>
            </a:path>
          </a:gradFill>
          <a:ln w="28440">
            <a:solidFill>
              <a:srgbClr val="ffffff"/>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ention QIs</a:t>
            </a:r>
            <a:endParaRPr b="1"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ea Level)</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voidable </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Hospitalizations /</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Other Avoidable </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onditions</a:t>
            </a:r>
            <a:endParaRPr b="1" lang="en-US" sz="2000" spc="-1" strike="noStrike">
              <a:solidFill>
                <a:srgbClr val="ffffff"/>
              </a:solidFill>
              <a:latin typeface="Times New Roman"/>
            </a:endParaRPr>
          </a:p>
        </p:txBody>
      </p:sp>
      <p:sp>
        <p:nvSpPr>
          <p:cNvPr id="820" name="Oval 6"/>
          <p:cNvSpPr/>
          <p:nvPr/>
        </p:nvSpPr>
        <p:spPr>
          <a:xfrm>
            <a:off x="5638680" y="3809880"/>
            <a:ext cx="3048120" cy="2743200"/>
          </a:xfrm>
          <a:prstGeom prst="ellipse">
            <a:avLst/>
          </a:prstGeom>
          <a:gradFill rotWithShape="0">
            <a:gsLst>
              <a:gs pos="0">
                <a:srgbClr val="cc99ff"/>
              </a:gs>
              <a:gs pos="100000">
                <a:srgbClr val="5e4776"/>
              </a:gs>
            </a:gsLst>
            <a:path path="rect">
              <a:fillToRect l="50000" t="50000" r="50000" b="50000"/>
            </a:path>
          </a:gradFill>
          <a:ln w="28440">
            <a:solidFill>
              <a:srgbClr val="ffffff"/>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ient Safety </a:t>
            </a:r>
            <a:endParaRPr b="1"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Is</a:t>
            </a:r>
            <a:endParaRPr b="1"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omplications,</a:t>
            </a:r>
            <a:endParaRPr b="1"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Unexpected Death</a:t>
            </a:r>
            <a:endParaRPr b="1" lang="en-US" sz="2000" spc="-1" strike="noStrike">
              <a:solidFill>
                <a:srgbClr val="ffffff"/>
              </a:solidFill>
              <a:latin typeface="Times New Roman"/>
            </a:endParaRPr>
          </a:p>
        </p:txBody>
      </p:sp>
      <p:grpSp>
        <p:nvGrpSpPr>
          <p:cNvPr id="821" name="Group 7"/>
          <p:cNvGrpSpPr/>
          <p:nvPr/>
        </p:nvGrpSpPr>
        <p:grpSpPr>
          <a:xfrm>
            <a:off x="1828800" y="3886200"/>
            <a:ext cx="2895120" cy="2742840"/>
            <a:chOff x="1828800" y="3886200"/>
            <a:chExt cx="2895120" cy="2742840"/>
          </a:xfrm>
        </p:grpSpPr>
        <p:sp>
          <p:nvSpPr>
            <p:cNvPr id="822" name="Oval 8"/>
            <p:cNvSpPr/>
            <p:nvPr/>
          </p:nvSpPr>
          <p:spPr>
            <a:xfrm>
              <a:off x="1828800" y="3886200"/>
              <a:ext cx="2895120" cy="2742840"/>
            </a:xfrm>
            <a:prstGeom prst="ellipse">
              <a:avLst/>
            </a:prstGeom>
            <a:gradFill rotWithShape="0">
              <a:gsLst>
                <a:gs pos="0">
                  <a:srgbClr val="ff99cc"/>
                </a:gs>
                <a:gs pos="100000">
                  <a:srgbClr val="76475e"/>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endParaRPr b="1" lang="en-US" sz="2400" spc="-1" strike="noStrike">
                <a:solidFill>
                  <a:srgbClr val="ffffff"/>
                </a:solidFill>
                <a:latin typeface="Times New Roman"/>
              </a:endParaRPr>
            </a:p>
          </p:txBody>
        </p:sp>
        <p:sp>
          <p:nvSpPr>
            <p:cNvPr id="823" name="Text Box 9"/>
            <p:cNvSpPr/>
            <p:nvPr/>
          </p:nvSpPr>
          <p:spPr>
            <a:xfrm>
              <a:off x="1949400" y="4457160"/>
              <a:ext cx="277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diatric QIs</a:t>
              </a:r>
              <a:endParaRPr b="1" lang="en-US" sz="2400" spc="-1" strike="noStrike">
                <a:solidFill>
                  <a:srgbClr val="ffffff"/>
                </a:solidFill>
                <a:latin typeface="Times New Roman"/>
              </a:endParaRPr>
            </a:p>
          </p:txBody>
        </p:sp>
      </p:grpSp>
      <p:sp>
        <p:nvSpPr>
          <p:cNvPr id="824" name="Oval 10"/>
          <p:cNvSpPr/>
          <p:nvPr/>
        </p:nvSpPr>
        <p:spPr>
          <a:xfrm>
            <a:off x="2514600" y="5105520"/>
            <a:ext cx="1600200" cy="1371600"/>
          </a:xfrm>
          <a:prstGeom prst="ellipse">
            <a:avLst/>
          </a:prstGeom>
          <a:gradFill rotWithShape="0">
            <a:gsLst>
              <a:gs pos="0">
                <a:srgbClr val="8cf4ea"/>
              </a:gs>
              <a:gs pos="100000">
                <a:srgbClr val="41716c"/>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onatal </a:t>
            </a:r>
            <a:endParaRPr b="1"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Is</a:t>
            </a:r>
            <a:endParaRPr b="1" lang="en-US" sz="2400" spc="-1" strike="noStrike">
              <a:solidFill>
                <a:srgbClr val="ffffff"/>
              </a:solidFill>
              <a:latin typeface="Times New Roman"/>
            </a:endParaRPr>
          </a:p>
        </p:txBody>
      </p:sp>
      <p:sp>
        <p:nvSpPr>
          <p:cNvPr id="825" name="Text Box 11"/>
          <p:cNvSpPr/>
          <p:nvPr/>
        </p:nvSpPr>
        <p:spPr>
          <a:xfrm>
            <a:off x="868680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70CF-39F3-4C86-A453-1F515E0C552C}"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8T17:59:45Z</dcterms:created>
  <dc:creator>JDeLaMar</dc:creator>
  <dc:description/>
  <dc:language>en-US</dc:language>
  <cp:lastModifiedBy>DHHS</cp:lastModifiedBy>
  <dcterms:modified xsi:type="dcterms:W3CDTF">2011-07-29T16:57:18Z</dcterms:modified>
  <cp:revision>344</cp:revision>
  <dc:subject/>
  <dc:title>Nine States Use AHRQ QIs for Public Hospital Reporting</dc:title>
</cp:coreProperties>
</file>