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42F-54AC-4F1E-B930-66F507C7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266-401D-480C-96BD-C2697EE0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86D-1F85-4AFF-8D06-B3BB0086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D04-548D-4D47-A0DC-6E7F0795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BAD5-9E24-44EC-B36E-C53134D1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D9A4-4BD3-4F53-AAB8-FDCD2A26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225C-E214-41FB-BA56-F60558D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7C5B-1D52-4BAE-B07D-56BDCE9C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F82-593C-437F-80C3-FC76162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489F-6B0F-4694-8D37-8E8AF9E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65CF-BC46-4F93-B038-3D31F5CE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14D-021D-4A74-BCDC-499A5F1A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B347-2D78-410D-8155-95148E8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D520-367C-4FCA-993C-A085604F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67D5-EB09-41A6-B5B1-FF5BF3D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2A0-EAFE-439E-959E-76D995B9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CCEE-0186-42D6-A66F-D315ECB7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9FE0-40AA-436F-B333-B3E3EB1D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AF53-AFED-4362-B7B9-221E6385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C00E-D94F-46C7-B739-F4D8DE0F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9A33-6386-414D-A6AB-2FD199F7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758D-7F5B-43E8-A6EF-8246EBFD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F54-1A48-494E-94A6-CD0102C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E3D9-9892-4CA3-8E12-4F1101C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B4F9-03CF-4540-8F7D-FEA6FFF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C7A5-96D3-44A7-9773-864DFCB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273B9-524A-4DC0-8CCB-8A0510B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7626-13D7-491D-8F52-EB68AF0D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110D-1F2E-4562-9E1B-7AC7C458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D5FA-8A37-4582-BB63-22ED36C3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4309-1D00-4415-B60C-0060FF51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C3E4-03FF-4C5F-9A33-36ABB570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EC21-593F-49B8-AE13-1CA43585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E7E-DC38-4286-9F58-5BA8E36E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1F1E5-5545-4B2C-A144-5C305F6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C12B-E76B-4C4A-A389-9D483DE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0056-7795-407C-9CA5-C2FC015A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5D38-34A6-47AE-8C57-2EBEF2F2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F355-B6FC-4AAF-AF5E-EF9F5A13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6E48-BBED-412D-BA9B-841A671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DD89-2B38-43D3-B5A2-85F6DED8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4738-DFB0-4AD1-85DF-C87FCB51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37B6-002C-467A-8FC5-4430B9B0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262E-BAFA-483D-A197-48F1097F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8E0-62AD-472C-A6BF-84A9069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7A7DD-D759-4309-B3A7-B5F6F613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60E9-9019-4201-8AFE-1C60C39A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1C39-51AE-42CB-9917-48E2E212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CFD3-CB84-4808-B674-A8EF36FD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D1AE-B4DE-4504-8CDF-0D896EC0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5F3B-0D99-4B07-9343-E65A715D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867C-DFDD-48BB-9A7A-265A59B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CFA8-56B3-43E9-8C4F-5C4EF942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0F5B-73A2-4F22-A4E8-56827A75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A9FD-6B9C-4702-9FC1-132853D8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E02-1CAB-4C7F-AB02-7B66FFB9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97D8-7242-4DD2-BEAF-1C654CA1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A4112-F06E-4B10-93CE-069A1406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682C-ACEB-48FF-9B76-21D36AFA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411D-FA73-4360-93F4-EEE95D32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6DDB-BBEB-4BF8-85A8-07A2CAF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811EE-0DE9-4D89-97DE-125BE17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DC359-AE12-4478-AC15-D4A9A5C9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0A5D-8664-4A2B-8805-F36BE55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9B1E-439E-4175-8953-530879C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19BA0-A7D1-4FEA-B582-F2CAC6D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FFE-7CEC-480F-9727-B8CE9EAD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8D23-E9BC-4FAC-9BEE-5586EFE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494B-3EE4-4CEE-B220-7FF4C94C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DE4F8-1BED-4975-AF28-6777997B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75E7-912F-40B8-9CD9-D1CA79A5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E347A-D984-4742-B4BF-7EED3E7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A3661-B6B6-48A3-9DC6-4C4984FF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E3303-900C-4086-832B-1CF83F07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C441D-E48F-4F02-9CD0-C72FE385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2CA91-5BE9-45DD-95F3-92A0E611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81795-A5B3-48E8-A84E-CDB0D80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B73-11C4-4C6F-9172-29659C67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C2F2-C0A2-43CE-B538-48218E49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77AE-F802-4ED3-A36E-3D6BF8AA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61E4C-5C1B-405C-ADC6-01B1F3D4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ADDB4-1A4D-4634-BA72-7B7FFC2B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D5FE-9CE2-4CB7-9F13-DFAC599C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DED3-45F1-40F3-A1C1-AF6F357C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E820D-591A-4BE8-8DC7-5C522D53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D9A6-5C62-41CC-B622-1AC21D17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25888-0C17-4667-9F7E-54398AB8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F791-83FB-4BF0-AACC-578E80F2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C64-DD06-4FD5-898B-B2A4822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C56CD-3C8C-4BE5-85DD-5C82FBE9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2DA20-A63B-41CC-A9C3-96EF26D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5B8A8-04BF-40CB-B920-1EE773E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6FB7-EC42-4B62-B45E-8878CFF5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39B5F-5A65-4E94-9F13-144B4F4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253B5-5536-4F62-A578-E04738C2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77FB-7046-41C9-930A-D4D482EA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C7B-D27F-4331-96A0-E53D641888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3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7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178-5C3A-4DB4-8AE2-9A867565BB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3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4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C47B-9300-4BC6-B189-A25B683DAB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0AEA-4D56-4AD0-90F3-3963CEEEC0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486-405F-495A-98CD-1CC6D896C1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6E9E-2E76-46A7-B359-8DA82EB865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FC83-56A0-4093-8C56-1B312C7E4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4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7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A9F7-E1F7-408D-B14C-74516F8CC8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42880" y="225360"/>
            <a:ext cx="8186760" cy="3213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Mary E. Overall  BS, MS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AHRQ Health Care Innovations Exchan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Community Care Coordination Learning Networ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Co-Chair Scorecard Workgrou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Arial Narrow"/>
              </a:rPr>
              <a:t>September 27,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Domain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nection to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Description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measure assesses a patient’s connection to ongoing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Eligible Population: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l patients who are enrolled in the Pathways program and do not have an ongoing source of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Denominator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number of patients who indicate that they do not currently have a source of ongoing primary care and are referred for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Numerator: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number of patients who indicate that they do not currently have a source of ongoing primary care (and are referred for primary care) and are connected to ongoing primary 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omai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nnection to 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scription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his measure assesses a patient’s referral for soci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Eligible Popula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 All patients who are enrolled in the Pathways program and have social service referra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Denominato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The number of patients who have referrals to soci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umerato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The number of patients who have referrals to social services and are connected to those social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mary outcome measures adopted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 to ongoing primary ca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 to at least one social serv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 started March 1, 201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a collected on a monthly ba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 submitted on the scorecard templa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measure outcomes for care coordination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standardize a measurement strategy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develop a method for tracking community coordination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55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 Narrow"/>
                <a:ea typeface="굴림"/>
              </a:rPr>
              <a:t>To present results of the pilot study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4400" spc="-1" strike="noStrike">
                <a:solidFill>
                  <a:srgbClr val="0070c0"/>
                </a:solidFill>
                <a:latin typeface="Arial Narrow"/>
                <a:ea typeface="굴림"/>
              </a:rPr>
              <a:t>The field of community care coordination lacks a systematic approach for measuring performance that links at risk individuals to needed care services.</a:t>
            </a:r>
            <a:br>
              <a:rPr sz="4400"/>
            </a:br>
            <a:endParaRPr b="1" lang="en-US" sz="4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LNMaster2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4647960"/>
          </a:xfrm>
          <a:prstGeom prst="rect">
            <a:avLst/>
          </a:prstGeom>
          <a:ln w="0">
            <a:noFill/>
          </a:ln>
        </p:spPr>
      </p:pic>
      <p:pic>
        <p:nvPicPr>
          <p:cNvPr id="379" name="Title 2" descr=""/>
          <p:cNvPicPr/>
          <p:nvPr/>
        </p:nvPicPr>
        <p:blipFill>
          <a:blip r:embed="rId2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map"/>
          <p:cNvPicPr/>
          <p:nvPr/>
        </p:nvPicPr>
        <p:blipFill>
          <a:blip r:embed="rId1"/>
          <a:stretch/>
        </p:blipFill>
        <p:spPr>
          <a:xfrm>
            <a:off x="-9360" y="1523880"/>
            <a:ext cx="9153360" cy="5334120"/>
          </a:xfrm>
          <a:prstGeom prst="rect">
            <a:avLst/>
          </a:prstGeom>
          <a:ln w="0">
            <a:noFill/>
          </a:ln>
        </p:spPr>
      </p:pic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231840" y="139680"/>
            <a:ext cx="8570880" cy="1311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066680" y="15235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buquerque, New Mexico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dianapolis, Indian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entral Oreg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nsfield, Ohio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incinnati, Ohio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oledo, Ohio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303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llas, Texas </a:t>
            </a:r>
            <a:r>
              <a:rPr b="1" lang="en-US" sz="2100" spc="-1" strike="noStrike">
                <a:solidFill>
                  <a:srgbClr val="003399"/>
                </a:solidFill>
                <a:latin typeface="Arial Narrow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굴림"/>
              </a:rPr>
              <a:t>Standard data collection and repor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굴림"/>
              </a:rPr>
              <a:t>Identification of unmet needs among high-risk and vulnerable population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굴림"/>
              </a:rPr>
              <a:t>Assessments of how well the program is addressing unmet needs among targeted high-risk and vulnerable popul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8080" y="14475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asurement strategy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cross-cutting need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finition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termine community ca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coordination outcomes/impact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ent demographic inform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arriers–Primary Care, Social Service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firmed connection–Primary Care, Social Servi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8:42:20Z</dcterms:created>
  <dc:creator>mary</dc:creator>
  <dc:description/>
  <dc:language>en-US</dc:language>
  <cp:lastModifiedBy>Kim Gretka</cp:lastModifiedBy>
  <dcterms:modified xsi:type="dcterms:W3CDTF">2010-10-19T22:40:13Z</dcterms:modified>
  <cp:revision>16</cp:revision>
  <dc:subject/>
  <dc:title>Slide 1</dc:title>
</cp:coreProperties>
</file>