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A25-5535-4B32-96AE-606AB9BA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6E2-97ED-4CFC-8AFF-7B05E0B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FD8-B2E9-459C-BC5F-809F8D31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729-1D50-4118-9D04-DB727C37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827-EF6F-47A5-AB43-676081EA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9083-0FD0-4B1D-806C-3CBF1172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324-F574-47E2-AB61-FFE19CFC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1905-5A59-4088-9426-3851DC8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DD08-E5E6-45F1-AEB0-1CA79C4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FA4-66E7-46D0-A87E-CBD525A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5EB8-54F3-491D-92E6-274CCF6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DEE-8B44-4834-8B89-837F187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CD02-7089-4ED8-ACC9-6FB72B2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655E-B588-49CC-8F02-846990E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1914-56F6-4DE4-9C96-5209D6C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897-A388-432E-BEE8-52DAEBA9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D98-0E1B-4CC7-AF89-10AA1F2A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6A53-B7CA-4049-9CCF-69610BFE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4205-3426-42F8-8D57-645B956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84EF-36A8-4708-AC39-E456F04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411A-BB8F-4FDA-9073-8A9AED80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652E-54BF-43D1-8781-9775054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E5C-92D8-491F-8C48-B28E470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BB94-60CF-4AE0-8620-F8AD7507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A612-6072-4289-923E-86784F9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70B7-A131-4430-AAC8-C9B16FD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6A18-283D-4E8B-849B-7105637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E1E7-662C-4CCC-8594-9F36CA9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1891-1D0C-4337-B0C7-5A11F8F6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EDD2-ED79-404F-AF86-7BDDCF0C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4894-0858-4A28-9875-47E97A84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5E6E-8982-4742-9F5E-C55B0E74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9F48-AFBC-4B51-8A1D-83B9A9B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69C-F631-4320-AF53-CCFE3120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5CC1-DB5A-4D26-8EC6-AD639495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5C64-AD90-44C4-9484-6C48D75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CDBF-B681-444E-97E3-9914C64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6CD1-5117-49C1-829D-3CE418D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35F5-7673-4ED0-8123-7BAA2FF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E193-7AAA-4437-B15D-B862290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BF4D-3765-43D9-8E45-A5683086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710D-09B1-4C48-9240-9E7AB2CC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81C7-666F-4175-924A-6FA93DB6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32C8-A58F-4D2A-9D7F-963C02E9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83E-A4EF-44AC-947D-D373287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D2F6-E7BD-499C-806E-E59B32F8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FFAD-8D95-4EAE-86EE-03E15F3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C2B5-7067-4263-9444-7B39E0C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1485-9B9E-4F8C-A721-83E9A625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2240-EF4B-4BC1-A185-AFB37C4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644F-8EBF-455A-A7CC-6E32189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F300-8AC7-4A49-830C-1EA7754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D2DB1-ACAB-4957-984E-DC25CE9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A332-4CDD-4873-8C8E-ED743EEE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DFC4-CAE9-470A-ABC7-ACE77625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E23-91AF-4725-B68C-B42AEDDE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FD690-4704-4E74-A47C-63C355C0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934B-62D1-4C81-966A-574E793E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4D108-E497-4332-ADF7-98E4C908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B1C5-EAF4-4230-987D-EC20443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12BF-D46C-4C36-949A-86371B1D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7D51-5CCF-4D1E-84A1-7D49A5E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745E-9733-4E87-A6FF-A4DDC48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3499-95FE-4D5F-A43D-EA79759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245E1-6F7A-460A-BA24-E849CA2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03BA-DF04-4507-A402-E630267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4F1-60CF-49AA-AE7D-1F01A97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59A0B-4BF6-4156-B359-7BF11D1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6CAF-D4A2-4568-B1B0-639ECCE1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FFC5-6399-4F82-99EF-F322BEEC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165D-F018-4FF8-83C9-15AA9A57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4E28-F6B4-4CBA-A604-270665CE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B4E0-71D9-4C23-9D41-A3EE7EB7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8DC0-FB4E-42B2-8ECA-4E174FC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AAE9-2332-4294-80EC-3040FC9E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F2BB-B512-4022-8F56-D0883C6D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7157-A998-45E1-A980-3D64F8E5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D77-8003-415C-B231-7B3E674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13C9-0431-45A4-B277-D60C1D7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CD45-7A4B-4CE7-9C50-D35944F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D259-1CFF-4027-B758-C21E7E2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E0542-5F62-4220-B106-20A50C3D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E305-CCD3-482D-9DA3-86971049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28A9-A3F1-40C4-87CA-B0777B20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DCED-8C30-49C0-AB26-458C558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D7C2D-97D4-4415-93AD-266D790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0118-80E6-4916-81DB-D92FEB8A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FD7CD-1A76-41C6-AC59-50AE33D2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311-D089-4F0B-A644-EF44319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2C32A-4B9E-49C4-ADC1-06DBC84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44970-E5AE-4987-B220-39CF2D3D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FB83C-E595-4140-B57C-6988917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EC636-455B-4C5A-A190-190A70E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3996-E487-4F8F-8618-B3381A1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7B39-5ECF-4A95-A922-F5CF339D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0693-D30A-4DCC-AAB0-BE44E6B0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ED8A-A16E-4DD4-A73E-5BE7A31D5B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00D-0CAD-4996-9EB1-4D0E69DE6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D4A4-29F9-4B10-BB58-24ADE6123D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475-D10F-4AC7-9210-B8E9CE7B2F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FB6-A47E-486D-9E41-15E7E4E3B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7107-F736-4C9B-AA7D-D9404E893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7BA-265E-42B7-A3D4-245E3DD093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4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7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6D6F-489A-4E1E-BCEB-E254C4890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42880" y="225360"/>
            <a:ext cx="8186760" cy="3213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Mary E. Overall  BS, MS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AHRQ Health Care Innovations Exchan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Community Care Coordination Learning Networ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Co-Chair Scorecard Workgro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September 27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omain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on to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escription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measure assesses a patient’s connection to ongoing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ligible Population: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 patients who are enrolled in the Pathways program and do not have an ongoing source of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enominator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number of patients who indicate that they do not currently have a source of ongoing primary care and are referred for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merator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number of patients who indicate that they do not currently have a source of ongoing primary care (and are referred for primary care) and are connected to ongoing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omai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nnection to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scrip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his measure assesses a patient’s referral for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Eligible Popul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 All patients who are enrolled in the Pathways program and have social service referr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ominat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The number of patients who have referrals to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merat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The number of patients who have referrals to social services and are connected to those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ary outcome measures adopte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 to ongoing primary c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 to at least one social ser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 started March 1, 201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collected on a monthly ba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submitted on the scorecard templ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measure outcomes for care coordination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standardize a measurement strategy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develop a method for tracking community coordination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present results of the pilot study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400" spc="-1" strike="noStrike">
                <a:solidFill>
                  <a:srgbClr val="0070c0"/>
                </a:solidFill>
                <a:latin typeface="Arial Narrow"/>
                <a:ea typeface="굴림"/>
              </a:rPr>
              <a:t>The field of community care coordination lacks a systematic approach for measuring performance that links at risk individuals to needed care services.</a:t>
            </a:r>
            <a:br>
              <a:rPr sz="4400"/>
            </a:b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LNMaster2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4647960"/>
          </a:xfrm>
          <a:prstGeom prst="rect">
            <a:avLst/>
          </a:prstGeom>
          <a:ln w="0">
            <a:noFill/>
          </a:ln>
        </p:spPr>
      </p:pic>
      <p:pic>
        <p:nvPicPr>
          <p:cNvPr id="379" name="Title 2" descr=""/>
          <p:cNvPicPr/>
          <p:nvPr/>
        </p:nvPicPr>
        <p:blipFill>
          <a:blip r:embed="rId2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ap"/>
          <p:cNvPicPr/>
          <p:nvPr/>
        </p:nvPicPr>
        <p:blipFill>
          <a:blip r:embed="rId1"/>
          <a:stretch/>
        </p:blipFill>
        <p:spPr>
          <a:xfrm>
            <a:off x="-9360" y="1523880"/>
            <a:ext cx="9153360" cy="5334120"/>
          </a:xfrm>
          <a:prstGeom prst="rect">
            <a:avLst/>
          </a:prstGeom>
          <a:ln w="0">
            <a:noFill/>
          </a:ln>
        </p:spPr>
      </p:pic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231840" y="139680"/>
            <a:ext cx="8570880" cy="1311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buquerque, New Mexico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dianapolis, Indian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entral Oreg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nsfield, Ohio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incinnati, Ohio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ledo, Ohio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llas, Texas </a:t>
            </a:r>
            <a:r>
              <a:rPr b="1" lang="en-US" sz="21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Standard data collection and repor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Identification of unmet needs among high-risk and vulnerable pop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Assessments of how well the program is addressing unmet needs among targeted high-risk and vulnerable popul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asurement strategy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cross-cutting need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finition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termine community ca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coordination outcomes/impact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ent demographic inform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arriers–Primary Care, Social Service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firmed connection–Primary Care, Social Servi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8:42:20Z</dcterms:created>
  <dc:creator>mary</dc:creator>
  <dc:description/>
  <dc:language>en-US</dc:language>
  <cp:lastModifiedBy>Kim Gretka</cp:lastModifiedBy>
  <dcterms:modified xsi:type="dcterms:W3CDTF">2010-10-19T22:40:13Z</dcterms:modified>
  <cp:revision>16</cp:revision>
  <dc:subject/>
  <dc:title>Slide 1</dc:title>
</cp:coreProperties>
</file>