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120" y="380520"/>
            <a:ext cx="669780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120" y="380520"/>
            <a:ext cx="669780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6000" indent="-22716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8480" indent="-14832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81680" indent="-14832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81680" indent="-14832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81680" indent="-14832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6000" indent="-22716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8480" indent="-14832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81680" indent="-14832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81680" indent="-14832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81680" indent="-14832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so.ahrq.gov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880" y="4038120"/>
            <a:ext cx="82742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ckville, Mary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440" y="2895480"/>
            <a:ext cx="779004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Organizations in Their Second Year: The Momentum Builds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SO Stat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39574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began listing PSOs November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 Rule effective January 1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 PSOs “listed” by AHRQ as of September  22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 states &amp; 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pso.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Politics and Medicine"/>
          <p:cNvPicPr/>
          <p:nvPr/>
        </p:nvPicPr>
        <p:blipFill>
          <a:blip r:embed="rId2"/>
          <a:stretch/>
        </p:blipFill>
        <p:spPr>
          <a:xfrm>
            <a:off x="5153040" y="1676520"/>
            <a:ext cx="3192480" cy="235908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91" name="Picture 5" descr="NewLogo_PSO"/>
          <p:cNvPicPr/>
          <p:nvPr/>
        </p:nvPicPr>
        <p:blipFill>
          <a:blip r:embed="rId3"/>
          <a:stretch/>
        </p:blipFill>
        <p:spPr>
          <a:xfrm>
            <a:off x="5951520" y="4343400"/>
            <a:ext cx="1658880" cy="18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35176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SOs and the NPSD: Next Step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coming Common Format Expan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Informatio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Nursing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identifiable data to the NPSD – early 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and PSO reports can begin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spcAft>
                <a:spcPts val="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ings from NPSD will be published in AHRQ’s annual National Healthcare Quality &amp; Disparities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npsd_logo_horiz_rgb"/>
          <p:cNvPicPr/>
          <p:nvPr/>
        </p:nvPicPr>
        <p:blipFill>
          <a:blip r:embed="rId1"/>
          <a:stretch/>
        </p:blipFill>
        <p:spPr>
          <a:xfrm>
            <a:off x="7112160" y="152280"/>
            <a:ext cx="1814400" cy="10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Munier/Crosson</dc:creator>
  <dc:description>Presented to the NAC on 9Apr10.</dc:description>
  <dc:language>en-US</dc:language>
  <cp:lastModifiedBy>Kim Gretka</cp:lastModifiedBy>
  <cp:lastPrinted>2003-01-21T20:19:23Z</cp:lastPrinted>
  <dcterms:modified xsi:type="dcterms:W3CDTF">2010-10-18T23:54:35Z</dcterms:modified>
  <cp:revision>536</cp:revision>
  <dc:subject/>
  <dc:title>AHRQ Patient Safety Portfolio</dc:title>
</cp:coreProperties>
</file>