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9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10.jpeg" ContentType="image/jpeg"/>
  <Override PartName="/ppt/media/image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FA2-833B-4581-AB63-7107A2933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B48C-085F-4F17-A812-D425CCF2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E0BA-70E8-41D1-BC24-E382284E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57E-A78A-4716-AF67-2371683E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54D-FEC9-45C0-9534-C5B6FAC7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9E6C-18C4-4044-98A8-3341A958B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367-D97C-4BA9-9C2C-51CEB9AB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9DB-DD96-4B75-8A93-14A460C1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2B7-D76A-4502-9CCB-8F47C8BD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0FCB-9E95-4D35-BB3B-3C94C81D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7E6-2F58-44B8-BE61-432800C5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2F6-A905-457D-A565-9C2363DA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C9E-32C0-47A9-A23E-2667BCD6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9FA-B572-4DEF-8999-7A5A3D11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8F5-94DA-447D-ADAD-D7D9BEEB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F99F-4903-4299-B091-94FDC617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4AD5-DD88-483A-93D2-9C84777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28D-090F-4631-901D-A4E908D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8990-092D-4A6B-90E0-D0CCB100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C2E-E0EA-43DA-8F8B-63CDA5EA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89FF-2A63-43C0-B93E-2111127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3DE-B21A-4B5D-A677-FBB77E5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86D-7556-4636-AD42-F828AE4A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26B-CB15-41E5-A650-9D9C941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00A-F029-49FB-84F6-E21AD6C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6C22-1F87-4543-8D59-788D2401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B855-F4A9-4CE4-A8DD-C3E6C9F7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DE3-9F67-4CC3-AF34-B1C57E0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CC9-BB53-430E-9724-C26F2823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DF9-310B-4803-94A3-8D983D1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35F-8832-4944-8B93-E1326698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187-8452-4172-85D8-EE20F1AD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92C-7C45-4879-AD29-27CD1DB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25F-D830-445C-9753-5118AE9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099-E1A7-48D3-9393-8574C71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A22-2D31-4EB3-8460-23AA809E6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5"/>
          <p:cNvGrpSpPr/>
          <p:nvPr/>
        </p:nvGrpSpPr>
        <p:grpSpPr>
          <a:xfrm>
            <a:off x="0" y="360"/>
            <a:ext cx="228240" cy="6872040"/>
            <a:chOff x="0" y="360"/>
            <a:chExt cx="228240" cy="6872040"/>
          </a:xfrm>
        </p:grpSpPr>
        <p:sp>
          <p:nvSpPr>
            <p:cNvPr id="6" name="Rectangle 16"/>
            <p:cNvSpPr/>
            <p:nvPr/>
          </p:nvSpPr>
          <p:spPr>
            <a:xfrm rot="16200000">
              <a:off x="-1036080" y="5616360"/>
              <a:ext cx="2292120" cy="219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7"/>
            <p:cNvSpPr/>
            <p:nvPr/>
          </p:nvSpPr>
          <p:spPr>
            <a:xfrm rot="16200000">
              <a:off x="-1027440" y="3328560"/>
              <a:ext cx="2292480" cy="219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8"/>
            <p:cNvSpPr/>
            <p:nvPr/>
          </p:nvSpPr>
          <p:spPr>
            <a:xfrm rot="16200000">
              <a:off x="-1027440" y="1036440"/>
              <a:ext cx="2292120" cy="219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360"/>
            <a:ext cx="228240" cy="6872040"/>
            <a:chOff x="0" y="360"/>
            <a:chExt cx="228240" cy="6872040"/>
          </a:xfrm>
        </p:grpSpPr>
        <p:sp>
          <p:nvSpPr>
            <p:cNvPr id="46" name="Rectangle 8"/>
            <p:cNvSpPr/>
            <p:nvPr/>
          </p:nvSpPr>
          <p:spPr>
            <a:xfrm rot="16200000">
              <a:off x="-1036080" y="5616360"/>
              <a:ext cx="2292120" cy="219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 rot="16200000">
              <a:off x="-1027440" y="3328560"/>
              <a:ext cx="2292480" cy="219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rot="16200000">
              <a:off x="-1027440" y="1036440"/>
              <a:ext cx="2292120" cy="219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B63B-16A5-498E-8A01-B0AB0F5376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aretransition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3818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rom the NICU to Primary Care:</a:t>
            </a:r>
            <a:r>
              <a:rPr b="0" lang="en-US" sz="47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mproving the Quality of the Transition</a:t>
            </a:r>
            <a:r>
              <a:rPr b="0" lang="en-US" sz="47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47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403848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irginia A. Moyer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Professor of Pediatrics, Baylor 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hief, Section of Academic General Pedia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Chief Quality Officer,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exas Children’s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CH_center1"/>
          <p:cNvPicPr/>
          <p:nvPr/>
        </p:nvPicPr>
        <p:blipFill>
          <a:blip r:embed="rId1"/>
          <a:stretch/>
        </p:blipFill>
        <p:spPr>
          <a:xfrm>
            <a:off x="7238880" y="6067440"/>
            <a:ext cx="1905120" cy="79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BCM_Logo_CMYK_1"/>
          <p:cNvPicPr/>
          <p:nvPr/>
        </p:nvPicPr>
        <p:blipFill>
          <a:blip r:embed="rId2"/>
          <a:stretch/>
        </p:blipFill>
        <p:spPr>
          <a:xfrm>
            <a:off x="228600" y="6208560"/>
            <a:ext cx="13716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MEA: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F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ilure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M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de and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E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fects </a:t>
            </a: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alysis</a:t>
            </a:r>
            <a:br>
              <a:rPr sz="4400"/>
            </a:b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0b13"/>
                </a:solidFill>
                <a:latin typeface="Arial"/>
              </a:rPr>
              <a:t>What is a FMEA?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“The technique involves identifying potential mistakes before they happen to determine whether the consequences of those mistakes would be</a:t>
            </a:r>
            <a:r>
              <a:rPr b="1" lang="en-US" sz="2800" spc="-1" strike="noStrike" u="sng">
                <a:solidFill>
                  <a:srgbClr val="0b0b13"/>
                </a:solidFill>
                <a:uFillTx/>
                <a:latin typeface="Arial"/>
              </a:rPr>
              <a:t> tolerable</a:t>
            </a: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b0b13"/>
                </a:solidFill>
                <a:uFillTx/>
                <a:latin typeface="Arial"/>
              </a:rPr>
              <a:t>intolerable</a:t>
            </a:r>
            <a:r>
              <a:rPr b="1" lang="en-US" sz="2800" spc="-1" strike="noStrike">
                <a:solidFill>
                  <a:srgbClr val="0b0b13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0" name="Picture 5" descr="j0309614"/>
          <p:cNvPicPr/>
          <p:nvPr/>
        </p:nvPicPr>
        <p:blipFill>
          <a:blip r:embed="rId1"/>
          <a:stretch/>
        </p:blipFill>
        <p:spPr>
          <a:xfrm>
            <a:off x="7010280" y="838080"/>
            <a:ext cx="1600200" cy="114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95160" y="1743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724280"/>
            <a:ext cx="6248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4419720"/>
            <a:ext cx="7086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b0b13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1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Potential failures are identified in terms of failure “</a:t>
            </a:r>
            <a:r>
              <a:rPr b="0" lang="en-US" sz="2400" spc="-1" strike="noStrike" u="sng">
                <a:solidFill>
                  <a:srgbClr val="0b0b13"/>
                </a:solidFill>
                <a:uFillTx/>
                <a:latin typeface="Arial"/>
              </a:rPr>
              <a:t>modes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b0b13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0b0b13"/>
                </a:solidFill>
                <a:uFillTx/>
                <a:latin typeface="Arial"/>
              </a:rPr>
              <a:t>each mode</a:t>
            </a:r>
            <a:r>
              <a:rPr b="0" lang="en-US" sz="2400" spc="-1" strike="noStrike">
                <a:solidFill>
                  <a:srgbClr val="0b0b13"/>
                </a:solidFill>
                <a:latin typeface="Arial"/>
              </a:rPr>
              <a:t> the effect on the total system is stu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0b13"/>
                </a:solidFill>
                <a:latin typeface="Arial"/>
              </a:rPr>
              <a:t>Why FMEA?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b13"/>
                </a:solidFill>
                <a:latin typeface="Arial"/>
              </a:rPr>
              <a:t>Powerful approach for </a:t>
            </a:r>
            <a:r>
              <a:rPr b="1" i="1" lang="en-US" sz="2800" spc="-1" strike="noStrike">
                <a:solidFill>
                  <a:srgbClr val="0b0b13"/>
                </a:solidFill>
                <a:latin typeface="Arial"/>
              </a:rPr>
              <a:t>proactive</a:t>
            </a:r>
            <a:r>
              <a:rPr b="0" lang="en-US" sz="2800" spc="-1" strike="noStrike">
                <a:solidFill>
                  <a:srgbClr val="0b0b13"/>
                </a:solidFill>
                <a:latin typeface="Arial"/>
              </a:rPr>
              <a:t> 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b13"/>
                </a:solidFill>
                <a:latin typeface="Arial"/>
              </a:rPr>
              <a:t>Used in other high risk industries such as aerospace, aviation, nuclear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N00571_"/>
          <p:cNvPicPr/>
          <p:nvPr/>
        </p:nvPicPr>
        <p:blipFill>
          <a:blip r:embed="rId1"/>
          <a:stretch/>
        </p:blipFill>
        <p:spPr>
          <a:xfrm>
            <a:off x="3886200" y="4419720"/>
            <a:ext cx="3657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Proces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generates a flow diagram of main process and sub-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brainstorms about all potential errors at each step (failure mo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s scored for probability it will occur (frequency) and potential severity if it did occur (seve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core x severity score = hazard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risk failure modes identified as well as related causes or contributor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04920" y="62182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DeRosier J, Stalhandske E, Bagian JP, Nudell T. Using health care Failure Mode and Effect Analysis: the </a:t>
            </a:r>
            <a:br>
              <a:rPr sz="1200"/>
            </a:b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    VA National Center for Patient Safety's prospective risk analysis system. Jt Comm J Qual Improv. </a:t>
            </a:r>
            <a:br>
              <a:rPr sz="1200"/>
            </a:b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    2002 May;28(5):248-267, 209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HRQ Planning Gran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HFMEA on NICU to ambulatory care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retrospective review to confirm or modify HFMEA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qualitative assessment of the process to accomplish the HF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tting: Texas Children’s Hospital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 Level III beds, 62 Level II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200 VLBW (&lt;1500gm) babies per year, many other babies with complex congenital abnorm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Needs Primary Care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d at mai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00 children on home ventilators; 24-7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private practices, including 5 Medical H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electronic record with 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H-owned Medicaid Managed Care Plan, ~230,000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r Projec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 HFMEA for the transition in care from NICU to ambulatory 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methods to see if our prediction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the HFM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itigation plan to address the identified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It takes a team…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ginia Moyer, MD, MPH – Principal Invest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en Finkel, RN, BSN – Patient Safety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eep Singh, MD, MPH – Patient Safet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-Ann Papile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chen Profit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leta Guillory, MD – Neonat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ia Berretta, MSW – Social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esa Duryea, MD – Pediatr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ri Sielski, MD – Pediatr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Mort, RN – Baylor NICU 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ol Carrier, 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Kelly, PhD – Surve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rna Khan, PhD – Patient Safety researcher (V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 Thomas, MD, MPH – Patient safety guru (UT-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DeRosier – creator of HFMEA (VA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cess Diagram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990720" y="1752480"/>
          <a:ext cx="7086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86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3"/>
          <p:cNvGraphicFramePr/>
          <p:nvPr/>
        </p:nvGraphicFramePr>
        <p:xfrm>
          <a:off x="0" y="533520"/>
          <a:ext cx="89917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917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Oval 4"/>
          <p:cNvSpPr/>
          <p:nvPr/>
        </p:nvSpPr>
        <p:spPr>
          <a:xfrm>
            <a:off x="1600200" y="1828800"/>
            <a:ext cx="2362320" cy="40384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514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ICU to Ambulatory Care Diagram</a:t>
            </a:r>
            <a:endParaRPr b="1" lang="en-US" sz="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le_e_coyote"/>
          <p:cNvPicPr/>
          <p:nvPr/>
        </p:nvPicPr>
        <p:blipFill>
          <a:blip r:embed="rId1"/>
          <a:stretch/>
        </p:blipFill>
        <p:spPr>
          <a:xfrm>
            <a:off x="1295280" y="800280"/>
            <a:ext cx="6553440" cy="525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artoon:</a:t>
            </a:r>
            <a:endParaRPr b="1" lang="en-US" sz="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457200" y="2754360"/>
          <a:ext cx="40338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4360"/>
                    <a:ext cx="40338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4"/>
          <p:cNvGraphicFramePr/>
          <p:nvPr/>
        </p:nvGraphicFramePr>
        <p:xfrm>
          <a:off x="609480" y="609480"/>
          <a:ext cx="8077320" cy="594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480"/>
                    <a:ext cx="8077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Oval 5"/>
          <p:cNvSpPr/>
          <p:nvPr/>
        </p:nvSpPr>
        <p:spPr>
          <a:xfrm>
            <a:off x="5181480" y="609480"/>
            <a:ext cx="76212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r 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Res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identified 114 potential failure modes within the dischar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model included 40 high-failure modes and 75 high-risk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FMEA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Arial"/>
              </a:rPr>
              <a:t>™ Res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issues present across most failure modes and cau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ians act in isolation resulting in lack of standardized, coordinated, comprehensive plan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/caregivers inadequately prepared for home care and management of fragile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roviders lack required knowledge and skills to manage medically complex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ultiple Methods” to confirm the HFMEA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reporting of events (using TCH reporting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iggers for possible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visits within one month of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issions within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ed appointments within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aire for parents/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Care Transitions Meas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trospective Review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reviewed using a trigger methodology to confirm or add to HFMEA findings (N=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documented for 14 of 35 sub-steps predicted to have errors, in 1-10 case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in current medical records system inadequate to systematically collect reli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unavailable for majority of patients for 19 of the 35 sub-step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diatric-adapted “care transitions measure” developed and valid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Qualitative Analysis of the HFMEA Proces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m members felt that the group functioned extremely well, with a high level of involvement and many new insights gained in the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m encountered difficulty applying the HFMEA scoring system to the identified failure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verity descriptions did not seem to fit the types of failure m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escriptions did not seem sufficiently gran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up modified both descriptions before it proceeded with sc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group members were concerned that scoring severity and frequency at the same time allowed for “gaming” of the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end of the process, the group scored one set of failure modes independently to determine whether this would significantly alter the scores (it did no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Safe Passag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step of the HFMEA is the development of a mitig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ressed the three major themes that were identified in the HFM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 standardized discharg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parent/caregiver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knowledge and skills by community-based health 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Safe Passag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ased the intervention on the Care Transitions Intervention (Coleman et. al.), adapted for a pediatric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ersonal Health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In Time Information for community-based health car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hanced Personal Health Record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discharge plan is 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tandard discharge information limited to a single sheet of paper with diagnoses, medications and appointments written in by h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for many of our babies, the paper chart weighs more than the bab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Enhanced Personal Health Record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, Helpful Information about the Newborn Center, and Important Nu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rnaling and Care P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ps for Choosing Insurance and Pediatrician for Your Bab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 and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nald McDonald Ho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eople, Equipment and Medical Terminology Gloss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by’s Development, Nutrition, and Fee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Babies Immunization Schedu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feeding Your Ba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Feeding- Bottle Feeding and Formula Prepa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and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Saf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Oral Medi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Give a Subcutaneous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b Saf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Il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ng Inf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ag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ing for Discharge Check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endar with Follow-Up Appoint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M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HRQ Planning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CU to ambulatory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FMEA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ealth Coach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ly expert individual who takes the role of sensitive coach, teacher and facilitator to foster the development of parents into competent caregivers for their fragile infan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’s prepared health educator, available at the hours parents are able to be present in the NIC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to staff as a resourc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Just-in-Time information for primary care provide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d on new Evidence Based Guidelines program at Texas Childr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ge summaries of evidence based guidelines for comm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from premature formula, oxygen weaning, growth of premature infants, management of gastrostomy, management of tracheostomy, chronic lung disease… and much, much m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 home with infant and also faxed to provider at the time of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Design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Cohort Study over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U is divided into geographically distinct “po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CU III pod and its usual step-down Level II pod comprise the intervent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ds comprise the control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B did not require patient/parent consent beyond verbal consent at the time of 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id require written consent for the evaluation of PCP compliance with JI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ogress to dat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 of intervention babies is close to on-schedule (n~50 at 6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uitment of control babies is behind (n~40) because 2 control units were closed for low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refusals to participate, very high rate of response to phon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level of difficulty recruiting PCPs to the J-I-T intervention, so numbers are 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Outcome Evaluation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outcome is adverse events within 31 days of discharge (death, ER visit, readmission, missed appoint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Transitions Measure – Neo: administered by phone 2-3 days after discharge and again at 3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fort level and satisfaction of PCPs with common post-NICU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guidelines by P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Deliverabl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k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for the Health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Discharge Binder (to be converted to electronic format if and when our EMR implementation actually happ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T information sheets (to be converte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M-Neo - validated tool to evaluate the quality of the NICU discharg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are Transitions Progra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caretransitions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cessed January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eman EA, Berneson RA. Lost in transition: Challenges and Opportunities for improving the quality of transitional care. Ann Int Med. 2004 Oct 5; 141(7):533-53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osier J, Stalhandske E, Bagian JP, Nudell T. Using health care Failure Mode and Effect Analysis: the  VA National Center for Patient Safety's prospective risk analysis system. Jt Comm J Qual Improv. 2002 May;28(5):248-267, 209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ster AJ, Clark HD, Menard A, et al. Adverse events among medical patients after discharge from hospital.  CMAJ. 2004; 170:345-349.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Pherson ML, Lairson DR, Smith EO, Brody BA, Jefferson LS. Noncompliance with medical follow-up after pediatric intensive care. Pediatrics 2002;109(6):9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re C, Wisnivesky J, Williams S, McGinn T. Medical errors related to discontinuity of care from an inpatient to an outpatient setting. J Gen Intern Med. 2003 Aug;18(8):646-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ilibert I. Leach DC. Re-framing continuity of care for this century. Qual Saf Health Care. 2005 Dec;14(6):394-3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y CL, Poon EG, Karson AS, Ladak-Merchant Z, Johnson RE, Maviglia SM, Gandhi TK. Patient safety concerns arising from test results that return after hospital discharge. Ann Intern Med. 2005;143(2):121-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oyote-06"/>
          <p:cNvPicPr/>
          <p:nvPr/>
        </p:nvPicPr>
        <p:blipFill>
          <a:blip r:embed="rId1"/>
          <a:stretch/>
        </p:blipFill>
        <p:spPr>
          <a:xfrm>
            <a:off x="1676520" y="762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5516280"/>
            <a:ext cx="3200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literature increasingly acknowledges potential risks of care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iterature reveals significant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evaluation of error-prone health care processes can inform interventions to prevent adverse patient outcomes before the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are Transition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called “handoff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patients between health care practitioners and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to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 post-op o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U to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acility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Hospital to Hom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time period during “handof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lines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atient understanding of health car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adiness for self-care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formation for follow-up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ediatric Care Transition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to ambulatory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literature relatively silent except for measuring follow-up appoin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has been on “lack of compliance” by caregivers rather than on systematic issues around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% of children discharged from a pediatric ICU (not a NICU) did not receive timely medical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80880" y="617220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Arial"/>
              </a:rPr>
              <a:t>McPherson ML, Lairson DR, Smith EO, Brody BA, Jefferson LS. Noncompliance with medical follow-up after pediatric intensive care. Pediatrics 2002;109(6):94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in Adul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% of patients had identifiable adverse events in the first 3 week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of older patients misused at least one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 medical error per 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Research in the NICU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2590920" y="2971800"/>
            <a:ext cx="3276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 to d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1:51:28Z</dcterms:created>
  <dc:creator>Marlene Moulder</dc:creator>
  <dc:description/>
  <dc:language>en-US</dc:language>
  <cp:lastModifiedBy>Kim Gretka</cp:lastModifiedBy>
  <dcterms:modified xsi:type="dcterms:W3CDTF">2010-10-18T23:47:02Z</dcterms:modified>
  <cp:revision>48</cp:revision>
  <dc:subject/>
  <dc:title>Slide 1</dc:title>
</cp:coreProperties>
</file>