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9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10.jpeg" ContentType="image/jpeg"/>
  <Override PartName="/ppt/media/image8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751C-74D5-4CED-827B-7B1996BE1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2261-5B84-4BCB-90F0-55FC4CFB4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C8A2-0D3C-4BB3-B60C-062839223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14BC-5630-4727-97F9-024229F27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61D5-479C-4543-AB43-8AEA32C4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3164-DEE3-4DC8-AD7C-06A38CE26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6F3A-ED8D-4783-B3BD-201EE0883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606A-221B-4402-8F75-69B831472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0135-91B6-4A51-878B-B38F036F6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7A62-D3D8-4BFF-91E3-9D1B3F733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AB1B-71FB-4A17-91B1-20B2DE2CE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67F-E844-4E2F-BE89-663B484F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56B-5772-4751-89E1-7B2990E0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D7F-3B80-4798-8B3D-30908603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0F1-F04E-4A75-84C6-EDDD4C92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A77D-594C-43CF-88DF-B38ADCC2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7A87-E7FB-4137-9A3A-44B0322F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AFEF-7D10-4C6B-A3F7-3630130D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0B1D-439C-4D0E-8B4A-B36A6EB7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2EB3-C2E8-40A9-8073-081D78A8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2452-4BD1-4889-A234-C9058D3A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10DF-6295-4181-BF9A-5B7E67EB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CBA-5D19-4CFD-B5DD-563412D4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F9A8-8DA7-451B-B8FA-89EDA46E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7CE2-7728-44AD-81BD-D96257F2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21E4-6AE5-4578-A0CB-5DFF9C53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220E-26A4-40BE-9737-39361EA7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A91A-535A-43CD-8094-19B386B5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79D-72B3-4BE0-8CE0-689058BB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C1F-0A0C-4923-9BD6-8689D387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A93-69DA-4828-B505-46FB0B0E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BDA-5EC2-46C1-9F14-38BCCF88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AE0-BDBC-4C2E-9ECB-9C0F7E15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530-7B99-4A41-8848-A6EA48C4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DA7-68D5-4E20-B205-39DC77D7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28F5-7660-48C5-B3E9-0C4A971B74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5"/>
          <p:cNvGrpSpPr/>
          <p:nvPr/>
        </p:nvGrpSpPr>
        <p:grpSpPr>
          <a:xfrm>
            <a:off x="0" y="360"/>
            <a:ext cx="228240" cy="6872040"/>
            <a:chOff x="0" y="360"/>
            <a:chExt cx="228240" cy="6872040"/>
          </a:xfrm>
        </p:grpSpPr>
        <p:sp>
          <p:nvSpPr>
            <p:cNvPr id="6" name="Rectangle 16"/>
            <p:cNvSpPr/>
            <p:nvPr/>
          </p:nvSpPr>
          <p:spPr>
            <a:xfrm rot="16200000">
              <a:off x="-1036080" y="5616360"/>
              <a:ext cx="2292120" cy="219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7"/>
            <p:cNvSpPr/>
            <p:nvPr/>
          </p:nvSpPr>
          <p:spPr>
            <a:xfrm rot="16200000">
              <a:off x="-1027440" y="3328560"/>
              <a:ext cx="2292480" cy="219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8"/>
            <p:cNvSpPr/>
            <p:nvPr/>
          </p:nvSpPr>
          <p:spPr>
            <a:xfrm rot="16200000">
              <a:off x="-1027440" y="1036440"/>
              <a:ext cx="2292120" cy="219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360"/>
            <a:ext cx="228240" cy="6872040"/>
            <a:chOff x="0" y="360"/>
            <a:chExt cx="228240" cy="6872040"/>
          </a:xfrm>
        </p:grpSpPr>
        <p:sp>
          <p:nvSpPr>
            <p:cNvPr id="46" name="Rectangle 8"/>
            <p:cNvSpPr/>
            <p:nvPr/>
          </p:nvSpPr>
          <p:spPr>
            <a:xfrm rot="16200000">
              <a:off x="-1036080" y="5616360"/>
              <a:ext cx="2292120" cy="219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 rot="16200000">
              <a:off x="-1027440" y="3328560"/>
              <a:ext cx="2292480" cy="219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 rot="16200000">
              <a:off x="-1027440" y="1036440"/>
              <a:ext cx="2292120" cy="219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95A8-8847-424E-906C-A0048F9092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aretransition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3818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From the NICU to Primary Care:</a:t>
            </a:r>
            <a:r>
              <a:rPr b="0" lang="en-US" sz="47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7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mproving the Quality of the Transition</a:t>
            </a:r>
            <a:r>
              <a:rPr b="0" lang="en-US" sz="47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47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920" y="403848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Virginia A. Moyer, MD,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Professor of Pediatrics, Baylor College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hief, Section of Academic General Pedia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hief Quality Officer,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exas Children’s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TCH_center1"/>
          <p:cNvPicPr/>
          <p:nvPr/>
        </p:nvPicPr>
        <p:blipFill>
          <a:blip r:embed="rId1"/>
          <a:stretch/>
        </p:blipFill>
        <p:spPr>
          <a:xfrm>
            <a:off x="7238880" y="6067440"/>
            <a:ext cx="1905120" cy="79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BCM_Logo_CMYK_1"/>
          <p:cNvPicPr/>
          <p:nvPr/>
        </p:nvPicPr>
        <p:blipFill>
          <a:blip r:embed="rId2"/>
          <a:stretch/>
        </p:blipFill>
        <p:spPr>
          <a:xfrm>
            <a:off x="228600" y="6208560"/>
            <a:ext cx="13716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FMEA: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F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ailure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M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ode and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E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ffects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A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nalysis</a:t>
            </a:r>
            <a:br>
              <a:rPr sz="4400"/>
            </a:b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0b13"/>
                </a:solidFill>
                <a:latin typeface="Arial"/>
              </a:rPr>
              <a:t>What is a FMEA?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0b0b13"/>
                </a:solidFill>
                <a:latin typeface="Arial"/>
              </a:rPr>
              <a:t>“The technique involves identifying potential mistakes before they happen to determine whether the consequences of those mistakes would be</a:t>
            </a:r>
            <a:r>
              <a:rPr b="1" lang="en-US" sz="2800" spc="-1" strike="noStrike" u="sng">
                <a:solidFill>
                  <a:srgbClr val="0b0b13"/>
                </a:solidFill>
                <a:uFillTx/>
                <a:latin typeface="Arial"/>
              </a:rPr>
              <a:t> tolerable</a:t>
            </a:r>
            <a:r>
              <a:rPr b="1" lang="en-US" sz="2800" spc="-1" strike="noStrike">
                <a:solidFill>
                  <a:srgbClr val="0b0b13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0b0b13"/>
                </a:solidFill>
                <a:uFillTx/>
                <a:latin typeface="Arial"/>
              </a:rPr>
              <a:t>intolerable</a:t>
            </a:r>
            <a:r>
              <a:rPr b="1" lang="en-US" sz="2800" spc="-1" strike="noStrike">
                <a:solidFill>
                  <a:srgbClr val="0b0b13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0" name="Picture 5" descr="j0309614"/>
          <p:cNvPicPr/>
          <p:nvPr/>
        </p:nvPicPr>
        <p:blipFill>
          <a:blip r:embed="rId1"/>
          <a:stretch/>
        </p:blipFill>
        <p:spPr>
          <a:xfrm>
            <a:off x="7010280" y="838080"/>
            <a:ext cx="1600200" cy="1141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95160" y="1743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724280"/>
            <a:ext cx="6248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4419720"/>
            <a:ext cx="70866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b0b13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b1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b0b13"/>
                </a:solidFill>
                <a:latin typeface="Arial"/>
              </a:rPr>
              <a:t>Potential failures are identified in terms of failure “</a:t>
            </a:r>
            <a:r>
              <a:rPr b="0" lang="en-US" sz="2400" spc="-1" strike="noStrike" u="sng">
                <a:solidFill>
                  <a:srgbClr val="0b0b13"/>
                </a:solidFill>
                <a:uFillTx/>
                <a:latin typeface="Arial"/>
              </a:rPr>
              <a:t>modes</a:t>
            </a:r>
            <a:r>
              <a:rPr b="0" lang="en-US" sz="2400" spc="-1" strike="noStrike">
                <a:solidFill>
                  <a:srgbClr val="0b0b13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b0b13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b1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b0b13"/>
                </a:solidFill>
                <a:latin typeface="Arial"/>
              </a:rPr>
              <a:t>For </a:t>
            </a:r>
            <a:r>
              <a:rPr b="0" lang="en-US" sz="2400" spc="-1" strike="noStrike" u="sng">
                <a:solidFill>
                  <a:srgbClr val="0b0b13"/>
                </a:solidFill>
                <a:uFillTx/>
                <a:latin typeface="Arial"/>
              </a:rPr>
              <a:t>each mode</a:t>
            </a:r>
            <a:r>
              <a:rPr b="0" lang="en-US" sz="2400" spc="-1" strike="noStrike">
                <a:solidFill>
                  <a:srgbClr val="0b0b13"/>
                </a:solidFill>
                <a:latin typeface="Arial"/>
              </a:rPr>
              <a:t> the effect on the total system is stu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0b13"/>
                </a:solidFill>
                <a:latin typeface="Arial"/>
              </a:rPr>
              <a:t>Why FMEA?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b13"/>
                </a:solidFill>
                <a:latin typeface="Arial"/>
              </a:rPr>
              <a:t>Powerful approach for </a:t>
            </a:r>
            <a:r>
              <a:rPr b="1" i="1" lang="en-US" sz="2800" spc="-1" strike="noStrike">
                <a:solidFill>
                  <a:srgbClr val="0b0b13"/>
                </a:solidFill>
                <a:latin typeface="Arial"/>
              </a:rPr>
              <a:t>proactive</a:t>
            </a:r>
            <a:r>
              <a:rPr b="0" lang="en-US" sz="2800" spc="-1" strike="noStrike">
                <a:solidFill>
                  <a:srgbClr val="0b0b13"/>
                </a:solidFill>
                <a:latin typeface="Arial"/>
              </a:rPr>
              <a:t> risk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b13"/>
                </a:solidFill>
                <a:latin typeface="Arial"/>
              </a:rPr>
              <a:t>Used in other high risk industries such as aerospace, aviation, nuclear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N00571_"/>
          <p:cNvPicPr/>
          <p:nvPr/>
        </p:nvPicPr>
        <p:blipFill>
          <a:blip r:embed="rId1"/>
          <a:stretch/>
        </p:blipFill>
        <p:spPr>
          <a:xfrm>
            <a:off x="3886200" y="4419720"/>
            <a:ext cx="3657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HFMEA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  <a:ea typeface="Arial"/>
              </a:rPr>
              <a:t>™ Proces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generates a flow diagram of main process and sub-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brainstorms about all potential errors at each step (failure mo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s scored for probability it will occur (frequency) and potential severity if it did occur (seve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score x severity score = hazard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risk failure modes identified as well as related causes or contributor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04920" y="621828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DeRosier J, Stalhandske E, Bagian JP, Nudell T. Using health care Failure Mode and Effect Analysis: the </a:t>
            </a:r>
            <a:br>
              <a:rPr sz="1200"/>
            </a:b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    VA National Center for Patient Safety's prospective risk analysis system. Jt Comm J Qual Improv. </a:t>
            </a:r>
            <a:br>
              <a:rPr sz="1200"/>
            </a:b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    2002 May;28(5):248-267, 209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AHRQ Planning Grant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HFMEA on NICU to ambulatory care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retrospective review to confirm or modify HFMEA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qualitative assessment of the process to accomplish the HFM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tting: Texas Children’s Hospital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8 Level III beds, 62 Level II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200 VLBW (&lt;1500gm) babies per year, many other babies with complex congenital abnorm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Needs Primary Care 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ed at main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100 children on home ventilators; 24-7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private practices, including 5 Medical H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electronic record with 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H-owned Medicaid Managed Care Plan, ~230,000 k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Our Project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 HFMEA for the transition in care from NICU to ambulatory 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ultiple methods to see if our predictions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the HFM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mitigation plan to address the identified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It takes a team…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ginia Moyer, MD, MPH – Principal Investig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en Finkel, RN, BSN – Patient Safety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eep Singh, MD, MPH – Patient Safety Researcher (VA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-Ann Papile, MD – Neonatolog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chen Profit, MD – Neonatolog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leta Guillory, MD – Neonatolog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ia Berretta, MSW – Social Wor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esa Duryea, MD – Pediatric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ri Sielski, MD – Pediatric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 Mort, RN – Baylor NICU n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ol Carrier, 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 Kelly, PhD – Survey researcher (VA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rna Khan, PhD – Patient Safety researcher (VA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ic Thomas, MD, MPH – Patient safety guru (UT-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eph DeRosier – creator of HFMEA (VA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rocess Diagram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990720" y="1752480"/>
          <a:ext cx="70866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086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3"/>
          <p:cNvGraphicFramePr/>
          <p:nvPr/>
        </p:nvGraphicFramePr>
        <p:xfrm>
          <a:off x="0" y="533520"/>
          <a:ext cx="899172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89917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Oval 4"/>
          <p:cNvSpPr/>
          <p:nvPr/>
        </p:nvSpPr>
        <p:spPr>
          <a:xfrm>
            <a:off x="1600200" y="1828800"/>
            <a:ext cx="2362320" cy="40384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514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ICU to Ambulatory Care Diagram</a:t>
            </a:r>
            <a:endParaRPr b="1" lang="en-US" sz="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le_e_coyote"/>
          <p:cNvPicPr/>
          <p:nvPr/>
        </p:nvPicPr>
        <p:blipFill>
          <a:blip r:embed="rId1"/>
          <a:stretch/>
        </p:blipFill>
        <p:spPr>
          <a:xfrm>
            <a:off x="1295280" y="800280"/>
            <a:ext cx="6553440" cy="5257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artoon:</a:t>
            </a:r>
            <a:endParaRPr b="1" lang="en-US" sz="9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3"/>
          <p:cNvGraphicFramePr/>
          <p:nvPr/>
        </p:nvGraphicFramePr>
        <p:xfrm>
          <a:off x="457200" y="2754360"/>
          <a:ext cx="403380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4360"/>
                    <a:ext cx="40338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4"/>
          <p:cNvGraphicFramePr/>
          <p:nvPr/>
        </p:nvGraphicFramePr>
        <p:xfrm>
          <a:off x="609480" y="609480"/>
          <a:ext cx="807732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480"/>
                    <a:ext cx="80773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Oval 5"/>
          <p:cNvSpPr/>
          <p:nvPr/>
        </p:nvSpPr>
        <p:spPr>
          <a:xfrm>
            <a:off x="5181480" y="609480"/>
            <a:ext cx="76212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Our HFMEA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  <a:ea typeface="Arial"/>
              </a:rPr>
              <a:t>™ Result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identified 114 potential failure modes within the dischar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model included 40 high-failure modes and 75 high-risk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HFMEA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  <a:ea typeface="Arial"/>
              </a:rPr>
              <a:t>™ Result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issues present across most failure modes and caus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ians act in isolation resulting in lack of standardized, coordinated, comprehensive plan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/caregivers inadequately prepared for home care and management of fragile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providers lack required knowledge and skills to manage medically complex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ultiple Methods” to confirm the HFMEA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reporting of events (using TCH reporting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triggers for possible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visits within one month of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missions within one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ed appointments within one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naire for parents/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Care Transitions Measu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etrospective Review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s reviewed using a trigger methodology to confirm or add to HFMEA findings (N=8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s documented for 14 of 35 sub-steps predicted to have errors, in 1-10 case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 in current medical records system inadequate to systematically collect reliab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unavailable for majority of patients for 19 of the 35 sub-step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diatric-adapted “care transitions measure” developed and valid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Qualitative Analysis of the HFMEA Proces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am members felt that the group functioned extremely well, with a high level of involvement and many new insights gained in the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am encountered difficulty applying the HFMEA scoring system to the identified failure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verity descriptions did not seem to fit the types of failure modes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descriptions did not seem sufficiently gran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oup modified both descriptions before it proceeded with sco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group members were concerned that scoring severity and frequency at the same time allowed for “gaming” of the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end of the process, the group scored one set of failure modes independently to determine whether this would significantly alter the scores (it did no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Safe Passage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step of the HFMEA is the development of a mitig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ddressed the three major themes that were identified in the HFM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 standardized discharg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parent/caregiver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knowledge and skills by community-based health car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Safe Passage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ased the intervention on the Care Transitions Intervention (Coleman et. al.), adapted for a pediatric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Personal Health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In Time Information for community-based health car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nhanced Personal Health Record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discharge plan is 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standard discharge information limited to a single sheet of paper with diagnoses, medications and appointments written in by ha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for many of our babies, the paper chart weighs more than the bab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nhanced Personal Health Record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, Helpful Information about the Newborn Center, and Important Numb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urnaling and Care Pa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ps for Choosing Insurance and Pediatrician for Your Bab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 and Sup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nald McDonald Ho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eople, Equipment and Medical Terminology Gloss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by’s Development, Nutrition, and Fee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Babies Immunization Schedu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feeding Your Ba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Feeding- Bottle Feeding and Formula Prepa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and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 Saf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Oral Medi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Give a Subcutaneous Inj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b Saf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of Il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ng Inf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ag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ing for Discharge Checkli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endar with Follow-Up Appoint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M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HRQ Planning 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CU to ambulatory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FMEA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Health Coach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ly expert individual who takes the role of sensitive coach, teacher and facilitator to foster the development of parents into competent caregivers for their fragile infan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’s prepared health educator, available at the hours parents are able to be present in the NIC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to staff as a resourc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Just-in-Time information for primary care provider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d on new Evidence Based Guidelines program at Texas Childre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age summaries of evidence based guidelines for comm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from premature formula, oxygen weaning, growth of premature infants, management of gastrostomy, management of tracheostomy, chronic lung disease… and much, much mo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 home with infant and also faxed to provider at the time of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esearch Design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Cohort Study over 1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U is divided into geographically distinct “po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NICU III pod and its usual step-down Level II pod comprise the interventio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ds comprise the control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B did not require patient/parent consent beyond verbal consent at the time of 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id require written consent for the evaluation of PCP compliance with JI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rogress to date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uitment of intervention babies is close to on-schedule (n~50 at 6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uitment of control babies is behind (n~40) because 2 control units were closed for low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ew refusals to participate, very high rate of response to phone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 level of difficulty recruiting PCPs to the J-I-T intervention, so numbers are 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Outcome Evaluation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outcome is adverse events within 31 days of discharge (death, ER visit, readmission, missed appoin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Transitions Measure – Neo: administered by phone 2-3 days after discharge and again at 3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fort level and satisfaction of PCPs with common post-NICU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nce to guidelines by P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Deliverable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k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for the Health C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Discharge Binder (to be converted to electronic format if and when our EMR implementation actually happ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T information sheets (to be converted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M-Neo - validated tool to evaluate the quality of the NICU discharg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are Transitions Progra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caretransitions.o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cessed January 18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eman EA, Berneson RA. Lost in transition: Challenges and Opportunities for improving the quality of transitional care. Ann Int Med. 2004 Oct 5; 141(7):533-53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osier J, Stalhandske E, Bagian JP, Nudell T. Using health care Failure Mode and Effect Analysis: the  VA National Center for Patient Safety's prospective risk analysis system. Jt Comm J Qual Improv. 2002 May;28(5):248-267, 209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ster AJ, Clark HD, Menard A, et al. Adverse events among medical patients after discharge from hospital.  CMAJ. 2004; 170:345-349.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Pherson ML, Lairson DR, Smith EO, Brody BA, Jefferson LS. Noncompliance with medical follow-up after pediatric intensive care. Pediatrics 2002;109(6):9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ore C, Wisnivesky J, Williams S, McGinn T. Medical errors related to discontinuity of care from an inpatient to an outpatient setting. J Gen Intern Med. 2003 Aug;18(8):646-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ilibert I. Leach DC. Re-framing continuity of care for this century. Qual Saf Health Care. 2005 Dec;14(6):394-3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y CL, Poon EG, Karson AS, Ladak-Merchant Z, Johnson RE, Maviglia SM, Gandhi TK. Patient safety concerns arising from test results that return after hospital discharge. Ann Intern Med. 2005;143(2):121-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oyote-06"/>
          <p:cNvPicPr/>
          <p:nvPr/>
        </p:nvPicPr>
        <p:blipFill>
          <a:blip r:embed="rId1"/>
          <a:stretch/>
        </p:blipFill>
        <p:spPr>
          <a:xfrm>
            <a:off x="16765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52480" y="5516280"/>
            <a:ext cx="3200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afety literature increasingly acknowledges potential risks of care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 literature reveals significant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 evaluation of error-prone health care processes can inform interventions to prevent adverse patient outcomes before the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are Transition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called “handoff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 of patients between health care practitioners and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to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o post-op or I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U to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acility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Hospital to Home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nged time period during “handof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lear lines of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patient understanding of health car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readiness for self-care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information for follow-up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ediatric Care Transition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to ambulatory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atric literature relatively silent except for measuring follow-up appoin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has been on “lack of compliance” by caregivers rather than on systematic issues around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% of children discharged from a pediatric ICU (not a NICU) did not receive timely medical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80880" y="6172200"/>
            <a:ext cx="853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McPherson ML, Lairson DR, Smith EO, Brody BA, Jefferson LS. Noncompliance with medical follow-up after pediatric intensive care. Pediatrics 2002;109(6):94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esearch in Adult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% of patients had identifiable adverse events in the first 3 weeks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of older patients misused at least one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 medical error per discharge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esearch in the NICU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2590920" y="2971800"/>
            <a:ext cx="32763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to do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1:51:28Z</dcterms:created>
  <dc:creator>Marlene Moulder</dc:creator>
  <dc:description/>
  <dc:language>en-US</dc:language>
  <cp:lastModifiedBy>Kim Gretka</cp:lastModifiedBy>
  <dcterms:modified xsi:type="dcterms:W3CDTF">2010-10-18T23:47:02Z</dcterms:modified>
  <cp:revision>48</cp:revision>
  <dc:subject/>
  <dc:title>Slide 1</dc:title>
</cp:coreProperties>
</file>