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5"/>
          </p:nvPr>
        </p:nvSpPr>
        <p:spPr>
          <a:xfrm>
            <a:off x="39621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6"/>
          </p:nvPr>
        </p:nvSpPr>
        <p:spPr>
          <a:xfrm>
            <a:off x="-3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7"/>
          </p:nvPr>
        </p:nvSpPr>
        <p:spPr>
          <a:xfrm>
            <a:off x="3962160" y="880560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811BC81-4C42-42E0-B5DD-CE574C830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4AFF48E-1EF8-48C3-A9F3-82D83BC92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2600" y="69372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34920" y="4403520"/>
            <a:ext cx="512784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008C7DB-FF1D-4ED6-A856-4E923CF68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A5BEBF1-EDF9-46F2-92A2-51C80486F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670B52E-4BA1-4568-A1BB-D6E913EB4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F125BD1-6470-477B-841C-04C375AA2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1141560" y="4221000"/>
            <a:ext cx="46386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B80454C-4C1B-44AC-A58A-4E94DD396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820880" y="695160"/>
            <a:ext cx="3127320" cy="23450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4360" y="341964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02874E0-2290-4E6A-96C9-D760570C1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D940C2B-3990-42BE-95DE-F4BC5AC1E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8B9F6CE-B080-4FC3-A020-6292B38FA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FE73A27-0E9B-42F1-A178-3328456E3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E163CB9-20C5-4C20-90E5-45634AA21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DB15857-4487-44FC-BECC-764B762C6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8FEA18B-FA1A-46DC-ADA9-417546540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CE75EE2-CD98-4736-98EB-79AA55C19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744536F-0260-4AEB-BD74-4ED5A6087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48A5B7A-54DB-490C-A240-A8B4005EC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2750056-C3F6-4434-B060-E12313A7F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1F69343-A879-4282-AB2F-287F00AD6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89AEB81-A670-4185-84E5-5B632A0CF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55280" y="4406400"/>
            <a:ext cx="55976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1A3268E-5DAF-486A-B35B-7247664B4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A939569-8BDB-431D-8B25-8785029CF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E318449-FEB2-474C-B193-C2EF0CB4A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lvl="2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D4DF872-FB50-467C-906A-32A680F6E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77C84B5-4236-4447-9D0D-9FCD8F92F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797120" y="695160"/>
            <a:ext cx="3632040" cy="2724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00200" y="3724200"/>
            <a:ext cx="559728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8A243CC-C133-444E-91C8-C92F7D5E6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962520" y="8805960"/>
            <a:ext cx="3033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DF58B11-4D76-43E0-AC5B-72506B6E8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F929E-A67A-456C-B281-E5383504CB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76960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90240"/>
            <a:ext cx="76960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491EB-32F2-47A4-9543-2BB10B1B65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58200" y="202068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9024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58200" y="399024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58C6B-C464-4564-AD40-E292BDBBA0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24778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16480" y="2020680"/>
            <a:ext cx="24778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18560" y="2020680"/>
            <a:ext cx="24778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90240"/>
            <a:ext cx="24778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16480" y="3990240"/>
            <a:ext cx="24778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18560" y="3990240"/>
            <a:ext cx="24778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78A50-9090-4A97-905D-8729AF77D8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49561-E157-4154-B607-E811B917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2020680"/>
            <a:ext cx="76960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18394-A54E-4ED2-BB42-D5B56457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769608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43420-46C5-43C3-BCFE-243DEC04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375552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8200" y="2020680"/>
            <a:ext cx="375552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F12C9-862D-4785-9EDA-17C101BD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8E775-E324-4173-82B4-F1B6757B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80920" y="876240"/>
            <a:ext cx="7739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03DF6-6D2B-4F70-8C49-EAD49FE3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8200" y="2020680"/>
            <a:ext cx="375552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99024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B272F-841D-40F6-BF1B-5CCFD1A7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2020680"/>
            <a:ext cx="76960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18480-A26C-4A4B-8A24-B390BAFE63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375552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58200" y="202068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58200" y="399024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E77D9-DF85-459F-AF3B-520D1489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58200" y="202068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90240"/>
            <a:ext cx="76960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9BFC5-A820-4D57-AEDF-AA9698B4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76960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990240"/>
            <a:ext cx="76960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DFA51-422E-4295-9D5A-2C5C24AF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8200" y="202068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9024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58200" y="399024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7C6A3-B502-49D0-9D44-1F92D7567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24778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16480" y="2020680"/>
            <a:ext cx="24778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18560" y="2020680"/>
            <a:ext cx="24778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990240"/>
            <a:ext cx="24778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16480" y="3990240"/>
            <a:ext cx="24778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18560" y="3990240"/>
            <a:ext cx="24778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914EF-6867-46F1-BE67-36C7B8E5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14400" y="2020680"/>
            <a:ext cx="76960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769608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375552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58200" y="2020680"/>
            <a:ext cx="375552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769608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69859-7C8B-44CF-ABC3-6DD507191D8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80920" y="876240"/>
            <a:ext cx="7739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58200" y="2020680"/>
            <a:ext cx="375552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14400" y="399024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375552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58200" y="202068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58200" y="399024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58200" y="202068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990240"/>
            <a:ext cx="76960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76960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14400" y="3990240"/>
            <a:ext cx="76960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58200" y="202068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4400" y="399024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58200" y="399024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24778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16480" y="2020680"/>
            <a:ext cx="24778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18560" y="2020680"/>
            <a:ext cx="24778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14400" y="3990240"/>
            <a:ext cx="24778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16480" y="3990240"/>
            <a:ext cx="24778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18560" y="3990240"/>
            <a:ext cx="24778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375552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8200" y="2020680"/>
            <a:ext cx="375552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3D3A9-965F-468A-BE21-55B8FD0823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21A33-5F08-4511-9C81-93D2C63B1C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80920" y="876240"/>
            <a:ext cx="7739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73976-7D3B-4783-87C3-C1A28D2D2A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8200" y="2020680"/>
            <a:ext cx="375552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9024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5B482-697B-4247-A934-B13C8E734E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375552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58200" y="202068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58200" y="399024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FC5F3-96A6-4D74-93B7-995BC7021E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02068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8200" y="2020680"/>
            <a:ext cx="375552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90240"/>
            <a:ext cx="769608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53509-47C8-4CFF-A782-8A68F5E8F5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lide_content_2_10"/>
          <p:cNvPicPr/>
          <p:nvPr/>
        </p:nvPicPr>
        <p:blipFill>
          <a:blip r:embed="rId2"/>
          <a:stretch/>
        </p:blipFill>
        <p:spPr>
          <a:xfrm>
            <a:off x="0" y="3824280"/>
            <a:ext cx="2959200" cy="3033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lide_content_2_09"/>
          <p:cNvPicPr/>
          <p:nvPr/>
        </p:nvPicPr>
        <p:blipFill>
          <a:blip r:embed="rId3"/>
          <a:stretch/>
        </p:blipFill>
        <p:spPr>
          <a:xfrm>
            <a:off x="0" y="0"/>
            <a:ext cx="9144000" cy="86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914400" y="2020680"/>
            <a:ext cx="769608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1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1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1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1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8096400" y="6581880"/>
            <a:ext cx="761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" bIns="900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422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42200"/>
                </a:solidFill>
                <a:latin typeface="Times New Roman"/>
              </a:rPr>
              <a:t> </a:t>
            </a:r>
            <a:fld id="{F08498E1-6933-4423-864A-B39071F68080}" type="slidenum">
              <a:rPr b="1" lang="en-US" sz="1000" spc="-1" strike="noStrike">
                <a:solidFill>
                  <a:srgbClr val="542200"/>
                </a:solidFill>
                <a:latin typeface="Times New Roman"/>
              </a:rPr>
              <a:t>&lt;number&gt;</a:t>
            </a:fld>
            <a:r>
              <a:rPr b="1" lang="en-US" sz="1000" spc="-1" strike="noStrike">
                <a:solidFill>
                  <a:srgbClr val="5422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3660840" y="6591240"/>
            <a:ext cx="144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42200"/>
                </a:solidFill>
                <a:latin typeface="Arial"/>
              </a:rPr>
              <a:t>T</a:t>
            </a:r>
            <a:r>
              <a:rPr b="1" lang="en-US" sz="800" spc="-1" strike="noStrike">
                <a:solidFill>
                  <a:srgbClr val="542200"/>
                </a:solidFill>
                <a:latin typeface="Arial"/>
              </a:rPr>
              <a:t>EAM</a:t>
            </a:r>
            <a:r>
              <a:rPr b="1" lang="en-US" sz="1000" spc="-1" strike="noStrike">
                <a:solidFill>
                  <a:srgbClr val="542200"/>
                </a:solidFill>
                <a:latin typeface="Arial"/>
              </a:rPr>
              <a:t>STEPPS 05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Slide_content2_02"/>
          <p:cNvPicPr/>
          <p:nvPr/>
        </p:nvPicPr>
        <p:blipFill>
          <a:blip r:embed="rId4"/>
          <a:stretch/>
        </p:blipFill>
        <p:spPr>
          <a:xfrm>
            <a:off x="0" y="849240"/>
            <a:ext cx="684360" cy="2976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Slide_content2_06"/>
          <p:cNvPicPr/>
          <p:nvPr/>
        </p:nvPicPr>
        <p:blipFill>
          <a:blip r:embed="rId5"/>
          <a:srcRect l="0" t="-5788" r="1675" b="0"/>
          <a:stretch/>
        </p:blipFill>
        <p:spPr>
          <a:xfrm>
            <a:off x="2962440" y="6400800"/>
            <a:ext cx="615780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Text Box 10"/>
          <p:cNvSpPr/>
          <p:nvPr/>
        </p:nvSpPr>
        <p:spPr>
          <a:xfrm>
            <a:off x="220680" y="655020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cc99"/>
                </a:solidFill>
                <a:latin typeface="Arial"/>
              </a:rPr>
              <a:t>Mod 1 05.2   Page </a:t>
            </a:r>
            <a:fld id="{DC43E10E-AFF8-4BAE-984C-A3E856514FCE}" type="slidenum">
              <a:rPr b="1" lang="en-US" sz="900" spc="-1" strike="noStrike">
                <a:solidFill>
                  <a:srgbClr val="cccc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Slide_content_2_10"/>
          <p:cNvPicPr/>
          <p:nvPr/>
        </p:nvPicPr>
        <p:blipFill>
          <a:blip r:embed="rId6"/>
          <a:stretch/>
        </p:blipFill>
        <p:spPr>
          <a:xfrm>
            <a:off x="0" y="3807000"/>
            <a:ext cx="2976480" cy="3051000"/>
          </a:xfrm>
          <a:prstGeom prst="rect">
            <a:avLst/>
          </a:prstGeom>
          <a:ln w="0">
            <a:noFill/>
          </a:ln>
        </p:spPr>
      </p:pic>
      <p:sp>
        <p:nvSpPr>
          <p:cNvPr id="10" name="Text Box 13"/>
          <p:cNvSpPr/>
          <p:nvPr/>
        </p:nvSpPr>
        <p:spPr>
          <a:xfrm>
            <a:off x="220680" y="6550200"/>
            <a:ext cx="1581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cc99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cccc99"/>
                </a:solidFill>
                <a:latin typeface="Arial"/>
              </a:rPr>
              <a:t>Page </a:t>
            </a:r>
            <a:fld id="{6A118A23-817E-4191-AE9C-797093A47FCF}" type="slidenum">
              <a:rPr b="1" lang="en-US" sz="900" spc="-1" strike="noStrike">
                <a:solidFill>
                  <a:srgbClr val="cccc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A281-3FDC-447D-B7E6-EEF3D36A4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3" descr="Slide_title2_02"/>
          <p:cNvPicPr/>
          <p:nvPr/>
        </p:nvPicPr>
        <p:blipFill>
          <a:blip r:embed="rId2"/>
          <a:stretch/>
        </p:blipFill>
        <p:spPr>
          <a:xfrm>
            <a:off x="2232000" y="0"/>
            <a:ext cx="6912000" cy="790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Slide_title2_01"/>
          <p:cNvPicPr/>
          <p:nvPr/>
        </p:nvPicPr>
        <p:blipFill>
          <a:blip r:embed="rId3"/>
          <a:stretch/>
        </p:blipFill>
        <p:spPr>
          <a:xfrm>
            <a:off x="0" y="-7920"/>
            <a:ext cx="2281320" cy="3598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Slide_title2_04"/>
          <p:cNvPicPr/>
          <p:nvPr/>
        </p:nvPicPr>
        <p:blipFill>
          <a:blip r:embed="rId4"/>
          <a:stretch/>
        </p:blipFill>
        <p:spPr>
          <a:xfrm>
            <a:off x="0" y="3586320"/>
            <a:ext cx="2271600" cy="2388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Slide_title2_07"/>
          <p:cNvPicPr/>
          <p:nvPr/>
        </p:nvPicPr>
        <p:blipFill>
          <a:blip r:embed="rId5"/>
          <a:stretch/>
        </p:blipFill>
        <p:spPr>
          <a:xfrm>
            <a:off x="0" y="5948280"/>
            <a:ext cx="4835520" cy="906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7" descr="Slide_title2_05"/>
          <p:cNvPicPr/>
          <p:nvPr/>
        </p:nvPicPr>
        <p:blipFill>
          <a:blip r:embed="rId6"/>
          <a:stretch/>
        </p:blipFill>
        <p:spPr>
          <a:xfrm>
            <a:off x="2260440" y="3541680"/>
            <a:ext cx="1136880" cy="2408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Slide_title2_01"/>
          <p:cNvPicPr/>
          <p:nvPr/>
        </p:nvPicPr>
        <p:blipFill>
          <a:blip r:embed="rId7"/>
          <a:stretch/>
        </p:blipFill>
        <p:spPr>
          <a:xfrm>
            <a:off x="0" y="0"/>
            <a:ext cx="2278080" cy="35924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914400" y="2020680"/>
            <a:ext cx="769608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1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1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1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1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eamstepps.ahrq.gov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dmilne@air.org" TargetMode="External"/><Relationship Id="rId2" Type="http://schemas.openxmlformats.org/officeDocument/2006/relationships/hyperlink" Target="mailto:dmilne@air.or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Rectangle 2" descr=""/>
          <p:cNvPicPr/>
          <p:nvPr/>
        </p:nvPicPr>
        <p:blipFill>
          <a:blip r:embed="rId1"/>
          <a:stretch/>
        </p:blipFill>
        <p:spPr>
          <a:xfrm>
            <a:off x="291960" y="1596960"/>
            <a:ext cx="8560080" cy="50119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90920" y="990720"/>
            <a:ext cx="6029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e1"/>
                </a:solidFill>
                <a:latin typeface="Arial"/>
              </a:rPr>
              <a:t>The Power of Teams Across America: Lessons Learned from the National Implementation of TeamSTEPPS Project</a:t>
            </a:r>
            <a:endParaRPr b="1" lang="en-US" sz="10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National Implementation of TeamSTEPPS Training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800100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100000"/>
              </a:lnSpc>
              <a:spcAft>
                <a:spcPts val="1199"/>
              </a:spcAft>
              <a:buClr>
                <a:srgbClr val="aeae5d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have conducted 58 training s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Aft>
                <a:spcPts val="601"/>
              </a:spcAft>
              <a:buClr>
                <a:srgbClr val="aeae5d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have trained &gt; 1500 Master Trainers fr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3960" indent="-434160">
              <a:lnSpc>
                <a:spcPct val="100000"/>
              </a:lnSpc>
              <a:spcAft>
                <a:spcPts val="601"/>
              </a:spcAft>
              <a:buClr>
                <a:srgbClr val="ae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 - every state and Puerto 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3960" indent="-434160">
              <a:lnSpc>
                <a:spcPct val="100000"/>
              </a:lnSpc>
              <a:spcAft>
                <a:spcPts val="601"/>
              </a:spcAft>
              <a:buClr>
                <a:srgbClr val="ae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iw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3960" indent="-434160">
              <a:lnSpc>
                <a:spcPct val="100000"/>
              </a:lnSpc>
              <a:spcAft>
                <a:spcPts val="601"/>
              </a:spcAft>
              <a:buClr>
                <a:srgbClr val="ae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3960" indent="-434160">
              <a:lnSpc>
                <a:spcPct val="100000"/>
              </a:lnSpc>
              <a:spcAft>
                <a:spcPts val="601"/>
              </a:spcAft>
              <a:buClr>
                <a:srgbClr val="ae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3960" indent="-434160">
              <a:lnSpc>
                <a:spcPct val="100000"/>
              </a:lnSpc>
              <a:spcAft>
                <a:spcPts val="601"/>
              </a:spcAft>
              <a:buClr>
                <a:srgbClr val="ae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pread of National Implementation in U.S. to Date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pic>
        <p:nvPicPr>
          <p:cNvPr id="161" name="Picture 3" descr="TeamSTEPPS map 2.JPG"/>
          <p:cNvPicPr/>
          <p:nvPr/>
        </p:nvPicPr>
        <p:blipFill>
          <a:blip r:embed="rId1"/>
          <a:srcRect l="15891" t="11293" r="2807" b="3230"/>
          <a:stretch/>
        </p:blipFill>
        <p:spPr>
          <a:xfrm>
            <a:off x="1295280" y="190512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6984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National Implementation of TeamSTEPPS Training Center Locations</a:t>
            </a:r>
            <a:endParaRPr b="1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pic>
        <p:nvPicPr>
          <p:cNvPr id="163" name="Picture 6" descr="usa-map"/>
          <p:cNvPicPr/>
          <p:nvPr/>
        </p:nvPicPr>
        <p:blipFill>
          <a:blip r:embed="rId1"/>
          <a:stretch/>
        </p:blipFill>
        <p:spPr>
          <a:xfrm>
            <a:off x="990720" y="1954080"/>
            <a:ext cx="7315200" cy="45230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7"/>
          <p:cNvSpPr/>
          <p:nvPr/>
        </p:nvSpPr>
        <p:spPr>
          <a:xfrm>
            <a:off x="7396920" y="3124080"/>
            <a:ext cx="1537200" cy="580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e1"/>
                </a:solidFill>
                <a:latin typeface="Arial"/>
              </a:rPr>
              <a:t>Carilion  Clin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e1"/>
                </a:solidFill>
                <a:latin typeface="Arial"/>
              </a:rPr>
              <a:t>T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 flipH="1">
            <a:off x="6607080" y="3657600"/>
            <a:ext cx="1774800" cy="457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7088400" y="5029200"/>
            <a:ext cx="1183680" cy="337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ke  T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1"/>
          <p:cNvSpPr/>
          <p:nvPr/>
        </p:nvSpPr>
        <p:spPr>
          <a:xfrm flipH="1" flipV="1">
            <a:off x="7010280" y="4419360"/>
            <a:ext cx="609840" cy="609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2845440" y="4033800"/>
            <a:ext cx="210852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eighton  Univ. T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3"/>
          <p:cNvSpPr/>
          <p:nvPr/>
        </p:nvSpPr>
        <p:spPr>
          <a:xfrm flipV="1">
            <a:off x="3200400" y="3733920"/>
            <a:ext cx="1295280" cy="3045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3506760" y="1981080"/>
            <a:ext cx="210996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Univ. Minnesota T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4572000" y="2286000"/>
            <a:ext cx="457200" cy="838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6480000" y="2286000"/>
            <a:ext cx="1149840" cy="3373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e1"/>
                </a:solidFill>
                <a:latin typeface="Arial"/>
              </a:rPr>
              <a:t>AIR - L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7"/>
          <p:cNvSpPr/>
          <p:nvPr/>
        </p:nvSpPr>
        <p:spPr>
          <a:xfrm flipH="1">
            <a:off x="7086240" y="2590920"/>
            <a:ext cx="228600" cy="1295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304920" y="1523880"/>
            <a:ext cx="1904760" cy="580680"/>
          </a:xfrm>
          <a:prstGeom prst="rect">
            <a:avLst/>
          </a:prstGeom>
          <a:solidFill>
            <a:srgbClr val="00cc99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. Washington T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Straight Arrow Connector 20"/>
          <p:cNvCxnSpPr/>
          <p:nvPr/>
        </p:nvCxnSpPr>
        <p:spPr>
          <a:xfrm>
            <a:off x="1523520" y="2057400"/>
            <a:ext cx="229320" cy="31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87624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TeamSTEPPS Master Trainer Sessions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609480" y="1733400"/>
            <a:ext cx="830592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80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s are free – teams are responsible for travel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to all health provider organizations &amp; health profession edu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ME and CEU - awarded upon comp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ed to approx. 30 se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es of diverse teams – greatest asse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eamSTEPPS Master Trainer Sessions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9144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½ day ses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y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>
              <a:lnSpc>
                <a:spcPct val="100000"/>
              </a:lnSpc>
              <a:spcAft>
                <a:spcPts val="1199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amentals curriculum - DIDAC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y 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>
              <a:lnSpc>
                <a:spcPct val="100000"/>
              </a:lnSpc>
              <a:spcAft>
                <a:spcPts val="1199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, includes change management, coaching, measurement, implementation planning – INTER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y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>
              <a:lnSpc>
                <a:spcPct val="100000"/>
              </a:lnSpc>
              <a:spcAft>
                <a:spcPts val="1199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 back -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National Implementation of TeamSTEPPS User Support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543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11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’s User Support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5000"/>
              </a:lnSpc>
              <a:spcBef>
                <a:spcPts val="10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 Director and Program Speci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5000"/>
              </a:lnSpc>
              <a:spcBef>
                <a:spcPts val="10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center 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5000"/>
              </a:lnSpc>
              <a:spcBef>
                <a:spcPts val="10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experts and administrativ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5000"/>
              </a:lnSpc>
              <a:spcBef>
                <a:spcPts val="10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 listserv – peer to peer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5000"/>
              </a:lnSpc>
              <a:spcBef>
                <a:spcPts val="10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Teamstepps.ahrq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5000"/>
              </a:lnSpc>
              <a:spcBef>
                <a:spcPts val="10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ical webinars (17 completed so f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5000"/>
              </a:lnSpc>
              <a:spcBef>
                <a:spcPts val="10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user group meeting/collabo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Journey – Change and Adaptation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520" y="2361960"/>
            <a:ext cx="84582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57200" indent="-4572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st major adaptation – Update to trainer/coach  module s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adapt to the goals and challenges of trainee te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d special implementation slides for  CMS Q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Journey – Change and Adaptation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055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57200" indent="-4572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major change – requirement of “statement of readines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adership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o will you send and wh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Journey – Change and Adaptation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57200" indent="-4572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major change – required standardization of all training sessions across training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ality across all cen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quired for consistent CME and CEU cred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ditional training segments allowed, with no cred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Lessons Learned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055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57200" indent="-4572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to peer support is price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ining sessions where teams from different types, sizes and locations are mixed together is a rich environment to 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 – help them connect with others that have had similar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7720" y="213336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design for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The National Implementation of TeamSTEPP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ourney – challenge and adap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762120" y="990720"/>
            <a:ext cx="7967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Lessons Learned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055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452520" indent="-45252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iness statement is often a predictor to success for sustain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45252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ares teams in focusing on goals identified through RCA or HSOP survey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45252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s teams thinking about change before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2520" indent="-45252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 – read and evaluate each readiness statement – respond a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Lessons Learned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055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57200" indent="-4572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tom or middle up” vs. “top down” driven initiatives are revealed as most sust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ations where the fiat “Thou shalt do TeamSTEPPS” has been issued often f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 – help them “market” TeamSTEPPS to the front line, bring a front line unofficial leader to become Master Tr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Lessons Learned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055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415800" indent="-4158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 training support is critical to success and sustai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831960" indent="-4158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plementation and sustainment are the hardest pa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831960" indent="-4158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e ready to help them think out of the bo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831960" indent="-4158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tilize peer to peer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415800" indent="-4158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 – be responsive and acce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Lessons Learned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055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57200" indent="-4572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ing the S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me special needs cases will ari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ill important to ask, is this fair to everyone else that is waiting for a sea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 - be adaptable but still f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Lessons Learned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305560" cy="38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2" marL="438840" indent="-43884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ms implementing TeamSTEPPS and TRC instructors have goo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877680" indent="-43884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e take suggestions for improvement serious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877680" indent="-43884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ften best ideas come from new te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438840" indent="-43884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 - ask for feedback and suggestions for improvement – act on the good ones and give them cred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38840"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Have We Been Successful?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055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415800" indent="-4158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ild it and they will come – they are still com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15800" indent="-4158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measure of suc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831960" indent="-4158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 numbers of people trained the program is successfu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415800" indent="-4158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other measure of success will be adoption and sustainment of change – Project evaluation to co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Questions?</a:t>
            </a:r>
            <a:endParaRPr b="1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055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57200" indent="-4572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, and feel free to contact 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 algn="ctr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orah A. Mil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 algn="ctr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dmilne</a:t>
            </a:r>
            <a:r>
              <a:rPr b="0" lang="en-US" sz="32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@air.or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 algn="ctr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02) 403-59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hat is TeamSTEPPS?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based teamwork system to improve communication and teamwork skills among health care profession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medical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patient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hat is TeamSTEPPS?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upon 4 key ski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u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Monitoring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triangleB.JPG"/>
          <p:cNvPicPr/>
          <p:nvPr/>
        </p:nvPicPr>
        <p:blipFill>
          <a:blip r:embed="rId1"/>
          <a:stretch/>
        </p:blipFill>
        <p:spPr>
          <a:xfrm>
            <a:off x="4952880" y="2209680"/>
            <a:ext cx="359100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hy the National Implementation of TeamSTEPPS Program Began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8001000" cy="34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57200" indent="-4572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HRQ released TeamSTEPPS training materials in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for implementation and training support soon ap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approach for AHRQ – fund TeamSTEPPS training and user support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nitial Design for Success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0556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415800" indent="-4158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ed program on the “agricultural extension service”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15800" indent="-4158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 initial training recruitment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31960" indent="-4158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ditional early adopters such as High Reliability Organ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31960" indent="-4158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stablished diverse geographical groups involved in health care safety and quali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248120" indent="-4158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Quality Improvement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48120" indent="-4158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HRQ Patient Safety Improvement Cor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31960"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http://www.chicohotsprings.com/images/weddings/field_of_dreams_chairs.png"/>
          <p:cNvPicPr/>
          <p:nvPr/>
        </p:nvPicPr>
        <p:blipFill>
          <a:blip r:embed="rId1"/>
          <a:stretch/>
        </p:blipFill>
        <p:spPr>
          <a:xfrm>
            <a:off x="1981080" y="2286000"/>
            <a:ext cx="5286600" cy="35244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80920" y="876240"/>
            <a:ext cx="773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Build It and They Will Come…</a:t>
            </a:r>
            <a:endParaRPr b="1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hat is the National Implementation of TeamSTEPPS Program?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57200" indent="-45720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HRQ contracted with American Institutes for Research in Washington D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 up a train the trainer model program at training centers in “early adopter” hospitals that already understood TeamSTEPP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cruit teams to attend trai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457200">
              <a:lnSpc>
                <a:spcPct val="100000"/>
              </a:lnSpc>
              <a:spcAft>
                <a:spcPts val="1800"/>
              </a:spcAft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velop support system for TeamSTEPPS Master Trainers after trai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More Components of the National Implementation of TeamSTEPPS Program </a:t>
            </a:r>
            <a:endParaRPr b="1" lang="en-US" sz="3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e the integration of teamwork training into health professions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additional measurement instruments and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evaluation of project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19:54:26Z</dcterms:created>
  <dc:creator>American Institutes for Research</dc:creator>
  <dc:description/>
  <dc:language>en-US</dc:language>
  <cp:lastModifiedBy>Kim Gretka</cp:lastModifiedBy>
  <dcterms:modified xsi:type="dcterms:W3CDTF">2010-10-18T23:42:12Z</dcterms:modified>
  <cp:revision>44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">
    <vt:lpwstr/>
  </property>
  <property fmtid="{D5CDD505-2E9C-101B-9397-08002B2CF9AE}" pid="3" name="CC Approval">
    <vt:lpwstr/>
  </property>
  <property fmtid="{D5CDD505-2E9C-101B-9397-08002B2CF9AE}" pid="4" name="Date Released">
    <vt:lpwstr>2007-11-28T00:00:00Z</vt:lpwstr>
  </property>
  <property fmtid="{D5CDD505-2E9C-101B-9397-08002B2CF9AE}" pid="5" name="Description0">
    <vt:lpwstr/>
  </property>
  <property fmtid="{D5CDD505-2E9C-101B-9397-08002B2CF9AE}" pid="6" name="Document Category">
    <vt:lpwstr/>
  </property>
  <property fmtid="{D5CDD505-2E9C-101B-9397-08002B2CF9AE}" pid="7" name="Message">
    <vt:lpwstr/>
  </property>
  <property fmtid="{D5CDD505-2E9C-101B-9397-08002B2CF9AE}" pid="8" name="Owner">
    <vt:lpwstr/>
  </property>
  <property fmtid="{D5CDD505-2E9C-101B-9397-08002B2CF9AE}" pid="9" name="Published">
    <vt:lpwstr/>
  </property>
  <property fmtid="{D5CDD505-2E9C-101B-9397-08002B2CF9AE}" pid="10" name="Remarks">
    <vt:lpwstr/>
  </property>
  <property fmtid="{D5CDD505-2E9C-101B-9397-08002B2CF9AE}" pid="11" name="Send Email">
    <vt:lpwstr>Yes</vt:lpwstr>
  </property>
  <property fmtid="{D5CDD505-2E9C-101B-9397-08002B2CF9AE}" pid="12" name="Stage">
    <vt:lpwstr/>
  </property>
  <property fmtid="{D5CDD505-2E9C-101B-9397-08002B2CF9AE}" pid="13" name="Status">
    <vt:lpwstr>In Process</vt:lpwstr>
  </property>
  <property fmtid="{D5CDD505-2E9C-101B-9397-08002B2CF9AE}" pid="14" name="Version0">
    <vt:lpwstr/>
  </property>
</Properties>
</file>