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B5865F-2FF1-442F-8FA1-09885ED6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6740B6-ACE1-4D61-BA22-B674B400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260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4920" y="4403520"/>
            <a:ext cx="5127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A480C5-F1BC-442C-A7F1-0453F0D0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45AEA6-2CB2-48C1-85C7-28BA8A0F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A190D3-7D08-4672-91CB-2A3C19D1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DE6B9C-4DAA-49E8-A807-95A7E726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141560" y="4221000"/>
            <a:ext cx="4638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305996-B422-4AF9-8764-99A1E3F9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820880" y="695160"/>
            <a:ext cx="3127320" cy="2345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341964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BDCCFB-BBAD-4397-B763-10996BD4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9B7342-990B-42A1-B4C2-B3540082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36D987-4C7E-426F-80EE-324313D9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E17971-AA45-4786-9D4E-68E04218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005F87-A4B1-4FDC-B527-89B04E24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443673-6AAA-422F-9FD5-143AB415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5A7757-073B-4C89-88B9-82B4BB09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2B1907-B115-4B95-816E-C5FDD7CA7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695A82-3934-48C6-97CC-FDC0F88B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7F37E6-5044-4E8D-9CE1-F83422D7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AFCA4F-A532-4D60-918F-4D0B981C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D8644D-ABE6-4E07-8D03-14326348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B2F923-D1E3-4BE5-B055-988B58F3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4406400"/>
            <a:ext cx="55976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04042B-046A-4813-B878-031D81B6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A7DE72-1B57-4AA6-BCB2-F50398A7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FBA436-8691-4005-837E-6E77C471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D80519-A0D2-4438-9A23-C9473D663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75439E-F2F8-4ECE-98D8-9F5DC525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797120" y="695160"/>
            <a:ext cx="3632040" cy="2724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3724200"/>
            <a:ext cx="559728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66EAF7-70A3-44EA-AE61-0205969E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EB38E9-7F26-45A7-AA6B-72458A699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7596-FDBF-461B-A6A8-2783A120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AEB3-BB34-49F0-B6D2-827D8FF7D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DA71-28EC-4D38-8C00-C6FE1EC85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F35-E413-4B9C-A908-355A71CE2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FAB9-FD3C-4E97-81C4-F595DE2C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985D9-21BB-4134-A2FD-E582983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37878-748B-4EA2-843D-42DBDE0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F3CD-1789-4B76-9E5B-73CA09B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13FA-0AA2-4B76-9AF2-B77AE7F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EBD98-CCF4-4544-B7CB-5046907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40305-F50C-400B-BEAE-0524410B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03E2-3E45-4994-B9DE-F70856642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3DD35-51DC-47D8-A7CF-772EB8A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06A00-D86A-49D1-B641-58F7828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EFD5-4895-428B-B12E-172FDAA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9F04E-6384-418B-B0D3-84C7A4C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E5509-EEDF-43FC-A06A-41643A27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9BB8-6387-4512-B998-762AC6CF0B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EB5A-3BF0-42FB-8A05-1B521F77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1567-1634-4A5C-9A16-AFC74B5CB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9A23-FB6C-4BCD-83FD-F6D4747F7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DE27-0394-4CD0-ADDF-CEA5C18FB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4F83-5DB3-40AA-98F1-8F06E0D38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E50D-D45B-48B7-8C4B-224B0B892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lide_content_2_10"/>
          <p:cNvPicPr/>
          <p:nvPr/>
        </p:nvPicPr>
        <p:blipFill>
          <a:blip r:embed="rId2"/>
          <a:stretch/>
        </p:blipFill>
        <p:spPr>
          <a:xfrm>
            <a:off x="0" y="3824280"/>
            <a:ext cx="2959200" cy="303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lide_content_2_09"/>
          <p:cNvPicPr/>
          <p:nvPr/>
        </p:nvPicPr>
        <p:blipFill>
          <a:blip r:embed="rId3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96400" y="658188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90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422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 </a:t>
            </a:r>
            <a:fld id="{6AA0FF44-B458-4AB7-80DF-20A030B098C3}" type="slidenum"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660840" y="6591240"/>
            <a:ext cx="144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2200"/>
                </a:solidFill>
                <a:latin typeface="Arial"/>
              </a:rPr>
              <a:t>T</a:t>
            </a:r>
            <a:r>
              <a:rPr b="1" lang="en-US" sz="800" spc="-1" strike="noStrike">
                <a:solidFill>
                  <a:srgbClr val="542200"/>
                </a:solidFill>
                <a:latin typeface="Arial"/>
              </a:rPr>
              <a:t>EAM</a:t>
            </a:r>
            <a:r>
              <a:rPr b="1" lang="en-US" sz="1000" spc="-1" strike="noStrike">
                <a:solidFill>
                  <a:srgbClr val="542200"/>
                </a:solidFill>
                <a:latin typeface="Arial"/>
              </a:rPr>
              <a:t>STEPPS 0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Slide_content2_02"/>
          <p:cNvPicPr/>
          <p:nvPr/>
        </p:nvPicPr>
        <p:blipFill>
          <a:blip r:embed="rId4"/>
          <a:stretch/>
        </p:blipFill>
        <p:spPr>
          <a:xfrm>
            <a:off x="0" y="849240"/>
            <a:ext cx="684360" cy="2976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Slide_content2_06"/>
          <p:cNvPicPr/>
          <p:nvPr/>
        </p:nvPicPr>
        <p:blipFill>
          <a:blip r:embed="rId5"/>
          <a:srcRect l="0" t="-5788" r="1675" b="0"/>
          <a:stretch/>
        </p:blipFill>
        <p:spPr>
          <a:xfrm>
            <a:off x="2962440" y="6400800"/>
            <a:ext cx="615780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0"/>
          <p:cNvSpPr/>
          <p:nvPr/>
        </p:nvSpPr>
        <p:spPr>
          <a:xfrm>
            <a:off x="220680" y="6550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Mod 1 05.2   Page </a:t>
            </a:r>
            <a:fld id="{CBBE46C2-2322-4346-A8F7-94A8381DA32F}" type="slidenum">
              <a:rPr b="1" lang="en-US" sz="900" spc="-1" strike="noStrike">
                <a:solidFill>
                  <a:srgbClr val="cccc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Slide_content_2_10"/>
          <p:cNvPicPr/>
          <p:nvPr/>
        </p:nvPicPr>
        <p:blipFill>
          <a:blip r:embed="rId6"/>
          <a:stretch/>
        </p:blipFill>
        <p:spPr>
          <a:xfrm>
            <a:off x="0" y="3807000"/>
            <a:ext cx="2976480" cy="305100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3"/>
          <p:cNvSpPr/>
          <p:nvPr/>
        </p:nvSpPr>
        <p:spPr>
          <a:xfrm>
            <a:off x="220680" y="6550200"/>
            <a:ext cx="15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Page </a:t>
            </a:r>
            <a:fld id="{13C9C865-AD45-4898-AB3F-763875CC66F1}" type="slidenum">
              <a:rPr b="1" lang="en-US" sz="900" spc="-1" strike="noStrike">
                <a:solidFill>
                  <a:srgbClr val="cccc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A26-2144-4C9B-ACA2-E210FC099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Slide_title2_02"/>
          <p:cNvPicPr/>
          <p:nvPr/>
        </p:nvPicPr>
        <p:blipFill>
          <a:blip r:embed="rId2"/>
          <a:stretch/>
        </p:blipFill>
        <p:spPr>
          <a:xfrm>
            <a:off x="2232000" y="0"/>
            <a:ext cx="6912000" cy="7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Slide_title2_01"/>
          <p:cNvPicPr/>
          <p:nvPr/>
        </p:nvPicPr>
        <p:blipFill>
          <a:blip r:embed="rId3"/>
          <a:stretch/>
        </p:blipFill>
        <p:spPr>
          <a:xfrm>
            <a:off x="0" y="-7920"/>
            <a:ext cx="2281320" cy="35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lide_title2_04"/>
          <p:cNvPicPr/>
          <p:nvPr/>
        </p:nvPicPr>
        <p:blipFill>
          <a:blip r:embed="rId4"/>
          <a:stretch/>
        </p:blipFill>
        <p:spPr>
          <a:xfrm>
            <a:off x="0" y="3586320"/>
            <a:ext cx="2271600" cy="238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Slide_title2_07"/>
          <p:cNvPicPr/>
          <p:nvPr/>
        </p:nvPicPr>
        <p:blipFill>
          <a:blip r:embed="rId5"/>
          <a:stretch/>
        </p:blipFill>
        <p:spPr>
          <a:xfrm>
            <a:off x="0" y="5948280"/>
            <a:ext cx="4835520" cy="90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Slide_title2_05"/>
          <p:cNvPicPr/>
          <p:nvPr/>
        </p:nvPicPr>
        <p:blipFill>
          <a:blip r:embed="rId6"/>
          <a:stretch/>
        </p:blipFill>
        <p:spPr>
          <a:xfrm>
            <a:off x="2260440" y="3541680"/>
            <a:ext cx="113688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lide_title2_01"/>
          <p:cNvPicPr/>
          <p:nvPr/>
        </p:nvPicPr>
        <p:blipFill>
          <a:blip r:embed="rId7"/>
          <a:stretch/>
        </p:blipFill>
        <p:spPr>
          <a:xfrm>
            <a:off x="0" y="0"/>
            <a:ext cx="2278080" cy="359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eamstepps.ahrq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dmilne@air.org" TargetMode="External"/><Relationship Id="rId2" Type="http://schemas.openxmlformats.org/officeDocument/2006/relationships/hyperlink" Target="mailto:dmilne@air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291960" y="1596960"/>
            <a:ext cx="8560080" cy="5011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990720"/>
            <a:ext cx="602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e1"/>
                </a:solidFill>
                <a:latin typeface="Arial"/>
              </a:rPr>
              <a:t>The Power of Teams Across America: Lessons Learned from the National Implementation of TeamSTEPPS Project</a:t>
            </a:r>
            <a:endParaRPr b="1" lang="en-US" sz="1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ational Implementation of TeamSTEPPS Training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10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Aft>
                <a:spcPts val="1199"/>
              </a:spcAft>
              <a:buClr>
                <a:srgbClr val="aeae5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conducted 58 training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trained &gt; 1500 Master Trainer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- every state and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pread of National Implementation in U.S. to Date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61" name="Picture 3" descr="TeamSTEPPS map 2.JPG"/>
          <p:cNvPicPr/>
          <p:nvPr/>
        </p:nvPicPr>
        <p:blipFill>
          <a:blip r:embed="rId1"/>
          <a:srcRect l="15891" t="11293" r="2807" b="3230"/>
          <a:stretch/>
        </p:blipFill>
        <p:spPr>
          <a:xfrm>
            <a:off x="1295280" y="190512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984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National Implementation of TeamSTEPPS Training Center Locations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63" name="Picture 6" descr="usa-map"/>
          <p:cNvPicPr/>
          <p:nvPr/>
        </p:nvPicPr>
        <p:blipFill>
          <a:blip r:embed="rId1"/>
          <a:stretch/>
        </p:blipFill>
        <p:spPr>
          <a:xfrm>
            <a:off x="990720" y="1954080"/>
            <a:ext cx="7315200" cy="45230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7396920" y="3124080"/>
            <a:ext cx="153720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Carilion  Clin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6607080" y="3657600"/>
            <a:ext cx="177480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088400" y="5029200"/>
            <a:ext cx="118368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ke 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H="1" flipV="1">
            <a:off x="7010280" y="4419360"/>
            <a:ext cx="60984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5440" y="4033800"/>
            <a:ext cx="2108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ighton  Univ.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3200400" y="3733920"/>
            <a:ext cx="129528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506760" y="1981080"/>
            <a:ext cx="21099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Univ. Minnesota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4572000" y="2286000"/>
            <a:ext cx="457200" cy="838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480000" y="2286000"/>
            <a:ext cx="1149840" cy="3373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AIR - 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7086240" y="2590920"/>
            <a:ext cx="228600" cy="12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304920" y="1523880"/>
            <a:ext cx="1904760" cy="580680"/>
          </a:xfrm>
          <a:prstGeom prst="rect">
            <a:avLst/>
          </a:prstGeom>
          <a:solidFill>
            <a:srgbClr val="00cc9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. Washington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20"/>
          <p:cNvCxnSpPr/>
          <p:nvPr/>
        </p:nvCxnSpPr>
        <p:spPr>
          <a:xfrm>
            <a:off x="1523520" y="2057400"/>
            <a:ext cx="22932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87624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amSTEPPS Master Trainer Session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09480" y="1733400"/>
            <a:ext cx="830592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s are free – teams are responsible for trave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o all health provider organizations &amp; health profession edu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E and CEU - awarded upon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to approx. 30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of diverse teams – greatest ass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amSTEPPS Master Trainer Sessions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9144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½ day s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s curriculum - DID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includes change management, coaching, measurement, implementation planning – INT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back -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ational Implementation of TeamSTEPPS User Suppor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’s User Suppor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Director and Program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enter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experts and administrativ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listserv – peer to pe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Teamstepps.ahrq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al webinars (17 completed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user group meeting/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458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major adaptation – Update to trainer/coach  modul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dapt to the goals and challenges of traine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special implementation slides for  CMS Q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major change – requirement of “statement of read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adership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 will you send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major change – required standardization of all training sessions across training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ality across all c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red for consistent CME and CEU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itional training segments allowed, with no cre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to peer support is pric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sessions where teams from different types, sizes and locations are mixed together is a rich environment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help them connect with others that have had simila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1333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design fo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National Implementation of TeamSTEPP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ey – challenge and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2120" y="990720"/>
            <a:ext cx="796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452520" indent="-45252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statement is often a predictor to success for sustai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252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s teams in focusing on goals identified through RCA or HSOP survey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252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s teams thinking about chang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45252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read and evaluate each readiness statement – respond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 or middle up” vs. “top down” driven initiatives are revealed as most 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s where the fiat “Thou shalt do TeamSTEPPS” has been issued often f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help them “market” TeamSTEPPS to the front line, bring a front line unofficial leader to become Master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training support is critical to success and sus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and sustainment are the hardest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 ready to help them think out of the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ze peer to pee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be responsive and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the S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pecial needs cases will a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ill important to ask, is this fair to everyone else that is waiting for a se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- be adaptable but still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438840" indent="-43884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s implementing TeamSTEPPS and TRC instructors have goo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77680" indent="-438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 take suggestions for improvement seri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77680" indent="-438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ften best ideas come from new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-43884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- ask for feedback and suggestions for improvement – act on the good ones and give them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ave We Been Successful?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it and they will come – they are still com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easure of suc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numbers of people trained the program is success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measure of success will be adoption and sustainment of change – Project evaluation to 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, and feel free to contact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orah A. Mil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dmilne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@air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) 403-59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eamSTEPPS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d teamwork system to improve communication and teamwork skills among health care professio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eamSTEPPS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4 ke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Monitor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iangleB.JPG"/>
          <p:cNvPicPr/>
          <p:nvPr/>
        </p:nvPicPr>
        <p:blipFill>
          <a:blip r:embed="rId1"/>
          <a:stretch/>
        </p:blipFill>
        <p:spPr>
          <a:xfrm>
            <a:off x="4952880" y="2209680"/>
            <a:ext cx="3591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y the National Implementation of TeamSTEPPS Program Bega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released TeamSTEPPS training materials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implementation and training support soon ap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pproach for AHRQ – fund TeamSTEPPS training and user suppor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itial Design for Succes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program on the “agricultural extension service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initial training recruitment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itional early adopters such as High Reliability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ablished diverse geographical groups involved in health care safety and 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4812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Quality Improvemen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812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HRQ Patient Safety Improvement 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chicohotsprings.com/images/weddings/field_of_dreams_chairs.png"/>
          <p:cNvPicPr/>
          <p:nvPr/>
        </p:nvPicPr>
        <p:blipFill>
          <a:blip r:embed="rId1"/>
          <a:stretch/>
        </p:blipFill>
        <p:spPr>
          <a:xfrm>
            <a:off x="1981080" y="2286000"/>
            <a:ext cx="5286600" cy="35244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Build It and They Will Come…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he National Implementation of TeamSTEPPS Program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contracted with American Institutes for Research in Washington D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up a train the trainer model program at training centers in “early adopter” hospitals that already understood TeamSTEP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ruit teams to attend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support system for TeamSTEPPS Master Trainers after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re Components of the National Implementation of TeamSTEPPS Program 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the integration of teamwork training into health profession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dditional measurement instruments an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evaluation of projec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9:54:26Z</dcterms:created>
  <dc:creator>American Institutes for Research</dc:creator>
  <dc:description/>
  <dc:language>en-US</dc:language>
  <cp:lastModifiedBy>Kim Gretka</cp:lastModifiedBy>
  <dcterms:modified xsi:type="dcterms:W3CDTF">2010-10-18T23:42:12Z</dcterms:modified>
  <cp:revision>4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">
    <vt:lpwstr/>
  </property>
  <property fmtid="{D5CDD505-2E9C-101B-9397-08002B2CF9AE}" pid="3" name="CC Approval">
    <vt:lpwstr/>
  </property>
  <property fmtid="{D5CDD505-2E9C-101B-9397-08002B2CF9AE}" pid="4" name="Date Released">
    <vt:lpwstr>2007-11-28T00:00:00Z</vt:lpwstr>
  </property>
  <property fmtid="{D5CDD505-2E9C-101B-9397-08002B2CF9AE}" pid="5" name="Description0">
    <vt:lpwstr/>
  </property>
  <property fmtid="{D5CDD505-2E9C-101B-9397-08002B2CF9AE}" pid="6" name="Document Category">
    <vt:lpwstr/>
  </property>
  <property fmtid="{D5CDD505-2E9C-101B-9397-08002B2CF9AE}" pid="7" name="Message">
    <vt:lpwstr/>
  </property>
  <property fmtid="{D5CDD505-2E9C-101B-9397-08002B2CF9AE}" pid="8" name="Owner">
    <vt:lpwstr/>
  </property>
  <property fmtid="{D5CDD505-2E9C-101B-9397-08002B2CF9AE}" pid="9" name="Published">
    <vt:lpwstr/>
  </property>
  <property fmtid="{D5CDD505-2E9C-101B-9397-08002B2CF9AE}" pid="10" name="Remarks">
    <vt:lpwstr/>
  </property>
  <property fmtid="{D5CDD505-2E9C-101B-9397-08002B2CF9AE}" pid="11" name="Send Email">
    <vt:lpwstr>Yes</vt:lpwstr>
  </property>
  <property fmtid="{D5CDD505-2E9C-101B-9397-08002B2CF9AE}" pid="12" name="Stage">
    <vt:lpwstr/>
  </property>
  <property fmtid="{D5CDD505-2E9C-101B-9397-08002B2CF9AE}" pid="13" name="Status">
    <vt:lpwstr>In Process</vt:lpwstr>
  </property>
  <property fmtid="{D5CDD505-2E9C-101B-9397-08002B2CF9AE}" pid="14" name="Version0">
    <vt:lpwstr/>
  </property>
</Properties>
</file>