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008813" cy="9288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7009200" cy="928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80800" y="695160"/>
            <a:ext cx="464652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34920" y="441144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8824680"/>
            <a:ext cx="303696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70440" y="8824680"/>
            <a:ext cx="303696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0447029-7E64-40B4-9471-E85E60365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E4E4260-89D5-4572-ADBB-4E71F8F79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34920" y="441144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EF9936D-2B04-4A60-8F18-27471F75A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AACB9713-9B09-4780-B665-1161EFA1B6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33120" y="4411800"/>
            <a:ext cx="5140440" cy="41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3C25AA1-5FEE-4CEB-8518-BFC198FB0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7E86EB29-B8F5-4D8F-A53F-4216E48D07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33120" y="4411800"/>
            <a:ext cx="5140440" cy="41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EBCA190-37F8-4CD7-BC64-C317649DA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3779C197-63F4-4F6E-8B0A-499DD6474D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33120" y="4411800"/>
            <a:ext cx="5140440" cy="41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CEC02E2-8274-45C5-87AE-F4ED5306B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EC56A024-3634-40EA-AAAA-62C923CB6E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33120" y="4411800"/>
            <a:ext cx="5140440" cy="41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02E92A2-1B6C-4C5A-89C9-5FFF19D1B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4F6365C9-5658-411E-897F-B62B754F87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33120" y="4411800"/>
            <a:ext cx="5140440" cy="41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F637639-9306-4AEE-98A3-5379EDA00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5E2E6B5D-4538-48C5-953E-E1E9D96992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33120" y="4411800"/>
            <a:ext cx="5140440" cy="41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4728FE1-6082-40EC-AF12-89EFFCFF3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AAD85745-D34E-465D-9F94-FA453F5424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33120" y="4411800"/>
            <a:ext cx="5140440" cy="41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A80A5E4-C8B2-4891-827F-EF9570560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34920" y="441144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3253F68-346C-4DD8-BDCB-A4A5F2D9B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74B62121-1505-4219-8ACB-09A9E43C40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3120" y="4411800"/>
            <a:ext cx="5140440" cy="41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0563D52-BC76-43E5-BDCB-982EDCA9E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2F4E9A18-FE92-4DE8-B359-DC9DF50173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33120" y="4411800"/>
            <a:ext cx="5140440" cy="41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725424B-91EC-429E-B60D-08E054D21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78815250-AFAA-4EB1-A8E0-6BC7BF862D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33120" y="4411800"/>
            <a:ext cx="5140440" cy="41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DA0C7A5-DD63-487A-8DE6-885BB8984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294A6F09-556E-4612-B0AE-BFA142D818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3120" y="4411800"/>
            <a:ext cx="5140440" cy="41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BCAAC06-1E73-4583-AD39-61FBF09F8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C8214101-6A83-402D-AAC0-8C21418D51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33120" y="4411800"/>
            <a:ext cx="5140440" cy="41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5DDCBCC-339A-4DF5-AC00-11E3B0033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640F3EA2-FF56-4C34-9CCF-7459AE6BEF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33120" y="4411800"/>
            <a:ext cx="5140440" cy="41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FEBAF8E-1338-4391-9FB3-F1145197D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F615CF4A-0A47-4283-81C6-7A953A3C50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3120" y="4411800"/>
            <a:ext cx="5140440" cy="41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7141631-9562-4087-A855-CE2D08B34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970440" y="8825040"/>
            <a:ext cx="303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0C02E3AF-9727-437D-A26C-97BC5F559B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33120" y="4411800"/>
            <a:ext cx="5140440" cy="41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3"/>
          <p:cNvSpPr/>
          <p:nvPr/>
        </p:nvSpPr>
        <p:spPr>
          <a:xfrm>
            <a:off x="685800" y="0"/>
            <a:ext cx="7848720" cy="609480"/>
          </a:xfrm>
          <a:prstGeom prst="rect">
            <a:avLst/>
          </a:prstGeom>
          <a:gradFill rotWithShape="0">
            <a:gsLst>
              <a:gs pos="0">
                <a:srgbClr val="c9d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4"/>
          <p:cNvSpPr/>
          <p:nvPr/>
        </p:nvSpPr>
        <p:spPr>
          <a:xfrm>
            <a:off x="0" y="0"/>
            <a:ext cx="685800" cy="6019920"/>
          </a:xfrm>
          <a:prstGeom prst="rect">
            <a:avLst/>
          </a:prstGeom>
          <a:gradFill rotWithShape="0">
            <a:gsLst>
              <a:gs pos="0">
                <a:srgbClr val="c9d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25" descr="hret logo without tagline 2004"/>
          <p:cNvPicPr/>
          <p:nvPr/>
        </p:nvPicPr>
        <p:blipFill>
          <a:blip r:embed="rId2"/>
          <a:stretch/>
        </p:blipFill>
        <p:spPr>
          <a:xfrm>
            <a:off x="8305920" y="6369120"/>
            <a:ext cx="761760" cy="41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385e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4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solidFill>
            <a:srgbClr val="bdca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5"/>
          <p:cNvSpPr/>
          <p:nvPr/>
        </p:nvSpPr>
        <p:spPr>
          <a:xfrm>
            <a:off x="0" y="3240"/>
            <a:ext cx="990720" cy="9111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9" descr="hret logo without tagline 2004"/>
          <p:cNvPicPr/>
          <p:nvPr/>
        </p:nvPicPr>
        <p:blipFill>
          <a:blip r:embed="rId2"/>
          <a:stretch/>
        </p:blipFill>
        <p:spPr>
          <a:xfrm>
            <a:off x="6858000" y="5334120"/>
            <a:ext cx="1905120" cy="103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urgentmatters.org/" TargetMode="External"/><Relationship Id="rId3" Type="http://schemas.openxmlformats.org/officeDocument/2006/relationships/hyperlink" Target="http://www.urgentmatters.org/" TargetMode="External"/><Relationship Id="rId4" Type="http://schemas.openxmlformats.org/officeDocument/2006/relationships/hyperlink" Target="http://www.urgentmatters.org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banner2&#10;"/>
          <p:cNvPicPr/>
          <p:nvPr/>
        </p:nvPicPr>
        <p:blipFill>
          <a:blip r:embed="rId1"/>
          <a:stretch/>
        </p:blipFill>
        <p:spPr>
          <a:xfrm>
            <a:off x="2514600" y="6019920"/>
            <a:ext cx="6629400" cy="8380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8"/>
          <p:cNvSpPr/>
          <p:nvPr/>
        </p:nvSpPr>
        <p:spPr>
          <a:xfrm>
            <a:off x="1295280" y="6019920"/>
            <a:ext cx="1371600" cy="83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2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75438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roving Patient Flow and Reduc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mergency Department Crowding</a:t>
            </a:r>
            <a:br>
              <a:rPr sz="3200"/>
            </a:b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Evaluation of Interventions at Six Hospital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HRQ Annual Meetin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tember 27,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3200040"/>
            <a:ext cx="7162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gan McHugh, HRE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vin Van Dyke, HRE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ie Yonek, Northwestern Universit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bry Howell, Urban Institut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ona Adams, Urban In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mon Facilitators/Barriers to Implementation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a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ion in UM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ive support/availability of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selection of plann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i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ff resist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al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staff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762120" y="914400"/>
            <a:ext cx="8305560" cy="56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762120"/>
          <a:ext cx="8001000" cy="4559040"/>
        </p:xfrm>
        <a:graphic>
          <a:graphicData uri="http://schemas.openxmlformats.org/drawingml/2006/table">
            <a:tbl>
              <a:tblPr/>
              <a:tblGrid>
                <a:gridCol w="2438280"/>
                <a:gridCol w="3376800"/>
                <a:gridCol w="2185920"/>
              </a:tblGrid>
              <a:tr h="84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ate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 of Expen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Expen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st track improvement 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truction proj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Nurse practition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49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d-Tra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truction proj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YN stretc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M physici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320,6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istration &amp; tri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uters on whee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iage trai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32,8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/Inpatient Communi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x mach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lementation Expense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w resources were acquired for the following strategi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track improvement (2), Protocols for specialty consults, ESI Five-level triage, Immediate bed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762120" y="914400"/>
            <a:ext cx="8305560" cy="56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295280" y="914400"/>
          <a:ext cx="6705720" cy="5535720"/>
        </p:xfrm>
        <a:graphic>
          <a:graphicData uri="http://schemas.openxmlformats.org/drawingml/2006/table">
            <a:tbl>
              <a:tblPr/>
              <a:tblGrid>
                <a:gridCol w="4800600"/>
                <a:gridCol w="1905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s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u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 nur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 charge nurses/Nurse educa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 technician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ysician specialis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ss/quality improvement lead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 administrative direc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 nurse manag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istration manag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ours Spent Planning and Implemen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5"/>
          <p:cNvSpPr/>
          <p:nvPr/>
        </p:nvSpPr>
        <p:spPr>
          <a:xfrm>
            <a:off x="762120" y="914400"/>
            <a:ext cx="8305560" cy="56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62120" y="990720"/>
          <a:ext cx="7543800" cy="4724280"/>
        </p:xfrm>
        <a:graphic>
          <a:graphicData uri="http://schemas.openxmlformats.org/drawingml/2006/table">
            <a:tbl>
              <a:tblPr/>
              <a:tblGrid>
                <a:gridCol w="5521320"/>
                <a:gridCol w="202248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ate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Hou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mediate bedd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d-Tra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st track improvement 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/Inpatient communication t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tocols for specialty consult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st track improvement 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ized registration &amp; tri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I Five-Level tri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ours Spent Planning and Implemen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762120" y="914400"/>
            <a:ext cx="8305560" cy="56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371600" y="914400"/>
          <a:ext cx="6705720" cy="5595840"/>
        </p:xfrm>
        <a:graphic>
          <a:graphicData uri="http://schemas.openxmlformats.org/drawingml/2006/table">
            <a:tbl>
              <a:tblPr/>
              <a:tblGrid>
                <a:gridCol w="4724280"/>
                <a:gridCol w="1981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s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u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 physici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patient unit floor manag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 department chairs/physician direc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spital c-sui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 nurse practitioner/physicians assista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spital director-lev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/IT analys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 cler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ours Spent Planning and Implementing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762120" y="1447920"/>
            <a:ext cx="8305560" cy="50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1"/>
          <p:cNvSpPr/>
          <p:nvPr/>
        </p:nvSpPr>
        <p:spPr>
          <a:xfrm rot="16200000">
            <a:off x="-76680" y="313236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in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Chart 12" descr="Chart: Regression-Adjusted Mean ED Length of Stay, Pre and Post Implementation"/>
          <p:cNvPicPr/>
          <p:nvPr/>
        </p:nvPicPr>
        <p:blipFill>
          <a:blip r:embed="rId1"/>
          <a:stretch/>
        </p:blipFill>
        <p:spPr>
          <a:xfrm>
            <a:off x="987480" y="987480"/>
            <a:ext cx="7778520" cy="47307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5"/>
          <p:cNvSpPr/>
          <p:nvPr/>
        </p:nvSpPr>
        <p:spPr>
          <a:xfrm>
            <a:off x="1600200" y="914400"/>
            <a:ext cx="693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ression-Adjusted Mean ED Length of Sta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 and Post Implemen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nge in ED Length of Stay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57146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26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tes: The interventions displayed above were associated with a significant reduction in ED LOS at the p&lt;.05 level.   Data are shown for all ED patients, except Mid-Track, which includes data for ESI III s only.  All other interventions were not found to be significantly associated with a reduced ED LOS.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762120" y="914400"/>
            <a:ext cx="8305560" cy="56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5000"/>
              </a:lnSpc>
              <a:spcBef>
                <a:spcPts val="876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essons for Other Hospital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1760" y="762120"/>
            <a:ext cx="792468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rage factors that facilitate implemen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 plan to address challenges ear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e that some strategies require significant financial and/or time invest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e the important roles played by non-MDs and RNs (e.g., registrars, clerks, tech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ffort may result in statistically significant and meaningful improvements in patient f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banner2"/>
          <p:cNvPicPr/>
          <p:nvPr/>
        </p:nvPicPr>
        <p:blipFill>
          <a:blip r:embed="rId1"/>
          <a:stretch/>
        </p:blipFill>
        <p:spPr>
          <a:xfrm>
            <a:off x="2514600" y="6019920"/>
            <a:ext cx="6629400" cy="8380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1295280" y="6019920"/>
            <a:ext cx="1371600" cy="83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2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</a:t>
            </a:r>
            <a:r>
              <a:rPr b="0" lang="en-US" sz="25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urgentmatters</a:t>
            </a:r>
            <a:r>
              <a:rPr b="0" lang="en-US" sz="25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.org</a:t>
            </a: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egan McHugh, PhD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rector, Research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ealth Research &amp; Educational Trust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merican Hospital Association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mchugh@aha.org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762120" y="914400"/>
            <a:ext cx="8305560" cy="56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5000"/>
              </a:lnSpc>
              <a:spcBef>
                <a:spcPts val="876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9140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f of hospitals report operating at or above capacity (AHA 200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inority of hospitals meet recommended wait times for all ED patients (Horwitz et. al. 2009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imately 500,000 ambulances are diverted each year (Burt et. al. 200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a “typical” Monday, 73% of EDs are boarding two or more admitted patients (Schneider et. al. 200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762120" y="914400"/>
            <a:ext cx="8305560" cy="56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5000"/>
              </a:lnSpc>
              <a:spcBef>
                <a:spcPts val="876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Consequence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door-to-needle times for patients with suspected acute myocardial infarction (Schull et. al. 2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likelihood of patients with community-acquired pneumonia to receive timely antibiotic therapy (Fee et. al. 2007, Pines et. al. 20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r pain management (Hwang et. al. 200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mortality (Richardson et. al. 2006, Sprivulis et. al.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patient and staff satisfaction (Boudreaux et. al. 2004, Richards et. al. 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search Question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838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0808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factors facilitated or hindered the implementation of strateg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0808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resources were used to implement the strategies, and what was the associated co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0808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hanges in patient flow occurred after the implementation of the strategi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05000"/>
              </a:lnSpc>
              <a:spcBef>
                <a:spcPts val="8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Learning Network Map graphic"/>
          <p:cNvPicPr/>
          <p:nvPr/>
        </p:nvPicPr>
        <p:blipFill>
          <a:blip r:embed="rId1"/>
          <a:stretch/>
        </p:blipFill>
        <p:spPr>
          <a:xfrm>
            <a:off x="1066680" y="685800"/>
            <a:ext cx="7239240" cy="59626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rgent Matters Learning Network (UMLN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MLN Hospital Requirements 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79246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 multi-disciplinary, hospital-wide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nd implement improvement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an implementation plan and monthly progress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e in UMLN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e in the evaluation of the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6" descr="UMLN Framework - chart "/>
          <p:cNvPicPr/>
          <p:nvPr/>
        </p:nvPicPr>
        <p:blipFill>
          <a:blip r:embed="rId1"/>
          <a:stretch/>
        </p:blipFill>
        <p:spPr>
          <a:xfrm>
            <a:off x="2514600" y="914400"/>
            <a:ext cx="4697280" cy="55627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MLN Framework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762120" y="914400"/>
            <a:ext cx="8305560" cy="56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5000"/>
              </a:lnSpc>
              <a:spcBef>
                <a:spcPts val="876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MLN Intervention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84872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ls for specialty consul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ized registration and tri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-Tr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/Inpatient department communication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I Five-level tri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ediate bed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 track improvement (2 hosp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thods – Data &amp; Analysis 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1760" y="68580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rounds of interviews (129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ed, transcribed, uploaded to At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nded theory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gredient”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-level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Implementation (Dec 08 – Feb 0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-Implementation (Dec 09 – Feb 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t variables: ED LOS, LW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 variables: Date/time of visit, age, gender, triage level, lab, x-ray, disposition, occupancy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16:20:48Z</dcterms:created>
  <dc:creator>tpickens</dc:creator>
  <dc:description/>
  <dc:language>en-US</dc:language>
  <cp:lastModifiedBy>Kim Gretka</cp:lastModifiedBy>
  <cp:lastPrinted>2000-06-08T18:27:13Z</cp:lastPrinted>
  <dcterms:modified xsi:type="dcterms:W3CDTF">2010-10-18T23:17:51Z</dcterms:modified>
  <cp:revision>854</cp:revision>
  <dc:subject/>
  <dc:title>PowerPoint Presentation</dc:title>
</cp:coreProperties>
</file>