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0800" y="69516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6914AF-8403-43A9-93A0-40E107F0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21EC3B-7782-4015-AD12-7083A834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3B9121-2A89-4F3B-B0C6-EDFC808C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4895F6B-7073-42ED-9C58-7F1DDF1B7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44C7CE-FB2C-42A1-B2D7-7E61774F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5E4A0D5-E3B8-448A-B51A-71063DBC9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62E25C-99A0-400C-B2E8-D6AF088B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2A27DA0-4B3D-4AF8-947C-A849DF98A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4B8B09-4567-4655-8D4C-F474C028C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D844303-8398-4C48-90B1-F2770F142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51C750-C369-4059-9C03-FF3BB407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35495D4-DD01-4D3B-BCAA-519A9B069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9DEB3B-3DF4-40D0-9C58-192C3B73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13C0BF3-A5EA-46A2-8244-379DAC12F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81868B-1086-4116-B7DB-A4254D39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A103A43-0ADB-4246-A33D-AE6046F84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668443-6222-4EC7-9636-DB7F7B8C0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0E64F9-7294-4AA5-9D7A-AAB1B46C4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479E63C-D3FB-422F-AC67-56943D59D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42E59B-1046-49B4-A665-F44EB9FE6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D39A166-3F89-44EC-9825-570F9B318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FAA0E5-EB3F-4A7B-AF30-147D3D2F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82B6F05-4B92-48C7-A6DB-C3BE123E2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CEBC42-C9C5-417A-A8B9-E36681D7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99F93FB-1A33-45B1-B2CF-CA8D0AF22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696A7C-B4AA-4683-BE44-72DE5069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A8C86DD-DB71-4509-A79B-21851E824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C31E69-7C97-42E8-8BD1-350678A6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47FE706-44F7-4345-A0D3-1F4D948D0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215AEB-027A-410C-B372-6050DE66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3E3BF56-E16E-4C99-AAD6-B2FEED98D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E63DB0-8ACB-4406-9F0D-B00B207C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7FAF3EE-7F8E-4EAC-9C14-519D0CE64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85800" y="0"/>
            <a:ext cx="7848720" cy="60948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685800" cy="601992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5" descr="hret logo without tagline 2004"/>
          <p:cNvPicPr/>
          <p:nvPr/>
        </p:nvPicPr>
        <p:blipFill>
          <a:blip r:embed="rId2"/>
          <a:stretch/>
        </p:blipFill>
        <p:spPr>
          <a:xfrm>
            <a:off x="8305920" y="6369120"/>
            <a:ext cx="761760" cy="41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85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bdc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0" y="3240"/>
            <a:ext cx="990720" cy="91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9" descr="hret logo without tagline 2004"/>
          <p:cNvPicPr/>
          <p:nvPr/>
        </p:nvPicPr>
        <p:blipFill>
          <a:blip r:embed="rId2"/>
          <a:stretch/>
        </p:blipFill>
        <p:spPr>
          <a:xfrm>
            <a:off x="6858000" y="5334120"/>
            <a:ext cx="190512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urgentmatters.org/" TargetMode="External"/><Relationship Id="rId3" Type="http://schemas.openxmlformats.org/officeDocument/2006/relationships/hyperlink" Target="http://www.urgentmatters.org/" TargetMode="External"/><Relationship Id="rId4" Type="http://schemas.openxmlformats.org/officeDocument/2006/relationships/hyperlink" Target="http://www.urgentmatters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anner2&#10;"/>
          <p:cNvPicPr/>
          <p:nvPr/>
        </p:nvPicPr>
        <p:blipFill>
          <a:blip r:embed="rId1"/>
          <a:stretch/>
        </p:blipFill>
        <p:spPr>
          <a:xfrm>
            <a:off x="2514600" y="6019920"/>
            <a:ext cx="662940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1295280" y="6019920"/>
            <a:ext cx="13716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ing Patient Flow and Reduc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ergency Department Crowding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valuation of Interventions at Six Hospita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RQ Annual Mee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an McHugh, HR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vin Van Dyke, HR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e Yonek, Northwestern Univer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y Howell, Urban Institu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ona Adams, Urban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Facilitators/Barriers to Implementation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n UM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support/availability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selection of plann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taf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762120"/>
          <a:ext cx="8001000" cy="4559040"/>
        </p:xfrm>
        <a:graphic>
          <a:graphicData uri="http://schemas.openxmlformats.org/drawingml/2006/table">
            <a:tbl>
              <a:tblPr/>
              <a:tblGrid>
                <a:gridCol w="2438280"/>
                <a:gridCol w="3376800"/>
                <a:gridCol w="2185920"/>
              </a:tblGrid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xp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Exp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track improvement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uction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Nurse practitio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9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-Tr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uction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YN stretc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 physic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20,6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 &amp; t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uters on whe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ge trai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2,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/Inpatient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x ma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Expens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w resources were acquired for the following strateg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track improvement (2), Protocols for specialty consults, ESI Five-level triage, Immediate 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914400"/>
          <a:ext cx="6705720" cy="5535720"/>
        </p:xfrm>
        <a:graphic>
          <a:graphicData uri="http://schemas.openxmlformats.org/drawingml/2006/table">
            <a:tbl>
              <a:tblPr/>
              <a:tblGrid>
                <a:gridCol w="4800600"/>
                <a:gridCol w="190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n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charge nurses/Nurse educ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technicia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ian special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/quality improvement lea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administrative dire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nurse mana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 mana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urs Spent Planning and Implemen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990720"/>
          <a:ext cx="7543800" cy="4724280"/>
        </p:xfrm>
        <a:graphic>
          <a:graphicData uri="http://schemas.openxmlformats.org/drawingml/2006/table">
            <a:tbl>
              <a:tblPr/>
              <a:tblGrid>
                <a:gridCol w="5521320"/>
                <a:gridCol w="20224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mediate bed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-Tr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track improvement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/Inpatient communication t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ocols for specialty consul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track improvement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ized registration &amp; t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Five-Level t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urs Spent Planning and Implemen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71600" y="914400"/>
          <a:ext cx="6705720" cy="5595840"/>
        </p:xfrm>
        <a:graphic>
          <a:graphicData uri="http://schemas.openxmlformats.org/drawingml/2006/table">
            <a:tbl>
              <a:tblPr/>
              <a:tblGrid>
                <a:gridCol w="4724280"/>
                <a:gridCol w="19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physic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atient unit floor mana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department chairs/physician dire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c-su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nurse practitioner/physicians assis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director-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/IT analy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cle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urs Spent Planning and Implementing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762120" y="1447920"/>
            <a:ext cx="83055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rot="16200000">
            <a:off x="-76680" y="3132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in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hart 12" descr="Chart: Regression-Adjusted Mean ED Length of Stay, Pre and Post Implementation"/>
          <p:cNvPicPr/>
          <p:nvPr/>
        </p:nvPicPr>
        <p:blipFill>
          <a:blip r:embed="rId1"/>
          <a:stretch/>
        </p:blipFill>
        <p:spPr>
          <a:xfrm>
            <a:off x="987480" y="987480"/>
            <a:ext cx="7778520" cy="4730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1600200" y="9144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ession-Adjusted Mean ED Length of Sta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nd Post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 in ED Length of Stay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5714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: The interventions displayed above were associated with a significant reduction in ED LOS at the p&lt;.05 level.   Data are shown for all ED patients, except Mid-Track, which includes data for ESI III s only.  All other interventions were not found to be significantly associated with a reduced ED LO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ssons for Other Hospital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factors that facilitate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plan to address challenges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at some strategies require significant financial and/or time inves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e important roles played by non-MDs and RNs (e.g., registrars, clerks, tech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ort may result in statistically significant and meaningful improvements in patient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banner2"/>
          <p:cNvPicPr/>
          <p:nvPr/>
        </p:nvPicPr>
        <p:blipFill>
          <a:blip r:embed="rId1"/>
          <a:stretch/>
        </p:blipFill>
        <p:spPr>
          <a:xfrm>
            <a:off x="2514600" y="6019920"/>
            <a:ext cx="6629400" cy="838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295280" y="6019920"/>
            <a:ext cx="13716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urgentmatters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org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gan McHugh, PhD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rector, Researc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alth Research &amp; Educational Trus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mchugh@aha.org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of hospitals report operating at or above capacity (AHA 200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nority of hospitals meet recommended wait times for all ED patients (Horwitz et. al. 200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500,000 ambulances are diverted each year (Burt et. al. 200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“typical” Monday, 73% of EDs are boarding two or more admitted patients (Schneider et. al. 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onsequenc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oor-to-needle times for patients with suspected acute myocardial infarction (Schull et. al.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likelihood of patients with community-acquired pneumonia to receive timely antibiotic therapy (Fee et. al. 2007, Pines et. al.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pain management (Hwang et. al.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mortality (Richardson et. al. 2006, Sprivulis et. al.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patient and staff satisfaction (Boudreaux et. al. 2004, Richards et. al.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actors facilitated or hindered the implementation of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ere used to implement the strategies, and what was the associated c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anges in patient flow occurred after the implementation of the strateg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Learning Network Map graphic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962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gent Matters Learning Network (UML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MLN Hospital Requirements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79246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multi-disciplinary, hospital-wide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nd implement improvement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n implementation plan and monthly progress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in UMLN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in the evaluation of th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UMLN Framework - chart "/>
          <p:cNvPicPr/>
          <p:nvPr/>
        </p:nvPicPr>
        <p:blipFill>
          <a:blip r:embed="rId1"/>
          <a:stretch/>
        </p:blipFill>
        <p:spPr>
          <a:xfrm>
            <a:off x="2514600" y="914400"/>
            <a:ext cx="4697280" cy="5562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MLN Framework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N Intervention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for specialty consul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registration and t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/Inpatient department communicatio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I Five-level t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track improvement (2 hosp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hods – Data &amp; Analysis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6858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ounds of interviews (129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ed, transcribed, uploaded to At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ed theo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dient”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-leve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Implementation (Dec 08 – Feb 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mplementation (Dec 09 – Feb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s: ED LOS, L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s: Date/time of visit, age, gender, triage level, lab, x-ray, disposition, occupanc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6:20:48Z</dcterms:created>
  <dc:creator>tpickens</dc:creator>
  <dc:description/>
  <dc:language>en-US</dc:language>
  <cp:lastModifiedBy>Kim Gretka</cp:lastModifiedBy>
  <cp:lastPrinted>2000-06-08T18:27:13Z</cp:lastPrinted>
  <dcterms:modified xsi:type="dcterms:W3CDTF">2010-10-18T23:17:51Z</dcterms:modified>
  <cp:revision>854</cp:revision>
  <dc:subject/>
  <dc:title>PowerPoint Presentation</dc:title>
</cp:coreProperties>
</file>