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5D7F-8212-4D52-9CA6-C5C73B4B35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0D20-4433-4294-B3F2-1E57ED08D3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D7BA-BCAD-4AEA-82B7-B06417A7E7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1318-ABA1-4537-92EA-EA5AA532F4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F68E-1A24-4D2F-8279-23AEA14B20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FB83-644F-4191-851C-C0690EE4E5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3938-8CFD-410B-882B-4C16CBCBF9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833A-D0D2-4BB1-8A5F-B1737C8DE7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CD06-1594-447C-BA88-F8FA37F2F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C824-D849-496B-919B-115BEB88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D5ED-97BF-48B4-B4E1-10167CC3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6165-BC29-4532-9223-97A099730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C6E1-FDFC-4306-B91D-DCDB73C64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C360-B9E0-4B6C-94A0-F3AC55C8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B171-C930-48E6-AB13-31DFC565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6FA7-D7A0-4617-81B9-26A3BCCF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8D15-88C1-4AFE-90E7-96081ABE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B39E-AAB8-46B0-A685-4D90D5B8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E082-5D0A-4D31-A2BB-741BE8F1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10E7-BFD2-4366-836D-5C9AC902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25A5-CB88-4061-A76D-94DD2E24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ED7C-102D-48C4-820C-BFEA29ED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3479-6899-4CA1-8F97-4104E46B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2FF8-00F1-4222-B439-326717B8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0928-AF20-44DA-B1C9-DDFB22027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54AEC8-1111-422B-82EA-7E6688F98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E11DB3-4159-42B4-965A-627D9BC6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09DF16-97A8-412D-B7D0-C46116BE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D1E5D1-05E6-4C24-A45B-0FC07824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DE09D8-2B33-4DC0-84D4-4D47C372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4F46-D016-49FF-A644-BB080570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048F59-F8A0-4CC3-B65A-B7229E73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3975ED-769D-41C0-83CD-0AE833CC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EC04F5-D377-4427-97CD-696268A7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A2BE0D-579A-45FF-BB01-B8F115A7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019089-0F79-491B-BC7A-89FFDF28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09C2F3-F7BA-44EB-94F9-F7D51C108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A97A92-D203-49FE-B986-93715F0FE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2D49F0-AE8A-465D-A003-B08826701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7C121A-878E-4C00-8675-9BE7A14C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763121-406E-4773-861D-800892CC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5032-04CE-4E09-866A-5D894FFA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3C97BF-DC99-474C-A1C9-90A2B6CB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3DDCC0-BBA5-4BD4-9E40-1EC8DFD8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1AC04D-80CE-4D25-B9A5-3FEA1E62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DDE1FB-C02E-44EE-B2BC-71B40538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5D9AE1-7BA2-49F5-9676-3DD2181D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CF568A-2E0F-4FFA-8935-4D584641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BD2F40-C78C-4C98-B9FD-2F8E24F5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65DEBA-4B44-468C-940B-3456EB866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67FBBC-04EA-4917-ACB0-2B80F3FCE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0DD10C-8AFB-43AC-8A2C-28961A7BB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5FA3-4615-461B-BC31-634DAA05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74918F-C2E4-4530-906E-35B4C1F2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94F65A-44CE-4430-82AD-18046045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25A6E5-3AF6-4195-8EF0-8DDC4A1D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8A257F-17ED-4FEF-8279-AC2AB1EE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2317F0-92B4-4BAE-BB06-F0C2EF0D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CC2A2C-8DF5-4EAE-98A9-1672A8DC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43C340-F17E-423F-8686-B2FC57A1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7F7CA2-BF46-4219-ADD9-420CD179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EC8E33-A39E-41D9-8198-D7DEDB44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033B6B-895D-4CED-AF6A-4192F6D7F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D6E2-95FA-442E-BA71-BD6D9BD5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FBE0D8-D068-472A-8E26-839B45A6C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77857-F6E5-4841-96F1-287ACE2D7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49E31-4076-47FC-8ECD-A2C26C85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5D413-238F-4335-810F-94780EF0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56972-6AEE-46CA-8FDE-A1BD4C36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DAB79-1709-4DA9-862A-FE0FA798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76D59-A2C4-49CE-A343-B4F58627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D20A8-5D34-45A7-AA04-25CC94DC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E8FC9-0586-481C-ABAD-F9973DA6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A9147-486F-41CC-A927-B07545AA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393A-D2C2-4739-B7DE-17193C55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931CA-E8B8-4AFD-B471-285C715D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5E13C-CECB-4FF2-A7D6-22512CCDE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F490E-CFDB-48F6-9936-A2F250507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C4D132-4FE8-4C6F-A824-C760D34D7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357AF4-2C92-4965-B942-6A5570EF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DEDEBF-1A4B-4800-8A9F-ECE1F017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42FD41-89D3-4AE6-A45C-CCD876DC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A470BD-2F86-4508-A869-B91D4F5A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1E5AA0-2CC4-49DF-977D-D2201AF7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2DB6E8-E3CB-440D-94A7-EA92976E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9C1C-DDA0-46C2-B804-3959116D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91BC89-B59C-4C32-BC39-7A71E1D6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62244C-7FA1-449D-B90E-975C1720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F3B5C6-DAC1-4016-B891-D841227E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BBA095-2B4B-477D-84F6-EEE3F7849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90810D-4FEF-4624-9796-654972B8F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450A0-BC7B-4E95-810F-FA050FD9F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BA66B-48B2-47FE-961A-EBE6CCE7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099B7-BC8F-4A37-ABE5-E6D965A3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A18F0-A694-4003-954B-64D289ED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0A7D7-96FF-409F-9322-2AAE52F2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9624-7AD3-4F3F-8903-475D3410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336A2-8857-4141-82ED-DDB65A56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54530-86A1-45EB-8E2A-E12241D7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29728-9952-4F0B-B7E0-5DC2685F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53510-7C68-41D0-8B88-6C02A995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39A6F-F662-411C-AF32-E7683DDC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B244D-3BC8-4BB7-83C2-7A2CFDCD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B86F3-E77D-4E02-8212-272ED7344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93F1-23E6-4E94-A738-95BDAD33095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5C17-B3BB-4FAB-8A20-E450F5108983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EBC6-7370-48D2-BFA6-D6985420CC0A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FBA1-6B84-4247-9C57-47A96350036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F229-4294-4743-AFFE-5845E0EEA3F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0DD0-622E-4B69-8AA1-EBFCA41BC94D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F732-A873-49D0-9CDC-27BCD01DA0DB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E987-41A7-4536-9F8A-4A12AA93B3E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ARE COORDINATION MEASURES ATLAS PROJEC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w Cen MT"/>
              </a:rPr>
              <a:t>Kathryn McDonald</a:t>
            </a:r>
            <a:endParaRPr b="0" lang="en-US" sz="1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w Cen MT"/>
              </a:rPr>
              <a:t>Stanford Health Policy</a:t>
            </a:r>
            <a:endParaRPr b="0" lang="en-US" sz="1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w Cen MT"/>
              </a:rPr>
              <a:t>AHRQ Quality Indicators Project</a:t>
            </a:r>
            <a:endParaRPr b="0" lang="en-US" sz="1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easure Mapping and Profi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See handout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2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TM-15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12: When I left the hospital, I had a readable and easily understood written list of the appointments or tests I needed to complete within the next several week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AHP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C1!: Doctor talked with patient about all of the prescription medicines he/she was taking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P5: Patient phoned doctor’s office for help or advice after surgery or procedure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Next Step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ext version availabl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evelopment of web-based vers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59320" indent="-21456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Searchabl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859320" indent="-21456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Explicit links to care coordination-related measures included in Electronic Health Record Incentive Program (Medicare and Medicaid)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859320" indent="-21456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Additional user testing and inpu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859320" indent="-21456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Section on applicability to practice’s ongoing QI effor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ystematic research on evidence base on measurable mechanisms hypothesized to produce better care coordination (process-outcome links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roject Tea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8769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STANFORD/BATTELLE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llen Schultz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auren Albi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Noelle Pined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Julia Lonhar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rystal Smith-Spangl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Jennifer Brustro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Vandana Sundara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lizabeth Malcolm (Sutter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Kathryn McDonal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Content Placeholder 2"/>
          <p:cNvSpPr/>
          <p:nvPr/>
        </p:nvSpPr>
        <p:spPr>
          <a:xfrm>
            <a:off x="5105520" y="1828800"/>
            <a:ext cx="36543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972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AHRQ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David Meyer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Jan Genevr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Mamatha Pancholi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Project Context: </a:t>
            </a:r>
            <a:br>
              <a:rPr sz="4000"/>
            </a:b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Measurement Motiva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Patient-Centered Medical Home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Evidence-based Practice Center (EPC) report on care coordination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HIT advances and opportunitie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Transparency objectives: evidence &amp; evaluation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Project Objective: Develop Measures Atla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Target scop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Ambulatory car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Patients who have access to healthcar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The Atlas aims to support the field of care coordination measurement by: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Finding, selecting and cataloging existing measures of care coordina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Present best measures in accessible forma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Expected Atlas Users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Evaluators of interventions or demonstration projects that aim to improve care coordina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Quality improvement practitioner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esearchers studying care coordina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etho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Literature search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Environmental scan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2 workgroups and other informan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Framework development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Expert review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800240" y="160020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pping” measures for two purpos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Visualize landscape of measures available (and missing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Help users target care coordination domains for intervention and measuremen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etailed measure profil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-360" y="1752120"/>
            <a:ext cx="3886200" cy="639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Are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257440" y="1752120"/>
            <a:ext cx="3886200" cy="63972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Lessons Learne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sul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334120" y="2590920"/>
            <a:ext cx="4000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any availabl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epends on perspectiv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otion of “failures”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White spac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wo dimensio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Care coordination domain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inks to outcomes of interest (clinical, resource, IOM 6 dimensions of quality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-360" y="2590560"/>
            <a:ext cx="40006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Definition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Measurement Framework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375" name="Group 1"/>
          <p:cNvGrpSpPr/>
          <p:nvPr/>
        </p:nvGrpSpPr>
        <p:grpSpPr>
          <a:xfrm>
            <a:off x="1219320" y="685800"/>
            <a:ext cx="6780240" cy="5935680"/>
            <a:chOff x="1219320" y="685800"/>
            <a:chExt cx="6780240" cy="5935680"/>
          </a:xfrm>
        </p:grpSpPr>
        <p:sp>
          <p:nvSpPr>
            <p:cNvPr id="376" name="AutoShape 23"/>
            <p:cNvSpPr/>
            <p:nvPr/>
          </p:nvSpPr>
          <p:spPr>
            <a:xfrm>
              <a:off x="1219320" y="685800"/>
              <a:ext cx="6780240" cy="593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77" name="Oval 22"/>
            <p:cNvSpPr/>
            <p:nvPr/>
          </p:nvSpPr>
          <p:spPr>
            <a:xfrm>
              <a:off x="3376080" y="3071520"/>
              <a:ext cx="2523960" cy="14194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78" name="Text Box 21"/>
            <p:cNvSpPr/>
            <p:nvPr/>
          </p:nvSpPr>
          <p:spPr>
            <a:xfrm>
              <a:off x="4011120" y="3163320"/>
              <a:ext cx="1248840" cy="46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ORDINATION</a:t>
              </a:r>
              <a:endParaRPr b="0" lang="en-US" sz="1000" spc="-1" strike="noStrike">
                <a:solidFill>
                  <a:srgbClr val="000000"/>
                </a:solidFill>
                <a:latin typeface="Tw Cen M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FFECTS</a:t>
              </a:r>
              <a:endParaRPr b="0" lang="en-US" sz="1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79" name="Rectangle 20"/>
            <p:cNvSpPr/>
            <p:nvPr/>
          </p:nvSpPr>
          <p:spPr>
            <a:xfrm>
              <a:off x="1890360" y="6061680"/>
              <a:ext cx="5457600" cy="349560"/>
            </a:xfrm>
            <a:prstGeom prst="rect">
              <a:avLst/>
            </a:prstGeom>
            <a:solidFill>
              <a:srgbClr val="ff99cc">
                <a:alpha val="40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80" name="Text Box 19"/>
            <p:cNvSpPr/>
            <p:nvPr/>
          </p:nvSpPr>
          <p:spPr>
            <a:xfrm>
              <a:off x="2827440" y="1491480"/>
              <a:ext cx="3551400" cy="39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ECHANISMS</a:t>
              </a:r>
              <a:endParaRPr b="0" lang="en-US" sz="1000" spc="-1" strike="noStrike">
                <a:solidFill>
                  <a:srgbClr val="000000"/>
                </a:solidFill>
                <a:latin typeface="Tw Cen M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eans of achieving goal</a:t>
              </a:r>
              <a:endParaRPr b="0" lang="en-US" sz="10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81" name="Text Box 18"/>
            <p:cNvSpPr/>
            <p:nvPr/>
          </p:nvSpPr>
          <p:spPr>
            <a:xfrm>
              <a:off x="1833840" y="2046960"/>
              <a:ext cx="2761920" cy="591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ordination Activities</a:t>
              </a:r>
              <a:endParaRPr b="0" lang="en-US" sz="10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ctions hypothesized to support coordination. Not necessarily executed in structured way.</a:t>
              </a:r>
              <a:endParaRPr b="0" lang="en-US" sz="1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82" name="Text Box 17"/>
            <p:cNvSpPr/>
            <p:nvPr/>
          </p:nvSpPr>
          <p:spPr>
            <a:xfrm>
              <a:off x="3646080" y="6116040"/>
              <a:ext cx="24498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ORDINATION MEASURES</a:t>
              </a:r>
              <a:endParaRPr b="0" lang="en-US" sz="1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83" name="Text Box 16"/>
            <p:cNvSpPr/>
            <p:nvPr/>
          </p:nvSpPr>
          <p:spPr>
            <a:xfrm>
              <a:off x="3902760" y="3624480"/>
              <a:ext cx="157860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xperienced in different ways depending upon the perspective</a:t>
              </a:r>
              <a:endParaRPr b="0" lang="en-US" sz="1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84" name="Oval 15"/>
            <p:cNvSpPr/>
            <p:nvPr/>
          </p:nvSpPr>
          <p:spPr>
            <a:xfrm>
              <a:off x="2255040" y="4821480"/>
              <a:ext cx="1481760" cy="7801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tient/Family Perspective</a:t>
              </a:r>
              <a:endParaRPr b="0" lang="en-US" sz="1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85" name="Oval 14"/>
            <p:cNvSpPr/>
            <p:nvPr/>
          </p:nvSpPr>
          <p:spPr>
            <a:xfrm>
              <a:off x="3833280" y="4869000"/>
              <a:ext cx="1512360" cy="73260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ealthcare Professional Perspective</a:t>
              </a:r>
              <a:endParaRPr b="0" lang="en-US" sz="10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86" name="Oval 13"/>
            <p:cNvSpPr/>
            <p:nvPr/>
          </p:nvSpPr>
          <p:spPr>
            <a:xfrm>
              <a:off x="5439240" y="4888080"/>
              <a:ext cx="1603800" cy="66600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ystem Representative</a:t>
              </a:r>
              <a:endParaRPr b="0" lang="en-US" sz="1000" spc="-1" strike="noStrike">
                <a:solidFill>
                  <a:srgbClr val="000000"/>
                </a:solidFill>
                <a:latin typeface="Tw Cen M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erspective</a:t>
              </a:r>
              <a:endParaRPr b="0" lang="en-US" sz="10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87" name="Text Box 12"/>
            <p:cNvSpPr/>
            <p:nvPr/>
          </p:nvSpPr>
          <p:spPr>
            <a:xfrm>
              <a:off x="4723200" y="2046240"/>
              <a:ext cx="2762280" cy="591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road Approaches</a:t>
              </a:r>
              <a:endParaRPr b="0" lang="en-US" sz="10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monly used groups of activities and/or tools hypothesized to support coordination.</a:t>
              </a:r>
              <a:endParaRPr b="0" lang="en-US" sz="1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88" name="Line 11"/>
            <p:cNvSpPr/>
            <p:nvPr/>
          </p:nvSpPr>
          <p:spPr>
            <a:xfrm flipH="1">
              <a:off x="3033360" y="4260600"/>
              <a:ext cx="628560" cy="56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89" name="Line 10"/>
            <p:cNvSpPr/>
            <p:nvPr/>
          </p:nvSpPr>
          <p:spPr>
            <a:xfrm>
              <a:off x="4629600" y="4491360"/>
              <a:ext cx="360" cy="38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90" name="Line 9"/>
            <p:cNvSpPr/>
            <p:nvPr/>
          </p:nvSpPr>
          <p:spPr>
            <a:xfrm>
              <a:off x="5652720" y="4216320"/>
              <a:ext cx="533880" cy="6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91" name="Line 8"/>
            <p:cNvSpPr/>
            <p:nvPr/>
          </p:nvSpPr>
          <p:spPr>
            <a:xfrm flipH="1">
              <a:off x="2741400" y="1891440"/>
              <a:ext cx="75960" cy="13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92" name="Line 7"/>
            <p:cNvSpPr/>
            <p:nvPr/>
          </p:nvSpPr>
          <p:spPr>
            <a:xfrm>
              <a:off x="6361200" y="1882080"/>
              <a:ext cx="10080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93" name="AutoShape 6"/>
            <p:cNvSpPr/>
            <p:nvPr/>
          </p:nvSpPr>
          <p:spPr>
            <a:xfrm>
              <a:off x="4491360" y="2725200"/>
              <a:ext cx="256320" cy="276120"/>
            </a:xfrm>
            <a:prstGeom prst="downArrow">
              <a:avLst>
                <a:gd name="adj1" fmla="val 50000"/>
                <a:gd name="adj2" fmla="val 26931"/>
              </a:avLst>
            </a:prstGeom>
            <a:noFill/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94" name="Text Box 5"/>
            <p:cNvSpPr/>
            <p:nvPr/>
          </p:nvSpPr>
          <p:spPr>
            <a:xfrm>
              <a:off x="2881080" y="808920"/>
              <a:ext cx="348012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OAL: COORDINATED CARE</a:t>
              </a:r>
              <a:endParaRPr b="0" lang="en-US" sz="1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95" name="AutoShape 4"/>
            <p:cNvSpPr/>
            <p:nvPr/>
          </p:nvSpPr>
          <p:spPr>
            <a:xfrm>
              <a:off x="4491360" y="1153440"/>
              <a:ext cx="256320" cy="276120"/>
            </a:xfrm>
            <a:prstGeom prst="downArrow">
              <a:avLst>
                <a:gd name="adj1" fmla="val 50000"/>
                <a:gd name="adj2" fmla="val 26931"/>
              </a:avLst>
            </a:prstGeom>
            <a:noFill/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96" name="Rectangle 3"/>
            <p:cNvSpPr/>
            <p:nvPr/>
          </p:nvSpPr>
          <p:spPr>
            <a:xfrm>
              <a:off x="1938600" y="765720"/>
              <a:ext cx="5457600" cy="349560"/>
            </a:xfrm>
            <a:prstGeom prst="rect">
              <a:avLst/>
            </a:prstGeom>
            <a:solidFill>
              <a:srgbClr val="ff99cc">
                <a:alpha val="40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97" name="AutoShape 2"/>
            <p:cNvSpPr/>
            <p:nvPr/>
          </p:nvSpPr>
          <p:spPr>
            <a:xfrm>
              <a:off x="4491360" y="5716080"/>
              <a:ext cx="256320" cy="276120"/>
            </a:xfrm>
            <a:prstGeom prst="downArrow">
              <a:avLst>
                <a:gd name="adj1" fmla="val 50000"/>
                <a:gd name="adj2" fmla="val 26931"/>
              </a:avLst>
            </a:prstGeom>
            <a:noFill/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398" name="Text Box 12"/>
          <p:cNvSpPr/>
          <p:nvPr/>
        </p:nvSpPr>
        <p:spPr>
          <a:xfrm>
            <a:off x="1143000" y="6400800"/>
            <a:ext cx="5257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ntex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Settings; Patient Populations; Timeframe; Facilitators; Barriers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 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easure Mapping Tab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762120" y="1295280"/>
          <a:ext cx="7619760" cy="5329440"/>
        </p:xfrm>
        <a:graphic>
          <a:graphicData uri="http://schemas.openxmlformats.org/drawingml/2006/table">
            <a:tbl>
              <a:tblPr/>
              <a:tblGrid>
                <a:gridCol w="2921040"/>
                <a:gridCol w="1758960"/>
                <a:gridCol w="1562040"/>
                <a:gridCol w="1377720"/>
              </a:tblGrid>
              <a:tr h="21348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SUREMENT PERSPEC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72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tient/Fami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lthcare  Professional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resentative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gridSpan="4"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E COORDINATION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blish accountability or negotiate responsibilit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unic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03040">
                <a:tc>
                  <a:txBody>
                    <a:bodyPr lIns="58680" rIns="58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personal Communica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58680" rIns="58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ation Transf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01600"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cilitate transi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58680" rIns="58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ross sett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03040">
                <a:tc>
                  <a:txBody>
                    <a:bodyPr lIns="58680" rIns="58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coordination needs ch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880"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sess needs and goal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03040"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ate a proactive plan of ca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itor, follow-up, and respond to chang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85760"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port self-management goal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60"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nk to community resourc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72960"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ign resources with patient and population need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gridSpan="4"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AD APPROACHES POTENTIALLY RELATED TO CARE COORDIN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040"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amwork focused on coordina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lthcare Hom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01600"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e 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cation 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201240"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lth IT-enabled coordina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2" name="Rectangle 1"/>
          <p:cNvSpPr/>
          <p:nvPr/>
        </p:nvSpPr>
        <p:spPr>
          <a:xfrm>
            <a:off x="0" y="4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sults: Measur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dentified 150 measur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stly survey-bas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cluded better measures based on</a:t>
            </a: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evious testing, use and/or underlying logic mod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pplicabi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nal measure count: 5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18:18:42Z</dcterms:created>
  <dc:creator>McDonald</dc:creator>
  <dc:description/>
  <dc:language>en-US</dc:language>
  <cp:lastModifiedBy>Kim Gretka</cp:lastModifiedBy>
  <dcterms:modified xsi:type="dcterms:W3CDTF">2010-10-19T00:17:24Z</dcterms:modified>
  <cp:revision>31</cp:revision>
  <dc:subject/>
  <dc:title>Care Coordination Measures Atlas Project</dc:title>
</cp:coreProperties>
</file>