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BADD-7390-4E63-B237-6B76085AC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2867-DC4A-4C26-9E1E-DB339404E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7D9D-0234-4E75-B8BE-7D8390507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DC05-BB11-472A-A7B4-2F4CA75FE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CFF9-0A03-4E5F-BF44-85CDCCB04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C8D-62E0-4C47-9C9E-2846FB812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EBAE-0207-4B52-962E-93DAFC698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DC3E-F156-4253-ACA6-F47EAEA68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C71-BEFC-4CD4-BC29-23C02253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21E-A865-4F1C-9C2A-AED0FAC0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E96-1DC5-4C43-89F9-5197800E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4DC-EA22-478E-AD2A-CEF9EABB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2014-76F5-4BFB-8D8A-FEEF887D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E81D-A5B4-44F3-9824-6301185B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9B9C-7F24-482A-B763-D39D1CB4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E84E-F953-4EF2-B1D7-5E2666B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3E2B-D978-4131-8A0F-BB1AB9A2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3156-A045-4854-9E93-932305D2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F145-3A36-48B4-B3FD-CE86841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00F-AF4F-436C-B254-08837386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402F-18C3-4E30-A88B-779FCFF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06BB-6BEA-4677-9DD2-F1F1B8F1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4D5A-1FE4-4FF6-AD6F-86525F58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C393-159B-424F-A3F5-4403DA96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66D1-2EFD-4F25-A38F-27A18306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B9C4B-AA0E-4994-9FF8-115B3ADD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DFD6A-C9B3-4811-BD36-42C4D3CB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04845-0A89-4447-B332-83D84632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49666-820C-4AEC-AA47-56E393AC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8115B-4440-47A3-BFB0-34B158F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C5D-8466-4247-82AA-2FA84CBE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6FABD-A0B1-440E-A1AD-D6184D14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EEA97-B4A6-4F59-A4E0-004FE9A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15295-92EE-4E26-BBB3-2875CE2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FF2B7-4ADF-42D7-AB37-E21939E0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B2F1E-48E3-4769-97FA-88A366EB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FC76B-2A5B-4774-947D-378902BA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6742F-E0FF-40F8-807C-9E3A7181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0F168-9BB4-4B50-8755-34CF5FD0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FE7CC-3780-449F-AFFA-1D9B1D2E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EC056-753F-400E-9473-414A8F3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C65-EF63-4936-9CFC-E43B1FED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69136-F13B-4E10-819D-DC395037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A8C16-891E-43FD-9DB7-29A36523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777E8-88A3-4CBA-A870-59FB9CF9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702D1-EE39-4F1B-AEFE-92ECC060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1F3FE-C48C-4248-81F8-F35F196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06105-C3E6-4FB0-8E67-456EE897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BAD3E-112E-4A0E-8DE1-53D143BE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56A4C-EA48-489A-82AA-DC383C09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9B506-6DCA-4759-8084-0ECBE6A8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FED49-30AA-4266-9337-469D866B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B90-2AF8-492A-B6E3-53843933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1AE36-28C3-49D7-A88F-64E3312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35ABB-F8CC-4730-A962-B0CE1ECD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C05DF-5B08-4437-9AF2-82A8F44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6D66B-0D5B-49B3-9938-E19CD134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9F6DD-8753-49F2-B3CD-CF389D05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C0E67-F91A-4516-84C5-9B0F2E0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23747-4139-471F-9FB8-02BDE104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95197-B138-4F56-96F6-AD38D32C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BF4D9-272B-4AAD-A054-5F5A6414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73DAA-B0A0-4948-B71B-6CF6855C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8DA-1E49-4FBF-AB93-342C92FD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91D1D-1A22-4F3A-9E5F-B3BCA0E6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21674-F93E-4A93-9936-E9A71307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D3D0A-36CD-4728-BD39-CF355B67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6B979-0E00-454A-86D7-A9669F7D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5F16C-734B-4F66-B4D7-0850DF4B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6F2B-0918-4FE9-B651-751B9D04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145E-EB32-415A-8871-5E6F784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42106-475F-42AF-A6B4-FD0E2B76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F2F52-71B0-44BE-BC3A-4B8B9E0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3D949-5601-4E7B-A984-3753B1EF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073-A36A-44A0-905E-E3D6D10E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32A7-3132-43B5-8C5A-B0A60143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AC5C-69FC-4A27-82BA-750C8897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A0C67-3342-4CA2-B37E-A9F346E0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F2B9F-20B6-410F-B848-D554D101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8753D-8A21-45AF-BDED-23CEC9B7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E4FED-3BD1-4ACB-A09B-63C5E087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CF74C-133D-497B-B623-D1C4AC80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4CB68-F372-4334-B2D1-A8332FA0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F9C09-447A-4FC1-9473-C8E512B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EA711-BDC3-487C-9B65-7BDE25F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25E-CC66-46F5-AF49-C6D0D50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D5641-A01D-4BC4-A193-CB25053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11F59-E7F2-4819-8850-A5B0303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0A2EC-DB49-41FB-9923-30A12F09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79D28-3871-4361-B5A3-ACBBAE03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78D791-940D-45E7-88AA-2212FCEC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23857-F46D-433F-AB20-3BBAC4E5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0817E-2056-43E7-BD04-6093EA85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B865A-2E38-4FBC-BA2A-B56B078F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F6483-FCE3-4282-8885-6E770B5D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3B8B6-7994-49AF-8F22-44D1A8E5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0BA-E056-4E95-958E-61904C8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8273B-47FB-4304-B605-A7FC466C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9E5E2-C5CE-4D3C-BDFC-C22B7D93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6C99A-5342-48A5-B191-397DB554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FAAC0-8B9E-4CA9-B809-9BD30A4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3A38B-DA39-49CE-AA88-4F2CDD3E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5432F-F336-4422-BCB4-021FC86D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E546C-3471-4A22-AFA3-F0071A60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9F83-F3F1-4EBE-9704-6258CF0604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CC10-BC3E-496B-9F0B-8C942F16AE6C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FBAC-6C64-4AAF-8401-347CBD5F0DD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7A6-246C-4A0A-AD2B-C95A0A5744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FB88-E856-490D-AF14-0362029906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5068-E647-49AD-A3ED-0E7DF593671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F25F-0E75-4F51-A9F3-94C77416675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EEAB-97E4-463B-B2DD-A2C51913C1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ARE COORDINATION MEASURES ATLAS PROJEC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Kathryn McDonald</a:t>
            </a:r>
            <a:endParaRPr b="0" lang="en-US" sz="1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Stanford Health Policy</a:t>
            </a:r>
            <a:endParaRPr b="0" lang="en-US" sz="1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AHRQ Quality Indicators Project</a:t>
            </a:r>
            <a:endParaRPr b="0" lang="en-US" sz="1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asure Mapping and Profi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ee handou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TM-15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2: When I left the hospital, I had a readable and easily understood written list of the appointments or tests I needed to complete within the next several week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AHP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C1!: Doctor talked with patient about all of the prescription medicines he/she was taking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5: Patient phoned doctor’s office for help or advice after surgery or procedur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xt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xt version availab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velopment of web-based ver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archabl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plicit links to care coordination-related measures included in Electronic Health Record Incentive Program (Medicare and Medicaid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dditional user testing and inpu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59320" indent="-21456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tion on applicability to practice’s ongoing QI effor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ystematic research on evidence base on measurable mechanisms hypothesized to produce better care coordination (process-outcome link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ject Te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76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STANFORD/BATTELL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llen Schultz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uren Alb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elle Pine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Julia Lonh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ystal Smith-Spangl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Jennifer Brustro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andana Sundara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lizabeth Malcolm (Sutte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athryn McDonal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5105520" y="1828800"/>
            <a:ext cx="3654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AHRQ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David Mey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Jan Genevr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Mamatha Panchol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roject Context: 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easurement Motiv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Patient-Centered Medical Hom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Evidence-based Practice Center (EPC) report on care coordination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HIT advances and opportuniti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Transparency objectives: evidence &amp; evaluation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oject Objective: Develop Measures Atla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arget scop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mbulatory car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atients who have access to healthcar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Atlas aims to support the field of care coordination measurement by: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inding, selecting and cataloging existing measures of care coordin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esent best measures in accessible form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Expected Atlas User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valuators of interventions or demonstration projects that aim to improve care coordin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Quality improvement practitione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searchers studying care coordin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tho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Literature search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Environmental scan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 workgroups and other informa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Framework development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w Cen MT"/>
              </a:rPr>
              <a:t>Expert review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002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pping” measures for two purpos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isualize landscape of measures available (and missing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elp users target care coordination domains for intervention and measu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tailed measure profi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-36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2574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Lessons Learn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sul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334120" y="259092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ny availab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pends on perspecti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tion of “failures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te spa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wo dimen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are coordination domain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inks to outcomes of interest (clinical, resource, IOM 6 dimensions of qualit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-360" y="2590560"/>
            <a:ext cx="4000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efinitio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Measurement Framework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75" name="Group 1"/>
          <p:cNvGrpSpPr/>
          <p:nvPr/>
        </p:nvGrpSpPr>
        <p:grpSpPr>
          <a:xfrm>
            <a:off x="1219320" y="685800"/>
            <a:ext cx="6780240" cy="5935680"/>
            <a:chOff x="1219320" y="685800"/>
            <a:chExt cx="6780240" cy="5935680"/>
          </a:xfrm>
        </p:grpSpPr>
        <p:sp>
          <p:nvSpPr>
            <p:cNvPr id="376" name="AutoShape 23"/>
            <p:cNvSpPr/>
            <p:nvPr/>
          </p:nvSpPr>
          <p:spPr>
            <a:xfrm>
              <a:off x="1219320" y="685800"/>
              <a:ext cx="6780240" cy="593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7" name="Oval 22"/>
            <p:cNvSpPr/>
            <p:nvPr/>
          </p:nvSpPr>
          <p:spPr>
            <a:xfrm>
              <a:off x="3376080" y="3071520"/>
              <a:ext cx="2523960" cy="14194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8" name="Text Box 21"/>
            <p:cNvSpPr/>
            <p:nvPr/>
          </p:nvSpPr>
          <p:spPr>
            <a:xfrm>
              <a:off x="4011120" y="3163320"/>
              <a:ext cx="12488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RDINATION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FFECT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79" name="Rectangle 20"/>
            <p:cNvSpPr/>
            <p:nvPr/>
          </p:nvSpPr>
          <p:spPr>
            <a:xfrm>
              <a:off x="1890360" y="6061680"/>
              <a:ext cx="5457600" cy="349560"/>
            </a:xfrm>
            <a:prstGeom prst="rect">
              <a:avLst/>
            </a:prstGeom>
            <a:solidFill>
              <a:srgbClr val="ff99cc">
                <a:alpha val="40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0" name="Text Box 19"/>
            <p:cNvSpPr/>
            <p:nvPr/>
          </p:nvSpPr>
          <p:spPr>
            <a:xfrm>
              <a:off x="2827440" y="1491480"/>
              <a:ext cx="3551400" cy="39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CHANISM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s of achieving goal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1" name="Text Box 18"/>
            <p:cNvSpPr/>
            <p:nvPr/>
          </p:nvSpPr>
          <p:spPr>
            <a:xfrm>
              <a:off x="1833840" y="2046960"/>
              <a:ext cx="2761920" cy="591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rdination Activitie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ions hypothesized to support coordination. Not necessarily executed in structured way.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2" name="Text Box 17"/>
            <p:cNvSpPr/>
            <p:nvPr/>
          </p:nvSpPr>
          <p:spPr>
            <a:xfrm>
              <a:off x="3646080" y="6116040"/>
              <a:ext cx="2449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ORDINATION MEASURE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3" name="Text Box 16"/>
            <p:cNvSpPr/>
            <p:nvPr/>
          </p:nvSpPr>
          <p:spPr>
            <a:xfrm>
              <a:off x="3902760" y="3624480"/>
              <a:ext cx="15786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perienced in different ways depending upon the perspec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4" name="Oval 15"/>
            <p:cNvSpPr/>
            <p:nvPr/>
          </p:nvSpPr>
          <p:spPr>
            <a:xfrm>
              <a:off x="2255040" y="4821480"/>
              <a:ext cx="1481760" cy="7801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tient/Family Perspec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5" name="Oval 14"/>
            <p:cNvSpPr/>
            <p:nvPr/>
          </p:nvSpPr>
          <p:spPr>
            <a:xfrm>
              <a:off x="3833280" y="4869000"/>
              <a:ext cx="1512360" cy="7326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althcare Professional Perspec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6" name="Oval 13"/>
            <p:cNvSpPr/>
            <p:nvPr/>
          </p:nvSpPr>
          <p:spPr>
            <a:xfrm>
              <a:off x="5439240" y="4888080"/>
              <a:ext cx="1603800" cy="6660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 Representa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spectiv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4723200" y="2046240"/>
              <a:ext cx="2762280" cy="591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oad Approaches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only used groups of activities and/or tools hypothesized to support coordination.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 flipH="1">
              <a:off x="3033360" y="4260600"/>
              <a:ext cx="62856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>
              <a:off x="4629600" y="4491360"/>
              <a:ext cx="3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0" name="Line 9"/>
            <p:cNvSpPr/>
            <p:nvPr/>
          </p:nvSpPr>
          <p:spPr>
            <a:xfrm>
              <a:off x="5652720" y="4216320"/>
              <a:ext cx="53388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 flipH="1">
              <a:off x="2741400" y="1891440"/>
              <a:ext cx="75960" cy="13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6361200" y="1882080"/>
              <a:ext cx="10080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4491360" y="2725200"/>
              <a:ext cx="256320" cy="276120"/>
            </a:xfrm>
            <a:prstGeom prst="downArrow">
              <a:avLst>
                <a:gd name="adj1" fmla="val 50000"/>
                <a:gd name="adj2" fmla="val 26931"/>
              </a:avLst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4" name="Text Box 5"/>
            <p:cNvSpPr/>
            <p:nvPr/>
          </p:nvSpPr>
          <p:spPr>
            <a:xfrm>
              <a:off x="2881080" y="808920"/>
              <a:ext cx="34801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OAL: COORDINATED CARE</a:t>
              </a:r>
              <a:endParaRPr b="0" lang="en-US" sz="10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5" name="AutoShape 4"/>
            <p:cNvSpPr/>
            <p:nvPr/>
          </p:nvSpPr>
          <p:spPr>
            <a:xfrm>
              <a:off x="4491360" y="1153440"/>
              <a:ext cx="256320" cy="276120"/>
            </a:xfrm>
            <a:prstGeom prst="downArrow">
              <a:avLst>
                <a:gd name="adj1" fmla="val 50000"/>
                <a:gd name="adj2" fmla="val 26931"/>
              </a:avLst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6" name="Rectangle 3"/>
            <p:cNvSpPr/>
            <p:nvPr/>
          </p:nvSpPr>
          <p:spPr>
            <a:xfrm>
              <a:off x="1938600" y="765720"/>
              <a:ext cx="5457600" cy="349560"/>
            </a:xfrm>
            <a:prstGeom prst="rect">
              <a:avLst/>
            </a:prstGeom>
            <a:solidFill>
              <a:srgbClr val="ff99cc">
                <a:alpha val="40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397" name="AutoShape 2"/>
            <p:cNvSpPr/>
            <p:nvPr/>
          </p:nvSpPr>
          <p:spPr>
            <a:xfrm>
              <a:off x="4491360" y="5716080"/>
              <a:ext cx="256320" cy="276120"/>
            </a:xfrm>
            <a:prstGeom prst="downArrow">
              <a:avLst>
                <a:gd name="adj1" fmla="val 50000"/>
                <a:gd name="adj2" fmla="val 26931"/>
              </a:avLst>
            </a:prstGeom>
            <a:noFill/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98" name="Text Box 12"/>
          <p:cNvSpPr/>
          <p:nvPr/>
        </p:nvSpPr>
        <p:spPr>
          <a:xfrm>
            <a:off x="1143000" y="640080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ettings; Patient Populations; Timeframe; Facilitators; Barrier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asure Mapping Tab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295280"/>
          <a:ext cx="7619760" cy="5329440"/>
        </p:xfrm>
        <a:graphic>
          <a:graphicData uri="http://schemas.openxmlformats.org/drawingml/2006/table">
            <a:tbl>
              <a:tblPr/>
              <a:tblGrid>
                <a:gridCol w="2921040"/>
                <a:gridCol w="1758960"/>
                <a:gridCol w="1562040"/>
                <a:gridCol w="1377720"/>
              </a:tblGrid>
              <a:tr h="2134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SUREMENT PERSP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nt/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care  Profession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resentativ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4"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 COORDINATION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accountability or negotiate responsi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ersonal Communic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 Trans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16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tate trans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ross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coordination needs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 needs and goal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ate a proactive plan of ca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itor, follow-up, and respond to chan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857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ort self-management goal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 to community resour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296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gn resources with patient and population need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4"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 APPROACHES POTENTIALLY RELATED TO CARE COORD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mwork focused on coord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care Hom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0160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e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201240"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IT-enabled coordin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1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sults: Meas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ntified 150 measu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stly survey-ba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luded better measures based on</a:t>
            </a:r>
            <a:r>
              <a:rPr b="0" lang="en-US" sz="3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vious testing, use and/or underlying logic mod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pplic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al measure count: 5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8:18:42Z</dcterms:created>
  <dc:creator>McDonald</dc:creator>
  <dc:description/>
  <dc:language>en-US</dc:language>
  <cp:lastModifiedBy>Kim Gretka</cp:lastModifiedBy>
  <dcterms:modified xsi:type="dcterms:W3CDTF">2010-10-19T00:17:24Z</dcterms:modified>
  <cp:revision>31</cp:revision>
  <dc:subject/>
  <dc:title>Care Coordination Measures Atlas Project</dc:title>
</cp:coreProperties>
</file>