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png" ContentType="image/png"/>
  <Override PartName="/ppt/media/image8.jpeg" ContentType="image/jpeg"/>
  <Override PartName="/ppt/media/image9.png" ContentType="image/png"/>
  <Override PartName="/ppt/media/image10.jpeg" ContentType="image/jpeg"/>
  <Override PartName="/ppt/media/image11.png" ContentType="image/pn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AF362-B1B4-4BC3-B1A6-9B2ADCEEE6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at graphic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68C41-3DDC-426B-A78F-C589887B30FF}" type="slidenum">
              <a:rPr b="0" lang="en-US" sz="12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9624E-8A3A-4607-A7AF-1CFB2C81889C}" type="slidenum">
              <a:rPr b="0" lang="en-US" sz="12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6DCB4-5817-479F-A883-65C1289FD32A}" type="slidenum">
              <a:rPr b="0" lang="en-US" sz="12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28B5D-5F86-4223-8447-4DC5F23F2657}" type="slidenum">
              <a:rPr b="0" lang="en-US" sz="12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81167-6369-4182-85F5-A47CFA9BA2EA}" type="slidenum">
              <a:rPr b="0" lang="en-US" sz="12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64A4E-F999-49B2-A064-2D1918F9D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7467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1920" y="1447560"/>
            <a:ext cx="76964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1920" y="3915360"/>
            <a:ext cx="76964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8B3AE-7AD4-4650-BA90-2C188B794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7467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1920" y="144756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095720" y="144756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1920" y="391536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095720" y="391536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E0C04-9465-48CC-8CF5-46631430D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7467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1920" y="1447560"/>
            <a:ext cx="247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754000" y="1447560"/>
            <a:ext cx="247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356080" y="1447560"/>
            <a:ext cx="247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1920" y="3915360"/>
            <a:ext cx="247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754000" y="3915360"/>
            <a:ext cx="247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356080" y="3915360"/>
            <a:ext cx="247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0B1A6-3BC7-4BF3-A2E5-8F1CEB7B1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D9153-2180-4C3B-8C70-2776DCCC4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7467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51920" y="1447560"/>
            <a:ext cx="769644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08F06-F2A9-4909-B98F-55F607914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7467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1920" y="1447560"/>
            <a:ext cx="76964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06E0E-16B8-416C-BEFE-4B48DA388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7467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51920" y="1447560"/>
            <a:ext cx="3755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095720" y="1447560"/>
            <a:ext cx="3755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BC0FA-9DDE-4183-ACCC-3B33AA7C4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7467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B5468-9EBD-4C4F-B7AF-2DA7508FB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52280" y="151920"/>
            <a:ext cx="746784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C764E-C068-4E8C-B030-93D89E870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7467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1920" y="144756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095720" y="1447560"/>
            <a:ext cx="3755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51920" y="391536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F672B-3E77-45E0-8C8F-8A21433CB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7467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1920" y="1447560"/>
            <a:ext cx="769644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8E955-7AA7-4511-B650-F2BF35DFF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7467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1920" y="1447560"/>
            <a:ext cx="3755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095720" y="144756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095720" y="391536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319D5-0C22-4210-AD97-F37C0FC19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7467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1920" y="144756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095720" y="144756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1920" y="3915360"/>
            <a:ext cx="76964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21DD6-CDDA-41FD-9DAB-C7768FB2A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7467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1920" y="1447560"/>
            <a:ext cx="76964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51920" y="3915360"/>
            <a:ext cx="76964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2DF6F-EB8B-4493-A359-7756A720A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7467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1920" y="144756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095720" y="144756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51920" y="391536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095720" y="391536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3635E-2846-4144-BF87-1C9A6824B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7467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1920" y="1447560"/>
            <a:ext cx="247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754000" y="1447560"/>
            <a:ext cx="247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356080" y="1447560"/>
            <a:ext cx="247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51920" y="3915360"/>
            <a:ext cx="247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754000" y="3915360"/>
            <a:ext cx="247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356080" y="3915360"/>
            <a:ext cx="247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66D28-17DF-4FCC-A7D7-4A2ECDAE1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7467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1920" y="1447560"/>
            <a:ext cx="76964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277DE-CAD7-423C-AC93-9EF509AC5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7467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1920" y="1447560"/>
            <a:ext cx="3755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095720" y="1447560"/>
            <a:ext cx="3755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52E72-F0DE-44F0-9556-CB382976E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7467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D68E5-DC8A-495E-BE67-55CC3503A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52280" y="151920"/>
            <a:ext cx="746784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F52AB-1179-4D5D-905D-1CC712FC8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7467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1920" y="144756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095720" y="1447560"/>
            <a:ext cx="3755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1920" y="391536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2C80F-F0E8-48E8-BE7F-D8202A50E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7467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1920" y="1447560"/>
            <a:ext cx="3755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095720" y="144756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095720" y="391536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A5359-EE8F-4A1C-92E8-D3DEC04C3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7467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1920" y="144756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095720" y="1447560"/>
            <a:ext cx="37555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1920" y="3915360"/>
            <a:ext cx="76964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0F91C-8CC1-42A1-8927-36B939B72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7467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1920" y="1447560"/>
            <a:ext cx="76964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51920" y="6476760"/>
            <a:ext cx="240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8740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714640" y="6476760"/>
            <a:ext cx="2171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D7F0A-843A-4616-9028-F0BA1E1F524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7467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51920" y="1447560"/>
            <a:ext cx="76964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151920" y="6476760"/>
            <a:ext cx="240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268740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5714640" y="6476760"/>
            <a:ext cx="2171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11BCA-6E27-401A-BF4D-E49774E4C56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2280" y="426672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MID-TRACK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0" y="52578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919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HRQ Annual Conferenc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919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eptember 27, 2010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919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Jeffrey Margulies, MD, FACEP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91" name="Picture 6" descr="Photo - Good Samaritan Hospital Entrance"/>
          <p:cNvPicPr/>
          <p:nvPr/>
        </p:nvPicPr>
        <p:blipFill>
          <a:blip r:embed="rId2"/>
          <a:stretch/>
        </p:blipFill>
        <p:spPr>
          <a:xfrm>
            <a:off x="3733920" y="609480"/>
            <a:ext cx="4667040" cy="431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746784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essons Learned/Challeng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51920" y="1447560"/>
            <a:ext cx="76964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Process design quite challenging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tart time critical to front loading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Bolus of patients when MT starts at 4p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Pts ‘triaged’ to MT before 4pm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os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taffing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12"/>
          <p:cNvSpPr/>
          <p:nvPr/>
        </p:nvSpPr>
        <p:spPr>
          <a:xfrm>
            <a:off x="0" y="1600200"/>
            <a:ext cx="8686800" cy="5257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746784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WBS rates pre and post Mid-Track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5" name="Object 9"/>
          <p:cNvGraphicFramePr/>
          <p:nvPr/>
        </p:nvGraphicFramePr>
        <p:xfrm>
          <a:off x="0" y="1600200"/>
          <a:ext cx="8686800" cy="52862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16" name="Object 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600200"/>
                    <a:ext cx="8686800" cy="528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746784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llateral benefi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1920" y="1447560"/>
            <a:ext cx="76964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Positive response from patients 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avored by staff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Reduced stress levels in the ED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NP role better defined than previously 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Hospital renewed focus on throughpu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Mitigated our natural tendency towards procrastination 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746784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uture of Mid-Track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51920" y="1447560"/>
            <a:ext cx="76964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uccessful initiative to date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Expand hours and days of operation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Expand ESI 3 patient complaints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Included in new ED redesign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746784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odern Healthcar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Picture 5" descr="Wheel+Evolution photo"/>
          <p:cNvPicPr/>
          <p:nvPr/>
        </p:nvPicPr>
        <p:blipFill>
          <a:blip r:embed="rId2"/>
          <a:stretch/>
        </p:blipFill>
        <p:spPr>
          <a:xfrm>
            <a:off x="990720" y="1905120"/>
            <a:ext cx="6629400" cy="44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746784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anks to the team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52280" y="1447560"/>
            <a:ext cx="37720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harles Bové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arol Butler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urt Cicotte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usan Drie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Mike Gewirtz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Kathleen Lock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om Nolan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Rob Sharma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Many other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4076640" y="1447560"/>
            <a:ext cx="3772080" cy="47242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6" descr="Photo of team"/>
          <p:cNvPicPr/>
          <p:nvPr/>
        </p:nvPicPr>
        <p:blipFill>
          <a:blip r:embed="rId3"/>
          <a:stretch/>
        </p:blipFill>
        <p:spPr>
          <a:xfrm>
            <a:off x="4114800" y="2286000"/>
            <a:ext cx="4267080" cy="32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74674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y: Collateral damag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" name="Picture 10" descr="0triage-nurse11&#13;&#10;cartoon"/>
          <p:cNvPicPr/>
          <p:nvPr/>
        </p:nvPicPr>
        <p:blipFill>
          <a:blip r:embed="rId2"/>
          <a:stretch/>
        </p:blipFill>
        <p:spPr>
          <a:xfrm>
            <a:off x="1066680" y="1828800"/>
            <a:ext cx="6324840" cy="47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746784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: Identifying the Initiative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52280" y="144756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2.4% LWBS (left without being seen)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Drill Down reveals ESI 3 issue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96" name="Picture 7" descr="Pie Chart - LWBS ESI Distribution"/>
          <p:cNvPicPr/>
          <p:nvPr/>
        </p:nvPicPr>
        <p:blipFill>
          <a:blip r:embed="rId2"/>
          <a:stretch/>
        </p:blipFill>
        <p:spPr>
          <a:xfrm>
            <a:off x="457200" y="2743200"/>
            <a:ext cx="787248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746784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o: ESI 3 Conundru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51920" y="1447560"/>
            <a:ext cx="76964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Patients are too complex for typical fast track visi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Not ill enough to be brought back immediately at times of high census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Result: highest LWBS rate for this subgroup of patients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gnificant potential for morbidity 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57" descr="400_F_11720157_PxkySX8JqMP1MfWZFL8NHR17JkalvJ1B&#13;&#10;Graphic - target on persons back"/>
          <p:cNvPicPr/>
          <p:nvPr/>
        </p:nvPicPr>
        <p:blipFill>
          <a:blip r:embed="rId2"/>
          <a:srcRect l="15300" t="0" r="13677" b="9723"/>
          <a:stretch/>
        </p:blipFill>
        <p:spPr>
          <a:xfrm>
            <a:off x="2589120" y="1523880"/>
            <a:ext cx="3355920" cy="426564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746784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o: Identify your target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457200" y="1600200"/>
          <a:ext cx="7315200" cy="4411800"/>
        </p:xfrm>
        <a:graphic>
          <a:graphicData uri="http://schemas.openxmlformats.org/drawingml/2006/table">
            <a:tbl>
              <a:tblPr/>
              <a:tblGrid>
                <a:gridCol w="4572000"/>
                <a:gridCol w="27432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Chief Complaint</a:t>
                      </a:r>
                      <a:endParaRPr b="0" lang="en-US" sz="2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LWBS Rate</a:t>
                      </a:r>
                      <a:endParaRPr b="0" lang="en-US" sz="2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67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Abdominal pain</a:t>
                      </a:r>
                      <a:endParaRPr b="0" lang="en-US" sz="2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4.6%</a:t>
                      </a:r>
                      <a:endParaRPr b="0" lang="en-US" sz="2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67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Flank pain</a:t>
                      </a:r>
                      <a:endParaRPr b="0" lang="en-US" sz="2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3.5%</a:t>
                      </a:r>
                      <a:endParaRPr b="0" lang="en-US" sz="2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67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Headache</a:t>
                      </a:r>
                      <a:endParaRPr b="0" lang="en-US" sz="2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5.5%</a:t>
                      </a:r>
                      <a:endParaRPr b="0" lang="en-US" sz="2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Pregnancy complication</a:t>
                      </a:r>
                      <a:endParaRPr b="0" lang="en-US" sz="2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5.3%</a:t>
                      </a:r>
                      <a:endParaRPr b="0" lang="en-US" sz="2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67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Vaginal Bleeding</a:t>
                      </a:r>
                      <a:endParaRPr b="0" lang="en-US" sz="2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6.1%</a:t>
                      </a:r>
                      <a:endParaRPr b="0" lang="en-US" sz="2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67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Vomiting</a:t>
                      </a:r>
                      <a:endParaRPr b="0" lang="en-US" sz="2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2.5%</a:t>
                      </a:r>
                      <a:endParaRPr b="0" lang="en-US" sz="2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2" name="Rectangle 59"/>
          <p:cNvSpPr/>
          <p:nvPr/>
        </p:nvSpPr>
        <p:spPr>
          <a:xfrm>
            <a:off x="4038480" y="17524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746784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en: Do the mat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Picture 10" descr="Chart - Avg number of Mid-Track Patients arriving by hour of day"/>
          <p:cNvPicPr/>
          <p:nvPr/>
        </p:nvPicPr>
        <p:blipFill>
          <a:blip r:embed="rId2"/>
          <a:stretch/>
        </p:blipFill>
        <p:spPr>
          <a:xfrm>
            <a:off x="152280" y="1339920"/>
            <a:ext cx="8991720" cy="53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746784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ere: Enter the Mid-Track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51920" y="1447560"/>
            <a:ext cx="76964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reate a solution to address the needs of the ESI 3 patients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Insufficient space in current ED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ASU located above ED and available after-hours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hallenge: find a process that works and uses ASU space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746784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ow: Mid-Track Evolv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52280" y="1447920"/>
            <a:ext cx="777240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oncept: frontload patient visi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Nurse categorizes patient as ESI 3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Refers to physician sitting in triage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Physician in triage, but not triaging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Only sees ESI 3 pts with 1 of 6 CC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Phlebotomy station set up near triage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After initial evaluation pts go up to ASU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are coordinated with NP for entire shif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74674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 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Picture 4" descr="Chart graphic&#13;&#10;Good Samaratin Hospital Medical Center Mid-Track Process Flow Chart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5T00:08:34Z</dcterms:created>
  <dc:creator>asharm01</dc:creator>
  <dc:description/>
  <dc:language>en-US</dc:language>
  <cp:lastModifiedBy>Kim Gretka</cp:lastModifiedBy>
  <dcterms:modified xsi:type="dcterms:W3CDTF">2010-10-18T23:16:10Z</dcterms:modified>
  <cp:revision>45</cp:revision>
  <dc:subject/>
  <dc:title>The ESI 3 Conundru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