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DC4C-D19C-41D5-A739-BB4C7DFD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graph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003-6B41-44AA-AA38-DD58C2115AD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0B7F-C4CE-491C-BA38-57625ECFD7B3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43D7-0767-4FFD-9608-F2550CE31B06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C6F3-13D5-4775-88D6-B4529805AA2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048-AF22-4EA1-A776-A4DD49B9C564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7EA-5FC5-4B4D-89C1-66769D62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33B-4B81-43FF-835A-6619CD0F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5F9-7300-4ABD-8D4E-ADE38785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608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608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4B8-CB29-42C6-A003-3C6C0156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AE14-76A1-4A74-8BD5-3717B0BE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7947-BDDD-44F3-A499-83FB64B1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FF6-4858-4D5F-B168-F2BD71EE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366-DF2B-453D-A769-DEEF4A7F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986E-9923-43C6-96C7-2A6A065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7467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C3D4-515F-4E80-B9DD-4E80F0C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B23-D455-4EB7-8219-0F6AC26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487-0717-44EC-862F-BCDCCF12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6EF-FFC5-4A93-8540-7B9D90AB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8F3-A9DE-473D-817E-C7B10ACF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4FF1-4E90-4C4C-8BD9-187886C0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6BA7-0364-4271-AE86-75699D90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5400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608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5400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608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AEDD-F4DA-4EEE-A236-095EE56C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522-27B1-41A4-BA7C-F8D8E7D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390-9434-4B7C-B15D-C5F6164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DC1-5259-4473-AAC5-7B964098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7467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512-4FDA-4E95-9985-90F8629D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A2C-AF56-43BC-A383-592A5659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D5D-9808-464A-A130-771601F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F50-B797-4F0F-BA4B-2036C2B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240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8740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14640" y="6476760"/>
            <a:ext cx="217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8C66-2D32-4409-A6BE-9D7F0F5E9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476760"/>
            <a:ext cx="240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8740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714640" y="6476760"/>
            <a:ext cx="217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F7B-BD55-4434-BF88-5C9ED8521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4266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52578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19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HRQ Annual Con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19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tember 27, 2010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19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effrey Margulies, MD, FACE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1" name="Picture 6" descr="Photo - Good Samaritan Hospital Entrance"/>
          <p:cNvPicPr/>
          <p:nvPr/>
        </p:nvPicPr>
        <p:blipFill>
          <a:blip r:embed="rId2"/>
          <a:stretch/>
        </p:blipFill>
        <p:spPr>
          <a:xfrm>
            <a:off x="3733920" y="609480"/>
            <a:ext cx="46670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s Learned/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cess design quite challeng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rt time critical to front load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lus of patients when MT starts at 4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ts ‘triaged’ to MT before 4p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ff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2"/>
          <p:cNvSpPr/>
          <p:nvPr/>
        </p:nvSpPr>
        <p:spPr>
          <a:xfrm>
            <a:off x="0" y="1600200"/>
            <a:ext cx="86868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WBS rates pre and post 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9"/>
          <p:cNvGraphicFramePr/>
          <p:nvPr/>
        </p:nvGraphicFramePr>
        <p:xfrm>
          <a:off x="0" y="1600200"/>
          <a:ext cx="8686800" cy="528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86868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lateral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sitive response from patients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avored by staf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duced stress levels in the E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P role better defined than previous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spital renewed focus on through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tigated our natural tendency towards procrastina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 of 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ccessful initiative to d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pand hours and days of ope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pand ESI 3 patient complai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cluded in new ED re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 Health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Wheel+Evolution photo"/>
          <p:cNvPicPr/>
          <p:nvPr/>
        </p:nvPicPr>
        <p:blipFill>
          <a:blip r:embed="rId2"/>
          <a:stretch/>
        </p:blipFill>
        <p:spPr>
          <a:xfrm>
            <a:off x="990720" y="19051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 to the tea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les Bov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ol Butl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t Cicot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san D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ke Gewirtz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athleen Lo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m Nola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b Sharm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oth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76640" y="1447560"/>
            <a:ext cx="3772080" cy="472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hoto of team"/>
          <p:cNvPicPr/>
          <p:nvPr/>
        </p:nvPicPr>
        <p:blipFill>
          <a:blip r:embed="rId3"/>
          <a:stretch/>
        </p:blipFill>
        <p:spPr>
          <a:xfrm>
            <a:off x="4114800" y="2286000"/>
            <a:ext cx="4267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: Collateral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" descr="0triage-nurse11&#13;&#10;cartoon"/>
          <p:cNvPicPr/>
          <p:nvPr/>
        </p:nvPicPr>
        <p:blipFill>
          <a:blip r:embed="rId2"/>
          <a:stretch/>
        </p:blipFill>
        <p:spPr>
          <a:xfrm>
            <a:off x="1066680" y="18288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: Identifying the Initiat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.4% LWBS (left without being see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rill Down reveals ESI 3 issu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6" name="Picture 7" descr="Pie Chart - LWBS ESI Distribution"/>
          <p:cNvPicPr/>
          <p:nvPr/>
        </p:nvPicPr>
        <p:blipFill>
          <a:blip r:embed="rId2"/>
          <a:stretch/>
        </p:blipFill>
        <p:spPr>
          <a:xfrm>
            <a:off x="457200" y="2743200"/>
            <a:ext cx="7872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: ESI 3 Conund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atients are too complex for typical fast track vis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t ill enough to be brought back immediately at times of high censu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ult: highest LWBS rate for this subgroup of pati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gnificant potential for morbidit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7" descr="400_F_11720157_PxkySX8JqMP1MfWZFL8NHR17JkalvJ1B&#13;&#10;Graphic - target on persons back"/>
          <p:cNvPicPr/>
          <p:nvPr/>
        </p:nvPicPr>
        <p:blipFill>
          <a:blip r:embed="rId2"/>
          <a:srcRect l="15300" t="0" r="13677" b="9723"/>
          <a:stretch/>
        </p:blipFill>
        <p:spPr>
          <a:xfrm>
            <a:off x="2589120" y="1523880"/>
            <a:ext cx="33559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: Identify your targe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7315200" cy="4411800"/>
        </p:xfrm>
        <a:graphic>
          <a:graphicData uri="http://schemas.openxmlformats.org/drawingml/2006/table">
            <a:tbl>
              <a:tblPr/>
              <a:tblGrid>
                <a:gridCol w="45720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ief Complain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WBS R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bdominal pai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6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lank pai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eadach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egnancy complica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3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ginal Bleed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omit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59"/>
          <p:cNvSpPr/>
          <p:nvPr/>
        </p:nvSpPr>
        <p:spPr>
          <a:xfrm>
            <a:off x="4038480" y="1752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: Do the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Chart - Avg number of Mid-Track Patients arriving by hour of day"/>
          <p:cNvPicPr/>
          <p:nvPr/>
        </p:nvPicPr>
        <p:blipFill>
          <a:blip r:embed="rId2"/>
          <a:stretch/>
        </p:blipFill>
        <p:spPr>
          <a:xfrm>
            <a:off x="152280" y="1339920"/>
            <a:ext cx="899172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: Enter the 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reate a solution to address the needs of the ESI 3 pati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sufficient space in current E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U located above ED and available after-hou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llenge: find a process that works and uses ASU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: Mid-Track Evol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cept: frontload patient vis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rse categorizes patient as ESI 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fers to physician sitting in triag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hysician in triage, but not triag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sees ESI 3 pts with 1 of 6 C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hlebotomy station set up near tri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fter initial evaluation pts go up to AS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e coordinated with NP for entire shif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hart graphic&#13;&#10;Good Samaratin Hospital Medical Center Mid-Track Process Flow Char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8:34Z</dcterms:created>
  <dc:creator>asharm01</dc:creator>
  <dc:description/>
  <dc:language>en-US</dc:language>
  <cp:lastModifiedBy>Kim Gretka</cp:lastModifiedBy>
  <dcterms:modified xsi:type="dcterms:W3CDTF">2010-10-18T23:16:10Z</dcterms:modified>
  <cp:revision>45</cp:revision>
  <dc:subject/>
  <dc:title>The ESI 3 Conund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