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Medical Pat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dt" idx="25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ftr" idx="26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 type="sldNum" idx="27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6C8A-D6D7-4FAA-BC4C-2008B6769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8E74-C05C-4BD3-9FEA-62BD0357E0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Header Placeholder 4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mplex Medical Pat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C4707-2264-4020-8C3C-694F961B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BCE28-BA34-4197-98F9-670100CC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DB53D-3837-4176-BF00-22A945DF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8F273-2A7F-48E5-AEFD-A38A7A75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10593-CA53-4172-86A9-AF6EE576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952F2-BBE5-470D-A8B4-22BBE30D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C82AF-4955-4309-8886-4EC6869A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F00B8-D0A6-4BC7-B539-F2039EE1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D192D-C2F7-4B7E-A0F9-8DD16BDD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1488D-14E1-43D4-8049-44DCF09F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EDEA4-0F04-4EDB-BAED-40907478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DAB7E-5EAC-4561-8648-C8D3D98D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7E5BD-7172-4E8D-B246-B9D8705F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0DD55-1B18-4824-8D39-8AEE8DC1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D9910-0252-470C-815E-1AE4E28A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5F348-DFB6-4575-8BE5-AEAFD7EF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E98C2-8595-47D3-8AAF-E7175772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E3B29-5961-46FD-8E61-1901F681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07E7C-CA84-458B-89BF-A4C51CA4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20A28-AFDE-4C90-A8E8-6DCCD71D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5BB80-FCC8-4D07-8D6D-4A6FF377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BAAD8-4830-4BE8-85E9-9917DF99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131B2-E383-4FED-94E1-C28459C6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632B7-5075-4A43-90A7-119BF97E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9D7C5-4C6A-46CD-848A-71F35F3E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B4A11-FD6D-4DAC-8F48-10B32A82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62B8F-8691-4925-89B9-D753C5E6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D3DB2-73F1-43C9-A240-CB0F20FF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EDECB-1AE3-4687-B9F6-78D665BC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9CA83-ECD2-48E1-870C-027AD4EE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EDF9A-9332-4665-BCA7-F316697C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E8025-B418-47EA-B5DA-15B0C6B4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61799-7932-4262-8F7E-0338BCEC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D8101-81B7-4715-B344-E225B3A1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46DC1-06C8-4D3D-9780-3644FBC7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5EC72-D64A-424C-97C9-1C00C718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A3856-BC9C-46C4-B3E8-A45E59E1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92C60-B758-49BC-A644-CB0FE6A7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8E068-FBC2-4A88-9CFE-743E9334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4510B-9C09-4A51-A053-3AE69FAE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388AB-415D-4804-A4F1-AE8AE797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45CA8-8573-44FD-B563-8812B777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1E8AE-3376-419B-88D6-17C6AFA4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92A5D-7F4F-42FA-9D7A-FE910DB7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314F7-6EA0-4A31-9729-97CAEB3E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84A-BE9F-4CBF-AC8E-8196F834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A86-6E0B-49B7-BC27-653FC184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C7F-3967-495F-823D-18687837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14B-4083-467A-B757-950F9176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851-6203-4867-BBA3-062A4F45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5AA-6D2E-43C0-90CC-B44A3795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E11-EF88-480E-941E-4404338B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1BA-AB26-4430-A99D-D6184E76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CDE-EA87-445C-9772-0E4DE87F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82F-7244-44C3-9EAD-33B60242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44D-0E8B-4F0A-91EE-E11A4568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3D8-1C35-4175-AEDE-5E5B0B02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0A97-D729-4054-AF63-CB340310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0766-5142-4A1A-9480-2D9D41D7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0DF3-40DF-4ACB-AADF-D1E61F33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C857-90EC-45A1-9A65-34543DCA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A0D5-9F47-4030-8602-2FE7B823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32BF-BF20-4914-B393-AEC675EC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A47D-8444-422B-B7F1-AD1C909E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A81D-EA3F-481D-B624-33A72F20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CAF7-0EE7-4A12-AA7A-65EB7468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549A-66BB-4D80-B969-D841FE92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C7E9-3500-4C23-AEE8-4DEA8B7D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8CBF-E52E-4463-AC2A-189202ED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7846-A643-47F5-B795-B1051079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3990C-0BDB-4B2B-98B0-CC48359C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25176-BA27-4914-AAD8-2B3DDDA3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E4EF3-2D9A-45B1-A534-24A7C3EC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5591-5ED8-4AAF-AFE0-7301CE09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721D1-5546-4147-AC4E-FB35611E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4AEB4-D11D-475E-B3F3-42732BA6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59C3-5658-4B3C-BBB5-9F01C528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1CC07-EB57-46E4-BB9E-22C3875E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837AC-28DF-4200-AE0B-492E76AD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D271B-4F0C-42E1-B355-30832AD9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43279-C56C-412F-9E7D-B112036B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7E0C3-BADA-449D-AB73-0CF26EDD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318F5-E649-4F9F-A394-AA2779BB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EFB94-EF93-4AC6-B3DF-D0F05497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B1AE2-0358-478B-B5C7-233995BA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A5667-F3D9-40D3-AB32-EE102B71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78569-004A-4AF8-AF10-3D371EB2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36A0D-8E87-4739-AFDB-1CC37FB6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D2D1F-6E04-4DD5-B3B9-03499DEB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E9F73-1879-4D66-AEE9-F2EDBD4D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695DC-91AA-436E-9E6E-76332270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D3F47-DFC2-4CDF-9E98-AFF5EF13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C931D-0BCF-40FF-BF75-9A32CF62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C3985-1079-4839-BE7C-96868C13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6AC53-ABCD-4522-B25B-3EDBE608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CEFA1-F4F1-493E-86B9-B473C618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Straight Connector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456" name="Straight Connector 14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Straight Connector 15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Straight Connector 16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Group 13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60" name="Straight Connector 10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Straight Connector 11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Straight Connector 12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Group 17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464" name="Straight Connector 18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Straight Connector 19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Straight Connector 20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16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17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18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FC9F-E45B-4166-9EE6-01192B691457}" type="slidenum">
              <a:rPr b="0" lang="en-US" sz="2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1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0C00-8375-4A31-8D2D-E40825BB05A8}" type="slidenum">
              <a:rPr b="0" lang="en-US" sz="2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1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9D20-64DD-488A-A663-7D3B15E5B8CD}" type="slidenum">
              <a:rPr b="0" lang="en-US" sz="2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Freeform 13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51d9ff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4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51d9ff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12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4c7b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15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16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17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18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19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reeform 20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21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Freeform 22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Freeform 23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Freeform 24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reeform 25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Freeform 26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4c7b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9399-14B6-47EC-A0D1-BEB2D0A8CA0D}" type="slidenum">
              <a:rPr b="0" lang="en-US" sz="2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4c7b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BF3E-21C5-40C7-9C23-6387919DEAF9}" type="slidenum">
              <a:rPr b="0" lang="en-US" sz="2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A3DD-356B-494E-8F03-86ADBAD25FF3}" type="slidenum">
              <a:rPr b="0" lang="en-US" sz="2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C936-2341-4FE0-9DA0-858764C75BE4}" type="slidenum">
              <a:rPr b="0" lang="en-US" sz="2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26D9-94D7-4176-9C7A-43A60F1E2E1F}" type="slidenum">
              <a:rPr b="0" lang="en-US" sz="2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"/>
              </a:rPr>
              <a:t>Complex Medical Patients</a:t>
            </a:r>
            <a:endParaRPr b="0" lang="en-US" sz="4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762120" y="213336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ne Katon, M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 Illnesses with high prevalence, high comorbidity and bidirectional adverse intera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51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, CAD, 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, chronic pain, substance ab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Challenge: Development of Health Services Models for “Natural” Clusters of Illness</a:t>
            </a:r>
            <a:endParaRPr b="0" lang="en-US" sz="35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measures of processes of care lack strong links to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onable processes of care are not mea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do not target those at highes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do not allow for patient ex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mediate outcome measures are not severity adju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itfalls of Processes of Care Measu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4802760" y="6095880"/>
            <a:ext cx="28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Kerr E </a:t>
            </a:r>
            <a:r>
              <a:rPr b="0" i="1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et al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.  200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ightly Linked” Quality of Care Measu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vidence links these process measures to improved outcom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ing a beta-blocker to HCTZ in patients with poorly controlled blood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5793480" y="6095880"/>
            <a:ext cx="28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Kerr E </a:t>
            </a:r>
            <a:r>
              <a:rPr b="0" i="1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et al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.  200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161,697 Patients with Diabetes were Examined to Estimate Rates and Reasons for Poor Disease Control  (HbA</a:t>
            </a:r>
            <a:r>
              <a:rPr b="0" lang="en-US" sz="3400" spc="-1" strike="noStrike" baseline="-25000">
                <a:solidFill>
                  <a:srgbClr val="ffff00"/>
                </a:solidFill>
                <a:latin typeface="Arial"/>
              </a:rPr>
              <a:t>1c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, SBP, LDLs)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33520" y="2285640"/>
            <a:ext cx="815328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0% to 23% poor adheren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ong those with adequate adherence, 30% to 47% had no evidence of treatment intensificat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adherence and lack of treatment intensification were found in 53% to 68% of patients with poor disease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4802040" y="6095880"/>
            <a:ext cx="378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Schmittdiel J </a:t>
            </a:r>
            <a:r>
              <a:rPr b="0" i="1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et al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.  200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"/>
          <p:cNvSpPr/>
          <p:nvPr/>
        </p:nvSpPr>
        <p:spPr>
          <a:xfrm>
            <a:off x="304920" y="2133720"/>
            <a:ext cx="2286000" cy="2057400"/>
          </a:xfrm>
          <a:prstGeom prst="rect">
            <a:avLst/>
          </a:prstGeom>
          <a:solidFill>
            <a:srgbClr val="af0f5b"/>
          </a:solidFill>
          <a:ln w="19080">
            <a:solidFill>
              <a:srgbClr val="800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orbid Depression &amp; Diab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4648320" y="380880"/>
            <a:ext cx="4343400" cy="2133720"/>
          </a:xfrm>
          <a:prstGeom prst="rect">
            <a:avLst/>
          </a:prstGeom>
          <a:solidFill>
            <a:srgbClr val="00b0f0"/>
          </a:solidFill>
          <a:ln w="31680">
            <a:solidFill>
              <a:srgbClr val="800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082e"/>
                </a:solidFill>
                <a:latin typeface="Arial"/>
                <a:ea typeface="Arial"/>
              </a:rPr>
              <a:t>Adversely affects self-car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082e"/>
                </a:solidFill>
                <a:latin typeface="Arial"/>
                <a:ea typeface="Arial"/>
              </a:rPr>
              <a:t>adherence to diet, exercise, cessation of smoking, taking medications as prescrib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4635360" y="2895480"/>
            <a:ext cx="4356360" cy="3810240"/>
          </a:xfrm>
          <a:prstGeom prst="rect">
            <a:avLst/>
          </a:prstGeom>
          <a:solidFill>
            <a:srgbClr val="00b0f0"/>
          </a:solidFill>
          <a:ln w="31680">
            <a:solidFill>
              <a:srgbClr val="800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082e"/>
                </a:solidFill>
                <a:latin typeface="Arial"/>
                <a:ea typeface="Arial"/>
              </a:rPr>
              <a:t>Does not affect quality of care measures under more direct physician control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082e"/>
                </a:solidFill>
                <a:latin typeface="Arial"/>
                <a:ea typeface="Arial"/>
              </a:rPr>
              <a:t>Number of HbA</a:t>
            </a:r>
            <a:r>
              <a:rPr b="0" lang="en-US" sz="2600" spc="-1" strike="noStrike" baseline="-25000">
                <a:solidFill>
                  <a:srgbClr val="57082e"/>
                </a:solidFill>
                <a:latin typeface="Arial"/>
                <a:ea typeface="Arial"/>
              </a:rPr>
              <a:t>1c</a:t>
            </a:r>
            <a:r>
              <a:rPr b="0" lang="en-US" sz="2600" spc="-1" strike="noStrike">
                <a:solidFill>
                  <a:srgbClr val="57082e"/>
                </a:solidFill>
                <a:latin typeface="Arial"/>
                <a:ea typeface="Arial"/>
              </a:rPr>
              <a:t>, LDL tests, annual retinal and foot exa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082e"/>
                </a:solidFill>
                <a:latin typeface="Arial"/>
                <a:ea typeface="Arial"/>
              </a:rPr>
              <a:t>Intensification of medication in patients with poor disease 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3" name="Straight Arrow Connector 5"/>
          <p:cNvCxnSpPr/>
          <p:nvPr/>
        </p:nvCxnSpPr>
        <p:spPr>
          <a:xfrm flipV="1">
            <a:off x="2666880" y="1828080"/>
            <a:ext cx="1829520" cy="1220040"/>
          </a:xfrm>
          <a:prstGeom prst="straightConnector1">
            <a:avLst/>
          </a:prstGeom>
          <a:ln w="28440">
            <a:solidFill>
              <a:srgbClr val="ffff66"/>
            </a:solidFill>
            <a:miter/>
            <a:tailEnd len="med" type="arrow" w="med"/>
          </a:ln>
        </p:spPr>
      </p:cxnSp>
      <p:cxnSp>
        <p:nvCxnSpPr>
          <p:cNvPr id="634" name="Straight Arrow Connector 6"/>
          <p:cNvCxnSpPr/>
          <p:nvPr/>
        </p:nvCxnSpPr>
        <p:spPr>
          <a:xfrm>
            <a:off x="2666880" y="3276360"/>
            <a:ext cx="1829520" cy="1067400"/>
          </a:xfrm>
          <a:prstGeom prst="straightConnector1">
            <a:avLst/>
          </a:prstGeom>
          <a:ln w="28440">
            <a:solidFill>
              <a:srgbClr val="ffff66"/>
            </a:solidFill>
            <a:miter/>
            <a:tailEnd len="med" type="arrow" w="med"/>
          </a:ln>
        </p:spPr>
      </p:cxn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-3581280" y="-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5a14"/>
                </a:solidFill>
                <a:latin typeface="Arial"/>
              </a:rPr>
              <a:t>Comorbid Depression &amp; Diabetes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, ADVANCE and VADT Trial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evidence that intensive glucose control decreased macrovascular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et analysis suggested that patients with shorter duration of diabetes without established atherosclerosis might benefit from intensive glucos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of intensive glucose control might outweigh benefits in those with a long history of diabetes, known history of hypoglycemia, advanced atherosclerosis and advanced age/frag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5716080" y="6172200"/>
            <a:ext cx="28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Skyler </a:t>
            </a:r>
            <a:r>
              <a:rPr b="0" i="1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et al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.  200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21:40:03Z</dcterms:created>
  <dc:creator>amajor</dc:creator>
  <dc:description/>
  <dc:language>en-US</dc:language>
  <cp:lastModifiedBy>Kim Gretka</cp:lastModifiedBy>
  <dcterms:modified xsi:type="dcterms:W3CDTF">2010-10-19T00:05:36Z</dcterms:modified>
  <cp:revision>35</cp:revision>
  <dc:subject/>
  <dc:title>Slide 1</dc:title>
</cp:coreProperties>
</file>