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Medical Pat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dt" idx="25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ftr" idx="26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 type="sldNum" idx="27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04CA-B753-4200-A009-2FE59B49B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481B-16DD-4153-B112-4A798248F1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Header Placeholder 4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lex Medical Pat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78B74-5259-4EA4-8745-7487BA44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88BDC-FB21-4B55-B719-29B70C2B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C611E-026B-4E08-9040-9AF7AE80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7456D-8A12-4FEA-A5BC-00695C9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6110-5728-43D7-8389-01C62EA3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EBFFF-CF84-48C4-B869-0C73571E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12392-BE23-4361-8C63-E13B4548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BECD8-8B0C-49D5-810F-1C3A239C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5578A-6F11-455A-AE9F-BEF51759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0A64B-4677-4D7E-A2C2-EE2AB609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E3D54-EA58-4D8F-B0A4-F631EC46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691A2-AB5B-484A-B71D-B2E19AAB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1A3CE-0DA1-45A1-BCF3-876EA416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DAA1D-C44D-4180-8D8E-FB43E08C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9E1CB-5C10-43CB-BAD0-E871F0B6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37A6B-677F-451C-964A-43F8FE10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C3A55-1009-4B87-B4D0-39F5F218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56901-B02D-4D27-9205-F97A42C3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F1A80-E70F-4974-AA28-EAD3DC67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DA43C-5875-4C4F-93CF-BFD42BDA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8948D-F9D0-45AC-A6EF-B2B5C879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C4B89-F137-4ECF-84E0-46BC032D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5D556-25E2-4287-9C6C-E60BF296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3896-DD05-453D-9806-1882E887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61B9E-8896-4EA6-A1AC-06F5F25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5E23-A260-4F69-AB86-2354F158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FAB6D-4DC5-4C93-98EE-97E9001B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27B4A-4028-46BB-A538-19FBBEBA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D8D66-B2D8-4273-B08D-FFB968A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B9D66-CC3F-4728-9DC2-44DEA446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400D3-47A6-4E85-B46F-AC3EB44F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E140B-7A66-405C-99F0-135CE6B9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B7E30-5A2F-485D-90B2-93430223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FA2E3-15E4-4549-A59D-28E65D5B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26A6B-4A41-43C1-B377-F867AAA0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23C05-DE50-4BF1-84F0-E41FFC69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FB0E2-97DA-4BE3-8746-AA725BA7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69379-2540-4A2F-8F42-FB5E58CB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CE1A2-D6CF-4E79-A7F2-83DFAEB2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AD3A7-3904-4859-8C2F-3FDBD5A6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4B7FD-F9CB-4928-9299-A0A0609F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CFDE7-0D64-44CD-B629-D4188514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5C650-141C-4C98-960F-67ACD064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2F633-B44D-4B56-BAAF-385755D4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63131-818C-4D3D-B098-0E41A327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8D7-BF84-4507-A996-D2F482D4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F28-863B-456C-8E06-F5C532D5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BD5-F488-42D2-B9BE-10101406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4BD-678C-4002-B99C-C5AF3302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23A-11B1-4471-8751-AC983393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E93-C972-4A61-A94D-DEB4A400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C84-70EA-4DA4-8EC9-468F91F3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B91-D204-43D9-9D63-2F2D9C80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8BC-3D92-4C19-BDA5-536EAEB5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6F5-E58D-42D3-A2BB-9311A0C2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F61-E779-404F-90FC-20AC1C9B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0CE-A4E1-47BE-B35E-81B4BF9D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63B8-BDD5-4BCF-A02A-522AD5B8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431E-E01F-4C41-AB6C-0839D28A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EA49-8C76-4313-9937-C98891DC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4E7F-5531-41C4-B053-AE1280A7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E85C-A523-4C22-B368-25B96651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5606-D016-4E21-9156-781FEB64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8E7F-B899-4478-ADED-4687EAE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36A0-F565-4577-AB8A-7372462D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19AA-510A-4832-9452-EFB90B1A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F602-1262-415E-A274-CB7B1E24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95C1-F25A-4E01-8331-03EB6263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0FF7-5906-47E7-B81D-ACBF5560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C797-3177-4064-B8F1-CB2491D2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16A4-68CE-41A4-9EBB-1B435548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E0EC-D14C-4851-93C8-FE69236C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B98B-EE95-4EF0-BB69-7577B1EF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D3F7-C94E-48B8-A015-BCE3B624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9EED5-7C8B-4E5A-B0D1-854B9BCB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3DBF-2C3C-43B1-81EE-DBC5ACF6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248E-FA6D-44B0-89A2-6E81812A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2CEC-A6A3-497C-BE40-9959271A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37A4-6C47-436E-AEA0-EAE61768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D162-1C4C-4DA6-92BA-97B3B090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EAB5-CC22-4AD7-9158-2101033B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0A0E-C85F-44CB-98B8-A7CA8D67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1664-5150-46EF-A052-4CFB00C4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7CA3-B09D-4253-A7F9-3471617B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81F1F-00D7-4DB0-A3B6-4561F80B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B05DF-9E9A-4499-929D-342633BC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F8836-0B8F-4C58-B2C4-6F0FA092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E675-53DA-4E9C-99A6-67FA49F7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7BAB1-2E00-4D71-AD39-B67C8750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410A-E30F-47E1-BE72-4FD74DD9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B477C-D549-45A1-B07B-402F74FE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CB29-7BCA-4D43-A690-6C246219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612D7-59D3-4587-83E9-D7B90698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99421-5F1A-4E9F-9E70-61CD784F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10F32-6518-4BAF-92CA-4E82BBB2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25243-62C3-43F8-8264-4A074C9D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456" name="Straight Connector 14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Straight Connector 15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Straight Connector 16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Group 13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60" name="Straight Connector 10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Straight Connector 11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Straight Connector 12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Group 17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464" name="Straight Connector 18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Straight Connector 19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Straight Connector 20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1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1A8-29F4-4ADE-9E04-9A9574625F1F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956A-7E9C-42F0-ACFD-FA0257A52134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E1AA-2DCB-4E86-9241-6011F1F500B0}" type="slidenum">
              <a:rPr b="0" lang="en-US" sz="2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13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51d9f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4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51d9f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12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4c7b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6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17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18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19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20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21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reeform 22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Freeform 23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Freeform 24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reeform 25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4b7f2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26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4c7b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D645-3262-4CCC-BAFF-8D8E8B951F88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4c7b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D9E6-F70F-41D9-A6E5-A72D462339B5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2E97-E31C-4EBD-B7B6-295B647D4FA3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4C44-2667-4584-9C6F-5E2697849BEB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345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51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ffff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73FE-C6F4-495B-929D-61CABEA655FF}" type="slidenum">
              <a:rPr b="0" lang="en-US" sz="24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Complex Medical Patients</a:t>
            </a:r>
            <a:endParaRPr b="0" lang="en-US" sz="4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762120" y="21333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ne Katon, M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 Illnesses with high prevalence, high comorbidity and bidirectional adverse intera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51"/>
              </a:spcBef>
              <a:buClr>
                <a:srgbClr val="f458c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betes, CAD,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, chronic pain, substance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Arial"/>
              </a:rPr>
              <a:t>Challenge: Development of Health Services Models for “Natural” Clusters of Illness</a:t>
            </a:r>
            <a:endParaRPr b="0" lang="en-US" sz="35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measures of processes of care lack strong links to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able processes of care are not meas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do not target those at highes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do not allow for patient ex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ediate outcome measures are not severity adju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itfalls of Processes of Care Meas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4802760" y="6095880"/>
            <a:ext cx="28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Kerr E </a:t>
            </a:r>
            <a:r>
              <a:rPr b="0" i="1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et al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.  20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ightly Linked” Quality of Care Meas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idence links these process measures to improved outco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ing a beta-blocker to HCTZ in patients with poorly controlled blood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5793480" y="6095880"/>
            <a:ext cx="28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Kerr E </a:t>
            </a:r>
            <a:r>
              <a:rPr b="0" i="1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et al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.  20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161,697 Patients with Diabetes were Examined to Estimate Rates and Reasons for Poor Disease Control  (HbA</a:t>
            </a:r>
            <a:r>
              <a:rPr b="0" lang="en-US" sz="3400" spc="-1" strike="noStrike" baseline="-25000">
                <a:solidFill>
                  <a:srgbClr val="ffff00"/>
                </a:solidFill>
                <a:latin typeface="Arial"/>
              </a:rPr>
              <a:t>1c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, SBP, LDLs)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33520" y="2285640"/>
            <a:ext cx="815328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0% to 23% poor adheren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ong those with adequate adherence, 30% to 47% had no evidence of treatment intensifica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adherence and lack of treatment intensification were found in 53% to 68% of patients with poor disease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4802040" y="6095880"/>
            <a:ext cx="378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Schmittdiel J </a:t>
            </a:r>
            <a:r>
              <a:rPr b="0" i="1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et al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.  200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"/>
          <p:cNvSpPr/>
          <p:nvPr/>
        </p:nvSpPr>
        <p:spPr>
          <a:xfrm>
            <a:off x="304920" y="2133720"/>
            <a:ext cx="2286000" cy="2057400"/>
          </a:xfrm>
          <a:prstGeom prst="rect">
            <a:avLst/>
          </a:prstGeom>
          <a:solidFill>
            <a:srgbClr val="af0f5b"/>
          </a:solidFill>
          <a:ln w="19080">
            <a:solidFill>
              <a:srgbClr val="800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orbid Depression &amp; 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4648320" y="380880"/>
            <a:ext cx="4343400" cy="2133720"/>
          </a:xfrm>
          <a:prstGeom prst="rect">
            <a:avLst/>
          </a:prstGeom>
          <a:solidFill>
            <a:srgbClr val="00b0f0"/>
          </a:solidFill>
          <a:ln w="31680">
            <a:solidFill>
              <a:srgbClr val="800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Adversely affects self-car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adherence to diet, exercise, cessation of smoking, taking medications as prescrib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635360" y="2895480"/>
            <a:ext cx="4356360" cy="3810240"/>
          </a:xfrm>
          <a:prstGeom prst="rect">
            <a:avLst/>
          </a:prstGeom>
          <a:solidFill>
            <a:srgbClr val="00b0f0"/>
          </a:solidFill>
          <a:ln w="31680">
            <a:solidFill>
              <a:srgbClr val="800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Does not affect quality of care measures under more direct physician control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Number of HbA</a:t>
            </a:r>
            <a:r>
              <a:rPr b="0" lang="en-US" sz="2600" spc="-1" strike="noStrike" baseline="-25000">
                <a:solidFill>
                  <a:srgbClr val="57082e"/>
                </a:solidFill>
                <a:latin typeface="Arial"/>
                <a:ea typeface="Arial"/>
              </a:rPr>
              <a:t>1c</a:t>
            </a: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, LDL tests, annual retinal and foot exa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082e"/>
                </a:solidFill>
                <a:latin typeface="Arial"/>
                <a:ea typeface="Arial"/>
              </a:rPr>
              <a:t>Intensification of medication in patients with poor disease 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3" name="Straight Arrow Connector 5"/>
          <p:cNvCxnSpPr/>
          <p:nvPr/>
        </p:nvCxnSpPr>
        <p:spPr>
          <a:xfrm flipV="1">
            <a:off x="2666880" y="1828080"/>
            <a:ext cx="1829520" cy="1220040"/>
          </a:xfrm>
          <a:prstGeom prst="straightConnector1">
            <a:avLst/>
          </a:prstGeom>
          <a:ln w="28440">
            <a:solidFill>
              <a:srgbClr val="ffff66"/>
            </a:solidFill>
            <a:miter/>
            <a:tailEnd len="med" type="arrow" w="med"/>
          </a:ln>
        </p:spPr>
      </p:cxnSp>
      <p:cxnSp>
        <p:nvCxnSpPr>
          <p:cNvPr id="634" name="Straight Arrow Connector 6"/>
          <p:cNvCxnSpPr/>
          <p:nvPr/>
        </p:nvCxnSpPr>
        <p:spPr>
          <a:xfrm>
            <a:off x="2666880" y="3276360"/>
            <a:ext cx="1829520" cy="1067400"/>
          </a:xfrm>
          <a:prstGeom prst="straightConnector1">
            <a:avLst/>
          </a:prstGeom>
          <a:ln w="28440">
            <a:solidFill>
              <a:srgbClr val="ffff66"/>
            </a:solidFill>
            <a:miter/>
            <a:tailEnd len="med" type="arrow" w="med"/>
          </a:ln>
        </p:spPr>
      </p:cxn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581280" y="-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5a14"/>
                </a:solidFill>
                <a:latin typeface="Arial"/>
              </a:rPr>
              <a:t>Comorbid Depression &amp; Diabetes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102"/>
            </a:gs>
            <a:gs pos="100000">
              <a:srgbClr val="5ea7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, ADVANCE and VADT Trial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evidence that intensive glucose control decreased macrovascular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et analysis suggested that patients with shorter duration of diabetes without established atherosclerosis might benefit from intensive glucos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51da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of intensive glucose control might outweigh benefits in those with a long history of diabetes, known history of hypoglycemia, advanced atherosclerosis and advanced age/frag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5716080" y="6172200"/>
            <a:ext cx="28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Skyler </a:t>
            </a:r>
            <a:r>
              <a:rPr b="0" i="1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et al</a:t>
            </a:r>
            <a:r>
              <a:rPr b="0" lang="en-US" sz="2600" spc="-1" strike="noStrike">
                <a:solidFill>
                  <a:srgbClr val="ffff99"/>
                </a:solidFill>
                <a:latin typeface="Arial"/>
                <a:ea typeface="Arial"/>
              </a:rPr>
              <a:t>.  200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21:40:03Z</dcterms:created>
  <dc:creator>amajor</dc:creator>
  <dc:description/>
  <dc:language>en-US</dc:language>
  <cp:lastModifiedBy>Kim Gretka</cp:lastModifiedBy>
  <dcterms:modified xsi:type="dcterms:W3CDTF">2010-10-19T00:05:36Z</dcterms:modified>
  <cp:revision>35</cp:revision>
  <dc:subject/>
  <dc:title>Slide 1</dc:title>
</cp:coreProperties>
</file>