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EFB5-AE86-457F-A203-507D2A4B9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C185-6008-44D1-938C-6FC55259C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8933-1E15-4177-B2DE-AAE03D363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utcomes  - Depression (SCL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 -I and C had similar severity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s- Rapid  improvement   (I)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mos-  improvement  is maintain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Header Placeholder 3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2960" y="4406760"/>
            <a:ext cx="5130720" cy="4173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utcomes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betes  (HbA1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uraging Results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 -I and C showed equally poor glycemic cont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s- Rapid  improvement   (I)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mos-  improvement  contin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Header Placeholder 3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utcomes  - Blood Pressure  (SB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s-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ention-  mean SBP Decreased  (~ 4 mm HG,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- mean SBP Increa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mos- Intervention  improvement  contin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s- ended higher than base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Header Placeholder 3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utcomes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D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encouraging patter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 -I and C showed similarly elevated LDL  poor glycemic cont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s- Rapid  improvement   (I)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mos-   Improvement  contin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Header Placeholder 3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238C-1B82-4BE8-97DF-889660E9D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2ECD-0CEB-44A5-AC8C-29B0BBFA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1200" y="384588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2372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528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900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120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528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900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70000" y="213840"/>
            <a:ext cx="47592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372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1200" y="384588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2372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528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00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120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528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00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0000" y="213840"/>
            <a:ext cx="47592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2372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5324400" y="0"/>
            <a:ext cx="1676520" cy="990720"/>
          </a:xfrm>
          <a:prstGeom prst="rect">
            <a:avLst/>
          </a:prstGeom>
          <a:solidFill>
            <a:srgbClr val="d2c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7086600" y="0"/>
            <a:ext cx="2057400" cy="1000080"/>
          </a:xfrm>
          <a:prstGeom prst="rect">
            <a:avLst/>
          </a:prstGeom>
          <a:solidFill>
            <a:srgbClr val="3d8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5257800" cy="100008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6746760"/>
            <a:ext cx="9144000" cy="111240"/>
          </a:xfrm>
          <a:prstGeom prst="rect">
            <a:avLst/>
          </a:prstGeom>
          <a:solidFill>
            <a:srgbClr val="3d8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small_logo w-green"/>
          <p:cNvPicPr/>
          <p:nvPr/>
        </p:nvPicPr>
        <p:blipFill>
          <a:blip r:embed="rId2"/>
          <a:stretch/>
        </p:blipFill>
        <p:spPr>
          <a:xfrm>
            <a:off x="7496280" y="230040"/>
            <a:ext cx="1160280" cy="555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7" descr="UW_Signature_stacked_sm.png"/>
          <p:cNvPicPr/>
          <p:nvPr/>
        </p:nvPicPr>
        <p:blipFill>
          <a:blip r:embed="rId3"/>
          <a:stretch/>
        </p:blipFill>
        <p:spPr>
          <a:xfrm>
            <a:off x="5553000" y="228600"/>
            <a:ext cx="1247760" cy="6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086600" y="0"/>
            <a:ext cx="2057400" cy="3786120"/>
          </a:xfrm>
          <a:prstGeom prst="rect">
            <a:avLst/>
          </a:prstGeom>
          <a:solidFill>
            <a:srgbClr val="3d8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7010280" cy="378612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746760"/>
            <a:ext cx="9144000" cy="111240"/>
          </a:xfrm>
          <a:prstGeom prst="rect">
            <a:avLst/>
          </a:prstGeom>
          <a:solidFill>
            <a:srgbClr val="3d8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small_logo w-green"/>
          <p:cNvPicPr/>
          <p:nvPr/>
        </p:nvPicPr>
        <p:blipFill>
          <a:blip r:embed="rId2"/>
          <a:stretch/>
        </p:blipFill>
        <p:spPr>
          <a:xfrm>
            <a:off x="7237440" y="2604960"/>
            <a:ext cx="1724040" cy="824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7086600" y="0"/>
            <a:ext cx="2057400" cy="1905120"/>
          </a:xfrm>
          <a:prstGeom prst="rect">
            <a:avLst/>
          </a:prstGeom>
          <a:solidFill>
            <a:srgbClr val="d2c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UW_Signature_stacked_sm.png"/>
          <p:cNvPicPr/>
          <p:nvPr/>
        </p:nvPicPr>
        <p:blipFill>
          <a:blip r:embed="rId3"/>
          <a:stretch/>
        </p:blipFill>
        <p:spPr>
          <a:xfrm>
            <a:off x="7162920" y="457200"/>
            <a:ext cx="186696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765440"/>
            <a:ext cx="5181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thways and TEAMcare Stud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600" y="3857400"/>
            <a:ext cx="83995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ne Katon, M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e VonKorff, S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Lin, MD, MP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 Ciechanowski, MD, MP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tte Ludman, Ph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lyn Rutter, Ph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sie Young, MD, MP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Peterson, 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McCulloch, M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962520" y="54864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versity of Washington School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oup Health Research Instit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MH Grants MH 41739 and MH 01643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r. K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care Interventi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diabetes nurse educ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load super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: 2 psychiatr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and CAD: nephrologist, family 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to diabetologist for complex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al interview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ral acti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depress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-to-TARGET: blood glucose, HTN, LD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care Summary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" y="1371600"/>
          <a:ext cx="9039240" cy="503064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  <a:gridCol w="1447560"/>
                <a:gridCol w="609840"/>
                <a:gridCol w="838080"/>
                <a:gridCol w="838080"/>
                <a:gridCol w="838440"/>
                <a:gridCol w="1371600"/>
                <a:gridCol w="141912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it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l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Enroll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PH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L      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L    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HbA</a:t>
                      </a:r>
                      <a:r>
                        <a:rPr b="0" lang="en-US" sz="2000" spc="-1" strike="noStrike" baseline="-25000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c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L   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LD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L   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9/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/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/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3   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8  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9/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8/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0/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2   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8  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/12/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0/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/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4   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8   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/30/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/1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6/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3   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9  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Y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/23/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9/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1/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1   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     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ing Adh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 self-care materials: book and video on depression, patient manual (Tools for Managing Your Chronic Dise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se support/education/motivational interview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ying medication regi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 generics to avoid $10 co-p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Care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meters: Group Health prov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blood pressure mon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dometers to increase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sets to improve adh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s of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e on depression initiall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pressant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Diseas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patient adhering to medication regim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dhering and in poor control, is patient on optimal dosag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maximum dosage has been reached should a new medication be tried instead or augmentation of initial medic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recommendations of medication changes are reviewed with primary care physician for appro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-to-TARGET Guide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ses ask for physician approval for gradually increasing insulin or blood pressure medications based on these guid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ral activation/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tary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ing blood glucose/altering insu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ssation of smo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0" descr="12-11-09 SCL Score Means"/>
          <p:cNvPicPr/>
          <p:nvPr/>
        </p:nvPicPr>
        <p:blipFill>
          <a:blip r:embed="rId1"/>
          <a:stretch/>
        </p:blipFill>
        <p:spPr>
          <a:xfrm>
            <a:off x="1066680" y="152280"/>
            <a:ext cx="7216920" cy="524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152280" y="5494320"/>
          <a:ext cx="8839440" cy="1135080"/>
        </p:xfrm>
        <a:graphic>
          <a:graphicData uri="http://schemas.openxmlformats.org/drawingml/2006/table">
            <a:tbl>
              <a:tblPr/>
              <a:tblGrid>
                <a:gridCol w="3353040"/>
                <a:gridCol w="1904760"/>
                <a:gridCol w="1812960"/>
                <a:gridCol w="1768680"/>
              </a:tblGrid>
              <a:tr h="4518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tervention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.7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0.8 (9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0.8 (9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ontrol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.7 (10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.3 (9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.1 (9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9640" y="213840"/>
            <a:ext cx="94932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ean of SCL Score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Services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care approaches have been shown to improve quality of care and outcomes of patients with depression, diabetes, asthma and CH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plex and medical costly patients often have multiple comorbidities including at least one mental health diagno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0" descr="12-11-09 HbA1c Means"/>
          <p:cNvPicPr/>
          <p:nvPr/>
        </p:nvPicPr>
        <p:blipFill>
          <a:blip r:embed="rId1"/>
          <a:stretch/>
        </p:blipFill>
        <p:spPr>
          <a:xfrm>
            <a:off x="1066680" y="0"/>
            <a:ext cx="733428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0" y="5562720"/>
          <a:ext cx="9144000" cy="1135080"/>
        </p:xfrm>
        <a:graphic>
          <a:graphicData uri="http://schemas.openxmlformats.org/drawingml/2006/table">
            <a:tbl>
              <a:tblPr/>
              <a:tblGrid>
                <a:gridCol w="3468600"/>
                <a:gridCol w="1970280"/>
                <a:gridCol w="1876320"/>
                <a:gridCol w="1828800"/>
              </a:tblGrid>
              <a:tr h="4518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tervention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8.1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7.4 (9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7.3 (1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ontrol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8.0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7.9 (9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7.8 (  9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ean of HbA1c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0" descr="12-11-09 Systolic BP Means"/>
          <p:cNvPicPr/>
          <p:nvPr/>
        </p:nvPicPr>
        <p:blipFill>
          <a:blip r:embed="rId1"/>
          <a:stretch/>
        </p:blipFill>
        <p:spPr>
          <a:xfrm>
            <a:off x="685800" y="76320"/>
            <a:ext cx="7543800" cy="548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7000" y="5638680"/>
          <a:ext cx="9067680" cy="1135080"/>
        </p:xfrm>
        <a:graphic>
          <a:graphicData uri="http://schemas.openxmlformats.org/drawingml/2006/table">
            <a:tbl>
              <a:tblPr/>
              <a:tblGrid>
                <a:gridCol w="3440160"/>
                <a:gridCol w="1954080"/>
                <a:gridCol w="1860480"/>
                <a:gridCol w="1812960"/>
              </a:tblGrid>
              <a:tr h="4518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tervention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5.7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1.9 (10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1.0 (1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ontrol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1.9 (10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3.5 (1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2.3 (1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12952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ean of Systolic BP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0" descr="12-11-09 LDL Score Means"/>
          <p:cNvPicPr/>
          <p:nvPr/>
        </p:nvPicPr>
        <p:blipFill>
          <a:blip r:embed="rId1"/>
          <a:stretch/>
        </p:blipFill>
        <p:spPr>
          <a:xfrm>
            <a:off x="768240" y="76320"/>
            <a:ext cx="7080480" cy="51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52280" y="5418000"/>
          <a:ext cx="8839440" cy="1135080"/>
        </p:xfrm>
        <a:graphic>
          <a:graphicData uri="http://schemas.openxmlformats.org/drawingml/2006/table">
            <a:tbl>
              <a:tblPr/>
              <a:tblGrid>
                <a:gridCol w="3353040"/>
                <a:gridCol w="1904760"/>
                <a:gridCol w="1812960"/>
                <a:gridCol w="1768680"/>
              </a:tblGrid>
              <a:tr h="4518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tervention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06.8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91.9 (9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ontrol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09.4 (10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01.4 (9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568080" cy="12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ean of LDL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4-22-10 table 2 any adjustm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762120" y="152280"/>
            <a:ext cx="762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88cb6"/>
                </a:solidFill>
                <a:latin typeface="Arial"/>
              </a:rPr>
              <a:t>Any Adjustmen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isfaction with Care of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Chart 2.png"/>
          <p:cNvPicPr/>
          <p:nvPr/>
        </p:nvPicPr>
        <p:blipFill>
          <a:blip r:embed="rId1"/>
          <a:stretch/>
        </p:blipFill>
        <p:spPr>
          <a:xfrm>
            <a:off x="0" y="1143000"/>
            <a:ext cx="9153360" cy="56386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9"/>
          <p:cNvSpPr/>
          <p:nvPr/>
        </p:nvSpPr>
        <p:spPr>
          <a:xfrm>
            <a:off x="3733920" y="114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5715000" y="1219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886360" y="6308640"/>
            <a:ext cx="10670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isfaction with Care of Diabetes and/or 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Chart 3.png"/>
          <p:cNvPicPr/>
          <p:nvPr/>
        </p:nvPicPr>
        <p:blipFill>
          <a:blip r:embed="rId1"/>
          <a:stretch/>
        </p:blipFill>
        <p:spPr>
          <a:xfrm>
            <a:off x="0" y="1119240"/>
            <a:ext cx="9144000" cy="5742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9"/>
          <p:cNvSpPr/>
          <p:nvPr/>
        </p:nvSpPr>
        <p:spPr>
          <a:xfrm>
            <a:off x="3809880" y="1143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791320" y="129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867280" y="6400800"/>
            <a:ext cx="10670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es of scale: New health services interventions are needed for patients with multiple comorbidities (one of which is a psychiatric disorder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AMcare model is a promising approach to improving depression and medical disease contro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ression, diabetes and heart disease are among the most common illnesses in aging populations but fewer than 4% of Medicare beneficiaries with any of these three illnesses have no other chronic medical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% of those with CHF, 71% with depression and 56% with diabetes have 4 or more chronic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ship for Solutions 200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990720"/>
            <a:ext cx="5257800" cy="99036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219320"/>
            <a:ext cx="47592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1,697 Patients with Diabetes were Examined to Estimate Rates and Reasons for Poor Disease Control  (Hb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BP, LD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1760" y="2209680"/>
            <a:ext cx="7908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 to 23% poor adheren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ng those with adequate adherence, 30% to 47% had no evidence of treatment intensific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adherence and lack of treatment intensification were found in 53% to 68% of patients with poor diseas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876920" y="60199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Schmittdiel J, et al. 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0" y="990720"/>
            <a:ext cx="5257800" cy="83808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4759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: Development of Health Services Models for “Natural” Clusters of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  Illnesses with high prevalence, high comorbidity and bidirectional adverse inter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24624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1132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, CAD,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1132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, chronic pain, substance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0" y="990720"/>
            <a:ext cx="5257800" cy="68580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214200"/>
            <a:ext cx="475920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NIMH-Funded Study: TEAMcare Inclusion 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09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 via automated date (ICD-9) of having diabetes and/or coronary artery disease (CA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 of poor disease control (Hb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8.5, blood pressure &gt;140/90, LDL &gt;13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Q-9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8272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 GH clinics (e.g. Olympia, Everett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Silverdale, and BVU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0 primary care physicians sign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ons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,838 PHQ-2 screeners mai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4 Patients rando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1132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6 Intervention (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1132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care Intervention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depression care: behavioral activation and antidepress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medical disease control: Hb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TN, LD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self-care (diet, exercise, cessation of smoking, glucose check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040" y="1143000"/>
            <a:ext cx="79088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se Care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Goals – specific, measura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P, Hb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HQ-9, # ste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Progress of Targets – systematic, pro-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-to-Target – relentless adjustment, INDIVIDU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elf-Care – adherence to medication adju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linical Review – supervised case reviews, Tx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20:51:20Z</dcterms:created>
  <dc:creator>Admin</dc:creator>
  <dc:description/>
  <dc:language>en-US</dc:language>
  <cp:lastModifiedBy>Kim Gretka</cp:lastModifiedBy>
  <dcterms:modified xsi:type="dcterms:W3CDTF">2010-10-18T23:58:52Z</dcterms:modified>
  <cp:revision>130</cp:revision>
  <dc:subject/>
  <dc:title>The TEAMcare Care Manager Role</dc:title>
</cp:coreProperties>
</file>