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9294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295200" cy="70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5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5265720" y="-360"/>
            <a:ext cx="4029120" cy="35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2901600" y="525600"/>
            <a:ext cx="3505320" cy="262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Palatino Linotype"/>
              </a:rPr>
              <a:t>Click to move the slide</a:t>
            </a:r>
            <a:endParaRPr b="0" lang="en-US" sz="40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29880" y="3330720"/>
            <a:ext cx="7435800" cy="31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6657480"/>
            <a:ext cx="4029120" cy="35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5265720" y="6657480"/>
            <a:ext cx="4029120" cy="35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AFA83B12-6494-4CA8-B320-147B05D1A1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491534C3-8D7F-4937-850D-021788FC08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90196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29880" y="3330720"/>
            <a:ext cx="743580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90196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29880" y="3330720"/>
            <a:ext cx="743580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A58AA303-239F-47BD-8D72-6350ED713E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290196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29880" y="3330720"/>
            <a:ext cx="743580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80E61E96-8B00-4081-9F22-F285F65667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90196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29880" y="3330720"/>
            <a:ext cx="743580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3C3223DA-FA33-4894-A586-EBF529C711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290196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29880" y="3330720"/>
            <a:ext cx="743580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AA4BB229-E9D8-4E2A-A631-9A8A344263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290196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29880" y="3330720"/>
            <a:ext cx="743580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4E0CB14D-786F-4F78-99B8-75C5F1D6FA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6FFE-7052-409E-B62C-DB8F32A24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4067640"/>
            <a:ext cx="8077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A895-4E69-4355-B368-DE9FE7CE1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41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8400" y="1599840"/>
            <a:ext cx="3941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4067640"/>
            <a:ext cx="3941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8400" y="4067640"/>
            <a:ext cx="3941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2289-10AB-48B4-956A-8446C6236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0080" y="15998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1400" y="15998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40676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0080" y="40676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1400" y="40676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1949-3C73-497D-867D-CF5D3FCFA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1FA06-24B8-4514-B116-84329A5CF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1F527-98E9-463A-A453-AECF51FAD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1942F-8337-4BD7-BE3E-3D1162436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41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48400" y="1599840"/>
            <a:ext cx="3941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62D12-0467-4549-902D-7D61611A9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ABB2B-C79C-413F-ADB6-6CAE4F1E7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120" y="228240"/>
            <a:ext cx="80773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9D366-4F27-45BE-9B65-445D5B36A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41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48400" y="1599840"/>
            <a:ext cx="3941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120" y="4067640"/>
            <a:ext cx="3941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E57EB-8BE7-43B8-8DAC-D41F7DEC7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2639-1CB8-4135-91A2-EEDAE3953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41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8400" y="1599840"/>
            <a:ext cx="3941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48400" y="4067640"/>
            <a:ext cx="3941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090B9-0CB2-43C1-AAC8-5A8B503A7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41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8400" y="1599840"/>
            <a:ext cx="3941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120" y="4067640"/>
            <a:ext cx="8077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77F3C-91DC-46A3-B70E-DDFA555FA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120" y="4067640"/>
            <a:ext cx="8077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448F4-F268-436E-92ED-739BA3868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41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8400" y="1599840"/>
            <a:ext cx="3941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120" y="4067640"/>
            <a:ext cx="3941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48400" y="4067640"/>
            <a:ext cx="3941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06DA2-A2FD-480A-86EC-C5275E812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40080" y="15998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71400" y="15998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120" y="40676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40080" y="40676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71400" y="40676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23BC4-7784-49F7-B892-E151E9F5E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B184-7D73-49F0-889F-683ED1E33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41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8400" y="1599840"/>
            <a:ext cx="3941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8DDE-002F-4BE9-845F-6C2C5FE39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B503-10A8-4C83-AD10-7E45506FE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228240"/>
            <a:ext cx="80773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181B-75A9-4449-A567-0E49BDA64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41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8400" y="1599840"/>
            <a:ext cx="3941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4067640"/>
            <a:ext cx="3941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7663-8DC7-4668-95F3-3562044DE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41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8400" y="1599840"/>
            <a:ext cx="3941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8400" y="4067640"/>
            <a:ext cx="3941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AD73-6E80-469B-8BE7-BF8F3C0DF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41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8400" y="1599840"/>
            <a:ext cx="3941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4067640"/>
            <a:ext cx="8077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CF3C-3C97-4C30-9D0F-B79D3242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edde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Palatino Linotype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Palatino Linotype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Palatino Linotype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Palatino Linotype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Palatino Linotype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Palatino Linotype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Palatino Linotype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Palatino Linotype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Palatino Linotype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Palatino Linotype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533640"/>
            <a:ext cx="2133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73934-3CF2-41FC-8854-3F38CBDCB6AA}" type="datetime"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531120"/>
            <a:ext cx="4038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320" y="6531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BE676-4832-443B-9CB3-25CD1C8CBD19}" type="slidenum"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edde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IHA logo colored for print"/>
          <p:cNvPicPr/>
          <p:nvPr/>
        </p:nvPicPr>
        <p:blipFill>
          <a:blip r:embed="rId2"/>
          <a:stretch/>
        </p:blipFill>
        <p:spPr>
          <a:xfrm>
            <a:off x="8142120" y="152280"/>
            <a:ext cx="847800" cy="12193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Palatino Linotype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Palatino Linotype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Palatino Linotype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Palatino Linotype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Palatino Linotype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Palatino Linotype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Palatino Linotype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Palatino Linotype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Palatino Linotype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Palatino Linotype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5992C-F630-4B67-8386-9FAE9EF9A3FB}" type="datetime"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B9B0D-F83E-4E3F-ABE8-1A6633509218}" type="slidenum"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chqpr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iha.org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edde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160" y="83808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Palatino Linotype"/>
              </a:rPr>
              <a:t>Bundled Episode Payment and Gainsharing Demonstration Project</a:t>
            </a:r>
            <a:br>
              <a:rPr sz="4000"/>
            </a:br>
            <a:endParaRPr b="0" lang="en-US" sz="40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410080" y="5409720"/>
            <a:ext cx="327672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Palatino Linotype"/>
              </a:rPr>
              <a:t>Weslie Kary, MPP, MPH</a:t>
            </a:r>
            <a:endParaRPr b="0" lang="en-US" sz="1600" spc="-1" strike="noStrike">
              <a:solidFill>
                <a:srgbClr val="003366"/>
              </a:solidFill>
              <a:latin typeface="Palatino Linotype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Palatino Linotype"/>
              </a:rPr>
              <a:t>Program Director </a:t>
            </a:r>
            <a:endParaRPr b="0" lang="en-US" sz="1600" spc="-1" strike="noStrike">
              <a:solidFill>
                <a:srgbClr val="003366"/>
              </a:solidFill>
              <a:latin typeface="Palatino Linotype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Palatino Linotype"/>
              </a:rPr>
              <a:t>Integrated Healthcare Association</a:t>
            </a:r>
            <a:r>
              <a:rPr b="0" lang="en-US" sz="16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Palatino Linotype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Palatino Linotype"/>
            </a:endParaRPr>
          </a:p>
        </p:txBody>
      </p:sp>
      <p:pic>
        <p:nvPicPr>
          <p:cNvPr id="94" name="Picture 8" descr="IHA logo colored for print"/>
          <p:cNvPicPr/>
          <p:nvPr/>
        </p:nvPicPr>
        <p:blipFill>
          <a:blip r:embed="rId2"/>
          <a:stretch/>
        </p:blipFill>
        <p:spPr>
          <a:xfrm>
            <a:off x="507960" y="3657600"/>
            <a:ext cx="1219320" cy="1755720"/>
          </a:xfrm>
          <a:prstGeom prst="rect">
            <a:avLst/>
          </a:prstGeom>
          <a:ln w="0">
            <a:noFill/>
          </a:ln>
        </p:spPr>
      </p:pic>
      <p:sp>
        <p:nvSpPr>
          <p:cNvPr id="95" name="TextBox 6"/>
          <p:cNvSpPr/>
          <p:nvPr/>
        </p:nvSpPr>
        <p:spPr>
          <a:xfrm>
            <a:off x="1295280" y="4010040"/>
            <a:ext cx="6629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Palatino Linotype"/>
              </a:rPr>
              <a:t>Agency for Healthcare Research and Quality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Palatino Linotype"/>
              </a:rPr>
              <a:t>2010 Annual Meeting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Palatino Linotype"/>
              </a:rPr>
              <a:t>September 27, 2010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6" name="AutoShape 2"/>
          <p:cNvSpPr/>
          <p:nvPr/>
        </p:nvSpPr>
        <p:spPr>
          <a:xfrm>
            <a:off x="63360" y="-136440"/>
            <a:ext cx="563904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7" name="AutoShape 4"/>
          <p:cNvSpPr/>
          <p:nvPr/>
        </p:nvSpPr>
        <p:spPr>
          <a:xfrm>
            <a:off x="63360" y="-136440"/>
            <a:ext cx="563904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8" name="AutoShape 6"/>
          <p:cNvSpPr/>
          <p:nvPr/>
        </p:nvSpPr>
        <p:spPr>
          <a:xfrm>
            <a:off x="63360" y="-136440"/>
            <a:ext cx="6810480" cy="27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edde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Palatino Linotype"/>
              </a:rPr>
              <a:t>Overview</a:t>
            </a:r>
            <a:endParaRPr b="0" lang="en-US" sz="40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09120" y="15998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Palatino Linotype"/>
              </a:rPr>
              <a:t>What is bundled or “episode” payment?</a:t>
            </a: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Palatino Linotype"/>
              </a:rPr>
              <a:t>Why do it?</a:t>
            </a: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Palatino Linotype"/>
              </a:rPr>
              <a:t>IHA bundled episode and gain-sharing demonstration and evaluation plan</a:t>
            </a: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6781680" y="6531120"/>
            <a:ext cx="2057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98057-2268-4EB9-B56E-0F43D7943F3F}" type="slidenum"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edde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Palatino Linotype"/>
              </a:rPr>
              <a:t>What is bundled (episode) payment?</a:t>
            </a:r>
            <a:endParaRPr b="0" lang="en-US" sz="40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091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700"/>
              </a:spcBef>
              <a:buClr>
                <a:srgbClr val="0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Palatino Linotype"/>
              </a:rPr>
              <a:t>A single prospective price for all services needed by the patient over an episode of care.</a:t>
            </a: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  <a:p>
            <a:pPr marL="182520" indent="-182520">
              <a:spcBef>
                <a:spcPts val="700"/>
              </a:spcBef>
              <a:buClr>
                <a:srgbClr val="0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Palatino Linotype"/>
              </a:rPr>
              <a:t>Defined on parameters of time and services.</a:t>
            </a: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  <a:p>
            <a:pPr marL="182520" indent="-182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  <a:p>
            <a:pPr marL="182520" indent="-182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  <a:p>
            <a:pPr marL="182520" indent="-182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6781680" y="6531120"/>
            <a:ext cx="2057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11ABC-0E87-4B77-9917-75A94645541E}" type="slidenum"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1066680" y="2590920"/>
            <a:ext cx="6705720" cy="380988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5"/>
          <p:cNvSpPr/>
          <p:nvPr/>
        </p:nvSpPr>
        <p:spPr>
          <a:xfrm>
            <a:off x="304920" y="6400800"/>
            <a:ext cx="82296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Source: Center for Healthcare  Quality and Payment Reform, </a:t>
            </a:r>
            <a:r>
              <a:rPr b="0" i="1" lang="en-US" sz="1200" spc="-1" strike="noStrike">
                <a:solidFill>
                  <a:srgbClr val="000000"/>
                </a:solidFill>
                <a:latin typeface="Palatino Linotype"/>
              </a:rPr>
              <a:t>Transitioning to Episode-Based Payment </a:t>
            </a: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(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Palatino Linotype"/>
                <a:hlinkClick r:id="rId2"/>
              </a:rPr>
              <a:t>http://www.chqpr.org</a:t>
            </a: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edde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Palatino Linotype"/>
              </a:rPr>
              <a:t>Why bundle? Problems with current payment options…</a:t>
            </a:r>
            <a:endParaRPr b="0" lang="en-US" sz="40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560" y="1981080"/>
            <a:ext cx="87627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Palatino Linotype"/>
              </a:rPr>
              <a:t>Fee for service:</a:t>
            </a:r>
            <a:r>
              <a:rPr b="0" lang="en-US" sz="2800" spc="-1" strike="noStrike">
                <a:solidFill>
                  <a:srgbClr val="003366"/>
                </a:solidFill>
                <a:latin typeface="Palatino Linotype"/>
              </a:rPr>
              <a:t> rewards volume of services, not appropriateness or coordination of care.</a:t>
            </a: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  <a:p>
            <a:pPr marL="339480" indent="-339480"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Palatino Linotype"/>
              </a:rPr>
              <a:t>Global capitation:</a:t>
            </a:r>
            <a:r>
              <a:rPr b="0" lang="en-US" sz="2800" spc="-1" strike="noStrike">
                <a:solidFill>
                  <a:srgbClr val="003366"/>
                </a:solidFill>
                <a:latin typeface="Palatino Linotype"/>
              </a:rPr>
              <a:t> shifts too much risk to providers, creates incentive for risk selection.</a:t>
            </a: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  <a:p>
            <a:pPr marL="339480" indent="-339480"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Palatino Linotype"/>
              </a:rPr>
              <a:t>Pay-for-performance:</a:t>
            </a:r>
            <a:r>
              <a:rPr b="0" lang="en-US" sz="2800" spc="-1" strike="noStrike">
                <a:solidFill>
                  <a:srgbClr val="003366"/>
                </a:solidFill>
                <a:latin typeface="Palatino Linotype"/>
              </a:rPr>
              <a:t> when framed as quality bonus, does not move enough money.</a:t>
            </a: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  <a:p>
            <a:pPr marL="339480" indent="-339480">
              <a:spcBef>
                <a:spcPts val="3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Palatino Linotype"/>
            </a:endParaRPr>
          </a:p>
          <a:p>
            <a:pPr marL="339480" indent="-33948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Palatino Linotype"/>
              </a:rPr>
              <a:t>Is bundled payment a workable compromise?</a:t>
            </a:r>
            <a:endParaRPr b="0" lang="en-US" sz="32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6781680" y="6531120"/>
            <a:ext cx="2057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EB15E-3AE7-47B6-8AA6-5D65E835BDCF}" type="slidenum"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edde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Palatino Linotype"/>
              </a:rPr>
              <a:t> </a:t>
            </a:r>
            <a:r>
              <a:rPr b="0" lang="en-US" sz="4000" spc="-1" strike="noStrike">
                <a:solidFill>
                  <a:srgbClr val="003366"/>
                </a:solidFill>
                <a:latin typeface="Palatino Linotype"/>
              </a:rPr>
              <a:t>Some people think so…</a:t>
            </a:r>
            <a:endParaRPr b="0" lang="en-US" sz="40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781680" y="6531120"/>
            <a:ext cx="2057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4A6B7-B861-4124-B418-76C375B8B3AE}" type="slidenum"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2" name="TextBox 8"/>
          <p:cNvSpPr/>
          <p:nvPr/>
        </p:nvSpPr>
        <p:spPr>
          <a:xfrm>
            <a:off x="457200" y="335268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Palatino Linotype"/>
              </a:rPr>
              <a:t>CMS ACE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Palatino Linotype"/>
              </a:rPr>
              <a:t>Demonstration  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3" name="TextBox 9"/>
          <p:cNvSpPr/>
          <p:nvPr/>
        </p:nvSpPr>
        <p:spPr>
          <a:xfrm>
            <a:off x="3429000" y="335268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Palatino Linotype"/>
              </a:rPr>
              <a:t>Geisinger ProvenCare</a:t>
            </a:r>
            <a:r>
              <a:rPr b="0" lang="en-US" sz="2400" spc="-1" strike="noStrike" baseline="30000">
                <a:solidFill>
                  <a:srgbClr val="003366"/>
                </a:solidFill>
                <a:latin typeface="Palatino Linotype"/>
              </a:rPr>
              <a:t>TM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4" name="TextBox 10"/>
          <p:cNvSpPr/>
          <p:nvPr/>
        </p:nvSpPr>
        <p:spPr>
          <a:xfrm>
            <a:off x="6400800" y="3352680"/>
            <a:ext cx="190512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Palatino Linotype"/>
              </a:rPr>
              <a:t>Prometheus Payment</a:t>
            </a:r>
            <a:r>
              <a:rPr b="0" lang="en-US" sz="2400" spc="-1" strike="noStrike" baseline="30000">
                <a:solidFill>
                  <a:srgbClr val="003366"/>
                </a:solidFill>
                <a:latin typeface="Palatino Linotype"/>
              </a:rPr>
              <a:t>TM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457200" y="990720"/>
            <a:ext cx="8458200" cy="5572080"/>
            <a:chOff x="457200" y="990720"/>
            <a:chExt cx="8458200" cy="5572080"/>
          </a:xfrm>
        </p:grpSpPr>
        <p:pic>
          <p:nvPicPr>
            <p:cNvPr id="116" name="Picture 16" descr="Cancer Care at Baptist Health System Hospitals in San Antonio"/>
            <p:cNvPicPr/>
            <p:nvPr/>
          </p:nvPicPr>
          <p:blipFill>
            <a:blip r:embed="rId1"/>
            <a:stretch/>
          </p:blipFill>
          <p:spPr>
            <a:xfrm>
              <a:off x="457200" y="990720"/>
              <a:ext cx="230004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Picture 7" descr=""/>
            <p:cNvPicPr/>
            <p:nvPr/>
          </p:nvPicPr>
          <p:blipFill>
            <a:blip r:embed="rId2"/>
            <a:stretch/>
          </p:blipFill>
          <p:spPr>
            <a:xfrm>
              <a:off x="3276360" y="990720"/>
              <a:ext cx="228600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Picture 6" descr=""/>
            <p:cNvPicPr/>
            <p:nvPr/>
          </p:nvPicPr>
          <p:blipFill>
            <a:blip r:embed="rId3"/>
            <a:stretch/>
          </p:blipFill>
          <p:spPr>
            <a:xfrm>
              <a:off x="6172200" y="990720"/>
              <a:ext cx="274320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Picture 10" descr="C:\Documents and Settings\wkary\Local Settings\Temporary Internet Files\Content.IE5\KVA1E8F7\MP900401099[1].jpg"/>
            <p:cNvPicPr/>
            <p:nvPr/>
          </p:nvPicPr>
          <p:blipFill>
            <a:blip r:embed="rId4"/>
            <a:srcRect l="0" t="0" r="2343" b="11720"/>
            <a:stretch/>
          </p:blipFill>
          <p:spPr>
            <a:xfrm>
              <a:off x="457200" y="4267440"/>
              <a:ext cx="3809880" cy="229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" name="TextBox 10"/>
          <p:cNvSpPr/>
          <p:nvPr/>
        </p:nvSpPr>
        <p:spPr>
          <a:xfrm>
            <a:off x="4572000" y="4245120"/>
            <a:ext cx="4419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60" indent="-9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Palatino Linotype"/>
              </a:rPr>
              <a:t>PPACA…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90360" indent="-90360"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Palatino Linotype"/>
              </a:rPr>
              <a:t>Expand ACE Demo, include post-acute care by 2013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90360" indent="-90360"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Palatino Linotype"/>
              </a:rPr>
              <a:t>Demonstrate in Medicaid population by 2012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90360" indent="-90360"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Palatino Linotype"/>
              </a:rPr>
              <a:t>Bundle payments in ACO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edde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Palatino Linotype"/>
              </a:rPr>
              <a:t>IHA </a:t>
            </a:r>
            <a:r>
              <a:rPr b="0" lang="en-US" sz="3600" spc="-1" strike="noStrike">
                <a:solidFill>
                  <a:srgbClr val="003366"/>
                </a:solidFill>
                <a:latin typeface="Palatino Linotype"/>
              </a:rPr>
              <a:t>Demonstration Project</a:t>
            </a:r>
            <a:endParaRPr b="0" lang="en-US" sz="36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066680"/>
            <a:ext cx="86104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Palatino Linotype"/>
              </a:rPr>
              <a:t>Focus:  </a:t>
            </a:r>
            <a:r>
              <a:rPr b="0" lang="en-US" sz="2800" spc="-1" strike="noStrike">
                <a:solidFill>
                  <a:srgbClr val="003366"/>
                </a:solidFill>
                <a:latin typeface="Palatino Linotype"/>
              </a:rPr>
              <a:t>Major procedures and acute conditions, orthopedic first</a:t>
            </a:r>
            <a:r>
              <a:rPr b="0" lang="en-US" sz="28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3366"/>
                </a:solidFill>
                <a:latin typeface="Palatino Linotype"/>
              </a:rPr>
              <a:t> cardiac and other.</a:t>
            </a: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Palatino Linotype"/>
              </a:rPr>
              <a:t>First participants:  </a:t>
            </a:r>
            <a:r>
              <a:rPr b="0" lang="en-US" sz="2800" spc="-1" strike="noStrike">
                <a:solidFill>
                  <a:srgbClr val="003366"/>
                </a:solidFill>
                <a:latin typeface="Palatino Linotype"/>
              </a:rPr>
              <a:t>Monarch HealthCare, Cedars-Sinai, Hoag Hospital, Saddleback Memorial, Tenet, UCLA,  Aetna, Blue Shield, CIGNA, HealthNet </a:t>
            </a:r>
            <a:r>
              <a:rPr b="0" lang="en-US" sz="28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3366"/>
                </a:solidFill>
                <a:latin typeface="Palatino Linotype"/>
              </a:rPr>
              <a:t> all California.</a:t>
            </a: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Palatino Linotype"/>
              </a:rPr>
              <a:t>First populations:  </a:t>
            </a:r>
            <a:r>
              <a:rPr b="0" lang="en-US" sz="2800" spc="-1" strike="noStrike">
                <a:solidFill>
                  <a:srgbClr val="003366"/>
                </a:solidFill>
                <a:latin typeface="Palatino Linotype"/>
              </a:rPr>
              <a:t>Commercial PPO </a:t>
            </a:r>
            <a:r>
              <a:rPr b="0" lang="en-US" sz="28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3366"/>
                </a:solidFill>
                <a:latin typeface="Palatino Linotype"/>
              </a:rPr>
              <a:t>HMO, Medicaid Managed Care and Medicare Advantage.</a:t>
            </a: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Palatino Linotype"/>
              </a:rPr>
              <a:t>Episode definition:  </a:t>
            </a:r>
            <a:r>
              <a:rPr b="0" lang="en-US" sz="2800" spc="-1" strike="noStrike">
                <a:solidFill>
                  <a:srgbClr val="003366"/>
                </a:solidFill>
                <a:latin typeface="Palatino Linotype"/>
              </a:rPr>
              <a:t>Date of surgery + 90 days, includes acute and routine follow-up, complications within 90-days, related readmits.</a:t>
            </a: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6781680" y="6531120"/>
            <a:ext cx="2057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90CFD-11DC-4922-B951-E2CA69AEB428}" type="slidenum"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edde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Palatino Linotype"/>
              </a:rPr>
              <a:t>Demonstration evaluation</a:t>
            </a:r>
            <a:endParaRPr b="0" lang="en-US" sz="40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Palatino Linotype"/>
              </a:rPr>
              <a:t>What happened? Was model scalable? What facilitates success, what bodes failure? (RAND: Susan Ridgely, Peter Hussey)</a:t>
            </a:r>
            <a:endParaRPr b="0" lang="en-US" sz="3200" spc="-1" strike="noStrike">
              <a:solidFill>
                <a:srgbClr val="003366"/>
              </a:solidFill>
              <a:latin typeface="Palatino Linotype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Palatino Linotype"/>
              </a:rPr>
              <a:t>Was quality of care for orthopedic patients maintained compared to control hospitals? (U.C. San Francisco: Kevin Bozic, Steve Takemoto)</a:t>
            </a:r>
            <a:endParaRPr b="0" lang="en-US" sz="3200" spc="-1" strike="noStrike">
              <a:solidFill>
                <a:srgbClr val="003366"/>
              </a:solidFill>
              <a:latin typeface="Palatino Linotype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Palatino Linotype"/>
              </a:rPr>
              <a:t>Did efficiency go up, costs of care go down compared to baseline period? (U.C. Berkeley: James Robinson, Samuel Tseng)</a:t>
            </a:r>
            <a:endParaRPr b="0" lang="en-US" sz="3200" spc="-1" strike="noStrike">
              <a:solidFill>
                <a:srgbClr val="003366"/>
              </a:solidFill>
              <a:latin typeface="Palatino Linotype"/>
            </a:endParaRPr>
          </a:p>
          <a:p>
            <a:pPr marL="312120" indent="-3121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Palatino Linotype"/>
              </a:rPr>
              <a:t>More info: </a:t>
            </a:r>
            <a:r>
              <a:rPr b="1" lang="en-US" sz="3600" spc="-1" strike="noStrike" u="sng">
                <a:solidFill>
                  <a:srgbClr val="2b3262"/>
                </a:solidFill>
                <a:uFillTx/>
                <a:latin typeface="Palatino Linotype"/>
                <a:hlinkClick r:id="rId1"/>
              </a:rPr>
              <a:t>http://www.iha.org</a:t>
            </a:r>
            <a:endParaRPr b="0" lang="en-US" sz="3600" spc="-1" strike="noStrike">
              <a:solidFill>
                <a:srgbClr val="003366"/>
              </a:solidFill>
              <a:latin typeface="Palatino Linotype"/>
            </a:endParaRPr>
          </a:p>
          <a:p>
            <a:pPr marL="312120" indent="-312120">
              <a:spcBef>
                <a:spcPts val="901"/>
              </a:spcBef>
              <a:buClr>
                <a:srgbClr val="0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6781680" y="6531120"/>
            <a:ext cx="2057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50DE3-8043-4C78-ADDA-044BB7E8E36E}" type="slidenum"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0T22:15:31Z</dcterms:created>
  <dc:creator>Cindy Ernst</dc:creator>
  <dc:description/>
  <dc:language>en-US</dc:language>
  <cp:lastModifiedBy>Graham</cp:lastModifiedBy>
  <dcterms:modified xsi:type="dcterms:W3CDTF">2010-10-22T17:17:33Z</dcterms:modified>
  <cp:revision>475</cp:revision>
  <dc:subject/>
  <dc:title>Project Update for the Value Assessment and Purchasing (VAP) Medical Device Projec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97761033</vt:lpwstr>
  </property>
</Properties>
</file>