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90160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F2BE4AC-6F3A-4DF7-B7AA-C4CDABC44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A539A61-CF5D-42F8-A4A2-6B7074B20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9B3265C-E19A-45FA-9303-F3D032422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5107BA6-B8F2-4770-AE27-96F7D17EB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CAC54F8-127F-433F-8C9E-5CFA924CF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C0F7867-5856-4609-92A5-EDAB96A60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B7DBB0E-D8A8-4D8F-BA7A-4B959D060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A21-6C8C-41A9-8789-972470E3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016-E430-4319-ACA8-86418487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5B9-37C2-444B-BCF1-F7506B3D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4AB-0B96-41DC-BC17-28B4A740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B5E3-8DB5-4FDC-9894-E38B2769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EBAB-FE22-49E8-B01F-C209450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458E-4E54-4D45-B5D5-9A4182FA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6D2B-6E45-4F3C-B6F2-EE773570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A40F-B77C-4273-9B9F-98091AD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3CA4-BD87-49A8-84DB-BFA0455E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0D49-BE19-4E85-B891-4440AD4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961-CA83-4988-AC52-EFE7CA1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C7A3-F593-4A5F-BE11-4E9A690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CF0B-7CE4-4E3C-AB10-F1539319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FB7-F3E0-4EA2-902B-60AE89A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9F88-C046-49A8-AEBC-13A85035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40676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4AF6-797F-4CD6-BB6C-BB45C55E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DCA-50DB-4A56-8F84-DA592BC7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139-FB41-43AC-A00C-21776C6E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C15-9478-4545-9689-5A99E68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A68-7F58-44FC-9EBF-913EEE0F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303-D21F-4467-A8E0-F71F194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40676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C48-4F12-4343-932B-F6DB6E44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06764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B4F-D3F1-4CD7-A01F-CBA2541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339F-41AE-4479-B152-F9CE99B1A040}" type="datetime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951F-694D-4437-B738-C164D6C656B3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IHA logo colored for print"/>
          <p:cNvPicPr/>
          <p:nvPr/>
        </p:nvPicPr>
        <p:blipFill>
          <a:blip r:embed="rId2"/>
          <a:stretch/>
        </p:blipFill>
        <p:spPr>
          <a:xfrm>
            <a:off x="8142120" y="152280"/>
            <a:ext cx="84780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5BE-2727-4D0E-9074-1F831FFE8959}" type="datetime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4098-44CC-4DE3-9EFC-DC9122BB9006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hqpr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ha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Bundled Episode Payment and Gainsharing Demonstration Project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410080" y="54097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Palatino Linotype"/>
              </a:rPr>
              <a:t>Weslie Kary, MPP, MPH</a:t>
            </a: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Palatino Linotype"/>
              </a:rPr>
              <a:t>Program Director </a:t>
            </a: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Palatino Linotype"/>
              </a:rPr>
              <a:t>Integrated Healthcare Association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Palatino Linotype"/>
            </a:endParaRPr>
          </a:p>
        </p:txBody>
      </p:sp>
      <p:pic>
        <p:nvPicPr>
          <p:cNvPr id="94" name="Picture 8" descr="IHA logo colored for print"/>
          <p:cNvPicPr/>
          <p:nvPr/>
        </p:nvPicPr>
        <p:blipFill>
          <a:blip r:embed="rId2"/>
          <a:stretch/>
        </p:blipFill>
        <p:spPr>
          <a:xfrm>
            <a:off x="507960" y="3657600"/>
            <a:ext cx="121932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1295280" y="4010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Palatino Linotype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Palatino Linotype"/>
              </a:rPr>
              <a:t>2010 Annual Meet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Palatino Linotype"/>
              </a:rPr>
              <a:t>September 27, 2010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3360" y="-136440"/>
            <a:ext cx="56390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63360" y="-136440"/>
            <a:ext cx="56390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3360" y="-136440"/>
            <a:ext cx="68104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Overview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What is bundled or “episode” payment?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Why do it?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IHA bundled episode and gain-sharing demonstration and evaluation plan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A64-1ACF-49F1-9DDF-2D4C07F32EE4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What is bundled (episode) payment?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A single prospective price for all services needed by the patient over an episode of care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Defined on parameters of time and services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9D24-9E95-4A54-9192-67099CBB5C2F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67057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04920" y="6400800"/>
            <a:ext cx="8229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Source: Center for Healthcare  Quality and Payment Reform,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Transitioning to Episode-Based Payment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Palatino Linotype"/>
                <a:hlinkClick r:id="rId2"/>
              </a:rPr>
              <a:t>http://www.chqpr.org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Why bundle? Problems with current payment options…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560" y="19810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Palatino Linotype"/>
              </a:rPr>
              <a:t>Fee for service: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rewards volume of services, not appropriateness or coordination of care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Palatino Linotype"/>
              </a:rPr>
              <a:t>Global capitation: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shifts too much risk to providers, creates incentive for risk selection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Palatino Linotype"/>
              </a:rPr>
              <a:t>Pay-for-performance: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when framed as quality bonus, does not move enough money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Palatino Linotype"/>
              </a:rPr>
              <a:t>Is bundled payment a workable compromise?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19C3-55D0-443F-98C1-BFBA59922065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Some people think so…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68E5-BC40-4E71-8A0F-11D97ADC94C2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57200" y="3352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CMS AC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Demonstration 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4290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Geisinger ProvenCare</a:t>
            </a:r>
            <a:r>
              <a:rPr b="0" lang="en-US" sz="2400" spc="-1" strike="noStrike" baseline="30000">
                <a:solidFill>
                  <a:srgbClr val="003366"/>
                </a:solidFill>
                <a:latin typeface="Palatino Linotype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6400800" y="3352680"/>
            <a:ext cx="1905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Prometheus Payment</a:t>
            </a:r>
            <a:r>
              <a:rPr b="0" lang="en-US" sz="2400" spc="-1" strike="noStrike" baseline="30000">
                <a:solidFill>
                  <a:srgbClr val="003366"/>
                </a:solidFill>
                <a:latin typeface="Palatino Linotype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457200" y="990720"/>
            <a:ext cx="8458200" cy="5572080"/>
            <a:chOff x="457200" y="990720"/>
            <a:chExt cx="8458200" cy="5572080"/>
          </a:xfrm>
        </p:grpSpPr>
        <p:pic>
          <p:nvPicPr>
            <p:cNvPr id="116" name="Picture 16" descr="Cancer Care at Baptist Health System Hospitals in San Antonio"/>
            <p:cNvPicPr/>
            <p:nvPr/>
          </p:nvPicPr>
          <p:blipFill>
            <a:blip r:embed="rId1"/>
            <a:stretch/>
          </p:blipFill>
          <p:spPr>
            <a:xfrm>
              <a:off x="457200" y="990720"/>
              <a:ext cx="230004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7" descr=""/>
            <p:cNvPicPr/>
            <p:nvPr/>
          </p:nvPicPr>
          <p:blipFill>
            <a:blip r:embed="rId2"/>
            <a:stretch/>
          </p:blipFill>
          <p:spPr>
            <a:xfrm>
              <a:off x="3276360" y="99072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"/>
            <p:cNvPicPr/>
            <p:nvPr/>
          </p:nvPicPr>
          <p:blipFill>
            <a:blip r:embed="rId3"/>
            <a:stretch/>
          </p:blipFill>
          <p:spPr>
            <a:xfrm>
              <a:off x="6172200" y="990720"/>
              <a:ext cx="2743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0" descr="C:\Documents and Settings\wkary\Local Settings\Temporary Internet Files\Content.IE5\KVA1E8F7\MP900401099[1].jpg"/>
            <p:cNvPicPr/>
            <p:nvPr/>
          </p:nvPicPr>
          <p:blipFill>
            <a:blip r:embed="rId4"/>
            <a:srcRect l="0" t="0" r="2343" b="11720"/>
            <a:stretch/>
          </p:blipFill>
          <p:spPr>
            <a:xfrm>
              <a:off x="457200" y="4267440"/>
              <a:ext cx="3809880" cy="22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Box 10"/>
          <p:cNvSpPr/>
          <p:nvPr/>
        </p:nvSpPr>
        <p:spPr>
          <a:xfrm>
            <a:off x="4572000" y="42451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Palatino Linotype"/>
              </a:rPr>
              <a:t>PPACA…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90360" indent="-90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Expand ACE Demo, include post-acute care by 2013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90360" indent="-90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Demonstrate in Medicaid population by 2012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90360" indent="-9036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alatino Linotype"/>
              </a:rPr>
              <a:t>Bundle payments in ACO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IHA </a:t>
            </a:r>
            <a:r>
              <a:rPr b="0" lang="en-US" sz="3600" spc="-1" strike="noStrike">
                <a:solidFill>
                  <a:srgbClr val="003366"/>
                </a:solidFill>
                <a:latin typeface="Palatino Linotype"/>
              </a:rPr>
              <a:t>Demonstration Project</a:t>
            </a:r>
            <a:endParaRPr b="0" lang="en-US" sz="36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Focus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Major procedures and acute conditions, orthopedic first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cardiac and other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First participants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Monarch HealthCare, Cedars-Sinai, Hoag Hospital, Saddleback Memorial, Tenet, UCLA,  Aetna, Blue Shield, CIGNA, HealthNet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 all California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First populations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Commercial PPO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HMO, Medicaid Managed Care and Medicare Advantage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Palatino Linotype"/>
              </a:rPr>
              <a:t>Episode definition:  </a:t>
            </a:r>
            <a:r>
              <a:rPr b="0" lang="en-US" sz="2800" spc="-1" strike="noStrike">
                <a:solidFill>
                  <a:srgbClr val="003366"/>
                </a:solidFill>
                <a:latin typeface="Palatino Linotype"/>
              </a:rPr>
              <a:t>Date of surgery + 90 days, includes acute and routine follow-up, complications within 90-days, related readmits.</a:t>
            </a:r>
            <a:endParaRPr b="0" lang="en-US" sz="28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E89-DD36-415A-8E29-E6650C2C3DDA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dde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Palatino Linotype"/>
              </a:rPr>
              <a:t>Demonstration evaluation</a:t>
            </a:r>
            <a:endParaRPr b="0" lang="en-US" sz="40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Palatino Linotype"/>
              </a:rPr>
              <a:t>What happened? Was model scalable? What facilitates success, what bodes failure? (RAND: Susan Ridgely, Peter Hussey)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Palatino Linotype"/>
              </a:rPr>
              <a:t>Was quality of care for orthopedic patients maintained compared to control hospitals? (U.C. San Francisco: Kevin Bozic, Steve Takemoto)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Palatino Linotype"/>
              </a:rPr>
              <a:t>Did efficiency go up, costs of care go down compared to baseline period? (U.C. Berkeley: James Robinson, Samuel Tseng)</a:t>
            </a:r>
            <a:endParaRPr b="0" lang="en-US" sz="32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alatino Linotype"/>
              </a:rPr>
              <a:t>More info: </a:t>
            </a:r>
            <a:r>
              <a:rPr b="1" lang="en-US" sz="3600" spc="-1" strike="noStrike" u="sng">
                <a:solidFill>
                  <a:srgbClr val="2b3262"/>
                </a:solidFill>
                <a:uFillTx/>
                <a:latin typeface="Palatino Linotype"/>
                <a:hlinkClick r:id="rId1"/>
              </a:rPr>
              <a:t>http://www.iha.org</a:t>
            </a:r>
            <a:endParaRPr b="0" lang="en-US" sz="3600" spc="-1" strike="noStrike">
              <a:solidFill>
                <a:srgbClr val="003366"/>
              </a:solidFill>
              <a:latin typeface="Palatino Linotype"/>
            </a:endParaRPr>
          </a:p>
          <a:p>
            <a:pPr marL="312120" indent="-312120">
              <a:spcBef>
                <a:spcPts val="9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Palatino Linotype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78168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0EAE-37AB-481F-BE18-173AA91F59A1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2:15:31Z</dcterms:created>
  <dc:creator>Cindy Ernst</dc:creator>
  <dc:description/>
  <dc:language>en-US</dc:language>
  <cp:lastModifiedBy>Graham</cp:lastModifiedBy>
  <dcterms:modified xsi:type="dcterms:W3CDTF">2010-10-22T17:17:33Z</dcterms:modified>
  <cp:revision>475</cp:revision>
  <dc:subject/>
  <dc:title>Project Update for the Value Assessment and Purchasing (VAP) Medical Devic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97761033</vt:lpwstr>
  </property>
</Properties>
</file>