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7C4-944B-4963-8424-C45824028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8D06-7176-4881-849D-305E76F09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A43D-4B5C-497F-AE36-9D71B1A9B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5595-0DCD-41E9-97EA-A9692379D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AEA-057A-46C9-8BE2-622F7227D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0BD5-45CC-4470-B972-A9D09B1FF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A72-73D9-43BF-9969-82F1AB9B6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262-5751-4156-B485-B6147A4F5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0439-91FF-4EAB-8D32-FC1CEE03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C25-CF1C-4110-B71C-8F142699F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B13-4D0C-430D-8FDB-955D00469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3DF-87A6-4237-BED8-3BD5BAE0E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404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112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117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121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166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w Cen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213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8"/>
          <p:cNvSpPr/>
          <p:nvPr/>
        </p:nvSpPr>
        <p:spPr>
          <a:xfrm>
            <a:off x="6632640" y="60199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254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259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263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308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350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355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359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inicaltrials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ssues Exploration Forum (IEF):</a:t>
            </a:r>
            <a:br>
              <a:rPr sz="4800"/>
            </a:b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ious Mental Illness</a:t>
            </a:r>
            <a:br>
              <a:rPr sz="54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Jonas, MD, MP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surement and outcomes need consensus defini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infrastructure for research: longitudinal studies, new investigators, and datase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delivery, treatment settings, and structuring the delivery of ca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CER methodolog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disparities and reasons for disparities and reevaluate the framework for researching dispar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the therapeutic relationshi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s to personalize/individualize treat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eatment approaches to avoid early mortality and morbidit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ole of the psychiatric hospital, lengths of stay, and transition support services after discharg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tooling universities and educ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rategies to increase adherence to evidence-based guidelines and treatment regime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rrectional programs and interventions for people involved with the criminal justice system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terventions for people with comorbid medical illness or substance abu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evention, early identification, trajectories, and developmental perspectiv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issemination and implement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ducing barriers and improving acces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ntal health polic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difiable factors: tobacco, exercise, and nutri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lternatives to force or involuntary approach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viding housing or social suppor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rategies to reduce stigma, prejudice, and discrimin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stakeholders participating = 39 total*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deral representatives, researchers, clinicians, professional association representatives, individuals with expertise in racial/ethnic disparities, policymakers, payers, consumers, family members, advocates, representatives of the criminal justice system, and representatives of health system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deral entities included: Centers for Disease Control and Prevention, Centers for Medicare &amp; Medicaid Servic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1"/>
              </a:rPr>
              <a:t>http://www.Clinicaltrials.gov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Food and Drug Administration, National Institute of Mental Health, Office of Disability, Aging, and Long-term Care Policy, Substance Abuse and Mental Health Services Administration, VA Capitol Health Care Network, and VA Desert Pacifi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533520" y="6400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ome individuals represent more than one entity or area of expert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F Goals</a:t>
            </a:r>
            <a:endParaRPr b="0" lang="en-US" sz="4400" spc="-1" strike="noStrike">
              <a:solidFill>
                <a:srgbClr val="ffff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the establishment of an agenda to guide AHRQ’s comparative effectiveness research (CER) activities in mental health and substance abuse (MHSA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March 2010 to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MHSA where conducting CER is most likely to have an impact on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variation and uncertainty in clinical practice and outco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methodological and conceptual uncertain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disease bur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 diverse group of stakehold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ics for future C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ics that are well-suited for evidence synthesis (i.e. systematic reviews, comparative effectiveness reviews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 for CER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3733560"/>
          </a:xfrm>
          <a:prstGeom prst="rect">
            <a:avLst/>
          </a:prstGeom>
          <a:ln w="0">
            <a:noFill/>
          </a:ln>
        </p:spPr>
      </p:pic>
      <p:cxnSp>
        <p:nvCxnSpPr>
          <p:cNvPr id="459" name="Straight Arrow Connector 5"/>
          <p:cNvCxnSpPr/>
          <p:nvPr/>
        </p:nvCxnSpPr>
        <p:spPr>
          <a:xfrm>
            <a:off x="2286000" y="2209680"/>
            <a:ext cx="915120" cy="9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60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8"/>
          <p:cNvGrpSpPr/>
          <p:nvPr/>
        </p:nvGrpSpPr>
        <p:grpSpPr>
          <a:xfrm>
            <a:off x="1440" y="6324480"/>
            <a:ext cx="9142560" cy="303120"/>
            <a:chOff x="1440" y="6324480"/>
            <a:chExt cx="9142560" cy="303120"/>
          </a:xfrm>
        </p:grpSpPr>
        <p:sp>
          <p:nvSpPr>
            <p:cNvPr id="463" name="Freeform 19"/>
            <p:cNvSpPr/>
            <p:nvPr/>
          </p:nvSpPr>
          <p:spPr>
            <a:xfrm>
              <a:off x="1440" y="655488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0"/>
            <p:cNvSpPr/>
            <p:nvPr/>
          </p:nvSpPr>
          <p:spPr>
            <a:xfrm>
              <a:off x="31680" y="643896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"/>
            <p:cNvSpPr/>
            <p:nvPr/>
          </p:nvSpPr>
          <p:spPr>
            <a:xfrm>
              <a:off x="60120" y="632448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16"/>
          <p:cNvSpPr/>
          <p:nvPr/>
        </p:nvSpPr>
        <p:spPr>
          <a:xfrm>
            <a:off x="6632640" y="624348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f the Forum</a:t>
            </a:r>
            <a:endParaRPr b="0" lang="en-US" sz="4400" spc="-1" strike="noStrike">
              <a:solidFill>
                <a:srgbClr val="ffff00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d upon Serious Mental Illnes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s (direct and indirect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orbidit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ortalit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interventions to potentially reduce the burden of diseas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040" y="274680"/>
            <a:ext cx="7086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Adults with SMI and Mood or Psychotic Disorders</a:t>
            </a:r>
            <a:endParaRPr b="0" lang="en-US" sz="3800" spc="-1" strike="noStrike">
              <a:solidFill>
                <a:srgbClr val="ffff00"/>
              </a:solidFill>
              <a:latin typeface="Tw Cen MT"/>
            </a:endParaRPr>
          </a:p>
        </p:txBody>
      </p:sp>
      <p:pic>
        <p:nvPicPr>
          <p:cNvPr id="470" name="Content Placeholder 4" descr=""/>
          <p:cNvPicPr/>
          <p:nvPr/>
        </p:nvPicPr>
        <p:blipFill>
          <a:blip r:embed="rId1"/>
          <a:stretch/>
        </p:blipFill>
        <p:spPr>
          <a:xfrm>
            <a:off x="835200" y="1219320"/>
            <a:ext cx="7559640" cy="427968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2"/>
          <p:cNvGrpSpPr/>
          <p:nvPr/>
        </p:nvGrpSpPr>
        <p:grpSpPr>
          <a:xfrm>
            <a:off x="304920" y="1828800"/>
            <a:ext cx="6019560" cy="4162320"/>
            <a:chOff x="304920" y="1828800"/>
            <a:chExt cx="6019560" cy="4162320"/>
          </a:xfrm>
        </p:grpSpPr>
        <p:sp>
          <p:nvSpPr>
            <p:cNvPr id="472" name="TextBox 5"/>
            <p:cNvSpPr/>
            <p:nvPr/>
          </p:nvSpPr>
          <p:spPr>
            <a:xfrm>
              <a:off x="2514600" y="3657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ood Dis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6"/>
            <p:cNvSpPr/>
            <p:nvPr/>
          </p:nvSpPr>
          <p:spPr>
            <a:xfrm>
              <a:off x="5257800" y="304776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sychotic Disor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7"/>
            <p:cNvSpPr/>
            <p:nvPr/>
          </p:nvSpPr>
          <p:spPr>
            <a:xfrm>
              <a:off x="457200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304920" y="5029200"/>
              <a:ext cx="228600" cy="22860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>
              <a:off x="304920" y="5410080"/>
              <a:ext cx="228600" cy="228600"/>
            </a:xfrm>
            <a:prstGeom prst="rect">
              <a:avLst/>
            </a:prstGeom>
            <a:solidFill>
              <a:srgbClr val="a40000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6"/>
            <p:cNvSpPr/>
            <p:nvPr/>
          </p:nvSpPr>
          <p:spPr>
            <a:xfrm>
              <a:off x="304920" y="5791320"/>
              <a:ext cx="228600" cy="199800"/>
            </a:xfrm>
            <a:prstGeom prst="rect">
              <a:avLst/>
            </a:prstGeom>
            <a:solidFill>
              <a:srgbClr val="9bbb59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2"/>
            <p:cNvSpPr/>
            <p:nvPr/>
          </p:nvSpPr>
          <p:spPr>
            <a:xfrm>
              <a:off x="504720" y="501804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MI 12-month prevalence = 8.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19"/>
            <p:cNvSpPr/>
            <p:nvPr/>
          </p:nvSpPr>
          <p:spPr>
            <a:xfrm>
              <a:off x="517320" y="5396040"/>
              <a:ext cx="548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ood Disorders 12-month prevalence = 9.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Box 20"/>
          <p:cNvSpPr/>
          <p:nvPr/>
        </p:nvSpPr>
        <p:spPr>
          <a:xfrm>
            <a:off x="504720" y="57499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sychotic Disorders including Schizophrenia lifetime prevalence = 1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3 meetings engaging approximately 40 stakeholders (7/15, 7/30, 8/19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eneration of ideas and topic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input into 3 themes for the in-person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 Framework for Researc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-centered Care: Improving outcomes that matter to pat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Dispar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opic generation and prioritiz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grouped similar ideas and topics under 21 prioritized them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topics for evidence synthesis or evidence gener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public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website once comple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nomin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10:57Z</dcterms:created>
  <dc:creator>DJ</dc:creator>
  <dc:description/>
  <dc:language>en-US</dc:language>
  <cp:lastModifiedBy>Graham</cp:lastModifiedBy>
  <dcterms:modified xsi:type="dcterms:W3CDTF">2010-10-22T17:14:15Z</dcterms:modified>
  <cp:revision>58</cp:revision>
  <dc:subject/>
  <dc:title>Issues Exploration Forum (IEF): Serious Mental Illness  Dan Jonas, MD, MPH</dc:title>
</cp:coreProperties>
</file>