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777B-0E7A-4DF5-AA49-424FDE8882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F254-9E53-421B-BCE2-9DDA4602D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DEA7-9607-4FCE-ACC5-E7F1182BF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DD30-BA29-43FC-9D72-CE25D0259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AE84-52ED-49E3-8AEB-F4CA9B28A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3718-69B7-4F8F-9FC8-F5AC46615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8F7E-3726-4FEF-85FF-F81A78131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9A29-4400-4648-80D0-5A0D67A8D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9184-4396-48B8-B5A8-A98308A48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5DBC-CD91-4849-BEBE-7B35A3DA5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B15C-B25C-45EF-B0D5-B2E10CBCF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EA07-EF2D-481F-A1F9-FC2592263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28600" y="228600"/>
            <a:ext cx="609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404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I-UN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RTI_653_Sm_tranPA"/>
          <p:cNvPicPr/>
          <p:nvPr/>
        </p:nvPicPr>
        <p:blipFill>
          <a:blip r:embed="rId3"/>
          <a:stretch/>
        </p:blipFill>
        <p:spPr>
          <a:xfrm>
            <a:off x="7718400" y="0"/>
            <a:ext cx="142560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112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2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8005680" y="6134040"/>
            <a:ext cx="228600" cy="303120"/>
            <a:chOff x="8005680" y="6134040"/>
            <a:chExt cx="228600" cy="303120"/>
          </a:xfrm>
        </p:grpSpPr>
        <p:sp>
          <p:nvSpPr>
            <p:cNvPr id="117" name="Rectangle 24"/>
            <p:cNvSpPr/>
            <p:nvPr/>
          </p:nvSpPr>
          <p:spPr>
            <a:xfrm>
              <a:off x="80056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5"/>
            <p:cNvSpPr/>
            <p:nvPr/>
          </p:nvSpPr>
          <p:spPr>
            <a:xfrm>
              <a:off x="80056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6"/>
            <p:cNvSpPr/>
            <p:nvPr/>
          </p:nvSpPr>
          <p:spPr>
            <a:xfrm>
              <a:off x="80074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7"/>
          <p:cNvGrpSpPr/>
          <p:nvPr/>
        </p:nvGrpSpPr>
        <p:grpSpPr>
          <a:xfrm>
            <a:off x="8920080" y="6134040"/>
            <a:ext cx="228600" cy="303120"/>
            <a:chOff x="8920080" y="6134040"/>
            <a:chExt cx="228600" cy="303120"/>
          </a:xfrm>
        </p:grpSpPr>
        <p:sp>
          <p:nvSpPr>
            <p:cNvPr id="121" name="Rectangle 28"/>
            <p:cNvSpPr/>
            <p:nvPr/>
          </p:nvSpPr>
          <p:spPr>
            <a:xfrm>
              <a:off x="89200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9"/>
            <p:cNvSpPr/>
            <p:nvPr/>
          </p:nvSpPr>
          <p:spPr>
            <a:xfrm>
              <a:off x="89200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0"/>
            <p:cNvSpPr/>
            <p:nvPr/>
          </p:nvSpPr>
          <p:spPr>
            <a:xfrm>
              <a:off x="89218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TI-UNC 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52280" y="15228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RTI_653_Sm_tranPA"/>
          <p:cNvPicPr/>
          <p:nvPr/>
        </p:nvPicPr>
        <p:blipFill>
          <a:blip r:embed="rId3"/>
          <a:stretch/>
        </p:blipFill>
        <p:spPr>
          <a:xfrm>
            <a:off x="7566120" y="0"/>
            <a:ext cx="142560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28600" y="228600"/>
            <a:ext cx="609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166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TI-UNC 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RTI_653_Sm_tranPA"/>
          <p:cNvPicPr/>
          <p:nvPr/>
        </p:nvPicPr>
        <p:blipFill>
          <a:blip r:embed="rId3"/>
          <a:stretch/>
        </p:blipFill>
        <p:spPr>
          <a:xfrm>
            <a:off x="7718400" y="0"/>
            <a:ext cx="1425600" cy="969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w Cen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w Cen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28600" y="2286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RTI_653_Sm_tranPA"/>
          <p:cNvPicPr/>
          <p:nvPr/>
        </p:nvPicPr>
        <p:blipFill>
          <a:blip r:embed="rId3"/>
          <a:stretch/>
        </p:blipFill>
        <p:spPr>
          <a:xfrm>
            <a:off x="7718400" y="0"/>
            <a:ext cx="1425600" cy="96984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213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8"/>
          <p:cNvSpPr/>
          <p:nvPr/>
        </p:nvSpPr>
        <p:spPr>
          <a:xfrm>
            <a:off x="6632640" y="601992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TI-UNC 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254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Rectangle 22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3"/>
          <p:cNvGrpSpPr/>
          <p:nvPr/>
        </p:nvGrpSpPr>
        <p:grpSpPr>
          <a:xfrm>
            <a:off x="8005680" y="6134040"/>
            <a:ext cx="228600" cy="303120"/>
            <a:chOff x="8005680" y="6134040"/>
            <a:chExt cx="228600" cy="303120"/>
          </a:xfrm>
        </p:grpSpPr>
        <p:sp>
          <p:nvSpPr>
            <p:cNvPr id="259" name="Rectangle 24"/>
            <p:cNvSpPr/>
            <p:nvPr/>
          </p:nvSpPr>
          <p:spPr>
            <a:xfrm>
              <a:off x="80056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80056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80074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7"/>
          <p:cNvGrpSpPr/>
          <p:nvPr/>
        </p:nvGrpSpPr>
        <p:grpSpPr>
          <a:xfrm>
            <a:off x="8920080" y="6134040"/>
            <a:ext cx="228600" cy="303120"/>
            <a:chOff x="8920080" y="6134040"/>
            <a:chExt cx="228600" cy="303120"/>
          </a:xfrm>
        </p:grpSpPr>
        <p:sp>
          <p:nvSpPr>
            <p:cNvPr id="263" name="Rectangle 28"/>
            <p:cNvSpPr/>
            <p:nvPr/>
          </p:nvSpPr>
          <p:spPr>
            <a:xfrm>
              <a:off x="89200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9"/>
            <p:cNvSpPr/>
            <p:nvPr/>
          </p:nvSpPr>
          <p:spPr>
            <a:xfrm>
              <a:off x="89200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0"/>
            <p:cNvSpPr/>
            <p:nvPr/>
          </p:nvSpPr>
          <p:spPr>
            <a:xfrm>
              <a:off x="89218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I-UN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52280" y="15228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RTI_653_Sm_tranPA"/>
          <p:cNvPicPr/>
          <p:nvPr/>
        </p:nvPicPr>
        <p:blipFill>
          <a:blip r:embed="rId3"/>
          <a:stretch/>
        </p:blipFill>
        <p:spPr>
          <a:xfrm>
            <a:off x="7566120" y="0"/>
            <a:ext cx="142560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8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28600" y="228600"/>
            <a:ext cx="609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308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I-UN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RTI_653_Sm_tranPA"/>
          <p:cNvPicPr/>
          <p:nvPr/>
        </p:nvPicPr>
        <p:blipFill>
          <a:blip r:embed="rId3"/>
          <a:stretch/>
        </p:blipFill>
        <p:spPr>
          <a:xfrm>
            <a:off x="7718400" y="0"/>
            <a:ext cx="142560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18"/>
          <p:cNvGrpSpPr/>
          <p:nvPr/>
        </p:nvGrpSpPr>
        <p:grpSpPr>
          <a:xfrm>
            <a:off x="4680" y="6134040"/>
            <a:ext cx="9142560" cy="303120"/>
            <a:chOff x="4680" y="6134040"/>
            <a:chExt cx="9142560" cy="303120"/>
          </a:xfrm>
        </p:grpSpPr>
        <p:sp>
          <p:nvSpPr>
            <p:cNvPr id="350" name="Freeform 19"/>
            <p:cNvSpPr/>
            <p:nvPr/>
          </p:nvSpPr>
          <p:spPr>
            <a:xfrm>
              <a:off x="4680" y="636444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0"/>
            <p:cNvSpPr/>
            <p:nvPr/>
          </p:nvSpPr>
          <p:spPr>
            <a:xfrm>
              <a:off x="34920" y="624852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1"/>
            <p:cNvSpPr/>
            <p:nvPr/>
          </p:nvSpPr>
          <p:spPr>
            <a:xfrm>
              <a:off x="63360" y="613404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22"/>
          <p:cNvSpPr/>
          <p:nvPr/>
        </p:nvSpPr>
        <p:spPr>
          <a:xfrm>
            <a:off x="6454800" y="6049800"/>
            <a:ext cx="17128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23"/>
          <p:cNvGrpSpPr/>
          <p:nvPr/>
        </p:nvGrpSpPr>
        <p:grpSpPr>
          <a:xfrm>
            <a:off x="8005680" y="6134040"/>
            <a:ext cx="228600" cy="303120"/>
            <a:chOff x="8005680" y="6134040"/>
            <a:chExt cx="228600" cy="303120"/>
          </a:xfrm>
        </p:grpSpPr>
        <p:sp>
          <p:nvSpPr>
            <p:cNvPr id="355" name="Rectangle 24"/>
            <p:cNvSpPr/>
            <p:nvPr/>
          </p:nvSpPr>
          <p:spPr>
            <a:xfrm>
              <a:off x="80056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5"/>
            <p:cNvSpPr/>
            <p:nvPr/>
          </p:nvSpPr>
          <p:spPr>
            <a:xfrm>
              <a:off x="80056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80074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7"/>
          <p:cNvGrpSpPr/>
          <p:nvPr/>
        </p:nvGrpSpPr>
        <p:grpSpPr>
          <a:xfrm>
            <a:off x="8920080" y="6134040"/>
            <a:ext cx="228600" cy="303120"/>
            <a:chOff x="8920080" y="6134040"/>
            <a:chExt cx="228600" cy="303120"/>
          </a:xfrm>
        </p:grpSpPr>
        <p:sp>
          <p:nvSpPr>
            <p:cNvPr id="359" name="Rectangle 28"/>
            <p:cNvSpPr/>
            <p:nvPr/>
          </p:nvSpPr>
          <p:spPr>
            <a:xfrm>
              <a:off x="8920080" y="6364440"/>
              <a:ext cx="228600" cy="727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9"/>
            <p:cNvSpPr/>
            <p:nvPr/>
          </p:nvSpPr>
          <p:spPr>
            <a:xfrm>
              <a:off x="8920080" y="6248520"/>
              <a:ext cx="228600" cy="745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8921880" y="6134040"/>
              <a:ext cx="22680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31"/>
          <p:cNvSpPr/>
          <p:nvPr/>
        </p:nvSpPr>
        <p:spPr>
          <a:xfrm>
            <a:off x="6248520" y="6095880"/>
            <a:ext cx="251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I-UN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52280" y="15228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RTI_653_Sm_tranPA"/>
          <p:cNvPicPr/>
          <p:nvPr/>
        </p:nvPicPr>
        <p:blipFill>
          <a:blip r:embed="rId3"/>
          <a:stretch/>
        </p:blipFill>
        <p:spPr>
          <a:xfrm>
            <a:off x="7566120" y="0"/>
            <a:ext cx="142560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inicaltrials.gov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ssues Exploration Forum (IEF):</a:t>
            </a:r>
            <a:br>
              <a:rPr sz="4800"/>
            </a:b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ious Mental Illness</a:t>
            </a:r>
            <a:br>
              <a:rPr sz="54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Jonas, MD, MP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oritized Them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asurement and outcomes need consensus defini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infrastructure for research: longitudinal studies, new investigators, and datase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 delivery, treatment settings, and structuring the delivery of ca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CER methodolog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disparities and reasons for disparities and reevaluate the framework for researching dispari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e of the therapeutic relationshi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es to personalize/individualize treat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oritized Them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reatment approaches to avoid early mortality and morbidity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ole of the psychiatric hospital, lengths of stay, and transition support services after discharg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tooling universities and educ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trategies to increase adherence to evidence-based guidelines and treatment regimen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rrectional programs and interventions for people involved with the criminal justice system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nterventions for people with comorbid medical illness or substance abus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04000" indent="-5040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evention, early identification, trajectories, and developmental perspectiv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ioritized Them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issemination and implement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ducing barriers and improving acces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ntal health policy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odifiable factors: tobacco, exercise, and nutri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lternatives to force or involuntary approach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oviding housing or social support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trategies to reduce stigma, prejudice, and discrimination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tal stakeholders participating = 39 total*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deral representatives, researchers, clinicians, professional association representatives, individuals with expertise in racial/ethnic disparities, policymakers, payers, consumers, family members, advocates, representatives of the criminal justice system, and representatives of health system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deral entities included: Centers for Disease Control and Prevention, Centers for Medicare &amp; Medicaid Service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1"/>
              </a:rPr>
              <a:t>http://www.Clinicaltrials.gov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Food and Drug Administration, National Institute of Mental Health, Office of Disability, Aging, and Long-term Care Policy, Substance Abuse and Mental Health Services Administration, VA Capitol Health Care Network, and VA Desert Pacifi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TextBox 3"/>
          <p:cNvSpPr/>
          <p:nvPr/>
        </p:nvSpPr>
        <p:spPr>
          <a:xfrm>
            <a:off x="533520" y="6400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ome individuals represent more than one entity or area of expert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F Goals</a:t>
            </a:r>
            <a:endParaRPr b="0" lang="en-US" sz="4400" spc="-1" strike="noStrike">
              <a:solidFill>
                <a:srgbClr val="ffff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 to the establishment of an agenda to guide AHRQ’s comparative effectiveness research (CER) activities in mental health and substance abuse (MHSA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March 2010 to identif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are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MHSA where conducting CER is most likely to have an impact on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variation and uncertainty in clinical practice and outcom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methodological and conceptual uncertaint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disease bur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a diverse group of stakehold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pics for future C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pics that are well-suited for evidence synthesis (i.e. systematic reviews, comparative effectiveness reviews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work for CER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91520" cy="3733560"/>
          </a:xfrm>
          <a:prstGeom prst="rect">
            <a:avLst/>
          </a:prstGeom>
          <a:ln w="0">
            <a:noFill/>
          </a:ln>
        </p:spPr>
      </p:pic>
      <p:cxnSp>
        <p:nvCxnSpPr>
          <p:cNvPr id="459" name="Straight Arrow Connector 5"/>
          <p:cNvCxnSpPr/>
          <p:nvPr/>
        </p:nvCxnSpPr>
        <p:spPr>
          <a:xfrm>
            <a:off x="2286000" y="2209680"/>
            <a:ext cx="915120" cy="9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60" name="Picture 33" descr="UNC-well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28600" y="2286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RTI_653_Sm_tranPA"/>
          <p:cNvPicPr/>
          <p:nvPr/>
        </p:nvPicPr>
        <p:blipFill>
          <a:blip r:embed="rId3"/>
          <a:stretch/>
        </p:blipFill>
        <p:spPr>
          <a:xfrm>
            <a:off x="7718400" y="0"/>
            <a:ext cx="1425600" cy="96984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18"/>
          <p:cNvGrpSpPr/>
          <p:nvPr/>
        </p:nvGrpSpPr>
        <p:grpSpPr>
          <a:xfrm>
            <a:off x="1440" y="6324480"/>
            <a:ext cx="9142560" cy="303120"/>
            <a:chOff x="1440" y="6324480"/>
            <a:chExt cx="9142560" cy="303120"/>
          </a:xfrm>
        </p:grpSpPr>
        <p:sp>
          <p:nvSpPr>
            <p:cNvPr id="463" name="Freeform 19"/>
            <p:cNvSpPr/>
            <p:nvPr/>
          </p:nvSpPr>
          <p:spPr>
            <a:xfrm>
              <a:off x="1440" y="6554880"/>
              <a:ext cx="9142560" cy="727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0"/>
            <p:cNvSpPr/>
            <p:nvPr/>
          </p:nvSpPr>
          <p:spPr>
            <a:xfrm>
              <a:off x="31680" y="6438960"/>
              <a:ext cx="9112320" cy="745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"/>
            <p:cNvSpPr/>
            <p:nvPr/>
          </p:nvSpPr>
          <p:spPr>
            <a:xfrm>
              <a:off x="60120" y="6324480"/>
              <a:ext cx="9083880" cy="7632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ectangle 16"/>
          <p:cNvSpPr/>
          <p:nvPr/>
        </p:nvSpPr>
        <p:spPr>
          <a:xfrm>
            <a:off x="6632640" y="624348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TI-UNC E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f the Forum</a:t>
            </a:r>
            <a:endParaRPr b="0" lang="en-US" sz="4400" spc="-1" strike="noStrike">
              <a:solidFill>
                <a:srgbClr val="ffff00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d upon Serious Mental Illnes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s (direct and indirect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orbidit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ortalit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interventions to potentially reduce the burden of diseas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040" y="274680"/>
            <a:ext cx="7086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Adults with SMI and Mood or Psychotic Disorders</a:t>
            </a:r>
            <a:endParaRPr b="0" lang="en-US" sz="3800" spc="-1" strike="noStrike">
              <a:solidFill>
                <a:srgbClr val="ffff00"/>
              </a:solidFill>
              <a:latin typeface="Tw Cen MT"/>
            </a:endParaRPr>
          </a:p>
        </p:txBody>
      </p:sp>
      <p:pic>
        <p:nvPicPr>
          <p:cNvPr id="470" name="Content Placeholder 4" descr=""/>
          <p:cNvPicPr/>
          <p:nvPr/>
        </p:nvPicPr>
        <p:blipFill>
          <a:blip r:embed="rId1"/>
          <a:stretch/>
        </p:blipFill>
        <p:spPr>
          <a:xfrm>
            <a:off x="835200" y="1219320"/>
            <a:ext cx="7559640" cy="427968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2"/>
          <p:cNvGrpSpPr/>
          <p:nvPr/>
        </p:nvGrpSpPr>
        <p:grpSpPr>
          <a:xfrm>
            <a:off x="304920" y="1828800"/>
            <a:ext cx="6019560" cy="4162320"/>
            <a:chOff x="304920" y="1828800"/>
            <a:chExt cx="6019560" cy="4162320"/>
          </a:xfrm>
        </p:grpSpPr>
        <p:sp>
          <p:nvSpPr>
            <p:cNvPr id="472" name="TextBox 5"/>
            <p:cNvSpPr/>
            <p:nvPr/>
          </p:nvSpPr>
          <p:spPr>
            <a:xfrm>
              <a:off x="2514600" y="36576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ood Dis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Box 6"/>
            <p:cNvSpPr/>
            <p:nvPr/>
          </p:nvSpPr>
          <p:spPr>
            <a:xfrm>
              <a:off x="5257800" y="304776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sychotic Disor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Box 7"/>
            <p:cNvSpPr/>
            <p:nvPr/>
          </p:nvSpPr>
          <p:spPr>
            <a:xfrm>
              <a:off x="457200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304920" y="5029200"/>
              <a:ext cx="228600" cy="228600"/>
            </a:xfrm>
            <a:prstGeom prst="rect">
              <a:avLst/>
            </a:prstGeom>
            <a:solidFill>
              <a:srgbClr val="0070c0"/>
            </a:solidFill>
            <a:ln w="38160">
              <a:solidFill>
                <a:srgbClr val="f2f2f2"/>
              </a:solidFill>
              <a:miter/>
            </a:ln>
            <a:effectLst>
              <a:outerShdw dist="28496" dir="3825519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"/>
            <p:cNvSpPr/>
            <p:nvPr/>
          </p:nvSpPr>
          <p:spPr>
            <a:xfrm>
              <a:off x="304920" y="5410080"/>
              <a:ext cx="228600" cy="228600"/>
            </a:xfrm>
            <a:prstGeom prst="rect">
              <a:avLst/>
            </a:prstGeom>
            <a:solidFill>
              <a:srgbClr val="a40000"/>
            </a:solidFill>
            <a:ln w="38160">
              <a:solidFill>
                <a:srgbClr val="f2f2f2"/>
              </a:solidFill>
              <a:miter/>
            </a:ln>
            <a:effectLst>
              <a:outerShdw dist="28496" dir="3825519" blurRad="0" rotWithShape="0">
                <a:srgbClr val="3f315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6"/>
            <p:cNvSpPr/>
            <p:nvPr/>
          </p:nvSpPr>
          <p:spPr>
            <a:xfrm>
              <a:off x="304920" y="5791320"/>
              <a:ext cx="228600" cy="199800"/>
            </a:xfrm>
            <a:prstGeom prst="rect">
              <a:avLst/>
            </a:prstGeom>
            <a:solidFill>
              <a:srgbClr val="9bbb59"/>
            </a:solidFill>
            <a:ln w="38160">
              <a:solidFill>
                <a:srgbClr val="f2f2f2"/>
              </a:solidFill>
              <a:miter/>
            </a:ln>
            <a:effectLst>
              <a:outerShdw dist="28496" dir="3825519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Box 12"/>
            <p:cNvSpPr/>
            <p:nvPr/>
          </p:nvSpPr>
          <p:spPr>
            <a:xfrm>
              <a:off x="504720" y="5018040"/>
              <a:ext cx="29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MI 12-month prevalence = 8.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19"/>
            <p:cNvSpPr/>
            <p:nvPr/>
          </p:nvSpPr>
          <p:spPr>
            <a:xfrm>
              <a:off x="517320" y="5396040"/>
              <a:ext cx="548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ood Disorders 12-month prevalence = 9.7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Box 20"/>
          <p:cNvSpPr/>
          <p:nvPr/>
        </p:nvSpPr>
        <p:spPr>
          <a:xfrm>
            <a:off x="504720" y="574992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sychotic Disorders including Schizophrenia lifetime prevalence = 1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 3 meetings engaging approximately 40 stakeholders (7/15, 7/30, 8/19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eneration of ideas and topic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ed input into 3 themes for the in-person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93348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 Framework for Research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93348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-centered Care: Improving outcomes that matter to pat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93348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Dispari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opic generation and prioritiz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grouped similar ideas and topics under 21 prioritized them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topics for evidence synthesis or evidence gener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ebf5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coming public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website once complete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nomin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3:10:57Z</dcterms:created>
  <dc:creator>DJ</dc:creator>
  <dc:description/>
  <dc:language>en-US</dc:language>
  <cp:lastModifiedBy>Graham</cp:lastModifiedBy>
  <dcterms:modified xsi:type="dcterms:W3CDTF">2010-10-22T17:14:15Z</dcterms:modified>
  <cp:revision>58</cp:revision>
  <dc:subject/>
  <dc:title>Issues Exploration Forum (IEF): Serious Mental Illness  Dan Jonas, MD, MPH</dc:title>
</cp:coreProperties>
</file>