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610-0B67-47F9-AC71-829E29EE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623-BE3F-4FAA-AE4A-99EDA8E0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EB9-E048-4A97-93EE-A46E83C6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042-92A0-46C3-9195-73868DF8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0D06-A518-4EE8-993B-6B22CFAD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71E6-DC39-4950-8B97-E8AC7FD2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FD63-2394-4C1F-A17E-EFA373E4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1DFF-27DC-4131-8687-2DD77B5F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5095-1CEE-43F0-A4F9-12F1D65A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1E23-D27F-4515-A920-AE011182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42B4-F76D-4D25-981A-4402F368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792-D772-417D-B396-23AB82A9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5C4A-1D50-43A3-8950-CF4EF039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AFFA-D95A-4F78-B259-4B93499C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D5B3-6899-409E-AC39-22EF2FA6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1E37-EDCB-4883-919C-7C731A7D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264E-AF24-40BA-991F-A5371DAF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4E56D-0343-4F86-A72E-C0F4A393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AAAFB-FFE3-425E-B3E2-DBBCE1FD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530E7-C385-46DD-ACE4-FAC1EC5F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442DA-C8CB-4A36-B82B-0A963B98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E3D8D-6552-4D25-87A7-C2976A0A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C64-982A-495E-B620-1C85F186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B2FFD-8E9C-4391-91D1-9DB65A54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3ACCB-D60E-4252-8E20-1F4A4BBB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54C82-FF06-4740-B9F1-F3B308DC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C3212-CF84-4A09-9220-A3BA805E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188C2-FF2A-464F-9235-80EB4B1A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22FFB-25BB-4182-A511-62F109AB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7CD29-C180-4740-AA26-B4081B9B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FF0C-700B-4F87-93D1-F560631D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9EA8-4321-4399-9381-56A39CD0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92EDA-E3A4-4D06-86ED-5CAE0284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F23-E5C6-4F15-BC32-61FBFC54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BA72A-3E18-49D6-93C8-C9DACB3E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711C-273C-4DD5-8DBF-D814D792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5D3F-6F84-4960-88AD-6220A23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0261-6F16-4D79-A81F-9C185AA9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060B0-CE02-4B3D-9F90-069F93BC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1AD37-EC0D-4889-9E4F-39924DB6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DC8D1-1E7B-44E6-961E-6CC474FE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8F9BB-FE25-4524-8E08-27A53C6C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C8E8A-6B90-4FBC-9FD0-C164789E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8AB-9C6F-4C26-93AD-9C95826B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295-C7DE-4058-AF79-125A4227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EF0-F770-4968-818E-5E853C12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D11-596A-47F1-81FC-505AC252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F17-EE40-4E94-88FB-C7FB76DD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0828-23B1-4EF1-8E4F-0A0825DCFA0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010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7EED-2805-4575-8AE0-3B30F21FD7EB}" type="slidenum">
              <a:rPr b="0" lang="en-US" sz="1200" spc="-1" strike="noStrike">
                <a:solidFill>
                  <a:srgbClr val="ad010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DEAF-CE6F-464E-A84F-D3655920274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81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2B3D-8CBF-419E-AF9E-18FB4551E54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jaffe@calhospital.org" TargetMode="External"/><Relationship Id="rId2" Type="http://schemas.openxmlformats.org/officeDocument/2006/relationships/hyperlink" Target="mailto:rjaffe@calhospital.org" TargetMode="External"/><Relationship Id="rId3" Type="http://schemas.openxmlformats.org/officeDocument/2006/relationships/hyperlink" Target="mailto:rjaffe@calhospital.org" TargetMode="External"/><Relationship Id="rId4" Type="http://schemas.openxmlformats.org/officeDocument/2006/relationships/hyperlink" Target="mailto:rjaffe@calhospital.org" TargetMode="External"/><Relationship Id="rId5" Type="http://schemas.openxmlformats.org/officeDocument/2006/relationships/hyperlink" Target="http://www.chpso.org/" TargetMode="External"/><Relationship Id="rId6" Type="http://schemas.openxmlformats.org/officeDocument/2006/relationships/hyperlink" Target="http://www.chpso.org/" TargetMode="External"/><Relationship Id="rId7" Type="http://schemas.openxmlformats.org/officeDocument/2006/relationships/hyperlink" Target="http://www.chpso.org/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80bc"/>
                </a:solidFill>
                <a:latin typeface="Arno Pro Display"/>
              </a:rPr>
              <a:t>CHPSO</a:t>
            </a:r>
            <a:endParaRPr b="0" lang="en-US" sz="72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24242"/>
                </a:solidFill>
                <a:latin typeface="Century Gothic"/>
              </a:rPr>
              <a:t>Rory Jaffe, MD MBA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24242"/>
                </a:solidFill>
                <a:latin typeface="Century Gothic"/>
              </a:rPr>
              <a:t>Executive Director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24242"/>
                </a:solidFill>
                <a:latin typeface="Century Gothic"/>
              </a:rPr>
              <a:t>California Hospital Patient Safety Organization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4648320" y="808200"/>
            <a:ext cx="350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edicated to eliminating preventable harm and improving the quality of health care delivery in California hospital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Data Collectio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tarting up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aited for electronic standards from AHRQ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Standards were for PSO — NPSD communication, not provider — PSO communicat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Develop standards provider — PSO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Adapting provider systems to send in formatted data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ome providers are changing event reporting collection method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hallenge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Legal uncertainty — interaction with other laws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Trust — preservation of confidentiality in the face of increased communicat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Chaotic improvement environment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Patient safety fatigue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Measure reporting fatigue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Cost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Unproven value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Clients have widely varying needs and sophisticat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024680" cy="403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180bc"/>
                </a:solidFill>
                <a:latin typeface="Arno Pro Display"/>
                <a:ea typeface="Arial"/>
              </a:rPr>
              <a:t>CHPSO</a:t>
            </a:r>
            <a:br>
              <a:rPr sz="80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edicated to eliminating prevent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rm and improving the qual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ealth care delivery in Californi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ospitals</a:t>
            </a:r>
            <a:br>
              <a:rPr sz="1800"/>
            </a:b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ontact Informatio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320" y="4873680"/>
            <a:ext cx="677700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entury Gothic"/>
              </a:rPr>
              <a:t>Rory Jaffe </a:t>
            </a: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1"/>
              </a:rPr>
              <a:t>rjaffe</a:t>
            </a: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2"/>
              </a:rPr>
              <a:t>@</a:t>
            </a: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3"/>
              </a:rPr>
              <a:t>calhospital</a:t>
            </a: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4"/>
              </a:rPr>
              <a:t>.org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5"/>
              </a:rPr>
              <a:t>http://www.</a:t>
            </a: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6"/>
              </a:rPr>
              <a:t>chpso</a:t>
            </a: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7"/>
              </a:rPr>
              <a:t>.org/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About CHPSO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reated by California Hospital Association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Not-for-profi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mall (1.5 employees), planning to grow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To Err is Huma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PSOs are a direct response to report’s recommendation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Collect standardized information nationwide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Develop voluntary reporting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Extend peer review protections to data related to safety and quality improvement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Develop a culture of safety 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Begin with the End in Mind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What should our system look like?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Safety data is a “first class citizen” and ubiquitous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Century Gothic"/>
              </a:rPr>
              <a:t>Systems involved in the normal course of care produce most of the data (e.g., the EHR)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Century Gothic"/>
              </a:rPr>
              <a:t>For each patient, we know whether they are getting the right care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Century Gothic"/>
              </a:rPr>
              <a:t>Compatible with HIE (health information exchange)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Information and knowledge is freely exchanged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How do we start?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Embrace standards whenever possible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Avoid manual entry and rework whenever possible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Encourage networking and sharing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Reality Check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No standard incident report system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Vendor-specific systems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Terminology varies, even within same vendor (for some vendors)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Work flow varies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Scope varies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Century Gothic"/>
              </a:rPr>
              <a:t>Initial report, analysis, mitigation, outcome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Century Gothic"/>
              </a:rPr>
              <a:t>Types of events included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Century Gothic"/>
              </a:rPr>
              <a:t>Handling of legal issues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Change is expensive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Integration of new system into infrastructure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Personnel time for retraining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Baby Step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If providers don’t participate, we cannot move towards our goal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Provide the lowest possible hurdle for participat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No completeness standards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Data collection and analysis is only one of our tools and may not be the most important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We’re not in the business of “counting stuff”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Encourage providers to migrate to standards-compliant systems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2900160"/>
            <a:ext cx="663732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urrent Statu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Activitie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160 member hospitals in CA, NV, AZ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trong web presence ~4,000 page views/month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idely distributed newsletter and alerts 1,700 recipient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Group calls with specific case discussion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In-person discussions — shared challenge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Harvesting local expertise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Alliance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pecialized organizations/PSO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Brings specific expertise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Generalized PSO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Greater reach for rare issues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Faster knowledge spread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Regulator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Shared goals but different toolkits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Other provider type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Shared problems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6:35:25Z</dcterms:created>
  <dc:creator>Rory Jaffe</dc:creator>
  <dc:description/>
  <dc:language>en-US</dc:language>
  <cp:lastModifiedBy>Kim Gretka</cp:lastModifiedBy>
  <dcterms:modified xsi:type="dcterms:W3CDTF">2010-10-18T23:51:16Z</dcterms:modified>
  <cp:revision>37</cp:revision>
  <dc:subject/>
  <dc:title>PowerPoint Presentation</dc:title>
</cp:coreProperties>
</file>