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CFE-6A32-49E2-A6DA-9B9D6A04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4F4-6877-4BC2-8718-BA26F75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F3D-4C83-40E5-8710-75440EB0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5A9-B986-4645-A9D1-FACBB681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2590-058A-4966-90F5-B55A14C4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6499-A57C-4FB6-8D3B-CED3710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B679-BC08-4E65-9EA6-181FD8B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05C9-CE00-409A-A8C1-5A2591D4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5B33-7469-4890-9D06-0BD8614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996A-BFEE-4E7B-83C9-3E66DDC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2021-1E90-41C3-927F-03619B7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A0E-9DF8-4B08-AF29-361FA969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112E-1EEE-4066-A976-5013EE1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47A2-60B3-4A95-85E7-794069E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B5E9-0C18-4C3E-A641-7684E50B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398-B150-4C5B-AA01-6339D5AF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5846-0528-454F-943E-4854FBD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2CB03-BE27-49B9-B513-741E7E32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92464-9A46-4404-B898-722DCC52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CB9BE-AAE4-4EA8-94DA-CEFB17C8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303AC-6E2A-44D8-9BB8-580647D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41C96-277E-4A09-93E0-A9933C1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9F3-FDFE-45D0-83EC-EA298988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6803E-1F36-4E50-A78E-B71CC47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91DAD-3F92-4BDF-8E1E-5B801454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8D341-61D4-42F0-96DC-E599970C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8FD68-07BD-4E7D-942C-F3D4E9C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29BA6-5D14-4016-9A40-33CA48FF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021CE-1167-47FF-B1C0-805B5DDF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80967-E02D-4FC3-A8DF-E5BF89C8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B70C-A7A7-4305-831E-DD263AFC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1C17-7A92-45DF-AE54-0A4A2DA7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0DF9-FF95-4AB0-B3B1-5F5E78F4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915-008F-4A86-906B-32ACA484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FEF6-6DF7-4255-9F9A-2C99258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0A9C-403F-4A6B-BF34-8526E124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5890-0406-49B9-A85E-5D67C41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02A0E-0B12-4CD8-A2DF-EFABCBE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2661-3731-45C6-9F68-795A09C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16F54-0487-4EAF-9939-708BC83E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D902-12FE-49FB-99B6-D0BCE5F8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0A3A-35BA-46D7-B629-35DC6540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04B3-25BD-42E1-9D33-A8CC0713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9ED-877B-4DE7-80E6-3ACB5428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E9D-BCE5-48DB-86DC-4162BB61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987-87CE-479F-BE93-EA618DE0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7C8-88AC-4BF2-BFF4-B92CC4EA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5B5-2133-4788-A79D-701A6404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E243-7EC3-4A31-AB1C-AEEE1E1E286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d010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3C3-5C83-4357-B7B6-1A9089B157BF}" type="slidenum">
              <a:rPr b="0" lang="en-US" sz="1200" spc="-1" strike="noStrike">
                <a:solidFill>
                  <a:srgbClr val="ad010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093A-B548-4B52-BDFF-A29EB9A7F5E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c6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8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066E-50C1-436E-AF80-C256F2F5711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rjaffe@calhospital.org" TargetMode="External"/><Relationship Id="rId2" Type="http://schemas.openxmlformats.org/officeDocument/2006/relationships/hyperlink" Target="mailto:rjaffe@calhospital.org" TargetMode="External"/><Relationship Id="rId3" Type="http://schemas.openxmlformats.org/officeDocument/2006/relationships/hyperlink" Target="mailto:rjaffe@calhospital.org" TargetMode="External"/><Relationship Id="rId4" Type="http://schemas.openxmlformats.org/officeDocument/2006/relationships/hyperlink" Target="mailto:rjaffe@calhospital.org" TargetMode="External"/><Relationship Id="rId5" Type="http://schemas.openxmlformats.org/officeDocument/2006/relationships/hyperlink" Target="http://www.chpso.org/" TargetMode="External"/><Relationship Id="rId6" Type="http://schemas.openxmlformats.org/officeDocument/2006/relationships/hyperlink" Target="http://www.chpso.org/" TargetMode="External"/><Relationship Id="rId7" Type="http://schemas.openxmlformats.org/officeDocument/2006/relationships/hyperlink" Target="http://www.chpso.org/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80bc"/>
                </a:solidFill>
                <a:latin typeface="Arno Pro Display"/>
              </a:rPr>
              <a:t>CHPSO</a:t>
            </a:r>
            <a:endParaRPr b="0" lang="en-US" sz="72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24242"/>
                </a:solidFill>
                <a:latin typeface="Century Gothic"/>
              </a:rPr>
              <a:t>Rory Jaffe, MD MBA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24242"/>
                </a:solidFill>
                <a:latin typeface="Century Gothic"/>
              </a:rPr>
              <a:t>Executive Director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24242"/>
                </a:solidFill>
                <a:latin typeface="Century Gothic"/>
              </a:rPr>
              <a:t>California Hospital Patient Safety Organization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648320" y="808200"/>
            <a:ext cx="350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edicated to eliminating preventable harm and improving the quality of health care delivery in California hospital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Data Collec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tarting up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Waited for electronic standards from AHRQ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tandards were for PSO — NPSD communication, not provider — PSO communic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Develop standards provider — PSO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Adapting provider systems to send in formatted data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ome providers are changing event reporting collection method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hallenge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Legal uncertainty — interaction with other law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Trust — preservation of confidentiality in the face of increased communic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haotic improvement environmen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Patient safety fatigue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Measure reporting fatigue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os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Unproven valu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lients have widely varying needs and sophistic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024680" cy="403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180bc"/>
                </a:solidFill>
                <a:latin typeface="Arno Pro Display"/>
                <a:ea typeface="Arial"/>
              </a:rPr>
              <a:t>CHPSO</a:t>
            </a:r>
            <a:br>
              <a:rPr sz="80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Dedicated to eliminating prevent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arm and improving the qual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ealth care delivery in Californi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ospitals</a:t>
            </a:r>
            <a:br>
              <a:rPr sz="1800"/>
            </a:b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ontact Informatio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320" y="4873680"/>
            <a:ext cx="67770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entury Gothic"/>
              </a:rPr>
              <a:t>Rory Jaffe 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1"/>
              </a:rPr>
              <a:t>rjaffe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2"/>
              </a:rPr>
              <a:t>@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3"/>
              </a:rPr>
              <a:t>calhospital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4"/>
              </a:rPr>
              <a:t>.org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5"/>
              </a:rPr>
              <a:t>http://www.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6"/>
              </a:rPr>
              <a:t>chpso</a:t>
            </a:r>
            <a:r>
              <a:rPr b="0" lang="en-US" sz="2000" spc="-1" strike="noStrike" u="sng">
                <a:solidFill>
                  <a:srgbClr val="d26900"/>
                </a:solidFill>
                <a:uFillTx/>
                <a:latin typeface="Century Gothic"/>
                <a:hlinkClick r:id="rId7"/>
              </a:rPr>
              <a:t>.org/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About CHPSO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Created by California Hospital Association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Not-for-profit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mall (1.5 employees), planning to grow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To Err is Human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PSOs are a direct response to report’s recommendation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Collect standardized information nationwid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Develop voluntary reporting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Extend peer review protections to data related to safety and quality improvement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Develop a culture of safety 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egin with the End in Mind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What should our system look like?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Safety data is a “first class citizen” and ubiquitou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Systems involved in the normal course of care produce most of the data (e.g., the EHR)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For each patient, we know whether they are getting the right care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Compatible with HIE (health information exchange)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Information and knowledge is freely exchanged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How do we start?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Embrace standards whenever possible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Avoid manual entry and rework whenever possible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Encourage networking and sharing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Reality Check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No standard incident report system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Vendor-specific system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Terminology varies, even within same vendor (for some vendors)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Work flow varie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Scope varies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Initial report, analysis, mitigation, outcome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Types of events included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425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Century Gothic"/>
              </a:rPr>
              <a:t>Handling of legal issues</a:t>
            </a:r>
            <a:endParaRPr b="0" lang="en-US" sz="17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Change is expensive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Integration of new system into infrastructure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Personnel time for retraining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Baby Step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If providers don’t participate, we cannot move towards our goal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Provide the lowest possible hurdle for participation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No completeness standards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Century Gothic"/>
              </a:rPr>
              <a:t>Data collection and analysis is only one of our tools and may not be the most important</a:t>
            </a:r>
            <a:endParaRPr b="0" lang="en-US" sz="2000" spc="-1" strike="noStrike">
              <a:solidFill>
                <a:srgbClr val="303030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Century Gothic"/>
              </a:rPr>
              <a:t>We’re not in the business of “counting stuff”</a:t>
            </a:r>
            <a:endParaRPr b="0" lang="en-US" sz="19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Encourage providers to migrate to standards-compliant system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2900160"/>
            <a:ext cx="663732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Current Statu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Activitie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160 member hospitals in CA, NV, AZ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trong web presence ~4,000 page views/month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Widely distributed newsletter and alerts 1,700 recipient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Group calls with specific case discussion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In-person discussions — shared challenge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Harvesting local expertise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fd2"/>
            </a:gs>
            <a:gs pos="100000">
              <a:srgbClr val="8383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0101"/>
                </a:solidFill>
                <a:latin typeface="Century Gothic"/>
              </a:rPr>
              <a:t>Alliances</a:t>
            </a:r>
            <a:endParaRPr b="0" lang="en-US" sz="4000" spc="-1" strike="noStrike">
              <a:solidFill>
                <a:srgbClr val="ad0101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Specialized organizations/PSO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Brings specific expertise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Generalized PSO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Greater reach for rare issue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Faster knowledge spread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Regulator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hared goals but different toolkit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entury Gothic"/>
              </a:rPr>
              <a:t>Other provider types</a:t>
            </a:r>
            <a:endParaRPr b="0" lang="en-US" sz="2400" spc="-1" strike="noStrike">
              <a:solidFill>
                <a:srgbClr val="303030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ad0101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Century Gothic"/>
              </a:rPr>
              <a:t>Shared problems</a:t>
            </a:r>
            <a:endParaRPr b="0" lang="en-US" sz="2200" spc="-1" strike="noStrike">
              <a:solidFill>
                <a:srgbClr val="30303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6:35:25Z</dcterms:created>
  <dc:creator>Rory Jaffe</dc:creator>
  <dc:description/>
  <dc:language>en-US</dc:language>
  <cp:lastModifiedBy>Kim Gretka</cp:lastModifiedBy>
  <dcterms:modified xsi:type="dcterms:W3CDTF">2010-10-18T23:51:16Z</dcterms:modified>
  <cp:revision>37</cp:revision>
  <dc:subject/>
  <dc:title>PowerPoint Presentation</dc:title>
</cp:coreProperties>
</file>