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722d"/>
                </a:solidFill>
                <a:latin typeface="Futura"/>
              </a:rPr>
              <a:t>Click to move the slide</a:t>
            </a: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FF65-1E93-49E6-9681-CA88C1181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2387-4D43-49C4-AEF3-A33ECB92B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21FB-5A02-4DA6-9A69-0CBEF54DA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6F80-7BA0-41EC-A554-3F27855A1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2C2B-FAAE-46AA-9B08-95F542A9F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4B37-1B20-4058-93C9-742C48B73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 development of consensus on operational definitions to uniformly classify and describe severity of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hanced attention to collection of common data elements using uniform approaches, especially for measurement of strong predictors of outcome and for the outcomes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of valid and reliable tools to globally assess infant and child health status with the long term goal of ultimately having follow-up into young adulthood and later to include functional status and quality of life meas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perative data sharing with these common data elements to include plans for assessing issues of diagnostic accuracy, changing natural history, and prognosis, as well as large-scale multivariable data analysis comparing outc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of such analyses to inform the conduct of the most pressing clinical trials in which there is scientific equipo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ment in research infrastructure, external to any one site, that can facilitate achieving these ai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ethods for funding and sharing cost and liability risk for the conduct of maternal-fetal treatment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ablishment of an accepted and consistent set of ethical standards for research in the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1C82-9641-4C19-B245-3315CE5D1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3893-8116-4424-9303-5BA155AF7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FEDD-B041-472C-AEEC-D13D5512F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D485-2818-492D-A854-34A12FB4E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791D-9E2B-4FC9-8EF7-1D8561F6D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F36D-1098-49F3-997C-4E7AE706A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D438-846F-4073-9E48-4CF6D5F9E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2DBA-8127-4E3A-8C43-F8DEEA8B7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020A-F740-4744-A7A6-6FAF37EFA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634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634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634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634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634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634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953-A933-4918-A897-2B20408F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FE7-8830-4470-8F07-9DC8EF9C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948-D6F4-46E2-84D6-7B264B0A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48D-50A5-4CDA-AA0D-9592715D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F8B-397B-45CF-8353-5694565F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AA2-95FD-465C-92D8-14AB7C8B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634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F76-920E-470A-AE84-A9CA01B9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634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B348-C930-470E-8302-07CE6B24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634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5F8-0B6C-4D2D-AD30-CA85F4EF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634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955-B2E8-4E44-928C-972AA23D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634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634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B02-70EE-49C3-A662-FF26BCD0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634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634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634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8DD-1380-404D-AE96-9D3C5E49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634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634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634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722d"/>
                </a:solidFill>
                <a:latin typeface="Futura"/>
              </a:rPr>
              <a:t>Click to edit the title text format</a:t>
            </a: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601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2" name="Picture 9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11066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bottom"/>
          <p:cNvPicPr/>
          <p:nvPr/>
        </p:nvPicPr>
        <p:blipFill>
          <a:blip r:embed="rId3"/>
          <a:stretch/>
        </p:blipFill>
        <p:spPr>
          <a:xfrm>
            <a:off x="0" y="6253200"/>
            <a:ext cx="9144000" cy="6048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0" descr="footer.png"/>
          <p:cNvPicPr/>
          <p:nvPr/>
        </p:nvPicPr>
        <p:blipFill>
          <a:blip r:embed="rId4"/>
          <a:stretch/>
        </p:blipFill>
        <p:spPr>
          <a:xfrm>
            <a:off x="5486400" y="6477120"/>
            <a:ext cx="3362400" cy="1998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instituterheader.png"/>
          <p:cNvPicPr/>
          <p:nvPr/>
        </p:nvPicPr>
        <p:blipFill>
          <a:blip r:embed="rId5"/>
          <a:stretch/>
        </p:blipFill>
        <p:spPr>
          <a:xfrm>
            <a:off x="380880" y="333360"/>
            <a:ext cx="6820200" cy="276120"/>
          </a:xfrm>
          <a:prstGeom prst="rect">
            <a:avLst/>
          </a:prstGeom>
          <a:ln w="0">
            <a:noFill/>
          </a:ln>
        </p:spPr>
      </p:pic>
      <p:sp>
        <p:nvSpPr>
          <p:cNvPr id="6" name="TextBox 8"/>
          <p:cNvSpPr/>
          <p:nvPr/>
        </p:nvSpPr>
        <p:spPr>
          <a:xfrm>
            <a:off x="2057400" y="6094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732d"/>
                </a:solidFill>
                <a:latin typeface="Palatino Linotype"/>
              </a:rPr>
              <a:t>VANDERBILT EVIDENCE-BASED PRACTIC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110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bottom"/>
          <p:cNvPicPr/>
          <p:nvPr/>
        </p:nvPicPr>
        <p:blipFill>
          <a:blip r:embed="rId3"/>
          <a:stretch/>
        </p:blipFill>
        <p:spPr>
          <a:xfrm>
            <a:off x="0" y="6253200"/>
            <a:ext cx="9144000" cy="604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footer.png"/>
          <p:cNvPicPr/>
          <p:nvPr/>
        </p:nvPicPr>
        <p:blipFill>
          <a:blip r:embed="rId4"/>
          <a:stretch/>
        </p:blipFill>
        <p:spPr>
          <a:xfrm>
            <a:off x="5486400" y="6477120"/>
            <a:ext cx="3362400" cy="199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instituterheader.png"/>
          <p:cNvPicPr/>
          <p:nvPr/>
        </p:nvPicPr>
        <p:blipFill>
          <a:blip r:embed="rId5"/>
          <a:stretch/>
        </p:blipFill>
        <p:spPr>
          <a:xfrm>
            <a:off x="380880" y="333360"/>
            <a:ext cx="6820200" cy="276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2057400" y="6094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732d"/>
                </a:solidFill>
                <a:latin typeface="Palatino Linotype"/>
              </a:rPr>
              <a:t>VANDERBILT EVIDENCE-BASED PRACTIC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722d"/>
                </a:solidFill>
                <a:latin typeface="Futura"/>
              </a:rPr>
              <a:t>Click to edit the title text format</a:t>
            </a: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601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68580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3124080" y="5638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65530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382B-AA55-4686-8BB3-0F9D435D3D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09680" y="43430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"/>
              </a:rPr>
              <a:t>Katherine E. Hartmann, MD, PhD</a:t>
            </a: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"/>
              </a:rPr>
              <a:t>Lucius E. Burch Chair, Obstetrics and Gynecology</a:t>
            </a: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"/>
              </a:rPr>
              <a:t>Deputy Director, Institute for Medicine and Public Health</a:t>
            </a: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"/>
              </a:rPr>
              <a:t>Director, Vanderbilt Evidence-based Practice Center</a:t>
            </a: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722d"/>
                </a:solidFill>
                <a:latin typeface="Futura"/>
              </a:rPr>
              <a:t>Evidence Limited </a:t>
            </a:r>
            <a:br>
              <a:rPr sz="4000"/>
            </a:br>
            <a:r>
              <a:rPr b="0" lang="en-US" sz="2800" spc="-1" strike="noStrike">
                <a:solidFill>
                  <a:srgbClr val="92722d"/>
                </a:solidFill>
                <a:latin typeface="Futura"/>
              </a:rPr>
              <a:t>to</a:t>
            </a:r>
            <a:br>
              <a:rPr sz="2800"/>
            </a:br>
            <a:r>
              <a:rPr b="0" lang="en-US" sz="4000" spc="-1" strike="noStrike">
                <a:solidFill>
                  <a:srgbClr val="92722d"/>
                </a:solidFill>
                <a:latin typeface="Futura"/>
              </a:rPr>
              <a:t>Inform Decisions about </a:t>
            </a:r>
            <a:br>
              <a:rPr sz="4000"/>
            </a:br>
            <a:r>
              <a:rPr b="0" lang="en-US" sz="4000" spc="-1" strike="noStrike">
                <a:solidFill>
                  <a:srgbClr val="92722d"/>
                </a:solidFill>
                <a:latin typeface="Futura"/>
              </a:rPr>
              <a:t>Maternal-Fetal Surgery </a:t>
            </a:r>
            <a:endParaRPr b="0" lang="en-US" sz="4000" spc="-1" strike="noStrike">
              <a:solidFill>
                <a:srgbClr val="92722d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able 3" descr=""/>
          <p:cNvPicPr/>
          <p:nvPr/>
        </p:nvPicPr>
        <p:blipFill>
          <a:blip r:embed="rId1"/>
          <a:stretch/>
        </p:blipFill>
        <p:spPr>
          <a:xfrm>
            <a:off x="353880" y="1657440"/>
            <a:ext cx="8729640" cy="3779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Overview  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6095880" y="449568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able 3" descr=""/>
          <p:cNvPicPr/>
          <p:nvPr/>
        </p:nvPicPr>
        <p:blipFill>
          <a:blip r:embed="rId1"/>
          <a:stretch/>
        </p:blipFill>
        <p:spPr>
          <a:xfrm>
            <a:off x="365040" y="1536840"/>
            <a:ext cx="8487000" cy="4241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17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Overview</a:t>
            </a:r>
            <a:r>
              <a:rPr b="0" lang="en-US" sz="2800" spc="-1" strike="noStrike">
                <a:solidFill>
                  <a:srgbClr val="92722d"/>
                </a:solidFill>
                <a:latin typeface="Futura"/>
              </a:rPr>
              <a:t>  </a:t>
            </a: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6095880" y="449568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able 4" descr=""/>
          <p:cNvPicPr/>
          <p:nvPr/>
        </p:nvPicPr>
        <p:blipFill>
          <a:blip r:embed="rId1"/>
          <a:stretch/>
        </p:blipFill>
        <p:spPr>
          <a:xfrm>
            <a:off x="-92160" y="974880"/>
            <a:ext cx="892512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Overview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095880" y="449568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80880" y="1523880"/>
          <a:ext cx="8382240" cy="4413240"/>
        </p:xfrm>
        <a:graphic>
          <a:graphicData uri="http://schemas.openxmlformats.org/drawingml/2006/table">
            <a:tbl>
              <a:tblPr/>
              <a:tblGrid>
                <a:gridCol w="4496040"/>
                <a:gridCol w="2057400"/>
                <a:gridCol w="1828800"/>
              </a:tblGrid>
              <a:tr h="140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velopmental S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ternal Outc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rdiac malform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/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/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D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/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/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yelomeningoce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/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/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structive uropat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/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/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crococcygeal terat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oracic le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/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/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win-twin transfusion syndr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/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/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Outcomes reported 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744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Challenges for the field include: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Rare conditions with no method to consolidate new cases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Cases accrue slowly - innovations change the benefit equation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Clinical and research classifications of fetal anomalies vary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Spontaneous regression/stabilization occurs 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Prognosis cannot be determined with high accuracy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Changes in the spectrum of disease reduces comparability to prior natural history studies of anticipated outcomes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Intervention techniques change rapidly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Higher SES patients are over-represented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Regionalization of care needs consideration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No formal plan for certified training programs exists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575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0120" y="13302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Strategies to Reduce Evidence Gaps 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880" y="21333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Continue to develop consensus operational definition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Enhance attention to common data elemen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Use valid and reliable tools for outcom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upport platforms for cooperative data sharing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Use analyses to help define equipoise for trial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Develop new methods for funding and cost sharing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Establish a consistent set of ethical standards for research in the field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7160" y="1294920"/>
            <a:ext cx="868824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Challenges for Technical Brief Process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33280" y="187128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Content of the research: organizing classification, defining families, resisting urge to cross into outcom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Access to fetal surgery: identifying pool of experts - able to establish via direct communication with those who publish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Training of providers: identifying sites - able to establish 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Ethical aspects: balancing priorities for the report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Coverage: identifying accurate, available sourc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Ongoing studies: documenting trials more achievable than other studi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45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utur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2600" y="14018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Technical Brief Conclusions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20253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Limited RCT evidence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Literature dominated by case series (70% of studies)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Lack of clearly described maternal inclusion criteria and long term follow-up for infant or mother 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Limited outcomes reported: 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7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"/>
              </a:rPr>
              <a:t>Literature not typical level of quality of studies or aggregate strength of evidence sufficient to guide care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Technical Brief Intent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6440" y="208080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ummarizing the state of the field including: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Content of the research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Access to fetal surgery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Training of provider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Ethical aspect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Coverage of procedure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Ongoing studie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Selection of target conditions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2069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Cardiac malformation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700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Congenital diaphragmatic hernia 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700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Myelomeningocele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700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Obstructive uropathy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700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acrococcygeal teratoma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700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Thoracic lesions (Congenital Pulmonary Airway Malformations)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700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Twin-twin transfusion syndrome 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Review Team &amp; Expert Panel Selection 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57080" y="1939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etal sonographers/echocardiographer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Maternal-fetal medicine specialis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Perinatal geneticis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Pediatric surgeon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etal” surgeon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Neonatologis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Biomedical ethicis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Generalists prenatal care provider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amiliarity with perinatal hospice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3539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State of the Evidence Methods 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PubMed, MEDLINE (no date limits) 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1199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English, 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  <a:ea typeface="Times New Roman"/>
              </a:rPr>
              <a:t>≥ 2 cases, condition of interest, fetal intervention, training information, outcomes including quality of life (for mother or fetus)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1199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  <a:ea typeface="Times New Roman"/>
              </a:rPr>
              <a:t>Included RCT, cohorts with comparison, case-control, and case serie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7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0040" y="131904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State of the Evidence Review Methods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792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Dual review of abstract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35880" indent="-335880">
              <a:spcBef>
                <a:spcPts val="700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Dual review of articles 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35880" indent="-335880">
              <a:spcBef>
                <a:spcPts val="700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Extraction of </a:t>
            </a:r>
            <a:r>
              <a:rPr b="0" i="1" lang="en-US" sz="2800" spc="-1" strike="noStrike">
                <a:solidFill>
                  <a:srgbClr val="ffffff"/>
                </a:solidFill>
                <a:latin typeface="Futura"/>
              </a:rPr>
              <a:t>descriptive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 data into standardized forms: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3" marL="896040" indent="-447840">
              <a:buClr>
                <a:srgbClr val="ffffff"/>
              </a:buClr>
              <a:buFont typeface="Futu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"/>
                <a:ea typeface="Times New Roman"/>
              </a:rPr>
              <a:t>study design and setting</a:t>
            </a:r>
            <a:endParaRPr b="0" lang="en-US" sz="2600" spc="-1" strike="noStrike">
              <a:solidFill>
                <a:srgbClr val="ffffff"/>
              </a:solidFill>
              <a:latin typeface="Futura"/>
            </a:endParaRPr>
          </a:p>
          <a:p>
            <a:pPr lvl="3" marL="896040" indent="-447840">
              <a:buClr>
                <a:srgbClr val="ffffff"/>
              </a:buClr>
              <a:buFont typeface="Futu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"/>
                <a:ea typeface="Times New Roman"/>
              </a:rPr>
              <a:t>fetal and maternal inclusion criteria </a:t>
            </a:r>
            <a:endParaRPr b="0" lang="en-US" sz="2600" spc="-1" strike="noStrike">
              <a:solidFill>
                <a:srgbClr val="ffffff"/>
              </a:solidFill>
              <a:latin typeface="Futura"/>
            </a:endParaRPr>
          </a:p>
          <a:p>
            <a:pPr lvl="3" marL="896040" indent="-447840">
              <a:buClr>
                <a:srgbClr val="ffffff"/>
              </a:buClr>
              <a:buFont typeface="Futu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"/>
                <a:ea typeface="Times New Roman"/>
              </a:rPr>
              <a:t>training of providers</a:t>
            </a:r>
            <a:endParaRPr b="0" lang="en-US" sz="2600" spc="-1" strike="noStrike">
              <a:solidFill>
                <a:srgbClr val="ffffff"/>
              </a:solidFill>
              <a:latin typeface="Futura"/>
            </a:endParaRPr>
          </a:p>
          <a:p>
            <a:pPr lvl="3" marL="896040" indent="-447840">
              <a:buClr>
                <a:srgbClr val="ffffff"/>
              </a:buClr>
              <a:buFont typeface="Futu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"/>
                <a:ea typeface="Times New Roman"/>
              </a:rPr>
              <a:t>outcomes measured </a:t>
            </a:r>
            <a:endParaRPr b="0" lang="en-US" sz="2600" spc="-1" strike="noStrike">
              <a:solidFill>
                <a:srgbClr val="ffffff"/>
              </a:solidFill>
              <a:latin typeface="Futura"/>
            </a:endParaRPr>
          </a:p>
          <a:p>
            <a:pPr lvl="3" marL="896040" indent="-447840">
              <a:buClr>
                <a:srgbClr val="ffffff"/>
              </a:buClr>
              <a:buFont typeface="Futu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"/>
                <a:ea typeface="Times New Roman"/>
              </a:rPr>
              <a:t>length of follow up</a:t>
            </a:r>
            <a:endParaRPr b="0" lang="en-US" sz="26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Disposition of the Literature 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09" name="Content Placeholder 2"/>
          <p:cNvSpPr/>
          <p:nvPr/>
        </p:nvSpPr>
        <p:spPr>
          <a:xfrm>
            <a:off x="1817640" y="1905120"/>
            <a:ext cx="618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Abstracts: 1382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Articles:  620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Relevant studies: 166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tudy desig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  <a:ea typeface="ＭＳ Ｐゴシック"/>
              </a:rPr>
              <a:t>RCTS: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  <a:ea typeface="ＭＳ Ｐゴシック"/>
              </a:rPr>
              <a:t>Cohort studies: 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  <a:ea typeface="ＭＳ Ｐゴシック"/>
              </a:rPr>
              <a:t>Case series: 1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tudies from US: 74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117792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722d"/>
                </a:solidFill>
                <a:latin typeface="Futura"/>
              </a:rPr>
              <a:t>Cardiac Malformations</a:t>
            </a:r>
            <a:endParaRPr b="0" lang="en-US" sz="32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723680"/>
            <a:ext cx="3429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"/>
              </a:rPr>
              <a:t>Studies (n=9)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5880" indent="-3358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Pulmonary atresia with intact ventricular septum—2  case seri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5880" indent="-3358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Aortic stenosis—8 case seri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5880" indent="-3358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Hypoplastic left heart syndrome and intact atrial septum—3 case series 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3962520" y="1724040"/>
            <a:ext cx="4952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"/>
              </a:rPr>
              <a:t>State of the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90 pregnancies in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1 study provided infant outcomes beyond hospital st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Maternal inclusion criteria poorly repo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No data on long term survival or neurologic out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4382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722d"/>
                </a:solidFill>
                <a:latin typeface="Futura"/>
              </a:rPr>
              <a:t>Congenital Diaphragmatic Hernia</a:t>
            </a:r>
            <a:endParaRPr b="0" lang="en-US" sz="32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2065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"/>
              </a:rPr>
              <a:t>Studies (n=21)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1 RCT 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3 prospective cohor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5 retrospective cohor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2 prospective case series  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10 retrospective case seri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3886200" y="2049480"/>
            <a:ext cx="49528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"/>
              </a:rPr>
              <a:t>State of the Sc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etal inclusion criteria well-reported; 9 of 21 reported maternal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ew measured outcomes beyond hospital stay (8/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Longest reported infant follow up: 24-48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Long term maternal outcomes addressed in 2 stud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3:51:25Z</dcterms:created>
  <dc:creator>Daniel Brown</dc:creator>
  <dc:description/>
  <dc:language>en-US</dc:language>
  <cp:lastModifiedBy>Kim Gretka</cp:lastModifiedBy>
  <dcterms:modified xsi:type="dcterms:W3CDTF">2010-10-19T22:13:49Z</dcterms:modified>
  <cp:revision>280</cp:revision>
  <dc:subject/>
  <dc:title>Headline</dc:title>
</cp:coreProperties>
</file>