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722d"/>
                </a:solidFill>
                <a:latin typeface="Futura"/>
              </a:rPr>
              <a:t>Click to move the slide</a:t>
            </a: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24DA-1A8A-469C-B81E-2C5A97640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8D27-1E94-46DA-84AE-2180239FA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403F-E0C9-4195-8730-51708ABD2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EF0C-E94A-483F-A9C7-004A24BC5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6F84-5264-42AD-8E59-9DA197A1D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00CA-1366-47A6-B01E-929FE9713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 development of consensus on operational definitions to uniformly classify and describe severity of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hanced attention to collection of common data elements using uniform approaches, especially for measurement of strong predictors of outcome and for the outcomes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of valid and reliable tools to globally assess infant and child health status with the long term goal of ultimately having follow-up into young adulthood and later to include functional status and quality of life meas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perative data sharing with these common data elements to include plans for assessing issues of diagnostic accuracy, changing natural history, and prognosis, as well as large-scale multivariable data analysis comparing outc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of such analyses to inform the conduct of the most pressing clinical trials in which there is scientific equipo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ment in research infrastructure, external to any one site, that can facilitate achieving these ai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ethods for funding and sharing cost and liability risk for the conduct of maternal-fetal treatment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ablishment of an accepted and consistent set of ethical standards for research in the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7074-7ED6-4EC3-93FD-54B2A759E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C02A-4E86-4EDD-9A69-BB78DDD76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17A3-809A-45F4-8247-A6553F3E5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5337-4290-4081-8D28-7338BCF62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B5F8-ABF5-4520-BB51-19D292C41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06D7-7C37-4545-A512-89BC100F7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565C-1897-4FE1-826D-95934D65C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F0A2-57FD-4AA2-8AD0-504DB5241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07C1-E3BA-45F3-A160-067A069A8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634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634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634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634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634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634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7B9-4A9A-4850-A231-940DB9C7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3D7-722B-4CE9-88E5-2077C02D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B91-D0B2-4C9B-AA18-7AE05D3F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4A2-9537-4696-B6F6-DDC9FB2A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C26-F305-478A-800E-C03AF5E3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1567-C803-4052-B779-E05E3326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634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5CD-32CD-4ECB-9DBB-C47E4C8C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634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2FC-A476-47F1-826A-300C12B5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634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3F5-411D-4133-8270-D2719DA1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634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B22-F90D-4D2E-B418-D5CB6F62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634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634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F6A-F3BF-4550-9A68-AC1FE876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133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133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634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634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634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2D0-4079-4F76-B9E4-D693ED51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634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634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133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634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722d"/>
                </a:solidFill>
                <a:latin typeface="Futura"/>
              </a:rPr>
              <a:t>Click to edit the title text format</a:t>
            </a: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601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2" name="Picture 9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11066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bottom"/>
          <p:cNvPicPr/>
          <p:nvPr/>
        </p:nvPicPr>
        <p:blipFill>
          <a:blip r:embed="rId3"/>
          <a:stretch/>
        </p:blipFill>
        <p:spPr>
          <a:xfrm>
            <a:off x="0" y="6253200"/>
            <a:ext cx="9144000" cy="6048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0" descr="footer.png"/>
          <p:cNvPicPr/>
          <p:nvPr/>
        </p:nvPicPr>
        <p:blipFill>
          <a:blip r:embed="rId4"/>
          <a:stretch/>
        </p:blipFill>
        <p:spPr>
          <a:xfrm>
            <a:off x="5486400" y="6477120"/>
            <a:ext cx="3362400" cy="1998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instituterheader.png"/>
          <p:cNvPicPr/>
          <p:nvPr/>
        </p:nvPicPr>
        <p:blipFill>
          <a:blip r:embed="rId5"/>
          <a:stretch/>
        </p:blipFill>
        <p:spPr>
          <a:xfrm>
            <a:off x="380880" y="333360"/>
            <a:ext cx="6820200" cy="276120"/>
          </a:xfrm>
          <a:prstGeom prst="rect">
            <a:avLst/>
          </a:prstGeom>
          <a:ln w="0">
            <a:noFill/>
          </a:ln>
        </p:spPr>
      </p:pic>
      <p:sp>
        <p:nvSpPr>
          <p:cNvPr id="6" name="TextBox 8"/>
          <p:cNvSpPr/>
          <p:nvPr/>
        </p:nvSpPr>
        <p:spPr>
          <a:xfrm>
            <a:off x="2057400" y="6094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732d"/>
                </a:solidFill>
                <a:latin typeface="Palatino Linotype"/>
              </a:rPr>
              <a:t>VANDERBILT EVIDENCE-BASED PRACTIC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110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bottom"/>
          <p:cNvPicPr/>
          <p:nvPr/>
        </p:nvPicPr>
        <p:blipFill>
          <a:blip r:embed="rId3"/>
          <a:stretch/>
        </p:blipFill>
        <p:spPr>
          <a:xfrm>
            <a:off x="0" y="6253200"/>
            <a:ext cx="9144000" cy="604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footer.png"/>
          <p:cNvPicPr/>
          <p:nvPr/>
        </p:nvPicPr>
        <p:blipFill>
          <a:blip r:embed="rId4"/>
          <a:stretch/>
        </p:blipFill>
        <p:spPr>
          <a:xfrm>
            <a:off x="5486400" y="6477120"/>
            <a:ext cx="3362400" cy="199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instituterheader.png"/>
          <p:cNvPicPr/>
          <p:nvPr/>
        </p:nvPicPr>
        <p:blipFill>
          <a:blip r:embed="rId5"/>
          <a:stretch/>
        </p:blipFill>
        <p:spPr>
          <a:xfrm>
            <a:off x="380880" y="333360"/>
            <a:ext cx="6820200" cy="276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2057400" y="6094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732d"/>
                </a:solidFill>
                <a:latin typeface="Palatino Linotype"/>
              </a:rPr>
              <a:t>VANDERBILT EVIDENCE-BASED PRACTIC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722d"/>
                </a:solidFill>
                <a:latin typeface="Futura"/>
              </a:rPr>
              <a:t>Click to edit the title text format</a:t>
            </a: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601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Futu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utu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68580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3124080" y="5638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6553080" y="5638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870E-7C2F-4E63-AC29-EBFCF9AAC7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09680" y="43430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"/>
              </a:rPr>
              <a:t>Katherine E. Hartmann, MD, PhD</a:t>
            </a: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"/>
              </a:rPr>
              <a:t>Lucius E. Burch Chair, Obstetrics and Gynecology</a:t>
            </a: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"/>
              </a:rPr>
              <a:t>Deputy Director, Institute for Medicine and Public Health</a:t>
            </a: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"/>
              </a:rPr>
              <a:t>Director, Vanderbilt Evidence-based Practice Center</a:t>
            </a: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722d"/>
                </a:solidFill>
                <a:latin typeface="Futura"/>
              </a:rPr>
              <a:t>Evidence Limited </a:t>
            </a:r>
            <a:br>
              <a:rPr sz="4000"/>
            </a:br>
            <a:r>
              <a:rPr b="0" lang="en-US" sz="2800" spc="-1" strike="noStrike">
                <a:solidFill>
                  <a:srgbClr val="92722d"/>
                </a:solidFill>
                <a:latin typeface="Futura"/>
              </a:rPr>
              <a:t>to</a:t>
            </a:r>
            <a:br>
              <a:rPr sz="2800"/>
            </a:br>
            <a:r>
              <a:rPr b="0" lang="en-US" sz="4000" spc="-1" strike="noStrike">
                <a:solidFill>
                  <a:srgbClr val="92722d"/>
                </a:solidFill>
                <a:latin typeface="Futura"/>
              </a:rPr>
              <a:t>Inform Decisions about </a:t>
            </a:r>
            <a:br>
              <a:rPr sz="4000"/>
            </a:br>
            <a:r>
              <a:rPr b="0" lang="en-US" sz="4000" spc="-1" strike="noStrike">
                <a:solidFill>
                  <a:srgbClr val="92722d"/>
                </a:solidFill>
                <a:latin typeface="Futura"/>
              </a:rPr>
              <a:t>Maternal-Fetal Surgery </a:t>
            </a:r>
            <a:endParaRPr b="0" lang="en-US" sz="4000" spc="-1" strike="noStrike">
              <a:solidFill>
                <a:srgbClr val="92722d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able 3" descr=""/>
          <p:cNvPicPr/>
          <p:nvPr/>
        </p:nvPicPr>
        <p:blipFill>
          <a:blip r:embed="rId1"/>
          <a:stretch/>
        </p:blipFill>
        <p:spPr>
          <a:xfrm>
            <a:off x="353880" y="1657440"/>
            <a:ext cx="8729640" cy="377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Overview  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6095880" y="449568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able 3" descr=""/>
          <p:cNvPicPr/>
          <p:nvPr/>
        </p:nvPicPr>
        <p:blipFill>
          <a:blip r:embed="rId1"/>
          <a:stretch/>
        </p:blipFill>
        <p:spPr>
          <a:xfrm>
            <a:off x="365040" y="1536840"/>
            <a:ext cx="8487000" cy="4241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17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Overview</a:t>
            </a:r>
            <a:r>
              <a:rPr b="0" lang="en-US" sz="2800" spc="-1" strike="noStrike">
                <a:solidFill>
                  <a:srgbClr val="92722d"/>
                </a:solidFill>
                <a:latin typeface="Futura"/>
              </a:rPr>
              <a:t>  </a:t>
            </a:r>
            <a:endParaRPr b="0" lang="en-US" sz="28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6095880" y="449568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able 4" descr=""/>
          <p:cNvPicPr/>
          <p:nvPr/>
        </p:nvPicPr>
        <p:blipFill>
          <a:blip r:embed="rId1"/>
          <a:stretch/>
        </p:blipFill>
        <p:spPr>
          <a:xfrm>
            <a:off x="-92160" y="974880"/>
            <a:ext cx="892512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Overview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095880" y="449568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80880" y="1523880"/>
          <a:ext cx="8382240" cy="4413240"/>
        </p:xfrm>
        <a:graphic>
          <a:graphicData uri="http://schemas.openxmlformats.org/drawingml/2006/table">
            <a:tbl>
              <a:tblPr/>
              <a:tblGrid>
                <a:gridCol w="4496040"/>
                <a:gridCol w="2057400"/>
                <a:gridCol w="1828800"/>
              </a:tblGrid>
              <a:tr h="140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velopmental 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ternal Outc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rdiac malform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/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/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D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/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/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yelomeningoce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/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/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structive uropat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/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/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crococcygeal terat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oracic le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/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/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win-twin transfusion syndr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/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/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Outcomes reported 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744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Challenges for the field include: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Rare conditions with no method to consolidate new cases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Cases accrue slowly - innovations change the benefit equation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Clinical and research classifications of fetal anomalies vary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Spontaneous regression/stabilization occurs 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Prognosis cannot be determined with high accuracy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Changes in the spectrum of disease reduces comparability to prior natural history studies of anticipated outcomes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Intervention techniques change rapidly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Higher SES patients are over-represented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Regionalization of care needs consideration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Futura"/>
              </a:rPr>
              <a:t>No formal plan for certified training programs exists</a:t>
            </a: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  <a:p>
            <a:pPr marL="256320" indent="-256320">
              <a:spcBef>
                <a:spcPts val="575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0120" y="13302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Strategies to Reduce Evidence Gaps 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880" y="21333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ontinue to develop consensus operational definition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Enhance attention to common data elemen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Use valid and reliable tools for outcom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Support platforms for cooperative data sharing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Use analyses to help define equipoise for trial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Develop new methods for funding and cost sharing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Establish a consistent set of ethical standards for research in the field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7160" y="1294920"/>
            <a:ext cx="868824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Challenges for Technical Brief Process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33280" y="187128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ontent of the research: organizing classification, defining families, resisting urge to cross into outcom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Access to fetal surgery: identifying pool of experts - able to establish via direct communication with those who publish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Training of providers: identifying sites - able to establish 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Ethical aspects: balancing priorities for the report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Coverage: identifying accurate, available sourc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Ongoing studies: documenting trials more achievable than other studi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45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4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"/>
            </a:endParaRPr>
          </a:p>
          <a:p>
            <a:pPr marL="220680" indent="-220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utur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2600" y="14018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Technical Brief Conclusions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20253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Limited RCT evidence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Literature dominated by case series (70% of studies)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Lack of clearly described maternal inclusion criteria and long term follow-up for infant or mother 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Limited outcomes reported: 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7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"/>
              </a:rPr>
              <a:t>Literature not typical level of quality of studies or aggregate strength of evidence sufficient to guide care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Technical Brief Intent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6440" y="208080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ummarizing the state of the field including: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Content of the research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Access to fetal surgery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Training of provider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Ethical aspect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Coverage of procedure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>
              <a:spcBef>
                <a:spcPts val="10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Ongoing studie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Selection of target conditions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2069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Cardiac malformation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700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Congenital diaphragmatic hernia 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700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Myelomeningocele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700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Obstructive uropathy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700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acrococcygeal teratoma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700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Thoracic lesions (Congenital Pulmonary Airway Malformations)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1" marL="743040" indent="-285840">
              <a:spcBef>
                <a:spcPts val="700"/>
              </a:spcBef>
              <a:buClr>
                <a:srgbClr val="e4b44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Twin-twin transfusion syndrome 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Review Team &amp; Expert Panel Selection 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57080" y="1939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etal sonographers/echocardiographer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Maternal-fetal medicine specialis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Perinatal geneticis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Pediatric surgeon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etal” surgeon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Neonatologis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Biomedical ethicis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Generalists prenatal care provider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2640" indent="-332640">
              <a:spcBef>
                <a:spcPts val="601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amiliarity with perinatal hospice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3539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State of the Evidence Methods 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PubMed, MEDLINE (no date limits) 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1199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English, 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  <a:ea typeface="Times New Roman"/>
              </a:rPr>
              <a:t>≥ 2 cases, condition of interest, fetal intervention, training information, outcomes including quality of life (for mother or fetus)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1199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  <a:ea typeface="Times New Roman"/>
              </a:rPr>
              <a:t>Included RCT, cohorts with comparison, case-control, and case serie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7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0040" y="131904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State of the Evidence Review Methods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792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Dual review of abstracts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35880" indent="-335880">
              <a:spcBef>
                <a:spcPts val="700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Dual review of articles 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marL="335880" indent="-335880">
              <a:spcBef>
                <a:spcPts val="700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Extraction of </a:t>
            </a:r>
            <a:r>
              <a:rPr b="0" i="1" lang="en-US" sz="2800" spc="-1" strike="noStrike">
                <a:solidFill>
                  <a:srgbClr val="ffffff"/>
                </a:solidFill>
                <a:latin typeface="Futura"/>
              </a:rPr>
              <a:t>descriptive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 data into standardized forms:</a:t>
            </a:r>
            <a:endParaRPr b="0" lang="en-US" sz="2800" spc="-1" strike="noStrike">
              <a:solidFill>
                <a:srgbClr val="ffffff"/>
              </a:solidFill>
              <a:latin typeface="Futura"/>
            </a:endParaRPr>
          </a:p>
          <a:p>
            <a:pPr lvl="3" marL="896040" indent="-447840">
              <a:buClr>
                <a:srgbClr val="ffffff"/>
              </a:buClr>
              <a:buFont typeface="Futu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"/>
                <a:ea typeface="Times New Roman"/>
              </a:rPr>
              <a:t>study design and setting</a:t>
            </a:r>
            <a:endParaRPr b="0" lang="en-US" sz="2600" spc="-1" strike="noStrike">
              <a:solidFill>
                <a:srgbClr val="ffffff"/>
              </a:solidFill>
              <a:latin typeface="Futura"/>
            </a:endParaRPr>
          </a:p>
          <a:p>
            <a:pPr lvl="3" marL="896040" indent="-447840">
              <a:buClr>
                <a:srgbClr val="ffffff"/>
              </a:buClr>
              <a:buFont typeface="Futu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"/>
                <a:ea typeface="Times New Roman"/>
              </a:rPr>
              <a:t>fetal and maternal inclusion criteria </a:t>
            </a:r>
            <a:endParaRPr b="0" lang="en-US" sz="2600" spc="-1" strike="noStrike">
              <a:solidFill>
                <a:srgbClr val="ffffff"/>
              </a:solidFill>
              <a:latin typeface="Futura"/>
            </a:endParaRPr>
          </a:p>
          <a:p>
            <a:pPr lvl="3" marL="896040" indent="-447840">
              <a:buClr>
                <a:srgbClr val="ffffff"/>
              </a:buClr>
              <a:buFont typeface="Futu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"/>
                <a:ea typeface="Times New Roman"/>
              </a:rPr>
              <a:t>training of providers</a:t>
            </a:r>
            <a:endParaRPr b="0" lang="en-US" sz="2600" spc="-1" strike="noStrike">
              <a:solidFill>
                <a:srgbClr val="ffffff"/>
              </a:solidFill>
              <a:latin typeface="Futura"/>
            </a:endParaRPr>
          </a:p>
          <a:p>
            <a:pPr lvl="3" marL="896040" indent="-447840">
              <a:buClr>
                <a:srgbClr val="ffffff"/>
              </a:buClr>
              <a:buFont typeface="Futu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"/>
                <a:ea typeface="Times New Roman"/>
              </a:rPr>
              <a:t>outcomes measured </a:t>
            </a:r>
            <a:endParaRPr b="0" lang="en-US" sz="2600" spc="-1" strike="noStrike">
              <a:solidFill>
                <a:srgbClr val="ffffff"/>
              </a:solidFill>
              <a:latin typeface="Futura"/>
            </a:endParaRPr>
          </a:p>
          <a:p>
            <a:pPr lvl="3" marL="896040" indent="-447840">
              <a:buClr>
                <a:srgbClr val="ffffff"/>
              </a:buClr>
              <a:buFont typeface="Futu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"/>
                <a:ea typeface="Times New Roman"/>
              </a:rPr>
              <a:t>length of follow up</a:t>
            </a:r>
            <a:endParaRPr b="0" lang="en-US" sz="26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722d"/>
                </a:solidFill>
                <a:latin typeface="Futura"/>
              </a:rPr>
              <a:t>Disposition of the Literature </a:t>
            </a:r>
            <a:endParaRPr b="0" lang="en-US" sz="36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09" name="Content Placeholder 2"/>
          <p:cNvSpPr/>
          <p:nvPr/>
        </p:nvSpPr>
        <p:spPr>
          <a:xfrm>
            <a:off x="1817640" y="1905120"/>
            <a:ext cx="618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Abstracts: 1382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Articles:  620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Relevant studies: 166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tudy desig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  <a:ea typeface="ＭＳ Ｐゴシック"/>
              </a:rPr>
              <a:t>RCTS: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  <a:ea typeface="ＭＳ Ｐゴシック"/>
              </a:rPr>
              <a:t>Cohort studies: 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  <a:ea typeface="ＭＳ Ｐゴシック"/>
              </a:rPr>
              <a:t>Case series: 1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272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Studies from US: 74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Futur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117792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722d"/>
                </a:solidFill>
                <a:latin typeface="Futura"/>
              </a:rPr>
              <a:t>Cardiac Malformations</a:t>
            </a:r>
            <a:endParaRPr b="0" lang="en-US" sz="32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723680"/>
            <a:ext cx="3429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"/>
              </a:rPr>
              <a:t>Studies (n=9)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5880" indent="-3358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Pulmonary atresia with intact ventricular septum—2  case seri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5880" indent="-3358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Aortic stenosis—8 case seri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5880" indent="-3358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Hypoplastic left heart syndrome and intact atrial septum—3 case series 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3962520" y="1724040"/>
            <a:ext cx="4952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"/>
              </a:rPr>
              <a:t>State of the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90 pregnancies in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1 study provided infant outcomes beyond hospital st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Maternal inclusion criteria poorly repo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No data on long term survival or neurologic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4382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722d"/>
                </a:solidFill>
                <a:latin typeface="Futura"/>
              </a:rPr>
              <a:t>Congenital Diaphragmatic Hernia</a:t>
            </a:r>
            <a:endParaRPr b="0" lang="en-US" sz="3200" spc="-1" strike="noStrike">
              <a:solidFill>
                <a:srgbClr val="92722d"/>
              </a:solidFill>
              <a:latin typeface="Futur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2065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"/>
              </a:rPr>
              <a:t>Studies (n=21)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1 RCT 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3 prospective cohor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5 retrospective cohort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2 prospective case series  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10 retrospective case series</a:t>
            </a: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"/>
            </a:endParaRPr>
          </a:p>
          <a:p>
            <a:pPr marL="343080" indent="-343080">
              <a:spcBef>
                <a:spcPts val="349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3886200" y="2049480"/>
            <a:ext cx="49528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utura"/>
              </a:rPr>
              <a:t>State of the Sc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etal inclusion criteria well-reported; 9 of 21 reported maternal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Few measured outcomes beyond hospital stay (8/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Longest reported infant follow up: 24-48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Long term maternal outcomes addressed in 2 stud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722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3:51:25Z</dcterms:created>
  <dc:creator>Daniel Brown</dc:creator>
  <dc:description/>
  <dc:language>en-US</dc:language>
  <cp:lastModifiedBy>Kim Gretka</cp:lastModifiedBy>
  <dcterms:modified xsi:type="dcterms:W3CDTF">2010-10-19T22:13:49Z</dcterms:modified>
  <cp:revision>280</cp:revision>
  <dc:subject/>
  <dc:title>Headline</dc:title>
</cp:coreProperties>
</file>