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5.png" ContentType="image/png"/>
  <Override PartName="/ppt/media/image8.jpeg" ContentType="image/jpeg"/>
  <Override PartName="/ppt/media/image27.png" ContentType="image/png"/>
  <Override PartName="/ppt/media/image4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jpeg" ContentType="image/jpeg"/>
  <Override PartName="/ppt/media/image12.png" ContentType="image/png"/>
  <Override PartName="/ppt/media/image31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4C6-3C9C-4105-B25C-156587AC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C07-7549-4D13-B043-757903EB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E5A-FA3B-4C15-BB51-61ED7AC4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FDB-FED6-43C8-B8D4-BD510F7A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52F0-7E7C-4B1B-9D94-DCA00266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FE04-E6D2-4A8A-A848-D327455D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6247-9E5C-4D1B-9649-EBB9F3A3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2370-C8E1-4521-99CE-27148831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8639-E44C-4A4E-B188-091C24F4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BD25-0B7F-4696-9398-0F586B70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04D6-2B09-49F5-85F8-5BD93AF0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4A9-67C5-48DB-BEED-39C177D5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9B20-E172-4D39-B0FF-4E5C0757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6D40-32F7-4B3C-912A-E830DE49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539C-8C1C-4E9D-B5F9-B0718B4E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6A7F-FEDC-4832-A791-94DDB34E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C6C6-9AB0-46E6-A302-E26E8143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02ED9-427D-411E-B359-9192AC8B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04181-A5E0-4B27-AE16-276F39F9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1CAE0-7DB4-49FB-9697-BF89FF33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2F592-7C20-449E-BCE6-5B63E945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42709-9BAC-416A-9FB8-EA0A3A26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801-C7B5-415F-96C9-371D8A17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BA384-3D25-46B9-A846-CF90D771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6152D-9324-43F9-BF5F-112D8760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1751F-8495-4AEB-80D7-10ED8137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96A64-110C-491C-82B9-AA5C53A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E1EE2-98CC-4AA4-A0FD-D6EDDA12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C5733-6C2E-489F-8700-8028500A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FFE63-9A4A-4ECD-8C9D-5D265680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2DEE-0317-42DA-BE05-90BCBB23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7E477-8EFF-4993-888C-4B1C3D99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3BD5A-E7D0-4AA1-A6E8-7367041A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F3E-7B5C-4159-827E-43D5AB8C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412EB-1B84-43DD-A899-4DCB1D3F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B4B2C-628E-4194-A38C-B3EE8CD1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55559-8CDE-491F-AD99-570CA51B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EA405-E892-466D-A14F-398D6576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B4BA-8876-44E6-A846-CEF41350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311E-E86D-49E3-A4A3-D5246625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754F-D3BA-4BDA-BEC9-B71016AF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F88F-4B81-4DB0-B2A6-BA03104B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D193A-5D59-4DEA-AE02-F7F2640E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F52FC-93E9-4203-92DC-8660CC0D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1E5-6588-4A9A-BD84-D2F19CB2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863DB-FD03-4703-85C4-DDB0561F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2ABBB-8F5E-4F04-938A-4FB00C7B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CCD50-E896-46A1-BCA6-595DB691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E1D1C-99E0-4AF9-9E46-ED2D5760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6282B-3094-4794-9297-5F759EBD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9CF89-B03C-47C5-A7AD-5343F305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0E378-4317-4FAE-8F57-F2C82DE1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3AB8F-83B4-4D6A-ACC4-78B87262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6C029-E6E2-4BCF-9E03-6BA3066A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B89A6-1974-48A0-AAFB-468322E0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171-B2B7-4E63-A154-BC8B7F76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34105-C956-42AB-8D86-394989F3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DD7D4-5DA7-4924-8AB9-65ED91E6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D53E-1204-4254-AD7C-F34B14A5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2CDF7-460A-4EFE-8662-4F998F65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4C11A-198A-4CFC-B031-60FA58BB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F8C5-3FC3-4B10-A7F2-76493C37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054C4-8F9C-4321-88BA-00D26A27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D0A92-2F86-450F-9A71-A7331A14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C872C-AE48-4378-8940-D6700656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E02D-171D-4611-A31C-0BCB338B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F8F-6550-4224-B370-47E5CC98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B52C2-B274-4AC4-BB01-838FD7F4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943EE-0BEE-4087-BEC0-A1E548FD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04E21-41A6-41C3-BBDE-F6EDD592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E4B-5EAE-4869-A63C-AC9465EF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82B-CA92-4138-A714-44272696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697D-AFD9-4878-B9CB-45899AB49D3E}" type="datetime">
              <a:rPr b="0" lang="en-US" sz="1400" spc="-1" strike="noStrike">
                <a:solidFill>
                  <a:srgbClr val="4f271c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A14E-70E5-46EE-B9AF-D546362DFA45}" type="slidenum">
              <a:rPr b="1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63FF-C4C2-446F-B5BA-1B5837990158}" type="datetime">
              <a:rPr b="0" lang="en-US" sz="20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7dec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C454-F511-459F-BAC7-2D66D9C35EF4}" type="slidenum">
              <a:rPr b="1" lang="en-US" sz="1400" spc="-1" strike="noStrike">
                <a:solidFill>
                  <a:srgbClr val="e7dec9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7536-5376-4511-A23C-D3183F42FC32}" type="datetime">
              <a:rPr b="0" lang="en-US" sz="1400" spc="-1" strike="noStrike">
                <a:solidFill>
                  <a:srgbClr val="4f271c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F316-F878-4567-80F3-C7D6C180B215}" type="slidenum">
              <a:rPr b="1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3993-C801-455D-860D-C891DDE7EBA0}" type="datetime">
              <a:rPr b="0" lang="en-US" sz="1400" spc="-1" strike="noStrike">
                <a:solidFill>
                  <a:srgbClr val="4f271c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AD96-1366-4CB4-B5C0-522C09E34BA8}" type="slidenum">
              <a:rPr b="1" lang="en-US" sz="1400" spc="-1" strike="noStrike">
                <a:solidFill>
                  <a:srgbClr val="4f271c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52CE-F565-4BA5-AFA4-BACB174B5305}" type="datetime">
              <a:rPr b="0" lang="en-US" sz="1400" spc="-1" strike="noStrike">
                <a:solidFill>
                  <a:srgbClr val="4f271c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9120-A728-4EFC-9900-08BD1748C13E}" type="slidenum">
              <a:rPr b="1" lang="en-US" sz="2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E9DF-F2E6-411D-84FA-1D4ACA84AA77}" type="datetime">
              <a:rPr b="0" lang="en-US" sz="1400" spc="-1" strike="noStrike">
                <a:solidFill>
                  <a:srgbClr val="4f271c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7FDA-7BAF-4DAA-AFC9-7D77A2599EFB}" type="slidenum">
              <a:rPr b="1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361960" y="3809520"/>
            <a:ext cx="647676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7dec9"/>
                </a:solidFill>
                <a:latin typeface="Georgia"/>
              </a:rPr>
              <a:t>AHRQ</a:t>
            </a:r>
            <a:br>
              <a:rPr sz="3200"/>
            </a:br>
            <a:r>
              <a:rPr b="0" lang="en-US" sz="2300" spc="-1" strike="noStrike">
                <a:solidFill>
                  <a:srgbClr val="ffe39d"/>
                </a:solidFill>
                <a:latin typeface="Georgia"/>
              </a:rPr>
              <a:t>ANNUAL CONFERENCE </a:t>
            </a:r>
            <a:br>
              <a:rPr sz="3200"/>
            </a:br>
            <a:endParaRPr b="0" lang="en-US" sz="2300" spc="-1" strike="noStrike">
              <a:solidFill>
                <a:srgbClr val="e7dec9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ethesda, Marylan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ptember 26-29, 2010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2CAC-3609-4BC3-8EA7-925AC078FC1F}" type="slidenum">
              <a:rPr b="1" lang="en-US" sz="1400" spc="-1" strike="noStrike">
                <a:solidFill>
                  <a:srgbClr val="e7dec9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96" name="Content Placeholder 6" descr="Photo of chart - WAIT TIMES, Post Katrina &amp; Pre Katrina"/>
          <p:cNvPicPr/>
          <p:nvPr/>
        </p:nvPicPr>
        <p:blipFill>
          <a:blip r:embed="rId1"/>
          <a:stretch/>
        </p:blipFill>
        <p:spPr>
          <a:xfrm>
            <a:off x="450720" y="1822320"/>
            <a:ext cx="8163000" cy="45054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12FB-937C-4852-9FD3-88D8B3E8A553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99" name="Picture 2" descr="Photo - News &amp; Perspective article&#13;&#10;Two Years Later, Every Day is Monday in New Orleans Emergency Departments"/>
          <p:cNvPicPr/>
          <p:nvPr/>
        </p:nvPicPr>
        <p:blipFill>
          <a:blip r:embed="rId1"/>
          <a:stretch/>
        </p:blipFill>
        <p:spPr>
          <a:xfrm>
            <a:off x="1322280" y="1600200"/>
            <a:ext cx="6734160" cy="449568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36EF-AE8E-49BB-A158-42825AD36DA4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02" name="Content Placeholder 3" descr="CIMG1764.JPG&#13;&#10;Photo of Sign (Why a Customer Quits)"/>
          <p:cNvPicPr/>
          <p:nvPr/>
        </p:nvPicPr>
        <p:blipFill>
          <a:blip r:embed="rId1"/>
          <a:stretch/>
        </p:blipFill>
        <p:spPr>
          <a:xfrm>
            <a:off x="2514600" y="1752480"/>
            <a:ext cx="3524400" cy="4921200"/>
          </a:xfrm>
          <a:prstGeom prst="rect">
            <a:avLst/>
          </a:prstGeom>
          <a:ln w="0">
            <a:noFill/>
          </a:ln>
        </p:spPr>
      </p:pic>
      <p:sp>
        <p:nvSpPr>
          <p:cNvPr id="30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7479-E9A1-4358-87A0-189040D898DC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05" name="Picture 11" descr="Photo: NBC11.com&#13;&#10;911 Call: Ignored Woman Dies on ER Floor"/>
          <p:cNvPicPr/>
          <p:nvPr/>
        </p:nvPicPr>
        <p:blipFill>
          <a:blip r:embed="rId1"/>
          <a:stretch/>
        </p:blipFill>
        <p:spPr>
          <a:xfrm>
            <a:off x="685800" y="2057400"/>
            <a:ext cx="7888320" cy="396252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9E39-EE35-4B14-A033-1E7B3A104C5D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ED Crowding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utput (admission delay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roughput (non-lean workflow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put (poorly engineered demand managemen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9" name="Picture 5" descr="Cartoon - Martha, I am not feeling well. Maybe we should go over to the ER and get triaged!!&quot;"/>
          <p:cNvPicPr/>
          <p:nvPr/>
        </p:nvPicPr>
        <p:blipFill>
          <a:blip r:embed="rId1"/>
          <a:stretch/>
        </p:blipFill>
        <p:spPr>
          <a:xfrm>
            <a:off x="2438280" y="3657600"/>
            <a:ext cx="3705480" cy="20574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"/>
          <p:cNvSpPr/>
          <p:nvPr/>
        </p:nvSpPr>
        <p:spPr>
          <a:xfrm>
            <a:off x="2514600" y="5867280"/>
            <a:ext cx="358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otum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Dotum"/>
              </a:rPr>
              <a:t>Martha, I am not feeling too w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otum"/>
              </a:rPr>
              <a:t>Maybe we should go over to the 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otum"/>
              </a:rPr>
              <a:t>and get triaged!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BC62-400D-4B66-BFEA-0AC1EDD005A9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olve this problem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4" name="chart" descr="graphic - generic people waiting in line"/>
          <p:cNvPicPr/>
          <p:nvPr/>
        </p:nvPicPr>
        <p:blipFill>
          <a:blip r:embed="rId1"/>
          <a:stretch/>
        </p:blipFill>
        <p:spPr>
          <a:xfrm>
            <a:off x="793800" y="2438280"/>
            <a:ext cx="7588080" cy="3505320"/>
          </a:xfrm>
          <a:prstGeom prst="rect">
            <a:avLst/>
          </a:prstGeom>
          <a:ln w="0">
            <a:noFill/>
          </a:ln>
        </p:spPr>
      </p:pic>
      <p:sp>
        <p:nvSpPr>
          <p:cNvPr id="31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0AF6-6C2B-44D3-BC9A-EEAD1810251D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17" name="Picture 5" descr="C:\Users\Joe\AppData\Local\Microsoft\Windows\Temporary Internet Files\Content.IE5\B5E1GC78\MC900434389[1].wmf&#13;&#10;Emoticon - thinking"/>
          <p:cNvPicPr/>
          <p:nvPr/>
        </p:nvPicPr>
        <p:blipFill>
          <a:blip r:embed="rId1"/>
          <a:stretch/>
        </p:blipFill>
        <p:spPr>
          <a:xfrm>
            <a:off x="1600200" y="1752480"/>
            <a:ext cx="7156440" cy="48657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"/>
          <p:cNvPicPr/>
          <p:nvPr/>
        </p:nvPicPr>
        <p:blipFill>
          <a:blip r:embed="rId2"/>
          <a:stretch/>
        </p:blipFill>
        <p:spPr>
          <a:xfrm>
            <a:off x="3657600" y="2057400"/>
            <a:ext cx="2666880" cy="1371600"/>
          </a:xfrm>
          <a:prstGeom prst="rect">
            <a:avLst/>
          </a:prstGeom>
          <a:ln w="0">
            <a:noFill/>
          </a:ln>
        </p:spPr>
      </p:pic>
      <p:sp>
        <p:nvSpPr>
          <p:cNvPr id="319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DAE9-19C5-4D1E-BD69-460D4BF1BD0F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racking the cod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mplement lean workflow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Lean registr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Lean triag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reate virtual capacit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Door to Doc processing protects the most precious resource…..the bed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Rules based proces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atch resources to demand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Queuing Theo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Grocery Store Mat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Georgia"/>
              </a:rPr>
              <a:t>©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for ED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6245-3B8C-48F4-8A8D-107FA8AE1902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24" name="Picture 2" descr="qTrack (design schematic) blueprint"/>
          <p:cNvPicPr/>
          <p:nvPr/>
        </p:nvPicPr>
        <p:blipFill>
          <a:blip r:embed="rId1"/>
          <a:stretch/>
        </p:blipFill>
        <p:spPr>
          <a:xfrm>
            <a:off x="609480" y="18288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2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057D-5C7D-4DB7-A373-20C9239BA3D2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27" name="Picture 2" descr="qTrack (overview) chart"/>
          <p:cNvPicPr/>
          <p:nvPr/>
        </p:nvPicPr>
        <p:blipFill>
          <a:blip r:embed="rId1"/>
          <a:stretch/>
        </p:blipFill>
        <p:spPr>
          <a:xfrm>
            <a:off x="685800" y="1600200"/>
            <a:ext cx="8153280" cy="502920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F56-AD54-4262-9983-3FB34AC83698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66" name="Content Placeholder 9" descr="DSC_8960.JPG&#13;&#10;Orschner Medical Center photo"/>
          <p:cNvPicPr/>
          <p:nvPr/>
        </p:nvPicPr>
        <p:blipFill>
          <a:blip r:embed="rId1"/>
          <a:stretch/>
        </p:blipFill>
        <p:spPr>
          <a:xfrm>
            <a:off x="1371600" y="1828800"/>
            <a:ext cx="6248520" cy="38098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0"/>
          <p:cNvSpPr/>
          <p:nvPr/>
        </p:nvSpPr>
        <p:spPr>
          <a:xfrm>
            <a:off x="2590920" y="57913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hsner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3396-DA3F-4C28-80D0-E6F0E016D38E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30" name="Picture 4" descr="qTrack (workflow simple) chart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549E-04B8-4C88-8EB0-2531499E9D39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33" name="Content Placeholder 3" descr="Door to Doctor 2010 - Chart (Hours of Day)"/>
          <p:cNvPicPr/>
          <p:nvPr/>
        </p:nvPicPr>
        <p:blipFill>
          <a:blip r:embed="rId1"/>
          <a:stretch/>
        </p:blipFill>
        <p:spPr>
          <a:xfrm>
            <a:off x="609480" y="1596960"/>
            <a:ext cx="8169480" cy="451188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B8EA-7B16-411B-8006-9F7798F3052E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36" name="Snagit_PPT570B" descr="PPT570B.png&#13;&#10;System Door to Doctor (target 30 min) chart"/>
          <p:cNvPicPr/>
          <p:nvPr/>
        </p:nvPicPr>
        <p:blipFill>
          <a:blip r:embed="rId1"/>
          <a:stretch/>
        </p:blipFill>
        <p:spPr>
          <a:xfrm>
            <a:off x="533520" y="1828800"/>
            <a:ext cx="8180280" cy="4562640"/>
          </a:xfrm>
          <a:prstGeom prst="rect">
            <a:avLst/>
          </a:prstGeom>
          <a:ln w="0">
            <a:noFill/>
          </a:ln>
        </p:spPr>
      </p:pic>
      <p:sp>
        <p:nvSpPr>
          <p:cNvPr id="33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1837-126E-46F9-880A-7FE2BF6CC17E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39" name="Snagit_PPT68E4" descr="PPT68E4.png"/>
          <p:cNvPicPr/>
          <p:nvPr/>
        </p:nvPicPr>
        <p:blipFill>
          <a:blip r:embed="rId1"/>
          <a:stretch/>
        </p:blipFill>
        <p:spPr>
          <a:xfrm>
            <a:off x="762120" y="1752480"/>
            <a:ext cx="7719840" cy="464832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E6A2-89C0-4B06-AED0-9B6357A131D7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42" name="Content Placeholder 9" descr="Chart - LWBS"/>
          <p:cNvPicPr/>
          <p:nvPr/>
        </p:nvPicPr>
        <p:blipFill>
          <a:blip r:embed="rId1"/>
          <a:stretch/>
        </p:blipFill>
        <p:spPr>
          <a:xfrm>
            <a:off x="378000" y="1822320"/>
            <a:ext cx="4273200" cy="2908440"/>
          </a:xfrm>
          <a:prstGeom prst="rect">
            <a:avLst/>
          </a:prstGeom>
          <a:ln w="0">
            <a:noFill/>
          </a:ln>
        </p:spPr>
      </p:pic>
      <p:pic>
        <p:nvPicPr>
          <p:cNvPr id="343" name="Chart 12" descr="Chart - D2D (min)"/>
          <p:cNvPicPr/>
          <p:nvPr/>
        </p:nvPicPr>
        <p:blipFill>
          <a:blip r:embed="rId2"/>
          <a:stretch/>
        </p:blipFill>
        <p:spPr>
          <a:xfrm>
            <a:off x="4950000" y="2054160"/>
            <a:ext cx="3816000" cy="2597040"/>
          </a:xfrm>
          <a:prstGeom prst="rect">
            <a:avLst/>
          </a:prstGeom>
          <a:ln w="0">
            <a:noFill/>
          </a:ln>
        </p:spPr>
      </p:pic>
      <p:pic>
        <p:nvPicPr>
          <p:cNvPr id="344" name="Chart 15" descr="Chart - Volume"/>
          <p:cNvPicPr/>
          <p:nvPr/>
        </p:nvPicPr>
        <p:blipFill>
          <a:blip r:embed="rId3"/>
          <a:stretch/>
        </p:blipFill>
        <p:spPr>
          <a:xfrm>
            <a:off x="907920" y="456552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B4A9-7188-4FF1-B119-0811EF2259B8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5000"/>
              </a:lnSpc>
              <a:spcBef>
                <a:spcPts val="711"/>
              </a:spcBef>
              <a:spcAft>
                <a:spcPts val="711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Cost Analysis of LWB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lnSpc>
                <a:spcPct val="95000"/>
              </a:lnSpc>
              <a:spcBef>
                <a:spcPts val="624"/>
              </a:spcBef>
              <a:spcAft>
                <a:spcPts val="624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t revenue (for real current LWBS payor mi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Outpatient facility net revenue @ </a:t>
            </a: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300/visit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discharge (90% of visits )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npatient facility net revenue @ </a:t>
            </a: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5,000/visit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admission (10% of visits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rofessional provider net revenue @ </a:t>
            </a: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125/visit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all (100% of visits)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lnSpc>
                <a:spcPct val="95000"/>
              </a:lnSpc>
              <a:spcBef>
                <a:spcPts val="624"/>
              </a:spcBef>
              <a:spcAft>
                <a:spcPts val="624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% LWBS @ 50,000 visits =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500 vis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lnSpc>
                <a:spcPct val="95000"/>
              </a:lnSpc>
              <a:spcBef>
                <a:spcPts val="624"/>
              </a:spcBef>
              <a:spcAft>
                <a:spcPts val="624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st opportunity net dollars  for every 500 visits that LWB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135,000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facility</a:t>
            </a: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outpatient revenue (450 pts x $300)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250,000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facility inpatient revenue (50 pts x $5,000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62,500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rofessional revenue (500 pts x $125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ost of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%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LWBS at 50,000 volume = </a:t>
            </a: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$447,500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31BE-B7D6-4A0D-8199-1EA8BD702965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50" name="Snagit_PPT151A" descr="PPT151A.png&#13;&#10;Budget Chart"/>
          <p:cNvPicPr/>
          <p:nvPr/>
        </p:nvPicPr>
        <p:blipFill>
          <a:blip r:embed="rId1"/>
          <a:stretch/>
        </p:blipFill>
        <p:spPr>
          <a:xfrm>
            <a:off x="685800" y="2438280"/>
            <a:ext cx="7467480" cy="2819520"/>
          </a:xfrm>
          <a:prstGeom prst="rect">
            <a:avLst/>
          </a:prstGeom>
          <a:ln w="0">
            <a:noFill/>
          </a:ln>
        </p:spPr>
      </p:pic>
      <p:sp>
        <p:nvSpPr>
          <p:cNvPr id="351" name="Oval 3"/>
          <p:cNvSpPr/>
          <p:nvPr/>
        </p:nvSpPr>
        <p:spPr>
          <a:xfrm>
            <a:off x="4952880" y="4191120"/>
            <a:ext cx="990720" cy="228600"/>
          </a:xfrm>
          <a:prstGeom prst="ellipse">
            <a:avLst/>
          </a:prstGeom>
          <a:solidFill>
            <a:srgbClr val="ff0000">
              <a:alpha val="31000"/>
            </a:srgbClr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81DE-8503-4B02-A30D-AE3D4808A9DA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quires a leap of faith (1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38280" indent="-3193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Unlocking old behavior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No registration up front and no deep dive triag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38280" indent="-3193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ramatically different workflow for staff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Reduce scarce real beds to create more virtual beds?????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38280" indent="-3193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atient perspectiv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“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 never got a bed!”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rivacy concern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38280" indent="-3193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hysician issu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No compensation benchmarks for this kind of work… and it is uniquely different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EM MDs become internal customers…not comfortable position for them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Not every MD suitable for D2D, requires great risk stratification skill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4852-A38C-4662-A467-E3EF328FC683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quires a leap of faith (2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06240" indent="-303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ew roles to manage with odd job description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Flow techs and flow nurs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06240" indent="-303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dministrative issu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Only the uninsured leave”…..not so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ts not about the expense, its about the return (ROI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06240" indent="-303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taffing paradigm shif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MLPs and LPNs……may be perceived as threatening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Forget FTE hrs/visit……think cost/visit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06240" indent="-303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ules!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Lean processing at registration and quick look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ntake beds must be protected at all cost…almost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Accountability for the WR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nternal queuing always….not in the WR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C20-B277-4F4F-88CA-F7930404CA7C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727520" y="5105160"/>
            <a:ext cx="4416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5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Joe Guarisco MD FACEP jguarisco@ochsner.org           504-842-4433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3" descr="ed_logo.JPG&#13;&#10;Ochsner logo"/>
          <p:cNvPicPr/>
          <p:nvPr/>
        </p:nvPicPr>
        <p:blipFill>
          <a:blip r:embed="rId1"/>
          <a:stretch/>
        </p:blipFill>
        <p:spPr>
          <a:xfrm>
            <a:off x="3733920" y="2743200"/>
            <a:ext cx="5410080" cy="274320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61B4-4D8C-4D3F-A091-15217DBCAE51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70" name="Snagit_PPT950B" descr="PPT950B.png&#13;&#10;Door-to-Doc (D2D) Patient Safety Tookit Chart"/>
          <p:cNvPicPr/>
          <p:nvPr/>
        </p:nvPicPr>
        <p:blipFill>
          <a:blip r:embed="rId1"/>
          <a:stretch/>
        </p:blipFill>
        <p:spPr>
          <a:xfrm>
            <a:off x="1523880" y="1676520"/>
            <a:ext cx="6172200" cy="5029200"/>
          </a:xfrm>
          <a:prstGeom prst="rect">
            <a:avLst/>
          </a:prstGeom>
          <a:ln w="0">
            <a:noFill/>
          </a:ln>
        </p:spPr>
      </p:pic>
      <p:sp>
        <p:nvSpPr>
          <p:cNvPr id="27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18BD-F946-4372-BA5A-274DE397DDEB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Intersecti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urricane Katrina’s crossroad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4" name="Picture 2" descr="Map photo - Hurricane Katrina"/>
          <p:cNvPicPr/>
          <p:nvPr/>
        </p:nvPicPr>
        <p:blipFill>
          <a:blip r:embed="rId1"/>
          <a:stretch/>
        </p:blipFill>
        <p:spPr>
          <a:xfrm>
            <a:off x="990720" y="2819520"/>
            <a:ext cx="3429000" cy="271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Storm surge"/>
          <p:cNvPicPr/>
          <p:nvPr/>
        </p:nvPicPr>
        <p:blipFill>
          <a:blip r:embed="rId2"/>
          <a:stretch/>
        </p:blipFill>
        <p:spPr>
          <a:xfrm>
            <a:off x="4800600" y="28195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38F7-4484-4A25-8567-F3A02E41B725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Intersecti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urricane Katrina’s crossroad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10" descr="Photo of Newspaper Front Page&#13;&#10;The Times-Picayune - Clear Out or Else"/>
          <p:cNvPicPr/>
          <p:nvPr/>
        </p:nvPicPr>
        <p:blipFill>
          <a:blip r:embed="rId1"/>
          <a:stretch/>
        </p:blipFill>
        <p:spPr>
          <a:xfrm>
            <a:off x="2819520" y="2743200"/>
            <a:ext cx="2651040" cy="365760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A87-C324-47DD-95B0-01C08DE8792C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Intersecti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urricane Katrina’s submerged crossroad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4" descr="CIMG2501.JPG&#13;&#10;Photo of South Louisiana Submerged Roads program sign"/>
          <p:cNvPicPr/>
          <p:nvPr/>
        </p:nvPicPr>
        <p:blipFill>
          <a:blip r:embed="rId1"/>
          <a:stretch/>
        </p:blipFill>
        <p:spPr>
          <a:xfrm>
            <a:off x="4724280" y="2590920"/>
            <a:ext cx="4114800" cy="3886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IMG2508.JPG&#13;&#10;Photo of South Louisiana Submerged Roads program sign"/>
          <p:cNvPicPr/>
          <p:nvPr/>
        </p:nvPicPr>
        <p:blipFill>
          <a:blip r:embed="rId2"/>
          <a:stretch/>
        </p:blipFill>
        <p:spPr>
          <a:xfrm>
            <a:off x="1219320" y="2666880"/>
            <a:ext cx="3143160" cy="388620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B8CA-D2FE-427D-BF05-1DDC397EE15D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87" name="Snagit_PPTFF" descr="PPTFF.png&#13;&#10;Photo of published article by the Times-Picayune&#13;&#10;Maryland is hungry for Louisiana crabs, but Louisiana can't deliver"/>
          <p:cNvPicPr/>
          <p:nvPr/>
        </p:nvPicPr>
        <p:blipFill>
          <a:blip r:embed="rId1"/>
          <a:stretch/>
        </p:blipFill>
        <p:spPr>
          <a:xfrm>
            <a:off x="1403280" y="1676520"/>
            <a:ext cx="6572160" cy="4876560"/>
          </a:xfrm>
          <a:prstGeom prst="rect">
            <a:avLst/>
          </a:prstGeom>
          <a:ln w="0">
            <a:noFill/>
          </a:ln>
        </p:spPr>
      </p:pic>
      <p:sp>
        <p:nvSpPr>
          <p:cNvPr id="2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D833-3D33-4AFC-A3A2-E506493EF774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9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D5BE-3462-417B-A4CB-459A0329784C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Snagit_PPT103" descr="PPT103.png"/>
          <p:cNvPicPr/>
          <p:nvPr/>
        </p:nvPicPr>
        <p:blipFill>
          <a:blip r:embed="rId1"/>
          <a:stretch/>
        </p:blipFill>
        <p:spPr>
          <a:xfrm>
            <a:off x="1371600" y="1752480"/>
            <a:ext cx="67039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93" name="Content Placeholder 6" descr="Photo of chart - LWBS%, Post Katrina &amp; Pre Katrina"/>
          <p:cNvPicPr/>
          <p:nvPr/>
        </p:nvPicPr>
        <p:blipFill>
          <a:blip r:embed="rId1"/>
          <a:stretch/>
        </p:blipFill>
        <p:spPr>
          <a:xfrm>
            <a:off x="530280" y="1749600"/>
            <a:ext cx="8163000" cy="450504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FBD5-12C6-4E0E-B40A-DAFD85E1EA3E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20:02:14Z</dcterms:created>
  <dc:creator>Joe</dc:creator>
  <dc:description/>
  <dc:language>en-US</dc:language>
  <cp:lastModifiedBy>DHHS</cp:lastModifiedBy>
  <dcterms:modified xsi:type="dcterms:W3CDTF">2012-01-04T17:17:34Z</dcterms:modified>
  <cp:revision>77</cp:revision>
  <dc:subject/>
  <dc:title>AHRQ</dc:title>
</cp:coreProperties>
</file>