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5.png" ContentType="image/png"/>
  <Override PartName="/ppt/media/image8.jpeg" ContentType="image/jpeg"/>
  <Override PartName="/ppt/media/image27.png" ContentType="image/png"/>
  <Override PartName="/ppt/media/image4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jpeg" ContentType="image/jpeg"/>
  <Override PartName="/ppt/media/image12.png" ContentType="image/png"/>
  <Override PartName="/ppt/media/image31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B0A-A555-4176-A4A9-D9BC4CBE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DCD6-FB00-4E35-81BF-311529B6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201-AD26-4E0C-8666-60C27DB1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8076-AEFD-4DDE-B8E1-A62AEF6F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13E0-325C-44A3-825B-9B51B827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1AE6-D439-4D0C-85E3-0148498F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2E51-CD80-42A1-A968-ECB0A9FD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CC1D-515B-4B4B-A53C-D765A1E9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DCA5-BE6F-4D1C-B1E3-301E91F3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83EA-5809-4A70-9132-1C0021DA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D04C-2517-48BC-A26A-91F7F586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267-9385-4781-BD2F-240393B7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D0F4-A1F3-4FE5-89DC-A872A355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164B-3DC1-4821-94CA-11BAD2E8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24BC-4ED1-4497-B60C-F111BE1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3782-7AA1-4133-B0B5-6B269794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D52F-18C9-439D-BC99-E052686B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E2929-DA47-4F20-AC20-AE3B87C2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C6B25-CD3F-4AE0-B30A-235F342D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F5068-95E8-4032-89D6-1756917D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88E53-73F2-4067-9690-1C4B4EA9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64B0C-14F6-459F-84BD-DE66F007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E53-31A2-4F76-8D97-7511033C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CEA9A-CE20-4634-90FF-019445F9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B6D0B-D7CF-492B-AA19-C15929B0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CCA48-1ACC-4034-BE60-C9677EC0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52A99-BE2D-4945-951C-E905AF20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B1974-10DD-489F-AF8D-DEC2F856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0058A-21C5-49ED-A070-2B1DB1A0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ACFAF-539A-4749-8E3D-715BAF83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EF118-71D4-459F-9F61-83AB8A49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2EE84-0769-423B-8AEA-EC6519A1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B3375-36BA-4BCC-A7D9-56A6CDD6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558-9A27-4E86-AF46-198B4BD3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EEAA9-80BF-442C-BF9E-A4CD5C19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D09BD-E9E1-4811-BBC7-4541F340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3AC94-CB36-4468-B190-F25DFE59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88B9F-57CD-4D5D-9DE2-29A0B8E9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5618-9C21-4EF5-B5FA-AA6B08B8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9C267-45DB-41DE-8ACE-7572A4C6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E56AB-BF96-4D0A-B3B5-6BC0D5FA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131C-E343-4A3E-9869-9176BB91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F338-F529-42AD-AC8B-8EA918E0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BDD8D-AF03-45A5-9A44-1D083845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3CB-1BF6-4AD1-957B-82E44EA9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BE080-CBBE-4A12-AA75-0F4941A7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69E6A-C788-480A-B50F-9EB22638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EA76E-1218-4049-8B27-BEAA7FD7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20659A-E0BC-4F62-8BAE-47F513F4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392F6-39D6-4A72-88CF-7D8F424B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4E514-5F18-49B8-89FE-7E759E00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52FCB-D0A7-4B7D-A64B-250C1D0B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91810-7FF2-40A1-9839-E1DC02AC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406BE-5639-4569-A881-603F2519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DEFD4-D880-4A83-91FC-3F35ECC8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A61-F929-46DB-974E-B51D09B1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D0D87-D892-417C-B7D3-4BDD36DA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78B52-36F9-476F-BB50-903A21D4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41224-7EA4-4F82-88E4-C37AA8AB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1038E-F699-4469-8675-DBBD7462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52C21-FFAF-47C7-91BF-C7B9A0F3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0E11A-40EE-4E0B-890E-41250046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E9434-2A91-499F-ADF9-7FA2F805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4CB93-9287-4C9B-83B4-27BFB272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F9D35-27C2-43CD-B1AF-957C5B53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96CFB-CA44-4424-8E3D-F95395C7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9B7-A7A9-42F7-899B-DE89885D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B2621-5413-4BE2-BA1B-6762AC52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A6114-3863-439A-A96E-3A80D970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8E3CD-3DF7-46F1-95D6-4E8D0F59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A81-7B37-437D-9565-54007390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9D8-A91F-4155-8CE1-930CD29D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22D1-80C3-4BAE-8469-FF5B8BB404A8}" type="datetime">
              <a:rPr b="0" lang="en-US" sz="1400" spc="-1" strike="noStrike">
                <a:solidFill>
                  <a:srgbClr val="4f271c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C940-0461-4541-86F7-52683B58AEEA}" type="slidenum">
              <a:rPr b="1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dec9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e7dec9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981D-7511-4D6A-9F1B-80D27529DB36}" type="datetime">
              <a:rPr b="0" lang="en-US" sz="20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7dec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338F-B9AC-49F8-A9BD-DF619CB0FE25}" type="slidenum">
              <a:rPr b="1" lang="en-US" sz="1400" spc="-1" strike="noStrike">
                <a:solidFill>
                  <a:srgbClr val="e7dec9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2122-3D00-4EA9-8273-B5541D387CC6}" type="datetime">
              <a:rPr b="0" lang="en-US" sz="1400" spc="-1" strike="noStrike">
                <a:solidFill>
                  <a:srgbClr val="4f271c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C8BA-AE62-4911-B937-68DB9CB083FB}" type="slidenum">
              <a:rPr b="1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AF80-8D2E-4B73-8A34-2ECB0450E793}" type="datetime">
              <a:rPr b="0" lang="en-US" sz="1400" spc="-1" strike="noStrike">
                <a:solidFill>
                  <a:srgbClr val="4f271c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8C9E-E441-469D-9319-1A447ACB3D8E}" type="slidenum">
              <a:rPr b="1" lang="en-US" sz="1400" spc="-1" strike="noStrike">
                <a:solidFill>
                  <a:srgbClr val="4f271c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AC2F-0CCA-44F0-A6F4-62156561C700}" type="datetime">
              <a:rPr b="0" lang="en-US" sz="1400" spc="-1" strike="noStrike">
                <a:solidFill>
                  <a:srgbClr val="4f271c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D8B8-D21D-41BB-9D53-C55B29B82E33}" type="slidenum">
              <a:rPr b="1" lang="en-US" sz="2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271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5493-795A-4BB5-AA8F-2719CD3E3017}" type="datetime">
              <a:rPr b="0" lang="en-US" sz="1400" spc="-1" strike="noStrike">
                <a:solidFill>
                  <a:srgbClr val="4f271c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8D66-69F6-4BCC-825C-4C76E3347EDE}" type="slidenum">
              <a:rPr b="1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361960" y="3809520"/>
            <a:ext cx="647676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7dec9"/>
                </a:solidFill>
                <a:latin typeface="Georgia"/>
              </a:rPr>
              <a:t>AHRQ</a:t>
            </a:r>
            <a:br>
              <a:rPr sz="3200"/>
            </a:br>
            <a:r>
              <a:rPr b="0" lang="en-US" sz="2300" spc="-1" strike="noStrike">
                <a:solidFill>
                  <a:srgbClr val="ffe39d"/>
                </a:solidFill>
                <a:latin typeface="Georgia"/>
              </a:rPr>
              <a:t>ANNUAL CONFERENCE </a:t>
            </a:r>
            <a:br>
              <a:rPr sz="3200"/>
            </a:br>
            <a:endParaRPr b="0" lang="en-US" sz="2300" spc="-1" strike="noStrike">
              <a:solidFill>
                <a:srgbClr val="e7dec9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Bethesda, Marylan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ptember 26-29, 2010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63AA-93CB-43C8-8048-EC53E94A2F5B}" type="slidenum">
              <a:rPr b="1" lang="en-US" sz="1400" spc="-1" strike="noStrike">
                <a:solidFill>
                  <a:srgbClr val="e7dec9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296" name="Content Placeholder 6" descr="Photo of chart - WAIT TIMES, Post Katrina &amp; Pre Katrina"/>
          <p:cNvPicPr/>
          <p:nvPr/>
        </p:nvPicPr>
        <p:blipFill>
          <a:blip r:embed="rId1"/>
          <a:stretch/>
        </p:blipFill>
        <p:spPr>
          <a:xfrm>
            <a:off x="450720" y="1822320"/>
            <a:ext cx="8163000" cy="45054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4DAC-0DD9-4E29-A490-2500CE213B0A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299" name="Picture 2" descr="Photo - News &amp; Perspective article&#13;&#10;Two Years Later, Every Day is Monday in New Orleans Emergency Departments"/>
          <p:cNvPicPr/>
          <p:nvPr/>
        </p:nvPicPr>
        <p:blipFill>
          <a:blip r:embed="rId1"/>
          <a:stretch/>
        </p:blipFill>
        <p:spPr>
          <a:xfrm>
            <a:off x="1322280" y="1600200"/>
            <a:ext cx="6734160" cy="449568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D741-A52E-45CC-B20D-07D437537B2D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02" name="Content Placeholder 3" descr="CIMG1764.JPG&#13;&#10;Photo of Sign (Why a Customer Quits)"/>
          <p:cNvPicPr/>
          <p:nvPr/>
        </p:nvPicPr>
        <p:blipFill>
          <a:blip r:embed="rId1"/>
          <a:stretch/>
        </p:blipFill>
        <p:spPr>
          <a:xfrm>
            <a:off x="2514600" y="1752480"/>
            <a:ext cx="3524400" cy="4921200"/>
          </a:xfrm>
          <a:prstGeom prst="rect">
            <a:avLst/>
          </a:prstGeom>
          <a:ln w="0">
            <a:noFill/>
          </a:ln>
        </p:spPr>
      </p:pic>
      <p:sp>
        <p:nvSpPr>
          <p:cNvPr id="30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5449-CCC7-438B-9DFC-43E8E236DFDB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05" name="Picture 11" descr="Photo: NBC11.com&#13;&#10;911 Call: Ignored Woman Dies on ER Floor"/>
          <p:cNvPicPr/>
          <p:nvPr/>
        </p:nvPicPr>
        <p:blipFill>
          <a:blip r:embed="rId1"/>
          <a:stretch/>
        </p:blipFill>
        <p:spPr>
          <a:xfrm>
            <a:off x="685800" y="2057400"/>
            <a:ext cx="7888320" cy="396252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52B8-F843-4171-9706-33579F62E0E1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ED Crowding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utput (admission delay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roughput (non-lean workflow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put (poorly engineered demand management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9" name="Picture 5" descr="Cartoon - Martha, I am not feeling well. Maybe we should go over to the ER and get triaged!!&quot;"/>
          <p:cNvPicPr/>
          <p:nvPr/>
        </p:nvPicPr>
        <p:blipFill>
          <a:blip r:embed="rId1"/>
          <a:stretch/>
        </p:blipFill>
        <p:spPr>
          <a:xfrm>
            <a:off x="2438280" y="3657600"/>
            <a:ext cx="3705480" cy="20574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7"/>
          <p:cNvSpPr/>
          <p:nvPr/>
        </p:nvSpPr>
        <p:spPr>
          <a:xfrm>
            <a:off x="2514600" y="5867280"/>
            <a:ext cx="358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otum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Dotum"/>
              </a:rPr>
              <a:t>Martha, I am not feeling too w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otum"/>
              </a:rPr>
              <a:t>Maybe we should go over to the 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Dotum"/>
              </a:rPr>
              <a:t>and get triaged!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63BB-5A5F-4B71-B792-EFE80DB0B28E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olve this problem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4" name="chart" descr="graphic - generic people waiting in line"/>
          <p:cNvPicPr/>
          <p:nvPr/>
        </p:nvPicPr>
        <p:blipFill>
          <a:blip r:embed="rId1"/>
          <a:stretch/>
        </p:blipFill>
        <p:spPr>
          <a:xfrm>
            <a:off x="793800" y="2438280"/>
            <a:ext cx="7588080" cy="3505320"/>
          </a:xfrm>
          <a:prstGeom prst="rect">
            <a:avLst/>
          </a:prstGeom>
          <a:ln w="0">
            <a:noFill/>
          </a:ln>
        </p:spPr>
      </p:pic>
      <p:sp>
        <p:nvSpPr>
          <p:cNvPr id="31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E996-7EDC-491B-BB04-3501EBA69574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17" name="Picture 5" descr="C:\Users\Joe\AppData\Local\Microsoft\Windows\Temporary Internet Files\Content.IE5\B5E1GC78\MC900434389[1].wmf&#13;&#10;Emoticon - thinking"/>
          <p:cNvPicPr/>
          <p:nvPr/>
        </p:nvPicPr>
        <p:blipFill>
          <a:blip r:embed="rId1"/>
          <a:stretch/>
        </p:blipFill>
        <p:spPr>
          <a:xfrm>
            <a:off x="1600200" y="1752480"/>
            <a:ext cx="7156440" cy="48657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"/>
          <p:cNvPicPr/>
          <p:nvPr/>
        </p:nvPicPr>
        <p:blipFill>
          <a:blip r:embed="rId2"/>
          <a:stretch/>
        </p:blipFill>
        <p:spPr>
          <a:xfrm>
            <a:off x="3657600" y="2057400"/>
            <a:ext cx="2666880" cy="1371600"/>
          </a:xfrm>
          <a:prstGeom prst="rect">
            <a:avLst/>
          </a:prstGeom>
          <a:ln w="0">
            <a:noFill/>
          </a:ln>
        </p:spPr>
      </p:pic>
      <p:sp>
        <p:nvSpPr>
          <p:cNvPr id="319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68DE-F418-4C26-A1B7-5AD0C6085053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racking the cod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mplement lean workflow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Lean registr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Lean triag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reate virtual capacit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Door to Doc processing protects the most precious resource…..the bed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Rules based proces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atch resources to demand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Queuing Theor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Grocery Store Mat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Georgia"/>
              </a:rPr>
              <a:t>©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for ED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499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6BF9-1409-49AE-9380-48A0E8A2B543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24" name="Picture 2" descr="qTrack (design schematic) blueprint"/>
          <p:cNvPicPr/>
          <p:nvPr/>
        </p:nvPicPr>
        <p:blipFill>
          <a:blip r:embed="rId1"/>
          <a:stretch/>
        </p:blipFill>
        <p:spPr>
          <a:xfrm>
            <a:off x="609480" y="18288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2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77A1-FBFA-4872-BB64-400C496590F0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27" name="Picture 2" descr="qTrack (overview) chart"/>
          <p:cNvPicPr/>
          <p:nvPr/>
        </p:nvPicPr>
        <p:blipFill>
          <a:blip r:embed="rId1"/>
          <a:stretch/>
        </p:blipFill>
        <p:spPr>
          <a:xfrm>
            <a:off x="685800" y="1600200"/>
            <a:ext cx="8153280" cy="5029200"/>
          </a:xfrm>
          <a:prstGeom prst="rect">
            <a:avLst/>
          </a:prstGeom>
          <a:ln w="0">
            <a:noFill/>
          </a:ln>
        </p:spPr>
      </p:pic>
      <p:sp>
        <p:nvSpPr>
          <p:cNvPr id="32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1E8C-83F5-4C4A-A0AE-BB3ACCA12D3F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266" name="Content Placeholder 9" descr="DSC_8960.JPG&#13;&#10;Orschner Medical Center photo"/>
          <p:cNvPicPr/>
          <p:nvPr/>
        </p:nvPicPr>
        <p:blipFill>
          <a:blip r:embed="rId1"/>
          <a:stretch/>
        </p:blipFill>
        <p:spPr>
          <a:xfrm>
            <a:off x="1371600" y="1828800"/>
            <a:ext cx="6248520" cy="38098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0"/>
          <p:cNvSpPr/>
          <p:nvPr/>
        </p:nvSpPr>
        <p:spPr>
          <a:xfrm>
            <a:off x="2590920" y="57913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hsner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8BDE-6B9F-431D-A344-88037EE38BCE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30" name="Picture 4" descr="qTrack (workflow simple) chart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D58D-2E5F-4DC7-9F2C-075899425103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33" name="Content Placeholder 3" descr="Door to Doctor 2010 - Chart (Hours of Day)"/>
          <p:cNvPicPr/>
          <p:nvPr/>
        </p:nvPicPr>
        <p:blipFill>
          <a:blip r:embed="rId1"/>
          <a:stretch/>
        </p:blipFill>
        <p:spPr>
          <a:xfrm>
            <a:off x="609480" y="1596960"/>
            <a:ext cx="8169480" cy="451188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1408-37A2-4E8A-822C-6BCCC560AA4F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36" name="Snagit_PPT570B" descr="PPT570B.png&#13;&#10;System Door to Doctor (target 30 min) chart"/>
          <p:cNvPicPr/>
          <p:nvPr/>
        </p:nvPicPr>
        <p:blipFill>
          <a:blip r:embed="rId1"/>
          <a:stretch/>
        </p:blipFill>
        <p:spPr>
          <a:xfrm>
            <a:off x="533520" y="1828800"/>
            <a:ext cx="8180280" cy="4562640"/>
          </a:xfrm>
          <a:prstGeom prst="rect">
            <a:avLst/>
          </a:prstGeom>
          <a:ln w="0">
            <a:noFill/>
          </a:ln>
        </p:spPr>
      </p:pic>
      <p:sp>
        <p:nvSpPr>
          <p:cNvPr id="33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8626-88E0-44EA-B95A-35C4AFF7B1D9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39" name="Snagit_PPT68E4" descr="PPT68E4.png"/>
          <p:cNvPicPr/>
          <p:nvPr/>
        </p:nvPicPr>
        <p:blipFill>
          <a:blip r:embed="rId1"/>
          <a:stretch/>
        </p:blipFill>
        <p:spPr>
          <a:xfrm>
            <a:off x="762120" y="1752480"/>
            <a:ext cx="7719840" cy="464832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0C5B-7876-4412-B608-E11032BB6EDE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42" name="Content Placeholder 9" descr="Chart - LWBS"/>
          <p:cNvPicPr/>
          <p:nvPr/>
        </p:nvPicPr>
        <p:blipFill>
          <a:blip r:embed="rId1"/>
          <a:stretch/>
        </p:blipFill>
        <p:spPr>
          <a:xfrm>
            <a:off x="378000" y="1822320"/>
            <a:ext cx="4273200" cy="2908440"/>
          </a:xfrm>
          <a:prstGeom prst="rect">
            <a:avLst/>
          </a:prstGeom>
          <a:ln w="0">
            <a:noFill/>
          </a:ln>
        </p:spPr>
      </p:pic>
      <p:pic>
        <p:nvPicPr>
          <p:cNvPr id="343" name="Chart 12" descr="Chart - D2D (min)"/>
          <p:cNvPicPr/>
          <p:nvPr/>
        </p:nvPicPr>
        <p:blipFill>
          <a:blip r:embed="rId2"/>
          <a:stretch/>
        </p:blipFill>
        <p:spPr>
          <a:xfrm>
            <a:off x="4950000" y="2054160"/>
            <a:ext cx="3816000" cy="2597040"/>
          </a:xfrm>
          <a:prstGeom prst="rect">
            <a:avLst/>
          </a:prstGeom>
          <a:ln w="0">
            <a:noFill/>
          </a:ln>
        </p:spPr>
      </p:pic>
      <p:pic>
        <p:nvPicPr>
          <p:cNvPr id="344" name="Chart 15" descr="Chart - Volume"/>
          <p:cNvPicPr/>
          <p:nvPr/>
        </p:nvPicPr>
        <p:blipFill>
          <a:blip r:embed="rId3"/>
          <a:stretch/>
        </p:blipFill>
        <p:spPr>
          <a:xfrm>
            <a:off x="907920" y="456552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6EFF-1D6B-43DF-8998-3F8B1DE8300E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5000"/>
              </a:lnSpc>
              <a:spcBef>
                <a:spcPts val="711"/>
              </a:spcBef>
              <a:spcAft>
                <a:spcPts val="711"/>
              </a:spcAft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Georgia"/>
              </a:rPr>
              <a:t>Cost Analysis of LWBS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lnSpc>
                <a:spcPct val="95000"/>
              </a:lnSpc>
              <a:spcBef>
                <a:spcPts val="624"/>
              </a:spcBef>
              <a:spcAft>
                <a:spcPts val="624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t revenue (for real current LWBS payor mi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Outpatient facility net revenue @ </a:t>
            </a: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$300/visit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discharge (90% of visits )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npatient facility net revenue @ </a:t>
            </a: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$5,000/visit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admission (10% of visits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rofessional provider net revenue @ </a:t>
            </a: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$125/visit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all (100% of visits)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lnSpc>
                <a:spcPct val="95000"/>
              </a:lnSpc>
              <a:spcBef>
                <a:spcPts val="624"/>
              </a:spcBef>
              <a:spcAft>
                <a:spcPts val="624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% LWBS @ 50,000 visits =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500 visi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lnSpc>
                <a:spcPct val="95000"/>
              </a:lnSpc>
              <a:spcBef>
                <a:spcPts val="624"/>
              </a:spcBef>
              <a:spcAft>
                <a:spcPts val="624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ost opportunity net dollars  for every 500 visits that LWB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$135,000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facility</a:t>
            </a: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outpatient revenue (450 pts x $300)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$250,000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facility inpatient revenue (50 pts x $5,000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$62,500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rofessional revenue (500 pts x $125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Cost of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%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LWBS at 50,000 volume = </a:t>
            </a: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$447,500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E2B4-1283-4C0D-89AC-0902E5407805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350" name="Snagit_PPT151A" descr="PPT151A.png&#13;&#10;Budget Chart"/>
          <p:cNvPicPr/>
          <p:nvPr/>
        </p:nvPicPr>
        <p:blipFill>
          <a:blip r:embed="rId1"/>
          <a:stretch/>
        </p:blipFill>
        <p:spPr>
          <a:xfrm>
            <a:off x="685800" y="2438280"/>
            <a:ext cx="7467480" cy="2819520"/>
          </a:xfrm>
          <a:prstGeom prst="rect">
            <a:avLst/>
          </a:prstGeom>
          <a:ln w="0">
            <a:noFill/>
          </a:ln>
        </p:spPr>
      </p:pic>
      <p:sp>
        <p:nvSpPr>
          <p:cNvPr id="351" name="Oval 3"/>
          <p:cNvSpPr/>
          <p:nvPr/>
        </p:nvSpPr>
        <p:spPr>
          <a:xfrm>
            <a:off x="4952880" y="4191120"/>
            <a:ext cx="990720" cy="228600"/>
          </a:xfrm>
          <a:prstGeom prst="ellipse">
            <a:avLst/>
          </a:prstGeom>
          <a:solidFill>
            <a:srgbClr val="ff0000">
              <a:alpha val="31000"/>
            </a:srgbClr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8A4F-9865-467B-B99C-086919A20F90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quires a leap of faith (1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38280" indent="-3193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Unlocking old behavior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No registration up front and no deep dive triage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38280" indent="-3193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ramatically different workflow for staff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Reduce scarce real beds to create more virtual beds??????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38280" indent="-3193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atient perspectiv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“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 never got a bed!”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rivacy concern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38280" indent="-3193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hysician issu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No compensation benchmarks for this kind of work… and it is uniquely different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EM MDs become internal customers…not comfortable position for them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Not every MD suitable for D2D, requires great risk stratification skill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912960" indent="-3193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F3AF-57D6-441E-AFCA-C78B72E32C11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quires a leap of faith (2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06240" indent="-303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ew roles to manage with odd job description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Flow techs and flow nurse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06240" indent="-303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dministrative issue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Only the uninsured leave”…..not so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ts not about the expense, its about the return (ROI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06240" indent="-303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taffing paradigm shif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MLPs and LPNs……may be perceived as threatening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Forget FTE hrs/visit……think cost/visit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06240" indent="-303120">
              <a:lnSpc>
                <a:spcPct val="95000"/>
              </a:lnSpc>
              <a:spcBef>
                <a:spcPts val="561"/>
              </a:spcBef>
              <a:spcAft>
                <a:spcPts val="561"/>
              </a:spcAft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ules!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Lean processing at registration and quick look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ntake beds must be protected at all cost…almost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Accountability for the WR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Internal queuing always….not in the WR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2" marL="867240" indent="-303120">
              <a:lnSpc>
                <a:spcPct val="95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3758-6799-4971-BE4E-73FC166EA48C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727520" y="5105160"/>
            <a:ext cx="4416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5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Joe Guarisco MD FACEP jguarisco@ochsner.org           504-842-4433   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lnSpc>
                <a:spcPct val="95000"/>
              </a:lnSpc>
              <a:spcBef>
                <a:spcPts val="649"/>
              </a:spcBef>
              <a:spcAft>
                <a:spcPts val="649"/>
              </a:spcAft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Picture 3" descr="ed_logo.JPG&#13;&#10;Ochsner logo"/>
          <p:cNvPicPr/>
          <p:nvPr/>
        </p:nvPicPr>
        <p:blipFill>
          <a:blip r:embed="rId1"/>
          <a:stretch/>
        </p:blipFill>
        <p:spPr>
          <a:xfrm>
            <a:off x="3733920" y="2743200"/>
            <a:ext cx="5410080" cy="274320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E00C-C48E-4695-A28E-055A9CD0D323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270" name="Snagit_PPT950B" descr="PPT950B.png&#13;&#10;Door-to-Doc (D2D) Patient Safety Tookit Chart"/>
          <p:cNvPicPr/>
          <p:nvPr/>
        </p:nvPicPr>
        <p:blipFill>
          <a:blip r:embed="rId1"/>
          <a:stretch/>
        </p:blipFill>
        <p:spPr>
          <a:xfrm>
            <a:off x="1523880" y="1676520"/>
            <a:ext cx="6172200" cy="5029200"/>
          </a:xfrm>
          <a:prstGeom prst="rect">
            <a:avLst/>
          </a:prstGeom>
          <a:ln w="0">
            <a:noFill/>
          </a:ln>
        </p:spPr>
      </p:pic>
      <p:sp>
        <p:nvSpPr>
          <p:cNvPr id="27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8DF7-58F8-4CEC-A5FA-E47D319FF407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Intersectio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urricane Katrina’s crossroad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4" name="Picture 2" descr="Map photo - Hurricane Katrina"/>
          <p:cNvPicPr/>
          <p:nvPr/>
        </p:nvPicPr>
        <p:blipFill>
          <a:blip r:embed="rId1"/>
          <a:stretch/>
        </p:blipFill>
        <p:spPr>
          <a:xfrm>
            <a:off x="990720" y="2819520"/>
            <a:ext cx="3429000" cy="271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Storm surge"/>
          <p:cNvPicPr/>
          <p:nvPr/>
        </p:nvPicPr>
        <p:blipFill>
          <a:blip r:embed="rId2"/>
          <a:stretch/>
        </p:blipFill>
        <p:spPr>
          <a:xfrm>
            <a:off x="4800600" y="28195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8048-7443-4B0F-A33D-D62D3C1F625C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Intersectio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urricane Katrina’s crossroad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Picture 10" descr="Photo of Newspaper Front Page&#13;&#10;The Times-Picayune - Clear Out or Else"/>
          <p:cNvPicPr/>
          <p:nvPr/>
        </p:nvPicPr>
        <p:blipFill>
          <a:blip r:embed="rId1"/>
          <a:stretch/>
        </p:blipFill>
        <p:spPr>
          <a:xfrm>
            <a:off x="2819520" y="2743200"/>
            <a:ext cx="2651040" cy="365760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E239-37A3-42C0-83C2-5429C053DF79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Intersection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55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urricane Katrina’s submerged crossroad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Picture 4" descr="CIMG2501.JPG&#13;&#10;Photo of South Louisiana Submerged Roads program sign"/>
          <p:cNvPicPr/>
          <p:nvPr/>
        </p:nvPicPr>
        <p:blipFill>
          <a:blip r:embed="rId1"/>
          <a:stretch/>
        </p:blipFill>
        <p:spPr>
          <a:xfrm>
            <a:off x="4724280" y="2590920"/>
            <a:ext cx="4114800" cy="3886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IMG2508.JPG&#13;&#10;Photo of South Louisiana Submerged Roads program sign"/>
          <p:cNvPicPr/>
          <p:nvPr/>
        </p:nvPicPr>
        <p:blipFill>
          <a:blip r:embed="rId2"/>
          <a:stretch/>
        </p:blipFill>
        <p:spPr>
          <a:xfrm>
            <a:off x="1219320" y="2666880"/>
            <a:ext cx="3143160" cy="388620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0CE7-5576-4AEF-82F7-C0A069EBF84B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287" name="Snagit_PPTFF" descr="PPTFF.png&#13;&#10;Photo of published article by the Times-Picayune&#13;&#10;Maryland is hungry for Louisiana crabs, but Louisiana can't deliver"/>
          <p:cNvPicPr/>
          <p:nvPr/>
        </p:nvPicPr>
        <p:blipFill>
          <a:blip r:embed="rId1"/>
          <a:stretch/>
        </p:blipFill>
        <p:spPr>
          <a:xfrm>
            <a:off x="1403280" y="1676520"/>
            <a:ext cx="6572160" cy="4876560"/>
          </a:xfrm>
          <a:prstGeom prst="rect">
            <a:avLst/>
          </a:prstGeom>
          <a:ln w="0">
            <a:noFill/>
          </a:ln>
        </p:spPr>
      </p:pic>
      <p:sp>
        <p:nvSpPr>
          <p:cNvPr id="2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21EE-484E-4101-8846-5FF5A1D912EA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sp>
        <p:nvSpPr>
          <p:cNvPr id="29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C5F8-851C-4BE3-ADFD-7CFEC6C7E7D2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Snagit_PPT103" descr="PPT103.png"/>
          <p:cNvPicPr/>
          <p:nvPr/>
        </p:nvPicPr>
        <p:blipFill>
          <a:blip r:embed="rId1"/>
          <a:stretch/>
        </p:blipFill>
        <p:spPr>
          <a:xfrm>
            <a:off x="1371600" y="1752480"/>
            <a:ext cx="67039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Georgia"/>
              </a:rPr>
              <a:t>Door to Doc</a:t>
            </a:r>
            <a:endParaRPr b="0" lang="en-US" sz="4400" spc="-1" strike="noStrike">
              <a:solidFill>
                <a:srgbClr val="4f271c"/>
              </a:solidFill>
              <a:latin typeface="Georgia"/>
            </a:endParaRPr>
          </a:p>
        </p:txBody>
      </p:sp>
      <p:pic>
        <p:nvPicPr>
          <p:cNvPr id="293" name="Content Placeholder 6" descr="Photo of chart - LWBS%, Post Katrina &amp; Pre Katrina"/>
          <p:cNvPicPr/>
          <p:nvPr/>
        </p:nvPicPr>
        <p:blipFill>
          <a:blip r:embed="rId1"/>
          <a:stretch/>
        </p:blipFill>
        <p:spPr>
          <a:xfrm>
            <a:off x="530280" y="1749600"/>
            <a:ext cx="8163000" cy="450504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C225-EACF-46D5-BF04-A49B78C65292}" type="slidenum">
              <a:rPr b="1" lang="en-US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20:02:14Z</dcterms:created>
  <dc:creator>Joe</dc:creator>
  <dc:description/>
  <dc:language>en-US</dc:language>
  <cp:lastModifiedBy>DHHS</cp:lastModifiedBy>
  <dcterms:modified xsi:type="dcterms:W3CDTF">2012-01-04T17:17:34Z</dcterms:modified>
  <cp:revision>77</cp:revision>
  <dc:subject/>
  <dc:title>AHRQ</dc:title>
</cp:coreProperties>
</file>