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A038-63AE-449E-9E81-4A3641B12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9BAF-D297-44FE-ADD3-FD472310A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FD5E-CED4-4901-9492-2CD1ED1A8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9D8F-A257-4BBA-AF28-FB342A826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295E-6432-4A0A-B1ED-C49C43C66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5453-2FEE-4AAE-B764-C82A05E74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D804-0CC4-43DB-BE9A-588BF4365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AFC2-40A1-4853-A6CE-7D92D850F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DD0E-7090-484E-8AA8-60AD48AC0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EA6C-C656-458A-9249-9C72FDFE6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A600-05E3-4FE2-A6EB-FF311510E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F857-49EC-4565-A325-A27FD081D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CE3E-5333-4BBB-89CF-0C02DCC88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01C3-0D05-4B2A-BE65-4D56C8AA8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CE1D-C56F-474F-9FDF-2082F034F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9A3A-D25F-432C-90EC-4188281D8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3531-CFB2-4718-8E2C-AF3222AF8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3B0E-DE57-4724-9E87-A748B2A47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97F4-9334-4798-A307-31F0F1E3B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1853-CF5B-4F88-84B1-931E514F3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08F3-B219-4A99-9576-BF60FE16E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2488-D050-4B1E-8370-877DF767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D07-D30E-4E3F-AF4D-2B5D4E7A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15F-2FB6-46EB-8603-DD5C6B7A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A08-A687-49C0-9941-4D8F31EA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2807-584F-4F8C-935C-B168598C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40EA-A81A-4123-8013-8FA6132F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AB11-2FA6-4360-AEE3-53E44BC0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CA28-5795-44B6-8D38-47481D1D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B5C3-A87F-4AF4-ADDE-BE48B04E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7FB6-9B72-4050-9159-9494A3FE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8D62-D330-4388-9346-DE351862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A1A-A2D6-4C3C-95AD-A2432F8C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BEB0-3AA0-4BC7-BEDD-BEAA4027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7FE8-BFAD-4D4F-B79C-68955313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3A1F-26D5-4830-A71C-CFFE6710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8AE8-D3EB-447E-B13F-4A961BFA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E1CB-371E-4F13-B198-6B098E1F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EA80F-9561-4A5C-8F85-37909A30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96C5C-5E40-435F-80FE-5666983D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400B3-236C-4A7E-9C72-0CEAFBB3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E0AE9-E069-4443-9701-02F5A3C5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86588-DA48-46A8-8BA9-3DB89864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DB0A-25D8-4D0D-9197-79FA1EB3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CB337-6CEE-4EA0-9342-7512D5F9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21FFD-623C-4BFF-9A4E-D2EECD3F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2278A-37B9-43AF-8B0C-3DAF5C71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9BF09-7629-4AF1-9D34-2E271CF5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F4C35-C050-4E2F-BB84-A7641092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CCB0D-3C8B-4FB2-B58A-8E74C8E9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FB22B-F74B-49E9-ABFB-8BD250EC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1A4F8-71A9-4803-9FF4-C4E1F93A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EF5C7-7716-460F-B936-A91B397C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C37A6-B9C2-4285-B21F-9FBE92F6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1CA-37A2-4E96-BE43-4541B4AB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60697-0FE7-4843-9198-8782A53D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C2E4F-A91F-41B7-8A1D-1A9708B1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56ED4-E0F3-4EEC-87C1-3B88D794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CA4E5-015B-470D-B281-DDC6C134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5CF52-9A56-447A-8051-D015475A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9C7C8-61FC-45F4-ABAC-27FE7E8E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2D6E4-6085-441A-A903-995B7163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46F85-E719-43D1-B927-E6CB87BC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62E70-D51C-43D7-9C63-0689168C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48E-C329-4EF2-BF83-E9487FFA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C2F9-359A-422D-9728-4A634B68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7F7-4280-42FC-9E00-764C9894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D93-6C6F-4FEE-8E44-9466EA9A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196-2F0C-4DBC-9506-C9548808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F837-C3A4-485B-94BE-E05406D83871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CB2F-86EF-447D-99F2-DA0B5F6A6A59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6E44-1E0D-491D-BCA0-809CB2D3C53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B22A-6A50-4483-9D93-6305EB8DAA5A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43360" y="2971440"/>
            <a:ext cx="33148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c600"/>
                </a:solidFill>
                <a:latin typeface="Book Antiqua"/>
              </a:rPr>
              <a:t>Nevada takes flight with</a:t>
            </a:r>
            <a:br>
              <a:rPr sz="3200"/>
            </a:br>
            <a:r>
              <a:rPr b="1" lang="en-US" sz="3200" spc="-1" strike="noStrike">
                <a:solidFill>
                  <a:srgbClr val="94c600"/>
                </a:solidFill>
                <a:latin typeface="Book Antiqua"/>
              </a:rPr>
              <a:t>MONAHRQ</a:t>
            </a:r>
            <a:endParaRPr b="0" lang="en-US" sz="32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23920" y="4724280"/>
            <a:ext cx="3310200" cy="12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Center for Health Information Analysis (CHIA)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Joseph A. Greenway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4648320" y="0"/>
            <a:ext cx="3504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2189160" y="2340000"/>
            <a:ext cx="4959360" cy="38685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Where does NV Stand Today?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Book Antiqua"/>
              </a:rPr>
              <a:t>Where does NV Stand Today?</a:t>
            </a:r>
            <a:endParaRPr b="0" lang="en-US" sz="3600" spc="-1" strike="noStrike">
              <a:solidFill>
                <a:srgbClr val="94c600"/>
              </a:solidFill>
              <a:latin typeface="Book Antiqua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942840" y="1828800"/>
            <a:ext cx="71820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Book Antiqua"/>
              </a:rPr>
              <a:t>Where does NV Stand Today?</a:t>
            </a:r>
            <a:endParaRPr b="0" lang="en-US" sz="3600" spc="-1" strike="noStrike">
              <a:solidFill>
                <a:srgbClr val="94c600"/>
              </a:solidFill>
              <a:latin typeface="Book Antiqua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1093680" y="1979640"/>
            <a:ext cx="7051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2179800" y="898560"/>
            <a:ext cx="4373280" cy="54784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   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1828800" y="990720"/>
            <a:ext cx="5281560" cy="531324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   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1149480" y="1295280"/>
            <a:ext cx="7115040" cy="473400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   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2895480" y="1000080"/>
            <a:ext cx="3743280" cy="54244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   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Our Wish List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 would like MONAHRQ to be able to post hospital outpatient (OP) dat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CPC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ate Cod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Outpatient DRGS (EAPGs </a:t>
            </a:r>
            <a:r>
              <a:rPr b="0" lang="en-US" sz="2200" spc="-1" strike="noStrike">
                <a:solidFill>
                  <a:srgbClr val="3e3d2d"/>
                </a:solidFill>
                <a:latin typeface="Arial"/>
                <a:ea typeface="Arial"/>
              </a:rPr>
              <a:t>???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’d like it to treat the OP types uniquel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mergency Departmen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Outpatient Surger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Other OP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2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Our Wish List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’d like (where appropriate) MONAHRQ to compare Inpatient with Outpatient data (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inter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and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intra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hospital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 wish that a future version of MONAHRQ would incorporate Ambulatory Surgical Center data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reat each ASC type uniquely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ompare to hospital OP data (where appropriate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Summary and Conclusion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ONAHRQ has been a godsend in Nevada. When budgetary constraints and political pressures put the need for public results into the forefront, MONAHRQ saved the day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strongly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recommend that MONAHRQ be used by all those that need to post health billing dat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Overview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71103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troduc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evada’s political and budgetary statu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verted failure – MONAHRQ saves the da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here does Nevada stand toda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ur wish lis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ummary and conclus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3d2d"/>
                </a:solidFill>
                <a:latin typeface="Century Gothic"/>
              </a:rPr>
              <a:t>Questions</a:t>
            </a:r>
            <a:r>
              <a:rPr b="0" lang="en-US" sz="5400" spc="-1" strike="noStrike">
                <a:solidFill>
                  <a:srgbClr val="3e3d2d"/>
                </a:solidFill>
                <a:latin typeface="Arial"/>
                <a:ea typeface="Arial"/>
              </a:rPr>
              <a:t>???</a:t>
            </a:r>
            <a:endParaRPr b="0" lang="en-US" sz="5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0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   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Introduction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The million dollar space pen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Innovation comes at a cost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Shared efforts stretch limited resource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0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Introduction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The million dollar space pen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Innovation comes at a cost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Shared efforts stretch limited resource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3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Nevada’s status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Assemblywoman Sheila Leslie is a visionar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entury Gothic"/>
              </a:rPr>
              <a:t>The battle for transparenc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e endoscopy scandal (the leverage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 passage of Assembly Bill 146 (AB146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ata collection begi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he need to post to the public is looming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 big project with a little budge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Nevada’s status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ssemblywoman Sheila Leslie is a visionar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e battle for transparenc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entury Gothic"/>
              </a:rPr>
              <a:t>The endoscopy scandal (the leverage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 passage of Assembly Bill 146 (AB146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ata collection begi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he need to post to the public is looming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 big project with a little budge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Nevada’s status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ssemblywoman Sheila Leslie is a visionar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e battle for transparenc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e endoscopy event (the leverage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The passage of Assembly Bill 146 (AB146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entury Gothic"/>
              </a:rPr>
              <a:t>Data collection begi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entury Gothic"/>
              </a:rPr>
              <a:t>The need to post to the public is looming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entury Gothic"/>
              </a:rPr>
              <a:t>A big project with a little budge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2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MONAHRQ Saves the Day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Beta testers of MONAHRQ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entury Gothic"/>
              </a:rPr>
              <a:t>A ton of bricks lifted from our shoulder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entury Gothic"/>
              </a:rPr>
              <a:t>DRGs, Diagnoses, Procedures, Quality Indicator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he difficulties and delays, and the budgetary pressur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MONAHRQ Saves the Day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eta testers of MONAHRQ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 ton of bricks lifted from our shoulder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RGs, Diagnoses, Procedures, Quality Indicator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entury Gothic"/>
              </a:rPr>
              <a:t>The difficulties and delays, and the budgetary pressur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5:35:32Z</dcterms:created>
  <dc:creator>Greenwaj</dc:creator>
  <dc:description/>
  <dc:language>en-US</dc:language>
  <cp:lastModifiedBy>Kim Gretka</cp:lastModifiedBy>
  <dcterms:modified xsi:type="dcterms:W3CDTF">2010-10-18T02:13:14Z</dcterms:modified>
  <cp:revision>103</cp:revision>
  <dc:subject/>
  <dc:title>Nevada takes flight with MONAHRQ</dc:title>
</cp:coreProperties>
</file>