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9D7B-4F34-4A70-B8AE-4551D5E52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E938-697D-456F-A263-928648422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41B5-B5C2-41E2-AC14-D41A5D1BF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7116-5DC4-41F6-87D1-879CEBB57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FB0A-0576-4B19-B827-5620AB081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F42D-1779-4455-BAA3-D7F7ED827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8831-D041-4675-930D-F6AF245B6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F271-154E-491E-A012-6D96E38B5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5E39-6BFC-4783-B249-6233BF14D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C5BC-59BF-4B69-95C4-2D37B2494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6EAC-FE9A-4208-A990-D1FE34F06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6DD6-11AA-49B2-8BB5-B2CF7B2CD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54A8-5462-4A94-B07D-1BE7490DF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F0D3-F8D9-4DC0-B515-74520B8D0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4154-2F41-4B11-B5C7-8A63F180E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2E33-8314-4040-94BF-908334CE1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2171-4778-4B91-8899-786235EFF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CED6-D268-404B-9740-6CAC6A75C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DD80-9E67-494B-9390-04CE991DC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8C21-925A-42AB-B9E4-170564255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729F-C465-44B5-9639-291ECBE72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8AE9-9E11-4CFA-BD1E-769C69F0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7ED-9589-48CE-B152-2EF0C33C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F06-7FF1-4CDD-813E-AA962B81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DDA-5E96-4DEE-8734-D0FD282A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501E-E6A6-4575-8DEC-DF7944FE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1632-C3DF-4900-A48E-BE247969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E6A7-FFB3-479B-8ED2-9C3E70C4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9A40-BD3A-47B7-AD2B-D151A739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2986-DDF1-41C7-9BB9-47D51149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FEF3-EFC2-4426-818A-3939CFD1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1BB7-FC4A-4727-89C2-3DF886BC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AE8-487D-4922-9BAF-F09A82E2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40DB-DAF9-4239-B16E-38D617F1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9C34-C6EA-416B-AD1D-5777AE38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C94F-C054-446F-AA53-2114D5FC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B9D2-213F-4AC8-B561-9F4D6E2F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5709-0925-49E2-A9CA-4388CE40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5EE8A-5723-46D8-AD5B-81C34C91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D6CB2-2CB0-4A79-8661-F73529DF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6D22D-E632-40FE-B1C1-FB808454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DA838-8055-4CF5-B0E8-2F4C0E4D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78A55-A6D2-4971-B915-2EA25651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393-2525-4119-BB3C-0FCF2FFE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7FB53-1500-46E3-B34A-8F938D73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8F4FE1-4BD1-41C5-A3B7-46556C3D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9B3BD-73E9-43C7-8937-8A57E402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EA0E8-FCC7-4AF8-BFD4-A2AF79AB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018F2-1C07-4842-8EBA-A526E3C8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070D5-066B-4DD7-AE46-E522BD4C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D4B2D-A4AD-40B1-AF6B-D02D9727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53E3B-0A8D-42C6-B587-A5AD9A49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DBB11-B51F-4AAE-BCEC-454E5FA6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F62FC-DFBA-43B0-AB6D-DB757B46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F5A6-4218-4512-8AFC-D9D2B022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1144D-7CA7-421E-816E-717AE4F1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ED914-6C7F-4DAD-95FA-9655E106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618EC-B98B-467C-A17F-ED5A6DB8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D93FB-8E59-4A12-8BB3-ABFEB734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91FBB-F4CE-48CA-AEE3-5218140B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63A84-FD6F-48BB-875E-6D1AA600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4BA78-287E-4E5B-A002-5B91988E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BF930-964F-4960-9D4B-C7CA21E5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B49DD-6B13-4387-BC75-64EDAF8A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9F7-3D43-40E7-BC55-A8C4AFE7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0D9-C9FE-47C1-8F25-45CBA33B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7D6-53E3-44B9-B5CF-24500C10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630-2A19-40D6-9A50-9F37CEDB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7F7-09C8-4EB6-A495-F62A98D6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F9ED-8346-4C11-BC14-58962AEC41A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DC85-39EA-43C1-8B80-194F46E74E5B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BA44-3859-4DC8-BC08-38EEB6311007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5A3D-B4CD-45D2-B368-2749CA77F587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43360" y="2971440"/>
            <a:ext cx="33148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c600"/>
                </a:solidFill>
                <a:latin typeface="Book Antiqua"/>
              </a:rPr>
              <a:t>Nevada takes flight with</a:t>
            </a:r>
            <a:br>
              <a:rPr sz="3200"/>
            </a:br>
            <a:r>
              <a:rPr b="1" lang="en-US" sz="3200" spc="-1" strike="noStrike">
                <a:solidFill>
                  <a:srgbClr val="94c600"/>
                </a:solidFill>
                <a:latin typeface="Book Antiqua"/>
              </a:rPr>
              <a:t>MONAHRQ</a:t>
            </a:r>
            <a:endParaRPr b="0" lang="en-US" sz="32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23920" y="4724280"/>
            <a:ext cx="3310200" cy="12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Center for Health Information Analysis (CHIA)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Joseph A. Greenway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4648320" y="0"/>
            <a:ext cx="3504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2189160" y="2340000"/>
            <a:ext cx="4959360" cy="38685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Where does NV Stand Today?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Book Antiqua"/>
              </a:rPr>
              <a:t>Where does NV Stand Today?</a:t>
            </a:r>
            <a:endParaRPr b="0" lang="en-US" sz="3600" spc="-1" strike="noStrike">
              <a:solidFill>
                <a:srgbClr val="94c600"/>
              </a:solidFill>
              <a:latin typeface="Book Antiqua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942840" y="1828800"/>
            <a:ext cx="71820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Book Antiqua"/>
              </a:rPr>
              <a:t>Where does NV Stand Today?</a:t>
            </a:r>
            <a:endParaRPr b="0" lang="en-US" sz="3600" spc="-1" strike="noStrike">
              <a:solidFill>
                <a:srgbClr val="94c600"/>
              </a:solidFill>
              <a:latin typeface="Book Antiqua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1093680" y="1979640"/>
            <a:ext cx="7051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2179800" y="898560"/>
            <a:ext cx="4373280" cy="54784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   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1828800" y="990720"/>
            <a:ext cx="5281560" cy="531324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   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1149480" y="1295280"/>
            <a:ext cx="7115040" cy="473400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   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2895480" y="1000080"/>
            <a:ext cx="3743280" cy="54244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   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Our Wish List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 would like MONAHRQ to be able to post hospital outpatient (OP) dat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CPC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ate Cod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Outpatient DRGS (EAPGs </a:t>
            </a:r>
            <a:r>
              <a:rPr b="0" lang="en-US" sz="2200" spc="-1" strike="noStrike">
                <a:solidFill>
                  <a:srgbClr val="3e3d2d"/>
                </a:solidFill>
                <a:latin typeface="Arial"/>
                <a:ea typeface="Arial"/>
              </a:rPr>
              <a:t>???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’d like it to treat the OP types uniquel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mergency Departmen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Outpatient Surger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Other OP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2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Our Wish List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’d like (where appropriate) MONAHRQ to compare Inpatient with Outpatient data (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inter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and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intra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hospital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 wish that a future version of MONAHRQ would incorporate Ambulatory Surgical Center data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Treat each ASC type uniquely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ompare to hospital OP data (where appropriate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Summary and Conclusion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ONAHRQ has been a godsend in Nevada. When budgetary constraints and political pressures put the need for public results into the forefront, MONAHRQ saved the day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strongly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recommend that MONAHRQ be used by all those that need to post health billing data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Overview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71103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troduc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evada’s political and budgetary statu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verted failure – MONAHRQ saves the da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here does Nevada stand toda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ur wish lis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ummary and conclus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295280" y="2895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3d2d"/>
                </a:solidFill>
                <a:latin typeface="Century Gothic"/>
              </a:rPr>
              <a:t>Questions</a:t>
            </a:r>
            <a:r>
              <a:rPr b="0" lang="en-US" sz="5400" spc="-1" strike="noStrike">
                <a:solidFill>
                  <a:srgbClr val="3e3d2d"/>
                </a:solidFill>
                <a:latin typeface="Arial"/>
                <a:ea typeface="Arial"/>
              </a:rPr>
              <a:t>???</a:t>
            </a:r>
            <a:endParaRPr b="0" lang="en-US" sz="5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0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   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Introduction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The million dollar space pen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Innovation comes at a cost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Shared efforts stretch limited resource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0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Introduction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The million dollar space pen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Innovation comes at a cost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Shared efforts stretch limited resource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3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Nevada’s status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Assemblywoman Sheila Leslie is a visionar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entury Gothic"/>
              </a:rPr>
              <a:t>The battle for transparenc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e endoscopy scandal (the leverage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 passage of Assembly Bill 146 (AB146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ata collection begi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he need to post to the public is looming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 big project with a little budge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Nevada’s status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ssemblywoman Sheila Leslie is a visionar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e battle for transparenc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entury Gothic"/>
              </a:rPr>
              <a:t>The endoscopy scandal (the leverage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 passage of Assembly Bill 146 (AB146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ata collection begi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he need to post to the public is looming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 big project with a little budge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Nevada’s status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ssemblywoman Sheila Leslie is a visionar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e battle for transparenc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e endoscopy event (the leverage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The passage of Assembly Bill 146 (AB146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entury Gothic"/>
              </a:rPr>
              <a:t>Data collection begi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entury Gothic"/>
              </a:rPr>
              <a:t>The need to post to the public is looming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entury Gothic"/>
              </a:rPr>
              <a:t>A big project with a little budge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2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MONAHRQ Saves the Day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Beta testers of MONAHRQ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entury Gothic"/>
              </a:rPr>
              <a:t>A ton of bricks lifted from our shoulder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entury Gothic"/>
              </a:rPr>
              <a:t>DRGs, Diagnoses, Procedures, Quality Indicator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he difficulties and delays, and the budgetary pressur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Book Antiqua"/>
              </a:rPr>
              <a:t>MONAHRQ Saves the Day</a:t>
            </a:r>
            <a:endParaRPr b="0" lang="en-US" sz="4000" spc="-1" strike="noStrike">
              <a:solidFill>
                <a:srgbClr val="94c600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eta testers of MONAHRQ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 ton of bricks lifted from our shoulder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RGs, Diagnoses, Procedures, Quality Indicator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entury Gothic"/>
              </a:rPr>
              <a:t>The difficulties and delays, and the budgetary pressur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4557600" y="-165240"/>
            <a:ext cx="37339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5:35:32Z</dcterms:created>
  <dc:creator>Greenwaj</dc:creator>
  <dc:description/>
  <dc:language>en-US</dc:language>
  <cp:lastModifiedBy>Kim Gretka</cp:lastModifiedBy>
  <dcterms:modified xsi:type="dcterms:W3CDTF">2010-10-18T02:13:14Z</dcterms:modified>
  <cp:revision>103</cp:revision>
  <dc:subject/>
  <dc:title>Nevada takes flight with MONAHRQ</dc:title>
</cp:coreProperties>
</file>