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FA9AC9-72E9-41DC-95DA-96760F46F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721F83-B869-4C94-B07F-F60EFDD628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F83247-8A06-45AF-B49F-0A8BD0D44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EE62B1-BBD2-4994-9CCE-96CFE711B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0EA4AB-29DE-42E5-8D4D-FE41105C2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BD9306-117D-40EE-9E9E-DF63928C41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DD0A92-C461-41D2-B483-2C4BC045B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515524-26BA-4474-A0E5-1D50785FB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E8FDBF-8152-4FEB-9BE1-0A7509A03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754DFC-3FE0-480F-8AC7-0D0BF5F8F3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BD67F4-673C-46B8-A624-BC75AC4E61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046AF6-C110-48C0-8F3E-48FD81BEF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922CE8-8456-43E8-B4B3-E13E701D0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5B2803-F392-4FFA-9942-5E1EBD26D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31B3C1-A374-4DE8-8229-B8C09FC73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4D3B82-E628-4E8F-8A58-F2C2C5A06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C55-5BCD-43A3-83D9-6711BF25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309-B8E8-4B83-BEEF-5162A80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E88-747E-4976-9F94-836D5D47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3B3-F833-4716-B648-04640F27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FD36-CB45-4E43-81BA-1BBF73A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9540-88E3-49C8-818C-814B0F17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841C-3888-44D2-B2FD-48EBF34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48E-3CA0-420A-817C-0F644C5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644D-F212-4409-9EDE-6D27D386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B71-8B14-40B6-AD27-9280A56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0E0-6A5B-4A73-8791-A7EE70D4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E35-0D1B-498F-939E-FE847494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E5F5-6941-410B-A7ED-C8A3D7C1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6110-20E0-4845-82B0-7A5DB026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C35-6554-4FA3-86AD-51A105EA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CB43-9F22-4A17-922A-CD844B5A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6F07-D30F-4253-BCAB-39B5172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D8B-4FFB-4175-BBE2-10A02163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2DA-0B70-4C93-9DB7-C033723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482-BAE6-43F7-B334-774C0021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EF1-269B-435B-9287-981B5D2F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EE6-41C0-41F5-806A-0469C8E9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6F2-61ED-4D44-A0EA-E4C1F77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258-CCB7-49AB-B846-3A1C351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FE9-DEB7-4936-9D0F-E0EE416049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4B44-37DA-4BAD-BC4F-52E95B1C4AB6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420E-BB52-4832-B599-7B359717FF8F}" type="datetime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D30-661B-4797-AA80-1DD2E575413D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2240" y="4163760"/>
            <a:ext cx="2863440" cy="22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ty Care Coordination Scorecard—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ising the Bar for Measuring Improvements i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to Care Across Communities</a:t>
            </a:r>
            <a:br>
              <a:rPr sz="1600"/>
            </a:br>
            <a:br>
              <a:rPr sz="1600"/>
            </a:br>
            <a:br>
              <a:rPr sz="2400"/>
            </a:b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257440" y="411480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erry E. Gray, Dir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Rural and Urban Access to Health-St. Vincent Healt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219320" y="103716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ilding and supporting community capacity: Measuring the Success and Barri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 Medical Home Placement for Our Most Vulnerable Community Member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5412600" y="5334120"/>
            <a:ext cx="358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HRQ 2010 Annual Conferen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day, September 27, 2010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350-3C69-4566-9CF0-7D89055506F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’s a reason most communities don’t gravitate to thi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k has to be communicated in different ways for different audiences and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and coordination of care goes against the grain of how the health system has e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AA98-8DFB-4807-A9CC-84409B58279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orecard group formed through the Community Care Coordination Learning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itiatives/measures develop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AH data submission initiated Spring,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equired Data Point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for the Medical Home Scorecard Measure, for all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066680" y="914400"/>
            <a:ext cx="746784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om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ing the Effectiveness of Access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7BA-CA65-4D00-9CB1-1B0FAFE9F09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8240" y="1010520"/>
            <a:ext cx="7808040" cy="133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Required Data Points for the Medical Home Scorecard Measure=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074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ents’ demographic data during 1 month time fra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urance Stat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ource of Ongoing primary ca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Was a referral started to achieve an ongoing source of primary care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arriers to completing that referr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ate the connection to ongoing primary care was mad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pportive (“wrap around”) social service referral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arri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te  connection was made to resolve identified social service ne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411E-5939-40B1-B9CE-CE41FC9865D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RUAH is at in the Proces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ble to submit most of the required data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eginning stages of implementing Pathway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UAH = Eight different communiti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iloting Pathways in one site currently = sole data reporting community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hallenge: reporting outcomes for ongoing source of primary care and social service referral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articipation in the Scorecard Measure process is accelerating the goal of appointment verification and follow-up coordination and verifica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opting the Pathways model = Report on outcomes vs. counting referrals/activiti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ds accountability, credibility and rationale for system change and sustainability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109-CCBD-48F7-A03F-79F61C7FE06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What “Gains” Have been Mad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Pathways have been developed for the Anderson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H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CCLN Scorecard Measure Project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gnanc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hood Immu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ed Program Enroll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ed Program Re-Enroll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18FF-83E2-4463-8275-5F16C67E4CE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Wha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s for HUB being sig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OI developed for HUB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Care Coordination “check in” line developed to start a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eing implemented for monthly Pathway process checks and outcome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ll be able to tell you next ye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8DB-CC10-44E4-8059-A39E4CC3549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RUAH*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5562360"/>
            <a:ext cx="7693200" cy="90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*What does it mean?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rua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n yiddish means “Breath of Life”.   The Goal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o breathe new life into a health care system that serves our most vulnerable community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14400" y="251460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Health Access Workers (HAW) in 8 comm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spital associates: community foc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Medication Access Coordinators (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spital and Community Agency Associ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Administrative Support : Health Access Manager; Operations Facilitator; Language Access Staff; System 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248520" y="380880"/>
            <a:ext cx="1373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EBA-B28C-425C-B7BC-5A4BBB60836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Work of  RUA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lient Advocacy and System Navig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a Health Access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harmacy Assista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access to low or no cost drugs connecting through Medication Access Coordinators (MAC’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ion o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Medical Homes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the under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pecialty 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the under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ogram enroll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financial resource review and 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ce: public AND priv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tion of inappropriat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mergency Room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tion of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hospital re-admissio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hronic dis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ce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upportive social servi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“wrap around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come Based Measuremen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hway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ty Care Coordination: “Hub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Language Ac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Medical interpretation and translation of vita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ystem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4A1-673E-4E65-9FDF-92F0F86EDD0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ovide &amp; increase access for uninsured/underinsured community memb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P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988-4E26-4ADD-AA96-329DD4456A3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That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807696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/underinsured community members can receive care “sooner vs. later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istent and  familiar care is provided along with follow up &amp; follow through: treatment is  across time and not episod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ources are used as effectively as possible, including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uman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viders, Practitioners, Care Coordinators, Administrative support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nancial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imbursement, Funding, Cost-Avoidance, “Write-Off’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chnological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necting Information in a timely, meaningful w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pport (wrap-a-round) Servic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necting medical treatment, public health practices, &amp; psychosocial princip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ital connections are ma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 and coordinate c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uplicate and replicate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est Practice” Learning's are shared; and solutions are not “re-created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06A-5BE8-498B-8BDC-9826A09043B3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RUAH got HERE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905120" y="25146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aliz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access, services provided,  and reimbursement was intuitively a “good thing”, but prove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MC900012999[1]"/>
          <p:cNvPicPr/>
          <p:nvPr/>
        </p:nvPicPr>
        <p:blipFill>
          <a:blip r:embed="rId1"/>
          <a:stretch/>
        </p:blipFill>
        <p:spPr>
          <a:xfrm>
            <a:off x="1092240" y="2502000"/>
            <a:ext cx="60480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981080" y="3809880"/>
            <a:ext cx="640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solv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find out if a positive difference was made in the lives of those we are seeking to serve.  If so, how could that be demonstrated and or verified?  If not, what needed to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MC900012999[1]"/>
          <p:cNvPicPr/>
          <p:nvPr/>
        </p:nvPicPr>
        <p:blipFill>
          <a:blip r:embed="rId2"/>
          <a:stretch/>
        </p:blipFill>
        <p:spPr>
          <a:xfrm>
            <a:off x="1143000" y="3962520"/>
            <a:ext cx="60480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133720" y="5334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Researc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st Practice models in OUT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MENT, specific to community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MC900012999[1]"/>
          <p:cNvPicPr/>
          <p:nvPr/>
        </p:nvPicPr>
        <p:blipFill>
          <a:blip r:embed="rId3"/>
          <a:stretch/>
        </p:blipFill>
        <p:spPr>
          <a:xfrm>
            <a:off x="1143000" y="548640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703-81FA-40F4-A126-E1217044F34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86400" y="1215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hing leads to another…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13"/>
          <p:cNvGrpSpPr/>
          <p:nvPr/>
        </p:nvGrpSpPr>
        <p:grpSpPr>
          <a:xfrm>
            <a:off x="762120" y="2286000"/>
            <a:ext cx="7924680" cy="4572000"/>
            <a:chOff x="762120" y="2286000"/>
            <a:chExt cx="7924680" cy="4572000"/>
          </a:xfrm>
        </p:grpSpPr>
        <p:pic>
          <p:nvPicPr>
            <p:cNvPr id="131" name="Picture 5" descr="mast_print"/>
            <p:cNvPicPr/>
            <p:nvPr/>
          </p:nvPicPr>
          <p:blipFill>
            <a:blip r:embed="rId1"/>
            <a:stretch/>
          </p:blipFill>
          <p:spPr>
            <a:xfrm>
              <a:off x="838080" y="3657600"/>
              <a:ext cx="4572000" cy="5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" descr="LNMaster2"/>
            <p:cNvPicPr/>
            <p:nvPr/>
          </p:nvPicPr>
          <p:blipFill>
            <a:blip r:embed="rId2"/>
            <a:stretch/>
          </p:blipFill>
          <p:spPr>
            <a:xfrm>
              <a:off x="762120" y="5268960"/>
              <a:ext cx="4267080" cy="15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Best Logo"/>
            <p:cNvPicPr/>
            <p:nvPr/>
          </p:nvPicPr>
          <p:blipFill>
            <a:blip r:embed="rId3"/>
            <a:stretch/>
          </p:blipFill>
          <p:spPr>
            <a:xfrm>
              <a:off x="762120" y="2286000"/>
              <a:ext cx="114300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1"/>
            <p:cNvSpPr/>
            <p:nvPr/>
          </p:nvSpPr>
          <p:spPr>
            <a:xfrm>
              <a:off x="762120" y="4800600"/>
              <a:ext cx="4267080" cy="53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ity Care Coordination Learning Net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2374920" y="2412720"/>
              <a:ext cx="30477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Learned about Pathways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Began building 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munity HU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 rot="486000">
              <a:off x="5791320" y="2400120"/>
              <a:ext cx="1447560" cy="1218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5562720" y="3429000"/>
              <a:ext cx="3124080" cy="85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Invited to be part of th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novations Exchange: AHRQ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5562720" y="5372280"/>
              <a:ext cx="3047760" cy="1295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Joined the CCCL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Hub Manual Develop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Outcome Measur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orecard Pro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8"/>
            <p:cNvSpPr/>
            <p:nvPr/>
          </p:nvSpPr>
          <p:spPr>
            <a:xfrm rot="486000">
              <a:off x="5867640" y="4343400"/>
              <a:ext cx="1447560" cy="1218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2FE9-519D-4A40-81D8-F61A4E62964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am &amp; Community Benefi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are sh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’s no “charge” for advice/consul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s individual, community programs out of an isolated vacuu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moment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s chances of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s that in the healthcare delivery system change can and does ha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758-6F0F-4468-8CB5-128211DD72B0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between differences &amp; similarities for each community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design a structure that also respects the inherent need for flexi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explain, define, communicate the stru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eed up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s/Practic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me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ing Stru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5:08Z</dcterms:created>
  <dc:creator>Associate</dc:creator>
  <dc:description/>
  <dc:language>en-US</dc:language>
  <cp:lastModifiedBy>Graham</cp:lastModifiedBy>
  <dcterms:modified xsi:type="dcterms:W3CDTF">2010-10-22T17:24:07Z</dcterms:modified>
  <cp:revision>64</cp:revision>
  <dc:subject/>
  <dc:title>Saint John’s Access Initiatives</dc:title>
</cp:coreProperties>
</file>