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97163FF-1DEE-4295-BDD9-F44ECC039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AD77B3C-EE97-4824-AC63-34CDFACAEE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864BA21-DAD9-4AD8-B193-ED1004AD32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58F89AF-74C0-4A49-A615-43EF1869B2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C5B8B66-5483-479F-BE94-5E00135840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6059876-9EF0-4385-9B63-E1EAA5944E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C8FCB33-100F-4391-A0CF-CBB360E660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20BFCEE-3CFD-4D4A-8614-E1B53BE1E3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BFD7075-AEF8-4D30-A6A6-A3DEB628FF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2D466F4-CB3E-4FAB-B009-5E7856DE18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9CE596D-E695-490C-B051-DC8CBC1466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71C345-1854-4804-BBE2-5B0021E454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3526DE7-477D-4F82-97FA-2DEB03A076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140778-4E05-4494-9816-8DBBEECEE8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4A43578-1454-4418-9267-DA55C5682A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B36217B-9580-45C8-9031-B53D3ECF92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A9F2-3334-461A-A412-DA02EE90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9E9E-9181-4C76-A497-5B4500BD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3D3C-C765-4E80-9C29-B446D8078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CE3C-EC1B-4BF7-848B-6C853A79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0D1E-0A6B-4211-88A1-8FD26C6B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2C2C-26B0-46F1-9085-996F1139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0CDD-8166-41CC-9FE6-6F3AEDB0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BD89-9846-40DD-ADAA-99AC7D2C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9F9F-D182-498F-8591-DB6665C2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B230-8025-4A55-BB5D-0A99D58F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0674-5814-44BB-BA8D-9482F198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3C14-0846-4F07-8E8E-8A8C8AB5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38EC-5500-499F-A5F9-5C2231B5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F4C1-9B53-47CE-A07D-274F20C4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4B63-745B-41A6-ACD7-5B35A4A7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501B-A699-4CA9-A684-9798B567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54D5-16DE-42D0-9D9D-7972353A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22A8-9457-4143-802E-0CCA3F7F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D182-3865-4E17-9386-C3381D24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01C9-A1A3-4CCE-9171-1536E93B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B638-5D74-4920-A318-A40978D8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CC9C-9778-48A2-9E5D-E8A645DB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33C2-FC69-4AEA-A2E9-2D6B3818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772E-DD70-4024-932A-38B20EF1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594D-3679-4272-9D7E-3E85B09B067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0A45-414E-4695-988B-2A7329C76EE7}" type="slidenum">
              <a:rPr b="1" lang="en-US" sz="26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E6E1-E162-4A8E-B02D-51FDD536C418}" type="datetime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D9E9-DDF8-4D50-ABC3-54B0A8F2D689}" type="slidenum">
              <a:rPr b="1" lang="en-US" sz="26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62240" y="4163760"/>
            <a:ext cx="2863440" cy="22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munity Care Coordination Scorecard—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ising the Bar for Measuring Improvements in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ess to Care Across Communities</a:t>
            </a:r>
            <a:br>
              <a:rPr sz="1600"/>
            </a:br>
            <a:br>
              <a:rPr sz="1600"/>
            </a:br>
            <a:br>
              <a:rPr sz="2400"/>
            </a:br>
            <a:br>
              <a:rPr sz="24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257440" y="4114800"/>
            <a:ext cx="3429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Sherry E. Gray, Directo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Rural and Urban Access to Health-St. Vincent Health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1219320" y="103716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uilding and supporting community capacity: Measuring the Success and Barri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o Medical Home Placement for Our Most Vulnerable Community Members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5412600" y="5334120"/>
            <a:ext cx="358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HRQ 2010 Annual Conferenc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day, September 27, 2010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C955-C440-4381-A1E3-31C2BC9D3E2E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ssons Learne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’s a reason most communities don’t gravitate to this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k has to be communicated in different ways for different audiences and stakehol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ion and coordination of care goes against the grain of how the health system has evol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7948-60F6-4132-B713-CA99C04BA20E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corecard group formed through the Community Care Coordination Learning Networ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itiatives/measures develop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UAH data submission initiated Spring, 201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veloped the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Required Data Point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for the Medical Home Scorecard Measure, for all participa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1066680" y="914400"/>
            <a:ext cx="7467840" cy="83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l Hom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ing the Effectiveness of Access Initia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E5D5-D1D2-45C0-8A76-AF1E5E975559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858240" y="1010520"/>
            <a:ext cx="7808040" cy="133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Required Data Points for the Medical Home Scorecard Measure=</a:t>
            </a:r>
            <a:br>
              <a:rPr sz="3400"/>
            </a:b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074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lients’ demographic data during 1 month time fram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Insurance Statu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ource of Ongoing primary car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25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Was a referral started to achieve an ongoing source of primary care?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Barriers to completing that referr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ate the connection to ongoing primary care was mad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upportive (“wrap around”) social service referrals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25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Barrier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25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Date  connection was made to resolve identified social service need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785C-254E-4281-96B8-A302FECA1705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ere RUAH is at in the Process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ble to submit most of the required data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Beginning stages of implementing Pathway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RUAH = Eight different communiti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iloting Pathways in one site currently = sole data reporting community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hallenge: reporting outcomes for ongoing source of primary care and social service referral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Participation in the Scorecard Measure process is accelerating the goal of appointment verification and follow-up coordination and verificatio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dopting the Pathways model = Report on outcomes vs. counting referrals/activiti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dds accountability, credibility and rationale for system change and sustainability  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C065-0CFA-43B8-B3F5-48B154599473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 What “Gains” Have been Mad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ve Pathways have been developed for the Anderson 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l Hom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CCLN Scorecard Measure Project Al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gnancy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ldhood Immuniz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ernment Funded Program Enroll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ernment Funded Program Re-Enroll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2ECE-D6DF-49F7-B8D8-5015085E3C7C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w Wha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ments for HUB being sig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ROI developed for HUB me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Care Coordination “check in” line developed to start a Path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being implemented for monthly Pathway process checks and outcome measu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’ll be able to tell you next yea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A2A5-E5AD-4751-8ED1-1714C1C6504F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O is RUAH*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400" y="5562360"/>
            <a:ext cx="7693200" cy="90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*What does it mean?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rua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in yiddish means “Breath of Life”.   The Goal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to breathe new life into a health care system that serves our most vulnerable community memb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914400" y="2514600"/>
            <a:ext cx="7848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 Health Access Workers (HAW) in 8 commun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ospital associates: community focu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 Medication Access Coordinators (MA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ospital and Community Agency Associ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Administrative Support : Health Access Manager; Operations Facilitator; Language Access Staff; System Dire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6248520" y="380880"/>
            <a:ext cx="13730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0CCF-3F78-4248-9D7A-A180A2A1AC89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4120" y="6814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the Work of  RUAH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lient Advocacy and System Navigatio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a Health Access Work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harmacy Assistan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access to low or no cost drugs connecting through Medication Access Coordinators (MAC’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ation o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“Medical Homes”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the underser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pecialty Ca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the underser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rogram enrollme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financial resource review and 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stance: public AND priva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uction of inappropriate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Emergency Room util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duction of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hospital re-admission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chronic dise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stance with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upportive social servic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“wrap around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Outcome Based Measurement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hway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unity Care Coordination: “Hub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Language Acce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Medical interpretation and translation of vital 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ystem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478B-1F59-45D8-824F-F17A5476230C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01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rovide &amp; increase access for uninsured/underinsured community memb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 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 Provi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 P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C15B-917A-44B7-AAF4-3695879FE5EF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 That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2120" y="2361960"/>
            <a:ext cx="807696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Un/underinsured community members can receive care “sooner vs. later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sistent and  familiar care is provided along with follow up &amp; follow through: treatment is  across time and not episod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sources are used as effectively as possible, including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uman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viders, Practitioners, Care Coordinators, Administrative support, et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inancial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imbursement, Funding, Cost-Avoidance, “Write-Off’s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chnological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nnecting Information in a timely, meaningful wa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upport (wrap-a-round) Servic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nnecting medical treatment, public health practices, &amp; psychosocial princip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Vital connections are ma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grate and coordinate care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t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uplicate and replicate c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Best Practice” Learning's are shared; and solutions are not “re-created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69C9-B997-4366-8ACE-56A415A95C98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RUAH got HERE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905120" y="25146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Realization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d access, services provided,  and reimbursement was intuitively a “good thing”, but prove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THING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19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MC900012999[1]"/>
          <p:cNvPicPr/>
          <p:nvPr/>
        </p:nvPicPr>
        <p:blipFill>
          <a:blip r:embed="rId1"/>
          <a:stretch/>
        </p:blipFill>
        <p:spPr>
          <a:xfrm>
            <a:off x="1092240" y="2502000"/>
            <a:ext cx="604800" cy="6858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1981080" y="3809880"/>
            <a:ext cx="6400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Resolv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find out if a positive difference was made in the lives of those we are seeking to serve.  If so, how could that be demonstrated and or verified?  If not, what needed to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MC900012999[1]"/>
          <p:cNvPicPr/>
          <p:nvPr/>
        </p:nvPicPr>
        <p:blipFill>
          <a:blip r:embed="rId2"/>
          <a:stretch/>
        </p:blipFill>
        <p:spPr>
          <a:xfrm>
            <a:off x="1143000" y="3962520"/>
            <a:ext cx="604800" cy="6858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9"/>
          <p:cNvSpPr/>
          <p:nvPr/>
        </p:nvSpPr>
        <p:spPr>
          <a:xfrm>
            <a:off x="2133720" y="5334120"/>
            <a:ext cx="6400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Research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st Practice models in OUTC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MENT, specific to community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ordin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0" descr="MC900012999[1]"/>
          <p:cNvPicPr/>
          <p:nvPr/>
        </p:nvPicPr>
        <p:blipFill>
          <a:blip r:embed="rId3"/>
          <a:stretch/>
        </p:blipFill>
        <p:spPr>
          <a:xfrm>
            <a:off x="1143000" y="5486400"/>
            <a:ext cx="604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A84D-8421-43A0-AE7D-D3D11222CB0C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86400" y="1215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thing leads to another…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Group 13"/>
          <p:cNvGrpSpPr/>
          <p:nvPr/>
        </p:nvGrpSpPr>
        <p:grpSpPr>
          <a:xfrm>
            <a:off x="762120" y="2286000"/>
            <a:ext cx="7924680" cy="4572000"/>
            <a:chOff x="762120" y="2286000"/>
            <a:chExt cx="7924680" cy="4572000"/>
          </a:xfrm>
        </p:grpSpPr>
        <p:pic>
          <p:nvPicPr>
            <p:cNvPr id="131" name="Picture 5" descr="mast_print"/>
            <p:cNvPicPr/>
            <p:nvPr/>
          </p:nvPicPr>
          <p:blipFill>
            <a:blip r:embed="rId1"/>
            <a:stretch/>
          </p:blipFill>
          <p:spPr>
            <a:xfrm>
              <a:off x="838080" y="3657600"/>
              <a:ext cx="4572000" cy="57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6" descr="LNMaster2"/>
            <p:cNvPicPr/>
            <p:nvPr/>
          </p:nvPicPr>
          <p:blipFill>
            <a:blip r:embed="rId2"/>
            <a:stretch/>
          </p:blipFill>
          <p:spPr>
            <a:xfrm>
              <a:off x="762120" y="5268960"/>
              <a:ext cx="4267080" cy="15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7" descr="Best Logo"/>
            <p:cNvPicPr/>
            <p:nvPr/>
          </p:nvPicPr>
          <p:blipFill>
            <a:blip r:embed="rId3"/>
            <a:stretch/>
          </p:blipFill>
          <p:spPr>
            <a:xfrm>
              <a:off x="762120" y="2286000"/>
              <a:ext cx="1143000" cy="11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11"/>
            <p:cNvSpPr/>
            <p:nvPr/>
          </p:nvSpPr>
          <p:spPr>
            <a:xfrm>
              <a:off x="762120" y="4800600"/>
              <a:ext cx="4267080" cy="5331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mmunity Care Coordination Learning Networ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13"/>
            <p:cNvSpPr/>
            <p:nvPr/>
          </p:nvSpPr>
          <p:spPr>
            <a:xfrm>
              <a:off x="2374920" y="2412720"/>
              <a:ext cx="3047760" cy="990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Learned about Pathways;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Began building a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munity HU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AutoShape 14"/>
            <p:cNvSpPr/>
            <p:nvPr/>
          </p:nvSpPr>
          <p:spPr>
            <a:xfrm rot="486000">
              <a:off x="5791320" y="2400120"/>
              <a:ext cx="1447560" cy="12189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5"/>
            <p:cNvSpPr/>
            <p:nvPr/>
          </p:nvSpPr>
          <p:spPr>
            <a:xfrm>
              <a:off x="5562720" y="3429000"/>
              <a:ext cx="3124080" cy="8506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Invited to be part of th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novations Exchange: AHRQ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16"/>
            <p:cNvSpPr/>
            <p:nvPr/>
          </p:nvSpPr>
          <p:spPr>
            <a:xfrm>
              <a:off x="5562720" y="5372280"/>
              <a:ext cx="3047760" cy="1295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Joined the CCCLN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Hub Manual Develop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Outcome Measur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corecard Projec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AutoShape 18"/>
            <p:cNvSpPr/>
            <p:nvPr/>
          </p:nvSpPr>
          <p:spPr>
            <a:xfrm rot="486000">
              <a:off x="5867640" y="4343400"/>
              <a:ext cx="1447560" cy="12189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D59D-8739-4FB1-A21F-252B9FEC2A6B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am &amp; Community Benefi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 Practices are shar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’s no “charge” for advice/consul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s individual, community programs out of an isolated vacuum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s cred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s momentu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s chances of sustain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nstrates that in the healthcare delivery system change can and does hap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FC03-642A-47CF-816E-04E6B674BCE6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between differences &amp; similarities for each community invol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design a structure that also respects the inherent need for flexi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explain, define, communicate the struc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come Measu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reed up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inition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rations/Practic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mete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orting Structur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4:25:08Z</dcterms:created>
  <dc:creator>Associate</dc:creator>
  <dc:description/>
  <dc:language>en-US</dc:language>
  <cp:lastModifiedBy>Graham</cp:lastModifiedBy>
  <dcterms:modified xsi:type="dcterms:W3CDTF">2010-10-22T17:24:07Z</dcterms:modified>
  <cp:revision>64</cp:revision>
  <dc:subject/>
  <dc:title>Saint John’s Access Initiatives</dc:title>
</cp:coreProperties>
</file>