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0800" y="69516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4"/>
          </p:nvPr>
        </p:nvSpPr>
        <p:spPr>
          <a:xfrm>
            <a:off x="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022DF7-4E22-45AE-BAFE-5E87BADD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0DB354-D72D-429F-AAA4-F9AD05ED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1EF11E-73D2-42B2-AC23-50C89DD4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134A7C-D885-4B7D-B15A-D679D095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2306715-62E5-44EE-A19B-B84B5C6F6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55CF-BA2E-4B5D-A5D7-98C6EC55C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CDC7-DB12-4922-BD47-E5EB75B70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FCA4-F866-44E6-BF09-4066A2D0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A060-5B77-4E60-8A43-7623EC819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C834-6E1A-4BE2-B282-9795D4F31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B041-F714-430E-8CC3-ADC1042C33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1382-09A2-4F8C-822A-6A422EE45A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4AE0-BF16-4293-B3AA-90B33BC3AF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40A4-775C-440A-8399-F526DFAC2D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DCE5-52AD-48C0-8D00-780622624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ADE4-B644-411E-8CA9-C72D4616E1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171A-2132-45AA-A865-2B7DC8EF9C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1862-620F-411B-A722-39FA248F03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C81F-ACB4-4607-8019-4394208FD4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77AD-A058-4E9F-8243-AFA5279A4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28FF-1BF2-499E-946A-17BF329C64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0A4C-B5E5-463C-8B77-CC0E7B0B10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1692-D04C-458A-BD8C-3E1DA298C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DDC8-F4B3-4A63-9B9A-DB1C11B24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368E-6FB7-4425-B1BD-19D1F8CC4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9E8E-F956-428E-9AD1-645C97D60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89FE-2493-4A2F-B93A-E675B7188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790E-9934-4F0B-BE6E-29221D07D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3A03-A433-4C35-ACC5-BF2111E20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78C-C396-4595-A095-BAD5DF99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85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dc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5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9" descr="hret logo without tagline 2004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Keystone Logo 05 2color.jpg"/>
          <p:cNvPicPr/>
          <p:nvPr/>
        </p:nvPicPr>
        <p:blipFill>
          <a:blip r:embed="rId3"/>
          <a:stretch/>
        </p:blipFill>
        <p:spPr>
          <a:xfrm>
            <a:off x="380880" y="5845320"/>
            <a:ext cx="762120" cy="849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420-3DA9-4B36-A4A6-28598B1F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3F2-F18C-4797-8CA9-C743B4F7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7524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HRETv4"/>
          <p:cNvPicPr/>
          <p:nvPr/>
        </p:nvPicPr>
        <p:blipFill>
          <a:blip r:embed="rId1"/>
          <a:stretch/>
        </p:blipFill>
        <p:spPr>
          <a:xfrm>
            <a:off x="6324480" y="5562720"/>
            <a:ext cx="281952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762120" y="685800"/>
            <a:ext cx="8381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Reducing Healthcare Associated Infections (HAI): Barriers and Challenges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HA Keystone Center for Patient Safety and Quality (MHA Keyst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George, R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HA Keystone Center for Patient Safety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HRQ HAI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tember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Keystone Logo 05 2color.jpg"/>
          <p:cNvPicPr/>
          <p:nvPr/>
        </p:nvPicPr>
        <p:blipFill>
          <a:blip r:embed="rId2"/>
          <a:stretch/>
        </p:blipFill>
        <p:spPr>
          <a:xfrm>
            <a:off x="304920" y="4952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166-6242-4BEE-81E1-DCF88B9BC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rriers and Challeng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from front-lin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té about resour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listic data collection 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aff support for multidisciplinary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needed for practice change to take h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4DA4-BD5F-4DD9-8DF4-173744199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taff with strong evidenc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expectations and require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trong administrativ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hat works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ple venues to raise awareness and reinforce prac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staff on rounds and provide regular real-tim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47C-8D6A-4850-8AC3-F12ED1C7B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 (Cont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erformance data at least quarterly and post in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Nurse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P critical to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mall, then exp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rsenal of QI tools; change management, systems, small cycle change, in addition to CUSP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 and RN champions ess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FA5-95A4-4C18-ACC3-275E24B9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need for implementatio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s for implementing latest evidence-bas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ime for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is mindset in medical and nursing students—start education earl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e Project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HA Keys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orah Bohr, 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 Watson, Co-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Van Dy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Christine George, 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Combes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Morga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berly Sepulvado, 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ractic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clinicians and hospital staff learn about evidence-based practice to prevent and mitigate HAI’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Work and the Comprehensive Unit-based Safety Progra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teams get started with the adaptive work and what barriers were encount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Success Facto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critical success factors in getting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Research Nee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AHRQ research are recomm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07A-FC07-44C2-9AA1-B5BD2A532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Method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 Information Collection and Reporting Summary: completed by the infection prevention lead at each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and Infection Prevention Catalogue: completed by the patient safety/quality improvement officers of each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and Infection Prevention Assessment: clinicians and othe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structured interviews with ICU coordinators at each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DEB-0120-439A-AE84-4D679B47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 Find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1752480"/>
          <a:ext cx="6829560" cy="4135680"/>
        </p:xfrm>
        <a:graphic>
          <a:graphicData uri="http://schemas.openxmlformats.org/drawingml/2006/table">
            <a:tbl>
              <a:tblPr/>
              <a:tblGrid>
                <a:gridCol w="3124080"/>
                <a:gridCol w="1067040"/>
                <a:gridCol w="914400"/>
                <a:gridCol w="761760"/>
                <a:gridCol w="9622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Hospital Score (highest=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B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Work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% Yes Answers to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eness of Patient Safety Training and Guide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-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 with Patient Safety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46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F5D-011C-484F-8D12-15E4451E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399-7AAB-4281-9B39-1DF1B9F5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: The Michiga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is Possi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and JHU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hensive Unit-Based Safety Program (CUS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-funded JHU-MHA Keyston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P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staff on the Scienc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fects in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executive leadership to patient safety at the uni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253-1653-4B05-BA9A-BE321D510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1440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ng MHA Keystone Hospital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685800"/>
          <a:ext cx="8839440" cy="5708520"/>
        </p:xfrm>
        <a:graphic>
          <a:graphicData uri="http://schemas.openxmlformats.org/drawingml/2006/table">
            <a:tbl>
              <a:tblPr/>
              <a:tblGrid>
                <a:gridCol w="1363680"/>
                <a:gridCol w="1447920"/>
                <a:gridCol w="1022400"/>
                <a:gridCol w="1957320"/>
                <a:gridCol w="1619280"/>
                <a:gridCol w="1428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 Prevention Effo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lin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IC F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/rural, non-tertiary, community, non-prof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ly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community, non-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community, non-prof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teaching, community, non-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ly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7" descr="Keystone Logo 05 2color.jpg"/>
          <p:cNvPicPr/>
          <p:nvPr/>
        </p:nvPicPr>
        <p:blipFill>
          <a:blip r:embed="rId1"/>
          <a:stretch/>
        </p:blipFill>
        <p:spPr>
          <a:xfrm>
            <a:off x="380880" y="617220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799-A8E8-48A5-AACB-FBE01347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Each Hospital Has in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in the Keystone ICU Collaborative sinc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ractice specific to the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Unit-Based Safet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3:31:07Z</dcterms:created>
  <dc:creator>tpickens</dc:creator>
  <dc:description/>
  <dc:language>en-US</dc:language>
  <cp:lastModifiedBy>Kim Gretka</cp:lastModifiedBy>
  <cp:lastPrinted>2000-06-08T18:27:13Z</cp:lastPrinted>
  <dcterms:modified xsi:type="dcterms:W3CDTF">2010-10-19T23:10:24Z</dcterms:modified>
  <cp:revision>502</cp:revision>
  <dc:subject/>
  <dc:title>PowerPoint Presentation</dc:title>
</cp:coreProperties>
</file>