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7008813" cy="9288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009200" cy="928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80800" y="695160"/>
            <a:ext cx="4646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4"/>
          </p:nvPr>
        </p:nvSpPr>
        <p:spPr>
          <a:xfrm>
            <a:off x="0" y="8824680"/>
            <a:ext cx="303696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5"/>
          </p:nvPr>
        </p:nvSpPr>
        <p:spPr>
          <a:xfrm>
            <a:off x="3970440" y="8824680"/>
            <a:ext cx="303696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E949BEA-B45C-4A02-98C1-91A730F8B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397359A-E11E-4244-9109-46363A413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4E46D35-CD35-4BE1-8898-CC7D30F7A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7B070F7-7D3B-42EC-BD87-09705D70D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C026E847-487B-4892-B7CC-E90A015F77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40440" cy="41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09F17-D98A-454A-922C-011D205BCB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B33B3-FF58-4FE8-83F3-3CB9DFB090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8A882-3FD9-4996-9E4D-702273851A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F3422-DD47-4561-9494-6DCC006564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FF0CF-5924-4F20-BCFC-987D851976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950B7-3DBA-4B2F-9E92-5D6CFF2E3AC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A7796-D198-4509-8707-08A18D99124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0B47D-28C4-4DFB-A050-35A5CDBED1B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57D76-0DB7-4D41-AC74-C4FBDEAC6C5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333ED-8015-46F9-978A-C3981D8FE6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3D1EF-38E9-4755-A1F7-B925D342E30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62776-F35C-4DE9-A792-B1CAC717A64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1921E-E12D-43EE-AB91-9FA6F75B67F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C3341-AED9-4543-AEE7-B7AE4E3592F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90C63-FD7A-43D2-8951-DACD5C3B4E9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1AD78-02E8-43F6-8C27-8E18C427FEF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4D5D5-2C6D-46C3-A8FE-E503B69DF6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C2D7F-2389-4C3A-BE7B-C34B4A866E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32BD6-3892-407B-96D2-8DCD75D002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7FB5A-6639-4658-B86E-2B14B07B48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5F02B-DE5A-4F0C-9AAD-B1765FB4D0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DBF54-170D-4AB5-86E1-0EC714D726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542C3-79F6-48E2-9772-9B62F1A8C3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5E14B-37B8-4887-87A9-96257DB61B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3"/>
          <p:cNvSpPr/>
          <p:nvPr/>
        </p:nvSpPr>
        <p:spPr>
          <a:xfrm>
            <a:off x="685800" y="0"/>
            <a:ext cx="7848720" cy="609480"/>
          </a:xfrm>
          <a:prstGeom prst="rect">
            <a:avLst/>
          </a:prstGeom>
          <a:gradFill rotWithShape="0">
            <a:gsLst>
              <a:gs pos="0">
                <a:srgbClr val="c9d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4"/>
          <p:cNvSpPr/>
          <p:nvPr/>
        </p:nvSpPr>
        <p:spPr>
          <a:xfrm>
            <a:off x="0" y="0"/>
            <a:ext cx="685800" cy="6019920"/>
          </a:xfrm>
          <a:prstGeom prst="rect">
            <a:avLst/>
          </a:prstGeom>
          <a:gradFill rotWithShape="0">
            <a:gsLst>
              <a:gs pos="0">
                <a:srgbClr val="c9d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25" descr="hret logo without tagline 2004"/>
          <p:cNvPicPr/>
          <p:nvPr/>
        </p:nvPicPr>
        <p:blipFill>
          <a:blip r:embed="rId2"/>
          <a:stretch/>
        </p:blipFill>
        <p:spPr>
          <a:xfrm>
            <a:off x="8305920" y="6369120"/>
            <a:ext cx="761760" cy="41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EF73-0946-469C-9C73-52BEFE54D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385e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24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solidFill>
            <a:srgbClr val="bdca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5"/>
          <p:cNvSpPr/>
          <p:nvPr/>
        </p:nvSpPr>
        <p:spPr>
          <a:xfrm>
            <a:off x="0" y="3240"/>
            <a:ext cx="990720" cy="9111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9" descr="hret logo without tagline 2004"/>
          <p:cNvPicPr/>
          <p:nvPr/>
        </p:nvPicPr>
        <p:blipFill>
          <a:blip r:embed="rId2"/>
          <a:stretch/>
        </p:blipFill>
        <p:spPr>
          <a:xfrm>
            <a:off x="6858000" y="5334120"/>
            <a:ext cx="1905120" cy="103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3"/>
          <p:cNvSpPr/>
          <p:nvPr/>
        </p:nvSpPr>
        <p:spPr>
          <a:xfrm>
            <a:off x="685800" y="0"/>
            <a:ext cx="7848720" cy="609480"/>
          </a:xfrm>
          <a:prstGeom prst="rect">
            <a:avLst/>
          </a:prstGeom>
          <a:gradFill rotWithShape="0">
            <a:gsLst>
              <a:gs pos="0">
                <a:srgbClr val="c9d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4"/>
          <p:cNvSpPr/>
          <p:nvPr/>
        </p:nvSpPr>
        <p:spPr>
          <a:xfrm>
            <a:off x="0" y="0"/>
            <a:ext cx="685800" cy="6019920"/>
          </a:xfrm>
          <a:prstGeom prst="rect">
            <a:avLst/>
          </a:prstGeom>
          <a:gradFill rotWithShape="0">
            <a:gsLst>
              <a:gs pos="0">
                <a:srgbClr val="c9d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5" descr="hret logo without tagline 2004"/>
          <p:cNvPicPr/>
          <p:nvPr/>
        </p:nvPicPr>
        <p:blipFill>
          <a:blip r:embed="rId2"/>
          <a:stretch/>
        </p:blipFill>
        <p:spPr>
          <a:xfrm>
            <a:off x="8305920" y="6369120"/>
            <a:ext cx="761760" cy="412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Keystone Logo 05 2color.jpg"/>
          <p:cNvPicPr/>
          <p:nvPr/>
        </p:nvPicPr>
        <p:blipFill>
          <a:blip r:embed="rId3"/>
          <a:stretch/>
        </p:blipFill>
        <p:spPr>
          <a:xfrm>
            <a:off x="380880" y="5845320"/>
            <a:ext cx="762120" cy="8492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63F1-B608-4801-948F-A3501E924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0" y="662940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39B4-1B21-43DC-AD26-088DC83EC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1752480" y="6019920"/>
            <a:ext cx="1371600" cy="83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2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5" descr="HRETv4"/>
          <p:cNvPicPr/>
          <p:nvPr/>
        </p:nvPicPr>
        <p:blipFill>
          <a:blip r:embed="rId1"/>
          <a:stretch/>
        </p:blipFill>
        <p:spPr>
          <a:xfrm>
            <a:off x="6324480" y="5562720"/>
            <a:ext cx="2819520" cy="12952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762120" y="685800"/>
            <a:ext cx="838188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Reducing Healthcare Associated Infections (HAI): Barriers and Challenges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HA Keystone Center for Patient Safety and Quality (MHA Keyst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is George, RN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HA Keystone Center for Patient Safety and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HRQ HAI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ptember 27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Keystone Logo 05 2color.jpg"/>
          <p:cNvPicPr/>
          <p:nvPr/>
        </p:nvPicPr>
        <p:blipFill>
          <a:blip r:embed="rId2"/>
          <a:stretch/>
        </p:blipFill>
        <p:spPr>
          <a:xfrm>
            <a:off x="304920" y="4952880"/>
            <a:ext cx="1523880" cy="17528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0" y="662940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7842-8CEC-4BD2-B448-94262EF89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rriers and Challenge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 from front-line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ïveté about resourc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realistic data collection pl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staff support for multidisciplinary 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needed for practice change to take ho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0" y="662940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740A-66BC-4C37-AC46-C4402290A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ey Lesson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staff with strong evidence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e expectations and require accoun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strong administrativ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what works lo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ultiple venues to raise awareness and reinforce pract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staff on rounds and provide regular real-time feedba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0" y="662940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51EA-A0B9-40CA-B1DD-0002CCB0C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ey Lessons (Cont…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performance data at least quarterly and post in un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 Nurse Protoco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P critical to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small, then exp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rsenal of QI tools; change management, systems, small cycle change, in addition to CUSP too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D and RN champions essent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0" y="662940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11C9-C8CF-405D-821D-D6E7E3EE9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xt Step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need for implementation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practices for implementing latest evidence-base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dicated time for clin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his mindset in medical and nursing students—start education earl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e Project Te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R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HA Keyst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orah Bohr, P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 Watson, Co-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vin Van Dyk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Christine George, 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Combes, M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Morgan Mart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mberly Sepulvado, R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y Objec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-based Practice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clinicians and hospital staff learn about evidence-based practice to prevent and mitigate HAI’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ive Work and the Comprehensive Unit-based Safety Progra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teams get started with the adaptive work and what barriers were encounte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Success Factor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ere the critical success factors in getting star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 Research Need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ypes of AHRQ research are recommend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0" y="662940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C682-5992-4FA2-B593-3E2FA335B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y Method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I Information Collection and Reporting Summary: completed by the infection prevention lead at each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Safety and Infection Prevention Catalogue: completed by the patient safety/quality improvement officers of each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Safety and Infection Prevention Assessment: clinicians and other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i-structured interviews with ICU coordinators at each fac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0" y="662940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A6F5-FF7D-4B22-A62F-67FDFA76F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sessment Findin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371600" y="1752480"/>
          <a:ext cx="6829560" cy="4135680"/>
        </p:xfrm>
        <a:graphic>
          <a:graphicData uri="http://schemas.openxmlformats.org/drawingml/2006/table">
            <a:tbl>
              <a:tblPr/>
              <a:tblGrid>
                <a:gridCol w="3124080"/>
                <a:gridCol w="1067040"/>
                <a:gridCol w="914400"/>
                <a:gridCol w="761760"/>
                <a:gridCol w="96228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m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 Hospital Score (highest=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B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Work Enviro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itu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ct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% Yes Answers to Ques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areness of Patient Safety Training and Guidel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-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-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-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iance with Patient Safety Pract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46" name="Slide Number Placeholder 3"/>
          <p:cNvSpPr/>
          <p:nvPr/>
        </p:nvSpPr>
        <p:spPr>
          <a:xfrm>
            <a:off x="0" y="662940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F350-85FE-4E4E-A582-3C84B2A5B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0" y="662940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E4A4-E8B7-4473-9731-0D267C1A6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xt: The Michigan Experie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ect is Possibl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RQ and JHU collabo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rehensive Unit-Based Safety Program (CUSP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RQ-funded JHU-MHA Keystone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P el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e staff on the Science of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defects in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 executive leadership to patient safety at the unit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1"/>
          <p:cNvSpPr/>
          <p:nvPr/>
        </p:nvSpPr>
        <p:spPr>
          <a:xfrm>
            <a:off x="0" y="662940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05A2-D68E-4A37-B4B3-3D9DD572F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914400" y="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cipating MHA Keystone Hospital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52280" y="685800"/>
          <a:ext cx="8839440" cy="5708520"/>
        </p:xfrm>
        <a:graphic>
          <a:graphicData uri="http://schemas.openxmlformats.org/drawingml/2006/table">
            <a:tbl>
              <a:tblPr/>
              <a:tblGrid>
                <a:gridCol w="1363680"/>
                <a:gridCol w="1447920"/>
                <a:gridCol w="1022400"/>
                <a:gridCol w="1957320"/>
                <a:gridCol w="1619280"/>
                <a:gridCol w="14288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 Be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I Prevention Effor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line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 IC F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4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all/rural, non-tertiary, community, non-profi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arly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tiary, community, non-prof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U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tiary, community, non-profi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te 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2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tiary, teaching, community, non-prof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psi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arly 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5" name="Picture 7" descr="Keystone Logo 05 2color.jpg"/>
          <p:cNvPicPr/>
          <p:nvPr/>
        </p:nvPicPr>
        <p:blipFill>
          <a:blip r:embed="rId1"/>
          <a:stretch/>
        </p:blipFill>
        <p:spPr>
          <a:xfrm>
            <a:off x="380880" y="617220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0" y="662940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DB45-6551-471B-9DCA-ABD7B8224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Each Hospital Has in Comm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ence in the Keystone ICU Collaborative since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-based practice specific to the H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hensive Unit-Based Safet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1T13:31:07Z</dcterms:created>
  <dc:creator>tpickens</dc:creator>
  <dc:description/>
  <dc:language>en-US</dc:language>
  <cp:lastModifiedBy>Kim Gretka</cp:lastModifiedBy>
  <cp:lastPrinted>2000-06-08T18:27:13Z</cp:lastPrinted>
  <dcterms:modified xsi:type="dcterms:W3CDTF">2010-10-19T23:10:24Z</dcterms:modified>
  <cp:revision>502</cp:revision>
  <dc:subject/>
  <dc:title>PowerPoint Presentation</dc:title>
</cp:coreProperties>
</file>