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0000"/>
          </a:bodyPr>
          <a:p>
            <a:pPr marL="371880" indent="-37188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80840" indent="-31716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52000" indent="-27936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425960" indent="-182880">
              <a:lnSpc>
                <a:spcPct val="90000"/>
              </a:lnSpc>
              <a:spcBef>
                <a:spcPts val="1049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700640" indent="-18288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700640" indent="-18288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700640" indent="-18288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1333440"/>
            <a:ext cx="7986240" cy="19080"/>
            <a:chOff x="0" y="1333440"/>
            <a:chExt cx="7986240" cy="19080"/>
          </a:xfrm>
        </p:grpSpPr>
        <p:sp>
          <p:nvSpPr>
            <p:cNvPr id="3" name=""/>
            <p:cNvSpPr/>
            <p:nvPr/>
          </p:nvSpPr>
          <p:spPr>
            <a:xfrm>
              <a:off x="5400" y="1352520"/>
              <a:ext cx="798084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1333440"/>
              <a:ext cx="798084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5" name=""/>
          <p:cNvGraphicFramePr/>
          <p:nvPr/>
        </p:nvGraphicFramePr>
        <p:xfrm>
          <a:off x="142920" y="317520"/>
          <a:ext cx="1428840" cy="671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2920" y="317520"/>
                    <a:ext cx="142884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120" y="2819520"/>
            <a:ext cx="77900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0" y="3867120"/>
            <a:ext cx="7986240" cy="19080"/>
            <a:chOff x="0" y="3867120"/>
            <a:chExt cx="7986240" cy="19080"/>
          </a:xfrm>
        </p:grpSpPr>
        <p:sp>
          <p:nvSpPr>
            <p:cNvPr id="45" name=""/>
            <p:cNvSpPr/>
            <p:nvPr/>
          </p:nvSpPr>
          <p:spPr>
            <a:xfrm>
              <a:off x="5400" y="3886200"/>
              <a:ext cx="798084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3867120"/>
              <a:ext cx="798084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47" name=""/>
          <p:cNvGraphicFramePr/>
          <p:nvPr/>
        </p:nvGraphicFramePr>
        <p:xfrm>
          <a:off x="990720" y="380880"/>
          <a:ext cx="7162560" cy="1695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380880"/>
                    <a:ext cx="7162560" cy="16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76040" algn="ctr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82520" algn="ctr">
              <a:lnSpc>
                <a:spcPct val="90000"/>
              </a:lnSpc>
              <a:spcBef>
                <a:spcPts val="751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8400" algn="ctr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-360" y="281952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Are Medicare Advantage Patients Less Likely to have a Readmission? 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150560" y="3962520"/>
            <a:ext cx="6435720" cy="213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5257800"/>
            <a:ext cx="8915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905120" y="419112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ernard Friedman, Ph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Joanna Jiang, Ph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John Bott MSSW, MB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laudia Steiner MD, MP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HRQ Conference, 20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Background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6000"/>
          </a:bodyPr>
          <a:p>
            <a:pPr marL="306720" indent="-30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Hypothesi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 the Advantage plans have both the motive (capitated revenue) and the means to reduce readmissions in comparison to FF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6720" indent="-30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2006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6720" indent="-30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4 HCUP states distinguish FFS and MA payer on discharge summ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67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6720" indent="-30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 states in HCUP also had reliable person identifiers.  AZ, CA, FL, Mass, TN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6720" indent="-30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Y could now also be u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67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Data Prepar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4000"/>
          </a:bodyPr>
          <a:p>
            <a:pPr marL="297360" indent="-29736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in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4600" indent="-25380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derly Medicare beneficiary patient from urban CBS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4600" indent="-25380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itial admission Jan-Sept of 200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4600" indent="-25380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tch to Linkage file  (work-saving tool, uses no actual dates, releasable =&gt; replicable study, protecting identit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4600" indent="-25380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 primary and secondary pay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4600" indent="-25380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charged alive from initial admiss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7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7360" indent="-29736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reening out re-hospitaliz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4600" indent="-25380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me day transfer (using Linkage Fil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4600" indent="-25380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-hospitalization says transferred in from another hospit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4600" indent="-25380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gnancy or maternity-rela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4600" indent="-25380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uma-related principal condition (CCS 225-236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Data Prepar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120" y="1752480"/>
            <a:ext cx="799308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pendent Variables:  at least one readmission within 30 days, 90 d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ach person enters only once, from initial admiss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 addressing the “burden of readmissions”, i.e., multiple readmissions within any fixed period, overlapping episodes for a person during the yea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D revisits not includ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Initial comparis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799308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66K MA initial discharges, 868K initial FFS discharg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0 day readmission rate:  13.7% vs. 14.4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90 day readmission rate:  23.8% vs. 26.2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ever, Medicare Advantage patients tend to b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young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ess severely ill even when hospitaliz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ess likely to be Medicaid enrrolled as we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ess likely to have a major operative procedur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 more detailed comparison over 13 states, see Stat Brief #66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ther work:  AHIP study of CA and NV found a lower rate of preventable admissions for Advantage enrolle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52480" y="228600"/>
            <a:ext cx="639288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roblem:  Self-Selec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993080" cy="44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trumental Variable approach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can we measure that could affect enrollment in an Advantage plan rather than FF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strument should not itself affect the likelihood of readmiss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 = f (M, X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= g(Z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 affects M but not R  (standard tests for the performance of Z se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Z:  CBSA characteristics. HMO penetration among younger insured, number of competing hospitals, available medical specialist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Results of Tes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limin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rolling for self-selection, Medicare Advantage patients had a 9% higher likelihood of readmission in 30 day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sts of the Instruments are pass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veats:  high users, ED visi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oking for a Reconcili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nrollees do not have data to compare readmission rates when choosing a pla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ealth Plans do not have adequate measures of risk-adjusted readmission rates for quality improvement effor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aving money on readmissions is not the only way to sav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0T09:05:00Z</dcterms:created>
  <dc:creator>Sandy K. Cummings</dc:creator>
  <dc:description>6/24/04</dc:description>
  <dc:language>en-US</dc:language>
  <cp:lastModifiedBy>Kim Gretka</cp:lastModifiedBy>
  <cp:lastPrinted>2003-01-21T20:19:23Z</cp:lastPrinted>
  <dcterms:modified xsi:type="dcterms:W3CDTF">2010-10-19T00:44:01Z</dcterms:modified>
  <cp:revision>114</cp:revision>
  <dc:subject/>
  <dc:title>AHRQ Slide Template 2004</dc:title>
</cp:coreProperties>
</file>