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4.pct" ContentType="image/x-pict"/>
  <Override PartName="/ppt/media/image7.png" ContentType="image/png"/>
  <Override PartName="/ppt/media/image32.png" ContentType="image/png"/>
  <Override PartName="/ppt/media/image1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0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eri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" name="Picture 8" descr="Interio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Slide Number Placeholder 7"/>
          <p:cNvSpPr/>
          <p:nvPr/>
        </p:nvSpPr>
        <p:spPr>
          <a:xfrm>
            <a:off x="6172200" y="64213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4EB-9AC1-4594-B278-D3EA2AF66B4F}" type="slidenum"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7"/>
          <p:cNvSpPr/>
          <p:nvPr/>
        </p:nvSpPr>
        <p:spPr>
          <a:xfrm>
            <a:off x="152280" y="6421320"/>
            <a:ext cx="251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010 AHRQ Con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Cover Opt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TRC</a:t>
            </a:r>
            <a:endParaRPr b="1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d Ellington, PhD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HITRC Divis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Provider Adoption Suppor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National Coordinator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tandard Tools and Method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8" name="Picture 320" descr=""/>
          <p:cNvPicPr/>
          <p:nvPr/>
        </p:nvPicPr>
        <p:blipFill>
          <a:blip r:embed="rId1"/>
          <a:stretch/>
        </p:blipFill>
        <p:spPr>
          <a:xfrm>
            <a:off x="606600" y="1058760"/>
            <a:ext cx="3501720" cy="4940280"/>
          </a:xfrm>
          <a:prstGeom prst="rect">
            <a:avLst/>
          </a:prstGeom>
          <a:ln w="0">
            <a:noFill/>
          </a:ln>
        </p:spPr>
      </p:pic>
      <p:pic>
        <p:nvPicPr>
          <p:cNvPr id="229" name="Table 17" descr=""/>
          <p:cNvPicPr/>
          <p:nvPr/>
        </p:nvPicPr>
        <p:blipFill>
          <a:blip r:embed="rId2"/>
          <a:stretch/>
        </p:blipFill>
        <p:spPr>
          <a:xfrm>
            <a:off x="2712960" y="2670120"/>
            <a:ext cx="8936280" cy="5072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3"/>
          <a:srcRect l="0" t="16800" r="1500" b="6000"/>
          <a:stretch/>
        </p:blipFill>
        <p:spPr>
          <a:xfrm>
            <a:off x="4541760" y="1211400"/>
            <a:ext cx="3551400" cy="36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Learn.com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828720" y="965160"/>
            <a:ext cx="7699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5760" y="1904760"/>
            <a:ext cx="4040280" cy="3951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egion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nu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munities of Practice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ivate Portal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ublic Web Si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What is Going On?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5" name="Text Placeholder 7"/>
          <p:cNvSpPr/>
          <p:nvPr/>
        </p:nvSpPr>
        <p:spPr>
          <a:xfrm>
            <a:off x="4753080" y="4467240"/>
            <a:ext cx="405288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8"/>
          <p:cNvSpPr/>
          <p:nvPr/>
        </p:nvSpPr>
        <p:spPr>
          <a:xfrm>
            <a:off x="4761000" y="5094360"/>
            <a:ext cx="4049640" cy="88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once and us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verage investment -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68560" y="1904760"/>
            <a:ext cx="4041720" cy="24606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Leverage existing tool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andard terminolog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Build tool box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Roadmap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aff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9000" y="129024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e and conn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68560" y="128088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and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1"/>
          <p:cNvGrpSpPr/>
          <p:nvPr/>
        </p:nvGrpSpPr>
        <p:grpSpPr>
          <a:xfrm>
            <a:off x="0" y="1003320"/>
            <a:ext cx="8623440" cy="4952880"/>
            <a:chOff x="0" y="1003320"/>
            <a:chExt cx="8623440" cy="4952880"/>
          </a:xfrm>
        </p:grpSpPr>
        <p:sp>
          <p:nvSpPr>
            <p:cNvPr id="241" name="AutoShape 15"/>
            <p:cNvSpPr/>
            <p:nvPr/>
          </p:nvSpPr>
          <p:spPr>
            <a:xfrm>
              <a:off x="302040" y="1083240"/>
              <a:ext cx="8239680" cy="4785120"/>
            </a:xfrm>
            <a:prstGeom prst="rect">
              <a:avLst/>
            </a:prstGeom>
            <a:noFill/>
            <a:ln w="22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Freeform 17"/>
            <p:cNvGrpSpPr/>
            <p:nvPr/>
          </p:nvGrpSpPr>
          <p:grpSpPr>
            <a:xfrm>
              <a:off x="2400840" y="4042080"/>
              <a:ext cx="4045680" cy="1908000"/>
              <a:chOff x="2400840" y="4042080"/>
              <a:chExt cx="4045680" cy="1908000"/>
            </a:xfrm>
          </p:grpSpPr>
          <p:pic>
            <p:nvPicPr>
              <p:cNvPr id="243" name="Freeform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0840" y="4042080"/>
                <a:ext cx="4045680" cy="19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490840" y="4133520"/>
                <a:ext cx="3861720" cy="17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Freeform 18"/>
            <p:cNvGrpSpPr/>
            <p:nvPr/>
          </p:nvGrpSpPr>
          <p:grpSpPr>
            <a:xfrm>
              <a:off x="2400840" y="1003320"/>
              <a:ext cx="4045680" cy="1902240"/>
              <a:chOff x="2400840" y="1003320"/>
              <a:chExt cx="4045680" cy="1902240"/>
            </a:xfrm>
          </p:grpSpPr>
          <p:pic>
            <p:nvPicPr>
              <p:cNvPr id="24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0840" y="1003320"/>
                <a:ext cx="4045680" cy="190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2490840" y="1092240"/>
                <a:ext cx="3861720" cy="17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9"/>
            <p:cNvGrpSpPr/>
            <p:nvPr/>
          </p:nvGrpSpPr>
          <p:grpSpPr>
            <a:xfrm>
              <a:off x="217440" y="2451960"/>
              <a:ext cx="3489120" cy="2043720"/>
              <a:chOff x="217440" y="2451960"/>
              <a:chExt cx="3489120" cy="2043720"/>
            </a:xfrm>
          </p:grpSpPr>
          <p:pic>
            <p:nvPicPr>
              <p:cNvPr id="249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7440" y="2451960"/>
                <a:ext cx="3489120" cy="20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312480" y="2544480"/>
                <a:ext cx="330084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20"/>
            <p:cNvGrpSpPr/>
            <p:nvPr/>
          </p:nvGrpSpPr>
          <p:grpSpPr>
            <a:xfrm>
              <a:off x="5134320" y="2451960"/>
              <a:ext cx="3489120" cy="2043720"/>
              <a:chOff x="5134320" y="2451960"/>
              <a:chExt cx="3489120" cy="2043720"/>
            </a:xfrm>
          </p:grpSpPr>
          <p:pic>
            <p:nvPicPr>
              <p:cNvPr id="252" name="Freeform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5134320" y="2451960"/>
                <a:ext cx="3489120" cy="20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5229720" y="2544480"/>
                <a:ext cx="330084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Freeform 22"/>
            <p:cNvGrpSpPr/>
            <p:nvPr/>
          </p:nvGrpSpPr>
          <p:grpSpPr>
            <a:xfrm>
              <a:off x="5466960" y="1003320"/>
              <a:ext cx="3156480" cy="2090520"/>
              <a:chOff x="5466960" y="1003320"/>
              <a:chExt cx="3156480" cy="2090520"/>
            </a:xfrm>
          </p:grpSpPr>
          <p:pic>
            <p:nvPicPr>
              <p:cNvPr id="255" name="Freeform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5466960" y="1003320"/>
                <a:ext cx="3156480" cy="20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5557320" y="1092240"/>
                <a:ext cx="2973240" cy="19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Freeform 23"/>
            <p:cNvGrpSpPr/>
            <p:nvPr/>
          </p:nvGrpSpPr>
          <p:grpSpPr>
            <a:xfrm>
              <a:off x="217440" y="1003320"/>
              <a:ext cx="3162600" cy="2090520"/>
              <a:chOff x="217440" y="1003320"/>
              <a:chExt cx="3162600" cy="2090520"/>
            </a:xfrm>
          </p:grpSpPr>
          <p:pic>
            <p:nvPicPr>
              <p:cNvPr id="258" name="Freeform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217440" y="1003320"/>
                <a:ext cx="3162600" cy="20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312480" y="1092240"/>
                <a:ext cx="2974680" cy="19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Freeform 24"/>
            <p:cNvGrpSpPr/>
            <p:nvPr/>
          </p:nvGrpSpPr>
          <p:grpSpPr>
            <a:xfrm>
              <a:off x="223560" y="3859560"/>
              <a:ext cx="3156480" cy="2096640"/>
              <a:chOff x="223560" y="3859560"/>
              <a:chExt cx="3156480" cy="2096640"/>
            </a:xfrm>
          </p:grpSpPr>
          <p:pic>
            <p:nvPicPr>
              <p:cNvPr id="261" name="Freeform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560" y="3859560"/>
                <a:ext cx="3156480" cy="20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314640" y="3952440"/>
                <a:ext cx="2974680" cy="19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Freeform 25"/>
            <p:cNvGrpSpPr/>
            <p:nvPr/>
          </p:nvGrpSpPr>
          <p:grpSpPr>
            <a:xfrm>
              <a:off x="5466960" y="3853800"/>
              <a:ext cx="3156480" cy="2096640"/>
              <a:chOff x="5466960" y="3853800"/>
              <a:chExt cx="3156480" cy="2096640"/>
            </a:xfrm>
          </p:grpSpPr>
          <p:pic>
            <p:nvPicPr>
              <p:cNvPr id="264" name="Freeform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466960" y="3853800"/>
                <a:ext cx="3156480" cy="20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557320" y="3943440"/>
                <a:ext cx="2973240" cy="19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31"/>
            <p:cNvSpPr/>
            <p:nvPr/>
          </p:nvSpPr>
          <p:spPr>
            <a:xfrm>
              <a:off x="329040" y="1112400"/>
              <a:ext cx="23432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ustomer Relationship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Tools for operating the RECs including contact management, sales force automation, project                                 management  and  portal to                              knowledge sharing 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3228480" y="1138320"/>
              <a:ext cx="234324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Knowledge Shar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eople, processes, lexicon and technology used to build a knowledge base supporting adoption and meaningful use of EHR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6240960" y="1138320"/>
              <a:ext cx="2278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ommunities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acti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ponsored groups with interest in  specific aspects of HIT convened to develop knowledge that supports EHR ado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76200" y="2995920"/>
              <a:ext cx="24850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raining Servi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urricula, instructors, training services, and conferences available to RECs to increase health IT implementation and use 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6074280" y="2995920"/>
              <a:ext cx="2480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ractice Transformation Sup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ethodologies, tools, and knowledge that will support effective and efficient  workflow management in practices with EH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0" y="4678200"/>
              <a:ext cx="2886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Tools and Support for Adoption and Meaningful U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sable and easy to locate tools 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knowledge that will support hig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doption and meaningful u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of EHR capabiliti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3308760" y="4621680"/>
              <a:ext cx="22550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Collaboration Port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 tool providing a virtual space where RECs and their partners can  convene to address common issues and develop shared 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6225480" y="4621680"/>
              <a:ext cx="231480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Public Websi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Internet-available knowledge to foster awareness of meaning of EHR implementation best practices and encourage wide spread adoption and meaningful us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Freeform 21"/>
            <p:cNvGrpSpPr/>
            <p:nvPr/>
          </p:nvGrpSpPr>
          <p:grpSpPr>
            <a:xfrm>
              <a:off x="2727360" y="2263680"/>
              <a:ext cx="3392640" cy="2420640"/>
              <a:chOff x="2727360" y="2263680"/>
              <a:chExt cx="3392640" cy="2420640"/>
            </a:xfrm>
          </p:grpSpPr>
          <p:pic>
            <p:nvPicPr>
              <p:cNvPr id="275" name="Freeform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27360" y="2263680"/>
                <a:ext cx="3392640" cy="24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2818440" y="2356200"/>
                <a:ext cx="3208320" cy="22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40"/>
            <p:cNvSpPr/>
            <p:nvPr/>
          </p:nvSpPr>
          <p:spPr>
            <a:xfrm>
              <a:off x="3681720" y="3070800"/>
              <a:ext cx="157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Arial"/>
                </a:rPr>
                <a:t>A Learning 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itle 1"/>
          <p:cNvSpPr/>
          <p:nvPr/>
        </p:nvSpPr>
        <p:spPr>
          <a:xfrm>
            <a:off x="0" y="165240"/>
            <a:ext cx="8985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National Learning Consort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It’s Been a Busy Year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304920" y="1143000"/>
            <a:ext cx="8686800" cy="4605120"/>
            <a:chOff x="304920" y="1143000"/>
            <a:chExt cx="8686800" cy="460512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7261560" y="3970440"/>
              <a:ext cx="12808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5"/>
            <p:cNvSpPr/>
            <p:nvPr/>
          </p:nvSpPr>
          <p:spPr>
            <a:xfrm>
              <a:off x="306000" y="1720800"/>
              <a:ext cx="142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ECH 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1676520" y="1171440"/>
              <a:ext cx="190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vid Blumenthal Named National Coord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2362320" y="380844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A Release for RE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3505320" y="136980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C Reorganize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im Meaningful Use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5105520" y="38098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 2 RECs Awar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7170840" y="172080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aningful Use Final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2"/>
            <p:cNvSpPr/>
            <p:nvPr/>
          </p:nvSpPr>
          <p:spPr>
            <a:xfrm>
              <a:off x="4648320" y="510552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ckoff Meet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4"/>
            <p:cNvSpPr/>
            <p:nvPr/>
          </p:nvSpPr>
          <p:spPr>
            <a:xfrm>
              <a:off x="5875560" y="502776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ickoff Meet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6"/>
            <p:cNvSpPr/>
            <p:nvPr/>
          </p:nvSpPr>
          <p:spPr>
            <a:xfrm>
              <a:off x="3962520" y="380844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ycle 1 RECs Awar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7"/>
            <p:cNvSpPr/>
            <p:nvPr/>
          </p:nvSpPr>
          <p:spPr>
            <a:xfrm>
              <a:off x="304920" y="2209680"/>
              <a:ext cx="8458200" cy="1600200"/>
            </a:xfrm>
            <a:prstGeom prst="rightArrow">
              <a:avLst>
                <a:gd name="adj1" fmla="val 50000"/>
                <a:gd name="adj2" fmla="val 132143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0"/>
            <p:cNvSpPr/>
            <p:nvPr/>
          </p:nvSpPr>
          <p:spPr>
            <a:xfrm>
              <a:off x="44388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Feb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1"/>
            <p:cNvSpPr/>
            <p:nvPr/>
          </p:nvSpPr>
          <p:spPr>
            <a:xfrm>
              <a:off x="2172600" y="2857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ug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2"/>
            <p:cNvSpPr/>
            <p:nvPr/>
          </p:nvSpPr>
          <p:spPr>
            <a:xfrm>
              <a:off x="395532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Feb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3"/>
            <p:cNvSpPr/>
            <p:nvPr/>
          </p:nvSpPr>
          <p:spPr>
            <a:xfrm>
              <a:off x="4825440" y="285732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ar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7470720" y="285732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Jul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6"/>
            <p:cNvSpPr/>
            <p:nvPr/>
          </p:nvSpPr>
          <p:spPr>
            <a:xfrm>
              <a:off x="1313640" y="28573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Apr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3"/>
            <p:cNvSpPr/>
            <p:nvPr/>
          </p:nvSpPr>
          <p:spPr>
            <a:xfrm>
              <a:off x="5697000" y="285732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May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3075480" y="285732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Dec ‘0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7"/>
            <p:cNvSpPr/>
            <p:nvPr/>
          </p:nvSpPr>
          <p:spPr>
            <a:xfrm>
              <a:off x="5943600" y="1143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HR Certification R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8"/>
            <p:cNvSpPr/>
            <p:nvPr/>
          </p:nvSpPr>
          <p:spPr>
            <a:xfrm>
              <a:off x="6602040" y="285732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Jun ‘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0"/>
            <p:cNvSpPr/>
            <p:nvPr/>
          </p:nvSpPr>
          <p:spPr>
            <a:xfrm>
              <a:off x="5639040" y="1600200"/>
              <a:ext cx="182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lthcare Re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 flipV="1">
              <a:off x="434340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 flipV="1">
              <a:off x="525780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5"/>
            <p:cNvSpPr/>
            <p:nvPr/>
          </p:nvSpPr>
          <p:spPr>
            <a:xfrm flipV="1">
              <a:off x="5029200" y="33526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6"/>
            <p:cNvSpPr/>
            <p:nvPr/>
          </p:nvSpPr>
          <p:spPr>
            <a:xfrm flipV="1">
              <a:off x="6332760" y="33526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V="1">
              <a:off x="26668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1"/>
            <p:cNvSpPr/>
            <p:nvPr/>
          </p:nvSpPr>
          <p:spPr>
            <a:xfrm flipV="1">
              <a:off x="617256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9"/>
            <p:cNvSpPr/>
            <p:nvPr/>
          </p:nvSpPr>
          <p:spPr>
            <a:xfrm flipV="1">
              <a:off x="693432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V="1">
              <a:off x="99072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8"/>
            <p:cNvSpPr/>
            <p:nvPr/>
          </p:nvSpPr>
          <p:spPr>
            <a:xfrm flipV="1">
              <a:off x="198108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V="1">
              <a:off x="350532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V="1">
              <a:off x="7772760" y="2361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60 RECs and Counting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9" name="Object 9" descr=""/>
          <p:cNvPicPr/>
          <p:nvPr/>
        </p:nvPicPr>
        <p:blipFill>
          <a:blip r:embed="rId1"/>
          <a:stretch/>
        </p:blipFill>
        <p:spPr>
          <a:xfrm>
            <a:off x="1290600" y="1141560"/>
            <a:ext cx="61628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ECs Are a Diverse Group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1120680" y="1623960"/>
            <a:ext cx="6892920" cy="4064040"/>
            <a:chOff x="1120680" y="1623960"/>
            <a:chExt cx="6892920" cy="4064040"/>
          </a:xfrm>
        </p:grpSpPr>
        <p:pic>
          <p:nvPicPr>
            <p:cNvPr id="122" name="Picture 7" descr="chart4.png"/>
            <p:cNvPicPr/>
            <p:nvPr/>
          </p:nvPicPr>
          <p:blipFill>
            <a:blip r:embed="rId1"/>
            <a:stretch/>
          </p:blipFill>
          <p:spPr>
            <a:xfrm>
              <a:off x="1120680" y="1623960"/>
              <a:ext cx="4064040" cy="40640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</p:pic>
        <p:sp>
          <p:nvSpPr>
            <p:cNvPr id="123" name="Rectangle 46"/>
            <p:cNvSpPr/>
            <p:nvPr/>
          </p:nvSpPr>
          <p:spPr>
            <a:xfrm>
              <a:off x="3527280" y="313056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916600" y="2433600"/>
              <a:ext cx="2097000" cy="228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6056280" y="2603520"/>
              <a:ext cx="139680" cy="139680"/>
            </a:xfrm>
            <a:prstGeom prst="rect">
              <a:avLst/>
            </a:prstGeom>
            <a:solidFill>
              <a:srgbClr val="cf8c87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6056280" y="2896920"/>
              <a:ext cx="139680" cy="139680"/>
            </a:xfrm>
            <a:prstGeom prst="rect">
              <a:avLst/>
            </a:prstGeom>
            <a:solidFill>
              <a:srgbClr val="a50021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6056280" y="3190680"/>
              <a:ext cx="139680" cy="139680"/>
            </a:xfrm>
            <a:prstGeom prst="rect">
              <a:avLst/>
            </a:prstGeom>
            <a:solidFill>
              <a:srgbClr val="75c171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6056280" y="3486240"/>
              <a:ext cx="139680" cy="139680"/>
            </a:xfrm>
            <a:prstGeom prst="rect">
              <a:avLst/>
            </a:prstGeom>
            <a:solidFill>
              <a:srgbClr val="e2e5ee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6056280" y="3779640"/>
              <a:ext cx="139680" cy="139680"/>
            </a:xfrm>
            <a:prstGeom prst="rect">
              <a:avLst/>
            </a:prstGeom>
            <a:solidFill>
              <a:srgbClr val="bccae2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0"/>
            <p:cNvSpPr/>
            <p:nvPr/>
          </p:nvSpPr>
          <p:spPr>
            <a:xfrm>
              <a:off x="6056280" y="4073400"/>
              <a:ext cx="139680" cy="139680"/>
            </a:xfrm>
            <a:prstGeom prst="rect">
              <a:avLst/>
            </a:prstGeom>
            <a:solidFill>
              <a:srgbClr val="819cc9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1"/>
            <p:cNvSpPr/>
            <p:nvPr/>
          </p:nvSpPr>
          <p:spPr>
            <a:xfrm>
              <a:off x="6235920" y="2538360"/>
              <a:ext cx="171072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CCN/P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lth IT 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s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d C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6056280" y="4367160"/>
              <a:ext cx="139680" cy="139680"/>
            </a:xfrm>
            <a:prstGeom prst="rect">
              <a:avLst/>
            </a:prstGeom>
            <a:solidFill>
              <a:srgbClr val="1274a0"/>
            </a:solidFill>
            <a:ln w="6480">
              <a:solidFill>
                <a:srgbClr val="5f5f5f"/>
              </a:solidFill>
              <a:miter/>
            </a:ln>
            <a:effectLst>
              <a:outerShdw dist="38183" dir="2700000" blurRad="0" rotWithShape="0">
                <a:srgbClr val="80808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6"/>
            <p:cNvSpPr/>
            <p:nvPr/>
          </p:nvSpPr>
          <p:spPr>
            <a:xfrm>
              <a:off x="4754520" y="4626000"/>
              <a:ext cx="69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6"/>
            <p:cNvSpPr/>
            <p:nvPr/>
          </p:nvSpPr>
          <p:spPr>
            <a:xfrm>
              <a:off x="4527360" y="4959360"/>
              <a:ext cx="69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4162320" y="5335560"/>
              <a:ext cx="68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6"/>
            <p:cNvSpPr/>
            <p:nvPr/>
          </p:nvSpPr>
          <p:spPr>
            <a:xfrm>
              <a:off x="1977840" y="45608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6"/>
            <p:cNvSpPr/>
            <p:nvPr/>
          </p:nvSpPr>
          <p:spPr>
            <a:xfrm>
              <a:off x="1526760" y="28400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6"/>
            <p:cNvSpPr/>
            <p:nvPr/>
          </p:nvSpPr>
          <p:spPr>
            <a:xfrm>
              <a:off x="3162240" y="191448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2"/>
          <p:cNvSpPr/>
          <p:nvPr/>
        </p:nvSpPr>
        <p:spPr>
          <a:xfrm>
            <a:off x="1258920" y="990720"/>
            <a:ext cx="65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RECs (Na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National Stakeholders/Partner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1" name="Group 33"/>
          <p:cNvGrpSpPr/>
          <p:nvPr/>
        </p:nvGrpSpPr>
        <p:grpSpPr>
          <a:xfrm>
            <a:off x="483120" y="1096920"/>
            <a:ext cx="8025840" cy="5110920"/>
            <a:chOff x="483120" y="1096920"/>
            <a:chExt cx="8025840" cy="5110920"/>
          </a:xfrm>
        </p:grpSpPr>
        <p:pic>
          <p:nvPicPr>
            <p:cNvPr id="142" name="Picture 14" descr="chart7.png"/>
            <p:cNvPicPr/>
            <p:nvPr/>
          </p:nvPicPr>
          <p:blipFill>
            <a:blip r:embed="rId1"/>
            <a:stretch/>
          </p:blipFill>
          <p:spPr>
            <a:xfrm>
              <a:off x="1038600" y="1535760"/>
              <a:ext cx="7400160" cy="293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7"/>
            <p:cNvSpPr/>
            <p:nvPr/>
          </p:nvSpPr>
          <p:spPr>
            <a:xfrm>
              <a:off x="518040" y="14130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518040" y="17262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18040" y="203976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"/>
            <p:cNvSpPr/>
            <p:nvPr/>
          </p:nvSpPr>
          <p:spPr>
            <a:xfrm>
              <a:off x="518040" y="23515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518040" y="26647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18040" y="29779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518040" y="32914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518040" y="360324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630000" y="3916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742680" y="422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 rot="18900000">
              <a:off x="372240" y="48286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ospital Syste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 rot="18900000">
              <a:off x="802080" y="4950360"/>
              <a:ext cx="191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Academic Institu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 rot="18900000">
              <a:off x="1670760" y="4927680"/>
              <a:ext cx="184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Prof Socie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 rot="18900000">
              <a:off x="2192760" y="4980240"/>
              <a:ext cx="199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State/Local/Tribal Gov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 rot="18900000">
              <a:off x="3191040" y="4828680"/>
              <a:ext cx="166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Federally Qual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 rot="18900000">
              <a:off x="3658320" y="5041080"/>
              <a:ext cx="21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Critical Access Hospit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 rot="18900000">
              <a:off x="5019480" y="4694760"/>
              <a:ext cx="118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Health Pl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 rot="18900000">
              <a:off x="4840920" y="509328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Community Health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 rot="18900000">
              <a:off x="5531040" y="509652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Independent Provider Or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 rot="18900000">
              <a:off x="7412040" y="4600800"/>
              <a:ext cx="9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f5f5f"/>
                  </a:solidFill>
                  <a:latin typeface="Arial Narrow"/>
                </a:rPr>
                <a:t>State H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16-Point Star 35"/>
            <p:cNvGrpSpPr/>
            <p:nvPr/>
          </p:nvGrpSpPr>
          <p:grpSpPr>
            <a:xfrm>
              <a:off x="1850040" y="2305800"/>
              <a:ext cx="824040" cy="719280"/>
              <a:chOff x="1850040" y="2305800"/>
              <a:chExt cx="824040" cy="719280"/>
            </a:xfrm>
          </p:grpSpPr>
          <p:pic>
            <p:nvPicPr>
              <p:cNvPr id="164" name="16-Point Star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0040" y="23058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2073600" y="248184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16-Point Star 37"/>
            <p:cNvGrpSpPr/>
            <p:nvPr/>
          </p:nvGrpSpPr>
          <p:grpSpPr>
            <a:xfrm>
              <a:off x="2577240" y="2354400"/>
              <a:ext cx="824040" cy="725400"/>
              <a:chOff x="2577240" y="2354400"/>
              <a:chExt cx="824040" cy="725400"/>
            </a:xfrm>
          </p:grpSpPr>
          <p:pic>
            <p:nvPicPr>
              <p:cNvPr id="167" name="16-Point Star 37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7240" y="2354400"/>
                <a:ext cx="82404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2803320" y="25354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16-Point Star 38"/>
            <p:cNvGrpSpPr/>
            <p:nvPr/>
          </p:nvGrpSpPr>
          <p:grpSpPr>
            <a:xfrm>
              <a:off x="3304440" y="2559960"/>
              <a:ext cx="829800" cy="719280"/>
              <a:chOff x="3304440" y="2559960"/>
              <a:chExt cx="829800" cy="719280"/>
            </a:xfrm>
          </p:grpSpPr>
          <p:pic>
            <p:nvPicPr>
              <p:cNvPr id="170" name="16-Point Star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4440" y="255996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533040" y="273816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16-Point Star 39"/>
            <p:cNvGrpSpPr/>
            <p:nvPr/>
          </p:nvGrpSpPr>
          <p:grpSpPr>
            <a:xfrm>
              <a:off x="4037400" y="2807640"/>
              <a:ext cx="824040" cy="719280"/>
              <a:chOff x="4037400" y="2807640"/>
              <a:chExt cx="824040" cy="719280"/>
            </a:xfrm>
          </p:grpSpPr>
          <p:pic>
            <p:nvPicPr>
              <p:cNvPr id="173" name="16-Point Star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4037400" y="280764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262760" y="298332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16-Point Star 40"/>
            <p:cNvGrpSpPr/>
            <p:nvPr/>
          </p:nvGrpSpPr>
          <p:grpSpPr>
            <a:xfrm>
              <a:off x="4764600" y="2795760"/>
              <a:ext cx="829800" cy="719280"/>
              <a:chOff x="4764600" y="2795760"/>
              <a:chExt cx="829800" cy="719280"/>
            </a:xfrm>
          </p:grpSpPr>
          <p:pic>
            <p:nvPicPr>
              <p:cNvPr id="176" name="16-Point Star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764600" y="279576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4992480" y="29728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2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16-Point Star 41"/>
            <p:cNvGrpSpPr/>
            <p:nvPr/>
          </p:nvGrpSpPr>
          <p:grpSpPr>
            <a:xfrm>
              <a:off x="5497560" y="2977200"/>
              <a:ext cx="824040" cy="719280"/>
              <a:chOff x="5497560" y="2977200"/>
              <a:chExt cx="824040" cy="719280"/>
            </a:xfrm>
          </p:grpSpPr>
          <p:pic>
            <p:nvPicPr>
              <p:cNvPr id="179" name="16-Point Star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5497560" y="29772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5722200" y="315432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16-Point Star 42"/>
            <p:cNvGrpSpPr/>
            <p:nvPr/>
          </p:nvGrpSpPr>
          <p:grpSpPr>
            <a:xfrm>
              <a:off x="6224760" y="3231000"/>
              <a:ext cx="829800" cy="719280"/>
              <a:chOff x="6224760" y="3231000"/>
              <a:chExt cx="829800" cy="719280"/>
            </a:xfrm>
          </p:grpSpPr>
          <p:pic>
            <p:nvPicPr>
              <p:cNvPr id="182" name="16-Point Star 42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4760" y="3231000"/>
                <a:ext cx="82980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6451920" y="34102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16-Point Star 43"/>
            <p:cNvGrpSpPr/>
            <p:nvPr/>
          </p:nvGrpSpPr>
          <p:grpSpPr>
            <a:xfrm>
              <a:off x="6958080" y="3231000"/>
              <a:ext cx="824040" cy="719280"/>
              <a:chOff x="6958080" y="3231000"/>
              <a:chExt cx="824040" cy="719280"/>
            </a:xfrm>
          </p:grpSpPr>
          <p:pic>
            <p:nvPicPr>
              <p:cNvPr id="185" name="16-Point Star 43" descr=""/>
              <p:cNvPicPr/>
              <p:nvPr/>
            </p:nvPicPr>
            <p:blipFill>
              <a:blip r:embed="rId9"/>
              <a:stretch/>
            </p:blipFill>
            <p:spPr>
              <a:xfrm>
                <a:off x="6958080" y="32310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182000" y="341028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16-Point Star 44"/>
            <p:cNvGrpSpPr/>
            <p:nvPr/>
          </p:nvGrpSpPr>
          <p:grpSpPr>
            <a:xfrm>
              <a:off x="7684920" y="3297600"/>
              <a:ext cx="824040" cy="719280"/>
              <a:chOff x="7684920" y="3297600"/>
              <a:chExt cx="824040" cy="719280"/>
            </a:xfrm>
          </p:grpSpPr>
          <p:pic>
            <p:nvPicPr>
              <p:cNvPr id="188" name="16-Point Star 44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84920" y="3297600"/>
                <a:ext cx="824040" cy="7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7911360" y="3474360"/>
                <a:ext cx="379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16-Point Star 45"/>
            <p:cNvGrpSpPr/>
            <p:nvPr/>
          </p:nvGrpSpPr>
          <p:grpSpPr>
            <a:xfrm>
              <a:off x="892800" y="1096920"/>
              <a:ext cx="1617480" cy="1166760"/>
              <a:chOff x="892800" y="1096920"/>
              <a:chExt cx="1617480" cy="1166760"/>
            </a:xfrm>
          </p:grpSpPr>
          <p:pic>
            <p:nvPicPr>
              <p:cNvPr id="191" name="16-Point Star 45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2800" y="1096920"/>
                <a:ext cx="1617480" cy="11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1307520" y="1380960"/>
                <a:ext cx="799560" cy="5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3% of RECs w/ partnershi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75760" y="1904760"/>
            <a:ext cx="4040280" cy="39510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on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nual Meeting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munities of Practice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ivate Portal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ublic Web Si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What is Going On?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5" name="Content Placeholder 8"/>
          <p:cNvSpPr/>
          <p:nvPr/>
        </p:nvSpPr>
        <p:spPr>
          <a:xfrm>
            <a:off x="4761000" y="5094360"/>
            <a:ext cx="4049640" cy="88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Build once and use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everage investment -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68560" y="1904760"/>
            <a:ext cx="4041720" cy="24606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everage existing tool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tandard terminolog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Build tool box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Roadmap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74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taff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79000" y="129024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ne and conn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68560" y="1280880"/>
            <a:ext cx="404172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 and Train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Text Placeholder 7"/>
          <p:cNvSpPr/>
          <p:nvPr/>
        </p:nvSpPr>
        <p:spPr>
          <a:xfrm>
            <a:off x="4753080" y="4467240"/>
            <a:ext cx="4052880" cy="639720"/>
          </a:xfrm>
          <a:prstGeom prst="rect">
            <a:avLst/>
          </a:prstGeom>
          <a:solidFill>
            <a:srgbClr val="2c5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010 Summer Regional Meeting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01" name="Group 8"/>
          <p:cNvGrpSpPr/>
          <p:nvPr/>
        </p:nvGrpSpPr>
        <p:grpSpPr>
          <a:xfrm>
            <a:off x="609480" y="1219320"/>
            <a:ext cx="7620120" cy="5238720"/>
            <a:chOff x="609480" y="1219320"/>
            <a:chExt cx="7620120" cy="5238720"/>
          </a:xfrm>
        </p:grpSpPr>
        <p:pic>
          <p:nvPicPr>
            <p:cNvPr id="202" name="Picture 5" descr="Map of United States"/>
            <p:cNvPicPr/>
            <p:nvPr/>
          </p:nvPicPr>
          <p:blipFill>
            <a:blip r:embed="rId1"/>
            <a:stretch/>
          </p:blipFill>
          <p:spPr>
            <a:xfrm>
              <a:off x="609480" y="1219320"/>
              <a:ext cx="76201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6"/>
            <p:cNvSpPr/>
            <p:nvPr/>
          </p:nvSpPr>
          <p:spPr>
            <a:xfrm>
              <a:off x="3657600" y="335304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20-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6553440" y="236232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27-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5410080" y="381024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2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4876920" y="266688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10-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"/>
            <p:cNvSpPr/>
            <p:nvPr/>
          </p:nvSpPr>
          <p:spPr>
            <a:xfrm>
              <a:off x="1752480" y="2743200"/>
              <a:ext cx="1295280" cy="36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g 17-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mmunities of Practic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09" name="Group 17"/>
          <p:cNvGrpSpPr/>
          <p:nvPr/>
        </p:nvGrpSpPr>
        <p:grpSpPr>
          <a:xfrm>
            <a:off x="291960" y="990720"/>
            <a:ext cx="8521920" cy="4965480"/>
            <a:chOff x="291960" y="990720"/>
            <a:chExt cx="8521920" cy="4965480"/>
          </a:xfrm>
        </p:grpSpPr>
        <p:pic>
          <p:nvPicPr>
            <p:cNvPr id="210" name="Picture 5" descr="[Teamwork]"/>
            <p:cNvPicPr/>
            <p:nvPr/>
          </p:nvPicPr>
          <p:blipFill>
            <a:blip r:embed="rId1"/>
            <a:stretch/>
          </p:blipFill>
          <p:spPr>
            <a:xfrm>
              <a:off x="456840" y="1066680"/>
              <a:ext cx="82299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17"/>
            <p:cNvSpPr/>
            <p:nvPr/>
          </p:nvSpPr>
          <p:spPr>
            <a:xfrm>
              <a:off x="6731280" y="1066680"/>
              <a:ext cx="19810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18680" y="1003320"/>
              <a:ext cx="1663560" cy="49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820200" y="4127400"/>
              <a:ext cx="19810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fo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2057040" y="4038480"/>
              <a:ext cx="518184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1981080" y="990720"/>
              <a:ext cx="518184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404520" y="5475240"/>
              <a:ext cx="22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ningful 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291960" y="1765440"/>
              <a:ext cx="1663560" cy="12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ducation and Outre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329760" y="4991040"/>
              <a:ext cx="1663560" cy="7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304560" y="4140360"/>
              <a:ext cx="16635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vacy and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291960" y="3098880"/>
              <a:ext cx="1663560" cy="10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ndor Selection and Mg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291960" y="1054080"/>
              <a:ext cx="1663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6782040" y="1181160"/>
              <a:ext cx="1981080" cy="29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ject Mgt. 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flow Re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teroperability and H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1866600" y="4254480"/>
              <a:ext cx="518184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stain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ants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6832800" y="4991040"/>
              <a:ext cx="1981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havio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REC TAB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7:35:29Z</dcterms:created>
  <dc:creator>HadadJ</dc:creator>
  <dc:description/>
  <dc:language>en-US</dc:language>
  <cp:lastModifiedBy>Graham</cp:lastModifiedBy>
  <dcterms:modified xsi:type="dcterms:W3CDTF">2010-10-22T17:26:10Z</dcterms:modified>
  <cp:revision>88</cp:revision>
  <dc:subject/>
  <dc:title>Slide 1</dc:title>
</cp:coreProperties>
</file>