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41560" y="762120"/>
            <a:ext cx="69357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5480" y="337356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8660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31640" y="220932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14156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8660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31640" y="3373560"/>
            <a:ext cx="223308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5480" y="2209320"/>
            <a:ext cx="33843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1560" y="3373560"/>
            <a:ext cx="6935760" cy="10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lid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slide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1200" y="757080"/>
            <a:ext cx="7011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41200" y="2211120"/>
            <a:ext cx="70117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slide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1560" y="756360"/>
            <a:ext cx="7316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41200" y="2238480"/>
            <a:ext cx="74689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0720" indent="-27072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70720" indent="-2707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slide6"/>
          <p:cNvPicPr/>
          <p:nvPr/>
        </p:nvPicPr>
        <p:blipFill>
          <a:blip r:embed="rId2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1560" y="756360"/>
            <a:ext cx="7240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41560" y="2238120"/>
            <a:ext cx="72403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0" y="756360"/>
            <a:ext cx="71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141200" y="2238120"/>
            <a:ext cx="71643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slid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141560" y="2209320"/>
            <a:ext cx="6935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slid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1560" y="756360"/>
            <a:ext cx="7316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41200" y="2238480"/>
            <a:ext cx="74689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270720">
              <a:buClr>
                <a:srgbClr val="4f6228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70720" indent="-27072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70720" indent="-2707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70720" indent="-270720"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om.edu/ahrqhealthcarereports" TargetMode="External"/><Relationship Id="rId2" Type="http://schemas.openxmlformats.org/officeDocument/2006/relationships/hyperlink" Target="http://www.iom.edu/ahrqhealthcarereports" TargetMode="External"/><Relationship Id="rId3" Type="http://schemas.openxmlformats.org/officeDocument/2006/relationships/hyperlink" Target="http://www.iom.edu/ahrqhealthcarereports" TargetMode="External"/><Relationship Id="rId4" Type="http://schemas.openxmlformats.org/officeDocument/2006/relationships/hyperlink" Target="http://www.iom.edu/ahrqhealthcarereports" TargetMode="External"/><Relationship Id="rId5" Type="http://schemas.openxmlformats.org/officeDocument/2006/relationships/hyperlink" Target="http://www.iom.edu/ahrqhealthcarereports" TargetMode="External"/><Relationship Id="rId6" Type="http://schemas.openxmlformats.org/officeDocument/2006/relationships/hyperlink" Target="http://www.iom.edu/ahrqhealthcarereports" TargetMode="External"/><Relationship Id="rId7" Type="http://schemas.openxmlformats.org/officeDocument/2006/relationships/hyperlink" Target="http://iom.edu/Reports/2009/RaceEthnicityData.aspx" TargetMode="External"/><Relationship Id="rId8" Type="http://schemas.openxmlformats.org/officeDocument/2006/relationships/hyperlink" Target="http://iom.edu/Reports/2009/RaceEthnicityData.aspx" TargetMode="External"/><Relationship Id="rId9" Type="http://schemas.openxmlformats.org/officeDocument/2006/relationships/hyperlink" Target="http://iom.edu/Reports/2009/RaceEthnicityData.aspx" TargetMode="External"/><Relationship Id="rId10" Type="http://schemas.openxmlformats.org/officeDocument/2006/relationships/hyperlink" Target="http://iom.edu/Reports/2009/RaceEthnicityData.aspx" TargetMode="External"/><Relationship Id="rId11" Type="http://schemas.openxmlformats.org/officeDocument/2006/relationships/hyperlink" Target="http://iom.edu/Reports/2009/RaceEthnicityData.aspx" TargetMode="External"/><Relationship Id="rId12" Type="http://schemas.openxmlformats.org/officeDocument/2006/relationships/hyperlink" Target="http://iom.edu/Reports/2009/RaceEthnicityData.aspx" TargetMode="External"/><Relationship Id="rId13" Type="http://schemas.openxmlformats.org/officeDocument/2006/relationships/hyperlink" Target="http://iom.edu/Reports/2009/RaceEthnicityData.aspx" TargetMode="External"/><Relationship Id="rId14" Type="http://schemas.openxmlformats.org/officeDocument/2006/relationships/hyperlink" Target="http://iom.edu/Reports/2009/RaceEthnicityData.aspx" TargetMode="External"/><Relationship Id="rId1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9"/>
          <p:cNvSpPr/>
          <p:nvPr/>
        </p:nvSpPr>
        <p:spPr>
          <a:xfrm>
            <a:off x="2286000" y="609480"/>
            <a:ext cx="4648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0" y="1447560"/>
            <a:ext cx="5486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 for the National Healthcare Quality and Disparities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28" descr="R01677 cover 06-HiRes&#13;&#10;Image of Report Cover"/>
          <p:cNvPicPr/>
          <p:nvPr/>
        </p:nvPicPr>
        <p:blipFill>
          <a:blip r:embed="rId1"/>
          <a:stretch/>
        </p:blipFill>
        <p:spPr>
          <a:xfrm>
            <a:off x="392040" y="685800"/>
            <a:ext cx="1589040" cy="2057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3885840"/>
            <a:ext cx="640080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Arial"/>
              </a:rPr>
              <a:t>AHRQ 2010 Annual Conferen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Arial"/>
              </a:rPr>
              <a:t>September 27,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1560" y="45720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isual Depiction of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Framework 22410&#13;&#10;Classification matrix for measures based on the components of quality, dimensions and types of care."/>
          <p:cNvPicPr/>
          <p:nvPr/>
        </p:nvPicPr>
        <p:blipFill>
          <a:blip r:embed="rId1"/>
          <a:stretch/>
        </p:blipFill>
        <p:spPr>
          <a:xfrm>
            <a:off x="838080" y="1539720"/>
            <a:ext cx="72392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 Relationship Among Priority Areas, Quality Framework, and Measure Se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1560" y="1752480"/>
            <a:ext cx="6935760" cy="43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setting, use of the framework, and measure selection are sequential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priority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metrics that are relevant to priority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component of quality, assess the value and equity contribution of closing the gap between current performance and desired levels for each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measures for reporting in the NHQR/NHDR that provide the highest relative impact on value and equ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1560" y="533520"/>
            <a:ext cx="73166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3: Transparent and Quantitative Measure Selec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1560" y="1981080"/>
            <a:ext cx="6935760" cy="28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 Technical Advisory Subcommittee for Measure Selection to NAC that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51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rank measures by contribution to value (greater population health impact) and equity if performance gaps were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committee’s deliberations should also yield a measure and data development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4: Expanded Use of Subna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1560" y="1600200"/>
            <a:ext cx="6935760" cy="539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en national measure and data gap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reporting subnational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f interest (e.g., priority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and well-vali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 representative of population on which i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spirational in identifying measure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4692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5: Expanded Use of Sociodemographic Data in NHQR and NH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450800"/>
            <a:ext cx="7772400" cy="40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ed by subcommittee report (August 2009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, Ethnicity, and Language Data: Standardization for Health Care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y measures by at least OMB race, Hispanic ethnicity, SES, and insurance status; assess relationship of SES to race/ethnicity disp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by language need and granular ethnicity when data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hortcomings in data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6: Make Products More Action-Oriented and Aligned with Use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1560" y="1904760"/>
            <a:ext cx="7240320" cy="42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priority areas, benchmarks, promis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NHQR and NHDR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city for customized reports by topic (easy access to data about specific topics, fact sheets and/or mini-rep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access to primary data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a quality improvement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elling a Quality Improvemen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s about performance g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years to closure, relative benefit of closure, potential contributions of a measure to value an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ys to affect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ata to inform policy, links to promis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alysts for achie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benchmarks for best-in-class performance, data presented by accountabl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ntification of measure and data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7: Include Realistic Bench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1560" y="2209680"/>
            <a:ext cx="6935760" cy="40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n best known level of attain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benchmark across NHQR and N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benchmarks set by best state performance may best satisfy the information needs of Congressional and state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1560" y="152280"/>
            <a:ext cx="693576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8: Consult with Communication and Presentation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0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phics with embedd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xt to offer more in-depth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online more detail on statistical aspects of measur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9: Additional Funds for AH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 should reallocate existing funds and leverage resources by partnering with other stakeholders (within and outside H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funds are needed to:Support the work of the Technical Advisory Subcommittee for Measure Sele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report-related products and engagement activ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new measures and supporting 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10: Regular Evaluation of National Repor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1560" y="2209680"/>
            <a:ext cx="693576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products meet audience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degree is information in the NHQ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DR, and State Snapshots leverage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 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’s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sion for the NHQR and N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4560" y="1676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284560" y="289548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s for the National Healthcare Quality and Disparitie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hrqhealthcare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e, Ethnicity, and Language Data: Standardization for Health Care Quality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d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Reports/2009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aceEthnicityData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sp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mmitte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7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priority areas for quality improvement and disp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previous IOM guidance for the NHQR and NHDR (e.g., measure selection, framework, presentation, and data iss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mmittee Vision for NHQR &amp; NH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1560" y="1523880"/>
            <a:ext cx="6935760" cy="40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ore forward-looking and a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priority areas and on measures with greatest potential for impact on population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equity is conveyed as integral to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data in ways that identifies for policy makers and others the results of and prospects for evidence-based policies and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HQR and NH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37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wo annual re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 in meas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on number of topics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har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broadly distributed as a standalon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500"/>
              </a:spcBef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potential impact of closing performance gaps, state scorecard, summary of disparities, action messages to different aud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ccess measures to the NHQR and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nhancements to Derivativ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01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napshots (e.g., clearer dashboard rating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ccess to rankings by measure, more deta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ubstate variation and subpopulation data, sort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IS meas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customization of reports by top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sheets and mini-reports with more in-dep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for use in expanded 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access to primary data and tool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1: AHRQ Use of Priority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1560" y="2209320"/>
            <a:ext cx="6935760" cy="27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QR and NHDR should report progress on national priority areas identified by the IOM and as a result of the health reform quality improve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measure selection with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areas would not change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1560" y="76212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OM List of Priority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1200" y="1828440"/>
            <a:ext cx="339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/fami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health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coordinatio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iative care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use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PP priority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4680" y="1828440"/>
            <a:ext cx="3392640" cy="15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systems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1560" y="380880"/>
            <a:ext cx="69357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# 2 Updated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1200" y="1244520"/>
            <a:ext cx="7468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components are expanded to include access, ca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rdination, and health systems infrastructure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RQ can continue to use the components of quality to organize measures in the NHQR/NHD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trix of quality components and types of ca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s a way for AHRQ to examine its overall measu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rtfolio, not just those in the reports, for bala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selecting measures for the NHQR/NHDR, ea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uld be assessed for its potential contribution 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lue (improvement in population health) 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4f622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quity (improvement in differences among populations, geographic areas, and health systems/payer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2:05:21Z</dcterms:created>
  <dc:creator>Office 2004 Test Drive User</dc:creator>
  <dc:description/>
  <dc:language>en-US</dc:language>
  <cp:lastModifiedBy>Kim Gretka</cp:lastModifiedBy>
  <dcterms:modified xsi:type="dcterms:W3CDTF">2010-10-18T23:25:51Z</dcterms:modified>
  <cp:revision>79</cp:revision>
  <dc:subject/>
  <dc:title>Slide 1</dc:title>
</cp:coreProperties>
</file>