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6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8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valuating Emerging Technologies: Is the Future Now??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50560" y="3962520"/>
            <a:ext cx="643572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4572000"/>
            <a:ext cx="6705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ise Berliner, Ph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ctor, Technology Assessment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er for Outcomes and Evid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Playmates Classic Star Trek Dr. McCoy's Medical Kit"/>
          <p:cNvPicPr/>
          <p:nvPr/>
        </p:nvPicPr>
        <p:blipFill>
          <a:blip r:embed="rId1"/>
          <a:stretch/>
        </p:blipFill>
        <p:spPr>
          <a:xfrm>
            <a:off x="168120" y="46080"/>
            <a:ext cx="8518680" cy="63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n Therapy: “the technology and machinery looks like something that should be operated by Dr. Leonard “Bones” McCoy on ‘Star Trek’.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cksonville Financial News and Daily Record, 8/15/20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tal Surgery: “it is both amazing and troubling, something one sees on “Star Trek” rather than the hospital around the corner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ica Casper, The Making of an Unborn Patient: A Social Anatomy of Fetal Surgery, pag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ssues in Evaluation of New Technolog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is the right time to assess new technolog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 early”: not enough data, effect on innovation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 late”:  technologies diffuse into clinical practice, often without strong evidence of effectiv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can the methods of systematic review be applied to early stage technologies (AHRQ tech brief proc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issues in carrying out clinical evaluation of emerging technologies (MOMS trial case study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sent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cal Brief on Particle Beam Radiation Treatments for Can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m Trikalinos, Tufts Evidence-based Practice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cal Brief on Fetal Surg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atherine Hartmann, Vanderbilt Evidence-based Practice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MS Trial of Fetal Surgery for Myelomeningoce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an Tolivaisa, National Institutes of Heal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uestions for Discuss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strengths and limitations of the tech brief proce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what stage in technology development should a tech brief be initiated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ing of publication of new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stakeholders use the results of tech brief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uestions for Discuss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uld medical innovation be deployed as medical research or as medical practi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thresholds and models for oversigh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nformation should be disclosed to patie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re a professional duty to learn and to educate other practition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s from Margaret Eaton and Donald Kennedy “Innovation in Medical Technology, Ethical Issues and Challeng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tac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se Berl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se.berliner@ahrq.hhs.g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1-427-16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dc:language>en-US</dc:language>
  <cp:lastModifiedBy>Kim Gretka</cp:lastModifiedBy>
  <cp:lastPrinted>2003-01-21T20:19:23Z</cp:lastPrinted>
  <dcterms:modified xsi:type="dcterms:W3CDTF">2010-10-19T00:58:35Z</dcterms:modified>
  <cp:revision>146</cp:revision>
  <dc:subject/>
  <dc:title>AHRQ Slide Template 200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