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raham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0-19T11:06:08.153000000" idx="1">
    <p:pos x="4128" y="370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F3EC-F5DB-43CD-99BE-90920CB54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0B49-9696-4F86-A8B8-5D4AD0BE7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71D1-D0E3-4D48-8FBF-2A6BAE6B93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F34-D9D2-4A76-AA81-2334877DE9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4248-8B89-4253-B2E8-8A626B036B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F63-E37E-4962-9409-D5904ECB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A31-6830-49F7-B431-8D8C77D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6C1-0C2E-4340-B008-4DCBED16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EEE-EFF1-4C21-AD6B-2C34D4EE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A78-3CB7-459B-B9E4-866103C8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4C27-E959-479E-B9D1-BF79863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788-E13D-4147-9B9A-EE359F4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68B-52D5-4EB9-BF17-4B2527F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80D-419E-4C59-A903-1B82456C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2AA-9B71-4079-AA88-30DBD5F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352-8640-444E-A2BD-79F76D3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23B-45C5-4042-9EA4-8A25321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DDA-C33C-4E12-80FE-830D536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AC26-D4BF-4869-A155-F800B8A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81D8-B0BC-4B66-B743-E42B84EF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67D-56CA-4A13-B72E-3483C394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8266-1823-45F4-9A15-4E857AEF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D4FE-52D7-47E6-8143-359EF955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40C6-F66B-4C16-92BD-810FB3C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388E-68C2-427F-BFB8-3DD909E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3E15-5FEA-4C52-8948-3553617C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86F7-A6E7-4E4A-A51B-160FA33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C4B-2051-4E4F-AAF2-29BE292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4AAA-7FB4-480A-B831-EDDD7E8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1CE7-6073-4D4E-BF56-74203F4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EEF78-9B38-4DCE-B49E-DF99891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0666-8818-447B-B133-9320FD9F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5A1C-D11F-4F9D-A096-D3469DC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363E-EA1E-4982-89E6-778E6607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7DBB-46E2-4D03-87E8-097AAD77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E81A-05C4-4DEE-A3C0-73798F59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AE69-C4C2-4719-9C1E-6FBBA96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8A37-28A4-444F-A2A7-5C4966F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94-B8DA-46DA-BD86-52FEEE1C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4DE9-B4D0-4740-8908-DD66C5F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015D-A414-4202-B05B-B5F3BDD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8B44-1990-400F-B373-3E09CF4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253F-71C1-4324-95AD-3BC9255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EAE2-E57E-4D8D-B8C2-29C504F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92CF-B4D8-4DAB-86D5-94E6060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E48A-9632-4D55-8CB7-2EC04B3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8364-C533-486F-ADE7-473D094A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CBF3-5366-4E65-81D7-07765F32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124C-E515-49F7-8B87-985F00B2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F8D-9B46-494E-BBF1-B468CD6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CFB3-0F5E-4694-A82E-3028434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B2E5-1B29-47B1-B0BE-CFE8A6D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29B2-082A-47EA-A5E5-7DBF67D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E33B-737E-4C26-AAFA-73D33F4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7BF8-A34A-4366-9267-8E1EA27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AA60-37E4-4C27-9C1F-AA41CD8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0DE4-0E56-4A4F-8914-D5E0EEA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E00A3-5651-4967-9816-73B391F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8B53-04A7-4BB4-942A-3949114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BC47-5B18-4484-AC78-38186A2D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650-4F10-4490-8237-5A75BEB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A1D3-8A70-4EBD-A1AF-9A78A2A8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402CA-B1B9-4DCB-88B7-04199478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61F4-C549-409D-B851-ABFFE9B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945D-A7DE-4475-AC16-298E5936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24B9-FA37-4CC4-8E3D-9BEBF5D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5B5C-51B3-490B-BC8A-FB72EE06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3A4C7-CA9B-4AE3-BAEA-64D6B9E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9F80-3BB4-49EB-8123-4BFB5A6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0EA3-7894-4B39-90CA-1E8C1AB1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9B46-AE4F-4942-9F02-2675363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7AA-46E0-470E-8572-B8277ED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6CB6-81BD-4D2D-967C-13D08CB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B049-8ABF-45F9-934A-89CF6E01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F1A5-3B9D-4F44-A18E-1DAA4115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574-9003-4462-BCF1-A41C9E6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FA6-A0B6-4670-A8CC-AA657D3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6D1-2404-4E95-B934-B0A6D235B54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26EF-C292-4C5B-8ADF-114B37752D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8A2-0562-4A27-A4A5-BBC9AF012EF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A57-C278-4950-9532-66DF70B049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2C0-9C86-4CEB-B0FC-0DAF0E5BA00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F4A-CD17-405D-A3ED-A3A0BA436E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Oval 8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8" name="Oval 8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Oval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9D1-ECF7-488F-9F8F-6C4CDC0BCAE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4A1-EDC1-472E-BFFE-4822070C72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FD4A-693B-4544-B913-49B9EE2ACDB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B1D3-7853-41F9-810C-CDBA6EF1F1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6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46" name="Rectangle 6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0FB3-A444-4D87-AD15-CA5A271A7DC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08C-AEAB-44AD-90B4-910C51FDBF9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hrq.gov/populations/chronix.htm" TargetMode="External"/><Relationship Id="rId3" Type="http://schemas.openxmlformats.org/officeDocument/2006/relationships/hyperlink" Target="http://www.improvingchroniccare.org/" TargetMode="External"/><Relationship Id="rId4" Type="http://schemas.openxmlformats.org/officeDocument/2006/relationships/hyperlink" Target="http://www.rand.org/health/surveys_tools/chronic_care_model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safetynetinstitute.org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improvingchroniccare.org/index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ssessing a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actice Coaching Intervention for Improving Chronic Care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 Safety Net Organization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inyi Wu, PhD</a:t>
            </a:r>
            <a:br>
              <a:rPr sz="3200"/>
            </a:br>
            <a:br>
              <a:rPr sz="3200"/>
            </a:b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ssistant Professor, Epstein Department of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Industrial and Systems Engineering</a:t>
            </a:r>
            <a:br>
              <a:rPr sz="2100"/>
            </a:br>
            <a:br>
              <a:rPr sz="2100"/>
            </a:b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University of Southern California &amp; RAND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eptember 14, 2009, presented at AHRQ Conference</a:t>
            </a:r>
            <a:endParaRPr b="1" lang="en-US" sz="25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: Coach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aching is perceived 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ecessary bridge to the toolk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d and prompted people to mak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ded the horizons of the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d a positive effect on team buil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t an emotional bond which was a key success factor for 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aching costs approximately $41,000 for the two clinic sites, including time spent in coach training, coaching, travel, and communic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Suggested Modifications to </a:t>
            </a:r>
            <a:br>
              <a:rPr sz="3700"/>
            </a:b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Our Practice Coaching Approach</a:t>
            </a:r>
            <a:r>
              <a:rPr b="0" lang="en-US" sz="37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9036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should include more face-to-face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ternal coach might be ad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intensity may need to be greater at the begi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es should be more proactive and creative in introducing the tool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coaching for a longer period of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aching Effects on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orkgroup and Team Effectivenes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nges in self-efficacy and knowledg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ividuals positive on gaining skills, knowledge, and tools to improving clinical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orking as a tea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ching did not change the working relationship and team structure, but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d strengthen people working together as a te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quiring health system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coach can help problem-solving, but sustained support requires a local leader to organize the eff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s Learned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actice Coaching is a feasible mechanism for facilitating CCM quality improvement in safety net clinic setting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ing resources firsthand and tailoring advic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staff can participate in the practice improvement s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ching can be delivered with minimal impact on patient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actice coaching vs. collaborative learn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ing structured learning time is k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  <a:ea typeface="宋体"/>
              </a:rPr>
              <a:t>Practice coaching can really jump-start the spread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Especially when there is internal knowledge and experi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plicatio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eld of practice coaching is still evol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ly defining the coaches’ role and regularly checking expectations is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models of QI facilitation may work better in different settings and ti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on business improvement along with quality improvement needs to be further developed and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 additional informatio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CM Toolkit and Coaching Manual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2"/>
              </a:rPr>
              <a:t>http://www.ahrq.gov/populations/chronix.ht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ing Chronic Care and Business Strategies in the Safety Net: A Toolkit for Primary Care Practices and Clinics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ctice Coaching Manual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3"/>
              </a:rPr>
              <a:t>http://www.improvingchroniccare.or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ND Chronic Care Studie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4"/>
              </a:rPr>
              <a:t>	http://www.rand.org/health/surveys_tools/chronic_care_model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inyi W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ail: shinyiwu@esc.e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you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knowledgement:</a:t>
            </a:r>
            <a:br>
              <a:rPr sz="40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o-authors, Sponsor, and Participant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Marjorie Pearson, PhD, RA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Katie Coleman, MSPH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rian Austin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d Wagner, MD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Wendy Jameson, MPP, MPH, Safety Net Institu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Cindy Brach, MPP, Agency for Healthcare Research and Qualit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 participating healthcare organiz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1041480" y="5791320"/>
            <a:ext cx="6769080" cy="977760"/>
            <a:chOff x="1041480" y="5791320"/>
            <a:chExt cx="6769080" cy="977760"/>
          </a:xfrm>
        </p:grpSpPr>
        <p:pic>
          <p:nvPicPr>
            <p:cNvPr id="302" name="Picture 11" descr=""/>
            <p:cNvPicPr/>
            <p:nvPr/>
          </p:nvPicPr>
          <p:blipFill>
            <a:blip r:embed="rId2"/>
            <a:stretch/>
          </p:blipFill>
          <p:spPr>
            <a:xfrm>
              <a:off x="1041480" y="5829120"/>
              <a:ext cx="23619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"/>
            <p:cNvPicPr/>
            <p:nvPr/>
          </p:nvPicPr>
          <p:blipFill>
            <a:blip r:embed="rId3"/>
            <a:stretch/>
          </p:blipFill>
          <p:spPr>
            <a:xfrm>
              <a:off x="3530520" y="5810040"/>
              <a:ext cx="21207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3" descr="SNI Logo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9760" y="5805360"/>
              <a:ext cx="11808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4" descr="ICIC Home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572000" y="5791320"/>
              <a:ext cx="1981080" cy="97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essons Learned from CCM Collaboratives Call for Further Implementation Research</a:t>
            </a: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ams spent considerable time searching for/developing to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ome teams felt intimidated by taking on the whole model – asked for a sequ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laboratives were time &amp; resource inten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changes were made in ways that were not sustainable financi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Test A Team Coaching Approach to Help Practices Implement CCM</a:t>
            </a: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cognizing that medical practices often need flexible, hands-on support when embarking on a program of practice impr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pecially safety-net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sting a coaching intervention (coupled with a toolkit) to disseminate the CC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ded by AHR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actice Coaching Desig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1760" y="16765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ho were coach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ine randomly selected primary care teams from two clinics in two California public hospital syste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ho were the coaches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wo quality improvement experts external to the hospital syste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How was coaching structur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wo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d by phone and emai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onthly reports to coach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ree Intervention Phas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1760" y="16765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: Laying the foundation for succes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orm Coaching Te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et Acquainted with Leadership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rient the Practice Team to the Wor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I: Active practice coachin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nduct prework assessment &amp; prepare teams for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un learning sess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pport the tea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II: Sustaining the gai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lose out coaching and expect teams to contin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ic Model: Chain of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5029200" y="266688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029200" y="388620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5029200" y="472428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029200" y="5562720"/>
            <a:ext cx="0" cy="30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5029200" y="6400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5029200" y="6629400"/>
            <a:ext cx="2819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7"/>
          <p:cNvSpPr/>
          <p:nvPr/>
        </p:nvSpPr>
        <p:spPr>
          <a:xfrm flipV="1">
            <a:off x="7848720" y="1981080"/>
            <a:ext cx="0" cy="4648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8"/>
          <p:cNvSpPr/>
          <p:nvPr/>
        </p:nvSpPr>
        <p:spPr>
          <a:xfrm flipH="1">
            <a:off x="6858000" y="198108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H="1">
            <a:off x="6858000" y="34290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858000" y="441972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6858000" y="52578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 flipH="1">
            <a:off x="6858000" y="609588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1371600"/>
            <a:ext cx="6629400" cy="5381640"/>
            <a:chOff x="228600" y="1371600"/>
            <a:chExt cx="6629400" cy="5381640"/>
          </a:xfrm>
        </p:grpSpPr>
        <p:sp>
          <p:nvSpPr>
            <p:cNvPr id="328" name="Text Box 6"/>
            <p:cNvSpPr/>
            <p:nvPr/>
          </p:nvSpPr>
          <p:spPr>
            <a:xfrm>
              <a:off x="3429000" y="1371600"/>
              <a:ext cx="3429000" cy="1281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Environment</a:t>
              </a: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&amp; organizational context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429000" y="2971800"/>
              <a:ext cx="3429000" cy="885960"/>
            </a:xfrm>
            <a:prstGeom prst="rect">
              <a:avLst/>
            </a:prstGeom>
            <a:solidFill>
              <a:srgbClr val="b9efe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Workgroup &amp; team effectivenes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8"/>
            <p:cNvSpPr/>
            <p:nvPr/>
          </p:nvSpPr>
          <p:spPr>
            <a:xfrm>
              <a:off x="3429000" y="4191120"/>
              <a:ext cx="3429000" cy="489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syste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9"/>
            <p:cNvSpPr/>
            <p:nvPr/>
          </p:nvSpPr>
          <p:spPr>
            <a:xfrm>
              <a:off x="3429000" y="5029200"/>
              <a:ext cx="3429000" cy="489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proces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0"/>
            <p:cNvSpPr/>
            <p:nvPr/>
          </p:nvSpPr>
          <p:spPr>
            <a:xfrm>
              <a:off x="3429000" y="5867280"/>
              <a:ext cx="3429000" cy="885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outcom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6"/>
            <p:cNvSpPr/>
            <p:nvPr/>
          </p:nvSpPr>
          <p:spPr>
            <a:xfrm>
              <a:off x="228600" y="2971800"/>
              <a:ext cx="2590920" cy="885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Practice coach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Line 27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  <a:ea typeface="华文中宋"/>
              </a:rPr>
              <a:t>Evaluation Metho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Quasi-experimental design with three ar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tervention, internal control, and external contr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272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mplementation assessment through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and organizational contex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actice coach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ceived impact &amp; lessons lear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272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cess &amp; outcomes assessm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icipants perceived imp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DIS diabetes care indicators &amp; utilization meas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: Context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vironmen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llenging, but not about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z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mit to improving chronic illness care and have some ongo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dership supp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the project: mod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rovement experi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ve previous and ongoing improvement projects; experience var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ticipa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“Majority” adopters of CCM; randomized to participate so modest level of excit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on 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Average cumbers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15:36Z</dcterms:created>
  <dc:creator>Alan Wu</dc:creator>
  <dc:description/>
  <dc:language>en-US</dc:language>
  <cp:lastModifiedBy>Rasa</cp:lastModifiedBy>
  <cp:lastPrinted>2009-10-19T17:18:52Z</cp:lastPrinted>
  <dcterms:modified xsi:type="dcterms:W3CDTF">2009-10-26T01:42:06Z</dcterms:modified>
  <cp:revision>107</cp:revision>
  <dc:subject/>
  <dc:title>Coaching Primary Care Practice Teams for Improving Chronic Illness Care</dc:title>
</cp:coreProperties>
</file>