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raham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0-19T11:06:08.153000000" idx="1">
    <p:pos x="4128" y="370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FC72-07B5-4A7D-A174-86924702BA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00B9-A4E0-42AF-9583-6F445AF2E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BA7-7A40-45E5-ACEF-5C2304AA8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3F84-6AFC-414F-9A27-C2EEBB4481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753-65B5-4185-B6B5-59D0A89073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0B4-47CC-49CB-A049-E29CE1DE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134-C849-44D3-AEE2-DF1E081C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B00-3788-4603-A5C0-0DAB5A8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6EF-2455-441E-89D3-1F6E4EEC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297-A13A-4C66-A3B5-279C0138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D0AF-1346-4554-9E9D-61BC3FE8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A014-DCA6-4BF2-A1E1-D5C4DFC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EF9-8321-4254-A8F9-C5C45A50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4FDC-5B41-42F3-B32F-E78544D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6DB-A515-4014-8E9D-74F066D4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DA86-9C71-4B67-8F7B-695FE3B5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19F-7FCE-4242-ACC8-4E70690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1714-61C5-4718-9A7B-95A11C9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B921-B512-41E9-9975-78DE236B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B97E-C72A-4A50-8B73-BC89543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866-05E4-4898-9736-7AE6CE11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CA57-EE28-48AC-B145-3BEF0CB4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8980-6432-44BE-8256-30D3242B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7F31-1652-4F06-BEE3-C3A37B28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C760-1FB8-447F-B0FE-C83BAAEA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8149-DCB2-4DFC-B9D0-945418A6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EC30-4BE0-40C6-9666-3230117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129-4AFA-4346-ABA8-9EB80A6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21B2-C188-4162-B978-B34DEDD4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D91B-CA43-4154-9266-0571473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93A0-0B26-4F68-A127-8CC12EC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B2D0-998B-4A22-B59C-F6748DD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C5EC-920A-4E4E-A790-6F979172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C749-076D-44E3-8830-02D0496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0DFA-3C76-4670-BB98-5B2CA7CF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E3C8-313E-4FEF-B037-8AF439AD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7486-BF88-4729-8C19-1C1A6B4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5EB5-BF3B-424F-8EF5-F20BEC51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BCC-C61B-43F9-8D92-1738C5C3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F6F2-7B25-43E6-B84F-363D29E4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3859-68F3-401C-826D-232091FE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71D9-04F2-4DCF-828B-5DE5E27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D4183-42BD-4AD7-BBAA-C09AFFB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D444-5C5C-42BC-A9C4-A5FEEFA6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A03C-64F9-46A9-8EFC-73C42B8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C4DE-AB7C-4726-91FD-50CB19E2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FD1F-23E9-4FAE-B081-79271EFC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793A-B02F-494F-8FDF-914A623B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1C58-6DDD-4D3E-ABC5-E5BC1E4A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EA0-BD0D-4B91-9E97-A8F62BE0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A25E-72C6-4E05-810A-09AF581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87FF-2878-4D4B-8C5A-6E4B0684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2577D-86FD-4F03-B98F-1DD3D74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9A41-6B24-4182-9BE6-688B069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0FC24-7318-40A8-A443-9DE9C689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8E1F7-839F-4A22-8C99-A46F9273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42B7-5BBB-4AAB-8776-ABF13E89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AA69-6CC5-4C41-A15C-BED6FC1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D116-A973-4C48-BA2E-EA01731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0E981-9B43-4E15-A78A-093C8699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A5A-8A2B-4540-BB14-89CD00E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F6BF-CD65-46D3-A836-9270EA8F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4CF6E-F39E-42FA-9ABF-140A3599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6280-8030-4A24-B510-6E1D1BB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EAC59-6F47-47ED-9370-5A4F77F2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3B3B-630C-4D2A-AF06-87E5492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E314B-F91C-4C3B-B606-C2334B07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04815-C6D4-44FE-96B5-62359618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F20A-63BD-41C6-9BFB-EC729DA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ED22-112D-4435-A559-D3DAC68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95FE5-D157-4D50-BD6C-5228EEA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F87-361F-4760-A71B-CE92B42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7357-037F-4314-B0F8-B4651B22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8887-F4F7-424C-8700-AD44D09A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846B-CE78-4474-903D-E9C0DA1A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775-4422-49C7-8BF7-6442CF90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234-ED38-4407-94A2-6C59633A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8E5-2735-4D8A-9770-41B44F51202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65B-F11F-4A6D-8D81-742BCC15A6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7B9-745D-4E83-8223-6AE086A855D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3CB-6B9B-43CD-A05E-1EB422A02BB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3F70-4228-4693-A15C-913F34C27BD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9A5-D92F-4D42-BB8F-AEBB9219BF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Oval 8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8" name="Oval 8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Oval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E91-6556-4D4E-AC6B-4662CD69D37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E085-3D48-4729-9924-4044ECE419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3A1-18DE-41BB-A9C5-7143ED24BB0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3E1-C97F-4C8A-B0C6-B0C07191546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Rectangle 6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46" name="Rectangle 6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556-E0DF-41E1-ADAD-6B9B4959FD4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9677-8836-4959-BC07-CB8CC8ADC1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hrq.gov/populations/chronix.htm" TargetMode="External"/><Relationship Id="rId3" Type="http://schemas.openxmlformats.org/officeDocument/2006/relationships/hyperlink" Target="http://www.improvingchroniccare.org/" TargetMode="External"/><Relationship Id="rId4" Type="http://schemas.openxmlformats.org/officeDocument/2006/relationships/hyperlink" Target="http://www.rand.org/health/surveys_tools/chronic_care_model.html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safetynetinstitute.org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improvingchroniccare.org/index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ssessing a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actice Coaching Intervention for Improving Chronic Care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 Safety Net Organization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inyi Wu, PhD</a:t>
            </a:r>
            <a:br>
              <a:rPr sz="3200"/>
            </a:br>
            <a:br>
              <a:rPr sz="3200"/>
            </a:b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Assistant Professor, Epstein Department of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Industrial and Systems Engineering</a:t>
            </a:r>
            <a:br>
              <a:rPr sz="2100"/>
            </a:br>
            <a:br>
              <a:rPr sz="2100"/>
            </a:b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University of Southern California &amp; RAND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September 14, 2009, presented at AHRQ Conference</a:t>
            </a:r>
            <a:endParaRPr b="1" lang="en-US" sz="25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: Coach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aching is perceived 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ecessary bridge to the toolk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d and prompted people to mak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ded the horizons of the te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d a positive effect on team buil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t an emotional bond which was a key success factor for 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aching costs approximately $41,000 for the two clinic sites, including time spent in coach training, coaching, travel, and communic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Suggested Modifications to </a:t>
            </a:r>
            <a:br>
              <a:rPr sz="3700"/>
            </a:b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Our Practice Coaching Approach</a:t>
            </a:r>
            <a:r>
              <a:rPr b="0" lang="en-US" sz="37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9036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should include more face-to-face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 internal coach might be add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intensity may need to be greater at the begi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es should be more proactive and creative in introducing the tool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coaching for a longer period of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oaching Effects on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Workgroup and Team Effectivenes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nges in self-efficacy and knowledg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dividuals positive on gaining skills, knowledge, and tools to improving clinical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orking as a team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ching did not change the working relationship and team structure, but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d strengthen people working together as a te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quiring health system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coach can help problem-solving, but sustained support requires a local leader to organize the eff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essons Learned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actice Coaching is a feasible mechanism for facilitating CCM quality improvement in safety net clinic setting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essing resources firsthand and tailoring advic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re staff can participate in the practice improvement s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ching can be delivered with minimal impact on patient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actice coaching vs. collaborative learn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viding structured learning time is ke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  <a:ea typeface="宋体"/>
              </a:rPr>
              <a:t>Practice coaching can really jump-start the spread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宋体"/>
              </a:rPr>
              <a:t>Especially when there is internal knowledge and experienc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plicatio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eld of practice coaching is still evolv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early defining the coaches’ role and regularly checking expectations is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models of QI facilitation may work better in different settings and ti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ching on business improvement along with quality improvement needs to be further developed and stud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68580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 additional informatio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CM Toolkit and Coaching Manual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2"/>
              </a:rPr>
              <a:t>http://www.ahrq.gov/populations/chronix.ht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grating Chronic Care and Business Strategies in the Safety Net: A Toolkit for Primary Care Practices and Clinics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ctice Coaching Manual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3"/>
              </a:rPr>
              <a:t>http://www.improvingchroniccare.or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ND Chronic Care Studie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ea typeface="Arial"/>
                <a:hlinkClick r:id="rId4"/>
              </a:rPr>
              <a:t>	http://www.rand.org/health/surveys_tools/chronic_care_model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hinyi W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mail: shinyiwu@esc.e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you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knowledgement:</a:t>
            </a:r>
            <a:br>
              <a:rPr sz="40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Co-authors, Sponsor, and Participant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Marjorie Pearson, PhD, RAND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Katie Coleman, MSPH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rian Austin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Ed Wagner, MD, ICIC, GroupHealt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Wendy Jameson, MPP, MPH, Safety Net Institut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Cindy Brach, MPP, Agency for Healthcare Research and Qualit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The participating healthcare organizat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1" name="Group 7"/>
          <p:cNvGrpSpPr/>
          <p:nvPr/>
        </p:nvGrpSpPr>
        <p:grpSpPr>
          <a:xfrm>
            <a:off x="1041480" y="5791320"/>
            <a:ext cx="6769080" cy="977760"/>
            <a:chOff x="1041480" y="5791320"/>
            <a:chExt cx="6769080" cy="977760"/>
          </a:xfrm>
        </p:grpSpPr>
        <p:pic>
          <p:nvPicPr>
            <p:cNvPr id="302" name="Picture 11" descr=""/>
            <p:cNvPicPr/>
            <p:nvPr/>
          </p:nvPicPr>
          <p:blipFill>
            <a:blip r:embed="rId2"/>
            <a:stretch/>
          </p:blipFill>
          <p:spPr>
            <a:xfrm>
              <a:off x="1041480" y="5829120"/>
              <a:ext cx="236196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"/>
            <p:cNvPicPr/>
            <p:nvPr/>
          </p:nvPicPr>
          <p:blipFill>
            <a:blip r:embed="rId3"/>
            <a:stretch/>
          </p:blipFill>
          <p:spPr>
            <a:xfrm>
              <a:off x="3530520" y="5810040"/>
              <a:ext cx="21207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3" descr="SNI Logo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629760" y="5805360"/>
              <a:ext cx="11808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4" descr="ICIC Home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4572000" y="5791320"/>
              <a:ext cx="1981080" cy="97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Lessons Learned from CCM Collaboratives Call for Further Implementation Research</a:t>
            </a:r>
            <a:r>
              <a:rPr b="1" lang="en-US" sz="37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ams spent considerable time searching for/developing too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ome teams felt intimidated by taking on the whole model – asked for a sequ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laboratives were time &amp; resource inten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y changes were made in ways that were not sustainable financial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Test A Team Coaching Approach to Help Practices Implement CCM</a:t>
            </a:r>
            <a:r>
              <a:rPr b="0" lang="en-US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cognizing that medical practices often need flexible, hands-on support when embarking on a program of practice impr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pecially safety-net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sting a coaching intervention (coupled with a toolkit) to disseminate the CC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ded by AHRQ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ractice Coaching Desig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61760" y="16765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ho were coach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ine randomly selected primary care teams from two clinics in two California public hospital syste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ho were the coaches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wo quality improvement experts external to the hospital syste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How was coaching structured?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Two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mmunicated by phone and emai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onthly reports to coache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ree Intervention Phas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1760" y="16765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: Laying the foundation for succes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Form Coaching Tea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Get Acquainted with Leadership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rient the Practice Team to the Work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I: Active practice coachin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nduct prework assessment &amp; prepare teams for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un learning session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upport the tea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7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hase III: Sustaining the gai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lose out coaching and expect teams to continu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ic Model: Chain of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Line 11"/>
          <p:cNvSpPr/>
          <p:nvPr/>
        </p:nvSpPr>
        <p:spPr>
          <a:xfrm>
            <a:off x="5029200" y="266688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5029200" y="388620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3"/>
          <p:cNvSpPr/>
          <p:nvPr/>
        </p:nvSpPr>
        <p:spPr>
          <a:xfrm>
            <a:off x="5029200" y="4724280"/>
            <a:ext cx="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029200" y="5562720"/>
            <a:ext cx="0" cy="30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5029200" y="640080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5029200" y="6629400"/>
            <a:ext cx="2819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7"/>
          <p:cNvSpPr/>
          <p:nvPr/>
        </p:nvSpPr>
        <p:spPr>
          <a:xfrm flipV="1">
            <a:off x="7848720" y="1981080"/>
            <a:ext cx="0" cy="4648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8"/>
          <p:cNvSpPr/>
          <p:nvPr/>
        </p:nvSpPr>
        <p:spPr>
          <a:xfrm flipH="1">
            <a:off x="6858000" y="198108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 flipH="1">
            <a:off x="6858000" y="34290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 flipH="1">
            <a:off x="6858000" y="441972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6858000" y="525780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 flipH="1">
            <a:off x="6858000" y="6095880"/>
            <a:ext cx="99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28600" y="1371600"/>
            <a:ext cx="6629400" cy="5381640"/>
            <a:chOff x="228600" y="1371600"/>
            <a:chExt cx="6629400" cy="5381640"/>
          </a:xfrm>
        </p:grpSpPr>
        <p:sp>
          <p:nvSpPr>
            <p:cNvPr id="328" name="Text Box 6"/>
            <p:cNvSpPr/>
            <p:nvPr/>
          </p:nvSpPr>
          <p:spPr>
            <a:xfrm>
              <a:off x="3429000" y="1371600"/>
              <a:ext cx="3429000" cy="1281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Environment</a:t>
              </a: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&amp; organizational context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7"/>
            <p:cNvSpPr/>
            <p:nvPr/>
          </p:nvSpPr>
          <p:spPr>
            <a:xfrm>
              <a:off x="3429000" y="2971800"/>
              <a:ext cx="3429000" cy="885960"/>
            </a:xfrm>
            <a:prstGeom prst="rect">
              <a:avLst/>
            </a:prstGeom>
            <a:solidFill>
              <a:srgbClr val="b9efe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Workgroup &amp; team effectivenes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8"/>
            <p:cNvSpPr/>
            <p:nvPr/>
          </p:nvSpPr>
          <p:spPr>
            <a:xfrm>
              <a:off x="3429000" y="4191120"/>
              <a:ext cx="3429000" cy="489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system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9"/>
            <p:cNvSpPr/>
            <p:nvPr/>
          </p:nvSpPr>
          <p:spPr>
            <a:xfrm>
              <a:off x="3429000" y="5029200"/>
              <a:ext cx="3429000" cy="489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proces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0"/>
            <p:cNvSpPr/>
            <p:nvPr/>
          </p:nvSpPr>
          <p:spPr>
            <a:xfrm>
              <a:off x="3429000" y="5867280"/>
              <a:ext cx="3429000" cy="885960"/>
            </a:xfrm>
            <a:prstGeom prst="rect">
              <a:avLst/>
            </a:prstGeom>
            <a:solidFill>
              <a:srgbClr val="b9ef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Changes in outcome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6"/>
            <p:cNvSpPr/>
            <p:nvPr/>
          </p:nvSpPr>
          <p:spPr>
            <a:xfrm>
              <a:off x="228600" y="2971800"/>
              <a:ext cx="2590920" cy="885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Garamond"/>
                </a:rPr>
                <a:t>Practice coachi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Line 27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  <a:ea typeface="华文中宋"/>
              </a:rPr>
              <a:t>Evaluation Metho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Quasi-experimental design with three arm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ntervention, internal control, and external control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162720" indent="-1627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Implementation assessment through site visi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and organizational contex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actice coach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rceived impact &amp; lessons lear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6272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00ff99"/>
              </a:buClr>
              <a:buFont typeface="Wingdings" charset="2"/>
              <a:buChar char=""/>
              <a:tabLst>
                <a:tab algn="l" pos="2768760"/>
                <a:tab algn="l" pos="5537160"/>
                <a:tab algn="l" pos="830592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cess &amp; outcomes assessm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icipants perceived impa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96880" indent="-16272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Garamond"/>
              <a:buChar char="•"/>
              <a:tabLst>
                <a:tab algn="l" pos="2768760"/>
                <a:tab algn="l" pos="5537160"/>
                <a:tab algn="l" pos="830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DIS diabetes care indicators &amp; utilization meas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: Context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vironmen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hallenging, but not about survi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rganizatio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mmit to improving chronic illness care and have some ongoing activ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dership supp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the project: mod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rovement experi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ve previous and ongoing improvement projects; experience var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ticipa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“Majority” adopters of CCM; randomized to participate so modest level of excit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on syste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Average cumbers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15:36Z</dcterms:created>
  <dc:creator>Alan Wu</dc:creator>
  <dc:description/>
  <dc:language>en-US</dc:language>
  <cp:lastModifiedBy>Rasa</cp:lastModifiedBy>
  <cp:lastPrinted>2009-10-19T17:18:52Z</cp:lastPrinted>
  <dcterms:modified xsi:type="dcterms:W3CDTF">2009-10-26T01:42:06Z</dcterms:modified>
  <cp:revision>107</cp:revision>
  <dc:subject/>
  <dc:title>Coaching Primary Care Practice Teams for Improving Chronic Illness Care</dc:title>
</cp:coreProperties>
</file>