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ED08-7CEC-4415-AF2C-94CDD7A4C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F62-EC66-4988-85AE-C76D32D4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3C4E-F0D1-494F-9B99-2565A213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D907-9940-4244-9AD0-948F8F55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E524-D2FB-4FE7-9914-C992D001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47CC-CD54-4CE7-8637-1CB62827D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D311-9FF1-4E14-B1D1-368E1291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871B-1718-46EF-9833-FB9CCBBB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FA7-C5C2-48C8-AFF6-D36B896C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3C84-5A29-47C7-A93B-54F1062B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DA2-516A-4413-B501-E85E0E43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5E57-D5AD-4EA6-9058-288143218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CD20-1094-4636-9D8B-29B9724E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2A9-2AB6-4705-9EDE-25A58125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FEB-AC7D-4810-B997-C61A60F0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8C2-FFD3-4321-8444-477750880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095-5BCC-40CA-ADF8-693C0FBB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001-95AB-4152-A5A7-1CE23CBE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859c"/>
                </a:solidFill>
                <a:latin typeface="Calibri"/>
              </a:rPr>
              <a:t>Acknowledgemen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Iowa - College of Public H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Health Management and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for Health Policy and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in part by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475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gency for Healthcare Research and Quality through grant # HS015009 – “HIT Value in Rural Hospital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886-343A-40B7-B4DD-DED5E4CB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2C3A-AB49-4768-BBB4-0398A7C79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058D-53C5-4B4C-9ADC-E5705763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249D-1170-47EB-A37C-FF69A711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22D-059D-491A-8393-F3B578D8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3B47-AD35-4ACF-A205-4C069EB29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92CF-1099-4B5C-82D9-DAB04FC39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D65-D24A-4ABA-9BDE-1508B81FD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554-7EFB-42E7-820C-559CB567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62C-EF42-4FBF-A138-5D1AE09D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27F4-5F8B-4F3E-B24F-290BCA16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3E177-FA5B-4EC2-88AE-ADD2CC3A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E3743-737D-4874-9BE8-D77CA7F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40666-32C5-431E-810F-F7A6A6F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7B5A1-48D7-4B0A-BC9D-BF2860DB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D61F5-A63C-4B57-B339-1DE3EC38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98D35-CEA4-4FC1-A535-B48B0E6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4C743-0116-4C0C-A8A7-1E7959EE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B6FFF-584A-45A2-B814-A547F47C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8832E-9DED-49A3-9550-1E09F149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B58-31EB-4F21-AE7B-8D9A3D42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B3C71-A1C2-44F6-89D4-3794C006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2B927-45EA-40B0-936E-F258028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D11DA-DD3D-4F0E-8F90-C4C40DA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EEEDD-C308-449D-8AA7-DE88F86F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129D2-0F6C-4523-827D-784BC695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F98AB-AB3A-46DE-A87A-0C6AD234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DF6C2-6148-4A86-9122-A8F2F54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7E221-A0DE-4176-A209-9F1687A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F52BD-F9F8-4CA4-ACFD-8204AD73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73649-5E0E-4D35-9191-EC8A280F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EF8-40D8-4048-B3E5-EBD45473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6600A-0018-41F8-B784-A27BA45E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C454-472C-453F-87CC-E9069A05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AECC-08ED-4B28-B262-2C0AD3E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AB07-C525-4516-8ABF-8F2B09C6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FC78-E8DA-4CD8-84FE-266824D0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972-A533-44BC-8E72-BB379035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FB67-7377-4B31-A09B-88CA146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941D-5335-4ED5-B693-CFA7A2C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E48-7038-4A00-910F-35B5642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3290-5962-455C-BE89-DCC288F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BEC1-5421-4A4C-94D3-9B01F82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E189-EE42-403C-805E-78868F91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74F5-AF84-49B7-8A81-79792A4C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0D2F-BFA2-473B-A791-C6E27B32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EB8F8-8C9C-4C0B-96E0-24FE1A90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14235-99E8-4072-A1DF-92DF820F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73542-174D-40EC-98F0-0CCD12C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B49E7-559C-4FA9-BECD-56DF24B5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96939-1402-4C71-A2D3-846F0068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C35-DAE1-43A4-B07A-E124BFEE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08E2C-A5E5-4ACD-B9DB-72B2FD0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874E4-975C-4F65-9E3A-1FBAE0F0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E7884-D89E-4EF6-A8D6-A34B3B03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5416B-E4C1-489D-A076-290593B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54A9A-703E-464A-99A1-E8D82BBA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E734A-041B-4E88-A5D7-F88BCA4E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76F8B-E0CB-473F-9843-EBC6F4AF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886CF-8F12-444D-A91C-0073687F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3CFB8-11E5-4E40-A40B-5379918E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56460-5754-4273-A949-3DBF677C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285-FB1D-4F1F-90DD-395E320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5B703-11AB-4A07-9672-F4AF005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FD64B-0D73-47B4-97C7-5C2C4088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A2836-13BE-4A4C-8543-0BB0A1C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E0890-290C-4E28-A21A-F0BFAB6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BA208-7F5F-4073-9599-D429905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5583C-581D-4FC0-B467-2439398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ADFA7-6C89-4312-9B44-FB780B18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70D57-AE37-49A0-BEBD-0A1C1457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42F0A-4127-4867-864D-00EEBEAE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A0480-EA87-441C-897F-9DC6F131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4EB-F6C7-4B5A-85DF-F3312DC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B17F93-99BB-4637-AF61-9F899A3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C3BA3-5E39-460E-A070-F174F86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62704-4001-49AC-8D58-611E8AE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39B6F-D21A-4F9C-B4BD-79992082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E53B7-C539-48A4-AEB2-009BA3BC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C86D0-A047-47A9-A23F-DCEBCE2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223B7-5E85-4C8A-B1A9-41255A9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1FFB7-3BD7-4B18-BC59-450F6F7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5CAA4-2B5B-41B0-A099-5359436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10358-2105-40A3-A495-211B1716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A13-B442-4FFE-AE6D-A639231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ABFF1-5AFB-4BB0-9A00-56383B1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9CFE-458A-4605-9987-F2E6D479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EAEF-5137-406F-8957-D08420B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5683F-4129-438D-8A97-5037ACDE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E36F-2ED3-4334-8832-5F11EE6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53092-8123-46F7-8B72-C4CDE5E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9CE6-C81B-4C69-9356-4A7C2BA1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A15DA-C032-4426-B670-2B2E5D0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0DAE-DB36-46DE-A951-A3A4D7F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A708-4326-443D-B306-4A12088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017-EE82-4523-B859-221DC700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2F3FD-9B30-4FD3-86D2-209A569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F86E-D704-4E0D-928F-3378F7CF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F08B3-656A-4F65-B8F9-42373DB0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4F2C7-CABD-4FBF-A948-F8A9675B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AF02A-3926-4A33-8053-D52E5CA6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C6C19-60A0-4413-939E-AE871EB7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1B92E-1971-425B-985A-F752323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7FF23-4123-4EAA-8B83-824B7CF8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8CB66-55FE-4121-A7F1-B13F3465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B20B0-A56A-4DEA-86DC-41685E75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608-86A0-4838-83E5-58A11D60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E2BA2-5AC9-4484-BE8F-B7E67AD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0BFEB-4EF6-46A0-8315-121DDF2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FD38E-3354-4786-861F-E1B8BD6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9656B-87AB-420B-B9DA-C6023EEF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0D59D-6070-4FA9-BD4A-527DDB23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129C7-E8C3-4555-853A-6858DEFD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47B7A-D399-4C68-BE9F-93BD99BA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1428-C674-41ED-AE43-325CB6DC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1DD28-51B7-48F2-A576-EDBA12B2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3F293-F3B8-4673-AEC5-7E0B6121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56E-140D-4535-B2C8-2E8ACBD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57FCC-C80E-4D4E-A24D-B3D33E8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6B2E-9E52-4AFD-8E7B-3AEE595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58CC9-2C72-4E1A-904E-034A48B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7EFC6-90CA-4672-89D4-C31CE27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8271-31C6-43B3-887A-20A3BB42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8F5A3-4162-490B-82A9-69975005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C082-8F26-4D43-B7C6-0F5A7695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82FAE-0B2B-42D9-A0DF-76B569C2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B823A-C505-4D76-BA1A-7954B3A0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89722-7AAB-4CD9-8D4C-F7824B0C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06B4-C69E-4075-ADD7-6C427A7D37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BD1D-3FAE-407B-AEF7-EC87FC5230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4690-F7B3-4685-B2BD-7FAD83379A41}" type="slidenum">
              <a:rPr b="1" lang="en-US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BAB7-68B5-4C1B-A479-AB673D966D0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1551-0135-4A34-A4CA-36B91365C8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69B7-99B2-4463-A741-118EEC30BC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3022-C31D-4DCE-9E22-14D6A93271EC}" type="slidenum">
              <a:rPr b="1" lang="en-US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E117-1428-4388-9C73-EE8E407FB67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333F-BCEA-42A6-8E81-CA9549EBDF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4E3C-AB41-4A70-9C76-436C6AEFB4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535880" cy="22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CRITICAL ACCESS HOSPITAL CLINICAL INFORMATION SYSTEMS AND HIT STRATEGIES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1625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Marcia M. Ward Ph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Verdana"/>
              </a:rPr>
              <a:t>James Bahensky 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HRQ Annual Meeting -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llege of Public Healt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EHR/EMR Systems in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70" name="Content Placeholder 3" descr=""/>
          <p:cNvPicPr/>
          <p:nvPr/>
        </p:nvPicPr>
        <p:blipFill>
          <a:blip r:embed="rId1"/>
          <a:stretch/>
        </p:blipFill>
        <p:spPr>
          <a:xfrm>
            <a:off x="433440" y="1212840"/>
            <a:ext cx="8197920" cy="5346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Graphic - portable hospital computer"/>
          <p:cNvPicPr/>
          <p:nvPr/>
        </p:nvPicPr>
        <p:blipFill>
          <a:blip r:embed="rId2"/>
          <a:stretch/>
        </p:blipFill>
        <p:spPr>
          <a:xfrm>
            <a:off x="7543800" y="2286000"/>
            <a:ext cx="1219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POE and CDSS Use in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73" name="Content Placeholder 3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181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EMR Stages –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Garets and Davis Model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0" y="1523880"/>
          <a:ext cx="9144000" cy="5272200"/>
        </p:xfrm>
        <a:graphic>
          <a:graphicData uri="http://schemas.openxmlformats.org/drawingml/2006/table">
            <a:tbl>
              <a:tblPr/>
              <a:tblGrid>
                <a:gridCol w="1012680"/>
                <a:gridCol w="5640480"/>
                <a:gridCol w="243000"/>
                <a:gridCol w="224784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l Three Ancillaries (Lab, Rad, Pharmacy) Not Instal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9.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cillary systems installed in all three (Lab, Rad, Pharma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.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inical data repository (CDR), computerized medical vocabulary (CMV), Clinical Decision Support System (CDSS) inference engine, may have Document Imag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9.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inical documentation (flow sheets), CDSS (error checking), PACS available outside Rad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uterized Provider Order Entry (CPOE), CDSS (clinical protoco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.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losed loop medication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ysician documentation (structured templates), full CDSS (variance &amp; compliance), full PA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ge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dical record fully electronic; CDO able to contribute to EHR as byproduct of EM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dec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HIMSS Analytics Stage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of EMR in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0880" y="16765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HIMSS Analytics 8-stage model for the measurement and understanding of EMR capabilities in hospital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the current survey indicates that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3% are in Stage 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% are in Stage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% are in Stage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% are in Stage 3 or hig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8" name="Content Placeholder 7" descr="Bar graph - CAH %. Stage 0, 1, 2, 3 or higher"/>
          <p:cNvPicPr/>
          <p:nvPr/>
        </p:nvPicPr>
        <p:blipFill>
          <a:blip r:embed="rId1"/>
          <a:stretch/>
        </p:blipFill>
        <p:spPr>
          <a:xfrm>
            <a:off x="838080" y="388620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AH Business Strategie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for HIT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urvey of 70 CAHs in Iowa indicates use levels of IT applications that are quite similar to those found in a 2006 national survey of CAH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suggesting that the current survey findings are generaliz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survey and follow-up interviews in 16 CAHs with EMR indicat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ost common strategy was the “best of breed” where the best available system is purchased for each specific purpos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cond common purchasing strategy was to incrementally add systems from a single ven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AH IT Staff Resources – Number of FTE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hird of the CAHs do not employ any I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 only employ 1 to 2 I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wer than 5% of CAHs employ more than 5 I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2" descr="Bar graph - Number of FTE IT Staff, Percent of CAHs"/>
          <p:cNvPicPr/>
          <p:nvPr/>
        </p:nvPicPr>
        <p:blipFill>
          <a:blip r:embed="rId1"/>
          <a:stretch/>
        </p:blipFill>
        <p:spPr>
          <a:xfrm>
            <a:off x="838080" y="4038480"/>
            <a:ext cx="7162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AH Use of External Staff Resource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ternal IT Consult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tsourcing IT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 System Providers (AS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% use external IT consul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% of CAHs use outsourcing to meet their IT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40% of CAHs use ASP to support their clinical appl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011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Hs use external IT consultan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% to a great ex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 to a large ext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than 40% of CAHs outsour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 instal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ical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twork oper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s development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CAHs that use an ASP vendor, only 9% use this approach to a great ex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Approaches for CAH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with Few IT Staff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AHs with fewer IT staff use outsourcing more (r = 0.72)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18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AHs with no IT staff used outsourcing more to meet their needs for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installation (p&lt;.05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cal support (p&lt;.0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support (p&lt;.000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 operations (p&lt;.02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 desk (p&lt;.01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raining (p&lt;.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sourced their full IT department (p&lt;.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Staffing for HIT: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Chicken or Egg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Hs rely on outsourcing more than larger hospitals to meet their IT nee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Hs that have not yet installed an EMR commonly operate without any IT staff whereas CAHs with an operational EMR tend to have at least a handful of in-house IT personnel - which comes first – staff or EM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-up interviews indicate that some CAHs       purchased EMR systems and then hired IT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1199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CAHs hired IT staff to he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MR decision/installation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3" descr="Image - cartoon chicken and egg"/>
          <p:cNvPicPr/>
          <p:nvPr/>
        </p:nvPicPr>
        <p:blipFill>
          <a:blip r:embed="rId1"/>
          <a:stretch/>
        </p:blipFill>
        <p:spPr>
          <a:xfrm>
            <a:off x="7010280" y="4800600"/>
            <a:ext cx="1576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HIT Business Strategies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for CAH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091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Hs still lag behind larger hospitals in IT, especially clinical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CAHs are more financially able to purchase or upgrade HIT now because of increased revenue related to Medicare billing policy chan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1800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Hs are dividing into two groups in terms of H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1040">
              <a:lnSpc>
                <a:spcPct val="80000"/>
              </a:lnSpc>
              <a:spcBef>
                <a:spcPts val="1800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Hs that are part of healthcare systems benefit in terms of having access to system technology and IT staff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1040">
              <a:lnSpc>
                <a:spcPct val="80000"/>
              </a:lnSpc>
              <a:spcBef>
                <a:spcPts val="1800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, rural CAHs have considerable difficulty finding IT staff and when they purchase EMRs, those EMRs have fewer functionalities (e.g., no CPOE or C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1040">
              <a:lnSpc>
                <a:spcPct val="80000"/>
              </a:lnSpc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33520" y="15238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pital size has been shown to have a systematic relationship to implementation of health information technology (HIT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mall hospitals that convert to Critical Access Hospital (CAH) status, their Medicare payment methodology changes from a prospective payment system (PPS) to retrospectiv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-base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spcBef>
                <a:spcPts val="1199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Hs’ positive finances ha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ted many to refurbis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ing facilities, enh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 quality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invest 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5" descr="Picture Gothenburg-Hospital_nebraska"/>
          <p:cNvPicPr/>
          <p:nvPr/>
        </p:nvPicPr>
        <p:blipFill>
          <a:blip r:embed="rId1"/>
          <a:stretch/>
        </p:blipFill>
        <p:spPr>
          <a:xfrm>
            <a:off x="5638680" y="4495680"/>
            <a:ext cx="324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EMR Follow-up Interview Methods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1624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ing data from the 2005 HIT Survey, we identified 15 Iowa CAHs that had or were implementing EM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1624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eveloped interview guides and conducted follow-up on-site interviews with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E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IO/HIT Manag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hief of Nursing and/or Quality Dir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1624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pes of the interviews were transcribed and two analysts reviewed transcriptions multiple times to identify themes in responses to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318960">
              <a:lnSpc>
                <a:spcPct val="70000"/>
              </a:lnSpc>
              <a:spcBef>
                <a:spcPts val="1624"/>
              </a:spcBef>
              <a:buClr>
                <a:srgbClr val="53548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Verdana"/>
              </a:rPr>
              <a:t>Decision to Implement EMR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beliefs that EMR will becom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ave of the futu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will be mandated in the near fu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hospital’s culture that emphasiz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taying ahead of the cur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arly adopters),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taining to new technology and innov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based on a desire to be comparable to and compete with larger hospitals—a goal and vision that administration and staff took ownership o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61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Verdana"/>
              </a:rPr>
              <a:t>Decision to Implement EMR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05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influenced by system affili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desire to improve efficiency, timely access, and quality, which would facilitate more patient-centered c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the initial need to improve their financial process (e.g. accurate and timely billing proces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me 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cision to implement EMR was driven by inadequacy of the stand-alone systems that were not integra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Verdana"/>
              </a:rPr>
              <a:t>EMR Follow-up Interview Analyses</a:t>
            </a:r>
            <a:endParaRPr b="0" lang="en-US" sz="32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43808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themes to initial “why and how” questions we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rchases of EMR systems were largely made because of legacy systems, network influence, or wanting to stay current with larger hospit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cess of choosing EMR system and vendor varied across hospita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1437"/>
              </a:spcBef>
              <a:buClr>
                <a:srgbClr val="53548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spitals had made little effort to track benefits and thus had little knowledge of benefi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References</a:t>
            </a: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erican Hospital Association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tinued Progress - Hospital Use of Information Technolog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aha.org/aha/content/2007/pdf/070227-continuedprogress.pdf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 P, Bahensky JA, Jaana M, Ward MM. Role of multihospital system membership in electronic medical record adoption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ealth Care Management Review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33(2): 1-9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merican Hospital Association.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orward Momentum: Hospital Use of Information Technolog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Chicago, IL: American Hospital Association. 200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 P, Schneider JS, Ward MM. The effect of critical access hospital conversion on patient safety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ealth Services Researc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42: 2089-2108,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ensky JA, Frieden R, Moreau B, Ward MM. Critical Access Hospital informatics.  How two rural Iowa hospitals overcame challenges to achieve IT excellence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J of Healthcare Information Manage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22(2): 16-22, 2008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owa Hospital Association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rofiles; Section VI: Hospital and Health System Specific Dat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2005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www.ihaonline.org/publications/profileserv/profileserv.shtm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Accessed October 25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ets D and Davis M.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lectronic medical records vs. electronic health records: Yes, there is a differen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HIMSS Analytics. January 26, 200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www.himssanalytics.org/docs/WP_EMR_EHR.pd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7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ex Monitoring Team. The current status of health information technology use in CAHs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lex Monitoring Team Briefing Paper No. 1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 May 2006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http://www.flexmonitoring.org/documents/BriefingPaper11_HIT.pd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Accessed October 25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Acknowledgements</a:t>
            </a:r>
            <a:r>
              <a:rPr b="0" lang="en-US" sz="4400" spc="-1" strike="noStrike">
                <a:solidFill>
                  <a:srgbClr val="42445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3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niversity of Iowa - College of Public Healt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artment of Health Management and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er for Health Policy and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374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unded in part by: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cy for Healthcare Research and Quality through grant # HS015009 – “HIT Value in Rural Hospital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Research Objectives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4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goal of this study was to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view the rural landscape in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use of HIT by examining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AHs in Iowa, a predominantl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ural state with a large samp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f CAH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438086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 help understand the variability in HIT use by CAHs, business strategies for supporting HIT implementation are examined and the relationship between common approaches and HIT use is explored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Content Placeholder 5" descr="picture hosp_sign_rural"/>
          <p:cNvPicPr/>
          <p:nvPr/>
        </p:nvPicPr>
        <p:blipFill>
          <a:blip r:embed="rId1"/>
          <a:stretch/>
        </p:blipFill>
        <p:spPr>
          <a:xfrm>
            <a:off x="6553080" y="1600200"/>
            <a:ext cx="228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Verdana"/>
              </a:rPr>
              <a:t>2005 HIT Survey of Iowa Hospitals - Approach</a:t>
            </a:r>
            <a:endParaRPr b="0" lang="en-US" sz="29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1749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part of the AHRQ grant, in Fall 2005 we developed a new survey of Iowa hospital clinical information systems.  This survey consisted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1437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information on hospital IT services, network influence, connectiv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1437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pproaches to IT staffing, outside servi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1437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inventory of clinical information systems to determine the level of systems in each hospit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Our Survey of HIT Capacity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914400" y="1447920"/>
          <a:ext cx="7620120" cy="1482480"/>
        </p:xfrm>
        <a:graphic>
          <a:graphicData uri="http://schemas.openxmlformats.org/drawingml/2006/table">
            <a:tbl>
              <a:tblPr/>
              <a:tblGrid>
                <a:gridCol w="3886200"/>
                <a:gridCol w="373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0" y="1219320"/>
          <a:ext cx="9144000" cy="5638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– profile of the hospital in terms of technology resour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– actual technology applications used for business and clinical oper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2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e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number of IT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nt of use of consultants, vendors, A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the hospital was part of a net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 Collecte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 HIT applications, both business and clin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ther each application was operational, being installed, or in the planning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Options – 5 point Likert-type scales (ranging from “not at all” to “a great deal”) for extent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Options – for applications currently operational, being installed, or budgeted, information on the chosen vendor was coll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Hospital Distribution </a:t>
            </a:r>
            <a:br>
              <a:rPr sz="4000"/>
            </a:b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in Iowa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2971800" cy="4343400"/>
          </a:xfrm>
          <a:prstGeom prst="rect">
            <a:avLst/>
          </a:prstGeom>
          <a:solidFill>
            <a:srgbClr val="438086"/>
          </a:solidFill>
          <a:ln cap="sq" w="50760">
            <a:solidFill>
              <a:srgbClr val="438086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rvey was mailed to all hospitals in Iowa (N=11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82 Iowa hospitals are designated as CAHs – the focus of these analyse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0" name="Content Placeholder 9" descr="pie chart - hospital distribution in iowa"/>
          <p:cNvPicPr/>
          <p:nvPr/>
        </p:nvPicPr>
        <p:blipFill>
          <a:blip r:embed="rId1"/>
          <a:stretch/>
        </p:blipFill>
        <p:spPr>
          <a:xfrm>
            <a:off x="3809880" y="198108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Who Responded?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743200" cy="4343400"/>
          </a:xfrm>
          <a:prstGeom prst="rect">
            <a:avLst/>
          </a:prstGeom>
          <a:solidFill>
            <a:srgbClr val="438086"/>
          </a:solidFill>
          <a:ln cap="sq" w="50760">
            <a:solidFill>
              <a:srgbClr val="438086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all, 85% of hospitals and 85% of CAHs (N = 70) returned completed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the CAHs, half of the responses were from the CEO, COO or CFO, and almost half were from the CIO or I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3" name="Content Placeholder 9"/>
          <p:cNvGraphicFramePr/>
          <p:nvPr/>
        </p:nvGraphicFramePr>
        <p:xfrm>
          <a:off x="3048120" y="2362320"/>
          <a:ext cx="5715000" cy="373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Content Placeholder 9" descr="pie chart - who responded, CEO, COO, CFO vs. CIO, IT Manager vs. Other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362320"/>
                    <a:ext cx="57150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8462e"/>
                </a:solidFill>
                <a:latin typeface="Verdana"/>
              </a:rPr>
              <a:t>Basic IT Use in CAHs</a:t>
            </a:r>
            <a:endParaRPr b="0" lang="en-US" sz="44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66" name="Content Placeholder 3" descr=""/>
          <p:cNvPicPr/>
          <p:nvPr/>
        </p:nvPicPr>
        <p:blipFill>
          <a:blip r:embed="rId1"/>
          <a:stretch/>
        </p:blipFill>
        <p:spPr>
          <a:xfrm>
            <a:off x="480960" y="1206360"/>
            <a:ext cx="822492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461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462e"/>
                </a:solidFill>
                <a:latin typeface="Verdana"/>
              </a:rPr>
              <a:t>Business and Clinical Applications</a:t>
            </a:r>
            <a:endParaRPr b="0" lang="en-US" sz="4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468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3390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6:17:07Z</dcterms:created>
  <dc:creator>Ward</dc:creator>
  <dc:description/>
  <dc:language>en-US</dc:language>
  <cp:lastModifiedBy>Char</cp:lastModifiedBy>
  <dcterms:modified xsi:type="dcterms:W3CDTF">2009-10-28T00:15:37Z</dcterms:modified>
  <cp:revision>228</cp:revision>
  <dc:subject/>
  <dc:title>Critical Access Hospital Clinical Information Systems and Hit Strategies</dc:title>
</cp:coreProperties>
</file>