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3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ftr" idx="3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 type="sldNum" idx="3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5F9B-B73D-4434-803A-4C22D59AF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7428-0723-4FD8-BEBF-0EFB18779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DEEE-6AE3-4040-B47C-FB0833F8E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DADB-3E0E-41E8-9C80-5741518AA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DD81-5BE6-4ACF-A325-CBF889AE6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1901-B838-4844-A0F2-4F823DB3E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51AF-17BF-4902-84FF-E6E58029F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9787-FE86-4352-B027-5BFA811EE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D9F2-FC88-4613-9F15-03A29A6B9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B861-D54E-401A-B8A0-F1AC5D8D4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E878-7CE7-4DFD-ABFE-F1A726F72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3539-4043-4E83-9DBE-F204BD0FA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8FC2-E836-47F0-A30D-848584052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5A24-8FBA-45FA-9924-46BCE25C1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3DC0-4B39-4612-AB40-DB601B15D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6E34-2E59-4EE0-8354-AB4FEA3DF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3E63-328A-4858-AC60-5294372B9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3021-385A-47F0-A2A8-F0694AE26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1859c"/>
                </a:solidFill>
                <a:latin typeface="Calibri"/>
              </a:rPr>
              <a:t>Acknowledgemen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versity of Iowa - College of Public Heal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47560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 of Health Management and Poli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47560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 for Health Policy and Re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ed in part by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47560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gency for Healthcare Research and Quality through grant # HS015009 – “HIT Value in Rural Hospital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8F10-C7F2-4820-8E98-DE5D7BDEA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4104-D0BE-4DCA-A05E-6B1F70526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C91A-AE31-4CD2-B7F3-D4CFB728B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C118-0F22-4EE6-830A-BAAC46ECC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88A5-A2A2-4DD9-814C-D5E150C7F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67BD-9EC8-475A-8501-31568A5DC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7456-5701-4F61-B838-59BA98878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71B4-25AB-4715-930E-0BF075288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3F6-7FFE-4BB2-9024-41E4FACE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2C0-5526-4278-A124-8BE54930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5C44C-7AC6-4CAF-BB41-65B7400F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419EB-7B65-4DF9-9848-C38FB59B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9CC36-6591-45D4-B83A-D4D5C8B4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4E52E-5E1F-4E15-9537-D3E9C19D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94894-78C5-4658-9EB3-696AC349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C1B19-DF30-4872-A0D6-C74F57E4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D37D6-7E1E-4274-9174-4F6D6157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909A6-8047-4BEB-A897-86053EE9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403FA-1321-4D11-A50F-CBFDBC5B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7E5AB-F7CD-4617-BF1B-7FFA3513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0624-3AAC-4347-A9BC-19E0B70D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02156-8DA4-464D-9046-BFFD05E8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9A5BC-2FA0-456F-A3BF-7D248704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9108E-1589-42FD-BF01-4C291AF2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FD063-1F43-45BD-A66A-08054738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49402-7C44-4999-84C7-DF3971E1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A969F-326E-490A-B945-3E4EB4CC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FA7C2-F233-4B4A-9795-52069540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9669F-4C83-4163-AD62-51A97FEE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99594-B81C-4679-9F9E-5401C8DB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A1219-5519-4C98-9D4E-C10C0B43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486D-675A-4C36-9098-CCEAA070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7E96A-4523-4013-BEE9-CC735FF3D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7B35-E05C-4745-A190-282A2685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910A-6474-46A9-8FB2-B0D4AB03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AC29-A730-4B64-AB53-D797D8F8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0ED2-74D0-420E-966C-E5B2CA19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A51C-F704-4333-8E99-48A345AE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7A67-45EB-4F5E-B652-34279C79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8AA2-1D5D-4C1F-8EBD-F5593F14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302E-E690-46E2-956F-CD1F73FE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C195-3935-4441-B98B-9252B3C4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C9D3-FB0C-4F83-B0B4-4F6E2BC3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A19A-53EB-4BDF-91DA-37383E23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3C0E-CD30-409A-84D0-01B0BE93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BE8E-9967-4AF4-9708-AC9A6DA7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98F5E4-40B3-44FE-B15F-C1D785CF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B7312-0606-461A-97DB-A4220BBD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3993D2-8DA7-4BF6-8504-A84212EF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4CF4D-3E62-44FA-8A5D-D63E797E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A393E3-B4EA-4351-B591-C0B13858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BE3A-77C4-4B4B-9259-12AF7991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11DA1-00E1-4FD7-80BE-0D401D7A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500103-8369-423F-8DAD-1DC785A2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F1925B-FD1C-4631-9973-D39FC64F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49DD61-F323-4594-B5D6-FC94F109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97FC27-F0F5-4EE3-974A-BEF540FC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08156-4E11-4A39-9470-E086D41B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C1D3EC-0FB8-4ECD-A6BA-ECDA7BA8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FAFBA5-8CDC-4960-8C3C-6D09EE45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9503E5-EE2E-4B59-828E-482CBF78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BB5DC7-183C-428E-8BD5-789DF7AB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1BEA-5430-4B64-A382-D750E699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B14A75-F5B3-4453-B99B-45E58236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76207E-7697-45BC-8687-4C2BC069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FC3138-FFCC-4E69-B458-0CD05A38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0B62F7-67A3-41E0-A327-9777621B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B0BA99-91A9-4345-B699-E0C05720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A18C67-F1D7-46BC-B74B-3DCCE806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FE6A09-E483-4CF8-9691-DA0F1AE9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2FAA43-FF4A-49E3-941F-B0F2AB23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CF66F2-4781-47B1-AD7A-E67B32F3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C349D9-6DA0-4B3F-BF7D-B0DAEF21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F9C8-90AE-45F4-826F-38B516B7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37C177-D7BB-4B94-B6F8-A8C2CFCC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A5B72C-5D54-43CD-936C-DEEE1801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CB6142-9311-488D-B60E-90153AC4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1C8DBF-D4A1-40E2-9828-69D5462D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4B844F-9151-4BB9-9E8B-410D42F4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2E1BB9-8EAE-4DDF-A70C-C6C472BF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986D17-470A-4E16-BFC1-49607AF4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C3DB75-2F46-4294-AD6B-ECC704DA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378D18-8E4E-42A2-851E-F66468A0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4E666E-FBEB-4CA7-9738-68F4AA94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BC47-DB02-42DF-8431-BCA89635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B17048-6770-46B6-A335-AC95A50A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F5B84-81C0-4288-AAFC-02B01137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BD738-CB41-4820-B5D6-CA70E11A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9B26E-A2A9-415B-8AFE-1CF54587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5B6BC-DC35-4F4D-B8E2-76FDEA2D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8B885-1294-4984-B0D2-293F8610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66E7F-8108-417F-AD79-98A849AD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BC2C2-21AC-4BC9-98A9-B35FC0AD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7DC21-B0E1-448E-9C8E-466A6515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E6802-7EE7-43A7-BB94-B885A636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2C49-8632-40E3-A104-4C480D55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9BD27-E969-4E65-B984-27972D87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6D366-D3B8-4DEB-94A1-5C9800F3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C359E-AA50-4579-AFF5-B9697138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DBCDE5-E6A7-471E-81AC-6ED99EAB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6E4E1B-B26D-40EA-9055-2445B023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28EFEF-5361-49EA-B426-3103A8EB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26CFD3-563D-42E5-A036-14B79B7C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B6E726-26D5-4E7C-86A2-DC724D0A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3B99F2-CB43-472A-9503-8ACFF532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A3DA21-6433-45B5-A4D2-0DB3BE88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E3B3-14DD-4AC6-9738-272491D3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65A18D-06FE-4F63-ACAC-672DC270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C81380-9377-4E45-9228-29547F7C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E052CD-0CBF-4ED4-AFEF-EF1B5995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DE21E0-37C5-4118-8DE6-B0407A03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0A5458-FF73-4A15-A2D3-5B3F7032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5E581-678E-42FA-BCF0-3A4BB306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FDD78-997C-474E-86FB-8DADF3BE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CA8A2-A052-4459-A9EE-B2D4325C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3632D-206D-426E-AFC9-72F70F09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D2404-3BCF-4317-B2EB-2921E873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AB79-98D8-4073-81EC-C5713DCF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C2E50-ED3D-4DED-950B-9F7A245F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FD14A-2D2B-4B04-92C2-81E09C82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7425D-99C3-4022-9464-7EBB0E22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5B10C-8854-4096-B2E9-BF204748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9E1EB-8C0B-4D8F-AF2D-D0C3C2B9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BD4B9-3387-442E-AB1C-842649CF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B9AF7-D16D-42E3-AEDD-07C31D01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6AFEE-75DB-452B-9F67-F85EE2EB4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57144-AEEC-4262-A7AD-AA600849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AE13D-9D95-489B-8BB9-F73C827B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4130-6987-40DF-A79E-B555C12BFAC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2757-BCBF-40FE-A3BB-84885396286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0F4F-D652-4AE0-A47F-484D58831772}" type="slidenum">
              <a:rPr b="1" lang="en-US" sz="14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65D0-93AD-43F2-9722-E8DD5A5C7CE9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124F-2C60-41E2-83C7-4ED669CD205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4A7C-99CC-4864-80B9-236FE5B22AC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3959-EF81-4041-8408-9F74BA262B99}" type="slidenum">
              <a:rPr b="1" lang="en-US" sz="14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DD5B-2A33-4755-B45D-981D391D63A0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70CC-9CC8-4A84-A61C-8F769F55275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51FF-AA8B-49EF-96E4-34E9ABFCAF3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535880" cy="22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4456"/>
                </a:solidFill>
                <a:latin typeface="Verdana"/>
              </a:rPr>
              <a:t>CRITICAL ACCESS HOSPITAL CLINICAL INFORMATION SYSTEMS AND HIT STRATEGIES</a:t>
            </a:r>
            <a:endParaRPr b="0" lang="en-US" sz="32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16256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Verdana"/>
              </a:rPr>
              <a:t>Marcia M. Ward Ph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Verdana"/>
              </a:rPr>
              <a:t>James Bahensky 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HRQ Annual Meeting -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ollege of Public Healt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EHR/EMR Systems in CAHs</a:t>
            </a:r>
            <a:endParaRPr b="0" lang="en-US" sz="4000" spc="-1" strike="noStrike">
              <a:solidFill>
                <a:srgbClr val="424456"/>
              </a:solidFill>
              <a:latin typeface="Verdana"/>
            </a:endParaRPr>
          </a:p>
        </p:txBody>
      </p:sp>
      <p:pic>
        <p:nvPicPr>
          <p:cNvPr id="470" name="Content Placeholder 3" descr=""/>
          <p:cNvPicPr/>
          <p:nvPr/>
        </p:nvPicPr>
        <p:blipFill>
          <a:blip r:embed="rId1"/>
          <a:stretch/>
        </p:blipFill>
        <p:spPr>
          <a:xfrm>
            <a:off x="433440" y="1212840"/>
            <a:ext cx="8197920" cy="53467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Graphic - portable hospital computer"/>
          <p:cNvPicPr/>
          <p:nvPr/>
        </p:nvPicPr>
        <p:blipFill>
          <a:blip r:embed="rId2"/>
          <a:stretch/>
        </p:blipFill>
        <p:spPr>
          <a:xfrm>
            <a:off x="7543800" y="2286000"/>
            <a:ext cx="1219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CPOE and CDSS Use in CAHs</a:t>
            </a:r>
            <a:endParaRPr b="0" lang="en-US" sz="4000" spc="-1" strike="noStrike">
              <a:solidFill>
                <a:srgbClr val="424456"/>
              </a:solidFill>
              <a:latin typeface="Verdana"/>
            </a:endParaRPr>
          </a:p>
        </p:txBody>
      </p:sp>
      <p:pic>
        <p:nvPicPr>
          <p:cNvPr id="473" name="Content Placeholder 3" descr=""/>
          <p:cNvPicPr/>
          <p:nvPr/>
        </p:nvPicPr>
        <p:blipFill>
          <a:blip r:embed="rId1"/>
          <a:stretch/>
        </p:blipFill>
        <p:spPr>
          <a:xfrm>
            <a:off x="444600" y="1359000"/>
            <a:ext cx="818172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4456"/>
                </a:solidFill>
                <a:latin typeface="Verdana"/>
              </a:rPr>
              <a:t>EMR Stages – </a:t>
            </a:r>
            <a:br>
              <a:rPr sz="3200"/>
            </a:br>
            <a:r>
              <a:rPr b="1" lang="en-US" sz="3200" spc="-1" strike="noStrike">
                <a:solidFill>
                  <a:srgbClr val="424456"/>
                </a:solidFill>
                <a:latin typeface="Verdana"/>
              </a:rPr>
              <a:t>Garets and Davis Model</a:t>
            </a:r>
            <a:endParaRPr b="0" lang="en-US" sz="3200" spc="-1" strike="noStrike">
              <a:solidFill>
                <a:srgbClr val="424456"/>
              </a:solidFill>
              <a:latin typeface="Verdana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0" y="1523880"/>
          <a:ext cx="9144000" cy="5272200"/>
        </p:xfrm>
        <a:graphic>
          <a:graphicData uri="http://schemas.openxmlformats.org/drawingml/2006/table">
            <a:tbl>
              <a:tblPr/>
              <a:tblGrid>
                <a:gridCol w="1012680"/>
                <a:gridCol w="5640480"/>
                <a:gridCol w="243000"/>
                <a:gridCol w="2247840"/>
              </a:tblGrid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ge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l Three Ancillaries (Lab, Rad, Pharmacy) Not Install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9.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ge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ncillary systems installed in all three (Lab, Rad, Pharmac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.5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ge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linical data repository (CDR), computerized medical vocabulary (CMV), Clinical Decision Support System (CDSS) inference engine, may have Document Imag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49.6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ge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linical documentation (flow sheets), CDSS (error checking), PACS available outside Radi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ge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uterized Provider Order Entry (CPOE), CDSS (clinical protocol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.8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ge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losed loop medication 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0.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ge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hysician documentation (structured templates), full CDSS (variance &amp; compliance), full PA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0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ge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dical record fully electronic; CDO able to contribute to EHR as byproduct of EM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HIMSS Analytics Stages </a:t>
            </a:r>
            <a:br>
              <a:rPr sz="4000"/>
            </a:b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of EMR in CAHs</a:t>
            </a:r>
            <a:endParaRPr b="0" lang="en-US" sz="4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80880" y="167652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ed on HIMSS Analytics 8-stage model for the measurement and understanding of EMR capabilities in hospitals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the current survey indicates that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72880">
              <a:lnSpc>
                <a:spcPct val="80000"/>
              </a:lnSpc>
              <a:spcBef>
                <a:spcPts val="374"/>
              </a:spcBef>
              <a:buClr>
                <a:srgbClr val="53548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3% are in Stage 0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72880">
              <a:lnSpc>
                <a:spcPct val="80000"/>
              </a:lnSpc>
              <a:spcBef>
                <a:spcPts val="374"/>
              </a:spcBef>
              <a:buClr>
                <a:srgbClr val="53548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5% are in Stage 1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72880">
              <a:lnSpc>
                <a:spcPct val="80000"/>
              </a:lnSpc>
              <a:spcBef>
                <a:spcPts val="374"/>
              </a:spcBef>
              <a:buClr>
                <a:srgbClr val="53548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1% are in Stage 2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72880">
              <a:lnSpc>
                <a:spcPct val="80000"/>
              </a:lnSpc>
              <a:spcBef>
                <a:spcPts val="374"/>
              </a:spcBef>
              <a:buClr>
                <a:srgbClr val="53548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1% are in Stage 3 or hig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38086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8" name="Content Placeholder 7" descr="Bar graph - CAH %. Stage 0, 1, 2, 3 or higher"/>
          <p:cNvPicPr/>
          <p:nvPr/>
        </p:nvPicPr>
        <p:blipFill>
          <a:blip r:embed="rId1"/>
          <a:stretch/>
        </p:blipFill>
        <p:spPr>
          <a:xfrm>
            <a:off x="838080" y="3886200"/>
            <a:ext cx="7772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CAH Business Strategies </a:t>
            </a:r>
            <a:br>
              <a:rPr sz="4000"/>
            </a:b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for HIT</a:t>
            </a:r>
            <a:endParaRPr b="0" lang="en-US" sz="4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533520" y="16765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1199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s survey of 70 CAHs in Iowa indicates use levels of IT applications that are quite similar to those found in a 2006 national survey of CAHs</a:t>
            </a: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suggesting that the current survey findings are generaliz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1199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s survey and follow-up interviews in 16 CAHs with EMR indicat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1199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most common strategy was the “best of breed” where the best available system is purchased for each specific purpose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1199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second common purchasing strategy was to incrementally add systems from a single vend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CAH IT Staff Resources – Number of FTEs</a:t>
            </a:r>
            <a:endParaRPr b="0" lang="en-US" sz="4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third of the CAHs do not employ any IT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lf only employ 1 to 2 IT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wer than 5% of CAHs employ more than 5 IT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2" descr="Bar graph - Number of FTE IT Staff, Percent of CAHs"/>
          <p:cNvPicPr/>
          <p:nvPr/>
        </p:nvPicPr>
        <p:blipFill>
          <a:blip r:embed="rId1"/>
          <a:stretch/>
        </p:blipFill>
        <p:spPr>
          <a:xfrm>
            <a:off x="838080" y="4038480"/>
            <a:ext cx="7162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CAH Use of External Staff Resources</a:t>
            </a:r>
            <a:endParaRPr b="0" lang="en-US" sz="4000" spc="-1" strike="noStrike">
              <a:solidFill>
                <a:srgbClr val="424456"/>
              </a:solidFill>
              <a:latin typeface="Verdana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0" y="1219320"/>
          <a:ext cx="9144000" cy="56386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2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ternal IT Consult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utsourcing IT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ication System Providers (AS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3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1% use external IT consult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% of CAHs use outsourcing to meet their IT n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40% of CAHs use ASP to support their clinical applic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0114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Hs use external IT consultan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% to a great ex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% to a large ext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re than 40% of CAHs outsourc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b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 instal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ical sup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twork operatio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lications development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CAHs that use an ASP vendor, only 9% use this approach to a great ex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10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Approaches for CAHs </a:t>
            </a:r>
            <a:br>
              <a:rPr sz="4000"/>
            </a:b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with Few IT Staff</a:t>
            </a:r>
            <a:endParaRPr b="0" lang="en-US" sz="4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091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AHs with fewer IT staff use outsourcing more (r = 0.72)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18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AHs with no IT staff used outsourcing more to meet their needs for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installation (p&lt;.05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hnical support (p&lt;.01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C support (p&lt;.0001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twork operations (p&lt;.02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lp desk (p&lt;.01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 training (p&lt;.00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sourced their full IT department (p&lt;.0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Staffing for HIT: </a:t>
            </a:r>
            <a:br>
              <a:rPr sz="4000"/>
            </a:b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Chicken or Egg</a:t>
            </a:r>
            <a:endParaRPr b="0" lang="en-US" sz="4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80880" y="16765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438086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Hs rely on outsourcing more than larger hospitals to meet their IT nee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1199"/>
              </a:spcBef>
              <a:buClr>
                <a:srgbClr val="438086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Hs that have not yet installed an EMR commonly operate without any IT staff whereas CAHs with an operational EMR tend to have at least a handful of in-house IT personnel - which comes first – staff or EM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72880">
              <a:spcBef>
                <a:spcPts val="1199"/>
              </a:spcBef>
              <a:buClr>
                <a:srgbClr val="53548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llow-up interviews indicate that some CAHs       purchased EMR systems and then hired IT staf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72880">
              <a:spcBef>
                <a:spcPts val="1199"/>
              </a:spcBef>
              <a:buClr>
                <a:srgbClr val="53548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CAHs hired IT staff to hel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EMR decision/installation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Picture 3" descr="Image - cartoon chicken and egg"/>
          <p:cNvPicPr/>
          <p:nvPr/>
        </p:nvPicPr>
        <p:blipFill>
          <a:blip r:embed="rId1"/>
          <a:stretch/>
        </p:blipFill>
        <p:spPr>
          <a:xfrm>
            <a:off x="7010280" y="4800600"/>
            <a:ext cx="1576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10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HIT Business Strategies </a:t>
            </a:r>
            <a:br>
              <a:rPr sz="4000"/>
            </a:b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for CAHs</a:t>
            </a:r>
            <a:endParaRPr b="0" lang="en-US" sz="4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0912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38086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Hs still lag behind larger hospitals in IT, especially clinical information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38086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ever, CAHs are more financially able to purchase or upgrade HIT now because of increased revenue related to Medicare billing policy chang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1800"/>
              </a:spcBef>
              <a:buClr>
                <a:srgbClr val="438086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Hs are dividing into two groups in terms of HI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311040">
              <a:lnSpc>
                <a:spcPct val="80000"/>
              </a:lnSpc>
              <a:spcBef>
                <a:spcPts val="1800"/>
              </a:spcBef>
              <a:buClr>
                <a:srgbClr val="53548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Hs that are part of healthcare systems benefit in terms of having access to system technology and IT staff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311040">
              <a:lnSpc>
                <a:spcPct val="80000"/>
              </a:lnSpc>
              <a:spcBef>
                <a:spcPts val="1800"/>
              </a:spcBef>
              <a:buClr>
                <a:srgbClr val="53548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ependent, rural CAHs have considerable difficulty finding IT staff and when they purchase EMRs, those EMRs have fewer functionalities (e.g., no CPOE or CDS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311040">
              <a:lnSpc>
                <a:spcPct val="80000"/>
              </a:lnSpc>
              <a:spcBef>
                <a:spcPts val="374"/>
              </a:spcBef>
              <a:buClr>
                <a:srgbClr val="53548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8462e"/>
                </a:solidFill>
                <a:latin typeface="Verdana"/>
              </a:rPr>
              <a:t>Introduction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533520" y="15238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1199"/>
              </a:spcBef>
              <a:buClr>
                <a:srgbClr val="438086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spital size has been shown to have a systematic relationship to implementation of health information technology (HIT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spcBef>
                <a:spcPts val="1199"/>
              </a:spcBef>
              <a:buClr>
                <a:srgbClr val="438086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small hospitals that convert to Critical Access Hospital (CAH) status, their Medicare payment methodology changes from a prospective payment system (PPS) to retrospectiv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st-base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spcBef>
                <a:spcPts val="1199"/>
              </a:spcBef>
              <a:buClr>
                <a:srgbClr val="438086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Hs’ positive finances hav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itted many to refurbis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ing facilities, enh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 quality,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invest 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5" descr="Picture Gothenburg-Hospital_nebraska"/>
          <p:cNvPicPr/>
          <p:nvPr/>
        </p:nvPicPr>
        <p:blipFill>
          <a:blip r:embed="rId1"/>
          <a:stretch/>
        </p:blipFill>
        <p:spPr>
          <a:xfrm>
            <a:off x="5638680" y="4495680"/>
            <a:ext cx="3241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4456"/>
                </a:solidFill>
                <a:latin typeface="Verdana"/>
              </a:rPr>
              <a:t>EMR Follow-up Interview Methods</a:t>
            </a:r>
            <a:endParaRPr b="0" lang="en-US" sz="32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1624"/>
              </a:spcBef>
              <a:buClr>
                <a:srgbClr val="43808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ing data from the 2005 HIT Survey, we identified 15 Iowa CAHs that had or were implementing EM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70000"/>
              </a:lnSpc>
              <a:spcBef>
                <a:spcPts val="1624"/>
              </a:spcBef>
              <a:buClr>
                <a:srgbClr val="43808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eveloped interview guides and conducted follow-up on-site interviews with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318960">
              <a:lnSpc>
                <a:spcPct val="70000"/>
              </a:lnSpc>
              <a:spcBef>
                <a:spcPts val="1437"/>
              </a:spcBef>
              <a:buClr>
                <a:srgbClr val="53548a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E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318960">
              <a:lnSpc>
                <a:spcPct val="70000"/>
              </a:lnSpc>
              <a:spcBef>
                <a:spcPts val="1437"/>
              </a:spcBef>
              <a:buClr>
                <a:srgbClr val="53548a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IO/HIT Manage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318960">
              <a:lnSpc>
                <a:spcPct val="70000"/>
              </a:lnSpc>
              <a:spcBef>
                <a:spcPts val="1437"/>
              </a:spcBef>
              <a:buClr>
                <a:srgbClr val="53548a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hief of Nursing and/or Quality Dir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70000"/>
              </a:lnSpc>
              <a:spcBef>
                <a:spcPts val="1624"/>
              </a:spcBef>
              <a:buClr>
                <a:srgbClr val="43808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pes of the interviews were transcribed and two analysts reviewed transcriptions multiple times to identify themes in responses to ques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318960">
              <a:lnSpc>
                <a:spcPct val="70000"/>
              </a:lnSpc>
              <a:spcBef>
                <a:spcPts val="1624"/>
              </a:spcBef>
              <a:buClr>
                <a:srgbClr val="53548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Verdana"/>
              </a:rPr>
              <a:t>Decision to Implement EMR</a:t>
            </a:r>
            <a:endParaRPr b="0" lang="en-US" sz="4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me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Decision to implement EMR was driven by the beliefs that EMR will become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wave of the futu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will be mandated in the near futu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me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Decision to implement EMR was driven by the hospital’s culture that emphasize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aying ahead of the curv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early adopters),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taining to new technology and innov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me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Decision to implement EMR was based on a desire to be comparable to and compete with larger hospitals—a goal and vision that administration and staff took ownership of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61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Verdana"/>
              </a:rPr>
              <a:t>Decision to Implement EMR</a:t>
            </a:r>
            <a:endParaRPr b="0" lang="en-US" sz="4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05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me 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Decision to implement EMR was influenced by system affili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me 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Decision to implement EMR was driven by the desire to improve efficiency, timely access, and quality, which would facilitate more patient-centered ca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me 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Decision to implement EMR was driven by the initial need to improve their financial process (e.g. accurate and timely billing proces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me 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Decision to implement EMR was driven by inadequacy of the stand-alone systems that were not integrat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4456"/>
                </a:solidFill>
                <a:latin typeface="Verdana"/>
              </a:rPr>
              <a:t>EMR Follow-up Interview Analyses</a:t>
            </a:r>
            <a:endParaRPr b="0" lang="en-US" sz="32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43808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 themes to initial “why and how” questions we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1437"/>
              </a:spcBef>
              <a:buClr>
                <a:srgbClr val="53548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urchases of EMR systems were largely made because of legacy systems, network influence, or wanting to stay current with larger hospital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1437"/>
              </a:spcBef>
              <a:buClr>
                <a:srgbClr val="53548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cess of choosing EMR system and vendor varied across hospital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1437"/>
              </a:spcBef>
              <a:buClr>
                <a:srgbClr val="53548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ospitals had made little effort to track benefits and thus had little knowledge of benefit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8462e"/>
                </a:solidFill>
                <a:latin typeface="Verdana"/>
              </a:rPr>
              <a:t>References</a:t>
            </a:r>
            <a:r>
              <a:rPr b="0" lang="en-US" sz="4400" spc="-1" strike="noStrike">
                <a:solidFill>
                  <a:srgbClr val="42445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0880" y="16765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merican Hospital Association.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Continued Progress - Hospital Use of Information Technology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http://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aha.org/aha/content/2007/pdf/070227-continuedprogress.pdf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799"/>
              </a:spcBef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 P, Bahensky JA, Jaana M, Ward MM. Role of multihospital system membership in electronic medical record adoption.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Health Care Management Review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33(2): 1-9,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799"/>
              </a:spcBef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merican Hospital Association. 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Forward Momentum: Hospital Use of Information Technology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Chicago, IL: American Hospital Association. 200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799"/>
              </a:spcBef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 P, Schneider JS, Ward MM. The effect of critical access hospital conversion on patient safety.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Health Services Research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42: 2089-2108,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799"/>
              </a:spcBef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hensky JA, Frieden R, Moreau B, Ward MM. Critical Access Hospital informatics.  How two rural Iowa hospitals overcame challenges to achieve IT excellence.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J of Healthcare Information Managemen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22(2): 16-22, 2008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799"/>
              </a:spcBef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owa Hospital Association.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Profiles; Section VI: Hospital and Health System Specific Data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 2005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http://www.ihaonline.org/publications/profileserv/profileserv.shtm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Accessed October 25,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799"/>
              </a:spcBef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ets D and Davis M. 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Electronic medical records vs. electronic health records: Yes, there is a differenc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 HIMSS Analytics. January 26, 200.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http://www.himssanalytics.org/docs/WP_EMR_EHR.pd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799"/>
              </a:spcBef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ex Monitoring Team. The current status of health information technology use in CAHs.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Flex Monitoring Team Briefing Paper No. 11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May 2006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http://www.flexmonitoring.org/documents/BriefingPaper11_HIT.pdf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 Accessed October 25,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8462e"/>
                </a:solidFill>
                <a:latin typeface="Verdana"/>
              </a:rPr>
              <a:t>Acknowledgements</a:t>
            </a:r>
            <a:r>
              <a:rPr b="0" lang="en-US" sz="4400" spc="-1" strike="noStrike">
                <a:solidFill>
                  <a:srgbClr val="42445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600200"/>
            <a:ext cx="8308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38086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438086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University of Iowa - College of Public Healt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partment of Health Management and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er for Health Policy and 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72880">
              <a:spcBef>
                <a:spcPts val="374"/>
              </a:spcBef>
              <a:buClr>
                <a:srgbClr val="53548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438086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Funded in part by: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gency for Healthcare Research and Quality through grant # HS015009 – “HIT Value in Rural Hospitals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8462e"/>
                </a:solidFill>
                <a:latin typeface="Verdana"/>
              </a:rPr>
              <a:t>Research Objectives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0948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buClr>
                <a:srgbClr val="438086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 goal of this study was to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review the rural landscape in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 use of HIT by examining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AHs in Iowa, a predominantly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rural state with a large sampl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of CAH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38086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o help understand the variability in HIT use by CAHs, business strategies for supporting HIT implementation are examined and the relationship between common approaches and HIT use is explored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2" name="Content Placeholder 5" descr="picture hosp_sign_rural"/>
          <p:cNvPicPr/>
          <p:nvPr/>
        </p:nvPicPr>
        <p:blipFill>
          <a:blip r:embed="rId1"/>
          <a:stretch/>
        </p:blipFill>
        <p:spPr>
          <a:xfrm>
            <a:off x="6553080" y="1600200"/>
            <a:ext cx="2286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24456"/>
                </a:solidFill>
                <a:latin typeface="Verdana"/>
              </a:rPr>
              <a:t>2005 HIT Survey of Iowa Hospitals - Approach</a:t>
            </a:r>
            <a:endParaRPr b="0" lang="en-US" sz="29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904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1749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part of the AHRQ grant, in Fall 2005 we developed a new survey of Iowa hospital clinical information systems.  This survey consisted of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1437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general information on hospital IT services, network influence, connectivit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1437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pproaches to IT staffing, outside servic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1437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inventory of clinical information systems to determine the level of systems in each hospita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Our Survey of HIT Capacity</a:t>
            </a:r>
            <a:endParaRPr b="0" lang="en-US" sz="4000" spc="-1" strike="noStrike">
              <a:solidFill>
                <a:srgbClr val="424456"/>
              </a:solidFill>
              <a:latin typeface="Verdana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914400" y="1447920"/>
          <a:ext cx="7620120" cy="1482480"/>
        </p:xfrm>
        <a:graphic>
          <a:graphicData uri="http://schemas.openxmlformats.org/drawingml/2006/table">
            <a:tbl>
              <a:tblPr/>
              <a:tblGrid>
                <a:gridCol w="3886200"/>
                <a:gridCol w="373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0" y="1219320"/>
          <a:ext cx="9144000" cy="56386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23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cus – profile of the hospital in terms of technology resourc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 capa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cus – actual technology applications used for business and clinical oper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2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rmation Collected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number of IT sta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nt of use of consultants, vendors, A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f the hospital was part of a net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rmation Collected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 HIT applications, both business and clin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ther each application was operational, being installed, or in the planning st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6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ponse Options – 5 point Likert-type scales (ranging from “not at all” to “a great deal”) for extent i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ponse Options – for applications currently operational, being installed, or budgeted, information on the chosen vendor was collec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Hospital Distribution </a:t>
            </a:r>
            <a:br>
              <a:rPr sz="4000"/>
            </a:b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in Iowa</a:t>
            </a:r>
            <a:endParaRPr b="0" lang="en-US" sz="4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2971800" cy="4343400"/>
          </a:xfrm>
          <a:prstGeom prst="rect">
            <a:avLst/>
          </a:prstGeom>
          <a:solidFill>
            <a:srgbClr val="438086"/>
          </a:solidFill>
          <a:ln cap="sq" w="50760">
            <a:solidFill>
              <a:srgbClr val="438086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urvey was mailed to all hospitals in Iowa (N=116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82 Iowa hospitals are designated as CAHs – the focus of these analyse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0" name="Content Placeholder 9" descr="pie chart - hospital distribution in iowa"/>
          <p:cNvPicPr/>
          <p:nvPr/>
        </p:nvPicPr>
        <p:blipFill>
          <a:blip r:embed="rId1"/>
          <a:stretch/>
        </p:blipFill>
        <p:spPr>
          <a:xfrm>
            <a:off x="3809880" y="1981080"/>
            <a:ext cx="5029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8462e"/>
                </a:solidFill>
                <a:latin typeface="Verdana"/>
              </a:rPr>
              <a:t>Who Responded?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743200" cy="4343400"/>
          </a:xfrm>
          <a:prstGeom prst="rect">
            <a:avLst/>
          </a:prstGeom>
          <a:solidFill>
            <a:srgbClr val="438086"/>
          </a:solidFill>
          <a:ln cap="sq" w="50760">
            <a:solidFill>
              <a:srgbClr val="438086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verall, 85% of hospitals and 85% of CAHs (N = 70) returned completed surve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 the CAHs, half of the responses were from the CEO, COO or CFO, and almost half were from the CIO or IT Mana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63" name="Content Placeholder 9"/>
          <p:cNvGraphicFramePr/>
          <p:nvPr/>
        </p:nvGraphicFramePr>
        <p:xfrm>
          <a:off x="3048120" y="2362320"/>
          <a:ext cx="5715000" cy="373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4" name="Content Placeholder 9" descr="pie chart - who responded, CEO, COO, CFO vs. CIO, IT Manager vs. Other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362320"/>
                    <a:ext cx="57150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8462e"/>
                </a:solidFill>
                <a:latin typeface="Verdana"/>
              </a:rPr>
              <a:t>Basic IT Use in CAHs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pic>
        <p:nvPicPr>
          <p:cNvPr id="466" name="Content Placeholder 3" descr=""/>
          <p:cNvPicPr/>
          <p:nvPr/>
        </p:nvPicPr>
        <p:blipFill>
          <a:blip r:embed="rId1"/>
          <a:stretch/>
        </p:blipFill>
        <p:spPr>
          <a:xfrm>
            <a:off x="480960" y="1206360"/>
            <a:ext cx="822492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461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Business and Clinical Applications</a:t>
            </a:r>
            <a:endParaRPr b="0" lang="en-US" sz="4000" spc="-1" strike="noStrike">
              <a:solidFill>
                <a:srgbClr val="424456"/>
              </a:solidFill>
              <a:latin typeface="Verdana"/>
            </a:endParaRPr>
          </a:p>
        </p:txBody>
      </p:sp>
      <p:pic>
        <p:nvPicPr>
          <p:cNvPr id="468" name="Content Placeholder 3" descr=""/>
          <p:cNvPicPr/>
          <p:nvPr/>
        </p:nvPicPr>
        <p:blipFill>
          <a:blip r:embed="rId1"/>
          <a:stretch/>
        </p:blipFill>
        <p:spPr>
          <a:xfrm>
            <a:off x="444600" y="1590840"/>
            <a:ext cx="833904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4T16:17:07Z</dcterms:created>
  <dc:creator>Ward</dc:creator>
  <dc:description/>
  <dc:language>en-US</dc:language>
  <cp:lastModifiedBy>Char</cp:lastModifiedBy>
  <dcterms:modified xsi:type="dcterms:W3CDTF">2009-10-28T00:15:37Z</dcterms:modified>
  <cp:revision>228</cp:revision>
  <dc:subject/>
  <dc:title>Critical Access Hospital Clinical Information Systems and Hit Strategies</dc:title>
</cp:coreProperties>
</file>