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A613-1E99-47A0-ABDF-DA8CE10BB8D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88D9-0358-49D3-A671-F98323411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E92E-9C9C-439F-8DCC-AE5F679C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07AF-BDA9-4789-A910-A2C0ED9B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375-EDA5-4D0C-BD1C-3264DA1B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77D-ADDF-4B91-A549-7E1A2094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299C-DB01-4D7C-A0FF-B06FA449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C29F-F25B-4648-8C59-15345BFA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DAA0-4136-4E07-944A-E4EE5616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23D8-9698-46E7-9286-8F468B01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4294-3F88-46DF-AFC5-05FAD8B9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BCCC-E1C8-474A-9732-F31C966B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C44E-696D-40A0-B18F-908FCB2A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C931-11F3-4AF3-A088-F1F85801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51C0-E7B3-4769-B501-3865A68663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A280-D9FA-44F3-8B4C-603AF1AC1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afp.org/online/etc/medialib/aafp_org/documents/policy/fed/jointprinciplespcmh0207.Par.0001.File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C9B9-3B19-487F-BFC6-88806DF6A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59056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HRQ Annual Conference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gress of a Learning Network: Working to Reduce Disparities by Improving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ccess to Care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ethesda, Maryland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ptember 14, 2009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im Walton, DO, MB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aylor Health Care System – Dallas, T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5257800"/>
            <a:ext cx="5181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information_r2_c10"/>
          <p:cNvPicPr/>
          <p:nvPr/>
        </p:nvPicPr>
        <p:blipFill>
          <a:blip r:embed="rId2"/>
          <a:stretch/>
        </p:blipFill>
        <p:spPr>
          <a:xfrm>
            <a:off x="3048120" y="0"/>
            <a:ext cx="3062160" cy="1927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about_r1_c10"/>
          <p:cNvPicPr/>
          <p:nvPr/>
        </p:nvPicPr>
        <p:blipFill>
          <a:blip r:embed="rId3"/>
          <a:stretch/>
        </p:blipFill>
        <p:spPr>
          <a:xfrm>
            <a:off x="0" y="0"/>
            <a:ext cx="3062160" cy="1927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site_r3_c10"/>
          <p:cNvPicPr/>
          <p:nvPr/>
        </p:nvPicPr>
        <p:blipFill>
          <a:blip r:embed="rId4"/>
          <a:stretch/>
        </p:blipFill>
        <p:spPr>
          <a:xfrm>
            <a:off x="6081840" y="0"/>
            <a:ext cx="306216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71BA-2FA6-4A2B-A229-6D996629F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bar graph of average ED and IP direct costs per patien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Line 3"/>
          <p:cNvSpPr/>
          <p:nvPr/>
        </p:nvSpPr>
        <p:spPr>
          <a:xfrm>
            <a:off x="342900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5181480" y="2362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7772400" y="22860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276720" y="52578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9.6% Re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181480" y="28954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2.6% Re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772400" y="28954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1.2% Re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6EC8-C7E0-4903-A832-16EF2FCBB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dapting Care Coordination: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. Community Diabetes Education (Co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Community Health Workers to provide chronic disease education and self-management training to underserved diabetics within charitable health clinics across Dallas Cou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uct one-on-one counseling with pat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W is bilingual/bi-cultu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xtualizes diabetes curriculum &amp; mess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ocates for diabetics &amp; families (meds, referrals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point-of-contact for patient/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1840-F4BE-48DD-B478-E0120E5C0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munity Diabetes Education (CoDE):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nical Outcom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2013120"/>
          <a:ext cx="8229600" cy="3700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" descr="Diagram of diabetes education clinical outcomes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13120"/>
                    <a:ext cx="8229600" cy="37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1924-2FBE-47D0-A8AA-2377ADF37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re Coordination-Next Steps: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. Ambulatory Care Coordin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ing the move toward NCQA certification - Patient-Centered Medical Home (PCM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lti-disciplinary te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07 - The AAFP, AAP, ACP, and AOA publish the Joint Principles of the Patient-Centered Medical Home with 7 Core 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bulatory Care Coordination (HT-AC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non-physician staff to navigate patient c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ordinating care/follow-up for patients (in-patient &amp; out-pati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essing barriers, assessing progress and utilizing care paths for care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ating reminders for preventive c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ing evidence-based guidelines for disease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971800" y="62485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:    “Joint Principles of the Patient-Centered Medical Home” available at         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afp.org/online/etc/medialib/aafp_org/documents/policy/fed/jointprinciplespcmh0207.Par.0001.Fil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tmp/022107medicalhome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981080" y="3048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6AB6-A4CF-4837-B26E-1C3226968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ty Care Coordination and the Pathways model has been successfull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dap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provide a wide range of services to underserved pat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vigation; clinical and social support; chronic disease edu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del has produc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 clinical 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e in avoidable hospital uti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financial impact for hospit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del will be applied in new efforts to achieve NCQA certification for PCM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EC51-95E7-45CE-9F65-F4F6CAB15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aylor Health Care Syste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80880" y="160020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ylor Health Care System (BH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llas-Ft. Worth metropolitan area of N. T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 owned, leased, or affiliated hospitals and 6 short-stay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ffiliated physician organization, Health Texas Provider Network, has 450+ physicians in 110+ practices in the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ylor’s flagship hospital, Baylor University Medical Center, is a 1000-bed inner city hospital with Level 1 trauma desig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A726-DF14-465E-B4AF-70D875D67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ddressing Disparitie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HCS Office of Health Equ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BHCS Office of Health Equ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onsible for the identification, measurement, and elimination of health disparities within the Baylor Health Care System and the communities it ser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80880" y="3429000"/>
            <a:ext cx="47246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lth Car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uring Equal Access to Care &amp; Decreasing Unnecessary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lth Care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uring Equal Quality of Care &amp; Decreasing Adverse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lth Care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ing Health Outcomes &amp; Decreasing Mortality and  Morb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791320" y="320040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HCS Equity Tri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6248520" y="3733920"/>
            <a:ext cx="1904760" cy="1523880"/>
          </a:xfrm>
          <a:prstGeom prst="flowChartExtract">
            <a:avLst/>
          </a:prstGeom>
          <a:gradFill rotWithShape="0">
            <a:gsLst>
              <a:gs pos="0">
                <a:srgbClr val="00009e"/>
              </a:gs>
              <a:gs pos="100000">
                <a:srgbClr val="0000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quity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lth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410080" y="4038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Car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7696080" y="3962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Care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019920" y="5410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Care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5E3B-5713-484E-AE9A-D32240F2B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isparities in DFW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mited Access to Health C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28600" y="1600200"/>
            <a:ext cx="480060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he Proble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23.6% of the population in the Dallas-Ft. Worth metropolitan area are without health insurance cover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s to 1.3 million individuals with limited access to car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at number increases when you consider the number of Medicare and Medicaid patients struggling to access car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HCS facilities bear much of the burden of uncompensated care in our commun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957920" y="2133720"/>
          <a:ext cx="4186080" cy="27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pie chart of health care 2006 estimates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7920" y="2133720"/>
                    <a:ext cx="418608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5"/>
          <p:cNvSpPr/>
          <p:nvPr/>
        </p:nvSpPr>
        <p:spPr>
          <a:xfrm>
            <a:off x="5029200" y="472428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kland Health &amp; Hospital System, 2006 Esti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599B-5CA3-44FC-99DB-3B2FAB6AB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ffice of Health Equity: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lth Care Access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52280" y="1143000"/>
            <a:ext cx="87631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imary Objectiv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increasing access to needed health services in community and home-based settings, underserved patients will experience less health disparities and require less frequent utilization of hospital services (ED and admissions), resulting in decreased uncompensated care for BHCS fac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28600" y="5334120"/>
            <a:ext cx="8610480" cy="15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ealth Care Access Strategi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cilitate access to medical services (Medical Home, Ancillary, and Specialty Care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cilitate access to affordable prescription med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Care coordinatio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to overcome barriers (i.e. low SES, language, health literacy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057400" y="2286000"/>
          <a:ext cx="5408640" cy="312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8" name="" descr="diagram of relationship between access and uncompensated care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2286000"/>
                    <a:ext cx="540864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1BF3-F4DD-4B7E-96B5-932C76637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re Coordination &amp; Pathways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 Adaptive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raging Baylor’s infrastructure – Physici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junctive support - Community Health 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hways model – Care protocols to ensure connection with and delivery of evidence-based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HCS ha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dap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CCC model over the past eight years to improv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 to primary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ancial saving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novation in care deliv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C058-CEB1-45E8-90C6-D325BF4CB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re Coordination-First Steps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unity Health Navig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llaboration with Project Access Dall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etwork of volunteer providers across Dallas Co. organized to provide care to uninsured working p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ty Health Navigation was created to help patients overcome barriers to c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, Transportation, Medication assis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Education to improve patient knowledge and behavi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ordination of referrals within the PAD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E83C-5350-4BDD-A2B4-AAA800A5E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dapting Care Coordination: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. BHCS Vulnerable Patient Net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unique “house-calls” program utilizing a multi-disciplinary team to provide home-based primary care services to underserved patients with complex medical and social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ro-trauma and Heart Fail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ally-trained CHW supports the care team with physicians and nurse practition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W’s have medical assistant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tilize clinical and social “Equity care-path”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e as a single point-of-contact for home-bound pat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BE9A-F7D6-4D0B-A48C-39C204E95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" name="" descr="bar graph of average number of ED and IP encounters per patien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Line 3"/>
          <p:cNvSpPr/>
          <p:nvPr/>
        </p:nvSpPr>
        <p:spPr>
          <a:xfrm>
            <a:off x="2514600" y="3962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5181480" y="3733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7772400" y="2133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514600" y="37339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6.4% Re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105520" y="37339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8.3% Re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7620120" y="26668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7.8% Re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7:18:59Z</dcterms:created>
  <dc:creator>James Walton</dc:creator>
  <dc:description/>
  <dc:language>en-US</dc:language>
  <cp:lastModifiedBy>Rasa</cp:lastModifiedBy>
  <dcterms:modified xsi:type="dcterms:W3CDTF">2009-10-26T15:39:33Z</dcterms:modified>
  <cp:revision>160</cp:revision>
  <dc:subject/>
  <dc:title>Improving Quality of Health Care Equity at Baylor Health Care System</dc:title>
</cp:coreProperties>
</file>