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E9E1-0CC2-4375-BD25-8CC34B0FBA5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0A59-80E0-4FF9-8DD5-117BBF770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464-2C62-4E07-A099-E6D9948E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5A6-5847-41B4-888F-91427B00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E6F-DA31-48EC-BF1A-B6D3D6E6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F9B-7E54-42E1-996A-66C63DF9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EA6-A661-4CA2-9D2F-95FD8BE6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F38-6B24-40A0-939C-8676462A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10B-9FBB-4B7C-99C3-5AA4D9A7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398-84AB-491C-9359-70D83AC7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2E5-C695-4994-A2E1-CE81FEC9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2A0-0345-4B29-9B98-5CD343AA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23A-E46E-472C-A1DB-7B3626D2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30C-8270-4541-B4AF-CF6734F7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9B6C-9EA2-40AE-9912-ADAA1AA21F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D5D8-7606-4CD5-A47B-61AD29FC5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afp.org/online/etc/medialib/aafp_org/documents/policy/fed/jointprinciplespcmh0207.Par.0001.File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CEC7-2FCA-4410-BD16-0D420495E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HRQ Annual Conferenc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gress of a Learning Network: Working to Reduce Disparities by Improving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ccess to Care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thesda, Maryland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ptember 14, 2009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im Walton, DO, MB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aylor Health Care System – Dallas, T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5257800"/>
            <a:ext cx="5181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information_r2_c10"/>
          <p:cNvPicPr/>
          <p:nvPr/>
        </p:nvPicPr>
        <p:blipFill>
          <a:blip r:embed="rId2"/>
          <a:stretch/>
        </p:blipFill>
        <p:spPr>
          <a:xfrm>
            <a:off x="3048120" y="0"/>
            <a:ext cx="3062160" cy="192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about_r1_c10"/>
          <p:cNvPicPr/>
          <p:nvPr/>
        </p:nvPicPr>
        <p:blipFill>
          <a:blip r:embed="rId3"/>
          <a:stretch/>
        </p:blipFill>
        <p:spPr>
          <a:xfrm>
            <a:off x="0" y="0"/>
            <a:ext cx="3062160" cy="192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site_r3_c10"/>
          <p:cNvPicPr/>
          <p:nvPr/>
        </p:nvPicPr>
        <p:blipFill>
          <a:blip r:embed="rId4"/>
          <a:stretch/>
        </p:blipFill>
        <p:spPr>
          <a:xfrm>
            <a:off x="6081840" y="0"/>
            <a:ext cx="30621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D439-1D7C-4DE2-9EB6-0FB1B3538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bar graph of average ED and IP direct costs per patien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Line 3"/>
          <p:cNvSpPr/>
          <p:nvPr/>
        </p:nvSpPr>
        <p:spPr>
          <a:xfrm>
            <a:off x="34290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51814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777240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276720" y="52578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.6%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181480" y="2895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2.6%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772400" y="2895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1.2%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035B-C7C9-468F-A613-036196296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apting Care Coordination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Community Diabetes Education (Co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ommunity Health Workers to provide chronic disease education and self-management training to underserved diabetics within charitable health clinics across Dallas Cou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one-on-one counseling with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W is bilingual/bi-cult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xtualizes diabetes curriculum &amp; mess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ocates for diabetics &amp; families (meds, referral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point-of-contact for patient/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9F40-1E73-4FA4-BB85-62945D8BB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unity Diabetes Education (CoDE)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Outcom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2013120"/>
          <a:ext cx="8229600" cy="370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Diagram of diabetes education clinical outcomes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13120"/>
                    <a:ext cx="8229600" cy="37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001C-E7CA-4AA8-B0A6-C60B12726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e Coordination-Next Steps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Ambulatory Care Coord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ing the move toward NCQA certification - Patient-Centered Medical Home (PCM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-disciplinary t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07 - The AAFP, AAP, ACP, and AOA publish the Joint Principles of the Patient-Centered Medical Home with 7 Core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bulatory Care Coordination (HT-AC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non-physician staff to navigate patient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rdinating care/follow-up for patients (in-patient &amp; out-pati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essing barriers, assessing progress and utilizing care paths for care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ting reminders for preventive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ing evidence-based guidelines for disease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971800" y="6248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:    “Joint Principles of the Patient-Centered Medical Home” available at         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afp.org/online/etc/medialib/aafp_org/documents/policy/fed/jointprinciplespcmh0207.Par.0001.Fil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mp/022107medicalhome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981080" y="3048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193C-E02C-4B81-8D2B-3E33CA131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Care Coordination and the Pathways model has been successful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dap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provide a wide range of services to underserved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vigation; clinical and social support; chronic disease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el has produc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clinical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 in avoidable hospital u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financial impact for hospit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el will be applied in new efforts to achieve NCQA certification for PCM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B00C-4A75-4B5D-8631-9701A5E24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ylor Health Care Syst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80880" y="160020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ylor Health Care System (BH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llas-Ft. Worth metropolitan area of N.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owned, leased, or affiliated hospitals and 6 short-stay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filiated physician organization, Health Texas Provider Network, has 450+ physicians in 110+ practices in th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ylor’s flagship hospital, Baylor University Medical Center, is a 1000-bed inner city hospital with Level 1 trauma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9FAC-0944-4314-9339-00E4BCA02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dressing Dispariti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HCS Office of Health Equ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BHCS Office of Health Equ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ble for the identification, measurement, and elimination of health disparities within the Baylor Health Care System and the communities it ser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80880" y="3429000"/>
            <a:ext cx="4724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Car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uring Equal Access to Care &amp; Decreasing Unnecessary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Car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uring Equal Quality of Care &amp; Decreasing Advers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Care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Health Outcomes &amp; Decreasing Mortality and  Morb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791320" y="320040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HCS Equity Tri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6248520" y="3733920"/>
            <a:ext cx="1904760" cy="1523880"/>
          </a:xfrm>
          <a:prstGeom prst="flowChartExtract">
            <a:avLst/>
          </a:prstGeom>
          <a:gradFill rotWithShape="0">
            <a:gsLst>
              <a:gs pos="0">
                <a:srgbClr val="00009e"/>
              </a:gs>
              <a:gs pos="100000">
                <a:srgbClr val="000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t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410080" y="4038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76960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019920" y="5410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6E4D-8954-491B-8457-EBDA4AD4C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sparities in DFW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ed Access to Health C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600200"/>
            <a:ext cx="480060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e Probl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23.6% of the population in the Dallas-Ft. Worth metropolitan area are without health insurance co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s to 1.3 million individuals with limited access to car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number increases when you consider the number of Medicare and Medicaid patients struggling to access ca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HCS facilities bear much of the burden of uncompensated care in our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7920" y="2133720"/>
          <a:ext cx="4186080" cy="27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pie chart of health care 2006 estimates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7920" y="2133720"/>
                    <a:ext cx="418608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5029200" y="47242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land Health &amp; Hospital System, 2006 Est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A131-97BE-4ECF-8DA2-3E601F315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fice of Health Equity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Care Access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52280" y="1143000"/>
            <a:ext cx="8763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mary Objectiv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ncreasing access to needed health services in community and home-based settings, underserved patients will experience less health disparities and require less frequent utilization of hospital services (ED and admissions), resulting in decreased uncompensated care for BHCS fac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5334120"/>
            <a:ext cx="861048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ealth Care Access Strategi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cilitate access to medical services (Medical Home, Ancillary, and Specialty Care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cilitate access to affordable prescription me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are coordina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o overcome barriers (i.e. low SES, language, health literac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057400" y="2286000"/>
          <a:ext cx="5408640" cy="312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diagram of relationship between access and uncompensated care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286000"/>
                    <a:ext cx="540864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A15A-FCAC-4BE1-B5DE-BC76EAE3E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e Coordination &amp; Pathways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 Adaptiv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Baylor’s infrastructure – Physic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nctive support - Community Health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ways model – Care protocols to ensure connection with and delivery of evidence-based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HCS ha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dap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CCC model over the past eight years to impro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primary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ncial saving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novation in care deli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F70F-D0F3-49A1-A54B-0F66187AF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e Coordination-First Steps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ty Health Navig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llaboration with Project Access Dall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twork of volunteer providers across Dallas Co. organized to provide care to uninsured working p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Health Navigation was created to help patients overcome barriers to c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, Transportation, Medication as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Education to improve patient knowledge and behavi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rdination of referrals within the PAD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45C8-8A99-46CF-A1F8-B0096B48B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apting Care Coordination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 BHCS Vulnerable Patient Net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unique “house-calls” program utilizing a multi-disciplinary team to provide home-based primary care services to underserved patients with complex medical and social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o-trauma and Heart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ly-trained CHW supports the care team with physicians and nurse practition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W’s have medical assistant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 clinical and social “Equity care-path”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 as a single point-of-contact for home-bound pat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44B7-287E-4437-A662-221836BD8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bar graph of average number of ED and IP encounters per patien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Line 3"/>
          <p:cNvSpPr/>
          <p:nvPr/>
        </p:nvSpPr>
        <p:spPr>
          <a:xfrm>
            <a:off x="251460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5181480" y="3733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77724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514600" y="37339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.4%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105520" y="37339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8.3%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620120" y="26668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.8%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7:18:59Z</dcterms:created>
  <dc:creator>James Walton</dc:creator>
  <dc:description/>
  <dc:language>en-US</dc:language>
  <cp:lastModifiedBy>Rasa</cp:lastModifiedBy>
  <dcterms:modified xsi:type="dcterms:W3CDTF">2009-10-26T15:39:33Z</dcterms:modified>
  <cp:revision>160</cp:revision>
  <dc:subject/>
  <dc:title>Improving Quality of Health Care Equity at Baylor Health Care System</dc:title>
</cp:coreProperties>
</file>