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300-E8BF-400F-8B3A-FB0DFC4A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78E-FE01-45CE-8BA8-B03368EB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FC7-4440-480F-9654-128AC360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30D-A72B-4D57-8CE7-9B8FA674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52A-06A8-4E13-AFB2-53505E79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3B3-C0A1-4862-8767-1AEFB510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EC6-3157-4A7A-A96B-F33EC3B8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5D9-6475-4B34-9787-848FADE2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BF7-1ABE-4F2F-9039-C937AC4C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5CF-4319-4488-93C8-45363E67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72F-AC90-4B01-A6E1-026E5CF0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84D-38C1-46F4-960C-3593AE15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B7D6-E339-4E0E-BEBB-CBBD5D74E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Title_slide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06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Arial"/>
              </a:rPr>
              <a:t>A tool for the classification of study designs in systematic reviews of interventions and exposures</a:t>
            </a:r>
            <a:br>
              <a:rPr sz="4000"/>
            </a:br>
            <a:br>
              <a:rPr sz="4000"/>
            </a:b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eera Viswanathan, PhD</a:t>
            </a: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or the University of Alberta EPC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HRQ Conference</a:t>
            </a:r>
            <a:br>
              <a:rPr sz="1800"/>
            </a:b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ept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 4: Reference stand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14400" y="2208240"/>
          <a:ext cx="5867280" cy="2228760"/>
        </p:xfrm>
        <a:graphic>
          <a:graphicData uri="http://schemas.openxmlformats.org/drawingml/2006/table">
            <a:tbl>
              <a:tblPr/>
              <a:tblGrid>
                <a:gridCol w="3962520"/>
                <a:gridCol w="1904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agreeme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0 studies, 3 ra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=0.33 (fai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agreem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ra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2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ra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(4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 4: Testing round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90720" y="2057400"/>
          <a:ext cx="6676920" cy="3714840"/>
        </p:xfrm>
        <a:graphic>
          <a:graphicData uri="http://schemas.openxmlformats.org/drawingml/2006/table">
            <a:tbl>
              <a:tblPr/>
              <a:tblGrid>
                <a:gridCol w="4518000"/>
                <a:gridCol w="2158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agreeme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 studies, 6 tes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=0.45 (moder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uate level training comple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3 tes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=0.45 (moder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uate level training in progres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tes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=0.39 (fai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agreem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4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1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oderate reliability, low agreement with reference 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tudies vs. tool as source of disagre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ol not comprehensive, e.g., quasi-experimental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tudies challenging, e.g., sample of difficult studies, poor study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o optimize agreement and reliabil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raining in research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raining in use of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ilo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cision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within a real systematic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testing for specific study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evaluation of differences in reliability by education, training, an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hmed Abou-Se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za Bi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hele Ham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cola Hoo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vid J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rea Mil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lly Russ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nnifer Se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i W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 Vandermeer (statistical analy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Title_slide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914400" y="1143000"/>
            <a:ext cx="7010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914400" y="5410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University of Alberta EPC</a:t>
            </a:r>
            <a:br>
              <a:rPr sz="1800"/>
            </a:b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dmonton, Alberta,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 Bond, UAE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na Dryden, UAE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a Hartling, UAE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ystal Harvey, UAE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 Lina Santaguida, McMaster E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en Siegel, AH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ra Viswanathan, RTI-UNC E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C reports, particularly comparative effectiveness reviews,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re increasingly including evidence from nonrandomized and observational desig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 systematic reviews, study design classification is essential for study selection, risk of bias assessment, approach to data analysis (e.g., pooling), interpretation of results, grading body of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ssignment of study designs is often given inadequate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tools for classification of studies b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a classification tool for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velop guidelines for application of the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st the tool for accuracy and inter-rater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jective 1: Identification of too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29"/>
          <p:cNvSpPr/>
          <p:nvPr/>
        </p:nvSpPr>
        <p:spPr>
          <a:xfrm>
            <a:off x="1295280" y="2058840"/>
            <a:ext cx="5184720" cy="5763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31 organizations/individuals conta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29"/>
          <p:cNvSpPr/>
          <p:nvPr/>
        </p:nvSpPr>
        <p:spPr>
          <a:xfrm>
            <a:off x="1295280" y="2922480"/>
            <a:ext cx="5184720" cy="5763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11 organizations/individuals respo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29"/>
          <p:cNvSpPr/>
          <p:nvPr/>
        </p:nvSpPr>
        <p:spPr>
          <a:xfrm>
            <a:off x="1295280" y="3786120"/>
            <a:ext cx="5184720" cy="5763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23 classification tools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_s1029"/>
          <p:cNvSpPr/>
          <p:nvPr/>
        </p:nvSpPr>
        <p:spPr>
          <a:xfrm>
            <a:off x="1295280" y="4651200"/>
            <a:ext cx="5184720" cy="5763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10 tools selected for close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_s1029"/>
          <p:cNvSpPr/>
          <p:nvPr/>
        </p:nvSpPr>
        <p:spPr>
          <a:xfrm>
            <a:off x="1295280" y="5514840"/>
            <a:ext cx="5184720" cy="50508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1 tool selected for modification an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3886200" y="26352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3886200" y="34988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3886200" y="4363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3886200" y="5227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 2: Tool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ring Committee ranked tools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 classification for each study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mbiguous nomenclature and decision rules/defin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rehens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entially allows for identification of threats to validity and provides a guide to strength of in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ed by a well-established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 3: Too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p-ranked too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hrane Non-Randomised Studies Method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Dietetic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I-U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d positive elements of other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glo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 4: Testing round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14400" y="2057400"/>
          <a:ext cx="6394320" cy="3714840"/>
        </p:xfrm>
        <a:graphic>
          <a:graphicData uri="http://schemas.openxmlformats.org/drawingml/2006/table">
            <a:tbl>
              <a:tblPr/>
              <a:tblGrid>
                <a:gridCol w="4665600"/>
                <a:gridCol w="1728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agreemen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0 studies, 6 tes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=0.26 (fai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uate level training complet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tes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=0.38 (fai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uate level training in progres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tes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κ=0.17 (sligh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agreem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2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(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 testers ag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(2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econd_slide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 4: Testing round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lear patterns in disagre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greements occurred at all decisio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 vs.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s in application of the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88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21:00:46Z</dcterms:created>
  <dc:creator>bernie  roessler</dc:creator>
  <dc:description/>
  <dc:language>en-US</dc:language>
  <cp:lastModifiedBy>Graham</cp:lastModifiedBy>
  <dcterms:modified xsi:type="dcterms:W3CDTF">2009-10-27T23:19:10Z</dcterms:modified>
  <cp:revision>30</cp:revision>
  <dc:subject/>
  <dc:title>PowerPoint Presentation</dc:title>
</cp:coreProperties>
</file>