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C622B7-A216-4534-961A-4C90DA224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tle of presentation:  Provider Perspectives on Information &amp; Communication Technologies in Patient-Centered Care Re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m Tufano, PhD, M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Washingto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Health Researc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16,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9 AHRQ National Conferenc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1160" y="696960"/>
            <a:ext cx="4648320" cy="3486240"/>
          </a:xfrm>
          <a:prstGeom prst="rect">
            <a:avLst/>
          </a:prstGeom>
          <a:ln w="0">
            <a:noFill/>
          </a:ln>
        </p:spPr>
      </p:sp>
      <p:sp>
        <p:nvSpPr>
          <p:cNvPr id="1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t>
            </a:r>
            <a:r>
              <a:rPr b="1" lang="en-US" sz="1200" spc="-1" strike="noStrike">
                <a:solidFill>
                  <a:srgbClr val="000000"/>
                </a:solidFill>
                <a:latin typeface="Arial"/>
              </a:rPr>
              <a:t>PCMH pilot:  effects on patient-provider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net effect is a positive effect in getting patients' questions answered… And they do feel more connected with the doctor, because he or she responds… They're getting a response from the team.  And they really like that connection… So there's a better connection I think with the team with the electronic chart and all the secure messaging… I'm developing stronger ties… They understand their illnesses better, and they're better able to follow through on the treatments… [Office visits are] time that's better sp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re is no way I can directly ask some questions, but now that I have the tools I can say like ‘Hey, you mentioned in your Health Profile that you're drinking a little bit more alcohol, so how about – what’s happening?’  So I have a starting point there and then I can kind of ask them and get them into an inter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 Tufano, Doctoral Dissertation,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1160" y="696960"/>
            <a:ext cx="4648320" cy="3486240"/>
          </a:xfrm>
          <a:prstGeom prst="rect">
            <a:avLst/>
          </a:prstGeom>
          <a:ln w="0">
            <a:noFill/>
          </a:ln>
        </p:spPr>
      </p:sp>
      <p:sp>
        <p:nvSpPr>
          <p:cNvPr id="1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t>
            </a:r>
            <a:r>
              <a:rPr b="1" lang="en-US" sz="1200" spc="-1" strike="noStrike">
                <a:solidFill>
                  <a:srgbClr val="000000"/>
                </a:solidFill>
                <a:latin typeface="Arial"/>
              </a:rPr>
              <a:t>PCMH pilot:  summarized provider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m finally able to do everything that I learned family practice docs are supposed to do. And I even do more than I thought I could do… I think we all know this is the right way to do medicine so we want to make sure our patients always have that experience.  We're really focused on our patients, making sure that the service and quality of care is always there… I'm using [the ICT] much more extensively and leveraging them more, taking more time to use them.  Looking for opportunities for me to change something, intervene, plan ahead.  As opposed to in the past… I just basically, whatever they presented me in the office with, that was pretty much – I tried to get through that, I felt lucky for that… And then trying not to create more issues for patients to bring up. Whereas now I will ask them ‘is there anything else?’ or ‘what about your preventive scre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 Tufano, Doctoral Dissertation,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t>
            </a:r>
            <a:r>
              <a:rPr b="1" lang="en-US" sz="1200" spc="-1" strike="noStrike">
                <a:solidFill>
                  <a:srgbClr val="000000"/>
                </a:solidFill>
                <a:latin typeface="Arial"/>
              </a:rPr>
              <a:t>Key conclusions and potential policy im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MH practice certification criteria (NCQA, CMS) should be revis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Initiative clinics and the PCMH pilot clinic would likely be classified as Tier 3 medical homes, bu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s created sharply contrasting provider experiences and assessments of care quality and patient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determinants of provider adoption of ICT (perceived usefulness and consequences associated with us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defined contextually (e.g., by care model, by approaches to care redesign/ICT implement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ary widely with the same ICT used in the same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ing optimal contexts for ICT implementation and support is critical to achieving goals of PC care refor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81160" y="696960"/>
            <a:ext cx="4648320" cy="3486240"/>
          </a:xfrm>
          <a:prstGeom prst="rect">
            <a:avLst/>
          </a:prstGeom>
          <a:ln w="0">
            <a:noFill/>
          </a:ln>
        </p:spPr>
      </p:sp>
      <p:sp>
        <p:nvSpPr>
          <p:cNvPr id="1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t>
            </a:r>
            <a:r>
              <a:rPr b="1" lang="en-US" sz="1200" spc="-1" strike="noStrike">
                <a:solidFill>
                  <a:srgbClr val="000000"/>
                </a:solidFill>
                <a:latin typeface="Arial"/>
              </a:rPr>
              <a:t>Information &amp; communication technologies (ICT) that I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ical information systems/EM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vider/provider clinical messag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atient Web porta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atient/provider secure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health risk appraisals &amp; clinical assessment surv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health records &amp; applic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and deskto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andalone” and provider-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1160" y="696960"/>
            <a:ext cx="4648320" cy="3486240"/>
          </a:xfrm>
          <a:prstGeom prst="rect">
            <a:avLst/>
          </a:prstGeom>
          <a:ln w="0">
            <a:noFill/>
          </a:ln>
        </p:spPr>
      </p:sp>
      <p:sp>
        <p:nvSpPr>
          <p:cNvPr id="1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t>
            </a:r>
            <a:r>
              <a:rPr b="1" lang="en-US" sz="1200" spc="-1" strike="noStrike">
                <a:solidFill>
                  <a:srgbClr val="000000"/>
                </a:solidFill>
                <a:latin typeface="Arial"/>
              </a:rPr>
              <a:t>ICT in patient-centered care: studies of provider experienc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roup Health Cooperativ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governed non-profit financing &amp; delivery syst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owned Puget Sound area clinics, 3 specialty centers, 7 contracted hospitals, 860 employed MDs, 560,000 pati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cCare, MyChart, HealthProfile eHRA in produ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of patients (308K) currently use Web portal; ~30% of primary care encounters are on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centered care redesign interven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Initiative organizational redesign (2000-06)</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Centered Medical Home pilot (2007-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designs and metho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ative arms of 2 mixed-methods evaluation studies using semi-structured interviews (n=38 provi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unpublished Group Health administrative dat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116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t>
            </a:r>
            <a:r>
              <a:rPr b="1" lang="en-US" sz="1200" spc="-1" strike="noStrike">
                <a:solidFill>
                  <a:srgbClr val="000000"/>
                </a:solidFill>
                <a:latin typeface="Arial"/>
              </a:rPr>
              <a:t>ICT in care redesign:  the Group Health Access Initi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wide redesign to implement the Patient-Centered Access care model (</a:t>
            </a:r>
            <a:r>
              <a:rPr b="0" i="1" lang="en-US" sz="1200" spc="-1" strike="noStrike">
                <a:solidFill>
                  <a:srgbClr val="000000"/>
                </a:solidFill>
                <a:latin typeface="Arial"/>
              </a:rPr>
              <a:t>Berry et al, 2003</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Web access (MyGroupHealth port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ccess appointment schedul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care redesign/staffing model chang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access to specialists (no gatekeep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ian payment reform/variable compens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urrent phased implementation of EpicCare Ambulatory EMR with My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phased approach to care redesign and ICT implementation &amp; integration with care processes (2000-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1160" y="696960"/>
            <a:ext cx="4648320" cy="3486240"/>
          </a:xfrm>
          <a:prstGeom prst="rect">
            <a:avLst/>
          </a:prstGeom>
          <a:ln w="0">
            <a:noFill/>
          </a:ln>
        </p:spPr>
      </p:sp>
      <p:sp>
        <p:nvSpPr>
          <p:cNvPr id="1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t>
            </a:r>
            <a:r>
              <a:rPr b="1" lang="en-US" sz="1200" spc="-1" strike="noStrike">
                <a:solidFill>
                  <a:srgbClr val="000000"/>
                </a:solidFill>
                <a:latin typeface="Arial"/>
              </a:rPr>
              <a:t>Provider perspectives on ICT in the Access Initi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1:</a:t>
            </a:r>
            <a:r>
              <a:rPr b="0" lang="en-US" sz="1200" spc="-1" strike="noStrike">
                <a:solidFill>
                  <a:srgbClr val="000000"/>
                </a:solidFill>
                <a:latin typeface="Arial"/>
              </a:rPr>
              <a:t>	</a:t>
            </a:r>
            <a:r>
              <a:rPr b="0" lang="en-US" sz="1200" spc="-1" strike="noStrike">
                <a:solidFill>
                  <a:srgbClr val="000000"/>
                </a:solidFill>
                <a:latin typeface="Arial"/>
              </a:rPr>
              <a:t>Improved quality of care (ac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2: </a:t>
            </a:r>
            <a:r>
              <a:rPr b="0" lang="en-US" sz="1200" spc="-1" strike="noStrike">
                <a:solidFill>
                  <a:srgbClr val="000000"/>
                </a:solidFill>
                <a:latin typeface="Arial"/>
              </a:rPr>
              <a:t>	</a:t>
            </a:r>
            <a:r>
              <a:rPr b="0" lang="en-US" sz="1200" spc="-1" strike="noStrike">
                <a:solidFill>
                  <a:srgbClr val="000000"/>
                </a:solidFill>
                <a:latin typeface="Arial"/>
              </a:rPr>
              <a:t>Compromised focus on population health and chronic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3: </a:t>
            </a:r>
            <a:r>
              <a:rPr b="0" lang="en-US" sz="1200" spc="-1" strike="noStrike">
                <a:solidFill>
                  <a:srgbClr val="000000"/>
                </a:solidFill>
                <a:latin typeface="Arial"/>
              </a:rPr>
              <a:t>	</a:t>
            </a:r>
            <a:r>
              <a:rPr b="0" lang="en-US" sz="1200" spc="-1" strike="noStrike">
                <a:solidFill>
                  <a:srgbClr val="000000"/>
                </a:solidFill>
                <a:latin typeface="Arial"/>
              </a:rPr>
              <a:t>Improved patient satisf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4: </a:t>
            </a:r>
            <a:r>
              <a:rPr b="0" lang="en-US" sz="1200" spc="-1" strike="noStrike">
                <a:solidFill>
                  <a:srgbClr val="000000"/>
                </a:solidFill>
                <a:latin typeface="Arial"/>
              </a:rPr>
              <a:t>	</a:t>
            </a:r>
            <a:r>
              <a:rPr b="0" lang="en-US" sz="1200" spc="-1" strike="noStrike">
                <a:solidFill>
                  <a:srgbClr val="000000"/>
                </a:solidFill>
                <a:latin typeface="Arial"/>
              </a:rPr>
              <a:t>Increased MD workload and inhibited their pace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5: </a:t>
            </a:r>
            <a:r>
              <a:rPr b="0" lang="en-US" sz="1200" spc="-1" strike="noStrike">
                <a:solidFill>
                  <a:srgbClr val="000000"/>
                </a:solidFill>
                <a:latin typeface="Arial"/>
              </a:rPr>
              <a:t>	</a:t>
            </a:r>
            <a:r>
              <a:rPr b="0" lang="en-US" sz="1200" spc="-1" strike="noStrike">
                <a:solidFill>
                  <a:srgbClr val="000000"/>
                </a:solidFill>
                <a:latin typeface="Arial"/>
              </a:rPr>
              <a:t>Affected quality of patient/provider interactions (both +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6: </a:t>
            </a:r>
            <a:r>
              <a:rPr b="0" lang="en-US" sz="1200" spc="-1" strike="noStrike">
                <a:solidFill>
                  <a:srgbClr val="000000"/>
                </a:solidFill>
                <a:latin typeface="Arial"/>
              </a:rPr>
              <a:t>	</a:t>
            </a:r>
            <a:r>
              <a:rPr b="0" lang="en-US" sz="1200" spc="-1" strike="noStrike">
                <a:solidFill>
                  <a:srgbClr val="000000"/>
                </a:solidFill>
                <a:latin typeface="Arial"/>
              </a:rPr>
              <a:t>Decreased MD satisf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7: </a:t>
            </a:r>
            <a:r>
              <a:rPr b="0" lang="en-US" sz="1200" spc="-1" strike="noStrike">
                <a:solidFill>
                  <a:srgbClr val="000000"/>
                </a:solidFill>
                <a:latin typeface="Arial"/>
              </a:rPr>
              <a:t>	</a:t>
            </a:r>
            <a:r>
              <a:rPr b="0" lang="en-US" sz="1200" spc="-1" strike="noStrike">
                <a:solidFill>
                  <a:srgbClr val="000000"/>
                </a:solidFill>
                <a:latin typeface="Arial"/>
              </a:rPr>
              <a:t>PCA model unsustainable as-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 Tufano, Doctoral Dissertation,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1160" y="696960"/>
            <a:ext cx="4648320" cy="3486240"/>
          </a:xfrm>
          <a:prstGeom prst="rect">
            <a:avLst/>
          </a:prstGeom>
          <a:ln w="0">
            <a:noFill/>
          </a:ln>
        </p:spPr>
      </p:sp>
      <p:sp>
        <p:nvSpPr>
          <p:cNvPr id="1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t>
            </a:r>
            <a:r>
              <a:rPr b="1" lang="en-US" sz="1200" spc="-1" strike="noStrike">
                <a:solidFill>
                  <a:srgbClr val="000000"/>
                </a:solidFill>
                <a:latin typeface="Arial"/>
              </a:rPr>
              <a:t>Access Initiative:  effects on patient-provider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relationship between the patient and the primary care doc, which I think has really gotten diluted with a lot of these initiatives… I don't think fracturing those relationships has been anybody's goal with these initiatives, but I think it's nonetheless been an unintended result just because of how fragmented things get when we're always running to catch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t [secure messaging] is making the patient feel like they have a stronger connection, and ultimately I think that's a good 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 don't think communication is quite as focused.  You get distracted by putting in orders and finding diagnoses to link with the orders, link with the medications or whatever you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 Tufano, Doctoral Dissertation,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81160" y="696960"/>
            <a:ext cx="4648320" cy="3486240"/>
          </a:xfrm>
          <a:prstGeom prst="rect">
            <a:avLst/>
          </a:prstGeom>
          <a:ln w="0">
            <a:noFill/>
          </a:ln>
        </p:spPr>
      </p:sp>
      <p:sp>
        <p:nvSpPr>
          <p:cNvPr id="1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t>
            </a:r>
            <a:r>
              <a:rPr b="1" lang="en-US" sz="1200" spc="-1" strike="noStrike">
                <a:solidFill>
                  <a:srgbClr val="000000"/>
                </a:solidFill>
                <a:latin typeface="Arial"/>
              </a:rPr>
              <a:t>Access Initiative:  summarized provider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net effect of these initiatives has been to totally change every work process that we do… No, I would not want to go back, but that doesn't mean that things are okay as they are.  The burnout rate among my colleagues is huge and I think that those of us that have managed to retain some semblance of balance do it by almost unacceptable levels of compromise.  Either for ourselves and our personal time, or what we define as good enough care… We didn't get to where we are today by saying ‘Ah, easy come, easy go, I’m doing the best I can, and if I don't feel like it, well, you know’ - that's not what we're here for… The burden of multi-tasking that Epic and secure messaging and our appointing schedules for three patients an hour requires is really punishing… I'm exhausted… Something's gotta give som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 Tufano, Doctoral Dissertation,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1160" y="696960"/>
            <a:ext cx="4648320" cy="3486240"/>
          </a:xfrm>
          <a:prstGeom prst="rect">
            <a:avLst/>
          </a:prstGeom>
          <a:ln w="0">
            <a:noFill/>
          </a:ln>
        </p:spPr>
      </p:sp>
      <p:sp>
        <p:nvSpPr>
          <p:cNvPr id="1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t>
            </a:r>
            <a:r>
              <a:rPr b="1" lang="en-US" sz="1200" spc="-1" strike="noStrike">
                <a:solidFill>
                  <a:srgbClr val="000000"/>
                </a:solidFill>
                <a:latin typeface="Arial"/>
              </a:rPr>
              <a:t>ICT in care redesign:  the Group Health PCMH pi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clinic implementation of the Patient-Centered Medical Home (PCMH) care model (2007-2009)</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t involved 8 adult primary care physicians, their staff, and their ~11,000 adult pati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sizes reduced, MD salaries fixed, staffing increased, appointments length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hensive and participatory approach to PCMH care model design &amp;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 specified use cases for pre-existing ICT mapped to care team member roles &amp; respon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1160" y="696960"/>
            <a:ext cx="4648320" cy="3486240"/>
          </a:xfrm>
          <a:prstGeom prst="rect">
            <a:avLst/>
          </a:prstGeom>
          <a:ln w="0">
            <a:noFill/>
          </a:ln>
        </p:spPr>
      </p:sp>
      <p:sp>
        <p:nvSpPr>
          <p:cNvPr id="1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t>
            </a:r>
            <a:r>
              <a:rPr b="1" lang="en-US" sz="1200" spc="-1" strike="noStrike">
                <a:solidFill>
                  <a:srgbClr val="000000"/>
                </a:solidFill>
                <a:latin typeface="Arial"/>
              </a:rPr>
              <a:t>Provider perspectives on ICT in the PCMH pi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1:</a:t>
            </a:r>
            <a:r>
              <a:rPr b="0" lang="en-US" sz="1200" spc="-1" strike="noStrike">
                <a:solidFill>
                  <a:srgbClr val="000000"/>
                </a:solidFill>
                <a:latin typeface="Arial"/>
              </a:rPr>
              <a:t>	</a:t>
            </a:r>
            <a:r>
              <a:rPr b="0" lang="en-US" sz="1200" spc="-1" strike="noStrike">
                <a:solidFill>
                  <a:srgbClr val="000000"/>
                </a:solidFill>
                <a:latin typeface="Arial"/>
              </a:rPr>
              <a:t>Contributed to better care across </a:t>
            </a:r>
            <a:r>
              <a:rPr b="0" lang="en-US" sz="1100" spc="-1" strike="noStrike">
                <a:solidFill>
                  <a:srgbClr val="000000"/>
                </a:solidFill>
                <a:latin typeface="Arial"/>
              </a:rPr>
              <a:t>full continuum of preventive-</a:t>
            </a:r>
            <a:r>
              <a:rPr b="0" lang="en-US" sz="1100" spc="-1" strike="noStrike">
                <a:solidFill>
                  <a:srgbClr val="000000"/>
                </a:solidFill>
                <a:latin typeface="Arial"/>
              </a:rPr>
              <a:t>	</a:t>
            </a:r>
            <a:r>
              <a:rPr b="0" lang="en-US" sz="1100" spc="-1" strike="noStrike">
                <a:solidFill>
                  <a:srgbClr val="000000"/>
                </a:solidFill>
                <a:latin typeface="Arial"/>
              </a:rPr>
              <a:t>chronic-acut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2: </a:t>
            </a:r>
            <a:r>
              <a:rPr b="0" lang="en-US" sz="1200" spc="-1" strike="noStrike">
                <a:solidFill>
                  <a:srgbClr val="000000"/>
                </a:solidFill>
                <a:latin typeface="Arial"/>
              </a:rPr>
              <a:t>	</a:t>
            </a:r>
            <a:r>
              <a:rPr b="0" lang="en-US" sz="1200" spc="-1" strike="noStrike">
                <a:solidFill>
                  <a:srgbClr val="000000"/>
                </a:solidFill>
                <a:latin typeface="Arial"/>
              </a:rPr>
              <a:t>Stronger patient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3: </a:t>
            </a:r>
            <a:r>
              <a:rPr b="0" lang="en-US" sz="1200" spc="-1" strike="noStrike">
                <a:solidFill>
                  <a:srgbClr val="000000"/>
                </a:solidFill>
                <a:latin typeface="Arial"/>
              </a:rPr>
              <a:t>	</a:t>
            </a:r>
            <a:r>
              <a:rPr b="0" lang="en-US" sz="1200" spc="-1" strike="noStrike">
                <a:solidFill>
                  <a:srgbClr val="000000"/>
                </a:solidFill>
                <a:latin typeface="Arial"/>
              </a:rPr>
              <a:t>Promoted and reflected team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4:</a:t>
            </a:r>
            <a:r>
              <a:rPr b="0" lang="en-US" sz="1200" spc="-1" strike="noStrike">
                <a:solidFill>
                  <a:srgbClr val="000000"/>
                </a:solidFill>
                <a:latin typeface="Arial"/>
              </a:rPr>
              <a:t>	</a:t>
            </a:r>
            <a:r>
              <a:rPr b="0" lang="en-US" sz="1200" spc="-1" strike="noStrike">
                <a:solidFill>
                  <a:srgbClr val="000000"/>
                </a:solidFill>
                <a:latin typeface="Arial"/>
              </a:rPr>
              <a:t>Contributed to a supportive work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5:</a:t>
            </a:r>
            <a:r>
              <a:rPr b="0" lang="en-US" sz="1200" spc="-1" strike="noStrike">
                <a:solidFill>
                  <a:srgbClr val="000000"/>
                </a:solidFill>
                <a:latin typeface="Arial"/>
              </a:rPr>
              <a:t>	</a:t>
            </a:r>
            <a:r>
              <a:rPr b="0" lang="en-US" sz="1200" spc="-1" strike="noStrike">
                <a:solidFill>
                  <a:srgbClr val="000000"/>
                </a:solidFill>
                <a:latin typeface="Arial"/>
              </a:rPr>
              <a:t>Enabled proactive provider information seeking and information </a:t>
            </a:r>
            <a:r>
              <a:rPr b="0" lang="en-US" sz="1200" spc="-1" strike="noStrike">
                <a:solidFill>
                  <a:srgbClr val="000000"/>
                </a:solidFill>
                <a:latin typeface="Arial"/>
              </a:rPr>
              <a:t>	</a:t>
            </a:r>
            <a:r>
              <a:rPr b="0" lang="en-US" sz="1200" spc="-1" strike="noStrike">
                <a:solidFill>
                  <a:srgbClr val="000000"/>
                </a:solidFill>
                <a:latin typeface="Arial"/>
              </a:rPr>
              <a:t>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6: </a:t>
            </a:r>
            <a:r>
              <a:rPr b="0" lang="en-US" sz="1200" spc="-1" strike="noStrike">
                <a:solidFill>
                  <a:srgbClr val="000000"/>
                </a:solidFill>
                <a:latin typeface="Arial"/>
              </a:rPr>
              <a:t>	</a:t>
            </a:r>
            <a:r>
              <a:rPr b="0" lang="en-US" sz="1200" spc="-1" strike="noStrike">
                <a:solidFill>
                  <a:srgbClr val="000000"/>
                </a:solidFill>
                <a:latin typeface="Arial"/>
              </a:rPr>
              <a:t>Improved provider job satisfaction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7:</a:t>
            </a:r>
            <a:r>
              <a:rPr b="0" lang="en-US" sz="1200" spc="-1" strike="noStrike">
                <a:solidFill>
                  <a:srgbClr val="000000"/>
                </a:solidFill>
                <a:latin typeface="Arial"/>
              </a:rPr>
              <a:t>	</a:t>
            </a:r>
            <a:r>
              <a:rPr b="0" lang="en-US" sz="1200" spc="-1" strike="noStrike">
                <a:solidFill>
                  <a:srgbClr val="000000"/>
                </a:solidFill>
                <a:latin typeface="Arial"/>
              </a:rPr>
              <a:t>ICT are necessary and sufficiently-desig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 Tufano, Doctoral Dissertation,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B796F-9695-4D39-94AD-FCF4733F0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B4796-99F4-4997-9293-814AB74EE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FDC91-6520-4257-84B6-FAB96B20A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C67AE-C341-4C13-B1E5-0E1CAA2E7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1E897A-EED8-4773-8AED-8DC2BFBC4C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E6729-CBDE-4DBA-A350-99D28508A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442BB-810C-4CF6-A57A-509312C2F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FAFE3-7E10-4E7B-A9F6-FE87E4ADB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674F0-AD2B-4B55-8154-C5956C3C5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79442-2042-4EC1-9A50-34E7EFC1D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E3ACD-E6AD-4A29-A1B7-717CDC121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B0C65-2F44-4B23-BB6F-0347117DF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91C56-9F9E-42CA-BBCD-D6051BFC0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13455-522F-4F11-81A7-59D73184A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A852B-256C-47D5-A9F6-F5BD3785A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E6C28-FC66-49F9-AFB7-F7C2A102E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44A0FE-63B5-48CA-8448-5853D9E5EF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F9E3C-4EE0-43EB-A05E-311E7D81A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5B4CB-6EBC-460B-B617-0B4DCEE21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B1F74-3D5B-4F50-AB8B-7BDC21081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94418-3701-4F45-98EF-E83D48C35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A0E21-E6C0-483A-8C47-F1A55A49F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C06AA-9BB2-4781-9022-663959BFC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20D03-4DF1-4709-8336-8DB380CCD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3045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162920" y="6248520"/>
            <a:ext cx="1295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8169A-4532-4827-8496-2036563FC473}"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53316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9"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sldNum" idx="6"/>
          </p:nvPr>
        </p:nvSpPr>
        <p:spPr>
          <a:xfrm>
            <a:off x="731484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416CA-E0A3-4912-AE70-CD7719A084A6}"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400" y="990720"/>
            <a:ext cx="6858000" cy="27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vider Perspectives on Information &amp; Communication Technologies in Patient-Centered Care Redesign</a:t>
            </a:r>
            <a:endParaRPr b="0" lang="en-US" sz="3600" spc="-1" strike="noStrike">
              <a:solidFill>
                <a:srgbClr val="000000"/>
              </a:solidFill>
              <a:latin typeface="Arial"/>
            </a:endParaRPr>
          </a:p>
        </p:txBody>
      </p:sp>
      <p:sp>
        <p:nvSpPr>
          <p:cNvPr id="98" name="PlaceHolder 2"/>
          <p:cNvSpPr>
            <a:spLocks noGrp="1"/>
          </p:cNvSpPr>
          <p:nvPr>
            <p:ph type="subTitle"/>
          </p:nvPr>
        </p:nvSpPr>
        <p:spPr>
          <a:xfrm>
            <a:off x="1219320" y="4495320"/>
            <a:ext cx="6400800" cy="16765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m Tufano, PhD, MHA</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Washington and</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Health Research Institut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tember 16, 2009</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AHRQ National Conference</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CMH pilot:  effects on patient-provider interactions</a:t>
            </a:r>
            <a:endParaRPr b="0" lang="en-US" sz="4200" spc="-1" strike="noStrike">
              <a:solidFill>
                <a:srgbClr val="000000"/>
              </a:solidFill>
              <a:latin typeface="Arial"/>
            </a:endParaRPr>
          </a:p>
        </p:txBody>
      </p:sp>
      <p:sp>
        <p:nvSpPr>
          <p:cNvPr id="117" name="PlaceHolder 2"/>
          <p:cNvSpPr>
            <a:spLocks noGrp="1"/>
          </p:cNvSpPr>
          <p:nvPr>
            <p:ph/>
          </p:nvPr>
        </p:nvSpPr>
        <p:spPr>
          <a:xfrm>
            <a:off x="609480" y="1905120"/>
            <a:ext cx="792504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net effect is a positive effect in getting patients' questions answered… And they do feel more connected with the doctor, because he or she responds… They're getting a response from the team.  And they really like that connection… So there's a better connection I think with the team with the electronic chart and all the secure messaging… I'm developing stronger ties… They understand their illnesses better, and they're better able to follow through on the treatments… [Office visits are] time that's better spen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re is no way I can directly ask some questions, but now that I have the tools I can say like ‘Hey, you mentioned in your Health Profile that you're drinking a little bit more alcohol, so how about – what’s happening?’  So I have a starting point there and then I can kind of ask them and get them into an intervention.”</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J. Tufano, Doctoral Dissertation, 2009</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F0581779-97DB-4FB9-BB12-2D2427E0DC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CMH pilot:  summarized provider experience</a:t>
            </a:r>
            <a:endParaRPr b="0" lang="en-US" sz="4200" spc="-1" strike="noStrike">
              <a:solidFill>
                <a:srgbClr val="000000"/>
              </a:solidFill>
              <a:latin typeface="Arial"/>
            </a:endParaRPr>
          </a:p>
        </p:txBody>
      </p:sp>
      <p:sp>
        <p:nvSpPr>
          <p:cNvPr id="119" name=""/>
          <p:cNvSpPr/>
          <p:nvPr/>
        </p:nvSpPr>
        <p:spPr>
          <a:xfrm>
            <a:off x="609480" y="1828800"/>
            <a:ext cx="8201160" cy="4847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I'm finally able to do everything that I learned family practice docs are supposed to do. And I even do more than I thought I could do… I think we all know this is the right way to do medicine so we want to make sure our patients always have that experience.  We're really focused on our patients, making sure that the service and quality of care is always there… I'm using [the ICT] much more extensively and leveraging them more, taking more time to use them.  Looking for opportunities for me to change something, intervene, plan ahead.  As opposed to in the past… I just basically, whatever they presented me in the office with, that was pretty much – I tried to get through that, I felt lucky for that… And then trying not to create more issues for patients to bring up. Whereas now I will ask them ‘is there anything else?’ or ‘what about your preventive screening?’”</a:t>
            </a:r>
            <a:endParaRPr b="0" lang="en-US" sz="2400" spc="-1" strike="noStrike">
              <a:solidFill>
                <a:srgbClr val="336666"/>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J. Tufano, Doctoral Dissertation, 2009</a:t>
            </a:r>
            <a:r>
              <a:rPr b="0" i="1" lang="en-US" sz="2400" spc="-1" strike="noStrike">
                <a:solidFill>
                  <a:srgbClr val="000000"/>
                </a:solidFill>
                <a:latin typeface="Arial"/>
              </a:rPr>
              <a:t> </a:t>
            </a:r>
            <a:endParaRPr b="0" lang="en-US" sz="2400" spc="-1" strike="noStrike">
              <a:solidFill>
                <a:srgbClr val="336666"/>
              </a:solidFill>
              <a:latin typeface="Arial"/>
            </a:endParaRPr>
          </a:p>
        </p:txBody>
      </p:sp>
      <p:sp>
        <p:nvSpPr>
          <p:cNvPr id="3" name="PlaceHolder 2"/>
          <p:cNvSpPr>
            <a:spLocks noGrp="1"/>
          </p:cNvSpPr>
          <p:nvPr>
            <p:ph type="sldNum" idx="3"/>
          </p:nvPr>
        </p:nvSpPr>
        <p:spPr/>
        <p:txBody>
          <a:bodyPr/>
          <a:p>
            <a:fld id="{9BBA54F1-521A-466F-9D6F-8015718D63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Key conclusions and potential policy implications</a:t>
            </a:r>
            <a:endParaRPr b="0" lang="en-US" sz="4200" spc="-1" strike="noStrike">
              <a:solidFill>
                <a:srgbClr val="000000"/>
              </a:solidFill>
              <a:latin typeface="Arial"/>
            </a:endParaRPr>
          </a:p>
        </p:txBody>
      </p:sp>
      <p:sp>
        <p:nvSpPr>
          <p:cNvPr id="121" name="PlaceHolder 2"/>
          <p:cNvSpPr>
            <a:spLocks noGrp="1"/>
          </p:cNvSpPr>
          <p:nvPr>
            <p:ph/>
          </p:nvPr>
        </p:nvSpPr>
        <p:spPr>
          <a:xfrm>
            <a:off x="609120" y="1905120"/>
            <a:ext cx="815364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MH practice certification criteria (NCQA, CMS) should be revised</a:t>
            </a:r>
            <a:endParaRPr b="0" lang="en-US" sz="24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Initiative clinics and the PCMH pilot clinic would likely be classified as Tier 3 medical homes, but…</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s created sharply contrasting provider experiences and assessments of care quality and patient experience</a:t>
            </a:r>
            <a:endParaRPr b="0" lang="en-US" sz="20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determinants of provider adoption of ICT (perceived usefulness and consequences associated with use):</a:t>
            </a:r>
            <a:endParaRPr b="0" lang="en-US" sz="24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defined contextually (e.g., by care model, by approaches to care redesign/ICT implementation)</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vary widely with the same ICT used in the same setting</a:t>
            </a:r>
            <a:endParaRPr b="0" lang="en-US" sz="20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ing optimal contexts for ICT implementation and support is critical to achieving goals of PC care refor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286A620-CD8A-44B7-8DDA-671F0429BF05}"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formation &amp; communication technologies (ICT) that I study</a:t>
            </a:r>
            <a:endParaRPr b="0" lang="en-US" sz="3800" spc="-1" strike="noStrike">
              <a:solidFill>
                <a:srgbClr val="000000"/>
              </a:solidFill>
              <a:latin typeface="Arial"/>
            </a:endParaRPr>
          </a:p>
        </p:txBody>
      </p:sp>
      <p:sp>
        <p:nvSpPr>
          <p:cNvPr id="100"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nical information systems/EMR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rovider/provider clinical messaging</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atient Web portal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atient/provider secure messaging</a:t>
            </a:r>
            <a:endParaRPr b="0" lang="en-US" sz="24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ectronic health risk appraisals &amp; clinical assessment surveys</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health records &amp; application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and desktop</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andalone” and provider-suppor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1839288-5D16-4915-8472-22456797F37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CT in patient-centered care: studies of provider experience </a:t>
            </a:r>
            <a:endParaRPr b="0" lang="en-US" sz="3800" spc="-1" strike="noStrike">
              <a:solidFill>
                <a:srgbClr val="000000"/>
              </a:solidFill>
              <a:latin typeface="Arial"/>
            </a:endParaRPr>
          </a:p>
        </p:txBody>
      </p:sp>
      <p:sp>
        <p:nvSpPr>
          <p:cNvPr id="102" name="PlaceHolder 2"/>
          <p:cNvSpPr>
            <a:spLocks noGrp="1"/>
          </p:cNvSpPr>
          <p:nvPr>
            <p:ph/>
          </p:nvPr>
        </p:nvSpPr>
        <p:spPr>
          <a:xfrm>
            <a:off x="762120" y="1904760"/>
            <a:ext cx="7772400" cy="4647960"/>
          </a:xfrm>
          <a:prstGeom prst="rect">
            <a:avLst/>
          </a:prstGeom>
          <a:noFill/>
          <a:ln w="0">
            <a:noFill/>
          </a:ln>
        </p:spPr>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Group Health Cooperative</a:t>
            </a:r>
            <a:endParaRPr b="0" lang="en-US" sz="24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governed non-profit financing &amp; delivery system</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 owned clinics (20 Puget Sound region), 7 hospitals, 860 employed MDs, 560,000 patients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cCare, MyChart, HealthProfile eHRA in production</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 of patients (308K) currently use Web portal; ~30% of primary care encounters are online</a:t>
            </a:r>
            <a:endParaRPr b="0" lang="en-US" sz="20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centered care redesign interventions</a:t>
            </a:r>
            <a:endParaRPr b="0" lang="en-US" sz="24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Initiative organizational redesign (2000-06)</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Centered Medical Home pilot (2007-09)</a:t>
            </a:r>
            <a:endParaRPr b="0" lang="en-US" sz="20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designs and methods</a:t>
            </a:r>
            <a:endParaRPr b="0" lang="en-US" sz="24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ative arms of 2 mixed-methods evaluation studies using semi-structured interviews (n=38 provid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unpublished Group Health administrative data</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72B8DA9B-77B5-4C1D-8C5E-26B73DCA25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CT in care redesign: the Group Health Access Initiative</a:t>
            </a:r>
            <a:endParaRPr b="0" lang="en-US" sz="3800" spc="-1" strike="noStrike">
              <a:solidFill>
                <a:srgbClr val="000000"/>
              </a:solidFill>
              <a:latin typeface="Arial"/>
            </a:endParaRPr>
          </a:p>
        </p:txBody>
      </p:sp>
      <p:sp>
        <p:nvSpPr>
          <p:cNvPr id="104" name="PlaceHolder 2"/>
          <p:cNvSpPr>
            <a:spLocks noGrp="1"/>
          </p:cNvSpPr>
          <p:nvPr>
            <p:ph/>
          </p:nvPr>
        </p:nvSpPr>
        <p:spPr>
          <a:xfrm>
            <a:off x="762120" y="1905120"/>
            <a:ext cx="77724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wide redesign to implement the Patient-Centered Access care model </a:t>
            </a:r>
            <a:r>
              <a:rPr b="0" lang="en-US" sz="1800" spc="-1" strike="noStrike">
                <a:solidFill>
                  <a:srgbClr val="000000"/>
                </a:solidFill>
                <a:latin typeface="Arial"/>
              </a:rPr>
              <a:t>(</a:t>
            </a:r>
            <a:r>
              <a:rPr b="0" i="1" lang="en-US" sz="1800" spc="-1" strike="noStrike">
                <a:solidFill>
                  <a:srgbClr val="000000"/>
                </a:solidFill>
                <a:latin typeface="Arial"/>
              </a:rPr>
              <a:t>Berry et al, 2003</a:t>
            </a:r>
            <a:r>
              <a:rPr b="0" lang="en-US" sz="1800" spc="-1" strike="noStrike">
                <a:solidFill>
                  <a:srgbClr val="000000"/>
                </a:solidFill>
                <a:latin typeface="Arial"/>
              </a:rPr>
              <a:t>)</a:t>
            </a:r>
            <a:r>
              <a:rPr b="0" lang="en-US" sz="2400" spc="-1" strike="noStrike">
                <a:solidFill>
                  <a:srgbClr val="000000"/>
                </a:solidFill>
                <a:latin typeface="Arial"/>
              </a:rPr>
              <a:t> to better meet patients’ needs and preferences for access to care </a:t>
            </a:r>
            <a:endParaRPr b="0" lang="en-US" sz="24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Web access (MyGroupHealth portal)</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Access appointment scheduling</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care redesign/staffing model chang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access to specialists (no gatekeeping)</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ian payment reform/variable compensation</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urrent phased implementation of EpicCare Ambulatory EMR with MyChart</a:t>
            </a:r>
            <a:endParaRPr b="0" lang="en-US" sz="20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al phased approach to care redesign and ICT implementation &amp; integration with care processes (2000-2006)</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457E274-22CB-4B2B-85EC-E8C61647AF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vider perspectives on ICT in the Access Initiative</a:t>
            </a:r>
            <a:endParaRPr b="0" lang="en-US" sz="4200" spc="-1" strike="noStrike">
              <a:solidFill>
                <a:srgbClr val="000000"/>
              </a:solidFill>
              <a:latin typeface="Arial"/>
            </a:endParaRPr>
          </a:p>
        </p:txBody>
      </p:sp>
      <p:sp>
        <p:nvSpPr>
          <p:cNvPr id="106" name="PlaceHolder 2"/>
          <p:cNvSpPr>
            <a:spLocks noGrp="1"/>
          </p:cNvSpPr>
          <p:nvPr>
            <p:ph/>
          </p:nvPr>
        </p:nvSpPr>
        <p:spPr>
          <a:xfrm>
            <a:off x="762120" y="2057040"/>
            <a:ext cx="7772400" cy="441972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9900"/>
                </a:solidFill>
                <a:latin typeface="Arial"/>
              </a:rPr>
              <a:t>Theme 1</a:t>
            </a:r>
            <a:r>
              <a:rPr b="0" lang="en-US" sz="2500" spc="-1" strike="noStrike">
                <a:solidFill>
                  <a:srgbClr val="000000"/>
                </a:solidFill>
                <a:latin typeface="Arial"/>
              </a:rPr>
              <a:t>:</a:t>
            </a:r>
            <a:r>
              <a:rPr b="0" lang="en-US" sz="2500" spc="-1" strike="noStrike">
                <a:solidFill>
                  <a:srgbClr val="000000"/>
                </a:solidFill>
                <a:latin typeface="Arial"/>
              </a:rPr>
              <a:t>	</a:t>
            </a:r>
            <a:r>
              <a:rPr b="0" lang="en-US" sz="2500" spc="-1" strike="noStrike">
                <a:solidFill>
                  <a:srgbClr val="000000"/>
                </a:solidFill>
                <a:latin typeface="Arial"/>
              </a:rPr>
              <a:t>Improved quality of care (acute)</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0000"/>
                </a:solidFill>
                <a:latin typeface="Arial"/>
              </a:rPr>
              <a:t>Theme 2</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Compromised focus on population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health and chronic care</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9900"/>
                </a:solidFill>
                <a:latin typeface="Arial"/>
              </a:rPr>
              <a:t>Theme 3</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mproved patient satisfaction</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0000"/>
                </a:solidFill>
                <a:latin typeface="Arial"/>
              </a:rPr>
              <a:t>Theme 4</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ncreased MD workload and inhibited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their pace of work</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9900"/>
                </a:solidFill>
                <a:latin typeface="Arial"/>
              </a:rPr>
              <a:t>Theme 5</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Affected quality of patient/provider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nteractions (both + and –)</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0000"/>
                </a:solidFill>
                <a:latin typeface="Arial"/>
              </a:rPr>
              <a:t>Theme 6</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Decreased MD satisfaction</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0000"/>
                </a:solidFill>
                <a:latin typeface="Arial"/>
              </a:rPr>
              <a:t>Theme 7</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PCA model unsustainable as-</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implemented</a:t>
            </a:r>
            <a:endParaRPr b="0" lang="en-US" sz="25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J. Tufano, Doctoral Dissertation, 2009</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A9BB8561-0534-4171-A69C-B79C7662DC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ccess Initiative:  effects on patient-provider interactions</a:t>
            </a:r>
            <a:endParaRPr b="0" lang="en-US" sz="4200" spc="-1" strike="noStrike">
              <a:solidFill>
                <a:srgbClr val="000000"/>
              </a:solidFill>
              <a:latin typeface="Arial"/>
            </a:endParaRPr>
          </a:p>
        </p:txBody>
      </p:sp>
      <p:sp>
        <p:nvSpPr>
          <p:cNvPr id="108" name="PlaceHolder 2"/>
          <p:cNvSpPr>
            <a:spLocks noGrp="1"/>
          </p:cNvSpPr>
          <p:nvPr>
            <p:ph/>
          </p:nvPr>
        </p:nvSpPr>
        <p:spPr>
          <a:xfrm>
            <a:off x="609480" y="1905120"/>
            <a:ext cx="792504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It [secure messaging] is making the patient feel like they have a stronger connection, and ultimately I think that's a good th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I don't think communication is quite as focused.  You get distracted by putting in orders and finding diagnoses to link with the orders, link with the medications or whatever you ord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relationship between the patient and the primary care doc, which I think has really gotten diluted with a lot of these initiatives… I don't think fracturing those relationships has been anybody's goal with these initiatives, but I think it's nonetheless been an unintended result just because of how fragmented things get when we're always running to catch u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J. Tufano, Doctoral Dissertation, 2009</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92D45E4F-1092-4FBA-9C65-DC34F56F83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ccess Initiative:  summarized provider experience</a:t>
            </a:r>
            <a:endParaRPr b="0" lang="en-US" sz="3800" spc="-1" strike="noStrike">
              <a:solidFill>
                <a:srgbClr val="000000"/>
              </a:solidFill>
              <a:latin typeface="Arial"/>
            </a:endParaRPr>
          </a:p>
        </p:txBody>
      </p:sp>
      <p:sp>
        <p:nvSpPr>
          <p:cNvPr id="110"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
          <p:cNvSpPr/>
          <p:nvPr/>
        </p:nvSpPr>
        <p:spPr>
          <a:xfrm>
            <a:off x="914400" y="1905120"/>
            <a:ext cx="7467480" cy="478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net effect of these initiatives has been to totally change every work process that we do… No, I would not want to go back, but that doesn't mean that things are okay as they are.  The burnout rate among my colleagues is huge and I think that those of us that have managed to retain some semblance of balance do it by almost unacceptable levels of compromise.  Either for ourselves and our personal time, or what we define as good enough care… We didn't get to where we are today by saying ‘Ah, easy come, easy go, I’m doing the best I can, and if I don't feel like it, well, you know’ - that's not what we're here for… The burden of multi-tasking that Epic and secure messaging and our appointing schedules for three patients an hour requires is really punishing… I'm exhausted… Something's gotta give somewhere.”</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J. Tufano, Doctoral Dissertation, 2009</a:t>
            </a:r>
            <a:endParaRPr b="0" lang="en-US" sz="1600" spc="-1" strike="noStrike">
              <a:solidFill>
                <a:srgbClr val="336666"/>
              </a:solidFill>
              <a:latin typeface="Arial"/>
            </a:endParaRPr>
          </a:p>
        </p:txBody>
      </p:sp>
      <p:sp>
        <p:nvSpPr>
          <p:cNvPr id="4" name="PlaceHolder 3"/>
          <p:cNvSpPr>
            <a:spLocks noGrp="1"/>
          </p:cNvSpPr>
          <p:nvPr>
            <p:ph type="sldNum" idx="3"/>
          </p:nvPr>
        </p:nvSpPr>
        <p:spPr/>
        <p:txBody>
          <a:bodyPr/>
          <a:p>
            <a:fld id="{E9710A37-F567-4A2A-B34C-4CC3E46358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CT in care redesign:  the Group Health PCMH pilot</a:t>
            </a:r>
            <a:endParaRPr b="0" lang="en-US" sz="3800" spc="-1" strike="noStrike">
              <a:solidFill>
                <a:srgbClr val="000000"/>
              </a:solidFill>
              <a:latin typeface="Arial"/>
            </a:endParaRPr>
          </a:p>
        </p:txBody>
      </p:sp>
      <p:sp>
        <p:nvSpPr>
          <p:cNvPr id="113" name="PlaceHolder 2"/>
          <p:cNvSpPr>
            <a:spLocks noGrp="1"/>
          </p:cNvSpPr>
          <p:nvPr>
            <p:ph/>
          </p:nvPr>
        </p:nvSpPr>
        <p:spPr>
          <a:xfrm>
            <a:off x="609480" y="1905120"/>
            <a:ext cx="79250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clinic implementation of the Patient-Centered Medical Home (PCMH) care model (2007-2009)</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lot involved 8 adult primary care physicians, their staff, and their ~11,000 adult patient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ursors: panel sizes reduced, MD salaries fixed, staffing increased, appointments lengthene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ve and participatory approach to PCMH care model design &amp; implementatio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ention specified use cases for pre-existing ICT mapped to care team member roles &amp; responsibiliti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778E636-D3AE-4F2D-8B99-FD8B0797AA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vider perspectives on ICT in the PCMH pilot</a:t>
            </a:r>
            <a:endParaRPr b="0" lang="en-US" sz="4200" spc="-1" strike="noStrike">
              <a:solidFill>
                <a:srgbClr val="000000"/>
              </a:solidFill>
              <a:latin typeface="Arial"/>
            </a:endParaRPr>
          </a:p>
        </p:txBody>
      </p:sp>
      <p:sp>
        <p:nvSpPr>
          <p:cNvPr id="115" name="PlaceHolder 2"/>
          <p:cNvSpPr>
            <a:spLocks noGrp="1"/>
          </p:cNvSpPr>
          <p:nvPr>
            <p:ph/>
          </p:nvPr>
        </p:nvSpPr>
        <p:spPr>
          <a:xfrm>
            <a:off x="685440" y="1904760"/>
            <a:ext cx="7924680" cy="472428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Theme 1</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Contributed to better care acros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ull continuum of preventive-chronic-acute</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Theme 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ronger patient connections</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Theme 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omoted and reflected teamwork</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Theme 4</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Contributed to a supportive wor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nvironment</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Theme 5</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Enabled proactive provider information</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eeking and information sharing</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Theme 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mproved provider job satisfaction </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Theme 7</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ICT are necessary and sufficiently-</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signed</a:t>
            </a:r>
            <a:endParaRPr b="0" lang="en-US" sz="2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J. Tufano, Doctoral Dissertation, 2009</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C118E443-90C1-4323-AE57-AD5AB8D0B5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03:34:34Z</dcterms:created>
  <dc:creator>University of Washington and Group Health Research Institute</dc:creator>
  <dc:description/>
  <dc:language>en-US</dc:language>
  <cp:lastModifiedBy>Tanya</cp:lastModifiedBy>
  <dcterms:modified xsi:type="dcterms:W3CDTF">2009-10-28T23:20:01Z</dcterms:modified>
  <cp:revision>1754</cp:revision>
  <dc:subject/>
  <dc:title>Information and Communication Technologies Intended to  Enable Patient-Centered Care: Patient and Provider Perspectives</dc:title>
</cp:coreProperties>
</file>