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4EDB-E4CB-4C23-883E-0B9E41A42B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C647-7058-4CA2-AA38-62B2657C5E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79AF-7CCA-444D-8DD7-A3CAAC558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13DD-970C-4F48-BE92-E4F59385B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AC59-7A68-4274-A86F-FDC02B1F9E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17BD-E40F-46D0-B6F0-67444DB25B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1133-3DD5-49DA-ABA2-B53D0D9FA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3488-40D3-4D6C-B4B3-326B77B540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AA06-3449-4A98-B43E-63CE859913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41F9-60EC-425E-8D11-2357B532CA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FEC3-3675-4C9A-9265-66A17C2F6B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DCE4-88F8-44B6-B695-84FAA2916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red Decision Making: Helping Patients Be Partners in Their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3B77-DB05-47C6-9BFB-B4ECB1EF5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ared Decision Making: Helping Patients be Partners in Their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 AHRQ 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a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roan Allison, MD, MS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or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 Massachusetts Medical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shua Seidman, Ph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sident, Center for Information Therapy, Mary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ia Suarez-Almazor, MD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or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 Texas, MD Anderson Canc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e Trontell, MD, MPH – Mod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09480" y="5791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6156360"/>
            <a:ext cx="99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 (W1)"/>
              </a:rPr>
              <a:t>Session 80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 (W1)"/>
              </a:rPr>
              <a:t>Shared Decision Making: Helping Patients be Partners in Their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SAID Risk: Patient Understanding and Communication with Clinici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Jeroan All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veraging Social Science and Technology to Harness the Power of Information Democratiz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Joshua Seid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Decision Aids to Enha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red Decision-Ma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Maria Suarez-Alma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6156360"/>
            <a:ext cx="99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ession 80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hared Decision Making: Helping Patients be Partners in Their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ssion Format &amp;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peaker: 20 minutes total to present/answer brief ques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25 minutes of session for discussion by panelists &amp; audi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6156360"/>
            <a:ext cx="996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ession 80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 (W1)"/>
              </a:rPr>
              <a:t>Shared Decision Making: Helping Patients be Partners in Their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Graham</cp:lastModifiedBy>
  <cp:lastPrinted>2003-01-21T20:19:23Z</cp:lastPrinted>
  <dcterms:modified xsi:type="dcterms:W3CDTF">2009-10-23T20:47:09Z</dcterms:modified>
  <cp:revision>108</cp:revision>
  <dc:subject/>
  <dc:title>AHRQ Slide Template 2004</dc:title>
</cp:coreProperties>
</file>