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4A8A-B261-4808-8026-D51357458E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8875-6FBE-468A-877C-7C486B04D1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56B7-3BDF-4F63-A6A3-8E6E7D040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527C-2FA9-45F3-AFF1-0C26041A5E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1473-7543-4328-8EC4-730EB4782D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C144-C5F6-4988-B041-F9676445B5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21F2-8B25-4587-A3AA-6E61FA168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FE9B-E022-457E-B73D-0B3F6819E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1F7A-C9A1-469C-9DD9-D6FBA46B5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3C18-B47A-4C5C-AEEB-1FE4A96339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41CF-CE4F-49D3-BCA1-BF79045D69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C212-98C4-41BD-865B-71B1750AA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red Decision Making: Helping Patients Be Partners in Their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775F-DBAC-467E-BF46-F8E76BAC5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ared Decision Making: Helping Patients be Partners in Their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 AHRQ 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a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roan Allison, MD, MS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or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 Massachusetts Medical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shua Seidman, Ph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sident, Center for Information Therapy, Mary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ia Suarez-Almazor, MD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or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 Texas, MD Anderson Canc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e Trontell, MD, MPH – Mod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09480" y="5791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6156360"/>
            <a:ext cx="99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 (W1)"/>
              </a:rPr>
              <a:t>Session 80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 (W1)"/>
              </a:rPr>
              <a:t>Shared Decision Making: Helping Patients be Partners in Their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SAID Risk: Patient Understanding and Communication with Clinici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Jeroan All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veraging Social Science and Technology to Harness the Power of Information Democratiz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Joshua Seid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Decision Aids to Enha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red Decision-Ma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Maria Suarez-Alma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6156360"/>
            <a:ext cx="99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ession 80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hared Decision Making: Helping Patients be Partners in Their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ssion Format &amp;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peaker: 20 minutes total to present/answer brief ques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25 minutes of session for discussion by panelists &amp; audi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6156360"/>
            <a:ext cx="99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ession 80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hared Decision Making: Helping Patients be Partners in Their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Graham</cp:lastModifiedBy>
  <cp:lastPrinted>2003-01-21T20:19:23Z</cp:lastPrinted>
  <dcterms:modified xsi:type="dcterms:W3CDTF">2009-10-23T20:47:09Z</dcterms:modified>
  <cp:revision>108</cp:revision>
  <dc:subject/>
  <dc:title>AHRQ Slide Template 2004</dc:title>
</cp:coreProperties>
</file>