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wmf" ContentType="image/x-wmf"/>
  <Override PartName="/ppt/media/image35.png" ContentType="image/png"/>
  <Override PartName="/ppt/media/image12.png" ContentType="image/png"/>
  <Override PartName="/ppt/media/image30.jpeg" ContentType="image/jpeg"/>
  <Override PartName="/ppt/media/image7.wmf" ContentType="image/x-wmf"/>
  <Override PartName="/ppt/media/image36.png" ContentType="image/png"/>
  <Override PartName="/ppt/media/image13.png" ContentType="image/png"/>
  <Override PartName="/ppt/media/image37.png" ContentType="image/png"/>
  <Override PartName="/ppt/media/image38.jpeg" ContentType="image/jpeg"/>
  <Override PartName="/ppt/media/image34.png" ContentType="image/png"/>
  <Override PartName="/ppt/media/image40.jpeg" ContentType="image/jpeg"/>
  <Override PartName="/ppt/media/image39.png" ContentType="image/png"/>
  <Override PartName="/ppt/media/image6.jpeg" ContentType="image/jpeg"/>
  <Override PartName="/ppt/media/image5.wmf" ContentType="image/x-wmf"/>
  <Override PartName="/ppt/media/image28.wmf" ContentType="image/x-wmf"/>
  <Override PartName="/ppt/media/image11.png" ContentType="image/png"/>
  <Override PartName="/ppt/media/image10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2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37"/>
          </p:nvPr>
        </p:nvSpPr>
        <p:spPr>
          <a:xfrm>
            <a:off x="3890520" y="0"/>
            <a:ext cx="2992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sldImg"/>
          </p:nvPr>
        </p:nvSpPr>
        <p:spPr>
          <a:xfrm>
            <a:off x="945720" y="685800"/>
            <a:ext cx="491508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ftr" idx="38"/>
          </p:nvPr>
        </p:nvSpPr>
        <p:spPr>
          <a:xfrm>
            <a:off x="0" y="8849880"/>
            <a:ext cx="2992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 type="sldNum" idx="39"/>
          </p:nvPr>
        </p:nvSpPr>
        <p:spPr>
          <a:xfrm>
            <a:off x="3890520" y="8849880"/>
            <a:ext cx="2992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813AA89-87A7-424E-988C-7DA2788651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1C67A0C-3D42-473B-9EBB-AD6E3838A72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47880" y="685800"/>
            <a:ext cx="4911480" cy="3510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98892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59E3D01-8FAD-44F3-AE1C-25D9BE4987E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CA8EF45-0555-4E19-A47F-9391197B524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47880" y="685800"/>
            <a:ext cx="4911480" cy="3510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891D-9B94-433E-BDA8-6D9A7B1E4C0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8892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898200" y="4425480"/>
            <a:ext cx="50115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D306C09-E9CC-4C01-9B91-CA61A796AA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2"/>
          <p:cNvSpPr/>
          <p:nvPr/>
        </p:nvSpPr>
        <p:spPr>
          <a:xfrm>
            <a:off x="0" y="0"/>
            <a:ext cx="299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diana Health Information Exchange Over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6"/>
          <p:cNvSpPr/>
          <p:nvPr/>
        </p:nvSpPr>
        <p:spPr>
          <a:xfrm>
            <a:off x="0" y="8850240"/>
            <a:ext cx="299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pyright © 2006 Indiana Health Information Exchange, In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7"/>
          <p:cNvSpPr/>
          <p:nvPr/>
        </p:nvSpPr>
        <p:spPr>
          <a:xfrm>
            <a:off x="3890880" y="8850240"/>
            <a:ext cx="29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E27CF2F-B00B-422A-B27F-463733B30573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88920" y="6951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7240" y="4416480"/>
            <a:ext cx="54835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28F6-57A9-4D2D-8A56-D5551FC9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D20C-81D6-4364-AD31-E79FE150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507B-29D6-4299-958F-6A84A109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1CDB-83AA-4DFE-97B9-CF96993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5B76-D3AE-413E-8175-CFFBDA39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3348-C049-4324-B99A-0899A767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87F0-2FEE-4063-80AB-FA0AE3CF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1C83-9F1D-452E-B049-7C83D55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76F1-421E-4285-B146-E27D9702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8A615-5974-4557-AB64-CC780EB9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6B6D-9C61-4BA0-A967-22B854E7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C1F1-7BA0-45A4-B950-9FFA007C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10FF-EB9B-4ADC-9C64-D3D52648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020DA-3644-4E87-800A-FA3EFF80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32D6-7CC9-4320-8593-3CF23029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C27BC-3718-4B5D-90B7-50AE2E68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BFB01-3C42-4FE6-A207-FF7588FB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BA668-0A8E-4D52-846B-1160B971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50F6F-8D34-43A6-B033-C0D45606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564B5-8D1B-4AE8-B846-4E8B1879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9D465-0576-47EA-AE75-CD214A2A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73C2E-CDE3-44E7-BB2D-11714D56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03648-D86E-4D8C-BD52-98364A7C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A8AC5-3BD2-4B70-8C0F-68F21967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199BB-AEB8-4AF6-B6E8-2B80F4AB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DC9AA-81A9-4303-BC35-BAC5D938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55CE-17BC-41A7-9BF0-67933448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55B2-D6EC-4436-ADE4-C3A9CD4C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11A30-54BA-488C-98BA-0DE4A030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E1FA2-290F-4745-92B1-24BC76FE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38AA5-B790-4FEE-B801-ED560E1F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B07FC-5E09-4B5E-93B7-0482621F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480BF-D87E-4F80-A362-AA6133F0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0831D-AA4A-4040-A204-DF48209E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3D9BE-9D6C-4FCF-AC37-C9C7948E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D317A-02BE-49C2-AE79-A16611F5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09C13-8BC0-476C-A8AC-F7B2378D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222E1-876D-4365-8477-B2BDE23C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06664-F4DC-4E3D-BA4A-7BED9C4A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AE34A-42C9-4956-B667-63A6A990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8A8EF-FD22-4FAF-A705-F537407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6424F-52B8-40D3-AB1E-983A7DDA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8951B-40A9-401C-A617-F2E49D8B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2172-EB51-43DD-A040-3743DBB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EDBA9-3C2C-4B7B-B714-8C7B0FE8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E6773-4A05-4C29-8F16-448DD187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4289C-4387-4093-8060-0A9455DC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7FEBB-1947-423F-8E64-7DDA04E7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4C36E-FFE3-4517-BDF1-A99D2CFE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721E9-4E5B-4C35-87EE-C1400D25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27B40-ABDA-47D4-BF45-183E0229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E43F0-2901-4EDD-A479-966BEB25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CFE81-306C-4782-8108-3EE81786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3104F-1941-48D0-835F-156EF733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02A3B-67B8-4879-A2E0-7B2AD551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FB5F5-BF62-4C67-A3A9-D5798AE3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C5B4B-A2FA-48BC-936B-6766AFFD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3368A-D2BF-4BDC-9CA2-5155E65E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815F5-4172-4F70-B108-AD51B5D4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CBA3A-80ED-4F12-9E41-D34D952F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26204-E688-4962-8400-4C424499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591BE-78B1-458C-A7DC-D39045A4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524D9-59C5-44B9-BC2C-3F0336E7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A428F-EC80-4056-8A08-1039F8D4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39D8B-386C-4DA9-80C9-69E42B73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53291-9DE0-4806-AB3B-C503F2DC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118C4-AC1A-42CF-9FB8-B7E46903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32C55-1CB1-4FF1-9ED1-E16FC626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5EB71-2758-45BE-82DB-652FB25E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1639A-995E-4D46-9A7A-84932996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3A870-E23C-4BC4-84A8-FA6A5825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6CDBF-20DB-48AF-98A8-68ACACE9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D0ACB-8FBD-45D8-97A5-FE49B5D8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40DBE-2DC4-4E1D-9324-5CCD219D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BB6EA-057B-4982-8C29-B82F509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771B8-A26C-4607-90FD-35B84015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75408-323E-4EBD-9F38-086FFE96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CC2BD-FD50-4ED1-B220-39809DAD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E42ED-6851-4F92-A03A-2430DCC2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7546F-732E-4D0E-9555-BC1381B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06199-D011-49FD-ADF2-E53FCA9F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4D529-0ED2-4F90-A18F-698C5CE5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D6A6D-2D9D-47E3-A5AD-A3A13B46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9FF0A-23C2-49F4-840A-4CF15F61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9D40B-E223-4112-A050-1579306C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CCD11-EEAD-484B-9B48-DFA073DA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DF38B-5072-4CA7-BD98-9EC85BC5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6E39D-35A2-4474-9BF1-44E8FCEF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E7F92-1E16-4BF7-9F39-C4EDEC09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62F8D-A392-4197-A612-BF5D721B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4BD58-0CE6-4197-A0DD-080361DF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B3F83-3B5A-4693-B49E-C21763EB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01904-A408-480B-91EB-0D18C95B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DFAA9-4535-46F0-A4FE-836F6FAB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07328-4713-4F7E-88D2-051F94DB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E9B68-305B-479F-91BC-F4C378CC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512C5-896B-47D0-AAA0-74E88AC7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4970C-09D4-48D5-8F17-90B85EF3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1A901-4334-4D44-AB10-854B42A6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DCC39-AF14-4CDF-81A1-3D73B36F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A3258-CC4A-4164-A0E9-7CB71D41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97048-A14E-49F8-8FD8-39C3FC26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49FE6-BE36-4F04-819D-AA9CC3C9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27518-AD21-4F1D-9E41-EB00FB69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7C32C-EE7D-48AF-B0CE-1D1FC43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001CB-90AA-41F4-B500-A230BB52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E512A-AB4F-4C4D-B520-B4DDCF27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95BC7-3E3C-4215-A23E-0EAE89D5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5AC3B-A7BD-410D-9AA2-4C92BC2B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259C0-D893-4EDC-AF69-6E8CA425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A9EFD-4250-4798-B74D-D4D41E2B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F1FEF-3639-4310-891A-7FB3214F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96BC5-BFE5-429A-8BAE-6630071D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6DD5C-41DE-46B6-929E-D1106EAC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4F9AB-3135-435C-A8A2-46B4DBDF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B1908-DFF0-4D16-A92E-29730E32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70344-8CA9-42F1-8B58-CBEB73B1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15A7E-CF25-4921-82EB-55FCDEB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D3C75-BA4D-4578-A6B0-76FFB063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69478-F345-4323-990C-CC0AE4E4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44C-6723-4AAD-88CB-3C75A691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F43-7F30-47E8-81D2-30BA3996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EC6-0710-497D-97C7-C0CB9839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A55-917E-4FF4-89C4-9C0EFD73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E41-28C8-444C-9395-5167FC92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05D-7A91-4366-9781-928ED364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285-0710-4C7F-9184-E269278C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47B-A9C4-4783-8152-76120814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FD2-AE77-4B23-8083-B2DFE4E3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2CA-B4CA-4A20-B82F-51BC69AC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76E-35A9-47AE-A96E-81601BD1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5D3-6EE6-436F-BA28-6748E344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3F70-6EE5-49B7-A8FF-B9C922DB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9391-D486-427B-A7F5-C836E05E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5472-BC90-4C1F-A873-46AF60CD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3C41-2CE2-4648-A25A-A6414CE9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655D-D5FC-40CD-904D-1FAD5786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593280"/>
            <a:ext cx="899136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3B21-DB9A-4433-AF1E-FC2DE4BD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D3AA-2760-4F18-B3B4-5D4BDA51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A265-5199-4D48-99AD-EA607CF7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C0D7-4F01-438C-AEAA-004B0F36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089F-6288-4FA8-A836-E219602E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6826-CBC3-45FC-835C-18B1D6F0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307B-7555-4127-BD03-69259D48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58D56A01-4D8F-4135-9F82-6F6FFF36F0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0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3"/>
          <a:stretch/>
        </p:blipFill>
        <p:spPr>
          <a:xfrm>
            <a:off x="0" y="492120"/>
            <a:ext cx="2468520" cy="655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green_sideimage"/>
          <p:cNvPicPr/>
          <p:nvPr/>
        </p:nvPicPr>
        <p:blipFill>
          <a:blip r:embed="rId4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7"/>
          </p:nvPr>
        </p:nvSpPr>
        <p:spPr>
          <a:xfrm>
            <a:off x="73980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8"/>
          </p:nvPr>
        </p:nvSpPr>
        <p:spPr>
          <a:xfrm>
            <a:off x="3279600" y="63813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9"/>
          </p:nvPr>
        </p:nvSpPr>
        <p:spPr>
          <a:xfrm>
            <a:off x="6988320" y="6381360"/>
            <a:ext cx="223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81FE-1A1F-45D6-9682-57CCEFB62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0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1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2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44AE-4A4E-4D22-B637-BBCFE833A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4"/>
          <a:stretch/>
        </p:blipFill>
        <p:spPr>
          <a:xfrm>
            <a:off x="0" y="507960"/>
            <a:ext cx="2468520" cy="60156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3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4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5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CE30-8CEB-4C10-928A-B009C102C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37D3-7BA7-4B59-B55B-9684F06D1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9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0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21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E587-93D5-405E-9C8C-9ACF5840E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2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3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24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F162-3ED8-465E-A1FB-FF9F32E24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25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26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27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CBF3-CD11-4215-A7F4-37734C802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28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29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0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DBA9-6978-4424-A1BD-D05FD921F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33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Master title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3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F2F0-1F4D-4BC1-8058-55ABB3B9D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11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34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35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36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CAFE-6048-471E-8724-361D43C20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D7273775-0121-4BED-994C-70E3EA35AA6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81000" y="660744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740592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614160" cy="1238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green_sideimage"/>
          <p:cNvPicPr/>
          <p:nvPr/>
        </p:nvPicPr>
        <p:blipFill>
          <a:blip r:embed="rId3"/>
          <a:stretch/>
        </p:blipFill>
        <p:spPr>
          <a:xfrm>
            <a:off x="-6480" y="1212840"/>
            <a:ext cx="171720" cy="565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47592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64640" y="1599840"/>
            <a:ext cx="84315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a54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a547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1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2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3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B343-6732-46A9-B699-04EA8F593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518F8541-64B6-4F87-B4EE-9120A6A524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4D5CC595-2E61-44BD-8496-82D37FF0C21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57960" y="6607800"/>
            <a:ext cx="5918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7360200" y="6559920"/>
            <a:ext cx="147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56F83F0C-67AC-426F-BB01-0426BF079AC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74160" y="660780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2"/>
          <p:cNvSpPr/>
          <p:nvPr/>
        </p:nvSpPr>
        <p:spPr>
          <a:xfrm>
            <a:off x="876636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6FEF008D-C362-4CD1-A302-4E45FC709C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355896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77040" y="660744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74037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0" y="533520"/>
            <a:ext cx="9601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tle 1"/>
          <p:cNvSpPr/>
          <p:nvPr/>
        </p:nvSpPr>
        <p:spPr>
          <a:xfrm>
            <a:off x="763560" y="488880"/>
            <a:ext cx="865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4"/>
          </p:nvPr>
        </p:nvSpPr>
        <p:spPr>
          <a:xfrm>
            <a:off x="4795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5"/>
          </p:nvPr>
        </p:nvSpPr>
        <p:spPr>
          <a:xfrm>
            <a:off x="3279600" y="6287760"/>
            <a:ext cx="304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6"/>
          </p:nvPr>
        </p:nvSpPr>
        <p:spPr>
          <a:xfrm>
            <a:off x="6880320" y="6287760"/>
            <a:ext cx="2241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4F18-11A4-40AC-AC14-245E298AB1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4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17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19.pn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jpe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19.png"/><Relationship Id="rId15" Type="http://schemas.openxmlformats.org/officeDocument/2006/relationships/image" Target="../media/image38.jpeg"/><Relationship Id="rId16" Type="http://schemas.openxmlformats.org/officeDocument/2006/relationships/image" Target="../media/image31.png"/><Relationship Id="rId17" Type="http://schemas.openxmlformats.org/officeDocument/2006/relationships/image" Target="../media/image39.png"/><Relationship Id="rId18" Type="http://schemas.openxmlformats.org/officeDocument/2006/relationships/image" Target="../media/image40.jpe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4.png"/><Relationship Id="rId24" Type="http://schemas.openxmlformats.org/officeDocument/2006/relationships/image" Target="../media/image35.png"/><Relationship Id="rId25" Type="http://schemas.openxmlformats.org/officeDocument/2006/relationships/image" Target="../media/image36.png"/><Relationship Id="rId26" Type="http://schemas.openxmlformats.org/officeDocument/2006/relationships/image" Target="../media/image37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4.png"/><Relationship Id="rId32" Type="http://schemas.openxmlformats.org/officeDocument/2006/relationships/image" Target="../media/image35.png"/><Relationship Id="rId33" Type="http://schemas.openxmlformats.org/officeDocument/2006/relationships/image" Target="../media/image36.png"/><Relationship Id="rId34" Type="http://schemas.openxmlformats.org/officeDocument/2006/relationships/image" Target="../media/image37.png"/><Relationship Id="rId3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36240" y="1752480"/>
            <a:ext cx="8883720" cy="745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EANINGFUL USE</a:t>
            </a:r>
            <a:br>
              <a:rPr sz="2200"/>
            </a:b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1417320" y="3733920"/>
            <a:ext cx="6721560" cy="366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buClr>
                <a:srgbClr val="1f497d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September 14,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Picture 4" descr="MAeHC_0"/>
          <p:cNvPicPr/>
          <p:nvPr/>
        </p:nvPicPr>
        <p:blipFill>
          <a:blip r:embed="rId1"/>
          <a:stretch/>
        </p:blipFill>
        <p:spPr>
          <a:xfrm>
            <a:off x="3635280" y="4800600"/>
            <a:ext cx="2286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6518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INGFUL USE INTEROPERABILITY REQUIREMENTS COULD PUSH THE ENTIRE INDUSTRY TOWARD HI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grpSp>
        <p:nvGrpSpPr>
          <p:cNvPr id="1199" name="Group 16"/>
          <p:cNvGrpSpPr/>
          <p:nvPr/>
        </p:nvGrpSpPr>
        <p:grpSpPr>
          <a:xfrm>
            <a:off x="257040" y="1836720"/>
            <a:ext cx="4224240" cy="1365120"/>
            <a:chOff x="257040" y="1836720"/>
            <a:chExt cx="4224240" cy="1365120"/>
          </a:xfrm>
        </p:grpSpPr>
        <p:sp>
          <p:nvSpPr>
            <p:cNvPr id="1200" name="Text Box 4"/>
            <p:cNvSpPr/>
            <p:nvPr/>
          </p:nvSpPr>
          <p:spPr>
            <a:xfrm>
              <a:off x="1054800" y="1836720"/>
              <a:ext cx="3426480" cy="136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b results deliver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scrib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aims and eligibility check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y &amp; immunization reporting, if availabl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Text Box 7"/>
            <p:cNvSpPr/>
            <p:nvPr/>
          </p:nvSpPr>
          <p:spPr>
            <a:xfrm>
              <a:off x="257040" y="221616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23"/>
          <p:cNvSpPr/>
          <p:nvPr/>
        </p:nvSpPr>
        <p:spPr>
          <a:xfrm>
            <a:off x="5132520" y="1835280"/>
            <a:ext cx="4290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347760" indent="-46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s volume of transactions that are most commonly happening tod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b to provi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4680">
              <a:lnSpc>
                <a:spcPct val="100000"/>
              </a:lnSpc>
              <a:spcAft>
                <a:spcPts val="451"/>
              </a:spcAft>
              <a:buClr>
                <a:srgbClr val="2a54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 to pharma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13"/>
          <p:cNvSpPr/>
          <p:nvPr/>
        </p:nvSpPr>
        <p:spPr>
          <a:xfrm rot="5400000">
            <a:off x="4507200" y="2283480"/>
            <a:ext cx="986040" cy="241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Group 17"/>
          <p:cNvGrpSpPr/>
          <p:nvPr/>
        </p:nvGrpSpPr>
        <p:grpSpPr>
          <a:xfrm>
            <a:off x="262800" y="3201840"/>
            <a:ext cx="9093600" cy="2005200"/>
            <a:chOff x="262800" y="3201840"/>
            <a:chExt cx="9093600" cy="2005200"/>
          </a:xfrm>
        </p:grpSpPr>
        <p:sp>
          <p:nvSpPr>
            <p:cNvPr id="1205" name="Text Box 5"/>
            <p:cNvSpPr/>
            <p:nvPr/>
          </p:nvSpPr>
          <p:spPr>
            <a:xfrm>
              <a:off x="1055160" y="3309840"/>
              <a:ext cx="3427200" cy="1897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stry reporting and reporting to public healt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ectronic orde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lth summaries for continuity of car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eive public health alerts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me monitor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pulate PHR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8"/>
            <p:cNvSpPr/>
            <p:nvPr/>
          </p:nvSpPr>
          <p:spPr>
            <a:xfrm>
              <a:off x="262800" y="396072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23"/>
            <p:cNvSpPr/>
            <p:nvPr/>
          </p:nvSpPr>
          <p:spPr>
            <a:xfrm>
              <a:off x="5212440" y="320184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stantially steps up exchang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 to la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rmacy to provide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hospital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offic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public health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 to patien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ice to patient &amp; vice vers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spital/office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AutoShape 14"/>
            <p:cNvSpPr/>
            <p:nvPr/>
          </p:nvSpPr>
          <p:spPr>
            <a:xfrm rot="5400000">
              <a:off x="4507920" y="413856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Group 18"/>
          <p:cNvGrpSpPr/>
          <p:nvPr/>
        </p:nvGrpSpPr>
        <p:grpSpPr>
          <a:xfrm>
            <a:off x="262800" y="5326200"/>
            <a:ext cx="9093600" cy="1214280"/>
            <a:chOff x="262800" y="5326200"/>
            <a:chExt cx="9093600" cy="1214280"/>
          </a:xfrm>
        </p:grpSpPr>
        <p:sp>
          <p:nvSpPr>
            <p:cNvPr id="1210" name="Text Box 6"/>
            <p:cNvSpPr/>
            <p:nvPr/>
          </p:nvSpPr>
          <p:spPr>
            <a:xfrm>
              <a:off x="1055160" y="5326200"/>
              <a:ext cx="3427200" cy="1214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 comprehensive data from all available sourc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perience of care reporting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115920"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ical device interoperability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9"/>
            <p:cNvSpPr/>
            <p:nvPr/>
          </p:nvSpPr>
          <p:spPr>
            <a:xfrm>
              <a:off x="262800" y="56736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23"/>
            <p:cNvSpPr/>
            <p:nvPr/>
          </p:nvSpPr>
          <p:spPr>
            <a:xfrm>
              <a:off x="5212440" y="5554800"/>
              <a:ext cx="414396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90000" tIns="48240" bIns="48240" anchor="t">
              <a:noAutofit/>
            </a:bodyPr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rts to envision routine availability of relatively rich exchange transactio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yone to anyone”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47760" indent="-4680">
                <a:lnSpc>
                  <a:spcPct val="100000"/>
                </a:lnSpc>
                <a:spcAft>
                  <a:spcPts val="451"/>
                </a:spcAft>
                <a:buClr>
                  <a:srgbClr val="2a547e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ient to reporting entiti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15"/>
            <p:cNvSpPr/>
            <p:nvPr/>
          </p:nvSpPr>
          <p:spPr>
            <a:xfrm rot="5400000">
              <a:off x="4507920" y="5851440"/>
              <a:ext cx="985680" cy="239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Text Box 11"/>
          <p:cNvSpPr/>
          <p:nvPr/>
        </p:nvSpPr>
        <p:spPr>
          <a:xfrm>
            <a:off x="267840" y="1303200"/>
            <a:ext cx="46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aningful Use objectives requiring health excha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ATED STATE-LEVEL HIE FUNDING ALLO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Object 2" descr="bar graph of estimated state level HIE funding allocations"/>
          <p:cNvPicPr/>
          <p:nvPr/>
        </p:nvPicPr>
        <p:blipFill>
          <a:blip r:embed="rId1"/>
          <a:stretch/>
        </p:blipFill>
        <p:spPr>
          <a:xfrm>
            <a:off x="0" y="1523880"/>
            <a:ext cx="9448920" cy="449604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5"/>
          <p:cNvSpPr/>
          <p:nvPr/>
        </p:nvSpPr>
        <p:spPr>
          <a:xfrm>
            <a:off x="383040" y="14479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 million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5" descr="Workflow showing the following steps:&#13;&#10;&#13;&#10;Transport of measure to EHR, Data Collection Assistant or Quality Report Processing Entity.&#13;&#10;Transport of any patient information from the EHR(s) to the Data Collection Assistant.&#13;&#10;Transport of the set of data required for a specific quality report to the Quality Report Processing Entity.&#13;&#10;Transport of the quality report to the Receiver (including all patient level data, or the performance summary).&#13;&#10;"/>
          <p:cNvPicPr/>
          <p:nvPr/>
        </p:nvPicPr>
        <p:blipFill>
          <a:blip r:embed="rId1"/>
          <a:stretch/>
        </p:blipFill>
        <p:spPr>
          <a:xfrm>
            <a:off x="347760" y="914400"/>
            <a:ext cx="9010440" cy="5342040"/>
          </a:xfrm>
          <a:prstGeom prst="rect">
            <a:avLst/>
          </a:prstGeom>
          <a:ln w="0">
            <a:noFill/>
          </a:ln>
        </p:spPr>
      </p:pic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Measure Process Workflow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0" name="TextBox 3"/>
          <p:cNvSpPr/>
          <p:nvPr/>
        </p:nvSpPr>
        <p:spPr>
          <a:xfrm>
            <a:off x="5650200" y="6324480"/>
            <a:ext cx="346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 HIT Standards Committee, 9/15/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ARCHITECTURE AND DATA FLOWS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1222" name="Group 3"/>
          <p:cNvGrpSpPr/>
          <p:nvPr/>
        </p:nvGrpSpPr>
        <p:grpSpPr>
          <a:xfrm>
            <a:off x="380880" y="3352680"/>
            <a:ext cx="7570800" cy="1600200"/>
            <a:chOff x="380880" y="3352680"/>
            <a:chExt cx="7570800" cy="1600200"/>
          </a:xfrm>
        </p:grpSpPr>
        <p:sp>
          <p:nvSpPr>
            <p:cNvPr id="1223" name="AutoShape 4"/>
            <p:cNvSpPr/>
            <p:nvPr/>
          </p:nvSpPr>
          <p:spPr>
            <a:xfrm>
              <a:off x="40608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AutoShape 5"/>
            <p:cNvSpPr/>
            <p:nvPr/>
          </p:nvSpPr>
          <p:spPr>
            <a:xfrm>
              <a:off x="54324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AutoShape 6"/>
            <p:cNvSpPr/>
            <p:nvPr/>
          </p:nvSpPr>
          <p:spPr>
            <a:xfrm>
              <a:off x="68040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bfbfb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7"/>
            <p:cNvSpPr/>
            <p:nvPr/>
          </p:nvSpPr>
          <p:spPr>
            <a:xfrm flipV="1">
              <a:off x="4114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8"/>
            <p:cNvSpPr/>
            <p:nvPr/>
          </p:nvSpPr>
          <p:spPr>
            <a:xfrm flipV="1">
              <a:off x="4495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9"/>
            <p:cNvSpPr/>
            <p:nvPr/>
          </p:nvSpPr>
          <p:spPr>
            <a:xfrm flipV="1">
              <a:off x="4876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V="1">
              <a:off x="5257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11"/>
            <p:cNvSpPr/>
            <p:nvPr/>
          </p:nvSpPr>
          <p:spPr>
            <a:xfrm flipV="1">
              <a:off x="5638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12"/>
            <p:cNvSpPr/>
            <p:nvPr/>
          </p:nvSpPr>
          <p:spPr>
            <a:xfrm flipV="1">
              <a:off x="6019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13"/>
            <p:cNvSpPr/>
            <p:nvPr/>
          </p:nvSpPr>
          <p:spPr>
            <a:xfrm flipV="1">
              <a:off x="6400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14"/>
            <p:cNvSpPr/>
            <p:nvPr/>
          </p:nvSpPr>
          <p:spPr>
            <a:xfrm flipV="1">
              <a:off x="6781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15"/>
            <p:cNvSpPr/>
            <p:nvPr/>
          </p:nvSpPr>
          <p:spPr>
            <a:xfrm flipV="1">
              <a:off x="7162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16"/>
            <p:cNvSpPr/>
            <p:nvPr/>
          </p:nvSpPr>
          <p:spPr>
            <a:xfrm flipV="1">
              <a:off x="7543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17"/>
            <p:cNvSpPr/>
            <p:nvPr/>
          </p:nvSpPr>
          <p:spPr>
            <a:xfrm flipV="1">
              <a:off x="7924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7" name="Picture 18" descr=""/>
            <p:cNvPicPr/>
            <p:nvPr/>
          </p:nvPicPr>
          <p:blipFill>
            <a:blip r:embed="rId1"/>
            <a:srcRect l="0" t="13383" r="71618" b="39343"/>
            <a:stretch/>
          </p:blipFill>
          <p:spPr>
            <a:xfrm>
              <a:off x="4191120" y="362412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Picture 19" descr=""/>
            <p:cNvPicPr/>
            <p:nvPr/>
          </p:nvPicPr>
          <p:blipFill>
            <a:blip r:embed="rId2"/>
            <a:srcRect l="0" t="13383" r="71618" b="39343"/>
            <a:stretch/>
          </p:blipFill>
          <p:spPr>
            <a:xfrm>
              <a:off x="5613480" y="363384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Picture 20" descr=""/>
            <p:cNvPicPr/>
            <p:nvPr/>
          </p:nvPicPr>
          <p:blipFill>
            <a:blip r:embed="rId3"/>
            <a:srcRect l="0" t="0" r="16112" b="8978"/>
            <a:stretch/>
          </p:blipFill>
          <p:spPr>
            <a:xfrm>
              <a:off x="6935760" y="3657600"/>
              <a:ext cx="9414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Rectangle 21"/>
            <p:cNvSpPr/>
            <p:nvPr/>
          </p:nvSpPr>
          <p:spPr>
            <a:xfrm>
              <a:off x="4114800" y="4191120"/>
              <a:ext cx="111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ckton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2"/>
            <p:cNvSpPr/>
            <p:nvPr/>
          </p:nvSpPr>
          <p:spPr>
            <a:xfrm>
              <a:off x="5388120" y="4191120"/>
              <a:ext cx="11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buryport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3"/>
            <p:cNvSpPr/>
            <p:nvPr/>
          </p:nvSpPr>
          <p:spPr>
            <a:xfrm>
              <a:off x="6759720" y="4191120"/>
              <a:ext cx="119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th Adams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24"/>
            <p:cNvSpPr/>
            <p:nvPr/>
          </p:nvSpPr>
          <p:spPr>
            <a:xfrm>
              <a:off x="380880" y="360108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Community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HI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25"/>
            <p:cNvSpPr/>
            <p:nvPr/>
          </p:nvSpPr>
          <p:spPr>
            <a:xfrm>
              <a:off x="380880" y="47242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utoShape 26"/>
            <p:cNvSpPr/>
            <p:nvPr/>
          </p:nvSpPr>
          <p:spPr>
            <a:xfrm rot="5400000">
              <a:off x="2366640" y="3727440"/>
              <a:ext cx="52380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Group 27"/>
          <p:cNvGrpSpPr/>
          <p:nvPr/>
        </p:nvGrpSpPr>
        <p:grpSpPr>
          <a:xfrm>
            <a:off x="380880" y="838080"/>
            <a:ext cx="9068040" cy="1067040"/>
            <a:chOff x="380880" y="838080"/>
            <a:chExt cx="9068040" cy="1067040"/>
          </a:xfrm>
        </p:grpSpPr>
        <p:sp>
          <p:nvSpPr>
            <p:cNvPr id="1247" name="Rectangle 28"/>
            <p:cNvSpPr/>
            <p:nvPr/>
          </p:nvSpPr>
          <p:spPr>
            <a:xfrm>
              <a:off x="4038480" y="8380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comes analysi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29"/>
            <p:cNvSpPr/>
            <p:nvPr/>
          </p:nvSpPr>
          <p:spPr>
            <a:xfrm>
              <a:off x="5486400" y="914400"/>
              <a:ext cx="162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chmarking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30"/>
            <p:cNvSpPr/>
            <p:nvPr/>
          </p:nvSpPr>
          <p:spPr>
            <a:xfrm>
              <a:off x="380880" y="85464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MAeHC-level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Analysi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AutoShape 31"/>
            <p:cNvSpPr/>
            <p:nvPr/>
          </p:nvSpPr>
          <p:spPr>
            <a:xfrm rot="5400000">
              <a:off x="2366280" y="985680"/>
              <a:ext cx="52416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32"/>
            <p:cNvSpPr/>
            <p:nvPr/>
          </p:nvSpPr>
          <p:spPr>
            <a:xfrm>
              <a:off x="380880" y="17524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33"/>
            <p:cNvSpPr/>
            <p:nvPr/>
          </p:nvSpPr>
          <p:spPr>
            <a:xfrm flipH="1" flipV="1">
              <a:off x="5257800" y="1459080"/>
              <a:ext cx="587520" cy="326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4"/>
            <p:cNvSpPr/>
            <p:nvPr/>
          </p:nvSpPr>
          <p:spPr>
            <a:xfrm flipV="1">
              <a:off x="6116760" y="1371240"/>
              <a:ext cx="207720" cy="414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35"/>
            <p:cNvSpPr/>
            <p:nvPr/>
          </p:nvSpPr>
          <p:spPr>
            <a:xfrm>
              <a:off x="7362720" y="990720"/>
              <a:ext cx="2086200" cy="9144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Negotiated reporting to plan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P4P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 algn="ctr">
                <a:lnSpc>
                  <a:spcPct val="100000"/>
                </a:lnSpc>
                <a:buClr>
                  <a:srgbClr val="a6a6a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a6a6a6"/>
                  </a:solidFill>
                  <a:latin typeface="Arial"/>
                  <a:ea typeface="Arial"/>
                </a:rPr>
                <a:t>Chart review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36"/>
            <p:cNvSpPr/>
            <p:nvPr/>
          </p:nvSpPr>
          <p:spPr>
            <a:xfrm flipV="1">
              <a:off x="6400800" y="1523880"/>
              <a:ext cx="914400" cy="2620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Group 60"/>
          <p:cNvGrpSpPr/>
          <p:nvPr/>
        </p:nvGrpSpPr>
        <p:grpSpPr>
          <a:xfrm>
            <a:off x="380880" y="1905120"/>
            <a:ext cx="6934320" cy="1567800"/>
            <a:chOff x="380880" y="1905120"/>
            <a:chExt cx="6934320" cy="1567800"/>
          </a:xfrm>
        </p:grpSpPr>
        <p:grpSp>
          <p:nvGrpSpPr>
            <p:cNvPr id="1257" name="Group 48"/>
            <p:cNvGrpSpPr/>
            <p:nvPr/>
          </p:nvGrpSpPr>
          <p:grpSpPr>
            <a:xfrm>
              <a:off x="380880" y="1905120"/>
              <a:ext cx="6934320" cy="1567800"/>
              <a:chOff x="380880" y="1905120"/>
              <a:chExt cx="6934320" cy="1567800"/>
            </a:xfrm>
          </p:grpSpPr>
          <p:grpSp>
            <p:nvGrpSpPr>
              <p:cNvPr id="1258" name="Group 49"/>
              <p:cNvGrpSpPr/>
              <p:nvPr/>
            </p:nvGrpSpPr>
            <p:grpSpPr>
              <a:xfrm>
                <a:off x="380880" y="2057400"/>
                <a:ext cx="6934320" cy="1415520"/>
                <a:chOff x="380880" y="2057400"/>
                <a:chExt cx="6934320" cy="1415520"/>
              </a:xfrm>
            </p:grpSpPr>
            <p:sp>
              <p:nvSpPr>
                <p:cNvPr id="1259" name="AutoShape 50"/>
                <p:cNvSpPr/>
                <p:nvPr/>
              </p:nvSpPr>
              <p:spPr>
                <a:xfrm>
                  <a:off x="4876920" y="2057400"/>
                  <a:ext cx="2438280" cy="762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be0e3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51"/>
                <p:cNvSpPr/>
                <p:nvPr/>
              </p:nvSpPr>
              <p:spPr>
                <a:xfrm flipV="1">
                  <a:off x="464832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52"/>
                <p:cNvSpPr/>
                <p:nvPr/>
              </p:nvSpPr>
              <p:spPr>
                <a:xfrm flipH="1" flipV="1">
                  <a:off x="6248160" y="2971800"/>
                  <a:ext cx="1066680" cy="4572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53"/>
                <p:cNvSpPr/>
                <p:nvPr/>
              </p:nvSpPr>
              <p:spPr>
                <a:xfrm flipV="1">
                  <a:off x="5997600" y="2993760"/>
                  <a:ext cx="0" cy="479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Text Box 54"/>
                <p:cNvSpPr/>
                <p:nvPr/>
              </p:nvSpPr>
              <p:spPr>
                <a:xfrm>
                  <a:off x="380880" y="2083320"/>
                  <a:ext cx="2057400" cy="520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 anchorCtr="1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MAeHC-level: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QDC</a:t>
                  </a:r>
                  <a:endParaRPr b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AutoShape 55"/>
                <p:cNvSpPr/>
                <p:nvPr/>
              </p:nvSpPr>
              <p:spPr>
                <a:xfrm rot="5400000">
                  <a:off x="2366280" y="2214360"/>
                  <a:ext cx="52416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99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56"/>
                <p:cNvSpPr/>
                <p:nvPr/>
              </p:nvSpPr>
              <p:spPr>
                <a:xfrm>
                  <a:off x="380880" y="3124080"/>
                  <a:ext cx="304812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66" name="Picture 58" descr="MHQP logo"/>
              <p:cNvPicPr/>
              <p:nvPr/>
            </p:nvPicPr>
            <p:blipFill>
              <a:blip r:embed="rId4"/>
              <a:stretch/>
            </p:blipFill>
            <p:spPr>
              <a:xfrm>
                <a:off x="5018040" y="2324160"/>
                <a:ext cx="6858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7" name="Picture 59" descr="MAeHC_0"/>
              <p:cNvPicPr/>
              <p:nvPr/>
            </p:nvPicPr>
            <p:blipFill>
              <a:blip r:embed="rId5"/>
              <a:stretch/>
            </p:blipFill>
            <p:spPr>
              <a:xfrm>
                <a:off x="5487840" y="1905120"/>
                <a:ext cx="1181160" cy="291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68" name="Picture 13" descr="MMS seal"/>
            <p:cNvPicPr/>
            <p:nvPr/>
          </p:nvPicPr>
          <p:blipFill>
            <a:blip r:embed="rId6"/>
            <a:stretch/>
          </p:blipFill>
          <p:spPr>
            <a:xfrm>
              <a:off x="5792760" y="2298600"/>
              <a:ext cx="53316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Picture 57" descr="csc_er_logo"/>
            <p:cNvPicPr/>
            <p:nvPr/>
          </p:nvPicPr>
          <p:blipFill>
            <a:blip r:embed="rId7"/>
            <a:stretch/>
          </p:blipFill>
          <p:spPr>
            <a:xfrm>
              <a:off x="6402600" y="2374920"/>
              <a:ext cx="8143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0" name="Group 62"/>
          <p:cNvGrpSpPr/>
          <p:nvPr/>
        </p:nvGrpSpPr>
        <p:grpSpPr>
          <a:xfrm>
            <a:off x="380880" y="5168880"/>
            <a:ext cx="7848720" cy="1079640"/>
            <a:chOff x="380880" y="5168880"/>
            <a:chExt cx="7848720" cy="1079640"/>
          </a:xfrm>
        </p:grpSpPr>
        <p:grpSp>
          <p:nvGrpSpPr>
            <p:cNvPr id="1271" name="Group 37"/>
            <p:cNvGrpSpPr/>
            <p:nvPr/>
          </p:nvGrpSpPr>
          <p:grpSpPr>
            <a:xfrm>
              <a:off x="380880" y="5168880"/>
              <a:ext cx="7848720" cy="1079640"/>
              <a:chOff x="380880" y="5168880"/>
              <a:chExt cx="7848720" cy="1079640"/>
            </a:xfrm>
          </p:grpSpPr>
          <p:sp>
            <p:nvSpPr>
              <p:cNvPr id="1272" name="Text Box 38"/>
              <p:cNvSpPr/>
              <p:nvPr/>
            </p:nvSpPr>
            <p:spPr>
              <a:xfrm>
                <a:off x="380880" y="5414040"/>
                <a:ext cx="2057400" cy="5202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Provider-level: 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EHR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39"/>
              <p:cNvSpPr/>
              <p:nvPr/>
            </p:nvSpPr>
            <p:spPr>
              <a:xfrm rot="5400000">
                <a:off x="2366640" y="5545080"/>
                <a:ext cx="5238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40"/>
              <p:cNvSpPr/>
              <p:nvPr/>
            </p:nvSpPr>
            <p:spPr>
              <a:xfrm>
                <a:off x="3809880" y="5168880"/>
                <a:ext cx="4419720" cy="10796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5" name="Picture 41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5291280"/>
                <a:ext cx="1228680" cy="28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Picture 42" descr=""/>
              <p:cNvPicPr/>
              <p:nvPr/>
            </p:nvPicPr>
            <p:blipFill>
              <a:blip r:embed="rId9"/>
              <a:stretch/>
            </p:blipFill>
            <p:spPr>
              <a:xfrm>
                <a:off x="3962520" y="5310360"/>
                <a:ext cx="685800" cy="24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Picture 43" descr=""/>
              <p:cNvPicPr/>
              <p:nvPr/>
            </p:nvPicPr>
            <p:blipFill>
              <a:blip r:embed="rId10"/>
              <a:srcRect l="0" t="0" r="16085" b="8328"/>
              <a:stretch/>
            </p:blipFill>
            <p:spPr>
              <a:xfrm>
                <a:off x="6934320" y="5291280"/>
                <a:ext cx="11430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Picture 44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57960" y="5257800"/>
                <a:ext cx="34776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Picture 46" descr="e-MDs - Integrated Electronic Medical Record and Practice Management Software"/>
              <p:cNvPicPr/>
              <p:nvPr/>
            </p:nvPicPr>
            <p:blipFill>
              <a:blip r:embed="rId12"/>
              <a:stretch/>
            </p:blipFill>
            <p:spPr>
              <a:xfrm>
                <a:off x="5672160" y="5867280"/>
                <a:ext cx="71280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Picture 47" descr=""/>
              <p:cNvPicPr/>
              <p:nvPr/>
            </p:nvPicPr>
            <p:blipFill>
              <a:blip r:embed="rId13"/>
              <a:srcRect l="0" t="11458" r="71878" b="82296"/>
              <a:stretch/>
            </p:blipFill>
            <p:spPr>
              <a:xfrm>
                <a:off x="6581880" y="5848200"/>
                <a:ext cx="1371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1" name="Picture 2" descr="Hill Associates Healthcare Management Systems"/>
            <p:cNvPicPr/>
            <p:nvPr/>
          </p:nvPicPr>
          <p:blipFill>
            <a:blip r:embed="rId14"/>
            <a:srcRect l="56914" t="0" r="0" b="0"/>
            <a:stretch/>
          </p:blipFill>
          <p:spPr>
            <a:xfrm>
              <a:off x="4190760" y="5638680"/>
              <a:ext cx="914400" cy="46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7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NICAL USE OF DEPLOYED EHRs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of Encounters Documented Clinically in EHRs (Q2 2006 – Q2 2008)</a:t>
            </a: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83" name="Object 3" descr="bar graph of clinical use of deployed EHRs"/>
          <p:cNvPicPr/>
          <p:nvPr/>
        </p:nvPicPr>
        <p:blipFill>
          <a:blip r:embed="rId1"/>
          <a:stretch/>
        </p:blipFill>
        <p:spPr>
          <a:xfrm>
            <a:off x="998640" y="1219320"/>
            <a:ext cx="7535880" cy="4978440"/>
          </a:xfrm>
          <a:prstGeom prst="rect">
            <a:avLst/>
          </a:prstGeom>
          <a:ln w="0">
            <a:noFill/>
          </a:ln>
        </p:spPr>
      </p:pic>
      <p:sp>
        <p:nvSpPr>
          <p:cNvPr id="1284" name="Text Box 27"/>
          <p:cNvSpPr/>
          <p:nvPr/>
        </p:nvSpPr>
        <p:spPr>
          <a:xfrm>
            <a:off x="221652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27"/>
          <p:cNvSpPr/>
          <p:nvPr/>
        </p:nvSpPr>
        <p:spPr>
          <a:xfrm>
            <a:off x="448020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27"/>
          <p:cNvSpPr/>
          <p:nvPr/>
        </p:nvSpPr>
        <p:spPr>
          <a:xfrm>
            <a:off x="6621840" y="579204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19"/>
          <p:cNvSpPr/>
          <p:nvPr/>
        </p:nvSpPr>
        <p:spPr>
          <a:xfrm>
            <a:off x="626760" y="15238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EAKOUT OF CLINICAL USE MEASUREMENT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89" name="Picture 4" descr="table of breakout of clinical use measurement"/>
          <p:cNvPicPr/>
          <p:nvPr/>
        </p:nvPicPr>
        <p:blipFill>
          <a:blip r:embed="rId1"/>
          <a:stretch/>
        </p:blipFill>
        <p:spPr>
          <a:xfrm>
            <a:off x="2438280" y="1143000"/>
            <a:ext cx="4800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04920" y="372960"/>
            <a:ext cx="8991360" cy="9986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Records Received By MAeHC QDC</a:t>
            </a:r>
            <a:br>
              <a:rPr sz="2200"/>
            </a:b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Through May 2009</a:t>
            </a:r>
            <a:br>
              <a:rPr sz="1800"/>
            </a:br>
            <a:endParaRPr b="1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91" name="Object 2" descr="bar graph of records received by MAeHC QDC"/>
          <p:cNvPicPr/>
          <p:nvPr/>
        </p:nvPicPr>
        <p:blipFill>
          <a:blip r:embed="rId1"/>
          <a:stretch/>
        </p:blipFill>
        <p:spPr>
          <a:xfrm>
            <a:off x="152280" y="1447920"/>
            <a:ext cx="8190000" cy="4495680"/>
          </a:xfrm>
          <a:prstGeom prst="rect">
            <a:avLst/>
          </a:prstGeom>
          <a:ln w="0">
            <a:noFill/>
          </a:ln>
        </p:spPr>
      </p:pic>
      <p:sp>
        <p:nvSpPr>
          <p:cNvPr id="1292" name="TextBox 13"/>
          <p:cNvSpPr/>
          <p:nvPr/>
        </p:nvSpPr>
        <p:spPr>
          <a:xfrm>
            <a:off x="8156160" y="487692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13"/>
          <p:cNvSpPr/>
          <p:nvPr/>
        </p:nvSpPr>
        <p:spPr>
          <a:xfrm>
            <a:off x="8158680" y="42670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3"/>
          <p:cNvSpPr/>
          <p:nvPr/>
        </p:nvSpPr>
        <p:spPr>
          <a:xfrm>
            <a:off x="8157960" y="38098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traight Connector 13"/>
          <p:cNvSpPr/>
          <p:nvPr/>
        </p:nvSpPr>
        <p:spPr>
          <a:xfrm flipH="1">
            <a:off x="7620120" y="4038480"/>
            <a:ext cx="304560" cy="76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traight Connector 14"/>
          <p:cNvSpPr/>
          <p:nvPr/>
        </p:nvSpPr>
        <p:spPr>
          <a:xfrm flipH="1">
            <a:off x="7695720" y="4419000"/>
            <a:ext cx="381240" cy="75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traight Connector 15"/>
          <p:cNvSpPr/>
          <p:nvPr/>
        </p:nvSpPr>
        <p:spPr>
          <a:xfrm flipH="1">
            <a:off x="7695720" y="50292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0"/>
          <p:cNvSpPr/>
          <p:nvPr/>
        </p:nvSpPr>
        <p:spPr>
          <a:xfrm>
            <a:off x="128520" y="1486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1"/>
          <p:cNvSpPr/>
          <p:nvPr/>
        </p:nvSpPr>
        <p:spPr>
          <a:xfrm>
            <a:off x="5358600" y="1981080"/>
            <a:ext cx="38592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7,000 total records since Jul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7,000 records received in May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4920" y="17928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QUALITY DATA CENTER IS BECOMING A “PUBLIC UTILITY”, </a:t>
            </a:r>
            <a:br>
              <a:rPr sz="2200"/>
            </a:b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AS WELL AS A COMMERCIAL PLATFORM</a:t>
            </a:r>
            <a:endParaRPr b="1" lang="en-US" sz="2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01" name="AutoShape 50"/>
          <p:cNvSpPr/>
          <p:nvPr/>
        </p:nvSpPr>
        <p:spPr>
          <a:xfrm>
            <a:off x="3505320" y="3352680"/>
            <a:ext cx="24382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2" name="Straight Arrow Connector 27"/>
          <p:cNvCxnSpPr/>
          <p:nvPr/>
        </p:nvCxnSpPr>
        <p:spPr>
          <a:xfrm>
            <a:off x="2437920" y="2437920"/>
            <a:ext cx="7628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3" name="Straight Arrow Connector 30"/>
          <p:cNvCxnSpPr/>
          <p:nvPr/>
        </p:nvCxnSpPr>
        <p:spPr>
          <a:xfrm>
            <a:off x="2361960" y="3047760"/>
            <a:ext cx="686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4" name="Straight Arrow Connector 32"/>
          <p:cNvCxnSpPr/>
          <p:nvPr/>
        </p:nvCxnSpPr>
        <p:spPr>
          <a:xfrm>
            <a:off x="2286000" y="3809520"/>
            <a:ext cx="83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5" name="Straight Arrow Connector 34"/>
          <p:cNvCxnSpPr/>
          <p:nvPr/>
        </p:nvCxnSpPr>
        <p:spPr>
          <a:xfrm flipV="1">
            <a:off x="2286000" y="4342680"/>
            <a:ext cx="8388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6" name="Straight Arrow Connector 36"/>
          <p:cNvCxnSpPr/>
          <p:nvPr/>
        </p:nvCxnSpPr>
        <p:spPr>
          <a:xfrm flipV="1">
            <a:off x="2286000" y="4723920"/>
            <a:ext cx="991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307" name=""/>
          <p:cNvGrpSpPr/>
          <p:nvPr/>
        </p:nvGrpSpPr>
        <p:grpSpPr>
          <a:xfrm>
            <a:off x="304920" y="1676520"/>
            <a:ext cx="8915400" cy="4647960"/>
            <a:chOff x="304920" y="1676520"/>
            <a:chExt cx="8915400" cy="4647960"/>
          </a:xfrm>
        </p:grpSpPr>
        <p:pic>
          <p:nvPicPr>
            <p:cNvPr id="1308" name="Picture 58" descr="MHQP logo"/>
            <p:cNvPicPr/>
            <p:nvPr/>
          </p:nvPicPr>
          <p:blipFill>
            <a:blip r:embed="rId1"/>
            <a:stretch/>
          </p:blipFill>
          <p:spPr>
            <a:xfrm>
              <a:off x="3646440" y="3619440"/>
              <a:ext cx="6858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Picture 59" descr="MAeHC_0"/>
            <p:cNvPicPr/>
            <p:nvPr/>
          </p:nvPicPr>
          <p:blipFill>
            <a:blip r:embed="rId2"/>
            <a:stretch/>
          </p:blipFill>
          <p:spPr>
            <a:xfrm>
              <a:off x="4116240" y="3200400"/>
              <a:ext cx="1181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Picture 13" descr="MMS seal"/>
            <p:cNvPicPr/>
            <p:nvPr/>
          </p:nvPicPr>
          <p:blipFill>
            <a:blip r:embed="rId3"/>
            <a:stretch/>
          </p:blipFill>
          <p:spPr>
            <a:xfrm>
              <a:off x="4421160" y="3594240"/>
              <a:ext cx="53352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Picture 57" descr="csc_er_logo"/>
            <p:cNvPicPr/>
            <p:nvPr/>
          </p:nvPicPr>
          <p:blipFill>
            <a:blip r:embed="rId4"/>
            <a:stretch/>
          </p:blipFill>
          <p:spPr>
            <a:xfrm>
              <a:off x="5030640" y="3670200"/>
              <a:ext cx="81468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Picture 13" descr="MMS seal"/>
            <p:cNvPicPr/>
            <p:nvPr/>
          </p:nvPicPr>
          <p:blipFill>
            <a:blip r:embed="rId5"/>
            <a:stretch/>
          </p:blipFill>
          <p:spPr>
            <a:xfrm>
              <a:off x="762120" y="4419720"/>
              <a:ext cx="8287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Picture 6" descr="H_BIDMC_7line_PMS2765_rgb"/>
            <p:cNvPicPr/>
            <p:nvPr/>
          </p:nvPicPr>
          <p:blipFill>
            <a:blip r:embed="rId6"/>
            <a:stretch/>
          </p:blipFill>
          <p:spPr>
            <a:xfrm>
              <a:off x="304920" y="1676520"/>
              <a:ext cx="24699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Picture 2" descr="Bridges To Excellence. Rewarding Quality Across the Healthcare System"/>
            <p:cNvPicPr/>
            <p:nvPr/>
          </p:nvPicPr>
          <p:blipFill>
            <a:blip r:embed="rId7"/>
            <a:stretch/>
          </p:blipFill>
          <p:spPr>
            <a:xfrm>
              <a:off x="380880" y="3505320"/>
              <a:ext cx="16765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Picture 5" descr=""/>
            <p:cNvPicPr/>
            <p:nvPr/>
          </p:nvPicPr>
          <p:blipFill>
            <a:blip r:embed="rId8"/>
            <a:stretch/>
          </p:blipFill>
          <p:spPr>
            <a:xfrm>
              <a:off x="609480" y="2590920"/>
              <a:ext cx="10670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Picture 1" descr="macpr_logo_300ppi"/>
            <p:cNvPicPr/>
            <p:nvPr/>
          </p:nvPicPr>
          <p:blipFill>
            <a:blip r:embed="rId9"/>
            <a:stretch/>
          </p:blipFill>
          <p:spPr>
            <a:xfrm>
              <a:off x="533520" y="5638680"/>
              <a:ext cx="1523880" cy="3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7" name="Group 52"/>
            <p:cNvGrpSpPr/>
            <p:nvPr/>
          </p:nvGrpSpPr>
          <p:grpSpPr>
            <a:xfrm>
              <a:off x="6172200" y="2100240"/>
              <a:ext cx="3048120" cy="4224240"/>
              <a:chOff x="6172200" y="2100240"/>
              <a:chExt cx="3048120" cy="4224240"/>
            </a:xfrm>
          </p:grpSpPr>
          <p:grpSp>
            <p:nvGrpSpPr>
              <p:cNvPr id="1318" name="Group 52"/>
              <p:cNvGrpSpPr/>
              <p:nvPr/>
            </p:nvGrpSpPr>
            <p:grpSpPr>
              <a:xfrm>
                <a:off x="8687160" y="2100240"/>
                <a:ext cx="533160" cy="490320"/>
                <a:chOff x="8687160" y="2100240"/>
                <a:chExt cx="533160" cy="490320"/>
              </a:xfrm>
            </p:grpSpPr>
            <p:pic>
              <p:nvPicPr>
                <p:cNvPr id="1319" name="Picture 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687160" y="210024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0" name="Picture 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731440" y="215208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1" name="Picture 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776080" y="220428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2" name="Picture 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820360" y="225612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cxnSp>
            <p:nvCxnSpPr>
              <p:cNvPr id="1323" name="Straight Arrow Connector 40"/>
              <p:cNvCxnSpPr/>
              <p:nvPr/>
            </p:nvCxnSpPr>
            <p:spPr>
              <a:xfrm flipV="1">
                <a:off x="6172200" y="2666160"/>
                <a:ext cx="762480" cy="68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4" name="Straight Arrow Connector 41"/>
              <p:cNvCxnSpPr/>
              <p:nvPr/>
            </p:nvCxnSpPr>
            <p:spPr>
              <a:xfrm flipV="1">
                <a:off x="6172200" y="3123720"/>
                <a:ext cx="838800" cy="45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5" name="Straight Arrow Connector 42"/>
              <p:cNvCxnSpPr/>
              <p:nvPr/>
            </p:nvCxnSpPr>
            <p:spPr>
              <a:xfrm>
                <a:off x="6172200" y="3733560"/>
                <a:ext cx="8388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6" name="Straight Arrow Connector 43"/>
              <p:cNvCxnSpPr/>
              <p:nvPr/>
            </p:nvCxnSpPr>
            <p:spPr>
              <a:xfrm>
                <a:off x="6247800" y="3962160"/>
                <a:ext cx="686520" cy="305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7" name="Straight Arrow Connector 44"/>
              <p:cNvCxnSpPr/>
              <p:nvPr/>
            </p:nvCxnSpPr>
            <p:spPr>
              <a:xfrm>
                <a:off x="6248160" y="4190400"/>
                <a:ext cx="838800" cy="1067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1328" name="Picture 13" descr="MMS seal"/>
              <p:cNvPicPr/>
              <p:nvPr/>
            </p:nvPicPr>
            <p:blipFill>
              <a:blip r:embed="rId14"/>
              <a:stretch/>
            </p:blipFill>
            <p:spPr>
              <a:xfrm>
                <a:off x="7315200" y="4343400"/>
                <a:ext cx="5522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9" name="Picture 6" descr="H_BIDMC_7line_PMS2765_rgb"/>
              <p:cNvPicPr/>
              <p:nvPr/>
            </p:nvPicPr>
            <p:blipFill>
              <a:blip r:embed="rId15"/>
              <a:stretch/>
            </p:blipFill>
            <p:spPr>
              <a:xfrm>
                <a:off x="7162920" y="2895480"/>
                <a:ext cx="129528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0" name="Picture 2" descr="Bridges To Excellence. Rewarding Quality Across the Healthcare System"/>
              <p:cNvPicPr/>
              <p:nvPr/>
            </p:nvPicPr>
            <p:blipFill>
              <a:blip r:embed="rId16"/>
              <a:stretch/>
            </p:blipFill>
            <p:spPr>
              <a:xfrm>
                <a:off x="7315200" y="3657600"/>
                <a:ext cx="890640" cy="34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1" name="Picture 5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67480" y="2133360"/>
                <a:ext cx="738000" cy="45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2" name="Picture 1" descr="macpr_logo_300ppi"/>
              <p:cNvPicPr/>
              <p:nvPr/>
            </p:nvPicPr>
            <p:blipFill>
              <a:blip r:embed="rId18"/>
              <a:stretch/>
            </p:blipFill>
            <p:spPr>
              <a:xfrm>
                <a:off x="7238880" y="5334120"/>
                <a:ext cx="1042920" cy="263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33" name="Group 58"/>
              <p:cNvGrpSpPr/>
              <p:nvPr/>
            </p:nvGrpSpPr>
            <p:grpSpPr>
              <a:xfrm>
                <a:off x="8687160" y="2862000"/>
                <a:ext cx="533160" cy="490320"/>
                <a:chOff x="8687160" y="2862000"/>
                <a:chExt cx="533160" cy="490320"/>
              </a:xfrm>
            </p:grpSpPr>
            <p:pic>
              <p:nvPicPr>
                <p:cNvPr id="1334" name="Picture 2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687160" y="286200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5" name="Picture 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731440" y="291384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6" name="Picture 9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776080" y="296604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7" name="Picture 6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820360" y="301788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8" name="Group 63"/>
              <p:cNvGrpSpPr/>
              <p:nvPr/>
            </p:nvGrpSpPr>
            <p:grpSpPr>
              <a:xfrm>
                <a:off x="8458200" y="3657600"/>
                <a:ext cx="533160" cy="490320"/>
                <a:chOff x="8458200" y="3657600"/>
                <a:chExt cx="533160" cy="490320"/>
              </a:xfrm>
            </p:grpSpPr>
            <p:pic>
              <p:nvPicPr>
                <p:cNvPr id="1339" name="Picture 2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458200" y="365760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0" name="Picture 8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502480" y="370944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1" name="Picture 9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547120" y="376164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2" name="Picture 6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591400" y="381348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43" name="Group 68"/>
              <p:cNvGrpSpPr/>
              <p:nvPr/>
            </p:nvGrpSpPr>
            <p:grpSpPr>
              <a:xfrm>
                <a:off x="8229600" y="4452840"/>
                <a:ext cx="533160" cy="488880"/>
                <a:chOff x="8229600" y="4452840"/>
                <a:chExt cx="533160" cy="488880"/>
              </a:xfrm>
            </p:grpSpPr>
            <p:pic>
              <p:nvPicPr>
                <p:cNvPr id="1344" name="Picture 2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29600" y="4452840"/>
                  <a:ext cx="396720" cy="33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5" name="Picture 8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73880" y="4504680"/>
                  <a:ext cx="406800" cy="339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6" name="Picture 9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318520" y="4556520"/>
                  <a:ext cx="40788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7" name="Picture 6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8362800" y="4608360"/>
                  <a:ext cx="399960" cy="333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48" name="Group 73"/>
              <p:cNvGrpSpPr/>
              <p:nvPr/>
            </p:nvGrpSpPr>
            <p:grpSpPr>
              <a:xfrm>
                <a:off x="8001000" y="5834160"/>
                <a:ext cx="533160" cy="490320"/>
                <a:chOff x="8001000" y="5834160"/>
                <a:chExt cx="533160" cy="490320"/>
              </a:xfrm>
            </p:grpSpPr>
            <p:pic>
              <p:nvPicPr>
                <p:cNvPr id="1349" name="Picture 2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001000" y="5834160"/>
                  <a:ext cx="3967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0" name="Picture 8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045280" y="5886000"/>
                  <a:ext cx="40680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1" name="Picture 9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089920" y="5938200"/>
                  <a:ext cx="407880" cy="34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2" name="Picture 6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134200" y="5990040"/>
                  <a:ext cx="399960" cy="33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04920" y="2136600"/>
            <a:ext cx="8991360" cy="3368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1800"/>
            </a:br>
            <a:r>
              <a:rPr b="1" i="1" lang="en-US" sz="1800" spc="-1" strike="noStrike">
                <a:solidFill>
                  <a:srgbClr val="1f497d"/>
                </a:solidFill>
                <a:latin typeface="Arial"/>
              </a:rPr>
              <a:t>http:/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maehc.or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icky Tripathi, PhD MPP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President &amp; CEO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mtripathi@maehc.org</a:t>
            </a:r>
            <a:br>
              <a:rPr sz="1600"/>
            </a:b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781-434-7905</a:t>
            </a:r>
            <a:endParaRPr b="1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354" name="Picture 3" descr="MAeHC logo"/>
          <p:cNvPicPr/>
          <p:nvPr/>
        </p:nvPicPr>
        <p:blipFill>
          <a:blip r:embed="rId1"/>
          <a:stretch/>
        </p:blipFill>
        <p:spPr>
          <a:xfrm>
            <a:off x="2438280" y="1085760"/>
            <a:ext cx="495324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2" descr=""/>
          <p:cNvPicPr/>
          <p:nvPr/>
        </p:nvPicPr>
        <p:blipFill>
          <a:blip r:embed="rId1"/>
          <a:srcRect l="0" t="0" r="0" b="54674"/>
          <a:stretch/>
        </p:blipFill>
        <p:spPr>
          <a:xfrm>
            <a:off x="380880" y="1828800"/>
            <a:ext cx="3353040" cy="4630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2" descr=""/>
          <p:cNvPicPr/>
          <p:nvPr/>
        </p:nvPicPr>
        <p:blipFill>
          <a:blip r:embed="rId2"/>
          <a:srcRect l="29804" t="93889" r="14319" b="0"/>
          <a:stretch/>
        </p:blipFill>
        <p:spPr>
          <a:xfrm>
            <a:off x="838080" y="990720"/>
            <a:ext cx="2286000" cy="76176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S GOING TO BE VERY, VERY, VERY MESS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873680" y="1788840"/>
            <a:ext cx="4000320" cy="5019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01, there were 2,000,000 phone users in the 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public and private investment was $500M, or $13B in 2009 dollars (about $6500 per us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s were operated b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&amp;T:  ~1.3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pendent networks:  ~700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independent networks:  2,8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AutoShape 29"/>
          <p:cNvSpPr/>
          <p:nvPr/>
        </p:nvSpPr>
        <p:spPr>
          <a:xfrm>
            <a:off x="480960" y="306360"/>
            <a:ext cx="880128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30"/>
          <p:cNvSpPr/>
          <p:nvPr/>
        </p:nvSpPr>
        <p:spPr>
          <a:xfrm>
            <a:off x="333360" y="1359000"/>
            <a:ext cx="655560" cy="1839960"/>
          </a:xfrm>
          <a:custGeom>
            <a:avLst/>
            <a:gdLst>
              <a:gd name="textAreaLeft" fmla="*/ 31680 w 655560"/>
              <a:gd name="textAreaRight" fmla="*/ 623880 w 655560"/>
              <a:gd name="textAreaTop" fmla="*/ 31680 h 1839960"/>
              <a:gd name="textAreaBottom" fmla="*/ 1808280 h 1839960"/>
            </a:gdLst>
            <a:ahLst/>
            <a:rect l="textAreaLeft" t="textAreaTop" r="textAreaRight" b="textAreaBottom"/>
            <a:pathLst>
              <a:path w="21600" h="60603">
                <a:moveTo>
                  <a:pt x="3600" y="0"/>
                </a:moveTo>
                <a:arcTo wR="3600" hR="3600" stAng="16200000" swAng="-5400000"/>
                <a:lnTo>
                  <a:pt x="0" y="57003"/>
                </a:lnTo>
                <a:arcTo wR="3600" hR="3600" stAng="10800000" swAng="-5400000"/>
                <a:lnTo>
                  <a:pt x="18000" y="60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31"/>
          <p:cNvSpPr/>
          <p:nvPr/>
        </p:nvSpPr>
        <p:spPr>
          <a:xfrm>
            <a:off x="974880" y="1806480"/>
            <a:ext cx="399960" cy="944640"/>
          </a:xfrm>
          <a:custGeom>
            <a:avLst/>
            <a:gdLst>
              <a:gd name="textAreaLeft" fmla="*/ 0 w 399960"/>
              <a:gd name="textAreaRight" fmla="*/ 400320 w 399960"/>
              <a:gd name="textAreaTop" fmla="*/ 0 h 944640"/>
              <a:gd name="textAreaBottom" fmla="*/ 945000 h 94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965" y="0"/>
                </a:lnTo>
                <a:lnTo>
                  <a:pt x="21600" y="10800"/>
                </a:lnTo>
                <a:lnTo>
                  <a:pt x="79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c0504d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2"/>
          <p:cNvSpPr/>
          <p:nvPr/>
        </p:nvSpPr>
        <p:spPr>
          <a:xfrm rot="16200000">
            <a:off x="-250560" y="2151000"/>
            <a:ext cx="183384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titlement Fun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33"/>
          <p:cNvSpPr/>
          <p:nvPr/>
        </p:nvSpPr>
        <p:spPr>
          <a:xfrm>
            <a:off x="1444680" y="1360440"/>
            <a:ext cx="1344600" cy="85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re Payment Incentiv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~$20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34"/>
          <p:cNvSpPr/>
          <p:nvPr/>
        </p:nvSpPr>
        <p:spPr>
          <a:xfrm>
            <a:off x="1444680" y="2344680"/>
            <a:ext cx="1344600" cy="86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id Payment Incentiv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~$14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4" name="AutoShape 37"/>
          <p:cNvCxnSpPr>
            <a:stCxn id="955" idx="3"/>
          </p:cNvCxnSpPr>
          <p:nvPr/>
        </p:nvCxnSpPr>
        <p:spPr>
          <a:xfrm>
            <a:off x="5659560" y="1763280"/>
            <a:ext cx="2449800" cy="3927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56" name="AutoShape 39"/>
          <p:cNvCxnSpPr>
            <a:stCxn id="957" idx="3"/>
            <a:endCxn id="958" idx="5"/>
          </p:cNvCxnSpPr>
          <p:nvPr/>
        </p:nvCxnSpPr>
        <p:spPr>
          <a:xfrm flipV="1">
            <a:off x="5659560" y="1625400"/>
            <a:ext cx="2240640" cy="11498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59" name="AutoShape 40"/>
          <p:cNvCxnSpPr>
            <a:stCxn id="957" idx="3"/>
          </p:cNvCxnSpPr>
          <p:nvPr/>
        </p:nvCxnSpPr>
        <p:spPr>
          <a:xfrm flipV="1">
            <a:off x="5659560" y="2155320"/>
            <a:ext cx="2449800" cy="6199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60" name="AutoShape 41"/>
          <p:cNvCxnSpPr>
            <a:stCxn id="957" idx="3"/>
          </p:cNvCxnSpPr>
          <p:nvPr/>
        </p:nvCxnSpPr>
        <p:spPr>
          <a:xfrm flipV="1">
            <a:off x="5659200" y="2542680"/>
            <a:ext cx="2446920" cy="2325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61" name="AutoShape 42"/>
          <p:cNvCxnSpPr>
            <a:stCxn id="957" idx="3"/>
          </p:cNvCxnSpPr>
          <p:nvPr/>
        </p:nvCxnSpPr>
        <p:spPr>
          <a:xfrm>
            <a:off x="5659560" y="2774880"/>
            <a:ext cx="2201040" cy="2642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962" name="AutoShape 44"/>
          <p:cNvSpPr/>
          <p:nvPr/>
        </p:nvSpPr>
        <p:spPr>
          <a:xfrm>
            <a:off x="2879640" y="1549440"/>
            <a:ext cx="65268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45"/>
          <p:cNvSpPr/>
          <p:nvPr/>
        </p:nvSpPr>
        <p:spPr>
          <a:xfrm>
            <a:off x="2879640" y="2532240"/>
            <a:ext cx="652680" cy="483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c3d0d"/>
              </a:gs>
              <a:gs pos="100000">
                <a:srgbClr val="e9841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46"/>
          <p:cNvSpPr/>
          <p:nvPr/>
        </p:nvSpPr>
        <p:spPr>
          <a:xfrm>
            <a:off x="1740960" y="99216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7"/>
          <p:cNvSpPr/>
          <p:nvPr/>
        </p:nvSpPr>
        <p:spPr>
          <a:xfrm>
            <a:off x="378360" y="80964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48"/>
          <p:cNvSpPr/>
          <p:nvPr/>
        </p:nvSpPr>
        <p:spPr>
          <a:xfrm>
            <a:off x="2759400" y="80964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c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49"/>
          <p:cNvSpPr/>
          <p:nvPr/>
        </p:nvSpPr>
        <p:spPr>
          <a:xfrm>
            <a:off x="4139640" y="992160"/>
            <a:ext cx="110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ing U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0"/>
          <p:cNvSpPr/>
          <p:nvPr/>
        </p:nvSpPr>
        <p:spPr>
          <a:xfrm>
            <a:off x="6139440" y="992160"/>
            <a:ext cx="24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d Recipients / Beneficia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51"/>
          <p:cNvSpPr/>
          <p:nvPr/>
        </p:nvSpPr>
        <p:spPr>
          <a:xfrm>
            <a:off x="314280" y="1260360"/>
            <a:ext cx="8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52"/>
          <p:cNvSpPr/>
          <p:nvPr/>
        </p:nvSpPr>
        <p:spPr>
          <a:xfrm>
            <a:off x="1463760" y="1260360"/>
            <a:ext cx="135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53"/>
          <p:cNvSpPr/>
          <p:nvPr/>
        </p:nvSpPr>
        <p:spPr>
          <a:xfrm>
            <a:off x="3649680" y="1260360"/>
            <a:ext cx="2066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54"/>
          <p:cNvSpPr/>
          <p:nvPr/>
        </p:nvSpPr>
        <p:spPr>
          <a:xfrm>
            <a:off x="6157800" y="1260360"/>
            <a:ext cx="2344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55"/>
          <p:cNvSpPr/>
          <p:nvPr/>
        </p:nvSpPr>
        <p:spPr>
          <a:xfrm>
            <a:off x="2951280" y="1260360"/>
            <a:ext cx="56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57"/>
          <p:cNvSpPr/>
          <p:nvPr/>
        </p:nvSpPr>
        <p:spPr>
          <a:xfrm>
            <a:off x="333360" y="3289320"/>
            <a:ext cx="657360" cy="2705040"/>
          </a:xfrm>
          <a:custGeom>
            <a:avLst/>
            <a:gdLst>
              <a:gd name="textAreaLeft" fmla="*/ 32040 w 657360"/>
              <a:gd name="textAreaRight" fmla="*/ 625320 w 657360"/>
              <a:gd name="textAreaTop" fmla="*/ 32040 h 2705040"/>
              <a:gd name="textAreaBottom" fmla="*/ 2673000 h 2705040"/>
            </a:gdLst>
            <a:ahLst/>
            <a:rect l="textAreaLeft" t="textAreaTop" r="textAreaRight" b="textAreaBottom"/>
            <a:pathLst>
              <a:path w="21600" h="88847">
                <a:moveTo>
                  <a:pt x="3600" y="0"/>
                </a:moveTo>
                <a:arcTo wR="3600" hR="3600" stAng="16200000" swAng="-5400000"/>
                <a:lnTo>
                  <a:pt x="0" y="85247"/>
                </a:lnTo>
                <a:arcTo wR="3600" hR="3600" stAng="10800000" swAng="-5400000"/>
                <a:lnTo>
                  <a:pt x="18000" y="88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8"/>
          <p:cNvSpPr/>
          <p:nvPr/>
        </p:nvSpPr>
        <p:spPr>
          <a:xfrm rot="16200000">
            <a:off x="22320" y="4523400"/>
            <a:ext cx="13924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ropriated Fun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59"/>
          <p:cNvSpPr/>
          <p:nvPr/>
        </p:nvSpPr>
        <p:spPr>
          <a:xfrm>
            <a:off x="946080" y="3946680"/>
            <a:ext cx="419040" cy="1390320"/>
          </a:xfrm>
          <a:custGeom>
            <a:avLst/>
            <a:gdLst>
              <a:gd name="textAreaLeft" fmla="*/ 0 w 419040"/>
              <a:gd name="textAreaRight" fmla="*/ 419400 w 41904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965" y="0"/>
                </a:lnTo>
                <a:lnTo>
                  <a:pt x="21600" y="10800"/>
                </a:lnTo>
                <a:lnTo>
                  <a:pt x="79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60"/>
          <p:cNvSpPr/>
          <p:nvPr/>
        </p:nvSpPr>
        <p:spPr>
          <a:xfrm>
            <a:off x="1425600" y="495792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rkforce Training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61"/>
          <p:cNvSpPr/>
          <p:nvPr/>
        </p:nvSpPr>
        <p:spPr>
          <a:xfrm>
            <a:off x="1425600" y="5510160"/>
            <a:ext cx="1343160" cy="4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w Technology R&amp;D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AutoShape 64"/>
          <p:cNvCxnSpPr>
            <a:stCxn id="980" idx="3"/>
          </p:cNvCxnSpPr>
          <p:nvPr/>
        </p:nvCxnSpPr>
        <p:spPr>
          <a:xfrm>
            <a:off x="5640480" y="3438360"/>
            <a:ext cx="1040400" cy="612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1" name="AutoShape 65"/>
          <p:cNvCxnSpPr>
            <a:stCxn id="980" idx="3"/>
          </p:cNvCxnSpPr>
          <p:nvPr/>
        </p:nvCxnSpPr>
        <p:spPr>
          <a:xfrm>
            <a:off x="5640120" y="3438360"/>
            <a:ext cx="1073520" cy="5277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2" name="AutoShape 66"/>
          <p:cNvCxnSpPr>
            <a:stCxn id="983" idx="3"/>
          </p:cNvCxnSpPr>
          <p:nvPr/>
        </p:nvCxnSpPr>
        <p:spPr>
          <a:xfrm flipV="1">
            <a:off x="5640480" y="3498120"/>
            <a:ext cx="1040400" cy="18324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4" name="AutoShape 67"/>
          <p:cNvCxnSpPr>
            <a:stCxn id="983" idx="3"/>
          </p:cNvCxnSpPr>
          <p:nvPr/>
        </p:nvCxnSpPr>
        <p:spPr>
          <a:xfrm>
            <a:off x="5640120" y="3681000"/>
            <a:ext cx="1073520" cy="2844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5" name="AutoShape 68"/>
          <p:cNvCxnSpPr>
            <a:stCxn id="986" idx="3"/>
          </p:cNvCxnSpPr>
          <p:nvPr/>
        </p:nvCxnSpPr>
        <p:spPr>
          <a:xfrm flipV="1">
            <a:off x="5640120" y="3965040"/>
            <a:ext cx="1073520" cy="439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7" name="AutoShape 69"/>
          <p:cNvCxnSpPr>
            <a:stCxn id="988" idx="3"/>
          </p:cNvCxnSpPr>
          <p:nvPr/>
        </p:nvCxnSpPr>
        <p:spPr>
          <a:xfrm>
            <a:off x="5640480" y="4250880"/>
            <a:ext cx="1056240" cy="1803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89" name="AutoShape 70"/>
          <p:cNvCxnSpPr>
            <a:stCxn id="990" idx="3"/>
          </p:cNvCxnSpPr>
          <p:nvPr/>
        </p:nvCxnSpPr>
        <p:spPr>
          <a:xfrm>
            <a:off x="5640480" y="5073480"/>
            <a:ext cx="2356560" cy="2311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1" name="AutoShape 71"/>
          <p:cNvCxnSpPr>
            <a:stCxn id="992" idx="3"/>
          </p:cNvCxnSpPr>
          <p:nvPr/>
        </p:nvCxnSpPr>
        <p:spPr>
          <a:xfrm flipV="1">
            <a:off x="5640480" y="5303160"/>
            <a:ext cx="2356560" cy="133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3" name="AutoShape 74"/>
          <p:cNvCxnSpPr>
            <a:stCxn id="994" idx="3"/>
          </p:cNvCxnSpPr>
          <p:nvPr/>
        </p:nvCxnSpPr>
        <p:spPr>
          <a:xfrm flipV="1">
            <a:off x="5640480" y="5303160"/>
            <a:ext cx="2356560" cy="44028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995" name="AutoShape 75"/>
          <p:cNvCxnSpPr>
            <a:stCxn id="994" idx="3"/>
          </p:cNvCxnSpPr>
          <p:nvPr/>
        </p:nvCxnSpPr>
        <p:spPr>
          <a:xfrm>
            <a:off x="5640480" y="5743080"/>
            <a:ext cx="2397600" cy="2739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996" name="AutoShape 77"/>
          <p:cNvSpPr/>
          <p:nvPr/>
        </p:nvSpPr>
        <p:spPr>
          <a:xfrm>
            <a:off x="2862360" y="495936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HS,  NS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78"/>
          <p:cNvSpPr/>
          <p:nvPr/>
        </p:nvSpPr>
        <p:spPr>
          <a:xfrm>
            <a:off x="2862360" y="550872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T, NS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79"/>
          <p:cNvSpPr/>
          <p:nvPr/>
        </p:nvSpPr>
        <p:spPr>
          <a:xfrm>
            <a:off x="1425600" y="440856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alth IT Extension Pro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82"/>
          <p:cNvSpPr/>
          <p:nvPr/>
        </p:nvSpPr>
        <p:spPr>
          <a:xfrm>
            <a:off x="2862360" y="440856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H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cy TB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83"/>
          <p:cNvSpPr/>
          <p:nvPr/>
        </p:nvSpPr>
        <p:spPr>
          <a:xfrm>
            <a:off x="1425600" y="3322800"/>
            <a:ext cx="134316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IE Planning &amp; Developmen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at least $300M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84"/>
          <p:cNvSpPr/>
          <p:nvPr/>
        </p:nvSpPr>
        <p:spPr>
          <a:xfrm>
            <a:off x="1425600" y="3879720"/>
            <a:ext cx="134316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HR Adoption Loan Progra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89"/>
          <p:cNvSpPr/>
          <p:nvPr/>
        </p:nvSpPr>
        <p:spPr>
          <a:xfrm>
            <a:off x="2862360" y="3322800"/>
            <a:ext cx="650880" cy="484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90"/>
          <p:cNvSpPr/>
          <p:nvPr/>
        </p:nvSpPr>
        <p:spPr>
          <a:xfrm>
            <a:off x="2862360" y="3881520"/>
            <a:ext cx="650880" cy="48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14f"/>
              </a:gs>
              <a:gs pos="100000">
                <a:srgbClr val="0069aa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13"/>
          <p:cNvSpPr/>
          <p:nvPr/>
        </p:nvSpPr>
        <p:spPr>
          <a:xfrm>
            <a:off x="7854840" y="223668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ia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68"/>
          <p:cNvSpPr/>
          <p:nvPr/>
        </p:nvSpPr>
        <p:spPr>
          <a:xfrm>
            <a:off x="7667640" y="1725480"/>
            <a:ext cx="11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ute care hospital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dren’s hospital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69"/>
          <p:cNvSpPr/>
          <p:nvPr/>
        </p:nvSpPr>
        <p:spPr>
          <a:xfrm>
            <a:off x="7746840" y="2639880"/>
            <a:ext cx="10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rse Practition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wif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70"/>
          <p:cNvSpPr/>
          <p:nvPr/>
        </p:nvSpPr>
        <p:spPr>
          <a:xfrm>
            <a:off x="7640640" y="31719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ly Qualified Health Cente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171"/>
          <p:cNvSpPr/>
          <p:nvPr/>
        </p:nvSpPr>
        <p:spPr>
          <a:xfrm>
            <a:off x="8589960" y="1397160"/>
            <a:ext cx="449280" cy="1882440"/>
          </a:xfrm>
          <a:custGeom>
            <a:avLst/>
            <a:gdLst>
              <a:gd name="textAreaLeft" fmla="*/ 0 w 449280"/>
              <a:gd name="textAreaRight" fmla="*/ 162360 w 449280"/>
              <a:gd name="textAreaTop" fmla="*/ 59400 h 1882440"/>
              <a:gd name="textAreaBottom" fmla="*/ 1823040 h 188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5"/>
                  <a:pt x="10800" y="2190"/>
                </a:cubicBezTo>
                <a:lnTo>
                  <a:pt x="10800" y="8520"/>
                </a:lnTo>
                <a:cubicBezTo>
                  <a:pt x="10800" y="9615"/>
                  <a:pt x="16200" y="10710"/>
                  <a:pt x="21600" y="10710"/>
                </a:cubicBezTo>
                <a:cubicBezTo>
                  <a:pt x="16200" y="10710"/>
                  <a:pt x="10800" y="11805"/>
                  <a:pt x="10800" y="12900"/>
                </a:cubicBezTo>
                <a:lnTo>
                  <a:pt x="10800" y="19410"/>
                </a:lnTo>
                <a:cubicBezTo>
                  <a:pt x="10800" y="205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72"/>
          <p:cNvSpPr/>
          <p:nvPr/>
        </p:nvSpPr>
        <p:spPr>
          <a:xfrm rot="16200000">
            <a:off x="8060040" y="2212560"/>
            <a:ext cx="211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‘Meaningful’ use of EH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0" name="AutoShape 175"/>
          <p:cNvCxnSpPr/>
          <p:nvPr/>
        </p:nvCxnSpPr>
        <p:spPr>
          <a:xfrm>
            <a:off x="7025760" y="3922560"/>
            <a:ext cx="1078560" cy="28512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011" name="AutoShape 176"/>
          <p:cNvCxnSpPr/>
          <p:nvPr/>
        </p:nvCxnSpPr>
        <p:spPr>
          <a:xfrm flipV="1">
            <a:off x="7042320" y="4249080"/>
            <a:ext cx="1062720" cy="1818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12" name="Text Box 178"/>
          <p:cNvSpPr/>
          <p:nvPr/>
        </p:nvSpPr>
        <p:spPr>
          <a:xfrm>
            <a:off x="7851600" y="5475240"/>
            <a:ext cx="976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er Education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l School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duate school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80"/>
          <p:cNvSpPr/>
          <p:nvPr/>
        </p:nvSpPr>
        <p:spPr>
          <a:xfrm>
            <a:off x="7819200" y="6178680"/>
            <a:ext cx="102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Gov’t Lab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4" name="AutoShape 181"/>
          <p:cNvCxnSpPr/>
          <p:nvPr/>
        </p:nvCxnSpPr>
        <p:spPr>
          <a:xfrm flipV="1">
            <a:off x="7061040" y="4807800"/>
            <a:ext cx="1067760" cy="342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15" name="Text Box 208"/>
          <p:cNvSpPr/>
          <p:nvPr/>
        </p:nvSpPr>
        <p:spPr>
          <a:xfrm>
            <a:off x="7705800" y="4892760"/>
            <a:ext cx="11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st Advantaged Provide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209"/>
          <p:cNvSpPr/>
          <p:nvPr/>
        </p:nvSpPr>
        <p:spPr>
          <a:xfrm>
            <a:off x="6489720" y="4883040"/>
            <a:ext cx="9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rofi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lt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240" indent="-572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ndor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10"/>
          <p:cNvSpPr/>
          <p:nvPr/>
        </p:nvSpPr>
        <p:spPr>
          <a:xfrm>
            <a:off x="7305840" y="4645080"/>
            <a:ext cx="543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267"/>
          <p:cNvSpPr/>
          <p:nvPr/>
        </p:nvSpPr>
        <p:spPr>
          <a:xfrm>
            <a:off x="6367320" y="3173400"/>
            <a:ext cx="10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ated State Entit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68"/>
          <p:cNvSpPr/>
          <p:nvPr/>
        </p:nvSpPr>
        <p:spPr>
          <a:xfrm>
            <a:off x="6533640" y="406404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Gov’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69"/>
          <p:cNvSpPr/>
          <p:nvPr/>
        </p:nvSpPr>
        <p:spPr>
          <a:xfrm>
            <a:off x="6461640" y="4503600"/>
            <a:ext cx="81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Trib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70"/>
          <p:cNvSpPr/>
          <p:nvPr/>
        </p:nvSpPr>
        <p:spPr>
          <a:xfrm>
            <a:off x="7842240" y="4416480"/>
            <a:ext cx="92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71"/>
          <p:cNvSpPr/>
          <p:nvPr/>
        </p:nvSpPr>
        <p:spPr>
          <a:xfrm>
            <a:off x="7362000" y="4160880"/>
            <a:ext cx="438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97"/>
          <p:cNvSpPr/>
          <p:nvPr/>
        </p:nvSpPr>
        <p:spPr>
          <a:xfrm>
            <a:off x="7902720" y="3676680"/>
            <a:ext cx="69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profit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lting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ndors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4" name="AutoShape 298"/>
          <p:cNvCxnSpPr/>
          <p:nvPr/>
        </p:nvCxnSpPr>
        <p:spPr>
          <a:xfrm>
            <a:off x="6908760" y="3498840"/>
            <a:ext cx="1029600" cy="126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1025" name="Slide Number Placeholder 5"/>
          <p:cNvSpPr/>
          <p:nvPr/>
        </p:nvSpPr>
        <p:spPr>
          <a:xfrm>
            <a:off x="320760" y="6559560"/>
            <a:ext cx="322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F073C-7141-49D7-B23B-F0A617FC8214}" type="slidenum">
              <a:rPr b="1" lang="en-US" sz="1000" spc="-1" strike="noStrike">
                <a:solidFill>
                  <a:srgbClr val="58595b"/>
                </a:solidFill>
                <a:latin typeface="Calibri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VERY ACT FUNDING FLO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Group 278"/>
          <p:cNvGrpSpPr/>
          <p:nvPr/>
        </p:nvGrpSpPr>
        <p:grpSpPr>
          <a:xfrm>
            <a:off x="7889760" y="1384200"/>
            <a:ext cx="680760" cy="360360"/>
            <a:chOff x="7889760" y="1384200"/>
            <a:chExt cx="680760" cy="360360"/>
          </a:xfrm>
        </p:grpSpPr>
        <p:sp>
          <p:nvSpPr>
            <p:cNvPr id="1028" name="Freeform 279"/>
            <p:cNvSpPr/>
            <p:nvPr/>
          </p:nvSpPr>
          <p:spPr>
            <a:xfrm>
              <a:off x="7900920" y="1634760"/>
              <a:ext cx="1717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80"/>
            <p:cNvSpPr/>
            <p:nvPr/>
          </p:nvSpPr>
          <p:spPr>
            <a:xfrm>
              <a:off x="8084160" y="1482120"/>
              <a:ext cx="486360" cy="26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281"/>
            <p:cNvSpPr/>
            <p:nvPr/>
          </p:nvSpPr>
          <p:spPr>
            <a:xfrm>
              <a:off x="7889760" y="1613160"/>
              <a:ext cx="1832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82"/>
            <p:cNvSpPr/>
            <p:nvPr/>
          </p:nvSpPr>
          <p:spPr>
            <a:xfrm>
              <a:off x="8231760" y="1384200"/>
              <a:ext cx="26136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Group 283"/>
          <p:cNvGrpSpPr/>
          <p:nvPr/>
        </p:nvGrpSpPr>
        <p:grpSpPr>
          <a:xfrm>
            <a:off x="6678720" y="3782880"/>
            <a:ext cx="358560" cy="285480"/>
            <a:chOff x="6678720" y="3782880"/>
            <a:chExt cx="358560" cy="285480"/>
          </a:xfrm>
        </p:grpSpPr>
        <p:sp>
          <p:nvSpPr>
            <p:cNvPr id="1032" name="Rectangle 284"/>
            <p:cNvSpPr/>
            <p:nvPr/>
          </p:nvSpPr>
          <p:spPr>
            <a:xfrm>
              <a:off x="671652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285"/>
            <p:cNvSpPr/>
            <p:nvPr/>
          </p:nvSpPr>
          <p:spPr>
            <a:xfrm>
              <a:off x="6778440" y="3858840"/>
              <a:ext cx="3492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286"/>
            <p:cNvSpPr/>
            <p:nvPr/>
          </p:nvSpPr>
          <p:spPr>
            <a:xfrm>
              <a:off x="684000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287"/>
            <p:cNvSpPr/>
            <p:nvPr/>
          </p:nvSpPr>
          <p:spPr>
            <a:xfrm>
              <a:off x="6902280" y="3858840"/>
              <a:ext cx="3492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288"/>
            <p:cNvSpPr/>
            <p:nvPr/>
          </p:nvSpPr>
          <p:spPr>
            <a:xfrm>
              <a:off x="6963840" y="3858840"/>
              <a:ext cx="3564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89"/>
            <p:cNvSpPr/>
            <p:nvPr/>
          </p:nvSpPr>
          <p:spPr>
            <a:xfrm>
              <a:off x="6678720" y="3782880"/>
              <a:ext cx="35856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290"/>
            <p:cNvSpPr/>
            <p:nvPr/>
          </p:nvSpPr>
          <p:spPr>
            <a:xfrm>
              <a:off x="6698160" y="4029480"/>
              <a:ext cx="318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291"/>
            <p:cNvSpPr/>
            <p:nvPr/>
          </p:nvSpPr>
          <p:spPr>
            <a:xfrm>
              <a:off x="6684480" y="4055040"/>
              <a:ext cx="346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Freeform 293"/>
          <p:cNvSpPr/>
          <p:nvPr/>
        </p:nvSpPr>
        <p:spPr>
          <a:xfrm>
            <a:off x="7974000" y="4083120"/>
            <a:ext cx="631800" cy="37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303"/>
          <p:cNvSpPr/>
          <p:nvPr/>
        </p:nvSpPr>
        <p:spPr>
          <a:xfrm>
            <a:off x="8170920" y="4691160"/>
            <a:ext cx="260280" cy="247680"/>
          </a:xfrm>
          <a:prstGeom prst="plus">
            <a:avLst>
              <a:gd name="adj" fmla="val 3268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313"/>
          <p:cNvGrpSpPr/>
          <p:nvPr/>
        </p:nvGrpSpPr>
        <p:grpSpPr>
          <a:xfrm>
            <a:off x="8145360" y="1990800"/>
            <a:ext cx="284400" cy="280800"/>
            <a:chOff x="8145360" y="1990800"/>
            <a:chExt cx="284400" cy="280800"/>
          </a:xfrm>
        </p:grpSpPr>
        <p:sp>
          <p:nvSpPr>
            <p:cNvPr id="1043" name="Freeform 307"/>
            <p:cNvSpPr/>
            <p:nvPr/>
          </p:nvSpPr>
          <p:spPr>
            <a:xfrm>
              <a:off x="8310240" y="1990800"/>
              <a:ext cx="53280" cy="5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08"/>
            <p:cNvSpPr/>
            <p:nvPr/>
          </p:nvSpPr>
          <p:spPr>
            <a:xfrm>
              <a:off x="8145360" y="1995840"/>
              <a:ext cx="284400" cy="27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Freeform 309"/>
          <p:cNvSpPr/>
          <p:nvPr/>
        </p:nvSpPr>
        <p:spPr>
          <a:xfrm>
            <a:off x="8148600" y="2387520"/>
            <a:ext cx="276120" cy="30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317"/>
          <p:cNvSpPr/>
          <p:nvPr/>
        </p:nvSpPr>
        <p:spPr>
          <a:xfrm>
            <a:off x="7945560" y="2944800"/>
            <a:ext cx="61272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318"/>
          <p:cNvSpPr/>
          <p:nvPr/>
        </p:nvSpPr>
        <p:spPr>
          <a:xfrm>
            <a:off x="8015400" y="5214960"/>
            <a:ext cx="565200" cy="244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320"/>
          <p:cNvSpPr/>
          <p:nvPr/>
        </p:nvSpPr>
        <p:spPr>
          <a:xfrm>
            <a:off x="7945560" y="3449520"/>
            <a:ext cx="61272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321"/>
          <p:cNvSpPr/>
          <p:nvPr/>
        </p:nvSpPr>
        <p:spPr>
          <a:xfrm flipV="1">
            <a:off x="7021440" y="3654360"/>
            <a:ext cx="879480" cy="3016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322"/>
          <p:cNvSpPr/>
          <p:nvPr/>
        </p:nvSpPr>
        <p:spPr>
          <a:xfrm>
            <a:off x="6562800" y="4684680"/>
            <a:ext cx="61128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323"/>
          <p:cNvSpPr/>
          <p:nvPr/>
        </p:nvSpPr>
        <p:spPr>
          <a:xfrm flipV="1">
            <a:off x="5637240" y="4870440"/>
            <a:ext cx="920880" cy="8668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324"/>
          <p:cNvSpPr/>
          <p:nvPr/>
        </p:nvSpPr>
        <p:spPr>
          <a:xfrm>
            <a:off x="5643720" y="4765680"/>
            <a:ext cx="917280" cy="2844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325"/>
          <p:cNvSpPr/>
          <p:nvPr/>
        </p:nvSpPr>
        <p:spPr>
          <a:xfrm flipV="1">
            <a:off x="5656320" y="1585440"/>
            <a:ext cx="2205000" cy="181080"/>
          </a:xfrm>
          <a:prstGeom prst="line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338"/>
          <p:cNvGrpSpPr/>
          <p:nvPr/>
        </p:nvGrpSpPr>
        <p:grpSpPr>
          <a:xfrm>
            <a:off x="8180280" y="5835600"/>
            <a:ext cx="290520" cy="358920"/>
            <a:chOff x="8180280" y="5835600"/>
            <a:chExt cx="290520" cy="358920"/>
          </a:xfrm>
        </p:grpSpPr>
        <p:sp>
          <p:nvSpPr>
            <p:cNvPr id="1055" name="Freeform 329"/>
            <p:cNvSpPr/>
            <p:nvPr/>
          </p:nvSpPr>
          <p:spPr>
            <a:xfrm>
              <a:off x="8193240" y="6095160"/>
              <a:ext cx="277560" cy="9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30"/>
            <p:cNvSpPr/>
            <p:nvPr/>
          </p:nvSpPr>
          <p:spPr>
            <a:xfrm>
              <a:off x="8180280" y="6073560"/>
              <a:ext cx="23364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1"/>
            <p:cNvSpPr/>
            <p:nvPr/>
          </p:nvSpPr>
          <p:spPr>
            <a:xfrm>
              <a:off x="8355960" y="5955480"/>
              <a:ext cx="77760" cy="13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2"/>
            <p:cNvSpPr/>
            <p:nvPr/>
          </p:nvSpPr>
          <p:spPr>
            <a:xfrm>
              <a:off x="8295120" y="5923800"/>
              <a:ext cx="561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3"/>
            <p:cNvSpPr/>
            <p:nvPr/>
          </p:nvSpPr>
          <p:spPr>
            <a:xfrm>
              <a:off x="8240040" y="5891760"/>
              <a:ext cx="6192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334"/>
            <p:cNvSpPr/>
            <p:nvPr/>
          </p:nvSpPr>
          <p:spPr>
            <a:xfrm>
              <a:off x="8248320" y="5845680"/>
              <a:ext cx="46440" cy="43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335"/>
            <p:cNvSpPr/>
            <p:nvPr/>
          </p:nvSpPr>
          <p:spPr>
            <a:xfrm>
              <a:off x="8240040" y="5835600"/>
              <a:ext cx="630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36"/>
            <p:cNvSpPr/>
            <p:nvPr/>
          </p:nvSpPr>
          <p:spPr>
            <a:xfrm>
              <a:off x="8214120" y="5903640"/>
              <a:ext cx="1634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37"/>
            <p:cNvSpPr/>
            <p:nvPr/>
          </p:nvSpPr>
          <p:spPr>
            <a:xfrm>
              <a:off x="8194320" y="6014880"/>
              <a:ext cx="10188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Freeform 340"/>
          <p:cNvSpPr/>
          <p:nvPr/>
        </p:nvSpPr>
        <p:spPr>
          <a:xfrm>
            <a:off x="6708600" y="4317840"/>
            <a:ext cx="285840" cy="24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35"/>
          <p:cNvSpPr/>
          <p:nvPr/>
        </p:nvSpPr>
        <p:spPr>
          <a:xfrm>
            <a:off x="3611520" y="1573200"/>
            <a:ext cx="2048040" cy="380880"/>
          </a:xfrm>
          <a:prstGeom prst="roundRect">
            <a:avLst>
              <a:gd name="adj" fmla="val 16667"/>
            </a:avLst>
          </a:prstGeom>
          <a:solidFill>
            <a:srgbClr val="e9841d">
              <a:alpha val="50000"/>
            </a:srgbClr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re Carrier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amp; Contracto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36"/>
          <p:cNvSpPr/>
          <p:nvPr/>
        </p:nvSpPr>
        <p:spPr>
          <a:xfrm>
            <a:off x="3611520" y="2676600"/>
            <a:ext cx="2048040" cy="196920"/>
          </a:xfrm>
          <a:prstGeom prst="roundRect">
            <a:avLst>
              <a:gd name="adj" fmla="val 16667"/>
            </a:avLst>
          </a:prstGeom>
          <a:solidFill>
            <a:srgbClr val="e9841d">
              <a:alpha val="50000"/>
            </a:srgbClr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Medicaid Agen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43"/>
          <p:cNvSpPr/>
          <p:nvPr/>
        </p:nvSpPr>
        <p:spPr>
          <a:xfrm>
            <a:off x="3666960" y="2867040"/>
            <a:ext cx="19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30% share of Medicaid (except Children’s Hospital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62"/>
          <p:cNvSpPr/>
          <p:nvPr/>
        </p:nvSpPr>
        <p:spPr>
          <a:xfrm>
            <a:off x="3594240" y="497520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cal Health Informatic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63"/>
          <p:cNvSpPr/>
          <p:nvPr/>
        </p:nvSpPr>
        <p:spPr>
          <a:xfrm>
            <a:off x="3594240" y="521820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HR in Med School Curricul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72"/>
          <p:cNvSpPr/>
          <p:nvPr/>
        </p:nvSpPr>
        <p:spPr>
          <a:xfrm>
            <a:off x="3594240" y="5537160"/>
            <a:ext cx="2046240" cy="411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lth Care Information Enterprise Integratio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Cente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80"/>
          <p:cNvSpPr/>
          <p:nvPr/>
        </p:nvSpPr>
        <p:spPr>
          <a:xfrm>
            <a:off x="3594240" y="444024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lth IT Research Cent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81"/>
          <p:cNvSpPr/>
          <p:nvPr/>
        </p:nvSpPr>
        <p:spPr>
          <a:xfrm>
            <a:off x="3594240" y="468324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Extension Center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85"/>
          <p:cNvSpPr/>
          <p:nvPr/>
        </p:nvSpPr>
        <p:spPr>
          <a:xfrm>
            <a:off x="3594240" y="334008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86"/>
          <p:cNvSpPr/>
          <p:nvPr/>
        </p:nvSpPr>
        <p:spPr>
          <a:xfrm>
            <a:off x="3594240" y="3583080"/>
            <a:ext cx="2046240" cy="1951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Gra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87"/>
          <p:cNvSpPr/>
          <p:nvPr/>
        </p:nvSpPr>
        <p:spPr>
          <a:xfrm>
            <a:off x="3594240" y="390996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 Funds for Stat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88"/>
          <p:cNvSpPr/>
          <p:nvPr/>
        </p:nvSpPr>
        <p:spPr>
          <a:xfrm>
            <a:off x="3594240" y="4152960"/>
            <a:ext cx="2046240" cy="196920"/>
          </a:xfrm>
          <a:prstGeom prst="roundRect">
            <a:avLst>
              <a:gd name="adj" fmla="val 16667"/>
            </a:avLst>
          </a:prstGeom>
          <a:solidFill>
            <a:srgbClr val="0069aa">
              <a:alpha val="25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n Funds for Indian Trib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 SO MANY PHYSICIANS OFFICES LOOK LIKE THIS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3" descr="picture of a women at a desk"/>
          <p:cNvPicPr/>
          <p:nvPr/>
        </p:nvPicPr>
        <p:blipFill>
          <a:blip r:embed="rId1"/>
          <a:stretch/>
        </p:blipFill>
        <p:spPr>
          <a:xfrm>
            <a:off x="3276720" y="1523880"/>
            <a:ext cx="3581280" cy="4770720"/>
          </a:xfrm>
          <a:prstGeom prst="rect">
            <a:avLst/>
          </a:prstGeom>
          <a:ln w="0">
            <a:noFill/>
          </a:ln>
        </p:spPr>
      </p:pic>
      <p:sp>
        <p:nvSpPr>
          <p:cNvPr id="1070" name="AutoShape 4"/>
          <p:cNvSpPr/>
          <p:nvPr/>
        </p:nvSpPr>
        <p:spPr>
          <a:xfrm>
            <a:off x="7356600" y="3733920"/>
            <a:ext cx="2160360" cy="1523880"/>
          </a:xfrm>
          <a:prstGeom prst="wedgeEllipseCallout">
            <a:avLst>
              <a:gd name="adj1" fmla="val -67976"/>
              <a:gd name="adj2" fmla="val -352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ier just dropped off m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5"/>
          <p:cNvSpPr/>
          <p:nvPr/>
        </p:nvSpPr>
        <p:spPr>
          <a:xfrm>
            <a:off x="6477120" y="228600"/>
            <a:ext cx="2639880" cy="1911240"/>
          </a:xfrm>
          <a:prstGeom prst="wedgeEllipseCallout">
            <a:avLst>
              <a:gd name="adj1" fmla="val -122601"/>
              <a:gd name="adj2" fmla="val 12350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cription refill request on fax mach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igh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the joke of the da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6"/>
          <p:cNvSpPr/>
          <p:nvPr/>
        </p:nvSpPr>
        <p:spPr>
          <a:xfrm>
            <a:off x="7116840" y="2666880"/>
            <a:ext cx="2079720" cy="728640"/>
          </a:xfrm>
          <a:prstGeom prst="wedgeEllipseCallout">
            <a:avLst>
              <a:gd name="adj1" fmla="val -117069"/>
              <a:gd name="adj2" fmla="val 8834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opened m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7"/>
          <p:cNvSpPr/>
          <p:nvPr/>
        </p:nvSpPr>
        <p:spPr>
          <a:xfrm>
            <a:off x="639720" y="2066760"/>
            <a:ext cx="2320920" cy="1143000"/>
          </a:xfrm>
          <a:prstGeom prst="wedgeEllipseCallout">
            <a:avLst>
              <a:gd name="adj1" fmla="val 65157"/>
              <a:gd name="adj2" fmla="val 8527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er with results from one la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8"/>
          <p:cNvSpPr/>
          <p:nvPr/>
        </p:nvSpPr>
        <p:spPr>
          <a:xfrm>
            <a:off x="1440000" y="590400"/>
            <a:ext cx="2239920" cy="1371600"/>
          </a:xfrm>
          <a:prstGeom prst="wedgeEllipseCallout">
            <a:avLst>
              <a:gd name="adj1" fmla="val 68152"/>
              <a:gd name="adj2" fmla="val 1312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y Sally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ere is Mrs. Jones x-ray?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9"/>
          <p:cNvSpPr/>
          <p:nvPr/>
        </p:nvSpPr>
        <p:spPr>
          <a:xfrm>
            <a:off x="1200240" y="4343400"/>
            <a:ext cx="1839960" cy="768240"/>
          </a:xfrm>
          <a:prstGeom prst="wedgeEllipseCallout">
            <a:avLst>
              <a:gd name="adj1" fmla="val 119564"/>
              <a:gd name="adj2" fmla="val -115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orted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11"/>
          <p:cNvSpPr/>
          <p:nvPr/>
        </p:nvSpPr>
        <p:spPr>
          <a:xfrm>
            <a:off x="479520" y="5486400"/>
            <a:ext cx="1920960" cy="1219320"/>
          </a:xfrm>
          <a:prstGeom prst="wedgeEllipseCallout">
            <a:avLst>
              <a:gd name="adj1" fmla="val 207291"/>
              <a:gd name="adj2" fmla="val -11106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to ring with stat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12"/>
          <p:cNvSpPr/>
          <p:nvPr/>
        </p:nvSpPr>
        <p:spPr>
          <a:xfrm>
            <a:off x="7277040" y="5334120"/>
            <a:ext cx="2079720" cy="1143000"/>
          </a:xfrm>
          <a:prstGeom prst="wedgeEllipseCallout">
            <a:avLst>
              <a:gd name="adj1" fmla="val -134856"/>
              <a:gd name="adj2" fmla="val -4180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portal (from one hospit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728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EHR MARKET IS MOVING, SLOWLY, BUT ALSO CREATING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DIGITAL DIVIDE IN THE PRO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5087880" y="1665360"/>
            <a:ext cx="4056120" cy="2297160"/>
            <a:chOff x="5087880" y="1665360"/>
            <a:chExt cx="4056120" cy="2297160"/>
          </a:xfrm>
        </p:grpSpPr>
        <p:graphicFrame>
          <p:nvGraphicFramePr>
            <p:cNvPr id="1080" name="Object 5"/>
            <p:cNvGraphicFramePr/>
            <p:nvPr/>
          </p:nvGraphicFramePr>
          <p:xfrm>
            <a:off x="5087880" y="1665360"/>
            <a:ext cx="4056120" cy="229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87880" y="1665360"/>
                      <a:ext cx="4056120" cy="22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2" name="Text Box 5"/>
            <p:cNvSpPr/>
            <p:nvPr/>
          </p:nvSpPr>
          <p:spPr>
            <a:xfrm>
              <a:off x="6595200" y="1792080"/>
              <a:ext cx="123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-9 physicia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6"/>
            <p:cNvSpPr/>
            <p:nvPr/>
          </p:nvSpPr>
          <p:spPr>
            <a:xfrm flipV="1">
              <a:off x="6019920" y="2971440"/>
              <a:ext cx="2514600" cy="1522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"/>
            <p:cNvSpPr/>
            <p:nvPr/>
          </p:nvSpPr>
          <p:spPr>
            <a:xfrm>
              <a:off x="6776280" y="2740680"/>
              <a:ext cx="90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GR = 8.2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8"/>
          <p:cNvGrpSpPr/>
          <p:nvPr/>
        </p:nvGrpSpPr>
        <p:grpSpPr>
          <a:xfrm>
            <a:off x="304560" y="1654200"/>
            <a:ext cx="4208760" cy="2297160"/>
            <a:chOff x="304560" y="1654200"/>
            <a:chExt cx="4208760" cy="2297160"/>
          </a:xfrm>
        </p:grpSpPr>
        <p:graphicFrame>
          <p:nvGraphicFramePr>
            <p:cNvPr id="1086" name="Object 4"/>
            <p:cNvGraphicFramePr/>
            <p:nvPr/>
          </p:nvGraphicFramePr>
          <p:xfrm>
            <a:off x="457200" y="1654200"/>
            <a:ext cx="4056120" cy="22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1654200"/>
                      <a:ext cx="4056120" cy="22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8" name="Text Box 10"/>
            <p:cNvSpPr/>
            <p:nvPr/>
          </p:nvSpPr>
          <p:spPr>
            <a:xfrm>
              <a:off x="304560" y="1741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1"/>
            <p:cNvSpPr/>
            <p:nvPr/>
          </p:nvSpPr>
          <p:spPr>
            <a:xfrm>
              <a:off x="1964520" y="1792080"/>
              <a:ext cx="127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+ physician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12"/>
            <p:cNvSpPr/>
            <p:nvPr/>
          </p:nvSpPr>
          <p:spPr>
            <a:xfrm flipV="1">
              <a:off x="1371600" y="2361960"/>
              <a:ext cx="2438280" cy="2286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13"/>
            <p:cNvSpPr/>
            <p:nvPr/>
          </p:nvSpPr>
          <p:spPr>
            <a:xfrm>
              <a:off x="2035800" y="2207160"/>
              <a:ext cx="90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GR = 8.6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4"/>
          <p:cNvGrpSpPr/>
          <p:nvPr/>
        </p:nvGrpSpPr>
        <p:grpSpPr>
          <a:xfrm>
            <a:off x="304560" y="1206360"/>
            <a:ext cx="8828280" cy="4818600"/>
            <a:chOff x="304560" y="1206360"/>
            <a:chExt cx="8828280" cy="4818600"/>
          </a:xfrm>
        </p:grpSpPr>
        <p:grpSp>
          <p:nvGrpSpPr>
            <p:cNvPr id="1093" name="Group 15"/>
            <p:cNvGrpSpPr/>
            <p:nvPr/>
          </p:nvGrpSpPr>
          <p:grpSpPr>
            <a:xfrm>
              <a:off x="838080" y="4419720"/>
              <a:ext cx="8229600" cy="1605240"/>
              <a:chOff x="838080" y="4419720"/>
              <a:chExt cx="8229600" cy="1605240"/>
            </a:xfrm>
          </p:grpSpPr>
          <p:sp>
            <p:nvSpPr>
              <p:cNvPr id="1094" name="Rectangle 16"/>
              <p:cNvSpPr/>
              <p:nvPr/>
            </p:nvSpPr>
            <p:spPr>
              <a:xfrm>
                <a:off x="1752480" y="4419720"/>
                <a:ext cx="7315200" cy="533160"/>
              </a:xfrm>
              <a:prstGeom prst="rect">
                <a:avLst/>
              </a:prstGeom>
              <a:solidFill>
                <a:srgbClr val="00008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801 mill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17"/>
              <p:cNvSpPr/>
              <p:nvPr/>
            </p:nvSpPr>
            <p:spPr>
              <a:xfrm>
                <a:off x="838080" y="4419720"/>
                <a:ext cx="914400" cy="53316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10 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illion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AutoShape 18"/>
              <p:cNvSpPr/>
              <p:nvPr/>
            </p:nvSpPr>
            <p:spPr>
              <a:xfrm rot="16200000">
                <a:off x="4724280" y="1219320"/>
                <a:ext cx="457200" cy="8229600"/>
              </a:xfrm>
              <a:custGeom>
                <a:avLst/>
                <a:gdLst>
                  <a:gd name="textAreaLeft" fmla="*/ 292320 w 457200"/>
                  <a:gd name="textAreaRight" fmla="*/ 457560 w 457200"/>
                  <a:gd name="textAreaTop" fmla="*/ 214560 h 8229600"/>
                  <a:gd name="textAreaBottom" fmla="*/ 8015040 h 822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Text Box 19"/>
              <p:cNvSpPr/>
              <p:nvPr/>
            </p:nvSpPr>
            <p:spPr>
              <a:xfrm>
                <a:off x="3988440" y="5748480"/>
                <a:ext cx="196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11 million visits in 2004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Group 20"/>
            <p:cNvGrpSpPr/>
            <p:nvPr/>
          </p:nvGrpSpPr>
          <p:grpSpPr>
            <a:xfrm>
              <a:off x="304560" y="1206360"/>
              <a:ext cx="8828280" cy="2756160"/>
              <a:chOff x="304560" y="1206360"/>
              <a:chExt cx="8828280" cy="2756160"/>
            </a:xfrm>
          </p:grpSpPr>
          <p:grpSp>
            <p:nvGrpSpPr>
              <p:cNvPr id="1099" name="Group 21"/>
              <p:cNvGrpSpPr/>
              <p:nvPr/>
            </p:nvGrpSpPr>
            <p:grpSpPr>
              <a:xfrm>
                <a:off x="304560" y="1206360"/>
                <a:ext cx="8828280" cy="2756160"/>
                <a:chOff x="304560" y="1206360"/>
                <a:chExt cx="8828280" cy="2756160"/>
              </a:xfrm>
            </p:grpSpPr>
            <p:graphicFrame>
              <p:nvGraphicFramePr>
                <p:cNvPr id="1100" name="Object 2"/>
                <p:cNvGraphicFramePr/>
                <p:nvPr/>
              </p:nvGraphicFramePr>
              <p:xfrm>
                <a:off x="457200" y="1641600"/>
                <a:ext cx="1324080" cy="23097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101" name="Object 2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57200" y="1641600"/>
                          <a:ext cx="1324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02" name="Text Box 23"/>
                <p:cNvSpPr/>
                <p:nvPr/>
              </p:nvSpPr>
              <p:spPr>
                <a:xfrm>
                  <a:off x="304560" y="1730160"/>
                  <a:ext cx="113400" cy="152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%</a:t>
                  </a:r>
                  <a:endParaRPr b="1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Text Box 24"/>
                <p:cNvSpPr/>
                <p:nvPr/>
              </p:nvSpPr>
              <p:spPr>
                <a:xfrm>
                  <a:off x="835200" y="1206360"/>
                  <a:ext cx="97164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+ 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ysician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104" name="Object 3"/>
                <p:cNvGraphicFramePr/>
                <p:nvPr/>
              </p:nvGraphicFramePr>
              <p:xfrm>
                <a:off x="1770120" y="1747800"/>
                <a:ext cx="7362720" cy="2214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105" name="Object 3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770120" y="1747800"/>
                          <a:ext cx="7362720" cy="2214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06" name="Text Box 26"/>
                <p:cNvSpPr/>
                <p:nvPr/>
              </p:nvSpPr>
              <p:spPr>
                <a:xfrm>
                  <a:off x="4971960" y="1206360"/>
                  <a:ext cx="97164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-9 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hysicians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AutoShape 27"/>
              <p:cNvSpPr/>
              <p:nvPr/>
            </p:nvSpPr>
            <p:spPr>
              <a:xfrm>
                <a:off x="3124080" y="1893960"/>
                <a:ext cx="1524240" cy="838080"/>
              </a:xfrm>
              <a:prstGeom prst="wedgeRectCallout">
                <a:avLst>
                  <a:gd name="adj1" fmla="val 94583"/>
                  <a:gd name="adj2" fmla="val 83523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rowing at about 1.5 percentage points per year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8" name="Rectangle 28"/>
          <p:cNvSpPr/>
          <p:nvPr/>
        </p:nvSpPr>
        <p:spPr>
          <a:xfrm>
            <a:off x="152280" y="6324480"/>
            <a:ext cx="502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urce:  CDC; Center for Health Systems Change; National Ambulatory Care Surve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99136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LTH IT SPENDING IN ARR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Object 2" descr="bar graph of health IT spendin in ARRA"/>
          <p:cNvPicPr/>
          <p:nvPr/>
        </p:nvPicPr>
        <p:blipFill>
          <a:blip r:embed="rId1"/>
          <a:stretch/>
        </p:blipFill>
        <p:spPr>
          <a:xfrm>
            <a:off x="3048120" y="1905120"/>
            <a:ext cx="1600200" cy="4800600"/>
          </a:xfrm>
          <a:prstGeom prst="rect">
            <a:avLst/>
          </a:prstGeom>
          <a:ln w="0">
            <a:noFill/>
          </a:ln>
        </p:spPr>
      </p:pic>
      <p:sp>
        <p:nvSpPr>
          <p:cNvPr id="1111" name="TextBox 47"/>
          <p:cNvSpPr/>
          <p:nvPr/>
        </p:nvSpPr>
        <p:spPr>
          <a:xfrm>
            <a:off x="3740760" y="44956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45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47"/>
          <p:cNvSpPr/>
          <p:nvPr/>
        </p:nvSpPr>
        <p:spPr>
          <a:xfrm>
            <a:off x="3773880" y="22478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47"/>
          <p:cNvSpPr/>
          <p:nvPr/>
        </p:nvSpPr>
        <p:spPr>
          <a:xfrm>
            <a:off x="3713400" y="1981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47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21"/>
          <p:cNvSpPr/>
          <p:nvPr/>
        </p:nvSpPr>
        <p:spPr>
          <a:xfrm>
            <a:off x="4894560" y="4524480"/>
            <a:ext cx="305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 payments to individual provid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22"/>
          <p:cNvSpPr/>
          <p:nvPr/>
        </p:nvSpPr>
        <p:spPr>
          <a:xfrm>
            <a:off x="4910760" y="1346040"/>
            <a:ext cx="32256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ous studies and repor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 information excha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health IT resource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health IT extension cen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implementation and planning gra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HR loan fu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ST certication infrastru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eft Brace 31"/>
          <p:cNvSpPr/>
          <p:nvPr/>
        </p:nvSpPr>
        <p:spPr>
          <a:xfrm>
            <a:off x="4576680" y="1295280"/>
            <a:ext cx="381240" cy="1676520"/>
          </a:xfrm>
          <a:custGeom>
            <a:avLst/>
            <a:gdLst>
              <a:gd name="textAreaLeft" fmla="*/ 243720 w 381240"/>
              <a:gd name="textAreaRight" fmla="*/ 381600 w 381240"/>
              <a:gd name="textAreaTop" fmla="*/ 72720 h 1676520"/>
              <a:gd name="textAreaBottom" fmla="*/ 160380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1"/>
                  <a:pt x="10800" y="3002"/>
                </a:cubicBezTo>
                <a:lnTo>
                  <a:pt x="10800" y="10968"/>
                </a:lnTo>
                <a:cubicBezTo>
                  <a:pt x="10800" y="12469"/>
                  <a:pt x="5400" y="13970"/>
                  <a:pt x="0" y="13970"/>
                </a:cubicBezTo>
                <a:cubicBezTo>
                  <a:pt x="5400" y="13970"/>
                  <a:pt x="10800" y="15471"/>
                  <a:pt x="10800" y="16972"/>
                </a:cubicBezTo>
                <a:lnTo>
                  <a:pt x="10800" y="18598"/>
                </a:lnTo>
                <a:cubicBezTo>
                  <a:pt x="10800" y="20099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920" y="27144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 GOV’T EXPECTING TO GET 50% PAYBACK 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RA HEALTH IT INVEST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Object 2" descr="bar graph of US government expecting to get 50% payback on ARRA health IT investments"/>
          <p:cNvPicPr/>
          <p:nvPr/>
        </p:nvPicPr>
        <p:blipFill>
          <a:blip r:embed="rId1"/>
          <a:stretch/>
        </p:blipFill>
        <p:spPr>
          <a:xfrm>
            <a:off x="609480" y="1219320"/>
            <a:ext cx="8610840" cy="480060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47"/>
          <p:cNvSpPr/>
          <p:nvPr/>
        </p:nvSpPr>
        <p:spPr>
          <a:xfrm>
            <a:off x="1310400" y="15238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$35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47"/>
          <p:cNvSpPr/>
          <p:nvPr/>
        </p:nvSpPr>
        <p:spPr>
          <a:xfrm>
            <a:off x="3965400" y="15112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13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47"/>
          <p:cNvSpPr/>
          <p:nvPr/>
        </p:nvSpPr>
        <p:spPr>
          <a:xfrm>
            <a:off x="2670480" y="152388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$1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47"/>
          <p:cNvSpPr/>
          <p:nvPr/>
        </p:nvSpPr>
        <p:spPr>
          <a:xfrm>
            <a:off x="5312880" y="2882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3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ight Brace 59"/>
          <p:cNvSpPr/>
          <p:nvPr/>
        </p:nvSpPr>
        <p:spPr>
          <a:xfrm>
            <a:off x="7621560" y="3475080"/>
            <a:ext cx="274680" cy="2011320"/>
          </a:xfrm>
          <a:custGeom>
            <a:avLst/>
            <a:gdLst>
              <a:gd name="textAreaLeft" fmla="*/ 0 w 274680"/>
              <a:gd name="textAreaRight" fmla="*/ 99000 w 274680"/>
              <a:gd name="textAreaTop" fmla="*/ 71640 h 2011320"/>
              <a:gd name="textAreaBottom" fmla="*/ 1939680 h 20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29"/>
                  <a:pt x="10800" y="2458"/>
                </a:cubicBezTo>
                <a:lnTo>
                  <a:pt x="10800" y="8342"/>
                </a:lnTo>
                <a:cubicBezTo>
                  <a:pt x="10800" y="9571"/>
                  <a:pt x="16200" y="10800"/>
                  <a:pt x="21600" y="10800"/>
                </a:cubicBezTo>
                <a:cubicBezTo>
                  <a:pt x="16200" y="10800"/>
                  <a:pt x="10800" y="12029"/>
                  <a:pt x="10800" y="13258"/>
                </a:cubicBezTo>
                <a:lnTo>
                  <a:pt x="10800" y="19142"/>
                </a:lnTo>
                <a:cubicBezTo>
                  <a:pt x="10800" y="2037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60"/>
          <p:cNvSpPr/>
          <p:nvPr/>
        </p:nvSpPr>
        <p:spPr>
          <a:xfrm>
            <a:off x="7773840" y="4191120"/>
            <a:ext cx="129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cos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60"/>
          <p:cNvSpPr/>
          <p:nvPr/>
        </p:nvSpPr>
        <p:spPr>
          <a:xfrm>
            <a:off x="1015920" y="552456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entives &amp; ONC fund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60"/>
          <p:cNvSpPr/>
          <p:nvPr/>
        </p:nvSpPr>
        <p:spPr>
          <a:xfrm>
            <a:off x="3645000" y="552456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vings to govern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60"/>
          <p:cNvSpPr/>
          <p:nvPr/>
        </p:nvSpPr>
        <p:spPr>
          <a:xfrm>
            <a:off x="2209680" y="5533920"/>
            <a:ext cx="148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of administ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60"/>
          <p:cNvSpPr/>
          <p:nvPr/>
        </p:nvSpPr>
        <p:spPr>
          <a:xfrm>
            <a:off x="4981680" y="5521320"/>
            <a:ext cx="129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reased tax reven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ight Brace 59"/>
          <p:cNvSpPr/>
          <p:nvPr/>
        </p:nvSpPr>
        <p:spPr>
          <a:xfrm rot="19200000">
            <a:off x="5508360" y="1321920"/>
            <a:ext cx="274680" cy="1828800"/>
          </a:xfrm>
          <a:custGeom>
            <a:avLst/>
            <a:gdLst>
              <a:gd name="textAreaLeft" fmla="*/ 0 w 274680"/>
              <a:gd name="textAreaRight" fmla="*/ 99000 w 274680"/>
              <a:gd name="textAreaTop" fmla="*/ 71640 h 1828800"/>
              <a:gd name="textAreaBottom" fmla="*/ 1757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52"/>
                  <a:pt x="10800" y="2704"/>
                </a:cubicBezTo>
                <a:lnTo>
                  <a:pt x="10800" y="8096"/>
                </a:lnTo>
                <a:cubicBezTo>
                  <a:pt x="10800" y="9448"/>
                  <a:pt x="16200" y="10800"/>
                  <a:pt x="21600" y="10800"/>
                </a:cubicBezTo>
                <a:cubicBezTo>
                  <a:pt x="16200" y="10800"/>
                  <a:pt x="10800" y="12152"/>
                  <a:pt x="10800" y="13504"/>
                </a:cubicBezTo>
                <a:lnTo>
                  <a:pt x="10800" y="18896"/>
                </a:lnTo>
                <a:cubicBezTo>
                  <a:pt x="10800" y="20248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60"/>
          <p:cNvSpPr/>
          <p:nvPr/>
        </p:nvSpPr>
        <p:spPr>
          <a:xfrm>
            <a:off x="5867280" y="1676520"/>
            <a:ext cx="129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benefit:  $16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47"/>
          <p:cNvSpPr/>
          <p:nvPr/>
        </p:nvSpPr>
        <p:spPr>
          <a:xfrm>
            <a:off x="13942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33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47"/>
          <p:cNvSpPr/>
          <p:nvPr/>
        </p:nvSpPr>
        <p:spPr>
          <a:xfrm>
            <a:off x="1441800" y="185724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47"/>
          <p:cNvSpPr/>
          <p:nvPr/>
        </p:nvSpPr>
        <p:spPr>
          <a:xfrm>
            <a:off x="6707520" y="34290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$2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47"/>
          <p:cNvSpPr/>
          <p:nvPr/>
        </p:nvSpPr>
        <p:spPr>
          <a:xfrm>
            <a:off x="6690240" y="4295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8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traight Connector 22"/>
          <p:cNvSpPr/>
          <p:nvPr/>
        </p:nvSpPr>
        <p:spPr>
          <a:xfrm>
            <a:off x="1981080" y="1892160"/>
            <a:ext cx="762120" cy="18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traight Connector 23"/>
          <p:cNvSpPr/>
          <p:nvPr/>
        </p:nvSpPr>
        <p:spPr>
          <a:xfrm>
            <a:off x="3276720" y="1789200"/>
            <a:ext cx="761760" cy="14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traight Connector 24"/>
          <p:cNvSpPr/>
          <p:nvPr/>
        </p:nvSpPr>
        <p:spPr>
          <a:xfrm>
            <a:off x="4572000" y="3135240"/>
            <a:ext cx="762120" cy="18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traight Connector 25"/>
          <p:cNvSpPr/>
          <p:nvPr/>
        </p:nvSpPr>
        <p:spPr>
          <a:xfrm>
            <a:off x="5918040" y="3454560"/>
            <a:ext cx="762120" cy="14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06080" y="304560"/>
            <a:ext cx="8991720" cy="4143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INGFUL USE DOESN’T JUST HAPPEN, IT GETS DO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5"/>
          <p:cNvSpPr/>
          <p:nvPr/>
        </p:nvSpPr>
        <p:spPr>
          <a:xfrm>
            <a:off x="685800" y="18288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Chevron 3"/>
          <p:cNvSpPr/>
          <p:nvPr/>
        </p:nvSpPr>
        <p:spPr>
          <a:xfrm>
            <a:off x="719280" y="2193840"/>
            <a:ext cx="8067600" cy="376200"/>
          </a:xfrm>
          <a:custGeom>
            <a:avLst/>
            <a:gdLst>
              <a:gd name="textAreaLeft" fmla="*/ 0 w 8067600"/>
              <a:gd name="textAreaRight" fmla="*/ 8067960 w 80676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38" y="0"/>
                </a:lnTo>
                <a:lnTo>
                  <a:pt x="21600" y="10800"/>
                </a:lnTo>
                <a:lnTo>
                  <a:pt x="21438" y="21600"/>
                </a:lnTo>
                <a:lnTo>
                  <a:pt x="0" y="21600"/>
                </a:lnTo>
                <a:lnTo>
                  <a:pt x="16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all project manage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Chevron 4"/>
          <p:cNvSpPr/>
          <p:nvPr/>
        </p:nvSpPr>
        <p:spPr>
          <a:xfrm>
            <a:off x="18558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diness assessment &amp;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Chevron 5"/>
          <p:cNvSpPr/>
          <p:nvPr/>
        </p:nvSpPr>
        <p:spPr>
          <a:xfrm>
            <a:off x="301788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actice transformatio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amp; workflow plann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Chevron 6"/>
          <p:cNvSpPr/>
          <p:nvPr/>
        </p:nvSpPr>
        <p:spPr>
          <a:xfrm>
            <a:off x="417672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deployment &amp;      Implement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Chevron 7"/>
          <p:cNvSpPr/>
          <p:nvPr/>
        </p:nvSpPr>
        <p:spPr>
          <a:xfrm>
            <a:off x="765504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-   implementation sup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Chevron 8"/>
          <p:cNvSpPr/>
          <p:nvPr/>
        </p:nvSpPr>
        <p:spPr>
          <a:xfrm>
            <a:off x="5335560" y="2644920"/>
            <a:ext cx="1258920" cy="906480"/>
          </a:xfrm>
          <a:custGeom>
            <a:avLst/>
            <a:gdLst>
              <a:gd name="textAreaLeft" fmla="*/ 0 w 1258920"/>
              <a:gd name="textAreaRight" fmla="*/ 1259280 w 12589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porting, decision support, and performance measur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Chevron 10"/>
          <p:cNvSpPr/>
          <p:nvPr/>
        </p:nvSpPr>
        <p:spPr>
          <a:xfrm>
            <a:off x="649620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8" y="0"/>
                </a:lnTo>
                <a:lnTo>
                  <a:pt x="21600" y="10800"/>
                </a:lnTo>
                <a:lnTo>
                  <a:pt x="19098" y="21600"/>
                </a:lnTo>
                <a:lnTo>
                  <a:pt x="0" y="21600"/>
                </a:lnTo>
                <a:lnTo>
                  <a:pt x="2502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-operating with internal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external syste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16"/>
          <p:cNvSpPr/>
          <p:nvPr/>
        </p:nvSpPr>
        <p:spPr>
          <a:xfrm>
            <a:off x="685800" y="1828800"/>
            <a:ext cx="589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llustrative EHR Implementation Value Ch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Chevron 12"/>
          <p:cNvSpPr/>
          <p:nvPr/>
        </p:nvSpPr>
        <p:spPr>
          <a:xfrm>
            <a:off x="696960" y="2644920"/>
            <a:ext cx="1260360" cy="90648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6" y="0"/>
                </a:lnTo>
                <a:lnTo>
                  <a:pt x="21600" y="10800"/>
                </a:lnTo>
                <a:lnTo>
                  <a:pt x="19096" y="21600"/>
                </a:lnTo>
                <a:lnTo>
                  <a:pt x="0" y="21600"/>
                </a:lnTo>
                <a:lnTo>
                  <a:pt x="2504" y="10800"/>
                </a:lnTo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acti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anage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1"/>
          <p:cNvSpPr/>
          <p:nvPr/>
        </p:nvSpPr>
        <p:spPr>
          <a:xfrm>
            <a:off x="1828800" y="46483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ps at any point along the way will kill ado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122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Down Arrow 125"/>
          <p:cNvSpPr/>
          <p:nvPr/>
        </p:nvSpPr>
        <p:spPr>
          <a:xfrm>
            <a:off x="4343400" y="3886200"/>
            <a:ext cx="83808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7351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YMENTS MAY NOT COVER THE OUTLAYS AT A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AL PHYSICIAN-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Object 2" descr="bar graph of payments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4800600"/>
          </a:xfrm>
          <a:prstGeom prst="rect">
            <a:avLst/>
          </a:prstGeom>
          <a:ln w="0">
            <a:noFill/>
          </a:ln>
        </p:spPr>
      </p:pic>
      <p:sp>
        <p:nvSpPr>
          <p:cNvPr id="1154" name="Text Box 4"/>
          <p:cNvSpPr/>
          <p:nvPr/>
        </p:nvSpPr>
        <p:spPr>
          <a:xfrm>
            <a:off x="176040" y="1295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11"/>
          <p:cNvSpPr/>
          <p:nvPr/>
        </p:nvSpPr>
        <p:spPr>
          <a:xfrm>
            <a:off x="1314360" y="4140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1"/>
          <p:cNvSpPr/>
          <p:nvPr/>
        </p:nvSpPr>
        <p:spPr>
          <a:xfrm>
            <a:off x="1879560" y="4610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11"/>
          <p:cNvSpPr/>
          <p:nvPr/>
        </p:nvSpPr>
        <p:spPr>
          <a:xfrm>
            <a:off x="2436840" y="506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11"/>
          <p:cNvSpPr/>
          <p:nvPr/>
        </p:nvSpPr>
        <p:spPr>
          <a:xfrm>
            <a:off x="3048120" y="3413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1"/>
          <p:cNvSpPr/>
          <p:nvPr/>
        </p:nvSpPr>
        <p:spPr>
          <a:xfrm>
            <a:off x="3632040" y="38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11"/>
          <p:cNvSpPr/>
          <p:nvPr/>
        </p:nvSpPr>
        <p:spPr>
          <a:xfrm>
            <a:off x="4229280" y="2768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1"/>
          <p:cNvSpPr/>
          <p:nvPr/>
        </p:nvSpPr>
        <p:spPr>
          <a:xfrm>
            <a:off x="4851360" y="3238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1"/>
          <p:cNvSpPr/>
          <p:nvPr/>
        </p:nvSpPr>
        <p:spPr>
          <a:xfrm>
            <a:off x="5423040" y="250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1"/>
          <p:cNvSpPr/>
          <p:nvPr/>
        </p:nvSpPr>
        <p:spPr>
          <a:xfrm>
            <a:off x="6058080" y="341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1"/>
          <p:cNvSpPr/>
          <p:nvPr/>
        </p:nvSpPr>
        <p:spPr>
          <a:xfrm>
            <a:off x="6654960" y="3056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1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Box 24"/>
          <p:cNvSpPr/>
          <p:nvPr/>
        </p:nvSpPr>
        <p:spPr>
          <a:xfrm>
            <a:off x="775800" y="5667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25"/>
          <p:cNvSpPr/>
          <p:nvPr/>
        </p:nvSpPr>
        <p:spPr>
          <a:xfrm>
            <a:off x="1422000" y="5667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26"/>
          <p:cNvSpPr/>
          <p:nvPr/>
        </p:nvSpPr>
        <p:spPr>
          <a:xfrm>
            <a:off x="23554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Box 30"/>
          <p:cNvSpPr/>
          <p:nvPr/>
        </p:nvSpPr>
        <p:spPr>
          <a:xfrm>
            <a:off x="358416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32"/>
          <p:cNvSpPr/>
          <p:nvPr/>
        </p:nvSpPr>
        <p:spPr>
          <a:xfrm>
            <a:off x="48286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Box 34"/>
          <p:cNvSpPr/>
          <p:nvPr/>
        </p:nvSpPr>
        <p:spPr>
          <a:xfrm>
            <a:off x="599688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36"/>
          <p:cNvSpPr/>
          <p:nvPr/>
        </p:nvSpPr>
        <p:spPr>
          <a:xfrm>
            <a:off x="7200360" y="5667480"/>
            <a:ext cx="57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traight Connector 40"/>
          <p:cNvSpPr/>
          <p:nvPr/>
        </p:nvSpPr>
        <p:spPr>
          <a:xfrm flipH="1">
            <a:off x="142200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traight Connector 41"/>
          <p:cNvSpPr/>
          <p:nvPr/>
        </p:nvSpPr>
        <p:spPr>
          <a:xfrm flipH="1">
            <a:off x="203040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traight Connector 42"/>
          <p:cNvSpPr/>
          <p:nvPr/>
        </p:nvSpPr>
        <p:spPr>
          <a:xfrm flipH="1">
            <a:off x="327456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traight Connector 43"/>
          <p:cNvSpPr/>
          <p:nvPr/>
        </p:nvSpPr>
        <p:spPr>
          <a:xfrm flipH="1">
            <a:off x="447048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traight Connector 44"/>
          <p:cNvSpPr/>
          <p:nvPr/>
        </p:nvSpPr>
        <p:spPr>
          <a:xfrm flipH="1">
            <a:off x="566532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traight Connector 45"/>
          <p:cNvSpPr/>
          <p:nvPr/>
        </p:nvSpPr>
        <p:spPr>
          <a:xfrm flipH="1">
            <a:off x="6859080" y="1373040"/>
            <a:ext cx="180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traight Connector 46"/>
          <p:cNvSpPr/>
          <p:nvPr/>
        </p:nvSpPr>
        <p:spPr>
          <a:xfrm flipH="1">
            <a:off x="8055000" y="1373040"/>
            <a:ext cx="1440" cy="4572000"/>
          </a:xfrm>
          <a:prstGeom prst="line">
            <a:avLst/>
          </a:prstGeom>
          <a:ln w="1584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47"/>
          <p:cNvSpPr/>
          <p:nvPr/>
        </p:nvSpPr>
        <p:spPr>
          <a:xfrm>
            <a:off x="891360" y="4229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48"/>
          <p:cNvSpPr/>
          <p:nvPr/>
        </p:nvSpPr>
        <p:spPr>
          <a:xfrm>
            <a:off x="1551960" y="46450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49"/>
          <p:cNvSpPr/>
          <p:nvPr/>
        </p:nvSpPr>
        <p:spPr>
          <a:xfrm>
            <a:off x="2147400" y="5102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50"/>
          <p:cNvSpPr/>
          <p:nvPr/>
        </p:nvSpPr>
        <p:spPr>
          <a:xfrm>
            <a:off x="2715480" y="50515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1"/>
          <p:cNvSpPr/>
          <p:nvPr/>
        </p:nvSpPr>
        <p:spPr>
          <a:xfrm>
            <a:off x="3372120" y="38847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52"/>
          <p:cNvSpPr/>
          <p:nvPr/>
        </p:nvSpPr>
        <p:spPr>
          <a:xfrm>
            <a:off x="3927600" y="38941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53"/>
          <p:cNvSpPr/>
          <p:nvPr/>
        </p:nvSpPr>
        <p:spPr>
          <a:xfrm>
            <a:off x="5166720" y="32544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54"/>
          <p:cNvSpPr/>
          <p:nvPr/>
        </p:nvSpPr>
        <p:spPr>
          <a:xfrm>
            <a:off x="6405840" y="3429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55"/>
          <p:cNvSpPr/>
          <p:nvPr/>
        </p:nvSpPr>
        <p:spPr>
          <a:xfrm>
            <a:off x="7596360" y="350532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56"/>
          <p:cNvSpPr/>
          <p:nvPr/>
        </p:nvSpPr>
        <p:spPr>
          <a:xfrm>
            <a:off x="4585680" y="32511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57"/>
          <p:cNvSpPr/>
          <p:nvPr/>
        </p:nvSpPr>
        <p:spPr>
          <a:xfrm>
            <a:off x="5734800" y="34290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Box 58"/>
          <p:cNvSpPr/>
          <p:nvPr/>
        </p:nvSpPr>
        <p:spPr>
          <a:xfrm>
            <a:off x="6975720" y="34671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ight Brace 59"/>
          <p:cNvSpPr/>
          <p:nvPr/>
        </p:nvSpPr>
        <p:spPr>
          <a:xfrm>
            <a:off x="8153280" y="142236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1905120"/>
              <a:gd name="textAreaBottom" fmla="*/ 18457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82"/>
                  <a:pt x="10800" y="2163"/>
                </a:cubicBezTo>
                <a:lnTo>
                  <a:pt x="10800" y="8637"/>
                </a:lnTo>
                <a:cubicBezTo>
                  <a:pt x="10800" y="9719"/>
                  <a:pt x="16200" y="10800"/>
                  <a:pt x="21600" y="10800"/>
                </a:cubicBezTo>
                <a:cubicBezTo>
                  <a:pt x="16200" y="10800"/>
                  <a:pt x="10800" y="11882"/>
                  <a:pt x="10800" y="12963"/>
                </a:cubicBezTo>
                <a:lnTo>
                  <a:pt x="10800" y="19437"/>
                </a:lnTo>
                <a:cubicBezTo>
                  <a:pt x="10800" y="20519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60"/>
          <p:cNvSpPr/>
          <p:nvPr/>
        </p:nvSpPr>
        <p:spPr>
          <a:xfrm>
            <a:off x="8307360" y="2193840"/>
            <a:ext cx="129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gap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$21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61"/>
          <p:cNvSpPr/>
          <p:nvPr/>
        </p:nvSpPr>
        <p:spPr>
          <a:xfrm>
            <a:off x="2286000" y="1625760"/>
            <a:ext cx="22860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62"/>
          <p:cNvSpPr/>
          <p:nvPr/>
        </p:nvSpPr>
        <p:spPr>
          <a:xfrm>
            <a:off x="2286000" y="1930320"/>
            <a:ext cx="228600" cy="228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63"/>
          <p:cNvSpPr/>
          <p:nvPr/>
        </p:nvSpPr>
        <p:spPr>
          <a:xfrm>
            <a:off x="2514600" y="1600200"/>
            <a:ext cx="1752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 co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64"/>
          <p:cNvSpPr/>
          <p:nvPr/>
        </p:nvSpPr>
        <p:spPr>
          <a:xfrm>
            <a:off x="2514600" y="1906560"/>
            <a:ext cx="1752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re incen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8:04:12Z</dcterms:created>
  <dc:creator>LENOVO USER</dc:creator>
  <dc:description/>
  <dc:language>en-US</dc:language>
  <cp:lastModifiedBy>Rasa</cp:lastModifiedBy>
  <dcterms:modified xsi:type="dcterms:W3CDTF">2009-10-28T19:52:58Z</dcterms:modified>
  <cp:revision>35</cp:revision>
  <dc:subject/>
  <dc:title>MASSACHUSETTS eHEALTH COLLABORATIVE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</Properties>
</file>