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36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4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47.jpeg" ContentType="image/jpeg"/>
  <Override PartName="/ppt/media/image5.wmf" ContentType="image/x-wmf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2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dt" idx="34"/>
          </p:nvPr>
        </p:nvSpPr>
        <p:spPr>
          <a:xfrm>
            <a:off x="3890520" y="0"/>
            <a:ext cx="2992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sldImg"/>
          </p:nvPr>
        </p:nvSpPr>
        <p:spPr>
          <a:xfrm>
            <a:off x="945720" y="685800"/>
            <a:ext cx="491508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ftr" idx="35"/>
          </p:nvPr>
        </p:nvSpPr>
        <p:spPr>
          <a:xfrm>
            <a:off x="0" y="8849880"/>
            <a:ext cx="2992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 type="sldNum" idx="36"/>
          </p:nvPr>
        </p:nvSpPr>
        <p:spPr>
          <a:xfrm>
            <a:off x="3890520" y="8849880"/>
            <a:ext cx="2992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03ACE55-539C-42B5-A9EA-65EA9CF707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F4A6490-88CB-4A16-9865-FF479BF6FA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024913C-7F34-4A0B-94A7-B6F86D2B55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3964D95-E803-46CB-9F20-013C3C30CCE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BFA8AF5-D23F-49E2-8E1A-CA71608BE3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770B309-65CE-4608-884F-A03C6FF5D42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46080" y="685800"/>
            <a:ext cx="4913280" cy="3510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A201DC1-7DA0-44BD-965B-A3BE8F6B33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2"/>
          <p:cNvSpPr/>
          <p:nvPr/>
        </p:nvSpPr>
        <p:spPr>
          <a:xfrm>
            <a:off x="0" y="0"/>
            <a:ext cx="299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na Health Information Exchange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6"/>
          <p:cNvSpPr/>
          <p:nvPr/>
        </p:nvSpPr>
        <p:spPr>
          <a:xfrm>
            <a:off x="0" y="885024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pyright © 2006 Indiana Health Information Exchange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A2D6205-62A0-4ECF-B34D-BC8E5151B6D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88920" y="6951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7240" y="4416480"/>
            <a:ext cx="5483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6039-CBB1-46D7-B59D-50589D9D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09CA-6AEB-4886-B7FE-A132F512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AA95-8C4F-4A40-8A14-6BE9222A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480F-3510-433A-A213-6B1BA4B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73A5-68C0-4413-8A63-63BDF5FE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7103-EB33-4E7D-9491-BAF82FA1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8AED-8AE5-410F-872F-B305D6A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504B-D602-40C2-B92E-B5555A98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5195-0CF4-4A44-A06A-D728645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8DF9-AAA7-4CCE-90AA-8662B351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B8DE-685A-43D9-9070-B5773A39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69B9-7888-4E15-BABA-C1184040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616F-D2D1-4B13-8747-F6943464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39AC-1103-4EE8-B08B-0BB04A32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AB26-201E-4A91-8EFE-C3C83EA8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4C29-22E3-44E7-B673-B6A2227B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744F-8599-4437-97C1-028EDE6A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F58B-7C97-4AB6-B55A-CB3D5F73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1F93-5596-4713-B73A-9CC22D69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3A08-3186-43E6-898B-8E7215BC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C5BF-1DBA-4DAA-8C72-2B3DD04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67BE-2ACD-4DB8-A82A-969D552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FB8A-081E-4CBF-9FC9-7E8AE9FE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8EBA-806E-419E-BA45-3974CB1F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230D-558B-4169-B437-CC769E63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CAA7-53A3-4CE6-B521-B6CD92B6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1923-2EB8-4AAE-8C5B-A5850A1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DACC-85B7-49D2-8896-410C888B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FD2F-DB7D-4DFC-A111-C7610E3B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AC35-A7A1-4C28-B511-19441DF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DF17-F428-4130-B5EA-F1BBF7D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59A6C-34C6-438F-BD07-2BC415D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4591-8562-41F2-9FB1-61458BB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4F808-EAA8-47D4-9DC0-478AA41E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9587-0531-41E5-AD2F-71F0BA60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2E8D2-CDE9-42E0-91E5-1445F1C6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16F2-DF66-451A-9166-969238C1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60BE5-E0E5-4BF5-A9EB-46FDFF12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46F39-8871-4FBD-8617-92F1605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4F875-89A1-4F40-A2E0-03F621E0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0261-EFB8-438D-B784-1B73887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34B8-6536-4CEC-B5E0-215E2DC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2D0D-3642-4205-A12E-F510A5B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2B08C-2B8C-43EC-BFAA-E642DF95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A3B2D-A142-4FB5-8B7A-A3595DC4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1CD4-F679-4C46-93D5-30635891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3867-7FA7-4B20-B633-3AE8DCE5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B3C10-B179-46C5-9FC3-277FED8C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2F24-349C-4539-A6DD-5272B1A2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BE9E5-4841-49A2-8EB9-653CBA8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13F7A-80CB-46C5-8A73-B8CF0E9D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6C75D-F2A2-4D14-AAD8-07615407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F4FC6-8F00-47D1-BBBB-6266EB7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9B29-55A3-4079-8DEA-101E4FC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0CBD-B285-48AF-B0B3-46F0858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4155-F402-4407-9EB9-8AC40F3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8CEA-9889-4AFB-B512-D12B1EF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804E5-0791-4F16-A23A-C1FC1E78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37F0D-971C-46D8-BD38-8BA2632A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E7117-B550-4951-9423-974A2577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E16F-FC02-4337-B463-252104DE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D50D-E5D5-49FA-9CE0-F509807D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C579F-3CCF-436F-BB97-F711668B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52AF-BEA7-4CD4-AE16-88EAE188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86BA-3413-4764-AE45-9716321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D2D9-8264-42ED-981B-97C080B8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01F31-48A1-4A1C-8FC8-5EBBB10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A203D-90FE-4702-93A1-F448383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BA1A-8D4C-402B-BB77-02B840A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FACD-DF73-44A1-B2D0-B41EBF1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D6AA-E2C2-4370-9D85-5BD620EF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B210-A3A5-4B6B-A529-501BFD7B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60436-C9B3-446C-93F1-01389897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79AC-E1A7-48C9-9F60-8D68A05C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555F-C060-44C6-BDC0-9ABFEB61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EA825-0742-417A-8713-2D039722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CADB-3059-4004-AFFD-D249F264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E03D-7C5E-4C6D-BBBD-9DE4D27F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05585-8083-48E6-98AA-4EB746F1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205D-4121-493E-BAEC-019755B2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FAA78-537B-4020-849D-5B9C769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BAA0F-1CAB-40E7-A0BA-905291A9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E692D-A903-48A4-9BF2-E48105F3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D1BA-E89E-4E75-8A1E-0E1F6B94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87A5E-A541-485B-99BC-6E723C2B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73C58-8E74-447E-A3D3-AD57918F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CF793-E71F-4B2F-A7D5-C48A19E4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C454F-2127-46FA-94A2-29748C5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E441-F7A2-4C6D-B8CE-820AD2A5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9301E-26F3-4A4C-87DB-072397A7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88B66-245F-4AB9-9070-38B703BD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B8F45-FC15-4601-855D-7FE7411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8227B-3A7F-4AD6-9FFF-099F37A1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AA0C3-DF20-42FA-BBB7-E54E04C2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A71E3-2B58-49F2-9127-235BE5BC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1719B-C5FF-4914-B939-4A69753B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12B1B-C6D0-4665-A62C-3D12B8FE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CD8B8-8DB4-4177-B953-5DD92C3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2BCBD-5168-4F71-B15E-3F50B506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33399-603E-41A4-A81F-76464A68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1C29C-5C22-45D3-A654-60C89BC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15442-E36B-45F7-B713-A1028C27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96B00-53E0-4D7F-873B-406E0B53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0B11C-7563-4F0C-8269-DA07658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4282D-AE4F-4410-8E2A-63C46579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D5A08-141D-4D73-9EF4-128795DD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64231-BAFA-4280-94FE-0EF31818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BD383-E3BE-4D4D-8E31-1DEA26FE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8761E-3507-44D6-AB7D-B2EE7EC1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68C8D-95C3-4561-823D-32D9580A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4833D-8631-48A9-B346-0EA25A9F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A3E6A-7616-49AB-8BB0-B72AFC7E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8989A-C2E5-4DF7-89C2-7E8D4B4A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EC0BD-F83C-433F-83C8-8CE994B9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7BB63-A674-4830-A45A-D37ABC3E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1DBBD-6754-4EF8-B420-113AC6BA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49C4D-06CF-4F24-A98B-92BF9146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E48BF-E0D6-4EDE-9D81-EBDA894F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A5003-24D9-4EC0-A5B2-E55CE0DA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4C404-8D01-4904-8A50-91037777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269-0975-4C60-A2E7-133B9A05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19D-33BF-4D62-8F94-56829482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A80-B884-4C2B-8271-9961EBC6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503-460E-4BBD-8C08-AA33861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E7C-C232-4A6D-B650-0A9DEBEE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989-B1A1-4EAC-B009-5095EC03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34F-F827-4979-B75F-4E4E9A1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6F5-718A-4278-A376-34057B0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31D-945B-436D-8D9E-2B52F407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882-3273-4D25-AF35-2D478196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84D-8EFE-4383-B959-1B9267EE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1DF-A76D-4BAD-A320-2551C4CE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1A26966B-837F-4223-A91C-0C203FE0A2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0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9" descr=""/>
          <p:cNvPicPr/>
          <p:nvPr/>
        </p:nvPicPr>
        <p:blipFill>
          <a:blip r:embed="rId3"/>
          <a:stretch/>
        </p:blipFill>
        <p:spPr>
          <a:xfrm>
            <a:off x="0" y="492120"/>
            <a:ext cx="2468520" cy="655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green_sideimage"/>
          <p:cNvPicPr/>
          <p:nvPr/>
        </p:nvPicPr>
        <p:blipFill>
          <a:blip r:embed="rId4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4"/>
          </p:nvPr>
        </p:nvSpPr>
        <p:spPr>
          <a:xfrm>
            <a:off x="73980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5"/>
          </p:nvPr>
        </p:nvSpPr>
        <p:spPr>
          <a:xfrm>
            <a:off x="3279600" y="63813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6"/>
          </p:nvPr>
        </p:nvSpPr>
        <p:spPr>
          <a:xfrm>
            <a:off x="698832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17E-5A50-42C6-BBC0-B0DAA6FF0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9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7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8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9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0CC-372F-407F-9F5C-FE3E1232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9" descr=""/>
          <p:cNvPicPr/>
          <p:nvPr/>
        </p:nvPicPr>
        <p:blipFill>
          <a:blip r:embed="rId4"/>
          <a:stretch/>
        </p:blipFill>
        <p:spPr>
          <a:xfrm>
            <a:off x="0" y="507960"/>
            <a:ext cx="2468520" cy="6015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10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11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12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2EC-4C90-4B22-B5CA-C31F8ECD7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13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14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15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2983-7F1F-4EEB-B6D7-0CD650A2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6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7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8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E5ED-4691-487A-92A0-5E155B936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19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20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21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1043-6F1F-46B4-9246-837726E84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22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23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24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5327-78CD-42EF-905C-7ACC5569F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41679245-EC34-4766-9941-2E1CE18A342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25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26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27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1238-9E94-4744-93A5-38A795777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28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29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30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D3D4-26B9-4F90-8725-34FDE0A5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3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3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3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F76-018C-46FA-8918-AAEBFDE7B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B695D79C-C98A-4210-B720-37718A8862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4211427F-AE4A-4DC2-A146-09CD5973A5E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DC300B13-6426-4A5E-884A-93EF9F1ADB9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FDD-29D2-4489-A6B9-D50CE1BDA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7B23506B-D03B-49E1-B844-08C31848137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image" Target="../media/image11.jpeg"/><Relationship Id="rId6" Type="http://schemas.openxmlformats.org/officeDocument/2006/relationships/image" Target="../media/image7.png"/><Relationship Id="rId7" Type="http://schemas.openxmlformats.org/officeDocument/2006/relationships/image" Target="../media/image38.jpe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7.png"/><Relationship Id="rId15" Type="http://schemas.openxmlformats.org/officeDocument/2006/relationships/image" Target="../media/image45.jpeg"/><Relationship Id="rId16" Type="http://schemas.openxmlformats.org/officeDocument/2006/relationships/image" Target="../media/image39.png"/><Relationship Id="rId17" Type="http://schemas.openxmlformats.org/officeDocument/2006/relationships/image" Target="../media/image46.png"/><Relationship Id="rId18" Type="http://schemas.openxmlformats.org/officeDocument/2006/relationships/image" Target="../media/image47.jpe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1.pn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image" Target="../media/image44.png"/><Relationship Id="rId3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jpeg"/><Relationship Id="rId6" Type="http://schemas.openxmlformats.org/officeDocument/2006/relationships/image" Target="../media/image7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jpeg"/><Relationship Id="rId8" Type="http://schemas.openxmlformats.org/officeDocument/2006/relationships/image" Target="../media/image4.jpeg"/><Relationship Id="rId9" Type="http://schemas.openxmlformats.org/officeDocument/2006/relationships/image" Target="../media/image7.png"/><Relationship Id="rId10" Type="http://schemas.openxmlformats.org/officeDocument/2006/relationships/image" Target="../media/image11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36240" y="1752480"/>
            <a:ext cx="8883720" cy="745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GIONAL COLLABORATIVES</a:t>
            </a:r>
            <a:br>
              <a:rPr sz="2200"/>
            </a:b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1417320" y="3733920"/>
            <a:ext cx="6721560" cy="366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1f497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eptember 14,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4" descr="MAeHC_0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DATA BEING SENT TO THE MAEHC QDC TODAY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720720" y="1789200"/>
            <a:ext cx="8153280" cy="435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graphics[de-identified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/Family hx if it can be sent in discret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oking status- if it can be sent over in discret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[ inpatient data to include surgical history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920" y="372960"/>
            <a:ext cx="8991360" cy="998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cords Received By MAeHC QDC</a:t>
            </a:r>
            <a:br>
              <a:rPr sz="22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rough May 2009</a:t>
            </a:r>
            <a:br>
              <a:rPr sz="1800"/>
            </a:b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39" name="Object 2" descr="bar graph of records received by MAeHC QDC"/>
          <p:cNvPicPr/>
          <p:nvPr/>
        </p:nvPicPr>
        <p:blipFill>
          <a:blip r:embed="rId1"/>
          <a:stretch/>
        </p:blipFill>
        <p:spPr>
          <a:xfrm>
            <a:off x="152280" y="1447920"/>
            <a:ext cx="8190000" cy="4495680"/>
          </a:xfrm>
          <a:prstGeom prst="rect">
            <a:avLst/>
          </a:prstGeom>
          <a:ln w="0">
            <a:noFill/>
          </a:ln>
        </p:spPr>
      </p:pic>
      <p:sp>
        <p:nvSpPr>
          <p:cNvPr id="1140" name="TextBox 13"/>
          <p:cNvSpPr/>
          <p:nvPr/>
        </p:nvSpPr>
        <p:spPr>
          <a:xfrm>
            <a:off x="8156160" y="487692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13"/>
          <p:cNvSpPr/>
          <p:nvPr/>
        </p:nvSpPr>
        <p:spPr>
          <a:xfrm>
            <a:off x="8158680" y="42670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3"/>
          <p:cNvSpPr/>
          <p:nvPr/>
        </p:nvSpPr>
        <p:spPr>
          <a:xfrm>
            <a:off x="8157960" y="38098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traight Connector 13"/>
          <p:cNvSpPr/>
          <p:nvPr/>
        </p:nvSpPr>
        <p:spPr>
          <a:xfrm flipH="1">
            <a:off x="7620120" y="403848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traight Connector 14"/>
          <p:cNvSpPr/>
          <p:nvPr/>
        </p:nvSpPr>
        <p:spPr>
          <a:xfrm flipH="1">
            <a:off x="7695720" y="4419000"/>
            <a:ext cx="381240" cy="75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traight Connector 15"/>
          <p:cNvSpPr/>
          <p:nvPr/>
        </p:nvSpPr>
        <p:spPr>
          <a:xfrm flipH="1">
            <a:off x="7695720" y="50292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10"/>
          <p:cNvSpPr/>
          <p:nvPr/>
        </p:nvSpPr>
        <p:spPr>
          <a:xfrm>
            <a:off x="128520" y="14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11"/>
          <p:cNvSpPr/>
          <p:nvPr/>
        </p:nvSpPr>
        <p:spPr>
          <a:xfrm>
            <a:off x="5358600" y="1981080"/>
            <a:ext cx="3859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7,000 total records since Jul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7,000 records received in 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AEHC QDC DATA COUNTS (I)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801720" y="1447920"/>
            <a:ext cx="8037360" cy="4419360"/>
            <a:chOff x="801720" y="1447920"/>
            <a:chExt cx="8037360" cy="4419360"/>
          </a:xfrm>
        </p:grpSpPr>
        <p:pic>
          <p:nvPicPr>
            <p:cNvPr id="1150" name="Object 2" descr=""/>
            <p:cNvPicPr/>
            <p:nvPr/>
          </p:nvPicPr>
          <p:blipFill>
            <a:blip r:embed="rId1"/>
            <a:stretch/>
          </p:blipFill>
          <p:spPr>
            <a:xfrm>
              <a:off x="801720" y="1447920"/>
              <a:ext cx="354168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Object 4" descr=""/>
            <p:cNvPicPr/>
            <p:nvPr/>
          </p:nvPicPr>
          <p:blipFill>
            <a:blip r:embed="rId2"/>
            <a:stretch/>
          </p:blipFill>
          <p:spPr>
            <a:xfrm>
              <a:off x="5297400" y="1523880"/>
              <a:ext cx="35416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Object 5" descr=""/>
            <p:cNvPicPr/>
            <p:nvPr/>
          </p:nvPicPr>
          <p:blipFill>
            <a:blip r:embed="rId3"/>
            <a:stretch/>
          </p:blipFill>
          <p:spPr>
            <a:xfrm>
              <a:off x="801720" y="3962520"/>
              <a:ext cx="354168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Object 6" descr=""/>
            <p:cNvPicPr/>
            <p:nvPr/>
          </p:nvPicPr>
          <p:blipFill>
            <a:blip r:embed="rId4"/>
            <a:stretch/>
          </p:blipFill>
          <p:spPr>
            <a:xfrm>
              <a:off x="5297400" y="3962520"/>
              <a:ext cx="354168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4" name="TextBox 12"/>
          <p:cNvSpPr/>
          <p:nvPr/>
        </p:nvSpPr>
        <p:spPr>
          <a:xfrm>
            <a:off x="2159280" y="114156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13"/>
          <p:cNvSpPr/>
          <p:nvPr/>
        </p:nvSpPr>
        <p:spPr>
          <a:xfrm>
            <a:off x="6673680" y="12193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ient vis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4"/>
          <p:cNvSpPr/>
          <p:nvPr/>
        </p:nvSpPr>
        <p:spPr>
          <a:xfrm>
            <a:off x="2233080" y="373392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gno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15"/>
          <p:cNvSpPr/>
          <p:nvPr/>
        </p:nvSpPr>
        <p:spPr>
          <a:xfrm>
            <a:off x="6742800" y="373392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Box 13"/>
          <p:cNvSpPr/>
          <p:nvPr/>
        </p:nvSpPr>
        <p:spPr>
          <a:xfrm>
            <a:off x="4163040" y="26668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13"/>
          <p:cNvSpPr/>
          <p:nvPr/>
        </p:nvSpPr>
        <p:spPr>
          <a:xfrm>
            <a:off x="4142160" y="205740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3"/>
          <p:cNvSpPr/>
          <p:nvPr/>
        </p:nvSpPr>
        <p:spPr>
          <a:xfrm>
            <a:off x="4136040" y="157464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traight Connector 13"/>
          <p:cNvSpPr/>
          <p:nvPr/>
        </p:nvSpPr>
        <p:spPr>
          <a:xfrm flipH="1">
            <a:off x="3951360" y="177804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traight Connector 14"/>
          <p:cNvSpPr/>
          <p:nvPr/>
        </p:nvSpPr>
        <p:spPr>
          <a:xfrm flipH="1">
            <a:off x="3963960" y="2286000"/>
            <a:ext cx="38088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traight Connector 15"/>
          <p:cNvSpPr/>
          <p:nvPr/>
        </p:nvSpPr>
        <p:spPr>
          <a:xfrm flipH="1">
            <a:off x="3963600" y="289548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Object 4" descr="bar graph of problems, lab results, medications and vaccinations"/>
          <p:cNvPicPr/>
          <p:nvPr/>
        </p:nvPicPr>
        <p:blipFill>
          <a:blip r:embed="rId1"/>
          <a:stretch/>
        </p:blipFill>
        <p:spPr>
          <a:xfrm>
            <a:off x="725400" y="3962520"/>
            <a:ext cx="354168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165" name=""/>
          <p:cNvGrpSpPr/>
          <p:nvPr/>
        </p:nvGrpSpPr>
        <p:grpSpPr>
          <a:xfrm>
            <a:off x="725400" y="1523880"/>
            <a:ext cx="8113680" cy="4343400"/>
            <a:chOff x="725400" y="1523880"/>
            <a:chExt cx="8113680" cy="4343400"/>
          </a:xfrm>
        </p:grpSpPr>
        <p:pic>
          <p:nvPicPr>
            <p:cNvPr id="1166" name="Object 2" descr=""/>
            <p:cNvPicPr/>
            <p:nvPr/>
          </p:nvPicPr>
          <p:blipFill>
            <a:blip r:embed="rId2"/>
            <a:stretch/>
          </p:blipFill>
          <p:spPr>
            <a:xfrm>
              <a:off x="725400" y="1523880"/>
              <a:ext cx="35416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Object 3" descr=""/>
            <p:cNvPicPr/>
            <p:nvPr/>
          </p:nvPicPr>
          <p:blipFill>
            <a:blip r:embed="rId3"/>
            <a:stretch/>
          </p:blipFill>
          <p:spPr>
            <a:xfrm>
              <a:off x="5297400" y="1600200"/>
              <a:ext cx="354168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Object 5" descr=""/>
            <p:cNvPicPr/>
            <p:nvPr/>
          </p:nvPicPr>
          <p:blipFill>
            <a:blip r:embed="rId4"/>
            <a:stretch/>
          </p:blipFill>
          <p:spPr>
            <a:xfrm>
              <a:off x="5221440" y="3962520"/>
              <a:ext cx="3541680" cy="19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9" name="TextBox 13"/>
          <p:cNvSpPr/>
          <p:nvPr/>
        </p:nvSpPr>
        <p:spPr>
          <a:xfrm>
            <a:off x="2129760" y="121932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14"/>
          <p:cNvSpPr/>
          <p:nvPr/>
        </p:nvSpPr>
        <p:spPr>
          <a:xfrm>
            <a:off x="6695640" y="124776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 resul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15"/>
          <p:cNvSpPr/>
          <p:nvPr/>
        </p:nvSpPr>
        <p:spPr>
          <a:xfrm>
            <a:off x="2102760" y="365760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16"/>
          <p:cNvSpPr/>
          <p:nvPr/>
        </p:nvSpPr>
        <p:spPr>
          <a:xfrm>
            <a:off x="6593760" y="36576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AEHC QDC DATA COUNTS (II)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4086000" y="26668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4064400" y="2057400"/>
            <a:ext cx="96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4058280" y="157464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14"/>
          <p:cNvSpPr/>
          <p:nvPr/>
        </p:nvSpPr>
        <p:spPr>
          <a:xfrm flipH="1">
            <a:off x="3873600" y="177804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16"/>
          <p:cNvSpPr/>
          <p:nvPr/>
        </p:nvSpPr>
        <p:spPr>
          <a:xfrm flipH="1">
            <a:off x="3886200" y="2286000"/>
            <a:ext cx="38088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17"/>
          <p:cNvSpPr/>
          <p:nvPr/>
        </p:nvSpPr>
        <p:spPr>
          <a:xfrm flipH="1">
            <a:off x="3885840" y="289548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QDC LOG-IN SCREENSHOT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52280" y="1828800"/>
            <a:ext cx="9296640" cy="3276720"/>
            <a:chOff x="152280" y="1828800"/>
            <a:chExt cx="9296640" cy="3276720"/>
          </a:xfrm>
        </p:grpSpPr>
        <p:pic>
          <p:nvPicPr>
            <p:cNvPr id="1182" name="Picture 2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2000" cy="32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2" descr=""/>
            <p:cNvPicPr/>
            <p:nvPr/>
          </p:nvPicPr>
          <p:blipFill>
            <a:blip r:embed="rId2"/>
            <a:stretch/>
          </p:blipFill>
          <p:spPr>
            <a:xfrm>
              <a:off x="4876920" y="1836720"/>
              <a:ext cx="4572000" cy="32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990720" y="1127160"/>
            <a:ext cx="7227720" cy="5178240"/>
            <a:chOff x="990720" y="1127160"/>
            <a:chExt cx="7227720" cy="5178240"/>
          </a:xfrm>
        </p:grpSpPr>
        <p:pic>
          <p:nvPicPr>
            <p:cNvPr id="1185" name="Picture 2" descr=""/>
            <p:cNvPicPr/>
            <p:nvPr/>
          </p:nvPicPr>
          <p:blipFill>
            <a:blip r:embed="rId1"/>
            <a:stretch/>
          </p:blipFill>
          <p:spPr>
            <a:xfrm>
              <a:off x="1015920" y="1127160"/>
              <a:ext cx="3111480" cy="22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6" descr=""/>
            <p:cNvPicPr/>
            <p:nvPr/>
          </p:nvPicPr>
          <p:blipFill>
            <a:blip r:embed="rId2"/>
            <a:stretch/>
          </p:blipFill>
          <p:spPr>
            <a:xfrm>
              <a:off x="990720" y="4064040"/>
              <a:ext cx="3136680" cy="22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Picture 8" descr=""/>
            <p:cNvPicPr/>
            <p:nvPr/>
          </p:nvPicPr>
          <p:blipFill>
            <a:blip r:embed="rId3"/>
            <a:stretch/>
          </p:blipFill>
          <p:spPr>
            <a:xfrm>
              <a:off x="5029200" y="1143000"/>
              <a:ext cx="3189240" cy="22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04920" y="2710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QDC REPORT SCREENSHOT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9" name="Rectangle 3"/>
          <p:cNvSpPr/>
          <p:nvPr/>
        </p:nvSpPr>
        <p:spPr>
          <a:xfrm>
            <a:off x="1066680" y="83808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er comparison report (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5029200" y="373392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rill-down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3"/>
          <p:cNvSpPr/>
          <p:nvPr/>
        </p:nvSpPr>
        <p:spPr>
          <a:xfrm>
            <a:off x="990720" y="373392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nchmark summary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9" descr="The practice manager wants to view the performance of the practice compared to other practices in the community on a given measure regardless of specialty&#13;&#10;&#13;&#10;Newburyport, Cornerstone, peer snapshot report, Q2 2008, all specialties, diabetes cholesterol test done&#13;&#10;"/>
          <p:cNvPicPr/>
          <p:nvPr/>
        </p:nvPicPr>
        <p:blipFill>
          <a:blip r:embed="rId4"/>
          <a:stretch/>
        </p:blipFill>
        <p:spPr>
          <a:xfrm>
            <a:off x="5029200" y="40384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1193" name="Rectangle 3"/>
          <p:cNvSpPr/>
          <p:nvPr/>
        </p:nvSpPr>
        <p:spPr>
          <a:xfrm>
            <a:off x="5037120" y="814320"/>
            <a:ext cx="2735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87000"/>
              </a:lnSpc>
              <a:spcBef>
                <a:spcPts val="575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er comparison report (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4920" y="17928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QUALITY DATA CENTER IS BECOMING A “PUBLIC UTILITY” </a:t>
            </a:r>
            <a:br>
              <a:rPr sz="2200"/>
            </a:b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AS WELL AS A COMMERCIAL PLATFORM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5" name="AutoShape 50"/>
          <p:cNvSpPr/>
          <p:nvPr/>
        </p:nvSpPr>
        <p:spPr>
          <a:xfrm>
            <a:off x="3505320" y="3352680"/>
            <a:ext cx="24382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1" descr="macpr_logo_300ppi"/>
          <p:cNvPicPr/>
          <p:nvPr/>
        </p:nvPicPr>
        <p:blipFill>
          <a:blip r:embed="rId1"/>
          <a:stretch/>
        </p:blipFill>
        <p:spPr>
          <a:xfrm>
            <a:off x="533520" y="5638680"/>
            <a:ext cx="1523880" cy="385920"/>
          </a:xfrm>
          <a:prstGeom prst="rect">
            <a:avLst/>
          </a:prstGeom>
          <a:ln w="0">
            <a:noFill/>
          </a:ln>
        </p:spPr>
      </p:pic>
      <p:cxnSp>
        <p:nvCxnSpPr>
          <p:cNvPr id="1197" name="Straight Arrow Connector 27"/>
          <p:cNvCxnSpPr/>
          <p:nvPr/>
        </p:nvCxnSpPr>
        <p:spPr>
          <a:xfrm>
            <a:off x="2437920" y="2437920"/>
            <a:ext cx="762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8" name="Straight Arrow Connector 30"/>
          <p:cNvCxnSpPr/>
          <p:nvPr/>
        </p:nvCxnSpPr>
        <p:spPr>
          <a:xfrm>
            <a:off x="2361960" y="304776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9" name="Straight Arrow Connector 32"/>
          <p:cNvCxnSpPr/>
          <p:nvPr/>
        </p:nvCxnSpPr>
        <p:spPr>
          <a:xfrm>
            <a:off x="2286000" y="38095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0" name="Straight Arrow Connector 34"/>
          <p:cNvCxnSpPr/>
          <p:nvPr/>
        </p:nvCxnSpPr>
        <p:spPr>
          <a:xfrm flipV="1">
            <a:off x="2286000" y="434268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1" name="Straight Arrow Connector 36"/>
          <p:cNvCxnSpPr/>
          <p:nvPr/>
        </p:nvCxnSpPr>
        <p:spPr>
          <a:xfrm flipV="1">
            <a:off x="2286000" y="4723920"/>
            <a:ext cx="991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02" name=""/>
          <p:cNvGrpSpPr/>
          <p:nvPr/>
        </p:nvGrpSpPr>
        <p:grpSpPr>
          <a:xfrm>
            <a:off x="281160" y="1752480"/>
            <a:ext cx="8939160" cy="4572000"/>
            <a:chOff x="281160" y="1752480"/>
            <a:chExt cx="8939160" cy="4572000"/>
          </a:xfrm>
        </p:grpSpPr>
        <p:pic>
          <p:nvPicPr>
            <p:cNvPr id="1203" name="Picture 58" descr="MHQP logo"/>
            <p:cNvPicPr/>
            <p:nvPr/>
          </p:nvPicPr>
          <p:blipFill>
            <a:blip r:embed="rId2"/>
            <a:stretch/>
          </p:blipFill>
          <p:spPr>
            <a:xfrm>
              <a:off x="3646440" y="3619440"/>
              <a:ext cx="6858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Picture 59" descr="MAeHC_0"/>
            <p:cNvPicPr/>
            <p:nvPr/>
          </p:nvPicPr>
          <p:blipFill>
            <a:blip r:embed="rId3"/>
            <a:stretch/>
          </p:blipFill>
          <p:spPr>
            <a:xfrm>
              <a:off x="4116240" y="3200400"/>
              <a:ext cx="1181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13" descr="MMS seal"/>
            <p:cNvPicPr/>
            <p:nvPr/>
          </p:nvPicPr>
          <p:blipFill>
            <a:blip r:embed="rId4"/>
            <a:stretch/>
          </p:blipFill>
          <p:spPr>
            <a:xfrm>
              <a:off x="4421160" y="3594240"/>
              <a:ext cx="53352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57" descr="csc_er_logo"/>
            <p:cNvPicPr/>
            <p:nvPr/>
          </p:nvPicPr>
          <p:blipFill>
            <a:blip r:embed="rId5"/>
            <a:stretch/>
          </p:blipFill>
          <p:spPr>
            <a:xfrm>
              <a:off x="5030640" y="3670200"/>
              <a:ext cx="814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762120" y="4419720"/>
              <a:ext cx="828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6" descr="H_BIDMC_7line_PMS2765_rgb"/>
            <p:cNvPicPr/>
            <p:nvPr/>
          </p:nvPicPr>
          <p:blipFill>
            <a:blip r:embed="rId7"/>
            <a:stretch/>
          </p:blipFill>
          <p:spPr>
            <a:xfrm>
              <a:off x="281160" y="2666880"/>
              <a:ext cx="1852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2" descr="Bridges To Excellence. Rewarding Quality Across the Healthcare System"/>
            <p:cNvPicPr/>
            <p:nvPr/>
          </p:nvPicPr>
          <p:blipFill>
            <a:blip r:embed="rId8"/>
            <a:stretch/>
          </p:blipFill>
          <p:spPr>
            <a:xfrm>
              <a:off x="380880" y="3505320"/>
              <a:ext cx="16765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5" descr=""/>
            <p:cNvPicPr/>
            <p:nvPr/>
          </p:nvPicPr>
          <p:blipFill>
            <a:blip r:embed="rId9"/>
            <a:stretch/>
          </p:blipFill>
          <p:spPr>
            <a:xfrm>
              <a:off x="762120" y="1752480"/>
              <a:ext cx="1066680" cy="65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1" name="Group 52"/>
            <p:cNvGrpSpPr/>
            <p:nvPr/>
          </p:nvGrpSpPr>
          <p:grpSpPr>
            <a:xfrm>
              <a:off x="6172200" y="2100240"/>
              <a:ext cx="3048120" cy="4224240"/>
              <a:chOff x="6172200" y="2100240"/>
              <a:chExt cx="3048120" cy="4224240"/>
            </a:xfrm>
          </p:grpSpPr>
          <p:grpSp>
            <p:nvGrpSpPr>
              <p:cNvPr id="1212" name="Group 52"/>
              <p:cNvGrpSpPr/>
              <p:nvPr/>
            </p:nvGrpSpPr>
            <p:grpSpPr>
              <a:xfrm>
                <a:off x="8687160" y="2100240"/>
                <a:ext cx="533160" cy="490320"/>
                <a:chOff x="8687160" y="2100240"/>
                <a:chExt cx="533160" cy="490320"/>
              </a:xfrm>
            </p:grpSpPr>
            <p:pic>
              <p:nvPicPr>
                <p:cNvPr id="1213" name="Picture 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87160" y="210024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4" name="Picture 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731440" y="215208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5" name="Picture 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776080" y="220428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Picture 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820360" y="225612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1217" name="Straight Arrow Connector 40"/>
              <p:cNvCxnSpPr/>
              <p:nvPr/>
            </p:nvCxnSpPr>
            <p:spPr>
              <a:xfrm flipV="1">
                <a:off x="6172200" y="2666160"/>
                <a:ext cx="7624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18" name="Straight Arrow Connector 41"/>
              <p:cNvCxnSpPr/>
              <p:nvPr/>
            </p:nvCxnSpPr>
            <p:spPr>
              <a:xfrm flipV="1">
                <a:off x="6172200" y="3123720"/>
                <a:ext cx="8388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19" name="Straight Arrow Connector 42"/>
              <p:cNvCxnSpPr/>
              <p:nvPr/>
            </p:nvCxnSpPr>
            <p:spPr>
              <a:xfrm>
                <a:off x="6172200" y="3733560"/>
                <a:ext cx="8388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20" name="Straight Arrow Connector 43"/>
              <p:cNvCxnSpPr/>
              <p:nvPr/>
            </p:nvCxnSpPr>
            <p:spPr>
              <a:xfrm>
                <a:off x="6247800" y="3962160"/>
                <a:ext cx="68652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21" name="Straight Arrow Connector 44"/>
              <p:cNvCxnSpPr/>
              <p:nvPr/>
            </p:nvCxnSpPr>
            <p:spPr>
              <a:xfrm>
                <a:off x="6248160" y="4190400"/>
                <a:ext cx="83880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222" name="Picture 13" descr="MMS seal"/>
              <p:cNvPicPr/>
              <p:nvPr/>
            </p:nvPicPr>
            <p:blipFill>
              <a:blip r:embed="rId14"/>
              <a:stretch/>
            </p:blipFill>
            <p:spPr>
              <a:xfrm>
                <a:off x="7315200" y="4343400"/>
                <a:ext cx="552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Picture 6" descr="H_BIDMC_7line_PMS2765_rgb"/>
              <p:cNvPicPr/>
              <p:nvPr/>
            </p:nvPicPr>
            <p:blipFill>
              <a:blip r:embed="rId15"/>
              <a:stretch/>
            </p:blipFill>
            <p:spPr>
              <a:xfrm>
                <a:off x="7162920" y="2895480"/>
                <a:ext cx="129528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Picture 2" descr="Bridges To Excellence. Rewarding Quality Across the Healthcare System"/>
              <p:cNvPicPr/>
              <p:nvPr/>
            </p:nvPicPr>
            <p:blipFill>
              <a:blip r:embed="rId16"/>
              <a:stretch/>
            </p:blipFill>
            <p:spPr>
              <a:xfrm>
                <a:off x="7315200" y="3657600"/>
                <a:ext cx="890640" cy="3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Picture 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67480" y="2133360"/>
                <a:ext cx="73800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Picture 1" descr="macpr_logo_300ppi"/>
              <p:cNvPicPr/>
              <p:nvPr/>
            </p:nvPicPr>
            <p:blipFill>
              <a:blip r:embed="rId18"/>
              <a:stretch/>
            </p:blipFill>
            <p:spPr>
              <a:xfrm>
                <a:off x="7238880" y="5334120"/>
                <a:ext cx="1042920" cy="263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7" name="Group 58"/>
              <p:cNvGrpSpPr/>
              <p:nvPr/>
            </p:nvGrpSpPr>
            <p:grpSpPr>
              <a:xfrm>
                <a:off x="8687160" y="2862000"/>
                <a:ext cx="533160" cy="490320"/>
                <a:chOff x="8687160" y="2862000"/>
                <a:chExt cx="533160" cy="490320"/>
              </a:xfrm>
            </p:grpSpPr>
            <p:pic>
              <p:nvPicPr>
                <p:cNvPr id="1228" name="Picture 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87160" y="28620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9" name="Picture 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731440" y="29138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0" name="Picture 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776080" y="29660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1" name="Picture 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820360" y="30178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2" name="Group 63"/>
              <p:cNvGrpSpPr/>
              <p:nvPr/>
            </p:nvGrpSpPr>
            <p:grpSpPr>
              <a:xfrm>
                <a:off x="8458200" y="3657600"/>
                <a:ext cx="533160" cy="490320"/>
                <a:chOff x="8458200" y="3657600"/>
                <a:chExt cx="533160" cy="490320"/>
              </a:xfrm>
            </p:grpSpPr>
            <p:pic>
              <p:nvPicPr>
                <p:cNvPr id="1233" name="Picture 2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458200" y="36576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4" name="Picture 8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502480" y="37094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5" name="Picture 9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547120" y="37616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6" name="Picture 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591400" y="38134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7" name="Group 68"/>
              <p:cNvGrpSpPr/>
              <p:nvPr/>
            </p:nvGrpSpPr>
            <p:grpSpPr>
              <a:xfrm>
                <a:off x="8229600" y="4452840"/>
                <a:ext cx="533160" cy="488880"/>
                <a:chOff x="8229600" y="4452840"/>
                <a:chExt cx="533160" cy="488880"/>
              </a:xfrm>
            </p:grpSpPr>
            <p:pic>
              <p:nvPicPr>
                <p:cNvPr id="1238" name="Picture 2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29600" y="4452840"/>
                  <a:ext cx="39672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9" name="Picture 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73880" y="4504680"/>
                  <a:ext cx="406800" cy="339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0" name="Picture 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318520" y="4556520"/>
                  <a:ext cx="40788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1" name="Picture 6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8362800" y="4608360"/>
                  <a:ext cx="399960" cy="33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2" name="Group 73"/>
              <p:cNvGrpSpPr/>
              <p:nvPr/>
            </p:nvGrpSpPr>
            <p:grpSpPr>
              <a:xfrm>
                <a:off x="8001000" y="5834160"/>
                <a:ext cx="533160" cy="490320"/>
                <a:chOff x="8001000" y="5834160"/>
                <a:chExt cx="533160" cy="490320"/>
              </a:xfrm>
            </p:grpSpPr>
            <p:pic>
              <p:nvPicPr>
                <p:cNvPr id="1243" name="Picture 2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01000" y="583416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Picture 8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045280" y="588600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5" name="Picture 9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089920" y="593820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6" name="Picture 6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134200" y="599004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USE INTEROPERABILITY REQUIREMENTS COULD PUSH THE ENTIRE INDUSTRY TOWARD HI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248" name="Group 16"/>
          <p:cNvGrpSpPr/>
          <p:nvPr/>
        </p:nvGrpSpPr>
        <p:grpSpPr>
          <a:xfrm>
            <a:off x="257040" y="1836720"/>
            <a:ext cx="4224240" cy="1365120"/>
            <a:chOff x="257040" y="1836720"/>
            <a:chExt cx="4224240" cy="1365120"/>
          </a:xfrm>
        </p:grpSpPr>
        <p:sp>
          <p:nvSpPr>
            <p:cNvPr id="1249" name="Text Box 4"/>
            <p:cNvSpPr/>
            <p:nvPr/>
          </p:nvSpPr>
          <p:spPr>
            <a:xfrm>
              <a:off x="1054800" y="1836720"/>
              <a:ext cx="3426480" cy="136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 results deliver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crib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aims and eligibility chec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y &amp; immunization reporting, if avail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7"/>
            <p:cNvSpPr/>
            <p:nvPr/>
          </p:nvSpPr>
          <p:spPr>
            <a:xfrm>
              <a:off x="257040" y="2216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Rectangle 23"/>
          <p:cNvSpPr/>
          <p:nvPr/>
        </p:nvSpPr>
        <p:spPr>
          <a:xfrm>
            <a:off x="5132520" y="1835280"/>
            <a:ext cx="4290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347760" indent="-46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volume of transactions that are most commonly happening to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to provi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 to pharma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13"/>
          <p:cNvSpPr/>
          <p:nvPr/>
        </p:nvSpPr>
        <p:spPr>
          <a:xfrm rot="5400000">
            <a:off x="4507200" y="2283480"/>
            <a:ext cx="986040" cy="241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7"/>
          <p:cNvGrpSpPr/>
          <p:nvPr/>
        </p:nvGrpSpPr>
        <p:grpSpPr>
          <a:xfrm>
            <a:off x="262800" y="3201840"/>
            <a:ext cx="9093600" cy="2005200"/>
            <a:chOff x="262800" y="3201840"/>
            <a:chExt cx="9093600" cy="2005200"/>
          </a:xfrm>
        </p:grpSpPr>
        <p:sp>
          <p:nvSpPr>
            <p:cNvPr id="1254" name="Text Box 5"/>
            <p:cNvSpPr/>
            <p:nvPr/>
          </p:nvSpPr>
          <p:spPr>
            <a:xfrm>
              <a:off x="1055160" y="3309840"/>
              <a:ext cx="3427200" cy="189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y reporting and reporting to public heal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 orde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th summaries for continuity of c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ive public health alert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monito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e PH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 Box 8"/>
            <p:cNvSpPr/>
            <p:nvPr/>
          </p:nvSpPr>
          <p:spPr>
            <a:xfrm>
              <a:off x="262800" y="39607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3"/>
            <p:cNvSpPr/>
            <p:nvPr/>
          </p:nvSpPr>
          <p:spPr>
            <a:xfrm>
              <a:off x="5212440" y="320184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stantially steps up exchang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to la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cy to provid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hospital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offi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public health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 to patien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patient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14"/>
            <p:cNvSpPr/>
            <p:nvPr/>
          </p:nvSpPr>
          <p:spPr>
            <a:xfrm rot="5400000">
              <a:off x="4507920" y="413856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8"/>
          <p:cNvGrpSpPr/>
          <p:nvPr/>
        </p:nvGrpSpPr>
        <p:grpSpPr>
          <a:xfrm>
            <a:off x="262800" y="5326200"/>
            <a:ext cx="9093600" cy="1214280"/>
            <a:chOff x="262800" y="5326200"/>
            <a:chExt cx="9093600" cy="1214280"/>
          </a:xfrm>
        </p:grpSpPr>
        <p:sp>
          <p:nvSpPr>
            <p:cNvPr id="1259" name="Text Box 6"/>
            <p:cNvSpPr/>
            <p:nvPr/>
          </p:nvSpPr>
          <p:spPr>
            <a:xfrm>
              <a:off x="1055160" y="5326200"/>
              <a:ext cx="3427200" cy="121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mprehensive data from all available sourc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e of care report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cal device interoperabil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Text Box 9"/>
            <p:cNvSpPr/>
            <p:nvPr/>
          </p:nvSpPr>
          <p:spPr>
            <a:xfrm>
              <a:off x="262800" y="5673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23"/>
            <p:cNvSpPr/>
            <p:nvPr/>
          </p:nvSpPr>
          <p:spPr>
            <a:xfrm>
              <a:off x="5212440" y="555480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 to envision routine availability of relatively rich exchange transactio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yone to anyone”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AutoShape 15"/>
            <p:cNvSpPr/>
            <p:nvPr/>
          </p:nvSpPr>
          <p:spPr>
            <a:xfrm rot="5400000">
              <a:off x="4507920" y="585144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 Box 11"/>
          <p:cNvSpPr/>
          <p:nvPr/>
        </p:nvSpPr>
        <p:spPr>
          <a:xfrm>
            <a:off x="267840" y="1303200"/>
            <a:ext cx="46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ningful Use objectives requiring health ex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29664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ING INFRASTRUCTURE TO FACILITATE MEANINGFUL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3"/>
          <p:cNvSpPr/>
          <p:nvPr/>
        </p:nvSpPr>
        <p:spPr>
          <a:xfrm>
            <a:off x="685800" y="1066680"/>
            <a:ext cx="3579840" cy="49716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al Health I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sion Cen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4"/>
          <p:cNvSpPr/>
          <p:nvPr/>
        </p:nvSpPr>
        <p:spPr>
          <a:xfrm>
            <a:off x="685800" y="1563840"/>
            <a:ext cx="3579840" cy="48369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-profit implementation assistance organizations to facilitate meaningful use among “priority primary care providers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 will be set up across the count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cycles of 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/09, 4/10, 9/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ds of $1M to $30M – does NOT pay for hardware, software, or interfa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t commit to getting at least 1000 priority PCPs to meaningful use in 2 yea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ing funds requir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ears 1 &amp; 2:  1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ears 3 &amp; 4:  9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3"/>
          <p:cNvSpPr/>
          <p:nvPr/>
        </p:nvSpPr>
        <p:spPr>
          <a:xfrm>
            <a:off x="5259240" y="1066680"/>
            <a:ext cx="3579840" cy="49716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-level H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5259240" y="1563840"/>
            <a:ext cx="3579840" cy="48369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ch state given planning and implementation grants to implement H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 awards across the count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wards announced 12/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wards of $4M to $40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d by States or non-profit state-designated entities (SD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t implement state plans aligned with federal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te-level directo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gibility and clai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RX &amp; medication histo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ordering and resul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 health repor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lity repor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summary exchan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ching funds requir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0:  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1:  10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2:  25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525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Y 2013:  12.5%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60"/>
          <p:cNvSpPr/>
          <p:nvPr/>
        </p:nvSpPr>
        <p:spPr>
          <a:xfrm>
            <a:off x="6018120" y="720720"/>
            <a:ext cx="20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64 mill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0"/>
          <p:cNvSpPr/>
          <p:nvPr/>
        </p:nvSpPr>
        <p:spPr>
          <a:xfrm>
            <a:off x="1371600" y="728640"/>
            <a:ext cx="20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98 mill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04920" y="2136600"/>
            <a:ext cx="8991360" cy="3368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aehc.or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icky Tripathi, PhD MPP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resident &amp; CEO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tripathi@maehc.org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781-434-7905</a:t>
            </a:r>
            <a:endParaRPr b="1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72" name="Picture 3" descr="MAeHC logo"/>
          <p:cNvPicPr/>
          <p:nvPr/>
        </p:nvPicPr>
        <p:blipFill>
          <a:blip r:embed="rId1"/>
          <a:stretch/>
        </p:blipFill>
        <p:spPr>
          <a:xfrm>
            <a:off x="2438280" y="1085760"/>
            <a:ext cx="495324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ROOTS ARE IN MOVEMENT TO IMPROVE QUALITY, SAFETY, EFFICIENC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5"/>
          <p:cNvGrpSpPr/>
          <p:nvPr/>
        </p:nvGrpSpPr>
        <p:grpSpPr>
          <a:xfrm>
            <a:off x="3962520" y="2362320"/>
            <a:ext cx="4647960" cy="2886120"/>
            <a:chOff x="3962520" y="2362320"/>
            <a:chExt cx="4647960" cy="2886120"/>
          </a:xfrm>
        </p:grpSpPr>
        <p:sp>
          <p:nvSpPr>
            <p:cNvPr id="979" name="AutoShape 6"/>
            <p:cNvSpPr/>
            <p:nvPr/>
          </p:nvSpPr>
          <p:spPr>
            <a:xfrm rot="5400000">
              <a:off x="2781000" y="3610080"/>
              <a:ext cx="2819520" cy="4572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>
              <a:off x="4952880" y="3114720"/>
              <a:ext cx="3657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 launched September 200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profit registered in the State of Massachusett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O on board January 200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ed by broad array of 34 MA health care stakeholde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1" name="Picture 8" descr="MAeHC_0"/>
            <p:cNvPicPr/>
            <p:nvPr/>
          </p:nvPicPr>
          <p:blipFill>
            <a:blip r:embed="rId1"/>
            <a:stretch/>
          </p:blipFill>
          <p:spPr>
            <a:xfrm>
              <a:off x="5181480" y="2362320"/>
              <a:ext cx="274320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2" name="Picture 9" descr="Blue Cross BlueShield logo"/>
          <p:cNvPicPr/>
          <p:nvPr/>
        </p:nvPicPr>
        <p:blipFill>
          <a:blip r:embed="rId2"/>
          <a:srcRect l="3277" t="0" r="6555" b="5452"/>
          <a:stretch/>
        </p:blipFill>
        <p:spPr>
          <a:xfrm>
            <a:off x="1488960" y="2666880"/>
            <a:ext cx="1382760" cy="1570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0" descr="ACP logo"/>
          <p:cNvPicPr/>
          <p:nvPr/>
        </p:nvPicPr>
        <p:blipFill>
          <a:blip r:embed="rId3"/>
          <a:stretch/>
        </p:blipFill>
        <p:spPr>
          <a:xfrm>
            <a:off x="1403280" y="1371600"/>
            <a:ext cx="1568520" cy="8128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3" descr="MMS seal"/>
          <p:cNvPicPr/>
          <p:nvPr/>
        </p:nvPicPr>
        <p:blipFill>
          <a:blip r:embed="rId4"/>
          <a:stretch/>
        </p:blipFill>
        <p:spPr>
          <a:xfrm>
            <a:off x="1371600" y="4784760"/>
            <a:ext cx="167652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986" name="Group 3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987" name="AutoShape 4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AutoShape 5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AutoShape 6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7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8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9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10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11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13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14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5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6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7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1" name="Picture 18" descr=""/>
            <p:cNvPicPr/>
            <p:nvPr/>
          </p:nvPicPr>
          <p:blipFill>
            <a:blip r:embed="rId1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Picture 19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20" descr=""/>
            <p:cNvPicPr/>
            <p:nvPr/>
          </p:nvPicPr>
          <p:blipFill>
            <a:blip r:embed="rId3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Rectangle 21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22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3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4"/>
            <p:cNvSpPr/>
            <p:nvPr/>
          </p:nvSpPr>
          <p:spPr>
            <a:xfrm>
              <a:off x="380880" y="360108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utoShape 26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Group 27"/>
          <p:cNvGrpSpPr/>
          <p:nvPr/>
        </p:nvGrpSpPr>
        <p:grpSpPr>
          <a:xfrm>
            <a:off x="380880" y="838080"/>
            <a:ext cx="9068040" cy="1067040"/>
            <a:chOff x="380880" y="838080"/>
            <a:chExt cx="9068040" cy="1067040"/>
          </a:xfrm>
        </p:grpSpPr>
        <p:sp>
          <p:nvSpPr>
            <p:cNvPr id="1011" name="Rectangle 28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29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30"/>
            <p:cNvSpPr/>
            <p:nvPr/>
          </p:nvSpPr>
          <p:spPr>
            <a:xfrm>
              <a:off x="380880" y="85464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31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32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33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34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35"/>
            <p:cNvSpPr/>
            <p:nvPr/>
          </p:nvSpPr>
          <p:spPr>
            <a:xfrm>
              <a:off x="7362720" y="990720"/>
              <a:ext cx="2086200" cy="914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Negotiated reporting to plan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P4P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Chart review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36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60"/>
          <p:cNvGrpSpPr/>
          <p:nvPr/>
        </p:nvGrpSpPr>
        <p:grpSpPr>
          <a:xfrm>
            <a:off x="380880" y="1905120"/>
            <a:ext cx="6934320" cy="1567800"/>
            <a:chOff x="380880" y="1905120"/>
            <a:chExt cx="6934320" cy="1567800"/>
          </a:xfrm>
        </p:grpSpPr>
        <p:grpSp>
          <p:nvGrpSpPr>
            <p:cNvPr id="1021" name="Group 48"/>
            <p:cNvGrpSpPr/>
            <p:nvPr/>
          </p:nvGrpSpPr>
          <p:grpSpPr>
            <a:xfrm>
              <a:off x="380880" y="1905120"/>
              <a:ext cx="6934320" cy="1567800"/>
              <a:chOff x="380880" y="1905120"/>
              <a:chExt cx="6934320" cy="1567800"/>
            </a:xfrm>
          </p:grpSpPr>
          <p:grpSp>
            <p:nvGrpSpPr>
              <p:cNvPr id="1022" name="Group 49"/>
              <p:cNvGrpSpPr/>
              <p:nvPr/>
            </p:nvGrpSpPr>
            <p:grpSpPr>
              <a:xfrm>
                <a:off x="380880" y="2057400"/>
                <a:ext cx="6934320" cy="1415520"/>
                <a:chOff x="380880" y="2057400"/>
                <a:chExt cx="6934320" cy="1415520"/>
              </a:xfrm>
            </p:grpSpPr>
            <p:sp>
              <p:nvSpPr>
                <p:cNvPr id="1023" name="AutoShape 50"/>
                <p:cNvSpPr/>
                <p:nvPr/>
              </p:nvSpPr>
              <p:spPr>
                <a:xfrm>
                  <a:off x="4876920" y="205740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51"/>
                <p:cNvSpPr/>
                <p:nvPr/>
              </p:nvSpPr>
              <p:spPr>
                <a:xfrm flipV="1">
                  <a:off x="464832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52"/>
                <p:cNvSpPr/>
                <p:nvPr/>
              </p:nvSpPr>
              <p:spPr>
                <a:xfrm flipH="1" flipV="1">
                  <a:off x="624816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53"/>
                <p:cNvSpPr/>
                <p:nvPr/>
              </p:nvSpPr>
              <p:spPr>
                <a:xfrm flipV="1">
                  <a:off x="5997600" y="299376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Text Box 54"/>
                <p:cNvSpPr/>
                <p:nvPr/>
              </p:nvSpPr>
              <p:spPr>
                <a:xfrm>
                  <a:off x="380880" y="2083320"/>
                  <a:ext cx="2057400" cy="520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MAeHC-level: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QDC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AutoShape 55"/>
                <p:cNvSpPr/>
                <p:nvPr/>
              </p:nvSpPr>
              <p:spPr>
                <a:xfrm rot="5400000">
                  <a:off x="2366280" y="2214360"/>
                  <a:ext cx="52416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56"/>
                <p:cNvSpPr/>
                <p:nvPr/>
              </p:nvSpPr>
              <p:spPr>
                <a:xfrm>
                  <a:off x="380880" y="3124080"/>
                  <a:ext cx="304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30" name="Picture 58" descr="MHQP logo"/>
              <p:cNvPicPr/>
              <p:nvPr/>
            </p:nvPicPr>
            <p:blipFill>
              <a:blip r:embed="rId4"/>
              <a:stretch/>
            </p:blipFill>
            <p:spPr>
              <a:xfrm>
                <a:off x="5018040" y="2324160"/>
                <a:ext cx="6858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Picture 59" descr="MAeHC_0"/>
              <p:cNvPicPr/>
              <p:nvPr/>
            </p:nvPicPr>
            <p:blipFill>
              <a:blip r:embed="rId5"/>
              <a:stretch/>
            </p:blipFill>
            <p:spPr>
              <a:xfrm>
                <a:off x="5487840" y="1905120"/>
                <a:ext cx="118116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2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5792760" y="2298600"/>
              <a:ext cx="53316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57" descr="csc_er_logo"/>
            <p:cNvPicPr/>
            <p:nvPr/>
          </p:nvPicPr>
          <p:blipFill>
            <a:blip r:embed="rId7"/>
            <a:stretch/>
          </p:blipFill>
          <p:spPr>
            <a:xfrm>
              <a:off x="6402600" y="237492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4" name="Group 62"/>
          <p:cNvGrpSpPr/>
          <p:nvPr/>
        </p:nvGrpSpPr>
        <p:grpSpPr>
          <a:xfrm>
            <a:off x="380880" y="5168880"/>
            <a:ext cx="7848720" cy="1079640"/>
            <a:chOff x="380880" y="5168880"/>
            <a:chExt cx="7848720" cy="1079640"/>
          </a:xfrm>
        </p:grpSpPr>
        <p:grpSp>
          <p:nvGrpSpPr>
            <p:cNvPr id="1035" name="Group 37"/>
            <p:cNvGrpSpPr/>
            <p:nvPr/>
          </p:nvGrpSpPr>
          <p:grpSpPr>
            <a:xfrm>
              <a:off x="380880" y="5168880"/>
              <a:ext cx="7848720" cy="1079640"/>
              <a:chOff x="380880" y="5168880"/>
              <a:chExt cx="7848720" cy="1079640"/>
            </a:xfrm>
          </p:grpSpPr>
          <p:sp>
            <p:nvSpPr>
              <p:cNvPr id="1036" name="Text Box 38"/>
              <p:cNvSpPr/>
              <p:nvPr/>
            </p:nvSpPr>
            <p:spPr>
              <a:xfrm>
                <a:off x="380880" y="54140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Provider-level: 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EH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39"/>
              <p:cNvSpPr/>
              <p:nvPr/>
            </p:nvSpPr>
            <p:spPr>
              <a:xfrm rot="5400000">
                <a:off x="2366640" y="5545080"/>
                <a:ext cx="5238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40"/>
              <p:cNvSpPr/>
              <p:nvPr/>
            </p:nvSpPr>
            <p:spPr>
              <a:xfrm>
                <a:off x="3809880" y="5168880"/>
                <a:ext cx="4419720" cy="1079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Pictur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5291280"/>
                <a:ext cx="1228680" cy="28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Pictur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3962520" y="5310360"/>
                <a:ext cx="6858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Picture 43" descr=""/>
              <p:cNvPicPr/>
              <p:nvPr/>
            </p:nvPicPr>
            <p:blipFill>
              <a:blip r:embed="rId10"/>
              <a:srcRect l="0" t="0" r="16085" b="8328"/>
              <a:stretch/>
            </p:blipFill>
            <p:spPr>
              <a:xfrm>
                <a:off x="6934320" y="5291280"/>
                <a:ext cx="11430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Pictur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7960" y="5257800"/>
                <a:ext cx="3477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Picture 46" descr="e-MDs - Integrated Electronic Medical Record and Practice Management Software"/>
              <p:cNvPicPr/>
              <p:nvPr/>
            </p:nvPicPr>
            <p:blipFill>
              <a:blip r:embed="rId12"/>
              <a:stretch/>
            </p:blipFill>
            <p:spPr>
              <a:xfrm>
                <a:off x="5672160" y="5867280"/>
                <a:ext cx="7128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Picture 47" descr=""/>
              <p:cNvPicPr/>
              <p:nvPr/>
            </p:nvPicPr>
            <p:blipFill>
              <a:blip r:embed="rId13"/>
              <a:srcRect l="0" t="11458" r="71878" b="82296"/>
              <a:stretch/>
            </p:blipFill>
            <p:spPr>
              <a:xfrm>
                <a:off x="6581880" y="584820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5" name="Picture 2" descr="Hill Associates Healthcare Management Systems"/>
            <p:cNvPicPr/>
            <p:nvPr/>
          </p:nvPicPr>
          <p:blipFill>
            <a:blip r:embed="rId14"/>
            <a:srcRect l="56914" t="0" r="0" b="0"/>
            <a:stretch/>
          </p:blipFill>
          <p:spPr>
            <a:xfrm>
              <a:off x="4190760" y="5638680"/>
              <a:ext cx="914400" cy="46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99172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TY MEASURES DON’T HAPPEN, THEY GET D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5"/>
          <p:cNvSpPr/>
          <p:nvPr/>
        </p:nvSpPr>
        <p:spPr>
          <a:xfrm>
            <a:off x="6858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Chevron 3"/>
          <p:cNvSpPr/>
          <p:nvPr/>
        </p:nvSpPr>
        <p:spPr>
          <a:xfrm>
            <a:off x="719280" y="2193840"/>
            <a:ext cx="8067600" cy="376200"/>
          </a:xfrm>
          <a:custGeom>
            <a:avLst/>
            <a:gdLst>
              <a:gd name="textAreaLeft" fmla="*/ 0 w 8067600"/>
              <a:gd name="textAreaRight" fmla="*/ 8067960 w 80676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38" y="0"/>
                </a:lnTo>
                <a:lnTo>
                  <a:pt x="21600" y="10800"/>
                </a:lnTo>
                <a:lnTo>
                  <a:pt x="21438" y="21600"/>
                </a:lnTo>
                <a:lnTo>
                  <a:pt x="0" y="21600"/>
                </a:lnTo>
                <a:lnTo>
                  <a:pt x="16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all project 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Chevron 4"/>
          <p:cNvSpPr/>
          <p:nvPr/>
        </p:nvSpPr>
        <p:spPr>
          <a:xfrm>
            <a:off x="18558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diness assessment &amp;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Chevron 5"/>
          <p:cNvSpPr/>
          <p:nvPr/>
        </p:nvSpPr>
        <p:spPr>
          <a:xfrm>
            <a:off x="301788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 transform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workflow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Chevron 6"/>
          <p:cNvSpPr/>
          <p:nvPr/>
        </p:nvSpPr>
        <p:spPr>
          <a:xfrm>
            <a:off x="417672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deployment &amp;      Implemen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Chevron 7"/>
          <p:cNvSpPr/>
          <p:nvPr/>
        </p:nvSpPr>
        <p:spPr>
          <a:xfrm>
            <a:off x="765504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   implementation sup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Chevron 8"/>
          <p:cNvSpPr/>
          <p:nvPr/>
        </p:nvSpPr>
        <p:spPr>
          <a:xfrm>
            <a:off x="533556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ing, decision support, and performance measur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Chevron 10"/>
          <p:cNvSpPr/>
          <p:nvPr/>
        </p:nvSpPr>
        <p:spPr>
          <a:xfrm>
            <a:off x="64962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-operating with internal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xternal syste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16"/>
          <p:cNvSpPr/>
          <p:nvPr/>
        </p:nvSpPr>
        <p:spPr>
          <a:xfrm>
            <a:off x="685800" y="1828800"/>
            <a:ext cx="589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llustrative EHR Implementation Value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Chevron 12"/>
          <p:cNvSpPr/>
          <p:nvPr/>
        </p:nvSpPr>
        <p:spPr>
          <a:xfrm>
            <a:off x="69696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1"/>
          <p:cNvSpPr/>
          <p:nvPr/>
        </p:nvSpPr>
        <p:spPr>
          <a:xfrm>
            <a:off x="1600200" y="46483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ps at any point along the way will undermine ad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Down Arrow 125"/>
          <p:cNvSpPr/>
          <p:nvPr/>
        </p:nvSpPr>
        <p:spPr>
          <a:xfrm>
            <a:off x="4343400" y="3886200"/>
            <a:ext cx="8380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 SO MANY PHYSICIANS OFFICES LOOK LIKE THI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3" descr="woman at desk"/>
          <p:cNvPicPr/>
          <p:nvPr/>
        </p:nvPicPr>
        <p:blipFill>
          <a:blip r:embed="rId1"/>
          <a:stretch/>
        </p:blipFill>
        <p:spPr>
          <a:xfrm>
            <a:off x="3276720" y="1523880"/>
            <a:ext cx="3581280" cy="4770720"/>
          </a:xfrm>
          <a:prstGeom prst="rect">
            <a:avLst/>
          </a:prstGeom>
          <a:ln w="0">
            <a:noFill/>
          </a:ln>
        </p:spPr>
      </p:pic>
      <p:sp>
        <p:nvSpPr>
          <p:cNvPr id="1061" name="AutoShape 4"/>
          <p:cNvSpPr/>
          <p:nvPr/>
        </p:nvSpPr>
        <p:spPr>
          <a:xfrm>
            <a:off x="7356600" y="3733920"/>
            <a:ext cx="2160360" cy="1523880"/>
          </a:xfrm>
          <a:prstGeom prst="wedgeEllipseCallout">
            <a:avLst>
              <a:gd name="adj1" fmla="val -67976"/>
              <a:gd name="adj2" fmla="val -3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ier just dropped off m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5"/>
          <p:cNvSpPr/>
          <p:nvPr/>
        </p:nvSpPr>
        <p:spPr>
          <a:xfrm>
            <a:off x="6477120" y="228600"/>
            <a:ext cx="2639880" cy="1911240"/>
          </a:xfrm>
          <a:prstGeom prst="wedgeEllipseCallout">
            <a:avLst>
              <a:gd name="adj1" fmla="val -122601"/>
              <a:gd name="adj2" fmla="val 123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ption refill request on fax mach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igh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the joke of the da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6"/>
          <p:cNvSpPr/>
          <p:nvPr/>
        </p:nvSpPr>
        <p:spPr>
          <a:xfrm>
            <a:off x="7116840" y="2666880"/>
            <a:ext cx="2079720" cy="728640"/>
          </a:xfrm>
          <a:prstGeom prst="wedgeEllipseCallout">
            <a:avLst>
              <a:gd name="adj1" fmla="val -117069"/>
              <a:gd name="adj2" fmla="val 8834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pened m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7"/>
          <p:cNvSpPr/>
          <p:nvPr/>
        </p:nvSpPr>
        <p:spPr>
          <a:xfrm>
            <a:off x="639720" y="2066760"/>
            <a:ext cx="2320920" cy="1143000"/>
          </a:xfrm>
          <a:prstGeom prst="wedgeEllipseCallout">
            <a:avLst>
              <a:gd name="adj1" fmla="val 65157"/>
              <a:gd name="adj2" fmla="val 8527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er with results from on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8"/>
          <p:cNvSpPr/>
          <p:nvPr/>
        </p:nvSpPr>
        <p:spPr>
          <a:xfrm>
            <a:off x="1440000" y="590400"/>
            <a:ext cx="2239920" cy="1371600"/>
          </a:xfrm>
          <a:prstGeom prst="wedgeEllipseCallout">
            <a:avLst>
              <a:gd name="adj1" fmla="val 68152"/>
              <a:gd name="adj2" fmla="val 1312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y Sally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is Mrs. Jones x-ray?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9"/>
          <p:cNvSpPr/>
          <p:nvPr/>
        </p:nvSpPr>
        <p:spPr>
          <a:xfrm>
            <a:off x="1200240" y="4343400"/>
            <a:ext cx="1839960" cy="768240"/>
          </a:xfrm>
          <a:prstGeom prst="wedgeEllipseCallout">
            <a:avLst>
              <a:gd name="adj1" fmla="val 119564"/>
              <a:gd name="adj2" fmla="val -115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orte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1"/>
          <p:cNvSpPr/>
          <p:nvPr/>
        </p:nvSpPr>
        <p:spPr>
          <a:xfrm>
            <a:off x="479520" y="5486400"/>
            <a:ext cx="1920960" cy="1219320"/>
          </a:xfrm>
          <a:prstGeom prst="wedgeEllipseCallout">
            <a:avLst>
              <a:gd name="adj1" fmla="val 207291"/>
              <a:gd name="adj2" fmla="val -1110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o ring with sta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2"/>
          <p:cNvSpPr/>
          <p:nvPr/>
        </p:nvSpPr>
        <p:spPr>
          <a:xfrm>
            <a:off x="7277040" y="5334120"/>
            <a:ext cx="2079720" cy="1143000"/>
          </a:xfrm>
          <a:prstGeom prst="wedgeEllipseCallout">
            <a:avLst>
              <a:gd name="adj1" fmla="val -134856"/>
              <a:gd name="adj2" fmla="val -41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ortal (from one hospit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dddd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7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NICAL USE OF DEPLOYED EHRs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Encounters Documented Clinically in EHRs (Q2 2006 – Q2 2008)</a:t>
            </a: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0" name="Object 3" descr="bar graph of clinical use of deployed EHRs"/>
          <p:cNvPicPr/>
          <p:nvPr/>
        </p:nvPicPr>
        <p:blipFill>
          <a:blip r:embed="rId1"/>
          <a:stretch/>
        </p:blipFill>
        <p:spPr>
          <a:xfrm>
            <a:off x="998640" y="1219320"/>
            <a:ext cx="7535880" cy="49784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27"/>
          <p:cNvSpPr/>
          <p:nvPr/>
        </p:nvSpPr>
        <p:spPr>
          <a:xfrm>
            <a:off x="221652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8020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27"/>
          <p:cNvSpPr/>
          <p:nvPr/>
        </p:nvSpPr>
        <p:spPr>
          <a:xfrm>
            <a:off x="662184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19"/>
          <p:cNvSpPr/>
          <p:nvPr/>
        </p:nvSpPr>
        <p:spPr>
          <a:xfrm>
            <a:off x="626760" y="1523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KOUT OF CLINICAL USE MEASUREMEN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6" name="Picture 4" descr="table of breakout of clinical use measurement"/>
          <p:cNvPicPr/>
          <p:nvPr/>
        </p:nvPicPr>
        <p:blipFill>
          <a:blip r:embed="rId1"/>
          <a:stretch/>
        </p:blipFill>
        <p:spPr>
          <a:xfrm>
            <a:off x="2438280" y="1143000"/>
            <a:ext cx="480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screen shot of North Adams HIE"/>
          <p:cNvPicPr/>
          <p:nvPr/>
        </p:nvPicPr>
        <p:blipFill>
          <a:blip r:embed="rId1"/>
          <a:srcRect l="0" t="0" r="0" b="7250"/>
          <a:stretch/>
        </p:blipFill>
        <p:spPr>
          <a:xfrm>
            <a:off x="593640" y="762120"/>
            <a:ext cx="8398080" cy="5562360"/>
          </a:xfrm>
          <a:prstGeom prst="rect">
            <a:avLst/>
          </a:prstGeom>
          <a:ln w="0">
            <a:noFill/>
          </a:ln>
        </p:spPr>
      </p:pic>
      <p:sp>
        <p:nvSpPr>
          <p:cNvPr id="1078" name="Line 3"/>
          <p:cNvSpPr/>
          <p:nvPr/>
        </p:nvSpPr>
        <p:spPr>
          <a:xfrm>
            <a:off x="533520" y="5943600"/>
            <a:ext cx="83818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NORTH ADAMS HIE SCREEN SHO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1" name="Rectangle 28"/>
          <p:cNvSpPr/>
          <p:nvPr/>
        </p:nvSpPr>
        <p:spPr>
          <a:xfrm>
            <a:off x="533520" y="9907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utcomes analysi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9"/>
          <p:cNvSpPr/>
          <p:nvPr/>
        </p:nvSpPr>
        <p:spPr>
          <a:xfrm>
            <a:off x="1905120" y="838080"/>
            <a:ext cx="162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enchmark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33"/>
          <p:cNvSpPr/>
          <p:nvPr/>
        </p:nvSpPr>
        <p:spPr>
          <a:xfrm flipH="1" flipV="1">
            <a:off x="1981080" y="1382760"/>
            <a:ext cx="587520" cy="3268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34"/>
          <p:cNvSpPr/>
          <p:nvPr/>
        </p:nvSpPr>
        <p:spPr>
          <a:xfrm flipV="1">
            <a:off x="2840040" y="1294920"/>
            <a:ext cx="208080" cy="414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35"/>
          <p:cNvSpPr/>
          <p:nvPr/>
        </p:nvSpPr>
        <p:spPr>
          <a:xfrm>
            <a:off x="3581280" y="838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9440" indent="-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6a6a6"/>
                </a:solidFill>
                <a:latin typeface="Arial"/>
                <a:ea typeface="Arial"/>
              </a:rPr>
              <a:t>Other reporting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9440" indent="-109440">
              <a:lnSpc>
                <a:spcPct val="10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6a6a6"/>
                </a:solidFill>
                <a:latin typeface="Arial"/>
                <a:ea typeface="Arial"/>
              </a:rPr>
              <a:t>P4P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9440" indent="-109440">
              <a:lnSpc>
                <a:spcPct val="10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6a6a6"/>
                </a:solidFill>
                <a:latin typeface="Arial"/>
                <a:ea typeface="Arial"/>
              </a:rPr>
              <a:t>Chart review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109440" indent="-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36"/>
          <p:cNvSpPr/>
          <p:nvPr/>
        </p:nvSpPr>
        <p:spPr>
          <a:xfrm flipV="1">
            <a:off x="3124080" y="1600200"/>
            <a:ext cx="609840" cy="109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0"/>
          <p:cNvSpPr/>
          <p:nvPr/>
        </p:nvSpPr>
        <p:spPr>
          <a:xfrm>
            <a:off x="609480" y="5092560"/>
            <a:ext cx="4419720" cy="107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41" descr=""/>
          <p:cNvPicPr/>
          <p:nvPr/>
        </p:nvPicPr>
        <p:blipFill>
          <a:blip r:embed="rId1"/>
          <a:stretch/>
        </p:blipFill>
        <p:spPr>
          <a:xfrm>
            <a:off x="1676520" y="5214960"/>
            <a:ext cx="1228680" cy="2808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2" descr=""/>
          <p:cNvPicPr/>
          <p:nvPr/>
        </p:nvPicPr>
        <p:blipFill>
          <a:blip r:embed="rId2"/>
          <a:stretch/>
        </p:blipFill>
        <p:spPr>
          <a:xfrm>
            <a:off x="762120" y="5234040"/>
            <a:ext cx="685800" cy="2430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3" descr=""/>
          <p:cNvPicPr/>
          <p:nvPr/>
        </p:nvPicPr>
        <p:blipFill>
          <a:blip r:embed="rId3"/>
          <a:srcRect l="0" t="0" r="16085" b="8328"/>
          <a:stretch/>
        </p:blipFill>
        <p:spPr>
          <a:xfrm>
            <a:off x="3733920" y="5214960"/>
            <a:ext cx="1143000" cy="2793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4" descr=""/>
          <p:cNvPicPr/>
          <p:nvPr/>
        </p:nvPicPr>
        <p:blipFill>
          <a:blip r:embed="rId4"/>
          <a:stretch/>
        </p:blipFill>
        <p:spPr>
          <a:xfrm>
            <a:off x="3157560" y="51814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6" descr="e-MDs - Integrated Electronic Medical Record and Practice Management Software"/>
          <p:cNvPicPr/>
          <p:nvPr/>
        </p:nvPicPr>
        <p:blipFill>
          <a:blip r:embed="rId5"/>
          <a:stretch/>
        </p:blipFill>
        <p:spPr>
          <a:xfrm>
            <a:off x="2286000" y="5791320"/>
            <a:ext cx="712800" cy="183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7" descr=""/>
          <p:cNvPicPr/>
          <p:nvPr/>
        </p:nvPicPr>
        <p:blipFill>
          <a:blip r:embed="rId6"/>
          <a:srcRect l="0" t="11458" r="71878" b="82296"/>
          <a:stretch/>
        </p:blipFill>
        <p:spPr>
          <a:xfrm>
            <a:off x="3381480" y="5772240"/>
            <a:ext cx="1371600" cy="228600"/>
          </a:xfrm>
          <a:prstGeom prst="rect">
            <a:avLst/>
          </a:prstGeom>
          <a:ln w="0">
            <a:noFill/>
          </a:ln>
        </p:spPr>
      </p:pic>
      <p:grpSp>
        <p:nvGrpSpPr>
          <p:cNvPr id="1094" name="Group 60"/>
          <p:cNvGrpSpPr/>
          <p:nvPr/>
        </p:nvGrpSpPr>
        <p:grpSpPr>
          <a:xfrm>
            <a:off x="1371600" y="1828800"/>
            <a:ext cx="2666520" cy="1567800"/>
            <a:chOff x="1371600" y="1828800"/>
            <a:chExt cx="2666520" cy="1567800"/>
          </a:xfrm>
        </p:grpSpPr>
        <p:grpSp>
          <p:nvGrpSpPr>
            <p:cNvPr id="1095" name="Group 48"/>
            <p:cNvGrpSpPr/>
            <p:nvPr/>
          </p:nvGrpSpPr>
          <p:grpSpPr>
            <a:xfrm>
              <a:off x="1371600" y="1828800"/>
              <a:ext cx="2666520" cy="1567800"/>
              <a:chOff x="1371600" y="1828800"/>
              <a:chExt cx="2666520" cy="1567800"/>
            </a:xfrm>
          </p:grpSpPr>
          <p:grpSp>
            <p:nvGrpSpPr>
              <p:cNvPr id="1096" name="Group 49"/>
              <p:cNvGrpSpPr/>
              <p:nvPr/>
            </p:nvGrpSpPr>
            <p:grpSpPr>
              <a:xfrm>
                <a:off x="1371600" y="1981080"/>
                <a:ext cx="2666520" cy="1415520"/>
                <a:chOff x="1371600" y="1981080"/>
                <a:chExt cx="2666520" cy="1415520"/>
              </a:xfrm>
            </p:grpSpPr>
            <p:sp>
              <p:nvSpPr>
                <p:cNvPr id="1097" name="Line 51"/>
                <p:cNvSpPr/>
                <p:nvPr/>
              </p:nvSpPr>
              <p:spPr>
                <a:xfrm flipV="1">
                  <a:off x="1371600" y="289548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2"/>
                <p:cNvSpPr/>
                <p:nvPr/>
              </p:nvSpPr>
              <p:spPr>
                <a:xfrm flipH="1" flipV="1">
                  <a:off x="2971080" y="289548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3"/>
                <p:cNvSpPr/>
                <p:nvPr/>
              </p:nvSpPr>
              <p:spPr>
                <a:xfrm flipV="1">
                  <a:off x="2720880" y="291744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AutoShape 50"/>
                <p:cNvSpPr/>
                <p:nvPr/>
              </p:nvSpPr>
              <p:spPr>
                <a:xfrm>
                  <a:off x="1599840" y="198108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01" name="Picture 58" descr="MHQP logo"/>
              <p:cNvPicPr/>
              <p:nvPr/>
            </p:nvPicPr>
            <p:blipFill>
              <a:blip r:embed="rId7"/>
              <a:stretch/>
            </p:blipFill>
            <p:spPr>
              <a:xfrm>
                <a:off x="1741320" y="2247840"/>
                <a:ext cx="68544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Picture 59" descr="MAeHC_0"/>
              <p:cNvPicPr/>
              <p:nvPr/>
            </p:nvPicPr>
            <p:blipFill>
              <a:blip r:embed="rId8"/>
              <a:stretch/>
            </p:blipFill>
            <p:spPr>
              <a:xfrm>
                <a:off x="2211120" y="1828800"/>
                <a:ext cx="118080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3" name="Picture 13" descr="MMS seal"/>
            <p:cNvPicPr/>
            <p:nvPr/>
          </p:nvPicPr>
          <p:blipFill>
            <a:blip r:embed="rId9"/>
            <a:stretch/>
          </p:blipFill>
          <p:spPr>
            <a:xfrm>
              <a:off x="2516040" y="2222280"/>
              <a:ext cx="53316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Picture 57" descr="csc_er_logo"/>
            <p:cNvPicPr/>
            <p:nvPr/>
          </p:nvPicPr>
          <p:blipFill>
            <a:blip r:embed="rId10"/>
            <a:stretch/>
          </p:blipFill>
          <p:spPr>
            <a:xfrm>
              <a:off x="3125880" y="229860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Group 3"/>
          <p:cNvGrpSpPr/>
          <p:nvPr/>
        </p:nvGrpSpPr>
        <p:grpSpPr>
          <a:xfrm>
            <a:off x="811080" y="3276720"/>
            <a:ext cx="3913200" cy="1600200"/>
            <a:chOff x="811080" y="3276720"/>
            <a:chExt cx="3913200" cy="1600200"/>
          </a:xfrm>
        </p:grpSpPr>
        <p:sp>
          <p:nvSpPr>
            <p:cNvPr id="1106" name="AutoShape 4"/>
            <p:cNvSpPr/>
            <p:nvPr/>
          </p:nvSpPr>
          <p:spPr>
            <a:xfrm>
              <a:off x="838080" y="327672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AutoShape 5"/>
            <p:cNvSpPr/>
            <p:nvPr/>
          </p:nvSpPr>
          <p:spPr>
            <a:xfrm>
              <a:off x="2209680" y="327672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AutoShape 6"/>
            <p:cNvSpPr/>
            <p:nvPr/>
          </p:nvSpPr>
          <p:spPr>
            <a:xfrm>
              <a:off x="3581280" y="327672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 flipV="1">
              <a:off x="914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 flipV="1">
              <a:off x="1295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9"/>
            <p:cNvSpPr/>
            <p:nvPr/>
          </p:nvSpPr>
          <p:spPr>
            <a:xfrm flipV="1">
              <a:off x="167616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0"/>
            <p:cNvSpPr/>
            <p:nvPr/>
          </p:nvSpPr>
          <p:spPr>
            <a:xfrm flipV="1">
              <a:off x="2057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1"/>
            <p:cNvSpPr/>
            <p:nvPr/>
          </p:nvSpPr>
          <p:spPr>
            <a:xfrm flipV="1">
              <a:off x="2438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 flipV="1">
              <a:off x="281916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 flipV="1">
              <a:off x="3200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 flipV="1">
              <a:off x="3581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 flipV="1">
              <a:off x="396216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 flipV="1">
              <a:off x="434304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 flipV="1">
              <a:off x="4724280" y="457236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0" name="Picture 18" descr=""/>
            <p:cNvPicPr/>
            <p:nvPr/>
          </p:nvPicPr>
          <p:blipFill>
            <a:blip r:embed="rId11"/>
            <a:srcRect l="0" t="13383" r="71618" b="39343"/>
            <a:stretch/>
          </p:blipFill>
          <p:spPr>
            <a:xfrm>
              <a:off x="968040" y="3548160"/>
              <a:ext cx="7765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19" descr=""/>
            <p:cNvPicPr/>
            <p:nvPr/>
          </p:nvPicPr>
          <p:blipFill>
            <a:blip r:embed="rId12"/>
            <a:srcRect l="0" t="13383" r="71618" b="39343"/>
            <a:stretch/>
          </p:blipFill>
          <p:spPr>
            <a:xfrm>
              <a:off x="2390400" y="3557880"/>
              <a:ext cx="77652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20" descr=""/>
            <p:cNvPicPr/>
            <p:nvPr/>
          </p:nvPicPr>
          <p:blipFill>
            <a:blip r:embed="rId13"/>
            <a:srcRect l="0" t="0" r="16112" b="8978"/>
            <a:stretch/>
          </p:blipFill>
          <p:spPr>
            <a:xfrm>
              <a:off x="3713040" y="358164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Rectangle 21"/>
            <p:cNvSpPr/>
            <p:nvPr/>
          </p:nvSpPr>
          <p:spPr>
            <a:xfrm>
              <a:off x="811080" y="411516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22"/>
            <p:cNvSpPr/>
            <p:nvPr/>
          </p:nvSpPr>
          <p:spPr>
            <a:xfrm>
              <a:off x="2084040" y="4115160"/>
              <a:ext cx="118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23"/>
            <p:cNvSpPr/>
            <p:nvPr/>
          </p:nvSpPr>
          <p:spPr>
            <a:xfrm>
              <a:off x="3455640" y="4115160"/>
              <a:ext cx="119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Rounded Rectangular Callout 66"/>
          <p:cNvSpPr/>
          <p:nvPr/>
        </p:nvSpPr>
        <p:spPr>
          <a:xfrm>
            <a:off x="7467480" y="838080"/>
            <a:ext cx="1905120" cy="914400"/>
          </a:xfrm>
          <a:prstGeom prst="wedgeRoundRectCallout">
            <a:avLst>
              <a:gd name="adj1" fmla="val -80310"/>
              <a:gd name="adj2" fmla="val 7462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to handle consent policy for unanticipated expansion of use, even if it’s legally allowed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ounded Rectangular Callout 67"/>
          <p:cNvSpPr/>
          <p:nvPr/>
        </p:nvSpPr>
        <p:spPr>
          <a:xfrm>
            <a:off x="7620120" y="2057400"/>
            <a:ext cx="1600200" cy="990720"/>
          </a:xfrm>
          <a:prstGeom prst="wedgeRoundRectCallout">
            <a:avLst>
              <a:gd name="adj1" fmla="val -81115"/>
              <a:gd name="adj2" fmla="val 29564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 5-10% opt-out acceptable for public health and population health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ounded Rectangular Callout 68"/>
          <p:cNvSpPr/>
          <p:nvPr/>
        </p:nvSpPr>
        <p:spPr>
          <a:xfrm>
            <a:off x="7620120" y="3352680"/>
            <a:ext cx="1600200" cy="990720"/>
          </a:xfrm>
          <a:prstGeom prst="wedgeRoundRectCallout">
            <a:avLst>
              <a:gd name="adj1" fmla="val -76287"/>
              <a:gd name="adj2" fmla="val 2263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to handle physician desire for routine re-identific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ounded Rectangular Callout 69"/>
          <p:cNvSpPr/>
          <p:nvPr/>
        </p:nvSpPr>
        <p:spPr>
          <a:xfrm>
            <a:off x="7620120" y="4800600"/>
            <a:ext cx="1600200" cy="1295280"/>
          </a:xfrm>
          <a:prstGeom prst="wedgeRoundRectCallout">
            <a:avLst>
              <a:gd name="adj1" fmla="val -76287"/>
              <a:gd name="adj2" fmla="val 16564"/>
              <a:gd name="adj3" fmla="val 16667"/>
            </a:avLst>
          </a:prstGeom>
          <a:solidFill>
            <a:srgbClr val="ffff9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 physicians enthusiastically pursuing consent?  How to deal with “non-believers” and free-rider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73"/>
          <p:cNvGrpSpPr/>
          <p:nvPr/>
        </p:nvGrpSpPr>
        <p:grpSpPr>
          <a:xfrm>
            <a:off x="4861080" y="2666880"/>
            <a:ext cx="1996920" cy="1905120"/>
            <a:chOff x="4861080" y="2666880"/>
            <a:chExt cx="1996920" cy="1905120"/>
          </a:xfrm>
        </p:grpSpPr>
        <p:sp>
          <p:nvSpPr>
            <p:cNvPr id="1131" name="Rectangle 29"/>
            <p:cNvSpPr/>
            <p:nvPr/>
          </p:nvSpPr>
          <p:spPr>
            <a:xfrm>
              <a:off x="5076720" y="4343400"/>
              <a:ext cx="178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ntity-by-entity opt-in consen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(North Adams exceptio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29"/>
            <p:cNvSpPr/>
            <p:nvPr/>
          </p:nvSpPr>
          <p:spPr>
            <a:xfrm>
              <a:off x="5029200" y="2666880"/>
              <a:ext cx="178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ncrypted identifier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Arc 70"/>
            <p:cNvSpPr/>
            <p:nvPr/>
          </p:nvSpPr>
          <p:spPr>
            <a:xfrm>
              <a:off x="5943600" y="3352680"/>
              <a:ext cx="380880" cy="838080"/>
            </a:xfrm>
            <a:prstGeom prst="pie">
              <a:avLst/>
            </a:prstGeom>
            <a:noFill/>
            <a:ln w="1584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29"/>
            <p:cNvSpPr/>
            <p:nvPr/>
          </p:nvSpPr>
          <p:spPr>
            <a:xfrm>
              <a:off x="4861080" y="3594240"/>
              <a:ext cx="178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-identifiabl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5" name="Picture 2" descr="Hill Associates Healthcare Management Systems"/>
          <p:cNvPicPr/>
          <p:nvPr/>
        </p:nvPicPr>
        <p:blipFill>
          <a:blip r:embed="rId14"/>
          <a:srcRect l="56914" t="0" r="0" b="0"/>
          <a:stretch/>
        </p:blipFill>
        <p:spPr>
          <a:xfrm>
            <a:off x="990720" y="5562720"/>
            <a:ext cx="9144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04:12Z</dcterms:created>
  <dc:creator>LENOVO USER</dc:creator>
  <dc:description/>
  <dc:language>en-US</dc:language>
  <cp:lastModifiedBy>Rasa</cp:lastModifiedBy>
  <dcterms:modified xsi:type="dcterms:W3CDTF">2009-10-28T21:18:29Z</dcterms:modified>
  <cp:revision>28</cp:revision>
  <dc:subject/>
  <dc:title>MASSACHUSETTS eHEALTH COLLABORATIVE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