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6.png" ContentType="image/png"/>
  <Override PartName="/ppt/media/image28.png" ContentType="image/png"/>
  <Override PartName="/ppt/media/image38.jpeg" ContentType="image/jpeg"/>
  <Override PartName="/ppt/media/image34.png" ContentType="image/png"/>
  <Override PartName="/ppt/media/image36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35.png" ContentType="image/png"/>
  <Override PartName="/ppt/media/image46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47.jpeg" ContentType="image/jpeg"/>
  <Override PartName="/ppt/media/image5.wmf" ContentType="image/x-wmf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</p:sldIdLst>
  <p:sldSz cx="96012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2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dt" idx="34"/>
          </p:nvPr>
        </p:nvSpPr>
        <p:spPr>
          <a:xfrm>
            <a:off x="3890520" y="0"/>
            <a:ext cx="2992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sldImg"/>
          </p:nvPr>
        </p:nvSpPr>
        <p:spPr>
          <a:xfrm>
            <a:off x="945720" y="685800"/>
            <a:ext cx="4915080" cy="35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ftr" idx="35"/>
          </p:nvPr>
        </p:nvSpPr>
        <p:spPr>
          <a:xfrm>
            <a:off x="0" y="8849880"/>
            <a:ext cx="29923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 type="sldNum" idx="36"/>
          </p:nvPr>
        </p:nvSpPr>
        <p:spPr>
          <a:xfrm>
            <a:off x="3890520" y="8849880"/>
            <a:ext cx="2992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BD00CB1-58AD-413D-918F-A4CB8A7263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CB1F92A-6054-4AF2-91CB-2AB6479E023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94608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2D28695-F4EC-4348-90A4-175CE5C28FE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94608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4780E43-86FC-4DF5-8904-9E50FF02FA8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94608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AE2D1AD-224C-439C-9E21-95BCE282C5A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94608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EACA4F7-42B1-4356-8B22-855D63D103B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946080" y="685800"/>
            <a:ext cx="4913280" cy="3510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E7809E8-271B-4475-9341-FE83A443B30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2"/>
          <p:cNvSpPr/>
          <p:nvPr/>
        </p:nvSpPr>
        <p:spPr>
          <a:xfrm>
            <a:off x="0" y="0"/>
            <a:ext cx="299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diana Health Information Exchange Over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6"/>
          <p:cNvSpPr/>
          <p:nvPr/>
        </p:nvSpPr>
        <p:spPr>
          <a:xfrm>
            <a:off x="0" y="8850240"/>
            <a:ext cx="299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pyright © 2006 Indiana Health Information Exchange, In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F6276D9-0CF6-4033-989C-CBB137F63C4B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988920" y="6951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7240" y="4416480"/>
            <a:ext cx="54835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CCE8-1774-48ED-80E3-535C7751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99FE-EB5D-499C-BBCB-E3AC0924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84B0-5928-462F-AE6E-7148F657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0B20-79D5-49FC-AC4C-45FB4A8D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3148-683B-4B88-80A9-598FB25F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A6EF-AB1D-4F4D-93CE-30D3F5CD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321F-9B3A-46AE-B0E4-8BDC124B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B424-092F-4FDB-8685-95521B04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50DC-6D22-4A53-A699-0B77E235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B840-DD34-4265-BCB2-A2B7051F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2D8B-1B86-4A97-A73F-D8109D4B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4B98-5F5D-4D1F-AE6F-D0D94EFD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F7C89-6463-4DB6-9B85-14324851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6DE05-C551-44D3-B33A-562A667B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7DA01-F795-4391-AA8A-DBE17522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7E5BA-48DE-4E43-A2F4-75ED9EBE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F4F1-A565-48A1-BCDC-FFBA484D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622FB-E3D6-468A-86E9-B9BEC24C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BD88-E75F-4618-81AD-AC28EAEE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073AA-ACB5-453E-AB6B-73044BC6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F35A8-7936-45C0-B614-B437926F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546D2-9B37-4497-8E78-09560A0D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17082-C9EB-4833-974F-CF8B0B9A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D22AB-A404-4DCB-8580-F703BC67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E6878-D8B1-43EB-9D7A-212EE308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8B90D-A0CA-43A3-96E7-382FE984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12019-34B1-4CEE-9D79-22EDB907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B6C81-2BF1-4DD0-80C8-01C794BC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A04DF-1A83-410F-9EAE-3911F226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8D9DD-C14F-421C-8803-24D063A1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6665B-91C1-493F-9B3F-7D3C5031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AC443-0F23-4CBC-8971-8A8B6E54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0FB6D-FDFE-47A4-B658-7DA083DE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74E7E-3993-4FFC-B6B9-B9F7DFDF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9AD62-9E88-4918-9416-F407464B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899F1-B652-4138-AFDE-2D859C3E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E69A9-5983-4F8E-A2D5-54770AAC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68817-1BAE-49C0-9860-9B612286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723A7-B20C-4258-B13D-92BFF11C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6DB52-8DC8-4907-AB15-924E5C67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CA38F-43DE-4810-B94A-2D23E149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A140B-0C38-4BE3-841B-C572C44E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75A77-DE06-41D4-83AC-EB6F8128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06884-0F67-47C4-84EE-BEC43962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3F19F-8355-4AC4-B634-A3FAAE9D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D2C6F-9CE1-434A-98A1-BD5FC55F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7D475-50B1-4706-91D3-47AE60C5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435F8-3D8B-477B-B122-5B857729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3FDB8-41D7-4D73-8B8B-0F1868D2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2C246-BBAF-4C0F-A121-803E6F3F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9F85F-5128-4C6B-BF7C-06DB84A6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1BA59-3E16-4F63-AA3B-FF75D42D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34D63-4E0C-4246-943C-6B5CB441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0B900-2FFC-4DAD-9D96-CD81A756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7B1DC-7356-471D-BD4D-4B6D7390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85AB4-49D0-47A5-952A-6501BDD6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39633-F00C-4731-886A-F6CCF86C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49CEF-CFBD-4FBD-B480-D6D561AC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2691C-E84F-4AA7-80A5-9E36B5ED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74ECB-D107-401B-AF83-D1B2102A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AD01D-C34F-49F6-BF35-DD09319D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F7411-D5F6-44B2-8DBE-AAC999FC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A7834-45A0-4FB4-9C62-74CB11CF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3D344-A85F-46BD-A261-DF38C100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FD365-6867-449B-939C-7D2AA082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64865-0420-4528-880E-F3B494B4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71545-EA97-41B8-BC65-AAC973B0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02F9A-0449-4EBF-BCCF-088DAA48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B59B6-2BF3-4EA9-B655-263F1B63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20ACB-CE39-4B36-B6F5-AEEFF7D7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C2C53-6D5E-4C12-9996-6F498C3B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A1C74-C554-40D1-84DA-373D4B6C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1AA64-6CAC-40F2-8015-4154B6F8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ADEEC-C4E0-436B-9A6B-7AE21959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50439-82AB-471B-9BBB-78DED9D5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82BC3-05DA-4FD5-8D93-EEFCAFC0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52BF0-899B-4E32-BC23-094C576E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FC25F-28A1-479D-8F7B-39061E65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5FAC8-EE5B-41D6-9E7E-CF38DAA4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848F1-57F0-4B5C-B749-333BF55A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856B7-FD3B-45B6-8241-02BFAB35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D0CBD-554B-4CCE-BF87-73923820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F9FEF-9226-4849-86E2-86054B24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05014-E500-4683-B4D0-C48E6FA4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C5F74-5E91-4108-83E7-C2EEA481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2BF65-3D75-432F-BF70-507DC119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74095-8431-4C85-BD87-A2D27A88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7AB72-7067-4642-BC30-64A4C5C0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1ECA1-9FDF-4F5A-B1A2-27C012AB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99482-5E8F-4E9A-9CC3-84086943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CC1D0-BF82-4B35-BA1A-18DA4B54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4ADD8-DB10-4CBA-9FFE-58046489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80E28-1C77-4EC9-B7AE-9A925623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05B56-6E4E-438C-8459-CBA7D929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C6D0E-C1AD-4BFF-A093-DFD7A3E9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6A085-3222-41E4-83DC-4AA883BC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B41EE-F949-4A6C-9D65-BF6DD128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95DE2-4A47-4AC2-89C5-0B7255E9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64D96-1CA5-4BAA-B59F-7B1D0834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A5D66-CAF3-4275-928C-3726297C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A0797-15AB-41C0-8645-221FEE7E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DB306-4D5D-43BA-A6E9-8C3240C6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C4E24-7710-4A93-BE0D-34C32E75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CB383-655E-4895-96F6-8E61A552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2B657-3710-45F8-86ED-F7419867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30215-4AA9-4A0D-A601-03BCB12D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1BFF9-0833-4CF3-A884-26462C13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4A808-A5B0-4D24-80CD-B5F312B0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A6C93-B0E6-483C-B141-25EE83E3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2DCC7-FB49-4051-B678-08A01152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17A6D-1C17-460B-8A14-BDBEF724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B89E6-262C-4739-9789-6E08BE35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F9BFC-34F7-4F4D-82F7-7A29AF06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F8E52-1FEA-4DC8-A3BF-08A89E88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6D7E6-C411-4313-9904-43115E2F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B846E-AA68-48B6-8D5C-71DBAC55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A44B2-CFB5-4984-A346-28909866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8CF9C-D415-4E73-8E76-15C77BD7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F86BC-7FF9-4AF3-BE67-2282171C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5826E-F06E-4497-8E7A-DCE04FFF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266-EC9F-4E10-9472-3353E1E1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92E-6B8D-42B0-8E40-ACE4B49E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19C-954B-4871-8031-BDBE9E1A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C8C-042C-456D-BA5A-B1E6DBCB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B660-6621-424B-AE22-0235B0A8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F91-ADDF-42A3-B121-5BE9445C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93A-20B0-4A54-8AD5-230DC7DD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F06-A8FF-4D17-AA55-EAA786C7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9FE-474D-4115-BCD0-439A1D72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17A-D951-44C7-A260-8819B9FB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256-6AAF-4420-A26F-B60C252B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759-E760-4AE8-B518-D63AE930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2E30E9B9-4922-4B98-86DB-4F0B513B42A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9"/>
          <p:cNvSpPr/>
          <p:nvPr/>
        </p:nvSpPr>
        <p:spPr>
          <a:xfrm>
            <a:off x="74160" y="660780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0"/>
          <p:cNvSpPr/>
          <p:nvPr/>
        </p:nvSpPr>
        <p:spPr>
          <a:xfrm>
            <a:off x="73965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0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9" descr=""/>
          <p:cNvPicPr/>
          <p:nvPr/>
        </p:nvPicPr>
        <p:blipFill>
          <a:blip r:embed="rId3"/>
          <a:stretch/>
        </p:blipFill>
        <p:spPr>
          <a:xfrm>
            <a:off x="0" y="492120"/>
            <a:ext cx="2468520" cy="6555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4" descr="green_sideimage"/>
          <p:cNvPicPr/>
          <p:nvPr/>
        </p:nvPicPr>
        <p:blipFill>
          <a:blip r:embed="rId4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4"/>
          </p:nvPr>
        </p:nvSpPr>
        <p:spPr>
          <a:xfrm>
            <a:off x="739800" y="6381360"/>
            <a:ext cx="223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5"/>
          </p:nvPr>
        </p:nvSpPr>
        <p:spPr>
          <a:xfrm>
            <a:off x="3279600" y="63813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6"/>
          </p:nvPr>
        </p:nvSpPr>
        <p:spPr>
          <a:xfrm>
            <a:off x="6988320" y="6381360"/>
            <a:ext cx="223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A081-CCB2-42B5-ADAF-0BA64608F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9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7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8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9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C8AD-8436-4CEE-A09D-22AD43282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9" descr=""/>
          <p:cNvPicPr/>
          <p:nvPr/>
        </p:nvPicPr>
        <p:blipFill>
          <a:blip r:embed="rId4"/>
          <a:stretch/>
        </p:blipFill>
        <p:spPr>
          <a:xfrm>
            <a:off x="0" y="507960"/>
            <a:ext cx="2468520" cy="60156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10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11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12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E030-0D6A-49C0-821B-4850F234F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13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14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15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1665-0BF0-403B-A003-71A54EED2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6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7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8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AC23-59F0-4747-887A-85F8795EE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19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20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21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D6FF-6FB9-4D97-916E-ACE304F01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22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23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24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F55C-8635-4CAF-9796-13FB077B6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3E3476AB-0DF8-48B1-B48F-6A98F5391D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57960" y="6607800"/>
            <a:ext cx="5918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7360200" y="6559920"/>
            <a:ext cx="147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25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26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27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BBB1-CD70-4701-93AA-1E5953177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Master title sty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28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29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30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F5AB-3D75-4490-B890-F6AB7D703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31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32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33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56CE-68F6-4AD6-A5A9-5E1178889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5866D18E-5953-457E-A63D-93795804B0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57960" y="6607800"/>
            <a:ext cx="5918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7360200" y="6559920"/>
            <a:ext cx="147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C157202F-CCE1-4652-9E76-3919D2C1DA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57960" y="6607800"/>
            <a:ext cx="5918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7360200" y="6559920"/>
            <a:ext cx="147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000D5CCD-B6A5-49A8-A245-68F1F972B01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57960" y="6607800"/>
            <a:ext cx="5918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7360200" y="6559920"/>
            <a:ext cx="147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2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3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71B0-E749-4B51-923C-464CECAA8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1600911B-549B-4116-B7BE-B0305EEF92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74160" y="660780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73965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image" Target="../media/image7.png"/><Relationship Id="rId5" Type="http://schemas.openxmlformats.org/officeDocument/2006/relationships/image" Target="../media/image11.jpeg"/><Relationship Id="rId6" Type="http://schemas.openxmlformats.org/officeDocument/2006/relationships/image" Target="../media/image7.png"/><Relationship Id="rId7" Type="http://schemas.openxmlformats.org/officeDocument/2006/relationships/image" Target="../media/image38.jpe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7.png"/><Relationship Id="rId15" Type="http://schemas.openxmlformats.org/officeDocument/2006/relationships/image" Target="../media/image45.jpeg"/><Relationship Id="rId16" Type="http://schemas.openxmlformats.org/officeDocument/2006/relationships/image" Target="../media/image39.png"/><Relationship Id="rId17" Type="http://schemas.openxmlformats.org/officeDocument/2006/relationships/image" Target="../media/image46.png"/><Relationship Id="rId18" Type="http://schemas.openxmlformats.org/officeDocument/2006/relationships/image" Target="../media/image47.jpeg"/><Relationship Id="rId19" Type="http://schemas.openxmlformats.org/officeDocument/2006/relationships/image" Target="../media/image41.png"/><Relationship Id="rId20" Type="http://schemas.openxmlformats.org/officeDocument/2006/relationships/image" Target="../media/image42.png"/><Relationship Id="rId21" Type="http://schemas.openxmlformats.org/officeDocument/2006/relationships/image" Target="../media/image43.png"/><Relationship Id="rId22" Type="http://schemas.openxmlformats.org/officeDocument/2006/relationships/image" Target="../media/image44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4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41.png"/><Relationship Id="rId32" Type="http://schemas.openxmlformats.org/officeDocument/2006/relationships/image" Target="../media/image42.png"/><Relationship Id="rId33" Type="http://schemas.openxmlformats.org/officeDocument/2006/relationships/image" Target="../media/image43.png"/><Relationship Id="rId34" Type="http://schemas.openxmlformats.org/officeDocument/2006/relationships/image" Target="../media/image44.png"/><Relationship Id="rId3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jpeg"/><Relationship Id="rId6" Type="http://schemas.openxmlformats.org/officeDocument/2006/relationships/image" Target="../media/image7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0.jpeg"/><Relationship Id="rId8" Type="http://schemas.openxmlformats.org/officeDocument/2006/relationships/image" Target="../media/image4.jpeg"/><Relationship Id="rId9" Type="http://schemas.openxmlformats.org/officeDocument/2006/relationships/image" Target="../media/image7.png"/><Relationship Id="rId10" Type="http://schemas.openxmlformats.org/officeDocument/2006/relationships/image" Target="../media/image11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36240" y="1752480"/>
            <a:ext cx="8883720" cy="745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REGIONAL COLLABORATIVES</a:t>
            </a:r>
            <a:br>
              <a:rPr sz="2200"/>
            </a:b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1417320" y="3733920"/>
            <a:ext cx="6721560" cy="366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ctr">
              <a:lnSpc>
                <a:spcPct val="97000"/>
              </a:lnSpc>
              <a:spcBef>
                <a:spcPts val="876"/>
              </a:spcBef>
              <a:buClr>
                <a:srgbClr val="1f497d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September 14,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4" descr="MAeHC_0"/>
          <p:cNvPicPr/>
          <p:nvPr/>
        </p:nvPicPr>
        <p:blipFill>
          <a:blip r:embed="rId1"/>
          <a:stretch/>
        </p:blipFill>
        <p:spPr>
          <a:xfrm>
            <a:off x="3635280" y="4800600"/>
            <a:ext cx="228600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0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DATA BEING SENT TO THE MAEHC QDC TODAY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720720" y="1789200"/>
            <a:ext cx="8153280" cy="435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graphics[de-identified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ial/Family hx if it can be sent in discrete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oking status- if it can be sent over in discrete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ture[ inpatient data to include surgical history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04920" y="372960"/>
            <a:ext cx="8991360" cy="9986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Records Received By MAeHC QDC</a:t>
            </a:r>
            <a:br>
              <a:rPr sz="22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Through May 2009</a:t>
            </a:r>
            <a:br>
              <a:rPr sz="1800"/>
            </a:br>
            <a:endParaRPr b="1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39" name="Object 2" descr="bar graph of records received by MAeHC QDC"/>
          <p:cNvPicPr/>
          <p:nvPr/>
        </p:nvPicPr>
        <p:blipFill>
          <a:blip r:embed="rId1"/>
          <a:stretch/>
        </p:blipFill>
        <p:spPr>
          <a:xfrm>
            <a:off x="152280" y="1447920"/>
            <a:ext cx="8190000" cy="4495680"/>
          </a:xfrm>
          <a:prstGeom prst="rect">
            <a:avLst/>
          </a:prstGeom>
          <a:ln w="0">
            <a:noFill/>
          </a:ln>
        </p:spPr>
      </p:pic>
      <p:sp>
        <p:nvSpPr>
          <p:cNvPr id="1140" name="TextBox 13"/>
          <p:cNvSpPr/>
          <p:nvPr/>
        </p:nvSpPr>
        <p:spPr>
          <a:xfrm>
            <a:off x="8156160" y="487692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Ada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13"/>
          <p:cNvSpPr/>
          <p:nvPr/>
        </p:nvSpPr>
        <p:spPr>
          <a:xfrm>
            <a:off x="8158680" y="42670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3"/>
          <p:cNvSpPr/>
          <p:nvPr/>
        </p:nvSpPr>
        <p:spPr>
          <a:xfrm>
            <a:off x="8157960" y="38098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traight Connector 13"/>
          <p:cNvSpPr/>
          <p:nvPr/>
        </p:nvSpPr>
        <p:spPr>
          <a:xfrm flipH="1">
            <a:off x="7620120" y="4038480"/>
            <a:ext cx="304560" cy="76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traight Connector 14"/>
          <p:cNvSpPr/>
          <p:nvPr/>
        </p:nvSpPr>
        <p:spPr>
          <a:xfrm flipH="1">
            <a:off x="7695720" y="4419000"/>
            <a:ext cx="381240" cy="75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traight Connector 15"/>
          <p:cNvSpPr/>
          <p:nvPr/>
        </p:nvSpPr>
        <p:spPr>
          <a:xfrm flipH="1">
            <a:off x="7695720" y="50292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10"/>
          <p:cNvSpPr/>
          <p:nvPr/>
        </p:nvSpPr>
        <p:spPr>
          <a:xfrm>
            <a:off x="128520" y="1486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Box 11"/>
          <p:cNvSpPr/>
          <p:nvPr/>
        </p:nvSpPr>
        <p:spPr>
          <a:xfrm>
            <a:off x="5358600" y="1981080"/>
            <a:ext cx="38592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7,000 total records since Jul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7,000 records received in May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MAEHC QDC DATA COUNTS (I)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801720" y="1447920"/>
            <a:ext cx="8037360" cy="4419360"/>
            <a:chOff x="801720" y="1447920"/>
            <a:chExt cx="8037360" cy="4419360"/>
          </a:xfrm>
        </p:grpSpPr>
        <p:pic>
          <p:nvPicPr>
            <p:cNvPr id="1150" name="Object 2" descr=""/>
            <p:cNvPicPr/>
            <p:nvPr/>
          </p:nvPicPr>
          <p:blipFill>
            <a:blip r:embed="rId1"/>
            <a:stretch/>
          </p:blipFill>
          <p:spPr>
            <a:xfrm>
              <a:off x="801720" y="1447920"/>
              <a:ext cx="354168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Object 4" descr=""/>
            <p:cNvPicPr/>
            <p:nvPr/>
          </p:nvPicPr>
          <p:blipFill>
            <a:blip r:embed="rId2"/>
            <a:stretch/>
          </p:blipFill>
          <p:spPr>
            <a:xfrm>
              <a:off x="5297400" y="1523880"/>
              <a:ext cx="354168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Object 5" descr=""/>
            <p:cNvPicPr/>
            <p:nvPr/>
          </p:nvPicPr>
          <p:blipFill>
            <a:blip r:embed="rId3"/>
            <a:stretch/>
          </p:blipFill>
          <p:spPr>
            <a:xfrm>
              <a:off x="801720" y="3962520"/>
              <a:ext cx="354168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3" name="Object 6" descr=""/>
            <p:cNvPicPr/>
            <p:nvPr/>
          </p:nvPicPr>
          <p:blipFill>
            <a:blip r:embed="rId4"/>
            <a:stretch/>
          </p:blipFill>
          <p:spPr>
            <a:xfrm>
              <a:off x="5297400" y="3962520"/>
              <a:ext cx="3541680" cy="19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4" name="TextBox 12"/>
          <p:cNvSpPr/>
          <p:nvPr/>
        </p:nvSpPr>
        <p:spPr>
          <a:xfrm>
            <a:off x="2159280" y="114156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13"/>
          <p:cNvSpPr/>
          <p:nvPr/>
        </p:nvSpPr>
        <p:spPr>
          <a:xfrm>
            <a:off x="6673680" y="121932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ient vis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14"/>
          <p:cNvSpPr/>
          <p:nvPr/>
        </p:nvSpPr>
        <p:spPr>
          <a:xfrm>
            <a:off x="2233080" y="373392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gno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15"/>
          <p:cNvSpPr/>
          <p:nvPr/>
        </p:nvSpPr>
        <p:spPr>
          <a:xfrm>
            <a:off x="6742800" y="373392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Box 13"/>
          <p:cNvSpPr/>
          <p:nvPr/>
        </p:nvSpPr>
        <p:spPr>
          <a:xfrm>
            <a:off x="4163040" y="266688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Ada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13"/>
          <p:cNvSpPr/>
          <p:nvPr/>
        </p:nvSpPr>
        <p:spPr>
          <a:xfrm>
            <a:off x="4142160" y="2057400"/>
            <a:ext cx="96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3"/>
          <p:cNvSpPr/>
          <p:nvPr/>
        </p:nvSpPr>
        <p:spPr>
          <a:xfrm>
            <a:off x="4136040" y="157464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traight Connector 13"/>
          <p:cNvSpPr/>
          <p:nvPr/>
        </p:nvSpPr>
        <p:spPr>
          <a:xfrm flipH="1">
            <a:off x="3951360" y="1778040"/>
            <a:ext cx="304560" cy="76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traight Connector 14"/>
          <p:cNvSpPr/>
          <p:nvPr/>
        </p:nvSpPr>
        <p:spPr>
          <a:xfrm flipH="1">
            <a:off x="3963960" y="2286000"/>
            <a:ext cx="380880" cy="76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traight Connector 15"/>
          <p:cNvSpPr/>
          <p:nvPr/>
        </p:nvSpPr>
        <p:spPr>
          <a:xfrm flipH="1">
            <a:off x="3963600" y="289548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Object 4" descr="bar graph of problems, lab results, medications and vaccinations"/>
          <p:cNvPicPr/>
          <p:nvPr/>
        </p:nvPicPr>
        <p:blipFill>
          <a:blip r:embed="rId1"/>
          <a:stretch/>
        </p:blipFill>
        <p:spPr>
          <a:xfrm>
            <a:off x="725400" y="3962520"/>
            <a:ext cx="3541680" cy="1904760"/>
          </a:xfrm>
          <a:prstGeom prst="rect">
            <a:avLst/>
          </a:prstGeom>
          <a:ln w="0">
            <a:noFill/>
          </a:ln>
        </p:spPr>
      </p:pic>
      <p:grpSp>
        <p:nvGrpSpPr>
          <p:cNvPr id="1165" name=""/>
          <p:cNvGrpSpPr/>
          <p:nvPr/>
        </p:nvGrpSpPr>
        <p:grpSpPr>
          <a:xfrm>
            <a:off x="725400" y="1523880"/>
            <a:ext cx="8113680" cy="4343400"/>
            <a:chOff x="725400" y="1523880"/>
            <a:chExt cx="8113680" cy="4343400"/>
          </a:xfrm>
        </p:grpSpPr>
        <p:pic>
          <p:nvPicPr>
            <p:cNvPr id="1166" name="Object 2" descr=""/>
            <p:cNvPicPr/>
            <p:nvPr/>
          </p:nvPicPr>
          <p:blipFill>
            <a:blip r:embed="rId2"/>
            <a:stretch/>
          </p:blipFill>
          <p:spPr>
            <a:xfrm>
              <a:off x="725400" y="1523880"/>
              <a:ext cx="354168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7" name="Object 3" descr=""/>
            <p:cNvPicPr/>
            <p:nvPr/>
          </p:nvPicPr>
          <p:blipFill>
            <a:blip r:embed="rId3"/>
            <a:stretch/>
          </p:blipFill>
          <p:spPr>
            <a:xfrm>
              <a:off x="5297400" y="1600200"/>
              <a:ext cx="354168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8" name="Object 5" descr=""/>
            <p:cNvPicPr/>
            <p:nvPr/>
          </p:nvPicPr>
          <p:blipFill>
            <a:blip r:embed="rId4"/>
            <a:stretch/>
          </p:blipFill>
          <p:spPr>
            <a:xfrm>
              <a:off x="5221440" y="3962520"/>
              <a:ext cx="3541680" cy="19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9" name="TextBox 13"/>
          <p:cNvSpPr/>
          <p:nvPr/>
        </p:nvSpPr>
        <p:spPr>
          <a:xfrm>
            <a:off x="2129760" y="121932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14"/>
          <p:cNvSpPr/>
          <p:nvPr/>
        </p:nvSpPr>
        <p:spPr>
          <a:xfrm>
            <a:off x="6695640" y="124776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 resul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15"/>
          <p:cNvSpPr/>
          <p:nvPr/>
        </p:nvSpPr>
        <p:spPr>
          <a:xfrm>
            <a:off x="2102760" y="365760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16"/>
          <p:cNvSpPr/>
          <p:nvPr/>
        </p:nvSpPr>
        <p:spPr>
          <a:xfrm>
            <a:off x="6593760" y="36576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MAEHC QDC DATA COUNTS (II)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4086000" y="266688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Ada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4064400" y="2057400"/>
            <a:ext cx="96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Box 13"/>
          <p:cNvSpPr/>
          <p:nvPr/>
        </p:nvSpPr>
        <p:spPr>
          <a:xfrm>
            <a:off x="4058280" y="157464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traight Connector 14"/>
          <p:cNvSpPr/>
          <p:nvPr/>
        </p:nvSpPr>
        <p:spPr>
          <a:xfrm flipH="1">
            <a:off x="3873600" y="1778040"/>
            <a:ext cx="304560" cy="76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traight Connector 16"/>
          <p:cNvSpPr/>
          <p:nvPr/>
        </p:nvSpPr>
        <p:spPr>
          <a:xfrm flipH="1">
            <a:off x="3886200" y="2286000"/>
            <a:ext cx="380880" cy="76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traight Connector 17"/>
          <p:cNvSpPr/>
          <p:nvPr/>
        </p:nvSpPr>
        <p:spPr>
          <a:xfrm flipH="1">
            <a:off x="3885840" y="289548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0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QDC LOG-IN SCREENSHOTS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152280" y="1828800"/>
            <a:ext cx="9296640" cy="3276720"/>
            <a:chOff x="152280" y="1828800"/>
            <a:chExt cx="9296640" cy="3276720"/>
          </a:xfrm>
        </p:grpSpPr>
        <p:pic>
          <p:nvPicPr>
            <p:cNvPr id="1182" name="Picture 2" descr=""/>
            <p:cNvPicPr/>
            <p:nvPr/>
          </p:nvPicPr>
          <p:blipFill>
            <a:blip r:embed="rId1"/>
            <a:stretch/>
          </p:blipFill>
          <p:spPr>
            <a:xfrm>
              <a:off x="152280" y="1828800"/>
              <a:ext cx="4572000" cy="327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Picture 2" descr=""/>
            <p:cNvPicPr/>
            <p:nvPr/>
          </p:nvPicPr>
          <p:blipFill>
            <a:blip r:embed="rId2"/>
            <a:stretch/>
          </p:blipFill>
          <p:spPr>
            <a:xfrm>
              <a:off x="4876920" y="1836720"/>
              <a:ext cx="4572000" cy="326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990720" y="1127160"/>
            <a:ext cx="7227720" cy="5178240"/>
            <a:chOff x="990720" y="1127160"/>
            <a:chExt cx="7227720" cy="5178240"/>
          </a:xfrm>
        </p:grpSpPr>
        <p:pic>
          <p:nvPicPr>
            <p:cNvPr id="1185" name="Picture 2" descr=""/>
            <p:cNvPicPr/>
            <p:nvPr/>
          </p:nvPicPr>
          <p:blipFill>
            <a:blip r:embed="rId1"/>
            <a:stretch/>
          </p:blipFill>
          <p:spPr>
            <a:xfrm>
              <a:off x="1015920" y="1127160"/>
              <a:ext cx="3111480" cy="22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Picture 6" descr=""/>
            <p:cNvPicPr/>
            <p:nvPr/>
          </p:nvPicPr>
          <p:blipFill>
            <a:blip r:embed="rId2"/>
            <a:stretch/>
          </p:blipFill>
          <p:spPr>
            <a:xfrm>
              <a:off x="990720" y="4064040"/>
              <a:ext cx="3136680" cy="22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7" name="Picture 8" descr=""/>
            <p:cNvPicPr/>
            <p:nvPr/>
          </p:nvPicPr>
          <p:blipFill>
            <a:blip r:embed="rId3"/>
            <a:stretch/>
          </p:blipFill>
          <p:spPr>
            <a:xfrm>
              <a:off x="5029200" y="1143000"/>
              <a:ext cx="3189240" cy="22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04920" y="2710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QDC REPORT SCREENSHOTS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9" name="Rectangle 3"/>
          <p:cNvSpPr/>
          <p:nvPr/>
        </p:nvSpPr>
        <p:spPr>
          <a:xfrm>
            <a:off x="1066680" y="838080"/>
            <a:ext cx="27352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87000"/>
              </a:lnSpc>
              <a:spcBef>
                <a:spcPts val="57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er comparison report (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5029200" y="3733920"/>
            <a:ext cx="27352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87000"/>
              </a:lnSpc>
              <a:spcBef>
                <a:spcPts val="57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rill-down 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3"/>
          <p:cNvSpPr/>
          <p:nvPr/>
        </p:nvSpPr>
        <p:spPr>
          <a:xfrm>
            <a:off x="990720" y="3733920"/>
            <a:ext cx="27352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87000"/>
              </a:lnSpc>
              <a:spcBef>
                <a:spcPts val="57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enchmark summary 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Picture 9" descr="The practice manager wants to view the performance of the practice compared to other practices in the community on a given measure regardless of specialty&#13;&#10;&#13;&#10;Newburyport, Cornerstone, peer snapshot report, Q2 2008, all specialties, diabetes cholesterol test done&#13;&#10;"/>
          <p:cNvPicPr/>
          <p:nvPr/>
        </p:nvPicPr>
        <p:blipFill>
          <a:blip r:embed="rId4"/>
          <a:stretch/>
        </p:blipFill>
        <p:spPr>
          <a:xfrm>
            <a:off x="5029200" y="4038480"/>
            <a:ext cx="3200400" cy="2286000"/>
          </a:xfrm>
          <a:prstGeom prst="rect">
            <a:avLst/>
          </a:prstGeom>
          <a:ln w="0">
            <a:noFill/>
          </a:ln>
        </p:spPr>
      </p:pic>
      <p:sp>
        <p:nvSpPr>
          <p:cNvPr id="1193" name="Rectangle 3"/>
          <p:cNvSpPr/>
          <p:nvPr/>
        </p:nvSpPr>
        <p:spPr>
          <a:xfrm>
            <a:off x="5037120" y="814320"/>
            <a:ext cx="27352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87000"/>
              </a:lnSpc>
              <a:spcBef>
                <a:spcPts val="57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er comparison report (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04920" y="179280"/>
            <a:ext cx="8991360" cy="735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QUALITY DATA CENTER IS BECOMING A “PUBLIC UTILITY” </a:t>
            </a:r>
            <a:br>
              <a:rPr sz="2200"/>
            </a:b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AS WELL AS A COMMERCIAL PLATFORM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5" name="AutoShape 50"/>
          <p:cNvSpPr/>
          <p:nvPr/>
        </p:nvSpPr>
        <p:spPr>
          <a:xfrm>
            <a:off x="3505320" y="3352680"/>
            <a:ext cx="24382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6" name="Picture 1" descr="macpr_logo_300ppi"/>
          <p:cNvPicPr/>
          <p:nvPr/>
        </p:nvPicPr>
        <p:blipFill>
          <a:blip r:embed="rId1"/>
          <a:stretch/>
        </p:blipFill>
        <p:spPr>
          <a:xfrm>
            <a:off x="533520" y="5638680"/>
            <a:ext cx="1523880" cy="385920"/>
          </a:xfrm>
          <a:prstGeom prst="rect">
            <a:avLst/>
          </a:prstGeom>
          <a:ln w="0">
            <a:noFill/>
          </a:ln>
        </p:spPr>
      </p:pic>
      <p:cxnSp>
        <p:nvCxnSpPr>
          <p:cNvPr id="1197" name="Straight Arrow Connector 27"/>
          <p:cNvCxnSpPr/>
          <p:nvPr/>
        </p:nvCxnSpPr>
        <p:spPr>
          <a:xfrm>
            <a:off x="2437920" y="2437920"/>
            <a:ext cx="7628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8" name="Straight Arrow Connector 30"/>
          <p:cNvCxnSpPr/>
          <p:nvPr/>
        </p:nvCxnSpPr>
        <p:spPr>
          <a:xfrm>
            <a:off x="2361960" y="304776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9" name="Straight Arrow Connector 32"/>
          <p:cNvCxnSpPr/>
          <p:nvPr/>
        </p:nvCxnSpPr>
        <p:spPr>
          <a:xfrm>
            <a:off x="2286000" y="3809520"/>
            <a:ext cx="838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0" name="Straight Arrow Connector 34"/>
          <p:cNvCxnSpPr/>
          <p:nvPr/>
        </p:nvCxnSpPr>
        <p:spPr>
          <a:xfrm flipV="1">
            <a:off x="2286000" y="4342680"/>
            <a:ext cx="8388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1" name="Straight Arrow Connector 36"/>
          <p:cNvCxnSpPr/>
          <p:nvPr/>
        </p:nvCxnSpPr>
        <p:spPr>
          <a:xfrm flipV="1">
            <a:off x="2286000" y="4723920"/>
            <a:ext cx="991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02" name=""/>
          <p:cNvGrpSpPr/>
          <p:nvPr/>
        </p:nvGrpSpPr>
        <p:grpSpPr>
          <a:xfrm>
            <a:off x="281160" y="1752480"/>
            <a:ext cx="8939160" cy="4572000"/>
            <a:chOff x="281160" y="1752480"/>
            <a:chExt cx="8939160" cy="4572000"/>
          </a:xfrm>
        </p:grpSpPr>
        <p:pic>
          <p:nvPicPr>
            <p:cNvPr id="1203" name="Picture 58" descr="MHQP logo"/>
            <p:cNvPicPr/>
            <p:nvPr/>
          </p:nvPicPr>
          <p:blipFill>
            <a:blip r:embed="rId2"/>
            <a:stretch/>
          </p:blipFill>
          <p:spPr>
            <a:xfrm>
              <a:off x="3646440" y="3619440"/>
              <a:ext cx="6858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Picture 59" descr="MAeHC_0"/>
            <p:cNvPicPr/>
            <p:nvPr/>
          </p:nvPicPr>
          <p:blipFill>
            <a:blip r:embed="rId3"/>
            <a:stretch/>
          </p:blipFill>
          <p:spPr>
            <a:xfrm>
              <a:off x="4116240" y="3200400"/>
              <a:ext cx="11811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Picture 13" descr="MMS seal"/>
            <p:cNvPicPr/>
            <p:nvPr/>
          </p:nvPicPr>
          <p:blipFill>
            <a:blip r:embed="rId4"/>
            <a:stretch/>
          </p:blipFill>
          <p:spPr>
            <a:xfrm>
              <a:off x="4421160" y="3594240"/>
              <a:ext cx="53352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Picture 57" descr="csc_er_logo"/>
            <p:cNvPicPr/>
            <p:nvPr/>
          </p:nvPicPr>
          <p:blipFill>
            <a:blip r:embed="rId5"/>
            <a:stretch/>
          </p:blipFill>
          <p:spPr>
            <a:xfrm>
              <a:off x="5030640" y="3670200"/>
              <a:ext cx="8146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Picture 13" descr="MMS seal"/>
            <p:cNvPicPr/>
            <p:nvPr/>
          </p:nvPicPr>
          <p:blipFill>
            <a:blip r:embed="rId6"/>
            <a:stretch/>
          </p:blipFill>
          <p:spPr>
            <a:xfrm>
              <a:off x="762120" y="4419720"/>
              <a:ext cx="828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6" descr="H_BIDMC_7line_PMS2765_rgb"/>
            <p:cNvPicPr/>
            <p:nvPr/>
          </p:nvPicPr>
          <p:blipFill>
            <a:blip r:embed="rId7"/>
            <a:stretch/>
          </p:blipFill>
          <p:spPr>
            <a:xfrm>
              <a:off x="281160" y="2666880"/>
              <a:ext cx="18525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Picture 2" descr="Bridges To Excellence. Rewarding Quality Across the Healthcare System"/>
            <p:cNvPicPr/>
            <p:nvPr/>
          </p:nvPicPr>
          <p:blipFill>
            <a:blip r:embed="rId8"/>
            <a:stretch/>
          </p:blipFill>
          <p:spPr>
            <a:xfrm>
              <a:off x="380880" y="3505320"/>
              <a:ext cx="16765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Picture 5" descr=""/>
            <p:cNvPicPr/>
            <p:nvPr/>
          </p:nvPicPr>
          <p:blipFill>
            <a:blip r:embed="rId9"/>
            <a:stretch/>
          </p:blipFill>
          <p:spPr>
            <a:xfrm>
              <a:off x="762120" y="1752480"/>
              <a:ext cx="1066680" cy="65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1" name="Group 52"/>
            <p:cNvGrpSpPr/>
            <p:nvPr/>
          </p:nvGrpSpPr>
          <p:grpSpPr>
            <a:xfrm>
              <a:off x="6172200" y="2100240"/>
              <a:ext cx="3048120" cy="4224240"/>
              <a:chOff x="6172200" y="2100240"/>
              <a:chExt cx="3048120" cy="4224240"/>
            </a:xfrm>
          </p:grpSpPr>
          <p:grpSp>
            <p:nvGrpSpPr>
              <p:cNvPr id="1212" name="Group 52"/>
              <p:cNvGrpSpPr/>
              <p:nvPr/>
            </p:nvGrpSpPr>
            <p:grpSpPr>
              <a:xfrm>
                <a:off x="8687160" y="2100240"/>
                <a:ext cx="533160" cy="490320"/>
                <a:chOff x="8687160" y="2100240"/>
                <a:chExt cx="533160" cy="490320"/>
              </a:xfrm>
            </p:grpSpPr>
            <p:pic>
              <p:nvPicPr>
                <p:cNvPr id="1213" name="Picture 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687160" y="2100240"/>
                  <a:ext cx="3967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4" name="Picture 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731440" y="2152080"/>
                  <a:ext cx="40680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5" name="Picture 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776080" y="2204280"/>
                  <a:ext cx="40788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6" name="Picture 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820360" y="2256120"/>
                  <a:ext cx="399960" cy="33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cxnSp>
            <p:nvCxnSpPr>
              <p:cNvPr id="1217" name="Straight Arrow Connector 40"/>
              <p:cNvCxnSpPr/>
              <p:nvPr/>
            </p:nvCxnSpPr>
            <p:spPr>
              <a:xfrm flipV="1">
                <a:off x="6172200" y="2666160"/>
                <a:ext cx="762480" cy="68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18" name="Straight Arrow Connector 41"/>
              <p:cNvCxnSpPr/>
              <p:nvPr/>
            </p:nvCxnSpPr>
            <p:spPr>
              <a:xfrm flipV="1">
                <a:off x="6172200" y="3123720"/>
                <a:ext cx="838800" cy="45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19" name="Straight Arrow Connector 42"/>
              <p:cNvCxnSpPr/>
              <p:nvPr/>
            </p:nvCxnSpPr>
            <p:spPr>
              <a:xfrm>
                <a:off x="6172200" y="3733560"/>
                <a:ext cx="83880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20" name="Straight Arrow Connector 43"/>
              <p:cNvCxnSpPr/>
              <p:nvPr/>
            </p:nvCxnSpPr>
            <p:spPr>
              <a:xfrm>
                <a:off x="6247800" y="3962160"/>
                <a:ext cx="686520" cy="305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21" name="Straight Arrow Connector 44"/>
              <p:cNvCxnSpPr/>
              <p:nvPr/>
            </p:nvCxnSpPr>
            <p:spPr>
              <a:xfrm>
                <a:off x="6248160" y="4190400"/>
                <a:ext cx="838800" cy="1067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1222" name="Picture 13" descr="MMS seal"/>
              <p:cNvPicPr/>
              <p:nvPr/>
            </p:nvPicPr>
            <p:blipFill>
              <a:blip r:embed="rId14"/>
              <a:stretch/>
            </p:blipFill>
            <p:spPr>
              <a:xfrm>
                <a:off x="7315200" y="4343400"/>
                <a:ext cx="552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3" name="Picture 6" descr="H_BIDMC_7line_PMS2765_rgb"/>
              <p:cNvPicPr/>
              <p:nvPr/>
            </p:nvPicPr>
            <p:blipFill>
              <a:blip r:embed="rId15"/>
              <a:stretch/>
            </p:blipFill>
            <p:spPr>
              <a:xfrm>
                <a:off x="7162920" y="2895480"/>
                <a:ext cx="129528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4" name="Picture 2" descr="Bridges To Excellence. Rewarding Quality Across the Healthcare System"/>
              <p:cNvPicPr/>
              <p:nvPr/>
            </p:nvPicPr>
            <p:blipFill>
              <a:blip r:embed="rId16"/>
              <a:stretch/>
            </p:blipFill>
            <p:spPr>
              <a:xfrm>
                <a:off x="7315200" y="3657600"/>
                <a:ext cx="890640" cy="34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5" name="Picture 5" descr=""/>
              <p:cNvPicPr/>
              <p:nvPr/>
            </p:nvPicPr>
            <p:blipFill>
              <a:blip r:embed="rId17"/>
              <a:stretch/>
            </p:blipFill>
            <p:spPr>
              <a:xfrm>
                <a:off x="7467480" y="2133360"/>
                <a:ext cx="738000" cy="45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6" name="Picture 1" descr="macpr_logo_300ppi"/>
              <p:cNvPicPr/>
              <p:nvPr/>
            </p:nvPicPr>
            <p:blipFill>
              <a:blip r:embed="rId18"/>
              <a:stretch/>
            </p:blipFill>
            <p:spPr>
              <a:xfrm>
                <a:off x="7238880" y="5334120"/>
                <a:ext cx="1042920" cy="263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27" name="Group 58"/>
              <p:cNvGrpSpPr/>
              <p:nvPr/>
            </p:nvGrpSpPr>
            <p:grpSpPr>
              <a:xfrm>
                <a:off x="8687160" y="2862000"/>
                <a:ext cx="533160" cy="490320"/>
                <a:chOff x="8687160" y="2862000"/>
                <a:chExt cx="533160" cy="490320"/>
              </a:xfrm>
            </p:grpSpPr>
            <p:pic>
              <p:nvPicPr>
                <p:cNvPr id="1228" name="Picture 2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687160" y="2862000"/>
                  <a:ext cx="3967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9" name="Picture 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731440" y="2913840"/>
                  <a:ext cx="40680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0" name="Picture 9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776080" y="2966040"/>
                  <a:ext cx="40788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1" name="Picture 6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820360" y="3017880"/>
                  <a:ext cx="399960" cy="33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32" name="Group 63"/>
              <p:cNvGrpSpPr/>
              <p:nvPr/>
            </p:nvGrpSpPr>
            <p:grpSpPr>
              <a:xfrm>
                <a:off x="8458200" y="3657600"/>
                <a:ext cx="533160" cy="490320"/>
                <a:chOff x="8458200" y="3657600"/>
                <a:chExt cx="533160" cy="490320"/>
              </a:xfrm>
            </p:grpSpPr>
            <p:pic>
              <p:nvPicPr>
                <p:cNvPr id="1233" name="Picture 2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458200" y="3657600"/>
                  <a:ext cx="3967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4" name="Picture 8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502480" y="3709440"/>
                  <a:ext cx="40680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5" name="Picture 9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547120" y="3761640"/>
                  <a:ext cx="40788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6" name="Picture 6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591400" y="3813480"/>
                  <a:ext cx="399960" cy="33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37" name="Group 68"/>
              <p:cNvGrpSpPr/>
              <p:nvPr/>
            </p:nvGrpSpPr>
            <p:grpSpPr>
              <a:xfrm>
                <a:off x="8229600" y="4452840"/>
                <a:ext cx="533160" cy="488880"/>
                <a:chOff x="8229600" y="4452840"/>
                <a:chExt cx="533160" cy="488880"/>
              </a:xfrm>
            </p:grpSpPr>
            <p:pic>
              <p:nvPicPr>
                <p:cNvPr id="1238" name="Picture 2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29600" y="4452840"/>
                  <a:ext cx="396720" cy="331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9" name="Picture 8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73880" y="4504680"/>
                  <a:ext cx="406800" cy="339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0" name="Picture 9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318520" y="4556520"/>
                  <a:ext cx="40788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1" name="Picture 6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8362800" y="4608360"/>
                  <a:ext cx="399960" cy="333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42" name="Group 73"/>
              <p:cNvGrpSpPr/>
              <p:nvPr/>
            </p:nvGrpSpPr>
            <p:grpSpPr>
              <a:xfrm>
                <a:off x="8001000" y="5834160"/>
                <a:ext cx="533160" cy="490320"/>
                <a:chOff x="8001000" y="5834160"/>
                <a:chExt cx="533160" cy="490320"/>
              </a:xfrm>
            </p:grpSpPr>
            <p:pic>
              <p:nvPicPr>
                <p:cNvPr id="1243" name="Picture 2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001000" y="5834160"/>
                  <a:ext cx="3967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4" name="Picture 8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045280" y="5886000"/>
                  <a:ext cx="40680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5" name="Picture 9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089920" y="5938200"/>
                  <a:ext cx="40788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6" name="Picture 6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134200" y="5990040"/>
                  <a:ext cx="399960" cy="33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INGFUL USE INTEROPERABILITY REQUIREMENTS COULD PUSH THE ENTIRE INDUSTRY TOWARD HI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grpSp>
        <p:nvGrpSpPr>
          <p:cNvPr id="1248" name="Group 16"/>
          <p:cNvGrpSpPr/>
          <p:nvPr/>
        </p:nvGrpSpPr>
        <p:grpSpPr>
          <a:xfrm>
            <a:off x="257040" y="1836720"/>
            <a:ext cx="4224240" cy="1365120"/>
            <a:chOff x="257040" y="1836720"/>
            <a:chExt cx="4224240" cy="1365120"/>
          </a:xfrm>
        </p:grpSpPr>
        <p:sp>
          <p:nvSpPr>
            <p:cNvPr id="1249" name="Text Box 4"/>
            <p:cNvSpPr/>
            <p:nvPr/>
          </p:nvSpPr>
          <p:spPr>
            <a:xfrm>
              <a:off x="1054800" y="1836720"/>
              <a:ext cx="3426480" cy="1365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 results deliver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scrib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aims and eligibility check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y &amp; immunization reporting, if availabl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7"/>
            <p:cNvSpPr/>
            <p:nvPr/>
          </p:nvSpPr>
          <p:spPr>
            <a:xfrm>
              <a:off x="257040" y="22161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Rectangle 23"/>
          <p:cNvSpPr/>
          <p:nvPr/>
        </p:nvSpPr>
        <p:spPr>
          <a:xfrm>
            <a:off x="5132520" y="1835280"/>
            <a:ext cx="4290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347760" indent="-46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ases volume of transactions that are most commonly happening tod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4680">
              <a:lnSpc>
                <a:spcPct val="100000"/>
              </a:lnSpc>
              <a:spcAft>
                <a:spcPts val="451"/>
              </a:spcAft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b to provi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4680">
              <a:lnSpc>
                <a:spcPct val="100000"/>
              </a:lnSpc>
              <a:spcAft>
                <a:spcPts val="451"/>
              </a:spcAft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 to pharma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AutoShape 13"/>
          <p:cNvSpPr/>
          <p:nvPr/>
        </p:nvSpPr>
        <p:spPr>
          <a:xfrm rot="5400000">
            <a:off x="4507200" y="2283480"/>
            <a:ext cx="986040" cy="241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Group 17"/>
          <p:cNvGrpSpPr/>
          <p:nvPr/>
        </p:nvGrpSpPr>
        <p:grpSpPr>
          <a:xfrm>
            <a:off x="262800" y="3201840"/>
            <a:ext cx="9093600" cy="2005200"/>
            <a:chOff x="262800" y="3201840"/>
            <a:chExt cx="9093600" cy="2005200"/>
          </a:xfrm>
        </p:grpSpPr>
        <p:sp>
          <p:nvSpPr>
            <p:cNvPr id="1254" name="Text Box 5"/>
            <p:cNvSpPr/>
            <p:nvPr/>
          </p:nvSpPr>
          <p:spPr>
            <a:xfrm>
              <a:off x="1055160" y="3309840"/>
              <a:ext cx="3427200" cy="189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stry reporting and reporting to public healt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tronic order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lth summaries for continuity of car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eive public health alerts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me monitor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pulate PHR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Text Box 8"/>
            <p:cNvSpPr/>
            <p:nvPr/>
          </p:nvSpPr>
          <p:spPr>
            <a:xfrm>
              <a:off x="262800" y="39607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3"/>
            <p:cNvSpPr/>
            <p:nvPr/>
          </p:nvSpPr>
          <p:spPr>
            <a:xfrm>
              <a:off x="5212440" y="3201840"/>
              <a:ext cx="41439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90000" tIns="48240" bIns="48240" anchor="t">
              <a:noAutofit/>
            </a:bodyPr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stantially steps up exchang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r to la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rmacy to provide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hospital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offic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/office to public health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 to patien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patient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/office to reporting entiti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AutoShape 14"/>
            <p:cNvSpPr/>
            <p:nvPr/>
          </p:nvSpPr>
          <p:spPr>
            <a:xfrm rot="5400000">
              <a:off x="4507920" y="4138560"/>
              <a:ext cx="985680" cy="239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18"/>
          <p:cNvGrpSpPr/>
          <p:nvPr/>
        </p:nvGrpSpPr>
        <p:grpSpPr>
          <a:xfrm>
            <a:off x="262800" y="5326200"/>
            <a:ext cx="9093600" cy="1214280"/>
            <a:chOff x="262800" y="5326200"/>
            <a:chExt cx="9093600" cy="1214280"/>
          </a:xfrm>
        </p:grpSpPr>
        <p:sp>
          <p:nvSpPr>
            <p:cNvPr id="1259" name="Text Box 6"/>
            <p:cNvSpPr/>
            <p:nvPr/>
          </p:nvSpPr>
          <p:spPr>
            <a:xfrm>
              <a:off x="1055160" y="5326200"/>
              <a:ext cx="3427200" cy="121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ss comprehensive data from all available sourc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erience of care report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dical device interoperabil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Text Box 9"/>
            <p:cNvSpPr/>
            <p:nvPr/>
          </p:nvSpPr>
          <p:spPr>
            <a:xfrm>
              <a:off x="262800" y="56736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23"/>
            <p:cNvSpPr/>
            <p:nvPr/>
          </p:nvSpPr>
          <p:spPr>
            <a:xfrm>
              <a:off x="5212440" y="5554800"/>
              <a:ext cx="41439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90000" tIns="48240" bIns="48240" anchor="t">
              <a:noAutofit/>
            </a:bodyPr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s to envision routine availability of relatively rich exchange transaction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“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yone to anyone”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ient to reporting entiti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AutoShape 15"/>
            <p:cNvSpPr/>
            <p:nvPr/>
          </p:nvSpPr>
          <p:spPr>
            <a:xfrm rot="5400000">
              <a:off x="4507920" y="5851440"/>
              <a:ext cx="985680" cy="239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Text Box 11"/>
          <p:cNvSpPr/>
          <p:nvPr/>
        </p:nvSpPr>
        <p:spPr>
          <a:xfrm>
            <a:off x="267840" y="1303200"/>
            <a:ext cx="46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aningful Use objectives requiring health exchan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9296640" cy="735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ING INFRASTRUCTURE TO FACILITATE MEANINGFUL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3"/>
          <p:cNvSpPr/>
          <p:nvPr/>
        </p:nvSpPr>
        <p:spPr>
          <a:xfrm>
            <a:off x="685800" y="1066680"/>
            <a:ext cx="3579840" cy="49716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al Health I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nsion Cen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4"/>
          <p:cNvSpPr/>
          <p:nvPr/>
        </p:nvSpPr>
        <p:spPr>
          <a:xfrm>
            <a:off x="685800" y="1563840"/>
            <a:ext cx="3579840" cy="483696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n-profit implementation assistance organizations to facilitate meaningful use among “priority primary care providers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 will be set up across the count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cycles of fund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2/09, 4/10, 9/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wards of $1M to $30M – does NOT pay for hardware, software, or interfa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t commit to getting at least 1000 priority PCPs to meaningful use in 2 yea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ching funds requir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ears 1 &amp; 2:  10%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ears 3 &amp; 4:  90%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3"/>
          <p:cNvSpPr/>
          <p:nvPr/>
        </p:nvSpPr>
        <p:spPr>
          <a:xfrm>
            <a:off x="5259240" y="1066680"/>
            <a:ext cx="3579840" cy="49716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-level H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4"/>
          <p:cNvSpPr/>
          <p:nvPr/>
        </p:nvSpPr>
        <p:spPr>
          <a:xfrm>
            <a:off x="5259240" y="1563840"/>
            <a:ext cx="3579840" cy="483696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ch state given planning and implementation grants to implement HI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 awards across the count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wards announced 12/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wards of $4M to $40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d by States or non-profit state-designated entities (SD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t implement state plans aligned with federal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te-level directo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ligibility and clai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RX &amp; medication histo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b ordering and resul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 health repor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ality repor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summary exchang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ching funds requir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Y 2010:  0%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Y 2011:  10%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Y 2012:  25%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Y 2013:  12.5%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Box 60"/>
          <p:cNvSpPr/>
          <p:nvPr/>
        </p:nvSpPr>
        <p:spPr>
          <a:xfrm>
            <a:off x="6018120" y="720720"/>
            <a:ext cx="20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64 mill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60"/>
          <p:cNvSpPr/>
          <p:nvPr/>
        </p:nvSpPr>
        <p:spPr>
          <a:xfrm>
            <a:off x="1371600" y="728640"/>
            <a:ext cx="20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98 mill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04920" y="2136600"/>
            <a:ext cx="8991360" cy="3368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http:/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maehc.or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Micky Tripathi, PhD MPP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President &amp; CEO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mtripathi@maehc.org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781-434-7905</a:t>
            </a:r>
            <a:endParaRPr b="1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72" name="Picture 3" descr="MAeHC logo"/>
          <p:cNvPicPr/>
          <p:nvPr/>
        </p:nvPicPr>
        <p:blipFill>
          <a:blip r:embed="rId1"/>
          <a:stretch/>
        </p:blipFill>
        <p:spPr>
          <a:xfrm>
            <a:off x="2438280" y="1085760"/>
            <a:ext cx="495324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991360" cy="728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ROOTS ARE IN MOVEMENT TO IMPROVE QUALITY, SAFETY, EFFICIENCY OF C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Group 5"/>
          <p:cNvGrpSpPr/>
          <p:nvPr/>
        </p:nvGrpSpPr>
        <p:grpSpPr>
          <a:xfrm>
            <a:off x="3962520" y="2362320"/>
            <a:ext cx="4647960" cy="2886120"/>
            <a:chOff x="3962520" y="2362320"/>
            <a:chExt cx="4647960" cy="2886120"/>
          </a:xfrm>
        </p:grpSpPr>
        <p:sp>
          <p:nvSpPr>
            <p:cNvPr id="979" name="AutoShape 6"/>
            <p:cNvSpPr/>
            <p:nvPr/>
          </p:nvSpPr>
          <p:spPr>
            <a:xfrm rot="5400000">
              <a:off x="2781000" y="3610080"/>
              <a:ext cx="2819520" cy="45720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7"/>
            <p:cNvSpPr/>
            <p:nvPr/>
          </p:nvSpPr>
          <p:spPr>
            <a:xfrm>
              <a:off x="4952880" y="3114720"/>
              <a:ext cx="365760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any launched September 200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11412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profit registered in the State of Massachusett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O on board January 200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ed by broad array of 34 MA health care stakeholder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1" name="Picture 8" descr="MAeHC_0"/>
            <p:cNvPicPr/>
            <p:nvPr/>
          </p:nvPicPr>
          <p:blipFill>
            <a:blip r:embed="rId1"/>
            <a:stretch/>
          </p:blipFill>
          <p:spPr>
            <a:xfrm>
              <a:off x="5181480" y="2362320"/>
              <a:ext cx="2743200" cy="67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2" name="Picture 9" descr="Blue Cross BlueShield logo"/>
          <p:cNvPicPr/>
          <p:nvPr/>
        </p:nvPicPr>
        <p:blipFill>
          <a:blip r:embed="rId2"/>
          <a:srcRect l="3277" t="0" r="6555" b="5452"/>
          <a:stretch/>
        </p:blipFill>
        <p:spPr>
          <a:xfrm>
            <a:off x="1488960" y="2666880"/>
            <a:ext cx="1382760" cy="15703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0" descr="ACP logo"/>
          <p:cNvPicPr/>
          <p:nvPr/>
        </p:nvPicPr>
        <p:blipFill>
          <a:blip r:embed="rId3"/>
          <a:stretch/>
        </p:blipFill>
        <p:spPr>
          <a:xfrm>
            <a:off x="1403280" y="1371600"/>
            <a:ext cx="1568520" cy="8128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3" descr="MMS seal"/>
          <p:cNvPicPr/>
          <p:nvPr/>
        </p:nvPicPr>
        <p:blipFill>
          <a:blip r:embed="rId4"/>
          <a:stretch/>
        </p:blipFill>
        <p:spPr>
          <a:xfrm>
            <a:off x="1371600" y="4784760"/>
            <a:ext cx="1676520" cy="13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ARCHITECTURE AND DATA FLOWS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986" name="Group 3"/>
          <p:cNvGrpSpPr/>
          <p:nvPr/>
        </p:nvGrpSpPr>
        <p:grpSpPr>
          <a:xfrm>
            <a:off x="380880" y="3352680"/>
            <a:ext cx="7570800" cy="1600200"/>
            <a:chOff x="380880" y="3352680"/>
            <a:chExt cx="7570800" cy="1600200"/>
          </a:xfrm>
        </p:grpSpPr>
        <p:sp>
          <p:nvSpPr>
            <p:cNvPr id="987" name="AutoShape 4"/>
            <p:cNvSpPr/>
            <p:nvPr/>
          </p:nvSpPr>
          <p:spPr>
            <a:xfrm>
              <a:off x="40608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AutoShape 5"/>
            <p:cNvSpPr/>
            <p:nvPr/>
          </p:nvSpPr>
          <p:spPr>
            <a:xfrm>
              <a:off x="54324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AutoShape 6"/>
            <p:cNvSpPr/>
            <p:nvPr/>
          </p:nvSpPr>
          <p:spPr>
            <a:xfrm>
              <a:off x="68040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7"/>
            <p:cNvSpPr/>
            <p:nvPr/>
          </p:nvSpPr>
          <p:spPr>
            <a:xfrm flipV="1">
              <a:off x="4114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8"/>
            <p:cNvSpPr/>
            <p:nvPr/>
          </p:nvSpPr>
          <p:spPr>
            <a:xfrm flipV="1">
              <a:off x="4495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9"/>
            <p:cNvSpPr/>
            <p:nvPr/>
          </p:nvSpPr>
          <p:spPr>
            <a:xfrm flipV="1">
              <a:off x="4876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10"/>
            <p:cNvSpPr/>
            <p:nvPr/>
          </p:nvSpPr>
          <p:spPr>
            <a:xfrm flipV="1">
              <a:off x="5257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11"/>
            <p:cNvSpPr/>
            <p:nvPr/>
          </p:nvSpPr>
          <p:spPr>
            <a:xfrm flipV="1">
              <a:off x="5638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12"/>
            <p:cNvSpPr/>
            <p:nvPr/>
          </p:nvSpPr>
          <p:spPr>
            <a:xfrm flipV="1">
              <a:off x="6019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13"/>
            <p:cNvSpPr/>
            <p:nvPr/>
          </p:nvSpPr>
          <p:spPr>
            <a:xfrm flipV="1">
              <a:off x="6400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Line 14"/>
            <p:cNvSpPr/>
            <p:nvPr/>
          </p:nvSpPr>
          <p:spPr>
            <a:xfrm flipV="1">
              <a:off x="6781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15"/>
            <p:cNvSpPr/>
            <p:nvPr/>
          </p:nvSpPr>
          <p:spPr>
            <a:xfrm flipV="1">
              <a:off x="7162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16"/>
            <p:cNvSpPr/>
            <p:nvPr/>
          </p:nvSpPr>
          <p:spPr>
            <a:xfrm flipV="1">
              <a:off x="7543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17"/>
            <p:cNvSpPr/>
            <p:nvPr/>
          </p:nvSpPr>
          <p:spPr>
            <a:xfrm flipV="1">
              <a:off x="7924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1" name="Picture 18" descr=""/>
            <p:cNvPicPr/>
            <p:nvPr/>
          </p:nvPicPr>
          <p:blipFill>
            <a:blip r:embed="rId1"/>
            <a:srcRect l="0" t="13383" r="71618" b="39343"/>
            <a:stretch/>
          </p:blipFill>
          <p:spPr>
            <a:xfrm>
              <a:off x="4191120" y="3624120"/>
              <a:ext cx="7761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Picture 19" descr=""/>
            <p:cNvPicPr/>
            <p:nvPr/>
          </p:nvPicPr>
          <p:blipFill>
            <a:blip r:embed="rId2"/>
            <a:srcRect l="0" t="13383" r="71618" b="39343"/>
            <a:stretch/>
          </p:blipFill>
          <p:spPr>
            <a:xfrm>
              <a:off x="5613480" y="3633840"/>
              <a:ext cx="7761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Picture 20" descr=""/>
            <p:cNvPicPr/>
            <p:nvPr/>
          </p:nvPicPr>
          <p:blipFill>
            <a:blip r:embed="rId3"/>
            <a:srcRect l="0" t="0" r="16112" b="8978"/>
            <a:stretch/>
          </p:blipFill>
          <p:spPr>
            <a:xfrm>
              <a:off x="6935760" y="3657600"/>
              <a:ext cx="94140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Rectangle 21"/>
            <p:cNvSpPr/>
            <p:nvPr/>
          </p:nvSpPr>
          <p:spPr>
            <a:xfrm>
              <a:off x="4114800" y="4191120"/>
              <a:ext cx="111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ckt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22"/>
            <p:cNvSpPr/>
            <p:nvPr/>
          </p:nvSpPr>
          <p:spPr>
            <a:xfrm>
              <a:off x="5388120" y="4191120"/>
              <a:ext cx="11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buryport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3"/>
            <p:cNvSpPr/>
            <p:nvPr/>
          </p:nvSpPr>
          <p:spPr>
            <a:xfrm>
              <a:off x="6759720" y="4191120"/>
              <a:ext cx="119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th Adams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24"/>
            <p:cNvSpPr/>
            <p:nvPr/>
          </p:nvSpPr>
          <p:spPr>
            <a:xfrm>
              <a:off x="380880" y="3601080"/>
              <a:ext cx="2057400" cy="520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Community-level: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HI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>
              <a:off x="380880" y="4724280"/>
              <a:ext cx="3048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utoShape 26"/>
            <p:cNvSpPr/>
            <p:nvPr/>
          </p:nvSpPr>
          <p:spPr>
            <a:xfrm rot="5400000">
              <a:off x="2366640" y="3727440"/>
              <a:ext cx="523800" cy="228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Group 27"/>
          <p:cNvGrpSpPr/>
          <p:nvPr/>
        </p:nvGrpSpPr>
        <p:grpSpPr>
          <a:xfrm>
            <a:off x="380880" y="838080"/>
            <a:ext cx="9068040" cy="1067040"/>
            <a:chOff x="380880" y="838080"/>
            <a:chExt cx="9068040" cy="1067040"/>
          </a:xfrm>
        </p:grpSpPr>
        <p:sp>
          <p:nvSpPr>
            <p:cNvPr id="1011" name="Rectangle 28"/>
            <p:cNvSpPr/>
            <p:nvPr/>
          </p:nvSpPr>
          <p:spPr>
            <a:xfrm>
              <a:off x="4038480" y="83808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comes analysi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29"/>
            <p:cNvSpPr/>
            <p:nvPr/>
          </p:nvSpPr>
          <p:spPr>
            <a:xfrm>
              <a:off x="5486400" y="914400"/>
              <a:ext cx="162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nchmarking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Text Box 30"/>
            <p:cNvSpPr/>
            <p:nvPr/>
          </p:nvSpPr>
          <p:spPr>
            <a:xfrm>
              <a:off x="380880" y="854640"/>
              <a:ext cx="2057400" cy="520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MAeHC-level: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Analysi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31"/>
            <p:cNvSpPr/>
            <p:nvPr/>
          </p:nvSpPr>
          <p:spPr>
            <a:xfrm rot="5400000">
              <a:off x="2366280" y="985680"/>
              <a:ext cx="524160" cy="228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32"/>
            <p:cNvSpPr/>
            <p:nvPr/>
          </p:nvSpPr>
          <p:spPr>
            <a:xfrm>
              <a:off x="380880" y="1752480"/>
              <a:ext cx="3048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33"/>
            <p:cNvSpPr/>
            <p:nvPr/>
          </p:nvSpPr>
          <p:spPr>
            <a:xfrm flipH="1" flipV="1">
              <a:off x="5257800" y="1459080"/>
              <a:ext cx="587520" cy="326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34"/>
            <p:cNvSpPr/>
            <p:nvPr/>
          </p:nvSpPr>
          <p:spPr>
            <a:xfrm flipV="1">
              <a:off x="6116760" y="1371240"/>
              <a:ext cx="207720" cy="414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35"/>
            <p:cNvSpPr/>
            <p:nvPr/>
          </p:nvSpPr>
          <p:spPr>
            <a:xfrm>
              <a:off x="7362720" y="990720"/>
              <a:ext cx="2086200" cy="9144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Negotiated reporting to plan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457200" indent="-114120" algn="ctr">
                <a:lnSpc>
                  <a:spcPct val="100000"/>
                </a:lnSpc>
                <a:buClr>
                  <a:srgbClr val="a6a6a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P4P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457200" indent="-114120" algn="ctr">
                <a:lnSpc>
                  <a:spcPct val="100000"/>
                </a:lnSpc>
                <a:buClr>
                  <a:srgbClr val="a6a6a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Chart review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1141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36"/>
            <p:cNvSpPr/>
            <p:nvPr/>
          </p:nvSpPr>
          <p:spPr>
            <a:xfrm flipV="1">
              <a:off x="6400800" y="1523880"/>
              <a:ext cx="914400" cy="2620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60"/>
          <p:cNvGrpSpPr/>
          <p:nvPr/>
        </p:nvGrpSpPr>
        <p:grpSpPr>
          <a:xfrm>
            <a:off x="380880" y="1905120"/>
            <a:ext cx="6934320" cy="1567800"/>
            <a:chOff x="380880" y="1905120"/>
            <a:chExt cx="6934320" cy="1567800"/>
          </a:xfrm>
        </p:grpSpPr>
        <p:grpSp>
          <p:nvGrpSpPr>
            <p:cNvPr id="1021" name="Group 48"/>
            <p:cNvGrpSpPr/>
            <p:nvPr/>
          </p:nvGrpSpPr>
          <p:grpSpPr>
            <a:xfrm>
              <a:off x="380880" y="1905120"/>
              <a:ext cx="6934320" cy="1567800"/>
              <a:chOff x="380880" y="1905120"/>
              <a:chExt cx="6934320" cy="1567800"/>
            </a:xfrm>
          </p:grpSpPr>
          <p:grpSp>
            <p:nvGrpSpPr>
              <p:cNvPr id="1022" name="Group 49"/>
              <p:cNvGrpSpPr/>
              <p:nvPr/>
            </p:nvGrpSpPr>
            <p:grpSpPr>
              <a:xfrm>
                <a:off x="380880" y="2057400"/>
                <a:ext cx="6934320" cy="1415520"/>
                <a:chOff x="380880" y="2057400"/>
                <a:chExt cx="6934320" cy="1415520"/>
              </a:xfrm>
            </p:grpSpPr>
            <p:sp>
              <p:nvSpPr>
                <p:cNvPr id="1023" name="AutoShape 50"/>
                <p:cNvSpPr/>
                <p:nvPr/>
              </p:nvSpPr>
              <p:spPr>
                <a:xfrm>
                  <a:off x="4876920" y="2057400"/>
                  <a:ext cx="2438280" cy="76212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51"/>
                <p:cNvSpPr/>
                <p:nvPr/>
              </p:nvSpPr>
              <p:spPr>
                <a:xfrm flipV="1">
                  <a:off x="4648320" y="2971800"/>
                  <a:ext cx="1066680" cy="457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52"/>
                <p:cNvSpPr/>
                <p:nvPr/>
              </p:nvSpPr>
              <p:spPr>
                <a:xfrm flipH="1" flipV="1">
                  <a:off x="6248160" y="2971800"/>
                  <a:ext cx="1066680" cy="457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53"/>
                <p:cNvSpPr/>
                <p:nvPr/>
              </p:nvSpPr>
              <p:spPr>
                <a:xfrm flipV="1">
                  <a:off x="5997600" y="2993760"/>
                  <a:ext cx="0" cy="479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Text Box 54"/>
                <p:cNvSpPr/>
                <p:nvPr/>
              </p:nvSpPr>
              <p:spPr>
                <a:xfrm>
                  <a:off x="380880" y="2083320"/>
                  <a:ext cx="2057400" cy="520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 anchorCtr="1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MAeHC-level: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QDC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AutoShape 55"/>
                <p:cNvSpPr/>
                <p:nvPr/>
              </p:nvSpPr>
              <p:spPr>
                <a:xfrm rot="5400000">
                  <a:off x="2366280" y="2214360"/>
                  <a:ext cx="52416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99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56"/>
                <p:cNvSpPr/>
                <p:nvPr/>
              </p:nvSpPr>
              <p:spPr>
                <a:xfrm>
                  <a:off x="380880" y="3124080"/>
                  <a:ext cx="304812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30" name="Picture 58" descr="MHQP logo"/>
              <p:cNvPicPr/>
              <p:nvPr/>
            </p:nvPicPr>
            <p:blipFill>
              <a:blip r:embed="rId4"/>
              <a:stretch/>
            </p:blipFill>
            <p:spPr>
              <a:xfrm>
                <a:off x="5018040" y="2324160"/>
                <a:ext cx="6858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Picture 59" descr="MAeHC_0"/>
              <p:cNvPicPr/>
              <p:nvPr/>
            </p:nvPicPr>
            <p:blipFill>
              <a:blip r:embed="rId5"/>
              <a:stretch/>
            </p:blipFill>
            <p:spPr>
              <a:xfrm>
                <a:off x="5487840" y="1905120"/>
                <a:ext cx="1181160" cy="291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32" name="Picture 13" descr="MMS seal"/>
            <p:cNvPicPr/>
            <p:nvPr/>
          </p:nvPicPr>
          <p:blipFill>
            <a:blip r:embed="rId6"/>
            <a:stretch/>
          </p:blipFill>
          <p:spPr>
            <a:xfrm>
              <a:off x="5792760" y="2298600"/>
              <a:ext cx="533160" cy="4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Picture 57" descr="csc_er_logo"/>
            <p:cNvPicPr/>
            <p:nvPr/>
          </p:nvPicPr>
          <p:blipFill>
            <a:blip r:embed="rId7"/>
            <a:stretch/>
          </p:blipFill>
          <p:spPr>
            <a:xfrm>
              <a:off x="6402600" y="2374920"/>
              <a:ext cx="8143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4" name="Group 62"/>
          <p:cNvGrpSpPr/>
          <p:nvPr/>
        </p:nvGrpSpPr>
        <p:grpSpPr>
          <a:xfrm>
            <a:off x="380880" y="5168880"/>
            <a:ext cx="7848720" cy="1079640"/>
            <a:chOff x="380880" y="5168880"/>
            <a:chExt cx="7848720" cy="1079640"/>
          </a:xfrm>
        </p:grpSpPr>
        <p:grpSp>
          <p:nvGrpSpPr>
            <p:cNvPr id="1035" name="Group 37"/>
            <p:cNvGrpSpPr/>
            <p:nvPr/>
          </p:nvGrpSpPr>
          <p:grpSpPr>
            <a:xfrm>
              <a:off x="380880" y="5168880"/>
              <a:ext cx="7848720" cy="1079640"/>
              <a:chOff x="380880" y="5168880"/>
              <a:chExt cx="7848720" cy="1079640"/>
            </a:xfrm>
          </p:grpSpPr>
          <p:sp>
            <p:nvSpPr>
              <p:cNvPr id="1036" name="Text Box 38"/>
              <p:cNvSpPr/>
              <p:nvPr/>
            </p:nvSpPr>
            <p:spPr>
              <a:xfrm>
                <a:off x="380880" y="5414040"/>
                <a:ext cx="2057400" cy="5202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66"/>
                    </a:solidFill>
                    <a:latin typeface="Arial"/>
                  </a:rPr>
                  <a:t>Provider-level: 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66"/>
                    </a:solidFill>
                    <a:latin typeface="Arial"/>
                  </a:rPr>
                  <a:t>EHR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AutoShape 39"/>
              <p:cNvSpPr/>
              <p:nvPr/>
            </p:nvSpPr>
            <p:spPr>
              <a:xfrm rot="5400000">
                <a:off x="2366640" y="5545080"/>
                <a:ext cx="5238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Rectangle 40"/>
              <p:cNvSpPr/>
              <p:nvPr/>
            </p:nvSpPr>
            <p:spPr>
              <a:xfrm>
                <a:off x="3809880" y="5168880"/>
                <a:ext cx="4419720" cy="10796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9" name="Picture 41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6920" y="5291280"/>
                <a:ext cx="1228680" cy="28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Picture 42" descr=""/>
              <p:cNvPicPr/>
              <p:nvPr/>
            </p:nvPicPr>
            <p:blipFill>
              <a:blip r:embed="rId9"/>
              <a:stretch/>
            </p:blipFill>
            <p:spPr>
              <a:xfrm>
                <a:off x="3962520" y="5310360"/>
                <a:ext cx="685800" cy="2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Picture 43" descr=""/>
              <p:cNvPicPr/>
              <p:nvPr/>
            </p:nvPicPr>
            <p:blipFill>
              <a:blip r:embed="rId10"/>
              <a:srcRect l="0" t="0" r="16085" b="8328"/>
              <a:stretch/>
            </p:blipFill>
            <p:spPr>
              <a:xfrm>
                <a:off x="6934320" y="5291280"/>
                <a:ext cx="11430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Picture 44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57960" y="5257800"/>
                <a:ext cx="34776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Picture 46" descr="e-MDs - Integrated Electronic Medical Record and Practice Management Software"/>
              <p:cNvPicPr/>
              <p:nvPr/>
            </p:nvPicPr>
            <p:blipFill>
              <a:blip r:embed="rId12"/>
              <a:stretch/>
            </p:blipFill>
            <p:spPr>
              <a:xfrm>
                <a:off x="5672160" y="5867280"/>
                <a:ext cx="71280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Picture 47" descr=""/>
              <p:cNvPicPr/>
              <p:nvPr/>
            </p:nvPicPr>
            <p:blipFill>
              <a:blip r:embed="rId13"/>
              <a:srcRect l="0" t="11458" r="71878" b="82296"/>
              <a:stretch/>
            </p:blipFill>
            <p:spPr>
              <a:xfrm>
                <a:off x="6581880" y="5848200"/>
                <a:ext cx="13716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5" name="Picture 2" descr="Hill Associates Healthcare Management Systems"/>
            <p:cNvPicPr/>
            <p:nvPr/>
          </p:nvPicPr>
          <p:blipFill>
            <a:blip r:embed="rId14"/>
            <a:srcRect l="56914" t="0" r="0" b="0"/>
            <a:stretch/>
          </p:blipFill>
          <p:spPr>
            <a:xfrm>
              <a:off x="4190760" y="5638680"/>
              <a:ext cx="914400" cy="46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06080" y="304560"/>
            <a:ext cx="899172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LITY MEASURES DON’T HAPPEN, THEY GET DO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AutoShape 5"/>
          <p:cNvSpPr/>
          <p:nvPr/>
        </p:nvSpPr>
        <p:spPr>
          <a:xfrm>
            <a:off x="685800" y="18288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Chevron 3"/>
          <p:cNvSpPr/>
          <p:nvPr/>
        </p:nvSpPr>
        <p:spPr>
          <a:xfrm>
            <a:off x="719280" y="2193840"/>
            <a:ext cx="8067600" cy="376200"/>
          </a:xfrm>
          <a:custGeom>
            <a:avLst/>
            <a:gdLst>
              <a:gd name="textAreaLeft" fmla="*/ 0 w 8067600"/>
              <a:gd name="textAreaRight" fmla="*/ 8067960 w 80676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38" y="0"/>
                </a:lnTo>
                <a:lnTo>
                  <a:pt x="21600" y="10800"/>
                </a:lnTo>
                <a:lnTo>
                  <a:pt x="21438" y="21600"/>
                </a:lnTo>
                <a:lnTo>
                  <a:pt x="0" y="21600"/>
                </a:lnTo>
                <a:lnTo>
                  <a:pt x="16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all project manage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Chevron 4"/>
          <p:cNvSpPr/>
          <p:nvPr/>
        </p:nvSpPr>
        <p:spPr>
          <a:xfrm>
            <a:off x="185580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6" y="0"/>
                </a:lnTo>
                <a:lnTo>
                  <a:pt x="21600" y="10800"/>
                </a:lnTo>
                <a:lnTo>
                  <a:pt x="19096" y="21600"/>
                </a:lnTo>
                <a:lnTo>
                  <a:pt x="0" y="21600"/>
                </a:lnTo>
                <a:lnTo>
                  <a:pt x="2504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diness assessment &amp; plann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Chevron 5"/>
          <p:cNvSpPr/>
          <p:nvPr/>
        </p:nvSpPr>
        <p:spPr>
          <a:xfrm>
            <a:off x="301788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actice transformatio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amp; workflow plann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Chevron 6"/>
          <p:cNvSpPr/>
          <p:nvPr/>
        </p:nvSpPr>
        <p:spPr>
          <a:xfrm>
            <a:off x="417672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deployment &amp;      Implement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Chevron 7"/>
          <p:cNvSpPr/>
          <p:nvPr/>
        </p:nvSpPr>
        <p:spPr>
          <a:xfrm>
            <a:off x="765504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-   implementation sup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Chevron 8"/>
          <p:cNvSpPr/>
          <p:nvPr/>
        </p:nvSpPr>
        <p:spPr>
          <a:xfrm>
            <a:off x="533556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ing, decision support, and performance measuremen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Chevron 10"/>
          <p:cNvSpPr/>
          <p:nvPr/>
        </p:nvSpPr>
        <p:spPr>
          <a:xfrm>
            <a:off x="649620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-operating with internal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external syste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16"/>
          <p:cNvSpPr/>
          <p:nvPr/>
        </p:nvSpPr>
        <p:spPr>
          <a:xfrm>
            <a:off x="685800" y="1828800"/>
            <a:ext cx="589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llustrative EHR Implementation Value Ch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Chevron 12"/>
          <p:cNvSpPr/>
          <p:nvPr/>
        </p:nvSpPr>
        <p:spPr>
          <a:xfrm>
            <a:off x="69696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6" y="0"/>
                </a:lnTo>
                <a:lnTo>
                  <a:pt x="21600" y="10800"/>
                </a:lnTo>
                <a:lnTo>
                  <a:pt x="19096" y="21600"/>
                </a:lnTo>
                <a:lnTo>
                  <a:pt x="0" y="21600"/>
                </a:lnTo>
                <a:lnTo>
                  <a:pt x="2504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ndor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act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managemen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11"/>
          <p:cNvSpPr/>
          <p:nvPr/>
        </p:nvSpPr>
        <p:spPr>
          <a:xfrm>
            <a:off x="1600200" y="464832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ps at any point along the way will undermine ado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Down Arrow 125"/>
          <p:cNvSpPr/>
          <p:nvPr/>
        </p:nvSpPr>
        <p:spPr>
          <a:xfrm>
            <a:off x="4343400" y="3886200"/>
            <a:ext cx="83808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 SO MANY PHYSICIANS OFFICES LOOK LIKE THIS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Picture 3" descr="woman at desk"/>
          <p:cNvPicPr/>
          <p:nvPr/>
        </p:nvPicPr>
        <p:blipFill>
          <a:blip r:embed="rId1"/>
          <a:stretch/>
        </p:blipFill>
        <p:spPr>
          <a:xfrm>
            <a:off x="3276720" y="1523880"/>
            <a:ext cx="3581280" cy="4770720"/>
          </a:xfrm>
          <a:prstGeom prst="rect">
            <a:avLst/>
          </a:prstGeom>
          <a:ln w="0">
            <a:noFill/>
          </a:ln>
        </p:spPr>
      </p:pic>
      <p:sp>
        <p:nvSpPr>
          <p:cNvPr id="1061" name="AutoShape 4"/>
          <p:cNvSpPr/>
          <p:nvPr/>
        </p:nvSpPr>
        <p:spPr>
          <a:xfrm>
            <a:off x="7356600" y="3733920"/>
            <a:ext cx="2160360" cy="1523880"/>
          </a:xfrm>
          <a:prstGeom prst="wedgeEllipseCallout">
            <a:avLst>
              <a:gd name="adj1" fmla="val -67976"/>
              <a:gd name="adj2" fmla="val -3520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ier just dropped off mo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5"/>
          <p:cNvSpPr/>
          <p:nvPr/>
        </p:nvSpPr>
        <p:spPr>
          <a:xfrm>
            <a:off x="6477120" y="228600"/>
            <a:ext cx="2639880" cy="1911240"/>
          </a:xfrm>
          <a:prstGeom prst="wedgeEllipseCallout">
            <a:avLst>
              <a:gd name="adj1" fmla="val -122601"/>
              <a:gd name="adj2" fmla="val 12350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cription refill request on fax mach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igh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the joke of the da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6"/>
          <p:cNvSpPr/>
          <p:nvPr/>
        </p:nvSpPr>
        <p:spPr>
          <a:xfrm>
            <a:off x="7116840" y="2666880"/>
            <a:ext cx="2079720" cy="728640"/>
          </a:xfrm>
          <a:prstGeom prst="wedgeEllipseCallout">
            <a:avLst>
              <a:gd name="adj1" fmla="val -117069"/>
              <a:gd name="adj2" fmla="val 8834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opened m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7"/>
          <p:cNvSpPr/>
          <p:nvPr/>
        </p:nvSpPr>
        <p:spPr>
          <a:xfrm>
            <a:off x="639720" y="2066760"/>
            <a:ext cx="2320920" cy="1143000"/>
          </a:xfrm>
          <a:prstGeom prst="wedgeEllipseCallout">
            <a:avLst>
              <a:gd name="adj1" fmla="val 65157"/>
              <a:gd name="adj2" fmla="val 8527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ter with results from one la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8"/>
          <p:cNvSpPr/>
          <p:nvPr/>
        </p:nvSpPr>
        <p:spPr>
          <a:xfrm>
            <a:off x="1440000" y="590400"/>
            <a:ext cx="2239920" cy="1371600"/>
          </a:xfrm>
          <a:prstGeom prst="wedgeEllipseCallout">
            <a:avLst>
              <a:gd name="adj1" fmla="val 68152"/>
              <a:gd name="adj2" fmla="val 1312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y Sally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ere is Mrs. Jones x-ray?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9"/>
          <p:cNvSpPr/>
          <p:nvPr/>
        </p:nvSpPr>
        <p:spPr>
          <a:xfrm>
            <a:off x="1200240" y="4343400"/>
            <a:ext cx="1839960" cy="768240"/>
          </a:xfrm>
          <a:prstGeom prst="wedgeEllipseCallout">
            <a:avLst>
              <a:gd name="adj1" fmla="val 119564"/>
              <a:gd name="adj2" fmla="val -1156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orted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11"/>
          <p:cNvSpPr/>
          <p:nvPr/>
        </p:nvSpPr>
        <p:spPr>
          <a:xfrm>
            <a:off x="479520" y="5486400"/>
            <a:ext cx="1920960" cy="1219320"/>
          </a:xfrm>
          <a:prstGeom prst="wedgeEllipseCallout">
            <a:avLst>
              <a:gd name="adj1" fmla="val 207291"/>
              <a:gd name="adj2" fmla="val -11106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to ring with stat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12"/>
          <p:cNvSpPr/>
          <p:nvPr/>
        </p:nvSpPr>
        <p:spPr>
          <a:xfrm>
            <a:off x="7277040" y="5334120"/>
            <a:ext cx="2079720" cy="1143000"/>
          </a:xfrm>
          <a:prstGeom prst="wedgeEllipseCallout">
            <a:avLst>
              <a:gd name="adj1" fmla="val -134856"/>
              <a:gd name="adj2" fmla="val -4180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portal (from one hospita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77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NICAL USE OF DEPLOYED EHRs</a:t>
            </a:r>
            <a:br>
              <a:rPr sz="2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of Encounters Documented Clinically in EHRs (Q2 2006 – Q2 2008)</a:t>
            </a:r>
            <a:endParaRPr b="1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70" name="Object 3" descr="bar graph of clinical use of deployed EHRs"/>
          <p:cNvPicPr/>
          <p:nvPr/>
        </p:nvPicPr>
        <p:blipFill>
          <a:blip r:embed="rId1"/>
          <a:stretch/>
        </p:blipFill>
        <p:spPr>
          <a:xfrm>
            <a:off x="998640" y="1219320"/>
            <a:ext cx="7535880" cy="49784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27"/>
          <p:cNvSpPr/>
          <p:nvPr/>
        </p:nvSpPr>
        <p:spPr>
          <a:xfrm>
            <a:off x="221652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27"/>
          <p:cNvSpPr/>
          <p:nvPr/>
        </p:nvSpPr>
        <p:spPr>
          <a:xfrm>
            <a:off x="448020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27"/>
          <p:cNvSpPr/>
          <p:nvPr/>
        </p:nvSpPr>
        <p:spPr>
          <a:xfrm>
            <a:off x="662184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19"/>
          <p:cNvSpPr/>
          <p:nvPr/>
        </p:nvSpPr>
        <p:spPr>
          <a:xfrm>
            <a:off x="626760" y="1523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EAKOUT OF CLINICAL USE MEASUREMEN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76" name="Picture 4" descr="table of breakout of clinical use measurement"/>
          <p:cNvPicPr/>
          <p:nvPr/>
        </p:nvPicPr>
        <p:blipFill>
          <a:blip r:embed="rId1"/>
          <a:stretch/>
        </p:blipFill>
        <p:spPr>
          <a:xfrm>
            <a:off x="2438280" y="1143000"/>
            <a:ext cx="48006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2" descr="screen shot of North Adams HIE"/>
          <p:cNvPicPr/>
          <p:nvPr/>
        </p:nvPicPr>
        <p:blipFill>
          <a:blip r:embed="rId1"/>
          <a:srcRect l="0" t="0" r="0" b="7250"/>
          <a:stretch/>
        </p:blipFill>
        <p:spPr>
          <a:xfrm>
            <a:off x="593640" y="762120"/>
            <a:ext cx="8398080" cy="5562360"/>
          </a:xfrm>
          <a:prstGeom prst="rect">
            <a:avLst/>
          </a:prstGeom>
          <a:ln w="0">
            <a:noFill/>
          </a:ln>
        </p:spPr>
      </p:pic>
      <p:sp>
        <p:nvSpPr>
          <p:cNvPr id="1078" name="Line 3"/>
          <p:cNvSpPr/>
          <p:nvPr/>
        </p:nvSpPr>
        <p:spPr>
          <a:xfrm>
            <a:off x="533520" y="5943600"/>
            <a:ext cx="83818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NORTH ADAMS HIE SCREEN SHO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ARCHITECTURE AND DATA FLOWS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1" name="Rectangle 28"/>
          <p:cNvSpPr/>
          <p:nvPr/>
        </p:nvSpPr>
        <p:spPr>
          <a:xfrm>
            <a:off x="533520" y="9907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Outcomes analysi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29"/>
          <p:cNvSpPr/>
          <p:nvPr/>
        </p:nvSpPr>
        <p:spPr>
          <a:xfrm>
            <a:off x="1905120" y="838080"/>
            <a:ext cx="162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Benchmarking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33"/>
          <p:cNvSpPr/>
          <p:nvPr/>
        </p:nvSpPr>
        <p:spPr>
          <a:xfrm flipH="1" flipV="1">
            <a:off x="1981080" y="1382760"/>
            <a:ext cx="587520" cy="3268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34"/>
          <p:cNvSpPr/>
          <p:nvPr/>
        </p:nvSpPr>
        <p:spPr>
          <a:xfrm flipV="1">
            <a:off x="2840040" y="1294920"/>
            <a:ext cx="208080" cy="414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35"/>
          <p:cNvSpPr/>
          <p:nvPr/>
        </p:nvSpPr>
        <p:spPr>
          <a:xfrm>
            <a:off x="3581280" y="8380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6a6a6"/>
                </a:solidFill>
                <a:latin typeface="Arial"/>
                <a:ea typeface="Arial"/>
              </a:rPr>
              <a:t>Other reporting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9440" indent="-109440">
              <a:lnSpc>
                <a:spcPct val="10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6a6a6"/>
                </a:solidFill>
                <a:latin typeface="Arial"/>
                <a:ea typeface="Arial"/>
              </a:rPr>
              <a:t>P4P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9440" indent="-109440">
              <a:lnSpc>
                <a:spcPct val="10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6a6a6"/>
                </a:solidFill>
                <a:latin typeface="Arial"/>
                <a:ea typeface="Arial"/>
              </a:rPr>
              <a:t>Chart review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09440" indent="-10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36"/>
          <p:cNvSpPr/>
          <p:nvPr/>
        </p:nvSpPr>
        <p:spPr>
          <a:xfrm flipV="1">
            <a:off x="3124080" y="1600200"/>
            <a:ext cx="609840" cy="109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40"/>
          <p:cNvSpPr/>
          <p:nvPr/>
        </p:nvSpPr>
        <p:spPr>
          <a:xfrm>
            <a:off x="609480" y="5092560"/>
            <a:ext cx="4419720" cy="1079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41" descr=""/>
          <p:cNvPicPr/>
          <p:nvPr/>
        </p:nvPicPr>
        <p:blipFill>
          <a:blip r:embed="rId1"/>
          <a:stretch/>
        </p:blipFill>
        <p:spPr>
          <a:xfrm>
            <a:off x="1676520" y="5214960"/>
            <a:ext cx="1228680" cy="28080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2" descr=""/>
          <p:cNvPicPr/>
          <p:nvPr/>
        </p:nvPicPr>
        <p:blipFill>
          <a:blip r:embed="rId2"/>
          <a:stretch/>
        </p:blipFill>
        <p:spPr>
          <a:xfrm>
            <a:off x="762120" y="5234040"/>
            <a:ext cx="685800" cy="2430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3" descr=""/>
          <p:cNvPicPr/>
          <p:nvPr/>
        </p:nvPicPr>
        <p:blipFill>
          <a:blip r:embed="rId3"/>
          <a:srcRect l="0" t="0" r="16085" b="8328"/>
          <a:stretch/>
        </p:blipFill>
        <p:spPr>
          <a:xfrm>
            <a:off x="3733920" y="5214960"/>
            <a:ext cx="1143000" cy="2793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4" descr=""/>
          <p:cNvPicPr/>
          <p:nvPr/>
        </p:nvPicPr>
        <p:blipFill>
          <a:blip r:embed="rId4"/>
          <a:stretch/>
        </p:blipFill>
        <p:spPr>
          <a:xfrm>
            <a:off x="3157560" y="518148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6" descr="e-MDs - Integrated Electronic Medical Record and Practice Management Software"/>
          <p:cNvPicPr/>
          <p:nvPr/>
        </p:nvPicPr>
        <p:blipFill>
          <a:blip r:embed="rId5"/>
          <a:stretch/>
        </p:blipFill>
        <p:spPr>
          <a:xfrm>
            <a:off x="2286000" y="5791320"/>
            <a:ext cx="712800" cy="1839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7" descr=""/>
          <p:cNvPicPr/>
          <p:nvPr/>
        </p:nvPicPr>
        <p:blipFill>
          <a:blip r:embed="rId6"/>
          <a:srcRect l="0" t="11458" r="71878" b="82296"/>
          <a:stretch/>
        </p:blipFill>
        <p:spPr>
          <a:xfrm>
            <a:off x="3381480" y="5772240"/>
            <a:ext cx="1371600" cy="228600"/>
          </a:xfrm>
          <a:prstGeom prst="rect">
            <a:avLst/>
          </a:prstGeom>
          <a:ln w="0">
            <a:noFill/>
          </a:ln>
        </p:spPr>
      </p:pic>
      <p:grpSp>
        <p:nvGrpSpPr>
          <p:cNvPr id="1094" name="Group 60"/>
          <p:cNvGrpSpPr/>
          <p:nvPr/>
        </p:nvGrpSpPr>
        <p:grpSpPr>
          <a:xfrm>
            <a:off x="1371600" y="1828800"/>
            <a:ext cx="2666520" cy="1567800"/>
            <a:chOff x="1371600" y="1828800"/>
            <a:chExt cx="2666520" cy="1567800"/>
          </a:xfrm>
        </p:grpSpPr>
        <p:grpSp>
          <p:nvGrpSpPr>
            <p:cNvPr id="1095" name="Group 48"/>
            <p:cNvGrpSpPr/>
            <p:nvPr/>
          </p:nvGrpSpPr>
          <p:grpSpPr>
            <a:xfrm>
              <a:off x="1371600" y="1828800"/>
              <a:ext cx="2666520" cy="1567800"/>
              <a:chOff x="1371600" y="1828800"/>
              <a:chExt cx="2666520" cy="1567800"/>
            </a:xfrm>
          </p:grpSpPr>
          <p:grpSp>
            <p:nvGrpSpPr>
              <p:cNvPr id="1096" name="Group 49"/>
              <p:cNvGrpSpPr/>
              <p:nvPr/>
            </p:nvGrpSpPr>
            <p:grpSpPr>
              <a:xfrm>
                <a:off x="1371600" y="1981080"/>
                <a:ext cx="2666520" cy="1415520"/>
                <a:chOff x="1371600" y="1981080"/>
                <a:chExt cx="2666520" cy="1415520"/>
              </a:xfrm>
            </p:grpSpPr>
            <p:sp>
              <p:nvSpPr>
                <p:cNvPr id="1097" name="Line 51"/>
                <p:cNvSpPr/>
                <p:nvPr/>
              </p:nvSpPr>
              <p:spPr>
                <a:xfrm flipV="1">
                  <a:off x="1371600" y="2895480"/>
                  <a:ext cx="1066680" cy="457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52"/>
                <p:cNvSpPr/>
                <p:nvPr/>
              </p:nvSpPr>
              <p:spPr>
                <a:xfrm flipH="1" flipV="1">
                  <a:off x="2971080" y="2895480"/>
                  <a:ext cx="1066680" cy="457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53"/>
                <p:cNvSpPr/>
                <p:nvPr/>
              </p:nvSpPr>
              <p:spPr>
                <a:xfrm flipV="1">
                  <a:off x="2720880" y="2917440"/>
                  <a:ext cx="0" cy="479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AutoShape 50"/>
                <p:cNvSpPr/>
                <p:nvPr/>
              </p:nvSpPr>
              <p:spPr>
                <a:xfrm>
                  <a:off x="1599840" y="1981080"/>
                  <a:ext cx="2438280" cy="76212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01" name="Picture 58" descr="MHQP logo"/>
              <p:cNvPicPr/>
              <p:nvPr/>
            </p:nvPicPr>
            <p:blipFill>
              <a:blip r:embed="rId7"/>
              <a:stretch/>
            </p:blipFill>
            <p:spPr>
              <a:xfrm>
                <a:off x="1741320" y="2247840"/>
                <a:ext cx="68544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Picture 59" descr="MAeHC_0"/>
              <p:cNvPicPr/>
              <p:nvPr/>
            </p:nvPicPr>
            <p:blipFill>
              <a:blip r:embed="rId8"/>
              <a:stretch/>
            </p:blipFill>
            <p:spPr>
              <a:xfrm>
                <a:off x="2211120" y="1828800"/>
                <a:ext cx="1180800" cy="291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03" name="Picture 13" descr="MMS seal"/>
            <p:cNvPicPr/>
            <p:nvPr/>
          </p:nvPicPr>
          <p:blipFill>
            <a:blip r:embed="rId9"/>
            <a:stretch/>
          </p:blipFill>
          <p:spPr>
            <a:xfrm>
              <a:off x="2516040" y="2222280"/>
              <a:ext cx="53316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Picture 57" descr="csc_er_logo"/>
            <p:cNvPicPr/>
            <p:nvPr/>
          </p:nvPicPr>
          <p:blipFill>
            <a:blip r:embed="rId10"/>
            <a:stretch/>
          </p:blipFill>
          <p:spPr>
            <a:xfrm>
              <a:off x="3125880" y="2298600"/>
              <a:ext cx="8143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5" name="Group 3"/>
          <p:cNvGrpSpPr/>
          <p:nvPr/>
        </p:nvGrpSpPr>
        <p:grpSpPr>
          <a:xfrm>
            <a:off x="811080" y="3276720"/>
            <a:ext cx="3913200" cy="1600200"/>
            <a:chOff x="811080" y="3276720"/>
            <a:chExt cx="3913200" cy="1600200"/>
          </a:xfrm>
        </p:grpSpPr>
        <p:sp>
          <p:nvSpPr>
            <p:cNvPr id="1106" name="AutoShape 4"/>
            <p:cNvSpPr/>
            <p:nvPr/>
          </p:nvSpPr>
          <p:spPr>
            <a:xfrm>
              <a:off x="838080" y="327672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AutoShape 5"/>
            <p:cNvSpPr/>
            <p:nvPr/>
          </p:nvSpPr>
          <p:spPr>
            <a:xfrm>
              <a:off x="2209680" y="327672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AutoShape 6"/>
            <p:cNvSpPr/>
            <p:nvPr/>
          </p:nvSpPr>
          <p:spPr>
            <a:xfrm>
              <a:off x="3581280" y="327672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7"/>
            <p:cNvSpPr/>
            <p:nvPr/>
          </p:nvSpPr>
          <p:spPr>
            <a:xfrm flipV="1">
              <a:off x="91404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8"/>
            <p:cNvSpPr/>
            <p:nvPr/>
          </p:nvSpPr>
          <p:spPr>
            <a:xfrm flipV="1">
              <a:off x="129528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9"/>
            <p:cNvSpPr/>
            <p:nvPr/>
          </p:nvSpPr>
          <p:spPr>
            <a:xfrm flipV="1">
              <a:off x="167616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10"/>
            <p:cNvSpPr/>
            <p:nvPr/>
          </p:nvSpPr>
          <p:spPr>
            <a:xfrm flipV="1">
              <a:off x="205704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11"/>
            <p:cNvSpPr/>
            <p:nvPr/>
          </p:nvSpPr>
          <p:spPr>
            <a:xfrm flipV="1">
              <a:off x="243828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12"/>
            <p:cNvSpPr/>
            <p:nvPr/>
          </p:nvSpPr>
          <p:spPr>
            <a:xfrm flipV="1">
              <a:off x="281916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13"/>
            <p:cNvSpPr/>
            <p:nvPr/>
          </p:nvSpPr>
          <p:spPr>
            <a:xfrm flipV="1">
              <a:off x="320004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14"/>
            <p:cNvSpPr/>
            <p:nvPr/>
          </p:nvSpPr>
          <p:spPr>
            <a:xfrm flipV="1">
              <a:off x="358128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15"/>
            <p:cNvSpPr/>
            <p:nvPr/>
          </p:nvSpPr>
          <p:spPr>
            <a:xfrm flipV="1">
              <a:off x="396216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16"/>
            <p:cNvSpPr/>
            <p:nvPr/>
          </p:nvSpPr>
          <p:spPr>
            <a:xfrm flipV="1">
              <a:off x="434304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17"/>
            <p:cNvSpPr/>
            <p:nvPr/>
          </p:nvSpPr>
          <p:spPr>
            <a:xfrm flipV="1">
              <a:off x="472428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0" name="Picture 18" descr=""/>
            <p:cNvPicPr/>
            <p:nvPr/>
          </p:nvPicPr>
          <p:blipFill>
            <a:blip r:embed="rId11"/>
            <a:srcRect l="0" t="13383" r="71618" b="39343"/>
            <a:stretch/>
          </p:blipFill>
          <p:spPr>
            <a:xfrm>
              <a:off x="968040" y="3548160"/>
              <a:ext cx="77652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Picture 19" descr=""/>
            <p:cNvPicPr/>
            <p:nvPr/>
          </p:nvPicPr>
          <p:blipFill>
            <a:blip r:embed="rId12"/>
            <a:srcRect l="0" t="13383" r="71618" b="39343"/>
            <a:stretch/>
          </p:blipFill>
          <p:spPr>
            <a:xfrm>
              <a:off x="2390400" y="3557880"/>
              <a:ext cx="77652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Picture 20" descr=""/>
            <p:cNvPicPr/>
            <p:nvPr/>
          </p:nvPicPr>
          <p:blipFill>
            <a:blip r:embed="rId13"/>
            <a:srcRect l="0" t="0" r="16112" b="8978"/>
            <a:stretch/>
          </p:blipFill>
          <p:spPr>
            <a:xfrm>
              <a:off x="3713040" y="3581640"/>
              <a:ext cx="94140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Rectangle 21"/>
            <p:cNvSpPr/>
            <p:nvPr/>
          </p:nvSpPr>
          <p:spPr>
            <a:xfrm>
              <a:off x="811080" y="4115160"/>
              <a:ext cx="111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ckt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22"/>
            <p:cNvSpPr/>
            <p:nvPr/>
          </p:nvSpPr>
          <p:spPr>
            <a:xfrm>
              <a:off x="2084040" y="4115160"/>
              <a:ext cx="118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buryport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23"/>
            <p:cNvSpPr/>
            <p:nvPr/>
          </p:nvSpPr>
          <p:spPr>
            <a:xfrm>
              <a:off x="3455640" y="4115160"/>
              <a:ext cx="1192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th Adams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Rounded Rectangular Callout 66"/>
          <p:cNvSpPr/>
          <p:nvPr/>
        </p:nvSpPr>
        <p:spPr>
          <a:xfrm>
            <a:off x="7467480" y="838080"/>
            <a:ext cx="1905120" cy="914400"/>
          </a:xfrm>
          <a:prstGeom prst="wedgeRoundRectCallout">
            <a:avLst>
              <a:gd name="adj1" fmla="val -80310"/>
              <a:gd name="adj2" fmla="val 7462"/>
              <a:gd name="adj3" fmla="val 16667"/>
            </a:avLst>
          </a:prstGeom>
          <a:solidFill>
            <a:srgbClr val="ffff9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to handle consent policy for unanticipated expansion of use, even if it’s legally allowed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ounded Rectangular Callout 67"/>
          <p:cNvSpPr/>
          <p:nvPr/>
        </p:nvSpPr>
        <p:spPr>
          <a:xfrm>
            <a:off x="7620120" y="2057400"/>
            <a:ext cx="1600200" cy="990720"/>
          </a:xfrm>
          <a:prstGeom prst="wedgeRoundRectCallout">
            <a:avLst>
              <a:gd name="adj1" fmla="val -81115"/>
              <a:gd name="adj2" fmla="val 29564"/>
              <a:gd name="adj3" fmla="val 16667"/>
            </a:avLst>
          </a:prstGeom>
          <a:solidFill>
            <a:srgbClr val="ffff9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 5-10% opt-out acceptable for public health and population health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ounded Rectangular Callout 68"/>
          <p:cNvSpPr/>
          <p:nvPr/>
        </p:nvSpPr>
        <p:spPr>
          <a:xfrm>
            <a:off x="7620120" y="3352680"/>
            <a:ext cx="1600200" cy="990720"/>
          </a:xfrm>
          <a:prstGeom prst="wedgeRoundRectCallout">
            <a:avLst>
              <a:gd name="adj1" fmla="val -76287"/>
              <a:gd name="adj2" fmla="val 2263"/>
              <a:gd name="adj3" fmla="val 16667"/>
            </a:avLst>
          </a:prstGeom>
          <a:solidFill>
            <a:srgbClr val="ffff9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to handle physician desire for routine re-identification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ounded Rectangular Callout 69"/>
          <p:cNvSpPr/>
          <p:nvPr/>
        </p:nvSpPr>
        <p:spPr>
          <a:xfrm>
            <a:off x="7620120" y="4800600"/>
            <a:ext cx="1600200" cy="1295280"/>
          </a:xfrm>
          <a:prstGeom prst="wedgeRoundRectCallout">
            <a:avLst>
              <a:gd name="adj1" fmla="val -76287"/>
              <a:gd name="adj2" fmla="val 16564"/>
              <a:gd name="adj3" fmla="val 16667"/>
            </a:avLst>
          </a:prstGeom>
          <a:solidFill>
            <a:srgbClr val="ffff9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 physicians enthusiastically pursuing consent?  How to deal with “non-believers” and free-rider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73"/>
          <p:cNvGrpSpPr/>
          <p:nvPr/>
        </p:nvGrpSpPr>
        <p:grpSpPr>
          <a:xfrm>
            <a:off x="4861080" y="2666880"/>
            <a:ext cx="1996920" cy="1905120"/>
            <a:chOff x="4861080" y="2666880"/>
            <a:chExt cx="1996920" cy="1905120"/>
          </a:xfrm>
        </p:grpSpPr>
        <p:sp>
          <p:nvSpPr>
            <p:cNvPr id="1131" name="Rectangle 29"/>
            <p:cNvSpPr/>
            <p:nvPr/>
          </p:nvSpPr>
          <p:spPr>
            <a:xfrm>
              <a:off x="5076720" y="4343400"/>
              <a:ext cx="178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ntity-by-entity opt-in consen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114120"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(North Adams exception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29"/>
            <p:cNvSpPr/>
            <p:nvPr/>
          </p:nvSpPr>
          <p:spPr>
            <a:xfrm>
              <a:off x="5029200" y="2666880"/>
              <a:ext cx="178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ncrypted identifier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Arc 70"/>
            <p:cNvSpPr/>
            <p:nvPr/>
          </p:nvSpPr>
          <p:spPr>
            <a:xfrm>
              <a:off x="5943600" y="3352680"/>
              <a:ext cx="380880" cy="838080"/>
            </a:xfrm>
            <a:prstGeom prst="pie">
              <a:avLst/>
            </a:prstGeom>
            <a:noFill/>
            <a:ln w="1584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29"/>
            <p:cNvSpPr/>
            <p:nvPr/>
          </p:nvSpPr>
          <p:spPr>
            <a:xfrm>
              <a:off x="4861080" y="3594240"/>
              <a:ext cx="178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-identifiabl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5" name="Picture 2" descr="Hill Associates Healthcare Management Systems"/>
          <p:cNvPicPr/>
          <p:nvPr/>
        </p:nvPicPr>
        <p:blipFill>
          <a:blip r:embed="rId14"/>
          <a:srcRect l="56914" t="0" r="0" b="0"/>
          <a:stretch/>
        </p:blipFill>
        <p:spPr>
          <a:xfrm>
            <a:off x="990720" y="5562720"/>
            <a:ext cx="91440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8:04:12Z</dcterms:created>
  <dc:creator>LENOVO USER</dc:creator>
  <dc:description/>
  <dc:language>en-US</dc:language>
  <cp:lastModifiedBy>Rasa</cp:lastModifiedBy>
  <dcterms:modified xsi:type="dcterms:W3CDTF">2009-10-28T21:18:29Z</dcterms:modified>
  <cp:revision>28</cp:revision>
  <dc:subject/>
  <dc:title>MASSACHUSETTS eHEALTH COLLABORATIVE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ference">
    <vt:lpwstr>USv2c/PP2000/USEng/Sep2001</vt:lpwstr>
  </property>
</Properties>
</file>