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5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ftr" idx="26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 type="sldNum" idx="27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5C73-40EE-4A35-AD9B-1ADB8A69C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4A06-405F-4918-B3DA-4488959783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2388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A032-B506-48EF-A93C-FB84AB89C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093D-1C34-441F-B459-0DDB3A8E3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F5FB-1990-4218-B4D8-3A1C60032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B5F9-73E7-4876-A6CD-5E1A2CF184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B4DE-0256-40CB-AE3E-BA3C6D50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BFFA-3859-4147-8AAF-35572291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0DA7-88F2-4C08-AD3C-D70BA8C5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F3C9-3627-46DE-8DF2-E3D2EF7F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C471-94BB-431B-BFF0-0635DB68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69C9-9F3B-42DA-92A6-AB2E2F3B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A61E-13AA-4CC4-B1DC-04B7CE9F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B3F7-819C-4DFE-9DAB-4FB3AA8B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8174-2FDD-4C5E-A3AF-458765BB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E208-D3AC-4217-8B17-A0DFD80B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3D3D-A2CE-4004-87A8-8FA2A8F2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7CB9-82E8-449B-9F45-EEEB13A5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8427-E56A-464F-B37B-A70C5736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0E13-703D-403B-8228-AE49AFC9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6CE0-99B2-43F0-BE24-15A875E4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5142-92E0-43B9-97A4-C1069220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3266-9DDE-4B8A-8BCC-B834A11E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D57FBC-13B5-417C-BD7A-D5510D5A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96D1C-B1C5-4D11-AFEF-1C011DE5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F374F5-7661-4CFE-AC25-524116A0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83D601-7753-4720-9EB7-15675912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0284FD-D514-455A-899D-24602F83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FDC4-94C4-4847-96EC-651F8F41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3CABE-6BC7-4AD1-87B3-4BF4ED2A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D6A4B8-0B9B-453C-AE2A-1BC61ED2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26A963-7073-4B78-B7EE-54898167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70FEC-EB20-48EA-A26C-C020BF20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BD5FE-99BE-4F5E-BB51-F636B075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C1C67-A18A-4DE0-89B5-F4D7708E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A1ECC4-5B24-4F57-A931-0ECA8DB8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3066FC-A4D8-424D-8FEF-C8B97ED3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9A2158-A5DF-4604-9D26-20E50486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4ABC93-6DCB-4AC5-A61C-007C0A39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D977-8B14-493D-8646-6F91135B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B3FF13-CFA2-4E55-A530-B44EACB6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D449F5-6A53-4C9C-9CC0-190C94B2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BB2387-2A25-46F6-97F3-8DEC2CFE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61F9FD-B4D0-4013-A685-462B4547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4E9A40-9E43-4CC5-AF48-C24EE0EA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ADBE5F-69CD-406D-994E-16DB0AF7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3A8C14-3C1F-42AA-9895-BCFE6ABE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2A8031-130E-4C76-845B-3E68BA63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2E463C-BD20-4185-A50B-D2064F52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DE8CB2-2A62-4E3F-BCF0-64B6DB92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7E6A-1AAD-4857-B2AE-774D1C8B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C93C9A-0C76-4B7F-974E-610AE323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D2535A-4571-4C48-BDAB-59A4262B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2BEF0F-5913-4431-A951-C9A98BCC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BED48D-1EF7-40D5-8203-2D1464C4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64A226-10A5-4F7B-981C-F97D2DD9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111691-F328-461C-B707-14CE503B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E2BDB4-7380-4A80-AE34-0B8F018B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A3F643-9593-4DFB-B346-89CAE123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3FC3A3-B018-4998-92C7-37082668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C9350D-F2ED-4E55-A482-34C3CDF5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5C16-105F-4CE6-A2E5-3ECF7720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51437B-8D0C-4D42-AE99-F032AA4C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38633-94F9-432A-98C7-162F0015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A96BB-91F4-4930-8667-B7A163D9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5F5DB-0F72-480B-AA77-CFBCB528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DFBB1-C4BF-4446-B06E-838D4DFD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4B7DA-2177-4843-A114-F914E499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316F1-5E52-46FA-801D-40561273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1080E-99EB-4A63-B722-C3D29819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14E2D-A8AC-41D8-A754-B90D6066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21583-DA1B-4637-BFA0-20D21D88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0D71-14AF-427E-8216-3ED084E2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A875E-1239-4315-A83C-276099F4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E0625-64B3-4862-9A44-EB690880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C7AB9-28FA-494D-86D0-487BD36B3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907098-6AB4-4964-8494-1447FED2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E128B9-4104-42FC-A771-D24CEF41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9019A2-F0F6-4649-ABF6-1B035310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18B4D6-6789-42EC-AA88-8A18F2F8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3E5951-BA1E-41B4-9972-6395F9E0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C68451-E733-4993-B074-AF1EF674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12C853-BD2D-4D1D-A779-6C005466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2A87-1666-409D-B3DD-24562339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6EAA14-6EFD-420C-BB9A-A6A54330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147F4B-6AC6-4F0A-9D77-BCBE23C6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22BA34-3B2A-4496-8073-FCC92E40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2D68A5-1048-493A-ADA1-17646BAF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77DE38-5147-4794-97B1-CCAE513F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F5C2D-7FCD-471F-BE4C-540CF005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74B5B-AF29-4534-B355-F4332F8B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52C2B-A1C7-40AF-B141-CEFB429D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69B53-91C6-4BFB-B114-57F78AC4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D8EDB-51CC-4AA4-93EE-9DAD81FF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A518-C1EE-437F-9A15-DB4EC636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6D88D-FEBC-43E7-8E6F-B94AB864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83420-FC0A-48E7-B7F3-9449106A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AFD13-3FCE-4849-8498-41AD3ABA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BD1F9-8947-4881-B9A8-C772B318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CF153-DFF3-49DA-B883-FE9952CB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0074A-9B58-456E-BA9E-1D809C8D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03512-28CE-4659-86F9-2ADC7BF8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EA25-6964-4890-A0E9-392018FF92C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DE93-1EE9-4BF7-94BF-625F3D6CBC5E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32DF-5749-445C-B722-A714262A55C0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1B25-E894-40E5-A23A-EDC5A54C481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27AC-9407-4668-9697-C4DD3724FA0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F5BC-2E0C-4C72-BBBC-390FB0BA730F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145B-48D8-4F35-BBDA-92CD7DB78678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91A8-63B8-48D0-B349-6C1B321BC42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vbjusa.com/photos/2007/06/08/recordtime-070622101m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iseasecure365.com/uploaded_images/doctor-disease-cures-775127.jpg&amp;imgrefurl=http://blog.bradfordscott.com/blog/careys-ehr-info&amp;usg=__aqL5l94MnikH0paT5kXBLrBQ-c4=&amp;h=318&amp;w=360&amp;sz=18&amp;hl=en&amp;start=40&amp;um=1&amp;tbnid=dQ_XAk9lzMEgqM:&amp;tbnh=107&amp;tbnw=121&amp;prev=/images?q=computerized+medical+records+system&amp;ndsp=20&amp;hl=en&amp;rlz=1T4DKUS_enUS334&amp;sa=N&amp;start=20&amp;um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MS and HIT Adop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3098880" y="4095360"/>
            <a:ext cx="604512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98989"/>
                </a:solidFill>
                <a:latin typeface="Tw Cen MT"/>
              </a:rPr>
              <a:t>Tony Trenkle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98989"/>
                </a:solidFill>
                <a:latin typeface="Tw Cen MT"/>
              </a:rPr>
              <a:t>Director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98989"/>
                </a:solidFill>
                <a:latin typeface="Tw Cen MT"/>
              </a:rPr>
              <a:t>Office of E-Health Standards and Services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98989"/>
                </a:solidFill>
                <a:latin typeface="Tw Cen MT"/>
              </a:rPr>
              <a:t>Centers for Medicare &amp; Medicaid Services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3" descr="older couple"/>
          <p:cNvPicPr/>
          <p:nvPr/>
        </p:nvPicPr>
        <p:blipFill>
          <a:blip r:embed="rId1"/>
          <a:stretch/>
        </p:blipFill>
        <p:spPr>
          <a:xfrm>
            <a:off x="7238880" y="0"/>
            <a:ext cx="1676520" cy="12430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MS-The Numb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70440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Medicare provides health insurance to approximately 45 million beneficiarie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70440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CMS also has federal oversight of the state-administered Medicaid program and  Children’s Health Insurance Program (CHIP), covering about 50 million and 11 million enrollees respectively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70440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33.7% of national health expenditures are paid by Medicare or Medicaid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70440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Medicare processes over a billion claims/yr.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70440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There are approximately one million Medicare provider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HIT Adop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MS’ large percentage of overall healthcare purchasing as well as its regulatory role makes it the key driver for successful HIT adopt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MS support of standards drives industry adoption and builds a foundation to support interoperable HIT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MS incentives programs promote adoption but also effective use of HIT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MS demos and pilots provide a way to measure the impact of HIT on the Medicare and Medicaid population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9" name="Picture 3" descr="nurse"/>
          <p:cNvPicPr/>
          <p:nvPr/>
        </p:nvPicPr>
        <p:blipFill>
          <a:blip r:embed="rId1"/>
          <a:stretch/>
        </p:blipFill>
        <p:spPr>
          <a:xfrm>
            <a:off x="609480" y="380880"/>
            <a:ext cx="1008360" cy="914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doctor at comput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72400" y="380880"/>
            <a:ext cx="1009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5072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Demos and Pilo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DOQ-I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QIO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Scope of Wor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cus on small-medium siz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imary care practic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Medicare Care Management Performan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uthorized under MM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3 year pay for performance to promote HIT adoption and us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lso focuses on small-medium sized primary care practices (up to 10 physician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3" name="Picture 2" descr="doctors looking at xra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1752480"/>
            <a:ext cx="194472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5072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Demos and Pilo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HR Demonstration Projec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xpands the MCMP demonstr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ver 800 practices in 4 demo sit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egan June 2009, will end May 2014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lso focuses on small-medium sized primary care practices (up to 20 physicians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Medicaid Transformation Gra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22 states grants focused on HI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HRs, E-RX, H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6" name="Picture 4" descr="computers"/>
          <p:cNvPicPr/>
          <p:nvPr/>
        </p:nvPicPr>
        <p:blipFill>
          <a:blip r:embed="rId1"/>
          <a:stretch/>
        </p:blipFill>
        <p:spPr>
          <a:xfrm>
            <a:off x="6781680" y="4648320"/>
            <a:ext cx="1905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Other Driv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Stark/Anti-Kickbac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Allows donation of EHR software under certain condition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CHIPR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Promotes development of a pediatric EHR and quality measures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QRI/RHQDAP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Promoting the reporting of quality measures through EHRs for 2010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MIPP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E-rx incentive-2009-2013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9" name="Picture 4" descr="man in vehicle"/>
          <p:cNvPicPr/>
          <p:nvPr/>
        </p:nvPicPr>
        <p:blipFill>
          <a:blip r:embed="rId1"/>
          <a:stretch/>
        </p:blipFill>
        <p:spPr>
          <a:xfrm>
            <a:off x="7315200" y="92160"/>
            <a:ext cx="1606680" cy="12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5072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HITEC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70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HITECH Act-effective 2011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ection 4101-Medicare eligible professional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ection 4102-Medicare incentives for hospital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ection 4201-Medica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Game chang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cale-up to $40 bill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Brings together the CMS programs (Medicare FFS, Medicare Advantage, Medicaid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Meaningful Use-potential to bring about vast chang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2" name="Picture 5" descr="carrots"/>
          <p:cNvPicPr/>
          <p:nvPr/>
        </p:nvPicPr>
        <p:blipFill>
          <a:blip r:embed="rId1"/>
          <a:stretch/>
        </p:blipFill>
        <p:spPr>
          <a:xfrm rot="2610600">
            <a:off x="6702480" y="-460440"/>
            <a:ext cx="219384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halleng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Numerous CMS programs to promote adoption have begun or will start shortly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ll contribute to increased use of interoperable HIT to improve the quality and efficiency of healthcare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hallenges in the near ter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ynchronize these efforts to optimize effects and not create unintended outcome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reate a platform that builds in continued improvements over tim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mplement HITECH the right wa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Depth vs. width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5" name="Picture 2" descr="man next to computer"/>
          <p:cNvPicPr/>
          <p:nvPr/>
        </p:nvPicPr>
        <p:blipFill>
          <a:blip r:embed="rId1"/>
          <a:stretch/>
        </p:blipFill>
        <p:spPr>
          <a:xfrm>
            <a:off x="7315200" y="228600"/>
            <a:ext cx="12492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21:20:38Z</dcterms:created>
  <dc:creator>TTSR</dc:creator>
  <dc:description/>
  <dc:language>en-US</dc:language>
  <cp:lastModifiedBy> </cp:lastModifiedBy>
  <dcterms:modified xsi:type="dcterms:W3CDTF">2010-03-02T15:53:45Z</dcterms:modified>
  <cp:revision>52</cp:revision>
  <dc:subject/>
  <dc:title>Slide 1</dc:title>
</cp:coreProperties>
</file>