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E427-413A-4992-97F2-4C4F38A07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BD22-6D07-4211-8676-8D7D1CFD0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2388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5587-0FEA-4F78-807E-175995684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4643-045B-42BE-8BAE-E1AED0FFA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01F0-4D30-4FA6-8069-5DE478108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6FA6-9C57-44B9-BD50-F6E6FD3A3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8E9-072A-4A72-90DC-A88DBC05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A06-61BD-4D3B-8EAB-6A792920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252-9D41-4E85-BBA5-D7E49FF8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38C-0315-49C2-BA09-F1DC11CA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5FF7-6114-4CDC-9C8A-66BF2675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FD4E-54E6-469C-A897-668F34CD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837B-CA99-49F5-BE19-7F2D01D2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2EC7-0FE8-4285-9C3F-2BAE3925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1826-3689-483E-BED0-9300505C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BA81-1367-407E-A127-1E27CA91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BE39-464E-4D60-A9A7-F5026AC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B48-3EC5-4101-8E2D-F527F43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C1ED-AAB6-4EF4-A0E3-1E3F8BEB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E710-3972-4116-BDCB-023908FE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199-D38A-46DE-BD23-C8F4AFBB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09F-3CF8-4F84-8687-FFE6CC32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15A0-C916-4813-9A04-E91481B5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CECE0-9956-406C-8F52-8A23FF8F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B2F07-1B84-445C-81F0-C7980082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FE5B5-3FEA-4416-8A15-A5472B5B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B3ADE-E2F8-438E-85E9-5A5521A4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A1236-3B03-42FF-AB14-93A64447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F30-EB09-4226-A545-C2021467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C1B35-6B7F-4F9E-8753-2B42F25C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50E7B-BF3B-4A8B-AD39-570A5BC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E5A3B-2E7C-4403-A63B-DB230B61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D805B-1DA2-4D16-9A24-F89A86E6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B0D6B-1DFE-442F-A46C-AF6B43FE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D65CD-16DB-46C4-A47B-A8945054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7F7BD-37EF-4011-B73F-1B6527E9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4FAA2-6982-4B35-95C4-56D70D98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464E0C-E46A-451C-BBBB-24B5D1EB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CEC22-F86F-443B-B806-3465ECC9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202-7735-46DE-9031-1BFA2F78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27D8E-6694-49DE-8297-D05F899D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2B32C-63C9-4472-9333-5BEEB0EF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BB253-487F-4695-AC32-01BA2FD6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40B49-8473-4B71-A22A-DBCC6EF3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D55DB-45F4-4E5A-AC90-F0F4DD0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6E956-2297-42C8-9C62-FEA1C52E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5FC107-45B4-451D-B234-4DE7572F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7EE94-C361-4740-B708-0D61F9B6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03981-181E-4135-852E-1C56916D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6E062-52AE-45DF-9E6D-5A181492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F51-CD6D-4BCE-98BB-E7483A50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7D1C6-ED01-4416-9703-B07D1F85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E37F6-EEDA-4BFC-9D16-D00C25A3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7BAC8-58F4-4943-BCD6-FA504779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B888C-4D26-46D4-B852-D20E2600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55C70-C285-4FEC-A943-450F1924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D2645-DECD-445B-9FF0-7ED8D7C9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9494A-32CA-4E38-879F-69E8771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4883F-40BC-4A96-841B-B6D520BB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1C35F-425D-446A-83AE-A3DB65D3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976D1-6EC1-4790-8B9B-FEE21D4F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22A-CF46-4F22-A290-3818A182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433E9-529A-4C07-9B81-42AB0DA5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556EC-004A-4639-9099-D1C726D7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5C320-4370-4B2D-812C-F628694C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0E5AC-AAD6-4B77-895A-FB17EF8C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89AD8-E69D-4737-AEFE-C8C3D243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5C212-0DCB-4C7B-BDDB-63595C73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0A9AE-01A3-4AE4-AFA3-60944F7A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FA6BF-BD8B-41D1-81DF-D69E4DA3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1BE24-686A-4A76-93C0-3F8D72DB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50235-2217-4361-98CC-B6790FF0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A72-A093-41D6-A727-12DEA9EC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0D62-84BD-47E6-A7A3-D5794F2F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2C4B7-6D73-4F49-B3B9-C208F720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6D960-8A04-4248-9023-B83FCAD1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70B18-CCD6-4F53-A78A-1AA45359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C2C13-B680-4D53-BA5D-F12050F9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20A9D-7828-4891-A199-4C051FAF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33AE7-1E74-4A47-BA94-71676C8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80A2A-C9C3-41D4-882A-9D81371E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79C2C-5FAA-46F6-84CD-3F605D51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BB917-6A59-4068-B273-6477E2C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F30-4FD0-40C1-9979-A12B60B0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6B911-DEF0-4748-BC3C-1146531C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F3B17-CDD9-4227-B65F-3C568618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FB13E-9218-4AE0-9239-12C39597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6CAC4-2896-46B2-9797-07DC93F9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D5927-A8EE-48AF-9F05-0390C4C4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847EE-46BE-4E5A-A8FB-1CBE9136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A40E9-466C-467F-90C7-88655598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897F2-F06F-4CDB-B1A8-D7B4BA72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63252-9D94-4273-BF0F-45672168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B28DB-2A01-439C-9D66-2F921125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C79-058D-4357-BCB9-14FA1EA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A3BE6-AE25-4928-9F04-ED7EC825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25842-B83D-4D55-B41A-62237025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E6484-C621-4084-BE1C-22B37A59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3753C-CE00-4D83-844F-0476AE5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664B7-9764-4EEB-9A22-63F80CF7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74D21-F547-4970-BC1B-583D2A8E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14EE4-AA04-4AAF-A8FE-0D993C3B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4D5C-2698-4F27-AA70-12F2F2646E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6FE7-2E52-4865-B385-74F2272E226C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5A01-A31A-4A98-96CF-38A64993FD6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6A39-A784-4ACC-8AD4-C004507616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8776-3470-4813-97A2-4A24D6FC11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C156-94B1-4224-BA4F-912B98454987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876D-75C6-4BB3-B903-5298081BB6C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DAA9-015B-4365-8551-441FA646BF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vbjusa.com/photos/2007/06/08/recordtime-070622101m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seasecure365.com/uploaded_images/doctor-disease-cures-775127.jpg&amp;imgrefurl=http://blog.bradfordscott.com/blog/careys-ehr-info&amp;usg=__aqL5l94MnikH0paT5kXBLrBQ-c4=&amp;h=318&amp;w=360&amp;sz=18&amp;hl=en&amp;start=40&amp;um=1&amp;tbnid=dQ_XAk9lzMEgqM:&amp;tbnh=107&amp;tbnw=121&amp;prev=/images?q=computerized+medical+records+system&amp;ndsp=20&amp;hl=en&amp;rlz=1T4DKUS_enUS334&amp;sa=N&amp;start=20&amp;u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MS and HIT Adop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098880" y="409536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Tw Cen MT"/>
              </a:rPr>
              <a:t>Tony Trenkl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Tw Cen MT"/>
              </a:rPr>
              <a:t>Director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Tw Cen MT"/>
              </a:rPr>
              <a:t>Office of E-Health Standards and Service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98989"/>
                </a:solidFill>
                <a:latin typeface="Tw Cen MT"/>
              </a:rPr>
              <a:t>Centers for Medicare &amp; Medicaid Services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older couple"/>
          <p:cNvPicPr/>
          <p:nvPr/>
        </p:nvPicPr>
        <p:blipFill>
          <a:blip r:embed="rId1"/>
          <a:stretch/>
        </p:blipFill>
        <p:spPr>
          <a:xfrm>
            <a:off x="7238880" y="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MS-The Numb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70440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Medicare provides health insurance to approximately 45 million beneficiari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70440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CMS also has federal oversight of the state-administered Medicaid program and  Children’s Health Insurance Program (CHIP), covering about 50 million and 11 million enrollees respectivel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70440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33.7% of national health expenditures are paid by Medicare or Medicaid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70440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Medicare processes over a billion claims/yr.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70440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There are approximately one million Medicare provider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HIT Adop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MS’ large percentage of overall healthcare purchasing as well as its regulatory role makes it the key driver for successful HIT adop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MS support of standards drives industry adoption and builds a foundation to support interoperable HI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MS incentives programs promote adoption but also effective use of HI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MS demos and pilots provide a way to measure the impact of HIT on the Medicare and Medicaid population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Picture 3" descr="nurse"/>
          <p:cNvPicPr/>
          <p:nvPr/>
        </p:nvPicPr>
        <p:blipFill>
          <a:blip r:embed="rId1"/>
          <a:stretch/>
        </p:blipFill>
        <p:spPr>
          <a:xfrm>
            <a:off x="609480" y="380880"/>
            <a:ext cx="1008360" cy="914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doctor at comput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2400" y="380880"/>
            <a:ext cx="1009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emos and Pilo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OQ-I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QIO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Scope of Wor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cus on small-medium siz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imary care pract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edicare Care Management Perform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uthorized under M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3 year pay for performance to promote HIT adoption and u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so focuses on small-medium sized primary care practices (up to 10 physician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3" name="Picture 2" descr="doctors looking at xr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752480"/>
            <a:ext cx="19447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emos and Pilo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HR Demonstration Proje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pands the MCMP demonstr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ver 800 practices in 4 demo s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egan June 2009, will end May 2014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so focuses on small-medium sized primary care practices (up to 20 physician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Medicaid Transformation Gra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22 states grants focused on H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HRs, E-RX, H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6" name="Picture 4" descr="computers"/>
          <p:cNvPicPr/>
          <p:nvPr/>
        </p:nvPicPr>
        <p:blipFill>
          <a:blip r:embed="rId1"/>
          <a:stretch/>
        </p:blipFill>
        <p:spPr>
          <a:xfrm>
            <a:off x="6781680" y="464832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ther Driv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tark/Anti-Kickbac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llows donation of EHR software under certain condition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HIPR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Promotes development of a pediatric EHR and quality measur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QRI/RHQDAP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Promoting the reporting of quality measures through EHRs for 2010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IPP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E-rx incentive-2009-2013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9" name="Picture 4" descr="man in vehicle"/>
          <p:cNvPicPr/>
          <p:nvPr/>
        </p:nvPicPr>
        <p:blipFill>
          <a:blip r:embed="rId1"/>
          <a:stretch/>
        </p:blipFill>
        <p:spPr>
          <a:xfrm>
            <a:off x="7315200" y="92160"/>
            <a:ext cx="160668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HITE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HITECH Act-effective 201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tion 4101-Medicare eligible profession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tion 4102-Medicare incentives for hospit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tion 4201-Medica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Game chang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cale-up to $40 bill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Brings together the CMS programs (Medicare FFS, Medicare Advantage, Medicaid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eaningful Use-potential to bring about vast chang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5" descr="carrots"/>
          <p:cNvPicPr/>
          <p:nvPr/>
        </p:nvPicPr>
        <p:blipFill>
          <a:blip r:embed="rId1"/>
          <a:stretch/>
        </p:blipFill>
        <p:spPr>
          <a:xfrm rot="2610600">
            <a:off x="6702480" y="-46044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halleng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umerous CMS programs to promote adoption have begun or will start shortly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ll contribute to increased use of interoperable HIT to improve the quality and efficiency of healthcar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hallenges in the near ter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ynchronize these efforts to optimize effects and not create unintended outcom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reate a platform that builds in continued improvements over tim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plement HITECH the right w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epth vs. width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5" name="Picture 2" descr="man next to computer"/>
          <p:cNvPicPr/>
          <p:nvPr/>
        </p:nvPicPr>
        <p:blipFill>
          <a:blip r:embed="rId1"/>
          <a:stretch/>
        </p:blipFill>
        <p:spPr>
          <a:xfrm>
            <a:off x="7315200" y="228600"/>
            <a:ext cx="12492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1:20:38Z</dcterms:created>
  <dc:creator>TTSR</dc:creator>
  <dc:description/>
  <dc:language>en-US</dc:language>
  <cp:lastModifiedBy> </cp:lastModifiedBy>
  <dcterms:modified xsi:type="dcterms:W3CDTF">2010-03-02T15:53:45Z</dcterms:modified>
  <cp:revision>52</cp:revision>
  <dc:subject/>
  <dc:title>Slide 1</dc:title>
</cp:coreProperties>
</file>