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37B-6C0A-462F-BD3F-0D5C009C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521-DABD-458E-BFBB-D4C042DF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45B-0736-4D3A-8C6A-C93AA4CE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EC3-5B67-4849-8032-0D55A9A5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75FD-8A01-40B9-96C1-BE82A10F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2E68-C393-4090-82C6-B5C78EAD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1E80-5B6D-4998-84EA-CD4F3A4E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7103-54B6-43F4-BE65-B3483194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5A8C-1A21-4010-9EF5-88A1789F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2F0D-0599-427C-B3A9-98277741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C212-BC47-4097-B70A-BAEB42E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84F-572B-4B27-A0A1-331573E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A303-B01E-4BBC-90B0-370728BD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3B2-7E9A-4347-B783-E0882D7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8AA0-2B2D-471C-940D-C336C464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B096-66BD-49AE-AF2F-1CF43AC2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6A99-60BD-4CC0-B40E-A1BFCF6B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BB8-0384-40D3-BD32-982FC09E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00F-5607-461A-AF31-53C642EB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DF6-D37E-4FCE-95D3-0042DFD1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49D-3E15-43F1-BFB4-4A7790DE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9A3-601D-4463-BAD5-7467759D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898-46C0-4F9A-8517-9E23A279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014-58D6-4230-9BE5-00CF44BC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20F0-DD80-4AA3-868C-66679B182165}" type="slidenum">
              <a:rPr b="1" lang="es-P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E4E5-C8C9-4B90-811B-377B28A11336}" type="slidenum">
              <a:rPr b="1" lang="es-P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rhsri.rcm.upr.edu/" TargetMode="External"/><Relationship Id="rId2" Type="http://schemas.openxmlformats.org/officeDocument/2006/relationships/hyperlink" Target="http://www.prhsri.rcm.upr.ed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University of Puerto Rico Logo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7162920" y="5334120"/>
            <a:ext cx="198108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4278"/>
                </a:solidFill>
                <a:latin typeface="Times New Roman"/>
                <a:ea typeface="Times New Roman"/>
              </a:rPr>
              <a:t>Developing Research Infrastructure:</a:t>
            </a:r>
            <a:br>
              <a:rPr sz="2400"/>
            </a:br>
            <a:r>
              <a:rPr b="1" lang="en-US" sz="2400" spc="-1" strike="noStrike">
                <a:solidFill>
                  <a:srgbClr val="174278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174278"/>
                </a:solidFill>
                <a:latin typeface="Times New Roman"/>
                <a:ea typeface="Times New Roman"/>
              </a:rPr>
              <a:t>Puerto Rico Health Services Research Institute </a:t>
            </a:r>
            <a:r>
              <a:rPr b="1" lang="en-US" sz="2400" spc="-1" strike="noStrike">
                <a:solidFill>
                  <a:srgbClr val="174278"/>
                </a:solidFill>
                <a:latin typeface="Times New Roman"/>
                <a:ea typeface="Times New Roman"/>
              </a:rPr>
              <a:t>Experienc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360" y="24382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Roberto E. Torres-Zeno, Ph.D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Principal Investigator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Health Services Administration Department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University of Puerto Rico Graduate School of Public Health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HRQ 2009 Annual Conferenc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September 14, 2009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ademia and US Feder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 Department of Agriculture (USDA) 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besity Pro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PI: Dr. Winna Rive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exchange of technical review and updates of Puerto Rican foods and recipes in the USDA Food and Nutrient Database for Dietary Stud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-day training provided to PRHSRI researchers on use of USDA Dietary Intake Softw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cademia and US Federal Government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omplementary and Alternative Medicine </a:t>
            </a:r>
            <a:r>
              <a:rPr b="1" i="1" lang="en-US" sz="2700" spc="-1" strike="noStrike">
                <a:solidFill>
                  <a:srgbClr val="003366"/>
                </a:solidFill>
                <a:latin typeface="Arial"/>
              </a:rPr>
              <a:t>(CAM) Project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(PI: Roberto E. Torres-Zeno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ccess to 2007 NHIS CAM Supplement instrument (Spanish version) for cultural adaptation in Puerto Ric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echnical Support by NCHS/CDC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otential use to study Puerto Ricans in the US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otential use to compare Puerto Ricans in the US vs Puerto Ricans living in the islan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cademia and PR Govern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uerto Rico Health Department Maternal and Child Health Division &amp; </a:t>
            </a:r>
            <a:r>
              <a:rPr b="1" i="1" lang="en-US" sz="2600" spc="-1" strike="noStrike">
                <a:solidFill>
                  <a:srgbClr val="003366"/>
                </a:solidFill>
                <a:latin typeface="Arial"/>
              </a:rPr>
              <a:t>Infant Mortality Projec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(PI: Dr. Heriberto Marí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Database provided by Puerto Rico Health Departmen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MCH Division Director member of PRHSRI Advisory Board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search findings shared with MCH Divisio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ademia and PR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erto Rico Health Department Maternal and Child Health Division &amp; PRHSRI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Infant Mortality Proje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PI: Dr. Heriberto Marí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search findings shared with Commission on Evaluation of the Puerto Rico Health Care System (2006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Marín et al., </a:t>
            </a: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The Effect of Managed Care on Prenatal Care: the Case of Puerto Rico,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 Maternal and Child Health Journal</a:t>
            </a:r>
            <a:r>
              <a:rPr b="1" i="1" lang="en-US" sz="22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2009 Mar;13(2):187-97. Epub 2008 (May 17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cademia and PR Government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R Department of Education and </a:t>
            </a:r>
            <a:r>
              <a:rPr b="1" i="1" lang="en-US" sz="2700" spc="-1" strike="noStrike">
                <a:solidFill>
                  <a:srgbClr val="003366"/>
                </a:solidFill>
                <a:latin typeface="Arial"/>
              </a:rPr>
              <a:t>Obesity Project 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(PI: Dr. Winna Rivera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2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Access to elementary school children and parents for study authorized by PR Department of Educat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Research findings available to PR Department of Health Maternal and Child Health Divisi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062720" indent="-2124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otential projects to replicate study in other school district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University of Puerto Rico Medical Sciences Campus (UPRMS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cer Center Research propos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erto Rico Comprehensive Center for the Study of HIV Disparities ($25,000 for PCAT validation on HIV populatio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ool of Medicine Endowed Health Services Research Ce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SPH Human Nutrition Program 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besity Proje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ty Organizations and Acade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Health Care Association of Puerto Rico, Inc. an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PCAT Projec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PI: Dr. Ruth Rí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primary care cen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physicians and administra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ture dissemination of research fin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tential improvement of primary health care centers delivery system in Puerto R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ding Rema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ong partnership develo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ledge development on health services iss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findings and acquired knowledg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sem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uence health poli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e in the delivery 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HSRI external fun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prhsri.rcm.upr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knowled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5142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3366"/>
                </a:solidFill>
                <a:latin typeface="Arial"/>
              </a:rPr>
              <a:t>Research project supported by grant # 6 R24 HS014060-06 awarded by the </a:t>
            </a:r>
            <a:r>
              <a:rPr b="1" lang="es-PR" sz="2800" spc="-1" strike="noStrike">
                <a:solidFill>
                  <a:srgbClr val="003366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3366"/>
                </a:solidFill>
                <a:latin typeface="Arial"/>
              </a:rPr>
              <a:t>Project Period: 2003-200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3366"/>
                </a:solidFill>
                <a:latin typeface="Arial"/>
              </a:rPr>
              <a:t>AHRQ Minority Research Infrastructure Support Program (MRIS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of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438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purpose and specific aims of AHRQ a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partnerships between the PRHSRI and collaborating organizatio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act on health services delivery system in P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challenges of developing a research infrastructure support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nt Specific Ai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43828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and maintain a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dministrative struct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Health Services Administration Department (HSAD) in the Graduate School of Public Health (GSP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aculty development and mentoring progr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 will enhance the HSAD and GSPH capabilities to undertake health services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nt Specific Ai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438280"/>
            <a:ext cx="7693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ulate and conduct pilot projects in health services research that will lead toward more comprehensive investigations through the submission of proposals for external fu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nt Specific Ai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methodological and technical support that will facilita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identification and advancement of potential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search ide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evelopment of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uccessful research proposals for external fundin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ducting pilot research projects in health services research focusing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ealth dispar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issemin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research findings for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olicy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ment purpo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lot Research Proj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lth Services Utilization Pattern of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hildren and Adolescen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thm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y Health Insurance Status in Puerto 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ffect of  Health Care Reform o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Infant Mortal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The Case of Puerto 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sychometric Properties of the Performance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ntal Health Service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hildren and Adolesce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ganizational Clim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ilot Research Proj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ealth Seeking Behavi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omplementary and Alternative Medicine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Utilization Pattern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Puerto Rico: Implications for Health Policy and Administ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ment of a Spanish Version of th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rimary Care Assessmen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l (PCA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Environment and Family Factors Associated with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hildhood Obesit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ong Elementary School Students in Puerto 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nersh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ademia and US Feder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 Department of Agriculture (USDA) 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besity Pro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PI: Dr. Winna Rive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llaboration in Dietary Research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US Department of Agriculture Extramural Agreeme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of USDA Dietary Intake Software by PRHSRI research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9:47:06Z</dcterms:created>
  <dc:creator>iiss</dc:creator>
  <dc:description/>
  <cp:keywords/>
  <dc:language>en-US</dc:language>
  <cp:lastModifiedBy>Rasa</cp:lastModifiedBy>
  <dcterms:modified xsi:type="dcterms:W3CDTF">2009-10-26T01:55:49Z</dcterms:modified>
  <cp:revision>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