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5EA5-8FF6-4635-967B-74F23DDDC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CBE2-1667-47F3-89A3-A8168332EF64}" type="slidenum">
              <a:rPr b="0" lang="en-US" sz="1200" spc="-1" strike="noStrike">
                <a:solidFill>
                  <a:srgbClr val="58572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6851-3B06-4E29-92B6-0622DA10783C}" type="slidenum">
              <a:rPr b="0" lang="en-US" sz="1200" spc="-1" strike="noStrike">
                <a:solidFill>
                  <a:srgbClr val="58572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EFF3-5B6F-4F26-85E5-710BE949085B}" type="slidenum">
              <a:rPr b="0" lang="en-US" sz="1200" spc="-1" strike="noStrike">
                <a:solidFill>
                  <a:srgbClr val="58572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7969-AA4B-4BE7-89E1-D86E51F18635}" type="slidenum">
              <a:rPr b="0" lang="en-US" sz="1200" spc="-1" strike="noStrike">
                <a:solidFill>
                  <a:srgbClr val="58572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4A89-24B1-4637-A5F8-09C7E2D552BE}" type="slidenum">
              <a:rPr b="0" lang="en-US" sz="1200" spc="-1" strike="noStrike">
                <a:solidFill>
                  <a:srgbClr val="58572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3ED7-5888-4837-9228-19C6AACAB4E1}" type="slidenum">
              <a:rPr b="0" lang="en-US" sz="1200" spc="-1" strike="noStrike">
                <a:solidFill>
                  <a:srgbClr val="58572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64AA-2D7F-41EA-A899-625978B1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A30-3F52-4B11-83AE-7FEEDADD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E5C-2AE2-4828-8EBA-5F41E9D3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1B5-F4A9-404F-8189-24836E2F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F437-F190-4801-B68E-16CBA461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5F59-99D3-4FDB-9362-A82AB3AB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85AE-4331-4E1F-AB8E-F507824B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C20D-F6D1-47A0-8858-3774A274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3340-D06E-4C7F-93D7-F8B2F601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26E8-DF20-46A0-B163-EDB719EE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83E7-281C-49F4-945A-609D46F9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9FE-FD34-47F8-8EA3-00B003FD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D6D7-43C9-40C6-9CB5-8C2EC684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FD56-D211-470B-8306-276CA7BF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E24D-80A3-4174-B73A-5C6C712A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6CC4-2E8A-4697-9C0B-B80080F8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1FC6-1206-46E5-AF77-01DD5BD8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CC1-B4AF-4B7E-9CB8-ABEAAD02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8BC-9D1D-40FD-90C9-B1804E50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8F3-8947-402C-A966-68185D64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928-1011-427C-855D-7FD1813A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A57-0AAC-47FA-851D-2741D3C5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FC2-8EDC-4246-9B0D-1271E1E6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CEF-BC08-4F31-9DB4-57F17BD3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951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91DC-7030-4061-8089-DBC6A8BE13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1A83-5C85-4799-91D3-FF4893B31CCC}" type="slidenum"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90920"/>
            <a:ext cx="8229600" cy="116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 Black"/>
              </a:rPr>
              <a:t>EHR = Meaningful Use?</a:t>
            </a:r>
            <a:endParaRPr b="0" lang="en-US" sz="44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520" y="4419360"/>
            <a:ext cx="61401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Kelly Templeton, Application Specialist 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Citizens Memorial Healthcare 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Bolivar Missouri 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itizens Memorial Healthcare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2361960"/>
            <a:ext cx="4076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524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8572b"/>
                </a:solidFill>
                <a:latin typeface="Arial"/>
              </a:rPr>
              <a:t>55 acute care beds</a:t>
            </a:r>
            <a:endParaRPr b="0" lang="en-US" sz="2100" spc="-1" strike="noStrike">
              <a:solidFill>
                <a:srgbClr val="58572b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Medical/Surgical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ICU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The BirthPlace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Geriatric Wellness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524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8572b"/>
                </a:solidFill>
                <a:latin typeface="Arial"/>
              </a:rPr>
              <a:t>Emergency Services</a:t>
            </a:r>
            <a:endParaRPr b="0" lang="en-US" sz="2100" spc="-1" strike="noStrike">
              <a:solidFill>
                <a:srgbClr val="58572b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Level III trauma center 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Ambulance Services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Air Ambulance onsite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524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8572b"/>
                </a:solidFill>
                <a:latin typeface="Arial"/>
              </a:rPr>
              <a:t>Home Health, Hospice, Home Medical Equipment, Health Transit Services</a:t>
            </a:r>
            <a:endParaRPr b="0" lang="en-US" sz="2100" spc="-1" strike="noStrike">
              <a:solidFill>
                <a:srgbClr val="58572b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524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8572b"/>
                </a:solidFill>
                <a:latin typeface="Arial"/>
              </a:rPr>
              <a:t>Long Term Care Facilities</a:t>
            </a:r>
            <a:endParaRPr b="0" lang="en-US" sz="2100" spc="-1" strike="noStrike">
              <a:solidFill>
                <a:srgbClr val="58572b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524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8572b"/>
                </a:solidFill>
                <a:latin typeface="Arial"/>
              </a:rPr>
              <a:t>Residential Care Facility</a:t>
            </a:r>
            <a:endParaRPr b="0" lang="en-US" sz="2100" spc="-1" strike="noStrike">
              <a:solidFill>
                <a:srgbClr val="58572b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524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8572b"/>
                </a:solidFill>
                <a:latin typeface="Arial"/>
              </a:rPr>
              <a:t>Physician Clinics</a:t>
            </a:r>
            <a:endParaRPr b="0" lang="en-US" sz="2100" spc="-1" strike="noStrike">
              <a:solidFill>
                <a:srgbClr val="58572b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524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8572b"/>
              </a:solidFill>
              <a:latin typeface="Arial"/>
            </a:endParaRPr>
          </a:p>
          <a:p>
            <a:pPr marL="277560" indent="-277560">
              <a:spcBef>
                <a:spcPts val="524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029200" y="4457880"/>
            <a:ext cx="4114800" cy="30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8572b"/>
                </a:solidFill>
                <a:latin typeface="Arial"/>
              </a:rPr>
              <a:t>Outpatient Services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Rehab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Sleep Lab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Cardiac Cath Lab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72b"/>
                </a:solidFill>
                <a:latin typeface="Arial"/>
              </a:rPr>
              <a:t>Visiting Specialists</a:t>
            </a:r>
            <a:endParaRPr b="0" lang="en-US" sz="16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8572b"/>
                </a:solidFill>
                <a:latin typeface="Arial"/>
              </a:rPr>
              <a:t>Ambulatory Surgery Center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8572b"/>
                </a:solidFill>
                <a:latin typeface="Arial"/>
              </a:rPr>
              <a:t>Carrie J. Babb Cancer Center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94" name="Picture 9" descr="citizens memorial hospital entrance"/>
          <p:cNvPicPr/>
          <p:nvPr/>
        </p:nvPicPr>
        <p:blipFill>
          <a:blip r:embed="rId2"/>
          <a:stretch/>
        </p:blipFill>
        <p:spPr>
          <a:xfrm>
            <a:off x="4495680" y="2438280"/>
            <a:ext cx="40388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 Black"/>
              </a:rPr>
              <a:t>Project InfoCare Vision</a:t>
            </a:r>
            <a:endParaRPr b="0" lang="en-US" sz="32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 Narrow"/>
              </a:rPr>
              <a:t>Enable a patient to enter anywhere into the continuum of care and have a personal identity that is maintained across that continuum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 Narrow"/>
              </a:rPr>
              <a:t>Physicians and other caregivers will have access to all of that patient’s medical information within the healthcare continuum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 Narrow"/>
              </a:rPr>
              <a:t>Providers will be able to document efficiently within the software system, which will free them to have more time to spend with patients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 Narrow"/>
              </a:rPr>
              <a:t>The investment of time, talent and money will enable CMH to be a technologically advanced healthcare organization poised to grow and offer new services to our patients and the community at large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2666520"/>
            <a:ext cx="4076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 Narrow"/>
              </a:rPr>
              <a:t>EMR that crosses continuum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 Narrow"/>
              </a:rPr>
              <a:t>100% use of CPOE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 Narrow"/>
              </a:rPr>
              <a:t>No paper charts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98" name="Picture 4" descr="EMR flow chart"/>
          <p:cNvPicPr/>
          <p:nvPr/>
        </p:nvPicPr>
        <p:blipFill>
          <a:blip r:embed="rId2"/>
          <a:stretch/>
        </p:blipFill>
        <p:spPr>
          <a:xfrm>
            <a:off x="4363920" y="1523880"/>
            <a:ext cx="4780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1828800"/>
            <a:ext cx="8791560" cy="5029200"/>
            <a:chOff x="0" y="1828800"/>
            <a:chExt cx="8791560" cy="5029200"/>
          </a:xfrm>
        </p:grpSpPr>
        <p:pic>
          <p:nvPicPr>
            <p:cNvPr id="100" name="Picture 17" descr="davieslogodash"/>
            <p:cNvPicPr/>
            <p:nvPr/>
          </p:nvPicPr>
          <p:blipFill>
            <a:blip r:embed="rId2"/>
            <a:stretch/>
          </p:blipFill>
          <p:spPr>
            <a:xfrm>
              <a:off x="685800" y="1828800"/>
              <a:ext cx="2948040" cy="238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" name="Group 18"/>
            <p:cNvGrpSpPr/>
            <p:nvPr/>
          </p:nvGrpSpPr>
          <p:grpSpPr>
            <a:xfrm>
              <a:off x="0" y="4378320"/>
              <a:ext cx="5105520" cy="2251080"/>
              <a:chOff x="0" y="4378320"/>
              <a:chExt cx="5105520" cy="2251080"/>
            </a:xfrm>
          </p:grpSpPr>
          <p:pic>
            <p:nvPicPr>
              <p:cNvPr id="102" name="Picture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5064120"/>
                <a:ext cx="5105520" cy="156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Picture 20" descr=""/>
              <p:cNvPicPr/>
              <p:nvPr/>
            </p:nvPicPr>
            <p:blipFill>
              <a:blip r:embed="rId4"/>
              <a:srcRect l="0" t="0" r="0" b="5479"/>
              <a:stretch/>
            </p:blipFill>
            <p:spPr>
              <a:xfrm>
                <a:off x="228600" y="4378320"/>
                <a:ext cx="3476880" cy="990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Group 12"/>
            <p:cNvGrpSpPr/>
            <p:nvPr/>
          </p:nvGrpSpPr>
          <p:grpSpPr>
            <a:xfrm>
              <a:off x="5029200" y="3419640"/>
              <a:ext cx="3598920" cy="3438360"/>
              <a:chOff x="5029200" y="3419640"/>
              <a:chExt cx="3598920" cy="3438360"/>
            </a:xfrm>
          </p:grpSpPr>
          <p:pic>
            <p:nvPicPr>
              <p:cNvPr id="105" name="Pictur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029200" y="3419640"/>
                <a:ext cx="2837160" cy="260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5286960" y="3681360"/>
                <a:ext cx="2837160" cy="260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5544720" y="3943440"/>
                <a:ext cx="2837160" cy="260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5790960" y="4257720"/>
                <a:ext cx="2837160" cy="2600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9" name="Picture 4" descr="CMH logo 201"/>
            <p:cNvPicPr/>
            <p:nvPr/>
          </p:nvPicPr>
          <p:blipFill>
            <a:blip r:embed="rId9"/>
            <a:stretch/>
          </p:blipFill>
          <p:spPr>
            <a:xfrm>
              <a:off x="4724280" y="2057400"/>
              <a:ext cx="4067280" cy="155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Implemented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CPOE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e-Prescribing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Patient Porta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Health Maintenance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Quality Measure Research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Quality Reporting/AHRQ Grant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960" y="289512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Standardize and integrate data capture for quality measurement into the normal documentation of care within the ambulatory EMR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Implementation of an automated system for data extraction including valid, reliable reports that provide actionable insight for the measurement, analysis and improvement of care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76680" y="1676520"/>
            <a:ext cx="9372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 Black"/>
              </a:rPr>
              <a:t>Research Results: Coding 4 Diabetic Measures</a:t>
            </a:r>
            <a:r>
              <a:rPr b="0" lang="en-US" sz="3200" spc="-1" strike="noStrike">
                <a:solidFill>
                  <a:srgbClr val="808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64 cases qualified for the measures, 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coders manually coded 16 qualified &amp; 7 cases unqualified (only 25%) 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The 16 cases should have had 64 codes;  only coded 46 of the 64, (70%) were reported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09680" y="525780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Automated data extraction identified all 64 cases reporting 256 codes (100%)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hallenges with Meaningful Use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User utilization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ubmitting code to CMS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Maintaining the changing quality measures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Difficult to build into documentation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Not consistent 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9:14:23Z</dcterms:created>
  <dc:creator>ktempl</dc:creator>
  <dc:description/>
  <dc:language>en-US</dc:language>
  <cp:lastModifiedBy>Rasa</cp:lastModifiedBy>
  <dcterms:modified xsi:type="dcterms:W3CDTF">2009-10-28T20:21:21Z</dcterms:modified>
  <cp:revision>9</cp:revision>
  <dc:subject/>
  <dc:title>Slide 1</dc:title>
</cp:coreProperties>
</file>