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7E4B-F75E-4194-B431-6398783E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9C05-1B36-4513-8AAB-2BA4BE40F8BD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E2F7-E4D0-41C9-821C-3D68FF8A59CC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393B-526B-4697-8656-458172F1EC9B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6ED9-359A-4672-9876-938F7398C6FB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1D98-A12C-4104-B716-BE1AE2CC7CBB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CBE-6166-46F9-8EF9-7DE93530E8F7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EBD-F296-47CD-9499-8D60ED31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680-95FB-40AC-B83F-CFE6F7D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881-A819-47BD-9A3E-8B0151BC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554-8CCD-443C-9CE3-6C7DDE38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11A-61D2-4FD6-80FB-418E081C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B536-81D6-486E-B7E8-431ACE6A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A6F7-FE0F-4F8E-8312-CD5CC96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D9F-6E05-48F6-8302-6518A39B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11B-A9C9-4D58-A79D-3020904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18D-1F4A-4AA2-9400-E126427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7B2C-4F2C-4C6B-8D60-1D36049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0A6-D8E8-4033-9DAB-C7E8EE00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01AD-AA2C-4CC7-8731-925F031D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1A4-FB4F-4439-B89A-DD6F4781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D517-BCBE-4F4F-9D5B-3AE932D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E6F6-9971-4278-BD2A-F8D05200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A542-11A7-4A9A-94E0-24BD3130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6A9-4C6C-4B2E-AA36-47AD336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8A7-76F8-4119-83C3-418C543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6E9-2EB0-4F4F-8C74-B531CBC8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05B-7FC2-4AF8-865D-329354A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DC1-6A6A-450D-9ED5-2D89FE1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177-76AD-424C-A203-F51643B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9AB-7C64-474B-A188-19BFDEF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8382-AD4C-4A90-8673-74A4B66C7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1532-A39B-4E17-ABE3-2A9BB3FAF58F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EHR = Meaningful Use?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4419360"/>
            <a:ext cx="6140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Kelly Templeton, Application Specialist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Citizens Memorial Healthcare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Bolivar Missouri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itizens Memorial Healthcar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236196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55 acute care bed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Medical/Surgical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ICU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The BirthPlace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Geriatric Wellnes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Emergency Service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Level III trauma center 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Ambulance Service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Air Ambulance onsite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Home Health, Hospice, Home Medical Equipment, Health Transit Service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Long Term Care Facilitie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Residential Care Facility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Physician Clinic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29200" y="4457880"/>
            <a:ext cx="4114800" cy="30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72b"/>
                </a:solidFill>
                <a:latin typeface="Arial"/>
              </a:rPr>
              <a:t>Outpatient Services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Rehab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Sleep Lab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Cardiac Cath Lab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Visiting Specialist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72b"/>
                </a:solidFill>
                <a:latin typeface="Arial"/>
              </a:rPr>
              <a:t>Ambulatory Surgery Center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72b"/>
                </a:solidFill>
                <a:latin typeface="Arial"/>
              </a:rPr>
              <a:t>Carrie J. Babb Cancer Center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4" name="Picture 9" descr="citizens memorial hospital entrance"/>
          <p:cNvPicPr/>
          <p:nvPr/>
        </p:nvPicPr>
        <p:blipFill>
          <a:blip r:embed="rId2"/>
          <a:stretch/>
        </p:blipFill>
        <p:spPr>
          <a:xfrm>
            <a:off x="4495680" y="2438280"/>
            <a:ext cx="4038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 Black"/>
              </a:rPr>
              <a:t>Project InfoCare Vision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Enable a patient to enter anywhere into the continuum of care and have a personal identity that is maintained across that continuum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Physicians and other caregivers will have access to all of that patient’s medical information within the healthcare continuum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Providers will be able to document efficiently within the software system, which will free them to have more time to spend with patients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The investment of time, talent and money will enable CMH to be a technologically advanced healthcare organization poised to grow and offer new services to our patients and the community at large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66652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 Narrow"/>
              </a:rPr>
              <a:t>EMR that crosses continuum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 Narrow"/>
              </a:rPr>
              <a:t>100% use of CPO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 Narrow"/>
              </a:rPr>
              <a:t>No paper charts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8" name="Picture 4" descr="EMR flow chart"/>
          <p:cNvPicPr/>
          <p:nvPr/>
        </p:nvPicPr>
        <p:blipFill>
          <a:blip r:embed="rId2"/>
          <a:stretch/>
        </p:blipFill>
        <p:spPr>
          <a:xfrm>
            <a:off x="4363920" y="1523880"/>
            <a:ext cx="4780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828800"/>
            <a:ext cx="8791560" cy="5029200"/>
            <a:chOff x="0" y="1828800"/>
            <a:chExt cx="8791560" cy="5029200"/>
          </a:xfrm>
        </p:grpSpPr>
        <p:pic>
          <p:nvPicPr>
            <p:cNvPr id="100" name="Picture 17" descr="davieslogodash"/>
            <p:cNvPicPr/>
            <p:nvPr/>
          </p:nvPicPr>
          <p:blipFill>
            <a:blip r:embed="rId2"/>
            <a:stretch/>
          </p:blipFill>
          <p:spPr>
            <a:xfrm>
              <a:off x="685800" y="1828800"/>
              <a:ext cx="2948040" cy="238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18"/>
            <p:cNvGrpSpPr/>
            <p:nvPr/>
          </p:nvGrpSpPr>
          <p:grpSpPr>
            <a:xfrm>
              <a:off x="0" y="4378320"/>
              <a:ext cx="5105520" cy="2251080"/>
              <a:chOff x="0" y="4378320"/>
              <a:chExt cx="5105520" cy="2251080"/>
            </a:xfrm>
          </p:grpSpPr>
          <p:pic>
            <p:nvPicPr>
              <p:cNvPr id="102" name="Pictur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5064120"/>
                <a:ext cx="5105520" cy="15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20" descr=""/>
              <p:cNvPicPr/>
              <p:nvPr/>
            </p:nvPicPr>
            <p:blipFill>
              <a:blip r:embed="rId4"/>
              <a:srcRect l="0" t="0" r="0" b="5479"/>
              <a:stretch/>
            </p:blipFill>
            <p:spPr>
              <a:xfrm>
                <a:off x="228600" y="4378320"/>
                <a:ext cx="347688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Group 12"/>
            <p:cNvGrpSpPr/>
            <p:nvPr/>
          </p:nvGrpSpPr>
          <p:grpSpPr>
            <a:xfrm>
              <a:off x="5029200" y="3419640"/>
              <a:ext cx="3598920" cy="3438360"/>
              <a:chOff x="5029200" y="3419640"/>
              <a:chExt cx="3598920" cy="3438360"/>
            </a:xfrm>
          </p:grpSpPr>
          <p:pic>
            <p:nvPicPr>
              <p:cNvPr id="105" name="Pictur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341964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5286960" y="368136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544720" y="394344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90960" y="425772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9" name="Picture 4" descr="CMH logo 201"/>
            <p:cNvPicPr/>
            <p:nvPr/>
          </p:nvPicPr>
          <p:blipFill>
            <a:blip r:embed="rId9"/>
            <a:stretch/>
          </p:blipFill>
          <p:spPr>
            <a:xfrm>
              <a:off x="4724280" y="2057400"/>
              <a:ext cx="4067280" cy="15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Implemented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PO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e-Prescribing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Patient Porta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Health Maintenanc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Quality Measure Research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Quality Reporting/AHRQ Gran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289512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tandardize and integrate data capture for quality measurement into the normal documentation of care within the ambulatory EMR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Implementation of an automated system for data extraction including valid, reliable reports that provide actionable insight for the measurement, analysis and improvement of car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76680" y="167652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Research Results: Coding 4 Diabetic Measures</a:t>
            </a:r>
            <a:r>
              <a:rPr b="0" lang="en-US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64 cases qualified for the measures, 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oders manually coded 16 qualified &amp; 7 cases unqualified (only 25%) 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he 16 cases should have had 64 codes;  only coded 46 of the 64, (70%) were reported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09680" y="52578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Automated data extraction identified all 64 cases reporting 256 codes (100%)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hallenges with Meaningful Us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User utilization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ubmitting code to CM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Maintaining the changing quality measure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Difficult to build into documentation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Not consistent 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14:23Z</dcterms:created>
  <dc:creator>ktempl</dc:creator>
  <dc:description/>
  <dc:language>en-US</dc:language>
  <cp:lastModifiedBy>Rasa</cp:lastModifiedBy>
  <dcterms:modified xsi:type="dcterms:W3CDTF">2009-10-28T20:21:21Z</dcterms:modified>
  <cp:revision>9</cp:revision>
  <dc:subject/>
  <dc:title>Slide 1</dc:title>
</cp:coreProperties>
</file>