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3B21-9D8E-435C-8C5E-409895A2E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36CF-29CC-49B3-BD8C-BF31173C0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A89-A094-491B-8F77-8D03CE15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FF7-8A08-41F3-BBA6-6EF918B7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7A1-EFA8-4059-B93A-2D903A8E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4D0-37E4-45ED-964D-94670661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99C-5997-4EE7-97D0-815675ED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8BD-1CAE-4EE0-8E63-2689FC21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8CE-6DCC-4652-9479-EEDD4F9C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DCB-62A1-4ADB-8E19-D2EAA39B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1BB7-C253-4ED8-9FF6-10A49874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2EDE-CCF4-46B8-8881-3DAC8EAC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917-6AA0-491D-8E36-2B0C4382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F58-9D1E-4BC8-B37D-549CD608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03DA-1D7A-4D65-A698-5A4343F6E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nap.edu/catalog/10260.ht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airus.org/site/PageNavigator/facts/state_data_MA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VHCPlogo(72909)"/>
          <p:cNvPicPr/>
          <p:nvPr/>
        </p:nvPicPr>
        <p:blipFill>
          <a:blip r:embed="rId1"/>
          <a:stretch/>
        </p:blipFill>
        <p:spPr>
          <a:xfrm>
            <a:off x="3352680" y="4876920"/>
            <a:ext cx="2438640" cy="1790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arities in Health Car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s for National Reporting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lahn Taylor-Clark, PhD, MPH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arch Director, Racial/Ethnic Health Care Equity Initiativ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ookings Institution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RQ 2009 Annual Confere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iderations fo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ing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sumer preferenc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are consumers’ concerns about direct data collection by plans? What are consumer preferences for reporting race/ethnicity (e.g. available response categories)? To what messages about data collection activities/benefits do various consumer populations respond? What information on health care equity do consumers want to k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s of data collec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are organizations’ capabilities for acquiring directly collected or third party source data? What are cost effective modes of data collection for organizati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 of dat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will organizations and State analyze data? What will (goals of) interventions be (i.e. quality advancement v. disparities reduction)? Who will be involved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iderations for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ing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ing standard categories and thresholds f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third party sour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protocols/fil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ing indirectly estimat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protocols/Fil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ing directly collected and indirectly estimat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ank You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32464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tclark@brookings.ed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equity in the data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key IO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alue Health Care Project/Equity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 for implementation of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292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ing Health Care Equity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ng the Data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V="1">
            <a:off x="8610480" y="2338560"/>
            <a:ext cx="0" cy="3200400"/>
          </a:xfrm>
          <a:prstGeom prst="line">
            <a:avLst/>
          </a:prstGeom>
          <a:ln w="572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6762600" y="2338560"/>
            <a:ext cx="1847880" cy="0"/>
          </a:xfrm>
          <a:prstGeom prst="line">
            <a:avLst/>
          </a:prstGeom>
          <a:ln w="57240">
            <a:solidFill>
              <a:srgbClr val="00808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867280" y="5538960"/>
            <a:ext cx="2743200" cy="0"/>
          </a:xfrm>
          <a:prstGeom prst="line">
            <a:avLst/>
          </a:prstGeom>
          <a:ln w="572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705720" y="5234040"/>
            <a:ext cx="1485720" cy="7398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entives for improvement; Bench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>
            <a:off x="5029200" y="4319640"/>
            <a:ext cx="0" cy="990720"/>
          </a:xfrm>
          <a:prstGeom prst="line">
            <a:avLst/>
          </a:prstGeom>
          <a:ln w="57240">
            <a:solidFill>
              <a:srgbClr val="99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2514600" y="5348160"/>
            <a:ext cx="3591000" cy="8002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 and Private Pa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 Reporting Organ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2209680" y="2949480"/>
            <a:ext cx="5029200" cy="1370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Exchange/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2362320" y="3286080"/>
            <a:ext cx="4620600" cy="956880"/>
            <a:chOff x="2362320" y="3286080"/>
            <a:chExt cx="4620600" cy="956880"/>
          </a:xfrm>
        </p:grpSpPr>
        <p:sp>
          <p:nvSpPr>
            <p:cNvPr id="61" name="Line 13"/>
            <p:cNvSpPr/>
            <p:nvPr/>
          </p:nvSpPr>
          <p:spPr>
            <a:xfrm>
              <a:off x="3367440" y="3744000"/>
              <a:ext cx="192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5827680" y="3744000"/>
              <a:ext cx="193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5"/>
            <p:cNvSpPr/>
            <p:nvPr/>
          </p:nvSpPr>
          <p:spPr>
            <a:xfrm>
              <a:off x="4574160" y="3740040"/>
              <a:ext cx="194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6"/>
            <p:cNvSpPr/>
            <p:nvPr/>
          </p:nvSpPr>
          <p:spPr>
            <a:xfrm>
              <a:off x="2362320" y="3286080"/>
              <a:ext cx="931320" cy="95544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7d7d7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2526480" y="3529800"/>
              <a:ext cx="56520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235080" indent="-235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tegrat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35080" indent="-235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liver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35080" indent="-235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8"/>
            <p:cNvSpPr/>
            <p:nvPr/>
          </p:nvSpPr>
          <p:spPr>
            <a:xfrm>
              <a:off x="3610080" y="3287160"/>
              <a:ext cx="931320" cy="95580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7d7d7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9"/>
            <p:cNvSpPr/>
            <p:nvPr/>
          </p:nvSpPr>
          <p:spPr>
            <a:xfrm>
              <a:off x="3774240" y="3529800"/>
              <a:ext cx="56520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la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20"/>
            <p:cNvSpPr/>
            <p:nvPr/>
          </p:nvSpPr>
          <p:spPr>
            <a:xfrm>
              <a:off x="4781880" y="3287160"/>
              <a:ext cx="931320" cy="95580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7d7d7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1"/>
            <p:cNvSpPr/>
            <p:nvPr/>
          </p:nvSpPr>
          <p:spPr>
            <a:xfrm>
              <a:off x="4946040" y="3529800"/>
              <a:ext cx="56520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gistrie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22"/>
            <p:cNvSpPr/>
            <p:nvPr/>
          </p:nvSpPr>
          <p:spPr>
            <a:xfrm>
              <a:off x="6051240" y="3287160"/>
              <a:ext cx="931680" cy="95580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7d7d7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3"/>
            <p:cNvSpPr/>
            <p:nvPr/>
          </p:nvSpPr>
          <p:spPr>
            <a:xfrm>
              <a:off x="6215400" y="3529800"/>
              <a:ext cx="56556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24" descr=""/>
          <p:cNvPicPr/>
          <p:nvPr/>
        </p:nvPicPr>
        <p:blipFill>
          <a:blip r:embed="rId1"/>
          <a:stretch/>
        </p:blipFill>
        <p:spPr>
          <a:xfrm>
            <a:off x="3479760" y="2178000"/>
            <a:ext cx="450720" cy="430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"/>
          <p:cNvPicPr/>
          <p:nvPr/>
        </p:nvPicPr>
        <p:blipFill>
          <a:blip r:embed="rId2"/>
          <a:stretch/>
        </p:blipFill>
        <p:spPr>
          <a:xfrm>
            <a:off x="5311800" y="2184480"/>
            <a:ext cx="450720" cy="43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" descr=""/>
          <p:cNvPicPr/>
          <p:nvPr/>
        </p:nvPicPr>
        <p:blipFill>
          <a:blip r:embed="rId3"/>
          <a:stretch/>
        </p:blipFill>
        <p:spPr>
          <a:xfrm>
            <a:off x="2716200" y="2104920"/>
            <a:ext cx="165240" cy="541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7" descr=""/>
          <p:cNvPicPr/>
          <p:nvPr/>
        </p:nvPicPr>
        <p:blipFill>
          <a:blip r:embed="rId4"/>
          <a:stretch/>
        </p:blipFill>
        <p:spPr>
          <a:xfrm>
            <a:off x="4559400" y="2101680"/>
            <a:ext cx="164880" cy="541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8" descr=""/>
          <p:cNvPicPr/>
          <p:nvPr/>
        </p:nvPicPr>
        <p:blipFill>
          <a:blip r:embed="rId5"/>
          <a:stretch/>
        </p:blipFill>
        <p:spPr>
          <a:xfrm>
            <a:off x="6373800" y="2101680"/>
            <a:ext cx="165240" cy="541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9" descr="MCj04369940000[1]"/>
          <p:cNvPicPr/>
          <p:nvPr/>
        </p:nvPicPr>
        <p:blipFill>
          <a:blip r:embed="rId6"/>
          <a:stretch/>
        </p:blipFill>
        <p:spPr>
          <a:xfrm>
            <a:off x="4419720" y="1042920"/>
            <a:ext cx="630000" cy="631800"/>
          </a:xfrm>
          <a:prstGeom prst="rect">
            <a:avLst/>
          </a:prstGeom>
          <a:ln w="0">
            <a:noFill/>
          </a:ln>
        </p:spPr>
      </p:pic>
      <p:cxnSp>
        <p:nvCxnSpPr>
          <p:cNvPr id="78" name="AutoShape 30"/>
          <p:cNvCxnSpPr/>
          <p:nvPr/>
        </p:nvCxnSpPr>
        <p:spPr>
          <a:xfrm rot="5400000">
            <a:off x="3551400" y="921240"/>
            <a:ext cx="430920" cy="1937520"/>
          </a:xfrm>
          <a:prstGeom prst="bentConnector3">
            <a:avLst>
              <a:gd name="adj1" fmla="val 4974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AutoShape 31"/>
          <p:cNvCxnSpPr/>
          <p:nvPr/>
        </p:nvCxnSpPr>
        <p:spPr>
          <a:xfrm rot="5400000">
            <a:off x="3967920" y="1411200"/>
            <a:ext cx="504000" cy="1031040"/>
          </a:xfrm>
          <a:prstGeom prst="bentConnector3">
            <a:avLst>
              <a:gd name="adj1" fmla="val 4982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AutoShape 32"/>
          <p:cNvCxnSpPr/>
          <p:nvPr/>
        </p:nvCxnSpPr>
        <p:spPr>
          <a:xfrm rot="5400000">
            <a:off x="4474440" y="1841400"/>
            <a:ext cx="427680" cy="9432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AutoShape 33"/>
          <p:cNvCxnSpPr/>
          <p:nvPr/>
        </p:nvCxnSpPr>
        <p:spPr>
          <a:xfrm flipH="1" rot="16200000">
            <a:off x="4880520" y="1528560"/>
            <a:ext cx="510480" cy="802440"/>
          </a:xfrm>
          <a:prstGeom prst="bentConnector3">
            <a:avLst>
              <a:gd name="adj1" fmla="val 4982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AutoShape 34"/>
          <p:cNvCxnSpPr/>
          <p:nvPr/>
        </p:nvCxnSpPr>
        <p:spPr>
          <a:xfrm flipH="1" rot="16200000">
            <a:off x="5382360" y="1027440"/>
            <a:ext cx="427680" cy="172152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" name="Line 35"/>
          <p:cNvSpPr/>
          <p:nvPr/>
        </p:nvSpPr>
        <p:spPr>
          <a:xfrm>
            <a:off x="2914560" y="2548080"/>
            <a:ext cx="209520" cy="3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3724200" y="2633760"/>
            <a:ext cx="0" cy="237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 flipH="1">
            <a:off x="6095880" y="2557440"/>
            <a:ext cx="238320" cy="314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8"/>
          <p:cNvSpPr/>
          <p:nvPr/>
        </p:nvSpPr>
        <p:spPr>
          <a:xfrm>
            <a:off x="5562720" y="2643120"/>
            <a:ext cx="0" cy="23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9"/>
          <p:cNvSpPr/>
          <p:nvPr/>
        </p:nvSpPr>
        <p:spPr>
          <a:xfrm>
            <a:off x="4648320" y="2643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0"/>
          <p:cNvSpPr/>
          <p:nvPr/>
        </p:nvSpPr>
        <p:spPr>
          <a:xfrm>
            <a:off x="4059360" y="4403880"/>
            <a:ext cx="0" cy="982440"/>
          </a:xfrm>
          <a:prstGeom prst="line">
            <a:avLst/>
          </a:prstGeom>
          <a:ln w="57240">
            <a:solidFill>
              <a:srgbClr val="00808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1"/>
          <p:cNvSpPr/>
          <p:nvPr/>
        </p:nvSpPr>
        <p:spPr>
          <a:xfrm>
            <a:off x="5029200" y="6148440"/>
            <a:ext cx="0" cy="15228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2"/>
          <p:cNvSpPr/>
          <p:nvPr/>
        </p:nvSpPr>
        <p:spPr>
          <a:xfrm>
            <a:off x="5029200" y="6300720"/>
            <a:ext cx="3900600" cy="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3"/>
          <p:cNvSpPr/>
          <p:nvPr/>
        </p:nvSpPr>
        <p:spPr>
          <a:xfrm flipV="1">
            <a:off x="8915400" y="1499760"/>
            <a:ext cx="0" cy="480060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4"/>
          <p:cNvSpPr/>
          <p:nvPr/>
        </p:nvSpPr>
        <p:spPr>
          <a:xfrm>
            <a:off x="5105520" y="1500120"/>
            <a:ext cx="3809880" cy="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5"/>
          <p:cNvSpPr/>
          <p:nvPr/>
        </p:nvSpPr>
        <p:spPr>
          <a:xfrm>
            <a:off x="7010280" y="1120680"/>
            <a:ext cx="1447920" cy="9129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tratified) Performance information for informed selection of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6"/>
          <p:cNvSpPr/>
          <p:nvPr/>
        </p:nvSpPr>
        <p:spPr>
          <a:xfrm flipV="1">
            <a:off x="304920" y="1500120"/>
            <a:ext cx="12600" cy="237024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7"/>
          <p:cNvSpPr/>
          <p:nvPr/>
        </p:nvSpPr>
        <p:spPr>
          <a:xfrm flipH="1">
            <a:off x="304920" y="3862440"/>
            <a:ext cx="1828800" cy="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8"/>
          <p:cNvSpPr/>
          <p:nvPr/>
        </p:nvSpPr>
        <p:spPr>
          <a:xfrm>
            <a:off x="304920" y="1500120"/>
            <a:ext cx="4114800" cy="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9"/>
          <p:cNvSpPr/>
          <p:nvPr/>
        </p:nvSpPr>
        <p:spPr>
          <a:xfrm>
            <a:off x="947880" y="966960"/>
            <a:ext cx="1490400" cy="99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on care experience, health status, race/ethnicity,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3"/>
          <p:cNvSpPr/>
          <p:nvPr/>
        </p:nvSpPr>
        <p:spPr>
          <a:xfrm>
            <a:off x="685800" y="685800"/>
            <a:ext cx="1981080" cy="1600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7696080" y="5913360"/>
            <a:ext cx="1219320" cy="792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e of Medicine (IOM) Repor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 Recommendations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committee on Standardized Collection of Race/Ethnicity Data for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lthcare Quality Improvement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31, 2009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 should collect data on granular ethnicity and elicit race responses consistent with current OMB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data on preferred language and level of English pro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standards to support data exchange of race/ethnicity/language across multiple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indirect estimation where self-reported data are un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7696080" y="5913360"/>
            <a:ext cx="1219320" cy="723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Unequal Treatment: Confronting Racial and Ethnic Disparities in Health Care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2666880"/>
            <a:ext cx="1312920" cy="198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qualitychasm"/>
          <p:cNvPicPr/>
          <p:nvPr/>
        </p:nvPicPr>
        <p:blipFill>
          <a:blip r:embed="rId4"/>
          <a:stretch/>
        </p:blipFill>
        <p:spPr>
          <a:xfrm>
            <a:off x="1523880" y="1447920"/>
            <a:ext cx="132732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IOM book cover"/>
          <p:cNvPicPr/>
          <p:nvPr/>
        </p:nvPicPr>
        <p:blipFill>
          <a:blip r:embed="rId5"/>
          <a:stretch/>
        </p:blipFill>
        <p:spPr>
          <a:xfrm>
            <a:off x="1676520" y="2666880"/>
            <a:ext cx="1535040" cy="1981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cial/ethnic Health Care Equity Initiativ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tivation and Go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560" y="4724280"/>
            <a:ext cx="2895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s of Racial/ethn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lth Care Equity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ulgate best practices for collecting, monitoring, and disclosure of race/ethnicity data to promote equity in care across all grou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576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stent body of research demonstrates significant variation in the rates of medical procedures by race, even when insurance status, income, age, and severity of conditions are compara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care organizations should collect, report, and monitor patient-care data to build a foundation for solutions to racial/ethnic disparities in c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equity in care by increasing accountability and monitoring and improving clinical care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continued attention to data concerns, inadequate information continues to limit the analyses of health care-related disparities and their outco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7696080" y="5913360"/>
            <a:ext cx="1219320" cy="7239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1066680"/>
            <a:ext cx="8839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941480" indent="-22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57200" y="2579760"/>
            <a:ext cx="3505320" cy="1736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c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de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1 American Indian/Alaska N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 As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3 Black/Africa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4 Native Hawaiian or other Pacific Isl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9 Other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 Unknown/not 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4267080" y="1066680"/>
            <a:ext cx="3581640" cy="5423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thnicity 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Code Descri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82-4 Cub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84-0 Domini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48-5 Mexican, Mexican American, Chic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80-8 Puerto Ri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61-8 Salvador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55-0 Central American (not otherwise specifi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65-9 South American (not otherwise specifi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60-2 Afri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58-6 African Ameri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MERCN Ameri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28-9 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29-7 Asian In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RAZIL Brazi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33-9 Cambo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VERDN Cape Verd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RIBI Caribbean Island2034-7 Chin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69-1 Columb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08-9 Europ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36-2 Filip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57-6 Guatema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71-9 Hait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58-4 Hondur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39-6 Japan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40-4 Kor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41-2 Laot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18-8 Middle East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RTUG Portugu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USSIA Rus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ASTEU Eastern Europ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47-9 Vietnam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Other Ethnic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NKNOW Unknown/not spec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114800" y="12193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achusetts Quality and Cost Counci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form Reporting System for Health Care Claims Data Se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29 CMR 2.0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ggested Categories f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llect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ACE/LATINO ETHNICITY IDENTIFI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QC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462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Check All That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Indian/Alaska N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panic/Latino/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panic/Latino/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panic/Latino/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Hawaiian/Pacific Isl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990720" y="6172200"/>
            <a:ext cx="716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If organization does not have space to collect more than one race/Latino ethnicity category, health plan may submit a waiver to include “multiracial” as a catego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85800" y="1066680"/>
          <a:ext cx="8077320" cy="4394160"/>
        </p:xfrm>
        <a:graphic>
          <a:graphicData uri="http://schemas.openxmlformats.org/drawingml/2006/table">
            <a:tbl>
              <a:tblPr/>
              <a:tblGrid>
                <a:gridCol w="2776680"/>
                <a:gridCol w="2774880"/>
                <a:gridCol w="2525760"/>
              </a:tblGrid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 Ten Spoken Languages in Massachusetts by Censu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 Ten Most Frequently Encountered by MA Acute Care Hospit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 Ten Languages FL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ugu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ugu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ugu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n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an Cre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an Cre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tnam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nch Cre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e Verd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tnam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e Verd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tnam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b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 Sign Language (AS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b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n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54"/>
          <p:cNvSpPr/>
          <p:nvPr/>
        </p:nvSpPr>
        <p:spPr>
          <a:xfrm>
            <a:off x="380880" y="5448960"/>
            <a:ext cx="8534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*U.S. Census Report:</a:t>
            </a:r>
            <a:r>
              <a:rPr b="0" lang="en-US" sz="1400" spc="-1" strike="noStrike">
                <a:solidFill>
                  <a:srgbClr val="000000"/>
                </a:solidFill>
                <a:latin typeface="ヒラギノ角ゴ Pro W3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fairus.org/site/PageNavigator/facts/state_data_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ill Sans"/>
              </a:rPr>
              <a:t>**FLNE - a bi-annual publication of MDPH with language data collected by the Massachusetts Department of Education for students whose primary language is not English.</a:t>
            </a:r>
            <a:r>
              <a:rPr b="0" i="1" lang="en-US" sz="1400" spc="-1" strike="noStrike">
                <a:solidFill>
                  <a:srgbClr val="000000"/>
                </a:solidFill>
                <a:latin typeface="ヒラギノ角ゴ Pro W3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REPORT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292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ing Health Care Equity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ng the Data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8610480" y="2338560"/>
            <a:ext cx="0" cy="3200400"/>
          </a:xfrm>
          <a:prstGeom prst="line">
            <a:avLst/>
          </a:prstGeom>
          <a:ln w="572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6762600" y="2338560"/>
            <a:ext cx="1847880" cy="0"/>
          </a:xfrm>
          <a:prstGeom prst="line">
            <a:avLst/>
          </a:prstGeom>
          <a:ln w="57240">
            <a:solidFill>
              <a:srgbClr val="00808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5867280" y="5538960"/>
            <a:ext cx="2743200" cy="0"/>
          </a:xfrm>
          <a:prstGeom prst="line">
            <a:avLst/>
          </a:prstGeom>
          <a:ln w="572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705720" y="5234040"/>
            <a:ext cx="1485720" cy="7398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entives for improvement; Bench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5029200" y="4319640"/>
            <a:ext cx="0" cy="990720"/>
          </a:xfrm>
          <a:prstGeom prst="line">
            <a:avLst/>
          </a:prstGeom>
          <a:ln w="57240">
            <a:solidFill>
              <a:srgbClr val="99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514600" y="5348160"/>
            <a:ext cx="3591000" cy="8002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 and Private Pa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 Reporting Organ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2209680" y="2949480"/>
            <a:ext cx="5029200" cy="1370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Exchange/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2"/>
          <p:cNvGrpSpPr/>
          <p:nvPr/>
        </p:nvGrpSpPr>
        <p:grpSpPr>
          <a:xfrm>
            <a:off x="2362320" y="3286080"/>
            <a:ext cx="4620600" cy="956880"/>
            <a:chOff x="2362320" y="3286080"/>
            <a:chExt cx="4620600" cy="956880"/>
          </a:xfrm>
        </p:grpSpPr>
        <p:sp>
          <p:nvSpPr>
            <p:cNvPr id="130" name="Line 13"/>
            <p:cNvSpPr/>
            <p:nvPr/>
          </p:nvSpPr>
          <p:spPr>
            <a:xfrm>
              <a:off x="3367440" y="3744000"/>
              <a:ext cx="192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4"/>
            <p:cNvSpPr/>
            <p:nvPr/>
          </p:nvSpPr>
          <p:spPr>
            <a:xfrm>
              <a:off x="5827680" y="3744000"/>
              <a:ext cx="193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4574160" y="3740040"/>
              <a:ext cx="194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6"/>
            <p:cNvSpPr/>
            <p:nvPr/>
          </p:nvSpPr>
          <p:spPr>
            <a:xfrm>
              <a:off x="2362320" y="3286080"/>
              <a:ext cx="931320" cy="95544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7d7d7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7"/>
            <p:cNvSpPr/>
            <p:nvPr/>
          </p:nvSpPr>
          <p:spPr>
            <a:xfrm>
              <a:off x="2526480" y="3529800"/>
              <a:ext cx="56520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235080" indent="-235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tegrat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35080" indent="-235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liver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35080" indent="-235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8"/>
            <p:cNvSpPr/>
            <p:nvPr/>
          </p:nvSpPr>
          <p:spPr>
            <a:xfrm>
              <a:off x="3610080" y="3287160"/>
              <a:ext cx="931320" cy="95580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7d7d7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9"/>
            <p:cNvSpPr/>
            <p:nvPr/>
          </p:nvSpPr>
          <p:spPr>
            <a:xfrm>
              <a:off x="3774240" y="3529800"/>
              <a:ext cx="56520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la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0"/>
            <p:cNvSpPr/>
            <p:nvPr/>
          </p:nvSpPr>
          <p:spPr>
            <a:xfrm>
              <a:off x="4781880" y="3287160"/>
              <a:ext cx="931320" cy="95580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7d7d7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1"/>
            <p:cNvSpPr/>
            <p:nvPr/>
          </p:nvSpPr>
          <p:spPr>
            <a:xfrm>
              <a:off x="4946040" y="3529800"/>
              <a:ext cx="56520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gistrie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22"/>
            <p:cNvSpPr/>
            <p:nvPr/>
          </p:nvSpPr>
          <p:spPr>
            <a:xfrm>
              <a:off x="6051240" y="3287160"/>
              <a:ext cx="931680" cy="95580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7d7d7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3"/>
            <p:cNvSpPr/>
            <p:nvPr/>
          </p:nvSpPr>
          <p:spPr>
            <a:xfrm>
              <a:off x="6215400" y="3529800"/>
              <a:ext cx="56556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24" descr=""/>
          <p:cNvPicPr/>
          <p:nvPr/>
        </p:nvPicPr>
        <p:blipFill>
          <a:blip r:embed="rId1"/>
          <a:stretch/>
        </p:blipFill>
        <p:spPr>
          <a:xfrm>
            <a:off x="3479760" y="2178000"/>
            <a:ext cx="450720" cy="430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5" descr=""/>
          <p:cNvPicPr/>
          <p:nvPr/>
        </p:nvPicPr>
        <p:blipFill>
          <a:blip r:embed="rId2"/>
          <a:stretch/>
        </p:blipFill>
        <p:spPr>
          <a:xfrm>
            <a:off x="5311800" y="2184480"/>
            <a:ext cx="450720" cy="43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6" descr=""/>
          <p:cNvPicPr/>
          <p:nvPr/>
        </p:nvPicPr>
        <p:blipFill>
          <a:blip r:embed="rId3"/>
          <a:stretch/>
        </p:blipFill>
        <p:spPr>
          <a:xfrm>
            <a:off x="2716200" y="2104920"/>
            <a:ext cx="165240" cy="541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7" descr=""/>
          <p:cNvPicPr/>
          <p:nvPr/>
        </p:nvPicPr>
        <p:blipFill>
          <a:blip r:embed="rId4"/>
          <a:stretch/>
        </p:blipFill>
        <p:spPr>
          <a:xfrm>
            <a:off x="4559400" y="2101680"/>
            <a:ext cx="164880" cy="541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8" descr=""/>
          <p:cNvPicPr/>
          <p:nvPr/>
        </p:nvPicPr>
        <p:blipFill>
          <a:blip r:embed="rId5"/>
          <a:stretch/>
        </p:blipFill>
        <p:spPr>
          <a:xfrm>
            <a:off x="6373800" y="2101680"/>
            <a:ext cx="165240" cy="541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9" descr="MCj04369940000[1]"/>
          <p:cNvPicPr/>
          <p:nvPr/>
        </p:nvPicPr>
        <p:blipFill>
          <a:blip r:embed="rId6"/>
          <a:stretch/>
        </p:blipFill>
        <p:spPr>
          <a:xfrm>
            <a:off x="4419720" y="1042920"/>
            <a:ext cx="630000" cy="631800"/>
          </a:xfrm>
          <a:prstGeom prst="rect">
            <a:avLst/>
          </a:prstGeom>
          <a:ln w="0">
            <a:noFill/>
          </a:ln>
        </p:spPr>
      </p:pic>
      <p:cxnSp>
        <p:nvCxnSpPr>
          <p:cNvPr id="147" name="AutoShape 30"/>
          <p:cNvCxnSpPr/>
          <p:nvPr/>
        </p:nvCxnSpPr>
        <p:spPr>
          <a:xfrm rot="5400000">
            <a:off x="3551400" y="921240"/>
            <a:ext cx="430920" cy="1937520"/>
          </a:xfrm>
          <a:prstGeom prst="bentConnector3">
            <a:avLst>
              <a:gd name="adj1" fmla="val 4974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" name="AutoShape 31"/>
          <p:cNvCxnSpPr/>
          <p:nvPr/>
        </p:nvCxnSpPr>
        <p:spPr>
          <a:xfrm rot="5400000">
            <a:off x="3967920" y="1411200"/>
            <a:ext cx="504000" cy="1031040"/>
          </a:xfrm>
          <a:prstGeom prst="bentConnector3">
            <a:avLst>
              <a:gd name="adj1" fmla="val 4982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9" name="AutoShape 32"/>
          <p:cNvCxnSpPr/>
          <p:nvPr/>
        </p:nvCxnSpPr>
        <p:spPr>
          <a:xfrm rot="5400000">
            <a:off x="4474440" y="1841400"/>
            <a:ext cx="427680" cy="9432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0" name="AutoShape 33"/>
          <p:cNvCxnSpPr/>
          <p:nvPr/>
        </p:nvCxnSpPr>
        <p:spPr>
          <a:xfrm flipH="1" rot="16200000">
            <a:off x="4880520" y="1528560"/>
            <a:ext cx="510480" cy="802440"/>
          </a:xfrm>
          <a:prstGeom prst="bentConnector3">
            <a:avLst>
              <a:gd name="adj1" fmla="val 4982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AutoShape 34"/>
          <p:cNvCxnSpPr/>
          <p:nvPr/>
        </p:nvCxnSpPr>
        <p:spPr>
          <a:xfrm flipH="1" rot="16200000">
            <a:off x="5382360" y="1027440"/>
            <a:ext cx="427680" cy="172152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2" name="Line 35"/>
          <p:cNvSpPr/>
          <p:nvPr/>
        </p:nvSpPr>
        <p:spPr>
          <a:xfrm>
            <a:off x="2914560" y="2548080"/>
            <a:ext cx="209520" cy="3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6"/>
          <p:cNvSpPr/>
          <p:nvPr/>
        </p:nvSpPr>
        <p:spPr>
          <a:xfrm>
            <a:off x="3724200" y="2633760"/>
            <a:ext cx="0" cy="237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7"/>
          <p:cNvSpPr/>
          <p:nvPr/>
        </p:nvSpPr>
        <p:spPr>
          <a:xfrm flipH="1">
            <a:off x="6095880" y="2557440"/>
            <a:ext cx="238320" cy="314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8"/>
          <p:cNvSpPr/>
          <p:nvPr/>
        </p:nvSpPr>
        <p:spPr>
          <a:xfrm>
            <a:off x="5562720" y="2643120"/>
            <a:ext cx="0" cy="23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9"/>
          <p:cNvSpPr/>
          <p:nvPr/>
        </p:nvSpPr>
        <p:spPr>
          <a:xfrm>
            <a:off x="4648320" y="2643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0"/>
          <p:cNvSpPr/>
          <p:nvPr/>
        </p:nvSpPr>
        <p:spPr>
          <a:xfrm>
            <a:off x="4059360" y="4403880"/>
            <a:ext cx="0" cy="982440"/>
          </a:xfrm>
          <a:prstGeom prst="line">
            <a:avLst/>
          </a:prstGeom>
          <a:ln w="57240">
            <a:solidFill>
              <a:srgbClr val="00808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1"/>
          <p:cNvSpPr/>
          <p:nvPr/>
        </p:nvSpPr>
        <p:spPr>
          <a:xfrm>
            <a:off x="5029200" y="6148440"/>
            <a:ext cx="0" cy="15228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2"/>
          <p:cNvSpPr/>
          <p:nvPr/>
        </p:nvSpPr>
        <p:spPr>
          <a:xfrm>
            <a:off x="5029200" y="6300720"/>
            <a:ext cx="3900600" cy="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3"/>
          <p:cNvSpPr/>
          <p:nvPr/>
        </p:nvSpPr>
        <p:spPr>
          <a:xfrm flipV="1">
            <a:off x="8915400" y="1499760"/>
            <a:ext cx="0" cy="480060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4"/>
          <p:cNvSpPr/>
          <p:nvPr/>
        </p:nvSpPr>
        <p:spPr>
          <a:xfrm>
            <a:off x="5105520" y="1500120"/>
            <a:ext cx="3809880" cy="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5"/>
          <p:cNvSpPr/>
          <p:nvPr/>
        </p:nvSpPr>
        <p:spPr>
          <a:xfrm>
            <a:off x="7010280" y="1120680"/>
            <a:ext cx="1447920" cy="9129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tratified) Performance information for informed selection of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6"/>
          <p:cNvSpPr/>
          <p:nvPr/>
        </p:nvSpPr>
        <p:spPr>
          <a:xfrm flipV="1">
            <a:off x="304920" y="1500120"/>
            <a:ext cx="12600" cy="237024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7"/>
          <p:cNvSpPr/>
          <p:nvPr/>
        </p:nvSpPr>
        <p:spPr>
          <a:xfrm flipH="1">
            <a:off x="304920" y="3862440"/>
            <a:ext cx="1828800" cy="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8"/>
          <p:cNvSpPr/>
          <p:nvPr/>
        </p:nvSpPr>
        <p:spPr>
          <a:xfrm>
            <a:off x="304920" y="1500120"/>
            <a:ext cx="4114800" cy="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9"/>
          <p:cNvSpPr/>
          <p:nvPr/>
        </p:nvSpPr>
        <p:spPr>
          <a:xfrm>
            <a:off x="947880" y="966960"/>
            <a:ext cx="1490400" cy="99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on care experience, health status, race/ethnicity,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0"/>
          <p:cNvSpPr/>
          <p:nvPr/>
        </p:nvSpPr>
        <p:spPr>
          <a:xfrm>
            <a:off x="1752480" y="2819520"/>
            <a:ext cx="6096240" cy="1676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54:09Z</dcterms:created>
  <dc:creator>kALAHN tAYLOR-cLARK</dc:creator>
  <dc:description/>
  <dc:language>en-US</dc:language>
  <cp:lastModifiedBy>Graham</cp:lastModifiedBy>
  <dcterms:modified xsi:type="dcterms:W3CDTF">2009-10-26T22:49:06Z</dcterms:modified>
  <cp:revision>11</cp:revision>
  <dc:subject/>
  <dc:title>Slide 1</dc:title>
</cp:coreProperties>
</file>