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6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7"/>
          </p:nvPr>
        </p:nvSpPr>
        <p:spPr>
          <a:xfrm>
            <a:off x="0" y="895500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8"/>
          </p:nvPr>
        </p:nvSpPr>
        <p:spPr>
          <a:xfrm>
            <a:off x="401436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84C-1536-4ED1-98E3-5D4E37C43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014720" y="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B73-156F-435A-AA9F-DC1924F80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870-3E39-4541-860B-FA5B14884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014720" y="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4D9-1011-47DE-9341-2B342D4A2C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976-3E18-4078-A32B-C56E5BA6C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AA57-D34D-41EC-A0D7-258715DD7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5C54-CC7F-43D5-A76E-610E5CB1F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797C-28AE-43C5-BEF2-993E284EB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22AE-5DCF-48CC-ADF7-6CD8A78FA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53AE-9D0A-47B7-904D-BA638255D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3F7C-6A16-455D-B86D-5EFCCA9423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2BA6-D62A-46CE-9F62-A579A93216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4E87-165D-4A77-9315-90EDC6BCA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6A81-98DD-4D88-AF0C-F2CE20F78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FFF4-9AE7-40B5-8DA2-9C6B7A8BD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05E1-4D17-4952-AD57-2B2883FB1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93DA-A29E-4268-ACE5-EE53167AE9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199E-3E0E-440E-9B5B-38538A7A2B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6BF2-D5FE-4C56-BFE7-85CCB4F2A4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82E7-5F10-4B0A-935C-0663DE121D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434C-6C05-4E3A-8606-E6EB0E6DBC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4D8-4345-4F90-8D86-58592099F6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DBEA-A8A1-4A55-9992-0DA756F0D2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F2A-F358-4B20-9556-512105310C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F72-4C9F-4ACB-99AE-4D95016A9A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302-26E9-4C98-9234-47BA27107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57AF-B2A2-4A86-8C4A-362E9743EF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189-42F5-48C6-9F2B-23D67613B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2EE-D704-4F5E-9599-48EB1118AE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B05-80C9-461A-8A5C-01CE090298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B92-C4F4-4D50-83A9-C4AA2A9DB0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84F-D656-4ED6-AD3C-F41F06710B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08E-7E86-44EB-81DC-37ED993BB3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753-FB7B-4787-8131-F4EB2EEE9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A1B-D85F-4D4A-A780-003114FA5C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B40-07DB-4653-98AA-AD6F81E578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858E-C313-4964-8CDE-7465C78C6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D64B-E20C-44E7-B9AF-BE3BBC4CC0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2D315-A2F6-450D-9A5B-4FE6ADA401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2567-9DE7-47A6-B632-7E6B1A5EB5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28D97-5028-4ADF-AEFB-DEE2E93597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82325-3803-4D98-B0F9-E50FE019836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99D2F-2078-4BB4-BB98-BBF16AA150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A53B-34F3-4C8D-9FC0-4A717A75E2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9A16-BF1B-4729-BB43-792126261E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4CAB6-C6AF-4D9C-B58B-0B7C82E0CC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0D35C-1896-48FD-8C75-790EC6A27A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C6475-82B3-484B-BB15-053F35162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0ADC-131E-4064-B39B-A0027512A9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F80F-D169-4166-BC50-23EFE7227E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E2D9F-C492-4913-8F51-4C7EF16E47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E66D-FCD2-4D17-BC6D-627295D5B6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695AE-A538-47AB-B2A1-347683C39C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CEE4-48C0-4C5A-B010-A9C5920870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7AB31-EEFB-49F4-BB0D-C3A085F35E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B6FD-25F1-4DB1-9590-E29F0241DF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533E0-0FC8-4B77-ACDA-B4C390C3CC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ABE4A-3148-43AD-8164-1FF9F7AC4C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E001-074D-48AB-A531-855956F64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B086-1DDE-4515-A9E9-5C49696FA1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97C2F-8E2C-4456-8DB1-0822F3BB91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4ABA-9C33-4FAF-A035-93BB1D4653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9084D-4201-433A-83E2-5800E2C7D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2820-D2D4-427B-BC5D-06286CE16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AE8A-9070-4D86-A03F-85C492AF5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0955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FD0-B92D-474A-A448-0A9316686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P_main.png"/>
          <p:cNvPicPr/>
          <p:nvPr/>
        </p:nvPicPr>
        <p:blipFill>
          <a:blip r:embed="rId3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162920" y="6248520"/>
            <a:ext cx="198108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ingleDEcIDE-Center-logos2.JPG"/>
          <p:cNvPicPr/>
          <p:nvPr/>
        </p:nvPicPr>
        <p:blipFill>
          <a:blip r:embed="rId4"/>
          <a:stretch/>
        </p:blipFill>
        <p:spPr>
          <a:xfrm>
            <a:off x="7162920" y="6140520"/>
            <a:ext cx="1828800" cy="717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AAF-D7CC-46C2-AA4D-1FF6D60D7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621A-D4AB-43DF-9084-D4329C77F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7473-A4F0-4774-BE62-7ADF7351A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5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060-4E20-4A41-8F98-C555553E8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Use of Registries in Product Safety Assessment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thryn Starzy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ruiting a meaningful patient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utility of a registry when the entire population-at-risk has not been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whether patients in the registry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ypical patients and what types of patients may be systematically excluded or not enrolled in the 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ral Challen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5815-B40F-4CC9-BA7E-413D94F90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o collect information on the timing of events (and treatment) in relation 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time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aspects of product use in the real wor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ing therapies and regimens during follow-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ultiple products in combination or in 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ed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compliance (i.e., adherence, persist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ng Exposure and Risk Wind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CEE-D7A0-4E40-BF2A-D0BBEC4EF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spective data collection remains the best source of meaningful safety data related to pregna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gnant women are usually not included in clinical trial popul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rized claims or billing data for pregnancy safety monitoring hampered b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ients often not presenting early in pregna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relevant data on other exposures (since these are often unrelated to reimbursemen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y linking maternal and infant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Pregnancy Regist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870-A940-430C-826F-D47916A5D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profile at authorization extremely limited (due to small patient populations) and post-authorization monitoring is likely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s are often fatal, so natural history when treated is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to disentangle the effects of the product from those of the ongoing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Orphan Dru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055F-5E8E-4AB9-8505-58169F1AB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stries may be part of REMS/controlled distribution in the U.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atients treated in registry - cannot otherwise obtain access to the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ing for a known AE or risk factor, collecting data specifically re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focus is usually prescribing controls (not safety), data elements are usually minimal, which can limit their utility for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Europe, differing national legislation makes controlled distribution more difficult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ies are more often volu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Controlled Distrib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6BC1-7503-48FC-9302-86C0AD357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monitoring important because of widespread and long-term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ing appropriate practitioners and obtaining medical records for devices not covered by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devices that are easily attached/detached by the patient (i.e. hearing ai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Medical De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6D9C-7B8F-4234-92C4-D452150DD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ease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 in support of national coverage decisions or quality improvement effo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gather and report AE data, but may not be able to reliably detect al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ollect a wide range of data from patients to try to catch any possibl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all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 ho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oo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stries Designed for Purposes other than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A7DC-6E85-4AD2-8D14-4E55CFCB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y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role of registries not designed for safety purposes to look for A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the obligations to further investigate and report these finding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ies designed for safety assessment should have a plan in place for detecting the signal of interest, how to handle unanticipated events and what and how any such events will be reported to appropriate autho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ncidental findings plan may be requested by IRB prior to appro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registries should address reporting mechanisms for AE informa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ential Obligations in Reporting Safety 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58B0-4CDB-4B8B-AFE8-C1F9419C7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ies are likely to make strongest contributions throug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ion of novel AEs (as reported by treating physicians) that constitute a signal necessitating further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registries of pregnant women and other hard to study subpopulations of produc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age of registries with additional data sources such as the Medicare-SEER data lin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ening the range of questions that can be addressed beyond the constraints of data collected for a 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ing or validating signals generated in other data, such as from automated signal generation in large claims datab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191-B6C0-44AB-82EC-262E35919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432-784B-4491-9136-36006029B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uth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thryn Starzyk (lea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ff B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tcom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Harvard Medical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ncy Drey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lye Fitt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tcom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Centers for Medicare &amp; Medicaid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lla Blackb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n Mer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uropean Medicines Agency (EMEA)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University of Pennsylvania School of Medic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ard Pla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vard Medical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n Roth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TI 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uthors and Review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0" y="656892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EDD-C768-46EC-A5C9-886816247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aluate the utility of registries and other prospective observational studies in identifying potential safety signals through adverse event (AE)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 detection through existing datasets (e.g., administrative claims data), and the specific technical and statistical methodologies considerations involved, are addressed in detail elsewhere and beyond the scope of this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0A31-D59E-490C-A21F-1E6E8D1B8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 specifically designed for safet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healthcare provider and patient reporte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bserved in larger population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ng exposure and risk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Condition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nancy Regis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phan Dru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led Distribution/P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aper Overvie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99C0-5005-44D0-BC30-5A1BA3515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 designed for purposes other than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detection in registries and 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bligations for registry developers in reporting safet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aper Overview (cont.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27F8-5ACA-4E2F-944F-305A89BDD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-approval is important phase for identifying and understanding product safety concerns associated with both acute and chronic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Ts are by necessity of limited duration, size and population representative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servational and inclusive design may allow for surveillance of a diverse patient popul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ontaneous reporting captures an extremely small percentage of the actual events occur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evidence that physicians who report adverse events are not typical of physicians in gener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ationa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2F70-5BD5-4324-8376-4818AB359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 sign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gests a new possibly causal association between an intervention and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rants further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assessed based up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 of the association between exposure and th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plau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challenge/rechalleng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experimental or animal models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ture, consistency and quality of the data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, as always, is to separate a potential safety signal from the “nois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gnal Det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565-9C3B-41B4-98B0-A0A520CA6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Regi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ease Regi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large, systematic data collection for target populations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provide background rate of events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be more likely to be successful in collecting unbiased, interpretable long-term safety dat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dera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sion/exclusion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and external comparator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 planning incorporating possible sources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 training and availability of systematic follow-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ease vs. Product Regist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EB8-7FB9-48D2-8782-552B761D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ies well suited to identify effects only observed in large and diverse population over an extended period of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validity of the inferences made, when designing a registry for the purposes of safety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ze of the 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of the enrolled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ation of follow-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safety outcomes from observational studies in statistical terms is not always straight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is the “expected” rate calculat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of three” sometimes helpful as a means for “estimating the worse case that is compatible with the observed dat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ffects Observed in Larger Populations over Time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9A91-83EE-4038-A64F-BA0D25D49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21:01Z</dcterms:created>
  <dc:creator>jzhou</dc:creator>
  <dc:description/>
  <dc:language>en-US</dc:language>
  <cp:lastModifiedBy> </cp:lastModifiedBy>
  <dcterms:modified xsi:type="dcterms:W3CDTF">2010-03-02T15:54:14Z</dcterms:modified>
  <cp:revision>120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CBC032C90917F4D8883AB48ED203DA7</vt:lpwstr>
  </property>
</Properties>
</file>