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6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85480" y="705960"/>
            <a:ext cx="4714920" cy="353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7"/>
          </p:nvPr>
        </p:nvSpPr>
        <p:spPr>
          <a:xfrm>
            <a:off x="0" y="895500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8"/>
          </p:nvPr>
        </p:nvSpPr>
        <p:spPr>
          <a:xfrm>
            <a:off x="4014360" y="895500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9BD5-740E-4CFA-A1FE-B16B9A53C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7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4014720" y="0"/>
            <a:ext cx="307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A618-AC66-4AD6-A42E-04457EFB03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4014720" y="8955000"/>
            <a:ext cx="307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44A4-FF01-49C3-9575-C8F8F2FA4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5840" y="706320"/>
            <a:ext cx="4714920" cy="3537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7760" y="447804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4014720" y="0"/>
            <a:ext cx="307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567C-84F1-4259-8F73-E946162A94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4014720" y="8955000"/>
            <a:ext cx="3070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E25B-838E-4031-95F2-1EA751D03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0D53-8366-4C0C-98AF-4784221D7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BE32-EFD4-490E-96FA-E2E5D2BC9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7B4B-DE13-4229-8D38-698BFCEC6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83BC-F62B-4360-83CC-D8CBC5D0B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FDF8-34A1-4212-A963-B93F833AF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AD49B-6ADA-4520-8AD0-A9D7F08AC2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039F-FFF6-48D9-B94C-FF46C5441C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103D-8E2E-4CC4-9A83-9C6AAB8BBB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38B6B-1EDB-4D43-9CA8-BE545790CF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EBBEE-3371-4025-89F8-28F9F35744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FAC1-DDFF-4C3A-9B95-A8C8E26F41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FC61-D31E-4684-9E63-B16796CA75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33DE-B1E5-45DC-BF10-4E16B330F4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5607A-559B-442F-9554-22E297FEEB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E25B-753B-4283-BE58-63F5858AC8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BEADE-8308-4F88-A51C-B98B785D87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D089-350B-473D-9A27-9F3C3ECAE3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613C0-EB4F-44AD-A3B0-20FA58DA64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153-F0F6-4F49-B120-37CA8640AE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9528-6111-48D6-B4DE-492FDFEA63D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F6D-6645-4727-A997-E0289BF67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EF91-3C6E-4A4F-B523-6A14B55EBE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D78-73FD-4A75-A860-ACF78C4BE7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851B-1836-498C-BA40-65ABC7ECF2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259-EFEF-4490-9A24-7ED58E5B9B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D44-C36A-4E7F-8FB8-0F6B03B977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1FE-9B9B-4C26-B3BD-8EA5B609B5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4D0-9B09-4D48-966D-9751A6A503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16F-34A7-4E82-9C38-B2FDA51062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932-6898-41DC-B094-D940830EF1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01C-EBB8-44A2-9E93-404B732146A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4CEEE-6781-429B-AFAA-CD1289F33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67E3-C790-4E5C-9B05-7655AED505D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30D19-0DBA-4D06-97FE-93B2E268764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358AC-0238-4FDE-9F61-38135CB3684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45635-6D82-45B0-B6D1-8F571B4E234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788A2-0CE4-4B43-9F53-3465CAC6051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E8C1A-B8BE-48DD-AFC0-559B7F95A21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4BFF5-6EFA-4F70-926D-17179C126FD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BCFAC-9098-43A8-855E-250575C9D7F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468C3-E95A-49F5-A55B-AF3B858E15B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CA9C6-12EA-4E0A-B469-5D7168C6FBF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231FF-1E1C-4A9C-A7F0-0EA8A2E05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DD8C1-BEFF-4AE8-B693-14B177D9262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92141-14B6-486A-B681-ECD4783724D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FD64D-D418-4D03-9475-7C87C7B1B38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3DB65-4867-4DDC-8A29-CE0D3A53344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E5773-98B6-44FB-94EC-82BC58F45B6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9E744-9F47-4B6E-8046-AC06F71840E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AB697-B5DA-407C-84DF-9491F898D24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9B8A0-A3FB-453B-B9C3-3368E033A0F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6BC05-97E7-4000-885A-E7C5C4F9E07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536FD-F2E1-4F97-9913-CFA4BCDEC5E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549A9-AD74-481C-B951-01C1E90CE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173D-1312-4523-9B96-80B5D907CFE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023AD-0100-4190-9B13-2F2310C5239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053A5-E40A-4A58-BED1-54FAC9D4EFC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A8C55-9502-4E50-A733-18DD18F82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6750-CA06-421B-B11C-B2457C82E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0875-1DF2-4255-B909-92D7C52B1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0955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2B1F-DB03-4BC9-BC34-F6A027D682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6" descr="footer-wht.png"/>
          <p:cNvPicPr/>
          <p:nvPr/>
        </p:nvPicPr>
        <p:blipFill>
          <a:blip r:embed="rId2"/>
          <a:stretch/>
        </p:blipFill>
        <p:spPr>
          <a:xfrm>
            <a:off x="0" y="6470640"/>
            <a:ext cx="914400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footer-wht.png"/>
          <p:cNvPicPr/>
          <p:nvPr/>
        </p:nvPicPr>
        <p:blipFill>
          <a:blip r:embed="rId2"/>
          <a:stretch/>
        </p:blipFill>
        <p:spPr>
          <a:xfrm>
            <a:off x="0" y="6470640"/>
            <a:ext cx="9144000" cy="3873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PP_main.png"/>
          <p:cNvPicPr/>
          <p:nvPr/>
        </p:nvPicPr>
        <p:blipFill>
          <a:blip r:embed="rId3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7162920" y="6248520"/>
            <a:ext cx="198108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footer-wht.png"/>
          <p:cNvPicPr/>
          <p:nvPr/>
        </p:nvPicPr>
        <p:blipFill>
          <a:blip r:embed="rId2"/>
          <a:stretch/>
        </p:blipFill>
        <p:spPr>
          <a:xfrm>
            <a:off x="0" y="6470640"/>
            <a:ext cx="9144000" cy="387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eader-wht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357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SingleDEcIDE-Center-logos2.JPG"/>
          <p:cNvPicPr/>
          <p:nvPr/>
        </p:nvPicPr>
        <p:blipFill>
          <a:blip r:embed="rId4"/>
          <a:stretch/>
        </p:blipFill>
        <p:spPr>
          <a:xfrm>
            <a:off x="7162920" y="6140520"/>
            <a:ext cx="1828800" cy="717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2"/>
          </p:nvPr>
        </p:nvSpPr>
        <p:spPr>
          <a:xfrm>
            <a:off x="0" y="655272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9B60-35DA-4578-B095-8C0B820108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footer-wht.png"/>
          <p:cNvPicPr/>
          <p:nvPr/>
        </p:nvPicPr>
        <p:blipFill>
          <a:blip r:embed="rId2"/>
          <a:stretch/>
        </p:blipFill>
        <p:spPr>
          <a:xfrm>
            <a:off x="0" y="6470640"/>
            <a:ext cx="9144000" cy="387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eader-wht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3572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3"/>
          </p:nvPr>
        </p:nvSpPr>
        <p:spPr>
          <a:xfrm>
            <a:off x="6552720" y="6035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1734-D9FC-42FA-BB74-32C8EA46D6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footer-wht.png"/>
          <p:cNvPicPr/>
          <p:nvPr/>
        </p:nvPicPr>
        <p:blipFill>
          <a:blip r:embed="rId2"/>
          <a:stretch/>
        </p:blipFill>
        <p:spPr>
          <a:xfrm>
            <a:off x="0" y="6470640"/>
            <a:ext cx="9144000" cy="387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header-wht.png"/>
          <p:cNvPicPr/>
          <p:nvPr/>
        </p:nvPicPr>
        <p:blipFill>
          <a:blip r:embed="rId3"/>
          <a:stretch/>
        </p:blipFill>
        <p:spPr>
          <a:xfrm>
            <a:off x="0" y="0"/>
            <a:ext cx="9144000" cy="1357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4"/>
          </p:nvPr>
        </p:nvSpPr>
        <p:spPr>
          <a:xfrm>
            <a:off x="6552720" y="6035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0F45-DF26-465D-A905-EAECBA0FCC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footer-wht.png"/>
          <p:cNvPicPr/>
          <p:nvPr/>
        </p:nvPicPr>
        <p:blipFill>
          <a:blip r:embed="rId2"/>
          <a:stretch/>
        </p:blipFill>
        <p:spPr>
          <a:xfrm>
            <a:off x="0" y="6470640"/>
            <a:ext cx="9144000" cy="387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5"/>
          </p:nvPr>
        </p:nvSpPr>
        <p:spPr>
          <a:xfrm>
            <a:off x="6552720" y="60357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8597-C7A3-462E-940A-AA599113B1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Use of Registries in Product Safety Assessment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athryn Starzy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ruiting a meaningful patient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ng the utility of a registry when the entire population-at-risk has not been inclu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 whether patients in the registry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presenta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ypical patients and what types of patients may be systematically excluded or not enrolled in the regi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eral Challen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FBDF-B3B4-457F-BB51-222A9AA43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t to collect information on the timing of events (and treatment) in relation diagn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time wind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aspects of product use in the real wor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witching therapies and regimens during follow-u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multiple products in combination or in 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se eff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ayed eff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compliance (i.e., adherence, persist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ining Exposure and Risk Window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1C71-A777-4A1A-9C1E-A8A8F4FD6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spective data collection remains the best source of meaningful safety data related to pregnan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gnant women are usually not included in clinical trial popul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uterized claims or billing data for pregnancy safety monitoring hampered by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tients often not presenting early in pregna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ck of relevant data on other exposures (since these are often unrelated to reimbursement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iculty linking maternal and infant reco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al Conditions: Pregnancy Regist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F2BC-816F-445C-8107-B38D4FF76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fety profile at authorization extremely limited (due to small patient populations) and post-authorization monitoring is likely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eases are often fatal, so natural history when treated is un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icult to disentangle the effects of the product from those of the ongoing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al Conditions: Orphan Dru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5D76-5C24-4A3F-A0F4-144F1FB33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istries may be part of REMS/controlled distribution in the U.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patients treated in registry - cannot otherwise obtain access to the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king for a known AE or risk factor, collecting data specifically rel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focus is usually prescribing controls (not safety), data elements are usually minimal, which can limit their utility for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Europe, differing national legislation makes controlled distribution more difficult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ries are more often volunt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al Conditions: Controlled Distribu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BC02-02FA-4AEF-815D-36913E767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fety monitoring important because of widespread and long-term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ing appropriate practitioners and obtaining medical records for devices not covered by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ing devices that are easily attached/detached by the patient (i.e. hearing ai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al Conditions: Medical Dev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32AC-6808-4DC2-BBAC-1E7FB8651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ative effectiv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disease hist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collection in support of national coverage decisions or quality improvement effor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gather and report AE data, but may not be able to reliably detect all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collect a wide range of data from patients to try to catch any possible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allow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d ho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poo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gistries Designed for Purposes other than Safe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AE19-F0B1-42D6-9AF0-65D100EDE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ey ques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the role of registries not designed for safety purposes to look for AE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are the obligations to further investigate and report these finding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gistries designed for safety assessment should have a plan in place for detecting the signal of interest, how to handle unanticipated events and what and how any such events will be reported to appropriate author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incidental findings plan may be requested by IRB prior to approv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registries should address reporting mechanisms for AE informati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tential Obligations in Reporting Safety 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24B8-C159-4B93-A29C-E08D216CE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gistries are likely to make strongest contributions through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tection of novel AEs (as reported by treating physicians) that constitute a signal necessitating further stu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tablishment of registries of pregnant women and other hard to study subpopulations of product 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nkage of registries with additional data sources such as the Medicare-SEER data link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adening the range of questions that can be addressed beyond the constraints of data collected for a regi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irming or validating signals generated in other data, such as from automated signal generation in large claims databa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9618-BF58-435C-BD72-1029F16C0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972E-48F8-4361-84AD-ECB4F3067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utho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thryn Starzyk (lead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ff Br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utcom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Harvard Medical Scho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ncy Drey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slye Fitterm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utcom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Centers for Medicare &amp; Medicaid Servi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lla Blackbur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on Mer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uropean Medicines Agency (EMEA)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University of Pennsylvania School of Medic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chard Plat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vard Medical Scho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n Rothm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TI 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uthors and Review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0" y="656892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126B-967F-4CB4-B3CB-AF0B9BF3F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valuate the utility of registries and other prospective observational studies in identifying potential safety signals through adverse event (AE)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al detection through existing datasets (e.g., administrative claims data), and the specific technical and statistical methodologies considerations involved, are addressed in detail elsewhere and beyond the scope of this pa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CF08-C18F-40D7-BF5B-9CB4726B4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stries specifically designed for safety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healthcare provider and patient reported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s observed in larger population over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ng exposure and risk wind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Condition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gnancy Regist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phan Dru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olled Distribution/PL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dical De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aper Overview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FD01-3517-4535-9277-49945F043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stries designed for purposes other than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al detection in registries and observational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obligations for registry developers in reporting safety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aper Overview (cont.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ADD4-E044-4346-ABB7-868C7DD99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t-approval is important phase for identifying and understanding product safety concerns associated with both acute and chronic 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CTs are by necessity of limited duration, size and population representative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servational and inclusive design may allow for surveillance of a diverse patient popul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ontaneous reporting captures an extremely small percentage of the actual events occur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 evidence that physicians who report adverse events are not typical of physicians in gener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ationa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F9AC-0154-4012-8C0D-C55307E71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fety sign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ggests a new possibly causal association between an intervention and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rants further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ly assessed based up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 of the association between exposure and the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logical plau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dechallenge/rechallenge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experimental or animal models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ature, consistency and quality of the data sour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, as always, is to separate a potential safety signal from the “nois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gnal Dete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D76E-A9AE-40AF-8F30-6FCEE0FC4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duct Regist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ease Regist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large, systematic data collection for target populations of inter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provide background rate of events of inter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y be more likely to be successful in collecting unbiased, interpretable long-term safety dat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sideratio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46280" indent="-34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sion/exclusion crite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46280" indent="-34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and external comparator grou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46280" indent="-34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 planning incorporating possible sources of b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46280" indent="-34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ff training and availability of systematic follow-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ease vs. Product Regist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27AC-4E04-45A3-87F0-3FE90358E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ries well suited to identify effects only observed in large and diverse population over an extended period of ti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ensure validity of the inferences made, when designing a registry for the purposes of safety consid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ze of the regi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istics of the enrolled pop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ration of follow-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ing safety outcomes from observational studies in statistical terms is not always straight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is the “expected” rate calculat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le of three” sometimes helpful as a means for “estimating the worse case that is compatible with the observed data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ffects Observed in Larger Populations over Time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0" y="6553080"/>
            <a:ext cx="32004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A5F8-FFFA-4F0B-AFDF-111DE40FA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22:21:01Z</dcterms:created>
  <dc:creator>jzhou</dc:creator>
  <dc:description/>
  <dc:language>en-US</dc:language>
  <cp:lastModifiedBy> </cp:lastModifiedBy>
  <dcterms:modified xsi:type="dcterms:W3CDTF">2010-03-02T15:54:14Z</dcterms:modified>
  <cp:revision>120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CBC032C90917F4D8883AB48ED203DA7</vt:lpwstr>
  </property>
</Properties>
</file>