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1EEF1-77BC-4C54-AE0C-9507105A88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2868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6F39B-2CCC-4247-9EA1-A1BB8600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5760" y="114264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2868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65760" y="392868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255FA-4BCE-4069-B7BF-74EC363A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8200" y="114264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6560" y="114264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2868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8200" y="392868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6560" y="392868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57556-C0BD-418F-8AB1-2A67227480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7183E-BF6E-4A1D-A8D1-5F5ECA5B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DA91A-3D76-465B-BEBC-87735ADE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65760" y="114264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0C9DF-3DE4-4F97-AA3E-037B61B7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6F567-AF12-44DB-BCBF-FF8004204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151920"/>
            <a:ext cx="83822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60526-F097-4B58-8152-A5181C24B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65760" y="114264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2868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B116B-22A2-4015-99FB-81D22831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65760" y="114264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65760" y="392868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2087A-AC33-4E62-A2D9-64733404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65760" y="114264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2868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9E3C3-46D5-4926-BF28-64682DC8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Abt_report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14264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spcBef>
                <a:spcPts val="3600"/>
              </a:spcBef>
              <a:buClr>
                <a:srgbClr val="597a6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600"/>
              </a:spcBef>
              <a:buClr>
                <a:srgbClr val="597a6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600"/>
              </a:spcBef>
              <a:buClr>
                <a:srgbClr val="597a6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3600"/>
              </a:spcBef>
              <a:buClr>
                <a:srgbClr val="597a6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3600"/>
              </a:spcBef>
              <a:buClr>
                <a:srgbClr val="597a69"/>
              </a:buClr>
              <a:buSzPct val="12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3600"/>
              </a:spcBef>
              <a:buClr>
                <a:srgbClr val="000000"/>
              </a:buClr>
              <a:buSzPct val="12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3600"/>
              </a:spcBef>
              <a:buClr>
                <a:srgbClr val="000000"/>
              </a:buClr>
              <a:buSzPct val="12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187600" y="6514920"/>
            <a:ext cx="23828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7d2d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F81D-7103-4A62-8A22-895D3869873C}" type="datetime">
              <a:rPr b="1" lang="en-US" sz="1200" spc="-1" strike="noStrike">
                <a:solidFill>
                  <a:srgbClr val="c7d2d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787880" y="6514920"/>
            <a:ext cx="663480" cy="31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7d2d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0438-53FC-416A-ACD8-9CD19F8468B0}" type="slidenum">
              <a:rPr b="1" lang="en-US" sz="1200" spc="-1" strike="noStrike">
                <a:solidFill>
                  <a:srgbClr val="c7d2d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tate of HIT adoption and use in ambulatory and hospital setti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9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 Spranca, Ph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t Associ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HRQ Annual C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tember 15,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788240" y="6515280"/>
            <a:ext cx="66348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A60D-0FA1-417B-9F04-E9141C5912F4}" type="slidenum">
              <a:rPr b="1" lang="en-US" sz="1200" spc="-1" strike="noStrike">
                <a:solidFill>
                  <a:srgbClr val="c7d2d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893880" y="1158840"/>
          <a:ext cx="8164440" cy="496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bar graph of the availability and use of CPOE in Ambulatory settings with % of radiology tests, lab tests and prescription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3880" y="1158840"/>
                    <a:ext cx="8164440" cy="49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ailability and Use of CPOE in Ambulatory Sett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523800" y="6221520"/>
            <a:ext cx="80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ational Survey of Health Record Keeping among Physicians &amp; Group Practices in the United States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2"/>
          <p:cNvSpPr/>
          <p:nvPr/>
        </p:nvSpPr>
        <p:spPr>
          <a:xfrm>
            <a:off x="7788240" y="6515280"/>
            <a:ext cx="66348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25D2-C1EF-4BDE-97B9-E1EB9DFA9C56}" type="slidenum">
              <a:rPr b="1" lang="en-US" sz="1200" spc="-1" strike="noStrike">
                <a:solidFill>
                  <a:srgbClr val="c7d2d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spital Inpatient Setti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7788240" y="6515280"/>
            <a:ext cx="66348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038F-6863-4663-ADC8-D4146112DF52}" type="slidenum">
              <a:rPr b="1" lang="en-US" sz="1200" spc="-1" strike="noStrike">
                <a:solidFill>
                  <a:srgbClr val="c7d2d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546120" y="6004080"/>
            <a:ext cx="8205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ource: Jha, A.K., C.M. Desroches, E.G. Campbell, K. Donelan, S.R. Rao, T.G. Ferris, A. Shields, S. Rosenbaum, D. Blumenthal, 2009.  Use of electronic health records in U.S. hospitals. N Eng J Med 360 (16): 1628-38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238400" y="1209600"/>
          <a:ext cx="7410240" cy="477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bar graph depicting adoption of EHRs in hospitals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0" y="1209600"/>
                    <a:ext cx="7410240" cy="47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5"/>
          <p:cNvSpPr/>
          <p:nvPr/>
        </p:nvSpPr>
        <p:spPr>
          <a:xfrm>
            <a:off x="7977240" y="3038400"/>
            <a:ext cx="1681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option of EHRs in Hospit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2"/>
          <p:cNvSpPr/>
          <p:nvPr/>
        </p:nvSpPr>
        <p:spPr>
          <a:xfrm>
            <a:off x="7788240" y="6515280"/>
            <a:ext cx="66348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B369-3AFA-4F65-8006-08EDD9C7C438}" type="slidenum">
              <a:rPr b="1" lang="en-US" sz="1200" spc="-1" strike="noStrike">
                <a:solidFill>
                  <a:srgbClr val="c7d2d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rvey Items Defining the Use of EH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survey of use of EHRs"/>
          <p:cNvPicPr/>
          <p:nvPr/>
        </p:nvPicPr>
        <p:blipFill>
          <a:blip r:embed="rId1"/>
          <a:srcRect l="26439" t="19503" r="27749" b="4001"/>
          <a:stretch/>
        </p:blipFill>
        <p:spPr>
          <a:xfrm>
            <a:off x="1905120" y="1087560"/>
            <a:ext cx="434160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4"/>
          <p:cNvSpPr/>
          <p:nvPr/>
        </p:nvSpPr>
        <p:spPr>
          <a:xfrm>
            <a:off x="7788240" y="6515280"/>
            <a:ext cx="66348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54AF-E3B7-413D-AE33-4786B02E58AF}" type="slidenum">
              <a:rPr b="1" lang="en-US" sz="1200" spc="-1" strike="noStrike">
                <a:solidFill>
                  <a:srgbClr val="c7d2d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896760" y="1150920"/>
          <a:ext cx="8247240" cy="47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bar graph of 6 CDS functions in hospitals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6760" y="1150920"/>
                    <a:ext cx="8247240" cy="47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Rectangle 6"/>
          <p:cNvSpPr/>
          <p:nvPr/>
        </p:nvSpPr>
        <p:spPr>
          <a:xfrm>
            <a:off x="958680" y="6119640"/>
            <a:ext cx="710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ource: Hospital EHR Adoption Database (Supplement to the Annual AHA Survey of Hospital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1789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option of 6 CDS Functions in Hospit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7788240" y="6515280"/>
            <a:ext cx="66348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25A9-A5D2-44EA-A0B9-45B0717244F2}" type="slidenum">
              <a:rPr b="1" lang="en-US" sz="1200" spc="-1" strike="noStrike">
                <a:solidFill>
                  <a:srgbClr val="c7d2d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182600" y="6230880"/>
            <a:ext cx="731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ource: Hospital EHR Adoption Database (Supplement to the Annual AHA Survey of Hospital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249200" y="1406520"/>
          <a:ext cx="7410600" cy="477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bar graph of adoption of CPOE in hospitals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1406520"/>
                    <a:ext cx="7410600" cy="47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option of CPOE in Hospit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2"/>
          <p:cNvSpPr/>
          <p:nvPr/>
        </p:nvSpPr>
        <p:spPr>
          <a:xfrm>
            <a:off x="7788240" y="6515280"/>
            <a:ext cx="66348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B4C1-B9D5-4618-8352-CA8498DF400E}" type="slidenum">
              <a:rPr b="1" lang="en-US" sz="1200" spc="-1" strike="noStrike">
                <a:solidFill>
                  <a:srgbClr val="c7d2d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ated Reduction in Medication Errors in U.S. Hospitals due to CPO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984240" y="5894280"/>
            <a:ext cx="731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raft results based on Hospital EHR Adoption Database (Supplement to the Annual AHA Survey of Hospitals) and Medication Error Rate Reduction figures from the peer-reviewed litera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914400" y="1266840"/>
            <a:ext cx="73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medication error rate reduction due to CPOE: 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3" descr="HIT graph"/>
          <p:cNvPicPr/>
          <p:nvPr/>
        </p:nvPicPr>
        <p:blipFill>
          <a:blip r:embed="rId1"/>
          <a:stretch/>
        </p:blipFill>
        <p:spPr>
          <a:xfrm>
            <a:off x="687240" y="1825560"/>
            <a:ext cx="825372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2"/>
          <p:cNvSpPr/>
          <p:nvPr/>
        </p:nvSpPr>
        <p:spPr>
          <a:xfrm>
            <a:off x="7788240" y="6515280"/>
            <a:ext cx="66348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D243-A1FF-4E9F-944B-F2E0D3EE0739}" type="slidenum">
              <a:rPr b="1" lang="en-US" sz="1200" spc="-1" strike="noStrike">
                <a:solidFill>
                  <a:srgbClr val="c7d2d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2999"/>
              </a:spcBef>
              <a:buClr>
                <a:srgbClr val="597a6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 baseline estimates reve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597a6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ts of room for improvement on adoption of H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597a6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HIT tends to be high where HIT has been ado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597a6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comes are largely unknow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999"/>
              </a:spcBef>
              <a:buClr>
                <a:srgbClr val="597a6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ment pri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597a6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 to measure ado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597a6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ft from use towards “meaningful us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597a6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foundation for modeling and monitoring outco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2999"/>
              </a:spcBef>
              <a:buClr>
                <a:srgbClr val="597a6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y  recomme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597a6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gaps in knowledge base, be open to mid-course corrections in HIT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597a6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nd incent provider organizations to learn and generate desired outcomes from use (and non-use) of H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 Spranca, Ph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t Associ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17 349 26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ranca@abtasso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2"/>
          <p:cNvSpPr/>
          <p:nvPr/>
        </p:nvSpPr>
        <p:spPr>
          <a:xfrm>
            <a:off x="7788240" y="6515280"/>
            <a:ext cx="66348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76D9-A3F2-4ED2-AAA6-9B530DE7D6BA}" type="slidenum">
              <a:rPr b="1" lang="en-US" sz="1200" spc="-1" strike="noStrike">
                <a:solidFill>
                  <a:srgbClr val="c7d2d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icy Contex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3600"/>
              </a:spcBef>
              <a:buClr>
                <a:srgbClr val="597a6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 in HIT has never been higher…it is widely viewed as a promising means of generating efficiencies, reducing unnecessary care, preventing errors, improving quality, increasing access, reducing disparities, et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600"/>
              </a:spcBef>
              <a:buClr>
                <a:srgbClr val="597a6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ncrease adoption and use of HIT, CMS and ONC are working on a plan to reimburse providers who demonstrate “meaningful use” of H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600"/>
              </a:spcBef>
              <a:buClr>
                <a:srgbClr val="597a6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ing standardized measures of HIT adoption, use and outcomes c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597a6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 the nation’s HIT strategy and broader health reform strate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597a6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the nation to track progress and revise the strate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2"/>
          <p:cNvSpPr/>
          <p:nvPr/>
        </p:nvSpPr>
        <p:spPr>
          <a:xfrm>
            <a:off x="7788240" y="6515280"/>
            <a:ext cx="66348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9779-35ED-4808-BC2C-B579099523C4}" type="slidenum">
              <a:rPr b="1" lang="en-US" sz="1200" spc="-1" strike="noStrike">
                <a:solidFill>
                  <a:srgbClr val="c7d2d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s in measure develop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7"/>
          <p:cNvGrpSpPr/>
          <p:nvPr/>
        </p:nvGrpSpPr>
        <p:grpSpPr>
          <a:xfrm>
            <a:off x="609480" y="1143000"/>
            <a:ext cx="8305920" cy="5334120"/>
            <a:chOff x="609480" y="1143000"/>
            <a:chExt cx="8305920" cy="5334120"/>
          </a:xfrm>
        </p:grpSpPr>
        <p:sp>
          <p:nvSpPr>
            <p:cNvPr id="49" name="AutoShape 6"/>
            <p:cNvSpPr/>
            <p:nvPr/>
          </p:nvSpPr>
          <p:spPr>
            <a:xfrm>
              <a:off x="609480" y="1143000"/>
              <a:ext cx="8305920" cy="533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154634"/>
            <p:cNvSpPr/>
            <p:nvPr/>
          </p:nvSpPr>
          <p:spPr>
            <a:xfrm>
              <a:off x="3040200" y="1542960"/>
              <a:ext cx="3446280" cy="3446640"/>
            </a:xfrm>
            <a:prstGeom prst="pie">
              <a:avLst/>
            </a:prstGeom>
            <a:solidFill>
              <a:srgbClr val="f5d93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154635"/>
            <p:cNvSpPr/>
            <p:nvPr/>
          </p:nvSpPr>
          <p:spPr>
            <a:xfrm rot="7200000">
              <a:off x="3511440" y="2358720"/>
              <a:ext cx="3446280" cy="3446640"/>
            </a:xfrm>
            <a:prstGeom prst="pie">
              <a:avLst/>
            </a:prstGeom>
            <a:solidFill>
              <a:srgbClr val="f5d93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54637"/>
            <p:cNvSpPr/>
            <p:nvPr/>
          </p:nvSpPr>
          <p:spPr>
            <a:xfrm rot="14400000">
              <a:off x="2568240" y="2358720"/>
              <a:ext cx="3446280" cy="3446280"/>
            </a:xfrm>
            <a:prstGeom prst="pie">
              <a:avLst/>
            </a:prstGeom>
            <a:solidFill>
              <a:srgbClr val="f5d93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54632"/>
            <p:cNvSpPr/>
            <p:nvPr/>
          </p:nvSpPr>
          <p:spPr>
            <a:xfrm>
              <a:off x="5707080" y="2174760"/>
              <a:ext cx="1382760" cy="13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ceptualiz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54633"/>
            <p:cNvSpPr/>
            <p:nvPr/>
          </p:nvSpPr>
          <p:spPr>
            <a:xfrm>
              <a:off x="4071960" y="5006880"/>
              <a:ext cx="1382760" cy="13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perationaliz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54636"/>
            <p:cNvSpPr/>
            <p:nvPr/>
          </p:nvSpPr>
          <p:spPr>
            <a:xfrm>
              <a:off x="2436840" y="2174760"/>
              <a:ext cx="1382760" cy="13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id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2"/>
          <p:cNvSpPr/>
          <p:nvPr/>
        </p:nvSpPr>
        <p:spPr>
          <a:xfrm>
            <a:off x="7788240" y="6515280"/>
            <a:ext cx="66348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57F1-295F-457E-9B40-498263857D32}" type="slidenum">
              <a:rPr b="1" lang="en-US" sz="1200" spc="-1" strike="noStrike">
                <a:solidFill>
                  <a:srgbClr val="c7d2d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s in estimating adoption and use with survey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3600"/>
              </a:spcBef>
              <a:buClr>
                <a:srgbClr val="597a6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ing and imputation to correct for non-response and miss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600"/>
              </a:spcBef>
              <a:buClr>
                <a:srgbClr val="597a6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ing response options in a consistent, appropriat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600"/>
              </a:spcBef>
              <a:buClr>
                <a:srgbClr val="597a6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the denominator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2"/>
          <p:cNvSpPr/>
          <p:nvPr/>
        </p:nvSpPr>
        <p:spPr>
          <a:xfrm>
            <a:off x="7788240" y="6515280"/>
            <a:ext cx="66348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6700-D717-4171-9CC8-15BB4F967F8A}" type="slidenum">
              <a:rPr b="1" lang="en-US" sz="1200" spc="-1" strike="noStrike">
                <a:solidFill>
                  <a:srgbClr val="c7d2d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view of measurement foc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71480" y="1238400"/>
          <a:ext cx="8143920" cy="4981320"/>
        </p:xfrm>
        <a:graphic>
          <a:graphicData uri="http://schemas.openxmlformats.org/drawingml/2006/table">
            <a:tbl>
              <a:tblPr/>
              <a:tblGrid>
                <a:gridCol w="1636920"/>
                <a:gridCol w="3792240"/>
                <a:gridCol w="2714760"/>
              </a:tblGrid>
              <a:tr h="79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bulatory Sett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pit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H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999"/>
                        </a:spcBef>
                        <a:buClr>
                          <a:srgbClr val="597a69"/>
                        </a:buClr>
                        <a:buSzPct val="12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o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999"/>
                        </a:spcBef>
                        <a:buClr>
                          <a:srgbClr val="597a69"/>
                        </a:buClr>
                        <a:buSzPct val="12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o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999"/>
                        </a:spcBef>
                        <a:buClr>
                          <a:srgbClr val="597a69"/>
                        </a:buClr>
                        <a:buSzPct val="12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o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999"/>
                        </a:spcBef>
                        <a:buClr>
                          <a:srgbClr val="597a69"/>
                        </a:buClr>
                        <a:buSzPct val="12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999"/>
                        </a:spcBef>
                        <a:buClr>
                          <a:srgbClr val="597a69"/>
                        </a:buClr>
                        <a:buSzPct val="12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o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O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999"/>
                        </a:spcBef>
                        <a:buClr>
                          <a:srgbClr val="597a69"/>
                        </a:buClr>
                        <a:buSzPct val="12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o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999"/>
                        </a:spcBef>
                        <a:buClr>
                          <a:srgbClr val="597a69"/>
                        </a:buClr>
                        <a:buSzPct val="12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999"/>
                        </a:spcBef>
                        <a:buClr>
                          <a:srgbClr val="597a69"/>
                        </a:buClr>
                        <a:buSzPct val="12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o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999"/>
                        </a:spcBef>
                        <a:buClr>
                          <a:srgbClr val="597a69"/>
                        </a:buClr>
                        <a:buSzPct val="12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999"/>
                        </a:spcBef>
                        <a:buClr>
                          <a:srgbClr val="597a69"/>
                        </a:buClr>
                        <a:buSzPct val="12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2"/>
          <p:cNvSpPr/>
          <p:nvPr/>
        </p:nvSpPr>
        <p:spPr>
          <a:xfrm>
            <a:off x="7788240" y="6515280"/>
            <a:ext cx="66348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0FBD-CC84-4C29-A870-E120D5EAD05C}" type="slidenum">
              <a:rPr b="1" lang="en-US" sz="1200" spc="-1" strike="noStrike">
                <a:solidFill>
                  <a:srgbClr val="c7d2d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bulatory Setti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7788240" y="6515280"/>
            <a:ext cx="66348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B536-B556-46B1-93D1-6DD10498B008}" type="slidenum">
              <a:rPr b="1" lang="en-US" sz="1200" spc="-1" strike="noStrike">
                <a:solidFill>
                  <a:srgbClr val="c7d2d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557280" y="5999040"/>
            <a:ext cx="7880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ource: Desroches, C.M., E.G. Campbell, S.R. Rao, K. Donelan, T.G. Ferris, A. Jha, R. Kaushal, D.E. Levy, S. Rosenbaum, A.E. Shields, and D. Blumenthal.  2008.  Electronic health records in ambulatory settings—a national survey of physicians. N Eng J Med 359 (1): 50-6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203480" y="1231920"/>
          <a:ext cx="7410240" cy="477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bar graph of the % of Fully functional system and basic system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3480" y="1231920"/>
                    <a:ext cx="7410240" cy="47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Rectangle 5"/>
          <p:cNvSpPr/>
          <p:nvPr/>
        </p:nvSpPr>
        <p:spPr>
          <a:xfrm>
            <a:off x="7977240" y="3038400"/>
            <a:ext cx="1681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36480" y="22392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option of EHRs in Ambulatory Setti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2"/>
          <p:cNvSpPr/>
          <p:nvPr/>
        </p:nvSpPr>
        <p:spPr>
          <a:xfrm>
            <a:off x="7788240" y="6515280"/>
            <a:ext cx="66348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8009-75CC-493A-92A4-BCF7C294162B}" type="slidenum">
              <a:rPr b="1" lang="en-US" sz="1200" spc="-1" strike="noStrike">
                <a:solidFill>
                  <a:srgbClr val="c7d2d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rvey Items Defining the Use of EH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survey of the use of EHRs"/>
          <p:cNvPicPr/>
          <p:nvPr/>
        </p:nvPicPr>
        <p:blipFill>
          <a:blip r:embed="rId1"/>
          <a:srcRect l="13874" t="17628" r="47156" b="9877"/>
          <a:stretch/>
        </p:blipFill>
        <p:spPr>
          <a:xfrm>
            <a:off x="2278080" y="1201680"/>
            <a:ext cx="3735360" cy="52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4"/>
          <p:cNvSpPr/>
          <p:nvPr/>
        </p:nvSpPr>
        <p:spPr>
          <a:xfrm>
            <a:off x="7788240" y="6515280"/>
            <a:ext cx="66348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3A49-8CE2-4A0A-A9AB-DF6FB0A2D0DA}" type="slidenum">
              <a:rPr b="1" lang="en-US" sz="1200" spc="-1" strike="noStrike">
                <a:solidFill>
                  <a:srgbClr val="c7d2d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057320" y="1424160"/>
          <a:ext cx="7410240" cy="47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bar graph of the % of guidline-based reminders, drug interaction alerts and out-of-range lab alerts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7320" y="1424160"/>
                    <a:ext cx="7410240" cy="47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ailability and Use of CDS in Ambulatory Setti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582480" y="6278400"/>
            <a:ext cx="801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ational Survey of Health Record Keeping among Physicians &amp; Group Practices in the United States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2:39:12Z</dcterms:created>
  <dc:creator>WileyS</dc:creator>
  <dc:description/>
  <dc:language>en-US</dc:language>
  <cp:lastModifiedBy>Rasa</cp:lastModifiedBy>
  <dcterms:modified xsi:type="dcterms:W3CDTF">2009-10-28T15:58:59Z</dcterms:modified>
  <cp:revision>237</cp:revision>
  <dc:subject/>
  <dc:title>Slide 1</dc:title>
</cp:coreProperties>
</file>