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28e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28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28e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28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28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28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28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28e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28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28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28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28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28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28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28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28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28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28e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28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28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1160" y="-7920"/>
            <a:ext cx="912024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28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228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rcRect l="4429" t="2215" r="398" b="279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99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228e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228e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228e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"/>
              </a:rPr>
              <a:t>Risk Informed Evaluation </a:t>
            </a:r>
            <a:br>
              <a:rPr sz="3600"/>
            </a:br>
            <a:r>
              <a:rPr b="0" lang="en-US" sz="3600" spc="-1" strike="noStrike">
                <a:solidFill>
                  <a:srgbClr val="bbe0e3"/>
                </a:solidFill>
                <a:latin typeface="Arial"/>
              </a:rPr>
              <a:t>of Patient Safety Training</a:t>
            </a:r>
            <a:endParaRPr b="0" lang="en-US" sz="36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85440" y="220932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thony D. Slonim, MD, Dr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ce President Medical Affai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ilion Medical C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ior Staff, Departments of Medicine and Pediatr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ilion Cli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fessor, Medicine and Pediatr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rginia Tech-Carilion School of Medic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28e"/>
                </a:solidFill>
                <a:latin typeface="Arial"/>
              </a:rPr>
              <a:t>Pattern Recognition</a:t>
            </a:r>
            <a:endParaRPr b="0" lang="en-US" sz="4400" spc="-1" strike="noStrike">
              <a:solidFill>
                <a:srgbClr val="00228e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693396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6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28e"/>
                </a:solidFill>
                <a:latin typeface="Arial"/>
              </a:rPr>
              <a:t>Picking up on Level 4:</a:t>
            </a:r>
            <a:br>
              <a:rPr sz="4400"/>
            </a:br>
            <a:r>
              <a:rPr b="0" lang="en-US" sz="4400" spc="-1" strike="noStrike">
                <a:solidFill>
                  <a:srgbClr val="00228e"/>
                </a:solidFill>
                <a:latin typeface="Arial"/>
              </a:rPr>
              <a:t>Can we train for results?</a:t>
            </a:r>
            <a:endParaRPr b="0" lang="en-US" sz="4400" spc="-1" strike="noStrike">
              <a:solidFill>
                <a:srgbClr val="00228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28e"/>
                </a:solidFill>
                <a:latin typeface="Arial"/>
              </a:rPr>
              <a:t>Kirkpatrick’s Levels</a:t>
            </a:r>
            <a:endParaRPr b="0" lang="en-US" sz="4400" spc="-1" strike="noStrike">
              <a:solidFill>
                <a:srgbClr val="00228e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Level I Reactions</a:t>
            </a:r>
            <a:endParaRPr b="0" lang="en-US" sz="2800" spc="-1" strike="noStrike">
              <a:solidFill>
                <a:srgbClr val="6699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How well trainees liked training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Level II Learning</a:t>
            </a:r>
            <a:endParaRPr b="0" lang="en-US" sz="2800" spc="-1" strike="noStrike">
              <a:solidFill>
                <a:srgbClr val="6699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The extent to which trainees understand and retain principles, facts, and techniques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Level III Behavior</a:t>
            </a:r>
            <a:endParaRPr b="0" lang="en-US" sz="2800" spc="-1" strike="noStrike">
              <a:solidFill>
                <a:srgbClr val="6699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The extent to which behavior changes as a result of training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Level IV Results</a:t>
            </a:r>
            <a:endParaRPr b="0" lang="en-US" sz="2800" spc="-1" strike="noStrike">
              <a:solidFill>
                <a:srgbClr val="6699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mpact of training on organizational criteria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600" y="3067200"/>
            <a:ext cx="2514600" cy="3255840"/>
          </a:xfrm>
          <a:prstGeom prst="rect">
            <a:avLst/>
          </a:prstGeom>
          <a:solidFill>
            <a:srgbClr val="d5d9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400800" y="3067200"/>
            <a:ext cx="2514600" cy="3255840"/>
          </a:xfrm>
          <a:prstGeom prst="rect">
            <a:avLst/>
          </a:prstGeom>
          <a:solidFill>
            <a:srgbClr val="d5d9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1692360"/>
            <a:ext cx="8686800" cy="3255840"/>
          </a:xfrm>
          <a:prstGeom prst="rect">
            <a:avLst/>
          </a:prstGeom>
          <a:solidFill>
            <a:srgbClr val="d5d9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633760"/>
            <a:ext cx="2362320" cy="2097000"/>
          </a:xfrm>
          <a:prstGeom prst="can">
            <a:avLst>
              <a:gd name="adj" fmla="val 25000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 Analy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72200" y="2633760"/>
            <a:ext cx="2362320" cy="2097000"/>
          </a:xfrm>
          <a:prstGeom prst="can">
            <a:avLst>
              <a:gd name="adj" fmla="val 25000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124080" y="2271600"/>
            <a:ext cx="1447920" cy="1230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271600"/>
            <a:ext cx="1523880" cy="1230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3573360"/>
            <a:ext cx="3048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2271600"/>
            <a:ext cx="0" cy="1590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33600" y="3921120"/>
            <a:ext cx="2438640" cy="6523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8120" y="5381640"/>
            <a:ext cx="3047760" cy="79704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4686480"/>
            <a:ext cx="0" cy="606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1185840"/>
            <a:ext cx="2895480" cy="1012680"/>
          </a:xfrm>
          <a:prstGeom prst="flowChartAlternateProcess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am Identification &amp; Priorit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2462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28e"/>
                </a:solidFill>
                <a:latin typeface="Arial"/>
              </a:rPr>
              <a:t>Elements of Quality Pro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160" y="169236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ality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4440" y="4730760"/>
            <a:ext cx="2486160" cy="1085760"/>
          </a:xfrm>
          <a:prstGeom prst="rect">
            <a:avLst/>
          </a:prstGeom>
          <a:solidFill>
            <a:srgbClr val="d5d9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16640" y="4730760"/>
            <a:ext cx="2486160" cy="1012680"/>
          </a:xfrm>
          <a:prstGeom prst="rect">
            <a:avLst/>
          </a:prstGeom>
          <a:solidFill>
            <a:srgbClr val="d5d9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09760" y="4875120"/>
            <a:ext cx="266760" cy="435240"/>
          </a:xfrm>
          <a:prstGeom prst="upArrow">
            <a:avLst>
              <a:gd name="adj1" fmla="val 50000"/>
              <a:gd name="adj2" fmla="val 407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5454720"/>
            <a:ext cx="1905120" cy="6508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439040" y="4948200"/>
            <a:ext cx="266760" cy="433440"/>
          </a:xfrm>
          <a:prstGeom prst="upArrow">
            <a:avLst>
              <a:gd name="adj1" fmla="val 50000"/>
              <a:gd name="adj2" fmla="val 4062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38760" y="5527800"/>
            <a:ext cx="1905120" cy="6508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ucation /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6200000">
            <a:off x="2635200" y="5581080"/>
            <a:ext cx="253800" cy="457200"/>
          </a:xfrm>
          <a:prstGeom prst="upArrow">
            <a:avLst>
              <a:gd name="adj1" fmla="val 50000"/>
              <a:gd name="adj2" fmla="val 4503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rot="5400000">
            <a:off x="6240240" y="5580000"/>
            <a:ext cx="254160" cy="4572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28e"/>
                </a:solidFill>
                <a:latin typeface="Arial"/>
              </a:rPr>
              <a:t>Why is there a safety problem ?</a:t>
            </a:r>
            <a:endParaRPr b="0" lang="en-US" sz="4400" spc="-1" strike="noStrike">
              <a:solidFill>
                <a:srgbClr val="00228e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Arial"/>
                <a:ea typeface="Arial"/>
              </a:rPr>
              <a:t>Considerable variation in practice </a:t>
            </a: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  <a:ea typeface="Arial"/>
              </a:rPr>
              <a:t>Based on opinion or consensus </a:t>
            </a:r>
            <a:endParaRPr b="0" lang="en-US" sz="2800" spc="-1" strike="noStrike">
              <a:solidFill>
                <a:srgbClr val="66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  <a:ea typeface="Arial"/>
              </a:rPr>
              <a:t>Evidence-based guidelines-unsupported</a:t>
            </a:r>
            <a:endParaRPr b="0" lang="en-US" sz="2800" spc="-1" strike="noStrike">
              <a:solidFill>
                <a:srgbClr val="66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  <a:ea typeface="Arial"/>
              </a:rPr>
              <a:t>Failure to create fail-safe processes</a:t>
            </a:r>
            <a:endParaRPr b="0" lang="en-US" sz="2800" spc="-1" strike="noStrike">
              <a:solidFill>
                <a:srgbClr val="66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  <a:ea typeface="Arial"/>
              </a:rPr>
              <a:t>Our providers may not know their work</a:t>
            </a:r>
            <a:endParaRPr b="0" lang="en-US" sz="2800" spc="-1" strike="noStrike">
              <a:solidFill>
                <a:srgbClr val="6699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28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  <a:ea typeface="Arial"/>
              </a:rPr>
              <a:t>Policies and procedures 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  <a:ea typeface="Arial"/>
              </a:rPr>
              <a:t>We’re learning to work together</a:t>
            </a:r>
            <a:endParaRPr b="0" lang="en-US" sz="2800" spc="-1" strike="noStrike">
              <a:solidFill>
                <a:srgbClr val="66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  <a:ea typeface="Arial"/>
              </a:rPr>
              <a:t>We’re not sure of the results we’re looking for</a:t>
            </a:r>
            <a:endParaRPr b="0" lang="en-US" sz="28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28e"/>
                </a:solidFill>
                <a:latin typeface="Arial"/>
              </a:rPr>
              <a:t>Process Analysis</a:t>
            </a:r>
            <a:endParaRPr b="0" lang="en-US" sz="4400" spc="-1" strike="noStrike">
              <a:solidFill>
                <a:srgbClr val="00228e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Processes:</a:t>
            </a: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A series of sequential steps governing interactions</a:t>
            </a:r>
            <a:endParaRPr b="0" lang="en-US" sz="2800" spc="-1" strike="noStrike">
              <a:solidFill>
                <a:srgbClr val="6699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228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Between patients and providers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228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Between providers and providers 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Examples of process analysis techniques:</a:t>
            </a: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Root cause analysis-retrospective</a:t>
            </a:r>
            <a:endParaRPr b="0" lang="en-US" sz="2800" spc="-1" strike="noStrike">
              <a:solidFill>
                <a:srgbClr val="6699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HAACP (hazard analysis and crit control points)</a:t>
            </a:r>
            <a:endParaRPr b="0" lang="en-US" sz="2800" spc="-1" strike="noStrike">
              <a:solidFill>
                <a:srgbClr val="6699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FMEA (failure mode effects)</a:t>
            </a:r>
            <a:endParaRPr b="0" lang="en-US" sz="2800" spc="-1" strike="noStrike">
              <a:solidFill>
                <a:srgbClr val="6699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PI methodology</a:t>
            </a:r>
            <a:endParaRPr b="0" lang="en-US" sz="28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28e"/>
                </a:solidFill>
                <a:latin typeface="Arial"/>
              </a:rPr>
              <a:t>Low-frequency, High Impact Events</a:t>
            </a:r>
            <a:endParaRPr b="0" lang="en-US" sz="4000" spc="-1" strike="noStrike">
              <a:solidFill>
                <a:srgbClr val="00228e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Arial"/>
                <a:ea typeface="Arial"/>
              </a:rPr>
              <a:t>Low frequency, high-impact events </a:t>
            </a: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  <a:ea typeface="Arial"/>
              </a:rPr>
              <a:t>Variable processes and practices </a:t>
            </a:r>
            <a:endParaRPr b="0" lang="en-US" sz="2800" spc="-1" strike="noStrike">
              <a:solidFill>
                <a:srgbClr val="6699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28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  <a:ea typeface="Arial"/>
              </a:rPr>
              <a:t>Wrong site surgery 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28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  <a:ea typeface="Arial"/>
              </a:rPr>
              <a:t>The abduction of children from hospitals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28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  <a:ea typeface="Arial"/>
              </a:rPr>
              <a:t>Deaths or major harm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Arial"/>
                <a:ea typeface="Arial"/>
              </a:rPr>
              <a:t>Process analysis helps to identify risk and prioritize interventions </a:t>
            </a: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Arial"/>
                <a:ea typeface="Arial"/>
              </a:rPr>
              <a:t>Decision support helps to guide decision making</a:t>
            </a: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28e"/>
                </a:solidFill>
                <a:latin typeface="Arial"/>
              </a:rPr>
              <a:t>Probabilistic Risk Assessment</a:t>
            </a:r>
            <a:endParaRPr b="0" lang="en-US" sz="4400" spc="-1" strike="noStrike">
              <a:solidFill>
                <a:srgbClr val="00228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A hybrid between process analysis and decision support</a:t>
            </a:r>
            <a:endParaRPr b="0" lang="en-US" sz="2800" spc="-1" strike="noStrike">
              <a:solidFill>
                <a:srgbClr val="6699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Identifies risk points and directs to interventions</a:t>
            </a:r>
            <a:endParaRPr b="0" lang="en-US" sz="2800" spc="-1" strike="noStrike">
              <a:solidFill>
                <a:srgbClr val="6699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Is hierarchical and probabilistic</a:t>
            </a:r>
            <a:endParaRPr b="0" lang="en-US" sz="2800" spc="-1" strike="noStrike">
              <a:solidFill>
                <a:srgbClr val="6699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Allows disentanglement of patient level risks, provider level risks, and system level risks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Assigns probabilities for prioritization of risk reduction strategies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Includes sociotechnical components into the models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28e"/>
                </a:solidFill>
                <a:latin typeface="Arial"/>
              </a:rPr>
              <a:t>Conceptual Framework</a:t>
            </a:r>
            <a:endParaRPr b="0" lang="en-US" sz="4400" spc="-1" strike="noStrike">
              <a:solidFill>
                <a:srgbClr val="00228e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2209680"/>
            <a:ext cx="8381880" cy="23623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19520" y="23623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stic Risk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4191120"/>
            <a:ext cx="437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55800" y="373392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7960" y="4572000"/>
            <a:ext cx="190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09160" y="548640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52680" y="61722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05320" y="5257800"/>
            <a:ext cx="259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05320" y="4343400"/>
            <a:ext cx="259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358128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4648320"/>
            <a:ext cx="188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ative Metho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10280" y="4800600"/>
            <a:ext cx="15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ative Metho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81080" y="5105520"/>
            <a:ext cx="137160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981080" y="3581280"/>
            <a:ext cx="1524240" cy="152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95880" y="4343400"/>
            <a:ext cx="8384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6095880" y="5181480"/>
            <a:ext cx="83844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28600" y="1066680"/>
            <a:ext cx="86868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65520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28e"/>
                </a:solidFill>
                <a:latin typeface="Arial"/>
              </a:rPr>
              <a:t>The Prospective Risk Model</a:t>
            </a:r>
            <a:endParaRPr b="0" lang="en-US" sz="4000" spc="-1" strike="noStrike">
              <a:solidFill>
                <a:srgbClr val="00228e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34160" cy="44956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5105520"/>
            <a:ext cx="2057400" cy="129528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66880" y="5105520"/>
            <a:ext cx="2057400" cy="129528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3809880"/>
            <a:ext cx="2057400" cy="129564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17524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The Top Three R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28e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228e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ff"/>
                </a:solidFill>
                <a:latin typeface="Arial"/>
              </a:rPr>
              <a:t>Decision-making science How do we normally make decisions?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ff"/>
                </a:solidFill>
                <a:latin typeface="Arial"/>
              </a:rPr>
              <a:t>Picking up on Level 4…Can we train to improve our decision making results?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28e"/>
                </a:solidFill>
                <a:latin typeface="Arial"/>
              </a:rPr>
              <a:t>Training Evaluation</a:t>
            </a:r>
            <a:endParaRPr b="0" lang="en-US" sz="4400" spc="-1" strike="noStrike">
              <a:solidFill>
                <a:srgbClr val="00228e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Definition</a:t>
            </a:r>
            <a:endParaRPr b="0" lang="en-US" sz="2800" spc="-1" strike="noStrike">
              <a:solidFill>
                <a:srgbClr val="6699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The systematic collection of descriptive and judgmental information necessary to make decisions related to instructional activities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Ensures training</a:t>
            </a:r>
            <a:endParaRPr b="0" lang="en-US" sz="2800" spc="-1" strike="noStrike">
              <a:solidFill>
                <a:srgbClr val="6699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Meets its stated objectives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Changes trainee attitudes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Increases trainee knowledge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Develops trainee skills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Transfers results to the job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28e"/>
                </a:solidFill>
                <a:latin typeface="Arial"/>
              </a:rPr>
              <a:t>Training Evaluation</a:t>
            </a:r>
            <a:endParaRPr b="0" lang="en-US" sz="4400" spc="-1" strike="noStrike">
              <a:solidFill>
                <a:srgbClr val="00228e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Important variables to consider:</a:t>
            </a: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Organizational Factors</a:t>
            </a:r>
            <a:endParaRPr b="0" lang="en-US" sz="2800" spc="-1" strike="noStrike">
              <a:solidFill>
                <a:srgbClr val="66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Individual Factors</a:t>
            </a:r>
            <a:endParaRPr b="0" lang="en-US" sz="2800" spc="-1" strike="noStrike">
              <a:solidFill>
                <a:srgbClr val="66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Trainee Knowledge, Skills, and Attitudes</a:t>
            </a:r>
            <a:endParaRPr b="0" lang="en-US" sz="2800" spc="-1" strike="noStrike">
              <a:solidFill>
                <a:srgbClr val="66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Training Transfer</a:t>
            </a:r>
            <a:endParaRPr b="0" lang="en-US" sz="2800" spc="-1" strike="noStrike">
              <a:solidFill>
                <a:srgbClr val="66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Organizational Outcomes</a:t>
            </a:r>
            <a:endParaRPr b="0" lang="en-US" sz="28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28e"/>
                </a:solidFill>
                <a:latin typeface="Arial"/>
              </a:rPr>
              <a:t>Merging Kirkpatrick and ST PRA</a:t>
            </a:r>
            <a:endParaRPr b="0" lang="en-US" sz="4400" spc="-1" strike="noStrike">
              <a:solidFill>
                <a:srgbClr val="00228e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Socio-Technical Probabilistic Risk Assessment</a:t>
            </a:r>
            <a:endParaRPr b="0" lang="en-US" sz="2800" spc="-1" strike="noStrike">
              <a:solidFill>
                <a:srgbClr val="6699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Good for examining low base rate events (Six Sigma)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Models contributing causes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228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Arial"/>
              </a:rPr>
              <a:t>Procedural tasks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228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Arial"/>
              </a:rPr>
              <a:t>Team tasks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Identifies the impact of an intervention</a:t>
            </a:r>
            <a:endParaRPr b="0" lang="en-US" sz="2800" spc="-1" strike="noStrike">
              <a:solidFill>
                <a:srgbClr val="6699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Evidence base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Empirically based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Adjust and test the model</a:t>
            </a:r>
            <a:endParaRPr b="0" lang="en-US" sz="2800" spc="-1" strike="noStrike">
              <a:solidFill>
                <a:srgbClr val="6699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Monte Carlo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Changes in the likelihood of outcomes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28e"/>
                </a:solidFill>
                <a:latin typeface="Arial"/>
              </a:rPr>
              <a:t>Traditional Approaches</a:t>
            </a:r>
            <a:endParaRPr b="0" lang="en-US" sz="4400" spc="-1" strike="noStrike">
              <a:solidFill>
                <a:srgbClr val="00228e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5120" y="2057400"/>
            <a:ext cx="723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Verdana"/>
              </a:rPr>
              <a:t>Quick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6699ff"/>
                </a:solidFill>
                <a:latin typeface="Verdana"/>
              </a:rPr>
              <a:t>Fire-fight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Verdana"/>
              </a:rPr>
              <a:t>Burn-out / Fati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Verdana"/>
              </a:rPr>
              <a:t>Difficult-to-Sustain, Short-Term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0200" y="1630440"/>
            <a:ext cx="0" cy="419076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68520" y="5807160"/>
            <a:ext cx="6324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4297320"/>
            <a:ext cx="6095880" cy="1513080"/>
          </a:xfrm>
          <a:custGeom>
            <a:avLst/>
            <a:gdLst/>
            <a:ahLst/>
            <a:rect l="l" t="t" r="r" b="b"/>
            <a:pathLst>
              <a:path w="3840" h="1026">
                <a:moveTo>
                  <a:pt x="0" y="1026"/>
                </a:moveTo>
                <a:lnTo>
                  <a:pt x="144" y="768"/>
                </a:lnTo>
                <a:cubicBezTo>
                  <a:pt x="192" y="701"/>
                  <a:pt x="232" y="672"/>
                  <a:pt x="288" y="624"/>
                </a:cubicBezTo>
                <a:cubicBezTo>
                  <a:pt x="344" y="576"/>
                  <a:pt x="408" y="528"/>
                  <a:pt x="480" y="480"/>
                </a:cubicBezTo>
                <a:cubicBezTo>
                  <a:pt x="552" y="432"/>
                  <a:pt x="632" y="376"/>
                  <a:pt x="720" y="336"/>
                </a:cubicBezTo>
                <a:cubicBezTo>
                  <a:pt x="808" y="296"/>
                  <a:pt x="880" y="272"/>
                  <a:pt x="1008" y="240"/>
                </a:cubicBezTo>
                <a:cubicBezTo>
                  <a:pt x="1136" y="208"/>
                  <a:pt x="1312" y="168"/>
                  <a:pt x="1488" y="144"/>
                </a:cubicBezTo>
                <a:cubicBezTo>
                  <a:pt x="1664" y="120"/>
                  <a:pt x="1864" y="112"/>
                  <a:pt x="2064" y="96"/>
                </a:cubicBezTo>
                <a:cubicBezTo>
                  <a:pt x="2264" y="80"/>
                  <a:pt x="2493" y="70"/>
                  <a:pt x="2693" y="54"/>
                </a:cubicBezTo>
                <a:cubicBezTo>
                  <a:pt x="2893" y="38"/>
                  <a:pt x="3074" y="35"/>
                  <a:pt x="3278" y="26"/>
                </a:cubicBezTo>
                <a:cubicBezTo>
                  <a:pt x="3482" y="17"/>
                  <a:pt x="3648" y="0"/>
                  <a:pt x="3840" y="0"/>
                </a:cubicBezTo>
                <a:lnTo>
                  <a:pt x="3840" y="1015"/>
                </a:lnTo>
                <a:lnTo>
                  <a:pt x="0" y="1026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5400000">
            <a:off x="7315200" y="4068720"/>
            <a:ext cx="304560" cy="4572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52680" y="49068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ypical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6200000">
            <a:off x="-341280" y="3419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6049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5800" y="152280"/>
            <a:ext cx="777240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lity Fusion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16040" y="1527120"/>
            <a:ext cx="6112080" cy="4256280"/>
          </a:xfrm>
          <a:custGeom>
            <a:avLst/>
            <a:gdLst/>
            <a:ahLst/>
            <a:rect l="l" t="t" r="r" b="b"/>
            <a:pathLst>
              <a:path w="3850" h="2681">
                <a:moveTo>
                  <a:pt x="0" y="2681"/>
                </a:moveTo>
                <a:cubicBezTo>
                  <a:pt x="171" y="2350"/>
                  <a:pt x="172" y="2296"/>
                  <a:pt x="245" y="2211"/>
                </a:cubicBezTo>
                <a:cubicBezTo>
                  <a:pt x="351" y="2078"/>
                  <a:pt x="472" y="1961"/>
                  <a:pt x="636" y="1885"/>
                </a:cubicBezTo>
                <a:cubicBezTo>
                  <a:pt x="800" y="1809"/>
                  <a:pt x="1088" y="1836"/>
                  <a:pt x="1230" y="1755"/>
                </a:cubicBezTo>
                <a:cubicBezTo>
                  <a:pt x="1351" y="1695"/>
                  <a:pt x="1389" y="1504"/>
                  <a:pt x="1490" y="1402"/>
                </a:cubicBezTo>
                <a:cubicBezTo>
                  <a:pt x="1591" y="1300"/>
                  <a:pt x="1661" y="1216"/>
                  <a:pt x="1834" y="1142"/>
                </a:cubicBezTo>
                <a:cubicBezTo>
                  <a:pt x="2007" y="1068"/>
                  <a:pt x="2381" y="1038"/>
                  <a:pt x="2531" y="956"/>
                </a:cubicBezTo>
                <a:cubicBezTo>
                  <a:pt x="2681" y="874"/>
                  <a:pt x="2670" y="749"/>
                  <a:pt x="2735" y="650"/>
                </a:cubicBezTo>
                <a:cubicBezTo>
                  <a:pt x="2800" y="551"/>
                  <a:pt x="2830" y="456"/>
                  <a:pt x="2921" y="362"/>
                </a:cubicBezTo>
                <a:cubicBezTo>
                  <a:pt x="3012" y="268"/>
                  <a:pt x="3130" y="143"/>
                  <a:pt x="3283" y="83"/>
                </a:cubicBezTo>
                <a:cubicBezTo>
                  <a:pt x="3436" y="23"/>
                  <a:pt x="3469" y="27"/>
                  <a:pt x="3841" y="0"/>
                </a:cubicBezTo>
                <a:cubicBezTo>
                  <a:pt x="3850" y="427"/>
                  <a:pt x="3841" y="2173"/>
                  <a:pt x="3822" y="2666"/>
                </a:cubicBezTo>
                <a:cubicBezTo>
                  <a:pt x="2977" y="2675"/>
                  <a:pt x="796" y="2678"/>
                  <a:pt x="0" y="2681"/>
                </a:cubicBezTo>
                <a:close/>
              </a:path>
            </a:pathLst>
          </a:custGeom>
          <a:solidFill>
            <a:srgbClr val="c6dab4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05320" y="6049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-341280" y="3419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08764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Fusion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37320" y="1527120"/>
            <a:ext cx="1977840" cy="4291200"/>
          </a:xfrm>
          <a:custGeom>
            <a:avLst/>
            <a:gdLst/>
            <a:ahLst/>
            <a:rect l="l" t="t" r="r" b="b"/>
            <a:pathLst>
              <a:path w="1246" h="2703">
                <a:moveTo>
                  <a:pt x="0" y="2703"/>
                </a:moveTo>
                <a:cubicBezTo>
                  <a:pt x="5" y="2404"/>
                  <a:pt x="6" y="1252"/>
                  <a:pt x="28" y="910"/>
                </a:cubicBezTo>
                <a:lnTo>
                  <a:pt x="131" y="650"/>
                </a:lnTo>
                <a:cubicBezTo>
                  <a:pt x="179" y="559"/>
                  <a:pt x="226" y="456"/>
                  <a:pt x="317" y="362"/>
                </a:cubicBezTo>
                <a:cubicBezTo>
                  <a:pt x="408" y="268"/>
                  <a:pt x="526" y="143"/>
                  <a:pt x="679" y="83"/>
                </a:cubicBezTo>
                <a:cubicBezTo>
                  <a:pt x="832" y="23"/>
                  <a:pt x="687" y="65"/>
                  <a:pt x="1237" y="0"/>
                </a:cubicBezTo>
                <a:cubicBezTo>
                  <a:pt x="1246" y="427"/>
                  <a:pt x="1236" y="2133"/>
                  <a:pt x="1236" y="2694"/>
                </a:cubicBezTo>
              </a:path>
            </a:pathLst>
          </a:custGeom>
          <a:solidFill>
            <a:srgbClr val="678d45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317760" y="2943360"/>
            <a:ext cx="2463840" cy="2846160"/>
          </a:xfrm>
          <a:custGeom>
            <a:avLst/>
            <a:gdLst/>
            <a:ahLst/>
            <a:rect l="l" t="t" r="r" b="b"/>
            <a:pathLst>
              <a:path w="1552" h="1793">
                <a:moveTo>
                  <a:pt x="148" y="871"/>
                </a:moveTo>
                <a:cubicBezTo>
                  <a:pt x="418" y="520"/>
                  <a:pt x="307" y="620"/>
                  <a:pt x="408" y="518"/>
                </a:cubicBezTo>
                <a:cubicBezTo>
                  <a:pt x="509" y="415"/>
                  <a:pt x="562" y="337"/>
                  <a:pt x="753" y="251"/>
                </a:cubicBezTo>
                <a:cubicBezTo>
                  <a:pt x="944" y="165"/>
                  <a:pt x="1264" y="176"/>
                  <a:pt x="1552" y="0"/>
                </a:cubicBezTo>
                <a:cubicBezTo>
                  <a:pt x="1543" y="297"/>
                  <a:pt x="1533" y="1505"/>
                  <a:pt x="1543" y="1793"/>
                </a:cubicBezTo>
                <a:cubicBezTo>
                  <a:pt x="883" y="1774"/>
                  <a:pt x="0" y="1263"/>
                  <a:pt x="148" y="871"/>
                </a:cubicBezTo>
                <a:close/>
              </a:path>
            </a:pathLst>
          </a:custGeom>
          <a:solidFill>
            <a:srgbClr val="88b262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4297320"/>
            <a:ext cx="6095880" cy="1513080"/>
          </a:xfrm>
          <a:custGeom>
            <a:avLst/>
            <a:gdLst/>
            <a:ahLst/>
            <a:rect l="l" t="t" r="r" b="b"/>
            <a:pathLst>
              <a:path w="3840" h="1026">
                <a:moveTo>
                  <a:pt x="0" y="1026"/>
                </a:moveTo>
                <a:lnTo>
                  <a:pt x="144" y="768"/>
                </a:lnTo>
                <a:cubicBezTo>
                  <a:pt x="192" y="701"/>
                  <a:pt x="232" y="672"/>
                  <a:pt x="288" y="624"/>
                </a:cubicBezTo>
                <a:cubicBezTo>
                  <a:pt x="344" y="576"/>
                  <a:pt x="408" y="528"/>
                  <a:pt x="480" y="480"/>
                </a:cubicBezTo>
                <a:cubicBezTo>
                  <a:pt x="552" y="432"/>
                  <a:pt x="632" y="376"/>
                  <a:pt x="720" y="336"/>
                </a:cubicBezTo>
                <a:cubicBezTo>
                  <a:pt x="808" y="296"/>
                  <a:pt x="880" y="272"/>
                  <a:pt x="1008" y="240"/>
                </a:cubicBezTo>
                <a:cubicBezTo>
                  <a:pt x="1136" y="208"/>
                  <a:pt x="1312" y="168"/>
                  <a:pt x="1488" y="144"/>
                </a:cubicBezTo>
                <a:cubicBezTo>
                  <a:pt x="1664" y="120"/>
                  <a:pt x="1864" y="112"/>
                  <a:pt x="2064" y="96"/>
                </a:cubicBezTo>
                <a:cubicBezTo>
                  <a:pt x="2264" y="80"/>
                  <a:pt x="2493" y="70"/>
                  <a:pt x="2693" y="54"/>
                </a:cubicBezTo>
                <a:cubicBezTo>
                  <a:pt x="2893" y="38"/>
                  <a:pt x="3074" y="35"/>
                  <a:pt x="3278" y="26"/>
                </a:cubicBezTo>
                <a:cubicBezTo>
                  <a:pt x="3482" y="17"/>
                  <a:pt x="3648" y="0"/>
                  <a:pt x="3840" y="0"/>
                </a:cubicBezTo>
                <a:lnTo>
                  <a:pt x="3840" y="1015"/>
                </a:lnTo>
                <a:lnTo>
                  <a:pt x="0" y="1026"/>
                </a:lnTo>
                <a:close/>
              </a:path>
            </a:pathLst>
          </a:custGeom>
          <a:solidFill>
            <a:srgbClr val="c0c0c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49068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ypical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68520" y="5807160"/>
            <a:ext cx="6324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00200" y="1630440"/>
            <a:ext cx="0" cy="419076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00560" y="4206960"/>
            <a:ext cx="228600" cy="228600"/>
          </a:xfrm>
          <a:prstGeom prst="ellipse">
            <a:avLst/>
          </a:prstGeom>
          <a:solidFill>
            <a:srgbClr val="e2ec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53080" y="2849400"/>
            <a:ext cx="228600" cy="228600"/>
          </a:xfrm>
          <a:prstGeom prst="ellipse">
            <a:avLst/>
          </a:prstGeom>
          <a:solidFill>
            <a:srgbClr val="e2ec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86640" y="1420920"/>
            <a:ext cx="228600" cy="228600"/>
          </a:xfrm>
          <a:prstGeom prst="ellipse">
            <a:avLst/>
          </a:prstGeom>
          <a:solidFill>
            <a:srgbClr val="e2ec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28e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228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28e"/>
                </a:solidFill>
                <a:latin typeface="Arial"/>
              </a:rPr>
              <a:t>What is Escalation?</a:t>
            </a:r>
            <a:endParaRPr b="0" lang="en-US" sz="4400" spc="-1" strike="noStrike">
              <a:solidFill>
                <a:srgbClr val="00228e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Failure to rescue associated with</a:t>
            </a: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Interpretation problems</a:t>
            </a:r>
            <a:endParaRPr b="0" lang="en-US" sz="2800" spc="-1" strike="noStrike">
              <a:solidFill>
                <a:srgbClr val="66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Throughput problems</a:t>
            </a:r>
            <a:endParaRPr b="0" lang="en-US" sz="2800" spc="-1" strike="noStrike">
              <a:solidFill>
                <a:srgbClr val="6699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6699ff"/>
                </a:solidFill>
                <a:latin typeface="Arial"/>
              </a:rPr>
              <a:t>Put another way…</a:t>
            </a:r>
            <a:endParaRPr b="0" lang="en-US" sz="2800" spc="-1" strike="noStrike">
              <a:solidFill>
                <a:srgbClr val="6699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When you do not realize the patient is in trouble OR you know the patient is in trouble, but you don’t respond as needed.</a:t>
            </a: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28e"/>
                </a:solidFill>
                <a:latin typeface="Arial"/>
              </a:rPr>
              <a:t>Common Course</a:t>
            </a:r>
            <a:endParaRPr b="0" lang="en-US" sz="4400" spc="-1" strike="noStrike">
              <a:solidFill>
                <a:srgbClr val="00228e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2133720"/>
            <a:ext cx="8531280" cy="961920"/>
          </a:xfrm>
          <a:custGeom>
            <a:avLst/>
            <a:gdLst/>
            <a:ahLst/>
            <a:rect l="l" t="t" r="r" b="b"/>
            <a:pathLst>
              <a:path w="5374" h="606">
                <a:moveTo>
                  <a:pt x="0" y="606"/>
                </a:moveTo>
                <a:cubicBezTo>
                  <a:pt x="28" y="592"/>
                  <a:pt x="49" y="567"/>
                  <a:pt x="77" y="558"/>
                </a:cubicBezTo>
                <a:cubicBezTo>
                  <a:pt x="128" y="520"/>
                  <a:pt x="181" y="485"/>
                  <a:pt x="238" y="457"/>
                </a:cubicBezTo>
                <a:cubicBezTo>
                  <a:pt x="258" y="436"/>
                  <a:pt x="282" y="407"/>
                  <a:pt x="309" y="398"/>
                </a:cubicBezTo>
                <a:cubicBezTo>
                  <a:pt x="330" y="382"/>
                  <a:pt x="344" y="364"/>
                  <a:pt x="368" y="356"/>
                </a:cubicBezTo>
                <a:cubicBezTo>
                  <a:pt x="381" y="336"/>
                  <a:pt x="428" y="315"/>
                  <a:pt x="428" y="315"/>
                </a:cubicBezTo>
                <a:cubicBezTo>
                  <a:pt x="451" y="291"/>
                  <a:pt x="491" y="266"/>
                  <a:pt x="523" y="255"/>
                </a:cubicBezTo>
                <a:cubicBezTo>
                  <a:pt x="540" y="243"/>
                  <a:pt x="563" y="232"/>
                  <a:pt x="582" y="225"/>
                </a:cubicBezTo>
                <a:cubicBezTo>
                  <a:pt x="596" y="220"/>
                  <a:pt x="624" y="214"/>
                  <a:pt x="624" y="214"/>
                </a:cubicBezTo>
                <a:cubicBezTo>
                  <a:pt x="639" y="189"/>
                  <a:pt x="656" y="193"/>
                  <a:pt x="683" y="184"/>
                </a:cubicBezTo>
                <a:cubicBezTo>
                  <a:pt x="698" y="162"/>
                  <a:pt x="756" y="134"/>
                  <a:pt x="784" y="125"/>
                </a:cubicBezTo>
                <a:cubicBezTo>
                  <a:pt x="799" y="120"/>
                  <a:pt x="831" y="113"/>
                  <a:pt x="831" y="113"/>
                </a:cubicBezTo>
                <a:cubicBezTo>
                  <a:pt x="927" y="49"/>
                  <a:pt x="1140" y="97"/>
                  <a:pt x="1259" y="101"/>
                </a:cubicBezTo>
                <a:cubicBezTo>
                  <a:pt x="1317" y="130"/>
                  <a:pt x="1251" y="101"/>
                  <a:pt x="1372" y="119"/>
                </a:cubicBezTo>
                <a:cubicBezTo>
                  <a:pt x="1381" y="120"/>
                  <a:pt x="1410" y="139"/>
                  <a:pt x="1419" y="142"/>
                </a:cubicBezTo>
                <a:cubicBezTo>
                  <a:pt x="1445" y="152"/>
                  <a:pt x="1474" y="159"/>
                  <a:pt x="1502" y="166"/>
                </a:cubicBezTo>
                <a:cubicBezTo>
                  <a:pt x="1557" y="199"/>
                  <a:pt x="1626" y="215"/>
                  <a:pt x="1687" y="231"/>
                </a:cubicBezTo>
                <a:cubicBezTo>
                  <a:pt x="1720" y="253"/>
                  <a:pt x="1753" y="265"/>
                  <a:pt x="1787" y="285"/>
                </a:cubicBezTo>
                <a:cubicBezTo>
                  <a:pt x="1815" y="302"/>
                  <a:pt x="1818" y="314"/>
                  <a:pt x="1853" y="320"/>
                </a:cubicBezTo>
                <a:cubicBezTo>
                  <a:pt x="1868" y="329"/>
                  <a:pt x="1886" y="333"/>
                  <a:pt x="1900" y="344"/>
                </a:cubicBezTo>
                <a:cubicBezTo>
                  <a:pt x="1943" y="380"/>
                  <a:pt x="1892" y="362"/>
                  <a:pt x="1942" y="374"/>
                </a:cubicBezTo>
                <a:cubicBezTo>
                  <a:pt x="1969" y="395"/>
                  <a:pt x="1981" y="408"/>
                  <a:pt x="2013" y="415"/>
                </a:cubicBezTo>
                <a:cubicBezTo>
                  <a:pt x="2052" y="435"/>
                  <a:pt x="2090" y="446"/>
                  <a:pt x="2132" y="457"/>
                </a:cubicBezTo>
                <a:cubicBezTo>
                  <a:pt x="2165" y="477"/>
                  <a:pt x="2183" y="481"/>
                  <a:pt x="2221" y="487"/>
                </a:cubicBezTo>
                <a:cubicBezTo>
                  <a:pt x="2269" y="523"/>
                  <a:pt x="2317" y="512"/>
                  <a:pt x="2381" y="516"/>
                </a:cubicBezTo>
                <a:cubicBezTo>
                  <a:pt x="2508" y="514"/>
                  <a:pt x="2634" y="515"/>
                  <a:pt x="2761" y="510"/>
                </a:cubicBezTo>
                <a:cubicBezTo>
                  <a:pt x="2824" y="507"/>
                  <a:pt x="2889" y="450"/>
                  <a:pt x="2951" y="439"/>
                </a:cubicBezTo>
                <a:cubicBezTo>
                  <a:pt x="2985" y="405"/>
                  <a:pt x="3033" y="403"/>
                  <a:pt x="3076" y="386"/>
                </a:cubicBezTo>
                <a:cubicBezTo>
                  <a:pt x="3186" y="342"/>
                  <a:pt x="3046" y="393"/>
                  <a:pt x="3141" y="350"/>
                </a:cubicBezTo>
                <a:cubicBezTo>
                  <a:pt x="3186" y="329"/>
                  <a:pt x="3237" y="322"/>
                  <a:pt x="3284" y="303"/>
                </a:cubicBezTo>
                <a:cubicBezTo>
                  <a:pt x="3328" y="259"/>
                  <a:pt x="3278" y="304"/>
                  <a:pt x="3320" y="279"/>
                </a:cubicBezTo>
                <a:cubicBezTo>
                  <a:pt x="3359" y="256"/>
                  <a:pt x="3394" y="217"/>
                  <a:pt x="3438" y="202"/>
                </a:cubicBezTo>
                <a:cubicBezTo>
                  <a:pt x="3512" y="128"/>
                  <a:pt x="3426" y="207"/>
                  <a:pt x="3480" y="172"/>
                </a:cubicBezTo>
                <a:cubicBezTo>
                  <a:pt x="3550" y="127"/>
                  <a:pt x="3500" y="141"/>
                  <a:pt x="3557" y="130"/>
                </a:cubicBezTo>
                <a:cubicBezTo>
                  <a:pt x="3572" y="123"/>
                  <a:pt x="3590" y="122"/>
                  <a:pt x="3605" y="113"/>
                </a:cubicBezTo>
                <a:cubicBezTo>
                  <a:pt x="3666" y="77"/>
                  <a:pt x="3583" y="108"/>
                  <a:pt x="3640" y="89"/>
                </a:cubicBezTo>
                <a:cubicBezTo>
                  <a:pt x="3663" y="66"/>
                  <a:pt x="3687" y="64"/>
                  <a:pt x="3717" y="53"/>
                </a:cubicBezTo>
                <a:cubicBezTo>
                  <a:pt x="3818" y="16"/>
                  <a:pt x="3919" y="14"/>
                  <a:pt x="4026" y="0"/>
                </a:cubicBezTo>
                <a:cubicBezTo>
                  <a:pt x="4090" y="7"/>
                  <a:pt x="4164" y="8"/>
                  <a:pt x="4228" y="24"/>
                </a:cubicBezTo>
                <a:cubicBezTo>
                  <a:pt x="4240" y="32"/>
                  <a:pt x="4252" y="39"/>
                  <a:pt x="4264" y="47"/>
                </a:cubicBezTo>
                <a:cubicBezTo>
                  <a:pt x="4270" y="51"/>
                  <a:pt x="4281" y="59"/>
                  <a:pt x="4281" y="59"/>
                </a:cubicBezTo>
                <a:cubicBezTo>
                  <a:pt x="4312" y="105"/>
                  <a:pt x="4388" y="166"/>
                  <a:pt x="4442" y="184"/>
                </a:cubicBezTo>
                <a:cubicBezTo>
                  <a:pt x="4486" y="228"/>
                  <a:pt x="4594" y="307"/>
                  <a:pt x="4656" y="320"/>
                </a:cubicBezTo>
                <a:cubicBezTo>
                  <a:pt x="4679" y="345"/>
                  <a:pt x="4728" y="365"/>
                  <a:pt x="4762" y="374"/>
                </a:cubicBezTo>
                <a:cubicBezTo>
                  <a:pt x="4815" y="406"/>
                  <a:pt x="4876" y="430"/>
                  <a:pt x="4935" y="445"/>
                </a:cubicBezTo>
                <a:cubicBezTo>
                  <a:pt x="4983" y="483"/>
                  <a:pt x="4928" y="445"/>
                  <a:pt x="5012" y="475"/>
                </a:cubicBezTo>
                <a:cubicBezTo>
                  <a:pt x="5072" y="497"/>
                  <a:pt x="5130" y="528"/>
                  <a:pt x="5190" y="552"/>
                </a:cubicBezTo>
                <a:cubicBezTo>
                  <a:pt x="5240" y="602"/>
                  <a:pt x="5302" y="588"/>
                  <a:pt x="5374" y="588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3200400"/>
            <a:ext cx="8531280" cy="961920"/>
          </a:xfrm>
          <a:custGeom>
            <a:avLst/>
            <a:gdLst/>
            <a:ahLst/>
            <a:rect l="l" t="t" r="r" b="b"/>
            <a:pathLst>
              <a:path w="5374" h="606">
                <a:moveTo>
                  <a:pt x="0" y="606"/>
                </a:moveTo>
                <a:cubicBezTo>
                  <a:pt x="28" y="592"/>
                  <a:pt x="49" y="567"/>
                  <a:pt x="77" y="558"/>
                </a:cubicBezTo>
                <a:cubicBezTo>
                  <a:pt x="128" y="520"/>
                  <a:pt x="181" y="485"/>
                  <a:pt x="238" y="457"/>
                </a:cubicBezTo>
                <a:cubicBezTo>
                  <a:pt x="258" y="436"/>
                  <a:pt x="282" y="407"/>
                  <a:pt x="309" y="398"/>
                </a:cubicBezTo>
                <a:cubicBezTo>
                  <a:pt x="330" y="382"/>
                  <a:pt x="344" y="364"/>
                  <a:pt x="368" y="356"/>
                </a:cubicBezTo>
                <a:cubicBezTo>
                  <a:pt x="381" y="336"/>
                  <a:pt x="428" y="315"/>
                  <a:pt x="428" y="315"/>
                </a:cubicBezTo>
                <a:cubicBezTo>
                  <a:pt x="451" y="291"/>
                  <a:pt x="491" y="266"/>
                  <a:pt x="523" y="255"/>
                </a:cubicBezTo>
                <a:cubicBezTo>
                  <a:pt x="540" y="243"/>
                  <a:pt x="563" y="232"/>
                  <a:pt x="582" y="225"/>
                </a:cubicBezTo>
                <a:cubicBezTo>
                  <a:pt x="596" y="220"/>
                  <a:pt x="624" y="214"/>
                  <a:pt x="624" y="214"/>
                </a:cubicBezTo>
                <a:cubicBezTo>
                  <a:pt x="639" y="189"/>
                  <a:pt x="656" y="193"/>
                  <a:pt x="683" y="184"/>
                </a:cubicBezTo>
                <a:cubicBezTo>
                  <a:pt x="698" y="162"/>
                  <a:pt x="756" y="134"/>
                  <a:pt x="784" y="125"/>
                </a:cubicBezTo>
                <a:cubicBezTo>
                  <a:pt x="799" y="120"/>
                  <a:pt x="831" y="113"/>
                  <a:pt x="831" y="113"/>
                </a:cubicBezTo>
                <a:cubicBezTo>
                  <a:pt x="927" y="49"/>
                  <a:pt x="1140" y="97"/>
                  <a:pt x="1259" y="101"/>
                </a:cubicBezTo>
                <a:cubicBezTo>
                  <a:pt x="1317" y="130"/>
                  <a:pt x="1251" y="101"/>
                  <a:pt x="1372" y="119"/>
                </a:cubicBezTo>
                <a:cubicBezTo>
                  <a:pt x="1381" y="120"/>
                  <a:pt x="1410" y="139"/>
                  <a:pt x="1419" y="142"/>
                </a:cubicBezTo>
                <a:cubicBezTo>
                  <a:pt x="1445" y="152"/>
                  <a:pt x="1474" y="159"/>
                  <a:pt x="1502" y="166"/>
                </a:cubicBezTo>
                <a:cubicBezTo>
                  <a:pt x="1557" y="199"/>
                  <a:pt x="1626" y="215"/>
                  <a:pt x="1687" y="231"/>
                </a:cubicBezTo>
                <a:cubicBezTo>
                  <a:pt x="1720" y="253"/>
                  <a:pt x="1753" y="265"/>
                  <a:pt x="1787" y="285"/>
                </a:cubicBezTo>
                <a:cubicBezTo>
                  <a:pt x="1815" y="302"/>
                  <a:pt x="1818" y="314"/>
                  <a:pt x="1853" y="320"/>
                </a:cubicBezTo>
                <a:cubicBezTo>
                  <a:pt x="1868" y="329"/>
                  <a:pt x="1886" y="333"/>
                  <a:pt x="1900" y="344"/>
                </a:cubicBezTo>
                <a:cubicBezTo>
                  <a:pt x="1943" y="380"/>
                  <a:pt x="1892" y="362"/>
                  <a:pt x="1942" y="374"/>
                </a:cubicBezTo>
                <a:cubicBezTo>
                  <a:pt x="1969" y="395"/>
                  <a:pt x="1981" y="408"/>
                  <a:pt x="2013" y="415"/>
                </a:cubicBezTo>
                <a:cubicBezTo>
                  <a:pt x="2052" y="435"/>
                  <a:pt x="2090" y="446"/>
                  <a:pt x="2132" y="457"/>
                </a:cubicBezTo>
                <a:cubicBezTo>
                  <a:pt x="2165" y="477"/>
                  <a:pt x="2183" y="481"/>
                  <a:pt x="2221" y="487"/>
                </a:cubicBezTo>
                <a:cubicBezTo>
                  <a:pt x="2269" y="523"/>
                  <a:pt x="2317" y="512"/>
                  <a:pt x="2381" y="516"/>
                </a:cubicBezTo>
                <a:cubicBezTo>
                  <a:pt x="2508" y="514"/>
                  <a:pt x="2634" y="515"/>
                  <a:pt x="2761" y="510"/>
                </a:cubicBezTo>
                <a:cubicBezTo>
                  <a:pt x="2824" y="507"/>
                  <a:pt x="2889" y="450"/>
                  <a:pt x="2951" y="439"/>
                </a:cubicBezTo>
                <a:cubicBezTo>
                  <a:pt x="2985" y="405"/>
                  <a:pt x="3033" y="403"/>
                  <a:pt x="3076" y="386"/>
                </a:cubicBezTo>
                <a:cubicBezTo>
                  <a:pt x="3186" y="342"/>
                  <a:pt x="3046" y="393"/>
                  <a:pt x="3141" y="350"/>
                </a:cubicBezTo>
                <a:cubicBezTo>
                  <a:pt x="3186" y="329"/>
                  <a:pt x="3237" y="322"/>
                  <a:pt x="3284" y="303"/>
                </a:cubicBezTo>
                <a:cubicBezTo>
                  <a:pt x="3328" y="259"/>
                  <a:pt x="3278" y="304"/>
                  <a:pt x="3320" y="279"/>
                </a:cubicBezTo>
                <a:cubicBezTo>
                  <a:pt x="3359" y="256"/>
                  <a:pt x="3394" y="217"/>
                  <a:pt x="3438" y="202"/>
                </a:cubicBezTo>
                <a:cubicBezTo>
                  <a:pt x="3512" y="128"/>
                  <a:pt x="3426" y="207"/>
                  <a:pt x="3480" y="172"/>
                </a:cubicBezTo>
                <a:cubicBezTo>
                  <a:pt x="3550" y="127"/>
                  <a:pt x="3500" y="141"/>
                  <a:pt x="3557" y="130"/>
                </a:cubicBezTo>
                <a:cubicBezTo>
                  <a:pt x="3572" y="123"/>
                  <a:pt x="3590" y="122"/>
                  <a:pt x="3605" y="113"/>
                </a:cubicBezTo>
                <a:cubicBezTo>
                  <a:pt x="3666" y="77"/>
                  <a:pt x="3583" y="108"/>
                  <a:pt x="3640" y="89"/>
                </a:cubicBezTo>
                <a:cubicBezTo>
                  <a:pt x="3663" y="66"/>
                  <a:pt x="3687" y="64"/>
                  <a:pt x="3717" y="53"/>
                </a:cubicBezTo>
                <a:cubicBezTo>
                  <a:pt x="3818" y="16"/>
                  <a:pt x="3919" y="14"/>
                  <a:pt x="4026" y="0"/>
                </a:cubicBezTo>
                <a:cubicBezTo>
                  <a:pt x="4090" y="7"/>
                  <a:pt x="4164" y="8"/>
                  <a:pt x="4228" y="24"/>
                </a:cubicBezTo>
                <a:cubicBezTo>
                  <a:pt x="4240" y="32"/>
                  <a:pt x="4252" y="39"/>
                  <a:pt x="4264" y="47"/>
                </a:cubicBezTo>
                <a:cubicBezTo>
                  <a:pt x="4270" y="51"/>
                  <a:pt x="4281" y="59"/>
                  <a:pt x="4281" y="59"/>
                </a:cubicBezTo>
                <a:cubicBezTo>
                  <a:pt x="4312" y="105"/>
                  <a:pt x="4388" y="166"/>
                  <a:pt x="4442" y="184"/>
                </a:cubicBezTo>
                <a:cubicBezTo>
                  <a:pt x="4486" y="228"/>
                  <a:pt x="4594" y="307"/>
                  <a:pt x="4656" y="320"/>
                </a:cubicBezTo>
                <a:cubicBezTo>
                  <a:pt x="4679" y="345"/>
                  <a:pt x="4728" y="365"/>
                  <a:pt x="4762" y="374"/>
                </a:cubicBezTo>
                <a:cubicBezTo>
                  <a:pt x="4815" y="406"/>
                  <a:pt x="4876" y="430"/>
                  <a:pt x="4935" y="445"/>
                </a:cubicBezTo>
                <a:cubicBezTo>
                  <a:pt x="4983" y="483"/>
                  <a:pt x="4928" y="445"/>
                  <a:pt x="5012" y="475"/>
                </a:cubicBezTo>
                <a:cubicBezTo>
                  <a:pt x="5072" y="497"/>
                  <a:pt x="5130" y="528"/>
                  <a:pt x="5190" y="552"/>
                </a:cubicBezTo>
                <a:cubicBezTo>
                  <a:pt x="5240" y="602"/>
                  <a:pt x="5302" y="588"/>
                  <a:pt x="5374" y="588"/>
                </a:cubicBez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343400"/>
            <a:ext cx="776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lly, we track the illness. As the patient gets worse (line goes up), we respond. As the patient improves we adj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38280" y="5715000"/>
            <a:ext cx="9144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5867280"/>
            <a:ext cx="9144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08080" y="5467320"/>
            <a:ext cx="21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ti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08440" y="5695920"/>
            <a:ext cx="27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provider team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58880" y="5486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58880" y="5638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28e"/>
                </a:solidFill>
                <a:latin typeface="Arial"/>
              </a:rPr>
              <a:t>Going Off Course</a:t>
            </a:r>
            <a:endParaRPr b="0" lang="en-US" sz="4400" spc="-1" strike="noStrike">
              <a:solidFill>
                <a:srgbClr val="00228e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1981080"/>
            <a:ext cx="8531280" cy="962280"/>
          </a:xfrm>
          <a:custGeom>
            <a:avLst/>
            <a:gdLst/>
            <a:ahLst/>
            <a:rect l="l" t="t" r="r" b="b"/>
            <a:pathLst>
              <a:path w="5374" h="606">
                <a:moveTo>
                  <a:pt x="0" y="606"/>
                </a:moveTo>
                <a:cubicBezTo>
                  <a:pt x="28" y="592"/>
                  <a:pt x="49" y="567"/>
                  <a:pt x="77" y="558"/>
                </a:cubicBezTo>
                <a:cubicBezTo>
                  <a:pt x="128" y="520"/>
                  <a:pt x="181" y="485"/>
                  <a:pt x="238" y="457"/>
                </a:cubicBezTo>
                <a:cubicBezTo>
                  <a:pt x="258" y="436"/>
                  <a:pt x="282" y="407"/>
                  <a:pt x="309" y="398"/>
                </a:cubicBezTo>
                <a:cubicBezTo>
                  <a:pt x="330" y="382"/>
                  <a:pt x="344" y="364"/>
                  <a:pt x="368" y="356"/>
                </a:cubicBezTo>
                <a:cubicBezTo>
                  <a:pt x="381" y="336"/>
                  <a:pt x="428" y="315"/>
                  <a:pt x="428" y="315"/>
                </a:cubicBezTo>
                <a:cubicBezTo>
                  <a:pt x="451" y="291"/>
                  <a:pt x="491" y="266"/>
                  <a:pt x="523" y="255"/>
                </a:cubicBezTo>
                <a:cubicBezTo>
                  <a:pt x="540" y="243"/>
                  <a:pt x="563" y="232"/>
                  <a:pt x="582" y="225"/>
                </a:cubicBezTo>
                <a:cubicBezTo>
                  <a:pt x="596" y="220"/>
                  <a:pt x="624" y="214"/>
                  <a:pt x="624" y="214"/>
                </a:cubicBezTo>
                <a:cubicBezTo>
                  <a:pt x="639" y="189"/>
                  <a:pt x="656" y="193"/>
                  <a:pt x="683" y="184"/>
                </a:cubicBezTo>
                <a:cubicBezTo>
                  <a:pt x="698" y="162"/>
                  <a:pt x="756" y="134"/>
                  <a:pt x="784" y="125"/>
                </a:cubicBezTo>
                <a:cubicBezTo>
                  <a:pt x="799" y="120"/>
                  <a:pt x="831" y="113"/>
                  <a:pt x="831" y="113"/>
                </a:cubicBezTo>
                <a:cubicBezTo>
                  <a:pt x="927" y="49"/>
                  <a:pt x="1140" y="97"/>
                  <a:pt x="1259" y="101"/>
                </a:cubicBezTo>
                <a:cubicBezTo>
                  <a:pt x="1317" y="130"/>
                  <a:pt x="1251" y="101"/>
                  <a:pt x="1372" y="119"/>
                </a:cubicBezTo>
                <a:cubicBezTo>
                  <a:pt x="1381" y="120"/>
                  <a:pt x="1410" y="139"/>
                  <a:pt x="1419" y="142"/>
                </a:cubicBezTo>
                <a:cubicBezTo>
                  <a:pt x="1445" y="152"/>
                  <a:pt x="1474" y="159"/>
                  <a:pt x="1502" y="166"/>
                </a:cubicBezTo>
                <a:cubicBezTo>
                  <a:pt x="1557" y="199"/>
                  <a:pt x="1626" y="215"/>
                  <a:pt x="1687" y="231"/>
                </a:cubicBezTo>
                <a:cubicBezTo>
                  <a:pt x="1720" y="253"/>
                  <a:pt x="1753" y="265"/>
                  <a:pt x="1787" y="285"/>
                </a:cubicBezTo>
                <a:cubicBezTo>
                  <a:pt x="1815" y="302"/>
                  <a:pt x="1818" y="314"/>
                  <a:pt x="1853" y="320"/>
                </a:cubicBezTo>
                <a:cubicBezTo>
                  <a:pt x="1868" y="329"/>
                  <a:pt x="1886" y="333"/>
                  <a:pt x="1900" y="344"/>
                </a:cubicBezTo>
                <a:cubicBezTo>
                  <a:pt x="1943" y="380"/>
                  <a:pt x="1892" y="362"/>
                  <a:pt x="1942" y="374"/>
                </a:cubicBezTo>
                <a:cubicBezTo>
                  <a:pt x="1969" y="395"/>
                  <a:pt x="1981" y="408"/>
                  <a:pt x="2013" y="415"/>
                </a:cubicBezTo>
                <a:cubicBezTo>
                  <a:pt x="2052" y="435"/>
                  <a:pt x="2090" y="446"/>
                  <a:pt x="2132" y="457"/>
                </a:cubicBezTo>
                <a:cubicBezTo>
                  <a:pt x="2165" y="477"/>
                  <a:pt x="2183" y="481"/>
                  <a:pt x="2221" y="487"/>
                </a:cubicBezTo>
                <a:cubicBezTo>
                  <a:pt x="2269" y="523"/>
                  <a:pt x="2317" y="512"/>
                  <a:pt x="2381" y="516"/>
                </a:cubicBezTo>
                <a:cubicBezTo>
                  <a:pt x="2508" y="514"/>
                  <a:pt x="2634" y="515"/>
                  <a:pt x="2761" y="510"/>
                </a:cubicBezTo>
                <a:cubicBezTo>
                  <a:pt x="2824" y="507"/>
                  <a:pt x="2889" y="450"/>
                  <a:pt x="2951" y="439"/>
                </a:cubicBezTo>
                <a:cubicBezTo>
                  <a:pt x="2985" y="405"/>
                  <a:pt x="3033" y="403"/>
                  <a:pt x="3076" y="386"/>
                </a:cubicBezTo>
                <a:cubicBezTo>
                  <a:pt x="3186" y="342"/>
                  <a:pt x="3046" y="393"/>
                  <a:pt x="3141" y="350"/>
                </a:cubicBezTo>
                <a:cubicBezTo>
                  <a:pt x="3186" y="329"/>
                  <a:pt x="3237" y="322"/>
                  <a:pt x="3284" y="303"/>
                </a:cubicBezTo>
                <a:cubicBezTo>
                  <a:pt x="3328" y="259"/>
                  <a:pt x="3278" y="304"/>
                  <a:pt x="3320" y="279"/>
                </a:cubicBezTo>
                <a:cubicBezTo>
                  <a:pt x="3359" y="256"/>
                  <a:pt x="3394" y="217"/>
                  <a:pt x="3438" y="202"/>
                </a:cubicBezTo>
                <a:cubicBezTo>
                  <a:pt x="3512" y="128"/>
                  <a:pt x="3426" y="207"/>
                  <a:pt x="3480" y="172"/>
                </a:cubicBezTo>
                <a:cubicBezTo>
                  <a:pt x="3550" y="127"/>
                  <a:pt x="3500" y="141"/>
                  <a:pt x="3557" y="130"/>
                </a:cubicBezTo>
                <a:cubicBezTo>
                  <a:pt x="3572" y="123"/>
                  <a:pt x="3590" y="122"/>
                  <a:pt x="3605" y="113"/>
                </a:cubicBezTo>
                <a:cubicBezTo>
                  <a:pt x="3666" y="77"/>
                  <a:pt x="3583" y="108"/>
                  <a:pt x="3640" y="89"/>
                </a:cubicBezTo>
                <a:cubicBezTo>
                  <a:pt x="3663" y="66"/>
                  <a:pt x="3687" y="64"/>
                  <a:pt x="3717" y="53"/>
                </a:cubicBezTo>
                <a:cubicBezTo>
                  <a:pt x="3818" y="16"/>
                  <a:pt x="3919" y="14"/>
                  <a:pt x="4026" y="0"/>
                </a:cubicBezTo>
                <a:cubicBezTo>
                  <a:pt x="4090" y="7"/>
                  <a:pt x="4164" y="8"/>
                  <a:pt x="4228" y="24"/>
                </a:cubicBezTo>
                <a:cubicBezTo>
                  <a:pt x="4240" y="32"/>
                  <a:pt x="4252" y="39"/>
                  <a:pt x="4264" y="47"/>
                </a:cubicBezTo>
                <a:cubicBezTo>
                  <a:pt x="4270" y="51"/>
                  <a:pt x="4281" y="59"/>
                  <a:pt x="4281" y="59"/>
                </a:cubicBezTo>
                <a:cubicBezTo>
                  <a:pt x="4312" y="105"/>
                  <a:pt x="4388" y="166"/>
                  <a:pt x="4442" y="184"/>
                </a:cubicBezTo>
                <a:cubicBezTo>
                  <a:pt x="4486" y="228"/>
                  <a:pt x="4594" y="307"/>
                  <a:pt x="4656" y="320"/>
                </a:cubicBezTo>
                <a:cubicBezTo>
                  <a:pt x="4679" y="345"/>
                  <a:pt x="4728" y="365"/>
                  <a:pt x="4762" y="374"/>
                </a:cubicBezTo>
                <a:cubicBezTo>
                  <a:pt x="4815" y="406"/>
                  <a:pt x="4876" y="430"/>
                  <a:pt x="4935" y="445"/>
                </a:cubicBezTo>
                <a:cubicBezTo>
                  <a:pt x="4983" y="483"/>
                  <a:pt x="4928" y="445"/>
                  <a:pt x="5012" y="475"/>
                </a:cubicBezTo>
                <a:cubicBezTo>
                  <a:pt x="5072" y="497"/>
                  <a:pt x="5130" y="528"/>
                  <a:pt x="5190" y="552"/>
                </a:cubicBezTo>
                <a:cubicBezTo>
                  <a:pt x="5240" y="602"/>
                  <a:pt x="5302" y="588"/>
                  <a:pt x="5374" y="58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8920" y="2914560"/>
            <a:ext cx="8474040" cy="2422440"/>
          </a:xfrm>
          <a:custGeom>
            <a:avLst/>
            <a:gdLst/>
            <a:ahLst/>
            <a:rect l="l" t="t" r="r" b="b"/>
            <a:pathLst>
              <a:path w="5338" h="1526">
                <a:moveTo>
                  <a:pt x="0" y="480"/>
                </a:moveTo>
                <a:cubicBezTo>
                  <a:pt x="39" y="438"/>
                  <a:pt x="115" y="407"/>
                  <a:pt x="166" y="379"/>
                </a:cubicBezTo>
                <a:cubicBezTo>
                  <a:pt x="203" y="358"/>
                  <a:pt x="231" y="332"/>
                  <a:pt x="273" y="320"/>
                </a:cubicBezTo>
                <a:cubicBezTo>
                  <a:pt x="308" y="294"/>
                  <a:pt x="357" y="272"/>
                  <a:pt x="398" y="254"/>
                </a:cubicBezTo>
                <a:cubicBezTo>
                  <a:pt x="409" y="249"/>
                  <a:pt x="423" y="249"/>
                  <a:pt x="433" y="242"/>
                </a:cubicBezTo>
                <a:cubicBezTo>
                  <a:pt x="454" y="228"/>
                  <a:pt x="472" y="209"/>
                  <a:pt x="493" y="195"/>
                </a:cubicBezTo>
                <a:cubicBezTo>
                  <a:pt x="510" y="184"/>
                  <a:pt x="534" y="175"/>
                  <a:pt x="552" y="165"/>
                </a:cubicBezTo>
                <a:cubicBezTo>
                  <a:pt x="576" y="151"/>
                  <a:pt x="583" y="136"/>
                  <a:pt x="611" y="130"/>
                </a:cubicBezTo>
                <a:cubicBezTo>
                  <a:pt x="667" y="88"/>
                  <a:pt x="762" y="56"/>
                  <a:pt x="831" y="46"/>
                </a:cubicBezTo>
                <a:cubicBezTo>
                  <a:pt x="981" y="0"/>
                  <a:pt x="888" y="25"/>
                  <a:pt x="1235" y="40"/>
                </a:cubicBezTo>
                <a:cubicBezTo>
                  <a:pt x="1287" y="42"/>
                  <a:pt x="1389" y="58"/>
                  <a:pt x="1389" y="58"/>
                </a:cubicBezTo>
                <a:cubicBezTo>
                  <a:pt x="1526" y="104"/>
                  <a:pt x="1373" y="53"/>
                  <a:pt x="1484" y="88"/>
                </a:cubicBezTo>
                <a:cubicBezTo>
                  <a:pt x="1496" y="92"/>
                  <a:pt x="1520" y="100"/>
                  <a:pt x="1520" y="100"/>
                </a:cubicBezTo>
                <a:cubicBezTo>
                  <a:pt x="1531" y="132"/>
                  <a:pt x="1542" y="140"/>
                  <a:pt x="1573" y="153"/>
                </a:cubicBezTo>
                <a:cubicBezTo>
                  <a:pt x="1579" y="161"/>
                  <a:pt x="1583" y="171"/>
                  <a:pt x="1591" y="177"/>
                </a:cubicBezTo>
                <a:cubicBezTo>
                  <a:pt x="1596" y="181"/>
                  <a:pt x="1604" y="179"/>
                  <a:pt x="1609" y="183"/>
                </a:cubicBezTo>
                <a:cubicBezTo>
                  <a:pt x="1648" y="214"/>
                  <a:pt x="1594" y="192"/>
                  <a:pt x="1639" y="207"/>
                </a:cubicBezTo>
                <a:cubicBezTo>
                  <a:pt x="1661" y="231"/>
                  <a:pt x="1690" y="246"/>
                  <a:pt x="1722" y="254"/>
                </a:cubicBezTo>
                <a:cubicBezTo>
                  <a:pt x="1761" y="280"/>
                  <a:pt x="1824" y="322"/>
                  <a:pt x="1870" y="331"/>
                </a:cubicBezTo>
                <a:cubicBezTo>
                  <a:pt x="1905" y="366"/>
                  <a:pt x="1970" y="391"/>
                  <a:pt x="2019" y="403"/>
                </a:cubicBezTo>
                <a:cubicBezTo>
                  <a:pt x="2041" y="418"/>
                  <a:pt x="2060" y="417"/>
                  <a:pt x="2084" y="426"/>
                </a:cubicBezTo>
                <a:cubicBezTo>
                  <a:pt x="2167" y="457"/>
                  <a:pt x="2058" y="420"/>
                  <a:pt x="2126" y="450"/>
                </a:cubicBezTo>
                <a:cubicBezTo>
                  <a:pt x="2140" y="456"/>
                  <a:pt x="2173" y="459"/>
                  <a:pt x="2185" y="462"/>
                </a:cubicBezTo>
                <a:cubicBezTo>
                  <a:pt x="2221" y="470"/>
                  <a:pt x="2256" y="483"/>
                  <a:pt x="2292" y="492"/>
                </a:cubicBezTo>
                <a:cubicBezTo>
                  <a:pt x="2339" y="504"/>
                  <a:pt x="2376" y="533"/>
                  <a:pt x="2422" y="545"/>
                </a:cubicBezTo>
                <a:cubicBezTo>
                  <a:pt x="2468" y="575"/>
                  <a:pt x="2524" y="587"/>
                  <a:pt x="2577" y="605"/>
                </a:cubicBezTo>
                <a:cubicBezTo>
                  <a:pt x="2583" y="607"/>
                  <a:pt x="2590" y="608"/>
                  <a:pt x="2595" y="611"/>
                </a:cubicBezTo>
                <a:cubicBezTo>
                  <a:pt x="2601" y="615"/>
                  <a:pt x="2606" y="620"/>
                  <a:pt x="2612" y="622"/>
                </a:cubicBezTo>
                <a:cubicBezTo>
                  <a:pt x="2628" y="628"/>
                  <a:pt x="2660" y="634"/>
                  <a:pt x="2660" y="634"/>
                </a:cubicBezTo>
                <a:cubicBezTo>
                  <a:pt x="2685" y="659"/>
                  <a:pt x="2761" y="670"/>
                  <a:pt x="2761" y="670"/>
                </a:cubicBezTo>
                <a:cubicBezTo>
                  <a:pt x="2792" y="686"/>
                  <a:pt x="2822" y="698"/>
                  <a:pt x="2856" y="706"/>
                </a:cubicBezTo>
                <a:cubicBezTo>
                  <a:pt x="2883" y="723"/>
                  <a:pt x="2897" y="749"/>
                  <a:pt x="2927" y="759"/>
                </a:cubicBezTo>
                <a:cubicBezTo>
                  <a:pt x="2951" y="777"/>
                  <a:pt x="2979" y="797"/>
                  <a:pt x="3004" y="812"/>
                </a:cubicBezTo>
                <a:cubicBezTo>
                  <a:pt x="3067" y="849"/>
                  <a:pt x="2997" y="788"/>
                  <a:pt x="3082" y="848"/>
                </a:cubicBezTo>
                <a:cubicBezTo>
                  <a:pt x="3112" y="869"/>
                  <a:pt x="3152" y="893"/>
                  <a:pt x="3188" y="901"/>
                </a:cubicBezTo>
                <a:cubicBezTo>
                  <a:pt x="3217" y="921"/>
                  <a:pt x="3238" y="950"/>
                  <a:pt x="3272" y="961"/>
                </a:cubicBezTo>
                <a:cubicBezTo>
                  <a:pt x="3316" y="1008"/>
                  <a:pt x="3250" y="942"/>
                  <a:pt x="3349" y="1008"/>
                </a:cubicBezTo>
                <a:cubicBezTo>
                  <a:pt x="3382" y="1030"/>
                  <a:pt x="3405" y="1058"/>
                  <a:pt x="3444" y="1068"/>
                </a:cubicBezTo>
                <a:cubicBezTo>
                  <a:pt x="3468" y="1092"/>
                  <a:pt x="3497" y="1100"/>
                  <a:pt x="3527" y="1115"/>
                </a:cubicBezTo>
                <a:cubicBezTo>
                  <a:pt x="3603" y="1153"/>
                  <a:pt x="3671" y="1207"/>
                  <a:pt x="3753" y="1234"/>
                </a:cubicBezTo>
                <a:cubicBezTo>
                  <a:pt x="3811" y="1276"/>
                  <a:pt x="3872" y="1307"/>
                  <a:pt x="3943" y="1317"/>
                </a:cubicBezTo>
                <a:cubicBezTo>
                  <a:pt x="4002" y="1347"/>
                  <a:pt x="4083" y="1353"/>
                  <a:pt x="4150" y="1359"/>
                </a:cubicBezTo>
                <a:cubicBezTo>
                  <a:pt x="4156" y="1361"/>
                  <a:pt x="4162" y="1364"/>
                  <a:pt x="4168" y="1365"/>
                </a:cubicBezTo>
                <a:cubicBezTo>
                  <a:pt x="4192" y="1368"/>
                  <a:pt x="4216" y="1364"/>
                  <a:pt x="4239" y="1371"/>
                </a:cubicBezTo>
                <a:cubicBezTo>
                  <a:pt x="4310" y="1393"/>
                  <a:pt x="4369" y="1443"/>
                  <a:pt x="4447" y="1448"/>
                </a:cubicBezTo>
                <a:cubicBezTo>
                  <a:pt x="4629" y="1460"/>
                  <a:pt x="4812" y="1465"/>
                  <a:pt x="4994" y="1477"/>
                </a:cubicBezTo>
                <a:cubicBezTo>
                  <a:pt x="5088" y="1526"/>
                  <a:pt x="5232" y="1507"/>
                  <a:pt x="5338" y="1507"/>
                </a:cubicBez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24480" y="2514600"/>
            <a:ext cx="381240" cy="2133720"/>
          </a:xfrm>
          <a:prstGeom prst="upDownArrow">
            <a:avLst>
              <a:gd name="adj1" fmla="val 50000"/>
              <a:gd name="adj2" fmla="val 11141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6760" y="4097160"/>
            <a:ext cx="401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fect rate in our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caused by failures to properly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urse of th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438280" y="5638680"/>
            <a:ext cx="9144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438280" y="5867280"/>
            <a:ext cx="9144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588840" y="5365800"/>
            <a:ext cx="235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patient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74800" y="5621400"/>
            <a:ext cx="30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vider team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382560" y="541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82560" y="5638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28e"/>
                </a:solidFill>
                <a:latin typeface="Arial"/>
              </a:rPr>
              <a:t>Never On Course</a:t>
            </a:r>
            <a:endParaRPr b="0" lang="en-US" sz="4400" spc="-1" strike="noStrike">
              <a:solidFill>
                <a:srgbClr val="00228e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66640" y="2098800"/>
            <a:ext cx="7713720" cy="1339560"/>
          </a:xfrm>
          <a:custGeom>
            <a:avLst/>
            <a:gdLst/>
            <a:ahLst/>
            <a:rect l="l" t="t" r="r" b="b"/>
            <a:pathLst>
              <a:path w="4859" h="844">
                <a:moveTo>
                  <a:pt x="0" y="844"/>
                </a:moveTo>
                <a:cubicBezTo>
                  <a:pt x="36" y="808"/>
                  <a:pt x="81" y="783"/>
                  <a:pt x="130" y="771"/>
                </a:cubicBezTo>
                <a:cubicBezTo>
                  <a:pt x="184" y="735"/>
                  <a:pt x="230" y="695"/>
                  <a:pt x="292" y="674"/>
                </a:cubicBezTo>
                <a:cubicBezTo>
                  <a:pt x="297" y="668"/>
                  <a:pt x="301" y="661"/>
                  <a:pt x="308" y="657"/>
                </a:cubicBezTo>
                <a:cubicBezTo>
                  <a:pt x="323" y="649"/>
                  <a:pt x="341" y="646"/>
                  <a:pt x="357" y="641"/>
                </a:cubicBezTo>
                <a:cubicBezTo>
                  <a:pt x="380" y="634"/>
                  <a:pt x="399" y="615"/>
                  <a:pt x="422" y="609"/>
                </a:cubicBezTo>
                <a:cubicBezTo>
                  <a:pt x="444" y="604"/>
                  <a:pt x="487" y="593"/>
                  <a:pt x="487" y="593"/>
                </a:cubicBezTo>
                <a:cubicBezTo>
                  <a:pt x="554" y="545"/>
                  <a:pt x="456" y="610"/>
                  <a:pt x="552" y="568"/>
                </a:cubicBezTo>
                <a:cubicBezTo>
                  <a:pt x="658" y="521"/>
                  <a:pt x="516" y="561"/>
                  <a:pt x="617" y="536"/>
                </a:cubicBezTo>
                <a:cubicBezTo>
                  <a:pt x="664" y="512"/>
                  <a:pt x="702" y="492"/>
                  <a:pt x="754" y="479"/>
                </a:cubicBezTo>
                <a:cubicBezTo>
                  <a:pt x="832" y="429"/>
                  <a:pt x="928" y="397"/>
                  <a:pt x="1014" y="365"/>
                </a:cubicBezTo>
                <a:cubicBezTo>
                  <a:pt x="1025" y="361"/>
                  <a:pt x="1036" y="356"/>
                  <a:pt x="1046" y="349"/>
                </a:cubicBezTo>
                <a:cubicBezTo>
                  <a:pt x="1053" y="345"/>
                  <a:pt x="1056" y="336"/>
                  <a:pt x="1063" y="333"/>
                </a:cubicBezTo>
                <a:cubicBezTo>
                  <a:pt x="1099" y="315"/>
                  <a:pt x="1145" y="301"/>
                  <a:pt x="1184" y="292"/>
                </a:cubicBezTo>
                <a:cubicBezTo>
                  <a:pt x="1212" y="265"/>
                  <a:pt x="1238" y="256"/>
                  <a:pt x="1274" y="244"/>
                </a:cubicBezTo>
                <a:cubicBezTo>
                  <a:pt x="1296" y="229"/>
                  <a:pt x="1323" y="214"/>
                  <a:pt x="1347" y="203"/>
                </a:cubicBezTo>
                <a:cubicBezTo>
                  <a:pt x="1362" y="196"/>
                  <a:pt x="1395" y="187"/>
                  <a:pt x="1395" y="187"/>
                </a:cubicBezTo>
                <a:cubicBezTo>
                  <a:pt x="1423" y="161"/>
                  <a:pt x="1472" y="147"/>
                  <a:pt x="1509" y="138"/>
                </a:cubicBezTo>
                <a:cubicBezTo>
                  <a:pt x="1565" y="101"/>
                  <a:pt x="1494" y="144"/>
                  <a:pt x="1574" y="114"/>
                </a:cubicBezTo>
                <a:cubicBezTo>
                  <a:pt x="1583" y="111"/>
                  <a:pt x="1589" y="101"/>
                  <a:pt x="1598" y="98"/>
                </a:cubicBezTo>
                <a:cubicBezTo>
                  <a:pt x="1646" y="80"/>
                  <a:pt x="1627" y="100"/>
                  <a:pt x="1663" y="81"/>
                </a:cubicBezTo>
                <a:cubicBezTo>
                  <a:pt x="1745" y="38"/>
                  <a:pt x="1822" y="10"/>
                  <a:pt x="1915" y="0"/>
                </a:cubicBezTo>
                <a:cubicBezTo>
                  <a:pt x="2896" y="23"/>
                  <a:pt x="3878" y="25"/>
                  <a:pt x="4859" y="2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38280" y="2743200"/>
            <a:ext cx="533520" cy="1676520"/>
          </a:xfrm>
          <a:prstGeom prst="upDownArrow">
            <a:avLst>
              <a:gd name="adj1" fmla="val 50000"/>
              <a:gd name="adj2" fmla="val 6255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38280" y="5715000"/>
            <a:ext cx="9144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38280" y="5867280"/>
            <a:ext cx="9144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27440" y="5697360"/>
            <a:ext cx="30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provider team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30320" y="5443560"/>
            <a:ext cx="23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patient 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379680" y="54864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79680" y="56386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56360" y="3917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181480" y="4173480"/>
            <a:ext cx="3962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metimes, we’re off course right from the beginning and it’s difficult to get back on cou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9360" y="3298680"/>
            <a:ext cx="7861320" cy="1570320"/>
          </a:xfrm>
          <a:custGeom>
            <a:avLst/>
            <a:gdLst/>
            <a:ahLst/>
            <a:rect l="l" t="t" r="r" b="b"/>
            <a:pathLst>
              <a:path w="4952" h="989">
                <a:moveTo>
                  <a:pt x="43" y="778"/>
                </a:moveTo>
                <a:cubicBezTo>
                  <a:pt x="132" y="807"/>
                  <a:pt x="0" y="762"/>
                  <a:pt x="92" y="802"/>
                </a:cubicBezTo>
                <a:cubicBezTo>
                  <a:pt x="125" y="816"/>
                  <a:pt x="163" y="826"/>
                  <a:pt x="198" y="834"/>
                </a:cubicBezTo>
                <a:cubicBezTo>
                  <a:pt x="311" y="912"/>
                  <a:pt x="360" y="905"/>
                  <a:pt x="506" y="916"/>
                </a:cubicBezTo>
                <a:cubicBezTo>
                  <a:pt x="590" y="937"/>
                  <a:pt x="687" y="941"/>
                  <a:pt x="774" y="948"/>
                </a:cubicBezTo>
                <a:cubicBezTo>
                  <a:pt x="969" y="987"/>
                  <a:pt x="1168" y="983"/>
                  <a:pt x="1366" y="989"/>
                </a:cubicBezTo>
                <a:cubicBezTo>
                  <a:pt x="1536" y="984"/>
                  <a:pt x="1688" y="977"/>
                  <a:pt x="1853" y="964"/>
                </a:cubicBezTo>
                <a:cubicBezTo>
                  <a:pt x="1884" y="956"/>
                  <a:pt x="1921" y="955"/>
                  <a:pt x="1950" y="940"/>
                </a:cubicBezTo>
                <a:cubicBezTo>
                  <a:pt x="1959" y="936"/>
                  <a:pt x="1965" y="927"/>
                  <a:pt x="1974" y="924"/>
                </a:cubicBezTo>
                <a:cubicBezTo>
                  <a:pt x="1997" y="915"/>
                  <a:pt x="2023" y="914"/>
                  <a:pt x="2047" y="907"/>
                </a:cubicBezTo>
                <a:cubicBezTo>
                  <a:pt x="2096" y="892"/>
                  <a:pt x="2144" y="875"/>
                  <a:pt x="2193" y="859"/>
                </a:cubicBezTo>
                <a:cubicBezTo>
                  <a:pt x="2217" y="851"/>
                  <a:pt x="2241" y="834"/>
                  <a:pt x="2266" y="826"/>
                </a:cubicBezTo>
                <a:cubicBezTo>
                  <a:pt x="2321" y="774"/>
                  <a:pt x="2219" y="866"/>
                  <a:pt x="2331" y="794"/>
                </a:cubicBezTo>
                <a:cubicBezTo>
                  <a:pt x="2348" y="783"/>
                  <a:pt x="2362" y="769"/>
                  <a:pt x="2380" y="761"/>
                </a:cubicBezTo>
                <a:cubicBezTo>
                  <a:pt x="2433" y="737"/>
                  <a:pt x="2490" y="723"/>
                  <a:pt x="2542" y="697"/>
                </a:cubicBezTo>
                <a:cubicBezTo>
                  <a:pt x="2570" y="667"/>
                  <a:pt x="2550" y="683"/>
                  <a:pt x="2607" y="664"/>
                </a:cubicBezTo>
                <a:cubicBezTo>
                  <a:pt x="2623" y="659"/>
                  <a:pt x="2656" y="648"/>
                  <a:pt x="2656" y="648"/>
                </a:cubicBezTo>
                <a:cubicBezTo>
                  <a:pt x="2686" y="628"/>
                  <a:pt x="2693" y="616"/>
                  <a:pt x="2729" y="607"/>
                </a:cubicBezTo>
                <a:cubicBezTo>
                  <a:pt x="2804" y="557"/>
                  <a:pt x="2678" y="638"/>
                  <a:pt x="2802" y="575"/>
                </a:cubicBezTo>
                <a:cubicBezTo>
                  <a:pt x="2848" y="552"/>
                  <a:pt x="2898" y="522"/>
                  <a:pt x="2948" y="510"/>
                </a:cubicBezTo>
                <a:cubicBezTo>
                  <a:pt x="2956" y="505"/>
                  <a:pt x="2963" y="498"/>
                  <a:pt x="2972" y="494"/>
                </a:cubicBezTo>
                <a:cubicBezTo>
                  <a:pt x="2980" y="490"/>
                  <a:pt x="2989" y="490"/>
                  <a:pt x="2996" y="486"/>
                </a:cubicBezTo>
                <a:cubicBezTo>
                  <a:pt x="3003" y="482"/>
                  <a:pt x="3006" y="473"/>
                  <a:pt x="3013" y="469"/>
                </a:cubicBezTo>
                <a:cubicBezTo>
                  <a:pt x="3020" y="465"/>
                  <a:pt x="3030" y="465"/>
                  <a:pt x="3037" y="461"/>
                </a:cubicBezTo>
                <a:cubicBezTo>
                  <a:pt x="3054" y="452"/>
                  <a:pt x="3069" y="438"/>
                  <a:pt x="3086" y="429"/>
                </a:cubicBezTo>
                <a:cubicBezTo>
                  <a:pt x="3097" y="424"/>
                  <a:pt x="3107" y="418"/>
                  <a:pt x="3118" y="413"/>
                </a:cubicBezTo>
                <a:cubicBezTo>
                  <a:pt x="3150" y="379"/>
                  <a:pt x="3196" y="337"/>
                  <a:pt x="3240" y="323"/>
                </a:cubicBezTo>
                <a:cubicBezTo>
                  <a:pt x="3281" y="296"/>
                  <a:pt x="3326" y="270"/>
                  <a:pt x="3370" y="250"/>
                </a:cubicBezTo>
                <a:cubicBezTo>
                  <a:pt x="3404" y="235"/>
                  <a:pt x="3442" y="232"/>
                  <a:pt x="3475" y="218"/>
                </a:cubicBezTo>
                <a:cubicBezTo>
                  <a:pt x="3497" y="209"/>
                  <a:pt x="3518" y="196"/>
                  <a:pt x="3540" y="185"/>
                </a:cubicBezTo>
                <a:cubicBezTo>
                  <a:pt x="3555" y="177"/>
                  <a:pt x="3589" y="169"/>
                  <a:pt x="3589" y="169"/>
                </a:cubicBezTo>
                <a:cubicBezTo>
                  <a:pt x="3632" y="140"/>
                  <a:pt x="3686" y="129"/>
                  <a:pt x="3735" y="112"/>
                </a:cubicBezTo>
                <a:cubicBezTo>
                  <a:pt x="3797" y="91"/>
                  <a:pt x="3859" y="82"/>
                  <a:pt x="3921" y="64"/>
                </a:cubicBezTo>
                <a:cubicBezTo>
                  <a:pt x="3957" y="53"/>
                  <a:pt x="3997" y="33"/>
                  <a:pt x="4035" y="31"/>
                </a:cubicBezTo>
                <a:cubicBezTo>
                  <a:pt x="4116" y="26"/>
                  <a:pt x="4197" y="26"/>
                  <a:pt x="4278" y="23"/>
                </a:cubicBezTo>
                <a:cubicBezTo>
                  <a:pt x="4507" y="0"/>
                  <a:pt x="4712" y="7"/>
                  <a:pt x="4952" y="7"/>
                </a:cubicBez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1143000"/>
            <a:ext cx="8991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28e"/>
                </a:solidFill>
                <a:latin typeface="Arial"/>
              </a:rPr>
              <a:t>Decision Making Science</a:t>
            </a:r>
            <a:endParaRPr b="0" lang="en-US" sz="4000" spc="-1" strike="noStrike">
              <a:solidFill>
                <a:srgbClr val="00228e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28600" y="1066680"/>
            <a:ext cx="86868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65520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28e"/>
                </a:solidFill>
                <a:latin typeface="Arial"/>
              </a:rPr>
              <a:t>The Prospective Risk Model</a:t>
            </a:r>
            <a:endParaRPr b="0" lang="en-US" sz="4000" spc="-1" strike="noStrike">
              <a:solidFill>
                <a:srgbClr val="00228e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34160" cy="44956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0" y="5105520"/>
            <a:ext cx="2057400" cy="129528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66880" y="5105520"/>
            <a:ext cx="2057400" cy="129528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76720" y="3809880"/>
            <a:ext cx="2057400" cy="129564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34120" y="17524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The Top Three R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28e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228e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A focus on results helps providers and patients</a:t>
            </a:r>
            <a:endParaRPr b="0" lang="en-US" sz="2800" spc="-1" strike="noStrike">
              <a:solidFill>
                <a:srgbClr val="6699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Training on risk points can improve performance</a:t>
            </a:r>
            <a:endParaRPr b="0" lang="en-US" sz="2800" spc="-1" strike="noStrike">
              <a:solidFill>
                <a:srgbClr val="6699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Leads to better results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Requires alterations in decision making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Enhances empiric data for better understanding training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28e"/>
                </a:solidFill>
                <a:latin typeface="Arial"/>
              </a:rPr>
              <a:t>Bayes Theorem</a:t>
            </a:r>
            <a:endParaRPr b="0" lang="en-US" sz="5400" spc="-1" strike="noStrike">
              <a:solidFill>
                <a:srgbClr val="00228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6699ff"/>
                </a:solidFill>
                <a:latin typeface="Arial"/>
              </a:rPr>
              <a:t>	</a:t>
            </a:r>
            <a:r>
              <a:rPr b="0" i="1" lang="en-US" sz="5400" spc="-1" strike="noStrike">
                <a:solidFill>
                  <a:srgbClr val="6699ff"/>
                </a:solidFill>
                <a:latin typeface="Arial"/>
              </a:rPr>
              <a:t>	</a:t>
            </a:r>
            <a:r>
              <a:rPr b="0" i="1" lang="en-US" sz="5400" spc="-1" strike="noStrike">
                <a:solidFill>
                  <a:srgbClr val="6699ff"/>
                </a:solidFill>
                <a:latin typeface="Arial"/>
              </a:rPr>
              <a:t>P (A/B)=</a:t>
            </a:r>
            <a:r>
              <a:rPr b="0" i="1" lang="en-US" sz="5400" spc="-1" strike="noStrike" u="sng">
                <a:solidFill>
                  <a:srgbClr val="6699ff"/>
                </a:solidFill>
                <a:uFillTx/>
                <a:latin typeface="Arial"/>
              </a:rPr>
              <a:t>P(B/A) * P(A)</a:t>
            </a:r>
            <a:endParaRPr b="0" lang="en-US" sz="5400" spc="-1" strike="noStrike">
              <a:solidFill>
                <a:srgbClr val="6699ff"/>
              </a:solidFill>
              <a:latin typeface="Arial"/>
            </a:endParaRPr>
          </a:p>
          <a:p>
            <a:pPr lvl="4" marL="2057400" indent="0">
              <a:spcBef>
                <a:spcPts val="1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99ff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6699ff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6699ff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6699ff"/>
                </a:solidFill>
                <a:latin typeface="Arial"/>
              </a:rPr>
              <a:t>      </a:t>
            </a:r>
            <a:r>
              <a:rPr b="0" i="1" lang="en-US" sz="4000" spc="-1" strike="noStrike">
                <a:solidFill>
                  <a:srgbClr val="6699ff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6699ff"/>
                </a:solidFill>
                <a:latin typeface="Arial"/>
              </a:rPr>
              <a:t>   </a:t>
            </a:r>
            <a:r>
              <a:rPr b="0" i="1" lang="en-US" sz="5400" spc="-1" strike="noStrike">
                <a:solidFill>
                  <a:srgbClr val="6699ff"/>
                </a:solidFill>
                <a:latin typeface="Arial"/>
              </a:rPr>
              <a:t>P(B)</a:t>
            </a:r>
            <a:endParaRPr b="0" lang="en-US" sz="5400" spc="-1" strike="noStrike">
              <a:solidFill>
                <a:srgbClr val="6699ff"/>
              </a:solidFill>
              <a:latin typeface="Arial"/>
            </a:endParaRPr>
          </a:p>
          <a:p>
            <a:pPr lvl="4" marL="2057400" indent="0">
              <a:spcBef>
                <a:spcPts val="1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28e"/>
                </a:solidFill>
                <a:latin typeface="Arial"/>
              </a:rPr>
              <a:t>Pattern Recognition</a:t>
            </a:r>
            <a:endParaRPr b="0" lang="en-US" sz="4400" spc="-1" strike="noStrike">
              <a:solidFill>
                <a:srgbClr val="00228e"/>
              </a:solidFill>
              <a:latin typeface="Arial"/>
            </a:endParaRPr>
          </a:p>
        </p:txBody>
      </p:sp>
      <p:pic>
        <p:nvPicPr>
          <p:cNvPr id="86" name="" descr="fabric weave pattern"/>
          <p:cNvPicPr/>
          <p:nvPr/>
        </p:nvPicPr>
        <p:blipFill>
          <a:blip r:embed="rId1"/>
          <a:stretch/>
        </p:blipFill>
        <p:spPr>
          <a:xfrm>
            <a:off x="2133720" y="1676520"/>
            <a:ext cx="4900320" cy="4351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52280" y="2514600"/>
            <a:ext cx="17528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many squares do you s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mping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lusions too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43800" y="1981080"/>
            <a:ext cx="144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there flashing in the squares?Your mind will play tricks on yo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80988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162920" y="388620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28e"/>
                </a:solidFill>
                <a:latin typeface="Arial"/>
              </a:rPr>
              <a:t>Decision-Making</a:t>
            </a:r>
            <a:endParaRPr b="0" lang="en-US" sz="4400" spc="-1" strike="noStrike">
              <a:solidFill>
                <a:srgbClr val="00228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05280" y="1447560"/>
            <a:ext cx="9448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Medical Decision-Making Process</a:t>
            </a:r>
            <a:endParaRPr b="0" lang="en-US" sz="2800" spc="-1" strike="noStrike">
              <a:solidFill>
                <a:srgbClr val="6699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228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Perception/Data gathering (training-H and P, Labs, Rads)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228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6699ff"/>
                </a:solidFill>
                <a:latin typeface="Arial"/>
              </a:rPr>
              <a:t>Amber light” is showing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228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Interpretation (training-pattern recognition and probability)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228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6699ff"/>
                </a:solidFill>
                <a:latin typeface="Arial"/>
              </a:rPr>
              <a:t>Amber light” means prepare to stop,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maybe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228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Decision making (based on probability +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erience</a:t>
            </a: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228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Arial"/>
              </a:rPr>
              <a:t>Stop </a:t>
            </a:r>
            <a:r>
              <a:rPr b="0" i="1" lang="en-US" sz="2000" spc="-1" strike="noStrike">
                <a:solidFill>
                  <a:srgbClr val="6699ff"/>
                </a:solidFill>
                <a:latin typeface="Arial"/>
              </a:rPr>
              <a:t>or </a:t>
            </a:r>
            <a:r>
              <a:rPr b="0" lang="en-US" sz="2000" spc="-1" strike="noStrike">
                <a:solidFill>
                  <a:srgbClr val="6699ff"/>
                </a:solidFill>
                <a:latin typeface="Arial"/>
              </a:rPr>
              <a:t>go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228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Action taking (reflex/“gut level response”/programming)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228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Arial"/>
              </a:rPr>
              <a:t>Hit the brake or accelerator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6019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rx,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5562720"/>
            <a:ext cx="769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x D and Slonim AD: Assessing patient safety risk before the injury occurs: An Introduction to Socio-Technical Probabilistic Risk Assessment. Quality and Safety in Healthcare 2003; 12 Suppl 2: 33-3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28e"/>
                </a:solidFill>
                <a:latin typeface="Arial"/>
              </a:rPr>
              <a:t>Medical Decision-Making</a:t>
            </a:r>
            <a:endParaRPr b="0" lang="en-US" sz="4400" spc="-1" strike="noStrike">
              <a:solidFill>
                <a:srgbClr val="00228e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3352680"/>
            <a:ext cx="1218960" cy="91440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2971800"/>
            <a:ext cx="2209680" cy="182880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2514600"/>
            <a:ext cx="3124080" cy="281952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1905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ption/Data Gath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56320" y="3200400"/>
            <a:ext cx="5461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re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5715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-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2286000" y="3276360"/>
            <a:ext cx="546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14800" y="35812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age Nu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43434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D Nu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48769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ysici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505320" y="38098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48120" y="38098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1972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828800" y="38098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0120" y="3276720"/>
            <a:ext cx="158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t Hel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diolo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ul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04760" y="4267080"/>
            <a:ext cx="53316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1905120" y="2971440"/>
            <a:ext cx="3808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2133720"/>
            <a:ext cx="1371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ke a Dx and Tr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4572000"/>
            <a:ext cx="175284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 more testing-which te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re-test probabili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28e"/>
                </a:solidFill>
                <a:latin typeface="Arial"/>
              </a:rPr>
              <a:t>Medical Decision-Making</a:t>
            </a:r>
            <a:endParaRPr b="0" lang="en-US" sz="4400" spc="-1" strike="noStrike">
              <a:solidFill>
                <a:srgbClr val="00228e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3352680"/>
            <a:ext cx="1218960" cy="91440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2971800"/>
            <a:ext cx="2209680" cy="182880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2514600"/>
            <a:ext cx="3124080" cy="281952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1905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ption/Data Gath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56320" y="3200400"/>
            <a:ext cx="5461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re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52680" y="5715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-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0800000">
            <a:off x="2286000" y="3276360"/>
            <a:ext cx="546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14800" y="35812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age Nu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38480" y="43434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D Nu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86200" y="48769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ysici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505320" y="38098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048120" y="38098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1972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828800" y="38098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0120" y="3276720"/>
            <a:ext cx="158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t Hel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diolo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ul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904760" y="4267080"/>
            <a:ext cx="53316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1905120" y="2971440"/>
            <a:ext cx="3808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2133720"/>
            <a:ext cx="1371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ke a Dx and Tr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4572000"/>
            <a:ext cx="175284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 more testing-which te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re-test probabili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447920" y="1523880"/>
            <a:ext cx="647676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at are the result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id we get it right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28e"/>
                </a:solidFill>
                <a:latin typeface="Arial"/>
              </a:rPr>
              <a:t>Expert Decision Making:</a:t>
            </a:r>
            <a:br>
              <a:rPr sz="4400"/>
            </a:br>
            <a:r>
              <a:rPr b="0" lang="en-US" sz="4400" spc="-1" strike="noStrike">
                <a:solidFill>
                  <a:srgbClr val="00228e"/>
                </a:solidFill>
                <a:latin typeface="Arial"/>
              </a:rPr>
              <a:t>Practice, Practice, Practice</a:t>
            </a:r>
            <a:endParaRPr b="0" lang="en-US" sz="4400" spc="-1" strike="noStrike">
              <a:solidFill>
                <a:srgbClr val="00228e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Expert – pattern matching against large mental library, quick, accurate if confirm correct answer</a:t>
            </a: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Novice – library is empty – slow, error prone process</a:t>
            </a: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Certain Diagnoses are Favored- Frequent, Recent, Serious</a:t>
            </a: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Heuristics – fixating on the wrong pattern</a:t>
            </a: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9T15:15:54Z</dcterms:created>
  <dc:creator>AMartz</dc:creator>
  <dc:description/>
  <dc:language>en-US</dc:language>
  <cp:lastModifiedBy>Rasa</cp:lastModifiedBy>
  <dcterms:modified xsi:type="dcterms:W3CDTF">2009-10-28T20:18:46Z</dcterms:modified>
  <cp:revision>79</cp:revision>
  <dc:subject/>
  <dc:title>Slide 1</dc:title>
</cp:coreProperties>
</file>