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2.pptx" ContentType="application/vnd.openxmlformats-officedocument.presentationml.presentation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F2DD6-09D7-4E7A-B845-8309C92BA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3F8D4-2A14-4BCC-81C7-A1D08257A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25B73-3FD2-4D8E-811C-7A39F59CC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565CF-9E0F-431B-9462-2C546A880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83E44-382F-4E79-9FA6-0A0240B96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6274440" y="8735760"/>
            <a:ext cx="695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1B50004D-1E14-41CA-96B5-E967050C72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749160" y="573120"/>
            <a:ext cx="5365800" cy="40244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555120" y="4912920"/>
            <a:ext cx="5843880" cy="2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7A6E7-B2E2-4927-AAF6-B688D79085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DAF49-0869-4407-B3D5-4218957C5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2007, NYC requests proposals from electronic health vendor to help build a prevention oriented EH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hose eClinicalWorks and with eCW, we focused on improving the EHR with the following 8 function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C0026-8805-408D-A0B3-82B7BE6F3A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6119640" y="8780040"/>
            <a:ext cx="544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CEB7B-35EC-4801-A73E-D74CDB0F7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doc id"/>
          <p:cNvSpPr/>
          <p:nvPr/>
        </p:nvSpPr>
        <p:spPr>
          <a:xfrm>
            <a:off x="5219640" y="93960"/>
            <a:ext cx="1428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DCO-ON0056-20090404-njPP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749160" y="573120"/>
            <a:ext cx="5365800" cy="40244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555120" y="4912920"/>
            <a:ext cx="584388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803C-40CE-4C39-AB74-EDDB095F7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50FC-F9DE-4ABF-B521-91CDB318D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D5F2-31D1-4D72-AD27-C8A20F681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A762-020E-418D-86A7-B2FDBA6EE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EC69-64DF-4673-8A0E-8930A349C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F042-A078-46E7-83AB-5EE41DA5E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DA90-21D3-4698-B409-5B457DC51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2259-A9EA-47AA-BF85-BCB4CADFD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CE20-8967-47F9-9DD1-97998A65B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B131-D526-4151-A174-8FF6931C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F075-B3B5-42D7-B658-B8F963FD0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0E51-707E-48B7-AC91-B445D8C3A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B6507-0902-409A-9B58-2BD055F754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hyperlink" Target="http://www.nyc.gov/pcip" TargetMode="External"/><Relationship Id="rId4" Type="http://schemas.openxmlformats.org/officeDocument/2006/relationships/hyperlink" Target="http://www.nyc.gov/pcip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mailto:sshih@health.nyc.gov" TargetMode="External"/><Relationship Id="rId2" Type="http://schemas.openxmlformats.org/officeDocument/2006/relationships/hyperlink" Target="http://www.nyc.gov/pcip" TargetMode="External"/><Relationship Id="rId3" Type="http://schemas.openxmlformats.org/officeDocument/2006/relationships/hyperlink" Target="http://www.nyc.gov/pcip" TargetMode="External"/><Relationship Id="rId4" Type="http://schemas.openxmlformats.org/officeDocument/2006/relationships/hyperlink" Target="http://www.nyc.gov/pcip" TargetMode="External"/><Relationship Id="rId5" Type="http://schemas.openxmlformats.org/officeDocument/2006/relationships/hyperlink" Target="http://www.nyc.gov/pcip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png"/><Relationship Id="rId3" Type="http://schemas.openxmlformats.org/officeDocument/2006/relationships/package" Target="../embeddings/oleObject2.pptx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The Primary Care Information Proj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3170160"/>
            <a:ext cx="38862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rah Shih, MP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ec. Dir. Healthcare Quality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York C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partment of Health and Mental Hygie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shih@health.nyc.g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421160" y="2462040"/>
          <a:ext cx="4341960" cy="32371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bridge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1160" y="2462040"/>
                    <a:ext cx="4341960" cy="32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Text Box 5"/>
          <p:cNvSpPr/>
          <p:nvPr/>
        </p:nvSpPr>
        <p:spPr>
          <a:xfrm>
            <a:off x="3094200" y="6095880"/>
            <a:ext cx="346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nyc.gov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pcip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we know whether providers are meaningfully using the EH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4628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IP sta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d on-site vis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 of registry query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Transmissions from EH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unter information from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lization of EHR metr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lity Measures (Eo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Encounters Per Month by Practice Size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52280" y="584280"/>
          <a:ext cx="9448920" cy="610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7" name="" descr="bar graph of average encounters per month by practice size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584280"/>
                    <a:ext cx="9448920" cy="610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Text Box 14"/>
          <p:cNvSpPr/>
          <p:nvPr/>
        </p:nvSpPr>
        <p:spPr>
          <a:xfrm>
            <a:off x="56160" y="6335640"/>
            <a:ext cx="674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Limited to small practices that have been on the EHR for 6 months or more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 available on ~116 small pract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CIP Contractual Expectations with Providers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lected Measures for Demonstrating Use of EH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its where office visit CPT codes were entered into the progress no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its where an order set was used as part of the progress no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its where a smart form was used as part of the progress no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its where blood pressure was entered into the progress no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its where allergy data was entered in a structured form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urance claims created over total number of insurances for patients that mon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its where medications were prescribed through the EH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criptions entered into the EHR that were sent via fax or electronic interf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s reviewed over labs order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medications were entered or verified in the EH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ths in a 6 month period when required data files were transmitted to the DOHM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ths in a 6 month period when all core utilization measures were reported to the DOHM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029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osed Meaningful Use Measure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lapping with Data Transmitted to PC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7200" y="1447920"/>
          <a:ext cx="8229600" cy="4636800"/>
        </p:xfrm>
        <a:graphic>
          <a:graphicData uri="http://schemas.openxmlformats.org/drawingml/2006/table">
            <a:tbl>
              <a:tblPr/>
              <a:tblGrid>
                <a:gridCol w="887400"/>
                <a:gridCol w="5732640"/>
                <a:gridCol w="1609560"/>
              </a:tblGrid>
              <a:tr h="506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 Measures (Draft from HITECH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, 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of permissible RX's transmitted electronical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vide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,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lab results incorporated into EHR in coded format [OP,IP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actice Provide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of encounters for which clinical summaries were provided [OP, IP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vide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of encounters where med reconciliation was performed [OP, IP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actic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port up-to-date status for childhood immunizations [OP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actic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39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reportable lab results submitted electronically [IP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actic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HR Utilization Transmitted to PC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78487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napshot of monthly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practices with EHR us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3 practices in July and August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5 have been using EHR for 8 months or lon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151560" y="6262560"/>
            <a:ext cx="621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limited to practices on the EHR for  8 months or lo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457200" y="3276720"/>
          <a:ext cx="8229600" cy="1892160"/>
        </p:xfrm>
        <a:graphic>
          <a:graphicData uri="http://schemas.openxmlformats.org/drawingml/2006/table">
            <a:tbl>
              <a:tblPr/>
              <a:tblGrid>
                <a:gridCol w="5105520"/>
                <a:gridCol w="1371600"/>
                <a:gridCol w="1752480"/>
              </a:tblGrid>
              <a:tr h="409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HR use transmiss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Jul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Aug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Lab results transmitte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,0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,1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b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Lab results review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,7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,8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b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Use of Medicaid State Rx Clai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4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5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b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ctive pati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8,0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6,2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osed Meaningful Use Measure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rrently within PCIP Quality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1371600"/>
          <a:ext cx="8229600" cy="4346640"/>
        </p:xfrm>
        <a:graphic>
          <a:graphicData uri="http://schemas.openxmlformats.org/drawingml/2006/table">
            <a:tbl>
              <a:tblPr/>
              <a:tblGrid>
                <a:gridCol w="838080"/>
                <a:gridCol w="7391520"/>
              </a:tblGrid>
              <a:tr h="434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 Measures (Draft from HITECH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diabetics with A1c under control [OP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of hypertensive patients with BP under control [OP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of patients with LDL under control [OP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of smokers offered smoking cessation counseling [OP, IP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of patients with recorded BMI [OP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of patients over 50 with annual colorectal cancer screenings [OP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of females over 50 receiving annual mammogram [OP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of patients at high-risk for cardiac events on aspirin prophylaxis [OP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of patients with current pneumovax [OP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eligible patients who received flu vaccine [OP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Text Box 324"/>
          <p:cNvSpPr/>
          <p:nvPr/>
        </p:nvSpPr>
        <p:spPr>
          <a:xfrm>
            <a:off x="380880" y="5943600"/>
            <a:ext cx="8077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Quality Measures are collected at the provider level and stratified by insurance type. For some practices, stratified by race/ethnicity, though few providers are completing the field for race/ethn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42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Data – Quality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57200" y="685800"/>
          <a:ext cx="8229600" cy="5532480"/>
        </p:xfrm>
        <a:graphic>
          <a:graphicData uri="http://schemas.openxmlformats.org/drawingml/2006/table">
            <a:tbl>
              <a:tblPr/>
              <a:tblGrid>
                <a:gridCol w="2897280"/>
                <a:gridCol w="563400"/>
                <a:gridCol w="1287360"/>
                <a:gridCol w="966960"/>
                <a:gridCol w="547560"/>
                <a:gridCol w="1125720"/>
                <a:gridCol w="841320"/>
              </a:tblGrid>
              <a:tr h="307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r08 to Feb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ug08 to Jul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sure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n (st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m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n (st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m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1C control (&lt; 7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.7 (16.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.2 (17.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4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tithrombic Treatme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.5 (21.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,6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9.6 (21.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,6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thma control (5-11 yr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7.8 (18.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9.0 (12.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thma control (12-17 yr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4.1 (16.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.6 (8.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thma control (18-56 yr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.7 (36.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1.9 (27.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ody Mass Ind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1.6 (29.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3,0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.4 (26.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6,8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P Control ≤130/80 D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.9 (13.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9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.7 (17.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3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P control ≤140/90 HT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8.6 (16.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,3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1.9 (16.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,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P Control ≤140/90 IV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7.4 (16.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9.7 (20.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olesterol Control &lt;100 gen p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.4 (22.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.2 (21.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1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olesterol Control &lt;100 IVD,D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.3 (18.5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.4 (15.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8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east cancer screen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5 (5.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3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2 (7.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,0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lorectal cancer screen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9 (1.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1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9 (6.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,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fluenza vaccine (over 5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.6 (18.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,5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.6 (15.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,4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neumococcal vacc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8 (13.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,3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8 (13.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,6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moking cessation interven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.0 (14.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7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.7 (23.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,2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Text Box 455"/>
          <p:cNvSpPr/>
          <p:nvPr/>
        </p:nvSpPr>
        <p:spPr>
          <a:xfrm>
            <a:off x="363240" y="6324480"/>
            <a:ext cx="637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A population estimate was derived by summing across practice denominators per mea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533520" y="320040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shih@health.nyc.g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it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nyc.gov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pcip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In 2005, the City’s health Commisioner put forth a health agenda – Take Care New York, also known as TCNY.  &#13;&#10;It provides a comprehensive framework that focuses on priority areas where improvements would have the largest impact in reducing mortality and morbidity in the 21st Century&#13;&#10;Accomplishments within priority areas can be measured, as each area is matched with indicators to track improvement (or lack thereof)&#13;&#10;In addition, each goal was chosen to be achievable – that with some resources and assistance, NYC could raise the bar for health within a decade.&#13;&#10;"/>
          <p:cNvPicPr/>
          <p:nvPr/>
        </p:nvPicPr>
        <p:blipFill>
          <a:blip r:embed="rId1"/>
          <a:stretch/>
        </p:blipFill>
        <p:spPr>
          <a:xfrm>
            <a:off x="228600" y="1295280"/>
            <a:ext cx="3497400" cy="4267440"/>
          </a:xfrm>
          <a:prstGeom prst="rect">
            <a:avLst/>
          </a:prstGeom>
          <a:ln w="0">
            <a:noFill/>
          </a:ln>
        </p:spPr>
      </p:pic>
      <p:sp>
        <p:nvSpPr>
          <p:cNvPr id="54" name="Line 5"/>
          <p:cNvSpPr/>
          <p:nvPr/>
        </p:nvSpPr>
        <p:spPr>
          <a:xfrm>
            <a:off x="609480" y="990720"/>
            <a:ext cx="8001000" cy="0"/>
          </a:xfrm>
          <a:prstGeom prst="line">
            <a:avLst/>
          </a:prstGeom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NYC’s Health Agend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48320" y="12193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ff"/>
                </a:solidFill>
                <a:uFillTx/>
                <a:latin typeface="Arial"/>
                <a:ea typeface="Times New Roman"/>
              </a:rPr>
              <a:t>T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ake </a:t>
            </a:r>
            <a:r>
              <a:rPr b="1" lang="en-US" sz="2000" spc="-1" strike="noStrike" u="sng">
                <a:solidFill>
                  <a:srgbClr val="3333ff"/>
                </a:solidFill>
                <a:uFillTx/>
                <a:latin typeface="Arial"/>
                <a:ea typeface="Times New Roman"/>
              </a:rPr>
              <a:t>C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are </a:t>
            </a:r>
            <a:r>
              <a:rPr b="1" lang="en-US" sz="2000" spc="-1" strike="noStrike" u="sng">
                <a:solidFill>
                  <a:srgbClr val="3333ff"/>
                </a:solidFill>
                <a:uFillTx/>
                <a:latin typeface="Arial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ew </a:t>
            </a:r>
            <a:r>
              <a:rPr b="1" lang="en-US" sz="2000" spc="-1" strike="noStrike" u="sng">
                <a:solidFill>
                  <a:srgbClr val="3333ff"/>
                </a:solidFill>
                <a:uFillTx/>
                <a:latin typeface="Arial"/>
                <a:ea typeface="Times New Roman"/>
              </a:rPr>
              <a:t>Y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ave a Regular Doctor or Other Health Care Provi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e Tobacco-F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eep Your Heart Healt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now Your HIV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et Help for De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ive Free of Dependence on Alcohol and Dru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et Checked for Can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et the Immunization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You N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ke Your Home Safe and Healt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ave a Healthy Ba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1828800" y="2743200"/>
            <a:ext cx="561348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Health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at Maximizes Heal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8"/>
          <p:cNvSpPr/>
          <p:nvPr/>
        </p:nvSpPr>
        <p:spPr>
          <a:xfrm>
            <a:off x="6350040" y="1905120"/>
            <a:ext cx="1143000" cy="198108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14"/>
          <p:cNvGrpSpPr/>
          <p:nvPr/>
        </p:nvGrpSpPr>
        <p:grpSpPr>
          <a:xfrm>
            <a:off x="1778040" y="1904760"/>
            <a:ext cx="3504960" cy="3276720"/>
            <a:chOff x="1778040" y="1904760"/>
            <a:chExt cx="3504960" cy="3276720"/>
          </a:xfrm>
        </p:grpSpPr>
        <p:sp>
          <p:nvSpPr>
            <p:cNvPr id="60" name="Line 7"/>
            <p:cNvSpPr/>
            <p:nvPr/>
          </p:nvSpPr>
          <p:spPr>
            <a:xfrm flipV="1">
              <a:off x="1778040" y="1904760"/>
              <a:ext cx="990360" cy="1981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9"/>
            <p:cNvSpPr/>
            <p:nvPr/>
          </p:nvSpPr>
          <p:spPr>
            <a:xfrm>
              <a:off x="4521240" y="5181480"/>
              <a:ext cx="7617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13"/>
          <p:cNvGrpSpPr/>
          <p:nvPr/>
        </p:nvGrpSpPr>
        <p:grpSpPr>
          <a:xfrm>
            <a:off x="2616120" y="203040"/>
            <a:ext cx="3886200" cy="2387880"/>
            <a:chOff x="2616120" y="203040"/>
            <a:chExt cx="3886200" cy="2387880"/>
          </a:xfrm>
        </p:grpSpPr>
        <p:sp>
          <p:nvSpPr>
            <p:cNvPr id="63" name="Text Box 3"/>
            <p:cNvSpPr/>
            <p:nvPr/>
          </p:nvSpPr>
          <p:spPr>
            <a:xfrm>
              <a:off x="2920680" y="456840"/>
              <a:ext cx="3276720" cy="201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HEALTH INFORMATION SYSTEM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r>
                <a:rPr b="1" lang="en-US" sz="2000" spc="-1" strike="noStrike">
                  <a:solidFill>
                    <a:srgbClr val="800080"/>
                  </a:solidFill>
                  <a:latin typeface="Arial"/>
                  <a:ea typeface="ＭＳ Ｐゴシック"/>
                </a:rPr>
                <a:t>that are oriented toward </a:t>
              </a:r>
              <a:r>
                <a:rPr b="1" i="1" lang="en-US" sz="2000" spc="-1" strike="noStrike" u="sng">
                  <a:solidFill>
                    <a:srgbClr val="800080"/>
                  </a:solidFill>
                  <a:uFillTx/>
                  <a:latin typeface="Arial"/>
                  <a:ea typeface="ＭＳ Ｐゴシック"/>
                </a:rPr>
                <a:t>preven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10"/>
            <p:cNvSpPr/>
            <p:nvPr/>
          </p:nvSpPr>
          <p:spPr>
            <a:xfrm>
              <a:off x="2616120" y="203040"/>
              <a:ext cx="3886200" cy="23878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16"/>
          <p:cNvGrpSpPr/>
          <p:nvPr/>
        </p:nvGrpSpPr>
        <p:grpSpPr>
          <a:xfrm>
            <a:off x="5283360" y="3886200"/>
            <a:ext cx="3657600" cy="2743200"/>
            <a:chOff x="5283360" y="3886200"/>
            <a:chExt cx="3657600" cy="2743200"/>
          </a:xfrm>
        </p:grpSpPr>
        <p:sp>
          <p:nvSpPr>
            <p:cNvPr id="66" name="Text Box 4"/>
            <p:cNvSpPr/>
            <p:nvPr/>
          </p:nvSpPr>
          <p:spPr>
            <a:xfrm>
              <a:off x="5429520" y="4419720"/>
              <a:ext cx="3286800" cy="177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AYMEN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80"/>
                  </a:solidFill>
                  <a:latin typeface="Arial"/>
                  <a:ea typeface="ＭＳ Ｐゴシック"/>
                </a:rPr>
                <a:t>that rewards </a:t>
              </a:r>
              <a:r>
                <a:rPr b="1" i="1" lang="en-US" sz="2000" spc="-1" strike="noStrike" u="sng">
                  <a:solidFill>
                    <a:srgbClr val="800080"/>
                  </a:solidFill>
                  <a:uFillTx/>
                  <a:latin typeface="Arial"/>
                  <a:ea typeface="ＭＳ Ｐゴシック"/>
                </a:rPr>
                <a:t>disease</a:t>
              </a:r>
              <a:r>
                <a:rPr b="1" lang="en-US" sz="2000" spc="-1" strike="noStrike" u="sng">
                  <a:solidFill>
                    <a:srgbClr val="800080"/>
                  </a:solidFill>
                  <a:uFillTx/>
                  <a:latin typeface="Arial"/>
                  <a:ea typeface="ＭＳ Ｐゴシック"/>
                </a:rPr>
                <a:t> </a:t>
              </a:r>
              <a:r>
                <a:rPr b="1" i="1" lang="en-US" sz="2000" spc="-1" strike="noStrike" u="sng">
                  <a:solidFill>
                    <a:srgbClr val="800080"/>
                  </a:solidFill>
                  <a:uFillTx/>
                  <a:latin typeface="Arial"/>
                  <a:ea typeface="ＭＳ Ｐゴシック"/>
                </a:rPr>
                <a:t>prevention</a:t>
              </a:r>
              <a:r>
                <a:rPr b="1" lang="en-US" sz="2000" spc="-1" strike="noStrike">
                  <a:solidFill>
                    <a:srgbClr val="800080"/>
                  </a:solidFill>
                  <a:latin typeface="Arial"/>
                  <a:ea typeface="ＭＳ Ｐゴシック"/>
                </a:rPr>
                <a:t> and the effective management of chronic disea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11"/>
            <p:cNvSpPr/>
            <p:nvPr/>
          </p:nvSpPr>
          <p:spPr>
            <a:xfrm>
              <a:off x="5283360" y="3886200"/>
              <a:ext cx="3657600" cy="274320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Group 13"/>
          <p:cNvGrpSpPr/>
          <p:nvPr/>
        </p:nvGrpSpPr>
        <p:grpSpPr>
          <a:xfrm>
            <a:off x="254160" y="3886200"/>
            <a:ext cx="4267080" cy="2743200"/>
            <a:chOff x="254160" y="3886200"/>
            <a:chExt cx="4267080" cy="2743200"/>
          </a:xfrm>
        </p:grpSpPr>
        <p:sp>
          <p:nvSpPr>
            <p:cNvPr id="69" name="Text Box 5"/>
            <p:cNvSpPr/>
            <p:nvPr/>
          </p:nvSpPr>
          <p:spPr>
            <a:xfrm>
              <a:off x="673200" y="4222800"/>
              <a:ext cx="3429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EDESIGNED PRACTI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WORKFLO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6"/>
            <p:cNvSpPr/>
            <p:nvPr/>
          </p:nvSpPr>
          <p:spPr>
            <a:xfrm>
              <a:off x="254160" y="3886200"/>
              <a:ext cx="4267080" cy="274320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Text Box 12"/>
          <p:cNvSpPr/>
          <p:nvPr/>
        </p:nvSpPr>
        <p:spPr>
          <a:xfrm>
            <a:off x="177840" y="5410080"/>
            <a:ext cx="441972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TIENT ENG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that highlights </a:t>
            </a:r>
            <a:r>
              <a:rPr b="1" i="1" lang="en-US" sz="1800" spc="-1" strike="noStrike" u="sng">
                <a:solidFill>
                  <a:srgbClr val="800080"/>
                </a:solidFill>
                <a:uFillTx/>
                <a:latin typeface="Arial"/>
              </a:rPr>
              <a:t>pre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ed on Medically Underserved Patients in NY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0" descr="Implement in settings where they’ll do the most good&#13;&#10;Ensure EHRs focus on prevention&#13;&#10;Facilitate EHR adoption &#13;&#10;Ensure exchange of vital information &#13;&#10;Advocate for standardization&#13;&#10;Advocate for payment models to protect health and reduce disparities&#13;&#10;Foster a new workforce to support these efforts&#13;&#10;&#13;&#10;"/>
          <p:cNvPicPr/>
          <p:nvPr/>
        </p:nvPicPr>
        <p:blipFill>
          <a:blip r:embed="rId1"/>
          <a:srcRect l="301" t="0" r="0" b="0"/>
          <a:stretch/>
        </p:blipFill>
        <p:spPr>
          <a:xfrm>
            <a:off x="192240" y="838080"/>
            <a:ext cx="4760640" cy="57150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3"/>
          <p:cNvSpPr/>
          <p:nvPr/>
        </p:nvSpPr>
        <p:spPr>
          <a:xfrm>
            <a:off x="5257800" y="914400"/>
            <a:ext cx="35812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e have secured signed commitments fr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2,100  providers in 379 practices and at 480 si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2"/>
          <p:cNvSpPr/>
          <p:nvPr/>
        </p:nvSpPr>
        <p:spPr>
          <a:xfrm>
            <a:off x="5181480" y="2743200"/>
            <a:ext cx="3733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300"/>
                </a:solidFill>
                <a:latin typeface="Calibri"/>
              </a:rPr>
              <a:t>~ 1 new provider goes live on the EHR every d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5105520" y="3962520"/>
          <a:ext cx="3886200" cy="1663560"/>
        </p:xfrm>
        <a:graphic>
          <a:graphicData uri="http://schemas.openxmlformats.org/drawingml/2006/table">
            <a:tbl>
              <a:tblPr/>
              <a:tblGrid>
                <a:gridCol w="1398600"/>
                <a:gridCol w="701640"/>
                <a:gridCol w="871560"/>
                <a:gridCol w="914400"/>
              </a:tblGrid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acti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Progr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actice: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S rat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8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ll Practi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: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lth Cent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: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spital OP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: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-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77" name="Text Box 61"/>
          <p:cNvSpPr/>
          <p:nvPr/>
        </p:nvSpPr>
        <p:spPr>
          <a:xfrm>
            <a:off x="5181480" y="6095880"/>
            <a:ext cx="2667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Practice with sites both live and in imple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3"/>
          <p:cNvSpPr/>
          <p:nvPr/>
        </p:nvSpPr>
        <p:spPr>
          <a:xfrm>
            <a:off x="8525520" y="6643800"/>
            <a:ext cx="695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9E64CC6-AEAE-434B-AFEA-5EB0205AA7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2040" y="235080"/>
            <a:ext cx="8793000" cy="7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NGING THE RESOURCES OF LARGE NETWORKS TO INDEPENDENT SMALL PRACTICES - A “VIRTUAL NETWOR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5"/>
          <p:cNvSpPr/>
          <p:nvPr/>
        </p:nvSpPr>
        <p:spPr>
          <a:xfrm rot="5400000">
            <a:off x="3314520" y="4152600"/>
            <a:ext cx="2398680" cy="26856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840" bIns="42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Kaiser Permanente"/>
          <p:cNvPicPr/>
          <p:nvPr/>
        </p:nvPicPr>
        <p:blipFill>
          <a:blip r:embed="rId1"/>
          <a:srcRect l="29724" t="41507" r="37037" b="19880"/>
          <a:stretch/>
        </p:blipFill>
        <p:spPr>
          <a:xfrm>
            <a:off x="152280" y="2565360"/>
            <a:ext cx="4052880" cy="35305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NYC PCIP"/>
          <p:cNvPicPr/>
          <p:nvPr/>
        </p:nvPicPr>
        <p:blipFill>
          <a:blip r:embed="rId2"/>
          <a:srcRect l="39570" t="13875" r="23630" b="24005"/>
          <a:stretch/>
        </p:blipFill>
        <p:spPr>
          <a:xfrm>
            <a:off x="5022720" y="1697040"/>
            <a:ext cx="3895920" cy="49338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"/>
          <p:cNvSpPr/>
          <p:nvPr/>
        </p:nvSpPr>
        <p:spPr>
          <a:xfrm>
            <a:off x="609480" y="1905120"/>
            <a:ext cx="3071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iser Perman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5318280" y="1158840"/>
            <a:ext cx="3368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YC PC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CIP, eCW &amp; Practice team 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57200" y="1066680"/>
          <a:ext cx="8229600" cy="5051520"/>
        </p:xfrm>
        <a:graphic>
          <a:graphicData uri="http://schemas.openxmlformats.org/drawingml/2006/table">
            <a:tbl>
              <a:tblPr/>
              <a:tblGrid>
                <a:gridCol w="2209680"/>
                <a:gridCol w="2514600"/>
                <a:gridCol w="1752840"/>
                <a:gridCol w="1752480"/>
              </a:tblGrid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CI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actice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r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3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ementation specialis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 Managers, Business Analysts,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rs,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ice Manag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 Management Te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rastructure te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ical Specialis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Consulta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Depart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face Coordinator (PM, labs and CI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 Interface te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rs,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ice Manag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Department,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/In-house la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ity Assu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ment te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rs,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ice Manag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e Administrato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ity Improvement consultants, Super Users, Billing consulta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iners, Billing Specialist, Business Analy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rs,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ice Managers,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ll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ity Improvement Unit, Financial Dep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vacy and Security consulta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ment te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rs,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ice Manag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Department, Leg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ment te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ment te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rs,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ice Manag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 Us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3"/>
          <p:cNvSpPr/>
          <p:nvPr/>
        </p:nvSpPr>
        <p:spPr>
          <a:xfrm>
            <a:off x="609480" y="4038480"/>
            <a:ext cx="3810240" cy="914400"/>
          </a:xfrm>
          <a:prstGeom prst="rect">
            <a:avLst/>
          </a:prstGeom>
          <a:solidFill>
            <a:srgbClr val="c9d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MATIC VISUAL ALE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lights abnormal vit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609480" y="5105520"/>
            <a:ext cx="3810240" cy="1225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ally displays preventive service alerts that are suppressed when addres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5029200" y="1523880"/>
            <a:ext cx="3809880" cy="982080"/>
          </a:xfrm>
          <a:prstGeom prst="rect">
            <a:avLst/>
          </a:prstGeom>
          <a:solidFill>
            <a:srgbClr val="cde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ICK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click ordering of recommended preventive servic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6"/>
          <p:cNvSpPr/>
          <p:nvPr/>
        </p:nvSpPr>
        <p:spPr>
          <a:xfrm>
            <a:off x="152280" y="3124080"/>
            <a:ext cx="381240" cy="3812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7"/>
          <p:cNvSpPr/>
          <p:nvPr/>
        </p:nvSpPr>
        <p:spPr>
          <a:xfrm>
            <a:off x="152280" y="4273560"/>
            <a:ext cx="381240" cy="3808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8"/>
          <p:cNvSpPr/>
          <p:nvPr/>
        </p:nvSpPr>
        <p:spPr>
          <a:xfrm>
            <a:off x="152280" y="5486400"/>
            <a:ext cx="381240" cy="3808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9"/>
          <p:cNvSpPr/>
          <p:nvPr/>
        </p:nvSpPr>
        <p:spPr>
          <a:xfrm>
            <a:off x="4572000" y="1822320"/>
            <a:ext cx="380880" cy="3812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5029200" y="2590920"/>
            <a:ext cx="3809880" cy="1225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REHENSIVE ORDER 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lays best practice recommendations (e.g., for meds, labs, patient educa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609480" y="2654280"/>
            <a:ext cx="3810240" cy="1225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HANCED REGI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entifies patients by structured data        (e.g., diagnoses, drugs, labs, demographic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5029200" y="3886200"/>
            <a:ext cx="3809880" cy="1136520"/>
          </a:xfrm>
          <a:prstGeom prst="rect">
            <a:avLst/>
          </a:prstGeom>
          <a:solidFill>
            <a:srgbClr val="cde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ed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patient consent, displays 90-day history of all Rxs filled by Medicaid pat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5029200" y="5105520"/>
            <a:ext cx="3809880" cy="1225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R and School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s information to City Immunization Registry and generates school health fo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14"/>
          <p:cNvSpPr/>
          <p:nvPr/>
        </p:nvSpPr>
        <p:spPr>
          <a:xfrm>
            <a:off x="4572000" y="3124080"/>
            <a:ext cx="380880" cy="3812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15"/>
          <p:cNvSpPr/>
          <p:nvPr/>
        </p:nvSpPr>
        <p:spPr>
          <a:xfrm>
            <a:off x="152280" y="1828800"/>
            <a:ext cx="381240" cy="3808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16"/>
          <p:cNvSpPr/>
          <p:nvPr/>
        </p:nvSpPr>
        <p:spPr>
          <a:xfrm>
            <a:off x="4572000" y="4281480"/>
            <a:ext cx="380880" cy="3808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17"/>
          <p:cNvSpPr/>
          <p:nvPr/>
        </p:nvSpPr>
        <p:spPr>
          <a:xfrm>
            <a:off x="4572000" y="5486400"/>
            <a:ext cx="380880" cy="3808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8"/>
          <p:cNvSpPr/>
          <p:nvPr/>
        </p:nvSpPr>
        <p:spPr>
          <a:xfrm>
            <a:off x="609480" y="1523880"/>
            <a:ext cx="3810240" cy="982080"/>
          </a:xfrm>
          <a:prstGeom prst="rect">
            <a:avLst/>
          </a:prstGeom>
          <a:solidFill>
            <a:srgbClr val="cde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ASURE RE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de-by-side provider comparisons of performance on quality meas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 Key Features of the TCNY Build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55520" y="1219320"/>
          <a:ext cx="8531280" cy="49528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520" y="1219320"/>
                    <a:ext cx="853128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304920" y="914400"/>
          <a:ext cx="7696080" cy="37800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914400"/>
                    <a:ext cx="769608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e Consult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ach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2"/>
          <p:cNvSpPr/>
          <p:nvPr/>
        </p:nvSpPr>
        <p:spPr>
          <a:xfrm>
            <a:off x="8720280" y="6566040"/>
            <a:ext cx="19980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482252-65CE-4A2C-8A61-F7636629FFC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ing Medical Home and Chronic Care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lvl="1" marL="15732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SimSun"/>
              </a:rPr>
              <a:t>Useful framework for organizing QI 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57320" indent="-1562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SzPct val="125000"/>
              <a:buFont typeface="Arial"/>
              <a:buChar char="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SimSun"/>
              </a:rPr>
              <a:t>Actionable curriculum consisting of a collection of discrete activities and achievable go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57320" indent="-1562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SzPct val="125000"/>
              <a:buFont typeface="Arial"/>
              <a:buChar char="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SimSun"/>
              </a:rPr>
              <a:t>Focus on “whole-practice” redesign (e.g. teamlet care – C. Sinsk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57320" indent="-1562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SzPct val="125000"/>
              <a:buFont typeface="Arial"/>
              <a:buChar char="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SimSun"/>
              </a:rPr>
              <a:t>Provide actionable and meaningful feedb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57320" indent="-1562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SzPct val="125000"/>
              <a:buFont typeface="Arial"/>
              <a:buChar char="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SimSun"/>
              </a:rPr>
              <a:t>View EHR-derived quality measure data on a routine ba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57320" indent="-1562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SzPct val="125000"/>
              <a:buFont typeface="Arial"/>
              <a:buChar char="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SimSun"/>
              </a:rPr>
              <a:t>Provides incremental recogn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57320" indent="0">
              <a:spcBef>
                <a:spcPts val="4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5732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SimSun"/>
              </a:rPr>
              <a:t>“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SimSun"/>
              </a:rPr>
              <a:t>BOOTS ON THE GROUND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57320" indent="-1562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SzPct val="125000"/>
              <a:buFont typeface="Arial"/>
              <a:buChar char="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SimSun"/>
              </a:rPr>
              <a:t>Assist practices through the process and lower the “activation energy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05000" indent="-1562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SzPct val="125000"/>
              <a:buFont typeface="Arial"/>
              <a:buChar char="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SimSun"/>
              </a:rPr>
              <a:t>Software, QI, EMR consulting, Pay for Performance, relationsh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05000" indent="-1562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SzPct val="125000"/>
              <a:buFont typeface="Arial"/>
              <a:buChar char="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SimSun"/>
              </a:rPr>
              <a:t>Partnership with NCQA- multi-site surv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57320" indent="-1562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SzPct val="125000"/>
              <a:buFont typeface="Arial"/>
              <a:buChar char="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SimSun"/>
              </a:rPr>
              <a:t>Keep practices focused on care &amp; and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SimSun"/>
              </a:rPr>
              <a:t>reduce administrative burde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05000" indent="-1562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SzPct val="125000"/>
              <a:buFont typeface="Arial"/>
              <a:buChar char="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SimSun"/>
              </a:rPr>
              <a:t>Average physician spends $68,274 per year interacting with insurance plans*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57320" indent="-1562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SzPct val="125000"/>
              <a:buFont typeface="Arial"/>
              <a:buChar char="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SimSun"/>
              </a:rPr>
              <a:t>Focus practices on areas to have the highest impact for heal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57320" indent="-1562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SzPct val="125000"/>
              <a:buFont typeface="Arial"/>
              <a:buChar char="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SimSun"/>
              </a:rPr>
              <a:t>Provide share resources to practices (care coordinators, nurses, panel manage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57320" indent="-1562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SzPct val="125000"/>
              <a:buFont typeface="Arial"/>
              <a:buChar char="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SimSun"/>
              </a:rPr>
              <a:t>Conduct patient outreach using the data from 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5732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J. A. Sakowski, J. G. Kahn, R. G. Kronick et al., "Peering into the Black Box: Billing and Insurance Activities in a Medical Group,"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ealth Affair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Exclusive, May 14, 2009, w544–w55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5732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1T15:13:01Z</dcterms:created>
  <dc:creator>NYC Department of Health and Mental Hygiene</dc:creator>
  <dc:description/>
  <dc:language>en-US</dc:language>
  <cp:lastModifiedBy>Rasa</cp:lastModifiedBy>
  <dcterms:modified xsi:type="dcterms:W3CDTF">2009-10-28T20:25:30Z</dcterms:modified>
  <cp:revision>298</cp:revision>
  <dc:subject/>
  <dc:title>Subject Matter Expert Meeting Tobacco Control </dc:title>
</cp:coreProperties>
</file>