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2"/>
          </p:nvPr>
        </p:nvSpPr>
        <p:spPr>
          <a:xfrm>
            <a:off x="194292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018-5EED-42D6-9156-F011E087F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02C-8B6F-4E84-B617-A8045BDEF2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C498-4DD9-48A8-A96E-C32907160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42D-C23E-42E6-AC5D-9E840BDE3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2EF-E0F3-4048-A47E-9569A42D5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F63-F415-4019-9840-6AFE69244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94328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B00-D295-4695-8895-51EBA0597A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5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336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7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5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336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3888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7572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3360" y="148284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7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7572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3360" y="3798000"/>
            <a:ext cx="25023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888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0400" y="379800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0400" y="1482840"/>
            <a:ext cx="37926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7720" y="3798000"/>
            <a:ext cx="777240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8764560" y="64008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72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" descr=""/>
          <p:cNvPicPr/>
          <p:nvPr/>
        </p:nvPicPr>
        <p:blipFill>
          <a:blip r:embed="rId2"/>
          <a:stretch/>
        </p:blipFill>
        <p:spPr>
          <a:xfrm>
            <a:off x="304920" y="333360"/>
            <a:ext cx="2385720" cy="1042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ssessing the Empirical Evidence of Associations between Internal Validity and Effect Sizes in Randomized Controlled Trials</a:t>
            </a:r>
            <a:br>
              <a:rPr sz="3200"/>
            </a:br>
            <a:r>
              <a:rPr b="1" i="1" lang="en-US" sz="2000" spc="-1" strike="noStrike">
                <a:solidFill>
                  <a:srgbClr val="e2a856"/>
                </a:solidFill>
                <a:latin typeface="Arial"/>
              </a:rPr>
              <a:t>AHRQ contract HHSA 290 2007 10062 I</a:t>
            </a:r>
            <a:r>
              <a:rPr b="1" i="1" lang="en-US" sz="3600" spc="-1" strike="noStrike">
                <a:solidFill>
                  <a:srgbClr val="e2a856"/>
                </a:solidFill>
                <a:latin typeface="Arial"/>
              </a:rPr>
              <a:t> </a:t>
            </a:r>
            <a:endParaRPr b="1" i="1" lang="en-US" sz="36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4087800"/>
            <a:ext cx="914400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ul G. Shekelle, M.D., Ph.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 California EP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257560" y="25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C EPC Data Set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7944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and effect sizes of all 267 trials in 15 Meta-Analyses of Cochrane Back Review Group analy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shol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t differences in effect sizes between high and low quality R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als of existing EPC evidence reports assessed with extensive quality item 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6 trials, diverse set of topics, pharmacological therapies / behavior modification interven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s of quality varied across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ing blinding, allocation conceal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verall effect of quality on effect sizes across conditions or outco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New SC EPC Data Set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investigate the differing results from two large datasets, we are now testing a third dataset where we know that Jadad scale and allocation concealment items influence effect sizes in the expected direc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nalysi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dataset can be merged with existing datas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vestigate effects that were hindered by lack of variance in previous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many trials report not enough information in order to judge the quality feature, large sample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find empirical groupings of qualit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features do not seem to be independent from another, e.g. studies with adequate allocation concealment rarely use an inappropriate sequence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vestigate factors that can explain the observed differences in results across s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ator effects in meta-regr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roposed Moderator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7720" y="1482480"/>
            <a:ext cx="777240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of overall treatment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ong treatment effect may obliterate effects of qua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dition being tre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uality may influence reported effect sizes more in some clinical fields than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ype of analyzed outco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.g., subjective vs. objective data, see also Wood et 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riance of quality across studi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me quality features show little variance across trials (e.g. differential timing very ra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624040" y="5435640"/>
            <a:ext cx="53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---------------&gt; Eff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916440" y="5873400"/>
            <a:ext cx="18252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4260960" y="5927400"/>
            <a:ext cx="5400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 flipV="1">
            <a:off x="4595400" y="5928840"/>
            <a:ext cx="65160" cy="59220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 flipH="1" flipV="1">
            <a:off x="4876560" y="5864400"/>
            <a:ext cx="128520" cy="591840"/>
          </a:xfrm>
          <a:prstGeom prst="line">
            <a:avLst/>
          </a:prstGeom>
          <a:ln w="9360">
            <a:solidFill>
              <a:srgbClr val="e2a8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clusion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quality feature on individual RCT results important fi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of RCT varies, empirical evidence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conflicting results in liter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amples show large effects of quality on effect sizes, some show no consistent eff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research needs to focus on investigating conditions for risk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2a8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wh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which</a:t>
            </a: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feature associated with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Recommendation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any new analyses, for now review groups can probably have most confidence in using the following items to assess bi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dad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alment of Al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hrane Risk of Bias 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747720" y="1511280"/>
          <a:ext cx="7772400" cy="43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diagra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511280"/>
                    <a:ext cx="7772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7720" y="1676520"/>
          <a:ext cx="7772400" cy="40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diagra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6520"/>
                    <a:ext cx="777240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601"/>
              </a:spcBef>
              <a:spcAft>
                <a:spcPts val="150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spread belief that design and execution factors are related to bias in tri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atic deviation of an estimate, e.g. observed treatment effect in individual study from true valu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Quality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internal validity features for RCTs are commonly us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dad scale (1996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blin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dropou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cation Concealment (e.g. Colditz et al., 198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generated by independent person not responsible for determining eligibility of pati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vidence of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4640" indent="-22464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ulz et al. (1995) assessed 250 trials in 33 meta-analy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adequate concealment of allocation accounted for a 41% increase in effect siz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double blinding showed a 17% increase in reported treatment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4640" indent="-224640">
              <a:spcBef>
                <a:spcPts val="499"/>
              </a:spcBef>
              <a:spcAft>
                <a:spcPts val="1250"/>
              </a:spcAft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her et al. (1998) using 11 meta-analyses including 127 RC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ies with inadequate concealment showed a 37% increased effect compared to concealed treatment allocation tria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quality” trials showed a 34% increase in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chrane Risk of Bias Tool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ntly, Cochrane has proposed a new tool to assess bi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ce gen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cation conceal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inding of participants, personnel and outcome assess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plete outcom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ve outcome repor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sources of bi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hrane also recommends a global summary sco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Conflicting Evidence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k &amp; colleagues (2002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24 existing quality measures and assessed 276 RCTs from 26 meta-analy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association of measures with bias across conditions (cardiovascular disease, infectious disease, pediatrics, and surger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spcBef>
                <a:spcPts val="499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od, Egger, Gluud, Schulz, Juni, Altman, Gluud, Martin, Wood &amp; Sterne (2009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ed 146 meta-analyses (1346 RCTs) examining wide range of interventions and outcomes re allocation concealment and reported blind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as effects vary by outcom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chrane Back Group Approach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279440"/>
            <a:ext cx="77724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01960" indent="-201960">
              <a:lnSpc>
                <a:spcPct val="90000"/>
              </a:lnSpc>
              <a:spcBef>
                <a:spcPts val="601"/>
              </a:spcBef>
              <a:buClr>
                <a:srgbClr val="e2a85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ve quality item list proposed by Cochrane Back Group editorial to assess controlled t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ndomization sequenc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ocation concealmen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tient blind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e provider blin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essor blin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opouts (description, adequatenes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T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ive outcome repor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line comparabil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milarity of Co-Interven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li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ming of outcome assess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All RCTs in Cochrane Back Group Review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1219320" y="1257480"/>
            <a:ext cx="8229600" cy="4342680"/>
            <a:chOff x="1219320" y="1257480"/>
            <a:chExt cx="8229600" cy="4342680"/>
          </a:xfrm>
        </p:grpSpPr>
        <p:sp>
          <p:nvSpPr>
            <p:cNvPr id="102" name="Text Box 5"/>
            <p:cNvSpPr/>
            <p:nvPr/>
          </p:nvSpPr>
          <p:spPr>
            <a:xfrm>
              <a:off x="6019920" y="3588840"/>
              <a:ext cx="342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4% of trials reported short-term pain outco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6"/>
            <p:cNvGrpSpPr/>
            <p:nvPr/>
          </p:nvGrpSpPr>
          <p:grpSpPr>
            <a:xfrm>
              <a:off x="1219320" y="1257480"/>
              <a:ext cx="6720480" cy="4342680"/>
              <a:chOff x="1219320" y="1257480"/>
              <a:chExt cx="6720480" cy="4342680"/>
            </a:xfrm>
          </p:grpSpPr>
          <p:sp>
            <p:nvSpPr>
              <p:cNvPr id="104" name="Rectangle 7"/>
              <p:cNvSpPr/>
              <p:nvPr/>
            </p:nvSpPr>
            <p:spPr>
              <a:xfrm>
                <a:off x="3504960" y="1257480"/>
                <a:ext cx="1965960" cy="90432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viewed 261 T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8"/>
              <p:cNvSpPr/>
              <p:nvPr/>
            </p:nvSpPr>
            <p:spPr>
              <a:xfrm>
                <a:off x="4419360" y="2161800"/>
                <a:ext cx="0" cy="1538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9"/>
              <p:cNvSpPr/>
              <p:nvPr/>
            </p:nvSpPr>
            <p:spPr>
              <a:xfrm>
                <a:off x="4419360" y="2614320"/>
                <a:ext cx="1508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"/>
              <p:cNvSpPr/>
              <p:nvPr/>
            </p:nvSpPr>
            <p:spPr>
              <a:xfrm>
                <a:off x="5928120" y="2071440"/>
                <a:ext cx="2011680" cy="9950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5 Trials Unable to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lculate Effect Size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 flipH="1">
                <a:off x="3641760" y="3971520"/>
                <a:ext cx="411480" cy="63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2"/>
              <p:cNvSpPr/>
              <p:nvPr/>
            </p:nvSpPr>
            <p:spPr>
              <a:xfrm>
                <a:off x="1219320" y="4604760"/>
                <a:ext cx="2788560" cy="9954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2 Trials compared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eatment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 placebo/usual car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4785480" y="4604760"/>
                <a:ext cx="2743200" cy="9954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8 Trials compared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eatment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o other treatment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4739760" y="3971520"/>
                <a:ext cx="411480" cy="63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15"/>
              <p:cNvSpPr/>
              <p:nvPr/>
            </p:nvSpPr>
            <p:spPr>
              <a:xfrm>
                <a:off x="3825360" y="2795400"/>
                <a:ext cx="1188360" cy="1266480"/>
              </a:xfrm>
              <a:prstGeom prst="flowChartExtract">
                <a:avLst/>
              </a:prstGeom>
              <a:solidFill>
                <a:srgbClr val="ffff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6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ect of Internal Validity Items on Bias</a:t>
            </a:r>
            <a:endParaRPr b="1" i="1" lang="en-US" sz="3200" spc="-1" strike="noStrike">
              <a:solidFill>
                <a:srgbClr val="e2a856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1143000"/>
            <a:ext cx="77724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754280" y="5173560"/>
            <a:ext cx="5873760" cy="180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63640" y="1747800"/>
            <a:ext cx="1117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alidity I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0640" y="171288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95% C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887040" y="20667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randomizatio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815520" y="2066760"/>
            <a:ext cx="126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02 (-0.12, 0.1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887040" y="23367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oncealm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9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812640" y="23367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8 (-0.23, 0.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887040" y="26049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baseline differenc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812640" y="26049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4, 0.0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887040" y="287640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blinding – patien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810840" y="287640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3 (-0.18, 0.1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887040" y="314964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blinding - care provid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6810840" y="314964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6, 0.0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887040" y="34210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blinding – outcom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6810840" y="34210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5, 0.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887040" y="36910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co-intervent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6810840" y="36910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9 (-0.23, 0.0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887040" y="395928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complianc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6810840" y="395928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01 (-0.15, 0.1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887040" y="423072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.  dropout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810840" y="423072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3 (-0.29, 0.0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887040" y="450072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.  timin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6810840" y="450072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7 (-0.43, 0.1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887040" y="4770360"/>
            <a:ext cx="365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r" pos="2398680"/>
                <a:tab algn="r" pos="3657600"/>
                <a:tab algn="r" pos="503712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 IT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 flipV="1">
            <a:off x="5951520" y="1378080"/>
            <a:ext cx="1440" cy="38131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5689440" y="2173320"/>
            <a:ext cx="617760" cy="144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31"/>
          <p:cNvSpPr/>
          <p:nvPr/>
        </p:nvSpPr>
        <p:spPr>
          <a:xfrm>
            <a:off x="5935680" y="2119320"/>
            <a:ext cx="122400" cy="1094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5450040" y="2430360"/>
            <a:ext cx="655560" cy="180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33"/>
          <p:cNvSpPr/>
          <p:nvPr/>
        </p:nvSpPr>
        <p:spPr>
          <a:xfrm>
            <a:off x="5716440" y="2374920"/>
            <a:ext cx="12240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5427720" y="2697120"/>
            <a:ext cx="63504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5"/>
          <p:cNvSpPr/>
          <p:nvPr/>
        </p:nvSpPr>
        <p:spPr>
          <a:xfrm>
            <a:off x="5672160" y="2641680"/>
            <a:ext cx="122040" cy="11088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>
            <a:off x="5557680" y="2973240"/>
            <a:ext cx="63504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826240" y="2919240"/>
            <a:ext cx="120600" cy="10980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5383080" y="3240000"/>
            <a:ext cx="7002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672160" y="318456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5405400" y="3516480"/>
            <a:ext cx="635040" cy="144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5672160" y="346068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2"/>
          <p:cNvSpPr/>
          <p:nvPr/>
        </p:nvSpPr>
        <p:spPr>
          <a:xfrm>
            <a:off x="5450040" y="3800520"/>
            <a:ext cx="612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5694480" y="3745080"/>
            <a:ext cx="122040" cy="1094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4"/>
          <p:cNvSpPr/>
          <p:nvPr/>
        </p:nvSpPr>
        <p:spPr>
          <a:xfrm>
            <a:off x="5624640" y="4044960"/>
            <a:ext cx="639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5"/>
          <p:cNvSpPr/>
          <p:nvPr/>
        </p:nvSpPr>
        <p:spPr>
          <a:xfrm>
            <a:off x="5869080" y="3989520"/>
            <a:ext cx="123840" cy="11088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5310360" y="4338720"/>
            <a:ext cx="6858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47"/>
          <p:cNvSpPr/>
          <p:nvPr/>
        </p:nvSpPr>
        <p:spPr>
          <a:xfrm>
            <a:off x="5614920" y="4281480"/>
            <a:ext cx="12240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8"/>
          <p:cNvSpPr/>
          <p:nvPr/>
        </p:nvSpPr>
        <p:spPr>
          <a:xfrm>
            <a:off x="5011560" y="4602240"/>
            <a:ext cx="115920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49"/>
          <p:cNvSpPr/>
          <p:nvPr/>
        </p:nvSpPr>
        <p:spPr>
          <a:xfrm>
            <a:off x="5519880" y="4546440"/>
            <a:ext cx="122040" cy="11124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50"/>
          <p:cNvSpPr/>
          <p:nvPr/>
        </p:nvSpPr>
        <p:spPr>
          <a:xfrm>
            <a:off x="5427720" y="4894200"/>
            <a:ext cx="612720" cy="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1"/>
          <p:cNvSpPr/>
          <p:nvPr/>
        </p:nvSpPr>
        <p:spPr>
          <a:xfrm>
            <a:off x="5672160" y="4840200"/>
            <a:ext cx="122040" cy="109800"/>
          </a:xfrm>
          <a:prstGeom prst="ellipse">
            <a:avLst/>
          </a:prstGeom>
          <a:noFill/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6810840" y="4770360"/>
            <a:ext cx="126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0 (-0.24, 0.0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3124080" y="1757520"/>
            <a:ext cx="351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4343400" y="1757520"/>
            <a:ext cx="349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52960" y="5176800"/>
            <a:ext cx="0" cy="1969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5848200" y="5398920"/>
            <a:ext cx="2462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5067360" y="5715000"/>
            <a:ext cx="1866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4859280"/>
                <a:tab algn="l" pos="9718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 Siz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475920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505400" y="5292720"/>
            <a:ext cx="4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>
            <a:off x="523404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987800" y="5292720"/>
            <a:ext cx="3780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5703840" y="5176800"/>
            <a:ext cx="180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451480" y="5292720"/>
            <a:ext cx="3762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64"/>
          <p:cNvSpPr/>
          <p:nvPr/>
        </p:nvSpPr>
        <p:spPr>
          <a:xfrm>
            <a:off x="617688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45120" y="5292720"/>
            <a:ext cx="312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66"/>
          <p:cNvSpPr/>
          <p:nvPr/>
        </p:nvSpPr>
        <p:spPr>
          <a:xfrm>
            <a:off x="6654960" y="5176800"/>
            <a:ext cx="144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7"/>
          <p:cNvSpPr/>
          <p:nvPr/>
        </p:nvSpPr>
        <p:spPr>
          <a:xfrm>
            <a:off x="6508800" y="5292720"/>
            <a:ext cx="312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7135920" y="5176800"/>
            <a:ext cx="0" cy="76320"/>
          </a:xfrm>
          <a:prstGeom prst="line">
            <a:avLst/>
          </a:prstGeom>
          <a:ln w="4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9"/>
          <p:cNvSpPr/>
          <p:nvPr/>
        </p:nvSpPr>
        <p:spPr>
          <a:xfrm>
            <a:off x="6981840" y="5292720"/>
            <a:ext cx="3142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70"/>
          <p:cNvSpPr/>
          <p:nvPr/>
        </p:nvSpPr>
        <p:spPr>
          <a:xfrm>
            <a:off x="3724200" y="5964120"/>
            <a:ext cx="1762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Higher quality have smaller 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6238800" y="5964120"/>
            <a:ext cx="1762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Lower quality have smaller 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3"/>
          <p:cNvSpPr/>
          <p:nvPr/>
        </p:nvSpPr>
        <p:spPr>
          <a:xfrm>
            <a:off x="6795720" y="1512720"/>
            <a:ext cx="160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859280"/>
                <a:tab algn="l" pos="9718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ffect Siz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8:22:38Z</dcterms:created>
  <dc:creator>Publications Department</dc:creator>
  <dc:description/>
  <dc:language>en-US</dc:language>
  <cp:lastModifiedBy>Rasa</cp:lastModifiedBy>
  <dcterms:modified xsi:type="dcterms:W3CDTF">2009-10-28T21:48:31Z</dcterms:modified>
  <cp:revision>111</cp:revision>
  <dc:subject/>
  <dc:title>No Slide Title</dc:title>
</cp:coreProperties>
</file>