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2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Freeform 45"/>
            <p:cNvSpPr/>
            <p:nvPr/>
          </p:nvSpPr>
          <p:spPr>
            <a:xfrm>
              <a:off x="8021520" y="6294240"/>
              <a:ext cx="270360" cy="26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7729200" y="6219720"/>
              <a:ext cx="31500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7812360" y="6312600"/>
              <a:ext cx="1130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7786080" y="6355800"/>
              <a:ext cx="11664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7694640" y="6514920"/>
              <a:ext cx="1252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285040" y="6294240"/>
              <a:ext cx="2527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8651520" y="6449760"/>
              <a:ext cx="18756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8528400" y="6275880"/>
              <a:ext cx="287640" cy="30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7808760" y="5986440"/>
            <a:ext cx="908280" cy="446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33480" y="76320"/>
          <a:ext cx="122400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" y="76320"/>
                    <a:ext cx="12240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3726000" y="5703840"/>
            <a:ext cx="1589760" cy="848520"/>
            <a:chOff x="3726000" y="5703840"/>
            <a:chExt cx="1589760" cy="848520"/>
          </a:xfrm>
        </p:grpSpPr>
        <p:grpSp>
          <p:nvGrpSpPr>
            <p:cNvPr id="54" name="Group 52"/>
            <p:cNvGrpSpPr/>
            <p:nvPr/>
          </p:nvGrpSpPr>
          <p:grpSpPr>
            <a:xfrm>
              <a:off x="3732120" y="5716440"/>
              <a:ext cx="1583640" cy="835920"/>
              <a:chOff x="3732120" y="5716440"/>
              <a:chExt cx="1583640" cy="83592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3884040" y="5716440"/>
                <a:ext cx="1255680" cy="6170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4183920" y="6143400"/>
                <a:ext cx="374400" cy="3736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3780720" y="6040440"/>
                <a:ext cx="435960" cy="4766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3895200" y="6169320"/>
                <a:ext cx="156240" cy="334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3858120" y="6228720"/>
                <a:ext cx="162000" cy="464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3732120" y="6449400"/>
                <a:ext cx="173160" cy="7200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4549680" y="6143400"/>
                <a:ext cx="349920" cy="3769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5056200" y="6359400"/>
                <a:ext cx="259560" cy="19296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4885560" y="6117480"/>
                <a:ext cx="398880" cy="4237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3874680" y="5703840"/>
              <a:ext cx="1254960" cy="61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3726000" y="6018480"/>
              <a:ext cx="1584360" cy="511200"/>
              <a:chOff x="3726000" y="6018480"/>
              <a:chExt cx="1584360" cy="51120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4178520" y="6121440"/>
                <a:ext cx="374040" cy="3722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3774240" y="6018480"/>
                <a:ext cx="435960" cy="475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3889080" y="6147000"/>
                <a:ext cx="156600" cy="3348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3852720" y="6206400"/>
                <a:ext cx="161280" cy="471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3726000" y="6426360"/>
                <a:ext cx="173160" cy="723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4543560" y="6121440"/>
                <a:ext cx="349920" cy="3758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5050800" y="6336720"/>
                <a:ext cx="259560" cy="1929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4880520" y="6096240"/>
                <a:ext cx="398160" cy="421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Line 73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3505320" y="195120"/>
          <a:ext cx="213336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120"/>
                    <a:ext cx="213336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ntent.healthaffairs.org/cgi/content/abstract/hlthaff.28.4.w607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ontent.healthaffairs.org/cgi/content/abstract/25/6/1568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eps.ahrq.gov/mepsweb/data_stats/Pub_ProdResults_Details.jsp?pt=Working%20Paper&amp;opt=2&amp;id=862" TargetMode="External"/><Relationship Id="rId2" Type="http://schemas.openxmlformats.org/officeDocument/2006/relationships/hyperlink" Target="http://content.healthaffairs.org/cgi/content/abstract/hlthaff.27.5.w349v1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djusted MEPS Data to Study Incidence of Health Care Financ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50560" y="3428640"/>
            <a:ext cx="64357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M. Sel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 of Modeling &amp;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Financing, Access and Cos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osing the 13% Gap with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PS-Consistent NHEA PH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Account for wider public coverage gap by upweighting persons with Medicaid/CHIP cove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percent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s enrolled population into alignment with administrative enrollment c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king post-stratification used so that adjustment does not change full MEPS distribution of age, race, sex, Medicare enrollment, and uninsurance (so adjustment in essence entails modest reduction in private cover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osing the 13% Gap with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PS-Consistent NHEA PH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Account for differential attrition of high-cost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eighted top 3 percent of distribution by major insurance group (by average of 1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justified by analyses of claims data (public and priv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eighting used raking post-stratification to preserve distribution by age, race, sex, poverty, coverage,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d 37% of th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osing the 13% Gap with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PS-Consistent NHEA PH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: Close remaining ga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lab test gap according to physician vi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remaining expendi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s MEPS up from $881B to $964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-of-Scope PHC Spend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676520"/>
          <a:ext cx="8763120" cy="3565440"/>
        </p:xfrm>
        <a:graphic>
          <a:graphicData uri="http://schemas.openxmlformats.org/drawingml/2006/table">
            <a:tbl>
              <a:tblPr/>
              <a:tblGrid>
                <a:gridCol w="2666880"/>
                <a:gridCol w="4267440"/>
                <a:gridCol w="18288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cated b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PH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me Health 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6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R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1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 payments that by-pass HH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:  Uncompensated Care, Medicare Hospital, Spending by Low-Inc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5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6.6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MEPS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072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82"/>
          <p:cNvSpPr/>
          <p:nvPr/>
        </p:nvSpPr>
        <p:spPr>
          <a:xfrm>
            <a:off x="304920" y="5562720"/>
            <a:ext cx="618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Useful for reform simulations that would, say, cover uninsured or increase/decrease Medicaid pop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PHC Spend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28600" y="1676520"/>
          <a:ext cx="8763120" cy="3306600"/>
        </p:xfrm>
        <a:graphic>
          <a:graphicData uri="http://schemas.openxmlformats.org/drawingml/2006/table">
            <a:tbl>
              <a:tblPr/>
              <a:tblGrid>
                <a:gridCol w="2666880"/>
                <a:gridCol w="4267440"/>
                <a:gridCol w="18288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cated b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Private 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miu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7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Public 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 expenditu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6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 Heal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expenditu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2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 Rese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 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8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 Cons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 expenditu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MEPS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291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29"/>
          <p:cNvSpPr/>
          <p:nvPr/>
        </p:nvSpPr>
        <p:spPr>
          <a:xfrm>
            <a:off x="533520" y="548640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Useful for benefit incidence and equity analy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plication:  Reform Simul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EA-aligned MEPS data is at the heart of health reform sim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on situation in early 1990s, when simulations of previous health reforms differed largely due to different starting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ed NHEA-aligned M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lication:  20% Burden Frequency among Nonelderly with Private Insurance:  With and without Adjusting for Tax Expenditures, 200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7320" y="1676520"/>
          <a:ext cx="776124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bar graph of frequency of 20% burderns from OOP spending on premiums and car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676520"/>
                    <a:ext cx="7761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298800" y="6248520"/>
            <a:ext cx="34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lden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JHCF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ax Expenditure Effect on Burdens is Small, Compared to:  Within-Year Burdens and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-Sharing in Public Coverage for Childre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380880" y="1582560"/>
          <a:ext cx="5333760" cy="31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bar graph 20% burderns, all nonelderly: annual versus monthly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82560"/>
                    <a:ext cx="5333760" cy="31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4"/>
          <p:cNvSpPr/>
          <p:nvPr/>
        </p:nvSpPr>
        <p:spPr>
          <a:xfrm>
            <a:off x="145800" y="5105520"/>
            <a:ext cx="30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lden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S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99040" y="2971800"/>
          <a:ext cx="4944960" cy="29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bar graph 20% burdens, publicly-insured children: with and without modest cost-sharin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2971800"/>
                    <a:ext cx="494496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7"/>
          <p:cNvSpPr/>
          <p:nvPr/>
        </p:nvSpPr>
        <p:spPr>
          <a:xfrm>
            <a:off x="4114800" y="6019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lden et al.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plication:  Benefit Incidence Analysis of Public Spend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Picture 5" descr="table of public spending in 200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843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219320" y="4800600"/>
            <a:ext cx="618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80% of health care spending for persons in poor health paid by public s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908840" y="3951360"/>
            <a:ext cx="100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92680" y="6248520"/>
            <a:ext cx="50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lden and Sing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ealth Affair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nefit Incidence (cont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5" descr="table with public outlays for 2002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219320" y="4800600"/>
            <a:ext cx="618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Nearly half of all health care in highest income group paid by public s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92680" y="6248520"/>
            <a:ext cx="50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lden and Sing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ealth Affair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vantages of HH Survey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HH survey data possess the correlations across variables necessary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group or distributional est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plication:  Equity in Health Care Financ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diagram of equity in health care finance in 2002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rage Combined Burdens by Financing Source and Income Deci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bar graph of average combined burdens by financing source and income decil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ing MEPS to peg NHEA benchmarks and capture tax expenditures is a painstaking endeav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, however, is a powerful tool for reform simulations and equity anal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thin and Bernard (2006) Changes in Financial Burdens for Health Care:  National Estimates for the Population Younger Than 65 Years, 1996 to 2003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v. 296, n. 22:  2712-271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and Banthin (2003) The ABC's of children's health care: How the Medicaid expansions affected access, burdens, and coverage between 1987 and 1996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qui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0:133-4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, Kenney, Pantell, Ruhter (2009) “Cost Sharing In Medicaid And CHIP: How Does It Affect Out-Of-Pocket Spending?”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Affai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content.healthaffairs.org/cgi/content/abstract/hlthaff.28.4.w60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bliography (cont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(2009) The Within-Year Concentration of Medical Care: Implications for Family Out-of-Pocket Expenditure Burdens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Services Resear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44(3):1029-105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and Gray (2008b) Tax Subsidies For Employment-Related Health Insurance: Estimates For 2006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Affai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content.healthaffairs.org/cgi/content/abstract/25/6/156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(2008) The effect of tax subsidies on high health care expenditure burdens in the United States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ational Journal of Health Care Finance and Econom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v. 8:  209-2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bliography (cont.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and Sing (2008a) Aligning the Medical Expenditure Panel Survey to Aggregate U.S. Benchmarks, MEPS Working Paper (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meps.ahrq.gov/mepsweb/data_stats/Pub_ProdResults_Details.jsp?pt=Working%20Paper&amp;opt=2&amp;id=86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 and Sing (2008b) The Distribution Of Public Spending For Health Care In The United States, 2002, Health Affairs (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content.healthaffairs.org/cgi/content/abstract/hlthaff.27.5.w349v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den, Equity in the Finance and Delivery of Health Care in the United States (unpublish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MEPS to Study Finance Incid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alence and distribution of high out-of-pocket bu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population (Banthin and Bernard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-year burdens (Selden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S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impacts (Banthin and Selden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qui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Selden, Kenney, et al.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lth Affai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of benefits from public sp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den and Gray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lth Affai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den and Sing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lth Affai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vity of the financing of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den (prelimin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tential Issues with Using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nadjuste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EP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scope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alized persons not in M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scope expendi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attrition (high-cost ca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-reporting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mp-sum payments to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R/MCD grants to hospitals for teaching/ne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subsidies for coverage and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sentation 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step-by-step results from efforts at AHRQ to adjust MEP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tax subsi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gn with National Health Expenditure Acc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som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 incidence analy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ty in financing of health care finance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PS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,000 persons in over 10,000 househ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year since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an noninstitutionalized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holds report use and expenditures during 5 in person interviews over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ed by journal entries and follow back survey of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CMS NHEA every 5 years when availability of Census data on providers facilitates alignment (last done in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ples to Apples Comparison of MEPS &amp; NHEA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676520"/>
          <a:ext cx="8229600" cy="3662280"/>
        </p:xfrm>
        <a:graphic>
          <a:graphicData uri="http://schemas.openxmlformats.org/drawingml/2006/table">
            <a:tbl>
              <a:tblPr/>
              <a:tblGrid>
                <a:gridCol w="3027600"/>
                <a:gridCol w="1164960"/>
                <a:gridCol w="403704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603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RA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EA Pers Hlth C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341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62 admin, pub hlth, res, co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-adjusted PH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.072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69B out-of-scope population (long-term care, militar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PS-consistent NH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964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08 out-of-scope expenditures (payments that by-pass HHs, non-RX nondurables, misc PH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83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 G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PS-Consistent NHEA Personal Health Car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table of MEPS-Consistent Adjusted NHEA Personal Health Care Benchmarks"/>
          <p:cNvPicPr/>
          <p:nvPr/>
        </p:nvPicPr>
        <p:blipFill>
          <a:blip r:embed="rId1"/>
          <a:stretch/>
        </p:blipFill>
        <p:spPr>
          <a:xfrm>
            <a:off x="0" y="1687680"/>
            <a:ext cx="9144000" cy="3369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18040" y="5627520"/>
            <a:ext cx="393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urce:  Selden and Sing (2008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PS-Consistent NHEA Personal Health Care, 2002 (cont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ing this chart is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or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ing service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owned home healt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 and clinical services” (allocated to Physician vs. Other professional as in M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TC est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te care of LTC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owned nursing h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 adjustments by sources of payment and type of servic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3/29/04</dc:description>
  <cp:keywords/>
  <dc:language>en-US</dc:language>
  <cp:lastModifiedBy>Rasa</cp:lastModifiedBy>
  <cp:lastPrinted>2003-01-21T20:19:23Z</cp:lastPrinted>
  <dcterms:modified xsi:type="dcterms:W3CDTF">2009-10-28T16:07:48Z</dcterms:modified>
  <cp:revision>146</cp:revision>
  <dc:subject/>
  <dc:title>AHRQ Slide Template</dc:title>
</cp:coreProperties>
</file>