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A01-CFA7-459C-B3B4-0F00264B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9C8-A9D3-4ACD-BE07-75B499F3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E9D-0D76-4780-83BD-BA7BA4DB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DDA-54B8-41B0-8D37-4CEF9E73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72F-F4AC-4349-A5A4-B0D7299E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6654-1607-4ACE-A11C-B8FE9624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FA2F-FC13-4D9B-851F-E90F8275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3A87-C385-4A32-BB28-A9068A9F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CF97-4013-4D23-BE7F-EAE47977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BD40-1DF0-4452-963F-D2BC045E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050-7136-4FA6-9C80-A7146FCB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79D7-162B-4FA1-B720-FCBFFB13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4051-2B3C-4972-A441-2D422F0A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E30D-9AC0-41A7-BB46-E83D192E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75DA-67AE-443A-887E-775D16D7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3D45-2A24-4956-A7C1-5FB100F6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9056-5DB2-465B-8E5D-0C9A748B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7BB8-BEFC-4F4F-886D-DE875D20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5D9-4EF0-43C5-8627-76CFE87D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181-B24E-4AA3-8E8D-9E47D4A4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005C-5A64-4150-B2D8-0F9C1601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207-8855-4750-BE8C-E585595C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873-BA7B-48D2-A253-3D5E31E6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F2B-A8B8-40E0-93FB-48634128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C846-4C4B-46B7-8E1C-053078988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Rectangle 9"/>
          <p:cNvSpPr/>
          <p:nvPr/>
        </p:nvSpPr>
        <p:spPr>
          <a:xfrm>
            <a:off x="8128080" y="6180120"/>
            <a:ext cx="71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AC94-3C70-4FFE-82C7-663FBB3C4FB3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47" name="Line 5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6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9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10"/>
          <p:cNvSpPr/>
          <p:nvPr/>
        </p:nvSpPr>
        <p:spPr>
          <a:xfrm>
            <a:off x="8128080" y="6180120"/>
            <a:ext cx="71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00F6-7F9C-405A-8168-7AF3464CB29A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8"/>
          <p:cNvSpPr/>
          <p:nvPr/>
        </p:nvSpPr>
        <p:spPr>
          <a:xfrm>
            <a:off x="8128080" y="6180120"/>
            <a:ext cx="71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7543-D98F-41CB-9928-8A0E1E37EFFE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480F-555F-489F-9B9C-21B8EEB679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133" name="Line 5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5" name=""/>
          <p:cNvGraphicFramePr/>
          <p:nvPr/>
        </p:nvGraphicFramePr>
        <p:xfrm>
          <a:off x="990720" y="380880"/>
          <a:ext cx="71643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43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8"/>
          <p:cNvSpPr/>
          <p:nvPr/>
        </p:nvSpPr>
        <p:spPr>
          <a:xfrm>
            <a:off x="8128080" y="6180120"/>
            <a:ext cx="71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A96D-262A-4ABC-A48C-D557A23BD1E4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abetes Multi-Center Research Consortium  (DMCRC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ordinating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MO Research Network DEcIDE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 Joe Selby, M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PI Patrick O’Connor M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40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filiate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Johns Hopkins University  DEcIDE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 Jodi Segal, M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PI Eric Bass, M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520" y="266760"/>
            <a:ext cx="7162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MCRC Work Assign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420480" indent="-4204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ative Effectiveness of Bariatric Surgery vs. Usual Care in Type 2 Diabetes (two projec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sal for New Statistical Briefs - using representative data to characterize trends in diabetes treatment and outcomes (joi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and Convene Stakeholders’ Group (HMOR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and Convene Data Committee (JHU) – with HMORN, Vanderbilt, RTI particip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ative Effectiveness Study of Intensive Glycemic Control vs. Less Intensive Control in presence vs. absence of tight blood pressure and lipid control (two projec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04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MCRC Stakeholder Committe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Agencies – AHRQ, NIDDK, CMS, FDA, CDC, 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ians – ACP,AAFP, A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s  - ADA, individual patient re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anded DMCRC Executive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96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keholder - Developed Prioriti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1579680"/>
          <a:ext cx="8763120" cy="510516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521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le of intensive glucose control in individuals with and without CVD, not typically enrolled in tri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arative effectiveness of multi-risk factor reduction on long-term CV out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  Comparison of 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stem-based (coordinated) care vs. usual c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Arial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oaches to DX and treatment of depression in diabe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Arial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Arial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k factors for nonadherence – effects of nonadherence on costs and clinical outcom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keholder - Developed Prioriti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462960" indent="-462960">
              <a:lnSpc>
                <a:spcPct val="90000"/>
              </a:lnSpc>
              <a:buClr>
                <a:srgbClr val="ffffff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ffectiveness of eliminating co-pay for effective drugs (statins, ACE-I’s, beta blockers, anti-diabetic meds) – on outcomes and total drug bur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buClr>
                <a:srgbClr val="ffffff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tient reported outcomes, HRQoL in relation to therap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buClr>
                <a:srgbClr val="ffffff"/>
              </a:buClr>
              <a:buSzPct val="9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ptimal timing for metformin initiation on the continuum of pre-DM -&gt; D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buClr>
                <a:srgbClr val="ffffff"/>
              </a:buClr>
              <a:buSzPct val="9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strategies for behavior change.  Who should do it and where should it be do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buClr>
                <a:srgbClr val="ffffff"/>
              </a:buClr>
              <a:buSzPct val="9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ing patient attitudes toward insulin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2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95400"/>
            <a:ext cx="7391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ork Assignment #1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Health outcomes of bariatric surgery in individuals with type 2 diab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MORN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I:  David Arterburn M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Group Health Cooperat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hns Hopkins U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I: Jodi Segal M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39152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A #1: Primary Aim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hort-ter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utcomes between patients under-going BS and comparable patients who don’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lution of diabetes (no meds, nl FPG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MI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ycemic, BP, and lipid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onger-ter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utcomes between patients under- going BS and comparable patients who don’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urrence of diabetes (abnormal labs or re-initiation of diabetes medication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th, hospitalization, re-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differences in these outcomes by type of BS: Bypass, banding, gastric sle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90000"/>
            <a:ext cx="739152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A #1: Secondary Aim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 variety of shorter- and longer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er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utcomes between patients under- going BS and comparable patients who don’t (HMORN and JHU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and progression of CKD and D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and progression of diabetic retinopa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incident cardiovascular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-term health care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 of various can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 of osteoporotic fra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 of urolithi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differences in these outcomes by type of BS: Bypass, banding, gastric sle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A #1: Study Design: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752480" y="3886200"/>
          <a:ext cx="5562720" cy="2463840"/>
        </p:xfrm>
        <a:graphic>
          <a:graphicData uri="http://schemas.openxmlformats.org/drawingml/2006/table">
            <a:tbl>
              <a:tblPr/>
              <a:tblGrid>
                <a:gridCol w="2665440"/>
                <a:gridCol w="1449360"/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 Age (yr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Fe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B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Rectangle 51"/>
          <p:cNvSpPr/>
          <p:nvPr/>
        </p:nvSpPr>
        <p:spPr>
          <a:xfrm>
            <a:off x="1295280" y="1676520"/>
            <a:ext cx="6782040" cy="194400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buClr>
                <a:srgbClr val="0000e4"/>
              </a:buClr>
              <a:buSzPct val="140000"/>
              <a:buFont typeface="Wingdings" charset="2"/>
              <a:buChar char="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 Study in 180,000 patients with evidence              of Type 2 diabetes, BMI &gt;35, aged 18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0000e4"/>
              </a:buClr>
              <a:buSzPct val="140000"/>
              <a:buFont typeface="Wingdings" charset="2"/>
              <a:buChar char="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presence of BMI in EMR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0000e4"/>
              </a:buClr>
              <a:buSzPct val="140000"/>
              <a:buFont typeface="Wingdings" charset="2"/>
              <a:buChar char="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3,100 BS with BMI 2002 –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ffff00"/>
              </a:buClr>
              <a:buSzPct val="140000"/>
              <a:buFont typeface="Wingdings" charset="2"/>
              <a:buChar char="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A #1:  The Coh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990720" y="2057400"/>
            <a:ext cx="2286000" cy="1143000"/>
          </a:xfrm>
          <a:prstGeom prst="wedgeRectCallout">
            <a:avLst>
              <a:gd name="adj1" fmla="val -47013"/>
              <a:gd name="adj2" fmla="val 100833"/>
            </a:avLst>
          </a:prstGeom>
          <a:solidFill>
            <a:srgbClr val="eaeaea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nters cohort when T2 DM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BMI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35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1143000" y="3809880"/>
            <a:ext cx="6553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4267080" y="3657600"/>
            <a:ext cx="304920" cy="304920"/>
          </a:xfrm>
          <a:prstGeom prst="pie">
            <a:avLst/>
          </a:prstGeom>
          <a:solidFill>
            <a:srgbClr val="8cf4ea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1143000" y="4419720"/>
            <a:ext cx="6553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0"/>
          <p:cNvSpPr/>
          <p:nvPr/>
        </p:nvSpPr>
        <p:spPr>
          <a:xfrm>
            <a:off x="4724280" y="2666880"/>
            <a:ext cx="297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4648320" y="3200400"/>
            <a:ext cx="3047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 flipH="1">
            <a:off x="4495320" y="2666880"/>
            <a:ext cx="22860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4867200" y="2514600"/>
            <a:ext cx="1143000" cy="30492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y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4881600" y="2986200"/>
            <a:ext cx="1143000" cy="42372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4853160" y="3581280"/>
            <a:ext cx="1143000" cy="42408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le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6"/>
          <p:cNvSpPr/>
          <p:nvPr/>
        </p:nvSpPr>
        <p:spPr>
          <a:xfrm>
            <a:off x="1066680" y="3733920"/>
            <a:ext cx="0" cy="761760"/>
          </a:xfrm>
          <a:prstGeom prst="line">
            <a:avLst/>
          </a:prstGeom>
          <a:ln w="572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7698600" y="41623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593640" y="446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9"/>
          <p:cNvSpPr/>
          <p:nvPr/>
        </p:nvSpPr>
        <p:spPr>
          <a:xfrm>
            <a:off x="228600" y="4572000"/>
            <a:ext cx="1752480" cy="459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2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3657600" y="4572000"/>
            <a:ext cx="1577880" cy="398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1"/>
          <p:cNvSpPr/>
          <p:nvPr/>
        </p:nvSpPr>
        <p:spPr>
          <a:xfrm>
            <a:off x="7772400" y="25909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7987320" y="30114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2577240" y="33163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4"/>
          <p:cNvSpPr/>
          <p:nvPr/>
        </p:nvSpPr>
        <p:spPr>
          <a:xfrm rot="10800000">
            <a:off x="6629400" y="4876560"/>
            <a:ext cx="1371600" cy="533160"/>
          </a:xfrm>
          <a:prstGeom prst="wedgeRectCallout">
            <a:avLst>
              <a:gd name="adj1" fmla="val -27666"/>
              <a:gd name="adj2" fmla="val 133925"/>
            </a:avLst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A #1: Analysis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nsity Score (time dependent) calculated for each cohort m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ilities associated with each decile of PS examined, with possible trimming of very low probability dec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ing of outcomes in remaining cohort examined using time-varying predictors for BS and key covari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comparisons by type of surgery, separate cohort analyses restricted to  persons having B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 heterogeneity examined by age group, presence of prior comorbid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4582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Case for CER in Diabe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 BURDEN OF DISE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26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, rising prevalence of diabetes (&gt;23 million diagnosed cases, 10% prevalence in adul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26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ity – life expectancy with diabetes &gt;20 years; age at diagnosis decreasing;  complication-related morbidities lead to many years with high annual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162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A #1: Key Points in 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variable models predicting outcome will NOT use 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iscrete analyses, models will evaluat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n-proportion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i.e., time-varying hazar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also examine effect heterogeneity by year of surgery and volume of surge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more BS patients without pre-surgical BMI, who may contribute to some analyses where BMI less likely to conf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Case for CER in Diabe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CERTAINTY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ariation in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4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therapeutic choices (6 classes of oral agents, two classes of injectable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4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al options are relatively new and cost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4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s vary in mechanisms of action,   relative effectiveness and safety uncert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4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al treatment “strategies” unclear:  timing of pharmacotherapy; treatment targets; sequencing and combination T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Case for CER in Diabe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xity in Optimizing Effect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care, including medication adherence is central to effectiveness, but difficult to optim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-of-pocket medication costs interfere with medication adherence and self-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pressure, lipid control, and aspirin each  more effective than “tight” glycemic control in preventing most diabetic com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 management is important, but several medication classes cause weight 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Case for CER in Diabe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6048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xity in Optimizing Effect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s Approaches” may enhance self-care and improve adherence and care coord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 common in diabetes, but role of depression therapy in improving control uncle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le of “tight” control in preventing CVD  complications thrown into question in 2008 by three RCT’s: ACCORD, ADVANCE, VA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dverse consequences of tight control - wt. gain, hypoglycemia, fra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ts may vary by patient age, DM du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Case for CER in Diabe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VENTION AND EARLY DETE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oir of undiagnosed cases, but the net benefits of screening various populations for diabetes not entirely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betes can be prevented or postponed by lifestyle and/or pharmacotherapy; but optimal “real world” programs not fully clar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1143000" y="2590920"/>
            <a:ext cx="259092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143000" y="4572000"/>
            <a:ext cx="259092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5029200" y="2590920"/>
            <a:ext cx="259092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5029200" y="4572000"/>
            <a:ext cx="259092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k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200400" y="3538440"/>
            <a:ext cx="2286000" cy="138168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M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281240" y="1519200"/>
            <a:ext cx="6172200" cy="825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e4"/>
                </a:solidFill>
                <a:latin typeface="Arial"/>
              </a:rPr>
              <a:t>Executive Committee – Includes AHRQ, Coordinating, Affiliate Center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920" y="763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MCRC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AutoShape 9"/>
          <p:cNvSpPr/>
          <p:nvPr/>
        </p:nvSpPr>
        <p:spPr>
          <a:xfrm>
            <a:off x="4267080" y="2362320"/>
            <a:ext cx="228600" cy="1143000"/>
          </a:xfrm>
          <a:prstGeom prst="upDownArrow">
            <a:avLst>
              <a:gd name="adj1" fmla="val 50000"/>
              <a:gd name="adj2" fmla="val 99537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1143000" y="2590920"/>
            <a:ext cx="2590920" cy="1752480"/>
          </a:xfrm>
          <a:prstGeom prst="rect">
            <a:avLst/>
          </a:prstGeom>
          <a:solidFill>
            <a:srgbClr val="008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1143000" y="4572000"/>
            <a:ext cx="2590920" cy="1752480"/>
          </a:xfrm>
          <a:prstGeom prst="rect">
            <a:avLst/>
          </a:prstGeom>
          <a:solidFill>
            <a:srgbClr val="008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5029200" y="2590920"/>
            <a:ext cx="259092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5029200" y="4572000"/>
            <a:ext cx="2590920" cy="1752480"/>
          </a:xfrm>
          <a:prstGeom prst="rect">
            <a:avLst/>
          </a:prstGeom>
          <a:solidFill>
            <a:srgbClr val="008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k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3200400" y="3538440"/>
            <a:ext cx="2286000" cy="138168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M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281240" y="1519200"/>
            <a:ext cx="6172200" cy="8254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e4"/>
                </a:solidFill>
                <a:latin typeface="Arial"/>
              </a:rPr>
              <a:t>Executive Committee – Includes AHRQ, Coordinating, Affiliate Center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920" y="763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MCRC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4267080" y="2362320"/>
            <a:ext cx="228600" cy="1295280"/>
          </a:xfrm>
          <a:prstGeom prst="upDownArrow">
            <a:avLst>
              <a:gd name="adj1" fmla="val 50000"/>
              <a:gd name="adj2" fmla="val 112798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panded Executive Committe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inclu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anderbil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cIDE Cen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Marie Griffin MD, PI – Comparative Effectiveness of Oral Agents in Type 2 Diab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T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cIDE Cen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Suzanne West Ph.D. – Comparative Effectiveness of Oral Hypoglycemics on Chronic Kidney Disease and on Time to Initiation of Maintenance Insu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12:49Z</dcterms:created>
  <dc:creator>Scott R. Smith, PhD</dc:creator>
  <dc:description>January 2009</dc:description>
  <cp:keywords/>
  <dc:language>en-US</dc:language>
  <cp:lastModifiedBy>Graham</cp:lastModifiedBy>
  <cp:lastPrinted>2003-01-21T20:19:23Z</cp:lastPrinted>
  <dcterms:modified xsi:type="dcterms:W3CDTF">2009-10-20T17:09:30Z</dcterms:modified>
  <cp:revision>82</cp:revision>
  <dc:subject/>
  <dc:title>DEcIDE Program Update for Stakeholder Mtg</dc:title>
</cp:coreProperties>
</file>