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8FB6-9F0A-466F-8B27-D2761C254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59B3-F5A6-4D1F-8758-B2C58A4E0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63EE-ECD0-4402-B27C-41C1AF296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A5A4-765A-4234-911E-AA7B04D06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DB9D-7583-4500-A2F7-71B4CDB0D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C230-1788-4336-8B8E-696935E25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B7B9-A349-4128-88B0-E788E80E1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F8DB-08B2-48FB-8EF2-E3A36798A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5EC0-B2BD-4DFF-985E-730C95896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D71B-2A35-41B2-AD30-08E78B25C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F7A6-6D3B-42D8-8884-FF726AF23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9E7E-B25B-4334-B252-3E235412E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0B65-EED0-4E68-8C37-E1747E98A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7A0E-3E8A-4E61-9E87-3BFBE15D2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05A-EC91-4E3B-88E1-FC68B246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A1D-FCD7-48B5-855F-2B0183DA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0CB9-FDDC-404A-ADD0-762B2136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A817-77DE-49C0-AFA9-F248D692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57B-EC99-482D-ACA1-9DF0563B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608-2B83-4ED6-8486-5895953A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5ECDF-D99F-4EA7-830E-8FC3A71A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1A4BB-5319-4A83-A014-41E0FC77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B7BBA-A3AB-49D9-BCB2-788F8B93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DD4-2276-4A7C-AFD1-A84E7D01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053D5-1255-41F1-B264-EB725EEE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3CFEB-7C78-4EDB-B778-C7B837BE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FB7DE-AEDE-493A-BC3D-974CD062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496B1-4056-4DAF-9210-4A72D4AF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C15F9-2C2D-4832-BD35-342E0322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46C1B-2C1A-439E-9AD0-BA56E03C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1E93C-55E8-4530-B2CE-3C33C351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55CB5-96B9-4649-AD92-3F32F947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A5F68-4435-493F-850B-B4F0EF8F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C9A-8ADA-4931-A0F8-896A4C37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D66-A554-410B-B7FC-F9299929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1BAD-3CBA-41C5-B882-0AA44641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5E8-A6BF-4244-A8E0-3B6D3201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668-01A8-479B-AC6E-14D7D8A0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s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F861-387B-47EC-A694-A67C423FF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xCenter Full Logo.bmp"/>
          <p:cNvPicPr/>
          <p:nvPr/>
        </p:nvPicPr>
        <p:blipFill>
          <a:blip r:embed="rId7"/>
          <a:stretch/>
        </p:blipFill>
        <p:spPr>
          <a:xfrm>
            <a:off x="6858000" y="5759280"/>
            <a:ext cx="2286000" cy="109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5867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828440" y="121896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9" descr=""/>
          <p:cNvPicPr/>
          <p:nvPr/>
        </p:nvPicPr>
        <p:blipFill>
          <a:blip r:embed="rId3"/>
          <a:stretch/>
        </p:blipFill>
        <p:spPr>
          <a:xfrm>
            <a:off x="7381800" y="6216480"/>
            <a:ext cx="152424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828800" y="15998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3"/>
          <a:stretch/>
        </p:blipFill>
        <p:spPr>
          <a:xfrm>
            <a:off x="7010280" y="6053040"/>
            <a:ext cx="1600200" cy="636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1"/>
          <p:cNvSpPr/>
          <p:nvPr/>
        </p:nvSpPr>
        <p:spPr>
          <a:xfrm>
            <a:off x="231480" y="64342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D651-AF4E-4E4B-8666-75D92F105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tes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IxCenter Full Logo.bmp"/>
          <p:cNvPicPr/>
          <p:nvPr/>
        </p:nvPicPr>
        <p:blipFill>
          <a:blip r:embed="rId3"/>
          <a:stretch/>
        </p:blipFill>
        <p:spPr>
          <a:xfrm>
            <a:off x="6858000" y="5759280"/>
            <a:ext cx="2286000" cy="1098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F384-3C46-44DE-B2A1-747E1595A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xCenter.org/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IxCenterBlog.org/" TargetMode="External"/><Relationship Id="rId5" Type="http://schemas.openxmlformats.org/officeDocument/2006/relationships/image" Target="../media/image2.png"/><Relationship Id="rId6" Type="http://schemas.openxmlformats.org/officeDocument/2006/relationships/hyperlink" Target="mailto:jseidman@ixcenter.org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Logo"/>
          <p:cNvPicPr/>
          <p:nvPr/>
        </p:nvPicPr>
        <p:blipFill>
          <a:blip r:embed="rId1"/>
          <a:stretch/>
        </p:blipFill>
        <p:spPr>
          <a:xfrm>
            <a:off x="2514600" y="3505320"/>
            <a:ext cx="4165560" cy="200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veraging Social Science and Technology to Harness the Power of Information Democratiz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eff1ad"/>
                </a:solidFill>
                <a:latin typeface="Garamond"/>
              </a:rPr>
              <a:t>Joshua Seidman, Ph.D.</a:t>
            </a:r>
            <a:br>
              <a:rPr sz="2800"/>
            </a:br>
            <a:r>
              <a:rPr b="0" lang="en-US" sz="2800" spc="-1" strike="noStrike">
                <a:solidFill>
                  <a:srgbClr val="eff1ad"/>
                </a:solidFill>
                <a:latin typeface="Garamond"/>
              </a:rPr>
              <a:t>President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thesda, MD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otential Information Triggers to Deliver SDM Decision Aid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D-9 code for back pain &amp; referral to orthoped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W BACK PAIN DECISION A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eduling of 50-year-old male well-care vis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SA TEST DECISION A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b data: LDL&gt;130 mg/d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TIN THERAPY DECISION A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Right Arrow 5"/>
          <p:cNvSpPr/>
          <p:nvPr/>
        </p:nvSpPr>
        <p:spPr>
          <a:xfrm>
            <a:off x="2362320" y="27432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ight Arrow 6"/>
          <p:cNvSpPr/>
          <p:nvPr/>
        </p:nvSpPr>
        <p:spPr>
          <a:xfrm>
            <a:off x="3505320" y="3809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ight Arrow 7"/>
          <p:cNvSpPr/>
          <p:nvPr/>
        </p:nvSpPr>
        <p:spPr>
          <a:xfrm>
            <a:off x="2133720" y="48769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nstitute of Medicine (IOM)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4" name="Content Placeholder 5" descr="CrossingTheQualityChasm cover"/>
          <p:cNvPicPr/>
          <p:nvPr/>
        </p:nvPicPr>
        <p:blipFill>
          <a:blip r:embed="rId1"/>
          <a:stretch/>
        </p:blipFill>
        <p:spPr>
          <a:xfrm>
            <a:off x="990720" y="1981080"/>
            <a:ext cx="2133360" cy="3232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200400" y="1923840"/>
            <a:ext cx="5486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n simple rules for the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century health care system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le 1: Care based on continuous healing relationship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courage “all types of health care interactions that improve information transfer…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3" descr="tes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Diagram 4" descr=""/>
          <p:cNvPicPr/>
          <p:nvPr/>
        </p:nvPicPr>
        <p:blipFill>
          <a:blip r:embed="rId2"/>
          <a:stretch/>
        </p:blipFill>
        <p:spPr>
          <a:xfrm>
            <a:off x="1444680" y="1365120"/>
            <a:ext cx="6029280" cy="49132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OM Rule #1: Continuous Healing Relationship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9" name="Content Placeholder 3" descr="Woman_sick[1].JPG"/>
          <p:cNvPicPr/>
          <p:nvPr/>
        </p:nvPicPr>
        <p:blipFill>
          <a:blip r:embed="rId3"/>
          <a:stretch/>
        </p:blipFill>
        <p:spPr>
          <a:xfrm>
            <a:off x="3581280" y="2590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240" name="Rectangle 5" descr="woman covering nose with kleenex."/>
          <p:cNvPicPr/>
          <p:nvPr/>
        </p:nvPicPr>
        <p:blipFill>
          <a:blip r:embed="rId4"/>
          <a:stretch/>
        </p:blipFill>
        <p:spPr>
          <a:xfrm>
            <a:off x="3376440" y="3097080"/>
            <a:ext cx="2391120" cy="1133640"/>
          </a:xfrm>
          <a:prstGeom prst="rect">
            <a:avLst/>
          </a:prstGeom>
          <a:ln w="0">
            <a:noFill/>
          </a:ln>
        </p:spPr>
      </p:pic>
      <p:pic>
        <p:nvPicPr>
          <p:cNvPr id="241" name="Rectangle 6" descr=""/>
          <p:cNvPicPr/>
          <p:nvPr/>
        </p:nvPicPr>
        <p:blipFill>
          <a:blip r:embed="rId5"/>
          <a:stretch/>
        </p:blipFill>
        <p:spPr>
          <a:xfrm>
            <a:off x="6443640" y="1316160"/>
            <a:ext cx="2048040" cy="126180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10" descr=""/>
          <p:cNvPicPr/>
          <p:nvPr/>
        </p:nvPicPr>
        <p:blipFill>
          <a:blip r:embed="rId6"/>
          <a:stretch/>
        </p:blipFill>
        <p:spPr>
          <a:xfrm>
            <a:off x="103320" y="1773360"/>
            <a:ext cx="2457360" cy="1261800"/>
          </a:xfrm>
          <a:prstGeom prst="rect">
            <a:avLst/>
          </a:prstGeom>
          <a:ln w="0">
            <a:noFill/>
          </a:ln>
        </p:spPr>
      </p:pic>
      <p:pic>
        <p:nvPicPr>
          <p:cNvPr id="243" name="Rectangle 11" descr=""/>
          <p:cNvPicPr/>
          <p:nvPr/>
        </p:nvPicPr>
        <p:blipFill>
          <a:blip r:embed="rId7"/>
          <a:stretch/>
        </p:blipFill>
        <p:spPr>
          <a:xfrm>
            <a:off x="189000" y="5278320"/>
            <a:ext cx="2408040" cy="890640"/>
          </a:xfrm>
          <a:prstGeom prst="rect">
            <a:avLst/>
          </a:prstGeom>
          <a:ln w="0">
            <a:noFill/>
          </a:ln>
        </p:spPr>
      </p:pic>
      <p:pic>
        <p:nvPicPr>
          <p:cNvPr id="244" name="Rectangle 12" descr=""/>
          <p:cNvPicPr/>
          <p:nvPr/>
        </p:nvPicPr>
        <p:blipFill>
          <a:blip r:embed="rId8"/>
          <a:stretch/>
        </p:blipFill>
        <p:spPr>
          <a:xfrm>
            <a:off x="6827760" y="4821120"/>
            <a:ext cx="2024280" cy="1629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Ix Logo "/>
          <p:cNvPicPr/>
          <p:nvPr/>
        </p:nvPicPr>
        <p:blipFill>
          <a:blip r:embed="rId9"/>
          <a:stretch/>
        </p:blipFill>
        <p:spPr>
          <a:xfrm>
            <a:off x="7848720" y="2971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r More Inform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b site: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http://www.IxCenter.o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log: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http://www.IxCenterBlog.o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ail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jseidman@ixcenter.o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hy “Ix” and “Information Therapy”?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rollaries between Ix &amp; Rx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de eff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d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trate the dos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ropriate frequency &amp; du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cology of Medical Care &amp; the Internet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Object 2"/>
          <p:cNvGraphicFramePr/>
          <p:nvPr/>
        </p:nvGraphicFramePr>
        <p:xfrm>
          <a:off x="533520" y="1442880"/>
          <a:ext cx="7694640" cy="494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Diagram of use of internet in the ecology of medical car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2880"/>
                    <a:ext cx="7694640" cy="49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4"/>
          <p:cNvSpPr/>
          <p:nvPr/>
        </p:nvSpPr>
        <p:spPr>
          <a:xfrm>
            <a:off x="1752480" y="6400800"/>
            <a:ext cx="678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 et al. The Ecology of Medical Care Revisited. NEJM; 344:2021-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98108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"/>
          <p:cNvSpPr/>
          <p:nvPr/>
        </p:nvSpPr>
        <p:spPr>
          <a:xfrm flipV="1">
            <a:off x="3962520" y="25146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396252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w Internet Project Data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. Google Phenomenon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consumers go online for health info than see a doc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 consumers do when their physicians tell them to stop going onlin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witch doc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 undergr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arallel Play”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3" descr="boy smiling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457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arallel Play”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Line 3"/>
          <p:cNvSpPr/>
          <p:nvPr/>
        </p:nvSpPr>
        <p:spPr>
          <a:xfrm flipH="1">
            <a:off x="2666880" y="1066680"/>
            <a:ext cx="533520" cy="5335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6095880" y="1066680"/>
            <a:ext cx="533520" cy="5335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04920" y="16002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80880" y="1600200"/>
            <a:ext cx="3962520" cy="2875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MD’s OFF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arch: Patients recall only 20%-50% of what MDs tell them 5 minutes after the fact (Eiser, 19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724280" y="1600200"/>
            <a:ext cx="4038840" cy="3124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WHERE EL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led web of health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 is har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ind (relative to ne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xtu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752480" y="556272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x: Bring Two World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2286000" y="4343400"/>
            <a:ext cx="1676520" cy="12193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 flipH="1">
            <a:off x="5334120" y="4724280"/>
            <a:ext cx="1676160" cy="838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W DO WE HARNESS INFORMATION T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CTIVATE CONSUMERS?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52280" y="2133720"/>
            <a:ext cx="1390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447920" y="3200400"/>
            <a:ext cx="3657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FORM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1" name="WordArt 5"/>
          <p:cNvSpPr txBox="1"/>
          <p:nvPr/>
        </p:nvSpPr>
        <p:spPr>
          <a:xfrm>
            <a:off x="2895480" y="4495680"/>
            <a:ext cx="3305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NOWLED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2" name="WordArt 6"/>
          <p:cNvSpPr txBox="1"/>
          <p:nvPr/>
        </p:nvSpPr>
        <p:spPr>
          <a:xfrm>
            <a:off x="4419720" y="5867280"/>
            <a:ext cx="2685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HAVI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380880" y="2895480"/>
            <a:ext cx="91440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752480" y="3962520"/>
            <a:ext cx="99072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3352680" y="5257800"/>
            <a:ext cx="99072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ntegrating Best of Science into Information Democratiz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Content Placeholder 3" descr=""/>
          <p:cNvPicPr/>
          <p:nvPr/>
        </p:nvPicPr>
        <p:blipFill>
          <a:blip r:embed="rId1"/>
          <a:stretch/>
        </p:blipFill>
        <p:spPr>
          <a:xfrm>
            <a:off x="2127240" y="4108320"/>
            <a:ext cx="4664160" cy="2756160"/>
          </a:xfrm>
          <a:prstGeom prst="rect">
            <a:avLst/>
          </a:prstGeom>
          <a:ln w="0">
            <a:noFill/>
          </a:ln>
        </p:spPr>
      </p:pic>
      <p:sp>
        <p:nvSpPr>
          <p:cNvPr id="208" name="Left Arrow 4"/>
          <p:cNvSpPr/>
          <p:nvPr/>
        </p:nvSpPr>
        <p:spPr>
          <a:xfrm rot="11700000">
            <a:off x="2277720" y="4349160"/>
            <a:ext cx="1320840" cy="703080"/>
          </a:xfrm>
          <a:prstGeom prst="leftArrow">
            <a:avLst>
              <a:gd name="adj1" fmla="val 60000"/>
              <a:gd name="adj2" fmla="val 50010"/>
            </a:avLst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195120" y="4260960"/>
            <a:ext cx="2346480" cy="1876320"/>
            <a:chOff x="195120" y="4260960"/>
            <a:chExt cx="2346480" cy="1876320"/>
          </a:xfrm>
        </p:grpSpPr>
        <p:sp>
          <p:nvSpPr>
            <p:cNvPr id="210" name="Rounded Rectangle 6"/>
            <p:cNvSpPr/>
            <p:nvPr/>
          </p:nvSpPr>
          <p:spPr>
            <a:xfrm>
              <a:off x="195120" y="4260960"/>
              <a:ext cx="2346480" cy="187632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ounded Rectangle 5"/>
            <p:cNvSpPr/>
            <p:nvPr/>
          </p:nvSpPr>
          <p:spPr>
            <a:xfrm>
              <a:off x="250560" y="4316400"/>
              <a:ext cx="2235600" cy="17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72360" bIns="7236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en-US" sz="3800" spc="-1" strike="noStrike">
                  <a:solidFill>
                    <a:srgbClr val="ffffff"/>
                  </a:solidFill>
                  <a:latin typeface="Calibri"/>
                </a:rPr>
                <a:t>Decision Sciences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eft Arrow 8"/>
          <p:cNvSpPr/>
          <p:nvPr/>
        </p:nvSpPr>
        <p:spPr>
          <a:xfrm rot="14700000">
            <a:off x="2720880" y="3585600"/>
            <a:ext cx="1973160" cy="703440"/>
          </a:xfrm>
          <a:prstGeom prst="leftArrow">
            <a:avLst>
              <a:gd name="adj1" fmla="val 60000"/>
              <a:gd name="adj2" fmla="val 49984"/>
            </a:avLst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9"/>
          <p:cNvGrpSpPr/>
          <p:nvPr/>
        </p:nvGrpSpPr>
        <p:grpSpPr>
          <a:xfrm>
            <a:off x="1432080" y="1649520"/>
            <a:ext cx="2346120" cy="1876320"/>
            <a:chOff x="1432080" y="1649520"/>
            <a:chExt cx="2346120" cy="1876320"/>
          </a:xfrm>
        </p:grpSpPr>
        <p:sp>
          <p:nvSpPr>
            <p:cNvPr id="214" name="Rounded Rectangle 10"/>
            <p:cNvSpPr/>
            <p:nvPr/>
          </p:nvSpPr>
          <p:spPr>
            <a:xfrm>
              <a:off x="1432080" y="1649520"/>
              <a:ext cx="2346120" cy="187632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ounded Rectangle 5"/>
            <p:cNvSpPr/>
            <p:nvPr/>
          </p:nvSpPr>
          <p:spPr>
            <a:xfrm>
              <a:off x="1487520" y="1704960"/>
              <a:ext cx="2235240" cy="17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72360" bIns="7236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en-US" sz="3800" spc="-1" strike="noStrike">
                  <a:solidFill>
                    <a:srgbClr val="ffffff"/>
                  </a:solidFill>
                  <a:latin typeface="Calibri"/>
                </a:rPr>
                <a:t>Evidence-Based Medicine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Left Arrow 12"/>
          <p:cNvSpPr/>
          <p:nvPr/>
        </p:nvSpPr>
        <p:spPr>
          <a:xfrm rot="17700000">
            <a:off x="4397040" y="3433680"/>
            <a:ext cx="1973520" cy="703080"/>
          </a:xfrm>
          <a:prstGeom prst="leftArrow">
            <a:avLst>
              <a:gd name="adj1" fmla="val 60000"/>
              <a:gd name="adj2" fmla="val 50018"/>
            </a:avLst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3"/>
          <p:cNvGrpSpPr/>
          <p:nvPr/>
        </p:nvGrpSpPr>
        <p:grpSpPr>
          <a:xfrm>
            <a:off x="5029200" y="1676520"/>
            <a:ext cx="2344680" cy="1876320"/>
            <a:chOff x="5029200" y="1676520"/>
            <a:chExt cx="2344680" cy="1876320"/>
          </a:xfrm>
        </p:grpSpPr>
        <p:sp>
          <p:nvSpPr>
            <p:cNvPr id="218" name="Rounded Rectangle 16"/>
            <p:cNvSpPr/>
            <p:nvPr/>
          </p:nvSpPr>
          <p:spPr>
            <a:xfrm>
              <a:off x="5029200" y="1676520"/>
              <a:ext cx="2344680" cy="187632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ounded Rectangle 5"/>
            <p:cNvSpPr/>
            <p:nvPr/>
          </p:nvSpPr>
          <p:spPr>
            <a:xfrm>
              <a:off x="5084640" y="1731960"/>
              <a:ext cx="2233800" cy="16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72360" bIns="7236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en-US" sz="3800" spc="-1" strike="noStrike">
                  <a:solidFill>
                    <a:srgbClr val="ffffff"/>
                  </a:solidFill>
                  <a:latin typeface="Calibri"/>
                </a:rPr>
                <a:t>Behavior Change Sciences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eft Arrow 18"/>
          <p:cNvSpPr/>
          <p:nvPr/>
        </p:nvSpPr>
        <p:spPr>
          <a:xfrm rot="20700000">
            <a:off x="5816520" y="4425480"/>
            <a:ext cx="1320840" cy="703440"/>
          </a:xfrm>
          <a:prstGeom prst="leftArrow">
            <a:avLst>
              <a:gd name="adj1" fmla="val 60000"/>
              <a:gd name="adj2" fmla="val 49985"/>
            </a:avLst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9"/>
          <p:cNvGrpSpPr/>
          <p:nvPr/>
        </p:nvGrpSpPr>
        <p:grpSpPr>
          <a:xfrm>
            <a:off x="6799320" y="3651120"/>
            <a:ext cx="2344680" cy="1876680"/>
            <a:chOff x="6799320" y="3651120"/>
            <a:chExt cx="2344680" cy="1876680"/>
          </a:xfrm>
        </p:grpSpPr>
        <p:sp>
          <p:nvSpPr>
            <p:cNvPr id="222" name="Rounded Rectangle 20"/>
            <p:cNvSpPr/>
            <p:nvPr/>
          </p:nvSpPr>
          <p:spPr>
            <a:xfrm>
              <a:off x="6799320" y="3651120"/>
              <a:ext cx="2344680" cy="18766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ounded Rectangle 5"/>
            <p:cNvSpPr/>
            <p:nvPr/>
          </p:nvSpPr>
          <p:spPr>
            <a:xfrm>
              <a:off x="6854760" y="3706560"/>
              <a:ext cx="2233800" cy="17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72360" bIns="7236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en-US" sz="3800" spc="-1" strike="noStrike">
                  <a:solidFill>
                    <a:srgbClr val="ffffff"/>
                  </a:solidFill>
                  <a:latin typeface="Calibri"/>
                </a:rPr>
                <a:t>Predictive Modeling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Triggers: Delivering th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90720" y="2362320"/>
            <a:ext cx="7162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09120" y="2209680"/>
            <a:ext cx="31244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MR/PH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aims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ient port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ure messag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-prescrib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PO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ll cen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9520" y="2209320"/>
            <a:ext cx="48769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utomated lab resul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utomated pharmacy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pointment Schedu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utomated referral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line multimedia clinical cont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20:46:53Z</dcterms:created>
  <dc:creator>Administratr</dc:creator>
  <dc:description/>
  <dc:language>en-US</dc:language>
  <cp:lastModifiedBy> </cp:lastModifiedBy>
  <dcterms:modified xsi:type="dcterms:W3CDTF">2010-03-02T15:47:53Z</dcterms:modified>
  <cp:revision>70</cp:revision>
  <dc:subject/>
  <dc:title>Slide 1</dc:title>
</cp:coreProperties>
</file>