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460E-9A8C-47C5-8020-B0A79161B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E34B-1CCA-4E46-B923-A3C91FEA3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F665-96AA-4AC3-87A0-49C2790AC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CB68-1F6F-459D-A7AE-188D369CD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A14C-DC38-47F3-9D1A-4CEDABE1F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2C1E-8557-48FD-8A60-36EAF93F5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E722-5A4D-4DA3-B1A2-8F25D5EB9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DBEF-990C-4ADC-A7C0-9352A3B2F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C4DD-5EFE-4D55-B3B6-B4DAD5302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BF7B-3635-40BF-A557-2DBD8CEB7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A5AF-ABD3-4BC4-B7A7-F070F1400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D022-FC55-4EC0-B276-7501A5F39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0AF7-57C9-4A24-B517-5A6BB8CFE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B931-2D56-436D-A393-8580DE9C8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D95-8FAF-4CF2-9FB8-C69F5AD9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B213-DF93-42DE-A98E-2D278CD2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4D4-66DD-4DA3-8475-D08B96DA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B1A-AB56-4BB5-BEAC-EAEE0B76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367-A3FD-4FF3-8381-4C326226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0EE-C718-418B-B9FB-0BCFB92F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4386B-CCD0-4333-8BED-D80131A3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A487E-51E1-4DF4-B9CA-6A797351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76A93-4409-443B-8107-4DBC3AF4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FD0-5A93-415F-B51F-0487E201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F6B15-85F2-4448-8F8C-5E2A4D3A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00442-44FC-4AB9-A9EE-31EBDCD1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263EC-FDE0-4AC9-B571-B5FA5E6A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78932-6F77-4064-A7BD-A524E58D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92C9A-E6A4-470B-B52F-4168A715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25B89-3361-4429-8734-DD23AD6A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98B99-570D-4FB0-BB76-95724677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4F66A-ACD8-4180-97EA-9335822C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C2547-AD05-4671-B2F9-2A1408DA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E6B-C49D-4EA3-9486-0612244B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760E-16E3-4F81-8623-B2A27EF0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7900-DEF6-439C-B7A3-DB3FE742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372-7958-47C0-A8A5-04D658B2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F53-A946-45F9-A79F-4E91E378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s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F615-6DF9-45AF-8F98-EB1A32ED0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xCenter Full Logo.bmp"/>
          <p:cNvPicPr/>
          <p:nvPr/>
        </p:nvPicPr>
        <p:blipFill>
          <a:blip r:embed="rId7"/>
          <a:stretch/>
        </p:blipFill>
        <p:spPr>
          <a:xfrm>
            <a:off x="6858000" y="5759280"/>
            <a:ext cx="2286000" cy="109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5867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828440" y="121896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9" descr=""/>
          <p:cNvPicPr/>
          <p:nvPr/>
        </p:nvPicPr>
        <p:blipFill>
          <a:blip r:embed="rId3"/>
          <a:stretch/>
        </p:blipFill>
        <p:spPr>
          <a:xfrm>
            <a:off x="7381800" y="6216480"/>
            <a:ext cx="152424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828800" y="15998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3"/>
          <a:stretch/>
        </p:blipFill>
        <p:spPr>
          <a:xfrm>
            <a:off x="7010280" y="6053040"/>
            <a:ext cx="1600200" cy="636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1"/>
          <p:cNvSpPr/>
          <p:nvPr/>
        </p:nvSpPr>
        <p:spPr>
          <a:xfrm>
            <a:off x="231480" y="64342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94B7-6C75-44A3-B8A8-860DA02E4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tes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IxCenter Full Logo.bmp"/>
          <p:cNvPicPr/>
          <p:nvPr/>
        </p:nvPicPr>
        <p:blipFill>
          <a:blip r:embed="rId3"/>
          <a:stretch/>
        </p:blipFill>
        <p:spPr>
          <a:xfrm>
            <a:off x="6858000" y="5759280"/>
            <a:ext cx="2286000" cy="1098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5B4F-E205-4556-AEF2-DA1F21968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xCenter.org/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IxCenterBlog.org/" TargetMode="External"/><Relationship Id="rId5" Type="http://schemas.openxmlformats.org/officeDocument/2006/relationships/image" Target="../media/image2.png"/><Relationship Id="rId6" Type="http://schemas.openxmlformats.org/officeDocument/2006/relationships/hyperlink" Target="mailto:jseidman@ixcenter.org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Logo"/>
          <p:cNvPicPr/>
          <p:nvPr/>
        </p:nvPicPr>
        <p:blipFill>
          <a:blip r:embed="rId1"/>
          <a:stretch/>
        </p:blipFill>
        <p:spPr>
          <a:xfrm>
            <a:off x="2514600" y="3505320"/>
            <a:ext cx="4165560" cy="200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veraging Social Science and Technology to Harness the Power of Information Democratiz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eff1ad"/>
                </a:solidFill>
                <a:latin typeface="Garamond"/>
              </a:rPr>
              <a:t>Joshua Seidman, Ph.D.</a:t>
            </a:r>
            <a:br>
              <a:rPr sz="2800"/>
            </a:br>
            <a:r>
              <a:rPr b="0" lang="en-US" sz="2800" spc="-1" strike="noStrike">
                <a:solidFill>
                  <a:srgbClr val="eff1ad"/>
                </a:solidFill>
                <a:latin typeface="Garamond"/>
              </a:rPr>
              <a:t>President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thesda, MD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otential Information Triggers to Deliver SDM Decision Aid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D-9 code for back pain &amp; referral to orthoped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W BACK PAIN DECISION A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eduling of 50-year-old male well-care vis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SA TEST DECISION A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b data: LDL&gt;130 mg/d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TIN THERAPY DECISION A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Right Arrow 5"/>
          <p:cNvSpPr/>
          <p:nvPr/>
        </p:nvSpPr>
        <p:spPr>
          <a:xfrm>
            <a:off x="2362320" y="27432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ight Arrow 6"/>
          <p:cNvSpPr/>
          <p:nvPr/>
        </p:nvSpPr>
        <p:spPr>
          <a:xfrm>
            <a:off x="3505320" y="3809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ight Arrow 7"/>
          <p:cNvSpPr/>
          <p:nvPr/>
        </p:nvSpPr>
        <p:spPr>
          <a:xfrm>
            <a:off x="2133720" y="48769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nstitute of Medicine (IOM)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4" name="Content Placeholder 5" descr="CrossingTheQualityChasm cover"/>
          <p:cNvPicPr/>
          <p:nvPr/>
        </p:nvPicPr>
        <p:blipFill>
          <a:blip r:embed="rId1"/>
          <a:stretch/>
        </p:blipFill>
        <p:spPr>
          <a:xfrm>
            <a:off x="990720" y="1981080"/>
            <a:ext cx="2133360" cy="3232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200400" y="1923840"/>
            <a:ext cx="5486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n simple rules for the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century health care system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le 1: Care based on continuous healing relationship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courage “all types of health care interactions that improve information transfer…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3" descr="tes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Diagram 4" descr=""/>
          <p:cNvPicPr/>
          <p:nvPr/>
        </p:nvPicPr>
        <p:blipFill>
          <a:blip r:embed="rId2"/>
          <a:stretch/>
        </p:blipFill>
        <p:spPr>
          <a:xfrm>
            <a:off x="1444680" y="1365120"/>
            <a:ext cx="6029280" cy="49132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OM Rule #1: Continuous Healing Relationship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9" name="Content Placeholder 3" descr="Woman_sick[1].JPG"/>
          <p:cNvPicPr/>
          <p:nvPr/>
        </p:nvPicPr>
        <p:blipFill>
          <a:blip r:embed="rId3"/>
          <a:stretch/>
        </p:blipFill>
        <p:spPr>
          <a:xfrm>
            <a:off x="3581280" y="2590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240" name="Rectangle 5" descr="woman covering nose with kleenex."/>
          <p:cNvPicPr/>
          <p:nvPr/>
        </p:nvPicPr>
        <p:blipFill>
          <a:blip r:embed="rId4"/>
          <a:stretch/>
        </p:blipFill>
        <p:spPr>
          <a:xfrm>
            <a:off x="3376440" y="3097080"/>
            <a:ext cx="2391120" cy="1133640"/>
          </a:xfrm>
          <a:prstGeom prst="rect">
            <a:avLst/>
          </a:prstGeom>
          <a:ln w="0">
            <a:noFill/>
          </a:ln>
        </p:spPr>
      </p:pic>
      <p:pic>
        <p:nvPicPr>
          <p:cNvPr id="241" name="Rectangle 6" descr=""/>
          <p:cNvPicPr/>
          <p:nvPr/>
        </p:nvPicPr>
        <p:blipFill>
          <a:blip r:embed="rId5"/>
          <a:stretch/>
        </p:blipFill>
        <p:spPr>
          <a:xfrm>
            <a:off x="6443640" y="1316160"/>
            <a:ext cx="2048040" cy="126180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10" descr=""/>
          <p:cNvPicPr/>
          <p:nvPr/>
        </p:nvPicPr>
        <p:blipFill>
          <a:blip r:embed="rId6"/>
          <a:stretch/>
        </p:blipFill>
        <p:spPr>
          <a:xfrm>
            <a:off x="103320" y="1773360"/>
            <a:ext cx="2457360" cy="1261800"/>
          </a:xfrm>
          <a:prstGeom prst="rect">
            <a:avLst/>
          </a:prstGeom>
          <a:ln w="0">
            <a:noFill/>
          </a:ln>
        </p:spPr>
      </p:pic>
      <p:pic>
        <p:nvPicPr>
          <p:cNvPr id="243" name="Rectangle 11" descr=""/>
          <p:cNvPicPr/>
          <p:nvPr/>
        </p:nvPicPr>
        <p:blipFill>
          <a:blip r:embed="rId7"/>
          <a:stretch/>
        </p:blipFill>
        <p:spPr>
          <a:xfrm>
            <a:off x="189000" y="5278320"/>
            <a:ext cx="2408040" cy="890640"/>
          </a:xfrm>
          <a:prstGeom prst="rect">
            <a:avLst/>
          </a:prstGeom>
          <a:ln w="0">
            <a:noFill/>
          </a:ln>
        </p:spPr>
      </p:pic>
      <p:pic>
        <p:nvPicPr>
          <p:cNvPr id="244" name="Rectangle 12" descr=""/>
          <p:cNvPicPr/>
          <p:nvPr/>
        </p:nvPicPr>
        <p:blipFill>
          <a:blip r:embed="rId8"/>
          <a:stretch/>
        </p:blipFill>
        <p:spPr>
          <a:xfrm>
            <a:off x="6827760" y="4821120"/>
            <a:ext cx="2024280" cy="1629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Ix Logo "/>
          <p:cNvPicPr/>
          <p:nvPr/>
        </p:nvPicPr>
        <p:blipFill>
          <a:blip r:embed="rId9"/>
          <a:stretch/>
        </p:blipFill>
        <p:spPr>
          <a:xfrm>
            <a:off x="7848720" y="2971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r More Inform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b site: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http://www.IxCenter.o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log: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http://www.IxCenterBlog.o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ail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jseidman@ixcenter.o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y “Ix” and “Information Therapy”?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ollaries between Ix &amp; Rx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de eff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d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trate the dos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ropriate frequency &amp; du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cology of Medical Care &amp; the Internet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Object 2"/>
          <p:cNvGraphicFramePr/>
          <p:nvPr/>
        </p:nvGraphicFramePr>
        <p:xfrm>
          <a:off x="533520" y="1442880"/>
          <a:ext cx="7694640" cy="494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Diagram of use of internet in the ecology of medical car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2880"/>
                    <a:ext cx="7694640" cy="49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4"/>
          <p:cNvSpPr/>
          <p:nvPr/>
        </p:nvSpPr>
        <p:spPr>
          <a:xfrm>
            <a:off x="1752480" y="6400800"/>
            <a:ext cx="678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 et al. The Ecology of Medical Care Revisited. NEJM; 344:2021-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98108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"/>
          <p:cNvSpPr/>
          <p:nvPr/>
        </p:nvSpPr>
        <p:spPr>
          <a:xfrm flipV="1">
            <a:off x="3962520" y="25146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396252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w Internet Project Data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. Google Phenomenon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consumers go online for health info than see a doc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 consumers do when their physicians tell them to stop going onlin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witch doc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 undergr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arallel Play”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3" descr="boy smiling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457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arallel Play”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Line 3"/>
          <p:cNvSpPr/>
          <p:nvPr/>
        </p:nvSpPr>
        <p:spPr>
          <a:xfrm flipH="1">
            <a:off x="2666880" y="1066680"/>
            <a:ext cx="533520" cy="5335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6095880" y="1066680"/>
            <a:ext cx="533520" cy="5335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04920" y="16002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80880" y="1600200"/>
            <a:ext cx="3962520" cy="2875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MD’s OFF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arch: Patients recall only 20%-50% of what MDs tell them 5 minutes after the fact (Eiser, 19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724280" y="1600200"/>
            <a:ext cx="4038840" cy="3124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WHERE EL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led web of health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 is har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ind (relative to ne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xtu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752480" y="556272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x: Bring Two World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2286000" y="4343400"/>
            <a:ext cx="1676520" cy="12193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 flipH="1">
            <a:off x="5334120" y="4724280"/>
            <a:ext cx="1676160" cy="838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DO WE HARNESS INFORMATION T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CTIVATE CONSUMERS?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52280" y="2133720"/>
            <a:ext cx="1390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447920" y="3200400"/>
            <a:ext cx="3657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FORM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1" name="WordArt 5"/>
          <p:cNvSpPr txBox="1"/>
          <p:nvPr/>
        </p:nvSpPr>
        <p:spPr>
          <a:xfrm>
            <a:off x="2895480" y="4495680"/>
            <a:ext cx="3305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NOWLED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4419720" y="5867280"/>
            <a:ext cx="2685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HAVI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380880" y="2895480"/>
            <a:ext cx="91440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752480" y="3962520"/>
            <a:ext cx="99072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3352680" y="5257800"/>
            <a:ext cx="99072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ntegrating Best of Science into Information Democratiz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Content Placeholder 3" descr=""/>
          <p:cNvPicPr/>
          <p:nvPr/>
        </p:nvPicPr>
        <p:blipFill>
          <a:blip r:embed="rId1"/>
          <a:stretch/>
        </p:blipFill>
        <p:spPr>
          <a:xfrm>
            <a:off x="2127240" y="4108320"/>
            <a:ext cx="4664160" cy="2756160"/>
          </a:xfrm>
          <a:prstGeom prst="rect">
            <a:avLst/>
          </a:prstGeom>
          <a:ln w="0">
            <a:noFill/>
          </a:ln>
        </p:spPr>
      </p:pic>
      <p:sp>
        <p:nvSpPr>
          <p:cNvPr id="208" name="Left Arrow 4"/>
          <p:cNvSpPr/>
          <p:nvPr/>
        </p:nvSpPr>
        <p:spPr>
          <a:xfrm rot="11700000">
            <a:off x="2277720" y="4349160"/>
            <a:ext cx="1320840" cy="703080"/>
          </a:xfrm>
          <a:prstGeom prst="leftArrow">
            <a:avLst>
              <a:gd name="adj1" fmla="val 60000"/>
              <a:gd name="adj2" fmla="val 50010"/>
            </a:avLst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195120" y="4260960"/>
            <a:ext cx="2346480" cy="1876320"/>
            <a:chOff x="195120" y="4260960"/>
            <a:chExt cx="2346480" cy="1876320"/>
          </a:xfrm>
        </p:grpSpPr>
        <p:sp>
          <p:nvSpPr>
            <p:cNvPr id="210" name="Rounded Rectangle 6"/>
            <p:cNvSpPr/>
            <p:nvPr/>
          </p:nvSpPr>
          <p:spPr>
            <a:xfrm>
              <a:off x="195120" y="4260960"/>
              <a:ext cx="2346480" cy="187632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ounded Rectangle 5"/>
            <p:cNvSpPr/>
            <p:nvPr/>
          </p:nvSpPr>
          <p:spPr>
            <a:xfrm>
              <a:off x="250560" y="4316400"/>
              <a:ext cx="2235600" cy="17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72360" bIns="7236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en-US" sz="3800" spc="-1" strike="noStrike">
                  <a:solidFill>
                    <a:srgbClr val="ffffff"/>
                  </a:solidFill>
                  <a:latin typeface="Calibri"/>
                </a:rPr>
                <a:t>Decision Sciences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eft Arrow 8"/>
          <p:cNvSpPr/>
          <p:nvPr/>
        </p:nvSpPr>
        <p:spPr>
          <a:xfrm rot="14700000">
            <a:off x="2720880" y="3585600"/>
            <a:ext cx="1973160" cy="703440"/>
          </a:xfrm>
          <a:prstGeom prst="leftArrow">
            <a:avLst>
              <a:gd name="adj1" fmla="val 60000"/>
              <a:gd name="adj2" fmla="val 49984"/>
            </a:avLst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9"/>
          <p:cNvGrpSpPr/>
          <p:nvPr/>
        </p:nvGrpSpPr>
        <p:grpSpPr>
          <a:xfrm>
            <a:off x="1432080" y="1649520"/>
            <a:ext cx="2346120" cy="1876320"/>
            <a:chOff x="1432080" y="1649520"/>
            <a:chExt cx="2346120" cy="1876320"/>
          </a:xfrm>
        </p:grpSpPr>
        <p:sp>
          <p:nvSpPr>
            <p:cNvPr id="214" name="Rounded Rectangle 10"/>
            <p:cNvSpPr/>
            <p:nvPr/>
          </p:nvSpPr>
          <p:spPr>
            <a:xfrm>
              <a:off x="1432080" y="1649520"/>
              <a:ext cx="2346120" cy="187632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ounded Rectangle 5"/>
            <p:cNvSpPr/>
            <p:nvPr/>
          </p:nvSpPr>
          <p:spPr>
            <a:xfrm>
              <a:off x="1487520" y="1704960"/>
              <a:ext cx="2235240" cy="17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72360" bIns="7236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en-US" sz="3800" spc="-1" strike="noStrike">
                  <a:solidFill>
                    <a:srgbClr val="ffffff"/>
                  </a:solidFill>
                  <a:latin typeface="Calibri"/>
                </a:rPr>
                <a:t>Evidence-Based Medicine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Left Arrow 12"/>
          <p:cNvSpPr/>
          <p:nvPr/>
        </p:nvSpPr>
        <p:spPr>
          <a:xfrm rot="17700000">
            <a:off x="4397040" y="3433680"/>
            <a:ext cx="1973520" cy="703080"/>
          </a:xfrm>
          <a:prstGeom prst="leftArrow">
            <a:avLst>
              <a:gd name="adj1" fmla="val 60000"/>
              <a:gd name="adj2" fmla="val 50018"/>
            </a:avLst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3"/>
          <p:cNvGrpSpPr/>
          <p:nvPr/>
        </p:nvGrpSpPr>
        <p:grpSpPr>
          <a:xfrm>
            <a:off x="5029200" y="1676520"/>
            <a:ext cx="2344680" cy="1876320"/>
            <a:chOff x="5029200" y="1676520"/>
            <a:chExt cx="2344680" cy="1876320"/>
          </a:xfrm>
        </p:grpSpPr>
        <p:sp>
          <p:nvSpPr>
            <p:cNvPr id="218" name="Rounded Rectangle 16"/>
            <p:cNvSpPr/>
            <p:nvPr/>
          </p:nvSpPr>
          <p:spPr>
            <a:xfrm>
              <a:off x="5029200" y="1676520"/>
              <a:ext cx="2344680" cy="187632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ounded Rectangle 5"/>
            <p:cNvSpPr/>
            <p:nvPr/>
          </p:nvSpPr>
          <p:spPr>
            <a:xfrm>
              <a:off x="5084640" y="1731960"/>
              <a:ext cx="2233800" cy="16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72360" bIns="7236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en-US" sz="3800" spc="-1" strike="noStrike">
                  <a:solidFill>
                    <a:srgbClr val="ffffff"/>
                  </a:solidFill>
                  <a:latin typeface="Calibri"/>
                </a:rPr>
                <a:t>Behavior Change Sciences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eft Arrow 18"/>
          <p:cNvSpPr/>
          <p:nvPr/>
        </p:nvSpPr>
        <p:spPr>
          <a:xfrm rot="20700000">
            <a:off x="5816520" y="4425480"/>
            <a:ext cx="1320840" cy="703440"/>
          </a:xfrm>
          <a:prstGeom prst="leftArrow">
            <a:avLst>
              <a:gd name="adj1" fmla="val 60000"/>
              <a:gd name="adj2" fmla="val 49985"/>
            </a:avLst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9"/>
          <p:cNvGrpSpPr/>
          <p:nvPr/>
        </p:nvGrpSpPr>
        <p:grpSpPr>
          <a:xfrm>
            <a:off x="6799320" y="3651120"/>
            <a:ext cx="2344680" cy="1876680"/>
            <a:chOff x="6799320" y="3651120"/>
            <a:chExt cx="2344680" cy="1876680"/>
          </a:xfrm>
        </p:grpSpPr>
        <p:sp>
          <p:nvSpPr>
            <p:cNvPr id="222" name="Rounded Rectangle 20"/>
            <p:cNvSpPr/>
            <p:nvPr/>
          </p:nvSpPr>
          <p:spPr>
            <a:xfrm>
              <a:off x="6799320" y="3651120"/>
              <a:ext cx="2344680" cy="18766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ounded Rectangle 5"/>
            <p:cNvSpPr/>
            <p:nvPr/>
          </p:nvSpPr>
          <p:spPr>
            <a:xfrm>
              <a:off x="6854760" y="3706560"/>
              <a:ext cx="2233800" cy="17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72360" bIns="7236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en-US" sz="3800" spc="-1" strike="noStrike">
                  <a:solidFill>
                    <a:srgbClr val="ffffff"/>
                  </a:solidFill>
                  <a:latin typeface="Calibri"/>
                </a:rPr>
                <a:t>Predictive Modeling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Triggers: Delivering th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90720" y="2362320"/>
            <a:ext cx="7162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09120" y="2209680"/>
            <a:ext cx="31244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MR/PH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aims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ient port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ure messag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-prescrib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PO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ll cen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9520" y="2209320"/>
            <a:ext cx="48769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utomated lab resul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utomated pharmacy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pointment Schedu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utomated referral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line multimedia clinical cont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20:46:53Z</dcterms:created>
  <dc:creator>Administratr</dc:creator>
  <dc:description/>
  <dc:language>en-US</dc:language>
  <cp:lastModifiedBy> </cp:lastModifiedBy>
  <dcterms:modified xsi:type="dcterms:W3CDTF">2010-03-02T15:47:53Z</dcterms:modified>
  <cp:revision>70</cp:revision>
  <dc:subject/>
  <dc:title>Slide 1</dc:title>
</cp:coreProperties>
</file>