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274800" y="889668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FD09A9-EDB2-442C-9C98-DA243EB71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4AB-EAF6-4771-BE8F-3A135AC0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3BD-D8C1-4A58-939A-D7732ABF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787-56E6-47E8-BB65-DAFF7F11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A50-5979-426F-841E-060E37E1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C45-9F30-414C-A1F4-8EF69629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02AA-CC6A-4D85-A2FD-F7065D33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D047-7DF7-4A78-9EDC-DAC29824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EADE-3ED9-4326-9F2C-4C090AB5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C240-48CD-4193-8F06-1E69DE3D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399D-889B-4A2B-9D83-413022F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A83-8D1B-4007-85ED-4F511AB0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49C6-09EC-446A-92B8-B0C239CB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552C-6E9C-41BE-BEF1-06CCA4FC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BD1F-9579-4E80-BD62-139367CC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E8F-414D-4273-BA78-618BBE0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95F9-EAC6-432C-9123-0BE167B4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B0CD-1CDD-4F93-945C-F9343B18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C299-D186-4EAD-B51B-7BEB0E0C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96E-38DA-46BF-A712-F29D3486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B51-DC8E-42BA-A3F9-FE73EA43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E2E-BA64-48AC-878A-99228920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448-CDCA-4411-A178-79C43A0E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FC1-9583-42F9-93FF-2859C7C3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C67-8110-4C4B-BFB6-BD5F7034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14E-99C2-4688-A374-3BEE17D4A3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9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3F50-208D-49B2-B030-2FEC77D262BE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7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0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1847-18F2-4CC5-B911-594CE3194705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8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1BFB-1813-405F-8A6A-E43C530AD7E6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9898-0D5C-4986-919B-5EDCE22741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3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8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14EA-D6EE-4ECD-8DCA-F9F20D62127C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Cancer Consortiu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8500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orah Schrag, MD (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rice Christian Greenberg, MD,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gham and Women’s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a-Farber Cancer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1: Identifying Options for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ntification of prospective drugs, devices and diagnostics for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-risk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ugs that build to high-volume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ose that are more expensive than alter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prospective datasets for examination of these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refinement of reporting format that is most conducive to stakeholder uptake of analysi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1: Identifying Options for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prospective drugs, devices and diagnostics for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ntification of prospective datasets for examination of these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ER-Medi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C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rolina Mammography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refinement of reporting format that is most conducive to stakeholder uptake of analysi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1: Identifying Options for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prospective drugs, devices and diagnostics for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prospective datasets for examination of thes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velopment and refinement of reporting format that is most conducive to stakeholder uptake of analysi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l-time reports (ongoing monitor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nal reports (drug effectiveness revie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2: Topic Generation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 Analy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in terms of number of lives with special consideration of the impact for federal programs Medicare and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 in terms of data sources available within rapid time frame of DEcIDE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’s own level of interest, expertise and enthusiasm for conducting these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2: Topic Generation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 Analy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potential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MWH v. Coumadin to prevent recurrent VTE for advanced cancer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prevention of Breast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treatment, Tamoxifen, Raloxifene, Letro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-CSF v. no G-CSF for prophylaxis against febrile neutropenia that are moderately myelosup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2: Topic Generation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 Analy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topics gene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 cessation trea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technologies for breast cancer screening (mammogram v. MR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chytherapy v. standard v. proton beam radiation for prostate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yprexa for palliation of symptoms at the close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keholder Support and Mee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in Objecti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nd convene a stakeholder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research protocol concepts for the highest impact areas to be addressed in cancer 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keholder Committe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5056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, 2009  - Kick-off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e the constit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proposed role in future C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 and prioritize proposed research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, 2010 – Follow-up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and refine proposed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op priority areas for CER by consort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 will allow ongoing collaboration and continuous interfacing with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keholder Examples - 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A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ancer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Diseas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Medicare and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 Cross/Blue Sh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Corporation of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cer Research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Health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y Cancer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4 million new cancer cases in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6,000 cancer de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cer treatment ~5% national health expendi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 in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efficacy trials can lead to FDA approval of new agents with uncertain effectiveness in the broad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interventions are evaluated with R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keholder Examples - 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ancer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ociety of Clinical On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ollege of Surg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ety of Surgical On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ociety of Therapeutic Radiation and On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ology Nursing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ociety for Clinical Pa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 for Develop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 1: Prioritized list of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d at the Stakeholder Meeting #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 2: Project propo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riority topic will be developed into a 1 page summary by the study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for feedback at Stakeholder Meeting #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 3: Research protocol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liver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 Protocol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develop scientific evidence that will meet the needs of defined stakeholders for decision making, whether at the patient, clinician or policy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ted to AHRQ for peer review and potentially public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o be carried out by the Consortium, other DEcIDE Centers or through other AHRQ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Go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993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move from the evidence base provided by efficacy trials to “non-trial” cancer popu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xpertise in and advance the development of CER 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stakeholder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 AHRQ and policymakers in prioritizing cancer-related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371600" y="23623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371600" y="44197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724280" y="23623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724280" y="434340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276720" y="3352680"/>
            <a:ext cx="2057400" cy="1692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HR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WH/DF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ortium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cer Consortiu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ng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gham and Women’s Hospital and the Dana-Farber Cancer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orah Schrag, CAN DEcIDE 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stian Schneeweiss, DEcIDE 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rice Greenberg MD, Lead Stakeholde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iliat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North Carol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ael Murray, DEcIDE 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Carpenter, PhD, CAN DEcIDE P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rrent Work Assignm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hemotherapy for stage III/IV colorectal cancer in diverse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Analytic Briefs for Supporting Comparative Effectiveness Research and Systematic Reviews 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takeholder Support and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Biologic therapy in colorectal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Anticoagulation for Venous Thromboembolic Events in Patients with Canc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rrent Work Assignm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hemotherapy for stage III/IV colorectal cancer in diverse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Analytic Briefs for Supporting CER and Systematic Reviews 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. Stakeholder Support and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Biologic therapy in colorectal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Anticoagulation for Venous Thromboembolic Events in Patients with Canc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403848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alytic Briefs for Supporting Comparative Effectiveness Research and Systematic Reviews in Cance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1: Identifying Options for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prospective drugs, devices and diagnostics for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prospective datasets for examination of thes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and refinement of reporting format that is most conducive to stakeholder uptake of analysi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12:49Z</dcterms:created>
  <dc:creator>Scott R. Smith, PhD</dc:creator>
  <dc:description>January 2009</dc:description>
  <cp:keywords/>
  <dc:language>en-US</dc:language>
  <cp:lastModifiedBy>Graham</cp:lastModifiedBy>
  <cp:lastPrinted>2003-01-21T20:19:23Z</cp:lastPrinted>
  <dcterms:modified xsi:type="dcterms:W3CDTF">2009-10-20T17:11:55Z</dcterms:modified>
  <cp:revision>80</cp:revision>
  <dc:subject/>
  <dc:title>DEcIDE Program Update for Stakeholder Mtg</dc:title>
</cp:coreProperties>
</file>