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6274800" y="889668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3EB1E0-AD32-4092-811E-DC64A86BD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4AA-FEB2-4448-B71C-C462F910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52C-5F5F-42A7-A087-F58F539E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8CD-5D5D-4BE8-A17A-FD7B072B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93C-7A63-49A1-BC4A-245B34CA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90C-07E6-4A3F-AA57-652D4A27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FDE5-6748-4D01-9F6C-A3C730EA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9364-5C69-4622-9B2F-4E38D1B4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AD22-9807-4F35-9FC2-9091383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1FCA-10DA-489D-9A82-BA8674B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693E-C8CC-469D-9886-707B84BC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AF0-D4B2-45B9-BE1B-2ECB9240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4C7C-247C-4149-A460-354E0AD6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6BB8-AFE6-49AC-8BF2-1D0574F1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81E5-2759-4D78-96E4-A3806A5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20CD-9AD8-4E76-8B04-FB1DD3EC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D59D-4C65-4F8C-AE66-7AB5004E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2DCB-2BE8-49CA-AE94-6B1748D7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2851-503E-445D-B851-9532C587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F32-5298-4825-896D-BB594D9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9B4-2891-4604-A4E1-88D71CAC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CBE-E256-45E2-B3BA-2C0678A8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08F-5F4A-4635-B57E-E02FCF47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F47-2C5A-4D7B-9142-7F19E70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608-4422-46A5-8F51-672AF650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99AF-8034-418A-98BF-2FBC9E4AAF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9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69A3-D981-4F9E-AAB7-41D0EFC20277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7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0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1862-8C75-4F02-8329-BDDC74381787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8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CCB3-309B-481B-811A-898F0ABFD44A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54C5-2963-436D-BC71-39D73F8755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3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8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51D8-E352-4358-BA0F-45D83BB88013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Cancer Consortiu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8500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orah Schrag, MD (P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rice Christian Greenberg, MD,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gham and Women’s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a-Farber Cancer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1: Identifying Options for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ntification of prospective drugs, devices and diagnostics for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gh-risk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ugs that build to high-volume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ose that are more expensive than alter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prospective datasets for examination of these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refinement of reporting format that is most conducive to stakeholder uptake of analysi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1: Identifying Options for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prospective drugs, devices and diagnostics for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ntification of prospective datasets for examination of these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ER-Medi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C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rolina Mammography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refinement of reporting format that is most conducive to stakeholder uptake of analysi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1: Identifying Options for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prospective drugs, devices and diagnostics for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prospective datasets for examination of thes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velopment and refinement of reporting format that is most conducive to stakeholder uptake of analysi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l-time reports (ongoing monitor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nal reports (drug effectiveness revie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2: Topic Generation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 Analy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in terms of number of lives with special consideration of the impact for federal programs Medicare and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 in terms of data sources available within rapid time frame of DEcIDE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’s own level of interest, expertise and enthusiasm for conducting these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2: Topic Generation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 Analy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potential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MWH v. Coumadin to prevent recurrent VTE for advanced cancer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prevention of Breast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treatment, Tamoxifen, Raloxifene, Letro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-CSF v. no G-CSF for prophylaxis against febrile neutropenia that are moderately myelosup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2: Topic Generation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 Analy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topics gene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oking cessation trea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technologies for breast cancer screening (mammogram v. MR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chytherapy v. standard v. proton beam radiation for prostate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yprexa for palliation of symptoms at the close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keholder Support and Mee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in Objecti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nd convene a stakeholder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research protocol concepts for the highest impact areas to be addressed in cancer 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keholder Committe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5056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, 2009  - Kick-off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e the constit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proposed role in future C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 and prioritize proposed research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, 2010 – Follow-up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and refine proposed top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op priority areas for CER by consort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 will allow ongoing collaboration and continuous interfacing with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keholder Examples - 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A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ancer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Diseas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Medicare and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 Cross/Blue Sh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Corporation of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cer Research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Health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y Cancer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4 million new cancer cases in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6,000 cancer de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cer treatment ~5% national health expendi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 in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efficacy trials can lead to FDA approval of new agents with uncertain effectiveness in the broad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interventions are evaluated with R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keholder Examples - 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ancer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ociety of Clinical On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College of Surg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ety of Surgical On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ociety of Therapeutic Radiation and On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ology Nursing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ociety for Clinical Pa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 for Develop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 1: Prioritized list of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d at the Stakeholder Meeting #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 2: Project propo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riority topic will be developed into a 1 page summary by the study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d for feedback at Stakeholder Meeting #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 3: Research protocol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liver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 Protocol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develop scientific evidence that will meet the needs of defined stakeholders for decision making, whether at the patient, clinician or policy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ted to AHRQ for peer review and potentially public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o be carried out by the Consortium, other DEcIDE Centers or through other AHRQ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Go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993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move from the evidence base provided by efficacy trials to “non-trial” cancer popu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xpertise in and advance the development of CER 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stakeholder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 AHRQ and policymakers in prioritizing cancer-related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371600" y="23623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371600" y="44197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724280" y="236232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724280" y="4343400"/>
            <a:ext cx="259092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276720" y="3352680"/>
            <a:ext cx="2057400" cy="1692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HR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WH/DF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ortium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cer Consortiu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ng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gham and Women’s Hospital and the Dana-Farber Cancer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orah Schrag, CAN DEcIDE 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stian Schneeweiss, DEcIDE 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rice Greenberg MD, Lead Stakeholde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iliat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of North Carol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ael Murray, DEcIDE 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-289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Carpenter, PhD, CAN DEcIDE P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2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rrent Work Assignm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hemotherapy for stage III/IV colorectal cancer in diverse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Analytic Briefs for Supporting Comparative Effectiveness Research and Systematic Reviews 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takeholder Support and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Biologic therapy in colorectal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Anticoagulation for Venous Thromboembolic Events in Patients with Canc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rrent Work Assignm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hemotherapy for stage III/IV colorectal cancer in diverse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Analytic Briefs for Supporting CER and Systematic Reviews in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3. Stakeholder Support and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Biologic therapy in colorectal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Anticoagulation for Venous Thromboembolic Events in Patients with Canc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403848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alytic Briefs for Supporting Comparative Effectiveness Research and Systematic Reviews in Cance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1: Identifying Options for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prospective drugs, devices and diagnostics for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prospective datasets for examination of thes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and refinement of reporting format that is most conducive to stakeholder uptake of analysi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12:49Z</dcterms:created>
  <dc:creator>Scott R. Smith, PhD</dc:creator>
  <dc:description>January 2009</dc:description>
  <cp:keywords/>
  <dc:language>en-US</dc:language>
  <cp:lastModifiedBy>Graham</cp:lastModifiedBy>
  <cp:lastPrinted>2003-01-21T20:19:23Z</cp:lastPrinted>
  <dcterms:modified xsi:type="dcterms:W3CDTF">2009-10-20T17:11:55Z</dcterms:modified>
  <cp:revision>80</cp:revision>
  <dc:subject/>
  <dc:title>DEcIDE Program Update for Stakeholder Mtg</dc:title>
</cp:coreProperties>
</file>