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93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94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Line 95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01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4" name="Line 102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Line 103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6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mployment Sorting by Size: The Role of Health Insuran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50560" y="3962520"/>
            <a:ext cx="643572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371600" y="486576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n Liang and Barbara Sc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PS Full Year Data from 2002-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Employed Persons Aged 21-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 = 14,1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are weighted and adjust for the complex survey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easuring BMI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self-reported height and weight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Weight Catego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derweight (BMI &lt; 18.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rmal (18.5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≤ BMI &lt; 2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verweight (25 ≤ BMI &lt; 3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bese (BMI ≥ 3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Key Dependent Variab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ther a worker is offered insurance from his main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ther a worker is employed in a small fi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firm size = 25 for main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report establishment, not firm s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establishment size and whether a firm has multi-establishments to derive a conservative measure of small fi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escriptive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09480" y="1676520"/>
          <a:ext cx="8031240" cy="4432320"/>
        </p:xfrm>
        <a:graphic>
          <a:graphicData uri="http://schemas.openxmlformats.org/drawingml/2006/table">
            <a:tbl>
              <a:tblPr/>
              <a:tblGrid>
                <a:gridCol w="1598760"/>
                <a:gridCol w="1598760"/>
                <a:gridCol w="117360"/>
                <a:gridCol w="1519200"/>
                <a:gridCol w="1598760"/>
                <a:gridCol w="1598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weigh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al Weigh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weigh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e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3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ortion of Workers Employed in a Small Fir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Work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m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8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.5*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5.5*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7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ortion of Workers Offered Employment-Based Insu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Work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m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63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1dc00"/>
                          </a:solidFill>
                          <a:latin typeface="Arial"/>
                        </a:rPr>
                        <a:t>72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.2**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70.2**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1dc00"/>
                          </a:solidFill>
                          <a:latin typeface="Arial"/>
                        </a:rPr>
                        <a:t>75.5*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eractions between Firm Size and Off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676520"/>
          <a:ext cx="8534160" cy="4987800"/>
        </p:xfrm>
        <a:graphic>
          <a:graphicData uri="http://schemas.openxmlformats.org/drawingml/2006/table">
            <a:tbl>
              <a:tblPr/>
              <a:tblGrid>
                <a:gridCol w="1904760"/>
                <a:gridCol w="1508400"/>
                <a:gridCol w="1707840"/>
                <a:gridCol w="1706760"/>
                <a:gridCol w="1706400"/>
              </a:tblGrid>
              <a:tr h="89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all Firm &amp; Offer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all Firm &amp; No Off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rge Firm &amp; Offer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rge Firm &amp; No Off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weigh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weigh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e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21.2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1.2**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1dc00"/>
                          </a:solidFill>
                          <a:latin typeface="Arial"/>
                        </a:rPr>
                        <a:t>49.0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1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m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weigh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weigh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e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6.3*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1dc00"/>
                          </a:solidFill>
                          <a:latin typeface="Arial"/>
                        </a:rPr>
                        <a:t>56.5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Key Patter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ive to Normal Weight Pers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ese women are less likely to work in a small fi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ese workers are more likely to be offered insu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ese workers are more likely to work in a large firm that offers insu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ese men are more likely to work in a small firm that offers insurance (p &lt; .1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ultivariate Analysi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it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ing employed in a small fi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ing employed in a firm that offers insu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nomial Logit with 4 Outcom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all firm &amp; offe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all firm &amp; not offe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rge firm &amp; offe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rge firm &amp; not offe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all and by Ge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s include sex, age, race/ethnicity, education, children, health status, region, MSA, unemployment, year dumm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ogit Results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dds Ratio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09480" y="1676520"/>
          <a:ext cx="7993080" cy="5113080"/>
        </p:xfrm>
        <a:graphic>
          <a:graphicData uri="http://schemas.openxmlformats.org/drawingml/2006/table">
            <a:tbl>
              <a:tblPr/>
              <a:tblGrid>
                <a:gridCol w="2664000"/>
                <a:gridCol w="2665440"/>
                <a:gridCol w="266364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 (Small Firm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 (Offered HI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: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weigh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weigh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e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74**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.87*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5*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1.37**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n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weigh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weigh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e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1.40**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men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weigh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weigh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e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82**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5**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.85**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8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1.34**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ultinomial Logit Results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dds Ratio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09480" y="1676520"/>
          <a:ext cx="7993080" cy="4876560"/>
        </p:xfrm>
        <a:graphic>
          <a:graphicData uri="http://schemas.openxmlformats.org/drawingml/2006/table">
            <a:tbl>
              <a:tblPr/>
              <a:tblGrid>
                <a:gridCol w="2819520"/>
                <a:gridCol w="1905120"/>
                <a:gridCol w="1752480"/>
                <a:gridCol w="1515960"/>
              </a:tblGrid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weigh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weigh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e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:  Large/Off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rge/No Off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all/Off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all/No Off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5**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59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5*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.82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.71**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:  Large/No Off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all/Off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all/No Off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7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:  Small/Off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all/No Off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0.70**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Key Findings from Log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ese workers are (relative to normal weight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likely to work in a small fi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likely to work in a firm that offers insu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firm result is not statistically significant for 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weight workers are (relative to normal weight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likely to work in a small fi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likely to work in a firm that offers insu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statistically significant for 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oals of Our Analysi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add to the literature on the labor market effects of obe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nvestigate whether obesity has an impact on worker s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types of sorting of key interes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rting by firm s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rting by insurance availability at a j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similar approach to Kapur et al. (200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ultinomial Logit Finding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4640" indent="-40464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ve to normal weight, obe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49240" indent="-3448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ers are less likely to be in a small firm without insurance than a small firm with insu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492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49240" indent="-3448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ers are less likely to be in a large firm without insurance than a large firm with insu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492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49240" indent="-3448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ers are less likely to be in a small firm without insurance than a large firm with insurance offe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lic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799308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ms that offer insurance are not avoiding obese wo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mand effects outweigh supply effects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be there is a full wage off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tatistically significant evidence that small firms are avoiding obese workers (with or without insurance being offer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en by women more than 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ld we observing behavior driven by normal weight workers rather than obese or overweight worker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levanc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iciency of labor mar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iciency of health insu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uture Step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married workers as an additional control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obesity effects to unobservable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 hires of workers and worker sepa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Policy Relevance of Obesit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rding to the CDC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≈ 34% of all adults are obese (2005 – 200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besity is correlated with a number of serious health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pected medical expenses are higher for obese individu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easuring Obes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Body Mass Index (BM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MI = Weight (lb)/Heigh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in)  x 7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MI is correlated with body fat (but not perfect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Do We Know about Labor Market Outcomes &amp; Obesity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evidence that obesity adversely affects w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xed evidence that employment is aff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esity may adversely affect worker produ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evidence of discrimination against obese wo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of the effects vary across men and wo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4674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ow Might Weight Affect Sorting across Firms for Insurance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higher expected medical costs, obese workers might have greater demand for insu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er expected medical costs might lead firms to avoid obese workers since obesity is observable (if there are no full wage offse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al weight people might find insurance less attractive and have reduced dem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 Effect:  Insurance coverage could either increase or decrease for obese work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ow Might Weight Affect Sorting across Firms by Firm Size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bsenteeism is higher for obese workers, smaller firms might have a harder time adjusting to absenteeism and may be more inclined to avoid obese wo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ese workers may be more attracted to firms with generous benefits (e.g., sick leave) and may be more inclined to work in large firms as a res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 Effect:  Obese workers are expected to be more likely to be employed in large fi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Interaction of Firm Size and Insuran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firms will also be more attractive because they are more likely to offer insu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e to greater risk-pooling opportunities, an obese worker will have a smaller effect on the pool in a large firm than a small fi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 Effects:  Conditional on offering insurance, obese workers may be more likely to be employed in large fi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pecific Research Ques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es weight affect the likelihood of being employed in a small fir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es weight affect the likelihood of being employed in a job that offers insura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weight affect the interaction effects of being in a small firm and being offered insura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the patterns differ between men and wom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3:29:23Z</dcterms:created>
  <dc:creator>Schone</dc:creator>
  <dc:description>6/24/04</dc:description>
  <cp:keywords/>
  <dc:language>en-US</dc:language>
  <cp:lastModifiedBy>cglenden</cp:lastModifiedBy>
  <cp:lastPrinted>2003-01-21T20:19:23Z</cp:lastPrinted>
  <dcterms:modified xsi:type="dcterms:W3CDTF">2009-10-28T14:49:04Z</dcterms:modified>
  <cp:revision>116</cp:revision>
  <dc:subject/>
  <dc:title>Employment Sorting by Size: The Role of Health Insurance</dc:title>
</cp:coreProperties>
</file>