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C8F-C2E4-49B3-91F2-44066F3D6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A3AB-961A-4396-A3C0-E87416A71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5817-0C20-4237-8041-63A73B73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7E3C-F0F6-4566-8321-F8C7E0EF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19C1-70A7-449A-9254-AF4A918A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AF40-2A4B-4F64-8111-F734EF17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D527F-7825-48F9-876B-76127C0D0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1F4-AA6C-470A-B602-DD65E78F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F5DC-5740-43E9-8A3E-5C5C7009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CA2-72B1-4960-93C5-F070ACD4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B90-1883-464B-A422-41789A69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14680"/>
            <a:ext cx="5137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33A6-58E9-4E38-855E-D091A366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8ABB-AA1A-4E0D-8355-98899FE7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1E9-910E-42B3-8769-E5EEC8E3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84F-C264-4A8F-99AE-A6A8038A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BA57-3EF5-4743-977B-F45EF4CE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908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F88-6BA5-43D2-82BF-B6A2DB47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22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100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00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New normal slide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8567640" y="6400800"/>
            <a:ext cx="5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E10C-1D20-4A17-803A-6D831D0EDF1A}" type="slidenum">
              <a:rPr b="1" lang="en-US" sz="1400" spc="-1" strike="noStrike">
                <a:solidFill>
                  <a:srgbClr val="bfb6ae"/>
                </a:solidFill>
                <a:latin typeface="Century Gothic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1828800" y="630396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HRQ Research Con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9/15/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title slide buff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scholle@ncqa.org" TargetMode="External"/><Relationship Id="rId2" Type="http://schemas.openxmlformats.org/officeDocument/2006/relationships/hyperlink" Target="http://www.ncqa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72760"/>
            <a:ext cx="914400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Using Patient Experiences Surveys in Health Plan and Practice Evaluation </a:t>
            </a:r>
            <a:br>
              <a:rPr sz="3200"/>
            </a:br>
            <a:r>
              <a:rPr b="1" lang="en-US" sz="2400" spc="-1" strike="noStrike">
                <a:solidFill>
                  <a:srgbClr val="3e647e"/>
                </a:solidFill>
                <a:latin typeface="Century Gothic"/>
              </a:rPr>
              <a:t>Sarah Hudson Scholle</a:t>
            </a:r>
            <a:br>
              <a:rPr sz="2400"/>
            </a:br>
            <a:r>
              <a:rPr b="1" lang="en-US" sz="2400" spc="-1" strike="noStrike">
                <a:solidFill>
                  <a:srgbClr val="3e647e"/>
                </a:solidFill>
                <a:latin typeface="Century Gothic"/>
              </a:rPr>
              <a:t>Assistant Vice President, Research</a:t>
            </a:r>
            <a:endParaRPr b="1" lang="en-US" sz="24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647e"/>
                </a:solidFill>
                <a:latin typeface="Century Gothic"/>
              </a:rPr>
              <a:t>AHRQ 2009 Conference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647e"/>
                </a:solidFill>
                <a:latin typeface="Century Gothic"/>
              </a:rPr>
              <a:t>September 15, 2009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Theoretical Frameworks Informing 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Development of PPC-PCMH</a:t>
            </a:r>
            <a:br>
              <a:rPr sz="3200"/>
            </a:br>
            <a:r>
              <a:rPr b="1" lang="en-US" sz="1600" spc="-1" strike="noStrike">
                <a:solidFill>
                  <a:srgbClr val="3e647e"/>
                </a:solidFill>
                <a:latin typeface="Century Gothic"/>
              </a:rPr>
              <a:t>Based on best available empiric evidence in each area and on testing of reliability and validity of elements in field tests using on site audit as “gold” standard </a:t>
            </a:r>
            <a:endParaRPr b="1" lang="en-US" sz="1600" spc="-1" strike="noStrike">
              <a:solidFill>
                <a:srgbClr val="3e647e"/>
              </a:solidFill>
              <a:latin typeface="Century Gothic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630440"/>
          <a:ext cx="8839440" cy="408924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1905120"/>
                <a:gridCol w="2133720"/>
              </a:tblGrid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onic Ca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Center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ural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ete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l Ho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information System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sion Suppo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Self-Manag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ivery System Redesig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Linkag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lth System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Patient Valu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ssibl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ily-Center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ou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rdinat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Linkag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ssionat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urally Appropriat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tional Support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 and Education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Comfo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Improvement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urally competent interac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 servic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ing disparit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al physici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ian directed tea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ole person orient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e is coordinated and integra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and safe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hanced acces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6"/>
          <p:cNvSpPr/>
          <p:nvPr/>
        </p:nvSpPr>
        <p:spPr>
          <a:xfrm>
            <a:off x="0" y="5638680"/>
            <a:ext cx="9144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C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contact-comprehensive-continuous-coord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Adapting PPC for the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Patient-Centered Medical Home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ew PPC-PCMH version released in January 2008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ligned standards with Joint Princip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corporated critical attributes of PCMH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ed foundational elements (“must pass” requirements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PC-PCMH endorsed by ACP, AAFP, AAP, AOA, other specialties and PCPCC for use in demo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5105520"/>
            <a:ext cx="7848360" cy="914400"/>
          </a:xfrm>
          <a:prstGeom prst="rect">
            <a:avLst/>
          </a:prstGeom>
          <a:solidFill>
            <a:srgbClr val="f1a7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dorsed by National Quality Forum Sept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as “Medical Home System Survey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PPC-PCMH Content and Scoring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615960"/>
          <a:ext cx="4496040" cy="5573880"/>
        </p:xfrm>
        <a:graphic>
          <a:graphicData uri="http://schemas.openxmlformats.org/drawingml/2006/table">
            <a:tbl>
              <a:tblPr/>
              <a:tblGrid>
                <a:gridCol w="4114800"/>
                <a:gridCol w="381240"/>
              </a:tblGrid>
              <a:tr h="84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1: Access and Commun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written standards for patient access and patient communication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data to show it meets its standards for patient access and communication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2: Patient Tracking and Registry Functio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data system for basic patient information (mostly non-clinical data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clinical data system with clinical data in searchable data field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the clinical data system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paper or electronic-based charting tools to organize clinical information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data to identify important diagnoses and conditions in practi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enerates lists of patients and reminds patients and clinicians of services needed (population management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3: Care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dopts and implements evidence-based guidelines for three conditions 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enerates reminders about preventive services for clinicia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non-physician staff to manage patient care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ducts care management, including care plans, assessing progress, addressing barrier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ordinates care//follow-up for patients who receive care in inpatient and outpatient facilitie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4: Patient Self-Management Support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esses language preference and other communication barri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vely supports patient self-management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24280" y="609480"/>
          <a:ext cx="4267440" cy="5734080"/>
        </p:xfrm>
        <a:graphic>
          <a:graphicData uri="http://schemas.openxmlformats.org/drawingml/2006/table">
            <a:tbl>
              <a:tblPr/>
              <a:tblGrid>
                <a:gridCol w="3810240"/>
                <a:gridCol w="457200"/>
              </a:tblGrid>
              <a:tr h="84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5: Electronic Prescribing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electronic system to write prescriptio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electronic prescription writer with safety che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electronic prescription writer with cost che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6: Test Tracking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racks tests and identifies abnormal results systematically**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electronic systems to order and retrieve tests and flag duplicate tes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7: Referral Tracking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racks referrals using paper-based or electronic system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8: Performance Reporting and Improvement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asures clinical and/or service performance by physician or across the practice**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urvey of patients’ care experienc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ports performance across the practice or by physician 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ts goals and takes action to improve performanc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oduces reports using standardized measure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ransmits reports with standardized measures electronically to external entitie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9: Advanced Electronic Communicatio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vailability of Interactive Websi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Patient Identification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Care Management Support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58"/>
          <p:cNvSpPr/>
          <p:nvPr/>
        </p:nvSpPr>
        <p:spPr>
          <a:xfrm>
            <a:off x="6400800" y="5943600"/>
            <a:ext cx="2057400" cy="3808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 Pass Ele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Examples of Initiatives Using PPC-PCMH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Multi-payer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lorado, Pennsylvania, Rhode Island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State-wide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ennsylvania, Vermont, Main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Single payer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mblemHealth, Humana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Government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edicare, New York City, Louisiana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6324480" y="4724280"/>
            <a:ext cx="2210040" cy="1600200"/>
          </a:xfrm>
          <a:prstGeom prst="irregularSeal1">
            <a:avLst/>
          </a:prstGeom>
          <a:solidFill>
            <a:srgbClr val="b0a4b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s of Meaningful Use” ins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88416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to further assess patient-centeredness, including patient survey results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ow to engage patients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ow to make name resonate positively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en should performance results be part of scoring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to adapt to promote quality and cost gains across settings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ary care—subspecialty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hysician—hospital, other faciliti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to streamline requirements, documentation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r all practic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r practices renewing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Significant PPC-PCMH Issues for Future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Timeline, Evolution of PPC-PCMH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990720" y="2895480"/>
            <a:ext cx="7238880" cy="0"/>
          </a:xfrm>
          <a:prstGeom prst="line">
            <a:avLst/>
          </a:prstGeom>
          <a:ln w="76320">
            <a:solidFill>
              <a:srgbClr val="d21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9907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886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8769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791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058120" y="16876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87120" y="1676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1240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970000" y="3276720"/>
            <a:ext cx="1299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v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vis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itte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velop dra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599840" y="3124080"/>
            <a:ext cx="962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li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ebsi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lls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4572000" y="305100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ith CPP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ublic Com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791320" y="3276720"/>
            <a:ext cx="110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vis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’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7011720" y="3156120"/>
            <a:ext cx="10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PP, B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896200" y="2362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626720" y="2362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6308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01520" y="2362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 rot="5400000">
            <a:off x="2247840" y="102852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5400" y="10709"/>
                  <a:pt x="0" y="10709"/>
                </a:cubicBezTo>
                <a:cubicBezTo>
                  <a:pt x="54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 rot="5400000">
            <a:off x="5562000" y="457200"/>
            <a:ext cx="533520" cy="3733560"/>
          </a:xfrm>
          <a:custGeom>
            <a:avLst/>
            <a:gdLst>
              <a:gd name="textAreaLeft" fmla="*/ 340920 w 533520"/>
              <a:gd name="textAreaRight" fmla="*/ 533880 w 53352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5400" y="10709"/>
                  <a:pt x="0" y="10709"/>
                </a:cubicBezTo>
                <a:cubicBezTo>
                  <a:pt x="54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7218000" y="23623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Barriers to Incorporating 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Patient Experiences Results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265040"/>
            <a:ext cx="883944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ack of agreement on core cont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ether existing tools are able to detect change in performance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burden of conducting patient experiences survey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flicting priority of accountability versus quality improvement goal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ructure/process versus outcome scoring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ims of Proposed Research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dentify a core set of survey items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plore feasibility of alternative sampling and other data collection strategi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amine the impact of alternative scoring approaches in blending results from the PPC-PCMH and patient experience survey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Getting to Core Set of Measures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y possible domains/item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ces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munica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hared decision-making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lf Management 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ole person orientation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anking exercise involving broad stakeholder particip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of psychometric properti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commendations to PPC-PCMH review pan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Getting to Standardized Data Collection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files of existing efforts to collect, analyze and report patient experiences survey results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urpose of survey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Unit of Analysi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ampling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Quality assur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oo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st/Fin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of literature on impact of different method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commendations to PPC-PCMH review pan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genda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CQA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ealth plan accreditation model and CAHP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corporating patient experiences surveys into evaluation of physician practic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tient’s views are critical to evaluations of health care,  both at health plan and physician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ndardized tools and methodology needed to allow fair, national comparisons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sibility and relevance to key stakeholders must be addressed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r more information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arah Hudson Scholle, MPH, DrPH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scholle@ncqa.org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02 955 1726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ncqa.org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ivate, independent non-profi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ealth care quality oversight organization founded in 1990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mmitted to measuremen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nsparency and accountabili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nites diverse groups around common goal: improving health care quali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NCQA: A Brief Introduction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NC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Q</a:t>
            </a: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 Health Plan Accreditation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ey Componen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igorous on-site review of key systems and processes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valuation of clinical performance through HEDI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easur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ber experience surveys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HP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4.0H for adults and childre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NC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Q</a:t>
            </a: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 ACCREDITATION: </a:t>
            </a:r>
            <a:br>
              <a:rPr sz="3600"/>
            </a:b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BASED ON PERFORMANCE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04880" y="1676520"/>
            <a:ext cx="2819520" cy="761760"/>
          </a:xfrm>
          <a:prstGeom prst="rect">
            <a:avLst/>
          </a:prstGeom>
          <a:solidFill>
            <a:srgbClr val="ffbc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Perform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ED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114800" y="1676520"/>
            <a:ext cx="2819520" cy="761760"/>
          </a:xfrm>
          <a:prstGeom prst="rect">
            <a:avLst/>
          </a:prstGeom>
          <a:solidFill>
            <a:srgbClr val="ffbc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 Exper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HP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657600" y="1847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010280" y="1847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43800" y="1847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2590920"/>
            <a:ext cx="6248520" cy="1295280"/>
          </a:xfrm>
          <a:prstGeom prst="rect">
            <a:avLst/>
          </a:prstGeom>
          <a:solidFill>
            <a:srgbClr val="ffbc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Plan Sys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ccreditation Stand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0102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5438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43434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creditation is Performance-based:</a:t>
            </a:r>
            <a:br>
              <a:rPr sz="3000"/>
            </a:br>
            <a:br>
              <a:rPr sz="6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CQA Accreditation is the only health plan Accreditation that requires reporting on clinical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 rot="16200000">
            <a:off x="4038480" y="75600"/>
            <a:ext cx="762120" cy="8229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214560 h 8229600"/>
              <a:gd name="textAreaBottom" fmla="*/ 8015040 h 822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What is NC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Q</a:t>
            </a: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’s HEDIS?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althc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fectivene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ta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forma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t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ocess and outcomes measur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ardized member experience survey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d by commercial, Medicare, and Medicaid plans alik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s plan-to-plan comparisons by quality, not just by pric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CAHPS</a:t>
            </a:r>
            <a:r>
              <a:rPr b="1" lang="en-US" sz="3600" spc="-1" strike="noStrike" baseline="30000">
                <a:solidFill>
                  <a:srgbClr val="3e647e"/>
                </a:solidFill>
                <a:latin typeface="Century Gothic"/>
              </a:rPr>
              <a:t>®</a:t>
            </a: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 4.0H Surveys Development and Reporting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ality Compas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®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(plan-to-plan comparisons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te of Health Care Quality Repor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AHPS Benchmarking Database (NCBD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ther products—report cards, Quality Dividend Calculator, etc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entury Gothic"/>
              </a:rPr>
              <a:t>&gt;14,000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physicians Recognized nationally across all Recognition program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nical program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iabetes Recognition Program (DRP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eart/Stroke Recognition Program (HSRP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ack Pain Recognition Program (BPRP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dical practice process and structural measur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hysician Practice Connections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entury Gothic"/>
              </a:rPr>
              <a:t>Physician Practice Connections-Patient-Centered Medical Home (PPC-PCMH)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42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NCQA Recognition Programs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4419720"/>
            <a:ext cx="8686800" cy="1266840"/>
            <a:chOff x="228600" y="4419720"/>
            <a:chExt cx="8686800" cy="1266840"/>
          </a:xfrm>
        </p:grpSpPr>
        <p:pic>
          <p:nvPicPr>
            <p:cNvPr id="113" name="Picture 10" descr="http://www.ncqa.org/Portals/0/Marketing/Seals/RP/PhysRecog_Heart_RGB_lowres.jpg"/>
            <p:cNvPicPr/>
            <p:nvPr/>
          </p:nvPicPr>
          <p:blipFill>
            <a:blip r:embed="rId1"/>
            <a:stretch/>
          </p:blipFill>
          <p:spPr>
            <a:xfrm>
              <a:off x="1981080" y="4419720"/>
              <a:ext cx="171144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http://www.ncqa.org/Portals/0/Marketing/Seals/RP/PhysRecog_PPC_RGB_lowres.jpg"/>
            <p:cNvPicPr/>
            <p:nvPr/>
          </p:nvPicPr>
          <p:blipFill>
            <a:blip r:embed="rId2"/>
            <a:stretch/>
          </p:blipFill>
          <p:spPr>
            <a:xfrm>
              <a:off x="3733920" y="4419720"/>
              <a:ext cx="172224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4" descr="http://www.ncqa.org/Portals/0/Marketing/Seals/RP/PhysRecog_Diabetes_RGB_lowres.jpg"/>
            <p:cNvPicPr/>
            <p:nvPr/>
          </p:nvPicPr>
          <p:blipFill>
            <a:blip r:embed="rId3"/>
            <a:stretch/>
          </p:blipFill>
          <p:spPr>
            <a:xfrm>
              <a:off x="228600" y="4419720"/>
              <a:ext cx="1722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6" descr="http://www.ncqa.org/Portals/0/Marketing/Seals/RP/PhysRecog_MedHome_RGB_lowres.jpg"/>
            <p:cNvPicPr/>
            <p:nvPr/>
          </p:nvPicPr>
          <p:blipFill>
            <a:blip r:embed="rId4"/>
            <a:stretch/>
          </p:blipFill>
          <p:spPr>
            <a:xfrm>
              <a:off x="7183440" y="4419720"/>
              <a:ext cx="173196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8" descr="http://www.ncqa.org/Portals/0/Marketing/Seals/RP/PhysRecog_BackPain_RGB_lowres.jpg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1638360" cy="12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10"/>
          <p:cNvSpPr/>
          <p:nvPr/>
        </p:nvSpPr>
        <p:spPr>
          <a:xfrm>
            <a:off x="3049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7534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133720" y="5715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072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886200" y="57150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3440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54 practice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38680" y="57150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21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4 practice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7315200" y="5715000"/>
            <a:ext cx="147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001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78 practice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247160" y="1447920"/>
            <a:ext cx="126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As of 7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/31/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Goals for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Physician Practice Connections (PPC)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valuate systematic approach to delivering preventive and chronic care (Wagner Chronic Care Model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ild on IOM’s recommendation to shift from “blaming” individual clinicians to improving systems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eate measures that are actionable for physician practic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lidate measures by relating them to clinical performance and patient experience result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9:59:26Z</dcterms:created>
  <dc:creator>greg pawlson</dc:creator>
  <dc:description/>
  <dc:language>en-US</dc:language>
  <cp:lastModifiedBy>Graham</cp:lastModifiedBy>
  <dcterms:modified xsi:type="dcterms:W3CDTF">2009-10-26T23:12:23Z</dcterms:modified>
  <cp:revision>130</cp:revision>
  <dc:subject/>
  <dc:title>PRESENTATION TITLE HERE  YOUR NAME YOUR TITLE</dc:title>
</cp:coreProperties>
</file>