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38AF-7A6F-4587-A837-43ADE062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EDB-E837-4524-916B-EF0641F4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2BB-4C88-4923-8D6A-07B56170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096-669D-4B02-85E4-3C980096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DA0-603D-45C4-BE2A-BB1A1624A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699D-3ACB-45F9-8824-3BFD73DBF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DBA9E-5811-4EED-8FA5-F932F324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41D-7EAB-4788-843C-77B1B0FA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A8A-C0CC-4D6A-853D-08DB39FD0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B17-75FC-43F8-B875-C95C517B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9BA4-DCF7-49E7-9E7D-324434802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14680"/>
            <a:ext cx="5137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5A1-D500-49F4-9939-0A72D552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EA3-AD59-4A6F-88A9-9D465EB0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324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A924-E476-4A3D-8413-6FE72B73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EF09-26A5-44A3-95AC-0A4168B1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71A5-2EF2-43AC-8692-91823911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908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6C76-617A-4CD7-9C6F-99AD6A1C0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100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0080" y="106668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22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100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0080" y="3709440"/>
            <a:ext cx="28461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70944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066680"/>
            <a:ext cx="43135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09440"/>
            <a:ext cx="88394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New normal slide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8567640" y="6400800"/>
            <a:ext cx="5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9E6-807E-42B3-AA18-4492931A61B3}" type="slidenum">
              <a:rPr b="1" lang="en-US" sz="1400" spc="-1" strike="noStrike">
                <a:solidFill>
                  <a:srgbClr val="bfb6ae"/>
                </a:solidFill>
                <a:latin typeface="Century Gothic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1828800" y="630396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HRQ Research Con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9/15/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title slide buff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3e647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scholle@ncqa.org" TargetMode="External"/><Relationship Id="rId2" Type="http://schemas.openxmlformats.org/officeDocument/2006/relationships/hyperlink" Target="http://www.ncqa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72760"/>
            <a:ext cx="914400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Using Patient Experiences Surveys in Health Plan and Practice Evaluation </a:t>
            </a:r>
            <a:br>
              <a:rPr sz="3200"/>
            </a:br>
            <a:r>
              <a:rPr b="1" lang="en-US" sz="2400" spc="-1" strike="noStrike">
                <a:solidFill>
                  <a:srgbClr val="3e647e"/>
                </a:solidFill>
                <a:latin typeface="Century Gothic"/>
              </a:rPr>
              <a:t>Sarah Hudson Scholle</a:t>
            </a:r>
            <a:br>
              <a:rPr sz="2400"/>
            </a:br>
            <a:r>
              <a:rPr b="1" lang="en-US" sz="2400" spc="-1" strike="noStrike">
                <a:solidFill>
                  <a:srgbClr val="3e647e"/>
                </a:solidFill>
                <a:latin typeface="Century Gothic"/>
              </a:rPr>
              <a:t>Assistant Vice President, Research</a:t>
            </a:r>
            <a:endParaRPr b="1" lang="en-US" sz="24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647e"/>
                </a:solidFill>
                <a:latin typeface="Century Gothic"/>
              </a:rPr>
              <a:t>AHRQ 2009 Conference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647e"/>
                </a:solidFill>
                <a:latin typeface="Century Gothic"/>
              </a:rPr>
              <a:t>September 15, 2009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Theoretical Frameworks Informing 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Development of PPC-PCMH</a:t>
            </a:r>
            <a:br>
              <a:rPr sz="3200"/>
            </a:br>
            <a:r>
              <a:rPr b="1" lang="en-US" sz="1600" spc="-1" strike="noStrike">
                <a:solidFill>
                  <a:srgbClr val="3e647e"/>
                </a:solidFill>
                <a:latin typeface="Century Gothic"/>
              </a:rPr>
              <a:t>Based on best available empiric evidence in each area and on testing of reliability and validity of elements in field tests using on site audit as “gold” standard </a:t>
            </a:r>
            <a:endParaRPr b="1" lang="en-US" sz="1600" spc="-1" strike="noStrike">
              <a:solidFill>
                <a:srgbClr val="3e647e"/>
              </a:solidFill>
              <a:latin typeface="Century Gothic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630440"/>
          <a:ext cx="8839440" cy="408924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1905120"/>
                <a:gridCol w="2133720"/>
              </a:tblGrid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ronic Ca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Center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ural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ete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l Ho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information System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sion Suppo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ient Self-Manag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ivery System Redesig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Linkag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lth System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Patient Valu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essibl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mily-Center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ous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rdinat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Linkag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assionat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urally Appropriate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otional Support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on and Education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Comfor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Improvement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lturally competent interac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guage servic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ing disparit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al physicia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ian directed tea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ole person orient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e is coordinated and integra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and safe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hanced acces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6"/>
          <p:cNvSpPr/>
          <p:nvPr/>
        </p:nvSpPr>
        <p:spPr>
          <a:xfrm>
            <a:off x="0" y="5638680"/>
            <a:ext cx="9144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C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contact-comprehensive-continuous-coord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Adapting PPC for the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Patient-Centered Medical Home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ew PPC-PCMH version released in January 2008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ligned standards with Joint Princip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corporated critical attributes of PCMH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ed foundational elements (“must pass” requirements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PC-PCMH endorsed by ACP, AAFP, AAP, AOA, other specialties and PCPCC for use in demo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5105520"/>
            <a:ext cx="7848360" cy="914400"/>
          </a:xfrm>
          <a:prstGeom prst="rect">
            <a:avLst/>
          </a:prstGeom>
          <a:solidFill>
            <a:srgbClr val="f1a7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dorsed by National Quality Forum Sept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as “Medical Home System Survey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PPC-PCMH Content and Scoring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615960"/>
          <a:ext cx="4496040" cy="5573880"/>
        </p:xfrm>
        <a:graphic>
          <a:graphicData uri="http://schemas.openxmlformats.org/drawingml/2006/table">
            <a:tbl>
              <a:tblPr/>
              <a:tblGrid>
                <a:gridCol w="4114800"/>
                <a:gridCol w="381240"/>
              </a:tblGrid>
              <a:tr h="84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1: Access and Communication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written standards for patient access and patient communication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data to show it meets its standards for patient access and communication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2: Patient Tracking and Registry Functio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data system for basic patient information (mostly non-clinical data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clinical data system with clinical data in searchable data field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the clinical data system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paper or electronic-based charting tools to organize clinical information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data to identify important diagnoses and conditions in practic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enerates lists of patients and reminds patients and clinicians of services needed (population management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3: Care Manage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dopts and implements evidence-based guidelines for three conditions 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enerates reminders about preventive services for clinicia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non-physician staff to manage patient care 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ducts care management, including care plans, assessing progress, addressing barrier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ordinates care//follow-up for patients who receive care in inpatient and outpatient facilitie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4: Patient Self-Management Support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esses language preference and other communication barrie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vely supports patient self-management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724280" y="609480"/>
          <a:ext cx="4267440" cy="5734080"/>
        </p:xfrm>
        <a:graphic>
          <a:graphicData uri="http://schemas.openxmlformats.org/drawingml/2006/table">
            <a:tbl>
              <a:tblPr/>
              <a:tblGrid>
                <a:gridCol w="3810240"/>
                <a:gridCol w="457200"/>
              </a:tblGrid>
              <a:tr h="84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5: Electronic Prescribing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electronic system to write prescriptio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electronic prescription writer with safety che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as electronic prescription writer with cost che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6: Test Tracking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racks tests and identifies abnormal results systematically**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Uses electronic systems to order and retrieve tests and flag duplicate tes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7: Referral Tracking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racks referrals using paper-based or electronic system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8: Performance Reporting and Improvement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asures clinical and/or service performance by physician or across the practice**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urvey of patients’ care experienc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ports performance across the practice or by physician **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ts goals and takes action to improve performanc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oduces reports using standardized measure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ransmits reports with standardized measures electronically to external entitie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tandard 9: Advanced Electronic Communications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vailability of Interactive Websi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Patient Identification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Century Gothic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Care Management Support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58"/>
          <p:cNvSpPr/>
          <p:nvPr/>
        </p:nvSpPr>
        <p:spPr>
          <a:xfrm>
            <a:off x="6400800" y="5943600"/>
            <a:ext cx="2057400" cy="3808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 Pass Ele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Examples of Initiatives Using PPC-PCMH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Multi-payer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lorado, Pennsylvania, Rhode Island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State-wide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ennsylvania, Vermont, Main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Single payer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mblemHealth, Humana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entury Gothic"/>
              </a:rPr>
              <a:t>Government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edicare, New York City, Louisiana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6324480" y="4724280"/>
            <a:ext cx="2210040" cy="1600200"/>
          </a:xfrm>
          <a:prstGeom prst="irregularSeal1">
            <a:avLst/>
          </a:prstGeom>
          <a:solidFill>
            <a:srgbClr val="b0a4b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s of Meaningful Use” ins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88416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to further assess patient-centeredness, including patient survey results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ow to engage patients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ow to make name resonate positively?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hen should performance results be part of scoring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to adapt to promote quality and cost gains across settings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imary care—subspecialty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hysician—hospital, other faciliti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How to streamline requirements, documentation?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r all practic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r practices renewing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Significant PPC-PCMH Issues for Future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Timeline, Evolution of PPC-PCMH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990720" y="2895480"/>
            <a:ext cx="7238880" cy="0"/>
          </a:xfrm>
          <a:prstGeom prst="line">
            <a:avLst/>
          </a:prstGeom>
          <a:ln w="76320">
            <a:solidFill>
              <a:srgbClr val="d21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9907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886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8769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7913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629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058120" y="16876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87120" y="1676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1240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970000" y="3276720"/>
            <a:ext cx="1299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v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vis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itte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velop dra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1599840" y="3124080"/>
            <a:ext cx="962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li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ebsi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lls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4572000" y="305100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ith CPP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ublic Com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791320" y="3276720"/>
            <a:ext cx="110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vis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’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7011720" y="3156120"/>
            <a:ext cx="10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PP, B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896200" y="2362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4626720" y="2362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6308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401520" y="23623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 rot="5400000">
            <a:off x="2247840" y="102852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5400" y="10709"/>
                  <a:pt x="0" y="10709"/>
                </a:cubicBezTo>
                <a:cubicBezTo>
                  <a:pt x="54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 rot="5400000">
            <a:off x="5562000" y="457200"/>
            <a:ext cx="533520" cy="3733560"/>
          </a:xfrm>
          <a:custGeom>
            <a:avLst/>
            <a:gdLst>
              <a:gd name="textAreaLeft" fmla="*/ 340920 w 533520"/>
              <a:gd name="textAreaRight" fmla="*/ 533880 w 53352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5400" y="10709"/>
                  <a:pt x="0" y="10709"/>
                </a:cubicBezTo>
                <a:cubicBezTo>
                  <a:pt x="54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7218000" y="23623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Barriers to Incorporating 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Patient Experiences Results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265040"/>
            <a:ext cx="883944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ack of agreement on core conten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ether existing tools are able to detect change in performance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burden of conducting patient experiences survey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nflicting priority of accountability versus quality improvement goal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ructure/process versus outcome scoring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ims of Proposed Research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dentify a core set of survey items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plore feasibility of alternative sampling and other data collection strategi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amine the impact of alternative scoring approaches in blending results from the PPC-PCMH and patient experience survey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Getting to Core Set of Measures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y possible domains/item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ces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mmunica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ordina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hared decision-making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lf Management 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hole person orientation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anking exercise involving broad stakeholder particip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of psychometric properti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commendations to PPC-PCMH review pan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Getting to Standardized Data Collection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files of existing efforts to collect, analyze and report patient experiences survey results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urpose of survey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Unit of Analysi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ampling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Quality assur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oo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st/Fin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of literature on impact of different method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commendations to PPC-PCMH review pan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genda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CQA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ealth plan accreditation model and CAHP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corporating patient experiences surveys into evaluation of physician practice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atient’s views are critical to evaluations of health care,  both at health plan and physician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ndardized tools and methodology needed to allow fair, national comparisons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easibility and relevance to key stakeholders must be addressed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r more information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arah Hudson Scholle, MPH, DrPH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scholle@ncqa.org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02 955 1726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ncqa.org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ivate, independent non-profi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ealth care quality oversight organization founded in 1990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mmitted to measuremen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ransparency and accountabili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nites diverse groups around common goal: improving health care quality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NCQA: A Brief Introduction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NC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Q</a:t>
            </a: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 Health Plan Accreditation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ey Components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igorous on-site review of key systems and processes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valuation of clinical performance through HEDI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measur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ber experience surveys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HP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ury Gothic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4.0H for adults and childre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NC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Q</a:t>
            </a: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 ACCREDITATION: </a:t>
            </a:r>
            <a:br>
              <a:rPr sz="3600"/>
            </a:b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BASED ON PERFORMANCE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04880" y="1676520"/>
            <a:ext cx="2819520" cy="761760"/>
          </a:xfrm>
          <a:prstGeom prst="rect">
            <a:avLst/>
          </a:prstGeom>
          <a:solidFill>
            <a:srgbClr val="ffbc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Perform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ED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114800" y="1676520"/>
            <a:ext cx="2819520" cy="761760"/>
          </a:xfrm>
          <a:prstGeom prst="rect">
            <a:avLst/>
          </a:prstGeom>
          <a:solidFill>
            <a:srgbClr val="ffbc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 Exper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HP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657600" y="1847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010280" y="1847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43800" y="1847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2590920"/>
            <a:ext cx="6248520" cy="1295280"/>
          </a:xfrm>
          <a:prstGeom prst="rect">
            <a:avLst/>
          </a:prstGeom>
          <a:solidFill>
            <a:srgbClr val="ffbc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Plan Sys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ccreditation Stand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0102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5438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43434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creditation is Performance-based:</a:t>
            </a:r>
            <a:br>
              <a:rPr sz="3000"/>
            </a:br>
            <a:br>
              <a:rPr sz="6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CQA Accreditation is the only health plan Accreditation that requires reporting on clinical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 rot="16200000">
            <a:off x="4038480" y="75600"/>
            <a:ext cx="762120" cy="8229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214560 h 8229600"/>
              <a:gd name="textAreaBottom" fmla="*/ 8015040 h 822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What is NC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Q</a:t>
            </a:r>
            <a:r>
              <a:rPr b="1" lang="en-US" sz="3600" spc="-1" strike="noStrike">
                <a:solidFill>
                  <a:srgbClr val="3e647e"/>
                </a:solidFill>
                <a:latin typeface="Century Gothic"/>
              </a:rPr>
              <a:t>A’s HEDIS?</a:t>
            </a:r>
            <a:endParaRPr b="1" lang="en-US" sz="36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althc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fectivenes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ta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forma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t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ocess and outcomes measur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ndardized member experience survey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ed by commercial, Medicare, and Medicaid plans alik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65120" indent="-465120">
              <a:lnSpc>
                <a:spcPct val="90000"/>
              </a:lnSpc>
              <a:spcBef>
                <a:spcPts val="1225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s plan-to-plan comparisons by quality, not just by pric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CAHPS</a:t>
            </a:r>
            <a:r>
              <a:rPr b="1" lang="en-US" sz="3600" spc="-1" strike="noStrike" baseline="30000">
                <a:solidFill>
                  <a:srgbClr val="3e647e"/>
                </a:solidFill>
                <a:latin typeface="Century Gothic"/>
              </a:rPr>
              <a:t>®</a:t>
            </a: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 4.0H Surveys Development and Reporting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Quality Compas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®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Arial"/>
              </a:rPr>
              <a:t>(plan-to-plan comparisons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tate of Health Care Quality Repor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AHPS Benchmarking Database (NCBD)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ther products—report cards, Quality Dividend Calculator, etc.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entury Gothic"/>
              </a:rPr>
              <a:t>&gt;14,000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physicians Recognized nationally across all Recognition program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nical program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iabetes Recognition Program (DRP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eart/Stroke Recognition Program (HSRP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ack Pain Recognition Program (BPRP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dical practice process and structural measur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hysician Practice Connections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e647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entury Gothic"/>
              </a:rPr>
              <a:t>Physician Practice Connections-Patient-Centered Medical Home (PPC-PCMH)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42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NCQA Recognition Programs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4419720"/>
            <a:ext cx="8686800" cy="1266840"/>
            <a:chOff x="228600" y="4419720"/>
            <a:chExt cx="8686800" cy="1266840"/>
          </a:xfrm>
        </p:grpSpPr>
        <p:pic>
          <p:nvPicPr>
            <p:cNvPr id="113" name="Picture 10" descr="http://www.ncqa.org/Portals/0/Marketing/Seals/RP/PhysRecog_Heart_RGB_lowres.jpg"/>
            <p:cNvPicPr/>
            <p:nvPr/>
          </p:nvPicPr>
          <p:blipFill>
            <a:blip r:embed="rId1"/>
            <a:stretch/>
          </p:blipFill>
          <p:spPr>
            <a:xfrm>
              <a:off x="1981080" y="4419720"/>
              <a:ext cx="171144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http://www.ncqa.org/Portals/0/Marketing/Seals/RP/PhysRecog_PPC_RGB_lowres.jpg"/>
            <p:cNvPicPr/>
            <p:nvPr/>
          </p:nvPicPr>
          <p:blipFill>
            <a:blip r:embed="rId2"/>
            <a:stretch/>
          </p:blipFill>
          <p:spPr>
            <a:xfrm>
              <a:off x="3733920" y="4419720"/>
              <a:ext cx="172224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4" descr="http://www.ncqa.org/Portals/0/Marketing/Seals/RP/PhysRecog_Diabetes_RGB_lowres.jpg"/>
            <p:cNvPicPr/>
            <p:nvPr/>
          </p:nvPicPr>
          <p:blipFill>
            <a:blip r:embed="rId3"/>
            <a:stretch/>
          </p:blipFill>
          <p:spPr>
            <a:xfrm>
              <a:off x="228600" y="4419720"/>
              <a:ext cx="1722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6" descr="http://www.ncqa.org/Portals/0/Marketing/Seals/RP/PhysRecog_MedHome_RGB_lowres.jpg"/>
            <p:cNvPicPr/>
            <p:nvPr/>
          </p:nvPicPr>
          <p:blipFill>
            <a:blip r:embed="rId4"/>
            <a:stretch/>
          </p:blipFill>
          <p:spPr>
            <a:xfrm>
              <a:off x="7183440" y="4419720"/>
              <a:ext cx="173196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8" descr="http://www.ncqa.org/Portals/0/Marketing/Seals/RP/PhysRecog_BackPain_RGB_lowres.jpg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1638360" cy="12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10"/>
          <p:cNvSpPr/>
          <p:nvPr/>
        </p:nvSpPr>
        <p:spPr>
          <a:xfrm>
            <a:off x="304920" y="57150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7534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133720" y="5715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072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886200" y="57150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3440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54 practice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38680" y="57150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21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4 practice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7315200" y="5715000"/>
            <a:ext cx="147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001 physician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78 practices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247160" y="1447920"/>
            <a:ext cx="126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As of 7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/31/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Goals for</a:t>
            </a:r>
            <a:br>
              <a:rPr sz="3200"/>
            </a:br>
            <a:r>
              <a:rPr b="1" lang="en-US" sz="3200" spc="-1" strike="noStrike">
                <a:solidFill>
                  <a:srgbClr val="3e647e"/>
                </a:solidFill>
                <a:latin typeface="Century Gothic"/>
              </a:rPr>
              <a:t>Physician Practice Connections (PPC)</a:t>
            </a:r>
            <a:endParaRPr b="1" lang="en-US" sz="3200" spc="-1" strike="noStrike">
              <a:solidFill>
                <a:srgbClr val="3e647e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valuate systematic approach to delivering preventive and chronic care (Wagner Chronic Care Model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uild on IOM’s recommendation to shift from “blaming” individual clinicians to improving systems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eate measures that are actionable for physician practic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e647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alidate measures by relating them to clinical performance and patient experience result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9:59:26Z</dcterms:created>
  <dc:creator>greg pawlson</dc:creator>
  <dc:description/>
  <dc:language>en-US</dc:language>
  <cp:lastModifiedBy>Graham</cp:lastModifiedBy>
  <dcterms:modified xsi:type="dcterms:W3CDTF">2009-10-26T23:12:23Z</dcterms:modified>
  <cp:revision>130</cp:revision>
  <dc:subject/>
  <dc:title>PRESENTATION TITLE HERE  YOUR NAME YOUR TITLE</dc:title>
</cp:coreProperties>
</file>