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D1C-1C60-42E8-8BE6-259A1BD785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128B-602E-4F88-B001-19021CA5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E59-5BCF-4393-912C-BD81F938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D80-2B8A-48E8-8A88-7EEAD092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6CD-EA69-42E6-B017-EB5DEEAA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C9A4-1E0F-489E-94D1-86C1BB26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3D3-D1DA-4C5F-8D0C-F006371F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5D2-AF25-4242-A366-961CA9FE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18C-D80B-4173-A865-EB27A1C9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373-C156-4D9E-A098-4D136C4E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F1B-22A7-48BA-82C0-BDA220C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C2A-1155-426C-8F1E-CF6CFD54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0C5-E2D3-4DED-A5CB-EEB0987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CB7-D80C-46E5-96E6-6859120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DA8-62FD-4DC5-ABD7-D86D1241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E3D-6DE2-4693-9BD6-E7715D1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8CA-9494-4376-AF92-500526B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8CC-DB24-4530-993E-E2C808F5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2E16-B786-41C4-ABE1-DC369020B9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a-Analys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551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ron Wallace, Thomas Trikalinos, Joseph Lau and Christopher H Sch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ist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-Analyst and Meta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ee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itive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routines for Bayesian and maximum likelihood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s for New Softwa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 non-statistical users to implements sophisticated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iendly user interface with no need for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rative and diagnostic test accuracy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yesian methods with "automated"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xt-sensitive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ation quality graphics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stomizable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terface with R/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rapid development of new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upport for data input/management/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programming/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 to data extraction/database storag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6:06:46Z</dcterms:created>
  <dc:creator>syst33</dc:creator>
  <dc:description/>
  <dc:language>en-US</dc:language>
  <cp:lastModifiedBy>Graham</cp:lastModifiedBy>
  <dcterms:modified xsi:type="dcterms:W3CDTF">2009-10-27T23:23:02Z</dcterms:modified>
  <cp:revision>57</cp:revision>
  <dc:subject/>
  <dc:title>Proposal for Society Journal</dc:title>
</cp:coreProperties>
</file>