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4D98-C551-45C3-B8C2-E44FC16D60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6BB-93FB-4E88-8D4A-7350D16B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A5E7-B6C0-4EC2-A38B-864B54A2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F04E-8139-4908-B748-C1B49FCD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1377-44DD-47D7-998F-2F1734DD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57BA-869D-4457-AD75-DC364EF2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FE5-C1B2-45EF-8D0D-4D11EF2A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E88-2DE9-4F49-994A-917C719E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39C-D55A-4796-8C8B-531EECEA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812-4CCD-40E9-9AA8-49B3F9C2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F11-E190-4413-B2B7-C7C9A038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C78-F313-49A3-A92E-3A587F4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729-DACE-454B-B98C-7790A5A5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5AA-A2C1-4C69-B088-FF07A548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971-98A8-4FF7-BE8D-D2297DB9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A83-3CA6-4F68-BF16-9B4A51D2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807-B3F4-4121-95AB-ECBC20C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804-B27D-4F6C-ADAA-B318FC4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4E1B-5BC6-4F47-BBE3-EB5FA98B00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a-Analys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551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ron Wallace, Thomas Trikalinos, Joseph Lau and Christopher H Sch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Hist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a-Analyst and Meta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ee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de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itive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routines for Bayesian and maximum likelihood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s for New Softwa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 non-statistical users to implements sophisticated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iendly user interface with no need for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rative and diagnostic test accuracy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yesian methods with "automated"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ext-sensitive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ation quality graphics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stomizable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terface with R/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rapid development of new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upport for data input/management/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programming/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 to data extraction/database storag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6:06:46Z</dcterms:created>
  <dc:creator>syst33</dc:creator>
  <dc:description/>
  <dc:language>en-US</dc:language>
  <cp:lastModifiedBy>Graham</cp:lastModifiedBy>
  <dcterms:modified xsi:type="dcterms:W3CDTF">2009-10-27T23:23:02Z</dcterms:modified>
  <cp:revision>57</cp:revision>
  <dc:subject/>
  <dc:title>Proposal for Society Journal</dc:title>
</cp:coreProperties>
</file>