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BE74-8DA2-4C3F-A072-BF4DE8687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2E91-5D97-4F16-87DA-0BF81A8EB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2B7A-B524-488C-9139-CE4108094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3312-F6FF-408E-B9FC-E6A50463F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613F-1FBC-40A9-A407-676B7B977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otes Placeholder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AA54-8F9F-45FE-83B9-F2E369DA3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5C52-F009-405B-9A55-7F610009F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BEB1-CBB1-4A61-B58A-0788EE0B2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D0B-C569-4451-9E21-9C6C7819E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030F-27AE-40C1-B1E7-BBFCFB1EA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D04F-FE02-4BBD-A8EB-A719C7176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E3DD-63B3-452C-9776-E3AA2D0CB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456C-4A6B-4E02-A066-FEF162F2C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39E6-019F-4FDC-A346-371F5D407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519A-014D-455A-A5A3-A657E12DC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2D4-C2AA-4167-BC9B-677DAEAF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FE0-229F-41EE-886D-B412DD0E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D59-227F-4721-A851-89E8DD3B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9C4-0698-4B31-8C13-F1C778D4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1860-F8A5-4316-8878-899C1C6A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24EC-04FE-47C4-8F1F-45F3F608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2D4E-107E-40A3-B198-F6E95885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489-C6F5-4306-B7DC-46719592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A916-6F95-4DE2-BE7D-264BE0B5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0C11-BA53-4151-8C33-7FD61916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0828-713F-4886-9983-2D8EFE72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66E-4D74-43ED-A6AC-DAB64B90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BEF5-BA24-489B-8F4A-0078FC8C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3053-DE6F-4742-B563-B27CDB19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C368-E693-4554-9EBC-923AB494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B528-38A2-4EDF-8084-FE6E2444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A4BE-0C77-49C3-89D3-92A148E5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137-5BB4-4059-995E-ED0AFF1E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CB0-E42C-4DA0-B2B7-EC8CBD49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AE3-6F06-43B8-AF63-07D23DAB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6A3-992D-4792-BED1-D6F1978A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063-B52F-4912-9906-7BA9376D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CBF-51A3-42A5-8A60-88C0927B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66C-666E-4DE4-BA8D-1E30BDC6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9F3-993D-4C25-AE3D-EC6FA21F6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omputers_industry_193415_tnb"/>
          <p:cNvPicPr/>
          <p:nvPr/>
        </p:nvPicPr>
        <p:blipFill>
          <a:blip r:embed="rId2"/>
          <a:stretch/>
        </p:blipFill>
        <p:spPr>
          <a:xfrm>
            <a:off x="0" y="5638680"/>
            <a:ext cx="92880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6480" y="65768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HINK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ACE1-F6D9-4248-88EF-84B21536C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ngageinhealth.com/docs/Edel_HealthBarometer_R13c.pdf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mailto:jane@think-health.com" TargetMode="External"/><Relationship Id="rId3" Type="http://schemas.openxmlformats.org/officeDocument/2006/relationships/hyperlink" Target="http://www.think-health.com/" TargetMode="External"/><Relationship Id="rId4" Type="http://schemas.openxmlformats.org/officeDocument/2006/relationships/hyperlink" Target="http://www.healthpopuli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dc.gov/nccdphp/overview.htm. Accessed July 21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 Patient-Centered Medical Home and Health 2.0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yond the Bric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48006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ane Sarasohn-Kahn, MA, MH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NK-Health and Health Populi blo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HRQ 2009 Conference, Bethesda, M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er 15,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images.clipart.com/thw/thw11/CL/5344_2005010018/010911_0972_14/21584978.thb.jpg?010911_0972_1472_v__v"/>
          <p:cNvPicPr/>
          <p:nvPr/>
        </p:nvPicPr>
        <p:blipFill>
          <a:blip r:embed="rId1"/>
          <a:stretch/>
        </p:blipFill>
        <p:spPr>
          <a:xfrm>
            <a:off x="1828800" y="1905120"/>
            <a:ext cx="3333600" cy="2609640"/>
          </a:xfrm>
          <a:prstGeom prst="rect">
            <a:avLst/>
          </a:prstGeom>
          <a:ln w="0">
            <a:noFill/>
          </a:ln>
        </p:spPr>
      </p:pic>
      <p:cxnSp>
        <p:nvCxnSpPr>
          <p:cNvPr id="94" name="Straight Arrow Connector 8"/>
          <p:cNvCxnSpPr/>
          <p:nvPr/>
        </p:nvCxnSpPr>
        <p:spPr>
          <a:xfrm flipH="1">
            <a:off x="3961800" y="2970720"/>
            <a:ext cx="1448280" cy="726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5" name="TextBox 9"/>
          <p:cNvSpPr/>
          <p:nvPr/>
        </p:nvSpPr>
        <p:spPr>
          <a:xfrm>
            <a:off x="5291640" y="259092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MED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71600" y="1752480"/>
            <a:ext cx="6400800" cy="2895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omputers_industry_193415_tnb"/>
          <p:cNvPicPr/>
          <p:nvPr/>
        </p:nvPicPr>
        <p:blipFill>
          <a:blip r:embed="rId2"/>
          <a:stretch/>
        </p:blipFill>
        <p:spPr>
          <a:xfrm>
            <a:off x="0" y="5638680"/>
            <a:ext cx="928800" cy="94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6480" y="65768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HINK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alth 2.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7524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use of social software and IT-based tools to promote collaboration between patients, their caregivers, medical professionals, and other stakeholders in health.”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New concept of health care wherein all the constituents (patients, physicians, providers, and payers) focus on health care value (outcomes/price) and use competition at the medical condition level over the full cycle of care as the catalyst for improving the safety, efficiency, and quality of health care.”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131840" y="5943600"/>
            <a:ext cx="735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isdom of Patients, Jane Sarasohn-Kahn, California HealthCare Foundation, 20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ott Shreeve, The Enabling Technologies and Reform Initiatives for Next Generation Health Care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lth 2.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Ubiquitous Internet connectivity among health citize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Universal adoption of mobile phones an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use of smart ph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&gt; access to health information on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&gt; social networking online overall; health has followed other consumer vertic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&gt; consumer-directed care: &gt;OOP costs drive eng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&gt; “DIY” care (esp. in recession – remember KFF tracking poll data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4" descr=""/>
          <p:cNvPicPr/>
          <p:nvPr/>
        </p:nvPicPr>
        <p:blipFill>
          <a:blip r:embed="rId1"/>
          <a:stretch/>
        </p:blipFill>
        <p:spPr>
          <a:xfrm>
            <a:off x="411120" y="839880"/>
            <a:ext cx="8217000" cy="5360760"/>
          </a:xfrm>
          <a:prstGeom prst="rect">
            <a:avLst/>
          </a:prstGeom>
          <a:ln w="0">
            <a:noFill/>
          </a:ln>
        </p:spPr>
      </p:pic>
      <p:sp>
        <p:nvSpPr>
          <p:cNvPr id="129" name="Title 1"/>
          <p:cNvSpPr/>
          <p:nvPr/>
        </p:nvSpPr>
        <p:spPr>
          <a:xfrm>
            <a:off x="-304920" y="30492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s Se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nversations with Docs Will Become Mo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ong with Personal and Health Expert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549680" y="3598920"/>
            <a:ext cx="193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Health companies’ Web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549680" y="3801960"/>
            <a:ext cx="12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TV News co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49680" y="3967200"/>
            <a:ext cx="15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Articles in mag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4549680" y="4170240"/>
            <a:ext cx="278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Web sites for specific brands of med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549680" y="4335480"/>
            <a:ext cx="163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Films or document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549680" y="452592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Online message boards, forums or news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549680" y="4716360"/>
            <a:ext cx="147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Articles in newspa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4549680" y="4894200"/>
            <a:ext cx="147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Radio news co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549680" y="5084640"/>
            <a:ext cx="147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Personal blo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549680" y="5275440"/>
            <a:ext cx="21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Social networking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549680" y="5643720"/>
            <a:ext cx="21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orporate and product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549680" y="5465880"/>
            <a:ext cx="21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Web-based video sharing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675560" y="4838760"/>
            <a:ext cx="1244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Net becoming more import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Net becoming less import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7610400" y="5113440"/>
            <a:ext cx="103320" cy="11736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7632720" y="5587920"/>
            <a:ext cx="104760" cy="119160"/>
          </a:xfrm>
          <a:prstGeom prst="rect">
            <a:avLst/>
          </a:prstGeom>
          <a:solidFill>
            <a:srgbClr val="6d8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1660680" y="6172200"/>
            <a:ext cx="588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Edelman Health Engagement Barometer, October 200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ccessed at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ageinhealth.com/docs/Edel_HealthBarometer_R13c.pdf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computers_industry_193415_tnb"/>
          <p:cNvPicPr/>
          <p:nvPr/>
        </p:nvPicPr>
        <p:blipFill>
          <a:blip r:embed="rId3"/>
          <a:stretch/>
        </p:blipFill>
        <p:spPr>
          <a:xfrm>
            <a:off x="0" y="5638680"/>
            <a:ext cx="928800" cy="9493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6480" y="65768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HINK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mise of moving beyond the institution for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hieving optimal health outcomes is a team sport; patient as engaged p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ing technologies are in place: broadband, mobile (mHealth),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markets forging ahead…pioneer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ovating payment: Kaiser, Geisinger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ovating care delivery: Center for Connected Health Cleveland Cli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mergence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articipatory health car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’s liste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1716120" cy="19051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921400" y="2057400"/>
            <a:ext cx="530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e Sarasohn-Kahn, MA (Econ.), M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Economist and Managem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-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ane@think-healt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think-healt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healthpopuli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62120" y="1752480"/>
            <a:ext cx="7696080" cy="2438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admap – PCMH &amp; Health 2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yond the Bri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tting the context: What are PCMH and H2.0? What’s driving them? Where are we ‘today?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view from Dr. Jason Mitchell, AAF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view from Dr. Michael Barr, AC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actions from the pane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Questions, answers, prospects for moving Beyond the Bri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 U.S. Health Spending in 200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$2.2 tr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1684440" y="6248520"/>
            <a:ext cx="56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Chronic Disease Overview, Centers for Disease Control and Pre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ailable at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dc.gov/nccdphp/overview.htm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ccessed July 21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tent Placeholder 2"/>
          <p:cNvSpPr/>
          <p:nvPr/>
        </p:nvSpPr>
        <p:spPr>
          <a:xfrm>
            <a:off x="457200" y="10666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our country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atients are the most und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tilized resour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nd they have the most at stak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y want to be involved and they can be involv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ir participation will lead to better med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comes at lower costs with dramatically hig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ient/customer satisfacti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les Safran, M.D., President, American Medical Informatic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 his testimony before the Subcommittee on Health of the House Committee on Ways and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computers_industry_193415_tnb"/>
          <p:cNvPicPr/>
          <p:nvPr/>
        </p:nvPicPr>
        <p:blipFill>
          <a:blip r:embed="rId1"/>
          <a:stretch/>
        </p:blipFill>
        <p:spPr>
          <a:xfrm>
            <a:off x="0" y="5638680"/>
            <a:ext cx="928800" cy="949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6480" y="65768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HINK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Stresses Me Out Too Much To Think About Health Care and Cos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5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1755720" y="6248520"/>
            <a:ext cx="63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CIGNA, learn4yourhealth survey, conducted July 2009, published Septem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387000" y="3064680"/>
            <a:ext cx="196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% of Americ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We Don’t Get Preventive Care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2136600" y="6172200"/>
            <a:ext cx="515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Fixing Health Care: What Women Want, AAFP survey, Ma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s’ Health-Responses to the Economic Downtur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009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In the past 12 months, have you or another family member living in your household…because of the COS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B2C5-4448-4446-B373-DEA9A6E15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287080" y="6400800"/>
            <a:ext cx="483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Kaiser Family Foundation Health Tracking Poll, August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atient-Centered Medical H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pproach to providing comprehensive primary care that facilitates partnerships between individual patients, their personal physicians, and the patient’s famil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started with kids in 1967: first introduced by American Academy of Pediatrics in 1967, expanded in 1992 and 200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219320" y="5867280"/>
            <a:ext cx="731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American Academy of Family Physicians, American Academy of Pediatrics, American Colle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hysicians, and American Osteopathic Association. Joint principles of the patient-centered medical home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atient-Centered Medical H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hance ac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uild on consumer-driven health and patient satisf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vate patient engagement and whole-person c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ationalize and coordinate health care processes and uti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rove outcom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2:58:23Z</dcterms:created>
  <dc:creator>Jane</dc:creator>
  <dc:description/>
  <dc:language>en-US</dc:language>
  <cp:lastModifiedBy>Steve</cp:lastModifiedBy>
  <dcterms:modified xsi:type="dcterms:W3CDTF">2009-10-29T02:14:30Z</dcterms:modified>
  <cp:revision>74</cp:revision>
  <dc:subject/>
  <dc:title>The Patient-Centered Medical Home and  Health 2.0 Chasm or Yin/Yang?</dc:title>
</cp:coreProperties>
</file>