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62A-2CF5-4BE8-86E6-576CCEB5C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83B-BE04-4B43-B767-C99971C85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28C0-2BEF-41DF-952C-8CF70C89C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1AE-8382-4D0C-8633-50B79B56D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ED66-7BAD-4ACA-B893-A03A3379A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otes Placeholder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613-A741-49F0-9BE0-E66A3CA2B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424-E306-40DD-81FB-96C4A75D8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7123-F1E4-46F0-B373-0142512C8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47D-B49C-474F-8B3D-55C46BA0F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664-5DF9-4652-8247-C4E4EEAFB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A41-585A-487B-B4D3-1C13A3233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4C20-F63F-433C-B83A-63BCEA97E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8F6-E508-494A-80C6-263D95FAF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67B-7977-4F41-A535-55DB835D5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C214-12D4-4DB9-88EE-CBD89C07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8EC-B2FE-4B80-9B7C-B5090C52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170-7B0C-43D9-89A8-E593E66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EC1-DA89-47AC-BB96-79BA4DF4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094-91FC-4817-AFCF-6DF2FD80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49DE-BEEB-4FE5-A559-E4E2CD71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F918-0F52-432A-B4CF-6395752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820A-FFD2-4C76-88F6-5CB9E76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B025-33C4-47CE-BAAE-65DAA1D7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0B54-A964-4E96-8AB8-F7173CAD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6D0-31EC-403F-BBEF-5E9D24BB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BB4-8D16-453B-9742-723EDEC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EA5-97C2-4843-85CB-3A18E3CF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89A-E39D-4A5C-8CCD-7B44FDD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D053-F5EE-4E3C-9E3E-FAAE2428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7A39-0838-413A-A4F7-4DC56FC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C5E6-777B-4F4C-B7A7-EBCF74C1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7B6B-C2BE-4F01-AFE1-0B8DBD34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DAE-9448-4F8C-9BFF-4A61932A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984-5E18-4FE2-A0D8-CE7B26B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3CE-86BB-4BD4-8BFE-CEA2299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F2B-0182-4612-9A2D-9EADDAA7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E12-D6E7-4D1A-92C0-23BA9ED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983-DDBC-491E-871B-BBB4FDD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825-68CC-413E-89BD-7CF697AE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FAEA-3F35-4C4B-A40D-8998BDAAF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omputers_industry_193415_tnb"/>
          <p:cNvPicPr/>
          <p:nvPr/>
        </p:nvPicPr>
        <p:blipFill>
          <a:blip r:embed="rId2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AE2-D5F5-45CC-AEB8-83E848A3B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ngageinhealth.com/docs/Edel_HealthBarometer_R13c.pdf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mailto:jane@think-health.com" TargetMode="External"/><Relationship Id="rId3" Type="http://schemas.openxmlformats.org/officeDocument/2006/relationships/hyperlink" Target="http://www.think-health.com/" TargetMode="External"/><Relationship Id="rId4" Type="http://schemas.openxmlformats.org/officeDocument/2006/relationships/hyperlink" Target="http://www.healthpopuli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dc.gov/nccdphp/overview.htm. Accessed July 21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 and Health 2.0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yond the Bric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48006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ane Sarasohn-Kahn, MA, MH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NK-Health and Health Populi bl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HRQ 2009 Conference, Bethesda, M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er 15,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images.clipart.com/thw/thw11/CL/5344_2005010018/010911_0972_14/21584978.thb.jpg?010911_0972_1472_v__v"/>
          <p:cNvPicPr/>
          <p:nvPr/>
        </p:nvPicPr>
        <p:blipFill>
          <a:blip r:embed="rId1"/>
          <a:stretch/>
        </p:blipFill>
        <p:spPr>
          <a:xfrm>
            <a:off x="1828800" y="1905120"/>
            <a:ext cx="3333600" cy="2609640"/>
          </a:xfrm>
          <a:prstGeom prst="rect">
            <a:avLst/>
          </a:prstGeom>
          <a:ln w="0">
            <a:noFill/>
          </a:ln>
        </p:spPr>
      </p:pic>
      <p:cxnSp>
        <p:nvCxnSpPr>
          <p:cNvPr id="94" name="Straight Arrow Connector 8"/>
          <p:cNvCxnSpPr/>
          <p:nvPr/>
        </p:nvCxnSpPr>
        <p:spPr>
          <a:xfrm flipH="1">
            <a:off x="3961800" y="2970720"/>
            <a:ext cx="1448280" cy="726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" name="TextBox 9"/>
          <p:cNvSpPr/>
          <p:nvPr/>
        </p:nvSpPr>
        <p:spPr>
          <a:xfrm>
            <a:off x="5291640" y="259092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  <a:ea typeface="SimSun"/>
              </a:rPr>
              <a:t>MED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71600" y="1752480"/>
            <a:ext cx="6400800" cy="2895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omputers_industry_193415_tnb"/>
          <p:cNvPicPr/>
          <p:nvPr/>
        </p:nvPicPr>
        <p:blipFill>
          <a:blip r:embed="rId2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lth 2.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7524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The use of social software and IT-based tools to promote collaboration between patients, their caregivers, medical professionals, and other stakeholders in health.”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New concept of health care wherein all the constituents (patients, physicians, providers, and payers) focus on health care value (outcomes/price) and use competition at the medical condition level over the full cycle of care as the catalyst for improving the safety, efficiency, and quality of health care.”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131840" y="5943600"/>
            <a:ext cx="735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isdom of Patients, Jane Sarasohn-Kahn, California HealthCare Foundation, 20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ott Shreeve, The Enabling Technologies and Reform Initiatives for Next Generation Health Care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lth 2.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biquitous Internet connectivity among health citize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mobile phones an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use of smart phon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access to health information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social networking online overall; health has followed other consumer vertic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consumer-directed care: &gt;OOP costs drive eng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&gt; “DIY” care (esp. in recession – remember KFF tracking poll data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411120" y="839880"/>
            <a:ext cx="8217000" cy="5360760"/>
          </a:xfrm>
          <a:prstGeom prst="rect">
            <a:avLst/>
          </a:prstGeom>
          <a:ln w="0">
            <a:noFill/>
          </a:ln>
        </p:spPr>
      </p:pic>
      <p:sp>
        <p:nvSpPr>
          <p:cNvPr id="129" name="Title 1"/>
          <p:cNvSpPr/>
          <p:nvPr/>
        </p:nvSpPr>
        <p:spPr>
          <a:xfrm>
            <a:off x="-304920" y="30492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tients Se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versations with Docs Will Beco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ong with Personal and Health Expert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549680" y="3598920"/>
            <a:ext cx="193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Health companies’ Web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549680" y="3801960"/>
            <a:ext cx="12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TV News co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549680" y="3967200"/>
            <a:ext cx="15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Articles in mag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549680" y="4170240"/>
            <a:ext cx="278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Web sites for specific brands of med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549680" y="4335480"/>
            <a:ext cx="163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Films or document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549680" y="452592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Online message boards, forums or news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49680" y="471636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Articles in newspa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4549680" y="489420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Radio news co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549680" y="5084640"/>
            <a:ext cx="147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Personal blo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549680" y="527544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Social networking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549680" y="564372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Corporate and product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549680" y="5465880"/>
            <a:ext cx="21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alibri"/>
              </a:rPr>
              <a:t>Web-based video sharing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675560" y="4838760"/>
            <a:ext cx="124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Net becoming more import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595959"/>
                </a:solidFill>
                <a:latin typeface="Arial"/>
              </a:rPr>
              <a:t>Net becoming less import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7610400" y="5113440"/>
            <a:ext cx="103320" cy="117360"/>
          </a:xfrm>
          <a:prstGeom prst="rect">
            <a:avLst/>
          </a:prstGeom>
          <a:solidFill>
            <a:srgbClr val="005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7632720" y="5587920"/>
            <a:ext cx="104760" cy="119160"/>
          </a:xfrm>
          <a:prstGeom prst="rect">
            <a:avLst/>
          </a:prstGeom>
          <a:solidFill>
            <a:srgbClr val="6d8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1660680" y="6172200"/>
            <a:ext cx="588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Edelman Health Engagement Barometer, October 200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cessed at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ageinhealth.com/docs/Edel_HealthBarometer_R13c.pd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omputers_industry_193415_tnb"/>
          <p:cNvPicPr/>
          <p:nvPr/>
        </p:nvPicPr>
        <p:blipFill>
          <a:blip r:embed="rId3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mise of moving beyond the institution for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hieving optimal health outcomes is a team sport; patient as engaged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ing technologies are in place: broadband, mobile (mHealth),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markets forging ahead…pioneer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ng payment: Kaiser, Geisinger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ovating care delivery: Center for Connected Health Cleveland Cli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mergence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articipatory health car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’s list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1716120" cy="19051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921400" y="2057400"/>
            <a:ext cx="530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e Sarasohn-Kahn, MA (Econ.), M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Economist and Managem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-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jane@think-healt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think-healt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healthpopuli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2120" y="1752480"/>
            <a:ext cx="7696080" cy="2438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admap – PCMH &amp; Health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yond the Bri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tting the context: What are PCMH and H2.0? What’s driving them? Where are we ‘today?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view from Dr. Jason Mitchell, AAF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view from Dr. Michael Barr, AC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actions from the pane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Questions, answers, prospects for moving Beyond the Bric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U.S. Health Spending in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$2.2 tril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684440" y="6248520"/>
            <a:ext cx="56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hronic Disease Overview, Centers for Disease Control and Pre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dc.gov/nccdphp/overview.htm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ccessed July 21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tent Placeholder 2"/>
          <p:cNvSpPr/>
          <p:nvPr/>
        </p:nvSpPr>
        <p:spPr>
          <a:xfrm>
            <a:off x="457200" y="106668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ur country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tients are the most und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tilized resour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nd they have the most at stak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y want to be involved and they can be involv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ir participation will lead to better med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comes at lower costs with dramatically hig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tient/customer satisfacti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les Safran, M.D., President, American Medical Informatic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his testimony before the Subcommittee on Health of the House Committee on Ways and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computers_industry_193415_tnb"/>
          <p:cNvPicPr/>
          <p:nvPr/>
        </p:nvPicPr>
        <p:blipFill>
          <a:blip r:embed="rId1"/>
          <a:stretch/>
        </p:blipFill>
        <p:spPr>
          <a:xfrm>
            <a:off x="0" y="5638680"/>
            <a:ext cx="928800" cy="94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6480" y="65768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INK-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tresses Me Out Too Much To Think About Health Care and Cos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755720" y="6248520"/>
            <a:ext cx="63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IGNA, learn4yourhealth survey, conducted July 2009, published Septem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387000" y="3064680"/>
            <a:ext cx="196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% of Americ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We Don’t Get Preventive Care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136600" y="6172200"/>
            <a:ext cx="515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Fixing Health Care: What Women Want, AAFP survey, Ma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s’ Health-Responses to the Economic Down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9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 the past 12 months, have you or another family member living in your household…because of the COS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B1B-33D7-438D-9D4F-903D9EDFA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7080" y="6400800"/>
            <a:ext cx="48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Kaiser Family Foundation Health Tracking Poll, August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pproach to providing comprehensive primary care that facilitates partnerships between individual patients, their personal physicians, and the patient’s famil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arted with kids in 1967: first introduced by American Academy of Pediatrics in 1967, expanded in 1992 and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219320" y="5867280"/>
            <a:ext cx="731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American Academy of Family Physicians, American Academy of Pediatrics, American Colle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hysicians, and American Osteopathic Association. Joint principles of the patient-centered medical home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atient-Centered Medical H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hance ac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uild on consumer-driven health and patient satisf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ate patient engagement and whole-person c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ationalize and coordinate health care processes and util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rove outco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2:58:23Z</dcterms:created>
  <dc:creator>Jane</dc:creator>
  <dc:description/>
  <dc:language>en-US</dc:language>
  <cp:lastModifiedBy>Steve</cp:lastModifiedBy>
  <dcterms:modified xsi:type="dcterms:W3CDTF">2009-10-29T02:14:30Z</dcterms:modified>
  <cp:revision>74</cp:revision>
  <dc:subject/>
  <dc:title>The Patient-Centered Medical Home and  Health 2.0 Chasm or Yin/Yang?</dc:title>
</cp:coreProperties>
</file>