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 Unicode MS"/>
              </a:rPr>
              <a:t>Click to move the slide</a:t>
            </a: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0DBA1-D3CF-4EF7-9ACD-8DE35FBA7A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C3AD8-3E41-499B-B316-F01934398E6D}" type="slidenum"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23143-5DF6-42C5-A80C-851AB06472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B79F7-36C5-4ECC-9533-3798ED55D85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4FC6-C069-4582-8541-BF402CF50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0C3A-D02D-40BD-B6C6-0A3BB195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7B7E-9874-4357-96CF-B4E7CC5B9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DA23-A325-400C-B312-0F2BE7D11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0628C-DA66-4568-A7D8-00D3323DD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C53B7-B934-4C88-905D-6892F20D1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37D1C-1819-4D89-8805-80F1DE41B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F445D-3390-4DCE-A4AC-5DBD40AA3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99E2C-3B18-4E45-80F1-BB8D726E3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A7ED9-F549-4F58-A767-CE774C9DF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A119D-79B8-4DAA-A19B-408A5E4E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B5D7-69C9-4B8E-B83B-6B6C963BD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01DD4-D6D9-4390-A33B-18D4A4F6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A8F7B-F268-41B4-AA8E-23BF4619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53154-07AB-4BD6-9E75-C4AB5E262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56048-8213-42F2-B60C-C37B9489D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F968E-EA5F-404D-8588-0970225B4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34C0F-9ADC-4953-86D8-D0200D642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0ECE5-774F-4CD8-9853-3F1DE87E0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9FB21-35B4-4EAA-A62C-5E9761F8D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B97BB-F1F9-49E3-9829-36AF803C1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5E104-4C0C-4DE8-9E08-AE6EDED16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C3E2-71BA-4E50-AAD7-F9940DB6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0ED5A-97EE-4920-BE06-FF39E07F8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6D35A-E6D3-4553-AE51-E5A6558A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9BDBB-A892-47D5-912F-77C7AA2F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DB7B6-79BC-4CD4-8417-46D4C1EC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8B799-0847-48DE-98BB-836B685CE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ACB33-B173-492B-A346-63A46051C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DFB97-41EC-478D-9B10-5EF7C80E3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BF207-8106-4FC8-A4DC-10FDCDCEB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1D913-DB15-414E-92D9-4720F2F09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A478F-13ED-4A05-A764-2221CCE3E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5316-4B9D-4826-9AC8-5C49C4C88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E2889-DDD7-42D0-B62D-648B7DE27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4E023-07DC-491F-93AB-9926843A9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11FDC-E802-4F17-8683-5E1A5A1A7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9C408-BF61-4A5B-9451-CA74D334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1A906-CB4A-4D85-B2BC-BB460BF4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8997B-E459-44E0-89BC-CFE161A2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32DDA-54E3-40C2-A80C-ED1B5F515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DDA34-6491-4ED9-AE57-982031D7D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89B26-ECDC-4413-B000-011792144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90A6-CCBC-4343-B5E4-3E081CA58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5F4F-E7AB-4901-B7CC-D45FA5916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BB7E-0327-40E9-AFA8-B894C9A9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EE74-CFB6-46CE-82A4-A173D3B3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5D36-CB06-41A1-BA67-2B3405C3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 Unicode MS"/>
              </a:rPr>
              <a:t>Click to edit the title text format</a:t>
            </a: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75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3" marL="1339920" indent="-316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5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6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1EBC1-91F4-42D3-ABDC-FD250877632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56E56-A381-4119-B5EA-5288EDD41F1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D9C5D-76C9-4660-A149-1858837060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3A2ED-546D-48F7-A587-BCDFEFEC14B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59DE5-7D5E-4143-8033-820F3CDF4C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 Unicode MS"/>
              </a:rPr>
              <a:t>Click to edit the title text format</a:t>
            </a: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75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3" marL="1339920" indent="-316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5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6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72DD7-CB4F-4F6A-A15B-DD787763416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81536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Unicode MS"/>
              </a:rPr>
              <a:t>Experience in improving healthcare decision-making with health IT: </a:t>
            </a:r>
            <a:r>
              <a:rPr b="0" lang="en-US" sz="4000" spc="-1" strike="noStrike">
                <a:solidFill>
                  <a:srgbClr val="ffc000"/>
                </a:solidFill>
                <a:latin typeface="Arial Unicode MS"/>
              </a:rPr>
              <a:t>integrating theory, research, and practice</a:t>
            </a:r>
            <a:endParaRPr b="0" lang="en-US" sz="40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295280" y="4343400"/>
            <a:ext cx="7391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Matthew Samore, MD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VA Salt Lake City Health Care System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Professor of Internal Medic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Adjunct Professor of Biomedical Informatics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University of Utah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 Unicode MS"/>
              </a:rPr>
              <a:t>System co-evolution</a:t>
            </a: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Fundamental theorem in informatics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Unicode MS"/>
              </a:rPr>
              <a:t>C. Friedman J Am Med Inform Assoc</a:t>
            </a: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. 2009;16:169-170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Proposed modification: 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Arial Unicode MS"/>
              </a:rPr>
              <a:t>Computers plus humans create a distinct socio-technical system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2d050"/>
                </a:solidFill>
                <a:latin typeface="Arial Unicode MS"/>
              </a:rPr>
              <a:t>Characteristics are not equivalent to other industries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98" name="Picture 3" descr="illustration of brain + computer ) &gt; brain"/>
          <p:cNvPicPr/>
          <p:nvPr/>
        </p:nvPicPr>
        <p:blipFill>
          <a:blip r:embed="rId1"/>
          <a:stretch/>
        </p:blipFill>
        <p:spPr>
          <a:xfrm>
            <a:off x="1143000" y="2095560"/>
            <a:ext cx="419112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 Unicode MS"/>
              </a:rPr>
              <a:t>Relevance</a:t>
            </a: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Level of inference needed to assess causal effect of health information technology: 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Arial Unicode MS"/>
              </a:rPr>
              <a:t>Socio-technical system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Potential benefits of simulation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 Unicode MS"/>
              </a:rPr>
              <a:t>Cognitive processing</a:t>
            </a: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Motivation, mental models, tasks, goals 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Influenced by social context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Lack of fit-to-workflow experienced as: 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Information overload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Interruptions 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Arial Unicode MS"/>
              </a:rPr>
              <a:t>Relevance</a:t>
            </a:r>
            <a:endParaRPr b="0" lang="en-US" sz="38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14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Cognitive informatics methods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70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Task analysis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70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Direct observation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70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Match implementation strategy to task complexity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Arial Unicode MS"/>
              </a:rPr>
              <a:t>Second law of thermodynamics as applied to cognition:</a:t>
            </a:r>
            <a:endParaRPr b="0" lang="en-US" sz="38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Humans seek states of reduced cognitive effort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Workarounds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As cognitive load increases, automatic processing systems kick-in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Arial Unicode MS"/>
              </a:rPr>
              <a:t>For those who believe that there is a Simpson’s quote for every situation</a:t>
            </a:r>
            <a:br>
              <a:rPr sz="3400"/>
            </a:br>
            <a:endParaRPr b="0" lang="en-US" sz="34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“</a:t>
            </a: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In this house, we obey the laws of thermodynamics!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Homer Simpson’s response when his daughter builds a perpetual motion machine in which energy </a:t>
            </a:r>
            <a:r>
              <a:rPr b="0" i="1" lang="en-US" sz="3000" spc="-1" strike="noStrike">
                <a:solidFill>
                  <a:srgbClr val="ffffff"/>
                </a:solidFill>
                <a:latin typeface="Arial Unicode MS"/>
              </a:rPr>
              <a:t>increases</a:t>
            </a: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 with time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 Unicode MS"/>
              </a:rPr>
              <a:t>Contextual Control Model</a:t>
            </a: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Feed-back systems not sufficient 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Need to anticipate and predict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Pure feedback systems subject to loss of stability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Time horizon is long in strategic control modes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Relevance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Link between decision support and surveillance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Surveillance contributes feedback and feed-forward capabilities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Unicode MS"/>
              </a:rPr>
              <a:t>Feedback &amp; feed-forward decision support</a:t>
            </a:r>
            <a:endParaRPr b="0" lang="en-US" sz="3600" spc="-1" strike="noStrike">
              <a:solidFill>
                <a:srgbClr val="ffff00"/>
              </a:solidFill>
              <a:latin typeface="Arial Unicode MS"/>
            </a:endParaRPr>
          </a:p>
        </p:txBody>
      </p:sp>
      <p:pic>
        <p:nvPicPr>
          <p:cNvPr id="212" name="Picture 6" descr="digram of patient, healthcare provider"/>
          <p:cNvPicPr/>
          <p:nvPr/>
        </p:nvPicPr>
        <p:blipFill>
          <a:blip r:embed="rId1"/>
          <a:stretch/>
        </p:blipFill>
        <p:spPr>
          <a:xfrm>
            <a:off x="228600" y="1828800"/>
            <a:ext cx="8686800" cy="35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Arial Unicode MS"/>
              </a:rPr>
              <a:t>Illustrative experience with decision support for antimicrobial prescribing</a:t>
            </a:r>
            <a:endParaRPr b="0" lang="en-US" sz="38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560" y="15238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Two different technologies studied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Clinical task: 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Management of patient with acute respiratory infection in outpatient setting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Whether or not to prescribe an antibiotic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Choosing the antibiotic 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Diagnostic label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Impact of perceived or actual patient demand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Unicode MS"/>
              </a:rPr>
              <a:t>Application of theory to practice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 Unicode MS"/>
              </a:rPr>
              <a:t>implementation of electronic health records in rural settings</a:t>
            </a:r>
            <a:endParaRPr b="0" lang="en-US" sz="3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533520" y="1828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Socio-technical system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Hook was electronic prescribing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Stepwise approach to adoption 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Accommodating variation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Readiness to change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Social context and clinic culture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Encouraging play 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Avoiding information overload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 Unicode MS"/>
              </a:rPr>
              <a:t>Acknowledgments</a:t>
            </a: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495320" y="1295280"/>
            <a:ext cx="43434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-325440"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Michael Rubin, MD, PhD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Kim Bateman, MD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Brian Sauer, PhD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Lucy Savitz, PhD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Tom Greene, PhD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R. Scott Evans, PhD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Randall Rupper, MD, MPH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0880" y="1066320"/>
            <a:ext cx="42674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Arial Unicode MS"/>
              </a:rPr>
              <a:t>Salt Lake VA Informatics, Decision Enhancement, ,and Surveillance  (IDEAS) Center</a:t>
            </a: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 Selected Investigators and Collaborators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3120" indent="-321840"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Jonathan Nebeker, MD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3120" indent="-321840"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Charlene Weir, PhD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3120" indent="-321840"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Frank Drews, PhD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3120" indent="-321840"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457200" y="4343400"/>
            <a:ext cx="83818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Partners: University of Utah, VA Salt Lake City, </a:t>
            </a:r>
            <a:r>
              <a:rPr b="0" i="1" lang="en-US" sz="2000" spc="-1" strike="noStrike">
                <a:solidFill>
                  <a:srgbClr val="ffffff"/>
                </a:solidFill>
                <a:latin typeface="Arial Unicode MS"/>
              </a:rPr>
              <a:t>Healthinsight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, CaduRx, Intermountain Healthcare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Funding: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VA HSR&amp;D REA 08-264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AHRQ R01 HS15413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AHRQ 1R18HS017308-01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4114800" cy="17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Unicode MS"/>
              </a:rPr>
              <a:t>Community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 Unicode MS"/>
              </a:rPr>
              <a:t>intervention plus clinical decision support system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 Unicode MS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Arial Unicode MS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 Unicode MS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2514600"/>
            <a:ext cx="41911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Standalone algorithms on handheld computers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Community randomized trial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219" name="Picture 4" descr="graph of chane in prescribing antimicrobial agent for visits"/>
          <p:cNvPicPr/>
          <p:nvPr/>
        </p:nvPicPr>
        <p:blipFill>
          <a:blip r:embed="rId1"/>
          <a:stretch/>
        </p:blipFill>
        <p:spPr>
          <a:xfrm>
            <a:off x="4800600" y="304920"/>
            <a:ext cx="3352680" cy="52020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5"/>
          <p:cNvSpPr/>
          <p:nvPr/>
        </p:nvSpPr>
        <p:spPr>
          <a:xfrm>
            <a:off x="152280" y="6127920"/>
            <a:ext cx="899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Samore MH et. al. JAMA. 2005 Nov 9;294(18):2305-14. </a:t>
            </a: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1" name="TextBox 7"/>
          <p:cNvSpPr/>
          <p:nvPr/>
        </p:nvSpPr>
        <p:spPr>
          <a:xfrm>
            <a:off x="4648320" y="563868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Effect on prescribing any antibiotic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4114800" cy="17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Unicode MS"/>
              </a:rPr>
              <a:t>Clinical decision support system integrated with computerized clinic order entry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 Unicode MS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Arial Unicode MS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 Unicode MS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3200040"/>
            <a:ext cx="41911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Algorithm usually triggered by ordering antibiotic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Clinic randomized trial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224" name="Picture 5" descr="graph on the effects on macrolide prescriptions"/>
          <p:cNvPicPr/>
          <p:nvPr/>
        </p:nvPicPr>
        <p:blipFill>
          <a:blip r:embed="rId1"/>
          <a:stretch/>
        </p:blipFill>
        <p:spPr>
          <a:xfrm>
            <a:off x="4495680" y="533520"/>
            <a:ext cx="426744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TextBox 7"/>
          <p:cNvSpPr/>
          <p:nvPr/>
        </p:nvSpPr>
        <p:spPr>
          <a:xfrm>
            <a:off x="4932000" y="5715000"/>
            <a:ext cx="372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Effect on macrolide prescriptions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 Unicode MS"/>
              </a:rPr>
              <a:t>Interpretation </a:t>
            </a: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Deciding whether to prescribe an antibiotic and choosing the drug involve different cognitive processes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marL="312120" indent="-31212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Given that decision to prescribe an antibiotic is made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1" marL="609480" indent="-29592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Possible to embed correct choice in workflow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marL="312120" indent="-31212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Feed-forward decision support needed to impact the “is this a situation that warrants an antibiotic” decision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marL="312120" indent="-31212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Relevant to drug-drug interaction alerting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Unicode MS"/>
              </a:rPr>
              <a:t>Recommendations and conclusions</a:t>
            </a:r>
            <a:endParaRPr b="0" lang="en-US" sz="40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Models fundamental to translation of research into practice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Incorporation of theory and models into comparative effectiveness research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Role of simulation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 Unicode MS"/>
              </a:rPr>
              <a:t>Thesis of this talk</a:t>
            </a: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228600" y="1142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Theory and models provide scientific underpinnings for generalization 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1" marL="642960" indent="-31212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Which supports comparative effectiveness research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For health services research and epidemiology: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1" marL="642960" indent="-31212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Use of models understood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For clinical decision support: 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1" marL="642960" indent="-31212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Not so much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Health information technology ≠ informatics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1" marL="642960" indent="-31212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Sub-disciplines such as cognitive informatics crucial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marL="329040" indent="-3290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 Unicode MS"/>
              </a:rPr>
              <a:t>More succinctly expressed:</a:t>
            </a: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“</a:t>
            </a: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The difference between theory and practice is that in theory there is no difference but in practice there is”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 Unicode MS"/>
              </a:rPr>
              <a:t>Statement of the problem:</a:t>
            </a: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599840"/>
            <a:ext cx="83059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A disproportionate amount of literature on the benefits [of health information technology] that have been realized comes from a small set of early-adopter institutions that implemented internally developed health information technology systems..”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7" name="TextBox 3"/>
          <p:cNvSpPr/>
          <p:nvPr/>
        </p:nvSpPr>
        <p:spPr>
          <a:xfrm>
            <a:off x="838080" y="556272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Unicode MS"/>
              </a:rPr>
              <a:t>Chaudhry et. al. </a:t>
            </a:r>
            <a:r>
              <a:rPr b="0" i="1" lang="en-US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 Unicode MS"/>
              </a:rPr>
              <a:t>Ann Intern Med. 2006;144:742-752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 Unicode MS"/>
              </a:rPr>
              <a:t>Addressing generalizability</a:t>
            </a: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In what contexts will effects generalize?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What accounts for variability in results?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Why are impacts lower in magnitude or narrower in scope in larger trials compared to single institution studies?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How to incorporate information about implementation, adoption, formative evaluation?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Unicode MS"/>
              </a:rPr>
              <a:t>Relevance to comparative effectiveness research (CER)</a:t>
            </a:r>
            <a:endParaRPr b="0" lang="en-US" sz="36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CER priorities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1" marL="629640" indent="-3056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Directly focused on health information technology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lvl="2" marL="960840" indent="-3297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Compare the effectiveness of alternative redesign strategies—using decision support capabilities, electronic health records, personal health records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629640" indent="-3056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Indirectly tied to health information technology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lvl="2" marL="960840" indent="-3297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Compare the effectiveness of various strategies 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3" marL="1259280" indent="-297000">
              <a:spcBef>
                <a:spcPts val="499"/>
              </a:spcBef>
              <a:buClr>
                <a:srgbClr val="ff9900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To control MRSA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3" marL="1259280" indent="-297000">
              <a:spcBef>
                <a:spcPts val="499"/>
              </a:spcBef>
              <a:buClr>
                <a:srgbClr val="ff9900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To control healthcare associated infection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3" marL="1259280" indent="-297000">
              <a:spcBef>
                <a:spcPts val="499"/>
              </a:spcBef>
              <a:buClr>
                <a:srgbClr val="ff9900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To enhance patients’ adherence to medication regimens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2" marL="960840" indent="-3297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629640" indent="-305640">
              <a:spcBef>
                <a:spcPts val="79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 Unicode MS"/>
              </a:rPr>
              <a:t>Addressing CER challenges </a:t>
            </a: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Need to explicitly formulate causal question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Determining identifiability 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Defining level of inference 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Validating methods to reduce bias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458200" cy="12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 Unicode MS"/>
              </a:rPr>
              <a:t>Conceptual frameworks (THEORY)</a:t>
            </a:r>
            <a:endParaRPr b="0" lang="en-US" sz="40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Natural &amp; engineered systems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Co-evolution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Cognitive processing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Information overload ↔ fit-to-workflow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Cyclical models of control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Feedback and feed-forward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2T04:37:37Z</dcterms:created>
  <dc:creator>u0102331</dc:creator>
  <dc:description/>
  <dc:language>en-US</dc:language>
  <cp:lastModifiedBy>Rasa</cp:lastModifiedBy>
  <dcterms:modified xsi:type="dcterms:W3CDTF">2009-10-26T05:07:08Z</dcterms:modified>
  <cp:revision>123</cp:revision>
  <dc:subject/>
  <dc:title>Ambulatory Patient Safety</dc:title>
</cp:coreProperties>
</file>