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4BF-928C-469B-A729-00348372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B80-01CF-4691-9ECE-6AA9946F8700}" type="slidenum"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D4C-2291-44CC-A7CD-689E8BAE7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1212-ECF0-4DF7-9A5C-6C1560C55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C9A-243B-4557-8328-121738FA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6AA-E313-444A-AEAA-8CF5379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D5A-87DE-43E3-B221-78A8A509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226-526B-48C1-99ED-3D0A1680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BA3-7476-4428-9B4A-41F04AC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0FDF-1310-405C-9A2A-EEB226E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AAC-9DD0-4B9A-95D9-C27681B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296A-91DA-4E85-8C82-E86C7A1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A620-E733-44F4-8935-85EFEF7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7CC-FEBC-474C-AD7A-FE4732F2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57C0-ED4A-4FD1-95A5-E3C9A4C2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B3D-88CC-4501-A9FA-F18B996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42E6-9EDE-4278-BF1D-023BF8E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881-BAC4-4F01-B4F2-BCD8B8E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92A0-8E76-4E21-B13C-248D970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A1F-0C68-4BBD-A89A-B7E8236C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B72-FEC6-46F4-AAC1-E29EB9E0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38BF-736C-4AC0-A416-3C4B0614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7C3A-8E39-40EF-BD8A-DAFFD37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F1462-27B6-48BC-9EFF-8AB28A1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22E2-C2C5-41D7-9B97-95307C1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F226-6285-4DEB-BCE4-C086DD5B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65D-1A08-42CF-A96A-45B4694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7E2F-35D2-4BEA-A7C5-392306D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8CA4-D296-40F3-8447-E3302D57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6569-94AB-47C3-811C-5EB7771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7046-67A9-4E87-84A8-8286E9B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F563-16AC-4D05-A1F7-6808B4D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28D3-D79A-4C6C-9AB4-FFE2B3DF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5FCC-1EB8-4C89-996F-F538A687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8E1D-8011-4320-846D-AB98F0AB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14F7-C3E5-4424-8F81-CED24ED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62FA-4796-458F-9185-3E60BCD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B74-F755-4B59-A590-A8C77E3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91047-E395-4F90-B6D5-0734E5E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D22E-ABAC-4BD9-AD29-C286192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DC14-F659-4AA3-91D3-2961EA4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1C8A-9879-4F40-BA55-6174F72D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7570-2F97-40B1-B4C3-903530E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F65E-5062-45AA-A779-9DC2A9BB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AA7A-7514-486E-BCA1-C61FC12A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8363-8C07-48B5-8F6F-5FF5A544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0A21-46D4-4CCE-88A0-F13B69B2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84E-3CF2-4A1B-BD89-2E38FC7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FF7-8FCE-4605-BBF3-1E8A6135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76B-57B5-42BA-8689-9263A80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A63-219D-4FFF-B67B-3689735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72A-2C02-49FB-BDA2-1BB48DE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75D-C9DE-4168-A57F-F3FCC7AFA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9082-1B4B-416B-8707-437CF153BA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BE2C-417E-4448-82E9-BBC4440FF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29D-E1BC-47E3-ABA1-13D275AC5E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AD72-BCB6-46BB-A670-63DFB251B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6DBC-469B-4B5D-837D-60168D9589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Experience in improving healthcare decision-making with health IT: </a:t>
            </a:r>
            <a:r>
              <a:rPr b="0" lang="en-US" sz="4000" spc="-1" strike="noStrike">
                <a:solidFill>
                  <a:srgbClr val="ffc000"/>
                </a:solidFill>
                <a:latin typeface="Arial Unicode MS"/>
              </a:rPr>
              <a:t>integrating theory, research, and practice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atthew Samore, MD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VA Salt Lake City Health Care Syste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fessor of Internal Medi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junct Professor of Biomedical Informatic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University of Utah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ystem co-evolution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undamental theorem in informatic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</a:rPr>
              <a:t>C. Friedman J Am Med Inform Assoc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. 2009;16:169-170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roposed modification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Arial Unicode MS"/>
              </a:rPr>
              <a:t>Computers plus humans create a distinct socio-technic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 Unicode MS"/>
              </a:rPr>
              <a:t>Characteristics are not equivalent to other industri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8" name="Picture 3" descr="illustration of brain + computer ) &gt; brain"/>
          <p:cNvPicPr/>
          <p:nvPr/>
        </p:nvPicPr>
        <p:blipFill>
          <a:blip r:embed="rId1"/>
          <a:stretch/>
        </p:blipFill>
        <p:spPr>
          <a:xfrm>
            <a:off x="1143000" y="2095560"/>
            <a:ext cx="41911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levanc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Level of inference needed to assess causal effect of health information technology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Unicode MS"/>
              </a:rPr>
              <a:t>Socio-technic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otential benefits of simul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gnitive processing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otivation, mental models, tasks, goals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luenced by social contex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Lack of fit-to-workflow experienced as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ation overloa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terruptions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Relevanc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ognitive informatics metho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sk analysi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irect observ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atch implementation strategy to task complexit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Second law of thermodynamics as applied to cognition: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umans seek states of reduced cognitive effor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orkaround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s cognitive load increases, automatic processing systems kick-i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Unicode MS"/>
              </a:rPr>
              <a:t>For those who believe that there is a Simpson’s quote for every situation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 this house, we obey the laws of thermodynamics!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omer Simpson’s response when his daughter builds a perpetual motion machine in which energy </a:t>
            </a:r>
            <a:r>
              <a:rPr b="0" i="1" lang="en-US" sz="3000" spc="-1" strike="noStrike">
                <a:solidFill>
                  <a:srgbClr val="ffffff"/>
                </a:solidFill>
                <a:latin typeface="Arial Unicode MS"/>
              </a:rPr>
              <a:t>increases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 with tim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textual Control Model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eed-back systems not sufficient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eed to anticipate and predic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Pure feedback systems subject to loss of stabilit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ime horizon is long in strategic control mode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levanc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Link between decision support and surveillanc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Surveillance contributes feedback and feed-forward capabiliti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Feedback &amp; feed-forward decision support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212" name="Picture 6" descr="digram of patient, healthcare provider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 Unicode MS"/>
              </a:rPr>
              <a:t>Illustrative experience with decision support for antimicrobial prescribing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5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wo different technologies studie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al task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nagement of patient with acute respiratory infection in outpatient setting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Whether or not to prescribe an antibiotic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hoosing the antibiotic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Diagnostic labe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mpact of perceived or actual patient deman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Application of theory to practi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implementation of electronic health records in rural settings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ocio-technical system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Hook was electronic prescribing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tepwise approach to adoption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ccommodating vari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eadiness to chang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ocial context and clinic cultur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ncouraging play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voiding information overloa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cknowledg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495320" y="1295280"/>
            <a:ext cx="4343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ichael Rubin, MD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Kim Bateman, M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Brian Sauer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Lucy Savitz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om Greene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. Scott Evans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andall Rupper, MD, MPH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066320"/>
            <a:ext cx="4267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 Unicode MS"/>
              </a:rPr>
              <a:t>Salt Lake VA Informatics, Decision Enhancement, ,and Surveillance  (IDEAS) Center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Selected Investigators and Collaborato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Jonathan Nebeker, M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harlene Weir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Frank Drews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57200" y="43434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ners: University of Utah, VA Salt Lake City, </a:t>
            </a: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Healthinsigh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, CaduRx, Intermountain Healthcar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unding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VA HSR&amp;D REA 08-26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HRQ R01 HS154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HRQ 1R18HS017308-0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ommunit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intervention plus clinical decision support syste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51460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tandalone algorithms on handheld computer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mmunity randomized tria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9" name="Picture 4" descr="graph of chane in prescribing antimicrobial agent for visits"/>
          <p:cNvPicPr/>
          <p:nvPr/>
        </p:nvPicPr>
        <p:blipFill>
          <a:blip r:embed="rId1"/>
          <a:stretch/>
        </p:blipFill>
        <p:spPr>
          <a:xfrm>
            <a:off x="4800600" y="304920"/>
            <a:ext cx="3352680" cy="5202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52280" y="6127920"/>
            <a:ext cx="89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amore MH et. al. JAMA. 2005 Nov 9;294(18):2305-14. 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648320" y="5638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ffect on prescribing any antibiotic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linical decision support system integrated with computerized clinic order entry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20004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lgorithm usually triggered by ordering antibiotic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 randomized tria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24" name="Picture 5" descr="graph on the effects on macrolide prescriptions"/>
          <p:cNvPicPr/>
          <p:nvPr/>
        </p:nvPicPr>
        <p:blipFill>
          <a:blip r:embed="rId1"/>
          <a:stretch/>
        </p:blipFill>
        <p:spPr>
          <a:xfrm>
            <a:off x="4495680" y="533520"/>
            <a:ext cx="426744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4932000" y="571500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ffect on macrolide prescription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Interpretation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eciding whether to prescribe an antibiotic and choosing the drug involve different cognitive process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Given that decision to prescribe an antibiotic is mad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09480" indent="-2959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ossible to embed correct choice in workflow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eed-forward decision support needed to impact the “is this a situation that warrants an antibiotic” decis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levant to drug-drug interaction alerting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Recommendations and conclusions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odels fundamental to translation of research into practic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corporation of theory and models into comparative effectiveness research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ole of simul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Thesis of this tal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eory and models provide scientific underpinnings for generalization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hich supports comparative effectiveness resear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r health services research and epidemiology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Use of models understoo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r clinical decision support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ot so mu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ealth information technology ≠ informatic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b-disciplines such as cognitive informatics crucia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ore succinctly expressed: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e difference between theory and practice is that in theory there is no difference but in practice there is”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tatement of the problem: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 disproportionate amount of literature on the benefits [of health information technology] that have been realized comes from a small set of early-adopter institutions that implemented internally developed health information technology systems..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838080" y="5562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Chaudhry et. al. </a:t>
            </a: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Ann Intern Med. 2006;144:742-75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ddressing generalizabilit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 what contexts will effects generalize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What accounts for variability in results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Why are impacts lower in magnitude or narrower in scope in larger trials compared to single institution studies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ow to incorporate information about implementation, adoption, formative evaluation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Relevance to comparative effectiveness research (CER)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ER prioriti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irectly focused on health information technolog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are the effectiveness of alternative redesign strategies—using decision support capabilities, electronic health records, personal health record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directly tied to health information technolog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are the effectiveness of various strategie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control MRS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control healthcare associated infecti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enhance patients’ adherence to medication regime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ddressing CER challenges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eed to explicitly formulate causal ques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termining identifiability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fining level of inference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Validating methods to reduce bia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Conceptual frameworks (THEORY)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atural &amp; engineered system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-evolutio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gnitive processing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ation overload ↔ fit-to-workflow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yclical models of contro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eedback and feed-forwar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04:37:37Z</dcterms:created>
  <dc:creator>u0102331</dc:creator>
  <dc:description/>
  <dc:language>en-US</dc:language>
  <cp:lastModifiedBy>Rasa</cp:lastModifiedBy>
  <dcterms:modified xsi:type="dcterms:W3CDTF">2009-10-26T05:07:08Z</dcterms:modified>
  <cp:revision>123</cp:revision>
  <dc:subject/>
  <dc:title>Ambulatory Patient Safety</dc:title>
</cp:coreProperties>
</file>