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85480" y="705960"/>
            <a:ext cx="4714920" cy="35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44280" y="4478040"/>
            <a:ext cx="5197320" cy="4244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95824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4014360" y="895824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0055BB2-57CE-4633-B17D-6E6312BE1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14720" y="895824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213A065-C67F-4522-B21B-7C429FA83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5840" y="70956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050-DFFB-439B-98EF-98FFDB6D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D23-FE68-4FEC-A279-829906B6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9D4-E1AB-4FA6-B510-302AC60C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237-A365-4264-BAD8-A7A27838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47C4-B808-4288-9FB9-BB6328C1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15A5-84D8-45A7-A96A-68DBD519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8E0A-9635-4A6F-AFC0-C9099FBB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E0EF-AE8D-472F-A22D-9246EB04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CD2D-BCE2-40E2-A01F-FA6FD704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BF40-12D0-4353-A981-25A6A92D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72D6-EC95-4731-9853-2D6F0370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59A-4F3A-4731-8996-91869453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B95C-C7D6-4382-AC83-2EE5FD16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74FD-28A5-4D5C-B353-4368B541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924F-7E85-4AC9-840E-97AA7750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4A4E-4FDC-4CE9-B2AC-8BB428C1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7142-8CCE-41C2-9761-6F3E1C5F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AEA-BCC1-4F61-8369-F31CE1B5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791-347A-4BFA-8EE6-03FD72A7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48B-7404-4C19-8A23-A14874BD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69C-F4F9-4A5A-8DCD-4BE1AE32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6A9-D4D0-4497-B755-CE8E08D8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E6A-B5BA-4782-A055-21D86005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6E9-CB4A-4788-BB6B-567393D5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468360">
              <a:spcBef>
                <a:spcPts val="799"/>
              </a:spcBef>
              <a:buClr>
                <a:srgbClr val="dab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97160" indent="-468360">
              <a:spcBef>
                <a:spcPts val="799"/>
              </a:spcBef>
              <a:buClr>
                <a:srgbClr val="dab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2066-48E5-46F7-B701-34CA735B52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dab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dab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dab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dab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468360">
              <a:spcBef>
                <a:spcPts val="799"/>
              </a:spcBef>
              <a:buClr>
                <a:srgbClr val="dab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97160" indent="-468360">
              <a:spcBef>
                <a:spcPts val="799"/>
              </a:spcBef>
              <a:buClr>
                <a:srgbClr val="dab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BB71-3FF6-4867-9E72-8DF8067A62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6858000" y="4572000"/>
            <a:ext cx="1905120" cy="1496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Patient Safety Training Evaluations: Reflections on Level 4 and more…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uardo Salas, Ph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artment of Psychology 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stitute of Simulation &amp;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iversity of Central Flor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alas@ist.ucf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3"/>
          <p:cNvSpPr txBox="1"/>
          <p:nvPr/>
        </p:nvSpPr>
        <p:spPr>
          <a:xfrm>
            <a:off x="-152280" y="2209680"/>
            <a:ext cx="8458200" cy="390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veryone  Who  Has  E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arned  Anything  is  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raining  Exp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yth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"/>
          <p:cNvSpPr/>
          <p:nvPr/>
        </p:nvSpPr>
        <p:spPr>
          <a:xfrm>
            <a:off x="8839080" y="6629400"/>
            <a:ext cx="381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l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inions aside, training is a behavioral/cognitive event that can be structured to empirical investig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science of training that should be exploited to optimize training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es exist which, if appropriately and consistently applied, can help to ensure that effective training is desig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3"/>
          <p:cNvSpPr txBox="1"/>
          <p:nvPr/>
        </p:nvSpPr>
        <p:spPr>
          <a:xfrm>
            <a:off x="0" y="2438280"/>
            <a:ext cx="8496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ASK EXPERTS CAN ARTICULAT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RAINING NEE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928000" y="66135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yth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8928000" y="66135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l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ts do not have access to their own experti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becomes “compile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experts do not necessarily understand the learning process or how learning progr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experts are crucial, but they must be paired with learning exper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609480" y="2286000"/>
            <a:ext cx="807732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33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actions to training =</a:t>
            </a:r>
            <a:endParaRPr b="0" lang="en-US" sz="1800" spc="1" strike="noStrike">
              <a:ln w="19080">
                <a:solidFill>
                  <a:srgbClr val="6633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33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ing</a:t>
            </a:r>
            <a:endParaRPr b="0" lang="en-US" sz="1800" spc="1" strike="noStrike">
              <a:ln w="19080">
                <a:solidFill>
                  <a:srgbClr val="6633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33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</a:t>
            </a:r>
            <a:endParaRPr b="0" lang="en-US" sz="1800" spc="1" strike="noStrike">
              <a:ln w="19080">
                <a:solidFill>
                  <a:srgbClr val="6633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y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l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st because trainees are having fun, doesn’t mean that they are learning anyth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little or no relation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ality” does seem to be a fac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seem to be related to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fects motivation to lea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easures of training outcomes are insufficient to judge training qua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685800" y="2209680"/>
            <a:ext cx="77724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33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ing  will  translate</a:t>
            </a:r>
            <a:endParaRPr b="0" lang="en-US" sz="1800" spc="1" strike="noStrike">
              <a:ln w="19080">
                <a:solidFill>
                  <a:srgbClr val="6633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33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o  Behavior  change</a:t>
            </a:r>
            <a:endParaRPr b="0" lang="en-US" sz="1800" spc="1" strike="noStrike">
              <a:ln w="19080">
                <a:solidFill>
                  <a:srgbClr val="6633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yth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5029200" y="175248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l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transfer is a very complex phenomen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of the facto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 Peer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mate for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portunity to perform/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when trainees demonstrate learning after training, it does not mean that they can or will transfer back to the jo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ing Differently about Training Evaluation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381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irkpatrick’s Model of Training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Group 10"/>
          <p:cNvGrpSpPr/>
          <p:nvPr/>
        </p:nvGrpSpPr>
        <p:grpSpPr>
          <a:xfrm>
            <a:off x="609480" y="1905120"/>
            <a:ext cx="8153640" cy="4749120"/>
            <a:chOff x="609480" y="1905120"/>
            <a:chExt cx="8153640" cy="4749120"/>
          </a:xfrm>
        </p:grpSpPr>
        <p:sp>
          <p:nvSpPr>
            <p:cNvPr id="153" name="Text Box 3"/>
            <p:cNvSpPr/>
            <p:nvPr/>
          </p:nvSpPr>
          <p:spPr>
            <a:xfrm>
              <a:off x="609480" y="5645520"/>
              <a:ext cx="8153640" cy="1008720"/>
            </a:xfrm>
            <a:prstGeom prst="rect">
              <a:avLst/>
            </a:prstGeom>
            <a:solidFill>
              <a:srgbClr val="ff66ff"/>
            </a:solidFill>
            <a:ln w="255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Level 1 – Re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id the participants like the training?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What do they plan to do with what they learne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4"/>
            <p:cNvSpPr/>
            <p:nvPr/>
          </p:nvSpPr>
          <p:spPr>
            <a:xfrm>
              <a:off x="862920" y="4635000"/>
              <a:ext cx="7421040" cy="100872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Level 2 – Lear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What skills, knowledge, or attitudes changed after training? By how much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5"/>
            <p:cNvSpPr/>
            <p:nvPr/>
          </p:nvSpPr>
          <p:spPr>
            <a:xfrm>
              <a:off x="1222200" y="3591000"/>
              <a:ext cx="6596280" cy="10087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Level 3 – Behavior / Training Trans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Did the participants change their behavior on-the-job based on what they learne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1607040" y="2599560"/>
              <a:ext cx="5588640" cy="1008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Level 4 – Results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Did the change in behavior positively affect the organization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1935720" y="1905120"/>
              <a:ext cx="4722120" cy="703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Level 5 – Return on Inves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Was the training worth the cos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3718080" y="6108840"/>
            <a:ext cx="183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rpose Today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199"/>
              </a:spcBef>
              <a:buClr>
                <a:srgbClr val="dab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ffer some observations &amp; my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1199"/>
              </a:spcBef>
              <a:buClr>
                <a:srgbClr val="dab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ime to think differ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1199"/>
              </a:spcBef>
              <a:buClr>
                <a:srgbClr val="dab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est 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s Model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served as we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, misused &amp; abus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d a misconception that Level 1 is all one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 simplified eval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s among levels, we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impact of training on Level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nical out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if we reverse Kirkpatrick’s model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art as Level 4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are the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outcomes/result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we want out of this training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vel 3: Given these wanted outcomes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behavior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we want/need of our trainee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vel 2:  Given these needed behaviors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SA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we want our trainees to hav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vel 1: Given those KSAs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action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we want our trainees to hav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do you get by reversing Kirkpatrick’s typology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 learning outco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links among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link of training to outco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53200" indent="-4100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nically-relev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nts for performance assessment/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ilor training program be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accoun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st Practices after Training Evaluation in…Healthcare, Aviation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st Practic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ven before designing your training, start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backward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: Think about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evaluation first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04000" indent="-50400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ccept that effective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ining does not exist without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ffective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evaluatio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04000" indent="-50400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rive for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robust, experimentation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sign in your evaluation: It is worth the headach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04000" indent="-50400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hen designing your evaluation plan and metrics,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sk the experts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– your frontline staff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04000" indent="-50400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o not reinvent the wheel,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leverage existing data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levant to training objectiv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st Practices (cont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hen developing measures: Consider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multiple aspects of performanc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3560" indent="-49356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hen developing measures: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Design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varianc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3560" indent="-49356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Evaluation is affected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y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han just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ining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itself: Consider organizational, team, or other factors which may help (or hinder) the effects of training (and thus the outcome of your evaluati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3560" indent="-49356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ngage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ocially powerful players early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: Physicians, nursing &amp; executive management is crucial to evaluation success…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few thoughts about the science of training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st Practices (cont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Ensure evaluation continuity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: Have a plan for employee turnover at both the participant &amp; evaluation administration team level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3560" indent="-49356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nvironmental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ignals before, during, and after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raining must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indicate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at the trained KSAs &amp; the evaluation itself are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ued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by the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organizatio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3560" indent="-49356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et in the game coach!  Feed evaluation results back to frontline providers &amp;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facilitate continual improvement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hrough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onstructive coaching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3560" indent="-49356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port evaluation results in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meaningful way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1001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void Myths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1001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ining Evaluation matters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1001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erse Kirkpatrick’s typology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do we know about training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ience has evolved &amp; matured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st decade—an explosion of research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mpirical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 conducted in organ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, more &amp; deeper theories and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valuations repo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ge military investmen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luence of cognitive psychology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t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do we know about training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progress i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need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gnitive task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al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eval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ion-based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character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bservations From the Scien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quality and quantity of research has incr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gnitive and organizational concepts is revolutionizing the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eld is multi-discipl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fluence of technology will contin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is part of an organizational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more guidelines, tools and approaches for practit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066680" y="1087560"/>
            <a:ext cx="7010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62120" y="3049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EdChartForPPT"/>
          <p:cNvPicPr/>
          <p:nvPr/>
        </p:nvPicPr>
        <p:blipFill>
          <a:blip r:embed="rId1"/>
          <a:stretch/>
        </p:blipFill>
        <p:spPr>
          <a:xfrm>
            <a:off x="1295280" y="1785960"/>
            <a:ext cx="6629400" cy="4929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ramework for Training Effective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yths &amp; misconceptions about training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Simplistic View of Train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17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nformed About the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neous Assump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838080" y="2444760"/>
            <a:ext cx="1676520" cy="825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killed Wo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3429000" y="2444760"/>
            <a:ext cx="1676520" cy="825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6019920" y="2444760"/>
            <a:ext cx="1676160" cy="825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ed Wo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7"/>
          <p:cNvSpPr/>
          <p:nvPr/>
        </p:nvSpPr>
        <p:spPr>
          <a:xfrm>
            <a:off x="2514600" y="2819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5105520" y="2819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6:40:04Z</dcterms:created>
  <dc:creator>Amy Wojtanowski</dc:creator>
  <dc:description/>
  <dc:language>en-US</dc:language>
  <cp:lastModifiedBy> </cp:lastModifiedBy>
  <cp:lastPrinted>2001-10-03T18:45:04Z</cp:lastPrinted>
  <dcterms:modified xsi:type="dcterms:W3CDTF">2010-03-02T15:47:14Z</dcterms:modified>
  <cp:revision>127</cp:revision>
  <dc:subject/>
  <dc:title>No Slide Title</dc:title>
</cp:coreProperties>
</file>