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3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51760" y="888264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48AD0D-9117-4A8B-80DD-48E0615B3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were the 3 original modules of AHRQ Quality Indica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e of Outcome Measures in Payment Reform: Rationa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4038480"/>
            <a:ext cx="8686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ck S. Romano, MD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 Davis Center for Healthcare Policy an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hesda, MD; September 14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optimal health care quality and outcomes contribute to excess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Business case”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Impact of preventing PSI on mortality, LOS, charges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NIS 2000 analysis by Zhan &amp; Miller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JAMA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2003;290:1868-74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447920"/>
          <a:ext cx="8686800" cy="480852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95280"/>
                <a:gridCol w="16002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rt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LOS (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arg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septicem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7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ed infections due to medical c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 abd/pelvic wound dehiscenc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respiratory fail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5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physiologic or metabolic derange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,8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thromboembolis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ip fract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ubitus ulc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8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emorrhage/hemato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4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70"/>
          <p:cNvSpPr/>
          <p:nvPr/>
        </p:nvSpPr>
        <p:spPr>
          <a:xfrm>
            <a:off x="228600" y="6477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cess mortality, LOS, and charges computed from mean values for PSI cases and matched control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Business case”: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 Narrow"/>
              </a:rPr>
              <a:t>Impact of preventing PSI on mortality, LOS, VA cost</a:t>
            </a:r>
            <a:br>
              <a:rPr sz="2800"/>
            </a:b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VA PTF 2001 analysis by Rivard et al.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Med Care Res Rev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; 65(1):67-87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523880"/>
          <a:ext cx="868680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1371600"/>
                <a:gridCol w="1295280"/>
                <a:gridCol w="16002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rt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LOS (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o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septicem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1,26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ed infections due to medical ca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8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 abd/pelvic wound dehiscenc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respiratory fail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74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physiologic or metabolic derange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thromboembolis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2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ip fract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atrogenic pneumothora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ubitus ulc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7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emorrhage/hemato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6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al puncture or lacer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5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70"/>
          <p:cNvSpPr/>
          <p:nvPr/>
        </p:nvSpPr>
        <p:spPr>
          <a:xfrm>
            <a:off x="228600" y="64771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cess mortality, LOS, and charges computed from mean values for PSI cases and matched control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Narrow"/>
              </a:rPr>
              <a:t>Uncertain “business case” for some PSIs</a:t>
            </a:r>
            <a:br>
              <a:rPr sz="3200"/>
            </a:b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Zhan &amp; Miller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JAMA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2003;290:1868-74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Rosen et al., </a:t>
            </a:r>
            <a:r>
              <a:rPr b="1" i="1" lang="en-US" sz="2000" spc="-1" strike="noStrike">
                <a:solidFill>
                  <a:srgbClr val="ffff66"/>
                </a:solidFill>
                <a:latin typeface="Arial Narrow"/>
              </a:rPr>
              <a:t>Med Care</a:t>
            </a:r>
            <a:r>
              <a:rPr b="1" lang="en-US" sz="2000" spc="-1" strike="noStrike">
                <a:solidFill>
                  <a:srgbClr val="ffff66"/>
                </a:solidFill>
                <a:latin typeface="Arial Narrow"/>
              </a:rPr>
              <a:t> 2005;43:873-84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1523880"/>
          <a:ext cx="8678880" cy="3624480"/>
        </p:xfrm>
        <a:graphic>
          <a:graphicData uri="http://schemas.openxmlformats.org/drawingml/2006/table">
            <a:tbl>
              <a:tblPr/>
              <a:tblGrid>
                <a:gridCol w="4411800"/>
                <a:gridCol w="1371600"/>
                <a:gridCol w="1295280"/>
                <a:gridCol w="160020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Mort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LOS (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Charg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Birth trau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-0.1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-0.1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30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cesarea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Obstetric trauma - vaginal w/out instrument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-10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  <a:ea typeface="Times New Roman"/>
                        </a:rPr>
                        <a:t>Obstetric trauma - vaginal w instrumenta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0.0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2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lications of anesthesia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nsfusion reaction*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.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00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reign body left during procedure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3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50"/>
          <p:cNvSpPr/>
          <p:nvPr/>
        </p:nvSpPr>
        <p:spPr>
          <a:xfrm>
            <a:off x="304920" y="5943600"/>
            <a:ext cx="86104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* All differences NS for transfusion reaction and complications of anesthesia in VA/PTF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†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ortality difference NS for foreign body in VA/PT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HRQ Patient Safety Indicators (PSIs) were used to identify selected medical and surgical inju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mson Reuters Projected Inpatient Data Base for federal FY 2007 (based on 21.5 million discharge abstracts from 2,620 acute hospital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ression models were used to adjust for age, sex, clinical category, and comorbid condi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coefficients were used to estimate annual impact attributable to PSI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2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impact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most 30,000 excess deat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4 million excess hospital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$9 billion in excess hospital cos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Thomson Reuters analysis of PSI business case</a:t>
            </a:r>
            <a:br>
              <a:rPr sz="3000"/>
            </a:b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ster et al., AcademyHealth 200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International evidence of “business case” from case control analysis of PSIs in NHS England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121"/>
          <p:cNvSpPr/>
          <p:nvPr/>
        </p:nvSpPr>
        <p:spPr>
          <a:xfrm>
            <a:off x="611280" y="5661000"/>
            <a:ext cx="79930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l differences were statistically significant at p&lt;0.001 except as not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leigh VS, Cooper J, Bremner SA, Scobie S, Patient safety indicators for England from hospital administrative data,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MJ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, 337; a17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484280"/>
          <a:ext cx="8507520" cy="4041720"/>
        </p:xfrm>
        <a:graphic>
          <a:graphicData uri="http://schemas.openxmlformats.org/drawingml/2006/table">
            <a:tbl>
              <a:tblPr/>
              <a:tblGrid>
                <a:gridCol w="5105520"/>
                <a:gridCol w="1817640"/>
                <a:gridCol w="1584360"/>
              </a:tblGrid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ssions, England, 2005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cess LOS (day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ce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rtalit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ercent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sure ulc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idental puncture of lu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3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ntral line and device related infection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4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7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hip fract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2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toperative sepsi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.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 vaginal with instrument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 vaginal without instrum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bstetric trauma – caesarea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* (N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6978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is not generally associated with overall costs, but improving quality often reduces provider revenue given current pay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tal Medicare payments vary widely across Hospital Referral Reg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" name="Picture 4" descr="map"/>
          <p:cNvPicPr/>
          <p:nvPr/>
        </p:nvPicPr>
        <p:blipFill>
          <a:blip r:embed="rId1"/>
          <a:stretch/>
        </p:blipFill>
        <p:spPr>
          <a:xfrm>
            <a:off x="0" y="1351080"/>
            <a:ext cx="5943600" cy="375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5867280" y="1595520"/>
            <a:ext cx="3276720" cy="3201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152280" y="5097600"/>
            <a:ext cx="876312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846000" y="1371600"/>
          <a:ext cx="73836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chart of quality of car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371600"/>
                    <a:ext cx="7383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05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Quality and costs of care for Medicare patients hospital-ized for heart attacks, hip fractures, or colon cancer,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by Hospital Referral Regions, 2004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4280" y="5807160"/>
            <a:ext cx="813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Indexed to risk-adjusted 1-year survival rate (median=0.7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 Risk-adjusted spending on hospital and physician services using standardized national pri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E. Fisher, J. Sutherland, and D. Radley, Dartmouth Medical School analysis of data from a 20% national sample of Medicare beneficia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2108160" y="3378240"/>
            <a:ext cx="5575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5943600" y="1781280"/>
            <a:ext cx="0" cy="3217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2924280" y="1925640"/>
            <a:ext cx="2943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 relative resource use=$27,4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 rot="16200000">
            <a:off x="-123480" y="3141360"/>
            <a:ext cx="305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of Care*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-Year Survival Index, Median=7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80" name="Rectangle 10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F64DE83-7484-4921-A9D8-E8926D8E1B31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tion in quality and outcomes is substantial and is driven (at least somewhat) by provid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optimal health care quality and outcomes contribute to excess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quality is not generally associated with higher overall costs, but improving quality often reduces provider revenue under current pay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Estimated excess 90-day payments due to AHRQ PSIs, 2001-2 MarketScan Commmercial Claims Database (5.6 m enrollees)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Text Box 121"/>
          <p:cNvSpPr/>
          <p:nvPr/>
        </p:nvSpPr>
        <p:spPr>
          <a:xfrm>
            <a:off x="609480" y="5562720"/>
            <a:ext cx="79930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l differences in total excess payments were statistically significant at p&lt;0.001 except for Technical Problems and Wound Problems, after adjusting for propensity based on 92 collapsed DRGs, 20 comorbidities, and 12 other patient characteristic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cinosa and Hellinger,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S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43:2067-8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447920"/>
          <a:ext cx="8686800" cy="4062240"/>
        </p:xfrm>
        <a:graphic>
          <a:graphicData uri="http://schemas.openxmlformats.org/drawingml/2006/table">
            <a:tbl>
              <a:tblPr/>
              <a:tblGrid>
                <a:gridCol w="2133720"/>
                <a:gridCol w="1218960"/>
                <a:gridCol w="1600200"/>
                <a:gridCol w="1371600"/>
                <a:gridCol w="1219320"/>
                <a:gridCol w="1143000"/>
              </a:tblGrid>
              <a:tr h="87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spcBef>
                          <a:spcPts val="711"/>
                        </a:spcBef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ient safety event clas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8cf4ea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hos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adm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Outpat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ct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echnical problem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$64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1,40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$61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$9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$4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Infection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9,48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,67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59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04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ulmonary/vascula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7,83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53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5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cute respiratory failur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28,21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,82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70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3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Metabolic problem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1,79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53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11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Wound problem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,42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28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2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ursing-sensitive even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1" lang="en-GB" sz="1900" spc="-1" strike="noStrike">
                          <a:solidFill>
                            <a:srgbClr val="8cf4ea"/>
                          </a:solidFill>
                          <a:latin typeface="Arial"/>
                          <a:ea typeface="Times New Roman"/>
                        </a:rPr>
                        <a:t>12,19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65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8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30120" indent="-330120" algn="r">
                        <a:lnSpc>
                          <a:spcPct val="90000"/>
                        </a:lnSpc>
                        <a:tabLst>
                          <a:tab algn="l" pos="0"/>
                          <a:tab algn="l" pos="879480"/>
                          <a:tab algn="l" pos="1758960"/>
                          <a:tab algn="l" pos="2638440"/>
                          <a:tab algn="l" pos="3517920"/>
                          <a:tab algn="l" pos="4397400"/>
                          <a:tab algn="l" pos="5276880"/>
                          <a:tab algn="l" pos="6156360"/>
                          <a:tab algn="l" pos="7035840"/>
                          <a:tab algn="l" pos="7915320"/>
                          <a:tab algn="l" pos="8794800"/>
                          <a:tab algn="l" pos="9674280"/>
                          <a:tab algn="l" pos="1055376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520" y="396360"/>
            <a:ext cx="746424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Ambulatory care-sensitive hospitalizations (AHRQ PQI) for select conditions across stat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5880" y="1371600"/>
          <a:ext cx="298476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371600"/>
                    <a:ext cx="298476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244680" y="1676520"/>
          <a:ext cx="2928960" cy="37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4680" y="1676520"/>
                    <a:ext cx="29289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6"/>
          <p:cNvSpPr/>
          <p:nvPr/>
        </p:nvSpPr>
        <p:spPr>
          <a:xfrm>
            <a:off x="457200" y="1371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justed rate per 100,000 popu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152280" y="1371600"/>
            <a:ext cx="8762760" cy="4244400"/>
            <a:chOff x="152280" y="1371600"/>
            <a:chExt cx="8762760" cy="4244400"/>
          </a:xfrm>
        </p:grpSpPr>
        <p:graphicFrame>
          <p:nvGraphicFramePr>
            <p:cNvPr id="194" name=""/>
            <p:cNvGraphicFramePr/>
            <p:nvPr/>
          </p:nvGraphicFramePr>
          <p:xfrm>
            <a:off x="152280" y="1371600"/>
            <a:ext cx="3227760" cy="403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1371600"/>
                      <a:ext cx="3227760" cy="403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Text Box 9"/>
            <p:cNvSpPr/>
            <p:nvPr/>
          </p:nvSpPr>
          <p:spPr>
            <a:xfrm>
              <a:off x="3468240" y="5308920"/>
              <a:ext cx="264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Diabetes*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10"/>
            <p:cNvSpPr/>
            <p:nvPr/>
          </p:nvSpPr>
          <p:spPr>
            <a:xfrm>
              <a:off x="656280" y="5296320"/>
              <a:ext cx="25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Heart fail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6342840" y="5296320"/>
              <a:ext cx="25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Pediatric asth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668880" y="5296320"/>
              <a:ext cx="249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3556440" y="5308920"/>
              <a:ext cx="249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6355800" y="5284080"/>
              <a:ext cx="2496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44280" y="5638680"/>
            <a:ext cx="9099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^ 2002 data for heart failure and diabetes; 2003 data for pediatric asthma. *Combines four diabetes admission measures: uncontrolled, short-term complications, long-term complications, and lower extremity amputation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National average—Healthcare Cost and Utilization Project, Nationwide Inpatient Sample; State distribution—State Inpatient Databases; not all states participate in HCUP (AHRQ 2005, 2007a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16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04" name="Rectangle 17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EC192A8-E2A3-4E67-B586-7423A5A8E0AD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03440" y="228600"/>
            <a:ext cx="7540560" cy="806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Medicare admissions for AHRQ PQIs, rates and associated costs, by Hospital Referral Region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760" y="1879560"/>
          <a:ext cx="45021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bar graph of rate of ACS admissions per 10,000 beneficiaries&#13;&#10;bar graph of costs of ACS admissions as percent of all discharge cost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" y="1879560"/>
                    <a:ext cx="45021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546440" y="1905120"/>
          <a:ext cx="4457880" cy="40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44578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"/>
          <p:cNvSpPr/>
          <p:nvPr/>
        </p:nvSpPr>
        <p:spPr>
          <a:xfrm>
            <a:off x="76320" y="1415880"/>
            <a:ext cx="426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te of ACS admissions per 10,000 beneficia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4896000" y="1415880"/>
            <a:ext cx="41148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sts of ACS admissions as percent of all discharge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778040" y="568800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rcent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343560" y="5688000"/>
            <a:ext cx="239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rcent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4280" y="5969160"/>
            <a:ext cx="9099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report Appendix B for complete list of ambulatory care-sensitive conditions used in the analysi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G. Anderson and R. Herbert, Johns Hopkins University analysis of</a:t>
            </a:r>
            <a:r>
              <a:rPr b="0" lang="da-DK" sz="1200" spc="-1" strike="noStrike">
                <a:solidFill>
                  <a:srgbClr val="ffffff"/>
                </a:solidFill>
                <a:latin typeface="Arial"/>
              </a:rPr>
              <a:t> Medicare Standard Analytical Files (SAF) 5% Inpatient Dat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943600" y="5626080"/>
            <a:ext cx="282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1573200" y="5626080"/>
            <a:ext cx="277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19" name="Rectangle 14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C702157-3FC2-4923-B778-BD1CEEFDAE5A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Prevention Quality Indicators (PQIs) to 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y and test existing PQIs using State Emergency Department Databases (SED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ed “enhanced PQIs” into the Preventable Hospitalization Costs Mapping Too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HRQ ED Patient Safety Indicators (EDP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AHRQ Efficiency and Resource Use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incorporate “Present on Admission” logic into the AHRQ P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algorithms grafted POA onto previous algorithms, resulting in enhanced PPV/specificity but no gain in 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nsider necessity and value of PSI denominator exclusions (i.e., nursing home transfers for Pressure Ulcer) and numerator restrictions (i.e., proced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Planned AHRQ QI enhancements to support payment re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70572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and 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Potentially inappropriate antibiotic prescribing, children with sore throat: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Managed care plan distribution, 20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920" y="1371600"/>
            <a:ext cx="82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cent of children prescribed antibiotics for throat infection without receiving a “strep” test*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2E9A-F604-4992-9440-29DA91EDA3C1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16000" y="1625760"/>
          <a:ext cx="386064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bar graph of percent of childern prescribed antibiotics for throat infection without recieving a strep tes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625760"/>
                    <a:ext cx="386064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16304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ational Ave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419720" y="163836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naged Care Plan Distribution,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Group 8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32" name="Rectangle 9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2CD31E3-7062-40E0-A629-A9349AC3287F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34" name=""/>
          <p:cNvGraphicFramePr/>
          <p:nvPr/>
        </p:nvGraphicFramePr>
        <p:xfrm>
          <a:off x="4307040" y="1808280"/>
          <a:ext cx="4456080" cy="38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7040" y="1808280"/>
                    <a:ext cx="445608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2"/>
          <p:cNvSpPr/>
          <p:nvPr/>
        </p:nvSpPr>
        <p:spPr>
          <a:xfrm>
            <a:off x="44280" y="5607000"/>
            <a:ext cx="86868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National average includes ages 3–17 and plan distribution includes ages 2–18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A strep test means a rapid antigen test or throat culture for group A streptococc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National average—J. Linder, Brigham and Women's Hospital analysis of National Ambulatory Medical Care Survey and National Hospital Ambulatory Medical Care Survey; Plan distribution—Healthcare Effectiveness Data and Information Set (NCQA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anaged care health pla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Potentially inappropriate imaging studi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for low back pain, by plan typ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8920" y="1828800"/>
          <a:ext cx="447984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graphs with percent of health plan members who revevied an imaging study within 28 days following an episode of acute low back pain with no risk factor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28800"/>
                    <a:ext cx="44798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4"/>
          <p:cNvSpPr/>
          <p:nvPr/>
        </p:nvSpPr>
        <p:spPr>
          <a:xfrm>
            <a:off x="0" y="1371600"/>
            <a:ext cx="87249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health plan members (ages 18–50) who received an imaging study within 28 days following an episode of acute low back pain with no risk fa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762440" y="1905120"/>
          <a:ext cx="4127400" cy="36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440" y="1905120"/>
                    <a:ext cx="4127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6"/>
          <p:cNvSpPr/>
          <p:nvPr/>
        </p:nvSpPr>
        <p:spPr>
          <a:xfrm>
            <a:off x="5035680" y="5607000"/>
            <a:ext cx="329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073480" y="565776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nnual aver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977760" y="565776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naged care plans (200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946080" y="5607000"/>
            <a:ext cx="3108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4280" y="6095880"/>
            <a:ext cx="81662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enotes baseline ye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Healthcare Effectiveness Data and Information Set (NCQA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11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249" name="Rectangle 12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085311C-B393-44F8-A3EB-4ADC929E7329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bar graph with hospital rates for Cancer, COPD, CH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926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iation in quality and outcomes is substantial and is driven (at least somewhat) by provider behav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Chronic disease proxy outcome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anaged care plan distribution,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676520"/>
          <a:ext cx="4238640" cy="43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bar graph with percent of adults with diagnosed diabetes whose HbA1c level &lt;9.0%&#13;&#10;bar graph with percent of adults with hypertention whose blood pressure &lt;140/90 mmHg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238640" cy="43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4"/>
          <p:cNvSpPr/>
          <p:nvPr/>
        </p:nvSpPr>
        <p:spPr>
          <a:xfrm>
            <a:off x="44280" y="6095880"/>
            <a:ext cx="9099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Diabetes includes ages 18–75; hypertension includes ages 18–8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Healthcare Effectiveness Data and Information Set (NCQA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1371600"/>
            <a:ext cx="3809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adults with diagnosed diabetes whose HbA1c level &lt;9.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01" name="Rectangle 8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B358B10-8B24-4CAC-A558-6A7AF84476E3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419720" y="1752480"/>
          <a:ext cx="4303440" cy="436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52480"/>
                    <a:ext cx="430344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11"/>
          <p:cNvSpPr/>
          <p:nvPr/>
        </p:nvSpPr>
        <p:spPr>
          <a:xfrm>
            <a:off x="4495680" y="1371600"/>
            <a:ext cx="3962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adults with hypertension whose blood pressure &lt;140/90 mmH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648320" y="1905120"/>
          <a:ext cx="43434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8600" y="1879560"/>
          <a:ext cx="4290840" cy="39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bar graph of percent of patients who recieved recommended care for heart attack, heart failure and pneumonia&#13;&#10;bar graph of patients who recieved recommended care for each condition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79560"/>
                    <a:ext cx="4290840" cy="39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ospitals: Quality of care for heart attack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eart failure, and pneumon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4280" y="5913360"/>
            <a:ext cx="9099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Composite for heart attack care consists of 5 indicators; heart failure care, 2 indicators; and pneumonia care, 3 indicator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all composite consists of all 10 clinical indicators. See report Appendix B for description of clinical indica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A. Jha and A. Epstein, Harvard School of Public Health analysis of data from CMS Hospital Compa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04920" y="1447920"/>
            <a:ext cx="41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patients who received recom-mended care for all three conditions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648320" y="144792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of patients who received recommended care for each condition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15" name="Rectangle 12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AC8B2BC-F09A-42A4-8132-8EBAE7F75AD5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ospital-Standardized Mortality Ratio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1080" y="1790640"/>
          <a:ext cx="8756640" cy="41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bar graph of standardized ratios compare actual to expected dealths, risk-adjusted for patient mix and community factors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790640"/>
                    <a:ext cx="875664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5"/>
          <p:cNvSpPr/>
          <p:nvPr/>
        </p:nvSpPr>
        <p:spPr>
          <a:xfrm>
            <a:off x="1555920" y="5702400"/>
            <a:ext cx="725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ile of hospitals ranked by actual to expected deaths rat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80880" y="13716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ized ratios compare actual to expected deaths, risk-adjusted for patient mix and community factors.*  Medicare national average for 2000=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625760" y="5689440"/>
            <a:ext cx="7149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61120" y="56149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1400" y="5943600"/>
            <a:ext cx="900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See report Appendix B for methodolo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B. Jarman analysis of Medicare discharges from 2000 to 2002 and from 2004 to 2006 for conditions leading to 80 percent of all hospital death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26" name="Rectangle 12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368729-EA63-4A53-9CCE-4E3839B20198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socomial infections in intensive care unit patients,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600200"/>
          <a:ext cx="8229600" cy="4564080"/>
        </p:xfrm>
        <a:graphic>
          <a:graphicData uri="http://schemas.openxmlformats.org/drawingml/2006/table">
            <a:tbl>
              <a:tblPr/>
              <a:tblGrid>
                <a:gridCol w="2819520"/>
                <a:gridCol w="990720"/>
                <a:gridCol w="914400"/>
                <a:gridCol w="914400"/>
                <a:gridCol w="838080"/>
                <a:gridCol w="838080"/>
                <a:gridCol w="914400"/>
              </a:tblGrid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ntral line-associated bloodstream infection rate, per 1,000 days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un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major teach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all oth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onatal–Level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fants weighing 750 grams or les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5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1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13"/>
          <p:cNvSpPr/>
          <p:nvPr/>
        </p:nvSpPr>
        <p:spPr>
          <a:xfrm>
            <a:off x="44280" y="6299280"/>
            <a:ext cx="906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Reported by 211 hospitals participating in the National Healthcare Safety Network (Edwards et al.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14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F226-DA6F-40D7-8FB4-B30B3B633A7E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115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33" name="Rectangle 116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Text Box 117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5B5324-4E02-45F0-A25D-0BC88F5A094B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socomial infections in intensive care unit patients,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1676520"/>
          <a:ext cx="8229600" cy="4564080"/>
        </p:xfrm>
        <a:graphic>
          <a:graphicData uri="http://schemas.openxmlformats.org/drawingml/2006/table">
            <a:tbl>
              <a:tblPr/>
              <a:tblGrid>
                <a:gridCol w="2819520"/>
                <a:gridCol w="990720"/>
                <a:gridCol w="914400"/>
                <a:gridCol w="914400"/>
                <a:gridCol w="838080"/>
                <a:gridCol w="838080"/>
                <a:gridCol w="914400"/>
              </a:tblGrid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ilator-associated pneumonia rate, per 1,000 days 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C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un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major teach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-surg all oth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onatal (NICU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fants weighing 750 grams or les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4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13"/>
          <p:cNvSpPr/>
          <p:nvPr/>
        </p:nvSpPr>
        <p:spPr>
          <a:xfrm>
            <a:off x="44280" y="6299280"/>
            <a:ext cx="906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Reported by 211 hospitals participating in the National Healthcare Safety Network (Edwards et al. 2007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4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89B9-C4A0-4F89-9157-BE58360C74CE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116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40" name="Rectangle 117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Text Box 118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B48FEAA-DB98-41D8-85FF-E27004AE39AE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005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7120" y="456840"/>
            <a:ext cx="7616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Potentially preventable adverse events and complications of care in hospitals among Medicare beneficiaries across states, 2005-200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22440" y="1447920"/>
          <a:ext cx="7894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bar graph of 2005-2006 potentially preventable adverse events and complications of care in hospitals among Medicare beneficiaries across state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447920"/>
                    <a:ext cx="7894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"/>
          <p:cNvSpPr/>
          <p:nvPr/>
        </p:nvSpPr>
        <p:spPr>
          <a:xfrm>
            <a:off x="457200" y="1371600"/>
            <a:ext cx="7931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8407440" y="65800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37160" tIns="46800" bIns="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FFBA-0F93-4435-9FB7-5B23B68E7E4E}" type="slidenum">
              <a:rPr b="1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0" y="6578640"/>
            <a:ext cx="9140760" cy="288720"/>
            <a:chOff x="0" y="6578640"/>
            <a:chExt cx="9140760" cy="288720"/>
          </a:xfrm>
        </p:grpSpPr>
        <p:sp>
          <p:nvSpPr>
            <p:cNvPr id="148" name="Rectangle 7"/>
            <p:cNvSpPr/>
            <p:nvPr/>
          </p:nvSpPr>
          <p:spPr>
            <a:xfrm>
              <a:off x="0" y="6593040"/>
              <a:ext cx="9140760" cy="27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rce: Commonwealth Fund National Scorecard on U.S. Health System Performance, 200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8432640" y="657864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DA296F0-1D57-441B-AA26-0FD5B8A0F7E3}" type="slidenum"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lt;number&gt;</a:t>
              </a:fld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44280" y="5715000"/>
            <a:ext cx="9099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urgical patients with postoperative pneumonia, urinary tract infection (2005 only), or venous thromboembolic ev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 Patients with serious bleeding associated with intravenous heparin, low molecular weight heparin, or warfarin, or hypoglycemia associated with insulin or oral hypoglycem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: M. Pineau, Qualidigm analysis of Medicare Patient Safety Monitoring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Battelle</dc:creator>
  <dc:description>2/25/2005</dc:description>
  <cp:keywords/>
  <dc:language>en-US</dc:language>
  <cp:lastModifiedBy>Rasa</cp:lastModifiedBy>
  <cp:lastPrinted>2003-01-21T20:19:23Z</cp:lastPrinted>
  <dcterms:modified xsi:type="dcterms:W3CDTF">2009-10-26T04:48:13Z</dcterms:modified>
  <cp:revision>329</cp:revision>
  <dc:subject/>
  <dc:title>AHRQ Slide Template</dc:title>
</cp:coreProperties>
</file>