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3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251760" y="888264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2BAC0E4-3C97-404C-899F-F9A6DF6A2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ere the 3 original modules of AHRQ Quality Indicat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5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e of Outcome Measures in Payment Reform: Ration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280" y="4038480"/>
            <a:ext cx="86868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rick S. Romano, MD M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C Davis Center for Healthcare Policy an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Annual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hesda, MD; September 14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optimal health care quality and outcomes contribute to excess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 Narrow"/>
              </a:rPr>
              <a:t>Business case”: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 Narrow"/>
              </a:rPr>
              <a:t>Impact of preventing PSI on mortality, LOS, charges</a:t>
            </a:r>
            <a:br>
              <a:rPr sz="2800"/>
            </a:b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NIS 2000 analysis by Zhan &amp; Miller, </a:t>
            </a:r>
            <a:r>
              <a:rPr b="1" i="1" lang="en-US" sz="2000" spc="-1" strike="noStrike">
                <a:solidFill>
                  <a:srgbClr val="ffff66"/>
                </a:solidFill>
                <a:latin typeface="Arial Narrow"/>
              </a:rPr>
              <a:t>JAMA</a:t>
            </a: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 2003;290:1868-74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447920"/>
          <a:ext cx="8686800" cy="4808520"/>
        </p:xfrm>
        <a:graphic>
          <a:graphicData uri="http://schemas.openxmlformats.org/drawingml/2006/table">
            <a:tbl>
              <a:tblPr/>
              <a:tblGrid>
                <a:gridCol w="4419720"/>
                <a:gridCol w="1371600"/>
                <a:gridCol w="1295280"/>
                <a:gridCol w="16002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ort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LOS (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Charg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septicem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7,7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ected infections due to medical ca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,7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 abd/pelvic wound dehiscenc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,3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respiratory failu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,5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physiologic or metabolic derangem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,8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thromboembolis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7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hip fractu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4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atrogenic pneumothora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3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cubitus ulce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8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hemorrhage/hematom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4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cidental puncture or lacer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3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70"/>
          <p:cNvSpPr/>
          <p:nvPr/>
        </p:nvSpPr>
        <p:spPr>
          <a:xfrm>
            <a:off x="228600" y="64771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xcess mortality, LOS, and charges computed from mean values for PSI cases and matched control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 Narrow"/>
              </a:rPr>
              <a:t>Business case”: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 Narrow"/>
              </a:rPr>
              <a:t>Impact of preventing PSI on mortality, LOS, VA cost</a:t>
            </a:r>
            <a:br>
              <a:rPr sz="2800"/>
            </a:b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VA PTF 2001 analysis by Rivard et al., </a:t>
            </a:r>
            <a:r>
              <a:rPr b="1" i="1" lang="en-US" sz="2000" spc="-1" strike="noStrike">
                <a:solidFill>
                  <a:srgbClr val="ffff66"/>
                </a:solidFill>
                <a:latin typeface="Arial Narrow"/>
              </a:rPr>
              <a:t>Med Care Res Rev</a:t>
            </a: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; 65(1):67-87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1523880"/>
          <a:ext cx="8686800" cy="4800600"/>
        </p:xfrm>
        <a:graphic>
          <a:graphicData uri="http://schemas.openxmlformats.org/drawingml/2006/table">
            <a:tbl>
              <a:tblPr/>
              <a:tblGrid>
                <a:gridCol w="4419720"/>
                <a:gridCol w="1371600"/>
                <a:gridCol w="1295280"/>
                <a:gridCol w="160020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ort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LOS (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Co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septicem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1,26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ected infections due to medical ca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81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 abd/pelvic wound dehiscenc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90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respiratory failu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74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physiologic or metabolic derangem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thromboembolis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20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hip fractu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atrogenic pneumothora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3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cubitus ulce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71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hemorrhage/hematom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6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cidental puncture or lacer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35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70"/>
          <p:cNvSpPr/>
          <p:nvPr/>
        </p:nvSpPr>
        <p:spPr>
          <a:xfrm>
            <a:off x="228600" y="64771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xcess mortality, LOS, and charges computed from mean values for PSI cases and matched control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Narrow"/>
              </a:rPr>
              <a:t>Uncertain “business case” for some PSIs</a:t>
            </a:r>
            <a:br>
              <a:rPr sz="3200"/>
            </a:b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Zhan &amp; Miller, </a:t>
            </a:r>
            <a:r>
              <a:rPr b="1" i="1" lang="en-US" sz="2000" spc="-1" strike="noStrike">
                <a:solidFill>
                  <a:srgbClr val="ffff66"/>
                </a:solidFill>
                <a:latin typeface="Arial Narrow"/>
              </a:rPr>
              <a:t>JAMA</a:t>
            </a: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 2003;290:1868-74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 Rosen et al., </a:t>
            </a:r>
            <a:r>
              <a:rPr b="1" i="1" lang="en-US" sz="2000" spc="-1" strike="noStrike">
                <a:solidFill>
                  <a:srgbClr val="ffff66"/>
                </a:solidFill>
                <a:latin typeface="Arial Narrow"/>
              </a:rPr>
              <a:t>Med Care</a:t>
            </a: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 2005;43:873-84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1523880"/>
          <a:ext cx="8678880" cy="3624480"/>
        </p:xfrm>
        <a:graphic>
          <a:graphicData uri="http://schemas.openxmlformats.org/drawingml/2006/table">
            <a:tbl>
              <a:tblPr/>
              <a:tblGrid>
                <a:gridCol w="4411800"/>
                <a:gridCol w="1371600"/>
                <a:gridCol w="1295280"/>
                <a:gridCol w="160020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ort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LOS (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Charg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Birth traum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-0.1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-0.1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30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stetric trauma –cesarea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7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Obstetric trauma - vaginal w/out instrument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0.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0.0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-10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Obstetric trauma - vaginal w instrument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0.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0.0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22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lications of anesthesia*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nsfusion reaction*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.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90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oreign body left during procedure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3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50"/>
          <p:cNvSpPr/>
          <p:nvPr/>
        </p:nvSpPr>
        <p:spPr>
          <a:xfrm>
            <a:off x="304920" y="5943600"/>
            <a:ext cx="86104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* All differences NS for transfusion reaction and complications of anesthesia in VA/PTF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†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ortality difference NS for foreign body in VA/PT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HRQ Patient Safety Indicators (PSIs) were used to identify selected medical and surgical inju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omson Reuters Projected Inpatient Data Base for federal FY 2007 (based on 21.5 million discharge abstracts from 2,620 acute hospital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ression models were used to adjust for age, sex, clinical category, and comorbid condi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el coefficients were used to estimate annual impact attributable to PSI ev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tal impact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most 30,000 excess deat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.4 million excess hospital day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$9 billion in excess hospital cos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Thomson Reuters analysis of PSI business case</a:t>
            </a:r>
            <a:br>
              <a:rPr sz="3000"/>
            </a:b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Foster et al., AcademyHealth 200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International evidence of “business case” from case control analysis of PSIs in NHS England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121"/>
          <p:cNvSpPr/>
          <p:nvPr/>
        </p:nvSpPr>
        <p:spPr>
          <a:xfrm>
            <a:off x="611280" y="5661000"/>
            <a:ext cx="79930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l differences were statistically significant at p&lt;0.001 except as no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leigh VS, Cooper J, Bremner SA, Scobie S, Patient safety indicators for England from hospital administrative data,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MJ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8, 337; a17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484280"/>
          <a:ext cx="8507520" cy="4041720"/>
        </p:xfrm>
        <a:graphic>
          <a:graphicData uri="http://schemas.openxmlformats.org/drawingml/2006/table">
            <a:tbl>
              <a:tblPr/>
              <a:tblGrid>
                <a:gridCol w="5105520"/>
                <a:gridCol w="1817640"/>
                <a:gridCol w="1584360"/>
              </a:tblGrid>
              <a:tr h="99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ssions, England, 2005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30120" indent="-330120">
                        <a:lnSpc>
                          <a:spcPct val="9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cato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cess LOS (day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ces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rtality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percent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sure ulce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1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.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cidental puncture of lu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3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6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ntral line and device related infection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.4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7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hip fractu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.2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sepsi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.1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stetric trauma – vaginal with instrument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*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stetric trauma – vaginal without instrum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stetric trauma – caesarean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*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6978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is not generally associated with overall costs, but improving quality often reduces provider revenue given current pay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tal Medicare payments vary widely across Hospital Referral Reg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8" name="Picture 4" descr="map"/>
          <p:cNvPicPr/>
          <p:nvPr/>
        </p:nvPicPr>
        <p:blipFill>
          <a:blip r:embed="rId1"/>
          <a:stretch/>
        </p:blipFill>
        <p:spPr>
          <a:xfrm>
            <a:off x="0" y="1351080"/>
            <a:ext cx="5943600" cy="3751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5867280" y="1595520"/>
            <a:ext cx="3276720" cy="3201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3"/>
          <a:stretch/>
        </p:blipFill>
        <p:spPr>
          <a:xfrm>
            <a:off x="152280" y="5097600"/>
            <a:ext cx="876312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846000" y="1371600"/>
          <a:ext cx="73836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chart of quality of car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371600"/>
                    <a:ext cx="7383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05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Narrow"/>
              </a:rPr>
              <a:t>Quality and costs of care for Medicare patients hospital-ized for heart attacks, hip fractures, or colon cancer,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Arial Narrow"/>
              </a:rPr>
              <a:t>by Hospital Referral Regions, 2004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4280" y="5807160"/>
            <a:ext cx="813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Indexed to risk-adjusted 1-year survival rate (median=0.70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 Risk-adjusted spending on hospital and physician services using standardized national pric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E. Fisher, J. Sutherland, and D. Radley, Dartmouth Medical School analysis of data from a 20% national sample of Medicare beneficia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2108160" y="3378240"/>
            <a:ext cx="5575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5943600" y="1781280"/>
            <a:ext cx="0" cy="3217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2924280" y="1925640"/>
            <a:ext cx="2943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n relative resource use=$27,4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 rot="16200000">
            <a:off x="-123480" y="3141360"/>
            <a:ext cx="305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 of Care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-Year Survival Index, Median=70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80" name="Rectangle 10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432BE84-E995-48BF-803A-E1E88DD48069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3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tion in quality and outcomes is substantial and is driven (at least somewhat) by provider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optimal health care quality and outcomes contribute to excess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r quality is not generally associated with higher overall costs, but improving quality often reduces provider revenue under current pay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Estimated excess 90-day payments due to AHRQ PSIs, 2001-2 MarketScan Commmercial Claims Database (5.6 m enrollees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Text Box 121"/>
          <p:cNvSpPr/>
          <p:nvPr/>
        </p:nvSpPr>
        <p:spPr>
          <a:xfrm>
            <a:off x="609480" y="5562720"/>
            <a:ext cx="79930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l differences in total excess payments were statistically significant at p&lt;0.001 except for Technical Problems and Wound Problems, after adjusting for propensity based on 92 collapsed DRGs, 20 comorbidities, and 12 other patient characteristic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cinosa and Hellinger,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SR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8;43:2067-8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447920"/>
          <a:ext cx="8686800" cy="4062240"/>
        </p:xfrm>
        <a:graphic>
          <a:graphicData uri="http://schemas.openxmlformats.org/drawingml/2006/table">
            <a:tbl>
              <a:tblPr/>
              <a:tblGrid>
                <a:gridCol w="2133720"/>
                <a:gridCol w="1218960"/>
                <a:gridCol w="1600200"/>
                <a:gridCol w="1371600"/>
                <a:gridCol w="1219320"/>
                <a:gridCol w="1143000"/>
              </a:tblGrid>
              <a:tr h="87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ient safety event clas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800" spc="-1" strike="noStrike">
                          <a:solidFill>
                            <a:srgbClr val="8cf4ea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hospi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adm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Outpat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ru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Technical problem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$64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1,40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$61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$9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$4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Infection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19,48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,67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59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04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ulmonary/vascula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7,83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53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5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cute respiratory failu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28,21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,82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70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3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Metabolic problem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11,79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,53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11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Wound problem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1,42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28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2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Nursing-sensitive event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12,19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,65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8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520" y="396360"/>
            <a:ext cx="7464240" cy="6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Ambulatory care-sensitive hospitalizations (AHRQ PQI) for select conditions across stat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095880" y="1371600"/>
          <a:ext cx="2984760" cy="40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371600"/>
                    <a:ext cx="298476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244680" y="1676520"/>
          <a:ext cx="2928960" cy="37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4680" y="1676520"/>
                    <a:ext cx="29289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6"/>
          <p:cNvSpPr/>
          <p:nvPr/>
        </p:nvSpPr>
        <p:spPr>
          <a:xfrm>
            <a:off x="457200" y="13716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justed rate per 100,000 popul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152280" y="1371600"/>
            <a:ext cx="8762760" cy="4244400"/>
            <a:chOff x="152280" y="1371600"/>
            <a:chExt cx="8762760" cy="4244400"/>
          </a:xfrm>
        </p:grpSpPr>
        <p:graphicFrame>
          <p:nvGraphicFramePr>
            <p:cNvPr id="194" name=""/>
            <p:cNvGraphicFramePr/>
            <p:nvPr/>
          </p:nvGraphicFramePr>
          <p:xfrm>
            <a:off x="152280" y="1371600"/>
            <a:ext cx="3227760" cy="403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1371600"/>
                      <a:ext cx="3227760" cy="403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Text Box 9"/>
            <p:cNvSpPr/>
            <p:nvPr/>
          </p:nvSpPr>
          <p:spPr>
            <a:xfrm>
              <a:off x="3468240" y="5308920"/>
              <a:ext cx="26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Diabetes*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10"/>
            <p:cNvSpPr/>
            <p:nvPr/>
          </p:nvSpPr>
          <p:spPr>
            <a:xfrm>
              <a:off x="656280" y="5296320"/>
              <a:ext cx="25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Heart fail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6342840" y="5296320"/>
              <a:ext cx="25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Pediatric asth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>
              <a:off x="668880" y="5296320"/>
              <a:ext cx="249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13"/>
            <p:cNvSpPr/>
            <p:nvPr/>
          </p:nvSpPr>
          <p:spPr>
            <a:xfrm>
              <a:off x="3556440" y="5308920"/>
              <a:ext cx="249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14"/>
            <p:cNvSpPr/>
            <p:nvPr/>
          </p:nvSpPr>
          <p:spPr>
            <a:xfrm>
              <a:off x="6355800" y="5284080"/>
              <a:ext cx="249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Text Box 15"/>
          <p:cNvSpPr/>
          <p:nvPr/>
        </p:nvSpPr>
        <p:spPr>
          <a:xfrm>
            <a:off x="44280" y="5638680"/>
            <a:ext cx="9099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^ 2002 data for heart failure and diabetes; 2003 data for pediatric asthma. *Combines four diabetes admission measures: uncontrolled, short-term complications, long-term complications, and lower extremity amputation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National average—Healthcare Cost and Utilization Project, Nationwide Inpatient Sample; State distribution—State Inpatient Databases; not all states participate in HCUP (AHRQ 2005, 2007a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16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204" name="Rectangle 17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329FA81-9311-4A13-B039-93E703977D94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3440" y="228600"/>
            <a:ext cx="7540560" cy="806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Medicare admissions for AHRQ PQIs, rates and associated costs, by Hospital Referral Region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4760" y="1879560"/>
          <a:ext cx="45021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bar graph of rate of ACS admissions per 10,000 beneficiaries&#13;&#10;bar graph of costs of ACS admissions as percent of all discharge cost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1879560"/>
                    <a:ext cx="45021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546440" y="1905120"/>
          <a:ext cx="4457880" cy="40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445788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5"/>
          <p:cNvSpPr/>
          <p:nvPr/>
        </p:nvSpPr>
        <p:spPr>
          <a:xfrm>
            <a:off x="76320" y="1415880"/>
            <a:ext cx="4267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te of ACS admissions per 10,000 beneficia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896000" y="1415880"/>
            <a:ext cx="41148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sts of ACS admissions as percent of all discharge c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778040" y="568800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rcenti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343560" y="5688000"/>
            <a:ext cx="239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rcenti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44280" y="5969160"/>
            <a:ext cx="9099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report Appendix B for complete list of ambulatory care-sensitive conditions used in the analysi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G. Anderson and R. Herbert, Johns Hopkins University analysis of</a:t>
            </a:r>
            <a:r>
              <a:rPr b="0" lang="da-DK" sz="1200" spc="-1" strike="noStrike">
                <a:solidFill>
                  <a:srgbClr val="ffffff"/>
                </a:solidFill>
                <a:latin typeface="Arial"/>
              </a:rPr>
              <a:t> Medicare Standard Analytical Files (SAF) 5% Inpatient Dat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5943600" y="5626080"/>
            <a:ext cx="282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1573200" y="5626080"/>
            <a:ext cx="277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219" name="Rectangle 14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09C8010-3475-401C-A981-593DAC263295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 Prevention Quality Indicators (PQIs) to 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and test existing PQIs using State Emergency Department Databases (SED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ed “enhanced PQIs” into the Preventable Hospitalization Costs Mapping Too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AHRQ ED Patient Safety Indicators (EDP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lot AHRQ Efficiency and Resource Use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y incorporate “Present on Admission” logic into the AHRQ P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algorithms grafted POA onto previous algorithms, resulting in enhanced PPV/specificity but no gain in 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nsider necessity and value of PSI denominator exclusions (i.e., nursing home transfers for Pressure Ulcer) and numerator restrictions (i.e., proced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Planned AHRQ QI enhancements to support payment re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705720" cy="96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 and Discus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Potentially inappropriate antibiotic prescribing, children with sore throat: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Managed care plan distribution, 2006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04920" y="1371600"/>
            <a:ext cx="821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cent of children prescribed antibiotics for throat infection without receiving a “strep” test*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407440" y="65800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7160" tIns="46800" bIns="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A436-C9AA-48A3-9255-059D265C1F91}" type="slidenum">
              <a:rPr b="1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16000" y="1625760"/>
          <a:ext cx="386064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bar graph of percent of childern prescribed antibiotics for throat infection without recieving a strep tes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625760"/>
                    <a:ext cx="386064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6"/>
          <p:cNvSpPr/>
          <p:nvPr/>
        </p:nvSpPr>
        <p:spPr>
          <a:xfrm>
            <a:off x="762120" y="16304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ational Ave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419720" y="163836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naged Care Plan Distribution,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Group 8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232" name="Rectangle 9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10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B572E3B-05C2-4FE8-9F6C-7E2AF7280675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34" name=""/>
          <p:cNvGraphicFramePr/>
          <p:nvPr/>
        </p:nvGraphicFramePr>
        <p:xfrm>
          <a:off x="4307040" y="1808280"/>
          <a:ext cx="4456080" cy="383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7040" y="1808280"/>
                    <a:ext cx="4456080" cy="38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12"/>
          <p:cNvSpPr/>
          <p:nvPr/>
        </p:nvSpPr>
        <p:spPr>
          <a:xfrm>
            <a:off x="44280" y="5607000"/>
            <a:ext cx="86868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National average includes ages 3–17 and plan distribution includes ages 2–18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A strep test means a rapid antigen test or throat culture for group A streptococc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National average—J. Linder, Brigham and Women's Hospital analysis of National Ambulatory Medical Care Survey and National Hospital Ambulatory Medical Care Survey; Plan distribution—Healthcare Effectiveness Data and Information Set (NCQA 2007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Managed care health plan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Potentially inappropriate imaging studie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for low back pain, by plan typ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88920" y="1828800"/>
          <a:ext cx="447984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graphs with percent of health plan members who revevied an imaging study within 28 days following an episode of acute low back pain with no risk factor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828800"/>
                    <a:ext cx="44798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4"/>
          <p:cNvSpPr/>
          <p:nvPr/>
        </p:nvSpPr>
        <p:spPr>
          <a:xfrm>
            <a:off x="0" y="1371600"/>
            <a:ext cx="87249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nt of health plan members (ages 18–50) who received an imaging study within 28 days following an episode of acute low back pain with no risk fa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762440" y="1905120"/>
          <a:ext cx="4127400" cy="36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440" y="1905120"/>
                    <a:ext cx="4127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6"/>
          <p:cNvSpPr/>
          <p:nvPr/>
        </p:nvSpPr>
        <p:spPr>
          <a:xfrm>
            <a:off x="5035680" y="5607000"/>
            <a:ext cx="329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5073480" y="565776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nnual aver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977760" y="565776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naged care plans (200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946080" y="5607000"/>
            <a:ext cx="3108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4280" y="6095880"/>
            <a:ext cx="81662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Denotes baseline yea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Healthcare Effectiveness Data and Information Set (NCQA 2007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11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249" name="Rectangle 12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8B82BC3-6307-4215-BF98-5F433C075356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bar graph with hospital rates for Cancer, COPD, CH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50920" y="3962520"/>
            <a:ext cx="6926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riation in quality and outcomes is substantial and is driven (at least somewhat) by provider behavi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Chronic disease proxy outcome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Managed care plan distribution, 200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1676520"/>
          <a:ext cx="4238640" cy="43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bar graph with percent of adults with diagnosed diabetes whose HbA1c level &lt;9.0%&#13;&#10;bar graph with percent of adults with hypertention whose blood pressure &lt;140/90 mmHg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423864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4"/>
          <p:cNvSpPr/>
          <p:nvPr/>
        </p:nvSpPr>
        <p:spPr>
          <a:xfrm>
            <a:off x="44280" y="6095880"/>
            <a:ext cx="9099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Diabetes includes ages 18–75; hypertension includes ages 18–85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Healthcare Effectiveness Data and Information Set (NCQA 2007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04920" y="1371600"/>
            <a:ext cx="38098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nt of adults with diagnosed diabetes whose HbA1c level &lt;9.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01" name="Rectangle 8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780B57C-7C18-4FFE-A8AA-568002D03878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4419720" y="1752480"/>
          <a:ext cx="4303440" cy="436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752480"/>
                    <a:ext cx="430344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11"/>
          <p:cNvSpPr/>
          <p:nvPr/>
        </p:nvSpPr>
        <p:spPr>
          <a:xfrm>
            <a:off x="4495680" y="1371600"/>
            <a:ext cx="3962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nt of adults with hypertension whose blood pressure &lt;140/90 mmH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648320" y="1905120"/>
          <a:ext cx="43434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43434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28600" y="1879560"/>
          <a:ext cx="4290840" cy="39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bar graph of percent of patients who recieved recommended care for heart attack, heart failure and pneumonia&#13;&#10;bar graph of patients who recieved recommended care for each condition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79560"/>
                    <a:ext cx="429084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Hospitals: Quality of care for heart attack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heart failure, and pneumoni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4280" y="5913360"/>
            <a:ext cx="9099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Composite for heart attack care consists of 5 indicators; heart failure care, 2 indicators; and pneumonia care, 3 indicator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all composite consists of all 10 clinical indicators. See report Appendix B for description of clinical indica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A. Jha and A. Epstein, Harvard School of Public Health analysis of data from CMS Hospital Compa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04920" y="1447920"/>
            <a:ext cx="419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nt of patients who received recom-mended care for all three conditions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648320" y="1447920"/>
            <a:ext cx="39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nt of patients who received recommended care for each condition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15" name="Rectangle 12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A329F57-B25E-4DA1-9B9F-3584AE1792C0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Hospital-Standardized Mortality Ratio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1080" y="1790640"/>
          <a:ext cx="875664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bar graph of standardized ratios compare actual to expected dealths, risk-adjusted for patient mix and community factors.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790640"/>
                    <a:ext cx="875664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5"/>
          <p:cNvSpPr/>
          <p:nvPr/>
        </p:nvSpPr>
        <p:spPr>
          <a:xfrm>
            <a:off x="1555920" y="5702400"/>
            <a:ext cx="725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ile of hospitals ranked by actual to expected deaths rat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80880" y="137160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ardized ratios compare actual to expected deaths, risk-adjusted for patient mix and community factors.*  Medicare national average for 2000=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625760" y="5689440"/>
            <a:ext cx="7149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861120" y="56149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41400" y="5943600"/>
            <a:ext cx="900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See report Appendix B for methodolo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B. Jarman analysis of Medicare discharges from 2000 to 2002 and from 2004 to 2006 for conditions leading to 80 percent of all hospital death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26" name="Rectangle 12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B0BCB25-E2F6-4543-A4CF-88E103410C95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socomial infections in intensive care unit patients, 200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600200"/>
          <a:ext cx="8229600" cy="4564080"/>
        </p:xfrm>
        <a:graphic>
          <a:graphicData uri="http://schemas.openxmlformats.org/drawingml/2006/table">
            <a:tbl>
              <a:tblPr/>
              <a:tblGrid>
                <a:gridCol w="2819520"/>
                <a:gridCol w="990720"/>
                <a:gridCol w="914400"/>
                <a:gridCol w="914400"/>
                <a:gridCol w="838080"/>
                <a:gridCol w="838080"/>
                <a:gridCol w="914400"/>
              </a:tblGrid>
              <a:tr h="88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ntral line-associated bloodstream infection rate, per 1,000 days 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of IC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un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-surg major teach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-surg all oth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g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onatal–Level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nfants weighing 750 grams or les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5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11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13"/>
          <p:cNvSpPr/>
          <p:nvPr/>
        </p:nvSpPr>
        <p:spPr>
          <a:xfrm>
            <a:off x="44280" y="6299280"/>
            <a:ext cx="906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Reported by 211 hospitals participating in the National Healthcare Safety Network (Edwards et al. 2007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14"/>
          <p:cNvSpPr/>
          <p:nvPr/>
        </p:nvSpPr>
        <p:spPr>
          <a:xfrm>
            <a:off x="8407440" y="65800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7160" tIns="46800" bIns="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FC99-581D-43AA-852A-D206159C4FB3}" type="slidenum">
              <a:rPr b="1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115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33" name="Rectangle 116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Text Box 117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2B79853-B002-4B29-8086-593223A637F3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socomial infections in intensive care unit patients, 200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880" y="1676520"/>
          <a:ext cx="8229600" cy="4564080"/>
        </p:xfrm>
        <a:graphic>
          <a:graphicData uri="http://schemas.openxmlformats.org/drawingml/2006/table">
            <a:tbl>
              <a:tblPr/>
              <a:tblGrid>
                <a:gridCol w="2819520"/>
                <a:gridCol w="990720"/>
                <a:gridCol w="914400"/>
                <a:gridCol w="914400"/>
                <a:gridCol w="838080"/>
                <a:gridCol w="838080"/>
                <a:gridCol w="914400"/>
              </a:tblGrid>
              <a:tr h="88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ntilator-associated pneumonia rate, per 1,000 days 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of IC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un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-surg major teach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5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-surg all oth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g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onatal (NICU)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nfants weighing 750 grams or les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1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4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113"/>
          <p:cNvSpPr/>
          <p:nvPr/>
        </p:nvSpPr>
        <p:spPr>
          <a:xfrm>
            <a:off x="44280" y="6299280"/>
            <a:ext cx="906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Reported by 211 hospitals participating in the National Healthcare Safety Network (Edwards et al. 2007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14"/>
          <p:cNvSpPr/>
          <p:nvPr/>
        </p:nvSpPr>
        <p:spPr>
          <a:xfrm>
            <a:off x="8407440" y="65800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7160" tIns="46800" bIns="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DF37-5144-4B79-B452-BA8738F07A83}" type="slidenum">
              <a:rPr b="1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116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40" name="Rectangle 117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Text Box 118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A363116-FBC9-42B9-89FF-4410763A60B3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7120" y="456840"/>
            <a:ext cx="7616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tentially preventable adverse events and complications of care in hospitals among Medicare beneficiaries across states, 2005-200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22440" y="1447920"/>
          <a:ext cx="78944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bar graph of 2005-2006 potentially preventable adverse events and complications of care in hospitals among Medicare beneficiaries across state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447920"/>
                    <a:ext cx="78944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4"/>
          <p:cNvSpPr/>
          <p:nvPr/>
        </p:nvSpPr>
        <p:spPr>
          <a:xfrm>
            <a:off x="457200" y="1371600"/>
            <a:ext cx="7931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8407440" y="65800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7160" tIns="46800" bIns="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B7D8-ABD0-4C92-B1A5-8C47B730FC4E}" type="slidenum">
              <a:rPr b="1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48" name="Rectangle 7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864A05C-25E6-47F3-A7D7-E82D48678A9D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Text Box 10"/>
          <p:cNvSpPr/>
          <p:nvPr/>
        </p:nvSpPr>
        <p:spPr>
          <a:xfrm>
            <a:off x="44280" y="5715000"/>
            <a:ext cx="9099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Surgical patients with postoperative pneumonia, urinary tract infection (2005 only), or venous thromboembolic ev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 Patients with serious bleeding associated with intravenous heparin, low molecular weight heparin, or warfarin, or hypoglycemia associated with insulin or oral hypoglycem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M. Pineau, Qualidigm analysis of Medicare Patient Safety Monitoring Syst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Battelle</dc:creator>
  <dc:description>2/25/2005</dc:description>
  <cp:keywords/>
  <dc:language>en-US</dc:language>
  <cp:lastModifiedBy>Rasa</cp:lastModifiedBy>
  <cp:lastPrinted>2003-01-21T20:19:23Z</cp:lastPrinted>
  <dcterms:modified xsi:type="dcterms:W3CDTF">2009-10-26T04:48:13Z</dcterms:modified>
  <cp:revision>329</cp:revision>
  <dc:subject/>
  <dc:title>AHRQ Slide Template</dc:title>
</cp:coreProperties>
</file>